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523800" y="0"/>
            <a:ext cx="387216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7"/>
          </p:nvPr>
        </p:nvSpPr>
        <p:spPr>
          <a:xfrm>
            <a:off x="3495600" y="0"/>
            <a:ext cx="2828880" cy="2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8"/>
          </p:nvPr>
        </p:nvSpPr>
        <p:spPr>
          <a:xfrm>
            <a:off x="3143160" y="8929800"/>
            <a:ext cx="400320" cy="17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Futura Hv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Img"/>
          </p:nvPr>
        </p:nvSpPr>
        <p:spPr>
          <a:xfrm>
            <a:off x="1370160" y="352440"/>
            <a:ext cx="4116240" cy="3087720"/>
          </a:xfrm>
          <a:prstGeom prst="rect">
            <a:avLst/>
          </a:prstGeom>
          <a:solidFill>
            <a:srgbClr val="ffffff"/>
          </a:solidFill>
          <a:ln w="12600">
            <a:solidFill>
              <a:srgbClr val="6e6f72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76" name=""/>
          <p:cNvSpPr/>
          <p:nvPr/>
        </p:nvSpPr>
        <p:spPr>
          <a:xfrm>
            <a:off x="3270240" y="8930160"/>
            <a:ext cx="619560" cy="1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AEDA-2D16-4B62-BC57-3139FC21012F}" type="slidenum">
              <a:rPr b="0" lang="en-US" sz="1000" spc="-1" strike="noStrike">
                <a:solidFill>
                  <a:srgbClr val="000000"/>
                </a:solidFill>
                <a:latin typeface="Futura Hv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78" name=""/>
          <p:cNvSpPr/>
          <p:nvPr/>
        </p:nvSpPr>
        <p:spPr>
          <a:xfrm>
            <a:off x="523800" y="307800"/>
            <a:ext cx="5800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52600" y="392040"/>
            <a:ext cx="3951360" cy="29638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523440" y="3419280"/>
            <a:ext cx="5799240" cy="542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spcAft>
                <a:spcPts val="4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452600" y="392040"/>
            <a:ext cx="3951360" cy="29638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23440" y="3433680"/>
            <a:ext cx="5799240" cy="5446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lvl="1" marL="114480" indent="0">
              <a:spcAft>
                <a:spcPts val="337"/>
              </a:spcAft>
              <a:buNone/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143000"/>
                <a:tab algn="l" pos="1371600"/>
                <a:tab algn="l" pos="1600200"/>
                <a:tab algn="l" pos="1828800"/>
                <a:tab algn="l" pos="2057400"/>
                <a:tab algn="l" pos="2286000"/>
                <a:tab algn="l" pos="2514600"/>
                <a:tab algn="l" pos="2743200"/>
                <a:tab algn="l" pos="2971800"/>
                <a:tab algn="l" pos="3200400"/>
                <a:tab algn="l" pos="3429000"/>
                <a:tab algn="l" pos="3657600"/>
                <a:tab algn="l" pos="3886200"/>
                <a:tab algn="l" pos="4114800"/>
                <a:tab algn="l" pos="4343400"/>
                <a:tab algn="l" pos="4572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Visit the HP NonStop training websit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Futura Bk"/>
              </a:rPr>
              <a:t>http://h10076.www1.hp.com/education/curr-nonstop.htm</a:t>
            </a:r>
            <a:endParaRPr b="0" lang="en-US" sz="14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0869F-55B2-4017-A2DB-224F8A8E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3A6AF-1D79-458E-8982-3ED15DB7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33F14-D516-42A4-BE0E-406E7F7B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B68B-FA8F-4241-A9D7-C8DE9873E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D3259-7BD2-4AA0-B75E-00D55D559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7B96D-6E0D-43B5-8FEA-FBAD1ED15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893195-8E09-413F-8DC2-62123197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412A53-2D74-4510-BBFE-CE89EF1E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C2204-7EBD-47C2-AAE0-A5BCE3F8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0B33FA-5B4A-4474-B0A3-0C33F04F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19147-4B74-456F-88A5-0354A393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EE7E1-418F-448F-8AEA-F3F61296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66F7C-B43E-413D-B3E8-51D59A424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97A64-D3AD-4723-B21C-8014E6D5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DAE57-00C7-4270-8AF5-337A28A6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FADC1-2F05-4A5D-B65C-EBE8CF4B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CA0B6-D46E-49D2-9418-98758B29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84856-036A-43BB-9377-825935E7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CA5E-D640-4EC6-8EF9-431300BF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033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06760" y="99216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3999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033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06760" y="3915000"/>
            <a:ext cx="276480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8D6E1-1630-49D7-B2C0-04CCCF14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8160" y="0"/>
            <a:ext cx="783108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164F6-1F56-4886-9CF0-6BDC44BD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90A5-4AC1-44BA-B0BF-F46CB5B9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9880" y="391500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6E3D0-8807-4C7A-9293-19DE1F9D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9880" y="992160"/>
            <a:ext cx="419004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9960" y="3915000"/>
            <a:ext cx="8586720" cy="2669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4A213-804F-4099-AB3B-9D085717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48589"/>
                </a:solidFill>
                <a:latin typeface="Futura Hv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718480" y="6638400"/>
            <a:ext cx="37944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2C41-0BE6-49CF-883F-3F23BC33675E}" type="slidenum">
              <a:rPr b="0" lang="en-US" sz="1200" spc="-1" strike="noStrike">
                <a:solidFill>
                  <a:srgbClr val="84858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4853160" y="6638400"/>
            <a:ext cx="39081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48589"/>
                </a:solidFill>
                <a:latin typeface="Futura Hv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47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9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Aft>
                <a:spcPts val="8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Click to edit the outline text format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1" marL="345960" indent="-23148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con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2" marL="692280" indent="-231840">
              <a:spcAft>
                <a:spcPts val="814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Third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3" marL="1025640" indent="-219240">
              <a:spcAft>
                <a:spcPts val="81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our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4" marL="1149480" indent="-9720">
              <a:spcAft>
                <a:spcPts val="814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Fif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5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ix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  <a:p>
            <a:pPr lvl="6" marL="1149480" indent="-9720">
              <a:spcAft>
                <a:spcPts val="814"/>
              </a:spcAft>
              <a:buClr>
                <a:srgbClr val="000000"/>
              </a:buClr>
              <a:buFont typeface="Courier New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1b5"/>
                </a:solidFill>
                <a:latin typeface="Futura Bk"/>
              </a:rPr>
              <a:t>Seventh Outline Level</a:t>
            </a:r>
            <a:endParaRPr b="0" lang="en-US" sz="2600" spc="-1" strike="noStrike">
              <a:solidFill>
                <a:srgbClr val="0071b5"/>
              </a:solidFill>
              <a:latin typeface="Futura B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3960" y="6638400"/>
            <a:ext cx="14637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48589"/>
                </a:solidFill>
                <a:latin typeface="Futura Hv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5"/>
          </p:nvPr>
        </p:nvSpPr>
        <p:spPr>
          <a:xfrm>
            <a:off x="8718480" y="6638400"/>
            <a:ext cx="37944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21E1-5B0A-43A4-97E8-8094C26AA743}" type="slidenum">
              <a:rPr b="0" lang="en-US" sz="1200" spc="-1" strike="noStrike">
                <a:solidFill>
                  <a:srgbClr val="848589"/>
                </a:solidFill>
                <a:latin typeface="Futura Hv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914400"/>
            <a:ext cx="257040" cy="59436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257040" cy="847800"/>
          </a:xfrm>
          <a:prstGeom prst="rect">
            <a:avLst/>
          </a:prstGeom>
          <a:solidFill>
            <a:srgbClr val="007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0" t="0" r="11376" b="0"/>
          <a:stretch/>
        </p:blipFill>
        <p:spPr>
          <a:xfrm>
            <a:off x="8329680" y="101520"/>
            <a:ext cx="655560" cy="628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4853160" y="6638400"/>
            <a:ext cx="3908160" cy="219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48589"/>
                </a:solidFill>
                <a:latin typeface="Futura Hv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48589"/>
                </a:solidFill>
                <a:latin typeface="Futura Hv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426360" y="0"/>
            <a:ext cx="2717640" cy="6858000"/>
          </a:xfrm>
          <a:prstGeom prst="rect">
            <a:avLst/>
          </a:prstGeom>
          <a:solidFill>
            <a:srgbClr val="001d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369120" cy="4809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utura Lt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32" name=""/>
          <p:cNvSpPr/>
          <p:nvPr/>
        </p:nvSpPr>
        <p:spPr>
          <a:xfrm>
            <a:off x="453960" y="6396120"/>
            <a:ext cx="59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© 2009 Hewlett-Packard Development Company, L.P.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Futura Bk"/>
              </a:rPr>
              <a:t>The information contained herein is subject to change without notice </a:t>
            </a:r>
            <a:endParaRPr b="0" lang="en-US" sz="900" spc="-1" strike="noStrike">
              <a:solidFill>
                <a:srgbClr val="000000"/>
              </a:solidFill>
              <a:latin typeface="Futura B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6389640" y="4097160"/>
            <a:ext cx="2486160" cy="19195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1" marL="11448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2" marL="460440" algn="ctr">
              <a:spcAft>
                <a:spcPts val="689"/>
              </a:spcAft>
              <a:buClr>
                <a:srgbClr val="6e6f72"/>
              </a:buClr>
              <a:buFont typeface="Futura B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3" marL="806400" algn="ctr">
              <a:spcAft>
                <a:spcPts val="624"/>
              </a:spcAft>
              <a:buClr>
                <a:srgbClr val="6e6f72"/>
              </a:buClr>
              <a:buFont typeface="Futura B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  <a:p>
            <a:pPr lvl="4" marL="1139760" algn="ctr">
              <a:spcAft>
                <a:spcPts val="561"/>
              </a:spcAft>
              <a:buClr>
                <a:srgbClr val="b2b3b5"/>
              </a:buClr>
              <a:buFont typeface="Courier Ne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5" marL="11397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  <a:p>
            <a:pPr lvl="6" marL="1139760"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3600" y="1060200"/>
            <a:ext cx="5651640" cy="30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Futura Lt"/>
              </a:rPr>
              <a:t>Introduction to NonStop Cluster I/O Modules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Futura Lt"/>
              </a:rPr>
              <a:t>(CLIMS) </a:t>
            </a:r>
            <a:endParaRPr b="0" lang="en-US" sz="4400" spc="-1" strike="noStrike">
              <a:solidFill>
                <a:srgbClr val="ffffff"/>
              </a:solidFill>
              <a:latin typeface="Futura L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3960" y="4812840"/>
            <a:ext cx="56419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Bk"/>
              </a:rPr>
              <a:t>Module 1 — Course Overview</a:t>
            </a:r>
            <a:endParaRPr b="0" lang="en-US" sz="2000" spc="-1" strike="noStrike">
              <a:solidFill>
                <a:srgbClr val="000000"/>
              </a:solidFill>
              <a:latin typeface="Futura B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ourse Objectiv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5867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ntroduce you to the new server architecture including Cluster I/O modules and their function and location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Introduction of the software architecture for CLIMs (CIP Subsystem) 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 an overview of the IP </a:t>
            </a:r>
            <a:r>
              <a:rPr b="0" lang="en-US" sz="2600" spc="-1" strike="noStrike">
                <a:solidFill>
                  <a:srgbClr val="000000"/>
                </a:solidFill>
                <a:latin typeface="Futura Bk"/>
              </a:rPr>
              <a:t>Cluster I/O Module (</a:t>
            </a: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CLIM)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 an overview of the Storage CLIM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Adding CLIMs to the system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 an overview of the generic CLIM command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 an overview of the specific Storage CLIM command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 an overview of the specific IP CLIM Commands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-226800">
              <a:spcAft>
                <a:spcPts val="751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Bk"/>
              </a:rPr>
              <a:t>Provide an overview of how to diagnose an IP CLIM environment </a:t>
            </a: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  <a:p>
            <a:pPr lvl="1" marL="338760" indent="0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1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574AA-2BF6-4B4B-A8B6-496CF057B01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8160" y="0"/>
            <a:ext cx="7831080" cy="922320"/>
          </a:xfrm>
          <a:prstGeom prst="rect">
            <a:avLst/>
          </a:prstGeom>
          <a:noFill/>
          <a:ln w="0">
            <a:noFill/>
          </a:ln>
        </p:spPr>
        <p:txBody>
          <a:bodyPr lIns="45720" rIns="0" tIns="46800" bIns="0" anchor="b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utura Bk"/>
              </a:rPr>
              <a:t>Course Modules</a:t>
            </a:r>
            <a:endParaRPr b="0" lang="en-US" sz="3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99960" y="992160"/>
            <a:ext cx="8601120" cy="5595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lvl="1" marL="345960" indent="-231480">
              <a:lnSpc>
                <a:spcPct val="80000"/>
              </a:lnSpc>
              <a:spcAft>
                <a:spcPts val="689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odule 1 — Course Overview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80000"/>
              </a:lnSpc>
              <a:spcAft>
                <a:spcPts val="689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odule 2 — New NonStop System hardware architecture Overview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80000"/>
              </a:lnSpc>
              <a:spcAft>
                <a:spcPts val="689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odule 3 — Overview of CLIM software subsystem (CIP subsystem) 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80000"/>
              </a:lnSpc>
              <a:spcAft>
                <a:spcPts val="689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odule 4 — Overview of the IP Cluster I/O Module (CLIM)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80000"/>
              </a:lnSpc>
              <a:spcAft>
                <a:spcPts val="689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odule 5 — Overview of the Storage Cluster I/O Module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80000"/>
              </a:lnSpc>
              <a:spcAft>
                <a:spcPts val="689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odule 6 — Adding CLIMS to the system - CLIM prep in OSM and CIP subsystem commands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80000"/>
              </a:lnSpc>
              <a:spcAft>
                <a:spcPts val="689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odule 7 — Overview of common CLIM commands and command structure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80000"/>
              </a:lnSpc>
              <a:spcAft>
                <a:spcPts val="689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odule 8 — Overview specific commands for the Storage Cluster I/O Module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80000"/>
              </a:lnSpc>
              <a:spcAft>
                <a:spcPts val="689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odule 9 — Overview of specific commands for the IP Cluster I/O Module - configuring the network 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-231480">
              <a:lnSpc>
                <a:spcPct val="80000"/>
              </a:lnSpc>
              <a:spcAft>
                <a:spcPts val="689"/>
              </a:spcAft>
              <a:buClr>
                <a:srgbClr val="6e6f72"/>
              </a:buClr>
              <a:buFont typeface="Futura B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 Bk"/>
              </a:rPr>
              <a:t>Module 10 — Troubleshooting an IP CLIM environment</a:t>
            </a: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  <a:p>
            <a:pPr lvl="1" marL="345960" indent="0">
              <a:lnSpc>
                <a:spcPct val="80000"/>
              </a:lnSpc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 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1 –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11C2A-47D1-4B43-98B8-22D8C16986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0071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utura Bk"/>
              </a:endParaRPr>
            </a:p>
          </p:txBody>
        </p:sp>
        <p:pic>
          <p:nvPicPr>
            <p:cNvPr id="187" name="" descr=""/>
            <p:cNvPicPr/>
            <p:nvPr/>
          </p:nvPicPr>
          <p:blipFill>
            <a:blip r:embed="rId1"/>
            <a:stretch/>
          </p:blipFill>
          <p:spPr>
            <a:xfrm>
              <a:off x="7120080" y="5126040"/>
              <a:ext cx="1773000" cy="139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1 –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9B731-6375-4612-B28E-D8A55A3EA5E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CLIM2 A.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20:23:44Z</dcterms:created>
  <dc:creator>Bert van Es</dc:creator>
  <dc:description/>
  <dc:language>en-US</dc:language>
  <cp:lastModifiedBy>Bert van Es</cp:lastModifiedBy>
  <cp:lastPrinted>2004-09-23T21:26:26Z</cp:lastPrinted>
  <dcterms:modified xsi:type="dcterms:W3CDTF">2009-11-17T10:07:52Z</dcterms:modified>
  <cp:revision>33</cp:revision>
  <dc:subject/>
  <dc:title>NonStop Cluster I/O Module (CLIM) overview </dc:title>
</cp:coreProperties>
</file>