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5.wmf" ContentType="image/x-wmf"/>
  <Override PartName="/ppt/media/image9.jpeg" ContentType="image/jpeg"/>
  <Override PartName="/ppt/media/image11.jpeg" ContentType="image/jpeg"/>
  <Override PartName="/ppt/media/image18.jpeg" ContentType="image/jpeg"/>
  <Override PartName="/ppt/media/image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8.png" ContentType="image/png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523440" y="0"/>
            <a:ext cx="325620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7"/>
          </p:nvPr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8"/>
          </p:nvPr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6e6f7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76" name=""/>
          <p:cNvSpPr/>
          <p:nvPr/>
        </p:nvSpPr>
        <p:spPr>
          <a:xfrm>
            <a:off x="3270240" y="8930160"/>
            <a:ext cx="619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C922-6B4F-4EFD-996A-9D6326F2C8E0}" type="slidenum">
              <a:rPr b="0" lang="en-US" sz="1000" spc="-1" strike="noStrike">
                <a:solidFill>
                  <a:srgbClr val="000000"/>
                </a:solidFill>
                <a:latin typeface="Futura Hv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8" name=""/>
          <p:cNvSpPr/>
          <p:nvPr/>
        </p:nvSpPr>
        <p:spPr>
          <a:xfrm>
            <a:off x="523800" y="307800"/>
            <a:ext cx="580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523440" y="0"/>
            <a:ext cx="325620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523440" y="3477960"/>
            <a:ext cx="5799240" cy="544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SAS — Serial Attached SCSI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IOAME — I/O adapter module enclosure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G4SA — 4port Giga-bit ServerNet adapter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FCSA — Fibre Channel ServerNet adapter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FCDM — Fibre Channel disk module 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ERM — Extended run-time module for un-interruptible power supply (UPS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523440" y="0"/>
            <a:ext cx="325620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523440" y="0"/>
            <a:ext cx="325620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446120" y="390600"/>
            <a:ext cx="3965760" cy="297324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System Fabric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Centralized versus distributed fabric as in the NonStop S-series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All fiber interconnect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2" marL="344520" indent="-115920">
              <a:spcAft>
                <a:spcPts val="337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Cable management considerations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Ethernet Maintenance Fabric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Connects the maintenance entities on all ServerNet switch board P-switches and system consoles.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Dual maintenance switches and dual consoles are recommended.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Switch configuration mirrors that of the ServerNet fabric. 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523440" y="0"/>
            <a:ext cx="325620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523440" y="0"/>
            <a:ext cx="325620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This above slide shows a four-CPU view with cores.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523440" y="0"/>
            <a:ext cx="325620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Cluster connectivity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2" marL="344520" indent="-115920">
              <a:spcAft>
                <a:spcPts val="337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Twenty-two ServerNet links for MESH style interconnect (x4 optical ports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2" marL="344520" indent="-115920">
              <a:spcAft>
                <a:spcPts val="337"/>
              </a:spcAft>
              <a:buClr>
                <a:srgbClr val="000000"/>
              </a:buClr>
              <a:buFont typeface="Futura Bk"/>
              <a:buChar char="•"/>
              <a:tabLst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  <a:tab algn="l" pos="4800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Two ServerNet links for supercluster connections (SFPs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523440" y="0"/>
            <a:ext cx="325620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523440" y="3477960"/>
            <a:ext cx="5799240" cy="5446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HP BladeSystem Onboard Administrator (OA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Power supply unit (PSU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Gigabit Ethernet (GbE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523440" y="0"/>
            <a:ext cx="325620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523440" y="0"/>
            <a:ext cx="325620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FC Storage supported on the CLIMs 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 txBox="1"/>
          <p:nvPr/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523440" y="0"/>
            <a:ext cx="325620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81008-4355-4EBF-A2AF-D87E0259B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C330-3AB4-45FD-A23B-3B1213B0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48875-6133-44FB-A0D1-4A74D110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1ECC-E2E0-4CB9-A9AF-598DCA2E9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B2F1F-66B5-455D-8CEC-E967412F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AD631-E933-4C9B-A4BF-92788ACC5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37A61-1459-43BE-BDB5-00C5A035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73D63-D205-45FE-B98C-CC5E88DB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49DFF-6D2B-45B5-8264-D9383C76B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8B219-1981-4BCA-BC2F-5E7A47966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BADD0-D97E-435C-9699-85E1A058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D0005-977E-4AD4-9B29-ABD75E63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4C335-5CC7-44A0-B3B1-6F2D3E7D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1FD5E-02A1-4510-99BE-FE939A8A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C5D67-D5A0-4C58-86A6-9CDBB7C4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856D8-06F6-4636-9D29-79037102A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4F780-4182-4D55-AC14-41541BA44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C6A7F-534B-4366-860F-D97CD699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C0234-0031-448B-B9EE-360D4C91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E71A3-5CFA-432D-BF00-A3A9BB3E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E6285-87F5-45FF-9758-850D2F85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3DB9-4FCC-4774-8285-6041E9F8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4F49A-0F9C-42B7-A2B7-F5884AEC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71737-C726-4939-924E-DC87CAF7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48589"/>
                </a:solidFill>
                <a:latin typeface="Futura Hv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718480" y="6638400"/>
            <a:ext cx="37944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063B-232A-42AF-A32F-A283AE906D0F}" type="slidenum">
              <a:rPr b="0" lang="en-US" sz="1200" spc="-1" strike="noStrike">
                <a:solidFill>
                  <a:srgbClr val="84858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4853160" y="6638400"/>
            <a:ext cx="39081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48589"/>
                </a:solidFill>
                <a:latin typeface="Futura Hv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"/>
          <p:cNvSpPr/>
          <p:nvPr/>
        </p:nvSpPr>
        <p:spPr>
          <a:xfrm>
            <a:off x="453960" y="639612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9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460440" algn="ctr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806400" algn="ctr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4" marL="1139760" algn="ctr">
              <a:spcAft>
                <a:spcPts val="561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5" marL="11397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6" marL="11397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48589"/>
                </a:solidFill>
                <a:latin typeface="Futura Hv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5"/>
          </p:nvPr>
        </p:nvSpPr>
        <p:spPr>
          <a:xfrm>
            <a:off x="8718480" y="6638400"/>
            <a:ext cx="37944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BE75-5C46-49DA-9B96-CB4595A31353}" type="slidenum">
              <a:rPr b="0" lang="en-US" sz="1200" spc="-1" strike="noStrike">
                <a:solidFill>
                  <a:srgbClr val="84858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6"/>
          </p:nvPr>
        </p:nvSpPr>
        <p:spPr>
          <a:xfrm>
            <a:off x="4853160" y="6638400"/>
            <a:ext cx="39081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48589"/>
                </a:solidFill>
                <a:latin typeface="Futura Hv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3" name=""/>
          <p:cNvSpPr/>
          <p:nvPr/>
        </p:nvSpPr>
        <p:spPr>
          <a:xfrm>
            <a:off x="453960" y="639612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6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wmf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New NonStop Hardware   Architecture Overview (with CLIMs)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3960" y="4812840"/>
            <a:ext cx="56419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Module 2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Overview of the NS-2000 Server 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AC powered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wo Storage Cluster I/O Modules (CLIMs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wo MSA70 Serial Attached SCSI (SAS) disk enclosures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One Maintenance switch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One rack-mounted system console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A 42U or a 36U G2 rack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1U = 1.75-inch/44.45mm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Optional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elco CLIM (default 0, max 2)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IP CLIM (default 0, max 2)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UPS &amp; extended run-time modules (ERMs)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Virtual tape server (VTS)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B5461-9747-4CEA-BFE0-6F15D2AA9C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NS-2000 Server Configuration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52" name="Picture 14" descr=""/>
          <p:cNvPicPr/>
          <p:nvPr/>
        </p:nvPicPr>
        <p:blipFill>
          <a:blip r:embed="rId1"/>
          <a:stretch/>
        </p:blipFill>
        <p:spPr>
          <a:xfrm>
            <a:off x="1452600" y="1763640"/>
            <a:ext cx="3429000" cy="47563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13" descr=""/>
          <p:cNvPicPr/>
          <p:nvPr/>
        </p:nvPicPr>
        <p:blipFill>
          <a:blip r:embed="rId2"/>
          <a:stretch/>
        </p:blipFill>
        <p:spPr>
          <a:xfrm>
            <a:off x="5548320" y="974880"/>
            <a:ext cx="315108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391DA-8BC9-4FE4-9756-202A4D210CC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HP Integrity NonStop NB50000c BladeSystem</a:t>
            </a: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 Example</a:t>
            </a: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33360" y="100980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An 8p NSMA system uses one 42U rack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Up to 48GB main memory per log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48 Cluster I/O Modules (CLIMs) 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16p system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Five Gigabit Ethernet ports per IP CLIM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25 SAS disk drives per Disk Enclosure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(72GB/15K RPM or 146GB/10K RPM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8173440" y="1363680"/>
            <a:ext cx="206280" cy="1046160"/>
          </a:xfrm>
          <a:custGeom>
            <a:avLst/>
            <a:gdLst>
              <a:gd name="textAreaLeft" fmla="*/ 131400 w 206280"/>
              <a:gd name="textAreaRight" fmla="*/ 206280 w 206280"/>
              <a:gd name="textAreaTop" fmla="*/ 27000 h 1046160"/>
              <a:gd name="textAreaBottom" fmla="*/ 1019160 h 104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8195400" y="2448000"/>
            <a:ext cx="142920" cy="993600"/>
          </a:xfrm>
          <a:custGeom>
            <a:avLst/>
            <a:gdLst>
              <a:gd name="textAreaLeft" fmla="*/ 91080 w 142920"/>
              <a:gd name="textAreaRight" fmla="*/ 142920 w 142920"/>
              <a:gd name="textAreaTop" fmla="*/ 25920 h 993600"/>
              <a:gd name="textAreaBottom" fmla="*/ 967680 h 993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8" name=""/>
          <p:cNvSpPr/>
          <p:nvPr/>
        </p:nvSpPr>
        <p:spPr>
          <a:xfrm flipH="1">
            <a:off x="8170200" y="3751200"/>
            <a:ext cx="128520" cy="1290600"/>
          </a:xfrm>
          <a:custGeom>
            <a:avLst/>
            <a:gdLst>
              <a:gd name="textAreaLeft" fmla="*/ 81720 w 128520"/>
              <a:gd name="textAreaRight" fmla="*/ 128520 w 128520"/>
              <a:gd name="textAreaTop" fmla="*/ 33480 h 1290600"/>
              <a:gd name="textAreaBottom" fmla="*/ 1257120 h 129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59" name=""/>
          <p:cNvSpPr/>
          <p:nvPr/>
        </p:nvSpPr>
        <p:spPr>
          <a:xfrm rot="16200000">
            <a:off x="7967520" y="403596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Bk"/>
              </a:rPr>
              <a:t>C7000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Futura Bk"/>
              </a:rPr>
              <a:t> Enclosure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8267040" y="2733480"/>
            <a:ext cx="84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Bk"/>
              </a:rPr>
              <a:t>IP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Futura Bk"/>
              </a:rPr>
              <a:t> CLIM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8256960" y="1639800"/>
            <a:ext cx="9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Bk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Bk"/>
              </a:rPr>
              <a:t>CLIM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2" name=""/>
          <p:cNvSpPr/>
          <p:nvPr/>
        </p:nvSpPr>
        <p:spPr>
          <a:xfrm flipH="1">
            <a:off x="8165520" y="847800"/>
            <a:ext cx="236520" cy="430200"/>
          </a:xfrm>
          <a:custGeom>
            <a:avLst/>
            <a:gdLst>
              <a:gd name="textAreaLeft" fmla="*/ 150840 w 236520"/>
              <a:gd name="textAreaRight" fmla="*/ 236520 w 236520"/>
              <a:gd name="textAreaTop" fmla="*/ 11160 h 430200"/>
              <a:gd name="textAreaBottom" fmla="*/ 419040 h 43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8335080" y="786600"/>
            <a:ext cx="71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Bk"/>
              </a:rPr>
              <a:t>SAS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Futura Bk"/>
              </a:rPr>
              <a:t>Disk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6327720" y="787320"/>
            <a:ext cx="1728720" cy="5850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 flipH="1">
            <a:off x="8181360" y="5540400"/>
            <a:ext cx="142920" cy="684360"/>
          </a:xfrm>
          <a:custGeom>
            <a:avLst/>
            <a:gdLst>
              <a:gd name="textAreaLeft" fmla="*/ 91080 w 142920"/>
              <a:gd name="textAreaRight" fmla="*/ 142920 w 142920"/>
              <a:gd name="textAreaTop" fmla="*/ 17640 h 684360"/>
              <a:gd name="textAreaBottom" fmla="*/ 666720 h 6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6" name=""/>
          <p:cNvSpPr/>
          <p:nvPr/>
        </p:nvSpPr>
        <p:spPr>
          <a:xfrm rot="16200000">
            <a:off x="8311320" y="5709600"/>
            <a:ext cx="57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Bk"/>
              </a:rPr>
              <a:t>UP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7" name=""/>
          <p:cNvSpPr/>
          <p:nvPr/>
        </p:nvSpPr>
        <p:spPr>
          <a:xfrm>
            <a:off x="3598920" y="6159600"/>
            <a:ext cx="22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Bk"/>
              </a:rPr>
              <a:t>Maintenance Switch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68" name=""/>
          <p:cNvSpPr/>
          <p:nvPr/>
        </p:nvSpPr>
        <p:spPr>
          <a:xfrm>
            <a:off x="6027840" y="6243480"/>
            <a:ext cx="180720" cy="228600"/>
          </a:xfrm>
          <a:custGeom>
            <a:avLst/>
            <a:gdLst>
              <a:gd name="textAreaLeft" fmla="*/ 115560 w 180720"/>
              <a:gd name="textAreaRight" fmla="*/ 181080 w 18072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7ED69-2270-4185-B5EC-77B0E51D5EB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71424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 Integrity NonStop NS16200 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70" name=""/>
          <p:cNvSpPr/>
          <p:nvPr/>
        </p:nvSpPr>
        <p:spPr>
          <a:xfrm>
            <a:off x="4881600" y="2313000"/>
            <a:ext cx="379872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71" name=""/>
          <p:cNvSpPr/>
          <p:nvPr/>
        </p:nvSpPr>
        <p:spPr>
          <a:xfrm>
            <a:off x="385920" y="0"/>
            <a:ext cx="7629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72" name=""/>
          <p:cNvSpPr/>
          <p:nvPr/>
        </p:nvSpPr>
        <p:spPr>
          <a:xfrm>
            <a:off x="2182680" y="1523880"/>
            <a:ext cx="6677280" cy="533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46800" anchor="t">
            <a:normAutofit/>
          </a:bodyPr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5"/>
                </a:solidFill>
                <a:latin typeface="Futura Bk"/>
              </a:rPr>
              <a:t>Intel Montvale processor at 1.6 GHz with 12 MB cach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5"/>
                </a:solidFill>
                <a:latin typeface="Futura Bk"/>
              </a:rPr>
              <a:t>1.2 X performance over NS16000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5"/>
                </a:solidFill>
                <a:latin typeface="Futura Bk"/>
              </a:rPr>
              <a:t>Triple- (TMR) and Dual- (DMR) Modular Redundancy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5"/>
                </a:solidFill>
                <a:latin typeface="Futura Bk"/>
              </a:rPr>
              <a:t>Linear scalability :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56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2–16 processors per node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56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4–16 GB memory per processor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56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upport clustering up to 4,080 processor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5"/>
                </a:solidFill>
                <a:latin typeface="Futura Bk"/>
              </a:rPr>
              <a:t>Industry Standard Connections (IOAME)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56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60 I/O adapter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56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Fibre Channel disk storage (FCDM and SAN XP)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56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Gigabit Ethernet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5"/>
                </a:solidFill>
                <a:latin typeface="Futura Bk"/>
              </a:rPr>
              <a:t>Connects to HP NonStop S-series disk and I/O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5"/>
                </a:solidFill>
                <a:latin typeface="Futura Bk"/>
              </a:rPr>
              <a:t>Now supports CLIMs as wel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73" name=""/>
          <p:cNvSpPr/>
          <p:nvPr/>
        </p:nvSpPr>
        <p:spPr>
          <a:xfrm>
            <a:off x="2336760" y="861840"/>
            <a:ext cx="63104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1b5"/>
                </a:solidFill>
                <a:latin typeface="Futura Bk"/>
              </a:rPr>
              <a:t>Delivers highest service levels for most demanding application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409680" y="1481040"/>
            <a:ext cx="1616040" cy="506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67AF1-4A5C-4FF0-B0BF-37160217989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Modular Fabric Topology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368280" y="1166760"/>
            <a:ext cx="8575560" cy="5659560"/>
            <a:chOff x="368280" y="1166760"/>
            <a:chExt cx="8575560" cy="5659560"/>
          </a:xfrm>
        </p:grpSpPr>
        <p:sp>
          <p:nvSpPr>
            <p:cNvPr id="477" name=""/>
            <p:cNvSpPr/>
            <p:nvPr/>
          </p:nvSpPr>
          <p:spPr>
            <a:xfrm>
              <a:off x="2516040" y="2838600"/>
              <a:ext cx="1074960" cy="823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P-Switch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 Fabric)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389640" y="2838600"/>
              <a:ext cx="1055880" cy="95724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-Switch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Y Fabric)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465800" y="2046240"/>
              <a:ext cx="1231560" cy="219240"/>
            </a:xfrm>
            <a:prstGeom prst="rect">
              <a:avLst/>
            </a:prstGeom>
            <a:solidFill>
              <a:srgbClr val="ffff99">
                <a:alpha val="54000"/>
              </a:srgbClr>
            </a:solidFill>
            <a:ln w="12600">
              <a:solidFill>
                <a:srgbClr val="aaab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65680" y="2398680"/>
              <a:ext cx="879480" cy="439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3425400" y="2398680"/>
              <a:ext cx="800280" cy="4399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332160" y="3746520"/>
              <a:ext cx="309600" cy="94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2792160" y="3692520"/>
              <a:ext cx="68040" cy="993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41840" y="3338640"/>
              <a:ext cx="3368520" cy="1347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627360" y="3543480"/>
              <a:ext cx="2432160" cy="1110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591000" y="3014640"/>
              <a:ext cx="27986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308720" y="2387520"/>
              <a:ext cx="511200" cy="50796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52480" y="2235240"/>
              <a:ext cx="879480" cy="61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046920" y="4807080"/>
              <a:ext cx="738000" cy="230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M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08480" y="4807080"/>
              <a:ext cx="739800" cy="230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OAME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529000" y="4807080"/>
              <a:ext cx="739800" cy="230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OAME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926400" y="4807080"/>
              <a:ext cx="739800" cy="230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IM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3032280" y="3102120"/>
              <a:ext cx="4476240" cy="1584000"/>
              <a:chOff x="3032280" y="3102120"/>
              <a:chExt cx="4476240" cy="1584000"/>
            </a:xfrm>
          </p:grpSpPr>
          <p:sp>
            <p:nvSpPr>
              <p:cNvPr id="494" name=""/>
              <p:cNvSpPr/>
              <p:nvPr/>
            </p:nvSpPr>
            <p:spPr>
              <a:xfrm flipH="1">
                <a:off x="6379560" y="3705480"/>
                <a:ext cx="286200" cy="98064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H="1">
                <a:off x="3032280" y="3278160"/>
                <a:ext cx="3277440" cy="14079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3971160" y="3454200"/>
                <a:ext cx="2418120" cy="117324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591720" y="3102120"/>
                <a:ext cx="279756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075800" y="3629880"/>
                <a:ext cx="432720" cy="105588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4178160" y="5403960"/>
              <a:ext cx="1919520" cy="1422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OAME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4791240" y="4510080"/>
              <a:ext cx="399600" cy="87120"/>
              <a:chOff x="4791240" y="4510080"/>
              <a:chExt cx="399600" cy="87120"/>
            </a:xfrm>
          </p:grpSpPr>
          <p:sp>
            <p:nvSpPr>
              <p:cNvPr id="501" name=""/>
              <p:cNvSpPr/>
              <p:nvPr/>
            </p:nvSpPr>
            <p:spPr>
              <a:xfrm>
                <a:off x="4791240" y="4510080"/>
                <a:ext cx="79560" cy="8712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951080" y="4510080"/>
                <a:ext cx="79920" cy="8712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110920" y="4510080"/>
                <a:ext cx="79920" cy="8712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120" bIns="15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sp>
          <p:nvSpPr>
            <p:cNvPr id="504" name=""/>
            <p:cNvSpPr/>
            <p:nvPr/>
          </p:nvSpPr>
          <p:spPr>
            <a:xfrm>
              <a:off x="4257720" y="5667480"/>
              <a:ext cx="185760" cy="10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 Fabric 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832360" y="5667480"/>
              <a:ext cx="184320" cy="105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 Fabric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94400" y="5667480"/>
              <a:ext cx="887400" cy="27756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apter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5084640" y="5946840"/>
              <a:ext cx="79200" cy="439200"/>
              <a:chOff x="5084640" y="5946840"/>
              <a:chExt cx="79200" cy="439200"/>
            </a:xfrm>
          </p:grpSpPr>
          <p:sp>
            <p:nvSpPr>
              <p:cNvPr id="508" name=""/>
              <p:cNvSpPr/>
              <p:nvPr/>
            </p:nvSpPr>
            <p:spPr>
              <a:xfrm rot="16200000">
                <a:off x="5080320" y="6302520"/>
                <a:ext cx="87480" cy="79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16200000">
                <a:off x="5080320" y="6126840"/>
                <a:ext cx="87840" cy="79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16200000">
                <a:off x="5080320" y="5951160"/>
                <a:ext cx="87840" cy="79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Futura Bk"/>
                </a:endParaRPr>
              </a:p>
            </p:txBody>
          </p:sp>
        </p:grpSp>
        <p:sp>
          <p:nvSpPr>
            <p:cNvPr id="511" name=""/>
            <p:cNvSpPr/>
            <p:nvPr/>
          </p:nvSpPr>
          <p:spPr>
            <a:xfrm>
              <a:off x="4457880" y="5756400"/>
              <a:ext cx="245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594400" y="5756400"/>
              <a:ext cx="212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21400" y="6416640"/>
              <a:ext cx="830160" cy="260280"/>
            </a:xfrm>
            <a:prstGeom prst="rect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apter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57880" y="6548400"/>
              <a:ext cx="2602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15" name=""/>
            <p:cNvSpPr/>
            <p:nvPr/>
          </p:nvSpPr>
          <p:spPr>
            <a:xfrm flipV="1">
              <a:off x="5567400" y="6543360"/>
              <a:ext cx="23652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697280" y="4818240"/>
              <a:ext cx="739800" cy="2300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OAME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4218120" y="5095800"/>
              <a:ext cx="4665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483160" y="5081760"/>
              <a:ext cx="506520" cy="24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8280" y="5672160"/>
              <a:ext cx="3567240" cy="7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ximum of 10 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erverNet Adapters per IOAME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76440" y="1166760"/>
              <a:ext cx="1349280" cy="3380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lade Element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60800" y="1166760"/>
              <a:ext cx="1365120" cy="35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lade Element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22280" y="1336680"/>
              <a:ext cx="1428840" cy="1047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luster Switch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 Fabric)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558200" y="1425600"/>
              <a:ext cx="1385640" cy="10494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luster Switch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Y Fabric)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726160" y="1166760"/>
              <a:ext cx="1407960" cy="35424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lade Element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49880" y="2173320"/>
              <a:ext cx="1230120" cy="21744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aaab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8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SUs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25760" y="1519200"/>
              <a:ext cx="879480" cy="439920"/>
            </a:xfrm>
            <a:prstGeom prst="line">
              <a:avLst/>
            </a:prstGeom>
            <a:ln w="4752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44960" y="1519200"/>
              <a:ext cx="0" cy="527040"/>
            </a:xfrm>
            <a:prstGeom prst="line">
              <a:avLst/>
            </a:prstGeom>
            <a:ln w="4752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5721120" y="1535040"/>
              <a:ext cx="718920" cy="439920"/>
            </a:xfrm>
            <a:prstGeom prst="line">
              <a:avLst/>
            </a:prstGeom>
            <a:ln w="47520">
              <a:solidFill>
                <a:srgbClr val="008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128680" y="5877000"/>
              <a:ext cx="1994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A96A1-9838-4CB7-A90C-6E88BAEB015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28680" y="222120"/>
            <a:ext cx="8663040" cy="92736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NonStop BladeSystem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1" name=""/>
          <p:cNvSpPr/>
          <p:nvPr/>
        </p:nvSpPr>
        <p:spPr>
          <a:xfrm>
            <a:off x="2144880" y="3521160"/>
            <a:ext cx="3981240" cy="533160"/>
          </a:xfrm>
          <a:prstGeom prst="ellipse">
            <a:avLst/>
          </a:prstGeom>
          <a:solidFill>
            <a:srgbClr val="64b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2" name=""/>
          <p:cNvSpPr/>
          <p:nvPr/>
        </p:nvSpPr>
        <p:spPr>
          <a:xfrm>
            <a:off x="1992240" y="3368520"/>
            <a:ext cx="3981600" cy="533520"/>
          </a:xfrm>
          <a:prstGeom prst="ellipse">
            <a:avLst/>
          </a:prstGeom>
          <a:solidFill>
            <a:srgbClr val="64b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3" name=""/>
          <p:cNvSpPr/>
          <p:nvPr/>
        </p:nvSpPr>
        <p:spPr>
          <a:xfrm>
            <a:off x="3169800" y="3429000"/>
            <a:ext cx="1441080" cy="398880"/>
          </a:xfrm>
          <a:prstGeom prst="rect">
            <a:avLst/>
          </a:prstGeom>
          <a:solidFill>
            <a:srgbClr val="64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P Switche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4" name=""/>
          <p:cNvSpPr/>
          <p:nvPr/>
        </p:nvSpPr>
        <p:spPr>
          <a:xfrm>
            <a:off x="2371680" y="5564160"/>
            <a:ext cx="40644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5" name=""/>
          <p:cNvSpPr/>
          <p:nvPr/>
        </p:nvSpPr>
        <p:spPr>
          <a:xfrm>
            <a:off x="2523960" y="5716440"/>
            <a:ext cx="40644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6" name=""/>
          <p:cNvSpPr/>
          <p:nvPr/>
        </p:nvSpPr>
        <p:spPr>
          <a:xfrm>
            <a:off x="1967040" y="5316480"/>
            <a:ext cx="431640" cy="647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2932200" y="5291280"/>
            <a:ext cx="419040" cy="622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2080800" y="3959280"/>
            <a:ext cx="520920" cy="5684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39" name=""/>
          <p:cNvSpPr/>
          <p:nvPr/>
        </p:nvSpPr>
        <p:spPr>
          <a:xfrm>
            <a:off x="3440160" y="4035600"/>
            <a:ext cx="0" cy="4651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0" name=""/>
          <p:cNvSpPr/>
          <p:nvPr/>
        </p:nvSpPr>
        <p:spPr>
          <a:xfrm>
            <a:off x="4684680" y="4073400"/>
            <a:ext cx="25560" cy="41616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1" name=""/>
          <p:cNvSpPr/>
          <p:nvPr/>
        </p:nvSpPr>
        <p:spPr>
          <a:xfrm>
            <a:off x="5548320" y="3997440"/>
            <a:ext cx="520560" cy="48888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2" name=""/>
          <p:cNvSpPr/>
          <p:nvPr/>
        </p:nvSpPr>
        <p:spPr>
          <a:xfrm>
            <a:off x="3727440" y="5815800"/>
            <a:ext cx="18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Etherne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3" name=""/>
          <p:cNvSpPr/>
          <p:nvPr/>
        </p:nvSpPr>
        <p:spPr>
          <a:xfrm>
            <a:off x="1262880" y="575532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4" name=""/>
          <p:cNvSpPr/>
          <p:nvPr/>
        </p:nvSpPr>
        <p:spPr>
          <a:xfrm>
            <a:off x="4341960" y="5256360"/>
            <a:ext cx="0" cy="450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5067360" y="5018040"/>
            <a:ext cx="1046160" cy="8431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6" name=""/>
          <p:cNvSpPr/>
          <p:nvPr/>
        </p:nvSpPr>
        <p:spPr>
          <a:xfrm>
            <a:off x="6481800" y="5154480"/>
            <a:ext cx="17280" cy="5889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7" name=""/>
          <p:cNvSpPr/>
          <p:nvPr/>
        </p:nvSpPr>
        <p:spPr>
          <a:xfrm>
            <a:off x="3025800" y="3475080"/>
            <a:ext cx="2165400" cy="368280"/>
          </a:xfrm>
          <a:prstGeom prst="rect">
            <a:avLst/>
          </a:prstGeom>
          <a:solidFill>
            <a:srgbClr val="64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erverNet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8" name=""/>
          <p:cNvSpPr/>
          <p:nvPr/>
        </p:nvSpPr>
        <p:spPr>
          <a:xfrm>
            <a:off x="5365800" y="5825160"/>
            <a:ext cx="18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aabb0"/>
                </a:solidFill>
                <a:latin typeface="Futura Bk"/>
              </a:rPr>
              <a:t>SWAN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9" name=""/>
          <p:cNvSpPr/>
          <p:nvPr/>
        </p:nvSpPr>
        <p:spPr>
          <a:xfrm>
            <a:off x="4494240" y="5256360"/>
            <a:ext cx="0" cy="450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0" name=""/>
          <p:cNvSpPr/>
          <p:nvPr/>
        </p:nvSpPr>
        <p:spPr>
          <a:xfrm>
            <a:off x="4646520" y="5243400"/>
            <a:ext cx="0" cy="451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1" name=""/>
          <p:cNvSpPr/>
          <p:nvPr/>
        </p:nvSpPr>
        <p:spPr>
          <a:xfrm>
            <a:off x="4824360" y="5243400"/>
            <a:ext cx="0" cy="4510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2" name=""/>
          <p:cNvSpPr/>
          <p:nvPr/>
        </p:nvSpPr>
        <p:spPr>
          <a:xfrm>
            <a:off x="5002200" y="5218200"/>
            <a:ext cx="0" cy="4507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379840" y="2811600"/>
            <a:ext cx="128520" cy="68868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4" name=""/>
          <p:cNvSpPr/>
          <p:nvPr/>
        </p:nvSpPr>
        <p:spPr>
          <a:xfrm>
            <a:off x="4908600" y="2782800"/>
            <a:ext cx="14400" cy="66852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5" name=""/>
          <p:cNvSpPr/>
          <p:nvPr/>
        </p:nvSpPr>
        <p:spPr>
          <a:xfrm>
            <a:off x="3100320" y="2814480"/>
            <a:ext cx="362160" cy="6098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56" name=""/>
          <p:cNvSpPr/>
          <p:nvPr/>
        </p:nvSpPr>
        <p:spPr>
          <a:xfrm>
            <a:off x="2413080" y="2701800"/>
            <a:ext cx="377640" cy="75744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1414440" y="1201680"/>
            <a:ext cx="2482920" cy="183060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4257720" y="1219320"/>
            <a:ext cx="2482920" cy="183024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704880" y="4565520"/>
            <a:ext cx="1596960" cy="4096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507960" y="5011560"/>
            <a:ext cx="208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torage CLIM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4"/>
          <a:stretch/>
        </p:blipFill>
        <p:spPr>
          <a:xfrm>
            <a:off x="2378160" y="4545000"/>
            <a:ext cx="1657440" cy="40968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2328840" y="4981680"/>
            <a:ext cx="145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Storage CLIM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5"/>
          <a:stretch/>
        </p:blipFill>
        <p:spPr>
          <a:xfrm>
            <a:off x="4122720" y="4511520"/>
            <a:ext cx="1657440" cy="409680"/>
          </a:xfrm>
          <a:prstGeom prst="rect">
            <a:avLst/>
          </a:prstGeom>
          <a:ln w="0">
            <a:noFill/>
          </a:ln>
        </p:spPr>
      </p:pic>
      <p:sp>
        <p:nvSpPr>
          <p:cNvPr id="564" name=""/>
          <p:cNvSpPr/>
          <p:nvPr/>
        </p:nvSpPr>
        <p:spPr>
          <a:xfrm>
            <a:off x="4091040" y="4933800"/>
            <a:ext cx="14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IP CLIM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6"/>
          <a:stretch/>
        </p:blipFill>
        <p:spPr>
          <a:xfrm>
            <a:off x="5853240" y="4510080"/>
            <a:ext cx="1657080" cy="4096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6089760" y="4896000"/>
            <a:ext cx="14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IP CLIM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67" name=""/>
          <p:cNvSpPr/>
          <p:nvPr/>
        </p:nvSpPr>
        <p:spPr>
          <a:xfrm>
            <a:off x="6110280" y="3787920"/>
            <a:ext cx="1268280" cy="36360"/>
          </a:xfrm>
          <a:prstGeom prst="line">
            <a:avLst/>
          </a:prstGeom>
          <a:ln w="28440">
            <a:solidFill>
              <a:srgbClr val="aaab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7"/>
          <a:stretch/>
        </p:blipFill>
        <p:spPr>
          <a:xfrm>
            <a:off x="5661000" y="5670720"/>
            <a:ext cx="2168640" cy="57780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5464080" y="6228360"/>
            <a:ext cx="125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WAN2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7397280" y="4316400"/>
            <a:ext cx="652680" cy="13669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71" name=""/>
          <p:cNvSpPr/>
          <p:nvPr/>
        </p:nvSpPr>
        <p:spPr>
          <a:xfrm>
            <a:off x="284040" y="2881800"/>
            <a:ext cx="181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2-16 NonStop Processor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8"/>
          <a:stretch/>
        </p:blipFill>
        <p:spPr>
          <a:xfrm>
            <a:off x="6810480" y="2297160"/>
            <a:ext cx="2070000" cy="20462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216920" y="1899360"/>
            <a:ext cx="125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OAM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3B2E-791F-456C-83C3-934CE1B386B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HP Integrity NonStop NB50000c BladeSystem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7000"/>
          </a:bodyPr>
          <a:p>
            <a:pPr lvl="1" marL="335520" indent="-2242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he highest performance per CPU of the NonStop Server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5520" indent="-2242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rverNet 3 based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71400" indent="-2246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Clusters with the Integrity NonStop NS-series and S-series systems that support clustering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35520" indent="-2242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Not NonStop advanced architecture (NSAA) based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71400" indent="-2246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he fault zone is the blade==CPU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994680" indent="-21240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When one IPU fails the CPU fail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71400" indent="-2246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he same fault model as the NonStop S-series and NonStop value architecture (NSVA)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35520" indent="-2242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Uses Cluster I/O Modules (CLIM)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71400" indent="-2246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Storage CLIM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71400" indent="-2246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IP CLIM (also referred to as a Network CLIM)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35520" indent="-2242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upports IOAME (FCSA, G4SA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E3BE1-037A-4801-BB36-360E942C079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NonStop Server Blades —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Logical System View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77" name=""/>
          <p:cNvSpPr/>
          <p:nvPr/>
        </p:nvSpPr>
        <p:spPr>
          <a:xfrm>
            <a:off x="5172120" y="1158840"/>
            <a:ext cx="3187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 Logical Processors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78" name=""/>
          <p:cNvSpPr/>
          <p:nvPr/>
        </p:nvSpPr>
        <p:spPr>
          <a:xfrm>
            <a:off x="6377400" y="1668600"/>
            <a:ext cx="143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board == 1 CPU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79" name=""/>
          <p:cNvSpPr/>
          <p:nvPr/>
        </p:nvSpPr>
        <p:spPr>
          <a:xfrm>
            <a:off x="6396840" y="1862280"/>
            <a:ext cx="205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cores == 1 chip (socket)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2781360" y="5170320"/>
            <a:ext cx="1196640" cy="741240"/>
            <a:chOff x="2781360" y="5170320"/>
            <a:chExt cx="1196640" cy="741240"/>
          </a:xfrm>
        </p:grpSpPr>
        <p:sp>
          <p:nvSpPr>
            <p:cNvPr id="581" name=""/>
            <p:cNvSpPr/>
            <p:nvPr/>
          </p:nvSpPr>
          <p:spPr>
            <a:xfrm>
              <a:off x="2781360" y="5170320"/>
              <a:ext cx="1196640" cy="741240"/>
            </a:xfrm>
            <a:prstGeom prst="rect">
              <a:avLst/>
            </a:prstGeom>
            <a:solidFill>
              <a:srgbClr val="aaab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781360" y="5170320"/>
              <a:ext cx="1196640" cy="741240"/>
            </a:xfrm>
            <a:prstGeom prst="rect">
              <a:avLst/>
            </a:prstGeom>
            <a:solidFill>
              <a:srgbClr val="aaabb0"/>
            </a:solidFill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3120120" y="5626080"/>
            <a:ext cx="80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 - Y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2514600" y="5335560"/>
            <a:ext cx="1196640" cy="741240"/>
            <a:chOff x="2514600" y="5335560"/>
            <a:chExt cx="1196640" cy="741240"/>
          </a:xfrm>
        </p:grpSpPr>
        <p:sp>
          <p:nvSpPr>
            <p:cNvPr id="585" name=""/>
            <p:cNvSpPr/>
            <p:nvPr/>
          </p:nvSpPr>
          <p:spPr>
            <a:xfrm>
              <a:off x="2514600" y="5335560"/>
              <a:ext cx="1196640" cy="7412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514600" y="5335560"/>
              <a:ext cx="1196640" cy="7412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2680200" y="5513400"/>
            <a:ext cx="803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Net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8" name=""/>
          <p:cNvSpPr/>
          <p:nvPr/>
        </p:nvSpPr>
        <p:spPr>
          <a:xfrm>
            <a:off x="2718360" y="5718240"/>
            <a:ext cx="80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witch - X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89" name=""/>
          <p:cNvSpPr/>
          <p:nvPr/>
        </p:nvSpPr>
        <p:spPr>
          <a:xfrm>
            <a:off x="3209400" y="116532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U 0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571840" y="1461960"/>
            <a:ext cx="1708200" cy="2733840"/>
            <a:chOff x="2571840" y="1461960"/>
            <a:chExt cx="1708200" cy="2733840"/>
          </a:xfrm>
        </p:grpSpPr>
        <p:sp>
          <p:nvSpPr>
            <p:cNvPr id="591" name=""/>
            <p:cNvSpPr/>
            <p:nvPr/>
          </p:nvSpPr>
          <p:spPr>
            <a:xfrm>
              <a:off x="2571840" y="1461960"/>
              <a:ext cx="1708200" cy="27338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571840" y="1461960"/>
              <a:ext cx="1708200" cy="27338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741760" y="1631880"/>
            <a:ext cx="684000" cy="684000"/>
            <a:chOff x="2741760" y="1631880"/>
            <a:chExt cx="684000" cy="684000"/>
          </a:xfrm>
        </p:grpSpPr>
        <p:sp>
          <p:nvSpPr>
            <p:cNvPr id="594" name=""/>
            <p:cNvSpPr/>
            <p:nvPr/>
          </p:nvSpPr>
          <p:spPr>
            <a:xfrm>
              <a:off x="2741760" y="1631880"/>
              <a:ext cx="684000" cy="684000"/>
            </a:xfrm>
            <a:prstGeom prst="ellipse">
              <a:avLst/>
            </a:pr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741760" y="1631880"/>
              <a:ext cx="684000" cy="68400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917080" y="1781280"/>
            <a:ext cx="39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 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7" name=""/>
          <p:cNvSpPr/>
          <p:nvPr/>
        </p:nvSpPr>
        <p:spPr>
          <a:xfrm>
            <a:off x="3036240" y="1987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3483000" y="1631880"/>
            <a:ext cx="684360" cy="684000"/>
            <a:chOff x="3483000" y="1631880"/>
            <a:chExt cx="684360" cy="684000"/>
          </a:xfrm>
        </p:grpSpPr>
        <p:sp>
          <p:nvSpPr>
            <p:cNvPr id="599" name=""/>
            <p:cNvSpPr/>
            <p:nvPr/>
          </p:nvSpPr>
          <p:spPr>
            <a:xfrm>
              <a:off x="3483000" y="1631880"/>
              <a:ext cx="684360" cy="684000"/>
            </a:xfrm>
            <a:prstGeom prst="ellipse">
              <a:avLst/>
            </a:prstGeom>
            <a:solidFill>
              <a:srgbClr val="00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483000" y="1631880"/>
              <a:ext cx="684360" cy="68400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3681360" y="178128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02" name=""/>
          <p:cNvSpPr/>
          <p:nvPr/>
        </p:nvSpPr>
        <p:spPr>
          <a:xfrm>
            <a:off x="3777840" y="19875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855880" y="3170160"/>
            <a:ext cx="1082520" cy="569880"/>
            <a:chOff x="2855880" y="3170160"/>
            <a:chExt cx="1082520" cy="569880"/>
          </a:xfrm>
        </p:grpSpPr>
        <p:sp>
          <p:nvSpPr>
            <p:cNvPr id="604" name=""/>
            <p:cNvSpPr/>
            <p:nvPr/>
          </p:nvSpPr>
          <p:spPr>
            <a:xfrm>
              <a:off x="2855880" y="3170160"/>
              <a:ext cx="1082520" cy="5698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855880" y="3170160"/>
              <a:ext cx="1082520" cy="569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3087360" y="336384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2855880" y="3968640"/>
            <a:ext cx="1197000" cy="171360"/>
            <a:chOff x="2855880" y="3968640"/>
            <a:chExt cx="1197000" cy="171360"/>
          </a:xfrm>
        </p:grpSpPr>
        <p:sp>
          <p:nvSpPr>
            <p:cNvPr id="608" name=""/>
            <p:cNvSpPr/>
            <p:nvPr/>
          </p:nvSpPr>
          <p:spPr>
            <a:xfrm>
              <a:off x="2855880" y="3968640"/>
              <a:ext cx="1197000" cy="1713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55880" y="3968640"/>
              <a:ext cx="1197000" cy="17136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2903400" y="3965400"/>
            <a:ext cx="114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et Interface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11" name=""/>
          <p:cNvSpPr/>
          <p:nvPr/>
        </p:nvSpPr>
        <p:spPr>
          <a:xfrm>
            <a:off x="2684520" y="1519200"/>
            <a:ext cx="1539720" cy="911160"/>
          </a:xfrm>
          <a:prstGeom prst="ellipse">
            <a:avLst/>
          </a:prstGeom>
          <a:noFill/>
          <a:ln cap="rnd"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12" name=""/>
          <p:cNvSpPr/>
          <p:nvPr/>
        </p:nvSpPr>
        <p:spPr>
          <a:xfrm>
            <a:off x="4578120" y="17352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U 1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110120" y="2031840"/>
            <a:ext cx="1709640" cy="2733840"/>
            <a:chOff x="4110120" y="2031840"/>
            <a:chExt cx="1709640" cy="2733840"/>
          </a:xfrm>
        </p:grpSpPr>
        <p:sp>
          <p:nvSpPr>
            <p:cNvPr id="614" name=""/>
            <p:cNvSpPr/>
            <p:nvPr/>
          </p:nvSpPr>
          <p:spPr>
            <a:xfrm>
              <a:off x="4110120" y="2031840"/>
              <a:ext cx="1709640" cy="273384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110120" y="2031840"/>
              <a:ext cx="1709640" cy="273384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280040" y="2201760"/>
            <a:ext cx="684000" cy="684360"/>
            <a:chOff x="4280040" y="2201760"/>
            <a:chExt cx="684000" cy="684360"/>
          </a:xfrm>
        </p:grpSpPr>
        <p:sp>
          <p:nvSpPr>
            <p:cNvPr id="617" name=""/>
            <p:cNvSpPr/>
            <p:nvPr/>
          </p:nvSpPr>
          <p:spPr>
            <a:xfrm>
              <a:off x="4280040" y="2201760"/>
              <a:ext cx="684000" cy="684360"/>
            </a:xfrm>
            <a:prstGeom prst="ellipse">
              <a:avLst/>
            </a:pr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280040" y="2201760"/>
              <a:ext cx="684000" cy="68436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4456080" y="23511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0" name=""/>
          <p:cNvSpPr/>
          <p:nvPr/>
        </p:nvSpPr>
        <p:spPr>
          <a:xfrm>
            <a:off x="4574520" y="255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5021280" y="2201760"/>
            <a:ext cx="684360" cy="684360"/>
            <a:chOff x="5021280" y="2201760"/>
            <a:chExt cx="684360" cy="684360"/>
          </a:xfrm>
        </p:grpSpPr>
        <p:sp>
          <p:nvSpPr>
            <p:cNvPr id="622" name=""/>
            <p:cNvSpPr/>
            <p:nvPr/>
          </p:nvSpPr>
          <p:spPr>
            <a:xfrm>
              <a:off x="5021280" y="2201760"/>
              <a:ext cx="684360" cy="684360"/>
            </a:xfrm>
            <a:prstGeom prst="ellipse">
              <a:avLst/>
            </a:prstGeom>
            <a:solidFill>
              <a:srgbClr val="00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021280" y="2201760"/>
              <a:ext cx="684360" cy="68436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5219640" y="23511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25" name=""/>
          <p:cNvSpPr/>
          <p:nvPr/>
        </p:nvSpPr>
        <p:spPr>
          <a:xfrm>
            <a:off x="5316120" y="25574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394160" y="3740040"/>
            <a:ext cx="1082520" cy="569880"/>
            <a:chOff x="4394160" y="3740040"/>
            <a:chExt cx="1082520" cy="569880"/>
          </a:xfrm>
        </p:grpSpPr>
        <p:sp>
          <p:nvSpPr>
            <p:cNvPr id="627" name=""/>
            <p:cNvSpPr/>
            <p:nvPr/>
          </p:nvSpPr>
          <p:spPr>
            <a:xfrm>
              <a:off x="4394160" y="3740040"/>
              <a:ext cx="1082520" cy="5698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394160" y="3740040"/>
              <a:ext cx="1082520" cy="569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4625640" y="393552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394160" y="4538520"/>
            <a:ext cx="1197000" cy="169920"/>
            <a:chOff x="4394160" y="4538520"/>
            <a:chExt cx="1197000" cy="169920"/>
          </a:xfrm>
        </p:grpSpPr>
        <p:sp>
          <p:nvSpPr>
            <p:cNvPr id="631" name=""/>
            <p:cNvSpPr/>
            <p:nvPr/>
          </p:nvSpPr>
          <p:spPr>
            <a:xfrm>
              <a:off x="4394160" y="4538520"/>
              <a:ext cx="1197000" cy="169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94160" y="4538520"/>
              <a:ext cx="1197000" cy="1699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441680" y="4535640"/>
            <a:ext cx="114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et Interface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4" name=""/>
          <p:cNvSpPr/>
          <p:nvPr/>
        </p:nvSpPr>
        <p:spPr>
          <a:xfrm>
            <a:off x="4224240" y="2087640"/>
            <a:ext cx="1538280" cy="912600"/>
          </a:xfrm>
          <a:prstGeom prst="ellipse">
            <a:avLst/>
          </a:prstGeom>
          <a:noFill/>
          <a:ln cap="rnd"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5" name=""/>
          <p:cNvSpPr/>
          <p:nvPr/>
        </p:nvSpPr>
        <p:spPr>
          <a:xfrm>
            <a:off x="6001920" y="230652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U 2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364000" y="2600280"/>
            <a:ext cx="1709640" cy="2735280"/>
            <a:chOff x="5364000" y="2600280"/>
            <a:chExt cx="1709640" cy="2735280"/>
          </a:xfrm>
        </p:grpSpPr>
        <p:sp>
          <p:nvSpPr>
            <p:cNvPr id="637" name=""/>
            <p:cNvSpPr/>
            <p:nvPr/>
          </p:nvSpPr>
          <p:spPr>
            <a:xfrm>
              <a:off x="5364000" y="2600280"/>
              <a:ext cx="1709640" cy="2735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64000" y="2600280"/>
              <a:ext cx="1709640" cy="27352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533920" y="2771640"/>
            <a:ext cx="684000" cy="684360"/>
            <a:chOff x="5533920" y="2771640"/>
            <a:chExt cx="684000" cy="684360"/>
          </a:xfrm>
        </p:grpSpPr>
        <p:sp>
          <p:nvSpPr>
            <p:cNvPr id="640" name=""/>
            <p:cNvSpPr/>
            <p:nvPr/>
          </p:nvSpPr>
          <p:spPr>
            <a:xfrm>
              <a:off x="5533920" y="2771640"/>
              <a:ext cx="684000" cy="684360"/>
            </a:xfrm>
            <a:prstGeom prst="ellipse">
              <a:avLst/>
            </a:pr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33920" y="2771640"/>
              <a:ext cx="684000" cy="68436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42" name=""/>
          <p:cNvSpPr/>
          <p:nvPr/>
        </p:nvSpPr>
        <p:spPr>
          <a:xfrm>
            <a:off x="5709600" y="2922480"/>
            <a:ext cx="39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 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3" name=""/>
          <p:cNvSpPr/>
          <p:nvPr/>
        </p:nvSpPr>
        <p:spPr>
          <a:xfrm>
            <a:off x="582876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6275520" y="2771640"/>
            <a:ext cx="684000" cy="684360"/>
            <a:chOff x="6275520" y="2771640"/>
            <a:chExt cx="684000" cy="684360"/>
          </a:xfrm>
        </p:grpSpPr>
        <p:sp>
          <p:nvSpPr>
            <p:cNvPr id="645" name=""/>
            <p:cNvSpPr/>
            <p:nvPr/>
          </p:nvSpPr>
          <p:spPr>
            <a:xfrm>
              <a:off x="6275520" y="2771640"/>
              <a:ext cx="684000" cy="684360"/>
            </a:xfrm>
            <a:prstGeom prst="ellipse">
              <a:avLst/>
            </a:prstGeom>
            <a:solidFill>
              <a:srgbClr val="00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275520" y="2771640"/>
              <a:ext cx="684000" cy="684360"/>
            </a:xfrm>
            <a:prstGeom prst="ellipse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6473520" y="292248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48" name=""/>
          <p:cNvSpPr/>
          <p:nvPr/>
        </p:nvSpPr>
        <p:spPr>
          <a:xfrm>
            <a:off x="6570000" y="31258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5648400" y="4309920"/>
            <a:ext cx="1082520" cy="569880"/>
            <a:chOff x="5648400" y="4309920"/>
            <a:chExt cx="1082520" cy="569880"/>
          </a:xfrm>
        </p:grpSpPr>
        <p:sp>
          <p:nvSpPr>
            <p:cNvPr id="650" name=""/>
            <p:cNvSpPr/>
            <p:nvPr/>
          </p:nvSpPr>
          <p:spPr>
            <a:xfrm>
              <a:off x="5648400" y="4309920"/>
              <a:ext cx="1082520" cy="5698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648400" y="4309920"/>
              <a:ext cx="1082520" cy="56988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5879880" y="450540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5648400" y="5108400"/>
            <a:ext cx="1197000" cy="169920"/>
            <a:chOff x="5648400" y="5108400"/>
            <a:chExt cx="1197000" cy="169920"/>
          </a:xfrm>
        </p:grpSpPr>
        <p:sp>
          <p:nvSpPr>
            <p:cNvPr id="654" name=""/>
            <p:cNvSpPr/>
            <p:nvPr/>
          </p:nvSpPr>
          <p:spPr>
            <a:xfrm>
              <a:off x="5648400" y="5108400"/>
              <a:ext cx="1197000" cy="169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648400" y="5108400"/>
              <a:ext cx="1197000" cy="169920"/>
            </a:xfrm>
            <a:prstGeom prst="rect">
              <a:avLst/>
            </a:prstGeom>
            <a:noFill/>
            <a:ln cap="rnd"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5695560" y="5103720"/>
            <a:ext cx="114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et Interface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7" name=""/>
          <p:cNvSpPr/>
          <p:nvPr/>
        </p:nvSpPr>
        <p:spPr>
          <a:xfrm>
            <a:off x="5477040" y="2657520"/>
            <a:ext cx="1539720" cy="912600"/>
          </a:xfrm>
          <a:prstGeom prst="ellipse">
            <a:avLst/>
          </a:prstGeom>
          <a:noFill/>
          <a:ln cap="rnd"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58" name=""/>
          <p:cNvSpPr/>
          <p:nvPr/>
        </p:nvSpPr>
        <p:spPr>
          <a:xfrm>
            <a:off x="7314840" y="2876400"/>
            <a:ext cx="52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PU 3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6673680" y="3170160"/>
            <a:ext cx="1709640" cy="2735280"/>
            <a:chOff x="6673680" y="3170160"/>
            <a:chExt cx="1709640" cy="2735280"/>
          </a:xfrm>
        </p:grpSpPr>
        <p:sp>
          <p:nvSpPr>
            <p:cNvPr id="660" name=""/>
            <p:cNvSpPr/>
            <p:nvPr/>
          </p:nvSpPr>
          <p:spPr>
            <a:xfrm>
              <a:off x="6673680" y="3170160"/>
              <a:ext cx="1709640" cy="27352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673680" y="3170160"/>
              <a:ext cx="1709640" cy="27352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6845400" y="3341520"/>
            <a:ext cx="684000" cy="684360"/>
            <a:chOff x="6845400" y="3341520"/>
            <a:chExt cx="684000" cy="684360"/>
          </a:xfrm>
        </p:grpSpPr>
        <p:sp>
          <p:nvSpPr>
            <p:cNvPr id="663" name=""/>
            <p:cNvSpPr/>
            <p:nvPr/>
          </p:nvSpPr>
          <p:spPr>
            <a:xfrm>
              <a:off x="6845400" y="3341520"/>
              <a:ext cx="684000" cy="684360"/>
            </a:xfrm>
            <a:prstGeom prst="ellipse">
              <a:avLst/>
            </a:prstGeom>
            <a:solidFill>
              <a:srgbClr val="99cc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45400" y="3341520"/>
              <a:ext cx="684000" cy="68436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7019280" y="3489480"/>
            <a:ext cx="39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 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66" name=""/>
          <p:cNvSpPr/>
          <p:nvPr/>
        </p:nvSpPr>
        <p:spPr>
          <a:xfrm>
            <a:off x="7141680" y="3695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7586640" y="3341520"/>
            <a:ext cx="682560" cy="684360"/>
            <a:chOff x="7586640" y="3341520"/>
            <a:chExt cx="682560" cy="684360"/>
          </a:xfrm>
        </p:grpSpPr>
        <p:sp>
          <p:nvSpPr>
            <p:cNvPr id="668" name=""/>
            <p:cNvSpPr/>
            <p:nvPr/>
          </p:nvSpPr>
          <p:spPr>
            <a:xfrm>
              <a:off x="7586640" y="3341520"/>
              <a:ext cx="682560" cy="684360"/>
            </a:xfrm>
            <a:prstGeom prst="ellipse">
              <a:avLst/>
            </a:prstGeom>
            <a:solidFill>
              <a:srgbClr val="00ff99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586640" y="3341520"/>
              <a:ext cx="682560" cy="68436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7785000" y="348948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71" name=""/>
          <p:cNvSpPr/>
          <p:nvPr/>
        </p:nvSpPr>
        <p:spPr>
          <a:xfrm>
            <a:off x="7879680" y="3695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72" name=""/>
          <p:cNvGrpSpPr/>
          <p:nvPr/>
        </p:nvGrpSpPr>
        <p:grpSpPr>
          <a:xfrm>
            <a:off x="6959520" y="4879800"/>
            <a:ext cx="1082520" cy="569880"/>
            <a:chOff x="6959520" y="4879800"/>
            <a:chExt cx="1082520" cy="569880"/>
          </a:xfrm>
        </p:grpSpPr>
        <p:sp>
          <p:nvSpPr>
            <p:cNvPr id="673" name=""/>
            <p:cNvSpPr/>
            <p:nvPr/>
          </p:nvSpPr>
          <p:spPr>
            <a:xfrm>
              <a:off x="6959520" y="4879800"/>
              <a:ext cx="1082520" cy="56988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959520" y="4879800"/>
              <a:ext cx="1082520" cy="56988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7189560" y="507348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676" name=""/>
          <p:cNvGrpSpPr/>
          <p:nvPr/>
        </p:nvGrpSpPr>
        <p:grpSpPr>
          <a:xfrm>
            <a:off x="6959520" y="5638680"/>
            <a:ext cx="1197000" cy="209160"/>
            <a:chOff x="6959520" y="5638680"/>
            <a:chExt cx="1197000" cy="209160"/>
          </a:xfrm>
        </p:grpSpPr>
        <p:sp>
          <p:nvSpPr>
            <p:cNvPr id="677" name=""/>
            <p:cNvSpPr/>
            <p:nvPr/>
          </p:nvSpPr>
          <p:spPr>
            <a:xfrm>
              <a:off x="6959520" y="5638680"/>
              <a:ext cx="1197000" cy="2091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959520" y="5638680"/>
              <a:ext cx="1197000" cy="209160"/>
            </a:xfrm>
            <a:prstGeom prst="rect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6995880" y="5646600"/>
            <a:ext cx="114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et Interface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0" name=""/>
          <p:cNvSpPr/>
          <p:nvPr/>
        </p:nvSpPr>
        <p:spPr>
          <a:xfrm>
            <a:off x="6788160" y="3227400"/>
            <a:ext cx="1538280" cy="912960"/>
          </a:xfrm>
          <a:prstGeom prst="ellipse">
            <a:avLst/>
          </a:prstGeom>
          <a:noFill/>
          <a:ln cap="rnd"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1" name=""/>
          <p:cNvSpPr/>
          <p:nvPr/>
        </p:nvSpPr>
        <p:spPr>
          <a:xfrm>
            <a:off x="2400480" y="1119240"/>
            <a:ext cx="6268680" cy="5014800"/>
          </a:xfrm>
          <a:prstGeom prst="rect">
            <a:avLst/>
          </a:prstGeom>
          <a:noFill/>
          <a:ln cap="rnd" w="42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2" name=""/>
          <p:cNvSpPr/>
          <p:nvPr/>
        </p:nvSpPr>
        <p:spPr>
          <a:xfrm>
            <a:off x="506520" y="3780000"/>
            <a:ext cx="1245960" cy="709560"/>
          </a:xfrm>
          <a:prstGeom prst="ellipse">
            <a:avLst/>
          </a:prstGeom>
          <a:noFill/>
          <a:ln cap="rnd" w="79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3" name=""/>
          <p:cNvSpPr/>
          <p:nvPr/>
        </p:nvSpPr>
        <p:spPr>
          <a:xfrm>
            <a:off x="726480" y="3908520"/>
            <a:ext cx="942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Montva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   Chip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1"/>
          <a:stretch/>
        </p:blipFill>
        <p:spPr>
          <a:xfrm>
            <a:off x="324000" y="1146240"/>
            <a:ext cx="2038320" cy="173808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685800" y="1819440"/>
            <a:ext cx="6210360" cy="2619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6" name=""/>
          <p:cNvSpPr/>
          <p:nvPr/>
        </p:nvSpPr>
        <p:spPr>
          <a:xfrm>
            <a:off x="1206360" y="2019240"/>
            <a:ext cx="5937480" cy="2314800"/>
          </a:xfrm>
          <a:prstGeom prst="line">
            <a:avLst/>
          </a:prstGeom>
          <a:ln w="19080">
            <a:solidFill>
              <a:srgbClr val="0071b5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7" name=""/>
          <p:cNvSpPr/>
          <p:nvPr/>
        </p:nvSpPr>
        <p:spPr>
          <a:xfrm>
            <a:off x="974880" y="2017800"/>
            <a:ext cx="4568760" cy="1859040"/>
          </a:xfrm>
          <a:prstGeom prst="line">
            <a:avLst/>
          </a:prstGeom>
          <a:ln w="19080">
            <a:solidFill>
              <a:srgbClr val="0071b5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8" name=""/>
          <p:cNvSpPr/>
          <p:nvPr/>
        </p:nvSpPr>
        <p:spPr>
          <a:xfrm>
            <a:off x="839880" y="2038320"/>
            <a:ext cx="3465360" cy="2028960"/>
          </a:xfrm>
          <a:prstGeom prst="line">
            <a:avLst/>
          </a:prstGeom>
          <a:ln w="19080">
            <a:solidFill>
              <a:srgbClr val="0071b5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89" name=""/>
          <p:cNvSpPr/>
          <p:nvPr/>
        </p:nvSpPr>
        <p:spPr>
          <a:xfrm>
            <a:off x="676440" y="2185920"/>
            <a:ext cx="2066760" cy="1500120"/>
          </a:xfrm>
          <a:prstGeom prst="line">
            <a:avLst/>
          </a:prstGeom>
          <a:ln w="19080">
            <a:solidFill>
              <a:srgbClr val="0071b5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0" name=""/>
          <p:cNvSpPr/>
          <p:nvPr/>
        </p:nvSpPr>
        <p:spPr>
          <a:xfrm>
            <a:off x="1477800" y="6256440"/>
            <a:ext cx="69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Stop BL860c server blade with 1p/2c = 1 logical processor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1" name=""/>
          <p:cNvSpPr/>
          <p:nvPr/>
        </p:nvSpPr>
        <p:spPr>
          <a:xfrm>
            <a:off x="3387600" y="4211640"/>
            <a:ext cx="347760" cy="965160"/>
          </a:xfrm>
          <a:prstGeom prst="line">
            <a:avLst/>
          </a:prstGeom>
          <a:ln w="28440">
            <a:solidFill>
              <a:srgbClr val="aaabb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3747600" y="4791240"/>
            <a:ext cx="567000" cy="360360"/>
          </a:xfrm>
          <a:prstGeom prst="line">
            <a:avLst/>
          </a:prstGeom>
          <a:ln w="28440">
            <a:solidFill>
              <a:srgbClr val="aaabb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3" name=""/>
          <p:cNvSpPr/>
          <p:nvPr/>
        </p:nvSpPr>
        <p:spPr>
          <a:xfrm>
            <a:off x="3916440" y="5370480"/>
            <a:ext cx="2678040" cy="438120"/>
          </a:xfrm>
          <a:prstGeom prst="line">
            <a:avLst/>
          </a:prstGeom>
          <a:ln w="28440">
            <a:solidFill>
              <a:srgbClr val="aaab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3244320" y="4211640"/>
            <a:ext cx="412920" cy="1108080"/>
          </a:xfrm>
          <a:prstGeom prst="line">
            <a:avLst/>
          </a:prstGeom>
          <a:ln w="28440">
            <a:solidFill>
              <a:srgbClr val="7ec3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3657600" y="4816440"/>
            <a:ext cx="901800" cy="488880"/>
          </a:xfrm>
          <a:prstGeom prst="line">
            <a:avLst/>
          </a:prstGeom>
          <a:ln w="28440">
            <a:solidFill>
              <a:srgbClr val="7ec3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6" name=""/>
          <p:cNvSpPr/>
          <p:nvPr/>
        </p:nvSpPr>
        <p:spPr>
          <a:xfrm flipV="1">
            <a:off x="3683160" y="5203800"/>
            <a:ext cx="1596960" cy="101520"/>
          </a:xfrm>
          <a:prstGeom prst="line">
            <a:avLst/>
          </a:prstGeom>
          <a:ln w="28440">
            <a:solidFill>
              <a:srgbClr val="7ec3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7" name=""/>
          <p:cNvSpPr/>
          <p:nvPr/>
        </p:nvSpPr>
        <p:spPr>
          <a:xfrm flipV="1">
            <a:off x="3967200" y="5305320"/>
            <a:ext cx="1338120" cy="52560"/>
          </a:xfrm>
          <a:prstGeom prst="line">
            <a:avLst/>
          </a:prstGeom>
          <a:ln w="28440">
            <a:solidFill>
              <a:srgbClr val="aaabb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98" name=""/>
          <p:cNvSpPr/>
          <p:nvPr/>
        </p:nvSpPr>
        <p:spPr>
          <a:xfrm>
            <a:off x="3722760" y="5319720"/>
            <a:ext cx="2832120" cy="333360"/>
          </a:xfrm>
          <a:prstGeom prst="line">
            <a:avLst/>
          </a:prstGeom>
          <a:ln w="28440">
            <a:solidFill>
              <a:srgbClr val="7ec3e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F1BE2-F170-4197-B60C-69E26E7D0B1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NB50000c Configuration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he HP Integrity NonStop BL860c Server Blade is a full height server blade 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Eight server blades (8P) per enclosure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Forty-eight ServerNet I/O links per fabric per 16P system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3" marL="1025640" indent="-21924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Maximum of 6 x4 optical ports per ServerNet switch module (SWM) for IO =&gt; 24 links per 8P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Current limit of 24 CLIMs per 16P system (software)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1025640" indent="-21924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he Storage CLIM uses two ServerNet links for disk performanc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3" marL="1025640" indent="-21924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The IP CLIM is configurable for either one or two links (performance versus connectivity)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Support for six IOAME modules per 16P system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1025640" indent="-21924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Requires x4 fat pipe so there are only four IOAMEs per 8P chassi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CB049-F652-49EF-B825-002034F6A41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Theory of Operation — HP BladeSystem c7000 Enclosure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s high performance computing engines for HP NonStop system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s environmental monitoring services to the Onboard Administrator (OA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 Insight display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Uses a PCI Express x4 connection to the ServerNet host bus adapter (HBA)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ix power supplies that suppor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Dynamic Power Saving Mode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703" name="Picture 8" descr=""/>
          <p:cNvPicPr/>
          <p:nvPr/>
        </p:nvPicPr>
        <p:blipFill>
          <a:blip r:embed="rId1"/>
          <a:stretch/>
        </p:blipFill>
        <p:spPr>
          <a:xfrm>
            <a:off x="4946760" y="3598920"/>
            <a:ext cx="4071960" cy="30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96E44-3E4E-48B5-8527-D50F61AC294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Module Objective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Architecture Overview of HP Integrity NonStop Servers and HP NonStop BladeSystems using CLIM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Overview of HP Integrity NS16x00 with CLIM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Overview of HP Integrity NS2000 with CLIM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Overview of HP NonStop BladeSystems NB50000 with CLIM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Describe the basic functions of the CLIM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F8168-CBD5-4376-938A-7D71FCBBC09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7000 Enclosure Configuration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05" name=""/>
          <p:cNvSpPr/>
          <p:nvPr/>
        </p:nvSpPr>
        <p:spPr>
          <a:xfrm>
            <a:off x="639720" y="2158920"/>
            <a:ext cx="3657600" cy="31035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06" name=""/>
          <p:cNvSpPr/>
          <p:nvPr/>
        </p:nvSpPr>
        <p:spPr>
          <a:xfrm>
            <a:off x="763560" y="4813200"/>
            <a:ext cx="568440" cy="457200"/>
          </a:xfrm>
          <a:prstGeom prst="rect">
            <a:avLst/>
          </a:prstGeom>
          <a:solidFill>
            <a:srgbClr val="08080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SU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07" name=""/>
          <p:cNvSpPr/>
          <p:nvPr/>
        </p:nvSpPr>
        <p:spPr>
          <a:xfrm>
            <a:off x="1332000" y="4813200"/>
            <a:ext cx="568080" cy="457200"/>
          </a:xfrm>
          <a:prstGeom prst="rect">
            <a:avLst/>
          </a:prstGeom>
          <a:solidFill>
            <a:srgbClr val="08080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SU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08" name=""/>
          <p:cNvSpPr/>
          <p:nvPr/>
        </p:nvSpPr>
        <p:spPr>
          <a:xfrm>
            <a:off x="1900080" y="4813200"/>
            <a:ext cx="568440" cy="457200"/>
          </a:xfrm>
          <a:prstGeom prst="rect">
            <a:avLst/>
          </a:prstGeom>
          <a:solidFill>
            <a:srgbClr val="08080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SU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09" name=""/>
          <p:cNvSpPr/>
          <p:nvPr/>
        </p:nvSpPr>
        <p:spPr>
          <a:xfrm>
            <a:off x="2468520" y="4813200"/>
            <a:ext cx="568440" cy="457200"/>
          </a:xfrm>
          <a:prstGeom prst="rect">
            <a:avLst/>
          </a:prstGeom>
          <a:solidFill>
            <a:srgbClr val="08080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SU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0" name=""/>
          <p:cNvSpPr/>
          <p:nvPr/>
        </p:nvSpPr>
        <p:spPr>
          <a:xfrm>
            <a:off x="3036960" y="4813200"/>
            <a:ext cx="568080" cy="457200"/>
          </a:xfrm>
          <a:prstGeom prst="rect">
            <a:avLst/>
          </a:prstGeom>
          <a:solidFill>
            <a:srgbClr val="08080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SU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1" name=""/>
          <p:cNvSpPr/>
          <p:nvPr/>
        </p:nvSpPr>
        <p:spPr>
          <a:xfrm>
            <a:off x="3605040" y="4813200"/>
            <a:ext cx="568440" cy="457200"/>
          </a:xfrm>
          <a:prstGeom prst="rect">
            <a:avLst/>
          </a:prstGeom>
          <a:solidFill>
            <a:srgbClr val="08080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SU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2" name=""/>
          <p:cNvSpPr/>
          <p:nvPr/>
        </p:nvSpPr>
        <p:spPr>
          <a:xfrm rot="10800000">
            <a:off x="1554120" y="2143080"/>
            <a:ext cx="457200" cy="2651040"/>
          </a:xfrm>
          <a:prstGeom prst="rect">
            <a:avLst/>
          </a:prstGeom>
          <a:solidFill>
            <a:srgbClr val="8fcbe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860c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3" name=""/>
          <p:cNvSpPr/>
          <p:nvPr/>
        </p:nvSpPr>
        <p:spPr>
          <a:xfrm rot="10800000">
            <a:off x="1096920" y="2143080"/>
            <a:ext cx="457200" cy="2651040"/>
          </a:xfrm>
          <a:prstGeom prst="rect">
            <a:avLst/>
          </a:prstGeom>
          <a:solidFill>
            <a:srgbClr val="8fcbe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860c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4" name=""/>
          <p:cNvSpPr/>
          <p:nvPr/>
        </p:nvSpPr>
        <p:spPr>
          <a:xfrm rot="10800000">
            <a:off x="639720" y="2143080"/>
            <a:ext cx="457200" cy="2651040"/>
          </a:xfrm>
          <a:prstGeom prst="rect">
            <a:avLst/>
          </a:prstGeom>
          <a:solidFill>
            <a:srgbClr val="8fcbe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860c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5" name=""/>
          <p:cNvSpPr/>
          <p:nvPr/>
        </p:nvSpPr>
        <p:spPr>
          <a:xfrm rot="10800000">
            <a:off x="2011320" y="2143080"/>
            <a:ext cx="457200" cy="2651040"/>
          </a:xfrm>
          <a:prstGeom prst="rect">
            <a:avLst/>
          </a:prstGeom>
          <a:solidFill>
            <a:srgbClr val="8fcbe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860c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6" name=""/>
          <p:cNvSpPr/>
          <p:nvPr/>
        </p:nvSpPr>
        <p:spPr>
          <a:xfrm>
            <a:off x="4836960" y="2128680"/>
            <a:ext cx="3657600" cy="3119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7" name=""/>
          <p:cNvSpPr/>
          <p:nvPr/>
        </p:nvSpPr>
        <p:spPr>
          <a:xfrm>
            <a:off x="4938840" y="4973760"/>
            <a:ext cx="3473280" cy="279360"/>
          </a:xfrm>
          <a:prstGeom prst="rect">
            <a:avLst/>
          </a:prstGeom>
          <a:solidFill>
            <a:srgbClr val="08080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 input module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8" name=""/>
          <p:cNvSpPr/>
          <p:nvPr/>
        </p:nvSpPr>
        <p:spPr>
          <a:xfrm rot="10800000">
            <a:off x="5121360" y="2125440"/>
            <a:ext cx="549360" cy="731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9" name=""/>
          <p:cNvSpPr/>
          <p:nvPr/>
        </p:nvSpPr>
        <p:spPr>
          <a:xfrm rot="10800000">
            <a:off x="5761080" y="2125440"/>
            <a:ext cx="549360" cy="731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0" name=""/>
          <p:cNvSpPr/>
          <p:nvPr/>
        </p:nvSpPr>
        <p:spPr>
          <a:xfrm rot="10800000">
            <a:off x="6400800" y="2125440"/>
            <a:ext cx="549360" cy="731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1" name=""/>
          <p:cNvSpPr/>
          <p:nvPr/>
        </p:nvSpPr>
        <p:spPr>
          <a:xfrm rot="10800000">
            <a:off x="7040520" y="2125440"/>
            <a:ext cx="549360" cy="731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2" name=""/>
          <p:cNvSpPr/>
          <p:nvPr/>
        </p:nvSpPr>
        <p:spPr>
          <a:xfrm rot="10800000">
            <a:off x="7681680" y="2125440"/>
            <a:ext cx="549000" cy="731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3" name=""/>
          <p:cNvSpPr/>
          <p:nvPr/>
        </p:nvSpPr>
        <p:spPr>
          <a:xfrm rot="10800000">
            <a:off x="5121360" y="4065120"/>
            <a:ext cx="549360" cy="731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4" name=""/>
          <p:cNvSpPr/>
          <p:nvPr/>
        </p:nvSpPr>
        <p:spPr>
          <a:xfrm rot="10800000">
            <a:off x="5761080" y="4065120"/>
            <a:ext cx="549360" cy="731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5" name=""/>
          <p:cNvSpPr/>
          <p:nvPr/>
        </p:nvSpPr>
        <p:spPr>
          <a:xfrm rot="10800000">
            <a:off x="6400800" y="4065120"/>
            <a:ext cx="549360" cy="731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6" name=""/>
          <p:cNvSpPr/>
          <p:nvPr/>
        </p:nvSpPr>
        <p:spPr>
          <a:xfrm rot="10800000">
            <a:off x="7040520" y="4065120"/>
            <a:ext cx="549360" cy="731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7" name=""/>
          <p:cNvSpPr/>
          <p:nvPr/>
        </p:nvSpPr>
        <p:spPr>
          <a:xfrm rot="10800000">
            <a:off x="7681680" y="4065120"/>
            <a:ext cx="549000" cy="731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N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8" name=""/>
          <p:cNvSpPr/>
          <p:nvPr/>
        </p:nvSpPr>
        <p:spPr>
          <a:xfrm>
            <a:off x="5121360" y="3772080"/>
            <a:ext cx="1554120" cy="2743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29" name=""/>
          <p:cNvSpPr/>
          <p:nvPr/>
        </p:nvSpPr>
        <p:spPr>
          <a:xfrm>
            <a:off x="5121360" y="2881440"/>
            <a:ext cx="1554120" cy="182520"/>
          </a:xfrm>
          <a:prstGeom prst="rect">
            <a:avLst/>
          </a:prstGeom>
          <a:solidFill>
            <a:srgbClr val="81c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bE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30" name=""/>
          <p:cNvSpPr/>
          <p:nvPr/>
        </p:nvSpPr>
        <p:spPr>
          <a:xfrm>
            <a:off x="6675480" y="2881440"/>
            <a:ext cx="1554120" cy="182520"/>
          </a:xfrm>
          <a:prstGeom prst="rect">
            <a:avLst/>
          </a:prstGeom>
          <a:solidFill>
            <a:srgbClr val="81c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bE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31" name=""/>
          <p:cNvSpPr/>
          <p:nvPr/>
        </p:nvSpPr>
        <p:spPr>
          <a:xfrm>
            <a:off x="5121360" y="3322800"/>
            <a:ext cx="3108240" cy="18252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erNet Switch - X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32" name=""/>
          <p:cNvSpPr/>
          <p:nvPr/>
        </p:nvSpPr>
        <p:spPr>
          <a:xfrm>
            <a:off x="5121360" y="3543480"/>
            <a:ext cx="3108240" cy="182520"/>
          </a:xfrm>
          <a:prstGeom prst="rect">
            <a:avLst/>
          </a:prstGeom>
          <a:solidFill>
            <a:srgbClr val="0071b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erNet Switch - Y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33" name=""/>
          <p:cNvSpPr/>
          <p:nvPr/>
        </p:nvSpPr>
        <p:spPr>
          <a:xfrm>
            <a:off x="6675480" y="3772080"/>
            <a:ext cx="1554120" cy="2743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A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34" name=""/>
          <p:cNvSpPr/>
          <p:nvPr/>
        </p:nvSpPr>
        <p:spPr>
          <a:xfrm>
            <a:off x="2072160" y="5354640"/>
            <a:ext cx="775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35" name=""/>
          <p:cNvSpPr/>
          <p:nvPr/>
        </p:nvSpPr>
        <p:spPr>
          <a:xfrm>
            <a:off x="6305760" y="5345280"/>
            <a:ext cx="7340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r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36" name=""/>
          <p:cNvSpPr/>
          <p:nvPr/>
        </p:nvSpPr>
        <p:spPr>
          <a:xfrm>
            <a:off x="5721480" y="1417680"/>
            <a:ext cx="19638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Module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37" name=""/>
          <p:cNvSpPr/>
          <p:nvPr/>
        </p:nvSpPr>
        <p:spPr>
          <a:xfrm>
            <a:off x="1580400" y="1417680"/>
            <a:ext cx="17809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Blade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38" name=""/>
          <p:cNvSpPr/>
          <p:nvPr/>
        </p:nvSpPr>
        <p:spPr>
          <a:xfrm>
            <a:off x="4937040" y="4800600"/>
            <a:ext cx="3483000" cy="18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39" name=""/>
          <p:cNvSpPr/>
          <p:nvPr/>
        </p:nvSpPr>
        <p:spPr>
          <a:xfrm rot="10800000">
            <a:off x="3375000" y="2144880"/>
            <a:ext cx="457200" cy="2651040"/>
          </a:xfrm>
          <a:prstGeom prst="rect">
            <a:avLst/>
          </a:prstGeom>
          <a:solidFill>
            <a:srgbClr val="8fcbe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860c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0" name=""/>
          <p:cNvSpPr/>
          <p:nvPr/>
        </p:nvSpPr>
        <p:spPr>
          <a:xfrm rot="10800000">
            <a:off x="2917800" y="2144880"/>
            <a:ext cx="457200" cy="2651040"/>
          </a:xfrm>
          <a:prstGeom prst="rect">
            <a:avLst/>
          </a:prstGeom>
          <a:solidFill>
            <a:srgbClr val="8fcbe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860c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1" name=""/>
          <p:cNvSpPr/>
          <p:nvPr/>
        </p:nvSpPr>
        <p:spPr>
          <a:xfrm rot="10800000">
            <a:off x="2460600" y="2144880"/>
            <a:ext cx="457200" cy="2651040"/>
          </a:xfrm>
          <a:prstGeom prst="rect">
            <a:avLst/>
          </a:prstGeom>
          <a:solidFill>
            <a:srgbClr val="8fcbe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860c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2" name=""/>
          <p:cNvSpPr/>
          <p:nvPr/>
        </p:nvSpPr>
        <p:spPr>
          <a:xfrm rot="10800000">
            <a:off x="3832200" y="2144880"/>
            <a:ext cx="457200" cy="2651040"/>
          </a:xfrm>
          <a:prstGeom prst="rect">
            <a:avLst/>
          </a:prstGeom>
          <a:solidFill>
            <a:srgbClr val="8fcbe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L860c 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3" name=""/>
          <p:cNvSpPr/>
          <p:nvPr/>
        </p:nvSpPr>
        <p:spPr>
          <a:xfrm>
            <a:off x="5121360" y="3094200"/>
            <a:ext cx="1554120" cy="1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4" name=""/>
          <p:cNvSpPr/>
          <p:nvPr/>
        </p:nvSpPr>
        <p:spPr>
          <a:xfrm>
            <a:off x="6675480" y="3094200"/>
            <a:ext cx="1554120" cy="1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8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318AF-3CAF-4F53-9A75-D4C4CF3C388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301680" y="1060560"/>
            <a:ext cx="4502160" cy="4787640"/>
          </a:xfrm>
          <a:prstGeom prst="rect">
            <a:avLst/>
          </a:prstGeom>
          <a:ln w="0">
            <a:noFill/>
          </a:ln>
        </p:spPr>
      </p:pic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7000 Enclosure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718160" y="471600"/>
            <a:ext cx="44258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87000"/>
          </a:bodyPr>
          <a:p>
            <a:pPr lvl="1" marL="300960" indent="-20124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Active cool fan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02280" indent="-201600">
              <a:spcAft>
                <a:spcPts val="561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Redundant fan design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300960" indent="-20124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nterconnect bay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02280" indent="-201600">
              <a:spcAft>
                <a:spcPts val="561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Four redundant interconnect fabric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2" marL="602280" indent="-201600">
              <a:spcAft>
                <a:spcPts val="561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Redundant connections to each server blade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300960" indent="-20124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Onboard Administrators and midplan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02280" indent="-201600">
              <a:spcAft>
                <a:spcPts val="561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Redundant active/passive design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2" marL="602280" indent="-201600">
              <a:spcAft>
                <a:spcPts val="561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Midplane fully redundant 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3" marL="892080" indent="-190440">
              <a:spcAft>
                <a:spcPts val="561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No active component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2" marL="602280" indent="-201600">
              <a:spcAft>
                <a:spcPts val="561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Both OAs can fail causing no effect to the system 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1" marL="300960" indent="-201240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Power managemen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2" marL="602280" indent="-201600">
              <a:spcAft>
                <a:spcPts val="561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Redundant AC 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3" marL="892080" indent="-190440">
              <a:spcAft>
                <a:spcPts val="499"/>
              </a:spcAft>
              <a:buClr>
                <a:srgbClr val="6e6f72"/>
              </a:buClr>
              <a:buFont typeface="Futura B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3 + 3 power supplie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lvl="2" marL="602280" indent="-201600">
              <a:spcAft>
                <a:spcPts val="561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No fault zones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  <a:p>
            <a:pPr lvl="2" marL="602280" indent="-201600">
              <a:spcAft>
                <a:spcPts val="561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Three power supplies sustain enclosure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8" name=""/>
          <p:cNvSpPr/>
          <p:nvPr/>
        </p:nvSpPr>
        <p:spPr>
          <a:xfrm>
            <a:off x="1751400" y="6016680"/>
            <a:ext cx="1411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Rear View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9" name=""/>
          <p:cNvSpPr/>
          <p:nvPr/>
        </p:nvSpPr>
        <p:spPr>
          <a:xfrm flipH="1">
            <a:off x="3951000" y="716040"/>
            <a:ext cx="873000" cy="80496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50" name=""/>
          <p:cNvSpPr/>
          <p:nvPr/>
        </p:nvSpPr>
        <p:spPr>
          <a:xfrm flipH="1">
            <a:off x="3823920" y="1496880"/>
            <a:ext cx="1065240" cy="122400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51" name=""/>
          <p:cNvSpPr/>
          <p:nvPr/>
        </p:nvSpPr>
        <p:spPr>
          <a:xfrm flipH="1">
            <a:off x="3800160" y="2782800"/>
            <a:ext cx="1103400" cy="110988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064040" y="5075280"/>
            <a:ext cx="812880" cy="709560"/>
          </a:xfrm>
          <a:prstGeom prst="line">
            <a:avLst/>
          </a:prstGeom>
          <a:ln w="381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7AD9B-5303-448F-823C-8378B8C071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5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755" name="" descr=""/>
            <p:cNvPicPr/>
            <p:nvPr/>
          </p:nvPicPr>
          <p:blipFill>
            <a:blip r:embed="rId1"/>
            <a:stretch/>
          </p:blipFill>
          <p:spPr>
            <a:xfrm>
              <a:off x="7120080" y="5126040"/>
              <a:ext cx="1773000" cy="13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16730-EAFC-4E1E-B078-AB4F4D35DBA0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General NonStop system architecture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4" name=""/>
          <p:cNvSpPr/>
          <p:nvPr/>
        </p:nvSpPr>
        <p:spPr>
          <a:xfrm>
            <a:off x="3422520" y="3149640"/>
            <a:ext cx="3981600" cy="533520"/>
          </a:xfrm>
          <a:prstGeom prst="ellipse">
            <a:avLst/>
          </a:prstGeom>
          <a:solidFill>
            <a:srgbClr val="64b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5" name=""/>
          <p:cNvSpPr/>
          <p:nvPr/>
        </p:nvSpPr>
        <p:spPr>
          <a:xfrm>
            <a:off x="3270240" y="2997360"/>
            <a:ext cx="3981600" cy="533160"/>
          </a:xfrm>
          <a:prstGeom prst="ellipse">
            <a:avLst/>
          </a:prstGeom>
          <a:solidFill>
            <a:srgbClr val="64b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6" name=""/>
          <p:cNvSpPr/>
          <p:nvPr/>
        </p:nvSpPr>
        <p:spPr>
          <a:xfrm>
            <a:off x="4062960" y="3027240"/>
            <a:ext cx="24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erverNet Switche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7" name=""/>
          <p:cNvSpPr/>
          <p:nvPr/>
        </p:nvSpPr>
        <p:spPr>
          <a:xfrm>
            <a:off x="5994360" y="3664080"/>
            <a:ext cx="552600" cy="44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8" name=""/>
          <p:cNvSpPr/>
          <p:nvPr/>
        </p:nvSpPr>
        <p:spPr>
          <a:xfrm>
            <a:off x="6675480" y="3627360"/>
            <a:ext cx="1311120" cy="5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7179840" y="2590920"/>
            <a:ext cx="392040" cy="56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0" name=""/>
          <p:cNvSpPr/>
          <p:nvPr/>
        </p:nvSpPr>
        <p:spPr>
          <a:xfrm>
            <a:off x="1059480" y="2805120"/>
            <a:ext cx="171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erverN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1" name=""/>
          <p:cNvSpPr/>
          <p:nvPr/>
        </p:nvSpPr>
        <p:spPr>
          <a:xfrm>
            <a:off x="29242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2" name=""/>
          <p:cNvSpPr/>
          <p:nvPr/>
        </p:nvSpPr>
        <p:spPr>
          <a:xfrm>
            <a:off x="322884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3" name=""/>
          <p:cNvSpPr/>
          <p:nvPr/>
        </p:nvSpPr>
        <p:spPr>
          <a:xfrm>
            <a:off x="353376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4" name=""/>
          <p:cNvSpPr/>
          <p:nvPr/>
        </p:nvSpPr>
        <p:spPr>
          <a:xfrm>
            <a:off x="38386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5" name=""/>
          <p:cNvSpPr/>
          <p:nvPr/>
        </p:nvSpPr>
        <p:spPr>
          <a:xfrm>
            <a:off x="414324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6" name=""/>
          <p:cNvSpPr/>
          <p:nvPr/>
        </p:nvSpPr>
        <p:spPr>
          <a:xfrm>
            <a:off x="444816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7" name=""/>
          <p:cNvSpPr/>
          <p:nvPr/>
        </p:nvSpPr>
        <p:spPr>
          <a:xfrm>
            <a:off x="47530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8" name=""/>
          <p:cNvSpPr/>
          <p:nvPr/>
        </p:nvSpPr>
        <p:spPr>
          <a:xfrm>
            <a:off x="505764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99" name=""/>
          <p:cNvSpPr/>
          <p:nvPr/>
        </p:nvSpPr>
        <p:spPr>
          <a:xfrm>
            <a:off x="536256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0" name=""/>
          <p:cNvSpPr/>
          <p:nvPr/>
        </p:nvSpPr>
        <p:spPr>
          <a:xfrm>
            <a:off x="56674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1" name=""/>
          <p:cNvSpPr/>
          <p:nvPr/>
        </p:nvSpPr>
        <p:spPr>
          <a:xfrm>
            <a:off x="597204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2" name=""/>
          <p:cNvSpPr/>
          <p:nvPr/>
        </p:nvSpPr>
        <p:spPr>
          <a:xfrm>
            <a:off x="627696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3" name=""/>
          <p:cNvSpPr/>
          <p:nvPr/>
        </p:nvSpPr>
        <p:spPr>
          <a:xfrm>
            <a:off x="65818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4" name=""/>
          <p:cNvSpPr/>
          <p:nvPr/>
        </p:nvSpPr>
        <p:spPr>
          <a:xfrm>
            <a:off x="688644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5" name=""/>
          <p:cNvSpPr/>
          <p:nvPr/>
        </p:nvSpPr>
        <p:spPr>
          <a:xfrm>
            <a:off x="719136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6" name=""/>
          <p:cNvSpPr/>
          <p:nvPr/>
        </p:nvSpPr>
        <p:spPr>
          <a:xfrm>
            <a:off x="74962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7" name=""/>
          <p:cNvSpPr/>
          <p:nvPr/>
        </p:nvSpPr>
        <p:spPr>
          <a:xfrm>
            <a:off x="312840" y="1044720"/>
            <a:ext cx="255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ntegrity NonStop System Processors (Single or Multicore)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8" name=""/>
          <p:cNvSpPr/>
          <p:nvPr/>
        </p:nvSpPr>
        <p:spPr>
          <a:xfrm>
            <a:off x="3000240" y="259092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09" name=""/>
          <p:cNvSpPr/>
          <p:nvPr/>
        </p:nvSpPr>
        <p:spPr>
          <a:xfrm>
            <a:off x="4295880" y="2590920"/>
            <a:ext cx="304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0" name=""/>
          <p:cNvSpPr/>
          <p:nvPr/>
        </p:nvSpPr>
        <p:spPr>
          <a:xfrm>
            <a:off x="5514840" y="25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353280" y="259092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2" name=""/>
          <p:cNvSpPr/>
          <p:nvPr/>
        </p:nvSpPr>
        <p:spPr>
          <a:xfrm>
            <a:off x="6033960" y="4114800"/>
            <a:ext cx="119088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3" name=""/>
          <p:cNvSpPr/>
          <p:nvPr/>
        </p:nvSpPr>
        <p:spPr>
          <a:xfrm>
            <a:off x="7377120" y="4114800"/>
            <a:ext cx="119052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4" name=""/>
          <p:cNvSpPr/>
          <p:nvPr/>
        </p:nvSpPr>
        <p:spPr>
          <a:xfrm>
            <a:off x="6075360" y="4208400"/>
            <a:ext cx="11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Network Adapter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5" name=""/>
          <p:cNvSpPr/>
          <p:nvPr/>
        </p:nvSpPr>
        <p:spPr>
          <a:xfrm>
            <a:off x="6197760" y="493380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6" name=""/>
          <p:cNvSpPr/>
          <p:nvPr/>
        </p:nvSpPr>
        <p:spPr>
          <a:xfrm>
            <a:off x="6383160" y="493704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7" name=""/>
          <p:cNvSpPr/>
          <p:nvPr/>
        </p:nvSpPr>
        <p:spPr>
          <a:xfrm>
            <a:off x="6554880" y="4930920"/>
            <a:ext cx="0" cy="64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8" name=""/>
          <p:cNvSpPr/>
          <p:nvPr/>
        </p:nvSpPr>
        <p:spPr>
          <a:xfrm>
            <a:off x="6772320" y="493380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19" name=""/>
          <p:cNvSpPr/>
          <p:nvPr/>
        </p:nvSpPr>
        <p:spPr>
          <a:xfrm>
            <a:off x="8307360" y="494820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0" name=""/>
          <p:cNvSpPr/>
          <p:nvPr/>
        </p:nvSpPr>
        <p:spPr>
          <a:xfrm>
            <a:off x="7716960" y="4933800"/>
            <a:ext cx="0" cy="67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1" name=""/>
          <p:cNvSpPr/>
          <p:nvPr/>
        </p:nvSpPr>
        <p:spPr>
          <a:xfrm>
            <a:off x="7888320" y="4927680"/>
            <a:ext cx="0" cy="67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2" name=""/>
          <p:cNvSpPr/>
          <p:nvPr/>
        </p:nvSpPr>
        <p:spPr>
          <a:xfrm>
            <a:off x="8105760" y="4940280"/>
            <a:ext cx="0" cy="66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645240" y="4930920"/>
            <a:ext cx="1190520" cy="1665000"/>
            <a:chOff x="6645240" y="4930920"/>
            <a:chExt cx="1190520" cy="1665000"/>
          </a:xfrm>
        </p:grpSpPr>
        <p:sp>
          <p:nvSpPr>
            <p:cNvPr id="224" name=""/>
            <p:cNvSpPr/>
            <p:nvPr/>
          </p:nvSpPr>
          <p:spPr>
            <a:xfrm>
              <a:off x="6940440" y="4938840"/>
              <a:ext cx="1440" cy="85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30840" y="4930920"/>
              <a:ext cx="0" cy="86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45240" y="5776920"/>
              <a:ext cx="1190520" cy="38268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230960" y="6188040"/>
              <a:ext cx="0" cy="25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383240" y="6340320"/>
              <a:ext cx="0" cy="25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7240320" y="6347880"/>
              <a:ext cx="1285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37040" y="5850000"/>
              <a:ext cx="95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SWAN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2006640" y="4075200"/>
            <a:ext cx="119052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2" name=""/>
          <p:cNvSpPr/>
          <p:nvPr/>
        </p:nvSpPr>
        <p:spPr>
          <a:xfrm>
            <a:off x="3349800" y="4075200"/>
            <a:ext cx="119052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3" name=""/>
          <p:cNvSpPr/>
          <p:nvPr/>
        </p:nvSpPr>
        <p:spPr>
          <a:xfrm>
            <a:off x="339840" y="4184640"/>
            <a:ext cx="13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/O Adapter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4" name=""/>
          <p:cNvSpPr/>
          <p:nvPr/>
        </p:nvSpPr>
        <p:spPr>
          <a:xfrm>
            <a:off x="2038320" y="4148280"/>
            <a:ext cx="10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torage Adapter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5" name=""/>
          <p:cNvSpPr/>
          <p:nvPr/>
        </p:nvSpPr>
        <p:spPr>
          <a:xfrm>
            <a:off x="4280040" y="490860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6" name=""/>
          <p:cNvSpPr/>
          <p:nvPr/>
        </p:nvSpPr>
        <p:spPr>
          <a:xfrm>
            <a:off x="492120" y="5611680"/>
            <a:ext cx="148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Peripheral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7" name=""/>
          <p:cNvSpPr/>
          <p:nvPr/>
        </p:nvSpPr>
        <p:spPr>
          <a:xfrm>
            <a:off x="3349800" y="4172040"/>
            <a:ext cx="10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torage Adapter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30440" y="3560760"/>
            <a:ext cx="113832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884400" y="3649680"/>
            <a:ext cx="330120" cy="42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0" name=""/>
          <p:cNvSpPr/>
          <p:nvPr/>
        </p:nvSpPr>
        <p:spPr>
          <a:xfrm>
            <a:off x="7461360" y="4168800"/>
            <a:ext cx="112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Network Adapter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1" name=""/>
          <p:cNvSpPr/>
          <p:nvPr/>
        </p:nvSpPr>
        <p:spPr>
          <a:xfrm>
            <a:off x="2414520" y="4911840"/>
            <a:ext cx="471600" cy="674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3506760" y="4902120"/>
            <a:ext cx="419040" cy="622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3" name=""/>
          <p:cNvSpPr/>
          <p:nvPr/>
        </p:nvSpPr>
        <p:spPr>
          <a:xfrm>
            <a:off x="2243160" y="4896000"/>
            <a:ext cx="503280" cy="7268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279240" y="4863960"/>
            <a:ext cx="484200" cy="7081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5" name=""/>
          <p:cNvSpPr/>
          <p:nvPr/>
        </p:nvSpPr>
        <p:spPr>
          <a:xfrm>
            <a:off x="2340720" y="5883840"/>
            <a:ext cx="11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6" name=""/>
          <p:cNvSpPr/>
          <p:nvPr/>
        </p:nvSpPr>
        <p:spPr>
          <a:xfrm>
            <a:off x="2832120" y="5450040"/>
            <a:ext cx="406440" cy="49500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7" name=""/>
          <p:cNvSpPr/>
          <p:nvPr/>
        </p:nvSpPr>
        <p:spPr>
          <a:xfrm>
            <a:off x="2521080" y="5340240"/>
            <a:ext cx="40644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8" name=""/>
          <p:cNvSpPr/>
          <p:nvPr/>
        </p:nvSpPr>
        <p:spPr>
          <a:xfrm>
            <a:off x="3460680" y="5500800"/>
            <a:ext cx="40644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49" name=""/>
          <p:cNvSpPr/>
          <p:nvPr/>
        </p:nvSpPr>
        <p:spPr>
          <a:xfrm>
            <a:off x="3160800" y="5364000"/>
            <a:ext cx="40644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0" name=""/>
          <p:cNvSpPr/>
          <p:nvPr/>
        </p:nvSpPr>
        <p:spPr>
          <a:xfrm>
            <a:off x="4083120" y="5560920"/>
            <a:ext cx="446040" cy="403200"/>
          </a:xfrm>
          <a:prstGeom prst="flowChartMagneticTap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9211-12C0-47A6-A249-01AD7530C9E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NonStop system architecture with IOAME or VIO (NS1x00)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2" name=""/>
          <p:cNvSpPr/>
          <p:nvPr/>
        </p:nvSpPr>
        <p:spPr>
          <a:xfrm>
            <a:off x="3422520" y="3149640"/>
            <a:ext cx="3981600" cy="533520"/>
          </a:xfrm>
          <a:prstGeom prst="ellipse">
            <a:avLst/>
          </a:prstGeom>
          <a:solidFill>
            <a:srgbClr val="64b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3" name=""/>
          <p:cNvSpPr/>
          <p:nvPr/>
        </p:nvSpPr>
        <p:spPr>
          <a:xfrm>
            <a:off x="3270240" y="2997360"/>
            <a:ext cx="3981600" cy="533160"/>
          </a:xfrm>
          <a:prstGeom prst="ellipse">
            <a:avLst/>
          </a:prstGeom>
          <a:solidFill>
            <a:srgbClr val="64b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4" name=""/>
          <p:cNvSpPr/>
          <p:nvPr/>
        </p:nvSpPr>
        <p:spPr>
          <a:xfrm>
            <a:off x="4062960" y="3027240"/>
            <a:ext cx="24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erverNet Switche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5" name=""/>
          <p:cNvSpPr/>
          <p:nvPr/>
        </p:nvSpPr>
        <p:spPr>
          <a:xfrm>
            <a:off x="5994360" y="3664080"/>
            <a:ext cx="552600" cy="44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6" name=""/>
          <p:cNvSpPr/>
          <p:nvPr/>
        </p:nvSpPr>
        <p:spPr>
          <a:xfrm>
            <a:off x="6675480" y="3627360"/>
            <a:ext cx="1311120" cy="5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7179840" y="2590920"/>
            <a:ext cx="392040" cy="56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8" name=""/>
          <p:cNvSpPr/>
          <p:nvPr/>
        </p:nvSpPr>
        <p:spPr>
          <a:xfrm>
            <a:off x="1059480" y="2805120"/>
            <a:ext cx="171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erverN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59" name=""/>
          <p:cNvSpPr/>
          <p:nvPr/>
        </p:nvSpPr>
        <p:spPr>
          <a:xfrm>
            <a:off x="29242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0" name=""/>
          <p:cNvSpPr/>
          <p:nvPr/>
        </p:nvSpPr>
        <p:spPr>
          <a:xfrm>
            <a:off x="322884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1" name=""/>
          <p:cNvSpPr/>
          <p:nvPr/>
        </p:nvSpPr>
        <p:spPr>
          <a:xfrm>
            <a:off x="353376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2" name=""/>
          <p:cNvSpPr/>
          <p:nvPr/>
        </p:nvSpPr>
        <p:spPr>
          <a:xfrm>
            <a:off x="38386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3" name=""/>
          <p:cNvSpPr/>
          <p:nvPr/>
        </p:nvSpPr>
        <p:spPr>
          <a:xfrm>
            <a:off x="414324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4" name=""/>
          <p:cNvSpPr/>
          <p:nvPr/>
        </p:nvSpPr>
        <p:spPr>
          <a:xfrm>
            <a:off x="444816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5" name=""/>
          <p:cNvSpPr/>
          <p:nvPr/>
        </p:nvSpPr>
        <p:spPr>
          <a:xfrm>
            <a:off x="47530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6" name=""/>
          <p:cNvSpPr/>
          <p:nvPr/>
        </p:nvSpPr>
        <p:spPr>
          <a:xfrm>
            <a:off x="505764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7" name=""/>
          <p:cNvSpPr/>
          <p:nvPr/>
        </p:nvSpPr>
        <p:spPr>
          <a:xfrm>
            <a:off x="536256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8" name=""/>
          <p:cNvSpPr/>
          <p:nvPr/>
        </p:nvSpPr>
        <p:spPr>
          <a:xfrm>
            <a:off x="56674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9" name=""/>
          <p:cNvSpPr/>
          <p:nvPr/>
        </p:nvSpPr>
        <p:spPr>
          <a:xfrm>
            <a:off x="597204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0" name=""/>
          <p:cNvSpPr/>
          <p:nvPr/>
        </p:nvSpPr>
        <p:spPr>
          <a:xfrm>
            <a:off x="627696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1" name=""/>
          <p:cNvSpPr/>
          <p:nvPr/>
        </p:nvSpPr>
        <p:spPr>
          <a:xfrm>
            <a:off x="65818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2" name=""/>
          <p:cNvSpPr/>
          <p:nvPr/>
        </p:nvSpPr>
        <p:spPr>
          <a:xfrm>
            <a:off x="688644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3" name=""/>
          <p:cNvSpPr/>
          <p:nvPr/>
        </p:nvSpPr>
        <p:spPr>
          <a:xfrm>
            <a:off x="719136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4" name=""/>
          <p:cNvSpPr/>
          <p:nvPr/>
        </p:nvSpPr>
        <p:spPr>
          <a:xfrm>
            <a:off x="74962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5" name=""/>
          <p:cNvSpPr/>
          <p:nvPr/>
        </p:nvSpPr>
        <p:spPr>
          <a:xfrm>
            <a:off x="312840" y="1044720"/>
            <a:ext cx="255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ntegrity NonStop System Processors (Single or Multicore)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6" name=""/>
          <p:cNvSpPr/>
          <p:nvPr/>
        </p:nvSpPr>
        <p:spPr>
          <a:xfrm>
            <a:off x="3000240" y="259092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7" name=""/>
          <p:cNvSpPr/>
          <p:nvPr/>
        </p:nvSpPr>
        <p:spPr>
          <a:xfrm>
            <a:off x="4295880" y="2590920"/>
            <a:ext cx="304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8" name=""/>
          <p:cNvSpPr/>
          <p:nvPr/>
        </p:nvSpPr>
        <p:spPr>
          <a:xfrm>
            <a:off x="5514840" y="25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6353280" y="259092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0" name=""/>
          <p:cNvSpPr/>
          <p:nvPr/>
        </p:nvSpPr>
        <p:spPr>
          <a:xfrm>
            <a:off x="6033960" y="4114800"/>
            <a:ext cx="119088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1" name=""/>
          <p:cNvSpPr/>
          <p:nvPr/>
        </p:nvSpPr>
        <p:spPr>
          <a:xfrm>
            <a:off x="7377120" y="4114800"/>
            <a:ext cx="119052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2" name=""/>
          <p:cNvSpPr/>
          <p:nvPr/>
        </p:nvSpPr>
        <p:spPr>
          <a:xfrm>
            <a:off x="6075360" y="42084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G4SA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3" name=""/>
          <p:cNvSpPr/>
          <p:nvPr/>
        </p:nvSpPr>
        <p:spPr>
          <a:xfrm>
            <a:off x="6383160" y="493704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4" name=""/>
          <p:cNvSpPr/>
          <p:nvPr/>
        </p:nvSpPr>
        <p:spPr>
          <a:xfrm>
            <a:off x="6554880" y="4930920"/>
            <a:ext cx="0" cy="64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5" name=""/>
          <p:cNvSpPr/>
          <p:nvPr/>
        </p:nvSpPr>
        <p:spPr>
          <a:xfrm>
            <a:off x="6772320" y="493380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6" name=""/>
          <p:cNvSpPr/>
          <p:nvPr/>
        </p:nvSpPr>
        <p:spPr>
          <a:xfrm>
            <a:off x="7716960" y="4933800"/>
            <a:ext cx="0" cy="67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7" name=""/>
          <p:cNvSpPr/>
          <p:nvPr/>
        </p:nvSpPr>
        <p:spPr>
          <a:xfrm>
            <a:off x="7888320" y="4927680"/>
            <a:ext cx="0" cy="67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88" name=""/>
          <p:cNvSpPr/>
          <p:nvPr/>
        </p:nvSpPr>
        <p:spPr>
          <a:xfrm>
            <a:off x="8105760" y="4940280"/>
            <a:ext cx="0" cy="66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645240" y="4930920"/>
            <a:ext cx="1190520" cy="1665000"/>
            <a:chOff x="6645240" y="4930920"/>
            <a:chExt cx="1190520" cy="1665000"/>
          </a:xfrm>
        </p:grpSpPr>
        <p:sp>
          <p:nvSpPr>
            <p:cNvPr id="290" name=""/>
            <p:cNvSpPr/>
            <p:nvPr/>
          </p:nvSpPr>
          <p:spPr>
            <a:xfrm>
              <a:off x="6940440" y="4938840"/>
              <a:ext cx="1440" cy="85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30840" y="4930920"/>
              <a:ext cx="0" cy="86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645240" y="5776920"/>
              <a:ext cx="1190520" cy="38268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30960" y="6188040"/>
              <a:ext cx="0" cy="25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83240" y="6340320"/>
              <a:ext cx="0" cy="25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240320" y="6347880"/>
              <a:ext cx="1285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37040" y="5850000"/>
              <a:ext cx="95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SWAN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006640" y="4075200"/>
            <a:ext cx="119052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8" name=""/>
          <p:cNvSpPr/>
          <p:nvPr/>
        </p:nvSpPr>
        <p:spPr>
          <a:xfrm>
            <a:off x="3349800" y="4075200"/>
            <a:ext cx="119052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99" name=""/>
          <p:cNvSpPr/>
          <p:nvPr/>
        </p:nvSpPr>
        <p:spPr>
          <a:xfrm>
            <a:off x="339840" y="4184640"/>
            <a:ext cx="13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/O Adapter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0" name=""/>
          <p:cNvSpPr/>
          <p:nvPr/>
        </p:nvSpPr>
        <p:spPr>
          <a:xfrm>
            <a:off x="2038320" y="414828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FCSA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1" name=""/>
          <p:cNvSpPr/>
          <p:nvPr/>
        </p:nvSpPr>
        <p:spPr>
          <a:xfrm>
            <a:off x="4280040" y="490860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2" name=""/>
          <p:cNvSpPr/>
          <p:nvPr/>
        </p:nvSpPr>
        <p:spPr>
          <a:xfrm>
            <a:off x="492120" y="5611680"/>
            <a:ext cx="148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Peripheral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3" name=""/>
          <p:cNvSpPr/>
          <p:nvPr/>
        </p:nvSpPr>
        <p:spPr>
          <a:xfrm>
            <a:off x="3349800" y="417204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FCSA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530440" y="3560760"/>
            <a:ext cx="113832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3884400" y="3649680"/>
            <a:ext cx="330120" cy="42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6" name=""/>
          <p:cNvSpPr/>
          <p:nvPr/>
        </p:nvSpPr>
        <p:spPr>
          <a:xfrm>
            <a:off x="7461360" y="4168800"/>
            <a:ext cx="112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G4SA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7" name=""/>
          <p:cNvSpPr/>
          <p:nvPr/>
        </p:nvSpPr>
        <p:spPr>
          <a:xfrm>
            <a:off x="2414520" y="4911840"/>
            <a:ext cx="471600" cy="674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3506760" y="4902120"/>
            <a:ext cx="419040" cy="622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9" name=""/>
          <p:cNvSpPr/>
          <p:nvPr/>
        </p:nvSpPr>
        <p:spPr>
          <a:xfrm>
            <a:off x="2243160" y="4896000"/>
            <a:ext cx="503280" cy="7268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279240" y="4863960"/>
            <a:ext cx="484200" cy="7081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1" name=""/>
          <p:cNvSpPr/>
          <p:nvPr/>
        </p:nvSpPr>
        <p:spPr>
          <a:xfrm>
            <a:off x="2162520" y="588384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C Storag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2" name=""/>
          <p:cNvSpPr/>
          <p:nvPr/>
        </p:nvSpPr>
        <p:spPr>
          <a:xfrm>
            <a:off x="2832120" y="5450040"/>
            <a:ext cx="406440" cy="49500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3" name=""/>
          <p:cNvSpPr/>
          <p:nvPr/>
        </p:nvSpPr>
        <p:spPr>
          <a:xfrm>
            <a:off x="2521080" y="5340240"/>
            <a:ext cx="40644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4" name=""/>
          <p:cNvSpPr/>
          <p:nvPr/>
        </p:nvSpPr>
        <p:spPr>
          <a:xfrm>
            <a:off x="3460680" y="5500800"/>
            <a:ext cx="40644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5" name=""/>
          <p:cNvSpPr/>
          <p:nvPr/>
        </p:nvSpPr>
        <p:spPr>
          <a:xfrm>
            <a:off x="3160800" y="5364000"/>
            <a:ext cx="40644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6" name=""/>
          <p:cNvSpPr/>
          <p:nvPr/>
        </p:nvSpPr>
        <p:spPr>
          <a:xfrm>
            <a:off x="4083120" y="5560920"/>
            <a:ext cx="446040" cy="403200"/>
          </a:xfrm>
          <a:prstGeom prst="flowChartMagneticTap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4662A-FFF7-416C-A959-B8CD4C5565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NonStop system architecture with CLIM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8" name=""/>
          <p:cNvSpPr/>
          <p:nvPr/>
        </p:nvSpPr>
        <p:spPr>
          <a:xfrm>
            <a:off x="3422520" y="3149640"/>
            <a:ext cx="3981600" cy="533520"/>
          </a:xfrm>
          <a:prstGeom prst="ellipse">
            <a:avLst/>
          </a:prstGeom>
          <a:solidFill>
            <a:srgbClr val="64b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19" name=""/>
          <p:cNvSpPr/>
          <p:nvPr/>
        </p:nvSpPr>
        <p:spPr>
          <a:xfrm>
            <a:off x="3270240" y="2997360"/>
            <a:ext cx="3981600" cy="533160"/>
          </a:xfrm>
          <a:prstGeom prst="ellipse">
            <a:avLst/>
          </a:prstGeom>
          <a:solidFill>
            <a:srgbClr val="64b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0" name=""/>
          <p:cNvSpPr/>
          <p:nvPr/>
        </p:nvSpPr>
        <p:spPr>
          <a:xfrm>
            <a:off x="4062960" y="3027240"/>
            <a:ext cx="24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erverNet Switche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1" name=""/>
          <p:cNvSpPr/>
          <p:nvPr/>
        </p:nvSpPr>
        <p:spPr>
          <a:xfrm>
            <a:off x="5994360" y="3664080"/>
            <a:ext cx="552600" cy="442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2" name=""/>
          <p:cNvSpPr/>
          <p:nvPr/>
        </p:nvSpPr>
        <p:spPr>
          <a:xfrm>
            <a:off x="6675480" y="3627360"/>
            <a:ext cx="1311120" cy="501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7179840" y="2590920"/>
            <a:ext cx="392040" cy="56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4" name=""/>
          <p:cNvSpPr/>
          <p:nvPr/>
        </p:nvSpPr>
        <p:spPr>
          <a:xfrm>
            <a:off x="1059480" y="2805120"/>
            <a:ext cx="171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erverN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5" name=""/>
          <p:cNvSpPr/>
          <p:nvPr/>
        </p:nvSpPr>
        <p:spPr>
          <a:xfrm>
            <a:off x="29242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6" name=""/>
          <p:cNvSpPr/>
          <p:nvPr/>
        </p:nvSpPr>
        <p:spPr>
          <a:xfrm>
            <a:off x="322884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7" name=""/>
          <p:cNvSpPr/>
          <p:nvPr/>
        </p:nvSpPr>
        <p:spPr>
          <a:xfrm>
            <a:off x="353376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8" name=""/>
          <p:cNvSpPr/>
          <p:nvPr/>
        </p:nvSpPr>
        <p:spPr>
          <a:xfrm>
            <a:off x="38386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29" name=""/>
          <p:cNvSpPr/>
          <p:nvPr/>
        </p:nvSpPr>
        <p:spPr>
          <a:xfrm>
            <a:off x="414324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0" name=""/>
          <p:cNvSpPr/>
          <p:nvPr/>
        </p:nvSpPr>
        <p:spPr>
          <a:xfrm>
            <a:off x="444816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1" name=""/>
          <p:cNvSpPr/>
          <p:nvPr/>
        </p:nvSpPr>
        <p:spPr>
          <a:xfrm>
            <a:off x="47530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2" name=""/>
          <p:cNvSpPr/>
          <p:nvPr/>
        </p:nvSpPr>
        <p:spPr>
          <a:xfrm>
            <a:off x="505764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3" name=""/>
          <p:cNvSpPr/>
          <p:nvPr/>
        </p:nvSpPr>
        <p:spPr>
          <a:xfrm>
            <a:off x="536256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4" name=""/>
          <p:cNvSpPr/>
          <p:nvPr/>
        </p:nvSpPr>
        <p:spPr>
          <a:xfrm>
            <a:off x="56674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5" name=""/>
          <p:cNvSpPr/>
          <p:nvPr/>
        </p:nvSpPr>
        <p:spPr>
          <a:xfrm>
            <a:off x="597204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6" name=""/>
          <p:cNvSpPr/>
          <p:nvPr/>
        </p:nvSpPr>
        <p:spPr>
          <a:xfrm>
            <a:off x="627696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7" name=""/>
          <p:cNvSpPr/>
          <p:nvPr/>
        </p:nvSpPr>
        <p:spPr>
          <a:xfrm>
            <a:off x="65818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8" name=""/>
          <p:cNvSpPr/>
          <p:nvPr/>
        </p:nvSpPr>
        <p:spPr>
          <a:xfrm>
            <a:off x="688644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9" name=""/>
          <p:cNvSpPr/>
          <p:nvPr/>
        </p:nvSpPr>
        <p:spPr>
          <a:xfrm>
            <a:off x="719136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0" name=""/>
          <p:cNvSpPr/>
          <p:nvPr/>
        </p:nvSpPr>
        <p:spPr>
          <a:xfrm>
            <a:off x="7496280" y="1447920"/>
            <a:ext cx="228600" cy="1125360"/>
          </a:xfrm>
          <a:prstGeom prst="rect">
            <a:avLst/>
          </a:prstGeom>
          <a:solidFill>
            <a:srgbClr val="6e7dde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1" name=""/>
          <p:cNvSpPr/>
          <p:nvPr/>
        </p:nvSpPr>
        <p:spPr>
          <a:xfrm>
            <a:off x="312840" y="1044720"/>
            <a:ext cx="2558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ntegrity NonStop System Processors (Single or Multicore)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2" name=""/>
          <p:cNvSpPr/>
          <p:nvPr/>
        </p:nvSpPr>
        <p:spPr>
          <a:xfrm>
            <a:off x="3000240" y="2590920"/>
            <a:ext cx="533520" cy="533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3" name=""/>
          <p:cNvSpPr/>
          <p:nvPr/>
        </p:nvSpPr>
        <p:spPr>
          <a:xfrm>
            <a:off x="4295880" y="2590920"/>
            <a:ext cx="30456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4" name=""/>
          <p:cNvSpPr/>
          <p:nvPr/>
        </p:nvSpPr>
        <p:spPr>
          <a:xfrm>
            <a:off x="5514840" y="2590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6353280" y="2590920"/>
            <a:ext cx="3045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6" name=""/>
          <p:cNvSpPr/>
          <p:nvPr/>
        </p:nvSpPr>
        <p:spPr>
          <a:xfrm>
            <a:off x="6033960" y="4114800"/>
            <a:ext cx="119088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7" name=""/>
          <p:cNvSpPr/>
          <p:nvPr/>
        </p:nvSpPr>
        <p:spPr>
          <a:xfrm>
            <a:off x="7377120" y="4114800"/>
            <a:ext cx="119052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8" name=""/>
          <p:cNvSpPr/>
          <p:nvPr/>
        </p:nvSpPr>
        <p:spPr>
          <a:xfrm>
            <a:off x="6075360" y="42084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IP CLIM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49" name=""/>
          <p:cNvSpPr/>
          <p:nvPr/>
        </p:nvSpPr>
        <p:spPr>
          <a:xfrm>
            <a:off x="6197760" y="493380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0" name=""/>
          <p:cNvSpPr/>
          <p:nvPr/>
        </p:nvSpPr>
        <p:spPr>
          <a:xfrm>
            <a:off x="6383160" y="493704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1" name=""/>
          <p:cNvSpPr/>
          <p:nvPr/>
        </p:nvSpPr>
        <p:spPr>
          <a:xfrm>
            <a:off x="6554880" y="4930920"/>
            <a:ext cx="0" cy="645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2" name=""/>
          <p:cNvSpPr/>
          <p:nvPr/>
        </p:nvSpPr>
        <p:spPr>
          <a:xfrm>
            <a:off x="6772320" y="493380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3" name=""/>
          <p:cNvSpPr/>
          <p:nvPr/>
        </p:nvSpPr>
        <p:spPr>
          <a:xfrm>
            <a:off x="8307360" y="494820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4" name=""/>
          <p:cNvSpPr/>
          <p:nvPr/>
        </p:nvSpPr>
        <p:spPr>
          <a:xfrm>
            <a:off x="7716960" y="4933800"/>
            <a:ext cx="0" cy="67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5" name=""/>
          <p:cNvSpPr/>
          <p:nvPr/>
        </p:nvSpPr>
        <p:spPr>
          <a:xfrm>
            <a:off x="7888320" y="4927680"/>
            <a:ext cx="0" cy="674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56" name=""/>
          <p:cNvSpPr/>
          <p:nvPr/>
        </p:nvSpPr>
        <p:spPr>
          <a:xfrm>
            <a:off x="8105760" y="4940280"/>
            <a:ext cx="0" cy="66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6645240" y="4930920"/>
            <a:ext cx="1190520" cy="1665000"/>
            <a:chOff x="6645240" y="4930920"/>
            <a:chExt cx="1190520" cy="1665000"/>
          </a:xfrm>
        </p:grpSpPr>
        <p:sp>
          <p:nvSpPr>
            <p:cNvPr id="358" name=""/>
            <p:cNvSpPr/>
            <p:nvPr/>
          </p:nvSpPr>
          <p:spPr>
            <a:xfrm>
              <a:off x="6940440" y="4938840"/>
              <a:ext cx="1440" cy="85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30840" y="4930920"/>
              <a:ext cx="0" cy="86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45240" y="5776920"/>
              <a:ext cx="1190520" cy="382680"/>
            </a:xfrm>
            <a:prstGeom prst="rect">
              <a:avLst/>
            </a:prstGeom>
            <a:solidFill>
              <a:srgbClr val="0071b5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30960" y="6188040"/>
              <a:ext cx="0" cy="25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83240" y="6340320"/>
              <a:ext cx="0" cy="255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40320" y="6347880"/>
              <a:ext cx="128520" cy="87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37040" y="5850000"/>
              <a:ext cx="95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Futura Bk"/>
                </a:rPr>
                <a:t>SWAN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2006640" y="4075200"/>
            <a:ext cx="119052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6" name=""/>
          <p:cNvSpPr/>
          <p:nvPr/>
        </p:nvSpPr>
        <p:spPr>
          <a:xfrm>
            <a:off x="3349800" y="4075200"/>
            <a:ext cx="1190520" cy="811080"/>
          </a:xfrm>
          <a:prstGeom prst="rect">
            <a:avLst/>
          </a:prstGeom>
          <a:solidFill>
            <a:srgbClr val="0071b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7" name=""/>
          <p:cNvSpPr/>
          <p:nvPr/>
        </p:nvSpPr>
        <p:spPr>
          <a:xfrm>
            <a:off x="339840" y="4184640"/>
            <a:ext cx="13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I/O Adapter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8" name=""/>
          <p:cNvSpPr/>
          <p:nvPr/>
        </p:nvSpPr>
        <p:spPr>
          <a:xfrm>
            <a:off x="2038320" y="4148280"/>
            <a:ext cx="10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torage CLIM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69" name=""/>
          <p:cNvSpPr/>
          <p:nvPr/>
        </p:nvSpPr>
        <p:spPr>
          <a:xfrm>
            <a:off x="4280040" y="4908600"/>
            <a:ext cx="0" cy="64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0" name=""/>
          <p:cNvSpPr/>
          <p:nvPr/>
        </p:nvSpPr>
        <p:spPr>
          <a:xfrm>
            <a:off x="492120" y="5611680"/>
            <a:ext cx="148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Peripherals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1" name=""/>
          <p:cNvSpPr/>
          <p:nvPr/>
        </p:nvSpPr>
        <p:spPr>
          <a:xfrm>
            <a:off x="3349800" y="4172040"/>
            <a:ext cx="10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Storage CLIM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2530440" y="3560760"/>
            <a:ext cx="1138320" cy="517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884400" y="3649680"/>
            <a:ext cx="330120" cy="42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4" name=""/>
          <p:cNvSpPr/>
          <p:nvPr/>
        </p:nvSpPr>
        <p:spPr>
          <a:xfrm>
            <a:off x="7461360" y="4168800"/>
            <a:ext cx="112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Bk"/>
              </a:rPr>
              <a:t>IP CLIM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5" name=""/>
          <p:cNvSpPr/>
          <p:nvPr/>
        </p:nvSpPr>
        <p:spPr>
          <a:xfrm>
            <a:off x="2414520" y="4911840"/>
            <a:ext cx="471600" cy="6746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506760" y="4902120"/>
            <a:ext cx="419040" cy="6224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7" name=""/>
          <p:cNvSpPr/>
          <p:nvPr/>
        </p:nvSpPr>
        <p:spPr>
          <a:xfrm>
            <a:off x="2243160" y="4896000"/>
            <a:ext cx="503280" cy="7268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3279240" y="4863960"/>
            <a:ext cx="484200" cy="7081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79" name=""/>
          <p:cNvSpPr/>
          <p:nvPr/>
        </p:nvSpPr>
        <p:spPr>
          <a:xfrm>
            <a:off x="1895760" y="5883840"/>
            <a:ext cx="201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SAS/FC Storag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0" name=""/>
          <p:cNvSpPr/>
          <p:nvPr/>
        </p:nvSpPr>
        <p:spPr>
          <a:xfrm>
            <a:off x="2832120" y="5450040"/>
            <a:ext cx="406440" cy="49500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1" name=""/>
          <p:cNvSpPr/>
          <p:nvPr/>
        </p:nvSpPr>
        <p:spPr>
          <a:xfrm>
            <a:off x="2521080" y="5340240"/>
            <a:ext cx="40644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2" name=""/>
          <p:cNvSpPr/>
          <p:nvPr/>
        </p:nvSpPr>
        <p:spPr>
          <a:xfrm>
            <a:off x="3460680" y="5500800"/>
            <a:ext cx="40644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3" name=""/>
          <p:cNvSpPr/>
          <p:nvPr/>
        </p:nvSpPr>
        <p:spPr>
          <a:xfrm>
            <a:off x="3160800" y="5364000"/>
            <a:ext cx="406440" cy="495360"/>
          </a:xfrm>
          <a:prstGeom prst="can">
            <a:avLst>
              <a:gd name="adj" fmla="val 25000"/>
            </a:avLst>
          </a:prstGeom>
          <a:solidFill>
            <a:srgbClr val="cc00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4" name=""/>
          <p:cNvSpPr/>
          <p:nvPr/>
        </p:nvSpPr>
        <p:spPr>
          <a:xfrm>
            <a:off x="4083120" y="5560920"/>
            <a:ext cx="446040" cy="403200"/>
          </a:xfrm>
          <a:prstGeom prst="flowChartMagneticTap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1710F-26CC-4BBF-BA8F-1C1B314372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Why CLIMs?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99600" y="1447920"/>
            <a:ext cx="8272440" cy="4914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1b5"/>
                </a:solidFill>
                <a:latin typeface="Arial"/>
              </a:rPr>
              <a:t>IOAME/VIO/FCSA/G4SA</a:t>
            </a:r>
            <a:endParaRPr b="0" lang="en-US" sz="28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624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rietary Hardware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624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rietary Software (embedded on adapter)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624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very new protocol for Storage and Networking, new interface technology and software needs to be developed by the NonStop Enterprise Division.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indent="0">
              <a:lnSpc>
                <a:spcPct val="7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1b5"/>
                </a:solidFill>
                <a:latin typeface="Arial"/>
              </a:rPr>
              <a:t>IP and Network CLIM</a:t>
            </a:r>
            <a:endParaRPr b="0" lang="en-US" sz="28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624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tandards Hardware       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624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Standards Software (Debian Linux Operating system including I/O stacks)  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624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deploy new software and hardware technologies very easily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100000"/>
              </a:lnSpc>
              <a:spcAft>
                <a:spcPts val="624"/>
              </a:spcAft>
              <a:buClr>
                <a:srgbClr val="6e6f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Stop Enterprise Division needs only to develop/maintain interface hardware/software between NonStop OS and CLIMs.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6E8D9-D9B0-4760-90B4-7192102F98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System Comparison — Hardware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336600" y="1104840"/>
          <a:ext cx="8744040" cy="4919760"/>
        </p:xfrm>
        <a:graphic>
          <a:graphicData uri="http://schemas.openxmlformats.org/drawingml/2006/table">
            <a:tbl>
              <a:tblPr/>
              <a:tblGrid>
                <a:gridCol w="2529000"/>
                <a:gridCol w="2071440"/>
                <a:gridCol w="2071800"/>
                <a:gridCol w="20718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S Bl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S162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S2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S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SA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S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Processor mo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bl860c bla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rx4640-NED 5U sl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rx2660 2U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Processor redunda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, through LS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Multicore 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, 2-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, 2-w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Logical CPUs per no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2 to 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2 to 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2 or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Memory per CP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8 to 48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4, 8 or 16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8 or 16 G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erverNet swi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HP ServerNet SW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P-Switch mo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VIO modu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IO infrastru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CLIM, IO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IOAM, CLI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VIO module, CLIM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(No FCSA in V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Storage op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MSA70, FC tape, XP, SAS ta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FCDM, XP, FC ta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MSA70, XP, FC tape, SAS ta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Cluster sup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1c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Futura Bk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Futura B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A52AA-10AF-48AB-8ABD-CDE94CBAC8C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3"/>
          <p:cNvSpPr/>
          <p:nvPr/>
        </p:nvSpPr>
        <p:spPr>
          <a:xfrm>
            <a:off x="438120" y="6550200"/>
            <a:ext cx="38736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8CD62-D3EA-4298-8672-126A80DE0847}" type="slidenum">
              <a:rPr b="0" lang="en-US" sz="900" spc="-1" strike="noStrike">
                <a:solidFill>
                  <a:srgbClr val="848589"/>
                </a:solidFill>
                <a:latin typeface="Futura Bk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0" name="Rectangle 14"/>
          <p:cNvSpPr/>
          <p:nvPr/>
        </p:nvSpPr>
        <p:spPr>
          <a:xfrm>
            <a:off x="836640" y="6550200"/>
            <a:ext cx="1441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250D-C998-4AD3-8B12-18A94B8CCB5D}" type="datetime3">
              <a:rPr b="0" lang="en-US" sz="900" spc="-1" strike="noStrike">
                <a:solidFill>
                  <a:srgbClr val="848589"/>
                </a:solidFill>
                <a:latin typeface="Futura Bk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4113000" y="1428840"/>
            <a:ext cx="56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Hv"/>
              </a:rPr>
              <a:t>CPU 3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3692520" y="1679400"/>
            <a:ext cx="1409760" cy="2735280"/>
          </a:xfrm>
          <a:prstGeom prst="rect">
            <a:avLst/>
          </a:prstGeom>
          <a:solidFill>
            <a:srgbClr val="cbc9bd"/>
          </a:solidFill>
          <a:ln w="0">
            <a:noFill/>
          </a:ln>
          <a:effectLst>
            <a:outerShdw dist="17819" dir="2700000" blurRad="0" rotWithShape="0">
              <a:srgbClr val="7a7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794040" y="1865160"/>
            <a:ext cx="1206720" cy="1554120"/>
          </a:xfrm>
          <a:prstGeom prst="rect">
            <a:avLst/>
          </a:prstGeom>
          <a:solidFill>
            <a:srgbClr val="7b7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Hv"/>
              </a:rPr>
              <a:t>Intel Itanium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Hv"/>
              </a:rPr>
              <a:t>9100 Serie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4" name="Rectangle 5"/>
          <p:cNvSpPr/>
          <p:nvPr/>
        </p:nvSpPr>
        <p:spPr>
          <a:xfrm>
            <a:off x="3794040" y="3879720"/>
            <a:ext cx="1206720" cy="503280"/>
          </a:xfrm>
          <a:prstGeom prst="rect">
            <a:avLst/>
          </a:prstGeom>
          <a:solidFill>
            <a:srgbClr val="64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Hv"/>
              </a:rPr>
              <a:t>SNet Interface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3794040" y="3146400"/>
            <a:ext cx="1206720" cy="64944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Hv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396" name="Group 7"/>
          <p:cNvGrpSpPr/>
          <p:nvPr/>
        </p:nvGrpSpPr>
        <p:grpSpPr>
          <a:xfrm>
            <a:off x="3946680" y="2251080"/>
            <a:ext cx="901440" cy="384120"/>
            <a:chOff x="3946680" y="2251080"/>
            <a:chExt cx="901440" cy="384120"/>
          </a:xfrm>
        </p:grpSpPr>
        <p:sp>
          <p:nvSpPr>
            <p:cNvPr id="397" name="Rectangle 66"/>
            <p:cNvSpPr/>
            <p:nvPr/>
          </p:nvSpPr>
          <p:spPr>
            <a:xfrm>
              <a:off x="4437000" y="2251080"/>
              <a:ext cx="411120" cy="384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Hv"/>
                </a:rPr>
                <a:t>Core 1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398" name="Rectangle 84"/>
            <p:cNvSpPr/>
            <p:nvPr/>
          </p:nvSpPr>
          <p:spPr>
            <a:xfrm>
              <a:off x="3946680" y="2251080"/>
              <a:ext cx="411120" cy="384120"/>
            </a:xfrm>
            <a:prstGeom prst="rect">
              <a:avLst/>
            </a:prstGeom>
            <a:solidFill>
              <a:srgbClr val="eb5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Hv"/>
                </a:rPr>
                <a:t>Core 0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399" name="Rectangle 10"/>
          <p:cNvSpPr/>
          <p:nvPr/>
        </p:nvSpPr>
        <p:spPr>
          <a:xfrm>
            <a:off x="3971880" y="4073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69720" y="0"/>
            <a:ext cx="7971120" cy="9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utura Bk"/>
              </a:rPr>
              <a:t>HP NonStop Multicore Architecture (NSMA) With NS2000</a:t>
            </a:r>
            <a:endParaRPr b="0" lang="en-US" sz="2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01" name="Picture 12" descr=""/>
          <p:cNvPicPr/>
          <p:nvPr/>
        </p:nvPicPr>
        <p:blipFill>
          <a:blip r:embed="rId1"/>
          <a:stretch/>
        </p:blipFill>
        <p:spPr>
          <a:xfrm>
            <a:off x="366840" y="979560"/>
            <a:ext cx="2228760" cy="540864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13"/>
          <p:cNvSpPr/>
          <p:nvPr/>
        </p:nvSpPr>
        <p:spPr>
          <a:xfrm>
            <a:off x="1557360" y="55101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1557360" y="506556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1557360" y="46213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1557360" y="41767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6" name="Rectangle 17"/>
          <p:cNvSpPr/>
          <p:nvPr/>
        </p:nvSpPr>
        <p:spPr>
          <a:xfrm>
            <a:off x="2689200" y="5708520"/>
            <a:ext cx="1409760" cy="736560"/>
          </a:xfrm>
          <a:prstGeom prst="rect">
            <a:avLst/>
          </a:prstGeom>
          <a:solidFill>
            <a:srgbClr val="64b900"/>
          </a:solidFill>
          <a:ln w="0">
            <a:noFill/>
          </a:ln>
          <a:effectLst>
            <a:outerShdw dist="17819" dir="2700000" blurRad="0" rotWithShape="0">
              <a:srgbClr val="3c6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Futura Hv"/>
              </a:rPr>
              <a:t>VIO /ServerNet</a:t>
            </a: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7" name="Rectangle 22"/>
          <p:cNvSpPr/>
          <p:nvPr/>
        </p:nvSpPr>
        <p:spPr>
          <a:xfrm>
            <a:off x="4944960" y="2092320"/>
            <a:ext cx="157320" cy="2322360"/>
          </a:xfrm>
          <a:prstGeom prst="rect">
            <a:avLst/>
          </a:prstGeom>
          <a:solidFill>
            <a:srgbClr val="4e4e4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8" name="Rectangle 23"/>
          <p:cNvSpPr/>
          <p:nvPr/>
        </p:nvSpPr>
        <p:spPr>
          <a:xfrm>
            <a:off x="5395680" y="1857240"/>
            <a:ext cx="56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Hv"/>
              </a:rPr>
              <a:t>CPU 2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09" name="Rectangle 24"/>
          <p:cNvSpPr/>
          <p:nvPr/>
        </p:nvSpPr>
        <p:spPr>
          <a:xfrm>
            <a:off x="4975200" y="2122560"/>
            <a:ext cx="1409760" cy="2735280"/>
          </a:xfrm>
          <a:prstGeom prst="rect">
            <a:avLst/>
          </a:prstGeom>
          <a:solidFill>
            <a:srgbClr val="cbc9bd"/>
          </a:solidFill>
          <a:ln w="0">
            <a:noFill/>
          </a:ln>
          <a:effectLst>
            <a:outerShdw dist="17819" dir="2700000" blurRad="0" rotWithShape="0">
              <a:srgbClr val="7a7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0" name="Rectangle 25"/>
          <p:cNvSpPr/>
          <p:nvPr/>
        </p:nvSpPr>
        <p:spPr>
          <a:xfrm>
            <a:off x="5076720" y="2308320"/>
            <a:ext cx="1206720" cy="1554120"/>
          </a:xfrm>
          <a:prstGeom prst="rect">
            <a:avLst/>
          </a:prstGeom>
          <a:solidFill>
            <a:srgbClr val="7b7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Hv"/>
              </a:rPr>
              <a:t>Intel Itanium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Hv"/>
              </a:rPr>
              <a:t>9100 Serie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1" name="Rectangle 26"/>
          <p:cNvSpPr/>
          <p:nvPr/>
        </p:nvSpPr>
        <p:spPr>
          <a:xfrm>
            <a:off x="5076720" y="4308480"/>
            <a:ext cx="1206720" cy="460440"/>
          </a:xfrm>
          <a:prstGeom prst="rect">
            <a:avLst/>
          </a:prstGeom>
          <a:solidFill>
            <a:srgbClr val="64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Hv"/>
              </a:rPr>
              <a:t>SNet Interface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2" name="Rectangle 27"/>
          <p:cNvSpPr/>
          <p:nvPr/>
        </p:nvSpPr>
        <p:spPr>
          <a:xfrm>
            <a:off x="5076720" y="3589200"/>
            <a:ext cx="1206720" cy="64944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Hv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413" name="Group 28"/>
          <p:cNvGrpSpPr/>
          <p:nvPr/>
        </p:nvGrpSpPr>
        <p:grpSpPr>
          <a:xfrm>
            <a:off x="5229360" y="2693880"/>
            <a:ext cx="901080" cy="384120"/>
            <a:chOff x="5229360" y="2693880"/>
            <a:chExt cx="901080" cy="384120"/>
          </a:xfrm>
        </p:grpSpPr>
        <p:sp>
          <p:nvSpPr>
            <p:cNvPr id="414" name="Rectangle 66"/>
            <p:cNvSpPr/>
            <p:nvPr/>
          </p:nvSpPr>
          <p:spPr>
            <a:xfrm>
              <a:off x="5719680" y="2693880"/>
              <a:ext cx="410760" cy="384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Hv"/>
                </a:rPr>
                <a:t>Core 1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15" name="Rectangle 84"/>
            <p:cNvSpPr/>
            <p:nvPr/>
          </p:nvSpPr>
          <p:spPr>
            <a:xfrm>
              <a:off x="5229360" y="2693880"/>
              <a:ext cx="410760" cy="384120"/>
            </a:xfrm>
            <a:prstGeom prst="rect">
              <a:avLst/>
            </a:prstGeom>
            <a:solidFill>
              <a:srgbClr val="eb5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Hv"/>
                </a:rPr>
                <a:t>Core 0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416" name="Rectangle 35"/>
          <p:cNvSpPr/>
          <p:nvPr/>
        </p:nvSpPr>
        <p:spPr>
          <a:xfrm>
            <a:off x="6227640" y="2535120"/>
            <a:ext cx="157320" cy="2322720"/>
          </a:xfrm>
          <a:prstGeom prst="rect">
            <a:avLst/>
          </a:prstGeom>
          <a:solidFill>
            <a:srgbClr val="4e4e4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7" name="Rectangle 36"/>
          <p:cNvSpPr/>
          <p:nvPr/>
        </p:nvSpPr>
        <p:spPr>
          <a:xfrm>
            <a:off x="6675120" y="2314440"/>
            <a:ext cx="56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Hv"/>
              </a:rPr>
              <a:t>CPU 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8" name="Rectangle 37"/>
          <p:cNvSpPr/>
          <p:nvPr/>
        </p:nvSpPr>
        <p:spPr>
          <a:xfrm>
            <a:off x="6254640" y="2565360"/>
            <a:ext cx="1409760" cy="2735280"/>
          </a:xfrm>
          <a:prstGeom prst="rect">
            <a:avLst/>
          </a:prstGeom>
          <a:solidFill>
            <a:srgbClr val="cbc9bd"/>
          </a:solidFill>
          <a:ln w="0">
            <a:noFill/>
          </a:ln>
          <a:effectLst>
            <a:outerShdw dist="17819" dir="2700000" blurRad="0" rotWithShape="0">
              <a:srgbClr val="7a7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19" name="Rectangle 38"/>
          <p:cNvSpPr/>
          <p:nvPr/>
        </p:nvSpPr>
        <p:spPr>
          <a:xfrm>
            <a:off x="6356520" y="2751120"/>
            <a:ext cx="1206360" cy="1554120"/>
          </a:xfrm>
          <a:prstGeom prst="rect">
            <a:avLst/>
          </a:prstGeom>
          <a:solidFill>
            <a:srgbClr val="7b7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Hv"/>
              </a:rPr>
              <a:t>Intel Itanium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Hv"/>
              </a:rPr>
              <a:t>9100 Serie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0" name="Rectangle 39"/>
          <p:cNvSpPr/>
          <p:nvPr/>
        </p:nvSpPr>
        <p:spPr>
          <a:xfrm>
            <a:off x="6313320" y="4737240"/>
            <a:ext cx="1206720" cy="474480"/>
          </a:xfrm>
          <a:prstGeom prst="rect">
            <a:avLst/>
          </a:prstGeom>
          <a:solidFill>
            <a:srgbClr val="64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Hv"/>
              </a:rPr>
              <a:t>SNet Interface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1" name="Rectangle 40"/>
          <p:cNvSpPr/>
          <p:nvPr/>
        </p:nvSpPr>
        <p:spPr>
          <a:xfrm>
            <a:off x="6356520" y="4032360"/>
            <a:ext cx="1206360" cy="64908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Hv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422" name="Group 41"/>
          <p:cNvGrpSpPr/>
          <p:nvPr/>
        </p:nvGrpSpPr>
        <p:grpSpPr>
          <a:xfrm>
            <a:off x="6508800" y="3137040"/>
            <a:ext cx="901800" cy="384120"/>
            <a:chOff x="6508800" y="3137040"/>
            <a:chExt cx="901800" cy="384120"/>
          </a:xfrm>
        </p:grpSpPr>
        <p:sp>
          <p:nvSpPr>
            <p:cNvPr id="423" name="Rectangle 66"/>
            <p:cNvSpPr/>
            <p:nvPr/>
          </p:nvSpPr>
          <p:spPr>
            <a:xfrm>
              <a:off x="6999480" y="3137040"/>
              <a:ext cx="411120" cy="384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Hv"/>
                </a:rPr>
                <a:t>Core 1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24" name="Rectangle 84"/>
            <p:cNvSpPr/>
            <p:nvPr/>
          </p:nvSpPr>
          <p:spPr>
            <a:xfrm>
              <a:off x="6508800" y="3137040"/>
              <a:ext cx="411120" cy="384120"/>
            </a:xfrm>
            <a:prstGeom prst="rect">
              <a:avLst/>
            </a:prstGeom>
            <a:solidFill>
              <a:srgbClr val="eb5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Hv"/>
                </a:rPr>
                <a:t>Core 0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sp>
        <p:nvSpPr>
          <p:cNvPr id="425" name="Rectangle 44"/>
          <p:cNvSpPr/>
          <p:nvPr/>
        </p:nvSpPr>
        <p:spPr>
          <a:xfrm>
            <a:off x="7505640" y="2978280"/>
            <a:ext cx="157320" cy="2322360"/>
          </a:xfrm>
          <a:prstGeom prst="rect">
            <a:avLst/>
          </a:prstGeom>
          <a:solidFill>
            <a:srgbClr val="4e4e4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6" name="Rectangle 45"/>
          <p:cNvSpPr/>
          <p:nvPr/>
        </p:nvSpPr>
        <p:spPr>
          <a:xfrm>
            <a:off x="7964280" y="2771640"/>
            <a:ext cx="567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Hv"/>
              </a:rPr>
              <a:t>CPU 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7" name="Rectangle 46"/>
          <p:cNvSpPr/>
          <p:nvPr/>
        </p:nvSpPr>
        <p:spPr>
          <a:xfrm>
            <a:off x="7543800" y="3008160"/>
            <a:ext cx="1409760" cy="2735280"/>
          </a:xfrm>
          <a:prstGeom prst="rect">
            <a:avLst/>
          </a:prstGeom>
          <a:solidFill>
            <a:srgbClr val="cbc9bd"/>
          </a:solidFill>
          <a:ln w="0">
            <a:noFill/>
          </a:ln>
          <a:effectLst>
            <a:outerShdw dist="17819" dir="2700000" blurRad="0" rotWithShape="0">
              <a:srgbClr val="7a79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8" name="Rectangle 47"/>
          <p:cNvSpPr/>
          <p:nvPr/>
        </p:nvSpPr>
        <p:spPr>
          <a:xfrm>
            <a:off x="7645320" y="3193920"/>
            <a:ext cx="1206720" cy="1554120"/>
          </a:xfrm>
          <a:prstGeom prst="rect">
            <a:avLst/>
          </a:prstGeom>
          <a:solidFill>
            <a:srgbClr val="7b7b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Hv"/>
              </a:rPr>
              <a:t>Intel Itanium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Hv"/>
              </a:rPr>
              <a:t>9100 Series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29" name="Rectangle 48"/>
          <p:cNvSpPr/>
          <p:nvPr/>
        </p:nvSpPr>
        <p:spPr>
          <a:xfrm>
            <a:off x="7645320" y="5164200"/>
            <a:ext cx="1206720" cy="503280"/>
          </a:xfrm>
          <a:prstGeom prst="rect">
            <a:avLst/>
          </a:prstGeom>
          <a:solidFill>
            <a:srgbClr val="64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Hv"/>
              </a:rPr>
              <a:t>SNet Interface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30" name="Rectangle 49"/>
          <p:cNvSpPr/>
          <p:nvPr/>
        </p:nvSpPr>
        <p:spPr>
          <a:xfrm>
            <a:off x="7645320" y="4475160"/>
            <a:ext cx="1206720" cy="64944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91440" bIns="9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Futura Hv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grpSp>
        <p:nvGrpSpPr>
          <p:cNvPr id="431" name="Group 50"/>
          <p:cNvGrpSpPr/>
          <p:nvPr/>
        </p:nvGrpSpPr>
        <p:grpSpPr>
          <a:xfrm>
            <a:off x="7797960" y="3579840"/>
            <a:ext cx="901080" cy="384120"/>
            <a:chOff x="7797960" y="3579840"/>
            <a:chExt cx="901080" cy="384120"/>
          </a:xfrm>
        </p:grpSpPr>
        <p:sp>
          <p:nvSpPr>
            <p:cNvPr id="432" name="Rectangle 66"/>
            <p:cNvSpPr/>
            <p:nvPr/>
          </p:nvSpPr>
          <p:spPr>
            <a:xfrm>
              <a:off x="8288280" y="3579840"/>
              <a:ext cx="410760" cy="3841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Hv"/>
                </a:rPr>
                <a:t>Core 1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sp>
          <p:nvSpPr>
            <p:cNvPr id="433" name="Rectangle 84"/>
            <p:cNvSpPr/>
            <p:nvPr/>
          </p:nvSpPr>
          <p:spPr>
            <a:xfrm>
              <a:off x="7797960" y="3579840"/>
              <a:ext cx="410760" cy="384120"/>
            </a:xfrm>
            <a:prstGeom prst="rect">
              <a:avLst/>
            </a:prstGeom>
            <a:solidFill>
              <a:srgbClr val="eb5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5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Futura Hv"/>
                </a:rPr>
                <a:t>Core 0</a:t>
              </a:r>
              <a:endParaRPr b="0" lang="en-US" sz="1600" spc="-1" strike="noStrike">
                <a:solidFill>
                  <a:srgbClr val="000000"/>
                </a:solidFill>
                <a:latin typeface="Futura Bk"/>
              </a:endParaRPr>
            </a:p>
          </p:txBody>
        </p:sp>
      </p:grpSp>
      <p:cxnSp>
        <p:nvCxnSpPr>
          <p:cNvPr id="434" name="AutoShape 53"/>
          <p:cNvCxnSpPr>
            <a:stCxn id="406" idx="3"/>
            <a:endCxn id="394" idx="2"/>
          </p:cNvCxnSpPr>
          <p:nvPr/>
        </p:nvCxnSpPr>
        <p:spPr>
          <a:xfrm flipV="1">
            <a:off x="4098600" y="4382280"/>
            <a:ext cx="299160" cy="1694520"/>
          </a:xfrm>
          <a:prstGeom prst="bentConnector2">
            <a:avLst/>
          </a:prstGeom>
          <a:ln w="28440">
            <a:solidFill>
              <a:srgbClr val="7b7b79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435" name="AutoShape 54"/>
          <p:cNvCxnSpPr>
            <a:stCxn id="406" idx="3"/>
            <a:endCxn id="420" idx="2"/>
          </p:cNvCxnSpPr>
          <p:nvPr/>
        </p:nvCxnSpPr>
        <p:spPr>
          <a:xfrm flipV="1">
            <a:off x="4098600" y="5211000"/>
            <a:ext cx="2818440" cy="865800"/>
          </a:xfrm>
          <a:prstGeom prst="bentConnector2">
            <a:avLst/>
          </a:prstGeom>
          <a:ln w="28440">
            <a:solidFill>
              <a:srgbClr val="7b7b79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436" name="AutoShape 55"/>
          <p:cNvCxnSpPr>
            <a:stCxn id="406" idx="3"/>
            <a:endCxn id="429" idx="2"/>
          </p:cNvCxnSpPr>
          <p:nvPr/>
        </p:nvCxnSpPr>
        <p:spPr>
          <a:xfrm flipV="1">
            <a:off x="4098600" y="5666760"/>
            <a:ext cx="4150440" cy="410040"/>
          </a:xfrm>
          <a:prstGeom prst="bentConnector2">
            <a:avLst/>
          </a:prstGeom>
          <a:ln w="28440">
            <a:solidFill>
              <a:srgbClr val="7b7b79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437" name="AutoShape 56"/>
          <p:cNvCxnSpPr>
            <a:stCxn id="406" idx="3"/>
            <a:endCxn id="411" idx="2"/>
          </p:cNvCxnSpPr>
          <p:nvPr/>
        </p:nvCxnSpPr>
        <p:spPr>
          <a:xfrm flipV="1">
            <a:off x="4098960" y="4768200"/>
            <a:ext cx="1581840" cy="1308600"/>
          </a:xfrm>
          <a:prstGeom prst="bentConnector2">
            <a:avLst/>
          </a:prstGeom>
          <a:ln w="28440">
            <a:solidFill>
              <a:srgbClr val="7b7b79"/>
            </a:solidFill>
            <a:miter/>
            <a:headEnd len="lg" type="triangle" w="lg"/>
            <a:tailEnd len="lg" type="triangle" w="lg"/>
          </a:ln>
        </p:spPr>
      </p:cxnSp>
      <p:cxnSp>
        <p:nvCxnSpPr>
          <p:cNvPr id="438" name="AutoShape 31"/>
          <p:cNvCxnSpPr>
            <a:stCxn id="403" idx="3"/>
            <a:endCxn id="419" idx="1"/>
          </p:cNvCxnSpPr>
          <p:nvPr/>
        </p:nvCxnSpPr>
        <p:spPr>
          <a:xfrm flipV="1">
            <a:off x="1741320" y="3407760"/>
            <a:ext cx="4615920" cy="1826280"/>
          </a:xfrm>
          <a:prstGeom prst="straightConnector1">
            <a:avLst/>
          </a:prstGeom>
          <a:ln w="38160">
            <a:solidFill>
              <a:srgbClr val="ac7b00"/>
            </a:solidFill>
            <a:prstDash val="dash"/>
            <a:miter/>
            <a:tailEnd len="med" type="triangle" w="med"/>
          </a:ln>
        </p:spPr>
      </p:cxnSp>
      <p:cxnSp>
        <p:nvCxnSpPr>
          <p:cNvPr id="439" name="AutoShape 32"/>
          <p:cNvCxnSpPr>
            <a:stCxn id="402" idx="3"/>
            <a:endCxn id="428" idx="1"/>
          </p:cNvCxnSpPr>
          <p:nvPr/>
        </p:nvCxnSpPr>
        <p:spPr>
          <a:xfrm flipV="1">
            <a:off x="1741320" y="3850920"/>
            <a:ext cx="5904720" cy="1828080"/>
          </a:xfrm>
          <a:prstGeom prst="straightConnector1">
            <a:avLst/>
          </a:prstGeom>
          <a:ln w="38160">
            <a:solidFill>
              <a:srgbClr val="ac7b00"/>
            </a:solidFill>
            <a:prstDash val="dash"/>
            <a:miter/>
            <a:tailEnd len="med" type="triangle" w="med"/>
          </a:ln>
        </p:spPr>
      </p:cxnSp>
      <p:cxnSp>
        <p:nvCxnSpPr>
          <p:cNvPr id="440" name="AutoShape 33"/>
          <p:cNvCxnSpPr>
            <a:stCxn id="405" idx="3"/>
            <a:endCxn id="393" idx="1"/>
          </p:cNvCxnSpPr>
          <p:nvPr/>
        </p:nvCxnSpPr>
        <p:spPr>
          <a:xfrm flipV="1">
            <a:off x="1741320" y="2522160"/>
            <a:ext cx="2053080" cy="1823040"/>
          </a:xfrm>
          <a:prstGeom prst="straightConnector1">
            <a:avLst/>
          </a:prstGeom>
          <a:ln w="38160">
            <a:solidFill>
              <a:srgbClr val="ac7b00"/>
            </a:solidFill>
            <a:prstDash val="dash"/>
            <a:miter/>
            <a:tailEnd len="med" type="triangle" w="med"/>
          </a:ln>
        </p:spPr>
      </p:cxnSp>
      <p:cxnSp>
        <p:nvCxnSpPr>
          <p:cNvPr id="441" name="AutoShape 34"/>
          <p:cNvCxnSpPr>
            <a:stCxn id="404" idx="3"/>
            <a:endCxn id="410" idx="1"/>
          </p:cNvCxnSpPr>
          <p:nvPr/>
        </p:nvCxnSpPr>
        <p:spPr>
          <a:xfrm flipV="1">
            <a:off x="1740960" y="2964600"/>
            <a:ext cx="3336120" cy="1824840"/>
          </a:xfrm>
          <a:prstGeom prst="straightConnector1">
            <a:avLst/>
          </a:prstGeom>
          <a:ln w="38160">
            <a:solidFill>
              <a:srgbClr val="ac7b00"/>
            </a:solidFill>
            <a:prstDash val="dash"/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E4B0F-07F8-4718-A80F-37366F25F49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ommon Elements of the NS-2000 Servers 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wo or four NS-2000 blade elements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Each elements is an HP Integrity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rx2660 server with one dual-cor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1.42GHz/12MB Montvale processor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2" marL="692280" indent="-231840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One Capella ServerNet PCI card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8GB or16GB memory per logic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Two Versatile I/O (VIO) module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HP NonStop ServerNe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nterconnectivity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Ethernet connectivity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6410160" y="1028880"/>
            <a:ext cx="2086200" cy="559404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8395560" y="2476440"/>
            <a:ext cx="44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VIO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46" name=""/>
          <p:cNvSpPr/>
          <p:nvPr/>
        </p:nvSpPr>
        <p:spPr>
          <a:xfrm>
            <a:off x="5835960" y="455292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CPU 1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47" name=""/>
          <p:cNvSpPr/>
          <p:nvPr/>
        </p:nvSpPr>
        <p:spPr>
          <a:xfrm>
            <a:off x="5810760" y="4886280"/>
            <a:ext cx="65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CPU 0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48" name=""/>
          <p:cNvSpPr/>
          <p:nvPr/>
        </p:nvSpPr>
        <p:spPr>
          <a:xfrm>
            <a:off x="8381160" y="2878200"/>
            <a:ext cx="44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Bk"/>
              </a:rPr>
              <a:t>VIO</a:t>
            </a:r>
            <a:endParaRPr b="0" lang="en-US" sz="16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0D0C-787C-4313-98CB-36A6CECEAB2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LIM2 A.0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0:23:44Z</dcterms:created>
  <dc:creator>jpolacek</dc:creator>
  <dc:description/>
  <dc:language>en-US</dc:language>
  <cp:lastModifiedBy>Vince Cooper</cp:lastModifiedBy>
  <cp:lastPrinted>2004-09-23T21:26:26Z</cp:lastPrinted>
  <dcterms:modified xsi:type="dcterms:W3CDTF">2010-05-24T20:27:43Z</dcterms:modified>
  <cp:revision>177</cp:revision>
  <dc:subject/>
  <dc:title>Course Title or  Module Title</dc:title>
</cp:coreProperties>
</file>