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e6f7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6" name=""/>
          <p:cNvSpPr/>
          <p:nvPr/>
        </p:nvSpPr>
        <p:spPr>
          <a:xfrm>
            <a:off x="3289320" y="8930160"/>
            <a:ext cx="61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368A-81E0-4A23-8ED9-D44362D7F98F}" type="slidenum">
              <a:rPr b="0" lang="en-US" sz="1000" spc="-1" strike="noStrike">
                <a:solidFill>
                  <a:srgbClr val="000000"/>
                </a:solidFill>
                <a:latin typeface="Futura Hv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523800" y="3078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Internet key exchange (IKE) used with IPsec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Interconnect transport application programming interface (ITAPI)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Internet key exchange (IKE) used with IPsec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Interconnect transport application programming interface (ITAPI)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IP CLIMs are also referred to as Network CLIMs.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e default configuration for an IP CLIM is one X and one Y ServerNet link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e HP ProLiant DL385 G2 uses a dual core processor.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33360" y="353880"/>
            <a:ext cx="4389480" cy="329256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545760" y="3722760"/>
            <a:ext cx="5778360" cy="50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is illustration shows all the components of parallel library NonStop TCP/IP.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e CIP Subsystem has evolved from this architecture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523440" y="0"/>
            <a:ext cx="339732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233360" y="353880"/>
            <a:ext cx="4389480" cy="329256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545760" y="3722760"/>
            <a:ext cx="5778360" cy="5091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is illustration shows all the components of parallel library NonStop TCP/IP.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e CIP Subsystem has evolved from this architecture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Futura Bk"/>
              </a:rPr>
              <a:t>Subsystem Control Facility (SCF)</a:t>
            </a:r>
            <a:endParaRPr b="0" lang="en-US" sz="11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613F-910E-468D-BE24-49818D8C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6EFAE-CAD0-40FF-BEA6-D55B5AE4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60844-51E2-4774-8D1F-B656B0346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33F4B-5277-4177-8485-17CD5A3D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D58BD-A02D-4AE2-821E-D477D0D8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CD261-AE2B-4FC8-9D94-7F2098EB1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16ACA-2313-40DF-BB9D-13D21FC40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11F4F-C216-4687-B45D-188E4CAB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CD037-64F0-4246-A89E-30785C6D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8D7574-8E5D-4CA1-B6E1-76F0E937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21367-CE4A-415C-B3BD-ED318741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7D6E4-1A6E-4442-ACDA-F938400A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FA2C0-AF07-447D-8075-F646648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3C5DE-82D8-44CA-87D2-0B5DA747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FCE53-AFC2-4C3E-BA5B-EB2D8705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A1A4B-C44B-4403-83AD-1EB9C19E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5CA20-3440-4370-ADF7-E1E0771D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853CAC-D7A3-406F-ACAB-8623EFDC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DCEEE-0E88-4F45-B767-145559BE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2EDE-CF18-4CA8-8D29-163AB15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3FC9-343B-4BC6-A697-93211D0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9F95-33FC-4F56-A632-E70478BA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3B52-31FF-4814-8FB9-C2C2D9DA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6A7B-F270-4EF1-8BC8-315798F8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720C0-EE0F-461A-8A09-6A15B96360B8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8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460440" algn="ctr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806400" algn="ctr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39760" algn="ctr">
              <a:spcAft>
                <a:spcPts val="561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5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6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B98E-224E-4004-BCC4-140F197637B0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3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M Software Architectur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3960" y="4812840"/>
            <a:ext cx="56419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3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IP Software Architecture Overview (IP CLI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3" name=""/>
          <p:cNvSpPr/>
          <p:nvPr/>
        </p:nvSpPr>
        <p:spPr>
          <a:xfrm>
            <a:off x="430200" y="973080"/>
            <a:ext cx="8362800" cy="56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4" name=""/>
          <p:cNvSpPr/>
          <p:nvPr/>
        </p:nvSpPr>
        <p:spPr>
          <a:xfrm>
            <a:off x="3476520" y="4726080"/>
            <a:ext cx="4599000" cy="162720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38280" y="1224000"/>
            <a:ext cx="1535040" cy="376200"/>
            <a:chOff x="638280" y="1224000"/>
            <a:chExt cx="1535040" cy="376200"/>
          </a:xfrm>
        </p:grpSpPr>
        <p:sp>
          <p:nvSpPr>
            <p:cNvPr id="436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38" name=""/>
          <p:cNvSpPr/>
          <p:nvPr/>
        </p:nvSpPr>
        <p:spPr>
          <a:xfrm>
            <a:off x="1253880" y="12412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639720" y="1600200"/>
            <a:ext cx="1538280" cy="374760"/>
            <a:chOff x="639720" y="1600200"/>
            <a:chExt cx="1538280" cy="374760"/>
          </a:xfrm>
        </p:grpSpPr>
        <p:sp>
          <p:nvSpPr>
            <p:cNvPr id="440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noFill/>
            <a:ln cap="rnd"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1061640" y="1612800"/>
            <a:ext cx="83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639720" y="1974960"/>
            <a:ext cx="1538280" cy="311040"/>
            <a:chOff x="639720" y="1974960"/>
            <a:chExt cx="1538280" cy="311040"/>
          </a:xfrm>
        </p:grpSpPr>
        <p:sp>
          <p:nvSpPr>
            <p:cNvPr id="444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1338840" y="1960560"/>
            <a:ext cx="27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7" name=""/>
          <p:cNvSpPr/>
          <p:nvPr/>
        </p:nvSpPr>
        <p:spPr>
          <a:xfrm>
            <a:off x="3825720" y="5353200"/>
            <a:ext cx="2508480" cy="31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8" name=""/>
          <p:cNvSpPr/>
          <p:nvPr/>
        </p:nvSpPr>
        <p:spPr>
          <a:xfrm>
            <a:off x="3825720" y="5353200"/>
            <a:ext cx="250848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9" name=""/>
          <p:cNvSpPr/>
          <p:nvPr/>
        </p:nvSpPr>
        <p:spPr>
          <a:xfrm>
            <a:off x="4832640" y="5338800"/>
            <a:ext cx="63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T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0" name=""/>
          <p:cNvSpPr/>
          <p:nvPr/>
        </p:nvSpPr>
        <p:spPr>
          <a:xfrm>
            <a:off x="3825720" y="5665680"/>
            <a:ext cx="1254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1" name=""/>
          <p:cNvSpPr/>
          <p:nvPr/>
        </p:nvSpPr>
        <p:spPr>
          <a:xfrm>
            <a:off x="3825720" y="5665680"/>
            <a:ext cx="125424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2" name=""/>
          <p:cNvSpPr/>
          <p:nvPr/>
        </p:nvSpPr>
        <p:spPr>
          <a:xfrm>
            <a:off x="3972600" y="5651640"/>
            <a:ext cx="110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AG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3" name=""/>
          <p:cNvSpPr/>
          <p:nvPr/>
        </p:nvSpPr>
        <p:spPr>
          <a:xfrm>
            <a:off x="5079960" y="5665680"/>
            <a:ext cx="1254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4" name=""/>
          <p:cNvSpPr/>
          <p:nvPr/>
        </p:nvSpPr>
        <p:spPr>
          <a:xfrm>
            <a:off x="5079960" y="5665680"/>
            <a:ext cx="125424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5" name=""/>
          <p:cNvSpPr/>
          <p:nvPr/>
        </p:nvSpPr>
        <p:spPr>
          <a:xfrm>
            <a:off x="5281560" y="5651640"/>
            <a:ext cx="99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SRV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6" name=""/>
          <p:cNvSpPr/>
          <p:nvPr/>
        </p:nvSpPr>
        <p:spPr>
          <a:xfrm>
            <a:off x="4383000" y="5978520"/>
            <a:ext cx="1951200" cy="374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7" name=""/>
          <p:cNvSpPr/>
          <p:nvPr/>
        </p:nvSpPr>
        <p:spPr>
          <a:xfrm>
            <a:off x="4383000" y="5978520"/>
            <a:ext cx="1951200" cy="37476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8" name=""/>
          <p:cNvSpPr/>
          <p:nvPr/>
        </p:nvSpPr>
        <p:spPr>
          <a:xfrm>
            <a:off x="4575960" y="5994360"/>
            <a:ext cx="172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INUX Socket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9" name=""/>
          <p:cNvSpPr/>
          <p:nvPr/>
        </p:nvSpPr>
        <p:spPr>
          <a:xfrm>
            <a:off x="3825720" y="5040360"/>
            <a:ext cx="250848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0" name=""/>
          <p:cNvSpPr/>
          <p:nvPr/>
        </p:nvSpPr>
        <p:spPr>
          <a:xfrm>
            <a:off x="3825720" y="5040360"/>
            <a:ext cx="250848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1" name=""/>
          <p:cNvSpPr/>
          <p:nvPr/>
        </p:nvSpPr>
        <p:spPr>
          <a:xfrm>
            <a:off x="4258440" y="5025960"/>
            <a:ext cx="168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apella Drive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2" name=""/>
          <p:cNvSpPr/>
          <p:nvPr/>
        </p:nvSpPr>
        <p:spPr>
          <a:xfrm>
            <a:off x="6495480" y="4707000"/>
            <a:ext cx="135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/Linux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3" name=""/>
          <p:cNvSpPr/>
          <p:nvPr/>
        </p:nvSpPr>
        <p:spPr>
          <a:xfrm>
            <a:off x="4959360" y="2600280"/>
            <a:ext cx="1254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4" name=""/>
          <p:cNvSpPr/>
          <p:nvPr/>
        </p:nvSpPr>
        <p:spPr>
          <a:xfrm>
            <a:off x="4959360" y="2600280"/>
            <a:ext cx="125424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5" name=""/>
          <p:cNvSpPr/>
          <p:nvPr/>
        </p:nvSpPr>
        <p:spPr>
          <a:xfrm>
            <a:off x="5138640" y="2585880"/>
            <a:ext cx="1041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REQ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6" name=""/>
          <p:cNvSpPr/>
          <p:nvPr/>
        </p:nvSpPr>
        <p:spPr>
          <a:xfrm>
            <a:off x="4751280" y="2913120"/>
            <a:ext cx="153216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7" name=""/>
          <p:cNvSpPr/>
          <p:nvPr/>
        </p:nvSpPr>
        <p:spPr>
          <a:xfrm>
            <a:off x="4751280" y="2913120"/>
            <a:ext cx="153216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8" name=""/>
          <p:cNvSpPr/>
          <p:nvPr/>
        </p:nvSpPr>
        <p:spPr>
          <a:xfrm>
            <a:off x="5177520" y="2898720"/>
            <a:ext cx="15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9" name=""/>
          <p:cNvSpPr/>
          <p:nvPr/>
        </p:nvSpPr>
        <p:spPr>
          <a:xfrm>
            <a:off x="5325120" y="289872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0" name=""/>
          <p:cNvSpPr/>
          <p:nvPr/>
        </p:nvSpPr>
        <p:spPr>
          <a:xfrm>
            <a:off x="5386680" y="2898720"/>
            <a:ext cx="63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T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1" name=""/>
          <p:cNvSpPr/>
          <p:nvPr/>
        </p:nvSpPr>
        <p:spPr>
          <a:xfrm>
            <a:off x="4611600" y="3225960"/>
            <a:ext cx="1811520" cy="31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2" name=""/>
          <p:cNvSpPr/>
          <p:nvPr/>
        </p:nvSpPr>
        <p:spPr>
          <a:xfrm>
            <a:off x="4611600" y="3225960"/>
            <a:ext cx="181152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3" name=""/>
          <p:cNvSpPr/>
          <p:nvPr/>
        </p:nvSpPr>
        <p:spPr>
          <a:xfrm>
            <a:off x="4768200" y="3209760"/>
            <a:ext cx="16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NET Servic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708120" y="2922480"/>
            <a:ext cx="836640" cy="250920"/>
            <a:chOff x="708120" y="2922480"/>
            <a:chExt cx="836640" cy="250920"/>
          </a:xfrm>
        </p:grpSpPr>
        <p:sp>
          <p:nvSpPr>
            <p:cNvPr id="475" name=""/>
            <p:cNvSpPr/>
            <p:nvPr/>
          </p:nvSpPr>
          <p:spPr>
            <a:xfrm>
              <a:off x="708120" y="2922480"/>
              <a:ext cx="836640" cy="250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8120" y="2922480"/>
              <a:ext cx="836640" cy="25092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996480" y="291456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utura Bk"/>
              </a:rPr>
              <a:t>QIO</a:t>
            </a:r>
            <a:endParaRPr b="0" lang="en-US" sz="15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847800" y="2475000"/>
            <a:ext cx="1393920" cy="374400"/>
            <a:chOff x="847800" y="2475000"/>
            <a:chExt cx="1393920" cy="374400"/>
          </a:xfrm>
        </p:grpSpPr>
        <p:sp>
          <p:nvSpPr>
            <p:cNvPr id="479" name=""/>
            <p:cNvSpPr/>
            <p:nvPr/>
          </p:nvSpPr>
          <p:spPr>
            <a:xfrm>
              <a:off x="847800" y="2475000"/>
              <a:ext cx="1393920" cy="3744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47800" y="2475000"/>
              <a:ext cx="1393920" cy="3744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911160" y="253044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82" name=""/>
          <p:cNvSpPr/>
          <p:nvPr/>
        </p:nvSpPr>
        <p:spPr>
          <a:xfrm>
            <a:off x="1937160" y="249228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83" name=""/>
          <p:cNvSpPr/>
          <p:nvPr/>
        </p:nvSpPr>
        <p:spPr>
          <a:xfrm>
            <a:off x="1992240" y="2517840"/>
            <a:ext cx="16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30200" y="2548080"/>
            <a:ext cx="1393920" cy="374400"/>
            <a:chOff x="430200" y="2548080"/>
            <a:chExt cx="1393920" cy="374400"/>
          </a:xfrm>
        </p:grpSpPr>
        <p:sp>
          <p:nvSpPr>
            <p:cNvPr id="485" name=""/>
            <p:cNvSpPr/>
            <p:nvPr/>
          </p:nvSpPr>
          <p:spPr>
            <a:xfrm>
              <a:off x="430200" y="2548080"/>
              <a:ext cx="1393920" cy="3744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0200" y="2548080"/>
              <a:ext cx="1393920" cy="3744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514080" y="259092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88" name=""/>
          <p:cNvSpPr/>
          <p:nvPr/>
        </p:nvSpPr>
        <p:spPr>
          <a:xfrm>
            <a:off x="1489680" y="260352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89" name=""/>
          <p:cNvSpPr/>
          <p:nvPr/>
        </p:nvSpPr>
        <p:spPr>
          <a:xfrm>
            <a:off x="1568880" y="259092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4611600" y="1660680"/>
            <a:ext cx="1881360" cy="438120"/>
            <a:chOff x="4611600" y="1660680"/>
            <a:chExt cx="1881360" cy="438120"/>
          </a:xfrm>
        </p:grpSpPr>
        <p:sp>
          <p:nvSpPr>
            <p:cNvPr id="491" name=""/>
            <p:cNvSpPr/>
            <p:nvPr/>
          </p:nvSpPr>
          <p:spPr>
            <a:xfrm>
              <a:off x="4611600" y="1660680"/>
              <a:ext cx="1881360" cy="43812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611600" y="1660680"/>
              <a:ext cx="1881360" cy="43812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93" name=""/>
          <p:cNvSpPr/>
          <p:nvPr/>
        </p:nvSpPr>
        <p:spPr>
          <a:xfrm>
            <a:off x="4866480" y="1744560"/>
            <a:ext cx="8524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ocket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94" name=""/>
          <p:cNvSpPr/>
          <p:nvPr/>
        </p:nvSpPr>
        <p:spPr>
          <a:xfrm>
            <a:off x="5715000" y="1724040"/>
            <a:ext cx="54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pp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4819680" y="2098800"/>
            <a:ext cx="1533600" cy="250560"/>
            <a:chOff x="4819680" y="2098800"/>
            <a:chExt cx="1533600" cy="250560"/>
          </a:xfrm>
        </p:grpSpPr>
        <p:sp>
          <p:nvSpPr>
            <p:cNvPr id="496" name=""/>
            <p:cNvSpPr/>
            <p:nvPr/>
          </p:nvSpPr>
          <p:spPr>
            <a:xfrm>
              <a:off x="4819680" y="2098800"/>
              <a:ext cx="1533600" cy="2505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19680" y="2098800"/>
              <a:ext cx="1533600" cy="25056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5515560" y="2054160"/>
            <a:ext cx="27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4819680" y="2349360"/>
            <a:ext cx="1533600" cy="250920"/>
            <a:chOff x="4819680" y="2349360"/>
            <a:chExt cx="1533600" cy="250920"/>
          </a:xfrm>
        </p:grpSpPr>
        <p:sp>
          <p:nvSpPr>
            <p:cNvPr id="500" name=""/>
            <p:cNvSpPr/>
            <p:nvPr/>
          </p:nvSpPr>
          <p:spPr>
            <a:xfrm>
              <a:off x="4819680" y="2349360"/>
              <a:ext cx="1533600" cy="250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819680" y="2349360"/>
              <a:ext cx="1533600" cy="25092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5392080" y="2305080"/>
            <a:ext cx="522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SI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938320" y="1974960"/>
            <a:ext cx="1393920" cy="374400"/>
            <a:chOff x="2938320" y="1974960"/>
            <a:chExt cx="1393920" cy="374400"/>
          </a:xfrm>
        </p:grpSpPr>
        <p:sp>
          <p:nvSpPr>
            <p:cNvPr id="504" name=""/>
            <p:cNvSpPr/>
            <p:nvPr/>
          </p:nvSpPr>
          <p:spPr>
            <a:xfrm>
              <a:off x="2938320" y="1974960"/>
              <a:ext cx="1393920" cy="3744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938320" y="1974960"/>
              <a:ext cx="1393920" cy="3744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3241080" y="1992240"/>
            <a:ext cx="936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A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7" name=""/>
          <p:cNvSpPr/>
          <p:nvPr/>
        </p:nvSpPr>
        <p:spPr>
          <a:xfrm>
            <a:off x="2725200" y="2467080"/>
            <a:ext cx="18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One per PROVIDER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8" name=""/>
          <p:cNvSpPr/>
          <p:nvPr/>
        </p:nvSpPr>
        <p:spPr>
          <a:xfrm>
            <a:off x="6334200" y="5665680"/>
            <a:ext cx="696960" cy="312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9" name=""/>
          <p:cNvSpPr/>
          <p:nvPr/>
        </p:nvSpPr>
        <p:spPr>
          <a:xfrm>
            <a:off x="6334200" y="5665680"/>
            <a:ext cx="69696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0" name=""/>
          <p:cNvSpPr/>
          <p:nvPr/>
        </p:nvSpPr>
        <p:spPr>
          <a:xfrm>
            <a:off x="6554520" y="5651640"/>
            <a:ext cx="38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1" name=""/>
          <p:cNvSpPr/>
          <p:nvPr/>
        </p:nvSpPr>
        <p:spPr>
          <a:xfrm>
            <a:off x="6773760" y="2287440"/>
            <a:ext cx="1536840" cy="374760"/>
          </a:xfrm>
          <a:custGeom>
            <a:avLst/>
            <a:gdLst/>
            <a:ahLst/>
            <a:rect l="l" t="t" r="r" b="b"/>
            <a:pathLst>
              <a:path w="6361" h="1724">
                <a:moveTo>
                  <a:pt x="287" y="0"/>
                </a:moveTo>
                <a:cubicBezTo>
                  <a:pt x="128" y="0"/>
                  <a:pt x="0" y="129"/>
                  <a:pt x="0" y="288"/>
                </a:cubicBezTo>
                <a:lnTo>
                  <a:pt x="0" y="1437"/>
                </a:lnTo>
                <a:cubicBezTo>
                  <a:pt x="0" y="1596"/>
                  <a:pt x="128" y="1724"/>
                  <a:pt x="287" y="1724"/>
                </a:cubicBezTo>
                <a:lnTo>
                  <a:pt x="6074" y="1724"/>
                </a:lnTo>
                <a:cubicBezTo>
                  <a:pt x="6233" y="1724"/>
                  <a:pt x="6361" y="1596"/>
                  <a:pt x="6361" y="1437"/>
                </a:cubicBezTo>
                <a:lnTo>
                  <a:pt x="6361" y="288"/>
                </a:lnTo>
                <a:cubicBezTo>
                  <a:pt x="6361" y="129"/>
                  <a:pt x="6233" y="0"/>
                  <a:pt x="6074" y="0"/>
                </a:cubicBezTo>
                <a:lnTo>
                  <a:pt x="287" y="0"/>
                </a:lnTo>
                <a:close/>
              </a:path>
            </a:pathLst>
          </a:cu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2" name=""/>
          <p:cNvSpPr/>
          <p:nvPr/>
        </p:nvSpPr>
        <p:spPr>
          <a:xfrm>
            <a:off x="6773760" y="2287440"/>
            <a:ext cx="1536840" cy="374760"/>
          </a:xfrm>
          <a:custGeom>
            <a:avLst/>
            <a:gdLst/>
            <a:ahLst/>
            <a:rect l="l" t="t" r="r" b="b"/>
            <a:pathLst>
              <a:path w="6361" h="1724">
                <a:moveTo>
                  <a:pt x="287" y="0"/>
                </a:moveTo>
                <a:cubicBezTo>
                  <a:pt x="128" y="0"/>
                  <a:pt x="0" y="129"/>
                  <a:pt x="0" y="288"/>
                </a:cubicBezTo>
                <a:lnTo>
                  <a:pt x="0" y="1437"/>
                </a:lnTo>
                <a:cubicBezTo>
                  <a:pt x="0" y="1596"/>
                  <a:pt x="128" y="1724"/>
                  <a:pt x="287" y="1724"/>
                </a:cubicBezTo>
                <a:lnTo>
                  <a:pt x="6074" y="1724"/>
                </a:lnTo>
                <a:cubicBezTo>
                  <a:pt x="6233" y="1724"/>
                  <a:pt x="6361" y="1596"/>
                  <a:pt x="6361" y="1437"/>
                </a:cubicBezTo>
                <a:lnTo>
                  <a:pt x="6361" y="288"/>
                </a:lnTo>
                <a:cubicBezTo>
                  <a:pt x="6361" y="129"/>
                  <a:pt x="6233" y="0"/>
                  <a:pt x="6074" y="0"/>
                </a:cubicBezTo>
                <a:lnTo>
                  <a:pt x="287" y="0"/>
                </a:lnTo>
                <a:close/>
              </a:path>
            </a:pathLst>
          </a:custGeom>
          <a:noFill/>
          <a:ln cap="rnd"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3" name=""/>
          <p:cNvSpPr/>
          <p:nvPr/>
        </p:nvSpPr>
        <p:spPr>
          <a:xfrm>
            <a:off x="7373880" y="2305080"/>
            <a:ext cx="47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SH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4" name=""/>
          <p:cNvSpPr/>
          <p:nvPr/>
        </p:nvSpPr>
        <p:spPr>
          <a:xfrm>
            <a:off x="2660760" y="3287880"/>
            <a:ext cx="1741320" cy="376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5" name=""/>
          <p:cNvSpPr/>
          <p:nvPr/>
        </p:nvSpPr>
        <p:spPr>
          <a:xfrm>
            <a:off x="2660760" y="3287880"/>
            <a:ext cx="1741320" cy="37620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6" name=""/>
          <p:cNvSpPr/>
          <p:nvPr/>
        </p:nvSpPr>
        <p:spPr>
          <a:xfrm>
            <a:off x="3029040" y="3303720"/>
            <a:ext cx="11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ON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7" name=""/>
          <p:cNvSpPr/>
          <p:nvPr/>
        </p:nvSpPr>
        <p:spPr>
          <a:xfrm>
            <a:off x="1824120" y="3913200"/>
            <a:ext cx="153360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8" name=""/>
          <p:cNvSpPr/>
          <p:nvPr/>
        </p:nvSpPr>
        <p:spPr>
          <a:xfrm>
            <a:off x="1824120" y="3913200"/>
            <a:ext cx="153360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9" name=""/>
          <p:cNvSpPr/>
          <p:nvPr/>
        </p:nvSpPr>
        <p:spPr>
          <a:xfrm>
            <a:off x="2250000" y="3897360"/>
            <a:ext cx="15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0" name=""/>
          <p:cNvSpPr/>
          <p:nvPr/>
        </p:nvSpPr>
        <p:spPr>
          <a:xfrm>
            <a:off x="2397600" y="389736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1" name=""/>
          <p:cNvSpPr/>
          <p:nvPr/>
        </p:nvSpPr>
        <p:spPr>
          <a:xfrm>
            <a:off x="2459160" y="3897360"/>
            <a:ext cx="63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T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2" name=""/>
          <p:cNvSpPr/>
          <p:nvPr/>
        </p:nvSpPr>
        <p:spPr>
          <a:xfrm>
            <a:off x="2171880" y="3287880"/>
            <a:ext cx="836280" cy="25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3" name=""/>
          <p:cNvSpPr/>
          <p:nvPr/>
        </p:nvSpPr>
        <p:spPr>
          <a:xfrm>
            <a:off x="2171880" y="3287880"/>
            <a:ext cx="836280" cy="25056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4" name=""/>
          <p:cNvSpPr/>
          <p:nvPr/>
        </p:nvSpPr>
        <p:spPr>
          <a:xfrm>
            <a:off x="2461680" y="327960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utura Bk"/>
              </a:rPr>
              <a:t>QIO</a:t>
            </a:r>
            <a:endParaRPr b="0" lang="en-US" sz="15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5" name=""/>
          <p:cNvSpPr/>
          <p:nvPr/>
        </p:nvSpPr>
        <p:spPr>
          <a:xfrm>
            <a:off x="1684440" y="4226040"/>
            <a:ext cx="1811160" cy="31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6" name=""/>
          <p:cNvSpPr/>
          <p:nvPr/>
        </p:nvSpPr>
        <p:spPr>
          <a:xfrm>
            <a:off x="1684440" y="4226040"/>
            <a:ext cx="181116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7" name=""/>
          <p:cNvSpPr/>
          <p:nvPr/>
        </p:nvSpPr>
        <p:spPr>
          <a:xfrm>
            <a:off x="1841040" y="4210200"/>
            <a:ext cx="16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NET Servic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8" name=""/>
          <p:cNvSpPr/>
          <p:nvPr/>
        </p:nvSpPr>
        <p:spPr>
          <a:xfrm>
            <a:off x="2381400" y="3475080"/>
            <a:ext cx="1741320" cy="376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9" name=""/>
          <p:cNvSpPr/>
          <p:nvPr/>
        </p:nvSpPr>
        <p:spPr>
          <a:xfrm>
            <a:off x="2381400" y="3475080"/>
            <a:ext cx="1741320" cy="37620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0" name=""/>
          <p:cNvSpPr/>
          <p:nvPr/>
        </p:nvSpPr>
        <p:spPr>
          <a:xfrm>
            <a:off x="2674440" y="3490920"/>
            <a:ext cx="102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1" name=""/>
          <p:cNvSpPr/>
          <p:nvPr/>
        </p:nvSpPr>
        <p:spPr>
          <a:xfrm>
            <a:off x="3781800" y="3490920"/>
            <a:ext cx="2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2" name=""/>
          <p:cNvSpPr/>
          <p:nvPr/>
        </p:nvSpPr>
        <p:spPr>
          <a:xfrm>
            <a:off x="1684440" y="3538440"/>
            <a:ext cx="1743120" cy="3747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3" name=""/>
          <p:cNvSpPr/>
          <p:nvPr/>
        </p:nvSpPr>
        <p:spPr>
          <a:xfrm>
            <a:off x="1684440" y="3538440"/>
            <a:ext cx="1743120" cy="37476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4" name=""/>
          <p:cNvSpPr/>
          <p:nvPr/>
        </p:nvSpPr>
        <p:spPr>
          <a:xfrm>
            <a:off x="2046240" y="3554280"/>
            <a:ext cx="1171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ON0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5" name=""/>
          <p:cNvSpPr/>
          <p:nvPr/>
        </p:nvSpPr>
        <p:spPr>
          <a:xfrm>
            <a:off x="4226400" y="3732120"/>
            <a:ext cx="122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One per CP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36" name=""/>
          <p:cNvGrpSpPr/>
          <p:nvPr/>
        </p:nvGrpSpPr>
        <p:grpSpPr>
          <a:xfrm>
            <a:off x="638280" y="1224000"/>
            <a:ext cx="1535040" cy="376200"/>
            <a:chOff x="638280" y="1224000"/>
            <a:chExt cx="1535040" cy="376200"/>
          </a:xfrm>
        </p:grpSpPr>
        <p:sp>
          <p:nvSpPr>
            <p:cNvPr id="537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253880" y="12412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39720" y="1600200"/>
            <a:ext cx="1538280" cy="374760"/>
            <a:chOff x="639720" y="1600200"/>
            <a:chExt cx="1538280" cy="374760"/>
          </a:xfrm>
        </p:grpSpPr>
        <p:sp>
          <p:nvSpPr>
            <p:cNvPr id="541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noFill/>
            <a:ln cap="rnd"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1061640" y="1612800"/>
            <a:ext cx="83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639720" y="1974960"/>
            <a:ext cx="1538280" cy="311040"/>
            <a:chOff x="639720" y="1974960"/>
            <a:chExt cx="1538280" cy="311040"/>
          </a:xfrm>
        </p:grpSpPr>
        <p:sp>
          <p:nvSpPr>
            <p:cNvPr id="545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1338840" y="1960560"/>
            <a:ext cx="27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8" name=""/>
          <p:cNvSpPr/>
          <p:nvPr/>
        </p:nvSpPr>
        <p:spPr>
          <a:xfrm>
            <a:off x="6772320" y="1598760"/>
            <a:ext cx="1533600" cy="376200"/>
          </a:xfrm>
          <a:prstGeom prst="ellipse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9" name=""/>
          <p:cNvSpPr/>
          <p:nvPr/>
        </p:nvSpPr>
        <p:spPr>
          <a:xfrm>
            <a:off x="6772320" y="1598760"/>
            <a:ext cx="1533600" cy="37620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0" name=""/>
          <p:cNvSpPr/>
          <p:nvPr/>
        </p:nvSpPr>
        <p:spPr>
          <a:xfrm>
            <a:off x="7308360" y="1617840"/>
            <a:ext cx="60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AC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1" name=""/>
          <p:cNvSpPr/>
          <p:nvPr/>
        </p:nvSpPr>
        <p:spPr>
          <a:xfrm>
            <a:off x="6772320" y="1974960"/>
            <a:ext cx="1531800" cy="311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2" name=""/>
          <p:cNvSpPr/>
          <p:nvPr/>
        </p:nvSpPr>
        <p:spPr>
          <a:xfrm>
            <a:off x="6772320" y="1974960"/>
            <a:ext cx="153180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3" name=""/>
          <p:cNvSpPr/>
          <p:nvPr/>
        </p:nvSpPr>
        <p:spPr>
          <a:xfrm>
            <a:off x="7014240" y="1960560"/>
            <a:ext cx="119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CM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4" name=""/>
          <p:cNvSpPr/>
          <p:nvPr/>
        </p:nvSpPr>
        <p:spPr>
          <a:xfrm>
            <a:off x="8193240" y="4494240"/>
            <a:ext cx="59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th0: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5" name=""/>
          <p:cNvSpPr/>
          <p:nvPr/>
        </p:nvSpPr>
        <p:spPr>
          <a:xfrm>
            <a:off x="6149880" y="2855880"/>
            <a:ext cx="12960" cy="2768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6" name=""/>
          <p:cNvSpPr/>
          <p:nvPr/>
        </p:nvSpPr>
        <p:spPr>
          <a:xfrm>
            <a:off x="7704000" y="2681280"/>
            <a:ext cx="0" cy="1990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914040" y="2241720"/>
            <a:ext cx="299880" cy="30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8" name=""/>
          <p:cNvSpPr/>
          <p:nvPr/>
        </p:nvSpPr>
        <p:spPr>
          <a:xfrm>
            <a:off x="1528920" y="2855880"/>
            <a:ext cx="487080" cy="689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9" name=""/>
          <p:cNvSpPr/>
          <p:nvPr/>
        </p:nvSpPr>
        <p:spPr>
          <a:xfrm>
            <a:off x="3219480" y="3844800"/>
            <a:ext cx="814320" cy="1917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0" name=""/>
          <p:cNvSpPr/>
          <p:nvPr/>
        </p:nvSpPr>
        <p:spPr>
          <a:xfrm>
            <a:off x="4397400" y="2166840"/>
            <a:ext cx="338040" cy="38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8640" bIns="-8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EBDB-BE48-415F-BBC0-4E140CEAFB5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CIP Software Architecture Overview (Storage CLIM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2" name=""/>
          <p:cNvSpPr/>
          <p:nvPr/>
        </p:nvSpPr>
        <p:spPr>
          <a:xfrm>
            <a:off x="781200" y="1227240"/>
            <a:ext cx="8362800" cy="563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3" name=""/>
          <p:cNvSpPr/>
          <p:nvPr/>
        </p:nvSpPr>
        <p:spPr>
          <a:xfrm>
            <a:off x="3476520" y="4726080"/>
            <a:ext cx="4599000" cy="162720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38280" y="1224000"/>
            <a:ext cx="1535040" cy="376200"/>
            <a:chOff x="638280" y="1224000"/>
            <a:chExt cx="1535040" cy="376200"/>
          </a:xfrm>
        </p:grpSpPr>
        <p:sp>
          <p:nvSpPr>
            <p:cNvPr id="565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1253880" y="12412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639720" y="1600200"/>
            <a:ext cx="1538280" cy="374760"/>
            <a:chOff x="639720" y="1600200"/>
            <a:chExt cx="1538280" cy="374760"/>
          </a:xfrm>
        </p:grpSpPr>
        <p:sp>
          <p:nvSpPr>
            <p:cNvPr id="569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noFill/>
            <a:ln cap="rnd"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1061640" y="1612800"/>
            <a:ext cx="83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39720" y="1974960"/>
            <a:ext cx="1538280" cy="311040"/>
            <a:chOff x="639720" y="1974960"/>
            <a:chExt cx="1538280" cy="311040"/>
          </a:xfrm>
        </p:grpSpPr>
        <p:sp>
          <p:nvSpPr>
            <p:cNvPr id="573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338840" y="1960560"/>
            <a:ext cx="27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6" name=""/>
          <p:cNvSpPr/>
          <p:nvPr/>
        </p:nvSpPr>
        <p:spPr>
          <a:xfrm>
            <a:off x="3825720" y="5353200"/>
            <a:ext cx="2508480" cy="31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7" name=""/>
          <p:cNvSpPr/>
          <p:nvPr/>
        </p:nvSpPr>
        <p:spPr>
          <a:xfrm>
            <a:off x="3825720" y="5353200"/>
            <a:ext cx="250848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8" name=""/>
          <p:cNvSpPr/>
          <p:nvPr/>
        </p:nvSpPr>
        <p:spPr>
          <a:xfrm>
            <a:off x="4832640" y="5338800"/>
            <a:ext cx="63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T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9" name=""/>
          <p:cNvSpPr/>
          <p:nvPr/>
        </p:nvSpPr>
        <p:spPr>
          <a:xfrm>
            <a:off x="3825720" y="5665680"/>
            <a:ext cx="1254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0" name=""/>
          <p:cNvSpPr/>
          <p:nvPr/>
        </p:nvSpPr>
        <p:spPr>
          <a:xfrm>
            <a:off x="3825720" y="5665680"/>
            <a:ext cx="125424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1" name=""/>
          <p:cNvSpPr/>
          <p:nvPr/>
        </p:nvSpPr>
        <p:spPr>
          <a:xfrm>
            <a:off x="3972600" y="5651640"/>
            <a:ext cx="110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AG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2" name=""/>
          <p:cNvSpPr/>
          <p:nvPr/>
        </p:nvSpPr>
        <p:spPr>
          <a:xfrm>
            <a:off x="5079960" y="5665680"/>
            <a:ext cx="125424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3" name=""/>
          <p:cNvSpPr/>
          <p:nvPr/>
        </p:nvSpPr>
        <p:spPr>
          <a:xfrm>
            <a:off x="5079960" y="5665680"/>
            <a:ext cx="125424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4" name=""/>
          <p:cNvSpPr/>
          <p:nvPr/>
        </p:nvSpPr>
        <p:spPr>
          <a:xfrm>
            <a:off x="5281560" y="5651640"/>
            <a:ext cx="994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SRV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5" name=""/>
          <p:cNvSpPr/>
          <p:nvPr/>
        </p:nvSpPr>
        <p:spPr>
          <a:xfrm>
            <a:off x="3963960" y="5978520"/>
            <a:ext cx="2370240" cy="3747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6" name=""/>
          <p:cNvSpPr/>
          <p:nvPr/>
        </p:nvSpPr>
        <p:spPr>
          <a:xfrm>
            <a:off x="3962520" y="5978520"/>
            <a:ext cx="2371680" cy="37476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7" name=""/>
          <p:cNvSpPr/>
          <p:nvPr/>
        </p:nvSpPr>
        <p:spPr>
          <a:xfrm>
            <a:off x="3907800" y="6000840"/>
            <a:ext cx="2498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LINUX Device drive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8" name=""/>
          <p:cNvSpPr/>
          <p:nvPr/>
        </p:nvSpPr>
        <p:spPr>
          <a:xfrm>
            <a:off x="3825720" y="5040360"/>
            <a:ext cx="250848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9" name=""/>
          <p:cNvSpPr/>
          <p:nvPr/>
        </p:nvSpPr>
        <p:spPr>
          <a:xfrm>
            <a:off x="3825720" y="5040360"/>
            <a:ext cx="250848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0" name=""/>
          <p:cNvSpPr/>
          <p:nvPr/>
        </p:nvSpPr>
        <p:spPr>
          <a:xfrm>
            <a:off x="4258440" y="5025960"/>
            <a:ext cx="1680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apella Drive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1" name=""/>
          <p:cNvSpPr/>
          <p:nvPr/>
        </p:nvSpPr>
        <p:spPr>
          <a:xfrm>
            <a:off x="6495480" y="4707000"/>
            <a:ext cx="135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/Linux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2" name=""/>
          <p:cNvSpPr/>
          <p:nvPr/>
        </p:nvSpPr>
        <p:spPr>
          <a:xfrm>
            <a:off x="4751280" y="2913120"/>
            <a:ext cx="153216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3" name=""/>
          <p:cNvSpPr/>
          <p:nvPr/>
        </p:nvSpPr>
        <p:spPr>
          <a:xfrm>
            <a:off x="4751280" y="2913120"/>
            <a:ext cx="153216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4" name=""/>
          <p:cNvSpPr/>
          <p:nvPr/>
        </p:nvSpPr>
        <p:spPr>
          <a:xfrm>
            <a:off x="5177520" y="2898720"/>
            <a:ext cx="15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5" name=""/>
          <p:cNvSpPr/>
          <p:nvPr/>
        </p:nvSpPr>
        <p:spPr>
          <a:xfrm>
            <a:off x="5325120" y="289872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6" name=""/>
          <p:cNvSpPr/>
          <p:nvPr/>
        </p:nvSpPr>
        <p:spPr>
          <a:xfrm>
            <a:off x="5386680" y="2898720"/>
            <a:ext cx="63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T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7" name=""/>
          <p:cNvSpPr/>
          <p:nvPr/>
        </p:nvSpPr>
        <p:spPr>
          <a:xfrm>
            <a:off x="4611600" y="3225960"/>
            <a:ext cx="1811520" cy="31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8" name=""/>
          <p:cNvSpPr/>
          <p:nvPr/>
        </p:nvSpPr>
        <p:spPr>
          <a:xfrm>
            <a:off x="4611600" y="3225960"/>
            <a:ext cx="181152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9" name=""/>
          <p:cNvSpPr/>
          <p:nvPr/>
        </p:nvSpPr>
        <p:spPr>
          <a:xfrm>
            <a:off x="4768200" y="3209760"/>
            <a:ext cx="16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NET Servic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08120" y="2922480"/>
            <a:ext cx="836640" cy="250920"/>
            <a:chOff x="708120" y="2922480"/>
            <a:chExt cx="836640" cy="250920"/>
          </a:xfrm>
        </p:grpSpPr>
        <p:sp>
          <p:nvSpPr>
            <p:cNvPr id="601" name=""/>
            <p:cNvSpPr/>
            <p:nvPr/>
          </p:nvSpPr>
          <p:spPr>
            <a:xfrm>
              <a:off x="708120" y="2922480"/>
              <a:ext cx="836640" cy="2509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120" y="2922480"/>
              <a:ext cx="836640" cy="25092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996480" y="291456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utura Bk"/>
              </a:rPr>
              <a:t>QIO</a:t>
            </a:r>
            <a:endParaRPr b="0" lang="en-US" sz="15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847800" y="2475000"/>
            <a:ext cx="1393920" cy="374400"/>
            <a:chOff x="847800" y="2475000"/>
            <a:chExt cx="1393920" cy="374400"/>
          </a:xfrm>
        </p:grpSpPr>
        <p:sp>
          <p:nvSpPr>
            <p:cNvPr id="605" name=""/>
            <p:cNvSpPr/>
            <p:nvPr/>
          </p:nvSpPr>
          <p:spPr>
            <a:xfrm>
              <a:off x="847800" y="2475000"/>
              <a:ext cx="1393920" cy="3744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7800" y="2475000"/>
              <a:ext cx="1393920" cy="3744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911160" y="253044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8" name=""/>
          <p:cNvSpPr/>
          <p:nvPr/>
        </p:nvSpPr>
        <p:spPr>
          <a:xfrm>
            <a:off x="1937160" y="249228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9" name=""/>
          <p:cNvSpPr/>
          <p:nvPr/>
        </p:nvSpPr>
        <p:spPr>
          <a:xfrm>
            <a:off x="1992240" y="2517840"/>
            <a:ext cx="166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430200" y="2548080"/>
            <a:ext cx="1393920" cy="374400"/>
            <a:chOff x="430200" y="2548080"/>
            <a:chExt cx="1393920" cy="374400"/>
          </a:xfrm>
        </p:grpSpPr>
        <p:sp>
          <p:nvSpPr>
            <p:cNvPr id="611" name=""/>
            <p:cNvSpPr/>
            <p:nvPr/>
          </p:nvSpPr>
          <p:spPr>
            <a:xfrm>
              <a:off x="430200" y="2548080"/>
              <a:ext cx="1393920" cy="374400"/>
            </a:xfrm>
            <a:prstGeom prst="ellipse">
              <a:avLst/>
            </a:pr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30200" y="2548080"/>
              <a:ext cx="1393920" cy="3744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514080" y="2590920"/>
            <a:ext cx="989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4" name=""/>
          <p:cNvSpPr/>
          <p:nvPr/>
        </p:nvSpPr>
        <p:spPr>
          <a:xfrm>
            <a:off x="1489680" y="260352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5" name=""/>
          <p:cNvSpPr/>
          <p:nvPr/>
        </p:nvSpPr>
        <p:spPr>
          <a:xfrm>
            <a:off x="1568880" y="2590920"/>
            <a:ext cx="154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4522680" y="2111400"/>
            <a:ext cx="1881360" cy="438120"/>
            <a:chOff x="4522680" y="2111400"/>
            <a:chExt cx="1881360" cy="438120"/>
          </a:xfrm>
        </p:grpSpPr>
        <p:sp>
          <p:nvSpPr>
            <p:cNvPr id="617" name=""/>
            <p:cNvSpPr/>
            <p:nvPr/>
          </p:nvSpPr>
          <p:spPr>
            <a:xfrm>
              <a:off x="4522680" y="2111400"/>
              <a:ext cx="1881360" cy="43812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522680" y="2111400"/>
              <a:ext cx="1881360" cy="43812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5174640" y="2158920"/>
            <a:ext cx="486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DP2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0" name=""/>
          <p:cNvSpPr/>
          <p:nvPr/>
        </p:nvSpPr>
        <p:spPr>
          <a:xfrm>
            <a:off x="6334200" y="5665680"/>
            <a:ext cx="696960" cy="31284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1" name=""/>
          <p:cNvSpPr/>
          <p:nvPr/>
        </p:nvSpPr>
        <p:spPr>
          <a:xfrm>
            <a:off x="6334200" y="5665680"/>
            <a:ext cx="69696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2" name=""/>
          <p:cNvSpPr/>
          <p:nvPr/>
        </p:nvSpPr>
        <p:spPr>
          <a:xfrm>
            <a:off x="6554520" y="5651640"/>
            <a:ext cx="38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K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3" name=""/>
          <p:cNvSpPr/>
          <p:nvPr/>
        </p:nvSpPr>
        <p:spPr>
          <a:xfrm>
            <a:off x="6773760" y="2287440"/>
            <a:ext cx="1536840" cy="374760"/>
          </a:xfrm>
          <a:custGeom>
            <a:avLst/>
            <a:gdLst/>
            <a:ahLst/>
            <a:rect l="l" t="t" r="r" b="b"/>
            <a:pathLst>
              <a:path w="6361" h="1724">
                <a:moveTo>
                  <a:pt x="287" y="0"/>
                </a:moveTo>
                <a:cubicBezTo>
                  <a:pt x="128" y="0"/>
                  <a:pt x="0" y="129"/>
                  <a:pt x="0" y="288"/>
                </a:cubicBezTo>
                <a:lnTo>
                  <a:pt x="0" y="1437"/>
                </a:lnTo>
                <a:cubicBezTo>
                  <a:pt x="0" y="1596"/>
                  <a:pt x="128" y="1724"/>
                  <a:pt x="287" y="1724"/>
                </a:cubicBezTo>
                <a:lnTo>
                  <a:pt x="6074" y="1724"/>
                </a:lnTo>
                <a:cubicBezTo>
                  <a:pt x="6233" y="1724"/>
                  <a:pt x="6361" y="1596"/>
                  <a:pt x="6361" y="1437"/>
                </a:cubicBezTo>
                <a:lnTo>
                  <a:pt x="6361" y="288"/>
                </a:lnTo>
                <a:cubicBezTo>
                  <a:pt x="6361" y="129"/>
                  <a:pt x="6233" y="0"/>
                  <a:pt x="6074" y="0"/>
                </a:cubicBezTo>
                <a:lnTo>
                  <a:pt x="287" y="0"/>
                </a:lnTo>
                <a:close/>
              </a:path>
            </a:pathLst>
          </a:cu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4" name=""/>
          <p:cNvSpPr/>
          <p:nvPr/>
        </p:nvSpPr>
        <p:spPr>
          <a:xfrm>
            <a:off x="6773760" y="2287440"/>
            <a:ext cx="1536840" cy="374760"/>
          </a:xfrm>
          <a:custGeom>
            <a:avLst/>
            <a:gdLst/>
            <a:ahLst/>
            <a:rect l="l" t="t" r="r" b="b"/>
            <a:pathLst>
              <a:path w="6361" h="1724">
                <a:moveTo>
                  <a:pt x="287" y="0"/>
                </a:moveTo>
                <a:cubicBezTo>
                  <a:pt x="128" y="0"/>
                  <a:pt x="0" y="129"/>
                  <a:pt x="0" y="288"/>
                </a:cubicBezTo>
                <a:lnTo>
                  <a:pt x="0" y="1437"/>
                </a:lnTo>
                <a:cubicBezTo>
                  <a:pt x="0" y="1596"/>
                  <a:pt x="128" y="1724"/>
                  <a:pt x="287" y="1724"/>
                </a:cubicBezTo>
                <a:lnTo>
                  <a:pt x="6074" y="1724"/>
                </a:lnTo>
                <a:cubicBezTo>
                  <a:pt x="6233" y="1724"/>
                  <a:pt x="6361" y="1596"/>
                  <a:pt x="6361" y="1437"/>
                </a:cubicBezTo>
                <a:lnTo>
                  <a:pt x="6361" y="288"/>
                </a:lnTo>
                <a:cubicBezTo>
                  <a:pt x="6361" y="129"/>
                  <a:pt x="6233" y="0"/>
                  <a:pt x="6074" y="0"/>
                </a:cubicBezTo>
                <a:lnTo>
                  <a:pt x="287" y="0"/>
                </a:lnTo>
                <a:close/>
              </a:path>
            </a:pathLst>
          </a:custGeom>
          <a:noFill/>
          <a:ln cap="rnd" w="23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5" name=""/>
          <p:cNvSpPr/>
          <p:nvPr/>
        </p:nvSpPr>
        <p:spPr>
          <a:xfrm>
            <a:off x="7373880" y="2305080"/>
            <a:ext cx="470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SH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6" name=""/>
          <p:cNvSpPr/>
          <p:nvPr/>
        </p:nvSpPr>
        <p:spPr>
          <a:xfrm>
            <a:off x="2660760" y="3287880"/>
            <a:ext cx="1741320" cy="376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7" name=""/>
          <p:cNvSpPr/>
          <p:nvPr/>
        </p:nvSpPr>
        <p:spPr>
          <a:xfrm>
            <a:off x="2660760" y="3287880"/>
            <a:ext cx="1741320" cy="37620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8" name=""/>
          <p:cNvSpPr/>
          <p:nvPr/>
        </p:nvSpPr>
        <p:spPr>
          <a:xfrm>
            <a:off x="3029040" y="3303720"/>
            <a:ext cx="1157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ON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9" name=""/>
          <p:cNvSpPr/>
          <p:nvPr/>
        </p:nvSpPr>
        <p:spPr>
          <a:xfrm>
            <a:off x="1824120" y="3913200"/>
            <a:ext cx="1533600" cy="31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0" name=""/>
          <p:cNvSpPr/>
          <p:nvPr/>
        </p:nvSpPr>
        <p:spPr>
          <a:xfrm>
            <a:off x="1824120" y="3913200"/>
            <a:ext cx="1533600" cy="31284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1" name=""/>
          <p:cNvSpPr/>
          <p:nvPr/>
        </p:nvSpPr>
        <p:spPr>
          <a:xfrm>
            <a:off x="2250000" y="3897360"/>
            <a:ext cx="157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2" name=""/>
          <p:cNvSpPr/>
          <p:nvPr/>
        </p:nvSpPr>
        <p:spPr>
          <a:xfrm>
            <a:off x="2397600" y="3897360"/>
            <a:ext cx="83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3" name=""/>
          <p:cNvSpPr/>
          <p:nvPr/>
        </p:nvSpPr>
        <p:spPr>
          <a:xfrm>
            <a:off x="2459160" y="3897360"/>
            <a:ext cx="633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T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4" name=""/>
          <p:cNvSpPr/>
          <p:nvPr/>
        </p:nvSpPr>
        <p:spPr>
          <a:xfrm>
            <a:off x="2171880" y="3287880"/>
            <a:ext cx="836280" cy="25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5" name=""/>
          <p:cNvSpPr/>
          <p:nvPr/>
        </p:nvSpPr>
        <p:spPr>
          <a:xfrm>
            <a:off x="2171880" y="3287880"/>
            <a:ext cx="836280" cy="25056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6" name=""/>
          <p:cNvSpPr/>
          <p:nvPr/>
        </p:nvSpPr>
        <p:spPr>
          <a:xfrm>
            <a:off x="2461680" y="3279600"/>
            <a:ext cx="380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Futura Bk"/>
              </a:rPr>
              <a:t>QIO</a:t>
            </a:r>
            <a:endParaRPr b="0" lang="en-US" sz="15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7" name=""/>
          <p:cNvSpPr/>
          <p:nvPr/>
        </p:nvSpPr>
        <p:spPr>
          <a:xfrm>
            <a:off x="1684440" y="4226040"/>
            <a:ext cx="1811160" cy="31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8" name=""/>
          <p:cNvSpPr/>
          <p:nvPr/>
        </p:nvSpPr>
        <p:spPr>
          <a:xfrm>
            <a:off x="1684440" y="4226040"/>
            <a:ext cx="181116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9" name=""/>
          <p:cNvSpPr/>
          <p:nvPr/>
        </p:nvSpPr>
        <p:spPr>
          <a:xfrm>
            <a:off x="1841040" y="4210200"/>
            <a:ext cx="1655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NET Servic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0" name=""/>
          <p:cNvSpPr/>
          <p:nvPr/>
        </p:nvSpPr>
        <p:spPr>
          <a:xfrm>
            <a:off x="2381400" y="3475080"/>
            <a:ext cx="1741320" cy="3762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1" name=""/>
          <p:cNvSpPr/>
          <p:nvPr/>
        </p:nvSpPr>
        <p:spPr>
          <a:xfrm>
            <a:off x="2381400" y="3475080"/>
            <a:ext cx="1741320" cy="37620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2" name=""/>
          <p:cNvSpPr/>
          <p:nvPr/>
        </p:nvSpPr>
        <p:spPr>
          <a:xfrm>
            <a:off x="2674440" y="3490920"/>
            <a:ext cx="102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3" name=""/>
          <p:cNvSpPr/>
          <p:nvPr/>
        </p:nvSpPr>
        <p:spPr>
          <a:xfrm>
            <a:off x="3781800" y="3490920"/>
            <a:ext cx="201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4" name=""/>
          <p:cNvSpPr/>
          <p:nvPr/>
        </p:nvSpPr>
        <p:spPr>
          <a:xfrm>
            <a:off x="1684440" y="3538440"/>
            <a:ext cx="1743120" cy="3747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5" name=""/>
          <p:cNvSpPr/>
          <p:nvPr/>
        </p:nvSpPr>
        <p:spPr>
          <a:xfrm>
            <a:off x="1684440" y="3538440"/>
            <a:ext cx="1743120" cy="37476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6" name=""/>
          <p:cNvSpPr/>
          <p:nvPr/>
        </p:nvSpPr>
        <p:spPr>
          <a:xfrm>
            <a:off x="2046240" y="3554280"/>
            <a:ext cx="1171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MON0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7" name=""/>
          <p:cNvSpPr/>
          <p:nvPr/>
        </p:nvSpPr>
        <p:spPr>
          <a:xfrm>
            <a:off x="2923200" y="2908440"/>
            <a:ext cx="122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One per CP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638280" y="1224000"/>
            <a:ext cx="1535040" cy="376200"/>
            <a:chOff x="638280" y="1224000"/>
            <a:chExt cx="1535040" cy="376200"/>
          </a:xfrm>
        </p:grpSpPr>
        <p:sp>
          <p:nvSpPr>
            <p:cNvPr id="649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solidFill>
              <a:srgbClr val="bbe0e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38280" y="1224000"/>
              <a:ext cx="1535040" cy="376200"/>
            </a:xfrm>
            <a:prstGeom prst="ellipse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253880" y="1241280"/>
            <a:ext cx="435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639720" y="1600200"/>
            <a:ext cx="1538280" cy="374760"/>
            <a:chOff x="639720" y="1600200"/>
            <a:chExt cx="1538280" cy="374760"/>
          </a:xfrm>
        </p:grpSpPr>
        <p:sp>
          <p:nvSpPr>
            <p:cNvPr id="653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9720" y="1600200"/>
              <a:ext cx="1538280" cy="374760"/>
            </a:xfrm>
            <a:custGeom>
              <a:avLst/>
              <a:gdLst/>
              <a:ahLst/>
              <a:rect l="l" t="t" r="r" b="b"/>
              <a:pathLst>
                <a:path w="6362" h="1724">
                  <a:moveTo>
                    <a:pt x="288" y="0"/>
                  </a:moveTo>
                  <a:cubicBezTo>
                    <a:pt x="129" y="0"/>
                    <a:pt x="0" y="128"/>
                    <a:pt x="0" y="287"/>
                  </a:cubicBezTo>
                  <a:lnTo>
                    <a:pt x="0" y="1436"/>
                  </a:lnTo>
                  <a:cubicBezTo>
                    <a:pt x="0" y="1595"/>
                    <a:pt x="129" y="1724"/>
                    <a:pt x="288" y="1724"/>
                  </a:cubicBezTo>
                  <a:lnTo>
                    <a:pt x="6074" y="1724"/>
                  </a:lnTo>
                  <a:cubicBezTo>
                    <a:pt x="6233" y="1724"/>
                    <a:pt x="6362" y="1595"/>
                    <a:pt x="6362" y="1436"/>
                  </a:cubicBezTo>
                  <a:lnTo>
                    <a:pt x="6362" y="287"/>
                  </a:lnTo>
                  <a:cubicBezTo>
                    <a:pt x="6362" y="128"/>
                    <a:pt x="6233" y="0"/>
                    <a:pt x="6074" y="0"/>
                  </a:cubicBezTo>
                  <a:lnTo>
                    <a:pt x="288" y="0"/>
                  </a:lnTo>
                  <a:close/>
                </a:path>
              </a:pathLst>
            </a:custGeom>
            <a:noFill/>
            <a:ln cap="rnd"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061640" y="1612800"/>
            <a:ext cx="837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IPSCF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39720" y="1974960"/>
            <a:ext cx="1538280" cy="311040"/>
            <a:chOff x="639720" y="1974960"/>
            <a:chExt cx="1538280" cy="311040"/>
          </a:xfrm>
        </p:grpSpPr>
        <p:sp>
          <p:nvSpPr>
            <p:cNvPr id="657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9720" y="1974960"/>
              <a:ext cx="1538280" cy="311040"/>
            </a:xfrm>
            <a:prstGeom prst="rect">
              <a:avLst/>
            </a:prstGeom>
            <a:noFill/>
            <a:ln cap="rnd" w="23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1338840" y="1960560"/>
            <a:ext cx="273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0" name=""/>
          <p:cNvSpPr/>
          <p:nvPr/>
        </p:nvSpPr>
        <p:spPr>
          <a:xfrm>
            <a:off x="6772320" y="1598760"/>
            <a:ext cx="1533600" cy="376200"/>
          </a:xfrm>
          <a:prstGeom prst="ellipse">
            <a:avLst/>
          </a:prstGeom>
          <a:solidFill>
            <a:srgbClr val="bbe0e3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1" name=""/>
          <p:cNvSpPr/>
          <p:nvPr/>
        </p:nvSpPr>
        <p:spPr>
          <a:xfrm>
            <a:off x="6772320" y="1598760"/>
            <a:ext cx="1533600" cy="376200"/>
          </a:xfrm>
          <a:prstGeom prst="ellipse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2" name=""/>
          <p:cNvSpPr/>
          <p:nvPr/>
        </p:nvSpPr>
        <p:spPr>
          <a:xfrm>
            <a:off x="7308360" y="1617840"/>
            <a:ext cx="60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AC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3" name=""/>
          <p:cNvSpPr/>
          <p:nvPr/>
        </p:nvSpPr>
        <p:spPr>
          <a:xfrm>
            <a:off x="6772320" y="1974960"/>
            <a:ext cx="1531800" cy="311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4" name=""/>
          <p:cNvSpPr/>
          <p:nvPr/>
        </p:nvSpPr>
        <p:spPr>
          <a:xfrm>
            <a:off x="6772320" y="1974960"/>
            <a:ext cx="1531800" cy="312480"/>
          </a:xfrm>
          <a:prstGeom prst="rect">
            <a:avLst/>
          </a:prstGeom>
          <a:noFill/>
          <a:ln cap="rnd" w="23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5" name=""/>
          <p:cNvSpPr/>
          <p:nvPr/>
        </p:nvSpPr>
        <p:spPr>
          <a:xfrm>
            <a:off x="7014240" y="1960560"/>
            <a:ext cx="119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CM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6" name=""/>
          <p:cNvSpPr/>
          <p:nvPr/>
        </p:nvSpPr>
        <p:spPr>
          <a:xfrm>
            <a:off x="8193240" y="4494240"/>
            <a:ext cx="59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eth0: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7" name=""/>
          <p:cNvSpPr/>
          <p:nvPr/>
        </p:nvSpPr>
        <p:spPr>
          <a:xfrm>
            <a:off x="6105600" y="3187800"/>
            <a:ext cx="88920" cy="2465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8" name=""/>
          <p:cNvSpPr/>
          <p:nvPr/>
        </p:nvSpPr>
        <p:spPr>
          <a:xfrm>
            <a:off x="7704000" y="2681280"/>
            <a:ext cx="0" cy="19908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914040" y="2241720"/>
            <a:ext cx="299880" cy="301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0" name=""/>
          <p:cNvSpPr/>
          <p:nvPr/>
        </p:nvSpPr>
        <p:spPr>
          <a:xfrm>
            <a:off x="1528920" y="2855880"/>
            <a:ext cx="487080" cy="6890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1" name=""/>
          <p:cNvSpPr/>
          <p:nvPr/>
        </p:nvSpPr>
        <p:spPr>
          <a:xfrm>
            <a:off x="3219480" y="3844800"/>
            <a:ext cx="814320" cy="19177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2" name=""/>
          <p:cNvSpPr/>
          <p:nvPr/>
        </p:nvSpPr>
        <p:spPr>
          <a:xfrm>
            <a:off x="4737240" y="2587680"/>
            <a:ext cx="1531800" cy="312840"/>
          </a:xfrm>
          <a:prstGeom prst="rect">
            <a:avLst/>
          </a:prstGeom>
          <a:solidFill>
            <a:srgbClr val="c3e3f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3" name=""/>
          <p:cNvSpPr/>
          <p:nvPr/>
        </p:nvSpPr>
        <p:spPr>
          <a:xfrm>
            <a:off x="4843080" y="2585880"/>
            <a:ext cx="1370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DISK Drive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6025A-AE1E-4395-90B4-CC3E0062396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oftware Component — CIPMA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ne process pair per HP Integrity NonStop NS-2000 server ($ZZCIP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mplemented using C++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central management point for CIP subsystem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anage CIP subsystem configuration record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onitor connection between CLIM hardware and the ServerNet switch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high-level management of each CLIM (including failover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77783-C224-456E-ABCE-BB2A8DCAC82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Component – CIPMA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55760" y="1481040"/>
            <a:ext cx="7921440" cy="4259520"/>
            <a:chOff x="455760" y="1481040"/>
            <a:chExt cx="7921440" cy="4259520"/>
          </a:xfrm>
        </p:grpSpPr>
        <p:sp>
          <p:nvSpPr>
            <p:cNvPr id="679" name=""/>
            <p:cNvSpPr/>
            <p:nvPr/>
          </p:nvSpPr>
          <p:spPr>
            <a:xfrm>
              <a:off x="3108240" y="1913040"/>
              <a:ext cx="2424240" cy="431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680" name="" descr=""/>
            <p:cNvPicPr/>
            <p:nvPr/>
          </p:nvPicPr>
          <p:blipFill>
            <a:blip r:embed="rId1"/>
            <a:stretch/>
          </p:blipFill>
          <p:spPr>
            <a:xfrm>
              <a:off x="887400" y="3903840"/>
              <a:ext cx="43344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"/>
            <p:cNvSpPr/>
            <p:nvPr/>
          </p:nvSpPr>
          <p:spPr>
            <a:xfrm>
              <a:off x="3108240" y="1913040"/>
              <a:ext cx="2424240" cy="4316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10040" y="1913040"/>
              <a:ext cx="2423880" cy="4316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32160" y="2022480"/>
              <a:ext cx="2128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SCF / OSM / SNMP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424120" y="20224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57200" y="3002040"/>
              <a:ext cx="1827360" cy="10634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57200" y="3002040"/>
              <a:ext cx="1827360" cy="10634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5760" y="3003480"/>
              <a:ext cx="1828800" cy="1063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39640" y="3314880"/>
              <a:ext cx="1584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Data Base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06280" y="33148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351240" y="4979880"/>
              <a:ext cx="2284560" cy="7606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351240" y="4979880"/>
              <a:ext cx="2284560" cy="76068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078800" y="5099040"/>
              <a:ext cx="1031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IPMON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956760" y="5376960"/>
              <a:ext cx="1206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ocesses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144760" y="53769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503520" y="3156120"/>
              <a:ext cx="1979640" cy="1063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503520" y="3156120"/>
              <a:ext cx="1979640" cy="106344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80600" y="3427560"/>
              <a:ext cx="1017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IPMAN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089240" y="370512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013000" y="3705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351240" y="3003480"/>
              <a:ext cx="1979640" cy="1063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351240" y="3003480"/>
              <a:ext cx="1979640" cy="10638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809520" y="3274920"/>
              <a:ext cx="950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IPMAN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745160" y="32749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824000" y="3274920"/>
              <a:ext cx="227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36960" y="3552840"/>
              <a:ext cx="938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860720" y="35528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909960" y="2344680"/>
              <a:ext cx="101520" cy="658800"/>
            </a:xfrm>
            <a:custGeom>
              <a:avLst/>
              <a:gdLst/>
              <a:ahLst/>
              <a:rect l="l" t="t" r="r" b="b"/>
              <a:pathLst>
                <a:path w="64" h="415">
                  <a:moveTo>
                    <a:pt x="25" y="361"/>
                  </a:moveTo>
                  <a:lnTo>
                    <a:pt x="25" y="52"/>
                  </a:lnTo>
                  <a:lnTo>
                    <a:pt x="27" y="51"/>
                  </a:lnTo>
                  <a:lnTo>
                    <a:pt x="28" y="48"/>
                  </a:lnTo>
                  <a:lnTo>
                    <a:pt x="29" y="47"/>
                  </a:lnTo>
                  <a:lnTo>
                    <a:pt x="32" y="47"/>
                  </a:lnTo>
                  <a:lnTo>
                    <a:pt x="33" y="47"/>
                  </a:lnTo>
                  <a:lnTo>
                    <a:pt x="36" y="48"/>
                  </a:lnTo>
                  <a:lnTo>
                    <a:pt x="36" y="51"/>
                  </a:lnTo>
                  <a:lnTo>
                    <a:pt x="37" y="52"/>
                  </a:lnTo>
                  <a:lnTo>
                    <a:pt x="37" y="361"/>
                  </a:lnTo>
                  <a:lnTo>
                    <a:pt x="36" y="364"/>
                  </a:lnTo>
                  <a:lnTo>
                    <a:pt x="36" y="365"/>
                  </a:lnTo>
                  <a:lnTo>
                    <a:pt x="33" y="366"/>
                  </a:lnTo>
                  <a:lnTo>
                    <a:pt x="32" y="366"/>
                  </a:lnTo>
                  <a:lnTo>
                    <a:pt x="29" y="366"/>
                  </a:lnTo>
                  <a:lnTo>
                    <a:pt x="28" y="365"/>
                  </a:lnTo>
                  <a:lnTo>
                    <a:pt x="27" y="364"/>
                  </a:lnTo>
                  <a:lnTo>
                    <a:pt x="25" y="361"/>
                  </a:lnTo>
                  <a:lnTo>
                    <a:pt x="25" y="361"/>
                  </a:lnTo>
                  <a:close/>
                  <a:moveTo>
                    <a:pt x="64" y="351"/>
                  </a:moveTo>
                  <a:lnTo>
                    <a:pt x="32" y="415"/>
                  </a:lnTo>
                  <a:lnTo>
                    <a:pt x="0" y="351"/>
                  </a:lnTo>
                  <a:lnTo>
                    <a:pt x="64" y="351"/>
                  </a:lnTo>
                  <a:close/>
                  <a:moveTo>
                    <a:pt x="0" y="64"/>
                  </a:moveTo>
                  <a:lnTo>
                    <a:pt x="32" y="0"/>
                  </a:lnTo>
                  <a:lnTo>
                    <a:pt x="64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580200" y="2494080"/>
              <a:ext cx="302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PI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78280" y="24940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672080" y="2330280"/>
              <a:ext cx="101520" cy="681120"/>
            </a:xfrm>
            <a:custGeom>
              <a:avLst/>
              <a:gdLst/>
              <a:ahLst/>
              <a:rect l="l" t="t" r="r" b="b"/>
              <a:pathLst>
                <a:path w="64" h="429">
                  <a:moveTo>
                    <a:pt x="25" y="424"/>
                  </a:moveTo>
                  <a:lnTo>
                    <a:pt x="25" y="53"/>
                  </a:lnTo>
                  <a:lnTo>
                    <a:pt x="27" y="51"/>
                  </a:lnTo>
                  <a:lnTo>
                    <a:pt x="28" y="50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5" y="50"/>
                  </a:lnTo>
                  <a:lnTo>
                    <a:pt x="35" y="51"/>
                  </a:lnTo>
                  <a:lnTo>
                    <a:pt x="37" y="53"/>
                  </a:lnTo>
                  <a:lnTo>
                    <a:pt x="37" y="424"/>
                  </a:lnTo>
                  <a:lnTo>
                    <a:pt x="35" y="425"/>
                  </a:lnTo>
                  <a:lnTo>
                    <a:pt x="35" y="428"/>
                  </a:lnTo>
                  <a:lnTo>
                    <a:pt x="33" y="428"/>
                  </a:lnTo>
                  <a:lnTo>
                    <a:pt x="32" y="429"/>
                  </a:lnTo>
                  <a:lnTo>
                    <a:pt x="29" y="428"/>
                  </a:lnTo>
                  <a:lnTo>
                    <a:pt x="28" y="428"/>
                  </a:lnTo>
                  <a:lnTo>
                    <a:pt x="27" y="425"/>
                  </a:lnTo>
                  <a:lnTo>
                    <a:pt x="25" y="424"/>
                  </a:lnTo>
                  <a:lnTo>
                    <a:pt x="25" y="424"/>
                  </a:lnTo>
                  <a:close/>
                  <a:moveTo>
                    <a:pt x="0" y="64"/>
                  </a:moveTo>
                  <a:lnTo>
                    <a:pt x="32" y="0"/>
                  </a:lnTo>
                  <a:lnTo>
                    <a:pt x="64" y="64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5920" y="249876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M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87320" y="24987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330880" y="3560760"/>
              <a:ext cx="1219320" cy="10152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53" y="26"/>
                  </a:moveTo>
                  <a:lnTo>
                    <a:pt x="714" y="26"/>
                  </a:lnTo>
                  <a:lnTo>
                    <a:pt x="717" y="27"/>
                  </a:lnTo>
                  <a:lnTo>
                    <a:pt x="718" y="28"/>
                  </a:lnTo>
                  <a:lnTo>
                    <a:pt x="719" y="29"/>
                  </a:lnTo>
                  <a:lnTo>
                    <a:pt x="719" y="32"/>
                  </a:lnTo>
                  <a:lnTo>
                    <a:pt x="719" y="33"/>
                  </a:lnTo>
                  <a:lnTo>
                    <a:pt x="718" y="36"/>
                  </a:lnTo>
                  <a:lnTo>
                    <a:pt x="717" y="36"/>
                  </a:lnTo>
                  <a:lnTo>
                    <a:pt x="714" y="37"/>
                  </a:lnTo>
                  <a:lnTo>
                    <a:pt x="53" y="37"/>
                  </a:lnTo>
                  <a:lnTo>
                    <a:pt x="52" y="36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49" y="28"/>
                  </a:lnTo>
                  <a:lnTo>
                    <a:pt x="52" y="27"/>
                  </a:lnTo>
                  <a:lnTo>
                    <a:pt x="53" y="26"/>
                  </a:lnTo>
                  <a:lnTo>
                    <a:pt x="53" y="26"/>
                  </a:lnTo>
                  <a:close/>
                  <a:moveTo>
                    <a:pt x="64" y="64"/>
                  </a:moveTo>
                  <a:lnTo>
                    <a:pt x="0" y="32"/>
                  </a:lnTo>
                  <a:lnTo>
                    <a:pt x="64" y="0"/>
                  </a:lnTo>
                  <a:lnTo>
                    <a:pt x="64" y="64"/>
                  </a:lnTo>
                  <a:close/>
                  <a:moveTo>
                    <a:pt x="704" y="0"/>
                  </a:moveTo>
                  <a:lnTo>
                    <a:pt x="768" y="32"/>
                  </a:lnTo>
                  <a:lnTo>
                    <a:pt x="704" y="64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284560" y="3560760"/>
              <a:ext cx="1066680" cy="101520"/>
            </a:xfrm>
            <a:custGeom>
              <a:avLst/>
              <a:gdLst/>
              <a:ahLst/>
              <a:rect l="l" t="t" r="r" b="b"/>
              <a:pathLst>
                <a:path w="672" h="64">
                  <a:moveTo>
                    <a:pt x="618" y="37"/>
                  </a:moveTo>
                  <a:lnTo>
                    <a:pt x="53" y="37"/>
                  </a:lnTo>
                  <a:lnTo>
                    <a:pt x="52" y="36"/>
                  </a:lnTo>
                  <a:lnTo>
                    <a:pt x="49" y="36"/>
                  </a:lnTo>
                  <a:lnTo>
                    <a:pt x="48" y="33"/>
                  </a:lnTo>
                  <a:lnTo>
                    <a:pt x="48" y="32"/>
                  </a:lnTo>
                  <a:lnTo>
                    <a:pt x="48" y="29"/>
                  </a:lnTo>
                  <a:lnTo>
                    <a:pt x="49" y="28"/>
                  </a:lnTo>
                  <a:lnTo>
                    <a:pt x="52" y="27"/>
                  </a:lnTo>
                  <a:lnTo>
                    <a:pt x="53" y="26"/>
                  </a:lnTo>
                  <a:lnTo>
                    <a:pt x="618" y="26"/>
                  </a:lnTo>
                  <a:lnTo>
                    <a:pt x="621" y="27"/>
                  </a:lnTo>
                  <a:lnTo>
                    <a:pt x="622" y="28"/>
                  </a:lnTo>
                  <a:lnTo>
                    <a:pt x="623" y="29"/>
                  </a:lnTo>
                  <a:lnTo>
                    <a:pt x="623" y="32"/>
                  </a:lnTo>
                  <a:lnTo>
                    <a:pt x="623" y="33"/>
                  </a:lnTo>
                  <a:lnTo>
                    <a:pt x="622" y="36"/>
                  </a:lnTo>
                  <a:lnTo>
                    <a:pt x="621" y="36"/>
                  </a:lnTo>
                  <a:lnTo>
                    <a:pt x="618" y="37"/>
                  </a:lnTo>
                  <a:lnTo>
                    <a:pt x="618" y="37"/>
                  </a:lnTo>
                  <a:close/>
                  <a:moveTo>
                    <a:pt x="608" y="0"/>
                  </a:moveTo>
                  <a:lnTo>
                    <a:pt x="672" y="32"/>
                  </a:lnTo>
                  <a:lnTo>
                    <a:pt x="608" y="64"/>
                  </a:lnTo>
                  <a:lnTo>
                    <a:pt x="608" y="0"/>
                  </a:lnTo>
                  <a:close/>
                  <a:moveTo>
                    <a:pt x="64" y="64"/>
                  </a:moveTo>
                  <a:lnTo>
                    <a:pt x="0" y="32"/>
                  </a:lnTo>
                  <a:lnTo>
                    <a:pt x="64" y="0"/>
                  </a:lnTo>
                  <a:lnTo>
                    <a:pt x="64" y="6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672080" y="4067280"/>
              <a:ext cx="101520" cy="912600"/>
            </a:xfrm>
            <a:custGeom>
              <a:avLst/>
              <a:gdLst/>
              <a:ahLst/>
              <a:rect l="l" t="t" r="r" b="b"/>
              <a:pathLst>
                <a:path w="64" h="575">
                  <a:moveTo>
                    <a:pt x="37" y="53"/>
                  </a:moveTo>
                  <a:lnTo>
                    <a:pt x="37" y="521"/>
                  </a:lnTo>
                  <a:lnTo>
                    <a:pt x="35" y="524"/>
                  </a:lnTo>
                  <a:lnTo>
                    <a:pt x="35" y="525"/>
                  </a:lnTo>
                  <a:lnTo>
                    <a:pt x="33" y="526"/>
                  </a:lnTo>
                  <a:lnTo>
                    <a:pt x="32" y="526"/>
                  </a:lnTo>
                  <a:lnTo>
                    <a:pt x="29" y="526"/>
                  </a:lnTo>
                  <a:lnTo>
                    <a:pt x="28" y="525"/>
                  </a:lnTo>
                  <a:lnTo>
                    <a:pt x="27" y="524"/>
                  </a:lnTo>
                  <a:lnTo>
                    <a:pt x="25" y="521"/>
                  </a:lnTo>
                  <a:lnTo>
                    <a:pt x="25" y="53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5" y="49"/>
                  </a:lnTo>
                  <a:lnTo>
                    <a:pt x="35" y="51"/>
                  </a:lnTo>
                  <a:lnTo>
                    <a:pt x="37" y="53"/>
                  </a:lnTo>
                  <a:lnTo>
                    <a:pt x="37" y="53"/>
                  </a:lnTo>
                  <a:close/>
                  <a:moveTo>
                    <a:pt x="0" y="64"/>
                  </a:moveTo>
                  <a:lnTo>
                    <a:pt x="32" y="0"/>
                  </a:lnTo>
                  <a:lnTo>
                    <a:pt x="64" y="64"/>
                  </a:lnTo>
                  <a:lnTo>
                    <a:pt x="0" y="64"/>
                  </a:lnTo>
                  <a:close/>
                  <a:moveTo>
                    <a:pt x="64" y="511"/>
                  </a:moveTo>
                  <a:lnTo>
                    <a:pt x="32" y="575"/>
                  </a:lnTo>
                  <a:lnTo>
                    <a:pt x="0" y="511"/>
                  </a:lnTo>
                  <a:lnTo>
                    <a:pt x="64" y="51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18960" y="4284720"/>
              <a:ext cx="1166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LIM Mgmt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900040" y="42847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93040" y="4535640"/>
              <a:ext cx="2277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(via CIPMON using QIO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933600" y="449748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09960" y="4067280"/>
              <a:ext cx="101520" cy="912600"/>
            </a:xfrm>
            <a:custGeom>
              <a:avLst/>
              <a:gdLst/>
              <a:ahLst/>
              <a:rect l="l" t="t" r="r" b="b"/>
              <a:pathLst>
                <a:path w="64" h="575">
                  <a:moveTo>
                    <a:pt x="37" y="53"/>
                  </a:moveTo>
                  <a:lnTo>
                    <a:pt x="37" y="521"/>
                  </a:lnTo>
                  <a:lnTo>
                    <a:pt x="36" y="524"/>
                  </a:lnTo>
                  <a:lnTo>
                    <a:pt x="36" y="525"/>
                  </a:lnTo>
                  <a:lnTo>
                    <a:pt x="33" y="526"/>
                  </a:lnTo>
                  <a:lnTo>
                    <a:pt x="32" y="526"/>
                  </a:lnTo>
                  <a:lnTo>
                    <a:pt x="29" y="526"/>
                  </a:lnTo>
                  <a:lnTo>
                    <a:pt x="28" y="525"/>
                  </a:lnTo>
                  <a:lnTo>
                    <a:pt x="27" y="524"/>
                  </a:lnTo>
                  <a:lnTo>
                    <a:pt x="25" y="521"/>
                  </a:lnTo>
                  <a:lnTo>
                    <a:pt x="25" y="53"/>
                  </a:lnTo>
                  <a:lnTo>
                    <a:pt x="27" y="51"/>
                  </a:lnTo>
                  <a:lnTo>
                    <a:pt x="28" y="49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3" y="48"/>
                  </a:lnTo>
                  <a:lnTo>
                    <a:pt x="36" y="49"/>
                  </a:lnTo>
                  <a:lnTo>
                    <a:pt x="36" y="51"/>
                  </a:lnTo>
                  <a:lnTo>
                    <a:pt x="37" y="53"/>
                  </a:lnTo>
                  <a:lnTo>
                    <a:pt x="37" y="53"/>
                  </a:lnTo>
                  <a:close/>
                  <a:moveTo>
                    <a:pt x="0" y="64"/>
                  </a:moveTo>
                  <a:lnTo>
                    <a:pt x="32" y="0"/>
                  </a:lnTo>
                  <a:lnTo>
                    <a:pt x="64" y="64"/>
                  </a:lnTo>
                  <a:lnTo>
                    <a:pt x="0" y="64"/>
                  </a:lnTo>
                  <a:close/>
                  <a:moveTo>
                    <a:pt x="64" y="511"/>
                  </a:moveTo>
                  <a:lnTo>
                    <a:pt x="32" y="575"/>
                  </a:lnTo>
                  <a:lnTo>
                    <a:pt x="0" y="511"/>
                  </a:lnTo>
                  <a:lnTo>
                    <a:pt x="64" y="51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87960" y="42800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IPMON Mgmt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878280" y="42800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714040" y="4521240"/>
              <a:ext cx="108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(using QIO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78280" y="4521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108240" y="1482840"/>
              <a:ext cx="24242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726" name="" descr=""/>
            <p:cNvPicPr/>
            <p:nvPr/>
          </p:nvPicPr>
          <p:blipFill>
            <a:blip r:embed="rId2"/>
            <a:stretch/>
          </p:blipFill>
          <p:spPr>
            <a:xfrm>
              <a:off x="455760" y="3903840"/>
              <a:ext cx="431640" cy="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108240" y="1482840"/>
              <a:ext cx="2424240" cy="43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110040" y="1481040"/>
              <a:ext cx="2423880" cy="4320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300480" y="1590840"/>
              <a:ext cx="219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P SIM / OpenView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59040" y="159084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548400" y="2216160"/>
              <a:ext cx="1827360" cy="2193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48400" y="2216160"/>
              <a:ext cx="1827360" cy="219384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50200" y="2216160"/>
              <a:ext cx="1827000" cy="2192400"/>
            </a:xfrm>
            <a:prstGeom prst="rect">
              <a:avLst/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945480" y="2592360"/>
              <a:ext cx="11649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65000" y="2870280"/>
              <a:ext cx="844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897320" y="28702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624720" y="3510000"/>
              <a:ext cx="1690560" cy="698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624720" y="3510000"/>
              <a:ext cx="1690560" cy="698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624720" y="3510000"/>
              <a:ext cx="1689120" cy="698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37440" y="3579840"/>
              <a:ext cx="65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CLIM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60240" y="385776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iscovery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8094240" y="38577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4E79F-54F4-4D4E-9953-04D8A6ED6F8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Component — CIPM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Manages connections with CLI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ne process per CPU ($ZCMxx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andles management requests from CIPMA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ncludes sending requests to the CLIM via CIPSREQ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a “call back” feature so that CIPSREQ can function in CIPMON’s contex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support for processing TCP/IP data in CIPMON context, including socket migration and resource cleanup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xy process for ZCIPDLL, ZCIPMDLL, and CLIM for generating EMS and writing the trace recor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A549-E617-4D9B-B81B-8E1FD0AAB02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Component — CIPM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355320" y="1109520"/>
            <a:ext cx="8610840" cy="5181840"/>
            <a:chOff x="355320" y="1109520"/>
            <a:chExt cx="8610840" cy="5181840"/>
          </a:xfrm>
        </p:grpSpPr>
        <p:sp>
          <p:nvSpPr>
            <p:cNvPr id="747" name=""/>
            <p:cNvSpPr/>
            <p:nvPr/>
          </p:nvSpPr>
          <p:spPr>
            <a:xfrm>
              <a:off x="2612880" y="4425840"/>
              <a:ext cx="1838520" cy="67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CIP Mgmt Responses and asynchronous messages (QIO)</a:t>
              </a:r>
              <a:endParaRPr b="0" lang="en-US" sz="12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40040" y="3741840"/>
              <a:ext cx="10443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NSK </a:t>
              </a:r>
              <a:r>
                <a:rPr b="0" lang="en-US" sz="12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Config</a:t>
              </a:r>
              <a:r>
                <a:rPr b="0" lang="en-US" sz="9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 Services</a:t>
              </a:r>
              <a:endParaRPr b="0" lang="en-US" sz="9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49" name=""/>
            <p:cNvSpPr txBox="1"/>
            <p:nvPr/>
          </p:nvSpPr>
          <p:spPr>
            <a:xfrm>
              <a:off x="584280" y="1109520"/>
              <a:ext cx="8381880" cy="5181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43440" y="2641680"/>
              <a:ext cx="1446480" cy="3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DSM_TRAC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143240" y="2157480"/>
              <a:ext cx="614520" cy="2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QIO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192480" y="2484360"/>
              <a:ext cx="2328840" cy="107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417840" y="1251000"/>
              <a:ext cx="1916280" cy="809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794640" y="3487680"/>
              <a:ext cx="1407960" cy="571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17760" y="1336680"/>
              <a:ext cx="1916280" cy="809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14680" y="1447920"/>
              <a:ext cx="1595520" cy="5745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CIPMAN Process Pair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94640" y="2041560"/>
              <a:ext cx="1407960" cy="571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16760" y="3594240"/>
              <a:ext cx="1020600" cy="336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EMS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989760" y="2154240"/>
              <a:ext cx="1020600" cy="3348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Trace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514680" y="3741480"/>
              <a:ext cx="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3863880" y="3741480"/>
              <a:ext cx="18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37240" y="4738680"/>
              <a:ext cx="1896840" cy="87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CIP Mgmt Requests (Procedure Calls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73520" y="3741840"/>
              <a:ext cx="1800" cy="16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25920" y="3594240"/>
              <a:ext cx="1212840" cy="35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EMSSEND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03560" y="2998800"/>
              <a:ext cx="69984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  <a:ea typeface="ＭＳ 明朝"/>
                </a:rPr>
                <a:t>QIO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36600" y="2817720"/>
              <a:ext cx="89388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117960" y="2565360"/>
              <a:ext cx="2328840" cy="107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030480" y="2668680"/>
              <a:ext cx="2328840" cy="10731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60880" y="2917800"/>
              <a:ext cx="1915920" cy="3366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CIPMON Process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00480" y="2146320"/>
              <a:ext cx="1800" cy="5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5359320" y="2352240"/>
              <a:ext cx="1435320" cy="51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59320" y="3137040"/>
              <a:ext cx="1435320" cy="61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192480" y="5411880"/>
              <a:ext cx="1917720" cy="8096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576600" y="5522760"/>
              <a:ext cx="1235160" cy="576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CIPSREQ (k-ITAPI)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1320" y="3646440"/>
              <a:ext cx="234756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NonStop Configuration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ervic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2149560" y="3528720"/>
              <a:ext cx="880920" cy="10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79320" y="2251080"/>
              <a:ext cx="1486080" cy="9493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39800" y="2352600"/>
              <a:ext cx="1351080" cy="5605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CSIF (Client Process)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567880" y="4129200"/>
              <a:ext cx="1916280" cy="106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IP Management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Respons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and Asynchronous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Messages (QIO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8960" y="4316400"/>
              <a:ext cx="1844640" cy="860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2960" y="4467240"/>
              <a:ext cx="1770120" cy="5745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Configuration Database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55320" y="1838160"/>
              <a:ext cx="256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Common Socket Interfac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3D5E8-B73A-42D5-946F-01FCF3C893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Component – CIPSA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2000"/>
          </a:bodyPr>
          <a:p>
            <a:pPr lvl="1" marL="318240" indent="-2127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IP Socket Access Method (CIPSA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36840" indent="-2131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Based on TCP6SA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18240" indent="-2127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 process pair that provides applications with a name for a socket transport service provid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36840" indent="-2131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One process pair per each PROVIDER object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18240" indent="-2127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ile system sends an open request to CIPSAM for each socket ope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36840" indent="-2131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rovide indication that this is a CIP socket for mapping to use CIP CSIF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18240" indent="-2127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andles duplicate open requests, backup open requests, close requests, and closes any openers that reside on a down CPU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18240" indent="-2127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support for SUBNET (but not ROUTE) object by using the SPI interface (for compatibility with conventional TCP/IP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7BA57-2F0A-4468-959E-971CB3F3EF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Component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ZCIPDL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hared run-time resource library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Loaded into each CPU by the monitor process (CSIF/CIPREQ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ZCIPMDL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rovide interfaces between Measure and CIP subsyste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Help gather information about CIP subsystem that is used by Measur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easure call ZCIPMDLL to get latest CLIM configuration in the current CPU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965A-3D7A-46F1-9012-D7EDCAA559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— CLIM Components (1 of 2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apella dri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nitializes and drives the ServerNet PCI-e card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rovides neighbor check between the CLIM and the ServerNet switch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T-API/SCS Dri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nitializes and drives the ServerNet interface between the NonStop operating system and the CLI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MO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Responsible for starting and monitoring all other processes on the CLIM which interact which the NonStop operating syste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43257-EAA3-41D9-9BF4-B063DAC4075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Software — CLIM Components (2 of 2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3000"/>
          </a:bodyPr>
          <a:p>
            <a:pPr lvl="1" marL="321480" indent="-21492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AG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43680" indent="-21528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Responsible for processing host management and status request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953640" indent="-20376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Not involved in data transfer or socket operation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43680" indent="-21528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upports bring up/down interfaces as requested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43680" indent="-21528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nitors changes in interfaces status and configuration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953640" indent="-20376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rwards information to the NonStop operating syste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953640" indent="-20376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rwards EVLOG events to the host as EMS log event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21480" indent="-21492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IPSSRV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43680" indent="-21528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Responsible for TCP/IP offload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953640" indent="-20376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rocesses all host socket requests and performs them by using standard Linux socket API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43680" indent="-21528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For every socket created on the host, CIPSSRV will create one or more Linux sockets to be used to emulate the host socket calls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43680" indent="-21528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Can have more than one CIPSSRV per CLI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17A73-BC54-4865-89F3-96133AD7AE9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odule Object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roduce the Cluster I/O Module (CLI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common components of the CLI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CLIM theory of operatio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how the CLIM connects into the NonStop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Cluster I/O Protocol (CIP) software component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D63E2-8B1E-45E0-9A1C-F461B27BFA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IP Data Flow — CIP Versus TCP/IPv6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2" name=""/>
          <p:cNvSpPr/>
          <p:nvPr/>
        </p:nvSpPr>
        <p:spPr>
          <a:xfrm>
            <a:off x="5846760" y="4659480"/>
            <a:ext cx="1130400" cy="609480"/>
          </a:xfrm>
          <a:prstGeom prst="ellipse">
            <a:avLst/>
          </a:prstGeom>
          <a:solidFill>
            <a:srgbClr val="a8000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LSA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IH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3" name=""/>
          <p:cNvSpPr/>
          <p:nvPr/>
        </p:nvSpPr>
        <p:spPr>
          <a:xfrm>
            <a:off x="4865760" y="2602080"/>
            <a:ext cx="1714320" cy="987120"/>
          </a:xfrm>
          <a:prstGeom prst="ellipse">
            <a:avLst/>
          </a:prstGeom>
          <a:solidFill>
            <a:srgbClr val="a8000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4" name=""/>
          <p:cNvSpPr/>
          <p:nvPr/>
        </p:nvSpPr>
        <p:spPr>
          <a:xfrm>
            <a:off x="5021280" y="3057480"/>
            <a:ext cx="1420920" cy="27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TCP6DLL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5" name=""/>
          <p:cNvSpPr/>
          <p:nvPr/>
        </p:nvSpPr>
        <p:spPr>
          <a:xfrm>
            <a:off x="6781680" y="3276720"/>
            <a:ext cx="1973520" cy="1189080"/>
          </a:xfrm>
          <a:prstGeom prst="ellipse">
            <a:avLst/>
          </a:prstGeom>
          <a:solidFill>
            <a:srgbClr val="a8000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CP6M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6" name=""/>
          <p:cNvSpPr/>
          <p:nvPr/>
        </p:nvSpPr>
        <p:spPr>
          <a:xfrm>
            <a:off x="6991200" y="3857760"/>
            <a:ext cx="1454400" cy="336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TCP6DLL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600960" y="4257720"/>
            <a:ext cx="463320" cy="4017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8" name=""/>
          <p:cNvSpPr/>
          <p:nvPr/>
        </p:nvSpPr>
        <p:spPr>
          <a:xfrm flipH="1">
            <a:off x="6794280" y="4378320"/>
            <a:ext cx="376200" cy="412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9" name=""/>
          <p:cNvSpPr/>
          <p:nvPr/>
        </p:nvSpPr>
        <p:spPr>
          <a:xfrm>
            <a:off x="5716440" y="3465360"/>
            <a:ext cx="495360" cy="120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6305400" y="3458880"/>
            <a:ext cx="549360" cy="191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1" name=""/>
          <p:cNvSpPr/>
          <p:nvPr/>
        </p:nvSpPr>
        <p:spPr>
          <a:xfrm>
            <a:off x="6299280" y="2151000"/>
            <a:ext cx="24890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Bk"/>
                <a:ea typeface="Arial"/>
              </a:rPr>
              <a:t>TCP/IPv6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2" name=""/>
          <p:cNvSpPr/>
          <p:nvPr/>
        </p:nvSpPr>
        <p:spPr>
          <a:xfrm>
            <a:off x="1793880" y="4761000"/>
            <a:ext cx="1130400" cy="609480"/>
          </a:xfrm>
          <a:prstGeom prst="ellipse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kIT-API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3" name=""/>
          <p:cNvSpPr/>
          <p:nvPr/>
        </p:nvSpPr>
        <p:spPr>
          <a:xfrm>
            <a:off x="452520" y="2544840"/>
            <a:ext cx="1782720" cy="1030320"/>
          </a:xfrm>
          <a:prstGeom prst="ellipse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4" name=""/>
          <p:cNvSpPr/>
          <p:nvPr/>
        </p:nvSpPr>
        <p:spPr>
          <a:xfrm>
            <a:off x="755640" y="3059280"/>
            <a:ext cx="1252440" cy="334800"/>
          </a:xfrm>
          <a:prstGeom prst="rect">
            <a:avLst/>
          </a:prstGeom>
          <a:solidFill>
            <a:srgbClr val="f4e44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CIPDLL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5" name=""/>
          <p:cNvSpPr/>
          <p:nvPr/>
        </p:nvSpPr>
        <p:spPr>
          <a:xfrm>
            <a:off x="2622600" y="3249720"/>
            <a:ext cx="1581120" cy="1206360"/>
          </a:xfrm>
          <a:prstGeom prst="ellipse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IPMO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6" name=""/>
          <p:cNvSpPr/>
          <p:nvPr/>
        </p:nvSpPr>
        <p:spPr>
          <a:xfrm>
            <a:off x="2795760" y="3828960"/>
            <a:ext cx="1284120" cy="336600"/>
          </a:xfrm>
          <a:prstGeom prst="rect">
            <a:avLst/>
          </a:prstGeom>
          <a:solidFill>
            <a:srgbClr val="f4e44c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CIPDLL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2548080" y="4359240"/>
            <a:ext cx="442800" cy="4017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2808000" y="4457880"/>
            <a:ext cx="376200" cy="45720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9" name=""/>
          <p:cNvSpPr/>
          <p:nvPr/>
        </p:nvSpPr>
        <p:spPr>
          <a:xfrm>
            <a:off x="1727280" y="3529080"/>
            <a:ext cx="393480" cy="1270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0" name=""/>
          <p:cNvSpPr/>
          <p:nvPr/>
        </p:nvSpPr>
        <p:spPr>
          <a:xfrm>
            <a:off x="487440" y="1787400"/>
            <a:ext cx="18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utura Bk"/>
                <a:ea typeface="Arial"/>
              </a:rPr>
              <a:t>CIP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1" name=""/>
          <p:cNvSpPr/>
          <p:nvPr/>
        </p:nvSpPr>
        <p:spPr>
          <a:xfrm>
            <a:off x="2120760" y="3262320"/>
            <a:ext cx="609840" cy="27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2" name=""/>
          <p:cNvSpPr/>
          <p:nvPr/>
        </p:nvSpPr>
        <p:spPr>
          <a:xfrm flipH="1" flipV="1">
            <a:off x="1371240" y="3580920"/>
            <a:ext cx="609480" cy="129564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3AE18-67CA-4413-8B78-AF53848DE36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 Software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 software instal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e CLIM DVD is shipped with a SUT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nstall the CLIM DVD on a NonStop system consol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Windows Installe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OSM low-level link (LLL) used to update CLIM Softwar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lect vers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utomatically installed and CLIM restart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 logging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CIP subsystem logs events to the Linux evlog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evlog records are forwarded to EMS by the CLIMAGT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79EBF-EC5F-471A-A632-35CC3799FC3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1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817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6FC2-FCF2-42E8-8046-1E4C46C64D0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638360" y="525312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730600" y="5243400"/>
            <a:ext cx="419040" cy="622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8680" y="222120"/>
            <a:ext cx="8663040" cy="927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uster I/O Modules (CLIMs)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"/>
          <p:cNvSpPr/>
          <p:nvPr/>
        </p:nvSpPr>
        <p:spPr>
          <a:xfrm>
            <a:off x="1957320" y="3521160"/>
            <a:ext cx="3981600" cy="53316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7" name=""/>
          <p:cNvSpPr/>
          <p:nvPr/>
        </p:nvSpPr>
        <p:spPr>
          <a:xfrm>
            <a:off x="2982240" y="3429000"/>
            <a:ext cx="1441080" cy="3988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"/>
          <p:cNvSpPr/>
          <p:nvPr/>
        </p:nvSpPr>
        <p:spPr>
          <a:xfrm>
            <a:off x="1498680" y="5289480"/>
            <a:ext cx="47124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503440" y="5291280"/>
            <a:ext cx="419040" cy="622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893960" y="3959280"/>
            <a:ext cx="52056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1" name=""/>
          <p:cNvSpPr/>
          <p:nvPr/>
        </p:nvSpPr>
        <p:spPr>
          <a:xfrm>
            <a:off x="2998800" y="403560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"/>
          <p:cNvSpPr/>
          <p:nvPr/>
        </p:nvSpPr>
        <p:spPr>
          <a:xfrm>
            <a:off x="1564200" y="62251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3" name=""/>
          <p:cNvSpPr/>
          <p:nvPr/>
        </p:nvSpPr>
        <p:spPr>
          <a:xfrm>
            <a:off x="4721400" y="2782800"/>
            <a:ext cx="14040" cy="6685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4" name=""/>
          <p:cNvSpPr/>
          <p:nvPr/>
        </p:nvSpPr>
        <p:spPr>
          <a:xfrm>
            <a:off x="2913120" y="2814480"/>
            <a:ext cx="361800" cy="6098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5923080" y="3769920"/>
            <a:ext cx="1145880" cy="176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"/>
          <p:cNvSpPr/>
          <p:nvPr/>
        </p:nvSpPr>
        <p:spPr>
          <a:xfrm>
            <a:off x="1805040" y="3368520"/>
            <a:ext cx="3981240" cy="53352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7" name=""/>
          <p:cNvSpPr/>
          <p:nvPr/>
        </p:nvSpPr>
        <p:spPr>
          <a:xfrm>
            <a:off x="2225520" y="2701800"/>
            <a:ext cx="378000" cy="757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98" name="Picture 8" descr=""/>
          <p:cNvPicPr/>
          <p:nvPr/>
        </p:nvPicPr>
        <p:blipFill>
          <a:blip r:embed="rId1"/>
          <a:stretch/>
        </p:blipFill>
        <p:spPr>
          <a:xfrm>
            <a:off x="917640" y="1230480"/>
            <a:ext cx="2712960" cy="20001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 flipH="1">
            <a:off x="5192280" y="2811600"/>
            <a:ext cx="128520" cy="688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2"/>
          <a:stretch/>
        </p:blipFill>
        <p:spPr>
          <a:xfrm>
            <a:off x="3827520" y="1211400"/>
            <a:ext cx="271296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717640" y="3462480"/>
            <a:ext cx="2165400" cy="3682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erverNet X Fabric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46680" y="3630600"/>
            <a:ext cx="1308240" cy="31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964880" y="3990960"/>
            <a:ext cx="52092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581120" y="3780000"/>
            <a:ext cx="681120" cy="769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706040" y="3784680"/>
            <a:ext cx="630360" cy="7430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6" name=""/>
          <p:cNvSpPr/>
          <p:nvPr/>
        </p:nvSpPr>
        <p:spPr>
          <a:xfrm>
            <a:off x="3100320" y="403848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7" name=""/>
          <p:cNvSpPr/>
          <p:nvPr/>
        </p:nvSpPr>
        <p:spPr>
          <a:xfrm>
            <a:off x="1017720" y="448632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8" name=""/>
          <p:cNvSpPr/>
          <p:nvPr/>
        </p:nvSpPr>
        <p:spPr>
          <a:xfrm>
            <a:off x="963720" y="4557600"/>
            <a:ext cx="113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9" name=""/>
          <p:cNvSpPr/>
          <p:nvPr/>
        </p:nvSpPr>
        <p:spPr>
          <a:xfrm>
            <a:off x="2360520" y="4486320"/>
            <a:ext cx="119088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0" name=""/>
          <p:cNvSpPr/>
          <p:nvPr/>
        </p:nvSpPr>
        <p:spPr>
          <a:xfrm>
            <a:off x="2448000" y="4510080"/>
            <a:ext cx="11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1" name=""/>
          <p:cNvSpPr/>
          <p:nvPr/>
        </p:nvSpPr>
        <p:spPr>
          <a:xfrm>
            <a:off x="2684520" y="3873600"/>
            <a:ext cx="0" cy="6127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01880" y="3897360"/>
            <a:ext cx="14400" cy="573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7072200" y="2832120"/>
            <a:ext cx="1541520" cy="15238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422840" y="23652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OAM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5" name=""/>
          <p:cNvSpPr/>
          <p:nvPr/>
        </p:nvSpPr>
        <p:spPr>
          <a:xfrm>
            <a:off x="2055960" y="5791320"/>
            <a:ext cx="40608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6" name=""/>
          <p:cNvSpPr/>
          <p:nvPr/>
        </p:nvSpPr>
        <p:spPr>
          <a:xfrm>
            <a:off x="1744560" y="568152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7" name=""/>
          <p:cNvSpPr/>
          <p:nvPr/>
        </p:nvSpPr>
        <p:spPr>
          <a:xfrm>
            <a:off x="2684520" y="584208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8" name=""/>
          <p:cNvSpPr/>
          <p:nvPr/>
        </p:nvSpPr>
        <p:spPr>
          <a:xfrm>
            <a:off x="2384280" y="5705640"/>
            <a:ext cx="406440" cy="49500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9" name=""/>
          <p:cNvSpPr/>
          <p:nvPr/>
        </p:nvSpPr>
        <p:spPr>
          <a:xfrm>
            <a:off x="4554360" y="530208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651360" y="5338800"/>
            <a:ext cx="60120" cy="7491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1" name=""/>
          <p:cNvSpPr/>
          <p:nvPr/>
        </p:nvSpPr>
        <p:spPr>
          <a:xfrm>
            <a:off x="4707000" y="530208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2" name=""/>
          <p:cNvSpPr/>
          <p:nvPr/>
        </p:nvSpPr>
        <p:spPr>
          <a:xfrm>
            <a:off x="4859280" y="528948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3" name=""/>
          <p:cNvSpPr/>
          <p:nvPr/>
        </p:nvSpPr>
        <p:spPr>
          <a:xfrm>
            <a:off x="5037120" y="528948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4" name=""/>
          <p:cNvSpPr/>
          <p:nvPr/>
        </p:nvSpPr>
        <p:spPr>
          <a:xfrm>
            <a:off x="5214960" y="5264280"/>
            <a:ext cx="676080" cy="10490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605480" y="4119480"/>
            <a:ext cx="1440" cy="41616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6" name=""/>
          <p:cNvSpPr/>
          <p:nvPr/>
        </p:nvSpPr>
        <p:spPr>
          <a:xfrm>
            <a:off x="5291280" y="4043520"/>
            <a:ext cx="520560" cy="4888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7" name=""/>
          <p:cNvSpPr/>
          <p:nvPr/>
        </p:nvSpPr>
        <p:spPr>
          <a:xfrm>
            <a:off x="5607000" y="618732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W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8" name=""/>
          <p:cNvSpPr/>
          <p:nvPr/>
        </p:nvSpPr>
        <p:spPr>
          <a:xfrm>
            <a:off x="4734000" y="3911760"/>
            <a:ext cx="0" cy="65376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9" name=""/>
          <p:cNvSpPr/>
          <p:nvPr/>
        </p:nvSpPr>
        <p:spPr>
          <a:xfrm>
            <a:off x="4959360" y="3873600"/>
            <a:ext cx="776160" cy="7030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0" name=""/>
          <p:cNvSpPr/>
          <p:nvPr/>
        </p:nvSpPr>
        <p:spPr>
          <a:xfrm>
            <a:off x="4281480" y="4532400"/>
            <a:ext cx="1355760" cy="7984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1" name=""/>
          <p:cNvSpPr/>
          <p:nvPr/>
        </p:nvSpPr>
        <p:spPr>
          <a:xfrm>
            <a:off x="5688000" y="4532400"/>
            <a:ext cx="138096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2" name=""/>
          <p:cNvSpPr/>
          <p:nvPr/>
        </p:nvSpPr>
        <p:spPr>
          <a:xfrm>
            <a:off x="4179960" y="4573440"/>
            <a:ext cx="15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3" name=""/>
          <p:cNvSpPr/>
          <p:nvPr/>
        </p:nvSpPr>
        <p:spPr>
          <a:xfrm>
            <a:off x="5511960" y="4579920"/>
            <a:ext cx="173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"/>
          <p:cNvSpPr/>
          <p:nvPr/>
        </p:nvSpPr>
        <p:spPr>
          <a:xfrm>
            <a:off x="5905440" y="533412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5" name=""/>
          <p:cNvSpPr/>
          <p:nvPr/>
        </p:nvSpPr>
        <p:spPr>
          <a:xfrm>
            <a:off x="6058080" y="533232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"/>
          <p:cNvSpPr/>
          <p:nvPr/>
        </p:nvSpPr>
        <p:spPr>
          <a:xfrm>
            <a:off x="6210360" y="530532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7" name=""/>
          <p:cNvSpPr/>
          <p:nvPr/>
        </p:nvSpPr>
        <p:spPr>
          <a:xfrm>
            <a:off x="6388200" y="535140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ED356-5B93-4C0F-997E-4569CF6582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M Product Over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e Cluster I/O Module (CLIM) is a new generation of NonStop Adapters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ProLiant DL385 G5 rack mount serve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Quad core process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Debian Linux operating system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125880" y="5308560"/>
            <a:ext cx="6014880" cy="1338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3886200" y="6235560"/>
            <a:ext cx="1422360" cy="165240"/>
          </a:xfrm>
          <a:prstGeom prst="rect">
            <a:avLst/>
          </a:prstGeom>
          <a:solidFill>
            <a:srgbClr val="6e6f72"/>
          </a:solidFill>
          <a:ln w="19080">
            <a:solidFill>
              <a:srgbClr val="6e6f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"/>
          <p:cNvSpPr/>
          <p:nvPr/>
        </p:nvSpPr>
        <p:spPr>
          <a:xfrm>
            <a:off x="7086600" y="5524560"/>
            <a:ext cx="1333440" cy="8636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3" name=""/>
          <p:cNvSpPr/>
          <p:nvPr/>
        </p:nvSpPr>
        <p:spPr>
          <a:xfrm>
            <a:off x="6351480" y="4714920"/>
            <a:ext cx="27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One 72GB system disk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"/>
          <p:cNvSpPr/>
          <p:nvPr/>
        </p:nvSpPr>
        <p:spPr>
          <a:xfrm>
            <a:off x="6921360" y="50547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5" name=""/>
          <p:cNvSpPr/>
          <p:nvPr/>
        </p:nvSpPr>
        <p:spPr>
          <a:xfrm>
            <a:off x="3583440" y="480384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DVD drive not installed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"/>
          <p:cNvSpPr/>
          <p:nvPr/>
        </p:nvSpPr>
        <p:spPr>
          <a:xfrm>
            <a:off x="4394160" y="5143680"/>
            <a:ext cx="12600" cy="121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2790-1670-43EF-AA68-69C13B83C5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Theory of Operati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uster I/O Protocol (CIP) Sub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Provides a configuration and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anagement interface for I/O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ses a Linux server as a front en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ves network stacks from th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NonStop host to a Linux serv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Leverages the open source Linu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ual ServerNet fabrics connection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Ethernet or Storage interface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574600" y="1089000"/>
            <a:ext cx="1837440" cy="5056200"/>
            <a:chOff x="5574600" y="1089000"/>
            <a:chExt cx="1837440" cy="5056200"/>
          </a:xfrm>
        </p:grpSpPr>
        <p:grpSp>
          <p:nvGrpSpPr>
            <p:cNvPr id="250" name=""/>
            <p:cNvGrpSpPr/>
            <p:nvPr/>
          </p:nvGrpSpPr>
          <p:grpSpPr>
            <a:xfrm>
              <a:off x="6402240" y="5030640"/>
              <a:ext cx="273240" cy="785880"/>
              <a:chOff x="6402240" y="5030640"/>
              <a:chExt cx="273240" cy="785880"/>
            </a:xfrm>
          </p:grpSpPr>
          <p:sp>
            <p:nvSpPr>
              <p:cNvPr id="251" name=""/>
              <p:cNvSpPr/>
              <p:nvPr/>
            </p:nvSpPr>
            <p:spPr>
              <a:xfrm>
                <a:off x="6402240" y="5030640"/>
                <a:ext cx="1908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465600" y="5030640"/>
                <a:ext cx="1908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29320" y="5030640"/>
                <a:ext cx="1908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2680" y="5030640"/>
                <a:ext cx="1908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56400" y="5030640"/>
                <a:ext cx="1908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5793840" y="1089000"/>
              <a:ext cx="1488960" cy="1784160"/>
            </a:xfrm>
            <a:prstGeom prst="rect">
              <a:avLst/>
            </a:prstGeom>
            <a:solidFill>
              <a:srgbClr val="cbc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NonStop Server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878800" y="1498320"/>
              <a:ext cx="1318320" cy="362160"/>
            </a:xfrm>
            <a:prstGeom prst="rect">
              <a:avLst/>
            </a:prstGeom>
            <a:solidFill>
              <a:srgbClr val="7b7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55200" y="1796760"/>
              <a:ext cx="965880" cy="362160"/>
            </a:xfrm>
            <a:prstGeom prst="rect">
              <a:avLst/>
            </a:prstGeom>
            <a:solidFill>
              <a:srgbClr val="0048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Futura Bk"/>
                </a:rPr>
                <a:t>Socket Calls</a:t>
              </a:r>
              <a:endParaRPr b="0" lang="en-US" sz="14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055920" y="2157120"/>
              <a:ext cx="964800" cy="716040"/>
            </a:xfrm>
            <a:custGeom>
              <a:avLst/>
              <a:gdLst>
                <a:gd name="textAreaLeft" fmla="*/ 312480 w 964800"/>
                <a:gd name="textAreaRight" fmla="*/ 652320 w 964800"/>
                <a:gd name="textAreaTop" fmla="*/ 231840 h 716040"/>
                <a:gd name="textAreaBottom" fmla="*/ 48420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162" y="21600"/>
                  </a:lnTo>
                  <a:lnTo>
                    <a:pt x="9438" y="21600"/>
                  </a:lnTo>
                  <a:close/>
                </a:path>
              </a:pathLst>
            </a:cu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933880" y="2143080"/>
              <a:ext cx="1217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CIP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Subsystem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80000" y="2873160"/>
              <a:ext cx="115920" cy="104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793840" y="3913920"/>
              <a:ext cx="1488960" cy="1484280"/>
            </a:xfrm>
            <a:prstGeom prst="rect">
              <a:avLst/>
            </a:prstGeom>
            <a:solidFill>
              <a:srgbClr val="cbc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no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55200" y="4628880"/>
              <a:ext cx="965880" cy="771480"/>
            </a:xfrm>
            <a:prstGeom prst="rect">
              <a:avLst/>
            </a:prstGeom>
            <a:solidFill>
              <a:srgbClr val="004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TCP Stack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55920" y="3913920"/>
              <a:ext cx="964800" cy="716040"/>
            </a:xfrm>
            <a:custGeom>
              <a:avLst/>
              <a:gdLst>
                <a:gd name="textAreaLeft" fmla="*/ 312480 w 964800"/>
                <a:gd name="textAreaRight" fmla="*/ 652320 w 964800"/>
                <a:gd name="textAreaTop" fmla="*/ 231840 h 716040"/>
                <a:gd name="textAreaBottom" fmla="*/ 48420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162" y="21600"/>
                  </a:lnTo>
                  <a:lnTo>
                    <a:pt x="9438" y="21600"/>
                  </a:lnTo>
                  <a:close/>
                </a:path>
              </a:pathLst>
            </a:cu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842800" y="4346280"/>
              <a:ext cx="1401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CIP Softwar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56040" y="5832360"/>
              <a:ext cx="15447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Ethernet Link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574600" y="3254040"/>
              <a:ext cx="1015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a Bk"/>
                </a:rPr>
                <a:t>ServerNet</a:t>
              </a:r>
              <a:endParaRPr b="0" lang="en-US" sz="14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81240" y="3936960"/>
              <a:ext cx="730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utura Bk"/>
                </a:rPr>
                <a:t>CLIM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7393680" y="1092240"/>
            <a:ext cx="1815480" cy="5056200"/>
            <a:chOff x="7393680" y="1092240"/>
            <a:chExt cx="1815480" cy="5056200"/>
          </a:xfrm>
        </p:grpSpPr>
        <p:grpSp>
          <p:nvGrpSpPr>
            <p:cNvPr id="270" name=""/>
            <p:cNvGrpSpPr/>
            <p:nvPr/>
          </p:nvGrpSpPr>
          <p:grpSpPr>
            <a:xfrm>
              <a:off x="8213400" y="5033880"/>
              <a:ext cx="267120" cy="785880"/>
              <a:chOff x="8213400" y="5033880"/>
              <a:chExt cx="267120" cy="785880"/>
            </a:xfrm>
          </p:grpSpPr>
          <p:sp>
            <p:nvSpPr>
              <p:cNvPr id="271" name=""/>
              <p:cNvSpPr/>
              <p:nvPr/>
            </p:nvSpPr>
            <p:spPr>
              <a:xfrm>
                <a:off x="8213400" y="5033880"/>
                <a:ext cx="1872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275320" y="5033880"/>
                <a:ext cx="1872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337600" y="5033880"/>
                <a:ext cx="1872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399520" y="5033880"/>
                <a:ext cx="1872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8461800" y="5033880"/>
                <a:ext cx="18720" cy="785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7619040" y="1092240"/>
              <a:ext cx="1454760" cy="1784160"/>
            </a:xfrm>
            <a:prstGeom prst="rect">
              <a:avLst/>
            </a:prstGeom>
            <a:solidFill>
              <a:srgbClr val="cbc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utura Bk"/>
                </a:rPr>
                <a:t>NonStop Server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702200" y="1501560"/>
              <a:ext cx="1288080" cy="362160"/>
            </a:xfrm>
            <a:prstGeom prst="rect">
              <a:avLst/>
            </a:prstGeom>
            <a:solidFill>
              <a:srgbClr val="7b7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74280" y="1800000"/>
              <a:ext cx="943560" cy="362160"/>
            </a:xfrm>
            <a:prstGeom prst="rect">
              <a:avLst/>
            </a:prstGeom>
            <a:solidFill>
              <a:srgbClr val="00487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DP2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875000" y="2160360"/>
              <a:ext cx="942840" cy="716040"/>
            </a:xfrm>
            <a:custGeom>
              <a:avLst/>
              <a:gdLst>
                <a:gd name="textAreaLeft" fmla="*/ 305280 w 942840"/>
                <a:gd name="textAreaRight" fmla="*/ 637560 w 942840"/>
                <a:gd name="textAreaTop" fmla="*/ 231840 h 716040"/>
                <a:gd name="textAreaBottom" fmla="*/ 48420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162" y="21600"/>
                  </a:lnTo>
                  <a:lnTo>
                    <a:pt x="9438" y="21600"/>
                  </a:lnTo>
                  <a:close/>
                </a:path>
              </a:pathLst>
            </a:cu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40720" y="2146320"/>
              <a:ext cx="12171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CIP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Subsystem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289360" y="2876400"/>
              <a:ext cx="113040" cy="104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7619040" y="3917160"/>
              <a:ext cx="1454760" cy="1484280"/>
            </a:xfrm>
            <a:prstGeom prst="rect">
              <a:avLst/>
            </a:prstGeom>
            <a:solidFill>
              <a:srgbClr val="cbc9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rot="10800000">
              <a:no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874280" y="4632120"/>
              <a:ext cx="943560" cy="771480"/>
            </a:xfrm>
            <a:prstGeom prst="rect">
              <a:avLst/>
            </a:prstGeom>
            <a:solidFill>
              <a:srgbClr val="0048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91440" anchor="ctr">
              <a:no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Disk driver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7875000" y="3917160"/>
              <a:ext cx="942840" cy="716040"/>
            </a:xfrm>
            <a:custGeom>
              <a:avLst/>
              <a:gdLst>
                <a:gd name="textAreaLeft" fmla="*/ 305280 w 942840"/>
                <a:gd name="textAreaRight" fmla="*/ 637560 w 942840"/>
                <a:gd name="textAreaTop" fmla="*/ 231840 h 716040"/>
                <a:gd name="textAreaBottom" fmla="*/ 484200 h 716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2162" y="21600"/>
                  </a:lnTo>
                  <a:lnTo>
                    <a:pt x="9438" y="21600"/>
                  </a:lnTo>
                  <a:close/>
                </a:path>
              </a:pathLst>
            </a:cu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649640" y="4349520"/>
              <a:ext cx="1401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Bk"/>
                </a:rPr>
                <a:t>CIP Softwar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490880" y="5835600"/>
              <a:ext cx="17046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99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torage Device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393680" y="3257280"/>
              <a:ext cx="1015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437"/>
                </a:spcBef>
                <a:spcAft>
                  <a:spcPts val="1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Futura Bk"/>
                </a:rPr>
                <a:t>ServerNet</a:t>
              </a:r>
              <a:endParaRPr b="0" lang="en-US" sz="14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478360" y="3940200"/>
              <a:ext cx="7308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561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Futura Bk"/>
                </a:rPr>
                <a:t>CLIM</a:t>
              </a: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D71C9-911B-4F11-8741-CB812EF2B7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onStop Parallel TCP/IP Subsystem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99960" y="1036800"/>
          <a:ext cx="8586720" cy="55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36800"/>
                    <a:ext cx="858672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399960" y="2173320"/>
          <a:ext cx="8586720" cy="41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173320"/>
                    <a:ext cx="858672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4" name=""/>
          <p:cNvSpPr/>
          <p:nvPr/>
        </p:nvSpPr>
        <p:spPr>
          <a:xfrm>
            <a:off x="304920" y="1378080"/>
            <a:ext cx="4114800" cy="3205080"/>
          </a:xfrm>
          <a:prstGeom prst="rect">
            <a:avLst/>
          </a:prstGeom>
          <a:solidFill>
            <a:srgbClr val="99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2660760"/>
            <a:ext cx="3733920" cy="188100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QIO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2371680"/>
            <a:ext cx="914400" cy="4618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7" name=""/>
          <p:cNvSpPr/>
          <p:nvPr/>
        </p:nvSpPr>
        <p:spPr>
          <a:xfrm>
            <a:off x="3048120" y="3121200"/>
            <a:ext cx="1000080" cy="47916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CP(6)SAM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TC0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4218120"/>
            <a:ext cx="3276720" cy="230040"/>
          </a:xfrm>
          <a:prstGeom prst="rect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9" name=""/>
          <p:cNvSpPr/>
          <p:nvPr/>
        </p:nvSpPr>
        <p:spPr>
          <a:xfrm>
            <a:off x="685800" y="3987720"/>
            <a:ext cx="3276720" cy="2304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0" name=""/>
          <p:cNvSpPr/>
          <p:nvPr/>
        </p:nvSpPr>
        <p:spPr>
          <a:xfrm>
            <a:off x="1720800" y="397188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LI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"/>
          <p:cNvSpPr/>
          <p:nvPr/>
        </p:nvSpPr>
        <p:spPr>
          <a:xfrm>
            <a:off x="1262880" y="421956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 Drivers, DIH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19875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 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" name=""/>
          <p:cNvSpPr/>
          <p:nvPr/>
        </p:nvSpPr>
        <p:spPr>
          <a:xfrm>
            <a:off x="1905120" y="4910040"/>
            <a:ext cx="5333760" cy="63504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Ne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4" name=""/>
          <p:cNvSpPr/>
          <p:nvPr/>
        </p:nvSpPr>
        <p:spPr>
          <a:xfrm>
            <a:off x="3352680" y="5775480"/>
            <a:ext cx="1067040" cy="403200"/>
          </a:xfrm>
          <a:prstGeom prst="rect">
            <a:avLst/>
          </a:prstGeom>
          <a:solidFill>
            <a:srgbClr val="99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SA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914400" y="3571560"/>
            <a:ext cx="75960" cy="416160"/>
            <a:chOff x="914400" y="3571560"/>
            <a:chExt cx="75960" cy="416160"/>
          </a:xfrm>
        </p:grpSpPr>
        <p:sp>
          <p:nvSpPr>
            <p:cNvPr id="306" name=""/>
            <p:cNvSpPr/>
            <p:nvPr/>
          </p:nvSpPr>
          <p:spPr>
            <a:xfrm>
              <a:off x="990360" y="3571920"/>
              <a:ext cx="0" cy="41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914400" y="3571560"/>
              <a:ext cx="0" cy="41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1523880" y="2833560"/>
            <a:ext cx="1800" cy="1154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066680" y="2833200"/>
            <a:ext cx="15264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0" name=""/>
          <p:cNvSpPr/>
          <p:nvPr/>
        </p:nvSpPr>
        <p:spPr>
          <a:xfrm>
            <a:off x="2133720" y="4564080"/>
            <a:ext cx="457200" cy="461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5545080"/>
            <a:ext cx="150840" cy="22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3809880" y="5545080"/>
            <a:ext cx="192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"/>
          <p:cNvSpPr/>
          <p:nvPr/>
        </p:nvSpPr>
        <p:spPr>
          <a:xfrm>
            <a:off x="2107440" y="58309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7.217.44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4" name=""/>
          <p:cNvSpPr/>
          <p:nvPr/>
        </p:nvSpPr>
        <p:spPr>
          <a:xfrm>
            <a:off x="5029200" y="5775480"/>
            <a:ext cx="1066680" cy="403200"/>
          </a:xfrm>
          <a:prstGeom prst="rect">
            <a:avLst/>
          </a:prstGeom>
          <a:solidFill>
            <a:srgbClr val="99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ESA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5" name=""/>
          <p:cNvSpPr/>
          <p:nvPr/>
        </p:nvSpPr>
        <p:spPr>
          <a:xfrm>
            <a:off x="6107760" y="58402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7.217.44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629040" y="4621320"/>
            <a:ext cx="609480" cy="404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1682640"/>
            <a:ext cx="1218960" cy="4255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CP(6)MA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ZTCP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8" name=""/>
          <p:cNvSpPr/>
          <p:nvPr/>
        </p:nvSpPr>
        <p:spPr>
          <a:xfrm>
            <a:off x="457200" y="3121200"/>
            <a:ext cx="1019160" cy="4600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CP(6)MO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PTM0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9" name=""/>
          <p:cNvSpPr/>
          <p:nvPr/>
        </p:nvSpPr>
        <p:spPr>
          <a:xfrm>
            <a:off x="4800600" y="1378080"/>
            <a:ext cx="4114800" cy="3205080"/>
          </a:xfrm>
          <a:prstGeom prst="rect">
            <a:avLst/>
          </a:prstGeom>
          <a:solidFill>
            <a:srgbClr val="99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2717640"/>
            <a:ext cx="3733920" cy="182412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QIO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2371680"/>
            <a:ext cx="914400" cy="4618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2" name=""/>
          <p:cNvSpPr/>
          <p:nvPr/>
        </p:nvSpPr>
        <p:spPr>
          <a:xfrm>
            <a:off x="7581960" y="3121200"/>
            <a:ext cx="1028520" cy="49824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CP(6)SAM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TC0’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3" name=""/>
          <p:cNvSpPr/>
          <p:nvPr/>
        </p:nvSpPr>
        <p:spPr>
          <a:xfrm>
            <a:off x="5105520" y="4218120"/>
            <a:ext cx="3352680" cy="230040"/>
          </a:xfrm>
          <a:prstGeom prst="rect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4" name=""/>
          <p:cNvSpPr/>
          <p:nvPr/>
        </p:nvSpPr>
        <p:spPr>
          <a:xfrm>
            <a:off x="5105520" y="3987720"/>
            <a:ext cx="3352680" cy="2304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"/>
          <p:cNvSpPr/>
          <p:nvPr/>
        </p:nvSpPr>
        <p:spPr>
          <a:xfrm>
            <a:off x="6218280" y="3968640"/>
            <a:ext cx="8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CPLI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6" name=""/>
          <p:cNvSpPr/>
          <p:nvPr/>
        </p:nvSpPr>
        <p:spPr>
          <a:xfrm>
            <a:off x="5779440" y="4199040"/>
            <a:ext cx="161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 Drivers, DIH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5486400" y="3580920"/>
            <a:ext cx="0" cy="406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8" name=""/>
          <p:cNvSpPr/>
          <p:nvPr/>
        </p:nvSpPr>
        <p:spPr>
          <a:xfrm>
            <a:off x="6019920" y="2774880"/>
            <a:ext cx="1440" cy="1212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638680" y="2833200"/>
            <a:ext cx="180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0" name=""/>
          <p:cNvSpPr/>
          <p:nvPr/>
        </p:nvSpPr>
        <p:spPr>
          <a:xfrm>
            <a:off x="5029200" y="1568520"/>
            <a:ext cx="1270080" cy="47304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CP(6)MA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ZTCP’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1" name=""/>
          <p:cNvSpPr/>
          <p:nvPr/>
        </p:nvSpPr>
        <p:spPr>
          <a:xfrm>
            <a:off x="5029200" y="3121200"/>
            <a:ext cx="1009800" cy="4600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TCP(6)MO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PTM1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2" name=""/>
          <p:cNvSpPr/>
          <p:nvPr/>
        </p:nvSpPr>
        <p:spPr>
          <a:xfrm>
            <a:off x="6324480" y="2428920"/>
            <a:ext cx="914400" cy="4618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3" name=""/>
          <p:cNvSpPr/>
          <p:nvPr/>
        </p:nvSpPr>
        <p:spPr>
          <a:xfrm>
            <a:off x="6553080" y="2876400"/>
            <a:ext cx="1800" cy="1111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829480" y="2833560"/>
            <a:ext cx="685800" cy="331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768320" y="2590560"/>
            <a:ext cx="1450800" cy="684720"/>
            <a:chOff x="1768320" y="2590560"/>
            <a:chExt cx="1450800" cy="684720"/>
          </a:xfrm>
        </p:grpSpPr>
        <p:sp>
          <p:nvSpPr>
            <p:cNvPr id="336" name=""/>
            <p:cNvSpPr/>
            <p:nvPr/>
          </p:nvSpPr>
          <p:spPr>
            <a:xfrm>
              <a:off x="1793160" y="2590560"/>
              <a:ext cx="1425960" cy="627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1768320" y="2647080"/>
              <a:ext cx="1425960" cy="62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1523880" y="3639960"/>
            <a:ext cx="60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ata-ou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3583080"/>
            <a:ext cx="609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ata-in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0" name=""/>
          <p:cNvSpPr/>
          <p:nvPr/>
        </p:nvSpPr>
        <p:spPr>
          <a:xfrm>
            <a:off x="2743200" y="267336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open()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"/>
          <p:cNvSpPr/>
          <p:nvPr/>
        </p:nvSpPr>
        <p:spPr>
          <a:xfrm>
            <a:off x="8077320" y="206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3863520" y="2636640"/>
            <a:ext cx="1452240" cy="685800"/>
            <a:chOff x="3863520" y="2636640"/>
            <a:chExt cx="1452240" cy="685800"/>
          </a:xfrm>
        </p:grpSpPr>
        <p:sp>
          <p:nvSpPr>
            <p:cNvPr id="343" name=""/>
            <p:cNvSpPr/>
            <p:nvPr/>
          </p:nvSpPr>
          <p:spPr>
            <a:xfrm flipH="1">
              <a:off x="3863520" y="2636640"/>
              <a:ext cx="1426320" cy="62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889440" y="2694240"/>
              <a:ext cx="1426320" cy="62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45" name=""/>
          <p:cNvSpPr/>
          <p:nvPr/>
        </p:nvSpPr>
        <p:spPr>
          <a:xfrm flipV="1">
            <a:off x="762120" y="2025360"/>
            <a:ext cx="152280" cy="1104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6" name=""/>
          <p:cNvSpPr/>
          <p:nvPr/>
        </p:nvSpPr>
        <p:spPr>
          <a:xfrm flipH="1" flipV="1">
            <a:off x="1294920" y="1987200"/>
            <a:ext cx="4038840" cy="1143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7" name=""/>
          <p:cNvSpPr/>
          <p:nvPr/>
        </p:nvSpPr>
        <p:spPr>
          <a:xfrm>
            <a:off x="3073320" y="1454040"/>
            <a:ext cx="914400" cy="3463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CF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8" name=""/>
          <p:cNvSpPr/>
          <p:nvPr/>
        </p:nvSpPr>
        <p:spPr>
          <a:xfrm>
            <a:off x="2006640" y="1682640"/>
            <a:ext cx="914400" cy="3463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C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NE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9" name=""/>
          <p:cNvSpPr/>
          <p:nvPr/>
        </p:nvSpPr>
        <p:spPr>
          <a:xfrm>
            <a:off x="1701720" y="1847880"/>
            <a:ext cx="3049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844720" y="1679040"/>
            <a:ext cx="250920" cy="155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1" name=""/>
          <p:cNvSpPr/>
          <p:nvPr/>
        </p:nvSpPr>
        <p:spPr>
          <a:xfrm>
            <a:off x="1905120" y="640728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2" name=""/>
          <p:cNvSpPr/>
          <p:nvPr/>
        </p:nvSpPr>
        <p:spPr>
          <a:xfrm>
            <a:off x="3886200" y="6178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"/>
          <p:cNvSpPr/>
          <p:nvPr/>
        </p:nvSpPr>
        <p:spPr>
          <a:xfrm>
            <a:off x="5562720" y="6178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4" name=""/>
          <p:cNvSpPr/>
          <p:nvPr/>
        </p:nvSpPr>
        <p:spPr>
          <a:xfrm>
            <a:off x="687240" y="3981600"/>
            <a:ext cx="3272040" cy="260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ZTCP(6)SRL/ZTCP6DLL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5" name=""/>
          <p:cNvSpPr/>
          <p:nvPr/>
        </p:nvSpPr>
        <p:spPr>
          <a:xfrm>
            <a:off x="4905360" y="3668760"/>
            <a:ext cx="60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ata-in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1457280" y="3165480"/>
            <a:ext cx="1373760" cy="337320"/>
            <a:chOff x="1457280" y="3165480"/>
            <a:chExt cx="1373760" cy="337320"/>
          </a:xfrm>
        </p:grpSpPr>
        <p:sp>
          <p:nvSpPr>
            <p:cNvPr id="357" name=""/>
            <p:cNvSpPr/>
            <p:nvPr/>
          </p:nvSpPr>
          <p:spPr>
            <a:xfrm>
              <a:off x="1996560" y="3165480"/>
              <a:ext cx="83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1457280" y="3324240"/>
              <a:ext cx="61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3D2BE-9B0A-4FEC-A051-DAAA4892F44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onStop CIP Subsystem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399960" y="1036800"/>
          <a:ext cx="8586720" cy="550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036800"/>
                    <a:ext cx="8586720" cy="55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"/>
          <p:cNvGraphicFramePr/>
          <p:nvPr/>
        </p:nvGraphicFramePr>
        <p:xfrm>
          <a:off x="399960" y="2173320"/>
          <a:ext cx="8586720" cy="4167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9960" y="2173320"/>
                    <a:ext cx="858672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304920" y="1378080"/>
            <a:ext cx="4114800" cy="3205080"/>
          </a:xfrm>
          <a:prstGeom prst="rect">
            <a:avLst/>
          </a:prstGeom>
          <a:solidFill>
            <a:srgbClr val="99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2660760"/>
            <a:ext cx="3733920" cy="188100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QIO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2371680"/>
            <a:ext cx="914400" cy="4618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7" name=""/>
          <p:cNvSpPr/>
          <p:nvPr/>
        </p:nvSpPr>
        <p:spPr>
          <a:xfrm>
            <a:off x="3048120" y="3121200"/>
            <a:ext cx="1000080" cy="47916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ROVIDER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TC0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8" name=""/>
          <p:cNvSpPr/>
          <p:nvPr/>
        </p:nvSpPr>
        <p:spPr>
          <a:xfrm>
            <a:off x="685800" y="4218120"/>
            <a:ext cx="3276720" cy="230040"/>
          </a:xfrm>
          <a:prstGeom prst="rect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9" name=""/>
          <p:cNvSpPr/>
          <p:nvPr/>
        </p:nvSpPr>
        <p:spPr>
          <a:xfrm>
            <a:off x="685800" y="3987720"/>
            <a:ext cx="3276720" cy="2304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0" name=""/>
          <p:cNvSpPr/>
          <p:nvPr/>
        </p:nvSpPr>
        <p:spPr>
          <a:xfrm>
            <a:off x="1720440" y="397188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LI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1" name=""/>
          <p:cNvSpPr/>
          <p:nvPr/>
        </p:nvSpPr>
        <p:spPr>
          <a:xfrm>
            <a:off x="1263600" y="421956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T-API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2" name=""/>
          <p:cNvSpPr/>
          <p:nvPr/>
        </p:nvSpPr>
        <p:spPr>
          <a:xfrm>
            <a:off x="3581280" y="198756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 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3" name=""/>
          <p:cNvSpPr/>
          <p:nvPr/>
        </p:nvSpPr>
        <p:spPr>
          <a:xfrm>
            <a:off x="1905120" y="4910040"/>
            <a:ext cx="5333760" cy="63504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erNet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5775480"/>
            <a:ext cx="1067040" cy="403200"/>
          </a:xfrm>
          <a:prstGeom prst="rect">
            <a:avLst/>
          </a:prstGeom>
          <a:solidFill>
            <a:srgbClr val="99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 CLIM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914400" y="3571560"/>
            <a:ext cx="75960" cy="416160"/>
            <a:chOff x="914400" y="3571560"/>
            <a:chExt cx="75960" cy="416160"/>
          </a:xfrm>
        </p:grpSpPr>
        <p:sp>
          <p:nvSpPr>
            <p:cNvPr id="376" name=""/>
            <p:cNvSpPr/>
            <p:nvPr/>
          </p:nvSpPr>
          <p:spPr>
            <a:xfrm>
              <a:off x="990360" y="3571920"/>
              <a:ext cx="0" cy="41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914400" y="3571560"/>
              <a:ext cx="0" cy="41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1523880" y="2833560"/>
            <a:ext cx="1800" cy="1154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066680" y="2833200"/>
            <a:ext cx="15264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0" name=""/>
          <p:cNvSpPr/>
          <p:nvPr/>
        </p:nvSpPr>
        <p:spPr>
          <a:xfrm>
            <a:off x="2133720" y="4564080"/>
            <a:ext cx="457200" cy="4618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1" name=""/>
          <p:cNvSpPr/>
          <p:nvPr/>
        </p:nvSpPr>
        <p:spPr>
          <a:xfrm>
            <a:off x="5486400" y="5545080"/>
            <a:ext cx="150840" cy="22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3809880" y="5545080"/>
            <a:ext cx="1922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3" name=""/>
          <p:cNvSpPr/>
          <p:nvPr/>
        </p:nvSpPr>
        <p:spPr>
          <a:xfrm>
            <a:off x="2107440" y="583092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7.217.44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4" name=""/>
          <p:cNvSpPr/>
          <p:nvPr/>
        </p:nvSpPr>
        <p:spPr>
          <a:xfrm>
            <a:off x="5029200" y="5775480"/>
            <a:ext cx="1066680" cy="403200"/>
          </a:xfrm>
          <a:prstGeom prst="rect">
            <a:avLst/>
          </a:prstGeom>
          <a:solidFill>
            <a:srgbClr val="9900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P CLIM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5" name=""/>
          <p:cNvSpPr/>
          <p:nvPr/>
        </p:nvSpPr>
        <p:spPr>
          <a:xfrm>
            <a:off x="6107760" y="5840280"/>
            <a:ext cx="116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2.17.217.44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629040" y="4621320"/>
            <a:ext cx="609480" cy="4046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7" name=""/>
          <p:cNvSpPr/>
          <p:nvPr/>
        </p:nvSpPr>
        <p:spPr>
          <a:xfrm>
            <a:off x="533520" y="1682640"/>
            <a:ext cx="1218960" cy="4255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IPMA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ZCIP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" y="3121200"/>
            <a:ext cx="1019160" cy="4600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IPMO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CM00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9" name=""/>
          <p:cNvSpPr/>
          <p:nvPr/>
        </p:nvSpPr>
        <p:spPr>
          <a:xfrm>
            <a:off x="4800600" y="1378080"/>
            <a:ext cx="4114800" cy="3205080"/>
          </a:xfrm>
          <a:prstGeom prst="rect">
            <a:avLst/>
          </a:prstGeom>
          <a:solidFill>
            <a:srgbClr val="9999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0" name=""/>
          <p:cNvSpPr/>
          <p:nvPr/>
        </p:nvSpPr>
        <p:spPr>
          <a:xfrm>
            <a:off x="4952880" y="2717640"/>
            <a:ext cx="3733920" cy="1824120"/>
          </a:xfrm>
          <a:prstGeom prst="rect">
            <a:avLst/>
          </a:prstGeom>
          <a:solidFill>
            <a:srgbClr val="66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QIO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1" name=""/>
          <p:cNvSpPr/>
          <p:nvPr/>
        </p:nvSpPr>
        <p:spPr>
          <a:xfrm>
            <a:off x="5257800" y="2371680"/>
            <a:ext cx="914400" cy="4618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2" name=""/>
          <p:cNvSpPr/>
          <p:nvPr/>
        </p:nvSpPr>
        <p:spPr>
          <a:xfrm>
            <a:off x="7581960" y="3121200"/>
            <a:ext cx="1028520" cy="49824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PROVIDER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TC0’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3" name=""/>
          <p:cNvSpPr/>
          <p:nvPr/>
        </p:nvSpPr>
        <p:spPr>
          <a:xfrm>
            <a:off x="5105520" y="4218120"/>
            <a:ext cx="3352680" cy="230040"/>
          </a:xfrm>
          <a:prstGeom prst="rect">
            <a:avLst/>
          </a:prstGeom>
          <a:solidFill>
            <a:srgbClr val="0071b5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4" name=""/>
          <p:cNvSpPr/>
          <p:nvPr/>
        </p:nvSpPr>
        <p:spPr>
          <a:xfrm>
            <a:off x="5105520" y="3987720"/>
            <a:ext cx="3352680" cy="2304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5" name=""/>
          <p:cNvSpPr/>
          <p:nvPr/>
        </p:nvSpPr>
        <p:spPr>
          <a:xfrm>
            <a:off x="6217560" y="3968640"/>
            <a:ext cx="76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PLIB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6" name=""/>
          <p:cNvSpPr/>
          <p:nvPr/>
        </p:nvSpPr>
        <p:spPr>
          <a:xfrm>
            <a:off x="5780160" y="419904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T-API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486400" y="3580920"/>
            <a:ext cx="0" cy="4064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8" name=""/>
          <p:cNvSpPr/>
          <p:nvPr/>
        </p:nvSpPr>
        <p:spPr>
          <a:xfrm>
            <a:off x="6019920" y="2774880"/>
            <a:ext cx="1440" cy="12128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638680" y="2833200"/>
            <a:ext cx="1800" cy="28764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0" name=""/>
          <p:cNvSpPr/>
          <p:nvPr/>
        </p:nvSpPr>
        <p:spPr>
          <a:xfrm>
            <a:off x="5029200" y="1568520"/>
            <a:ext cx="1270080" cy="47304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IPMA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ZCIP’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3121200"/>
            <a:ext cx="1009800" cy="46008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CIPMON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CM01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2" name=""/>
          <p:cNvSpPr/>
          <p:nvPr/>
        </p:nvSpPr>
        <p:spPr>
          <a:xfrm>
            <a:off x="6324480" y="2428920"/>
            <a:ext cx="914400" cy="461880"/>
          </a:xfrm>
          <a:prstGeom prst="ellipse">
            <a:avLst/>
          </a:prstGeom>
          <a:solidFill>
            <a:srgbClr val="99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EXPAND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3" name=""/>
          <p:cNvSpPr/>
          <p:nvPr/>
        </p:nvSpPr>
        <p:spPr>
          <a:xfrm>
            <a:off x="6553080" y="2876400"/>
            <a:ext cx="1800" cy="11113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829480" y="2833560"/>
            <a:ext cx="685800" cy="331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768320" y="2590560"/>
            <a:ext cx="1450800" cy="684720"/>
            <a:chOff x="1768320" y="2590560"/>
            <a:chExt cx="1450800" cy="684720"/>
          </a:xfrm>
        </p:grpSpPr>
        <p:sp>
          <p:nvSpPr>
            <p:cNvPr id="406" name=""/>
            <p:cNvSpPr/>
            <p:nvPr/>
          </p:nvSpPr>
          <p:spPr>
            <a:xfrm>
              <a:off x="1793160" y="2590560"/>
              <a:ext cx="1425960" cy="6278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 flipV="1">
              <a:off x="1768320" y="2647080"/>
              <a:ext cx="1425960" cy="62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1793880" y="3414600"/>
            <a:ext cx="609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ata-in/ou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9" name=""/>
          <p:cNvSpPr/>
          <p:nvPr/>
        </p:nvSpPr>
        <p:spPr>
          <a:xfrm>
            <a:off x="2743200" y="2673360"/>
            <a:ext cx="609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open()</a:t>
            </a:r>
            <a:br>
              <a:rPr sz="1400"/>
            </a:b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close(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0" name=""/>
          <p:cNvSpPr/>
          <p:nvPr/>
        </p:nvSpPr>
        <p:spPr>
          <a:xfrm>
            <a:off x="8077320" y="206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863520" y="2636640"/>
            <a:ext cx="1452240" cy="685800"/>
            <a:chOff x="3863520" y="2636640"/>
            <a:chExt cx="1452240" cy="685800"/>
          </a:xfrm>
        </p:grpSpPr>
        <p:sp>
          <p:nvSpPr>
            <p:cNvPr id="412" name=""/>
            <p:cNvSpPr/>
            <p:nvPr/>
          </p:nvSpPr>
          <p:spPr>
            <a:xfrm flipH="1">
              <a:off x="3863520" y="2636640"/>
              <a:ext cx="1426320" cy="62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889440" y="2694240"/>
              <a:ext cx="1426320" cy="628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14" name=""/>
          <p:cNvSpPr/>
          <p:nvPr/>
        </p:nvSpPr>
        <p:spPr>
          <a:xfrm flipV="1">
            <a:off x="762120" y="2025360"/>
            <a:ext cx="152280" cy="110484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5" name=""/>
          <p:cNvSpPr/>
          <p:nvPr/>
        </p:nvSpPr>
        <p:spPr>
          <a:xfrm flipH="1" flipV="1">
            <a:off x="1294920" y="1987200"/>
            <a:ext cx="4038840" cy="114300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6" name=""/>
          <p:cNvSpPr/>
          <p:nvPr/>
        </p:nvSpPr>
        <p:spPr>
          <a:xfrm>
            <a:off x="3073320" y="1454040"/>
            <a:ext cx="914400" cy="3463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CF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7" name=""/>
          <p:cNvSpPr/>
          <p:nvPr/>
        </p:nvSpPr>
        <p:spPr>
          <a:xfrm>
            <a:off x="2006640" y="1682640"/>
            <a:ext cx="914400" cy="346320"/>
          </a:xfrm>
          <a:prstGeom prst="ellipse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SCP</a:t>
            </a:r>
            <a:br>
              <a:rPr sz="1200"/>
            </a:b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$ZNET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8" name=""/>
          <p:cNvSpPr/>
          <p:nvPr/>
        </p:nvSpPr>
        <p:spPr>
          <a:xfrm>
            <a:off x="1701720" y="1847880"/>
            <a:ext cx="304920" cy="0"/>
          </a:xfrm>
          <a:prstGeom prst="line">
            <a:avLst/>
          </a:prstGeom>
          <a:ln cap="rnd" w="6480">
            <a:solidFill>
              <a:srgbClr val="000000"/>
            </a:solidFill>
            <a:custDash>
              <a:ds d="100000" sp="1000"/>
            </a:custDash>
            <a:miter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2844720" y="1679040"/>
            <a:ext cx="250920" cy="155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0" name=""/>
          <p:cNvSpPr/>
          <p:nvPr/>
        </p:nvSpPr>
        <p:spPr>
          <a:xfrm>
            <a:off x="1905120" y="6407280"/>
            <a:ext cx="586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1" name=""/>
          <p:cNvSpPr/>
          <p:nvPr/>
        </p:nvSpPr>
        <p:spPr>
          <a:xfrm>
            <a:off x="3886200" y="6178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2" name=""/>
          <p:cNvSpPr/>
          <p:nvPr/>
        </p:nvSpPr>
        <p:spPr>
          <a:xfrm>
            <a:off x="5562720" y="617868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3" name=""/>
          <p:cNvSpPr/>
          <p:nvPr/>
        </p:nvSpPr>
        <p:spPr>
          <a:xfrm>
            <a:off x="717480" y="3951360"/>
            <a:ext cx="3272040" cy="2602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ZCIPDLL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4" name=""/>
          <p:cNvSpPr/>
          <p:nvPr/>
        </p:nvSpPr>
        <p:spPr>
          <a:xfrm>
            <a:off x="4905360" y="3668760"/>
            <a:ext cx="609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ata-in</a:t>
            </a:r>
            <a:endParaRPr b="0" lang="en-US" sz="1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5" name=""/>
          <p:cNvSpPr/>
          <p:nvPr/>
        </p:nvSpPr>
        <p:spPr>
          <a:xfrm>
            <a:off x="1631880" y="2792520"/>
            <a:ext cx="1800" cy="115416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6" name=""/>
          <p:cNvSpPr/>
          <p:nvPr/>
        </p:nvSpPr>
        <p:spPr>
          <a:xfrm>
            <a:off x="6086520" y="2809800"/>
            <a:ext cx="1440" cy="115416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7" name=""/>
          <p:cNvSpPr/>
          <p:nvPr/>
        </p:nvSpPr>
        <p:spPr>
          <a:xfrm>
            <a:off x="6881760" y="2855880"/>
            <a:ext cx="1800" cy="11239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02F1-0A27-428F-8CC1-14F91E1419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50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9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PROVIDER Objec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lvl="1" marL="342360" indent="-2289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fines a collection of Ethernet resources and associates them with a transport provider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Associates an IP CLIM to a PROVIDER object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15200" indent="-21672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Directs socket requests to a specific 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One provider per IP CLIM (default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15200" indent="-21672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One provider per two IP CLIMs in a failover configuratio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A Provider has a corresponding CIPSAM process which is used by applications to select the transport service provid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2360" indent="-22896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type of PROVID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PDATA PROVID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15200" indent="-21672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ssociate with all normal data interfaces on all CLIMs associated with this PROVIDE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85080" indent="-22932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aintenance PROVIDE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15200" indent="-21672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ssociate with a maintenance interface on a specific CLIM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AF8F5-7FFB-4A4A-B2EC-ADAA30B609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onStop Operating System CIP Components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IPMAN – Manager process ($ZZCIP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IPMON – Monitor process ($ZCMxx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IPSAM – Socket provider proces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SIF – Common Socket Interfac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ZCIPSCF – SCF product module for CIP sub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ZCIPPTR – PTRACE product module for CIP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ZCIPDLL – Shared run-time resource library 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ZCIPMDLL – Shared run-time library to support Measure for CIP sub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kIT-API/SCS – Kernel module for RDMA operation and messages over ServerNet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CMD – Wrapper for communicating with CLIM via maintenance LAN using the Secure Shell (SSH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3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EF2F5-A23B-4532-AE99-E5DF136E93E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23:44Z</dcterms:created>
  <dc:creator>jpolacek</dc:creator>
  <dc:description/>
  <dc:language>en-US</dc:language>
  <cp:lastModifiedBy>Vince Cooper</cp:lastModifiedBy>
  <cp:lastPrinted>2004-09-23T21:26:26Z</cp:lastPrinted>
  <dcterms:modified xsi:type="dcterms:W3CDTF">2010-05-24T19:41:18Z</dcterms:modified>
  <cp:revision>117</cp:revision>
  <dc:subject/>
  <dc:title>Course Title or  Module Title</dc:title>
</cp:coreProperties>
</file>