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523440" y="0"/>
            <a:ext cx="341172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7"/>
          </p:nvPr>
        </p:nvSpPr>
        <p:spPr>
          <a:xfrm>
            <a:off x="4203360" y="0"/>
            <a:ext cx="202716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8"/>
          </p:nvPr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solidFill>
            <a:srgbClr val="ffffff"/>
          </a:solidFill>
          <a:ln w="12600">
            <a:solidFill>
              <a:srgbClr val="6e6f7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76" name=""/>
          <p:cNvSpPr/>
          <p:nvPr/>
        </p:nvSpPr>
        <p:spPr>
          <a:xfrm>
            <a:off x="3289320" y="8930160"/>
            <a:ext cx="6195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285A-ABFE-401D-8252-F8CA679B678E}" type="slidenum">
              <a:rPr b="0" lang="en-US" sz="1000" spc="-1" strike="noStrike">
                <a:solidFill>
                  <a:srgbClr val="000000"/>
                </a:solidFill>
                <a:latin typeface="Futura Hv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8" name=""/>
          <p:cNvSpPr/>
          <p:nvPr/>
        </p:nvSpPr>
        <p:spPr>
          <a:xfrm>
            <a:off x="523800" y="307800"/>
            <a:ext cx="580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&lt;SCF&gt; stats mon $zzcp.zcm00 (continued)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OCKET SEND SIZE HISTOGRAM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ize 1-128.................. 37362   Size 129-256................ 34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ize 257-512................ 0       Size 513-1024...........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ize 1025-2048.............. 30213   Size 2049-4096..........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ize 4097-8192.............. 0       Size 8193-12288.........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ize 12289-16384............ 0       Size 16385-32768........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ize 32769 and larger...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MON STATS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Messages Sent......... 67818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Messages Received..... 1607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urrent Connected CLIMs..... 4          High Connected CLIMs........ 4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Rejected Connections.. 0          Deferred Sends..........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SCF&gt; stats clim $zzcip.s1002531 (continued)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IPSSRV0 STATS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vent Log Entries.......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Buffer denials..........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T-API errors...........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st IT-API error code..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inux errors............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Last Linux errno........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urrent bfr bytes in use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High bfr bytes in use...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msgs sent.........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msgs received.....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bytes sent........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Total bytes received....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urrent connected Cpus...... 0      High connected Cpus.....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ferred Sends.............. 0      Failed Commands.........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urrent TCP Listen Sockets.. 0      High TCP Listen Sockets.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urrent UDP Sockets......... 0      High UDP Sockets........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Current TCP Connections..... 0      High TCP Connections........ 0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75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To search for reference (man) pages, user the man –k &lt;string&gt;.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The following command will return all man pages containing the word - clim.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</a:rPr>
              <a:t>&lt;TACL&gt; climcmd &lt;clim-name&gt; man –k clim</a:t>
            </a: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23440" y="0"/>
            <a:ext cx="341172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03360" y="0"/>
            <a:ext cx="202716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The climstatus command provides status information for all the above mentioned components by default. However, a user can supply an option and choose to view status information pertaining to a particular component.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Options (-o)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s — Displays the status information pertaining to ServerNet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l — Displays the status information pertaining to Local Area Network (EtherNet) 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r — Displays the status information pertaining to Kernel IP Routing Table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h —Displays the information pertaining to the file system and disk space usage on the CLIM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i — Displays the information pertaining to the IPSec configuration, and information specific to </a:t>
            </a: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 the  IPSec, such as security policies and associations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f — Displays the interface failover configuration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m — Displays the CLIM SNMP Configuration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c —Displays the CLIM specific configuration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Continuation of output from the above slide.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(per-socket policy)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in none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reated: Sep  4 21:16:34 2008  lastused: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ifetime: 0(s) validtime: 0(s)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pid=51 seq=4 pid=15591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fcnt=1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(per-socket policy)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out none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reated: Sep  4 21:16:34 2008  lastused: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ifetime: 0(s) validtime: 0(s)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pid=108 seq=3 pid=15591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fcnt=1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(per-socket policy)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out none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reated: Sep  4 21:16:34 2008  lastused: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ifetime: 0(s) validtime: 0(s)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pid=92 seq=2 pid=15591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fcnt=1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(per-socket policy)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out none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reated: Sep  4 21:16:34 2008  lastused: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ifetime: 0(s) validtime: 0(s)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pid=76 seq=1 pid=15591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fcnt=1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(per-socket policy)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out none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created: Sep  4 21:16:34 2008  lastused: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lifetime: 0(s) validtime: 0(s)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spid=60 seq=0 pid=15591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refcnt=1</a:t>
            </a: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249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PID — Process ID 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RSS — Resident set size of process, the actual amount of memory allocated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STAT — Process state code, (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Futura Bk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leeping,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Futura Bk"/>
              </a:rPr>
              <a:t>R</a:t>
            </a: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unnable/Running, Low priority (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Futura Bk"/>
              </a:rPr>
              <a:t>N</a:t>
            </a: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),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Futura Bk"/>
              </a:rPr>
              <a:t>Z</a:t>
            </a: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ombie (defunct),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Futura Bk"/>
              </a:rPr>
              <a:t>s</a:t>
            </a: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ession leader, Multi-threaded (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Futura Bk"/>
              </a:rPr>
              <a:t>l</a:t>
            </a: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),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Futura Bk"/>
              </a:rPr>
              <a:t>W</a:t>
            </a: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aiting) 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523440" y="0"/>
            <a:ext cx="341172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203360" y="0"/>
            <a:ext cx="202716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$ZZCIP — Cluster I/O Protocol (CIP) manager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$ZCM## — CIP monitor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The NAMES command returns a list of the object names and types subordinate to the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specified object.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The LISTOPENS MON command displays a list of all sockets opened by processes in the processor containing the specified CIPMON.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The LISTOPENS PROVIDER command displays all sockets using the specified PROVIDER and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identifies the process that opened each socket.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712D1-BE20-44F0-8404-3C9A23373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6725-299B-4559-87B5-BA1899CC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375B7-7A19-46AC-825C-408E3B11B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7F0D1-DB34-487F-A644-04AACF5C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1246F-AE3A-4F3B-BBB7-8A0BE39EF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EE4839-5582-4A80-9BC3-F3EFFA4C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51745-BB71-4E5D-8FA2-AAD3893C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7DF52-4DEE-48B8-8926-4C71EB60A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1E83B-B351-4DFF-B518-31C701725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07413-4D91-43BC-AD51-446317AC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2940E-86C1-40B1-8181-0E10E853C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E3102F-AACD-4CFD-AC8B-10132146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4CAB2-4F35-466C-9B18-C40F3D58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EF7EFD-569C-4C56-9C75-9E2474BA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14DEE-1FFB-46CF-9585-6587DEC2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6CA11-0371-4253-844B-570BFEF1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3ACB5-9741-40E8-AC21-D63F5D2AD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A20ED-5C3D-45A4-97EC-9EA28BF7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2797-0E23-4502-9B86-68A06361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81B59-167B-4A77-8B04-1E0AD047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D0E91-40F2-48C8-8E3B-198ED28A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3B963-31DC-41F0-9922-C1186BC6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99202-3F2E-4C7C-B65F-C4701D1D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78E10-A8F0-48F1-8C89-E7C4B8DB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2" marL="692280" indent="-231840">
              <a:spcAft>
                <a:spcPts val="814"/>
              </a:spcAft>
              <a:buClr>
                <a:srgbClr val="6e6f72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3" marL="1025640" indent="-21924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4" marL="1149480" indent="-9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5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6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3960" y="663840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48589"/>
                </a:solidFill>
                <a:latin typeface="Futura Hv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718480" y="6638400"/>
            <a:ext cx="37944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0C33-53CC-450B-B232-076E3BDE9B47}" type="slidenum">
              <a:rPr b="0" lang="en-US" sz="1200" spc="-1" strike="noStrike">
                <a:solidFill>
                  <a:srgbClr val="848589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4853160" y="6638400"/>
            <a:ext cx="39081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48589"/>
                </a:solidFill>
                <a:latin typeface="Futura Hv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3600" y="106020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"/>
          <p:cNvSpPr/>
          <p:nvPr/>
        </p:nvSpPr>
        <p:spPr>
          <a:xfrm>
            <a:off x="453960" y="6396120"/>
            <a:ext cx="59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9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460440" algn="ctr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3" marL="806400" algn="ctr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4" marL="1139760" algn="ctr">
              <a:spcAft>
                <a:spcPts val="561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5" marL="113976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6" marL="113976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2" marL="692280" indent="-231840">
              <a:spcAft>
                <a:spcPts val="814"/>
              </a:spcAft>
              <a:buClr>
                <a:srgbClr val="6e6f72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3" marL="1025640" indent="-21924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4" marL="1149480" indent="-9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5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6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453960" y="663840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48589"/>
                </a:solidFill>
                <a:latin typeface="Futura Hv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5"/>
          </p:nvPr>
        </p:nvSpPr>
        <p:spPr>
          <a:xfrm>
            <a:off x="8718480" y="6638400"/>
            <a:ext cx="37944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8AAE-D690-4847-BD6B-602ABEC7CD1E}" type="slidenum">
              <a:rPr b="0" lang="en-US" sz="1200" spc="-1" strike="noStrike">
                <a:solidFill>
                  <a:srgbClr val="848589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4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4853160" y="6638400"/>
            <a:ext cx="39081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48589"/>
                </a:solidFill>
                <a:latin typeface="Futura Hv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3600" y="106020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3" name=""/>
          <p:cNvSpPr/>
          <p:nvPr/>
        </p:nvSpPr>
        <p:spPr>
          <a:xfrm>
            <a:off x="453960" y="6396120"/>
            <a:ext cx="59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3600" y="106020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ommon CLIM commands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3960" y="4812840"/>
            <a:ext cx="56419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Module 7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CF Stats Mon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6-&gt; stats mon $zzcip.ZCM00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P Stats MON \DAGGER.$ZZCIP.ZCM00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mple Time ... 11 Dec 2008, 12:56:15.829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et Time .... 08 Dec 2008, 13:03:36.726SOCKET STATS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tal Recv Socket Reqs...... 575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tal Recv Errors........... 2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tal Send Socket Reqs...... 67609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tal Send Errors........... 0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 Bytes Sent............. 50465612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ata Bytes Received......... 6978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tal Connections Out....... 26      Total Connections In........ 8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TCP Listen Sockets.. 10      High TCP Listen Sockets..... 10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UDP Sockets......... 3       High UDP Sockets............ 3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TCP Connections..... 2       High TCP Connections........ 4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89396-A6AC-4BFA-8FB8-997533F8EE5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CF Stats CLIM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7-&gt; stats clim $zzcip.s1002531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P Stats CLIM \DAGGER.$ZZCIP.S1002531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mple Time ... 11 Dec 2008, 13:04:26.00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set Time .... 08 Dec 2008, 13:03:40.00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MMON STAT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vent Log Entries......... 0            Restarts.................. 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MAGT Failures.......... 0            CIPSSRV0 Failures......... 0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MAGT STATS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vent Log Entries........... 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uffer denials.............. 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T-API errors............... 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IT-API error code...... 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ux errors................ 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Linux errno............ 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bfr bytes in use.... 16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igh bfr bytes in use....... 420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tal msgs sent............. 20566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tal msgs received......... 20566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connected Cpus...... 4      High connected Cpus......... 4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Queued Commands............. 1      Failed Commands............. 0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0A9C2-B841-40C5-8E84-FDABB078FC9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CF Switch CLIM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Example: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tch clim $zzsto.S100271, away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Same as “switch adapter $zzsto.&lt;adapter name&gt;”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 but for CLIMS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Informs the NonStop system not to use a Storage CLIM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8360-0D4E-4294-99C8-16CEC3766A9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Linux Events (1 of 2)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Linux events are automatically forwarded to EMS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ample Linux CLIM event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0226  2008-01-29 15:15:31 \POS27.$ZCM00     TANDEM.CIP.H01 005227 CLIM Event  CLIM Name: C100271   Logged by CLIM at: Tue Jan 29 15:15:04 2008   logger: 2008/01/29 23:15:04.000000 lunmgr: Do_update (). 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A1F80-B615-4C3C-B71E-30FAE214F2D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Linux Events (2 of 2)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7000"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AS Disk Removal events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35520"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226  2008-01-29 15:15:31 \POS27.$ZCM00     TANDEM.CIP.H01        005227 CLIM Event  CLIM Name: C100271   Logged by CLIM at: Tue Jan 29 15:15:04 2008   logger: 2008/01/29 23:15:04.000000 lunmgr: Do_update (). 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335520"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227  2008-01-29 15:15:31 \POS27.$ZCM00     TANDEM.CIP.H01        005227 CLIM Event  CLIM Name: C100271   Logged by CLIM at: Tue Jan 29 15:15:06 2008   kernel: 2008/01/29 23:15:06.909064 stomod: ctd: Table entry 003 disabled - lun = 102, id = 515 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335520"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228  2008-01-29 15:15:31 \POS27.$ZCM00     TANDEM.CIP.H01        005227 CLIM Event  CLIM Name: C100271   Logged by CLIM at: Tue Jan 29 15:15:06 2008   kernel:  target0:0:2: delete device: fw_channel 0, fw_id 36, phy 1, sas_addr 0x5000c50000f7c481 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335520"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0229  2008-01-29 15:15:31 \POS27.$ZCM00     TANDEM.CIP.H01        005227 CLIM Event  CLIM Name: C100271   Logged by CLIM at: Tue Jan 29 15:15:06 2008   kernel: 2008/01/29 23:15:06.912087 stomod: ctd: Table entry 003 deleted 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554AD-BBA9-49CA-862A-D4C47AE5A33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Using CLIMBKUP/CLIMRSTR 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4000"/>
          </a:bodyPr>
          <a:p>
            <a:pPr lvl="1" marL="325080" indent="-217440"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LIMBKUP is used to store a copy of the CLIM configuration files in an archive on the NonStop System.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2" marL="650520" indent="-217800"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IP subsystem configuration is stored in ZSYSCONF database as other modern NonStop SCF subsystems, so that does not need a backup.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2" marL="650520" indent="-217800"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LIM specific configuration is stored on the CLIMs which are non-fault-tolerant and need a regular backup.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25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1b5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71b5"/>
                </a:solidFill>
                <a:latin typeface="Courier New"/>
              </a:rPr>
              <a:t>&lt;TACL&gt; CLIMBKUP n1002531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25080" indent="-217440"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he configuration files for CLIM N1002531 would be placed default in $SYSTEM.N1002531.BACKUPGZ, but you can specify another filename.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25080" indent="-217440"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Restore the CLIM configuration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2" marL="650520" indent="-217800"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opies the configuration information from the $SYSTEM disk of the NonStop host system to the CLIM that was saved in the backup operation 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2" marL="650520" indent="-217800"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Upon completion of this command, the CLIM must be rebooted to load the new configuration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2" marL="650520" indent="-217800"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Without filename the default filename and location is the same as for CLIMBKUP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1b5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71b5"/>
                </a:solidFill>
                <a:latin typeface="Courier New"/>
              </a:rPr>
              <a:t>&lt;TACL&gt; CLIMRSTR n1002531</a:t>
            </a: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8989-43B3-4DB1-8217-A13C5B72220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Using the CLIMCMD 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lnSpc>
                <a:spcPct val="90000"/>
              </a:lnSpc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he climcmd is used to execute commands on the CLIMs from a NonStop BladeSystem server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lnSpc>
                <a:spcPct val="90000"/>
              </a:lnSpc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Use the super user login 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90000"/>
              </a:lnSpc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he climcmd is run from a TACL prompt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90000"/>
              </a:lnSpc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Uses the secure shell (with the trust established with SSOCLIM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90000"/>
              </a:lnSpc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pecific climcmd options are used in place of running the equivalent Debian Linux command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lnSpc>
                <a:spcPct val="90000"/>
              </a:lnSpc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Never directly edit a CLIM configuration file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90000"/>
              </a:lnSpc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Most Debian Linux command can be executed from the climcmd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lnSpc>
                <a:spcPct val="90000"/>
              </a:lnSpc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Some commands can not be executed due to terminal requirements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90000"/>
              </a:lnSpc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View the reference (man) page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0">
              <a:lnSpc>
                <a:spcPct val="90000"/>
              </a:lnSpc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F1278-3B36-4F74-8112-D40713626D8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MCMD command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6000"/>
          </a:bodyPr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&lt;TACL&gt; climcmd s1002531 man -k clim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im (1)  - operate, maintain, and assimilate debugging information of the CLIM software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imconfig (1) - configure network protocol parameters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imconfig.arp (1) [arp] - manage arp entries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imconfig.bondmode (1) [bondmode] - change bonding mode, get bondmode info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imconfig.failover (1) [failover] - configure failover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imconfig.hostname (1) [hostname] - manage the CLIM host name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imconfig.interface (1) [interface] - manage CLIM interfaces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imconfig.ip (1) [ip] - add or delete IP addresses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imconfig.psk (1) [psk] - configure pre-shared keys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imconfig.remote (1) [remote] - manage remote configuration for security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ssociations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imconfig.route (1) [route] - configure routes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imconfig.sa (1) [sa] - configure security associations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imconfig.slaveinterface (1) [slaveinterface] - configure bonding interfaces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imconfig.snmp (1) [snmp] - configure snmp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imconfig.sp (1) [sp] - configure security policies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imconfig.sysctl (1) [sysctl] - set or display CLIM kernel parameters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imconfig.tunnel (1) [tunnel] - modify tunnel configuration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imconfig.vpn (1) [vpn] - obtain information about virtual private networks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limstatus (1)       - displays CLIM specific status information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ostname (1)         - manage the CLIM host name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face (1)        - manage CLIM interfaces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sclim (1)           - shows system information about CLIM processes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ysctl (1)           - set or display CLIM kernel parameters</a:t>
            </a: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FC945-9A9B-474D-BD07-AB084E2F34D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MCMD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ACL&gt; CLIMCMD {&lt;HOSTNAME&gt; | &lt;IP ADDRESS&gt; | &lt;CLIM NAME&gt;}</a:t>
            </a: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hows all supported Linux commands for the specified CLIM.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128CF-4D61-4E64-BE48-8D45D8D8485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MCMD Examples — </a:t>
            </a: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List the CLIM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ACL&gt; scf info clim $zzcip.*</a:t>
            </a: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IP Info CLIM</a:t>
            </a: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       Mode      Location         ConnPts  Provider</a:t>
            </a: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002531   STORAGE   (100 ,2 ,5 ,3 ,1 )   2      --</a:t>
            </a: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1002533   STORAGE   (100 ,2 ,5 ,3 ,3 )   2      --</a:t>
            </a: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1002581   IP        (100 ,2 ,5 ,8 ,1 )   1      ZTC0</a:t>
            </a: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1002583   IP        (100 ,2 ,5 ,8 ,3 )   1      ZTC0</a:t>
            </a: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otal Errors = 0    Total Warnings = 0</a:t>
            </a: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D6DAA-91CA-458F-90A2-36C3D44F1A5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Module Objective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CF commands for CIP subsystem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CLIM backup and CLIM restor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climcmd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  <a:p>
            <a:pPr lvl="2" marL="6922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FDD70-2B85-4053-B8EE-94A241ABDFF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MCMD Examples — CLIMSTATU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6000"/>
          </a:bodyPr>
          <a:p>
            <a:pPr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e climstatus command is a compilation of command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ACL&gt; climcmd s1002531 man climstatus     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                                             climstatus(1) 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imstatus - displays CLIM specific status information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YNOPSIS        climstatus [-o &lt;s,l,r,h,i,f,m,c&gt;]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SCRIPTION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imstatus is a program that provides the user with CLIM specific status information. The information provided caters to the following objects and/or devices present on the CLIM system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- ServerNe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- EtherNet, Local Area Network (LAN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- Kernel IP Routing Tabl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- Secondary Storage Devices, Hard Disk Drives (HDD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- IP Security policies and association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- Interface Failover configur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- SNMP Configuration inform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- CLIM specific configuration information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CD213-5BD1-4BF8-8165-D2192A9EDB8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MCMD Examples — CLIMSTATU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(1 of 6)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9000"/>
          </a:bodyPr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ACL&gt; climcmd s1002531 climstatus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M Configuration &amp; Status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e.................. STORAG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................. STARTE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Pts............... 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1 Location........... Group 100, Module 2, Slot 5, Port 3, Fiber 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1 Location........... Group 100, Module 3, Slot 7, Port 3, Fiber 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2 Location........... Group 100, Module 2, Slot 5, Port 3, Fiber 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2 Location........... Group 100, Module 3, Slot 7, Port 3, Fiber 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1 Connection Status..... U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1 Connection Status..... U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2 Connection Status..... U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Y2 Connection Status..... U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Restart Time........ Thu Sep  4 21:17:31 2008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P/Linux Hostname....... S100253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twork SW Version....... T0691H01_01AUG2008_AAB_CLIM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orage SW Version....... T0830H01_01AUG2008_23JUL2008_AA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P SW Version........... T0853H01_01AUG2008_23JUL2008_AAA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 of Socket Servers. 1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P/Linux Version:Linux version 2.6.18-6-clim-amd64 (Debian 2.6.18.dfsg.1-18hpdeetch1hpde1.9) (brian.haley@hp.com)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gcc version 4.1.2 20061115 (prerelease) (Debian 4.1.1-21)) #1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C050D-3DA7-444F-A358-D9033B5A5E9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MCMD Examples — CLIMSTATU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 (2 of 6)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9000"/>
          </a:bodyPr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ACL&gt; climcmd s1002531 climstatus (continued)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MP PREEMPT Wed Jul 9 21:42:14 UTC 200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Maintenance LAN Status &amp; IP Address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      Status  LkP   Master / IP Family &amp; Addres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h0      UP      UP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IPv4: 192.168.37.3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IPv6: fe80::21e:bff:fe78:57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tenance Provider Interface Status &amp; IP Address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      Status  LkP   Master / IP Family &amp; Address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ther LAN Status &amp; IP Addresses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      Status  LkP   Master / IP Family &amp; Addres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        UP      -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IPv4: 127.0.0.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                   IPv6: ::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t0      DOWN    --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h1      DOWN    DOW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nd0     DOWN    DOW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nd1     DOWN    DOWN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6B785-9E68-44DE-9C6A-30892453750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MCMD Examples — CLIMSTATU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 (3 of 6)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ACL&gt; climcmd s1002531 climstatus (continued)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rnel IP routing table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tination      Gateway          Genmask          Iface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92.168.0.0      *                255.255.0.0      eth0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ault          192.168.37.1     0.0.0.0          eth0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rnel IPv6 routing table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tination                                         Next_Hop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ags Metric Ref    Use Iface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::1/128                                              ::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     0      244    1   l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e80::21e:bff:fe78:57e/128                           ::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     0      0      1   l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e80::/64                                            ::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     256    0      0   eth0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f00::/8                                             ::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     256    0      0   eth0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24D4C-CC20-4D1F-8E64-37AE875FBE6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MCMD Examples — CLIMSTATU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 (4 of 6)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ACL&gt; climcmd s1002531 climstatus (continued)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system Disk Space Usage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lesystem      Type         Size   Used   Avail  Use%   Mounted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dev/sda1       ext3         65G    2.4G   59G    4%     /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mpfs           tmpfs        1.7G   0      1.7G   0%     /lib/init/rw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dev            tmpfs        10M    228K   9.8M   3%     /dev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mpfs           tmpfs        1.7G   84K    1.7G   1%     /dev/shm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6490-212F-46C2-88A4-4D44E3477A2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MCMD Examples — CLIMSTATU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 (5 of 6)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ACL&gt; climcmd s1002531 climstatus (continued)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PSEC Configuration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curity Policies from SPD (Security policy database)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per-socket policy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in no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created: Sep  4 21:16:34 2008  lastused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lifetime: 0(s) validtime: 0(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spid=99 seq=7 pid=1559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refcnt=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per-socket policy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in no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created: Sep  4 21:16:34 2008  lastused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lifetime: 0(s) validtime: 0(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spid=83 seq=6 pid=1559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refcnt=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per-socket policy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in no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created: Sep  4 21:16:34 2008  lastused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lifetime: 0(s) validtime: 0(s)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spid=67 seq=5 pid=1559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refcnt=1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41832-30FD-4262-819D-AD113C6E8E0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MCMD Examples — CLIMSTATU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 (6 of 6)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9000"/>
          </a:bodyPr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ACL&gt; climcmd s1002531 climstatus (continued)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curity Associations from SAD (Security association database)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 SAD entries.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rface Failover Configuration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one of the failover configuration exists.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NMP Configuration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ap Receiver IP Address                192.168.36.1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                192.168.36.1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NMP Agent State                        STARTE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NMP Agent Listening IP Address         192.168.37.3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------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MPREP Configuration: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ERSION                   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NECTED_GMS             100.2.5.3.1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_NAME                  SABE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NET_SPEED                3             NETWORK_CLIM              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ISK_CLIM                 1             OPEN_CLIM                 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S7_CLIM                  0             NUM_SNET_CONN             2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ITCH_TYPE               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CI_SLOTS                 1.EM,2.EM,3.DC,4.VO,5.VO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BBE3F-418B-41C3-B987-611D2B4CA62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MCMD Examples — CLIM Processe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wo commands to display CLIM process information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ACL&gt; climcmd n1002581 psclim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  RSS %MEM %CPU     TIME  START STAT CMD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517   796  0.0  0.0 00:00:00 Sep  4 Ssl  /usr/local/bin/climmon --time 0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565   872  0.0  0.0 00:00:01 Sep  4 Sl   confsync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566 19380  0.4  0.0 00:02:15 Sep  4 Sl   cipssrv --number 0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567  9236  0.2  0.0 00:04:01 Sep  4 Sl   climagt --number 1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rmination Info: 0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ACL&gt; climcmd n1002581 clim status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D   RSS %MEM %CPU     TIME  START STAT CMD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517   796  0.0  0.0 00:00:00 Sep  4 Ssl  /usr/local/bin/climmon --time 0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565   872  0.0  0.0 00:00:01 Sep  4 Sl   confsync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566 19380  0.4  0.0 00:02:15 Sep  4 Sl   cipssrv --number 0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567  9236  0.2  0.0 00:04:01 Sep  4 Sl   climagt --number 1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8E26-7E37-46CD-B929-98C3C4585D9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MCMD Examples — Linux Command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(1 of 4)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99520" y="992160"/>
            <a:ext cx="88441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Execute Debian Linux commands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ACL&gt; climcmd n1002581 netstat -i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Kernel Interface table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ace   MTU   Met   RX-OK RX-ERR RX-DRP RX-OVR   TX-OK  TX-ERR TX-DRP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X-OVR Flg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th0    1500  0    4430952    0     0      0    2619952     0      0      0      BMRU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th0:   1500  0       - no statistics available -      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MRU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th1    1500  0    8384055    0     0      0    15877       0      0      0      BMRU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      16436 0    816837     0     0      0    816837      0      0      0      LRU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4B4C8-9FE4-44C0-907A-095E8060F84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MCMD Examples — Linux Command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(2 of 4)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ACL&gt; climcmd n1002581 ls -al /etc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tal 872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rwxr-xr-x 54 root root     4096 2008-09-04 19:19 .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rwxr-xr-x 22 root root     4096 2008-08-29 00:00 ..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rwxr-xr-x  3 root root     4096 2008-08-28 23:42 acpi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rw-r--r--  1 user root     9832 2008-02-28 22:27 adapters.properties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rw-r--r--  1 root root     2803 2008-03-14 15:33 adduser.conf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rw-r--r--  1 root root       45 2008-09-04 19:16 adjtime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rwxr-xr-x  2 root root     4096 2008-09-04 17:59 alternatives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rwxr-xr-x  4 root root     4096 2008-08-28 23:42 apt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rwxr-xr-x  1 root root     4673 2008-07-22 17:27 backup.conf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1EDDF-38A0-4EF8-A684-40EE209C4F9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M NonStop configuration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5000"/>
          </a:bodyPr>
          <a:p>
            <a:pPr lvl="1" marL="328320" indent="-219600"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onfigure and start CIPMAN and CIPMON processes via SCF ADD PROCESS and SCF START PROCESS command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28320" indent="-219600"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onfigure and start CLIM via SCF ADD CLIM and SCF START CLIM commands, or OSM Service Connection Configure CLIM and Start action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28320" indent="-219600"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onfigure and start PROVIDER via SCF ADD PROVIDER and SCF START PROVIDER commands (for IP CLIM only)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28320" indent="-219600"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onfigure and start attached disks and tapes via SCF ADD DISK, SCF ADD TAPE, SCF START DISK, and SCF START TAPE commands (for storage CLIM only)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28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28320" indent="-219600"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or enabling CLIMCMD commands a trusted partnership must be setup between the NonStop system and the CLIM. The SSOCLIM command must be used (from TACL) on the NonStop system to do that.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28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328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328320" indent="-219600"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All the steps should be already done for newly shipped systems or only the first one as part of DSM/SCM installation (adding CLIMS to NS16x00).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3283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871D9-0C5A-4303-827C-72F2878789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MCMD Examples — Linux Command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(3 of 4)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ACL&gt; climcmd n1002581 ps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ID TTY          TIME CMD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 ?        00:00:00 init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2 ?        00:00:00 migration/0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 ?        00:00:00 ksoftirqd/0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 ?        00:00:00 watchdog/0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5 ?        00:00:00 migration/1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6 ?        00:00:00 ksoftirqd/1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7 ?        00:00:00 watchdog/1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8 ?        00:00:00 events/0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9 ?        00:00:00 events/1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66125-952C-41A6-8A37-E4B42DFDF16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MCMD Examples — Linux Command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(4 of 4)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CL&gt; climcmd n1002581 free -m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otal     used     free   shared    buffers     cached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em:        3821      387     3434        0        145         77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/+ buffers/cache:        164       3656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wap:         2894          0       2894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ACL&gt; climcmd n1002581 top -n1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RM environment variable not set.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ACL&gt; climcmd n1002581 who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6:34:13 up 20 days, 21:16,  0 users,  load average: 0.16, 0.04, 0.01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SER     TTY      FROM              LOGIN@   IDLE   JCPU   PCPU WHAT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B3597-6064-439B-BCAB-4810841B792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MCMD Examples — CLIMCONFIG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e climconfig command reference (man) page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mconfig - configure network protocol parameters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NOPSIS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mcmd hostname|clim-name|ip-address climconfig  command [parameter]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   This command is a parameter to the climcmd command-line interface. It allows you to configure network, IPSec, failover and  SNMP parameters.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ter climcmd at the TACL prompt on the NonStop system followed by the clim-name, CLIM hostname or CLIM IP address, climconfig and one or more command objects and associated parameters.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gt;climcmd 17.24.17.5 climconfig arp -add eth1 -host 17.24.17.50 -hw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dress 00:0E:7f:F5:6E:8A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E11D0-AA14-4684-B5AE-B31B35EE600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mconfig man page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The climconfig command is discussed in a later module.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For details about the climconfig command arguments, see the following reference (man) pages: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buClr>
                <a:srgbClr val="6e6f72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imcmd hostname|clim-name|ip-address man climconfig.arp</a:t>
            </a:r>
            <a:endParaRPr b="0" lang="en-US" sz="17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buClr>
                <a:srgbClr val="6e6f72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imcmd hostname|clim-name|ip-address man climconfig.bondmode</a:t>
            </a:r>
            <a:endParaRPr b="0" lang="en-US" sz="17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buClr>
                <a:srgbClr val="6e6f72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imcmd hostname|clim-name|ip-address man climconfig.failover</a:t>
            </a:r>
            <a:endParaRPr b="0" lang="en-US" sz="17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buClr>
                <a:srgbClr val="6e6f72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imcmd hostname|clim-name|ip-address man climconfig.hostname</a:t>
            </a:r>
            <a:endParaRPr b="0" lang="en-US" sz="17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buClr>
                <a:srgbClr val="6e6f72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imcmd hostname|clim-name|ip-address man climconfig.interface</a:t>
            </a:r>
            <a:endParaRPr b="0" lang="en-US" sz="17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buClr>
                <a:srgbClr val="6e6f72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imcmd hostname|clim-name|ip-address man climconfig.ip</a:t>
            </a:r>
            <a:endParaRPr b="0" lang="en-US" sz="17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buClr>
                <a:srgbClr val="6e6f72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imcmd hostname|clim-name|ip-address man climconfig.psk</a:t>
            </a:r>
            <a:endParaRPr b="0" lang="en-US" sz="17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buClr>
                <a:srgbClr val="6e6f72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imcmd hostname|clim-name|ip-address man climconfig.remote</a:t>
            </a:r>
            <a:endParaRPr b="0" lang="en-US" sz="17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buClr>
                <a:srgbClr val="6e6f72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imcmd hostname|clim-name|ip-address man climconfig.route</a:t>
            </a:r>
            <a:endParaRPr b="0" lang="en-US" sz="17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buClr>
                <a:srgbClr val="6e6f72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imcmd hostname|clim-name|ip-address man climconfig.sa</a:t>
            </a:r>
            <a:endParaRPr b="0" lang="en-US" sz="17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buClr>
                <a:srgbClr val="6e6f72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imcmd hostname|clim-name|ip-address man climconfig.slaveinterface</a:t>
            </a:r>
            <a:endParaRPr b="0" lang="en-US" sz="17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buClr>
                <a:srgbClr val="6e6f72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imcmd hostname|clim-name|ip-address man climconfig.snmp</a:t>
            </a:r>
            <a:endParaRPr b="0" lang="en-US" sz="17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buClr>
                <a:srgbClr val="6e6f72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imcmd hostname|clim-name|ip-address man climconfig.sp</a:t>
            </a:r>
            <a:endParaRPr b="0" lang="en-US" sz="17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buClr>
                <a:srgbClr val="6e6f72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imcmd hostname|clim-name|ip-address man climconfig.sysctl</a:t>
            </a:r>
            <a:endParaRPr b="0" lang="en-US" sz="17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buClr>
                <a:srgbClr val="6e6f72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imcmd hostname|clim-name|ip-address man climconfig.tunnel</a:t>
            </a:r>
            <a:endParaRPr b="0" lang="en-US" sz="17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buClr>
                <a:srgbClr val="6e6f72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climcmd hostname|clim-name|ip-address man climconfig.vpn</a:t>
            </a:r>
            <a:endParaRPr b="0" lang="en-US" sz="17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8A838-F2ED-4F33-A1D0-6C28CB9602C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7120080" y="5126040"/>
              <a:ext cx="1773000" cy="139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308F8-8BF8-4670-998C-1C7C4B19FA8E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CF CIP Subsystem command matrix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80000"/>
              </a:lnSpc>
              <a:spcAft>
                <a:spcPts val="3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----------------------------------------------------------------------------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| A | A | A | D | I | L | N | P | S | S | S | S | S | T | V 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| B | D | L | E | N | I | A | R | T | T | T | T | W | R | E 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Commands | O | D | T | L | F | S | M | I | A | A | A | O | I | A | R 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| R |   | E | E | O | T | E | M | R | T | T | P | T | C | S 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| T |   | R | T |   | O | S | A | T | S | U |   | C | E | I 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|   |   |   | E |   | P |   | R |   |   | S |   | H |   | O 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Object         |   |   |   |   |   | E |   | Y |   |   |   |   |   |   | N 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Type          |   |   |   |   |   | N |   |   |   |   |   |   |   |   |   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               |   |   |   |   |   | S |   |   |   |   |   |   |   |   |   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----------------|---|---|---|---|---|---|---|---|---|---|---|---|---|---|---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CLIM           | x | x |   | x | x |   | x |   | x | x | x | x | x | x | x 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----------------|---|---|---|---|---|---|---|---|---|---|---|---|---|---|---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MON            | x |   |   |   |   | x | x |   |   | x | x | x |   | x | x 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(CIPMON PROCESS)|   |   |   |   |   |   |   |   |   |   |   |   |   |   |   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----------------|---|---|---|---|---|---|---|---|---|---|---|---|---|---|---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PROCESS        | x |   |   |   | x |   | x | x | x |   | x | x |   | x | x 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(CIPMAN PROCESS)|   |   |   |   |   |   |   |   |   |   |   |   |   |   |   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----------------|---|---|---|---|---|---|---|---|---|---|---|---|---|---|---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PROVIDER       | x | x | x | x | x | x | x |   | x |   | x | x |   | x |   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----------------|---|---|---|---|---|---|---|---|---|---|---|---|---|---|---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PROCESS        | x |   |   |   | x |   |   | x |   |   |   | x |   | x | x 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(CIPSAM PROCESS)|   |   |   |   |   |   |   |   |   |   |   |   |   |   |   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----------------|---|---|---|---|---|---|---|---|---|---|---|---|---|---|---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 ROUTE          |   | x |   | x | x |   | x |   |   |   |   |   |   |   |   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|----------------------------------------------------------------------------|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E: 1. Object type NULL for VERSION and NAMES.</a:t>
            </a: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00B5A-6AF9-4A8B-990D-A8193D1950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CF Info Provider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13920" y="992160"/>
            <a:ext cx="8829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7000"/>
          </a:bodyPr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-&gt; info provider $zzcip.*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IP Info PROVIDER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     *TPName   TYPE         *HOSTNAME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TC0      $ZTC0    IPDATA        DAGG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TCP0     $ZTCP0   MAINTENANCE   osmlanx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TCP1     $ZTCP1   MAINTENANCE   osmlany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1-&gt; info provider $zzcip.* ,detail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*TPName.................... $ZTC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ype...................... IPDATA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*HostID.................... 0.0.0.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*Hostname.................. DAGG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*TCP-Listen-Que-Min........ 128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*BRecvPort................. No Ports Specifie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*Family.................... INE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*Share-Ports............... 100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ociated CLIMs: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ame             Index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N1002581         0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N1002583         1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CD365-FC54-4D19-A61A-3C1566A6DDB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uster I/O Protocols (CIP)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62080" y="1004400"/>
            <a:ext cx="8967600" cy="559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ZZCIP 9-&gt; listdev tcpip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Dev  Name    PPID   BPID  Type    RSize Pri Program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09 $ZTCP0  0,359  1,355 (48,0 ) 57344 201 \SABER.$SYSTEM.SYS04.CIPSAM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24 $ZTCP1  1,352  0,384 (48,0 ) 57344 201 \SABER.$SYSTEM.SYS04.CIPSAM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27 $ZTC0   0,387  1,367 (48,0 ) 57344 201 \SABER.$SYSTEM.SYS04.CIPSAM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ZZCIP 10-&gt; listdev cip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Dev  Name    PPID   BPID  Type    RSize Pri Program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8 $ZZCIP  0,332  1,311 (74,0 )   132 200 \SABER.$SYSTEM.SYS04.CIPMAN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82 $ZCM03  3,327        (74,1 ) 57344 200 \SABER.$SYSTEM.SYS04.CIPMON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83 $ZCM02  2,320        (74,1 ) 57344 200 \SABER.$SYSTEM.SYS04.CIPMON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84 $ZCM01  1,341        (74,1 ) 57344 200 \SABER.$SYSTEM.SYS04.CIPMON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85 $ZCM00  0,335        (74,1 ) 57344 200 \SABER.$SYSTEM.SYS04.CIPMON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BF7CE-F18F-4A05-BC0C-53322F95D0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List Device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13920" y="992160"/>
            <a:ext cx="8829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9000"/>
          </a:bodyPr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ZZCIP 13-&gt; listdev $zzcip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Dev  Name   PPID   BPID   Type   RSize Pri Program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88 $ZZCIP  0,332  1,311 (74,0 )  132 200 \SABER.$SYSTEM.SYS04.CIPMAN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ZZCIP 14-&gt; names $zzcip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P Names PROCESS \SABER.$ZZCIP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CESS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ZZCIP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ZZCIP.ZCM00  $ZZCIP.ZCM01  $ZZCIP.ZCM02  $ZZCIP.ZCM03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VIDER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ZZCIP.ZTC0   $ZZCIP.ZTCP0  $ZZCIP.ZTCP1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IM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$ZZCIP.S1002531  $ZZCIP.S1002533  $ZZCIP.N1002581  $ZZCIP.N1002583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C2F6D-AF1E-4592-A4A4-14F0990277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uster I/O Protocols —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CF Listopens (Mon)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ZZCIP 15-&gt; listopens mon $zzcip.zcm00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P Listopens MON \SABER.$ZZCIP.ZCM00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ers           Ppid    State     Proto  Lport    Provider  CLIM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\SABER.$ZTN0       0,388  LISTEN    TCP    telnet   ZTC0      *mult*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\SABER.$ZPR0       0, 23  LISTEN    TCP    1089     ZTC0      *mult*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\SABER.$ZPR0       0, 23  LISTEN    TCP    echo     ZTC0      *mult*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\SABER.$ZPR0       0, 23  LISTEN    TCP    finger   ZTC0      *mult*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\SABER.$ZPR0       0, 23  LISTEN    TCP    ftp      ZTC0      *mult*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IP Listopens MON \SABER.$ZZCIP.ZCM00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peners           Ppid    State     Proto  Lport    Provider  CLIM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\SABER.$ZPRP0    0, 19  LISTEN    TCP    1089     ZTCP0     N1002581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\SABER.$ZTNP0    0,361  LISTEN    TCP    telnet   ZTCP0     N1002581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\SABER.$ZPRP0    0, 19  LISTEN    TCP    echo     ZTCP0     N1002581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\SABER.$ZPRP0    0, 19  LISTEN    TCP    finger   ZTCP0     N1002581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\SABER.$ZPRP0    0, 19  LISTEN    TCP    ftp      ZTCP0     N1002581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\SABER.$ZTNP0    0,361  ESTAB     TCP    telnet   ZTCP0     N1002581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\SABER.$ZSSP0    0,407  LISTEN    TCP    22       ZTCP0     N1002581</a:t>
            </a:r>
            <a:endParaRPr b="0" lang="en-US" sz="1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ECEF3-D7D8-49E3-A0B3-4586BC7A9DF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uster I/O Protocols —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CF Listopens (Provider)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13920" y="992160"/>
            <a:ext cx="8829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$ZZCIP 16-&gt; listopens provider $zzcip.ztcp1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IP Listopens PROVIDER \SABER.$ZZCIP.ZTCP1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ers        Ppid    State   Proto  Lport Provider  CLIM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SABER.$ZPRP1  1, 17  LISTEN   TCP    1089   ZTCP1   N1002583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SABER.$ZTNP1  1,354  LISTEN   TCP    telnet ZTCP1   N1002583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SABER.$ZPRP1  1, 17  LISTEN   TCP    echo   ZTCP1   N1002583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SABER.$ZPRP1  1, 17  LISTEN   TCP    finger ZTCP1   N1002583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SABER.$ZPRP1  1, 17  LISTEN   TCP    ftp    ZTCP1   N1002583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SABER.$ZSSP1  1,394  LISTEN   TCP    22     ZTCP1   N1002583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IP Listopens PROVIDER \SABER.$ZZCIP.ZTCP1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ers       Ppid    State   Proto  Lport Provider  CLIM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SABER.$ZOSM  2,376  LISTEN   TCP    9990   ZTCP1   N1002583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SABER.$ZOEV  2,379  LISTEN   TCP    9991   ZTCP1   N1002583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SABER.$ZTMUX 2,380  0x00180  UDP    162    ZTCP1   N1002583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SABER.$ZCMOM 2,377  LISTEN   TCP    5989   ZTCP1   N1002583</a:t>
            </a:r>
            <a:endParaRPr b="0" lang="en-US" sz="18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7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32646-D2A2-4383-9C62-BBAA50DBDD0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HP 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20:23:44Z</dcterms:created>
  <dc:creator>jpolacek</dc:creator>
  <dc:description/>
  <dc:language>en-US</dc:language>
  <cp:lastModifiedBy>Bert van Es</cp:lastModifiedBy>
  <cp:lastPrinted>2004-09-23T21:26:26Z</cp:lastPrinted>
  <dcterms:modified xsi:type="dcterms:W3CDTF">2009-11-17T09:46:08Z</dcterms:modified>
  <cp:revision>212</cp:revision>
  <dc:subject/>
  <dc:title>Course Title or  Module Title</dc:title>
</cp:coreProperties>
</file>