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wmf" ContentType="image/x-wmf"/>
  <Override PartName="/ppt/media/image6.jpeg" ContentType="image/jpeg"/>
  <Override PartName="/ppt/media/image19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12.png" ContentType="image/png"/>
  <Override PartName="/ppt/media/image10.jpeg" ContentType="image/jpeg"/>
  <Override PartName="/ppt/media/image13.wmf" ContentType="image/x-wmf"/>
  <Override PartName="/ppt/media/image30.wmf" ContentType="image/x-wmf"/>
  <Override PartName="/ppt/media/image33.jpeg" ContentType="image/jpeg"/>
  <Override PartName="/ppt/media/image8.jpeg" ContentType="image/jpeg"/>
  <Override PartName="/ppt/media/image3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4.png" ContentType="image/png"/>
  <Override PartName="/ppt/media/image9.jpeg" ContentType="image/jpeg"/>
  <Override PartName="/ppt/media/image11.png" ContentType="image/png"/>
  <Override PartName="/ppt/media/image35.png" ContentType="image/pn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37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.png" ContentType="image/png"/>
  <Override PartName="/ppt/media/image36.jpeg" ContentType="image/jpeg"/>
  <Override PartName="/ppt/media/image18.wmf" ContentType="image/x-wmf"/>
  <Override PartName="/ppt/media/image2.jpeg" ContentType="image/jpeg"/>
  <Override PartName="/ppt/media/image1.png" ContentType="image/png"/>
  <Override PartName="/ppt/media/image24.png" ContentType="image/png"/>
  <Override PartName="/ppt/media/image14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7"/>
          </p:nvPr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8"/>
          </p:nvPr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6e6f7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6" name=""/>
          <p:cNvSpPr/>
          <p:nvPr/>
        </p:nvSpPr>
        <p:spPr>
          <a:xfrm>
            <a:off x="3270240" y="8930160"/>
            <a:ext cx="619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CABD-07F6-4168-808E-3F117236934C}" type="slidenum">
              <a:rPr b="0" lang="en-US" sz="1000" spc="-1" strike="noStrike">
                <a:solidFill>
                  <a:srgbClr val="000000"/>
                </a:solidFill>
                <a:latin typeface="Futura Hv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8" name=""/>
          <p:cNvSpPr/>
          <p:nvPr/>
        </p:nvSpPr>
        <p:spPr>
          <a:xfrm>
            <a:off x="523800" y="307800"/>
            <a:ext cx="580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9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0" name=""/>
          <p:cNvSpPr txBox="1"/>
          <p:nvPr/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1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2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673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4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675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Write cache enabled (WCE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A UPS is highly recommended if using the WCE setting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0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1" name=""/>
          <p:cNvSpPr txBox="1"/>
          <p:nvPr/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2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3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654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6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7" name=""/>
          <p:cNvSpPr txBox="1"/>
          <p:nvPr/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8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9" name="PlaceHolder 1"/>
          <p:cNvSpPr>
            <a:spLocks noGrp="1"/>
          </p:cNvSpPr>
          <p:nvPr>
            <p:ph type="sldImg"/>
          </p:nvPr>
        </p:nvSpPr>
        <p:spPr>
          <a:xfrm>
            <a:off x="2914560" y="225360"/>
            <a:ext cx="3633840" cy="2725920"/>
          </a:xfrm>
          <a:prstGeom prst="rect">
            <a:avLst/>
          </a:prstGeom>
          <a:ln w="0">
            <a:noFill/>
          </a:ln>
        </p:spPr>
      </p:sp>
      <p:sp>
        <p:nvSpPr>
          <p:cNvPr id="8680" name="PlaceHolder 2"/>
          <p:cNvSpPr>
            <a:spLocks noGrp="1"/>
          </p:cNvSpPr>
          <p:nvPr>
            <p:ph type="body"/>
          </p:nvPr>
        </p:nvSpPr>
        <p:spPr>
          <a:xfrm>
            <a:off x="250920" y="3191040"/>
            <a:ext cx="6292800" cy="530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1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2" name=""/>
          <p:cNvSpPr txBox="1"/>
          <p:nvPr/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3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4" name="PlaceHolder 1"/>
          <p:cNvSpPr>
            <a:spLocks noGrp="1"/>
          </p:cNvSpPr>
          <p:nvPr>
            <p:ph type="sldImg"/>
          </p:nvPr>
        </p:nvSpPr>
        <p:spPr>
          <a:xfrm>
            <a:off x="1633680" y="303120"/>
            <a:ext cx="3589200" cy="2692440"/>
          </a:xfrm>
          <a:prstGeom prst="rect">
            <a:avLst/>
          </a:prstGeom>
          <a:ln w="0">
            <a:noFill/>
          </a:ln>
        </p:spPr>
      </p:sp>
      <p:sp>
        <p:nvSpPr>
          <p:cNvPr id="8685" name="PlaceHolder 2"/>
          <p:cNvSpPr>
            <a:spLocks noGrp="1"/>
          </p:cNvSpPr>
          <p:nvPr>
            <p:ph type="body"/>
          </p:nvPr>
        </p:nvSpPr>
        <p:spPr>
          <a:xfrm>
            <a:off x="322200" y="3216240"/>
            <a:ext cx="63612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9160" indent="0"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6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7" name=""/>
          <p:cNvSpPr txBox="1"/>
          <p:nvPr/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8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9" name="PlaceHolder 1"/>
          <p:cNvSpPr>
            <a:spLocks noGrp="1"/>
          </p:cNvSpPr>
          <p:nvPr>
            <p:ph type="sldImg"/>
          </p:nvPr>
        </p:nvSpPr>
        <p:spPr>
          <a:xfrm>
            <a:off x="1633680" y="303120"/>
            <a:ext cx="3589200" cy="2692440"/>
          </a:xfrm>
          <a:prstGeom prst="rect">
            <a:avLst/>
          </a:prstGeom>
          <a:ln w="0">
            <a:noFill/>
          </a:ln>
        </p:spPr>
      </p:sp>
      <p:sp>
        <p:nvSpPr>
          <p:cNvPr id="8690" name="PlaceHolder 2"/>
          <p:cNvSpPr>
            <a:spLocks noGrp="1"/>
          </p:cNvSpPr>
          <p:nvPr>
            <p:ph type="body"/>
          </p:nvPr>
        </p:nvSpPr>
        <p:spPr>
          <a:xfrm>
            <a:off x="322200" y="3216240"/>
            <a:ext cx="6361200" cy="528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19160" indent="0"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1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2" name=""/>
          <p:cNvSpPr txBox="1"/>
          <p:nvPr/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3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4" name="PlaceHolder 1"/>
          <p:cNvSpPr>
            <a:spLocks noGrp="1"/>
          </p:cNvSpPr>
          <p:nvPr>
            <p:ph type="sldImg"/>
          </p:nvPr>
        </p:nvSpPr>
        <p:spPr>
          <a:xfrm>
            <a:off x="2913120" y="223920"/>
            <a:ext cx="3633840" cy="2725560"/>
          </a:xfrm>
          <a:prstGeom prst="rect">
            <a:avLst/>
          </a:prstGeom>
          <a:ln w="0">
            <a:noFill/>
          </a:ln>
        </p:spPr>
      </p:sp>
      <p:sp>
        <p:nvSpPr>
          <p:cNvPr id="8695" name="PlaceHolder 2"/>
          <p:cNvSpPr>
            <a:spLocks noGrp="1"/>
          </p:cNvSpPr>
          <p:nvPr>
            <p:ph type="body"/>
          </p:nvPr>
        </p:nvSpPr>
        <p:spPr>
          <a:xfrm>
            <a:off x="250920" y="3190680"/>
            <a:ext cx="6292800" cy="56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GB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5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6" name=""/>
          <p:cNvSpPr txBox="1"/>
          <p:nvPr/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7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8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659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GB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6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7" name=""/>
          <p:cNvSpPr txBox="1"/>
          <p:nvPr/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8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9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700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0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661" name="PlaceHolder 2"/>
          <p:cNvSpPr>
            <a:spLocks noGrp="1"/>
          </p:cNvSpPr>
          <p:nvPr>
            <p:ph type="body"/>
          </p:nvPr>
        </p:nvSpPr>
        <p:spPr>
          <a:xfrm>
            <a:off x="523440" y="3443040"/>
            <a:ext cx="5799240" cy="544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2" marL="344520" indent="0">
              <a:spcAft>
                <a:spcPts val="337"/>
              </a:spcAft>
              <a:buNone/>
              <a:tabLst>
                <a:tab algn="l" pos="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Fault-tolerant configuration requires the use of two Storage CLIMs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2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663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4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5" name=""/>
          <p:cNvSpPr txBox="1"/>
          <p:nvPr/>
        </p:nvSpPr>
        <p:spPr>
          <a:xfrm>
            <a:off x="523440" y="0"/>
            <a:ext cx="36003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6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7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668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E3174-9A26-4F50-B921-D10609EC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31B3D-0423-4D1C-9B15-717B8326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57F38-CE46-46B1-9A8D-8E589410D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DE0D5-F443-47A6-9346-0A3FB42F7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2FB29-6DCF-43E1-AD5B-B6D9C333D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CA211-B6E0-46D3-89C8-39611CC4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D9DB2-1345-4BC8-B4EC-8BC5F1190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0EC54-FDB0-49A6-9ED0-AACF7738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19C88-956E-4D55-826F-E31C6301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B7186E-49F8-4652-8242-F3A61438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48C5-66BD-4030-8E15-B4AE4BFF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B11B0E-DD0E-441C-AE42-BA268446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52CDB4-8489-41D9-A311-5E490772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60808-4239-4583-8D8E-9ED2DFAC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F409E3-D44A-4EE9-8871-269DA713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C4755-BAAF-4228-8348-7B047DB4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F4A9B-89CA-41DA-936C-697C3FB91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5FA7A-DDA5-47E8-B18C-264F90400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E32F4-BCD5-43A2-A269-DB6B7133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0AC49-7B56-477D-BBBD-B0EF4AF96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96F62-99FF-444F-A96B-E8BB81BF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4EC3-37E3-4B1A-9C0A-66378F49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ECCE0-F999-4FD0-8020-B358BE2C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8D02A-D16A-4390-AEA9-2A0F7D6A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97E7-8A9A-4D60-8340-74A1A51CDF88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8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460440" algn="ctr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806400" algn="ctr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139760" algn="ctr">
              <a:spcAft>
                <a:spcPts val="561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5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6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5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5806-80CE-4A29-9AF2-F9388D3F31EB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3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image" Target="../media/image19.png"/><Relationship Id="rId12" Type="http://schemas.openxmlformats.org/officeDocument/2006/relationships/image" Target="../media/image20.wmf"/><Relationship Id="rId13" Type="http://schemas.openxmlformats.org/officeDocument/2006/relationships/image" Target="../media/image21.wmf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wmf"/><Relationship Id="rId17" Type="http://schemas.openxmlformats.org/officeDocument/2006/relationships/image" Target="../media/image14.wmf"/><Relationship Id="rId18" Type="http://schemas.openxmlformats.org/officeDocument/2006/relationships/image" Target="../media/image15.wmf"/><Relationship Id="rId19" Type="http://schemas.openxmlformats.org/officeDocument/2006/relationships/image" Target="../media/image16.wmf"/><Relationship Id="rId20" Type="http://schemas.openxmlformats.org/officeDocument/2006/relationships/image" Target="../media/image17.wmf"/><Relationship Id="rId21" Type="http://schemas.openxmlformats.org/officeDocument/2006/relationships/image" Target="../media/image18.wmf"/><Relationship Id="rId22" Type="http://schemas.openxmlformats.org/officeDocument/2006/relationships/image" Target="../media/image19.png"/><Relationship Id="rId23" Type="http://schemas.openxmlformats.org/officeDocument/2006/relationships/image" Target="../media/image20.wmf"/><Relationship Id="rId24" Type="http://schemas.openxmlformats.org/officeDocument/2006/relationships/image" Target="../media/image21.wmf"/><Relationship Id="rId2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22.png"/><Relationship Id="rId14" Type="http://schemas.openxmlformats.org/officeDocument/2006/relationships/image" Target="../media/image22.png"/><Relationship Id="rId15" Type="http://schemas.openxmlformats.org/officeDocument/2006/relationships/image" Target="../media/image22.png"/><Relationship Id="rId16" Type="http://schemas.openxmlformats.org/officeDocument/2006/relationships/image" Target="../media/image22.png"/><Relationship Id="rId17" Type="http://schemas.openxmlformats.org/officeDocument/2006/relationships/image" Target="../media/image11.png"/><Relationship Id="rId18" Type="http://schemas.openxmlformats.org/officeDocument/2006/relationships/image" Target="../media/image12.png"/><Relationship Id="rId19" Type="http://schemas.openxmlformats.org/officeDocument/2006/relationships/image" Target="../media/image13.wmf"/><Relationship Id="rId20" Type="http://schemas.openxmlformats.org/officeDocument/2006/relationships/image" Target="../media/image14.wmf"/><Relationship Id="rId21" Type="http://schemas.openxmlformats.org/officeDocument/2006/relationships/image" Target="../media/image15.wmf"/><Relationship Id="rId22" Type="http://schemas.openxmlformats.org/officeDocument/2006/relationships/image" Target="../media/image16.wmf"/><Relationship Id="rId23" Type="http://schemas.openxmlformats.org/officeDocument/2006/relationships/image" Target="../media/image17.wmf"/><Relationship Id="rId24" Type="http://schemas.openxmlformats.org/officeDocument/2006/relationships/image" Target="../media/image18.wmf"/><Relationship Id="rId25" Type="http://schemas.openxmlformats.org/officeDocument/2006/relationships/image" Target="../media/image19.png"/><Relationship Id="rId26" Type="http://schemas.openxmlformats.org/officeDocument/2006/relationships/image" Target="../media/image20.wmf"/><Relationship Id="rId27" Type="http://schemas.openxmlformats.org/officeDocument/2006/relationships/image" Target="../media/image21.wmf"/><Relationship Id="rId28" Type="http://schemas.openxmlformats.org/officeDocument/2006/relationships/image" Target="../media/image11.png"/><Relationship Id="rId29" Type="http://schemas.openxmlformats.org/officeDocument/2006/relationships/image" Target="../media/image12.png"/><Relationship Id="rId30" Type="http://schemas.openxmlformats.org/officeDocument/2006/relationships/image" Target="../media/image13.wmf"/><Relationship Id="rId31" Type="http://schemas.openxmlformats.org/officeDocument/2006/relationships/image" Target="../media/image14.wmf"/><Relationship Id="rId32" Type="http://schemas.openxmlformats.org/officeDocument/2006/relationships/image" Target="../media/image15.wmf"/><Relationship Id="rId33" Type="http://schemas.openxmlformats.org/officeDocument/2006/relationships/image" Target="../media/image16.wmf"/><Relationship Id="rId34" Type="http://schemas.openxmlformats.org/officeDocument/2006/relationships/image" Target="../media/image17.wmf"/><Relationship Id="rId35" Type="http://schemas.openxmlformats.org/officeDocument/2006/relationships/image" Target="../media/image18.wmf"/><Relationship Id="rId36" Type="http://schemas.openxmlformats.org/officeDocument/2006/relationships/image" Target="../media/image19.png"/><Relationship Id="rId37" Type="http://schemas.openxmlformats.org/officeDocument/2006/relationships/image" Target="../media/image20.wmf"/><Relationship Id="rId38" Type="http://schemas.openxmlformats.org/officeDocument/2006/relationships/image" Target="../media/image21.wmf"/><Relationship Id="rId39" Type="http://schemas.openxmlformats.org/officeDocument/2006/relationships/image" Target="../media/image11.png"/><Relationship Id="rId40" Type="http://schemas.openxmlformats.org/officeDocument/2006/relationships/image" Target="../media/image12.png"/><Relationship Id="rId41" Type="http://schemas.openxmlformats.org/officeDocument/2006/relationships/image" Target="../media/image13.wmf"/><Relationship Id="rId42" Type="http://schemas.openxmlformats.org/officeDocument/2006/relationships/image" Target="../media/image14.wmf"/><Relationship Id="rId43" Type="http://schemas.openxmlformats.org/officeDocument/2006/relationships/image" Target="../media/image15.wmf"/><Relationship Id="rId44" Type="http://schemas.openxmlformats.org/officeDocument/2006/relationships/image" Target="../media/image16.wmf"/><Relationship Id="rId45" Type="http://schemas.openxmlformats.org/officeDocument/2006/relationships/image" Target="../media/image17.wmf"/><Relationship Id="rId46" Type="http://schemas.openxmlformats.org/officeDocument/2006/relationships/image" Target="../media/image18.wmf"/><Relationship Id="rId47" Type="http://schemas.openxmlformats.org/officeDocument/2006/relationships/image" Target="../media/image19.png"/><Relationship Id="rId48" Type="http://schemas.openxmlformats.org/officeDocument/2006/relationships/image" Target="../media/image20.wmf"/><Relationship Id="rId49" Type="http://schemas.openxmlformats.org/officeDocument/2006/relationships/image" Target="../media/image21.wmf"/><Relationship Id="rId5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image" Target="../media/image16.wmf"/><Relationship Id="rId8" Type="http://schemas.openxmlformats.org/officeDocument/2006/relationships/image" Target="../media/image17.wmf"/><Relationship Id="rId9" Type="http://schemas.openxmlformats.org/officeDocument/2006/relationships/image" Target="../media/image18.wmf"/><Relationship Id="rId10" Type="http://schemas.openxmlformats.org/officeDocument/2006/relationships/image" Target="../media/image19.png"/><Relationship Id="rId11" Type="http://schemas.openxmlformats.org/officeDocument/2006/relationships/image" Target="../media/image20.wmf"/><Relationship Id="rId12" Type="http://schemas.openxmlformats.org/officeDocument/2006/relationships/image" Target="../media/image21.wmf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wmf"/><Relationship Id="rId16" Type="http://schemas.openxmlformats.org/officeDocument/2006/relationships/image" Target="../media/image14.wmf"/><Relationship Id="rId17" Type="http://schemas.openxmlformats.org/officeDocument/2006/relationships/image" Target="../media/image15.wmf"/><Relationship Id="rId18" Type="http://schemas.openxmlformats.org/officeDocument/2006/relationships/image" Target="../media/image16.wmf"/><Relationship Id="rId19" Type="http://schemas.openxmlformats.org/officeDocument/2006/relationships/image" Target="../media/image17.wmf"/><Relationship Id="rId20" Type="http://schemas.openxmlformats.org/officeDocument/2006/relationships/image" Target="../media/image18.wmf"/><Relationship Id="rId21" Type="http://schemas.openxmlformats.org/officeDocument/2006/relationships/image" Target="../media/image19.png"/><Relationship Id="rId22" Type="http://schemas.openxmlformats.org/officeDocument/2006/relationships/image" Target="../media/image20.wmf"/><Relationship Id="rId23" Type="http://schemas.openxmlformats.org/officeDocument/2006/relationships/image" Target="../media/image21.wmf"/><Relationship Id="rId24" Type="http://schemas.openxmlformats.org/officeDocument/2006/relationships/image" Target="../media/image22.png"/><Relationship Id="rId25" Type="http://schemas.openxmlformats.org/officeDocument/2006/relationships/image" Target="../media/image22.png"/><Relationship Id="rId26" Type="http://schemas.openxmlformats.org/officeDocument/2006/relationships/image" Target="../media/image22.png"/><Relationship Id="rId2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9.png"/><Relationship Id="rId10" Type="http://schemas.openxmlformats.org/officeDocument/2006/relationships/image" Target="../media/image20.wmf"/><Relationship Id="rId11" Type="http://schemas.openxmlformats.org/officeDocument/2006/relationships/image" Target="../media/image21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Storage Cluster I/O Module (CLIM)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3960" y="4812840"/>
            <a:ext cx="56419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odule 5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torage CLIM </a:t>
            </a: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—</a:t>
            </a: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Hardware Overview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torageWorks MSA70 disk enclosure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enty-five 2.5-inch disk drive slot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72GB, 15K RP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146 GB, 15K RP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300GB, 10K RP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o independent domain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AS Domain A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AS Domain B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o fan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o power suppli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Fault-tolerant configuration requires the use of two StorageWorks MSA70 disk enclosur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10" name=""/>
          <p:cNvSpPr/>
          <p:nvPr/>
        </p:nvSpPr>
        <p:spPr>
          <a:xfrm>
            <a:off x="6645240" y="3241800"/>
            <a:ext cx="21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SA70 Rear View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1" name=""/>
          <p:cNvSpPr/>
          <p:nvPr/>
        </p:nvSpPr>
        <p:spPr>
          <a:xfrm>
            <a:off x="8092440" y="4869000"/>
            <a:ext cx="73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ow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2" name=""/>
          <p:cNvSpPr/>
          <p:nvPr/>
        </p:nvSpPr>
        <p:spPr>
          <a:xfrm>
            <a:off x="4875120" y="4902120"/>
            <a:ext cx="43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3" name=""/>
          <p:cNvSpPr/>
          <p:nvPr/>
        </p:nvSpPr>
        <p:spPr>
          <a:xfrm>
            <a:off x="5743440" y="489096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I/O Modul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4" name=""/>
          <p:cNvSpPr/>
          <p:nvPr/>
        </p:nvSpPr>
        <p:spPr>
          <a:xfrm>
            <a:off x="4814280" y="2840040"/>
            <a:ext cx="140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odule ID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Number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5" name=""/>
          <p:cNvSpPr/>
          <p:nvPr/>
        </p:nvSpPr>
        <p:spPr>
          <a:xfrm>
            <a:off x="5245200" y="3530520"/>
            <a:ext cx="0" cy="18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216" name="" descr=""/>
          <p:cNvPicPr/>
          <p:nvPr/>
        </p:nvPicPr>
        <p:blipFill>
          <a:blip r:embed="rId1"/>
          <a:stretch/>
        </p:blipFill>
        <p:spPr>
          <a:xfrm>
            <a:off x="3940200" y="3841920"/>
            <a:ext cx="4788000" cy="95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93ADE-744E-4C3D-B4E1-BCC29205E95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onfiguration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8" name=""/>
          <p:cNvSpPr/>
          <p:nvPr/>
        </p:nvSpPr>
        <p:spPr>
          <a:xfrm>
            <a:off x="1504800" y="4065480"/>
            <a:ext cx="0" cy="536760"/>
          </a:xfrm>
          <a:prstGeom prst="line">
            <a:avLst/>
          </a:prstGeom>
          <a:ln w="38160">
            <a:solidFill>
              <a:srgbClr val="007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19" name=""/>
          <p:cNvSpPr/>
          <p:nvPr/>
        </p:nvSpPr>
        <p:spPr>
          <a:xfrm>
            <a:off x="3619440" y="4065480"/>
            <a:ext cx="0" cy="536760"/>
          </a:xfrm>
          <a:prstGeom prst="line">
            <a:avLst/>
          </a:prstGeom>
          <a:ln w="38160">
            <a:solidFill>
              <a:srgbClr val="7979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20" name=""/>
          <p:cNvSpPr/>
          <p:nvPr/>
        </p:nvSpPr>
        <p:spPr>
          <a:xfrm flipH="1">
            <a:off x="4046400" y="4065480"/>
            <a:ext cx="1687680" cy="505080"/>
          </a:xfrm>
          <a:prstGeom prst="line">
            <a:avLst/>
          </a:prstGeom>
          <a:ln w="38160">
            <a:solidFill>
              <a:srgbClr val="64b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21" name=""/>
          <p:cNvSpPr/>
          <p:nvPr/>
        </p:nvSpPr>
        <p:spPr>
          <a:xfrm flipH="1">
            <a:off x="2487600" y="4081320"/>
            <a:ext cx="5361120" cy="473040"/>
          </a:xfrm>
          <a:prstGeom prst="line">
            <a:avLst/>
          </a:prstGeom>
          <a:ln w="38160">
            <a:solidFill>
              <a:srgbClr val="eb5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22" name=""/>
          <p:cNvSpPr/>
          <p:nvPr/>
        </p:nvSpPr>
        <p:spPr>
          <a:xfrm>
            <a:off x="2009880" y="4065480"/>
            <a:ext cx="2836800" cy="488880"/>
          </a:xfrm>
          <a:prstGeom prst="line">
            <a:avLst/>
          </a:prstGeom>
          <a:ln w="38160">
            <a:solidFill>
              <a:srgbClr val="0071b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23" name=""/>
          <p:cNvSpPr/>
          <p:nvPr/>
        </p:nvSpPr>
        <p:spPr>
          <a:xfrm>
            <a:off x="5923080" y="4065480"/>
            <a:ext cx="0" cy="536760"/>
          </a:xfrm>
          <a:prstGeom prst="line">
            <a:avLst/>
          </a:prstGeom>
          <a:ln w="38160">
            <a:solidFill>
              <a:srgbClr val="64b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24" name=""/>
          <p:cNvSpPr/>
          <p:nvPr/>
        </p:nvSpPr>
        <p:spPr>
          <a:xfrm>
            <a:off x="8037360" y="4065480"/>
            <a:ext cx="0" cy="536760"/>
          </a:xfrm>
          <a:prstGeom prst="line">
            <a:avLst/>
          </a:prstGeom>
          <a:ln w="38160">
            <a:solidFill>
              <a:srgbClr val="eb5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25" name=""/>
          <p:cNvSpPr/>
          <p:nvPr/>
        </p:nvSpPr>
        <p:spPr>
          <a:xfrm>
            <a:off x="3790800" y="4065480"/>
            <a:ext cx="3154680" cy="505080"/>
          </a:xfrm>
          <a:prstGeom prst="line">
            <a:avLst/>
          </a:prstGeom>
          <a:ln w="38160">
            <a:solidFill>
              <a:srgbClr val="7979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226" name="" descr=""/>
          <p:cNvPicPr/>
          <p:nvPr/>
        </p:nvPicPr>
        <p:blipFill>
          <a:blip r:embed="rId1"/>
          <a:stretch/>
        </p:blipFill>
        <p:spPr>
          <a:xfrm>
            <a:off x="6797520" y="3703680"/>
            <a:ext cx="2084400" cy="406440"/>
          </a:xfrm>
          <a:prstGeom prst="rect">
            <a:avLst/>
          </a:prstGeom>
          <a:ln w="0">
            <a:noFill/>
          </a:ln>
        </p:spPr>
      </p:pic>
      <p:pic>
        <p:nvPicPr>
          <p:cNvPr id="1227" name="" descr=""/>
          <p:cNvPicPr/>
          <p:nvPr/>
        </p:nvPicPr>
        <p:blipFill>
          <a:blip r:embed="rId2"/>
          <a:stretch/>
        </p:blipFill>
        <p:spPr>
          <a:xfrm>
            <a:off x="6815160" y="4560840"/>
            <a:ext cx="2066760" cy="398520"/>
          </a:xfrm>
          <a:prstGeom prst="rect">
            <a:avLst/>
          </a:prstGeom>
          <a:ln w="0">
            <a:noFill/>
          </a:ln>
        </p:spPr>
      </p:pic>
      <p:pic>
        <p:nvPicPr>
          <p:cNvPr id="1228" name="" descr=""/>
          <p:cNvPicPr/>
          <p:nvPr/>
        </p:nvPicPr>
        <p:blipFill>
          <a:blip r:embed="rId3"/>
          <a:stretch/>
        </p:blipFill>
        <p:spPr>
          <a:xfrm>
            <a:off x="4687920" y="3703680"/>
            <a:ext cx="2084400" cy="406440"/>
          </a:xfrm>
          <a:prstGeom prst="rect">
            <a:avLst/>
          </a:prstGeom>
          <a:ln w="0">
            <a:noFill/>
          </a:ln>
        </p:spPr>
      </p:pic>
      <p:pic>
        <p:nvPicPr>
          <p:cNvPr id="1229" name="" descr=""/>
          <p:cNvPicPr/>
          <p:nvPr/>
        </p:nvPicPr>
        <p:blipFill>
          <a:blip r:embed="rId4"/>
          <a:stretch/>
        </p:blipFill>
        <p:spPr>
          <a:xfrm>
            <a:off x="4700520" y="4560840"/>
            <a:ext cx="2067120" cy="398520"/>
          </a:xfrm>
          <a:prstGeom prst="rect">
            <a:avLst/>
          </a:prstGeom>
          <a:ln w="0">
            <a:noFill/>
          </a:ln>
        </p:spPr>
      </p:pic>
      <p:pic>
        <p:nvPicPr>
          <p:cNvPr id="1230" name="" descr=""/>
          <p:cNvPicPr/>
          <p:nvPr/>
        </p:nvPicPr>
        <p:blipFill>
          <a:blip r:embed="rId5"/>
          <a:stretch/>
        </p:blipFill>
        <p:spPr>
          <a:xfrm>
            <a:off x="2579760" y="3703680"/>
            <a:ext cx="2084400" cy="406440"/>
          </a:xfrm>
          <a:prstGeom prst="rect">
            <a:avLst/>
          </a:prstGeom>
          <a:ln w="0">
            <a:noFill/>
          </a:ln>
        </p:spPr>
      </p:pic>
      <p:pic>
        <p:nvPicPr>
          <p:cNvPr id="1231" name="" descr=""/>
          <p:cNvPicPr/>
          <p:nvPr/>
        </p:nvPicPr>
        <p:blipFill>
          <a:blip r:embed="rId6"/>
          <a:stretch/>
        </p:blipFill>
        <p:spPr>
          <a:xfrm>
            <a:off x="2585880" y="4560840"/>
            <a:ext cx="2067120" cy="39852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7"/>
          <a:stretch/>
        </p:blipFill>
        <p:spPr>
          <a:xfrm>
            <a:off x="471600" y="3703680"/>
            <a:ext cx="2084400" cy="40644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8"/>
          <a:stretch/>
        </p:blipFill>
        <p:spPr>
          <a:xfrm>
            <a:off x="471600" y="4560840"/>
            <a:ext cx="2066760" cy="39852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5923080" y="4065480"/>
            <a:ext cx="0" cy="536760"/>
          </a:xfrm>
          <a:prstGeom prst="line">
            <a:avLst/>
          </a:prstGeom>
          <a:ln w="38160">
            <a:solidFill>
              <a:srgbClr val="64b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235" name="" descr=""/>
          <p:cNvPicPr/>
          <p:nvPr/>
        </p:nvPicPr>
        <p:blipFill>
          <a:blip r:embed="rId9"/>
          <a:stretch/>
        </p:blipFill>
        <p:spPr>
          <a:xfrm>
            <a:off x="4700520" y="4560840"/>
            <a:ext cx="2067120" cy="398520"/>
          </a:xfrm>
          <a:prstGeom prst="rect">
            <a:avLst/>
          </a:prstGeom>
          <a:ln w="0">
            <a:noFill/>
          </a:ln>
        </p:spPr>
      </p:pic>
      <p:sp>
        <p:nvSpPr>
          <p:cNvPr id="1236" name=""/>
          <p:cNvSpPr/>
          <p:nvPr/>
        </p:nvSpPr>
        <p:spPr>
          <a:xfrm flipH="1">
            <a:off x="5700600" y="2033640"/>
            <a:ext cx="1387440" cy="471600"/>
          </a:xfrm>
          <a:prstGeom prst="line">
            <a:avLst/>
          </a:prstGeom>
          <a:ln w="38160">
            <a:solidFill>
              <a:srgbClr val="7979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37" name=""/>
          <p:cNvSpPr/>
          <p:nvPr/>
        </p:nvSpPr>
        <p:spPr>
          <a:xfrm>
            <a:off x="7434360" y="2003400"/>
            <a:ext cx="0" cy="536760"/>
          </a:xfrm>
          <a:prstGeom prst="line">
            <a:avLst/>
          </a:prstGeom>
          <a:ln w="38160">
            <a:solidFill>
              <a:srgbClr val="7979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38" name=""/>
          <p:cNvSpPr/>
          <p:nvPr/>
        </p:nvSpPr>
        <p:spPr>
          <a:xfrm>
            <a:off x="5130720" y="2003400"/>
            <a:ext cx="0" cy="536760"/>
          </a:xfrm>
          <a:prstGeom prst="line">
            <a:avLst/>
          </a:prstGeom>
          <a:ln w="38160">
            <a:solidFill>
              <a:srgbClr val="7979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39" name=""/>
          <p:cNvSpPr/>
          <p:nvPr/>
        </p:nvSpPr>
        <p:spPr>
          <a:xfrm>
            <a:off x="5338800" y="2033640"/>
            <a:ext cx="1387440" cy="471600"/>
          </a:xfrm>
          <a:prstGeom prst="line">
            <a:avLst/>
          </a:prstGeom>
          <a:ln w="38160">
            <a:solidFill>
              <a:srgbClr val="79797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0"/>
          <a:stretch/>
        </p:blipFill>
        <p:spPr>
          <a:xfrm>
            <a:off x="6199200" y="1671480"/>
            <a:ext cx="2084400" cy="40644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/>
          <p:cNvPicPr/>
          <p:nvPr/>
        </p:nvPicPr>
        <p:blipFill>
          <a:blip r:embed="rId11"/>
          <a:stretch/>
        </p:blipFill>
        <p:spPr>
          <a:xfrm>
            <a:off x="6211800" y="2529000"/>
            <a:ext cx="2067120" cy="398520"/>
          </a:xfrm>
          <a:prstGeom prst="rect">
            <a:avLst/>
          </a:prstGeom>
          <a:ln w="0">
            <a:noFill/>
          </a:ln>
        </p:spPr>
      </p:pic>
      <p:pic>
        <p:nvPicPr>
          <p:cNvPr id="1242" name="" descr=""/>
          <p:cNvPicPr/>
          <p:nvPr/>
        </p:nvPicPr>
        <p:blipFill>
          <a:blip r:embed="rId12"/>
          <a:stretch/>
        </p:blipFill>
        <p:spPr>
          <a:xfrm>
            <a:off x="4091040" y="1671480"/>
            <a:ext cx="2084400" cy="406440"/>
          </a:xfrm>
          <a:prstGeom prst="rect">
            <a:avLst/>
          </a:prstGeom>
          <a:ln w="0">
            <a:noFill/>
          </a:ln>
        </p:spPr>
      </p:pic>
      <p:pic>
        <p:nvPicPr>
          <p:cNvPr id="1243" name="" descr=""/>
          <p:cNvPicPr/>
          <p:nvPr/>
        </p:nvPicPr>
        <p:blipFill>
          <a:blip r:embed="rId13"/>
          <a:stretch/>
        </p:blipFill>
        <p:spPr>
          <a:xfrm>
            <a:off x="4097160" y="2529000"/>
            <a:ext cx="2067120" cy="398520"/>
          </a:xfrm>
          <a:prstGeom prst="rect">
            <a:avLst/>
          </a:prstGeom>
          <a:ln w="0">
            <a:noFill/>
          </a:ln>
        </p:spPr>
      </p:pic>
      <p:sp>
        <p:nvSpPr>
          <p:cNvPr id="1244" name=""/>
          <p:cNvSpPr/>
          <p:nvPr/>
        </p:nvSpPr>
        <p:spPr>
          <a:xfrm>
            <a:off x="312840" y="1387440"/>
            <a:ext cx="3508200" cy="14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2c2d Configura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(Two controllers/two disks)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Two more MSA70s can be daisy-chained for a 2c4d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5" name=""/>
          <p:cNvSpPr/>
          <p:nvPr/>
        </p:nvSpPr>
        <p:spPr>
          <a:xfrm>
            <a:off x="442800" y="3305160"/>
            <a:ext cx="3348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4c4d Configuratio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6" name=""/>
          <p:cNvSpPr/>
          <p:nvPr/>
        </p:nvSpPr>
        <p:spPr>
          <a:xfrm>
            <a:off x="523800" y="3030480"/>
            <a:ext cx="8355240" cy="0"/>
          </a:xfrm>
          <a:prstGeom prst="line">
            <a:avLst/>
          </a:prstGeom>
          <a:ln w="3816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7" name=""/>
          <p:cNvSpPr/>
          <p:nvPr/>
        </p:nvSpPr>
        <p:spPr>
          <a:xfrm>
            <a:off x="446040" y="6008760"/>
            <a:ext cx="8355240" cy="0"/>
          </a:xfrm>
          <a:prstGeom prst="line">
            <a:avLst/>
          </a:prstGeom>
          <a:ln w="3816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8" name=""/>
          <p:cNvSpPr/>
          <p:nvPr/>
        </p:nvSpPr>
        <p:spPr>
          <a:xfrm>
            <a:off x="636480" y="6118200"/>
            <a:ext cx="80409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An 8c8d configuration is also supported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9" name=""/>
          <p:cNvSpPr/>
          <p:nvPr/>
        </p:nvSpPr>
        <p:spPr>
          <a:xfrm>
            <a:off x="1552680" y="5083200"/>
            <a:ext cx="64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A Fault tolerant configuration with high availability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D366-46ED-48CA-B48F-CEDEEBAF5F5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0" name="" descr=""/>
          <p:cNvPicPr/>
          <p:nvPr/>
        </p:nvPicPr>
        <p:blipFill>
          <a:blip r:embed="rId1"/>
          <a:stretch/>
        </p:blipFill>
        <p:spPr>
          <a:xfrm>
            <a:off x="1957320" y="1379520"/>
            <a:ext cx="4788000" cy="954000"/>
          </a:xfrm>
          <a:prstGeom prst="rect">
            <a:avLst/>
          </a:prstGeom>
          <a:ln w="0">
            <a:noFill/>
          </a:ln>
        </p:spPr>
      </p:pic>
      <p:pic>
        <p:nvPicPr>
          <p:cNvPr id="1251" name="" descr=""/>
          <p:cNvPicPr/>
          <p:nvPr/>
        </p:nvPicPr>
        <p:blipFill>
          <a:blip r:embed="rId2"/>
          <a:stretch/>
        </p:blipFill>
        <p:spPr>
          <a:xfrm>
            <a:off x="1967040" y="2543040"/>
            <a:ext cx="4787640" cy="954360"/>
          </a:xfrm>
          <a:prstGeom prst="rect">
            <a:avLst/>
          </a:prstGeom>
          <a:ln w="0">
            <a:noFill/>
          </a:ln>
        </p:spPr>
      </p:pic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onfiguration – 2C2D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253" name=""/>
          <p:cNvGrpSpPr/>
          <p:nvPr/>
        </p:nvGrpSpPr>
        <p:grpSpPr>
          <a:xfrm>
            <a:off x="2160720" y="3795840"/>
            <a:ext cx="4836600" cy="985320"/>
            <a:chOff x="2160720" y="3795840"/>
            <a:chExt cx="4836600" cy="985320"/>
          </a:xfrm>
        </p:grpSpPr>
        <p:sp>
          <p:nvSpPr>
            <p:cNvPr id="1254" name=""/>
            <p:cNvSpPr/>
            <p:nvPr/>
          </p:nvSpPr>
          <p:spPr>
            <a:xfrm>
              <a:off x="2163240" y="4366440"/>
              <a:ext cx="96120" cy="402120"/>
            </a:xfrm>
            <a:custGeom>
              <a:avLst/>
              <a:gdLst/>
              <a:ahLst/>
              <a:rect l="l" t="t" r="r" b="b"/>
              <a:pathLst>
                <a:path w="122" h="497">
                  <a:moveTo>
                    <a:pt x="104" y="497"/>
                  </a:moveTo>
                  <a:lnTo>
                    <a:pt x="108" y="497"/>
                  </a:lnTo>
                  <a:lnTo>
                    <a:pt x="110" y="496"/>
                  </a:lnTo>
                  <a:lnTo>
                    <a:pt x="114" y="495"/>
                  </a:lnTo>
                  <a:lnTo>
                    <a:pt x="117" y="492"/>
                  </a:lnTo>
                  <a:lnTo>
                    <a:pt x="118" y="490"/>
                  </a:lnTo>
                  <a:lnTo>
                    <a:pt x="120" y="487"/>
                  </a:lnTo>
                  <a:lnTo>
                    <a:pt x="122" y="485"/>
                  </a:lnTo>
                  <a:lnTo>
                    <a:pt x="122" y="481"/>
                  </a:lnTo>
                  <a:lnTo>
                    <a:pt x="122" y="481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0" y="9"/>
                  </a:lnTo>
                  <a:lnTo>
                    <a:pt x="118" y="6"/>
                  </a:lnTo>
                  <a:lnTo>
                    <a:pt x="117" y="4"/>
                  </a:lnTo>
                  <a:lnTo>
                    <a:pt x="114" y="2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1" y="487"/>
                  </a:lnTo>
                  <a:lnTo>
                    <a:pt x="3" y="490"/>
                  </a:lnTo>
                  <a:lnTo>
                    <a:pt x="5" y="492"/>
                  </a:lnTo>
                  <a:lnTo>
                    <a:pt x="8" y="495"/>
                  </a:lnTo>
                  <a:lnTo>
                    <a:pt x="10" y="496"/>
                  </a:lnTo>
                  <a:lnTo>
                    <a:pt x="14" y="497"/>
                  </a:lnTo>
                  <a:lnTo>
                    <a:pt x="18" y="497"/>
                  </a:lnTo>
                  <a:lnTo>
                    <a:pt x="104" y="497"/>
                  </a:lnTo>
                  <a:lnTo>
                    <a:pt x="104" y="4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161800" y="4363920"/>
              <a:ext cx="97560" cy="404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161800" y="4363920"/>
              <a:ext cx="1440" cy="404640"/>
            </a:xfrm>
            <a:prstGeom prst="rect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61800" y="4363920"/>
              <a:ext cx="1440" cy="40464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63240" y="4363920"/>
              <a:ext cx="1080" cy="40464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64680" y="4363920"/>
              <a:ext cx="2520" cy="404640"/>
            </a:xfrm>
            <a:prstGeom prst="rect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164680" y="4363920"/>
              <a:ext cx="2520" cy="404640"/>
            </a:xfrm>
            <a:prstGeom prst="rect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167560" y="4363920"/>
              <a:ext cx="1080" cy="404640"/>
            </a:xfrm>
            <a:prstGeom prst="rect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168640" y="4363920"/>
              <a:ext cx="1440" cy="40464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168640" y="4363920"/>
              <a:ext cx="1440" cy="40464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170080" y="4363920"/>
              <a:ext cx="1080" cy="404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170080" y="4363920"/>
              <a:ext cx="1080" cy="404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171520" y="4363920"/>
              <a:ext cx="1440" cy="40464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172960" y="4363920"/>
              <a:ext cx="1080" cy="40464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172960" y="4363920"/>
              <a:ext cx="1080" cy="404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174400" y="4363920"/>
              <a:ext cx="1080" cy="40464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175480" y="4363920"/>
              <a:ext cx="2520" cy="404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75480" y="4363920"/>
              <a:ext cx="2520" cy="40464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178360" y="4363920"/>
              <a:ext cx="1440" cy="40464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178360" y="4363920"/>
              <a:ext cx="1440" cy="4046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179800" y="4363920"/>
              <a:ext cx="1080" cy="404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81240" y="4363920"/>
              <a:ext cx="1440" cy="4046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181240" y="4363920"/>
              <a:ext cx="1440" cy="40464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182680" y="4363920"/>
              <a:ext cx="1080" cy="404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184120" y="4363920"/>
              <a:ext cx="1080" cy="40464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184120" y="4363920"/>
              <a:ext cx="1080" cy="40464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185200" y="4363920"/>
              <a:ext cx="1440" cy="40464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85200" y="4363920"/>
              <a:ext cx="1440" cy="4046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86640" y="4363920"/>
              <a:ext cx="1080" cy="404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88080" y="4363920"/>
              <a:ext cx="2520" cy="40464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88080" y="4363920"/>
              <a:ext cx="2520" cy="404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90960" y="4363920"/>
              <a:ext cx="1080" cy="40464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192040" y="4363920"/>
              <a:ext cx="1440" cy="40464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192040" y="4363920"/>
              <a:ext cx="1440" cy="4046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193840" y="4363920"/>
              <a:ext cx="1080" cy="4046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194920" y="4363920"/>
              <a:ext cx="1440" cy="4046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194920" y="4363920"/>
              <a:ext cx="1440" cy="4046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196360" y="4363920"/>
              <a:ext cx="1080" cy="40464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196360" y="4363920"/>
              <a:ext cx="1080" cy="404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197800" y="4363920"/>
              <a:ext cx="1080" cy="40464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198880" y="4363920"/>
              <a:ext cx="2520" cy="40464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198880" y="4363920"/>
              <a:ext cx="2520" cy="4046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201760" y="4363920"/>
              <a:ext cx="1440" cy="40464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03560" y="4363920"/>
              <a:ext cx="1080" cy="40464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203560" y="4363920"/>
              <a:ext cx="1080" cy="40464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204640" y="4363920"/>
              <a:ext cx="1440" cy="40464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204640" y="4363920"/>
              <a:ext cx="1440" cy="4046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206080" y="4363920"/>
              <a:ext cx="1080" cy="4046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07520" y="4363920"/>
              <a:ext cx="1080" cy="40464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7520" y="4363920"/>
              <a:ext cx="1080" cy="40464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08600" y="4363920"/>
              <a:ext cx="1440" cy="4046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10400" y="4363920"/>
              <a:ext cx="2520" cy="4046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210400" y="4363920"/>
              <a:ext cx="2520" cy="40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212920" y="4363920"/>
              <a:ext cx="1080" cy="40464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212920" y="4363920"/>
              <a:ext cx="1080" cy="4046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214360" y="4363920"/>
              <a:ext cx="1080" cy="40464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215440" y="4363920"/>
              <a:ext cx="1440" cy="40464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1311" name=""/>
            <p:cNvGrpSpPr/>
            <p:nvPr/>
          </p:nvGrpSpPr>
          <p:grpSpPr>
            <a:xfrm>
              <a:off x="2160720" y="3795840"/>
              <a:ext cx="4836600" cy="985320"/>
              <a:chOff x="2160720" y="3795840"/>
              <a:chExt cx="4836600" cy="985320"/>
            </a:xfrm>
          </p:grpSpPr>
          <p:sp>
            <p:nvSpPr>
              <p:cNvPr id="1312" name=""/>
              <p:cNvSpPr/>
              <p:nvPr/>
            </p:nvSpPr>
            <p:spPr>
              <a:xfrm>
                <a:off x="2215800" y="4364640"/>
                <a:ext cx="1080" cy="4035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2217240" y="4364640"/>
                <a:ext cx="1440" cy="40356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2219040" y="4364640"/>
                <a:ext cx="1080" cy="4035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219040" y="4364640"/>
                <a:ext cx="1080" cy="4035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2220480" y="4364640"/>
                <a:ext cx="1080" cy="40356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2220480" y="4364640"/>
                <a:ext cx="1080" cy="4035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221920" y="4364640"/>
                <a:ext cx="1440" cy="403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2223720" y="4364640"/>
                <a:ext cx="1080" cy="40356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2223720" y="4364640"/>
                <a:ext cx="1080" cy="40356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2224800" y="4364640"/>
                <a:ext cx="1440" cy="403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2226600" y="4364640"/>
                <a:ext cx="1080" cy="4035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2226600" y="4364640"/>
                <a:ext cx="1080" cy="403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2228040" y="4364640"/>
                <a:ext cx="1080" cy="40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2228040" y="4364640"/>
                <a:ext cx="1080" cy="4035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2229480" y="4364640"/>
                <a:ext cx="1440" cy="40356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2231280" y="4364640"/>
                <a:ext cx="1080" cy="4035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2231280" y="4364640"/>
                <a:ext cx="1080" cy="403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2232720" y="4364640"/>
                <a:ext cx="1440" cy="403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2234520" y="4364640"/>
                <a:ext cx="1080" cy="403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2234520" y="4364640"/>
                <a:ext cx="1080" cy="40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2235960" y="4364640"/>
                <a:ext cx="1080" cy="403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2235960" y="4364640"/>
                <a:ext cx="1080" cy="40356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2237400" y="4364640"/>
                <a:ext cx="1440" cy="40356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239200" y="4364640"/>
                <a:ext cx="1080" cy="40356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239200" y="4364640"/>
                <a:ext cx="1080" cy="4035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240640" y="4364640"/>
                <a:ext cx="1440" cy="40356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2242440" y="4364640"/>
                <a:ext cx="1080" cy="40356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2242440" y="4364640"/>
                <a:ext cx="1080" cy="4035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2243880" y="4364640"/>
                <a:ext cx="1080" cy="4035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2243880" y="4364640"/>
                <a:ext cx="1080" cy="40356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2245320" y="4364640"/>
                <a:ext cx="1440" cy="4035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247120" y="4364640"/>
                <a:ext cx="1080" cy="40356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2247120" y="4364640"/>
                <a:ext cx="1080" cy="40356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2248560" y="4364640"/>
                <a:ext cx="1440" cy="403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2250360" y="4364640"/>
                <a:ext cx="1080" cy="4035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2250360" y="4364640"/>
                <a:ext cx="1080" cy="4035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2251800" y="4364640"/>
                <a:ext cx="1440" cy="40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2251800" y="4364640"/>
                <a:ext cx="1440" cy="40356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253600" y="4364640"/>
                <a:ext cx="1080" cy="40356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255040" y="4364640"/>
                <a:ext cx="1080" cy="40356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255040" y="4364640"/>
                <a:ext cx="1080" cy="40356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256480" y="4364640"/>
                <a:ext cx="1440" cy="40356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257920" y="4364640"/>
                <a:ext cx="1080" cy="40356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2257920" y="4364640"/>
                <a:ext cx="1080" cy="40356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259360" y="4364640"/>
                <a:ext cx="1440" cy="40356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2163600" y="4364640"/>
                <a:ext cx="94320" cy="402120"/>
              </a:xfrm>
              <a:custGeom>
                <a:avLst/>
                <a:gdLst/>
                <a:ahLst/>
                <a:rect l="l" t="t" r="r" b="b"/>
                <a:pathLst>
                  <a:path w="120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0" y="496"/>
                    </a:lnTo>
                    <a:lnTo>
                      <a:pt x="113" y="495"/>
                    </a:lnTo>
                    <a:lnTo>
                      <a:pt x="115" y="492"/>
                    </a:lnTo>
                    <a:lnTo>
                      <a:pt x="118" y="491"/>
                    </a:lnTo>
                    <a:lnTo>
                      <a:pt x="119" y="487"/>
                    </a:lnTo>
                    <a:lnTo>
                      <a:pt x="120" y="484"/>
                    </a:lnTo>
                    <a:lnTo>
                      <a:pt x="120" y="482"/>
                    </a:lnTo>
                    <a:lnTo>
                      <a:pt x="120" y="482"/>
                    </a:lnTo>
                    <a:lnTo>
                      <a:pt x="120" y="16"/>
                    </a:lnTo>
                    <a:lnTo>
                      <a:pt x="120" y="12"/>
                    </a:lnTo>
                    <a:lnTo>
                      <a:pt x="119" y="10"/>
                    </a:lnTo>
                    <a:lnTo>
                      <a:pt x="118" y="7"/>
                    </a:lnTo>
                    <a:lnTo>
                      <a:pt x="115" y="5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82"/>
                    </a:lnTo>
                    <a:lnTo>
                      <a:pt x="0" y="484"/>
                    </a:lnTo>
                    <a:lnTo>
                      <a:pt x="1" y="487"/>
                    </a:lnTo>
                    <a:lnTo>
                      <a:pt x="3" y="491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4" y="497"/>
                    </a:lnTo>
                    <a:lnTo>
                      <a:pt x="18" y="497"/>
                    </a:lnTo>
                    <a:lnTo>
                      <a:pt x="103" y="497"/>
                    </a:lnTo>
                    <a:lnTo>
                      <a:pt x="103" y="497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900120" y="4366080"/>
                <a:ext cx="94320" cy="402120"/>
              </a:xfrm>
              <a:custGeom>
                <a:avLst/>
                <a:gdLst/>
                <a:ahLst/>
                <a:rect l="l" t="t" r="r" b="b"/>
                <a:pathLst>
                  <a:path w="121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1" y="496"/>
                    </a:lnTo>
                    <a:lnTo>
                      <a:pt x="113" y="495"/>
                    </a:lnTo>
                    <a:lnTo>
                      <a:pt x="116" y="492"/>
                    </a:lnTo>
                    <a:lnTo>
                      <a:pt x="118" y="490"/>
                    </a:lnTo>
                    <a:lnTo>
                      <a:pt x="119" y="487"/>
                    </a:lnTo>
                    <a:lnTo>
                      <a:pt x="121" y="485"/>
                    </a:lnTo>
                    <a:lnTo>
                      <a:pt x="121" y="481"/>
                    </a:lnTo>
                    <a:lnTo>
                      <a:pt x="121" y="15"/>
                    </a:lnTo>
                    <a:lnTo>
                      <a:pt x="121" y="11"/>
                    </a:lnTo>
                    <a:lnTo>
                      <a:pt x="119" y="9"/>
                    </a:lnTo>
                    <a:lnTo>
                      <a:pt x="118" y="6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11" y="1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2" y="487"/>
                    </a:lnTo>
                    <a:lnTo>
                      <a:pt x="3" y="490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3" y="497"/>
                    </a:lnTo>
                    <a:lnTo>
                      <a:pt x="17" y="497"/>
                    </a:lnTo>
                    <a:lnTo>
                      <a:pt x="103" y="497"/>
                    </a:lnTo>
                    <a:lnTo>
                      <a:pt x="10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898680" y="4364640"/>
                <a:ext cx="96840" cy="403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898680" y="4364640"/>
                <a:ext cx="1080" cy="40356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900120" y="4364640"/>
                <a:ext cx="1440" cy="40356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900120" y="4364640"/>
                <a:ext cx="1440" cy="4035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901920" y="4364640"/>
                <a:ext cx="1080" cy="40356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901920" y="4364640"/>
                <a:ext cx="1080" cy="40356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903000" y="4364640"/>
                <a:ext cx="1440" cy="40356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904800" y="4364640"/>
                <a:ext cx="1080" cy="40356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904800" y="4364640"/>
                <a:ext cx="1080" cy="40356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6906240" y="4364640"/>
                <a:ext cx="1080" cy="40356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907680" y="4364640"/>
                <a:ext cx="1440" cy="4035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6907680" y="4364640"/>
                <a:ext cx="1440" cy="40356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909480" y="4364640"/>
                <a:ext cx="1080" cy="403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909480" y="4364640"/>
                <a:ext cx="1080" cy="40356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6910920" y="4364640"/>
                <a:ext cx="1440" cy="40356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6912720" y="4364640"/>
                <a:ext cx="1080" cy="4035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6912720" y="4364640"/>
                <a:ext cx="1080" cy="40356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914160" y="4364640"/>
                <a:ext cx="1080" cy="4035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915600" y="4364640"/>
                <a:ext cx="1440" cy="4035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915600" y="4364640"/>
                <a:ext cx="1440" cy="4035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6917400" y="4364640"/>
                <a:ext cx="1080" cy="40356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6917400" y="4364640"/>
                <a:ext cx="1080" cy="4035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918840" y="4364640"/>
                <a:ext cx="1440" cy="40356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6920640" y="4364640"/>
                <a:ext cx="1080" cy="40356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6920640" y="4364640"/>
                <a:ext cx="1080" cy="4035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6922080" y="4364640"/>
                <a:ext cx="1080" cy="403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6923520" y="4364640"/>
                <a:ext cx="1440" cy="403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6923520" y="4364640"/>
                <a:ext cx="1440" cy="4035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6925320" y="4364640"/>
                <a:ext cx="1080" cy="403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6925320" y="4364640"/>
                <a:ext cx="1080" cy="4035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6926760" y="4364640"/>
                <a:ext cx="1440" cy="4035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6928560" y="4364640"/>
                <a:ext cx="1080" cy="40356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6928560" y="4364640"/>
                <a:ext cx="1080" cy="403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6930000" y="4364640"/>
                <a:ext cx="1440" cy="40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6931800" y="4364640"/>
                <a:ext cx="1080" cy="4035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931800" y="4364640"/>
                <a:ext cx="1080" cy="4035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6933240" y="4364640"/>
                <a:ext cx="1080" cy="403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933240" y="4364640"/>
                <a:ext cx="1080" cy="403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934320" y="4364640"/>
                <a:ext cx="1440" cy="40356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936120" y="4364640"/>
                <a:ext cx="1080" cy="403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36120" y="4364640"/>
                <a:ext cx="1080" cy="4035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937560" y="4364640"/>
                <a:ext cx="1440" cy="40356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39360" y="4364640"/>
                <a:ext cx="1080" cy="403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939360" y="4364640"/>
                <a:ext cx="1080" cy="40356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6940800" y="4364640"/>
                <a:ext cx="1080" cy="40356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940800" y="4364640"/>
                <a:ext cx="1080" cy="4035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6942240" y="4364640"/>
                <a:ext cx="1440" cy="4035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6944040" y="4364640"/>
                <a:ext cx="1080" cy="4035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6944040" y="4364640"/>
                <a:ext cx="1080" cy="4035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945480" y="4364640"/>
                <a:ext cx="1440" cy="40356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6947280" y="4364640"/>
                <a:ext cx="1080" cy="4035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948720" y="4364640"/>
                <a:ext cx="1080" cy="40356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6950160" y="4364640"/>
                <a:ext cx="1440" cy="4035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950160" y="4364640"/>
                <a:ext cx="1440" cy="4035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951960" y="4364640"/>
                <a:ext cx="1080" cy="4035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951960" y="4364640"/>
                <a:ext cx="1080" cy="4035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953400" y="4364640"/>
                <a:ext cx="1440" cy="4035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955200" y="4364640"/>
                <a:ext cx="1080" cy="40356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6955200" y="4364640"/>
                <a:ext cx="1080" cy="403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956640" y="4364640"/>
                <a:ext cx="1080" cy="4035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958080" y="4364640"/>
                <a:ext cx="1440" cy="4035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958080" y="4364640"/>
                <a:ext cx="1440" cy="4035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959880" y="4364640"/>
                <a:ext cx="1080" cy="40356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959880" y="4364640"/>
                <a:ext cx="1080" cy="403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961320" y="4364640"/>
                <a:ext cx="1440" cy="403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963120" y="4364640"/>
                <a:ext cx="1080" cy="403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963120" y="4364640"/>
                <a:ext cx="1080" cy="4035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964560" y="4364640"/>
                <a:ext cx="1440" cy="4035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966000" y="4364640"/>
                <a:ext cx="1080" cy="403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966000" y="4364640"/>
                <a:ext cx="1080" cy="403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967440" y="4364640"/>
                <a:ext cx="1080" cy="403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967440" y="4364640"/>
                <a:ext cx="1080" cy="4035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968880" y="4364640"/>
                <a:ext cx="1440" cy="403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970680" y="4364640"/>
                <a:ext cx="1080" cy="4035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970680" y="4364640"/>
                <a:ext cx="1080" cy="403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972120" y="4364640"/>
                <a:ext cx="1440" cy="40356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6973920" y="4364640"/>
                <a:ext cx="1080" cy="4035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973920" y="4364640"/>
                <a:ext cx="1080" cy="40356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975360" y="4364640"/>
                <a:ext cx="1080" cy="40356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975360" y="4364640"/>
                <a:ext cx="1080" cy="4035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976800" y="4364640"/>
                <a:ext cx="1440" cy="40356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978600" y="4364640"/>
                <a:ext cx="1080" cy="4035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978600" y="4364640"/>
                <a:ext cx="1080" cy="4035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980040" y="4364640"/>
                <a:ext cx="1440" cy="40356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981840" y="4364640"/>
                <a:ext cx="1080" cy="40356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6981840" y="4364640"/>
                <a:ext cx="1080" cy="40356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983280" y="4364640"/>
                <a:ext cx="1080" cy="40356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6983280" y="4364640"/>
                <a:ext cx="1080" cy="40356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984720" y="4364640"/>
                <a:ext cx="1440" cy="4035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986520" y="4364640"/>
                <a:ext cx="1080" cy="40356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986520" y="4364640"/>
                <a:ext cx="1080" cy="4035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987960" y="4364640"/>
                <a:ext cx="1440" cy="40356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989760" y="4364640"/>
                <a:ext cx="1080" cy="40356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6989760" y="4364640"/>
                <a:ext cx="1080" cy="40356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6991200" y="4364640"/>
                <a:ext cx="1080" cy="40356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6991200" y="4364640"/>
                <a:ext cx="1080" cy="40356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6992640" y="4364640"/>
                <a:ext cx="1440" cy="40356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994440" y="4364640"/>
                <a:ext cx="1080" cy="4035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994440" y="4364640"/>
                <a:ext cx="2880" cy="40356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900120" y="4366080"/>
                <a:ext cx="94320" cy="400680"/>
              </a:xfrm>
              <a:custGeom>
                <a:avLst/>
                <a:gdLst/>
                <a:ahLst/>
                <a:rect l="l" t="t" r="r" b="b"/>
                <a:pathLst>
                  <a:path w="122" h="496">
                    <a:moveTo>
                      <a:pt x="104" y="496"/>
                    </a:moveTo>
                    <a:lnTo>
                      <a:pt x="108" y="496"/>
                    </a:lnTo>
                    <a:lnTo>
                      <a:pt x="110" y="495"/>
                    </a:lnTo>
                    <a:lnTo>
                      <a:pt x="114" y="494"/>
                    </a:lnTo>
                    <a:lnTo>
                      <a:pt x="117" y="492"/>
                    </a:lnTo>
                    <a:lnTo>
                      <a:pt x="118" y="490"/>
                    </a:lnTo>
                    <a:lnTo>
                      <a:pt x="120" y="486"/>
                    </a:lnTo>
                    <a:lnTo>
                      <a:pt x="120" y="483"/>
                    </a:lnTo>
                    <a:lnTo>
                      <a:pt x="122" y="481"/>
                    </a:lnTo>
                    <a:lnTo>
                      <a:pt x="122" y="15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18" y="6"/>
                    </a:lnTo>
                    <a:lnTo>
                      <a:pt x="117" y="4"/>
                    </a:lnTo>
                    <a:lnTo>
                      <a:pt x="114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1" y="483"/>
                    </a:lnTo>
                    <a:lnTo>
                      <a:pt x="1" y="486"/>
                    </a:lnTo>
                    <a:lnTo>
                      <a:pt x="4" y="490"/>
                    </a:lnTo>
                    <a:lnTo>
                      <a:pt x="5" y="492"/>
                    </a:lnTo>
                    <a:lnTo>
                      <a:pt x="8" y="494"/>
                    </a:lnTo>
                    <a:lnTo>
                      <a:pt x="11" y="495"/>
                    </a:lnTo>
                    <a:lnTo>
                      <a:pt x="14" y="496"/>
                    </a:lnTo>
                    <a:lnTo>
                      <a:pt x="18" y="496"/>
                    </a:lnTo>
                    <a:lnTo>
                      <a:pt x="104" y="496"/>
                    </a:lnTo>
                    <a:lnTo>
                      <a:pt x="104" y="49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162160" y="3797640"/>
                <a:ext cx="4835160" cy="98208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5" y="677"/>
                    </a:lnTo>
                    <a:lnTo>
                      <a:pt x="125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160720" y="3795840"/>
                <a:ext cx="152280" cy="985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2313000" y="3795840"/>
                <a:ext cx="202320" cy="985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515320" y="3795840"/>
                <a:ext cx="200520" cy="985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2716200" y="3795840"/>
                <a:ext cx="202320" cy="985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918880" y="3795840"/>
                <a:ext cx="188280" cy="985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07160" y="3795840"/>
                <a:ext cx="150840" cy="9853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258000" y="3795840"/>
                <a:ext cx="164520" cy="9853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422880" y="3795840"/>
                <a:ext cx="200520" cy="98532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623760" y="3795840"/>
                <a:ext cx="202320" cy="98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826440" y="3795840"/>
                <a:ext cx="200880" cy="9853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027320" y="3795840"/>
                <a:ext cx="201960" cy="98532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229640" y="3795840"/>
                <a:ext cx="200880" cy="98532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430880" y="3795840"/>
                <a:ext cx="405000" cy="9853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835880" y="3795840"/>
                <a:ext cx="201960" cy="98532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038200" y="3795840"/>
                <a:ext cx="199080" cy="98532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237280" y="3795840"/>
                <a:ext cx="202320" cy="9853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439960" y="3795840"/>
                <a:ext cx="202320" cy="98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642640" y="3795840"/>
                <a:ext cx="188280" cy="98532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830920" y="3795840"/>
                <a:ext cx="152280" cy="9853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983200" y="3795840"/>
                <a:ext cx="163080" cy="9853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146640" y="3795840"/>
                <a:ext cx="202320" cy="985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349320" y="3795840"/>
                <a:ext cx="200520" cy="985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549840" y="3795840"/>
                <a:ext cx="200520" cy="985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750720" y="3795840"/>
                <a:ext cx="202320" cy="985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953400" y="3795840"/>
                <a:ext cx="43920" cy="985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162160" y="3797640"/>
                <a:ext cx="4835160" cy="98208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4" y="677"/>
                    </a:lnTo>
                    <a:lnTo>
                      <a:pt x="124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2170080" y="3805560"/>
                <a:ext cx="4817520" cy="966240"/>
              </a:xfrm>
              <a:custGeom>
                <a:avLst/>
                <a:gdLst/>
                <a:ahLst/>
                <a:rect l="l" t="t" r="r" b="b"/>
                <a:pathLst>
                  <a:path w="6138" h="1196">
                    <a:moveTo>
                      <a:pt x="0" y="0"/>
                    </a:moveTo>
                    <a:lnTo>
                      <a:pt x="0" y="656"/>
                    </a:lnTo>
                    <a:lnTo>
                      <a:pt x="125" y="656"/>
                    </a:lnTo>
                    <a:lnTo>
                      <a:pt x="125" y="1196"/>
                    </a:lnTo>
                    <a:lnTo>
                      <a:pt x="6010" y="1196"/>
                    </a:lnTo>
                    <a:lnTo>
                      <a:pt x="6010" y="656"/>
                    </a:lnTo>
                    <a:lnTo>
                      <a:pt x="6138" y="656"/>
                    </a:lnTo>
                    <a:lnTo>
                      <a:pt x="613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854520" y="4354920"/>
                <a:ext cx="872640" cy="39420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854520" y="4354920"/>
                <a:ext cx="872640" cy="39420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663000" y="3947760"/>
                <a:ext cx="197640" cy="80136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663000" y="3947760"/>
                <a:ext cx="197640" cy="80136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394320" y="4497120"/>
                <a:ext cx="337320" cy="2520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641200" y="4497120"/>
                <a:ext cx="943200" cy="252000"/>
              </a:xfrm>
              <a:custGeom>
                <a:avLst/>
                <a:gdLst/>
                <a:ahLst/>
                <a:rect l="l" t="t" r="r" b="b"/>
                <a:pathLst>
                  <a:path w="1201" h="311">
                    <a:moveTo>
                      <a:pt x="0" y="311"/>
                    </a:moveTo>
                    <a:lnTo>
                      <a:pt x="491" y="311"/>
                    </a:lnTo>
                    <a:lnTo>
                      <a:pt x="49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  <a:moveTo>
                      <a:pt x="1201" y="8"/>
                    </a:moveTo>
                    <a:lnTo>
                      <a:pt x="973" y="8"/>
                    </a:lnTo>
                    <a:lnTo>
                      <a:pt x="973" y="193"/>
                    </a:lnTo>
                    <a:lnTo>
                      <a:pt x="1201" y="193"/>
                    </a:lnTo>
                    <a:lnTo>
                      <a:pt x="1201" y="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727440" y="3947760"/>
                <a:ext cx="70560" cy="8013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27440" y="3947760"/>
                <a:ext cx="70560" cy="801360"/>
              </a:xfrm>
              <a:prstGeom prst="rect">
                <a:avLst/>
              </a:prstGeom>
              <a:noFill/>
              <a:ln w="1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4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49880" y="3844440"/>
                <a:ext cx="1108080" cy="76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6" name=""/>
              <p:cNvSpPr/>
              <p:nvPr/>
            </p:nvSpPr>
            <p:spPr>
              <a:xfrm>
                <a:off x="2565720" y="3852360"/>
                <a:ext cx="1089000" cy="752760"/>
              </a:xfrm>
              <a:prstGeom prst="rect">
                <a:avLst/>
              </a:prstGeom>
              <a:noFill/>
              <a:ln w="468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3699000" y="44359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3700440" y="44956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840120" y="44359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3813840" y="44956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754080" y="44359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758760" y="44956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699000" y="41997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700440" y="425952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3840120" y="41997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819960" y="4259520"/>
                <a:ext cx="4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754080" y="41997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3759840" y="425952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699000" y="39945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700440" y="402372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3754080" y="39945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2294280" y="3844080"/>
              <a:ext cx="4564800" cy="906480"/>
              <a:chOff x="2294280" y="3844080"/>
              <a:chExt cx="4564800" cy="906480"/>
            </a:xfrm>
          </p:grpSpPr>
          <p:sp>
            <p:nvSpPr>
              <p:cNvPr id="1513" name=""/>
              <p:cNvSpPr/>
              <p:nvPr/>
            </p:nvSpPr>
            <p:spPr>
              <a:xfrm>
                <a:off x="3762720" y="402300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765600" y="440604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761640" y="40525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761640" y="42591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821400" y="417024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679920" y="393444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767760" y="393444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3886200" y="3874680"/>
                <a:ext cx="824040" cy="793080"/>
              </a:xfrm>
              <a:custGeom>
                <a:avLst/>
                <a:gdLst/>
                <a:ahLst/>
                <a:rect l="l" t="t" r="r" b="b"/>
                <a:pathLst>
                  <a:path w="1050" h="984">
                    <a:moveTo>
                      <a:pt x="833" y="984"/>
                    </a:moveTo>
                    <a:lnTo>
                      <a:pt x="1050" y="984"/>
                    </a:lnTo>
                    <a:lnTo>
                      <a:pt x="1050" y="0"/>
                    </a:lnTo>
                    <a:lnTo>
                      <a:pt x="0" y="0"/>
                    </a:lnTo>
                    <a:lnTo>
                      <a:pt x="0" y="984"/>
                    </a:lnTo>
                    <a:lnTo>
                      <a:pt x="218" y="984"/>
                    </a:lnTo>
                    <a:lnTo>
                      <a:pt x="218" y="584"/>
                    </a:lnTo>
                    <a:lnTo>
                      <a:pt x="833" y="584"/>
                    </a:lnTo>
                    <a:lnTo>
                      <a:pt x="833" y="984"/>
                    </a:lnTo>
                    <a:lnTo>
                      <a:pt x="833" y="9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52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857760" y="3844080"/>
                <a:ext cx="852480" cy="82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22" name=""/>
              <p:cNvSpPr/>
              <p:nvPr/>
            </p:nvSpPr>
            <p:spPr>
              <a:xfrm>
                <a:off x="3875040" y="3853440"/>
                <a:ext cx="836280" cy="806400"/>
              </a:xfrm>
              <a:custGeom>
                <a:avLst/>
                <a:gdLst/>
                <a:ahLst/>
                <a:rect l="l" t="t" r="r" b="b"/>
                <a:pathLst>
                  <a:path w="1068" h="998">
                    <a:moveTo>
                      <a:pt x="840" y="998"/>
                    </a:moveTo>
                    <a:lnTo>
                      <a:pt x="1068" y="998"/>
                    </a:lnTo>
                    <a:lnTo>
                      <a:pt x="1068" y="0"/>
                    </a:lnTo>
                    <a:lnTo>
                      <a:pt x="0" y="0"/>
                    </a:lnTo>
                    <a:lnTo>
                      <a:pt x="0" y="998"/>
                    </a:lnTo>
                    <a:lnTo>
                      <a:pt x="226" y="998"/>
                    </a:lnTo>
                    <a:lnTo>
                      <a:pt x="226" y="606"/>
                    </a:lnTo>
                    <a:lnTo>
                      <a:pt x="840" y="606"/>
                    </a:lnTo>
                    <a:lnTo>
                      <a:pt x="840" y="998"/>
                    </a:lnTo>
                  </a:path>
                </a:pathLst>
              </a:custGeom>
              <a:noFill/>
              <a:ln w="468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4163760" y="4354200"/>
                <a:ext cx="241560" cy="30816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  <a:moveTo>
                      <a:pt x="0" y="374"/>
                    </a:moveTo>
                    <a:lnTo>
                      <a:pt x="0" y="374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  <a:moveTo>
                      <a:pt x="309" y="374"/>
                    </a:moveTo>
                    <a:lnTo>
                      <a:pt x="309" y="374"/>
                    </a:lnTo>
                    <a:lnTo>
                      <a:pt x="309" y="374"/>
                    </a:lnTo>
                    <a:lnTo>
                      <a:pt x="309" y="37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4163760" y="4354200"/>
                <a:ext cx="241560" cy="30816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4163760" y="465660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4405320" y="465660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193640" y="4361040"/>
                <a:ext cx="180360" cy="295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4179240" y="4346280"/>
                <a:ext cx="210240" cy="324720"/>
              </a:xfrm>
              <a:custGeom>
                <a:avLst/>
                <a:gdLst/>
                <a:ahLst/>
                <a:rect l="l" t="t" r="r" b="b"/>
                <a:pathLst>
                  <a:path w="269" h="401">
                    <a:moveTo>
                      <a:pt x="37" y="56"/>
                    </a:moveTo>
                    <a:lnTo>
                      <a:pt x="37" y="311"/>
                    </a:lnTo>
                    <a:lnTo>
                      <a:pt x="37" y="314"/>
                    </a:lnTo>
                    <a:lnTo>
                      <a:pt x="36" y="317"/>
                    </a:lnTo>
                    <a:lnTo>
                      <a:pt x="34" y="321"/>
                    </a:lnTo>
                    <a:lnTo>
                      <a:pt x="32" y="323"/>
                    </a:lnTo>
                    <a:lnTo>
                      <a:pt x="29" y="326"/>
                    </a:lnTo>
                    <a:lnTo>
                      <a:pt x="27" y="327"/>
                    </a:lnTo>
                    <a:lnTo>
                      <a:pt x="23" y="328"/>
                    </a:lnTo>
                    <a:lnTo>
                      <a:pt x="19" y="328"/>
                    </a:lnTo>
                    <a:lnTo>
                      <a:pt x="15" y="328"/>
                    </a:lnTo>
                    <a:lnTo>
                      <a:pt x="12" y="327"/>
                    </a:lnTo>
                    <a:lnTo>
                      <a:pt x="9" y="326"/>
                    </a:lnTo>
                    <a:lnTo>
                      <a:pt x="7" y="323"/>
                    </a:lnTo>
                    <a:lnTo>
                      <a:pt x="4" y="321"/>
                    </a:lnTo>
                    <a:lnTo>
                      <a:pt x="3" y="317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9" y="37"/>
                    </a:lnTo>
                    <a:lnTo>
                      <a:pt x="23" y="38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4" y="45"/>
                    </a:lnTo>
                    <a:lnTo>
                      <a:pt x="36" y="48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  <a:moveTo>
                      <a:pt x="127" y="365"/>
                    </a:moveTo>
                    <a:lnTo>
                      <a:pt x="250" y="365"/>
                    </a:lnTo>
                    <a:lnTo>
                      <a:pt x="232" y="384"/>
                    </a:lnTo>
                    <a:lnTo>
                      <a:pt x="232" y="251"/>
                    </a:lnTo>
                    <a:lnTo>
                      <a:pt x="232" y="247"/>
                    </a:lnTo>
                    <a:lnTo>
                      <a:pt x="234" y="244"/>
                    </a:lnTo>
                    <a:lnTo>
                      <a:pt x="235" y="240"/>
                    </a:lnTo>
                    <a:lnTo>
                      <a:pt x="237" y="237"/>
                    </a:lnTo>
                    <a:lnTo>
                      <a:pt x="240" y="236"/>
                    </a:lnTo>
                    <a:lnTo>
                      <a:pt x="244" y="235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4" y="234"/>
                    </a:lnTo>
                    <a:lnTo>
                      <a:pt x="257" y="235"/>
                    </a:lnTo>
                    <a:lnTo>
                      <a:pt x="261" y="236"/>
                    </a:lnTo>
                    <a:lnTo>
                      <a:pt x="264" y="237"/>
                    </a:lnTo>
                    <a:lnTo>
                      <a:pt x="265" y="240"/>
                    </a:lnTo>
                    <a:lnTo>
                      <a:pt x="267" y="244"/>
                    </a:lnTo>
                    <a:lnTo>
                      <a:pt x="267" y="247"/>
                    </a:lnTo>
                    <a:lnTo>
                      <a:pt x="269" y="251"/>
                    </a:lnTo>
                    <a:lnTo>
                      <a:pt x="269" y="384"/>
                    </a:lnTo>
                    <a:lnTo>
                      <a:pt x="267" y="386"/>
                    </a:lnTo>
                    <a:lnTo>
                      <a:pt x="267" y="390"/>
                    </a:lnTo>
                    <a:lnTo>
                      <a:pt x="265" y="393"/>
                    </a:lnTo>
                    <a:lnTo>
                      <a:pt x="264" y="396"/>
                    </a:lnTo>
                    <a:lnTo>
                      <a:pt x="261" y="398"/>
                    </a:lnTo>
                    <a:lnTo>
                      <a:pt x="257" y="400"/>
                    </a:lnTo>
                    <a:lnTo>
                      <a:pt x="254" y="401"/>
                    </a:lnTo>
                    <a:lnTo>
                      <a:pt x="250" y="401"/>
                    </a:lnTo>
                    <a:lnTo>
                      <a:pt x="127" y="401"/>
                    </a:lnTo>
                    <a:lnTo>
                      <a:pt x="124" y="401"/>
                    </a:lnTo>
                    <a:lnTo>
                      <a:pt x="121" y="400"/>
                    </a:lnTo>
                    <a:lnTo>
                      <a:pt x="118" y="398"/>
                    </a:lnTo>
                    <a:lnTo>
                      <a:pt x="116" y="396"/>
                    </a:lnTo>
                    <a:lnTo>
                      <a:pt x="113" y="393"/>
                    </a:lnTo>
                    <a:lnTo>
                      <a:pt x="111" y="390"/>
                    </a:lnTo>
                    <a:lnTo>
                      <a:pt x="109" y="386"/>
                    </a:lnTo>
                    <a:lnTo>
                      <a:pt x="109" y="384"/>
                    </a:lnTo>
                    <a:lnTo>
                      <a:pt x="109" y="379"/>
                    </a:lnTo>
                    <a:lnTo>
                      <a:pt x="111" y="376"/>
                    </a:lnTo>
                    <a:lnTo>
                      <a:pt x="113" y="372"/>
                    </a:lnTo>
                    <a:lnTo>
                      <a:pt x="116" y="370"/>
                    </a:lnTo>
                    <a:lnTo>
                      <a:pt x="118" y="367"/>
                    </a:lnTo>
                    <a:lnTo>
                      <a:pt x="121" y="366"/>
                    </a:lnTo>
                    <a:lnTo>
                      <a:pt x="124" y="365"/>
                    </a:lnTo>
                    <a:lnTo>
                      <a:pt x="127" y="365"/>
                    </a:lnTo>
                    <a:lnTo>
                      <a:pt x="127" y="365"/>
                    </a:lnTo>
                    <a:close/>
                    <a:moveTo>
                      <a:pt x="232" y="69"/>
                    </a:moveTo>
                    <a:lnTo>
                      <a:pt x="232" y="19"/>
                    </a:lnTo>
                    <a:lnTo>
                      <a:pt x="250" y="37"/>
                    </a:lnTo>
                    <a:lnTo>
                      <a:pt x="46" y="37"/>
                    </a:lnTo>
                    <a:lnTo>
                      <a:pt x="43" y="37"/>
                    </a:lnTo>
                    <a:lnTo>
                      <a:pt x="39" y="35"/>
                    </a:lnTo>
                    <a:lnTo>
                      <a:pt x="37" y="34"/>
                    </a:lnTo>
                    <a:lnTo>
                      <a:pt x="34" y="32"/>
                    </a:lnTo>
                    <a:lnTo>
                      <a:pt x="32" y="29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250" y="0"/>
                    </a:lnTo>
                    <a:lnTo>
                      <a:pt x="254" y="1"/>
                    </a:lnTo>
                    <a:lnTo>
                      <a:pt x="257" y="2"/>
                    </a:lnTo>
                    <a:lnTo>
                      <a:pt x="261" y="4"/>
                    </a:lnTo>
                    <a:lnTo>
                      <a:pt x="264" y="6"/>
                    </a:lnTo>
                    <a:lnTo>
                      <a:pt x="265" y="9"/>
                    </a:lnTo>
                    <a:lnTo>
                      <a:pt x="267" y="13"/>
                    </a:lnTo>
                    <a:lnTo>
                      <a:pt x="267" y="15"/>
                    </a:lnTo>
                    <a:lnTo>
                      <a:pt x="269" y="19"/>
                    </a:lnTo>
                    <a:lnTo>
                      <a:pt x="269" y="69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5" y="78"/>
                    </a:lnTo>
                    <a:lnTo>
                      <a:pt x="264" y="82"/>
                    </a:lnTo>
                    <a:lnTo>
                      <a:pt x="261" y="83"/>
                    </a:lnTo>
                    <a:lnTo>
                      <a:pt x="257" y="86"/>
                    </a:lnTo>
                    <a:lnTo>
                      <a:pt x="254" y="87"/>
                    </a:lnTo>
                    <a:lnTo>
                      <a:pt x="250" y="87"/>
                    </a:lnTo>
                    <a:lnTo>
                      <a:pt x="246" y="87"/>
                    </a:lnTo>
                    <a:lnTo>
                      <a:pt x="244" y="86"/>
                    </a:lnTo>
                    <a:lnTo>
                      <a:pt x="240" y="83"/>
                    </a:lnTo>
                    <a:lnTo>
                      <a:pt x="237" y="82"/>
                    </a:lnTo>
                    <a:lnTo>
                      <a:pt x="235" y="78"/>
                    </a:lnTo>
                    <a:lnTo>
                      <a:pt x="234" y="76"/>
                    </a:lnTo>
                    <a:lnTo>
                      <a:pt x="232" y="72"/>
                    </a:lnTo>
                    <a:lnTo>
                      <a:pt x="232" y="69"/>
                    </a:lnTo>
                    <a:lnTo>
                      <a:pt x="232" y="69"/>
                    </a:lnTo>
                    <a:close/>
                  </a:path>
                </a:pathLst>
              </a:custGeom>
              <a:solidFill>
                <a:srgbClr val="1a1a1a"/>
              </a:solidFill>
              <a:ln w="284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983400" y="46713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984840" y="470016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906720" y="47001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560480" y="47001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4633560" y="46713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611240" y="470016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024240" y="4496400"/>
                <a:ext cx="370080" cy="252000"/>
              </a:xfrm>
              <a:prstGeom prst="rect">
                <a:avLst/>
              </a:prstGeom>
              <a:solidFill>
                <a:srgbClr val="355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221800" y="4496400"/>
                <a:ext cx="422280" cy="252000"/>
              </a:xfrm>
              <a:prstGeom prst="rect">
                <a:avLst/>
              </a:prstGeom>
              <a:solidFill>
                <a:srgbClr val="26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4718160" y="4496400"/>
                <a:ext cx="300960" cy="252000"/>
              </a:xfrm>
              <a:prstGeom prst="rect">
                <a:avLst/>
              </a:pr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017680" y="4496400"/>
                <a:ext cx="203760" cy="252000"/>
              </a:xfrm>
              <a:prstGeom prst="rect">
                <a:avLst/>
              </a:pr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6626520" y="4674240"/>
                <a:ext cx="110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18160" y="4496400"/>
                <a:ext cx="2013480" cy="252000"/>
              </a:xfrm>
              <a:prstGeom prst="rect">
                <a:avLst/>
              </a:prstGeom>
              <a:noFill/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436640" y="44060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436640" y="45820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909680" y="3844080"/>
                <a:ext cx="1949400" cy="63972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921920" y="3856680"/>
                <a:ext cx="1921320" cy="612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921920" y="3856680"/>
                <a:ext cx="1921320" cy="6120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904720" y="3871440"/>
                <a:ext cx="927360" cy="5846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904720" y="3871440"/>
                <a:ext cx="927360" cy="5846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874840" y="3856680"/>
                <a:ext cx="16920" cy="6120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874840" y="3856680"/>
                <a:ext cx="16920" cy="6120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080320" y="4079880"/>
                <a:ext cx="171000" cy="20664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18" y="109"/>
                    </a:moveTo>
                    <a:lnTo>
                      <a:pt x="217" y="123"/>
                    </a:lnTo>
                    <a:lnTo>
                      <a:pt x="216" y="137"/>
                    </a:lnTo>
                    <a:lnTo>
                      <a:pt x="214" y="149"/>
                    </a:lnTo>
                    <a:lnTo>
                      <a:pt x="211" y="163"/>
                    </a:lnTo>
                    <a:lnTo>
                      <a:pt x="207" y="176"/>
                    </a:lnTo>
                    <a:lnTo>
                      <a:pt x="203" y="187"/>
                    </a:lnTo>
                    <a:lnTo>
                      <a:pt x="197" y="199"/>
                    </a:lnTo>
                    <a:lnTo>
                      <a:pt x="191" y="210"/>
                    </a:lnTo>
                    <a:lnTo>
                      <a:pt x="183" y="220"/>
                    </a:lnTo>
                    <a:lnTo>
                      <a:pt x="176" y="229"/>
                    </a:lnTo>
                    <a:lnTo>
                      <a:pt x="167" y="237"/>
                    </a:lnTo>
                    <a:lnTo>
                      <a:pt x="162" y="239"/>
                    </a:lnTo>
                    <a:lnTo>
                      <a:pt x="157" y="243"/>
                    </a:lnTo>
                    <a:lnTo>
                      <a:pt x="152" y="245"/>
                    </a:lnTo>
                    <a:lnTo>
                      <a:pt x="145" y="248"/>
                    </a:lnTo>
                    <a:lnTo>
                      <a:pt x="140" y="250"/>
                    </a:lnTo>
                    <a:lnTo>
                      <a:pt x="134" y="252"/>
                    </a:lnTo>
                    <a:lnTo>
                      <a:pt x="129" y="253"/>
                    </a:lnTo>
                    <a:lnTo>
                      <a:pt x="123" y="254"/>
                    </a:lnTo>
                    <a:lnTo>
                      <a:pt x="115" y="255"/>
                    </a:lnTo>
                    <a:lnTo>
                      <a:pt x="109" y="255"/>
                    </a:lnTo>
                    <a:lnTo>
                      <a:pt x="103" y="255"/>
                    </a:lnTo>
                    <a:lnTo>
                      <a:pt x="97" y="254"/>
                    </a:lnTo>
                    <a:lnTo>
                      <a:pt x="90" y="253"/>
                    </a:lnTo>
                    <a:lnTo>
                      <a:pt x="84" y="252"/>
                    </a:lnTo>
                    <a:lnTo>
                      <a:pt x="78" y="250"/>
                    </a:lnTo>
                    <a:lnTo>
                      <a:pt x="73" y="248"/>
                    </a:lnTo>
                    <a:lnTo>
                      <a:pt x="67" y="245"/>
                    </a:lnTo>
                    <a:lnTo>
                      <a:pt x="62" y="243"/>
                    </a:lnTo>
                    <a:lnTo>
                      <a:pt x="57" y="239"/>
                    </a:lnTo>
                    <a:lnTo>
                      <a:pt x="52" y="237"/>
                    </a:lnTo>
                    <a:lnTo>
                      <a:pt x="43" y="229"/>
                    </a:lnTo>
                    <a:lnTo>
                      <a:pt x="35" y="220"/>
                    </a:lnTo>
                    <a:lnTo>
                      <a:pt x="28" y="210"/>
                    </a:lnTo>
                    <a:lnTo>
                      <a:pt x="21" y="199"/>
                    </a:lnTo>
                    <a:lnTo>
                      <a:pt x="15" y="187"/>
                    </a:lnTo>
                    <a:lnTo>
                      <a:pt x="11" y="176"/>
                    </a:lnTo>
                    <a:lnTo>
                      <a:pt x="8" y="163"/>
                    </a:lnTo>
                    <a:lnTo>
                      <a:pt x="4" y="149"/>
                    </a:lnTo>
                    <a:lnTo>
                      <a:pt x="3" y="137"/>
                    </a:lnTo>
                    <a:lnTo>
                      <a:pt x="1" y="123"/>
                    </a:lnTo>
                    <a:lnTo>
                      <a:pt x="0" y="109"/>
                    </a:lnTo>
                    <a:lnTo>
                      <a:pt x="1" y="96"/>
                    </a:lnTo>
                    <a:lnTo>
                      <a:pt x="3" y="84"/>
                    </a:lnTo>
                    <a:lnTo>
                      <a:pt x="4" y="72"/>
                    </a:lnTo>
                    <a:lnTo>
                      <a:pt x="8" y="61"/>
                    </a:lnTo>
                    <a:lnTo>
                      <a:pt x="11" y="52"/>
                    </a:lnTo>
                    <a:lnTo>
                      <a:pt x="15" y="43"/>
                    </a:lnTo>
                    <a:lnTo>
                      <a:pt x="21" y="35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2" y="7"/>
                    </a:lnTo>
                    <a:lnTo>
                      <a:pt x="73" y="4"/>
                    </a:lnTo>
                    <a:lnTo>
                      <a:pt x="84" y="2"/>
                    </a:lnTo>
                    <a:lnTo>
                      <a:pt x="97" y="0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4" y="2"/>
                    </a:lnTo>
                    <a:lnTo>
                      <a:pt x="145" y="4"/>
                    </a:lnTo>
                    <a:lnTo>
                      <a:pt x="157" y="7"/>
                    </a:lnTo>
                    <a:lnTo>
                      <a:pt x="167" y="11"/>
                    </a:lnTo>
                    <a:lnTo>
                      <a:pt x="176" y="16"/>
                    </a:lnTo>
                    <a:lnTo>
                      <a:pt x="183" y="21"/>
                    </a:lnTo>
                    <a:lnTo>
                      <a:pt x="191" y="27"/>
                    </a:lnTo>
                    <a:lnTo>
                      <a:pt x="197" y="35"/>
                    </a:lnTo>
                    <a:lnTo>
                      <a:pt x="203" y="43"/>
                    </a:lnTo>
                    <a:lnTo>
                      <a:pt x="207" y="52"/>
                    </a:lnTo>
                    <a:lnTo>
                      <a:pt x="211" y="61"/>
                    </a:lnTo>
                    <a:lnTo>
                      <a:pt x="214" y="72"/>
                    </a:lnTo>
                    <a:lnTo>
                      <a:pt x="216" y="84"/>
                    </a:lnTo>
                    <a:lnTo>
                      <a:pt x="217" y="96"/>
                    </a:lnTo>
                    <a:lnTo>
                      <a:pt x="218" y="109"/>
                    </a:lnTo>
                    <a:lnTo>
                      <a:pt x="21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564160" y="4079880"/>
                <a:ext cx="197280" cy="20664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253" y="109"/>
                    </a:moveTo>
                    <a:lnTo>
                      <a:pt x="253" y="117"/>
                    </a:lnTo>
                    <a:lnTo>
                      <a:pt x="251" y="123"/>
                    </a:lnTo>
                    <a:lnTo>
                      <a:pt x="251" y="130"/>
                    </a:lnTo>
                    <a:lnTo>
                      <a:pt x="249" y="137"/>
                    </a:lnTo>
                    <a:lnTo>
                      <a:pt x="248" y="143"/>
                    </a:lnTo>
                    <a:lnTo>
                      <a:pt x="245" y="149"/>
                    </a:lnTo>
                    <a:lnTo>
                      <a:pt x="243" y="157"/>
                    </a:lnTo>
                    <a:lnTo>
                      <a:pt x="240" y="163"/>
                    </a:lnTo>
                    <a:lnTo>
                      <a:pt x="238" y="170"/>
                    </a:lnTo>
                    <a:lnTo>
                      <a:pt x="234" y="176"/>
                    </a:lnTo>
                    <a:lnTo>
                      <a:pt x="226" y="187"/>
                    </a:lnTo>
                    <a:lnTo>
                      <a:pt x="218" y="199"/>
                    </a:lnTo>
                    <a:lnTo>
                      <a:pt x="208" y="210"/>
                    </a:lnTo>
                    <a:lnTo>
                      <a:pt x="196" y="220"/>
                    </a:lnTo>
                    <a:lnTo>
                      <a:pt x="185" y="229"/>
                    </a:lnTo>
                    <a:lnTo>
                      <a:pt x="174" y="237"/>
                    </a:lnTo>
                    <a:lnTo>
                      <a:pt x="167" y="239"/>
                    </a:lnTo>
                    <a:lnTo>
                      <a:pt x="161" y="243"/>
                    </a:lnTo>
                    <a:lnTo>
                      <a:pt x="155" y="245"/>
                    </a:lnTo>
                    <a:lnTo>
                      <a:pt x="149" y="248"/>
                    </a:lnTo>
                    <a:lnTo>
                      <a:pt x="141" y="250"/>
                    </a:lnTo>
                    <a:lnTo>
                      <a:pt x="135" y="252"/>
                    </a:lnTo>
                    <a:lnTo>
                      <a:pt x="129" y="253"/>
                    </a:lnTo>
                    <a:lnTo>
                      <a:pt x="121" y="254"/>
                    </a:lnTo>
                    <a:lnTo>
                      <a:pt x="115" y="255"/>
                    </a:lnTo>
                    <a:lnTo>
                      <a:pt x="107" y="255"/>
                    </a:lnTo>
                    <a:lnTo>
                      <a:pt x="101" y="255"/>
                    </a:lnTo>
                    <a:lnTo>
                      <a:pt x="95" y="254"/>
                    </a:lnTo>
                    <a:lnTo>
                      <a:pt x="89" y="253"/>
                    </a:lnTo>
                    <a:lnTo>
                      <a:pt x="82" y="252"/>
                    </a:lnTo>
                    <a:lnTo>
                      <a:pt x="76" y="250"/>
                    </a:lnTo>
                    <a:lnTo>
                      <a:pt x="71" y="248"/>
                    </a:lnTo>
                    <a:lnTo>
                      <a:pt x="66" y="245"/>
                    </a:lnTo>
                    <a:lnTo>
                      <a:pt x="60" y="243"/>
                    </a:lnTo>
                    <a:lnTo>
                      <a:pt x="55" y="239"/>
                    </a:lnTo>
                    <a:lnTo>
                      <a:pt x="51" y="237"/>
                    </a:lnTo>
                    <a:lnTo>
                      <a:pt x="42" y="229"/>
                    </a:lnTo>
                    <a:lnTo>
                      <a:pt x="33" y="220"/>
                    </a:lnTo>
                    <a:lnTo>
                      <a:pt x="26" y="210"/>
                    </a:lnTo>
                    <a:lnTo>
                      <a:pt x="20" y="199"/>
                    </a:lnTo>
                    <a:lnTo>
                      <a:pt x="15" y="187"/>
                    </a:lnTo>
                    <a:lnTo>
                      <a:pt x="10" y="176"/>
                    </a:lnTo>
                    <a:lnTo>
                      <a:pt x="6" y="163"/>
                    </a:lnTo>
                    <a:lnTo>
                      <a:pt x="3" y="149"/>
                    </a:lnTo>
                    <a:lnTo>
                      <a:pt x="1" y="137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3" y="72"/>
                    </a:lnTo>
                    <a:lnTo>
                      <a:pt x="6" y="61"/>
                    </a:lnTo>
                    <a:lnTo>
                      <a:pt x="10" y="52"/>
                    </a:lnTo>
                    <a:lnTo>
                      <a:pt x="15" y="43"/>
                    </a:lnTo>
                    <a:lnTo>
                      <a:pt x="20" y="35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2" y="16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5" y="2"/>
                    </a:lnTo>
                    <a:lnTo>
                      <a:pt x="149" y="4"/>
                    </a:lnTo>
                    <a:lnTo>
                      <a:pt x="161" y="7"/>
                    </a:lnTo>
                    <a:lnTo>
                      <a:pt x="174" y="11"/>
                    </a:lnTo>
                    <a:lnTo>
                      <a:pt x="185" y="16"/>
                    </a:lnTo>
                    <a:lnTo>
                      <a:pt x="196" y="21"/>
                    </a:lnTo>
                    <a:lnTo>
                      <a:pt x="208" y="27"/>
                    </a:lnTo>
                    <a:lnTo>
                      <a:pt x="218" y="35"/>
                    </a:lnTo>
                    <a:lnTo>
                      <a:pt x="226" y="43"/>
                    </a:lnTo>
                    <a:lnTo>
                      <a:pt x="234" y="52"/>
                    </a:lnTo>
                    <a:lnTo>
                      <a:pt x="238" y="56"/>
                    </a:lnTo>
                    <a:lnTo>
                      <a:pt x="240" y="61"/>
                    </a:lnTo>
                    <a:lnTo>
                      <a:pt x="243" y="67"/>
                    </a:lnTo>
                    <a:lnTo>
                      <a:pt x="245" y="72"/>
                    </a:lnTo>
                    <a:lnTo>
                      <a:pt x="248" y="77"/>
                    </a:lnTo>
                    <a:lnTo>
                      <a:pt x="249" y="84"/>
                    </a:lnTo>
                    <a:lnTo>
                      <a:pt x="251" y="90"/>
                    </a:lnTo>
                    <a:lnTo>
                      <a:pt x="251" y="96"/>
                    </a:lnTo>
                    <a:lnTo>
                      <a:pt x="253" y="103"/>
                    </a:lnTo>
                    <a:lnTo>
                      <a:pt x="253" y="109"/>
                    </a:lnTo>
                    <a:lnTo>
                      <a:pt x="25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4937760" y="3874680"/>
                <a:ext cx="938520" cy="587880"/>
              </a:xfrm>
              <a:custGeom>
                <a:avLst/>
                <a:gdLst/>
                <a:ahLst/>
                <a:rect l="l" t="t" r="r" b="b"/>
                <a:pathLst>
                  <a:path w="1195" h="729">
                    <a:moveTo>
                      <a:pt x="0" y="729"/>
                    </a:moveTo>
                    <a:lnTo>
                      <a:pt x="1195" y="729"/>
                    </a:lnTo>
                    <a:lnTo>
                      <a:pt x="119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5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909680" y="3844080"/>
                <a:ext cx="938520" cy="58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09680" y="3844080"/>
                <a:ext cx="938520" cy="58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5" name=""/>
              <p:cNvSpPr/>
              <p:nvPr/>
            </p:nvSpPr>
            <p:spPr>
              <a:xfrm>
                <a:off x="5055480" y="4061880"/>
                <a:ext cx="195840" cy="201600"/>
              </a:xfrm>
              <a:custGeom>
                <a:avLst/>
                <a:gdLst/>
                <a:ahLst/>
                <a:rect l="l" t="t" r="r" b="b"/>
                <a:pathLst>
                  <a:path w="249" h="249">
                    <a:moveTo>
                      <a:pt x="249" y="126"/>
                    </a:moveTo>
                    <a:lnTo>
                      <a:pt x="249" y="133"/>
                    </a:lnTo>
                    <a:lnTo>
                      <a:pt x="248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3" y="163"/>
                    </a:lnTo>
                    <a:lnTo>
                      <a:pt x="239" y="174"/>
                    </a:lnTo>
                    <a:lnTo>
                      <a:pt x="234" y="184"/>
                    </a:lnTo>
                    <a:lnTo>
                      <a:pt x="228" y="194"/>
                    </a:lnTo>
                    <a:lnTo>
                      <a:pt x="220" y="204"/>
                    </a:lnTo>
                    <a:lnTo>
                      <a:pt x="212" y="213"/>
                    </a:lnTo>
                    <a:lnTo>
                      <a:pt x="203" y="221"/>
                    </a:lnTo>
                    <a:lnTo>
                      <a:pt x="194" y="228"/>
                    </a:lnTo>
                    <a:lnTo>
                      <a:pt x="183" y="235"/>
                    </a:lnTo>
                    <a:lnTo>
                      <a:pt x="173" y="240"/>
                    </a:lnTo>
                    <a:lnTo>
                      <a:pt x="161" y="244"/>
                    </a:lnTo>
                    <a:lnTo>
                      <a:pt x="149" y="246"/>
                    </a:lnTo>
                    <a:lnTo>
                      <a:pt x="136" y="249"/>
                    </a:lnTo>
                    <a:lnTo>
                      <a:pt x="130" y="249"/>
                    </a:lnTo>
                    <a:lnTo>
                      <a:pt x="124" y="249"/>
                    </a:lnTo>
                    <a:lnTo>
                      <a:pt x="118" y="249"/>
                    </a:lnTo>
                    <a:lnTo>
                      <a:pt x="111" y="249"/>
                    </a:lnTo>
                    <a:lnTo>
                      <a:pt x="100" y="246"/>
                    </a:lnTo>
                    <a:lnTo>
                      <a:pt x="88" y="244"/>
                    </a:lnTo>
                    <a:lnTo>
                      <a:pt x="76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6" y="213"/>
                    </a:lnTo>
                    <a:lnTo>
                      <a:pt x="29" y="204"/>
                    </a:lnTo>
                    <a:lnTo>
                      <a:pt x="21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5" y="163"/>
                    </a:lnTo>
                    <a:lnTo>
                      <a:pt x="2" y="150"/>
                    </a:lnTo>
                    <a:lnTo>
                      <a:pt x="1" y="145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1" y="106"/>
                    </a:lnTo>
                    <a:lnTo>
                      <a:pt x="2" y="100"/>
                    </a:lnTo>
                    <a:lnTo>
                      <a:pt x="6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1" y="56"/>
                    </a:lnTo>
                    <a:lnTo>
                      <a:pt x="29" y="45"/>
                    </a:lnTo>
                    <a:lnTo>
                      <a:pt x="36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8" y="6"/>
                    </a:lnTo>
                    <a:lnTo>
                      <a:pt x="100" y="2"/>
                    </a:lnTo>
                    <a:lnTo>
                      <a:pt x="111" y="1"/>
                    </a:lnTo>
                    <a:lnTo>
                      <a:pt x="118" y="1"/>
                    </a:lnTo>
                    <a:lnTo>
                      <a:pt x="124" y="0"/>
                    </a:lnTo>
                    <a:lnTo>
                      <a:pt x="130" y="1"/>
                    </a:lnTo>
                    <a:lnTo>
                      <a:pt x="136" y="1"/>
                    </a:lnTo>
                    <a:lnTo>
                      <a:pt x="149" y="2"/>
                    </a:lnTo>
                    <a:lnTo>
                      <a:pt x="161" y="6"/>
                    </a:lnTo>
                    <a:lnTo>
                      <a:pt x="173" y="10"/>
                    </a:lnTo>
                    <a:lnTo>
                      <a:pt x="183" y="15"/>
                    </a:lnTo>
                    <a:lnTo>
                      <a:pt x="194" y="21"/>
                    </a:lnTo>
                    <a:lnTo>
                      <a:pt x="203" y="29"/>
                    </a:lnTo>
                    <a:lnTo>
                      <a:pt x="212" y="37"/>
                    </a:lnTo>
                    <a:lnTo>
                      <a:pt x="220" y="45"/>
                    </a:lnTo>
                    <a:lnTo>
                      <a:pt x="228" y="56"/>
                    </a:lnTo>
                    <a:lnTo>
                      <a:pt x="234" y="66"/>
                    </a:lnTo>
                    <a:lnTo>
                      <a:pt x="239" y="77"/>
                    </a:lnTo>
                    <a:lnTo>
                      <a:pt x="243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48" y="112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546880" y="4061880"/>
                <a:ext cx="195840" cy="20160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50" y="126"/>
                    </a:moveTo>
                    <a:lnTo>
                      <a:pt x="250" y="133"/>
                    </a:lnTo>
                    <a:lnTo>
                      <a:pt x="250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5" y="163"/>
                    </a:lnTo>
                    <a:lnTo>
                      <a:pt x="240" y="174"/>
                    </a:lnTo>
                    <a:lnTo>
                      <a:pt x="235" y="184"/>
                    </a:lnTo>
                    <a:lnTo>
                      <a:pt x="228" y="194"/>
                    </a:lnTo>
                    <a:lnTo>
                      <a:pt x="221" y="204"/>
                    </a:lnTo>
                    <a:lnTo>
                      <a:pt x="213" y="213"/>
                    </a:lnTo>
                    <a:lnTo>
                      <a:pt x="205" y="221"/>
                    </a:lnTo>
                    <a:lnTo>
                      <a:pt x="195" y="228"/>
                    </a:lnTo>
                    <a:lnTo>
                      <a:pt x="184" y="235"/>
                    </a:lnTo>
                    <a:lnTo>
                      <a:pt x="173" y="240"/>
                    </a:lnTo>
                    <a:lnTo>
                      <a:pt x="162" y="244"/>
                    </a:lnTo>
                    <a:lnTo>
                      <a:pt x="151" y="246"/>
                    </a:lnTo>
                    <a:lnTo>
                      <a:pt x="138" y="249"/>
                    </a:lnTo>
                    <a:lnTo>
                      <a:pt x="132" y="249"/>
                    </a:lnTo>
                    <a:lnTo>
                      <a:pt x="126" y="249"/>
                    </a:lnTo>
                    <a:lnTo>
                      <a:pt x="119" y="249"/>
                    </a:lnTo>
                    <a:lnTo>
                      <a:pt x="112" y="249"/>
                    </a:lnTo>
                    <a:lnTo>
                      <a:pt x="99" y="246"/>
                    </a:lnTo>
                    <a:lnTo>
                      <a:pt x="88" y="244"/>
                    </a:lnTo>
                    <a:lnTo>
                      <a:pt x="77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7" y="213"/>
                    </a:lnTo>
                    <a:lnTo>
                      <a:pt x="29" y="204"/>
                    </a:lnTo>
                    <a:lnTo>
                      <a:pt x="22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7" y="163"/>
                    </a:lnTo>
                    <a:lnTo>
                      <a:pt x="3" y="150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6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3" y="100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9" y="45"/>
                    </a:lnTo>
                    <a:lnTo>
                      <a:pt x="37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7" y="10"/>
                    </a:lnTo>
                    <a:lnTo>
                      <a:pt x="88" y="6"/>
                    </a:lnTo>
                    <a:lnTo>
                      <a:pt x="99" y="2"/>
                    </a:lnTo>
                    <a:lnTo>
                      <a:pt x="112" y="1"/>
                    </a:lnTo>
                    <a:lnTo>
                      <a:pt x="119" y="1"/>
                    </a:lnTo>
                    <a:lnTo>
                      <a:pt x="126" y="0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51" y="2"/>
                    </a:lnTo>
                    <a:lnTo>
                      <a:pt x="162" y="6"/>
                    </a:lnTo>
                    <a:lnTo>
                      <a:pt x="173" y="10"/>
                    </a:lnTo>
                    <a:lnTo>
                      <a:pt x="184" y="15"/>
                    </a:lnTo>
                    <a:lnTo>
                      <a:pt x="195" y="21"/>
                    </a:lnTo>
                    <a:lnTo>
                      <a:pt x="205" y="29"/>
                    </a:lnTo>
                    <a:lnTo>
                      <a:pt x="213" y="37"/>
                    </a:lnTo>
                    <a:lnTo>
                      <a:pt x="221" y="45"/>
                    </a:lnTo>
                    <a:lnTo>
                      <a:pt x="228" y="56"/>
                    </a:lnTo>
                    <a:lnTo>
                      <a:pt x="235" y="66"/>
                    </a:lnTo>
                    <a:lnTo>
                      <a:pt x="240" y="77"/>
                    </a:lnTo>
                    <a:lnTo>
                      <a:pt x="245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50" y="112"/>
                    </a:lnTo>
                    <a:lnTo>
                      <a:pt x="250" y="120"/>
                    </a:lnTo>
                    <a:lnTo>
                      <a:pt x="250" y="126"/>
                    </a:lnTo>
                    <a:lnTo>
                      <a:pt x="250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934520" y="3871440"/>
                <a:ext cx="927360" cy="5846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94280" y="4050720"/>
                <a:ext cx="28440" cy="6480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322720" y="4050720"/>
                <a:ext cx="28080" cy="64800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350800" y="4050720"/>
                <a:ext cx="28080" cy="64800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309760" y="4068360"/>
                <a:ext cx="75240" cy="636120"/>
              </a:xfrm>
              <a:custGeom>
                <a:avLst/>
                <a:gdLst/>
                <a:ahLst/>
                <a:rect l="l" t="t" r="r" b="b"/>
                <a:pathLst>
                  <a:path w="95" h="786">
                    <a:moveTo>
                      <a:pt x="90" y="786"/>
                    </a:moveTo>
                    <a:lnTo>
                      <a:pt x="4" y="786"/>
                    </a:lnTo>
                    <a:lnTo>
                      <a:pt x="2" y="785"/>
                    </a:lnTo>
                    <a:lnTo>
                      <a:pt x="1" y="784"/>
                    </a:lnTo>
                    <a:lnTo>
                      <a:pt x="0" y="782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4" y="2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779"/>
                    </a:lnTo>
                    <a:lnTo>
                      <a:pt x="94" y="782"/>
                    </a:lnTo>
                    <a:lnTo>
                      <a:pt x="93" y="784"/>
                    </a:lnTo>
                    <a:lnTo>
                      <a:pt x="91" y="785"/>
                    </a:lnTo>
                    <a:lnTo>
                      <a:pt x="90" y="78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628360" y="4601520"/>
                <a:ext cx="966960" cy="87120"/>
              </a:xfrm>
              <a:custGeom>
                <a:avLst/>
                <a:gdLst/>
                <a:ahLst/>
                <a:rect l="l" t="t" r="r" b="b"/>
                <a:pathLst>
                  <a:path w="1231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77" y="0"/>
                    </a:moveTo>
                    <a:lnTo>
                      <a:pt x="1077" y="104"/>
                    </a:lnTo>
                    <a:lnTo>
                      <a:pt x="1077" y="106"/>
                    </a:lnTo>
                    <a:lnTo>
                      <a:pt x="1077" y="107"/>
                    </a:lnTo>
                    <a:lnTo>
                      <a:pt x="1078" y="108"/>
                    </a:lnTo>
                    <a:lnTo>
                      <a:pt x="1080" y="108"/>
                    </a:lnTo>
                    <a:lnTo>
                      <a:pt x="1080" y="108"/>
                    </a:lnTo>
                    <a:lnTo>
                      <a:pt x="1229" y="108"/>
                    </a:lnTo>
                    <a:lnTo>
                      <a:pt x="1229" y="108"/>
                    </a:lnTo>
                    <a:lnTo>
                      <a:pt x="1230" y="107"/>
                    </a:lnTo>
                    <a:lnTo>
                      <a:pt x="1231" y="106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0"/>
                    </a:lnTo>
                    <a:lnTo>
                      <a:pt x="1077" y="0"/>
                    </a:lnTo>
                    <a:lnTo>
                      <a:pt x="1077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2628360" y="4601520"/>
                <a:ext cx="120960" cy="8712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3474720" y="4601520"/>
                <a:ext cx="120960" cy="8712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3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050720" y="3859920"/>
                <a:ext cx="479880" cy="4827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4050720" y="3859920"/>
                <a:ext cx="479880" cy="48276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4055400" y="4121640"/>
                <a:ext cx="474120" cy="22104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4055400" y="4121640"/>
                <a:ext cx="474120" cy="22104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5480" y="3858120"/>
                <a:ext cx="2225880" cy="856440"/>
              </a:xfrm>
              <a:custGeom>
                <a:avLst/>
                <a:gdLst/>
                <a:ahLst/>
                <a:rect l="l" t="t" r="r" b="b"/>
                <a:pathLst>
                  <a:path w="2835" h="1060">
                    <a:moveTo>
                      <a:pt x="175" y="1060"/>
                    </a:moveTo>
                    <a:lnTo>
                      <a:pt x="326" y="1060"/>
                    </a:lnTo>
                    <a:lnTo>
                      <a:pt x="327" y="1060"/>
                    </a:lnTo>
                    <a:lnTo>
                      <a:pt x="327" y="1058"/>
                    </a:lnTo>
                    <a:lnTo>
                      <a:pt x="327" y="1057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978"/>
                    </a:lnTo>
                    <a:lnTo>
                      <a:pt x="327" y="976"/>
                    </a:lnTo>
                    <a:lnTo>
                      <a:pt x="327" y="975"/>
                    </a:lnTo>
                    <a:lnTo>
                      <a:pt x="327" y="974"/>
                    </a:lnTo>
                    <a:lnTo>
                      <a:pt x="326" y="974"/>
                    </a:lnTo>
                    <a:lnTo>
                      <a:pt x="175" y="974"/>
                    </a:lnTo>
                    <a:lnTo>
                      <a:pt x="175" y="974"/>
                    </a:lnTo>
                    <a:lnTo>
                      <a:pt x="175" y="975"/>
                    </a:lnTo>
                    <a:lnTo>
                      <a:pt x="174" y="976"/>
                    </a:lnTo>
                    <a:lnTo>
                      <a:pt x="174" y="978"/>
                    </a:lnTo>
                    <a:lnTo>
                      <a:pt x="174" y="978"/>
                    </a:lnTo>
                    <a:lnTo>
                      <a:pt x="174" y="1056"/>
                    </a:lnTo>
                    <a:lnTo>
                      <a:pt x="174" y="1057"/>
                    </a:lnTo>
                    <a:lnTo>
                      <a:pt x="175" y="1058"/>
                    </a:lnTo>
                    <a:lnTo>
                      <a:pt x="175" y="1060"/>
                    </a:lnTo>
                    <a:lnTo>
                      <a:pt x="175" y="1060"/>
                    </a:lnTo>
                    <a:lnTo>
                      <a:pt x="175" y="1060"/>
                    </a:lnTo>
                    <a:close/>
                    <a:moveTo>
                      <a:pt x="362" y="1060"/>
                    </a:moveTo>
                    <a:lnTo>
                      <a:pt x="508" y="1060"/>
                    </a:lnTo>
                    <a:lnTo>
                      <a:pt x="510" y="1060"/>
                    </a:lnTo>
                    <a:lnTo>
                      <a:pt x="511" y="1058"/>
                    </a:lnTo>
                    <a:lnTo>
                      <a:pt x="512" y="1057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978"/>
                    </a:lnTo>
                    <a:lnTo>
                      <a:pt x="512" y="976"/>
                    </a:lnTo>
                    <a:lnTo>
                      <a:pt x="511" y="975"/>
                    </a:lnTo>
                    <a:lnTo>
                      <a:pt x="510" y="974"/>
                    </a:lnTo>
                    <a:lnTo>
                      <a:pt x="508" y="974"/>
                    </a:lnTo>
                    <a:lnTo>
                      <a:pt x="362" y="974"/>
                    </a:lnTo>
                    <a:lnTo>
                      <a:pt x="359" y="974"/>
                    </a:lnTo>
                    <a:lnTo>
                      <a:pt x="358" y="975"/>
                    </a:lnTo>
                    <a:lnTo>
                      <a:pt x="357" y="976"/>
                    </a:lnTo>
                    <a:lnTo>
                      <a:pt x="357" y="978"/>
                    </a:lnTo>
                    <a:lnTo>
                      <a:pt x="357" y="978"/>
                    </a:lnTo>
                    <a:lnTo>
                      <a:pt x="357" y="1056"/>
                    </a:lnTo>
                    <a:lnTo>
                      <a:pt x="357" y="1057"/>
                    </a:lnTo>
                    <a:lnTo>
                      <a:pt x="358" y="1058"/>
                    </a:lnTo>
                    <a:lnTo>
                      <a:pt x="359" y="1060"/>
                    </a:lnTo>
                    <a:lnTo>
                      <a:pt x="362" y="1060"/>
                    </a:lnTo>
                    <a:lnTo>
                      <a:pt x="362" y="1060"/>
                    </a:lnTo>
                    <a:close/>
                    <a:moveTo>
                      <a:pt x="545" y="1060"/>
                    </a:moveTo>
                    <a:lnTo>
                      <a:pt x="694" y="1060"/>
                    </a:lnTo>
                    <a:lnTo>
                      <a:pt x="694" y="1060"/>
                    </a:lnTo>
                    <a:lnTo>
                      <a:pt x="695" y="1058"/>
                    </a:lnTo>
                    <a:lnTo>
                      <a:pt x="696" y="1057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978"/>
                    </a:lnTo>
                    <a:lnTo>
                      <a:pt x="696" y="976"/>
                    </a:lnTo>
                    <a:lnTo>
                      <a:pt x="695" y="975"/>
                    </a:lnTo>
                    <a:lnTo>
                      <a:pt x="694" y="974"/>
                    </a:lnTo>
                    <a:lnTo>
                      <a:pt x="694" y="974"/>
                    </a:lnTo>
                    <a:lnTo>
                      <a:pt x="545" y="974"/>
                    </a:lnTo>
                    <a:lnTo>
                      <a:pt x="544" y="974"/>
                    </a:lnTo>
                    <a:lnTo>
                      <a:pt x="542" y="975"/>
                    </a:lnTo>
                    <a:lnTo>
                      <a:pt x="542" y="976"/>
                    </a:lnTo>
                    <a:lnTo>
                      <a:pt x="542" y="978"/>
                    </a:lnTo>
                    <a:lnTo>
                      <a:pt x="542" y="978"/>
                    </a:lnTo>
                    <a:lnTo>
                      <a:pt x="542" y="1056"/>
                    </a:lnTo>
                    <a:lnTo>
                      <a:pt x="542" y="1057"/>
                    </a:lnTo>
                    <a:lnTo>
                      <a:pt x="542" y="1058"/>
                    </a:lnTo>
                    <a:lnTo>
                      <a:pt x="544" y="1060"/>
                    </a:lnTo>
                    <a:lnTo>
                      <a:pt x="545" y="1060"/>
                    </a:lnTo>
                    <a:lnTo>
                      <a:pt x="545" y="1060"/>
                    </a:lnTo>
                    <a:close/>
                    <a:moveTo>
                      <a:pt x="730" y="1060"/>
                    </a:moveTo>
                    <a:lnTo>
                      <a:pt x="877" y="1060"/>
                    </a:lnTo>
                    <a:lnTo>
                      <a:pt x="879" y="1060"/>
                    </a:lnTo>
                    <a:lnTo>
                      <a:pt x="881" y="1058"/>
                    </a:lnTo>
                    <a:lnTo>
                      <a:pt x="882" y="1057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978"/>
                    </a:lnTo>
                    <a:lnTo>
                      <a:pt x="882" y="976"/>
                    </a:lnTo>
                    <a:lnTo>
                      <a:pt x="881" y="975"/>
                    </a:lnTo>
                    <a:lnTo>
                      <a:pt x="879" y="974"/>
                    </a:lnTo>
                    <a:lnTo>
                      <a:pt x="877" y="974"/>
                    </a:lnTo>
                    <a:lnTo>
                      <a:pt x="730" y="974"/>
                    </a:lnTo>
                    <a:lnTo>
                      <a:pt x="729" y="974"/>
                    </a:lnTo>
                    <a:lnTo>
                      <a:pt x="728" y="975"/>
                    </a:lnTo>
                    <a:lnTo>
                      <a:pt x="727" y="976"/>
                    </a:lnTo>
                    <a:lnTo>
                      <a:pt x="725" y="978"/>
                    </a:lnTo>
                    <a:lnTo>
                      <a:pt x="725" y="978"/>
                    </a:lnTo>
                    <a:lnTo>
                      <a:pt x="725" y="1056"/>
                    </a:lnTo>
                    <a:lnTo>
                      <a:pt x="727" y="1057"/>
                    </a:lnTo>
                    <a:lnTo>
                      <a:pt x="728" y="1058"/>
                    </a:lnTo>
                    <a:lnTo>
                      <a:pt x="729" y="1060"/>
                    </a:lnTo>
                    <a:lnTo>
                      <a:pt x="730" y="1060"/>
                    </a:lnTo>
                    <a:lnTo>
                      <a:pt x="730" y="1060"/>
                    </a:lnTo>
                    <a:close/>
                    <a:moveTo>
                      <a:pt x="913" y="1060"/>
                    </a:moveTo>
                    <a:lnTo>
                      <a:pt x="1061" y="1060"/>
                    </a:lnTo>
                    <a:lnTo>
                      <a:pt x="1062" y="1060"/>
                    </a:lnTo>
                    <a:lnTo>
                      <a:pt x="1064" y="1058"/>
                    </a:lnTo>
                    <a:lnTo>
                      <a:pt x="1065" y="1057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978"/>
                    </a:lnTo>
                    <a:lnTo>
                      <a:pt x="1065" y="976"/>
                    </a:lnTo>
                    <a:lnTo>
                      <a:pt x="1064" y="975"/>
                    </a:lnTo>
                    <a:lnTo>
                      <a:pt x="1062" y="974"/>
                    </a:lnTo>
                    <a:lnTo>
                      <a:pt x="1061" y="974"/>
                    </a:lnTo>
                    <a:lnTo>
                      <a:pt x="1061" y="974"/>
                    </a:lnTo>
                    <a:lnTo>
                      <a:pt x="913" y="974"/>
                    </a:lnTo>
                    <a:lnTo>
                      <a:pt x="912" y="974"/>
                    </a:lnTo>
                    <a:lnTo>
                      <a:pt x="912" y="975"/>
                    </a:lnTo>
                    <a:lnTo>
                      <a:pt x="912" y="976"/>
                    </a:lnTo>
                    <a:lnTo>
                      <a:pt x="912" y="978"/>
                    </a:lnTo>
                    <a:lnTo>
                      <a:pt x="912" y="978"/>
                    </a:lnTo>
                    <a:lnTo>
                      <a:pt x="912" y="1056"/>
                    </a:lnTo>
                    <a:lnTo>
                      <a:pt x="912" y="1057"/>
                    </a:lnTo>
                    <a:lnTo>
                      <a:pt x="912" y="1058"/>
                    </a:lnTo>
                    <a:lnTo>
                      <a:pt x="912" y="1060"/>
                    </a:lnTo>
                    <a:lnTo>
                      <a:pt x="913" y="1060"/>
                    </a:lnTo>
                    <a:lnTo>
                      <a:pt x="913" y="1060"/>
                    </a:lnTo>
                    <a:close/>
                    <a:moveTo>
                      <a:pt x="4" y="643"/>
                    </a:moveTo>
                    <a:lnTo>
                      <a:pt x="151" y="643"/>
                    </a:lnTo>
                    <a:lnTo>
                      <a:pt x="153" y="643"/>
                    </a:lnTo>
                    <a:lnTo>
                      <a:pt x="154" y="643"/>
                    </a:lnTo>
                    <a:lnTo>
                      <a:pt x="155" y="642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581"/>
                    </a:lnTo>
                    <a:lnTo>
                      <a:pt x="155" y="581"/>
                    </a:lnTo>
                    <a:lnTo>
                      <a:pt x="154" y="580"/>
                    </a:lnTo>
                    <a:lnTo>
                      <a:pt x="153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4" y="580"/>
                    </a:lnTo>
                    <a:lnTo>
                      <a:pt x="2" y="580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641"/>
                    </a:lnTo>
                    <a:lnTo>
                      <a:pt x="0" y="642"/>
                    </a:lnTo>
                    <a:lnTo>
                      <a:pt x="1" y="643"/>
                    </a:lnTo>
                    <a:lnTo>
                      <a:pt x="2" y="643"/>
                    </a:lnTo>
                    <a:lnTo>
                      <a:pt x="4" y="643"/>
                    </a:lnTo>
                    <a:lnTo>
                      <a:pt x="4" y="643"/>
                    </a:lnTo>
                    <a:close/>
                    <a:moveTo>
                      <a:pt x="352" y="643"/>
                    </a:moveTo>
                    <a:lnTo>
                      <a:pt x="466" y="643"/>
                    </a:lnTo>
                    <a:lnTo>
                      <a:pt x="467" y="643"/>
                    </a:lnTo>
                    <a:lnTo>
                      <a:pt x="468" y="643"/>
                    </a:lnTo>
                    <a:lnTo>
                      <a:pt x="470" y="642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581"/>
                    </a:lnTo>
                    <a:lnTo>
                      <a:pt x="470" y="581"/>
                    </a:lnTo>
                    <a:lnTo>
                      <a:pt x="468" y="580"/>
                    </a:lnTo>
                    <a:lnTo>
                      <a:pt x="467" y="580"/>
                    </a:lnTo>
                    <a:lnTo>
                      <a:pt x="466" y="580"/>
                    </a:lnTo>
                    <a:lnTo>
                      <a:pt x="466" y="580"/>
                    </a:lnTo>
                    <a:lnTo>
                      <a:pt x="352" y="580"/>
                    </a:lnTo>
                    <a:lnTo>
                      <a:pt x="351" y="580"/>
                    </a:lnTo>
                    <a:lnTo>
                      <a:pt x="349" y="580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641"/>
                    </a:lnTo>
                    <a:lnTo>
                      <a:pt x="348" y="642"/>
                    </a:lnTo>
                    <a:lnTo>
                      <a:pt x="349" y="643"/>
                    </a:lnTo>
                    <a:lnTo>
                      <a:pt x="351" y="643"/>
                    </a:lnTo>
                    <a:lnTo>
                      <a:pt x="352" y="643"/>
                    </a:lnTo>
                    <a:lnTo>
                      <a:pt x="352" y="643"/>
                    </a:lnTo>
                    <a:close/>
                    <a:moveTo>
                      <a:pt x="502" y="643"/>
                    </a:moveTo>
                    <a:lnTo>
                      <a:pt x="617" y="643"/>
                    </a:lnTo>
                    <a:lnTo>
                      <a:pt x="619" y="643"/>
                    </a:lnTo>
                    <a:lnTo>
                      <a:pt x="619" y="643"/>
                    </a:lnTo>
                    <a:lnTo>
                      <a:pt x="619" y="642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581"/>
                    </a:lnTo>
                    <a:lnTo>
                      <a:pt x="619" y="581"/>
                    </a:lnTo>
                    <a:lnTo>
                      <a:pt x="619" y="580"/>
                    </a:lnTo>
                    <a:lnTo>
                      <a:pt x="619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502" y="580"/>
                    </a:lnTo>
                    <a:lnTo>
                      <a:pt x="501" y="580"/>
                    </a:lnTo>
                    <a:lnTo>
                      <a:pt x="500" y="580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641"/>
                    </a:lnTo>
                    <a:lnTo>
                      <a:pt x="500" y="642"/>
                    </a:lnTo>
                    <a:lnTo>
                      <a:pt x="500" y="643"/>
                    </a:lnTo>
                    <a:lnTo>
                      <a:pt x="501" y="643"/>
                    </a:lnTo>
                    <a:lnTo>
                      <a:pt x="502" y="643"/>
                    </a:lnTo>
                    <a:lnTo>
                      <a:pt x="502" y="643"/>
                    </a:lnTo>
                    <a:close/>
                    <a:moveTo>
                      <a:pt x="651" y="643"/>
                    </a:moveTo>
                    <a:lnTo>
                      <a:pt x="767" y="643"/>
                    </a:lnTo>
                    <a:lnTo>
                      <a:pt x="768" y="643"/>
                    </a:lnTo>
                    <a:lnTo>
                      <a:pt x="769" y="643"/>
                    </a:lnTo>
                    <a:lnTo>
                      <a:pt x="770" y="642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581"/>
                    </a:lnTo>
                    <a:lnTo>
                      <a:pt x="770" y="581"/>
                    </a:lnTo>
                    <a:lnTo>
                      <a:pt x="769" y="580"/>
                    </a:lnTo>
                    <a:lnTo>
                      <a:pt x="768" y="580"/>
                    </a:lnTo>
                    <a:lnTo>
                      <a:pt x="767" y="580"/>
                    </a:lnTo>
                    <a:lnTo>
                      <a:pt x="767" y="580"/>
                    </a:lnTo>
                    <a:lnTo>
                      <a:pt x="651" y="580"/>
                    </a:lnTo>
                    <a:lnTo>
                      <a:pt x="651" y="580"/>
                    </a:lnTo>
                    <a:lnTo>
                      <a:pt x="650" y="580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641"/>
                    </a:lnTo>
                    <a:lnTo>
                      <a:pt x="649" y="642"/>
                    </a:lnTo>
                    <a:lnTo>
                      <a:pt x="650" y="643"/>
                    </a:lnTo>
                    <a:lnTo>
                      <a:pt x="651" y="643"/>
                    </a:lnTo>
                    <a:lnTo>
                      <a:pt x="651" y="643"/>
                    </a:lnTo>
                    <a:lnTo>
                      <a:pt x="651" y="643"/>
                    </a:lnTo>
                    <a:close/>
                    <a:moveTo>
                      <a:pt x="971" y="643"/>
                    </a:moveTo>
                    <a:lnTo>
                      <a:pt x="1086" y="643"/>
                    </a:lnTo>
                    <a:lnTo>
                      <a:pt x="1087" y="643"/>
                    </a:lnTo>
                    <a:lnTo>
                      <a:pt x="1087" y="643"/>
                    </a:lnTo>
                    <a:lnTo>
                      <a:pt x="1087" y="642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581"/>
                    </a:lnTo>
                    <a:lnTo>
                      <a:pt x="1087" y="581"/>
                    </a:lnTo>
                    <a:lnTo>
                      <a:pt x="1087" y="580"/>
                    </a:lnTo>
                    <a:lnTo>
                      <a:pt x="1087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971" y="580"/>
                    </a:lnTo>
                    <a:lnTo>
                      <a:pt x="970" y="580"/>
                    </a:lnTo>
                    <a:lnTo>
                      <a:pt x="968" y="580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641"/>
                    </a:lnTo>
                    <a:lnTo>
                      <a:pt x="968" y="642"/>
                    </a:lnTo>
                    <a:lnTo>
                      <a:pt x="968" y="643"/>
                    </a:lnTo>
                    <a:lnTo>
                      <a:pt x="970" y="643"/>
                    </a:lnTo>
                    <a:lnTo>
                      <a:pt x="971" y="643"/>
                    </a:lnTo>
                    <a:lnTo>
                      <a:pt x="971" y="643"/>
                    </a:lnTo>
                    <a:close/>
                    <a:moveTo>
                      <a:pt x="1120" y="643"/>
                    </a:moveTo>
                    <a:lnTo>
                      <a:pt x="1235" y="643"/>
                    </a:lnTo>
                    <a:lnTo>
                      <a:pt x="1236" y="643"/>
                    </a:lnTo>
                    <a:lnTo>
                      <a:pt x="1238" y="643"/>
                    </a:lnTo>
                    <a:lnTo>
                      <a:pt x="1239" y="642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581"/>
                    </a:lnTo>
                    <a:lnTo>
                      <a:pt x="1239" y="581"/>
                    </a:lnTo>
                    <a:lnTo>
                      <a:pt x="1238" y="580"/>
                    </a:lnTo>
                    <a:lnTo>
                      <a:pt x="1236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120" y="580"/>
                    </a:lnTo>
                    <a:lnTo>
                      <a:pt x="1120" y="580"/>
                    </a:lnTo>
                    <a:lnTo>
                      <a:pt x="1119" y="580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641"/>
                    </a:lnTo>
                    <a:lnTo>
                      <a:pt x="1117" y="642"/>
                    </a:lnTo>
                    <a:lnTo>
                      <a:pt x="1119" y="643"/>
                    </a:lnTo>
                    <a:lnTo>
                      <a:pt x="1120" y="643"/>
                    </a:lnTo>
                    <a:lnTo>
                      <a:pt x="1120" y="643"/>
                    </a:lnTo>
                    <a:lnTo>
                      <a:pt x="1120" y="643"/>
                    </a:lnTo>
                    <a:close/>
                    <a:moveTo>
                      <a:pt x="1120" y="338"/>
                    </a:moveTo>
                    <a:lnTo>
                      <a:pt x="1235" y="338"/>
                    </a:lnTo>
                    <a:lnTo>
                      <a:pt x="1236" y="338"/>
                    </a:lnTo>
                    <a:lnTo>
                      <a:pt x="1238" y="338"/>
                    </a:lnTo>
                    <a:lnTo>
                      <a:pt x="1239" y="336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277"/>
                    </a:lnTo>
                    <a:lnTo>
                      <a:pt x="1239" y="274"/>
                    </a:lnTo>
                    <a:lnTo>
                      <a:pt x="1238" y="274"/>
                    </a:lnTo>
                    <a:lnTo>
                      <a:pt x="1236" y="274"/>
                    </a:lnTo>
                    <a:lnTo>
                      <a:pt x="1235" y="274"/>
                    </a:lnTo>
                    <a:lnTo>
                      <a:pt x="1235" y="274"/>
                    </a:lnTo>
                    <a:lnTo>
                      <a:pt x="1120" y="274"/>
                    </a:lnTo>
                    <a:lnTo>
                      <a:pt x="1120" y="274"/>
                    </a:lnTo>
                    <a:lnTo>
                      <a:pt x="1119" y="274"/>
                    </a:lnTo>
                    <a:lnTo>
                      <a:pt x="1117" y="274"/>
                    </a:lnTo>
                    <a:lnTo>
                      <a:pt x="1117" y="277"/>
                    </a:lnTo>
                    <a:lnTo>
                      <a:pt x="1117" y="277"/>
                    </a:lnTo>
                    <a:lnTo>
                      <a:pt x="1117" y="335"/>
                    </a:lnTo>
                    <a:lnTo>
                      <a:pt x="1117" y="336"/>
                    </a:lnTo>
                    <a:lnTo>
                      <a:pt x="1119" y="338"/>
                    </a:lnTo>
                    <a:lnTo>
                      <a:pt x="1120" y="338"/>
                    </a:lnTo>
                    <a:lnTo>
                      <a:pt x="1120" y="338"/>
                    </a:lnTo>
                    <a:lnTo>
                      <a:pt x="1120" y="338"/>
                    </a:lnTo>
                    <a:close/>
                    <a:moveTo>
                      <a:pt x="971" y="338"/>
                    </a:moveTo>
                    <a:lnTo>
                      <a:pt x="1086" y="338"/>
                    </a:lnTo>
                    <a:lnTo>
                      <a:pt x="1087" y="338"/>
                    </a:lnTo>
                    <a:lnTo>
                      <a:pt x="1087" y="338"/>
                    </a:lnTo>
                    <a:lnTo>
                      <a:pt x="1087" y="336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277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6" y="274"/>
                    </a:lnTo>
                    <a:lnTo>
                      <a:pt x="1086" y="274"/>
                    </a:lnTo>
                    <a:lnTo>
                      <a:pt x="971" y="274"/>
                    </a:lnTo>
                    <a:lnTo>
                      <a:pt x="970" y="274"/>
                    </a:lnTo>
                    <a:lnTo>
                      <a:pt x="968" y="274"/>
                    </a:lnTo>
                    <a:lnTo>
                      <a:pt x="968" y="274"/>
                    </a:lnTo>
                    <a:lnTo>
                      <a:pt x="968" y="277"/>
                    </a:lnTo>
                    <a:lnTo>
                      <a:pt x="968" y="277"/>
                    </a:lnTo>
                    <a:lnTo>
                      <a:pt x="968" y="335"/>
                    </a:lnTo>
                    <a:lnTo>
                      <a:pt x="968" y="336"/>
                    </a:lnTo>
                    <a:lnTo>
                      <a:pt x="968" y="338"/>
                    </a:lnTo>
                    <a:lnTo>
                      <a:pt x="970" y="338"/>
                    </a:lnTo>
                    <a:lnTo>
                      <a:pt x="971" y="338"/>
                    </a:lnTo>
                    <a:lnTo>
                      <a:pt x="971" y="338"/>
                    </a:lnTo>
                    <a:close/>
                    <a:moveTo>
                      <a:pt x="651" y="338"/>
                    </a:moveTo>
                    <a:lnTo>
                      <a:pt x="767" y="338"/>
                    </a:lnTo>
                    <a:lnTo>
                      <a:pt x="768" y="338"/>
                    </a:lnTo>
                    <a:lnTo>
                      <a:pt x="769" y="338"/>
                    </a:lnTo>
                    <a:lnTo>
                      <a:pt x="770" y="336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277"/>
                    </a:lnTo>
                    <a:lnTo>
                      <a:pt x="770" y="274"/>
                    </a:lnTo>
                    <a:lnTo>
                      <a:pt x="769" y="274"/>
                    </a:lnTo>
                    <a:lnTo>
                      <a:pt x="768" y="274"/>
                    </a:lnTo>
                    <a:lnTo>
                      <a:pt x="767" y="274"/>
                    </a:lnTo>
                    <a:lnTo>
                      <a:pt x="651" y="274"/>
                    </a:lnTo>
                    <a:lnTo>
                      <a:pt x="651" y="274"/>
                    </a:lnTo>
                    <a:lnTo>
                      <a:pt x="650" y="274"/>
                    </a:lnTo>
                    <a:lnTo>
                      <a:pt x="649" y="274"/>
                    </a:lnTo>
                    <a:lnTo>
                      <a:pt x="649" y="277"/>
                    </a:lnTo>
                    <a:lnTo>
                      <a:pt x="649" y="277"/>
                    </a:lnTo>
                    <a:lnTo>
                      <a:pt x="649" y="335"/>
                    </a:lnTo>
                    <a:lnTo>
                      <a:pt x="649" y="336"/>
                    </a:lnTo>
                    <a:lnTo>
                      <a:pt x="650" y="338"/>
                    </a:lnTo>
                    <a:lnTo>
                      <a:pt x="651" y="338"/>
                    </a:lnTo>
                    <a:lnTo>
                      <a:pt x="651" y="338"/>
                    </a:lnTo>
                    <a:lnTo>
                      <a:pt x="651" y="338"/>
                    </a:lnTo>
                    <a:close/>
                    <a:moveTo>
                      <a:pt x="502" y="338"/>
                    </a:moveTo>
                    <a:lnTo>
                      <a:pt x="617" y="338"/>
                    </a:lnTo>
                    <a:lnTo>
                      <a:pt x="619" y="338"/>
                    </a:lnTo>
                    <a:lnTo>
                      <a:pt x="619" y="338"/>
                    </a:lnTo>
                    <a:lnTo>
                      <a:pt x="619" y="336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277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7" y="274"/>
                    </a:lnTo>
                    <a:lnTo>
                      <a:pt x="617" y="274"/>
                    </a:lnTo>
                    <a:lnTo>
                      <a:pt x="502" y="274"/>
                    </a:lnTo>
                    <a:lnTo>
                      <a:pt x="501" y="274"/>
                    </a:lnTo>
                    <a:lnTo>
                      <a:pt x="500" y="274"/>
                    </a:lnTo>
                    <a:lnTo>
                      <a:pt x="500" y="274"/>
                    </a:lnTo>
                    <a:lnTo>
                      <a:pt x="500" y="277"/>
                    </a:lnTo>
                    <a:lnTo>
                      <a:pt x="500" y="277"/>
                    </a:lnTo>
                    <a:lnTo>
                      <a:pt x="500" y="335"/>
                    </a:lnTo>
                    <a:lnTo>
                      <a:pt x="500" y="336"/>
                    </a:lnTo>
                    <a:lnTo>
                      <a:pt x="500" y="338"/>
                    </a:lnTo>
                    <a:lnTo>
                      <a:pt x="501" y="338"/>
                    </a:lnTo>
                    <a:lnTo>
                      <a:pt x="502" y="338"/>
                    </a:lnTo>
                    <a:lnTo>
                      <a:pt x="502" y="338"/>
                    </a:lnTo>
                    <a:close/>
                    <a:moveTo>
                      <a:pt x="352" y="338"/>
                    </a:moveTo>
                    <a:lnTo>
                      <a:pt x="466" y="338"/>
                    </a:lnTo>
                    <a:lnTo>
                      <a:pt x="467" y="338"/>
                    </a:lnTo>
                    <a:lnTo>
                      <a:pt x="468" y="338"/>
                    </a:lnTo>
                    <a:lnTo>
                      <a:pt x="470" y="336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277"/>
                    </a:lnTo>
                    <a:lnTo>
                      <a:pt x="470" y="274"/>
                    </a:lnTo>
                    <a:lnTo>
                      <a:pt x="468" y="274"/>
                    </a:lnTo>
                    <a:lnTo>
                      <a:pt x="467" y="274"/>
                    </a:lnTo>
                    <a:lnTo>
                      <a:pt x="466" y="274"/>
                    </a:lnTo>
                    <a:lnTo>
                      <a:pt x="352" y="274"/>
                    </a:lnTo>
                    <a:lnTo>
                      <a:pt x="351" y="274"/>
                    </a:lnTo>
                    <a:lnTo>
                      <a:pt x="349" y="274"/>
                    </a:lnTo>
                    <a:lnTo>
                      <a:pt x="348" y="274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335"/>
                    </a:lnTo>
                    <a:lnTo>
                      <a:pt x="348" y="336"/>
                    </a:lnTo>
                    <a:lnTo>
                      <a:pt x="349" y="338"/>
                    </a:lnTo>
                    <a:lnTo>
                      <a:pt x="351" y="338"/>
                    </a:lnTo>
                    <a:lnTo>
                      <a:pt x="352" y="338"/>
                    </a:lnTo>
                    <a:lnTo>
                      <a:pt x="352" y="338"/>
                    </a:lnTo>
                    <a:close/>
                    <a:moveTo>
                      <a:pt x="4" y="338"/>
                    </a:moveTo>
                    <a:lnTo>
                      <a:pt x="151" y="338"/>
                    </a:lnTo>
                    <a:lnTo>
                      <a:pt x="153" y="338"/>
                    </a:lnTo>
                    <a:lnTo>
                      <a:pt x="154" y="338"/>
                    </a:lnTo>
                    <a:lnTo>
                      <a:pt x="155" y="336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277"/>
                    </a:lnTo>
                    <a:lnTo>
                      <a:pt x="155" y="274"/>
                    </a:lnTo>
                    <a:lnTo>
                      <a:pt x="154" y="274"/>
                    </a:lnTo>
                    <a:lnTo>
                      <a:pt x="153" y="274"/>
                    </a:lnTo>
                    <a:lnTo>
                      <a:pt x="151" y="274"/>
                    </a:lnTo>
                    <a:lnTo>
                      <a:pt x="4" y="274"/>
                    </a:lnTo>
                    <a:lnTo>
                      <a:pt x="2" y="274"/>
                    </a:lnTo>
                    <a:lnTo>
                      <a:pt x="1" y="274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335"/>
                    </a:lnTo>
                    <a:lnTo>
                      <a:pt x="0" y="336"/>
                    </a:lnTo>
                    <a:lnTo>
                      <a:pt x="1" y="338"/>
                    </a:lnTo>
                    <a:lnTo>
                      <a:pt x="2" y="338"/>
                    </a:lnTo>
                    <a:lnTo>
                      <a:pt x="4" y="338"/>
                    </a:lnTo>
                    <a:lnTo>
                      <a:pt x="4" y="338"/>
                    </a:lnTo>
                    <a:close/>
                    <a:moveTo>
                      <a:pt x="1849" y="74"/>
                    </a:moveTo>
                    <a:lnTo>
                      <a:pt x="1849" y="156"/>
                    </a:lnTo>
                    <a:lnTo>
                      <a:pt x="1849" y="157"/>
                    </a:lnTo>
                    <a:lnTo>
                      <a:pt x="1850" y="157"/>
                    </a:lnTo>
                    <a:lnTo>
                      <a:pt x="1852" y="158"/>
                    </a:lnTo>
                    <a:lnTo>
                      <a:pt x="1853" y="158"/>
                    </a:lnTo>
                    <a:lnTo>
                      <a:pt x="1853" y="158"/>
                    </a:lnTo>
                    <a:lnTo>
                      <a:pt x="1912" y="158"/>
                    </a:lnTo>
                    <a:lnTo>
                      <a:pt x="1913" y="158"/>
                    </a:lnTo>
                    <a:lnTo>
                      <a:pt x="1914" y="157"/>
                    </a:lnTo>
                    <a:lnTo>
                      <a:pt x="1914" y="157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74"/>
                    </a:lnTo>
                    <a:lnTo>
                      <a:pt x="1914" y="72"/>
                    </a:lnTo>
                    <a:lnTo>
                      <a:pt x="1914" y="71"/>
                    </a:lnTo>
                    <a:lnTo>
                      <a:pt x="1913" y="71"/>
                    </a:lnTo>
                    <a:lnTo>
                      <a:pt x="1912" y="71"/>
                    </a:lnTo>
                    <a:lnTo>
                      <a:pt x="1912" y="71"/>
                    </a:lnTo>
                    <a:lnTo>
                      <a:pt x="1853" y="71"/>
                    </a:lnTo>
                    <a:lnTo>
                      <a:pt x="1852" y="71"/>
                    </a:lnTo>
                    <a:lnTo>
                      <a:pt x="1850" y="71"/>
                    </a:lnTo>
                    <a:lnTo>
                      <a:pt x="1849" y="72"/>
                    </a:lnTo>
                    <a:lnTo>
                      <a:pt x="1849" y="74"/>
                    </a:lnTo>
                    <a:lnTo>
                      <a:pt x="1849" y="74"/>
                    </a:lnTo>
                    <a:close/>
                    <a:moveTo>
                      <a:pt x="1968" y="0"/>
                    </a:moveTo>
                    <a:lnTo>
                      <a:pt x="1968" y="80"/>
                    </a:lnTo>
                    <a:lnTo>
                      <a:pt x="1969" y="83"/>
                    </a:lnTo>
                    <a:lnTo>
                      <a:pt x="1969" y="84"/>
                    </a:lnTo>
                    <a:lnTo>
                      <a:pt x="1972" y="85"/>
                    </a:lnTo>
                    <a:lnTo>
                      <a:pt x="1973" y="85"/>
                    </a:lnTo>
                    <a:lnTo>
                      <a:pt x="1973" y="85"/>
                    </a:lnTo>
                    <a:lnTo>
                      <a:pt x="2066" y="85"/>
                    </a:lnTo>
                    <a:lnTo>
                      <a:pt x="2067" y="85"/>
                    </a:lnTo>
                    <a:lnTo>
                      <a:pt x="2068" y="84"/>
                    </a:lnTo>
                    <a:lnTo>
                      <a:pt x="2070" y="83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0"/>
                    </a:lnTo>
                    <a:lnTo>
                      <a:pt x="1968" y="0"/>
                    </a:lnTo>
                    <a:lnTo>
                      <a:pt x="1968" y="0"/>
                    </a:lnTo>
                    <a:close/>
                    <a:moveTo>
                      <a:pt x="2010" y="190"/>
                    </a:moveTo>
                    <a:lnTo>
                      <a:pt x="2010" y="274"/>
                    </a:lnTo>
                    <a:lnTo>
                      <a:pt x="2010" y="274"/>
                    </a:lnTo>
                    <a:lnTo>
                      <a:pt x="2011" y="276"/>
                    </a:lnTo>
                    <a:lnTo>
                      <a:pt x="2012" y="276"/>
                    </a:lnTo>
                    <a:lnTo>
                      <a:pt x="2013" y="277"/>
                    </a:lnTo>
                    <a:lnTo>
                      <a:pt x="2013" y="277"/>
                    </a:lnTo>
                    <a:lnTo>
                      <a:pt x="2072" y="277"/>
                    </a:lnTo>
                    <a:lnTo>
                      <a:pt x="2073" y="276"/>
                    </a:lnTo>
                    <a:lnTo>
                      <a:pt x="2075" y="276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190"/>
                    </a:lnTo>
                    <a:lnTo>
                      <a:pt x="2075" y="189"/>
                    </a:lnTo>
                    <a:lnTo>
                      <a:pt x="2075" y="187"/>
                    </a:lnTo>
                    <a:lnTo>
                      <a:pt x="2073" y="187"/>
                    </a:lnTo>
                    <a:lnTo>
                      <a:pt x="2072" y="187"/>
                    </a:lnTo>
                    <a:lnTo>
                      <a:pt x="2013" y="187"/>
                    </a:lnTo>
                    <a:lnTo>
                      <a:pt x="2012" y="187"/>
                    </a:lnTo>
                    <a:lnTo>
                      <a:pt x="2011" y="187"/>
                    </a:lnTo>
                    <a:lnTo>
                      <a:pt x="2010" y="189"/>
                    </a:lnTo>
                    <a:lnTo>
                      <a:pt x="2010" y="190"/>
                    </a:lnTo>
                    <a:lnTo>
                      <a:pt x="2010" y="190"/>
                    </a:lnTo>
                    <a:close/>
                    <a:moveTo>
                      <a:pt x="2127" y="190"/>
                    </a:moveTo>
                    <a:lnTo>
                      <a:pt x="2127" y="274"/>
                    </a:lnTo>
                    <a:lnTo>
                      <a:pt x="2127" y="274"/>
                    </a:lnTo>
                    <a:lnTo>
                      <a:pt x="2129" y="276"/>
                    </a:lnTo>
                    <a:lnTo>
                      <a:pt x="2130" y="276"/>
                    </a:lnTo>
                    <a:lnTo>
                      <a:pt x="2131" y="277"/>
                    </a:lnTo>
                    <a:lnTo>
                      <a:pt x="2131" y="277"/>
                    </a:lnTo>
                    <a:lnTo>
                      <a:pt x="2190" y="277"/>
                    </a:lnTo>
                    <a:lnTo>
                      <a:pt x="2192" y="276"/>
                    </a:lnTo>
                    <a:lnTo>
                      <a:pt x="2194" y="276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190"/>
                    </a:lnTo>
                    <a:lnTo>
                      <a:pt x="2195" y="189"/>
                    </a:lnTo>
                    <a:lnTo>
                      <a:pt x="2194" y="187"/>
                    </a:lnTo>
                    <a:lnTo>
                      <a:pt x="2192" y="187"/>
                    </a:lnTo>
                    <a:lnTo>
                      <a:pt x="2190" y="187"/>
                    </a:lnTo>
                    <a:lnTo>
                      <a:pt x="2131" y="187"/>
                    </a:lnTo>
                    <a:lnTo>
                      <a:pt x="2130" y="187"/>
                    </a:lnTo>
                    <a:lnTo>
                      <a:pt x="2129" y="187"/>
                    </a:lnTo>
                    <a:lnTo>
                      <a:pt x="2127" y="189"/>
                    </a:lnTo>
                    <a:lnTo>
                      <a:pt x="2127" y="190"/>
                    </a:lnTo>
                    <a:lnTo>
                      <a:pt x="2127" y="190"/>
                    </a:lnTo>
                    <a:close/>
                    <a:moveTo>
                      <a:pt x="2270" y="190"/>
                    </a:moveTo>
                    <a:lnTo>
                      <a:pt x="2270" y="274"/>
                    </a:lnTo>
                    <a:lnTo>
                      <a:pt x="2270" y="274"/>
                    </a:lnTo>
                    <a:lnTo>
                      <a:pt x="2271" y="276"/>
                    </a:lnTo>
                    <a:lnTo>
                      <a:pt x="2273" y="276"/>
                    </a:lnTo>
                    <a:lnTo>
                      <a:pt x="2274" y="277"/>
                    </a:lnTo>
                    <a:lnTo>
                      <a:pt x="2274" y="277"/>
                    </a:lnTo>
                    <a:lnTo>
                      <a:pt x="2333" y="277"/>
                    </a:lnTo>
                    <a:lnTo>
                      <a:pt x="2334" y="276"/>
                    </a:lnTo>
                    <a:lnTo>
                      <a:pt x="2337" y="276"/>
                    </a:lnTo>
                    <a:lnTo>
                      <a:pt x="2337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190"/>
                    </a:lnTo>
                    <a:lnTo>
                      <a:pt x="2337" y="189"/>
                    </a:lnTo>
                    <a:lnTo>
                      <a:pt x="2337" y="187"/>
                    </a:lnTo>
                    <a:lnTo>
                      <a:pt x="2334" y="187"/>
                    </a:lnTo>
                    <a:lnTo>
                      <a:pt x="2333" y="187"/>
                    </a:lnTo>
                    <a:lnTo>
                      <a:pt x="2274" y="187"/>
                    </a:lnTo>
                    <a:lnTo>
                      <a:pt x="2273" y="187"/>
                    </a:lnTo>
                    <a:lnTo>
                      <a:pt x="2271" y="187"/>
                    </a:lnTo>
                    <a:lnTo>
                      <a:pt x="2270" y="189"/>
                    </a:lnTo>
                    <a:lnTo>
                      <a:pt x="2270" y="190"/>
                    </a:lnTo>
                    <a:lnTo>
                      <a:pt x="2270" y="190"/>
                    </a:lnTo>
                    <a:close/>
                    <a:moveTo>
                      <a:pt x="2270" y="0"/>
                    </a:moveTo>
                    <a:lnTo>
                      <a:pt x="2270" y="80"/>
                    </a:lnTo>
                    <a:lnTo>
                      <a:pt x="2270" y="83"/>
                    </a:lnTo>
                    <a:lnTo>
                      <a:pt x="2271" y="84"/>
                    </a:lnTo>
                    <a:lnTo>
                      <a:pt x="2273" y="85"/>
                    </a:lnTo>
                    <a:lnTo>
                      <a:pt x="2274" y="85"/>
                    </a:lnTo>
                    <a:lnTo>
                      <a:pt x="2274" y="85"/>
                    </a:lnTo>
                    <a:lnTo>
                      <a:pt x="2367" y="85"/>
                    </a:lnTo>
                    <a:lnTo>
                      <a:pt x="2369" y="85"/>
                    </a:lnTo>
                    <a:lnTo>
                      <a:pt x="2370" y="84"/>
                    </a:lnTo>
                    <a:lnTo>
                      <a:pt x="2372" y="83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0"/>
                    </a:lnTo>
                    <a:lnTo>
                      <a:pt x="2270" y="0"/>
                    </a:lnTo>
                    <a:lnTo>
                      <a:pt x="2270" y="0"/>
                    </a:lnTo>
                    <a:close/>
                    <a:moveTo>
                      <a:pt x="2322" y="397"/>
                    </a:moveTo>
                    <a:lnTo>
                      <a:pt x="2322" y="392"/>
                    </a:lnTo>
                    <a:lnTo>
                      <a:pt x="2320" y="388"/>
                    </a:lnTo>
                    <a:lnTo>
                      <a:pt x="2318" y="383"/>
                    </a:lnTo>
                    <a:lnTo>
                      <a:pt x="2314" y="379"/>
                    </a:lnTo>
                    <a:lnTo>
                      <a:pt x="2310" y="377"/>
                    </a:lnTo>
                    <a:lnTo>
                      <a:pt x="2306" y="374"/>
                    </a:lnTo>
                    <a:lnTo>
                      <a:pt x="2301" y="373"/>
                    </a:lnTo>
                    <a:lnTo>
                      <a:pt x="2296" y="372"/>
                    </a:lnTo>
                    <a:lnTo>
                      <a:pt x="2291" y="373"/>
                    </a:lnTo>
                    <a:lnTo>
                      <a:pt x="2288" y="374"/>
                    </a:lnTo>
                    <a:lnTo>
                      <a:pt x="2283" y="377"/>
                    </a:lnTo>
                    <a:lnTo>
                      <a:pt x="2279" y="379"/>
                    </a:lnTo>
                    <a:lnTo>
                      <a:pt x="2276" y="383"/>
                    </a:lnTo>
                    <a:lnTo>
                      <a:pt x="2274" y="388"/>
                    </a:lnTo>
                    <a:lnTo>
                      <a:pt x="2273" y="392"/>
                    </a:lnTo>
                    <a:lnTo>
                      <a:pt x="2271" y="397"/>
                    </a:lnTo>
                    <a:lnTo>
                      <a:pt x="2273" y="402"/>
                    </a:lnTo>
                    <a:lnTo>
                      <a:pt x="2274" y="407"/>
                    </a:lnTo>
                    <a:lnTo>
                      <a:pt x="2276" y="411"/>
                    </a:lnTo>
                    <a:lnTo>
                      <a:pt x="2279" y="415"/>
                    </a:lnTo>
                    <a:lnTo>
                      <a:pt x="2283" y="418"/>
                    </a:lnTo>
                    <a:lnTo>
                      <a:pt x="2288" y="420"/>
                    </a:lnTo>
                    <a:lnTo>
                      <a:pt x="2291" y="422"/>
                    </a:lnTo>
                    <a:lnTo>
                      <a:pt x="2296" y="422"/>
                    </a:lnTo>
                    <a:lnTo>
                      <a:pt x="2301" y="422"/>
                    </a:lnTo>
                    <a:lnTo>
                      <a:pt x="2306" y="420"/>
                    </a:lnTo>
                    <a:lnTo>
                      <a:pt x="2310" y="418"/>
                    </a:lnTo>
                    <a:lnTo>
                      <a:pt x="2314" y="415"/>
                    </a:lnTo>
                    <a:lnTo>
                      <a:pt x="2318" y="411"/>
                    </a:lnTo>
                    <a:lnTo>
                      <a:pt x="2320" y="407"/>
                    </a:lnTo>
                    <a:lnTo>
                      <a:pt x="2322" y="402"/>
                    </a:lnTo>
                    <a:lnTo>
                      <a:pt x="2322" y="397"/>
                    </a:lnTo>
                    <a:lnTo>
                      <a:pt x="2322" y="397"/>
                    </a:lnTo>
                    <a:close/>
                    <a:moveTo>
                      <a:pt x="2251" y="547"/>
                    </a:moveTo>
                    <a:lnTo>
                      <a:pt x="2367" y="547"/>
                    </a:lnTo>
                    <a:lnTo>
                      <a:pt x="2369" y="547"/>
                    </a:lnTo>
                    <a:lnTo>
                      <a:pt x="2370" y="547"/>
                    </a:lnTo>
                    <a:lnTo>
                      <a:pt x="2372" y="547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495"/>
                    </a:lnTo>
                    <a:lnTo>
                      <a:pt x="2372" y="495"/>
                    </a:lnTo>
                    <a:lnTo>
                      <a:pt x="2370" y="494"/>
                    </a:lnTo>
                    <a:lnTo>
                      <a:pt x="2369" y="493"/>
                    </a:lnTo>
                    <a:lnTo>
                      <a:pt x="2367" y="493"/>
                    </a:lnTo>
                    <a:lnTo>
                      <a:pt x="2251" y="493"/>
                    </a:lnTo>
                    <a:lnTo>
                      <a:pt x="2251" y="493"/>
                    </a:lnTo>
                    <a:lnTo>
                      <a:pt x="2250" y="494"/>
                    </a:lnTo>
                    <a:lnTo>
                      <a:pt x="2250" y="495"/>
                    </a:lnTo>
                    <a:lnTo>
                      <a:pt x="2249" y="495"/>
                    </a:lnTo>
                    <a:lnTo>
                      <a:pt x="2249" y="495"/>
                    </a:lnTo>
                    <a:lnTo>
                      <a:pt x="2249" y="546"/>
                    </a:lnTo>
                    <a:lnTo>
                      <a:pt x="2250" y="547"/>
                    </a:lnTo>
                    <a:lnTo>
                      <a:pt x="2250" y="547"/>
                    </a:lnTo>
                    <a:lnTo>
                      <a:pt x="2251" y="547"/>
                    </a:lnTo>
                    <a:lnTo>
                      <a:pt x="2251" y="547"/>
                    </a:lnTo>
                    <a:lnTo>
                      <a:pt x="2251" y="547"/>
                    </a:lnTo>
                    <a:close/>
                    <a:moveTo>
                      <a:pt x="2063" y="547"/>
                    </a:moveTo>
                    <a:lnTo>
                      <a:pt x="2179" y="547"/>
                    </a:lnTo>
                    <a:lnTo>
                      <a:pt x="2180" y="547"/>
                    </a:lnTo>
                    <a:lnTo>
                      <a:pt x="2181" y="547"/>
                    </a:lnTo>
                    <a:lnTo>
                      <a:pt x="2181" y="547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495"/>
                    </a:lnTo>
                    <a:lnTo>
                      <a:pt x="2181" y="495"/>
                    </a:lnTo>
                    <a:lnTo>
                      <a:pt x="2181" y="494"/>
                    </a:lnTo>
                    <a:lnTo>
                      <a:pt x="2180" y="493"/>
                    </a:lnTo>
                    <a:lnTo>
                      <a:pt x="2179" y="493"/>
                    </a:lnTo>
                    <a:lnTo>
                      <a:pt x="2179" y="493"/>
                    </a:lnTo>
                    <a:lnTo>
                      <a:pt x="2063" y="493"/>
                    </a:lnTo>
                    <a:lnTo>
                      <a:pt x="2062" y="493"/>
                    </a:lnTo>
                    <a:lnTo>
                      <a:pt x="2062" y="494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546"/>
                    </a:lnTo>
                    <a:lnTo>
                      <a:pt x="2061" y="547"/>
                    </a:lnTo>
                    <a:lnTo>
                      <a:pt x="2062" y="547"/>
                    </a:lnTo>
                    <a:lnTo>
                      <a:pt x="2062" y="547"/>
                    </a:lnTo>
                    <a:lnTo>
                      <a:pt x="2063" y="547"/>
                    </a:lnTo>
                    <a:lnTo>
                      <a:pt x="2063" y="547"/>
                    </a:lnTo>
                    <a:close/>
                    <a:moveTo>
                      <a:pt x="1875" y="547"/>
                    </a:moveTo>
                    <a:lnTo>
                      <a:pt x="1989" y="547"/>
                    </a:lnTo>
                    <a:lnTo>
                      <a:pt x="1991" y="547"/>
                    </a:lnTo>
                    <a:lnTo>
                      <a:pt x="1992" y="547"/>
                    </a:lnTo>
                    <a:lnTo>
                      <a:pt x="1993" y="547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495"/>
                    </a:lnTo>
                    <a:lnTo>
                      <a:pt x="1993" y="495"/>
                    </a:lnTo>
                    <a:lnTo>
                      <a:pt x="1992" y="494"/>
                    </a:lnTo>
                    <a:lnTo>
                      <a:pt x="1991" y="493"/>
                    </a:lnTo>
                    <a:lnTo>
                      <a:pt x="1989" y="493"/>
                    </a:lnTo>
                    <a:lnTo>
                      <a:pt x="1989" y="493"/>
                    </a:lnTo>
                    <a:lnTo>
                      <a:pt x="1875" y="493"/>
                    </a:lnTo>
                    <a:lnTo>
                      <a:pt x="1874" y="493"/>
                    </a:lnTo>
                    <a:lnTo>
                      <a:pt x="1873" y="494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546"/>
                    </a:lnTo>
                    <a:lnTo>
                      <a:pt x="1872" y="547"/>
                    </a:lnTo>
                    <a:lnTo>
                      <a:pt x="1873" y="547"/>
                    </a:lnTo>
                    <a:lnTo>
                      <a:pt x="1874" y="547"/>
                    </a:lnTo>
                    <a:lnTo>
                      <a:pt x="1875" y="547"/>
                    </a:lnTo>
                    <a:lnTo>
                      <a:pt x="1875" y="547"/>
                    </a:lnTo>
                    <a:close/>
                    <a:moveTo>
                      <a:pt x="1968" y="397"/>
                    </a:moveTo>
                    <a:lnTo>
                      <a:pt x="1968" y="392"/>
                    </a:lnTo>
                    <a:lnTo>
                      <a:pt x="1967" y="388"/>
                    </a:lnTo>
                    <a:lnTo>
                      <a:pt x="1964" y="383"/>
                    </a:lnTo>
                    <a:lnTo>
                      <a:pt x="1962" y="379"/>
                    </a:lnTo>
                    <a:lnTo>
                      <a:pt x="1958" y="377"/>
                    </a:lnTo>
                    <a:lnTo>
                      <a:pt x="1954" y="374"/>
                    </a:lnTo>
                    <a:lnTo>
                      <a:pt x="1949" y="373"/>
                    </a:lnTo>
                    <a:lnTo>
                      <a:pt x="1943" y="372"/>
                    </a:lnTo>
                    <a:lnTo>
                      <a:pt x="1939" y="373"/>
                    </a:lnTo>
                    <a:lnTo>
                      <a:pt x="1934" y="374"/>
                    </a:lnTo>
                    <a:lnTo>
                      <a:pt x="1931" y="377"/>
                    </a:lnTo>
                    <a:lnTo>
                      <a:pt x="1927" y="379"/>
                    </a:lnTo>
                    <a:lnTo>
                      <a:pt x="1924" y="383"/>
                    </a:lnTo>
                    <a:lnTo>
                      <a:pt x="1923" y="388"/>
                    </a:lnTo>
                    <a:lnTo>
                      <a:pt x="1922" y="392"/>
                    </a:lnTo>
                    <a:lnTo>
                      <a:pt x="1921" y="397"/>
                    </a:lnTo>
                    <a:lnTo>
                      <a:pt x="1922" y="402"/>
                    </a:lnTo>
                    <a:lnTo>
                      <a:pt x="1923" y="407"/>
                    </a:lnTo>
                    <a:lnTo>
                      <a:pt x="1924" y="411"/>
                    </a:lnTo>
                    <a:lnTo>
                      <a:pt x="1927" y="415"/>
                    </a:lnTo>
                    <a:lnTo>
                      <a:pt x="1931" y="418"/>
                    </a:lnTo>
                    <a:lnTo>
                      <a:pt x="1934" y="420"/>
                    </a:lnTo>
                    <a:lnTo>
                      <a:pt x="1939" y="422"/>
                    </a:lnTo>
                    <a:lnTo>
                      <a:pt x="1943" y="422"/>
                    </a:lnTo>
                    <a:lnTo>
                      <a:pt x="1949" y="422"/>
                    </a:lnTo>
                    <a:lnTo>
                      <a:pt x="1954" y="420"/>
                    </a:lnTo>
                    <a:lnTo>
                      <a:pt x="1958" y="418"/>
                    </a:lnTo>
                    <a:lnTo>
                      <a:pt x="1962" y="415"/>
                    </a:lnTo>
                    <a:lnTo>
                      <a:pt x="1964" y="411"/>
                    </a:lnTo>
                    <a:lnTo>
                      <a:pt x="1967" y="407"/>
                    </a:lnTo>
                    <a:lnTo>
                      <a:pt x="1968" y="402"/>
                    </a:lnTo>
                    <a:lnTo>
                      <a:pt x="1968" y="397"/>
                    </a:lnTo>
                    <a:lnTo>
                      <a:pt x="1968" y="397"/>
                    </a:lnTo>
                    <a:close/>
                    <a:moveTo>
                      <a:pt x="2835" y="295"/>
                    </a:moveTo>
                    <a:lnTo>
                      <a:pt x="2835" y="290"/>
                    </a:lnTo>
                    <a:lnTo>
                      <a:pt x="2834" y="285"/>
                    </a:lnTo>
                    <a:lnTo>
                      <a:pt x="2831" y="281"/>
                    </a:lnTo>
                    <a:lnTo>
                      <a:pt x="2828" y="277"/>
                    </a:lnTo>
                    <a:lnTo>
                      <a:pt x="2824" y="274"/>
                    </a:lnTo>
                    <a:lnTo>
                      <a:pt x="2820" y="272"/>
                    </a:lnTo>
                    <a:lnTo>
                      <a:pt x="2815" y="271"/>
                    </a:lnTo>
                    <a:lnTo>
                      <a:pt x="2810" y="269"/>
                    </a:lnTo>
                    <a:lnTo>
                      <a:pt x="2805" y="271"/>
                    </a:lnTo>
                    <a:lnTo>
                      <a:pt x="2801" y="272"/>
                    </a:lnTo>
                    <a:lnTo>
                      <a:pt x="2796" y="274"/>
                    </a:lnTo>
                    <a:lnTo>
                      <a:pt x="2793" y="277"/>
                    </a:lnTo>
                    <a:lnTo>
                      <a:pt x="2790" y="281"/>
                    </a:lnTo>
                    <a:lnTo>
                      <a:pt x="2788" y="285"/>
                    </a:lnTo>
                    <a:lnTo>
                      <a:pt x="2786" y="290"/>
                    </a:lnTo>
                    <a:lnTo>
                      <a:pt x="2785" y="295"/>
                    </a:lnTo>
                    <a:lnTo>
                      <a:pt x="2786" y="300"/>
                    </a:lnTo>
                    <a:lnTo>
                      <a:pt x="2788" y="305"/>
                    </a:lnTo>
                    <a:lnTo>
                      <a:pt x="2790" y="309"/>
                    </a:lnTo>
                    <a:lnTo>
                      <a:pt x="2793" y="312"/>
                    </a:lnTo>
                    <a:lnTo>
                      <a:pt x="2796" y="315"/>
                    </a:lnTo>
                    <a:lnTo>
                      <a:pt x="2801" y="317"/>
                    </a:lnTo>
                    <a:lnTo>
                      <a:pt x="2805" y="319"/>
                    </a:lnTo>
                    <a:lnTo>
                      <a:pt x="2810" y="320"/>
                    </a:lnTo>
                    <a:lnTo>
                      <a:pt x="2815" y="319"/>
                    </a:lnTo>
                    <a:lnTo>
                      <a:pt x="2820" y="317"/>
                    </a:lnTo>
                    <a:lnTo>
                      <a:pt x="2824" y="315"/>
                    </a:lnTo>
                    <a:lnTo>
                      <a:pt x="2828" y="312"/>
                    </a:lnTo>
                    <a:lnTo>
                      <a:pt x="2831" y="309"/>
                    </a:lnTo>
                    <a:lnTo>
                      <a:pt x="2834" y="305"/>
                    </a:lnTo>
                    <a:lnTo>
                      <a:pt x="2835" y="300"/>
                    </a:lnTo>
                    <a:lnTo>
                      <a:pt x="2835" y="295"/>
                    </a:lnTo>
                    <a:lnTo>
                      <a:pt x="2835" y="295"/>
                    </a:lnTo>
                    <a:close/>
                    <a:moveTo>
                      <a:pt x="2835" y="473"/>
                    </a:moveTo>
                    <a:lnTo>
                      <a:pt x="2835" y="468"/>
                    </a:lnTo>
                    <a:lnTo>
                      <a:pt x="2834" y="463"/>
                    </a:lnTo>
                    <a:lnTo>
                      <a:pt x="2831" y="459"/>
                    </a:lnTo>
                    <a:lnTo>
                      <a:pt x="2828" y="455"/>
                    </a:lnTo>
                    <a:lnTo>
                      <a:pt x="2824" y="451"/>
                    </a:lnTo>
                    <a:lnTo>
                      <a:pt x="2820" y="449"/>
                    </a:lnTo>
                    <a:lnTo>
                      <a:pt x="2815" y="447"/>
                    </a:lnTo>
                    <a:lnTo>
                      <a:pt x="2810" y="447"/>
                    </a:lnTo>
                    <a:lnTo>
                      <a:pt x="2805" y="447"/>
                    </a:lnTo>
                    <a:lnTo>
                      <a:pt x="2801" y="449"/>
                    </a:lnTo>
                    <a:lnTo>
                      <a:pt x="2796" y="451"/>
                    </a:lnTo>
                    <a:lnTo>
                      <a:pt x="2793" y="455"/>
                    </a:lnTo>
                    <a:lnTo>
                      <a:pt x="2790" y="459"/>
                    </a:lnTo>
                    <a:lnTo>
                      <a:pt x="2788" y="463"/>
                    </a:lnTo>
                    <a:lnTo>
                      <a:pt x="2786" y="468"/>
                    </a:lnTo>
                    <a:lnTo>
                      <a:pt x="2785" y="473"/>
                    </a:lnTo>
                    <a:lnTo>
                      <a:pt x="2786" y="478"/>
                    </a:lnTo>
                    <a:lnTo>
                      <a:pt x="2788" y="481"/>
                    </a:lnTo>
                    <a:lnTo>
                      <a:pt x="2790" y="487"/>
                    </a:lnTo>
                    <a:lnTo>
                      <a:pt x="2793" y="490"/>
                    </a:lnTo>
                    <a:lnTo>
                      <a:pt x="2796" y="493"/>
                    </a:lnTo>
                    <a:lnTo>
                      <a:pt x="2801" y="495"/>
                    </a:lnTo>
                    <a:lnTo>
                      <a:pt x="2805" y="497"/>
                    </a:lnTo>
                    <a:lnTo>
                      <a:pt x="2810" y="498"/>
                    </a:lnTo>
                    <a:lnTo>
                      <a:pt x="2815" y="497"/>
                    </a:lnTo>
                    <a:lnTo>
                      <a:pt x="2820" y="495"/>
                    </a:lnTo>
                    <a:lnTo>
                      <a:pt x="2824" y="493"/>
                    </a:lnTo>
                    <a:lnTo>
                      <a:pt x="2828" y="490"/>
                    </a:lnTo>
                    <a:lnTo>
                      <a:pt x="2831" y="487"/>
                    </a:lnTo>
                    <a:lnTo>
                      <a:pt x="2834" y="481"/>
                    </a:lnTo>
                    <a:lnTo>
                      <a:pt x="2835" y="478"/>
                    </a:lnTo>
                    <a:lnTo>
                      <a:pt x="2835" y="473"/>
                    </a:lnTo>
                    <a:lnTo>
                      <a:pt x="2835" y="473"/>
                    </a:lnTo>
                    <a:close/>
                    <a:moveTo>
                      <a:pt x="2835" y="651"/>
                    </a:moveTo>
                    <a:lnTo>
                      <a:pt x="2835" y="646"/>
                    </a:lnTo>
                    <a:lnTo>
                      <a:pt x="2834" y="641"/>
                    </a:lnTo>
                    <a:lnTo>
                      <a:pt x="2831" y="636"/>
                    </a:lnTo>
                    <a:lnTo>
                      <a:pt x="2828" y="633"/>
                    </a:lnTo>
                    <a:lnTo>
                      <a:pt x="2824" y="629"/>
                    </a:lnTo>
                    <a:lnTo>
                      <a:pt x="2820" y="627"/>
                    </a:lnTo>
                    <a:lnTo>
                      <a:pt x="2815" y="625"/>
                    </a:lnTo>
                    <a:lnTo>
                      <a:pt x="2810" y="625"/>
                    </a:lnTo>
                    <a:lnTo>
                      <a:pt x="2805" y="625"/>
                    </a:lnTo>
                    <a:lnTo>
                      <a:pt x="2801" y="627"/>
                    </a:lnTo>
                    <a:lnTo>
                      <a:pt x="2796" y="629"/>
                    </a:lnTo>
                    <a:lnTo>
                      <a:pt x="2793" y="633"/>
                    </a:lnTo>
                    <a:lnTo>
                      <a:pt x="2790" y="636"/>
                    </a:lnTo>
                    <a:lnTo>
                      <a:pt x="2788" y="641"/>
                    </a:lnTo>
                    <a:lnTo>
                      <a:pt x="2786" y="646"/>
                    </a:lnTo>
                    <a:lnTo>
                      <a:pt x="2785" y="651"/>
                    </a:lnTo>
                    <a:lnTo>
                      <a:pt x="2786" y="654"/>
                    </a:lnTo>
                    <a:lnTo>
                      <a:pt x="2788" y="660"/>
                    </a:lnTo>
                    <a:lnTo>
                      <a:pt x="2790" y="665"/>
                    </a:lnTo>
                    <a:lnTo>
                      <a:pt x="2793" y="668"/>
                    </a:lnTo>
                    <a:lnTo>
                      <a:pt x="2796" y="671"/>
                    </a:lnTo>
                    <a:lnTo>
                      <a:pt x="2801" y="673"/>
                    </a:lnTo>
                    <a:lnTo>
                      <a:pt x="2805" y="675"/>
                    </a:lnTo>
                    <a:lnTo>
                      <a:pt x="2810" y="675"/>
                    </a:lnTo>
                    <a:lnTo>
                      <a:pt x="2815" y="675"/>
                    </a:lnTo>
                    <a:lnTo>
                      <a:pt x="2820" y="673"/>
                    </a:lnTo>
                    <a:lnTo>
                      <a:pt x="2824" y="671"/>
                    </a:lnTo>
                    <a:lnTo>
                      <a:pt x="2828" y="668"/>
                    </a:lnTo>
                    <a:lnTo>
                      <a:pt x="2831" y="665"/>
                    </a:lnTo>
                    <a:lnTo>
                      <a:pt x="2834" y="660"/>
                    </a:lnTo>
                    <a:lnTo>
                      <a:pt x="2835" y="654"/>
                    </a:lnTo>
                    <a:lnTo>
                      <a:pt x="2835" y="651"/>
                    </a:lnTo>
                    <a:lnTo>
                      <a:pt x="2835" y="65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761920" y="4645080"/>
                <a:ext cx="119160" cy="6948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52" y="86"/>
                    </a:lnTo>
                    <a:lnTo>
                      <a:pt x="153" y="86"/>
                    </a:lnTo>
                    <a:lnTo>
                      <a:pt x="153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904840" y="4645080"/>
                <a:ext cx="123840" cy="6948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1" y="86"/>
                    </a:lnTo>
                    <a:lnTo>
                      <a:pt x="153" y="86"/>
                    </a:lnTo>
                    <a:lnTo>
                      <a:pt x="154" y="84"/>
                    </a:lnTo>
                    <a:lnTo>
                      <a:pt x="155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5" y="2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3051000" y="4645080"/>
                <a:ext cx="120600" cy="6948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3" y="86"/>
                    </a:moveTo>
                    <a:lnTo>
                      <a:pt x="152" y="86"/>
                    </a:lnTo>
                    <a:lnTo>
                      <a:pt x="152" y="86"/>
                    </a:lnTo>
                    <a:lnTo>
                      <a:pt x="153" y="84"/>
                    </a:lnTo>
                    <a:lnTo>
                      <a:pt x="154" y="83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4"/>
                    </a:lnTo>
                    <a:lnTo>
                      <a:pt x="154" y="2"/>
                    </a:lnTo>
                    <a:lnTo>
                      <a:pt x="153" y="1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3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3195000" y="4645080"/>
                <a:ext cx="122400" cy="6948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2" y="86"/>
                    </a:lnTo>
                    <a:lnTo>
                      <a:pt x="154" y="86"/>
                    </a:lnTo>
                    <a:lnTo>
                      <a:pt x="156" y="84"/>
                    </a:lnTo>
                    <a:lnTo>
                      <a:pt x="157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6" y="1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341160" y="4645080"/>
                <a:ext cx="119520" cy="6948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49" y="86"/>
                    </a:lnTo>
                    <a:lnTo>
                      <a:pt x="150" y="86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625480" y="4326840"/>
                <a:ext cx="122400" cy="51480"/>
              </a:xfrm>
              <a:custGeom>
                <a:avLst/>
                <a:gdLst/>
                <a:ahLst/>
                <a:rect l="l" t="t" r="r" b="b"/>
                <a:pathLst>
                  <a:path w="155" h="63">
                    <a:moveTo>
                      <a:pt x="4" y="63"/>
                    </a:moveTo>
                    <a:lnTo>
                      <a:pt x="151" y="63"/>
                    </a:lnTo>
                    <a:lnTo>
                      <a:pt x="153" y="63"/>
                    </a:lnTo>
                    <a:lnTo>
                      <a:pt x="154" y="63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898720" y="4326840"/>
                <a:ext cx="95760" cy="5148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4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017880" y="4326840"/>
                <a:ext cx="94320" cy="51480"/>
              </a:xfrm>
              <a:custGeom>
                <a:avLst/>
                <a:gdLst/>
                <a:ahLst/>
                <a:rect l="l" t="t" r="r" b="b"/>
                <a:pathLst>
                  <a:path w="120" h="63">
                    <a:moveTo>
                      <a:pt x="2" y="63"/>
                    </a:moveTo>
                    <a:lnTo>
                      <a:pt x="117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3133800" y="4326840"/>
                <a:ext cx="97200" cy="514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2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3385080" y="4326840"/>
                <a:ext cx="94320" cy="51480"/>
              </a:xfrm>
              <a:custGeom>
                <a:avLst/>
                <a:gdLst/>
                <a:ahLst/>
                <a:rect l="l" t="t" r="r" b="b"/>
                <a:pathLst>
                  <a:path w="121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3503160" y="4326840"/>
                <a:ext cx="95760" cy="514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1" y="63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2" y="1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3503160" y="4079880"/>
                <a:ext cx="95760" cy="514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1" y="64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3385080" y="4079880"/>
                <a:ext cx="94320" cy="51480"/>
              </a:xfrm>
              <a:custGeom>
                <a:avLst/>
                <a:gdLst/>
                <a:ahLst/>
                <a:rect l="l" t="t" r="r" b="b"/>
                <a:pathLst>
                  <a:path w="121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3133800" y="4079880"/>
                <a:ext cx="97200" cy="514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2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017880" y="4079880"/>
                <a:ext cx="94320" cy="5148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2" y="64"/>
                    </a:moveTo>
                    <a:lnTo>
                      <a:pt x="117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898720" y="4079880"/>
                <a:ext cx="95760" cy="5148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4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3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2625480" y="4079880"/>
                <a:ext cx="122400" cy="51480"/>
              </a:xfrm>
              <a:custGeom>
                <a:avLst/>
                <a:gdLst/>
                <a:ahLst/>
                <a:rect l="l" t="t" r="r" b="b"/>
                <a:pathLst>
                  <a:path w="155" h="64">
                    <a:moveTo>
                      <a:pt x="4" y="64"/>
                    </a:moveTo>
                    <a:lnTo>
                      <a:pt x="151" y="64"/>
                    </a:lnTo>
                    <a:lnTo>
                      <a:pt x="153" y="64"/>
                    </a:lnTo>
                    <a:lnTo>
                      <a:pt x="154" y="64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077720" y="3916440"/>
                <a:ext cx="50040" cy="6948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5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4170240" y="3858120"/>
                <a:ext cx="79920" cy="6948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98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4203000" y="4010400"/>
                <a:ext cx="50400" cy="70920"/>
              </a:xfrm>
              <a:custGeom>
                <a:avLst/>
                <a:gdLst/>
                <a:ahLst/>
                <a:rect l="l" t="t" r="r" b="b"/>
                <a:pathLst>
                  <a:path w="65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62" y="90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295880" y="4010400"/>
                <a:ext cx="51480" cy="709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7" y="89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4407120" y="4010400"/>
                <a:ext cx="53280" cy="709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7" y="89"/>
                    </a:lnTo>
                    <a:lnTo>
                      <a:pt x="67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407120" y="3858120"/>
                <a:ext cx="79920" cy="6948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0" y="0"/>
                    </a:moveTo>
                    <a:lnTo>
                      <a:pt x="0" y="80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97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4408560" y="41590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25"/>
                    </a:moveTo>
                    <a:lnTo>
                      <a:pt x="51" y="20"/>
                    </a:lnTo>
                    <a:lnTo>
                      <a:pt x="49" y="16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7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7" y="39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4389840" y="4255560"/>
                <a:ext cx="97200" cy="45360"/>
              </a:xfrm>
              <a:custGeom>
                <a:avLst/>
                <a:gdLst/>
                <a:ahLst/>
                <a:rect l="l" t="t" r="r" b="b"/>
                <a:pathLst>
                  <a:path w="123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4242240" y="4255560"/>
                <a:ext cx="95760" cy="4536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4094640" y="4255560"/>
                <a:ext cx="95760" cy="45360"/>
              </a:xfrm>
              <a:custGeom>
                <a:avLst/>
                <a:gdLst/>
                <a:ahLst/>
                <a:rect l="l" t="t" r="r" b="b"/>
                <a:pathLst>
                  <a:path w="121" h="54">
                    <a:moveTo>
                      <a:pt x="3" y="54"/>
                    </a:moveTo>
                    <a:lnTo>
                      <a:pt x="117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4132440" y="4159080"/>
                <a:ext cx="37440" cy="399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47" y="25"/>
                    </a:moveTo>
                    <a:lnTo>
                      <a:pt x="47" y="20"/>
                    </a:lnTo>
                    <a:lnTo>
                      <a:pt x="46" y="16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3"/>
                    </a:lnTo>
                    <a:lnTo>
                      <a:pt x="10" y="46"/>
                    </a:lnTo>
                    <a:lnTo>
                      <a:pt x="13" y="48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3" y="48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7" y="30"/>
                    </a:lnTo>
                    <a:lnTo>
                      <a:pt x="47" y="25"/>
                    </a:lnTo>
                    <a:lnTo>
                      <a:pt x="47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812120" y="407664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5"/>
                    </a:lnTo>
                    <a:lnTo>
                      <a:pt x="35" y="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6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4812120" y="422028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4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812120" y="4364280"/>
                <a:ext cx="39240" cy="3852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1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5"/>
                    </a:lnTo>
                    <a:lnTo>
                      <a:pt x="50" y="29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3875040" y="3855240"/>
                <a:ext cx="834840" cy="22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875040" y="3855240"/>
                <a:ext cx="834840" cy="2232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940720" y="3911760"/>
                <a:ext cx="855360" cy="526680"/>
              </a:xfrm>
              <a:custGeom>
                <a:avLst/>
                <a:gdLst/>
                <a:ahLst/>
                <a:rect l="l" t="t" r="r" b="b"/>
                <a:pathLst>
                  <a:path w="1091" h="653">
                    <a:moveTo>
                      <a:pt x="775" y="559"/>
                    </a:moveTo>
                    <a:lnTo>
                      <a:pt x="795" y="548"/>
                    </a:lnTo>
                    <a:lnTo>
                      <a:pt x="795" y="525"/>
                    </a:lnTo>
                    <a:lnTo>
                      <a:pt x="775" y="514"/>
                    </a:lnTo>
                    <a:lnTo>
                      <a:pt x="754" y="525"/>
                    </a:lnTo>
                    <a:lnTo>
                      <a:pt x="754" y="548"/>
                    </a:lnTo>
                    <a:lnTo>
                      <a:pt x="775" y="559"/>
                    </a:lnTo>
                    <a:close/>
                    <a:moveTo>
                      <a:pt x="829" y="559"/>
                    </a:moveTo>
                    <a:lnTo>
                      <a:pt x="849" y="548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48"/>
                    </a:lnTo>
                    <a:lnTo>
                      <a:pt x="829" y="559"/>
                    </a:lnTo>
                    <a:close/>
                    <a:moveTo>
                      <a:pt x="883" y="559"/>
                    </a:moveTo>
                    <a:lnTo>
                      <a:pt x="904" y="548"/>
                    </a:lnTo>
                    <a:lnTo>
                      <a:pt x="904" y="525"/>
                    </a:lnTo>
                    <a:lnTo>
                      <a:pt x="883" y="514"/>
                    </a:lnTo>
                    <a:lnTo>
                      <a:pt x="863" y="525"/>
                    </a:lnTo>
                    <a:lnTo>
                      <a:pt x="863" y="548"/>
                    </a:lnTo>
                    <a:lnTo>
                      <a:pt x="883" y="559"/>
                    </a:lnTo>
                    <a:close/>
                    <a:moveTo>
                      <a:pt x="938" y="559"/>
                    </a:moveTo>
                    <a:lnTo>
                      <a:pt x="958" y="548"/>
                    </a:lnTo>
                    <a:lnTo>
                      <a:pt x="958" y="525"/>
                    </a:lnTo>
                    <a:lnTo>
                      <a:pt x="938" y="514"/>
                    </a:lnTo>
                    <a:lnTo>
                      <a:pt x="916" y="525"/>
                    </a:lnTo>
                    <a:lnTo>
                      <a:pt x="916" y="548"/>
                    </a:lnTo>
                    <a:lnTo>
                      <a:pt x="938" y="559"/>
                    </a:lnTo>
                    <a:close/>
                    <a:moveTo>
                      <a:pt x="666" y="559"/>
                    </a:moveTo>
                    <a:lnTo>
                      <a:pt x="686" y="548"/>
                    </a:lnTo>
                    <a:lnTo>
                      <a:pt x="686" y="525"/>
                    </a:lnTo>
                    <a:lnTo>
                      <a:pt x="666" y="514"/>
                    </a:lnTo>
                    <a:lnTo>
                      <a:pt x="647" y="525"/>
                    </a:lnTo>
                    <a:lnTo>
                      <a:pt x="647" y="548"/>
                    </a:lnTo>
                    <a:lnTo>
                      <a:pt x="666" y="559"/>
                    </a:lnTo>
                    <a:close/>
                    <a:moveTo>
                      <a:pt x="720" y="559"/>
                    </a:moveTo>
                    <a:lnTo>
                      <a:pt x="740" y="548"/>
                    </a:lnTo>
                    <a:lnTo>
                      <a:pt x="740" y="525"/>
                    </a:lnTo>
                    <a:lnTo>
                      <a:pt x="720" y="514"/>
                    </a:lnTo>
                    <a:lnTo>
                      <a:pt x="700" y="525"/>
                    </a:lnTo>
                    <a:lnTo>
                      <a:pt x="700" y="548"/>
                    </a:lnTo>
                    <a:lnTo>
                      <a:pt x="720" y="559"/>
                    </a:lnTo>
                    <a:close/>
                    <a:moveTo>
                      <a:pt x="505" y="559"/>
                    </a:moveTo>
                    <a:lnTo>
                      <a:pt x="525" y="548"/>
                    </a:lnTo>
                    <a:lnTo>
                      <a:pt x="525" y="525"/>
                    </a:lnTo>
                    <a:lnTo>
                      <a:pt x="505" y="514"/>
                    </a:lnTo>
                    <a:lnTo>
                      <a:pt x="484" y="525"/>
                    </a:lnTo>
                    <a:lnTo>
                      <a:pt x="484" y="548"/>
                    </a:lnTo>
                    <a:lnTo>
                      <a:pt x="505" y="559"/>
                    </a:lnTo>
                    <a:close/>
                    <a:moveTo>
                      <a:pt x="559" y="559"/>
                    </a:moveTo>
                    <a:lnTo>
                      <a:pt x="579" y="548"/>
                    </a:lnTo>
                    <a:lnTo>
                      <a:pt x="579" y="525"/>
                    </a:lnTo>
                    <a:lnTo>
                      <a:pt x="559" y="514"/>
                    </a:lnTo>
                    <a:lnTo>
                      <a:pt x="539" y="525"/>
                    </a:lnTo>
                    <a:lnTo>
                      <a:pt x="539" y="548"/>
                    </a:lnTo>
                    <a:lnTo>
                      <a:pt x="559" y="559"/>
                    </a:lnTo>
                    <a:close/>
                    <a:moveTo>
                      <a:pt x="613" y="559"/>
                    </a:moveTo>
                    <a:lnTo>
                      <a:pt x="634" y="548"/>
                    </a:lnTo>
                    <a:lnTo>
                      <a:pt x="634" y="525"/>
                    </a:lnTo>
                    <a:lnTo>
                      <a:pt x="613" y="514"/>
                    </a:lnTo>
                    <a:lnTo>
                      <a:pt x="593" y="525"/>
                    </a:lnTo>
                    <a:lnTo>
                      <a:pt x="593" y="548"/>
                    </a:lnTo>
                    <a:lnTo>
                      <a:pt x="613" y="559"/>
                    </a:lnTo>
                    <a:close/>
                    <a:moveTo>
                      <a:pt x="21" y="559"/>
                    </a:moveTo>
                    <a:lnTo>
                      <a:pt x="41" y="548"/>
                    </a:lnTo>
                    <a:lnTo>
                      <a:pt x="41" y="525"/>
                    </a:lnTo>
                    <a:lnTo>
                      <a:pt x="21" y="514"/>
                    </a:lnTo>
                    <a:lnTo>
                      <a:pt x="0" y="525"/>
                    </a:lnTo>
                    <a:lnTo>
                      <a:pt x="0" y="548"/>
                    </a:lnTo>
                    <a:lnTo>
                      <a:pt x="21" y="559"/>
                    </a:lnTo>
                    <a:close/>
                    <a:moveTo>
                      <a:pt x="74" y="559"/>
                    </a:moveTo>
                    <a:lnTo>
                      <a:pt x="93" y="548"/>
                    </a:lnTo>
                    <a:lnTo>
                      <a:pt x="93" y="525"/>
                    </a:lnTo>
                    <a:lnTo>
                      <a:pt x="74" y="514"/>
                    </a:lnTo>
                    <a:lnTo>
                      <a:pt x="54" y="525"/>
                    </a:lnTo>
                    <a:lnTo>
                      <a:pt x="54" y="548"/>
                    </a:lnTo>
                    <a:lnTo>
                      <a:pt x="74" y="559"/>
                    </a:lnTo>
                    <a:close/>
                    <a:moveTo>
                      <a:pt x="127" y="559"/>
                    </a:moveTo>
                    <a:lnTo>
                      <a:pt x="147" y="548"/>
                    </a:lnTo>
                    <a:lnTo>
                      <a:pt x="147" y="525"/>
                    </a:lnTo>
                    <a:lnTo>
                      <a:pt x="127" y="514"/>
                    </a:lnTo>
                    <a:lnTo>
                      <a:pt x="107" y="525"/>
                    </a:lnTo>
                    <a:lnTo>
                      <a:pt x="107" y="548"/>
                    </a:lnTo>
                    <a:lnTo>
                      <a:pt x="127" y="559"/>
                    </a:lnTo>
                    <a:close/>
                    <a:moveTo>
                      <a:pt x="181" y="559"/>
                    </a:moveTo>
                    <a:lnTo>
                      <a:pt x="201" y="548"/>
                    </a:lnTo>
                    <a:lnTo>
                      <a:pt x="201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48"/>
                    </a:lnTo>
                    <a:lnTo>
                      <a:pt x="181" y="559"/>
                    </a:lnTo>
                    <a:close/>
                    <a:moveTo>
                      <a:pt x="236" y="559"/>
                    </a:moveTo>
                    <a:lnTo>
                      <a:pt x="256" y="548"/>
                    </a:lnTo>
                    <a:lnTo>
                      <a:pt x="256" y="525"/>
                    </a:lnTo>
                    <a:lnTo>
                      <a:pt x="236" y="514"/>
                    </a:lnTo>
                    <a:lnTo>
                      <a:pt x="215" y="525"/>
                    </a:lnTo>
                    <a:lnTo>
                      <a:pt x="215" y="548"/>
                    </a:lnTo>
                    <a:lnTo>
                      <a:pt x="236" y="559"/>
                    </a:lnTo>
                    <a:close/>
                    <a:moveTo>
                      <a:pt x="290" y="559"/>
                    </a:moveTo>
                    <a:lnTo>
                      <a:pt x="310" y="548"/>
                    </a:lnTo>
                    <a:lnTo>
                      <a:pt x="310" y="525"/>
                    </a:lnTo>
                    <a:lnTo>
                      <a:pt x="290" y="514"/>
                    </a:lnTo>
                    <a:lnTo>
                      <a:pt x="270" y="525"/>
                    </a:lnTo>
                    <a:lnTo>
                      <a:pt x="270" y="548"/>
                    </a:lnTo>
                    <a:lnTo>
                      <a:pt x="290" y="559"/>
                    </a:lnTo>
                    <a:close/>
                    <a:moveTo>
                      <a:pt x="801" y="511"/>
                    </a:moveTo>
                    <a:lnTo>
                      <a:pt x="821" y="500"/>
                    </a:lnTo>
                    <a:lnTo>
                      <a:pt x="821" y="477"/>
                    </a:lnTo>
                    <a:lnTo>
                      <a:pt x="801" y="466"/>
                    </a:lnTo>
                    <a:lnTo>
                      <a:pt x="781" y="477"/>
                    </a:lnTo>
                    <a:lnTo>
                      <a:pt x="781" y="500"/>
                    </a:lnTo>
                    <a:lnTo>
                      <a:pt x="801" y="511"/>
                    </a:lnTo>
                    <a:close/>
                    <a:moveTo>
                      <a:pt x="856" y="511"/>
                    </a:moveTo>
                    <a:lnTo>
                      <a:pt x="876" y="500"/>
                    </a:lnTo>
                    <a:lnTo>
                      <a:pt x="876" y="477"/>
                    </a:lnTo>
                    <a:lnTo>
                      <a:pt x="856" y="466"/>
                    </a:lnTo>
                    <a:lnTo>
                      <a:pt x="835" y="477"/>
                    </a:lnTo>
                    <a:lnTo>
                      <a:pt x="835" y="500"/>
                    </a:lnTo>
                    <a:lnTo>
                      <a:pt x="856" y="511"/>
                    </a:lnTo>
                    <a:close/>
                    <a:moveTo>
                      <a:pt x="910" y="511"/>
                    </a:moveTo>
                    <a:lnTo>
                      <a:pt x="930" y="500"/>
                    </a:lnTo>
                    <a:lnTo>
                      <a:pt x="930" y="477"/>
                    </a:lnTo>
                    <a:lnTo>
                      <a:pt x="910" y="466"/>
                    </a:lnTo>
                    <a:lnTo>
                      <a:pt x="890" y="477"/>
                    </a:lnTo>
                    <a:lnTo>
                      <a:pt x="890" y="500"/>
                    </a:lnTo>
                    <a:lnTo>
                      <a:pt x="910" y="511"/>
                    </a:lnTo>
                    <a:close/>
                    <a:moveTo>
                      <a:pt x="587" y="511"/>
                    </a:moveTo>
                    <a:lnTo>
                      <a:pt x="607" y="500"/>
                    </a:lnTo>
                    <a:lnTo>
                      <a:pt x="607" y="477"/>
                    </a:lnTo>
                    <a:lnTo>
                      <a:pt x="587" y="466"/>
                    </a:lnTo>
                    <a:lnTo>
                      <a:pt x="566" y="477"/>
                    </a:lnTo>
                    <a:lnTo>
                      <a:pt x="566" y="500"/>
                    </a:lnTo>
                    <a:lnTo>
                      <a:pt x="587" y="511"/>
                    </a:lnTo>
                    <a:close/>
                    <a:moveTo>
                      <a:pt x="641" y="511"/>
                    </a:moveTo>
                    <a:lnTo>
                      <a:pt x="658" y="500"/>
                    </a:lnTo>
                    <a:lnTo>
                      <a:pt x="658" y="477"/>
                    </a:lnTo>
                    <a:lnTo>
                      <a:pt x="641" y="466"/>
                    </a:lnTo>
                    <a:lnTo>
                      <a:pt x="621" y="477"/>
                    </a:lnTo>
                    <a:lnTo>
                      <a:pt x="621" y="500"/>
                    </a:lnTo>
                    <a:lnTo>
                      <a:pt x="641" y="511"/>
                    </a:lnTo>
                    <a:close/>
                    <a:moveTo>
                      <a:pt x="692" y="511"/>
                    </a:moveTo>
                    <a:lnTo>
                      <a:pt x="713" y="500"/>
                    </a:lnTo>
                    <a:lnTo>
                      <a:pt x="713" y="477"/>
                    </a:lnTo>
                    <a:lnTo>
                      <a:pt x="692" y="466"/>
                    </a:lnTo>
                    <a:lnTo>
                      <a:pt x="675" y="477"/>
                    </a:lnTo>
                    <a:lnTo>
                      <a:pt x="675" y="500"/>
                    </a:lnTo>
                    <a:lnTo>
                      <a:pt x="692" y="511"/>
                    </a:lnTo>
                    <a:close/>
                    <a:moveTo>
                      <a:pt x="747" y="511"/>
                    </a:moveTo>
                    <a:lnTo>
                      <a:pt x="767" y="500"/>
                    </a:lnTo>
                    <a:lnTo>
                      <a:pt x="767" y="477"/>
                    </a:lnTo>
                    <a:lnTo>
                      <a:pt x="747" y="466"/>
                    </a:lnTo>
                    <a:lnTo>
                      <a:pt x="727" y="477"/>
                    </a:lnTo>
                    <a:lnTo>
                      <a:pt x="727" y="500"/>
                    </a:lnTo>
                    <a:lnTo>
                      <a:pt x="747" y="511"/>
                    </a:lnTo>
                    <a:close/>
                    <a:moveTo>
                      <a:pt x="371" y="511"/>
                    </a:moveTo>
                    <a:lnTo>
                      <a:pt x="391" y="500"/>
                    </a:lnTo>
                    <a:lnTo>
                      <a:pt x="391" y="477"/>
                    </a:lnTo>
                    <a:lnTo>
                      <a:pt x="371" y="466"/>
                    </a:lnTo>
                    <a:lnTo>
                      <a:pt x="351" y="477"/>
                    </a:lnTo>
                    <a:lnTo>
                      <a:pt x="351" y="500"/>
                    </a:lnTo>
                    <a:lnTo>
                      <a:pt x="371" y="511"/>
                    </a:lnTo>
                    <a:close/>
                    <a:moveTo>
                      <a:pt x="425" y="511"/>
                    </a:moveTo>
                    <a:lnTo>
                      <a:pt x="447" y="500"/>
                    </a:lnTo>
                    <a:lnTo>
                      <a:pt x="447" y="477"/>
                    </a:lnTo>
                    <a:lnTo>
                      <a:pt x="425" y="466"/>
                    </a:lnTo>
                    <a:lnTo>
                      <a:pt x="405" y="477"/>
                    </a:lnTo>
                    <a:lnTo>
                      <a:pt x="405" y="500"/>
                    </a:lnTo>
                    <a:lnTo>
                      <a:pt x="425" y="511"/>
                    </a:lnTo>
                    <a:close/>
                    <a:moveTo>
                      <a:pt x="480" y="511"/>
                    </a:moveTo>
                    <a:lnTo>
                      <a:pt x="498" y="500"/>
                    </a:lnTo>
                    <a:lnTo>
                      <a:pt x="498" y="477"/>
                    </a:lnTo>
                    <a:lnTo>
                      <a:pt x="480" y="466"/>
                    </a:lnTo>
                    <a:lnTo>
                      <a:pt x="459" y="477"/>
                    </a:lnTo>
                    <a:lnTo>
                      <a:pt x="459" y="500"/>
                    </a:lnTo>
                    <a:lnTo>
                      <a:pt x="480" y="511"/>
                    </a:lnTo>
                    <a:close/>
                    <a:moveTo>
                      <a:pt x="532" y="511"/>
                    </a:moveTo>
                    <a:lnTo>
                      <a:pt x="552" y="500"/>
                    </a:lnTo>
                    <a:lnTo>
                      <a:pt x="552" y="477"/>
                    </a:lnTo>
                    <a:lnTo>
                      <a:pt x="532" y="466"/>
                    </a:lnTo>
                    <a:lnTo>
                      <a:pt x="512" y="477"/>
                    </a:lnTo>
                    <a:lnTo>
                      <a:pt x="512" y="500"/>
                    </a:lnTo>
                    <a:lnTo>
                      <a:pt x="532" y="511"/>
                    </a:lnTo>
                    <a:close/>
                    <a:moveTo>
                      <a:pt x="48" y="511"/>
                    </a:moveTo>
                    <a:lnTo>
                      <a:pt x="68" y="500"/>
                    </a:lnTo>
                    <a:lnTo>
                      <a:pt x="68" y="477"/>
                    </a:lnTo>
                    <a:lnTo>
                      <a:pt x="48" y="466"/>
                    </a:lnTo>
                    <a:lnTo>
                      <a:pt x="27" y="477"/>
                    </a:lnTo>
                    <a:lnTo>
                      <a:pt x="27" y="500"/>
                    </a:lnTo>
                    <a:lnTo>
                      <a:pt x="48" y="511"/>
                    </a:lnTo>
                    <a:close/>
                    <a:moveTo>
                      <a:pt x="99" y="511"/>
                    </a:moveTo>
                    <a:lnTo>
                      <a:pt x="120" y="500"/>
                    </a:lnTo>
                    <a:lnTo>
                      <a:pt x="120" y="477"/>
                    </a:lnTo>
                    <a:lnTo>
                      <a:pt x="99" y="466"/>
                    </a:lnTo>
                    <a:lnTo>
                      <a:pt x="82" y="477"/>
                    </a:lnTo>
                    <a:lnTo>
                      <a:pt x="82" y="500"/>
                    </a:lnTo>
                    <a:lnTo>
                      <a:pt x="99" y="511"/>
                    </a:lnTo>
                    <a:close/>
                    <a:moveTo>
                      <a:pt x="155" y="511"/>
                    </a:moveTo>
                    <a:lnTo>
                      <a:pt x="175" y="500"/>
                    </a:lnTo>
                    <a:lnTo>
                      <a:pt x="175" y="477"/>
                    </a:lnTo>
                    <a:lnTo>
                      <a:pt x="155" y="466"/>
                    </a:lnTo>
                    <a:lnTo>
                      <a:pt x="133" y="477"/>
                    </a:lnTo>
                    <a:lnTo>
                      <a:pt x="133" y="500"/>
                    </a:lnTo>
                    <a:lnTo>
                      <a:pt x="155" y="511"/>
                    </a:lnTo>
                    <a:close/>
                    <a:moveTo>
                      <a:pt x="208" y="511"/>
                    </a:moveTo>
                    <a:lnTo>
                      <a:pt x="229" y="500"/>
                    </a:lnTo>
                    <a:lnTo>
                      <a:pt x="229" y="477"/>
                    </a:lnTo>
                    <a:lnTo>
                      <a:pt x="208" y="466"/>
                    </a:lnTo>
                    <a:lnTo>
                      <a:pt x="188" y="477"/>
                    </a:lnTo>
                    <a:lnTo>
                      <a:pt x="188" y="500"/>
                    </a:lnTo>
                    <a:lnTo>
                      <a:pt x="208" y="511"/>
                    </a:lnTo>
                    <a:close/>
                    <a:moveTo>
                      <a:pt x="262" y="511"/>
                    </a:moveTo>
                    <a:lnTo>
                      <a:pt x="282" y="500"/>
                    </a:lnTo>
                    <a:lnTo>
                      <a:pt x="282" y="477"/>
                    </a:lnTo>
                    <a:lnTo>
                      <a:pt x="262" y="466"/>
                    </a:lnTo>
                    <a:lnTo>
                      <a:pt x="242" y="477"/>
                    </a:lnTo>
                    <a:lnTo>
                      <a:pt x="242" y="500"/>
                    </a:lnTo>
                    <a:lnTo>
                      <a:pt x="262" y="511"/>
                    </a:lnTo>
                    <a:close/>
                    <a:moveTo>
                      <a:pt x="317" y="511"/>
                    </a:moveTo>
                    <a:lnTo>
                      <a:pt x="338" y="500"/>
                    </a:lnTo>
                    <a:lnTo>
                      <a:pt x="338" y="477"/>
                    </a:lnTo>
                    <a:lnTo>
                      <a:pt x="317" y="466"/>
                    </a:lnTo>
                    <a:lnTo>
                      <a:pt x="296" y="477"/>
                    </a:lnTo>
                    <a:lnTo>
                      <a:pt x="296" y="500"/>
                    </a:lnTo>
                    <a:lnTo>
                      <a:pt x="317" y="511"/>
                    </a:lnTo>
                    <a:close/>
                    <a:moveTo>
                      <a:pt x="505" y="466"/>
                    </a:moveTo>
                    <a:lnTo>
                      <a:pt x="525" y="455"/>
                    </a:lnTo>
                    <a:lnTo>
                      <a:pt x="525" y="432"/>
                    </a:lnTo>
                    <a:lnTo>
                      <a:pt x="505" y="421"/>
                    </a:lnTo>
                    <a:lnTo>
                      <a:pt x="484" y="432"/>
                    </a:lnTo>
                    <a:lnTo>
                      <a:pt x="484" y="455"/>
                    </a:lnTo>
                    <a:lnTo>
                      <a:pt x="505" y="466"/>
                    </a:lnTo>
                    <a:close/>
                    <a:moveTo>
                      <a:pt x="559" y="466"/>
                    </a:moveTo>
                    <a:lnTo>
                      <a:pt x="579" y="455"/>
                    </a:lnTo>
                    <a:lnTo>
                      <a:pt x="579" y="432"/>
                    </a:lnTo>
                    <a:lnTo>
                      <a:pt x="559" y="421"/>
                    </a:lnTo>
                    <a:lnTo>
                      <a:pt x="539" y="432"/>
                    </a:lnTo>
                    <a:lnTo>
                      <a:pt x="539" y="455"/>
                    </a:lnTo>
                    <a:lnTo>
                      <a:pt x="559" y="466"/>
                    </a:lnTo>
                    <a:close/>
                    <a:moveTo>
                      <a:pt x="21" y="466"/>
                    </a:moveTo>
                    <a:lnTo>
                      <a:pt x="41" y="455"/>
                    </a:lnTo>
                    <a:lnTo>
                      <a:pt x="41" y="432"/>
                    </a:lnTo>
                    <a:lnTo>
                      <a:pt x="21" y="421"/>
                    </a:lnTo>
                    <a:lnTo>
                      <a:pt x="0" y="432"/>
                    </a:lnTo>
                    <a:lnTo>
                      <a:pt x="0" y="455"/>
                    </a:lnTo>
                    <a:lnTo>
                      <a:pt x="21" y="466"/>
                    </a:lnTo>
                    <a:close/>
                    <a:moveTo>
                      <a:pt x="74" y="466"/>
                    </a:moveTo>
                    <a:lnTo>
                      <a:pt x="93" y="455"/>
                    </a:lnTo>
                    <a:lnTo>
                      <a:pt x="93" y="432"/>
                    </a:lnTo>
                    <a:lnTo>
                      <a:pt x="74" y="421"/>
                    </a:lnTo>
                    <a:lnTo>
                      <a:pt x="54" y="432"/>
                    </a:lnTo>
                    <a:lnTo>
                      <a:pt x="54" y="455"/>
                    </a:lnTo>
                    <a:lnTo>
                      <a:pt x="74" y="466"/>
                    </a:lnTo>
                    <a:close/>
                    <a:moveTo>
                      <a:pt x="127" y="466"/>
                    </a:moveTo>
                    <a:lnTo>
                      <a:pt x="147" y="455"/>
                    </a:lnTo>
                    <a:lnTo>
                      <a:pt x="147" y="432"/>
                    </a:lnTo>
                    <a:lnTo>
                      <a:pt x="127" y="421"/>
                    </a:lnTo>
                    <a:lnTo>
                      <a:pt x="107" y="432"/>
                    </a:lnTo>
                    <a:lnTo>
                      <a:pt x="107" y="455"/>
                    </a:lnTo>
                    <a:lnTo>
                      <a:pt x="127" y="466"/>
                    </a:lnTo>
                    <a:close/>
                    <a:moveTo>
                      <a:pt x="181" y="466"/>
                    </a:moveTo>
                    <a:lnTo>
                      <a:pt x="201" y="455"/>
                    </a:lnTo>
                    <a:lnTo>
                      <a:pt x="201" y="432"/>
                    </a:lnTo>
                    <a:lnTo>
                      <a:pt x="181" y="421"/>
                    </a:lnTo>
                    <a:lnTo>
                      <a:pt x="161" y="432"/>
                    </a:lnTo>
                    <a:lnTo>
                      <a:pt x="161" y="455"/>
                    </a:lnTo>
                    <a:lnTo>
                      <a:pt x="181" y="466"/>
                    </a:lnTo>
                    <a:close/>
                    <a:moveTo>
                      <a:pt x="236" y="466"/>
                    </a:moveTo>
                    <a:lnTo>
                      <a:pt x="256" y="455"/>
                    </a:lnTo>
                    <a:lnTo>
                      <a:pt x="256" y="432"/>
                    </a:lnTo>
                    <a:lnTo>
                      <a:pt x="236" y="421"/>
                    </a:lnTo>
                    <a:lnTo>
                      <a:pt x="215" y="432"/>
                    </a:lnTo>
                    <a:lnTo>
                      <a:pt x="215" y="455"/>
                    </a:lnTo>
                    <a:lnTo>
                      <a:pt x="236" y="466"/>
                    </a:lnTo>
                    <a:close/>
                    <a:moveTo>
                      <a:pt x="290" y="466"/>
                    </a:moveTo>
                    <a:lnTo>
                      <a:pt x="310" y="455"/>
                    </a:lnTo>
                    <a:lnTo>
                      <a:pt x="310" y="432"/>
                    </a:lnTo>
                    <a:lnTo>
                      <a:pt x="290" y="421"/>
                    </a:lnTo>
                    <a:lnTo>
                      <a:pt x="270" y="432"/>
                    </a:lnTo>
                    <a:lnTo>
                      <a:pt x="270" y="455"/>
                    </a:lnTo>
                    <a:lnTo>
                      <a:pt x="290" y="466"/>
                    </a:lnTo>
                    <a:close/>
                    <a:moveTo>
                      <a:pt x="344" y="466"/>
                    </a:moveTo>
                    <a:lnTo>
                      <a:pt x="365" y="455"/>
                    </a:lnTo>
                    <a:lnTo>
                      <a:pt x="365" y="432"/>
                    </a:lnTo>
                    <a:lnTo>
                      <a:pt x="344" y="421"/>
                    </a:lnTo>
                    <a:lnTo>
                      <a:pt x="324" y="432"/>
                    </a:lnTo>
                    <a:lnTo>
                      <a:pt x="324" y="455"/>
                    </a:lnTo>
                    <a:lnTo>
                      <a:pt x="344" y="466"/>
                    </a:lnTo>
                    <a:close/>
                    <a:moveTo>
                      <a:pt x="399" y="466"/>
                    </a:moveTo>
                    <a:lnTo>
                      <a:pt x="419" y="455"/>
                    </a:lnTo>
                    <a:lnTo>
                      <a:pt x="419" y="432"/>
                    </a:lnTo>
                    <a:lnTo>
                      <a:pt x="399" y="421"/>
                    </a:lnTo>
                    <a:lnTo>
                      <a:pt x="378" y="432"/>
                    </a:lnTo>
                    <a:lnTo>
                      <a:pt x="378" y="455"/>
                    </a:lnTo>
                    <a:lnTo>
                      <a:pt x="399" y="466"/>
                    </a:lnTo>
                    <a:close/>
                    <a:moveTo>
                      <a:pt x="613" y="466"/>
                    </a:moveTo>
                    <a:lnTo>
                      <a:pt x="634" y="455"/>
                    </a:lnTo>
                    <a:lnTo>
                      <a:pt x="634" y="432"/>
                    </a:lnTo>
                    <a:lnTo>
                      <a:pt x="613" y="421"/>
                    </a:lnTo>
                    <a:lnTo>
                      <a:pt x="593" y="432"/>
                    </a:lnTo>
                    <a:lnTo>
                      <a:pt x="593" y="455"/>
                    </a:lnTo>
                    <a:lnTo>
                      <a:pt x="613" y="466"/>
                    </a:lnTo>
                    <a:close/>
                    <a:moveTo>
                      <a:pt x="666" y="466"/>
                    </a:moveTo>
                    <a:lnTo>
                      <a:pt x="686" y="455"/>
                    </a:lnTo>
                    <a:lnTo>
                      <a:pt x="686" y="432"/>
                    </a:lnTo>
                    <a:lnTo>
                      <a:pt x="666" y="421"/>
                    </a:lnTo>
                    <a:lnTo>
                      <a:pt x="647" y="432"/>
                    </a:lnTo>
                    <a:lnTo>
                      <a:pt x="647" y="455"/>
                    </a:lnTo>
                    <a:lnTo>
                      <a:pt x="666" y="466"/>
                    </a:lnTo>
                    <a:close/>
                    <a:moveTo>
                      <a:pt x="720" y="466"/>
                    </a:moveTo>
                    <a:lnTo>
                      <a:pt x="740" y="455"/>
                    </a:lnTo>
                    <a:lnTo>
                      <a:pt x="740" y="432"/>
                    </a:lnTo>
                    <a:lnTo>
                      <a:pt x="720" y="421"/>
                    </a:lnTo>
                    <a:lnTo>
                      <a:pt x="700" y="432"/>
                    </a:lnTo>
                    <a:lnTo>
                      <a:pt x="700" y="455"/>
                    </a:lnTo>
                    <a:lnTo>
                      <a:pt x="720" y="466"/>
                    </a:lnTo>
                    <a:close/>
                    <a:moveTo>
                      <a:pt x="775" y="466"/>
                    </a:moveTo>
                    <a:lnTo>
                      <a:pt x="795" y="455"/>
                    </a:lnTo>
                    <a:lnTo>
                      <a:pt x="795" y="432"/>
                    </a:lnTo>
                    <a:lnTo>
                      <a:pt x="775" y="421"/>
                    </a:lnTo>
                    <a:lnTo>
                      <a:pt x="754" y="432"/>
                    </a:lnTo>
                    <a:lnTo>
                      <a:pt x="754" y="455"/>
                    </a:lnTo>
                    <a:lnTo>
                      <a:pt x="775" y="466"/>
                    </a:lnTo>
                    <a:close/>
                    <a:moveTo>
                      <a:pt x="532" y="234"/>
                    </a:moveTo>
                    <a:lnTo>
                      <a:pt x="552" y="222"/>
                    </a:lnTo>
                    <a:lnTo>
                      <a:pt x="552" y="198"/>
                    </a:lnTo>
                    <a:lnTo>
                      <a:pt x="532" y="187"/>
                    </a:lnTo>
                    <a:lnTo>
                      <a:pt x="512" y="198"/>
                    </a:lnTo>
                    <a:lnTo>
                      <a:pt x="512" y="222"/>
                    </a:lnTo>
                    <a:lnTo>
                      <a:pt x="532" y="234"/>
                    </a:lnTo>
                    <a:close/>
                    <a:moveTo>
                      <a:pt x="532" y="140"/>
                    </a:moveTo>
                    <a:lnTo>
                      <a:pt x="552" y="128"/>
                    </a:lnTo>
                    <a:lnTo>
                      <a:pt x="552" y="105"/>
                    </a:lnTo>
                    <a:lnTo>
                      <a:pt x="532" y="94"/>
                    </a:lnTo>
                    <a:lnTo>
                      <a:pt x="512" y="105"/>
                    </a:lnTo>
                    <a:lnTo>
                      <a:pt x="512" y="128"/>
                    </a:lnTo>
                    <a:lnTo>
                      <a:pt x="532" y="140"/>
                    </a:lnTo>
                    <a:close/>
                    <a:moveTo>
                      <a:pt x="559" y="279"/>
                    </a:moveTo>
                    <a:lnTo>
                      <a:pt x="579" y="268"/>
                    </a:lnTo>
                    <a:lnTo>
                      <a:pt x="579" y="245"/>
                    </a:lnTo>
                    <a:lnTo>
                      <a:pt x="559" y="234"/>
                    </a:lnTo>
                    <a:lnTo>
                      <a:pt x="539" y="245"/>
                    </a:lnTo>
                    <a:lnTo>
                      <a:pt x="539" y="268"/>
                    </a:lnTo>
                    <a:lnTo>
                      <a:pt x="559" y="279"/>
                    </a:lnTo>
                    <a:close/>
                    <a:moveTo>
                      <a:pt x="559" y="187"/>
                    </a:moveTo>
                    <a:lnTo>
                      <a:pt x="579" y="174"/>
                    </a:lnTo>
                    <a:lnTo>
                      <a:pt x="579" y="152"/>
                    </a:lnTo>
                    <a:lnTo>
                      <a:pt x="559" y="140"/>
                    </a:lnTo>
                    <a:lnTo>
                      <a:pt x="539" y="152"/>
                    </a:lnTo>
                    <a:lnTo>
                      <a:pt x="539" y="174"/>
                    </a:lnTo>
                    <a:lnTo>
                      <a:pt x="559" y="187"/>
                    </a:lnTo>
                    <a:close/>
                    <a:moveTo>
                      <a:pt x="559" y="94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59" y="47"/>
                    </a:lnTo>
                    <a:lnTo>
                      <a:pt x="539" y="58"/>
                    </a:lnTo>
                    <a:lnTo>
                      <a:pt x="539" y="82"/>
                    </a:lnTo>
                    <a:lnTo>
                      <a:pt x="559" y="94"/>
                    </a:lnTo>
                    <a:close/>
                    <a:moveTo>
                      <a:pt x="480" y="327"/>
                    </a:moveTo>
                    <a:lnTo>
                      <a:pt x="498" y="316"/>
                    </a:lnTo>
                    <a:lnTo>
                      <a:pt x="498" y="292"/>
                    </a:lnTo>
                    <a:lnTo>
                      <a:pt x="480" y="280"/>
                    </a:lnTo>
                    <a:lnTo>
                      <a:pt x="459" y="292"/>
                    </a:lnTo>
                    <a:lnTo>
                      <a:pt x="459" y="316"/>
                    </a:lnTo>
                    <a:lnTo>
                      <a:pt x="480" y="327"/>
                    </a:lnTo>
                    <a:close/>
                    <a:moveTo>
                      <a:pt x="505" y="373"/>
                    </a:moveTo>
                    <a:lnTo>
                      <a:pt x="525" y="361"/>
                    </a:lnTo>
                    <a:lnTo>
                      <a:pt x="525" y="338"/>
                    </a:lnTo>
                    <a:lnTo>
                      <a:pt x="505" y="327"/>
                    </a:lnTo>
                    <a:lnTo>
                      <a:pt x="484" y="338"/>
                    </a:lnTo>
                    <a:lnTo>
                      <a:pt x="484" y="361"/>
                    </a:lnTo>
                    <a:lnTo>
                      <a:pt x="505" y="373"/>
                    </a:lnTo>
                    <a:close/>
                    <a:moveTo>
                      <a:pt x="48" y="421"/>
                    </a:moveTo>
                    <a:lnTo>
                      <a:pt x="68" y="409"/>
                    </a:lnTo>
                    <a:lnTo>
                      <a:pt x="68" y="384"/>
                    </a:lnTo>
                    <a:lnTo>
                      <a:pt x="48" y="373"/>
                    </a:lnTo>
                    <a:lnTo>
                      <a:pt x="27" y="384"/>
                    </a:lnTo>
                    <a:lnTo>
                      <a:pt x="27" y="409"/>
                    </a:lnTo>
                    <a:lnTo>
                      <a:pt x="48" y="421"/>
                    </a:lnTo>
                    <a:close/>
                    <a:moveTo>
                      <a:pt x="99" y="421"/>
                    </a:moveTo>
                    <a:lnTo>
                      <a:pt x="120" y="409"/>
                    </a:lnTo>
                    <a:lnTo>
                      <a:pt x="120" y="384"/>
                    </a:lnTo>
                    <a:lnTo>
                      <a:pt x="99" y="373"/>
                    </a:lnTo>
                    <a:lnTo>
                      <a:pt x="82" y="384"/>
                    </a:lnTo>
                    <a:lnTo>
                      <a:pt x="82" y="409"/>
                    </a:lnTo>
                    <a:lnTo>
                      <a:pt x="99" y="421"/>
                    </a:lnTo>
                    <a:close/>
                    <a:moveTo>
                      <a:pt x="155" y="421"/>
                    </a:moveTo>
                    <a:lnTo>
                      <a:pt x="175" y="409"/>
                    </a:lnTo>
                    <a:lnTo>
                      <a:pt x="175" y="384"/>
                    </a:lnTo>
                    <a:lnTo>
                      <a:pt x="155" y="373"/>
                    </a:lnTo>
                    <a:lnTo>
                      <a:pt x="133" y="384"/>
                    </a:lnTo>
                    <a:lnTo>
                      <a:pt x="133" y="409"/>
                    </a:lnTo>
                    <a:lnTo>
                      <a:pt x="155" y="421"/>
                    </a:lnTo>
                    <a:close/>
                    <a:moveTo>
                      <a:pt x="208" y="421"/>
                    </a:moveTo>
                    <a:lnTo>
                      <a:pt x="229" y="409"/>
                    </a:lnTo>
                    <a:lnTo>
                      <a:pt x="229" y="384"/>
                    </a:lnTo>
                    <a:lnTo>
                      <a:pt x="208" y="373"/>
                    </a:lnTo>
                    <a:lnTo>
                      <a:pt x="188" y="384"/>
                    </a:lnTo>
                    <a:lnTo>
                      <a:pt x="188" y="409"/>
                    </a:lnTo>
                    <a:lnTo>
                      <a:pt x="208" y="421"/>
                    </a:lnTo>
                    <a:close/>
                    <a:moveTo>
                      <a:pt x="262" y="421"/>
                    </a:moveTo>
                    <a:lnTo>
                      <a:pt x="282" y="409"/>
                    </a:lnTo>
                    <a:lnTo>
                      <a:pt x="282" y="384"/>
                    </a:lnTo>
                    <a:lnTo>
                      <a:pt x="262" y="373"/>
                    </a:lnTo>
                    <a:lnTo>
                      <a:pt x="242" y="384"/>
                    </a:lnTo>
                    <a:lnTo>
                      <a:pt x="242" y="409"/>
                    </a:lnTo>
                    <a:lnTo>
                      <a:pt x="262" y="421"/>
                    </a:lnTo>
                    <a:close/>
                    <a:moveTo>
                      <a:pt x="317" y="421"/>
                    </a:moveTo>
                    <a:lnTo>
                      <a:pt x="338" y="409"/>
                    </a:lnTo>
                    <a:lnTo>
                      <a:pt x="338" y="384"/>
                    </a:lnTo>
                    <a:lnTo>
                      <a:pt x="317" y="373"/>
                    </a:lnTo>
                    <a:lnTo>
                      <a:pt x="296" y="384"/>
                    </a:lnTo>
                    <a:lnTo>
                      <a:pt x="296" y="409"/>
                    </a:lnTo>
                    <a:lnTo>
                      <a:pt x="317" y="421"/>
                    </a:lnTo>
                    <a:close/>
                    <a:moveTo>
                      <a:pt x="371" y="421"/>
                    </a:moveTo>
                    <a:lnTo>
                      <a:pt x="391" y="409"/>
                    </a:lnTo>
                    <a:lnTo>
                      <a:pt x="391" y="384"/>
                    </a:lnTo>
                    <a:lnTo>
                      <a:pt x="371" y="373"/>
                    </a:lnTo>
                    <a:lnTo>
                      <a:pt x="351" y="384"/>
                    </a:lnTo>
                    <a:lnTo>
                      <a:pt x="351" y="409"/>
                    </a:lnTo>
                    <a:lnTo>
                      <a:pt x="371" y="421"/>
                    </a:lnTo>
                    <a:close/>
                    <a:moveTo>
                      <a:pt x="425" y="421"/>
                    </a:moveTo>
                    <a:lnTo>
                      <a:pt x="447" y="409"/>
                    </a:lnTo>
                    <a:lnTo>
                      <a:pt x="447" y="384"/>
                    </a:lnTo>
                    <a:lnTo>
                      <a:pt x="425" y="373"/>
                    </a:lnTo>
                    <a:lnTo>
                      <a:pt x="405" y="384"/>
                    </a:lnTo>
                    <a:lnTo>
                      <a:pt x="405" y="409"/>
                    </a:lnTo>
                    <a:lnTo>
                      <a:pt x="425" y="421"/>
                    </a:lnTo>
                    <a:close/>
                    <a:moveTo>
                      <a:pt x="371" y="327"/>
                    </a:moveTo>
                    <a:lnTo>
                      <a:pt x="391" y="316"/>
                    </a:lnTo>
                    <a:lnTo>
                      <a:pt x="391" y="292"/>
                    </a:lnTo>
                    <a:lnTo>
                      <a:pt x="371" y="280"/>
                    </a:lnTo>
                    <a:lnTo>
                      <a:pt x="351" y="292"/>
                    </a:lnTo>
                    <a:lnTo>
                      <a:pt x="351" y="316"/>
                    </a:lnTo>
                    <a:lnTo>
                      <a:pt x="371" y="327"/>
                    </a:lnTo>
                    <a:close/>
                    <a:moveTo>
                      <a:pt x="425" y="327"/>
                    </a:moveTo>
                    <a:lnTo>
                      <a:pt x="447" y="316"/>
                    </a:lnTo>
                    <a:lnTo>
                      <a:pt x="447" y="292"/>
                    </a:lnTo>
                    <a:lnTo>
                      <a:pt x="425" y="280"/>
                    </a:lnTo>
                    <a:lnTo>
                      <a:pt x="405" y="292"/>
                    </a:lnTo>
                    <a:lnTo>
                      <a:pt x="405" y="316"/>
                    </a:lnTo>
                    <a:lnTo>
                      <a:pt x="425" y="327"/>
                    </a:lnTo>
                    <a:close/>
                    <a:moveTo>
                      <a:pt x="21" y="373"/>
                    </a:moveTo>
                    <a:lnTo>
                      <a:pt x="41" y="361"/>
                    </a:lnTo>
                    <a:lnTo>
                      <a:pt x="41" y="338"/>
                    </a:lnTo>
                    <a:lnTo>
                      <a:pt x="21" y="327"/>
                    </a:lnTo>
                    <a:lnTo>
                      <a:pt x="0" y="338"/>
                    </a:lnTo>
                    <a:lnTo>
                      <a:pt x="0" y="361"/>
                    </a:lnTo>
                    <a:lnTo>
                      <a:pt x="21" y="373"/>
                    </a:lnTo>
                    <a:close/>
                    <a:moveTo>
                      <a:pt x="74" y="373"/>
                    </a:moveTo>
                    <a:lnTo>
                      <a:pt x="93" y="361"/>
                    </a:lnTo>
                    <a:lnTo>
                      <a:pt x="93" y="338"/>
                    </a:lnTo>
                    <a:lnTo>
                      <a:pt x="74" y="327"/>
                    </a:lnTo>
                    <a:lnTo>
                      <a:pt x="54" y="338"/>
                    </a:lnTo>
                    <a:lnTo>
                      <a:pt x="54" y="361"/>
                    </a:lnTo>
                    <a:lnTo>
                      <a:pt x="74" y="373"/>
                    </a:lnTo>
                    <a:close/>
                    <a:moveTo>
                      <a:pt x="127" y="373"/>
                    </a:moveTo>
                    <a:lnTo>
                      <a:pt x="147" y="361"/>
                    </a:lnTo>
                    <a:lnTo>
                      <a:pt x="147" y="338"/>
                    </a:lnTo>
                    <a:lnTo>
                      <a:pt x="127" y="327"/>
                    </a:lnTo>
                    <a:lnTo>
                      <a:pt x="107" y="338"/>
                    </a:lnTo>
                    <a:lnTo>
                      <a:pt x="107" y="361"/>
                    </a:lnTo>
                    <a:lnTo>
                      <a:pt x="127" y="373"/>
                    </a:lnTo>
                    <a:close/>
                    <a:moveTo>
                      <a:pt x="181" y="373"/>
                    </a:moveTo>
                    <a:lnTo>
                      <a:pt x="201" y="361"/>
                    </a:lnTo>
                    <a:lnTo>
                      <a:pt x="201" y="338"/>
                    </a:lnTo>
                    <a:lnTo>
                      <a:pt x="181" y="327"/>
                    </a:lnTo>
                    <a:lnTo>
                      <a:pt x="161" y="338"/>
                    </a:lnTo>
                    <a:lnTo>
                      <a:pt x="161" y="361"/>
                    </a:lnTo>
                    <a:lnTo>
                      <a:pt x="181" y="373"/>
                    </a:lnTo>
                    <a:close/>
                    <a:moveTo>
                      <a:pt x="236" y="373"/>
                    </a:moveTo>
                    <a:lnTo>
                      <a:pt x="256" y="361"/>
                    </a:lnTo>
                    <a:lnTo>
                      <a:pt x="256" y="338"/>
                    </a:lnTo>
                    <a:lnTo>
                      <a:pt x="236" y="327"/>
                    </a:lnTo>
                    <a:lnTo>
                      <a:pt x="215" y="338"/>
                    </a:lnTo>
                    <a:lnTo>
                      <a:pt x="215" y="361"/>
                    </a:lnTo>
                    <a:lnTo>
                      <a:pt x="236" y="373"/>
                    </a:lnTo>
                    <a:close/>
                    <a:moveTo>
                      <a:pt x="290" y="373"/>
                    </a:moveTo>
                    <a:lnTo>
                      <a:pt x="310" y="361"/>
                    </a:lnTo>
                    <a:lnTo>
                      <a:pt x="310" y="338"/>
                    </a:lnTo>
                    <a:lnTo>
                      <a:pt x="290" y="327"/>
                    </a:lnTo>
                    <a:lnTo>
                      <a:pt x="270" y="338"/>
                    </a:lnTo>
                    <a:lnTo>
                      <a:pt x="270" y="361"/>
                    </a:lnTo>
                    <a:lnTo>
                      <a:pt x="290" y="373"/>
                    </a:lnTo>
                    <a:close/>
                    <a:moveTo>
                      <a:pt x="48" y="327"/>
                    </a:moveTo>
                    <a:lnTo>
                      <a:pt x="68" y="316"/>
                    </a:lnTo>
                    <a:lnTo>
                      <a:pt x="68" y="292"/>
                    </a:lnTo>
                    <a:lnTo>
                      <a:pt x="48" y="280"/>
                    </a:lnTo>
                    <a:lnTo>
                      <a:pt x="27" y="292"/>
                    </a:lnTo>
                    <a:lnTo>
                      <a:pt x="27" y="316"/>
                    </a:lnTo>
                    <a:lnTo>
                      <a:pt x="48" y="327"/>
                    </a:lnTo>
                    <a:close/>
                    <a:moveTo>
                      <a:pt x="99" y="327"/>
                    </a:moveTo>
                    <a:lnTo>
                      <a:pt x="120" y="316"/>
                    </a:lnTo>
                    <a:lnTo>
                      <a:pt x="120" y="292"/>
                    </a:lnTo>
                    <a:lnTo>
                      <a:pt x="99" y="280"/>
                    </a:lnTo>
                    <a:lnTo>
                      <a:pt x="82" y="292"/>
                    </a:lnTo>
                    <a:lnTo>
                      <a:pt x="82" y="316"/>
                    </a:lnTo>
                    <a:lnTo>
                      <a:pt x="99" y="327"/>
                    </a:lnTo>
                    <a:close/>
                    <a:moveTo>
                      <a:pt x="155" y="327"/>
                    </a:moveTo>
                    <a:lnTo>
                      <a:pt x="175" y="316"/>
                    </a:lnTo>
                    <a:lnTo>
                      <a:pt x="175" y="292"/>
                    </a:lnTo>
                    <a:lnTo>
                      <a:pt x="155" y="280"/>
                    </a:lnTo>
                    <a:lnTo>
                      <a:pt x="133" y="292"/>
                    </a:lnTo>
                    <a:lnTo>
                      <a:pt x="133" y="316"/>
                    </a:lnTo>
                    <a:lnTo>
                      <a:pt x="155" y="327"/>
                    </a:lnTo>
                    <a:close/>
                    <a:moveTo>
                      <a:pt x="208" y="327"/>
                    </a:moveTo>
                    <a:lnTo>
                      <a:pt x="229" y="316"/>
                    </a:lnTo>
                    <a:lnTo>
                      <a:pt x="229" y="292"/>
                    </a:lnTo>
                    <a:lnTo>
                      <a:pt x="208" y="280"/>
                    </a:lnTo>
                    <a:lnTo>
                      <a:pt x="188" y="292"/>
                    </a:lnTo>
                    <a:lnTo>
                      <a:pt x="188" y="316"/>
                    </a:lnTo>
                    <a:lnTo>
                      <a:pt x="208" y="327"/>
                    </a:lnTo>
                    <a:close/>
                    <a:moveTo>
                      <a:pt x="262" y="327"/>
                    </a:moveTo>
                    <a:lnTo>
                      <a:pt x="282" y="316"/>
                    </a:lnTo>
                    <a:lnTo>
                      <a:pt x="282" y="292"/>
                    </a:lnTo>
                    <a:lnTo>
                      <a:pt x="262" y="280"/>
                    </a:lnTo>
                    <a:lnTo>
                      <a:pt x="242" y="292"/>
                    </a:lnTo>
                    <a:lnTo>
                      <a:pt x="242" y="316"/>
                    </a:lnTo>
                    <a:lnTo>
                      <a:pt x="262" y="327"/>
                    </a:lnTo>
                    <a:close/>
                    <a:moveTo>
                      <a:pt x="317" y="327"/>
                    </a:moveTo>
                    <a:lnTo>
                      <a:pt x="338" y="316"/>
                    </a:lnTo>
                    <a:lnTo>
                      <a:pt x="338" y="292"/>
                    </a:lnTo>
                    <a:lnTo>
                      <a:pt x="317" y="280"/>
                    </a:lnTo>
                    <a:lnTo>
                      <a:pt x="296" y="292"/>
                    </a:lnTo>
                    <a:lnTo>
                      <a:pt x="296" y="316"/>
                    </a:lnTo>
                    <a:lnTo>
                      <a:pt x="317" y="327"/>
                    </a:lnTo>
                    <a:close/>
                    <a:moveTo>
                      <a:pt x="344" y="373"/>
                    </a:moveTo>
                    <a:lnTo>
                      <a:pt x="365" y="361"/>
                    </a:lnTo>
                    <a:lnTo>
                      <a:pt x="365" y="338"/>
                    </a:lnTo>
                    <a:lnTo>
                      <a:pt x="344" y="327"/>
                    </a:lnTo>
                    <a:lnTo>
                      <a:pt x="324" y="338"/>
                    </a:lnTo>
                    <a:lnTo>
                      <a:pt x="324" y="361"/>
                    </a:lnTo>
                    <a:lnTo>
                      <a:pt x="344" y="373"/>
                    </a:lnTo>
                    <a:close/>
                    <a:moveTo>
                      <a:pt x="399" y="373"/>
                    </a:moveTo>
                    <a:lnTo>
                      <a:pt x="419" y="361"/>
                    </a:lnTo>
                    <a:lnTo>
                      <a:pt x="419" y="338"/>
                    </a:lnTo>
                    <a:lnTo>
                      <a:pt x="399" y="327"/>
                    </a:lnTo>
                    <a:lnTo>
                      <a:pt x="378" y="338"/>
                    </a:lnTo>
                    <a:lnTo>
                      <a:pt x="378" y="361"/>
                    </a:lnTo>
                    <a:lnTo>
                      <a:pt x="399" y="373"/>
                    </a:lnTo>
                    <a:close/>
                    <a:moveTo>
                      <a:pt x="480" y="421"/>
                    </a:moveTo>
                    <a:lnTo>
                      <a:pt x="498" y="409"/>
                    </a:lnTo>
                    <a:lnTo>
                      <a:pt x="498" y="384"/>
                    </a:lnTo>
                    <a:lnTo>
                      <a:pt x="480" y="373"/>
                    </a:lnTo>
                    <a:lnTo>
                      <a:pt x="459" y="384"/>
                    </a:lnTo>
                    <a:lnTo>
                      <a:pt x="459" y="409"/>
                    </a:lnTo>
                    <a:lnTo>
                      <a:pt x="480" y="421"/>
                    </a:lnTo>
                    <a:close/>
                    <a:moveTo>
                      <a:pt x="480" y="140"/>
                    </a:moveTo>
                    <a:lnTo>
                      <a:pt x="498" y="128"/>
                    </a:lnTo>
                    <a:lnTo>
                      <a:pt x="498" y="105"/>
                    </a:lnTo>
                    <a:lnTo>
                      <a:pt x="480" y="94"/>
                    </a:lnTo>
                    <a:lnTo>
                      <a:pt x="459" y="105"/>
                    </a:lnTo>
                    <a:lnTo>
                      <a:pt x="459" y="128"/>
                    </a:lnTo>
                    <a:lnTo>
                      <a:pt x="480" y="140"/>
                    </a:lnTo>
                    <a:close/>
                    <a:moveTo>
                      <a:pt x="505" y="94"/>
                    </a:moveTo>
                    <a:lnTo>
                      <a:pt x="525" y="82"/>
                    </a:lnTo>
                    <a:lnTo>
                      <a:pt x="525" y="58"/>
                    </a:lnTo>
                    <a:lnTo>
                      <a:pt x="505" y="47"/>
                    </a:lnTo>
                    <a:lnTo>
                      <a:pt x="484" y="58"/>
                    </a:lnTo>
                    <a:lnTo>
                      <a:pt x="484" y="82"/>
                    </a:lnTo>
                    <a:lnTo>
                      <a:pt x="505" y="94"/>
                    </a:lnTo>
                    <a:close/>
                    <a:moveTo>
                      <a:pt x="505" y="187"/>
                    </a:moveTo>
                    <a:lnTo>
                      <a:pt x="525" y="174"/>
                    </a:lnTo>
                    <a:lnTo>
                      <a:pt x="525" y="152"/>
                    </a:lnTo>
                    <a:lnTo>
                      <a:pt x="505" y="140"/>
                    </a:lnTo>
                    <a:lnTo>
                      <a:pt x="484" y="152"/>
                    </a:lnTo>
                    <a:lnTo>
                      <a:pt x="484" y="174"/>
                    </a:lnTo>
                    <a:lnTo>
                      <a:pt x="505" y="187"/>
                    </a:lnTo>
                    <a:close/>
                    <a:moveTo>
                      <a:pt x="371" y="234"/>
                    </a:moveTo>
                    <a:lnTo>
                      <a:pt x="391" y="222"/>
                    </a:lnTo>
                    <a:lnTo>
                      <a:pt x="391" y="198"/>
                    </a:lnTo>
                    <a:lnTo>
                      <a:pt x="371" y="187"/>
                    </a:lnTo>
                    <a:lnTo>
                      <a:pt x="351" y="198"/>
                    </a:lnTo>
                    <a:lnTo>
                      <a:pt x="351" y="222"/>
                    </a:lnTo>
                    <a:lnTo>
                      <a:pt x="371" y="234"/>
                    </a:lnTo>
                    <a:close/>
                    <a:moveTo>
                      <a:pt x="425" y="234"/>
                    </a:moveTo>
                    <a:lnTo>
                      <a:pt x="447" y="222"/>
                    </a:lnTo>
                    <a:lnTo>
                      <a:pt x="447" y="198"/>
                    </a:lnTo>
                    <a:lnTo>
                      <a:pt x="425" y="187"/>
                    </a:lnTo>
                    <a:lnTo>
                      <a:pt x="405" y="198"/>
                    </a:lnTo>
                    <a:lnTo>
                      <a:pt x="405" y="222"/>
                    </a:lnTo>
                    <a:lnTo>
                      <a:pt x="425" y="234"/>
                    </a:lnTo>
                    <a:close/>
                    <a:moveTo>
                      <a:pt x="21" y="279"/>
                    </a:moveTo>
                    <a:lnTo>
                      <a:pt x="41" y="268"/>
                    </a:lnTo>
                    <a:lnTo>
                      <a:pt x="41" y="245"/>
                    </a:lnTo>
                    <a:lnTo>
                      <a:pt x="21" y="234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21" y="279"/>
                    </a:lnTo>
                    <a:close/>
                    <a:moveTo>
                      <a:pt x="74" y="279"/>
                    </a:moveTo>
                    <a:lnTo>
                      <a:pt x="93" y="268"/>
                    </a:lnTo>
                    <a:lnTo>
                      <a:pt x="93" y="245"/>
                    </a:lnTo>
                    <a:lnTo>
                      <a:pt x="74" y="234"/>
                    </a:lnTo>
                    <a:lnTo>
                      <a:pt x="54" y="245"/>
                    </a:lnTo>
                    <a:lnTo>
                      <a:pt x="54" y="268"/>
                    </a:lnTo>
                    <a:lnTo>
                      <a:pt x="74" y="279"/>
                    </a:lnTo>
                    <a:close/>
                    <a:moveTo>
                      <a:pt x="127" y="279"/>
                    </a:moveTo>
                    <a:lnTo>
                      <a:pt x="147" y="268"/>
                    </a:lnTo>
                    <a:lnTo>
                      <a:pt x="147" y="245"/>
                    </a:lnTo>
                    <a:lnTo>
                      <a:pt x="127" y="234"/>
                    </a:lnTo>
                    <a:lnTo>
                      <a:pt x="107" y="245"/>
                    </a:lnTo>
                    <a:lnTo>
                      <a:pt x="107" y="268"/>
                    </a:lnTo>
                    <a:lnTo>
                      <a:pt x="127" y="279"/>
                    </a:lnTo>
                    <a:close/>
                    <a:moveTo>
                      <a:pt x="181" y="279"/>
                    </a:moveTo>
                    <a:lnTo>
                      <a:pt x="201" y="268"/>
                    </a:lnTo>
                    <a:lnTo>
                      <a:pt x="201" y="245"/>
                    </a:lnTo>
                    <a:lnTo>
                      <a:pt x="181" y="234"/>
                    </a:lnTo>
                    <a:lnTo>
                      <a:pt x="161" y="245"/>
                    </a:lnTo>
                    <a:lnTo>
                      <a:pt x="161" y="268"/>
                    </a:lnTo>
                    <a:lnTo>
                      <a:pt x="181" y="279"/>
                    </a:lnTo>
                    <a:close/>
                    <a:moveTo>
                      <a:pt x="236" y="279"/>
                    </a:moveTo>
                    <a:lnTo>
                      <a:pt x="256" y="268"/>
                    </a:lnTo>
                    <a:lnTo>
                      <a:pt x="256" y="245"/>
                    </a:lnTo>
                    <a:lnTo>
                      <a:pt x="236" y="234"/>
                    </a:lnTo>
                    <a:lnTo>
                      <a:pt x="215" y="245"/>
                    </a:lnTo>
                    <a:lnTo>
                      <a:pt x="215" y="268"/>
                    </a:lnTo>
                    <a:lnTo>
                      <a:pt x="236" y="279"/>
                    </a:lnTo>
                    <a:close/>
                    <a:moveTo>
                      <a:pt x="290" y="279"/>
                    </a:moveTo>
                    <a:lnTo>
                      <a:pt x="310" y="268"/>
                    </a:lnTo>
                    <a:lnTo>
                      <a:pt x="310" y="245"/>
                    </a:lnTo>
                    <a:lnTo>
                      <a:pt x="290" y="234"/>
                    </a:lnTo>
                    <a:lnTo>
                      <a:pt x="270" y="245"/>
                    </a:lnTo>
                    <a:lnTo>
                      <a:pt x="270" y="268"/>
                    </a:lnTo>
                    <a:lnTo>
                      <a:pt x="290" y="279"/>
                    </a:lnTo>
                    <a:close/>
                    <a:moveTo>
                      <a:pt x="344" y="279"/>
                    </a:moveTo>
                    <a:lnTo>
                      <a:pt x="365" y="268"/>
                    </a:lnTo>
                    <a:lnTo>
                      <a:pt x="365" y="245"/>
                    </a:lnTo>
                    <a:lnTo>
                      <a:pt x="344" y="234"/>
                    </a:lnTo>
                    <a:lnTo>
                      <a:pt x="324" y="245"/>
                    </a:lnTo>
                    <a:lnTo>
                      <a:pt x="324" y="268"/>
                    </a:lnTo>
                    <a:lnTo>
                      <a:pt x="344" y="279"/>
                    </a:lnTo>
                    <a:close/>
                    <a:moveTo>
                      <a:pt x="48" y="234"/>
                    </a:moveTo>
                    <a:lnTo>
                      <a:pt x="68" y="222"/>
                    </a:lnTo>
                    <a:lnTo>
                      <a:pt x="68" y="198"/>
                    </a:lnTo>
                    <a:lnTo>
                      <a:pt x="48" y="187"/>
                    </a:lnTo>
                    <a:lnTo>
                      <a:pt x="27" y="198"/>
                    </a:lnTo>
                    <a:lnTo>
                      <a:pt x="27" y="222"/>
                    </a:lnTo>
                    <a:lnTo>
                      <a:pt x="48" y="234"/>
                    </a:lnTo>
                    <a:close/>
                    <a:moveTo>
                      <a:pt x="99" y="234"/>
                    </a:moveTo>
                    <a:lnTo>
                      <a:pt x="120" y="222"/>
                    </a:lnTo>
                    <a:lnTo>
                      <a:pt x="120" y="198"/>
                    </a:lnTo>
                    <a:lnTo>
                      <a:pt x="99" y="187"/>
                    </a:lnTo>
                    <a:lnTo>
                      <a:pt x="82" y="198"/>
                    </a:lnTo>
                    <a:lnTo>
                      <a:pt x="82" y="222"/>
                    </a:lnTo>
                    <a:lnTo>
                      <a:pt x="99" y="234"/>
                    </a:lnTo>
                    <a:close/>
                    <a:moveTo>
                      <a:pt x="155" y="234"/>
                    </a:moveTo>
                    <a:lnTo>
                      <a:pt x="175" y="222"/>
                    </a:lnTo>
                    <a:lnTo>
                      <a:pt x="175" y="198"/>
                    </a:lnTo>
                    <a:lnTo>
                      <a:pt x="155" y="187"/>
                    </a:lnTo>
                    <a:lnTo>
                      <a:pt x="133" y="198"/>
                    </a:lnTo>
                    <a:lnTo>
                      <a:pt x="133" y="222"/>
                    </a:lnTo>
                    <a:lnTo>
                      <a:pt x="155" y="234"/>
                    </a:lnTo>
                    <a:close/>
                    <a:moveTo>
                      <a:pt x="208" y="234"/>
                    </a:moveTo>
                    <a:lnTo>
                      <a:pt x="229" y="222"/>
                    </a:lnTo>
                    <a:lnTo>
                      <a:pt x="229" y="198"/>
                    </a:lnTo>
                    <a:lnTo>
                      <a:pt x="208" y="187"/>
                    </a:lnTo>
                    <a:lnTo>
                      <a:pt x="188" y="198"/>
                    </a:lnTo>
                    <a:lnTo>
                      <a:pt x="188" y="222"/>
                    </a:lnTo>
                    <a:lnTo>
                      <a:pt x="208" y="234"/>
                    </a:lnTo>
                    <a:close/>
                    <a:moveTo>
                      <a:pt x="262" y="234"/>
                    </a:moveTo>
                    <a:lnTo>
                      <a:pt x="282" y="222"/>
                    </a:lnTo>
                    <a:lnTo>
                      <a:pt x="282" y="198"/>
                    </a:lnTo>
                    <a:lnTo>
                      <a:pt x="262" y="187"/>
                    </a:lnTo>
                    <a:lnTo>
                      <a:pt x="242" y="198"/>
                    </a:lnTo>
                    <a:lnTo>
                      <a:pt x="242" y="222"/>
                    </a:lnTo>
                    <a:lnTo>
                      <a:pt x="262" y="234"/>
                    </a:lnTo>
                    <a:close/>
                    <a:moveTo>
                      <a:pt x="317" y="234"/>
                    </a:moveTo>
                    <a:lnTo>
                      <a:pt x="338" y="222"/>
                    </a:lnTo>
                    <a:lnTo>
                      <a:pt x="338" y="198"/>
                    </a:lnTo>
                    <a:lnTo>
                      <a:pt x="317" y="187"/>
                    </a:lnTo>
                    <a:lnTo>
                      <a:pt x="296" y="198"/>
                    </a:lnTo>
                    <a:lnTo>
                      <a:pt x="296" y="222"/>
                    </a:lnTo>
                    <a:lnTo>
                      <a:pt x="317" y="234"/>
                    </a:lnTo>
                    <a:close/>
                    <a:moveTo>
                      <a:pt x="399" y="279"/>
                    </a:moveTo>
                    <a:lnTo>
                      <a:pt x="419" y="268"/>
                    </a:lnTo>
                    <a:lnTo>
                      <a:pt x="419" y="245"/>
                    </a:lnTo>
                    <a:lnTo>
                      <a:pt x="399" y="234"/>
                    </a:lnTo>
                    <a:lnTo>
                      <a:pt x="378" y="245"/>
                    </a:lnTo>
                    <a:lnTo>
                      <a:pt x="378" y="268"/>
                    </a:lnTo>
                    <a:lnTo>
                      <a:pt x="399" y="279"/>
                    </a:lnTo>
                    <a:close/>
                    <a:moveTo>
                      <a:pt x="371" y="140"/>
                    </a:moveTo>
                    <a:lnTo>
                      <a:pt x="391" y="128"/>
                    </a:lnTo>
                    <a:lnTo>
                      <a:pt x="391" y="105"/>
                    </a:lnTo>
                    <a:lnTo>
                      <a:pt x="371" y="94"/>
                    </a:lnTo>
                    <a:lnTo>
                      <a:pt x="351" y="105"/>
                    </a:lnTo>
                    <a:lnTo>
                      <a:pt x="351" y="128"/>
                    </a:lnTo>
                    <a:lnTo>
                      <a:pt x="371" y="140"/>
                    </a:lnTo>
                    <a:close/>
                    <a:moveTo>
                      <a:pt x="425" y="140"/>
                    </a:moveTo>
                    <a:lnTo>
                      <a:pt x="447" y="128"/>
                    </a:lnTo>
                    <a:lnTo>
                      <a:pt x="447" y="105"/>
                    </a:lnTo>
                    <a:lnTo>
                      <a:pt x="425" y="94"/>
                    </a:lnTo>
                    <a:lnTo>
                      <a:pt x="405" y="105"/>
                    </a:lnTo>
                    <a:lnTo>
                      <a:pt x="405" y="128"/>
                    </a:lnTo>
                    <a:lnTo>
                      <a:pt x="425" y="140"/>
                    </a:lnTo>
                    <a:close/>
                    <a:moveTo>
                      <a:pt x="21" y="187"/>
                    </a:moveTo>
                    <a:lnTo>
                      <a:pt x="41" y="174"/>
                    </a:lnTo>
                    <a:lnTo>
                      <a:pt x="41" y="152"/>
                    </a:lnTo>
                    <a:lnTo>
                      <a:pt x="21" y="14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21" y="187"/>
                    </a:lnTo>
                    <a:close/>
                    <a:moveTo>
                      <a:pt x="74" y="187"/>
                    </a:moveTo>
                    <a:lnTo>
                      <a:pt x="93" y="174"/>
                    </a:lnTo>
                    <a:lnTo>
                      <a:pt x="93" y="152"/>
                    </a:lnTo>
                    <a:lnTo>
                      <a:pt x="74" y="140"/>
                    </a:lnTo>
                    <a:lnTo>
                      <a:pt x="54" y="152"/>
                    </a:lnTo>
                    <a:lnTo>
                      <a:pt x="54" y="174"/>
                    </a:lnTo>
                    <a:lnTo>
                      <a:pt x="74" y="187"/>
                    </a:lnTo>
                    <a:close/>
                    <a:moveTo>
                      <a:pt x="127" y="187"/>
                    </a:moveTo>
                    <a:lnTo>
                      <a:pt x="147" y="174"/>
                    </a:lnTo>
                    <a:lnTo>
                      <a:pt x="147" y="152"/>
                    </a:lnTo>
                    <a:lnTo>
                      <a:pt x="127" y="140"/>
                    </a:lnTo>
                    <a:lnTo>
                      <a:pt x="107" y="152"/>
                    </a:lnTo>
                    <a:lnTo>
                      <a:pt x="107" y="174"/>
                    </a:lnTo>
                    <a:lnTo>
                      <a:pt x="127" y="187"/>
                    </a:lnTo>
                    <a:close/>
                    <a:moveTo>
                      <a:pt x="181" y="187"/>
                    </a:moveTo>
                    <a:lnTo>
                      <a:pt x="201" y="174"/>
                    </a:lnTo>
                    <a:lnTo>
                      <a:pt x="201" y="152"/>
                    </a:lnTo>
                    <a:lnTo>
                      <a:pt x="181" y="140"/>
                    </a:lnTo>
                    <a:lnTo>
                      <a:pt x="161" y="152"/>
                    </a:lnTo>
                    <a:lnTo>
                      <a:pt x="161" y="174"/>
                    </a:lnTo>
                    <a:lnTo>
                      <a:pt x="181" y="187"/>
                    </a:lnTo>
                    <a:close/>
                    <a:moveTo>
                      <a:pt x="236" y="187"/>
                    </a:moveTo>
                    <a:lnTo>
                      <a:pt x="256" y="174"/>
                    </a:lnTo>
                    <a:lnTo>
                      <a:pt x="256" y="152"/>
                    </a:lnTo>
                    <a:lnTo>
                      <a:pt x="236" y="140"/>
                    </a:lnTo>
                    <a:lnTo>
                      <a:pt x="215" y="152"/>
                    </a:lnTo>
                    <a:lnTo>
                      <a:pt x="215" y="174"/>
                    </a:lnTo>
                    <a:lnTo>
                      <a:pt x="236" y="187"/>
                    </a:lnTo>
                    <a:close/>
                    <a:moveTo>
                      <a:pt x="290" y="187"/>
                    </a:moveTo>
                    <a:lnTo>
                      <a:pt x="310" y="174"/>
                    </a:lnTo>
                    <a:lnTo>
                      <a:pt x="310" y="152"/>
                    </a:lnTo>
                    <a:lnTo>
                      <a:pt x="290" y="140"/>
                    </a:lnTo>
                    <a:lnTo>
                      <a:pt x="270" y="152"/>
                    </a:lnTo>
                    <a:lnTo>
                      <a:pt x="270" y="174"/>
                    </a:lnTo>
                    <a:lnTo>
                      <a:pt x="290" y="187"/>
                    </a:lnTo>
                    <a:close/>
                    <a:moveTo>
                      <a:pt x="344" y="187"/>
                    </a:moveTo>
                    <a:lnTo>
                      <a:pt x="365" y="174"/>
                    </a:lnTo>
                    <a:lnTo>
                      <a:pt x="365" y="152"/>
                    </a:lnTo>
                    <a:lnTo>
                      <a:pt x="344" y="140"/>
                    </a:lnTo>
                    <a:lnTo>
                      <a:pt x="324" y="152"/>
                    </a:lnTo>
                    <a:lnTo>
                      <a:pt x="324" y="174"/>
                    </a:lnTo>
                    <a:lnTo>
                      <a:pt x="344" y="187"/>
                    </a:lnTo>
                    <a:close/>
                    <a:moveTo>
                      <a:pt x="262" y="47"/>
                    </a:moveTo>
                    <a:lnTo>
                      <a:pt x="282" y="34"/>
                    </a:lnTo>
                    <a:lnTo>
                      <a:pt x="282" y="11"/>
                    </a:lnTo>
                    <a:lnTo>
                      <a:pt x="262" y="0"/>
                    </a:lnTo>
                    <a:lnTo>
                      <a:pt x="242" y="11"/>
                    </a:lnTo>
                    <a:lnTo>
                      <a:pt x="242" y="34"/>
                    </a:lnTo>
                    <a:lnTo>
                      <a:pt x="262" y="47"/>
                    </a:lnTo>
                    <a:close/>
                    <a:moveTo>
                      <a:pt x="290" y="94"/>
                    </a:moveTo>
                    <a:lnTo>
                      <a:pt x="310" y="82"/>
                    </a:lnTo>
                    <a:lnTo>
                      <a:pt x="310" y="58"/>
                    </a:lnTo>
                    <a:lnTo>
                      <a:pt x="290" y="47"/>
                    </a:lnTo>
                    <a:lnTo>
                      <a:pt x="270" y="58"/>
                    </a:lnTo>
                    <a:lnTo>
                      <a:pt x="270" y="82"/>
                    </a:lnTo>
                    <a:lnTo>
                      <a:pt x="290" y="94"/>
                    </a:lnTo>
                    <a:close/>
                    <a:moveTo>
                      <a:pt x="48" y="140"/>
                    </a:moveTo>
                    <a:lnTo>
                      <a:pt x="68" y="128"/>
                    </a:lnTo>
                    <a:lnTo>
                      <a:pt x="68" y="105"/>
                    </a:lnTo>
                    <a:lnTo>
                      <a:pt x="48" y="94"/>
                    </a:lnTo>
                    <a:lnTo>
                      <a:pt x="27" y="105"/>
                    </a:lnTo>
                    <a:lnTo>
                      <a:pt x="27" y="128"/>
                    </a:lnTo>
                    <a:lnTo>
                      <a:pt x="48" y="140"/>
                    </a:lnTo>
                    <a:close/>
                    <a:moveTo>
                      <a:pt x="99" y="140"/>
                    </a:moveTo>
                    <a:lnTo>
                      <a:pt x="120" y="128"/>
                    </a:lnTo>
                    <a:lnTo>
                      <a:pt x="120" y="105"/>
                    </a:lnTo>
                    <a:lnTo>
                      <a:pt x="99" y="94"/>
                    </a:lnTo>
                    <a:lnTo>
                      <a:pt x="82" y="105"/>
                    </a:lnTo>
                    <a:lnTo>
                      <a:pt x="82" y="128"/>
                    </a:lnTo>
                    <a:lnTo>
                      <a:pt x="99" y="140"/>
                    </a:lnTo>
                    <a:close/>
                    <a:moveTo>
                      <a:pt x="155" y="140"/>
                    </a:moveTo>
                    <a:lnTo>
                      <a:pt x="175" y="128"/>
                    </a:lnTo>
                    <a:lnTo>
                      <a:pt x="175" y="105"/>
                    </a:lnTo>
                    <a:lnTo>
                      <a:pt x="155" y="94"/>
                    </a:lnTo>
                    <a:lnTo>
                      <a:pt x="133" y="105"/>
                    </a:lnTo>
                    <a:lnTo>
                      <a:pt x="133" y="128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29" y="128"/>
                    </a:lnTo>
                    <a:lnTo>
                      <a:pt x="229" y="105"/>
                    </a:lnTo>
                    <a:lnTo>
                      <a:pt x="208" y="94"/>
                    </a:lnTo>
                    <a:lnTo>
                      <a:pt x="188" y="105"/>
                    </a:lnTo>
                    <a:lnTo>
                      <a:pt x="188" y="128"/>
                    </a:lnTo>
                    <a:lnTo>
                      <a:pt x="208" y="140"/>
                    </a:lnTo>
                    <a:close/>
                    <a:moveTo>
                      <a:pt x="155" y="47"/>
                    </a:moveTo>
                    <a:lnTo>
                      <a:pt x="175" y="34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3" y="11"/>
                    </a:lnTo>
                    <a:lnTo>
                      <a:pt x="133" y="34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29" y="34"/>
                    </a:lnTo>
                    <a:lnTo>
                      <a:pt x="229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4"/>
                    </a:lnTo>
                    <a:lnTo>
                      <a:pt x="208" y="47"/>
                    </a:lnTo>
                    <a:close/>
                    <a:moveTo>
                      <a:pt x="21" y="94"/>
                    </a:moveTo>
                    <a:lnTo>
                      <a:pt x="41" y="82"/>
                    </a:lnTo>
                    <a:lnTo>
                      <a:pt x="41" y="58"/>
                    </a:lnTo>
                    <a:lnTo>
                      <a:pt x="21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1" y="94"/>
                    </a:lnTo>
                    <a:close/>
                    <a:moveTo>
                      <a:pt x="74" y="94"/>
                    </a:moveTo>
                    <a:lnTo>
                      <a:pt x="93" y="82"/>
                    </a:lnTo>
                    <a:lnTo>
                      <a:pt x="93" y="58"/>
                    </a:lnTo>
                    <a:lnTo>
                      <a:pt x="74" y="47"/>
                    </a:lnTo>
                    <a:lnTo>
                      <a:pt x="54" y="58"/>
                    </a:lnTo>
                    <a:lnTo>
                      <a:pt x="54" y="82"/>
                    </a:lnTo>
                    <a:lnTo>
                      <a:pt x="74" y="94"/>
                    </a:lnTo>
                    <a:close/>
                    <a:moveTo>
                      <a:pt x="127" y="94"/>
                    </a:moveTo>
                    <a:lnTo>
                      <a:pt x="147" y="82"/>
                    </a:lnTo>
                    <a:lnTo>
                      <a:pt x="147" y="58"/>
                    </a:lnTo>
                    <a:lnTo>
                      <a:pt x="127" y="47"/>
                    </a:lnTo>
                    <a:lnTo>
                      <a:pt x="107" y="58"/>
                    </a:lnTo>
                    <a:lnTo>
                      <a:pt x="107" y="82"/>
                    </a:lnTo>
                    <a:lnTo>
                      <a:pt x="127" y="94"/>
                    </a:lnTo>
                    <a:close/>
                    <a:moveTo>
                      <a:pt x="48" y="47"/>
                    </a:moveTo>
                    <a:lnTo>
                      <a:pt x="68" y="34"/>
                    </a:lnTo>
                    <a:lnTo>
                      <a:pt x="68" y="11"/>
                    </a:lnTo>
                    <a:lnTo>
                      <a:pt x="48" y="0"/>
                    </a:lnTo>
                    <a:lnTo>
                      <a:pt x="27" y="11"/>
                    </a:lnTo>
                    <a:lnTo>
                      <a:pt x="27" y="34"/>
                    </a:lnTo>
                    <a:lnTo>
                      <a:pt x="48" y="47"/>
                    </a:lnTo>
                    <a:close/>
                    <a:moveTo>
                      <a:pt x="99" y="47"/>
                    </a:moveTo>
                    <a:lnTo>
                      <a:pt x="120" y="34"/>
                    </a:lnTo>
                    <a:lnTo>
                      <a:pt x="120" y="11"/>
                    </a:lnTo>
                    <a:lnTo>
                      <a:pt x="99" y="0"/>
                    </a:lnTo>
                    <a:lnTo>
                      <a:pt x="82" y="11"/>
                    </a:lnTo>
                    <a:lnTo>
                      <a:pt x="82" y="34"/>
                    </a:lnTo>
                    <a:lnTo>
                      <a:pt x="99" y="47"/>
                    </a:lnTo>
                    <a:close/>
                    <a:moveTo>
                      <a:pt x="181" y="94"/>
                    </a:moveTo>
                    <a:lnTo>
                      <a:pt x="201" y="82"/>
                    </a:lnTo>
                    <a:lnTo>
                      <a:pt x="201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4"/>
                    </a:lnTo>
                    <a:close/>
                    <a:moveTo>
                      <a:pt x="236" y="94"/>
                    </a:moveTo>
                    <a:lnTo>
                      <a:pt x="256" y="82"/>
                    </a:lnTo>
                    <a:lnTo>
                      <a:pt x="256" y="58"/>
                    </a:lnTo>
                    <a:lnTo>
                      <a:pt x="236" y="47"/>
                    </a:lnTo>
                    <a:lnTo>
                      <a:pt x="215" y="58"/>
                    </a:lnTo>
                    <a:lnTo>
                      <a:pt x="215" y="82"/>
                    </a:lnTo>
                    <a:lnTo>
                      <a:pt x="236" y="94"/>
                    </a:lnTo>
                    <a:close/>
                    <a:moveTo>
                      <a:pt x="262" y="140"/>
                    </a:moveTo>
                    <a:lnTo>
                      <a:pt x="282" y="128"/>
                    </a:lnTo>
                    <a:lnTo>
                      <a:pt x="282" y="105"/>
                    </a:lnTo>
                    <a:lnTo>
                      <a:pt x="262" y="94"/>
                    </a:lnTo>
                    <a:lnTo>
                      <a:pt x="242" y="105"/>
                    </a:lnTo>
                    <a:lnTo>
                      <a:pt x="242" y="128"/>
                    </a:lnTo>
                    <a:lnTo>
                      <a:pt x="262" y="140"/>
                    </a:lnTo>
                    <a:close/>
                    <a:moveTo>
                      <a:pt x="317" y="140"/>
                    </a:moveTo>
                    <a:lnTo>
                      <a:pt x="338" y="128"/>
                    </a:lnTo>
                    <a:lnTo>
                      <a:pt x="338" y="105"/>
                    </a:lnTo>
                    <a:lnTo>
                      <a:pt x="317" y="94"/>
                    </a:lnTo>
                    <a:lnTo>
                      <a:pt x="296" y="105"/>
                    </a:lnTo>
                    <a:lnTo>
                      <a:pt x="296" y="128"/>
                    </a:lnTo>
                    <a:lnTo>
                      <a:pt x="317" y="140"/>
                    </a:lnTo>
                    <a:close/>
                    <a:moveTo>
                      <a:pt x="399" y="187"/>
                    </a:moveTo>
                    <a:lnTo>
                      <a:pt x="419" y="174"/>
                    </a:lnTo>
                    <a:lnTo>
                      <a:pt x="419" y="152"/>
                    </a:lnTo>
                    <a:lnTo>
                      <a:pt x="399" y="140"/>
                    </a:lnTo>
                    <a:lnTo>
                      <a:pt x="378" y="152"/>
                    </a:lnTo>
                    <a:lnTo>
                      <a:pt x="378" y="174"/>
                    </a:lnTo>
                    <a:lnTo>
                      <a:pt x="399" y="187"/>
                    </a:lnTo>
                    <a:close/>
                    <a:moveTo>
                      <a:pt x="480" y="234"/>
                    </a:moveTo>
                    <a:lnTo>
                      <a:pt x="498" y="222"/>
                    </a:lnTo>
                    <a:lnTo>
                      <a:pt x="498" y="198"/>
                    </a:lnTo>
                    <a:lnTo>
                      <a:pt x="480" y="187"/>
                    </a:lnTo>
                    <a:lnTo>
                      <a:pt x="459" y="198"/>
                    </a:lnTo>
                    <a:lnTo>
                      <a:pt x="459" y="222"/>
                    </a:lnTo>
                    <a:lnTo>
                      <a:pt x="480" y="234"/>
                    </a:lnTo>
                    <a:close/>
                    <a:moveTo>
                      <a:pt x="505" y="279"/>
                    </a:moveTo>
                    <a:lnTo>
                      <a:pt x="525" y="268"/>
                    </a:lnTo>
                    <a:lnTo>
                      <a:pt x="525" y="245"/>
                    </a:lnTo>
                    <a:lnTo>
                      <a:pt x="505" y="234"/>
                    </a:lnTo>
                    <a:lnTo>
                      <a:pt x="484" y="245"/>
                    </a:lnTo>
                    <a:lnTo>
                      <a:pt x="484" y="268"/>
                    </a:lnTo>
                    <a:lnTo>
                      <a:pt x="505" y="279"/>
                    </a:lnTo>
                    <a:close/>
                    <a:moveTo>
                      <a:pt x="532" y="421"/>
                    </a:moveTo>
                    <a:lnTo>
                      <a:pt x="552" y="409"/>
                    </a:lnTo>
                    <a:lnTo>
                      <a:pt x="552" y="384"/>
                    </a:lnTo>
                    <a:lnTo>
                      <a:pt x="532" y="373"/>
                    </a:lnTo>
                    <a:lnTo>
                      <a:pt x="512" y="384"/>
                    </a:lnTo>
                    <a:lnTo>
                      <a:pt x="512" y="409"/>
                    </a:lnTo>
                    <a:lnTo>
                      <a:pt x="532" y="421"/>
                    </a:lnTo>
                    <a:close/>
                    <a:moveTo>
                      <a:pt x="532" y="327"/>
                    </a:moveTo>
                    <a:lnTo>
                      <a:pt x="552" y="316"/>
                    </a:lnTo>
                    <a:lnTo>
                      <a:pt x="552" y="292"/>
                    </a:lnTo>
                    <a:lnTo>
                      <a:pt x="532" y="280"/>
                    </a:lnTo>
                    <a:lnTo>
                      <a:pt x="512" y="292"/>
                    </a:lnTo>
                    <a:lnTo>
                      <a:pt x="512" y="316"/>
                    </a:lnTo>
                    <a:lnTo>
                      <a:pt x="532" y="327"/>
                    </a:lnTo>
                    <a:close/>
                    <a:moveTo>
                      <a:pt x="559" y="373"/>
                    </a:moveTo>
                    <a:lnTo>
                      <a:pt x="579" y="361"/>
                    </a:lnTo>
                    <a:lnTo>
                      <a:pt x="579" y="338"/>
                    </a:lnTo>
                    <a:lnTo>
                      <a:pt x="559" y="327"/>
                    </a:lnTo>
                    <a:lnTo>
                      <a:pt x="539" y="338"/>
                    </a:lnTo>
                    <a:lnTo>
                      <a:pt x="539" y="361"/>
                    </a:lnTo>
                    <a:lnTo>
                      <a:pt x="559" y="373"/>
                    </a:lnTo>
                    <a:close/>
                    <a:moveTo>
                      <a:pt x="587" y="421"/>
                    </a:moveTo>
                    <a:lnTo>
                      <a:pt x="607" y="409"/>
                    </a:lnTo>
                    <a:lnTo>
                      <a:pt x="607" y="384"/>
                    </a:lnTo>
                    <a:lnTo>
                      <a:pt x="587" y="373"/>
                    </a:lnTo>
                    <a:lnTo>
                      <a:pt x="566" y="384"/>
                    </a:lnTo>
                    <a:lnTo>
                      <a:pt x="566" y="409"/>
                    </a:lnTo>
                    <a:lnTo>
                      <a:pt x="587" y="421"/>
                    </a:lnTo>
                    <a:close/>
                    <a:moveTo>
                      <a:pt x="829" y="466"/>
                    </a:moveTo>
                    <a:lnTo>
                      <a:pt x="849" y="455"/>
                    </a:lnTo>
                    <a:lnTo>
                      <a:pt x="849" y="432"/>
                    </a:lnTo>
                    <a:lnTo>
                      <a:pt x="829" y="421"/>
                    </a:lnTo>
                    <a:lnTo>
                      <a:pt x="809" y="432"/>
                    </a:lnTo>
                    <a:lnTo>
                      <a:pt x="809" y="455"/>
                    </a:lnTo>
                    <a:lnTo>
                      <a:pt x="829" y="466"/>
                    </a:lnTo>
                    <a:close/>
                    <a:moveTo>
                      <a:pt x="883" y="466"/>
                    </a:moveTo>
                    <a:lnTo>
                      <a:pt x="904" y="455"/>
                    </a:lnTo>
                    <a:lnTo>
                      <a:pt x="904" y="432"/>
                    </a:lnTo>
                    <a:lnTo>
                      <a:pt x="883" y="421"/>
                    </a:lnTo>
                    <a:lnTo>
                      <a:pt x="863" y="432"/>
                    </a:lnTo>
                    <a:lnTo>
                      <a:pt x="863" y="455"/>
                    </a:lnTo>
                    <a:lnTo>
                      <a:pt x="883" y="466"/>
                    </a:lnTo>
                    <a:close/>
                    <a:moveTo>
                      <a:pt x="938" y="466"/>
                    </a:moveTo>
                    <a:lnTo>
                      <a:pt x="958" y="455"/>
                    </a:lnTo>
                    <a:lnTo>
                      <a:pt x="958" y="432"/>
                    </a:lnTo>
                    <a:lnTo>
                      <a:pt x="938" y="421"/>
                    </a:lnTo>
                    <a:lnTo>
                      <a:pt x="916" y="432"/>
                    </a:lnTo>
                    <a:lnTo>
                      <a:pt x="916" y="455"/>
                    </a:lnTo>
                    <a:lnTo>
                      <a:pt x="938" y="466"/>
                    </a:lnTo>
                    <a:close/>
                    <a:moveTo>
                      <a:pt x="992" y="559"/>
                    </a:moveTo>
                    <a:lnTo>
                      <a:pt x="1012" y="548"/>
                    </a:lnTo>
                    <a:lnTo>
                      <a:pt x="1012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48"/>
                    </a:lnTo>
                    <a:lnTo>
                      <a:pt x="992" y="559"/>
                    </a:lnTo>
                    <a:close/>
                    <a:moveTo>
                      <a:pt x="1045" y="559"/>
                    </a:moveTo>
                    <a:lnTo>
                      <a:pt x="1064" y="548"/>
                    </a:lnTo>
                    <a:lnTo>
                      <a:pt x="1064" y="525"/>
                    </a:lnTo>
                    <a:lnTo>
                      <a:pt x="1045" y="514"/>
                    </a:lnTo>
                    <a:lnTo>
                      <a:pt x="1025" y="525"/>
                    </a:lnTo>
                    <a:lnTo>
                      <a:pt x="1025" y="548"/>
                    </a:lnTo>
                    <a:lnTo>
                      <a:pt x="1045" y="559"/>
                    </a:lnTo>
                    <a:close/>
                    <a:moveTo>
                      <a:pt x="801" y="605"/>
                    </a:moveTo>
                    <a:lnTo>
                      <a:pt x="821" y="594"/>
                    </a:lnTo>
                    <a:lnTo>
                      <a:pt x="821" y="571"/>
                    </a:lnTo>
                    <a:lnTo>
                      <a:pt x="801" y="559"/>
                    </a:lnTo>
                    <a:lnTo>
                      <a:pt x="781" y="571"/>
                    </a:lnTo>
                    <a:lnTo>
                      <a:pt x="781" y="594"/>
                    </a:lnTo>
                    <a:lnTo>
                      <a:pt x="801" y="605"/>
                    </a:lnTo>
                    <a:close/>
                    <a:moveTo>
                      <a:pt x="856" y="605"/>
                    </a:moveTo>
                    <a:lnTo>
                      <a:pt x="876" y="594"/>
                    </a:lnTo>
                    <a:lnTo>
                      <a:pt x="876" y="571"/>
                    </a:lnTo>
                    <a:lnTo>
                      <a:pt x="856" y="559"/>
                    </a:lnTo>
                    <a:lnTo>
                      <a:pt x="835" y="571"/>
                    </a:lnTo>
                    <a:lnTo>
                      <a:pt x="835" y="594"/>
                    </a:lnTo>
                    <a:lnTo>
                      <a:pt x="856" y="605"/>
                    </a:lnTo>
                    <a:close/>
                    <a:moveTo>
                      <a:pt x="910" y="605"/>
                    </a:moveTo>
                    <a:lnTo>
                      <a:pt x="930" y="594"/>
                    </a:lnTo>
                    <a:lnTo>
                      <a:pt x="930" y="571"/>
                    </a:lnTo>
                    <a:lnTo>
                      <a:pt x="910" y="559"/>
                    </a:lnTo>
                    <a:lnTo>
                      <a:pt x="890" y="571"/>
                    </a:lnTo>
                    <a:lnTo>
                      <a:pt x="890" y="594"/>
                    </a:lnTo>
                    <a:lnTo>
                      <a:pt x="910" y="605"/>
                    </a:lnTo>
                    <a:close/>
                    <a:moveTo>
                      <a:pt x="964" y="605"/>
                    </a:moveTo>
                    <a:lnTo>
                      <a:pt x="985" y="594"/>
                    </a:lnTo>
                    <a:lnTo>
                      <a:pt x="985" y="571"/>
                    </a:lnTo>
                    <a:lnTo>
                      <a:pt x="964" y="559"/>
                    </a:lnTo>
                    <a:lnTo>
                      <a:pt x="944" y="571"/>
                    </a:lnTo>
                    <a:lnTo>
                      <a:pt x="944" y="594"/>
                    </a:lnTo>
                    <a:lnTo>
                      <a:pt x="964" y="605"/>
                    </a:lnTo>
                    <a:close/>
                    <a:moveTo>
                      <a:pt x="1019" y="605"/>
                    </a:moveTo>
                    <a:lnTo>
                      <a:pt x="1039" y="594"/>
                    </a:lnTo>
                    <a:lnTo>
                      <a:pt x="1039" y="571"/>
                    </a:lnTo>
                    <a:lnTo>
                      <a:pt x="1019" y="559"/>
                    </a:lnTo>
                    <a:lnTo>
                      <a:pt x="998" y="571"/>
                    </a:lnTo>
                    <a:lnTo>
                      <a:pt x="998" y="594"/>
                    </a:lnTo>
                    <a:lnTo>
                      <a:pt x="1019" y="605"/>
                    </a:lnTo>
                    <a:close/>
                    <a:moveTo>
                      <a:pt x="1070" y="605"/>
                    </a:moveTo>
                    <a:lnTo>
                      <a:pt x="1091" y="594"/>
                    </a:lnTo>
                    <a:lnTo>
                      <a:pt x="1091" y="571"/>
                    </a:lnTo>
                    <a:lnTo>
                      <a:pt x="1070" y="559"/>
                    </a:lnTo>
                    <a:lnTo>
                      <a:pt x="1053" y="571"/>
                    </a:lnTo>
                    <a:lnTo>
                      <a:pt x="1053" y="594"/>
                    </a:lnTo>
                    <a:lnTo>
                      <a:pt x="1070" y="605"/>
                    </a:lnTo>
                    <a:close/>
                    <a:moveTo>
                      <a:pt x="505" y="653"/>
                    </a:moveTo>
                    <a:lnTo>
                      <a:pt x="525" y="641"/>
                    </a:lnTo>
                    <a:lnTo>
                      <a:pt x="525" y="619"/>
                    </a:lnTo>
                    <a:lnTo>
                      <a:pt x="505" y="605"/>
                    </a:lnTo>
                    <a:lnTo>
                      <a:pt x="484" y="619"/>
                    </a:lnTo>
                    <a:lnTo>
                      <a:pt x="484" y="641"/>
                    </a:lnTo>
                    <a:lnTo>
                      <a:pt x="505" y="653"/>
                    </a:lnTo>
                    <a:close/>
                    <a:moveTo>
                      <a:pt x="559" y="653"/>
                    </a:moveTo>
                    <a:lnTo>
                      <a:pt x="579" y="641"/>
                    </a:lnTo>
                    <a:lnTo>
                      <a:pt x="579" y="619"/>
                    </a:lnTo>
                    <a:lnTo>
                      <a:pt x="559" y="605"/>
                    </a:lnTo>
                    <a:lnTo>
                      <a:pt x="539" y="619"/>
                    </a:lnTo>
                    <a:lnTo>
                      <a:pt x="539" y="641"/>
                    </a:lnTo>
                    <a:lnTo>
                      <a:pt x="559" y="653"/>
                    </a:lnTo>
                    <a:close/>
                    <a:moveTo>
                      <a:pt x="613" y="653"/>
                    </a:moveTo>
                    <a:lnTo>
                      <a:pt x="634" y="641"/>
                    </a:lnTo>
                    <a:lnTo>
                      <a:pt x="634" y="619"/>
                    </a:lnTo>
                    <a:lnTo>
                      <a:pt x="613" y="605"/>
                    </a:lnTo>
                    <a:lnTo>
                      <a:pt x="593" y="619"/>
                    </a:lnTo>
                    <a:lnTo>
                      <a:pt x="593" y="641"/>
                    </a:lnTo>
                    <a:lnTo>
                      <a:pt x="613" y="653"/>
                    </a:lnTo>
                    <a:close/>
                    <a:moveTo>
                      <a:pt x="666" y="653"/>
                    </a:moveTo>
                    <a:lnTo>
                      <a:pt x="686" y="641"/>
                    </a:lnTo>
                    <a:lnTo>
                      <a:pt x="686" y="619"/>
                    </a:lnTo>
                    <a:lnTo>
                      <a:pt x="666" y="605"/>
                    </a:lnTo>
                    <a:lnTo>
                      <a:pt x="647" y="619"/>
                    </a:lnTo>
                    <a:lnTo>
                      <a:pt x="647" y="641"/>
                    </a:lnTo>
                    <a:lnTo>
                      <a:pt x="666" y="653"/>
                    </a:lnTo>
                    <a:close/>
                    <a:moveTo>
                      <a:pt x="720" y="653"/>
                    </a:moveTo>
                    <a:lnTo>
                      <a:pt x="740" y="641"/>
                    </a:lnTo>
                    <a:lnTo>
                      <a:pt x="740" y="619"/>
                    </a:lnTo>
                    <a:lnTo>
                      <a:pt x="720" y="605"/>
                    </a:lnTo>
                    <a:lnTo>
                      <a:pt x="700" y="619"/>
                    </a:lnTo>
                    <a:lnTo>
                      <a:pt x="700" y="641"/>
                    </a:lnTo>
                    <a:lnTo>
                      <a:pt x="720" y="653"/>
                    </a:lnTo>
                    <a:close/>
                    <a:moveTo>
                      <a:pt x="21" y="653"/>
                    </a:moveTo>
                    <a:lnTo>
                      <a:pt x="41" y="641"/>
                    </a:lnTo>
                    <a:lnTo>
                      <a:pt x="41" y="619"/>
                    </a:lnTo>
                    <a:lnTo>
                      <a:pt x="21" y="605"/>
                    </a:lnTo>
                    <a:lnTo>
                      <a:pt x="0" y="619"/>
                    </a:lnTo>
                    <a:lnTo>
                      <a:pt x="0" y="641"/>
                    </a:lnTo>
                    <a:lnTo>
                      <a:pt x="21" y="653"/>
                    </a:lnTo>
                    <a:close/>
                    <a:moveTo>
                      <a:pt x="74" y="653"/>
                    </a:moveTo>
                    <a:lnTo>
                      <a:pt x="93" y="641"/>
                    </a:lnTo>
                    <a:lnTo>
                      <a:pt x="93" y="619"/>
                    </a:lnTo>
                    <a:lnTo>
                      <a:pt x="74" y="605"/>
                    </a:lnTo>
                    <a:lnTo>
                      <a:pt x="54" y="619"/>
                    </a:lnTo>
                    <a:lnTo>
                      <a:pt x="54" y="641"/>
                    </a:lnTo>
                    <a:lnTo>
                      <a:pt x="74" y="653"/>
                    </a:lnTo>
                    <a:close/>
                    <a:moveTo>
                      <a:pt x="127" y="653"/>
                    </a:moveTo>
                    <a:lnTo>
                      <a:pt x="147" y="641"/>
                    </a:lnTo>
                    <a:lnTo>
                      <a:pt x="147" y="619"/>
                    </a:lnTo>
                    <a:lnTo>
                      <a:pt x="127" y="605"/>
                    </a:lnTo>
                    <a:lnTo>
                      <a:pt x="107" y="619"/>
                    </a:lnTo>
                    <a:lnTo>
                      <a:pt x="107" y="641"/>
                    </a:lnTo>
                    <a:lnTo>
                      <a:pt x="127" y="653"/>
                    </a:lnTo>
                    <a:close/>
                    <a:moveTo>
                      <a:pt x="181" y="653"/>
                    </a:moveTo>
                    <a:lnTo>
                      <a:pt x="201" y="641"/>
                    </a:lnTo>
                    <a:lnTo>
                      <a:pt x="201" y="619"/>
                    </a:lnTo>
                    <a:lnTo>
                      <a:pt x="181" y="605"/>
                    </a:lnTo>
                    <a:lnTo>
                      <a:pt x="161" y="619"/>
                    </a:lnTo>
                    <a:lnTo>
                      <a:pt x="161" y="641"/>
                    </a:lnTo>
                    <a:lnTo>
                      <a:pt x="181" y="653"/>
                    </a:lnTo>
                    <a:close/>
                    <a:moveTo>
                      <a:pt x="236" y="653"/>
                    </a:moveTo>
                    <a:lnTo>
                      <a:pt x="256" y="641"/>
                    </a:lnTo>
                    <a:lnTo>
                      <a:pt x="256" y="619"/>
                    </a:lnTo>
                    <a:lnTo>
                      <a:pt x="236" y="605"/>
                    </a:lnTo>
                    <a:lnTo>
                      <a:pt x="215" y="619"/>
                    </a:lnTo>
                    <a:lnTo>
                      <a:pt x="215" y="641"/>
                    </a:lnTo>
                    <a:lnTo>
                      <a:pt x="236" y="653"/>
                    </a:lnTo>
                    <a:close/>
                    <a:moveTo>
                      <a:pt x="290" y="653"/>
                    </a:moveTo>
                    <a:lnTo>
                      <a:pt x="310" y="641"/>
                    </a:lnTo>
                    <a:lnTo>
                      <a:pt x="310" y="619"/>
                    </a:lnTo>
                    <a:lnTo>
                      <a:pt x="290" y="605"/>
                    </a:lnTo>
                    <a:lnTo>
                      <a:pt x="270" y="619"/>
                    </a:lnTo>
                    <a:lnTo>
                      <a:pt x="270" y="641"/>
                    </a:lnTo>
                    <a:lnTo>
                      <a:pt x="290" y="653"/>
                    </a:lnTo>
                    <a:close/>
                    <a:moveTo>
                      <a:pt x="480" y="605"/>
                    </a:moveTo>
                    <a:lnTo>
                      <a:pt x="498" y="594"/>
                    </a:lnTo>
                    <a:lnTo>
                      <a:pt x="498" y="571"/>
                    </a:lnTo>
                    <a:lnTo>
                      <a:pt x="480" y="559"/>
                    </a:lnTo>
                    <a:lnTo>
                      <a:pt x="459" y="571"/>
                    </a:lnTo>
                    <a:lnTo>
                      <a:pt x="459" y="594"/>
                    </a:lnTo>
                    <a:lnTo>
                      <a:pt x="480" y="605"/>
                    </a:lnTo>
                    <a:close/>
                    <a:moveTo>
                      <a:pt x="532" y="605"/>
                    </a:moveTo>
                    <a:lnTo>
                      <a:pt x="552" y="594"/>
                    </a:lnTo>
                    <a:lnTo>
                      <a:pt x="552" y="571"/>
                    </a:lnTo>
                    <a:lnTo>
                      <a:pt x="532" y="559"/>
                    </a:lnTo>
                    <a:lnTo>
                      <a:pt x="512" y="571"/>
                    </a:lnTo>
                    <a:lnTo>
                      <a:pt x="512" y="594"/>
                    </a:lnTo>
                    <a:lnTo>
                      <a:pt x="532" y="605"/>
                    </a:lnTo>
                    <a:close/>
                    <a:moveTo>
                      <a:pt x="587" y="605"/>
                    </a:moveTo>
                    <a:lnTo>
                      <a:pt x="607" y="594"/>
                    </a:lnTo>
                    <a:lnTo>
                      <a:pt x="607" y="571"/>
                    </a:lnTo>
                    <a:lnTo>
                      <a:pt x="587" y="559"/>
                    </a:lnTo>
                    <a:lnTo>
                      <a:pt x="566" y="571"/>
                    </a:lnTo>
                    <a:lnTo>
                      <a:pt x="566" y="594"/>
                    </a:lnTo>
                    <a:lnTo>
                      <a:pt x="587" y="605"/>
                    </a:lnTo>
                    <a:close/>
                    <a:moveTo>
                      <a:pt x="641" y="605"/>
                    </a:moveTo>
                    <a:lnTo>
                      <a:pt x="658" y="594"/>
                    </a:lnTo>
                    <a:lnTo>
                      <a:pt x="658" y="571"/>
                    </a:lnTo>
                    <a:lnTo>
                      <a:pt x="641" y="559"/>
                    </a:lnTo>
                    <a:lnTo>
                      <a:pt x="621" y="571"/>
                    </a:lnTo>
                    <a:lnTo>
                      <a:pt x="621" y="594"/>
                    </a:lnTo>
                    <a:lnTo>
                      <a:pt x="641" y="605"/>
                    </a:lnTo>
                    <a:close/>
                    <a:moveTo>
                      <a:pt x="48" y="605"/>
                    </a:moveTo>
                    <a:lnTo>
                      <a:pt x="68" y="594"/>
                    </a:lnTo>
                    <a:lnTo>
                      <a:pt x="68" y="571"/>
                    </a:lnTo>
                    <a:lnTo>
                      <a:pt x="48" y="559"/>
                    </a:lnTo>
                    <a:lnTo>
                      <a:pt x="27" y="571"/>
                    </a:lnTo>
                    <a:lnTo>
                      <a:pt x="27" y="594"/>
                    </a:lnTo>
                    <a:lnTo>
                      <a:pt x="48" y="605"/>
                    </a:lnTo>
                    <a:close/>
                    <a:moveTo>
                      <a:pt x="99" y="605"/>
                    </a:moveTo>
                    <a:lnTo>
                      <a:pt x="120" y="594"/>
                    </a:lnTo>
                    <a:lnTo>
                      <a:pt x="120" y="571"/>
                    </a:lnTo>
                    <a:lnTo>
                      <a:pt x="99" y="559"/>
                    </a:lnTo>
                    <a:lnTo>
                      <a:pt x="82" y="571"/>
                    </a:lnTo>
                    <a:lnTo>
                      <a:pt x="82" y="594"/>
                    </a:lnTo>
                    <a:lnTo>
                      <a:pt x="99" y="605"/>
                    </a:lnTo>
                    <a:close/>
                    <a:moveTo>
                      <a:pt x="155" y="605"/>
                    </a:moveTo>
                    <a:lnTo>
                      <a:pt x="175" y="594"/>
                    </a:lnTo>
                    <a:lnTo>
                      <a:pt x="175" y="571"/>
                    </a:lnTo>
                    <a:lnTo>
                      <a:pt x="155" y="559"/>
                    </a:lnTo>
                    <a:lnTo>
                      <a:pt x="133" y="571"/>
                    </a:lnTo>
                    <a:lnTo>
                      <a:pt x="133" y="594"/>
                    </a:lnTo>
                    <a:lnTo>
                      <a:pt x="155" y="605"/>
                    </a:lnTo>
                    <a:close/>
                    <a:moveTo>
                      <a:pt x="208" y="605"/>
                    </a:moveTo>
                    <a:lnTo>
                      <a:pt x="229" y="594"/>
                    </a:lnTo>
                    <a:lnTo>
                      <a:pt x="229" y="571"/>
                    </a:lnTo>
                    <a:lnTo>
                      <a:pt x="208" y="559"/>
                    </a:lnTo>
                    <a:lnTo>
                      <a:pt x="188" y="571"/>
                    </a:lnTo>
                    <a:lnTo>
                      <a:pt x="188" y="594"/>
                    </a:lnTo>
                    <a:lnTo>
                      <a:pt x="208" y="605"/>
                    </a:lnTo>
                    <a:close/>
                    <a:moveTo>
                      <a:pt x="262" y="605"/>
                    </a:moveTo>
                    <a:lnTo>
                      <a:pt x="282" y="594"/>
                    </a:lnTo>
                    <a:lnTo>
                      <a:pt x="282" y="571"/>
                    </a:lnTo>
                    <a:lnTo>
                      <a:pt x="262" y="559"/>
                    </a:lnTo>
                    <a:lnTo>
                      <a:pt x="242" y="571"/>
                    </a:lnTo>
                    <a:lnTo>
                      <a:pt x="242" y="594"/>
                    </a:lnTo>
                    <a:lnTo>
                      <a:pt x="262" y="605"/>
                    </a:lnTo>
                    <a:close/>
                    <a:moveTo>
                      <a:pt x="692" y="605"/>
                    </a:moveTo>
                    <a:lnTo>
                      <a:pt x="713" y="594"/>
                    </a:lnTo>
                    <a:lnTo>
                      <a:pt x="713" y="571"/>
                    </a:lnTo>
                    <a:lnTo>
                      <a:pt x="692" y="559"/>
                    </a:lnTo>
                    <a:lnTo>
                      <a:pt x="675" y="571"/>
                    </a:lnTo>
                    <a:lnTo>
                      <a:pt x="675" y="594"/>
                    </a:lnTo>
                    <a:lnTo>
                      <a:pt x="692" y="605"/>
                    </a:lnTo>
                    <a:close/>
                    <a:moveTo>
                      <a:pt x="747" y="605"/>
                    </a:moveTo>
                    <a:lnTo>
                      <a:pt x="767" y="594"/>
                    </a:lnTo>
                    <a:lnTo>
                      <a:pt x="767" y="571"/>
                    </a:lnTo>
                    <a:lnTo>
                      <a:pt x="747" y="559"/>
                    </a:lnTo>
                    <a:lnTo>
                      <a:pt x="727" y="571"/>
                    </a:lnTo>
                    <a:lnTo>
                      <a:pt x="727" y="594"/>
                    </a:lnTo>
                    <a:lnTo>
                      <a:pt x="747" y="605"/>
                    </a:lnTo>
                    <a:close/>
                    <a:moveTo>
                      <a:pt x="775" y="653"/>
                    </a:moveTo>
                    <a:lnTo>
                      <a:pt x="795" y="641"/>
                    </a:lnTo>
                    <a:lnTo>
                      <a:pt x="795" y="619"/>
                    </a:lnTo>
                    <a:lnTo>
                      <a:pt x="775" y="605"/>
                    </a:lnTo>
                    <a:lnTo>
                      <a:pt x="754" y="619"/>
                    </a:lnTo>
                    <a:lnTo>
                      <a:pt x="754" y="641"/>
                    </a:lnTo>
                    <a:lnTo>
                      <a:pt x="775" y="653"/>
                    </a:lnTo>
                    <a:close/>
                    <a:moveTo>
                      <a:pt x="829" y="653"/>
                    </a:moveTo>
                    <a:lnTo>
                      <a:pt x="849" y="641"/>
                    </a:lnTo>
                    <a:lnTo>
                      <a:pt x="849" y="619"/>
                    </a:lnTo>
                    <a:lnTo>
                      <a:pt x="829" y="605"/>
                    </a:lnTo>
                    <a:lnTo>
                      <a:pt x="809" y="619"/>
                    </a:lnTo>
                    <a:lnTo>
                      <a:pt x="809" y="641"/>
                    </a:lnTo>
                    <a:lnTo>
                      <a:pt x="829" y="653"/>
                    </a:lnTo>
                    <a:close/>
                    <a:moveTo>
                      <a:pt x="883" y="653"/>
                    </a:moveTo>
                    <a:lnTo>
                      <a:pt x="904" y="641"/>
                    </a:lnTo>
                    <a:lnTo>
                      <a:pt x="904" y="619"/>
                    </a:lnTo>
                    <a:lnTo>
                      <a:pt x="883" y="605"/>
                    </a:lnTo>
                    <a:lnTo>
                      <a:pt x="863" y="619"/>
                    </a:lnTo>
                    <a:lnTo>
                      <a:pt x="863" y="641"/>
                    </a:lnTo>
                    <a:lnTo>
                      <a:pt x="883" y="653"/>
                    </a:lnTo>
                    <a:close/>
                    <a:moveTo>
                      <a:pt x="938" y="653"/>
                    </a:moveTo>
                    <a:lnTo>
                      <a:pt x="958" y="641"/>
                    </a:lnTo>
                    <a:lnTo>
                      <a:pt x="958" y="619"/>
                    </a:lnTo>
                    <a:lnTo>
                      <a:pt x="938" y="605"/>
                    </a:lnTo>
                    <a:lnTo>
                      <a:pt x="916" y="619"/>
                    </a:lnTo>
                    <a:lnTo>
                      <a:pt x="916" y="641"/>
                    </a:lnTo>
                    <a:lnTo>
                      <a:pt x="938" y="653"/>
                    </a:lnTo>
                    <a:close/>
                    <a:moveTo>
                      <a:pt x="992" y="653"/>
                    </a:moveTo>
                    <a:lnTo>
                      <a:pt x="1012" y="641"/>
                    </a:lnTo>
                    <a:lnTo>
                      <a:pt x="1012" y="619"/>
                    </a:lnTo>
                    <a:lnTo>
                      <a:pt x="992" y="605"/>
                    </a:lnTo>
                    <a:lnTo>
                      <a:pt x="972" y="619"/>
                    </a:lnTo>
                    <a:lnTo>
                      <a:pt x="972" y="641"/>
                    </a:lnTo>
                    <a:lnTo>
                      <a:pt x="992" y="653"/>
                    </a:lnTo>
                    <a:close/>
                    <a:moveTo>
                      <a:pt x="1045" y="653"/>
                    </a:moveTo>
                    <a:lnTo>
                      <a:pt x="1064" y="641"/>
                    </a:lnTo>
                    <a:lnTo>
                      <a:pt x="1064" y="619"/>
                    </a:lnTo>
                    <a:lnTo>
                      <a:pt x="1045" y="605"/>
                    </a:lnTo>
                    <a:lnTo>
                      <a:pt x="1025" y="619"/>
                    </a:lnTo>
                    <a:lnTo>
                      <a:pt x="1025" y="641"/>
                    </a:lnTo>
                    <a:lnTo>
                      <a:pt x="1045" y="653"/>
                    </a:lnTo>
                    <a:close/>
                    <a:moveTo>
                      <a:pt x="1019" y="421"/>
                    </a:moveTo>
                    <a:lnTo>
                      <a:pt x="1039" y="409"/>
                    </a:lnTo>
                    <a:lnTo>
                      <a:pt x="1039" y="384"/>
                    </a:lnTo>
                    <a:lnTo>
                      <a:pt x="1019" y="373"/>
                    </a:lnTo>
                    <a:lnTo>
                      <a:pt x="998" y="384"/>
                    </a:lnTo>
                    <a:lnTo>
                      <a:pt x="998" y="409"/>
                    </a:lnTo>
                    <a:lnTo>
                      <a:pt x="1019" y="421"/>
                    </a:lnTo>
                    <a:close/>
                    <a:moveTo>
                      <a:pt x="1045" y="466"/>
                    </a:moveTo>
                    <a:lnTo>
                      <a:pt x="1064" y="455"/>
                    </a:lnTo>
                    <a:lnTo>
                      <a:pt x="1064" y="432"/>
                    </a:lnTo>
                    <a:lnTo>
                      <a:pt x="1045" y="421"/>
                    </a:lnTo>
                    <a:lnTo>
                      <a:pt x="1025" y="432"/>
                    </a:lnTo>
                    <a:lnTo>
                      <a:pt x="1025" y="455"/>
                    </a:lnTo>
                    <a:lnTo>
                      <a:pt x="1045" y="466"/>
                    </a:lnTo>
                    <a:close/>
                    <a:moveTo>
                      <a:pt x="1070" y="421"/>
                    </a:moveTo>
                    <a:lnTo>
                      <a:pt x="1091" y="409"/>
                    </a:lnTo>
                    <a:lnTo>
                      <a:pt x="1091" y="384"/>
                    </a:lnTo>
                    <a:lnTo>
                      <a:pt x="1070" y="373"/>
                    </a:lnTo>
                    <a:lnTo>
                      <a:pt x="1053" y="384"/>
                    </a:lnTo>
                    <a:lnTo>
                      <a:pt x="1053" y="409"/>
                    </a:lnTo>
                    <a:lnTo>
                      <a:pt x="1070" y="421"/>
                    </a:lnTo>
                    <a:close/>
                    <a:moveTo>
                      <a:pt x="964" y="511"/>
                    </a:moveTo>
                    <a:lnTo>
                      <a:pt x="985" y="500"/>
                    </a:lnTo>
                    <a:lnTo>
                      <a:pt x="985" y="477"/>
                    </a:lnTo>
                    <a:lnTo>
                      <a:pt x="964" y="466"/>
                    </a:lnTo>
                    <a:lnTo>
                      <a:pt x="944" y="477"/>
                    </a:lnTo>
                    <a:lnTo>
                      <a:pt x="944" y="500"/>
                    </a:lnTo>
                    <a:lnTo>
                      <a:pt x="964" y="511"/>
                    </a:lnTo>
                    <a:close/>
                    <a:moveTo>
                      <a:pt x="992" y="466"/>
                    </a:moveTo>
                    <a:lnTo>
                      <a:pt x="1012" y="455"/>
                    </a:lnTo>
                    <a:lnTo>
                      <a:pt x="1012" y="432"/>
                    </a:lnTo>
                    <a:lnTo>
                      <a:pt x="992" y="421"/>
                    </a:lnTo>
                    <a:lnTo>
                      <a:pt x="972" y="432"/>
                    </a:lnTo>
                    <a:lnTo>
                      <a:pt x="972" y="455"/>
                    </a:lnTo>
                    <a:lnTo>
                      <a:pt x="992" y="466"/>
                    </a:lnTo>
                    <a:close/>
                    <a:moveTo>
                      <a:pt x="1019" y="511"/>
                    </a:moveTo>
                    <a:lnTo>
                      <a:pt x="1039" y="500"/>
                    </a:lnTo>
                    <a:lnTo>
                      <a:pt x="1039" y="477"/>
                    </a:lnTo>
                    <a:lnTo>
                      <a:pt x="1019" y="466"/>
                    </a:lnTo>
                    <a:lnTo>
                      <a:pt x="998" y="477"/>
                    </a:lnTo>
                    <a:lnTo>
                      <a:pt x="998" y="500"/>
                    </a:lnTo>
                    <a:lnTo>
                      <a:pt x="1019" y="511"/>
                    </a:lnTo>
                    <a:close/>
                    <a:moveTo>
                      <a:pt x="1070" y="511"/>
                    </a:moveTo>
                    <a:lnTo>
                      <a:pt x="1091" y="500"/>
                    </a:lnTo>
                    <a:lnTo>
                      <a:pt x="1091" y="477"/>
                    </a:lnTo>
                    <a:lnTo>
                      <a:pt x="1070" y="466"/>
                    </a:lnTo>
                    <a:lnTo>
                      <a:pt x="1053" y="477"/>
                    </a:lnTo>
                    <a:lnTo>
                      <a:pt x="1053" y="500"/>
                    </a:lnTo>
                    <a:lnTo>
                      <a:pt x="1070" y="5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531120" y="432684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657504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661752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666000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6447600" y="432684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648864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632052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36300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405480" y="432684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94072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983200" y="432684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602424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06636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108840" y="432684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6151320" y="43268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553080" y="4287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595560" y="428796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6639120" y="4287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383520" y="428796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427440" y="42879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0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469920" y="42879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6510600" y="4287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215760" y="4287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257880" y="428796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300360" y="42879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1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6341040" y="428796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961240" y="428796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003360" y="42879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044400" y="428796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088320" y="428796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6130800" y="4287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173280" y="4287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1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320520" y="42508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6363000" y="42508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940720" y="42508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983200" y="42508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6024240" y="42508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066360" y="42508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6108840" y="425088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151320" y="42508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193440" y="425088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6235920" y="425088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6405480" y="425088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6447600" y="42508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6488640" y="42508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6531120" y="425088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341040" y="406188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6341040" y="398736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6363000" y="41007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6363000" y="4024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363000" y="39488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6300360" y="413784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320520" y="41767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961240" y="421200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6003360" y="421200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6044400" y="421200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6088320" y="421200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130800" y="42120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173280" y="42120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6215760" y="42120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257880" y="4212000"/>
                <a:ext cx="32400" cy="385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215760" y="41378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6257880" y="4137840"/>
                <a:ext cx="3240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940720" y="41767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983200" y="417672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024240" y="41767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6066360" y="41767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108840" y="4176720"/>
                <a:ext cx="3240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151320" y="41767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961240" y="413784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6003360" y="413784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6044400" y="413784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6088320" y="413784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6130800" y="41378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6173280" y="41378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6193440" y="4176720"/>
                <a:ext cx="3276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6235920" y="4176720"/>
                <a:ext cx="3276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6300360" y="421200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6300360" y="39873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320520" y="39488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6320520" y="4024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6215760" y="4061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6257880" y="4061880"/>
                <a:ext cx="3240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940720" y="41007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5983200" y="41007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024240" y="41007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066360" y="41007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108840" y="410076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151320" y="41007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193440" y="410076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961240" y="406188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003360" y="406188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6044400" y="406188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6088320" y="406188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6130800" y="4061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6173280" y="4061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235920" y="410076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215760" y="39873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6257880" y="398736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940720" y="4024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983200" y="402480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024240" y="4024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6066360" y="4024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108840" y="402480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151320" y="4024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6193440" y="402480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130800" y="39117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6151320" y="39488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961240" y="398736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2164680" y="3800520"/>
              <a:ext cx="4831200" cy="932040"/>
              <a:chOff x="2164680" y="3800520"/>
              <a:chExt cx="4831200" cy="932040"/>
            </a:xfrm>
          </p:grpSpPr>
          <p:sp>
            <p:nvSpPr>
              <p:cNvPr id="1714" name=""/>
              <p:cNvSpPr/>
              <p:nvPr/>
            </p:nvSpPr>
            <p:spPr>
              <a:xfrm>
                <a:off x="6004440" y="398736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6044400" y="398736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088320" y="39873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044400" y="391176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088320" y="39117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940720" y="394884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983560" y="394884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023520" y="394884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961600" y="391176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04440" y="391176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066360" y="394884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109200" y="394884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131160" y="3987360"/>
                <a:ext cx="30240" cy="36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172560" y="39873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235920" y="402444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6300720" y="4061880"/>
                <a:ext cx="28800" cy="39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320160" y="41014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340680" y="421272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340680" y="413856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362640" y="4176720"/>
                <a:ext cx="316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383520" y="4212720"/>
                <a:ext cx="3276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6575400" y="42508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6617880" y="4250880"/>
                <a:ext cx="3024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6659640" y="42508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702120" y="432648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744960" y="43264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553080" y="4363920"/>
                <a:ext cx="3132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595920" y="4363920"/>
                <a:ext cx="3276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6640200" y="4363920"/>
                <a:ext cx="3024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6680160" y="4363920"/>
                <a:ext cx="3276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6722640" y="4363920"/>
                <a:ext cx="3312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766920" y="436392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6320160" y="439992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362640" y="439992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405480" y="439992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448320" y="439992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19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488280" y="439992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940720" y="439992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983560" y="439992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6023520" y="439992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6066360" y="439992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6109200" y="439992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6152040" y="439992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6300720" y="436392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6340680" y="4363920"/>
                <a:ext cx="3132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6383520" y="4363920"/>
                <a:ext cx="3276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6427800" y="4363920"/>
                <a:ext cx="30240" cy="3564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20" y="46"/>
                    </a:moveTo>
                    <a:lnTo>
                      <a:pt x="37" y="35"/>
                    </a:lnTo>
                    <a:lnTo>
                      <a:pt x="37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961600" y="4363920"/>
                <a:ext cx="3312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6004440" y="43639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6044400" y="4363920"/>
                <a:ext cx="33120" cy="35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6088320" y="4363920"/>
                <a:ext cx="3132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6131160" y="4363920"/>
                <a:ext cx="3024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6470280" y="436392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6510240" y="4363920"/>
                <a:ext cx="316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6531120" y="439992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6575400" y="439992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6617880" y="439992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659640" y="439992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4"/>
                    </a:lnTo>
                    <a:lnTo>
                      <a:pt x="22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702120" y="439992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744960" y="439992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6722640" y="421272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6744960" y="42508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766920" y="421272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680160" y="428832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702120" y="425088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722640" y="428832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766920" y="428832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6415200" y="3947760"/>
                <a:ext cx="333360" cy="25380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6415200" y="3947760"/>
                <a:ext cx="333360" cy="25380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438600" y="3974040"/>
                <a:ext cx="286560" cy="20268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438600" y="3974040"/>
                <a:ext cx="286560" cy="20268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496560" y="4017240"/>
                <a:ext cx="171000" cy="116280"/>
              </a:xfrm>
              <a:custGeom>
                <a:avLst/>
                <a:gdLst/>
                <a:ahLst/>
                <a:rect l="l" t="t" r="r" b="b"/>
                <a:pathLst>
                  <a:path w="218" h="144">
                    <a:moveTo>
                      <a:pt x="20" y="68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0" y="68"/>
                    </a:lnTo>
                    <a:close/>
                    <a:moveTo>
                      <a:pt x="118" y="144"/>
                    </a:moveTo>
                    <a:lnTo>
                      <a:pt x="118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18" y="144"/>
                    </a:lnTo>
                    <a:close/>
                    <a:moveTo>
                      <a:pt x="218" y="68"/>
                    </a:moveTo>
                    <a:lnTo>
                      <a:pt x="218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8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6728400" y="3990960"/>
                <a:ext cx="1130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6728400" y="3962520"/>
                <a:ext cx="28800" cy="264960"/>
              </a:xfrm>
              <a:prstGeom prst="rect">
                <a:avLst/>
              </a:prstGeom>
              <a:solidFill>
                <a:srgbClr val="af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6757560" y="3962520"/>
                <a:ext cx="30240" cy="264960"/>
              </a:xfrm>
              <a:prstGeom prst="rect">
                <a:avLst/>
              </a:prstGeom>
              <a:solidFill>
                <a:srgbClr val="b6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6787800" y="3962520"/>
                <a:ext cx="27360" cy="264960"/>
              </a:xfrm>
              <a:prstGeom prst="rect">
                <a:avLst/>
              </a:prstGeom>
              <a:solidFill>
                <a:srgbClr val="b35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6815160" y="3962520"/>
                <a:ext cx="25920" cy="264960"/>
              </a:xfrm>
              <a:prstGeom prst="rect">
                <a:avLst/>
              </a:prstGeom>
              <a:solidFill>
                <a:srgbClr val="b1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6841440" y="3962520"/>
                <a:ext cx="28440" cy="264960"/>
              </a:xfrm>
              <a:prstGeom prst="rect">
                <a:avLst/>
              </a:prstGeom>
              <a:solidFill>
                <a:srgbClr val="ae4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6748920" y="3968640"/>
                <a:ext cx="110160" cy="225360"/>
              </a:xfrm>
              <a:custGeom>
                <a:avLst/>
                <a:gdLst/>
                <a:ahLst/>
                <a:rect l="l" t="t" r="r" b="b"/>
                <a:pathLst>
                  <a:path w="141" h="280">
                    <a:moveTo>
                      <a:pt x="0" y="261"/>
                    </a:moveTo>
                    <a:lnTo>
                      <a:pt x="0" y="265"/>
                    </a:lnTo>
                    <a:lnTo>
                      <a:pt x="2" y="268"/>
                    </a:lnTo>
                    <a:lnTo>
                      <a:pt x="3" y="272"/>
                    </a:lnTo>
                    <a:lnTo>
                      <a:pt x="5" y="275"/>
                    </a:lnTo>
                    <a:lnTo>
                      <a:pt x="9" y="276"/>
                    </a:lnTo>
                    <a:lnTo>
                      <a:pt x="13" y="279"/>
                    </a:lnTo>
                    <a:lnTo>
                      <a:pt x="17" y="279"/>
                    </a:lnTo>
                    <a:lnTo>
                      <a:pt x="20" y="280"/>
                    </a:lnTo>
                    <a:lnTo>
                      <a:pt x="27" y="280"/>
                    </a:lnTo>
                    <a:lnTo>
                      <a:pt x="116" y="270"/>
                    </a:lnTo>
                    <a:lnTo>
                      <a:pt x="121" y="268"/>
                    </a:lnTo>
                    <a:lnTo>
                      <a:pt x="126" y="267"/>
                    </a:lnTo>
                    <a:lnTo>
                      <a:pt x="129" y="265"/>
                    </a:lnTo>
                    <a:lnTo>
                      <a:pt x="133" y="261"/>
                    </a:lnTo>
                    <a:lnTo>
                      <a:pt x="136" y="257"/>
                    </a:lnTo>
                    <a:lnTo>
                      <a:pt x="138" y="252"/>
                    </a:lnTo>
                    <a:lnTo>
                      <a:pt x="139" y="248"/>
                    </a:lnTo>
                    <a:lnTo>
                      <a:pt x="141" y="243"/>
                    </a:lnTo>
                    <a:lnTo>
                      <a:pt x="141" y="243"/>
                    </a:lnTo>
                    <a:lnTo>
                      <a:pt x="141" y="35"/>
                    </a:lnTo>
                    <a:lnTo>
                      <a:pt x="139" y="31"/>
                    </a:lnTo>
                    <a:lnTo>
                      <a:pt x="138" y="26"/>
                    </a:lnTo>
                    <a:lnTo>
                      <a:pt x="136" y="21"/>
                    </a:lnTo>
                    <a:lnTo>
                      <a:pt x="133" y="17"/>
                    </a:lnTo>
                    <a:lnTo>
                      <a:pt x="128" y="15"/>
                    </a:lnTo>
                    <a:lnTo>
                      <a:pt x="124" y="11"/>
                    </a:lnTo>
                    <a:lnTo>
                      <a:pt x="119" y="10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2570040" y="3894480"/>
                <a:ext cx="2111400" cy="700560"/>
              </a:xfrm>
              <a:custGeom>
                <a:avLst/>
                <a:gdLst/>
                <a:ahLst/>
                <a:rect l="l" t="t" r="r" b="b"/>
                <a:pathLst>
                  <a:path w="2690" h="869">
                    <a:moveTo>
                      <a:pt x="1379" y="632"/>
                    </a:moveTo>
                    <a:lnTo>
                      <a:pt x="0" y="632"/>
                    </a:lnTo>
                    <a:lnTo>
                      <a:pt x="0" y="812"/>
                    </a:lnTo>
                    <a:lnTo>
                      <a:pt x="1379" y="812"/>
                    </a:lnTo>
                    <a:lnTo>
                      <a:pt x="1379" y="632"/>
                    </a:lnTo>
                    <a:close/>
                    <a:moveTo>
                      <a:pt x="1379" y="325"/>
                    </a:moveTo>
                    <a:lnTo>
                      <a:pt x="0" y="325"/>
                    </a:lnTo>
                    <a:lnTo>
                      <a:pt x="0" y="507"/>
                    </a:lnTo>
                    <a:lnTo>
                      <a:pt x="1379" y="507"/>
                    </a:lnTo>
                    <a:lnTo>
                      <a:pt x="1379" y="325"/>
                    </a:lnTo>
                    <a:close/>
                    <a:moveTo>
                      <a:pt x="1379" y="19"/>
                    </a:moveTo>
                    <a:lnTo>
                      <a:pt x="0" y="19"/>
                    </a:lnTo>
                    <a:lnTo>
                      <a:pt x="0" y="201"/>
                    </a:lnTo>
                    <a:lnTo>
                      <a:pt x="1379" y="201"/>
                    </a:lnTo>
                    <a:lnTo>
                      <a:pt x="1379" y="19"/>
                    </a:lnTo>
                    <a:close/>
                    <a:moveTo>
                      <a:pt x="1695" y="0"/>
                    </a:moveTo>
                    <a:lnTo>
                      <a:pt x="1695" y="869"/>
                    </a:lnTo>
                    <a:lnTo>
                      <a:pt x="1868" y="869"/>
                    </a:lnTo>
                    <a:lnTo>
                      <a:pt x="1868" y="0"/>
                    </a:lnTo>
                    <a:lnTo>
                      <a:pt x="1695" y="0"/>
                    </a:lnTo>
                    <a:close/>
                    <a:moveTo>
                      <a:pt x="2517" y="0"/>
                    </a:moveTo>
                    <a:lnTo>
                      <a:pt x="2517" y="869"/>
                    </a:lnTo>
                    <a:lnTo>
                      <a:pt x="2690" y="869"/>
                    </a:lnTo>
                    <a:lnTo>
                      <a:pt x="2690" y="0"/>
                    </a:lnTo>
                    <a:lnTo>
                      <a:pt x="251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70040" y="4403520"/>
                <a:ext cx="1082160" cy="1472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570040" y="4155840"/>
                <a:ext cx="1082160" cy="1472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570040" y="3908160"/>
                <a:ext cx="1082160" cy="1472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3900960" y="3894480"/>
                <a:ext cx="136440" cy="700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4546440" y="3894480"/>
                <a:ext cx="135000" cy="700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2617200" y="3929040"/>
                <a:ext cx="2020320" cy="628920"/>
              </a:xfrm>
              <a:custGeom>
                <a:avLst/>
                <a:gdLst/>
                <a:ahLst/>
                <a:rect l="l" t="t" r="r" b="b"/>
                <a:pathLst>
                  <a:path w="2573" h="779">
                    <a:moveTo>
                      <a:pt x="1139" y="36"/>
                    </a:moveTo>
                    <a:lnTo>
                      <a:pt x="123" y="36"/>
                    </a:lnTo>
                    <a:lnTo>
                      <a:pt x="110" y="36"/>
                    </a:lnTo>
                    <a:lnTo>
                      <a:pt x="98" y="36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6" y="39"/>
                    </a:lnTo>
                    <a:lnTo>
                      <a:pt x="27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6" y="88"/>
                    </a:lnTo>
                    <a:lnTo>
                      <a:pt x="10" y="89"/>
                    </a:lnTo>
                    <a:lnTo>
                      <a:pt x="15" y="90"/>
                    </a:lnTo>
                    <a:lnTo>
                      <a:pt x="21" y="90"/>
                    </a:lnTo>
                    <a:lnTo>
                      <a:pt x="27" y="92"/>
                    </a:lnTo>
                    <a:lnTo>
                      <a:pt x="36" y="92"/>
                    </a:lnTo>
                    <a:lnTo>
                      <a:pt x="45" y="93"/>
                    </a:lnTo>
                    <a:lnTo>
                      <a:pt x="54" y="93"/>
                    </a:lnTo>
                    <a:lnTo>
                      <a:pt x="64" y="94"/>
                    </a:lnTo>
                    <a:lnTo>
                      <a:pt x="75" y="94"/>
                    </a:lnTo>
                    <a:lnTo>
                      <a:pt x="86" y="94"/>
                    </a:lnTo>
                    <a:lnTo>
                      <a:pt x="98" y="94"/>
                    </a:lnTo>
                    <a:lnTo>
                      <a:pt x="110" y="94"/>
                    </a:lnTo>
                    <a:lnTo>
                      <a:pt x="123" y="96"/>
                    </a:lnTo>
                    <a:lnTo>
                      <a:pt x="123" y="96"/>
                    </a:lnTo>
                    <a:lnTo>
                      <a:pt x="1139" y="96"/>
                    </a:lnTo>
                    <a:lnTo>
                      <a:pt x="1151" y="94"/>
                    </a:lnTo>
                    <a:lnTo>
                      <a:pt x="1164" y="94"/>
                    </a:lnTo>
                    <a:lnTo>
                      <a:pt x="1175" y="94"/>
                    </a:lnTo>
                    <a:lnTo>
                      <a:pt x="1186" y="94"/>
                    </a:lnTo>
                    <a:lnTo>
                      <a:pt x="1198" y="94"/>
                    </a:lnTo>
                    <a:lnTo>
                      <a:pt x="1208" y="93"/>
                    </a:lnTo>
                    <a:lnTo>
                      <a:pt x="1216" y="93"/>
                    </a:lnTo>
                    <a:lnTo>
                      <a:pt x="1225" y="92"/>
                    </a:lnTo>
                    <a:lnTo>
                      <a:pt x="1233" y="92"/>
                    </a:lnTo>
                    <a:lnTo>
                      <a:pt x="1240" y="90"/>
                    </a:lnTo>
                    <a:lnTo>
                      <a:pt x="1246" y="90"/>
                    </a:lnTo>
                    <a:lnTo>
                      <a:pt x="1251" y="89"/>
                    </a:lnTo>
                    <a:lnTo>
                      <a:pt x="1255" y="88"/>
                    </a:lnTo>
                    <a:lnTo>
                      <a:pt x="1259" y="88"/>
                    </a:lnTo>
                    <a:lnTo>
                      <a:pt x="1260" y="87"/>
                    </a:lnTo>
                    <a:lnTo>
                      <a:pt x="1260" y="87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45"/>
                    </a:lnTo>
                    <a:lnTo>
                      <a:pt x="1260" y="44"/>
                    </a:lnTo>
                    <a:lnTo>
                      <a:pt x="1260" y="44"/>
                    </a:lnTo>
                    <a:lnTo>
                      <a:pt x="1259" y="43"/>
                    </a:lnTo>
                    <a:lnTo>
                      <a:pt x="1255" y="43"/>
                    </a:lnTo>
                    <a:lnTo>
                      <a:pt x="1251" y="41"/>
                    </a:lnTo>
                    <a:lnTo>
                      <a:pt x="1246" y="41"/>
                    </a:lnTo>
                    <a:lnTo>
                      <a:pt x="1240" y="40"/>
                    </a:lnTo>
                    <a:lnTo>
                      <a:pt x="1233" y="39"/>
                    </a:lnTo>
                    <a:lnTo>
                      <a:pt x="1225" y="39"/>
                    </a:lnTo>
                    <a:lnTo>
                      <a:pt x="1216" y="37"/>
                    </a:lnTo>
                    <a:lnTo>
                      <a:pt x="1208" y="37"/>
                    </a:lnTo>
                    <a:lnTo>
                      <a:pt x="1198" y="37"/>
                    </a:lnTo>
                    <a:lnTo>
                      <a:pt x="1186" y="36"/>
                    </a:lnTo>
                    <a:lnTo>
                      <a:pt x="1175" y="36"/>
                    </a:lnTo>
                    <a:lnTo>
                      <a:pt x="1164" y="36"/>
                    </a:lnTo>
                    <a:lnTo>
                      <a:pt x="1151" y="36"/>
                    </a:lnTo>
                    <a:lnTo>
                      <a:pt x="1139" y="36"/>
                    </a:lnTo>
                    <a:lnTo>
                      <a:pt x="1139" y="36"/>
                    </a:lnTo>
                    <a:close/>
                    <a:moveTo>
                      <a:pt x="1139" y="340"/>
                    </a:moveTo>
                    <a:lnTo>
                      <a:pt x="123" y="340"/>
                    </a:lnTo>
                    <a:lnTo>
                      <a:pt x="110" y="340"/>
                    </a:lnTo>
                    <a:lnTo>
                      <a:pt x="98" y="342"/>
                    </a:lnTo>
                    <a:lnTo>
                      <a:pt x="86" y="342"/>
                    </a:lnTo>
                    <a:lnTo>
                      <a:pt x="75" y="342"/>
                    </a:lnTo>
                    <a:lnTo>
                      <a:pt x="64" y="342"/>
                    </a:lnTo>
                    <a:lnTo>
                      <a:pt x="54" y="343"/>
                    </a:lnTo>
                    <a:lnTo>
                      <a:pt x="45" y="343"/>
                    </a:lnTo>
                    <a:lnTo>
                      <a:pt x="36" y="344"/>
                    </a:lnTo>
                    <a:lnTo>
                      <a:pt x="27" y="344"/>
                    </a:lnTo>
                    <a:lnTo>
                      <a:pt x="21" y="346"/>
                    </a:lnTo>
                    <a:lnTo>
                      <a:pt x="15" y="346"/>
                    </a:lnTo>
                    <a:lnTo>
                      <a:pt x="10" y="347"/>
                    </a:lnTo>
                    <a:lnTo>
                      <a:pt x="6" y="348"/>
                    </a:lnTo>
                    <a:lnTo>
                      <a:pt x="2" y="348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1" y="392"/>
                    </a:lnTo>
                    <a:lnTo>
                      <a:pt x="2" y="392"/>
                    </a:lnTo>
                    <a:lnTo>
                      <a:pt x="6" y="393"/>
                    </a:lnTo>
                    <a:lnTo>
                      <a:pt x="10" y="395"/>
                    </a:lnTo>
                    <a:lnTo>
                      <a:pt x="15" y="395"/>
                    </a:lnTo>
                    <a:lnTo>
                      <a:pt x="21" y="396"/>
                    </a:lnTo>
                    <a:lnTo>
                      <a:pt x="27" y="397"/>
                    </a:lnTo>
                    <a:lnTo>
                      <a:pt x="36" y="397"/>
                    </a:lnTo>
                    <a:lnTo>
                      <a:pt x="45" y="399"/>
                    </a:lnTo>
                    <a:lnTo>
                      <a:pt x="54" y="399"/>
                    </a:lnTo>
                    <a:lnTo>
                      <a:pt x="64" y="399"/>
                    </a:lnTo>
                    <a:lnTo>
                      <a:pt x="75" y="400"/>
                    </a:lnTo>
                    <a:lnTo>
                      <a:pt x="86" y="400"/>
                    </a:lnTo>
                    <a:lnTo>
                      <a:pt x="98" y="400"/>
                    </a:lnTo>
                    <a:lnTo>
                      <a:pt x="110" y="400"/>
                    </a:lnTo>
                    <a:lnTo>
                      <a:pt x="123" y="400"/>
                    </a:lnTo>
                    <a:lnTo>
                      <a:pt x="123" y="400"/>
                    </a:lnTo>
                    <a:lnTo>
                      <a:pt x="1139" y="400"/>
                    </a:lnTo>
                    <a:lnTo>
                      <a:pt x="1151" y="400"/>
                    </a:lnTo>
                    <a:lnTo>
                      <a:pt x="1164" y="400"/>
                    </a:lnTo>
                    <a:lnTo>
                      <a:pt x="1175" y="400"/>
                    </a:lnTo>
                    <a:lnTo>
                      <a:pt x="1186" y="400"/>
                    </a:lnTo>
                    <a:lnTo>
                      <a:pt x="1198" y="399"/>
                    </a:lnTo>
                    <a:lnTo>
                      <a:pt x="1208" y="399"/>
                    </a:lnTo>
                    <a:lnTo>
                      <a:pt x="1216" y="399"/>
                    </a:lnTo>
                    <a:lnTo>
                      <a:pt x="1225" y="397"/>
                    </a:lnTo>
                    <a:lnTo>
                      <a:pt x="1233" y="397"/>
                    </a:lnTo>
                    <a:lnTo>
                      <a:pt x="1240" y="396"/>
                    </a:lnTo>
                    <a:lnTo>
                      <a:pt x="1246" y="395"/>
                    </a:lnTo>
                    <a:lnTo>
                      <a:pt x="1251" y="395"/>
                    </a:lnTo>
                    <a:lnTo>
                      <a:pt x="1255" y="393"/>
                    </a:lnTo>
                    <a:lnTo>
                      <a:pt x="1259" y="392"/>
                    </a:lnTo>
                    <a:lnTo>
                      <a:pt x="1260" y="392"/>
                    </a:lnTo>
                    <a:lnTo>
                      <a:pt x="1260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51"/>
                    </a:lnTo>
                    <a:lnTo>
                      <a:pt x="1260" y="349"/>
                    </a:lnTo>
                    <a:lnTo>
                      <a:pt x="1260" y="349"/>
                    </a:lnTo>
                    <a:lnTo>
                      <a:pt x="1259" y="348"/>
                    </a:lnTo>
                    <a:lnTo>
                      <a:pt x="1255" y="348"/>
                    </a:lnTo>
                    <a:lnTo>
                      <a:pt x="1251" y="347"/>
                    </a:lnTo>
                    <a:lnTo>
                      <a:pt x="1246" y="346"/>
                    </a:lnTo>
                    <a:lnTo>
                      <a:pt x="1240" y="346"/>
                    </a:lnTo>
                    <a:lnTo>
                      <a:pt x="1233" y="344"/>
                    </a:lnTo>
                    <a:lnTo>
                      <a:pt x="1225" y="344"/>
                    </a:lnTo>
                    <a:lnTo>
                      <a:pt x="1216" y="343"/>
                    </a:lnTo>
                    <a:lnTo>
                      <a:pt x="1208" y="343"/>
                    </a:lnTo>
                    <a:lnTo>
                      <a:pt x="1198" y="342"/>
                    </a:lnTo>
                    <a:lnTo>
                      <a:pt x="1186" y="342"/>
                    </a:lnTo>
                    <a:lnTo>
                      <a:pt x="1175" y="342"/>
                    </a:lnTo>
                    <a:lnTo>
                      <a:pt x="1164" y="342"/>
                    </a:lnTo>
                    <a:lnTo>
                      <a:pt x="1151" y="340"/>
                    </a:lnTo>
                    <a:lnTo>
                      <a:pt x="1139" y="340"/>
                    </a:lnTo>
                    <a:lnTo>
                      <a:pt x="1139" y="340"/>
                    </a:lnTo>
                    <a:close/>
                    <a:moveTo>
                      <a:pt x="1139" y="646"/>
                    </a:moveTo>
                    <a:lnTo>
                      <a:pt x="123" y="646"/>
                    </a:lnTo>
                    <a:lnTo>
                      <a:pt x="110" y="646"/>
                    </a:lnTo>
                    <a:lnTo>
                      <a:pt x="98" y="646"/>
                    </a:lnTo>
                    <a:lnTo>
                      <a:pt x="86" y="647"/>
                    </a:lnTo>
                    <a:lnTo>
                      <a:pt x="75" y="647"/>
                    </a:lnTo>
                    <a:lnTo>
                      <a:pt x="64" y="647"/>
                    </a:lnTo>
                    <a:lnTo>
                      <a:pt x="54" y="649"/>
                    </a:lnTo>
                    <a:lnTo>
                      <a:pt x="45" y="649"/>
                    </a:lnTo>
                    <a:lnTo>
                      <a:pt x="36" y="650"/>
                    </a:lnTo>
                    <a:lnTo>
                      <a:pt x="27" y="650"/>
                    </a:lnTo>
                    <a:lnTo>
                      <a:pt x="21" y="651"/>
                    </a:lnTo>
                    <a:lnTo>
                      <a:pt x="15" y="651"/>
                    </a:lnTo>
                    <a:lnTo>
                      <a:pt x="10" y="652"/>
                    </a:lnTo>
                    <a:lnTo>
                      <a:pt x="6" y="654"/>
                    </a:lnTo>
                    <a:lnTo>
                      <a:pt x="2" y="654"/>
                    </a:lnTo>
                    <a:lnTo>
                      <a:pt x="1" y="655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6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1" y="698"/>
                    </a:lnTo>
                    <a:lnTo>
                      <a:pt x="2" y="698"/>
                    </a:lnTo>
                    <a:lnTo>
                      <a:pt x="6" y="699"/>
                    </a:lnTo>
                    <a:lnTo>
                      <a:pt x="10" y="700"/>
                    </a:lnTo>
                    <a:lnTo>
                      <a:pt x="15" y="700"/>
                    </a:lnTo>
                    <a:lnTo>
                      <a:pt x="21" y="702"/>
                    </a:lnTo>
                    <a:lnTo>
                      <a:pt x="27" y="702"/>
                    </a:lnTo>
                    <a:lnTo>
                      <a:pt x="36" y="703"/>
                    </a:lnTo>
                    <a:lnTo>
                      <a:pt x="45" y="703"/>
                    </a:lnTo>
                    <a:lnTo>
                      <a:pt x="54" y="704"/>
                    </a:lnTo>
                    <a:lnTo>
                      <a:pt x="64" y="704"/>
                    </a:lnTo>
                    <a:lnTo>
                      <a:pt x="75" y="705"/>
                    </a:lnTo>
                    <a:lnTo>
                      <a:pt x="86" y="705"/>
                    </a:lnTo>
                    <a:lnTo>
                      <a:pt x="98" y="705"/>
                    </a:lnTo>
                    <a:lnTo>
                      <a:pt x="110" y="705"/>
                    </a:lnTo>
                    <a:lnTo>
                      <a:pt x="123" y="705"/>
                    </a:lnTo>
                    <a:lnTo>
                      <a:pt x="123" y="705"/>
                    </a:lnTo>
                    <a:lnTo>
                      <a:pt x="1139" y="705"/>
                    </a:lnTo>
                    <a:lnTo>
                      <a:pt x="1151" y="705"/>
                    </a:lnTo>
                    <a:lnTo>
                      <a:pt x="1164" y="705"/>
                    </a:lnTo>
                    <a:lnTo>
                      <a:pt x="1175" y="705"/>
                    </a:lnTo>
                    <a:lnTo>
                      <a:pt x="1186" y="705"/>
                    </a:lnTo>
                    <a:lnTo>
                      <a:pt x="1198" y="704"/>
                    </a:lnTo>
                    <a:lnTo>
                      <a:pt x="1208" y="704"/>
                    </a:lnTo>
                    <a:lnTo>
                      <a:pt x="1216" y="703"/>
                    </a:lnTo>
                    <a:lnTo>
                      <a:pt x="1225" y="703"/>
                    </a:lnTo>
                    <a:lnTo>
                      <a:pt x="1233" y="702"/>
                    </a:lnTo>
                    <a:lnTo>
                      <a:pt x="1240" y="702"/>
                    </a:lnTo>
                    <a:lnTo>
                      <a:pt x="1246" y="700"/>
                    </a:lnTo>
                    <a:lnTo>
                      <a:pt x="1251" y="700"/>
                    </a:lnTo>
                    <a:lnTo>
                      <a:pt x="1255" y="699"/>
                    </a:lnTo>
                    <a:lnTo>
                      <a:pt x="1259" y="698"/>
                    </a:lnTo>
                    <a:lnTo>
                      <a:pt x="1260" y="698"/>
                    </a:lnTo>
                    <a:lnTo>
                      <a:pt x="1260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56"/>
                    </a:lnTo>
                    <a:lnTo>
                      <a:pt x="1260" y="655"/>
                    </a:lnTo>
                    <a:lnTo>
                      <a:pt x="1260" y="655"/>
                    </a:lnTo>
                    <a:lnTo>
                      <a:pt x="1259" y="654"/>
                    </a:lnTo>
                    <a:lnTo>
                      <a:pt x="1255" y="654"/>
                    </a:lnTo>
                    <a:lnTo>
                      <a:pt x="1251" y="652"/>
                    </a:lnTo>
                    <a:lnTo>
                      <a:pt x="1246" y="651"/>
                    </a:lnTo>
                    <a:lnTo>
                      <a:pt x="1240" y="651"/>
                    </a:lnTo>
                    <a:lnTo>
                      <a:pt x="1233" y="650"/>
                    </a:lnTo>
                    <a:lnTo>
                      <a:pt x="1225" y="650"/>
                    </a:lnTo>
                    <a:lnTo>
                      <a:pt x="1216" y="649"/>
                    </a:lnTo>
                    <a:lnTo>
                      <a:pt x="1208" y="649"/>
                    </a:lnTo>
                    <a:lnTo>
                      <a:pt x="1198" y="647"/>
                    </a:lnTo>
                    <a:lnTo>
                      <a:pt x="1186" y="647"/>
                    </a:lnTo>
                    <a:lnTo>
                      <a:pt x="1175" y="647"/>
                    </a:lnTo>
                    <a:lnTo>
                      <a:pt x="1164" y="646"/>
                    </a:lnTo>
                    <a:lnTo>
                      <a:pt x="1151" y="646"/>
                    </a:lnTo>
                    <a:lnTo>
                      <a:pt x="1139" y="646"/>
                    </a:lnTo>
                    <a:lnTo>
                      <a:pt x="1139" y="646"/>
                    </a:lnTo>
                    <a:close/>
                    <a:moveTo>
                      <a:pt x="1753" y="703"/>
                    </a:moveTo>
                    <a:lnTo>
                      <a:pt x="1753" y="74"/>
                    </a:lnTo>
                    <a:lnTo>
                      <a:pt x="1751" y="59"/>
                    </a:lnTo>
                    <a:lnTo>
                      <a:pt x="1751" y="53"/>
                    </a:lnTo>
                    <a:lnTo>
                      <a:pt x="1751" y="45"/>
                    </a:lnTo>
                    <a:lnTo>
                      <a:pt x="1751" y="39"/>
                    </a:lnTo>
                    <a:lnTo>
                      <a:pt x="1750" y="32"/>
                    </a:lnTo>
                    <a:lnTo>
                      <a:pt x="1750" y="27"/>
                    </a:lnTo>
                    <a:lnTo>
                      <a:pt x="1749" y="21"/>
                    </a:lnTo>
                    <a:lnTo>
                      <a:pt x="1749" y="16"/>
                    </a:lnTo>
                    <a:lnTo>
                      <a:pt x="1748" y="12"/>
                    </a:lnTo>
                    <a:lnTo>
                      <a:pt x="1748" y="8"/>
                    </a:lnTo>
                    <a:lnTo>
                      <a:pt x="1746" y="5"/>
                    </a:lnTo>
                    <a:lnTo>
                      <a:pt x="1745" y="2"/>
                    </a:lnTo>
                    <a:lnTo>
                      <a:pt x="1745" y="1"/>
                    </a:lnTo>
                    <a:lnTo>
                      <a:pt x="1744" y="0"/>
                    </a:lnTo>
                    <a:lnTo>
                      <a:pt x="1743" y="0"/>
                    </a:lnTo>
                    <a:lnTo>
                      <a:pt x="1705" y="0"/>
                    </a:lnTo>
                    <a:lnTo>
                      <a:pt x="1704" y="0"/>
                    </a:lnTo>
                    <a:lnTo>
                      <a:pt x="1703" y="1"/>
                    </a:lnTo>
                    <a:lnTo>
                      <a:pt x="1703" y="2"/>
                    </a:lnTo>
                    <a:lnTo>
                      <a:pt x="1701" y="5"/>
                    </a:lnTo>
                    <a:lnTo>
                      <a:pt x="1700" y="8"/>
                    </a:lnTo>
                    <a:lnTo>
                      <a:pt x="1700" y="12"/>
                    </a:lnTo>
                    <a:lnTo>
                      <a:pt x="1699" y="16"/>
                    </a:lnTo>
                    <a:lnTo>
                      <a:pt x="1699" y="21"/>
                    </a:lnTo>
                    <a:lnTo>
                      <a:pt x="1698" y="27"/>
                    </a:lnTo>
                    <a:lnTo>
                      <a:pt x="1698" y="32"/>
                    </a:lnTo>
                    <a:lnTo>
                      <a:pt x="1696" y="39"/>
                    </a:lnTo>
                    <a:lnTo>
                      <a:pt x="1696" y="45"/>
                    </a:lnTo>
                    <a:lnTo>
                      <a:pt x="1696" y="53"/>
                    </a:lnTo>
                    <a:lnTo>
                      <a:pt x="1696" y="59"/>
                    </a:lnTo>
                    <a:lnTo>
                      <a:pt x="1695" y="74"/>
                    </a:lnTo>
                    <a:lnTo>
                      <a:pt x="1695" y="74"/>
                    </a:lnTo>
                    <a:lnTo>
                      <a:pt x="1695" y="703"/>
                    </a:lnTo>
                    <a:lnTo>
                      <a:pt x="1696" y="712"/>
                    </a:lnTo>
                    <a:lnTo>
                      <a:pt x="1696" y="719"/>
                    </a:lnTo>
                    <a:lnTo>
                      <a:pt x="1696" y="727"/>
                    </a:lnTo>
                    <a:lnTo>
                      <a:pt x="1696" y="733"/>
                    </a:lnTo>
                    <a:lnTo>
                      <a:pt x="1696" y="739"/>
                    </a:lnTo>
                    <a:lnTo>
                      <a:pt x="1698" y="746"/>
                    </a:lnTo>
                    <a:lnTo>
                      <a:pt x="1698" y="752"/>
                    </a:lnTo>
                    <a:lnTo>
                      <a:pt x="1699" y="757"/>
                    </a:lnTo>
                    <a:lnTo>
                      <a:pt x="1699" y="762"/>
                    </a:lnTo>
                    <a:lnTo>
                      <a:pt x="1700" y="766"/>
                    </a:lnTo>
                    <a:lnTo>
                      <a:pt x="1700" y="770"/>
                    </a:lnTo>
                    <a:lnTo>
                      <a:pt x="1701" y="774"/>
                    </a:lnTo>
                    <a:lnTo>
                      <a:pt x="1703" y="775"/>
                    </a:lnTo>
                    <a:lnTo>
                      <a:pt x="1703" y="777"/>
                    </a:lnTo>
                    <a:lnTo>
                      <a:pt x="1704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43" y="779"/>
                    </a:lnTo>
                    <a:lnTo>
                      <a:pt x="1744" y="779"/>
                    </a:lnTo>
                    <a:lnTo>
                      <a:pt x="1745" y="777"/>
                    </a:lnTo>
                    <a:lnTo>
                      <a:pt x="1745" y="775"/>
                    </a:lnTo>
                    <a:lnTo>
                      <a:pt x="1746" y="774"/>
                    </a:lnTo>
                    <a:lnTo>
                      <a:pt x="1748" y="770"/>
                    </a:lnTo>
                    <a:lnTo>
                      <a:pt x="1748" y="766"/>
                    </a:lnTo>
                    <a:lnTo>
                      <a:pt x="1749" y="762"/>
                    </a:lnTo>
                    <a:lnTo>
                      <a:pt x="1749" y="757"/>
                    </a:lnTo>
                    <a:lnTo>
                      <a:pt x="1750" y="752"/>
                    </a:lnTo>
                    <a:lnTo>
                      <a:pt x="1750" y="746"/>
                    </a:lnTo>
                    <a:lnTo>
                      <a:pt x="1751" y="739"/>
                    </a:lnTo>
                    <a:lnTo>
                      <a:pt x="1751" y="733"/>
                    </a:lnTo>
                    <a:lnTo>
                      <a:pt x="1751" y="727"/>
                    </a:lnTo>
                    <a:lnTo>
                      <a:pt x="1751" y="719"/>
                    </a:lnTo>
                    <a:lnTo>
                      <a:pt x="1753" y="712"/>
                    </a:lnTo>
                    <a:lnTo>
                      <a:pt x="1753" y="703"/>
                    </a:lnTo>
                    <a:lnTo>
                      <a:pt x="1753" y="703"/>
                    </a:lnTo>
                    <a:close/>
                    <a:moveTo>
                      <a:pt x="2573" y="703"/>
                    </a:moveTo>
                    <a:lnTo>
                      <a:pt x="2573" y="74"/>
                    </a:lnTo>
                    <a:lnTo>
                      <a:pt x="2573" y="59"/>
                    </a:lnTo>
                    <a:lnTo>
                      <a:pt x="2573" y="53"/>
                    </a:lnTo>
                    <a:lnTo>
                      <a:pt x="2573" y="45"/>
                    </a:lnTo>
                    <a:lnTo>
                      <a:pt x="2572" y="39"/>
                    </a:lnTo>
                    <a:lnTo>
                      <a:pt x="2572" y="32"/>
                    </a:lnTo>
                    <a:lnTo>
                      <a:pt x="2572" y="27"/>
                    </a:lnTo>
                    <a:lnTo>
                      <a:pt x="2571" y="21"/>
                    </a:lnTo>
                    <a:lnTo>
                      <a:pt x="2571" y="16"/>
                    </a:lnTo>
                    <a:lnTo>
                      <a:pt x="2570" y="12"/>
                    </a:lnTo>
                    <a:lnTo>
                      <a:pt x="2568" y="8"/>
                    </a:lnTo>
                    <a:lnTo>
                      <a:pt x="2568" y="5"/>
                    </a:lnTo>
                    <a:lnTo>
                      <a:pt x="2567" y="2"/>
                    </a:lnTo>
                    <a:lnTo>
                      <a:pt x="2567" y="1"/>
                    </a:lnTo>
                    <a:lnTo>
                      <a:pt x="2566" y="0"/>
                    </a:lnTo>
                    <a:lnTo>
                      <a:pt x="2565" y="0"/>
                    </a:lnTo>
                    <a:lnTo>
                      <a:pt x="2524" y="0"/>
                    </a:lnTo>
                    <a:lnTo>
                      <a:pt x="2523" y="0"/>
                    </a:lnTo>
                    <a:lnTo>
                      <a:pt x="2522" y="1"/>
                    </a:lnTo>
                    <a:lnTo>
                      <a:pt x="2522" y="2"/>
                    </a:lnTo>
                    <a:lnTo>
                      <a:pt x="2521" y="5"/>
                    </a:lnTo>
                    <a:lnTo>
                      <a:pt x="2521" y="8"/>
                    </a:lnTo>
                    <a:lnTo>
                      <a:pt x="2519" y="12"/>
                    </a:lnTo>
                    <a:lnTo>
                      <a:pt x="2519" y="16"/>
                    </a:lnTo>
                    <a:lnTo>
                      <a:pt x="2519" y="21"/>
                    </a:lnTo>
                    <a:lnTo>
                      <a:pt x="2518" y="27"/>
                    </a:lnTo>
                    <a:lnTo>
                      <a:pt x="2518" y="32"/>
                    </a:lnTo>
                    <a:lnTo>
                      <a:pt x="2518" y="39"/>
                    </a:lnTo>
                    <a:lnTo>
                      <a:pt x="2518" y="45"/>
                    </a:lnTo>
                    <a:lnTo>
                      <a:pt x="2517" y="53"/>
                    </a:lnTo>
                    <a:lnTo>
                      <a:pt x="2517" y="59"/>
                    </a:lnTo>
                    <a:lnTo>
                      <a:pt x="2517" y="74"/>
                    </a:lnTo>
                    <a:lnTo>
                      <a:pt x="2517" y="74"/>
                    </a:lnTo>
                    <a:lnTo>
                      <a:pt x="2517" y="703"/>
                    </a:lnTo>
                    <a:lnTo>
                      <a:pt x="2517" y="712"/>
                    </a:lnTo>
                    <a:lnTo>
                      <a:pt x="2517" y="719"/>
                    </a:lnTo>
                    <a:lnTo>
                      <a:pt x="2517" y="727"/>
                    </a:lnTo>
                    <a:lnTo>
                      <a:pt x="2518" y="733"/>
                    </a:lnTo>
                    <a:lnTo>
                      <a:pt x="2518" y="739"/>
                    </a:lnTo>
                    <a:lnTo>
                      <a:pt x="2518" y="746"/>
                    </a:lnTo>
                    <a:lnTo>
                      <a:pt x="2518" y="752"/>
                    </a:lnTo>
                    <a:lnTo>
                      <a:pt x="2519" y="757"/>
                    </a:lnTo>
                    <a:lnTo>
                      <a:pt x="2519" y="762"/>
                    </a:lnTo>
                    <a:lnTo>
                      <a:pt x="2519" y="766"/>
                    </a:lnTo>
                    <a:lnTo>
                      <a:pt x="2521" y="770"/>
                    </a:lnTo>
                    <a:lnTo>
                      <a:pt x="2521" y="774"/>
                    </a:lnTo>
                    <a:lnTo>
                      <a:pt x="2522" y="775"/>
                    </a:lnTo>
                    <a:lnTo>
                      <a:pt x="2522" y="777"/>
                    </a:lnTo>
                    <a:lnTo>
                      <a:pt x="2523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65" y="779"/>
                    </a:lnTo>
                    <a:lnTo>
                      <a:pt x="2566" y="779"/>
                    </a:lnTo>
                    <a:lnTo>
                      <a:pt x="2567" y="777"/>
                    </a:lnTo>
                    <a:lnTo>
                      <a:pt x="2567" y="775"/>
                    </a:lnTo>
                    <a:lnTo>
                      <a:pt x="2568" y="774"/>
                    </a:lnTo>
                    <a:lnTo>
                      <a:pt x="2568" y="770"/>
                    </a:lnTo>
                    <a:lnTo>
                      <a:pt x="2570" y="766"/>
                    </a:lnTo>
                    <a:lnTo>
                      <a:pt x="2571" y="762"/>
                    </a:lnTo>
                    <a:lnTo>
                      <a:pt x="2571" y="757"/>
                    </a:lnTo>
                    <a:lnTo>
                      <a:pt x="2572" y="752"/>
                    </a:lnTo>
                    <a:lnTo>
                      <a:pt x="2572" y="746"/>
                    </a:lnTo>
                    <a:lnTo>
                      <a:pt x="2572" y="739"/>
                    </a:lnTo>
                    <a:lnTo>
                      <a:pt x="2573" y="733"/>
                    </a:lnTo>
                    <a:lnTo>
                      <a:pt x="2573" y="727"/>
                    </a:lnTo>
                    <a:lnTo>
                      <a:pt x="2573" y="719"/>
                    </a:lnTo>
                    <a:lnTo>
                      <a:pt x="2573" y="712"/>
                    </a:lnTo>
                    <a:lnTo>
                      <a:pt x="2573" y="703"/>
                    </a:lnTo>
                    <a:lnTo>
                      <a:pt x="2573" y="70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2617200" y="3958920"/>
                <a:ext cx="990000" cy="4824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5" y="0"/>
                    </a:lnTo>
                    <a:lnTo>
                      <a:pt x="64" y="1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6" y="3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6" y="52"/>
                    </a:lnTo>
                    <a:lnTo>
                      <a:pt x="10" y="53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7" y="56"/>
                    </a:lnTo>
                    <a:lnTo>
                      <a:pt x="36" y="56"/>
                    </a:lnTo>
                    <a:lnTo>
                      <a:pt x="45" y="57"/>
                    </a:lnTo>
                    <a:lnTo>
                      <a:pt x="54" y="57"/>
                    </a:lnTo>
                    <a:lnTo>
                      <a:pt x="64" y="58"/>
                    </a:lnTo>
                    <a:lnTo>
                      <a:pt x="75" y="58"/>
                    </a:lnTo>
                    <a:lnTo>
                      <a:pt x="86" y="58"/>
                    </a:lnTo>
                    <a:lnTo>
                      <a:pt x="98" y="58"/>
                    </a:lnTo>
                    <a:lnTo>
                      <a:pt x="110" y="58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58"/>
                    </a:lnTo>
                    <a:lnTo>
                      <a:pt x="1164" y="58"/>
                    </a:lnTo>
                    <a:lnTo>
                      <a:pt x="1175" y="58"/>
                    </a:lnTo>
                    <a:lnTo>
                      <a:pt x="1186" y="58"/>
                    </a:lnTo>
                    <a:lnTo>
                      <a:pt x="1198" y="58"/>
                    </a:lnTo>
                    <a:lnTo>
                      <a:pt x="1208" y="57"/>
                    </a:lnTo>
                    <a:lnTo>
                      <a:pt x="1216" y="57"/>
                    </a:lnTo>
                    <a:lnTo>
                      <a:pt x="1225" y="56"/>
                    </a:lnTo>
                    <a:lnTo>
                      <a:pt x="1233" y="56"/>
                    </a:lnTo>
                    <a:lnTo>
                      <a:pt x="1240" y="54"/>
                    </a:lnTo>
                    <a:lnTo>
                      <a:pt x="1246" y="54"/>
                    </a:lnTo>
                    <a:lnTo>
                      <a:pt x="1251" y="53"/>
                    </a:lnTo>
                    <a:lnTo>
                      <a:pt x="1255" y="52"/>
                    </a:lnTo>
                    <a:lnTo>
                      <a:pt x="1259" y="52"/>
                    </a:lnTo>
                    <a:lnTo>
                      <a:pt x="1260" y="51"/>
                    </a:lnTo>
                    <a:lnTo>
                      <a:pt x="1260" y="51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9"/>
                    </a:lnTo>
                    <a:lnTo>
                      <a:pt x="1260" y="8"/>
                    </a:lnTo>
                    <a:lnTo>
                      <a:pt x="1260" y="8"/>
                    </a:lnTo>
                    <a:lnTo>
                      <a:pt x="1259" y="7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6" y="5"/>
                    </a:lnTo>
                    <a:lnTo>
                      <a:pt x="1240" y="4"/>
                    </a:lnTo>
                    <a:lnTo>
                      <a:pt x="1233" y="3"/>
                    </a:lnTo>
                    <a:lnTo>
                      <a:pt x="1225" y="3"/>
                    </a:lnTo>
                    <a:lnTo>
                      <a:pt x="1216" y="1"/>
                    </a:lnTo>
                    <a:lnTo>
                      <a:pt x="1208" y="1"/>
                    </a:lnTo>
                    <a:lnTo>
                      <a:pt x="1198" y="1"/>
                    </a:lnTo>
                    <a:lnTo>
                      <a:pt x="1186" y="0"/>
                    </a:lnTo>
                    <a:lnTo>
                      <a:pt x="1175" y="0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617200" y="4204080"/>
                <a:ext cx="990000" cy="4824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2"/>
                    </a:lnTo>
                    <a:lnTo>
                      <a:pt x="86" y="2"/>
                    </a:lnTo>
                    <a:lnTo>
                      <a:pt x="75" y="2"/>
                    </a:lnTo>
                    <a:lnTo>
                      <a:pt x="64" y="2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10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21" y="56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9"/>
                    </a:lnTo>
                    <a:lnTo>
                      <a:pt x="54" y="59"/>
                    </a:lnTo>
                    <a:lnTo>
                      <a:pt x="64" y="59"/>
                    </a:lnTo>
                    <a:lnTo>
                      <a:pt x="75" y="60"/>
                    </a:lnTo>
                    <a:lnTo>
                      <a:pt x="86" y="60"/>
                    </a:lnTo>
                    <a:lnTo>
                      <a:pt x="98" y="60"/>
                    </a:lnTo>
                    <a:lnTo>
                      <a:pt x="110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60"/>
                    </a:lnTo>
                    <a:lnTo>
                      <a:pt x="1164" y="60"/>
                    </a:lnTo>
                    <a:lnTo>
                      <a:pt x="1175" y="60"/>
                    </a:lnTo>
                    <a:lnTo>
                      <a:pt x="1186" y="60"/>
                    </a:lnTo>
                    <a:lnTo>
                      <a:pt x="1198" y="59"/>
                    </a:lnTo>
                    <a:lnTo>
                      <a:pt x="1208" y="59"/>
                    </a:lnTo>
                    <a:lnTo>
                      <a:pt x="1216" y="59"/>
                    </a:lnTo>
                    <a:lnTo>
                      <a:pt x="1225" y="57"/>
                    </a:lnTo>
                    <a:lnTo>
                      <a:pt x="1233" y="57"/>
                    </a:lnTo>
                    <a:lnTo>
                      <a:pt x="1240" y="56"/>
                    </a:lnTo>
                    <a:lnTo>
                      <a:pt x="1246" y="55"/>
                    </a:lnTo>
                    <a:lnTo>
                      <a:pt x="1251" y="55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11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7"/>
                    </a:lnTo>
                    <a:lnTo>
                      <a:pt x="1246" y="6"/>
                    </a:lnTo>
                    <a:lnTo>
                      <a:pt x="1240" y="6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2"/>
                    </a:lnTo>
                    <a:lnTo>
                      <a:pt x="1186" y="2"/>
                    </a:lnTo>
                    <a:lnTo>
                      <a:pt x="1175" y="2"/>
                    </a:lnTo>
                    <a:lnTo>
                      <a:pt x="1164" y="2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17200" y="4451760"/>
                <a:ext cx="990000" cy="48240"/>
              </a:xfrm>
              <a:custGeom>
                <a:avLst/>
                <a:gdLst/>
                <a:ahLst/>
                <a:rect l="l" t="t" r="r" b="b"/>
                <a:pathLst>
                  <a:path w="1261" h="59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1"/>
                    </a:lnTo>
                    <a:lnTo>
                      <a:pt x="75" y="1"/>
                    </a:lnTo>
                    <a:lnTo>
                      <a:pt x="64" y="1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5"/>
                    </a:lnTo>
                    <a:lnTo>
                      <a:pt x="15" y="5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4"/>
                    </a:lnTo>
                    <a:lnTo>
                      <a:pt x="15" y="54"/>
                    </a:lnTo>
                    <a:lnTo>
                      <a:pt x="21" y="56"/>
                    </a:lnTo>
                    <a:lnTo>
                      <a:pt x="27" y="56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8"/>
                    </a:lnTo>
                    <a:lnTo>
                      <a:pt x="64" y="58"/>
                    </a:lnTo>
                    <a:lnTo>
                      <a:pt x="75" y="59"/>
                    </a:lnTo>
                    <a:lnTo>
                      <a:pt x="86" y="59"/>
                    </a:lnTo>
                    <a:lnTo>
                      <a:pt x="98" y="59"/>
                    </a:lnTo>
                    <a:lnTo>
                      <a:pt x="110" y="59"/>
                    </a:lnTo>
                    <a:lnTo>
                      <a:pt x="123" y="59"/>
                    </a:lnTo>
                    <a:lnTo>
                      <a:pt x="123" y="59"/>
                    </a:lnTo>
                    <a:lnTo>
                      <a:pt x="1139" y="59"/>
                    </a:lnTo>
                    <a:lnTo>
                      <a:pt x="1151" y="59"/>
                    </a:lnTo>
                    <a:lnTo>
                      <a:pt x="1164" y="59"/>
                    </a:lnTo>
                    <a:lnTo>
                      <a:pt x="1175" y="59"/>
                    </a:lnTo>
                    <a:lnTo>
                      <a:pt x="1186" y="59"/>
                    </a:lnTo>
                    <a:lnTo>
                      <a:pt x="1198" y="58"/>
                    </a:lnTo>
                    <a:lnTo>
                      <a:pt x="1208" y="58"/>
                    </a:lnTo>
                    <a:lnTo>
                      <a:pt x="1216" y="57"/>
                    </a:lnTo>
                    <a:lnTo>
                      <a:pt x="1225" y="57"/>
                    </a:lnTo>
                    <a:lnTo>
                      <a:pt x="1233" y="56"/>
                    </a:lnTo>
                    <a:lnTo>
                      <a:pt x="1240" y="56"/>
                    </a:lnTo>
                    <a:lnTo>
                      <a:pt x="1246" y="54"/>
                    </a:lnTo>
                    <a:lnTo>
                      <a:pt x="1251" y="54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10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6"/>
                    </a:lnTo>
                    <a:lnTo>
                      <a:pt x="1246" y="5"/>
                    </a:lnTo>
                    <a:lnTo>
                      <a:pt x="1240" y="5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1"/>
                    </a:lnTo>
                    <a:lnTo>
                      <a:pt x="1186" y="1"/>
                    </a:lnTo>
                    <a:lnTo>
                      <a:pt x="1175" y="1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3947760" y="3929040"/>
                <a:ext cx="43920" cy="628920"/>
              </a:xfrm>
              <a:custGeom>
                <a:avLst/>
                <a:gdLst/>
                <a:ahLst/>
                <a:rect l="l" t="t" r="r" b="b"/>
                <a:pathLst>
                  <a:path w="58" h="779">
                    <a:moveTo>
                      <a:pt x="58" y="703"/>
                    </a:moveTo>
                    <a:lnTo>
                      <a:pt x="58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6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4" y="21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1" y="712"/>
                    </a:lnTo>
                    <a:lnTo>
                      <a:pt x="1" y="719"/>
                    </a:lnTo>
                    <a:lnTo>
                      <a:pt x="1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3" y="746"/>
                    </a:lnTo>
                    <a:lnTo>
                      <a:pt x="3" y="752"/>
                    </a:lnTo>
                    <a:lnTo>
                      <a:pt x="4" y="757"/>
                    </a:lnTo>
                    <a:lnTo>
                      <a:pt x="4" y="762"/>
                    </a:lnTo>
                    <a:lnTo>
                      <a:pt x="5" y="766"/>
                    </a:lnTo>
                    <a:lnTo>
                      <a:pt x="5" y="770"/>
                    </a:lnTo>
                    <a:lnTo>
                      <a:pt x="6" y="774"/>
                    </a:lnTo>
                    <a:lnTo>
                      <a:pt x="8" y="775"/>
                    </a:lnTo>
                    <a:lnTo>
                      <a:pt x="8" y="777"/>
                    </a:lnTo>
                    <a:lnTo>
                      <a:pt x="9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3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6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8" y="712"/>
                    </a:lnTo>
                    <a:lnTo>
                      <a:pt x="58" y="703"/>
                    </a:lnTo>
                    <a:lnTo>
                      <a:pt x="58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591800" y="3929040"/>
                <a:ext cx="45360" cy="628920"/>
              </a:xfrm>
              <a:custGeom>
                <a:avLst/>
                <a:gdLst/>
                <a:ahLst/>
                <a:rect l="l" t="t" r="r" b="b"/>
                <a:pathLst>
                  <a:path w="56" h="779">
                    <a:moveTo>
                      <a:pt x="56" y="703"/>
                    </a:moveTo>
                    <a:lnTo>
                      <a:pt x="56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5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0" y="712"/>
                    </a:lnTo>
                    <a:lnTo>
                      <a:pt x="0" y="719"/>
                    </a:lnTo>
                    <a:lnTo>
                      <a:pt x="0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1" y="746"/>
                    </a:lnTo>
                    <a:lnTo>
                      <a:pt x="1" y="752"/>
                    </a:lnTo>
                    <a:lnTo>
                      <a:pt x="2" y="757"/>
                    </a:lnTo>
                    <a:lnTo>
                      <a:pt x="2" y="762"/>
                    </a:lnTo>
                    <a:lnTo>
                      <a:pt x="2" y="766"/>
                    </a:lnTo>
                    <a:lnTo>
                      <a:pt x="4" y="770"/>
                    </a:lnTo>
                    <a:lnTo>
                      <a:pt x="4" y="774"/>
                    </a:lnTo>
                    <a:lnTo>
                      <a:pt x="5" y="775"/>
                    </a:lnTo>
                    <a:lnTo>
                      <a:pt x="5" y="777"/>
                    </a:lnTo>
                    <a:lnTo>
                      <a:pt x="6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1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5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6" y="712"/>
                    </a:lnTo>
                    <a:lnTo>
                      <a:pt x="56" y="703"/>
                    </a:lnTo>
                    <a:lnTo>
                      <a:pt x="56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777040" y="4111200"/>
                <a:ext cx="114120" cy="27000"/>
              </a:xfrm>
              <a:custGeom>
                <a:avLst/>
                <a:gdLst/>
                <a:ahLst/>
                <a:rect l="l" t="t" r="r" b="b"/>
                <a:pathLst>
                  <a:path w="145" h="35">
                    <a:moveTo>
                      <a:pt x="36" y="35"/>
                    </a:moveTo>
                    <a:lnTo>
                      <a:pt x="109" y="35"/>
                    </a:lnTo>
                    <a:lnTo>
                      <a:pt x="109" y="35"/>
                    </a:lnTo>
                    <a:lnTo>
                      <a:pt x="110" y="35"/>
                    </a:lnTo>
                    <a:lnTo>
                      <a:pt x="112" y="35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20" y="34"/>
                    </a:lnTo>
                    <a:lnTo>
                      <a:pt x="123" y="33"/>
                    </a:lnTo>
                    <a:lnTo>
                      <a:pt x="127" y="32"/>
                    </a:lnTo>
                    <a:lnTo>
                      <a:pt x="130" y="29"/>
                    </a:lnTo>
                    <a:lnTo>
                      <a:pt x="133" y="27"/>
                    </a:lnTo>
                    <a:lnTo>
                      <a:pt x="137" y="24"/>
                    </a:lnTo>
                    <a:lnTo>
                      <a:pt x="139" y="20"/>
                    </a:lnTo>
                    <a:lnTo>
                      <a:pt x="142" y="16"/>
                    </a:lnTo>
                    <a:lnTo>
                      <a:pt x="143" y="11"/>
                    </a:lnTo>
                    <a:lnTo>
                      <a:pt x="144" y="6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4" y="16"/>
                    </a:lnTo>
                    <a:lnTo>
                      <a:pt x="5" y="20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3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7040" y="4345200"/>
                <a:ext cx="114120" cy="3060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36" y="36"/>
                    </a:moveTo>
                    <a:lnTo>
                      <a:pt x="109" y="36"/>
                    </a:lnTo>
                    <a:lnTo>
                      <a:pt x="109" y="36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7" y="36"/>
                    </a:lnTo>
                    <a:lnTo>
                      <a:pt x="120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7" y="36"/>
                    </a:lnTo>
                    <a:lnTo>
                      <a:pt x="139" y="36"/>
                    </a:lnTo>
                    <a:lnTo>
                      <a:pt x="142" y="36"/>
                    </a:lnTo>
                    <a:lnTo>
                      <a:pt x="143" y="36"/>
                    </a:lnTo>
                    <a:lnTo>
                      <a:pt x="144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4" y="29"/>
                    </a:lnTo>
                    <a:lnTo>
                      <a:pt x="143" y="24"/>
                    </a:lnTo>
                    <a:lnTo>
                      <a:pt x="142" y="19"/>
                    </a:lnTo>
                    <a:lnTo>
                      <a:pt x="139" y="15"/>
                    </a:lnTo>
                    <a:lnTo>
                      <a:pt x="137" y="11"/>
                    </a:lnTo>
                    <a:lnTo>
                      <a:pt x="133" y="9"/>
                    </a:lnTo>
                    <a:lnTo>
                      <a:pt x="130" y="6"/>
                    </a:lnTo>
                    <a:lnTo>
                      <a:pt x="127" y="3"/>
                    </a:lnTo>
                    <a:lnTo>
                      <a:pt x="123" y="2"/>
                    </a:lnTo>
                    <a:lnTo>
                      <a:pt x="120" y="1"/>
                    </a:lnTo>
                    <a:lnTo>
                      <a:pt x="117" y="1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5" y="15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2749320" y="4080240"/>
                <a:ext cx="27360" cy="29340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777040" y="4080240"/>
                <a:ext cx="27360" cy="293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804400" y="4080240"/>
                <a:ext cx="28800" cy="29340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2833560" y="4080240"/>
                <a:ext cx="30240" cy="293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2775600" y="4087440"/>
                <a:ext cx="89280" cy="3564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17" y="46"/>
                    </a:move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3" y="37"/>
                    </a:lnTo>
                    <a:lnTo>
                      <a:pt x="115" y="34"/>
                    </a:lnTo>
                    <a:lnTo>
                      <a:pt x="116" y="31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18"/>
                    </a:lnTo>
                    <a:lnTo>
                      <a:pt x="116" y="15"/>
                    </a:lnTo>
                    <a:lnTo>
                      <a:pt x="115" y="12"/>
                    </a:lnTo>
                    <a:lnTo>
                      <a:pt x="113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2775600" y="4334040"/>
                <a:ext cx="89280" cy="3672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7" y="45"/>
                    </a:moveTo>
                    <a:lnTo>
                      <a:pt x="101" y="45"/>
                    </a:lnTo>
                    <a:lnTo>
                      <a:pt x="103" y="45"/>
                    </a:lnTo>
                    <a:lnTo>
                      <a:pt x="107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6" y="30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5" y="11"/>
                    </a:lnTo>
                    <a:lnTo>
                      <a:pt x="113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4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3288600" y="4111200"/>
                <a:ext cx="85680" cy="2700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0" y="35"/>
                    </a:moveTo>
                    <a:lnTo>
                      <a:pt x="72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0" y="34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5" y="29"/>
                    </a:lnTo>
                    <a:lnTo>
                      <a:pt x="106" y="27"/>
                    </a:lnTo>
                    <a:lnTo>
                      <a:pt x="107" y="24"/>
                    </a:lnTo>
                    <a:lnTo>
                      <a:pt x="107" y="20"/>
                    </a:lnTo>
                    <a:lnTo>
                      <a:pt x="109" y="16"/>
                    </a:lnTo>
                    <a:lnTo>
                      <a:pt x="109" y="11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3288600" y="4345200"/>
                <a:ext cx="85680" cy="3060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0" y="36"/>
                    </a:moveTo>
                    <a:lnTo>
                      <a:pt x="72" y="36"/>
                    </a:lnTo>
                    <a:lnTo>
                      <a:pt x="78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94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29"/>
                    </a:lnTo>
                    <a:lnTo>
                      <a:pt x="109" y="24"/>
                    </a:lnTo>
                    <a:lnTo>
                      <a:pt x="109" y="19"/>
                    </a:lnTo>
                    <a:lnTo>
                      <a:pt x="107" y="15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6"/>
                    </a:lnTo>
                    <a:lnTo>
                      <a:pt x="104" y="3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7" y="1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3260880" y="4080240"/>
                <a:ext cx="27360" cy="29340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3288600" y="4080240"/>
                <a:ext cx="28800" cy="29340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3317760" y="4080240"/>
                <a:ext cx="27360" cy="29340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3345120" y="4080240"/>
                <a:ext cx="28800" cy="2934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3265200" y="4087440"/>
                <a:ext cx="92520" cy="3564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7" y="46"/>
                    </a:moveTo>
                    <a:lnTo>
                      <a:pt x="99" y="46"/>
                    </a:lnTo>
                    <a:lnTo>
                      <a:pt x="102" y="46"/>
                    </a:lnTo>
                    <a:lnTo>
                      <a:pt x="106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4" y="37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8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6" y="2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2" y="37"/>
                    </a:lnTo>
                    <a:lnTo>
                      <a:pt x="5" y="41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265200" y="4334040"/>
                <a:ext cx="92520" cy="36720"/>
              </a:xfrm>
              <a:custGeom>
                <a:avLst/>
                <a:gdLst/>
                <a:ahLst/>
                <a:rect l="l" t="t" r="r" b="b"/>
                <a:pathLst>
                  <a:path w="117" h="45">
                    <a:moveTo>
                      <a:pt x="17" y="45"/>
                    </a:moveTo>
                    <a:lnTo>
                      <a:pt x="99" y="45"/>
                    </a:lnTo>
                    <a:lnTo>
                      <a:pt x="102" y="45"/>
                    </a:lnTo>
                    <a:lnTo>
                      <a:pt x="106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6" y="34"/>
                    </a:lnTo>
                    <a:lnTo>
                      <a:pt x="116" y="30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6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39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2248560" y="3960000"/>
                <a:ext cx="237240" cy="489960"/>
              </a:xfrm>
              <a:custGeom>
                <a:avLst/>
                <a:gdLst/>
                <a:ahLst/>
                <a:rect l="l" t="t" r="r" b="b"/>
                <a:pathLst>
                  <a:path w="302" h="608">
                    <a:moveTo>
                      <a:pt x="70" y="340"/>
                    </a:moveTo>
                    <a:lnTo>
                      <a:pt x="70" y="338"/>
                    </a:lnTo>
                    <a:lnTo>
                      <a:pt x="70" y="334"/>
                    </a:lnTo>
                    <a:lnTo>
                      <a:pt x="69" y="330"/>
                    </a:lnTo>
                    <a:lnTo>
                      <a:pt x="68" y="327"/>
                    </a:lnTo>
                    <a:lnTo>
                      <a:pt x="65" y="321"/>
                    </a:lnTo>
                    <a:lnTo>
                      <a:pt x="60" y="316"/>
                    </a:lnTo>
                    <a:lnTo>
                      <a:pt x="55" y="312"/>
                    </a:lnTo>
                    <a:lnTo>
                      <a:pt x="50" y="309"/>
                    </a:lnTo>
                    <a:lnTo>
                      <a:pt x="47" y="309"/>
                    </a:lnTo>
                    <a:lnTo>
                      <a:pt x="44" y="307"/>
                    </a:lnTo>
                    <a:lnTo>
                      <a:pt x="40" y="306"/>
                    </a:lnTo>
                    <a:lnTo>
                      <a:pt x="37" y="306"/>
                    </a:lnTo>
                    <a:lnTo>
                      <a:pt x="33" y="306"/>
                    </a:lnTo>
                    <a:lnTo>
                      <a:pt x="29" y="307"/>
                    </a:lnTo>
                    <a:lnTo>
                      <a:pt x="26" y="309"/>
                    </a:lnTo>
                    <a:lnTo>
                      <a:pt x="23" y="309"/>
                    </a:lnTo>
                    <a:lnTo>
                      <a:pt x="16" y="312"/>
                    </a:lnTo>
                    <a:lnTo>
                      <a:pt x="11" y="316"/>
                    </a:lnTo>
                    <a:lnTo>
                      <a:pt x="6" y="321"/>
                    </a:lnTo>
                    <a:lnTo>
                      <a:pt x="4" y="327"/>
                    </a:lnTo>
                    <a:lnTo>
                      <a:pt x="3" y="330"/>
                    </a:lnTo>
                    <a:lnTo>
                      <a:pt x="1" y="334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4"/>
                    </a:lnTo>
                    <a:lnTo>
                      <a:pt x="1" y="348"/>
                    </a:lnTo>
                    <a:lnTo>
                      <a:pt x="3" y="351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11" y="367"/>
                    </a:lnTo>
                    <a:lnTo>
                      <a:pt x="16" y="370"/>
                    </a:lnTo>
                    <a:lnTo>
                      <a:pt x="23" y="374"/>
                    </a:lnTo>
                    <a:lnTo>
                      <a:pt x="26" y="375"/>
                    </a:lnTo>
                    <a:lnTo>
                      <a:pt x="29" y="377"/>
                    </a:lnTo>
                    <a:lnTo>
                      <a:pt x="33" y="377"/>
                    </a:lnTo>
                    <a:lnTo>
                      <a:pt x="37" y="377"/>
                    </a:lnTo>
                    <a:lnTo>
                      <a:pt x="40" y="377"/>
                    </a:lnTo>
                    <a:lnTo>
                      <a:pt x="44" y="377"/>
                    </a:lnTo>
                    <a:lnTo>
                      <a:pt x="47" y="375"/>
                    </a:lnTo>
                    <a:lnTo>
                      <a:pt x="50" y="374"/>
                    </a:lnTo>
                    <a:lnTo>
                      <a:pt x="55" y="370"/>
                    </a:lnTo>
                    <a:lnTo>
                      <a:pt x="60" y="367"/>
                    </a:lnTo>
                    <a:lnTo>
                      <a:pt x="65" y="362"/>
                    </a:lnTo>
                    <a:lnTo>
                      <a:pt x="68" y="355"/>
                    </a:lnTo>
                    <a:lnTo>
                      <a:pt x="69" y="351"/>
                    </a:lnTo>
                    <a:lnTo>
                      <a:pt x="70" y="348"/>
                    </a:lnTo>
                    <a:lnTo>
                      <a:pt x="70" y="344"/>
                    </a:lnTo>
                    <a:lnTo>
                      <a:pt x="70" y="340"/>
                    </a:lnTo>
                    <a:lnTo>
                      <a:pt x="70" y="340"/>
                    </a:lnTo>
                    <a:close/>
                    <a:moveTo>
                      <a:pt x="302" y="37"/>
                    </a:moveTo>
                    <a:lnTo>
                      <a:pt x="301" y="33"/>
                    </a:lnTo>
                    <a:lnTo>
                      <a:pt x="301" y="29"/>
                    </a:lnTo>
                    <a:lnTo>
                      <a:pt x="300" y="27"/>
                    </a:lnTo>
                    <a:lnTo>
                      <a:pt x="298" y="23"/>
                    </a:lnTo>
                    <a:lnTo>
                      <a:pt x="296" y="17"/>
                    </a:lnTo>
                    <a:lnTo>
                      <a:pt x="291" y="12"/>
                    </a:lnTo>
                    <a:lnTo>
                      <a:pt x="286" y="7"/>
                    </a:lnTo>
                    <a:lnTo>
                      <a:pt x="281" y="4"/>
                    </a:lnTo>
                    <a:lnTo>
                      <a:pt x="277" y="3"/>
                    </a:lnTo>
                    <a:lnTo>
                      <a:pt x="275" y="2"/>
                    </a:lnTo>
                    <a:lnTo>
                      <a:pt x="271" y="2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1" y="2"/>
                    </a:lnTo>
                    <a:lnTo>
                      <a:pt x="258" y="3"/>
                    </a:lnTo>
                    <a:lnTo>
                      <a:pt x="255" y="4"/>
                    </a:lnTo>
                    <a:lnTo>
                      <a:pt x="250" y="7"/>
                    </a:lnTo>
                    <a:lnTo>
                      <a:pt x="244" y="12"/>
                    </a:lnTo>
                    <a:lnTo>
                      <a:pt x="239" y="17"/>
                    </a:lnTo>
                    <a:lnTo>
                      <a:pt x="237" y="23"/>
                    </a:lnTo>
                    <a:lnTo>
                      <a:pt x="236" y="27"/>
                    </a:lnTo>
                    <a:lnTo>
                      <a:pt x="234" y="29"/>
                    </a:lnTo>
                    <a:lnTo>
                      <a:pt x="234" y="33"/>
                    </a:lnTo>
                    <a:lnTo>
                      <a:pt x="233" y="37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6" y="47"/>
                    </a:lnTo>
                    <a:lnTo>
                      <a:pt x="237" y="51"/>
                    </a:lnTo>
                    <a:lnTo>
                      <a:pt x="239" y="56"/>
                    </a:lnTo>
                    <a:lnTo>
                      <a:pt x="244" y="61"/>
                    </a:lnTo>
                    <a:lnTo>
                      <a:pt x="250" y="66"/>
                    </a:lnTo>
                    <a:lnTo>
                      <a:pt x="255" y="69"/>
                    </a:lnTo>
                    <a:lnTo>
                      <a:pt x="258" y="70"/>
                    </a:lnTo>
                    <a:lnTo>
                      <a:pt x="261" y="71"/>
                    </a:lnTo>
                    <a:lnTo>
                      <a:pt x="265" y="71"/>
                    </a:lnTo>
                    <a:lnTo>
                      <a:pt x="267" y="71"/>
                    </a:lnTo>
                    <a:lnTo>
                      <a:pt x="271" y="71"/>
                    </a:lnTo>
                    <a:lnTo>
                      <a:pt x="275" y="71"/>
                    </a:lnTo>
                    <a:lnTo>
                      <a:pt x="277" y="70"/>
                    </a:lnTo>
                    <a:lnTo>
                      <a:pt x="281" y="69"/>
                    </a:lnTo>
                    <a:lnTo>
                      <a:pt x="286" y="66"/>
                    </a:lnTo>
                    <a:lnTo>
                      <a:pt x="291" y="61"/>
                    </a:lnTo>
                    <a:lnTo>
                      <a:pt x="296" y="56"/>
                    </a:lnTo>
                    <a:lnTo>
                      <a:pt x="298" y="51"/>
                    </a:lnTo>
                    <a:lnTo>
                      <a:pt x="300" y="47"/>
                    </a:lnTo>
                    <a:lnTo>
                      <a:pt x="301" y="45"/>
                    </a:lnTo>
                    <a:lnTo>
                      <a:pt x="301" y="41"/>
                    </a:lnTo>
                    <a:lnTo>
                      <a:pt x="302" y="37"/>
                    </a:lnTo>
                    <a:lnTo>
                      <a:pt x="302" y="37"/>
                    </a:lnTo>
                    <a:close/>
                    <a:moveTo>
                      <a:pt x="302" y="572"/>
                    </a:moveTo>
                    <a:lnTo>
                      <a:pt x="301" y="569"/>
                    </a:lnTo>
                    <a:lnTo>
                      <a:pt x="301" y="566"/>
                    </a:lnTo>
                    <a:lnTo>
                      <a:pt x="300" y="562"/>
                    </a:lnTo>
                    <a:lnTo>
                      <a:pt x="298" y="558"/>
                    </a:lnTo>
                    <a:lnTo>
                      <a:pt x="296" y="552"/>
                    </a:lnTo>
                    <a:lnTo>
                      <a:pt x="291" y="547"/>
                    </a:lnTo>
                    <a:lnTo>
                      <a:pt x="286" y="542"/>
                    </a:lnTo>
                    <a:lnTo>
                      <a:pt x="281" y="540"/>
                    </a:lnTo>
                    <a:lnTo>
                      <a:pt x="277" y="538"/>
                    </a:lnTo>
                    <a:lnTo>
                      <a:pt x="275" y="537"/>
                    </a:lnTo>
                    <a:lnTo>
                      <a:pt x="271" y="537"/>
                    </a:lnTo>
                    <a:lnTo>
                      <a:pt x="267" y="537"/>
                    </a:lnTo>
                    <a:lnTo>
                      <a:pt x="265" y="537"/>
                    </a:lnTo>
                    <a:lnTo>
                      <a:pt x="261" y="537"/>
                    </a:lnTo>
                    <a:lnTo>
                      <a:pt x="258" y="538"/>
                    </a:lnTo>
                    <a:lnTo>
                      <a:pt x="255" y="540"/>
                    </a:lnTo>
                    <a:lnTo>
                      <a:pt x="250" y="542"/>
                    </a:lnTo>
                    <a:lnTo>
                      <a:pt x="244" y="547"/>
                    </a:lnTo>
                    <a:lnTo>
                      <a:pt x="239" y="552"/>
                    </a:lnTo>
                    <a:lnTo>
                      <a:pt x="237" y="558"/>
                    </a:lnTo>
                    <a:lnTo>
                      <a:pt x="236" y="562"/>
                    </a:lnTo>
                    <a:lnTo>
                      <a:pt x="234" y="566"/>
                    </a:lnTo>
                    <a:lnTo>
                      <a:pt x="234" y="569"/>
                    </a:lnTo>
                    <a:lnTo>
                      <a:pt x="233" y="572"/>
                    </a:lnTo>
                    <a:lnTo>
                      <a:pt x="234" y="576"/>
                    </a:lnTo>
                    <a:lnTo>
                      <a:pt x="234" y="580"/>
                    </a:lnTo>
                    <a:lnTo>
                      <a:pt x="236" y="582"/>
                    </a:lnTo>
                    <a:lnTo>
                      <a:pt x="237" y="586"/>
                    </a:lnTo>
                    <a:lnTo>
                      <a:pt x="239" y="591"/>
                    </a:lnTo>
                    <a:lnTo>
                      <a:pt x="244" y="596"/>
                    </a:lnTo>
                    <a:lnTo>
                      <a:pt x="250" y="601"/>
                    </a:lnTo>
                    <a:lnTo>
                      <a:pt x="255" y="604"/>
                    </a:lnTo>
                    <a:lnTo>
                      <a:pt x="258" y="605"/>
                    </a:lnTo>
                    <a:lnTo>
                      <a:pt x="261" y="606"/>
                    </a:lnTo>
                    <a:lnTo>
                      <a:pt x="265" y="606"/>
                    </a:lnTo>
                    <a:lnTo>
                      <a:pt x="267" y="608"/>
                    </a:lnTo>
                    <a:lnTo>
                      <a:pt x="271" y="606"/>
                    </a:lnTo>
                    <a:lnTo>
                      <a:pt x="275" y="606"/>
                    </a:lnTo>
                    <a:lnTo>
                      <a:pt x="277" y="605"/>
                    </a:lnTo>
                    <a:lnTo>
                      <a:pt x="281" y="604"/>
                    </a:lnTo>
                    <a:lnTo>
                      <a:pt x="286" y="601"/>
                    </a:lnTo>
                    <a:lnTo>
                      <a:pt x="291" y="596"/>
                    </a:lnTo>
                    <a:lnTo>
                      <a:pt x="296" y="591"/>
                    </a:lnTo>
                    <a:lnTo>
                      <a:pt x="298" y="586"/>
                    </a:lnTo>
                    <a:lnTo>
                      <a:pt x="300" y="582"/>
                    </a:lnTo>
                    <a:lnTo>
                      <a:pt x="301" y="580"/>
                    </a:lnTo>
                    <a:lnTo>
                      <a:pt x="301" y="576"/>
                    </a:lnTo>
                    <a:lnTo>
                      <a:pt x="302" y="572"/>
                    </a:lnTo>
                    <a:lnTo>
                      <a:pt x="302" y="57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2248560" y="4206600"/>
                <a:ext cx="55080" cy="57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2"/>
                    </a:lnTo>
                    <a:lnTo>
                      <a:pt x="70" y="28"/>
                    </a:lnTo>
                    <a:lnTo>
                      <a:pt x="69" y="24"/>
                    </a:lnTo>
                    <a:lnTo>
                      <a:pt x="68" y="21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0" y="71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0" y="68"/>
                    </a:lnTo>
                    <a:lnTo>
                      <a:pt x="55" y="64"/>
                    </a:lnTo>
                    <a:lnTo>
                      <a:pt x="60" y="61"/>
                    </a:lnTo>
                    <a:lnTo>
                      <a:pt x="65" y="56"/>
                    </a:lnTo>
                    <a:lnTo>
                      <a:pt x="68" y="49"/>
                    </a:lnTo>
                    <a:lnTo>
                      <a:pt x="69" y="45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2432160" y="3960000"/>
                <a:ext cx="53640" cy="56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7"/>
                    </a:moveTo>
                    <a:lnTo>
                      <a:pt x="68" y="33"/>
                    </a:lnTo>
                    <a:lnTo>
                      <a:pt x="68" y="29"/>
                    </a:lnTo>
                    <a:lnTo>
                      <a:pt x="67" y="27"/>
                    </a:lnTo>
                    <a:lnTo>
                      <a:pt x="65" y="23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6"/>
                    </a:lnTo>
                    <a:lnTo>
                      <a:pt x="22" y="69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2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8" y="61"/>
                    </a:lnTo>
                    <a:lnTo>
                      <a:pt x="63" y="56"/>
                    </a:lnTo>
                    <a:lnTo>
                      <a:pt x="65" y="51"/>
                    </a:lnTo>
                    <a:lnTo>
                      <a:pt x="67" y="47"/>
                    </a:lnTo>
                    <a:lnTo>
                      <a:pt x="68" y="45"/>
                    </a:lnTo>
                    <a:lnTo>
                      <a:pt x="68" y="41"/>
                    </a:lnTo>
                    <a:lnTo>
                      <a:pt x="69" y="37"/>
                    </a:lnTo>
                    <a:lnTo>
                      <a:pt x="69" y="37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2432160" y="4393800"/>
                <a:ext cx="53640" cy="5652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5"/>
                    </a:moveTo>
                    <a:lnTo>
                      <a:pt x="68" y="32"/>
                    </a:lnTo>
                    <a:lnTo>
                      <a:pt x="68" y="29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5"/>
                    </a:lnTo>
                    <a:lnTo>
                      <a:pt x="58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4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9"/>
                    </a:lnTo>
                    <a:lnTo>
                      <a:pt x="32" y="69"/>
                    </a:lnTo>
                    <a:lnTo>
                      <a:pt x="34" y="71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4" y="68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5" y="49"/>
                    </a:lnTo>
                    <a:lnTo>
                      <a:pt x="67" y="45"/>
                    </a:lnTo>
                    <a:lnTo>
                      <a:pt x="68" y="43"/>
                    </a:lnTo>
                    <a:lnTo>
                      <a:pt x="68" y="39"/>
                    </a:lnTo>
                    <a:lnTo>
                      <a:pt x="69" y="35"/>
                    </a:lnTo>
                    <a:lnTo>
                      <a:pt x="69" y="3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2266920" y="3978720"/>
                <a:ext cx="202320" cy="451800"/>
              </a:xfrm>
              <a:custGeom>
                <a:avLst/>
                <a:gdLst/>
                <a:ahLst/>
                <a:rect l="l" t="t" r="r" b="b"/>
                <a:pathLst>
                  <a:path w="258" h="561">
                    <a:moveTo>
                      <a:pt x="25" y="317"/>
                    </a:moveTo>
                    <a:lnTo>
                      <a:pt x="25" y="315"/>
                    </a:lnTo>
                    <a:lnTo>
                      <a:pt x="25" y="313"/>
                    </a:lnTo>
                    <a:lnTo>
                      <a:pt x="24" y="311"/>
                    </a:lnTo>
                    <a:lnTo>
                      <a:pt x="22" y="309"/>
                    </a:lnTo>
                    <a:lnTo>
                      <a:pt x="20" y="308"/>
                    </a:lnTo>
                    <a:lnTo>
                      <a:pt x="19" y="307"/>
                    </a:lnTo>
                    <a:lnTo>
                      <a:pt x="16" y="306"/>
                    </a:lnTo>
                    <a:lnTo>
                      <a:pt x="14" y="306"/>
                    </a:lnTo>
                    <a:lnTo>
                      <a:pt x="11" y="306"/>
                    </a:lnTo>
                    <a:lnTo>
                      <a:pt x="7" y="307"/>
                    </a:lnTo>
                    <a:lnTo>
                      <a:pt x="6" y="308"/>
                    </a:lnTo>
                    <a:lnTo>
                      <a:pt x="3" y="309"/>
                    </a:lnTo>
                    <a:lnTo>
                      <a:pt x="2" y="311"/>
                    </a:lnTo>
                    <a:lnTo>
                      <a:pt x="1" y="313"/>
                    </a:lnTo>
                    <a:lnTo>
                      <a:pt x="1" y="315"/>
                    </a:lnTo>
                    <a:lnTo>
                      <a:pt x="0" y="317"/>
                    </a:lnTo>
                    <a:lnTo>
                      <a:pt x="1" y="321"/>
                    </a:lnTo>
                    <a:lnTo>
                      <a:pt x="1" y="323"/>
                    </a:lnTo>
                    <a:lnTo>
                      <a:pt x="2" y="326"/>
                    </a:lnTo>
                    <a:lnTo>
                      <a:pt x="3" y="327"/>
                    </a:lnTo>
                    <a:lnTo>
                      <a:pt x="6" y="330"/>
                    </a:lnTo>
                    <a:lnTo>
                      <a:pt x="7" y="330"/>
                    </a:lnTo>
                    <a:lnTo>
                      <a:pt x="11" y="331"/>
                    </a:lnTo>
                    <a:lnTo>
                      <a:pt x="14" y="331"/>
                    </a:lnTo>
                    <a:lnTo>
                      <a:pt x="16" y="331"/>
                    </a:lnTo>
                    <a:lnTo>
                      <a:pt x="19" y="330"/>
                    </a:lnTo>
                    <a:lnTo>
                      <a:pt x="20" y="330"/>
                    </a:lnTo>
                    <a:lnTo>
                      <a:pt x="22" y="327"/>
                    </a:lnTo>
                    <a:lnTo>
                      <a:pt x="24" y="326"/>
                    </a:lnTo>
                    <a:lnTo>
                      <a:pt x="25" y="323"/>
                    </a:lnTo>
                    <a:lnTo>
                      <a:pt x="25" y="321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  <a:moveTo>
                      <a:pt x="258" y="14"/>
                    </a:moveTo>
                    <a:lnTo>
                      <a:pt x="258" y="12"/>
                    </a:lnTo>
                    <a:lnTo>
                      <a:pt x="257" y="9"/>
                    </a:lnTo>
                    <a:lnTo>
                      <a:pt x="255" y="6"/>
                    </a:lnTo>
                    <a:lnTo>
                      <a:pt x="254" y="4"/>
                    </a:lnTo>
                    <a:lnTo>
                      <a:pt x="252" y="3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4" y="0"/>
                    </a:lnTo>
                    <a:lnTo>
                      <a:pt x="242" y="1"/>
                    </a:lnTo>
                    <a:lnTo>
                      <a:pt x="240" y="1"/>
                    </a:lnTo>
                    <a:lnTo>
                      <a:pt x="238" y="3"/>
                    </a:lnTo>
                    <a:lnTo>
                      <a:pt x="235" y="4"/>
                    </a:lnTo>
                    <a:lnTo>
                      <a:pt x="234" y="6"/>
                    </a:lnTo>
                    <a:lnTo>
                      <a:pt x="233" y="9"/>
                    </a:lnTo>
                    <a:lnTo>
                      <a:pt x="232" y="12"/>
                    </a:lnTo>
                    <a:lnTo>
                      <a:pt x="232" y="14"/>
                    </a:lnTo>
                    <a:lnTo>
                      <a:pt x="232" y="17"/>
                    </a:lnTo>
                    <a:lnTo>
                      <a:pt x="233" y="19"/>
                    </a:lnTo>
                    <a:lnTo>
                      <a:pt x="234" y="22"/>
                    </a:lnTo>
                    <a:lnTo>
                      <a:pt x="235" y="23"/>
                    </a:lnTo>
                    <a:lnTo>
                      <a:pt x="238" y="24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5"/>
                    </a:lnTo>
                    <a:lnTo>
                      <a:pt x="248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4" y="23"/>
                    </a:lnTo>
                    <a:lnTo>
                      <a:pt x="255" y="22"/>
                    </a:lnTo>
                    <a:lnTo>
                      <a:pt x="257" y="19"/>
                    </a:lnTo>
                    <a:lnTo>
                      <a:pt x="258" y="17"/>
                    </a:lnTo>
                    <a:lnTo>
                      <a:pt x="258" y="14"/>
                    </a:lnTo>
                    <a:lnTo>
                      <a:pt x="258" y="14"/>
                    </a:lnTo>
                    <a:close/>
                    <a:moveTo>
                      <a:pt x="258" y="549"/>
                    </a:moveTo>
                    <a:lnTo>
                      <a:pt x="258" y="547"/>
                    </a:lnTo>
                    <a:lnTo>
                      <a:pt x="257" y="544"/>
                    </a:lnTo>
                    <a:lnTo>
                      <a:pt x="255" y="542"/>
                    </a:lnTo>
                    <a:lnTo>
                      <a:pt x="254" y="539"/>
                    </a:lnTo>
                    <a:lnTo>
                      <a:pt x="252" y="538"/>
                    </a:lnTo>
                    <a:lnTo>
                      <a:pt x="249" y="537"/>
                    </a:lnTo>
                    <a:lnTo>
                      <a:pt x="248" y="537"/>
                    </a:lnTo>
                    <a:lnTo>
                      <a:pt x="244" y="537"/>
                    </a:lnTo>
                    <a:lnTo>
                      <a:pt x="242" y="537"/>
                    </a:lnTo>
                    <a:lnTo>
                      <a:pt x="240" y="537"/>
                    </a:lnTo>
                    <a:lnTo>
                      <a:pt x="238" y="538"/>
                    </a:lnTo>
                    <a:lnTo>
                      <a:pt x="235" y="539"/>
                    </a:lnTo>
                    <a:lnTo>
                      <a:pt x="234" y="542"/>
                    </a:lnTo>
                    <a:lnTo>
                      <a:pt x="233" y="544"/>
                    </a:lnTo>
                    <a:lnTo>
                      <a:pt x="232" y="547"/>
                    </a:lnTo>
                    <a:lnTo>
                      <a:pt x="232" y="549"/>
                    </a:lnTo>
                    <a:lnTo>
                      <a:pt x="232" y="552"/>
                    </a:lnTo>
                    <a:lnTo>
                      <a:pt x="233" y="554"/>
                    </a:lnTo>
                    <a:lnTo>
                      <a:pt x="234" y="557"/>
                    </a:lnTo>
                    <a:lnTo>
                      <a:pt x="235" y="558"/>
                    </a:lnTo>
                    <a:lnTo>
                      <a:pt x="238" y="559"/>
                    </a:lnTo>
                    <a:lnTo>
                      <a:pt x="240" y="561"/>
                    </a:lnTo>
                    <a:lnTo>
                      <a:pt x="242" y="561"/>
                    </a:lnTo>
                    <a:lnTo>
                      <a:pt x="244" y="561"/>
                    </a:lnTo>
                    <a:lnTo>
                      <a:pt x="248" y="561"/>
                    </a:lnTo>
                    <a:lnTo>
                      <a:pt x="249" y="561"/>
                    </a:lnTo>
                    <a:lnTo>
                      <a:pt x="252" y="559"/>
                    </a:lnTo>
                    <a:lnTo>
                      <a:pt x="254" y="558"/>
                    </a:lnTo>
                    <a:lnTo>
                      <a:pt x="255" y="557"/>
                    </a:lnTo>
                    <a:lnTo>
                      <a:pt x="257" y="554"/>
                    </a:lnTo>
                    <a:lnTo>
                      <a:pt x="258" y="552"/>
                    </a:lnTo>
                    <a:lnTo>
                      <a:pt x="258" y="549"/>
                    </a:lnTo>
                    <a:lnTo>
                      <a:pt x="258" y="549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2266920" y="422532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1"/>
                    </a:moveTo>
                    <a:lnTo>
                      <a:pt x="25" y="9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1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2448720" y="397872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4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2448720" y="441072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2"/>
                    </a:moveTo>
                    <a:lnTo>
                      <a:pt x="26" y="10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2349360" y="3962520"/>
                <a:ext cx="227520" cy="647280"/>
              </a:xfrm>
              <a:custGeom>
                <a:avLst/>
                <a:gdLst/>
                <a:ahLst/>
                <a:rect l="l" t="t" r="r" b="b"/>
                <a:pathLst>
                  <a:path w="291" h="803">
                    <a:moveTo>
                      <a:pt x="291" y="37"/>
                    </a:moveTo>
                    <a:lnTo>
                      <a:pt x="73" y="37"/>
                    </a:lnTo>
                    <a:lnTo>
                      <a:pt x="67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9" y="38"/>
                    </a:lnTo>
                    <a:lnTo>
                      <a:pt x="45" y="39"/>
                    </a:lnTo>
                    <a:lnTo>
                      <a:pt x="43" y="39"/>
                    </a:lnTo>
                    <a:lnTo>
                      <a:pt x="42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7" y="57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803"/>
                    </a:lnTo>
                    <a:lnTo>
                      <a:pt x="0" y="80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1" y="0"/>
                    </a:lnTo>
                    <a:lnTo>
                      <a:pt x="291" y="37"/>
                    </a:lnTo>
                    <a:lnTo>
                      <a:pt x="2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2329920" y="3934440"/>
                <a:ext cx="221760" cy="675720"/>
              </a:xfrm>
              <a:custGeom>
                <a:avLst/>
                <a:gdLst/>
                <a:ahLst/>
                <a:rect l="l" t="t" r="r" b="b"/>
                <a:pathLst>
                  <a:path w="284" h="837">
                    <a:moveTo>
                      <a:pt x="284" y="43"/>
                    </a:moveTo>
                    <a:lnTo>
                      <a:pt x="76" y="43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6" y="45"/>
                    </a:lnTo>
                    <a:lnTo>
                      <a:pt x="64" y="47"/>
                    </a:lnTo>
                    <a:lnTo>
                      <a:pt x="58" y="49"/>
                    </a:lnTo>
                    <a:lnTo>
                      <a:pt x="53" y="54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4" y="69"/>
                    </a:lnTo>
                    <a:lnTo>
                      <a:pt x="44" y="72"/>
                    </a:lnTo>
                    <a:lnTo>
                      <a:pt x="43" y="76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837"/>
                    </a:lnTo>
                    <a:lnTo>
                      <a:pt x="0" y="83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7" y="37"/>
                    </a:lnTo>
                    <a:lnTo>
                      <a:pt x="11" y="31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5" y="9"/>
                    </a:lnTo>
                    <a:lnTo>
                      <a:pt x="41" y="6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284" y="0"/>
                    </a:lnTo>
                    <a:lnTo>
                      <a:pt x="284" y="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2164680" y="3800520"/>
                <a:ext cx="4831200" cy="14112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2164680" y="3800520"/>
                <a:ext cx="4831200" cy="14112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3789360" y="3869640"/>
                <a:ext cx="1049400" cy="58320"/>
              </a:xfrm>
              <a:custGeom>
                <a:avLst/>
                <a:gdLst/>
                <a:ahLst/>
                <a:rect l="l" t="t" r="r" b="b"/>
                <a:pathLst>
                  <a:path w="1335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  <a:close/>
                    <a:moveTo>
                      <a:pt x="1335" y="34"/>
                    </a:moveTo>
                    <a:lnTo>
                      <a:pt x="1334" y="31"/>
                    </a:lnTo>
                    <a:lnTo>
                      <a:pt x="1334" y="28"/>
                    </a:lnTo>
                    <a:lnTo>
                      <a:pt x="1333" y="24"/>
                    </a:lnTo>
                    <a:lnTo>
                      <a:pt x="1331" y="22"/>
                    </a:lnTo>
                    <a:lnTo>
                      <a:pt x="1329" y="16"/>
                    </a:lnTo>
                    <a:lnTo>
                      <a:pt x="1324" y="10"/>
                    </a:lnTo>
                    <a:lnTo>
                      <a:pt x="1319" y="7"/>
                    </a:lnTo>
                    <a:lnTo>
                      <a:pt x="1313" y="3"/>
                    </a:lnTo>
                    <a:lnTo>
                      <a:pt x="1309" y="2"/>
                    </a:lnTo>
                    <a:lnTo>
                      <a:pt x="1306" y="2"/>
                    </a:lnTo>
                    <a:lnTo>
                      <a:pt x="1303" y="0"/>
                    </a:lnTo>
                    <a:lnTo>
                      <a:pt x="1299" y="0"/>
                    </a:lnTo>
                    <a:lnTo>
                      <a:pt x="1295" y="0"/>
                    </a:lnTo>
                    <a:lnTo>
                      <a:pt x="1291" y="2"/>
                    </a:lnTo>
                    <a:lnTo>
                      <a:pt x="1289" y="2"/>
                    </a:lnTo>
                    <a:lnTo>
                      <a:pt x="1285" y="3"/>
                    </a:lnTo>
                    <a:lnTo>
                      <a:pt x="1280" y="7"/>
                    </a:lnTo>
                    <a:lnTo>
                      <a:pt x="1275" y="10"/>
                    </a:lnTo>
                    <a:lnTo>
                      <a:pt x="1270" y="16"/>
                    </a:lnTo>
                    <a:lnTo>
                      <a:pt x="1268" y="22"/>
                    </a:lnTo>
                    <a:lnTo>
                      <a:pt x="1266" y="24"/>
                    </a:lnTo>
                    <a:lnTo>
                      <a:pt x="1265" y="28"/>
                    </a:lnTo>
                    <a:lnTo>
                      <a:pt x="1265" y="31"/>
                    </a:lnTo>
                    <a:lnTo>
                      <a:pt x="1265" y="34"/>
                    </a:lnTo>
                    <a:lnTo>
                      <a:pt x="1265" y="38"/>
                    </a:lnTo>
                    <a:lnTo>
                      <a:pt x="1265" y="42"/>
                    </a:lnTo>
                    <a:lnTo>
                      <a:pt x="1266" y="46"/>
                    </a:lnTo>
                    <a:lnTo>
                      <a:pt x="1268" y="48"/>
                    </a:lnTo>
                    <a:lnTo>
                      <a:pt x="1270" y="55"/>
                    </a:lnTo>
                    <a:lnTo>
                      <a:pt x="1275" y="61"/>
                    </a:lnTo>
                    <a:lnTo>
                      <a:pt x="1280" y="65"/>
                    </a:lnTo>
                    <a:lnTo>
                      <a:pt x="1285" y="69"/>
                    </a:lnTo>
                    <a:lnTo>
                      <a:pt x="1289" y="70"/>
                    </a:lnTo>
                    <a:lnTo>
                      <a:pt x="1291" y="70"/>
                    </a:lnTo>
                    <a:lnTo>
                      <a:pt x="1295" y="71"/>
                    </a:lnTo>
                    <a:lnTo>
                      <a:pt x="1299" y="71"/>
                    </a:lnTo>
                    <a:lnTo>
                      <a:pt x="1303" y="71"/>
                    </a:lnTo>
                    <a:lnTo>
                      <a:pt x="1306" y="70"/>
                    </a:lnTo>
                    <a:lnTo>
                      <a:pt x="1309" y="70"/>
                    </a:lnTo>
                    <a:lnTo>
                      <a:pt x="1313" y="69"/>
                    </a:lnTo>
                    <a:lnTo>
                      <a:pt x="1319" y="65"/>
                    </a:lnTo>
                    <a:lnTo>
                      <a:pt x="1324" y="61"/>
                    </a:lnTo>
                    <a:lnTo>
                      <a:pt x="1329" y="55"/>
                    </a:lnTo>
                    <a:lnTo>
                      <a:pt x="1331" y="48"/>
                    </a:lnTo>
                    <a:lnTo>
                      <a:pt x="1333" y="46"/>
                    </a:lnTo>
                    <a:lnTo>
                      <a:pt x="1334" y="42"/>
                    </a:lnTo>
                    <a:lnTo>
                      <a:pt x="1334" y="38"/>
                    </a:lnTo>
                    <a:lnTo>
                      <a:pt x="1335" y="34"/>
                    </a:lnTo>
                    <a:lnTo>
                      <a:pt x="1335" y="34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3789360" y="3869640"/>
                <a:ext cx="54720" cy="5832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783680" y="3869640"/>
                <a:ext cx="55080" cy="5832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69" y="31"/>
                    </a:lnTo>
                    <a:lnTo>
                      <a:pt x="69" y="28"/>
                    </a:lnTo>
                    <a:lnTo>
                      <a:pt x="68" y="24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4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4" y="65"/>
                    </a:lnTo>
                    <a:lnTo>
                      <a:pt x="59" y="61"/>
                    </a:lnTo>
                    <a:lnTo>
                      <a:pt x="64" y="55"/>
                    </a:lnTo>
                    <a:lnTo>
                      <a:pt x="66" y="48"/>
                    </a:lnTo>
                    <a:lnTo>
                      <a:pt x="68" y="46"/>
                    </a:lnTo>
                    <a:lnTo>
                      <a:pt x="69" y="42"/>
                    </a:lnTo>
                    <a:lnTo>
                      <a:pt x="69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3921480" y="3884400"/>
                <a:ext cx="2656080" cy="767520"/>
              </a:xfrm>
              <a:custGeom>
                <a:avLst/>
                <a:gdLst/>
                <a:ahLst/>
                <a:rect l="l" t="t" r="r" b="b"/>
                <a:pathLst>
                  <a:path w="3384" h="951">
                    <a:moveTo>
                      <a:pt x="1350" y="862"/>
                    </a:moveTo>
                    <a:lnTo>
                      <a:pt x="1350" y="853"/>
                    </a:lnTo>
                    <a:lnTo>
                      <a:pt x="1348" y="846"/>
                    </a:lnTo>
                    <a:lnTo>
                      <a:pt x="1346" y="838"/>
                    </a:lnTo>
                    <a:lnTo>
                      <a:pt x="1343" y="832"/>
                    </a:lnTo>
                    <a:lnTo>
                      <a:pt x="1341" y="824"/>
                    </a:lnTo>
                    <a:lnTo>
                      <a:pt x="1337" y="818"/>
                    </a:lnTo>
                    <a:lnTo>
                      <a:pt x="1332" y="812"/>
                    </a:lnTo>
                    <a:lnTo>
                      <a:pt x="1327" y="807"/>
                    </a:lnTo>
                    <a:lnTo>
                      <a:pt x="1322" y="802"/>
                    </a:lnTo>
                    <a:lnTo>
                      <a:pt x="1316" y="798"/>
                    </a:lnTo>
                    <a:lnTo>
                      <a:pt x="1310" y="794"/>
                    </a:lnTo>
                    <a:lnTo>
                      <a:pt x="1303" y="790"/>
                    </a:lnTo>
                    <a:lnTo>
                      <a:pt x="1296" y="788"/>
                    </a:lnTo>
                    <a:lnTo>
                      <a:pt x="1288" y="787"/>
                    </a:lnTo>
                    <a:lnTo>
                      <a:pt x="1281" y="785"/>
                    </a:lnTo>
                    <a:lnTo>
                      <a:pt x="1273" y="784"/>
                    </a:lnTo>
                    <a:lnTo>
                      <a:pt x="1264" y="785"/>
                    </a:lnTo>
                    <a:lnTo>
                      <a:pt x="1257" y="787"/>
                    </a:lnTo>
                    <a:lnTo>
                      <a:pt x="1249" y="788"/>
                    </a:lnTo>
                    <a:lnTo>
                      <a:pt x="1242" y="790"/>
                    </a:lnTo>
                    <a:lnTo>
                      <a:pt x="1236" y="794"/>
                    </a:lnTo>
                    <a:lnTo>
                      <a:pt x="1229" y="798"/>
                    </a:lnTo>
                    <a:lnTo>
                      <a:pt x="1223" y="802"/>
                    </a:lnTo>
                    <a:lnTo>
                      <a:pt x="1217" y="807"/>
                    </a:lnTo>
                    <a:lnTo>
                      <a:pt x="1212" y="812"/>
                    </a:lnTo>
                    <a:lnTo>
                      <a:pt x="1207" y="818"/>
                    </a:lnTo>
                    <a:lnTo>
                      <a:pt x="1203" y="824"/>
                    </a:lnTo>
                    <a:lnTo>
                      <a:pt x="1201" y="832"/>
                    </a:lnTo>
                    <a:lnTo>
                      <a:pt x="1197" y="838"/>
                    </a:lnTo>
                    <a:lnTo>
                      <a:pt x="1195" y="846"/>
                    </a:lnTo>
                    <a:lnTo>
                      <a:pt x="1194" y="853"/>
                    </a:lnTo>
                    <a:lnTo>
                      <a:pt x="1193" y="862"/>
                    </a:lnTo>
                    <a:lnTo>
                      <a:pt x="1194" y="870"/>
                    </a:lnTo>
                    <a:lnTo>
                      <a:pt x="1195" y="877"/>
                    </a:lnTo>
                    <a:lnTo>
                      <a:pt x="1197" y="885"/>
                    </a:lnTo>
                    <a:lnTo>
                      <a:pt x="1201" y="893"/>
                    </a:lnTo>
                    <a:lnTo>
                      <a:pt x="1203" y="900"/>
                    </a:lnTo>
                    <a:lnTo>
                      <a:pt x="1207" y="907"/>
                    </a:lnTo>
                    <a:lnTo>
                      <a:pt x="1212" y="913"/>
                    </a:lnTo>
                    <a:lnTo>
                      <a:pt x="1217" y="918"/>
                    </a:lnTo>
                    <a:lnTo>
                      <a:pt x="1223" y="923"/>
                    </a:lnTo>
                    <a:lnTo>
                      <a:pt x="1229" y="928"/>
                    </a:lnTo>
                    <a:lnTo>
                      <a:pt x="1236" y="932"/>
                    </a:lnTo>
                    <a:lnTo>
                      <a:pt x="1242" y="936"/>
                    </a:lnTo>
                    <a:lnTo>
                      <a:pt x="1249" y="938"/>
                    </a:lnTo>
                    <a:lnTo>
                      <a:pt x="1257" y="941"/>
                    </a:lnTo>
                    <a:lnTo>
                      <a:pt x="1264" y="942"/>
                    </a:lnTo>
                    <a:lnTo>
                      <a:pt x="1273" y="942"/>
                    </a:lnTo>
                    <a:lnTo>
                      <a:pt x="1281" y="942"/>
                    </a:lnTo>
                    <a:lnTo>
                      <a:pt x="1288" y="941"/>
                    </a:lnTo>
                    <a:lnTo>
                      <a:pt x="1296" y="938"/>
                    </a:lnTo>
                    <a:lnTo>
                      <a:pt x="1303" y="936"/>
                    </a:lnTo>
                    <a:lnTo>
                      <a:pt x="1310" y="932"/>
                    </a:lnTo>
                    <a:lnTo>
                      <a:pt x="1316" y="928"/>
                    </a:lnTo>
                    <a:lnTo>
                      <a:pt x="1322" y="923"/>
                    </a:lnTo>
                    <a:lnTo>
                      <a:pt x="1327" y="918"/>
                    </a:lnTo>
                    <a:lnTo>
                      <a:pt x="1332" y="913"/>
                    </a:lnTo>
                    <a:lnTo>
                      <a:pt x="1337" y="907"/>
                    </a:lnTo>
                    <a:lnTo>
                      <a:pt x="1341" y="900"/>
                    </a:lnTo>
                    <a:lnTo>
                      <a:pt x="1343" y="893"/>
                    </a:lnTo>
                    <a:lnTo>
                      <a:pt x="1346" y="885"/>
                    </a:lnTo>
                    <a:lnTo>
                      <a:pt x="1348" y="877"/>
                    </a:lnTo>
                    <a:lnTo>
                      <a:pt x="1350" y="870"/>
                    </a:lnTo>
                    <a:lnTo>
                      <a:pt x="1350" y="862"/>
                    </a:lnTo>
                    <a:lnTo>
                      <a:pt x="1350" y="862"/>
                    </a:lnTo>
                    <a:close/>
                    <a:moveTo>
                      <a:pt x="1605" y="862"/>
                    </a:moveTo>
                    <a:lnTo>
                      <a:pt x="1605" y="853"/>
                    </a:lnTo>
                    <a:lnTo>
                      <a:pt x="1604" y="846"/>
                    </a:lnTo>
                    <a:lnTo>
                      <a:pt x="1603" y="838"/>
                    </a:lnTo>
                    <a:lnTo>
                      <a:pt x="1600" y="832"/>
                    </a:lnTo>
                    <a:lnTo>
                      <a:pt x="1596" y="824"/>
                    </a:lnTo>
                    <a:lnTo>
                      <a:pt x="1593" y="818"/>
                    </a:lnTo>
                    <a:lnTo>
                      <a:pt x="1588" y="812"/>
                    </a:lnTo>
                    <a:lnTo>
                      <a:pt x="1583" y="807"/>
                    </a:lnTo>
                    <a:lnTo>
                      <a:pt x="1578" y="802"/>
                    </a:lnTo>
                    <a:lnTo>
                      <a:pt x="1571" y="798"/>
                    </a:lnTo>
                    <a:lnTo>
                      <a:pt x="1565" y="794"/>
                    </a:lnTo>
                    <a:lnTo>
                      <a:pt x="1559" y="790"/>
                    </a:lnTo>
                    <a:lnTo>
                      <a:pt x="1551" y="788"/>
                    </a:lnTo>
                    <a:lnTo>
                      <a:pt x="1544" y="787"/>
                    </a:lnTo>
                    <a:lnTo>
                      <a:pt x="1536" y="785"/>
                    </a:lnTo>
                    <a:lnTo>
                      <a:pt x="1529" y="784"/>
                    </a:lnTo>
                    <a:lnTo>
                      <a:pt x="1520" y="785"/>
                    </a:lnTo>
                    <a:lnTo>
                      <a:pt x="1512" y="787"/>
                    </a:lnTo>
                    <a:lnTo>
                      <a:pt x="1505" y="788"/>
                    </a:lnTo>
                    <a:lnTo>
                      <a:pt x="1497" y="790"/>
                    </a:lnTo>
                    <a:lnTo>
                      <a:pt x="1491" y="794"/>
                    </a:lnTo>
                    <a:lnTo>
                      <a:pt x="1485" y="798"/>
                    </a:lnTo>
                    <a:lnTo>
                      <a:pt x="1479" y="802"/>
                    </a:lnTo>
                    <a:lnTo>
                      <a:pt x="1472" y="807"/>
                    </a:lnTo>
                    <a:lnTo>
                      <a:pt x="1467" y="812"/>
                    </a:lnTo>
                    <a:lnTo>
                      <a:pt x="1464" y="818"/>
                    </a:lnTo>
                    <a:lnTo>
                      <a:pt x="1459" y="824"/>
                    </a:lnTo>
                    <a:lnTo>
                      <a:pt x="1456" y="832"/>
                    </a:lnTo>
                    <a:lnTo>
                      <a:pt x="1452" y="838"/>
                    </a:lnTo>
                    <a:lnTo>
                      <a:pt x="1451" y="846"/>
                    </a:lnTo>
                    <a:lnTo>
                      <a:pt x="1450" y="853"/>
                    </a:lnTo>
                    <a:lnTo>
                      <a:pt x="1450" y="862"/>
                    </a:lnTo>
                    <a:lnTo>
                      <a:pt x="1450" y="870"/>
                    </a:lnTo>
                    <a:lnTo>
                      <a:pt x="1451" y="877"/>
                    </a:lnTo>
                    <a:lnTo>
                      <a:pt x="1452" y="885"/>
                    </a:lnTo>
                    <a:lnTo>
                      <a:pt x="1456" y="893"/>
                    </a:lnTo>
                    <a:lnTo>
                      <a:pt x="1459" y="900"/>
                    </a:lnTo>
                    <a:lnTo>
                      <a:pt x="1464" y="907"/>
                    </a:lnTo>
                    <a:lnTo>
                      <a:pt x="1467" y="913"/>
                    </a:lnTo>
                    <a:lnTo>
                      <a:pt x="1472" y="918"/>
                    </a:lnTo>
                    <a:lnTo>
                      <a:pt x="1479" y="923"/>
                    </a:lnTo>
                    <a:lnTo>
                      <a:pt x="1485" y="928"/>
                    </a:lnTo>
                    <a:lnTo>
                      <a:pt x="1491" y="932"/>
                    </a:lnTo>
                    <a:lnTo>
                      <a:pt x="1497" y="936"/>
                    </a:lnTo>
                    <a:lnTo>
                      <a:pt x="1505" y="938"/>
                    </a:lnTo>
                    <a:lnTo>
                      <a:pt x="1512" y="941"/>
                    </a:lnTo>
                    <a:lnTo>
                      <a:pt x="1520" y="942"/>
                    </a:lnTo>
                    <a:lnTo>
                      <a:pt x="1529" y="942"/>
                    </a:lnTo>
                    <a:lnTo>
                      <a:pt x="1536" y="942"/>
                    </a:lnTo>
                    <a:lnTo>
                      <a:pt x="1544" y="941"/>
                    </a:lnTo>
                    <a:lnTo>
                      <a:pt x="1551" y="938"/>
                    </a:lnTo>
                    <a:lnTo>
                      <a:pt x="1559" y="936"/>
                    </a:lnTo>
                    <a:lnTo>
                      <a:pt x="1565" y="932"/>
                    </a:lnTo>
                    <a:lnTo>
                      <a:pt x="1571" y="928"/>
                    </a:lnTo>
                    <a:lnTo>
                      <a:pt x="1578" y="923"/>
                    </a:lnTo>
                    <a:lnTo>
                      <a:pt x="1583" y="918"/>
                    </a:lnTo>
                    <a:lnTo>
                      <a:pt x="1588" y="913"/>
                    </a:lnTo>
                    <a:lnTo>
                      <a:pt x="1593" y="907"/>
                    </a:lnTo>
                    <a:lnTo>
                      <a:pt x="1596" y="900"/>
                    </a:lnTo>
                    <a:lnTo>
                      <a:pt x="1600" y="893"/>
                    </a:lnTo>
                    <a:lnTo>
                      <a:pt x="1603" y="885"/>
                    </a:lnTo>
                    <a:lnTo>
                      <a:pt x="1604" y="877"/>
                    </a:lnTo>
                    <a:lnTo>
                      <a:pt x="1605" y="870"/>
                    </a:lnTo>
                    <a:lnTo>
                      <a:pt x="1605" y="862"/>
                    </a:lnTo>
                    <a:lnTo>
                      <a:pt x="1605" y="862"/>
                    </a:lnTo>
                    <a:close/>
                    <a:moveTo>
                      <a:pt x="1779" y="832"/>
                    </a:moveTo>
                    <a:lnTo>
                      <a:pt x="1751" y="832"/>
                    </a:lnTo>
                    <a:lnTo>
                      <a:pt x="1747" y="832"/>
                    </a:lnTo>
                    <a:lnTo>
                      <a:pt x="1742" y="833"/>
                    </a:lnTo>
                    <a:lnTo>
                      <a:pt x="1738" y="835"/>
                    </a:lnTo>
                    <a:lnTo>
                      <a:pt x="1734" y="836"/>
                    </a:lnTo>
                    <a:lnTo>
                      <a:pt x="1731" y="837"/>
                    </a:lnTo>
                    <a:lnTo>
                      <a:pt x="1728" y="840"/>
                    </a:lnTo>
                    <a:lnTo>
                      <a:pt x="1722" y="845"/>
                    </a:lnTo>
                    <a:lnTo>
                      <a:pt x="1717" y="850"/>
                    </a:lnTo>
                    <a:lnTo>
                      <a:pt x="1714" y="853"/>
                    </a:lnTo>
                    <a:lnTo>
                      <a:pt x="1713" y="857"/>
                    </a:lnTo>
                    <a:lnTo>
                      <a:pt x="1712" y="861"/>
                    </a:lnTo>
                    <a:lnTo>
                      <a:pt x="1710" y="865"/>
                    </a:lnTo>
                    <a:lnTo>
                      <a:pt x="1710" y="869"/>
                    </a:lnTo>
                    <a:lnTo>
                      <a:pt x="1709" y="874"/>
                    </a:lnTo>
                    <a:lnTo>
                      <a:pt x="1710" y="877"/>
                    </a:lnTo>
                    <a:lnTo>
                      <a:pt x="1710" y="881"/>
                    </a:lnTo>
                    <a:lnTo>
                      <a:pt x="1712" y="885"/>
                    </a:lnTo>
                    <a:lnTo>
                      <a:pt x="1713" y="889"/>
                    </a:lnTo>
                    <a:lnTo>
                      <a:pt x="1714" y="893"/>
                    </a:lnTo>
                    <a:lnTo>
                      <a:pt x="1717" y="896"/>
                    </a:lnTo>
                    <a:lnTo>
                      <a:pt x="1722" y="903"/>
                    </a:lnTo>
                    <a:lnTo>
                      <a:pt x="1728" y="908"/>
                    </a:lnTo>
                    <a:lnTo>
                      <a:pt x="1731" y="909"/>
                    </a:lnTo>
                    <a:lnTo>
                      <a:pt x="1734" y="912"/>
                    </a:lnTo>
                    <a:lnTo>
                      <a:pt x="1738" y="913"/>
                    </a:lnTo>
                    <a:lnTo>
                      <a:pt x="1742" y="914"/>
                    </a:lnTo>
                    <a:lnTo>
                      <a:pt x="1747" y="914"/>
                    </a:lnTo>
                    <a:lnTo>
                      <a:pt x="1751" y="914"/>
                    </a:lnTo>
                    <a:lnTo>
                      <a:pt x="1751" y="914"/>
                    </a:lnTo>
                    <a:lnTo>
                      <a:pt x="1791" y="914"/>
                    </a:lnTo>
                    <a:lnTo>
                      <a:pt x="1791" y="919"/>
                    </a:lnTo>
                    <a:lnTo>
                      <a:pt x="1793" y="925"/>
                    </a:lnTo>
                    <a:lnTo>
                      <a:pt x="1796" y="931"/>
                    </a:lnTo>
                    <a:lnTo>
                      <a:pt x="1801" y="936"/>
                    </a:lnTo>
                    <a:lnTo>
                      <a:pt x="1804" y="939"/>
                    </a:lnTo>
                    <a:lnTo>
                      <a:pt x="1811" y="942"/>
                    </a:lnTo>
                    <a:lnTo>
                      <a:pt x="1817" y="944"/>
                    </a:lnTo>
                    <a:lnTo>
                      <a:pt x="1823" y="946"/>
                    </a:lnTo>
                    <a:lnTo>
                      <a:pt x="1829" y="946"/>
                    </a:lnTo>
                    <a:lnTo>
                      <a:pt x="1829" y="946"/>
                    </a:lnTo>
                    <a:lnTo>
                      <a:pt x="2017" y="946"/>
                    </a:lnTo>
                    <a:lnTo>
                      <a:pt x="2024" y="946"/>
                    </a:lnTo>
                    <a:lnTo>
                      <a:pt x="2027" y="946"/>
                    </a:lnTo>
                    <a:lnTo>
                      <a:pt x="2031" y="944"/>
                    </a:lnTo>
                    <a:lnTo>
                      <a:pt x="2035" y="943"/>
                    </a:lnTo>
                    <a:lnTo>
                      <a:pt x="2037" y="942"/>
                    </a:lnTo>
                    <a:lnTo>
                      <a:pt x="2041" y="939"/>
                    </a:lnTo>
                    <a:lnTo>
                      <a:pt x="2045" y="937"/>
                    </a:lnTo>
                    <a:lnTo>
                      <a:pt x="2047" y="936"/>
                    </a:lnTo>
                    <a:lnTo>
                      <a:pt x="2049" y="933"/>
                    </a:lnTo>
                    <a:lnTo>
                      <a:pt x="2051" y="931"/>
                    </a:lnTo>
                    <a:lnTo>
                      <a:pt x="2054" y="928"/>
                    </a:lnTo>
                    <a:lnTo>
                      <a:pt x="2056" y="922"/>
                    </a:lnTo>
                    <a:lnTo>
                      <a:pt x="2059" y="914"/>
                    </a:lnTo>
                    <a:lnTo>
                      <a:pt x="2059" y="914"/>
                    </a:lnTo>
                    <a:lnTo>
                      <a:pt x="2099" y="914"/>
                    </a:lnTo>
                    <a:lnTo>
                      <a:pt x="2103" y="914"/>
                    </a:lnTo>
                    <a:lnTo>
                      <a:pt x="2108" y="914"/>
                    </a:lnTo>
                    <a:lnTo>
                      <a:pt x="2111" y="913"/>
                    </a:lnTo>
                    <a:lnTo>
                      <a:pt x="2115" y="912"/>
                    </a:lnTo>
                    <a:lnTo>
                      <a:pt x="2119" y="909"/>
                    </a:lnTo>
                    <a:lnTo>
                      <a:pt x="2121" y="908"/>
                    </a:lnTo>
                    <a:lnTo>
                      <a:pt x="2128" y="903"/>
                    </a:lnTo>
                    <a:lnTo>
                      <a:pt x="2133" y="896"/>
                    </a:lnTo>
                    <a:lnTo>
                      <a:pt x="2135" y="893"/>
                    </a:lnTo>
                    <a:lnTo>
                      <a:pt x="2136" y="889"/>
                    </a:lnTo>
                    <a:lnTo>
                      <a:pt x="2138" y="885"/>
                    </a:lnTo>
                    <a:lnTo>
                      <a:pt x="2139" y="881"/>
                    </a:lnTo>
                    <a:lnTo>
                      <a:pt x="2139" y="877"/>
                    </a:lnTo>
                    <a:lnTo>
                      <a:pt x="2140" y="874"/>
                    </a:lnTo>
                    <a:lnTo>
                      <a:pt x="2140" y="874"/>
                    </a:lnTo>
                    <a:lnTo>
                      <a:pt x="2139" y="869"/>
                    </a:lnTo>
                    <a:lnTo>
                      <a:pt x="2139" y="865"/>
                    </a:lnTo>
                    <a:lnTo>
                      <a:pt x="2138" y="861"/>
                    </a:lnTo>
                    <a:lnTo>
                      <a:pt x="2136" y="857"/>
                    </a:lnTo>
                    <a:lnTo>
                      <a:pt x="2135" y="853"/>
                    </a:lnTo>
                    <a:lnTo>
                      <a:pt x="2133" y="850"/>
                    </a:lnTo>
                    <a:lnTo>
                      <a:pt x="2128" y="845"/>
                    </a:lnTo>
                    <a:lnTo>
                      <a:pt x="2121" y="840"/>
                    </a:lnTo>
                    <a:lnTo>
                      <a:pt x="2119" y="837"/>
                    </a:lnTo>
                    <a:lnTo>
                      <a:pt x="2115" y="836"/>
                    </a:lnTo>
                    <a:lnTo>
                      <a:pt x="2111" y="835"/>
                    </a:lnTo>
                    <a:lnTo>
                      <a:pt x="2108" y="833"/>
                    </a:lnTo>
                    <a:lnTo>
                      <a:pt x="2103" y="832"/>
                    </a:lnTo>
                    <a:lnTo>
                      <a:pt x="2099" y="832"/>
                    </a:lnTo>
                    <a:lnTo>
                      <a:pt x="2099" y="832"/>
                    </a:lnTo>
                    <a:lnTo>
                      <a:pt x="2070" y="832"/>
                    </a:lnTo>
                    <a:lnTo>
                      <a:pt x="2069" y="830"/>
                    </a:lnTo>
                    <a:lnTo>
                      <a:pt x="2069" y="827"/>
                    </a:lnTo>
                    <a:lnTo>
                      <a:pt x="2068" y="824"/>
                    </a:lnTo>
                    <a:lnTo>
                      <a:pt x="2066" y="822"/>
                    </a:lnTo>
                    <a:lnTo>
                      <a:pt x="2064" y="818"/>
                    </a:lnTo>
                    <a:lnTo>
                      <a:pt x="2060" y="814"/>
                    </a:lnTo>
                    <a:lnTo>
                      <a:pt x="2058" y="811"/>
                    </a:lnTo>
                    <a:lnTo>
                      <a:pt x="2055" y="808"/>
                    </a:lnTo>
                    <a:lnTo>
                      <a:pt x="2053" y="806"/>
                    </a:lnTo>
                    <a:lnTo>
                      <a:pt x="2049" y="804"/>
                    </a:lnTo>
                    <a:lnTo>
                      <a:pt x="2045" y="802"/>
                    </a:lnTo>
                    <a:lnTo>
                      <a:pt x="2041" y="802"/>
                    </a:lnTo>
                    <a:lnTo>
                      <a:pt x="2037" y="800"/>
                    </a:lnTo>
                    <a:lnTo>
                      <a:pt x="2034" y="800"/>
                    </a:lnTo>
                    <a:lnTo>
                      <a:pt x="2034" y="800"/>
                    </a:lnTo>
                    <a:lnTo>
                      <a:pt x="1816" y="800"/>
                    </a:lnTo>
                    <a:lnTo>
                      <a:pt x="1812" y="800"/>
                    </a:lnTo>
                    <a:lnTo>
                      <a:pt x="1808" y="802"/>
                    </a:lnTo>
                    <a:lnTo>
                      <a:pt x="1804" y="802"/>
                    </a:lnTo>
                    <a:lnTo>
                      <a:pt x="1801" y="804"/>
                    </a:lnTo>
                    <a:lnTo>
                      <a:pt x="1797" y="806"/>
                    </a:lnTo>
                    <a:lnTo>
                      <a:pt x="1793" y="808"/>
                    </a:lnTo>
                    <a:lnTo>
                      <a:pt x="1791" y="811"/>
                    </a:lnTo>
                    <a:lnTo>
                      <a:pt x="1787" y="814"/>
                    </a:lnTo>
                    <a:lnTo>
                      <a:pt x="1783" y="818"/>
                    </a:lnTo>
                    <a:lnTo>
                      <a:pt x="1782" y="822"/>
                    </a:lnTo>
                    <a:lnTo>
                      <a:pt x="1781" y="827"/>
                    </a:lnTo>
                    <a:lnTo>
                      <a:pt x="1779" y="832"/>
                    </a:lnTo>
                    <a:lnTo>
                      <a:pt x="1779" y="832"/>
                    </a:lnTo>
                    <a:close/>
                    <a:moveTo>
                      <a:pt x="2237" y="934"/>
                    </a:moveTo>
                    <a:lnTo>
                      <a:pt x="2651" y="934"/>
                    </a:lnTo>
                    <a:lnTo>
                      <a:pt x="2653" y="934"/>
                    </a:lnTo>
                    <a:lnTo>
                      <a:pt x="2655" y="934"/>
                    </a:lnTo>
                    <a:lnTo>
                      <a:pt x="2656" y="933"/>
                    </a:lnTo>
                    <a:lnTo>
                      <a:pt x="2658" y="932"/>
                    </a:lnTo>
                    <a:lnTo>
                      <a:pt x="2659" y="931"/>
                    </a:lnTo>
                    <a:lnTo>
                      <a:pt x="2660" y="929"/>
                    </a:lnTo>
                    <a:lnTo>
                      <a:pt x="2660" y="928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818"/>
                    </a:lnTo>
                    <a:lnTo>
                      <a:pt x="2660" y="817"/>
                    </a:lnTo>
                    <a:lnTo>
                      <a:pt x="2660" y="816"/>
                    </a:lnTo>
                    <a:lnTo>
                      <a:pt x="2659" y="813"/>
                    </a:lnTo>
                    <a:lnTo>
                      <a:pt x="2658" y="812"/>
                    </a:lnTo>
                    <a:lnTo>
                      <a:pt x="2656" y="811"/>
                    </a:lnTo>
                    <a:lnTo>
                      <a:pt x="2655" y="811"/>
                    </a:lnTo>
                    <a:lnTo>
                      <a:pt x="2653" y="809"/>
                    </a:lnTo>
                    <a:lnTo>
                      <a:pt x="2651" y="809"/>
                    </a:lnTo>
                    <a:lnTo>
                      <a:pt x="2651" y="809"/>
                    </a:lnTo>
                    <a:lnTo>
                      <a:pt x="2237" y="809"/>
                    </a:lnTo>
                    <a:lnTo>
                      <a:pt x="2235" y="809"/>
                    </a:lnTo>
                    <a:lnTo>
                      <a:pt x="2234" y="811"/>
                    </a:lnTo>
                    <a:lnTo>
                      <a:pt x="2232" y="811"/>
                    </a:lnTo>
                    <a:lnTo>
                      <a:pt x="2230" y="812"/>
                    </a:lnTo>
                    <a:lnTo>
                      <a:pt x="2229" y="813"/>
                    </a:lnTo>
                    <a:lnTo>
                      <a:pt x="2229" y="816"/>
                    </a:lnTo>
                    <a:lnTo>
                      <a:pt x="2228" y="817"/>
                    </a:lnTo>
                    <a:lnTo>
                      <a:pt x="2228" y="818"/>
                    </a:lnTo>
                    <a:lnTo>
                      <a:pt x="2228" y="818"/>
                    </a:lnTo>
                    <a:lnTo>
                      <a:pt x="2228" y="925"/>
                    </a:lnTo>
                    <a:lnTo>
                      <a:pt x="2228" y="928"/>
                    </a:lnTo>
                    <a:lnTo>
                      <a:pt x="2229" y="929"/>
                    </a:lnTo>
                    <a:lnTo>
                      <a:pt x="2229" y="931"/>
                    </a:lnTo>
                    <a:lnTo>
                      <a:pt x="2230" y="932"/>
                    </a:lnTo>
                    <a:lnTo>
                      <a:pt x="2232" y="933"/>
                    </a:lnTo>
                    <a:lnTo>
                      <a:pt x="2234" y="934"/>
                    </a:lnTo>
                    <a:lnTo>
                      <a:pt x="2235" y="934"/>
                    </a:lnTo>
                    <a:lnTo>
                      <a:pt x="2237" y="934"/>
                    </a:lnTo>
                    <a:lnTo>
                      <a:pt x="2237" y="934"/>
                    </a:lnTo>
                    <a:close/>
                    <a:moveTo>
                      <a:pt x="2772" y="837"/>
                    </a:moveTo>
                    <a:lnTo>
                      <a:pt x="2742" y="837"/>
                    </a:lnTo>
                    <a:lnTo>
                      <a:pt x="2738" y="837"/>
                    </a:lnTo>
                    <a:lnTo>
                      <a:pt x="2734" y="837"/>
                    </a:lnTo>
                    <a:lnTo>
                      <a:pt x="2729" y="838"/>
                    </a:lnTo>
                    <a:lnTo>
                      <a:pt x="2725" y="840"/>
                    </a:lnTo>
                    <a:lnTo>
                      <a:pt x="2723" y="842"/>
                    </a:lnTo>
                    <a:lnTo>
                      <a:pt x="2719" y="843"/>
                    </a:lnTo>
                    <a:lnTo>
                      <a:pt x="2713" y="848"/>
                    </a:lnTo>
                    <a:lnTo>
                      <a:pt x="2708" y="855"/>
                    </a:lnTo>
                    <a:lnTo>
                      <a:pt x="2707" y="859"/>
                    </a:lnTo>
                    <a:lnTo>
                      <a:pt x="2704" y="862"/>
                    </a:lnTo>
                    <a:lnTo>
                      <a:pt x="2703" y="866"/>
                    </a:lnTo>
                    <a:lnTo>
                      <a:pt x="2702" y="870"/>
                    </a:lnTo>
                    <a:lnTo>
                      <a:pt x="2702" y="874"/>
                    </a:lnTo>
                    <a:lnTo>
                      <a:pt x="2702" y="877"/>
                    </a:lnTo>
                    <a:lnTo>
                      <a:pt x="2702" y="881"/>
                    </a:lnTo>
                    <a:lnTo>
                      <a:pt x="2702" y="885"/>
                    </a:lnTo>
                    <a:lnTo>
                      <a:pt x="2703" y="889"/>
                    </a:lnTo>
                    <a:lnTo>
                      <a:pt x="2704" y="893"/>
                    </a:lnTo>
                    <a:lnTo>
                      <a:pt x="2707" y="896"/>
                    </a:lnTo>
                    <a:lnTo>
                      <a:pt x="2708" y="899"/>
                    </a:lnTo>
                    <a:lnTo>
                      <a:pt x="2713" y="905"/>
                    </a:lnTo>
                    <a:lnTo>
                      <a:pt x="2719" y="910"/>
                    </a:lnTo>
                    <a:lnTo>
                      <a:pt x="2723" y="912"/>
                    </a:lnTo>
                    <a:lnTo>
                      <a:pt x="2725" y="913"/>
                    </a:lnTo>
                    <a:lnTo>
                      <a:pt x="2729" y="915"/>
                    </a:lnTo>
                    <a:lnTo>
                      <a:pt x="2734" y="915"/>
                    </a:lnTo>
                    <a:lnTo>
                      <a:pt x="2738" y="917"/>
                    </a:lnTo>
                    <a:lnTo>
                      <a:pt x="2742" y="917"/>
                    </a:lnTo>
                    <a:lnTo>
                      <a:pt x="2742" y="917"/>
                    </a:lnTo>
                    <a:lnTo>
                      <a:pt x="2783" y="917"/>
                    </a:lnTo>
                    <a:lnTo>
                      <a:pt x="2783" y="922"/>
                    </a:lnTo>
                    <a:lnTo>
                      <a:pt x="2784" y="928"/>
                    </a:lnTo>
                    <a:lnTo>
                      <a:pt x="2788" y="933"/>
                    </a:lnTo>
                    <a:lnTo>
                      <a:pt x="2792" y="938"/>
                    </a:lnTo>
                    <a:lnTo>
                      <a:pt x="2797" y="942"/>
                    </a:lnTo>
                    <a:lnTo>
                      <a:pt x="2799" y="944"/>
                    </a:lnTo>
                    <a:lnTo>
                      <a:pt x="2803" y="946"/>
                    </a:lnTo>
                    <a:lnTo>
                      <a:pt x="2806" y="948"/>
                    </a:lnTo>
                    <a:lnTo>
                      <a:pt x="2808" y="948"/>
                    </a:lnTo>
                    <a:lnTo>
                      <a:pt x="2812" y="949"/>
                    </a:lnTo>
                    <a:lnTo>
                      <a:pt x="2814" y="951"/>
                    </a:lnTo>
                    <a:lnTo>
                      <a:pt x="2821" y="951"/>
                    </a:lnTo>
                    <a:lnTo>
                      <a:pt x="2821" y="951"/>
                    </a:lnTo>
                    <a:lnTo>
                      <a:pt x="3009" y="951"/>
                    </a:lnTo>
                    <a:lnTo>
                      <a:pt x="3014" y="951"/>
                    </a:lnTo>
                    <a:lnTo>
                      <a:pt x="3017" y="949"/>
                    </a:lnTo>
                    <a:lnTo>
                      <a:pt x="3021" y="949"/>
                    </a:lnTo>
                    <a:lnTo>
                      <a:pt x="3025" y="948"/>
                    </a:lnTo>
                    <a:lnTo>
                      <a:pt x="3031" y="944"/>
                    </a:lnTo>
                    <a:lnTo>
                      <a:pt x="3036" y="942"/>
                    </a:lnTo>
                    <a:lnTo>
                      <a:pt x="3041" y="936"/>
                    </a:lnTo>
                    <a:lnTo>
                      <a:pt x="3044" y="933"/>
                    </a:lnTo>
                    <a:lnTo>
                      <a:pt x="3046" y="931"/>
                    </a:lnTo>
                    <a:lnTo>
                      <a:pt x="3047" y="927"/>
                    </a:lnTo>
                    <a:lnTo>
                      <a:pt x="3049" y="923"/>
                    </a:lnTo>
                    <a:lnTo>
                      <a:pt x="3050" y="920"/>
                    </a:lnTo>
                    <a:lnTo>
                      <a:pt x="3050" y="917"/>
                    </a:lnTo>
                    <a:lnTo>
                      <a:pt x="3050" y="917"/>
                    </a:lnTo>
                    <a:lnTo>
                      <a:pt x="3092" y="917"/>
                    </a:lnTo>
                    <a:lnTo>
                      <a:pt x="3097" y="917"/>
                    </a:lnTo>
                    <a:lnTo>
                      <a:pt x="3101" y="915"/>
                    </a:lnTo>
                    <a:lnTo>
                      <a:pt x="3105" y="915"/>
                    </a:lnTo>
                    <a:lnTo>
                      <a:pt x="3109" y="913"/>
                    </a:lnTo>
                    <a:lnTo>
                      <a:pt x="3113" y="912"/>
                    </a:lnTo>
                    <a:lnTo>
                      <a:pt x="3115" y="910"/>
                    </a:lnTo>
                    <a:lnTo>
                      <a:pt x="3121" y="905"/>
                    </a:lnTo>
                    <a:lnTo>
                      <a:pt x="3126" y="899"/>
                    </a:lnTo>
                    <a:lnTo>
                      <a:pt x="3129" y="896"/>
                    </a:lnTo>
                    <a:lnTo>
                      <a:pt x="3130" y="893"/>
                    </a:lnTo>
                    <a:lnTo>
                      <a:pt x="3131" y="889"/>
                    </a:lnTo>
                    <a:lnTo>
                      <a:pt x="3133" y="885"/>
                    </a:lnTo>
                    <a:lnTo>
                      <a:pt x="3134" y="881"/>
                    </a:lnTo>
                    <a:lnTo>
                      <a:pt x="3134" y="877"/>
                    </a:lnTo>
                    <a:lnTo>
                      <a:pt x="3134" y="877"/>
                    </a:lnTo>
                    <a:lnTo>
                      <a:pt x="3134" y="874"/>
                    </a:lnTo>
                    <a:lnTo>
                      <a:pt x="3133" y="870"/>
                    </a:lnTo>
                    <a:lnTo>
                      <a:pt x="3131" y="866"/>
                    </a:lnTo>
                    <a:lnTo>
                      <a:pt x="3130" y="862"/>
                    </a:lnTo>
                    <a:lnTo>
                      <a:pt x="3129" y="859"/>
                    </a:lnTo>
                    <a:lnTo>
                      <a:pt x="3126" y="855"/>
                    </a:lnTo>
                    <a:lnTo>
                      <a:pt x="3121" y="848"/>
                    </a:lnTo>
                    <a:lnTo>
                      <a:pt x="3115" y="843"/>
                    </a:lnTo>
                    <a:lnTo>
                      <a:pt x="3113" y="842"/>
                    </a:lnTo>
                    <a:lnTo>
                      <a:pt x="3109" y="840"/>
                    </a:lnTo>
                    <a:lnTo>
                      <a:pt x="3105" y="838"/>
                    </a:lnTo>
                    <a:lnTo>
                      <a:pt x="3101" y="837"/>
                    </a:lnTo>
                    <a:lnTo>
                      <a:pt x="3097" y="837"/>
                    </a:lnTo>
                    <a:lnTo>
                      <a:pt x="3092" y="837"/>
                    </a:lnTo>
                    <a:lnTo>
                      <a:pt x="3092" y="837"/>
                    </a:lnTo>
                    <a:lnTo>
                      <a:pt x="3061" y="837"/>
                    </a:lnTo>
                    <a:lnTo>
                      <a:pt x="3061" y="832"/>
                    </a:lnTo>
                    <a:lnTo>
                      <a:pt x="3060" y="827"/>
                    </a:lnTo>
                    <a:lnTo>
                      <a:pt x="3057" y="822"/>
                    </a:lnTo>
                    <a:lnTo>
                      <a:pt x="3055" y="817"/>
                    </a:lnTo>
                    <a:lnTo>
                      <a:pt x="3051" y="814"/>
                    </a:lnTo>
                    <a:lnTo>
                      <a:pt x="3049" y="812"/>
                    </a:lnTo>
                    <a:lnTo>
                      <a:pt x="3045" y="809"/>
                    </a:lnTo>
                    <a:lnTo>
                      <a:pt x="3041" y="807"/>
                    </a:lnTo>
                    <a:lnTo>
                      <a:pt x="3037" y="806"/>
                    </a:lnTo>
                    <a:lnTo>
                      <a:pt x="3034" y="804"/>
                    </a:lnTo>
                    <a:lnTo>
                      <a:pt x="3029" y="803"/>
                    </a:lnTo>
                    <a:lnTo>
                      <a:pt x="3025" y="803"/>
                    </a:lnTo>
                    <a:lnTo>
                      <a:pt x="3025" y="803"/>
                    </a:lnTo>
                    <a:lnTo>
                      <a:pt x="2809" y="803"/>
                    </a:lnTo>
                    <a:lnTo>
                      <a:pt x="2806" y="803"/>
                    </a:lnTo>
                    <a:lnTo>
                      <a:pt x="2802" y="804"/>
                    </a:lnTo>
                    <a:lnTo>
                      <a:pt x="2797" y="806"/>
                    </a:lnTo>
                    <a:lnTo>
                      <a:pt x="2793" y="807"/>
                    </a:lnTo>
                    <a:lnTo>
                      <a:pt x="2789" y="809"/>
                    </a:lnTo>
                    <a:lnTo>
                      <a:pt x="2787" y="812"/>
                    </a:lnTo>
                    <a:lnTo>
                      <a:pt x="2783" y="814"/>
                    </a:lnTo>
                    <a:lnTo>
                      <a:pt x="2780" y="817"/>
                    </a:lnTo>
                    <a:lnTo>
                      <a:pt x="2778" y="822"/>
                    </a:lnTo>
                    <a:lnTo>
                      <a:pt x="2775" y="827"/>
                    </a:lnTo>
                    <a:lnTo>
                      <a:pt x="2773" y="832"/>
                    </a:lnTo>
                    <a:lnTo>
                      <a:pt x="2772" y="837"/>
                    </a:lnTo>
                    <a:lnTo>
                      <a:pt x="2772" y="837"/>
                    </a:lnTo>
                    <a:close/>
                    <a:moveTo>
                      <a:pt x="3384" y="775"/>
                    </a:moveTo>
                    <a:lnTo>
                      <a:pt x="3176" y="775"/>
                    </a:lnTo>
                    <a:lnTo>
                      <a:pt x="3176" y="942"/>
                    </a:lnTo>
                    <a:lnTo>
                      <a:pt x="3384" y="942"/>
                    </a:lnTo>
                    <a:lnTo>
                      <a:pt x="3384" y="775"/>
                    </a:lnTo>
                    <a:lnTo>
                      <a:pt x="3384" y="775"/>
                    </a:lnTo>
                    <a:close/>
                    <a:moveTo>
                      <a:pt x="3000" y="0"/>
                    </a:moveTo>
                    <a:lnTo>
                      <a:pt x="2918" y="0"/>
                    </a:lnTo>
                    <a:lnTo>
                      <a:pt x="2915" y="1"/>
                    </a:lnTo>
                    <a:lnTo>
                      <a:pt x="2911" y="3"/>
                    </a:lnTo>
                    <a:lnTo>
                      <a:pt x="2908" y="4"/>
                    </a:lnTo>
                    <a:lnTo>
                      <a:pt x="2906" y="6"/>
                    </a:lnTo>
                    <a:lnTo>
                      <a:pt x="2903" y="10"/>
                    </a:lnTo>
                    <a:lnTo>
                      <a:pt x="2902" y="13"/>
                    </a:lnTo>
                    <a:lnTo>
                      <a:pt x="2901" y="16"/>
                    </a:lnTo>
                    <a:lnTo>
                      <a:pt x="2901" y="21"/>
                    </a:lnTo>
                    <a:lnTo>
                      <a:pt x="2901" y="21"/>
                    </a:lnTo>
                    <a:lnTo>
                      <a:pt x="2901" y="93"/>
                    </a:lnTo>
                    <a:lnTo>
                      <a:pt x="2901" y="97"/>
                    </a:lnTo>
                    <a:lnTo>
                      <a:pt x="2902" y="101"/>
                    </a:lnTo>
                    <a:lnTo>
                      <a:pt x="2903" y="104"/>
                    </a:lnTo>
                    <a:lnTo>
                      <a:pt x="2906" y="106"/>
                    </a:lnTo>
                    <a:lnTo>
                      <a:pt x="2908" y="109"/>
                    </a:lnTo>
                    <a:lnTo>
                      <a:pt x="2911" y="111"/>
                    </a:lnTo>
                    <a:lnTo>
                      <a:pt x="2915" y="111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3000" y="112"/>
                    </a:lnTo>
                    <a:lnTo>
                      <a:pt x="3000" y="0"/>
                    </a:lnTo>
                    <a:lnTo>
                      <a:pt x="3000" y="0"/>
                    </a:lnTo>
                    <a:close/>
                    <a:moveTo>
                      <a:pt x="3000" y="580"/>
                    </a:moveTo>
                    <a:lnTo>
                      <a:pt x="2918" y="580"/>
                    </a:lnTo>
                    <a:lnTo>
                      <a:pt x="2915" y="580"/>
                    </a:lnTo>
                    <a:lnTo>
                      <a:pt x="2911" y="581"/>
                    </a:lnTo>
                    <a:lnTo>
                      <a:pt x="2908" y="583"/>
                    </a:lnTo>
                    <a:lnTo>
                      <a:pt x="2906" y="585"/>
                    </a:lnTo>
                    <a:lnTo>
                      <a:pt x="2903" y="588"/>
                    </a:lnTo>
                    <a:lnTo>
                      <a:pt x="2902" y="591"/>
                    </a:lnTo>
                    <a:lnTo>
                      <a:pt x="2901" y="595"/>
                    </a:lnTo>
                    <a:lnTo>
                      <a:pt x="2901" y="597"/>
                    </a:lnTo>
                    <a:lnTo>
                      <a:pt x="2901" y="597"/>
                    </a:lnTo>
                    <a:lnTo>
                      <a:pt x="2901" y="670"/>
                    </a:lnTo>
                    <a:lnTo>
                      <a:pt x="2901" y="674"/>
                    </a:lnTo>
                    <a:lnTo>
                      <a:pt x="2902" y="678"/>
                    </a:lnTo>
                    <a:lnTo>
                      <a:pt x="2903" y="682"/>
                    </a:lnTo>
                    <a:lnTo>
                      <a:pt x="2906" y="686"/>
                    </a:lnTo>
                    <a:lnTo>
                      <a:pt x="2908" y="688"/>
                    </a:lnTo>
                    <a:lnTo>
                      <a:pt x="2911" y="689"/>
                    </a:lnTo>
                    <a:lnTo>
                      <a:pt x="2915" y="691"/>
                    </a:lnTo>
                    <a:lnTo>
                      <a:pt x="2918" y="691"/>
                    </a:lnTo>
                    <a:lnTo>
                      <a:pt x="2918" y="691"/>
                    </a:lnTo>
                    <a:lnTo>
                      <a:pt x="3000" y="691"/>
                    </a:lnTo>
                    <a:lnTo>
                      <a:pt x="3000" y="580"/>
                    </a:lnTo>
                    <a:lnTo>
                      <a:pt x="3000" y="580"/>
                    </a:lnTo>
                    <a:close/>
                    <a:moveTo>
                      <a:pt x="0" y="880"/>
                    </a:moveTo>
                    <a:lnTo>
                      <a:pt x="0" y="925"/>
                    </a:lnTo>
                    <a:lnTo>
                      <a:pt x="125" y="925"/>
                    </a:lnTo>
                    <a:lnTo>
                      <a:pt x="125" y="880"/>
                    </a:lnTo>
                    <a:lnTo>
                      <a:pt x="0" y="880"/>
                    </a:lnTo>
                    <a:lnTo>
                      <a:pt x="0" y="880"/>
                    </a:lnTo>
                    <a:close/>
                    <a:moveTo>
                      <a:pt x="822" y="880"/>
                    </a:moveTo>
                    <a:lnTo>
                      <a:pt x="822" y="925"/>
                    </a:lnTo>
                    <a:lnTo>
                      <a:pt x="945" y="925"/>
                    </a:lnTo>
                    <a:lnTo>
                      <a:pt x="945" y="880"/>
                    </a:lnTo>
                    <a:lnTo>
                      <a:pt x="822" y="880"/>
                    </a:lnTo>
                    <a:lnTo>
                      <a:pt x="822" y="88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56760" y="451728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78"/>
                    </a:moveTo>
                    <a:lnTo>
                      <a:pt x="157" y="69"/>
                    </a:lnTo>
                    <a:lnTo>
                      <a:pt x="155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8" y="40"/>
                    </a:lnTo>
                    <a:lnTo>
                      <a:pt x="144" y="34"/>
                    </a:lnTo>
                    <a:lnTo>
                      <a:pt x="139" y="28"/>
                    </a:lnTo>
                    <a:lnTo>
                      <a:pt x="134" y="23"/>
                    </a:lnTo>
                    <a:lnTo>
                      <a:pt x="129" y="18"/>
                    </a:lnTo>
                    <a:lnTo>
                      <a:pt x="123" y="14"/>
                    </a:lnTo>
                    <a:lnTo>
                      <a:pt x="117" y="10"/>
                    </a:lnTo>
                    <a:lnTo>
                      <a:pt x="110" y="6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1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24" y="23"/>
                    </a:lnTo>
                    <a:lnTo>
                      <a:pt x="19" y="28"/>
                    </a:lnTo>
                    <a:lnTo>
                      <a:pt x="14" y="34"/>
                    </a:lnTo>
                    <a:lnTo>
                      <a:pt x="10" y="40"/>
                    </a:lnTo>
                    <a:lnTo>
                      <a:pt x="8" y="48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1" y="69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2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9" y="129"/>
                    </a:lnTo>
                    <a:lnTo>
                      <a:pt x="24" y="134"/>
                    </a:lnTo>
                    <a:lnTo>
                      <a:pt x="30" y="139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9" y="152"/>
                    </a:lnTo>
                    <a:lnTo>
                      <a:pt x="56" y="154"/>
                    </a:lnTo>
                    <a:lnTo>
                      <a:pt x="64" y="157"/>
                    </a:lnTo>
                    <a:lnTo>
                      <a:pt x="71" y="158"/>
                    </a:lnTo>
                    <a:lnTo>
                      <a:pt x="80" y="158"/>
                    </a:lnTo>
                    <a:lnTo>
                      <a:pt x="88" y="158"/>
                    </a:lnTo>
                    <a:lnTo>
                      <a:pt x="95" y="157"/>
                    </a:lnTo>
                    <a:lnTo>
                      <a:pt x="103" y="154"/>
                    </a:lnTo>
                    <a:lnTo>
                      <a:pt x="110" y="152"/>
                    </a:lnTo>
                    <a:lnTo>
                      <a:pt x="117" y="148"/>
                    </a:lnTo>
                    <a:lnTo>
                      <a:pt x="123" y="144"/>
                    </a:lnTo>
                    <a:lnTo>
                      <a:pt x="129" y="139"/>
                    </a:lnTo>
                    <a:lnTo>
                      <a:pt x="134" y="134"/>
                    </a:lnTo>
                    <a:lnTo>
                      <a:pt x="139" y="129"/>
                    </a:lnTo>
                    <a:lnTo>
                      <a:pt x="144" y="123"/>
                    </a:lnTo>
                    <a:lnTo>
                      <a:pt x="148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5" y="93"/>
                    </a:lnTo>
                    <a:lnTo>
                      <a:pt x="157" y="86"/>
                    </a:lnTo>
                    <a:lnTo>
                      <a:pt x="157" y="78"/>
                    </a:lnTo>
                    <a:lnTo>
                      <a:pt x="157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5058360" y="451728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155" h="158">
                    <a:moveTo>
                      <a:pt x="155" y="78"/>
                    </a:moveTo>
                    <a:lnTo>
                      <a:pt x="155" y="69"/>
                    </a:lnTo>
                    <a:lnTo>
                      <a:pt x="154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6" y="40"/>
                    </a:lnTo>
                    <a:lnTo>
                      <a:pt x="143" y="34"/>
                    </a:lnTo>
                    <a:lnTo>
                      <a:pt x="138" y="28"/>
                    </a:lnTo>
                    <a:lnTo>
                      <a:pt x="133" y="23"/>
                    </a:lnTo>
                    <a:lnTo>
                      <a:pt x="128" y="18"/>
                    </a:lnTo>
                    <a:lnTo>
                      <a:pt x="121" y="14"/>
                    </a:lnTo>
                    <a:lnTo>
                      <a:pt x="115" y="10"/>
                    </a:lnTo>
                    <a:lnTo>
                      <a:pt x="109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6" y="1"/>
                    </a:lnTo>
                    <a:lnTo>
                      <a:pt x="79" y="0"/>
                    </a:lnTo>
                    <a:lnTo>
                      <a:pt x="70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7" y="6"/>
                    </a:lnTo>
                    <a:lnTo>
                      <a:pt x="41" y="10"/>
                    </a:lnTo>
                    <a:lnTo>
                      <a:pt x="35" y="14"/>
                    </a:lnTo>
                    <a:lnTo>
                      <a:pt x="29" y="18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4" y="34"/>
                    </a:lnTo>
                    <a:lnTo>
                      <a:pt x="9" y="40"/>
                    </a:lnTo>
                    <a:lnTo>
                      <a:pt x="6" y="48"/>
                    </a:lnTo>
                    <a:lnTo>
                      <a:pt x="2" y="54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" y="93"/>
                    </a:lnTo>
                    <a:lnTo>
                      <a:pt x="2" y="101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4" y="123"/>
                    </a:lnTo>
                    <a:lnTo>
                      <a:pt x="17" y="129"/>
                    </a:lnTo>
                    <a:lnTo>
                      <a:pt x="22" y="134"/>
                    </a:lnTo>
                    <a:lnTo>
                      <a:pt x="29" y="139"/>
                    </a:lnTo>
                    <a:lnTo>
                      <a:pt x="35" y="144"/>
                    </a:lnTo>
                    <a:lnTo>
                      <a:pt x="41" y="148"/>
                    </a:lnTo>
                    <a:lnTo>
                      <a:pt x="47" y="152"/>
                    </a:lnTo>
                    <a:lnTo>
                      <a:pt x="55" y="154"/>
                    </a:lnTo>
                    <a:lnTo>
                      <a:pt x="62" y="157"/>
                    </a:lnTo>
                    <a:lnTo>
                      <a:pt x="70" y="158"/>
                    </a:lnTo>
                    <a:lnTo>
                      <a:pt x="79" y="158"/>
                    </a:lnTo>
                    <a:lnTo>
                      <a:pt x="86" y="158"/>
                    </a:lnTo>
                    <a:lnTo>
                      <a:pt x="94" y="157"/>
                    </a:lnTo>
                    <a:lnTo>
                      <a:pt x="101" y="154"/>
                    </a:lnTo>
                    <a:lnTo>
                      <a:pt x="109" y="152"/>
                    </a:lnTo>
                    <a:lnTo>
                      <a:pt x="115" y="148"/>
                    </a:lnTo>
                    <a:lnTo>
                      <a:pt x="121" y="144"/>
                    </a:lnTo>
                    <a:lnTo>
                      <a:pt x="128" y="139"/>
                    </a:lnTo>
                    <a:lnTo>
                      <a:pt x="133" y="134"/>
                    </a:lnTo>
                    <a:lnTo>
                      <a:pt x="138" y="129"/>
                    </a:lnTo>
                    <a:lnTo>
                      <a:pt x="143" y="123"/>
                    </a:lnTo>
                    <a:lnTo>
                      <a:pt x="146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4" y="93"/>
                    </a:lnTo>
                    <a:lnTo>
                      <a:pt x="155" y="86"/>
                    </a:lnTo>
                    <a:lnTo>
                      <a:pt x="155" y="78"/>
                    </a:lnTo>
                    <a:lnTo>
                      <a:pt x="155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5262120" y="4530960"/>
                <a:ext cx="339120" cy="117360"/>
              </a:xfrm>
              <a:custGeom>
                <a:avLst/>
                <a:gdLst/>
                <a:ahLst/>
                <a:rect l="l" t="t" r="r" b="b"/>
                <a:pathLst>
                  <a:path w="431" h="146">
                    <a:moveTo>
                      <a:pt x="70" y="32"/>
                    </a:moveTo>
                    <a:lnTo>
                      <a:pt x="42" y="32"/>
                    </a:lnTo>
                    <a:lnTo>
                      <a:pt x="38" y="32"/>
                    </a:lnTo>
                    <a:lnTo>
                      <a:pt x="33" y="33"/>
                    </a:lnTo>
                    <a:lnTo>
                      <a:pt x="29" y="35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3" y="45"/>
                    </a:lnTo>
                    <a:lnTo>
                      <a:pt x="8" y="50"/>
                    </a:lnTo>
                    <a:lnTo>
                      <a:pt x="5" y="53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9"/>
                    </a:lnTo>
                    <a:lnTo>
                      <a:pt x="5" y="93"/>
                    </a:lnTo>
                    <a:lnTo>
                      <a:pt x="8" y="96"/>
                    </a:lnTo>
                    <a:lnTo>
                      <a:pt x="13" y="103"/>
                    </a:lnTo>
                    <a:lnTo>
                      <a:pt x="19" y="108"/>
                    </a:lnTo>
                    <a:lnTo>
                      <a:pt x="22" y="109"/>
                    </a:lnTo>
                    <a:lnTo>
                      <a:pt x="25" y="112"/>
                    </a:lnTo>
                    <a:lnTo>
                      <a:pt x="29" y="113"/>
                    </a:lnTo>
                    <a:lnTo>
                      <a:pt x="33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82" y="114"/>
                    </a:lnTo>
                    <a:lnTo>
                      <a:pt x="82" y="119"/>
                    </a:lnTo>
                    <a:lnTo>
                      <a:pt x="84" y="125"/>
                    </a:lnTo>
                    <a:lnTo>
                      <a:pt x="87" y="131"/>
                    </a:lnTo>
                    <a:lnTo>
                      <a:pt x="92" y="136"/>
                    </a:lnTo>
                    <a:lnTo>
                      <a:pt x="95" y="139"/>
                    </a:lnTo>
                    <a:lnTo>
                      <a:pt x="102" y="142"/>
                    </a:lnTo>
                    <a:lnTo>
                      <a:pt x="108" y="144"/>
                    </a:lnTo>
                    <a:lnTo>
                      <a:pt x="114" y="146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308" y="146"/>
                    </a:lnTo>
                    <a:lnTo>
                      <a:pt x="315" y="146"/>
                    </a:lnTo>
                    <a:lnTo>
                      <a:pt x="318" y="146"/>
                    </a:lnTo>
                    <a:lnTo>
                      <a:pt x="322" y="144"/>
                    </a:lnTo>
                    <a:lnTo>
                      <a:pt x="326" y="143"/>
                    </a:lnTo>
                    <a:lnTo>
                      <a:pt x="328" y="142"/>
                    </a:lnTo>
                    <a:lnTo>
                      <a:pt x="332" y="139"/>
                    </a:lnTo>
                    <a:lnTo>
                      <a:pt x="336" y="137"/>
                    </a:lnTo>
                    <a:lnTo>
                      <a:pt x="338" y="136"/>
                    </a:lnTo>
                    <a:lnTo>
                      <a:pt x="340" y="133"/>
                    </a:lnTo>
                    <a:lnTo>
                      <a:pt x="342" y="131"/>
                    </a:lnTo>
                    <a:lnTo>
                      <a:pt x="345" y="128"/>
                    </a:lnTo>
                    <a:lnTo>
                      <a:pt x="347" y="122"/>
                    </a:lnTo>
                    <a:lnTo>
                      <a:pt x="350" y="114"/>
                    </a:lnTo>
                    <a:lnTo>
                      <a:pt x="350" y="114"/>
                    </a:lnTo>
                    <a:lnTo>
                      <a:pt x="390" y="114"/>
                    </a:lnTo>
                    <a:lnTo>
                      <a:pt x="394" y="114"/>
                    </a:lnTo>
                    <a:lnTo>
                      <a:pt x="399" y="114"/>
                    </a:lnTo>
                    <a:lnTo>
                      <a:pt x="402" y="113"/>
                    </a:lnTo>
                    <a:lnTo>
                      <a:pt x="406" y="112"/>
                    </a:lnTo>
                    <a:lnTo>
                      <a:pt x="410" y="109"/>
                    </a:lnTo>
                    <a:lnTo>
                      <a:pt x="412" y="108"/>
                    </a:lnTo>
                    <a:lnTo>
                      <a:pt x="419" y="103"/>
                    </a:lnTo>
                    <a:lnTo>
                      <a:pt x="424" y="96"/>
                    </a:lnTo>
                    <a:lnTo>
                      <a:pt x="426" y="93"/>
                    </a:lnTo>
                    <a:lnTo>
                      <a:pt x="427" y="89"/>
                    </a:lnTo>
                    <a:lnTo>
                      <a:pt x="429" y="85"/>
                    </a:lnTo>
                    <a:lnTo>
                      <a:pt x="430" y="81"/>
                    </a:lnTo>
                    <a:lnTo>
                      <a:pt x="430" y="77"/>
                    </a:lnTo>
                    <a:lnTo>
                      <a:pt x="431" y="74"/>
                    </a:lnTo>
                    <a:lnTo>
                      <a:pt x="431" y="74"/>
                    </a:lnTo>
                    <a:lnTo>
                      <a:pt x="430" y="69"/>
                    </a:lnTo>
                    <a:lnTo>
                      <a:pt x="430" y="65"/>
                    </a:lnTo>
                    <a:lnTo>
                      <a:pt x="429" y="61"/>
                    </a:lnTo>
                    <a:lnTo>
                      <a:pt x="427" y="57"/>
                    </a:lnTo>
                    <a:lnTo>
                      <a:pt x="426" y="53"/>
                    </a:lnTo>
                    <a:lnTo>
                      <a:pt x="424" y="50"/>
                    </a:lnTo>
                    <a:lnTo>
                      <a:pt x="419" y="45"/>
                    </a:lnTo>
                    <a:lnTo>
                      <a:pt x="412" y="40"/>
                    </a:lnTo>
                    <a:lnTo>
                      <a:pt x="410" y="37"/>
                    </a:lnTo>
                    <a:lnTo>
                      <a:pt x="406" y="36"/>
                    </a:lnTo>
                    <a:lnTo>
                      <a:pt x="402" y="35"/>
                    </a:lnTo>
                    <a:lnTo>
                      <a:pt x="399" y="33"/>
                    </a:lnTo>
                    <a:lnTo>
                      <a:pt x="394" y="32"/>
                    </a:lnTo>
                    <a:lnTo>
                      <a:pt x="390" y="32"/>
                    </a:lnTo>
                    <a:lnTo>
                      <a:pt x="390" y="32"/>
                    </a:lnTo>
                    <a:lnTo>
                      <a:pt x="361" y="32"/>
                    </a:lnTo>
                    <a:lnTo>
                      <a:pt x="360" y="30"/>
                    </a:lnTo>
                    <a:lnTo>
                      <a:pt x="360" y="27"/>
                    </a:lnTo>
                    <a:lnTo>
                      <a:pt x="359" y="24"/>
                    </a:lnTo>
                    <a:lnTo>
                      <a:pt x="357" y="22"/>
                    </a:lnTo>
                    <a:lnTo>
                      <a:pt x="355" y="18"/>
                    </a:lnTo>
                    <a:lnTo>
                      <a:pt x="351" y="14"/>
                    </a:lnTo>
                    <a:lnTo>
                      <a:pt x="349" y="11"/>
                    </a:lnTo>
                    <a:lnTo>
                      <a:pt x="346" y="8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36" y="2"/>
                    </a:lnTo>
                    <a:lnTo>
                      <a:pt x="332" y="2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4" y="18"/>
                    </a:lnTo>
                    <a:lnTo>
                      <a:pt x="73" y="22"/>
                    </a:lnTo>
                    <a:lnTo>
                      <a:pt x="72" y="27"/>
                    </a:lnTo>
                    <a:lnTo>
                      <a:pt x="70" y="32"/>
                    </a:lnTo>
                    <a:lnTo>
                      <a:pt x="70" y="3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5668920" y="4538520"/>
                <a:ext cx="340560" cy="100080"/>
              </a:xfrm>
              <a:custGeom>
                <a:avLst/>
                <a:gdLst/>
                <a:ahLst/>
                <a:rect l="l" t="t" r="r" b="b"/>
                <a:pathLst>
                  <a:path w="432" h="125">
                    <a:moveTo>
                      <a:pt x="9" y="125"/>
                    </a:moveTo>
                    <a:lnTo>
                      <a:pt x="423" y="125"/>
                    </a:lnTo>
                    <a:lnTo>
                      <a:pt x="425" y="125"/>
                    </a:lnTo>
                    <a:lnTo>
                      <a:pt x="427" y="125"/>
                    </a:lnTo>
                    <a:lnTo>
                      <a:pt x="428" y="124"/>
                    </a:lnTo>
                    <a:lnTo>
                      <a:pt x="430" y="123"/>
                    </a:lnTo>
                    <a:lnTo>
                      <a:pt x="431" y="122"/>
                    </a:lnTo>
                    <a:lnTo>
                      <a:pt x="432" y="120"/>
                    </a:lnTo>
                    <a:lnTo>
                      <a:pt x="432" y="119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9"/>
                    </a:lnTo>
                    <a:lnTo>
                      <a:pt x="432" y="8"/>
                    </a:lnTo>
                    <a:lnTo>
                      <a:pt x="432" y="7"/>
                    </a:lnTo>
                    <a:lnTo>
                      <a:pt x="431" y="4"/>
                    </a:lnTo>
                    <a:lnTo>
                      <a:pt x="430" y="3"/>
                    </a:lnTo>
                    <a:lnTo>
                      <a:pt x="428" y="2"/>
                    </a:lnTo>
                    <a:lnTo>
                      <a:pt x="427" y="2"/>
                    </a:lnTo>
                    <a:lnTo>
                      <a:pt x="425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2" y="123"/>
                    </a:lnTo>
                    <a:lnTo>
                      <a:pt x="4" y="124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9" y="125"/>
                    </a:lnTo>
                    <a:lnTo>
                      <a:pt x="9" y="125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041520" y="4532040"/>
                <a:ext cx="339120" cy="119880"/>
              </a:xfrm>
              <a:custGeom>
                <a:avLst/>
                <a:gdLst/>
                <a:ahLst/>
                <a:rect l="l" t="t" r="r" b="b"/>
                <a:pathLst>
                  <a:path w="432" h="148">
                    <a:moveTo>
                      <a:pt x="70" y="34"/>
                    </a:moveTo>
                    <a:lnTo>
                      <a:pt x="40" y="34"/>
                    </a:lnTo>
                    <a:lnTo>
                      <a:pt x="36" y="34"/>
                    </a:lnTo>
                    <a:lnTo>
                      <a:pt x="32" y="34"/>
                    </a:lnTo>
                    <a:lnTo>
                      <a:pt x="27" y="35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1" y="45"/>
                    </a:lnTo>
                    <a:lnTo>
                      <a:pt x="6" y="52"/>
                    </a:lnTo>
                    <a:lnTo>
                      <a:pt x="5" y="56"/>
                    </a:lnTo>
                    <a:lnTo>
                      <a:pt x="2" y="59"/>
                    </a:lnTo>
                    <a:lnTo>
                      <a:pt x="1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6"/>
                    </a:lnTo>
                    <a:lnTo>
                      <a:pt x="2" y="90"/>
                    </a:lnTo>
                    <a:lnTo>
                      <a:pt x="5" y="93"/>
                    </a:lnTo>
                    <a:lnTo>
                      <a:pt x="6" y="96"/>
                    </a:lnTo>
                    <a:lnTo>
                      <a:pt x="11" y="102"/>
                    </a:lnTo>
                    <a:lnTo>
                      <a:pt x="17" y="107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2"/>
                    </a:lnTo>
                    <a:lnTo>
                      <a:pt x="32" y="112"/>
                    </a:lnTo>
                    <a:lnTo>
                      <a:pt x="36" y="114"/>
                    </a:lnTo>
                    <a:lnTo>
                      <a:pt x="40" y="114"/>
                    </a:lnTo>
                    <a:lnTo>
                      <a:pt x="40" y="114"/>
                    </a:lnTo>
                    <a:lnTo>
                      <a:pt x="81" y="114"/>
                    </a:lnTo>
                    <a:lnTo>
                      <a:pt x="81" y="119"/>
                    </a:lnTo>
                    <a:lnTo>
                      <a:pt x="82" y="125"/>
                    </a:lnTo>
                    <a:lnTo>
                      <a:pt x="86" y="130"/>
                    </a:lnTo>
                    <a:lnTo>
                      <a:pt x="90" y="135"/>
                    </a:lnTo>
                    <a:lnTo>
                      <a:pt x="95" y="139"/>
                    </a:lnTo>
                    <a:lnTo>
                      <a:pt x="97" y="141"/>
                    </a:lnTo>
                    <a:lnTo>
                      <a:pt x="101" y="143"/>
                    </a:lnTo>
                    <a:lnTo>
                      <a:pt x="104" y="145"/>
                    </a:lnTo>
                    <a:lnTo>
                      <a:pt x="106" y="145"/>
                    </a:lnTo>
                    <a:lnTo>
                      <a:pt x="110" y="146"/>
                    </a:lnTo>
                    <a:lnTo>
                      <a:pt x="112" y="148"/>
                    </a:lnTo>
                    <a:lnTo>
                      <a:pt x="119" y="148"/>
                    </a:lnTo>
                    <a:lnTo>
                      <a:pt x="119" y="148"/>
                    </a:lnTo>
                    <a:lnTo>
                      <a:pt x="307" y="148"/>
                    </a:lnTo>
                    <a:lnTo>
                      <a:pt x="312" y="148"/>
                    </a:lnTo>
                    <a:lnTo>
                      <a:pt x="315" y="146"/>
                    </a:lnTo>
                    <a:lnTo>
                      <a:pt x="319" y="146"/>
                    </a:lnTo>
                    <a:lnTo>
                      <a:pt x="323" y="145"/>
                    </a:lnTo>
                    <a:lnTo>
                      <a:pt x="329" y="141"/>
                    </a:lnTo>
                    <a:lnTo>
                      <a:pt x="334" y="139"/>
                    </a:lnTo>
                    <a:lnTo>
                      <a:pt x="339" y="133"/>
                    </a:lnTo>
                    <a:lnTo>
                      <a:pt x="342" y="130"/>
                    </a:lnTo>
                    <a:lnTo>
                      <a:pt x="344" y="128"/>
                    </a:lnTo>
                    <a:lnTo>
                      <a:pt x="345" y="124"/>
                    </a:lnTo>
                    <a:lnTo>
                      <a:pt x="347" y="120"/>
                    </a:lnTo>
                    <a:lnTo>
                      <a:pt x="348" y="117"/>
                    </a:lnTo>
                    <a:lnTo>
                      <a:pt x="348" y="114"/>
                    </a:lnTo>
                    <a:lnTo>
                      <a:pt x="348" y="114"/>
                    </a:lnTo>
                    <a:lnTo>
                      <a:pt x="390" y="114"/>
                    </a:lnTo>
                    <a:lnTo>
                      <a:pt x="395" y="114"/>
                    </a:lnTo>
                    <a:lnTo>
                      <a:pt x="399" y="112"/>
                    </a:lnTo>
                    <a:lnTo>
                      <a:pt x="403" y="112"/>
                    </a:lnTo>
                    <a:lnTo>
                      <a:pt x="407" y="110"/>
                    </a:lnTo>
                    <a:lnTo>
                      <a:pt x="411" y="109"/>
                    </a:lnTo>
                    <a:lnTo>
                      <a:pt x="413" y="107"/>
                    </a:lnTo>
                    <a:lnTo>
                      <a:pt x="419" y="102"/>
                    </a:lnTo>
                    <a:lnTo>
                      <a:pt x="424" y="96"/>
                    </a:lnTo>
                    <a:lnTo>
                      <a:pt x="427" y="93"/>
                    </a:lnTo>
                    <a:lnTo>
                      <a:pt x="428" y="90"/>
                    </a:lnTo>
                    <a:lnTo>
                      <a:pt x="429" y="86"/>
                    </a:lnTo>
                    <a:lnTo>
                      <a:pt x="431" y="82"/>
                    </a:lnTo>
                    <a:lnTo>
                      <a:pt x="432" y="78"/>
                    </a:lnTo>
                    <a:lnTo>
                      <a:pt x="432" y="74"/>
                    </a:lnTo>
                    <a:lnTo>
                      <a:pt x="432" y="74"/>
                    </a:lnTo>
                    <a:lnTo>
                      <a:pt x="432" y="71"/>
                    </a:lnTo>
                    <a:lnTo>
                      <a:pt x="431" y="67"/>
                    </a:lnTo>
                    <a:lnTo>
                      <a:pt x="429" y="63"/>
                    </a:lnTo>
                    <a:lnTo>
                      <a:pt x="428" y="59"/>
                    </a:lnTo>
                    <a:lnTo>
                      <a:pt x="427" y="56"/>
                    </a:lnTo>
                    <a:lnTo>
                      <a:pt x="424" y="52"/>
                    </a:lnTo>
                    <a:lnTo>
                      <a:pt x="419" y="45"/>
                    </a:lnTo>
                    <a:lnTo>
                      <a:pt x="413" y="40"/>
                    </a:lnTo>
                    <a:lnTo>
                      <a:pt x="411" y="39"/>
                    </a:lnTo>
                    <a:lnTo>
                      <a:pt x="407" y="37"/>
                    </a:lnTo>
                    <a:lnTo>
                      <a:pt x="403" y="35"/>
                    </a:lnTo>
                    <a:lnTo>
                      <a:pt x="399" y="34"/>
                    </a:lnTo>
                    <a:lnTo>
                      <a:pt x="395" y="34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59" y="34"/>
                    </a:lnTo>
                    <a:lnTo>
                      <a:pt x="359" y="29"/>
                    </a:lnTo>
                    <a:lnTo>
                      <a:pt x="358" y="24"/>
                    </a:lnTo>
                    <a:lnTo>
                      <a:pt x="355" y="19"/>
                    </a:lnTo>
                    <a:lnTo>
                      <a:pt x="353" y="14"/>
                    </a:lnTo>
                    <a:lnTo>
                      <a:pt x="349" y="11"/>
                    </a:lnTo>
                    <a:lnTo>
                      <a:pt x="347" y="9"/>
                    </a:lnTo>
                    <a:lnTo>
                      <a:pt x="343" y="6"/>
                    </a:lnTo>
                    <a:lnTo>
                      <a:pt x="339" y="4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107" y="0"/>
                    </a:lnTo>
                    <a:lnTo>
                      <a:pt x="104" y="0"/>
                    </a:lnTo>
                    <a:lnTo>
                      <a:pt x="100" y="1"/>
                    </a:lnTo>
                    <a:lnTo>
                      <a:pt x="95" y="3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9"/>
                    </a:lnTo>
                    <a:lnTo>
                      <a:pt x="81" y="11"/>
                    </a:lnTo>
                    <a:lnTo>
                      <a:pt x="78" y="14"/>
                    </a:lnTo>
                    <a:lnTo>
                      <a:pt x="76" y="19"/>
                    </a:lnTo>
                    <a:lnTo>
                      <a:pt x="73" y="24"/>
                    </a:lnTo>
                    <a:lnTo>
                      <a:pt x="71" y="29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6415200" y="4511160"/>
                <a:ext cx="162360" cy="135000"/>
              </a:xfrm>
              <a:custGeom>
                <a:avLst/>
                <a:gdLst/>
                <a:ahLst/>
                <a:rect l="l" t="t" r="r" b="b"/>
                <a:pathLst>
                  <a:path w="208" h="167">
                    <a:moveTo>
                      <a:pt x="208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208" y="167"/>
                    </a:lnTo>
                    <a:lnTo>
                      <a:pt x="208" y="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6198840" y="3884400"/>
                <a:ext cx="75600" cy="9036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99" y="0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1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7" y="109"/>
                    </a:lnTo>
                    <a:lnTo>
                      <a:pt x="10" y="111"/>
                    </a:lnTo>
                    <a:lnTo>
                      <a:pt x="14" y="111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99" y="11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6198840" y="4352760"/>
                <a:ext cx="75600" cy="892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99" y="0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10" y="109"/>
                    </a:lnTo>
                    <a:lnTo>
                      <a:pt x="14" y="111"/>
                    </a:lnTo>
                    <a:lnTo>
                      <a:pt x="17" y="111"/>
                    </a:lnTo>
                    <a:lnTo>
                      <a:pt x="17" y="111"/>
                    </a:lnTo>
                    <a:lnTo>
                      <a:pt x="99" y="111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3921480" y="4595400"/>
                <a:ext cx="97560" cy="3708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0"/>
                    </a:moveTo>
                    <a:lnTo>
                      <a:pt x="0" y="45"/>
                    </a:lnTo>
                    <a:lnTo>
                      <a:pt x="125" y="45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567320" y="4595400"/>
                <a:ext cx="95040" cy="3708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0" y="0"/>
                    </a:moveTo>
                    <a:lnTo>
                      <a:pt x="0" y="45"/>
                    </a:lnTo>
                    <a:lnTo>
                      <a:pt x="123" y="45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877280" y="4538520"/>
                <a:ext cx="83880" cy="86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4877280" y="4538520"/>
                <a:ext cx="83880" cy="86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6052320" y="4566960"/>
                <a:ext cx="42840" cy="5328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052320" y="4566960"/>
                <a:ext cx="42840" cy="5328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325560" y="4566960"/>
                <a:ext cx="45360" cy="5328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6325560" y="4566960"/>
                <a:ext cx="45360" cy="5328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118920" y="4550760"/>
                <a:ext cx="184680" cy="878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118920" y="4550760"/>
                <a:ext cx="184680" cy="878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273280" y="4563360"/>
                <a:ext cx="43920" cy="529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273280" y="4563360"/>
                <a:ext cx="43920" cy="529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546520" y="4563360"/>
                <a:ext cx="45000" cy="529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546520" y="4563360"/>
                <a:ext cx="45000" cy="529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339520" y="4545720"/>
                <a:ext cx="184680" cy="878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339520" y="4545720"/>
                <a:ext cx="184680" cy="878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358600" y="456804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88" h="57">
                    <a:moveTo>
                      <a:pt x="174" y="6"/>
                    </a:moveTo>
                    <a:lnTo>
                      <a:pt x="174" y="9"/>
                    </a:lnTo>
                    <a:lnTo>
                      <a:pt x="175" y="11"/>
                    </a:lnTo>
                    <a:lnTo>
                      <a:pt x="178" y="13"/>
                    </a:lnTo>
                    <a:lnTo>
                      <a:pt x="179" y="14"/>
                    </a:lnTo>
                    <a:lnTo>
                      <a:pt x="180" y="14"/>
                    </a:lnTo>
                    <a:lnTo>
                      <a:pt x="182" y="14"/>
                    </a:lnTo>
                    <a:lnTo>
                      <a:pt x="183" y="13"/>
                    </a:lnTo>
                    <a:lnTo>
                      <a:pt x="185" y="11"/>
                    </a:lnTo>
                    <a:lnTo>
                      <a:pt x="187" y="9"/>
                    </a:lnTo>
                    <a:lnTo>
                      <a:pt x="188" y="7"/>
                    </a:lnTo>
                    <a:lnTo>
                      <a:pt x="188" y="6"/>
                    </a:lnTo>
                    <a:lnTo>
                      <a:pt x="188" y="5"/>
                    </a:lnTo>
                    <a:lnTo>
                      <a:pt x="187" y="4"/>
                    </a:lnTo>
                    <a:lnTo>
                      <a:pt x="185" y="1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5" y="1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close/>
                    <a:moveTo>
                      <a:pt x="20" y="50"/>
                    </a:moveTo>
                    <a:lnTo>
                      <a:pt x="20" y="50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25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7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4" y="45"/>
                    </a:lnTo>
                    <a:lnTo>
                      <a:pt x="30" y="44"/>
                    </a:lnTo>
                    <a:lnTo>
                      <a:pt x="28" y="43"/>
                    </a:lnTo>
                    <a:lnTo>
                      <a:pt x="25" y="44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0"/>
                    </a:lnTo>
                    <a:close/>
                    <a:moveTo>
                      <a:pt x="65" y="50"/>
                    </a:moveTo>
                    <a:lnTo>
                      <a:pt x="66" y="52"/>
                    </a:lnTo>
                    <a:lnTo>
                      <a:pt x="68" y="54"/>
                    </a:lnTo>
                    <a:lnTo>
                      <a:pt x="69" y="57"/>
                    </a:lnTo>
                    <a:lnTo>
                      <a:pt x="70" y="57"/>
                    </a:lnTo>
                    <a:lnTo>
                      <a:pt x="73" y="57"/>
                    </a:lnTo>
                    <a:lnTo>
                      <a:pt x="73" y="57"/>
                    </a:lnTo>
                    <a:lnTo>
                      <a:pt x="74" y="57"/>
                    </a:lnTo>
                    <a:lnTo>
                      <a:pt x="76" y="54"/>
                    </a:lnTo>
                    <a:lnTo>
                      <a:pt x="79" y="52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3" y="43"/>
                    </a:lnTo>
                    <a:lnTo>
                      <a:pt x="69" y="44"/>
                    </a:lnTo>
                    <a:lnTo>
                      <a:pt x="68" y="45"/>
                    </a:lnTo>
                    <a:lnTo>
                      <a:pt x="66" y="47"/>
                    </a:lnTo>
                    <a:lnTo>
                      <a:pt x="65" y="50"/>
                    </a:lnTo>
                    <a:lnTo>
                      <a:pt x="65" y="50"/>
                    </a:lnTo>
                    <a:close/>
                    <a:moveTo>
                      <a:pt x="109" y="50"/>
                    </a:moveTo>
                    <a:lnTo>
                      <a:pt x="109" y="52"/>
                    </a:lnTo>
                    <a:lnTo>
                      <a:pt x="110" y="54"/>
                    </a:lnTo>
                    <a:lnTo>
                      <a:pt x="113" y="57"/>
                    </a:lnTo>
                    <a:lnTo>
                      <a:pt x="114" y="57"/>
                    </a:lnTo>
                    <a:lnTo>
                      <a:pt x="115" y="57"/>
                    </a:lnTo>
                    <a:lnTo>
                      <a:pt x="117" y="57"/>
                    </a:lnTo>
                    <a:lnTo>
                      <a:pt x="118" y="57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2" y="47"/>
                    </a:lnTo>
                    <a:lnTo>
                      <a:pt x="120" y="45"/>
                    </a:lnTo>
                    <a:lnTo>
                      <a:pt x="118" y="44"/>
                    </a:lnTo>
                    <a:lnTo>
                      <a:pt x="115" y="43"/>
                    </a:lnTo>
                    <a:lnTo>
                      <a:pt x="113" y="44"/>
                    </a:lnTo>
                    <a:lnTo>
                      <a:pt x="110" y="45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9" y="50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4" y="9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6" y="6"/>
                    </a:moveTo>
                    <a:lnTo>
                      <a:pt x="86" y="7"/>
                    </a:lnTo>
                    <a:lnTo>
                      <a:pt x="86" y="9"/>
                    </a:lnTo>
                    <a:lnTo>
                      <a:pt x="89" y="11"/>
                    </a:lnTo>
                    <a:lnTo>
                      <a:pt x="90" y="13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3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1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6"/>
                    </a:lnTo>
                    <a:lnTo>
                      <a:pt x="86" y="6"/>
                    </a:lnTo>
                    <a:close/>
                    <a:moveTo>
                      <a:pt x="132" y="6"/>
                    </a:moveTo>
                    <a:lnTo>
                      <a:pt x="132" y="9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7" y="14"/>
                    </a:lnTo>
                    <a:lnTo>
                      <a:pt x="138" y="14"/>
                    </a:lnTo>
                    <a:lnTo>
                      <a:pt x="139" y="14"/>
                    </a:lnTo>
                    <a:lnTo>
                      <a:pt x="140" y="13"/>
                    </a:lnTo>
                    <a:lnTo>
                      <a:pt x="143" y="11"/>
                    </a:lnTo>
                    <a:lnTo>
                      <a:pt x="144" y="9"/>
                    </a:lnTo>
                    <a:lnTo>
                      <a:pt x="144" y="7"/>
                    </a:lnTo>
                    <a:lnTo>
                      <a:pt x="145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3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3" y="1"/>
                    </a:lnTo>
                    <a:lnTo>
                      <a:pt x="132" y="4"/>
                    </a:lnTo>
                    <a:lnTo>
                      <a:pt x="132" y="6"/>
                    </a:lnTo>
                    <a:lnTo>
                      <a:pt x="132" y="6"/>
                    </a:lnTo>
                    <a:close/>
                    <a:moveTo>
                      <a:pt x="152" y="50"/>
                    </a:moveTo>
                    <a:lnTo>
                      <a:pt x="152" y="52"/>
                    </a:lnTo>
                    <a:lnTo>
                      <a:pt x="153" y="54"/>
                    </a:lnTo>
                    <a:lnTo>
                      <a:pt x="155" y="57"/>
                    </a:lnTo>
                    <a:lnTo>
                      <a:pt x="157" y="57"/>
                    </a:lnTo>
                    <a:lnTo>
                      <a:pt x="158" y="57"/>
                    </a:lnTo>
                    <a:lnTo>
                      <a:pt x="160" y="57"/>
                    </a:lnTo>
                    <a:lnTo>
                      <a:pt x="162" y="57"/>
                    </a:lnTo>
                    <a:lnTo>
                      <a:pt x="163" y="54"/>
                    </a:lnTo>
                    <a:lnTo>
                      <a:pt x="164" y="52"/>
                    </a:lnTo>
                    <a:lnTo>
                      <a:pt x="165" y="50"/>
                    </a:lnTo>
                    <a:lnTo>
                      <a:pt x="164" y="47"/>
                    </a:lnTo>
                    <a:lnTo>
                      <a:pt x="163" y="45"/>
                    </a:lnTo>
                    <a:lnTo>
                      <a:pt x="162" y="44"/>
                    </a:lnTo>
                    <a:lnTo>
                      <a:pt x="158" y="43"/>
                    </a:lnTo>
                    <a:lnTo>
                      <a:pt x="155" y="44"/>
                    </a:lnTo>
                    <a:lnTo>
                      <a:pt x="153" y="45"/>
                    </a:lnTo>
                    <a:lnTo>
                      <a:pt x="152" y="47"/>
                    </a:lnTo>
                    <a:lnTo>
                      <a:pt x="152" y="50"/>
                    </a:lnTo>
                    <a:lnTo>
                      <a:pt x="152" y="50"/>
                    </a:lnTo>
                    <a:close/>
                  </a:path>
                </a:pathLst>
              </a:custGeom>
              <a:solidFill>
                <a:srgbClr val="f7e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677560" y="4551840"/>
                <a:ext cx="141840" cy="86760"/>
              </a:xfrm>
              <a:custGeom>
                <a:avLst/>
                <a:gdLst/>
                <a:ahLst/>
                <a:rect l="l" t="t" r="r" b="b"/>
                <a:pathLst>
                  <a:path w="181" h="108">
                    <a:moveTo>
                      <a:pt x="181" y="36"/>
                    </a:moveTo>
                    <a:lnTo>
                      <a:pt x="181" y="36"/>
                    </a:lnTo>
                    <a:lnTo>
                      <a:pt x="181" y="30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3"/>
                    </a:lnTo>
                    <a:lnTo>
                      <a:pt x="36" y="97"/>
                    </a:lnTo>
                    <a:lnTo>
                      <a:pt x="36" y="99"/>
                    </a:lnTo>
                    <a:lnTo>
                      <a:pt x="36" y="102"/>
                    </a:lnTo>
                    <a:lnTo>
                      <a:pt x="36" y="105"/>
                    </a:lnTo>
                    <a:lnTo>
                      <a:pt x="36" y="106"/>
                    </a:lnTo>
                    <a:lnTo>
                      <a:pt x="36" y="107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7"/>
                    </a:lnTo>
                    <a:lnTo>
                      <a:pt x="181" y="106"/>
                    </a:lnTo>
                    <a:lnTo>
                      <a:pt x="181" y="105"/>
                    </a:lnTo>
                    <a:lnTo>
                      <a:pt x="181" y="102"/>
                    </a:lnTo>
                    <a:lnTo>
                      <a:pt x="181" y="99"/>
                    </a:lnTo>
                    <a:lnTo>
                      <a:pt x="181" y="97"/>
                    </a:lnTo>
                    <a:lnTo>
                      <a:pt x="181" y="93"/>
                    </a:lnTo>
                    <a:lnTo>
                      <a:pt x="181" y="89"/>
                    </a:lnTo>
                    <a:lnTo>
                      <a:pt x="181" y="84"/>
                    </a:lnTo>
                    <a:lnTo>
                      <a:pt x="181" y="79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36"/>
                    </a:lnTo>
                    <a:lnTo>
                      <a:pt x="181" y="36"/>
                    </a:lnTo>
                    <a:lnTo>
                      <a:pt x="18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86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77560" y="4522320"/>
                <a:ext cx="141840" cy="8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77560" y="4522320"/>
                <a:ext cx="141840" cy="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5" name=""/>
              <p:cNvSpPr/>
              <p:nvPr/>
            </p:nvSpPr>
            <p:spPr>
              <a:xfrm>
                <a:off x="5677560" y="4550760"/>
                <a:ext cx="138960" cy="6516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5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1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1" y="77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8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848560" y="4522320"/>
                <a:ext cx="140400" cy="8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48560" y="4522320"/>
                <a:ext cx="140400" cy="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68" name=""/>
              <p:cNvSpPr/>
              <p:nvPr/>
            </p:nvSpPr>
            <p:spPr>
              <a:xfrm>
                <a:off x="5859360" y="4550760"/>
                <a:ext cx="140400" cy="6516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10" y="76"/>
                    </a:lnTo>
                    <a:lnTo>
                      <a:pt x="10" y="78"/>
                    </a:lnTo>
                    <a:lnTo>
                      <a:pt x="11" y="81"/>
                    </a:lnTo>
                    <a:lnTo>
                      <a:pt x="14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9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86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615000" y="4551840"/>
                <a:ext cx="85680" cy="8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0" name=""/>
              <p:cNvSpPr/>
              <p:nvPr/>
            </p:nvSpPr>
            <p:spPr>
              <a:xfrm>
                <a:off x="6617880" y="4563360"/>
                <a:ext cx="78480" cy="8388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101" y="53"/>
                    </a:moveTo>
                    <a:lnTo>
                      <a:pt x="101" y="48"/>
                    </a:lnTo>
                    <a:lnTo>
                      <a:pt x="100" y="42"/>
                    </a:lnTo>
                    <a:lnTo>
                      <a:pt x="100" y="36"/>
                    </a:lnTo>
                    <a:lnTo>
                      <a:pt x="97" y="33"/>
                    </a:lnTo>
                    <a:lnTo>
                      <a:pt x="95" y="28"/>
                    </a:lnTo>
                    <a:lnTo>
                      <a:pt x="92" y="23"/>
                    </a:lnTo>
                    <a:lnTo>
                      <a:pt x="90" y="19"/>
                    </a:lnTo>
                    <a:lnTo>
                      <a:pt x="87" y="15"/>
                    </a:lnTo>
                    <a:lnTo>
                      <a:pt x="83" y="12"/>
                    </a:lnTo>
                    <a:lnTo>
                      <a:pt x="80" y="9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6" y="2"/>
                    </a:lnTo>
                    <a:lnTo>
                      <a:pt x="62" y="1"/>
                    </a:lnTo>
                    <a:lnTo>
                      <a:pt x="57" y="1"/>
                    </a:lnTo>
                    <a:lnTo>
                      <a:pt x="52" y="0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2"/>
                    </a:lnTo>
                    <a:lnTo>
                      <a:pt x="15" y="15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6" y="28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6" y="77"/>
                    </a:lnTo>
                    <a:lnTo>
                      <a:pt x="8" y="81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8" y="91"/>
                    </a:lnTo>
                    <a:lnTo>
                      <a:pt x="22" y="95"/>
                    </a:lnTo>
                    <a:lnTo>
                      <a:pt x="27" y="97"/>
                    </a:lnTo>
                    <a:lnTo>
                      <a:pt x="31" y="98"/>
                    </a:lnTo>
                    <a:lnTo>
                      <a:pt x="36" y="101"/>
                    </a:lnTo>
                    <a:lnTo>
                      <a:pt x="41" y="102"/>
                    </a:lnTo>
                    <a:lnTo>
                      <a:pt x="46" y="102"/>
                    </a:lnTo>
                    <a:lnTo>
                      <a:pt x="52" y="103"/>
                    </a:lnTo>
                    <a:lnTo>
                      <a:pt x="57" y="102"/>
                    </a:lnTo>
                    <a:lnTo>
                      <a:pt x="62" y="102"/>
                    </a:lnTo>
                    <a:lnTo>
                      <a:pt x="66" y="101"/>
                    </a:lnTo>
                    <a:lnTo>
                      <a:pt x="71" y="98"/>
                    </a:lnTo>
                    <a:lnTo>
                      <a:pt x="75" y="97"/>
                    </a:lnTo>
                    <a:lnTo>
                      <a:pt x="80" y="95"/>
                    </a:lnTo>
                    <a:lnTo>
                      <a:pt x="83" y="91"/>
                    </a:lnTo>
                    <a:lnTo>
                      <a:pt x="87" y="88"/>
                    </a:lnTo>
                    <a:lnTo>
                      <a:pt x="90" y="84"/>
                    </a:lnTo>
                    <a:lnTo>
                      <a:pt x="92" y="81"/>
                    </a:lnTo>
                    <a:lnTo>
                      <a:pt x="95" y="77"/>
                    </a:lnTo>
                    <a:lnTo>
                      <a:pt x="97" y="72"/>
                    </a:lnTo>
                    <a:lnTo>
                      <a:pt x="100" y="68"/>
                    </a:lnTo>
                    <a:lnTo>
                      <a:pt x="100" y="63"/>
                    </a:lnTo>
                    <a:lnTo>
                      <a:pt x="101" y="58"/>
                    </a:lnTo>
                    <a:lnTo>
                      <a:pt x="101" y="5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87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615000" y="4551840"/>
                <a:ext cx="56520" cy="5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615000" y="4551840"/>
                <a:ext cx="56520" cy="5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3" name=""/>
              <p:cNvSpPr/>
              <p:nvPr/>
            </p:nvSpPr>
            <p:spPr>
              <a:xfrm>
                <a:off x="6631560" y="4579200"/>
                <a:ext cx="50760" cy="5328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lnTo>
                      <a:pt x="66" y="30"/>
                    </a:lnTo>
                    <a:lnTo>
                      <a:pt x="65" y="26"/>
                    </a:lnTo>
                    <a:lnTo>
                      <a:pt x="64" y="20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" y="52"/>
                    </a:lnTo>
                    <a:lnTo>
                      <a:pt x="10" y="57"/>
                    </a:lnTo>
                    <a:lnTo>
                      <a:pt x="15" y="60"/>
                    </a:lnTo>
                    <a:lnTo>
                      <a:pt x="20" y="63"/>
                    </a:lnTo>
                    <a:lnTo>
                      <a:pt x="28" y="65"/>
                    </a:lnTo>
                    <a:lnTo>
                      <a:pt x="31" y="65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41" y="65"/>
                    </a:lnTo>
                    <a:lnTo>
                      <a:pt x="48" y="63"/>
                    </a:lnTo>
                    <a:lnTo>
                      <a:pt x="53" y="60"/>
                    </a:lnTo>
                    <a:lnTo>
                      <a:pt x="58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5" y="40"/>
                    </a:lnTo>
                    <a:lnTo>
                      <a:pt x="66" y="38"/>
                    </a:lnTo>
                    <a:lnTo>
                      <a:pt x="66" y="34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6466320" y="47005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6430320" y="4536000"/>
                <a:ext cx="27720" cy="10800"/>
              </a:xfrm>
              <a:prstGeom prst="rect">
                <a:avLst/>
              </a:prstGeom>
              <a:solidFill>
                <a:srgbClr val="ead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6430320" y="4536000"/>
                <a:ext cx="27720" cy="108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077440" y="4538520"/>
                <a:ext cx="83880" cy="86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  <a:close/>
                  </a:path>
                </a:pathLst>
              </a:cu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077440" y="4538520"/>
                <a:ext cx="83880" cy="86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382360" y="4690800"/>
                <a:ext cx="853560" cy="41760"/>
              </a:xfrm>
              <a:custGeom>
                <a:avLst/>
                <a:gdLst/>
                <a:ahLst/>
                <a:rect l="l" t="t" r="r" b="b"/>
                <a:pathLst>
                  <a:path w="1087" h="51">
                    <a:moveTo>
                      <a:pt x="0" y="45"/>
                    </a:moveTo>
                    <a:lnTo>
                      <a:pt x="7" y="45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  <a:moveTo>
                      <a:pt x="50" y="25"/>
                    </a:moveTo>
                    <a:lnTo>
                      <a:pt x="50" y="21"/>
                    </a:lnTo>
                    <a:lnTo>
                      <a:pt x="49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7" y="33"/>
                    </a:lnTo>
                    <a:lnTo>
                      <a:pt x="20" y="36"/>
                    </a:lnTo>
                    <a:lnTo>
                      <a:pt x="22" y="39"/>
                    </a:lnTo>
                    <a:lnTo>
                      <a:pt x="25" y="41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  <a:moveTo>
                      <a:pt x="44" y="25"/>
                    </a:moveTo>
                    <a:lnTo>
                      <a:pt x="44" y="27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30" y="35"/>
                    </a:lnTo>
                    <a:lnTo>
                      <a:pt x="27" y="34"/>
                    </a:lnTo>
                    <a:lnTo>
                      <a:pt x="26" y="33"/>
                    </a:lnTo>
                    <a:lnTo>
                      <a:pt x="25" y="31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2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6" y="16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  <a:moveTo>
                      <a:pt x="59" y="45"/>
                    </a:moveTo>
                    <a:lnTo>
                      <a:pt x="66" y="45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9" y="45"/>
                    </a:lnTo>
                    <a:lnTo>
                      <a:pt x="59" y="45"/>
                    </a:lnTo>
                    <a:close/>
                    <a:moveTo>
                      <a:pt x="109" y="25"/>
                    </a:moveTo>
                    <a:lnTo>
                      <a:pt x="109" y="21"/>
                    </a:lnTo>
                    <a:lnTo>
                      <a:pt x="108" y="19"/>
                    </a:lnTo>
                    <a:lnTo>
                      <a:pt x="106" y="15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7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1" y="12"/>
                    </a:lnTo>
                    <a:lnTo>
                      <a:pt x="79" y="15"/>
                    </a:lnTo>
                    <a:lnTo>
                      <a:pt x="76" y="19"/>
                    </a:lnTo>
                    <a:lnTo>
                      <a:pt x="75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6" y="33"/>
                    </a:lnTo>
                    <a:lnTo>
                      <a:pt x="79" y="36"/>
                    </a:lnTo>
                    <a:lnTo>
                      <a:pt x="81" y="39"/>
                    </a:lnTo>
                    <a:lnTo>
                      <a:pt x="84" y="41"/>
                    </a:lnTo>
                    <a:lnTo>
                      <a:pt x="86" y="44"/>
                    </a:lnTo>
                    <a:lnTo>
                      <a:pt x="90" y="45"/>
                    </a:lnTo>
                    <a:lnTo>
                      <a:pt x="93" y="45"/>
                    </a:lnTo>
                    <a:lnTo>
                      <a:pt x="96" y="45"/>
                    </a:lnTo>
                    <a:lnTo>
                      <a:pt x="100" y="44"/>
                    </a:lnTo>
                    <a:lnTo>
                      <a:pt x="103" y="41"/>
                    </a:lnTo>
                    <a:lnTo>
                      <a:pt x="105" y="39"/>
                    </a:lnTo>
                    <a:lnTo>
                      <a:pt x="106" y="36"/>
                    </a:lnTo>
                    <a:lnTo>
                      <a:pt x="108" y="33"/>
                    </a:lnTo>
                    <a:lnTo>
                      <a:pt x="109" y="29"/>
                    </a:lnTo>
                    <a:lnTo>
                      <a:pt x="109" y="25"/>
                    </a:lnTo>
                    <a:lnTo>
                      <a:pt x="109" y="25"/>
                    </a:lnTo>
                    <a:close/>
                    <a:moveTo>
                      <a:pt x="103" y="25"/>
                    </a:moveTo>
                    <a:lnTo>
                      <a:pt x="103" y="27"/>
                    </a:lnTo>
                    <a:lnTo>
                      <a:pt x="101" y="30"/>
                    </a:lnTo>
                    <a:lnTo>
                      <a:pt x="100" y="31"/>
                    </a:lnTo>
                    <a:lnTo>
                      <a:pt x="99" y="33"/>
                    </a:lnTo>
                    <a:lnTo>
                      <a:pt x="98" y="34"/>
                    </a:lnTo>
                    <a:lnTo>
                      <a:pt x="96" y="35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1" y="36"/>
                    </a:lnTo>
                    <a:lnTo>
                      <a:pt x="89" y="35"/>
                    </a:lnTo>
                    <a:lnTo>
                      <a:pt x="86" y="34"/>
                    </a:lnTo>
                    <a:lnTo>
                      <a:pt x="85" y="33"/>
                    </a:lnTo>
                    <a:lnTo>
                      <a:pt x="84" y="31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1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4" y="19"/>
                    </a:lnTo>
                    <a:lnTo>
                      <a:pt x="85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0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  <a:moveTo>
                      <a:pt x="118" y="45"/>
                    </a:moveTo>
                    <a:lnTo>
                      <a:pt x="125" y="45"/>
                    </a:lnTo>
                    <a:lnTo>
                      <a:pt x="125" y="6"/>
                    </a:lnTo>
                    <a:lnTo>
                      <a:pt x="118" y="6"/>
                    </a:lnTo>
                    <a:lnTo>
                      <a:pt x="118" y="45"/>
                    </a:lnTo>
                    <a:lnTo>
                      <a:pt x="118" y="45"/>
                    </a:lnTo>
                    <a:close/>
                    <a:moveTo>
                      <a:pt x="502" y="25"/>
                    </a:moveTo>
                    <a:lnTo>
                      <a:pt x="460" y="25"/>
                    </a:lnTo>
                    <a:lnTo>
                      <a:pt x="468" y="16"/>
                    </a:lnTo>
                    <a:lnTo>
                      <a:pt x="478" y="16"/>
                    </a:lnTo>
                    <a:lnTo>
                      <a:pt x="478" y="17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2" y="17"/>
                    </a:lnTo>
                    <a:lnTo>
                      <a:pt x="483" y="17"/>
                    </a:lnTo>
                    <a:lnTo>
                      <a:pt x="485" y="17"/>
                    </a:lnTo>
                    <a:lnTo>
                      <a:pt x="486" y="16"/>
                    </a:lnTo>
                    <a:lnTo>
                      <a:pt x="486" y="15"/>
                    </a:lnTo>
                    <a:lnTo>
                      <a:pt x="487" y="14"/>
                    </a:lnTo>
                    <a:lnTo>
                      <a:pt x="487" y="11"/>
                    </a:lnTo>
                    <a:lnTo>
                      <a:pt x="485" y="10"/>
                    </a:lnTo>
                    <a:lnTo>
                      <a:pt x="483" y="9"/>
                    </a:lnTo>
                    <a:lnTo>
                      <a:pt x="482" y="9"/>
                    </a:lnTo>
                    <a:lnTo>
                      <a:pt x="480" y="9"/>
                    </a:lnTo>
                    <a:lnTo>
                      <a:pt x="478" y="9"/>
                    </a:lnTo>
                    <a:lnTo>
                      <a:pt x="478" y="10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67" y="11"/>
                    </a:lnTo>
                    <a:lnTo>
                      <a:pt x="456" y="25"/>
                    </a:lnTo>
                    <a:lnTo>
                      <a:pt x="451" y="25"/>
                    </a:lnTo>
                    <a:lnTo>
                      <a:pt x="448" y="21"/>
                    </a:lnTo>
                    <a:lnTo>
                      <a:pt x="447" y="21"/>
                    </a:lnTo>
                    <a:lnTo>
                      <a:pt x="446" y="20"/>
                    </a:lnTo>
                    <a:lnTo>
                      <a:pt x="445" y="20"/>
                    </a:lnTo>
                    <a:lnTo>
                      <a:pt x="443" y="19"/>
                    </a:lnTo>
                    <a:lnTo>
                      <a:pt x="442" y="20"/>
                    </a:lnTo>
                    <a:lnTo>
                      <a:pt x="442" y="20"/>
                    </a:lnTo>
                    <a:lnTo>
                      <a:pt x="440" y="20"/>
                    </a:lnTo>
                    <a:lnTo>
                      <a:pt x="438" y="21"/>
                    </a:lnTo>
                    <a:lnTo>
                      <a:pt x="437" y="22"/>
                    </a:lnTo>
                    <a:lnTo>
                      <a:pt x="437" y="22"/>
                    </a:lnTo>
                    <a:lnTo>
                      <a:pt x="436" y="26"/>
                    </a:lnTo>
                    <a:lnTo>
                      <a:pt x="435" y="29"/>
                    </a:lnTo>
                    <a:lnTo>
                      <a:pt x="437" y="31"/>
                    </a:lnTo>
                    <a:lnTo>
                      <a:pt x="440" y="33"/>
                    </a:lnTo>
                    <a:lnTo>
                      <a:pt x="442" y="34"/>
                    </a:lnTo>
                    <a:lnTo>
                      <a:pt x="445" y="34"/>
                    </a:lnTo>
                    <a:lnTo>
                      <a:pt x="446" y="34"/>
                    </a:lnTo>
                    <a:lnTo>
                      <a:pt x="447" y="33"/>
                    </a:lnTo>
                    <a:lnTo>
                      <a:pt x="450" y="31"/>
                    </a:lnTo>
                    <a:lnTo>
                      <a:pt x="451" y="29"/>
                    </a:lnTo>
                    <a:lnTo>
                      <a:pt x="451" y="29"/>
                    </a:lnTo>
                    <a:lnTo>
                      <a:pt x="467" y="29"/>
                    </a:lnTo>
                    <a:lnTo>
                      <a:pt x="480" y="40"/>
                    </a:lnTo>
                    <a:lnTo>
                      <a:pt x="487" y="40"/>
                    </a:lnTo>
                    <a:lnTo>
                      <a:pt x="487" y="45"/>
                    </a:lnTo>
                    <a:lnTo>
                      <a:pt x="498" y="45"/>
                    </a:lnTo>
                    <a:lnTo>
                      <a:pt x="498" y="34"/>
                    </a:lnTo>
                    <a:lnTo>
                      <a:pt x="487" y="34"/>
                    </a:lnTo>
                    <a:lnTo>
                      <a:pt x="487" y="39"/>
                    </a:lnTo>
                    <a:lnTo>
                      <a:pt x="480" y="39"/>
                    </a:lnTo>
                    <a:lnTo>
                      <a:pt x="471" y="29"/>
                    </a:lnTo>
                    <a:lnTo>
                      <a:pt x="502" y="29"/>
                    </a:lnTo>
                    <a:lnTo>
                      <a:pt x="502" y="31"/>
                    </a:lnTo>
                    <a:lnTo>
                      <a:pt x="512" y="27"/>
                    </a:lnTo>
                    <a:lnTo>
                      <a:pt x="502" y="22"/>
                    </a:lnTo>
                    <a:lnTo>
                      <a:pt x="502" y="25"/>
                    </a:lnTo>
                    <a:lnTo>
                      <a:pt x="502" y="25"/>
                    </a:lnTo>
                    <a:close/>
                    <a:moveTo>
                      <a:pt x="727" y="25"/>
                    </a:moveTo>
                    <a:lnTo>
                      <a:pt x="684" y="25"/>
                    </a:lnTo>
                    <a:lnTo>
                      <a:pt x="695" y="16"/>
                    </a:lnTo>
                    <a:lnTo>
                      <a:pt x="701" y="16"/>
                    </a:lnTo>
                    <a:lnTo>
                      <a:pt x="704" y="17"/>
                    </a:lnTo>
                    <a:lnTo>
                      <a:pt x="705" y="17"/>
                    </a:lnTo>
                    <a:lnTo>
                      <a:pt x="708" y="17"/>
                    </a:lnTo>
                    <a:lnTo>
                      <a:pt x="709" y="17"/>
                    </a:lnTo>
                    <a:lnTo>
                      <a:pt x="710" y="17"/>
                    </a:lnTo>
                    <a:lnTo>
                      <a:pt x="710" y="17"/>
                    </a:lnTo>
                    <a:lnTo>
                      <a:pt x="711" y="15"/>
                    </a:lnTo>
                    <a:lnTo>
                      <a:pt x="711" y="14"/>
                    </a:lnTo>
                    <a:lnTo>
                      <a:pt x="711" y="14"/>
                    </a:lnTo>
                    <a:lnTo>
                      <a:pt x="711" y="12"/>
                    </a:lnTo>
                    <a:lnTo>
                      <a:pt x="711" y="11"/>
                    </a:lnTo>
                    <a:lnTo>
                      <a:pt x="711" y="10"/>
                    </a:lnTo>
                    <a:lnTo>
                      <a:pt x="710" y="10"/>
                    </a:lnTo>
                    <a:lnTo>
                      <a:pt x="709" y="9"/>
                    </a:lnTo>
                    <a:lnTo>
                      <a:pt x="706" y="9"/>
                    </a:lnTo>
                    <a:lnTo>
                      <a:pt x="704" y="9"/>
                    </a:lnTo>
                    <a:lnTo>
                      <a:pt x="704" y="9"/>
                    </a:lnTo>
                    <a:lnTo>
                      <a:pt x="704" y="10"/>
                    </a:lnTo>
                    <a:lnTo>
                      <a:pt x="704" y="11"/>
                    </a:lnTo>
                    <a:lnTo>
                      <a:pt x="701" y="11"/>
                    </a:lnTo>
                    <a:lnTo>
                      <a:pt x="701" y="11"/>
                    </a:lnTo>
                    <a:lnTo>
                      <a:pt x="693" y="11"/>
                    </a:lnTo>
                    <a:lnTo>
                      <a:pt x="679" y="25"/>
                    </a:lnTo>
                    <a:lnTo>
                      <a:pt x="675" y="25"/>
                    </a:lnTo>
                    <a:lnTo>
                      <a:pt x="675" y="24"/>
                    </a:lnTo>
                    <a:lnTo>
                      <a:pt x="674" y="21"/>
                    </a:lnTo>
                    <a:lnTo>
                      <a:pt x="673" y="21"/>
                    </a:lnTo>
                    <a:lnTo>
                      <a:pt x="673" y="20"/>
                    </a:lnTo>
                    <a:lnTo>
                      <a:pt x="670" y="20"/>
                    </a:lnTo>
                    <a:lnTo>
                      <a:pt x="669" y="19"/>
                    </a:lnTo>
                    <a:lnTo>
                      <a:pt x="668" y="20"/>
                    </a:lnTo>
                    <a:lnTo>
                      <a:pt x="666" y="20"/>
                    </a:lnTo>
                    <a:lnTo>
                      <a:pt x="664" y="20"/>
                    </a:lnTo>
                    <a:lnTo>
                      <a:pt x="663" y="21"/>
                    </a:lnTo>
                    <a:lnTo>
                      <a:pt x="661" y="22"/>
                    </a:lnTo>
                    <a:lnTo>
                      <a:pt x="661" y="22"/>
                    </a:lnTo>
                    <a:lnTo>
                      <a:pt x="660" y="25"/>
                    </a:lnTo>
                    <a:lnTo>
                      <a:pt x="660" y="26"/>
                    </a:lnTo>
                    <a:lnTo>
                      <a:pt x="660" y="27"/>
                    </a:lnTo>
                    <a:lnTo>
                      <a:pt x="661" y="29"/>
                    </a:lnTo>
                    <a:lnTo>
                      <a:pt x="661" y="30"/>
                    </a:lnTo>
                    <a:lnTo>
                      <a:pt x="663" y="31"/>
                    </a:lnTo>
                    <a:lnTo>
                      <a:pt x="663" y="31"/>
                    </a:lnTo>
                    <a:lnTo>
                      <a:pt x="664" y="33"/>
                    </a:lnTo>
                    <a:lnTo>
                      <a:pt x="668" y="34"/>
                    </a:lnTo>
                    <a:lnTo>
                      <a:pt x="670" y="34"/>
                    </a:lnTo>
                    <a:lnTo>
                      <a:pt x="673" y="34"/>
                    </a:lnTo>
                    <a:lnTo>
                      <a:pt x="674" y="33"/>
                    </a:lnTo>
                    <a:lnTo>
                      <a:pt x="674" y="31"/>
                    </a:lnTo>
                    <a:lnTo>
                      <a:pt x="675" y="29"/>
                    </a:lnTo>
                    <a:lnTo>
                      <a:pt x="675" y="29"/>
                    </a:lnTo>
                    <a:lnTo>
                      <a:pt x="693" y="29"/>
                    </a:lnTo>
                    <a:lnTo>
                      <a:pt x="704" y="40"/>
                    </a:lnTo>
                    <a:lnTo>
                      <a:pt x="714" y="40"/>
                    </a:lnTo>
                    <a:lnTo>
                      <a:pt x="714" y="45"/>
                    </a:lnTo>
                    <a:lnTo>
                      <a:pt x="723" y="45"/>
                    </a:lnTo>
                    <a:lnTo>
                      <a:pt x="723" y="34"/>
                    </a:lnTo>
                    <a:lnTo>
                      <a:pt x="714" y="34"/>
                    </a:lnTo>
                    <a:lnTo>
                      <a:pt x="714" y="39"/>
                    </a:lnTo>
                    <a:lnTo>
                      <a:pt x="706" y="39"/>
                    </a:lnTo>
                    <a:lnTo>
                      <a:pt x="698" y="29"/>
                    </a:lnTo>
                    <a:lnTo>
                      <a:pt x="727" y="29"/>
                    </a:lnTo>
                    <a:lnTo>
                      <a:pt x="727" y="31"/>
                    </a:lnTo>
                    <a:lnTo>
                      <a:pt x="738" y="27"/>
                    </a:lnTo>
                    <a:lnTo>
                      <a:pt x="727" y="22"/>
                    </a:lnTo>
                    <a:lnTo>
                      <a:pt x="727" y="25"/>
                    </a:lnTo>
                    <a:lnTo>
                      <a:pt x="727" y="25"/>
                    </a:lnTo>
                    <a:close/>
                    <a:moveTo>
                      <a:pt x="1037" y="51"/>
                    </a:moveTo>
                    <a:lnTo>
                      <a:pt x="1076" y="51"/>
                    </a:lnTo>
                    <a:lnTo>
                      <a:pt x="1079" y="51"/>
                    </a:lnTo>
                    <a:lnTo>
                      <a:pt x="1080" y="51"/>
                    </a:lnTo>
                    <a:lnTo>
                      <a:pt x="1082" y="50"/>
                    </a:lnTo>
                    <a:lnTo>
                      <a:pt x="1084" y="49"/>
                    </a:lnTo>
                    <a:lnTo>
                      <a:pt x="1085" y="48"/>
                    </a:lnTo>
                    <a:lnTo>
                      <a:pt x="1086" y="45"/>
                    </a:lnTo>
                    <a:lnTo>
                      <a:pt x="1086" y="43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11"/>
                    </a:lnTo>
                    <a:lnTo>
                      <a:pt x="1086" y="9"/>
                    </a:lnTo>
                    <a:lnTo>
                      <a:pt x="1086" y="6"/>
                    </a:lnTo>
                    <a:lnTo>
                      <a:pt x="1085" y="5"/>
                    </a:lnTo>
                    <a:lnTo>
                      <a:pt x="1084" y="2"/>
                    </a:lnTo>
                    <a:lnTo>
                      <a:pt x="1082" y="1"/>
                    </a:lnTo>
                    <a:lnTo>
                      <a:pt x="1080" y="1"/>
                    </a:lnTo>
                    <a:lnTo>
                      <a:pt x="1079" y="0"/>
                    </a:lnTo>
                    <a:lnTo>
                      <a:pt x="1076" y="0"/>
                    </a:lnTo>
                    <a:lnTo>
                      <a:pt x="1076" y="0"/>
                    </a:lnTo>
                    <a:lnTo>
                      <a:pt x="1037" y="0"/>
                    </a:lnTo>
                    <a:lnTo>
                      <a:pt x="1035" y="0"/>
                    </a:lnTo>
                    <a:lnTo>
                      <a:pt x="1033" y="1"/>
                    </a:lnTo>
                    <a:lnTo>
                      <a:pt x="1031" y="1"/>
                    </a:lnTo>
                    <a:lnTo>
                      <a:pt x="1030" y="2"/>
                    </a:lnTo>
                    <a:lnTo>
                      <a:pt x="1028" y="5"/>
                    </a:lnTo>
                    <a:lnTo>
                      <a:pt x="1027" y="6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1"/>
                    </a:lnTo>
                    <a:lnTo>
                      <a:pt x="1026" y="40"/>
                    </a:lnTo>
                    <a:lnTo>
                      <a:pt x="1026" y="43"/>
                    </a:lnTo>
                    <a:lnTo>
                      <a:pt x="1027" y="45"/>
                    </a:lnTo>
                    <a:lnTo>
                      <a:pt x="1028" y="48"/>
                    </a:lnTo>
                    <a:lnTo>
                      <a:pt x="1030" y="49"/>
                    </a:lnTo>
                    <a:lnTo>
                      <a:pt x="1031" y="50"/>
                    </a:lnTo>
                    <a:lnTo>
                      <a:pt x="1033" y="51"/>
                    </a:lnTo>
                    <a:lnTo>
                      <a:pt x="1035" y="51"/>
                    </a:lnTo>
                    <a:lnTo>
                      <a:pt x="1037" y="51"/>
                    </a:lnTo>
                    <a:lnTo>
                      <a:pt x="1037" y="51"/>
                    </a:lnTo>
                    <a:close/>
                    <a:moveTo>
                      <a:pt x="1044" y="43"/>
                    </a:moveTo>
                    <a:lnTo>
                      <a:pt x="1050" y="43"/>
                    </a:lnTo>
                    <a:lnTo>
                      <a:pt x="1056" y="43"/>
                    </a:lnTo>
                    <a:lnTo>
                      <a:pt x="1062" y="43"/>
                    </a:lnTo>
                    <a:lnTo>
                      <a:pt x="1069" y="43"/>
                    </a:lnTo>
                    <a:lnTo>
                      <a:pt x="1070" y="43"/>
                    </a:lnTo>
                    <a:lnTo>
                      <a:pt x="1072" y="43"/>
                    </a:lnTo>
                    <a:lnTo>
                      <a:pt x="1074" y="41"/>
                    </a:lnTo>
                    <a:lnTo>
                      <a:pt x="1075" y="40"/>
                    </a:lnTo>
                    <a:lnTo>
                      <a:pt x="1076" y="39"/>
                    </a:lnTo>
                    <a:lnTo>
                      <a:pt x="1077" y="38"/>
                    </a:lnTo>
                    <a:lnTo>
                      <a:pt x="1077" y="35"/>
                    </a:lnTo>
                    <a:lnTo>
                      <a:pt x="1077" y="34"/>
                    </a:lnTo>
                    <a:lnTo>
                      <a:pt x="1077" y="34"/>
                    </a:lnTo>
                    <a:lnTo>
                      <a:pt x="1077" y="30"/>
                    </a:lnTo>
                    <a:lnTo>
                      <a:pt x="1077" y="26"/>
                    </a:lnTo>
                    <a:lnTo>
                      <a:pt x="1077" y="21"/>
                    </a:lnTo>
                    <a:lnTo>
                      <a:pt x="1077" y="17"/>
                    </a:lnTo>
                    <a:lnTo>
                      <a:pt x="1077" y="16"/>
                    </a:lnTo>
                    <a:lnTo>
                      <a:pt x="1077" y="15"/>
                    </a:lnTo>
                    <a:lnTo>
                      <a:pt x="1076" y="14"/>
                    </a:lnTo>
                    <a:lnTo>
                      <a:pt x="1075" y="11"/>
                    </a:lnTo>
                    <a:lnTo>
                      <a:pt x="1074" y="11"/>
                    </a:lnTo>
                    <a:lnTo>
                      <a:pt x="1072" y="10"/>
                    </a:lnTo>
                    <a:lnTo>
                      <a:pt x="1070" y="9"/>
                    </a:lnTo>
                    <a:lnTo>
                      <a:pt x="1069" y="9"/>
                    </a:lnTo>
                    <a:lnTo>
                      <a:pt x="1062" y="9"/>
                    </a:lnTo>
                    <a:lnTo>
                      <a:pt x="1056" y="9"/>
                    </a:lnTo>
                    <a:lnTo>
                      <a:pt x="1050" y="9"/>
                    </a:lnTo>
                    <a:lnTo>
                      <a:pt x="1044" y="9"/>
                    </a:lnTo>
                    <a:lnTo>
                      <a:pt x="1042" y="9"/>
                    </a:lnTo>
                    <a:lnTo>
                      <a:pt x="1041" y="10"/>
                    </a:lnTo>
                    <a:lnTo>
                      <a:pt x="1039" y="11"/>
                    </a:lnTo>
                    <a:lnTo>
                      <a:pt x="1037" y="11"/>
                    </a:lnTo>
                    <a:lnTo>
                      <a:pt x="1036" y="14"/>
                    </a:lnTo>
                    <a:lnTo>
                      <a:pt x="1036" y="15"/>
                    </a:lnTo>
                    <a:lnTo>
                      <a:pt x="1035" y="16"/>
                    </a:lnTo>
                    <a:lnTo>
                      <a:pt x="1035" y="17"/>
                    </a:lnTo>
                    <a:lnTo>
                      <a:pt x="1035" y="21"/>
                    </a:lnTo>
                    <a:lnTo>
                      <a:pt x="1035" y="26"/>
                    </a:lnTo>
                    <a:lnTo>
                      <a:pt x="1035" y="30"/>
                    </a:lnTo>
                    <a:lnTo>
                      <a:pt x="1035" y="34"/>
                    </a:lnTo>
                    <a:lnTo>
                      <a:pt x="1035" y="35"/>
                    </a:lnTo>
                    <a:lnTo>
                      <a:pt x="1036" y="38"/>
                    </a:lnTo>
                    <a:lnTo>
                      <a:pt x="1036" y="39"/>
                    </a:lnTo>
                    <a:lnTo>
                      <a:pt x="1037" y="40"/>
                    </a:lnTo>
                    <a:lnTo>
                      <a:pt x="1039" y="41"/>
                    </a:lnTo>
                    <a:lnTo>
                      <a:pt x="1041" y="43"/>
                    </a:lnTo>
                    <a:lnTo>
                      <a:pt x="1042" y="43"/>
                    </a:lnTo>
                    <a:lnTo>
                      <a:pt x="1044" y="43"/>
                    </a:lnTo>
                    <a:lnTo>
                      <a:pt x="104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4416840" y="4472640"/>
                <a:ext cx="1943280" cy="254880"/>
              </a:xfrm>
              <a:custGeom>
                <a:avLst/>
                <a:gdLst/>
                <a:ahLst/>
                <a:rect l="l" t="t" r="r" b="b"/>
                <a:pathLst>
                  <a:path w="2476" h="317">
                    <a:moveTo>
                      <a:pt x="41" y="39"/>
                    </a:moveTo>
                    <a:lnTo>
                      <a:pt x="4" y="39"/>
                    </a:lnTo>
                    <a:lnTo>
                      <a:pt x="23" y="8"/>
                    </a:lnTo>
                    <a:lnTo>
                      <a:pt x="41" y="39"/>
                    </a:lnTo>
                    <a:lnTo>
                      <a:pt x="41" y="39"/>
                    </a:lnTo>
                    <a:close/>
                    <a:moveTo>
                      <a:pt x="24" y="3"/>
                    </a:move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  <a:moveTo>
                      <a:pt x="23" y="37"/>
                    </a:moveTo>
                    <a:lnTo>
                      <a:pt x="24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close/>
                    <a:moveTo>
                      <a:pt x="24" y="31"/>
                    </a:moveTo>
                    <a:lnTo>
                      <a:pt x="24" y="27"/>
                    </a:lnTo>
                    <a:lnTo>
                      <a:pt x="24" y="23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4" y="31"/>
                    </a:lnTo>
                    <a:close/>
                    <a:moveTo>
                      <a:pt x="43" y="71"/>
                    </a:moveTo>
                    <a:lnTo>
                      <a:pt x="43" y="67"/>
                    </a:lnTo>
                    <a:lnTo>
                      <a:pt x="42" y="63"/>
                    </a:lnTo>
                    <a:lnTo>
                      <a:pt x="39" y="60"/>
                    </a:lnTo>
                    <a:lnTo>
                      <a:pt x="37" y="57"/>
                    </a:lnTo>
                    <a:lnTo>
                      <a:pt x="34" y="55"/>
                    </a:lnTo>
                    <a:lnTo>
                      <a:pt x="30" y="52"/>
                    </a:lnTo>
                    <a:lnTo>
                      <a:pt x="27" y="51"/>
                    </a:lnTo>
                    <a:lnTo>
                      <a:pt x="23" y="51"/>
                    </a:lnTo>
                    <a:lnTo>
                      <a:pt x="18" y="51"/>
                    </a:lnTo>
                    <a:lnTo>
                      <a:pt x="15" y="52"/>
                    </a:lnTo>
                    <a:lnTo>
                      <a:pt x="12" y="55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5" y="63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9" y="86"/>
                    </a:lnTo>
                    <a:lnTo>
                      <a:pt x="12" y="89"/>
                    </a:lnTo>
                    <a:lnTo>
                      <a:pt x="15" y="90"/>
                    </a:lnTo>
                    <a:lnTo>
                      <a:pt x="18" y="91"/>
                    </a:lnTo>
                    <a:lnTo>
                      <a:pt x="23" y="91"/>
                    </a:lnTo>
                    <a:lnTo>
                      <a:pt x="27" y="91"/>
                    </a:lnTo>
                    <a:lnTo>
                      <a:pt x="30" y="90"/>
                    </a:lnTo>
                    <a:lnTo>
                      <a:pt x="34" y="89"/>
                    </a:lnTo>
                    <a:lnTo>
                      <a:pt x="37" y="86"/>
                    </a:lnTo>
                    <a:lnTo>
                      <a:pt x="39" y="82"/>
                    </a:lnTo>
                    <a:lnTo>
                      <a:pt x="42" y="79"/>
                    </a:lnTo>
                    <a:lnTo>
                      <a:pt x="43" y="75"/>
                    </a:lnTo>
                    <a:lnTo>
                      <a:pt x="43" y="71"/>
                    </a:lnTo>
                    <a:lnTo>
                      <a:pt x="43" y="71"/>
                    </a:lnTo>
                    <a:close/>
                    <a:moveTo>
                      <a:pt x="23" y="73"/>
                    </a:moveTo>
                    <a:lnTo>
                      <a:pt x="22" y="75"/>
                    </a:lnTo>
                    <a:lnTo>
                      <a:pt x="22" y="76"/>
                    </a:lnTo>
                    <a:lnTo>
                      <a:pt x="19" y="76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1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20" y="80"/>
                    </a:lnTo>
                    <a:lnTo>
                      <a:pt x="22" y="79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34" y="85"/>
                    </a:lnTo>
                    <a:lnTo>
                      <a:pt x="30" y="86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9" y="80"/>
                    </a:lnTo>
                    <a:lnTo>
                      <a:pt x="8" y="77"/>
                    </a:lnTo>
                    <a:lnTo>
                      <a:pt x="7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23" y="73"/>
                    </a:lnTo>
                    <a:lnTo>
                      <a:pt x="23" y="73"/>
                    </a:lnTo>
                    <a:close/>
                    <a:moveTo>
                      <a:pt x="27" y="76"/>
                    </a:moveTo>
                    <a:lnTo>
                      <a:pt x="29" y="73"/>
                    </a:lnTo>
                    <a:lnTo>
                      <a:pt x="32" y="72"/>
                    </a:lnTo>
                    <a:lnTo>
                      <a:pt x="33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8" y="70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13" y="57"/>
                    </a:lnTo>
                    <a:lnTo>
                      <a:pt x="17" y="56"/>
                    </a:lnTo>
                    <a:lnTo>
                      <a:pt x="19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9" y="55"/>
                    </a:lnTo>
                    <a:lnTo>
                      <a:pt x="32" y="57"/>
                    </a:lnTo>
                    <a:lnTo>
                      <a:pt x="34" y="58"/>
                    </a:lnTo>
                    <a:lnTo>
                      <a:pt x="37" y="62"/>
                    </a:lnTo>
                    <a:lnTo>
                      <a:pt x="38" y="65"/>
                    </a:lnTo>
                    <a:lnTo>
                      <a:pt x="39" y="67"/>
                    </a:lnTo>
                    <a:lnTo>
                      <a:pt x="39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9"/>
                    </a:lnTo>
                    <a:lnTo>
                      <a:pt x="35" y="81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27" y="76"/>
                    </a:lnTo>
                    <a:lnTo>
                      <a:pt x="27" y="76"/>
                    </a:lnTo>
                    <a:close/>
                    <a:moveTo>
                      <a:pt x="681" y="139"/>
                    </a:moveTo>
                    <a:lnTo>
                      <a:pt x="681" y="138"/>
                    </a:lnTo>
                    <a:lnTo>
                      <a:pt x="680" y="137"/>
                    </a:lnTo>
                    <a:lnTo>
                      <a:pt x="678" y="135"/>
                    </a:lnTo>
                    <a:lnTo>
                      <a:pt x="677" y="135"/>
                    </a:lnTo>
                    <a:lnTo>
                      <a:pt x="674" y="135"/>
                    </a:lnTo>
                    <a:lnTo>
                      <a:pt x="673" y="137"/>
                    </a:lnTo>
                    <a:lnTo>
                      <a:pt x="672" y="138"/>
                    </a:lnTo>
                    <a:lnTo>
                      <a:pt x="672" y="139"/>
                    </a:lnTo>
                    <a:lnTo>
                      <a:pt x="672" y="143"/>
                    </a:lnTo>
                    <a:lnTo>
                      <a:pt x="673" y="144"/>
                    </a:lnTo>
                    <a:lnTo>
                      <a:pt x="674" y="145"/>
                    </a:lnTo>
                    <a:lnTo>
                      <a:pt x="677" y="147"/>
                    </a:lnTo>
                    <a:lnTo>
                      <a:pt x="678" y="145"/>
                    </a:lnTo>
                    <a:lnTo>
                      <a:pt x="680" y="144"/>
                    </a:lnTo>
                    <a:lnTo>
                      <a:pt x="681" y="143"/>
                    </a:lnTo>
                    <a:lnTo>
                      <a:pt x="681" y="139"/>
                    </a:lnTo>
                    <a:lnTo>
                      <a:pt x="681" y="139"/>
                    </a:lnTo>
                    <a:close/>
                    <a:moveTo>
                      <a:pt x="633" y="167"/>
                    </a:moveTo>
                    <a:lnTo>
                      <a:pt x="633" y="166"/>
                    </a:lnTo>
                    <a:lnTo>
                      <a:pt x="632" y="163"/>
                    </a:lnTo>
                    <a:lnTo>
                      <a:pt x="631" y="163"/>
                    </a:lnTo>
                    <a:lnTo>
                      <a:pt x="629" y="162"/>
                    </a:lnTo>
                    <a:lnTo>
                      <a:pt x="628" y="163"/>
                    </a:lnTo>
                    <a:lnTo>
                      <a:pt x="626" y="163"/>
                    </a:lnTo>
                    <a:lnTo>
                      <a:pt x="626" y="166"/>
                    </a:lnTo>
                    <a:lnTo>
                      <a:pt x="624" y="167"/>
                    </a:lnTo>
                    <a:lnTo>
                      <a:pt x="626" y="169"/>
                    </a:lnTo>
                    <a:lnTo>
                      <a:pt x="626" y="172"/>
                    </a:lnTo>
                    <a:lnTo>
                      <a:pt x="628" y="173"/>
                    </a:lnTo>
                    <a:lnTo>
                      <a:pt x="629" y="173"/>
                    </a:lnTo>
                    <a:lnTo>
                      <a:pt x="631" y="173"/>
                    </a:lnTo>
                    <a:lnTo>
                      <a:pt x="632" y="172"/>
                    </a:lnTo>
                    <a:lnTo>
                      <a:pt x="633" y="169"/>
                    </a:lnTo>
                    <a:lnTo>
                      <a:pt x="633" y="167"/>
                    </a:lnTo>
                    <a:lnTo>
                      <a:pt x="633" y="167"/>
                    </a:lnTo>
                    <a:close/>
                    <a:moveTo>
                      <a:pt x="661" y="167"/>
                    </a:moveTo>
                    <a:lnTo>
                      <a:pt x="661" y="166"/>
                    </a:lnTo>
                    <a:lnTo>
                      <a:pt x="659" y="163"/>
                    </a:lnTo>
                    <a:lnTo>
                      <a:pt x="658" y="163"/>
                    </a:lnTo>
                    <a:lnTo>
                      <a:pt x="657" y="162"/>
                    </a:lnTo>
                    <a:lnTo>
                      <a:pt x="654" y="162"/>
                    </a:lnTo>
                    <a:lnTo>
                      <a:pt x="653" y="163"/>
                    </a:lnTo>
                    <a:lnTo>
                      <a:pt x="653" y="163"/>
                    </a:lnTo>
                    <a:lnTo>
                      <a:pt x="652" y="163"/>
                    </a:lnTo>
                    <a:lnTo>
                      <a:pt x="652" y="166"/>
                    </a:lnTo>
                    <a:lnTo>
                      <a:pt x="652" y="167"/>
                    </a:lnTo>
                    <a:lnTo>
                      <a:pt x="652" y="169"/>
                    </a:lnTo>
                    <a:lnTo>
                      <a:pt x="652" y="172"/>
                    </a:lnTo>
                    <a:lnTo>
                      <a:pt x="653" y="173"/>
                    </a:lnTo>
                    <a:lnTo>
                      <a:pt x="653" y="173"/>
                    </a:lnTo>
                    <a:lnTo>
                      <a:pt x="654" y="173"/>
                    </a:lnTo>
                    <a:lnTo>
                      <a:pt x="657" y="173"/>
                    </a:lnTo>
                    <a:lnTo>
                      <a:pt x="658" y="173"/>
                    </a:lnTo>
                    <a:lnTo>
                      <a:pt x="659" y="172"/>
                    </a:lnTo>
                    <a:lnTo>
                      <a:pt x="661" y="169"/>
                    </a:lnTo>
                    <a:lnTo>
                      <a:pt x="661" y="167"/>
                    </a:lnTo>
                    <a:lnTo>
                      <a:pt x="661" y="167"/>
                    </a:lnTo>
                    <a:close/>
                    <a:moveTo>
                      <a:pt x="613" y="139"/>
                    </a:moveTo>
                    <a:lnTo>
                      <a:pt x="613" y="138"/>
                    </a:lnTo>
                    <a:lnTo>
                      <a:pt x="612" y="137"/>
                    </a:lnTo>
                    <a:lnTo>
                      <a:pt x="611" y="135"/>
                    </a:lnTo>
                    <a:lnTo>
                      <a:pt x="609" y="135"/>
                    </a:lnTo>
                    <a:lnTo>
                      <a:pt x="607" y="135"/>
                    </a:lnTo>
                    <a:lnTo>
                      <a:pt x="607" y="135"/>
                    </a:lnTo>
                    <a:lnTo>
                      <a:pt x="606" y="135"/>
                    </a:lnTo>
                    <a:lnTo>
                      <a:pt x="604" y="137"/>
                    </a:lnTo>
                    <a:lnTo>
                      <a:pt x="604" y="138"/>
                    </a:lnTo>
                    <a:lnTo>
                      <a:pt x="604" y="139"/>
                    </a:lnTo>
                    <a:lnTo>
                      <a:pt x="604" y="143"/>
                    </a:lnTo>
                    <a:lnTo>
                      <a:pt x="604" y="144"/>
                    </a:lnTo>
                    <a:lnTo>
                      <a:pt x="606" y="145"/>
                    </a:lnTo>
                    <a:lnTo>
                      <a:pt x="607" y="145"/>
                    </a:lnTo>
                    <a:lnTo>
                      <a:pt x="607" y="147"/>
                    </a:lnTo>
                    <a:lnTo>
                      <a:pt x="609" y="147"/>
                    </a:lnTo>
                    <a:lnTo>
                      <a:pt x="611" y="145"/>
                    </a:lnTo>
                    <a:lnTo>
                      <a:pt x="612" y="144"/>
                    </a:lnTo>
                    <a:lnTo>
                      <a:pt x="613" y="143"/>
                    </a:lnTo>
                    <a:lnTo>
                      <a:pt x="613" y="139"/>
                    </a:lnTo>
                    <a:lnTo>
                      <a:pt x="613" y="139"/>
                    </a:lnTo>
                    <a:close/>
                    <a:moveTo>
                      <a:pt x="633" y="137"/>
                    </a:moveTo>
                    <a:lnTo>
                      <a:pt x="652" y="137"/>
                    </a:lnTo>
                    <a:lnTo>
                      <a:pt x="652" y="105"/>
                    </a:lnTo>
                    <a:lnTo>
                      <a:pt x="633" y="105"/>
                    </a:lnTo>
                    <a:lnTo>
                      <a:pt x="633" y="137"/>
                    </a:lnTo>
                    <a:lnTo>
                      <a:pt x="633" y="137"/>
                    </a:lnTo>
                    <a:close/>
                    <a:moveTo>
                      <a:pt x="621" y="114"/>
                    </a:moveTo>
                    <a:lnTo>
                      <a:pt x="619" y="111"/>
                    </a:lnTo>
                    <a:lnTo>
                      <a:pt x="619" y="109"/>
                    </a:lnTo>
                    <a:lnTo>
                      <a:pt x="617" y="108"/>
                    </a:lnTo>
                    <a:lnTo>
                      <a:pt x="616" y="108"/>
                    </a:lnTo>
                    <a:lnTo>
                      <a:pt x="614" y="108"/>
                    </a:lnTo>
                    <a:lnTo>
                      <a:pt x="613" y="109"/>
                    </a:lnTo>
                    <a:lnTo>
                      <a:pt x="612" y="111"/>
                    </a:lnTo>
                    <a:lnTo>
                      <a:pt x="611" y="114"/>
                    </a:lnTo>
                    <a:lnTo>
                      <a:pt x="612" y="116"/>
                    </a:lnTo>
                    <a:lnTo>
                      <a:pt x="613" y="118"/>
                    </a:lnTo>
                    <a:lnTo>
                      <a:pt x="614" y="119"/>
                    </a:lnTo>
                    <a:lnTo>
                      <a:pt x="616" y="119"/>
                    </a:lnTo>
                    <a:lnTo>
                      <a:pt x="617" y="119"/>
                    </a:lnTo>
                    <a:lnTo>
                      <a:pt x="619" y="118"/>
                    </a:lnTo>
                    <a:lnTo>
                      <a:pt x="619" y="116"/>
                    </a:lnTo>
                    <a:lnTo>
                      <a:pt x="621" y="114"/>
                    </a:lnTo>
                    <a:lnTo>
                      <a:pt x="621" y="114"/>
                    </a:lnTo>
                    <a:close/>
                    <a:moveTo>
                      <a:pt x="674" y="114"/>
                    </a:moveTo>
                    <a:lnTo>
                      <a:pt x="674" y="111"/>
                    </a:lnTo>
                    <a:lnTo>
                      <a:pt x="673" y="109"/>
                    </a:lnTo>
                    <a:lnTo>
                      <a:pt x="672" y="108"/>
                    </a:lnTo>
                    <a:lnTo>
                      <a:pt x="669" y="108"/>
                    </a:lnTo>
                    <a:lnTo>
                      <a:pt x="667" y="108"/>
                    </a:lnTo>
                    <a:lnTo>
                      <a:pt x="664" y="109"/>
                    </a:lnTo>
                    <a:lnTo>
                      <a:pt x="663" y="111"/>
                    </a:lnTo>
                    <a:lnTo>
                      <a:pt x="663" y="114"/>
                    </a:lnTo>
                    <a:lnTo>
                      <a:pt x="663" y="116"/>
                    </a:lnTo>
                    <a:lnTo>
                      <a:pt x="664" y="118"/>
                    </a:lnTo>
                    <a:lnTo>
                      <a:pt x="667" y="119"/>
                    </a:lnTo>
                    <a:lnTo>
                      <a:pt x="669" y="119"/>
                    </a:lnTo>
                    <a:lnTo>
                      <a:pt x="672" y="119"/>
                    </a:lnTo>
                    <a:lnTo>
                      <a:pt x="673" y="118"/>
                    </a:lnTo>
                    <a:lnTo>
                      <a:pt x="674" y="116"/>
                    </a:lnTo>
                    <a:lnTo>
                      <a:pt x="674" y="114"/>
                    </a:lnTo>
                    <a:lnTo>
                      <a:pt x="674" y="114"/>
                    </a:lnTo>
                    <a:close/>
                    <a:moveTo>
                      <a:pt x="607" y="281"/>
                    </a:moveTo>
                    <a:lnTo>
                      <a:pt x="607" y="317"/>
                    </a:lnTo>
                    <a:lnTo>
                      <a:pt x="681" y="317"/>
                    </a:lnTo>
                    <a:lnTo>
                      <a:pt x="681" y="281"/>
                    </a:lnTo>
                    <a:lnTo>
                      <a:pt x="607" y="281"/>
                    </a:lnTo>
                    <a:lnTo>
                      <a:pt x="607" y="281"/>
                    </a:lnTo>
                    <a:close/>
                    <a:moveTo>
                      <a:pt x="611" y="286"/>
                    </a:moveTo>
                    <a:lnTo>
                      <a:pt x="611" y="311"/>
                    </a:lnTo>
                    <a:lnTo>
                      <a:pt x="674" y="311"/>
                    </a:lnTo>
                    <a:lnTo>
                      <a:pt x="674" y="286"/>
                    </a:lnTo>
                    <a:lnTo>
                      <a:pt x="611" y="286"/>
                    </a:lnTo>
                    <a:lnTo>
                      <a:pt x="611" y="286"/>
                    </a:lnTo>
                    <a:close/>
                    <a:moveTo>
                      <a:pt x="668" y="288"/>
                    </a:moveTo>
                    <a:lnTo>
                      <a:pt x="668" y="294"/>
                    </a:lnTo>
                    <a:lnTo>
                      <a:pt x="672" y="294"/>
                    </a:lnTo>
                    <a:lnTo>
                      <a:pt x="672" y="288"/>
                    </a:lnTo>
                    <a:lnTo>
                      <a:pt x="668" y="288"/>
                    </a:lnTo>
                    <a:lnTo>
                      <a:pt x="668" y="288"/>
                    </a:lnTo>
                    <a:close/>
                    <a:moveTo>
                      <a:pt x="658" y="288"/>
                    </a:moveTo>
                    <a:lnTo>
                      <a:pt x="658" y="294"/>
                    </a:lnTo>
                    <a:lnTo>
                      <a:pt x="663" y="294"/>
                    </a:lnTo>
                    <a:lnTo>
                      <a:pt x="663" y="288"/>
                    </a:lnTo>
                    <a:lnTo>
                      <a:pt x="658" y="288"/>
                    </a:lnTo>
                    <a:lnTo>
                      <a:pt x="658" y="288"/>
                    </a:lnTo>
                    <a:close/>
                    <a:moveTo>
                      <a:pt x="663" y="297"/>
                    </a:moveTo>
                    <a:lnTo>
                      <a:pt x="663" y="301"/>
                    </a:lnTo>
                    <a:lnTo>
                      <a:pt x="668" y="301"/>
                    </a:lnTo>
                    <a:lnTo>
                      <a:pt x="668" y="297"/>
                    </a:lnTo>
                    <a:lnTo>
                      <a:pt x="663" y="297"/>
                    </a:lnTo>
                    <a:lnTo>
                      <a:pt x="663" y="297"/>
                    </a:lnTo>
                    <a:close/>
                    <a:moveTo>
                      <a:pt x="649" y="288"/>
                    </a:moveTo>
                    <a:lnTo>
                      <a:pt x="649" y="294"/>
                    </a:lnTo>
                    <a:lnTo>
                      <a:pt x="654" y="294"/>
                    </a:lnTo>
                    <a:lnTo>
                      <a:pt x="654" y="288"/>
                    </a:lnTo>
                    <a:lnTo>
                      <a:pt x="649" y="288"/>
                    </a:lnTo>
                    <a:lnTo>
                      <a:pt x="649" y="288"/>
                    </a:lnTo>
                    <a:close/>
                    <a:moveTo>
                      <a:pt x="641" y="288"/>
                    </a:moveTo>
                    <a:lnTo>
                      <a:pt x="641" y="294"/>
                    </a:lnTo>
                    <a:lnTo>
                      <a:pt x="647" y="294"/>
                    </a:lnTo>
                    <a:lnTo>
                      <a:pt x="647" y="288"/>
                    </a:lnTo>
                    <a:lnTo>
                      <a:pt x="641" y="288"/>
                    </a:lnTo>
                    <a:lnTo>
                      <a:pt x="641" y="288"/>
                    </a:lnTo>
                    <a:close/>
                    <a:moveTo>
                      <a:pt x="632" y="288"/>
                    </a:moveTo>
                    <a:lnTo>
                      <a:pt x="632" y="294"/>
                    </a:lnTo>
                    <a:lnTo>
                      <a:pt x="638" y="294"/>
                    </a:lnTo>
                    <a:lnTo>
                      <a:pt x="638" y="288"/>
                    </a:lnTo>
                    <a:lnTo>
                      <a:pt x="632" y="288"/>
                    </a:lnTo>
                    <a:lnTo>
                      <a:pt x="632" y="288"/>
                    </a:lnTo>
                    <a:close/>
                    <a:moveTo>
                      <a:pt x="622" y="288"/>
                    </a:moveTo>
                    <a:lnTo>
                      <a:pt x="622" y="294"/>
                    </a:lnTo>
                    <a:lnTo>
                      <a:pt x="629" y="294"/>
                    </a:lnTo>
                    <a:lnTo>
                      <a:pt x="629" y="288"/>
                    </a:lnTo>
                    <a:lnTo>
                      <a:pt x="622" y="288"/>
                    </a:lnTo>
                    <a:lnTo>
                      <a:pt x="622" y="288"/>
                    </a:lnTo>
                    <a:close/>
                    <a:moveTo>
                      <a:pt x="616" y="288"/>
                    </a:moveTo>
                    <a:lnTo>
                      <a:pt x="616" y="294"/>
                    </a:lnTo>
                    <a:lnTo>
                      <a:pt x="621" y="294"/>
                    </a:lnTo>
                    <a:lnTo>
                      <a:pt x="621" y="288"/>
                    </a:lnTo>
                    <a:lnTo>
                      <a:pt x="616" y="288"/>
                    </a:lnTo>
                    <a:lnTo>
                      <a:pt x="616" y="288"/>
                    </a:lnTo>
                    <a:close/>
                    <a:moveTo>
                      <a:pt x="654" y="297"/>
                    </a:moveTo>
                    <a:lnTo>
                      <a:pt x="654" y="301"/>
                    </a:lnTo>
                    <a:lnTo>
                      <a:pt x="658" y="301"/>
                    </a:lnTo>
                    <a:lnTo>
                      <a:pt x="658" y="297"/>
                    </a:lnTo>
                    <a:lnTo>
                      <a:pt x="654" y="297"/>
                    </a:lnTo>
                    <a:lnTo>
                      <a:pt x="654" y="297"/>
                    </a:lnTo>
                    <a:close/>
                    <a:moveTo>
                      <a:pt x="644" y="297"/>
                    </a:moveTo>
                    <a:lnTo>
                      <a:pt x="644" y="301"/>
                    </a:lnTo>
                    <a:lnTo>
                      <a:pt x="649" y="301"/>
                    </a:lnTo>
                    <a:lnTo>
                      <a:pt x="649" y="297"/>
                    </a:lnTo>
                    <a:lnTo>
                      <a:pt x="644" y="297"/>
                    </a:lnTo>
                    <a:lnTo>
                      <a:pt x="644" y="297"/>
                    </a:lnTo>
                    <a:close/>
                    <a:moveTo>
                      <a:pt x="636" y="297"/>
                    </a:moveTo>
                    <a:lnTo>
                      <a:pt x="636" y="301"/>
                    </a:lnTo>
                    <a:lnTo>
                      <a:pt x="643" y="301"/>
                    </a:lnTo>
                    <a:lnTo>
                      <a:pt x="643" y="297"/>
                    </a:lnTo>
                    <a:lnTo>
                      <a:pt x="636" y="297"/>
                    </a:lnTo>
                    <a:lnTo>
                      <a:pt x="636" y="297"/>
                    </a:lnTo>
                    <a:close/>
                    <a:moveTo>
                      <a:pt x="627" y="297"/>
                    </a:moveTo>
                    <a:lnTo>
                      <a:pt x="627" y="301"/>
                    </a:lnTo>
                    <a:lnTo>
                      <a:pt x="633" y="301"/>
                    </a:lnTo>
                    <a:lnTo>
                      <a:pt x="633" y="297"/>
                    </a:lnTo>
                    <a:lnTo>
                      <a:pt x="627" y="297"/>
                    </a:lnTo>
                    <a:lnTo>
                      <a:pt x="627" y="297"/>
                    </a:lnTo>
                    <a:close/>
                    <a:moveTo>
                      <a:pt x="618" y="297"/>
                    </a:moveTo>
                    <a:lnTo>
                      <a:pt x="618" y="301"/>
                    </a:lnTo>
                    <a:lnTo>
                      <a:pt x="624" y="301"/>
                    </a:lnTo>
                    <a:lnTo>
                      <a:pt x="624" y="297"/>
                    </a:lnTo>
                    <a:lnTo>
                      <a:pt x="618" y="297"/>
                    </a:lnTo>
                    <a:lnTo>
                      <a:pt x="618" y="297"/>
                    </a:lnTo>
                    <a:close/>
                    <a:moveTo>
                      <a:pt x="658" y="303"/>
                    </a:moveTo>
                    <a:lnTo>
                      <a:pt x="627" y="303"/>
                    </a:lnTo>
                    <a:lnTo>
                      <a:pt x="627" y="308"/>
                    </a:lnTo>
                    <a:lnTo>
                      <a:pt x="658" y="308"/>
                    </a:lnTo>
                    <a:lnTo>
                      <a:pt x="658" y="303"/>
                    </a:lnTo>
                    <a:lnTo>
                      <a:pt x="658" y="303"/>
                    </a:lnTo>
                    <a:close/>
                    <a:moveTo>
                      <a:pt x="663" y="303"/>
                    </a:moveTo>
                    <a:lnTo>
                      <a:pt x="663" y="308"/>
                    </a:lnTo>
                    <a:lnTo>
                      <a:pt x="669" y="308"/>
                    </a:lnTo>
                    <a:lnTo>
                      <a:pt x="669" y="303"/>
                    </a:lnTo>
                    <a:lnTo>
                      <a:pt x="663" y="303"/>
                    </a:lnTo>
                    <a:lnTo>
                      <a:pt x="663" y="303"/>
                    </a:lnTo>
                    <a:close/>
                    <a:moveTo>
                      <a:pt x="618" y="303"/>
                    </a:moveTo>
                    <a:lnTo>
                      <a:pt x="618" y="308"/>
                    </a:lnTo>
                    <a:lnTo>
                      <a:pt x="622" y="308"/>
                    </a:lnTo>
                    <a:lnTo>
                      <a:pt x="622" y="303"/>
                    </a:lnTo>
                    <a:lnTo>
                      <a:pt x="618" y="303"/>
                    </a:lnTo>
                    <a:lnTo>
                      <a:pt x="618" y="303"/>
                    </a:lnTo>
                    <a:close/>
                    <a:moveTo>
                      <a:pt x="869" y="139"/>
                    </a:moveTo>
                    <a:lnTo>
                      <a:pt x="869" y="138"/>
                    </a:lnTo>
                    <a:lnTo>
                      <a:pt x="867" y="137"/>
                    </a:lnTo>
                    <a:lnTo>
                      <a:pt x="866" y="135"/>
                    </a:lnTo>
                    <a:lnTo>
                      <a:pt x="865" y="135"/>
                    </a:lnTo>
                    <a:lnTo>
                      <a:pt x="861" y="135"/>
                    </a:lnTo>
                    <a:lnTo>
                      <a:pt x="860" y="137"/>
                    </a:lnTo>
                    <a:lnTo>
                      <a:pt x="859" y="138"/>
                    </a:lnTo>
                    <a:lnTo>
                      <a:pt x="857" y="139"/>
                    </a:lnTo>
                    <a:lnTo>
                      <a:pt x="859" y="143"/>
                    </a:lnTo>
                    <a:lnTo>
                      <a:pt x="860" y="144"/>
                    </a:lnTo>
                    <a:lnTo>
                      <a:pt x="861" y="145"/>
                    </a:lnTo>
                    <a:lnTo>
                      <a:pt x="865" y="147"/>
                    </a:lnTo>
                    <a:lnTo>
                      <a:pt x="866" y="145"/>
                    </a:lnTo>
                    <a:lnTo>
                      <a:pt x="867" y="144"/>
                    </a:lnTo>
                    <a:lnTo>
                      <a:pt x="869" y="143"/>
                    </a:lnTo>
                    <a:lnTo>
                      <a:pt x="869" y="139"/>
                    </a:lnTo>
                    <a:lnTo>
                      <a:pt x="869" y="139"/>
                    </a:lnTo>
                    <a:close/>
                    <a:moveTo>
                      <a:pt x="876" y="114"/>
                    </a:moveTo>
                    <a:lnTo>
                      <a:pt x="875" y="111"/>
                    </a:lnTo>
                    <a:lnTo>
                      <a:pt x="875" y="109"/>
                    </a:lnTo>
                    <a:lnTo>
                      <a:pt x="872" y="108"/>
                    </a:lnTo>
                    <a:lnTo>
                      <a:pt x="871" y="108"/>
                    </a:lnTo>
                    <a:lnTo>
                      <a:pt x="870" y="108"/>
                    </a:lnTo>
                    <a:lnTo>
                      <a:pt x="869" y="109"/>
                    </a:lnTo>
                    <a:lnTo>
                      <a:pt x="867" y="111"/>
                    </a:lnTo>
                    <a:lnTo>
                      <a:pt x="867" y="114"/>
                    </a:lnTo>
                    <a:lnTo>
                      <a:pt x="867" y="116"/>
                    </a:lnTo>
                    <a:lnTo>
                      <a:pt x="869" y="118"/>
                    </a:lnTo>
                    <a:lnTo>
                      <a:pt x="870" y="119"/>
                    </a:lnTo>
                    <a:lnTo>
                      <a:pt x="871" y="119"/>
                    </a:lnTo>
                    <a:lnTo>
                      <a:pt x="872" y="119"/>
                    </a:lnTo>
                    <a:lnTo>
                      <a:pt x="875" y="118"/>
                    </a:lnTo>
                    <a:lnTo>
                      <a:pt x="875" y="116"/>
                    </a:lnTo>
                    <a:lnTo>
                      <a:pt x="876" y="114"/>
                    </a:lnTo>
                    <a:lnTo>
                      <a:pt x="876" y="114"/>
                    </a:lnTo>
                    <a:close/>
                    <a:moveTo>
                      <a:pt x="890" y="167"/>
                    </a:moveTo>
                    <a:lnTo>
                      <a:pt x="889" y="166"/>
                    </a:lnTo>
                    <a:lnTo>
                      <a:pt x="887" y="163"/>
                    </a:lnTo>
                    <a:lnTo>
                      <a:pt x="886" y="163"/>
                    </a:lnTo>
                    <a:lnTo>
                      <a:pt x="885" y="162"/>
                    </a:lnTo>
                    <a:lnTo>
                      <a:pt x="884" y="162"/>
                    </a:lnTo>
                    <a:lnTo>
                      <a:pt x="882" y="163"/>
                    </a:lnTo>
                    <a:lnTo>
                      <a:pt x="881" y="163"/>
                    </a:lnTo>
                    <a:lnTo>
                      <a:pt x="881" y="163"/>
                    </a:lnTo>
                    <a:lnTo>
                      <a:pt x="880" y="166"/>
                    </a:lnTo>
                    <a:lnTo>
                      <a:pt x="880" y="167"/>
                    </a:lnTo>
                    <a:lnTo>
                      <a:pt x="880" y="169"/>
                    </a:lnTo>
                    <a:lnTo>
                      <a:pt x="881" y="172"/>
                    </a:lnTo>
                    <a:lnTo>
                      <a:pt x="881" y="173"/>
                    </a:lnTo>
                    <a:lnTo>
                      <a:pt x="882" y="173"/>
                    </a:lnTo>
                    <a:lnTo>
                      <a:pt x="884" y="173"/>
                    </a:lnTo>
                    <a:lnTo>
                      <a:pt x="885" y="173"/>
                    </a:lnTo>
                    <a:lnTo>
                      <a:pt x="886" y="173"/>
                    </a:lnTo>
                    <a:lnTo>
                      <a:pt x="887" y="172"/>
                    </a:lnTo>
                    <a:lnTo>
                      <a:pt x="889" y="169"/>
                    </a:lnTo>
                    <a:lnTo>
                      <a:pt x="890" y="167"/>
                    </a:lnTo>
                    <a:lnTo>
                      <a:pt x="890" y="167"/>
                    </a:lnTo>
                    <a:close/>
                    <a:moveTo>
                      <a:pt x="890" y="137"/>
                    </a:moveTo>
                    <a:lnTo>
                      <a:pt x="908" y="137"/>
                    </a:lnTo>
                    <a:lnTo>
                      <a:pt x="908" y="105"/>
                    </a:lnTo>
                    <a:lnTo>
                      <a:pt x="890" y="105"/>
                    </a:lnTo>
                    <a:lnTo>
                      <a:pt x="890" y="137"/>
                    </a:lnTo>
                    <a:lnTo>
                      <a:pt x="890" y="137"/>
                    </a:lnTo>
                    <a:close/>
                    <a:moveTo>
                      <a:pt x="916" y="167"/>
                    </a:moveTo>
                    <a:lnTo>
                      <a:pt x="916" y="166"/>
                    </a:lnTo>
                    <a:lnTo>
                      <a:pt x="915" y="163"/>
                    </a:lnTo>
                    <a:lnTo>
                      <a:pt x="914" y="163"/>
                    </a:lnTo>
                    <a:lnTo>
                      <a:pt x="913" y="162"/>
                    </a:lnTo>
                    <a:lnTo>
                      <a:pt x="909" y="163"/>
                    </a:lnTo>
                    <a:lnTo>
                      <a:pt x="908" y="163"/>
                    </a:lnTo>
                    <a:lnTo>
                      <a:pt x="906" y="166"/>
                    </a:lnTo>
                    <a:lnTo>
                      <a:pt x="905" y="167"/>
                    </a:lnTo>
                    <a:lnTo>
                      <a:pt x="906" y="169"/>
                    </a:lnTo>
                    <a:lnTo>
                      <a:pt x="908" y="172"/>
                    </a:lnTo>
                    <a:lnTo>
                      <a:pt x="909" y="173"/>
                    </a:lnTo>
                    <a:lnTo>
                      <a:pt x="913" y="173"/>
                    </a:lnTo>
                    <a:lnTo>
                      <a:pt x="914" y="173"/>
                    </a:lnTo>
                    <a:lnTo>
                      <a:pt x="915" y="172"/>
                    </a:lnTo>
                    <a:lnTo>
                      <a:pt x="916" y="169"/>
                    </a:lnTo>
                    <a:lnTo>
                      <a:pt x="916" y="167"/>
                    </a:lnTo>
                    <a:lnTo>
                      <a:pt x="916" y="167"/>
                    </a:lnTo>
                    <a:close/>
                    <a:moveTo>
                      <a:pt x="930" y="114"/>
                    </a:moveTo>
                    <a:lnTo>
                      <a:pt x="930" y="111"/>
                    </a:lnTo>
                    <a:lnTo>
                      <a:pt x="929" y="109"/>
                    </a:lnTo>
                    <a:lnTo>
                      <a:pt x="926" y="108"/>
                    </a:lnTo>
                    <a:lnTo>
                      <a:pt x="924" y="108"/>
                    </a:lnTo>
                    <a:lnTo>
                      <a:pt x="921" y="108"/>
                    </a:lnTo>
                    <a:lnTo>
                      <a:pt x="920" y="109"/>
                    </a:lnTo>
                    <a:lnTo>
                      <a:pt x="919" y="111"/>
                    </a:lnTo>
                    <a:lnTo>
                      <a:pt x="919" y="114"/>
                    </a:lnTo>
                    <a:lnTo>
                      <a:pt x="919" y="116"/>
                    </a:lnTo>
                    <a:lnTo>
                      <a:pt x="920" y="118"/>
                    </a:lnTo>
                    <a:lnTo>
                      <a:pt x="921" y="119"/>
                    </a:lnTo>
                    <a:lnTo>
                      <a:pt x="924" y="119"/>
                    </a:lnTo>
                    <a:lnTo>
                      <a:pt x="926" y="119"/>
                    </a:lnTo>
                    <a:lnTo>
                      <a:pt x="929" y="118"/>
                    </a:lnTo>
                    <a:lnTo>
                      <a:pt x="930" y="116"/>
                    </a:lnTo>
                    <a:lnTo>
                      <a:pt x="930" y="114"/>
                    </a:lnTo>
                    <a:lnTo>
                      <a:pt x="930" y="114"/>
                    </a:lnTo>
                    <a:close/>
                    <a:moveTo>
                      <a:pt x="938" y="139"/>
                    </a:moveTo>
                    <a:lnTo>
                      <a:pt x="936" y="138"/>
                    </a:lnTo>
                    <a:lnTo>
                      <a:pt x="935" y="137"/>
                    </a:lnTo>
                    <a:lnTo>
                      <a:pt x="934" y="135"/>
                    </a:lnTo>
                    <a:lnTo>
                      <a:pt x="933" y="135"/>
                    </a:lnTo>
                    <a:lnTo>
                      <a:pt x="930" y="135"/>
                    </a:lnTo>
                    <a:lnTo>
                      <a:pt x="928" y="137"/>
                    </a:lnTo>
                    <a:lnTo>
                      <a:pt x="926" y="138"/>
                    </a:lnTo>
                    <a:lnTo>
                      <a:pt x="926" y="139"/>
                    </a:lnTo>
                    <a:lnTo>
                      <a:pt x="926" y="143"/>
                    </a:lnTo>
                    <a:lnTo>
                      <a:pt x="928" y="144"/>
                    </a:lnTo>
                    <a:lnTo>
                      <a:pt x="930" y="145"/>
                    </a:lnTo>
                    <a:lnTo>
                      <a:pt x="933" y="147"/>
                    </a:lnTo>
                    <a:lnTo>
                      <a:pt x="934" y="145"/>
                    </a:lnTo>
                    <a:lnTo>
                      <a:pt x="935" y="144"/>
                    </a:lnTo>
                    <a:lnTo>
                      <a:pt x="936" y="143"/>
                    </a:lnTo>
                    <a:lnTo>
                      <a:pt x="938" y="139"/>
                    </a:lnTo>
                    <a:lnTo>
                      <a:pt x="938" y="139"/>
                    </a:lnTo>
                    <a:close/>
                    <a:moveTo>
                      <a:pt x="876" y="301"/>
                    </a:moveTo>
                    <a:lnTo>
                      <a:pt x="876" y="308"/>
                    </a:lnTo>
                    <a:lnTo>
                      <a:pt x="876" y="310"/>
                    </a:lnTo>
                    <a:lnTo>
                      <a:pt x="877" y="311"/>
                    </a:lnTo>
                    <a:lnTo>
                      <a:pt x="879" y="312"/>
                    </a:lnTo>
                    <a:lnTo>
                      <a:pt x="880" y="312"/>
                    </a:lnTo>
                    <a:lnTo>
                      <a:pt x="880" y="312"/>
                    </a:lnTo>
                    <a:lnTo>
                      <a:pt x="887" y="312"/>
                    </a:lnTo>
                    <a:lnTo>
                      <a:pt x="887" y="301"/>
                    </a:lnTo>
                    <a:lnTo>
                      <a:pt x="876" y="301"/>
                    </a:lnTo>
                    <a:lnTo>
                      <a:pt x="876" y="301"/>
                    </a:lnTo>
                    <a:close/>
                    <a:moveTo>
                      <a:pt x="887" y="297"/>
                    </a:moveTo>
                    <a:lnTo>
                      <a:pt x="887" y="286"/>
                    </a:lnTo>
                    <a:lnTo>
                      <a:pt x="880" y="286"/>
                    </a:lnTo>
                    <a:lnTo>
                      <a:pt x="879" y="286"/>
                    </a:lnTo>
                    <a:lnTo>
                      <a:pt x="877" y="287"/>
                    </a:lnTo>
                    <a:lnTo>
                      <a:pt x="876" y="288"/>
                    </a:lnTo>
                    <a:lnTo>
                      <a:pt x="876" y="289"/>
                    </a:lnTo>
                    <a:lnTo>
                      <a:pt x="876" y="289"/>
                    </a:lnTo>
                    <a:lnTo>
                      <a:pt x="876" y="297"/>
                    </a:lnTo>
                    <a:lnTo>
                      <a:pt x="887" y="297"/>
                    </a:lnTo>
                    <a:lnTo>
                      <a:pt x="887" y="297"/>
                    </a:lnTo>
                    <a:close/>
                    <a:moveTo>
                      <a:pt x="894" y="312"/>
                    </a:moveTo>
                    <a:lnTo>
                      <a:pt x="908" y="312"/>
                    </a:lnTo>
                    <a:lnTo>
                      <a:pt x="910" y="312"/>
                    </a:lnTo>
                    <a:lnTo>
                      <a:pt x="913" y="312"/>
                    </a:lnTo>
                    <a:lnTo>
                      <a:pt x="914" y="311"/>
                    </a:lnTo>
                    <a:lnTo>
                      <a:pt x="916" y="310"/>
                    </a:lnTo>
                    <a:lnTo>
                      <a:pt x="918" y="308"/>
                    </a:lnTo>
                    <a:lnTo>
                      <a:pt x="918" y="306"/>
                    </a:lnTo>
                    <a:lnTo>
                      <a:pt x="919" y="303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294"/>
                    </a:lnTo>
                    <a:lnTo>
                      <a:pt x="919" y="293"/>
                    </a:lnTo>
                    <a:lnTo>
                      <a:pt x="918" y="291"/>
                    </a:lnTo>
                    <a:lnTo>
                      <a:pt x="918" y="289"/>
                    </a:lnTo>
                    <a:lnTo>
                      <a:pt x="916" y="288"/>
                    </a:lnTo>
                    <a:lnTo>
                      <a:pt x="914" y="287"/>
                    </a:lnTo>
                    <a:lnTo>
                      <a:pt x="913" y="286"/>
                    </a:lnTo>
                    <a:lnTo>
                      <a:pt x="910" y="286"/>
                    </a:lnTo>
                    <a:lnTo>
                      <a:pt x="908" y="286"/>
                    </a:lnTo>
                    <a:lnTo>
                      <a:pt x="908" y="286"/>
                    </a:lnTo>
                    <a:lnTo>
                      <a:pt x="894" y="286"/>
                    </a:lnTo>
                    <a:lnTo>
                      <a:pt x="894" y="312"/>
                    </a:lnTo>
                    <a:lnTo>
                      <a:pt x="894" y="312"/>
                    </a:lnTo>
                    <a:close/>
                    <a:moveTo>
                      <a:pt x="871" y="308"/>
                    </a:moveTo>
                    <a:lnTo>
                      <a:pt x="871" y="310"/>
                    </a:lnTo>
                    <a:lnTo>
                      <a:pt x="871" y="312"/>
                    </a:lnTo>
                    <a:lnTo>
                      <a:pt x="872" y="313"/>
                    </a:lnTo>
                    <a:lnTo>
                      <a:pt x="874" y="315"/>
                    </a:lnTo>
                    <a:lnTo>
                      <a:pt x="875" y="316"/>
                    </a:lnTo>
                    <a:lnTo>
                      <a:pt x="877" y="316"/>
                    </a:lnTo>
                    <a:lnTo>
                      <a:pt x="879" y="317"/>
                    </a:lnTo>
                    <a:lnTo>
                      <a:pt x="880" y="317"/>
                    </a:lnTo>
                    <a:lnTo>
                      <a:pt x="908" y="317"/>
                    </a:lnTo>
                    <a:lnTo>
                      <a:pt x="911" y="317"/>
                    </a:lnTo>
                    <a:lnTo>
                      <a:pt x="914" y="316"/>
                    </a:lnTo>
                    <a:lnTo>
                      <a:pt x="916" y="315"/>
                    </a:lnTo>
                    <a:lnTo>
                      <a:pt x="919" y="312"/>
                    </a:lnTo>
                    <a:lnTo>
                      <a:pt x="921" y="311"/>
                    </a:lnTo>
                    <a:lnTo>
                      <a:pt x="924" y="308"/>
                    </a:lnTo>
                    <a:lnTo>
                      <a:pt x="925" y="305"/>
                    </a:lnTo>
                    <a:lnTo>
                      <a:pt x="926" y="301"/>
                    </a:lnTo>
                    <a:lnTo>
                      <a:pt x="926" y="294"/>
                    </a:lnTo>
                    <a:lnTo>
                      <a:pt x="925" y="292"/>
                    </a:lnTo>
                    <a:lnTo>
                      <a:pt x="924" y="289"/>
                    </a:lnTo>
                    <a:lnTo>
                      <a:pt x="921" y="287"/>
                    </a:lnTo>
                    <a:lnTo>
                      <a:pt x="919" y="286"/>
                    </a:lnTo>
                    <a:lnTo>
                      <a:pt x="916" y="283"/>
                    </a:lnTo>
                    <a:lnTo>
                      <a:pt x="914" y="282"/>
                    </a:lnTo>
                    <a:lnTo>
                      <a:pt x="911" y="281"/>
                    </a:lnTo>
                    <a:lnTo>
                      <a:pt x="908" y="281"/>
                    </a:lnTo>
                    <a:lnTo>
                      <a:pt x="880" y="281"/>
                    </a:lnTo>
                    <a:lnTo>
                      <a:pt x="879" y="281"/>
                    </a:lnTo>
                    <a:lnTo>
                      <a:pt x="877" y="281"/>
                    </a:lnTo>
                    <a:lnTo>
                      <a:pt x="875" y="282"/>
                    </a:lnTo>
                    <a:lnTo>
                      <a:pt x="874" y="283"/>
                    </a:lnTo>
                    <a:lnTo>
                      <a:pt x="872" y="284"/>
                    </a:lnTo>
                    <a:lnTo>
                      <a:pt x="871" y="287"/>
                    </a:lnTo>
                    <a:lnTo>
                      <a:pt x="871" y="288"/>
                    </a:lnTo>
                    <a:lnTo>
                      <a:pt x="871" y="289"/>
                    </a:lnTo>
                    <a:lnTo>
                      <a:pt x="871" y="308"/>
                    </a:lnTo>
                    <a:lnTo>
                      <a:pt x="871" y="308"/>
                    </a:lnTo>
                    <a:close/>
                    <a:moveTo>
                      <a:pt x="1121" y="130"/>
                    </a:moveTo>
                    <a:lnTo>
                      <a:pt x="1117" y="130"/>
                    </a:lnTo>
                    <a:lnTo>
                      <a:pt x="1114" y="132"/>
                    </a:lnTo>
                    <a:lnTo>
                      <a:pt x="1112" y="133"/>
                    </a:lnTo>
                    <a:lnTo>
                      <a:pt x="1109" y="135"/>
                    </a:lnTo>
                    <a:lnTo>
                      <a:pt x="1107" y="138"/>
                    </a:lnTo>
                    <a:lnTo>
                      <a:pt x="1106" y="140"/>
                    </a:lnTo>
                    <a:lnTo>
                      <a:pt x="1104" y="143"/>
                    </a:lnTo>
                    <a:lnTo>
                      <a:pt x="1104" y="147"/>
                    </a:lnTo>
                    <a:lnTo>
                      <a:pt x="1104" y="149"/>
                    </a:lnTo>
                    <a:lnTo>
                      <a:pt x="1106" y="153"/>
                    </a:lnTo>
                    <a:lnTo>
                      <a:pt x="1107" y="156"/>
                    </a:lnTo>
                    <a:lnTo>
                      <a:pt x="1109" y="158"/>
                    </a:lnTo>
                    <a:lnTo>
                      <a:pt x="1112" y="159"/>
                    </a:lnTo>
                    <a:lnTo>
                      <a:pt x="1114" y="161"/>
                    </a:lnTo>
                    <a:lnTo>
                      <a:pt x="1117" y="162"/>
                    </a:lnTo>
                    <a:lnTo>
                      <a:pt x="1121" y="162"/>
                    </a:lnTo>
                    <a:lnTo>
                      <a:pt x="1124" y="162"/>
                    </a:lnTo>
                    <a:lnTo>
                      <a:pt x="1127" y="161"/>
                    </a:lnTo>
                    <a:lnTo>
                      <a:pt x="1129" y="159"/>
                    </a:lnTo>
                    <a:lnTo>
                      <a:pt x="1132" y="158"/>
                    </a:lnTo>
                    <a:lnTo>
                      <a:pt x="1133" y="156"/>
                    </a:lnTo>
                    <a:lnTo>
                      <a:pt x="1136" y="153"/>
                    </a:lnTo>
                    <a:lnTo>
                      <a:pt x="1136" y="149"/>
                    </a:lnTo>
                    <a:lnTo>
                      <a:pt x="1137" y="147"/>
                    </a:lnTo>
                    <a:lnTo>
                      <a:pt x="1136" y="143"/>
                    </a:lnTo>
                    <a:lnTo>
                      <a:pt x="1136" y="140"/>
                    </a:lnTo>
                    <a:lnTo>
                      <a:pt x="1133" y="138"/>
                    </a:lnTo>
                    <a:lnTo>
                      <a:pt x="1132" y="135"/>
                    </a:lnTo>
                    <a:lnTo>
                      <a:pt x="1129" y="133"/>
                    </a:lnTo>
                    <a:lnTo>
                      <a:pt x="1127" y="132"/>
                    </a:lnTo>
                    <a:lnTo>
                      <a:pt x="1124" y="130"/>
                    </a:lnTo>
                    <a:lnTo>
                      <a:pt x="1121" y="130"/>
                    </a:lnTo>
                    <a:lnTo>
                      <a:pt x="1121" y="130"/>
                    </a:lnTo>
                    <a:close/>
                    <a:moveTo>
                      <a:pt x="1471" y="130"/>
                    </a:moveTo>
                    <a:lnTo>
                      <a:pt x="1468" y="130"/>
                    </a:lnTo>
                    <a:lnTo>
                      <a:pt x="1465" y="132"/>
                    </a:lnTo>
                    <a:lnTo>
                      <a:pt x="1463" y="133"/>
                    </a:lnTo>
                    <a:lnTo>
                      <a:pt x="1460" y="135"/>
                    </a:lnTo>
                    <a:lnTo>
                      <a:pt x="1458" y="138"/>
                    </a:lnTo>
                    <a:lnTo>
                      <a:pt x="1456" y="140"/>
                    </a:lnTo>
                    <a:lnTo>
                      <a:pt x="1456" y="143"/>
                    </a:lnTo>
                    <a:lnTo>
                      <a:pt x="1455" y="147"/>
                    </a:lnTo>
                    <a:lnTo>
                      <a:pt x="1456" y="149"/>
                    </a:lnTo>
                    <a:lnTo>
                      <a:pt x="1456" y="153"/>
                    </a:lnTo>
                    <a:lnTo>
                      <a:pt x="1458" y="156"/>
                    </a:lnTo>
                    <a:lnTo>
                      <a:pt x="1460" y="158"/>
                    </a:lnTo>
                    <a:lnTo>
                      <a:pt x="1463" y="159"/>
                    </a:lnTo>
                    <a:lnTo>
                      <a:pt x="1465" y="161"/>
                    </a:lnTo>
                    <a:lnTo>
                      <a:pt x="1468" y="162"/>
                    </a:lnTo>
                    <a:lnTo>
                      <a:pt x="1471" y="162"/>
                    </a:lnTo>
                    <a:lnTo>
                      <a:pt x="1474" y="162"/>
                    </a:lnTo>
                    <a:lnTo>
                      <a:pt x="1476" y="161"/>
                    </a:lnTo>
                    <a:lnTo>
                      <a:pt x="1479" y="159"/>
                    </a:lnTo>
                    <a:lnTo>
                      <a:pt x="1480" y="158"/>
                    </a:lnTo>
                    <a:lnTo>
                      <a:pt x="1483" y="156"/>
                    </a:lnTo>
                    <a:lnTo>
                      <a:pt x="1484" y="153"/>
                    </a:lnTo>
                    <a:lnTo>
                      <a:pt x="1485" y="149"/>
                    </a:lnTo>
                    <a:lnTo>
                      <a:pt x="1485" y="147"/>
                    </a:lnTo>
                    <a:lnTo>
                      <a:pt x="1485" y="143"/>
                    </a:lnTo>
                    <a:lnTo>
                      <a:pt x="1484" y="140"/>
                    </a:lnTo>
                    <a:lnTo>
                      <a:pt x="1483" y="138"/>
                    </a:lnTo>
                    <a:lnTo>
                      <a:pt x="1480" y="135"/>
                    </a:lnTo>
                    <a:lnTo>
                      <a:pt x="1479" y="133"/>
                    </a:lnTo>
                    <a:lnTo>
                      <a:pt x="1476" y="132"/>
                    </a:lnTo>
                    <a:lnTo>
                      <a:pt x="1474" y="130"/>
                    </a:lnTo>
                    <a:lnTo>
                      <a:pt x="1471" y="130"/>
                    </a:lnTo>
                    <a:lnTo>
                      <a:pt x="1471" y="130"/>
                    </a:lnTo>
                    <a:close/>
                    <a:moveTo>
                      <a:pt x="2112" y="135"/>
                    </a:moveTo>
                    <a:lnTo>
                      <a:pt x="2109" y="135"/>
                    </a:lnTo>
                    <a:lnTo>
                      <a:pt x="2105" y="137"/>
                    </a:lnTo>
                    <a:lnTo>
                      <a:pt x="2103" y="138"/>
                    </a:lnTo>
                    <a:lnTo>
                      <a:pt x="2100" y="139"/>
                    </a:lnTo>
                    <a:lnTo>
                      <a:pt x="2099" y="142"/>
                    </a:lnTo>
                    <a:lnTo>
                      <a:pt x="2098" y="144"/>
                    </a:lnTo>
                    <a:lnTo>
                      <a:pt x="2097" y="148"/>
                    </a:lnTo>
                    <a:lnTo>
                      <a:pt x="2097" y="150"/>
                    </a:lnTo>
                    <a:lnTo>
                      <a:pt x="2097" y="153"/>
                    </a:lnTo>
                    <a:lnTo>
                      <a:pt x="2098" y="156"/>
                    </a:lnTo>
                    <a:lnTo>
                      <a:pt x="2099" y="158"/>
                    </a:lnTo>
                    <a:lnTo>
                      <a:pt x="2100" y="161"/>
                    </a:lnTo>
                    <a:lnTo>
                      <a:pt x="2103" y="162"/>
                    </a:lnTo>
                    <a:lnTo>
                      <a:pt x="2105" y="163"/>
                    </a:lnTo>
                    <a:lnTo>
                      <a:pt x="2109" y="164"/>
                    </a:lnTo>
                    <a:lnTo>
                      <a:pt x="2112" y="164"/>
                    </a:lnTo>
                    <a:lnTo>
                      <a:pt x="2115" y="164"/>
                    </a:lnTo>
                    <a:lnTo>
                      <a:pt x="2118" y="163"/>
                    </a:lnTo>
                    <a:lnTo>
                      <a:pt x="2120" y="162"/>
                    </a:lnTo>
                    <a:lnTo>
                      <a:pt x="2123" y="161"/>
                    </a:lnTo>
                    <a:lnTo>
                      <a:pt x="2125" y="158"/>
                    </a:lnTo>
                    <a:lnTo>
                      <a:pt x="2127" y="156"/>
                    </a:lnTo>
                    <a:lnTo>
                      <a:pt x="2128" y="153"/>
                    </a:lnTo>
                    <a:lnTo>
                      <a:pt x="2128" y="150"/>
                    </a:lnTo>
                    <a:lnTo>
                      <a:pt x="2128" y="148"/>
                    </a:lnTo>
                    <a:lnTo>
                      <a:pt x="2127" y="144"/>
                    </a:lnTo>
                    <a:lnTo>
                      <a:pt x="2125" y="142"/>
                    </a:lnTo>
                    <a:lnTo>
                      <a:pt x="2123" y="139"/>
                    </a:lnTo>
                    <a:lnTo>
                      <a:pt x="2120" y="138"/>
                    </a:lnTo>
                    <a:lnTo>
                      <a:pt x="2118" y="137"/>
                    </a:lnTo>
                    <a:lnTo>
                      <a:pt x="2115" y="135"/>
                    </a:lnTo>
                    <a:lnTo>
                      <a:pt x="2112" y="135"/>
                    </a:lnTo>
                    <a:lnTo>
                      <a:pt x="2112" y="135"/>
                    </a:lnTo>
                    <a:close/>
                    <a:moveTo>
                      <a:pt x="2198" y="181"/>
                    </a:moveTo>
                    <a:lnTo>
                      <a:pt x="2198" y="182"/>
                    </a:lnTo>
                    <a:lnTo>
                      <a:pt x="2198" y="182"/>
                    </a:lnTo>
                    <a:lnTo>
                      <a:pt x="2201" y="185"/>
                    </a:lnTo>
                    <a:lnTo>
                      <a:pt x="2203" y="187"/>
                    </a:lnTo>
                    <a:lnTo>
                      <a:pt x="2204" y="187"/>
                    </a:lnTo>
                    <a:lnTo>
                      <a:pt x="2204" y="187"/>
                    </a:lnTo>
                    <a:lnTo>
                      <a:pt x="2207" y="187"/>
                    </a:lnTo>
                    <a:lnTo>
                      <a:pt x="2208" y="187"/>
                    </a:lnTo>
                    <a:lnTo>
                      <a:pt x="2211" y="185"/>
                    </a:lnTo>
                    <a:lnTo>
                      <a:pt x="2212" y="183"/>
                    </a:lnTo>
                    <a:lnTo>
                      <a:pt x="2213" y="182"/>
                    </a:lnTo>
                    <a:lnTo>
                      <a:pt x="2213" y="182"/>
                    </a:lnTo>
                    <a:lnTo>
                      <a:pt x="2214" y="181"/>
                    </a:lnTo>
                    <a:lnTo>
                      <a:pt x="2213" y="178"/>
                    </a:lnTo>
                    <a:lnTo>
                      <a:pt x="2213" y="177"/>
                    </a:lnTo>
                    <a:lnTo>
                      <a:pt x="2212" y="176"/>
                    </a:lnTo>
                    <a:lnTo>
                      <a:pt x="2211" y="176"/>
                    </a:lnTo>
                    <a:lnTo>
                      <a:pt x="2208" y="174"/>
                    </a:lnTo>
                    <a:lnTo>
                      <a:pt x="2204" y="173"/>
                    </a:lnTo>
                    <a:lnTo>
                      <a:pt x="2203" y="174"/>
                    </a:lnTo>
                    <a:lnTo>
                      <a:pt x="2201" y="176"/>
                    </a:lnTo>
                    <a:lnTo>
                      <a:pt x="2198" y="177"/>
                    </a:lnTo>
                    <a:lnTo>
                      <a:pt x="2198" y="178"/>
                    </a:lnTo>
                    <a:lnTo>
                      <a:pt x="2198" y="181"/>
                    </a:lnTo>
                    <a:lnTo>
                      <a:pt x="2198" y="181"/>
                    </a:lnTo>
                    <a:close/>
                    <a:moveTo>
                      <a:pt x="2237" y="181"/>
                    </a:moveTo>
                    <a:lnTo>
                      <a:pt x="2237" y="182"/>
                    </a:lnTo>
                    <a:lnTo>
                      <a:pt x="2237" y="182"/>
                    </a:lnTo>
                    <a:lnTo>
                      <a:pt x="2239" y="185"/>
                    </a:lnTo>
                    <a:lnTo>
                      <a:pt x="2241" y="187"/>
                    </a:lnTo>
                    <a:lnTo>
                      <a:pt x="2242" y="187"/>
                    </a:lnTo>
                    <a:lnTo>
                      <a:pt x="2243" y="187"/>
                    </a:lnTo>
                    <a:lnTo>
                      <a:pt x="2244" y="187"/>
                    </a:lnTo>
                    <a:lnTo>
                      <a:pt x="2246" y="187"/>
                    </a:lnTo>
                    <a:lnTo>
                      <a:pt x="2248" y="185"/>
                    </a:lnTo>
                    <a:lnTo>
                      <a:pt x="2249" y="182"/>
                    </a:lnTo>
                    <a:lnTo>
                      <a:pt x="2249" y="181"/>
                    </a:lnTo>
                    <a:lnTo>
                      <a:pt x="2249" y="177"/>
                    </a:lnTo>
                    <a:lnTo>
                      <a:pt x="2248" y="176"/>
                    </a:lnTo>
                    <a:lnTo>
                      <a:pt x="2246" y="174"/>
                    </a:lnTo>
                    <a:lnTo>
                      <a:pt x="2243" y="173"/>
                    </a:lnTo>
                    <a:lnTo>
                      <a:pt x="2241" y="174"/>
                    </a:lnTo>
                    <a:lnTo>
                      <a:pt x="2239" y="176"/>
                    </a:lnTo>
                    <a:lnTo>
                      <a:pt x="2237" y="177"/>
                    </a:lnTo>
                    <a:lnTo>
                      <a:pt x="2237" y="178"/>
                    </a:lnTo>
                    <a:lnTo>
                      <a:pt x="2237" y="181"/>
                    </a:lnTo>
                    <a:lnTo>
                      <a:pt x="2237" y="181"/>
                    </a:lnTo>
                    <a:close/>
                    <a:moveTo>
                      <a:pt x="2275" y="181"/>
                    </a:moveTo>
                    <a:lnTo>
                      <a:pt x="2275" y="182"/>
                    </a:lnTo>
                    <a:lnTo>
                      <a:pt x="2276" y="182"/>
                    </a:lnTo>
                    <a:lnTo>
                      <a:pt x="2277" y="185"/>
                    </a:lnTo>
                    <a:lnTo>
                      <a:pt x="2280" y="187"/>
                    </a:lnTo>
                    <a:lnTo>
                      <a:pt x="2281" y="187"/>
                    </a:lnTo>
                    <a:lnTo>
                      <a:pt x="2282" y="187"/>
                    </a:lnTo>
                    <a:lnTo>
                      <a:pt x="2283" y="187"/>
                    </a:lnTo>
                    <a:lnTo>
                      <a:pt x="2285" y="187"/>
                    </a:lnTo>
                    <a:lnTo>
                      <a:pt x="2287" y="185"/>
                    </a:lnTo>
                    <a:lnTo>
                      <a:pt x="2288" y="182"/>
                    </a:lnTo>
                    <a:lnTo>
                      <a:pt x="2288" y="181"/>
                    </a:lnTo>
                    <a:lnTo>
                      <a:pt x="2288" y="177"/>
                    </a:lnTo>
                    <a:lnTo>
                      <a:pt x="2287" y="176"/>
                    </a:lnTo>
                    <a:lnTo>
                      <a:pt x="2285" y="174"/>
                    </a:lnTo>
                    <a:lnTo>
                      <a:pt x="2282" y="173"/>
                    </a:lnTo>
                    <a:lnTo>
                      <a:pt x="2280" y="174"/>
                    </a:lnTo>
                    <a:lnTo>
                      <a:pt x="2277" y="176"/>
                    </a:lnTo>
                    <a:lnTo>
                      <a:pt x="2276" y="177"/>
                    </a:lnTo>
                    <a:lnTo>
                      <a:pt x="2275" y="178"/>
                    </a:lnTo>
                    <a:lnTo>
                      <a:pt x="2275" y="181"/>
                    </a:lnTo>
                    <a:lnTo>
                      <a:pt x="2275" y="181"/>
                    </a:lnTo>
                    <a:close/>
                    <a:moveTo>
                      <a:pt x="2313" y="181"/>
                    </a:moveTo>
                    <a:lnTo>
                      <a:pt x="2313" y="182"/>
                    </a:lnTo>
                    <a:lnTo>
                      <a:pt x="2315" y="185"/>
                    </a:lnTo>
                    <a:lnTo>
                      <a:pt x="2317" y="187"/>
                    </a:lnTo>
                    <a:lnTo>
                      <a:pt x="2318" y="187"/>
                    </a:lnTo>
                    <a:lnTo>
                      <a:pt x="2320" y="187"/>
                    </a:lnTo>
                    <a:lnTo>
                      <a:pt x="2322" y="187"/>
                    </a:lnTo>
                    <a:lnTo>
                      <a:pt x="2323" y="187"/>
                    </a:lnTo>
                    <a:lnTo>
                      <a:pt x="2325" y="185"/>
                    </a:lnTo>
                    <a:lnTo>
                      <a:pt x="2326" y="182"/>
                    </a:lnTo>
                    <a:lnTo>
                      <a:pt x="2327" y="181"/>
                    </a:lnTo>
                    <a:lnTo>
                      <a:pt x="2326" y="177"/>
                    </a:lnTo>
                    <a:lnTo>
                      <a:pt x="2325" y="176"/>
                    </a:lnTo>
                    <a:lnTo>
                      <a:pt x="2323" y="174"/>
                    </a:lnTo>
                    <a:lnTo>
                      <a:pt x="2320" y="173"/>
                    </a:lnTo>
                    <a:lnTo>
                      <a:pt x="2317" y="174"/>
                    </a:lnTo>
                    <a:lnTo>
                      <a:pt x="2315" y="176"/>
                    </a:lnTo>
                    <a:lnTo>
                      <a:pt x="2313" y="177"/>
                    </a:lnTo>
                    <a:lnTo>
                      <a:pt x="2313" y="181"/>
                    </a:lnTo>
                    <a:lnTo>
                      <a:pt x="2313" y="181"/>
                    </a:lnTo>
                    <a:close/>
                    <a:moveTo>
                      <a:pt x="2352" y="181"/>
                    </a:moveTo>
                    <a:lnTo>
                      <a:pt x="2352" y="182"/>
                    </a:lnTo>
                    <a:lnTo>
                      <a:pt x="2353" y="185"/>
                    </a:lnTo>
                    <a:lnTo>
                      <a:pt x="2356" y="187"/>
                    </a:lnTo>
                    <a:lnTo>
                      <a:pt x="2357" y="187"/>
                    </a:lnTo>
                    <a:lnTo>
                      <a:pt x="2358" y="187"/>
                    </a:lnTo>
                    <a:lnTo>
                      <a:pt x="2360" y="187"/>
                    </a:lnTo>
                    <a:lnTo>
                      <a:pt x="2362" y="187"/>
                    </a:lnTo>
                    <a:lnTo>
                      <a:pt x="2363" y="185"/>
                    </a:lnTo>
                    <a:lnTo>
                      <a:pt x="2365" y="182"/>
                    </a:lnTo>
                    <a:lnTo>
                      <a:pt x="2366" y="181"/>
                    </a:lnTo>
                    <a:lnTo>
                      <a:pt x="2365" y="177"/>
                    </a:lnTo>
                    <a:lnTo>
                      <a:pt x="2363" y="176"/>
                    </a:lnTo>
                    <a:lnTo>
                      <a:pt x="2362" y="174"/>
                    </a:lnTo>
                    <a:lnTo>
                      <a:pt x="2358" y="173"/>
                    </a:lnTo>
                    <a:lnTo>
                      <a:pt x="2356" y="174"/>
                    </a:lnTo>
                    <a:lnTo>
                      <a:pt x="2353" y="176"/>
                    </a:lnTo>
                    <a:lnTo>
                      <a:pt x="2352" y="177"/>
                    </a:lnTo>
                    <a:lnTo>
                      <a:pt x="2352" y="181"/>
                    </a:lnTo>
                    <a:lnTo>
                      <a:pt x="2352" y="181"/>
                    </a:lnTo>
                    <a:close/>
                    <a:moveTo>
                      <a:pt x="2218" y="150"/>
                    </a:moveTo>
                    <a:lnTo>
                      <a:pt x="2218" y="152"/>
                    </a:lnTo>
                    <a:lnTo>
                      <a:pt x="2219" y="153"/>
                    </a:lnTo>
                    <a:lnTo>
                      <a:pt x="2221" y="156"/>
                    </a:lnTo>
                    <a:lnTo>
                      <a:pt x="2223" y="157"/>
                    </a:lnTo>
                    <a:lnTo>
                      <a:pt x="2224" y="158"/>
                    </a:lnTo>
                    <a:lnTo>
                      <a:pt x="2226" y="158"/>
                    </a:lnTo>
                    <a:lnTo>
                      <a:pt x="2227" y="158"/>
                    </a:lnTo>
                    <a:lnTo>
                      <a:pt x="2228" y="157"/>
                    </a:lnTo>
                    <a:lnTo>
                      <a:pt x="2231" y="156"/>
                    </a:lnTo>
                    <a:lnTo>
                      <a:pt x="2232" y="153"/>
                    </a:lnTo>
                    <a:lnTo>
                      <a:pt x="2232" y="150"/>
                    </a:lnTo>
                    <a:lnTo>
                      <a:pt x="2232" y="148"/>
                    </a:lnTo>
                    <a:lnTo>
                      <a:pt x="2231" y="145"/>
                    </a:lnTo>
                    <a:lnTo>
                      <a:pt x="2228" y="144"/>
                    </a:lnTo>
                    <a:lnTo>
                      <a:pt x="2226" y="144"/>
                    </a:lnTo>
                    <a:lnTo>
                      <a:pt x="2223" y="144"/>
                    </a:lnTo>
                    <a:lnTo>
                      <a:pt x="2221" y="145"/>
                    </a:lnTo>
                    <a:lnTo>
                      <a:pt x="2219" y="148"/>
                    </a:lnTo>
                    <a:lnTo>
                      <a:pt x="2218" y="149"/>
                    </a:lnTo>
                    <a:lnTo>
                      <a:pt x="2218" y="150"/>
                    </a:lnTo>
                    <a:lnTo>
                      <a:pt x="2218" y="150"/>
                    </a:lnTo>
                    <a:close/>
                    <a:moveTo>
                      <a:pt x="2257" y="150"/>
                    </a:moveTo>
                    <a:lnTo>
                      <a:pt x="2257" y="152"/>
                    </a:lnTo>
                    <a:lnTo>
                      <a:pt x="2257" y="153"/>
                    </a:lnTo>
                    <a:lnTo>
                      <a:pt x="2259" y="156"/>
                    </a:lnTo>
                    <a:lnTo>
                      <a:pt x="2262" y="157"/>
                    </a:lnTo>
                    <a:lnTo>
                      <a:pt x="2262" y="158"/>
                    </a:lnTo>
                    <a:lnTo>
                      <a:pt x="2263" y="158"/>
                    </a:lnTo>
                    <a:lnTo>
                      <a:pt x="2266" y="158"/>
                    </a:lnTo>
                    <a:lnTo>
                      <a:pt x="2267" y="157"/>
                    </a:lnTo>
                    <a:lnTo>
                      <a:pt x="2268" y="156"/>
                    </a:lnTo>
                    <a:lnTo>
                      <a:pt x="2270" y="153"/>
                    </a:lnTo>
                    <a:lnTo>
                      <a:pt x="2271" y="150"/>
                    </a:lnTo>
                    <a:lnTo>
                      <a:pt x="2270" y="148"/>
                    </a:lnTo>
                    <a:lnTo>
                      <a:pt x="2268" y="145"/>
                    </a:lnTo>
                    <a:lnTo>
                      <a:pt x="2267" y="144"/>
                    </a:lnTo>
                    <a:lnTo>
                      <a:pt x="2263" y="144"/>
                    </a:lnTo>
                    <a:lnTo>
                      <a:pt x="2262" y="144"/>
                    </a:lnTo>
                    <a:lnTo>
                      <a:pt x="2259" y="145"/>
                    </a:lnTo>
                    <a:lnTo>
                      <a:pt x="2257" y="148"/>
                    </a:lnTo>
                    <a:lnTo>
                      <a:pt x="2257" y="149"/>
                    </a:lnTo>
                    <a:lnTo>
                      <a:pt x="2257" y="150"/>
                    </a:lnTo>
                    <a:lnTo>
                      <a:pt x="2257" y="150"/>
                    </a:lnTo>
                    <a:close/>
                    <a:moveTo>
                      <a:pt x="2296" y="150"/>
                    </a:moveTo>
                    <a:lnTo>
                      <a:pt x="2296" y="153"/>
                    </a:lnTo>
                    <a:lnTo>
                      <a:pt x="2297" y="156"/>
                    </a:lnTo>
                    <a:lnTo>
                      <a:pt x="2300" y="157"/>
                    </a:lnTo>
                    <a:lnTo>
                      <a:pt x="2301" y="158"/>
                    </a:lnTo>
                    <a:lnTo>
                      <a:pt x="2302" y="158"/>
                    </a:lnTo>
                    <a:lnTo>
                      <a:pt x="2303" y="158"/>
                    </a:lnTo>
                    <a:lnTo>
                      <a:pt x="2305" y="157"/>
                    </a:lnTo>
                    <a:lnTo>
                      <a:pt x="2307" y="156"/>
                    </a:lnTo>
                    <a:lnTo>
                      <a:pt x="2308" y="153"/>
                    </a:lnTo>
                    <a:lnTo>
                      <a:pt x="2308" y="150"/>
                    </a:lnTo>
                    <a:lnTo>
                      <a:pt x="2308" y="148"/>
                    </a:lnTo>
                    <a:lnTo>
                      <a:pt x="2307" y="145"/>
                    </a:lnTo>
                    <a:lnTo>
                      <a:pt x="2305" y="144"/>
                    </a:lnTo>
                    <a:lnTo>
                      <a:pt x="2302" y="144"/>
                    </a:lnTo>
                    <a:lnTo>
                      <a:pt x="2300" y="144"/>
                    </a:lnTo>
                    <a:lnTo>
                      <a:pt x="2297" y="145"/>
                    </a:lnTo>
                    <a:lnTo>
                      <a:pt x="2296" y="148"/>
                    </a:lnTo>
                    <a:lnTo>
                      <a:pt x="2296" y="150"/>
                    </a:lnTo>
                    <a:lnTo>
                      <a:pt x="2296" y="150"/>
                    </a:lnTo>
                    <a:close/>
                    <a:moveTo>
                      <a:pt x="2333" y="150"/>
                    </a:moveTo>
                    <a:lnTo>
                      <a:pt x="2335" y="153"/>
                    </a:lnTo>
                    <a:lnTo>
                      <a:pt x="2336" y="156"/>
                    </a:lnTo>
                    <a:lnTo>
                      <a:pt x="2337" y="157"/>
                    </a:lnTo>
                    <a:lnTo>
                      <a:pt x="2338" y="158"/>
                    </a:lnTo>
                    <a:lnTo>
                      <a:pt x="2341" y="158"/>
                    </a:lnTo>
                    <a:lnTo>
                      <a:pt x="2342" y="158"/>
                    </a:lnTo>
                    <a:lnTo>
                      <a:pt x="2343" y="157"/>
                    </a:lnTo>
                    <a:lnTo>
                      <a:pt x="2346" y="156"/>
                    </a:lnTo>
                    <a:lnTo>
                      <a:pt x="2347" y="153"/>
                    </a:lnTo>
                    <a:lnTo>
                      <a:pt x="2347" y="150"/>
                    </a:lnTo>
                    <a:lnTo>
                      <a:pt x="2347" y="148"/>
                    </a:lnTo>
                    <a:lnTo>
                      <a:pt x="2346" y="145"/>
                    </a:lnTo>
                    <a:lnTo>
                      <a:pt x="2343" y="144"/>
                    </a:lnTo>
                    <a:lnTo>
                      <a:pt x="2341" y="144"/>
                    </a:lnTo>
                    <a:lnTo>
                      <a:pt x="2337" y="144"/>
                    </a:lnTo>
                    <a:lnTo>
                      <a:pt x="2336" y="145"/>
                    </a:lnTo>
                    <a:lnTo>
                      <a:pt x="2335" y="148"/>
                    </a:lnTo>
                    <a:lnTo>
                      <a:pt x="2333" y="150"/>
                    </a:lnTo>
                    <a:lnTo>
                      <a:pt x="2333" y="150"/>
                    </a:lnTo>
                    <a:close/>
                    <a:moveTo>
                      <a:pt x="2372" y="150"/>
                    </a:moveTo>
                    <a:lnTo>
                      <a:pt x="2372" y="153"/>
                    </a:lnTo>
                    <a:lnTo>
                      <a:pt x="2373" y="156"/>
                    </a:lnTo>
                    <a:lnTo>
                      <a:pt x="2376" y="157"/>
                    </a:lnTo>
                    <a:lnTo>
                      <a:pt x="2377" y="158"/>
                    </a:lnTo>
                    <a:lnTo>
                      <a:pt x="2379" y="158"/>
                    </a:lnTo>
                    <a:lnTo>
                      <a:pt x="2380" y="158"/>
                    </a:lnTo>
                    <a:lnTo>
                      <a:pt x="2381" y="157"/>
                    </a:lnTo>
                    <a:lnTo>
                      <a:pt x="2384" y="156"/>
                    </a:lnTo>
                    <a:lnTo>
                      <a:pt x="2385" y="153"/>
                    </a:lnTo>
                    <a:lnTo>
                      <a:pt x="2386" y="152"/>
                    </a:lnTo>
                    <a:lnTo>
                      <a:pt x="2386" y="150"/>
                    </a:lnTo>
                    <a:lnTo>
                      <a:pt x="2386" y="149"/>
                    </a:lnTo>
                    <a:lnTo>
                      <a:pt x="2385" y="148"/>
                    </a:lnTo>
                    <a:lnTo>
                      <a:pt x="2384" y="145"/>
                    </a:lnTo>
                    <a:lnTo>
                      <a:pt x="2381" y="144"/>
                    </a:lnTo>
                    <a:lnTo>
                      <a:pt x="2379" y="144"/>
                    </a:lnTo>
                    <a:lnTo>
                      <a:pt x="2376" y="144"/>
                    </a:lnTo>
                    <a:lnTo>
                      <a:pt x="2373" y="145"/>
                    </a:lnTo>
                    <a:lnTo>
                      <a:pt x="2372" y="148"/>
                    </a:lnTo>
                    <a:lnTo>
                      <a:pt x="2372" y="150"/>
                    </a:lnTo>
                    <a:lnTo>
                      <a:pt x="2372" y="150"/>
                    </a:lnTo>
                    <a:close/>
                    <a:moveTo>
                      <a:pt x="2198" y="119"/>
                    </a:moveTo>
                    <a:lnTo>
                      <a:pt x="2198" y="120"/>
                    </a:lnTo>
                    <a:lnTo>
                      <a:pt x="2198" y="121"/>
                    </a:lnTo>
                    <a:lnTo>
                      <a:pt x="2201" y="124"/>
                    </a:lnTo>
                    <a:lnTo>
                      <a:pt x="2203" y="125"/>
                    </a:lnTo>
                    <a:lnTo>
                      <a:pt x="2204" y="125"/>
                    </a:lnTo>
                    <a:lnTo>
                      <a:pt x="2208" y="125"/>
                    </a:lnTo>
                    <a:lnTo>
                      <a:pt x="2211" y="124"/>
                    </a:lnTo>
                    <a:lnTo>
                      <a:pt x="2212" y="123"/>
                    </a:lnTo>
                    <a:lnTo>
                      <a:pt x="2213" y="121"/>
                    </a:lnTo>
                    <a:lnTo>
                      <a:pt x="2213" y="120"/>
                    </a:lnTo>
                    <a:lnTo>
                      <a:pt x="2214" y="119"/>
                    </a:lnTo>
                    <a:lnTo>
                      <a:pt x="2213" y="118"/>
                    </a:lnTo>
                    <a:lnTo>
                      <a:pt x="2213" y="116"/>
                    </a:lnTo>
                    <a:lnTo>
                      <a:pt x="2212" y="116"/>
                    </a:lnTo>
                    <a:lnTo>
                      <a:pt x="2211" y="115"/>
                    </a:lnTo>
                    <a:lnTo>
                      <a:pt x="2208" y="113"/>
                    </a:lnTo>
                    <a:lnTo>
                      <a:pt x="2207" y="113"/>
                    </a:lnTo>
                    <a:lnTo>
                      <a:pt x="2204" y="113"/>
                    </a:lnTo>
                    <a:lnTo>
                      <a:pt x="2204" y="113"/>
                    </a:lnTo>
                    <a:lnTo>
                      <a:pt x="2203" y="113"/>
                    </a:lnTo>
                    <a:lnTo>
                      <a:pt x="2201" y="115"/>
                    </a:lnTo>
                    <a:lnTo>
                      <a:pt x="2198" y="116"/>
                    </a:lnTo>
                    <a:lnTo>
                      <a:pt x="2198" y="118"/>
                    </a:lnTo>
                    <a:lnTo>
                      <a:pt x="2198" y="119"/>
                    </a:lnTo>
                    <a:lnTo>
                      <a:pt x="2198" y="119"/>
                    </a:lnTo>
                    <a:close/>
                    <a:moveTo>
                      <a:pt x="2237" y="119"/>
                    </a:moveTo>
                    <a:lnTo>
                      <a:pt x="2237" y="120"/>
                    </a:lnTo>
                    <a:lnTo>
                      <a:pt x="2237" y="121"/>
                    </a:lnTo>
                    <a:lnTo>
                      <a:pt x="2239" y="124"/>
                    </a:lnTo>
                    <a:lnTo>
                      <a:pt x="2241" y="125"/>
                    </a:lnTo>
                    <a:lnTo>
                      <a:pt x="2243" y="125"/>
                    </a:lnTo>
                    <a:lnTo>
                      <a:pt x="2246" y="125"/>
                    </a:lnTo>
                    <a:lnTo>
                      <a:pt x="2248" y="124"/>
                    </a:lnTo>
                    <a:lnTo>
                      <a:pt x="2249" y="121"/>
                    </a:lnTo>
                    <a:lnTo>
                      <a:pt x="2249" y="119"/>
                    </a:lnTo>
                    <a:lnTo>
                      <a:pt x="2249" y="116"/>
                    </a:lnTo>
                    <a:lnTo>
                      <a:pt x="2248" y="115"/>
                    </a:lnTo>
                    <a:lnTo>
                      <a:pt x="2246" y="113"/>
                    </a:lnTo>
                    <a:lnTo>
                      <a:pt x="2244" y="113"/>
                    </a:lnTo>
                    <a:lnTo>
                      <a:pt x="2243" y="113"/>
                    </a:lnTo>
                    <a:lnTo>
                      <a:pt x="2242" y="113"/>
                    </a:lnTo>
                    <a:lnTo>
                      <a:pt x="2241" y="113"/>
                    </a:lnTo>
                    <a:lnTo>
                      <a:pt x="2239" y="115"/>
                    </a:lnTo>
                    <a:lnTo>
                      <a:pt x="2237" y="116"/>
                    </a:lnTo>
                    <a:lnTo>
                      <a:pt x="2237" y="118"/>
                    </a:lnTo>
                    <a:lnTo>
                      <a:pt x="2237" y="119"/>
                    </a:lnTo>
                    <a:lnTo>
                      <a:pt x="2237" y="119"/>
                    </a:lnTo>
                    <a:close/>
                    <a:moveTo>
                      <a:pt x="2275" y="119"/>
                    </a:moveTo>
                    <a:lnTo>
                      <a:pt x="2275" y="120"/>
                    </a:lnTo>
                    <a:lnTo>
                      <a:pt x="2276" y="121"/>
                    </a:lnTo>
                    <a:lnTo>
                      <a:pt x="2277" y="124"/>
                    </a:lnTo>
                    <a:lnTo>
                      <a:pt x="2280" y="125"/>
                    </a:lnTo>
                    <a:lnTo>
                      <a:pt x="2282" y="125"/>
                    </a:lnTo>
                    <a:lnTo>
                      <a:pt x="2285" y="125"/>
                    </a:lnTo>
                    <a:lnTo>
                      <a:pt x="2287" y="124"/>
                    </a:lnTo>
                    <a:lnTo>
                      <a:pt x="2288" y="121"/>
                    </a:lnTo>
                    <a:lnTo>
                      <a:pt x="2288" y="119"/>
                    </a:lnTo>
                    <a:lnTo>
                      <a:pt x="2288" y="116"/>
                    </a:lnTo>
                    <a:lnTo>
                      <a:pt x="2287" y="115"/>
                    </a:lnTo>
                    <a:lnTo>
                      <a:pt x="2285" y="113"/>
                    </a:lnTo>
                    <a:lnTo>
                      <a:pt x="2283" y="113"/>
                    </a:lnTo>
                    <a:lnTo>
                      <a:pt x="2282" y="113"/>
                    </a:lnTo>
                    <a:lnTo>
                      <a:pt x="2281" y="113"/>
                    </a:lnTo>
                    <a:lnTo>
                      <a:pt x="2280" y="113"/>
                    </a:lnTo>
                    <a:lnTo>
                      <a:pt x="2277" y="115"/>
                    </a:lnTo>
                    <a:lnTo>
                      <a:pt x="2276" y="116"/>
                    </a:lnTo>
                    <a:lnTo>
                      <a:pt x="2275" y="118"/>
                    </a:lnTo>
                    <a:lnTo>
                      <a:pt x="2275" y="119"/>
                    </a:lnTo>
                    <a:lnTo>
                      <a:pt x="2275" y="119"/>
                    </a:lnTo>
                    <a:close/>
                    <a:moveTo>
                      <a:pt x="2313" y="119"/>
                    </a:moveTo>
                    <a:lnTo>
                      <a:pt x="2313" y="121"/>
                    </a:lnTo>
                    <a:lnTo>
                      <a:pt x="2315" y="124"/>
                    </a:lnTo>
                    <a:lnTo>
                      <a:pt x="2317" y="125"/>
                    </a:lnTo>
                    <a:lnTo>
                      <a:pt x="2320" y="125"/>
                    </a:lnTo>
                    <a:lnTo>
                      <a:pt x="2323" y="125"/>
                    </a:lnTo>
                    <a:lnTo>
                      <a:pt x="2325" y="124"/>
                    </a:lnTo>
                    <a:lnTo>
                      <a:pt x="2326" y="121"/>
                    </a:lnTo>
                    <a:lnTo>
                      <a:pt x="2327" y="119"/>
                    </a:lnTo>
                    <a:lnTo>
                      <a:pt x="2326" y="116"/>
                    </a:lnTo>
                    <a:lnTo>
                      <a:pt x="2325" y="115"/>
                    </a:lnTo>
                    <a:lnTo>
                      <a:pt x="2323" y="113"/>
                    </a:lnTo>
                    <a:lnTo>
                      <a:pt x="2322" y="113"/>
                    </a:lnTo>
                    <a:lnTo>
                      <a:pt x="2320" y="113"/>
                    </a:lnTo>
                    <a:lnTo>
                      <a:pt x="2318" y="113"/>
                    </a:lnTo>
                    <a:lnTo>
                      <a:pt x="2317" y="113"/>
                    </a:lnTo>
                    <a:lnTo>
                      <a:pt x="2315" y="115"/>
                    </a:lnTo>
                    <a:lnTo>
                      <a:pt x="2313" y="116"/>
                    </a:lnTo>
                    <a:lnTo>
                      <a:pt x="2313" y="119"/>
                    </a:lnTo>
                    <a:lnTo>
                      <a:pt x="2313" y="119"/>
                    </a:lnTo>
                    <a:close/>
                    <a:moveTo>
                      <a:pt x="2352" y="119"/>
                    </a:moveTo>
                    <a:lnTo>
                      <a:pt x="2352" y="121"/>
                    </a:lnTo>
                    <a:lnTo>
                      <a:pt x="2353" y="124"/>
                    </a:lnTo>
                    <a:lnTo>
                      <a:pt x="2356" y="125"/>
                    </a:lnTo>
                    <a:lnTo>
                      <a:pt x="2358" y="125"/>
                    </a:lnTo>
                    <a:lnTo>
                      <a:pt x="2362" y="125"/>
                    </a:lnTo>
                    <a:lnTo>
                      <a:pt x="2363" y="124"/>
                    </a:lnTo>
                    <a:lnTo>
                      <a:pt x="2365" y="121"/>
                    </a:lnTo>
                    <a:lnTo>
                      <a:pt x="2366" y="119"/>
                    </a:lnTo>
                    <a:lnTo>
                      <a:pt x="2365" y="116"/>
                    </a:lnTo>
                    <a:lnTo>
                      <a:pt x="2363" y="115"/>
                    </a:lnTo>
                    <a:lnTo>
                      <a:pt x="2362" y="113"/>
                    </a:lnTo>
                    <a:lnTo>
                      <a:pt x="2360" y="113"/>
                    </a:lnTo>
                    <a:lnTo>
                      <a:pt x="2358" y="113"/>
                    </a:lnTo>
                    <a:lnTo>
                      <a:pt x="2357" y="113"/>
                    </a:lnTo>
                    <a:lnTo>
                      <a:pt x="2356" y="113"/>
                    </a:lnTo>
                    <a:lnTo>
                      <a:pt x="2353" y="115"/>
                    </a:lnTo>
                    <a:lnTo>
                      <a:pt x="2352" y="116"/>
                    </a:lnTo>
                    <a:lnTo>
                      <a:pt x="2352" y="119"/>
                    </a:lnTo>
                    <a:lnTo>
                      <a:pt x="2352" y="119"/>
                    </a:lnTo>
                    <a:close/>
                    <a:moveTo>
                      <a:pt x="2460" y="135"/>
                    </a:moveTo>
                    <a:lnTo>
                      <a:pt x="2457" y="135"/>
                    </a:lnTo>
                    <a:lnTo>
                      <a:pt x="2455" y="137"/>
                    </a:lnTo>
                    <a:lnTo>
                      <a:pt x="2454" y="138"/>
                    </a:lnTo>
                    <a:lnTo>
                      <a:pt x="2451" y="139"/>
                    </a:lnTo>
                    <a:lnTo>
                      <a:pt x="2450" y="142"/>
                    </a:lnTo>
                    <a:lnTo>
                      <a:pt x="2449" y="144"/>
                    </a:lnTo>
                    <a:lnTo>
                      <a:pt x="2447" y="148"/>
                    </a:lnTo>
                    <a:lnTo>
                      <a:pt x="2447" y="150"/>
                    </a:lnTo>
                    <a:lnTo>
                      <a:pt x="2447" y="153"/>
                    </a:lnTo>
                    <a:lnTo>
                      <a:pt x="2449" y="156"/>
                    </a:lnTo>
                    <a:lnTo>
                      <a:pt x="2450" y="158"/>
                    </a:lnTo>
                    <a:lnTo>
                      <a:pt x="2451" y="161"/>
                    </a:lnTo>
                    <a:lnTo>
                      <a:pt x="2454" y="162"/>
                    </a:lnTo>
                    <a:lnTo>
                      <a:pt x="2455" y="163"/>
                    </a:lnTo>
                    <a:lnTo>
                      <a:pt x="2457" y="164"/>
                    </a:lnTo>
                    <a:lnTo>
                      <a:pt x="2460" y="164"/>
                    </a:lnTo>
                    <a:lnTo>
                      <a:pt x="2464" y="164"/>
                    </a:lnTo>
                    <a:lnTo>
                      <a:pt x="2466" y="163"/>
                    </a:lnTo>
                    <a:lnTo>
                      <a:pt x="2470" y="162"/>
                    </a:lnTo>
                    <a:lnTo>
                      <a:pt x="2471" y="161"/>
                    </a:lnTo>
                    <a:lnTo>
                      <a:pt x="2474" y="158"/>
                    </a:lnTo>
                    <a:lnTo>
                      <a:pt x="2475" y="156"/>
                    </a:lnTo>
                    <a:lnTo>
                      <a:pt x="2476" y="153"/>
                    </a:lnTo>
                    <a:lnTo>
                      <a:pt x="2476" y="150"/>
                    </a:lnTo>
                    <a:lnTo>
                      <a:pt x="2476" y="148"/>
                    </a:lnTo>
                    <a:lnTo>
                      <a:pt x="2475" y="144"/>
                    </a:lnTo>
                    <a:lnTo>
                      <a:pt x="2474" y="142"/>
                    </a:lnTo>
                    <a:lnTo>
                      <a:pt x="2471" y="139"/>
                    </a:lnTo>
                    <a:lnTo>
                      <a:pt x="2470" y="138"/>
                    </a:lnTo>
                    <a:lnTo>
                      <a:pt x="2466" y="137"/>
                    </a:lnTo>
                    <a:lnTo>
                      <a:pt x="2464" y="135"/>
                    </a:lnTo>
                    <a:lnTo>
                      <a:pt x="2460" y="135"/>
                    </a:lnTo>
                    <a:lnTo>
                      <a:pt x="246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684400" y="4556880"/>
                <a:ext cx="311400" cy="49320"/>
              </a:xfrm>
              <a:custGeom>
                <a:avLst/>
                <a:gdLst/>
                <a:ahLst/>
                <a:rect l="l" t="t" r="r" b="b"/>
                <a:pathLst>
                  <a:path w="396" h="62">
                    <a:moveTo>
                      <a:pt x="60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60" y="62"/>
                    </a:lnTo>
                    <a:lnTo>
                      <a:pt x="160" y="61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8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  <a:moveTo>
                      <a:pt x="293" y="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4" y="1"/>
                    </a:lnTo>
                    <a:lnTo>
                      <a:pt x="233" y="3"/>
                    </a:lnTo>
                    <a:lnTo>
                      <a:pt x="233" y="5"/>
                    </a:lnTo>
                    <a:lnTo>
                      <a:pt x="233" y="5"/>
                    </a:lnTo>
                    <a:lnTo>
                      <a:pt x="233" y="59"/>
                    </a:lnTo>
                    <a:lnTo>
                      <a:pt x="233" y="61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391" y="62"/>
                    </a:lnTo>
                    <a:lnTo>
                      <a:pt x="392" y="62"/>
                    </a:lnTo>
                    <a:lnTo>
                      <a:pt x="394" y="62"/>
                    </a:lnTo>
                    <a:lnTo>
                      <a:pt x="394" y="61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"/>
                    </a:lnTo>
                    <a:lnTo>
                      <a:pt x="394" y="3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691240" y="4566960"/>
                <a:ext cx="295200" cy="12240"/>
              </a:xfrm>
              <a:custGeom>
                <a:avLst/>
                <a:gdLst/>
                <a:ahLst/>
                <a:rect l="l" t="t" r="r" b="b"/>
                <a:pathLst>
                  <a:path w="376" h="17">
                    <a:moveTo>
                      <a:pt x="143" y="17"/>
                    </a:moveTo>
                    <a:lnTo>
                      <a:pt x="14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3" y="17"/>
                    </a:lnTo>
                    <a:close/>
                    <a:moveTo>
                      <a:pt x="376" y="17"/>
                    </a:moveTo>
                    <a:lnTo>
                      <a:pt x="376" y="0"/>
                    </a:lnTo>
                    <a:lnTo>
                      <a:pt x="236" y="0"/>
                    </a:lnTo>
                    <a:lnTo>
                      <a:pt x="236" y="17"/>
                    </a:lnTo>
                    <a:lnTo>
                      <a:pt x="376" y="17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691240" y="4566960"/>
                <a:ext cx="112680" cy="1224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875920" y="4566960"/>
                <a:ext cx="110160" cy="1224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4218120" y="4372560"/>
                <a:ext cx="2341800" cy="273240"/>
              </a:xfrm>
              <a:custGeom>
                <a:avLst/>
                <a:gdLst/>
                <a:ahLst/>
                <a:rect l="l" t="t" r="r" b="b"/>
                <a:pathLst>
                  <a:path w="2983" h="337">
                    <a:moveTo>
                      <a:pt x="2974" y="259"/>
                    </a:moveTo>
                    <a:lnTo>
                      <a:pt x="2983" y="259"/>
                    </a:lnTo>
                    <a:lnTo>
                      <a:pt x="2983" y="221"/>
                    </a:lnTo>
                    <a:lnTo>
                      <a:pt x="2947" y="221"/>
                    </a:lnTo>
                    <a:lnTo>
                      <a:pt x="2947" y="195"/>
                    </a:lnTo>
                    <a:lnTo>
                      <a:pt x="2931" y="195"/>
                    </a:lnTo>
                    <a:lnTo>
                      <a:pt x="2931" y="184"/>
                    </a:lnTo>
                    <a:lnTo>
                      <a:pt x="2870" y="184"/>
                    </a:lnTo>
                    <a:lnTo>
                      <a:pt x="2870" y="195"/>
                    </a:lnTo>
                    <a:lnTo>
                      <a:pt x="2854" y="195"/>
                    </a:lnTo>
                    <a:lnTo>
                      <a:pt x="2854" y="221"/>
                    </a:lnTo>
                    <a:lnTo>
                      <a:pt x="2817" y="221"/>
                    </a:lnTo>
                    <a:lnTo>
                      <a:pt x="2817" y="259"/>
                    </a:lnTo>
                    <a:lnTo>
                      <a:pt x="2827" y="259"/>
                    </a:lnTo>
                    <a:lnTo>
                      <a:pt x="2827" y="284"/>
                    </a:lnTo>
                    <a:lnTo>
                      <a:pt x="2817" y="284"/>
                    </a:lnTo>
                    <a:lnTo>
                      <a:pt x="2817" y="323"/>
                    </a:lnTo>
                    <a:lnTo>
                      <a:pt x="2983" y="323"/>
                    </a:lnTo>
                    <a:lnTo>
                      <a:pt x="2983" y="284"/>
                    </a:lnTo>
                    <a:lnTo>
                      <a:pt x="2974" y="284"/>
                    </a:lnTo>
                    <a:lnTo>
                      <a:pt x="2974" y="259"/>
                    </a:lnTo>
                    <a:close/>
                    <a:moveTo>
                      <a:pt x="157" y="264"/>
                    </a:moveTo>
                    <a:lnTo>
                      <a:pt x="167" y="264"/>
                    </a:lnTo>
                    <a:lnTo>
                      <a:pt x="167" y="300"/>
                    </a:lnTo>
                    <a:lnTo>
                      <a:pt x="131" y="300"/>
                    </a:lnTo>
                    <a:lnTo>
                      <a:pt x="131" y="326"/>
                    </a:lnTo>
                    <a:lnTo>
                      <a:pt x="115" y="326"/>
                    </a:lnTo>
                    <a:lnTo>
                      <a:pt x="115" y="337"/>
                    </a:lnTo>
                    <a:lnTo>
                      <a:pt x="52" y="337"/>
                    </a:lnTo>
                    <a:lnTo>
                      <a:pt x="52" y="326"/>
                    </a:lnTo>
                    <a:lnTo>
                      <a:pt x="36" y="326"/>
                    </a:lnTo>
                    <a:lnTo>
                      <a:pt x="36" y="300"/>
                    </a:lnTo>
                    <a:lnTo>
                      <a:pt x="0" y="300"/>
                    </a:lnTo>
                    <a:lnTo>
                      <a:pt x="2" y="264"/>
                    </a:lnTo>
                    <a:lnTo>
                      <a:pt x="8" y="264"/>
                    </a:lnTo>
                    <a:lnTo>
                      <a:pt x="8" y="236"/>
                    </a:lnTo>
                    <a:lnTo>
                      <a:pt x="2" y="236"/>
                    </a:lnTo>
                    <a:lnTo>
                      <a:pt x="2" y="198"/>
                    </a:lnTo>
                    <a:lnTo>
                      <a:pt x="167" y="198"/>
                    </a:lnTo>
                    <a:lnTo>
                      <a:pt x="167" y="236"/>
                    </a:lnTo>
                    <a:lnTo>
                      <a:pt x="157" y="236"/>
                    </a:lnTo>
                    <a:lnTo>
                      <a:pt x="157" y="264"/>
                    </a:lnTo>
                    <a:close/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430320" y="4522320"/>
                <a:ext cx="129600" cy="111240"/>
              </a:xfrm>
              <a:custGeom>
                <a:avLst/>
                <a:gdLst/>
                <a:ahLst/>
                <a:rect l="l" t="t" r="r" b="b"/>
                <a:pathLst>
                  <a:path w="166" h="139">
                    <a:moveTo>
                      <a:pt x="157" y="75"/>
                    </a:moveTo>
                    <a:lnTo>
                      <a:pt x="166" y="75"/>
                    </a:lnTo>
                    <a:lnTo>
                      <a:pt x="166" y="37"/>
                    </a:lnTo>
                    <a:lnTo>
                      <a:pt x="130" y="37"/>
                    </a:lnTo>
                    <a:lnTo>
                      <a:pt x="130" y="11"/>
                    </a:lnTo>
                    <a:lnTo>
                      <a:pt x="114" y="11"/>
                    </a:lnTo>
                    <a:lnTo>
                      <a:pt x="114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37" y="1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100"/>
                    </a:lnTo>
                    <a:lnTo>
                      <a:pt x="0" y="100"/>
                    </a:lnTo>
                    <a:lnTo>
                      <a:pt x="0" y="139"/>
                    </a:lnTo>
                    <a:lnTo>
                      <a:pt x="166" y="139"/>
                    </a:lnTo>
                    <a:lnTo>
                      <a:pt x="166" y="100"/>
                    </a:lnTo>
                    <a:lnTo>
                      <a:pt x="157" y="100"/>
                    </a:lnTo>
                    <a:lnTo>
                      <a:pt x="157" y="75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4218120" y="4532040"/>
                <a:ext cx="132480" cy="11376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66"/>
                    </a:moveTo>
                    <a:lnTo>
                      <a:pt x="167" y="66"/>
                    </a:lnTo>
                    <a:lnTo>
                      <a:pt x="167" y="102"/>
                    </a:lnTo>
                    <a:lnTo>
                      <a:pt x="131" y="102"/>
                    </a:lnTo>
                    <a:lnTo>
                      <a:pt x="131" y="128"/>
                    </a:lnTo>
                    <a:lnTo>
                      <a:pt x="115" y="128"/>
                    </a:lnTo>
                    <a:lnTo>
                      <a:pt x="115" y="139"/>
                    </a:lnTo>
                    <a:lnTo>
                      <a:pt x="52" y="139"/>
                    </a:lnTo>
                    <a:lnTo>
                      <a:pt x="52" y="128"/>
                    </a:lnTo>
                    <a:lnTo>
                      <a:pt x="36" y="128"/>
                    </a:lnTo>
                    <a:lnTo>
                      <a:pt x="36" y="102"/>
                    </a:lnTo>
                    <a:lnTo>
                      <a:pt x="0" y="102"/>
                    </a:lnTo>
                    <a:lnTo>
                      <a:pt x="2" y="66"/>
                    </a:lnTo>
                    <a:lnTo>
                      <a:pt x="8" y="66"/>
                    </a:lnTo>
                    <a:lnTo>
                      <a:pt x="8" y="38"/>
                    </a:lnTo>
                    <a:lnTo>
                      <a:pt x="2" y="38"/>
                    </a:lnTo>
                    <a:lnTo>
                      <a:pt x="2" y="0"/>
                    </a:lnTo>
                    <a:lnTo>
                      <a:pt x="167" y="0"/>
                    </a:lnTo>
                    <a:lnTo>
                      <a:pt x="167" y="38"/>
                    </a:lnTo>
                    <a:lnTo>
                      <a:pt x="157" y="38"/>
                    </a:lnTo>
                    <a:lnTo>
                      <a:pt x="157" y="66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4218120" y="4372560"/>
                <a:ext cx="132480" cy="11232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4218120" y="4387320"/>
                <a:ext cx="2344680" cy="240840"/>
              </a:xfrm>
              <a:custGeom>
                <a:avLst/>
                <a:gdLst/>
                <a:ahLst/>
                <a:rect l="l" t="t" r="r" b="b"/>
                <a:pathLst>
                  <a:path w="2985" h="301">
                    <a:moveTo>
                      <a:pt x="36" y="301"/>
                    </a:moveTo>
                    <a:lnTo>
                      <a:pt x="0" y="301"/>
                    </a:lnTo>
                    <a:lnTo>
                      <a:pt x="0" y="290"/>
                    </a:lnTo>
                    <a:lnTo>
                      <a:pt x="36" y="290"/>
                    </a:lnTo>
                    <a:lnTo>
                      <a:pt x="36" y="301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67" y="301"/>
                    </a:moveTo>
                    <a:lnTo>
                      <a:pt x="134" y="301"/>
                    </a:lnTo>
                    <a:lnTo>
                      <a:pt x="134" y="290"/>
                    </a:lnTo>
                    <a:lnTo>
                      <a:pt x="167" y="290"/>
                    </a:lnTo>
                    <a:lnTo>
                      <a:pt x="167" y="301"/>
                    </a:lnTo>
                    <a:close/>
                    <a:moveTo>
                      <a:pt x="167" y="0"/>
                    </a:moveTo>
                    <a:lnTo>
                      <a:pt x="134" y="0"/>
                    </a:lnTo>
                    <a:lnTo>
                      <a:pt x="134" y="12"/>
                    </a:lnTo>
                    <a:lnTo>
                      <a:pt x="167" y="12"/>
                    </a:lnTo>
                    <a:lnTo>
                      <a:pt x="167" y="0"/>
                    </a:lnTo>
                    <a:close/>
                    <a:moveTo>
                      <a:pt x="2985" y="185"/>
                    </a:moveTo>
                    <a:lnTo>
                      <a:pt x="2949" y="185"/>
                    </a:lnTo>
                    <a:lnTo>
                      <a:pt x="2949" y="199"/>
                    </a:lnTo>
                    <a:lnTo>
                      <a:pt x="2985" y="199"/>
                    </a:lnTo>
                    <a:lnTo>
                      <a:pt x="2985" y="185"/>
                    </a:lnTo>
                    <a:close/>
                  </a:path>
                </a:pathLst>
              </a:custGeom>
              <a:solidFill>
                <a:srgbClr val="829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4218120" y="4621320"/>
                <a:ext cx="28800" cy="72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4218120" y="4387320"/>
                <a:ext cx="28800" cy="9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4322880" y="4621320"/>
                <a:ext cx="27720" cy="72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4322880" y="4387320"/>
                <a:ext cx="27720" cy="9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533640" y="4536000"/>
                <a:ext cx="28800" cy="108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3681720" y="3868560"/>
                <a:ext cx="3269880" cy="430560"/>
              </a:xfrm>
              <a:custGeom>
                <a:avLst/>
                <a:gdLst/>
                <a:ahLst/>
                <a:rect l="l" t="t" r="r" b="b"/>
                <a:pathLst>
                  <a:path w="4168" h="534">
                    <a:moveTo>
                      <a:pt x="4168" y="499"/>
                    </a:moveTo>
                    <a:lnTo>
                      <a:pt x="4168" y="495"/>
                    </a:lnTo>
                    <a:lnTo>
                      <a:pt x="4168" y="492"/>
                    </a:lnTo>
                    <a:lnTo>
                      <a:pt x="4167" y="488"/>
                    </a:lnTo>
                    <a:lnTo>
                      <a:pt x="4165" y="485"/>
                    </a:lnTo>
                    <a:lnTo>
                      <a:pt x="4163" y="478"/>
                    </a:lnTo>
                    <a:lnTo>
                      <a:pt x="4158" y="473"/>
                    </a:lnTo>
                    <a:lnTo>
                      <a:pt x="4153" y="468"/>
                    </a:lnTo>
                    <a:lnTo>
                      <a:pt x="4146" y="466"/>
                    </a:lnTo>
                    <a:lnTo>
                      <a:pt x="4143" y="464"/>
                    </a:lnTo>
                    <a:lnTo>
                      <a:pt x="4139" y="463"/>
                    </a:lnTo>
                    <a:lnTo>
                      <a:pt x="4136" y="463"/>
                    </a:lnTo>
                    <a:lnTo>
                      <a:pt x="4133" y="463"/>
                    </a:lnTo>
                    <a:lnTo>
                      <a:pt x="4129" y="463"/>
                    </a:lnTo>
                    <a:lnTo>
                      <a:pt x="4125" y="463"/>
                    </a:lnTo>
                    <a:lnTo>
                      <a:pt x="4123" y="464"/>
                    </a:lnTo>
                    <a:lnTo>
                      <a:pt x="4119" y="466"/>
                    </a:lnTo>
                    <a:lnTo>
                      <a:pt x="4114" y="468"/>
                    </a:lnTo>
                    <a:lnTo>
                      <a:pt x="4109" y="473"/>
                    </a:lnTo>
                    <a:lnTo>
                      <a:pt x="4104" y="478"/>
                    </a:lnTo>
                    <a:lnTo>
                      <a:pt x="4101" y="485"/>
                    </a:lnTo>
                    <a:lnTo>
                      <a:pt x="4100" y="488"/>
                    </a:lnTo>
                    <a:lnTo>
                      <a:pt x="4099" y="492"/>
                    </a:lnTo>
                    <a:lnTo>
                      <a:pt x="4099" y="495"/>
                    </a:lnTo>
                    <a:lnTo>
                      <a:pt x="4098" y="499"/>
                    </a:lnTo>
                    <a:lnTo>
                      <a:pt x="4099" y="502"/>
                    </a:lnTo>
                    <a:lnTo>
                      <a:pt x="4099" y="506"/>
                    </a:lnTo>
                    <a:lnTo>
                      <a:pt x="4100" y="509"/>
                    </a:lnTo>
                    <a:lnTo>
                      <a:pt x="4101" y="512"/>
                    </a:lnTo>
                    <a:lnTo>
                      <a:pt x="4104" y="517"/>
                    </a:lnTo>
                    <a:lnTo>
                      <a:pt x="4109" y="523"/>
                    </a:lnTo>
                    <a:lnTo>
                      <a:pt x="4114" y="528"/>
                    </a:lnTo>
                    <a:lnTo>
                      <a:pt x="4119" y="530"/>
                    </a:lnTo>
                    <a:lnTo>
                      <a:pt x="4123" y="531"/>
                    </a:lnTo>
                    <a:lnTo>
                      <a:pt x="4125" y="533"/>
                    </a:lnTo>
                    <a:lnTo>
                      <a:pt x="4129" y="533"/>
                    </a:lnTo>
                    <a:lnTo>
                      <a:pt x="4133" y="534"/>
                    </a:lnTo>
                    <a:lnTo>
                      <a:pt x="4136" y="533"/>
                    </a:lnTo>
                    <a:lnTo>
                      <a:pt x="4139" y="533"/>
                    </a:lnTo>
                    <a:lnTo>
                      <a:pt x="4143" y="531"/>
                    </a:lnTo>
                    <a:lnTo>
                      <a:pt x="4146" y="530"/>
                    </a:lnTo>
                    <a:lnTo>
                      <a:pt x="4153" y="528"/>
                    </a:lnTo>
                    <a:lnTo>
                      <a:pt x="4158" y="523"/>
                    </a:lnTo>
                    <a:lnTo>
                      <a:pt x="4163" y="517"/>
                    </a:lnTo>
                    <a:lnTo>
                      <a:pt x="4165" y="512"/>
                    </a:lnTo>
                    <a:lnTo>
                      <a:pt x="4167" y="509"/>
                    </a:lnTo>
                    <a:lnTo>
                      <a:pt x="4168" y="506"/>
                    </a:lnTo>
                    <a:lnTo>
                      <a:pt x="4168" y="502"/>
                    </a:lnTo>
                    <a:lnTo>
                      <a:pt x="4168" y="499"/>
                    </a:lnTo>
                    <a:lnTo>
                      <a:pt x="4168" y="499"/>
                    </a:lnTo>
                    <a:close/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896520" y="4243680"/>
                <a:ext cx="54720" cy="5544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6"/>
                    </a:moveTo>
                    <a:lnTo>
                      <a:pt x="70" y="32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7" y="22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3" y="49"/>
                    </a:lnTo>
                    <a:lnTo>
                      <a:pt x="6" y="54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1" y="67"/>
                    </a:lnTo>
                    <a:lnTo>
                      <a:pt x="25" y="68"/>
                    </a:lnTo>
                    <a:lnTo>
                      <a:pt x="27" y="70"/>
                    </a:lnTo>
                    <a:lnTo>
                      <a:pt x="31" y="70"/>
                    </a:lnTo>
                    <a:lnTo>
                      <a:pt x="35" y="71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5" y="68"/>
                    </a:lnTo>
                    <a:lnTo>
                      <a:pt x="48" y="67"/>
                    </a:lnTo>
                    <a:lnTo>
                      <a:pt x="55" y="65"/>
                    </a:lnTo>
                    <a:lnTo>
                      <a:pt x="60" y="60"/>
                    </a:lnTo>
                    <a:lnTo>
                      <a:pt x="65" y="54"/>
                    </a:lnTo>
                    <a:lnTo>
                      <a:pt x="67" y="49"/>
                    </a:lnTo>
                    <a:lnTo>
                      <a:pt x="69" y="46"/>
                    </a:lnTo>
                    <a:lnTo>
                      <a:pt x="70" y="43"/>
                    </a:lnTo>
                    <a:lnTo>
                      <a:pt x="70" y="39"/>
                    </a:lnTo>
                    <a:lnTo>
                      <a:pt x="70" y="36"/>
                    </a:lnTo>
                    <a:lnTo>
                      <a:pt x="70" y="3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3681720" y="3868560"/>
                <a:ext cx="52200" cy="5436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212520" y="3899520"/>
                <a:ext cx="54720" cy="524880"/>
              </a:xfrm>
              <a:custGeom>
                <a:avLst/>
                <a:gdLst/>
                <a:ahLst/>
                <a:rect l="l" t="t" r="r" b="b"/>
                <a:pathLst>
                  <a:path w="70" h="649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78"/>
                    </a:moveTo>
                    <a:lnTo>
                      <a:pt x="38" y="578"/>
                    </a:lnTo>
                    <a:lnTo>
                      <a:pt x="42" y="579"/>
                    </a:lnTo>
                    <a:lnTo>
                      <a:pt x="46" y="581"/>
                    </a:lnTo>
                    <a:lnTo>
                      <a:pt x="50" y="582"/>
                    </a:lnTo>
                    <a:lnTo>
                      <a:pt x="52" y="583"/>
                    </a:lnTo>
                    <a:lnTo>
                      <a:pt x="56" y="586"/>
                    </a:lnTo>
                    <a:lnTo>
                      <a:pt x="58" y="587"/>
                    </a:lnTo>
                    <a:lnTo>
                      <a:pt x="62" y="590"/>
                    </a:lnTo>
                    <a:lnTo>
                      <a:pt x="65" y="593"/>
                    </a:lnTo>
                    <a:lnTo>
                      <a:pt x="66" y="597"/>
                    </a:lnTo>
                    <a:lnTo>
                      <a:pt x="67" y="601"/>
                    </a:lnTo>
                    <a:lnTo>
                      <a:pt x="68" y="603"/>
                    </a:lnTo>
                    <a:lnTo>
                      <a:pt x="70" y="607"/>
                    </a:lnTo>
                    <a:lnTo>
                      <a:pt x="70" y="611"/>
                    </a:lnTo>
                    <a:lnTo>
                      <a:pt x="70" y="615"/>
                    </a:lnTo>
                    <a:lnTo>
                      <a:pt x="68" y="620"/>
                    </a:lnTo>
                    <a:lnTo>
                      <a:pt x="68" y="622"/>
                    </a:lnTo>
                    <a:lnTo>
                      <a:pt x="67" y="625"/>
                    </a:lnTo>
                    <a:lnTo>
                      <a:pt x="67" y="627"/>
                    </a:lnTo>
                    <a:lnTo>
                      <a:pt x="66" y="631"/>
                    </a:lnTo>
                    <a:lnTo>
                      <a:pt x="63" y="634"/>
                    </a:lnTo>
                    <a:lnTo>
                      <a:pt x="62" y="636"/>
                    </a:lnTo>
                    <a:lnTo>
                      <a:pt x="60" y="639"/>
                    </a:lnTo>
                    <a:lnTo>
                      <a:pt x="57" y="640"/>
                    </a:lnTo>
                    <a:lnTo>
                      <a:pt x="52" y="644"/>
                    </a:lnTo>
                    <a:lnTo>
                      <a:pt x="47" y="646"/>
                    </a:lnTo>
                    <a:lnTo>
                      <a:pt x="45" y="648"/>
                    </a:lnTo>
                    <a:lnTo>
                      <a:pt x="41" y="649"/>
                    </a:lnTo>
                    <a:lnTo>
                      <a:pt x="38" y="649"/>
                    </a:lnTo>
                    <a:lnTo>
                      <a:pt x="35" y="649"/>
                    </a:lnTo>
                    <a:lnTo>
                      <a:pt x="31" y="649"/>
                    </a:lnTo>
                    <a:lnTo>
                      <a:pt x="27" y="649"/>
                    </a:lnTo>
                    <a:lnTo>
                      <a:pt x="23" y="648"/>
                    </a:lnTo>
                    <a:lnTo>
                      <a:pt x="20" y="646"/>
                    </a:lnTo>
                    <a:lnTo>
                      <a:pt x="16" y="644"/>
                    </a:lnTo>
                    <a:lnTo>
                      <a:pt x="13" y="641"/>
                    </a:lnTo>
                    <a:lnTo>
                      <a:pt x="10" y="639"/>
                    </a:lnTo>
                    <a:lnTo>
                      <a:pt x="7" y="635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2" y="626"/>
                    </a:lnTo>
                    <a:lnTo>
                      <a:pt x="1" y="622"/>
                    </a:lnTo>
                    <a:lnTo>
                      <a:pt x="0" y="619"/>
                    </a:lnTo>
                    <a:lnTo>
                      <a:pt x="0" y="615"/>
                    </a:lnTo>
                    <a:lnTo>
                      <a:pt x="0" y="612"/>
                    </a:lnTo>
                    <a:lnTo>
                      <a:pt x="1" y="609"/>
                    </a:lnTo>
                    <a:lnTo>
                      <a:pt x="1" y="605"/>
                    </a:lnTo>
                    <a:lnTo>
                      <a:pt x="2" y="602"/>
                    </a:lnTo>
                    <a:lnTo>
                      <a:pt x="2" y="598"/>
                    </a:lnTo>
                    <a:lnTo>
                      <a:pt x="3" y="596"/>
                    </a:lnTo>
                    <a:lnTo>
                      <a:pt x="6" y="593"/>
                    </a:lnTo>
                    <a:lnTo>
                      <a:pt x="7" y="592"/>
                    </a:lnTo>
                    <a:lnTo>
                      <a:pt x="12" y="588"/>
                    </a:lnTo>
                    <a:lnTo>
                      <a:pt x="15" y="586"/>
                    </a:lnTo>
                    <a:lnTo>
                      <a:pt x="17" y="583"/>
                    </a:lnTo>
                    <a:lnTo>
                      <a:pt x="20" y="582"/>
                    </a:lnTo>
                    <a:lnTo>
                      <a:pt x="22" y="581"/>
                    </a:lnTo>
                    <a:lnTo>
                      <a:pt x="26" y="579"/>
                    </a:lnTo>
                    <a:lnTo>
                      <a:pt x="28" y="579"/>
                    </a:lnTo>
                    <a:lnTo>
                      <a:pt x="35" y="578"/>
                    </a:lnTo>
                    <a:lnTo>
                      <a:pt x="35" y="57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6212520" y="3899520"/>
                <a:ext cx="54720" cy="57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6212520" y="4367520"/>
                <a:ext cx="54720" cy="568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1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0" y="33"/>
                    </a:lnTo>
                    <a:lnTo>
                      <a:pt x="70" y="37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60" y="61"/>
                    </a:lnTo>
                    <a:lnTo>
                      <a:pt x="57" y="62"/>
                    </a:lnTo>
                    <a:lnTo>
                      <a:pt x="52" y="66"/>
                    </a:lnTo>
                    <a:lnTo>
                      <a:pt x="47" y="68"/>
                    </a:lnTo>
                    <a:lnTo>
                      <a:pt x="45" y="70"/>
                    </a:lnTo>
                    <a:lnTo>
                      <a:pt x="41" y="71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71"/>
                    </a:lnTo>
                    <a:lnTo>
                      <a:pt x="23" y="70"/>
                    </a:lnTo>
                    <a:lnTo>
                      <a:pt x="20" y="68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10" y="61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6227640" y="3916800"/>
                <a:ext cx="23400" cy="491040"/>
              </a:xfrm>
              <a:custGeom>
                <a:avLst/>
                <a:gdLst/>
                <a:ahLst/>
                <a:rect l="l" t="t" r="r" b="b"/>
                <a:pathLst>
                  <a:path w="30" h="608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5"/>
                    </a:moveTo>
                    <a:lnTo>
                      <a:pt x="8" y="603"/>
                    </a:lnTo>
                    <a:lnTo>
                      <a:pt x="11" y="601"/>
                    </a:lnTo>
                    <a:lnTo>
                      <a:pt x="15" y="601"/>
                    </a:lnTo>
                    <a:lnTo>
                      <a:pt x="18" y="601"/>
                    </a:lnTo>
                    <a:lnTo>
                      <a:pt x="21" y="603"/>
                    </a:lnTo>
                    <a:lnTo>
                      <a:pt x="21" y="603"/>
                    </a:lnTo>
                    <a:lnTo>
                      <a:pt x="21" y="605"/>
                    </a:lnTo>
                    <a:lnTo>
                      <a:pt x="23" y="606"/>
                    </a:lnTo>
                    <a:lnTo>
                      <a:pt x="25" y="608"/>
                    </a:lnTo>
                    <a:lnTo>
                      <a:pt x="27" y="606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30" y="604"/>
                    </a:lnTo>
                    <a:lnTo>
                      <a:pt x="30" y="603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6" y="599"/>
                    </a:lnTo>
                    <a:lnTo>
                      <a:pt x="25" y="595"/>
                    </a:lnTo>
                    <a:lnTo>
                      <a:pt x="25" y="593"/>
                    </a:lnTo>
                    <a:lnTo>
                      <a:pt x="25" y="589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8" y="585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8" y="581"/>
                    </a:lnTo>
                    <a:lnTo>
                      <a:pt x="28" y="580"/>
                    </a:lnTo>
                    <a:lnTo>
                      <a:pt x="28" y="580"/>
                    </a:lnTo>
                    <a:lnTo>
                      <a:pt x="28" y="579"/>
                    </a:lnTo>
                    <a:lnTo>
                      <a:pt x="27" y="579"/>
                    </a:lnTo>
                    <a:lnTo>
                      <a:pt x="25" y="579"/>
                    </a:lnTo>
                    <a:lnTo>
                      <a:pt x="25" y="579"/>
                    </a:lnTo>
                    <a:lnTo>
                      <a:pt x="23" y="579"/>
                    </a:lnTo>
                    <a:lnTo>
                      <a:pt x="23" y="579"/>
                    </a:lnTo>
                    <a:lnTo>
                      <a:pt x="21" y="580"/>
                    </a:lnTo>
                    <a:lnTo>
                      <a:pt x="20" y="582"/>
                    </a:lnTo>
                    <a:lnTo>
                      <a:pt x="18" y="582"/>
                    </a:lnTo>
                    <a:lnTo>
                      <a:pt x="16" y="584"/>
                    </a:lnTo>
                    <a:lnTo>
                      <a:pt x="15" y="584"/>
                    </a:lnTo>
                    <a:lnTo>
                      <a:pt x="13" y="584"/>
                    </a:lnTo>
                    <a:lnTo>
                      <a:pt x="11" y="582"/>
                    </a:lnTo>
                    <a:lnTo>
                      <a:pt x="10" y="582"/>
                    </a:lnTo>
                    <a:lnTo>
                      <a:pt x="8" y="580"/>
                    </a:lnTo>
                    <a:lnTo>
                      <a:pt x="8" y="580"/>
                    </a:lnTo>
                    <a:lnTo>
                      <a:pt x="6" y="579"/>
                    </a:lnTo>
                    <a:lnTo>
                      <a:pt x="5" y="579"/>
                    </a:lnTo>
                    <a:lnTo>
                      <a:pt x="5" y="579"/>
                    </a:lnTo>
                    <a:lnTo>
                      <a:pt x="3" y="579"/>
                    </a:lnTo>
                    <a:lnTo>
                      <a:pt x="1" y="579"/>
                    </a:lnTo>
                    <a:lnTo>
                      <a:pt x="1" y="579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4"/>
                    </a:lnTo>
                    <a:lnTo>
                      <a:pt x="1" y="585"/>
                    </a:lnTo>
                    <a:lnTo>
                      <a:pt x="1" y="585"/>
                    </a:lnTo>
                    <a:lnTo>
                      <a:pt x="3" y="588"/>
                    </a:lnTo>
                    <a:lnTo>
                      <a:pt x="5" y="589"/>
                    </a:lnTo>
                    <a:lnTo>
                      <a:pt x="5" y="593"/>
                    </a:lnTo>
                    <a:lnTo>
                      <a:pt x="5" y="595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1" y="601"/>
                    </a:lnTo>
                    <a:lnTo>
                      <a:pt x="0" y="601"/>
                    </a:lnTo>
                    <a:lnTo>
                      <a:pt x="0" y="603"/>
                    </a:lnTo>
                    <a:lnTo>
                      <a:pt x="0" y="604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3" y="606"/>
                    </a:lnTo>
                    <a:lnTo>
                      <a:pt x="5" y="608"/>
                    </a:lnTo>
                    <a:lnTo>
                      <a:pt x="5" y="606"/>
                    </a:lnTo>
                    <a:lnTo>
                      <a:pt x="6" y="605"/>
                    </a:lnTo>
                    <a:lnTo>
                      <a:pt x="6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6227640" y="391680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227640" y="438336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6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6273360" y="3874680"/>
                <a:ext cx="28440" cy="587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273360" y="3843720"/>
                <a:ext cx="28440" cy="61884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6302160" y="3843720"/>
                <a:ext cx="27720" cy="618840"/>
              </a:xfrm>
              <a:prstGeom prst="rect">
                <a:avLst/>
              </a:pr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329880" y="3843720"/>
                <a:ext cx="30240" cy="61884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6274440" y="3871080"/>
                <a:ext cx="48240" cy="585360"/>
              </a:xfrm>
              <a:custGeom>
                <a:avLst/>
                <a:gdLst/>
                <a:ahLst/>
                <a:rect l="l" t="t" r="r" b="b"/>
                <a:pathLst>
                  <a:path w="59" h="722">
                    <a:moveTo>
                      <a:pt x="59" y="717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17"/>
                    </a:lnTo>
                    <a:lnTo>
                      <a:pt x="0" y="720"/>
                    </a:lnTo>
                    <a:lnTo>
                      <a:pt x="2" y="721"/>
                    </a:lnTo>
                    <a:lnTo>
                      <a:pt x="3" y="722"/>
                    </a:lnTo>
                    <a:lnTo>
                      <a:pt x="7" y="722"/>
                    </a:lnTo>
                    <a:lnTo>
                      <a:pt x="7" y="722"/>
                    </a:lnTo>
                    <a:lnTo>
                      <a:pt x="52" y="722"/>
                    </a:lnTo>
                    <a:lnTo>
                      <a:pt x="54" y="722"/>
                    </a:lnTo>
                    <a:lnTo>
                      <a:pt x="56" y="721"/>
                    </a:lnTo>
                    <a:lnTo>
                      <a:pt x="59" y="720"/>
                    </a:lnTo>
                    <a:lnTo>
                      <a:pt x="59" y="718"/>
                    </a:lnTo>
                    <a:lnTo>
                      <a:pt x="59" y="7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4932720" y="3869640"/>
                <a:ext cx="927720" cy="5828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4932720" y="3869640"/>
                <a:ext cx="927720" cy="58284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5227560" y="3884400"/>
                <a:ext cx="77040" cy="558360"/>
              </a:xfrm>
              <a:custGeom>
                <a:avLst/>
                <a:gdLst/>
                <a:ahLst/>
                <a:rect l="l" t="t" r="r" b="b"/>
                <a:pathLst>
                  <a:path w="98" h="692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  <a:moveTo>
                      <a:pt x="98" y="581"/>
                    </a:moveTo>
                    <a:lnTo>
                      <a:pt x="18" y="581"/>
                    </a:lnTo>
                    <a:lnTo>
                      <a:pt x="14" y="581"/>
                    </a:lnTo>
                    <a:lnTo>
                      <a:pt x="10" y="582"/>
                    </a:lnTo>
                    <a:lnTo>
                      <a:pt x="7" y="583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2" y="592"/>
                    </a:lnTo>
                    <a:lnTo>
                      <a:pt x="0" y="595"/>
                    </a:lnTo>
                    <a:lnTo>
                      <a:pt x="0" y="598"/>
                    </a:lnTo>
                    <a:lnTo>
                      <a:pt x="0" y="598"/>
                    </a:lnTo>
                    <a:lnTo>
                      <a:pt x="0" y="672"/>
                    </a:lnTo>
                    <a:lnTo>
                      <a:pt x="0" y="675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4" y="686"/>
                    </a:lnTo>
                    <a:lnTo>
                      <a:pt x="7" y="688"/>
                    </a:lnTo>
                    <a:lnTo>
                      <a:pt x="10" y="689"/>
                    </a:lnTo>
                    <a:lnTo>
                      <a:pt x="14" y="691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98" y="692"/>
                    </a:lnTo>
                    <a:lnTo>
                      <a:pt x="98" y="581"/>
                    </a:lnTo>
                    <a:lnTo>
                      <a:pt x="98" y="58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5227560" y="388440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4968720" y="3899520"/>
              <a:ext cx="921960" cy="542880"/>
              <a:chOff x="4968720" y="3899520"/>
              <a:chExt cx="921960" cy="542880"/>
            </a:xfrm>
          </p:grpSpPr>
          <p:sp>
            <p:nvSpPr>
              <p:cNvPr id="1914" name=""/>
              <p:cNvSpPr/>
              <p:nvPr/>
            </p:nvSpPr>
            <p:spPr>
              <a:xfrm>
                <a:off x="5227920" y="4352400"/>
                <a:ext cx="76680" cy="9000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8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4968720" y="3910680"/>
                <a:ext cx="858960" cy="527400"/>
              </a:xfrm>
              <a:custGeom>
                <a:avLst/>
                <a:gdLst/>
                <a:ahLst/>
                <a:rect l="l" t="t" r="r" b="b"/>
                <a:pathLst>
                  <a:path w="1092" h="654">
                    <a:moveTo>
                      <a:pt x="47" y="607"/>
                    </a:moveTo>
                    <a:lnTo>
                      <a:pt x="67" y="596"/>
                    </a:lnTo>
                    <a:lnTo>
                      <a:pt x="67" y="572"/>
                    </a:lnTo>
                    <a:lnTo>
                      <a:pt x="47" y="560"/>
                    </a:lnTo>
                    <a:lnTo>
                      <a:pt x="26" y="572"/>
                    </a:lnTo>
                    <a:lnTo>
                      <a:pt x="26" y="596"/>
                    </a:lnTo>
                    <a:lnTo>
                      <a:pt x="47" y="607"/>
                    </a:lnTo>
                    <a:close/>
                    <a:moveTo>
                      <a:pt x="100" y="607"/>
                    </a:moveTo>
                    <a:lnTo>
                      <a:pt x="120" y="596"/>
                    </a:lnTo>
                    <a:lnTo>
                      <a:pt x="120" y="572"/>
                    </a:lnTo>
                    <a:lnTo>
                      <a:pt x="100" y="560"/>
                    </a:lnTo>
                    <a:lnTo>
                      <a:pt x="81" y="572"/>
                    </a:lnTo>
                    <a:lnTo>
                      <a:pt x="81" y="596"/>
                    </a:lnTo>
                    <a:lnTo>
                      <a:pt x="100" y="607"/>
                    </a:lnTo>
                    <a:close/>
                    <a:moveTo>
                      <a:pt x="155" y="607"/>
                    </a:moveTo>
                    <a:lnTo>
                      <a:pt x="175" y="596"/>
                    </a:lnTo>
                    <a:lnTo>
                      <a:pt x="175" y="572"/>
                    </a:lnTo>
                    <a:lnTo>
                      <a:pt x="155" y="560"/>
                    </a:lnTo>
                    <a:lnTo>
                      <a:pt x="135" y="572"/>
                    </a:lnTo>
                    <a:lnTo>
                      <a:pt x="135" y="596"/>
                    </a:lnTo>
                    <a:lnTo>
                      <a:pt x="155" y="607"/>
                    </a:lnTo>
                    <a:close/>
                    <a:moveTo>
                      <a:pt x="208" y="607"/>
                    </a:moveTo>
                    <a:lnTo>
                      <a:pt x="230" y="596"/>
                    </a:lnTo>
                    <a:lnTo>
                      <a:pt x="230" y="572"/>
                    </a:lnTo>
                    <a:lnTo>
                      <a:pt x="208" y="560"/>
                    </a:lnTo>
                    <a:lnTo>
                      <a:pt x="188" y="572"/>
                    </a:lnTo>
                    <a:lnTo>
                      <a:pt x="188" y="596"/>
                    </a:lnTo>
                    <a:lnTo>
                      <a:pt x="208" y="607"/>
                    </a:lnTo>
                    <a:close/>
                    <a:moveTo>
                      <a:pt x="263" y="607"/>
                    </a:moveTo>
                    <a:lnTo>
                      <a:pt x="283" y="596"/>
                    </a:lnTo>
                    <a:lnTo>
                      <a:pt x="283" y="572"/>
                    </a:lnTo>
                    <a:lnTo>
                      <a:pt x="263" y="560"/>
                    </a:lnTo>
                    <a:lnTo>
                      <a:pt x="243" y="572"/>
                    </a:lnTo>
                    <a:lnTo>
                      <a:pt x="243" y="596"/>
                    </a:lnTo>
                    <a:lnTo>
                      <a:pt x="263" y="607"/>
                    </a:lnTo>
                    <a:close/>
                    <a:moveTo>
                      <a:pt x="20" y="560"/>
                    </a:moveTo>
                    <a:lnTo>
                      <a:pt x="39" y="550"/>
                    </a:lnTo>
                    <a:lnTo>
                      <a:pt x="39" y="525"/>
                    </a:lnTo>
                    <a:lnTo>
                      <a:pt x="20" y="514"/>
                    </a:lnTo>
                    <a:lnTo>
                      <a:pt x="0" y="525"/>
                    </a:lnTo>
                    <a:lnTo>
                      <a:pt x="0" y="550"/>
                    </a:lnTo>
                    <a:lnTo>
                      <a:pt x="20" y="560"/>
                    </a:lnTo>
                    <a:close/>
                    <a:moveTo>
                      <a:pt x="74" y="560"/>
                    </a:moveTo>
                    <a:lnTo>
                      <a:pt x="94" y="550"/>
                    </a:lnTo>
                    <a:lnTo>
                      <a:pt x="94" y="525"/>
                    </a:lnTo>
                    <a:lnTo>
                      <a:pt x="74" y="514"/>
                    </a:lnTo>
                    <a:lnTo>
                      <a:pt x="55" y="525"/>
                    </a:lnTo>
                    <a:lnTo>
                      <a:pt x="55" y="550"/>
                    </a:lnTo>
                    <a:lnTo>
                      <a:pt x="74" y="560"/>
                    </a:lnTo>
                    <a:close/>
                    <a:moveTo>
                      <a:pt x="129" y="560"/>
                    </a:moveTo>
                    <a:lnTo>
                      <a:pt x="149" y="550"/>
                    </a:lnTo>
                    <a:lnTo>
                      <a:pt x="149" y="525"/>
                    </a:lnTo>
                    <a:lnTo>
                      <a:pt x="129" y="514"/>
                    </a:lnTo>
                    <a:lnTo>
                      <a:pt x="108" y="525"/>
                    </a:lnTo>
                    <a:lnTo>
                      <a:pt x="108" y="550"/>
                    </a:lnTo>
                    <a:lnTo>
                      <a:pt x="129" y="560"/>
                    </a:lnTo>
                    <a:close/>
                    <a:moveTo>
                      <a:pt x="181" y="560"/>
                    </a:moveTo>
                    <a:lnTo>
                      <a:pt x="202" y="550"/>
                    </a:lnTo>
                    <a:lnTo>
                      <a:pt x="202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50"/>
                    </a:lnTo>
                    <a:lnTo>
                      <a:pt x="181" y="560"/>
                    </a:lnTo>
                    <a:close/>
                    <a:moveTo>
                      <a:pt x="237" y="560"/>
                    </a:moveTo>
                    <a:lnTo>
                      <a:pt x="257" y="550"/>
                    </a:lnTo>
                    <a:lnTo>
                      <a:pt x="257" y="525"/>
                    </a:lnTo>
                    <a:lnTo>
                      <a:pt x="237" y="514"/>
                    </a:lnTo>
                    <a:lnTo>
                      <a:pt x="217" y="525"/>
                    </a:lnTo>
                    <a:lnTo>
                      <a:pt x="217" y="550"/>
                    </a:lnTo>
                    <a:lnTo>
                      <a:pt x="237" y="560"/>
                    </a:lnTo>
                    <a:close/>
                    <a:moveTo>
                      <a:pt x="289" y="560"/>
                    </a:moveTo>
                    <a:lnTo>
                      <a:pt x="312" y="550"/>
                    </a:lnTo>
                    <a:lnTo>
                      <a:pt x="312" y="525"/>
                    </a:lnTo>
                    <a:lnTo>
                      <a:pt x="289" y="514"/>
                    </a:lnTo>
                    <a:lnTo>
                      <a:pt x="269" y="525"/>
                    </a:lnTo>
                    <a:lnTo>
                      <a:pt x="269" y="550"/>
                    </a:lnTo>
                    <a:lnTo>
                      <a:pt x="289" y="560"/>
                    </a:lnTo>
                    <a:close/>
                    <a:moveTo>
                      <a:pt x="47" y="514"/>
                    </a:moveTo>
                    <a:lnTo>
                      <a:pt x="67" y="504"/>
                    </a:lnTo>
                    <a:lnTo>
                      <a:pt x="67" y="478"/>
                    </a:lnTo>
                    <a:lnTo>
                      <a:pt x="47" y="468"/>
                    </a:lnTo>
                    <a:lnTo>
                      <a:pt x="26" y="478"/>
                    </a:lnTo>
                    <a:lnTo>
                      <a:pt x="26" y="504"/>
                    </a:lnTo>
                    <a:lnTo>
                      <a:pt x="47" y="514"/>
                    </a:lnTo>
                    <a:close/>
                    <a:moveTo>
                      <a:pt x="100" y="514"/>
                    </a:moveTo>
                    <a:lnTo>
                      <a:pt x="120" y="504"/>
                    </a:lnTo>
                    <a:lnTo>
                      <a:pt x="120" y="478"/>
                    </a:lnTo>
                    <a:lnTo>
                      <a:pt x="100" y="468"/>
                    </a:lnTo>
                    <a:lnTo>
                      <a:pt x="81" y="478"/>
                    </a:lnTo>
                    <a:lnTo>
                      <a:pt x="81" y="504"/>
                    </a:lnTo>
                    <a:lnTo>
                      <a:pt x="100" y="514"/>
                    </a:lnTo>
                    <a:close/>
                    <a:moveTo>
                      <a:pt x="155" y="514"/>
                    </a:moveTo>
                    <a:lnTo>
                      <a:pt x="175" y="504"/>
                    </a:lnTo>
                    <a:lnTo>
                      <a:pt x="175" y="478"/>
                    </a:lnTo>
                    <a:lnTo>
                      <a:pt x="155" y="468"/>
                    </a:lnTo>
                    <a:lnTo>
                      <a:pt x="135" y="478"/>
                    </a:lnTo>
                    <a:lnTo>
                      <a:pt x="135" y="504"/>
                    </a:lnTo>
                    <a:lnTo>
                      <a:pt x="155" y="514"/>
                    </a:lnTo>
                    <a:close/>
                    <a:moveTo>
                      <a:pt x="208" y="514"/>
                    </a:moveTo>
                    <a:lnTo>
                      <a:pt x="230" y="504"/>
                    </a:lnTo>
                    <a:lnTo>
                      <a:pt x="230" y="478"/>
                    </a:lnTo>
                    <a:lnTo>
                      <a:pt x="208" y="468"/>
                    </a:lnTo>
                    <a:lnTo>
                      <a:pt x="188" y="478"/>
                    </a:lnTo>
                    <a:lnTo>
                      <a:pt x="188" y="504"/>
                    </a:lnTo>
                    <a:lnTo>
                      <a:pt x="208" y="514"/>
                    </a:lnTo>
                    <a:close/>
                    <a:moveTo>
                      <a:pt x="263" y="514"/>
                    </a:moveTo>
                    <a:lnTo>
                      <a:pt x="283" y="504"/>
                    </a:lnTo>
                    <a:lnTo>
                      <a:pt x="283" y="478"/>
                    </a:lnTo>
                    <a:lnTo>
                      <a:pt x="263" y="468"/>
                    </a:lnTo>
                    <a:lnTo>
                      <a:pt x="243" y="478"/>
                    </a:lnTo>
                    <a:lnTo>
                      <a:pt x="243" y="504"/>
                    </a:lnTo>
                    <a:lnTo>
                      <a:pt x="263" y="514"/>
                    </a:lnTo>
                    <a:close/>
                    <a:moveTo>
                      <a:pt x="318" y="514"/>
                    </a:moveTo>
                    <a:lnTo>
                      <a:pt x="338" y="504"/>
                    </a:lnTo>
                    <a:lnTo>
                      <a:pt x="338" y="478"/>
                    </a:lnTo>
                    <a:lnTo>
                      <a:pt x="318" y="468"/>
                    </a:lnTo>
                    <a:lnTo>
                      <a:pt x="298" y="478"/>
                    </a:lnTo>
                    <a:lnTo>
                      <a:pt x="298" y="504"/>
                    </a:lnTo>
                    <a:lnTo>
                      <a:pt x="318" y="514"/>
                    </a:lnTo>
                    <a:close/>
                    <a:moveTo>
                      <a:pt x="20" y="468"/>
                    </a:moveTo>
                    <a:lnTo>
                      <a:pt x="39" y="454"/>
                    </a:lnTo>
                    <a:lnTo>
                      <a:pt x="39" y="432"/>
                    </a:lnTo>
                    <a:lnTo>
                      <a:pt x="20" y="422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20" y="468"/>
                    </a:lnTo>
                    <a:close/>
                    <a:moveTo>
                      <a:pt x="74" y="468"/>
                    </a:moveTo>
                    <a:lnTo>
                      <a:pt x="94" y="454"/>
                    </a:lnTo>
                    <a:lnTo>
                      <a:pt x="94" y="432"/>
                    </a:lnTo>
                    <a:lnTo>
                      <a:pt x="74" y="422"/>
                    </a:lnTo>
                    <a:lnTo>
                      <a:pt x="55" y="432"/>
                    </a:lnTo>
                    <a:lnTo>
                      <a:pt x="55" y="454"/>
                    </a:lnTo>
                    <a:lnTo>
                      <a:pt x="74" y="468"/>
                    </a:lnTo>
                    <a:close/>
                    <a:moveTo>
                      <a:pt x="129" y="468"/>
                    </a:moveTo>
                    <a:lnTo>
                      <a:pt x="149" y="454"/>
                    </a:lnTo>
                    <a:lnTo>
                      <a:pt x="149" y="432"/>
                    </a:lnTo>
                    <a:lnTo>
                      <a:pt x="129" y="422"/>
                    </a:lnTo>
                    <a:lnTo>
                      <a:pt x="108" y="432"/>
                    </a:lnTo>
                    <a:lnTo>
                      <a:pt x="108" y="454"/>
                    </a:lnTo>
                    <a:lnTo>
                      <a:pt x="129" y="468"/>
                    </a:lnTo>
                    <a:close/>
                    <a:moveTo>
                      <a:pt x="181" y="468"/>
                    </a:moveTo>
                    <a:lnTo>
                      <a:pt x="202" y="454"/>
                    </a:lnTo>
                    <a:lnTo>
                      <a:pt x="202" y="432"/>
                    </a:lnTo>
                    <a:lnTo>
                      <a:pt x="181" y="422"/>
                    </a:lnTo>
                    <a:lnTo>
                      <a:pt x="161" y="432"/>
                    </a:lnTo>
                    <a:lnTo>
                      <a:pt x="161" y="454"/>
                    </a:lnTo>
                    <a:lnTo>
                      <a:pt x="181" y="468"/>
                    </a:lnTo>
                    <a:close/>
                    <a:moveTo>
                      <a:pt x="237" y="468"/>
                    </a:moveTo>
                    <a:lnTo>
                      <a:pt x="257" y="454"/>
                    </a:lnTo>
                    <a:lnTo>
                      <a:pt x="257" y="432"/>
                    </a:lnTo>
                    <a:lnTo>
                      <a:pt x="237" y="422"/>
                    </a:lnTo>
                    <a:lnTo>
                      <a:pt x="217" y="432"/>
                    </a:lnTo>
                    <a:lnTo>
                      <a:pt x="217" y="454"/>
                    </a:lnTo>
                    <a:lnTo>
                      <a:pt x="237" y="468"/>
                    </a:lnTo>
                    <a:close/>
                    <a:moveTo>
                      <a:pt x="289" y="468"/>
                    </a:moveTo>
                    <a:lnTo>
                      <a:pt x="312" y="454"/>
                    </a:lnTo>
                    <a:lnTo>
                      <a:pt x="312" y="432"/>
                    </a:lnTo>
                    <a:lnTo>
                      <a:pt x="289" y="422"/>
                    </a:lnTo>
                    <a:lnTo>
                      <a:pt x="269" y="432"/>
                    </a:lnTo>
                    <a:lnTo>
                      <a:pt x="269" y="454"/>
                    </a:lnTo>
                    <a:lnTo>
                      <a:pt x="289" y="468"/>
                    </a:lnTo>
                    <a:close/>
                    <a:moveTo>
                      <a:pt x="20" y="654"/>
                    </a:moveTo>
                    <a:lnTo>
                      <a:pt x="39" y="642"/>
                    </a:lnTo>
                    <a:lnTo>
                      <a:pt x="39" y="618"/>
                    </a:lnTo>
                    <a:lnTo>
                      <a:pt x="20" y="607"/>
                    </a:lnTo>
                    <a:lnTo>
                      <a:pt x="0" y="618"/>
                    </a:lnTo>
                    <a:lnTo>
                      <a:pt x="0" y="642"/>
                    </a:lnTo>
                    <a:lnTo>
                      <a:pt x="20" y="654"/>
                    </a:lnTo>
                    <a:close/>
                    <a:moveTo>
                      <a:pt x="74" y="654"/>
                    </a:moveTo>
                    <a:lnTo>
                      <a:pt x="94" y="642"/>
                    </a:lnTo>
                    <a:lnTo>
                      <a:pt x="94" y="618"/>
                    </a:lnTo>
                    <a:lnTo>
                      <a:pt x="74" y="607"/>
                    </a:lnTo>
                    <a:lnTo>
                      <a:pt x="55" y="618"/>
                    </a:lnTo>
                    <a:lnTo>
                      <a:pt x="55" y="642"/>
                    </a:lnTo>
                    <a:lnTo>
                      <a:pt x="74" y="654"/>
                    </a:lnTo>
                    <a:close/>
                    <a:moveTo>
                      <a:pt x="129" y="654"/>
                    </a:moveTo>
                    <a:lnTo>
                      <a:pt x="149" y="642"/>
                    </a:lnTo>
                    <a:lnTo>
                      <a:pt x="149" y="618"/>
                    </a:lnTo>
                    <a:lnTo>
                      <a:pt x="129" y="607"/>
                    </a:lnTo>
                    <a:lnTo>
                      <a:pt x="108" y="618"/>
                    </a:lnTo>
                    <a:lnTo>
                      <a:pt x="108" y="642"/>
                    </a:lnTo>
                    <a:lnTo>
                      <a:pt x="129" y="654"/>
                    </a:lnTo>
                    <a:close/>
                    <a:moveTo>
                      <a:pt x="181" y="654"/>
                    </a:moveTo>
                    <a:lnTo>
                      <a:pt x="202" y="642"/>
                    </a:lnTo>
                    <a:lnTo>
                      <a:pt x="202" y="618"/>
                    </a:lnTo>
                    <a:lnTo>
                      <a:pt x="181" y="607"/>
                    </a:lnTo>
                    <a:lnTo>
                      <a:pt x="161" y="618"/>
                    </a:lnTo>
                    <a:lnTo>
                      <a:pt x="161" y="642"/>
                    </a:lnTo>
                    <a:lnTo>
                      <a:pt x="181" y="654"/>
                    </a:lnTo>
                    <a:close/>
                    <a:moveTo>
                      <a:pt x="237" y="654"/>
                    </a:moveTo>
                    <a:lnTo>
                      <a:pt x="257" y="642"/>
                    </a:lnTo>
                    <a:lnTo>
                      <a:pt x="257" y="618"/>
                    </a:lnTo>
                    <a:lnTo>
                      <a:pt x="237" y="607"/>
                    </a:lnTo>
                    <a:lnTo>
                      <a:pt x="217" y="618"/>
                    </a:lnTo>
                    <a:lnTo>
                      <a:pt x="217" y="642"/>
                    </a:lnTo>
                    <a:lnTo>
                      <a:pt x="237" y="654"/>
                    </a:lnTo>
                    <a:close/>
                    <a:moveTo>
                      <a:pt x="289" y="654"/>
                    </a:moveTo>
                    <a:lnTo>
                      <a:pt x="312" y="642"/>
                    </a:lnTo>
                    <a:lnTo>
                      <a:pt x="312" y="618"/>
                    </a:lnTo>
                    <a:lnTo>
                      <a:pt x="289" y="607"/>
                    </a:lnTo>
                    <a:lnTo>
                      <a:pt x="269" y="618"/>
                    </a:lnTo>
                    <a:lnTo>
                      <a:pt x="269" y="642"/>
                    </a:lnTo>
                    <a:lnTo>
                      <a:pt x="289" y="654"/>
                    </a:lnTo>
                    <a:close/>
                    <a:moveTo>
                      <a:pt x="20" y="279"/>
                    </a:moveTo>
                    <a:lnTo>
                      <a:pt x="39" y="269"/>
                    </a:lnTo>
                    <a:lnTo>
                      <a:pt x="39" y="246"/>
                    </a:lnTo>
                    <a:lnTo>
                      <a:pt x="20" y="233"/>
                    </a:lnTo>
                    <a:lnTo>
                      <a:pt x="0" y="246"/>
                    </a:lnTo>
                    <a:lnTo>
                      <a:pt x="0" y="269"/>
                    </a:lnTo>
                    <a:lnTo>
                      <a:pt x="20" y="279"/>
                    </a:lnTo>
                    <a:close/>
                    <a:moveTo>
                      <a:pt x="74" y="279"/>
                    </a:moveTo>
                    <a:lnTo>
                      <a:pt x="94" y="269"/>
                    </a:lnTo>
                    <a:lnTo>
                      <a:pt x="94" y="246"/>
                    </a:lnTo>
                    <a:lnTo>
                      <a:pt x="74" y="233"/>
                    </a:lnTo>
                    <a:lnTo>
                      <a:pt x="55" y="246"/>
                    </a:lnTo>
                    <a:lnTo>
                      <a:pt x="55" y="269"/>
                    </a:lnTo>
                    <a:lnTo>
                      <a:pt x="74" y="279"/>
                    </a:lnTo>
                    <a:close/>
                    <a:moveTo>
                      <a:pt x="129" y="279"/>
                    </a:moveTo>
                    <a:lnTo>
                      <a:pt x="149" y="269"/>
                    </a:lnTo>
                    <a:lnTo>
                      <a:pt x="149" y="246"/>
                    </a:lnTo>
                    <a:lnTo>
                      <a:pt x="129" y="233"/>
                    </a:lnTo>
                    <a:lnTo>
                      <a:pt x="108" y="246"/>
                    </a:lnTo>
                    <a:lnTo>
                      <a:pt x="108" y="269"/>
                    </a:lnTo>
                    <a:lnTo>
                      <a:pt x="129" y="279"/>
                    </a:lnTo>
                    <a:close/>
                    <a:moveTo>
                      <a:pt x="181" y="279"/>
                    </a:moveTo>
                    <a:lnTo>
                      <a:pt x="202" y="269"/>
                    </a:lnTo>
                    <a:lnTo>
                      <a:pt x="202" y="246"/>
                    </a:lnTo>
                    <a:lnTo>
                      <a:pt x="181" y="233"/>
                    </a:lnTo>
                    <a:lnTo>
                      <a:pt x="161" y="246"/>
                    </a:lnTo>
                    <a:lnTo>
                      <a:pt x="161" y="269"/>
                    </a:lnTo>
                    <a:lnTo>
                      <a:pt x="181" y="279"/>
                    </a:lnTo>
                    <a:close/>
                    <a:moveTo>
                      <a:pt x="237" y="279"/>
                    </a:moveTo>
                    <a:lnTo>
                      <a:pt x="257" y="269"/>
                    </a:lnTo>
                    <a:lnTo>
                      <a:pt x="257" y="246"/>
                    </a:lnTo>
                    <a:lnTo>
                      <a:pt x="237" y="233"/>
                    </a:lnTo>
                    <a:lnTo>
                      <a:pt x="217" y="246"/>
                    </a:lnTo>
                    <a:lnTo>
                      <a:pt x="217" y="269"/>
                    </a:lnTo>
                    <a:lnTo>
                      <a:pt x="237" y="279"/>
                    </a:lnTo>
                    <a:close/>
                    <a:moveTo>
                      <a:pt x="289" y="279"/>
                    </a:moveTo>
                    <a:lnTo>
                      <a:pt x="312" y="269"/>
                    </a:lnTo>
                    <a:lnTo>
                      <a:pt x="312" y="246"/>
                    </a:lnTo>
                    <a:lnTo>
                      <a:pt x="289" y="233"/>
                    </a:lnTo>
                    <a:lnTo>
                      <a:pt x="269" y="246"/>
                    </a:lnTo>
                    <a:lnTo>
                      <a:pt x="269" y="269"/>
                    </a:lnTo>
                    <a:lnTo>
                      <a:pt x="289" y="279"/>
                    </a:lnTo>
                    <a:close/>
                    <a:moveTo>
                      <a:pt x="47" y="233"/>
                    </a:moveTo>
                    <a:lnTo>
                      <a:pt x="67" y="222"/>
                    </a:lnTo>
                    <a:lnTo>
                      <a:pt x="67" y="199"/>
                    </a:lnTo>
                    <a:lnTo>
                      <a:pt x="47" y="187"/>
                    </a:lnTo>
                    <a:lnTo>
                      <a:pt x="26" y="199"/>
                    </a:lnTo>
                    <a:lnTo>
                      <a:pt x="26" y="222"/>
                    </a:lnTo>
                    <a:lnTo>
                      <a:pt x="47" y="233"/>
                    </a:lnTo>
                    <a:close/>
                    <a:moveTo>
                      <a:pt x="100" y="233"/>
                    </a:moveTo>
                    <a:lnTo>
                      <a:pt x="120" y="222"/>
                    </a:lnTo>
                    <a:lnTo>
                      <a:pt x="120" y="199"/>
                    </a:lnTo>
                    <a:lnTo>
                      <a:pt x="100" y="187"/>
                    </a:lnTo>
                    <a:lnTo>
                      <a:pt x="81" y="199"/>
                    </a:lnTo>
                    <a:lnTo>
                      <a:pt x="81" y="222"/>
                    </a:lnTo>
                    <a:lnTo>
                      <a:pt x="100" y="233"/>
                    </a:lnTo>
                    <a:close/>
                    <a:moveTo>
                      <a:pt x="155" y="233"/>
                    </a:moveTo>
                    <a:lnTo>
                      <a:pt x="175" y="222"/>
                    </a:lnTo>
                    <a:lnTo>
                      <a:pt x="175" y="199"/>
                    </a:lnTo>
                    <a:lnTo>
                      <a:pt x="155" y="187"/>
                    </a:lnTo>
                    <a:lnTo>
                      <a:pt x="135" y="199"/>
                    </a:lnTo>
                    <a:lnTo>
                      <a:pt x="135" y="222"/>
                    </a:lnTo>
                    <a:lnTo>
                      <a:pt x="155" y="233"/>
                    </a:lnTo>
                    <a:close/>
                    <a:moveTo>
                      <a:pt x="208" y="233"/>
                    </a:moveTo>
                    <a:lnTo>
                      <a:pt x="230" y="222"/>
                    </a:lnTo>
                    <a:lnTo>
                      <a:pt x="230" y="199"/>
                    </a:lnTo>
                    <a:lnTo>
                      <a:pt x="208" y="187"/>
                    </a:lnTo>
                    <a:lnTo>
                      <a:pt x="188" y="199"/>
                    </a:lnTo>
                    <a:lnTo>
                      <a:pt x="188" y="222"/>
                    </a:lnTo>
                    <a:lnTo>
                      <a:pt x="208" y="233"/>
                    </a:lnTo>
                    <a:close/>
                    <a:moveTo>
                      <a:pt x="263" y="233"/>
                    </a:moveTo>
                    <a:lnTo>
                      <a:pt x="283" y="222"/>
                    </a:lnTo>
                    <a:lnTo>
                      <a:pt x="283" y="199"/>
                    </a:lnTo>
                    <a:lnTo>
                      <a:pt x="263" y="187"/>
                    </a:lnTo>
                    <a:lnTo>
                      <a:pt x="243" y="199"/>
                    </a:lnTo>
                    <a:lnTo>
                      <a:pt x="243" y="222"/>
                    </a:lnTo>
                    <a:lnTo>
                      <a:pt x="263" y="233"/>
                    </a:lnTo>
                    <a:close/>
                    <a:moveTo>
                      <a:pt x="318" y="233"/>
                    </a:moveTo>
                    <a:lnTo>
                      <a:pt x="338" y="222"/>
                    </a:lnTo>
                    <a:lnTo>
                      <a:pt x="338" y="199"/>
                    </a:lnTo>
                    <a:lnTo>
                      <a:pt x="318" y="187"/>
                    </a:lnTo>
                    <a:lnTo>
                      <a:pt x="298" y="199"/>
                    </a:lnTo>
                    <a:lnTo>
                      <a:pt x="298" y="222"/>
                    </a:lnTo>
                    <a:lnTo>
                      <a:pt x="318" y="233"/>
                    </a:lnTo>
                    <a:close/>
                    <a:moveTo>
                      <a:pt x="20" y="187"/>
                    </a:moveTo>
                    <a:lnTo>
                      <a:pt x="39" y="175"/>
                    </a:lnTo>
                    <a:lnTo>
                      <a:pt x="39" y="153"/>
                    </a:lnTo>
                    <a:lnTo>
                      <a:pt x="20" y="140"/>
                    </a:lnTo>
                    <a:lnTo>
                      <a:pt x="0" y="153"/>
                    </a:lnTo>
                    <a:lnTo>
                      <a:pt x="0" y="175"/>
                    </a:lnTo>
                    <a:lnTo>
                      <a:pt x="20" y="187"/>
                    </a:lnTo>
                    <a:close/>
                    <a:moveTo>
                      <a:pt x="74" y="187"/>
                    </a:moveTo>
                    <a:lnTo>
                      <a:pt x="94" y="175"/>
                    </a:lnTo>
                    <a:lnTo>
                      <a:pt x="94" y="153"/>
                    </a:lnTo>
                    <a:lnTo>
                      <a:pt x="74" y="140"/>
                    </a:lnTo>
                    <a:lnTo>
                      <a:pt x="55" y="153"/>
                    </a:lnTo>
                    <a:lnTo>
                      <a:pt x="55" y="175"/>
                    </a:lnTo>
                    <a:lnTo>
                      <a:pt x="74" y="187"/>
                    </a:lnTo>
                    <a:close/>
                    <a:moveTo>
                      <a:pt x="129" y="187"/>
                    </a:moveTo>
                    <a:lnTo>
                      <a:pt x="149" y="175"/>
                    </a:lnTo>
                    <a:lnTo>
                      <a:pt x="149" y="153"/>
                    </a:lnTo>
                    <a:lnTo>
                      <a:pt x="129" y="140"/>
                    </a:lnTo>
                    <a:lnTo>
                      <a:pt x="108" y="153"/>
                    </a:lnTo>
                    <a:lnTo>
                      <a:pt x="108" y="175"/>
                    </a:lnTo>
                    <a:lnTo>
                      <a:pt x="129" y="187"/>
                    </a:lnTo>
                    <a:close/>
                    <a:moveTo>
                      <a:pt x="181" y="187"/>
                    </a:moveTo>
                    <a:lnTo>
                      <a:pt x="202" y="175"/>
                    </a:lnTo>
                    <a:lnTo>
                      <a:pt x="202" y="153"/>
                    </a:lnTo>
                    <a:lnTo>
                      <a:pt x="181" y="140"/>
                    </a:lnTo>
                    <a:lnTo>
                      <a:pt x="161" y="153"/>
                    </a:lnTo>
                    <a:lnTo>
                      <a:pt x="161" y="175"/>
                    </a:lnTo>
                    <a:lnTo>
                      <a:pt x="181" y="187"/>
                    </a:lnTo>
                    <a:close/>
                    <a:moveTo>
                      <a:pt x="237" y="187"/>
                    </a:moveTo>
                    <a:lnTo>
                      <a:pt x="257" y="175"/>
                    </a:lnTo>
                    <a:lnTo>
                      <a:pt x="257" y="153"/>
                    </a:lnTo>
                    <a:lnTo>
                      <a:pt x="237" y="140"/>
                    </a:lnTo>
                    <a:lnTo>
                      <a:pt x="217" y="153"/>
                    </a:lnTo>
                    <a:lnTo>
                      <a:pt x="217" y="175"/>
                    </a:lnTo>
                    <a:lnTo>
                      <a:pt x="237" y="187"/>
                    </a:lnTo>
                    <a:close/>
                    <a:moveTo>
                      <a:pt x="289" y="187"/>
                    </a:moveTo>
                    <a:lnTo>
                      <a:pt x="312" y="175"/>
                    </a:lnTo>
                    <a:lnTo>
                      <a:pt x="312" y="153"/>
                    </a:lnTo>
                    <a:lnTo>
                      <a:pt x="289" y="140"/>
                    </a:lnTo>
                    <a:lnTo>
                      <a:pt x="269" y="153"/>
                    </a:lnTo>
                    <a:lnTo>
                      <a:pt x="269" y="175"/>
                    </a:lnTo>
                    <a:lnTo>
                      <a:pt x="289" y="187"/>
                    </a:lnTo>
                    <a:close/>
                    <a:moveTo>
                      <a:pt x="47" y="140"/>
                    </a:moveTo>
                    <a:lnTo>
                      <a:pt x="67" y="129"/>
                    </a:lnTo>
                    <a:lnTo>
                      <a:pt x="67" y="105"/>
                    </a:lnTo>
                    <a:lnTo>
                      <a:pt x="47" y="93"/>
                    </a:lnTo>
                    <a:lnTo>
                      <a:pt x="26" y="105"/>
                    </a:lnTo>
                    <a:lnTo>
                      <a:pt x="26" y="129"/>
                    </a:lnTo>
                    <a:lnTo>
                      <a:pt x="47" y="140"/>
                    </a:lnTo>
                    <a:close/>
                    <a:moveTo>
                      <a:pt x="100" y="140"/>
                    </a:moveTo>
                    <a:lnTo>
                      <a:pt x="120" y="129"/>
                    </a:lnTo>
                    <a:lnTo>
                      <a:pt x="120" y="105"/>
                    </a:lnTo>
                    <a:lnTo>
                      <a:pt x="100" y="93"/>
                    </a:lnTo>
                    <a:lnTo>
                      <a:pt x="81" y="105"/>
                    </a:lnTo>
                    <a:lnTo>
                      <a:pt x="81" y="129"/>
                    </a:lnTo>
                    <a:lnTo>
                      <a:pt x="100" y="140"/>
                    </a:lnTo>
                    <a:close/>
                    <a:moveTo>
                      <a:pt x="155" y="140"/>
                    </a:moveTo>
                    <a:lnTo>
                      <a:pt x="175" y="129"/>
                    </a:lnTo>
                    <a:lnTo>
                      <a:pt x="175" y="105"/>
                    </a:lnTo>
                    <a:lnTo>
                      <a:pt x="155" y="93"/>
                    </a:lnTo>
                    <a:lnTo>
                      <a:pt x="135" y="105"/>
                    </a:lnTo>
                    <a:lnTo>
                      <a:pt x="135" y="129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30" y="129"/>
                    </a:lnTo>
                    <a:lnTo>
                      <a:pt x="230" y="105"/>
                    </a:lnTo>
                    <a:lnTo>
                      <a:pt x="208" y="93"/>
                    </a:lnTo>
                    <a:lnTo>
                      <a:pt x="188" y="105"/>
                    </a:lnTo>
                    <a:lnTo>
                      <a:pt x="188" y="129"/>
                    </a:lnTo>
                    <a:lnTo>
                      <a:pt x="208" y="140"/>
                    </a:lnTo>
                    <a:close/>
                    <a:moveTo>
                      <a:pt x="263" y="140"/>
                    </a:moveTo>
                    <a:lnTo>
                      <a:pt x="283" y="129"/>
                    </a:lnTo>
                    <a:lnTo>
                      <a:pt x="283" y="105"/>
                    </a:lnTo>
                    <a:lnTo>
                      <a:pt x="263" y="93"/>
                    </a:lnTo>
                    <a:lnTo>
                      <a:pt x="243" y="105"/>
                    </a:lnTo>
                    <a:lnTo>
                      <a:pt x="243" y="129"/>
                    </a:lnTo>
                    <a:lnTo>
                      <a:pt x="263" y="140"/>
                    </a:lnTo>
                    <a:close/>
                    <a:moveTo>
                      <a:pt x="318" y="140"/>
                    </a:moveTo>
                    <a:lnTo>
                      <a:pt x="338" y="129"/>
                    </a:lnTo>
                    <a:lnTo>
                      <a:pt x="338" y="105"/>
                    </a:lnTo>
                    <a:lnTo>
                      <a:pt x="318" y="93"/>
                    </a:lnTo>
                    <a:lnTo>
                      <a:pt x="298" y="105"/>
                    </a:lnTo>
                    <a:lnTo>
                      <a:pt x="298" y="129"/>
                    </a:lnTo>
                    <a:lnTo>
                      <a:pt x="318" y="140"/>
                    </a:lnTo>
                    <a:close/>
                    <a:moveTo>
                      <a:pt x="20" y="93"/>
                    </a:moveTo>
                    <a:lnTo>
                      <a:pt x="39" y="82"/>
                    </a:lnTo>
                    <a:lnTo>
                      <a:pt x="39" y="58"/>
                    </a:lnTo>
                    <a:lnTo>
                      <a:pt x="20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0" y="93"/>
                    </a:lnTo>
                    <a:close/>
                    <a:moveTo>
                      <a:pt x="74" y="93"/>
                    </a:moveTo>
                    <a:lnTo>
                      <a:pt x="94" y="82"/>
                    </a:lnTo>
                    <a:lnTo>
                      <a:pt x="94" y="58"/>
                    </a:lnTo>
                    <a:lnTo>
                      <a:pt x="74" y="47"/>
                    </a:lnTo>
                    <a:lnTo>
                      <a:pt x="55" y="58"/>
                    </a:lnTo>
                    <a:lnTo>
                      <a:pt x="55" y="82"/>
                    </a:lnTo>
                    <a:lnTo>
                      <a:pt x="74" y="93"/>
                    </a:lnTo>
                    <a:close/>
                    <a:moveTo>
                      <a:pt x="129" y="93"/>
                    </a:moveTo>
                    <a:lnTo>
                      <a:pt x="149" y="82"/>
                    </a:lnTo>
                    <a:lnTo>
                      <a:pt x="149" y="58"/>
                    </a:lnTo>
                    <a:lnTo>
                      <a:pt x="129" y="47"/>
                    </a:lnTo>
                    <a:lnTo>
                      <a:pt x="108" y="58"/>
                    </a:lnTo>
                    <a:lnTo>
                      <a:pt x="108" y="82"/>
                    </a:lnTo>
                    <a:lnTo>
                      <a:pt x="129" y="93"/>
                    </a:lnTo>
                    <a:close/>
                    <a:moveTo>
                      <a:pt x="181" y="93"/>
                    </a:moveTo>
                    <a:lnTo>
                      <a:pt x="202" y="82"/>
                    </a:lnTo>
                    <a:lnTo>
                      <a:pt x="202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3"/>
                    </a:lnTo>
                    <a:close/>
                    <a:moveTo>
                      <a:pt x="237" y="93"/>
                    </a:moveTo>
                    <a:lnTo>
                      <a:pt x="257" y="82"/>
                    </a:lnTo>
                    <a:lnTo>
                      <a:pt x="257" y="58"/>
                    </a:lnTo>
                    <a:lnTo>
                      <a:pt x="237" y="47"/>
                    </a:lnTo>
                    <a:lnTo>
                      <a:pt x="217" y="58"/>
                    </a:lnTo>
                    <a:lnTo>
                      <a:pt x="217" y="82"/>
                    </a:lnTo>
                    <a:lnTo>
                      <a:pt x="237" y="93"/>
                    </a:lnTo>
                    <a:close/>
                    <a:moveTo>
                      <a:pt x="289" y="93"/>
                    </a:moveTo>
                    <a:lnTo>
                      <a:pt x="312" y="82"/>
                    </a:lnTo>
                    <a:lnTo>
                      <a:pt x="312" y="58"/>
                    </a:lnTo>
                    <a:lnTo>
                      <a:pt x="289" y="47"/>
                    </a:lnTo>
                    <a:lnTo>
                      <a:pt x="269" y="58"/>
                    </a:lnTo>
                    <a:lnTo>
                      <a:pt x="269" y="82"/>
                    </a:lnTo>
                    <a:lnTo>
                      <a:pt x="289" y="93"/>
                    </a:lnTo>
                    <a:close/>
                    <a:moveTo>
                      <a:pt x="47" y="47"/>
                    </a:moveTo>
                    <a:lnTo>
                      <a:pt x="67" y="35"/>
                    </a:lnTo>
                    <a:lnTo>
                      <a:pt x="67" y="11"/>
                    </a:lnTo>
                    <a:lnTo>
                      <a:pt x="47" y="0"/>
                    </a:lnTo>
                    <a:lnTo>
                      <a:pt x="26" y="11"/>
                    </a:lnTo>
                    <a:lnTo>
                      <a:pt x="26" y="35"/>
                    </a:lnTo>
                    <a:lnTo>
                      <a:pt x="47" y="47"/>
                    </a:lnTo>
                    <a:close/>
                    <a:moveTo>
                      <a:pt x="100" y="47"/>
                    </a:moveTo>
                    <a:lnTo>
                      <a:pt x="120" y="35"/>
                    </a:lnTo>
                    <a:lnTo>
                      <a:pt x="120" y="11"/>
                    </a:lnTo>
                    <a:lnTo>
                      <a:pt x="100" y="0"/>
                    </a:lnTo>
                    <a:lnTo>
                      <a:pt x="81" y="11"/>
                    </a:lnTo>
                    <a:lnTo>
                      <a:pt x="81" y="35"/>
                    </a:lnTo>
                    <a:lnTo>
                      <a:pt x="100" y="47"/>
                    </a:lnTo>
                    <a:close/>
                    <a:moveTo>
                      <a:pt x="155" y="47"/>
                    </a:moveTo>
                    <a:lnTo>
                      <a:pt x="175" y="35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5" y="11"/>
                    </a:lnTo>
                    <a:lnTo>
                      <a:pt x="135" y="35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30" y="35"/>
                    </a:lnTo>
                    <a:lnTo>
                      <a:pt x="230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5"/>
                    </a:lnTo>
                    <a:lnTo>
                      <a:pt x="208" y="47"/>
                    </a:lnTo>
                    <a:close/>
                    <a:moveTo>
                      <a:pt x="263" y="47"/>
                    </a:moveTo>
                    <a:lnTo>
                      <a:pt x="283" y="35"/>
                    </a:lnTo>
                    <a:lnTo>
                      <a:pt x="283" y="11"/>
                    </a:lnTo>
                    <a:lnTo>
                      <a:pt x="263" y="0"/>
                    </a:lnTo>
                    <a:lnTo>
                      <a:pt x="243" y="11"/>
                    </a:lnTo>
                    <a:lnTo>
                      <a:pt x="243" y="35"/>
                    </a:lnTo>
                    <a:lnTo>
                      <a:pt x="263" y="47"/>
                    </a:lnTo>
                    <a:close/>
                    <a:moveTo>
                      <a:pt x="47" y="422"/>
                    </a:moveTo>
                    <a:lnTo>
                      <a:pt x="67" y="408"/>
                    </a:lnTo>
                    <a:lnTo>
                      <a:pt x="67" y="386"/>
                    </a:lnTo>
                    <a:lnTo>
                      <a:pt x="47" y="375"/>
                    </a:lnTo>
                    <a:lnTo>
                      <a:pt x="26" y="386"/>
                    </a:lnTo>
                    <a:lnTo>
                      <a:pt x="26" y="408"/>
                    </a:lnTo>
                    <a:lnTo>
                      <a:pt x="47" y="422"/>
                    </a:lnTo>
                    <a:close/>
                    <a:moveTo>
                      <a:pt x="100" y="422"/>
                    </a:moveTo>
                    <a:lnTo>
                      <a:pt x="120" y="408"/>
                    </a:lnTo>
                    <a:lnTo>
                      <a:pt x="120" y="386"/>
                    </a:lnTo>
                    <a:lnTo>
                      <a:pt x="100" y="375"/>
                    </a:lnTo>
                    <a:lnTo>
                      <a:pt x="81" y="386"/>
                    </a:lnTo>
                    <a:lnTo>
                      <a:pt x="81" y="408"/>
                    </a:lnTo>
                    <a:lnTo>
                      <a:pt x="100" y="422"/>
                    </a:lnTo>
                    <a:close/>
                    <a:moveTo>
                      <a:pt x="155" y="422"/>
                    </a:moveTo>
                    <a:lnTo>
                      <a:pt x="175" y="408"/>
                    </a:lnTo>
                    <a:lnTo>
                      <a:pt x="175" y="386"/>
                    </a:lnTo>
                    <a:lnTo>
                      <a:pt x="155" y="375"/>
                    </a:lnTo>
                    <a:lnTo>
                      <a:pt x="135" y="386"/>
                    </a:lnTo>
                    <a:lnTo>
                      <a:pt x="135" y="408"/>
                    </a:lnTo>
                    <a:lnTo>
                      <a:pt x="155" y="422"/>
                    </a:lnTo>
                    <a:close/>
                    <a:moveTo>
                      <a:pt x="208" y="422"/>
                    </a:moveTo>
                    <a:lnTo>
                      <a:pt x="230" y="408"/>
                    </a:lnTo>
                    <a:lnTo>
                      <a:pt x="230" y="386"/>
                    </a:lnTo>
                    <a:lnTo>
                      <a:pt x="208" y="375"/>
                    </a:lnTo>
                    <a:lnTo>
                      <a:pt x="188" y="386"/>
                    </a:lnTo>
                    <a:lnTo>
                      <a:pt x="188" y="408"/>
                    </a:lnTo>
                    <a:lnTo>
                      <a:pt x="208" y="422"/>
                    </a:lnTo>
                    <a:close/>
                    <a:moveTo>
                      <a:pt x="263" y="422"/>
                    </a:moveTo>
                    <a:lnTo>
                      <a:pt x="283" y="408"/>
                    </a:lnTo>
                    <a:lnTo>
                      <a:pt x="283" y="386"/>
                    </a:lnTo>
                    <a:lnTo>
                      <a:pt x="263" y="375"/>
                    </a:lnTo>
                    <a:lnTo>
                      <a:pt x="243" y="386"/>
                    </a:lnTo>
                    <a:lnTo>
                      <a:pt x="243" y="408"/>
                    </a:lnTo>
                    <a:lnTo>
                      <a:pt x="263" y="422"/>
                    </a:lnTo>
                    <a:close/>
                    <a:moveTo>
                      <a:pt x="318" y="422"/>
                    </a:moveTo>
                    <a:lnTo>
                      <a:pt x="338" y="408"/>
                    </a:lnTo>
                    <a:lnTo>
                      <a:pt x="338" y="386"/>
                    </a:lnTo>
                    <a:lnTo>
                      <a:pt x="318" y="375"/>
                    </a:lnTo>
                    <a:lnTo>
                      <a:pt x="298" y="386"/>
                    </a:lnTo>
                    <a:lnTo>
                      <a:pt x="298" y="408"/>
                    </a:lnTo>
                    <a:lnTo>
                      <a:pt x="318" y="422"/>
                    </a:lnTo>
                    <a:close/>
                    <a:moveTo>
                      <a:pt x="20" y="375"/>
                    </a:moveTo>
                    <a:lnTo>
                      <a:pt x="39" y="361"/>
                    </a:lnTo>
                    <a:lnTo>
                      <a:pt x="39" y="339"/>
                    </a:lnTo>
                    <a:lnTo>
                      <a:pt x="20" y="328"/>
                    </a:lnTo>
                    <a:lnTo>
                      <a:pt x="0" y="339"/>
                    </a:lnTo>
                    <a:lnTo>
                      <a:pt x="0" y="361"/>
                    </a:lnTo>
                    <a:lnTo>
                      <a:pt x="20" y="375"/>
                    </a:lnTo>
                    <a:close/>
                    <a:moveTo>
                      <a:pt x="74" y="375"/>
                    </a:moveTo>
                    <a:lnTo>
                      <a:pt x="94" y="361"/>
                    </a:lnTo>
                    <a:lnTo>
                      <a:pt x="94" y="339"/>
                    </a:lnTo>
                    <a:lnTo>
                      <a:pt x="74" y="328"/>
                    </a:lnTo>
                    <a:lnTo>
                      <a:pt x="55" y="339"/>
                    </a:lnTo>
                    <a:lnTo>
                      <a:pt x="55" y="361"/>
                    </a:lnTo>
                    <a:lnTo>
                      <a:pt x="74" y="375"/>
                    </a:lnTo>
                    <a:close/>
                    <a:moveTo>
                      <a:pt x="129" y="375"/>
                    </a:moveTo>
                    <a:lnTo>
                      <a:pt x="149" y="361"/>
                    </a:lnTo>
                    <a:lnTo>
                      <a:pt x="149" y="339"/>
                    </a:lnTo>
                    <a:lnTo>
                      <a:pt x="129" y="328"/>
                    </a:lnTo>
                    <a:lnTo>
                      <a:pt x="108" y="339"/>
                    </a:lnTo>
                    <a:lnTo>
                      <a:pt x="108" y="361"/>
                    </a:lnTo>
                    <a:lnTo>
                      <a:pt x="129" y="375"/>
                    </a:lnTo>
                    <a:close/>
                    <a:moveTo>
                      <a:pt x="181" y="375"/>
                    </a:moveTo>
                    <a:lnTo>
                      <a:pt x="202" y="361"/>
                    </a:lnTo>
                    <a:lnTo>
                      <a:pt x="202" y="339"/>
                    </a:lnTo>
                    <a:lnTo>
                      <a:pt x="181" y="328"/>
                    </a:lnTo>
                    <a:lnTo>
                      <a:pt x="161" y="339"/>
                    </a:lnTo>
                    <a:lnTo>
                      <a:pt x="161" y="361"/>
                    </a:lnTo>
                    <a:lnTo>
                      <a:pt x="181" y="375"/>
                    </a:lnTo>
                    <a:close/>
                    <a:moveTo>
                      <a:pt x="237" y="375"/>
                    </a:moveTo>
                    <a:lnTo>
                      <a:pt x="257" y="361"/>
                    </a:lnTo>
                    <a:lnTo>
                      <a:pt x="257" y="339"/>
                    </a:lnTo>
                    <a:lnTo>
                      <a:pt x="237" y="328"/>
                    </a:lnTo>
                    <a:lnTo>
                      <a:pt x="217" y="339"/>
                    </a:lnTo>
                    <a:lnTo>
                      <a:pt x="217" y="361"/>
                    </a:lnTo>
                    <a:lnTo>
                      <a:pt x="237" y="375"/>
                    </a:lnTo>
                    <a:close/>
                    <a:moveTo>
                      <a:pt x="289" y="375"/>
                    </a:moveTo>
                    <a:lnTo>
                      <a:pt x="312" y="361"/>
                    </a:lnTo>
                    <a:lnTo>
                      <a:pt x="312" y="339"/>
                    </a:lnTo>
                    <a:lnTo>
                      <a:pt x="289" y="328"/>
                    </a:lnTo>
                    <a:lnTo>
                      <a:pt x="269" y="339"/>
                    </a:lnTo>
                    <a:lnTo>
                      <a:pt x="269" y="361"/>
                    </a:lnTo>
                    <a:lnTo>
                      <a:pt x="289" y="375"/>
                    </a:lnTo>
                    <a:close/>
                    <a:moveTo>
                      <a:pt x="47" y="326"/>
                    </a:moveTo>
                    <a:lnTo>
                      <a:pt x="67" y="314"/>
                    </a:lnTo>
                    <a:lnTo>
                      <a:pt x="67" y="293"/>
                    </a:lnTo>
                    <a:lnTo>
                      <a:pt x="47" y="281"/>
                    </a:lnTo>
                    <a:lnTo>
                      <a:pt x="26" y="293"/>
                    </a:lnTo>
                    <a:lnTo>
                      <a:pt x="26" y="314"/>
                    </a:lnTo>
                    <a:lnTo>
                      <a:pt x="47" y="326"/>
                    </a:lnTo>
                    <a:close/>
                    <a:moveTo>
                      <a:pt x="100" y="326"/>
                    </a:moveTo>
                    <a:lnTo>
                      <a:pt x="120" y="314"/>
                    </a:lnTo>
                    <a:lnTo>
                      <a:pt x="120" y="293"/>
                    </a:lnTo>
                    <a:lnTo>
                      <a:pt x="100" y="281"/>
                    </a:lnTo>
                    <a:lnTo>
                      <a:pt x="81" y="293"/>
                    </a:lnTo>
                    <a:lnTo>
                      <a:pt x="81" y="314"/>
                    </a:lnTo>
                    <a:lnTo>
                      <a:pt x="100" y="326"/>
                    </a:lnTo>
                    <a:close/>
                    <a:moveTo>
                      <a:pt x="155" y="326"/>
                    </a:moveTo>
                    <a:lnTo>
                      <a:pt x="175" y="314"/>
                    </a:lnTo>
                    <a:lnTo>
                      <a:pt x="175" y="293"/>
                    </a:lnTo>
                    <a:lnTo>
                      <a:pt x="155" y="281"/>
                    </a:lnTo>
                    <a:lnTo>
                      <a:pt x="135" y="293"/>
                    </a:lnTo>
                    <a:lnTo>
                      <a:pt x="135" y="314"/>
                    </a:lnTo>
                    <a:lnTo>
                      <a:pt x="155" y="326"/>
                    </a:lnTo>
                    <a:close/>
                    <a:moveTo>
                      <a:pt x="208" y="326"/>
                    </a:moveTo>
                    <a:lnTo>
                      <a:pt x="230" y="314"/>
                    </a:lnTo>
                    <a:lnTo>
                      <a:pt x="230" y="293"/>
                    </a:lnTo>
                    <a:lnTo>
                      <a:pt x="208" y="281"/>
                    </a:lnTo>
                    <a:lnTo>
                      <a:pt x="188" y="293"/>
                    </a:lnTo>
                    <a:lnTo>
                      <a:pt x="188" y="314"/>
                    </a:lnTo>
                    <a:lnTo>
                      <a:pt x="208" y="326"/>
                    </a:lnTo>
                    <a:close/>
                    <a:moveTo>
                      <a:pt x="263" y="326"/>
                    </a:moveTo>
                    <a:lnTo>
                      <a:pt x="283" y="314"/>
                    </a:lnTo>
                    <a:lnTo>
                      <a:pt x="283" y="293"/>
                    </a:lnTo>
                    <a:lnTo>
                      <a:pt x="263" y="281"/>
                    </a:lnTo>
                    <a:lnTo>
                      <a:pt x="243" y="293"/>
                    </a:lnTo>
                    <a:lnTo>
                      <a:pt x="243" y="314"/>
                    </a:lnTo>
                    <a:lnTo>
                      <a:pt x="263" y="326"/>
                    </a:lnTo>
                    <a:close/>
                    <a:moveTo>
                      <a:pt x="318" y="326"/>
                    </a:moveTo>
                    <a:lnTo>
                      <a:pt x="338" y="314"/>
                    </a:lnTo>
                    <a:lnTo>
                      <a:pt x="338" y="293"/>
                    </a:lnTo>
                    <a:lnTo>
                      <a:pt x="318" y="281"/>
                    </a:lnTo>
                    <a:lnTo>
                      <a:pt x="298" y="293"/>
                    </a:lnTo>
                    <a:lnTo>
                      <a:pt x="298" y="314"/>
                    </a:lnTo>
                    <a:lnTo>
                      <a:pt x="318" y="326"/>
                    </a:lnTo>
                    <a:close/>
                    <a:moveTo>
                      <a:pt x="371" y="514"/>
                    </a:moveTo>
                    <a:lnTo>
                      <a:pt x="392" y="504"/>
                    </a:lnTo>
                    <a:lnTo>
                      <a:pt x="392" y="478"/>
                    </a:lnTo>
                    <a:lnTo>
                      <a:pt x="371" y="468"/>
                    </a:lnTo>
                    <a:lnTo>
                      <a:pt x="351" y="478"/>
                    </a:lnTo>
                    <a:lnTo>
                      <a:pt x="351" y="504"/>
                    </a:lnTo>
                    <a:lnTo>
                      <a:pt x="371" y="514"/>
                    </a:lnTo>
                    <a:close/>
                    <a:moveTo>
                      <a:pt x="426" y="514"/>
                    </a:moveTo>
                    <a:lnTo>
                      <a:pt x="445" y="504"/>
                    </a:lnTo>
                    <a:lnTo>
                      <a:pt x="445" y="478"/>
                    </a:lnTo>
                    <a:lnTo>
                      <a:pt x="426" y="468"/>
                    </a:lnTo>
                    <a:lnTo>
                      <a:pt x="406" y="478"/>
                    </a:lnTo>
                    <a:lnTo>
                      <a:pt x="406" y="504"/>
                    </a:lnTo>
                    <a:lnTo>
                      <a:pt x="426" y="514"/>
                    </a:lnTo>
                    <a:close/>
                    <a:moveTo>
                      <a:pt x="480" y="514"/>
                    </a:moveTo>
                    <a:lnTo>
                      <a:pt x="500" y="504"/>
                    </a:lnTo>
                    <a:lnTo>
                      <a:pt x="500" y="478"/>
                    </a:lnTo>
                    <a:lnTo>
                      <a:pt x="480" y="468"/>
                    </a:lnTo>
                    <a:lnTo>
                      <a:pt x="458" y="478"/>
                    </a:lnTo>
                    <a:lnTo>
                      <a:pt x="458" y="504"/>
                    </a:lnTo>
                    <a:lnTo>
                      <a:pt x="480" y="514"/>
                    </a:lnTo>
                    <a:close/>
                    <a:moveTo>
                      <a:pt x="532" y="514"/>
                    </a:moveTo>
                    <a:lnTo>
                      <a:pt x="552" y="504"/>
                    </a:lnTo>
                    <a:lnTo>
                      <a:pt x="552" y="478"/>
                    </a:lnTo>
                    <a:lnTo>
                      <a:pt x="532" y="468"/>
                    </a:lnTo>
                    <a:lnTo>
                      <a:pt x="514" y="478"/>
                    </a:lnTo>
                    <a:lnTo>
                      <a:pt x="514" y="504"/>
                    </a:lnTo>
                    <a:lnTo>
                      <a:pt x="532" y="514"/>
                    </a:lnTo>
                    <a:close/>
                    <a:moveTo>
                      <a:pt x="586" y="514"/>
                    </a:moveTo>
                    <a:lnTo>
                      <a:pt x="608" y="504"/>
                    </a:lnTo>
                    <a:lnTo>
                      <a:pt x="608" y="478"/>
                    </a:lnTo>
                    <a:lnTo>
                      <a:pt x="586" y="468"/>
                    </a:lnTo>
                    <a:lnTo>
                      <a:pt x="566" y="478"/>
                    </a:lnTo>
                    <a:lnTo>
                      <a:pt x="566" y="504"/>
                    </a:lnTo>
                    <a:lnTo>
                      <a:pt x="586" y="514"/>
                    </a:lnTo>
                    <a:close/>
                    <a:moveTo>
                      <a:pt x="452" y="468"/>
                    </a:moveTo>
                    <a:lnTo>
                      <a:pt x="473" y="454"/>
                    </a:lnTo>
                    <a:lnTo>
                      <a:pt x="473" y="432"/>
                    </a:lnTo>
                    <a:lnTo>
                      <a:pt x="452" y="422"/>
                    </a:lnTo>
                    <a:lnTo>
                      <a:pt x="432" y="432"/>
                    </a:lnTo>
                    <a:lnTo>
                      <a:pt x="432" y="454"/>
                    </a:lnTo>
                    <a:lnTo>
                      <a:pt x="452" y="468"/>
                    </a:lnTo>
                    <a:close/>
                    <a:moveTo>
                      <a:pt x="505" y="468"/>
                    </a:moveTo>
                    <a:lnTo>
                      <a:pt x="526" y="454"/>
                    </a:lnTo>
                    <a:lnTo>
                      <a:pt x="526" y="432"/>
                    </a:lnTo>
                    <a:lnTo>
                      <a:pt x="505" y="422"/>
                    </a:lnTo>
                    <a:lnTo>
                      <a:pt x="485" y="432"/>
                    </a:lnTo>
                    <a:lnTo>
                      <a:pt x="485" y="454"/>
                    </a:lnTo>
                    <a:lnTo>
                      <a:pt x="505" y="468"/>
                    </a:lnTo>
                    <a:close/>
                    <a:moveTo>
                      <a:pt x="560" y="468"/>
                    </a:moveTo>
                    <a:lnTo>
                      <a:pt x="579" y="454"/>
                    </a:lnTo>
                    <a:lnTo>
                      <a:pt x="579" y="432"/>
                    </a:lnTo>
                    <a:lnTo>
                      <a:pt x="560" y="422"/>
                    </a:lnTo>
                    <a:lnTo>
                      <a:pt x="540" y="432"/>
                    </a:lnTo>
                    <a:lnTo>
                      <a:pt x="540" y="454"/>
                    </a:lnTo>
                    <a:lnTo>
                      <a:pt x="560" y="468"/>
                    </a:lnTo>
                    <a:close/>
                    <a:moveTo>
                      <a:pt x="344" y="468"/>
                    </a:moveTo>
                    <a:lnTo>
                      <a:pt x="364" y="454"/>
                    </a:lnTo>
                    <a:lnTo>
                      <a:pt x="364" y="432"/>
                    </a:lnTo>
                    <a:lnTo>
                      <a:pt x="344" y="422"/>
                    </a:lnTo>
                    <a:lnTo>
                      <a:pt x="324" y="432"/>
                    </a:lnTo>
                    <a:lnTo>
                      <a:pt x="324" y="454"/>
                    </a:lnTo>
                    <a:lnTo>
                      <a:pt x="344" y="468"/>
                    </a:lnTo>
                    <a:close/>
                    <a:moveTo>
                      <a:pt x="400" y="468"/>
                    </a:moveTo>
                    <a:lnTo>
                      <a:pt x="418" y="454"/>
                    </a:lnTo>
                    <a:lnTo>
                      <a:pt x="418" y="432"/>
                    </a:lnTo>
                    <a:lnTo>
                      <a:pt x="400" y="422"/>
                    </a:lnTo>
                    <a:lnTo>
                      <a:pt x="379" y="432"/>
                    </a:lnTo>
                    <a:lnTo>
                      <a:pt x="379" y="454"/>
                    </a:lnTo>
                    <a:lnTo>
                      <a:pt x="400" y="468"/>
                    </a:lnTo>
                    <a:close/>
                    <a:moveTo>
                      <a:pt x="560" y="279"/>
                    </a:moveTo>
                    <a:lnTo>
                      <a:pt x="579" y="269"/>
                    </a:lnTo>
                    <a:lnTo>
                      <a:pt x="579" y="246"/>
                    </a:lnTo>
                    <a:lnTo>
                      <a:pt x="560" y="233"/>
                    </a:lnTo>
                    <a:lnTo>
                      <a:pt x="540" y="246"/>
                    </a:lnTo>
                    <a:lnTo>
                      <a:pt x="540" y="269"/>
                    </a:lnTo>
                    <a:lnTo>
                      <a:pt x="560" y="279"/>
                    </a:lnTo>
                    <a:close/>
                    <a:moveTo>
                      <a:pt x="344" y="279"/>
                    </a:moveTo>
                    <a:lnTo>
                      <a:pt x="364" y="269"/>
                    </a:lnTo>
                    <a:lnTo>
                      <a:pt x="364" y="246"/>
                    </a:lnTo>
                    <a:lnTo>
                      <a:pt x="344" y="233"/>
                    </a:lnTo>
                    <a:lnTo>
                      <a:pt x="324" y="246"/>
                    </a:lnTo>
                    <a:lnTo>
                      <a:pt x="324" y="269"/>
                    </a:lnTo>
                    <a:lnTo>
                      <a:pt x="344" y="279"/>
                    </a:lnTo>
                    <a:close/>
                    <a:moveTo>
                      <a:pt x="400" y="279"/>
                    </a:moveTo>
                    <a:lnTo>
                      <a:pt x="418" y="269"/>
                    </a:lnTo>
                    <a:lnTo>
                      <a:pt x="418" y="246"/>
                    </a:lnTo>
                    <a:lnTo>
                      <a:pt x="400" y="233"/>
                    </a:lnTo>
                    <a:lnTo>
                      <a:pt x="379" y="246"/>
                    </a:lnTo>
                    <a:lnTo>
                      <a:pt x="379" y="269"/>
                    </a:lnTo>
                    <a:lnTo>
                      <a:pt x="400" y="279"/>
                    </a:lnTo>
                    <a:close/>
                    <a:moveTo>
                      <a:pt x="452" y="279"/>
                    </a:moveTo>
                    <a:lnTo>
                      <a:pt x="473" y="269"/>
                    </a:lnTo>
                    <a:lnTo>
                      <a:pt x="473" y="246"/>
                    </a:lnTo>
                    <a:lnTo>
                      <a:pt x="452" y="233"/>
                    </a:lnTo>
                    <a:lnTo>
                      <a:pt x="432" y="246"/>
                    </a:lnTo>
                    <a:lnTo>
                      <a:pt x="432" y="269"/>
                    </a:lnTo>
                    <a:lnTo>
                      <a:pt x="452" y="279"/>
                    </a:lnTo>
                    <a:close/>
                    <a:moveTo>
                      <a:pt x="505" y="279"/>
                    </a:moveTo>
                    <a:lnTo>
                      <a:pt x="526" y="269"/>
                    </a:lnTo>
                    <a:lnTo>
                      <a:pt x="526" y="246"/>
                    </a:lnTo>
                    <a:lnTo>
                      <a:pt x="505" y="233"/>
                    </a:lnTo>
                    <a:lnTo>
                      <a:pt x="485" y="246"/>
                    </a:lnTo>
                    <a:lnTo>
                      <a:pt x="485" y="269"/>
                    </a:lnTo>
                    <a:lnTo>
                      <a:pt x="505" y="279"/>
                    </a:lnTo>
                    <a:close/>
                    <a:moveTo>
                      <a:pt x="371" y="233"/>
                    </a:moveTo>
                    <a:lnTo>
                      <a:pt x="392" y="222"/>
                    </a:lnTo>
                    <a:lnTo>
                      <a:pt x="392" y="199"/>
                    </a:lnTo>
                    <a:lnTo>
                      <a:pt x="371" y="187"/>
                    </a:lnTo>
                    <a:lnTo>
                      <a:pt x="351" y="199"/>
                    </a:lnTo>
                    <a:lnTo>
                      <a:pt x="351" y="222"/>
                    </a:lnTo>
                    <a:lnTo>
                      <a:pt x="371" y="233"/>
                    </a:lnTo>
                    <a:close/>
                    <a:moveTo>
                      <a:pt x="426" y="233"/>
                    </a:moveTo>
                    <a:lnTo>
                      <a:pt x="445" y="222"/>
                    </a:lnTo>
                    <a:lnTo>
                      <a:pt x="445" y="199"/>
                    </a:lnTo>
                    <a:lnTo>
                      <a:pt x="426" y="187"/>
                    </a:lnTo>
                    <a:lnTo>
                      <a:pt x="406" y="199"/>
                    </a:lnTo>
                    <a:lnTo>
                      <a:pt x="406" y="222"/>
                    </a:lnTo>
                    <a:lnTo>
                      <a:pt x="426" y="233"/>
                    </a:lnTo>
                    <a:close/>
                    <a:moveTo>
                      <a:pt x="480" y="233"/>
                    </a:moveTo>
                    <a:lnTo>
                      <a:pt x="500" y="222"/>
                    </a:lnTo>
                    <a:lnTo>
                      <a:pt x="500" y="199"/>
                    </a:lnTo>
                    <a:lnTo>
                      <a:pt x="480" y="187"/>
                    </a:lnTo>
                    <a:lnTo>
                      <a:pt x="458" y="199"/>
                    </a:lnTo>
                    <a:lnTo>
                      <a:pt x="458" y="222"/>
                    </a:lnTo>
                    <a:lnTo>
                      <a:pt x="480" y="233"/>
                    </a:lnTo>
                    <a:close/>
                    <a:moveTo>
                      <a:pt x="532" y="233"/>
                    </a:moveTo>
                    <a:lnTo>
                      <a:pt x="552" y="222"/>
                    </a:lnTo>
                    <a:lnTo>
                      <a:pt x="552" y="199"/>
                    </a:lnTo>
                    <a:lnTo>
                      <a:pt x="532" y="187"/>
                    </a:lnTo>
                    <a:lnTo>
                      <a:pt x="514" y="199"/>
                    </a:lnTo>
                    <a:lnTo>
                      <a:pt x="514" y="222"/>
                    </a:lnTo>
                    <a:lnTo>
                      <a:pt x="532" y="233"/>
                    </a:lnTo>
                    <a:close/>
                    <a:moveTo>
                      <a:pt x="344" y="187"/>
                    </a:moveTo>
                    <a:lnTo>
                      <a:pt x="364" y="175"/>
                    </a:lnTo>
                    <a:lnTo>
                      <a:pt x="364" y="153"/>
                    </a:lnTo>
                    <a:lnTo>
                      <a:pt x="344" y="140"/>
                    </a:lnTo>
                    <a:lnTo>
                      <a:pt x="324" y="153"/>
                    </a:lnTo>
                    <a:lnTo>
                      <a:pt x="324" y="175"/>
                    </a:lnTo>
                    <a:lnTo>
                      <a:pt x="344" y="187"/>
                    </a:lnTo>
                    <a:close/>
                    <a:moveTo>
                      <a:pt x="400" y="187"/>
                    </a:moveTo>
                    <a:lnTo>
                      <a:pt x="418" y="175"/>
                    </a:lnTo>
                    <a:lnTo>
                      <a:pt x="418" y="153"/>
                    </a:lnTo>
                    <a:lnTo>
                      <a:pt x="400" y="140"/>
                    </a:lnTo>
                    <a:lnTo>
                      <a:pt x="379" y="153"/>
                    </a:lnTo>
                    <a:lnTo>
                      <a:pt x="379" y="175"/>
                    </a:lnTo>
                    <a:lnTo>
                      <a:pt x="400" y="187"/>
                    </a:lnTo>
                    <a:close/>
                    <a:moveTo>
                      <a:pt x="452" y="187"/>
                    </a:moveTo>
                    <a:lnTo>
                      <a:pt x="473" y="175"/>
                    </a:lnTo>
                    <a:lnTo>
                      <a:pt x="473" y="153"/>
                    </a:lnTo>
                    <a:lnTo>
                      <a:pt x="452" y="140"/>
                    </a:lnTo>
                    <a:lnTo>
                      <a:pt x="432" y="153"/>
                    </a:lnTo>
                    <a:lnTo>
                      <a:pt x="432" y="175"/>
                    </a:lnTo>
                    <a:lnTo>
                      <a:pt x="452" y="187"/>
                    </a:lnTo>
                    <a:close/>
                    <a:moveTo>
                      <a:pt x="505" y="187"/>
                    </a:moveTo>
                    <a:lnTo>
                      <a:pt x="526" y="175"/>
                    </a:lnTo>
                    <a:lnTo>
                      <a:pt x="526" y="153"/>
                    </a:lnTo>
                    <a:lnTo>
                      <a:pt x="505" y="140"/>
                    </a:lnTo>
                    <a:lnTo>
                      <a:pt x="485" y="153"/>
                    </a:lnTo>
                    <a:lnTo>
                      <a:pt x="485" y="175"/>
                    </a:lnTo>
                    <a:lnTo>
                      <a:pt x="505" y="187"/>
                    </a:lnTo>
                    <a:close/>
                    <a:moveTo>
                      <a:pt x="560" y="187"/>
                    </a:moveTo>
                    <a:lnTo>
                      <a:pt x="579" y="175"/>
                    </a:lnTo>
                    <a:lnTo>
                      <a:pt x="579" y="153"/>
                    </a:lnTo>
                    <a:lnTo>
                      <a:pt x="560" y="140"/>
                    </a:lnTo>
                    <a:lnTo>
                      <a:pt x="540" y="153"/>
                    </a:lnTo>
                    <a:lnTo>
                      <a:pt x="540" y="175"/>
                    </a:lnTo>
                    <a:lnTo>
                      <a:pt x="560" y="187"/>
                    </a:lnTo>
                    <a:close/>
                    <a:moveTo>
                      <a:pt x="480" y="422"/>
                    </a:moveTo>
                    <a:lnTo>
                      <a:pt x="500" y="408"/>
                    </a:lnTo>
                    <a:lnTo>
                      <a:pt x="500" y="386"/>
                    </a:lnTo>
                    <a:lnTo>
                      <a:pt x="480" y="375"/>
                    </a:lnTo>
                    <a:lnTo>
                      <a:pt x="458" y="386"/>
                    </a:lnTo>
                    <a:lnTo>
                      <a:pt x="458" y="408"/>
                    </a:lnTo>
                    <a:lnTo>
                      <a:pt x="480" y="422"/>
                    </a:lnTo>
                    <a:close/>
                    <a:moveTo>
                      <a:pt x="532" y="422"/>
                    </a:moveTo>
                    <a:lnTo>
                      <a:pt x="552" y="408"/>
                    </a:lnTo>
                    <a:lnTo>
                      <a:pt x="552" y="386"/>
                    </a:lnTo>
                    <a:lnTo>
                      <a:pt x="532" y="375"/>
                    </a:lnTo>
                    <a:lnTo>
                      <a:pt x="514" y="386"/>
                    </a:lnTo>
                    <a:lnTo>
                      <a:pt x="514" y="408"/>
                    </a:lnTo>
                    <a:lnTo>
                      <a:pt x="532" y="422"/>
                    </a:lnTo>
                    <a:close/>
                    <a:moveTo>
                      <a:pt x="586" y="422"/>
                    </a:moveTo>
                    <a:lnTo>
                      <a:pt x="608" y="408"/>
                    </a:lnTo>
                    <a:lnTo>
                      <a:pt x="608" y="386"/>
                    </a:lnTo>
                    <a:lnTo>
                      <a:pt x="586" y="375"/>
                    </a:lnTo>
                    <a:lnTo>
                      <a:pt x="566" y="386"/>
                    </a:lnTo>
                    <a:lnTo>
                      <a:pt x="566" y="408"/>
                    </a:lnTo>
                    <a:lnTo>
                      <a:pt x="586" y="422"/>
                    </a:lnTo>
                    <a:close/>
                    <a:moveTo>
                      <a:pt x="371" y="422"/>
                    </a:moveTo>
                    <a:lnTo>
                      <a:pt x="392" y="408"/>
                    </a:lnTo>
                    <a:lnTo>
                      <a:pt x="392" y="386"/>
                    </a:lnTo>
                    <a:lnTo>
                      <a:pt x="371" y="375"/>
                    </a:lnTo>
                    <a:lnTo>
                      <a:pt x="351" y="386"/>
                    </a:lnTo>
                    <a:lnTo>
                      <a:pt x="351" y="408"/>
                    </a:lnTo>
                    <a:lnTo>
                      <a:pt x="371" y="422"/>
                    </a:lnTo>
                    <a:close/>
                    <a:moveTo>
                      <a:pt x="426" y="422"/>
                    </a:moveTo>
                    <a:lnTo>
                      <a:pt x="445" y="408"/>
                    </a:lnTo>
                    <a:lnTo>
                      <a:pt x="445" y="386"/>
                    </a:lnTo>
                    <a:lnTo>
                      <a:pt x="426" y="375"/>
                    </a:lnTo>
                    <a:lnTo>
                      <a:pt x="406" y="386"/>
                    </a:lnTo>
                    <a:lnTo>
                      <a:pt x="406" y="408"/>
                    </a:lnTo>
                    <a:lnTo>
                      <a:pt x="426" y="422"/>
                    </a:lnTo>
                    <a:close/>
                    <a:moveTo>
                      <a:pt x="400" y="375"/>
                    </a:moveTo>
                    <a:lnTo>
                      <a:pt x="418" y="361"/>
                    </a:lnTo>
                    <a:lnTo>
                      <a:pt x="418" y="339"/>
                    </a:lnTo>
                    <a:lnTo>
                      <a:pt x="400" y="328"/>
                    </a:lnTo>
                    <a:lnTo>
                      <a:pt x="379" y="339"/>
                    </a:lnTo>
                    <a:lnTo>
                      <a:pt x="379" y="361"/>
                    </a:lnTo>
                    <a:lnTo>
                      <a:pt x="400" y="375"/>
                    </a:lnTo>
                    <a:close/>
                    <a:moveTo>
                      <a:pt x="452" y="375"/>
                    </a:moveTo>
                    <a:lnTo>
                      <a:pt x="473" y="361"/>
                    </a:lnTo>
                    <a:lnTo>
                      <a:pt x="473" y="339"/>
                    </a:lnTo>
                    <a:lnTo>
                      <a:pt x="452" y="328"/>
                    </a:lnTo>
                    <a:lnTo>
                      <a:pt x="432" y="339"/>
                    </a:lnTo>
                    <a:lnTo>
                      <a:pt x="432" y="361"/>
                    </a:lnTo>
                    <a:lnTo>
                      <a:pt x="452" y="375"/>
                    </a:lnTo>
                    <a:close/>
                    <a:moveTo>
                      <a:pt x="505" y="375"/>
                    </a:moveTo>
                    <a:lnTo>
                      <a:pt x="526" y="361"/>
                    </a:lnTo>
                    <a:lnTo>
                      <a:pt x="526" y="339"/>
                    </a:lnTo>
                    <a:lnTo>
                      <a:pt x="505" y="328"/>
                    </a:lnTo>
                    <a:lnTo>
                      <a:pt x="485" y="339"/>
                    </a:lnTo>
                    <a:lnTo>
                      <a:pt x="485" y="361"/>
                    </a:lnTo>
                    <a:lnTo>
                      <a:pt x="505" y="375"/>
                    </a:lnTo>
                    <a:close/>
                    <a:moveTo>
                      <a:pt x="560" y="375"/>
                    </a:moveTo>
                    <a:lnTo>
                      <a:pt x="579" y="361"/>
                    </a:lnTo>
                    <a:lnTo>
                      <a:pt x="579" y="339"/>
                    </a:lnTo>
                    <a:lnTo>
                      <a:pt x="560" y="328"/>
                    </a:lnTo>
                    <a:lnTo>
                      <a:pt x="540" y="339"/>
                    </a:lnTo>
                    <a:lnTo>
                      <a:pt x="540" y="361"/>
                    </a:lnTo>
                    <a:lnTo>
                      <a:pt x="560" y="375"/>
                    </a:lnTo>
                    <a:close/>
                    <a:moveTo>
                      <a:pt x="344" y="375"/>
                    </a:moveTo>
                    <a:lnTo>
                      <a:pt x="364" y="361"/>
                    </a:lnTo>
                    <a:lnTo>
                      <a:pt x="364" y="339"/>
                    </a:lnTo>
                    <a:lnTo>
                      <a:pt x="344" y="328"/>
                    </a:lnTo>
                    <a:lnTo>
                      <a:pt x="324" y="339"/>
                    </a:lnTo>
                    <a:lnTo>
                      <a:pt x="324" y="361"/>
                    </a:lnTo>
                    <a:lnTo>
                      <a:pt x="344" y="375"/>
                    </a:lnTo>
                    <a:close/>
                    <a:moveTo>
                      <a:pt x="371" y="326"/>
                    </a:moveTo>
                    <a:lnTo>
                      <a:pt x="392" y="314"/>
                    </a:lnTo>
                    <a:lnTo>
                      <a:pt x="392" y="293"/>
                    </a:lnTo>
                    <a:lnTo>
                      <a:pt x="371" y="281"/>
                    </a:lnTo>
                    <a:lnTo>
                      <a:pt x="351" y="293"/>
                    </a:lnTo>
                    <a:lnTo>
                      <a:pt x="351" y="314"/>
                    </a:lnTo>
                    <a:lnTo>
                      <a:pt x="371" y="326"/>
                    </a:lnTo>
                    <a:close/>
                    <a:moveTo>
                      <a:pt x="426" y="326"/>
                    </a:moveTo>
                    <a:lnTo>
                      <a:pt x="445" y="314"/>
                    </a:lnTo>
                    <a:lnTo>
                      <a:pt x="445" y="293"/>
                    </a:lnTo>
                    <a:lnTo>
                      <a:pt x="426" y="281"/>
                    </a:lnTo>
                    <a:lnTo>
                      <a:pt x="406" y="293"/>
                    </a:lnTo>
                    <a:lnTo>
                      <a:pt x="406" y="314"/>
                    </a:lnTo>
                    <a:lnTo>
                      <a:pt x="426" y="326"/>
                    </a:lnTo>
                    <a:close/>
                    <a:moveTo>
                      <a:pt x="480" y="326"/>
                    </a:moveTo>
                    <a:lnTo>
                      <a:pt x="500" y="314"/>
                    </a:lnTo>
                    <a:lnTo>
                      <a:pt x="500" y="293"/>
                    </a:lnTo>
                    <a:lnTo>
                      <a:pt x="480" y="281"/>
                    </a:lnTo>
                    <a:lnTo>
                      <a:pt x="458" y="293"/>
                    </a:lnTo>
                    <a:lnTo>
                      <a:pt x="458" y="314"/>
                    </a:lnTo>
                    <a:lnTo>
                      <a:pt x="480" y="326"/>
                    </a:lnTo>
                    <a:close/>
                    <a:moveTo>
                      <a:pt x="532" y="326"/>
                    </a:moveTo>
                    <a:lnTo>
                      <a:pt x="552" y="314"/>
                    </a:lnTo>
                    <a:lnTo>
                      <a:pt x="552" y="293"/>
                    </a:lnTo>
                    <a:lnTo>
                      <a:pt x="532" y="281"/>
                    </a:lnTo>
                    <a:lnTo>
                      <a:pt x="514" y="293"/>
                    </a:lnTo>
                    <a:lnTo>
                      <a:pt x="514" y="314"/>
                    </a:lnTo>
                    <a:lnTo>
                      <a:pt x="532" y="326"/>
                    </a:lnTo>
                    <a:close/>
                    <a:moveTo>
                      <a:pt x="480" y="140"/>
                    </a:moveTo>
                    <a:lnTo>
                      <a:pt x="500" y="129"/>
                    </a:lnTo>
                    <a:lnTo>
                      <a:pt x="500" y="105"/>
                    </a:lnTo>
                    <a:lnTo>
                      <a:pt x="480" y="93"/>
                    </a:lnTo>
                    <a:lnTo>
                      <a:pt x="458" y="105"/>
                    </a:lnTo>
                    <a:lnTo>
                      <a:pt x="458" y="129"/>
                    </a:lnTo>
                    <a:lnTo>
                      <a:pt x="480" y="140"/>
                    </a:lnTo>
                    <a:close/>
                    <a:moveTo>
                      <a:pt x="532" y="140"/>
                    </a:moveTo>
                    <a:lnTo>
                      <a:pt x="552" y="129"/>
                    </a:lnTo>
                    <a:lnTo>
                      <a:pt x="552" y="105"/>
                    </a:lnTo>
                    <a:lnTo>
                      <a:pt x="532" y="93"/>
                    </a:lnTo>
                    <a:lnTo>
                      <a:pt x="514" y="105"/>
                    </a:lnTo>
                    <a:lnTo>
                      <a:pt x="514" y="129"/>
                    </a:lnTo>
                    <a:lnTo>
                      <a:pt x="532" y="140"/>
                    </a:lnTo>
                    <a:close/>
                    <a:moveTo>
                      <a:pt x="505" y="93"/>
                    </a:moveTo>
                    <a:lnTo>
                      <a:pt x="526" y="82"/>
                    </a:lnTo>
                    <a:lnTo>
                      <a:pt x="526" y="58"/>
                    </a:lnTo>
                    <a:lnTo>
                      <a:pt x="505" y="47"/>
                    </a:lnTo>
                    <a:lnTo>
                      <a:pt x="485" y="58"/>
                    </a:lnTo>
                    <a:lnTo>
                      <a:pt x="485" y="82"/>
                    </a:lnTo>
                    <a:lnTo>
                      <a:pt x="505" y="93"/>
                    </a:lnTo>
                    <a:close/>
                    <a:moveTo>
                      <a:pt x="560" y="93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60" y="47"/>
                    </a:lnTo>
                    <a:lnTo>
                      <a:pt x="540" y="58"/>
                    </a:lnTo>
                    <a:lnTo>
                      <a:pt x="540" y="82"/>
                    </a:lnTo>
                    <a:lnTo>
                      <a:pt x="560" y="93"/>
                    </a:lnTo>
                    <a:close/>
                    <a:moveTo>
                      <a:pt x="371" y="140"/>
                    </a:moveTo>
                    <a:lnTo>
                      <a:pt x="392" y="129"/>
                    </a:lnTo>
                    <a:lnTo>
                      <a:pt x="392" y="105"/>
                    </a:lnTo>
                    <a:lnTo>
                      <a:pt x="371" y="93"/>
                    </a:lnTo>
                    <a:lnTo>
                      <a:pt x="351" y="105"/>
                    </a:lnTo>
                    <a:lnTo>
                      <a:pt x="351" y="129"/>
                    </a:lnTo>
                    <a:lnTo>
                      <a:pt x="371" y="140"/>
                    </a:lnTo>
                    <a:close/>
                    <a:moveTo>
                      <a:pt x="426" y="140"/>
                    </a:moveTo>
                    <a:lnTo>
                      <a:pt x="445" y="129"/>
                    </a:lnTo>
                    <a:lnTo>
                      <a:pt x="445" y="105"/>
                    </a:lnTo>
                    <a:lnTo>
                      <a:pt x="426" y="93"/>
                    </a:lnTo>
                    <a:lnTo>
                      <a:pt x="406" y="105"/>
                    </a:lnTo>
                    <a:lnTo>
                      <a:pt x="406" y="129"/>
                    </a:lnTo>
                    <a:lnTo>
                      <a:pt x="426" y="140"/>
                    </a:lnTo>
                    <a:close/>
                    <a:moveTo>
                      <a:pt x="748" y="607"/>
                    </a:moveTo>
                    <a:lnTo>
                      <a:pt x="768" y="596"/>
                    </a:lnTo>
                    <a:lnTo>
                      <a:pt x="768" y="572"/>
                    </a:lnTo>
                    <a:lnTo>
                      <a:pt x="748" y="560"/>
                    </a:lnTo>
                    <a:lnTo>
                      <a:pt x="728" y="572"/>
                    </a:lnTo>
                    <a:lnTo>
                      <a:pt x="728" y="596"/>
                    </a:lnTo>
                    <a:lnTo>
                      <a:pt x="748" y="607"/>
                    </a:lnTo>
                    <a:close/>
                    <a:moveTo>
                      <a:pt x="803" y="607"/>
                    </a:moveTo>
                    <a:lnTo>
                      <a:pt x="823" y="596"/>
                    </a:lnTo>
                    <a:lnTo>
                      <a:pt x="823" y="572"/>
                    </a:lnTo>
                    <a:lnTo>
                      <a:pt x="803" y="560"/>
                    </a:lnTo>
                    <a:lnTo>
                      <a:pt x="783" y="572"/>
                    </a:lnTo>
                    <a:lnTo>
                      <a:pt x="783" y="596"/>
                    </a:lnTo>
                    <a:lnTo>
                      <a:pt x="803" y="607"/>
                    </a:lnTo>
                    <a:close/>
                    <a:moveTo>
                      <a:pt x="858" y="607"/>
                    </a:moveTo>
                    <a:lnTo>
                      <a:pt x="878" y="596"/>
                    </a:lnTo>
                    <a:lnTo>
                      <a:pt x="878" y="572"/>
                    </a:lnTo>
                    <a:lnTo>
                      <a:pt x="858" y="560"/>
                    </a:lnTo>
                    <a:lnTo>
                      <a:pt x="836" y="572"/>
                    </a:lnTo>
                    <a:lnTo>
                      <a:pt x="836" y="596"/>
                    </a:lnTo>
                    <a:lnTo>
                      <a:pt x="858" y="607"/>
                    </a:lnTo>
                    <a:close/>
                    <a:moveTo>
                      <a:pt x="911" y="607"/>
                    </a:moveTo>
                    <a:lnTo>
                      <a:pt x="931" y="596"/>
                    </a:lnTo>
                    <a:lnTo>
                      <a:pt x="931" y="572"/>
                    </a:lnTo>
                    <a:lnTo>
                      <a:pt x="911" y="560"/>
                    </a:lnTo>
                    <a:lnTo>
                      <a:pt x="891" y="572"/>
                    </a:lnTo>
                    <a:lnTo>
                      <a:pt x="891" y="596"/>
                    </a:lnTo>
                    <a:lnTo>
                      <a:pt x="911" y="607"/>
                    </a:lnTo>
                    <a:close/>
                    <a:moveTo>
                      <a:pt x="532" y="607"/>
                    </a:moveTo>
                    <a:lnTo>
                      <a:pt x="552" y="596"/>
                    </a:lnTo>
                    <a:lnTo>
                      <a:pt x="552" y="572"/>
                    </a:lnTo>
                    <a:lnTo>
                      <a:pt x="532" y="560"/>
                    </a:lnTo>
                    <a:lnTo>
                      <a:pt x="514" y="572"/>
                    </a:lnTo>
                    <a:lnTo>
                      <a:pt x="514" y="596"/>
                    </a:lnTo>
                    <a:lnTo>
                      <a:pt x="532" y="607"/>
                    </a:lnTo>
                    <a:close/>
                    <a:moveTo>
                      <a:pt x="586" y="607"/>
                    </a:moveTo>
                    <a:lnTo>
                      <a:pt x="608" y="596"/>
                    </a:lnTo>
                    <a:lnTo>
                      <a:pt x="608" y="572"/>
                    </a:lnTo>
                    <a:lnTo>
                      <a:pt x="586" y="560"/>
                    </a:lnTo>
                    <a:lnTo>
                      <a:pt x="566" y="572"/>
                    </a:lnTo>
                    <a:lnTo>
                      <a:pt x="566" y="596"/>
                    </a:lnTo>
                    <a:lnTo>
                      <a:pt x="586" y="607"/>
                    </a:lnTo>
                    <a:close/>
                    <a:moveTo>
                      <a:pt x="640" y="607"/>
                    </a:moveTo>
                    <a:lnTo>
                      <a:pt x="660" y="596"/>
                    </a:lnTo>
                    <a:lnTo>
                      <a:pt x="660" y="572"/>
                    </a:lnTo>
                    <a:lnTo>
                      <a:pt x="640" y="560"/>
                    </a:lnTo>
                    <a:lnTo>
                      <a:pt x="621" y="572"/>
                    </a:lnTo>
                    <a:lnTo>
                      <a:pt x="621" y="596"/>
                    </a:lnTo>
                    <a:lnTo>
                      <a:pt x="640" y="607"/>
                    </a:lnTo>
                    <a:close/>
                    <a:moveTo>
                      <a:pt x="695" y="607"/>
                    </a:moveTo>
                    <a:lnTo>
                      <a:pt x="715" y="596"/>
                    </a:lnTo>
                    <a:lnTo>
                      <a:pt x="715" y="572"/>
                    </a:lnTo>
                    <a:lnTo>
                      <a:pt x="695" y="560"/>
                    </a:lnTo>
                    <a:lnTo>
                      <a:pt x="674" y="572"/>
                    </a:lnTo>
                    <a:lnTo>
                      <a:pt x="674" y="596"/>
                    </a:lnTo>
                    <a:lnTo>
                      <a:pt x="695" y="607"/>
                    </a:lnTo>
                    <a:close/>
                    <a:moveTo>
                      <a:pt x="966" y="607"/>
                    </a:moveTo>
                    <a:lnTo>
                      <a:pt x="985" y="596"/>
                    </a:lnTo>
                    <a:lnTo>
                      <a:pt x="985" y="572"/>
                    </a:lnTo>
                    <a:lnTo>
                      <a:pt x="966" y="560"/>
                    </a:lnTo>
                    <a:lnTo>
                      <a:pt x="946" y="572"/>
                    </a:lnTo>
                    <a:lnTo>
                      <a:pt x="946" y="596"/>
                    </a:lnTo>
                    <a:lnTo>
                      <a:pt x="966" y="607"/>
                    </a:lnTo>
                    <a:close/>
                    <a:moveTo>
                      <a:pt x="1018" y="607"/>
                    </a:moveTo>
                    <a:lnTo>
                      <a:pt x="1040" y="596"/>
                    </a:lnTo>
                    <a:lnTo>
                      <a:pt x="1040" y="572"/>
                    </a:lnTo>
                    <a:lnTo>
                      <a:pt x="1018" y="560"/>
                    </a:lnTo>
                    <a:lnTo>
                      <a:pt x="998" y="572"/>
                    </a:lnTo>
                    <a:lnTo>
                      <a:pt x="998" y="596"/>
                    </a:lnTo>
                    <a:lnTo>
                      <a:pt x="1018" y="607"/>
                    </a:lnTo>
                    <a:close/>
                    <a:moveTo>
                      <a:pt x="1072" y="607"/>
                    </a:moveTo>
                    <a:lnTo>
                      <a:pt x="1092" y="596"/>
                    </a:lnTo>
                    <a:lnTo>
                      <a:pt x="1092" y="572"/>
                    </a:lnTo>
                    <a:lnTo>
                      <a:pt x="1072" y="560"/>
                    </a:lnTo>
                    <a:lnTo>
                      <a:pt x="1054" y="572"/>
                    </a:lnTo>
                    <a:lnTo>
                      <a:pt x="1054" y="596"/>
                    </a:lnTo>
                    <a:lnTo>
                      <a:pt x="1072" y="607"/>
                    </a:lnTo>
                    <a:close/>
                    <a:moveTo>
                      <a:pt x="884" y="560"/>
                    </a:moveTo>
                    <a:lnTo>
                      <a:pt x="904" y="550"/>
                    </a:lnTo>
                    <a:lnTo>
                      <a:pt x="904" y="525"/>
                    </a:lnTo>
                    <a:lnTo>
                      <a:pt x="884" y="514"/>
                    </a:lnTo>
                    <a:lnTo>
                      <a:pt x="864" y="525"/>
                    </a:lnTo>
                    <a:lnTo>
                      <a:pt x="864" y="550"/>
                    </a:lnTo>
                    <a:lnTo>
                      <a:pt x="884" y="560"/>
                    </a:lnTo>
                    <a:close/>
                    <a:moveTo>
                      <a:pt x="940" y="560"/>
                    </a:moveTo>
                    <a:lnTo>
                      <a:pt x="958" y="550"/>
                    </a:lnTo>
                    <a:lnTo>
                      <a:pt x="958" y="525"/>
                    </a:lnTo>
                    <a:lnTo>
                      <a:pt x="940" y="514"/>
                    </a:lnTo>
                    <a:lnTo>
                      <a:pt x="917" y="525"/>
                    </a:lnTo>
                    <a:lnTo>
                      <a:pt x="917" y="550"/>
                    </a:lnTo>
                    <a:lnTo>
                      <a:pt x="940" y="560"/>
                    </a:lnTo>
                    <a:close/>
                    <a:moveTo>
                      <a:pt x="992" y="560"/>
                    </a:moveTo>
                    <a:lnTo>
                      <a:pt x="1011" y="550"/>
                    </a:lnTo>
                    <a:lnTo>
                      <a:pt x="1011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50"/>
                    </a:lnTo>
                    <a:lnTo>
                      <a:pt x="992" y="560"/>
                    </a:lnTo>
                    <a:close/>
                    <a:moveTo>
                      <a:pt x="1046" y="560"/>
                    </a:moveTo>
                    <a:lnTo>
                      <a:pt x="1066" y="550"/>
                    </a:lnTo>
                    <a:lnTo>
                      <a:pt x="1066" y="525"/>
                    </a:lnTo>
                    <a:lnTo>
                      <a:pt x="1046" y="514"/>
                    </a:lnTo>
                    <a:lnTo>
                      <a:pt x="1027" y="525"/>
                    </a:lnTo>
                    <a:lnTo>
                      <a:pt x="1027" y="550"/>
                    </a:lnTo>
                    <a:lnTo>
                      <a:pt x="1046" y="560"/>
                    </a:lnTo>
                    <a:close/>
                    <a:moveTo>
                      <a:pt x="666" y="560"/>
                    </a:moveTo>
                    <a:lnTo>
                      <a:pt x="689" y="550"/>
                    </a:lnTo>
                    <a:lnTo>
                      <a:pt x="689" y="525"/>
                    </a:lnTo>
                    <a:lnTo>
                      <a:pt x="666" y="514"/>
                    </a:lnTo>
                    <a:lnTo>
                      <a:pt x="648" y="525"/>
                    </a:lnTo>
                    <a:lnTo>
                      <a:pt x="648" y="550"/>
                    </a:lnTo>
                    <a:lnTo>
                      <a:pt x="666" y="560"/>
                    </a:lnTo>
                    <a:close/>
                    <a:moveTo>
                      <a:pt x="722" y="560"/>
                    </a:moveTo>
                    <a:lnTo>
                      <a:pt x="742" y="550"/>
                    </a:lnTo>
                    <a:lnTo>
                      <a:pt x="742" y="525"/>
                    </a:lnTo>
                    <a:lnTo>
                      <a:pt x="722" y="514"/>
                    </a:lnTo>
                    <a:lnTo>
                      <a:pt x="701" y="525"/>
                    </a:lnTo>
                    <a:lnTo>
                      <a:pt x="701" y="550"/>
                    </a:lnTo>
                    <a:lnTo>
                      <a:pt x="722" y="560"/>
                    </a:lnTo>
                    <a:close/>
                    <a:moveTo>
                      <a:pt x="777" y="560"/>
                    </a:moveTo>
                    <a:lnTo>
                      <a:pt x="797" y="550"/>
                    </a:lnTo>
                    <a:lnTo>
                      <a:pt x="797" y="525"/>
                    </a:lnTo>
                    <a:lnTo>
                      <a:pt x="777" y="514"/>
                    </a:lnTo>
                    <a:lnTo>
                      <a:pt x="754" y="525"/>
                    </a:lnTo>
                    <a:lnTo>
                      <a:pt x="754" y="550"/>
                    </a:lnTo>
                    <a:lnTo>
                      <a:pt x="777" y="560"/>
                    </a:lnTo>
                    <a:close/>
                    <a:moveTo>
                      <a:pt x="829" y="560"/>
                    </a:moveTo>
                    <a:lnTo>
                      <a:pt x="849" y="550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50"/>
                    </a:lnTo>
                    <a:lnTo>
                      <a:pt x="829" y="560"/>
                    </a:lnTo>
                    <a:close/>
                    <a:moveTo>
                      <a:pt x="505" y="560"/>
                    </a:moveTo>
                    <a:lnTo>
                      <a:pt x="526" y="550"/>
                    </a:lnTo>
                    <a:lnTo>
                      <a:pt x="526" y="525"/>
                    </a:lnTo>
                    <a:lnTo>
                      <a:pt x="505" y="514"/>
                    </a:lnTo>
                    <a:lnTo>
                      <a:pt x="485" y="525"/>
                    </a:lnTo>
                    <a:lnTo>
                      <a:pt x="485" y="550"/>
                    </a:lnTo>
                    <a:lnTo>
                      <a:pt x="505" y="560"/>
                    </a:lnTo>
                    <a:close/>
                    <a:moveTo>
                      <a:pt x="560" y="560"/>
                    </a:moveTo>
                    <a:lnTo>
                      <a:pt x="579" y="550"/>
                    </a:lnTo>
                    <a:lnTo>
                      <a:pt x="579" y="525"/>
                    </a:lnTo>
                    <a:lnTo>
                      <a:pt x="560" y="514"/>
                    </a:lnTo>
                    <a:lnTo>
                      <a:pt x="540" y="525"/>
                    </a:lnTo>
                    <a:lnTo>
                      <a:pt x="540" y="550"/>
                    </a:lnTo>
                    <a:lnTo>
                      <a:pt x="560" y="560"/>
                    </a:lnTo>
                    <a:close/>
                    <a:moveTo>
                      <a:pt x="614" y="560"/>
                    </a:moveTo>
                    <a:lnTo>
                      <a:pt x="634" y="550"/>
                    </a:lnTo>
                    <a:lnTo>
                      <a:pt x="634" y="525"/>
                    </a:lnTo>
                    <a:lnTo>
                      <a:pt x="614" y="514"/>
                    </a:lnTo>
                    <a:lnTo>
                      <a:pt x="592" y="525"/>
                    </a:lnTo>
                    <a:lnTo>
                      <a:pt x="592" y="550"/>
                    </a:lnTo>
                    <a:lnTo>
                      <a:pt x="614" y="560"/>
                    </a:lnTo>
                    <a:close/>
                    <a:moveTo>
                      <a:pt x="911" y="514"/>
                    </a:moveTo>
                    <a:lnTo>
                      <a:pt x="931" y="504"/>
                    </a:lnTo>
                    <a:lnTo>
                      <a:pt x="931" y="478"/>
                    </a:lnTo>
                    <a:lnTo>
                      <a:pt x="911" y="468"/>
                    </a:lnTo>
                    <a:lnTo>
                      <a:pt x="891" y="478"/>
                    </a:lnTo>
                    <a:lnTo>
                      <a:pt x="891" y="504"/>
                    </a:lnTo>
                    <a:lnTo>
                      <a:pt x="911" y="514"/>
                    </a:lnTo>
                    <a:close/>
                    <a:moveTo>
                      <a:pt x="966" y="514"/>
                    </a:moveTo>
                    <a:lnTo>
                      <a:pt x="985" y="504"/>
                    </a:lnTo>
                    <a:lnTo>
                      <a:pt x="985" y="478"/>
                    </a:lnTo>
                    <a:lnTo>
                      <a:pt x="966" y="468"/>
                    </a:lnTo>
                    <a:lnTo>
                      <a:pt x="946" y="478"/>
                    </a:lnTo>
                    <a:lnTo>
                      <a:pt x="946" y="504"/>
                    </a:lnTo>
                    <a:lnTo>
                      <a:pt x="966" y="514"/>
                    </a:lnTo>
                    <a:close/>
                    <a:moveTo>
                      <a:pt x="1018" y="514"/>
                    </a:moveTo>
                    <a:lnTo>
                      <a:pt x="1040" y="504"/>
                    </a:lnTo>
                    <a:lnTo>
                      <a:pt x="1040" y="478"/>
                    </a:lnTo>
                    <a:lnTo>
                      <a:pt x="1018" y="468"/>
                    </a:lnTo>
                    <a:lnTo>
                      <a:pt x="998" y="478"/>
                    </a:lnTo>
                    <a:lnTo>
                      <a:pt x="998" y="504"/>
                    </a:lnTo>
                    <a:lnTo>
                      <a:pt x="1018" y="514"/>
                    </a:lnTo>
                    <a:close/>
                    <a:moveTo>
                      <a:pt x="1072" y="514"/>
                    </a:moveTo>
                    <a:lnTo>
                      <a:pt x="1092" y="504"/>
                    </a:lnTo>
                    <a:lnTo>
                      <a:pt x="1092" y="478"/>
                    </a:lnTo>
                    <a:lnTo>
                      <a:pt x="1072" y="468"/>
                    </a:lnTo>
                    <a:lnTo>
                      <a:pt x="1054" y="478"/>
                    </a:lnTo>
                    <a:lnTo>
                      <a:pt x="1054" y="504"/>
                    </a:lnTo>
                    <a:lnTo>
                      <a:pt x="1072" y="514"/>
                    </a:lnTo>
                    <a:close/>
                    <a:moveTo>
                      <a:pt x="695" y="514"/>
                    </a:moveTo>
                    <a:lnTo>
                      <a:pt x="715" y="504"/>
                    </a:lnTo>
                    <a:lnTo>
                      <a:pt x="715" y="478"/>
                    </a:lnTo>
                    <a:lnTo>
                      <a:pt x="695" y="468"/>
                    </a:lnTo>
                    <a:lnTo>
                      <a:pt x="674" y="478"/>
                    </a:lnTo>
                    <a:lnTo>
                      <a:pt x="674" y="504"/>
                    </a:lnTo>
                    <a:lnTo>
                      <a:pt x="695" y="514"/>
                    </a:lnTo>
                    <a:close/>
                    <a:moveTo>
                      <a:pt x="748" y="514"/>
                    </a:moveTo>
                    <a:lnTo>
                      <a:pt x="768" y="504"/>
                    </a:lnTo>
                    <a:lnTo>
                      <a:pt x="768" y="478"/>
                    </a:lnTo>
                    <a:lnTo>
                      <a:pt x="748" y="468"/>
                    </a:lnTo>
                    <a:lnTo>
                      <a:pt x="728" y="478"/>
                    </a:lnTo>
                    <a:lnTo>
                      <a:pt x="728" y="504"/>
                    </a:lnTo>
                    <a:lnTo>
                      <a:pt x="748" y="514"/>
                    </a:lnTo>
                    <a:close/>
                    <a:moveTo>
                      <a:pt x="803" y="514"/>
                    </a:moveTo>
                    <a:lnTo>
                      <a:pt x="823" y="504"/>
                    </a:lnTo>
                    <a:lnTo>
                      <a:pt x="823" y="478"/>
                    </a:lnTo>
                    <a:lnTo>
                      <a:pt x="803" y="468"/>
                    </a:lnTo>
                    <a:lnTo>
                      <a:pt x="783" y="478"/>
                    </a:lnTo>
                    <a:lnTo>
                      <a:pt x="783" y="504"/>
                    </a:lnTo>
                    <a:lnTo>
                      <a:pt x="803" y="514"/>
                    </a:lnTo>
                    <a:close/>
                    <a:moveTo>
                      <a:pt x="858" y="514"/>
                    </a:moveTo>
                    <a:lnTo>
                      <a:pt x="878" y="504"/>
                    </a:lnTo>
                    <a:lnTo>
                      <a:pt x="878" y="478"/>
                    </a:lnTo>
                    <a:lnTo>
                      <a:pt x="858" y="468"/>
                    </a:lnTo>
                    <a:lnTo>
                      <a:pt x="836" y="478"/>
                    </a:lnTo>
                    <a:lnTo>
                      <a:pt x="836" y="504"/>
                    </a:lnTo>
                    <a:lnTo>
                      <a:pt x="858" y="514"/>
                    </a:lnTo>
                    <a:close/>
                    <a:moveTo>
                      <a:pt x="640" y="514"/>
                    </a:moveTo>
                    <a:lnTo>
                      <a:pt x="660" y="504"/>
                    </a:lnTo>
                    <a:lnTo>
                      <a:pt x="660" y="478"/>
                    </a:lnTo>
                    <a:lnTo>
                      <a:pt x="640" y="468"/>
                    </a:lnTo>
                    <a:lnTo>
                      <a:pt x="621" y="478"/>
                    </a:lnTo>
                    <a:lnTo>
                      <a:pt x="621" y="504"/>
                    </a:lnTo>
                    <a:lnTo>
                      <a:pt x="640" y="514"/>
                    </a:lnTo>
                    <a:close/>
                    <a:moveTo>
                      <a:pt x="884" y="468"/>
                    </a:moveTo>
                    <a:lnTo>
                      <a:pt x="904" y="454"/>
                    </a:lnTo>
                    <a:lnTo>
                      <a:pt x="904" y="432"/>
                    </a:lnTo>
                    <a:lnTo>
                      <a:pt x="884" y="422"/>
                    </a:lnTo>
                    <a:lnTo>
                      <a:pt x="864" y="432"/>
                    </a:lnTo>
                    <a:lnTo>
                      <a:pt x="864" y="454"/>
                    </a:lnTo>
                    <a:lnTo>
                      <a:pt x="884" y="468"/>
                    </a:lnTo>
                    <a:close/>
                    <a:moveTo>
                      <a:pt x="940" y="468"/>
                    </a:moveTo>
                    <a:lnTo>
                      <a:pt x="958" y="454"/>
                    </a:lnTo>
                    <a:lnTo>
                      <a:pt x="958" y="432"/>
                    </a:lnTo>
                    <a:lnTo>
                      <a:pt x="940" y="422"/>
                    </a:lnTo>
                    <a:lnTo>
                      <a:pt x="917" y="432"/>
                    </a:lnTo>
                    <a:lnTo>
                      <a:pt x="917" y="454"/>
                    </a:lnTo>
                    <a:lnTo>
                      <a:pt x="940" y="468"/>
                    </a:lnTo>
                    <a:close/>
                    <a:moveTo>
                      <a:pt x="992" y="468"/>
                    </a:moveTo>
                    <a:lnTo>
                      <a:pt x="1011" y="454"/>
                    </a:lnTo>
                    <a:lnTo>
                      <a:pt x="1011" y="432"/>
                    </a:lnTo>
                    <a:lnTo>
                      <a:pt x="992" y="422"/>
                    </a:lnTo>
                    <a:lnTo>
                      <a:pt x="972" y="432"/>
                    </a:lnTo>
                    <a:lnTo>
                      <a:pt x="972" y="454"/>
                    </a:lnTo>
                    <a:lnTo>
                      <a:pt x="992" y="468"/>
                    </a:lnTo>
                    <a:close/>
                    <a:moveTo>
                      <a:pt x="1046" y="468"/>
                    </a:moveTo>
                    <a:lnTo>
                      <a:pt x="1066" y="454"/>
                    </a:lnTo>
                    <a:lnTo>
                      <a:pt x="1066" y="432"/>
                    </a:lnTo>
                    <a:lnTo>
                      <a:pt x="1046" y="422"/>
                    </a:lnTo>
                    <a:lnTo>
                      <a:pt x="1027" y="432"/>
                    </a:lnTo>
                    <a:lnTo>
                      <a:pt x="1027" y="454"/>
                    </a:lnTo>
                    <a:lnTo>
                      <a:pt x="1046" y="468"/>
                    </a:lnTo>
                    <a:close/>
                    <a:moveTo>
                      <a:pt x="666" y="468"/>
                    </a:moveTo>
                    <a:lnTo>
                      <a:pt x="689" y="454"/>
                    </a:lnTo>
                    <a:lnTo>
                      <a:pt x="689" y="432"/>
                    </a:lnTo>
                    <a:lnTo>
                      <a:pt x="666" y="422"/>
                    </a:lnTo>
                    <a:lnTo>
                      <a:pt x="648" y="432"/>
                    </a:lnTo>
                    <a:lnTo>
                      <a:pt x="648" y="454"/>
                    </a:lnTo>
                    <a:lnTo>
                      <a:pt x="666" y="468"/>
                    </a:lnTo>
                    <a:close/>
                    <a:moveTo>
                      <a:pt x="722" y="468"/>
                    </a:moveTo>
                    <a:lnTo>
                      <a:pt x="742" y="454"/>
                    </a:lnTo>
                    <a:lnTo>
                      <a:pt x="742" y="432"/>
                    </a:lnTo>
                    <a:lnTo>
                      <a:pt x="722" y="422"/>
                    </a:lnTo>
                    <a:lnTo>
                      <a:pt x="701" y="432"/>
                    </a:lnTo>
                    <a:lnTo>
                      <a:pt x="701" y="454"/>
                    </a:lnTo>
                    <a:lnTo>
                      <a:pt x="722" y="468"/>
                    </a:lnTo>
                    <a:close/>
                    <a:moveTo>
                      <a:pt x="777" y="468"/>
                    </a:moveTo>
                    <a:lnTo>
                      <a:pt x="797" y="454"/>
                    </a:lnTo>
                    <a:lnTo>
                      <a:pt x="797" y="432"/>
                    </a:lnTo>
                    <a:lnTo>
                      <a:pt x="777" y="422"/>
                    </a:lnTo>
                    <a:lnTo>
                      <a:pt x="754" y="432"/>
                    </a:lnTo>
                    <a:lnTo>
                      <a:pt x="754" y="454"/>
                    </a:lnTo>
                    <a:lnTo>
                      <a:pt x="777" y="468"/>
                    </a:lnTo>
                    <a:close/>
                    <a:moveTo>
                      <a:pt x="829" y="468"/>
                    </a:moveTo>
                    <a:lnTo>
                      <a:pt x="849" y="454"/>
                    </a:lnTo>
                    <a:lnTo>
                      <a:pt x="849" y="432"/>
                    </a:lnTo>
                    <a:lnTo>
                      <a:pt x="829" y="422"/>
                    </a:lnTo>
                    <a:lnTo>
                      <a:pt x="809" y="432"/>
                    </a:lnTo>
                    <a:lnTo>
                      <a:pt x="809" y="454"/>
                    </a:lnTo>
                    <a:lnTo>
                      <a:pt x="829" y="468"/>
                    </a:lnTo>
                    <a:close/>
                    <a:moveTo>
                      <a:pt x="614" y="468"/>
                    </a:moveTo>
                    <a:lnTo>
                      <a:pt x="634" y="454"/>
                    </a:lnTo>
                    <a:lnTo>
                      <a:pt x="634" y="432"/>
                    </a:lnTo>
                    <a:lnTo>
                      <a:pt x="614" y="422"/>
                    </a:lnTo>
                    <a:lnTo>
                      <a:pt x="592" y="432"/>
                    </a:lnTo>
                    <a:lnTo>
                      <a:pt x="592" y="454"/>
                    </a:lnTo>
                    <a:lnTo>
                      <a:pt x="614" y="468"/>
                    </a:lnTo>
                    <a:close/>
                    <a:moveTo>
                      <a:pt x="1046" y="654"/>
                    </a:moveTo>
                    <a:lnTo>
                      <a:pt x="1066" y="642"/>
                    </a:lnTo>
                    <a:lnTo>
                      <a:pt x="1066" y="618"/>
                    </a:lnTo>
                    <a:lnTo>
                      <a:pt x="1046" y="607"/>
                    </a:lnTo>
                    <a:lnTo>
                      <a:pt x="1027" y="618"/>
                    </a:lnTo>
                    <a:lnTo>
                      <a:pt x="1027" y="642"/>
                    </a:lnTo>
                    <a:lnTo>
                      <a:pt x="1046" y="654"/>
                    </a:lnTo>
                    <a:close/>
                    <a:moveTo>
                      <a:pt x="505" y="654"/>
                    </a:moveTo>
                    <a:lnTo>
                      <a:pt x="526" y="642"/>
                    </a:lnTo>
                    <a:lnTo>
                      <a:pt x="526" y="618"/>
                    </a:lnTo>
                    <a:lnTo>
                      <a:pt x="505" y="607"/>
                    </a:lnTo>
                    <a:lnTo>
                      <a:pt x="485" y="618"/>
                    </a:lnTo>
                    <a:lnTo>
                      <a:pt x="485" y="642"/>
                    </a:lnTo>
                    <a:lnTo>
                      <a:pt x="505" y="654"/>
                    </a:lnTo>
                    <a:close/>
                    <a:moveTo>
                      <a:pt x="560" y="654"/>
                    </a:moveTo>
                    <a:lnTo>
                      <a:pt x="579" y="642"/>
                    </a:lnTo>
                    <a:lnTo>
                      <a:pt x="579" y="618"/>
                    </a:lnTo>
                    <a:lnTo>
                      <a:pt x="560" y="607"/>
                    </a:lnTo>
                    <a:lnTo>
                      <a:pt x="540" y="618"/>
                    </a:lnTo>
                    <a:lnTo>
                      <a:pt x="540" y="642"/>
                    </a:lnTo>
                    <a:lnTo>
                      <a:pt x="560" y="654"/>
                    </a:lnTo>
                    <a:close/>
                    <a:moveTo>
                      <a:pt x="614" y="654"/>
                    </a:moveTo>
                    <a:lnTo>
                      <a:pt x="634" y="642"/>
                    </a:lnTo>
                    <a:lnTo>
                      <a:pt x="634" y="618"/>
                    </a:lnTo>
                    <a:lnTo>
                      <a:pt x="614" y="607"/>
                    </a:lnTo>
                    <a:lnTo>
                      <a:pt x="592" y="618"/>
                    </a:lnTo>
                    <a:lnTo>
                      <a:pt x="592" y="642"/>
                    </a:lnTo>
                    <a:lnTo>
                      <a:pt x="614" y="654"/>
                    </a:lnTo>
                    <a:close/>
                    <a:moveTo>
                      <a:pt x="666" y="654"/>
                    </a:moveTo>
                    <a:lnTo>
                      <a:pt x="689" y="642"/>
                    </a:lnTo>
                    <a:lnTo>
                      <a:pt x="689" y="618"/>
                    </a:lnTo>
                    <a:lnTo>
                      <a:pt x="666" y="607"/>
                    </a:lnTo>
                    <a:lnTo>
                      <a:pt x="648" y="618"/>
                    </a:lnTo>
                    <a:lnTo>
                      <a:pt x="648" y="642"/>
                    </a:lnTo>
                    <a:lnTo>
                      <a:pt x="666" y="654"/>
                    </a:lnTo>
                    <a:close/>
                    <a:moveTo>
                      <a:pt x="722" y="654"/>
                    </a:moveTo>
                    <a:lnTo>
                      <a:pt x="742" y="642"/>
                    </a:lnTo>
                    <a:lnTo>
                      <a:pt x="742" y="618"/>
                    </a:lnTo>
                    <a:lnTo>
                      <a:pt x="722" y="607"/>
                    </a:lnTo>
                    <a:lnTo>
                      <a:pt x="701" y="618"/>
                    </a:lnTo>
                    <a:lnTo>
                      <a:pt x="701" y="642"/>
                    </a:lnTo>
                    <a:lnTo>
                      <a:pt x="722" y="654"/>
                    </a:lnTo>
                    <a:close/>
                    <a:moveTo>
                      <a:pt x="777" y="654"/>
                    </a:moveTo>
                    <a:lnTo>
                      <a:pt x="797" y="642"/>
                    </a:lnTo>
                    <a:lnTo>
                      <a:pt x="797" y="618"/>
                    </a:lnTo>
                    <a:lnTo>
                      <a:pt x="777" y="607"/>
                    </a:lnTo>
                    <a:lnTo>
                      <a:pt x="754" y="618"/>
                    </a:lnTo>
                    <a:lnTo>
                      <a:pt x="754" y="642"/>
                    </a:lnTo>
                    <a:lnTo>
                      <a:pt x="777" y="654"/>
                    </a:lnTo>
                    <a:close/>
                    <a:moveTo>
                      <a:pt x="829" y="654"/>
                    </a:moveTo>
                    <a:lnTo>
                      <a:pt x="849" y="642"/>
                    </a:lnTo>
                    <a:lnTo>
                      <a:pt x="849" y="618"/>
                    </a:lnTo>
                    <a:lnTo>
                      <a:pt x="829" y="607"/>
                    </a:lnTo>
                    <a:lnTo>
                      <a:pt x="809" y="618"/>
                    </a:lnTo>
                    <a:lnTo>
                      <a:pt x="809" y="642"/>
                    </a:lnTo>
                    <a:lnTo>
                      <a:pt x="829" y="654"/>
                    </a:lnTo>
                    <a:close/>
                    <a:moveTo>
                      <a:pt x="884" y="654"/>
                    </a:moveTo>
                    <a:lnTo>
                      <a:pt x="904" y="642"/>
                    </a:lnTo>
                    <a:lnTo>
                      <a:pt x="904" y="618"/>
                    </a:lnTo>
                    <a:lnTo>
                      <a:pt x="884" y="607"/>
                    </a:lnTo>
                    <a:lnTo>
                      <a:pt x="864" y="618"/>
                    </a:lnTo>
                    <a:lnTo>
                      <a:pt x="864" y="642"/>
                    </a:lnTo>
                    <a:lnTo>
                      <a:pt x="884" y="654"/>
                    </a:lnTo>
                    <a:close/>
                    <a:moveTo>
                      <a:pt x="940" y="654"/>
                    </a:moveTo>
                    <a:lnTo>
                      <a:pt x="958" y="642"/>
                    </a:lnTo>
                    <a:lnTo>
                      <a:pt x="958" y="618"/>
                    </a:lnTo>
                    <a:lnTo>
                      <a:pt x="940" y="607"/>
                    </a:lnTo>
                    <a:lnTo>
                      <a:pt x="917" y="618"/>
                    </a:lnTo>
                    <a:lnTo>
                      <a:pt x="917" y="642"/>
                    </a:lnTo>
                    <a:lnTo>
                      <a:pt x="940" y="654"/>
                    </a:lnTo>
                    <a:close/>
                    <a:moveTo>
                      <a:pt x="992" y="654"/>
                    </a:moveTo>
                    <a:lnTo>
                      <a:pt x="1011" y="642"/>
                    </a:lnTo>
                    <a:lnTo>
                      <a:pt x="1011" y="618"/>
                    </a:lnTo>
                    <a:lnTo>
                      <a:pt x="992" y="607"/>
                    </a:lnTo>
                    <a:lnTo>
                      <a:pt x="972" y="618"/>
                    </a:lnTo>
                    <a:lnTo>
                      <a:pt x="972" y="642"/>
                    </a:lnTo>
                    <a:lnTo>
                      <a:pt x="992" y="654"/>
                    </a:lnTo>
                    <a:close/>
                    <a:moveTo>
                      <a:pt x="1018" y="422"/>
                    </a:moveTo>
                    <a:lnTo>
                      <a:pt x="1040" y="408"/>
                    </a:lnTo>
                    <a:lnTo>
                      <a:pt x="1040" y="386"/>
                    </a:lnTo>
                    <a:lnTo>
                      <a:pt x="1018" y="375"/>
                    </a:lnTo>
                    <a:lnTo>
                      <a:pt x="998" y="386"/>
                    </a:lnTo>
                    <a:lnTo>
                      <a:pt x="998" y="408"/>
                    </a:lnTo>
                    <a:lnTo>
                      <a:pt x="1018" y="422"/>
                    </a:lnTo>
                    <a:close/>
                    <a:moveTo>
                      <a:pt x="1072" y="422"/>
                    </a:moveTo>
                    <a:lnTo>
                      <a:pt x="1092" y="408"/>
                    </a:lnTo>
                    <a:lnTo>
                      <a:pt x="1092" y="386"/>
                    </a:lnTo>
                    <a:lnTo>
                      <a:pt x="1072" y="375"/>
                    </a:lnTo>
                    <a:lnTo>
                      <a:pt x="1054" y="386"/>
                    </a:lnTo>
                    <a:lnTo>
                      <a:pt x="1054" y="408"/>
                    </a:lnTo>
                    <a:lnTo>
                      <a:pt x="1072" y="422"/>
                    </a:lnTo>
                    <a:close/>
                    <a:moveTo>
                      <a:pt x="480" y="607"/>
                    </a:moveTo>
                    <a:lnTo>
                      <a:pt x="500" y="596"/>
                    </a:lnTo>
                    <a:lnTo>
                      <a:pt x="500" y="572"/>
                    </a:lnTo>
                    <a:lnTo>
                      <a:pt x="480" y="560"/>
                    </a:lnTo>
                    <a:lnTo>
                      <a:pt x="458" y="572"/>
                    </a:lnTo>
                    <a:lnTo>
                      <a:pt x="458" y="596"/>
                    </a:lnTo>
                    <a:lnTo>
                      <a:pt x="480" y="60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499068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03316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07528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116320" y="436392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160240" y="436392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4968720" y="432504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012640" y="432504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053320" y="43250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096160" y="43250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139720" y="43250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180760" y="432504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499068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03316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07528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116320" y="428976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160240" y="428976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20452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4968720" y="425088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012640" y="425088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053320" y="425088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09616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13972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180760" y="425088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968720" y="440100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012640" y="44010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053320" y="440100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096160" y="44010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139720" y="44010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5180760" y="440100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4968720" y="409896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012640" y="40989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5053320" y="409896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5096160" y="4098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5139720" y="4098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5180760" y="409896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4990680" y="40622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5033160" y="40622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075280" y="40622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116320" y="406224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160240" y="406224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204520" y="40622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4968720" y="402336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012640" y="402336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053320" y="402336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096160" y="402336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139720" y="402336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180760" y="402336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4990680" y="39862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033160" y="39862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075280" y="39862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116320" y="398628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160240" y="398628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204520" y="39862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4968720" y="394920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012640" y="39492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053320" y="394920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096160" y="39492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139720" y="39492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180760" y="394920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4990680" y="3910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033160" y="3910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075280" y="3910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116320" y="3910680"/>
                <a:ext cx="34200" cy="3816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160240" y="391068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499068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503316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507528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5116320" y="421380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5160240" y="421380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520452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4968720" y="417672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012640" y="41767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053320" y="417672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096160" y="4176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139720" y="4176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180760" y="417672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3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4990680" y="413784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033160" y="413784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075280" y="413784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116320" y="413784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160240" y="413784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204520" y="413784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244840" y="428976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28768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33016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37264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41476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30964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350320" y="425088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39280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22468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26716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392800" y="4098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224680" y="4098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267160" y="4098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309640" y="4098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350320" y="409896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244840" y="406224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287680" y="40622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330160" y="40622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5372640" y="40622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224680" y="402336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5267160" y="402336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5309640" y="402336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5350320" y="402336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5392800" y="402336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533016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537264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41476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244840" y="421380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28768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267160" y="4176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309640" y="4176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50320" y="417672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392800" y="4176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224680" y="4176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244840" y="413784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287680" y="413784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330160" y="413784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372640" y="413784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3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330160" y="39862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372640" y="39862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350320" y="394920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392800" y="39492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244840" y="398628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287680" y="39862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540400" y="436392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58432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625360" y="436392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66928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37264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41476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45724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497920" y="436392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71176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75424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79636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5649120" y="43250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5689440" y="43250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5733720" y="432504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5776200" y="43250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5477760" y="43250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5519880" y="43250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562360" y="43250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604840" y="43250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350320" y="43250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392800" y="43250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435280" y="43250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66928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71176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75424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79636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497920" y="4289760"/>
                <a:ext cx="3312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540400" y="428976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58432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625360" y="428976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457240" y="428976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64912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689440" y="425088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733720" y="425088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77620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477760" y="425088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51988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562360" y="425088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60484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435280" y="425088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2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776200" y="44010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350320" y="440100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392800" y="44010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435280" y="44010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477760" y="440100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8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519880" y="44010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5562360" y="440100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5604840" y="44010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5649120" y="44010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5689440" y="440100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5733720" y="44010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575424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796360" y="42138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5330160" y="43639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445000" y="3947760"/>
                <a:ext cx="334440" cy="2530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445000" y="3947760"/>
                <a:ext cx="334440" cy="2530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466600" y="3971880"/>
                <a:ext cx="289080" cy="20484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466600" y="3971880"/>
                <a:ext cx="289080" cy="20484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526360" y="4017240"/>
                <a:ext cx="172440" cy="11592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1" y="68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" y="68"/>
                    </a:lnTo>
                    <a:close/>
                    <a:moveTo>
                      <a:pt x="120" y="144"/>
                    </a:moveTo>
                    <a:lnTo>
                      <a:pt x="120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20" y="144"/>
                    </a:lnTo>
                    <a:close/>
                    <a:moveTo>
                      <a:pt x="219" y="68"/>
                    </a:moveTo>
                    <a:lnTo>
                      <a:pt x="219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9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780880" y="3968640"/>
                <a:ext cx="109800" cy="228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754240" y="3968640"/>
                <a:ext cx="26640" cy="25632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780880" y="3968640"/>
                <a:ext cx="28440" cy="256320"/>
              </a:xfrm>
              <a:prstGeom prst="rect">
                <a:avLst/>
              </a:prstGeom>
              <a:solidFill>
                <a:srgbClr val="b7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09320" y="3968640"/>
                <a:ext cx="26640" cy="256320"/>
              </a:xfrm>
              <a:prstGeom prst="rect">
                <a:avLst/>
              </a:prstGeom>
              <a:solidFill>
                <a:srgbClr val="b55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835960" y="3968640"/>
                <a:ext cx="28080" cy="256320"/>
              </a:xfrm>
              <a:prstGeom prst="rect">
                <a:avLst/>
              </a:prstGeom>
              <a:solidFill>
                <a:srgbClr val="b2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864040" y="3968640"/>
                <a:ext cx="26640" cy="25632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779440" y="3966840"/>
                <a:ext cx="109440" cy="227520"/>
              </a:xfrm>
              <a:custGeom>
                <a:avLst/>
                <a:gdLst/>
                <a:ahLst/>
                <a:rect l="l" t="t" r="r" b="b"/>
                <a:pathLst>
                  <a:path w="140" h="282">
                    <a:moveTo>
                      <a:pt x="0" y="264"/>
                    </a:moveTo>
                    <a:lnTo>
                      <a:pt x="1" y="267"/>
                    </a:lnTo>
                    <a:lnTo>
                      <a:pt x="1" y="270"/>
                    </a:lnTo>
                    <a:lnTo>
                      <a:pt x="4" y="273"/>
                    </a:lnTo>
                    <a:lnTo>
                      <a:pt x="6" y="276"/>
                    </a:lnTo>
                    <a:lnTo>
                      <a:pt x="10" y="278"/>
                    </a:lnTo>
                    <a:lnTo>
                      <a:pt x="14" y="279"/>
                    </a:lnTo>
                    <a:lnTo>
                      <a:pt x="18" y="281"/>
                    </a:lnTo>
                    <a:lnTo>
                      <a:pt x="23" y="282"/>
                    </a:lnTo>
                    <a:lnTo>
                      <a:pt x="29" y="282"/>
                    </a:lnTo>
                    <a:lnTo>
                      <a:pt x="29" y="282"/>
                    </a:lnTo>
                    <a:lnTo>
                      <a:pt x="114" y="273"/>
                    </a:lnTo>
                    <a:lnTo>
                      <a:pt x="120" y="272"/>
                    </a:lnTo>
                    <a:lnTo>
                      <a:pt x="125" y="269"/>
                    </a:lnTo>
                    <a:lnTo>
                      <a:pt x="129" y="267"/>
                    </a:lnTo>
                    <a:lnTo>
                      <a:pt x="133" y="263"/>
                    </a:lnTo>
                    <a:lnTo>
                      <a:pt x="137" y="259"/>
                    </a:lnTo>
                    <a:lnTo>
                      <a:pt x="139" y="255"/>
                    </a:lnTo>
                    <a:lnTo>
                      <a:pt x="140" y="250"/>
                    </a:lnTo>
                    <a:lnTo>
                      <a:pt x="140" y="246"/>
                    </a:lnTo>
                    <a:lnTo>
                      <a:pt x="140" y="38"/>
                    </a:lnTo>
                    <a:lnTo>
                      <a:pt x="140" y="33"/>
                    </a:lnTo>
                    <a:lnTo>
                      <a:pt x="139" y="28"/>
                    </a:lnTo>
                    <a:lnTo>
                      <a:pt x="137" y="24"/>
                    </a:lnTo>
                    <a:lnTo>
                      <a:pt x="133" y="19"/>
                    </a:lnTo>
                    <a:lnTo>
                      <a:pt x="129" y="17"/>
                    </a:lnTo>
                    <a:lnTo>
                      <a:pt x="125" y="13"/>
                    </a:lnTo>
                    <a:lnTo>
                      <a:pt x="120" y="10"/>
                    </a:lnTo>
                    <a:lnTo>
                      <a:pt x="114" y="9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6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243400" y="3899520"/>
                <a:ext cx="53280" cy="525600"/>
              </a:xfrm>
              <a:custGeom>
                <a:avLst/>
                <a:gdLst/>
                <a:ahLst/>
                <a:rect l="l" t="t" r="r" b="b"/>
                <a:pathLst>
                  <a:path w="69" h="651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80"/>
                    </a:moveTo>
                    <a:lnTo>
                      <a:pt x="39" y="580"/>
                    </a:lnTo>
                    <a:lnTo>
                      <a:pt x="43" y="582"/>
                    </a:lnTo>
                    <a:lnTo>
                      <a:pt x="47" y="582"/>
                    </a:lnTo>
                    <a:lnTo>
                      <a:pt x="50" y="583"/>
                    </a:lnTo>
                    <a:lnTo>
                      <a:pt x="53" y="586"/>
                    </a:lnTo>
                    <a:lnTo>
                      <a:pt x="57" y="588"/>
                    </a:lnTo>
                    <a:lnTo>
                      <a:pt x="59" y="591"/>
                    </a:lnTo>
                    <a:lnTo>
                      <a:pt x="62" y="593"/>
                    </a:lnTo>
                    <a:lnTo>
                      <a:pt x="64" y="596"/>
                    </a:lnTo>
                    <a:lnTo>
                      <a:pt x="67" y="599"/>
                    </a:lnTo>
                    <a:lnTo>
                      <a:pt x="68" y="602"/>
                    </a:lnTo>
                    <a:lnTo>
                      <a:pt x="69" y="606"/>
                    </a:lnTo>
                    <a:lnTo>
                      <a:pt x="69" y="610"/>
                    </a:lnTo>
                    <a:lnTo>
                      <a:pt x="69" y="613"/>
                    </a:lnTo>
                    <a:lnTo>
                      <a:pt x="69" y="617"/>
                    </a:lnTo>
                    <a:lnTo>
                      <a:pt x="69" y="620"/>
                    </a:lnTo>
                    <a:lnTo>
                      <a:pt x="69" y="623"/>
                    </a:lnTo>
                    <a:lnTo>
                      <a:pt x="68" y="626"/>
                    </a:lnTo>
                    <a:lnTo>
                      <a:pt x="67" y="630"/>
                    </a:lnTo>
                    <a:lnTo>
                      <a:pt x="65" y="632"/>
                    </a:lnTo>
                    <a:lnTo>
                      <a:pt x="63" y="637"/>
                    </a:lnTo>
                    <a:lnTo>
                      <a:pt x="58" y="642"/>
                    </a:lnTo>
                    <a:lnTo>
                      <a:pt x="53" y="646"/>
                    </a:lnTo>
                    <a:lnTo>
                      <a:pt x="47" y="649"/>
                    </a:lnTo>
                    <a:lnTo>
                      <a:pt x="41" y="650"/>
                    </a:lnTo>
                    <a:lnTo>
                      <a:pt x="38" y="651"/>
                    </a:lnTo>
                    <a:lnTo>
                      <a:pt x="35" y="651"/>
                    </a:lnTo>
                    <a:lnTo>
                      <a:pt x="31" y="651"/>
                    </a:lnTo>
                    <a:lnTo>
                      <a:pt x="28" y="650"/>
                    </a:lnTo>
                    <a:lnTo>
                      <a:pt x="24" y="649"/>
                    </a:lnTo>
                    <a:lnTo>
                      <a:pt x="20" y="647"/>
                    </a:lnTo>
                    <a:lnTo>
                      <a:pt x="13" y="642"/>
                    </a:lnTo>
                    <a:lnTo>
                      <a:pt x="10" y="640"/>
                    </a:lnTo>
                    <a:lnTo>
                      <a:pt x="8" y="637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1" y="627"/>
                    </a:lnTo>
                    <a:lnTo>
                      <a:pt x="0" y="625"/>
                    </a:lnTo>
                    <a:lnTo>
                      <a:pt x="0" y="621"/>
                    </a:lnTo>
                    <a:lnTo>
                      <a:pt x="0" y="617"/>
                    </a:lnTo>
                    <a:lnTo>
                      <a:pt x="0" y="613"/>
                    </a:lnTo>
                    <a:lnTo>
                      <a:pt x="0" y="610"/>
                    </a:lnTo>
                    <a:lnTo>
                      <a:pt x="1" y="606"/>
                    </a:lnTo>
                    <a:lnTo>
                      <a:pt x="1" y="603"/>
                    </a:lnTo>
                    <a:lnTo>
                      <a:pt x="3" y="599"/>
                    </a:lnTo>
                    <a:lnTo>
                      <a:pt x="4" y="597"/>
                    </a:lnTo>
                    <a:lnTo>
                      <a:pt x="8" y="593"/>
                    </a:lnTo>
                    <a:lnTo>
                      <a:pt x="11" y="589"/>
                    </a:lnTo>
                    <a:lnTo>
                      <a:pt x="14" y="587"/>
                    </a:lnTo>
                    <a:lnTo>
                      <a:pt x="16" y="586"/>
                    </a:lnTo>
                    <a:lnTo>
                      <a:pt x="20" y="583"/>
                    </a:lnTo>
                    <a:lnTo>
                      <a:pt x="23" y="582"/>
                    </a:lnTo>
                    <a:lnTo>
                      <a:pt x="29" y="580"/>
                    </a:lnTo>
                    <a:lnTo>
                      <a:pt x="35" y="580"/>
                    </a:lnTo>
                    <a:lnTo>
                      <a:pt x="35" y="58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243400" y="3899520"/>
                <a:ext cx="53280" cy="5616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243400" y="4367160"/>
                <a:ext cx="53280" cy="5760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35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7" y="8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3"/>
                    </a:lnTo>
                    <a:lnTo>
                      <a:pt x="69" y="37"/>
                    </a:lnTo>
                    <a:lnTo>
                      <a:pt x="69" y="40"/>
                    </a:lnTo>
                    <a:lnTo>
                      <a:pt x="69" y="43"/>
                    </a:lnTo>
                    <a:lnTo>
                      <a:pt x="68" y="46"/>
                    </a:lnTo>
                    <a:lnTo>
                      <a:pt x="67" y="50"/>
                    </a:lnTo>
                    <a:lnTo>
                      <a:pt x="65" y="52"/>
                    </a:lnTo>
                    <a:lnTo>
                      <a:pt x="63" y="57"/>
                    </a:lnTo>
                    <a:lnTo>
                      <a:pt x="58" y="62"/>
                    </a:lnTo>
                    <a:lnTo>
                      <a:pt x="53" y="66"/>
                    </a:lnTo>
                    <a:lnTo>
                      <a:pt x="47" y="69"/>
                    </a:lnTo>
                    <a:lnTo>
                      <a:pt x="41" y="70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8" y="70"/>
                    </a:lnTo>
                    <a:lnTo>
                      <a:pt x="24" y="69"/>
                    </a:lnTo>
                    <a:lnTo>
                      <a:pt x="20" y="67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59240" y="3915360"/>
                <a:ext cx="21960" cy="491760"/>
              </a:xfrm>
              <a:custGeom>
                <a:avLst/>
                <a:gdLst/>
                <a:ahLst/>
                <a:rect l="l" t="t" r="r" b="b"/>
                <a:pathLst>
                  <a:path w="29" h="611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8"/>
                    </a:moveTo>
                    <a:lnTo>
                      <a:pt x="9" y="607"/>
                    </a:lnTo>
                    <a:lnTo>
                      <a:pt x="10" y="606"/>
                    </a:lnTo>
                    <a:lnTo>
                      <a:pt x="11" y="605"/>
                    </a:lnTo>
                    <a:lnTo>
                      <a:pt x="13" y="603"/>
                    </a:lnTo>
                    <a:lnTo>
                      <a:pt x="15" y="603"/>
                    </a:lnTo>
                    <a:lnTo>
                      <a:pt x="16" y="603"/>
                    </a:lnTo>
                    <a:lnTo>
                      <a:pt x="18" y="605"/>
                    </a:lnTo>
                    <a:lnTo>
                      <a:pt x="19" y="606"/>
                    </a:lnTo>
                    <a:lnTo>
                      <a:pt x="20" y="607"/>
                    </a:lnTo>
                    <a:lnTo>
                      <a:pt x="20" y="607"/>
                    </a:lnTo>
                    <a:lnTo>
                      <a:pt x="23" y="608"/>
                    </a:lnTo>
                    <a:lnTo>
                      <a:pt x="24" y="608"/>
                    </a:lnTo>
                    <a:lnTo>
                      <a:pt x="25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9" y="607"/>
                    </a:lnTo>
                    <a:lnTo>
                      <a:pt x="29" y="606"/>
                    </a:lnTo>
                    <a:lnTo>
                      <a:pt x="29" y="606"/>
                    </a:lnTo>
                    <a:lnTo>
                      <a:pt x="29" y="603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7" y="600"/>
                    </a:lnTo>
                    <a:lnTo>
                      <a:pt x="25" y="600"/>
                    </a:lnTo>
                    <a:lnTo>
                      <a:pt x="24" y="598"/>
                    </a:lnTo>
                    <a:lnTo>
                      <a:pt x="24" y="597"/>
                    </a:lnTo>
                    <a:lnTo>
                      <a:pt x="24" y="596"/>
                    </a:lnTo>
                    <a:lnTo>
                      <a:pt x="24" y="595"/>
                    </a:lnTo>
                    <a:lnTo>
                      <a:pt x="24" y="592"/>
                    </a:lnTo>
                    <a:lnTo>
                      <a:pt x="25" y="591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9" y="587"/>
                    </a:lnTo>
                    <a:lnTo>
                      <a:pt x="29" y="587"/>
                    </a:lnTo>
                    <a:lnTo>
                      <a:pt x="29" y="586"/>
                    </a:lnTo>
                    <a:lnTo>
                      <a:pt x="29" y="584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7" y="582"/>
                    </a:lnTo>
                    <a:lnTo>
                      <a:pt x="27" y="581"/>
                    </a:lnTo>
                    <a:lnTo>
                      <a:pt x="25" y="581"/>
                    </a:lnTo>
                    <a:lnTo>
                      <a:pt x="24" y="581"/>
                    </a:lnTo>
                    <a:lnTo>
                      <a:pt x="23" y="582"/>
                    </a:lnTo>
                    <a:lnTo>
                      <a:pt x="23" y="582"/>
                    </a:lnTo>
                    <a:lnTo>
                      <a:pt x="20" y="584"/>
                    </a:lnTo>
                    <a:lnTo>
                      <a:pt x="19" y="586"/>
                    </a:lnTo>
                    <a:lnTo>
                      <a:pt x="18" y="586"/>
                    </a:lnTo>
                    <a:lnTo>
                      <a:pt x="15" y="586"/>
                    </a:lnTo>
                    <a:lnTo>
                      <a:pt x="11" y="586"/>
                    </a:lnTo>
                    <a:lnTo>
                      <a:pt x="10" y="586"/>
                    </a:lnTo>
                    <a:lnTo>
                      <a:pt x="9" y="584"/>
                    </a:lnTo>
                    <a:lnTo>
                      <a:pt x="9" y="584"/>
                    </a:lnTo>
                    <a:lnTo>
                      <a:pt x="6" y="582"/>
                    </a:lnTo>
                    <a:lnTo>
                      <a:pt x="5" y="581"/>
                    </a:lnTo>
                    <a:lnTo>
                      <a:pt x="4" y="581"/>
                    </a:lnTo>
                    <a:lnTo>
                      <a:pt x="3" y="581"/>
                    </a:lnTo>
                    <a:lnTo>
                      <a:pt x="3" y="582"/>
                    </a:lnTo>
                    <a:lnTo>
                      <a:pt x="0" y="582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6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3" y="590"/>
                    </a:lnTo>
                    <a:lnTo>
                      <a:pt x="4" y="591"/>
                    </a:lnTo>
                    <a:lnTo>
                      <a:pt x="5" y="592"/>
                    </a:lnTo>
                    <a:lnTo>
                      <a:pt x="5" y="595"/>
                    </a:lnTo>
                    <a:lnTo>
                      <a:pt x="6" y="596"/>
                    </a:lnTo>
                    <a:lnTo>
                      <a:pt x="5" y="597"/>
                    </a:lnTo>
                    <a:lnTo>
                      <a:pt x="5" y="598"/>
                    </a:lnTo>
                    <a:lnTo>
                      <a:pt x="4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0" y="602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3" y="608"/>
                    </a:lnTo>
                    <a:lnTo>
                      <a:pt x="3" y="610"/>
                    </a:lnTo>
                    <a:lnTo>
                      <a:pt x="4" y="611"/>
                    </a:lnTo>
                    <a:lnTo>
                      <a:pt x="5" y="610"/>
                    </a:lnTo>
                    <a:lnTo>
                      <a:pt x="6" y="608"/>
                    </a:lnTo>
                    <a:lnTo>
                      <a:pt x="6" y="60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259240" y="391536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59240" y="438336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7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5312160" y="3882240"/>
              <a:ext cx="55080" cy="574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5284440" y="3853800"/>
              <a:ext cx="27360" cy="630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5312160" y="3853800"/>
              <a:ext cx="27360" cy="630000"/>
            </a:xfrm>
            <a:prstGeom prst="rect">
              <a:avLst/>
            </a:pr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339520" y="3853800"/>
              <a:ext cx="27720" cy="630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305320" y="3869640"/>
              <a:ext cx="46800" cy="588240"/>
            </a:xfrm>
            <a:custGeom>
              <a:avLst/>
              <a:gdLst/>
              <a:ahLst/>
              <a:rect l="l" t="t" r="r" b="b"/>
              <a:pathLst>
                <a:path w="60" h="728">
                  <a:moveTo>
                    <a:pt x="60" y="720"/>
                  </a:moveTo>
                  <a:lnTo>
                    <a:pt x="60" y="7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20"/>
                  </a:lnTo>
                  <a:lnTo>
                    <a:pt x="1" y="723"/>
                  </a:lnTo>
                  <a:lnTo>
                    <a:pt x="1" y="724"/>
                  </a:lnTo>
                  <a:lnTo>
                    <a:pt x="4" y="725"/>
                  </a:lnTo>
                  <a:lnTo>
                    <a:pt x="6" y="726"/>
                  </a:lnTo>
                  <a:lnTo>
                    <a:pt x="9" y="728"/>
                  </a:lnTo>
                  <a:lnTo>
                    <a:pt x="9" y="728"/>
                  </a:lnTo>
                  <a:lnTo>
                    <a:pt x="53" y="728"/>
                  </a:lnTo>
                  <a:lnTo>
                    <a:pt x="56" y="726"/>
                  </a:lnTo>
                  <a:lnTo>
                    <a:pt x="58" y="725"/>
                  </a:lnTo>
                  <a:lnTo>
                    <a:pt x="59" y="724"/>
                  </a:lnTo>
                  <a:lnTo>
                    <a:pt x="60" y="7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2640600" y="4427280"/>
              <a:ext cx="169200" cy="5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640600" y="4427280"/>
              <a:ext cx="16920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895480" y="4427280"/>
              <a:ext cx="168120" cy="5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2895480" y="4427280"/>
              <a:ext cx="16812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147840" y="4427280"/>
              <a:ext cx="171000" cy="5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147840" y="4427280"/>
              <a:ext cx="17100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402000" y="4427280"/>
              <a:ext cx="169200" cy="5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402000" y="4427280"/>
              <a:ext cx="16920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2978280" y="4208040"/>
              <a:ext cx="256320" cy="8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978280" y="4208040"/>
              <a:ext cx="256320" cy="86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2978280" y="3944160"/>
              <a:ext cx="256320" cy="88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2978280" y="3944160"/>
              <a:ext cx="25632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131" name=""/>
          <p:cNvGrpSpPr/>
          <p:nvPr/>
        </p:nvGrpSpPr>
        <p:grpSpPr>
          <a:xfrm>
            <a:off x="2160720" y="5097600"/>
            <a:ext cx="4836600" cy="985320"/>
            <a:chOff x="2160720" y="5097600"/>
            <a:chExt cx="4836600" cy="985320"/>
          </a:xfrm>
        </p:grpSpPr>
        <p:sp>
          <p:nvSpPr>
            <p:cNvPr id="2132" name=""/>
            <p:cNvSpPr/>
            <p:nvPr/>
          </p:nvSpPr>
          <p:spPr>
            <a:xfrm>
              <a:off x="2163240" y="5668200"/>
              <a:ext cx="96120" cy="402120"/>
            </a:xfrm>
            <a:custGeom>
              <a:avLst/>
              <a:gdLst/>
              <a:ahLst/>
              <a:rect l="l" t="t" r="r" b="b"/>
              <a:pathLst>
                <a:path w="122" h="497">
                  <a:moveTo>
                    <a:pt x="104" y="497"/>
                  </a:moveTo>
                  <a:lnTo>
                    <a:pt x="108" y="497"/>
                  </a:lnTo>
                  <a:lnTo>
                    <a:pt x="110" y="496"/>
                  </a:lnTo>
                  <a:lnTo>
                    <a:pt x="114" y="495"/>
                  </a:lnTo>
                  <a:lnTo>
                    <a:pt x="117" y="492"/>
                  </a:lnTo>
                  <a:lnTo>
                    <a:pt x="118" y="490"/>
                  </a:lnTo>
                  <a:lnTo>
                    <a:pt x="120" y="487"/>
                  </a:lnTo>
                  <a:lnTo>
                    <a:pt x="122" y="485"/>
                  </a:lnTo>
                  <a:lnTo>
                    <a:pt x="122" y="481"/>
                  </a:lnTo>
                  <a:lnTo>
                    <a:pt x="122" y="481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0" y="9"/>
                  </a:lnTo>
                  <a:lnTo>
                    <a:pt x="118" y="6"/>
                  </a:lnTo>
                  <a:lnTo>
                    <a:pt x="117" y="4"/>
                  </a:lnTo>
                  <a:lnTo>
                    <a:pt x="114" y="2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1" y="487"/>
                  </a:lnTo>
                  <a:lnTo>
                    <a:pt x="3" y="490"/>
                  </a:lnTo>
                  <a:lnTo>
                    <a:pt x="5" y="492"/>
                  </a:lnTo>
                  <a:lnTo>
                    <a:pt x="8" y="495"/>
                  </a:lnTo>
                  <a:lnTo>
                    <a:pt x="10" y="496"/>
                  </a:lnTo>
                  <a:lnTo>
                    <a:pt x="14" y="497"/>
                  </a:lnTo>
                  <a:lnTo>
                    <a:pt x="18" y="497"/>
                  </a:lnTo>
                  <a:lnTo>
                    <a:pt x="104" y="497"/>
                  </a:lnTo>
                  <a:lnTo>
                    <a:pt x="104" y="4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2161800" y="5665680"/>
              <a:ext cx="97560" cy="404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2161800" y="5665680"/>
              <a:ext cx="1440" cy="404640"/>
            </a:xfrm>
            <a:prstGeom prst="rect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2161800" y="5665680"/>
              <a:ext cx="1440" cy="40464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2163240" y="5665680"/>
              <a:ext cx="1080" cy="40464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2164680" y="5665680"/>
              <a:ext cx="2520" cy="404640"/>
            </a:xfrm>
            <a:prstGeom prst="rect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164680" y="5665680"/>
              <a:ext cx="2520" cy="404640"/>
            </a:xfrm>
            <a:prstGeom prst="rect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167560" y="5665680"/>
              <a:ext cx="1080" cy="404640"/>
            </a:xfrm>
            <a:prstGeom prst="rect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168640" y="5665680"/>
              <a:ext cx="1440" cy="40464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168640" y="5665680"/>
              <a:ext cx="1440" cy="40464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170080" y="5665680"/>
              <a:ext cx="1080" cy="404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2170080" y="5665680"/>
              <a:ext cx="1080" cy="4046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171520" y="5665680"/>
              <a:ext cx="1440" cy="40464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2172960" y="5665680"/>
              <a:ext cx="1080" cy="40464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2172960" y="5665680"/>
              <a:ext cx="1080" cy="40464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2174400" y="5665680"/>
              <a:ext cx="1080" cy="40464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2175480" y="5665680"/>
              <a:ext cx="2520" cy="40464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175480" y="5665680"/>
              <a:ext cx="2520" cy="40464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2178360" y="5665680"/>
              <a:ext cx="1440" cy="40464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178360" y="5665680"/>
              <a:ext cx="1440" cy="40464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179800" y="5665680"/>
              <a:ext cx="1080" cy="4046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181240" y="5665680"/>
              <a:ext cx="1440" cy="40464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181240" y="5665680"/>
              <a:ext cx="1440" cy="40464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182680" y="5665680"/>
              <a:ext cx="1080" cy="40464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184120" y="5665680"/>
              <a:ext cx="1080" cy="40464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184120" y="5665680"/>
              <a:ext cx="1080" cy="40464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185200" y="5665680"/>
              <a:ext cx="1440" cy="40464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185200" y="5665680"/>
              <a:ext cx="1440" cy="4046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186640" y="5665680"/>
              <a:ext cx="1080" cy="4046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188080" y="5665680"/>
              <a:ext cx="2520" cy="40464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188080" y="5665680"/>
              <a:ext cx="2520" cy="4046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190960" y="5665680"/>
              <a:ext cx="1080" cy="40464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192040" y="5665680"/>
              <a:ext cx="1440" cy="40464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192040" y="5665680"/>
              <a:ext cx="1440" cy="40464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193840" y="5665680"/>
              <a:ext cx="1080" cy="40464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194920" y="5665680"/>
              <a:ext cx="1440" cy="40464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194920" y="5665680"/>
              <a:ext cx="1440" cy="40464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196360" y="5665680"/>
              <a:ext cx="1080" cy="40464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196360" y="5665680"/>
              <a:ext cx="1080" cy="4046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197800" y="5665680"/>
              <a:ext cx="1080" cy="40464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198880" y="5665680"/>
              <a:ext cx="2520" cy="40464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198880" y="5665680"/>
              <a:ext cx="2520" cy="40464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201760" y="5665680"/>
              <a:ext cx="1440" cy="40464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203560" y="5665680"/>
              <a:ext cx="1080" cy="40464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203560" y="5665680"/>
              <a:ext cx="1080" cy="40464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204640" y="5665680"/>
              <a:ext cx="1440" cy="40464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204640" y="5665680"/>
              <a:ext cx="1440" cy="40464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206080" y="5665680"/>
              <a:ext cx="1080" cy="40464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2207520" y="5665680"/>
              <a:ext cx="1080" cy="40464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207520" y="5665680"/>
              <a:ext cx="1080" cy="40464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208600" y="5665680"/>
              <a:ext cx="1440" cy="4046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210400" y="5665680"/>
              <a:ext cx="2520" cy="4046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2210400" y="5665680"/>
              <a:ext cx="2520" cy="40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212920" y="5665680"/>
              <a:ext cx="1080" cy="40464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212920" y="5665680"/>
              <a:ext cx="1080" cy="40464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214360" y="5665680"/>
              <a:ext cx="1080" cy="40464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215440" y="5665680"/>
              <a:ext cx="1440" cy="40464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2189" name=""/>
            <p:cNvGrpSpPr/>
            <p:nvPr/>
          </p:nvGrpSpPr>
          <p:grpSpPr>
            <a:xfrm>
              <a:off x="2160720" y="5097600"/>
              <a:ext cx="4836600" cy="985320"/>
              <a:chOff x="2160720" y="5097600"/>
              <a:chExt cx="4836600" cy="985320"/>
            </a:xfrm>
          </p:grpSpPr>
          <p:sp>
            <p:nvSpPr>
              <p:cNvPr id="2190" name=""/>
              <p:cNvSpPr/>
              <p:nvPr/>
            </p:nvSpPr>
            <p:spPr>
              <a:xfrm>
                <a:off x="2215800" y="5666400"/>
                <a:ext cx="1080" cy="4035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2217240" y="5666400"/>
                <a:ext cx="1440" cy="40356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2219040" y="5666400"/>
                <a:ext cx="1080" cy="4035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2219040" y="5666400"/>
                <a:ext cx="1080" cy="40356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2220480" y="5666400"/>
                <a:ext cx="1080" cy="40356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2220480" y="5666400"/>
                <a:ext cx="1080" cy="4035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2221920" y="5666400"/>
                <a:ext cx="1440" cy="403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2223720" y="5666400"/>
                <a:ext cx="1080" cy="40356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2223720" y="5666400"/>
                <a:ext cx="1080" cy="40356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2224800" y="5666400"/>
                <a:ext cx="1440" cy="403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2226600" y="5666400"/>
                <a:ext cx="1080" cy="4035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2226600" y="5666400"/>
                <a:ext cx="1080" cy="403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2228040" y="5666400"/>
                <a:ext cx="1080" cy="40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2228040" y="5666400"/>
                <a:ext cx="1080" cy="4035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2229480" y="5666400"/>
                <a:ext cx="1440" cy="40356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2231280" y="5666400"/>
                <a:ext cx="1080" cy="4035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2231280" y="5666400"/>
                <a:ext cx="1080" cy="403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2232720" y="5666400"/>
                <a:ext cx="1440" cy="403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2234520" y="5666400"/>
                <a:ext cx="1080" cy="403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2234520" y="5666400"/>
                <a:ext cx="1080" cy="40356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235960" y="5666400"/>
                <a:ext cx="1080" cy="403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2235960" y="5666400"/>
                <a:ext cx="1080" cy="40356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2237400" y="5666400"/>
                <a:ext cx="1440" cy="40356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2239200" y="5666400"/>
                <a:ext cx="1080" cy="40356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2239200" y="5666400"/>
                <a:ext cx="1080" cy="4035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2240640" y="5666400"/>
                <a:ext cx="1440" cy="40356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2242440" y="5666400"/>
                <a:ext cx="1080" cy="40356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2242440" y="5666400"/>
                <a:ext cx="1080" cy="40356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2243880" y="5666400"/>
                <a:ext cx="1080" cy="4035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2243880" y="5666400"/>
                <a:ext cx="1080" cy="40356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2245320" y="5666400"/>
                <a:ext cx="1440" cy="4035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2247120" y="5666400"/>
                <a:ext cx="1080" cy="40356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2247120" y="5666400"/>
                <a:ext cx="1080" cy="40356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2248560" y="5666400"/>
                <a:ext cx="1440" cy="403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2250360" y="5666400"/>
                <a:ext cx="1080" cy="4035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2250360" y="5666400"/>
                <a:ext cx="1080" cy="4035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2251800" y="5666400"/>
                <a:ext cx="1440" cy="40356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2251800" y="5666400"/>
                <a:ext cx="1440" cy="40356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2253600" y="5666400"/>
                <a:ext cx="1080" cy="40356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2255040" y="5666400"/>
                <a:ext cx="1080" cy="40356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255040" y="5666400"/>
                <a:ext cx="1080" cy="40356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2256480" y="5666400"/>
                <a:ext cx="1440" cy="40356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2257920" y="5666400"/>
                <a:ext cx="1080" cy="40356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257920" y="5666400"/>
                <a:ext cx="1080" cy="40356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259360" y="5666400"/>
                <a:ext cx="1440" cy="40356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2163600" y="5666400"/>
                <a:ext cx="94320" cy="402120"/>
              </a:xfrm>
              <a:custGeom>
                <a:avLst/>
                <a:gdLst/>
                <a:ahLst/>
                <a:rect l="l" t="t" r="r" b="b"/>
                <a:pathLst>
                  <a:path w="120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0" y="496"/>
                    </a:lnTo>
                    <a:lnTo>
                      <a:pt x="113" y="495"/>
                    </a:lnTo>
                    <a:lnTo>
                      <a:pt x="115" y="492"/>
                    </a:lnTo>
                    <a:lnTo>
                      <a:pt x="118" y="491"/>
                    </a:lnTo>
                    <a:lnTo>
                      <a:pt x="119" y="487"/>
                    </a:lnTo>
                    <a:lnTo>
                      <a:pt x="120" y="484"/>
                    </a:lnTo>
                    <a:lnTo>
                      <a:pt x="120" y="482"/>
                    </a:lnTo>
                    <a:lnTo>
                      <a:pt x="120" y="482"/>
                    </a:lnTo>
                    <a:lnTo>
                      <a:pt x="120" y="16"/>
                    </a:lnTo>
                    <a:lnTo>
                      <a:pt x="120" y="12"/>
                    </a:lnTo>
                    <a:lnTo>
                      <a:pt x="119" y="10"/>
                    </a:lnTo>
                    <a:lnTo>
                      <a:pt x="118" y="7"/>
                    </a:lnTo>
                    <a:lnTo>
                      <a:pt x="115" y="5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82"/>
                    </a:lnTo>
                    <a:lnTo>
                      <a:pt x="0" y="484"/>
                    </a:lnTo>
                    <a:lnTo>
                      <a:pt x="1" y="487"/>
                    </a:lnTo>
                    <a:lnTo>
                      <a:pt x="3" y="491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4" y="497"/>
                    </a:lnTo>
                    <a:lnTo>
                      <a:pt x="18" y="497"/>
                    </a:lnTo>
                    <a:lnTo>
                      <a:pt x="103" y="497"/>
                    </a:lnTo>
                    <a:lnTo>
                      <a:pt x="103" y="497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900120" y="5667840"/>
                <a:ext cx="94320" cy="402120"/>
              </a:xfrm>
              <a:custGeom>
                <a:avLst/>
                <a:gdLst/>
                <a:ahLst/>
                <a:rect l="l" t="t" r="r" b="b"/>
                <a:pathLst>
                  <a:path w="121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1" y="496"/>
                    </a:lnTo>
                    <a:lnTo>
                      <a:pt x="113" y="495"/>
                    </a:lnTo>
                    <a:lnTo>
                      <a:pt x="116" y="492"/>
                    </a:lnTo>
                    <a:lnTo>
                      <a:pt x="118" y="490"/>
                    </a:lnTo>
                    <a:lnTo>
                      <a:pt x="119" y="487"/>
                    </a:lnTo>
                    <a:lnTo>
                      <a:pt x="121" y="485"/>
                    </a:lnTo>
                    <a:lnTo>
                      <a:pt x="121" y="481"/>
                    </a:lnTo>
                    <a:lnTo>
                      <a:pt x="121" y="15"/>
                    </a:lnTo>
                    <a:lnTo>
                      <a:pt x="121" y="11"/>
                    </a:lnTo>
                    <a:lnTo>
                      <a:pt x="119" y="9"/>
                    </a:lnTo>
                    <a:lnTo>
                      <a:pt x="118" y="6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11" y="1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2" y="487"/>
                    </a:lnTo>
                    <a:lnTo>
                      <a:pt x="3" y="490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3" y="497"/>
                    </a:lnTo>
                    <a:lnTo>
                      <a:pt x="17" y="497"/>
                    </a:lnTo>
                    <a:lnTo>
                      <a:pt x="103" y="497"/>
                    </a:lnTo>
                    <a:lnTo>
                      <a:pt x="10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898680" y="5666400"/>
                <a:ext cx="96840" cy="403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898680" y="5666400"/>
                <a:ext cx="1080" cy="40356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900120" y="5666400"/>
                <a:ext cx="1440" cy="40356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900120" y="5666400"/>
                <a:ext cx="1440" cy="4035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901920" y="5666400"/>
                <a:ext cx="1080" cy="40356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901920" y="5666400"/>
                <a:ext cx="1080" cy="40356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03000" y="5666400"/>
                <a:ext cx="1440" cy="40356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04800" y="5666400"/>
                <a:ext cx="1080" cy="40356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6904800" y="5666400"/>
                <a:ext cx="1080" cy="40356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6906240" y="5666400"/>
                <a:ext cx="1080" cy="40356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6907680" y="5666400"/>
                <a:ext cx="1440" cy="4035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6907680" y="5666400"/>
                <a:ext cx="1440" cy="40356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6909480" y="5666400"/>
                <a:ext cx="1080" cy="40356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6909480" y="5666400"/>
                <a:ext cx="1080" cy="40356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6910920" y="5666400"/>
                <a:ext cx="1440" cy="40356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6912720" y="5666400"/>
                <a:ext cx="1080" cy="40356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912720" y="5666400"/>
                <a:ext cx="1080" cy="40356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6914160" y="5666400"/>
                <a:ext cx="1080" cy="40356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6915600" y="5666400"/>
                <a:ext cx="1440" cy="4035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6915600" y="5666400"/>
                <a:ext cx="1440" cy="4035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6917400" y="5666400"/>
                <a:ext cx="1080" cy="40356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6917400" y="5666400"/>
                <a:ext cx="1080" cy="4035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6918840" y="5666400"/>
                <a:ext cx="1440" cy="40356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6920640" y="5666400"/>
                <a:ext cx="1080" cy="40356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920640" y="5666400"/>
                <a:ext cx="1080" cy="4035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922080" y="5666400"/>
                <a:ext cx="1080" cy="40356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6923520" y="5666400"/>
                <a:ext cx="1440" cy="403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6923520" y="5666400"/>
                <a:ext cx="1440" cy="4035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6925320" y="5666400"/>
                <a:ext cx="1080" cy="4035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6925320" y="5666400"/>
                <a:ext cx="1080" cy="4035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6926760" y="5666400"/>
                <a:ext cx="1440" cy="40356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6928560" y="5666400"/>
                <a:ext cx="1080" cy="40356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6928560" y="5666400"/>
                <a:ext cx="1080" cy="403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6930000" y="5666400"/>
                <a:ext cx="1440" cy="40356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6931800" y="5666400"/>
                <a:ext cx="1080" cy="4035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6931800" y="5666400"/>
                <a:ext cx="1080" cy="40356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6933240" y="5666400"/>
                <a:ext cx="1080" cy="403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6933240" y="5666400"/>
                <a:ext cx="1080" cy="403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6934320" y="5666400"/>
                <a:ext cx="1440" cy="40356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6936120" y="5666400"/>
                <a:ext cx="1080" cy="40356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6936120" y="5666400"/>
                <a:ext cx="1080" cy="4035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6937560" y="5666400"/>
                <a:ext cx="1440" cy="40356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6939360" y="5666400"/>
                <a:ext cx="1080" cy="403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6939360" y="5666400"/>
                <a:ext cx="1080" cy="40356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6940800" y="5666400"/>
                <a:ext cx="1080" cy="40356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6940800" y="5666400"/>
                <a:ext cx="1080" cy="4035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6942240" y="5666400"/>
                <a:ext cx="1440" cy="40356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6944040" y="5666400"/>
                <a:ext cx="1080" cy="4035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6944040" y="5666400"/>
                <a:ext cx="1080" cy="40356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6945480" y="5666400"/>
                <a:ext cx="1440" cy="40356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6947280" y="5666400"/>
                <a:ext cx="1080" cy="40356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6948720" y="5666400"/>
                <a:ext cx="1080" cy="40356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6950160" y="5666400"/>
                <a:ext cx="1440" cy="40356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6950160" y="5666400"/>
                <a:ext cx="1440" cy="40356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6951960" y="5666400"/>
                <a:ext cx="1080" cy="4035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6951960" y="5666400"/>
                <a:ext cx="1080" cy="40356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6953400" y="5666400"/>
                <a:ext cx="1440" cy="40356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6955200" y="5666400"/>
                <a:ext cx="1080" cy="40356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6955200" y="5666400"/>
                <a:ext cx="1080" cy="403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6956640" y="5666400"/>
                <a:ext cx="1080" cy="40356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6958080" y="5666400"/>
                <a:ext cx="1440" cy="40356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6958080" y="5666400"/>
                <a:ext cx="1440" cy="40356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6959880" y="5666400"/>
                <a:ext cx="1080" cy="40356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6959880" y="5666400"/>
                <a:ext cx="1080" cy="403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6961320" y="5666400"/>
                <a:ext cx="1440" cy="40356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963120" y="5666400"/>
                <a:ext cx="1080" cy="40356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6963120" y="5666400"/>
                <a:ext cx="1080" cy="4035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6964560" y="5666400"/>
                <a:ext cx="1440" cy="40356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6966000" y="5666400"/>
                <a:ext cx="1080" cy="40356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>
                <a:off x="6966000" y="5666400"/>
                <a:ext cx="1080" cy="40356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967440" y="5666400"/>
                <a:ext cx="1080" cy="40356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6967440" y="5666400"/>
                <a:ext cx="1080" cy="40356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6968880" y="5666400"/>
                <a:ext cx="1440" cy="40356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6970680" y="5666400"/>
                <a:ext cx="1080" cy="40356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6970680" y="5666400"/>
                <a:ext cx="1080" cy="40356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>
                <a:off x="6972120" y="5666400"/>
                <a:ext cx="1440" cy="40356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6973920" y="5666400"/>
                <a:ext cx="1080" cy="40356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6973920" y="5666400"/>
                <a:ext cx="1080" cy="40356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6975360" y="5666400"/>
                <a:ext cx="1080" cy="40356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975360" y="5666400"/>
                <a:ext cx="1080" cy="40356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976800" y="5666400"/>
                <a:ext cx="1440" cy="40356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978600" y="5666400"/>
                <a:ext cx="1080" cy="40356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978600" y="5666400"/>
                <a:ext cx="1080" cy="40356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980040" y="5666400"/>
                <a:ext cx="1440" cy="40356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981840" y="5666400"/>
                <a:ext cx="1080" cy="40356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6981840" y="5666400"/>
                <a:ext cx="1080" cy="40356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6983280" y="5666400"/>
                <a:ext cx="1080" cy="40356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983280" y="5666400"/>
                <a:ext cx="1080" cy="40356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6984720" y="5666400"/>
                <a:ext cx="1440" cy="40356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986520" y="5666400"/>
                <a:ext cx="1080" cy="40356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986520" y="5666400"/>
                <a:ext cx="1080" cy="40356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987960" y="5666400"/>
                <a:ext cx="1440" cy="40356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989760" y="5666400"/>
                <a:ext cx="1080" cy="40356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6989760" y="5666400"/>
                <a:ext cx="1080" cy="40356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6991200" y="5666400"/>
                <a:ext cx="1080" cy="40356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6991200" y="5666400"/>
                <a:ext cx="1080" cy="40356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6992640" y="5666400"/>
                <a:ext cx="1440" cy="40356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6994440" y="5666400"/>
                <a:ext cx="1080" cy="40356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6994440" y="5666400"/>
                <a:ext cx="2880" cy="40356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6900120" y="5667840"/>
                <a:ext cx="94320" cy="400680"/>
              </a:xfrm>
              <a:custGeom>
                <a:avLst/>
                <a:gdLst/>
                <a:ahLst/>
                <a:rect l="l" t="t" r="r" b="b"/>
                <a:pathLst>
                  <a:path w="122" h="496">
                    <a:moveTo>
                      <a:pt x="104" y="496"/>
                    </a:moveTo>
                    <a:lnTo>
                      <a:pt x="108" y="496"/>
                    </a:lnTo>
                    <a:lnTo>
                      <a:pt x="110" y="495"/>
                    </a:lnTo>
                    <a:lnTo>
                      <a:pt x="114" y="494"/>
                    </a:lnTo>
                    <a:lnTo>
                      <a:pt x="117" y="492"/>
                    </a:lnTo>
                    <a:lnTo>
                      <a:pt x="118" y="490"/>
                    </a:lnTo>
                    <a:lnTo>
                      <a:pt x="120" y="486"/>
                    </a:lnTo>
                    <a:lnTo>
                      <a:pt x="120" y="483"/>
                    </a:lnTo>
                    <a:lnTo>
                      <a:pt x="122" y="481"/>
                    </a:lnTo>
                    <a:lnTo>
                      <a:pt x="122" y="15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18" y="6"/>
                    </a:lnTo>
                    <a:lnTo>
                      <a:pt x="117" y="4"/>
                    </a:lnTo>
                    <a:lnTo>
                      <a:pt x="114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1" y="483"/>
                    </a:lnTo>
                    <a:lnTo>
                      <a:pt x="1" y="486"/>
                    </a:lnTo>
                    <a:lnTo>
                      <a:pt x="4" y="490"/>
                    </a:lnTo>
                    <a:lnTo>
                      <a:pt x="5" y="492"/>
                    </a:lnTo>
                    <a:lnTo>
                      <a:pt x="8" y="494"/>
                    </a:lnTo>
                    <a:lnTo>
                      <a:pt x="11" y="495"/>
                    </a:lnTo>
                    <a:lnTo>
                      <a:pt x="14" y="496"/>
                    </a:lnTo>
                    <a:lnTo>
                      <a:pt x="18" y="496"/>
                    </a:lnTo>
                    <a:lnTo>
                      <a:pt x="104" y="496"/>
                    </a:lnTo>
                    <a:lnTo>
                      <a:pt x="104" y="49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162160" y="5099400"/>
                <a:ext cx="4835160" cy="98208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5" y="677"/>
                    </a:lnTo>
                    <a:lnTo>
                      <a:pt x="125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160720" y="5097600"/>
                <a:ext cx="152280" cy="985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313000" y="5097600"/>
                <a:ext cx="202320" cy="985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2515320" y="5097600"/>
                <a:ext cx="200520" cy="985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2716200" y="5097600"/>
                <a:ext cx="202320" cy="985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2918880" y="5097600"/>
                <a:ext cx="188280" cy="985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3107160" y="5097600"/>
                <a:ext cx="150840" cy="9853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3258000" y="5097600"/>
                <a:ext cx="164520" cy="9853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3422880" y="5097600"/>
                <a:ext cx="200520" cy="98532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3623760" y="5097600"/>
                <a:ext cx="202320" cy="98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3826440" y="5097600"/>
                <a:ext cx="200880" cy="9853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4027320" y="5097600"/>
                <a:ext cx="201960" cy="98532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4229640" y="5097600"/>
                <a:ext cx="200880" cy="98532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4430880" y="5097600"/>
                <a:ext cx="405000" cy="9853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4835880" y="5097600"/>
                <a:ext cx="201960" cy="98532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5038200" y="5097600"/>
                <a:ext cx="199080" cy="98532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5237280" y="5097600"/>
                <a:ext cx="202320" cy="9853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5439960" y="5097600"/>
                <a:ext cx="202320" cy="985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5642640" y="5097600"/>
                <a:ext cx="188280" cy="98532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5830920" y="5097600"/>
                <a:ext cx="152280" cy="9853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5983200" y="5097600"/>
                <a:ext cx="163080" cy="9853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6146640" y="5097600"/>
                <a:ext cx="202320" cy="9853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6349320" y="5097600"/>
                <a:ext cx="200520" cy="9853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6549840" y="5097600"/>
                <a:ext cx="200520" cy="9853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6750720" y="5097600"/>
                <a:ext cx="202320" cy="9853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6953400" y="5097600"/>
                <a:ext cx="43920" cy="9853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2162160" y="5099400"/>
                <a:ext cx="4835160" cy="98208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4" y="677"/>
                    </a:lnTo>
                    <a:lnTo>
                      <a:pt x="124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2170080" y="5107320"/>
                <a:ext cx="4817520" cy="966240"/>
              </a:xfrm>
              <a:custGeom>
                <a:avLst/>
                <a:gdLst/>
                <a:ahLst/>
                <a:rect l="l" t="t" r="r" b="b"/>
                <a:pathLst>
                  <a:path w="6138" h="1196">
                    <a:moveTo>
                      <a:pt x="0" y="0"/>
                    </a:moveTo>
                    <a:lnTo>
                      <a:pt x="0" y="656"/>
                    </a:lnTo>
                    <a:lnTo>
                      <a:pt x="125" y="656"/>
                    </a:lnTo>
                    <a:lnTo>
                      <a:pt x="125" y="1196"/>
                    </a:lnTo>
                    <a:lnTo>
                      <a:pt x="6010" y="1196"/>
                    </a:lnTo>
                    <a:lnTo>
                      <a:pt x="6010" y="656"/>
                    </a:lnTo>
                    <a:lnTo>
                      <a:pt x="6138" y="656"/>
                    </a:lnTo>
                    <a:lnTo>
                      <a:pt x="613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54520" y="5656680"/>
                <a:ext cx="872640" cy="39420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3854520" y="5656680"/>
                <a:ext cx="872640" cy="39420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3663000" y="5249520"/>
                <a:ext cx="197640" cy="80136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3663000" y="5249520"/>
                <a:ext cx="197640" cy="80136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6394320" y="5798880"/>
                <a:ext cx="337320" cy="2520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5641200" y="5798880"/>
                <a:ext cx="943200" cy="252000"/>
              </a:xfrm>
              <a:custGeom>
                <a:avLst/>
                <a:gdLst/>
                <a:ahLst/>
                <a:rect l="l" t="t" r="r" b="b"/>
                <a:pathLst>
                  <a:path w="1201" h="311">
                    <a:moveTo>
                      <a:pt x="0" y="311"/>
                    </a:moveTo>
                    <a:lnTo>
                      <a:pt x="491" y="311"/>
                    </a:lnTo>
                    <a:lnTo>
                      <a:pt x="49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  <a:moveTo>
                      <a:pt x="1201" y="8"/>
                    </a:moveTo>
                    <a:lnTo>
                      <a:pt x="973" y="8"/>
                    </a:lnTo>
                    <a:lnTo>
                      <a:pt x="973" y="193"/>
                    </a:lnTo>
                    <a:lnTo>
                      <a:pt x="1201" y="193"/>
                    </a:lnTo>
                    <a:lnTo>
                      <a:pt x="1201" y="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3727440" y="5249520"/>
                <a:ext cx="70560" cy="80136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3727440" y="5249520"/>
                <a:ext cx="70560" cy="801360"/>
              </a:xfrm>
              <a:prstGeom prst="rect">
                <a:avLst/>
              </a:prstGeom>
              <a:noFill/>
              <a:ln w="1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37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549880" y="5146200"/>
                <a:ext cx="1108080" cy="76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4" name=""/>
              <p:cNvSpPr/>
              <p:nvPr/>
            </p:nvSpPr>
            <p:spPr>
              <a:xfrm>
                <a:off x="2565720" y="5154120"/>
                <a:ext cx="1089000" cy="752760"/>
              </a:xfrm>
              <a:prstGeom prst="rect">
                <a:avLst/>
              </a:prstGeom>
              <a:noFill/>
              <a:ln w="468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699000" y="57376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3700440" y="579744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3840120" y="57376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3813840" y="579744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3754080" y="57376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3758760" y="579744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3699000" y="55015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3700440" y="55612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840120" y="55015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3819960" y="5561280"/>
                <a:ext cx="4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3754080" y="55015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3759840" y="556128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3699000" y="52963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3700440" y="53254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3754080" y="52963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2390" name=""/>
            <p:cNvGrpSpPr/>
            <p:nvPr/>
          </p:nvGrpSpPr>
          <p:grpSpPr>
            <a:xfrm>
              <a:off x="2294280" y="5145840"/>
              <a:ext cx="4564800" cy="906480"/>
              <a:chOff x="2294280" y="5145840"/>
              <a:chExt cx="4564800" cy="906480"/>
            </a:xfrm>
          </p:grpSpPr>
          <p:sp>
            <p:nvSpPr>
              <p:cNvPr id="2391" name=""/>
              <p:cNvSpPr/>
              <p:nvPr/>
            </p:nvSpPr>
            <p:spPr>
              <a:xfrm>
                <a:off x="3762720" y="53247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3765600" y="57078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3761640" y="535428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3761640" y="55609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3821400" y="54720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3679920" y="52362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3767760" y="523620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3886200" y="5176440"/>
                <a:ext cx="824040" cy="793080"/>
              </a:xfrm>
              <a:custGeom>
                <a:avLst/>
                <a:gdLst/>
                <a:ahLst/>
                <a:rect l="l" t="t" r="r" b="b"/>
                <a:pathLst>
                  <a:path w="1050" h="984">
                    <a:moveTo>
                      <a:pt x="833" y="984"/>
                    </a:moveTo>
                    <a:lnTo>
                      <a:pt x="1050" y="984"/>
                    </a:lnTo>
                    <a:lnTo>
                      <a:pt x="1050" y="0"/>
                    </a:lnTo>
                    <a:lnTo>
                      <a:pt x="0" y="0"/>
                    </a:lnTo>
                    <a:lnTo>
                      <a:pt x="0" y="984"/>
                    </a:lnTo>
                    <a:lnTo>
                      <a:pt x="218" y="984"/>
                    </a:lnTo>
                    <a:lnTo>
                      <a:pt x="218" y="584"/>
                    </a:lnTo>
                    <a:lnTo>
                      <a:pt x="833" y="584"/>
                    </a:lnTo>
                    <a:lnTo>
                      <a:pt x="833" y="984"/>
                    </a:lnTo>
                    <a:lnTo>
                      <a:pt x="833" y="9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39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857760" y="5145840"/>
                <a:ext cx="852480" cy="82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0" name=""/>
              <p:cNvSpPr/>
              <p:nvPr/>
            </p:nvSpPr>
            <p:spPr>
              <a:xfrm>
                <a:off x="3875040" y="5155200"/>
                <a:ext cx="836280" cy="806400"/>
              </a:xfrm>
              <a:custGeom>
                <a:avLst/>
                <a:gdLst/>
                <a:ahLst/>
                <a:rect l="l" t="t" r="r" b="b"/>
                <a:pathLst>
                  <a:path w="1068" h="998">
                    <a:moveTo>
                      <a:pt x="840" y="998"/>
                    </a:moveTo>
                    <a:lnTo>
                      <a:pt x="1068" y="998"/>
                    </a:lnTo>
                    <a:lnTo>
                      <a:pt x="1068" y="0"/>
                    </a:lnTo>
                    <a:lnTo>
                      <a:pt x="0" y="0"/>
                    </a:lnTo>
                    <a:lnTo>
                      <a:pt x="0" y="998"/>
                    </a:lnTo>
                    <a:lnTo>
                      <a:pt x="226" y="998"/>
                    </a:lnTo>
                    <a:lnTo>
                      <a:pt x="226" y="606"/>
                    </a:lnTo>
                    <a:lnTo>
                      <a:pt x="840" y="606"/>
                    </a:lnTo>
                    <a:lnTo>
                      <a:pt x="840" y="998"/>
                    </a:lnTo>
                  </a:path>
                </a:pathLst>
              </a:custGeom>
              <a:noFill/>
              <a:ln w="468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4163760" y="5655960"/>
                <a:ext cx="241560" cy="30816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  <a:moveTo>
                      <a:pt x="0" y="374"/>
                    </a:moveTo>
                    <a:lnTo>
                      <a:pt x="0" y="374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  <a:moveTo>
                      <a:pt x="309" y="374"/>
                    </a:moveTo>
                    <a:lnTo>
                      <a:pt x="309" y="374"/>
                    </a:lnTo>
                    <a:lnTo>
                      <a:pt x="309" y="374"/>
                    </a:lnTo>
                    <a:lnTo>
                      <a:pt x="309" y="37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4163760" y="5655960"/>
                <a:ext cx="241560" cy="30816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4163760" y="595836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4405320" y="595836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4193640" y="5662800"/>
                <a:ext cx="180360" cy="2955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4179240" y="5648040"/>
                <a:ext cx="210240" cy="324720"/>
              </a:xfrm>
              <a:custGeom>
                <a:avLst/>
                <a:gdLst/>
                <a:ahLst/>
                <a:rect l="l" t="t" r="r" b="b"/>
                <a:pathLst>
                  <a:path w="269" h="401">
                    <a:moveTo>
                      <a:pt x="37" y="56"/>
                    </a:moveTo>
                    <a:lnTo>
                      <a:pt x="37" y="311"/>
                    </a:lnTo>
                    <a:lnTo>
                      <a:pt x="37" y="314"/>
                    </a:lnTo>
                    <a:lnTo>
                      <a:pt x="36" y="317"/>
                    </a:lnTo>
                    <a:lnTo>
                      <a:pt x="34" y="321"/>
                    </a:lnTo>
                    <a:lnTo>
                      <a:pt x="32" y="323"/>
                    </a:lnTo>
                    <a:lnTo>
                      <a:pt x="29" y="326"/>
                    </a:lnTo>
                    <a:lnTo>
                      <a:pt x="27" y="327"/>
                    </a:lnTo>
                    <a:lnTo>
                      <a:pt x="23" y="328"/>
                    </a:lnTo>
                    <a:lnTo>
                      <a:pt x="19" y="328"/>
                    </a:lnTo>
                    <a:lnTo>
                      <a:pt x="15" y="328"/>
                    </a:lnTo>
                    <a:lnTo>
                      <a:pt x="12" y="327"/>
                    </a:lnTo>
                    <a:lnTo>
                      <a:pt x="9" y="326"/>
                    </a:lnTo>
                    <a:lnTo>
                      <a:pt x="7" y="323"/>
                    </a:lnTo>
                    <a:lnTo>
                      <a:pt x="4" y="321"/>
                    </a:lnTo>
                    <a:lnTo>
                      <a:pt x="3" y="317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9" y="37"/>
                    </a:lnTo>
                    <a:lnTo>
                      <a:pt x="23" y="38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4" y="45"/>
                    </a:lnTo>
                    <a:lnTo>
                      <a:pt x="36" y="48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  <a:moveTo>
                      <a:pt x="127" y="365"/>
                    </a:moveTo>
                    <a:lnTo>
                      <a:pt x="250" y="365"/>
                    </a:lnTo>
                    <a:lnTo>
                      <a:pt x="232" y="384"/>
                    </a:lnTo>
                    <a:lnTo>
                      <a:pt x="232" y="251"/>
                    </a:lnTo>
                    <a:lnTo>
                      <a:pt x="232" y="247"/>
                    </a:lnTo>
                    <a:lnTo>
                      <a:pt x="234" y="244"/>
                    </a:lnTo>
                    <a:lnTo>
                      <a:pt x="235" y="240"/>
                    </a:lnTo>
                    <a:lnTo>
                      <a:pt x="237" y="237"/>
                    </a:lnTo>
                    <a:lnTo>
                      <a:pt x="240" y="236"/>
                    </a:lnTo>
                    <a:lnTo>
                      <a:pt x="244" y="235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4" y="234"/>
                    </a:lnTo>
                    <a:lnTo>
                      <a:pt x="257" y="235"/>
                    </a:lnTo>
                    <a:lnTo>
                      <a:pt x="261" y="236"/>
                    </a:lnTo>
                    <a:lnTo>
                      <a:pt x="264" y="237"/>
                    </a:lnTo>
                    <a:lnTo>
                      <a:pt x="265" y="240"/>
                    </a:lnTo>
                    <a:lnTo>
                      <a:pt x="267" y="244"/>
                    </a:lnTo>
                    <a:lnTo>
                      <a:pt x="267" y="247"/>
                    </a:lnTo>
                    <a:lnTo>
                      <a:pt x="269" y="251"/>
                    </a:lnTo>
                    <a:lnTo>
                      <a:pt x="269" y="384"/>
                    </a:lnTo>
                    <a:lnTo>
                      <a:pt x="267" y="386"/>
                    </a:lnTo>
                    <a:lnTo>
                      <a:pt x="267" y="390"/>
                    </a:lnTo>
                    <a:lnTo>
                      <a:pt x="265" y="393"/>
                    </a:lnTo>
                    <a:lnTo>
                      <a:pt x="264" y="396"/>
                    </a:lnTo>
                    <a:lnTo>
                      <a:pt x="261" y="398"/>
                    </a:lnTo>
                    <a:lnTo>
                      <a:pt x="257" y="400"/>
                    </a:lnTo>
                    <a:lnTo>
                      <a:pt x="254" y="401"/>
                    </a:lnTo>
                    <a:lnTo>
                      <a:pt x="250" y="401"/>
                    </a:lnTo>
                    <a:lnTo>
                      <a:pt x="127" y="401"/>
                    </a:lnTo>
                    <a:lnTo>
                      <a:pt x="124" y="401"/>
                    </a:lnTo>
                    <a:lnTo>
                      <a:pt x="121" y="400"/>
                    </a:lnTo>
                    <a:lnTo>
                      <a:pt x="118" y="398"/>
                    </a:lnTo>
                    <a:lnTo>
                      <a:pt x="116" y="396"/>
                    </a:lnTo>
                    <a:lnTo>
                      <a:pt x="113" y="393"/>
                    </a:lnTo>
                    <a:lnTo>
                      <a:pt x="111" y="390"/>
                    </a:lnTo>
                    <a:lnTo>
                      <a:pt x="109" y="386"/>
                    </a:lnTo>
                    <a:lnTo>
                      <a:pt x="109" y="384"/>
                    </a:lnTo>
                    <a:lnTo>
                      <a:pt x="109" y="379"/>
                    </a:lnTo>
                    <a:lnTo>
                      <a:pt x="111" y="376"/>
                    </a:lnTo>
                    <a:lnTo>
                      <a:pt x="113" y="372"/>
                    </a:lnTo>
                    <a:lnTo>
                      <a:pt x="116" y="370"/>
                    </a:lnTo>
                    <a:lnTo>
                      <a:pt x="118" y="367"/>
                    </a:lnTo>
                    <a:lnTo>
                      <a:pt x="121" y="366"/>
                    </a:lnTo>
                    <a:lnTo>
                      <a:pt x="124" y="365"/>
                    </a:lnTo>
                    <a:lnTo>
                      <a:pt x="127" y="365"/>
                    </a:lnTo>
                    <a:lnTo>
                      <a:pt x="127" y="365"/>
                    </a:lnTo>
                    <a:close/>
                    <a:moveTo>
                      <a:pt x="232" y="69"/>
                    </a:moveTo>
                    <a:lnTo>
                      <a:pt x="232" y="19"/>
                    </a:lnTo>
                    <a:lnTo>
                      <a:pt x="250" y="37"/>
                    </a:lnTo>
                    <a:lnTo>
                      <a:pt x="46" y="37"/>
                    </a:lnTo>
                    <a:lnTo>
                      <a:pt x="43" y="37"/>
                    </a:lnTo>
                    <a:lnTo>
                      <a:pt x="39" y="35"/>
                    </a:lnTo>
                    <a:lnTo>
                      <a:pt x="37" y="34"/>
                    </a:lnTo>
                    <a:lnTo>
                      <a:pt x="34" y="32"/>
                    </a:lnTo>
                    <a:lnTo>
                      <a:pt x="32" y="29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250" y="0"/>
                    </a:lnTo>
                    <a:lnTo>
                      <a:pt x="254" y="1"/>
                    </a:lnTo>
                    <a:lnTo>
                      <a:pt x="257" y="2"/>
                    </a:lnTo>
                    <a:lnTo>
                      <a:pt x="261" y="4"/>
                    </a:lnTo>
                    <a:lnTo>
                      <a:pt x="264" y="6"/>
                    </a:lnTo>
                    <a:lnTo>
                      <a:pt x="265" y="9"/>
                    </a:lnTo>
                    <a:lnTo>
                      <a:pt x="267" y="13"/>
                    </a:lnTo>
                    <a:lnTo>
                      <a:pt x="267" y="15"/>
                    </a:lnTo>
                    <a:lnTo>
                      <a:pt x="269" y="19"/>
                    </a:lnTo>
                    <a:lnTo>
                      <a:pt x="269" y="69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5" y="78"/>
                    </a:lnTo>
                    <a:lnTo>
                      <a:pt x="264" y="82"/>
                    </a:lnTo>
                    <a:lnTo>
                      <a:pt x="261" y="83"/>
                    </a:lnTo>
                    <a:lnTo>
                      <a:pt x="257" y="86"/>
                    </a:lnTo>
                    <a:lnTo>
                      <a:pt x="254" y="87"/>
                    </a:lnTo>
                    <a:lnTo>
                      <a:pt x="250" y="87"/>
                    </a:lnTo>
                    <a:lnTo>
                      <a:pt x="246" y="87"/>
                    </a:lnTo>
                    <a:lnTo>
                      <a:pt x="244" y="86"/>
                    </a:lnTo>
                    <a:lnTo>
                      <a:pt x="240" y="83"/>
                    </a:lnTo>
                    <a:lnTo>
                      <a:pt x="237" y="82"/>
                    </a:lnTo>
                    <a:lnTo>
                      <a:pt x="235" y="78"/>
                    </a:lnTo>
                    <a:lnTo>
                      <a:pt x="234" y="76"/>
                    </a:lnTo>
                    <a:lnTo>
                      <a:pt x="232" y="72"/>
                    </a:lnTo>
                    <a:lnTo>
                      <a:pt x="232" y="69"/>
                    </a:lnTo>
                    <a:lnTo>
                      <a:pt x="232" y="69"/>
                    </a:lnTo>
                    <a:close/>
                  </a:path>
                </a:pathLst>
              </a:custGeom>
              <a:solidFill>
                <a:srgbClr val="1a1a1a"/>
              </a:solidFill>
              <a:ln w="284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3983400" y="59731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3984840" y="600192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3906720" y="600192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4560480" y="600192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4633560" y="59731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4611240" y="600192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6024240" y="5798160"/>
                <a:ext cx="370080" cy="252000"/>
              </a:xfrm>
              <a:prstGeom prst="rect">
                <a:avLst/>
              </a:prstGeom>
              <a:solidFill>
                <a:srgbClr val="355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221800" y="5798160"/>
                <a:ext cx="422280" cy="252000"/>
              </a:xfrm>
              <a:prstGeom prst="rect">
                <a:avLst/>
              </a:prstGeom>
              <a:solidFill>
                <a:srgbClr val="26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4718160" y="5798160"/>
                <a:ext cx="300960" cy="252000"/>
              </a:xfrm>
              <a:prstGeom prst="rect">
                <a:avLst/>
              </a:pr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5017680" y="5798160"/>
                <a:ext cx="203760" cy="252000"/>
              </a:xfrm>
              <a:prstGeom prst="rect">
                <a:avLst/>
              </a:pr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6626520" y="5976000"/>
                <a:ext cx="110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4718160" y="5798160"/>
                <a:ext cx="2013480" cy="252000"/>
              </a:xfrm>
              <a:prstGeom prst="rect">
                <a:avLst/>
              </a:prstGeom>
              <a:noFill/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4436640" y="570780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4436640" y="58838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4909680" y="5145840"/>
                <a:ext cx="1949400" cy="63972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4921920" y="5158440"/>
                <a:ext cx="1921320" cy="6120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4921920" y="5158440"/>
                <a:ext cx="1921320" cy="6120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904720" y="5173200"/>
                <a:ext cx="927360" cy="5846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904720" y="5173200"/>
                <a:ext cx="927360" cy="5846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874840" y="5158440"/>
                <a:ext cx="16920" cy="6120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874840" y="5158440"/>
                <a:ext cx="16920" cy="6120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080320" y="5381640"/>
                <a:ext cx="171000" cy="20664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18" y="109"/>
                    </a:moveTo>
                    <a:lnTo>
                      <a:pt x="217" y="123"/>
                    </a:lnTo>
                    <a:lnTo>
                      <a:pt x="216" y="137"/>
                    </a:lnTo>
                    <a:lnTo>
                      <a:pt x="214" y="149"/>
                    </a:lnTo>
                    <a:lnTo>
                      <a:pt x="211" y="163"/>
                    </a:lnTo>
                    <a:lnTo>
                      <a:pt x="207" y="176"/>
                    </a:lnTo>
                    <a:lnTo>
                      <a:pt x="203" y="187"/>
                    </a:lnTo>
                    <a:lnTo>
                      <a:pt x="197" y="199"/>
                    </a:lnTo>
                    <a:lnTo>
                      <a:pt x="191" y="210"/>
                    </a:lnTo>
                    <a:lnTo>
                      <a:pt x="183" y="220"/>
                    </a:lnTo>
                    <a:lnTo>
                      <a:pt x="176" y="229"/>
                    </a:lnTo>
                    <a:lnTo>
                      <a:pt x="167" y="237"/>
                    </a:lnTo>
                    <a:lnTo>
                      <a:pt x="162" y="239"/>
                    </a:lnTo>
                    <a:lnTo>
                      <a:pt x="157" y="243"/>
                    </a:lnTo>
                    <a:lnTo>
                      <a:pt x="152" y="245"/>
                    </a:lnTo>
                    <a:lnTo>
                      <a:pt x="145" y="248"/>
                    </a:lnTo>
                    <a:lnTo>
                      <a:pt x="140" y="250"/>
                    </a:lnTo>
                    <a:lnTo>
                      <a:pt x="134" y="252"/>
                    </a:lnTo>
                    <a:lnTo>
                      <a:pt x="129" y="253"/>
                    </a:lnTo>
                    <a:lnTo>
                      <a:pt x="123" y="254"/>
                    </a:lnTo>
                    <a:lnTo>
                      <a:pt x="115" y="255"/>
                    </a:lnTo>
                    <a:lnTo>
                      <a:pt x="109" y="255"/>
                    </a:lnTo>
                    <a:lnTo>
                      <a:pt x="103" y="255"/>
                    </a:lnTo>
                    <a:lnTo>
                      <a:pt x="97" y="254"/>
                    </a:lnTo>
                    <a:lnTo>
                      <a:pt x="90" y="253"/>
                    </a:lnTo>
                    <a:lnTo>
                      <a:pt x="84" y="252"/>
                    </a:lnTo>
                    <a:lnTo>
                      <a:pt x="78" y="250"/>
                    </a:lnTo>
                    <a:lnTo>
                      <a:pt x="73" y="248"/>
                    </a:lnTo>
                    <a:lnTo>
                      <a:pt x="67" y="245"/>
                    </a:lnTo>
                    <a:lnTo>
                      <a:pt x="62" y="243"/>
                    </a:lnTo>
                    <a:lnTo>
                      <a:pt x="57" y="239"/>
                    </a:lnTo>
                    <a:lnTo>
                      <a:pt x="52" y="237"/>
                    </a:lnTo>
                    <a:lnTo>
                      <a:pt x="43" y="229"/>
                    </a:lnTo>
                    <a:lnTo>
                      <a:pt x="35" y="220"/>
                    </a:lnTo>
                    <a:lnTo>
                      <a:pt x="28" y="210"/>
                    </a:lnTo>
                    <a:lnTo>
                      <a:pt x="21" y="199"/>
                    </a:lnTo>
                    <a:lnTo>
                      <a:pt x="15" y="187"/>
                    </a:lnTo>
                    <a:lnTo>
                      <a:pt x="11" y="176"/>
                    </a:lnTo>
                    <a:lnTo>
                      <a:pt x="8" y="163"/>
                    </a:lnTo>
                    <a:lnTo>
                      <a:pt x="4" y="149"/>
                    </a:lnTo>
                    <a:lnTo>
                      <a:pt x="3" y="137"/>
                    </a:lnTo>
                    <a:lnTo>
                      <a:pt x="1" y="123"/>
                    </a:lnTo>
                    <a:lnTo>
                      <a:pt x="0" y="109"/>
                    </a:lnTo>
                    <a:lnTo>
                      <a:pt x="1" y="96"/>
                    </a:lnTo>
                    <a:lnTo>
                      <a:pt x="3" y="84"/>
                    </a:lnTo>
                    <a:lnTo>
                      <a:pt x="4" y="72"/>
                    </a:lnTo>
                    <a:lnTo>
                      <a:pt x="8" y="61"/>
                    </a:lnTo>
                    <a:lnTo>
                      <a:pt x="11" y="52"/>
                    </a:lnTo>
                    <a:lnTo>
                      <a:pt x="15" y="43"/>
                    </a:lnTo>
                    <a:lnTo>
                      <a:pt x="21" y="35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2" y="7"/>
                    </a:lnTo>
                    <a:lnTo>
                      <a:pt x="73" y="4"/>
                    </a:lnTo>
                    <a:lnTo>
                      <a:pt x="84" y="2"/>
                    </a:lnTo>
                    <a:lnTo>
                      <a:pt x="97" y="0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4" y="2"/>
                    </a:lnTo>
                    <a:lnTo>
                      <a:pt x="145" y="4"/>
                    </a:lnTo>
                    <a:lnTo>
                      <a:pt x="157" y="7"/>
                    </a:lnTo>
                    <a:lnTo>
                      <a:pt x="167" y="11"/>
                    </a:lnTo>
                    <a:lnTo>
                      <a:pt x="176" y="16"/>
                    </a:lnTo>
                    <a:lnTo>
                      <a:pt x="183" y="21"/>
                    </a:lnTo>
                    <a:lnTo>
                      <a:pt x="191" y="27"/>
                    </a:lnTo>
                    <a:lnTo>
                      <a:pt x="197" y="35"/>
                    </a:lnTo>
                    <a:lnTo>
                      <a:pt x="203" y="43"/>
                    </a:lnTo>
                    <a:lnTo>
                      <a:pt x="207" y="52"/>
                    </a:lnTo>
                    <a:lnTo>
                      <a:pt x="211" y="61"/>
                    </a:lnTo>
                    <a:lnTo>
                      <a:pt x="214" y="72"/>
                    </a:lnTo>
                    <a:lnTo>
                      <a:pt x="216" y="84"/>
                    </a:lnTo>
                    <a:lnTo>
                      <a:pt x="217" y="96"/>
                    </a:lnTo>
                    <a:lnTo>
                      <a:pt x="218" y="109"/>
                    </a:lnTo>
                    <a:lnTo>
                      <a:pt x="21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564160" y="5381640"/>
                <a:ext cx="197280" cy="20664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253" y="109"/>
                    </a:moveTo>
                    <a:lnTo>
                      <a:pt x="253" y="117"/>
                    </a:lnTo>
                    <a:lnTo>
                      <a:pt x="251" y="123"/>
                    </a:lnTo>
                    <a:lnTo>
                      <a:pt x="251" y="130"/>
                    </a:lnTo>
                    <a:lnTo>
                      <a:pt x="249" y="137"/>
                    </a:lnTo>
                    <a:lnTo>
                      <a:pt x="248" y="143"/>
                    </a:lnTo>
                    <a:lnTo>
                      <a:pt x="245" y="149"/>
                    </a:lnTo>
                    <a:lnTo>
                      <a:pt x="243" y="157"/>
                    </a:lnTo>
                    <a:lnTo>
                      <a:pt x="240" y="163"/>
                    </a:lnTo>
                    <a:lnTo>
                      <a:pt x="238" y="170"/>
                    </a:lnTo>
                    <a:lnTo>
                      <a:pt x="234" y="176"/>
                    </a:lnTo>
                    <a:lnTo>
                      <a:pt x="226" y="187"/>
                    </a:lnTo>
                    <a:lnTo>
                      <a:pt x="218" y="199"/>
                    </a:lnTo>
                    <a:lnTo>
                      <a:pt x="208" y="210"/>
                    </a:lnTo>
                    <a:lnTo>
                      <a:pt x="196" y="220"/>
                    </a:lnTo>
                    <a:lnTo>
                      <a:pt x="185" y="229"/>
                    </a:lnTo>
                    <a:lnTo>
                      <a:pt x="174" y="237"/>
                    </a:lnTo>
                    <a:lnTo>
                      <a:pt x="167" y="239"/>
                    </a:lnTo>
                    <a:lnTo>
                      <a:pt x="161" y="243"/>
                    </a:lnTo>
                    <a:lnTo>
                      <a:pt x="155" y="245"/>
                    </a:lnTo>
                    <a:lnTo>
                      <a:pt x="149" y="248"/>
                    </a:lnTo>
                    <a:lnTo>
                      <a:pt x="141" y="250"/>
                    </a:lnTo>
                    <a:lnTo>
                      <a:pt x="135" y="252"/>
                    </a:lnTo>
                    <a:lnTo>
                      <a:pt x="129" y="253"/>
                    </a:lnTo>
                    <a:lnTo>
                      <a:pt x="121" y="254"/>
                    </a:lnTo>
                    <a:lnTo>
                      <a:pt x="115" y="255"/>
                    </a:lnTo>
                    <a:lnTo>
                      <a:pt x="107" y="255"/>
                    </a:lnTo>
                    <a:lnTo>
                      <a:pt x="101" y="255"/>
                    </a:lnTo>
                    <a:lnTo>
                      <a:pt x="95" y="254"/>
                    </a:lnTo>
                    <a:lnTo>
                      <a:pt x="89" y="253"/>
                    </a:lnTo>
                    <a:lnTo>
                      <a:pt x="82" y="252"/>
                    </a:lnTo>
                    <a:lnTo>
                      <a:pt x="76" y="250"/>
                    </a:lnTo>
                    <a:lnTo>
                      <a:pt x="71" y="248"/>
                    </a:lnTo>
                    <a:lnTo>
                      <a:pt x="66" y="245"/>
                    </a:lnTo>
                    <a:lnTo>
                      <a:pt x="60" y="243"/>
                    </a:lnTo>
                    <a:lnTo>
                      <a:pt x="55" y="239"/>
                    </a:lnTo>
                    <a:lnTo>
                      <a:pt x="51" y="237"/>
                    </a:lnTo>
                    <a:lnTo>
                      <a:pt x="42" y="229"/>
                    </a:lnTo>
                    <a:lnTo>
                      <a:pt x="33" y="220"/>
                    </a:lnTo>
                    <a:lnTo>
                      <a:pt x="26" y="210"/>
                    </a:lnTo>
                    <a:lnTo>
                      <a:pt x="20" y="199"/>
                    </a:lnTo>
                    <a:lnTo>
                      <a:pt x="15" y="187"/>
                    </a:lnTo>
                    <a:lnTo>
                      <a:pt x="10" y="176"/>
                    </a:lnTo>
                    <a:lnTo>
                      <a:pt x="6" y="163"/>
                    </a:lnTo>
                    <a:lnTo>
                      <a:pt x="3" y="149"/>
                    </a:lnTo>
                    <a:lnTo>
                      <a:pt x="1" y="137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3" y="72"/>
                    </a:lnTo>
                    <a:lnTo>
                      <a:pt x="6" y="61"/>
                    </a:lnTo>
                    <a:lnTo>
                      <a:pt x="10" y="52"/>
                    </a:lnTo>
                    <a:lnTo>
                      <a:pt x="15" y="43"/>
                    </a:lnTo>
                    <a:lnTo>
                      <a:pt x="20" y="35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2" y="16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5" y="2"/>
                    </a:lnTo>
                    <a:lnTo>
                      <a:pt x="149" y="4"/>
                    </a:lnTo>
                    <a:lnTo>
                      <a:pt x="161" y="7"/>
                    </a:lnTo>
                    <a:lnTo>
                      <a:pt x="174" y="11"/>
                    </a:lnTo>
                    <a:lnTo>
                      <a:pt x="185" y="16"/>
                    </a:lnTo>
                    <a:lnTo>
                      <a:pt x="196" y="21"/>
                    </a:lnTo>
                    <a:lnTo>
                      <a:pt x="208" y="27"/>
                    </a:lnTo>
                    <a:lnTo>
                      <a:pt x="218" y="35"/>
                    </a:lnTo>
                    <a:lnTo>
                      <a:pt x="226" y="43"/>
                    </a:lnTo>
                    <a:lnTo>
                      <a:pt x="234" y="52"/>
                    </a:lnTo>
                    <a:lnTo>
                      <a:pt x="238" y="56"/>
                    </a:lnTo>
                    <a:lnTo>
                      <a:pt x="240" y="61"/>
                    </a:lnTo>
                    <a:lnTo>
                      <a:pt x="243" y="67"/>
                    </a:lnTo>
                    <a:lnTo>
                      <a:pt x="245" y="72"/>
                    </a:lnTo>
                    <a:lnTo>
                      <a:pt x="248" y="77"/>
                    </a:lnTo>
                    <a:lnTo>
                      <a:pt x="249" y="84"/>
                    </a:lnTo>
                    <a:lnTo>
                      <a:pt x="251" y="90"/>
                    </a:lnTo>
                    <a:lnTo>
                      <a:pt x="251" y="96"/>
                    </a:lnTo>
                    <a:lnTo>
                      <a:pt x="253" y="103"/>
                    </a:lnTo>
                    <a:lnTo>
                      <a:pt x="253" y="109"/>
                    </a:lnTo>
                    <a:lnTo>
                      <a:pt x="25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4937760" y="5176440"/>
                <a:ext cx="938520" cy="587880"/>
              </a:xfrm>
              <a:custGeom>
                <a:avLst/>
                <a:gdLst/>
                <a:ahLst/>
                <a:rect l="l" t="t" r="r" b="b"/>
                <a:pathLst>
                  <a:path w="1195" h="729">
                    <a:moveTo>
                      <a:pt x="0" y="729"/>
                    </a:moveTo>
                    <a:lnTo>
                      <a:pt x="1195" y="729"/>
                    </a:lnTo>
                    <a:lnTo>
                      <a:pt x="119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43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909680" y="5145840"/>
                <a:ext cx="938520" cy="58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909680" y="5145840"/>
                <a:ext cx="938520" cy="58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3" name=""/>
              <p:cNvSpPr/>
              <p:nvPr/>
            </p:nvSpPr>
            <p:spPr>
              <a:xfrm>
                <a:off x="5055480" y="5363640"/>
                <a:ext cx="195840" cy="201600"/>
              </a:xfrm>
              <a:custGeom>
                <a:avLst/>
                <a:gdLst/>
                <a:ahLst/>
                <a:rect l="l" t="t" r="r" b="b"/>
                <a:pathLst>
                  <a:path w="249" h="249">
                    <a:moveTo>
                      <a:pt x="249" y="126"/>
                    </a:moveTo>
                    <a:lnTo>
                      <a:pt x="249" y="133"/>
                    </a:lnTo>
                    <a:lnTo>
                      <a:pt x="248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3" y="163"/>
                    </a:lnTo>
                    <a:lnTo>
                      <a:pt x="239" y="174"/>
                    </a:lnTo>
                    <a:lnTo>
                      <a:pt x="234" y="184"/>
                    </a:lnTo>
                    <a:lnTo>
                      <a:pt x="228" y="194"/>
                    </a:lnTo>
                    <a:lnTo>
                      <a:pt x="220" y="204"/>
                    </a:lnTo>
                    <a:lnTo>
                      <a:pt x="212" y="213"/>
                    </a:lnTo>
                    <a:lnTo>
                      <a:pt x="203" y="221"/>
                    </a:lnTo>
                    <a:lnTo>
                      <a:pt x="194" y="228"/>
                    </a:lnTo>
                    <a:lnTo>
                      <a:pt x="183" y="235"/>
                    </a:lnTo>
                    <a:lnTo>
                      <a:pt x="173" y="240"/>
                    </a:lnTo>
                    <a:lnTo>
                      <a:pt x="161" y="244"/>
                    </a:lnTo>
                    <a:lnTo>
                      <a:pt x="149" y="246"/>
                    </a:lnTo>
                    <a:lnTo>
                      <a:pt x="136" y="249"/>
                    </a:lnTo>
                    <a:lnTo>
                      <a:pt x="130" y="249"/>
                    </a:lnTo>
                    <a:lnTo>
                      <a:pt x="124" y="249"/>
                    </a:lnTo>
                    <a:lnTo>
                      <a:pt x="118" y="249"/>
                    </a:lnTo>
                    <a:lnTo>
                      <a:pt x="111" y="249"/>
                    </a:lnTo>
                    <a:lnTo>
                      <a:pt x="100" y="246"/>
                    </a:lnTo>
                    <a:lnTo>
                      <a:pt x="88" y="244"/>
                    </a:lnTo>
                    <a:lnTo>
                      <a:pt x="76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6" y="213"/>
                    </a:lnTo>
                    <a:lnTo>
                      <a:pt x="29" y="204"/>
                    </a:lnTo>
                    <a:lnTo>
                      <a:pt x="21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5" y="163"/>
                    </a:lnTo>
                    <a:lnTo>
                      <a:pt x="2" y="150"/>
                    </a:lnTo>
                    <a:lnTo>
                      <a:pt x="1" y="145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1" y="106"/>
                    </a:lnTo>
                    <a:lnTo>
                      <a:pt x="2" y="100"/>
                    </a:lnTo>
                    <a:lnTo>
                      <a:pt x="6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1" y="56"/>
                    </a:lnTo>
                    <a:lnTo>
                      <a:pt x="29" y="45"/>
                    </a:lnTo>
                    <a:lnTo>
                      <a:pt x="36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8" y="6"/>
                    </a:lnTo>
                    <a:lnTo>
                      <a:pt x="100" y="2"/>
                    </a:lnTo>
                    <a:lnTo>
                      <a:pt x="111" y="1"/>
                    </a:lnTo>
                    <a:lnTo>
                      <a:pt x="118" y="1"/>
                    </a:lnTo>
                    <a:lnTo>
                      <a:pt x="124" y="0"/>
                    </a:lnTo>
                    <a:lnTo>
                      <a:pt x="130" y="1"/>
                    </a:lnTo>
                    <a:lnTo>
                      <a:pt x="136" y="1"/>
                    </a:lnTo>
                    <a:lnTo>
                      <a:pt x="149" y="2"/>
                    </a:lnTo>
                    <a:lnTo>
                      <a:pt x="161" y="6"/>
                    </a:lnTo>
                    <a:lnTo>
                      <a:pt x="173" y="10"/>
                    </a:lnTo>
                    <a:lnTo>
                      <a:pt x="183" y="15"/>
                    </a:lnTo>
                    <a:lnTo>
                      <a:pt x="194" y="21"/>
                    </a:lnTo>
                    <a:lnTo>
                      <a:pt x="203" y="29"/>
                    </a:lnTo>
                    <a:lnTo>
                      <a:pt x="212" y="37"/>
                    </a:lnTo>
                    <a:lnTo>
                      <a:pt x="220" y="45"/>
                    </a:lnTo>
                    <a:lnTo>
                      <a:pt x="228" y="56"/>
                    </a:lnTo>
                    <a:lnTo>
                      <a:pt x="234" y="66"/>
                    </a:lnTo>
                    <a:lnTo>
                      <a:pt x="239" y="77"/>
                    </a:lnTo>
                    <a:lnTo>
                      <a:pt x="243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48" y="112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5546880" y="5363640"/>
                <a:ext cx="195840" cy="20160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50" y="126"/>
                    </a:moveTo>
                    <a:lnTo>
                      <a:pt x="250" y="133"/>
                    </a:lnTo>
                    <a:lnTo>
                      <a:pt x="250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5" y="163"/>
                    </a:lnTo>
                    <a:lnTo>
                      <a:pt x="240" y="174"/>
                    </a:lnTo>
                    <a:lnTo>
                      <a:pt x="235" y="184"/>
                    </a:lnTo>
                    <a:lnTo>
                      <a:pt x="228" y="194"/>
                    </a:lnTo>
                    <a:lnTo>
                      <a:pt x="221" y="204"/>
                    </a:lnTo>
                    <a:lnTo>
                      <a:pt x="213" y="213"/>
                    </a:lnTo>
                    <a:lnTo>
                      <a:pt x="205" y="221"/>
                    </a:lnTo>
                    <a:lnTo>
                      <a:pt x="195" y="228"/>
                    </a:lnTo>
                    <a:lnTo>
                      <a:pt x="184" y="235"/>
                    </a:lnTo>
                    <a:lnTo>
                      <a:pt x="173" y="240"/>
                    </a:lnTo>
                    <a:lnTo>
                      <a:pt x="162" y="244"/>
                    </a:lnTo>
                    <a:lnTo>
                      <a:pt x="151" y="246"/>
                    </a:lnTo>
                    <a:lnTo>
                      <a:pt x="138" y="249"/>
                    </a:lnTo>
                    <a:lnTo>
                      <a:pt x="132" y="249"/>
                    </a:lnTo>
                    <a:lnTo>
                      <a:pt x="126" y="249"/>
                    </a:lnTo>
                    <a:lnTo>
                      <a:pt x="119" y="249"/>
                    </a:lnTo>
                    <a:lnTo>
                      <a:pt x="112" y="249"/>
                    </a:lnTo>
                    <a:lnTo>
                      <a:pt x="99" y="246"/>
                    </a:lnTo>
                    <a:lnTo>
                      <a:pt x="88" y="244"/>
                    </a:lnTo>
                    <a:lnTo>
                      <a:pt x="77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7" y="213"/>
                    </a:lnTo>
                    <a:lnTo>
                      <a:pt x="29" y="204"/>
                    </a:lnTo>
                    <a:lnTo>
                      <a:pt x="22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7" y="163"/>
                    </a:lnTo>
                    <a:lnTo>
                      <a:pt x="3" y="150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6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3" y="100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9" y="45"/>
                    </a:lnTo>
                    <a:lnTo>
                      <a:pt x="37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7" y="10"/>
                    </a:lnTo>
                    <a:lnTo>
                      <a:pt x="88" y="6"/>
                    </a:lnTo>
                    <a:lnTo>
                      <a:pt x="99" y="2"/>
                    </a:lnTo>
                    <a:lnTo>
                      <a:pt x="112" y="1"/>
                    </a:lnTo>
                    <a:lnTo>
                      <a:pt x="119" y="1"/>
                    </a:lnTo>
                    <a:lnTo>
                      <a:pt x="126" y="0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51" y="2"/>
                    </a:lnTo>
                    <a:lnTo>
                      <a:pt x="162" y="6"/>
                    </a:lnTo>
                    <a:lnTo>
                      <a:pt x="173" y="10"/>
                    </a:lnTo>
                    <a:lnTo>
                      <a:pt x="184" y="15"/>
                    </a:lnTo>
                    <a:lnTo>
                      <a:pt x="195" y="21"/>
                    </a:lnTo>
                    <a:lnTo>
                      <a:pt x="205" y="29"/>
                    </a:lnTo>
                    <a:lnTo>
                      <a:pt x="213" y="37"/>
                    </a:lnTo>
                    <a:lnTo>
                      <a:pt x="221" y="45"/>
                    </a:lnTo>
                    <a:lnTo>
                      <a:pt x="228" y="56"/>
                    </a:lnTo>
                    <a:lnTo>
                      <a:pt x="235" y="66"/>
                    </a:lnTo>
                    <a:lnTo>
                      <a:pt x="240" y="77"/>
                    </a:lnTo>
                    <a:lnTo>
                      <a:pt x="245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50" y="112"/>
                    </a:lnTo>
                    <a:lnTo>
                      <a:pt x="250" y="120"/>
                    </a:lnTo>
                    <a:lnTo>
                      <a:pt x="250" y="126"/>
                    </a:lnTo>
                    <a:lnTo>
                      <a:pt x="250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4934520" y="5173200"/>
                <a:ext cx="927360" cy="5846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2294280" y="5352480"/>
                <a:ext cx="28440" cy="6480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322720" y="5352480"/>
                <a:ext cx="28080" cy="64800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2350800" y="5352480"/>
                <a:ext cx="28080" cy="64800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2309760" y="5370120"/>
                <a:ext cx="75240" cy="636120"/>
              </a:xfrm>
              <a:custGeom>
                <a:avLst/>
                <a:gdLst/>
                <a:ahLst/>
                <a:rect l="l" t="t" r="r" b="b"/>
                <a:pathLst>
                  <a:path w="95" h="786">
                    <a:moveTo>
                      <a:pt x="90" y="786"/>
                    </a:moveTo>
                    <a:lnTo>
                      <a:pt x="4" y="786"/>
                    </a:lnTo>
                    <a:lnTo>
                      <a:pt x="2" y="785"/>
                    </a:lnTo>
                    <a:lnTo>
                      <a:pt x="1" y="784"/>
                    </a:lnTo>
                    <a:lnTo>
                      <a:pt x="0" y="782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4" y="2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779"/>
                    </a:lnTo>
                    <a:lnTo>
                      <a:pt x="94" y="782"/>
                    </a:lnTo>
                    <a:lnTo>
                      <a:pt x="93" y="784"/>
                    </a:lnTo>
                    <a:lnTo>
                      <a:pt x="91" y="785"/>
                    </a:lnTo>
                    <a:lnTo>
                      <a:pt x="90" y="78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628360" y="5903280"/>
                <a:ext cx="966960" cy="87120"/>
              </a:xfrm>
              <a:custGeom>
                <a:avLst/>
                <a:gdLst/>
                <a:ahLst/>
                <a:rect l="l" t="t" r="r" b="b"/>
                <a:pathLst>
                  <a:path w="1231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77" y="0"/>
                    </a:moveTo>
                    <a:lnTo>
                      <a:pt x="1077" y="104"/>
                    </a:lnTo>
                    <a:lnTo>
                      <a:pt x="1077" y="106"/>
                    </a:lnTo>
                    <a:lnTo>
                      <a:pt x="1077" y="107"/>
                    </a:lnTo>
                    <a:lnTo>
                      <a:pt x="1078" y="108"/>
                    </a:lnTo>
                    <a:lnTo>
                      <a:pt x="1080" y="108"/>
                    </a:lnTo>
                    <a:lnTo>
                      <a:pt x="1080" y="108"/>
                    </a:lnTo>
                    <a:lnTo>
                      <a:pt x="1229" y="108"/>
                    </a:lnTo>
                    <a:lnTo>
                      <a:pt x="1229" y="108"/>
                    </a:lnTo>
                    <a:lnTo>
                      <a:pt x="1230" y="107"/>
                    </a:lnTo>
                    <a:lnTo>
                      <a:pt x="1231" y="106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0"/>
                    </a:lnTo>
                    <a:lnTo>
                      <a:pt x="1077" y="0"/>
                    </a:lnTo>
                    <a:lnTo>
                      <a:pt x="1077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628360" y="5903280"/>
                <a:ext cx="120960" cy="8712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3474720" y="5903280"/>
                <a:ext cx="120960" cy="8712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3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4050720" y="5161680"/>
                <a:ext cx="479880" cy="4827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4050720" y="5161680"/>
                <a:ext cx="479880" cy="48276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4055400" y="5423400"/>
                <a:ext cx="474120" cy="22104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4055400" y="5423400"/>
                <a:ext cx="474120" cy="22104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2625480" y="5159880"/>
                <a:ext cx="2225880" cy="856440"/>
              </a:xfrm>
              <a:custGeom>
                <a:avLst/>
                <a:gdLst/>
                <a:ahLst/>
                <a:rect l="l" t="t" r="r" b="b"/>
                <a:pathLst>
                  <a:path w="2835" h="1060">
                    <a:moveTo>
                      <a:pt x="175" y="1060"/>
                    </a:moveTo>
                    <a:lnTo>
                      <a:pt x="326" y="1060"/>
                    </a:lnTo>
                    <a:lnTo>
                      <a:pt x="327" y="1060"/>
                    </a:lnTo>
                    <a:lnTo>
                      <a:pt x="327" y="1058"/>
                    </a:lnTo>
                    <a:lnTo>
                      <a:pt x="327" y="1057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978"/>
                    </a:lnTo>
                    <a:lnTo>
                      <a:pt x="327" y="976"/>
                    </a:lnTo>
                    <a:lnTo>
                      <a:pt x="327" y="975"/>
                    </a:lnTo>
                    <a:lnTo>
                      <a:pt x="327" y="974"/>
                    </a:lnTo>
                    <a:lnTo>
                      <a:pt x="326" y="974"/>
                    </a:lnTo>
                    <a:lnTo>
                      <a:pt x="175" y="974"/>
                    </a:lnTo>
                    <a:lnTo>
                      <a:pt x="175" y="974"/>
                    </a:lnTo>
                    <a:lnTo>
                      <a:pt x="175" y="975"/>
                    </a:lnTo>
                    <a:lnTo>
                      <a:pt x="174" y="976"/>
                    </a:lnTo>
                    <a:lnTo>
                      <a:pt x="174" y="978"/>
                    </a:lnTo>
                    <a:lnTo>
                      <a:pt x="174" y="978"/>
                    </a:lnTo>
                    <a:lnTo>
                      <a:pt x="174" y="1056"/>
                    </a:lnTo>
                    <a:lnTo>
                      <a:pt x="174" y="1057"/>
                    </a:lnTo>
                    <a:lnTo>
                      <a:pt x="175" y="1058"/>
                    </a:lnTo>
                    <a:lnTo>
                      <a:pt x="175" y="1060"/>
                    </a:lnTo>
                    <a:lnTo>
                      <a:pt x="175" y="1060"/>
                    </a:lnTo>
                    <a:lnTo>
                      <a:pt x="175" y="1060"/>
                    </a:lnTo>
                    <a:close/>
                    <a:moveTo>
                      <a:pt x="362" y="1060"/>
                    </a:moveTo>
                    <a:lnTo>
                      <a:pt x="508" y="1060"/>
                    </a:lnTo>
                    <a:lnTo>
                      <a:pt x="510" y="1060"/>
                    </a:lnTo>
                    <a:lnTo>
                      <a:pt x="511" y="1058"/>
                    </a:lnTo>
                    <a:lnTo>
                      <a:pt x="512" y="1057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978"/>
                    </a:lnTo>
                    <a:lnTo>
                      <a:pt x="512" y="976"/>
                    </a:lnTo>
                    <a:lnTo>
                      <a:pt x="511" y="975"/>
                    </a:lnTo>
                    <a:lnTo>
                      <a:pt x="510" y="974"/>
                    </a:lnTo>
                    <a:lnTo>
                      <a:pt x="508" y="974"/>
                    </a:lnTo>
                    <a:lnTo>
                      <a:pt x="362" y="974"/>
                    </a:lnTo>
                    <a:lnTo>
                      <a:pt x="359" y="974"/>
                    </a:lnTo>
                    <a:lnTo>
                      <a:pt x="358" y="975"/>
                    </a:lnTo>
                    <a:lnTo>
                      <a:pt x="357" y="976"/>
                    </a:lnTo>
                    <a:lnTo>
                      <a:pt x="357" y="978"/>
                    </a:lnTo>
                    <a:lnTo>
                      <a:pt x="357" y="978"/>
                    </a:lnTo>
                    <a:lnTo>
                      <a:pt x="357" y="1056"/>
                    </a:lnTo>
                    <a:lnTo>
                      <a:pt x="357" y="1057"/>
                    </a:lnTo>
                    <a:lnTo>
                      <a:pt x="358" y="1058"/>
                    </a:lnTo>
                    <a:lnTo>
                      <a:pt x="359" y="1060"/>
                    </a:lnTo>
                    <a:lnTo>
                      <a:pt x="362" y="1060"/>
                    </a:lnTo>
                    <a:lnTo>
                      <a:pt x="362" y="1060"/>
                    </a:lnTo>
                    <a:close/>
                    <a:moveTo>
                      <a:pt x="545" y="1060"/>
                    </a:moveTo>
                    <a:lnTo>
                      <a:pt x="694" y="1060"/>
                    </a:lnTo>
                    <a:lnTo>
                      <a:pt x="694" y="1060"/>
                    </a:lnTo>
                    <a:lnTo>
                      <a:pt x="695" y="1058"/>
                    </a:lnTo>
                    <a:lnTo>
                      <a:pt x="696" y="1057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978"/>
                    </a:lnTo>
                    <a:lnTo>
                      <a:pt x="696" y="976"/>
                    </a:lnTo>
                    <a:lnTo>
                      <a:pt x="695" y="975"/>
                    </a:lnTo>
                    <a:lnTo>
                      <a:pt x="694" y="974"/>
                    </a:lnTo>
                    <a:lnTo>
                      <a:pt x="694" y="974"/>
                    </a:lnTo>
                    <a:lnTo>
                      <a:pt x="545" y="974"/>
                    </a:lnTo>
                    <a:lnTo>
                      <a:pt x="544" y="974"/>
                    </a:lnTo>
                    <a:lnTo>
                      <a:pt x="542" y="975"/>
                    </a:lnTo>
                    <a:lnTo>
                      <a:pt x="542" y="976"/>
                    </a:lnTo>
                    <a:lnTo>
                      <a:pt x="542" y="978"/>
                    </a:lnTo>
                    <a:lnTo>
                      <a:pt x="542" y="978"/>
                    </a:lnTo>
                    <a:lnTo>
                      <a:pt x="542" y="1056"/>
                    </a:lnTo>
                    <a:lnTo>
                      <a:pt x="542" y="1057"/>
                    </a:lnTo>
                    <a:lnTo>
                      <a:pt x="542" y="1058"/>
                    </a:lnTo>
                    <a:lnTo>
                      <a:pt x="544" y="1060"/>
                    </a:lnTo>
                    <a:lnTo>
                      <a:pt x="545" y="1060"/>
                    </a:lnTo>
                    <a:lnTo>
                      <a:pt x="545" y="1060"/>
                    </a:lnTo>
                    <a:close/>
                    <a:moveTo>
                      <a:pt x="730" y="1060"/>
                    </a:moveTo>
                    <a:lnTo>
                      <a:pt x="877" y="1060"/>
                    </a:lnTo>
                    <a:lnTo>
                      <a:pt x="879" y="1060"/>
                    </a:lnTo>
                    <a:lnTo>
                      <a:pt x="881" y="1058"/>
                    </a:lnTo>
                    <a:lnTo>
                      <a:pt x="882" y="1057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978"/>
                    </a:lnTo>
                    <a:lnTo>
                      <a:pt x="882" y="976"/>
                    </a:lnTo>
                    <a:lnTo>
                      <a:pt x="881" y="975"/>
                    </a:lnTo>
                    <a:lnTo>
                      <a:pt x="879" y="974"/>
                    </a:lnTo>
                    <a:lnTo>
                      <a:pt x="877" y="974"/>
                    </a:lnTo>
                    <a:lnTo>
                      <a:pt x="730" y="974"/>
                    </a:lnTo>
                    <a:lnTo>
                      <a:pt x="729" y="974"/>
                    </a:lnTo>
                    <a:lnTo>
                      <a:pt x="728" y="975"/>
                    </a:lnTo>
                    <a:lnTo>
                      <a:pt x="727" y="976"/>
                    </a:lnTo>
                    <a:lnTo>
                      <a:pt x="725" y="978"/>
                    </a:lnTo>
                    <a:lnTo>
                      <a:pt x="725" y="978"/>
                    </a:lnTo>
                    <a:lnTo>
                      <a:pt x="725" y="1056"/>
                    </a:lnTo>
                    <a:lnTo>
                      <a:pt x="727" y="1057"/>
                    </a:lnTo>
                    <a:lnTo>
                      <a:pt x="728" y="1058"/>
                    </a:lnTo>
                    <a:lnTo>
                      <a:pt x="729" y="1060"/>
                    </a:lnTo>
                    <a:lnTo>
                      <a:pt x="730" y="1060"/>
                    </a:lnTo>
                    <a:lnTo>
                      <a:pt x="730" y="1060"/>
                    </a:lnTo>
                    <a:close/>
                    <a:moveTo>
                      <a:pt x="913" y="1060"/>
                    </a:moveTo>
                    <a:lnTo>
                      <a:pt x="1061" y="1060"/>
                    </a:lnTo>
                    <a:lnTo>
                      <a:pt x="1062" y="1060"/>
                    </a:lnTo>
                    <a:lnTo>
                      <a:pt x="1064" y="1058"/>
                    </a:lnTo>
                    <a:lnTo>
                      <a:pt x="1065" y="1057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978"/>
                    </a:lnTo>
                    <a:lnTo>
                      <a:pt x="1065" y="976"/>
                    </a:lnTo>
                    <a:lnTo>
                      <a:pt x="1064" y="975"/>
                    </a:lnTo>
                    <a:lnTo>
                      <a:pt x="1062" y="974"/>
                    </a:lnTo>
                    <a:lnTo>
                      <a:pt x="1061" y="974"/>
                    </a:lnTo>
                    <a:lnTo>
                      <a:pt x="1061" y="974"/>
                    </a:lnTo>
                    <a:lnTo>
                      <a:pt x="913" y="974"/>
                    </a:lnTo>
                    <a:lnTo>
                      <a:pt x="912" y="974"/>
                    </a:lnTo>
                    <a:lnTo>
                      <a:pt x="912" y="975"/>
                    </a:lnTo>
                    <a:lnTo>
                      <a:pt x="912" y="976"/>
                    </a:lnTo>
                    <a:lnTo>
                      <a:pt x="912" y="978"/>
                    </a:lnTo>
                    <a:lnTo>
                      <a:pt x="912" y="978"/>
                    </a:lnTo>
                    <a:lnTo>
                      <a:pt x="912" y="1056"/>
                    </a:lnTo>
                    <a:lnTo>
                      <a:pt x="912" y="1057"/>
                    </a:lnTo>
                    <a:lnTo>
                      <a:pt x="912" y="1058"/>
                    </a:lnTo>
                    <a:lnTo>
                      <a:pt x="912" y="1060"/>
                    </a:lnTo>
                    <a:lnTo>
                      <a:pt x="913" y="1060"/>
                    </a:lnTo>
                    <a:lnTo>
                      <a:pt x="913" y="1060"/>
                    </a:lnTo>
                    <a:close/>
                    <a:moveTo>
                      <a:pt x="4" y="643"/>
                    </a:moveTo>
                    <a:lnTo>
                      <a:pt x="151" y="643"/>
                    </a:lnTo>
                    <a:lnTo>
                      <a:pt x="153" y="643"/>
                    </a:lnTo>
                    <a:lnTo>
                      <a:pt x="154" y="643"/>
                    </a:lnTo>
                    <a:lnTo>
                      <a:pt x="155" y="642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581"/>
                    </a:lnTo>
                    <a:lnTo>
                      <a:pt x="155" y="581"/>
                    </a:lnTo>
                    <a:lnTo>
                      <a:pt x="154" y="580"/>
                    </a:lnTo>
                    <a:lnTo>
                      <a:pt x="153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4" y="580"/>
                    </a:lnTo>
                    <a:lnTo>
                      <a:pt x="2" y="580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641"/>
                    </a:lnTo>
                    <a:lnTo>
                      <a:pt x="0" y="642"/>
                    </a:lnTo>
                    <a:lnTo>
                      <a:pt x="1" y="643"/>
                    </a:lnTo>
                    <a:lnTo>
                      <a:pt x="2" y="643"/>
                    </a:lnTo>
                    <a:lnTo>
                      <a:pt x="4" y="643"/>
                    </a:lnTo>
                    <a:lnTo>
                      <a:pt x="4" y="643"/>
                    </a:lnTo>
                    <a:close/>
                    <a:moveTo>
                      <a:pt x="352" y="643"/>
                    </a:moveTo>
                    <a:lnTo>
                      <a:pt x="466" y="643"/>
                    </a:lnTo>
                    <a:lnTo>
                      <a:pt x="467" y="643"/>
                    </a:lnTo>
                    <a:lnTo>
                      <a:pt x="468" y="643"/>
                    </a:lnTo>
                    <a:lnTo>
                      <a:pt x="470" y="642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581"/>
                    </a:lnTo>
                    <a:lnTo>
                      <a:pt x="470" y="581"/>
                    </a:lnTo>
                    <a:lnTo>
                      <a:pt x="468" y="580"/>
                    </a:lnTo>
                    <a:lnTo>
                      <a:pt x="467" y="580"/>
                    </a:lnTo>
                    <a:lnTo>
                      <a:pt x="466" y="580"/>
                    </a:lnTo>
                    <a:lnTo>
                      <a:pt x="466" y="580"/>
                    </a:lnTo>
                    <a:lnTo>
                      <a:pt x="352" y="580"/>
                    </a:lnTo>
                    <a:lnTo>
                      <a:pt x="351" y="580"/>
                    </a:lnTo>
                    <a:lnTo>
                      <a:pt x="349" y="580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641"/>
                    </a:lnTo>
                    <a:lnTo>
                      <a:pt x="348" y="642"/>
                    </a:lnTo>
                    <a:lnTo>
                      <a:pt x="349" y="643"/>
                    </a:lnTo>
                    <a:lnTo>
                      <a:pt x="351" y="643"/>
                    </a:lnTo>
                    <a:lnTo>
                      <a:pt x="352" y="643"/>
                    </a:lnTo>
                    <a:lnTo>
                      <a:pt x="352" y="643"/>
                    </a:lnTo>
                    <a:close/>
                    <a:moveTo>
                      <a:pt x="502" y="643"/>
                    </a:moveTo>
                    <a:lnTo>
                      <a:pt x="617" y="643"/>
                    </a:lnTo>
                    <a:lnTo>
                      <a:pt x="619" y="643"/>
                    </a:lnTo>
                    <a:lnTo>
                      <a:pt x="619" y="643"/>
                    </a:lnTo>
                    <a:lnTo>
                      <a:pt x="619" y="642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581"/>
                    </a:lnTo>
                    <a:lnTo>
                      <a:pt x="619" y="581"/>
                    </a:lnTo>
                    <a:lnTo>
                      <a:pt x="619" y="580"/>
                    </a:lnTo>
                    <a:lnTo>
                      <a:pt x="619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502" y="580"/>
                    </a:lnTo>
                    <a:lnTo>
                      <a:pt x="501" y="580"/>
                    </a:lnTo>
                    <a:lnTo>
                      <a:pt x="500" y="580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641"/>
                    </a:lnTo>
                    <a:lnTo>
                      <a:pt x="500" y="642"/>
                    </a:lnTo>
                    <a:lnTo>
                      <a:pt x="500" y="643"/>
                    </a:lnTo>
                    <a:lnTo>
                      <a:pt x="501" y="643"/>
                    </a:lnTo>
                    <a:lnTo>
                      <a:pt x="502" y="643"/>
                    </a:lnTo>
                    <a:lnTo>
                      <a:pt x="502" y="643"/>
                    </a:lnTo>
                    <a:close/>
                    <a:moveTo>
                      <a:pt x="651" y="643"/>
                    </a:moveTo>
                    <a:lnTo>
                      <a:pt x="767" y="643"/>
                    </a:lnTo>
                    <a:lnTo>
                      <a:pt x="768" y="643"/>
                    </a:lnTo>
                    <a:lnTo>
                      <a:pt x="769" y="643"/>
                    </a:lnTo>
                    <a:lnTo>
                      <a:pt x="770" y="642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581"/>
                    </a:lnTo>
                    <a:lnTo>
                      <a:pt x="770" y="581"/>
                    </a:lnTo>
                    <a:lnTo>
                      <a:pt x="769" y="580"/>
                    </a:lnTo>
                    <a:lnTo>
                      <a:pt x="768" y="580"/>
                    </a:lnTo>
                    <a:lnTo>
                      <a:pt x="767" y="580"/>
                    </a:lnTo>
                    <a:lnTo>
                      <a:pt x="767" y="580"/>
                    </a:lnTo>
                    <a:lnTo>
                      <a:pt x="651" y="580"/>
                    </a:lnTo>
                    <a:lnTo>
                      <a:pt x="651" y="580"/>
                    </a:lnTo>
                    <a:lnTo>
                      <a:pt x="650" y="580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641"/>
                    </a:lnTo>
                    <a:lnTo>
                      <a:pt x="649" y="642"/>
                    </a:lnTo>
                    <a:lnTo>
                      <a:pt x="650" y="643"/>
                    </a:lnTo>
                    <a:lnTo>
                      <a:pt x="651" y="643"/>
                    </a:lnTo>
                    <a:lnTo>
                      <a:pt x="651" y="643"/>
                    </a:lnTo>
                    <a:lnTo>
                      <a:pt x="651" y="643"/>
                    </a:lnTo>
                    <a:close/>
                    <a:moveTo>
                      <a:pt x="971" y="643"/>
                    </a:moveTo>
                    <a:lnTo>
                      <a:pt x="1086" y="643"/>
                    </a:lnTo>
                    <a:lnTo>
                      <a:pt x="1087" y="643"/>
                    </a:lnTo>
                    <a:lnTo>
                      <a:pt x="1087" y="643"/>
                    </a:lnTo>
                    <a:lnTo>
                      <a:pt x="1087" y="642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581"/>
                    </a:lnTo>
                    <a:lnTo>
                      <a:pt x="1087" y="581"/>
                    </a:lnTo>
                    <a:lnTo>
                      <a:pt x="1087" y="580"/>
                    </a:lnTo>
                    <a:lnTo>
                      <a:pt x="1087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971" y="580"/>
                    </a:lnTo>
                    <a:lnTo>
                      <a:pt x="970" y="580"/>
                    </a:lnTo>
                    <a:lnTo>
                      <a:pt x="968" y="580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641"/>
                    </a:lnTo>
                    <a:lnTo>
                      <a:pt x="968" y="642"/>
                    </a:lnTo>
                    <a:lnTo>
                      <a:pt x="968" y="643"/>
                    </a:lnTo>
                    <a:lnTo>
                      <a:pt x="970" y="643"/>
                    </a:lnTo>
                    <a:lnTo>
                      <a:pt x="971" y="643"/>
                    </a:lnTo>
                    <a:lnTo>
                      <a:pt x="971" y="643"/>
                    </a:lnTo>
                    <a:close/>
                    <a:moveTo>
                      <a:pt x="1120" y="643"/>
                    </a:moveTo>
                    <a:lnTo>
                      <a:pt x="1235" y="643"/>
                    </a:lnTo>
                    <a:lnTo>
                      <a:pt x="1236" y="643"/>
                    </a:lnTo>
                    <a:lnTo>
                      <a:pt x="1238" y="643"/>
                    </a:lnTo>
                    <a:lnTo>
                      <a:pt x="1239" y="642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581"/>
                    </a:lnTo>
                    <a:lnTo>
                      <a:pt x="1239" y="581"/>
                    </a:lnTo>
                    <a:lnTo>
                      <a:pt x="1238" y="580"/>
                    </a:lnTo>
                    <a:lnTo>
                      <a:pt x="1236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120" y="580"/>
                    </a:lnTo>
                    <a:lnTo>
                      <a:pt x="1120" y="580"/>
                    </a:lnTo>
                    <a:lnTo>
                      <a:pt x="1119" y="580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641"/>
                    </a:lnTo>
                    <a:lnTo>
                      <a:pt x="1117" y="642"/>
                    </a:lnTo>
                    <a:lnTo>
                      <a:pt x="1119" y="643"/>
                    </a:lnTo>
                    <a:lnTo>
                      <a:pt x="1120" y="643"/>
                    </a:lnTo>
                    <a:lnTo>
                      <a:pt x="1120" y="643"/>
                    </a:lnTo>
                    <a:lnTo>
                      <a:pt x="1120" y="643"/>
                    </a:lnTo>
                    <a:close/>
                    <a:moveTo>
                      <a:pt x="1120" y="338"/>
                    </a:moveTo>
                    <a:lnTo>
                      <a:pt x="1235" y="338"/>
                    </a:lnTo>
                    <a:lnTo>
                      <a:pt x="1236" y="338"/>
                    </a:lnTo>
                    <a:lnTo>
                      <a:pt x="1238" y="338"/>
                    </a:lnTo>
                    <a:lnTo>
                      <a:pt x="1239" y="336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277"/>
                    </a:lnTo>
                    <a:lnTo>
                      <a:pt x="1239" y="274"/>
                    </a:lnTo>
                    <a:lnTo>
                      <a:pt x="1238" y="274"/>
                    </a:lnTo>
                    <a:lnTo>
                      <a:pt x="1236" y="274"/>
                    </a:lnTo>
                    <a:lnTo>
                      <a:pt x="1235" y="274"/>
                    </a:lnTo>
                    <a:lnTo>
                      <a:pt x="1235" y="274"/>
                    </a:lnTo>
                    <a:lnTo>
                      <a:pt x="1120" y="274"/>
                    </a:lnTo>
                    <a:lnTo>
                      <a:pt x="1120" y="274"/>
                    </a:lnTo>
                    <a:lnTo>
                      <a:pt x="1119" y="274"/>
                    </a:lnTo>
                    <a:lnTo>
                      <a:pt x="1117" y="274"/>
                    </a:lnTo>
                    <a:lnTo>
                      <a:pt x="1117" y="277"/>
                    </a:lnTo>
                    <a:lnTo>
                      <a:pt x="1117" y="277"/>
                    </a:lnTo>
                    <a:lnTo>
                      <a:pt x="1117" y="335"/>
                    </a:lnTo>
                    <a:lnTo>
                      <a:pt x="1117" y="336"/>
                    </a:lnTo>
                    <a:lnTo>
                      <a:pt x="1119" y="338"/>
                    </a:lnTo>
                    <a:lnTo>
                      <a:pt x="1120" y="338"/>
                    </a:lnTo>
                    <a:lnTo>
                      <a:pt x="1120" y="338"/>
                    </a:lnTo>
                    <a:lnTo>
                      <a:pt x="1120" y="338"/>
                    </a:lnTo>
                    <a:close/>
                    <a:moveTo>
                      <a:pt x="971" y="338"/>
                    </a:moveTo>
                    <a:lnTo>
                      <a:pt x="1086" y="338"/>
                    </a:lnTo>
                    <a:lnTo>
                      <a:pt x="1087" y="338"/>
                    </a:lnTo>
                    <a:lnTo>
                      <a:pt x="1087" y="338"/>
                    </a:lnTo>
                    <a:lnTo>
                      <a:pt x="1087" y="336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277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6" y="274"/>
                    </a:lnTo>
                    <a:lnTo>
                      <a:pt x="1086" y="274"/>
                    </a:lnTo>
                    <a:lnTo>
                      <a:pt x="971" y="274"/>
                    </a:lnTo>
                    <a:lnTo>
                      <a:pt x="970" y="274"/>
                    </a:lnTo>
                    <a:lnTo>
                      <a:pt x="968" y="274"/>
                    </a:lnTo>
                    <a:lnTo>
                      <a:pt x="968" y="274"/>
                    </a:lnTo>
                    <a:lnTo>
                      <a:pt x="968" y="277"/>
                    </a:lnTo>
                    <a:lnTo>
                      <a:pt x="968" y="277"/>
                    </a:lnTo>
                    <a:lnTo>
                      <a:pt x="968" y="335"/>
                    </a:lnTo>
                    <a:lnTo>
                      <a:pt x="968" y="336"/>
                    </a:lnTo>
                    <a:lnTo>
                      <a:pt x="968" y="338"/>
                    </a:lnTo>
                    <a:lnTo>
                      <a:pt x="970" y="338"/>
                    </a:lnTo>
                    <a:lnTo>
                      <a:pt x="971" y="338"/>
                    </a:lnTo>
                    <a:lnTo>
                      <a:pt x="971" y="338"/>
                    </a:lnTo>
                    <a:close/>
                    <a:moveTo>
                      <a:pt x="651" y="338"/>
                    </a:moveTo>
                    <a:lnTo>
                      <a:pt x="767" y="338"/>
                    </a:lnTo>
                    <a:lnTo>
                      <a:pt x="768" y="338"/>
                    </a:lnTo>
                    <a:lnTo>
                      <a:pt x="769" y="338"/>
                    </a:lnTo>
                    <a:lnTo>
                      <a:pt x="770" y="336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277"/>
                    </a:lnTo>
                    <a:lnTo>
                      <a:pt x="770" y="274"/>
                    </a:lnTo>
                    <a:lnTo>
                      <a:pt x="769" y="274"/>
                    </a:lnTo>
                    <a:lnTo>
                      <a:pt x="768" y="274"/>
                    </a:lnTo>
                    <a:lnTo>
                      <a:pt x="767" y="274"/>
                    </a:lnTo>
                    <a:lnTo>
                      <a:pt x="651" y="274"/>
                    </a:lnTo>
                    <a:lnTo>
                      <a:pt x="651" y="274"/>
                    </a:lnTo>
                    <a:lnTo>
                      <a:pt x="650" y="274"/>
                    </a:lnTo>
                    <a:lnTo>
                      <a:pt x="649" y="274"/>
                    </a:lnTo>
                    <a:lnTo>
                      <a:pt x="649" y="277"/>
                    </a:lnTo>
                    <a:lnTo>
                      <a:pt x="649" y="277"/>
                    </a:lnTo>
                    <a:lnTo>
                      <a:pt x="649" y="335"/>
                    </a:lnTo>
                    <a:lnTo>
                      <a:pt x="649" y="336"/>
                    </a:lnTo>
                    <a:lnTo>
                      <a:pt x="650" y="338"/>
                    </a:lnTo>
                    <a:lnTo>
                      <a:pt x="651" y="338"/>
                    </a:lnTo>
                    <a:lnTo>
                      <a:pt x="651" y="338"/>
                    </a:lnTo>
                    <a:lnTo>
                      <a:pt x="651" y="338"/>
                    </a:lnTo>
                    <a:close/>
                    <a:moveTo>
                      <a:pt x="502" y="338"/>
                    </a:moveTo>
                    <a:lnTo>
                      <a:pt x="617" y="338"/>
                    </a:lnTo>
                    <a:lnTo>
                      <a:pt x="619" y="338"/>
                    </a:lnTo>
                    <a:lnTo>
                      <a:pt x="619" y="338"/>
                    </a:lnTo>
                    <a:lnTo>
                      <a:pt x="619" y="336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277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7" y="274"/>
                    </a:lnTo>
                    <a:lnTo>
                      <a:pt x="617" y="274"/>
                    </a:lnTo>
                    <a:lnTo>
                      <a:pt x="502" y="274"/>
                    </a:lnTo>
                    <a:lnTo>
                      <a:pt x="501" y="274"/>
                    </a:lnTo>
                    <a:lnTo>
                      <a:pt x="500" y="274"/>
                    </a:lnTo>
                    <a:lnTo>
                      <a:pt x="500" y="274"/>
                    </a:lnTo>
                    <a:lnTo>
                      <a:pt x="500" y="277"/>
                    </a:lnTo>
                    <a:lnTo>
                      <a:pt x="500" y="277"/>
                    </a:lnTo>
                    <a:lnTo>
                      <a:pt x="500" y="335"/>
                    </a:lnTo>
                    <a:lnTo>
                      <a:pt x="500" y="336"/>
                    </a:lnTo>
                    <a:lnTo>
                      <a:pt x="500" y="338"/>
                    </a:lnTo>
                    <a:lnTo>
                      <a:pt x="501" y="338"/>
                    </a:lnTo>
                    <a:lnTo>
                      <a:pt x="502" y="338"/>
                    </a:lnTo>
                    <a:lnTo>
                      <a:pt x="502" y="338"/>
                    </a:lnTo>
                    <a:close/>
                    <a:moveTo>
                      <a:pt x="352" y="338"/>
                    </a:moveTo>
                    <a:lnTo>
                      <a:pt x="466" y="338"/>
                    </a:lnTo>
                    <a:lnTo>
                      <a:pt x="467" y="338"/>
                    </a:lnTo>
                    <a:lnTo>
                      <a:pt x="468" y="338"/>
                    </a:lnTo>
                    <a:lnTo>
                      <a:pt x="470" y="336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277"/>
                    </a:lnTo>
                    <a:lnTo>
                      <a:pt x="470" y="274"/>
                    </a:lnTo>
                    <a:lnTo>
                      <a:pt x="468" y="274"/>
                    </a:lnTo>
                    <a:lnTo>
                      <a:pt x="467" y="274"/>
                    </a:lnTo>
                    <a:lnTo>
                      <a:pt x="466" y="274"/>
                    </a:lnTo>
                    <a:lnTo>
                      <a:pt x="352" y="274"/>
                    </a:lnTo>
                    <a:lnTo>
                      <a:pt x="351" y="274"/>
                    </a:lnTo>
                    <a:lnTo>
                      <a:pt x="349" y="274"/>
                    </a:lnTo>
                    <a:lnTo>
                      <a:pt x="348" y="274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335"/>
                    </a:lnTo>
                    <a:lnTo>
                      <a:pt x="348" y="336"/>
                    </a:lnTo>
                    <a:lnTo>
                      <a:pt x="349" y="338"/>
                    </a:lnTo>
                    <a:lnTo>
                      <a:pt x="351" y="338"/>
                    </a:lnTo>
                    <a:lnTo>
                      <a:pt x="352" y="338"/>
                    </a:lnTo>
                    <a:lnTo>
                      <a:pt x="352" y="338"/>
                    </a:lnTo>
                    <a:close/>
                    <a:moveTo>
                      <a:pt x="4" y="338"/>
                    </a:moveTo>
                    <a:lnTo>
                      <a:pt x="151" y="338"/>
                    </a:lnTo>
                    <a:lnTo>
                      <a:pt x="153" y="338"/>
                    </a:lnTo>
                    <a:lnTo>
                      <a:pt x="154" y="338"/>
                    </a:lnTo>
                    <a:lnTo>
                      <a:pt x="155" y="336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277"/>
                    </a:lnTo>
                    <a:lnTo>
                      <a:pt x="155" y="274"/>
                    </a:lnTo>
                    <a:lnTo>
                      <a:pt x="154" y="274"/>
                    </a:lnTo>
                    <a:lnTo>
                      <a:pt x="153" y="274"/>
                    </a:lnTo>
                    <a:lnTo>
                      <a:pt x="151" y="274"/>
                    </a:lnTo>
                    <a:lnTo>
                      <a:pt x="4" y="274"/>
                    </a:lnTo>
                    <a:lnTo>
                      <a:pt x="2" y="274"/>
                    </a:lnTo>
                    <a:lnTo>
                      <a:pt x="1" y="274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335"/>
                    </a:lnTo>
                    <a:lnTo>
                      <a:pt x="0" y="336"/>
                    </a:lnTo>
                    <a:lnTo>
                      <a:pt x="1" y="338"/>
                    </a:lnTo>
                    <a:lnTo>
                      <a:pt x="2" y="338"/>
                    </a:lnTo>
                    <a:lnTo>
                      <a:pt x="4" y="338"/>
                    </a:lnTo>
                    <a:lnTo>
                      <a:pt x="4" y="338"/>
                    </a:lnTo>
                    <a:close/>
                    <a:moveTo>
                      <a:pt x="1849" y="74"/>
                    </a:moveTo>
                    <a:lnTo>
                      <a:pt x="1849" y="156"/>
                    </a:lnTo>
                    <a:lnTo>
                      <a:pt x="1849" y="157"/>
                    </a:lnTo>
                    <a:lnTo>
                      <a:pt x="1850" y="157"/>
                    </a:lnTo>
                    <a:lnTo>
                      <a:pt x="1852" y="158"/>
                    </a:lnTo>
                    <a:lnTo>
                      <a:pt x="1853" y="158"/>
                    </a:lnTo>
                    <a:lnTo>
                      <a:pt x="1853" y="158"/>
                    </a:lnTo>
                    <a:lnTo>
                      <a:pt x="1912" y="158"/>
                    </a:lnTo>
                    <a:lnTo>
                      <a:pt x="1913" y="158"/>
                    </a:lnTo>
                    <a:lnTo>
                      <a:pt x="1914" y="157"/>
                    </a:lnTo>
                    <a:lnTo>
                      <a:pt x="1914" y="157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74"/>
                    </a:lnTo>
                    <a:lnTo>
                      <a:pt x="1914" y="72"/>
                    </a:lnTo>
                    <a:lnTo>
                      <a:pt x="1914" y="71"/>
                    </a:lnTo>
                    <a:lnTo>
                      <a:pt x="1913" y="71"/>
                    </a:lnTo>
                    <a:lnTo>
                      <a:pt x="1912" y="71"/>
                    </a:lnTo>
                    <a:lnTo>
                      <a:pt x="1912" y="71"/>
                    </a:lnTo>
                    <a:lnTo>
                      <a:pt x="1853" y="71"/>
                    </a:lnTo>
                    <a:lnTo>
                      <a:pt x="1852" y="71"/>
                    </a:lnTo>
                    <a:lnTo>
                      <a:pt x="1850" y="71"/>
                    </a:lnTo>
                    <a:lnTo>
                      <a:pt x="1849" y="72"/>
                    </a:lnTo>
                    <a:lnTo>
                      <a:pt x="1849" y="74"/>
                    </a:lnTo>
                    <a:lnTo>
                      <a:pt x="1849" y="74"/>
                    </a:lnTo>
                    <a:close/>
                    <a:moveTo>
                      <a:pt x="1968" y="0"/>
                    </a:moveTo>
                    <a:lnTo>
                      <a:pt x="1968" y="80"/>
                    </a:lnTo>
                    <a:lnTo>
                      <a:pt x="1969" y="83"/>
                    </a:lnTo>
                    <a:lnTo>
                      <a:pt x="1969" y="84"/>
                    </a:lnTo>
                    <a:lnTo>
                      <a:pt x="1972" y="85"/>
                    </a:lnTo>
                    <a:lnTo>
                      <a:pt x="1973" y="85"/>
                    </a:lnTo>
                    <a:lnTo>
                      <a:pt x="1973" y="85"/>
                    </a:lnTo>
                    <a:lnTo>
                      <a:pt x="2066" y="85"/>
                    </a:lnTo>
                    <a:lnTo>
                      <a:pt x="2067" y="85"/>
                    </a:lnTo>
                    <a:lnTo>
                      <a:pt x="2068" y="84"/>
                    </a:lnTo>
                    <a:lnTo>
                      <a:pt x="2070" y="83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0"/>
                    </a:lnTo>
                    <a:lnTo>
                      <a:pt x="1968" y="0"/>
                    </a:lnTo>
                    <a:lnTo>
                      <a:pt x="1968" y="0"/>
                    </a:lnTo>
                    <a:close/>
                    <a:moveTo>
                      <a:pt x="2010" y="190"/>
                    </a:moveTo>
                    <a:lnTo>
                      <a:pt x="2010" y="274"/>
                    </a:lnTo>
                    <a:lnTo>
                      <a:pt x="2010" y="274"/>
                    </a:lnTo>
                    <a:lnTo>
                      <a:pt x="2011" y="276"/>
                    </a:lnTo>
                    <a:lnTo>
                      <a:pt x="2012" y="276"/>
                    </a:lnTo>
                    <a:lnTo>
                      <a:pt x="2013" y="277"/>
                    </a:lnTo>
                    <a:lnTo>
                      <a:pt x="2013" y="277"/>
                    </a:lnTo>
                    <a:lnTo>
                      <a:pt x="2072" y="277"/>
                    </a:lnTo>
                    <a:lnTo>
                      <a:pt x="2073" y="276"/>
                    </a:lnTo>
                    <a:lnTo>
                      <a:pt x="2075" y="276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190"/>
                    </a:lnTo>
                    <a:lnTo>
                      <a:pt x="2075" y="189"/>
                    </a:lnTo>
                    <a:lnTo>
                      <a:pt x="2075" y="187"/>
                    </a:lnTo>
                    <a:lnTo>
                      <a:pt x="2073" y="187"/>
                    </a:lnTo>
                    <a:lnTo>
                      <a:pt x="2072" y="187"/>
                    </a:lnTo>
                    <a:lnTo>
                      <a:pt x="2013" y="187"/>
                    </a:lnTo>
                    <a:lnTo>
                      <a:pt x="2012" y="187"/>
                    </a:lnTo>
                    <a:lnTo>
                      <a:pt x="2011" y="187"/>
                    </a:lnTo>
                    <a:lnTo>
                      <a:pt x="2010" y="189"/>
                    </a:lnTo>
                    <a:lnTo>
                      <a:pt x="2010" y="190"/>
                    </a:lnTo>
                    <a:lnTo>
                      <a:pt x="2010" y="190"/>
                    </a:lnTo>
                    <a:close/>
                    <a:moveTo>
                      <a:pt x="2127" y="190"/>
                    </a:moveTo>
                    <a:lnTo>
                      <a:pt x="2127" y="274"/>
                    </a:lnTo>
                    <a:lnTo>
                      <a:pt x="2127" y="274"/>
                    </a:lnTo>
                    <a:lnTo>
                      <a:pt x="2129" y="276"/>
                    </a:lnTo>
                    <a:lnTo>
                      <a:pt x="2130" y="276"/>
                    </a:lnTo>
                    <a:lnTo>
                      <a:pt x="2131" y="277"/>
                    </a:lnTo>
                    <a:lnTo>
                      <a:pt x="2131" y="277"/>
                    </a:lnTo>
                    <a:lnTo>
                      <a:pt x="2190" y="277"/>
                    </a:lnTo>
                    <a:lnTo>
                      <a:pt x="2192" y="276"/>
                    </a:lnTo>
                    <a:lnTo>
                      <a:pt x="2194" y="276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190"/>
                    </a:lnTo>
                    <a:lnTo>
                      <a:pt x="2195" y="189"/>
                    </a:lnTo>
                    <a:lnTo>
                      <a:pt x="2194" y="187"/>
                    </a:lnTo>
                    <a:lnTo>
                      <a:pt x="2192" y="187"/>
                    </a:lnTo>
                    <a:lnTo>
                      <a:pt x="2190" y="187"/>
                    </a:lnTo>
                    <a:lnTo>
                      <a:pt x="2131" y="187"/>
                    </a:lnTo>
                    <a:lnTo>
                      <a:pt x="2130" y="187"/>
                    </a:lnTo>
                    <a:lnTo>
                      <a:pt x="2129" y="187"/>
                    </a:lnTo>
                    <a:lnTo>
                      <a:pt x="2127" y="189"/>
                    </a:lnTo>
                    <a:lnTo>
                      <a:pt x="2127" y="190"/>
                    </a:lnTo>
                    <a:lnTo>
                      <a:pt x="2127" y="190"/>
                    </a:lnTo>
                    <a:close/>
                    <a:moveTo>
                      <a:pt x="2270" y="190"/>
                    </a:moveTo>
                    <a:lnTo>
                      <a:pt x="2270" y="274"/>
                    </a:lnTo>
                    <a:lnTo>
                      <a:pt x="2270" y="274"/>
                    </a:lnTo>
                    <a:lnTo>
                      <a:pt x="2271" y="276"/>
                    </a:lnTo>
                    <a:lnTo>
                      <a:pt x="2273" y="276"/>
                    </a:lnTo>
                    <a:lnTo>
                      <a:pt x="2274" y="277"/>
                    </a:lnTo>
                    <a:lnTo>
                      <a:pt x="2274" y="277"/>
                    </a:lnTo>
                    <a:lnTo>
                      <a:pt x="2333" y="277"/>
                    </a:lnTo>
                    <a:lnTo>
                      <a:pt x="2334" y="276"/>
                    </a:lnTo>
                    <a:lnTo>
                      <a:pt x="2337" y="276"/>
                    </a:lnTo>
                    <a:lnTo>
                      <a:pt x="2337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190"/>
                    </a:lnTo>
                    <a:lnTo>
                      <a:pt x="2337" y="189"/>
                    </a:lnTo>
                    <a:lnTo>
                      <a:pt x="2337" y="187"/>
                    </a:lnTo>
                    <a:lnTo>
                      <a:pt x="2334" y="187"/>
                    </a:lnTo>
                    <a:lnTo>
                      <a:pt x="2333" y="187"/>
                    </a:lnTo>
                    <a:lnTo>
                      <a:pt x="2274" y="187"/>
                    </a:lnTo>
                    <a:lnTo>
                      <a:pt x="2273" y="187"/>
                    </a:lnTo>
                    <a:lnTo>
                      <a:pt x="2271" y="187"/>
                    </a:lnTo>
                    <a:lnTo>
                      <a:pt x="2270" y="189"/>
                    </a:lnTo>
                    <a:lnTo>
                      <a:pt x="2270" y="190"/>
                    </a:lnTo>
                    <a:lnTo>
                      <a:pt x="2270" y="190"/>
                    </a:lnTo>
                    <a:close/>
                    <a:moveTo>
                      <a:pt x="2270" y="0"/>
                    </a:moveTo>
                    <a:lnTo>
                      <a:pt x="2270" y="80"/>
                    </a:lnTo>
                    <a:lnTo>
                      <a:pt x="2270" y="83"/>
                    </a:lnTo>
                    <a:lnTo>
                      <a:pt x="2271" y="84"/>
                    </a:lnTo>
                    <a:lnTo>
                      <a:pt x="2273" y="85"/>
                    </a:lnTo>
                    <a:lnTo>
                      <a:pt x="2274" y="85"/>
                    </a:lnTo>
                    <a:lnTo>
                      <a:pt x="2274" y="85"/>
                    </a:lnTo>
                    <a:lnTo>
                      <a:pt x="2367" y="85"/>
                    </a:lnTo>
                    <a:lnTo>
                      <a:pt x="2369" y="85"/>
                    </a:lnTo>
                    <a:lnTo>
                      <a:pt x="2370" y="84"/>
                    </a:lnTo>
                    <a:lnTo>
                      <a:pt x="2372" y="83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0"/>
                    </a:lnTo>
                    <a:lnTo>
                      <a:pt x="2270" y="0"/>
                    </a:lnTo>
                    <a:lnTo>
                      <a:pt x="2270" y="0"/>
                    </a:lnTo>
                    <a:close/>
                    <a:moveTo>
                      <a:pt x="2322" y="397"/>
                    </a:moveTo>
                    <a:lnTo>
                      <a:pt x="2322" y="392"/>
                    </a:lnTo>
                    <a:lnTo>
                      <a:pt x="2320" y="388"/>
                    </a:lnTo>
                    <a:lnTo>
                      <a:pt x="2318" y="383"/>
                    </a:lnTo>
                    <a:lnTo>
                      <a:pt x="2314" y="379"/>
                    </a:lnTo>
                    <a:lnTo>
                      <a:pt x="2310" y="377"/>
                    </a:lnTo>
                    <a:lnTo>
                      <a:pt x="2306" y="374"/>
                    </a:lnTo>
                    <a:lnTo>
                      <a:pt x="2301" y="373"/>
                    </a:lnTo>
                    <a:lnTo>
                      <a:pt x="2296" y="372"/>
                    </a:lnTo>
                    <a:lnTo>
                      <a:pt x="2291" y="373"/>
                    </a:lnTo>
                    <a:lnTo>
                      <a:pt x="2288" y="374"/>
                    </a:lnTo>
                    <a:lnTo>
                      <a:pt x="2283" y="377"/>
                    </a:lnTo>
                    <a:lnTo>
                      <a:pt x="2279" y="379"/>
                    </a:lnTo>
                    <a:lnTo>
                      <a:pt x="2276" y="383"/>
                    </a:lnTo>
                    <a:lnTo>
                      <a:pt x="2274" y="388"/>
                    </a:lnTo>
                    <a:lnTo>
                      <a:pt x="2273" y="392"/>
                    </a:lnTo>
                    <a:lnTo>
                      <a:pt x="2271" y="397"/>
                    </a:lnTo>
                    <a:lnTo>
                      <a:pt x="2273" y="402"/>
                    </a:lnTo>
                    <a:lnTo>
                      <a:pt x="2274" y="407"/>
                    </a:lnTo>
                    <a:lnTo>
                      <a:pt x="2276" y="411"/>
                    </a:lnTo>
                    <a:lnTo>
                      <a:pt x="2279" y="415"/>
                    </a:lnTo>
                    <a:lnTo>
                      <a:pt x="2283" y="418"/>
                    </a:lnTo>
                    <a:lnTo>
                      <a:pt x="2288" y="420"/>
                    </a:lnTo>
                    <a:lnTo>
                      <a:pt x="2291" y="422"/>
                    </a:lnTo>
                    <a:lnTo>
                      <a:pt x="2296" y="422"/>
                    </a:lnTo>
                    <a:lnTo>
                      <a:pt x="2301" y="422"/>
                    </a:lnTo>
                    <a:lnTo>
                      <a:pt x="2306" y="420"/>
                    </a:lnTo>
                    <a:lnTo>
                      <a:pt x="2310" y="418"/>
                    </a:lnTo>
                    <a:lnTo>
                      <a:pt x="2314" y="415"/>
                    </a:lnTo>
                    <a:lnTo>
                      <a:pt x="2318" y="411"/>
                    </a:lnTo>
                    <a:lnTo>
                      <a:pt x="2320" y="407"/>
                    </a:lnTo>
                    <a:lnTo>
                      <a:pt x="2322" y="402"/>
                    </a:lnTo>
                    <a:lnTo>
                      <a:pt x="2322" y="397"/>
                    </a:lnTo>
                    <a:lnTo>
                      <a:pt x="2322" y="397"/>
                    </a:lnTo>
                    <a:close/>
                    <a:moveTo>
                      <a:pt x="2251" y="547"/>
                    </a:moveTo>
                    <a:lnTo>
                      <a:pt x="2367" y="547"/>
                    </a:lnTo>
                    <a:lnTo>
                      <a:pt x="2369" y="547"/>
                    </a:lnTo>
                    <a:lnTo>
                      <a:pt x="2370" y="547"/>
                    </a:lnTo>
                    <a:lnTo>
                      <a:pt x="2372" y="547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495"/>
                    </a:lnTo>
                    <a:lnTo>
                      <a:pt x="2372" y="495"/>
                    </a:lnTo>
                    <a:lnTo>
                      <a:pt x="2370" y="494"/>
                    </a:lnTo>
                    <a:lnTo>
                      <a:pt x="2369" y="493"/>
                    </a:lnTo>
                    <a:lnTo>
                      <a:pt x="2367" y="493"/>
                    </a:lnTo>
                    <a:lnTo>
                      <a:pt x="2251" y="493"/>
                    </a:lnTo>
                    <a:lnTo>
                      <a:pt x="2251" y="493"/>
                    </a:lnTo>
                    <a:lnTo>
                      <a:pt x="2250" y="494"/>
                    </a:lnTo>
                    <a:lnTo>
                      <a:pt x="2250" y="495"/>
                    </a:lnTo>
                    <a:lnTo>
                      <a:pt x="2249" y="495"/>
                    </a:lnTo>
                    <a:lnTo>
                      <a:pt x="2249" y="495"/>
                    </a:lnTo>
                    <a:lnTo>
                      <a:pt x="2249" y="546"/>
                    </a:lnTo>
                    <a:lnTo>
                      <a:pt x="2250" y="547"/>
                    </a:lnTo>
                    <a:lnTo>
                      <a:pt x="2250" y="547"/>
                    </a:lnTo>
                    <a:lnTo>
                      <a:pt x="2251" y="547"/>
                    </a:lnTo>
                    <a:lnTo>
                      <a:pt x="2251" y="547"/>
                    </a:lnTo>
                    <a:lnTo>
                      <a:pt x="2251" y="547"/>
                    </a:lnTo>
                    <a:close/>
                    <a:moveTo>
                      <a:pt x="2063" y="547"/>
                    </a:moveTo>
                    <a:lnTo>
                      <a:pt x="2179" y="547"/>
                    </a:lnTo>
                    <a:lnTo>
                      <a:pt x="2180" y="547"/>
                    </a:lnTo>
                    <a:lnTo>
                      <a:pt x="2181" y="547"/>
                    </a:lnTo>
                    <a:lnTo>
                      <a:pt x="2181" y="547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495"/>
                    </a:lnTo>
                    <a:lnTo>
                      <a:pt x="2181" y="495"/>
                    </a:lnTo>
                    <a:lnTo>
                      <a:pt x="2181" y="494"/>
                    </a:lnTo>
                    <a:lnTo>
                      <a:pt x="2180" y="493"/>
                    </a:lnTo>
                    <a:lnTo>
                      <a:pt x="2179" y="493"/>
                    </a:lnTo>
                    <a:lnTo>
                      <a:pt x="2179" y="493"/>
                    </a:lnTo>
                    <a:lnTo>
                      <a:pt x="2063" y="493"/>
                    </a:lnTo>
                    <a:lnTo>
                      <a:pt x="2062" y="493"/>
                    </a:lnTo>
                    <a:lnTo>
                      <a:pt x="2062" y="494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546"/>
                    </a:lnTo>
                    <a:lnTo>
                      <a:pt x="2061" y="547"/>
                    </a:lnTo>
                    <a:lnTo>
                      <a:pt x="2062" y="547"/>
                    </a:lnTo>
                    <a:lnTo>
                      <a:pt x="2062" y="547"/>
                    </a:lnTo>
                    <a:lnTo>
                      <a:pt x="2063" y="547"/>
                    </a:lnTo>
                    <a:lnTo>
                      <a:pt x="2063" y="547"/>
                    </a:lnTo>
                    <a:close/>
                    <a:moveTo>
                      <a:pt x="1875" y="547"/>
                    </a:moveTo>
                    <a:lnTo>
                      <a:pt x="1989" y="547"/>
                    </a:lnTo>
                    <a:lnTo>
                      <a:pt x="1991" y="547"/>
                    </a:lnTo>
                    <a:lnTo>
                      <a:pt x="1992" y="547"/>
                    </a:lnTo>
                    <a:lnTo>
                      <a:pt x="1993" y="547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495"/>
                    </a:lnTo>
                    <a:lnTo>
                      <a:pt x="1993" y="495"/>
                    </a:lnTo>
                    <a:lnTo>
                      <a:pt x="1992" y="494"/>
                    </a:lnTo>
                    <a:lnTo>
                      <a:pt x="1991" y="493"/>
                    </a:lnTo>
                    <a:lnTo>
                      <a:pt x="1989" y="493"/>
                    </a:lnTo>
                    <a:lnTo>
                      <a:pt x="1989" y="493"/>
                    </a:lnTo>
                    <a:lnTo>
                      <a:pt x="1875" y="493"/>
                    </a:lnTo>
                    <a:lnTo>
                      <a:pt x="1874" y="493"/>
                    </a:lnTo>
                    <a:lnTo>
                      <a:pt x="1873" y="494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546"/>
                    </a:lnTo>
                    <a:lnTo>
                      <a:pt x="1872" y="547"/>
                    </a:lnTo>
                    <a:lnTo>
                      <a:pt x="1873" y="547"/>
                    </a:lnTo>
                    <a:lnTo>
                      <a:pt x="1874" y="547"/>
                    </a:lnTo>
                    <a:lnTo>
                      <a:pt x="1875" y="547"/>
                    </a:lnTo>
                    <a:lnTo>
                      <a:pt x="1875" y="547"/>
                    </a:lnTo>
                    <a:close/>
                    <a:moveTo>
                      <a:pt x="1968" y="397"/>
                    </a:moveTo>
                    <a:lnTo>
                      <a:pt x="1968" y="392"/>
                    </a:lnTo>
                    <a:lnTo>
                      <a:pt x="1967" y="388"/>
                    </a:lnTo>
                    <a:lnTo>
                      <a:pt x="1964" y="383"/>
                    </a:lnTo>
                    <a:lnTo>
                      <a:pt x="1962" y="379"/>
                    </a:lnTo>
                    <a:lnTo>
                      <a:pt x="1958" y="377"/>
                    </a:lnTo>
                    <a:lnTo>
                      <a:pt x="1954" y="374"/>
                    </a:lnTo>
                    <a:lnTo>
                      <a:pt x="1949" y="373"/>
                    </a:lnTo>
                    <a:lnTo>
                      <a:pt x="1943" y="372"/>
                    </a:lnTo>
                    <a:lnTo>
                      <a:pt x="1939" y="373"/>
                    </a:lnTo>
                    <a:lnTo>
                      <a:pt x="1934" y="374"/>
                    </a:lnTo>
                    <a:lnTo>
                      <a:pt x="1931" y="377"/>
                    </a:lnTo>
                    <a:lnTo>
                      <a:pt x="1927" y="379"/>
                    </a:lnTo>
                    <a:lnTo>
                      <a:pt x="1924" y="383"/>
                    </a:lnTo>
                    <a:lnTo>
                      <a:pt x="1923" y="388"/>
                    </a:lnTo>
                    <a:lnTo>
                      <a:pt x="1922" y="392"/>
                    </a:lnTo>
                    <a:lnTo>
                      <a:pt x="1921" y="397"/>
                    </a:lnTo>
                    <a:lnTo>
                      <a:pt x="1922" y="402"/>
                    </a:lnTo>
                    <a:lnTo>
                      <a:pt x="1923" y="407"/>
                    </a:lnTo>
                    <a:lnTo>
                      <a:pt x="1924" y="411"/>
                    </a:lnTo>
                    <a:lnTo>
                      <a:pt x="1927" y="415"/>
                    </a:lnTo>
                    <a:lnTo>
                      <a:pt x="1931" y="418"/>
                    </a:lnTo>
                    <a:lnTo>
                      <a:pt x="1934" y="420"/>
                    </a:lnTo>
                    <a:lnTo>
                      <a:pt x="1939" y="422"/>
                    </a:lnTo>
                    <a:lnTo>
                      <a:pt x="1943" y="422"/>
                    </a:lnTo>
                    <a:lnTo>
                      <a:pt x="1949" y="422"/>
                    </a:lnTo>
                    <a:lnTo>
                      <a:pt x="1954" y="420"/>
                    </a:lnTo>
                    <a:lnTo>
                      <a:pt x="1958" y="418"/>
                    </a:lnTo>
                    <a:lnTo>
                      <a:pt x="1962" y="415"/>
                    </a:lnTo>
                    <a:lnTo>
                      <a:pt x="1964" y="411"/>
                    </a:lnTo>
                    <a:lnTo>
                      <a:pt x="1967" y="407"/>
                    </a:lnTo>
                    <a:lnTo>
                      <a:pt x="1968" y="402"/>
                    </a:lnTo>
                    <a:lnTo>
                      <a:pt x="1968" y="397"/>
                    </a:lnTo>
                    <a:lnTo>
                      <a:pt x="1968" y="397"/>
                    </a:lnTo>
                    <a:close/>
                    <a:moveTo>
                      <a:pt x="2835" y="295"/>
                    </a:moveTo>
                    <a:lnTo>
                      <a:pt x="2835" y="290"/>
                    </a:lnTo>
                    <a:lnTo>
                      <a:pt x="2834" y="285"/>
                    </a:lnTo>
                    <a:lnTo>
                      <a:pt x="2831" y="281"/>
                    </a:lnTo>
                    <a:lnTo>
                      <a:pt x="2828" y="277"/>
                    </a:lnTo>
                    <a:lnTo>
                      <a:pt x="2824" y="274"/>
                    </a:lnTo>
                    <a:lnTo>
                      <a:pt x="2820" y="272"/>
                    </a:lnTo>
                    <a:lnTo>
                      <a:pt x="2815" y="271"/>
                    </a:lnTo>
                    <a:lnTo>
                      <a:pt x="2810" y="269"/>
                    </a:lnTo>
                    <a:lnTo>
                      <a:pt x="2805" y="271"/>
                    </a:lnTo>
                    <a:lnTo>
                      <a:pt x="2801" y="272"/>
                    </a:lnTo>
                    <a:lnTo>
                      <a:pt x="2796" y="274"/>
                    </a:lnTo>
                    <a:lnTo>
                      <a:pt x="2793" y="277"/>
                    </a:lnTo>
                    <a:lnTo>
                      <a:pt x="2790" y="281"/>
                    </a:lnTo>
                    <a:lnTo>
                      <a:pt x="2788" y="285"/>
                    </a:lnTo>
                    <a:lnTo>
                      <a:pt x="2786" y="290"/>
                    </a:lnTo>
                    <a:lnTo>
                      <a:pt x="2785" y="295"/>
                    </a:lnTo>
                    <a:lnTo>
                      <a:pt x="2786" y="300"/>
                    </a:lnTo>
                    <a:lnTo>
                      <a:pt x="2788" y="305"/>
                    </a:lnTo>
                    <a:lnTo>
                      <a:pt x="2790" y="309"/>
                    </a:lnTo>
                    <a:lnTo>
                      <a:pt x="2793" y="312"/>
                    </a:lnTo>
                    <a:lnTo>
                      <a:pt x="2796" y="315"/>
                    </a:lnTo>
                    <a:lnTo>
                      <a:pt x="2801" y="317"/>
                    </a:lnTo>
                    <a:lnTo>
                      <a:pt x="2805" y="319"/>
                    </a:lnTo>
                    <a:lnTo>
                      <a:pt x="2810" y="320"/>
                    </a:lnTo>
                    <a:lnTo>
                      <a:pt x="2815" y="319"/>
                    </a:lnTo>
                    <a:lnTo>
                      <a:pt x="2820" y="317"/>
                    </a:lnTo>
                    <a:lnTo>
                      <a:pt x="2824" y="315"/>
                    </a:lnTo>
                    <a:lnTo>
                      <a:pt x="2828" y="312"/>
                    </a:lnTo>
                    <a:lnTo>
                      <a:pt x="2831" y="309"/>
                    </a:lnTo>
                    <a:lnTo>
                      <a:pt x="2834" y="305"/>
                    </a:lnTo>
                    <a:lnTo>
                      <a:pt x="2835" y="300"/>
                    </a:lnTo>
                    <a:lnTo>
                      <a:pt x="2835" y="295"/>
                    </a:lnTo>
                    <a:lnTo>
                      <a:pt x="2835" y="295"/>
                    </a:lnTo>
                    <a:close/>
                    <a:moveTo>
                      <a:pt x="2835" y="473"/>
                    </a:moveTo>
                    <a:lnTo>
                      <a:pt x="2835" y="468"/>
                    </a:lnTo>
                    <a:lnTo>
                      <a:pt x="2834" y="463"/>
                    </a:lnTo>
                    <a:lnTo>
                      <a:pt x="2831" y="459"/>
                    </a:lnTo>
                    <a:lnTo>
                      <a:pt x="2828" y="455"/>
                    </a:lnTo>
                    <a:lnTo>
                      <a:pt x="2824" y="451"/>
                    </a:lnTo>
                    <a:lnTo>
                      <a:pt x="2820" y="449"/>
                    </a:lnTo>
                    <a:lnTo>
                      <a:pt x="2815" y="447"/>
                    </a:lnTo>
                    <a:lnTo>
                      <a:pt x="2810" y="447"/>
                    </a:lnTo>
                    <a:lnTo>
                      <a:pt x="2805" y="447"/>
                    </a:lnTo>
                    <a:lnTo>
                      <a:pt x="2801" y="449"/>
                    </a:lnTo>
                    <a:lnTo>
                      <a:pt x="2796" y="451"/>
                    </a:lnTo>
                    <a:lnTo>
                      <a:pt x="2793" y="455"/>
                    </a:lnTo>
                    <a:lnTo>
                      <a:pt x="2790" y="459"/>
                    </a:lnTo>
                    <a:lnTo>
                      <a:pt x="2788" y="463"/>
                    </a:lnTo>
                    <a:lnTo>
                      <a:pt x="2786" y="468"/>
                    </a:lnTo>
                    <a:lnTo>
                      <a:pt x="2785" y="473"/>
                    </a:lnTo>
                    <a:lnTo>
                      <a:pt x="2786" y="478"/>
                    </a:lnTo>
                    <a:lnTo>
                      <a:pt x="2788" y="481"/>
                    </a:lnTo>
                    <a:lnTo>
                      <a:pt x="2790" y="487"/>
                    </a:lnTo>
                    <a:lnTo>
                      <a:pt x="2793" y="490"/>
                    </a:lnTo>
                    <a:lnTo>
                      <a:pt x="2796" y="493"/>
                    </a:lnTo>
                    <a:lnTo>
                      <a:pt x="2801" y="495"/>
                    </a:lnTo>
                    <a:lnTo>
                      <a:pt x="2805" y="497"/>
                    </a:lnTo>
                    <a:lnTo>
                      <a:pt x="2810" y="498"/>
                    </a:lnTo>
                    <a:lnTo>
                      <a:pt x="2815" y="497"/>
                    </a:lnTo>
                    <a:lnTo>
                      <a:pt x="2820" y="495"/>
                    </a:lnTo>
                    <a:lnTo>
                      <a:pt x="2824" y="493"/>
                    </a:lnTo>
                    <a:lnTo>
                      <a:pt x="2828" y="490"/>
                    </a:lnTo>
                    <a:lnTo>
                      <a:pt x="2831" y="487"/>
                    </a:lnTo>
                    <a:lnTo>
                      <a:pt x="2834" y="481"/>
                    </a:lnTo>
                    <a:lnTo>
                      <a:pt x="2835" y="478"/>
                    </a:lnTo>
                    <a:lnTo>
                      <a:pt x="2835" y="473"/>
                    </a:lnTo>
                    <a:lnTo>
                      <a:pt x="2835" y="473"/>
                    </a:lnTo>
                    <a:close/>
                    <a:moveTo>
                      <a:pt x="2835" y="651"/>
                    </a:moveTo>
                    <a:lnTo>
                      <a:pt x="2835" y="646"/>
                    </a:lnTo>
                    <a:lnTo>
                      <a:pt x="2834" y="641"/>
                    </a:lnTo>
                    <a:lnTo>
                      <a:pt x="2831" y="636"/>
                    </a:lnTo>
                    <a:lnTo>
                      <a:pt x="2828" y="633"/>
                    </a:lnTo>
                    <a:lnTo>
                      <a:pt x="2824" y="629"/>
                    </a:lnTo>
                    <a:lnTo>
                      <a:pt x="2820" y="627"/>
                    </a:lnTo>
                    <a:lnTo>
                      <a:pt x="2815" y="625"/>
                    </a:lnTo>
                    <a:lnTo>
                      <a:pt x="2810" y="625"/>
                    </a:lnTo>
                    <a:lnTo>
                      <a:pt x="2805" y="625"/>
                    </a:lnTo>
                    <a:lnTo>
                      <a:pt x="2801" y="627"/>
                    </a:lnTo>
                    <a:lnTo>
                      <a:pt x="2796" y="629"/>
                    </a:lnTo>
                    <a:lnTo>
                      <a:pt x="2793" y="633"/>
                    </a:lnTo>
                    <a:lnTo>
                      <a:pt x="2790" y="636"/>
                    </a:lnTo>
                    <a:lnTo>
                      <a:pt x="2788" y="641"/>
                    </a:lnTo>
                    <a:lnTo>
                      <a:pt x="2786" y="646"/>
                    </a:lnTo>
                    <a:lnTo>
                      <a:pt x="2785" y="651"/>
                    </a:lnTo>
                    <a:lnTo>
                      <a:pt x="2786" y="654"/>
                    </a:lnTo>
                    <a:lnTo>
                      <a:pt x="2788" y="660"/>
                    </a:lnTo>
                    <a:lnTo>
                      <a:pt x="2790" y="665"/>
                    </a:lnTo>
                    <a:lnTo>
                      <a:pt x="2793" y="668"/>
                    </a:lnTo>
                    <a:lnTo>
                      <a:pt x="2796" y="671"/>
                    </a:lnTo>
                    <a:lnTo>
                      <a:pt x="2801" y="673"/>
                    </a:lnTo>
                    <a:lnTo>
                      <a:pt x="2805" y="675"/>
                    </a:lnTo>
                    <a:lnTo>
                      <a:pt x="2810" y="675"/>
                    </a:lnTo>
                    <a:lnTo>
                      <a:pt x="2815" y="675"/>
                    </a:lnTo>
                    <a:lnTo>
                      <a:pt x="2820" y="673"/>
                    </a:lnTo>
                    <a:lnTo>
                      <a:pt x="2824" y="671"/>
                    </a:lnTo>
                    <a:lnTo>
                      <a:pt x="2828" y="668"/>
                    </a:lnTo>
                    <a:lnTo>
                      <a:pt x="2831" y="665"/>
                    </a:lnTo>
                    <a:lnTo>
                      <a:pt x="2834" y="660"/>
                    </a:lnTo>
                    <a:lnTo>
                      <a:pt x="2835" y="654"/>
                    </a:lnTo>
                    <a:lnTo>
                      <a:pt x="2835" y="651"/>
                    </a:lnTo>
                    <a:lnTo>
                      <a:pt x="2835" y="65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2761920" y="5946840"/>
                <a:ext cx="119160" cy="6948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52" y="86"/>
                    </a:lnTo>
                    <a:lnTo>
                      <a:pt x="153" y="86"/>
                    </a:lnTo>
                    <a:lnTo>
                      <a:pt x="153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2904840" y="5946840"/>
                <a:ext cx="123840" cy="6948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1" y="86"/>
                    </a:lnTo>
                    <a:lnTo>
                      <a:pt x="153" y="86"/>
                    </a:lnTo>
                    <a:lnTo>
                      <a:pt x="154" y="84"/>
                    </a:lnTo>
                    <a:lnTo>
                      <a:pt x="155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5" y="2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3051000" y="5946840"/>
                <a:ext cx="120600" cy="6948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3" y="86"/>
                    </a:moveTo>
                    <a:lnTo>
                      <a:pt x="152" y="86"/>
                    </a:lnTo>
                    <a:lnTo>
                      <a:pt x="152" y="86"/>
                    </a:lnTo>
                    <a:lnTo>
                      <a:pt x="153" y="84"/>
                    </a:lnTo>
                    <a:lnTo>
                      <a:pt x="154" y="83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4"/>
                    </a:lnTo>
                    <a:lnTo>
                      <a:pt x="154" y="2"/>
                    </a:lnTo>
                    <a:lnTo>
                      <a:pt x="153" y="1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3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3195000" y="5946840"/>
                <a:ext cx="122400" cy="6948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2" y="86"/>
                    </a:lnTo>
                    <a:lnTo>
                      <a:pt x="154" y="86"/>
                    </a:lnTo>
                    <a:lnTo>
                      <a:pt x="156" y="84"/>
                    </a:lnTo>
                    <a:lnTo>
                      <a:pt x="157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6" y="1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3341160" y="5946840"/>
                <a:ext cx="119520" cy="6948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49" y="86"/>
                    </a:lnTo>
                    <a:lnTo>
                      <a:pt x="150" y="86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2625480" y="5628600"/>
                <a:ext cx="122400" cy="51480"/>
              </a:xfrm>
              <a:custGeom>
                <a:avLst/>
                <a:gdLst/>
                <a:ahLst/>
                <a:rect l="l" t="t" r="r" b="b"/>
                <a:pathLst>
                  <a:path w="155" h="63">
                    <a:moveTo>
                      <a:pt x="4" y="63"/>
                    </a:moveTo>
                    <a:lnTo>
                      <a:pt x="151" y="63"/>
                    </a:lnTo>
                    <a:lnTo>
                      <a:pt x="153" y="63"/>
                    </a:lnTo>
                    <a:lnTo>
                      <a:pt x="154" y="63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2898720" y="5628600"/>
                <a:ext cx="95760" cy="5148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4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3017880" y="5628600"/>
                <a:ext cx="94320" cy="51480"/>
              </a:xfrm>
              <a:custGeom>
                <a:avLst/>
                <a:gdLst/>
                <a:ahLst/>
                <a:rect l="l" t="t" r="r" b="b"/>
                <a:pathLst>
                  <a:path w="120" h="63">
                    <a:moveTo>
                      <a:pt x="2" y="63"/>
                    </a:moveTo>
                    <a:lnTo>
                      <a:pt x="117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3133800" y="5628600"/>
                <a:ext cx="97200" cy="514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2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3385080" y="5628600"/>
                <a:ext cx="94320" cy="51480"/>
              </a:xfrm>
              <a:custGeom>
                <a:avLst/>
                <a:gdLst/>
                <a:ahLst/>
                <a:rect l="l" t="t" r="r" b="b"/>
                <a:pathLst>
                  <a:path w="121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3503160" y="5628600"/>
                <a:ext cx="95760" cy="514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1" y="63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2" y="1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3503160" y="5381640"/>
                <a:ext cx="95760" cy="514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1" y="64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3385080" y="5381640"/>
                <a:ext cx="94320" cy="51480"/>
              </a:xfrm>
              <a:custGeom>
                <a:avLst/>
                <a:gdLst/>
                <a:ahLst/>
                <a:rect l="l" t="t" r="r" b="b"/>
                <a:pathLst>
                  <a:path w="121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3133800" y="5381640"/>
                <a:ext cx="97200" cy="514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2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3017880" y="5381640"/>
                <a:ext cx="94320" cy="5148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2" y="64"/>
                    </a:moveTo>
                    <a:lnTo>
                      <a:pt x="117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2898720" y="5381640"/>
                <a:ext cx="95760" cy="5148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4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3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2625480" y="5381640"/>
                <a:ext cx="122400" cy="51480"/>
              </a:xfrm>
              <a:custGeom>
                <a:avLst/>
                <a:gdLst/>
                <a:ahLst/>
                <a:rect l="l" t="t" r="r" b="b"/>
                <a:pathLst>
                  <a:path w="155" h="64">
                    <a:moveTo>
                      <a:pt x="4" y="64"/>
                    </a:moveTo>
                    <a:lnTo>
                      <a:pt x="151" y="64"/>
                    </a:lnTo>
                    <a:lnTo>
                      <a:pt x="153" y="64"/>
                    </a:lnTo>
                    <a:lnTo>
                      <a:pt x="154" y="64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4077720" y="5218200"/>
                <a:ext cx="50040" cy="6948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5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4170240" y="5159880"/>
                <a:ext cx="79920" cy="6948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98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4203000" y="5312160"/>
                <a:ext cx="50400" cy="70920"/>
              </a:xfrm>
              <a:custGeom>
                <a:avLst/>
                <a:gdLst/>
                <a:ahLst/>
                <a:rect l="l" t="t" r="r" b="b"/>
                <a:pathLst>
                  <a:path w="65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62" y="90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4295880" y="5312160"/>
                <a:ext cx="51480" cy="709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7" y="89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4407120" y="5312160"/>
                <a:ext cx="53280" cy="7092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7" y="89"/>
                    </a:lnTo>
                    <a:lnTo>
                      <a:pt x="67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4407120" y="5159880"/>
                <a:ext cx="79920" cy="6948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0" y="0"/>
                    </a:moveTo>
                    <a:lnTo>
                      <a:pt x="0" y="80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97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4408560" y="546084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25"/>
                    </a:moveTo>
                    <a:lnTo>
                      <a:pt x="51" y="20"/>
                    </a:lnTo>
                    <a:lnTo>
                      <a:pt x="49" y="16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7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7" y="39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4389840" y="5557320"/>
                <a:ext cx="97200" cy="45360"/>
              </a:xfrm>
              <a:custGeom>
                <a:avLst/>
                <a:gdLst/>
                <a:ahLst/>
                <a:rect l="l" t="t" r="r" b="b"/>
                <a:pathLst>
                  <a:path w="123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4242240" y="5557320"/>
                <a:ext cx="95760" cy="4536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4094640" y="5557320"/>
                <a:ext cx="95760" cy="45360"/>
              </a:xfrm>
              <a:custGeom>
                <a:avLst/>
                <a:gdLst/>
                <a:ahLst/>
                <a:rect l="l" t="t" r="r" b="b"/>
                <a:pathLst>
                  <a:path w="121" h="54">
                    <a:moveTo>
                      <a:pt x="3" y="54"/>
                    </a:moveTo>
                    <a:lnTo>
                      <a:pt x="117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4132440" y="5460840"/>
                <a:ext cx="37440" cy="399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47" y="25"/>
                    </a:moveTo>
                    <a:lnTo>
                      <a:pt x="47" y="20"/>
                    </a:lnTo>
                    <a:lnTo>
                      <a:pt x="46" y="16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3"/>
                    </a:lnTo>
                    <a:lnTo>
                      <a:pt x="10" y="46"/>
                    </a:lnTo>
                    <a:lnTo>
                      <a:pt x="13" y="48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3" y="48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7" y="30"/>
                    </a:lnTo>
                    <a:lnTo>
                      <a:pt x="47" y="25"/>
                    </a:lnTo>
                    <a:lnTo>
                      <a:pt x="47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4812120" y="537840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5"/>
                    </a:lnTo>
                    <a:lnTo>
                      <a:pt x="35" y="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6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4812120" y="5522040"/>
                <a:ext cx="39240" cy="399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4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4812120" y="5666040"/>
                <a:ext cx="39240" cy="3852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1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5"/>
                    </a:lnTo>
                    <a:lnTo>
                      <a:pt x="50" y="29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875040" y="5157000"/>
                <a:ext cx="834840" cy="22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875040" y="5157000"/>
                <a:ext cx="834840" cy="2232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5940720" y="5213520"/>
                <a:ext cx="855360" cy="526680"/>
              </a:xfrm>
              <a:custGeom>
                <a:avLst/>
                <a:gdLst/>
                <a:ahLst/>
                <a:rect l="l" t="t" r="r" b="b"/>
                <a:pathLst>
                  <a:path w="1091" h="653">
                    <a:moveTo>
                      <a:pt x="775" y="559"/>
                    </a:moveTo>
                    <a:lnTo>
                      <a:pt x="795" y="548"/>
                    </a:lnTo>
                    <a:lnTo>
                      <a:pt x="795" y="525"/>
                    </a:lnTo>
                    <a:lnTo>
                      <a:pt x="775" y="514"/>
                    </a:lnTo>
                    <a:lnTo>
                      <a:pt x="754" y="525"/>
                    </a:lnTo>
                    <a:lnTo>
                      <a:pt x="754" y="548"/>
                    </a:lnTo>
                    <a:lnTo>
                      <a:pt x="775" y="559"/>
                    </a:lnTo>
                    <a:close/>
                    <a:moveTo>
                      <a:pt x="829" y="559"/>
                    </a:moveTo>
                    <a:lnTo>
                      <a:pt x="849" y="548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48"/>
                    </a:lnTo>
                    <a:lnTo>
                      <a:pt x="829" y="559"/>
                    </a:lnTo>
                    <a:close/>
                    <a:moveTo>
                      <a:pt x="883" y="559"/>
                    </a:moveTo>
                    <a:lnTo>
                      <a:pt x="904" y="548"/>
                    </a:lnTo>
                    <a:lnTo>
                      <a:pt x="904" y="525"/>
                    </a:lnTo>
                    <a:lnTo>
                      <a:pt x="883" y="514"/>
                    </a:lnTo>
                    <a:lnTo>
                      <a:pt x="863" y="525"/>
                    </a:lnTo>
                    <a:lnTo>
                      <a:pt x="863" y="548"/>
                    </a:lnTo>
                    <a:lnTo>
                      <a:pt x="883" y="559"/>
                    </a:lnTo>
                    <a:close/>
                    <a:moveTo>
                      <a:pt x="938" y="559"/>
                    </a:moveTo>
                    <a:lnTo>
                      <a:pt x="958" y="548"/>
                    </a:lnTo>
                    <a:lnTo>
                      <a:pt x="958" y="525"/>
                    </a:lnTo>
                    <a:lnTo>
                      <a:pt x="938" y="514"/>
                    </a:lnTo>
                    <a:lnTo>
                      <a:pt x="916" y="525"/>
                    </a:lnTo>
                    <a:lnTo>
                      <a:pt x="916" y="548"/>
                    </a:lnTo>
                    <a:lnTo>
                      <a:pt x="938" y="559"/>
                    </a:lnTo>
                    <a:close/>
                    <a:moveTo>
                      <a:pt x="666" y="559"/>
                    </a:moveTo>
                    <a:lnTo>
                      <a:pt x="686" y="548"/>
                    </a:lnTo>
                    <a:lnTo>
                      <a:pt x="686" y="525"/>
                    </a:lnTo>
                    <a:lnTo>
                      <a:pt x="666" y="514"/>
                    </a:lnTo>
                    <a:lnTo>
                      <a:pt x="647" y="525"/>
                    </a:lnTo>
                    <a:lnTo>
                      <a:pt x="647" y="548"/>
                    </a:lnTo>
                    <a:lnTo>
                      <a:pt x="666" y="559"/>
                    </a:lnTo>
                    <a:close/>
                    <a:moveTo>
                      <a:pt x="720" y="559"/>
                    </a:moveTo>
                    <a:lnTo>
                      <a:pt x="740" y="548"/>
                    </a:lnTo>
                    <a:lnTo>
                      <a:pt x="740" y="525"/>
                    </a:lnTo>
                    <a:lnTo>
                      <a:pt x="720" y="514"/>
                    </a:lnTo>
                    <a:lnTo>
                      <a:pt x="700" y="525"/>
                    </a:lnTo>
                    <a:lnTo>
                      <a:pt x="700" y="548"/>
                    </a:lnTo>
                    <a:lnTo>
                      <a:pt x="720" y="559"/>
                    </a:lnTo>
                    <a:close/>
                    <a:moveTo>
                      <a:pt x="505" y="559"/>
                    </a:moveTo>
                    <a:lnTo>
                      <a:pt x="525" y="548"/>
                    </a:lnTo>
                    <a:lnTo>
                      <a:pt x="525" y="525"/>
                    </a:lnTo>
                    <a:lnTo>
                      <a:pt x="505" y="514"/>
                    </a:lnTo>
                    <a:lnTo>
                      <a:pt x="484" y="525"/>
                    </a:lnTo>
                    <a:lnTo>
                      <a:pt x="484" y="548"/>
                    </a:lnTo>
                    <a:lnTo>
                      <a:pt x="505" y="559"/>
                    </a:lnTo>
                    <a:close/>
                    <a:moveTo>
                      <a:pt x="559" y="559"/>
                    </a:moveTo>
                    <a:lnTo>
                      <a:pt x="579" y="548"/>
                    </a:lnTo>
                    <a:lnTo>
                      <a:pt x="579" y="525"/>
                    </a:lnTo>
                    <a:lnTo>
                      <a:pt x="559" y="514"/>
                    </a:lnTo>
                    <a:lnTo>
                      <a:pt x="539" y="525"/>
                    </a:lnTo>
                    <a:lnTo>
                      <a:pt x="539" y="548"/>
                    </a:lnTo>
                    <a:lnTo>
                      <a:pt x="559" y="559"/>
                    </a:lnTo>
                    <a:close/>
                    <a:moveTo>
                      <a:pt x="613" y="559"/>
                    </a:moveTo>
                    <a:lnTo>
                      <a:pt x="634" y="548"/>
                    </a:lnTo>
                    <a:lnTo>
                      <a:pt x="634" y="525"/>
                    </a:lnTo>
                    <a:lnTo>
                      <a:pt x="613" y="514"/>
                    </a:lnTo>
                    <a:lnTo>
                      <a:pt x="593" y="525"/>
                    </a:lnTo>
                    <a:lnTo>
                      <a:pt x="593" y="548"/>
                    </a:lnTo>
                    <a:lnTo>
                      <a:pt x="613" y="559"/>
                    </a:lnTo>
                    <a:close/>
                    <a:moveTo>
                      <a:pt x="21" y="559"/>
                    </a:moveTo>
                    <a:lnTo>
                      <a:pt x="41" y="548"/>
                    </a:lnTo>
                    <a:lnTo>
                      <a:pt x="41" y="525"/>
                    </a:lnTo>
                    <a:lnTo>
                      <a:pt x="21" y="514"/>
                    </a:lnTo>
                    <a:lnTo>
                      <a:pt x="0" y="525"/>
                    </a:lnTo>
                    <a:lnTo>
                      <a:pt x="0" y="548"/>
                    </a:lnTo>
                    <a:lnTo>
                      <a:pt x="21" y="559"/>
                    </a:lnTo>
                    <a:close/>
                    <a:moveTo>
                      <a:pt x="74" y="559"/>
                    </a:moveTo>
                    <a:lnTo>
                      <a:pt x="93" y="548"/>
                    </a:lnTo>
                    <a:lnTo>
                      <a:pt x="93" y="525"/>
                    </a:lnTo>
                    <a:lnTo>
                      <a:pt x="74" y="514"/>
                    </a:lnTo>
                    <a:lnTo>
                      <a:pt x="54" y="525"/>
                    </a:lnTo>
                    <a:lnTo>
                      <a:pt x="54" y="548"/>
                    </a:lnTo>
                    <a:lnTo>
                      <a:pt x="74" y="559"/>
                    </a:lnTo>
                    <a:close/>
                    <a:moveTo>
                      <a:pt x="127" y="559"/>
                    </a:moveTo>
                    <a:lnTo>
                      <a:pt x="147" y="548"/>
                    </a:lnTo>
                    <a:lnTo>
                      <a:pt x="147" y="525"/>
                    </a:lnTo>
                    <a:lnTo>
                      <a:pt x="127" y="514"/>
                    </a:lnTo>
                    <a:lnTo>
                      <a:pt x="107" y="525"/>
                    </a:lnTo>
                    <a:lnTo>
                      <a:pt x="107" y="548"/>
                    </a:lnTo>
                    <a:lnTo>
                      <a:pt x="127" y="559"/>
                    </a:lnTo>
                    <a:close/>
                    <a:moveTo>
                      <a:pt x="181" y="559"/>
                    </a:moveTo>
                    <a:lnTo>
                      <a:pt x="201" y="548"/>
                    </a:lnTo>
                    <a:lnTo>
                      <a:pt x="201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48"/>
                    </a:lnTo>
                    <a:lnTo>
                      <a:pt x="181" y="559"/>
                    </a:lnTo>
                    <a:close/>
                    <a:moveTo>
                      <a:pt x="236" y="559"/>
                    </a:moveTo>
                    <a:lnTo>
                      <a:pt x="256" y="548"/>
                    </a:lnTo>
                    <a:lnTo>
                      <a:pt x="256" y="525"/>
                    </a:lnTo>
                    <a:lnTo>
                      <a:pt x="236" y="514"/>
                    </a:lnTo>
                    <a:lnTo>
                      <a:pt x="215" y="525"/>
                    </a:lnTo>
                    <a:lnTo>
                      <a:pt x="215" y="548"/>
                    </a:lnTo>
                    <a:lnTo>
                      <a:pt x="236" y="559"/>
                    </a:lnTo>
                    <a:close/>
                    <a:moveTo>
                      <a:pt x="290" y="559"/>
                    </a:moveTo>
                    <a:lnTo>
                      <a:pt x="310" y="548"/>
                    </a:lnTo>
                    <a:lnTo>
                      <a:pt x="310" y="525"/>
                    </a:lnTo>
                    <a:lnTo>
                      <a:pt x="290" y="514"/>
                    </a:lnTo>
                    <a:lnTo>
                      <a:pt x="270" y="525"/>
                    </a:lnTo>
                    <a:lnTo>
                      <a:pt x="270" y="548"/>
                    </a:lnTo>
                    <a:lnTo>
                      <a:pt x="290" y="559"/>
                    </a:lnTo>
                    <a:close/>
                    <a:moveTo>
                      <a:pt x="801" y="511"/>
                    </a:moveTo>
                    <a:lnTo>
                      <a:pt x="821" y="500"/>
                    </a:lnTo>
                    <a:lnTo>
                      <a:pt x="821" y="477"/>
                    </a:lnTo>
                    <a:lnTo>
                      <a:pt x="801" y="466"/>
                    </a:lnTo>
                    <a:lnTo>
                      <a:pt x="781" y="477"/>
                    </a:lnTo>
                    <a:lnTo>
                      <a:pt x="781" y="500"/>
                    </a:lnTo>
                    <a:lnTo>
                      <a:pt x="801" y="511"/>
                    </a:lnTo>
                    <a:close/>
                    <a:moveTo>
                      <a:pt x="856" y="511"/>
                    </a:moveTo>
                    <a:lnTo>
                      <a:pt x="876" y="500"/>
                    </a:lnTo>
                    <a:lnTo>
                      <a:pt x="876" y="477"/>
                    </a:lnTo>
                    <a:lnTo>
                      <a:pt x="856" y="466"/>
                    </a:lnTo>
                    <a:lnTo>
                      <a:pt x="835" y="477"/>
                    </a:lnTo>
                    <a:lnTo>
                      <a:pt x="835" y="500"/>
                    </a:lnTo>
                    <a:lnTo>
                      <a:pt x="856" y="511"/>
                    </a:lnTo>
                    <a:close/>
                    <a:moveTo>
                      <a:pt x="910" y="511"/>
                    </a:moveTo>
                    <a:lnTo>
                      <a:pt x="930" y="500"/>
                    </a:lnTo>
                    <a:lnTo>
                      <a:pt x="930" y="477"/>
                    </a:lnTo>
                    <a:lnTo>
                      <a:pt x="910" y="466"/>
                    </a:lnTo>
                    <a:lnTo>
                      <a:pt x="890" y="477"/>
                    </a:lnTo>
                    <a:lnTo>
                      <a:pt x="890" y="500"/>
                    </a:lnTo>
                    <a:lnTo>
                      <a:pt x="910" y="511"/>
                    </a:lnTo>
                    <a:close/>
                    <a:moveTo>
                      <a:pt x="587" y="511"/>
                    </a:moveTo>
                    <a:lnTo>
                      <a:pt x="607" y="500"/>
                    </a:lnTo>
                    <a:lnTo>
                      <a:pt x="607" y="477"/>
                    </a:lnTo>
                    <a:lnTo>
                      <a:pt x="587" y="466"/>
                    </a:lnTo>
                    <a:lnTo>
                      <a:pt x="566" y="477"/>
                    </a:lnTo>
                    <a:lnTo>
                      <a:pt x="566" y="500"/>
                    </a:lnTo>
                    <a:lnTo>
                      <a:pt x="587" y="511"/>
                    </a:lnTo>
                    <a:close/>
                    <a:moveTo>
                      <a:pt x="641" y="511"/>
                    </a:moveTo>
                    <a:lnTo>
                      <a:pt x="658" y="500"/>
                    </a:lnTo>
                    <a:lnTo>
                      <a:pt x="658" y="477"/>
                    </a:lnTo>
                    <a:lnTo>
                      <a:pt x="641" y="466"/>
                    </a:lnTo>
                    <a:lnTo>
                      <a:pt x="621" y="477"/>
                    </a:lnTo>
                    <a:lnTo>
                      <a:pt x="621" y="500"/>
                    </a:lnTo>
                    <a:lnTo>
                      <a:pt x="641" y="511"/>
                    </a:lnTo>
                    <a:close/>
                    <a:moveTo>
                      <a:pt x="692" y="511"/>
                    </a:moveTo>
                    <a:lnTo>
                      <a:pt x="713" y="500"/>
                    </a:lnTo>
                    <a:lnTo>
                      <a:pt x="713" y="477"/>
                    </a:lnTo>
                    <a:lnTo>
                      <a:pt x="692" y="466"/>
                    </a:lnTo>
                    <a:lnTo>
                      <a:pt x="675" y="477"/>
                    </a:lnTo>
                    <a:lnTo>
                      <a:pt x="675" y="500"/>
                    </a:lnTo>
                    <a:lnTo>
                      <a:pt x="692" y="511"/>
                    </a:lnTo>
                    <a:close/>
                    <a:moveTo>
                      <a:pt x="747" y="511"/>
                    </a:moveTo>
                    <a:lnTo>
                      <a:pt x="767" y="500"/>
                    </a:lnTo>
                    <a:lnTo>
                      <a:pt x="767" y="477"/>
                    </a:lnTo>
                    <a:lnTo>
                      <a:pt x="747" y="466"/>
                    </a:lnTo>
                    <a:lnTo>
                      <a:pt x="727" y="477"/>
                    </a:lnTo>
                    <a:lnTo>
                      <a:pt x="727" y="500"/>
                    </a:lnTo>
                    <a:lnTo>
                      <a:pt x="747" y="511"/>
                    </a:lnTo>
                    <a:close/>
                    <a:moveTo>
                      <a:pt x="371" y="511"/>
                    </a:moveTo>
                    <a:lnTo>
                      <a:pt x="391" y="500"/>
                    </a:lnTo>
                    <a:lnTo>
                      <a:pt x="391" y="477"/>
                    </a:lnTo>
                    <a:lnTo>
                      <a:pt x="371" y="466"/>
                    </a:lnTo>
                    <a:lnTo>
                      <a:pt x="351" y="477"/>
                    </a:lnTo>
                    <a:lnTo>
                      <a:pt x="351" y="500"/>
                    </a:lnTo>
                    <a:lnTo>
                      <a:pt x="371" y="511"/>
                    </a:lnTo>
                    <a:close/>
                    <a:moveTo>
                      <a:pt x="425" y="511"/>
                    </a:moveTo>
                    <a:lnTo>
                      <a:pt x="447" y="500"/>
                    </a:lnTo>
                    <a:lnTo>
                      <a:pt x="447" y="477"/>
                    </a:lnTo>
                    <a:lnTo>
                      <a:pt x="425" y="466"/>
                    </a:lnTo>
                    <a:lnTo>
                      <a:pt x="405" y="477"/>
                    </a:lnTo>
                    <a:lnTo>
                      <a:pt x="405" y="500"/>
                    </a:lnTo>
                    <a:lnTo>
                      <a:pt x="425" y="511"/>
                    </a:lnTo>
                    <a:close/>
                    <a:moveTo>
                      <a:pt x="480" y="511"/>
                    </a:moveTo>
                    <a:lnTo>
                      <a:pt x="498" y="500"/>
                    </a:lnTo>
                    <a:lnTo>
                      <a:pt x="498" y="477"/>
                    </a:lnTo>
                    <a:lnTo>
                      <a:pt x="480" y="466"/>
                    </a:lnTo>
                    <a:lnTo>
                      <a:pt x="459" y="477"/>
                    </a:lnTo>
                    <a:lnTo>
                      <a:pt x="459" y="500"/>
                    </a:lnTo>
                    <a:lnTo>
                      <a:pt x="480" y="511"/>
                    </a:lnTo>
                    <a:close/>
                    <a:moveTo>
                      <a:pt x="532" y="511"/>
                    </a:moveTo>
                    <a:lnTo>
                      <a:pt x="552" y="500"/>
                    </a:lnTo>
                    <a:lnTo>
                      <a:pt x="552" y="477"/>
                    </a:lnTo>
                    <a:lnTo>
                      <a:pt x="532" y="466"/>
                    </a:lnTo>
                    <a:lnTo>
                      <a:pt x="512" y="477"/>
                    </a:lnTo>
                    <a:lnTo>
                      <a:pt x="512" y="500"/>
                    </a:lnTo>
                    <a:lnTo>
                      <a:pt x="532" y="511"/>
                    </a:lnTo>
                    <a:close/>
                    <a:moveTo>
                      <a:pt x="48" y="511"/>
                    </a:moveTo>
                    <a:lnTo>
                      <a:pt x="68" y="500"/>
                    </a:lnTo>
                    <a:lnTo>
                      <a:pt x="68" y="477"/>
                    </a:lnTo>
                    <a:lnTo>
                      <a:pt x="48" y="466"/>
                    </a:lnTo>
                    <a:lnTo>
                      <a:pt x="27" y="477"/>
                    </a:lnTo>
                    <a:lnTo>
                      <a:pt x="27" y="500"/>
                    </a:lnTo>
                    <a:lnTo>
                      <a:pt x="48" y="511"/>
                    </a:lnTo>
                    <a:close/>
                    <a:moveTo>
                      <a:pt x="99" y="511"/>
                    </a:moveTo>
                    <a:lnTo>
                      <a:pt x="120" y="500"/>
                    </a:lnTo>
                    <a:lnTo>
                      <a:pt x="120" y="477"/>
                    </a:lnTo>
                    <a:lnTo>
                      <a:pt x="99" y="466"/>
                    </a:lnTo>
                    <a:lnTo>
                      <a:pt x="82" y="477"/>
                    </a:lnTo>
                    <a:lnTo>
                      <a:pt x="82" y="500"/>
                    </a:lnTo>
                    <a:lnTo>
                      <a:pt x="99" y="511"/>
                    </a:lnTo>
                    <a:close/>
                    <a:moveTo>
                      <a:pt x="155" y="511"/>
                    </a:moveTo>
                    <a:lnTo>
                      <a:pt x="175" y="500"/>
                    </a:lnTo>
                    <a:lnTo>
                      <a:pt x="175" y="477"/>
                    </a:lnTo>
                    <a:lnTo>
                      <a:pt x="155" y="466"/>
                    </a:lnTo>
                    <a:lnTo>
                      <a:pt x="133" y="477"/>
                    </a:lnTo>
                    <a:lnTo>
                      <a:pt x="133" y="500"/>
                    </a:lnTo>
                    <a:lnTo>
                      <a:pt x="155" y="511"/>
                    </a:lnTo>
                    <a:close/>
                    <a:moveTo>
                      <a:pt x="208" y="511"/>
                    </a:moveTo>
                    <a:lnTo>
                      <a:pt x="229" y="500"/>
                    </a:lnTo>
                    <a:lnTo>
                      <a:pt x="229" y="477"/>
                    </a:lnTo>
                    <a:lnTo>
                      <a:pt x="208" y="466"/>
                    </a:lnTo>
                    <a:lnTo>
                      <a:pt x="188" y="477"/>
                    </a:lnTo>
                    <a:lnTo>
                      <a:pt x="188" y="500"/>
                    </a:lnTo>
                    <a:lnTo>
                      <a:pt x="208" y="511"/>
                    </a:lnTo>
                    <a:close/>
                    <a:moveTo>
                      <a:pt x="262" y="511"/>
                    </a:moveTo>
                    <a:lnTo>
                      <a:pt x="282" y="500"/>
                    </a:lnTo>
                    <a:lnTo>
                      <a:pt x="282" y="477"/>
                    </a:lnTo>
                    <a:lnTo>
                      <a:pt x="262" y="466"/>
                    </a:lnTo>
                    <a:lnTo>
                      <a:pt x="242" y="477"/>
                    </a:lnTo>
                    <a:lnTo>
                      <a:pt x="242" y="500"/>
                    </a:lnTo>
                    <a:lnTo>
                      <a:pt x="262" y="511"/>
                    </a:lnTo>
                    <a:close/>
                    <a:moveTo>
                      <a:pt x="317" y="511"/>
                    </a:moveTo>
                    <a:lnTo>
                      <a:pt x="338" y="500"/>
                    </a:lnTo>
                    <a:lnTo>
                      <a:pt x="338" y="477"/>
                    </a:lnTo>
                    <a:lnTo>
                      <a:pt x="317" y="466"/>
                    </a:lnTo>
                    <a:lnTo>
                      <a:pt x="296" y="477"/>
                    </a:lnTo>
                    <a:lnTo>
                      <a:pt x="296" y="500"/>
                    </a:lnTo>
                    <a:lnTo>
                      <a:pt x="317" y="511"/>
                    </a:lnTo>
                    <a:close/>
                    <a:moveTo>
                      <a:pt x="505" y="466"/>
                    </a:moveTo>
                    <a:lnTo>
                      <a:pt x="525" y="455"/>
                    </a:lnTo>
                    <a:lnTo>
                      <a:pt x="525" y="432"/>
                    </a:lnTo>
                    <a:lnTo>
                      <a:pt x="505" y="421"/>
                    </a:lnTo>
                    <a:lnTo>
                      <a:pt x="484" y="432"/>
                    </a:lnTo>
                    <a:lnTo>
                      <a:pt x="484" y="455"/>
                    </a:lnTo>
                    <a:lnTo>
                      <a:pt x="505" y="466"/>
                    </a:lnTo>
                    <a:close/>
                    <a:moveTo>
                      <a:pt x="559" y="466"/>
                    </a:moveTo>
                    <a:lnTo>
                      <a:pt x="579" y="455"/>
                    </a:lnTo>
                    <a:lnTo>
                      <a:pt x="579" y="432"/>
                    </a:lnTo>
                    <a:lnTo>
                      <a:pt x="559" y="421"/>
                    </a:lnTo>
                    <a:lnTo>
                      <a:pt x="539" y="432"/>
                    </a:lnTo>
                    <a:lnTo>
                      <a:pt x="539" y="455"/>
                    </a:lnTo>
                    <a:lnTo>
                      <a:pt x="559" y="466"/>
                    </a:lnTo>
                    <a:close/>
                    <a:moveTo>
                      <a:pt x="21" y="466"/>
                    </a:moveTo>
                    <a:lnTo>
                      <a:pt x="41" y="455"/>
                    </a:lnTo>
                    <a:lnTo>
                      <a:pt x="41" y="432"/>
                    </a:lnTo>
                    <a:lnTo>
                      <a:pt x="21" y="421"/>
                    </a:lnTo>
                    <a:lnTo>
                      <a:pt x="0" y="432"/>
                    </a:lnTo>
                    <a:lnTo>
                      <a:pt x="0" y="455"/>
                    </a:lnTo>
                    <a:lnTo>
                      <a:pt x="21" y="466"/>
                    </a:lnTo>
                    <a:close/>
                    <a:moveTo>
                      <a:pt x="74" y="466"/>
                    </a:moveTo>
                    <a:lnTo>
                      <a:pt x="93" y="455"/>
                    </a:lnTo>
                    <a:lnTo>
                      <a:pt x="93" y="432"/>
                    </a:lnTo>
                    <a:lnTo>
                      <a:pt x="74" y="421"/>
                    </a:lnTo>
                    <a:lnTo>
                      <a:pt x="54" y="432"/>
                    </a:lnTo>
                    <a:lnTo>
                      <a:pt x="54" y="455"/>
                    </a:lnTo>
                    <a:lnTo>
                      <a:pt x="74" y="466"/>
                    </a:lnTo>
                    <a:close/>
                    <a:moveTo>
                      <a:pt x="127" y="466"/>
                    </a:moveTo>
                    <a:lnTo>
                      <a:pt x="147" y="455"/>
                    </a:lnTo>
                    <a:lnTo>
                      <a:pt x="147" y="432"/>
                    </a:lnTo>
                    <a:lnTo>
                      <a:pt x="127" y="421"/>
                    </a:lnTo>
                    <a:lnTo>
                      <a:pt x="107" y="432"/>
                    </a:lnTo>
                    <a:lnTo>
                      <a:pt x="107" y="455"/>
                    </a:lnTo>
                    <a:lnTo>
                      <a:pt x="127" y="466"/>
                    </a:lnTo>
                    <a:close/>
                    <a:moveTo>
                      <a:pt x="181" y="466"/>
                    </a:moveTo>
                    <a:lnTo>
                      <a:pt x="201" y="455"/>
                    </a:lnTo>
                    <a:lnTo>
                      <a:pt x="201" y="432"/>
                    </a:lnTo>
                    <a:lnTo>
                      <a:pt x="181" y="421"/>
                    </a:lnTo>
                    <a:lnTo>
                      <a:pt x="161" y="432"/>
                    </a:lnTo>
                    <a:lnTo>
                      <a:pt x="161" y="455"/>
                    </a:lnTo>
                    <a:lnTo>
                      <a:pt x="181" y="466"/>
                    </a:lnTo>
                    <a:close/>
                    <a:moveTo>
                      <a:pt x="236" y="466"/>
                    </a:moveTo>
                    <a:lnTo>
                      <a:pt x="256" y="455"/>
                    </a:lnTo>
                    <a:lnTo>
                      <a:pt x="256" y="432"/>
                    </a:lnTo>
                    <a:lnTo>
                      <a:pt x="236" y="421"/>
                    </a:lnTo>
                    <a:lnTo>
                      <a:pt x="215" y="432"/>
                    </a:lnTo>
                    <a:lnTo>
                      <a:pt x="215" y="455"/>
                    </a:lnTo>
                    <a:lnTo>
                      <a:pt x="236" y="466"/>
                    </a:lnTo>
                    <a:close/>
                    <a:moveTo>
                      <a:pt x="290" y="466"/>
                    </a:moveTo>
                    <a:lnTo>
                      <a:pt x="310" y="455"/>
                    </a:lnTo>
                    <a:lnTo>
                      <a:pt x="310" y="432"/>
                    </a:lnTo>
                    <a:lnTo>
                      <a:pt x="290" y="421"/>
                    </a:lnTo>
                    <a:lnTo>
                      <a:pt x="270" y="432"/>
                    </a:lnTo>
                    <a:lnTo>
                      <a:pt x="270" y="455"/>
                    </a:lnTo>
                    <a:lnTo>
                      <a:pt x="290" y="466"/>
                    </a:lnTo>
                    <a:close/>
                    <a:moveTo>
                      <a:pt x="344" y="466"/>
                    </a:moveTo>
                    <a:lnTo>
                      <a:pt x="365" y="455"/>
                    </a:lnTo>
                    <a:lnTo>
                      <a:pt x="365" y="432"/>
                    </a:lnTo>
                    <a:lnTo>
                      <a:pt x="344" y="421"/>
                    </a:lnTo>
                    <a:lnTo>
                      <a:pt x="324" y="432"/>
                    </a:lnTo>
                    <a:lnTo>
                      <a:pt x="324" y="455"/>
                    </a:lnTo>
                    <a:lnTo>
                      <a:pt x="344" y="466"/>
                    </a:lnTo>
                    <a:close/>
                    <a:moveTo>
                      <a:pt x="399" y="466"/>
                    </a:moveTo>
                    <a:lnTo>
                      <a:pt x="419" y="455"/>
                    </a:lnTo>
                    <a:lnTo>
                      <a:pt x="419" y="432"/>
                    </a:lnTo>
                    <a:lnTo>
                      <a:pt x="399" y="421"/>
                    </a:lnTo>
                    <a:lnTo>
                      <a:pt x="378" y="432"/>
                    </a:lnTo>
                    <a:lnTo>
                      <a:pt x="378" y="455"/>
                    </a:lnTo>
                    <a:lnTo>
                      <a:pt x="399" y="466"/>
                    </a:lnTo>
                    <a:close/>
                    <a:moveTo>
                      <a:pt x="613" y="466"/>
                    </a:moveTo>
                    <a:lnTo>
                      <a:pt x="634" y="455"/>
                    </a:lnTo>
                    <a:lnTo>
                      <a:pt x="634" y="432"/>
                    </a:lnTo>
                    <a:lnTo>
                      <a:pt x="613" y="421"/>
                    </a:lnTo>
                    <a:lnTo>
                      <a:pt x="593" y="432"/>
                    </a:lnTo>
                    <a:lnTo>
                      <a:pt x="593" y="455"/>
                    </a:lnTo>
                    <a:lnTo>
                      <a:pt x="613" y="466"/>
                    </a:lnTo>
                    <a:close/>
                    <a:moveTo>
                      <a:pt x="666" y="466"/>
                    </a:moveTo>
                    <a:lnTo>
                      <a:pt x="686" y="455"/>
                    </a:lnTo>
                    <a:lnTo>
                      <a:pt x="686" y="432"/>
                    </a:lnTo>
                    <a:lnTo>
                      <a:pt x="666" y="421"/>
                    </a:lnTo>
                    <a:lnTo>
                      <a:pt x="647" y="432"/>
                    </a:lnTo>
                    <a:lnTo>
                      <a:pt x="647" y="455"/>
                    </a:lnTo>
                    <a:lnTo>
                      <a:pt x="666" y="466"/>
                    </a:lnTo>
                    <a:close/>
                    <a:moveTo>
                      <a:pt x="720" y="466"/>
                    </a:moveTo>
                    <a:lnTo>
                      <a:pt x="740" y="455"/>
                    </a:lnTo>
                    <a:lnTo>
                      <a:pt x="740" y="432"/>
                    </a:lnTo>
                    <a:lnTo>
                      <a:pt x="720" y="421"/>
                    </a:lnTo>
                    <a:lnTo>
                      <a:pt x="700" y="432"/>
                    </a:lnTo>
                    <a:lnTo>
                      <a:pt x="700" y="455"/>
                    </a:lnTo>
                    <a:lnTo>
                      <a:pt x="720" y="466"/>
                    </a:lnTo>
                    <a:close/>
                    <a:moveTo>
                      <a:pt x="775" y="466"/>
                    </a:moveTo>
                    <a:lnTo>
                      <a:pt x="795" y="455"/>
                    </a:lnTo>
                    <a:lnTo>
                      <a:pt x="795" y="432"/>
                    </a:lnTo>
                    <a:lnTo>
                      <a:pt x="775" y="421"/>
                    </a:lnTo>
                    <a:lnTo>
                      <a:pt x="754" y="432"/>
                    </a:lnTo>
                    <a:lnTo>
                      <a:pt x="754" y="455"/>
                    </a:lnTo>
                    <a:lnTo>
                      <a:pt x="775" y="466"/>
                    </a:lnTo>
                    <a:close/>
                    <a:moveTo>
                      <a:pt x="532" y="234"/>
                    </a:moveTo>
                    <a:lnTo>
                      <a:pt x="552" y="222"/>
                    </a:lnTo>
                    <a:lnTo>
                      <a:pt x="552" y="198"/>
                    </a:lnTo>
                    <a:lnTo>
                      <a:pt x="532" y="187"/>
                    </a:lnTo>
                    <a:lnTo>
                      <a:pt x="512" y="198"/>
                    </a:lnTo>
                    <a:lnTo>
                      <a:pt x="512" y="222"/>
                    </a:lnTo>
                    <a:lnTo>
                      <a:pt x="532" y="234"/>
                    </a:lnTo>
                    <a:close/>
                    <a:moveTo>
                      <a:pt x="532" y="140"/>
                    </a:moveTo>
                    <a:lnTo>
                      <a:pt x="552" y="128"/>
                    </a:lnTo>
                    <a:lnTo>
                      <a:pt x="552" y="105"/>
                    </a:lnTo>
                    <a:lnTo>
                      <a:pt x="532" y="94"/>
                    </a:lnTo>
                    <a:lnTo>
                      <a:pt x="512" y="105"/>
                    </a:lnTo>
                    <a:lnTo>
                      <a:pt x="512" y="128"/>
                    </a:lnTo>
                    <a:lnTo>
                      <a:pt x="532" y="140"/>
                    </a:lnTo>
                    <a:close/>
                    <a:moveTo>
                      <a:pt x="559" y="279"/>
                    </a:moveTo>
                    <a:lnTo>
                      <a:pt x="579" y="268"/>
                    </a:lnTo>
                    <a:lnTo>
                      <a:pt x="579" y="245"/>
                    </a:lnTo>
                    <a:lnTo>
                      <a:pt x="559" y="234"/>
                    </a:lnTo>
                    <a:lnTo>
                      <a:pt x="539" y="245"/>
                    </a:lnTo>
                    <a:lnTo>
                      <a:pt x="539" y="268"/>
                    </a:lnTo>
                    <a:lnTo>
                      <a:pt x="559" y="279"/>
                    </a:lnTo>
                    <a:close/>
                    <a:moveTo>
                      <a:pt x="559" y="187"/>
                    </a:moveTo>
                    <a:lnTo>
                      <a:pt x="579" y="174"/>
                    </a:lnTo>
                    <a:lnTo>
                      <a:pt x="579" y="152"/>
                    </a:lnTo>
                    <a:lnTo>
                      <a:pt x="559" y="140"/>
                    </a:lnTo>
                    <a:lnTo>
                      <a:pt x="539" y="152"/>
                    </a:lnTo>
                    <a:lnTo>
                      <a:pt x="539" y="174"/>
                    </a:lnTo>
                    <a:lnTo>
                      <a:pt x="559" y="187"/>
                    </a:lnTo>
                    <a:close/>
                    <a:moveTo>
                      <a:pt x="559" y="94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59" y="47"/>
                    </a:lnTo>
                    <a:lnTo>
                      <a:pt x="539" y="58"/>
                    </a:lnTo>
                    <a:lnTo>
                      <a:pt x="539" y="82"/>
                    </a:lnTo>
                    <a:lnTo>
                      <a:pt x="559" y="94"/>
                    </a:lnTo>
                    <a:close/>
                    <a:moveTo>
                      <a:pt x="480" y="327"/>
                    </a:moveTo>
                    <a:lnTo>
                      <a:pt x="498" y="316"/>
                    </a:lnTo>
                    <a:lnTo>
                      <a:pt x="498" y="292"/>
                    </a:lnTo>
                    <a:lnTo>
                      <a:pt x="480" y="280"/>
                    </a:lnTo>
                    <a:lnTo>
                      <a:pt x="459" y="292"/>
                    </a:lnTo>
                    <a:lnTo>
                      <a:pt x="459" y="316"/>
                    </a:lnTo>
                    <a:lnTo>
                      <a:pt x="480" y="327"/>
                    </a:lnTo>
                    <a:close/>
                    <a:moveTo>
                      <a:pt x="505" y="373"/>
                    </a:moveTo>
                    <a:lnTo>
                      <a:pt x="525" y="361"/>
                    </a:lnTo>
                    <a:lnTo>
                      <a:pt x="525" y="338"/>
                    </a:lnTo>
                    <a:lnTo>
                      <a:pt x="505" y="327"/>
                    </a:lnTo>
                    <a:lnTo>
                      <a:pt x="484" y="338"/>
                    </a:lnTo>
                    <a:lnTo>
                      <a:pt x="484" y="361"/>
                    </a:lnTo>
                    <a:lnTo>
                      <a:pt x="505" y="373"/>
                    </a:lnTo>
                    <a:close/>
                    <a:moveTo>
                      <a:pt x="48" y="421"/>
                    </a:moveTo>
                    <a:lnTo>
                      <a:pt x="68" y="409"/>
                    </a:lnTo>
                    <a:lnTo>
                      <a:pt x="68" y="384"/>
                    </a:lnTo>
                    <a:lnTo>
                      <a:pt x="48" y="373"/>
                    </a:lnTo>
                    <a:lnTo>
                      <a:pt x="27" y="384"/>
                    </a:lnTo>
                    <a:lnTo>
                      <a:pt x="27" y="409"/>
                    </a:lnTo>
                    <a:lnTo>
                      <a:pt x="48" y="421"/>
                    </a:lnTo>
                    <a:close/>
                    <a:moveTo>
                      <a:pt x="99" y="421"/>
                    </a:moveTo>
                    <a:lnTo>
                      <a:pt x="120" y="409"/>
                    </a:lnTo>
                    <a:lnTo>
                      <a:pt x="120" y="384"/>
                    </a:lnTo>
                    <a:lnTo>
                      <a:pt x="99" y="373"/>
                    </a:lnTo>
                    <a:lnTo>
                      <a:pt x="82" y="384"/>
                    </a:lnTo>
                    <a:lnTo>
                      <a:pt x="82" y="409"/>
                    </a:lnTo>
                    <a:lnTo>
                      <a:pt x="99" y="421"/>
                    </a:lnTo>
                    <a:close/>
                    <a:moveTo>
                      <a:pt x="155" y="421"/>
                    </a:moveTo>
                    <a:lnTo>
                      <a:pt x="175" y="409"/>
                    </a:lnTo>
                    <a:lnTo>
                      <a:pt x="175" y="384"/>
                    </a:lnTo>
                    <a:lnTo>
                      <a:pt x="155" y="373"/>
                    </a:lnTo>
                    <a:lnTo>
                      <a:pt x="133" y="384"/>
                    </a:lnTo>
                    <a:lnTo>
                      <a:pt x="133" y="409"/>
                    </a:lnTo>
                    <a:lnTo>
                      <a:pt x="155" y="421"/>
                    </a:lnTo>
                    <a:close/>
                    <a:moveTo>
                      <a:pt x="208" y="421"/>
                    </a:moveTo>
                    <a:lnTo>
                      <a:pt x="229" y="409"/>
                    </a:lnTo>
                    <a:lnTo>
                      <a:pt x="229" y="384"/>
                    </a:lnTo>
                    <a:lnTo>
                      <a:pt x="208" y="373"/>
                    </a:lnTo>
                    <a:lnTo>
                      <a:pt x="188" y="384"/>
                    </a:lnTo>
                    <a:lnTo>
                      <a:pt x="188" y="409"/>
                    </a:lnTo>
                    <a:lnTo>
                      <a:pt x="208" y="421"/>
                    </a:lnTo>
                    <a:close/>
                    <a:moveTo>
                      <a:pt x="262" y="421"/>
                    </a:moveTo>
                    <a:lnTo>
                      <a:pt x="282" y="409"/>
                    </a:lnTo>
                    <a:lnTo>
                      <a:pt x="282" y="384"/>
                    </a:lnTo>
                    <a:lnTo>
                      <a:pt x="262" y="373"/>
                    </a:lnTo>
                    <a:lnTo>
                      <a:pt x="242" y="384"/>
                    </a:lnTo>
                    <a:lnTo>
                      <a:pt x="242" y="409"/>
                    </a:lnTo>
                    <a:lnTo>
                      <a:pt x="262" y="421"/>
                    </a:lnTo>
                    <a:close/>
                    <a:moveTo>
                      <a:pt x="317" y="421"/>
                    </a:moveTo>
                    <a:lnTo>
                      <a:pt x="338" y="409"/>
                    </a:lnTo>
                    <a:lnTo>
                      <a:pt x="338" y="384"/>
                    </a:lnTo>
                    <a:lnTo>
                      <a:pt x="317" y="373"/>
                    </a:lnTo>
                    <a:lnTo>
                      <a:pt x="296" y="384"/>
                    </a:lnTo>
                    <a:lnTo>
                      <a:pt x="296" y="409"/>
                    </a:lnTo>
                    <a:lnTo>
                      <a:pt x="317" y="421"/>
                    </a:lnTo>
                    <a:close/>
                    <a:moveTo>
                      <a:pt x="371" y="421"/>
                    </a:moveTo>
                    <a:lnTo>
                      <a:pt x="391" y="409"/>
                    </a:lnTo>
                    <a:lnTo>
                      <a:pt x="391" y="384"/>
                    </a:lnTo>
                    <a:lnTo>
                      <a:pt x="371" y="373"/>
                    </a:lnTo>
                    <a:lnTo>
                      <a:pt x="351" y="384"/>
                    </a:lnTo>
                    <a:lnTo>
                      <a:pt x="351" y="409"/>
                    </a:lnTo>
                    <a:lnTo>
                      <a:pt x="371" y="421"/>
                    </a:lnTo>
                    <a:close/>
                    <a:moveTo>
                      <a:pt x="425" y="421"/>
                    </a:moveTo>
                    <a:lnTo>
                      <a:pt x="447" y="409"/>
                    </a:lnTo>
                    <a:lnTo>
                      <a:pt x="447" y="384"/>
                    </a:lnTo>
                    <a:lnTo>
                      <a:pt x="425" y="373"/>
                    </a:lnTo>
                    <a:lnTo>
                      <a:pt x="405" y="384"/>
                    </a:lnTo>
                    <a:lnTo>
                      <a:pt x="405" y="409"/>
                    </a:lnTo>
                    <a:lnTo>
                      <a:pt x="425" y="421"/>
                    </a:lnTo>
                    <a:close/>
                    <a:moveTo>
                      <a:pt x="371" y="327"/>
                    </a:moveTo>
                    <a:lnTo>
                      <a:pt x="391" y="316"/>
                    </a:lnTo>
                    <a:lnTo>
                      <a:pt x="391" y="292"/>
                    </a:lnTo>
                    <a:lnTo>
                      <a:pt x="371" y="280"/>
                    </a:lnTo>
                    <a:lnTo>
                      <a:pt x="351" y="292"/>
                    </a:lnTo>
                    <a:lnTo>
                      <a:pt x="351" y="316"/>
                    </a:lnTo>
                    <a:lnTo>
                      <a:pt x="371" y="327"/>
                    </a:lnTo>
                    <a:close/>
                    <a:moveTo>
                      <a:pt x="425" y="327"/>
                    </a:moveTo>
                    <a:lnTo>
                      <a:pt x="447" y="316"/>
                    </a:lnTo>
                    <a:lnTo>
                      <a:pt x="447" y="292"/>
                    </a:lnTo>
                    <a:lnTo>
                      <a:pt x="425" y="280"/>
                    </a:lnTo>
                    <a:lnTo>
                      <a:pt x="405" y="292"/>
                    </a:lnTo>
                    <a:lnTo>
                      <a:pt x="405" y="316"/>
                    </a:lnTo>
                    <a:lnTo>
                      <a:pt x="425" y="327"/>
                    </a:lnTo>
                    <a:close/>
                    <a:moveTo>
                      <a:pt x="21" y="373"/>
                    </a:moveTo>
                    <a:lnTo>
                      <a:pt x="41" y="361"/>
                    </a:lnTo>
                    <a:lnTo>
                      <a:pt x="41" y="338"/>
                    </a:lnTo>
                    <a:lnTo>
                      <a:pt x="21" y="327"/>
                    </a:lnTo>
                    <a:lnTo>
                      <a:pt x="0" y="338"/>
                    </a:lnTo>
                    <a:lnTo>
                      <a:pt x="0" y="361"/>
                    </a:lnTo>
                    <a:lnTo>
                      <a:pt x="21" y="373"/>
                    </a:lnTo>
                    <a:close/>
                    <a:moveTo>
                      <a:pt x="74" y="373"/>
                    </a:moveTo>
                    <a:lnTo>
                      <a:pt x="93" y="361"/>
                    </a:lnTo>
                    <a:lnTo>
                      <a:pt x="93" y="338"/>
                    </a:lnTo>
                    <a:lnTo>
                      <a:pt x="74" y="327"/>
                    </a:lnTo>
                    <a:lnTo>
                      <a:pt x="54" y="338"/>
                    </a:lnTo>
                    <a:lnTo>
                      <a:pt x="54" y="361"/>
                    </a:lnTo>
                    <a:lnTo>
                      <a:pt x="74" y="373"/>
                    </a:lnTo>
                    <a:close/>
                    <a:moveTo>
                      <a:pt x="127" y="373"/>
                    </a:moveTo>
                    <a:lnTo>
                      <a:pt x="147" y="361"/>
                    </a:lnTo>
                    <a:lnTo>
                      <a:pt x="147" y="338"/>
                    </a:lnTo>
                    <a:lnTo>
                      <a:pt x="127" y="327"/>
                    </a:lnTo>
                    <a:lnTo>
                      <a:pt x="107" y="338"/>
                    </a:lnTo>
                    <a:lnTo>
                      <a:pt x="107" y="361"/>
                    </a:lnTo>
                    <a:lnTo>
                      <a:pt x="127" y="373"/>
                    </a:lnTo>
                    <a:close/>
                    <a:moveTo>
                      <a:pt x="181" y="373"/>
                    </a:moveTo>
                    <a:lnTo>
                      <a:pt x="201" y="361"/>
                    </a:lnTo>
                    <a:lnTo>
                      <a:pt x="201" y="338"/>
                    </a:lnTo>
                    <a:lnTo>
                      <a:pt x="181" y="327"/>
                    </a:lnTo>
                    <a:lnTo>
                      <a:pt x="161" y="338"/>
                    </a:lnTo>
                    <a:lnTo>
                      <a:pt x="161" y="361"/>
                    </a:lnTo>
                    <a:lnTo>
                      <a:pt x="181" y="373"/>
                    </a:lnTo>
                    <a:close/>
                    <a:moveTo>
                      <a:pt x="236" y="373"/>
                    </a:moveTo>
                    <a:lnTo>
                      <a:pt x="256" y="361"/>
                    </a:lnTo>
                    <a:lnTo>
                      <a:pt x="256" y="338"/>
                    </a:lnTo>
                    <a:lnTo>
                      <a:pt x="236" y="327"/>
                    </a:lnTo>
                    <a:lnTo>
                      <a:pt x="215" y="338"/>
                    </a:lnTo>
                    <a:lnTo>
                      <a:pt x="215" y="361"/>
                    </a:lnTo>
                    <a:lnTo>
                      <a:pt x="236" y="373"/>
                    </a:lnTo>
                    <a:close/>
                    <a:moveTo>
                      <a:pt x="290" y="373"/>
                    </a:moveTo>
                    <a:lnTo>
                      <a:pt x="310" y="361"/>
                    </a:lnTo>
                    <a:lnTo>
                      <a:pt x="310" y="338"/>
                    </a:lnTo>
                    <a:lnTo>
                      <a:pt x="290" y="327"/>
                    </a:lnTo>
                    <a:lnTo>
                      <a:pt x="270" y="338"/>
                    </a:lnTo>
                    <a:lnTo>
                      <a:pt x="270" y="361"/>
                    </a:lnTo>
                    <a:lnTo>
                      <a:pt x="290" y="373"/>
                    </a:lnTo>
                    <a:close/>
                    <a:moveTo>
                      <a:pt x="48" y="327"/>
                    </a:moveTo>
                    <a:lnTo>
                      <a:pt x="68" y="316"/>
                    </a:lnTo>
                    <a:lnTo>
                      <a:pt x="68" y="292"/>
                    </a:lnTo>
                    <a:lnTo>
                      <a:pt x="48" y="280"/>
                    </a:lnTo>
                    <a:lnTo>
                      <a:pt x="27" y="292"/>
                    </a:lnTo>
                    <a:lnTo>
                      <a:pt x="27" y="316"/>
                    </a:lnTo>
                    <a:lnTo>
                      <a:pt x="48" y="327"/>
                    </a:lnTo>
                    <a:close/>
                    <a:moveTo>
                      <a:pt x="99" y="327"/>
                    </a:moveTo>
                    <a:lnTo>
                      <a:pt x="120" y="316"/>
                    </a:lnTo>
                    <a:lnTo>
                      <a:pt x="120" y="292"/>
                    </a:lnTo>
                    <a:lnTo>
                      <a:pt x="99" y="280"/>
                    </a:lnTo>
                    <a:lnTo>
                      <a:pt x="82" y="292"/>
                    </a:lnTo>
                    <a:lnTo>
                      <a:pt x="82" y="316"/>
                    </a:lnTo>
                    <a:lnTo>
                      <a:pt x="99" y="327"/>
                    </a:lnTo>
                    <a:close/>
                    <a:moveTo>
                      <a:pt x="155" y="327"/>
                    </a:moveTo>
                    <a:lnTo>
                      <a:pt x="175" y="316"/>
                    </a:lnTo>
                    <a:lnTo>
                      <a:pt x="175" y="292"/>
                    </a:lnTo>
                    <a:lnTo>
                      <a:pt x="155" y="280"/>
                    </a:lnTo>
                    <a:lnTo>
                      <a:pt x="133" y="292"/>
                    </a:lnTo>
                    <a:lnTo>
                      <a:pt x="133" y="316"/>
                    </a:lnTo>
                    <a:lnTo>
                      <a:pt x="155" y="327"/>
                    </a:lnTo>
                    <a:close/>
                    <a:moveTo>
                      <a:pt x="208" y="327"/>
                    </a:moveTo>
                    <a:lnTo>
                      <a:pt x="229" y="316"/>
                    </a:lnTo>
                    <a:lnTo>
                      <a:pt x="229" y="292"/>
                    </a:lnTo>
                    <a:lnTo>
                      <a:pt x="208" y="280"/>
                    </a:lnTo>
                    <a:lnTo>
                      <a:pt x="188" y="292"/>
                    </a:lnTo>
                    <a:lnTo>
                      <a:pt x="188" y="316"/>
                    </a:lnTo>
                    <a:lnTo>
                      <a:pt x="208" y="327"/>
                    </a:lnTo>
                    <a:close/>
                    <a:moveTo>
                      <a:pt x="262" y="327"/>
                    </a:moveTo>
                    <a:lnTo>
                      <a:pt x="282" y="316"/>
                    </a:lnTo>
                    <a:lnTo>
                      <a:pt x="282" y="292"/>
                    </a:lnTo>
                    <a:lnTo>
                      <a:pt x="262" y="280"/>
                    </a:lnTo>
                    <a:lnTo>
                      <a:pt x="242" y="292"/>
                    </a:lnTo>
                    <a:lnTo>
                      <a:pt x="242" y="316"/>
                    </a:lnTo>
                    <a:lnTo>
                      <a:pt x="262" y="327"/>
                    </a:lnTo>
                    <a:close/>
                    <a:moveTo>
                      <a:pt x="317" y="327"/>
                    </a:moveTo>
                    <a:lnTo>
                      <a:pt x="338" y="316"/>
                    </a:lnTo>
                    <a:lnTo>
                      <a:pt x="338" y="292"/>
                    </a:lnTo>
                    <a:lnTo>
                      <a:pt x="317" y="280"/>
                    </a:lnTo>
                    <a:lnTo>
                      <a:pt x="296" y="292"/>
                    </a:lnTo>
                    <a:lnTo>
                      <a:pt x="296" y="316"/>
                    </a:lnTo>
                    <a:lnTo>
                      <a:pt x="317" y="327"/>
                    </a:lnTo>
                    <a:close/>
                    <a:moveTo>
                      <a:pt x="344" y="373"/>
                    </a:moveTo>
                    <a:lnTo>
                      <a:pt x="365" y="361"/>
                    </a:lnTo>
                    <a:lnTo>
                      <a:pt x="365" y="338"/>
                    </a:lnTo>
                    <a:lnTo>
                      <a:pt x="344" y="327"/>
                    </a:lnTo>
                    <a:lnTo>
                      <a:pt x="324" y="338"/>
                    </a:lnTo>
                    <a:lnTo>
                      <a:pt x="324" y="361"/>
                    </a:lnTo>
                    <a:lnTo>
                      <a:pt x="344" y="373"/>
                    </a:lnTo>
                    <a:close/>
                    <a:moveTo>
                      <a:pt x="399" y="373"/>
                    </a:moveTo>
                    <a:lnTo>
                      <a:pt x="419" y="361"/>
                    </a:lnTo>
                    <a:lnTo>
                      <a:pt x="419" y="338"/>
                    </a:lnTo>
                    <a:lnTo>
                      <a:pt x="399" y="327"/>
                    </a:lnTo>
                    <a:lnTo>
                      <a:pt x="378" y="338"/>
                    </a:lnTo>
                    <a:lnTo>
                      <a:pt x="378" y="361"/>
                    </a:lnTo>
                    <a:lnTo>
                      <a:pt x="399" y="373"/>
                    </a:lnTo>
                    <a:close/>
                    <a:moveTo>
                      <a:pt x="480" y="421"/>
                    </a:moveTo>
                    <a:lnTo>
                      <a:pt x="498" y="409"/>
                    </a:lnTo>
                    <a:lnTo>
                      <a:pt x="498" y="384"/>
                    </a:lnTo>
                    <a:lnTo>
                      <a:pt x="480" y="373"/>
                    </a:lnTo>
                    <a:lnTo>
                      <a:pt x="459" y="384"/>
                    </a:lnTo>
                    <a:lnTo>
                      <a:pt x="459" y="409"/>
                    </a:lnTo>
                    <a:lnTo>
                      <a:pt x="480" y="421"/>
                    </a:lnTo>
                    <a:close/>
                    <a:moveTo>
                      <a:pt x="480" y="140"/>
                    </a:moveTo>
                    <a:lnTo>
                      <a:pt x="498" y="128"/>
                    </a:lnTo>
                    <a:lnTo>
                      <a:pt x="498" y="105"/>
                    </a:lnTo>
                    <a:lnTo>
                      <a:pt x="480" y="94"/>
                    </a:lnTo>
                    <a:lnTo>
                      <a:pt x="459" y="105"/>
                    </a:lnTo>
                    <a:lnTo>
                      <a:pt x="459" y="128"/>
                    </a:lnTo>
                    <a:lnTo>
                      <a:pt x="480" y="140"/>
                    </a:lnTo>
                    <a:close/>
                    <a:moveTo>
                      <a:pt x="505" y="94"/>
                    </a:moveTo>
                    <a:lnTo>
                      <a:pt x="525" y="82"/>
                    </a:lnTo>
                    <a:lnTo>
                      <a:pt x="525" y="58"/>
                    </a:lnTo>
                    <a:lnTo>
                      <a:pt x="505" y="47"/>
                    </a:lnTo>
                    <a:lnTo>
                      <a:pt x="484" y="58"/>
                    </a:lnTo>
                    <a:lnTo>
                      <a:pt x="484" y="82"/>
                    </a:lnTo>
                    <a:lnTo>
                      <a:pt x="505" y="94"/>
                    </a:lnTo>
                    <a:close/>
                    <a:moveTo>
                      <a:pt x="505" y="187"/>
                    </a:moveTo>
                    <a:lnTo>
                      <a:pt x="525" y="174"/>
                    </a:lnTo>
                    <a:lnTo>
                      <a:pt x="525" y="152"/>
                    </a:lnTo>
                    <a:lnTo>
                      <a:pt x="505" y="140"/>
                    </a:lnTo>
                    <a:lnTo>
                      <a:pt x="484" y="152"/>
                    </a:lnTo>
                    <a:lnTo>
                      <a:pt x="484" y="174"/>
                    </a:lnTo>
                    <a:lnTo>
                      <a:pt x="505" y="187"/>
                    </a:lnTo>
                    <a:close/>
                    <a:moveTo>
                      <a:pt x="371" y="234"/>
                    </a:moveTo>
                    <a:lnTo>
                      <a:pt x="391" y="222"/>
                    </a:lnTo>
                    <a:lnTo>
                      <a:pt x="391" y="198"/>
                    </a:lnTo>
                    <a:lnTo>
                      <a:pt x="371" y="187"/>
                    </a:lnTo>
                    <a:lnTo>
                      <a:pt x="351" y="198"/>
                    </a:lnTo>
                    <a:lnTo>
                      <a:pt x="351" y="222"/>
                    </a:lnTo>
                    <a:lnTo>
                      <a:pt x="371" y="234"/>
                    </a:lnTo>
                    <a:close/>
                    <a:moveTo>
                      <a:pt x="425" y="234"/>
                    </a:moveTo>
                    <a:lnTo>
                      <a:pt x="447" y="222"/>
                    </a:lnTo>
                    <a:lnTo>
                      <a:pt x="447" y="198"/>
                    </a:lnTo>
                    <a:lnTo>
                      <a:pt x="425" y="187"/>
                    </a:lnTo>
                    <a:lnTo>
                      <a:pt x="405" y="198"/>
                    </a:lnTo>
                    <a:lnTo>
                      <a:pt x="405" y="222"/>
                    </a:lnTo>
                    <a:lnTo>
                      <a:pt x="425" y="234"/>
                    </a:lnTo>
                    <a:close/>
                    <a:moveTo>
                      <a:pt x="21" y="279"/>
                    </a:moveTo>
                    <a:lnTo>
                      <a:pt x="41" y="268"/>
                    </a:lnTo>
                    <a:lnTo>
                      <a:pt x="41" y="245"/>
                    </a:lnTo>
                    <a:lnTo>
                      <a:pt x="21" y="234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21" y="279"/>
                    </a:lnTo>
                    <a:close/>
                    <a:moveTo>
                      <a:pt x="74" y="279"/>
                    </a:moveTo>
                    <a:lnTo>
                      <a:pt x="93" y="268"/>
                    </a:lnTo>
                    <a:lnTo>
                      <a:pt x="93" y="245"/>
                    </a:lnTo>
                    <a:lnTo>
                      <a:pt x="74" y="234"/>
                    </a:lnTo>
                    <a:lnTo>
                      <a:pt x="54" y="245"/>
                    </a:lnTo>
                    <a:lnTo>
                      <a:pt x="54" y="268"/>
                    </a:lnTo>
                    <a:lnTo>
                      <a:pt x="74" y="279"/>
                    </a:lnTo>
                    <a:close/>
                    <a:moveTo>
                      <a:pt x="127" y="279"/>
                    </a:moveTo>
                    <a:lnTo>
                      <a:pt x="147" y="268"/>
                    </a:lnTo>
                    <a:lnTo>
                      <a:pt x="147" y="245"/>
                    </a:lnTo>
                    <a:lnTo>
                      <a:pt x="127" y="234"/>
                    </a:lnTo>
                    <a:lnTo>
                      <a:pt x="107" y="245"/>
                    </a:lnTo>
                    <a:lnTo>
                      <a:pt x="107" y="268"/>
                    </a:lnTo>
                    <a:lnTo>
                      <a:pt x="127" y="279"/>
                    </a:lnTo>
                    <a:close/>
                    <a:moveTo>
                      <a:pt x="181" y="279"/>
                    </a:moveTo>
                    <a:lnTo>
                      <a:pt x="201" y="268"/>
                    </a:lnTo>
                    <a:lnTo>
                      <a:pt x="201" y="245"/>
                    </a:lnTo>
                    <a:lnTo>
                      <a:pt x="181" y="234"/>
                    </a:lnTo>
                    <a:lnTo>
                      <a:pt x="161" y="245"/>
                    </a:lnTo>
                    <a:lnTo>
                      <a:pt x="161" y="268"/>
                    </a:lnTo>
                    <a:lnTo>
                      <a:pt x="181" y="279"/>
                    </a:lnTo>
                    <a:close/>
                    <a:moveTo>
                      <a:pt x="236" y="279"/>
                    </a:moveTo>
                    <a:lnTo>
                      <a:pt x="256" y="268"/>
                    </a:lnTo>
                    <a:lnTo>
                      <a:pt x="256" y="245"/>
                    </a:lnTo>
                    <a:lnTo>
                      <a:pt x="236" y="234"/>
                    </a:lnTo>
                    <a:lnTo>
                      <a:pt x="215" y="245"/>
                    </a:lnTo>
                    <a:lnTo>
                      <a:pt x="215" y="268"/>
                    </a:lnTo>
                    <a:lnTo>
                      <a:pt x="236" y="279"/>
                    </a:lnTo>
                    <a:close/>
                    <a:moveTo>
                      <a:pt x="290" y="279"/>
                    </a:moveTo>
                    <a:lnTo>
                      <a:pt x="310" y="268"/>
                    </a:lnTo>
                    <a:lnTo>
                      <a:pt x="310" y="245"/>
                    </a:lnTo>
                    <a:lnTo>
                      <a:pt x="290" y="234"/>
                    </a:lnTo>
                    <a:lnTo>
                      <a:pt x="270" y="245"/>
                    </a:lnTo>
                    <a:lnTo>
                      <a:pt x="270" y="268"/>
                    </a:lnTo>
                    <a:lnTo>
                      <a:pt x="290" y="279"/>
                    </a:lnTo>
                    <a:close/>
                    <a:moveTo>
                      <a:pt x="344" y="279"/>
                    </a:moveTo>
                    <a:lnTo>
                      <a:pt x="365" y="268"/>
                    </a:lnTo>
                    <a:lnTo>
                      <a:pt x="365" y="245"/>
                    </a:lnTo>
                    <a:lnTo>
                      <a:pt x="344" y="234"/>
                    </a:lnTo>
                    <a:lnTo>
                      <a:pt x="324" y="245"/>
                    </a:lnTo>
                    <a:lnTo>
                      <a:pt x="324" y="268"/>
                    </a:lnTo>
                    <a:lnTo>
                      <a:pt x="344" y="279"/>
                    </a:lnTo>
                    <a:close/>
                    <a:moveTo>
                      <a:pt x="48" y="234"/>
                    </a:moveTo>
                    <a:lnTo>
                      <a:pt x="68" y="222"/>
                    </a:lnTo>
                    <a:lnTo>
                      <a:pt x="68" y="198"/>
                    </a:lnTo>
                    <a:lnTo>
                      <a:pt x="48" y="187"/>
                    </a:lnTo>
                    <a:lnTo>
                      <a:pt x="27" y="198"/>
                    </a:lnTo>
                    <a:lnTo>
                      <a:pt x="27" y="222"/>
                    </a:lnTo>
                    <a:lnTo>
                      <a:pt x="48" y="234"/>
                    </a:lnTo>
                    <a:close/>
                    <a:moveTo>
                      <a:pt x="99" y="234"/>
                    </a:moveTo>
                    <a:lnTo>
                      <a:pt x="120" y="222"/>
                    </a:lnTo>
                    <a:lnTo>
                      <a:pt x="120" y="198"/>
                    </a:lnTo>
                    <a:lnTo>
                      <a:pt x="99" y="187"/>
                    </a:lnTo>
                    <a:lnTo>
                      <a:pt x="82" y="198"/>
                    </a:lnTo>
                    <a:lnTo>
                      <a:pt x="82" y="222"/>
                    </a:lnTo>
                    <a:lnTo>
                      <a:pt x="99" y="234"/>
                    </a:lnTo>
                    <a:close/>
                    <a:moveTo>
                      <a:pt x="155" y="234"/>
                    </a:moveTo>
                    <a:lnTo>
                      <a:pt x="175" y="222"/>
                    </a:lnTo>
                    <a:lnTo>
                      <a:pt x="175" y="198"/>
                    </a:lnTo>
                    <a:lnTo>
                      <a:pt x="155" y="187"/>
                    </a:lnTo>
                    <a:lnTo>
                      <a:pt x="133" y="198"/>
                    </a:lnTo>
                    <a:lnTo>
                      <a:pt x="133" y="222"/>
                    </a:lnTo>
                    <a:lnTo>
                      <a:pt x="155" y="234"/>
                    </a:lnTo>
                    <a:close/>
                    <a:moveTo>
                      <a:pt x="208" y="234"/>
                    </a:moveTo>
                    <a:lnTo>
                      <a:pt x="229" y="222"/>
                    </a:lnTo>
                    <a:lnTo>
                      <a:pt x="229" y="198"/>
                    </a:lnTo>
                    <a:lnTo>
                      <a:pt x="208" y="187"/>
                    </a:lnTo>
                    <a:lnTo>
                      <a:pt x="188" y="198"/>
                    </a:lnTo>
                    <a:lnTo>
                      <a:pt x="188" y="222"/>
                    </a:lnTo>
                    <a:lnTo>
                      <a:pt x="208" y="234"/>
                    </a:lnTo>
                    <a:close/>
                    <a:moveTo>
                      <a:pt x="262" y="234"/>
                    </a:moveTo>
                    <a:lnTo>
                      <a:pt x="282" y="222"/>
                    </a:lnTo>
                    <a:lnTo>
                      <a:pt x="282" y="198"/>
                    </a:lnTo>
                    <a:lnTo>
                      <a:pt x="262" y="187"/>
                    </a:lnTo>
                    <a:lnTo>
                      <a:pt x="242" y="198"/>
                    </a:lnTo>
                    <a:lnTo>
                      <a:pt x="242" y="222"/>
                    </a:lnTo>
                    <a:lnTo>
                      <a:pt x="262" y="234"/>
                    </a:lnTo>
                    <a:close/>
                    <a:moveTo>
                      <a:pt x="317" y="234"/>
                    </a:moveTo>
                    <a:lnTo>
                      <a:pt x="338" y="222"/>
                    </a:lnTo>
                    <a:lnTo>
                      <a:pt x="338" y="198"/>
                    </a:lnTo>
                    <a:lnTo>
                      <a:pt x="317" y="187"/>
                    </a:lnTo>
                    <a:lnTo>
                      <a:pt x="296" y="198"/>
                    </a:lnTo>
                    <a:lnTo>
                      <a:pt x="296" y="222"/>
                    </a:lnTo>
                    <a:lnTo>
                      <a:pt x="317" y="234"/>
                    </a:lnTo>
                    <a:close/>
                    <a:moveTo>
                      <a:pt x="399" y="279"/>
                    </a:moveTo>
                    <a:lnTo>
                      <a:pt x="419" y="268"/>
                    </a:lnTo>
                    <a:lnTo>
                      <a:pt x="419" y="245"/>
                    </a:lnTo>
                    <a:lnTo>
                      <a:pt x="399" y="234"/>
                    </a:lnTo>
                    <a:lnTo>
                      <a:pt x="378" y="245"/>
                    </a:lnTo>
                    <a:lnTo>
                      <a:pt x="378" y="268"/>
                    </a:lnTo>
                    <a:lnTo>
                      <a:pt x="399" y="279"/>
                    </a:lnTo>
                    <a:close/>
                    <a:moveTo>
                      <a:pt x="371" y="140"/>
                    </a:moveTo>
                    <a:lnTo>
                      <a:pt x="391" y="128"/>
                    </a:lnTo>
                    <a:lnTo>
                      <a:pt x="391" y="105"/>
                    </a:lnTo>
                    <a:lnTo>
                      <a:pt x="371" y="94"/>
                    </a:lnTo>
                    <a:lnTo>
                      <a:pt x="351" y="105"/>
                    </a:lnTo>
                    <a:lnTo>
                      <a:pt x="351" y="128"/>
                    </a:lnTo>
                    <a:lnTo>
                      <a:pt x="371" y="140"/>
                    </a:lnTo>
                    <a:close/>
                    <a:moveTo>
                      <a:pt x="425" y="140"/>
                    </a:moveTo>
                    <a:lnTo>
                      <a:pt x="447" y="128"/>
                    </a:lnTo>
                    <a:lnTo>
                      <a:pt x="447" y="105"/>
                    </a:lnTo>
                    <a:lnTo>
                      <a:pt x="425" y="94"/>
                    </a:lnTo>
                    <a:lnTo>
                      <a:pt x="405" y="105"/>
                    </a:lnTo>
                    <a:lnTo>
                      <a:pt x="405" y="128"/>
                    </a:lnTo>
                    <a:lnTo>
                      <a:pt x="425" y="140"/>
                    </a:lnTo>
                    <a:close/>
                    <a:moveTo>
                      <a:pt x="21" y="187"/>
                    </a:moveTo>
                    <a:lnTo>
                      <a:pt x="41" y="174"/>
                    </a:lnTo>
                    <a:lnTo>
                      <a:pt x="41" y="152"/>
                    </a:lnTo>
                    <a:lnTo>
                      <a:pt x="21" y="14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21" y="187"/>
                    </a:lnTo>
                    <a:close/>
                    <a:moveTo>
                      <a:pt x="74" y="187"/>
                    </a:moveTo>
                    <a:lnTo>
                      <a:pt x="93" y="174"/>
                    </a:lnTo>
                    <a:lnTo>
                      <a:pt x="93" y="152"/>
                    </a:lnTo>
                    <a:lnTo>
                      <a:pt x="74" y="140"/>
                    </a:lnTo>
                    <a:lnTo>
                      <a:pt x="54" y="152"/>
                    </a:lnTo>
                    <a:lnTo>
                      <a:pt x="54" y="174"/>
                    </a:lnTo>
                    <a:lnTo>
                      <a:pt x="74" y="187"/>
                    </a:lnTo>
                    <a:close/>
                    <a:moveTo>
                      <a:pt x="127" y="187"/>
                    </a:moveTo>
                    <a:lnTo>
                      <a:pt x="147" y="174"/>
                    </a:lnTo>
                    <a:lnTo>
                      <a:pt x="147" y="152"/>
                    </a:lnTo>
                    <a:lnTo>
                      <a:pt x="127" y="140"/>
                    </a:lnTo>
                    <a:lnTo>
                      <a:pt x="107" y="152"/>
                    </a:lnTo>
                    <a:lnTo>
                      <a:pt x="107" y="174"/>
                    </a:lnTo>
                    <a:lnTo>
                      <a:pt x="127" y="187"/>
                    </a:lnTo>
                    <a:close/>
                    <a:moveTo>
                      <a:pt x="181" y="187"/>
                    </a:moveTo>
                    <a:lnTo>
                      <a:pt x="201" y="174"/>
                    </a:lnTo>
                    <a:lnTo>
                      <a:pt x="201" y="152"/>
                    </a:lnTo>
                    <a:lnTo>
                      <a:pt x="181" y="140"/>
                    </a:lnTo>
                    <a:lnTo>
                      <a:pt x="161" y="152"/>
                    </a:lnTo>
                    <a:lnTo>
                      <a:pt x="161" y="174"/>
                    </a:lnTo>
                    <a:lnTo>
                      <a:pt x="181" y="187"/>
                    </a:lnTo>
                    <a:close/>
                    <a:moveTo>
                      <a:pt x="236" y="187"/>
                    </a:moveTo>
                    <a:lnTo>
                      <a:pt x="256" y="174"/>
                    </a:lnTo>
                    <a:lnTo>
                      <a:pt x="256" y="152"/>
                    </a:lnTo>
                    <a:lnTo>
                      <a:pt x="236" y="140"/>
                    </a:lnTo>
                    <a:lnTo>
                      <a:pt x="215" y="152"/>
                    </a:lnTo>
                    <a:lnTo>
                      <a:pt x="215" y="174"/>
                    </a:lnTo>
                    <a:lnTo>
                      <a:pt x="236" y="187"/>
                    </a:lnTo>
                    <a:close/>
                    <a:moveTo>
                      <a:pt x="290" y="187"/>
                    </a:moveTo>
                    <a:lnTo>
                      <a:pt x="310" y="174"/>
                    </a:lnTo>
                    <a:lnTo>
                      <a:pt x="310" y="152"/>
                    </a:lnTo>
                    <a:lnTo>
                      <a:pt x="290" y="140"/>
                    </a:lnTo>
                    <a:lnTo>
                      <a:pt x="270" y="152"/>
                    </a:lnTo>
                    <a:lnTo>
                      <a:pt x="270" y="174"/>
                    </a:lnTo>
                    <a:lnTo>
                      <a:pt x="290" y="187"/>
                    </a:lnTo>
                    <a:close/>
                    <a:moveTo>
                      <a:pt x="344" y="187"/>
                    </a:moveTo>
                    <a:lnTo>
                      <a:pt x="365" y="174"/>
                    </a:lnTo>
                    <a:lnTo>
                      <a:pt x="365" y="152"/>
                    </a:lnTo>
                    <a:lnTo>
                      <a:pt x="344" y="140"/>
                    </a:lnTo>
                    <a:lnTo>
                      <a:pt x="324" y="152"/>
                    </a:lnTo>
                    <a:lnTo>
                      <a:pt x="324" y="174"/>
                    </a:lnTo>
                    <a:lnTo>
                      <a:pt x="344" y="187"/>
                    </a:lnTo>
                    <a:close/>
                    <a:moveTo>
                      <a:pt x="262" y="47"/>
                    </a:moveTo>
                    <a:lnTo>
                      <a:pt x="282" y="34"/>
                    </a:lnTo>
                    <a:lnTo>
                      <a:pt x="282" y="11"/>
                    </a:lnTo>
                    <a:lnTo>
                      <a:pt x="262" y="0"/>
                    </a:lnTo>
                    <a:lnTo>
                      <a:pt x="242" y="11"/>
                    </a:lnTo>
                    <a:lnTo>
                      <a:pt x="242" y="34"/>
                    </a:lnTo>
                    <a:lnTo>
                      <a:pt x="262" y="47"/>
                    </a:lnTo>
                    <a:close/>
                    <a:moveTo>
                      <a:pt x="290" y="94"/>
                    </a:moveTo>
                    <a:lnTo>
                      <a:pt x="310" y="82"/>
                    </a:lnTo>
                    <a:lnTo>
                      <a:pt x="310" y="58"/>
                    </a:lnTo>
                    <a:lnTo>
                      <a:pt x="290" y="47"/>
                    </a:lnTo>
                    <a:lnTo>
                      <a:pt x="270" y="58"/>
                    </a:lnTo>
                    <a:lnTo>
                      <a:pt x="270" y="82"/>
                    </a:lnTo>
                    <a:lnTo>
                      <a:pt x="290" y="94"/>
                    </a:lnTo>
                    <a:close/>
                    <a:moveTo>
                      <a:pt x="48" y="140"/>
                    </a:moveTo>
                    <a:lnTo>
                      <a:pt x="68" y="128"/>
                    </a:lnTo>
                    <a:lnTo>
                      <a:pt x="68" y="105"/>
                    </a:lnTo>
                    <a:lnTo>
                      <a:pt x="48" y="94"/>
                    </a:lnTo>
                    <a:lnTo>
                      <a:pt x="27" y="105"/>
                    </a:lnTo>
                    <a:lnTo>
                      <a:pt x="27" y="128"/>
                    </a:lnTo>
                    <a:lnTo>
                      <a:pt x="48" y="140"/>
                    </a:lnTo>
                    <a:close/>
                    <a:moveTo>
                      <a:pt x="99" y="140"/>
                    </a:moveTo>
                    <a:lnTo>
                      <a:pt x="120" y="128"/>
                    </a:lnTo>
                    <a:lnTo>
                      <a:pt x="120" y="105"/>
                    </a:lnTo>
                    <a:lnTo>
                      <a:pt x="99" y="94"/>
                    </a:lnTo>
                    <a:lnTo>
                      <a:pt x="82" y="105"/>
                    </a:lnTo>
                    <a:lnTo>
                      <a:pt x="82" y="128"/>
                    </a:lnTo>
                    <a:lnTo>
                      <a:pt x="99" y="140"/>
                    </a:lnTo>
                    <a:close/>
                    <a:moveTo>
                      <a:pt x="155" y="140"/>
                    </a:moveTo>
                    <a:lnTo>
                      <a:pt x="175" y="128"/>
                    </a:lnTo>
                    <a:lnTo>
                      <a:pt x="175" y="105"/>
                    </a:lnTo>
                    <a:lnTo>
                      <a:pt x="155" y="94"/>
                    </a:lnTo>
                    <a:lnTo>
                      <a:pt x="133" y="105"/>
                    </a:lnTo>
                    <a:lnTo>
                      <a:pt x="133" y="128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29" y="128"/>
                    </a:lnTo>
                    <a:lnTo>
                      <a:pt x="229" y="105"/>
                    </a:lnTo>
                    <a:lnTo>
                      <a:pt x="208" y="94"/>
                    </a:lnTo>
                    <a:lnTo>
                      <a:pt x="188" y="105"/>
                    </a:lnTo>
                    <a:lnTo>
                      <a:pt x="188" y="128"/>
                    </a:lnTo>
                    <a:lnTo>
                      <a:pt x="208" y="140"/>
                    </a:lnTo>
                    <a:close/>
                    <a:moveTo>
                      <a:pt x="155" y="47"/>
                    </a:moveTo>
                    <a:lnTo>
                      <a:pt x="175" y="34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3" y="11"/>
                    </a:lnTo>
                    <a:lnTo>
                      <a:pt x="133" y="34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29" y="34"/>
                    </a:lnTo>
                    <a:lnTo>
                      <a:pt x="229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4"/>
                    </a:lnTo>
                    <a:lnTo>
                      <a:pt x="208" y="47"/>
                    </a:lnTo>
                    <a:close/>
                    <a:moveTo>
                      <a:pt x="21" y="94"/>
                    </a:moveTo>
                    <a:lnTo>
                      <a:pt x="41" y="82"/>
                    </a:lnTo>
                    <a:lnTo>
                      <a:pt x="41" y="58"/>
                    </a:lnTo>
                    <a:lnTo>
                      <a:pt x="21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1" y="94"/>
                    </a:lnTo>
                    <a:close/>
                    <a:moveTo>
                      <a:pt x="74" y="94"/>
                    </a:moveTo>
                    <a:lnTo>
                      <a:pt x="93" y="82"/>
                    </a:lnTo>
                    <a:lnTo>
                      <a:pt x="93" y="58"/>
                    </a:lnTo>
                    <a:lnTo>
                      <a:pt x="74" y="47"/>
                    </a:lnTo>
                    <a:lnTo>
                      <a:pt x="54" y="58"/>
                    </a:lnTo>
                    <a:lnTo>
                      <a:pt x="54" y="82"/>
                    </a:lnTo>
                    <a:lnTo>
                      <a:pt x="74" y="94"/>
                    </a:lnTo>
                    <a:close/>
                    <a:moveTo>
                      <a:pt x="127" y="94"/>
                    </a:moveTo>
                    <a:lnTo>
                      <a:pt x="147" y="82"/>
                    </a:lnTo>
                    <a:lnTo>
                      <a:pt x="147" y="58"/>
                    </a:lnTo>
                    <a:lnTo>
                      <a:pt x="127" y="47"/>
                    </a:lnTo>
                    <a:lnTo>
                      <a:pt x="107" y="58"/>
                    </a:lnTo>
                    <a:lnTo>
                      <a:pt x="107" y="82"/>
                    </a:lnTo>
                    <a:lnTo>
                      <a:pt x="127" y="94"/>
                    </a:lnTo>
                    <a:close/>
                    <a:moveTo>
                      <a:pt x="48" y="47"/>
                    </a:moveTo>
                    <a:lnTo>
                      <a:pt x="68" y="34"/>
                    </a:lnTo>
                    <a:lnTo>
                      <a:pt x="68" y="11"/>
                    </a:lnTo>
                    <a:lnTo>
                      <a:pt x="48" y="0"/>
                    </a:lnTo>
                    <a:lnTo>
                      <a:pt x="27" y="11"/>
                    </a:lnTo>
                    <a:lnTo>
                      <a:pt x="27" y="34"/>
                    </a:lnTo>
                    <a:lnTo>
                      <a:pt x="48" y="47"/>
                    </a:lnTo>
                    <a:close/>
                    <a:moveTo>
                      <a:pt x="99" y="47"/>
                    </a:moveTo>
                    <a:lnTo>
                      <a:pt x="120" y="34"/>
                    </a:lnTo>
                    <a:lnTo>
                      <a:pt x="120" y="11"/>
                    </a:lnTo>
                    <a:lnTo>
                      <a:pt x="99" y="0"/>
                    </a:lnTo>
                    <a:lnTo>
                      <a:pt x="82" y="11"/>
                    </a:lnTo>
                    <a:lnTo>
                      <a:pt x="82" y="34"/>
                    </a:lnTo>
                    <a:lnTo>
                      <a:pt x="99" y="47"/>
                    </a:lnTo>
                    <a:close/>
                    <a:moveTo>
                      <a:pt x="181" y="94"/>
                    </a:moveTo>
                    <a:lnTo>
                      <a:pt x="201" y="82"/>
                    </a:lnTo>
                    <a:lnTo>
                      <a:pt x="201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4"/>
                    </a:lnTo>
                    <a:close/>
                    <a:moveTo>
                      <a:pt x="236" y="94"/>
                    </a:moveTo>
                    <a:lnTo>
                      <a:pt x="256" y="82"/>
                    </a:lnTo>
                    <a:lnTo>
                      <a:pt x="256" y="58"/>
                    </a:lnTo>
                    <a:lnTo>
                      <a:pt x="236" y="47"/>
                    </a:lnTo>
                    <a:lnTo>
                      <a:pt x="215" y="58"/>
                    </a:lnTo>
                    <a:lnTo>
                      <a:pt x="215" y="82"/>
                    </a:lnTo>
                    <a:lnTo>
                      <a:pt x="236" y="94"/>
                    </a:lnTo>
                    <a:close/>
                    <a:moveTo>
                      <a:pt x="262" y="140"/>
                    </a:moveTo>
                    <a:lnTo>
                      <a:pt x="282" y="128"/>
                    </a:lnTo>
                    <a:lnTo>
                      <a:pt x="282" y="105"/>
                    </a:lnTo>
                    <a:lnTo>
                      <a:pt x="262" y="94"/>
                    </a:lnTo>
                    <a:lnTo>
                      <a:pt x="242" y="105"/>
                    </a:lnTo>
                    <a:lnTo>
                      <a:pt x="242" y="128"/>
                    </a:lnTo>
                    <a:lnTo>
                      <a:pt x="262" y="140"/>
                    </a:lnTo>
                    <a:close/>
                    <a:moveTo>
                      <a:pt x="317" y="140"/>
                    </a:moveTo>
                    <a:lnTo>
                      <a:pt x="338" y="128"/>
                    </a:lnTo>
                    <a:lnTo>
                      <a:pt x="338" y="105"/>
                    </a:lnTo>
                    <a:lnTo>
                      <a:pt x="317" y="94"/>
                    </a:lnTo>
                    <a:lnTo>
                      <a:pt x="296" y="105"/>
                    </a:lnTo>
                    <a:lnTo>
                      <a:pt x="296" y="128"/>
                    </a:lnTo>
                    <a:lnTo>
                      <a:pt x="317" y="140"/>
                    </a:lnTo>
                    <a:close/>
                    <a:moveTo>
                      <a:pt x="399" y="187"/>
                    </a:moveTo>
                    <a:lnTo>
                      <a:pt x="419" y="174"/>
                    </a:lnTo>
                    <a:lnTo>
                      <a:pt x="419" y="152"/>
                    </a:lnTo>
                    <a:lnTo>
                      <a:pt x="399" y="140"/>
                    </a:lnTo>
                    <a:lnTo>
                      <a:pt x="378" y="152"/>
                    </a:lnTo>
                    <a:lnTo>
                      <a:pt x="378" y="174"/>
                    </a:lnTo>
                    <a:lnTo>
                      <a:pt x="399" y="187"/>
                    </a:lnTo>
                    <a:close/>
                    <a:moveTo>
                      <a:pt x="480" y="234"/>
                    </a:moveTo>
                    <a:lnTo>
                      <a:pt x="498" y="222"/>
                    </a:lnTo>
                    <a:lnTo>
                      <a:pt x="498" y="198"/>
                    </a:lnTo>
                    <a:lnTo>
                      <a:pt x="480" y="187"/>
                    </a:lnTo>
                    <a:lnTo>
                      <a:pt x="459" y="198"/>
                    </a:lnTo>
                    <a:lnTo>
                      <a:pt x="459" y="222"/>
                    </a:lnTo>
                    <a:lnTo>
                      <a:pt x="480" y="234"/>
                    </a:lnTo>
                    <a:close/>
                    <a:moveTo>
                      <a:pt x="505" y="279"/>
                    </a:moveTo>
                    <a:lnTo>
                      <a:pt x="525" y="268"/>
                    </a:lnTo>
                    <a:lnTo>
                      <a:pt x="525" y="245"/>
                    </a:lnTo>
                    <a:lnTo>
                      <a:pt x="505" y="234"/>
                    </a:lnTo>
                    <a:lnTo>
                      <a:pt x="484" y="245"/>
                    </a:lnTo>
                    <a:lnTo>
                      <a:pt x="484" y="268"/>
                    </a:lnTo>
                    <a:lnTo>
                      <a:pt x="505" y="279"/>
                    </a:lnTo>
                    <a:close/>
                    <a:moveTo>
                      <a:pt x="532" y="421"/>
                    </a:moveTo>
                    <a:lnTo>
                      <a:pt x="552" y="409"/>
                    </a:lnTo>
                    <a:lnTo>
                      <a:pt x="552" y="384"/>
                    </a:lnTo>
                    <a:lnTo>
                      <a:pt x="532" y="373"/>
                    </a:lnTo>
                    <a:lnTo>
                      <a:pt x="512" y="384"/>
                    </a:lnTo>
                    <a:lnTo>
                      <a:pt x="512" y="409"/>
                    </a:lnTo>
                    <a:lnTo>
                      <a:pt x="532" y="421"/>
                    </a:lnTo>
                    <a:close/>
                    <a:moveTo>
                      <a:pt x="532" y="327"/>
                    </a:moveTo>
                    <a:lnTo>
                      <a:pt x="552" y="316"/>
                    </a:lnTo>
                    <a:lnTo>
                      <a:pt x="552" y="292"/>
                    </a:lnTo>
                    <a:lnTo>
                      <a:pt x="532" y="280"/>
                    </a:lnTo>
                    <a:lnTo>
                      <a:pt x="512" y="292"/>
                    </a:lnTo>
                    <a:lnTo>
                      <a:pt x="512" y="316"/>
                    </a:lnTo>
                    <a:lnTo>
                      <a:pt x="532" y="327"/>
                    </a:lnTo>
                    <a:close/>
                    <a:moveTo>
                      <a:pt x="559" y="373"/>
                    </a:moveTo>
                    <a:lnTo>
                      <a:pt x="579" y="361"/>
                    </a:lnTo>
                    <a:lnTo>
                      <a:pt x="579" y="338"/>
                    </a:lnTo>
                    <a:lnTo>
                      <a:pt x="559" y="327"/>
                    </a:lnTo>
                    <a:lnTo>
                      <a:pt x="539" y="338"/>
                    </a:lnTo>
                    <a:lnTo>
                      <a:pt x="539" y="361"/>
                    </a:lnTo>
                    <a:lnTo>
                      <a:pt x="559" y="373"/>
                    </a:lnTo>
                    <a:close/>
                    <a:moveTo>
                      <a:pt x="587" y="421"/>
                    </a:moveTo>
                    <a:lnTo>
                      <a:pt x="607" y="409"/>
                    </a:lnTo>
                    <a:lnTo>
                      <a:pt x="607" y="384"/>
                    </a:lnTo>
                    <a:lnTo>
                      <a:pt x="587" y="373"/>
                    </a:lnTo>
                    <a:lnTo>
                      <a:pt x="566" y="384"/>
                    </a:lnTo>
                    <a:lnTo>
                      <a:pt x="566" y="409"/>
                    </a:lnTo>
                    <a:lnTo>
                      <a:pt x="587" y="421"/>
                    </a:lnTo>
                    <a:close/>
                    <a:moveTo>
                      <a:pt x="829" y="466"/>
                    </a:moveTo>
                    <a:lnTo>
                      <a:pt x="849" y="455"/>
                    </a:lnTo>
                    <a:lnTo>
                      <a:pt x="849" y="432"/>
                    </a:lnTo>
                    <a:lnTo>
                      <a:pt x="829" y="421"/>
                    </a:lnTo>
                    <a:lnTo>
                      <a:pt x="809" y="432"/>
                    </a:lnTo>
                    <a:lnTo>
                      <a:pt x="809" y="455"/>
                    </a:lnTo>
                    <a:lnTo>
                      <a:pt x="829" y="466"/>
                    </a:lnTo>
                    <a:close/>
                    <a:moveTo>
                      <a:pt x="883" y="466"/>
                    </a:moveTo>
                    <a:lnTo>
                      <a:pt x="904" y="455"/>
                    </a:lnTo>
                    <a:lnTo>
                      <a:pt x="904" y="432"/>
                    </a:lnTo>
                    <a:lnTo>
                      <a:pt x="883" y="421"/>
                    </a:lnTo>
                    <a:lnTo>
                      <a:pt x="863" y="432"/>
                    </a:lnTo>
                    <a:lnTo>
                      <a:pt x="863" y="455"/>
                    </a:lnTo>
                    <a:lnTo>
                      <a:pt x="883" y="466"/>
                    </a:lnTo>
                    <a:close/>
                    <a:moveTo>
                      <a:pt x="938" y="466"/>
                    </a:moveTo>
                    <a:lnTo>
                      <a:pt x="958" y="455"/>
                    </a:lnTo>
                    <a:lnTo>
                      <a:pt x="958" y="432"/>
                    </a:lnTo>
                    <a:lnTo>
                      <a:pt x="938" y="421"/>
                    </a:lnTo>
                    <a:lnTo>
                      <a:pt x="916" y="432"/>
                    </a:lnTo>
                    <a:lnTo>
                      <a:pt x="916" y="455"/>
                    </a:lnTo>
                    <a:lnTo>
                      <a:pt x="938" y="466"/>
                    </a:lnTo>
                    <a:close/>
                    <a:moveTo>
                      <a:pt x="992" y="559"/>
                    </a:moveTo>
                    <a:lnTo>
                      <a:pt x="1012" y="548"/>
                    </a:lnTo>
                    <a:lnTo>
                      <a:pt x="1012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48"/>
                    </a:lnTo>
                    <a:lnTo>
                      <a:pt x="992" y="559"/>
                    </a:lnTo>
                    <a:close/>
                    <a:moveTo>
                      <a:pt x="1045" y="559"/>
                    </a:moveTo>
                    <a:lnTo>
                      <a:pt x="1064" y="548"/>
                    </a:lnTo>
                    <a:lnTo>
                      <a:pt x="1064" y="525"/>
                    </a:lnTo>
                    <a:lnTo>
                      <a:pt x="1045" y="514"/>
                    </a:lnTo>
                    <a:lnTo>
                      <a:pt x="1025" y="525"/>
                    </a:lnTo>
                    <a:lnTo>
                      <a:pt x="1025" y="548"/>
                    </a:lnTo>
                    <a:lnTo>
                      <a:pt x="1045" y="559"/>
                    </a:lnTo>
                    <a:close/>
                    <a:moveTo>
                      <a:pt x="801" y="605"/>
                    </a:moveTo>
                    <a:lnTo>
                      <a:pt x="821" y="594"/>
                    </a:lnTo>
                    <a:lnTo>
                      <a:pt x="821" y="571"/>
                    </a:lnTo>
                    <a:lnTo>
                      <a:pt x="801" y="559"/>
                    </a:lnTo>
                    <a:lnTo>
                      <a:pt x="781" y="571"/>
                    </a:lnTo>
                    <a:lnTo>
                      <a:pt x="781" y="594"/>
                    </a:lnTo>
                    <a:lnTo>
                      <a:pt x="801" y="605"/>
                    </a:lnTo>
                    <a:close/>
                    <a:moveTo>
                      <a:pt x="856" y="605"/>
                    </a:moveTo>
                    <a:lnTo>
                      <a:pt x="876" y="594"/>
                    </a:lnTo>
                    <a:lnTo>
                      <a:pt x="876" y="571"/>
                    </a:lnTo>
                    <a:lnTo>
                      <a:pt x="856" y="559"/>
                    </a:lnTo>
                    <a:lnTo>
                      <a:pt x="835" y="571"/>
                    </a:lnTo>
                    <a:lnTo>
                      <a:pt x="835" y="594"/>
                    </a:lnTo>
                    <a:lnTo>
                      <a:pt x="856" y="605"/>
                    </a:lnTo>
                    <a:close/>
                    <a:moveTo>
                      <a:pt x="910" y="605"/>
                    </a:moveTo>
                    <a:lnTo>
                      <a:pt x="930" y="594"/>
                    </a:lnTo>
                    <a:lnTo>
                      <a:pt x="930" y="571"/>
                    </a:lnTo>
                    <a:lnTo>
                      <a:pt x="910" y="559"/>
                    </a:lnTo>
                    <a:lnTo>
                      <a:pt x="890" y="571"/>
                    </a:lnTo>
                    <a:lnTo>
                      <a:pt x="890" y="594"/>
                    </a:lnTo>
                    <a:lnTo>
                      <a:pt x="910" y="605"/>
                    </a:lnTo>
                    <a:close/>
                    <a:moveTo>
                      <a:pt x="964" y="605"/>
                    </a:moveTo>
                    <a:lnTo>
                      <a:pt x="985" y="594"/>
                    </a:lnTo>
                    <a:lnTo>
                      <a:pt x="985" y="571"/>
                    </a:lnTo>
                    <a:lnTo>
                      <a:pt x="964" y="559"/>
                    </a:lnTo>
                    <a:lnTo>
                      <a:pt x="944" y="571"/>
                    </a:lnTo>
                    <a:lnTo>
                      <a:pt x="944" y="594"/>
                    </a:lnTo>
                    <a:lnTo>
                      <a:pt x="964" y="605"/>
                    </a:lnTo>
                    <a:close/>
                    <a:moveTo>
                      <a:pt x="1019" y="605"/>
                    </a:moveTo>
                    <a:lnTo>
                      <a:pt x="1039" y="594"/>
                    </a:lnTo>
                    <a:lnTo>
                      <a:pt x="1039" y="571"/>
                    </a:lnTo>
                    <a:lnTo>
                      <a:pt x="1019" y="559"/>
                    </a:lnTo>
                    <a:lnTo>
                      <a:pt x="998" y="571"/>
                    </a:lnTo>
                    <a:lnTo>
                      <a:pt x="998" y="594"/>
                    </a:lnTo>
                    <a:lnTo>
                      <a:pt x="1019" y="605"/>
                    </a:lnTo>
                    <a:close/>
                    <a:moveTo>
                      <a:pt x="1070" y="605"/>
                    </a:moveTo>
                    <a:lnTo>
                      <a:pt x="1091" y="594"/>
                    </a:lnTo>
                    <a:lnTo>
                      <a:pt x="1091" y="571"/>
                    </a:lnTo>
                    <a:lnTo>
                      <a:pt x="1070" y="559"/>
                    </a:lnTo>
                    <a:lnTo>
                      <a:pt x="1053" y="571"/>
                    </a:lnTo>
                    <a:lnTo>
                      <a:pt x="1053" y="594"/>
                    </a:lnTo>
                    <a:lnTo>
                      <a:pt x="1070" y="605"/>
                    </a:lnTo>
                    <a:close/>
                    <a:moveTo>
                      <a:pt x="505" y="653"/>
                    </a:moveTo>
                    <a:lnTo>
                      <a:pt x="525" y="641"/>
                    </a:lnTo>
                    <a:lnTo>
                      <a:pt x="525" y="619"/>
                    </a:lnTo>
                    <a:lnTo>
                      <a:pt x="505" y="605"/>
                    </a:lnTo>
                    <a:lnTo>
                      <a:pt x="484" y="619"/>
                    </a:lnTo>
                    <a:lnTo>
                      <a:pt x="484" y="641"/>
                    </a:lnTo>
                    <a:lnTo>
                      <a:pt x="505" y="653"/>
                    </a:lnTo>
                    <a:close/>
                    <a:moveTo>
                      <a:pt x="559" y="653"/>
                    </a:moveTo>
                    <a:lnTo>
                      <a:pt x="579" y="641"/>
                    </a:lnTo>
                    <a:lnTo>
                      <a:pt x="579" y="619"/>
                    </a:lnTo>
                    <a:lnTo>
                      <a:pt x="559" y="605"/>
                    </a:lnTo>
                    <a:lnTo>
                      <a:pt x="539" y="619"/>
                    </a:lnTo>
                    <a:lnTo>
                      <a:pt x="539" y="641"/>
                    </a:lnTo>
                    <a:lnTo>
                      <a:pt x="559" y="653"/>
                    </a:lnTo>
                    <a:close/>
                    <a:moveTo>
                      <a:pt x="613" y="653"/>
                    </a:moveTo>
                    <a:lnTo>
                      <a:pt x="634" y="641"/>
                    </a:lnTo>
                    <a:lnTo>
                      <a:pt x="634" y="619"/>
                    </a:lnTo>
                    <a:lnTo>
                      <a:pt x="613" y="605"/>
                    </a:lnTo>
                    <a:lnTo>
                      <a:pt x="593" y="619"/>
                    </a:lnTo>
                    <a:lnTo>
                      <a:pt x="593" y="641"/>
                    </a:lnTo>
                    <a:lnTo>
                      <a:pt x="613" y="653"/>
                    </a:lnTo>
                    <a:close/>
                    <a:moveTo>
                      <a:pt x="666" y="653"/>
                    </a:moveTo>
                    <a:lnTo>
                      <a:pt x="686" y="641"/>
                    </a:lnTo>
                    <a:lnTo>
                      <a:pt x="686" y="619"/>
                    </a:lnTo>
                    <a:lnTo>
                      <a:pt x="666" y="605"/>
                    </a:lnTo>
                    <a:lnTo>
                      <a:pt x="647" y="619"/>
                    </a:lnTo>
                    <a:lnTo>
                      <a:pt x="647" y="641"/>
                    </a:lnTo>
                    <a:lnTo>
                      <a:pt x="666" y="653"/>
                    </a:lnTo>
                    <a:close/>
                    <a:moveTo>
                      <a:pt x="720" y="653"/>
                    </a:moveTo>
                    <a:lnTo>
                      <a:pt x="740" y="641"/>
                    </a:lnTo>
                    <a:lnTo>
                      <a:pt x="740" y="619"/>
                    </a:lnTo>
                    <a:lnTo>
                      <a:pt x="720" y="605"/>
                    </a:lnTo>
                    <a:lnTo>
                      <a:pt x="700" y="619"/>
                    </a:lnTo>
                    <a:lnTo>
                      <a:pt x="700" y="641"/>
                    </a:lnTo>
                    <a:lnTo>
                      <a:pt x="720" y="653"/>
                    </a:lnTo>
                    <a:close/>
                    <a:moveTo>
                      <a:pt x="21" y="653"/>
                    </a:moveTo>
                    <a:lnTo>
                      <a:pt x="41" y="641"/>
                    </a:lnTo>
                    <a:lnTo>
                      <a:pt x="41" y="619"/>
                    </a:lnTo>
                    <a:lnTo>
                      <a:pt x="21" y="605"/>
                    </a:lnTo>
                    <a:lnTo>
                      <a:pt x="0" y="619"/>
                    </a:lnTo>
                    <a:lnTo>
                      <a:pt x="0" y="641"/>
                    </a:lnTo>
                    <a:lnTo>
                      <a:pt x="21" y="653"/>
                    </a:lnTo>
                    <a:close/>
                    <a:moveTo>
                      <a:pt x="74" y="653"/>
                    </a:moveTo>
                    <a:lnTo>
                      <a:pt x="93" y="641"/>
                    </a:lnTo>
                    <a:lnTo>
                      <a:pt x="93" y="619"/>
                    </a:lnTo>
                    <a:lnTo>
                      <a:pt x="74" y="605"/>
                    </a:lnTo>
                    <a:lnTo>
                      <a:pt x="54" y="619"/>
                    </a:lnTo>
                    <a:lnTo>
                      <a:pt x="54" y="641"/>
                    </a:lnTo>
                    <a:lnTo>
                      <a:pt x="74" y="653"/>
                    </a:lnTo>
                    <a:close/>
                    <a:moveTo>
                      <a:pt x="127" y="653"/>
                    </a:moveTo>
                    <a:lnTo>
                      <a:pt x="147" y="641"/>
                    </a:lnTo>
                    <a:lnTo>
                      <a:pt x="147" y="619"/>
                    </a:lnTo>
                    <a:lnTo>
                      <a:pt x="127" y="605"/>
                    </a:lnTo>
                    <a:lnTo>
                      <a:pt x="107" y="619"/>
                    </a:lnTo>
                    <a:lnTo>
                      <a:pt x="107" y="641"/>
                    </a:lnTo>
                    <a:lnTo>
                      <a:pt x="127" y="653"/>
                    </a:lnTo>
                    <a:close/>
                    <a:moveTo>
                      <a:pt x="181" y="653"/>
                    </a:moveTo>
                    <a:lnTo>
                      <a:pt x="201" y="641"/>
                    </a:lnTo>
                    <a:lnTo>
                      <a:pt x="201" y="619"/>
                    </a:lnTo>
                    <a:lnTo>
                      <a:pt x="181" y="605"/>
                    </a:lnTo>
                    <a:lnTo>
                      <a:pt x="161" y="619"/>
                    </a:lnTo>
                    <a:lnTo>
                      <a:pt x="161" y="641"/>
                    </a:lnTo>
                    <a:lnTo>
                      <a:pt x="181" y="653"/>
                    </a:lnTo>
                    <a:close/>
                    <a:moveTo>
                      <a:pt x="236" y="653"/>
                    </a:moveTo>
                    <a:lnTo>
                      <a:pt x="256" y="641"/>
                    </a:lnTo>
                    <a:lnTo>
                      <a:pt x="256" y="619"/>
                    </a:lnTo>
                    <a:lnTo>
                      <a:pt x="236" y="605"/>
                    </a:lnTo>
                    <a:lnTo>
                      <a:pt x="215" y="619"/>
                    </a:lnTo>
                    <a:lnTo>
                      <a:pt x="215" y="641"/>
                    </a:lnTo>
                    <a:lnTo>
                      <a:pt x="236" y="653"/>
                    </a:lnTo>
                    <a:close/>
                    <a:moveTo>
                      <a:pt x="290" y="653"/>
                    </a:moveTo>
                    <a:lnTo>
                      <a:pt x="310" y="641"/>
                    </a:lnTo>
                    <a:lnTo>
                      <a:pt x="310" y="619"/>
                    </a:lnTo>
                    <a:lnTo>
                      <a:pt x="290" y="605"/>
                    </a:lnTo>
                    <a:lnTo>
                      <a:pt x="270" y="619"/>
                    </a:lnTo>
                    <a:lnTo>
                      <a:pt x="270" y="641"/>
                    </a:lnTo>
                    <a:lnTo>
                      <a:pt x="290" y="653"/>
                    </a:lnTo>
                    <a:close/>
                    <a:moveTo>
                      <a:pt x="480" y="605"/>
                    </a:moveTo>
                    <a:lnTo>
                      <a:pt x="498" y="594"/>
                    </a:lnTo>
                    <a:lnTo>
                      <a:pt x="498" y="571"/>
                    </a:lnTo>
                    <a:lnTo>
                      <a:pt x="480" y="559"/>
                    </a:lnTo>
                    <a:lnTo>
                      <a:pt x="459" y="571"/>
                    </a:lnTo>
                    <a:lnTo>
                      <a:pt x="459" y="594"/>
                    </a:lnTo>
                    <a:lnTo>
                      <a:pt x="480" y="605"/>
                    </a:lnTo>
                    <a:close/>
                    <a:moveTo>
                      <a:pt x="532" y="605"/>
                    </a:moveTo>
                    <a:lnTo>
                      <a:pt x="552" y="594"/>
                    </a:lnTo>
                    <a:lnTo>
                      <a:pt x="552" y="571"/>
                    </a:lnTo>
                    <a:lnTo>
                      <a:pt x="532" y="559"/>
                    </a:lnTo>
                    <a:lnTo>
                      <a:pt x="512" y="571"/>
                    </a:lnTo>
                    <a:lnTo>
                      <a:pt x="512" y="594"/>
                    </a:lnTo>
                    <a:lnTo>
                      <a:pt x="532" y="605"/>
                    </a:lnTo>
                    <a:close/>
                    <a:moveTo>
                      <a:pt x="587" y="605"/>
                    </a:moveTo>
                    <a:lnTo>
                      <a:pt x="607" y="594"/>
                    </a:lnTo>
                    <a:lnTo>
                      <a:pt x="607" y="571"/>
                    </a:lnTo>
                    <a:lnTo>
                      <a:pt x="587" y="559"/>
                    </a:lnTo>
                    <a:lnTo>
                      <a:pt x="566" y="571"/>
                    </a:lnTo>
                    <a:lnTo>
                      <a:pt x="566" y="594"/>
                    </a:lnTo>
                    <a:lnTo>
                      <a:pt x="587" y="605"/>
                    </a:lnTo>
                    <a:close/>
                    <a:moveTo>
                      <a:pt x="641" y="605"/>
                    </a:moveTo>
                    <a:lnTo>
                      <a:pt x="658" y="594"/>
                    </a:lnTo>
                    <a:lnTo>
                      <a:pt x="658" y="571"/>
                    </a:lnTo>
                    <a:lnTo>
                      <a:pt x="641" y="559"/>
                    </a:lnTo>
                    <a:lnTo>
                      <a:pt x="621" y="571"/>
                    </a:lnTo>
                    <a:lnTo>
                      <a:pt x="621" y="594"/>
                    </a:lnTo>
                    <a:lnTo>
                      <a:pt x="641" y="605"/>
                    </a:lnTo>
                    <a:close/>
                    <a:moveTo>
                      <a:pt x="48" y="605"/>
                    </a:moveTo>
                    <a:lnTo>
                      <a:pt x="68" y="594"/>
                    </a:lnTo>
                    <a:lnTo>
                      <a:pt x="68" y="571"/>
                    </a:lnTo>
                    <a:lnTo>
                      <a:pt x="48" y="559"/>
                    </a:lnTo>
                    <a:lnTo>
                      <a:pt x="27" y="571"/>
                    </a:lnTo>
                    <a:lnTo>
                      <a:pt x="27" y="594"/>
                    </a:lnTo>
                    <a:lnTo>
                      <a:pt x="48" y="605"/>
                    </a:lnTo>
                    <a:close/>
                    <a:moveTo>
                      <a:pt x="99" y="605"/>
                    </a:moveTo>
                    <a:lnTo>
                      <a:pt x="120" y="594"/>
                    </a:lnTo>
                    <a:lnTo>
                      <a:pt x="120" y="571"/>
                    </a:lnTo>
                    <a:lnTo>
                      <a:pt x="99" y="559"/>
                    </a:lnTo>
                    <a:lnTo>
                      <a:pt x="82" y="571"/>
                    </a:lnTo>
                    <a:lnTo>
                      <a:pt x="82" y="594"/>
                    </a:lnTo>
                    <a:lnTo>
                      <a:pt x="99" y="605"/>
                    </a:lnTo>
                    <a:close/>
                    <a:moveTo>
                      <a:pt x="155" y="605"/>
                    </a:moveTo>
                    <a:lnTo>
                      <a:pt x="175" y="594"/>
                    </a:lnTo>
                    <a:lnTo>
                      <a:pt x="175" y="571"/>
                    </a:lnTo>
                    <a:lnTo>
                      <a:pt x="155" y="559"/>
                    </a:lnTo>
                    <a:lnTo>
                      <a:pt x="133" y="571"/>
                    </a:lnTo>
                    <a:lnTo>
                      <a:pt x="133" y="594"/>
                    </a:lnTo>
                    <a:lnTo>
                      <a:pt x="155" y="605"/>
                    </a:lnTo>
                    <a:close/>
                    <a:moveTo>
                      <a:pt x="208" y="605"/>
                    </a:moveTo>
                    <a:lnTo>
                      <a:pt x="229" y="594"/>
                    </a:lnTo>
                    <a:lnTo>
                      <a:pt x="229" y="571"/>
                    </a:lnTo>
                    <a:lnTo>
                      <a:pt x="208" y="559"/>
                    </a:lnTo>
                    <a:lnTo>
                      <a:pt x="188" y="571"/>
                    </a:lnTo>
                    <a:lnTo>
                      <a:pt x="188" y="594"/>
                    </a:lnTo>
                    <a:lnTo>
                      <a:pt x="208" y="605"/>
                    </a:lnTo>
                    <a:close/>
                    <a:moveTo>
                      <a:pt x="262" y="605"/>
                    </a:moveTo>
                    <a:lnTo>
                      <a:pt x="282" y="594"/>
                    </a:lnTo>
                    <a:lnTo>
                      <a:pt x="282" y="571"/>
                    </a:lnTo>
                    <a:lnTo>
                      <a:pt x="262" y="559"/>
                    </a:lnTo>
                    <a:lnTo>
                      <a:pt x="242" y="571"/>
                    </a:lnTo>
                    <a:lnTo>
                      <a:pt x="242" y="594"/>
                    </a:lnTo>
                    <a:lnTo>
                      <a:pt x="262" y="605"/>
                    </a:lnTo>
                    <a:close/>
                    <a:moveTo>
                      <a:pt x="692" y="605"/>
                    </a:moveTo>
                    <a:lnTo>
                      <a:pt x="713" y="594"/>
                    </a:lnTo>
                    <a:lnTo>
                      <a:pt x="713" y="571"/>
                    </a:lnTo>
                    <a:lnTo>
                      <a:pt x="692" y="559"/>
                    </a:lnTo>
                    <a:lnTo>
                      <a:pt x="675" y="571"/>
                    </a:lnTo>
                    <a:lnTo>
                      <a:pt x="675" y="594"/>
                    </a:lnTo>
                    <a:lnTo>
                      <a:pt x="692" y="605"/>
                    </a:lnTo>
                    <a:close/>
                    <a:moveTo>
                      <a:pt x="747" y="605"/>
                    </a:moveTo>
                    <a:lnTo>
                      <a:pt x="767" y="594"/>
                    </a:lnTo>
                    <a:lnTo>
                      <a:pt x="767" y="571"/>
                    </a:lnTo>
                    <a:lnTo>
                      <a:pt x="747" y="559"/>
                    </a:lnTo>
                    <a:lnTo>
                      <a:pt x="727" y="571"/>
                    </a:lnTo>
                    <a:lnTo>
                      <a:pt x="727" y="594"/>
                    </a:lnTo>
                    <a:lnTo>
                      <a:pt x="747" y="605"/>
                    </a:lnTo>
                    <a:close/>
                    <a:moveTo>
                      <a:pt x="775" y="653"/>
                    </a:moveTo>
                    <a:lnTo>
                      <a:pt x="795" y="641"/>
                    </a:lnTo>
                    <a:lnTo>
                      <a:pt x="795" y="619"/>
                    </a:lnTo>
                    <a:lnTo>
                      <a:pt x="775" y="605"/>
                    </a:lnTo>
                    <a:lnTo>
                      <a:pt x="754" y="619"/>
                    </a:lnTo>
                    <a:lnTo>
                      <a:pt x="754" y="641"/>
                    </a:lnTo>
                    <a:lnTo>
                      <a:pt x="775" y="653"/>
                    </a:lnTo>
                    <a:close/>
                    <a:moveTo>
                      <a:pt x="829" y="653"/>
                    </a:moveTo>
                    <a:lnTo>
                      <a:pt x="849" y="641"/>
                    </a:lnTo>
                    <a:lnTo>
                      <a:pt x="849" y="619"/>
                    </a:lnTo>
                    <a:lnTo>
                      <a:pt x="829" y="605"/>
                    </a:lnTo>
                    <a:lnTo>
                      <a:pt x="809" y="619"/>
                    </a:lnTo>
                    <a:lnTo>
                      <a:pt x="809" y="641"/>
                    </a:lnTo>
                    <a:lnTo>
                      <a:pt x="829" y="653"/>
                    </a:lnTo>
                    <a:close/>
                    <a:moveTo>
                      <a:pt x="883" y="653"/>
                    </a:moveTo>
                    <a:lnTo>
                      <a:pt x="904" y="641"/>
                    </a:lnTo>
                    <a:lnTo>
                      <a:pt x="904" y="619"/>
                    </a:lnTo>
                    <a:lnTo>
                      <a:pt x="883" y="605"/>
                    </a:lnTo>
                    <a:lnTo>
                      <a:pt x="863" y="619"/>
                    </a:lnTo>
                    <a:lnTo>
                      <a:pt x="863" y="641"/>
                    </a:lnTo>
                    <a:lnTo>
                      <a:pt x="883" y="653"/>
                    </a:lnTo>
                    <a:close/>
                    <a:moveTo>
                      <a:pt x="938" y="653"/>
                    </a:moveTo>
                    <a:lnTo>
                      <a:pt x="958" y="641"/>
                    </a:lnTo>
                    <a:lnTo>
                      <a:pt x="958" y="619"/>
                    </a:lnTo>
                    <a:lnTo>
                      <a:pt x="938" y="605"/>
                    </a:lnTo>
                    <a:lnTo>
                      <a:pt x="916" y="619"/>
                    </a:lnTo>
                    <a:lnTo>
                      <a:pt x="916" y="641"/>
                    </a:lnTo>
                    <a:lnTo>
                      <a:pt x="938" y="653"/>
                    </a:lnTo>
                    <a:close/>
                    <a:moveTo>
                      <a:pt x="992" y="653"/>
                    </a:moveTo>
                    <a:lnTo>
                      <a:pt x="1012" y="641"/>
                    </a:lnTo>
                    <a:lnTo>
                      <a:pt x="1012" y="619"/>
                    </a:lnTo>
                    <a:lnTo>
                      <a:pt x="992" y="605"/>
                    </a:lnTo>
                    <a:lnTo>
                      <a:pt x="972" y="619"/>
                    </a:lnTo>
                    <a:lnTo>
                      <a:pt x="972" y="641"/>
                    </a:lnTo>
                    <a:lnTo>
                      <a:pt x="992" y="653"/>
                    </a:lnTo>
                    <a:close/>
                    <a:moveTo>
                      <a:pt x="1045" y="653"/>
                    </a:moveTo>
                    <a:lnTo>
                      <a:pt x="1064" y="641"/>
                    </a:lnTo>
                    <a:lnTo>
                      <a:pt x="1064" y="619"/>
                    </a:lnTo>
                    <a:lnTo>
                      <a:pt x="1045" y="605"/>
                    </a:lnTo>
                    <a:lnTo>
                      <a:pt x="1025" y="619"/>
                    </a:lnTo>
                    <a:lnTo>
                      <a:pt x="1025" y="641"/>
                    </a:lnTo>
                    <a:lnTo>
                      <a:pt x="1045" y="653"/>
                    </a:lnTo>
                    <a:close/>
                    <a:moveTo>
                      <a:pt x="1019" y="421"/>
                    </a:moveTo>
                    <a:lnTo>
                      <a:pt x="1039" y="409"/>
                    </a:lnTo>
                    <a:lnTo>
                      <a:pt x="1039" y="384"/>
                    </a:lnTo>
                    <a:lnTo>
                      <a:pt x="1019" y="373"/>
                    </a:lnTo>
                    <a:lnTo>
                      <a:pt x="998" y="384"/>
                    </a:lnTo>
                    <a:lnTo>
                      <a:pt x="998" y="409"/>
                    </a:lnTo>
                    <a:lnTo>
                      <a:pt x="1019" y="421"/>
                    </a:lnTo>
                    <a:close/>
                    <a:moveTo>
                      <a:pt x="1045" y="466"/>
                    </a:moveTo>
                    <a:lnTo>
                      <a:pt x="1064" y="455"/>
                    </a:lnTo>
                    <a:lnTo>
                      <a:pt x="1064" y="432"/>
                    </a:lnTo>
                    <a:lnTo>
                      <a:pt x="1045" y="421"/>
                    </a:lnTo>
                    <a:lnTo>
                      <a:pt x="1025" y="432"/>
                    </a:lnTo>
                    <a:lnTo>
                      <a:pt x="1025" y="455"/>
                    </a:lnTo>
                    <a:lnTo>
                      <a:pt x="1045" y="466"/>
                    </a:lnTo>
                    <a:close/>
                    <a:moveTo>
                      <a:pt x="1070" y="421"/>
                    </a:moveTo>
                    <a:lnTo>
                      <a:pt x="1091" y="409"/>
                    </a:lnTo>
                    <a:lnTo>
                      <a:pt x="1091" y="384"/>
                    </a:lnTo>
                    <a:lnTo>
                      <a:pt x="1070" y="373"/>
                    </a:lnTo>
                    <a:lnTo>
                      <a:pt x="1053" y="384"/>
                    </a:lnTo>
                    <a:lnTo>
                      <a:pt x="1053" y="409"/>
                    </a:lnTo>
                    <a:lnTo>
                      <a:pt x="1070" y="421"/>
                    </a:lnTo>
                    <a:close/>
                    <a:moveTo>
                      <a:pt x="964" y="511"/>
                    </a:moveTo>
                    <a:lnTo>
                      <a:pt x="985" y="500"/>
                    </a:lnTo>
                    <a:lnTo>
                      <a:pt x="985" y="477"/>
                    </a:lnTo>
                    <a:lnTo>
                      <a:pt x="964" y="466"/>
                    </a:lnTo>
                    <a:lnTo>
                      <a:pt x="944" y="477"/>
                    </a:lnTo>
                    <a:lnTo>
                      <a:pt x="944" y="500"/>
                    </a:lnTo>
                    <a:lnTo>
                      <a:pt x="964" y="511"/>
                    </a:lnTo>
                    <a:close/>
                    <a:moveTo>
                      <a:pt x="992" y="466"/>
                    </a:moveTo>
                    <a:lnTo>
                      <a:pt x="1012" y="455"/>
                    </a:lnTo>
                    <a:lnTo>
                      <a:pt x="1012" y="432"/>
                    </a:lnTo>
                    <a:lnTo>
                      <a:pt x="992" y="421"/>
                    </a:lnTo>
                    <a:lnTo>
                      <a:pt x="972" y="432"/>
                    </a:lnTo>
                    <a:lnTo>
                      <a:pt x="972" y="455"/>
                    </a:lnTo>
                    <a:lnTo>
                      <a:pt x="992" y="466"/>
                    </a:lnTo>
                    <a:close/>
                    <a:moveTo>
                      <a:pt x="1019" y="511"/>
                    </a:moveTo>
                    <a:lnTo>
                      <a:pt x="1039" y="500"/>
                    </a:lnTo>
                    <a:lnTo>
                      <a:pt x="1039" y="477"/>
                    </a:lnTo>
                    <a:lnTo>
                      <a:pt x="1019" y="466"/>
                    </a:lnTo>
                    <a:lnTo>
                      <a:pt x="998" y="477"/>
                    </a:lnTo>
                    <a:lnTo>
                      <a:pt x="998" y="500"/>
                    </a:lnTo>
                    <a:lnTo>
                      <a:pt x="1019" y="511"/>
                    </a:lnTo>
                    <a:close/>
                    <a:moveTo>
                      <a:pt x="1070" y="511"/>
                    </a:moveTo>
                    <a:lnTo>
                      <a:pt x="1091" y="500"/>
                    </a:lnTo>
                    <a:lnTo>
                      <a:pt x="1091" y="477"/>
                    </a:lnTo>
                    <a:lnTo>
                      <a:pt x="1070" y="466"/>
                    </a:lnTo>
                    <a:lnTo>
                      <a:pt x="1053" y="477"/>
                    </a:lnTo>
                    <a:lnTo>
                      <a:pt x="1053" y="500"/>
                    </a:lnTo>
                    <a:lnTo>
                      <a:pt x="1070" y="5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6531120" y="562860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657504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661752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666000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6447600" y="56286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648864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632052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636300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6405480" y="562860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94072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983200" y="56286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602424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606636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6108840" y="562860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6151320" y="562860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553080" y="5589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595560" y="558972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639120" y="5589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383520" y="558972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427440" y="55897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0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469920" y="55897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510600" y="5589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215760" y="5589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257880" y="558972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300360" y="55897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1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341040" y="558972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5961240" y="558972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003360" y="55897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044400" y="558972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088320" y="558972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6130800" y="5589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6173280" y="5589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1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6320520" y="55526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6363000" y="55526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5940720" y="55526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5983200" y="55526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6024240" y="55526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6066360" y="55526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6108840" y="555264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6151320" y="55526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6193440" y="555264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6235920" y="555264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6405480" y="555264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6447600" y="555264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6488640" y="55526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6531120" y="555264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6341040" y="536364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6341040" y="528912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6363000" y="54025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6363000" y="5326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6363000" y="52506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6300360" y="543960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6320520" y="547848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961240" y="551376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6003360" y="551376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6044400" y="551376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6088320" y="551376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6130800" y="551376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6173280" y="551376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6215760" y="551376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6257880" y="5513760"/>
                <a:ext cx="32400" cy="385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6215760" y="54396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257880" y="5439600"/>
                <a:ext cx="3240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940720" y="547848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983200" y="547848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6024240" y="547848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066360" y="547848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6108840" y="5478480"/>
                <a:ext cx="3240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6151320" y="547848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961240" y="543960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003360" y="543960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044400" y="543960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088320" y="543960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130800" y="54396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173280" y="54396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193440" y="5478480"/>
                <a:ext cx="3276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235920" y="5478480"/>
                <a:ext cx="3276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300360" y="551376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300360" y="52891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320520" y="52506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320520" y="5326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215760" y="5363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257880" y="5363640"/>
                <a:ext cx="3240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940720" y="54025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5983200" y="540252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024240" y="54025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066360" y="54025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108840" y="540252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151320" y="54025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193440" y="540252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961240" y="536364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003360" y="536364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044400" y="536364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088320" y="536364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130800" y="5363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6173280" y="5363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6235920" y="540252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215760" y="52891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257880" y="5289120"/>
                <a:ext cx="32400" cy="370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5940720" y="5326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983200" y="532656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024240" y="5326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066360" y="5326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108840" y="5326560"/>
                <a:ext cx="3240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151320" y="5326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193440" y="532656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130800" y="52135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151320" y="52506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61240" y="528912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2591" name=""/>
            <p:cNvGrpSpPr/>
            <p:nvPr/>
          </p:nvGrpSpPr>
          <p:grpSpPr>
            <a:xfrm>
              <a:off x="2164680" y="5102280"/>
              <a:ext cx="4831200" cy="932040"/>
              <a:chOff x="2164680" y="5102280"/>
              <a:chExt cx="4831200" cy="932040"/>
            </a:xfrm>
          </p:grpSpPr>
          <p:sp>
            <p:nvSpPr>
              <p:cNvPr id="2592" name=""/>
              <p:cNvSpPr/>
              <p:nvPr/>
            </p:nvSpPr>
            <p:spPr>
              <a:xfrm>
                <a:off x="6004440" y="528912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044400" y="528912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088320" y="52891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044400" y="521352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088320" y="52135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5940720" y="525060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5983560" y="525060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023520" y="525060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5961600" y="521352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004440" y="521352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066360" y="525060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109200" y="525060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131160" y="5289120"/>
                <a:ext cx="30240" cy="36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72560" y="528912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235920" y="532620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300720" y="5363640"/>
                <a:ext cx="28800" cy="39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320160" y="54032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340680" y="55144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340680" y="544032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6362640" y="5478480"/>
                <a:ext cx="316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383520" y="5514480"/>
                <a:ext cx="3276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6575400" y="55526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6617880" y="5552640"/>
                <a:ext cx="30240" cy="370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659640" y="55526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6702120" y="562824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744960" y="56282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6553080" y="5665680"/>
                <a:ext cx="3132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6595920" y="5665680"/>
                <a:ext cx="3276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640200" y="5665680"/>
                <a:ext cx="3024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6680160" y="5665680"/>
                <a:ext cx="3276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6722640" y="5665680"/>
                <a:ext cx="3312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766920" y="566568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6320160" y="5701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6362640" y="570168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05480" y="57016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6448320" y="570168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19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88280" y="5701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5940720" y="5701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5983560" y="570168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023520" y="5701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6066360" y="570168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109200" y="57016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152040" y="570168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6300720" y="566568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340680" y="5665680"/>
                <a:ext cx="3132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6383520" y="5665680"/>
                <a:ext cx="3276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427800" y="5665680"/>
                <a:ext cx="30240" cy="3564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20" y="46"/>
                    </a:moveTo>
                    <a:lnTo>
                      <a:pt x="37" y="35"/>
                    </a:lnTo>
                    <a:lnTo>
                      <a:pt x="37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5961600" y="5665680"/>
                <a:ext cx="3312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6004440" y="566568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044400" y="5665680"/>
                <a:ext cx="33120" cy="35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6088320" y="5665680"/>
                <a:ext cx="3132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131160" y="5665680"/>
                <a:ext cx="3024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6470280" y="566568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6510240" y="5665680"/>
                <a:ext cx="316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531120" y="57016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6575400" y="5701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617880" y="5701680"/>
                <a:ext cx="3024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6659640" y="5701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4"/>
                    </a:lnTo>
                    <a:lnTo>
                      <a:pt x="22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6702120" y="570168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44960" y="570168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6722640" y="5514480"/>
                <a:ext cx="33120" cy="381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744960" y="555264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6766920" y="5514480"/>
                <a:ext cx="28800" cy="3816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6680160" y="5590080"/>
                <a:ext cx="3276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702120" y="555264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6722640" y="559008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766920" y="55900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6415200" y="5249520"/>
                <a:ext cx="333360" cy="25380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6415200" y="5249520"/>
                <a:ext cx="333360" cy="25380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438600" y="5275800"/>
                <a:ext cx="286560" cy="20268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6438600" y="5275800"/>
                <a:ext cx="286560" cy="20268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496560" y="5319000"/>
                <a:ext cx="171000" cy="116280"/>
              </a:xfrm>
              <a:custGeom>
                <a:avLst/>
                <a:gdLst/>
                <a:ahLst/>
                <a:rect l="l" t="t" r="r" b="b"/>
                <a:pathLst>
                  <a:path w="218" h="144">
                    <a:moveTo>
                      <a:pt x="20" y="68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0" y="68"/>
                    </a:lnTo>
                    <a:close/>
                    <a:moveTo>
                      <a:pt x="118" y="144"/>
                    </a:moveTo>
                    <a:lnTo>
                      <a:pt x="118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18" y="144"/>
                    </a:lnTo>
                    <a:close/>
                    <a:moveTo>
                      <a:pt x="218" y="68"/>
                    </a:moveTo>
                    <a:lnTo>
                      <a:pt x="218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8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6728400" y="5292720"/>
                <a:ext cx="113040" cy="20664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6728400" y="5264280"/>
                <a:ext cx="28800" cy="264960"/>
              </a:xfrm>
              <a:prstGeom prst="rect">
                <a:avLst/>
              </a:prstGeom>
              <a:solidFill>
                <a:srgbClr val="af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757560" y="5264280"/>
                <a:ext cx="30240" cy="264960"/>
              </a:xfrm>
              <a:prstGeom prst="rect">
                <a:avLst/>
              </a:prstGeom>
              <a:solidFill>
                <a:srgbClr val="b6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6787800" y="5264280"/>
                <a:ext cx="27360" cy="264960"/>
              </a:xfrm>
              <a:prstGeom prst="rect">
                <a:avLst/>
              </a:prstGeom>
              <a:solidFill>
                <a:srgbClr val="b35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6815160" y="5264280"/>
                <a:ext cx="25920" cy="264960"/>
              </a:xfrm>
              <a:prstGeom prst="rect">
                <a:avLst/>
              </a:prstGeom>
              <a:solidFill>
                <a:srgbClr val="b1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6841440" y="5264280"/>
                <a:ext cx="28440" cy="264960"/>
              </a:xfrm>
              <a:prstGeom prst="rect">
                <a:avLst/>
              </a:prstGeom>
              <a:solidFill>
                <a:srgbClr val="ae4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6748920" y="5270400"/>
                <a:ext cx="110160" cy="225360"/>
              </a:xfrm>
              <a:custGeom>
                <a:avLst/>
                <a:gdLst/>
                <a:ahLst/>
                <a:rect l="l" t="t" r="r" b="b"/>
                <a:pathLst>
                  <a:path w="141" h="280">
                    <a:moveTo>
                      <a:pt x="0" y="261"/>
                    </a:moveTo>
                    <a:lnTo>
                      <a:pt x="0" y="265"/>
                    </a:lnTo>
                    <a:lnTo>
                      <a:pt x="2" y="268"/>
                    </a:lnTo>
                    <a:lnTo>
                      <a:pt x="3" y="272"/>
                    </a:lnTo>
                    <a:lnTo>
                      <a:pt x="5" y="275"/>
                    </a:lnTo>
                    <a:lnTo>
                      <a:pt x="9" y="276"/>
                    </a:lnTo>
                    <a:lnTo>
                      <a:pt x="13" y="279"/>
                    </a:lnTo>
                    <a:lnTo>
                      <a:pt x="17" y="279"/>
                    </a:lnTo>
                    <a:lnTo>
                      <a:pt x="20" y="280"/>
                    </a:lnTo>
                    <a:lnTo>
                      <a:pt x="27" y="280"/>
                    </a:lnTo>
                    <a:lnTo>
                      <a:pt x="116" y="270"/>
                    </a:lnTo>
                    <a:lnTo>
                      <a:pt x="121" y="268"/>
                    </a:lnTo>
                    <a:lnTo>
                      <a:pt x="126" y="267"/>
                    </a:lnTo>
                    <a:lnTo>
                      <a:pt x="129" y="265"/>
                    </a:lnTo>
                    <a:lnTo>
                      <a:pt x="133" y="261"/>
                    </a:lnTo>
                    <a:lnTo>
                      <a:pt x="136" y="257"/>
                    </a:lnTo>
                    <a:lnTo>
                      <a:pt x="138" y="252"/>
                    </a:lnTo>
                    <a:lnTo>
                      <a:pt x="139" y="248"/>
                    </a:lnTo>
                    <a:lnTo>
                      <a:pt x="141" y="243"/>
                    </a:lnTo>
                    <a:lnTo>
                      <a:pt x="141" y="243"/>
                    </a:lnTo>
                    <a:lnTo>
                      <a:pt x="141" y="35"/>
                    </a:lnTo>
                    <a:lnTo>
                      <a:pt x="139" y="31"/>
                    </a:lnTo>
                    <a:lnTo>
                      <a:pt x="138" y="26"/>
                    </a:lnTo>
                    <a:lnTo>
                      <a:pt x="136" y="21"/>
                    </a:lnTo>
                    <a:lnTo>
                      <a:pt x="133" y="17"/>
                    </a:lnTo>
                    <a:lnTo>
                      <a:pt x="128" y="15"/>
                    </a:lnTo>
                    <a:lnTo>
                      <a:pt x="124" y="11"/>
                    </a:lnTo>
                    <a:lnTo>
                      <a:pt x="119" y="10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2570040" y="5196240"/>
                <a:ext cx="2111400" cy="700560"/>
              </a:xfrm>
              <a:custGeom>
                <a:avLst/>
                <a:gdLst/>
                <a:ahLst/>
                <a:rect l="l" t="t" r="r" b="b"/>
                <a:pathLst>
                  <a:path w="2690" h="869">
                    <a:moveTo>
                      <a:pt x="1379" y="632"/>
                    </a:moveTo>
                    <a:lnTo>
                      <a:pt x="0" y="632"/>
                    </a:lnTo>
                    <a:lnTo>
                      <a:pt x="0" y="812"/>
                    </a:lnTo>
                    <a:lnTo>
                      <a:pt x="1379" y="812"/>
                    </a:lnTo>
                    <a:lnTo>
                      <a:pt x="1379" y="632"/>
                    </a:lnTo>
                    <a:close/>
                    <a:moveTo>
                      <a:pt x="1379" y="325"/>
                    </a:moveTo>
                    <a:lnTo>
                      <a:pt x="0" y="325"/>
                    </a:lnTo>
                    <a:lnTo>
                      <a:pt x="0" y="507"/>
                    </a:lnTo>
                    <a:lnTo>
                      <a:pt x="1379" y="507"/>
                    </a:lnTo>
                    <a:lnTo>
                      <a:pt x="1379" y="325"/>
                    </a:lnTo>
                    <a:close/>
                    <a:moveTo>
                      <a:pt x="1379" y="19"/>
                    </a:moveTo>
                    <a:lnTo>
                      <a:pt x="0" y="19"/>
                    </a:lnTo>
                    <a:lnTo>
                      <a:pt x="0" y="201"/>
                    </a:lnTo>
                    <a:lnTo>
                      <a:pt x="1379" y="201"/>
                    </a:lnTo>
                    <a:lnTo>
                      <a:pt x="1379" y="19"/>
                    </a:lnTo>
                    <a:close/>
                    <a:moveTo>
                      <a:pt x="1695" y="0"/>
                    </a:moveTo>
                    <a:lnTo>
                      <a:pt x="1695" y="869"/>
                    </a:lnTo>
                    <a:lnTo>
                      <a:pt x="1868" y="869"/>
                    </a:lnTo>
                    <a:lnTo>
                      <a:pt x="1868" y="0"/>
                    </a:lnTo>
                    <a:lnTo>
                      <a:pt x="1695" y="0"/>
                    </a:lnTo>
                    <a:close/>
                    <a:moveTo>
                      <a:pt x="2517" y="0"/>
                    </a:moveTo>
                    <a:lnTo>
                      <a:pt x="2517" y="869"/>
                    </a:lnTo>
                    <a:lnTo>
                      <a:pt x="2690" y="869"/>
                    </a:lnTo>
                    <a:lnTo>
                      <a:pt x="2690" y="0"/>
                    </a:lnTo>
                    <a:lnTo>
                      <a:pt x="251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2570040" y="5705280"/>
                <a:ext cx="1082160" cy="1472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2570040" y="5457600"/>
                <a:ext cx="1082160" cy="1472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2570040" y="5209920"/>
                <a:ext cx="1082160" cy="1472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3900960" y="5196240"/>
                <a:ext cx="136440" cy="700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4546440" y="5196240"/>
                <a:ext cx="135000" cy="700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2617200" y="5230800"/>
                <a:ext cx="2020320" cy="628920"/>
              </a:xfrm>
              <a:custGeom>
                <a:avLst/>
                <a:gdLst/>
                <a:ahLst/>
                <a:rect l="l" t="t" r="r" b="b"/>
                <a:pathLst>
                  <a:path w="2573" h="779">
                    <a:moveTo>
                      <a:pt x="1139" y="36"/>
                    </a:moveTo>
                    <a:lnTo>
                      <a:pt x="123" y="36"/>
                    </a:lnTo>
                    <a:lnTo>
                      <a:pt x="110" y="36"/>
                    </a:lnTo>
                    <a:lnTo>
                      <a:pt x="98" y="36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6" y="39"/>
                    </a:lnTo>
                    <a:lnTo>
                      <a:pt x="27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6" y="88"/>
                    </a:lnTo>
                    <a:lnTo>
                      <a:pt x="10" y="89"/>
                    </a:lnTo>
                    <a:lnTo>
                      <a:pt x="15" y="90"/>
                    </a:lnTo>
                    <a:lnTo>
                      <a:pt x="21" y="90"/>
                    </a:lnTo>
                    <a:lnTo>
                      <a:pt x="27" y="92"/>
                    </a:lnTo>
                    <a:lnTo>
                      <a:pt x="36" y="92"/>
                    </a:lnTo>
                    <a:lnTo>
                      <a:pt x="45" y="93"/>
                    </a:lnTo>
                    <a:lnTo>
                      <a:pt x="54" y="93"/>
                    </a:lnTo>
                    <a:lnTo>
                      <a:pt x="64" y="94"/>
                    </a:lnTo>
                    <a:lnTo>
                      <a:pt x="75" y="94"/>
                    </a:lnTo>
                    <a:lnTo>
                      <a:pt x="86" y="94"/>
                    </a:lnTo>
                    <a:lnTo>
                      <a:pt x="98" y="94"/>
                    </a:lnTo>
                    <a:lnTo>
                      <a:pt x="110" y="94"/>
                    </a:lnTo>
                    <a:lnTo>
                      <a:pt x="123" y="96"/>
                    </a:lnTo>
                    <a:lnTo>
                      <a:pt x="123" y="96"/>
                    </a:lnTo>
                    <a:lnTo>
                      <a:pt x="1139" y="96"/>
                    </a:lnTo>
                    <a:lnTo>
                      <a:pt x="1151" y="94"/>
                    </a:lnTo>
                    <a:lnTo>
                      <a:pt x="1164" y="94"/>
                    </a:lnTo>
                    <a:lnTo>
                      <a:pt x="1175" y="94"/>
                    </a:lnTo>
                    <a:lnTo>
                      <a:pt x="1186" y="94"/>
                    </a:lnTo>
                    <a:lnTo>
                      <a:pt x="1198" y="94"/>
                    </a:lnTo>
                    <a:lnTo>
                      <a:pt x="1208" y="93"/>
                    </a:lnTo>
                    <a:lnTo>
                      <a:pt x="1216" y="93"/>
                    </a:lnTo>
                    <a:lnTo>
                      <a:pt x="1225" y="92"/>
                    </a:lnTo>
                    <a:lnTo>
                      <a:pt x="1233" y="92"/>
                    </a:lnTo>
                    <a:lnTo>
                      <a:pt x="1240" y="90"/>
                    </a:lnTo>
                    <a:lnTo>
                      <a:pt x="1246" y="90"/>
                    </a:lnTo>
                    <a:lnTo>
                      <a:pt x="1251" y="89"/>
                    </a:lnTo>
                    <a:lnTo>
                      <a:pt x="1255" y="88"/>
                    </a:lnTo>
                    <a:lnTo>
                      <a:pt x="1259" y="88"/>
                    </a:lnTo>
                    <a:lnTo>
                      <a:pt x="1260" y="87"/>
                    </a:lnTo>
                    <a:lnTo>
                      <a:pt x="1260" y="87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45"/>
                    </a:lnTo>
                    <a:lnTo>
                      <a:pt x="1260" y="44"/>
                    </a:lnTo>
                    <a:lnTo>
                      <a:pt x="1260" y="44"/>
                    </a:lnTo>
                    <a:lnTo>
                      <a:pt x="1259" y="43"/>
                    </a:lnTo>
                    <a:lnTo>
                      <a:pt x="1255" y="43"/>
                    </a:lnTo>
                    <a:lnTo>
                      <a:pt x="1251" y="41"/>
                    </a:lnTo>
                    <a:lnTo>
                      <a:pt x="1246" y="41"/>
                    </a:lnTo>
                    <a:lnTo>
                      <a:pt x="1240" y="40"/>
                    </a:lnTo>
                    <a:lnTo>
                      <a:pt x="1233" y="39"/>
                    </a:lnTo>
                    <a:lnTo>
                      <a:pt x="1225" y="39"/>
                    </a:lnTo>
                    <a:lnTo>
                      <a:pt x="1216" y="37"/>
                    </a:lnTo>
                    <a:lnTo>
                      <a:pt x="1208" y="37"/>
                    </a:lnTo>
                    <a:lnTo>
                      <a:pt x="1198" y="37"/>
                    </a:lnTo>
                    <a:lnTo>
                      <a:pt x="1186" y="36"/>
                    </a:lnTo>
                    <a:lnTo>
                      <a:pt x="1175" y="36"/>
                    </a:lnTo>
                    <a:lnTo>
                      <a:pt x="1164" y="36"/>
                    </a:lnTo>
                    <a:lnTo>
                      <a:pt x="1151" y="36"/>
                    </a:lnTo>
                    <a:lnTo>
                      <a:pt x="1139" y="36"/>
                    </a:lnTo>
                    <a:lnTo>
                      <a:pt x="1139" y="36"/>
                    </a:lnTo>
                    <a:close/>
                    <a:moveTo>
                      <a:pt x="1139" y="340"/>
                    </a:moveTo>
                    <a:lnTo>
                      <a:pt x="123" y="340"/>
                    </a:lnTo>
                    <a:lnTo>
                      <a:pt x="110" y="340"/>
                    </a:lnTo>
                    <a:lnTo>
                      <a:pt x="98" y="342"/>
                    </a:lnTo>
                    <a:lnTo>
                      <a:pt x="86" y="342"/>
                    </a:lnTo>
                    <a:lnTo>
                      <a:pt x="75" y="342"/>
                    </a:lnTo>
                    <a:lnTo>
                      <a:pt x="64" y="342"/>
                    </a:lnTo>
                    <a:lnTo>
                      <a:pt x="54" y="343"/>
                    </a:lnTo>
                    <a:lnTo>
                      <a:pt x="45" y="343"/>
                    </a:lnTo>
                    <a:lnTo>
                      <a:pt x="36" y="344"/>
                    </a:lnTo>
                    <a:lnTo>
                      <a:pt x="27" y="344"/>
                    </a:lnTo>
                    <a:lnTo>
                      <a:pt x="21" y="346"/>
                    </a:lnTo>
                    <a:lnTo>
                      <a:pt x="15" y="346"/>
                    </a:lnTo>
                    <a:lnTo>
                      <a:pt x="10" y="347"/>
                    </a:lnTo>
                    <a:lnTo>
                      <a:pt x="6" y="348"/>
                    </a:lnTo>
                    <a:lnTo>
                      <a:pt x="2" y="348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1" y="392"/>
                    </a:lnTo>
                    <a:lnTo>
                      <a:pt x="2" y="392"/>
                    </a:lnTo>
                    <a:lnTo>
                      <a:pt x="6" y="393"/>
                    </a:lnTo>
                    <a:lnTo>
                      <a:pt x="10" y="395"/>
                    </a:lnTo>
                    <a:lnTo>
                      <a:pt x="15" y="395"/>
                    </a:lnTo>
                    <a:lnTo>
                      <a:pt x="21" y="396"/>
                    </a:lnTo>
                    <a:lnTo>
                      <a:pt x="27" y="397"/>
                    </a:lnTo>
                    <a:lnTo>
                      <a:pt x="36" y="397"/>
                    </a:lnTo>
                    <a:lnTo>
                      <a:pt x="45" y="399"/>
                    </a:lnTo>
                    <a:lnTo>
                      <a:pt x="54" y="399"/>
                    </a:lnTo>
                    <a:lnTo>
                      <a:pt x="64" y="399"/>
                    </a:lnTo>
                    <a:lnTo>
                      <a:pt x="75" y="400"/>
                    </a:lnTo>
                    <a:lnTo>
                      <a:pt x="86" y="400"/>
                    </a:lnTo>
                    <a:lnTo>
                      <a:pt x="98" y="400"/>
                    </a:lnTo>
                    <a:lnTo>
                      <a:pt x="110" y="400"/>
                    </a:lnTo>
                    <a:lnTo>
                      <a:pt x="123" y="400"/>
                    </a:lnTo>
                    <a:lnTo>
                      <a:pt x="123" y="400"/>
                    </a:lnTo>
                    <a:lnTo>
                      <a:pt x="1139" y="400"/>
                    </a:lnTo>
                    <a:lnTo>
                      <a:pt x="1151" y="400"/>
                    </a:lnTo>
                    <a:lnTo>
                      <a:pt x="1164" y="400"/>
                    </a:lnTo>
                    <a:lnTo>
                      <a:pt x="1175" y="400"/>
                    </a:lnTo>
                    <a:lnTo>
                      <a:pt x="1186" y="400"/>
                    </a:lnTo>
                    <a:lnTo>
                      <a:pt x="1198" y="399"/>
                    </a:lnTo>
                    <a:lnTo>
                      <a:pt x="1208" y="399"/>
                    </a:lnTo>
                    <a:lnTo>
                      <a:pt x="1216" y="399"/>
                    </a:lnTo>
                    <a:lnTo>
                      <a:pt x="1225" y="397"/>
                    </a:lnTo>
                    <a:lnTo>
                      <a:pt x="1233" y="397"/>
                    </a:lnTo>
                    <a:lnTo>
                      <a:pt x="1240" y="396"/>
                    </a:lnTo>
                    <a:lnTo>
                      <a:pt x="1246" y="395"/>
                    </a:lnTo>
                    <a:lnTo>
                      <a:pt x="1251" y="395"/>
                    </a:lnTo>
                    <a:lnTo>
                      <a:pt x="1255" y="393"/>
                    </a:lnTo>
                    <a:lnTo>
                      <a:pt x="1259" y="392"/>
                    </a:lnTo>
                    <a:lnTo>
                      <a:pt x="1260" y="392"/>
                    </a:lnTo>
                    <a:lnTo>
                      <a:pt x="1260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51"/>
                    </a:lnTo>
                    <a:lnTo>
                      <a:pt x="1260" y="349"/>
                    </a:lnTo>
                    <a:lnTo>
                      <a:pt x="1260" y="349"/>
                    </a:lnTo>
                    <a:lnTo>
                      <a:pt x="1259" y="348"/>
                    </a:lnTo>
                    <a:lnTo>
                      <a:pt x="1255" y="348"/>
                    </a:lnTo>
                    <a:lnTo>
                      <a:pt x="1251" y="347"/>
                    </a:lnTo>
                    <a:lnTo>
                      <a:pt x="1246" y="346"/>
                    </a:lnTo>
                    <a:lnTo>
                      <a:pt x="1240" y="346"/>
                    </a:lnTo>
                    <a:lnTo>
                      <a:pt x="1233" y="344"/>
                    </a:lnTo>
                    <a:lnTo>
                      <a:pt x="1225" y="344"/>
                    </a:lnTo>
                    <a:lnTo>
                      <a:pt x="1216" y="343"/>
                    </a:lnTo>
                    <a:lnTo>
                      <a:pt x="1208" y="343"/>
                    </a:lnTo>
                    <a:lnTo>
                      <a:pt x="1198" y="342"/>
                    </a:lnTo>
                    <a:lnTo>
                      <a:pt x="1186" y="342"/>
                    </a:lnTo>
                    <a:lnTo>
                      <a:pt x="1175" y="342"/>
                    </a:lnTo>
                    <a:lnTo>
                      <a:pt x="1164" y="342"/>
                    </a:lnTo>
                    <a:lnTo>
                      <a:pt x="1151" y="340"/>
                    </a:lnTo>
                    <a:lnTo>
                      <a:pt x="1139" y="340"/>
                    </a:lnTo>
                    <a:lnTo>
                      <a:pt x="1139" y="340"/>
                    </a:lnTo>
                    <a:close/>
                    <a:moveTo>
                      <a:pt x="1139" y="646"/>
                    </a:moveTo>
                    <a:lnTo>
                      <a:pt x="123" y="646"/>
                    </a:lnTo>
                    <a:lnTo>
                      <a:pt x="110" y="646"/>
                    </a:lnTo>
                    <a:lnTo>
                      <a:pt x="98" y="646"/>
                    </a:lnTo>
                    <a:lnTo>
                      <a:pt x="86" y="647"/>
                    </a:lnTo>
                    <a:lnTo>
                      <a:pt x="75" y="647"/>
                    </a:lnTo>
                    <a:lnTo>
                      <a:pt x="64" y="647"/>
                    </a:lnTo>
                    <a:lnTo>
                      <a:pt x="54" y="649"/>
                    </a:lnTo>
                    <a:lnTo>
                      <a:pt x="45" y="649"/>
                    </a:lnTo>
                    <a:lnTo>
                      <a:pt x="36" y="650"/>
                    </a:lnTo>
                    <a:lnTo>
                      <a:pt x="27" y="650"/>
                    </a:lnTo>
                    <a:lnTo>
                      <a:pt x="21" y="651"/>
                    </a:lnTo>
                    <a:lnTo>
                      <a:pt x="15" y="651"/>
                    </a:lnTo>
                    <a:lnTo>
                      <a:pt x="10" y="652"/>
                    </a:lnTo>
                    <a:lnTo>
                      <a:pt x="6" y="654"/>
                    </a:lnTo>
                    <a:lnTo>
                      <a:pt x="2" y="654"/>
                    </a:lnTo>
                    <a:lnTo>
                      <a:pt x="1" y="655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6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1" y="698"/>
                    </a:lnTo>
                    <a:lnTo>
                      <a:pt x="2" y="698"/>
                    </a:lnTo>
                    <a:lnTo>
                      <a:pt x="6" y="699"/>
                    </a:lnTo>
                    <a:lnTo>
                      <a:pt x="10" y="700"/>
                    </a:lnTo>
                    <a:lnTo>
                      <a:pt x="15" y="700"/>
                    </a:lnTo>
                    <a:lnTo>
                      <a:pt x="21" y="702"/>
                    </a:lnTo>
                    <a:lnTo>
                      <a:pt x="27" y="702"/>
                    </a:lnTo>
                    <a:lnTo>
                      <a:pt x="36" y="703"/>
                    </a:lnTo>
                    <a:lnTo>
                      <a:pt x="45" y="703"/>
                    </a:lnTo>
                    <a:lnTo>
                      <a:pt x="54" y="704"/>
                    </a:lnTo>
                    <a:lnTo>
                      <a:pt x="64" y="704"/>
                    </a:lnTo>
                    <a:lnTo>
                      <a:pt x="75" y="705"/>
                    </a:lnTo>
                    <a:lnTo>
                      <a:pt x="86" y="705"/>
                    </a:lnTo>
                    <a:lnTo>
                      <a:pt x="98" y="705"/>
                    </a:lnTo>
                    <a:lnTo>
                      <a:pt x="110" y="705"/>
                    </a:lnTo>
                    <a:lnTo>
                      <a:pt x="123" y="705"/>
                    </a:lnTo>
                    <a:lnTo>
                      <a:pt x="123" y="705"/>
                    </a:lnTo>
                    <a:lnTo>
                      <a:pt x="1139" y="705"/>
                    </a:lnTo>
                    <a:lnTo>
                      <a:pt x="1151" y="705"/>
                    </a:lnTo>
                    <a:lnTo>
                      <a:pt x="1164" y="705"/>
                    </a:lnTo>
                    <a:lnTo>
                      <a:pt x="1175" y="705"/>
                    </a:lnTo>
                    <a:lnTo>
                      <a:pt x="1186" y="705"/>
                    </a:lnTo>
                    <a:lnTo>
                      <a:pt x="1198" y="704"/>
                    </a:lnTo>
                    <a:lnTo>
                      <a:pt x="1208" y="704"/>
                    </a:lnTo>
                    <a:lnTo>
                      <a:pt x="1216" y="703"/>
                    </a:lnTo>
                    <a:lnTo>
                      <a:pt x="1225" y="703"/>
                    </a:lnTo>
                    <a:lnTo>
                      <a:pt x="1233" y="702"/>
                    </a:lnTo>
                    <a:lnTo>
                      <a:pt x="1240" y="702"/>
                    </a:lnTo>
                    <a:lnTo>
                      <a:pt x="1246" y="700"/>
                    </a:lnTo>
                    <a:lnTo>
                      <a:pt x="1251" y="700"/>
                    </a:lnTo>
                    <a:lnTo>
                      <a:pt x="1255" y="699"/>
                    </a:lnTo>
                    <a:lnTo>
                      <a:pt x="1259" y="698"/>
                    </a:lnTo>
                    <a:lnTo>
                      <a:pt x="1260" y="698"/>
                    </a:lnTo>
                    <a:lnTo>
                      <a:pt x="1260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56"/>
                    </a:lnTo>
                    <a:lnTo>
                      <a:pt x="1260" y="655"/>
                    </a:lnTo>
                    <a:lnTo>
                      <a:pt x="1260" y="655"/>
                    </a:lnTo>
                    <a:lnTo>
                      <a:pt x="1259" y="654"/>
                    </a:lnTo>
                    <a:lnTo>
                      <a:pt x="1255" y="654"/>
                    </a:lnTo>
                    <a:lnTo>
                      <a:pt x="1251" y="652"/>
                    </a:lnTo>
                    <a:lnTo>
                      <a:pt x="1246" y="651"/>
                    </a:lnTo>
                    <a:lnTo>
                      <a:pt x="1240" y="651"/>
                    </a:lnTo>
                    <a:lnTo>
                      <a:pt x="1233" y="650"/>
                    </a:lnTo>
                    <a:lnTo>
                      <a:pt x="1225" y="650"/>
                    </a:lnTo>
                    <a:lnTo>
                      <a:pt x="1216" y="649"/>
                    </a:lnTo>
                    <a:lnTo>
                      <a:pt x="1208" y="649"/>
                    </a:lnTo>
                    <a:lnTo>
                      <a:pt x="1198" y="647"/>
                    </a:lnTo>
                    <a:lnTo>
                      <a:pt x="1186" y="647"/>
                    </a:lnTo>
                    <a:lnTo>
                      <a:pt x="1175" y="647"/>
                    </a:lnTo>
                    <a:lnTo>
                      <a:pt x="1164" y="646"/>
                    </a:lnTo>
                    <a:lnTo>
                      <a:pt x="1151" y="646"/>
                    </a:lnTo>
                    <a:lnTo>
                      <a:pt x="1139" y="646"/>
                    </a:lnTo>
                    <a:lnTo>
                      <a:pt x="1139" y="646"/>
                    </a:lnTo>
                    <a:close/>
                    <a:moveTo>
                      <a:pt x="1753" y="703"/>
                    </a:moveTo>
                    <a:lnTo>
                      <a:pt x="1753" y="74"/>
                    </a:lnTo>
                    <a:lnTo>
                      <a:pt x="1751" y="59"/>
                    </a:lnTo>
                    <a:lnTo>
                      <a:pt x="1751" y="53"/>
                    </a:lnTo>
                    <a:lnTo>
                      <a:pt x="1751" y="45"/>
                    </a:lnTo>
                    <a:lnTo>
                      <a:pt x="1751" y="39"/>
                    </a:lnTo>
                    <a:lnTo>
                      <a:pt x="1750" y="32"/>
                    </a:lnTo>
                    <a:lnTo>
                      <a:pt x="1750" y="27"/>
                    </a:lnTo>
                    <a:lnTo>
                      <a:pt x="1749" y="21"/>
                    </a:lnTo>
                    <a:lnTo>
                      <a:pt x="1749" y="16"/>
                    </a:lnTo>
                    <a:lnTo>
                      <a:pt x="1748" y="12"/>
                    </a:lnTo>
                    <a:lnTo>
                      <a:pt x="1748" y="8"/>
                    </a:lnTo>
                    <a:lnTo>
                      <a:pt x="1746" y="5"/>
                    </a:lnTo>
                    <a:lnTo>
                      <a:pt x="1745" y="2"/>
                    </a:lnTo>
                    <a:lnTo>
                      <a:pt x="1745" y="1"/>
                    </a:lnTo>
                    <a:lnTo>
                      <a:pt x="1744" y="0"/>
                    </a:lnTo>
                    <a:lnTo>
                      <a:pt x="1743" y="0"/>
                    </a:lnTo>
                    <a:lnTo>
                      <a:pt x="1705" y="0"/>
                    </a:lnTo>
                    <a:lnTo>
                      <a:pt x="1704" y="0"/>
                    </a:lnTo>
                    <a:lnTo>
                      <a:pt x="1703" y="1"/>
                    </a:lnTo>
                    <a:lnTo>
                      <a:pt x="1703" y="2"/>
                    </a:lnTo>
                    <a:lnTo>
                      <a:pt x="1701" y="5"/>
                    </a:lnTo>
                    <a:lnTo>
                      <a:pt x="1700" y="8"/>
                    </a:lnTo>
                    <a:lnTo>
                      <a:pt x="1700" y="12"/>
                    </a:lnTo>
                    <a:lnTo>
                      <a:pt x="1699" y="16"/>
                    </a:lnTo>
                    <a:lnTo>
                      <a:pt x="1699" y="21"/>
                    </a:lnTo>
                    <a:lnTo>
                      <a:pt x="1698" y="27"/>
                    </a:lnTo>
                    <a:lnTo>
                      <a:pt x="1698" y="32"/>
                    </a:lnTo>
                    <a:lnTo>
                      <a:pt x="1696" y="39"/>
                    </a:lnTo>
                    <a:lnTo>
                      <a:pt x="1696" y="45"/>
                    </a:lnTo>
                    <a:lnTo>
                      <a:pt x="1696" y="53"/>
                    </a:lnTo>
                    <a:lnTo>
                      <a:pt x="1696" y="59"/>
                    </a:lnTo>
                    <a:lnTo>
                      <a:pt x="1695" y="74"/>
                    </a:lnTo>
                    <a:lnTo>
                      <a:pt x="1695" y="74"/>
                    </a:lnTo>
                    <a:lnTo>
                      <a:pt x="1695" y="703"/>
                    </a:lnTo>
                    <a:lnTo>
                      <a:pt x="1696" y="712"/>
                    </a:lnTo>
                    <a:lnTo>
                      <a:pt x="1696" y="719"/>
                    </a:lnTo>
                    <a:lnTo>
                      <a:pt x="1696" y="727"/>
                    </a:lnTo>
                    <a:lnTo>
                      <a:pt x="1696" y="733"/>
                    </a:lnTo>
                    <a:lnTo>
                      <a:pt x="1696" y="739"/>
                    </a:lnTo>
                    <a:lnTo>
                      <a:pt x="1698" y="746"/>
                    </a:lnTo>
                    <a:lnTo>
                      <a:pt x="1698" y="752"/>
                    </a:lnTo>
                    <a:lnTo>
                      <a:pt x="1699" y="757"/>
                    </a:lnTo>
                    <a:lnTo>
                      <a:pt x="1699" y="762"/>
                    </a:lnTo>
                    <a:lnTo>
                      <a:pt x="1700" y="766"/>
                    </a:lnTo>
                    <a:lnTo>
                      <a:pt x="1700" y="770"/>
                    </a:lnTo>
                    <a:lnTo>
                      <a:pt x="1701" y="774"/>
                    </a:lnTo>
                    <a:lnTo>
                      <a:pt x="1703" y="775"/>
                    </a:lnTo>
                    <a:lnTo>
                      <a:pt x="1703" y="777"/>
                    </a:lnTo>
                    <a:lnTo>
                      <a:pt x="1704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43" y="779"/>
                    </a:lnTo>
                    <a:lnTo>
                      <a:pt x="1744" y="779"/>
                    </a:lnTo>
                    <a:lnTo>
                      <a:pt x="1745" y="777"/>
                    </a:lnTo>
                    <a:lnTo>
                      <a:pt x="1745" y="775"/>
                    </a:lnTo>
                    <a:lnTo>
                      <a:pt x="1746" y="774"/>
                    </a:lnTo>
                    <a:lnTo>
                      <a:pt x="1748" y="770"/>
                    </a:lnTo>
                    <a:lnTo>
                      <a:pt x="1748" y="766"/>
                    </a:lnTo>
                    <a:lnTo>
                      <a:pt x="1749" y="762"/>
                    </a:lnTo>
                    <a:lnTo>
                      <a:pt x="1749" y="757"/>
                    </a:lnTo>
                    <a:lnTo>
                      <a:pt x="1750" y="752"/>
                    </a:lnTo>
                    <a:lnTo>
                      <a:pt x="1750" y="746"/>
                    </a:lnTo>
                    <a:lnTo>
                      <a:pt x="1751" y="739"/>
                    </a:lnTo>
                    <a:lnTo>
                      <a:pt x="1751" y="733"/>
                    </a:lnTo>
                    <a:lnTo>
                      <a:pt x="1751" y="727"/>
                    </a:lnTo>
                    <a:lnTo>
                      <a:pt x="1751" y="719"/>
                    </a:lnTo>
                    <a:lnTo>
                      <a:pt x="1753" y="712"/>
                    </a:lnTo>
                    <a:lnTo>
                      <a:pt x="1753" y="703"/>
                    </a:lnTo>
                    <a:lnTo>
                      <a:pt x="1753" y="703"/>
                    </a:lnTo>
                    <a:close/>
                    <a:moveTo>
                      <a:pt x="2573" y="703"/>
                    </a:moveTo>
                    <a:lnTo>
                      <a:pt x="2573" y="74"/>
                    </a:lnTo>
                    <a:lnTo>
                      <a:pt x="2573" y="59"/>
                    </a:lnTo>
                    <a:lnTo>
                      <a:pt x="2573" y="53"/>
                    </a:lnTo>
                    <a:lnTo>
                      <a:pt x="2573" y="45"/>
                    </a:lnTo>
                    <a:lnTo>
                      <a:pt x="2572" y="39"/>
                    </a:lnTo>
                    <a:lnTo>
                      <a:pt x="2572" y="32"/>
                    </a:lnTo>
                    <a:lnTo>
                      <a:pt x="2572" y="27"/>
                    </a:lnTo>
                    <a:lnTo>
                      <a:pt x="2571" y="21"/>
                    </a:lnTo>
                    <a:lnTo>
                      <a:pt x="2571" y="16"/>
                    </a:lnTo>
                    <a:lnTo>
                      <a:pt x="2570" y="12"/>
                    </a:lnTo>
                    <a:lnTo>
                      <a:pt x="2568" y="8"/>
                    </a:lnTo>
                    <a:lnTo>
                      <a:pt x="2568" y="5"/>
                    </a:lnTo>
                    <a:lnTo>
                      <a:pt x="2567" y="2"/>
                    </a:lnTo>
                    <a:lnTo>
                      <a:pt x="2567" y="1"/>
                    </a:lnTo>
                    <a:lnTo>
                      <a:pt x="2566" y="0"/>
                    </a:lnTo>
                    <a:lnTo>
                      <a:pt x="2565" y="0"/>
                    </a:lnTo>
                    <a:lnTo>
                      <a:pt x="2524" y="0"/>
                    </a:lnTo>
                    <a:lnTo>
                      <a:pt x="2523" y="0"/>
                    </a:lnTo>
                    <a:lnTo>
                      <a:pt x="2522" y="1"/>
                    </a:lnTo>
                    <a:lnTo>
                      <a:pt x="2522" y="2"/>
                    </a:lnTo>
                    <a:lnTo>
                      <a:pt x="2521" y="5"/>
                    </a:lnTo>
                    <a:lnTo>
                      <a:pt x="2521" y="8"/>
                    </a:lnTo>
                    <a:lnTo>
                      <a:pt x="2519" y="12"/>
                    </a:lnTo>
                    <a:lnTo>
                      <a:pt x="2519" y="16"/>
                    </a:lnTo>
                    <a:lnTo>
                      <a:pt x="2519" y="21"/>
                    </a:lnTo>
                    <a:lnTo>
                      <a:pt x="2518" y="27"/>
                    </a:lnTo>
                    <a:lnTo>
                      <a:pt x="2518" y="32"/>
                    </a:lnTo>
                    <a:lnTo>
                      <a:pt x="2518" y="39"/>
                    </a:lnTo>
                    <a:lnTo>
                      <a:pt x="2518" y="45"/>
                    </a:lnTo>
                    <a:lnTo>
                      <a:pt x="2517" y="53"/>
                    </a:lnTo>
                    <a:lnTo>
                      <a:pt x="2517" y="59"/>
                    </a:lnTo>
                    <a:lnTo>
                      <a:pt x="2517" y="74"/>
                    </a:lnTo>
                    <a:lnTo>
                      <a:pt x="2517" y="74"/>
                    </a:lnTo>
                    <a:lnTo>
                      <a:pt x="2517" y="703"/>
                    </a:lnTo>
                    <a:lnTo>
                      <a:pt x="2517" y="712"/>
                    </a:lnTo>
                    <a:lnTo>
                      <a:pt x="2517" y="719"/>
                    </a:lnTo>
                    <a:lnTo>
                      <a:pt x="2517" y="727"/>
                    </a:lnTo>
                    <a:lnTo>
                      <a:pt x="2518" y="733"/>
                    </a:lnTo>
                    <a:lnTo>
                      <a:pt x="2518" y="739"/>
                    </a:lnTo>
                    <a:lnTo>
                      <a:pt x="2518" y="746"/>
                    </a:lnTo>
                    <a:lnTo>
                      <a:pt x="2518" y="752"/>
                    </a:lnTo>
                    <a:lnTo>
                      <a:pt x="2519" y="757"/>
                    </a:lnTo>
                    <a:lnTo>
                      <a:pt x="2519" y="762"/>
                    </a:lnTo>
                    <a:lnTo>
                      <a:pt x="2519" y="766"/>
                    </a:lnTo>
                    <a:lnTo>
                      <a:pt x="2521" y="770"/>
                    </a:lnTo>
                    <a:lnTo>
                      <a:pt x="2521" y="774"/>
                    </a:lnTo>
                    <a:lnTo>
                      <a:pt x="2522" y="775"/>
                    </a:lnTo>
                    <a:lnTo>
                      <a:pt x="2522" y="777"/>
                    </a:lnTo>
                    <a:lnTo>
                      <a:pt x="2523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65" y="779"/>
                    </a:lnTo>
                    <a:lnTo>
                      <a:pt x="2566" y="779"/>
                    </a:lnTo>
                    <a:lnTo>
                      <a:pt x="2567" y="777"/>
                    </a:lnTo>
                    <a:lnTo>
                      <a:pt x="2567" y="775"/>
                    </a:lnTo>
                    <a:lnTo>
                      <a:pt x="2568" y="774"/>
                    </a:lnTo>
                    <a:lnTo>
                      <a:pt x="2568" y="770"/>
                    </a:lnTo>
                    <a:lnTo>
                      <a:pt x="2570" y="766"/>
                    </a:lnTo>
                    <a:lnTo>
                      <a:pt x="2571" y="762"/>
                    </a:lnTo>
                    <a:lnTo>
                      <a:pt x="2571" y="757"/>
                    </a:lnTo>
                    <a:lnTo>
                      <a:pt x="2572" y="752"/>
                    </a:lnTo>
                    <a:lnTo>
                      <a:pt x="2572" y="746"/>
                    </a:lnTo>
                    <a:lnTo>
                      <a:pt x="2572" y="739"/>
                    </a:lnTo>
                    <a:lnTo>
                      <a:pt x="2573" y="733"/>
                    </a:lnTo>
                    <a:lnTo>
                      <a:pt x="2573" y="727"/>
                    </a:lnTo>
                    <a:lnTo>
                      <a:pt x="2573" y="719"/>
                    </a:lnTo>
                    <a:lnTo>
                      <a:pt x="2573" y="712"/>
                    </a:lnTo>
                    <a:lnTo>
                      <a:pt x="2573" y="703"/>
                    </a:lnTo>
                    <a:lnTo>
                      <a:pt x="2573" y="70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2617200" y="5260680"/>
                <a:ext cx="990000" cy="4824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5" y="0"/>
                    </a:lnTo>
                    <a:lnTo>
                      <a:pt x="64" y="1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6" y="3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6" y="52"/>
                    </a:lnTo>
                    <a:lnTo>
                      <a:pt x="10" y="53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7" y="56"/>
                    </a:lnTo>
                    <a:lnTo>
                      <a:pt x="36" y="56"/>
                    </a:lnTo>
                    <a:lnTo>
                      <a:pt x="45" y="57"/>
                    </a:lnTo>
                    <a:lnTo>
                      <a:pt x="54" y="57"/>
                    </a:lnTo>
                    <a:lnTo>
                      <a:pt x="64" y="58"/>
                    </a:lnTo>
                    <a:lnTo>
                      <a:pt x="75" y="58"/>
                    </a:lnTo>
                    <a:lnTo>
                      <a:pt x="86" y="58"/>
                    </a:lnTo>
                    <a:lnTo>
                      <a:pt x="98" y="58"/>
                    </a:lnTo>
                    <a:lnTo>
                      <a:pt x="110" y="58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58"/>
                    </a:lnTo>
                    <a:lnTo>
                      <a:pt x="1164" y="58"/>
                    </a:lnTo>
                    <a:lnTo>
                      <a:pt x="1175" y="58"/>
                    </a:lnTo>
                    <a:lnTo>
                      <a:pt x="1186" y="58"/>
                    </a:lnTo>
                    <a:lnTo>
                      <a:pt x="1198" y="58"/>
                    </a:lnTo>
                    <a:lnTo>
                      <a:pt x="1208" y="57"/>
                    </a:lnTo>
                    <a:lnTo>
                      <a:pt x="1216" y="57"/>
                    </a:lnTo>
                    <a:lnTo>
                      <a:pt x="1225" y="56"/>
                    </a:lnTo>
                    <a:lnTo>
                      <a:pt x="1233" y="56"/>
                    </a:lnTo>
                    <a:lnTo>
                      <a:pt x="1240" y="54"/>
                    </a:lnTo>
                    <a:lnTo>
                      <a:pt x="1246" y="54"/>
                    </a:lnTo>
                    <a:lnTo>
                      <a:pt x="1251" y="53"/>
                    </a:lnTo>
                    <a:lnTo>
                      <a:pt x="1255" y="52"/>
                    </a:lnTo>
                    <a:lnTo>
                      <a:pt x="1259" y="52"/>
                    </a:lnTo>
                    <a:lnTo>
                      <a:pt x="1260" y="51"/>
                    </a:lnTo>
                    <a:lnTo>
                      <a:pt x="1260" y="51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9"/>
                    </a:lnTo>
                    <a:lnTo>
                      <a:pt x="1260" y="8"/>
                    </a:lnTo>
                    <a:lnTo>
                      <a:pt x="1260" y="8"/>
                    </a:lnTo>
                    <a:lnTo>
                      <a:pt x="1259" y="7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6" y="5"/>
                    </a:lnTo>
                    <a:lnTo>
                      <a:pt x="1240" y="4"/>
                    </a:lnTo>
                    <a:lnTo>
                      <a:pt x="1233" y="3"/>
                    </a:lnTo>
                    <a:lnTo>
                      <a:pt x="1225" y="3"/>
                    </a:lnTo>
                    <a:lnTo>
                      <a:pt x="1216" y="1"/>
                    </a:lnTo>
                    <a:lnTo>
                      <a:pt x="1208" y="1"/>
                    </a:lnTo>
                    <a:lnTo>
                      <a:pt x="1198" y="1"/>
                    </a:lnTo>
                    <a:lnTo>
                      <a:pt x="1186" y="0"/>
                    </a:lnTo>
                    <a:lnTo>
                      <a:pt x="1175" y="0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2617200" y="5505840"/>
                <a:ext cx="990000" cy="4824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2"/>
                    </a:lnTo>
                    <a:lnTo>
                      <a:pt x="86" y="2"/>
                    </a:lnTo>
                    <a:lnTo>
                      <a:pt x="75" y="2"/>
                    </a:lnTo>
                    <a:lnTo>
                      <a:pt x="64" y="2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10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21" y="56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9"/>
                    </a:lnTo>
                    <a:lnTo>
                      <a:pt x="54" y="59"/>
                    </a:lnTo>
                    <a:lnTo>
                      <a:pt x="64" y="59"/>
                    </a:lnTo>
                    <a:lnTo>
                      <a:pt x="75" y="60"/>
                    </a:lnTo>
                    <a:lnTo>
                      <a:pt x="86" y="60"/>
                    </a:lnTo>
                    <a:lnTo>
                      <a:pt x="98" y="60"/>
                    </a:lnTo>
                    <a:lnTo>
                      <a:pt x="110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60"/>
                    </a:lnTo>
                    <a:lnTo>
                      <a:pt x="1164" y="60"/>
                    </a:lnTo>
                    <a:lnTo>
                      <a:pt x="1175" y="60"/>
                    </a:lnTo>
                    <a:lnTo>
                      <a:pt x="1186" y="60"/>
                    </a:lnTo>
                    <a:lnTo>
                      <a:pt x="1198" y="59"/>
                    </a:lnTo>
                    <a:lnTo>
                      <a:pt x="1208" y="59"/>
                    </a:lnTo>
                    <a:lnTo>
                      <a:pt x="1216" y="59"/>
                    </a:lnTo>
                    <a:lnTo>
                      <a:pt x="1225" y="57"/>
                    </a:lnTo>
                    <a:lnTo>
                      <a:pt x="1233" y="57"/>
                    </a:lnTo>
                    <a:lnTo>
                      <a:pt x="1240" y="56"/>
                    </a:lnTo>
                    <a:lnTo>
                      <a:pt x="1246" y="55"/>
                    </a:lnTo>
                    <a:lnTo>
                      <a:pt x="1251" y="55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11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7"/>
                    </a:lnTo>
                    <a:lnTo>
                      <a:pt x="1246" y="6"/>
                    </a:lnTo>
                    <a:lnTo>
                      <a:pt x="1240" y="6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2"/>
                    </a:lnTo>
                    <a:lnTo>
                      <a:pt x="1186" y="2"/>
                    </a:lnTo>
                    <a:lnTo>
                      <a:pt x="1175" y="2"/>
                    </a:lnTo>
                    <a:lnTo>
                      <a:pt x="1164" y="2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2617200" y="5753520"/>
                <a:ext cx="990000" cy="48240"/>
              </a:xfrm>
              <a:custGeom>
                <a:avLst/>
                <a:gdLst/>
                <a:ahLst/>
                <a:rect l="l" t="t" r="r" b="b"/>
                <a:pathLst>
                  <a:path w="1261" h="59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1"/>
                    </a:lnTo>
                    <a:lnTo>
                      <a:pt x="75" y="1"/>
                    </a:lnTo>
                    <a:lnTo>
                      <a:pt x="64" y="1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5"/>
                    </a:lnTo>
                    <a:lnTo>
                      <a:pt x="15" y="5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4"/>
                    </a:lnTo>
                    <a:lnTo>
                      <a:pt x="15" y="54"/>
                    </a:lnTo>
                    <a:lnTo>
                      <a:pt x="21" y="56"/>
                    </a:lnTo>
                    <a:lnTo>
                      <a:pt x="27" y="56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8"/>
                    </a:lnTo>
                    <a:lnTo>
                      <a:pt x="64" y="58"/>
                    </a:lnTo>
                    <a:lnTo>
                      <a:pt x="75" y="59"/>
                    </a:lnTo>
                    <a:lnTo>
                      <a:pt x="86" y="59"/>
                    </a:lnTo>
                    <a:lnTo>
                      <a:pt x="98" y="59"/>
                    </a:lnTo>
                    <a:lnTo>
                      <a:pt x="110" y="59"/>
                    </a:lnTo>
                    <a:lnTo>
                      <a:pt x="123" y="59"/>
                    </a:lnTo>
                    <a:lnTo>
                      <a:pt x="123" y="59"/>
                    </a:lnTo>
                    <a:lnTo>
                      <a:pt x="1139" y="59"/>
                    </a:lnTo>
                    <a:lnTo>
                      <a:pt x="1151" y="59"/>
                    </a:lnTo>
                    <a:lnTo>
                      <a:pt x="1164" y="59"/>
                    </a:lnTo>
                    <a:lnTo>
                      <a:pt x="1175" y="59"/>
                    </a:lnTo>
                    <a:lnTo>
                      <a:pt x="1186" y="59"/>
                    </a:lnTo>
                    <a:lnTo>
                      <a:pt x="1198" y="58"/>
                    </a:lnTo>
                    <a:lnTo>
                      <a:pt x="1208" y="58"/>
                    </a:lnTo>
                    <a:lnTo>
                      <a:pt x="1216" y="57"/>
                    </a:lnTo>
                    <a:lnTo>
                      <a:pt x="1225" y="57"/>
                    </a:lnTo>
                    <a:lnTo>
                      <a:pt x="1233" y="56"/>
                    </a:lnTo>
                    <a:lnTo>
                      <a:pt x="1240" y="56"/>
                    </a:lnTo>
                    <a:lnTo>
                      <a:pt x="1246" y="54"/>
                    </a:lnTo>
                    <a:lnTo>
                      <a:pt x="1251" y="54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10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6"/>
                    </a:lnTo>
                    <a:lnTo>
                      <a:pt x="1246" y="5"/>
                    </a:lnTo>
                    <a:lnTo>
                      <a:pt x="1240" y="5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1"/>
                    </a:lnTo>
                    <a:lnTo>
                      <a:pt x="1186" y="1"/>
                    </a:lnTo>
                    <a:lnTo>
                      <a:pt x="1175" y="1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3947760" y="5230800"/>
                <a:ext cx="43920" cy="628920"/>
              </a:xfrm>
              <a:custGeom>
                <a:avLst/>
                <a:gdLst/>
                <a:ahLst/>
                <a:rect l="l" t="t" r="r" b="b"/>
                <a:pathLst>
                  <a:path w="58" h="779">
                    <a:moveTo>
                      <a:pt x="58" y="703"/>
                    </a:moveTo>
                    <a:lnTo>
                      <a:pt x="58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6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4" y="21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1" y="712"/>
                    </a:lnTo>
                    <a:lnTo>
                      <a:pt x="1" y="719"/>
                    </a:lnTo>
                    <a:lnTo>
                      <a:pt x="1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3" y="746"/>
                    </a:lnTo>
                    <a:lnTo>
                      <a:pt x="3" y="752"/>
                    </a:lnTo>
                    <a:lnTo>
                      <a:pt x="4" y="757"/>
                    </a:lnTo>
                    <a:lnTo>
                      <a:pt x="4" y="762"/>
                    </a:lnTo>
                    <a:lnTo>
                      <a:pt x="5" y="766"/>
                    </a:lnTo>
                    <a:lnTo>
                      <a:pt x="5" y="770"/>
                    </a:lnTo>
                    <a:lnTo>
                      <a:pt x="6" y="774"/>
                    </a:lnTo>
                    <a:lnTo>
                      <a:pt x="8" y="775"/>
                    </a:lnTo>
                    <a:lnTo>
                      <a:pt x="8" y="777"/>
                    </a:lnTo>
                    <a:lnTo>
                      <a:pt x="9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3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6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8" y="712"/>
                    </a:lnTo>
                    <a:lnTo>
                      <a:pt x="58" y="703"/>
                    </a:lnTo>
                    <a:lnTo>
                      <a:pt x="58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4591800" y="5230800"/>
                <a:ext cx="45360" cy="628920"/>
              </a:xfrm>
              <a:custGeom>
                <a:avLst/>
                <a:gdLst/>
                <a:ahLst/>
                <a:rect l="l" t="t" r="r" b="b"/>
                <a:pathLst>
                  <a:path w="56" h="779">
                    <a:moveTo>
                      <a:pt x="56" y="703"/>
                    </a:moveTo>
                    <a:lnTo>
                      <a:pt x="56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5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0" y="712"/>
                    </a:lnTo>
                    <a:lnTo>
                      <a:pt x="0" y="719"/>
                    </a:lnTo>
                    <a:lnTo>
                      <a:pt x="0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1" y="746"/>
                    </a:lnTo>
                    <a:lnTo>
                      <a:pt x="1" y="752"/>
                    </a:lnTo>
                    <a:lnTo>
                      <a:pt x="2" y="757"/>
                    </a:lnTo>
                    <a:lnTo>
                      <a:pt x="2" y="762"/>
                    </a:lnTo>
                    <a:lnTo>
                      <a:pt x="2" y="766"/>
                    </a:lnTo>
                    <a:lnTo>
                      <a:pt x="4" y="770"/>
                    </a:lnTo>
                    <a:lnTo>
                      <a:pt x="4" y="774"/>
                    </a:lnTo>
                    <a:lnTo>
                      <a:pt x="5" y="775"/>
                    </a:lnTo>
                    <a:lnTo>
                      <a:pt x="5" y="777"/>
                    </a:lnTo>
                    <a:lnTo>
                      <a:pt x="6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1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5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6" y="712"/>
                    </a:lnTo>
                    <a:lnTo>
                      <a:pt x="56" y="703"/>
                    </a:lnTo>
                    <a:lnTo>
                      <a:pt x="56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2777040" y="5412960"/>
                <a:ext cx="114120" cy="27000"/>
              </a:xfrm>
              <a:custGeom>
                <a:avLst/>
                <a:gdLst/>
                <a:ahLst/>
                <a:rect l="l" t="t" r="r" b="b"/>
                <a:pathLst>
                  <a:path w="145" h="35">
                    <a:moveTo>
                      <a:pt x="36" y="35"/>
                    </a:moveTo>
                    <a:lnTo>
                      <a:pt x="109" y="35"/>
                    </a:lnTo>
                    <a:lnTo>
                      <a:pt x="109" y="35"/>
                    </a:lnTo>
                    <a:lnTo>
                      <a:pt x="110" y="35"/>
                    </a:lnTo>
                    <a:lnTo>
                      <a:pt x="112" y="35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20" y="34"/>
                    </a:lnTo>
                    <a:lnTo>
                      <a:pt x="123" y="33"/>
                    </a:lnTo>
                    <a:lnTo>
                      <a:pt x="127" y="32"/>
                    </a:lnTo>
                    <a:lnTo>
                      <a:pt x="130" y="29"/>
                    </a:lnTo>
                    <a:lnTo>
                      <a:pt x="133" y="27"/>
                    </a:lnTo>
                    <a:lnTo>
                      <a:pt x="137" y="24"/>
                    </a:lnTo>
                    <a:lnTo>
                      <a:pt x="139" y="20"/>
                    </a:lnTo>
                    <a:lnTo>
                      <a:pt x="142" y="16"/>
                    </a:lnTo>
                    <a:lnTo>
                      <a:pt x="143" y="11"/>
                    </a:lnTo>
                    <a:lnTo>
                      <a:pt x="144" y="6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4" y="16"/>
                    </a:lnTo>
                    <a:lnTo>
                      <a:pt x="5" y="20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3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2777040" y="5646960"/>
                <a:ext cx="114120" cy="3060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36" y="36"/>
                    </a:moveTo>
                    <a:lnTo>
                      <a:pt x="109" y="36"/>
                    </a:lnTo>
                    <a:lnTo>
                      <a:pt x="109" y="36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7" y="36"/>
                    </a:lnTo>
                    <a:lnTo>
                      <a:pt x="120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7" y="36"/>
                    </a:lnTo>
                    <a:lnTo>
                      <a:pt x="139" y="36"/>
                    </a:lnTo>
                    <a:lnTo>
                      <a:pt x="142" y="36"/>
                    </a:lnTo>
                    <a:lnTo>
                      <a:pt x="143" y="36"/>
                    </a:lnTo>
                    <a:lnTo>
                      <a:pt x="144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4" y="29"/>
                    </a:lnTo>
                    <a:lnTo>
                      <a:pt x="143" y="24"/>
                    </a:lnTo>
                    <a:lnTo>
                      <a:pt x="142" y="19"/>
                    </a:lnTo>
                    <a:lnTo>
                      <a:pt x="139" y="15"/>
                    </a:lnTo>
                    <a:lnTo>
                      <a:pt x="137" y="11"/>
                    </a:lnTo>
                    <a:lnTo>
                      <a:pt x="133" y="9"/>
                    </a:lnTo>
                    <a:lnTo>
                      <a:pt x="130" y="6"/>
                    </a:lnTo>
                    <a:lnTo>
                      <a:pt x="127" y="3"/>
                    </a:lnTo>
                    <a:lnTo>
                      <a:pt x="123" y="2"/>
                    </a:lnTo>
                    <a:lnTo>
                      <a:pt x="120" y="1"/>
                    </a:lnTo>
                    <a:lnTo>
                      <a:pt x="117" y="1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5" y="15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2749320" y="5382000"/>
                <a:ext cx="27360" cy="29340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2777040" y="5382000"/>
                <a:ext cx="27360" cy="293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2804400" y="5382000"/>
                <a:ext cx="28800" cy="29340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2833560" y="5382000"/>
                <a:ext cx="30240" cy="293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2775600" y="5389200"/>
                <a:ext cx="89280" cy="3564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17" y="46"/>
                    </a:move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3" y="37"/>
                    </a:lnTo>
                    <a:lnTo>
                      <a:pt x="115" y="34"/>
                    </a:lnTo>
                    <a:lnTo>
                      <a:pt x="116" y="31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18"/>
                    </a:lnTo>
                    <a:lnTo>
                      <a:pt x="116" y="15"/>
                    </a:lnTo>
                    <a:lnTo>
                      <a:pt x="115" y="12"/>
                    </a:lnTo>
                    <a:lnTo>
                      <a:pt x="113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2775600" y="5635800"/>
                <a:ext cx="89280" cy="3672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7" y="45"/>
                    </a:moveTo>
                    <a:lnTo>
                      <a:pt x="101" y="45"/>
                    </a:lnTo>
                    <a:lnTo>
                      <a:pt x="103" y="45"/>
                    </a:lnTo>
                    <a:lnTo>
                      <a:pt x="107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6" y="30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5" y="11"/>
                    </a:lnTo>
                    <a:lnTo>
                      <a:pt x="113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4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3288600" y="5412960"/>
                <a:ext cx="85680" cy="2700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0" y="35"/>
                    </a:moveTo>
                    <a:lnTo>
                      <a:pt x="72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0" y="34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5" y="29"/>
                    </a:lnTo>
                    <a:lnTo>
                      <a:pt x="106" y="27"/>
                    </a:lnTo>
                    <a:lnTo>
                      <a:pt x="107" y="24"/>
                    </a:lnTo>
                    <a:lnTo>
                      <a:pt x="107" y="20"/>
                    </a:lnTo>
                    <a:lnTo>
                      <a:pt x="109" y="16"/>
                    </a:lnTo>
                    <a:lnTo>
                      <a:pt x="109" y="11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3288600" y="5646960"/>
                <a:ext cx="85680" cy="3060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0" y="36"/>
                    </a:moveTo>
                    <a:lnTo>
                      <a:pt x="72" y="36"/>
                    </a:lnTo>
                    <a:lnTo>
                      <a:pt x="78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94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29"/>
                    </a:lnTo>
                    <a:lnTo>
                      <a:pt x="109" y="24"/>
                    </a:lnTo>
                    <a:lnTo>
                      <a:pt x="109" y="19"/>
                    </a:lnTo>
                    <a:lnTo>
                      <a:pt x="107" y="15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6"/>
                    </a:lnTo>
                    <a:lnTo>
                      <a:pt x="104" y="3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7" y="1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3260880" y="5382000"/>
                <a:ext cx="27360" cy="29340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3288600" y="5382000"/>
                <a:ext cx="28800" cy="29340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3317760" y="5382000"/>
                <a:ext cx="27360" cy="29340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3345120" y="5382000"/>
                <a:ext cx="28800" cy="2934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3265200" y="5389200"/>
                <a:ext cx="92520" cy="3564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7" y="46"/>
                    </a:moveTo>
                    <a:lnTo>
                      <a:pt x="99" y="46"/>
                    </a:lnTo>
                    <a:lnTo>
                      <a:pt x="102" y="46"/>
                    </a:lnTo>
                    <a:lnTo>
                      <a:pt x="106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4" y="37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8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6" y="2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2" y="37"/>
                    </a:lnTo>
                    <a:lnTo>
                      <a:pt x="5" y="41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3265200" y="5635800"/>
                <a:ext cx="92520" cy="36720"/>
              </a:xfrm>
              <a:custGeom>
                <a:avLst/>
                <a:gdLst/>
                <a:ahLst/>
                <a:rect l="l" t="t" r="r" b="b"/>
                <a:pathLst>
                  <a:path w="117" h="45">
                    <a:moveTo>
                      <a:pt x="17" y="45"/>
                    </a:moveTo>
                    <a:lnTo>
                      <a:pt x="99" y="45"/>
                    </a:lnTo>
                    <a:lnTo>
                      <a:pt x="102" y="45"/>
                    </a:lnTo>
                    <a:lnTo>
                      <a:pt x="106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6" y="34"/>
                    </a:lnTo>
                    <a:lnTo>
                      <a:pt x="116" y="30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6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39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2248560" y="5261760"/>
                <a:ext cx="237240" cy="489960"/>
              </a:xfrm>
              <a:custGeom>
                <a:avLst/>
                <a:gdLst/>
                <a:ahLst/>
                <a:rect l="l" t="t" r="r" b="b"/>
                <a:pathLst>
                  <a:path w="302" h="608">
                    <a:moveTo>
                      <a:pt x="70" y="340"/>
                    </a:moveTo>
                    <a:lnTo>
                      <a:pt x="70" y="338"/>
                    </a:lnTo>
                    <a:lnTo>
                      <a:pt x="70" y="334"/>
                    </a:lnTo>
                    <a:lnTo>
                      <a:pt x="69" y="330"/>
                    </a:lnTo>
                    <a:lnTo>
                      <a:pt x="68" y="327"/>
                    </a:lnTo>
                    <a:lnTo>
                      <a:pt x="65" y="321"/>
                    </a:lnTo>
                    <a:lnTo>
                      <a:pt x="60" y="316"/>
                    </a:lnTo>
                    <a:lnTo>
                      <a:pt x="55" y="312"/>
                    </a:lnTo>
                    <a:lnTo>
                      <a:pt x="50" y="309"/>
                    </a:lnTo>
                    <a:lnTo>
                      <a:pt x="47" y="309"/>
                    </a:lnTo>
                    <a:lnTo>
                      <a:pt x="44" y="307"/>
                    </a:lnTo>
                    <a:lnTo>
                      <a:pt x="40" y="306"/>
                    </a:lnTo>
                    <a:lnTo>
                      <a:pt x="37" y="306"/>
                    </a:lnTo>
                    <a:lnTo>
                      <a:pt x="33" y="306"/>
                    </a:lnTo>
                    <a:lnTo>
                      <a:pt x="29" y="307"/>
                    </a:lnTo>
                    <a:lnTo>
                      <a:pt x="26" y="309"/>
                    </a:lnTo>
                    <a:lnTo>
                      <a:pt x="23" y="309"/>
                    </a:lnTo>
                    <a:lnTo>
                      <a:pt x="16" y="312"/>
                    </a:lnTo>
                    <a:lnTo>
                      <a:pt x="11" y="316"/>
                    </a:lnTo>
                    <a:lnTo>
                      <a:pt x="6" y="321"/>
                    </a:lnTo>
                    <a:lnTo>
                      <a:pt x="4" y="327"/>
                    </a:lnTo>
                    <a:lnTo>
                      <a:pt x="3" y="330"/>
                    </a:lnTo>
                    <a:lnTo>
                      <a:pt x="1" y="334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4"/>
                    </a:lnTo>
                    <a:lnTo>
                      <a:pt x="1" y="348"/>
                    </a:lnTo>
                    <a:lnTo>
                      <a:pt x="3" y="351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11" y="367"/>
                    </a:lnTo>
                    <a:lnTo>
                      <a:pt x="16" y="370"/>
                    </a:lnTo>
                    <a:lnTo>
                      <a:pt x="23" y="374"/>
                    </a:lnTo>
                    <a:lnTo>
                      <a:pt x="26" y="375"/>
                    </a:lnTo>
                    <a:lnTo>
                      <a:pt x="29" y="377"/>
                    </a:lnTo>
                    <a:lnTo>
                      <a:pt x="33" y="377"/>
                    </a:lnTo>
                    <a:lnTo>
                      <a:pt x="37" y="377"/>
                    </a:lnTo>
                    <a:lnTo>
                      <a:pt x="40" y="377"/>
                    </a:lnTo>
                    <a:lnTo>
                      <a:pt x="44" y="377"/>
                    </a:lnTo>
                    <a:lnTo>
                      <a:pt x="47" y="375"/>
                    </a:lnTo>
                    <a:lnTo>
                      <a:pt x="50" y="374"/>
                    </a:lnTo>
                    <a:lnTo>
                      <a:pt x="55" y="370"/>
                    </a:lnTo>
                    <a:lnTo>
                      <a:pt x="60" y="367"/>
                    </a:lnTo>
                    <a:lnTo>
                      <a:pt x="65" y="362"/>
                    </a:lnTo>
                    <a:lnTo>
                      <a:pt x="68" y="355"/>
                    </a:lnTo>
                    <a:lnTo>
                      <a:pt x="69" y="351"/>
                    </a:lnTo>
                    <a:lnTo>
                      <a:pt x="70" y="348"/>
                    </a:lnTo>
                    <a:lnTo>
                      <a:pt x="70" y="344"/>
                    </a:lnTo>
                    <a:lnTo>
                      <a:pt x="70" y="340"/>
                    </a:lnTo>
                    <a:lnTo>
                      <a:pt x="70" y="340"/>
                    </a:lnTo>
                    <a:close/>
                    <a:moveTo>
                      <a:pt x="302" y="37"/>
                    </a:moveTo>
                    <a:lnTo>
                      <a:pt x="301" y="33"/>
                    </a:lnTo>
                    <a:lnTo>
                      <a:pt x="301" y="29"/>
                    </a:lnTo>
                    <a:lnTo>
                      <a:pt x="300" y="27"/>
                    </a:lnTo>
                    <a:lnTo>
                      <a:pt x="298" y="23"/>
                    </a:lnTo>
                    <a:lnTo>
                      <a:pt x="296" y="17"/>
                    </a:lnTo>
                    <a:lnTo>
                      <a:pt x="291" y="12"/>
                    </a:lnTo>
                    <a:lnTo>
                      <a:pt x="286" y="7"/>
                    </a:lnTo>
                    <a:lnTo>
                      <a:pt x="281" y="4"/>
                    </a:lnTo>
                    <a:lnTo>
                      <a:pt x="277" y="3"/>
                    </a:lnTo>
                    <a:lnTo>
                      <a:pt x="275" y="2"/>
                    </a:lnTo>
                    <a:lnTo>
                      <a:pt x="271" y="2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1" y="2"/>
                    </a:lnTo>
                    <a:lnTo>
                      <a:pt x="258" y="3"/>
                    </a:lnTo>
                    <a:lnTo>
                      <a:pt x="255" y="4"/>
                    </a:lnTo>
                    <a:lnTo>
                      <a:pt x="250" y="7"/>
                    </a:lnTo>
                    <a:lnTo>
                      <a:pt x="244" y="12"/>
                    </a:lnTo>
                    <a:lnTo>
                      <a:pt x="239" y="17"/>
                    </a:lnTo>
                    <a:lnTo>
                      <a:pt x="237" y="23"/>
                    </a:lnTo>
                    <a:lnTo>
                      <a:pt x="236" y="27"/>
                    </a:lnTo>
                    <a:lnTo>
                      <a:pt x="234" y="29"/>
                    </a:lnTo>
                    <a:lnTo>
                      <a:pt x="234" y="33"/>
                    </a:lnTo>
                    <a:lnTo>
                      <a:pt x="233" y="37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6" y="47"/>
                    </a:lnTo>
                    <a:lnTo>
                      <a:pt x="237" y="51"/>
                    </a:lnTo>
                    <a:lnTo>
                      <a:pt x="239" y="56"/>
                    </a:lnTo>
                    <a:lnTo>
                      <a:pt x="244" y="61"/>
                    </a:lnTo>
                    <a:lnTo>
                      <a:pt x="250" y="66"/>
                    </a:lnTo>
                    <a:lnTo>
                      <a:pt x="255" y="69"/>
                    </a:lnTo>
                    <a:lnTo>
                      <a:pt x="258" y="70"/>
                    </a:lnTo>
                    <a:lnTo>
                      <a:pt x="261" y="71"/>
                    </a:lnTo>
                    <a:lnTo>
                      <a:pt x="265" y="71"/>
                    </a:lnTo>
                    <a:lnTo>
                      <a:pt x="267" y="71"/>
                    </a:lnTo>
                    <a:lnTo>
                      <a:pt x="271" y="71"/>
                    </a:lnTo>
                    <a:lnTo>
                      <a:pt x="275" y="71"/>
                    </a:lnTo>
                    <a:lnTo>
                      <a:pt x="277" y="70"/>
                    </a:lnTo>
                    <a:lnTo>
                      <a:pt x="281" y="69"/>
                    </a:lnTo>
                    <a:lnTo>
                      <a:pt x="286" y="66"/>
                    </a:lnTo>
                    <a:lnTo>
                      <a:pt x="291" y="61"/>
                    </a:lnTo>
                    <a:lnTo>
                      <a:pt x="296" y="56"/>
                    </a:lnTo>
                    <a:lnTo>
                      <a:pt x="298" y="51"/>
                    </a:lnTo>
                    <a:lnTo>
                      <a:pt x="300" y="47"/>
                    </a:lnTo>
                    <a:lnTo>
                      <a:pt x="301" y="45"/>
                    </a:lnTo>
                    <a:lnTo>
                      <a:pt x="301" y="41"/>
                    </a:lnTo>
                    <a:lnTo>
                      <a:pt x="302" y="37"/>
                    </a:lnTo>
                    <a:lnTo>
                      <a:pt x="302" y="37"/>
                    </a:lnTo>
                    <a:close/>
                    <a:moveTo>
                      <a:pt x="302" y="572"/>
                    </a:moveTo>
                    <a:lnTo>
                      <a:pt x="301" y="569"/>
                    </a:lnTo>
                    <a:lnTo>
                      <a:pt x="301" y="566"/>
                    </a:lnTo>
                    <a:lnTo>
                      <a:pt x="300" y="562"/>
                    </a:lnTo>
                    <a:lnTo>
                      <a:pt x="298" y="558"/>
                    </a:lnTo>
                    <a:lnTo>
                      <a:pt x="296" y="552"/>
                    </a:lnTo>
                    <a:lnTo>
                      <a:pt x="291" y="547"/>
                    </a:lnTo>
                    <a:lnTo>
                      <a:pt x="286" y="542"/>
                    </a:lnTo>
                    <a:lnTo>
                      <a:pt x="281" y="540"/>
                    </a:lnTo>
                    <a:lnTo>
                      <a:pt x="277" y="538"/>
                    </a:lnTo>
                    <a:lnTo>
                      <a:pt x="275" y="537"/>
                    </a:lnTo>
                    <a:lnTo>
                      <a:pt x="271" y="537"/>
                    </a:lnTo>
                    <a:lnTo>
                      <a:pt x="267" y="537"/>
                    </a:lnTo>
                    <a:lnTo>
                      <a:pt x="265" y="537"/>
                    </a:lnTo>
                    <a:lnTo>
                      <a:pt x="261" y="537"/>
                    </a:lnTo>
                    <a:lnTo>
                      <a:pt x="258" y="538"/>
                    </a:lnTo>
                    <a:lnTo>
                      <a:pt x="255" y="540"/>
                    </a:lnTo>
                    <a:lnTo>
                      <a:pt x="250" y="542"/>
                    </a:lnTo>
                    <a:lnTo>
                      <a:pt x="244" y="547"/>
                    </a:lnTo>
                    <a:lnTo>
                      <a:pt x="239" y="552"/>
                    </a:lnTo>
                    <a:lnTo>
                      <a:pt x="237" y="558"/>
                    </a:lnTo>
                    <a:lnTo>
                      <a:pt x="236" y="562"/>
                    </a:lnTo>
                    <a:lnTo>
                      <a:pt x="234" y="566"/>
                    </a:lnTo>
                    <a:lnTo>
                      <a:pt x="234" y="569"/>
                    </a:lnTo>
                    <a:lnTo>
                      <a:pt x="233" y="572"/>
                    </a:lnTo>
                    <a:lnTo>
                      <a:pt x="234" y="576"/>
                    </a:lnTo>
                    <a:lnTo>
                      <a:pt x="234" y="580"/>
                    </a:lnTo>
                    <a:lnTo>
                      <a:pt x="236" y="582"/>
                    </a:lnTo>
                    <a:lnTo>
                      <a:pt x="237" y="586"/>
                    </a:lnTo>
                    <a:lnTo>
                      <a:pt x="239" y="591"/>
                    </a:lnTo>
                    <a:lnTo>
                      <a:pt x="244" y="596"/>
                    </a:lnTo>
                    <a:lnTo>
                      <a:pt x="250" y="601"/>
                    </a:lnTo>
                    <a:lnTo>
                      <a:pt x="255" y="604"/>
                    </a:lnTo>
                    <a:lnTo>
                      <a:pt x="258" y="605"/>
                    </a:lnTo>
                    <a:lnTo>
                      <a:pt x="261" y="606"/>
                    </a:lnTo>
                    <a:lnTo>
                      <a:pt x="265" y="606"/>
                    </a:lnTo>
                    <a:lnTo>
                      <a:pt x="267" y="608"/>
                    </a:lnTo>
                    <a:lnTo>
                      <a:pt x="271" y="606"/>
                    </a:lnTo>
                    <a:lnTo>
                      <a:pt x="275" y="606"/>
                    </a:lnTo>
                    <a:lnTo>
                      <a:pt x="277" y="605"/>
                    </a:lnTo>
                    <a:lnTo>
                      <a:pt x="281" y="604"/>
                    </a:lnTo>
                    <a:lnTo>
                      <a:pt x="286" y="601"/>
                    </a:lnTo>
                    <a:lnTo>
                      <a:pt x="291" y="596"/>
                    </a:lnTo>
                    <a:lnTo>
                      <a:pt x="296" y="591"/>
                    </a:lnTo>
                    <a:lnTo>
                      <a:pt x="298" y="586"/>
                    </a:lnTo>
                    <a:lnTo>
                      <a:pt x="300" y="582"/>
                    </a:lnTo>
                    <a:lnTo>
                      <a:pt x="301" y="580"/>
                    </a:lnTo>
                    <a:lnTo>
                      <a:pt x="301" y="576"/>
                    </a:lnTo>
                    <a:lnTo>
                      <a:pt x="302" y="572"/>
                    </a:lnTo>
                    <a:lnTo>
                      <a:pt x="302" y="57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2248560" y="5508360"/>
                <a:ext cx="55080" cy="57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2"/>
                    </a:lnTo>
                    <a:lnTo>
                      <a:pt x="70" y="28"/>
                    </a:lnTo>
                    <a:lnTo>
                      <a:pt x="69" y="24"/>
                    </a:lnTo>
                    <a:lnTo>
                      <a:pt x="68" y="21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0" y="71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0" y="68"/>
                    </a:lnTo>
                    <a:lnTo>
                      <a:pt x="55" y="64"/>
                    </a:lnTo>
                    <a:lnTo>
                      <a:pt x="60" y="61"/>
                    </a:lnTo>
                    <a:lnTo>
                      <a:pt x="65" y="56"/>
                    </a:lnTo>
                    <a:lnTo>
                      <a:pt x="68" y="49"/>
                    </a:lnTo>
                    <a:lnTo>
                      <a:pt x="69" y="45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2432160" y="5261760"/>
                <a:ext cx="53640" cy="56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7"/>
                    </a:moveTo>
                    <a:lnTo>
                      <a:pt x="68" y="33"/>
                    </a:lnTo>
                    <a:lnTo>
                      <a:pt x="68" y="29"/>
                    </a:lnTo>
                    <a:lnTo>
                      <a:pt x="67" y="27"/>
                    </a:lnTo>
                    <a:lnTo>
                      <a:pt x="65" y="23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6"/>
                    </a:lnTo>
                    <a:lnTo>
                      <a:pt x="22" y="69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2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8" y="61"/>
                    </a:lnTo>
                    <a:lnTo>
                      <a:pt x="63" y="56"/>
                    </a:lnTo>
                    <a:lnTo>
                      <a:pt x="65" y="51"/>
                    </a:lnTo>
                    <a:lnTo>
                      <a:pt x="67" y="47"/>
                    </a:lnTo>
                    <a:lnTo>
                      <a:pt x="68" y="45"/>
                    </a:lnTo>
                    <a:lnTo>
                      <a:pt x="68" y="41"/>
                    </a:lnTo>
                    <a:lnTo>
                      <a:pt x="69" y="37"/>
                    </a:lnTo>
                    <a:lnTo>
                      <a:pt x="69" y="37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2432160" y="5695560"/>
                <a:ext cx="53640" cy="5652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5"/>
                    </a:moveTo>
                    <a:lnTo>
                      <a:pt x="68" y="32"/>
                    </a:lnTo>
                    <a:lnTo>
                      <a:pt x="68" y="29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5"/>
                    </a:lnTo>
                    <a:lnTo>
                      <a:pt x="58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4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9"/>
                    </a:lnTo>
                    <a:lnTo>
                      <a:pt x="32" y="69"/>
                    </a:lnTo>
                    <a:lnTo>
                      <a:pt x="34" y="71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4" y="68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5" y="49"/>
                    </a:lnTo>
                    <a:lnTo>
                      <a:pt x="67" y="45"/>
                    </a:lnTo>
                    <a:lnTo>
                      <a:pt x="68" y="43"/>
                    </a:lnTo>
                    <a:lnTo>
                      <a:pt x="68" y="39"/>
                    </a:lnTo>
                    <a:lnTo>
                      <a:pt x="69" y="35"/>
                    </a:lnTo>
                    <a:lnTo>
                      <a:pt x="69" y="3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2266920" y="5280480"/>
                <a:ext cx="202320" cy="451800"/>
              </a:xfrm>
              <a:custGeom>
                <a:avLst/>
                <a:gdLst/>
                <a:ahLst/>
                <a:rect l="l" t="t" r="r" b="b"/>
                <a:pathLst>
                  <a:path w="258" h="561">
                    <a:moveTo>
                      <a:pt x="25" y="317"/>
                    </a:moveTo>
                    <a:lnTo>
                      <a:pt x="25" y="315"/>
                    </a:lnTo>
                    <a:lnTo>
                      <a:pt x="25" y="313"/>
                    </a:lnTo>
                    <a:lnTo>
                      <a:pt x="24" y="311"/>
                    </a:lnTo>
                    <a:lnTo>
                      <a:pt x="22" y="309"/>
                    </a:lnTo>
                    <a:lnTo>
                      <a:pt x="20" y="308"/>
                    </a:lnTo>
                    <a:lnTo>
                      <a:pt x="19" y="307"/>
                    </a:lnTo>
                    <a:lnTo>
                      <a:pt x="16" y="306"/>
                    </a:lnTo>
                    <a:lnTo>
                      <a:pt x="14" y="306"/>
                    </a:lnTo>
                    <a:lnTo>
                      <a:pt x="11" y="306"/>
                    </a:lnTo>
                    <a:lnTo>
                      <a:pt x="7" y="307"/>
                    </a:lnTo>
                    <a:lnTo>
                      <a:pt x="6" y="308"/>
                    </a:lnTo>
                    <a:lnTo>
                      <a:pt x="3" y="309"/>
                    </a:lnTo>
                    <a:lnTo>
                      <a:pt x="2" y="311"/>
                    </a:lnTo>
                    <a:lnTo>
                      <a:pt x="1" y="313"/>
                    </a:lnTo>
                    <a:lnTo>
                      <a:pt x="1" y="315"/>
                    </a:lnTo>
                    <a:lnTo>
                      <a:pt x="0" y="317"/>
                    </a:lnTo>
                    <a:lnTo>
                      <a:pt x="1" y="321"/>
                    </a:lnTo>
                    <a:lnTo>
                      <a:pt x="1" y="323"/>
                    </a:lnTo>
                    <a:lnTo>
                      <a:pt x="2" y="326"/>
                    </a:lnTo>
                    <a:lnTo>
                      <a:pt x="3" y="327"/>
                    </a:lnTo>
                    <a:lnTo>
                      <a:pt x="6" y="330"/>
                    </a:lnTo>
                    <a:lnTo>
                      <a:pt x="7" y="330"/>
                    </a:lnTo>
                    <a:lnTo>
                      <a:pt x="11" y="331"/>
                    </a:lnTo>
                    <a:lnTo>
                      <a:pt x="14" y="331"/>
                    </a:lnTo>
                    <a:lnTo>
                      <a:pt x="16" y="331"/>
                    </a:lnTo>
                    <a:lnTo>
                      <a:pt x="19" y="330"/>
                    </a:lnTo>
                    <a:lnTo>
                      <a:pt x="20" y="330"/>
                    </a:lnTo>
                    <a:lnTo>
                      <a:pt x="22" y="327"/>
                    </a:lnTo>
                    <a:lnTo>
                      <a:pt x="24" y="326"/>
                    </a:lnTo>
                    <a:lnTo>
                      <a:pt x="25" y="323"/>
                    </a:lnTo>
                    <a:lnTo>
                      <a:pt x="25" y="321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  <a:moveTo>
                      <a:pt x="258" y="14"/>
                    </a:moveTo>
                    <a:lnTo>
                      <a:pt x="258" y="12"/>
                    </a:lnTo>
                    <a:lnTo>
                      <a:pt x="257" y="9"/>
                    </a:lnTo>
                    <a:lnTo>
                      <a:pt x="255" y="6"/>
                    </a:lnTo>
                    <a:lnTo>
                      <a:pt x="254" y="4"/>
                    </a:lnTo>
                    <a:lnTo>
                      <a:pt x="252" y="3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4" y="0"/>
                    </a:lnTo>
                    <a:lnTo>
                      <a:pt x="242" y="1"/>
                    </a:lnTo>
                    <a:lnTo>
                      <a:pt x="240" y="1"/>
                    </a:lnTo>
                    <a:lnTo>
                      <a:pt x="238" y="3"/>
                    </a:lnTo>
                    <a:lnTo>
                      <a:pt x="235" y="4"/>
                    </a:lnTo>
                    <a:lnTo>
                      <a:pt x="234" y="6"/>
                    </a:lnTo>
                    <a:lnTo>
                      <a:pt x="233" y="9"/>
                    </a:lnTo>
                    <a:lnTo>
                      <a:pt x="232" y="12"/>
                    </a:lnTo>
                    <a:lnTo>
                      <a:pt x="232" y="14"/>
                    </a:lnTo>
                    <a:lnTo>
                      <a:pt x="232" y="17"/>
                    </a:lnTo>
                    <a:lnTo>
                      <a:pt x="233" y="19"/>
                    </a:lnTo>
                    <a:lnTo>
                      <a:pt x="234" y="22"/>
                    </a:lnTo>
                    <a:lnTo>
                      <a:pt x="235" y="23"/>
                    </a:lnTo>
                    <a:lnTo>
                      <a:pt x="238" y="24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5"/>
                    </a:lnTo>
                    <a:lnTo>
                      <a:pt x="248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4" y="23"/>
                    </a:lnTo>
                    <a:lnTo>
                      <a:pt x="255" y="22"/>
                    </a:lnTo>
                    <a:lnTo>
                      <a:pt x="257" y="19"/>
                    </a:lnTo>
                    <a:lnTo>
                      <a:pt x="258" y="17"/>
                    </a:lnTo>
                    <a:lnTo>
                      <a:pt x="258" y="14"/>
                    </a:lnTo>
                    <a:lnTo>
                      <a:pt x="258" y="14"/>
                    </a:lnTo>
                    <a:close/>
                    <a:moveTo>
                      <a:pt x="258" y="549"/>
                    </a:moveTo>
                    <a:lnTo>
                      <a:pt x="258" y="547"/>
                    </a:lnTo>
                    <a:lnTo>
                      <a:pt x="257" y="544"/>
                    </a:lnTo>
                    <a:lnTo>
                      <a:pt x="255" y="542"/>
                    </a:lnTo>
                    <a:lnTo>
                      <a:pt x="254" y="539"/>
                    </a:lnTo>
                    <a:lnTo>
                      <a:pt x="252" y="538"/>
                    </a:lnTo>
                    <a:lnTo>
                      <a:pt x="249" y="537"/>
                    </a:lnTo>
                    <a:lnTo>
                      <a:pt x="248" y="537"/>
                    </a:lnTo>
                    <a:lnTo>
                      <a:pt x="244" y="537"/>
                    </a:lnTo>
                    <a:lnTo>
                      <a:pt x="242" y="537"/>
                    </a:lnTo>
                    <a:lnTo>
                      <a:pt x="240" y="537"/>
                    </a:lnTo>
                    <a:lnTo>
                      <a:pt x="238" y="538"/>
                    </a:lnTo>
                    <a:lnTo>
                      <a:pt x="235" y="539"/>
                    </a:lnTo>
                    <a:lnTo>
                      <a:pt x="234" y="542"/>
                    </a:lnTo>
                    <a:lnTo>
                      <a:pt x="233" y="544"/>
                    </a:lnTo>
                    <a:lnTo>
                      <a:pt x="232" y="547"/>
                    </a:lnTo>
                    <a:lnTo>
                      <a:pt x="232" y="549"/>
                    </a:lnTo>
                    <a:lnTo>
                      <a:pt x="232" y="552"/>
                    </a:lnTo>
                    <a:lnTo>
                      <a:pt x="233" y="554"/>
                    </a:lnTo>
                    <a:lnTo>
                      <a:pt x="234" y="557"/>
                    </a:lnTo>
                    <a:lnTo>
                      <a:pt x="235" y="558"/>
                    </a:lnTo>
                    <a:lnTo>
                      <a:pt x="238" y="559"/>
                    </a:lnTo>
                    <a:lnTo>
                      <a:pt x="240" y="561"/>
                    </a:lnTo>
                    <a:lnTo>
                      <a:pt x="242" y="561"/>
                    </a:lnTo>
                    <a:lnTo>
                      <a:pt x="244" y="561"/>
                    </a:lnTo>
                    <a:lnTo>
                      <a:pt x="248" y="561"/>
                    </a:lnTo>
                    <a:lnTo>
                      <a:pt x="249" y="561"/>
                    </a:lnTo>
                    <a:lnTo>
                      <a:pt x="252" y="559"/>
                    </a:lnTo>
                    <a:lnTo>
                      <a:pt x="254" y="558"/>
                    </a:lnTo>
                    <a:lnTo>
                      <a:pt x="255" y="557"/>
                    </a:lnTo>
                    <a:lnTo>
                      <a:pt x="257" y="554"/>
                    </a:lnTo>
                    <a:lnTo>
                      <a:pt x="258" y="552"/>
                    </a:lnTo>
                    <a:lnTo>
                      <a:pt x="258" y="549"/>
                    </a:lnTo>
                    <a:lnTo>
                      <a:pt x="258" y="549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2266920" y="5527080"/>
                <a:ext cx="18720" cy="1944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1"/>
                    </a:moveTo>
                    <a:lnTo>
                      <a:pt x="25" y="9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1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2448720" y="5280480"/>
                <a:ext cx="20520" cy="208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4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2448720" y="571248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2"/>
                    </a:moveTo>
                    <a:lnTo>
                      <a:pt x="26" y="10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349360" y="5264280"/>
                <a:ext cx="227520" cy="647280"/>
              </a:xfrm>
              <a:custGeom>
                <a:avLst/>
                <a:gdLst/>
                <a:ahLst/>
                <a:rect l="l" t="t" r="r" b="b"/>
                <a:pathLst>
                  <a:path w="291" h="803">
                    <a:moveTo>
                      <a:pt x="291" y="37"/>
                    </a:moveTo>
                    <a:lnTo>
                      <a:pt x="73" y="37"/>
                    </a:lnTo>
                    <a:lnTo>
                      <a:pt x="67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9" y="38"/>
                    </a:lnTo>
                    <a:lnTo>
                      <a:pt x="45" y="39"/>
                    </a:lnTo>
                    <a:lnTo>
                      <a:pt x="43" y="39"/>
                    </a:lnTo>
                    <a:lnTo>
                      <a:pt x="42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7" y="57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803"/>
                    </a:lnTo>
                    <a:lnTo>
                      <a:pt x="0" y="80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1" y="0"/>
                    </a:lnTo>
                    <a:lnTo>
                      <a:pt x="291" y="37"/>
                    </a:lnTo>
                    <a:lnTo>
                      <a:pt x="2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329920" y="5236200"/>
                <a:ext cx="221760" cy="675720"/>
              </a:xfrm>
              <a:custGeom>
                <a:avLst/>
                <a:gdLst/>
                <a:ahLst/>
                <a:rect l="l" t="t" r="r" b="b"/>
                <a:pathLst>
                  <a:path w="284" h="837">
                    <a:moveTo>
                      <a:pt x="284" y="43"/>
                    </a:moveTo>
                    <a:lnTo>
                      <a:pt x="76" y="43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6" y="45"/>
                    </a:lnTo>
                    <a:lnTo>
                      <a:pt x="64" y="47"/>
                    </a:lnTo>
                    <a:lnTo>
                      <a:pt x="58" y="49"/>
                    </a:lnTo>
                    <a:lnTo>
                      <a:pt x="53" y="54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4" y="69"/>
                    </a:lnTo>
                    <a:lnTo>
                      <a:pt x="44" y="72"/>
                    </a:lnTo>
                    <a:lnTo>
                      <a:pt x="43" y="76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837"/>
                    </a:lnTo>
                    <a:lnTo>
                      <a:pt x="0" y="83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7" y="37"/>
                    </a:lnTo>
                    <a:lnTo>
                      <a:pt x="11" y="31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5" y="9"/>
                    </a:lnTo>
                    <a:lnTo>
                      <a:pt x="41" y="6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284" y="0"/>
                    </a:lnTo>
                    <a:lnTo>
                      <a:pt x="284" y="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164680" y="5102280"/>
                <a:ext cx="4831200" cy="14112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164680" y="5102280"/>
                <a:ext cx="4831200" cy="14112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3789360" y="5171400"/>
                <a:ext cx="1049400" cy="58320"/>
              </a:xfrm>
              <a:custGeom>
                <a:avLst/>
                <a:gdLst/>
                <a:ahLst/>
                <a:rect l="l" t="t" r="r" b="b"/>
                <a:pathLst>
                  <a:path w="1335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  <a:close/>
                    <a:moveTo>
                      <a:pt x="1335" y="34"/>
                    </a:moveTo>
                    <a:lnTo>
                      <a:pt x="1334" y="31"/>
                    </a:lnTo>
                    <a:lnTo>
                      <a:pt x="1334" y="28"/>
                    </a:lnTo>
                    <a:lnTo>
                      <a:pt x="1333" y="24"/>
                    </a:lnTo>
                    <a:lnTo>
                      <a:pt x="1331" y="22"/>
                    </a:lnTo>
                    <a:lnTo>
                      <a:pt x="1329" y="16"/>
                    </a:lnTo>
                    <a:lnTo>
                      <a:pt x="1324" y="10"/>
                    </a:lnTo>
                    <a:lnTo>
                      <a:pt x="1319" y="7"/>
                    </a:lnTo>
                    <a:lnTo>
                      <a:pt x="1313" y="3"/>
                    </a:lnTo>
                    <a:lnTo>
                      <a:pt x="1309" y="2"/>
                    </a:lnTo>
                    <a:lnTo>
                      <a:pt x="1306" y="2"/>
                    </a:lnTo>
                    <a:lnTo>
                      <a:pt x="1303" y="0"/>
                    </a:lnTo>
                    <a:lnTo>
                      <a:pt x="1299" y="0"/>
                    </a:lnTo>
                    <a:lnTo>
                      <a:pt x="1295" y="0"/>
                    </a:lnTo>
                    <a:lnTo>
                      <a:pt x="1291" y="2"/>
                    </a:lnTo>
                    <a:lnTo>
                      <a:pt x="1289" y="2"/>
                    </a:lnTo>
                    <a:lnTo>
                      <a:pt x="1285" y="3"/>
                    </a:lnTo>
                    <a:lnTo>
                      <a:pt x="1280" y="7"/>
                    </a:lnTo>
                    <a:lnTo>
                      <a:pt x="1275" y="10"/>
                    </a:lnTo>
                    <a:lnTo>
                      <a:pt x="1270" y="16"/>
                    </a:lnTo>
                    <a:lnTo>
                      <a:pt x="1268" y="22"/>
                    </a:lnTo>
                    <a:lnTo>
                      <a:pt x="1266" y="24"/>
                    </a:lnTo>
                    <a:lnTo>
                      <a:pt x="1265" y="28"/>
                    </a:lnTo>
                    <a:lnTo>
                      <a:pt x="1265" y="31"/>
                    </a:lnTo>
                    <a:lnTo>
                      <a:pt x="1265" y="34"/>
                    </a:lnTo>
                    <a:lnTo>
                      <a:pt x="1265" y="38"/>
                    </a:lnTo>
                    <a:lnTo>
                      <a:pt x="1265" y="42"/>
                    </a:lnTo>
                    <a:lnTo>
                      <a:pt x="1266" y="46"/>
                    </a:lnTo>
                    <a:lnTo>
                      <a:pt x="1268" y="48"/>
                    </a:lnTo>
                    <a:lnTo>
                      <a:pt x="1270" y="55"/>
                    </a:lnTo>
                    <a:lnTo>
                      <a:pt x="1275" y="61"/>
                    </a:lnTo>
                    <a:lnTo>
                      <a:pt x="1280" y="65"/>
                    </a:lnTo>
                    <a:lnTo>
                      <a:pt x="1285" y="69"/>
                    </a:lnTo>
                    <a:lnTo>
                      <a:pt x="1289" y="70"/>
                    </a:lnTo>
                    <a:lnTo>
                      <a:pt x="1291" y="70"/>
                    </a:lnTo>
                    <a:lnTo>
                      <a:pt x="1295" y="71"/>
                    </a:lnTo>
                    <a:lnTo>
                      <a:pt x="1299" y="71"/>
                    </a:lnTo>
                    <a:lnTo>
                      <a:pt x="1303" y="71"/>
                    </a:lnTo>
                    <a:lnTo>
                      <a:pt x="1306" y="70"/>
                    </a:lnTo>
                    <a:lnTo>
                      <a:pt x="1309" y="70"/>
                    </a:lnTo>
                    <a:lnTo>
                      <a:pt x="1313" y="69"/>
                    </a:lnTo>
                    <a:lnTo>
                      <a:pt x="1319" y="65"/>
                    </a:lnTo>
                    <a:lnTo>
                      <a:pt x="1324" y="61"/>
                    </a:lnTo>
                    <a:lnTo>
                      <a:pt x="1329" y="55"/>
                    </a:lnTo>
                    <a:lnTo>
                      <a:pt x="1331" y="48"/>
                    </a:lnTo>
                    <a:lnTo>
                      <a:pt x="1333" y="46"/>
                    </a:lnTo>
                    <a:lnTo>
                      <a:pt x="1334" y="42"/>
                    </a:lnTo>
                    <a:lnTo>
                      <a:pt x="1334" y="38"/>
                    </a:lnTo>
                    <a:lnTo>
                      <a:pt x="1335" y="34"/>
                    </a:lnTo>
                    <a:lnTo>
                      <a:pt x="1335" y="34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3789360" y="5171400"/>
                <a:ext cx="54720" cy="5832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4783680" y="5171400"/>
                <a:ext cx="55080" cy="5832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69" y="31"/>
                    </a:lnTo>
                    <a:lnTo>
                      <a:pt x="69" y="28"/>
                    </a:lnTo>
                    <a:lnTo>
                      <a:pt x="68" y="24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4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4" y="65"/>
                    </a:lnTo>
                    <a:lnTo>
                      <a:pt x="59" y="61"/>
                    </a:lnTo>
                    <a:lnTo>
                      <a:pt x="64" y="55"/>
                    </a:lnTo>
                    <a:lnTo>
                      <a:pt x="66" y="48"/>
                    </a:lnTo>
                    <a:lnTo>
                      <a:pt x="68" y="46"/>
                    </a:lnTo>
                    <a:lnTo>
                      <a:pt x="69" y="42"/>
                    </a:lnTo>
                    <a:lnTo>
                      <a:pt x="69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921480" y="5186160"/>
                <a:ext cx="2656080" cy="767520"/>
              </a:xfrm>
              <a:custGeom>
                <a:avLst/>
                <a:gdLst/>
                <a:ahLst/>
                <a:rect l="l" t="t" r="r" b="b"/>
                <a:pathLst>
                  <a:path w="3384" h="951">
                    <a:moveTo>
                      <a:pt x="1350" y="862"/>
                    </a:moveTo>
                    <a:lnTo>
                      <a:pt x="1350" y="853"/>
                    </a:lnTo>
                    <a:lnTo>
                      <a:pt x="1348" y="846"/>
                    </a:lnTo>
                    <a:lnTo>
                      <a:pt x="1346" y="838"/>
                    </a:lnTo>
                    <a:lnTo>
                      <a:pt x="1343" y="832"/>
                    </a:lnTo>
                    <a:lnTo>
                      <a:pt x="1341" y="824"/>
                    </a:lnTo>
                    <a:lnTo>
                      <a:pt x="1337" y="818"/>
                    </a:lnTo>
                    <a:lnTo>
                      <a:pt x="1332" y="812"/>
                    </a:lnTo>
                    <a:lnTo>
                      <a:pt x="1327" y="807"/>
                    </a:lnTo>
                    <a:lnTo>
                      <a:pt x="1322" y="802"/>
                    </a:lnTo>
                    <a:lnTo>
                      <a:pt x="1316" y="798"/>
                    </a:lnTo>
                    <a:lnTo>
                      <a:pt x="1310" y="794"/>
                    </a:lnTo>
                    <a:lnTo>
                      <a:pt x="1303" y="790"/>
                    </a:lnTo>
                    <a:lnTo>
                      <a:pt x="1296" y="788"/>
                    </a:lnTo>
                    <a:lnTo>
                      <a:pt x="1288" y="787"/>
                    </a:lnTo>
                    <a:lnTo>
                      <a:pt x="1281" y="785"/>
                    </a:lnTo>
                    <a:lnTo>
                      <a:pt x="1273" y="784"/>
                    </a:lnTo>
                    <a:lnTo>
                      <a:pt x="1264" y="785"/>
                    </a:lnTo>
                    <a:lnTo>
                      <a:pt x="1257" y="787"/>
                    </a:lnTo>
                    <a:lnTo>
                      <a:pt x="1249" y="788"/>
                    </a:lnTo>
                    <a:lnTo>
                      <a:pt x="1242" y="790"/>
                    </a:lnTo>
                    <a:lnTo>
                      <a:pt x="1236" y="794"/>
                    </a:lnTo>
                    <a:lnTo>
                      <a:pt x="1229" y="798"/>
                    </a:lnTo>
                    <a:lnTo>
                      <a:pt x="1223" y="802"/>
                    </a:lnTo>
                    <a:lnTo>
                      <a:pt x="1217" y="807"/>
                    </a:lnTo>
                    <a:lnTo>
                      <a:pt x="1212" y="812"/>
                    </a:lnTo>
                    <a:lnTo>
                      <a:pt x="1207" y="818"/>
                    </a:lnTo>
                    <a:lnTo>
                      <a:pt x="1203" y="824"/>
                    </a:lnTo>
                    <a:lnTo>
                      <a:pt x="1201" y="832"/>
                    </a:lnTo>
                    <a:lnTo>
                      <a:pt x="1197" y="838"/>
                    </a:lnTo>
                    <a:lnTo>
                      <a:pt x="1195" y="846"/>
                    </a:lnTo>
                    <a:lnTo>
                      <a:pt x="1194" y="853"/>
                    </a:lnTo>
                    <a:lnTo>
                      <a:pt x="1193" y="862"/>
                    </a:lnTo>
                    <a:lnTo>
                      <a:pt x="1194" y="870"/>
                    </a:lnTo>
                    <a:lnTo>
                      <a:pt x="1195" y="877"/>
                    </a:lnTo>
                    <a:lnTo>
                      <a:pt x="1197" y="885"/>
                    </a:lnTo>
                    <a:lnTo>
                      <a:pt x="1201" y="893"/>
                    </a:lnTo>
                    <a:lnTo>
                      <a:pt x="1203" y="900"/>
                    </a:lnTo>
                    <a:lnTo>
                      <a:pt x="1207" y="907"/>
                    </a:lnTo>
                    <a:lnTo>
                      <a:pt x="1212" y="913"/>
                    </a:lnTo>
                    <a:lnTo>
                      <a:pt x="1217" y="918"/>
                    </a:lnTo>
                    <a:lnTo>
                      <a:pt x="1223" y="923"/>
                    </a:lnTo>
                    <a:lnTo>
                      <a:pt x="1229" y="928"/>
                    </a:lnTo>
                    <a:lnTo>
                      <a:pt x="1236" y="932"/>
                    </a:lnTo>
                    <a:lnTo>
                      <a:pt x="1242" y="936"/>
                    </a:lnTo>
                    <a:lnTo>
                      <a:pt x="1249" y="938"/>
                    </a:lnTo>
                    <a:lnTo>
                      <a:pt x="1257" y="941"/>
                    </a:lnTo>
                    <a:lnTo>
                      <a:pt x="1264" y="942"/>
                    </a:lnTo>
                    <a:lnTo>
                      <a:pt x="1273" y="942"/>
                    </a:lnTo>
                    <a:lnTo>
                      <a:pt x="1281" y="942"/>
                    </a:lnTo>
                    <a:lnTo>
                      <a:pt x="1288" y="941"/>
                    </a:lnTo>
                    <a:lnTo>
                      <a:pt x="1296" y="938"/>
                    </a:lnTo>
                    <a:lnTo>
                      <a:pt x="1303" y="936"/>
                    </a:lnTo>
                    <a:lnTo>
                      <a:pt x="1310" y="932"/>
                    </a:lnTo>
                    <a:lnTo>
                      <a:pt x="1316" y="928"/>
                    </a:lnTo>
                    <a:lnTo>
                      <a:pt x="1322" y="923"/>
                    </a:lnTo>
                    <a:lnTo>
                      <a:pt x="1327" y="918"/>
                    </a:lnTo>
                    <a:lnTo>
                      <a:pt x="1332" y="913"/>
                    </a:lnTo>
                    <a:lnTo>
                      <a:pt x="1337" y="907"/>
                    </a:lnTo>
                    <a:lnTo>
                      <a:pt x="1341" y="900"/>
                    </a:lnTo>
                    <a:lnTo>
                      <a:pt x="1343" y="893"/>
                    </a:lnTo>
                    <a:lnTo>
                      <a:pt x="1346" y="885"/>
                    </a:lnTo>
                    <a:lnTo>
                      <a:pt x="1348" y="877"/>
                    </a:lnTo>
                    <a:lnTo>
                      <a:pt x="1350" y="870"/>
                    </a:lnTo>
                    <a:lnTo>
                      <a:pt x="1350" y="862"/>
                    </a:lnTo>
                    <a:lnTo>
                      <a:pt x="1350" y="862"/>
                    </a:lnTo>
                    <a:close/>
                    <a:moveTo>
                      <a:pt x="1605" y="862"/>
                    </a:moveTo>
                    <a:lnTo>
                      <a:pt x="1605" y="853"/>
                    </a:lnTo>
                    <a:lnTo>
                      <a:pt x="1604" y="846"/>
                    </a:lnTo>
                    <a:lnTo>
                      <a:pt x="1603" y="838"/>
                    </a:lnTo>
                    <a:lnTo>
                      <a:pt x="1600" y="832"/>
                    </a:lnTo>
                    <a:lnTo>
                      <a:pt x="1596" y="824"/>
                    </a:lnTo>
                    <a:lnTo>
                      <a:pt x="1593" y="818"/>
                    </a:lnTo>
                    <a:lnTo>
                      <a:pt x="1588" y="812"/>
                    </a:lnTo>
                    <a:lnTo>
                      <a:pt x="1583" y="807"/>
                    </a:lnTo>
                    <a:lnTo>
                      <a:pt x="1578" y="802"/>
                    </a:lnTo>
                    <a:lnTo>
                      <a:pt x="1571" y="798"/>
                    </a:lnTo>
                    <a:lnTo>
                      <a:pt x="1565" y="794"/>
                    </a:lnTo>
                    <a:lnTo>
                      <a:pt x="1559" y="790"/>
                    </a:lnTo>
                    <a:lnTo>
                      <a:pt x="1551" y="788"/>
                    </a:lnTo>
                    <a:lnTo>
                      <a:pt x="1544" y="787"/>
                    </a:lnTo>
                    <a:lnTo>
                      <a:pt x="1536" y="785"/>
                    </a:lnTo>
                    <a:lnTo>
                      <a:pt x="1529" y="784"/>
                    </a:lnTo>
                    <a:lnTo>
                      <a:pt x="1520" y="785"/>
                    </a:lnTo>
                    <a:lnTo>
                      <a:pt x="1512" y="787"/>
                    </a:lnTo>
                    <a:lnTo>
                      <a:pt x="1505" y="788"/>
                    </a:lnTo>
                    <a:lnTo>
                      <a:pt x="1497" y="790"/>
                    </a:lnTo>
                    <a:lnTo>
                      <a:pt x="1491" y="794"/>
                    </a:lnTo>
                    <a:lnTo>
                      <a:pt x="1485" y="798"/>
                    </a:lnTo>
                    <a:lnTo>
                      <a:pt x="1479" y="802"/>
                    </a:lnTo>
                    <a:lnTo>
                      <a:pt x="1472" y="807"/>
                    </a:lnTo>
                    <a:lnTo>
                      <a:pt x="1467" y="812"/>
                    </a:lnTo>
                    <a:lnTo>
                      <a:pt x="1464" y="818"/>
                    </a:lnTo>
                    <a:lnTo>
                      <a:pt x="1459" y="824"/>
                    </a:lnTo>
                    <a:lnTo>
                      <a:pt x="1456" y="832"/>
                    </a:lnTo>
                    <a:lnTo>
                      <a:pt x="1452" y="838"/>
                    </a:lnTo>
                    <a:lnTo>
                      <a:pt x="1451" y="846"/>
                    </a:lnTo>
                    <a:lnTo>
                      <a:pt x="1450" y="853"/>
                    </a:lnTo>
                    <a:lnTo>
                      <a:pt x="1450" y="862"/>
                    </a:lnTo>
                    <a:lnTo>
                      <a:pt x="1450" y="870"/>
                    </a:lnTo>
                    <a:lnTo>
                      <a:pt x="1451" y="877"/>
                    </a:lnTo>
                    <a:lnTo>
                      <a:pt x="1452" y="885"/>
                    </a:lnTo>
                    <a:lnTo>
                      <a:pt x="1456" y="893"/>
                    </a:lnTo>
                    <a:lnTo>
                      <a:pt x="1459" y="900"/>
                    </a:lnTo>
                    <a:lnTo>
                      <a:pt x="1464" y="907"/>
                    </a:lnTo>
                    <a:lnTo>
                      <a:pt x="1467" y="913"/>
                    </a:lnTo>
                    <a:lnTo>
                      <a:pt x="1472" y="918"/>
                    </a:lnTo>
                    <a:lnTo>
                      <a:pt x="1479" y="923"/>
                    </a:lnTo>
                    <a:lnTo>
                      <a:pt x="1485" y="928"/>
                    </a:lnTo>
                    <a:lnTo>
                      <a:pt x="1491" y="932"/>
                    </a:lnTo>
                    <a:lnTo>
                      <a:pt x="1497" y="936"/>
                    </a:lnTo>
                    <a:lnTo>
                      <a:pt x="1505" y="938"/>
                    </a:lnTo>
                    <a:lnTo>
                      <a:pt x="1512" y="941"/>
                    </a:lnTo>
                    <a:lnTo>
                      <a:pt x="1520" y="942"/>
                    </a:lnTo>
                    <a:lnTo>
                      <a:pt x="1529" y="942"/>
                    </a:lnTo>
                    <a:lnTo>
                      <a:pt x="1536" y="942"/>
                    </a:lnTo>
                    <a:lnTo>
                      <a:pt x="1544" y="941"/>
                    </a:lnTo>
                    <a:lnTo>
                      <a:pt x="1551" y="938"/>
                    </a:lnTo>
                    <a:lnTo>
                      <a:pt x="1559" y="936"/>
                    </a:lnTo>
                    <a:lnTo>
                      <a:pt x="1565" y="932"/>
                    </a:lnTo>
                    <a:lnTo>
                      <a:pt x="1571" y="928"/>
                    </a:lnTo>
                    <a:lnTo>
                      <a:pt x="1578" y="923"/>
                    </a:lnTo>
                    <a:lnTo>
                      <a:pt x="1583" y="918"/>
                    </a:lnTo>
                    <a:lnTo>
                      <a:pt x="1588" y="913"/>
                    </a:lnTo>
                    <a:lnTo>
                      <a:pt x="1593" y="907"/>
                    </a:lnTo>
                    <a:lnTo>
                      <a:pt x="1596" y="900"/>
                    </a:lnTo>
                    <a:lnTo>
                      <a:pt x="1600" y="893"/>
                    </a:lnTo>
                    <a:lnTo>
                      <a:pt x="1603" y="885"/>
                    </a:lnTo>
                    <a:lnTo>
                      <a:pt x="1604" y="877"/>
                    </a:lnTo>
                    <a:lnTo>
                      <a:pt x="1605" y="870"/>
                    </a:lnTo>
                    <a:lnTo>
                      <a:pt x="1605" y="862"/>
                    </a:lnTo>
                    <a:lnTo>
                      <a:pt x="1605" y="862"/>
                    </a:lnTo>
                    <a:close/>
                    <a:moveTo>
                      <a:pt x="1779" y="832"/>
                    </a:moveTo>
                    <a:lnTo>
                      <a:pt x="1751" y="832"/>
                    </a:lnTo>
                    <a:lnTo>
                      <a:pt x="1747" y="832"/>
                    </a:lnTo>
                    <a:lnTo>
                      <a:pt x="1742" y="833"/>
                    </a:lnTo>
                    <a:lnTo>
                      <a:pt x="1738" y="835"/>
                    </a:lnTo>
                    <a:lnTo>
                      <a:pt x="1734" y="836"/>
                    </a:lnTo>
                    <a:lnTo>
                      <a:pt x="1731" y="837"/>
                    </a:lnTo>
                    <a:lnTo>
                      <a:pt x="1728" y="840"/>
                    </a:lnTo>
                    <a:lnTo>
                      <a:pt x="1722" y="845"/>
                    </a:lnTo>
                    <a:lnTo>
                      <a:pt x="1717" y="850"/>
                    </a:lnTo>
                    <a:lnTo>
                      <a:pt x="1714" y="853"/>
                    </a:lnTo>
                    <a:lnTo>
                      <a:pt x="1713" y="857"/>
                    </a:lnTo>
                    <a:lnTo>
                      <a:pt x="1712" y="861"/>
                    </a:lnTo>
                    <a:lnTo>
                      <a:pt x="1710" y="865"/>
                    </a:lnTo>
                    <a:lnTo>
                      <a:pt x="1710" y="869"/>
                    </a:lnTo>
                    <a:lnTo>
                      <a:pt x="1709" y="874"/>
                    </a:lnTo>
                    <a:lnTo>
                      <a:pt x="1710" y="877"/>
                    </a:lnTo>
                    <a:lnTo>
                      <a:pt x="1710" y="881"/>
                    </a:lnTo>
                    <a:lnTo>
                      <a:pt x="1712" y="885"/>
                    </a:lnTo>
                    <a:lnTo>
                      <a:pt x="1713" y="889"/>
                    </a:lnTo>
                    <a:lnTo>
                      <a:pt x="1714" y="893"/>
                    </a:lnTo>
                    <a:lnTo>
                      <a:pt x="1717" y="896"/>
                    </a:lnTo>
                    <a:lnTo>
                      <a:pt x="1722" y="903"/>
                    </a:lnTo>
                    <a:lnTo>
                      <a:pt x="1728" y="908"/>
                    </a:lnTo>
                    <a:lnTo>
                      <a:pt x="1731" y="909"/>
                    </a:lnTo>
                    <a:lnTo>
                      <a:pt x="1734" y="912"/>
                    </a:lnTo>
                    <a:lnTo>
                      <a:pt x="1738" y="913"/>
                    </a:lnTo>
                    <a:lnTo>
                      <a:pt x="1742" y="914"/>
                    </a:lnTo>
                    <a:lnTo>
                      <a:pt x="1747" y="914"/>
                    </a:lnTo>
                    <a:lnTo>
                      <a:pt x="1751" y="914"/>
                    </a:lnTo>
                    <a:lnTo>
                      <a:pt x="1751" y="914"/>
                    </a:lnTo>
                    <a:lnTo>
                      <a:pt x="1791" y="914"/>
                    </a:lnTo>
                    <a:lnTo>
                      <a:pt x="1791" y="919"/>
                    </a:lnTo>
                    <a:lnTo>
                      <a:pt x="1793" y="925"/>
                    </a:lnTo>
                    <a:lnTo>
                      <a:pt x="1796" y="931"/>
                    </a:lnTo>
                    <a:lnTo>
                      <a:pt x="1801" y="936"/>
                    </a:lnTo>
                    <a:lnTo>
                      <a:pt x="1804" y="939"/>
                    </a:lnTo>
                    <a:lnTo>
                      <a:pt x="1811" y="942"/>
                    </a:lnTo>
                    <a:lnTo>
                      <a:pt x="1817" y="944"/>
                    </a:lnTo>
                    <a:lnTo>
                      <a:pt x="1823" y="946"/>
                    </a:lnTo>
                    <a:lnTo>
                      <a:pt x="1829" y="946"/>
                    </a:lnTo>
                    <a:lnTo>
                      <a:pt x="1829" y="946"/>
                    </a:lnTo>
                    <a:lnTo>
                      <a:pt x="2017" y="946"/>
                    </a:lnTo>
                    <a:lnTo>
                      <a:pt x="2024" y="946"/>
                    </a:lnTo>
                    <a:lnTo>
                      <a:pt x="2027" y="946"/>
                    </a:lnTo>
                    <a:lnTo>
                      <a:pt x="2031" y="944"/>
                    </a:lnTo>
                    <a:lnTo>
                      <a:pt x="2035" y="943"/>
                    </a:lnTo>
                    <a:lnTo>
                      <a:pt x="2037" y="942"/>
                    </a:lnTo>
                    <a:lnTo>
                      <a:pt x="2041" y="939"/>
                    </a:lnTo>
                    <a:lnTo>
                      <a:pt x="2045" y="937"/>
                    </a:lnTo>
                    <a:lnTo>
                      <a:pt x="2047" y="936"/>
                    </a:lnTo>
                    <a:lnTo>
                      <a:pt x="2049" y="933"/>
                    </a:lnTo>
                    <a:lnTo>
                      <a:pt x="2051" y="931"/>
                    </a:lnTo>
                    <a:lnTo>
                      <a:pt x="2054" y="928"/>
                    </a:lnTo>
                    <a:lnTo>
                      <a:pt x="2056" y="922"/>
                    </a:lnTo>
                    <a:lnTo>
                      <a:pt x="2059" y="914"/>
                    </a:lnTo>
                    <a:lnTo>
                      <a:pt x="2059" y="914"/>
                    </a:lnTo>
                    <a:lnTo>
                      <a:pt x="2099" y="914"/>
                    </a:lnTo>
                    <a:lnTo>
                      <a:pt x="2103" y="914"/>
                    </a:lnTo>
                    <a:lnTo>
                      <a:pt x="2108" y="914"/>
                    </a:lnTo>
                    <a:lnTo>
                      <a:pt x="2111" y="913"/>
                    </a:lnTo>
                    <a:lnTo>
                      <a:pt x="2115" y="912"/>
                    </a:lnTo>
                    <a:lnTo>
                      <a:pt x="2119" y="909"/>
                    </a:lnTo>
                    <a:lnTo>
                      <a:pt x="2121" y="908"/>
                    </a:lnTo>
                    <a:lnTo>
                      <a:pt x="2128" y="903"/>
                    </a:lnTo>
                    <a:lnTo>
                      <a:pt x="2133" y="896"/>
                    </a:lnTo>
                    <a:lnTo>
                      <a:pt x="2135" y="893"/>
                    </a:lnTo>
                    <a:lnTo>
                      <a:pt x="2136" y="889"/>
                    </a:lnTo>
                    <a:lnTo>
                      <a:pt x="2138" y="885"/>
                    </a:lnTo>
                    <a:lnTo>
                      <a:pt x="2139" y="881"/>
                    </a:lnTo>
                    <a:lnTo>
                      <a:pt x="2139" y="877"/>
                    </a:lnTo>
                    <a:lnTo>
                      <a:pt x="2140" y="874"/>
                    </a:lnTo>
                    <a:lnTo>
                      <a:pt x="2140" y="874"/>
                    </a:lnTo>
                    <a:lnTo>
                      <a:pt x="2139" y="869"/>
                    </a:lnTo>
                    <a:lnTo>
                      <a:pt x="2139" y="865"/>
                    </a:lnTo>
                    <a:lnTo>
                      <a:pt x="2138" y="861"/>
                    </a:lnTo>
                    <a:lnTo>
                      <a:pt x="2136" y="857"/>
                    </a:lnTo>
                    <a:lnTo>
                      <a:pt x="2135" y="853"/>
                    </a:lnTo>
                    <a:lnTo>
                      <a:pt x="2133" y="850"/>
                    </a:lnTo>
                    <a:lnTo>
                      <a:pt x="2128" y="845"/>
                    </a:lnTo>
                    <a:lnTo>
                      <a:pt x="2121" y="840"/>
                    </a:lnTo>
                    <a:lnTo>
                      <a:pt x="2119" y="837"/>
                    </a:lnTo>
                    <a:lnTo>
                      <a:pt x="2115" y="836"/>
                    </a:lnTo>
                    <a:lnTo>
                      <a:pt x="2111" y="835"/>
                    </a:lnTo>
                    <a:lnTo>
                      <a:pt x="2108" y="833"/>
                    </a:lnTo>
                    <a:lnTo>
                      <a:pt x="2103" y="832"/>
                    </a:lnTo>
                    <a:lnTo>
                      <a:pt x="2099" y="832"/>
                    </a:lnTo>
                    <a:lnTo>
                      <a:pt x="2099" y="832"/>
                    </a:lnTo>
                    <a:lnTo>
                      <a:pt x="2070" y="832"/>
                    </a:lnTo>
                    <a:lnTo>
                      <a:pt x="2069" y="830"/>
                    </a:lnTo>
                    <a:lnTo>
                      <a:pt x="2069" y="827"/>
                    </a:lnTo>
                    <a:lnTo>
                      <a:pt x="2068" y="824"/>
                    </a:lnTo>
                    <a:lnTo>
                      <a:pt x="2066" y="822"/>
                    </a:lnTo>
                    <a:lnTo>
                      <a:pt x="2064" y="818"/>
                    </a:lnTo>
                    <a:lnTo>
                      <a:pt x="2060" y="814"/>
                    </a:lnTo>
                    <a:lnTo>
                      <a:pt x="2058" y="811"/>
                    </a:lnTo>
                    <a:lnTo>
                      <a:pt x="2055" y="808"/>
                    </a:lnTo>
                    <a:lnTo>
                      <a:pt x="2053" y="806"/>
                    </a:lnTo>
                    <a:lnTo>
                      <a:pt x="2049" y="804"/>
                    </a:lnTo>
                    <a:lnTo>
                      <a:pt x="2045" y="802"/>
                    </a:lnTo>
                    <a:lnTo>
                      <a:pt x="2041" y="802"/>
                    </a:lnTo>
                    <a:lnTo>
                      <a:pt x="2037" y="800"/>
                    </a:lnTo>
                    <a:lnTo>
                      <a:pt x="2034" y="800"/>
                    </a:lnTo>
                    <a:lnTo>
                      <a:pt x="2034" y="800"/>
                    </a:lnTo>
                    <a:lnTo>
                      <a:pt x="1816" y="800"/>
                    </a:lnTo>
                    <a:lnTo>
                      <a:pt x="1812" y="800"/>
                    </a:lnTo>
                    <a:lnTo>
                      <a:pt x="1808" y="802"/>
                    </a:lnTo>
                    <a:lnTo>
                      <a:pt x="1804" y="802"/>
                    </a:lnTo>
                    <a:lnTo>
                      <a:pt x="1801" y="804"/>
                    </a:lnTo>
                    <a:lnTo>
                      <a:pt x="1797" y="806"/>
                    </a:lnTo>
                    <a:lnTo>
                      <a:pt x="1793" y="808"/>
                    </a:lnTo>
                    <a:lnTo>
                      <a:pt x="1791" y="811"/>
                    </a:lnTo>
                    <a:lnTo>
                      <a:pt x="1787" y="814"/>
                    </a:lnTo>
                    <a:lnTo>
                      <a:pt x="1783" y="818"/>
                    </a:lnTo>
                    <a:lnTo>
                      <a:pt x="1782" y="822"/>
                    </a:lnTo>
                    <a:lnTo>
                      <a:pt x="1781" y="827"/>
                    </a:lnTo>
                    <a:lnTo>
                      <a:pt x="1779" y="832"/>
                    </a:lnTo>
                    <a:lnTo>
                      <a:pt x="1779" y="832"/>
                    </a:lnTo>
                    <a:close/>
                    <a:moveTo>
                      <a:pt x="2237" y="934"/>
                    </a:moveTo>
                    <a:lnTo>
                      <a:pt x="2651" y="934"/>
                    </a:lnTo>
                    <a:lnTo>
                      <a:pt x="2653" y="934"/>
                    </a:lnTo>
                    <a:lnTo>
                      <a:pt x="2655" y="934"/>
                    </a:lnTo>
                    <a:lnTo>
                      <a:pt x="2656" y="933"/>
                    </a:lnTo>
                    <a:lnTo>
                      <a:pt x="2658" y="932"/>
                    </a:lnTo>
                    <a:lnTo>
                      <a:pt x="2659" y="931"/>
                    </a:lnTo>
                    <a:lnTo>
                      <a:pt x="2660" y="929"/>
                    </a:lnTo>
                    <a:lnTo>
                      <a:pt x="2660" y="928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818"/>
                    </a:lnTo>
                    <a:lnTo>
                      <a:pt x="2660" y="817"/>
                    </a:lnTo>
                    <a:lnTo>
                      <a:pt x="2660" y="816"/>
                    </a:lnTo>
                    <a:lnTo>
                      <a:pt x="2659" y="813"/>
                    </a:lnTo>
                    <a:lnTo>
                      <a:pt x="2658" y="812"/>
                    </a:lnTo>
                    <a:lnTo>
                      <a:pt x="2656" y="811"/>
                    </a:lnTo>
                    <a:lnTo>
                      <a:pt x="2655" y="811"/>
                    </a:lnTo>
                    <a:lnTo>
                      <a:pt x="2653" y="809"/>
                    </a:lnTo>
                    <a:lnTo>
                      <a:pt x="2651" y="809"/>
                    </a:lnTo>
                    <a:lnTo>
                      <a:pt x="2651" y="809"/>
                    </a:lnTo>
                    <a:lnTo>
                      <a:pt x="2237" y="809"/>
                    </a:lnTo>
                    <a:lnTo>
                      <a:pt x="2235" y="809"/>
                    </a:lnTo>
                    <a:lnTo>
                      <a:pt x="2234" y="811"/>
                    </a:lnTo>
                    <a:lnTo>
                      <a:pt x="2232" y="811"/>
                    </a:lnTo>
                    <a:lnTo>
                      <a:pt x="2230" y="812"/>
                    </a:lnTo>
                    <a:lnTo>
                      <a:pt x="2229" y="813"/>
                    </a:lnTo>
                    <a:lnTo>
                      <a:pt x="2229" y="816"/>
                    </a:lnTo>
                    <a:lnTo>
                      <a:pt x="2228" y="817"/>
                    </a:lnTo>
                    <a:lnTo>
                      <a:pt x="2228" y="818"/>
                    </a:lnTo>
                    <a:lnTo>
                      <a:pt x="2228" y="818"/>
                    </a:lnTo>
                    <a:lnTo>
                      <a:pt x="2228" y="925"/>
                    </a:lnTo>
                    <a:lnTo>
                      <a:pt x="2228" y="928"/>
                    </a:lnTo>
                    <a:lnTo>
                      <a:pt x="2229" y="929"/>
                    </a:lnTo>
                    <a:lnTo>
                      <a:pt x="2229" y="931"/>
                    </a:lnTo>
                    <a:lnTo>
                      <a:pt x="2230" y="932"/>
                    </a:lnTo>
                    <a:lnTo>
                      <a:pt x="2232" y="933"/>
                    </a:lnTo>
                    <a:lnTo>
                      <a:pt x="2234" y="934"/>
                    </a:lnTo>
                    <a:lnTo>
                      <a:pt x="2235" y="934"/>
                    </a:lnTo>
                    <a:lnTo>
                      <a:pt x="2237" y="934"/>
                    </a:lnTo>
                    <a:lnTo>
                      <a:pt x="2237" y="934"/>
                    </a:lnTo>
                    <a:close/>
                    <a:moveTo>
                      <a:pt x="2772" y="837"/>
                    </a:moveTo>
                    <a:lnTo>
                      <a:pt x="2742" y="837"/>
                    </a:lnTo>
                    <a:lnTo>
                      <a:pt x="2738" y="837"/>
                    </a:lnTo>
                    <a:lnTo>
                      <a:pt x="2734" y="837"/>
                    </a:lnTo>
                    <a:lnTo>
                      <a:pt x="2729" y="838"/>
                    </a:lnTo>
                    <a:lnTo>
                      <a:pt x="2725" y="840"/>
                    </a:lnTo>
                    <a:lnTo>
                      <a:pt x="2723" y="842"/>
                    </a:lnTo>
                    <a:lnTo>
                      <a:pt x="2719" y="843"/>
                    </a:lnTo>
                    <a:lnTo>
                      <a:pt x="2713" y="848"/>
                    </a:lnTo>
                    <a:lnTo>
                      <a:pt x="2708" y="855"/>
                    </a:lnTo>
                    <a:lnTo>
                      <a:pt x="2707" y="859"/>
                    </a:lnTo>
                    <a:lnTo>
                      <a:pt x="2704" y="862"/>
                    </a:lnTo>
                    <a:lnTo>
                      <a:pt x="2703" y="866"/>
                    </a:lnTo>
                    <a:lnTo>
                      <a:pt x="2702" y="870"/>
                    </a:lnTo>
                    <a:lnTo>
                      <a:pt x="2702" y="874"/>
                    </a:lnTo>
                    <a:lnTo>
                      <a:pt x="2702" y="877"/>
                    </a:lnTo>
                    <a:lnTo>
                      <a:pt x="2702" y="881"/>
                    </a:lnTo>
                    <a:lnTo>
                      <a:pt x="2702" y="885"/>
                    </a:lnTo>
                    <a:lnTo>
                      <a:pt x="2703" y="889"/>
                    </a:lnTo>
                    <a:lnTo>
                      <a:pt x="2704" y="893"/>
                    </a:lnTo>
                    <a:lnTo>
                      <a:pt x="2707" y="896"/>
                    </a:lnTo>
                    <a:lnTo>
                      <a:pt x="2708" y="899"/>
                    </a:lnTo>
                    <a:lnTo>
                      <a:pt x="2713" y="905"/>
                    </a:lnTo>
                    <a:lnTo>
                      <a:pt x="2719" y="910"/>
                    </a:lnTo>
                    <a:lnTo>
                      <a:pt x="2723" y="912"/>
                    </a:lnTo>
                    <a:lnTo>
                      <a:pt x="2725" y="913"/>
                    </a:lnTo>
                    <a:lnTo>
                      <a:pt x="2729" y="915"/>
                    </a:lnTo>
                    <a:lnTo>
                      <a:pt x="2734" y="915"/>
                    </a:lnTo>
                    <a:lnTo>
                      <a:pt x="2738" y="917"/>
                    </a:lnTo>
                    <a:lnTo>
                      <a:pt x="2742" y="917"/>
                    </a:lnTo>
                    <a:lnTo>
                      <a:pt x="2742" y="917"/>
                    </a:lnTo>
                    <a:lnTo>
                      <a:pt x="2783" y="917"/>
                    </a:lnTo>
                    <a:lnTo>
                      <a:pt x="2783" y="922"/>
                    </a:lnTo>
                    <a:lnTo>
                      <a:pt x="2784" y="928"/>
                    </a:lnTo>
                    <a:lnTo>
                      <a:pt x="2788" y="933"/>
                    </a:lnTo>
                    <a:lnTo>
                      <a:pt x="2792" y="938"/>
                    </a:lnTo>
                    <a:lnTo>
                      <a:pt x="2797" y="942"/>
                    </a:lnTo>
                    <a:lnTo>
                      <a:pt x="2799" y="944"/>
                    </a:lnTo>
                    <a:lnTo>
                      <a:pt x="2803" y="946"/>
                    </a:lnTo>
                    <a:lnTo>
                      <a:pt x="2806" y="948"/>
                    </a:lnTo>
                    <a:lnTo>
                      <a:pt x="2808" y="948"/>
                    </a:lnTo>
                    <a:lnTo>
                      <a:pt x="2812" y="949"/>
                    </a:lnTo>
                    <a:lnTo>
                      <a:pt x="2814" y="951"/>
                    </a:lnTo>
                    <a:lnTo>
                      <a:pt x="2821" y="951"/>
                    </a:lnTo>
                    <a:lnTo>
                      <a:pt x="2821" y="951"/>
                    </a:lnTo>
                    <a:lnTo>
                      <a:pt x="3009" y="951"/>
                    </a:lnTo>
                    <a:lnTo>
                      <a:pt x="3014" y="951"/>
                    </a:lnTo>
                    <a:lnTo>
                      <a:pt x="3017" y="949"/>
                    </a:lnTo>
                    <a:lnTo>
                      <a:pt x="3021" y="949"/>
                    </a:lnTo>
                    <a:lnTo>
                      <a:pt x="3025" y="948"/>
                    </a:lnTo>
                    <a:lnTo>
                      <a:pt x="3031" y="944"/>
                    </a:lnTo>
                    <a:lnTo>
                      <a:pt x="3036" y="942"/>
                    </a:lnTo>
                    <a:lnTo>
                      <a:pt x="3041" y="936"/>
                    </a:lnTo>
                    <a:lnTo>
                      <a:pt x="3044" y="933"/>
                    </a:lnTo>
                    <a:lnTo>
                      <a:pt x="3046" y="931"/>
                    </a:lnTo>
                    <a:lnTo>
                      <a:pt x="3047" y="927"/>
                    </a:lnTo>
                    <a:lnTo>
                      <a:pt x="3049" y="923"/>
                    </a:lnTo>
                    <a:lnTo>
                      <a:pt x="3050" y="920"/>
                    </a:lnTo>
                    <a:lnTo>
                      <a:pt x="3050" y="917"/>
                    </a:lnTo>
                    <a:lnTo>
                      <a:pt x="3050" y="917"/>
                    </a:lnTo>
                    <a:lnTo>
                      <a:pt x="3092" y="917"/>
                    </a:lnTo>
                    <a:lnTo>
                      <a:pt x="3097" y="917"/>
                    </a:lnTo>
                    <a:lnTo>
                      <a:pt x="3101" y="915"/>
                    </a:lnTo>
                    <a:lnTo>
                      <a:pt x="3105" y="915"/>
                    </a:lnTo>
                    <a:lnTo>
                      <a:pt x="3109" y="913"/>
                    </a:lnTo>
                    <a:lnTo>
                      <a:pt x="3113" y="912"/>
                    </a:lnTo>
                    <a:lnTo>
                      <a:pt x="3115" y="910"/>
                    </a:lnTo>
                    <a:lnTo>
                      <a:pt x="3121" y="905"/>
                    </a:lnTo>
                    <a:lnTo>
                      <a:pt x="3126" y="899"/>
                    </a:lnTo>
                    <a:lnTo>
                      <a:pt x="3129" y="896"/>
                    </a:lnTo>
                    <a:lnTo>
                      <a:pt x="3130" y="893"/>
                    </a:lnTo>
                    <a:lnTo>
                      <a:pt x="3131" y="889"/>
                    </a:lnTo>
                    <a:lnTo>
                      <a:pt x="3133" y="885"/>
                    </a:lnTo>
                    <a:lnTo>
                      <a:pt x="3134" y="881"/>
                    </a:lnTo>
                    <a:lnTo>
                      <a:pt x="3134" y="877"/>
                    </a:lnTo>
                    <a:lnTo>
                      <a:pt x="3134" y="877"/>
                    </a:lnTo>
                    <a:lnTo>
                      <a:pt x="3134" y="874"/>
                    </a:lnTo>
                    <a:lnTo>
                      <a:pt x="3133" y="870"/>
                    </a:lnTo>
                    <a:lnTo>
                      <a:pt x="3131" y="866"/>
                    </a:lnTo>
                    <a:lnTo>
                      <a:pt x="3130" y="862"/>
                    </a:lnTo>
                    <a:lnTo>
                      <a:pt x="3129" y="859"/>
                    </a:lnTo>
                    <a:lnTo>
                      <a:pt x="3126" y="855"/>
                    </a:lnTo>
                    <a:lnTo>
                      <a:pt x="3121" y="848"/>
                    </a:lnTo>
                    <a:lnTo>
                      <a:pt x="3115" y="843"/>
                    </a:lnTo>
                    <a:lnTo>
                      <a:pt x="3113" y="842"/>
                    </a:lnTo>
                    <a:lnTo>
                      <a:pt x="3109" y="840"/>
                    </a:lnTo>
                    <a:lnTo>
                      <a:pt x="3105" y="838"/>
                    </a:lnTo>
                    <a:lnTo>
                      <a:pt x="3101" y="837"/>
                    </a:lnTo>
                    <a:lnTo>
                      <a:pt x="3097" y="837"/>
                    </a:lnTo>
                    <a:lnTo>
                      <a:pt x="3092" y="837"/>
                    </a:lnTo>
                    <a:lnTo>
                      <a:pt x="3092" y="837"/>
                    </a:lnTo>
                    <a:lnTo>
                      <a:pt x="3061" y="837"/>
                    </a:lnTo>
                    <a:lnTo>
                      <a:pt x="3061" y="832"/>
                    </a:lnTo>
                    <a:lnTo>
                      <a:pt x="3060" y="827"/>
                    </a:lnTo>
                    <a:lnTo>
                      <a:pt x="3057" y="822"/>
                    </a:lnTo>
                    <a:lnTo>
                      <a:pt x="3055" y="817"/>
                    </a:lnTo>
                    <a:lnTo>
                      <a:pt x="3051" y="814"/>
                    </a:lnTo>
                    <a:lnTo>
                      <a:pt x="3049" y="812"/>
                    </a:lnTo>
                    <a:lnTo>
                      <a:pt x="3045" y="809"/>
                    </a:lnTo>
                    <a:lnTo>
                      <a:pt x="3041" y="807"/>
                    </a:lnTo>
                    <a:lnTo>
                      <a:pt x="3037" y="806"/>
                    </a:lnTo>
                    <a:lnTo>
                      <a:pt x="3034" y="804"/>
                    </a:lnTo>
                    <a:lnTo>
                      <a:pt x="3029" y="803"/>
                    </a:lnTo>
                    <a:lnTo>
                      <a:pt x="3025" y="803"/>
                    </a:lnTo>
                    <a:lnTo>
                      <a:pt x="3025" y="803"/>
                    </a:lnTo>
                    <a:lnTo>
                      <a:pt x="2809" y="803"/>
                    </a:lnTo>
                    <a:lnTo>
                      <a:pt x="2806" y="803"/>
                    </a:lnTo>
                    <a:lnTo>
                      <a:pt x="2802" y="804"/>
                    </a:lnTo>
                    <a:lnTo>
                      <a:pt x="2797" y="806"/>
                    </a:lnTo>
                    <a:lnTo>
                      <a:pt x="2793" y="807"/>
                    </a:lnTo>
                    <a:lnTo>
                      <a:pt x="2789" y="809"/>
                    </a:lnTo>
                    <a:lnTo>
                      <a:pt x="2787" y="812"/>
                    </a:lnTo>
                    <a:lnTo>
                      <a:pt x="2783" y="814"/>
                    </a:lnTo>
                    <a:lnTo>
                      <a:pt x="2780" y="817"/>
                    </a:lnTo>
                    <a:lnTo>
                      <a:pt x="2778" y="822"/>
                    </a:lnTo>
                    <a:lnTo>
                      <a:pt x="2775" y="827"/>
                    </a:lnTo>
                    <a:lnTo>
                      <a:pt x="2773" y="832"/>
                    </a:lnTo>
                    <a:lnTo>
                      <a:pt x="2772" y="837"/>
                    </a:lnTo>
                    <a:lnTo>
                      <a:pt x="2772" y="837"/>
                    </a:lnTo>
                    <a:close/>
                    <a:moveTo>
                      <a:pt x="3384" y="775"/>
                    </a:moveTo>
                    <a:lnTo>
                      <a:pt x="3176" y="775"/>
                    </a:lnTo>
                    <a:lnTo>
                      <a:pt x="3176" y="942"/>
                    </a:lnTo>
                    <a:lnTo>
                      <a:pt x="3384" y="942"/>
                    </a:lnTo>
                    <a:lnTo>
                      <a:pt x="3384" y="775"/>
                    </a:lnTo>
                    <a:lnTo>
                      <a:pt x="3384" y="775"/>
                    </a:lnTo>
                    <a:close/>
                    <a:moveTo>
                      <a:pt x="3000" y="0"/>
                    </a:moveTo>
                    <a:lnTo>
                      <a:pt x="2918" y="0"/>
                    </a:lnTo>
                    <a:lnTo>
                      <a:pt x="2915" y="1"/>
                    </a:lnTo>
                    <a:lnTo>
                      <a:pt x="2911" y="3"/>
                    </a:lnTo>
                    <a:lnTo>
                      <a:pt x="2908" y="4"/>
                    </a:lnTo>
                    <a:lnTo>
                      <a:pt x="2906" y="6"/>
                    </a:lnTo>
                    <a:lnTo>
                      <a:pt x="2903" y="10"/>
                    </a:lnTo>
                    <a:lnTo>
                      <a:pt x="2902" y="13"/>
                    </a:lnTo>
                    <a:lnTo>
                      <a:pt x="2901" y="16"/>
                    </a:lnTo>
                    <a:lnTo>
                      <a:pt x="2901" y="21"/>
                    </a:lnTo>
                    <a:lnTo>
                      <a:pt x="2901" y="21"/>
                    </a:lnTo>
                    <a:lnTo>
                      <a:pt x="2901" y="93"/>
                    </a:lnTo>
                    <a:lnTo>
                      <a:pt x="2901" y="97"/>
                    </a:lnTo>
                    <a:lnTo>
                      <a:pt x="2902" y="101"/>
                    </a:lnTo>
                    <a:lnTo>
                      <a:pt x="2903" y="104"/>
                    </a:lnTo>
                    <a:lnTo>
                      <a:pt x="2906" y="106"/>
                    </a:lnTo>
                    <a:lnTo>
                      <a:pt x="2908" y="109"/>
                    </a:lnTo>
                    <a:lnTo>
                      <a:pt x="2911" y="111"/>
                    </a:lnTo>
                    <a:lnTo>
                      <a:pt x="2915" y="111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3000" y="112"/>
                    </a:lnTo>
                    <a:lnTo>
                      <a:pt x="3000" y="0"/>
                    </a:lnTo>
                    <a:lnTo>
                      <a:pt x="3000" y="0"/>
                    </a:lnTo>
                    <a:close/>
                    <a:moveTo>
                      <a:pt x="3000" y="580"/>
                    </a:moveTo>
                    <a:lnTo>
                      <a:pt x="2918" y="580"/>
                    </a:lnTo>
                    <a:lnTo>
                      <a:pt x="2915" y="580"/>
                    </a:lnTo>
                    <a:lnTo>
                      <a:pt x="2911" y="581"/>
                    </a:lnTo>
                    <a:lnTo>
                      <a:pt x="2908" y="583"/>
                    </a:lnTo>
                    <a:lnTo>
                      <a:pt x="2906" y="585"/>
                    </a:lnTo>
                    <a:lnTo>
                      <a:pt x="2903" y="588"/>
                    </a:lnTo>
                    <a:lnTo>
                      <a:pt x="2902" y="591"/>
                    </a:lnTo>
                    <a:lnTo>
                      <a:pt x="2901" y="595"/>
                    </a:lnTo>
                    <a:lnTo>
                      <a:pt x="2901" y="597"/>
                    </a:lnTo>
                    <a:lnTo>
                      <a:pt x="2901" y="597"/>
                    </a:lnTo>
                    <a:lnTo>
                      <a:pt x="2901" y="670"/>
                    </a:lnTo>
                    <a:lnTo>
                      <a:pt x="2901" y="674"/>
                    </a:lnTo>
                    <a:lnTo>
                      <a:pt x="2902" y="678"/>
                    </a:lnTo>
                    <a:lnTo>
                      <a:pt x="2903" y="682"/>
                    </a:lnTo>
                    <a:lnTo>
                      <a:pt x="2906" y="686"/>
                    </a:lnTo>
                    <a:lnTo>
                      <a:pt x="2908" y="688"/>
                    </a:lnTo>
                    <a:lnTo>
                      <a:pt x="2911" y="689"/>
                    </a:lnTo>
                    <a:lnTo>
                      <a:pt x="2915" y="691"/>
                    </a:lnTo>
                    <a:lnTo>
                      <a:pt x="2918" y="691"/>
                    </a:lnTo>
                    <a:lnTo>
                      <a:pt x="2918" y="691"/>
                    </a:lnTo>
                    <a:lnTo>
                      <a:pt x="3000" y="691"/>
                    </a:lnTo>
                    <a:lnTo>
                      <a:pt x="3000" y="580"/>
                    </a:lnTo>
                    <a:lnTo>
                      <a:pt x="3000" y="580"/>
                    </a:lnTo>
                    <a:close/>
                    <a:moveTo>
                      <a:pt x="0" y="880"/>
                    </a:moveTo>
                    <a:lnTo>
                      <a:pt x="0" y="925"/>
                    </a:lnTo>
                    <a:lnTo>
                      <a:pt x="125" y="925"/>
                    </a:lnTo>
                    <a:lnTo>
                      <a:pt x="125" y="880"/>
                    </a:lnTo>
                    <a:lnTo>
                      <a:pt x="0" y="880"/>
                    </a:lnTo>
                    <a:lnTo>
                      <a:pt x="0" y="880"/>
                    </a:lnTo>
                    <a:close/>
                    <a:moveTo>
                      <a:pt x="822" y="880"/>
                    </a:moveTo>
                    <a:lnTo>
                      <a:pt x="822" y="925"/>
                    </a:lnTo>
                    <a:lnTo>
                      <a:pt x="945" y="925"/>
                    </a:lnTo>
                    <a:lnTo>
                      <a:pt x="945" y="880"/>
                    </a:lnTo>
                    <a:lnTo>
                      <a:pt x="822" y="880"/>
                    </a:lnTo>
                    <a:lnTo>
                      <a:pt x="822" y="88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4856760" y="5819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78"/>
                    </a:moveTo>
                    <a:lnTo>
                      <a:pt x="157" y="69"/>
                    </a:lnTo>
                    <a:lnTo>
                      <a:pt x="155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8" y="40"/>
                    </a:lnTo>
                    <a:lnTo>
                      <a:pt x="144" y="34"/>
                    </a:lnTo>
                    <a:lnTo>
                      <a:pt x="139" y="28"/>
                    </a:lnTo>
                    <a:lnTo>
                      <a:pt x="134" y="23"/>
                    </a:lnTo>
                    <a:lnTo>
                      <a:pt x="129" y="18"/>
                    </a:lnTo>
                    <a:lnTo>
                      <a:pt x="123" y="14"/>
                    </a:lnTo>
                    <a:lnTo>
                      <a:pt x="117" y="10"/>
                    </a:lnTo>
                    <a:lnTo>
                      <a:pt x="110" y="6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1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24" y="23"/>
                    </a:lnTo>
                    <a:lnTo>
                      <a:pt x="19" y="28"/>
                    </a:lnTo>
                    <a:lnTo>
                      <a:pt x="14" y="34"/>
                    </a:lnTo>
                    <a:lnTo>
                      <a:pt x="10" y="40"/>
                    </a:lnTo>
                    <a:lnTo>
                      <a:pt x="8" y="48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1" y="69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2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9" y="129"/>
                    </a:lnTo>
                    <a:lnTo>
                      <a:pt x="24" y="134"/>
                    </a:lnTo>
                    <a:lnTo>
                      <a:pt x="30" y="139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9" y="152"/>
                    </a:lnTo>
                    <a:lnTo>
                      <a:pt x="56" y="154"/>
                    </a:lnTo>
                    <a:lnTo>
                      <a:pt x="64" y="157"/>
                    </a:lnTo>
                    <a:lnTo>
                      <a:pt x="71" y="158"/>
                    </a:lnTo>
                    <a:lnTo>
                      <a:pt x="80" y="158"/>
                    </a:lnTo>
                    <a:lnTo>
                      <a:pt x="88" y="158"/>
                    </a:lnTo>
                    <a:lnTo>
                      <a:pt x="95" y="157"/>
                    </a:lnTo>
                    <a:lnTo>
                      <a:pt x="103" y="154"/>
                    </a:lnTo>
                    <a:lnTo>
                      <a:pt x="110" y="152"/>
                    </a:lnTo>
                    <a:lnTo>
                      <a:pt x="117" y="148"/>
                    </a:lnTo>
                    <a:lnTo>
                      <a:pt x="123" y="144"/>
                    </a:lnTo>
                    <a:lnTo>
                      <a:pt x="129" y="139"/>
                    </a:lnTo>
                    <a:lnTo>
                      <a:pt x="134" y="134"/>
                    </a:lnTo>
                    <a:lnTo>
                      <a:pt x="139" y="129"/>
                    </a:lnTo>
                    <a:lnTo>
                      <a:pt x="144" y="123"/>
                    </a:lnTo>
                    <a:lnTo>
                      <a:pt x="148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5" y="93"/>
                    </a:lnTo>
                    <a:lnTo>
                      <a:pt x="157" y="86"/>
                    </a:lnTo>
                    <a:lnTo>
                      <a:pt x="157" y="78"/>
                    </a:lnTo>
                    <a:lnTo>
                      <a:pt x="157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5058360" y="5819040"/>
                <a:ext cx="122400" cy="128520"/>
              </a:xfrm>
              <a:custGeom>
                <a:avLst/>
                <a:gdLst/>
                <a:ahLst/>
                <a:rect l="l" t="t" r="r" b="b"/>
                <a:pathLst>
                  <a:path w="155" h="158">
                    <a:moveTo>
                      <a:pt x="155" y="78"/>
                    </a:moveTo>
                    <a:lnTo>
                      <a:pt x="155" y="69"/>
                    </a:lnTo>
                    <a:lnTo>
                      <a:pt x="154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6" y="40"/>
                    </a:lnTo>
                    <a:lnTo>
                      <a:pt x="143" y="34"/>
                    </a:lnTo>
                    <a:lnTo>
                      <a:pt x="138" y="28"/>
                    </a:lnTo>
                    <a:lnTo>
                      <a:pt x="133" y="23"/>
                    </a:lnTo>
                    <a:lnTo>
                      <a:pt x="128" y="18"/>
                    </a:lnTo>
                    <a:lnTo>
                      <a:pt x="121" y="14"/>
                    </a:lnTo>
                    <a:lnTo>
                      <a:pt x="115" y="10"/>
                    </a:lnTo>
                    <a:lnTo>
                      <a:pt x="109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6" y="1"/>
                    </a:lnTo>
                    <a:lnTo>
                      <a:pt x="79" y="0"/>
                    </a:lnTo>
                    <a:lnTo>
                      <a:pt x="70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7" y="6"/>
                    </a:lnTo>
                    <a:lnTo>
                      <a:pt x="41" y="10"/>
                    </a:lnTo>
                    <a:lnTo>
                      <a:pt x="35" y="14"/>
                    </a:lnTo>
                    <a:lnTo>
                      <a:pt x="29" y="18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4" y="34"/>
                    </a:lnTo>
                    <a:lnTo>
                      <a:pt x="9" y="40"/>
                    </a:lnTo>
                    <a:lnTo>
                      <a:pt x="6" y="48"/>
                    </a:lnTo>
                    <a:lnTo>
                      <a:pt x="2" y="54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" y="93"/>
                    </a:lnTo>
                    <a:lnTo>
                      <a:pt x="2" y="101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4" y="123"/>
                    </a:lnTo>
                    <a:lnTo>
                      <a:pt x="17" y="129"/>
                    </a:lnTo>
                    <a:lnTo>
                      <a:pt x="22" y="134"/>
                    </a:lnTo>
                    <a:lnTo>
                      <a:pt x="29" y="139"/>
                    </a:lnTo>
                    <a:lnTo>
                      <a:pt x="35" y="144"/>
                    </a:lnTo>
                    <a:lnTo>
                      <a:pt x="41" y="148"/>
                    </a:lnTo>
                    <a:lnTo>
                      <a:pt x="47" y="152"/>
                    </a:lnTo>
                    <a:lnTo>
                      <a:pt x="55" y="154"/>
                    </a:lnTo>
                    <a:lnTo>
                      <a:pt x="62" y="157"/>
                    </a:lnTo>
                    <a:lnTo>
                      <a:pt x="70" y="158"/>
                    </a:lnTo>
                    <a:lnTo>
                      <a:pt x="79" y="158"/>
                    </a:lnTo>
                    <a:lnTo>
                      <a:pt x="86" y="158"/>
                    </a:lnTo>
                    <a:lnTo>
                      <a:pt x="94" y="157"/>
                    </a:lnTo>
                    <a:lnTo>
                      <a:pt x="101" y="154"/>
                    </a:lnTo>
                    <a:lnTo>
                      <a:pt x="109" y="152"/>
                    </a:lnTo>
                    <a:lnTo>
                      <a:pt x="115" y="148"/>
                    </a:lnTo>
                    <a:lnTo>
                      <a:pt x="121" y="144"/>
                    </a:lnTo>
                    <a:lnTo>
                      <a:pt x="128" y="139"/>
                    </a:lnTo>
                    <a:lnTo>
                      <a:pt x="133" y="134"/>
                    </a:lnTo>
                    <a:lnTo>
                      <a:pt x="138" y="129"/>
                    </a:lnTo>
                    <a:lnTo>
                      <a:pt x="143" y="123"/>
                    </a:lnTo>
                    <a:lnTo>
                      <a:pt x="146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4" y="93"/>
                    </a:lnTo>
                    <a:lnTo>
                      <a:pt x="155" y="86"/>
                    </a:lnTo>
                    <a:lnTo>
                      <a:pt x="155" y="78"/>
                    </a:lnTo>
                    <a:lnTo>
                      <a:pt x="155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262120" y="5832720"/>
                <a:ext cx="339120" cy="117360"/>
              </a:xfrm>
              <a:custGeom>
                <a:avLst/>
                <a:gdLst/>
                <a:ahLst/>
                <a:rect l="l" t="t" r="r" b="b"/>
                <a:pathLst>
                  <a:path w="431" h="146">
                    <a:moveTo>
                      <a:pt x="70" y="32"/>
                    </a:moveTo>
                    <a:lnTo>
                      <a:pt x="42" y="32"/>
                    </a:lnTo>
                    <a:lnTo>
                      <a:pt x="38" y="32"/>
                    </a:lnTo>
                    <a:lnTo>
                      <a:pt x="33" y="33"/>
                    </a:lnTo>
                    <a:lnTo>
                      <a:pt x="29" y="35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3" y="45"/>
                    </a:lnTo>
                    <a:lnTo>
                      <a:pt x="8" y="50"/>
                    </a:lnTo>
                    <a:lnTo>
                      <a:pt x="5" y="53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9"/>
                    </a:lnTo>
                    <a:lnTo>
                      <a:pt x="5" y="93"/>
                    </a:lnTo>
                    <a:lnTo>
                      <a:pt x="8" y="96"/>
                    </a:lnTo>
                    <a:lnTo>
                      <a:pt x="13" y="103"/>
                    </a:lnTo>
                    <a:lnTo>
                      <a:pt x="19" y="108"/>
                    </a:lnTo>
                    <a:lnTo>
                      <a:pt x="22" y="109"/>
                    </a:lnTo>
                    <a:lnTo>
                      <a:pt x="25" y="112"/>
                    </a:lnTo>
                    <a:lnTo>
                      <a:pt x="29" y="113"/>
                    </a:lnTo>
                    <a:lnTo>
                      <a:pt x="33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82" y="114"/>
                    </a:lnTo>
                    <a:lnTo>
                      <a:pt x="82" y="119"/>
                    </a:lnTo>
                    <a:lnTo>
                      <a:pt x="84" y="125"/>
                    </a:lnTo>
                    <a:lnTo>
                      <a:pt x="87" y="131"/>
                    </a:lnTo>
                    <a:lnTo>
                      <a:pt x="92" y="136"/>
                    </a:lnTo>
                    <a:lnTo>
                      <a:pt x="95" y="139"/>
                    </a:lnTo>
                    <a:lnTo>
                      <a:pt x="102" y="142"/>
                    </a:lnTo>
                    <a:lnTo>
                      <a:pt x="108" y="144"/>
                    </a:lnTo>
                    <a:lnTo>
                      <a:pt x="114" y="146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308" y="146"/>
                    </a:lnTo>
                    <a:lnTo>
                      <a:pt x="315" y="146"/>
                    </a:lnTo>
                    <a:lnTo>
                      <a:pt x="318" y="146"/>
                    </a:lnTo>
                    <a:lnTo>
                      <a:pt x="322" y="144"/>
                    </a:lnTo>
                    <a:lnTo>
                      <a:pt x="326" y="143"/>
                    </a:lnTo>
                    <a:lnTo>
                      <a:pt x="328" y="142"/>
                    </a:lnTo>
                    <a:lnTo>
                      <a:pt x="332" y="139"/>
                    </a:lnTo>
                    <a:lnTo>
                      <a:pt x="336" y="137"/>
                    </a:lnTo>
                    <a:lnTo>
                      <a:pt x="338" y="136"/>
                    </a:lnTo>
                    <a:lnTo>
                      <a:pt x="340" y="133"/>
                    </a:lnTo>
                    <a:lnTo>
                      <a:pt x="342" y="131"/>
                    </a:lnTo>
                    <a:lnTo>
                      <a:pt x="345" y="128"/>
                    </a:lnTo>
                    <a:lnTo>
                      <a:pt x="347" y="122"/>
                    </a:lnTo>
                    <a:lnTo>
                      <a:pt x="350" y="114"/>
                    </a:lnTo>
                    <a:lnTo>
                      <a:pt x="350" y="114"/>
                    </a:lnTo>
                    <a:lnTo>
                      <a:pt x="390" y="114"/>
                    </a:lnTo>
                    <a:lnTo>
                      <a:pt x="394" y="114"/>
                    </a:lnTo>
                    <a:lnTo>
                      <a:pt x="399" y="114"/>
                    </a:lnTo>
                    <a:lnTo>
                      <a:pt x="402" y="113"/>
                    </a:lnTo>
                    <a:lnTo>
                      <a:pt x="406" y="112"/>
                    </a:lnTo>
                    <a:lnTo>
                      <a:pt x="410" y="109"/>
                    </a:lnTo>
                    <a:lnTo>
                      <a:pt x="412" y="108"/>
                    </a:lnTo>
                    <a:lnTo>
                      <a:pt x="419" y="103"/>
                    </a:lnTo>
                    <a:lnTo>
                      <a:pt x="424" y="96"/>
                    </a:lnTo>
                    <a:lnTo>
                      <a:pt x="426" y="93"/>
                    </a:lnTo>
                    <a:lnTo>
                      <a:pt x="427" y="89"/>
                    </a:lnTo>
                    <a:lnTo>
                      <a:pt x="429" y="85"/>
                    </a:lnTo>
                    <a:lnTo>
                      <a:pt x="430" y="81"/>
                    </a:lnTo>
                    <a:lnTo>
                      <a:pt x="430" y="77"/>
                    </a:lnTo>
                    <a:lnTo>
                      <a:pt x="431" y="74"/>
                    </a:lnTo>
                    <a:lnTo>
                      <a:pt x="431" y="74"/>
                    </a:lnTo>
                    <a:lnTo>
                      <a:pt x="430" y="69"/>
                    </a:lnTo>
                    <a:lnTo>
                      <a:pt x="430" y="65"/>
                    </a:lnTo>
                    <a:lnTo>
                      <a:pt x="429" y="61"/>
                    </a:lnTo>
                    <a:lnTo>
                      <a:pt x="427" y="57"/>
                    </a:lnTo>
                    <a:lnTo>
                      <a:pt x="426" y="53"/>
                    </a:lnTo>
                    <a:lnTo>
                      <a:pt x="424" y="50"/>
                    </a:lnTo>
                    <a:lnTo>
                      <a:pt x="419" y="45"/>
                    </a:lnTo>
                    <a:lnTo>
                      <a:pt x="412" y="40"/>
                    </a:lnTo>
                    <a:lnTo>
                      <a:pt x="410" y="37"/>
                    </a:lnTo>
                    <a:lnTo>
                      <a:pt x="406" y="36"/>
                    </a:lnTo>
                    <a:lnTo>
                      <a:pt x="402" y="35"/>
                    </a:lnTo>
                    <a:lnTo>
                      <a:pt x="399" y="33"/>
                    </a:lnTo>
                    <a:lnTo>
                      <a:pt x="394" y="32"/>
                    </a:lnTo>
                    <a:lnTo>
                      <a:pt x="390" y="32"/>
                    </a:lnTo>
                    <a:lnTo>
                      <a:pt x="390" y="32"/>
                    </a:lnTo>
                    <a:lnTo>
                      <a:pt x="361" y="32"/>
                    </a:lnTo>
                    <a:lnTo>
                      <a:pt x="360" y="30"/>
                    </a:lnTo>
                    <a:lnTo>
                      <a:pt x="360" y="27"/>
                    </a:lnTo>
                    <a:lnTo>
                      <a:pt x="359" y="24"/>
                    </a:lnTo>
                    <a:lnTo>
                      <a:pt x="357" y="22"/>
                    </a:lnTo>
                    <a:lnTo>
                      <a:pt x="355" y="18"/>
                    </a:lnTo>
                    <a:lnTo>
                      <a:pt x="351" y="14"/>
                    </a:lnTo>
                    <a:lnTo>
                      <a:pt x="349" y="11"/>
                    </a:lnTo>
                    <a:lnTo>
                      <a:pt x="346" y="8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36" y="2"/>
                    </a:lnTo>
                    <a:lnTo>
                      <a:pt x="332" y="2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4" y="18"/>
                    </a:lnTo>
                    <a:lnTo>
                      <a:pt x="73" y="22"/>
                    </a:lnTo>
                    <a:lnTo>
                      <a:pt x="72" y="27"/>
                    </a:lnTo>
                    <a:lnTo>
                      <a:pt x="70" y="32"/>
                    </a:lnTo>
                    <a:lnTo>
                      <a:pt x="70" y="3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5668920" y="5840280"/>
                <a:ext cx="340560" cy="100080"/>
              </a:xfrm>
              <a:custGeom>
                <a:avLst/>
                <a:gdLst/>
                <a:ahLst/>
                <a:rect l="l" t="t" r="r" b="b"/>
                <a:pathLst>
                  <a:path w="432" h="125">
                    <a:moveTo>
                      <a:pt x="9" y="125"/>
                    </a:moveTo>
                    <a:lnTo>
                      <a:pt x="423" y="125"/>
                    </a:lnTo>
                    <a:lnTo>
                      <a:pt x="425" y="125"/>
                    </a:lnTo>
                    <a:lnTo>
                      <a:pt x="427" y="125"/>
                    </a:lnTo>
                    <a:lnTo>
                      <a:pt x="428" y="124"/>
                    </a:lnTo>
                    <a:lnTo>
                      <a:pt x="430" y="123"/>
                    </a:lnTo>
                    <a:lnTo>
                      <a:pt x="431" y="122"/>
                    </a:lnTo>
                    <a:lnTo>
                      <a:pt x="432" y="120"/>
                    </a:lnTo>
                    <a:lnTo>
                      <a:pt x="432" y="119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9"/>
                    </a:lnTo>
                    <a:lnTo>
                      <a:pt x="432" y="8"/>
                    </a:lnTo>
                    <a:lnTo>
                      <a:pt x="432" y="7"/>
                    </a:lnTo>
                    <a:lnTo>
                      <a:pt x="431" y="4"/>
                    </a:lnTo>
                    <a:lnTo>
                      <a:pt x="430" y="3"/>
                    </a:lnTo>
                    <a:lnTo>
                      <a:pt x="428" y="2"/>
                    </a:lnTo>
                    <a:lnTo>
                      <a:pt x="427" y="2"/>
                    </a:lnTo>
                    <a:lnTo>
                      <a:pt x="425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2" y="123"/>
                    </a:lnTo>
                    <a:lnTo>
                      <a:pt x="4" y="124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9" y="125"/>
                    </a:lnTo>
                    <a:lnTo>
                      <a:pt x="9" y="125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6041520" y="5833800"/>
                <a:ext cx="339120" cy="119880"/>
              </a:xfrm>
              <a:custGeom>
                <a:avLst/>
                <a:gdLst/>
                <a:ahLst/>
                <a:rect l="l" t="t" r="r" b="b"/>
                <a:pathLst>
                  <a:path w="432" h="148">
                    <a:moveTo>
                      <a:pt x="70" y="34"/>
                    </a:moveTo>
                    <a:lnTo>
                      <a:pt x="40" y="34"/>
                    </a:lnTo>
                    <a:lnTo>
                      <a:pt x="36" y="34"/>
                    </a:lnTo>
                    <a:lnTo>
                      <a:pt x="32" y="34"/>
                    </a:lnTo>
                    <a:lnTo>
                      <a:pt x="27" y="35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1" y="45"/>
                    </a:lnTo>
                    <a:lnTo>
                      <a:pt x="6" y="52"/>
                    </a:lnTo>
                    <a:lnTo>
                      <a:pt x="5" y="56"/>
                    </a:lnTo>
                    <a:lnTo>
                      <a:pt x="2" y="59"/>
                    </a:lnTo>
                    <a:lnTo>
                      <a:pt x="1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6"/>
                    </a:lnTo>
                    <a:lnTo>
                      <a:pt x="2" y="90"/>
                    </a:lnTo>
                    <a:lnTo>
                      <a:pt x="5" y="93"/>
                    </a:lnTo>
                    <a:lnTo>
                      <a:pt x="6" y="96"/>
                    </a:lnTo>
                    <a:lnTo>
                      <a:pt x="11" y="102"/>
                    </a:lnTo>
                    <a:lnTo>
                      <a:pt x="17" y="107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2"/>
                    </a:lnTo>
                    <a:lnTo>
                      <a:pt x="32" y="112"/>
                    </a:lnTo>
                    <a:lnTo>
                      <a:pt x="36" y="114"/>
                    </a:lnTo>
                    <a:lnTo>
                      <a:pt x="40" y="114"/>
                    </a:lnTo>
                    <a:lnTo>
                      <a:pt x="40" y="114"/>
                    </a:lnTo>
                    <a:lnTo>
                      <a:pt x="81" y="114"/>
                    </a:lnTo>
                    <a:lnTo>
                      <a:pt x="81" y="119"/>
                    </a:lnTo>
                    <a:lnTo>
                      <a:pt x="82" y="125"/>
                    </a:lnTo>
                    <a:lnTo>
                      <a:pt x="86" y="130"/>
                    </a:lnTo>
                    <a:lnTo>
                      <a:pt x="90" y="135"/>
                    </a:lnTo>
                    <a:lnTo>
                      <a:pt x="95" y="139"/>
                    </a:lnTo>
                    <a:lnTo>
                      <a:pt x="97" y="141"/>
                    </a:lnTo>
                    <a:lnTo>
                      <a:pt x="101" y="143"/>
                    </a:lnTo>
                    <a:lnTo>
                      <a:pt x="104" y="145"/>
                    </a:lnTo>
                    <a:lnTo>
                      <a:pt x="106" y="145"/>
                    </a:lnTo>
                    <a:lnTo>
                      <a:pt x="110" y="146"/>
                    </a:lnTo>
                    <a:lnTo>
                      <a:pt x="112" y="148"/>
                    </a:lnTo>
                    <a:lnTo>
                      <a:pt x="119" y="148"/>
                    </a:lnTo>
                    <a:lnTo>
                      <a:pt x="119" y="148"/>
                    </a:lnTo>
                    <a:lnTo>
                      <a:pt x="307" y="148"/>
                    </a:lnTo>
                    <a:lnTo>
                      <a:pt x="312" y="148"/>
                    </a:lnTo>
                    <a:lnTo>
                      <a:pt x="315" y="146"/>
                    </a:lnTo>
                    <a:lnTo>
                      <a:pt x="319" y="146"/>
                    </a:lnTo>
                    <a:lnTo>
                      <a:pt x="323" y="145"/>
                    </a:lnTo>
                    <a:lnTo>
                      <a:pt x="329" y="141"/>
                    </a:lnTo>
                    <a:lnTo>
                      <a:pt x="334" y="139"/>
                    </a:lnTo>
                    <a:lnTo>
                      <a:pt x="339" y="133"/>
                    </a:lnTo>
                    <a:lnTo>
                      <a:pt x="342" y="130"/>
                    </a:lnTo>
                    <a:lnTo>
                      <a:pt x="344" y="128"/>
                    </a:lnTo>
                    <a:lnTo>
                      <a:pt x="345" y="124"/>
                    </a:lnTo>
                    <a:lnTo>
                      <a:pt x="347" y="120"/>
                    </a:lnTo>
                    <a:lnTo>
                      <a:pt x="348" y="117"/>
                    </a:lnTo>
                    <a:lnTo>
                      <a:pt x="348" y="114"/>
                    </a:lnTo>
                    <a:lnTo>
                      <a:pt x="348" y="114"/>
                    </a:lnTo>
                    <a:lnTo>
                      <a:pt x="390" y="114"/>
                    </a:lnTo>
                    <a:lnTo>
                      <a:pt x="395" y="114"/>
                    </a:lnTo>
                    <a:lnTo>
                      <a:pt x="399" y="112"/>
                    </a:lnTo>
                    <a:lnTo>
                      <a:pt x="403" y="112"/>
                    </a:lnTo>
                    <a:lnTo>
                      <a:pt x="407" y="110"/>
                    </a:lnTo>
                    <a:lnTo>
                      <a:pt x="411" y="109"/>
                    </a:lnTo>
                    <a:lnTo>
                      <a:pt x="413" y="107"/>
                    </a:lnTo>
                    <a:lnTo>
                      <a:pt x="419" y="102"/>
                    </a:lnTo>
                    <a:lnTo>
                      <a:pt x="424" y="96"/>
                    </a:lnTo>
                    <a:lnTo>
                      <a:pt x="427" y="93"/>
                    </a:lnTo>
                    <a:lnTo>
                      <a:pt x="428" y="90"/>
                    </a:lnTo>
                    <a:lnTo>
                      <a:pt x="429" y="86"/>
                    </a:lnTo>
                    <a:lnTo>
                      <a:pt x="431" y="82"/>
                    </a:lnTo>
                    <a:lnTo>
                      <a:pt x="432" y="78"/>
                    </a:lnTo>
                    <a:lnTo>
                      <a:pt x="432" y="74"/>
                    </a:lnTo>
                    <a:lnTo>
                      <a:pt x="432" y="74"/>
                    </a:lnTo>
                    <a:lnTo>
                      <a:pt x="432" y="71"/>
                    </a:lnTo>
                    <a:lnTo>
                      <a:pt x="431" y="67"/>
                    </a:lnTo>
                    <a:lnTo>
                      <a:pt x="429" y="63"/>
                    </a:lnTo>
                    <a:lnTo>
                      <a:pt x="428" y="59"/>
                    </a:lnTo>
                    <a:lnTo>
                      <a:pt x="427" y="56"/>
                    </a:lnTo>
                    <a:lnTo>
                      <a:pt x="424" y="52"/>
                    </a:lnTo>
                    <a:lnTo>
                      <a:pt x="419" y="45"/>
                    </a:lnTo>
                    <a:lnTo>
                      <a:pt x="413" y="40"/>
                    </a:lnTo>
                    <a:lnTo>
                      <a:pt x="411" y="39"/>
                    </a:lnTo>
                    <a:lnTo>
                      <a:pt x="407" y="37"/>
                    </a:lnTo>
                    <a:lnTo>
                      <a:pt x="403" y="35"/>
                    </a:lnTo>
                    <a:lnTo>
                      <a:pt x="399" y="34"/>
                    </a:lnTo>
                    <a:lnTo>
                      <a:pt x="395" y="34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59" y="34"/>
                    </a:lnTo>
                    <a:lnTo>
                      <a:pt x="359" y="29"/>
                    </a:lnTo>
                    <a:lnTo>
                      <a:pt x="358" y="24"/>
                    </a:lnTo>
                    <a:lnTo>
                      <a:pt x="355" y="19"/>
                    </a:lnTo>
                    <a:lnTo>
                      <a:pt x="353" y="14"/>
                    </a:lnTo>
                    <a:lnTo>
                      <a:pt x="349" y="11"/>
                    </a:lnTo>
                    <a:lnTo>
                      <a:pt x="347" y="9"/>
                    </a:lnTo>
                    <a:lnTo>
                      <a:pt x="343" y="6"/>
                    </a:lnTo>
                    <a:lnTo>
                      <a:pt x="339" y="4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107" y="0"/>
                    </a:lnTo>
                    <a:lnTo>
                      <a:pt x="104" y="0"/>
                    </a:lnTo>
                    <a:lnTo>
                      <a:pt x="100" y="1"/>
                    </a:lnTo>
                    <a:lnTo>
                      <a:pt x="95" y="3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9"/>
                    </a:lnTo>
                    <a:lnTo>
                      <a:pt x="81" y="11"/>
                    </a:lnTo>
                    <a:lnTo>
                      <a:pt x="78" y="14"/>
                    </a:lnTo>
                    <a:lnTo>
                      <a:pt x="76" y="19"/>
                    </a:lnTo>
                    <a:lnTo>
                      <a:pt x="73" y="24"/>
                    </a:lnTo>
                    <a:lnTo>
                      <a:pt x="71" y="29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6415200" y="5812920"/>
                <a:ext cx="162360" cy="135000"/>
              </a:xfrm>
              <a:custGeom>
                <a:avLst/>
                <a:gdLst/>
                <a:ahLst/>
                <a:rect l="l" t="t" r="r" b="b"/>
                <a:pathLst>
                  <a:path w="208" h="167">
                    <a:moveTo>
                      <a:pt x="208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208" y="167"/>
                    </a:lnTo>
                    <a:lnTo>
                      <a:pt x="208" y="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6198840" y="5186160"/>
                <a:ext cx="75600" cy="9036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99" y="0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1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7" y="109"/>
                    </a:lnTo>
                    <a:lnTo>
                      <a:pt x="10" y="111"/>
                    </a:lnTo>
                    <a:lnTo>
                      <a:pt x="14" y="111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99" y="11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6198840" y="5654520"/>
                <a:ext cx="75600" cy="892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99" y="0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10" y="109"/>
                    </a:lnTo>
                    <a:lnTo>
                      <a:pt x="14" y="111"/>
                    </a:lnTo>
                    <a:lnTo>
                      <a:pt x="17" y="111"/>
                    </a:lnTo>
                    <a:lnTo>
                      <a:pt x="17" y="111"/>
                    </a:lnTo>
                    <a:lnTo>
                      <a:pt x="99" y="111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921480" y="5897160"/>
                <a:ext cx="97560" cy="3708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0"/>
                    </a:moveTo>
                    <a:lnTo>
                      <a:pt x="0" y="45"/>
                    </a:lnTo>
                    <a:lnTo>
                      <a:pt x="125" y="45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567320" y="5897160"/>
                <a:ext cx="95040" cy="3708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0" y="0"/>
                    </a:moveTo>
                    <a:lnTo>
                      <a:pt x="0" y="45"/>
                    </a:lnTo>
                    <a:lnTo>
                      <a:pt x="123" y="45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4877280" y="5840280"/>
                <a:ext cx="83880" cy="86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4877280" y="5840280"/>
                <a:ext cx="83880" cy="86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6052320" y="5868720"/>
                <a:ext cx="42840" cy="5328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052320" y="5868720"/>
                <a:ext cx="42840" cy="5328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325560" y="5868720"/>
                <a:ext cx="45360" cy="5328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6325560" y="5868720"/>
                <a:ext cx="45360" cy="5328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6118920" y="5852520"/>
                <a:ext cx="184680" cy="878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18920" y="5852520"/>
                <a:ext cx="184680" cy="878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5273280" y="5865120"/>
                <a:ext cx="43920" cy="529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5273280" y="5865120"/>
                <a:ext cx="43920" cy="529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5546520" y="5865120"/>
                <a:ext cx="45000" cy="529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5546520" y="5865120"/>
                <a:ext cx="45000" cy="529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5339520" y="5847480"/>
                <a:ext cx="184680" cy="878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5339520" y="5847480"/>
                <a:ext cx="184680" cy="878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358600" y="5869800"/>
                <a:ext cx="147600" cy="44640"/>
              </a:xfrm>
              <a:custGeom>
                <a:avLst/>
                <a:gdLst/>
                <a:ahLst/>
                <a:rect l="l" t="t" r="r" b="b"/>
                <a:pathLst>
                  <a:path w="188" h="57">
                    <a:moveTo>
                      <a:pt x="174" y="6"/>
                    </a:moveTo>
                    <a:lnTo>
                      <a:pt x="174" y="9"/>
                    </a:lnTo>
                    <a:lnTo>
                      <a:pt x="175" y="11"/>
                    </a:lnTo>
                    <a:lnTo>
                      <a:pt x="178" y="13"/>
                    </a:lnTo>
                    <a:lnTo>
                      <a:pt x="179" y="14"/>
                    </a:lnTo>
                    <a:lnTo>
                      <a:pt x="180" y="14"/>
                    </a:lnTo>
                    <a:lnTo>
                      <a:pt x="182" y="14"/>
                    </a:lnTo>
                    <a:lnTo>
                      <a:pt x="183" y="13"/>
                    </a:lnTo>
                    <a:lnTo>
                      <a:pt x="185" y="11"/>
                    </a:lnTo>
                    <a:lnTo>
                      <a:pt x="187" y="9"/>
                    </a:lnTo>
                    <a:lnTo>
                      <a:pt x="188" y="7"/>
                    </a:lnTo>
                    <a:lnTo>
                      <a:pt x="188" y="6"/>
                    </a:lnTo>
                    <a:lnTo>
                      <a:pt x="188" y="5"/>
                    </a:lnTo>
                    <a:lnTo>
                      <a:pt x="187" y="4"/>
                    </a:lnTo>
                    <a:lnTo>
                      <a:pt x="185" y="1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5" y="1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close/>
                    <a:moveTo>
                      <a:pt x="20" y="50"/>
                    </a:moveTo>
                    <a:lnTo>
                      <a:pt x="20" y="50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25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7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4" y="45"/>
                    </a:lnTo>
                    <a:lnTo>
                      <a:pt x="30" y="44"/>
                    </a:lnTo>
                    <a:lnTo>
                      <a:pt x="28" y="43"/>
                    </a:lnTo>
                    <a:lnTo>
                      <a:pt x="25" y="44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0"/>
                    </a:lnTo>
                    <a:close/>
                    <a:moveTo>
                      <a:pt x="65" y="50"/>
                    </a:moveTo>
                    <a:lnTo>
                      <a:pt x="66" y="52"/>
                    </a:lnTo>
                    <a:lnTo>
                      <a:pt x="68" y="54"/>
                    </a:lnTo>
                    <a:lnTo>
                      <a:pt x="69" y="57"/>
                    </a:lnTo>
                    <a:lnTo>
                      <a:pt x="70" y="57"/>
                    </a:lnTo>
                    <a:lnTo>
                      <a:pt x="73" y="57"/>
                    </a:lnTo>
                    <a:lnTo>
                      <a:pt x="73" y="57"/>
                    </a:lnTo>
                    <a:lnTo>
                      <a:pt x="74" y="57"/>
                    </a:lnTo>
                    <a:lnTo>
                      <a:pt x="76" y="54"/>
                    </a:lnTo>
                    <a:lnTo>
                      <a:pt x="79" y="52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3" y="43"/>
                    </a:lnTo>
                    <a:lnTo>
                      <a:pt x="69" y="44"/>
                    </a:lnTo>
                    <a:lnTo>
                      <a:pt x="68" y="45"/>
                    </a:lnTo>
                    <a:lnTo>
                      <a:pt x="66" y="47"/>
                    </a:lnTo>
                    <a:lnTo>
                      <a:pt x="65" y="50"/>
                    </a:lnTo>
                    <a:lnTo>
                      <a:pt x="65" y="50"/>
                    </a:lnTo>
                    <a:close/>
                    <a:moveTo>
                      <a:pt x="109" y="50"/>
                    </a:moveTo>
                    <a:lnTo>
                      <a:pt x="109" y="52"/>
                    </a:lnTo>
                    <a:lnTo>
                      <a:pt x="110" y="54"/>
                    </a:lnTo>
                    <a:lnTo>
                      <a:pt x="113" y="57"/>
                    </a:lnTo>
                    <a:lnTo>
                      <a:pt x="114" y="57"/>
                    </a:lnTo>
                    <a:lnTo>
                      <a:pt x="115" y="57"/>
                    </a:lnTo>
                    <a:lnTo>
                      <a:pt x="117" y="57"/>
                    </a:lnTo>
                    <a:lnTo>
                      <a:pt x="118" y="57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2" y="47"/>
                    </a:lnTo>
                    <a:lnTo>
                      <a:pt x="120" y="45"/>
                    </a:lnTo>
                    <a:lnTo>
                      <a:pt x="118" y="44"/>
                    </a:lnTo>
                    <a:lnTo>
                      <a:pt x="115" y="43"/>
                    </a:lnTo>
                    <a:lnTo>
                      <a:pt x="113" y="44"/>
                    </a:lnTo>
                    <a:lnTo>
                      <a:pt x="110" y="45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9" y="50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4" y="9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6" y="6"/>
                    </a:moveTo>
                    <a:lnTo>
                      <a:pt x="86" y="7"/>
                    </a:lnTo>
                    <a:lnTo>
                      <a:pt x="86" y="9"/>
                    </a:lnTo>
                    <a:lnTo>
                      <a:pt x="89" y="11"/>
                    </a:lnTo>
                    <a:lnTo>
                      <a:pt x="90" y="13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3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1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6"/>
                    </a:lnTo>
                    <a:lnTo>
                      <a:pt x="86" y="6"/>
                    </a:lnTo>
                    <a:close/>
                    <a:moveTo>
                      <a:pt x="132" y="6"/>
                    </a:moveTo>
                    <a:lnTo>
                      <a:pt x="132" y="9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7" y="14"/>
                    </a:lnTo>
                    <a:lnTo>
                      <a:pt x="138" y="14"/>
                    </a:lnTo>
                    <a:lnTo>
                      <a:pt x="139" y="14"/>
                    </a:lnTo>
                    <a:lnTo>
                      <a:pt x="140" y="13"/>
                    </a:lnTo>
                    <a:lnTo>
                      <a:pt x="143" y="11"/>
                    </a:lnTo>
                    <a:lnTo>
                      <a:pt x="144" y="9"/>
                    </a:lnTo>
                    <a:lnTo>
                      <a:pt x="144" y="7"/>
                    </a:lnTo>
                    <a:lnTo>
                      <a:pt x="145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3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3" y="1"/>
                    </a:lnTo>
                    <a:lnTo>
                      <a:pt x="132" y="4"/>
                    </a:lnTo>
                    <a:lnTo>
                      <a:pt x="132" y="6"/>
                    </a:lnTo>
                    <a:lnTo>
                      <a:pt x="132" y="6"/>
                    </a:lnTo>
                    <a:close/>
                    <a:moveTo>
                      <a:pt x="152" y="50"/>
                    </a:moveTo>
                    <a:lnTo>
                      <a:pt x="152" y="52"/>
                    </a:lnTo>
                    <a:lnTo>
                      <a:pt x="153" y="54"/>
                    </a:lnTo>
                    <a:lnTo>
                      <a:pt x="155" y="57"/>
                    </a:lnTo>
                    <a:lnTo>
                      <a:pt x="157" y="57"/>
                    </a:lnTo>
                    <a:lnTo>
                      <a:pt x="158" y="57"/>
                    </a:lnTo>
                    <a:lnTo>
                      <a:pt x="160" y="57"/>
                    </a:lnTo>
                    <a:lnTo>
                      <a:pt x="162" y="57"/>
                    </a:lnTo>
                    <a:lnTo>
                      <a:pt x="163" y="54"/>
                    </a:lnTo>
                    <a:lnTo>
                      <a:pt x="164" y="52"/>
                    </a:lnTo>
                    <a:lnTo>
                      <a:pt x="165" y="50"/>
                    </a:lnTo>
                    <a:lnTo>
                      <a:pt x="164" y="47"/>
                    </a:lnTo>
                    <a:lnTo>
                      <a:pt x="163" y="45"/>
                    </a:lnTo>
                    <a:lnTo>
                      <a:pt x="162" y="44"/>
                    </a:lnTo>
                    <a:lnTo>
                      <a:pt x="158" y="43"/>
                    </a:lnTo>
                    <a:lnTo>
                      <a:pt x="155" y="44"/>
                    </a:lnTo>
                    <a:lnTo>
                      <a:pt x="153" y="45"/>
                    </a:lnTo>
                    <a:lnTo>
                      <a:pt x="152" y="47"/>
                    </a:lnTo>
                    <a:lnTo>
                      <a:pt x="152" y="50"/>
                    </a:lnTo>
                    <a:lnTo>
                      <a:pt x="152" y="50"/>
                    </a:lnTo>
                    <a:close/>
                  </a:path>
                </a:pathLst>
              </a:custGeom>
              <a:solidFill>
                <a:srgbClr val="f7e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5677560" y="5853600"/>
                <a:ext cx="141840" cy="86760"/>
              </a:xfrm>
              <a:custGeom>
                <a:avLst/>
                <a:gdLst/>
                <a:ahLst/>
                <a:rect l="l" t="t" r="r" b="b"/>
                <a:pathLst>
                  <a:path w="181" h="108">
                    <a:moveTo>
                      <a:pt x="181" y="36"/>
                    </a:moveTo>
                    <a:lnTo>
                      <a:pt x="181" y="36"/>
                    </a:lnTo>
                    <a:lnTo>
                      <a:pt x="181" y="30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3"/>
                    </a:lnTo>
                    <a:lnTo>
                      <a:pt x="36" y="97"/>
                    </a:lnTo>
                    <a:lnTo>
                      <a:pt x="36" y="99"/>
                    </a:lnTo>
                    <a:lnTo>
                      <a:pt x="36" y="102"/>
                    </a:lnTo>
                    <a:lnTo>
                      <a:pt x="36" y="105"/>
                    </a:lnTo>
                    <a:lnTo>
                      <a:pt x="36" y="106"/>
                    </a:lnTo>
                    <a:lnTo>
                      <a:pt x="36" y="107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7"/>
                    </a:lnTo>
                    <a:lnTo>
                      <a:pt x="181" y="106"/>
                    </a:lnTo>
                    <a:lnTo>
                      <a:pt x="181" y="105"/>
                    </a:lnTo>
                    <a:lnTo>
                      <a:pt x="181" y="102"/>
                    </a:lnTo>
                    <a:lnTo>
                      <a:pt x="181" y="99"/>
                    </a:lnTo>
                    <a:lnTo>
                      <a:pt x="181" y="97"/>
                    </a:lnTo>
                    <a:lnTo>
                      <a:pt x="181" y="93"/>
                    </a:lnTo>
                    <a:lnTo>
                      <a:pt x="181" y="89"/>
                    </a:lnTo>
                    <a:lnTo>
                      <a:pt x="181" y="84"/>
                    </a:lnTo>
                    <a:lnTo>
                      <a:pt x="181" y="79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36"/>
                    </a:lnTo>
                    <a:lnTo>
                      <a:pt x="181" y="36"/>
                    </a:lnTo>
                    <a:lnTo>
                      <a:pt x="18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741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677560" y="5824080"/>
                <a:ext cx="141840" cy="8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5677560" y="5824080"/>
                <a:ext cx="141840" cy="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3" name=""/>
              <p:cNvSpPr/>
              <p:nvPr/>
            </p:nvSpPr>
            <p:spPr>
              <a:xfrm>
                <a:off x="5677560" y="5852520"/>
                <a:ext cx="138960" cy="6516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5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1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1" y="77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744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5848560" y="5824080"/>
                <a:ext cx="140400" cy="8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848560" y="5824080"/>
                <a:ext cx="140400" cy="87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6" name=""/>
              <p:cNvSpPr/>
              <p:nvPr/>
            </p:nvSpPr>
            <p:spPr>
              <a:xfrm>
                <a:off x="5859360" y="5852520"/>
                <a:ext cx="140400" cy="6516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10" y="76"/>
                    </a:lnTo>
                    <a:lnTo>
                      <a:pt x="10" y="78"/>
                    </a:lnTo>
                    <a:lnTo>
                      <a:pt x="11" y="81"/>
                    </a:lnTo>
                    <a:lnTo>
                      <a:pt x="14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9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74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15000" y="5853600"/>
                <a:ext cx="85680" cy="86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8" name=""/>
              <p:cNvSpPr/>
              <p:nvPr/>
            </p:nvSpPr>
            <p:spPr>
              <a:xfrm>
                <a:off x="6617880" y="5865120"/>
                <a:ext cx="78480" cy="8388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101" y="53"/>
                    </a:moveTo>
                    <a:lnTo>
                      <a:pt x="101" y="48"/>
                    </a:lnTo>
                    <a:lnTo>
                      <a:pt x="100" y="42"/>
                    </a:lnTo>
                    <a:lnTo>
                      <a:pt x="100" y="36"/>
                    </a:lnTo>
                    <a:lnTo>
                      <a:pt x="97" y="33"/>
                    </a:lnTo>
                    <a:lnTo>
                      <a:pt x="95" y="28"/>
                    </a:lnTo>
                    <a:lnTo>
                      <a:pt x="92" y="23"/>
                    </a:lnTo>
                    <a:lnTo>
                      <a:pt x="90" y="19"/>
                    </a:lnTo>
                    <a:lnTo>
                      <a:pt x="87" y="15"/>
                    </a:lnTo>
                    <a:lnTo>
                      <a:pt x="83" y="12"/>
                    </a:lnTo>
                    <a:lnTo>
                      <a:pt x="80" y="9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6" y="2"/>
                    </a:lnTo>
                    <a:lnTo>
                      <a:pt x="62" y="1"/>
                    </a:lnTo>
                    <a:lnTo>
                      <a:pt x="57" y="1"/>
                    </a:lnTo>
                    <a:lnTo>
                      <a:pt x="52" y="0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2"/>
                    </a:lnTo>
                    <a:lnTo>
                      <a:pt x="15" y="15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6" y="28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6" y="77"/>
                    </a:lnTo>
                    <a:lnTo>
                      <a:pt x="8" y="81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8" y="91"/>
                    </a:lnTo>
                    <a:lnTo>
                      <a:pt x="22" y="95"/>
                    </a:lnTo>
                    <a:lnTo>
                      <a:pt x="27" y="97"/>
                    </a:lnTo>
                    <a:lnTo>
                      <a:pt x="31" y="98"/>
                    </a:lnTo>
                    <a:lnTo>
                      <a:pt x="36" y="101"/>
                    </a:lnTo>
                    <a:lnTo>
                      <a:pt x="41" y="102"/>
                    </a:lnTo>
                    <a:lnTo>
                      <a:pt x="46" y="102"/>
                    </a:lnTo>
                    <a:lnTo>
                      <a:pt x="52" y="103"/>
                    </a:lnTo>
                    <a:lnTo>
                      <a:pt x="57" y="102"/>
                    </a:lnTo>
                    <a:lnTo>
                      <a:pt x="62" y="102"/>
                    </a:lnTo>
                    <a:lnTo>
                      <a:pt x="66" y="101"/>
                    </a:lnTo>
                    <a:lnTo>
                      <a:pt x="71" y="98"/>
                    </a:lnTo>
                    <a:lnTo>
                      <a:pt x="75" y="97"/>
                    </a:lnTo>
                    <a:lnTo>
                      <a:pt x="80" y="95"/>
                    </a:lnTo>
                    <a:lnTo>
                      <a:pt x="83" y="91"/>
                    </a:lnTo>
                    <a:lnTo>
                      <a:pt x="87" y="88"/>
                    </a:lnTo>
                    <a:lnTo>
                      <a:pt x="90" y="84"/>
                    </a:lnTo>
                    <a:lnTo>
                      <a:pt x="92" y="81"/>
                    </a:lnTo>
                    <a:lnTo>
                      <a:pt x="95" y="77"/>
                    </a:lnTo>
                    <a:lnTo>
                      <a:pt x="97" y="72"/>
                    </a:lnTo>
                    <a:lnTo>
                      <a:pt x="100" y="68"/>
                    </a:lnTo>
                    <a:lnTo>
                      <a:pt x="100" y="63"/>
                    </a:lnTo>
                    <a:lnTo>
                      <a:pt x="101" y="58"/>
                    </a:lnTo>
                    <a:lnTo>
                      <a:pt x="101" y="5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274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6615000" y="5853600"/>
                <a:ext cx="56520" cy="57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6615000" y="5853600"/>
                <a:ext cx="56520" cy="57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1" name=""/>
              <p:cNvSpPr/>
              <p:nvPr/>
            </p:nvSpPr>
            <p:spPr>
              <a:xfrm>
                <a:off x="6631560" y="5880960"/>
                <a:ext cx="50760" cy="5328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lnTo>
                      <a:pt x="66" y="30"/>
                    </a:lnTo>
                    <a:lnTo>
                      <a:pt x="65" y="26"/>
                    </a:lnTo>
                    <a:lnTo>
                      <a:pt x="64" y="20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" y="52"/>
                    </a:lnTo>
                    <a:lnTo>
                      <a:pt x="10" y="57"/>
                    </a:lnTo>
                    <a:lnTo>
                      <a:pt x="15" y="60"/>
                    </a:lnTo>
                    <a:lnTo>
                      <a:pt x="20" y="63"/>
                    </a:lnTo>
                    <a:lnTo>
                      <a:pt x="28" y="65"/>
                    </a:lnTo>
                    <a:lnTo>
                      <a:pt x="31" y="65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41" y="65"/>
                    </a:lnTo>
                    <a:lnTo>
                      <a:pt x="48" y="63"/>
                    </a:lnTo>
                    <a:lnTo>
                      <a:pt x="53" y="60"/>
                    </a:lnTo>
                    <a:lnTo>
                      <a:pt x="58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5" y="40"/>
                    </a:lnTo>
                    <a:lnTo>
                      <a:pt x="66" y="38"/>
                    </a:lnTo>
                    <a:lnTo>
                      <a:pt x="66" y="34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6466320" y="600228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6430320" y="5837760"/>
                <a:ext cx="27720" cy="10800"/>
              </a:xfrm>
              <a:prstGeom prst="rect">
                <a:avLst/>
              </a:prstGeom>
              <a:solidFill>
                <a:srgbClr val="ead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6430320" y="5837760"/>
                <a:ext cx="27720" cy="108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5077440" y="5840280"/>
                <a:ext cx="83880" cy="86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  <a:close/>
                  </a:path>
                </a:pathLst>
              </a:cu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5077440" y="5840280"/>
                <a:ext cx="83880" cy="86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5382360" y="5992560"/>
                <a:ext cx="853560" cy="41760"/>
              </a:xfrm>
              <a:custGeom>
                <a:avLst/>
                <a:gdLst/>
                <a:ahLst/>
                <a:rect l="l" t="t" r="r" b="b"/>
                <a:pathLst>
                  <a:path w="1087" h="51">
                    <a:moveTo>
                      <a:pt x="0" y="45"/>
                    </a:moveTo>
                    <a:lnTo>
                      <a:pt x="7" y="45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  <a:moveTo>
                      <a:pt x="50" y="25"/>
                    </a:moveTo>
                    <a:lnTo>
                      <a:pt x="50" y="21"/>
                    </a:lnTo>
                    <a:lnTo>
                      <a:pt x="49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7" y="33"/>
                    </a:lnTo>
                    <a:lnTo>
                      <a:pt x="20" y="36"/>
                    </a:lnTo>
                    <a:lnTo>
                      <a:pt x="22" y="39"/>
                    </a:lnTo>
                    <a:lnTo>
                      <a:pt x="25" y="41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  <a:moveTo>
                      <a:pt x="44" y="25"/>
                    </a:moveTo>
                    <a:lnTo>
                      <a:pt x="44" y="27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30" y="35"/>
                    </a:lnTo>
                    <a:lnTo>
                      <a:pt x="27" y="34"/>
                    </a:lnTo>
                    <a:lnTo>
                      <a:pt x="26" y="33"/>
                    </a:lnTo>
                    <a:lnTo>
                      <a:pt x="25" y="31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2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6" y="16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  <a:moveTo>
                      <a:pt x="59" y="45"/>
                    </a:moveTo>
                    <a:lnTo>
                      <a:pt x="66" y="45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9" y="45"/>
                    </a:lnTo>
                    <a:lnTo>
                      <a:pt x="59" y="45"/>
                    </a:lnTo>
                    <a:close/>
                    <a:moveTo>
                      <a:pt x="109" y="25"/>
                    </a:moveTo>
                    <a:lnTo>
                      <a:pt x="109" y="21"/>
                    </a:lnTo>
                    <a:lnTo>
                      <a:pt x="108" y="19"/>
                    </a:lnTo>
                    <a:lnTo>
                      <a:pt x="106" y="15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7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1" y="12"/>
                    </a:lnTo>
                    <a:lnTo>
                      <a:pt x="79" y="15"/>
                    </a:lnTo>
                    <a:lnTo>
                      <a:pt x="76" y="19"/>
                    </a:lnTo>
                    <a:lnTo>
                      <a:pt x="75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6" y="33"/>
                    </a:lnTo>
                    <a:lnTo>
                      <a:pt x="79" y="36"/>
                    </a:lnTo>
                    <a:lnTo>
                      <a:pt x="81" y="39"/>
                    </a:lnTo>
                    <a:lnTo>
                      <a:pt x="84" y="41"/>
                    </a:lnTo>
                    <a:lnTo>
                      <a:pt x="86" y="44"/>
                    </a:lnTo>
                    <a:lnTo>
                      <a:pt x="90" y="45"/>
                    </a:lnTo>
                    <a:lnTo>
                      <a:pt x="93" y="45"/>
                    </a:lnTo>
                    <a:lnTo>
                      <a:pt x="96" y="45"/>
                    </a:lnTo>
                    <a:lnTo>
                      <a:pt x="100" y="44"/>
                    </a:lnTo>
                    <a:lnTo>
                      <a:pt x="103" y="41"/>
                    </a:lnTo>
                    <a:lnTo>
                      <a:pt x="105" y="39"/>
                    </a:lnTo>
                    <a:lnTo>
                      <a:pt x="106" y="36"/>
                    </a:lnTo>
                    <a:lnTo>
                      <a:pt x="108" y="33"/>
                    </a:lnTo>
                    <a:lnTo>
                      <a:pt x="109" y="29"/>
                    </a:lnTo>
                    <a:lnTo>
                      <a:pt x="109" y="25"/>
                    </a:lnTo>
                    <a:lnTo>
                      <a:pt x="109" y="25"/>
                    </a:lnTo>
                    <a:close/>
                    <a:moveTo>
                      <a:pt x="103" y="25"/>
                    </a:moveTo>
                    <a:lnTo>
                      <a:pt x="103" y="27"/>
                    </a:lnTo>
                    <a:lnTo>
                      <a:pt x="101" y="30"/>
                    </a:lnTo>
                    <a:lnTo>
                      <a:pt x="100" y="31"/>
                    </a:lnTo>
                    <a:lnTo>
                      <a:pt x="99" y="33"/>
                    </a:lnTo>
                    <a:lnTo>
                      <a:pt x="98" y="34"/>
                    </a:lnTo>
                    <a:lnTo>
                      <a:pt x="96" y="35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1" y="36"/>
                    </a:lnTo>
                    <a:lnTo>
                      <a:pt x="89" y="35"/>
                    </a:lnTo>
                    <a:lnTo>
                      <a:pt x="86" y="34"/>
                    </a:lnTo>
                    <a:lnTo>
                      <a:pt x="85" y="33"/>
                    </a:lnTo>
                    <a:lnTo>
                      <a:pt x="84" y="31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1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4" y="19"/>
                    </a:lnTo>
                    <a:lnTo>
                      <a:pt x="85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0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  <a:moveTo>
                      <a:pt x="118" y="45"/>
                    </a:moveTo>
                    <a:lnTo>
                      <a:pt x="125" y="45"/>
                    </a:lnTo>
                    <a:lnTo>
                      <a:pt x="125" y="6"/>
                    </a:lnTo>
                    <a:lnTo>
                      <a:pt x="118" y="6"/>
                    </a:lnTo>
                    <a:lnTo>
                      <a:pt x="118" y="45"/>
                    </a:lnTo>
                    <a:lnTo>
                      <a:pt x="118" y="45"/>
                    </a:lnTo>
                    <a:close/>
                    <a:moveTo>
                      <a:pt x="502" y="25"/>
                    </a:moveTo>
                    <a:lnTo>
                      <a:pt x="460" y="25"/>
                    </a:lnTo>
                    <a:lnTo>
                      <a:pt x="468" y="16"/>
                    </a:lnTo>
                    <a:lnTo>
                      <a:pt x="478" y="16"/>
                    </a:lnTo>
                    <a:lnTo>
                      <a:pt x="478" y="17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2" y="17"/>
                    </a:lnTo>
                    <a:lnTo>
                      <a:pt x="483" y="17"/>
                    </a:lnTo>
                    <a:lnTo>
                      <a:pt x="485" y="17"/>
                    </a:lnTo>
                    <a:lnTo>
                      <a:pt x="486" y="16"/>
                    </a:lnTo>
                    <a:lnTo>
                      <a:pt x="486" y="15"/>
                    </a:lnTo>
                    <a:lnTo>
                      <a:pt x="487" y="14"/>
                    </a:lnTo>
                    <a:lnTo>
                      <a:pt x="487" y="11"/>
                    </a:lnTo>
                    <a:lnTo>
                      <a:pt x="485" y="10"/>
                    </a:lnTo>
                    <a:lnTo>
                      <a:pt x="483" y="9"/>
                    </a:lnTo>
                    <a:lnTo>
                      <a:pt x="482" y="9"/>
                    </a:lnTo>
                    <a:lnTo>
                      <a:pt x="480" y="9"/>
                    </a:lnTo>
                    <a:lnTo>
                      <a:pt x="478" y="9"/>
                    </a:lnTo>
                    <a:lnTo>
                      <a:pt x="478" y="10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67" y="11"/>
                    </a:lnTo>
                    <a:lnTo>
                      <a:pt x="456" y="25"/>
                    </a:lnTo>
                    <a:lnTo>
                      <a:pt x="451" y="25"/>
                    </a:lnTo>
                    <a:lnTo>
                      <a:pt x="448" y="21"/>
                    </a:lnTo>
                    <a:lnTo>
                      <a:pt x="447" y="21"/>
                    </a:lnTo>
                    <a:lnTo>
                      <a:pt x="446" y="20"/>
                    </a:lnTo>
                    <a:lnTo>
                      <a:pt x="445" y="20"/>
                    </a:lnTo>
                    <a:lnTo>
                      <a:pt x="443" y="19"/>
                    </a:lnTo>
                    <a:lnTo>
                      <a:pt x="442" y="20"/>
                    </a:lnTo>
                    <a:lnTo>
                      <a:pt x="442" y="20"/>
                    </a:lnTo>
                    <a:lnTo>
                      <a:pt x="440" y="20"/>
                    </a:lnTo>
                    <a:lnTo>
                      <a:pt x="438" y="21"/>
                    </a:lnTo>
                    <a:lnTo>
                      <a:pt x="437" y="22"/>
                    </a:lnTo>
                    <a:lnTo>
                      <a:pt x="437" y="22"/>
                    </a:lnTo>
                    <a:lnTo>
                      <a:pt x="436" y="26"/>
                    </a:lnTo>
                    <a:lnTo>
                      <a:pt x="435" y="29"/>
                    </a:lnTo>
                    <a:lnTo>
                      <a:pt x="437" y="31"/>
                    </a:lnTo>
                    <a:lnTo>
                      <a:pt x="440" y="33"/>
                    </a:lnTo>
                    <a:lnTo>
                      <a:pt x="442" y="34"/>
                    </a:lnTo>
                    <a:lnTo>
                      <a:pt x="445" y="34"/>
                    </a:lnTo>
                    <a:lnTo>
                      <a:pt x="446" y="34"/>
                    </a:lnTo>
                    <a:lnTo>
                      <a:pt x="447" y="33"/>
                    </a:lnTo>
                    <a:lnTo>
                      <a:pt x="450" y="31"/>
                    </a:lnTo>
                    <a:lnTo>
                      <a:pt x="451" y="29"/>
                    </a:lnTo>
                    <a:lnTo>
                      <a:pt x="451" y="29"/>
                    </a:lnTo>
                    <a:lnTo>
                      <a:pt x="467" y="29"/>
                    </a:lnTo>
                    <a:lnTo>
                      <a:pt x="480" y="40"/>
                    </a:lnTo>
                    <a:lnTo>
                      <a:pt x="487" y="40"/>
                    </a:lnTo>
                    <a:lnTo>
                      <a:pt x="487" y="45"/>
                    </a:lnTo>
                    <a:lnTo>
                      <a:pt x="498" y="45"/>
                    </a:lnTo>
                    <a:lnTo>
                      <a:pt x="498" y="34"/>
                    </a:lnTo>
                    <a:lnTo>
                      <a:pt x="487" y="34"/>
                    </a:lnTo>
                    <a:lnTo>
                      <a:pt x="487" y="39"/>
                    </a:lnTo>
                    <a:lnTo>
                      <a:pt x="480" y="39"/>
                    </a:lnTo>
                    <a:lnTo>
                      <a:pt x="471" y="29"/>
                    </a:lnTo>
                    <a:lnTo>
                      <a:pt x="502" y="29"/>
                    </a:lnTo>
                    <a:lnTo>
                      <a:pt x="502" y="31"/>
                    </a:lnTo>
                    <a:lnTo>
                      <a:pt x="512" y="27"/>
                    </a:lnTo>
                    <a:lnTo>
                      <a:pt x="502" y="22"/>
                    </a:lnTo>
                    <a:lnTo>
                      <a:pt x="502" y="25"/>
                    </a:lnTo>
                    <a:lnTo>
                      <a:pt x="502" y="25"/>
                    </a:lnTo>
                    <a:close/>
                    <a:moveTo>
                      <a:pt x="727" y="25"/>
                    </a:moveTo>
                    <a:lnTo>
                      <a:pt x="684" y="25"/>
                    </a:lnTo>
                    <a:lnTo>
                      <a:pt x="695" y="16"/>
                    </a:lnTo>
                    <a:lnTo>
                      <a:pt x="701" y="16"/>
                    </a:lnTo>
                    <a:lnTo>
                      <a:pt x="704" y="17"/>
                    </a:lnTo>
                    <a:lnTo>
                      <a:pt x="705" y="17"/>
                    </a:lnTo>
                    <a:lnTo>
                      <a:pt x="708" y="17"/>
                    </a:lnTo>
                    <a:lnTo>
                      <a:pt x="709" y="17"/>
                    </a:lnTo>
                    <a:lnTo>
                      <a:pt x="710" y="17"/>
                    </a:lnTo>
                    <a:lnTo>
                      <a:pt x="710" y="17"/>
                    </a:lnTo>
                    <a:lnTo>
                      <a:pt x="711" y="15"/>
                    </a:lnTo>
                    <a:lnTo>
                      <a:pt x="711" y="14"/>
                    </a:lnTo>
                    <a:lnTo>
                      <a:pt x="711" y="14"/>
                    </a:lnTo>
                    <a:lnTo>
                      <a:pt x="711" y="12"/>
                    </a:lnTo>
                    <a:lnTo>
                      <a:pt x="711" y="11"/>
                    </a:lnTo>
                    <a:lnTo>
                      <a:pt x="711" y="10"/>
                    </a:lnTo>
                    <a:lnTo>
                      <a:pt x="710" y="10"/>
                    </a:lnTo>
                    <a:lnTo>
                      <a:pt x="709" y="9"/>
                    </a:lnTo>
                    <a:lnTo>
                      <a:pt x="706" y="9"/>
                    </a:lnTo>
                    <a:lnTo>
                      <a:pt x="704" y="9"/>
                    </a:lnTo>
                    <a:lnTo>
                      <a:pt x="704" y="9"/>
                    </a:lnTo>
                    <a:lnTo>
                      <a:pt x="704" y="10"/>
                    </a:lnTo>
                    <a:lnTo>
                      <a:pt x="704" y="11"/>
                    </a:lnTo>
                    <a:lnTo>
                      <a:pt x="701" y="11"/>
                    </a:lnTo>
                    <a:lnTo>
                      <a:pt x="701" y="11"/>
                    </a:lnTo>
                    <a:lnTo>
                      <a:pt x="693" y="11"/>
                    </a:lnTo>
                    <a:lnTo>
                      <a:pt x="679" y="25"/>
                    </a:lnTo>
                    <a:lnTo>
                      <a:pt x="675" y="25"/>
                    </a:lnTo>
                    <a:lnTo>
                      <a:pt x="675" y="24"/>
                    </a:lnTo>
                    <a:lnTo>
                      <a:pt x="674" y="21"/>
                    </a:lnTo>
                    <a:lnTo>
                      <a:pt x="673" y="21"/>
                    </a:lnTo>
                    <a:lnTo>
                      <a:pt x="673" y="20"/>
                    </a:lnTo>
                    <a:lnTo>
                      <a:pt x="670" y="20"/>
                    </a:lnTo>
                    <a:lnTo>
                      <a:pt x="669" y="19"/>
                    </a:lnTo>
                    <a:lnTo>
                      <a:pt x="668" y="20"/>
                    </a:lnTo>
                    <a:lnTo>
                      <a:pt x="666" y="20"/>
                    </a:lnTo>
                    <a:lnTo>
                      <a:pt x="664" y="20"/>
                    </a:lnTo>
                    <a:lnTo>
                      <a:pt x="663" y="21"/>
                    </a:lnTo>
                    <a:lnTo>
                      <a:pt x="661" y="22"/>
                    </a:lnTo>
                    <a:lnTo>
                      <a:pt x="661" y="22"/>
                    </a:lnTo>
                    <a:lnTo>
                      <a:pt x="660" y="25"/>
                    </a:lnTo>
                    <a:lnTo>
                      <a:pt x="660" y="26"/>
                    </a:lnTo>
                    <a:lnTo>
                      <a:pt x="660" y="27"/>
                    </a:lnTo>
                    <a:lnTo>
                      <a:pt x="661" y="29"/>
                    </a:lnTo>
                    <a:lnTo>
                      <a:pt x="661" y="30"/>
                    </a:lnTo>
                    <a:lnTo>
                      <a:pt x="663" y="31"/>
                    </a:lnTo>
                    <a:lnTo>
                      <a:pt x="663" y="31"/>
                    </a:lnTo>
                    <a:lnTo>
                      <a:pt x="664" y="33"/>
                    </a:lnTo>
                    <a:lnTo>
                      <a:pt x="668" y="34"/>
                    </a:lnTo>
                    <a:lnTo>
                      <a:pt x="670" y="34"/>
                    </a:lnTo>
                    <a:lnTo>
                      <a:pt x="673" y="34"/>
                    </a:lnTo>
                    <a:lnTo>
                      <a:pt x="674" y="33"/>
                    </a:lnTo>
                    <a:lnTo>
                      <a:pt x="674" y="31"/>
                    </a:lnTo>
                    <a:lnTo>
                      <a:pt x="675" y="29"/>
                    </a:lnTo>
                    <a:lnTo>
                      <a:pt x="675" y="29"/>
                    </a:lnTo>
                    <a:lnTo>
                      <a:pt x="693" y="29"/>
                    </a:lnTo>
                    <a:lnTo>
                      <a:pt x="704" y="40"/>
                    </a:lnTo>
                    <a:lnTo>
                      <a:pt x="714" y="40"/>
                    </a:lnTo>
                    <a:lnTo>
                      <a:pt x="714" y="45"/>
                    </a:lnTo>
                    <a:lnTo>
                      <a:pt x="723" y="45"/>
                    </a:lnTo>
                    <a:lnTo>
                      <a:pt x="723" y="34"/>
                    </a:lnTo>
                    <a:lnTo>
                      <a:pt x="714" y="34"/>
                    </a:lnTo>
                    <a:lnTo>
                      <a:pt x="714" y="39"/>
                    </a:lnTo>
                    <a:lnTo>
                      <a:pt x="706" y="39"/>
                    </a:lnTo>
                    <a:lnTo>
                      <a:pt x="698" y="29"/>
                    </a:lnTo>
                    <a:lnTo>
                      <a:pt x="727" y="29"/>
                    </a:lnTo>
                    <a:lnTo>
                      <a:pt x="727" y="31"/>
                    </a:lnTo>
                    <a:lnTo>
                      <a:pt x="738" y="27"/>
                    </a:lnTo>
                    <a:lnTo>
                      <a:pt x="727" y="22"/>
                    </a:lnTo>
                    <a:lnTo>
                      <a:pt x="727" y="25"/>
                    </a:lnTo>
                    <a:lnTo>
                      <a:pt x="727" y="25"/>
                    </a:lnTo>
                    <a:close/>
                    <a:moveTo>
                      <a:pt x="1037" y="51"/>
                    </a:moveTo>
                    <a:lnTo>
                      <a:pt x="1076" y="51"/>
                    </a:lnTo>
                    <a:lnTo>
                      <a:pt x="1079" y="51"/>
                    </a:lnTo>
                    <a:lnTo>
                      <a:pt x="1080" y="51"/>
                    </a:lnTo>
                    <a:lnTo>
                      <a:pt x="1082" y="50"/>
                    </a:lnTo>
                    <a:lnTo>
                      <a:pt x="1084" y="49"/>
                    </a:lnTo>
                    <a:lnTo>
                      <a:pt x="1085" y="48"/>
                    </a:lnTo>
                    <a:lnTo>
                      <a:pt x="1086" y="45"/>
                    </a:lnTo>
                    <a:lnTo>
                      <a:pt x="1086" y="43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11"/>
                    </a:lnTo>
                    <a:lnTo>
                      <a:pt x="1086" y="9"/>
                    </a:lnTo>
                    <a:lnTo>
                      <a:pt x="1086" y="6"/>
                    </a:lnTo>
                    <a:lnTo>
                      <a:pt x="1085" y="5"/>
                    </a:lnTo>
                    <a:lnTo>
                      <a:pt x="1084" y="2"/>
                    </a:lnTo>
                    <a:lnTo>
                      <a:pt x="1082" y="1"/>
                    </a:lnTo>
                    <a:lnTo>
                      <a:pt x="1080" y="1"/>
                    </a:lnTo>
                    <a:lnTo>
                      <a:pt x="1079" y="0"/>
                    </a:lnTo>
                    <a:lnTo>
                      <a:pt x="1076" y="0"/>
                    </a:lnTo>
                    <a:lnTo>
                      <a:pt x="1076" y="0"/>
                    </a:lnTo>
                    <a:lnTo>
                      <a:pt x="1037" y="0"/>
                    </a:lnTo>
                    <a:lnTo>
                      <a:pt x="1035" y="0"/>
                    </a:lnTo>
                    <a:lnTo>
                      <a:pt x="1033" y="1"/>
                    </a:lnTo>
                    <a:lnTo>
                      <a:pt x="1031" y="1"/>
                    </a:lnTo>
                    <a:lnTo>
                      <a:pt x="1030" y="2"/>
                    </a:lnTo>
                    <a:lnTo>
                      <a:pt x="1028" y="5"/>
                    </a:lnTo>
                    <a:lnTo>
                      <a:pt x="1027" y="6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1"/>
                    </a:lnTo>
                    <a:lnTo>
                      <a:pt x="1026" y="40"/>
                    </a:lnTo>
                    <a:lnTo>
                      <a:pt x="1026" y="43"/>
                    </a:lnTo>
                    <a:lnTo>
                      <a:pt x="1027" y="45"/>
                    </a:lnTo>
                    <a:lnTo>
                      <a:pt x="1028" y="48"/>
                    </a:lnTo>
                    <a:lnTo>
                      <a:pt x="1030" y="49"/>
                    </a:lnTo>
                    <a:lnTo>
                      <a:pt x="1031" y="50"/>
                    </a:lnTo>
                    <a:lnTo>
                      <a:pt x="1033" y="51"/>
                    </a:lnTo>
                    <a:lnTo>
                      <a:pt x="1035" y="51"/>
                    </a:lnTo>
                    <a:lnTo>
                      <a:pt x="1037" y="51"/>
                    </a:lnTo>
                    <a:lnTo>
                      <a:pt x="1037" y="51"/>
                    </a:lnTo>
                    <a:close/>
                    <a:moveTo>
                      <a:pt x="1044" y="43"/>
                    </a:moveTo>
                    <a:lnTo>
                      <a:pt x="1050" y="43"/>
                    </a:lnTo>
                    <a:lnTo>
                      <a:pt x="1056" y="43"/>
                    </a:lnTo>
                    <a:lnTo>
                      <a:pt x="1062" y="43"/>
                    </a:lnTo>
                    <a:lnTo>
                      <a:pt x="1069" y="43"/>
                    </a:lnTo>
                    <a:lnTo>
                      <a:pt x="1070" y="43"/>
                    </a:lnTo>
                    <a:lnTo>
                      <a:pt x="1072" y="43"/>
                    </a:lnTo>
                    <a:lnTo>
                      <a:pt x="1074" y="41"/>
                    </a:lnTo>
                    <a:lnTo>
                      <a:pt x="1075" y="40"/>
                    </a:lnTo>
                    <a:lnTo>
                      <a:pt x="1076" y="39"/>
                    </a:lnTo>
                    <a:lnTo>
                      <a:pt x="1077" y="38"/>
                    </a:lnTo>
                    <a:lnTo>
                      <a:pt x="1077" y="35"/>
                    </a:lnTo>
                    <a:lnTo>
                      <a:pt x="1077" y="34"/>
                    </a:lnTo>
                    <a:lnTo>
                      <a:pt x="1077" y="34"/>
                    </a:lnTo>
                    <a:lnTo>
                      <a:pt x="1077" y="30"/>
                    </a:lnTo>
                    <a:lnTo>
                      <a:pt x="1077" y="26"/>
                    </a:lnTo>
                    <a:lnTo>
                      <a:pt x="1077" y="21"/>
                    </a:lnTo>
                    <a:lnTo>
                      <a:pt x="1077" y="17"/>
                    </a:lnTo>
                    <a:lnTo>
                      <a:pt x="1077" y="16"/>
                    </a:lnTo>
                    <a:lnTo>
                      <a:pt x="1077" y="15"/>
                    </a:lnTo>
                    <a:lnTo>
                      <a:pt x="1076" y="14"/>
                    </a:lnTo>
                    <a:lnTo>
                      <a:pt x="1075" y="11"/>
                    </a:lnTo>
                    <a:lnTo>
                      <a:pt x="1074" y="11"/>
                    </a:lnTo>
                    <a:lnTo>
                      <a:pt x="1072" y="10"/>
                    </a:lnTo>
                    <a:lnTo>
                      <a:pt x="1070" y="9"/>
                    </a:lnTo>
                    <a:lnTo>
                      <a:pt x="1069" y="9"/>
                    </a:lnTo>
                    <a:lnTo>
                      <a:pt x="1062" y="9"/>
                    </a:lnTo>
                    <a:lnTo>
                      <a:pt x="1056" y="9"/>
                    </a:lnTo>
                    <a:lnTo>
                      <a:pt x="1050" y="9"/>
                    </a:lnTo>
                    <a:lnTo>
                      <a:pt x="1044" y="9"/>
                    </a:lnTo>
                    <a:lnTo>
                      <a:pt x="1042" y="9"/>
                    </a:lnTo>
                    <a:lnTo>
                      <a:pt x="1041" y="10"/>
                    </a:lnTo>
                    <a:lnTo>
                      <a:pt x="1039" y="11"/>
                    </a:lnTo>
                    <a:lnTo>
                      <a:pt x="1037" y="11"/>
                    </a:lnTo>
                    <a:lnTo>
                      <a:pt x="1036" y="14"/>
                    </a:lnTo>
                    <a:lnTo>
                      <a:pt x="1036" y="15"/>
                    </a:lnTo>
                    <a:lnTo>
                      <a:pt x="1035" y="16"/>
                    </a:lnTo>
                    <a:lnTo>
                      <a:pt x="1035" y="17"/>
                    </a:lnTo>
                    <a:lnTo>
                      <a:pt x="1035" y="21"/>
                    </a:lnTo>
                    <a:lnTo>
                      <a:pt x="1035" y="26"/>
                    </a:lnTo>
                    <a:lnTo>
                      <a:pt x="1035" y="30"/>
                    </a:lnTo>
                    <a:lnTo>
                      <a:pt x="1035" y="34"/>
                    </a:lnTo>
                    <a:lnTo>
                      <a:pt x="1035" y="35"/>
                    </a:lnTo>
                    <a:lnTo>
                      <a:pt x="1036" y="38"/>
                    </a:lnTo>
                    <a:lnTo>
                      <a:pt x="1036" y="39"/>
                    </a:lnTo>
                    <a:lnTo>
                      <a:pt x="1037" y="40"/>
                    </a:lnTo>
                    <a:lnTo>
                      <a:pt x="1039" y="41"/>
                    </a:lnTo>
                    <a:lnTo>
                      <a:pt x="1041" y="43"/>
                    </a:lnTo>
                    <a:lnTo>
                      <a:pt x="1042" y="43"/>
                    </a:lnTo>
                    <a:lnTo>
                      <a:pt x="1044" y="43"/>
                    </a:lnTo>
                    <a:lnTo>
                      <a:pt x="104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4416840" y="5774400"/>
                <a:ext cx="1943280" cy="254880"/>
              </a:xfrm>
              <a:custGeom>
                <a:avLst/>
                <a:gdLst/>
                <a:ahLst/>
                <a:rect l="l" t="t" r="r" b="b"/>
                <a:pathLst>
                  <a:path w="2476" h="317">
                    <a:moveTo>
                      <a:pt x="41" y="39"/>
                    </a:moveTo>
                    <a:lnTo>
                      <a:pt x="4" y="39"/>
                    </a:lnTo>
                    <a:lnTo>
                      <a:pt x="23" y="8"/>
                    </a:lnTo>
                    <a:lnTo>
                      <a:pt x="41" y="39"/>
                    </a:lnTo>
                    <a:lnTo>
                      <a:pt x="41" y="39"/>
                    </a:lnTo>
                    <a:close/>
                    <a:moveTo>
                      <a:pt x="24" y="3"/>
                    </a:move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  <a:moveTo>
                      <a:pt x="23" y="37"/>
                    </a:moveTo>
                    <a:lnTo>
                      <a:pt x="24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close/>
                    <a:moveTo>
                      <a:pt x="24" y="31"/>
                    </a:moveTo>
                    <a:lnTo>
                      <a:pt x="24" y="27"/>
                    </a:lnTo>
                    <a:lnTo>
                      <a:pt x="24" y="23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4" y="31"/>
                    </a:lnTo>
                    <a:close/>
                    <a:moveTo>
                      <a:pt x="43" y="71"/>
                    </a:moveTo>
                    <a:lnTo>
                      <a:pt x="43" y="67"/>
                    </a:lnTo>
                    <a:lnTo>
                      <a:pt x="42" y="63"/>
                    </a:lnTo>
                    <a:lnTo>
                      <a:pt x="39" y="60"/>
                    </a:lnTo>
                    <a:lnTo>
                      <a:pt x="37" y="57"/>
                    </a:lnTo>
                    <a:lnTo>
                      <a:pt x="34" y="55"/>
                    </a:lnTo>
                    <a:lnTo>
                      <a:pt x="30" y="52"/>
                    </a:lnTo>
                    <a:lnTo>
                      <a:pt x="27" y="51"/>
                    </a:lnTo>
                    <a:lnTo>
                      <a:pt x="23" y="51"/>
                    </a:lnTo>
                    <a:lnTo>
                      <a:pt x="18" y="51"/>
                    </a:lnTo>
                    <a:lnTo>
                      <a:pt x="15" y="52"/>
                    </a:lnTo>
                    <a:lnTo>
                      <a:pt x="12" y="55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5" y="63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9" y="86"/>
                    </a:lnTo>
                    <a:lnTo>
                      <a:pt x="12" y="89"/>
                    </a:lnTo>
                    <a:lnTo>
                      <a:pt x="15" y="90"/>
                    </a:lnTo>
                    <a:lnTo>
                      <a:pt x="18" y="91"/>
                    </a:lnTo>
                    <a:lnTo>
                      <a:pt x="23" y="91"/>
                    </a:lnTo>
                    <a:lnTo>
                      <a:pt x="27" y="91"/>
                    </a:lnTo>
                    <a:lnTo>
                      <a:pt x="30" y="90"/>
                    </a:lnTo>
                    <a:lnTo>
                      <a:pt x="34" y="89"/>
                    </a:lnTo>
                    <a:lnTo>
                      <a:pt x="37" y="86"/>
                    </a:lnTo>
                    <a:lnTo>
                      <a:pt x="39" y="82"/>
                    </a:lnTo>
                    <a:lnTo>
                      <a:pt x="42" y="79"/>
                    </a:lnTo>
                    <a:lnTo>
                      <a:pt x="43" y="75"/>
                    </a:lnTo>
                    <a:lnTo>
                      <a:pt x="43" y="71"/>
                    </a:lnTo>
                    <a:lnTo>
                      <a:pt x="43" y="71"/>
                    </a:lnTo>
                    <a:close/>
                    <a:moveTo>
                      <a:pt x="23" y="73"/>
                    </a:moveTo>
                    <a:lnTo>
                      <a:pt x="22" y="75"/>
                    </a:lnTo>
                    <a:lnTo>
                      <a:pt x="22" y="76"/>
                    </a:lnTo>
                    <a:lnTo>
                      <a:pt x="19" y="76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1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20" y="80"/>
                    </a:lnTo>
                    <a:lnTo>
                      <a:pt x="22" y="79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34" y="85"/>
                    </a:lnTo>
                    <a:lnTo>
                      <a:pt x="30" y="86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9" y="80"/>
                    </a:lnTo>
                    <a:lnTo>
                      <a:pt x="8" y="77"/>
                    </a:lnTo>
                    <a:lnTo>
                      <a:pt x="7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23" y="73"/>
                    </a:lnTo>
                    <a:lnTo>
                      <a:pt x="23" y="73"/>
                    </a:lnTo>
                    <a:close/>
                    <a:moveTo>
                      <a:pt x="27" y="76"/>
                    </a:moveTo>
                    <a:lnTo>
                      <a:pt x="29" y="73"/>
                    </a:lnTo>
                    <a:lnTo>
                      <a:pt x="32" y="72"/>
                    </a:lnTo>
                    <a:lnTo>
                      <a:pt x="33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8" y="70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13" y="57"/>
                    </a:lnTo>
                    <a:lnTo>
                      <a:pt x="17" y="56"/>
                    </a:lnTo>
                    <a:lnTo>
                      <a:pt x="19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9" y="55"/>
                    </a:lnTo>
                    <a:lnTo>
                      <a:pt x="32" y="57"/>
                    </a:lnTo>
                    <a:lnTo>
                      <a:pt x="34" y="58"/>
                    </a:lnTo>
                    <a:lnTo>
                      <a:pt x="37" y="62"/>
                    </a:lnTo>
                    <a:lnTo>
                      <a:pt x="38" y="65"/>
                    </a:lnTo>
                    <a:lnTo>
                      <a:pt x="39" y="67"/>
                    </a:lnTo>
                    <a:lnTo>
                      <a:pt x="39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9"/>
                    </a:lnTo>
                    <a:lnTo>
                      <a:pt x="35" y="81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27" y="76"/>
                    </a:lnTo>
                    <a:lnTo>
                      <a:pt x="27" y="76"/>
                    </a:lnTo>
                    <a:close/>
                    <a:moveTo>
                      <a:pt x="681" y="139"/>
                    </a:moveTo>
                    <a:lnTo>
                      <a:pt x="681" y="138"/>
                    </a:lnTo>
                    <a:lnTo>
                      <a:pt x="680" y="137"/>
                    </a:lnTo>
                    <a:lnTo>
                      <a:pt x="678" y="135"/>
                    </a:lnTo>
                    <a:lnTo>
                      <a:pt x="677" y="135"/>
                    </a:lnTo>
                    <a:lnTo>
                      <a:pt x="674" y="135"/>
                    </a:lnTo>
                    <a:lnTo>
                      <a:pt x="673" y="137"/>
                    </a:lnTo>
                    <a:lnTo>
                      <a:pt x="672" y="138"/>
                    </a:lnTo>
                    <a:lnTo>
                      <a:pt x="672" y="139"/>
                    </a:lnTo>
                    <a:lnTo>
                      <a:pt x="672" y="143"/>
                    </a:lnTo>
                    <a:lnTo>
                      <a:pt x="673" y="144"/>
                    </a:lnTo>
                    <a:lnTo>
                      <a:pt x="674" y="145"/>
                    </a:lnTo>
                    <a:lnTo>
                      <a:pt x="677" y="147"/>
                    </a:lnTo>
                    <a:lnTo>
                      <a:pt x="678" y="145"/>
                    </a:lnTo>
                    <a:lnTo>
                      <a:pt x="680" y="144"/>
                    </a:lnTo>
                    <a:lnTo>
                      <a:pt x="681" y="143"/>
                    </a:lnTo>
                    <a:lnTo>
                      <a:pt x="681" y="139"/>
                    </a:lnTo>
                    <a:lnTo>
                      <a:pt x="681" y="139"/>
                    </a:lnTo>
                    <a:close/>
                    <a:moveTo>
                      <a:pt x="633" y="167"/>
                    </a:moveTo>
                    <a:lnTo>
                      <a:pt x="633" y="166"/>
                    </a:lnTo>
                    <a:lnTo>
                      <a:pt x="632" y="163"/>
                    </a:lnTo>
                    <a:lnTo>
                      <a:pt x="631" y="163"/>
                    </a:lnTo>
                    <a:lnTo>
                      <a:pt x="629" y="162"/>
                    </a:lnTo>
                    <a:lnTo>
                      <a:pt x="628" y="163"/>
                    </a:lnTo>
                    <a:lnTo>
                      <a:pt x="626" y="163"/>
                    </a:lnTo>
                    <a:lnTo>
                      <a:pt x="626" y="166"/>
                    </a:lnTo>
                    <a:lnTo>
                      <a:pt x="624" y="167"/>
                    </a:lnTo>
                    <a:lnTo>
                      <a:pt x="626" y="169"/>
                    </a:lnTo>
                    <a:lnTo>
                      <a:pt x="626" y="172"/>
                    </a:lnTo>
                    <a:lnTo>
                      <a:pt x="628" y="173"/>
                    </a:lnTo>
                    <a:lnTo>
                      <a:pt x="629" y="173"/>
                    </a:lnTo>
                    <a:lnTo>
                      <a:pt x="631" y="173"/>
                    </a:lnTo>
                    <a:lnTo>
                      <a:pt x="632" y="172"/>
                    </a:lnTo>
                    <a:lnTo>
                      <a:pt x="633" y="169"/>
                    </a:lnTo>
                    <a:lnTo>
                      <a:pt x="633" y="167"/>
                    </a:lnTo>
                    <a:lnTo>
                      <a:pt x="633" y="167"/>
                    </a:lnTo>
                    <a:close/>
                    <a:moveTo>
                      <a:pt x="661" y="167"/>
                    </a:moveTo>
                    <a:lnTo>
                      <a:pt x="661" y="166"/>
                    </a:lnTo>
                    <a:lnTo>
                      <a:pt x="659" y="163"/>
                    </a:lnTo>
                    <a:lnTo>
                      <a:pt x="658" y="163"/>
                    </a:lnTo>
                    <a:lnTo>
                      <a:pt x="657" y="162"/>
                    </a:lnTo>
                    <a:lnTo>
                      <a:pt x="654" y="162"/>
                    </a:lnTo>
                    <a:lnTo>
                      <a:pt x="653" y="163"/>
                    </a:lnTo>
                    <a:lnTo>
                      <a:pt x="653" y="163"/>
                    </a:lnTo>
                    <a:lnTo>
                      <a:pt x="652" y="163"/>
                    </a:lnTo>
                    <a:lnTo>
                      <a:pt x="652" y="166"/>
                    </a:lnTo>
                    <a:lnTo>
                      <a:pt x="652" y="167"/>
                    </a:lnTo>
                    <a:lnTo>
                      <a:pt x="652" y="169"/>
                    </a:lnTo>
                    <a:lnTo>
                      <a:pt x="652" y="172"/>
                    </a:lnTo>
                    <a:lnTo>
                      <a:pt x="653" y="173"/>
                    </a:lnTo>
                    <a:lnTo>
                      <a:pt x="653" y="173"/>
                    </a:lnTo>
                    <a:lnTo>
                      <a:pt x="654" y="173"/>
                    </a:lnTo>
                    <a:lnTo>
                      <a:pt x="657" y="173"/>
                    </a:lnTo>
                    <a:lnTo>
                      <a:pt x="658" y="173"/>
                    </a:lnTo>
                    <a:lnTo>
                      <a:pt x="659" y="172"/>
                    </a:lnTo>
                    <a:lnTo>
                      <a:pt x="661" y="169"/>
                    </a:lnTo>
                    <a:lnTo>
                      <a:pt x="661" y="167"/>
                    </a:lnTo>
                    <a:lnTo>
                      <a:pt x="661" y="167"/>
                    </a:lnTo>
                    <a:close/>
                    <a:moveTo>
                      <a:pt x="613" y="139"/>
                    </a:moveTo>
                    <a:lnTo>
                      <a:pt x="613" y="138"/>
                    </a:lnTo>
                    <a:lnTo>
                      <a:pt x="612" y="137"/>
                    </a:lnTo>
                    <a:lnTo>
                      <a:pt x="611" y="135"/>
                    </a:lnTo>
                    <a:lnTo>
                      <a:pt x="609" y="135"/>
                    </a:lnTo>
                    <a:lnTo>
                      <a:pt x="607" y="135"/>
                    </a:lnTo>
                    <a:lnTo>
                      <a:pt x="607" y="135"/>
                    </a:lnTo>
                    <a:lnTo>
                      <a:pt x="606" y="135"/>
                    </a:lnTo>
                    <a:lnTo>
                      <a:pt x="604" y="137"/>
                    </a:lnTo>
                    <a:lnTo>
                      <a:pt x="604" y="138"/>
                    </a:lnTo>
                    <a:lnTo>
                      <a:pt x="604" y="139"/>
                    </a:lnTo>
                    <a:lnTo>
                      <a:pt x="604" y="143"/>
                    </a:lnTo>
                    <a:lnTo>
                      <a:pt x="604" y="144"/>
                    </a:lnTo>
                    <a:lnTo>
                      <a:pt x="606" y="145"/>
                    </a:lnTo>
                    <a:lnTo>
                      <a:pt x="607" y="145"/>
                    </a:lnTo>
                    <a:lnTo>
                      <a:pt x="607" y="147"/>
                    </a:lnTo>
                    <a:lnTo>
                      <a:pt x="609" y="147"/>
                    </a:lnTo>
                    <a:lnTo>
                      <a:pt x="611" y="145"/>
                    </a:lnTo>
                    <a:lnTo>
                      <a:pt x="612" y="144"/>
                    </a:lnTo>
                    <a:lnTo>
                      <a:pt x="613" y="143"/>
                    </a:lnTo>
                    <a:lnTo>
                      <a:pt x="613" y="139"/>
                    </a:lnTo>
                    <a:lnTo>
                      <a:pt x="613" y="139"/>
                    </a:lnTo>
                    <a:close/>
                    <a:moveTo>
                      <a:pt x="633" y="137"/>
                    </a:moveTo>
                    <a:lnTo>
                      <a:pt x="652" y="137"/>
                    </a:lnTo>
                    <a:lnTo>
                      <a:pt x="652" y="105"/>
                    </a:lnTo>
                    <a:lnTo>
                      <a:pt x="633" y="105"/>
                    </a:lnTo>
                    <a:lnTo>
                      <a:pt x="633" y="137"/>
                    </a:lnTo>
                    <a:lnTo>
                      <a:pt x="633" y="137"/>
                    </a:lnTo>
                    <a:close/>
                    <a:moveTo>
                      <a:pt x="621" y="114"/>
                    </a:moveTo>
                    <a:lnTo>
                      <a:pt x="619" y="111"/>
                    </a:lnTo>
                    <a:lnTo>
                      <a:pt x="619" y="109"/>
                    </a:lnTo>
                    <a:lnTo>
                      <a:pt x="617" y="108"/>
                    </a:lnTo>
                    <a:lnTo>
                      <a:pt x="616" y="108"/>
                    </a:lnTo>
                    <a:lnTo>
                      <a:pt x="614" y="108"/>
                    </a:lnTo>
                    <a:lnTo>
                      <a:pt x="613" y="109"/>
                    </a:lnTo>
                    <a:lnTo>
                      <a:pt x="612" y="111"/>
                    </a:lnTo>
                    <a:lnTo>
                      <a:pt x="611" y="114"/>
                    </a:lnTo>
                    <a:lnTo>
                      <a:pt x="612" y="116"/>
                    </a:lnTo>
                    <a:lnTo>
                      <a:pt x="613" y="118"/>
                    </a:lnTo>
                    <a:lnTo>
                      <a:pt x="614" y="119"/>
                    </a:lnTo>
                    <a:lnTo>
                      <a:pt x="616" y="119"/>
                    </a:lnTo>
                    <a:lnTo>
                      <a:pt x="617" y="119"/>
                    </a:lnTo>
                    <a:lnTo>
                      <a:pt x="619" y="118"/>
                    </a:lnTo>
                    <a:lnTo>
                      <a:pt x="619" y="116"/>
                    </a:lnTo>
                    <a:lnTo>
                      <a:pt x="621" y="114"/>
                    </a:lnTo>
                    <a:lnTo>
                      <a:pt x="621" y="114"/>
                    </a:lnTo>
                    <a:close/>
                    <a:moveTo>
                      <a:pt x="674" y="114"/>
                    </a:moveTo>
                    <a:lnTo>
                      <a:pt x="674" y="111"/>
                    </a:lnTo>
                    <a:lnTo>
                      <a:pt x="673" y="109"/>
                    </a:lnTo>
                    <a:lnTo>
                      <a:pt x="672" y="108"/>
                    </a:lnTo>
                    <a:lnTo>
                      <a:pt x="669" y="108"/>
                    </a:lnTo>
                    <a:lnTo>
                      <a:pt x="667" y="108"/>
                    </a:lnTo>
                    <a:lnTo>
                      <a:pt x="664" y="109"/>
                    </a:lnTo>
                    <a:lnTo>
                      <a:pt x="663" y="111"/>
                    </a:lnTo>
                    <a:lnTo>
                      <a:pt x="663" y="114"/>
                    </a:lnTo>
                    <a:lnTo>
                      <a:pt x="663" y="116"/>
                    </a:lnTo>
                    <a:lnTo>
                      <a:pt x="664" y="118"/>
                    </a:lnTo>
                    <a:lnTo>
                      <a:pt x="667" y="119"/>
                    </a:lnTo>
                    <a:lnTo>
                      <a:pt x="669" y="119"/>
                    </a:lnTo>
                    <a:lnTo>
                      <a:pt x="672" y="119"/>
                    </a:lnTo>
                    <a:lnTo>
                      <a:pt x="673" y="118"/>
                    </a:lnTo>
                    <a:lnTo>
                      <a:pt x="674" y="116"/>
                    </a:lnTo>
                    <a:lnTo>
                      <a:pt x="674" y="114"/>
                    </a:lnTo>
                    <a:lnTo>
                      <a:pt x="674" y="114"/>
                    </a:lnTo>
                    <a:close/>
                    <a:moveTo>
                      <a:pt x="607" y="281"/>
                    </a:moveTo>
                    <a:lnTo>
                      <a:pt x="607" y="317"/>
                    </a:lnTo>
                    <a:lnTo>
                      <a:pt x="681" y="317"/>
                    </a:lnTo>
                    <a:lnTo>
                      <a:pt x="681" y="281"/>
                    </a:lnTo>
                    <a:lnTo>
                      <a:pt x="607" y="281"/>
                    </a:lnTo>
                    <a:lnTo>
                      <a:pt x="607" y="281"/>
                    </a:lnTo>
                    <a:close/>
                    <a:moveTo>
                      <a:pt x="611" y="286"/>
                    </a:moveTo>
                    <a:lnTo>
                      <a:pt x="611" y="311"/>
                    </a:lnTo>
                    <a:lnTo>
                      <a:pt x="674" y="311"/>
                    </a:lnTo>
                    <a:lnTo>
                      <a:pt x="674" y="286"/>
                    </a:lnTo>
                    <a:lnTo>
                      <a:pt x="611" y="286"/>
                    </a:lnTo>
                    <a:lnTo>
                      <a:pt x="611" y="286"/>
                    </a:lnTo>
                    <a:close/>
                    <a:moveTo>
                      <a:pt x="668" y="288"/>
                    </a:moveTo>
                    <a:lnTo>
                      <a:pt x="668" y="294"/>
                    </a:lnTo>
                    <a:lnTo>
                      <a:pt x="672" y="294"/>
                    </a:lnTo>
                    <a:lnTo>
                      <a:pt x="672" y="288"/>
                    </a:lnTo>
                    <a:lnTo>
                      <a:pt x="668" y="288"/>
                    </a:lnTo>
                    <a:lnTo>
                      <a:pt x="668" y="288"/>
                    </a:lnTo>
                    <a:close/>
                    <a:moveTo>
                      <a:pt x="658" y="288"/>
                    </a:moveTo>
                    <a:lnTo>
                      <a:pt x="658" y="294"/>
                    </a:lnTo>
                    <a:lnTo>
                      <a:pt x="663" y="294"/>
                    </a:lnTo>
                    <a:lnTo>
                      <a:pt x="663" y="288"/>
                    </a:lnTo>
                    <a:lnTo>
                      <a:pt x="658" y="288"/>
                    </a:lnTo>
                    <a:lnTo>
                      <a:pt x="658" y="288"/>
                    </a:lnTo>
                    <a:close/>
                    <a:moveTo>
                      <a:pt x="663" y="297"/>
                    </a:moveTo>
                    <a:lnTo>
                      <a:pt x="663" y="301"/>
                    </a:lnTo>
                    <a:lnTo>
                      <a:pt x="668" y="301"/>
                    </a:lnTo>
                    <a:lnTo>
                      <a:pt x="668" y="297"/>
                    </a:lnTo>
                    <a:lnTo>
                      <a:pt x="663" y="297"/>
                    </a:lnTo>
                    <a:lnTo>
                      <a:pt x="663" y="297"/>
                    </a:lnTo>
                    <a:close/>
                    <a:moveTo>
                      <a:pt x="649" y="288"/>
                    </a:moveTo>
                    <a:lnTo>
                      <a:pt x="649" y="294"/>
                    </a:lnTo>
                    <a:lnTo>
                      <a:pt x="654" y="294"/>
                    </a:lnTo>
                    <a:lnTo>
                      <a:pt x="654" y="288"/>
                    </a:lnTo>
                    <a:lnTo>
                      <a:pt x="649" y="288"/>
                    </a:lnTo>
                    <a:lnTo>
                      <a:pt x="649" y="288"/>
                    </a:lnTo>
                    <a:close/>
                    <a:moveTo>
                      <a:pt x="641" y="288"/>
                    </a:moveTo>
                    <a:lnTo>
                      <a:pt x="641" y="294"/>
                    </a:lnTo>
                    <a:lnTo>
                      <a:pt x="647" y="294"/>
                    </a:lnTo>
                    <a:lnTo>
                      <a:pt x="647" y="288"/>
                    </a:lnTo>
                    <a:lnTo>
                      <a:pt x="641" y="288"/>
                    </a:lnTo>
                    <a:lnTo>
                      <a:pt x="641" y="288"/>
                    </a:lnTo>
                    <a:close/>
                    <a:moveTo>
                      <a:pt x="632" y="288"/>
                    </a:moveTo>
                    <a:lnTo>
                      <a:pt x="632" y="294"/>
                    </a:lnTo>
                    <a:lnTo>
                      <a:pt x="638" y="294"/>
                    </a:lnTo>
                    <a:lnTo>
                      <a:pt x="638" y="288"/>
                    </a:lnTo>
                    <a:lnTo>
                      <a:pt x="632" y="288"/>
                    </a:lnTo>
                    <a:lnTo>
                      <a:pt x="632" y="288"/>
                    </a:lnTo>
                    <a:close/>
                    <a:moveTo>
                      <a:pt x="622" y="288"/>
                    </a:moveTo>
                    <a:lnTo>
                      <a:pt x="622" y="294"/>
                    </a:lnTo>
                    <a:lnTo>
                      <a:pt x="629" y="294"/>
                    </a:lnTo>
                    <a:lnTo>
                      <a:pt x="629" y="288"/>
                    </a:lnTo>
                    <a:lnTo>
                      <a:pt x="622" y="288"/>
                    </a:lnTo>
                    <a:lnTo>
                      <a:pt x="622" y="288"/>
                    </a:lnTo>
                    <a:close/>
                    <a:moveTo>
                      <a:pt x="616" y="288"/>
                    </a:moveTo>
                    <a:lnTo>
                      <a:pt x="616" y="294"/>
                    </a:lnTo>
                    <a:lnTo>
                      <a:pt x="621" y="294"/>
                    </a:lnTo>
                    <a:lnTo>
                      <a:pt x="621" y="288"/>
                    </a:lnTo>
                    <a:lnTo>
                      <a:pt x="616" y="288"/>
                    </a:lnTo>
                    <a:lnTo>
                      <a:pt x="616" y="288"/>
                    </a:lnTo>
                    <a:close/>
                    <a:moveTo>
                      <a:pt x="654" y="297"/>
                    </a:moveTo>
                    <a:lnTo>
                      <a:pt x="654" y="301"/>
                    </a:lnTo>
                    <a:lnTo>
                      <a:pt x="658" y="301"/>
                    </a:lnTo>
                    <a:lnTo>
                      <a:pt x="658" y="297"/>
                    </a:lnTo>
                    <a:lnTo>
                      <a:pt x="654" y="297"/>
                    </a:lnTo>
                    <a:lnTo>
                      <a:pt x="654" y="297"/>
                    </a:lnTo>
                    <a:close/>
                    <a:moveTo>
                      <a:pt x="644" y="297"/>
                    </a:moveTo>
                    <a:lnTo>
                      <a:pt x="644" y="301"/>
                    </a:lnTo>
                    <a:lnTo>
                      <a:pt x="649" y="301"/>
                    </a:lnTo>
                    <a:lnTo>
                      <a:pt x="649" y="297"/>
                    </a:lnTo>
                    <a:lnTo>
                      <a:pt x="644" y="297"/>
                    </a:lnTo>
                    <a:lnTo>
                      <a:pt x="644" y="297"/>
                    </a:lnTo>
                    <a:close/>
                    <a:moveTo>
                      <a:pt x="636" y="297"/>
                    </a:moveTo>
                    <a:lnTo>
                      <a:pt x="636" y="301"/>
                    </a:lnTo>
                    <a:lnTo>
                      <a:pt x="643" y="301"/>
                    </a:lnTo>
                    <a:lnTo>
                      <a:pt x="643" y="297"/>
                    </a:lnTo>
                    <a:lnTo>
                      <a:pt x="636" y="297"/>
                    </a:lnTo>
                    <a:lnTo>
                      <a:pt x="636" y="297"/>
                    </a:lnTo>
                    <a:close/>
                    <a:moveTo>
                      <a:pt x="627" y="297"/>
                    </a:moveTo>
                    <a:lnTo>
                      <a:pt x="627" y="301"/>
                    </a:lnTo>
                    <a:lnTo>
                      <a:pt x="633" y="301"/>
                    </a:lnTo>
                    <a:lnTo>
                      <a:pt x="633" y="297"/>
                    </a:lnTo>
                    <a:lnTo>
                      <a:pt x="627" y="297"/>
                    </a:lnTo>
                    <a:lnTo>
                      <a:pt x="627" y="297"/>
                    </a:lnTo>
                    <a:close/>
                    <a:moveTo>
                      <a:pt x="618" y="297"/>
                    </a:moveTo>
                    <a:lnTo>
                      <a:pt x="618" y="301"/>
                    </a:lnTo>
                    <a:lnTo>
                      <a:pt x="624" y="301"/>
                    </a:lnTo>
                    <a:lnTo>
                      <a:pt x="624" y="297"/>
                    </a:lnTo>
                    <a:lnTo>
                      <a:pt x="618" y="297"/>
                    </a:lnTo>
                    <a:lnTo>
                      <a:pt x="618" y="297"/>
                    </a:lnTo>
                    <a:close/>
                    <a:moveTo>
                      <a:pt x="658" y="303"/>
                    </a:moveTo>
                    <a:lnTo>
                      <a:pt x="627" y="303"/>
                    </a:lnTo>
                    <a:lnTo>
                      <a:pt x="627" y="308"/>
                    </a:lnTo>
                    <a:lnTo>
                      <a:pt x="658" y="308"/>
                    </a:lnTo>
                    <a:lnTo>
                      <a:pt x="658" y="303"/>
                    </a:lnTo>
                    <a:lnTo>
                      <a:pt x="658" y="303"/>
                    </a:lnTo>
                    <a:close/>
                    <a:moveTo>
                      <a:pt x="663" y="303"/>
                    </a:moveTo>
                    <a:lnTo>
                      <a:pt x="663" y="308"/>
                    </a:lnTo>
                    <a:lnTo>
                      <a:pt x="669" y="308"/>
                    </a:lnTo>
                    <a:lnTo>
                      <a:pt x="669" y="303"/>
                    </a:lnTo>
                    <a:lnTo>
                      <a:pt x="663" y="303"/>
                    </a:lnTo>
                    <a:lnTo>
                      <a:pt x="663" y="303"/>
                    </a:lnTo>
                    <a:close/>
                    <a:moveTo>
                      <a:pt x="618" y="303"/>
                    </a:moveTo>
                    <a:lnTo>
                      <a:pt x="618" y="308"/>
                    </a:lnTo>
                    <a:lnTo>
                      <a:pt x="622" y="308"/>
                    </a:lnTo>
                    <a:lnTo>
                      <a:pt x="622" y="303"/>
                    </a:lnTo>
                    <a:lnTo>
                      <a:pt x="618" y="303"/>
                    </a:lnTo>
                    <a:lnTo>
                      <a:pt x="618" y="303"/>
                    </a:lnTo>
                    <a:close/>
                    <a:moveTo>
                      <a:pt x="869" y="139"/>
                    </a:moveTo>
                    <a:lnTo>
                      <a:pt x="869" y="138"/>
                    </a:lnTo>
                    <a:lnTo>
                      <a:pt x="867" y="137"/>
                    </a:lnTo>
                    <a:lnTo>
                      <a:pt x="866" y="135"/>
                    </a:lnTo>
                    <a:lnTo>
                      <a:pt x="865" y="135"/>
                    </a:lnTo>
                    <a:lnTo>
                      <a:pt x="861" y="135"/>
                    </a:lnTo>
                    <a:lnTo>
                      <a:pt x="860" y="137"/>
                    </a:lnTo>
                    <a:lnTo>
                      <a:pt x="859" y="138"/>
                    </a:lnTo>
                    <a:lnTo>
                      <a:pt x="857" y="139"/>
                    </a:lnTo>
                    <a:lnTo>
                      <a:pt x="859" y="143"/>
                    </a:lnTo>
                    <a:lnTo>
                      <a:pt x="860" y="144"/>
                    </a:lnTo>
                    <a:lnTo>
                      <a:pt x="861" y="145"/>
                    </a:lnTo>
                    <a:lnTo>
                      <a:pt x="865" y="147"/>
                    </a:lnTo>
                    <a:lnTo>
                      <a:pt x="866" y="145"/>
                    </a:lnTo>
                    <a:lnTo>
                      <a:pt x="867" y="144"/>
                    </a:lnTo>
                    <a:lnTo>
                      <a:pt x="869" y="143"/>
                    </a:lnTo>
                    <a:lnTo>
                      <a:pt x="869" y="139"/>
                    </a:lnTo>
                    <a:lnTo>
                      <a:pt x="869" y="139"/>
                    </a:lnTo>
                    <a:close/>
                    <a:moveTo>
                      <a:pt x="876" y="114"/>
                    </a:moveTo>
                    <a:lnTo>
                      <a:pt x="875" y="111"/>
                    </a:lnTo>
                    <a:lnTo>
                      <a:pt x="875" y="109"/>
                    </a:lnTo>
                    <a:lnTo>
                      <a:pt x="872" y="108"/>
                    </a:lnTo>
                    <a:lnTo>
                      <a:pt x="871" y="108"/>
                    </a:lnTo>
                    <a:lnTo>
                      <a:pt x="870" y="108"/>
                    </a:lnTo>
                    <a:lnTo>
                      <a:pt x="869" y="109"/>
                    </a:lnTo>
                    <a:lnTo>
                      <a:pt x="867" y="111"/>
                    </a:lnTo>
                    <a:lnTo>
                      <a:pt x="867" y="114"/>
                    </a:lnTo>
                    <a:lnTo>
                      <a:pt x="867" y="116"/>
                    </a:lnTo>
                    <a:lnTo>
                      <a:pt x="869" y="118"/>
                    </a:lnTo>
                    <a:lnTo>
                      <a:pt x="870" y="119"/>
                    </a:lnTo>
                    <a:lnTo>
                      <a:pt x="871" y="119"/>
                    </a:lnTo>
                    <a:lnTo>
                      <a:pt x="872" y="119"/>
                    </a:lnTo>
                    <a:lnTo>
                      <a:pt x="875" y="118"/>
                    </a:lnTo>
                    <a:lnTo>
                      <a:pt x="875" y="116"/>
                    </a:lnTo>
                    <a:lnTo>
                      <a:pt x="876" y="114"/>
                    </a:lnTo>
                    <a:lnTo>
                      <a:pt x="876" y="114"/>
                    </a:lnTo>
                    <a:close/>
                    <a:moveTo>
                      <a:pt x="890" y="167"/>
                    </a:moveTo>
                    <a:lnTo>
                      <a:pt x="889" y="166"/>
                    </a:lnTo>
                    <a:lnTo>
                      <a:pt x="887" y="163"/>
                    </a:lnTo>
                    <a:lnTo>
                      <a:pt x="886" y="163"/>
                    </a:lnTo>
                    <a:lnTo>
                      <a:pt x="885" y="162"/>
                    </a:lnTo>
                    <a:lnTo>
                      <a:pt x="884" y="162"/>
                    </a:lnTo>
                    <a:lnTo>
                      <a:pt x="882" y="163"/>
                    </a:lnTo>
                    <a:lnTo>
                      <a:pt x="881" y="163"/>
                    </a:lnTo>
                    <a:lnTo>
                      <a:pt x="881" y="163"/>
                    </a:lnTo>
                    <a:lnTo>
                      <a:pt x="880" y="166"/>
                    </a:lnTo>
                    <a:lnTo>
                      <a:pt x="880" y="167"/>
                    </a:lnTo>
                    <a:lnTo>
                      <a:pt x="880" y="169"/>
                    </a:lnTo>
                    <a:lnTo>
                      <a:pt x="881" y="172"/>
                    </a:lnTo>
                    <a:lnTo>
                      <a:pt x="881" y="173"/>
                    </a:lnTo>
                    <a:lnTo>
                      <a:pt x="882" y="173"/>
                    </a:lnTo>
                    <a:lnTo>
                      <a:pt x="884" y="173"/>
                    </a:lnTo>
                    <a:lnTo>
                      <a:pt x="885" y="173"/>
                    </a:lnTo>
                    <a:lnTo>
                      <a:pt x="886" y="173"/>
                    </a:lnTo>
                    <a:lnTo>
                      <a:pt x="887" y="172"/>
                    </a:lnTo>
                    <a:lnTo>
                      <a:pt x="889" y="169"/>
                    </a:lnTo>
                    <a:lnTo>
                      <a:pt x="890" y="167"/>
                    </a:lnTo>
                    <a:lnTo>
                      <a:pt x="890" y="167"/>
                    </a:lnTo>
                    <a:close/>
                    <a:moveTo>
                      <a:pt x="890" y="137"/>
                    </a:moveTo>
                    <a:lnTo>
                      <a:pt x="908" y="137"/>
                    </a:lnTo>
                    <a:lnTo>
                      <a:pt x="908" y="105"/>
                    </a:lnTo>
                    <a:lnTo>
                      <a:pt x="890" y="105"/>
                    </a:lnTo>
                    <a:lnTo>
                      <a:pt x="890" y="137"/>
                    </a:lnTo>
                    <a:lnTo>
                      <a:pt x="890" y="137"/>
                    </a:lnTo>
                    <a:close/>
                    <a:moveTo>
                      <a:pt x="916" y="167"/>
                    </a:moveTo>
                    <a:lnTo>
                      <a:pt x="916" y="166"/>
                    </a:lnTo>
                    <a:lnTo>
                      <a:pt x="915" y="163"/>
                    </a:lnTo>
                    <a:lnTo>
                      <a:pt x="914" y="163"/>
                    </a:lnTo>
                    <a:lnTo>
                      <a:pt x="913" y="162"/>
                    </a:lnTo>
                    <a:lnTo>
                      <a:pt x="909" y="163"/>
                    </a:lnTo>
                    <a:lnTo>
                      <a:pt x="908" y="163"/>
                    </a:lnTo>
                    <a:lnTo>
                      <a:pt x="906" y="166"/>
                    </a:lnTo>
                    <a:lnTo>
                      <a:pt x="905" y="167"/>
                    </a:lnTo>
                    <a:lnTo>
                      <a:pt x="906" y="169"/>
                    </a:lnTo>
                    <a:lnTo>
                      <a:pt x="908" y="172"/>
                    </a:lnTo>
                    <a:lnTo>
                      <a:pt x="909" y="173"/>
                    </a:lnTo>
                    <a:lnTo>
                      <a:pt x="913" y="173"/>
                    </a:lnTo>
                    <a:lnTo>
                      <a:pt x="914" y="173"/>
                    </a:lnTo>
                    <a:lnTo>
                      <a:pt x="915" y="172"/>
                    </a:lnTo>
                    <a:lnTo>
                      <a:pt x="916" y="169"/>
                    </a:lnTo>
                    <a:lnTo>
                      <a:pt x="916" y="167"/>
                    </a:lnTo>
                    <a:lnTo>
                      <a:pt x="916" y="167"/>
                    </a:lnTo>
                    <a:close/>
                    <a:moveTo>
                      <a:pt x="930" y="114"/>
                    </a:moveTo>
                    <a:lnTo>
                      <a:pt x="930" y="111"/>
                    </a:lnTo>
                    <a:lnTo>
                      <a:pt x="929" y="109"/>
                    </a:lnTo>
                    <a:lnTo>
                      <a:pt x="926" y="108"/>
                    </a:lnTo>
                    <a:lnTo>
                      <a:pt x="924" y="108"/>
                    </a:lnTo>
                    <a:lnTo>
                      <a:pt x="921" y="108"/>
                    </a:lnTo>
                    <a:lnTo>
                      <a:pt x="920" y="109"/>
                    </a:lnTo>
                    <a:lnTo>
                      <a:pt x="919" y="111"/>
                    </a:lnTo>
                    <a:lnTo>
                      <a:pt x="919" y="114"/>
                    </a:lnTo>
                    <a:lnTo>
                      <a:pt x="919" y="116"/>
                    </a:lnTo>
                    <a:lnTo>
                      <a:pt x="920" y="118"/>
                    </a:lnTo>
                    <a:lnTo>
                      <a:pt x="921" y="119"/>
                    </a:lnTo>
                    <a:lnTo>
                      <a:pt x="924" y="119"/>
                    </a:lnTo>
                    <a:lnTo>
                      <a:pt x="926" y="119"/>
                    </a:lnTo>
                    <a:lnTo>
                      <a:pt x="929" y="118"/>
                    </a:lnTo>
                    <a:lnTo>
                      <a:pt x="930" y="116"/>
                    </a:lnTo>
                    <a:lnTo>
                      <a:pt x="930" y="114"/>
                    </a:lnTo>
                    <a:lnTo>
                      <a:pt x="930" y="114"/>
                    </a:lnTo>
                    <a:close/>
                    <a:moveTo>
                      <a:pt x="938" y="139"/>
                    </a:moveTo>
                    <a:lnTo>
                      <a:pt x="936" y="138"/>
                    </a:lnTo>
                    <a:lnTo>
                      <a:pt x="935" y="137"/>
                    </a:lnTo>
                    <a:lnTo>
                      <a:pt x="934" y="135"/>
                    </a:lnTo>
                    <a:lnTo>
                      <a:pt x="933" y="135"/>
                    </a:lnTo>
                    <a:lnTo>
                      <a:pt x="930" y="135"/>
                    </a:lnTo>
                    <a:lnTo>
                      <a:pt x="928" y="137"/>
                    </a:lnTo>
                    <a:lnTo>
                      <a:pt x="926" y="138"/>
                    </a:lnTo>
                    <a:lnTo>
                      <a:pt x="926" y="139"/>
                    </a:lnTo>
                    <a:lnTo>
                      <a:pt x="926" y="143"/>
                    </a:lnTo>
                    <a:lnTo>
                      <a:pt x="928" y="144"/>
                    </a:lnTo>
                    <a:lnTo>
                      <a:pt x="930" y="145"/>
                    </a:lnTo>
                    <a:lnTo>
                      <a:pt x="933" y="147"/>
                    </a:lnTo>
                    <a:lnTo>
                      <a:pt x="934" y="145"/>
                    </a:lnTo>
                    <a:lnTo>
                      <a:pt x="935" y="144"/>
                    </a:lnTo>
                    <a:lnTo>
                      <a:pt x="936" y="143"/>
                    </a:lnTo>
                    <a:lnTo>
                      <a:pt x="938" y="139"/>
                    </a:lnTo>
                    <a:lnTo>
                      <a:pt x="938" y="139"/>
                    </a:lnTo>
                    <a:close/>
                    <a:moveTo>
                      <a:pt x="876" y="301"/>
                    </a:moveTo>
                    <a:lnTo>
                      <a:pt x="876" y="308"/>
                    </a:lnTo>
                    <a:lnTo>
                      <a:pt x="876" y="310"/>
                    </a:lnTo>
                    <a:lnTo>
                      <a:pt x="877" y="311"/>
                    </a:lnTo>
                    <a:lnTo>
                      <a:pt x="879" y="312"/>
                    </a:lnTo>
                    <a:lnTo>
                      <a:pt x="880" y="312"/>
                    </a:lnTo>
                    <a:lnTo>
                      <a:pt x="880" y="312"/>
                    </a:lnTo>
                    <a:lnTo>
                      <a:pt x="887" y="312"/>
                    </a:lnTo>
                    <a:lnTo>
                      <a:pt x="887" y="301"/>
                    </a:lnTo>
                    <a:lnTo>
                      <a:pt x="876" y="301"/>
                    </a:lnTo>
                    <a:lnTo>
                      <a:pt x="876" y="301"/>
                    </a:lnTo>
                    <a:close/>
                    <a:moveTo>
                      <a:pt x="887" y="297"/>
                    </a:moveTo>
                    <a:lnTo>
                      <a:pt x="887" y="286"/>
                    </a:lnTo>
                    <a:lnTo>
                      <a:pt x="880" y="286"/>
                    </a:lnTo>
                    <a:lnTo>
                      <a:pt x="879" y="286"/>
                    </a:lnTo>
                    <a:lnTo>
                      <a:pt x="877" y="287"/>
                    </a:lnTo>
                    <a:lnTo>
                      <a:pt x="876" y="288"/>
                    </a:lnTo>
                    <a:lnTo>
                      <a:pt x="876" y="289"/>
                    </a:lnTo>
                    <a:lnTo>
                      <a:pt x="876" y="289"/>
                    </a:lnTo>
                    <a:lnTo>
                      <a:pt x="876" y="297"/>
                    </a:lnTo>
                    <a:lnTo>
                      <a:pt x="887" y="297"/>
                    </a:lnTo>
                    <a:lnTo>
                      <a:pt x="887" y="297"/>
                    </a:lnTo>
                    <a:close/>
                    <a:moveTo>
                      <a:pt x="894" y="312"/>
                    </a:moveTo>
                    <a:lnTo>
                      <a:pt x="908" y="312"/>
                    </a:lnTo>
                    <a:lnTo>
                      <a:pt x="910" y="312"/>
                    </a:lnTo>
                    <a:lnTo>
                      <a:pt x="913" y="312"/>
                    </a:lnTo>
                    <a:lnTo>
                      <a:pt x="914" y="311"/>
                    </a:lnTo>
                    <a:lnTo>
                      <a:pt x="916" y="310"/>
                    </a:lnTo>
                    <a:lnTo>
                      <a:pt x="918" y="308"/>
                    </a:lnTo>
                    <a:lnTo>
                      <a:pt x="918" y="306"/>
                    </a:lnTo>
                    <a:lnTo>
                      <a:pt x="919" y="303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294"/>
                    </a:lnTo>
                    <a:lnTo>
                      <a:pt x="919" y="293"/>
                    </a:lnTo>
                    <a:lnTo>
                      <a:pt x="918" y="291"/>
                    </a:lnTo>
                    <a:lnTo>
                      <a:pt x="918" y="289"/>
                    </a:lnTo>
                    <a:lnTo>
                      <a:pt x="916" y="288"/>
                    </a:lnTo>
                    <a:lnTo>
                      <a:pt x="914" y="287"/>
                    </a:lnTo>
                    <a:lnTo>
                      <a:pt x="913" y="286"/>
                    </a:lnTo>
                    <a:lnTo>
                      <a:pt x="910" y="286"/>
                    </a:lnTo>
                    <a:lnTo>
                      <a:pt x="908" y="286"/>
                    </a:lnTo>
                    <a:lnTo>
                      <a:pt x="908" y="286"/>
                    </a:lnTo>
                    <a:lnTo>
                      <a:pt x="894" y="286"/>
                    </a:lnTo>
                    <a:lnTo>
                      <a:pt x="894" y="312"/>
                    </a:lnTo>
                    <a:lnTo>
                      <a:pt x="894" y="312"/>
                    </a:lnTo>
                    <a:close/>
                    <a:moveTo>
                      <a:pt x="871" y="308"/>
                    </a:moveTo>
                    <a:lnTo>
                      <a:pt x="871" y="310"/>
                    </a:lnTo>
                    <a:lnTo>
                      <a:pt x="871" y="312"/>
                    </a:lnTo>
                    <a:lnTo>
                      <a:pt x="872" y="313"/>
                    </a:lnTo>
                    <a:lnTo>
                      <a:pt x="874" y="315"/>
                    </a:lnTo>
                    <a:lnTo>
                      <a:pt x="875" y="316"/>
                    </a:lnTo>
                    <a:lnTo>
                      <a:pt x="877" y="316"/>
                    </a:lnTo>
                    <a:lnTo>
                      <a:pt x="879" y="317"/>
                    </a:lnTo>
                    <a:lnTo>
                      <a:pt x="880" y="317"/>
                    </a:lnTo>
                    <a:lnTo>
                      <a:pt x="908" y="317"/>
                    </a:lnTo>
                    <a:lnTo>
                      <a:pt x="911" y="317"/>
                    </a:lnTo>
                    <a:lnTo>
                      <a:pt x="914" y="316"/>
                    </a:lnTo>
                    <a:lnTo>
                      <a:pt x="916" y="315"/>
                    </a:lnTo>
                    <a:lnTo>
                      <a:pt x="919" y="312"/>
                    </a:lnTo>
                    <a:lnTo>
                      <a:pt x="921" y="311"/>
                    </a:lnTo>
                    <a:lnTo>
                      <a:pt x="924" y="308"/>
                    </a:lnTo>
                    <a:lnTo>
                      <a:pt x="925" y="305"/>
                    </a:lnTo>
                    <a:lnTo>
                      <a:pt x="926" y="301"/>
                    </a:lnTo>
                    <a:lnTo>
                      <a:pt x="926" y="294"/>
                    </a:lnTo>
                    <a:lnTo>
                      <a:pt x="925" y="292"/>
                    </a:lnTo>
                    <a:lnTo>
                      <a:pt x="924" y="289"/>
                    </a:lnTo>
                    <a:lnTo>
                      <a:pt x="921" y="287"/>
                    </a:lnTo>
                    <a:lnTo>
                      <a:pt x="919" y="286"/>
                    </a:lnTo>
                    <a:lnTo>
                      <a:pt x="916" y="283"/>
                    </a:lnTo>
                    <a:lnTo>
                      <a:pt x="914" y="282"/>
                    </a:lnTo>
                    <a:lnTo>
                      <a:pt x="911" y="281"/>
                    </a:lnTo>
                    <a:lnTo>
                      <a:pt x="908" y="281"/>
                    </a:lnTo>
                    <a:lnTo>
                      <a:pt x="880" y="281"/>
                    </a:lnTo>
                    <a:lnTo>
                      <a:pt x="879" y="281"/>
                    </a:lnTo>
                    <a:lnTo>
                      <a:pt x="877" y="281"/>
                    </a:lnTo>
                    <a:lnTo>
                      <a:pt x="875" y="282"/>
                    </a:lnTo>
                    <a:lnTo>
                      <a:pt x="874" y="283"/>
                    </a:lnTo>
                    <a:lnTo>
                      <a:pt x="872" y="284"/>
                    </a:lnTo>
                    <a:lnTo>
                      <a:pt x="871" y="287"/>
                    </a:lnTo>
                    <a:lnTo>
                      <a:pt x="871" y="288"/>
                    </a:lnTo>
                    <a:lnTo>
                      <a:pt x="871" y="289"/>
                    </a:lnTo>
                    <a:lnTo>
                      <a:pt x="871" y="308"/>
                    </a:lnTo>
                    <a:lnTo>
                      <a:pt x="871" y="308"/>
                    </a:lnTo>
                    <a:close/>
                    <a:moveTo>
                      <a:pt x="1121" y="130"/>
                    </a:moveTo>
                    <a:lnTo>
                      <a:pt x="1117" y="130"/>
                    </a:lnTo>
                    <a:lnTo>
                      <a:pt x="1114" y="132"/>
                    </a:lnTo>
                    <a:lnTo>
                      <a:pt x="1112" y="133"/>
                    </a:lnTo>
                    <a:lnTo>
                      <a:pt x="1109" y="135"/>
                    </a:lnTo>
                    <a:lnTo>
                      <a:pt x="1107" y="138"/>
                    </a:lnTo>
                    <a:lnTo>
                      <a:pt x="1106" y="140"/>
                    </a:lnTo>
                    <a:lnTo>
                      <a:pt x="1104" y="143"/>
                    </a:lnTo>
                    <a:lnTo>
                      <a:pt x="1104" y="147"/>
                    </a:lnTo>
                    <a:lnTo>
                      <a:pt x="1104" y="149"/>
                    </a:lnTo>
                    <a:lnTo>
                      <a:pt x="1106" y="153"/>
                    </a:lnTo>
                    <a:lnTo>
                      <a:pt x="1107" y="156"/>
                    </a:lnTo>
                    <a:lnTo>
                      <a:pt x="1109" y="158"/>
                    </a:lnTo>
                    <a:lnTo>
                      <a:pt x="1112" y="159"/>
                    </a:lnTo>
                    <a:lnTo>
                      <a:pt x="1114" y="161"/>
                    </a:lnTo>
                    <a:lnTo>
                      <a:pt x="1117" y="162"/>
                    </a:lnTo>
                    <a:lnTo>
                      <a:pt x="1121" y="162"/>
                    </a:lnTo>
                    <a:lnTo>
                      <a:pt x="1124" y="162"/>
                    </a:lnTo>
                    <a:lnTo>
                      <a:pt x="1127" y="161"/>
                    </a:lnTo>
                    <a:lnTo>
                      <a:pt x="1129" y="159"/>
                    </a:lnTo>
                    <a:lnTo>
                      <a:pt x="1132" y="158"/>
                    </a:lnTo>
                    <a:lnTo>
                      <a:pt x="1133" y="156"/>
                    </a:lnTo>
                    <a:lnTo>
                      <a:pt x="1136" y="153"/>
                    </a:lnTo>
                    <a:lnTo>
                      <a:pt x="1136" y="149"/>
                    </a:lnTo>
                    <a:lnTo>
                      <a:pt x="1137" y="147"/>
                    </a:lnTo>
                    <a:lnTo>
                      <a:pt x="1136" y="143"/>
                    </a:lnTo>
                    <a:lnTo>
                      <a:pt x="1136" y="140"/>
                    </a:lnTo>
                    <a:lnTo>
                      <a:pt x="1133" y="138"/>
                    </a:lnTo>
                    <a:lnTo>
                      <a:pt x="1132" y="135"/>
                    </a:lnTo>
                    <a:lnTo>
                      <a:pt x="1129" y="133"/>
                    </a:lnTo>
                    <a:lnTo>
                      <a:pt x="1127" y="132"/>
                    </a:lnTo>
                    <a:lnTo>
                      <a:pt x="1124" y="130"/>
                    </a:lnTo>
                    <a:lnTo>
                      <a:pt x="1121" y="130"/>
                    </a:lnTo>
                    <a:lnTo>
                      <a:pt x="1121" y="130"/>
                    </a:lnTo>
                    <a:close/>
                    <a:moveTo>
                      <a:pt x="1471" y="130"/>
                    </a:moveTo>
                    <a:lnTo>
                      <a:pt x="1468" y="130"/>
                    </a:lnTo>
                    <a:lnTo>
                      <a:pt x="1465" y="132"/>
                    </a:lnTo>
                    <a:lnTo>
                      <a:pt x="1463" y="133"/>
                    </a:lnTo>
                    <a:lnTo>
                      <a:pt x="1460" y="135"/>
                    </a:lnTo>
                    <a:lnTo>
                      <a:pt x="1458" y="138"/>
                    </a:lnTo>
                    <a:lnTo>
                      <a:pt x="1456" y="140"/>
                    </a:lnTo>
                    <a:lnTo>
                      <a:pt x="1456" y="143"/>
                    </a:lnTo>
                    <a:lnTo>
                      <a:pt x="1455" y="147"/>
                    </a:lnTo>
                    <a:lnTo>
                      <a:pt x="1456" y="149"/>
                    </a:lnTo>
                    <a:lnTo>
                      <a:pt x="1456" y="153"/>
                    </a:lnTo>
                    <a:lnTo>
                      <a:pt x="1458" y="156"/>
                    </a:lnTo>
                    <a:lnTo>
                      <a:pt x="1460" y="158"/>
                    </a:lnTo>
                    <a:lnTo>
                      <a:pt x="1463" y="159"/>
                    </a:lnTo>
                    <a:lnTo>
                      <a:pt x="1465" y="161"/>
                    </a:lnTo>
                    <a:lnTo>
                      <a:pt x="1468" y="162"/>
                    </a:lnTo>
                    <a:lnTo>
                      <a:pt x="1471" y="162"/>
                    </a:lnTo>
                    <a:lnTo>
                      <a:pt x="1474" y="162"/>
                    </a:lnTo>
                    <a:lnTo>
                      <a:pt x="1476" y="161"/>
                    </a:lnTo>
                    <a:lnTo>
                      <a:pt x="1479" y="159"/>
                    </a:lnTo>
                    <a:lnTo>
                      <a:pt x="1480" y="158"/>
                    </a:lnTo>
                    <a:lnTo>
                      <a:pt x="1483" y="156"/>
                    </a:lnTo>
                    <a:lnTo>
                      <a:pt x="1484" y="153"/>
                    </a:lnTo>
                    <a:lnTo>
                      <a:pt x="1485" y="149"/>
                    </a:lnTo>
                    <a:lnTo>
                      <a:pt x="1485" y="147"/>
                    </a:lnTo>
                    <a:lnTo>
                      <a:pt x="1485" y="143"/>
                    </a:lnTo>
                    <a:lnTo>
                      <a:pt x="1484" y="140"/>
                    </a:lnTo>
                    <a:lnTo>
                      <a:pt x="1483" y="138"/>
                    </a:lnTo>
                    <a:lnTo>
                      <a:pt x="1480" y="135"/>
                    </a:lnTo>
                    <a:lnTo>
                      <a:pt x="1479" y="133"/>
                    </a:lnTo>
                    <a:lnTo>
                      <a:pt x="1476" y="132"/>
                    </a:lnTo>
                    <a:lnTo>
                      <a:pt x="1474" y="130"/>
                    </a:lnTo>
                    <a:lnTo>
                      <a:pt x="1471" y="130"/>
                    </a:lnTo>
                    <a:lnTo>
                      <a:pt x="1471" y="130"/>
                    </a:lnTo>
                    <a:close/>
                    <a:moveTo>
                      <a:pt x="2112" y="135"/>
                    </a:moveTo>
                    <a:lnTo>
                      <a:pt x="2109" y="135"/>
                    </a:lnTo>
                    <a:lnTo>
                      <a:pt x="2105" y="137"/>
                    </a:lnTo>
                    <a:lnTo>
                      <a:pt x="2103" y="138"/>
                    </a:lnTo>
                    <a:lnTo>
                      <a:pt x="2100" y="139"/>
                    </a:lnTo>
                    <a:lnTo>
                      <a:pt x="2099" y="142"/>
                    </a:lnTo>
                    <a:lnTo>
                      <a:pt x="2098" y="144"/>
                    </a:lnTo>
                    <a:lnTo>
                      <a:pt x="2097" y="148"/>
                    </a:lnTo>
                    <a:lnTo>
                      <a:pt x="2097" y="150"/>
                    </a:lnTo>
                    <a:lnTo>
                      <a:pt x="2097" y="153"/>
                    </a:lnTo>
                    <a:lnTo>
                      <a:pt x="2098" y="156"/>
                    </a:lnTo>
                    <a:lnTo>
                      <a:pt x="2099" y="158"/>
                    </a:lnTo>
                    <a:lnTo>
                      <a:pt x="2100" y="161"/>
                    </a:lnTo>
                    <a:lnTo>
                      <a:pt x="2103" y="162"/>
                    </a:lnTo>
                    <a:lnTo>
                      <a:pt x="2105" y="163"/>
                    </a:lnTo>
                    <a:lnTo>
                      <a:pt x="2109" y="164"/>
                    </a:lnTo>
                    <a:lnTo>
                      <a:pt x="2112" y="164"/>
                    </a:lnTo>
                    <a:lnTo>
                      <a:pt x="2115" y="164"/>
                    </a:lnTo>
                    <a:lnTo>
                      <a:pt x="2118" y="163"/>
                    </a:lnTo>
                    <a:lnTo>
                      <a:pt x="2120" y="162"/>
                    </a:lnTo>
                    <a:lnTo>
                      <a:pt x="2123" y="161"/>
                    </a:lnTo>
                    <a:lnTo>
                      <a:pt x="2125" y="158"/>
                    </a:lnTo>
                    <a:lnTo>
                      <a:pt x="2127" y="156"/>
                    </a:lnTo>
                    <a:lnTo>
                      <a:pt x="2128" y="153"/>
                    </a:lnTo>
                    <a:lnTo>
                      <a:pt x="2128" y="150"/>
                    </a:lnTo>
                    <a:lnTo>
                      <a:pt x="2128" y="148"/>
                    </a:lnTo>
                    <a:lnTo>
                      <a:pt x="2127" y="144"/>
                    </a:lnTo>
                    <a:lnTo>
                      <a:pt x="2125" y="142"/>
                    </a:lnTo>
                    <a:lnTo>
                      <a:pt x="2123" y="139"/>
                    </a:lnTo>
                    <a:lnTo>
                      <a:pt x="2120" y="138"/>
                    </a:lnTo>
                    <a:lnTo>
                      <a:pt x="2118" y="137"/>
                    </a:lnTo>
                    <a:lnTo>
                      <a:pt x="2115" y="135"/>
                    </a:lnTo>
                    <a:lnTo>
                      <a:pt x="2112" y="135"/>
                    </a:lnTo>
                    <a:lnTo>
                      <a:pt x="2112" y="135"/>
                    </a:lnTo>
                    <a:close/>
                    <a:moveTo>
                      <a:pt x="2198" y="181"/>
                    </a:moveTo>
                    <a:lnTo>
                      <a:pt x="2198" y="182"/>
                    </a:lnTo>
                    <a:lnTo>
                      <a:pt x="2198" y="182"/>
                    </a:lnTo>
                    <a:lnTo>
                      <a:pt x="2201" y="185"/>
                    </a:lnTo>
                    <a:lnTo>
                      <a:pt x="2203" y="187"/>
                    </a:lnTo>
                    <a:lnTo>
                      <a:pt x="2204" y="187"/>
                    </a:lnTo>
                    <a:lnTo>
                      <a:pt x="2204" y="187"/>
                    </a:lnTo>
                    <a:lnTo>
                      <a:pt x="2207" y="187"/>
                    </a:lnTo>
                    <a:lnTo>
                      <a:pt x="2208" y="187"/>
                    </a:lnTo>
                    <a:lnTo>
                      <a:pt x="2211" y="185"/>
                    </a:lnTo>
                    <a:lnTo>
                      <a:pt x="2212" y="183"/>
                    </a:lnTo>
                    <a:lnTo>
                      <a:pt x="2213" y="182"/>
                    </a:lnTo>
                    <a:lnTo>
                      <a:pt x="2213" y="182"/>
                    </a:lnTo>
                    <a:lnTo>
                      <a:pt x="2214" y="181"/>
                    </a:lnTo>
                    <a:lnTo>
                      <a:pt x="2213" y="178"/>
                    </a:lnTo>
                    <a:lnTo>
                      <a:pt x="2213" y="177"/>
                    </a:lnTo>
                    <a:lnTo>
                      <a:pt x="2212" y="176"/>
                    </a:lnTo>
                    <a:lnTo>
                      <a:pt x="2211" y="176"/>
                    </a:lnTo>
                    <a:lnTo>
                      <a:pt x="2208" y="174"/>
                    </a:lnTo>
                    <a:lnTo>
                      <a:pt x="2204" y="173"/>
                    </a:lnTo>
                    <a:lnTo>
                      <a:pt x="2203" y="174"/>
                    </a:lnTo>
                    <a:lnTo>
                      <a:pt x="2201" y="176"/>
                    </a:lnTo>
                    <a:lnTo>
                      <a:pt x="2198" y="177"/>
                    </a:lnTo>
                    <a:lnTo>
                      <a:pt x="2198" y="178"/>
                    </a:lnTo>
                    <a:lnTo>
                      <a:pt x="2198" y="181"/>
                    </a:lnTo>
                    <a:lnTo>
                      <a:pt x="2198" y="181"/>
                    </a:lnTo>
                    <a:close/>
                    <a:moveTo>
                      <a:pt x="2237" y="181"/>
                    </a:moveTo>
                    <a:lnTo>
                      <a:pt x="2237" y="182"/>
                    </a:lnTo>
                    <a:lnTo>
                      <a:pt x="2237" y="182"/>
                    </a:lnTo>
                    <a:lnTo>
                      <a:pt x="2239" y="185"/>
                    </a:lnTo>
                    <a:lnTo>
                      <a:pt x="2241" y="187"/>
                    </a:lnTo>
                    <a:lnTo>
                      <a:pt x="2242" y="187"/>
                    </a:lnTo>
                    <a:lnTo>
                      <a:pt x="2243" y="187"/>
                    </a:lnTo>
                    <a:lnTo>
                      <a:pt x="2244" y="187"/>
                    </a:lnTo>
                    <a:lnTo>
                      <a:pt x="2246" y="187"/>
                    </a:lnTo>
                    <a:lnTo>
                      <a:pt x="2248" y="185"/>
                    </a:lnTo>
                    <a:lnTo>
                      <a:pt x="2249" y="182"/>
                    </a:lnTo>
                    <a:lnTo>
                      <a:pt x="2249" y="181"/>
                    </a:lnTo>
                    <a:lnTo>
                      <a:pt x="2249" y="177"/>
                    </a:lnTo>
                    <a:lnTo>
                      <a:pt x="2248" y="176"/>
                    </a:lnTo>
                    <a:lnTo>
                      <a:pt x="2246" y="174"/>
                    </a:lnTo>
                    <a:lnTo>
                      <a:pt x="2243" y="173"/>
                    </a:lnTo>
                    <a:lnTo>
                      <a:pt x="2241" y="174"/>
                    </a:lnTo>
                    <a:lnTo>
                      <a:pt x="2239" y="176"/>
                    </a:lnTo>
                    <a:lnTo>
                      <a:pt x="2237" y="177"/>
                    </a:lnTo>
                    <a:lnTo>
                      <a:pt x="2237" y="178"/>
                    </a:lnTo>
                    <a:lnTo>
                      <a:pt x="2237" y="181"/>
                    </a:lnTo>
                    <a:lnTo>
                      <a:pt x="2237" y="181"/>
                    </a:lnTo>
                    <a:close/>
                    <a:moveTo>
                      <a:pt x="2275" y="181"/>
                    </a:moveTo>
                    <a:lnTo>
                      <a:pt x="2275" y="182"/>
                    </a:lnTo>
                    <a:lnTo>
                      <a:pt x="2276" y="182"/>
                    </a:lnTo>
                    <a:lnTo>
                      <a:pt x="2277" y="185"/>
                    </a:lnTo>
                    <a:lnTo>
                      <a:pt x="2280" y="187"/>
                    </a:lnTo>
                    <a:lnTo>
                      <a:pt x="2281" y="187"/>
                    </a:lnTo>
                    <a:lnTo>
                      <a:pt x="2282" y="187"/>
                    </a:lnTo>
                    <a:lnTo>
                      <a:pt x="2283" y="187"/>
                    </a:lnTo>
                    <a:lnTo>
                      <a:pt x="2285" y="187"/>
                    </a:lnTo>
                    <a:lnTo>
                      <a:pt x="2287" y="185"/>
                    </a:lnTo>
                    <a:lnTo>
                      <a:pt x="2288" y="182"/>
                    </a:lnTo>
                    <a:lnTo>
                      <a:pt x="2288" y="181"/>
                    </a:lnTo>
                    <a:lnTo>
                      <a:pt x="2288" y="177"/>
                    </a:lnTo>
                    <a:lnTo>
                      <a:pt x="2287" y="176"/>
                    </a:lnTo>
                    <a:lnTo>
                      <a:pt x="2285" y="174"/>
                    </a:lnTo>
                    <a:lnTo>
                      <a:pt x="2282" y="173"/>
                    </a:lnTo>
                    <a:lnTo>
                      <a:pt x="2280" y="174"/>
                    </a:lnTo>
                    <a:lnTo>
                      <a:pt x="2277" y="176"/>
                    </a:lnTo>
                    <a:lnTo>
                      <a:pt x="2276" y="177"/>
                    </a:lnTo>
                    <a:lnTo>
                      <a:pt x="2275" y="178"/>
                    </a:lnTo>
                    <a:lnTo>
                      <a:pt x="2275" y="181"/>
                    </a:lnTo>
                    <a:lnTo>
                      <a:pt x="2275" y="181"/>
                    </a:lnTo>
                    <a:close/>
                    <a:moveTo>
                      <a:pt x="2313" y="181"/>
                    </a:moveTo>
                    <a:lnTo>
                      <a:pt x="2313" y="182"/>
                    </a:lnTo>
                    <a:lnTo>
                      <a:pt x="2315" y="185"/>
                    </a:lnTo>
                    <a:lnTo>
                      <a:pt x="2317" y="187"/>
                    </a:lnTo>
                    <a:lnTo>
                      <a:pt x="2318" y="187"/>
                    </a:lnTo>
                    <a:lnTo>
                      <a:pt x="2320" y="187"/>
                    </a:lnTo>
                    <a:lnTo>
                      <a:pt x="2322" y="187"/>
                    </a:lnTo>
                    <a:lnTo>
                      <a:pt x="2323" y="187"/>
                    </a:lnTo>
                    <a:lnTo>
                      <a:pt x="2325" y="185"/>
                    </a:lnTo>
                    <a:lnTo>
                      <a:pt x="2326" y="182"/>
                    </a:lnTo>
                    <a:lnTo>
                      <a:pt x="2327" y="181"/>
                    </a:lnTo>
                    <a:lnTo>
                      <a:pt x="2326" y="177"/>
                    </a:lnTo>
                    <a:lnTo>
                      <a:pt x="2325" y="176"/>
                    </a:lnTo>
                    <a:lnTo>
                      <a:pt x="2323" y="174"/>
                    </a:lnTo>
                    <a:lnTo>
                      <a:pt x="2320" y="173"/>
                    </a:lnTo>
                    <a:lnTo>
                      <a:pt x="2317" y="174"/>
                    </a:lnTo>
                    <a:lnTo>
                      <a:pt x="2315" y="176"/>
                    </a:lnTo>
                    <a:lnTo>
                      <a:pt x="2313" y="177"/>
                    </a:lnTo>
                    <a:lnTo>
                      <a:pt x="2313" y="181"/>
                    </a:lnTo>
                    <a:lnTo>
                      <a:pt x="2313" y="181"/>
                    </a:lnTo>
                    <a:close/>
                    <a:moveTo>
                      <a:pt x="2352" y="181"/>
                    </a:moveTo>
                    <a:lnTo>
                      <a:pt x="2352" y="182"/>
                    </a:lnTo>
                    <a:lnTo>
                      <a:pt x="2353" y="185"/>
                    </a:lnTo>
                    <a:lnTo>
                      <a:pt x="2356" y="187"/>
                    </a:lnTo>
                    <a:lnTo>
                      <a:pt x="2357" y="187"/>
                    </a:lnTo>
                    <a:lnTo>
                      <a:pt x="2358" y="187"/>
                    </a:lnTo>
                    <a:lnTo>
                      <a:pt x="2360" y="187"/>
                    </a:lnTo>
                    <a:lnTo>
                      <a:pt x="2362" y="187"/>
                    </a:lnTo>
                    <a:lnTo>
                      <a:pt x="2363" y="185"/>
                    </a:lnTo>
                    <a:lnTo>
                      <a:pt x="2365" y="182"/>
                    </a:lnTo>
                    <a:lnTo>
                      <a:pt x="2366" y="181"/>
                    </a:lnTo>
                    <a:lnTo>
                      <a:pt x="2365" y="177"/>
                    </a:lnTo>
                    <a:lnTo>
                      <a:pt x="2363" y="176"/>
                    </a:lnTo>
                    <a:lnTo>
                      <a:pt x="2362" y="174"/>
                    </a:lnTo>
                    <a:lnTo>
                      <a:pt x="2358" y="173"/>
                    </a:lnTo>
                    <a:lnTo>
                      <a:pt x="2356" y="174"/>
                    </a:lnTo>
                    <a:lnTo>
                      <a:pt x="2353" y="176"/>
                    </a:lnTo>
                    <a:lnTo>
                      <a:pt x="2352" y="177"/>
                    </a:lnTo>
                    <a:lnTo>
                      <a:pt x="2352" y="181"/>
                    </a:lnTo>
                    <a:lnTo>
                      <a:pt x="2352" y="181"/>
                    </a:lnTo>
                    <a:close/>
                    <a:moveTo>
                      <a:pt x="2218" y="150"/>
                    </a:moveTo>
                    <a:lnTo>
                      <a:pt x="2218" y="152"/>
                    </a:lnTo>
                    <a:lnTo>
                      <a:pt x="2219" y="153"/>
                    </a:lnTo>
                    <a:lnTo>
                      <a:pt x="2221" y="156"/>
                    </a:lnTo>
                    <a:lnTo>
                      <a:pt x="2223" y="157"/>
                    </a:lnTo>
                    <a:lnTo>
                      <a:pt x="2224" y="158"/>
                    </a:lnTo>
                    <a:lnTo>
                      <a:pt x="2226" y="158"/>
                    </a:lnTo>
                    <a:lnTo>
                      <a:pt x="2227" y="158"/>
                    </a:lnTo>
                    <a:lnTo>
                      <a:pt x="2228" y="157"/>
                    </a:lnTo>
                    <a:lnTo>
                      <a:pt x="2231" y="156"/>
                    </a:lnTo>
                    <a:lnTo>
                      <a:pt x="2232" y="153"/>
                    </a:lnTo>
                    <a:lnTo>
                      <a:pt x="2232" y="150"/>
                    </a:lnTo>
                    <a:lnTo>
                      <a:pt x="2232" y="148"/>
                    </a:lnTo>
                    <a:lnTo>
                      <a:pt x="2231" y="145"/>
                    </a:lnTo>
                    <a:lnTo>
                      <a:pt x="2228" y="144"/>
                    </a:lnTo>
                    <a:lnTo>
                      <a:pt x="2226" y="144"/>
                    </a:lnTo>
                    <a:lnTo>
                      <a:pt x="2223" y="144"/>
                    </a:lnTo>
                    <a:lnTo>
                      <a:pt x="2221" y="145"/>
                    </a:lnTo>
                    <a:lnTo>
                      <a:pt x="2219" y="148"/>
                    </a:lnTo>
                    <a:lnTo>
                      <a:pt x="2218" y="149"/>
                    </a:lnTo>
                    <a:lnTo>
                      <a:pt x="2218" y="150"/>
                    </a:lnTo>
                    <a:lnTo>
                      <a:pt x="2218" y="150"/>
                    </a:lnTo>
                    <a:close/>
                    <a:moveTo>
                      <a:pt x="2257" y="150"/>
                    </a:moveTo>
                    <a:lnTo>
                      <a:pt x="2257" y="152"/>
                    </a:lnTo>
                    <a:lnTo>
                      <a:pt x="2257" y="153"/>
                    </a:lnTo>
                    <a:lnTo>
                      <a:pt x="2259" y="156"/>
                    </a:lnTo>
                    <a:lnTo>
                      <a:pt x="2262" y="157"/>
                    </a:lnTo>
                    <a:lnTo>
                      <a:pt x="2262" y="158"/>
                    </a:lnTo>
                    <a:lnTo>
                      <a:pt x="2263" y="158"/>
                    </a:lnTo>
                    <a:lnTo>
                      <a:pt x="2266" y="158"/>
                    </a:lnTo>
                    <a:lnTo>
                      <a:pt x="2267" y="157"/>
                    </a:lnTo>
                    <a:lnTo>
                      <a:pt x="2268" y="156"/>
                    </a:lnTo>
                    <a:lnTo>
                      <a:pt x="2270" y="153"/>
                    </a:lnTo>
                    <a:lnTo>
                      <a:pt x="2271" y="150"/>
                    </a:lnTo>
                    <a:lnTo>
                      <a:pt x="2270" y="148"/>
                    </a:lnTo>
                    <a:lnTo>
                      <a:pt x="2268" y="145"/>
                    </a:lnTo>
                    <a:lnTo>
                      <a:pt x="2267" y="144"/>
                    </a:lnTo>
                    <a:lnTo>
                      <a:pt x="2263" y="144"/>
                    </a:lnTo>
                    <a:lnTo>
                      <a:pt x="2262" y="144"/>
                    </a:lnTo>
                    <a:lnTo>
                      <a:pt x="2259" y="145"/>
                    </a:lnTo>
                    <a:lnTo>
                      <a:pt x="2257" y="148"/>
                    </a:lnTo>
                    <a:lnTo>
                      <a:pt x="2257" y="149"/>
                    </a:lnTo>
                    <a:lnTo>
                      <a:pt x="2257" y="150"/>
                    </a:lnTo>
                    <a:lnTo>
                      <a:pt x="2257" y="150"/>
                    </a:lnTo>
                    <a:close/>
                    <a:moveTo>
                      <a:pt x="2296" y="150"/>
                    </a:moveTo>
                    <a:lnTo>
                      <a:pt x="2296" y="153"/>
                    </a:lnTo>
                    <a:lnTo>
                      <a:pt x="2297" y="156"/>
                    </a:lnTo>
                    <a:lnTo>
                      <a:pt x="2300" y="157"/>
                    </a:lnTo>
                    <a:lnTo>
                      <a:pt x="2301" y="158"/>
                    </a:lnTo>
                    <a:lnTo>
                      <a:pt x="2302" y="158"/>
                    </a:lnTo>
                    <a:lnTo>
                      <a:pt x="2303" y="158"/>
                    </a:lnTo>
                    <a:lnTo>
                      <a:pt x="2305" y="157"/>
                    </a:lnTo>
                    <a:lnTo>
                      <a:pt x="2307" y="156"/>
                    </a:lnTo>
                    <a:lnTo>
                      <a:pt x="2308" y="153"/>
                    </a:lnTo>
                    <a:lnTo>
                      <a:pt x="2308" y="150"/>
                    </a:lnTo>
                    <a:lnTo>
                      <a:pt x="2308" y="148"/>
                    </a:lnTo>
                    <a:lnTo>
                      <a:pt x="2307" y="145"/>
                    </a:lnTo>
                    <a:lnTo>
                      <a:pt x="2305" y="144"/>
                    </a:lnTo>
                    <a:lnTo>
                      <a:pt x="2302" y="144"/>
                    </a:lnTo>
                    <a:lnTo>
                      <a:pt x="2300" y="144"/>
                    </a:lnTo>
                    <a:lnTo>
                      <a:pt x="2297" y="145"/>
                    </a:lnTo>
                    <a:lnTo>
                      <a:pt x="2296" y="148"/>
                    </a:lnTo>
                    <a:lnTo>
                      <a:pt x="2296" y="150"/>
                    </a:lnTo>
                    <a:lnTo>
                      <a:pt x="2296" y="150"/>
                    </a:lnTo>
                    <a:close/>
                    <a:moveTo>
                      <a:pt x="2333" y="150"/>
                    </a:moveTo>
                    <a:lnTo>
                      <a:pt x="2335" y="153"/>
                    </a:lnTo>
                    <a:lnTo>
                      <a:pt x="2336" y="156"/>
                    </a:lnTo>
                    <a:lnTo>
                      <a:pt x="2337" y="157"/>
                    </a:lnTo>
                    <a:lnTo>
                      <a:pt x="2338" y="158"/>
                    </a:lnTo>
                    <a:lnTo>
                      <a:pt x="2341" y="158"/>
                    </a:lnTo>
                    <a:lnTo>
                      <a:pt x="2342" y="158"/>
                    </a:lnTo>
                    <a:lnTo>
                      <a:pt x="2343" y="157"/>
                    </a:lnTo>
                    <a:lnTo>
                      <a:pt x="2346" y="156"/>
                    </a:lnTo>
                    <a:lnTo>
                      <a:pt x="2347" y="153"/>
                    </a:lnTo>
                    <a:lnTo>
                      <a:pt x="2347" y="150"/>
                    </a:lnTo>
                    <a:lnTo>
                      <a:pt x="2347" y="148"/>
                    </a:lnTo>
                    <a:lnTo>
                      <a:pt x="2346" y="145"/>
                    </a:lnTo>
                    <a:lnTo>
                      <a:pt x="2343" y="144"/>
                    </a:lnTo>
                    <a:lnTo>
                      <a:pt x="2341" y="144"/>
                    </a:lnTo>
                    <a:lnTo>
                      <a:pt x="2337" y="144"/>
                    </a:lnTo>
                    <a:lnTo>
                      <a:pt x="2336" y="145"/>
                    </a:lnTo>
                    <a:lnTo>
                      <a:pt x="2335" y="148"/>
                    </a:lnTo>
                    <a:lnTo>
                      <a:pt x="2333" y="150"/>
                    </a:lnTo>
                    <a:lnTo>
                      <a:pt x="2333" y="150"/>
                    </a:lnTo>
                    <a:close/>
                    <a:moveTo>
                      <a:pt x="2372" y="150"/>
                    </a:moveTo>
                    <a:lnTo>
                      <a:pt x="2372" y="153"/>
                    </a:lnTo>
                    <a:lnTo>
                      <a:pt x="2373" y="156"/>
                    </a:lnTo>
                    <a:lnTo>
                      <a:pt x="2376" y="157"/>
                    </a:lnTo>
                    <a:lnTo>
                      <a:pt x="2377" y="158"/>
                    </a:lnTo>
                    <a:lnTo>
                      <a:pt x="2379" y="158"/>
                    </a:lnTo>
                    <a:lnTo>
                      <a:pt x="2380" y="158"/>
                    </a:lnTo>
                    <a:lnTo>
                      <a:pt x="2381" y="157"/>
                    </a:lnTo>
                    <a:lnTo>
                      <a:pt x="2384" y="156"/>
                    </a:lnTo>
                    <a:lnTo>
                      <a:pt x="2385" y="153"/>
                    </a:lnTo>
                    <a:lnTo>
                      <a:pt x="2386" y="152"/>
                    </a:lnTo>
                    <a:lnTo>
                      <a:pt x="2386" y="150"/>
                    </a:lnTo>
                    <a:lnTo>
                      <a:pt x="2386" y="149"/>
                    </a:lnTo>
                    <a:lnTo>
                      <a:pt x="2385" y="148"/>
                    </a:lnTo>
                    <a:lnTo>
                      <a:pt x="2384" y="145"/>
                    </a:lnTo>
                    <a:lnTo>
                      <a:pt x="2381" y="144"/>
                    </a:lnTo>
                    <a:lnTo>
                      <a:pt x="2379" y="144"/>
                    </a:lnTo>
                    <a:lnTo>
                      <a:pt x="2376" y="144"/>
                    </a:lnTo>
                    <a:lnTo>
                      <a:pt x="2373" y="145"/>
                    </a:lnTo>
                    <a:lnTo>
                      <a:pt x="2372" y="148"/>
                    </a:lnTo>
                    <a:lnTo>
                      <a:pt x="2372" y="150"/>
                    </a:lnTo>
                    <a:lnTo>
                      <a:pt x="2372" y="150"/>
                    </a:lnTo>
                    <a:close/>
                    <a:moveTo>
                      <a:pt x="2198" y="119"/>
                    </a:moveTo>
                    <a:lnTo>
                      <a:pt x="2198" y="120"/>
                    </a:lnTo>
                    <a:lnTo>
                      <a:pt x="2198" y="121"/>
                    </a:lnTo>
                    <a:lnTo>
                      <a:pt x="2201" y="124"/>
                    </a:lnTo>
                    <a:lnTo>
                      <a:pt x="2203" y="125"/>
                    </a:lnTo>
                    <a:lnTo>
                      <a:pt x="2204" y="125"/>
                    </a:lnTo>
                    <a:lnTo>
                      <a:pt x="2208" y="125"/>
                    </a:lnTo>
                    <a:lnTo>
                      <a:pt x="2211" y="124"/>
                    </a:lnTo>
                    <a:lnTo>
                      <a:pt x="2212" y="123"/>
                    </a:lnTo>
                    <a:lnTo>
                      <a:pt x="2213" y="121"/>
                    </a:lnTo>
                    <a:lnTo>
                      <a:pt x="2213" y="120"/>
                    </a:lnTo>
                    <a:lnTo>
                      <a:pt x="2214" y="119"/>
                    </a:lnTo>
                    <a:lnTo>
                      <a:pt x="2213" y="118"/>
                    </a:lnTo>
                    <a:lnTo>
                      <a:pt x="2213" y="116"/>
                    </a:lnTo>
                    <a:lnTo>
                      <a:pt x="2212" y="116"/>
                    </a:lnTo>
                    <a:lnTo>
                      <a:pt x="2211" y="115"/>
                    </a:lnTo>
                    <a:lnTo>
                      <a:pt x="2208" y="113"/>
                    </a:lnTo>
                    <a:lnTo>
                      <a:pt x="2207" y="113"/>
                    </a:lnTo>
                    <a:lnTo>
                      <a:pt x="2204" y="113"/>
                    </a:lnTo>
                    <a:lnTo>
                      <a:pt x="2204" y="113"/>
                    </a:lnTo>
                    <a:lnTo>
                      <a:pt x="2203" y="113"/>
                    </a:lnTo>
                    <a:lnTo>
                      <a:pt x="2201" y="115"/>
                    </a:lnTo>
                    <a:lnTo>
                      <a:pt x="2198" y="116"/>
                    </a:lnTo>
                    <a:lnTo>
                      <a:pt x="2198" y="118"/>
                    </a:lnTo>
                    <a:lnTo>
                      <a:pt x="2198" y="119"/>
                    </a:lnTo>
                    <a:lnTo>
                      <a:pt x="2198" y="119"/>
                    </a:lnTo>
                    <a:close/>
                    <a:moveTo>
                      <a:pt x="2237" y="119"/>
                    </a:moveTo>
                    <a:lnTo>
                      <a:pt x="2237" y="120"/>
                    </a:lnTo>
                    <a:lnTo>
                      <a:pt x="2237" y="121"/>
                    </a:lnTo>
                    <a:lnTo>
                      <a:pt x="2239" y="124"/>
                    </a:lnTo>
                    <a:lnTo>
                      <a:pt x="2241" y="125"/>
                    </a:lnTo>
                    <a:lnTo>
                      <a:pt x="2243" y="125"/>
                    </a:lnTo>
                    <a:lnTo>
                      <a:pt x="2246" y="125"/>
                    </a:lnTo>
                    <a:lnTo>
                      <a:pt x="2248" y="124"/>
                    </a:lnTo>
                    <a:lnTo>
                      <a:pt x="2249" y="121"/>
                    </a:lnTo>
                    <a:lnTo>
                      <a:pt x="2249" y="119"/>
                    </a:lnTo>
                    <a:lnTo>
                      <a:pt x="2249" y="116"/>
                    </a:lnTo>
                    <a:lnTo>
                      <a:pt x="2248" y="115"/>
                    </a:lnTo>
                    <a:lnTo>
                      <a:pt x="2246" y="113"/>
                    </a:lnTo>
                    <a:lnTo>
                      <a:pt x="2244" y="113"/>
                    </a:lnTo>
                    <a:lnTo>
                      <a:pt x="2243" y="113"/>
                    </a:lnTo>
                    <a:lnTo>
                      <a:pt x="2242" y="113"/>
                    </a:lnTo>
                    <a:lnTo>
                      <a:pt x="2241" y="113"/>
                    </a:lnTo>
                    <a:lnTo>
                      <a:pt x="2239" y="115"/>
                    </a:lnTo>
                    <a:lnTo>
                      <a:pt x="2237" y="116"/>
                    </a:lnTo>
                    <a:lnTo>
                      <a:pt x="2237" y="118"/>
                    </a:lnTo>
                    <a:lnTo>
                      <a:pt x="2237" y="119"/>
                    </a:lnTo>
                    <a:lnTo>
                      <a:pt x="2237" y="119"/>
                    </a:lnTo>
                    <a:close/>
                    <a:moveTo>
                      <a:pt x="2275" y="119"/>
                    </a:moveTo>
                    <a:lnTo>
                      <a:pt x="2275" y="120"/>
                    </a:lnTo>
                    <a:lnTo>
                      <a:pt x="2276" y="121"/>
                    </a:lnTo>
                    <a:lnTo>
                      <a:pt x="2277" y="124"/>
                    </a:lnTo>
                    <a:lnTo>
                      <a:pt x="2280" y="125"/>
                    </a:lnTo>
                    <a:lnTo>
                      <a:pt x="2282" y="125"/>
                    </a:lnTo>
                    <a:lnTo>
                      <a:pt x="2285" y="125"/>
                    </a:lnTo>
                    <a:lnTo>
                      <a:pt x="2287" y="124"/>
                    </a:lnTo>
                    <a:lnTo>
                      <a:pt x="2288" y="121"/>
                    </a:lnTo>
                    <a:lnTo>
                      <a:pt x="2288" y="119"/>
                    </a:lnTo>
                    <a:lnTo>
                      <a:pt x="2288" y="116"/>
                    </a:lnTo>
                    <a:lnTo>
                      <a:pt x="2287" y="115"/>
                    </a:lnTo>
                    <a:lnTo>
                      <a:pt x="2285" y="113"/>
                    </a:lnTo>
                    <a:lnTo>
                      <a:pt x="2283" y="113"/>
                    </a:lnTo>
                    <a:lnTo>
                      <a:pt x="2282" y="113"/>
                    </a:lnTo>
                    <a:lnTo>
                      <a:pt x="2281" y="113"/>
                    </a:lnTo>
                    <a:lnTo>
                      <a:pt x="2280" y="113"/>
                    </a:lnTo>
                    <a:lnTo>
                      <a:pt x="2277" y="115"/>
                    </a:lnTo>
                    <a:lnTo>
                      <a:pt x="2276" y="116"/>
                    </a:lnTo>
                    <a:lnTo>
                      <a:pt x="2275" y="118"/>
                    </a:lnTo>
                    <a:lnTo>
                      <a:pt x="2275" y="119"/>
                    </a:lnTo>
                    <a:lnTo>
                      <a:pt x="2275" y="119"/>
                    </a:lnTo>
                    <a:close/>
                    <a:moveTo>
                      <a:pt x="2313" y="119"/>
                    </a:moveTo>
                    <a:lnTo>
                      <a:pt x="2313" y="121"/>
                    </a:lnTo>
                    <a:lnTo>
                      <a:pt x="2315" y="124"/>
                    </a:lnTo>
                    <a:lnTo>
                      <a:pt x="2317" y="125"/>
                    </a:lnTo>
                    <a:lnTo>
                      <a:pt x="2320" y="125"/>
                    </a:lnTo>
                    <a:lnTo>
                      <a:pt x="2323" y="125"/>
                    </a:lnTo>
                    <a:lnTo>
                      <a:pt x="2325" y="124"/>
                    </a:lnTo>
                    <a:lnTo>
                      <a:pt x="2326" y="121"/>
                    </a:lnTo>
                    <a:lnTo>
                      <a:pt x="2327" y="119"/>
                    </a:lnTo>
                    <a:lnTo>
                      <a:pt x="2326" y="116"/>
                    </a:lnTo>
                    <a:lnTo>
                      <a:pt x="2325" y="115"/>
                    </a:lnTo>
                    <a:lnTo>
                      <a:pt x="2323" y="113"/>
                    </a:lnTo>
                    <a:lnTo>
                      <a:pt x="2322" y="113"/>
                    </a:lnTo>
                    <a:lnTo>
                      <a:pt x="2320" y="113"/>
                    </a:lnTo>
                    <a:lnTo>
                      <a:pt x="2318" y="113"/>
                    </a:lnTo>
                    <a:lnTo>
                      <a:pt x="2317" y="113"/>
                    </a:lnTo>
                    <a:lnTo>
                      <a:pt x="2315" y="115"/>
                    </a:lnTo>
                    <a:lnTo>
                      <a:pt x="2313" y="116"/>
                    </a:lnTo>
                    <a:lnTo>
                      <a:pt x="2313" y="119"/>
                    </a:lnTo>
                    <a:lnTo>
                      <a:pt x="2313" y="119"/>
                    </a:lnTo>
                    <a:close/>
                    <a:moveTo>
                      <a:pt x="2352" y="119"/>
                    </a:moveTo>
                    <a:lnTo>
                      <a:pt x="2352" y="121"/>
                    </a:lnTo>
                    <a:lnTo>
                      <a:pt x="2353" y="124"/>
                    </a:lnTo>
                    <a:lnTo>
                      <a:pt x="2356" y="125"/>
                    </a:lnTo>
                    <a:lnTo>
                      <a:pt x="2358" y="125"/>
                    </a:lnTo>
                    <a:lnTo>
                      <a:pt x="2362" y="125"/>
                    </a:lnTo>
                    <a:lnTo>
                      <a:pt x="2363" y="124"/>
                    </a:lnTo>
                    <a:lnTo>
                      <a:pt x="2365" y="121"/>
                    </a:lnTo>
                    <a:lnTo>
                      <a:pt x="2366" y="119"/>
                    </a:lnTo>
                    <a:lnTo>
                      <a:pt x="2365" y="116"/>
                    </a:lnTo>
                    <a:lnTo>
                      <a:pt x="2363" y="115"/>
                    </a:lnTo>
                    <a:lnTo>
                      <a:pt x="2362" y="113"/>
                    </a:lnTo>
                    <a:lnTo>
                      <a:pt x="2360" y="113"/>
                    </a:lnTo>
                    <a:lnTo>
                      <a:pt x="2358" y="113"/>
                    </a:lnTo>
                    <a:lnTo>
                      <a:pt x="2357" y="113"/>
                    </a:lnTo>
                    <a:lnTo>
                      <a:pt x="2356" y="113"/>
                    </a:lnTo>
                    <a:lnTo>
                      <a:pt x="2353" y="115"/>
                    </a:lnTo>
                    <a:lnTo>
                      <a:pt x="2352" y="116"/>
                    </a:lnTo>
                    <a:lnTo>
                      <a:pt x="2352" y="119"/>
                    </a:lnTo>
                    <a:lnTo>
                      <a:pt x="2352" y="119"/>
                    </a:lnTo>
                    <a:close/>
                    <a:moveTo>
                      <a:pt x="2460" y="135"/>
                    </a:moveTo>
                    <a:lnTo>
                      <a:pt x="2457" y="135"/>
                    </a:lnTo>
                    <a:lnTo>
                      <a:pt x="2455" y="137"/>
                    </a:lnTo>
                    <a:lnTo>
                      <a:pt x="2454" y="138"/>
                    </a:lnTo>
                    <a:lnTo>
                      <a:pt x="2451" y="139"/>
                    </a:lnTo>
                    <a:lnTo>
                      <a:pt x="2450" y="142"/>
                    </a:lnTo>
                    <a:lnTo>
                      <a:pt x="2449" y="144"/>
                    </a:lnTo>
                    <a:lnTo>
                      <a:pt x="2447" y="148"/>
                    </a:lnTo>
                    <a:lnTo>
                      <a:pt x="2447" y="150"/>
                    </a:lnTo>
                    <a:lnTo>
                      <a:pt x="2447" y="153"/>
                    </a:lnTo>
                    <a:lnTo>
                      <a:pt x="2449" y="156"/>
                    </a:lnTo>
                    <a:lnTo>
                      <a:pt x="2450" y="158"/>
                    </a:lnTo>
                    <a:lnTo>
                      <a:pt x="2451" y="161"/>
                    </a:lnTo>
                    <a:lnTo>
                      <a:pt x="2454" y="162"/>
                    </a:lnTo>
                    <a:lnTo>
                      <a:pt x="2455" y="163"/>
                    </a:lnTo>
                    <a:lnTo>
                      <a:pt x="2457" y="164"/>
                    </a:lnTo>
                    <a:lnTo>
                      <a:pt x="2460" y="164"/>
                    </a:lnTo>
                    <a:lnTo>
                      <a:pt x="2464" y="164"/>
                    </a:lnTo>
                    <a:lnTo>
                      <a:pt x="2466" y="163"/>
                    </a:lnTo>
                    <a:lnTo>
                      <a:pt x="2470" y="162"/>
                    </a:lnTo>
                    <a:lnTo>
                      <a:pt x="2471" y="161"/>
                    </a:lnTo>
                    <a:lnTo>
                      <a:pt x="2474" y="158"/>
                    </a:lnTo>
                    <a:lnTo>
                      <a:pt x="2475" y="156"/>
                    </a:lnTo>
                    <a:lnTo>
                      <a:pt x="2476" y="153"/>
                    </a:lnTo>
                    <a:lnTo>
                      <a:pt x="2476" y="150"/>
                    </a:lnTo>
                    <a:lnTo>
                      <a:pt x="2476" y="148"/>
                    </a:lnTo>
                    <a:lnTo>
                      <a:pt x="2475" y="144"/>
                    </a:lnTo>
                    <a:lnTo>
                      <a:pt x="2474" y="142"/>
                    </a:lnTo>
                    <a:lnTo>
                      <a:pt x="2471" y="139"/>
                    </a:lnTo>
                    <a:lnTo>
                      <a:pt x="2470" y="138"/>
                    </a:lnTo>
                    <a:lnTo>
                      <a:pt x="2466" y="137"/>
                    </a:lnTo>
                    <a:lnTo>
                      <a:pt x="2464" y="135"/>
                    </a:lnTo>
                    <a:lnTo>
                      <a:pt x="2460" y="135"/>
                    </a:lnTo>
                    <a:lnTo>
                      <a:pt x="246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5684400" y="5858640"/>
                <a:ext cx="311400" cy="49320"/>
              </a:xfrm>
              <a:custGeom>
                <a:avLst/>
                <a:gdLst/>
                <a:ahLst/>
                <a:rect l="l" t="t" r="r" b="b"/>
                <a:pathLst>
                  <a:path w="396" h="62">
                    <a:moveTo>
                      <a:pt x="60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60" y="62"/>
                    </a:lnTo>
                    <a:lnTo>
                      <a:pt x="160" y="61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8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  <a:moveTo>
                      <a:pt x="293" y="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4" y="1"/>
                    </a:lnTo>
                    <a:lnTo>
                      <a:pt x="233" y="3"/>
                    </a:lnTo>
                    <a:lnTo>
                      <a:pt x="233" y="5"/>
                    </a:lnTo>
                    <a:lnTo>
                      <a:pt x="233" y="5"/>
                    </a:lnTo>
                    <a:lnTo>
                      <a:pt x="233" y="59"/>
                    </a:lnTo>
                    <a:lnTo>
                      <a:pt x="233" y="61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391" y="62"/>
                    </a:lnTo>
                    <a:lnTo>
                      <a:pt x="392" y="62"/>
                    </a:lnTo>
                    <a:lnTo>
                      <a:pt x="394" y="62"/>
                    </a:lnTo>
                    <a:lnTo>
                      <a:pt x="394" y="61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"/>
                    </a:lnTo>
                    <a:lnTo>
                      <a:pt x="394" y="3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5691240" y="5868720"/>
                <a:ext cx="295200" cy="12240"/>
              </a:xfrm>
              <a:custGeom>
                <a:avLst/>
                <a:gdLst/>
                <a:ahLst/>
                <a:rect l="l" t="t" r="r" b="b"/>
                <a:pathLst>
                  <a:path w="376" h="17">
                    <a:moveTo>
                      <a:pt x="143" y="17"/>
                    </a:moveTo>
                    <a:lnTo>
                      <a:pt x="14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3" y="17"/>
                    </a:lnTo>
                    <a:close/>
                    <a:moveTo>
                      <a:pt x="376" y="17"/>
                    </a:moveTo>
                    <a:lnTo>
                      <a:pt x="376" y="0"/>
                    </a:lnTo>
                    <a:lnTo>
                      <a:pt x="236" y="0"/>
                    </a:lnTo>
                    <a:lnTo>
                      <a:pt x="236" y="17"/>
                    </a:lnTo>
                    <a:lnTo>
                      <a:pt x="376" y="17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691240" y="5868720"/>
                <a:ext cx="112680" cy="1224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875920" y="5868720"/>
                <a:ext cx="110160" cy="1224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4218120" y="5674320"/>
                <a:ext cx="2341800" cy="273240"/>
              </a:xfrm>
              <a:custGeom>
                <a:avLst/>
                <a:gdLst/>
                <a:ahLst/>
                <a:rect l="l" t="t" r="r" b="b"/>
                <a:pathLst>
                  <a:path w="2983" h="337">
                    <a:moveTo>
                      <a:pt x="2974" y="259"/>
                    </a:moveTo>
                    <a:lnTo>
                      <a:pt x="2983" y="259"/>
                    </a:lnTo>
                    <a:lnTo>
                      <a:pt x="2983" y="221"/>
                    </a:lnTo>
                    <a:lnTo>
                      <a:pt x="2947" y="221"/>
                    </a:lnTo>
                    <a:lnTo>
                      <a:pt x="2947" y="195"/>
                    </a:lnTo>
                    <a:lnTo>
                      <a:pt x="2931" y="195"/>
                    </a:lnTo>
                    <a:lnTo>
                      <a:pt x="2931" y="184"/>
                    </a:lnTo>
                    <a:lnTo>
                      <a:pt x="2870" y="184"/>
                    </a:lnTo>
                    <a:lnTo>
                      <a:pt x="2870" y="195"/>
                    </a:lnTo>
                    <a:lnTo>
                      <a:pt x="2854" y="195"/>
                    </a:lnTo>
                    <a:lnTo>
                      <a:pt x="2854" y="221"/>
                    </a:lnTo>
                    <a:lnTo>
                      <a:pt x="2817" y="221"/>
                    </a:lnTo>
                    <a:lnTo>
                      <a:pt x="2817" y="259"/>
                    </a:lnTo>
                    <a:lnTo>
                      <a:pt x="2827" y="259"/>
                    </a:lnTo>
                    <a:lnTo>
                      <a:pt x="2827" y="284"/>
                    </a:lnTo>
                    <a:lnTo>
                      <a:pt x="2817" y="284"/>
                    </a:lnTo>
                    <a:lnTo>
                      <a:pt x="2817" y="323"/>
                    </a:lnTo>
                    <a:lnTo>
                      <a:pt x="2983" y="323"/>
                    </a:lnTo>
                    <a:lnTo>
                      <a:pt x="2983" y="284"/>
                    </a:lnTo>
                    <a:lnTo>
                      <a:pt x="2974" y="284"/>
                    </a:lnTo>
                    <a:lnTo>
                      <a:pt x="2974" y="259"/>
                    </a:lnTo>
                    <a:close/>
                    <a:moveTo>
                      <a:pt x="157" y="264"/>
                    </a:moveTo>
                    <a:lnTo>
                      <a:pt x="167" y="264"/>
                    </a:lnTo>
                    <a:lnTo>
                      <a:pt x="167" y="300"/>
                    </a:lnTo>
                    <a:lnTo>
                      <a:pt x="131" y="300"/>
                    </a:lnTo>
                    <a:lnTo>
                      <a:pt x="131" y="326"/>
                    </a:lnTo>
                    <a:lnTo>
                      <a:pt x="115" y="326"/>
                    </a:lnTo>
                    <a:lnTo>
                      <a:pt x="115" y="337"/>
                    </a:lnTo>
                    <a:lnTo>
                      <a:pt x="52" y="337"/>
                    </a:lnTo>
                    <a:lnTo>
                      <a:pt x="52" y="326"/>
                    </a:lnTo>
                    <a:lnTo>
                      <a:pt x="36" y="326"/>
                    </a:lnTo>
                    <a:lnTo>
                      <a:pt x="36" y="300"/>
                    </a:lnTo>
                    <a:lnTo>
                      <a:pt x="0" y="300"/>
                    </a:lnTo>
                    <a:lnTo>
                      <a:pt x="2" y="264"/>
                    </a:lnTo>
                    <a:lnTo>
                      <a:pt x="8" y="264"/>
                    </a:lnTo>
                    <a:lnTo>
                      <a:pt x="8" y="236"/>
                    </a:lnTo>
                    <a:lnTo>
                      <a:pt x="2" y="236"/>
                    </a:lnTo>
                    <a:lnTo>
                      <a:pt x="2" y="198"/>
                    </a:lnTo>
                    <a:lnTo>
                      <a:pt x="167" y="198"/>
                    </a:lnTo>
                    <a:lnTo>
                      <a:pt x="167" y="236"/>
                    </a:lnTo>
                    <a:lnTo>
                      <a:pt x="157" y="236"/>
                    </a:lnTo>
                    <a:lnTo>
                      <a:pt x="157" y="264"/>
                    </a:lnTo>
                    <a:close/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6430320" y="5824080"/>
                <a:ext cx="129600" cy="111240"/>
              </a:xfrm>
              <a:custGeom>
                <a:avLst/>
                <a:gdLst/>
                <a:ahLst/>
                <a:rect l="l" t="t" r="r" b="b"/>
                <a:pathLst>
                  <a:path w="166" h="139">
                    <a:moveTo>
                      <a:pt x="157" y="75"/>
                    </a:moveTo>
                    <a:lnTo>
                      <a:pt x="166" y="75"/>
                    </a:lnTo>
                    <a:lnTo>
                      <a:pt x="166" y="37"/>
                    </a:lnTo>
                    <a:lnTo>
                      <a:pt x="130" y="37"/>
                    </a:lnTo>
                    <a:lnTo>
                      <a:pt x="130" y="11"/>
                    </a:lnTo>
                    <a:lnTo>
                      <a:pt x="114" y="11"/>
                    </a:lnTo>
                    <a:lnTo>
                      <a:pt x="114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37" y="1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100"/>
                    </a:lnTo>
                    <a:lnTo>
                      <a:pt x="0" y="100"/>
                    </a:lnTo>
                    <a:lnTo>
                      <a:pt x="0" y="139"/>
                    </a:lnTo>
                    <a:lnTo>
                      <a:pt x="166" y="139"/>
                    </a:lnTo>
                    <a:lnTo>
                      <a:pt x="166" y="100"/>
                    </a:lnTo>
                    <a:lnTo>
                      <a:pt x="157" y="100"/>
                    </a:lnTo>
                    <a:lnTo>
                      <a:pt x="157" y="75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4218120" y="5833800"/>
                <a:ext cx="132480" cy="11376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66"/>
                    </a:moveTo>
                    <a:lnTo>
                      <a:pt x="167" y="66"/>
                    </a:lnTo>
                    <a:lnTo>
                      <a:pt x="167" y="102"/>
                    </a:lnTo>
                    <a:lnTo>
                      <a:pt x="131" y="102"/>
                    </a:lnTo>
                    <a:lnTo>
                      <a:pt x="131" y="128"/>
                    </a:lnTo>
                    <a:lnTo>
                      <a:pt x="115" y="128"/>
                    </a:lnTo>
                    <a:lnTo>
                      <a:pt x="115" y="139"/>
                    </a:lnTo>
                    <a:lnTo>
                      <a:pt x="52" y="139"/>
                    </a:lnTo>
                    <a:lnTo>
                      <a:pt x="52" y="128"/>
                    </a:lnTo>
                    <a:lnTo>
                      <a:pt x="36" y="128"/>
                    </a:lnTo>
                    <a:lnTo>
                      <a:pt x="36" y="102"/>
                    </a:lnTo>
                    <a:lnTo>
                      <a:pt x="0" y="102"/>
                    </a:lnTo>
                    <a:lnTo>
                      <a:pt x="2" y="66"/>
                    </a:lnTo>
                    <a:lnTo>
                      <a:pt x="8" y="66"/>
                    </a:lnTo>
                    <a:lnTo>
                      <a:pt x="8" y="38"/>
                    </a:lnTo>
                    <a:lnTo>
                      <a:pt x="2" y="38"/>
                    </a:lnTo>
                    <a:lnTo>
                      <a:pt x="2" y="0"/>
                    </a:lnTo>
                    <a:lnTo>
                      <a:pt x="167" y="0"/>
                    </a:lnTo>
                    <a:lnTo>
                      <a:pt x="167" y="38"/>
                    </a:lnTo>
                    <a:lnTo>
                      <a:pt x="157" y="38"/>
                    </a:lnTo>
                    <a:lnTo>
                      <a:pt x="157" y="66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4218120" y="5674320"/>
                <a:ext cx="132480" cy="11232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4218120" y="5689080"/>
                <a:ext cx="2344680" cy="240840"/>
              </a:xfrm>
              <a:custGeom>
                <a:avLst/>
                <a:gdLst/>
                <a:ahLst/>
                <a:rect l="l" t="t" r="r" b="b"/>
                <a:pathLst>
                  <a:path w="2985" h="301">
                    <a:moveTo>
                      <a:pt x="36" y="301"/>
                    </a:moveTo>
                    <a:lnTo>
                      <a:pt x="0" y="301"/>
                    </a:lnTo>
                    <a:lnTo>
                      <a:pt x="0" y="290"/>
                    </a:lnTo>
                    <a:lnTo>
                      <a:pt x="36" y="290"/>
                    </a:lnTo>
                    <a:lnTo>
                      <a:pt x="36" y="301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67" y="301"/>
                    </a:moveTo>
                    <a:lnTo>
                      <a:pt x="134" y="301"/>
                    </a:lnTo>
                    <a:lnTo>
                      <a:pt x="134" y="290"/>
                    </a:lnTo>
                    <a:lnTo>
                      <a:pt x="167" y="290"/>
                    </a:lnTo>
                    <a:lnTo>
                      <a:pt x="167" y="301"/>
                    </a:lnTo>
                    <a:close/>
                    <a:moveTo>
                      <a:pt x="167" y="0"/>
                    </a:moveTo>
                    <a:lnTo>
                      <a:pt x="134" y="0"/>
                    </a:lnTo>
                    <a:lnTo>
                      <a:pt x="134" y="12"/>
                    </a:lnTo>
                    <a:lnTo>
                      <a:pt x="167" y="12"/>
                    </a:lnTo>
                    <a:lnTo>
                      <a:pt x="167" y="0"/>
                    </a:lnTo>
                    <a:close/>
                    <a:moveTo>
                      <a:pt x="2985" y="185"/>
                    </a:moveTo>
                    <a:lnTo>
                      <a:pt x="2949" y="185"/>
                    </a:lnTo>
                    <a:lnTo>
                      <a:pt x="2949" y="199"/>
                    </a:lnTo>
                    <a:lnTo>
                      <a:pt x="2985" y="199"/>
                    </a:lnTo>
                    <a:lnTo>
                      <a:pt x="2985" y="185"/>
                    </a:lnTo>
                    <a:close/>
                  </a:path>
                </a:pathLst>
              </a:custGeom>
              <a:solidFill>
                <a:srgbClr val="829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4218120" y="5923080"/>
                <a:ext cx="28800" cy="72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4218120" y="5689080"/>
                <a:ext cx="28800" cy="9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4322880" y="5923080"/>
                <a:ext cx="27720" cy="72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322880" y="5689080"/>
                <a:ext cx="27720" cy="97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6533640" y="5837760"/>
                <a:ext cx="28800" cy="108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3681720" y="5170320"/>
                <a:ext cx="3269880" cy="430560"/>
              </a:xfrm>
              <a:custGeom>
                <a:avLst/>
                <a:gdLst/>
                <a:ahLst/>
                <a:rect l="l" t="t" r="r" b="b"/>
                <a:pathLst>
                  <a:path w="4168" h="534">
                    <a:moveTo>
                      <a:pt x="4168" y="499"/>
                    </a:moveTo>
                    <a:lnTo>
                      <a:pt x="4168" y="495"/>
                    </a:lnTo>
                    <a:lnTo>
                      <a:pt x="4168" y="492"/>
                    </a:lnTo>
                    <a:lnTo>
                      <a:pt x="4167" y="488"/>
                    </a:lnTo>
                    <a:lnTo>
                      <a:pt x="4165" y="485"/>
                    </a:lnTo>
                    <a:lnTo>
                      <a:pt x="4163" y="478"/>
                    </a:lnTo>
                    <a:lnTo>
                      <a:pt x="4158" y="473"/>
                    </a:lnTo>
                    <a:lnTo>
                      <a:pt x="4153" y="468"/>
                    </a:lnTo>
                    <a:lnTo>
                      <a:pt x="4146" y="466"/>
                    </a:lnTo>
                    <a:lnTo>
                      <a:pt x="4143" y="464"/>
                    </a:lnTo>
                    <a:lnTo>
                      <a:pt x="4139" y="463"/>
                    </a:lnTo>
                    <a:lnTo>
                      <a:pt x="4136" y="463"/>
                    </a:lnTo>
                    <a:lnTo>
                      <a:pt x="4133" y="463"/>
                    </a:lnTo>
                    <a:lnTo>
                      <a:pt x="4129" y="463"/>
                    </a:lnTo>
                    <a:lnTo>
                      <a:pt x="4125" y="463"/>
                    </a:lnTo>
                    <a:lnTo>
                      <a:pt x="4123" y="464"/>
                    </a:lnTo>
                    <a:lnTo>
                      <a:pt x="4119" y="466"/>
                    </a:lnTo>
                    <a:lnTo>
                      <a:pt x="4114" y="468"/>
                    </a:lnTo>
                    <a:lnTo>
                      <a:pt x="4109" y="473"/>
                    </a:lnTo>
                    <a:lnTo>
                      <a:pt x="4104" y="478"/>
                    </a:lnTo>
                    <a:lnTo>
                      <a:pt x="4101" y="485"/>
                    </a:lnTo>
                    <a:lnTo>
                      <a:pt x="4100" y="488"/>
                    </a:lnTo>
                    <a:lnTo>
                      <a:pt x="4099" y="492"/>
                    </a:lnTo>
                    <a:lnTo>
                      <a:pt x="4099" y="495"/>
                    </a:lnTo>
                    <a:lnTo>
                      <a:pt x="4098" y="499"/>
                    </a:lnTo>
                    <a:lnTo>
                      <a:pt x="4099" y="502"/>
                    </a:lnTo>
                    <a:lnTo>
                      <a:pt x="4099" y="506"/>
                    </a:lnTo>
                    <a:lnTo>
                      <a:pt x="4100" y="509"/>
                    </a:lnTo>
                    <a:lnTo>
                      <a:pt x="4101" y="512"/>
                    </a:lnTo>
                    <a:lnTo>
                      <a:pt x="4104" y="517"/>
                    </a:lnTo>
                    <a:lnTo>
                      <a:pt x="4109" y="523"/>
                    </a:lnTo>
                    <a:lnTo>
                      <a:pt x="4114" y="528"/>
                    </a:lnTo>
                    <a:lnTo>
                      <a:pt x="4119" y="530"/>
                    </a:lnTo>
                    <a:lnTo>
                      <a:pt x="4123" y="531"/>
                    </a:lnTo>
                    <a:lnTo>
                      <a:pt x="4125" y="533"/>
                    </a:lnTo>
                    <a:lnTo>
                      <a:pt x="4129" y="533"/>
                    </a:lnTo>
                    <a:lnTo>
                      <a:pt x="4133" y="534"/>
                    </a:lnTo>
                    <a:lnTo>
                      <a:pt x="4136" y="533"/>
                    </a:lnTo>
                    <a:lnTo>
                      <a:pt x="4139" y="533"/>
                    </a:lnTo>
                    <a:lnTo>
                      <a:pt x="4143" y="531"/>
                    </a:lnTo>
                    <a:lnTo>
                      <a:pt x="4146" y="530"/>
                    </a:lnTo>
                    <a:lnTo>
                      <a:pt x="4153" y="528"/>
                    </a:lnTo>
                    <a:lnTo>
                      <a:pt x="4158" y="523"/>
                    </a:lnTo>
                    <a:lnTo>
                      <a:pt x="4163" y="517"/>
                    </a:lnTo>
                    <a:lnTo>
                      <a:pt x="4165" y="512"/>
                    </a:lnTo>
                    <a:lnTo>
                      <a:pt x="4167" y="509"/>
                    </a:lnTo>
                    <a:lnTo>
                      <a:pt x="4168" y="506"/>
                    </a:lnTo>
                    <a:lnTo>
                      <a:pt x="4168" y="502"/>
                    </a:lnTo>
                    <a:lnTo>
                      <a:pt x="4168" y="499"/>
                    </a:lnTo>
                    <a:lnTo>
                      <a:pt x="4168" y="499"/>
                    </a:lnTo>
                    <a:close/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6896520" y="5545440"/>
                <a:ext cx="54720" cy="5544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6"/>
                    </a:moveTo>
                    <a:lnTo>
                      <a:pt x="70" y="32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7" y="22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3" y="49"/>
                    </a:lnTo>
                    <a:lnTo>
                      <a:pt x="6" y="54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1" y="67"/>
                    </a:lnTo>
                    <a:lnTo>
                      <a:pt x="25" y="68"/>
                    </a:lnTo>
                    <a:lnTo>
                      <a:pt x="27" y="70"/>
                    </a:lnTo>
                    <a:lnTo>
                      <a:pt x="31" y="70"/>
                    </a:lnTo>
                    <a:lnTo>
                      <a:pt x="35" y="71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5" y="68"/>
                    </a:lnTo>
                    <a:lnTo>
                      <a:pt x="48" y="67"/>
                    </a:lnTo>
                    <a:lnTo>
                      <a:pt x="55" y="65"/>
                    </a:lnTo>
                    <a:lnTo>
                      <a:pt x="60" y="60"/>
                    </a:lnTo>
                    <a:lnTo>
                      <a:pt x="65" y="54"/>
                    </a:lnTo>
                    <a:lnTo>
                      <a:pt x="67" y="49"/>
                    </a:lnTo>
                    <a:lnTo>
                      <a:pt x="69" y="46"/>
                    </a:lnTo>
                    <a:lnTo>
                      <a:pt x="70" y="43"/>
                    </a:lnTo>
                    <a:lnTo>
                      <a:pt x="70" y="39"/>
                    </a:lnTo>
                    <a:lnTo>
                      <a:pt x="70" y="36"/>
                    </a:lnTo>
                    <a:lnTo>
                      <a:pt x="70" y="3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3681720" y="5170320"/>
                <a:ext cx="52200" cy="5436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6212520" y="5201280"/>
                <a:ext cx="54720" cy="524880"/>
              </a:xfrm>
              <a:custGeom>
                <a:avLst/>
                <a:gdLst/>
                <a:ahLst/>
                <a:rect l="l" t="t" r="r" b="b"/>
                <a:pathLst>
                  <a:path w="70" h="649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78"/>
                    </a:moveTo>
                    <a:lnTo>
                      <a:pt x="38" y="578"/>
                    </a:lnTo>
                    <a:lnTo>
                      <a:pt x="42" y="579"/>
                    </a:lnTo>
                    <a:lnTo>
                      <a:pt x="46" y="581"/>
                    </a:lnTo>
                    <a:lnTo>
                      <a:pt x="50" y="582"/>
                    </a:lnTo>
                    <a:lnTo>
                      <a:pt x="52" y="583"/>
                    </a:lnTo>
                    <a:lnTo>
                      <a:pt x="56" y="586"/>
                    </a:lnTo>
                    <a:lnTo>
                      <a:pt x="58" y="587"/>
                    </a:lnTo>
                    <a:lnTo>
                      <a:pt x="62" y="590"/>
                    </a:lnTo>
                    <a:lnTo>
                      <a:pt x="65" y="593"/>
                    </a:lnTo>
                    <a:lnTo>
                      <a:pt x="66" y="597"/>
                    </a:lnTo>
                    <a:lnTo>
                      <a:pt x="67" y="601"/>
                    </a:lnTo>
                    <a:lnTo>
                      <a:pt x="68" y="603"/>
                    </a:lnTo>
                    <a:lnTo>
                      <a:pt x="70" y="607"/>
                    </a:lnTo>
                    <a:lnTo>
                      <a:pt x="70" y="611"/>
                    </a:lnTo>
                    <a:lnTo>
                      <a:pt x="70" y="615"/>
                    </a:lnTo>
                    <a:lnTo>
                      <a:pt x="68" y="620"/>
                    </a:lnTo>
                    <a:lnTo>
                      <a:pt x="68" y="622"/>
                    </a:lnTo>
                    <a:lnTo>
                      <a:pt x="67" y="625"/>
                    </a:lnTo>
                    <a:lnTo>
                      <a:pt x="67" y="627"/>
                    </a:lnTo>
                    <a:lnTo>
                      <a:pt x="66" y="631"/>
                    </a:lnTo>
                    <a:lnTo>
                      <a:pt x="63" y="634"/>
                    </a:lnTo>
                    <a:lnTo>
                      <a:pt x="62" y="636"/>
                    </a:lnTo>
                    <a:lnTo>
                      <a:pt x="60" y="639"/>
                    </a:lnTo>
                    <a:lnTo>
                      <a:pt x="57" y="640"/>
                    </a:lnTo>
                    <a:lnTo>
                      <a:pt x="52" y="644"/>
                    </a:lnTo>
                    <a:lnTo>
                      <a:pt x="47" y="646"/>
                    </a:lnTo>
                    <a:lnTo>
                      <a:pt x="45" y="648"/>
                    </a:lnTo>
                    <a:lnTo>
                      <a:pt x="41" y="649"/>
                    </a:lnTo>
                    <a:lnTo>
                      <a:pt x="38" y="649"/>
                    </a:lnTo>
                    <a:lnTo>
                      <a:pt x="35" y="649"/>
                    </a:lnTo>
                    <a:lnTo>
                      <a:pt x="31" y="649"/>
                    </a:lnTo>
                    <a:lnTo>
                      <a:pt x="27" y="649"/>
                    </a:lnTo>
                    <a:lnTo>
                      <a:pt x="23" y="648"/>
                    </a:lnTo>
                    <a:lnTo>
                      <a:pt x="20" y="646"/>
                    </a:lnTo>
                    <a:lnTo>
                      <a:pt x="16" y="644"/>
                    </a:lnTo>
                    <a:lnTo>
                      <a:pt x="13" y="641"/>
                    </a:lnTo>
                    <a:lnTo>
                      <a:pt x="10" y="639"/>
                    </a:lnTo>
                    <a:lnTo>
                      <a:pt x="7" y="635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2" y="626"/>
                    </a:lnTo>
                    <a:lnTo>
                      <a:pt x="1" y="622"/>
                    </a:lnTo>
                    <a:lnTo>
                      <a:pt x="0" y="619"/>
                    </a:lnTo>
                    <a:lnTo>
                      <a:pt x="0" y="615"/>
                    </a:lnTo>
                    <a:lnTo>
                      <a:pt x="0" y="612"/>
                    </a:lnTo>
                    <a:lnTo>
                      <a:pt x="1" y="609"/>
                    </a:lnTo>
                    <a:lnTo>
                      <a:pt x="1" y="605"/>
                    </a:lnTo>
                    <a:lnTo>
                      <a:pt x="2" y="602"/>
                    </a:lnTo>
                    <a:lnTo>
                      <a:pt x="2" y="598"/>
                    </a:lnTo>
                    <a:lnTo>
                      <a:pt x="3" y="596"/>
                    </a:lnTo>
                    <a:lnTo>
                      <a:pt x="6" y="593"/>
                    </a:lnTo>
                    <a:lnTo>
                      <a:pt x="7" y="592"/>
                    </a:lnTo>
                    <a:lnTo>
                      <a:pt x="12" y="588"/>
                    </a:lnTo>
                    <a:lnTo>
                      <a:pt x="15" y="586"/>
                    </a:lnTo>
                    <a:lnTo>
                      <a:pt x="17" y="583"/>
                    </a:lnTo>
                    <a:lnTo>
                      <a:pt x="20" y="582"/>
                    </a:lnTo>
                    <a:lnTo>
                      <a:pt x="22" y="581"/>
                    </a:lnTo>
                    <a:lnTo>
                      <a:pt x="26" y="579"/>
                    </a:lnTo>
                    <a:lnTo>
                      <a:pt x="28" y="579"/>
                    </a:lnTo>
                    <a:lnTo>
                      <a:pt x="35" y="578"/>
                    </a:lnTo>
                    <a:lnTo>
                      <a:pt x="35" y="57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6212520" y="5201280"/>
                <a:ext cx="54720" cy="57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6212520" y="5669280"/>
                <a:ext cx="54720" cy="568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1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0" y="33"/>
                    </a:lnTo>
                    <a:lnTo>
                      <a:pt x="70" y="37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60" y="61"/>
                    </a:lnTo>
                    <a:lnTo>
                      <a:pt x="57" y="62"/>
                    </a:lnTo>
                    <a:lnTo>
                      <a:pt x="52" y="66"/>
                    </a:lnTo>
                    <a:lnTo>
                      <a:pt x="47" y="68"/>
                    </a:lnTo>
                    <a:lnTo>
                      <a:pt x="45" y="70"/>
                    </a:lnTo>
                    <a:lnTo>
                      <a:pt x="41" y="71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71"/>
                    </a:lnTo>
                    <a:lnTo>
                      <a:pt x="23" y="70"/>
                    </a:lnTo>
                    <a:lnTo>
                      <a:pt x="20" y="68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10" y="61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6227640" y="5218560"/>
                <a:ext cx="23400" cy="491040"/>
              </a:xfrm>
              <a:custGeom>
                <a:avLst/>
                <a:gdLst/>
                <a:ahLst/>
                <a:rect l="l" t="t" r="r" b="b"/>
                <a:pathLst>
                  <a:path w="30" h="608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5"/>
                    </a:moveTo>
                    <a:lnTo>
                      <a:pt x="8" y="603"/>
                    </a:lnTo>
                    <a:lnTo>
                      <a:pt x="11" y="601"/>
                    </a:lnTo>
                    <a:lnTo>
                      <a:pt x="15" y="601"/>
                    </a:lnTo>
                    <a:lnTo>
                      <a:pt x="18" y="601"/>
                    </a:lnTo>
                    <a:lnTo>
                      <a:pt x="21" y="603"/>
                    </a:lnTo>
                    <a:lnTo>
                      <a:pt x="21" y="603"/>
                    </a:lnTo>
                    <a:lnTo>
                      <a:pt x="21" y="605"/>
                    </a:lnTo>
                    <a:lnTo>
                      <a:pt x="23" y="606"/>
                    </a:lnTo>
                    <a:lnTo>
                      <a:pt x="25" y="608"/>
                    </a:lnTo>
                    <a:lnTo>
                      <a:pt x="27" y="606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30" y="604"/>
                    </a:lnTo>
                    <a:lnTo>
                      <a:pt x="30" y="603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6" y="599"/>
                    </a:lnTo>
                    <a:lnTo>
                      <a:pt x="25" y="595"/>
                    </a:lnTo>
                    <a:lnTo>
                      <a:pt x="25" y="593"/>
                    </a:lnTo>
                    <a:lnTo>
                      <a:pt x="25" y="589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8" y="585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8" y="581"/>
                    </a:lnTo>
                    <a:lnTo>
                      <a:pt x="28" y="580"/>
                    </a:lnTo>
                    <a:lnTo>
                      <a:pt x="28" y="580"/>
                    </a:lnTo>
                    <a:lnTo>
                      <a:pt x="28" y="579"/>
                    </a:lnTo>
                    <a:lnTo>
                      <a:pt x="27" y="579"/>
                    </a:lnTo>
                    <a:lnTo>
                      <a:pt x="25" y="579"/>
                    </a:lnTo>
                    <a:lnTo>
                      <a:pt x="25" y="579"/>
                    </a:lnTo>
                    <a:lnTo>
                      <a:pt x="23" y="579"/>
                    </a:lnTo>
                    <a:lnTo>
                      <a:pt x="23" y="579"/>
                    </a:lnTo>
                    <a:lnTo>
                      <a:pt x="21" y="580"/>
                    </a:lnTo>
                    <a:lnTo>
                      <a:pt x="20" y="582"/>
                    </a:lnTo>
                    <a:lnTo>
                      <a:pt x="18" y="582"/>
                    </a:lnTo>
                    <a:lnTo>
                      <a:pt x="16" y="584"/>
                    </a:lnTo>
                    <a:lnTo>
                      <a:pt x="15" y="584"/>
                    </a:lnTo>
                    <a:lnTo>
                      <a:pt x="13" y="584"/>
                    </a:lnTo>
                    <a:lnTo>
                      <a:pt x="11" y="582"/>
                    </a:lnTo>
                    <a:lnTo>
                      <a:pt x="10" y="582"/>
                    </a:lnTo>
                    <a:lnTo>
                      <a:pt x="8" y="580"/>
                    </a:lnTo>
                    <a:lnTo>
                      <a:pt x="8" y="580"/>
                    </a:lnTo>
                    <a:lnTo>
                      <a:pt x="6" y="579"/>
                    </a:lnTo>
                    <a:lnTo>
                      <a:pt x="5" y="579"/>
                    </a:lnTo>
                    <a:lnTo>
                      <a:pt x="5" y="579"/>
                    </a:lnTo>
                    <a:lnTo>
                      <a:pt x="3" y="579"/>
                    </a:lnTo>
                    <a:lnTo>
                      <a:pt x="1" y="579"/>
                    </a:lnTo>
                    <a:lnTo>
                      <a:pt x="1" y="579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4"/>
                    </a:lnTo>
                    <a:lnTo>
                      <a:pt x="1" y="585"/>
                    </a:lnTo>
                    <a:lnTo>
                      <a:pt x="1" y="585"/>
                    </a:lnTo>
                    <a:lnTo>
                      <a:pt x="3" y="588"/>
                    </a:lnTo>
                    <a:lnTo>
                      <a:pt x="5" y="589"/>
                    </a:lnTo>
                    <a:lnTo>
                      <a:pt x="5" y="593"/>
                    </a:lnTo>
                    <a:lnTo>
                      <a:pt x="5" y="595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1" y="601"/>
                    </a:lnTo>
                    <a:lnTo>
                      <a:pt x="0" y="601"/>
                    </a:lnTo>
                    <a:lnTo>
                      <a:pt x="0" y="603"/>
                    </a:lnTo>
                    <a:lnTo>
                      <a:pt x="0" y="604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3" y="606"/>
                    </a:lnTo>
                    <a:lnTo>
                      <a:pt x="5" y="608"/>
                    </a:lnTo>
                    <a:lnTo>
                      <a:pt x="5" y="606"/>
                    </a:lnTo>
                    <a:lnTo>
                      <a:pt x="6" y="605"/>
                    </a:lnTo>
                    <a:lnTo>
                      <a:pt x="6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227640" y="521856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6227640" y="5685120"/>
                <a:ext cx="23400" cy="2448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6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6273360" y="5176440"/>
                <a:ext cx="28440" cy="587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273360" y="5145480"/>
                <a:ext cx="28440" cy="61884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302160" y="5145480"/>
                <a:ext cx="27720" cy="618840"/>
              </a:xfrm>
              <a:prstGeom prst="rect">
                <a:avLst/>
              </a:pr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329880" y="5145480"/>
                <a:ext cx="30240" cy="61884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274440" y="5172840"/>
                <a:ext cx="48240" cy="585360"/>
              </a:xfrm>
              <a:custGeom>
                <a:avLst/>
                <a:gdLst/>
                <a:ahLst/>
                <a:rect l="l" t="t" r="r" b="b"/>
                <a:pathLst>
                  <a:path w="59" h="722">
                    <a:moveTo>
                      <a:pt x="59" y="717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17"/>
                    </a:lnTo>
                    <a:lnTo>
                      <a:pt x="0" y="720"/>
                    </a:lnTo>
                    <a:lnTo>
                      <a:pt x="2" y="721"/>
                    </a:lnTo>
                    <a:lnTo>
                      <a:pt x="3" y="722"/>
                    </a:lnTo>
                    <a:lnTo>
                      <a:pt x="7" y="722"/>
                    </a:lnTo>
                    <a:lnTo>
                      <a:pt x="7" y="722"/>
                    </a:lnTo>
                    <a:lnTo>
                      <a:pt x="52" y="722"/>
                    </a:lnTo>
                    <a:lnTo>
                      <a:pt x="54" y="722"/>
                    </a:lnTo>
                    <a:lnTo>
                      <a:pt x="56" y="721"/>
                    </a:lnTo>
                    <a:lnTo>
                      <a:pt x="59" y="720"/>
                    </a:lnTo>
                    <a:lnTo>
                      <a:pt x="59" y="718"/>
                    </a:lnTo>
                    <a:lnTo>
                      <a:pt x="59" y="7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4932720" y="5171400"/>
                <a:ext cx="927720" cy="5828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4932720" y="5171400"/>
                <a:ext cx="927720" cy="58284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227560" y="5186160"/>
                <a:ext cx="77040" cy="558360"/>
              </a:xfrm>
              <a:custGeom>
                <a:avLst/>
                <a:gdLst/>
                <a:ahLst/>
                <a:rect l="l" t="t" r="r" b="b"/>
                <a:pathLst>
                  <a:path w="98" h="692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  <a:moveTo>
                      <a:pt x="98" y="581"/>
                    </a:moveTo>
                    <a:lnTo>
                      <a:pt x="18" y="581"/>
                    </a:lnTo>
                    <a:lnTo>
                      <a:pt x="14" y="581"/>
                    </a:lnTo>
                    <a:lnTo>
                      <a:pt x="10" y="582"/>
                    </a:lnTo>
                    <a:lnTo>
                      <a:pt x="7" y="583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2" y="592"/>
                    </a:lnTo>
                    <a:lnTo>
                      <a:pt x="0" y="595"/>
                    </a:lnTo>
                    <a:lnTo>
                      <a:pt x="0" y="598"/>
                    </a:lnTo>
                    <a:lnTo>
                      <a:pt x="0" y="598"/>
                    </a:lnTo>
                    <a:lnTo>
                      <a:pt x="0" y="672"/>
                    </a:lnTo>
                    <a:lnTo>
                      <a:pt x="0" y="675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4" y="686"/>
                    </a:lnTo>
                    <a:lnTo>
                      <a:pt x="7" y="688"/>
                    </a:lnTo>
                    <a:lnTo>
                      <a:pt x="10" y="689"/>
                    </a:lnTo>
                    <a:lnTo>
                      <a:pt x="14" y="691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98" y="692"/>
                    </a:lnTo>
                    <a:lnTo>
                      <a:pt x="98" y="581"/>
                    </a:lnTo>
                    <a:lnTo>
                      <a:pt x="98" y="58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227560" y="518616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2791" name=""/>
            <p:cNvGrpSpPr/>
            <p:nvPr/>
          </p:nvGrpSpPr>
          <p:grpSpPr>
            <a:xfrm>
              <a:off x="4968720" y="5201280"/>
              <a:ext cx="921960" cy="542880"/>
              <a:chOff x="4968720" y="5201280"/>
              <a:chExt cx="921960" cy="542880"/>
            </a:xfrm>
          </p:grpSpPr>
          <p:sp>
            <p:nvSpPr>
              <p:cNvPr id="2792" name=""/>
              <p:cNvSpPr/>
              <p:nvPr/>
            </p:nvSpPr>
            <p:spPr>
              <a:xfrm>
                <a:off x="5227920" y="5654160"/>
                <a:ext cx="76680" cy="9000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8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4968720" y="5212440"/>
                <a:ext cx="858960" cy="527400"/>
              </a:xfrm>
              <a:custGeom>
                <a:avLst/>
                <a:gdLst/>
                <a:ahLst/>
                <a:rect l="l" t="t" r="r" b="b"/>
                <a:pathLst>
                  <a:path w="1092" h="654">
                    <a:moveTo>
                      <a:pt x="47" y="607"/>
                    </a:moveTo>
                    <a:lnTo>
                      <a:pt x="67" y="596"/>
                    </a:lnTo>
                    <a:lnTo>
                      <a:pt x="67" y="572"/>
                    </a:lnTo>
                    <a:lnTo>
                      <a:pt x="47" y="560"/>
                    </a:lnTo>
                    <a:lnTo>
                      <a:pt x="26" y="572"/>
                    </a:lnTo>
                    <a:lnTo>
                      <a:pt x="26" y="596"/>
                    </a:lnTo>
                    <a:lnTo>
                      <a:pt x="47" y="607"/>
                    </a:lnTo>
                    <a:close/>
                    <a:moveTo>
                      <a:pt x="100" y="607"/>
                    </a:moveTo>
                    <a:lnTo>
                      <a:pt x="120" y="596"/>
                    </a:lnTo>
                    <a:lnTo>
                      <a:pt x="120" y="572"/>
                    </a:lnTo>
                    <a:lnTo>
                      <a:pt x="100" y="560"/>
                    </a:lnTo>
                    <a:lnTo>
                      <a:pt x="81" y="572"/>
                    </a:lnTo>
                    <a:lnTo>
                      <a:pt x="81" y="596"/>
                    </a:lnTo>
                    <a:lnTo>
                      <a:pt x="100" y="607"/>
                    </a:lnTo>
                    <a:close/>
                    <a:moveTo>
                      <a:pt x="155" y="607"/>
                    </a:moveTo>
                    <a:lnTo>
                      <a:pt x="175" y="596"/>
                    </a:lnTo>
                    <a:lnTo>
                      <a:pt x="175" y="572"/>
                    </a:lnTo>
                    <a:lnTo>
                      <a:pt x="155" y="560"/>
                    </a:lnTo>
                    <a:lnTo>
                      <a:pt x="135" y="572"/>
                    </a:lnTo>
                    <a:lnTo>
                      <a:pt x="135" y="596"/>
                    </a:lnTo>
                    <a:lnTo>
                      <a:pt x="155" y="607"/>
                    </a:lnTo>
                    <a:close/>
                    <a:moveTo>
                      <a:pt x="208" y="607"/>
                    </a:moveTo>
                    <a:lnTo>
                      <a:pt x="230" y="596"/>
                    </a:lnTo>
                    <a:lnTo>
                      <a:pt x="230" y="572"/>
                    </a:lnTo>
                    <a:lnTo>
                      <a:pt x="208" y="560"/>
                    </a:lnTo>
                    <a:lnTo>
                      <a:pt x="188" y="572"/>
                    </a:lnTo>
                    <a:lnTo>
                      <a:pt x="188" y="596"/>
                    </a:lnTo>
                    <a:lnTo>
                      <a:pt x="208" y="607"/>
                    </a:lnTo>
                    <a:close/>
                    <a:moveTo>
                      <a:pt x="263" y="607"/>
                    </a:moveTo>
                    <a:lnTo>
                      <a:pt x="283" y="596"/>
                    </a:lnTo>
                    <a:lnTo>
                      <a:pt x="283" y="572"/>
                    </a:lnTo>
                    <a:lnTo>
                      <a:pt x="263" y="560"/>
                    </a:lnTo>
                    <a:lnTo>
                      <a:pt x="243" y="572"/>
                    </a:lnTo>
                    <a:lnTo>
                      <a:pt x="243" y="596"/>
                    </a:lnTo>
                    <a:lnTo>
                      <a:pt x="263" y="607"/>
                    </a:lnTo>
                    <a:close/>
                    <a:moveTo>
                      <a:pt x="20" y="560"/>
                    </a:moveTo>
                    <a:lnTo>
                      <a:pt x="39" y="550"/>
                    </a:lnTo>
                    <a:lnTo>
                      <a:pt x="39" y="525"/>
                    </a:lnTo>
                    <a:lnTo>
                      <a:pt x="20" y="514"/>
                    </a:lnTo>
                    <a:lnTo>
                      <a:pt x="0" y="525"/>
                    </a:lnTo>
                    <a:lnTo>
                      <a:pt x="0" y="550"/>
                    </a:lnTo>
                    <a:lnTo>
                      <a:pt x="20" y="560"/>
                    </a:lnTo>
                    <a:close/>
                    <a:moveTo>
                      <a:pt x="74" y="560"/>
                    </a:moveTo>
                    <a:lnTo>
                      <a:pt x="94" y="550"/>
                    </a:lnTo>
                    <a:lnTo>
                      <a:pt x="94" y="525"/>
                    </a:lnTo>
                    <a:lnTo>
                      <a:pt x="74" y="514"/>
                    </a:lnTo>
                    <a:lnTo>
                      <a:pt x="55" y="525"/>
                    </a:lnTo>
                    <a:lnTo>
                      <a:pt x="55" y="550"/>
                    </a:lnTo>
                    <a:lnTo>
                      <a:pt x="74" y="560"/>
                    </a:lnTo>
                    <a:close/>
                    <a:moveTo>
                      <a:pt x="129" y="560"/>
                    </a:moveTo>
                    <a:lnTo>
                      <a:pt x="149" y="550"/>
                    </a:lnTo>
                    <a:lnTo>
                      <a:pt x="149" y="525"/>
                    </a:lnTo>
                    <a:lnTo>
                      <a:pt x="129" y="514"/>
                    </a:lnTo>
                    <a:lnTo>
                      <a:pt x="108" y="525"/>
                    </a:lnTo>
                    <a:lnTo>
                      <a:pt x="108" y="550"/>
                    </a:lnTo>
                    <a:lnTo>
                      <a:pt x="129" y="560"/>
                    </a:lnTo>
                    <a:close/>
                    <a:moveTo>
                      <a:pt x="181" y="560"/>
                    </a:moveTo>
                    <a:lnTo>
                      <a:pt x="202" y="550"/>
                    </a:lnTo>
                    <a:lnTo>
                      <a:pt x="202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50"/>
                    </a:lnTo>
                    <a:lnTo>
                      <a:pt x="181" y="560"/>
                    </a:lnTo>
                    <a:close/>
                    <a:moveTo>
                      <a:pt x="237" y="560"/>
                    </a:moveTo>
                    <a:lnTo>
                      <a:pt x="257" y="550"/>
                    </a:lnTo>
                    <a:lnTo>
                      <a:pt x="257" y="525"/>
                    </a:lnTo>
                    <a:lnTo>
                      <a:pt x="237" y="514"/>
                    </a:lnTo>
                    <a:lnTo>
                      <a:pt x="217" y="525"/>
                    </a:lnTo>
                    <a:lnTo>
                      <a:pt x="217" y="550"/>
                    </a:lnTo>
                    <a:lnTo>
                      <a:pt x="237" y="560"/>
                    </a:lnTo>
                    <a:close/>
                    <a:moveTo>
                      <a:pt x="289" y="560"/>
                    </a:moveTo>
                    <a:lnTo>
                      <a:pt x="312" y="550"/>
                    </a:lnTo>
                    <a:lnTo>
                      <a:pt x="312" y="525"/>
                    </a:lnTo>
                    <a:lnTo>
                      <a:pt x="289" y="514"/>
                    </a:lnTo>
                    <a:lnTo>
                      <a:pt x="269" y="525"/>
                    </a:lnTo>
                    <a:lnTo>
                      <a:pt x="269" y="550"/>
                    </a:lnTo>
                    <a:lnTo>
                      <a:pt x="289" y="560"/>
                    </a:lnTo>
                    <a:close/>
                    <a:moveTo>
                      <a:pt x="47" y="514"/>
                    </a:moveTo>
                    <a:lnTo>
                      <a:pt x="67" y="504"/>
                    </a:lnTo>
                    <a:lnTo>
                      <a:pt x="67" y="478"/>
                    </a:lnTo>
                    <a:lnTo>
                      <a:pt x="47" y="468"/>
                    </a:lnTo>
                    <a:lnTo>
                      <a:pt x="26" y="478"/>
                    </a:lnTo>
                    <a:lnTo>
                      <a:pt x="26" y="504"/>
                    </a:lnTo>
                    <a:lnTo>
                      <a:pt x="47" y="514"/>
                    </a:lnTo>
                    <a:close/>
                    <a:moveTo>
                      <a:pt x="100" y="514"/>
                    </a:moveTo>
                    <a:lnTo>
                      <a:pt x="120" y="504"/>
                    </a:lnTo>
                    <a:lnTo>
                      <a:pt x="120" y="478"/>
                    </a:lnTo>
                    <a:lnTo>
                      <a:pt x="100" y="468"/>
                    </a:lnTo>
                    <a:lnTo>
                      <a:pt x="81" y="478"/>
                    </a:lnTo>
                    <a:lnTo>
                      <a:pt x="81" y="504"/>
                    </a:lnTo>
                    <a:lnTo>
                      <a:pt x="100" y="514"/>
                    </a:lnTo>
                    <a:close/>
                    <a:moveTo>
                      <a:pt x="155" y="514"/>
                    </a:moveTo>
                    <a:lnTo>
                      <a:pt x="175" y="504"/>
                    </a:lnTo>
                    <a:lnTo>
                      <a:pt x="175" y="478"/>
                    </a:lnTo>
                    <a:lnTo>
                      <a:pt x="155" y="468"/>
                    </a:lnTo>
                    <a:lnTo>
                      <a:pt x="135" y="478"/>
                    </a:lnTo>
                    <a:lnTo>
                      <a:pt x="135" y="504"/>
                    </a:lnTo>
                    <a:lnTo>
                      <a:pt x="155" y="514"/>
                    </a:lnTo>
                    <a:close/>
                    <a:moveTo>
                      <a:pt x="208" y="514"/>
                    </a:moveTo>
                    <a:lnTo>
                      <a:pt x="230" y="504"/>
                    </a:lnTo>
                    <a:lnTo>
                      <a:pt x="230" y="478"/>
                    </a:lnTo>
                    <a:lnTo>
                      <a:pt x="208" y="468"/>
                    </a:lnTo>
                    <a:lnTo>
                      <a:pt x="188" y="478"/>
                    </a:lnTo>
                    <a:lnTo>
                      <a:pt x="188" y="504"/>
                    </a:lnTo>
                    <a:lnTo>
                      <a:pt x="208" y="514"/>
                    </a:lnTo>
                    <a:close/>
                    <a:moveTo>
                      <a:pt x="263" y="514"/>
                    </a:moveTo>
                    <a:lnTo>
                      <a:pt x="283" y="504"/>
                    </a:lnTo>
                    <a:lnTo>
                      <a:pt x="283" y="478"/>
                    </a:lnTo>
                    <a:lnTo>
                      <a:pt x="263" y="468"/>
                    </a:lnTo>
                    <a:lnTo>
                      <a:pt x="243" y="478"/>
                    </a:lnTo>
                    <a:lnTo>
                      <a:pt x="243" y="504"/>
                    </a:lnTo>
                    <a:lnTo>
                      <a:pt x="263" y="514"/>
                    </a:lnTo>
                    <a:close/>
                    <a:moveTo>
                      <a:pt x="318" y="514"/>
                    </a:moveTo>
                    <a:lnTo>
                      <a:pt x="338" y="504"/>
                    </a:lnTo>
                    <a:lnTo>
                      <a:pt x="338" y="478"/>
                    </a:lnTo>
                    <a:lnTo>
                      <a:pt x="318" y="468"/>
                    </a:lnTo>
                    <a:lnTo>
                      <a:pt x="298" y="478"/>
                    </a:lnTo>
                    <a:lnTo>
                      <a:pt x="298" y="504"/>
                    </a:lnTo>
                    <a:lnTo>
                      <a:pt x="318" y="514"/>
                    </a:lnTo>
                    <a:close/>
                    <a:moveTo>
                      <a:pt x="20" y="468"/>
                    </a:moveTo>
                    <a:lnTo>
                      <a:pt x="39" y="454"/>
                    </a:lnTo>
                    <a:lnTo>
                      <a:pt x="39" y="432"/>
                    </a:lnTo>
                    <a:lnTo>
                      <a:pt x="20" y="422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20" y="468"/>
                    </a:lnTo>
                    <a:close/>
                    <a:moveTo>
                      <a:pt x="74" y="468"/>
                    </a:moveTo>
                    <a:lnTo>
                      <a:pt x="94" y="454"/>
                    </a:lnTo>
                    <a:lnTo>
                      <a:pt x="94" y="432"/>
                    </a:lnTo>
                    <a:lnTo>
                      <a:pt x="74" y="422"/>
                    </a:lnTo>
                    <a:lnTo>
                      <a:pt x="55" y="432"/>
                    </a:lnTo>
                    <a:lnTo>
                      <a:pt x="55" y="454"/>
                    </a:lnTo>
                    <a:lnTo>
                      <a:pt x="74" y="468"/>
                    </a:lnTo>
                    <a:close/>
                    <a:moveTo>
                      <a:pt x="129" y="468"/>
                    </a:moveTo>
                    <a:lnTo>
                      <a:pt x="149" y="454"/>
                    </a:lnTo>
                    <a:lnTo>
                      <a:pt x="149" y="432"/>
                    </a:lnTo>
                    <a:lnTo>
                      <a:pt x="129" y="422"/>
                    </a:lnTo>
                    <a:lnTo>
                      <a:pt x="108" y="432"/>
                    </a:lnTo>
                    <a:lnTo>
                      <a:pt x="108" y="454"/>
                    </a:lnTo>
                    <a:lnTo>
                      <a:pt x="129" y="468"/>
                    </a:lnTo>
                    <a:close/>
                    <a:moveTo>
                      <a:pt x="181" y="468"/>
                    </a:moveTo>
                    <a:lnTo>
                      <a:pt x="202" y="454"/>
                    </a:lnTo>
                    <a:lnTo>
                      <a:pt x="202" y="432"/>
                    </a:lnTo>
                    <a:lnTo>
                      <a:pt x="181" y="422"/>
                    </a:lnTo>
                    <a:lnTo>
                      <a:pt x="161" y="432"/>
                    </a:lnTo>
                    <a:lnTo>
                      <a:pt x="161" y="454"/>
                    </a:lnTo>
                    <a:lnTo>
                      <a:pt x="181" y="468"/>
                    </a:lnTo>
                    <a:close/>
                    <a:moveTo>
                      <a:pt x="237" y="468"/>
                    </a:moveTo>
                    <a:lnTo>
                      <a:pt x="257" y="454"/>
                    </a:lnTo>
                    <a:lnTo>
                      <a:pt x="257" y="432"/>
                    </a:lnTo>
                    <a:lnTo>
                      <a:pt x="237" y="422"/>
                    </a:lnTo>
                    <a:lnTo>
                      <a:pt x="217" y="432"/>
                    </a:lnTo>
                    <a:lnTo>
                      <a:pt x="217" y="454"/>
                    </a:lnTo>
                    <a:lnTo>
                      <a:pt x="237" y="468"/>
                    </a:lnTo>
                    <a:close/>
                    <a:moveTo>
                      <a:pt x="289" y="468"/>
                    </a:moveTo>
                    <a:lnTo>
                      <a:pt x="312" y="454"/>
                    </a:lnTo>
                    <a:lnTo>
                      <a:pt x="312" y="432"/>
                    </a:lnTo>
                    <a:lnTo>
                      <a:pt x="289" y="422"/>
                    </a:lnTo>
                    <a:lnTo>
                      <a:pt x="269" y="432"/>
                    </a:lnTo>
                    <a:lnTo>
                      <a:pt x="269" y="454"/>
                    </a:lnTo>
                    <a:lnTo>
                      <a:pt x="289" y="468"/>
                    </a:lnTo>
                    <a:close/>
                    <a:moveTo>
                      <a:pt x="20" y="654"/>
                    </a:moveTo>
                    <a:lnTo>
                      <a:pt x="39" y="642"/>
                    </a:lnTo>
                    <a:lnTo>
                      <a:pt x="39" y="618"/>
                    </a:lnTo>
                    <a:lnTo>
                      <a:pt x="20" y="607"/>
                    </a:lnTo>
                    <a:lnTo>
                      <a:pt x="0" y="618"/>
                    </a:lnTo>
                    <a:lnTo>
                      <a:pt x="0" y="642"/>
                    </a:lnTo>
                    <a:lnTo>
                      <a:pt x="20" y="654"/>
                    </a:lnTo>
                    <a:close/>
                    <a:moveTo>
                      <a:pt x="74" y="654"/>
                    </a:moveTo>
                    <a:lnTo>
                      <a:pt x="94" y="642"/>
                    </a:lnTo>
                    <a:lnTo>
                      <a:pt x="94" y="618"/>
                    </a:lnTo>
                    <a:lnTo>
                      <a:pt x="74" y="607"/>
                    </a:lnTo>
                    <a:lnTo>
                      <a:pt x="55" y="618"/>
                    </a:lnTo>
                    <a:lnTo>
                      <a:pt x="55" y="642"/>
                    </a:lnTo>
                    <a:lnTo>
                      <a:pt x="74" y="654"/>
                    </a:lnTo>
                    <a:close/>
                    <a:moveTo>
                      <a:pt x="129" y="654"/>
                    </a:moveTo>
                    <a:lnTo>
                      <a:pt x="149" y="642"/>
                    </a:lnTo>
                    <a:lnTo>
                      <a:pt x="149" y="618"/>
                    </a:lnTo>
                    <a:lnTo>
                      <a:pt x="129" y="607"/>
                    </a:lnTo>
                    <a:lnTo>
                      <a:pt x="108" y="618"/>
                    </a:lnTo>
                    <a:lnTo>
                      <a:pt x="108" y="642"/>
                    </a:lnTo>
                    <a:lnTo>
                      <a:pt x="129" y="654"/>
                    </a:lnTo>
                    <a:close/>
                    <a:moveTo>
                      <a:pt x="181" y="654"/>
                    </a:moveTo>
                    <a:lnTo>
                      <a:pt x="202" y="642"/>
                    </a:lnTo>
                    <a:lnTo>
                      <a:pt x="202" y="618"/>
                    </a:lnTo>
                    <a:lnTo>
                      <a:pt x="181" y="607"/>
                    </a:lnTo>
                    <a:lnTo>
                      <a:pt x="161" y="618"/>
                    </a:lnTo>
                    <a:lnTo>
                      <a:pt x="161" y="642"/>
                    </a:lnTo>
                    <a:lnTo>
                      <a:pt x="181" y="654"/>
                    </a:lnTo>
                    <a:close/>
                    <a:moveTo>
                      <a:pt x="237" y="654"/>
                    </a:moveTo>
                    <a:lnTo>
                      <a:pt x="257" y="642"/>
                    </a:lnTo>
                    <a:lnTo>
                      <a:pt x="257" y="618"/>
                    </a:lnTo>
                    <a:lnTo>
                      <a:pt x="237" y="607"/>
                    </a:lnTo>
                    <a:lnTo>
                      <a:pt x="217" y="618"/>
                    </a:lnTo>
                    <a:lnTo>
                      <a:pt x="217" y="642"/>
                    </a:lnTo>
                    <a:lnTo>
                      <a:pt x="237" y="654"/>
                    </a:lnTo>
                    <a:close/>
                    <a:moveTo>
                      <a:pt x="289" y="654"/>
                    </a:moveTo>
                    <a:lnTo>
                      <a:pt x="312" y="642"/>
                    </a:lnTo>
                    <a:lnTo>
                      <a:pt x="312" y="618"/>
                    </a:lnTo>
                    <a:lnTo>
                      <a:pt x="289" y="607"/>
                    </a:lnTo>
                    <a:lnTo>
                      <a:pt x="269" y="618"/>
                    </a:lnTo>
                    <a:lnTo>
                      <a:pt x="269" y="642"/>
                    </a:lnTo>
                    <a:lnTo>
                      <a:pt x="289" y="654"/>
                    </a:lnTo>
                    <a:close/>
                    <a:moveTo>
                      <a:pt x="20" y="279"/>
                    </a:moveTo>
                    <a:lnTo>
                      <a:pt x="39" y="269"/>
                    </a:lnTo>
                    <a:lnTo>
                      <a:pt x="39" y="246"/>
                    </a:lnTo>
                    <a:lnTo>
                      <a:pt x="20" y="233"/>
                    </a:lnTo>
                    <a:lnTo>
                      <a:pt x="0" y="246"/>
                    </a:lnTo>
                    <a:lnTo>
                      <a:pt x="0" y="269"/>
                    </a:lnTo>
                    <a:lnTo>
                      <a:pt x="20" y="279"/>
                    </a:lnTo>
                    <a:close/>
                    <a:moveTo>
                      <a:pt x="74" y="279"/>
                    </a:moveTo>
                    <a:lnTo>
                      <a:pt x="94" y="269"/>
                    </a:lnTo>
                    <a:lnTo>
                      <a:pt x="94" y="246"/>
                    </a:lnTo>
                    <a:lnTo>
                      <a:pt x="74" y="233"/>
                    </a:lnTo>
                    <a:lnTo>
                      <a:pt x="55" y="246"/>
                    </a:lnTo>
                    <a:lnTo>
                      <a:pt x="55" y="269"/>
                    </a:lnTo>
                    <a:lnTo>
                      <a:pt x="74" y="279"/>
                    </a:lnTo>
                    <a:close/>
                    <a:moveTo>
                      <a:pt x="129" y="279"/>
                    </a:moveTo>
                    <a:lnTo>
                      <a:pt x="149" y="269"/>
                    </a:lnTo>
                    <a:lnTo>
                      <a:pt x="149" y="246"/>
                    </a:lnTo>
                    <a:lnTo>
                      <a:pt x="129" y="233"/>
                    </a:lnTo>
                    <a:lnTo>
                      <a:pt x="108" y="246"/>
                    </a:lnTo>
                    <a:lnTo>
                      <a:pt x="108" y="269"/>
                    </a:lnTo>
                    <a:lnTo>
                      <a:pt x="129" y="279"/>
                    </a:lnTo>
                    <a:close/>
                    <a:moveTo>
                      <a:pt x="181" y="279"/>
                    </a:moveTo>
                    <a:lnTo>
                      <a:pt x="202" y="269"/>
                    </a:lnTo>
                    <a:lnTo>
                      <a:pt x="202" y="246"/>
                    </a:lnTo>
                    <a:lnTo>
                      <a:pt x="181" y="233"/>
                    </a:lnTo>
                    <a:lnTo>
                      <a:pt x="161" y="246"/>
                    </a:lnTo>
                    <a:lnTo>
                      <a:pt x="161" y="269"/>
                    </a:lnTo>
                    <a:lnTo>
                      <a:pt x="181" y="279"/>
                    </a:lnTo>
                    <a:close/>
                    <a:moveTo>
                      <a:pt x="237" y="279"/>
                    </a:moveTo>
                    <a:lnTo>
                      <a:pt x="257" y="269"/>
                    </a:lnTo>
                    <a:lnTo>
                      <a:pt x="257" y="246"/>
                    </a:lnTo>
                    <a:lnTo>
                      <a:pt x="237" y="233"/>
                    </a:lnTo>
                    <a:lnTo>
                      <a:pt x="217" y="246"/>
                    </a:lnTo>
                    <a:lnTo>
                      <a:pt x="217" y="269"/>
                    </a:lnTo>
                    <a:lnTo>
                      <a:pt x="237" y="279"/>
                    </a:lnTo>
                    <a:close/>
                    <a:moveTo>
                      <a:pt x="289" y="279"/>
                    </a:moveTo>
                    <a:lnTo>
                      <a:pt x="312" y="269"/>
                    </a:lnTo>
                    <a:lnTo>
                      <a:pt x="312" y="246"/>
                    </a:lnTo>
                    <a:lnTo>
                      <a:pt x="289" y="233"/>
                    </a:lnTo>
                    <a:lnTo>
                      <a:pt x="269" y="246"/>
                    </a:lnTo>
                    <a:lnTo>
                      <a:pt x="269" y="269"/>
                    </a:lnTo>
                    <a:lnTo>
                      <a:pt x="289" y="279"/>
                    </a:lnTo>
                    <a:close/>
                    <a:moveTo>
                      <a:pt x="47" y="233"/>
                    </a:moveTo>
                    <a:lnTo>
                      <a:pt x="67" y="222"/>
                    </a:lnTo>
                    <a:lnTo>
                      <a:pt x="67" y="199"/>
                    </a:lnTo>
                    <a:lnTo>
                      <a:pt x="47" y="187"/>
                    </a:lnTo>
                    <a:lnTo>
                      <a:pt x="26" y="199"/>
                    </a:lnTo>
                    <a:lnTo>
                      <a:pt x="26" y="222"/>
                    </a:lnTo>
                    <a:lnTo>
                      <a:pt x="47" y="233"/>
                    </a:lnTo>
                    <a:close/>
                    <a:moveTo>
                      <a:pt x="100" y="233"/>
                    </a:moveTo>
                    <a:lnTo>
                      <a:pt x="120" y="222"/>
                    </a:lnTo>
                    <a:lnTo>
                      <a:pt x="120" y="199"/>
                    </a:lnTo>
                    <a:lnTo>
                      <a:pt x="100" y="187"/>
                    </a:lnTo>
                    <a:lnTo>
                      <a:pt x="81" y="199"/>
                    </a:lnTo>
                    <a:lnTo>
                      <a:pt x="81" y="222"/>
                    </a:lnTo>
                    <a:lnTo>
                      <a:pt x="100" y="233"/>
                    </a:lnTo>
                    <a:close/>
                    <a:moveTo>
                      <a:pt x="155" y="233"/>
                    </a:moveTo>
                    <a:lnTo>
                      <a:pt x="175" y="222"/>
                    </a:lnTo>
                    <a:lnTo>
                      <a:pt x="175" y="199"/>
                    </a:lnTo>
                    <a:lnTo>
                      <a:pt x="155" y="187"/>
                    </a:lnTo>
                    <a:lnTo>
                      <a:pt x="135" y="199"/>
                    </a:lnTo>
                    <a:lnTo>
                      <a:pt x="135" y="222"/>
                    </a:lnTo>
                    <a:lnTo>
                      <a:pt x="155" y="233"/>
                    </a:lnTo>
                    <a:close/>
                    <a:moveTo>
                      <a:pt x="208" y="233"/>
                    </a:moveTo>
                    <a:lnTo>
                      <a:pt x="230" y="222"/>
                    </a:lnTo>
                    <a:lnTo>
                      <a:pt x="230" y="199"/>
                    </a:lnTo>
                    <a:lnTo>
                      <a:pt x="208" y="187"/>
                    </a:lnTo>
                    <a:lnTo>
                      <a:pt x="188" y="199"/>
                    </a:lnTo>
                    <a:lnTo>
                      <a:pt x="188" y="222"/>
                    </a:lnTo>
                    <a:lnTo>
                      <a:pt x="208" y="233"/>
                    </a:lnTo>
                    <a:close/>
                    <a:moveTo>
                      <a:pt x="263" y="233"/>
                    </a:moveTo>
                    <a:lnTo>
                      <a:pt x="283" y="222"/>
                    </a:lnTo>
                    <a:lnTo>
                      <a:pt x="283" y="199"/>
                    </a:lnTo>
                    <a:lnTo>
                      <a:pt x="263" y="187"/>
                    </a:lnTo>
                    <a:lnTo>
                      <a:pt x="243" y="199"/>
                    </a:lnTo>
                    <a:lnTo>
                      <a:pt x="243" y="222"/>
                    </a:lnTo>
                    <a:lnTo>
                      <a:pt x="263" y="233"/>
                    </a:lnTo>
                    <a:close/>
                    <a:moveTo>
                      <a:pt x="318" y="233"/>
                    </a:moveTo>
                    <a:lnTo>
                      <a:pt x="338" y="222"/>
                    </a:lnTo>
                    <a:lnTo>
                      <a:pt x="338" y="199"/>
                    </a:lnTo>
                    <a:lnTo>
                      <a:pt x="318" y="187"/>
                    </a:lnTo>
                    <a:lnTo>
                      <a:pt x="298" y="199"/>
                    </a:lnTo>
                    <a:lnTo>
                      <a:pt x="298" y="222"/>
                    </a:lnTo>
                    <a:lnTo>
                      <a:pt x="318" y="233"/>
                    </a:lnTo>
                    <a:close/>
                    <a:moveTo>
                      <a:pt x="20" y="187"/>
                    </a:moveTo>
                    <a:lnTo>
                      <a:pt x="39" y="175"/>
                    </a:lnTo>
                    <a:lnTo>
                      <a:pt x="39" y="153"/>
                    </a:lnTo>
                    <a:lnTo>
                      <a:pt x="20" y="140"/>
                    </a:lnTo>
                    <a:lnTo>
                      <a:pt x="0" y="153"/>
                    </a:lnTo>
                    <a:lnTo>
                      <a:pt x="0" y="175"/>
                    </a:lnTo>
                    <a:lnTo>
                      <a:pt x="20" y="187"/>
                    </a:lnTo>
                    <a:close/>
                    <a:moveTo>
                      <a:pt x="74" y="187"/>
                    </a:moveTo>
                    <a:lnTo>
                      <a:pt x="94" y="175"/>
                    </a:lnTo>
                    <a:lnTo>
                      <a:pt x="94" y="153"/>
                    </a:lnTo>
                    <a:lnTo>
                      <a:pt x="74" y="140"/>
                    </a:lnTo>
                    <a:lnTo>
                      <a:pt x="55" y="153"/>
                    </a:lnTo>
                    <a:lnTo>
                      <a:pt x="55" y="175"/>
                    </a:lnTo>
                    <a:lnTo>
                      <a:pt x="74" y="187"/>
                    </a:lnTo>
                    <a:close/>
                    <a:moveTo>
                      <a:pt x="129" y="187"/>
                    </a:moveTo>
                    <a:lnTo>
                      <a:pt x="149" y="175"/>
                    </a:lnTo>
                    <a:lnTo>
                      <a:pt x="149" y="153"/>
                    </a:lnTo>
                    <a:lnTo>
                      <a:pt x="129" y="140"/>
                    </a:lnTo>
                    <a:lnTo>
                      <a:pt x="108" y="153"/>
                    </a:lnTo>
                    <a:lnTo>
                      <a:pt x="108" y="175"/>
                    </a:lnTo>
                    <a:lnTo>
                      <a:pt x="129" y="187"/>
                    </a:lnTo>
                    <a:close/>
                    <a:moveTo>
                      <a:pt x="181" y="187"/>
                    </a:moveTo>
                    <a:lnTo>
                      <a:pt x="202" y="175"/>
                    </a:lnTo>
                    <a:lnTo>
                      <a:pt x="202" y="153"/>
                    </a:lnTo>
                    <a:lnTo>
                      <a:pt x="181" y="140"/>
                    </a:lnTo>
                    <a:lnTo>
                      <a:pt x="161" y="153"/>
                    </a:lnTo>
                    <a:lnTo>
                      <a:pt x="161" y="175"/>
                    </a:lnTo>
                    <a:lnTo>
                      <a:pt x="181" y="187"/>
                    </a:lnTo>
                    <a:close/>
                    <a:moveTo>
                      <a:pt x="237" y="187"/>
                    </a:moveTo>
                    <a:lnTo>
                      <a:pt x="257" y="175"/>
                    </a:lnTo>
                    <a:lnTo>
                      <a:pt x="257" y="153"/>
                    </a:lnTo>
                    <a:lnTo>
                      <a:pt x="237" y="140"/>
                    </a:lnTo>
                    <a:lnTo>
                      <a:pt x="217" y="153"/>
                    </a:lnTo>
                    <a:lnTo>
                      <a:pt x="217" y="175"/>
                    </a:lnTo>
                    <a:lnTo>
                      <a:pt x="237" y="187"/>
                    </a:lnTo>
                    <a:close/>
                    <a:moveTo>
                      <a:pt x="289" y="187"/>
                    </a:moveTo>
                    <a:lnTo>
                      <a:pt x="312" y="175"/>
                    </a:lnTo>
                    <a:lnTo>
                      <a:pt x="312" y="153"/>
                    </a:lnTo>
                    <a:lnTo>
                      <a:pt x="289" y="140"/>
                    </a:lnTo>
                    <a:lnTo>
                      <a:pt x="269" y="153"/>
                    </a:lnTo>
                    <a:lnTo>
                      <a:pt x="269" y="175"/>
                    </a:lnTo>
                    <a:lnTo>
                      <a:pt x="289" y="187"/>
                    </a:lnTo>
                    <a:close/>
                    <a:moveTo>
                      <a:pt x="47" y="140"/>
                    </a:moveTo>
                    <a:lnTo>
                      <a:pt x="67" y="129"/>
                    </a:lnTo>
                    <a:lnTo>
                      <a:pt x="67" y="105"/>
                    </a:lnTo>
                    <a:lnTo>
                      <a:pt x="47" y="93"/>
                    </a:lnTo>
                    <a:lnTo>
                      <a:pt x="26" y="105"/>
                    </a:lnTo>
                    <a:lnTo>
                      <a:pt x="26" y="129"/>
                    </a:lnTo>
                    <a:lnTo>
                      <a:pt x="47" y="140"/>
                    </a:lnTo>
                    <a:close/>
                    <a:moveTo>
                      <a:pt x="100" y="140"/>
                    </a:moveTo>
                    <a:lnTo>
                      <a:pt x="120" y="129"/>
                    </a:lnTo>
                    <a:lnTo>
                      <a:pt x="120" y="105"/>
                    </a:lnTo>
                    <a:lnTo>
                      <a:pt x="100" y="93"/>
                    </a:lnTo>
                    <a:lnTo>
                      <a:pt x="81" y="105"/>
                    </a:lnTo>
                    <a:lnTo>
                      <a:pt x="81" y="129"/>
                    </a:lnTo>
                    <a:lnTo>
                      <a:pt x="100" y="140"/>
                    </a:lnTo>
                    <a:close/>
                    <a:moveTo>
                      <a:pt x="155" y="140"/>
                    </a:moveTo>
                    <a:lnTo>
                      <a:pt x="175" y="129"/>
                    </a:lnTo>
                    <a:lnTo>
                      <a:pt x="175" y="105"/>
                    </a:lnTo>
                    <a:lnTo>
                      <a:pt x="155" y="93"/>
                    </a:lnTo>
                    <a:lnTo>
                      <a:pt x="135" y="105"/>
                    </a:lnTo>
                    <a:lnTo>
                      <a:pt x="135" y="129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30" y="129"/>
                    </a:lnTo>
                    <a:lnTo>
                      <a:pt x="230" y="105"/>
                    </a:lnTo>
                    <a:lnTo>
                      <a:pt x="208" y="93"/>
                    </a:lnTo>
                    <a:lnTo>
                      <a:pt x="188" y="105"/>
                    </a:lnTo>
                    <a:lnTo>
                      <a:pt x="188" y="129"/>
                    </a:lnTo>
                    <a:lnTo>
                      <a:pt x="208" y="140"/>
                    </a:lnTo>
                    <a:close/>
                    <a:moveTo>
                      <a:pt x="263" y="140"/>
                    </a:moveTo>
                    <a:lnTo>
                      <a:pt x="283" y="129"/>
                    </a:lnTo>
                    <a:lnTo>
                      <a:pt x="283" y="105"/>
                    </a:lnTo>
                    <a:lnTo>
                      <a:pt x="263" y="93"/>
                    </a:lnTo>
                    <a:lnTo>
                      <a:pt x="243" y="105"/>
                    </a:lnTo>
                    <a:lnTo>
                      <a:pt x="243" y="129"/>
                    </a:lnTo>
                    <a:lnTo>
                      <a:pt x="263" y="140"/>
                    </a:lnTo>
                    <a:close/>
                    <a:moveTo>
                      <a:pt x="318" y="140"/>
                    </a:moveTo>
                    <a:lnTo>
                      <a:pt x="338" y="129"/>
                    </a:lnTo>
                    <a:lnTo>
                      <a:pt x="338" y="105"/>
                    </a:lnTo>
                    <a:lnTo>
                      <a:pt x="318" y="93"/>
                    </a:lnTo>
                    <a:lnTo>
                      <a:pt x="298" y="105"/>
                    </a:lnTo>
                    <a:lnTo>
                      <a:pt x="298" y="129"/>
                    </a:lnTo>
                    <a:lnTo>
                      <a:pt x="318" y="140"/>
                    </a:lnTo>
                    <a:close/>
                    <a:moveTo>
                      <a:pt x="20" y="93"/>
                    </a:moveTo>
                    <a:lnTo>
                      <a:pt x="39" y="82"/>
                    </a:lnTo>
                    <a:lnTo>
                      <a:pt x="39" y="58"/>
                    </a:lnTo>
                    <a:lnTo>
                      <a:pt x="20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0" y="93"/>
                    </a:lnTo>
                    <a:close/>
                    <a:moveTo>
                      <a:pt x="74" y="93"/>
                    </a:moveTo>
                    <a:lnTo>
                      <a:pt x="94" y="82"/>
                    </a:lnTo>
                    <a:lnTo>
                      <a:pt x="94" y="58"/>
                    </a:lnTo>
                    <a:lnTo>
                      <a:pt x="74" y="47"/>
                    </a:lnTo>
                    <a:lnTo>
                      <a:pt x="55" y="58"/>
                    </a:lnTo>
                    <a:lnTo>
                      <a:pt x="55" y="82"/>
                    </a:lnTo>
                    <a:lnTo>
                      <a:pt x="74" y="93"/>
                    </a:lnTo>
                    <a:close/>
                    <a:moveTo>
                      <a:pt x="129" y="93"/>
                    </a:moveTo>
                    <a:lnTo>
                      <a:pt x="149" y="82"/>
                    </a:lnTo>
                    <a:lnTo>
                      <a:pt x="149" y="58"/>
                    </a:lnTo>
                    <a:lnTo>
                      <a:pt x="129" y="47"/>
                    </a:lnTo>
                    <a:lnTo>
                      <a:pt x="108" y="58"/>
                    </a:lnTo>
                    <a:lnTo>
                      <a:pt x="108" y="82"/>
                    </a:lnTo>
                    <a:lnTo>
                      <a:pt x="129" y="93"/>
                    </a:lnTo>
                    <a:close/>
                    <a:moveTo>
                      <a:pt x="181" y="93"/>
                    </a:moveTo>
                    <a:lnTo>
                      <a:pt x="202" y="82"/>
                    </a:lnTo>
                    <a:lnTo>
                      <a:pt x="202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3"/>
                    </a:lnTo>
                    <a:close/>
                    <a:moveTo>
                      <a:pt x="237" y="93"/>
                    </a:moveTo>
                    <a:lnTo>
                      <a:pt x="257" y="82"/>
                    </a:lnTo>
                    <a:lnTo>
                      <a:pt x="257" y="58"/>
                    </a:lnTo>
                    <a:lnTo>
                      <a:pt x="237" y="47"/>
                    </a:lnTo>
                    <a:lnTo>
                      <a:pt x="217" y="58"/>
                    </a:lnTo>
                    <a:lnTo>
                      <a:pt x="217" y="82"/>
                    </a:lnTo>
                    <a:lnTo>
                      <a:pt x="237" y="93"/>
                    </a:lnTo>
                    <a:close/>
                    <a:moveTo>
                      <a:pt x="289" y="93"/>
                    </a:moveTo>
                    <a:lnTo>
                      <a:pt x="312" y="82"/>
                    </a:lnTo>
                    <a:lnTo>
                      <a:pt x="312" y="58"/>
                    </a:lnTo>
                    <a:lnTo>
                      <a:pt x="289" y="47"/>
                    </a:lnTo>
                    <a:lnTo>
                      <a:pt x="269" y="58"/>
                    </a:lnTo>
                    <a:lnTo>
                      <a:pt x="269" y="82"/>
                    </a:lnTo>
                    <a:lnTo>
                      <a:pt x="289" y="93"/>
                    </a:lnTo>
                    <a:close/>
                    <a:moveTo>
                      <a:pt x="47" y="47"/>
                    </a:moveTo>
                    <a:lnTo>
                      <a:pt x="67" y="35"/>
                    </a:lnTo>
                    <a:lnTo>
                      <a:pt x="67" y="11"/>
                    </a:lnTo>
                    <a:lnTo>
                      <a:pt x="47" y="0"/>
                    </a:lnTo>
                    <a:lnTo>
                      <a:pt x="26" y="11"/>
                    </a:lnTo>
                    <a:lnTo>
                      <a:pt x="26" y="35"/>
                    </a:lnTo>
                    <a:lnTo>
                      <a:pt x="47" y="47"/>
                    </a:lnTo>
                    <a:close/>
                    <a:moveTo>
                      <a:pt x="100" y="47"/>
                    </a:moveTo>
                    <a:lnTo>
                      <a:pt x="120" y="35"/>
                    </a:lnTo>
                    <a:lnTo>
                      <a:pt x="120" y="11"/>
                    </a:lnTo>
                    <a:lnTo>
                      <a:pt x="100" y="0"/>
                    </a:lnTo>
                    <a:lnTo>
                      <a:pt x="81" y="11"/>
                    </a:lnTo>
                    <a:lnTo>
                      <a:pt x="81" y="35"/>
                    </a:lnTo>
                    <a:lnTo>
                      <a:pt x="100" y="47"/>
                    </a:lnTo>
                    <a:close/>
                    <a:moveTo>
                      <a:pt x="155" y="47"/>
                    </a:moveTo>
                    <a:lnTo>
                      <a:pt x="175" y="35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5" y="11"/>
                    </a:lnTo>
                    <a:lnTo>
                      <a:pt x="135" y="35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30" y="35"/>
                    </a:lnTo>
                    <a:lnTo>
                      <a:pt x="230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5"/>
                    </a:lnTo>
                    <a:lnTo>
                      <a:pt x="208" y="47"/>
                    </a:lnTo>
                    <a:close/>
                    <a:moveTo>
                      <a:pt x="263" y="47"/>
                    </a:moveTo>
                    <a:lnTo>
                      <a:pt x="283" y="35"/>
                    </a:lnTo>
                    <a:lnTo>
                      <a:pt x="283" y="11"/>
                    </a:lnTo>
                    <a:lnTo>
                      <a:pt x="263" y="0"/>
                    </a:lnTo>
                    <a:lnTo>
                      <a:pt x="243" y="11"/>
                    </a:lnTo>
                    <a:lnTo>
                      <a:pt x="243" y="35"/>
                    </a:lnTo>
                    <a:lnTo>
                      <a:pt x="263" y="47"/>
                    </a:lnTo>
                    <a:close/>
                    <a:moveTo>
                      <a:pt x="47" y="422"/>
                    </a:moveTo>
                    <a:lnTo>
                      <a:pt x="67" y="408"/>
                    </a:lnTo>
                    <a:lnTo>
                      <a:pt x="67" y="386"/>
                    </a:lnTo>
                    <a:lnTo>
                      <a:pt x="47" y="375"/>
                    </a:lnTo>
                    <a:lnTo>
                      <a:pt x="26" y="386"/>
                    </a:lnTo>
                    <a:lnTo>
                      <a:pt x="26" y="408"/>
                    </a:lnTo>
                    <a:lnTo>
                      <a:pt x="47" y="422"/>
                    </a:lnTo>
                    <a:close/>
                    <a:moveTo>
                      <a:pt x="100" y="422"/>
                    </a:moveTo>
                    <a:lnTo>
                      <a:pt x="120" y="408"/>
                    </a:lnTo>
                    <a:lnTo>
                      <a:pt x="120" y="386"/>
                    </a:lnTo>
                    <a:lnTo>
                      <a:pt x="100" y="375"/>
                    </a:lnTo>
                    <a:lnTo>
                      <a:pt x="81" y="386"/>
                    </a:lnTo>
                    <a:lnTo>
                      <a:pt x="81" y="408"/>
                    </a:lnTo>
                    <a:lnTo>
                      <a:pt x="100" y="422"/>
                    </a:lnTo>
                    <a:close/>
                    <a:moveTo>
                      <a:pt x="155" y="422"/>
                    </a:moveTo>
                    <a:lnTo>
                      <a:pt x="175" y="408"/>
                    </a:lnTo>
                    <a:lnTo>
                      <a:pt x="175" y="386"/>
                    </a:lnTo>
                    <a:lnTo>
                      <a:pt x="155" y="375"/>
                    </a:lnTo>
                    <a:lnTo>
                      <a:pt x="135" y="386"/>
                    </a:lnTo>
                    <a:lnTo>
                      <a:pt x="135" y="408"/>
                    </a:lnTo>
                    <a:lnTo>
                      <a:pt x="155" y="422"/>
                    </a:lnTo>
                    <a:close/>
                    <a:moveTo>
                      <a:pt x="208" y="422"/>
                    </a:moveTo>
                    <a:lnTo>
                      <a:pt x="230" y="408"/>
                    </a:lnTo>
                    <a:lnTo>
                      <a:pt x="230" y="386"/>
                    </a:lnTo>
                    <a:lnTo>
                      <a:pt x="208" y="375"/>
                    </a:lnTo>
                    <a:lnTo>
                      <a:pt x="188" y="386"/>
                    </a:lnTo>
                    <a:lnTo>
                      <a:pt x="188" y="408"/>
                    </a:lnTo>
                    <a:lnTo>
                      <a:pt x="208" y="422"/>
                    </a:lnTo>
                    <a:close/>
                    <a:moveTo>
                      <a:pt x="263" y="422"/>
                    </a:moveTo>
                    <a:lnTo>
                      <a:pt x="283" y="408"/>
                    </a:lnTo>
                    <a:lnTo>
                      <a:pt x="283" y="386"/>
                    </a:lnTo>
                    <a:lnTo>
                      <a:pt x="263" y="375"/>
                    </a:lnTo>
                    <a:lnTo>
                      <a:pt x="243" y="386"/>
                    </a:lnTo>
                    <a:lnTo>
                      <a:pt x="243" y="408"/>
                    </a:lnTo>
                    <a:lnTo>
                      <a:pt x="263" y="422"/>
                    </a:lnTo>
                    <a:close/>
                    <a:moveTo>
                      <a:pt x="318" y="422"/>
                    </a:moveTo>
                    <a:lnTo>
                      <a:pt x="338" y="408"/>
                    </a:lnTo>
                    <a:lnTo>
                      <a:pt x="338" y="386"/>
                    </a:lnTo>
                    <a:lnTo>
                      <a:pt x="318" y="375"/>
                    </a:lnTo>
                    <a:lnTo>
                      <a:pt x="298" y="386"/>
                    </a:lnTo>
                    <a:lnTo>
                      <a:pt x="298" y="408"/>
                    </a:lnTo>
                    <a:lnTo>
                      <a:pt x="318" y="422"/>
                    </a:lnTo>
                    <a:close/>
                    <a:moveTo>
                      <a:pt x="20" y="375"/>
                    </a:moveTo>
                    <a:lnTo>
                      <a:pt x="39" y="361"/>
                    </a:lnTo>
                    <a:lnTo>
                      <a:pt x="39" y="339"/>
                    </a:lnTo>
                    <a:lnTo>
                      <a:pt x="20" y="328"/>
                    </a:lnTo>
                    <a:lnTo>
                      <a:pt x="0" y="339"/>
                    </a:lnTo>
                    <a:lnTo>
                      <a:pt x="0" y="361"/>
                    </a:lnTo>
                    <a:lnTo>
                      <a:pt x="20" y="375"/>
                    </a:lnTo>
                    <a:close/>
                    <a:moveTo>
                      <a:pt x="74" y="375"/>
                    </a:moveTo>
                    <a:lnTo>
                      <a:pt x="94" y="361"/>
                    </a:lnTo>
                    <a:lnTo>
                      <a:pt x="94" y="339"/>
                    </a:lnTo>
                    <a:lnTo>
                      <a:pt x="74" y="328"/>
                    </a:lnTo>
                    <a:lnTo>
                      <a:pt x="55" y="339"/>
                    </a:lnTo>
                    <a:lnTo>
                      <a:pt x="55" y="361"/>
                    </a:lnTo>
                    <a:lnTo>
                      <a:pt x="74" y="375"/>
                    </a:lnTo>
                    <a:close/>
                    <a:moveTo>
                      <a:pt x="129" y="375"/>
                    </a:moveTo>
                    <a:lnTo>
                      <a:pt x="149" y="361"/>
                    </a:lnTo>
                    <a:lnTo>
                      <a:pt x="149" y="339"/>
                    </a:lnTo>
                    <a:lnTo>
                      <a:pt x="129" y="328"/>
                    </a:lnTo>
                    <a:lnTo>
                      <a:pt x="108" y="339"/>
                    </a:lnTo>
                    <a:lnTo>
                      <a:pt x="108" y="361"/>
                    </a:lnTo>
                    <a:lnTo>
                      <a:pt x="129" y="375"/>
                    </a:lnTo>
                    <a:close/>
                    <a:moveTo>
                      <a:pt x="181" y="375"/>
                    </a:moveTo>
                    <a:lnTo>
                      <a:pt x="202" y="361"/>
                    </a:lnTo>
                    <a:lnTo>
                      <a:pt x="202" y="339"/>
                    </a:lnTo>
                    <a:lnTo>
                      <a:pt x="181" y="328"/>
                    </a:lnTo>
                    <a:lnTo>
                      <a:pt x="161" y="339"/>
                    </a:lnTo>
                    <a:lnTo>
                      <a:pt x="161" y="361"/>
                    </a:lnTo>
                    <a:lnTo>
                      <a:pt x="181" y="375"/>
                    </a:lnTo>
                    <a:close/>
                    <a:moveTo>
                      <a:pt x="237" y="375"/>
                    </a:moveTo>
                    <a:lnTo>
                      <a:pt x="257" y="361"/>
                    </a:lnTo>
                    <a:lnTo>
                      <a:pt x="257" y="339"/>
                    </a:lnTo>
                    <a:lnTo>
                      <a:pt x="237" y="328"/>
                    </a:lnTo>
                    <a:lnTo>
                      <a:pt x="217" y="339"/>
                    </a:lnTo>
                    <a:lnTo>
                      <a:pt x="217" y="361"/>
                    </a:lnTo>
                    <a:lnTo>
                      <a:pt x="237" y="375"/>
                    </a:lnTo>
                    <a:close/>
                    <a:moveTo>
                      <a:pt x="289" y="375"/>
                    </a:moveTo>
                    <a:lnTo>
                      <a:pt x="312" y="361"/>
                    </a:lnTo>
                    <a:lnTo>
                      <a:pt x="312" y="339"/>
                    </a:lnTo>
                    <a:lnTo>
                      <a:pt x="289" y="328"/>
                    </a:lnTo>
                    <a:lnTo>
                      <a:pt x="269" y="339"/>
                    </a:lnTo>
                    <a:lnTo>
                      <a:pt x="269" y="361"/>
                    </a:lnTo>
                    <a:lnTo>
                      <a:pt x="289" y="375"/>
                    </a:lnTo>
                    <a:close/>
                    <a:moveTo>
                      <a:pt x="47" y="326"/>
                    </a:moveTo>
                    <a:lnTo>
                      <a:pt x="67" y="314"/>
                    </a:lnTo>
                    <a:lnTo>
                      <a:pt x="67" y="293"/>
                    </a:lnTo>
                    <a:lnTo>
                      <a:pt x="47" y="281"/>
                    </a:lnTo>
                    <a:lnTo>
                      <a:pt x="26" y="293"/>
                    </a:lnTo>
                    <a:lnTo>
                      <a:pt x="26" y="314"/>
                    </a:lnTo>
                    <a:lnTo>
                      <a:pt x="47" y="326"/>
                    </a:lnTo>
                    <a:close/>
                    <a:moveTo>
                      <a:pt x="100" y="326"/>
                    </a:moveTo>
                    <a:lnTo>
                      <a:pt x="120" y="314"/>
                    </a:lnTo>
                    <a:lnTo>
                      <a:pt x="120" y="293"/>
                    </a:lnTo>
                    <a:lnTo>
                      <a:pt x="100" y="281"/>
                    </a:lnTo>
                    <a:lnTo>
                      <a:pt x="81" y="293"/>
                    </a:lnTo>
                    <a:lnTo>
                      <a:pt x="81" y="314"/>
                    </a:lnTo>
                    <a:lnTo>
                      <a:pt x="100" y="326"/>
                    </a:lnTo>
                    <a:close/>
                    <a:moveTo>
                      <a:pt x="155" y="326"/>
                    </a:moveTo>
                    <a:lnTo>
                      <a:pt x="175" y="314"/>
                    </a:lnTo>
                    <a:lnTo>
                      <a:pt x="175" y="293"/>
                    </a:lnTo>
                    <a:lnTo>
                      <a:pt x="155" y="281"/>
                    </a:lnTo>
                    <a:lnTo>
                      <a:pt x="135" y="293"/>
                    </a:lnTo>
                    <a:lnTo>
                      <a:pt x="135" y="314"/>
                    </a:lnTo>
                    <a:lnTo>
                      <a:pt x="155" y="326"/>
                    </a:lnTo>
                    <a:close/>
                    <a:moveTo>
                      <a:pt x="208" y="326"/>
                    </a:moveTo>
                    <a:lnTo>
                      <a:pt x="230" y="314"/>
                    </a:lnTo>
                    <a:lnTo>
                      <a:pt x="230" y="293"/>
                    </a:lnTo>
                    <a:lnTo>
                      <a:pt x="208" y="281"/>
                    </a:lnTo>
                    <a:lnTo>
                      <a:pt x="188" y="293"/>
                    </a:lnTo>
                    <a:lnTo>
                      <a:pt x="188" y="314"/>
                    </a:lnTo>
                    <a:lnTo>
                      <a:pt x="208" y="326"/>
                    </a:lnTo>
                    <a:close/>
                    <a:moveTo>
                      <a:pt x="263" y="326"/>
                    </a:moveTo>
                    <a:lnTo>
                      <a:pt x="283" y="314"/>
                    </a:lnTo>
                    <a:lnTo>
                      <a:pt x="283" y="293"/>
                    </a:lnTo>
                    <a:lnTo>
                      <a:pt x="263" y="281"/>
                    </a:lnTo>
                    <a:lnTo>
                      <a:pt x="243" y="293"/>
                    </a:lnTo>
                    <a:lnTo>
                      <a:pt x="243" y="314"/>
                    </a:lnTo>
                    <a:lnTo>
                      <a:pt x="263" y="326"/>
                    </a:lnTo>
                    <a:close/>
                    <a:moveTo>
                      <a:pt x="318" y="326"/>
                    </a:moveTo>
                    <a:lnTo>
                      <a:pt x="338" y="314"/>
                    </a:lnTo>
                    <a:lnTo>
                      <a:pt x="338" y="293"/>
                    </a:lnTo>
                    <a:lnTo>
                      <a:pt x="318" y="281"/>
                    </a:lnTo>
                    <a:lnTo>
                      <a:pt x="298" y="293"/>
                    </a:lnTo>
                    <a:lnTo>
                      <a:pt x="298" y="314"/>
                    </a:lnTo>
                    <a:lnTo>
                      <a:pt x="318" y="326"/>
                    </a:lnTo>
                    <a:close/>
                    <a:moveTo>
                      <a:pt x="371" y="514"/>
                    </a:moveTo>
                    <a:lnTo>
                      <a:pt x="392" y="504"/>
                    </a:lnTo>
                    <a:lnTo>
                      <a:pt x="392" y="478"/>
                    </a:lnTo>
                    <a:lnTo>
                      <a:pt x="371" y="468"/>
                    </a:lnTo>
                    <a:lnTo>
                      <a:pt x="351" y="478"/>
                    </a:lnTo>
                    <a:lnTo>
                      <a:pt x="351" y="504"/>
                    </a:lnTo>
                    <a:lnTo>
                      <a:pt x="371" y="514"/>
                    </a:lnTo>
                    <a:close/>
                    <a:moveTo>
                      <a:pt x="426" y="514"/>
                    </a:moveTo>
                    <a:lnTo>
                      <a:pt x="445" y="504"/>
                    </a:lnTo>
                    <a:lnTo>
                      <a:pt x="445" y="478"/>
                    </a:lnTo>
                    <a:lnTo>
                      <a:pt x="426" y="468"/>
                    </a:lnTo>
                    <a:lnTo>
                      <a:pt x="406" y="478"/>
                    </a:lnTo>
                    <a:lnTo>
                      <a:pt x="406" y="504"/>
                    </a:lnTo>
                    <a:lnTo>
                      <a:pt x="426" y="514"/>
                    </a:lnTo>
                    <a:close/>
                    <a:moveTo>
                      <a:pt x="480" y="514"/>
                    </a:moveTo>
                    <a:lnTo>
                      <a:pt x="500" y="504"/>
                    </a:lnTo>
                    <a:lnTo>
                      <a:pt x="500" y="478"/>
                    </a:lnTo>
                    <a:lnTo>
                      <a:pt x="480" y="468"/>
                    </a:lnTo>
                    <a:lnTo>
                      <a:pt x="458" y="478"/>
                    </a:lnTo>
                    <a:lnTo>
                      <a:pt x="458" y="504"/>
                    </a:lnTo>
                    <a:lnTo>
                      <a:pt x="480" y="514"/>
                    </a:lnTo>
                    <a:close/>
                    <a:moveTo>
                      <a:pt x="532" y="514"/>
                    </a:moveTo>
                    <a:lnTo>
                      <a:pt x="552" y="504"/>
                    </a:lnTo>
                    <a:lnTo>
                      <a:pt x="552" y="478"/>
                    </a:lnTo>
                    <a:lnTo>
                      <a:pt x="532" y="468"/>
                    </a:lnTo>
                    <a:lnTo>
                      <a:pt x="514" y="478"/>
                    </a:lnTo>
                    <a:lnTo>
                      <a:pt x="514" y="504"/>
                    </a:lnTo>
                    <a:lnTo>
                      <a:pt x="532" y="514"/>
                    </a:lnTo>
                    <a:close/>
                    <a:moveTo>
                      <a:pt x="586" y="514"/>
                    </a:moveTo>
                    <a:lnTo>
                      <a:pt x="608" y="504"/>
                    </a:lnTo>
                    <a:lnTo>
                      <a:pt x="608" y="478"/>
                    </a:lnTo>
                    <a:lnTo>
                      <a:pt x="586" y="468"/>
                    </a:lnTo>
                    <a:lnTo>
                      <a:pt x="566" y="478"/>
                    </a:lnTo>
                    <a:lnTo>
                      <a:pt x="566" y="504"/>
                    </a:lnTo>
                    <a:lnTo>
                      <a:pt x="586" y="514"/>
                    </a:lnTo>
                    <a:close/>
                    <a:moveTo>
                      <a:pt x="452" y="468"/>
                    </a:moveTo>
                    <a:lnTo>
                      <a:pt x="473" y="454"/>
                    </a:lnTo>
                    <a:lnTo>
                      <a:pt x="473" y="432"/>
                    </a:lnTo>
                    <a:lnTo>
                      <a:pt x="452" y="422"/>
                    </a:lnTo>
                    <a:lnTo>
                      <a:pt x="432" y="432"/>
                    </a:lnTo>
                    <a:lnTo>
                      <a:pt x="432" y="454"/>
                    </a:lnTo>
                    <a:lnTo>
                      <a:pt x="452" y="468"/>
                    </a:lnTo>
                    <a:close/>
                    <a:moveTo>
                      <a:pt x="505" y="468"/>
                    </a:moveTo>
                    <a:lnTo>
                      <a:pt x="526" y="454"/>
                    </a:lnTo>
                    <a:lnTo>
                      <a:pt x="526" y="432"/>
                    </a:lnTo>
                    <a:lnTo>
                      <a:pt x="505" y="422"/>
                    </a:lnTo>
                    <a:lnTo>
                      <a:pt x="485" y="432"/>
                    </a:lnTo>
                    <a:lnTo>
                      <a:pt x="485" y="454"/>
                    </a:lnTo>
                    <a:lnTo>
                      <a:pt x="505" y="468"/>
                    </a:lnTo>
                    <a:close/>
                    <a:moveTo>
                      <a:pt x="560" y="468"/>
                    </a:moveTo>
                    <a:lnTo>
                      <a:pt x="579" y="454"/>
                    </a:lnTo>
                    <a:lnTo>
                      <a:pt x="579" y="432"/>
                    </a:lnTo>
                    <a:lnTo>
                      <a:pt x="560" y="422"/>
                    </a:lnTo>
                    <a:lnTo>
                      <a:pt x="540" y="432"/>
                    </a:lnTo>
                    <a:lnTo>
                      <a:pt x="540" y="454"/>
                    </a:lnTo>
                    <a:lnTo>
                      <a:pt x="560" y="468"/>
                    </a:lnTo>
                    <a:close/>
                    <a:moveTo>
                      <a:pt x="344" y="468"/>
                    </a:moveTo>
                    <a:lnTo>
                      <a:pt x="364" y="454"/>
                    </a:lnTo>
                    <a:lnTo>
                      <a:pt x="364" y="432"/>
                    </a:lnTo>
                    <a:lnTo>
                      <a:pt x="344" y="422"/>
                    </a:lnTo>
                    <a:lnTo>
                      <a:pt x="324" y="432"/>
                    </a:lnTo>
                    <a:lnTo>
                      <a:pt x="324" y="454"/>
                    </a:lnTo>
                    <a:lnTo>
                      <a:pt x="344" y="468"/>
                    </a:lnTo>
                    <a:close/>
                    <a:moveTo>
                      <a:pt x="400" y="468"/>
                    </a:moveTo>
                    <a:lnTo>
                      <a:pt x="418" y="454"/>
                    </a:lnTo>
                    <a:lnTo>
                      <a:pt x="418" y="432"/>
                    </a:lnTo>
                    <a:lnTo>
                      <a:pt x="400" y="422"/>
                    </a:lnTo>
                    <a:lnTo>
                      <a:pt x="379" y="432"/>
                    </a:lnTo>
                    <a:lnTo>
                      <a:pt x="379" y="454"/>
                    </a:lnTo>
                    <a:lnTo>
                      <a:pt x="400" y="468"/>
                    </a:lnTo>
                    <a:close/>
                    <a:moveTo>
                      <a:pt x="560" y="279"/>
                    </a:moveTo>
                    <a:lnTo>
                      <a:pt x="579" y="269"/>
                    </a:lnTo>
                    <a:lnTo>
                      <a:pt x="579" y="246"/>
                    </a:lnTo>
                    <a:lnTo>
                      <a:pt x="560" y="233"/>
                    </a:lnTo>
                    <a:lnTo>
                      <a:pt x="540" y="246"/>
                    </a:lnTo>
                    <a:lnTo>
                      <a:pt x="540" y="269"/>
                    </a:lnTo>
                    <a:lnTo>
                      <a:pt x="560" y="279"/>
                    </a:lnTo>
                    <a:close/>
                    <a:moveTo>
                      <a:pt x="344" y="279"/>
                    </a:moveTo>
                    <a:lnTo>
                      <a:pt x="364" y="269"/>
                    </a:lnTo>
                    <a:lnTo>
                      <a:pt x="364" y="246"/>
                    </a:lnTo>
                    <a:lnTo>
                      <a:pt x="344" y="233"/>
                    </a:lnTo>
                    <a:lnTo>
                      <a:pt x="324" y="246"/>
                    </a:lnTo>
                    <a:lnTo>
                      <a:pt x="324" y="269"/>
                    </a:lnTo>
                    <a:lnTo>
                      <a:pt x="344" y="279"/>
                    </a:lnTo>
                    <a:close/>
                    <a:moveTo>
                      <a:pt x="400" y="279"/>
                    </a:moveTo>
                    <a:lnTo>
                      <a:pt x="418" y="269"/>
                    </a:lnTo>
                    <a:lnTo>
                      <a:pt x="418" y="246"/>
                    </a:lnTo>
                    <a:lnTo>
                      <a:pt x="400" y="233"/>
                    </a:lnTo>
                    <a:lnTo>
                      <a:pt x="379" y="246"/>
                    </a:lnTo>
                    <a:lnTo>
                      <a:pt x="379" y="269"/>
                    </a:lnTo>
                    <a:lnTo>
                      <a:pt x="400" y="279"/>
                    </a:lnTo>
                    <a:close/>
                    <a:moveTo>
                      <a:pt x="452" y="279"/>
                    </a:moveTo>
                    <a:lnTo>
                      <a:pt x="473" y="269"/>
                    </a:lnTo>
                    <a:lnTo>
                      <a:pt x="473" y="246"/>
                    </a:lnTo>
                    <a:lnTo>
                      <a:pt x="452" y="233"/>
                    </a:lnTo>
                    <a:lnTo>
                      <a:pt x="432" y="246"/>
                    </a:lnTo>
                    <a:lnTo>
                      <a:pt x="432" y="269"/>
                    </a:lnTo>
                    <a:lnTo>
                      <a:pt x="452" y="279"/>
                    </a:lnTo>
                    <a:close/>
                    <a:moveTo>
                      <a:pt x="505" y="279"/>
                    </a:moveTo>
                    <a:lnTo>
                      <a:pt x="526" y="269"/>
                    </a:lnTo>
                    <a:lnTo>
                      <a:pt x="526" y="246"/>
                    </a:lnTo>
                    <a:lnTo>
                      <a:pt x="505" y="233"/>
                    </a:lnTo>
                    <a:lnTo>
                      <a:pt x="485" y="246"/>
                    </a:lnTo>
                    <a:lnTo>
                      <a:pt x="485" y="269"/>
                    </a:lnTo>
                    <a:lnTo>
                      <a:pt x="505" y="279"/>
                    </a:lnTo>
                    <a:close/>
                    <a:moveTo>
                      <a:pt x="371" y="233"/>
                    </a:moveTo>
                    <a:lnTo>
                      <a:pt x="392" y="222"/>
                    </a:lnTo>
                    <a:lnTo>
                      <a:pt x="392" y="199"/>
                    </a:lnTo>
                    <a:lnTo>
                      <a:pt x="371" y="187"/>
                    </a:lnTo>
                    <a:lnTo>
                      <a:pt x="351" y="199"/>
                    </a:lnTo>
                    <a:lnTo>
                      <a:pt x="351" y="222"/>
                    </a:lnTo>
                    <a:lnTo>
                      <a:pt x="371" y="233"/>
                    </a:lnTo>
                    <a:close/>
                    <a:moveTo>
                      <a:pt x="426" y="233"/>
                    </a:moveTo>
                    <a:lnTo>
                      <a:pt x="445" y="222"/>
                    </a:lnTo>
                    <a:lnTo>
                      <a:pt x="445" y="199"/>
                    </a:lnTo>
                    <a:lnTo>
                      <a:pt x="426" y="187"/>
                    </a:lnTo>
                    <a:lnTo>
                      <a:pt x="406" y="199"/>
                    </a:lnTo>
                    <a:lnTo>
                      <a:pt x="406" y="222"/>
                    </a:lnTo>
                    <a:lnTo>
                      <a:pt x="426" y="233"/>
                    </a:lnTo>
                    <a:close/>
                    <a:moveTo>
                      <a:pt x="480" y="233"/>
                    </a:moveTo>
                    <a:lnTo>
                      <a:pt x="500" y="222"/>
                    </a:lnTo>
                    <a:lnTo>
                      <a:pt x="500" y="199"/>
                    </a:lnTo>
                    <a:lnTo>
                      <a:pt x="480" y="187"/>
                    </a:lnTo>
                    <a:lnTo>
                      <a:pt x="458" y="199"/>
                    </a:lnTo>
                    <a:lnTo>
                      <a:pt x="458" y="222"/>
                    </a:lnTo>
                    <a:lnTo>
                      <a:pt x="480" y="233"/>
                    </a:lnTo>
                    <a:close/>
                    <a:moveTo>
                      <a:pt x="532" y="233"/>
                    </a:moveTo>
                    <a:lnTo>
                      <a:pt x="552" y="222"/>
                    </a:lnTo>
                    <a:lnTo>
                      <a:pt x="552" y="199"/>
                    </a:lnTo>
                    <a:lnTo>
                      <a:pt x="532" y="187"/>
                    </a:lnTo>
                    <a:lnTo>
                      <a:pt x="514" y="199"/>
                    </a:lnTo>
                    <a:lnTo>
                      <a:pt x="514" y="222"/>
                    </a:lnTo>
                    <a:lnTo>
                      <a:pt x="532" y="233"/>
                    </a:lnTo>
                    <a:close/>
                    <a:moveTo>
                      <a:pt x="344" y="187"/>
                    </a:moveTo>
                    <a:lnTo>
                      <a:pt x="364" y="175"/>
                    </a:lnTo>
                    <a:lnTo>
                      <a:pt x="364" y="153"/>
                    </a:lnTo>
                    <a:lnTo>
                      <a:pt x="344" y="140"/>
                    </a:lnTo>
                    <a:lnTo>
                      <a:pt x="324" y="153"/>
                    </a:lnTo>
                    <a:lnTo>
                      <a:pt x="324" y="175"/>
                    </a:lnTo>
                    <a:lnTo>
                      <a:pt x="344" y="187"/>
                    </a:lnTo>
                    <a:close/>
                    <a:moveTo>
                      <a:pt x="400" y="187"/>
                    </a:moveTo>
                    <a:lnTo>
                      <a:pt x="418" y="175"/>
                    </a:lnTo>
                    <a:lnTo>
                      <a:pt x="418" y="153"/>
                    </a:lnTo>
                    <a:lnTo>
                      <a:pt x="400" y="140"/>
                    </a:lnTo>
                    <a:lnTo>
                      <a:pt x="379" y="153"/>
                    </a:lnTo>
                    <a:lnTo>
                      <a:pt x="379" y="175"/>
                    </a:lnTo>
                    <a:lnTo>
                      <a:pt x="400" y="187"/>
                    </a:lnTo>
                    <a:close/>
                    <a:moveTo>
                      <a:pt x="452" y="187"/>
                    </a:moveTo>
                    <a:lnTo>
                      <a:pt x="473" y="175"/>
                    </a:lnTo>
                    <a:lnTo>
                      <a:pt x="473" y="153"/>
                    </a:lnTo>
                    <a:lnTo>
                      <a:pt x="452" y="140"/>
                    </a:lnTo>
                    <a:lnTo>
                      <a:pt x="432" y="153"/>
                    </a:lnTo>
                    <a:lnTo>
                      <a:pt x="432" y="175"/>
                    </a:lnTo>
                    <a:lnTo>
                      <a:pt x="452" y="187"/>
                    </a:lnTo>
                    <a:close/>
                    <a:moveTo>
                      <a:pt x="505" y="187"/>
                    </a:moveTo>
                    <a:lnTo>
                      <a:pt x="526" y="175"/>
                    </a:lnTo>
                    <a:lnTo>
                      <a:pt x="526" y="153"/>
                    </a:lnTo>
                    <a:lnTo>
                      <a:pt x="505" y="140"/>
                    </a:lnTo>
                    <a:lnTo>
                      <a:pt x="485" y="153"/>
                    </a:lnTo>
                    <a:lnTo>
                      <a:pt x="485" y="175"/>
                    </a:lnTo>
                    <a:lnTo>
                      <a:pt x="505" y="187"/>
                    </a:lnTo>
                    <a:close/>
                    <a:moveTo>
                      <a:pt x="560" y="187"/>
                    </a:moveTo>
                    <a:lnTo>
                      <a:pt x="579" y="175"/>
                    </a:lnTo>
                    <a:lnTo>
                      <a:pt x="579" y="153"/>
                    </a:lnTo>
                    <a:lnTo>
                      <a:pt x="560" y="140"/>
                    </a:lnTo>
                    <a:lnTo>
                      <a:pt x="540" y="153"/>
                    </a:lnTo>
                    <a:lnTo>
                      <a:pt x="540" y="175"/>
                    </a:lnTo>
                    <a:lnTo>
                      <a:pt x="560" y="187"/>
                    </a:lnTo>
                    <a:close/>
                    <a:moveTo>
                      <a:pt x="480" y="422"/>
                    </a:moveTo>
                    <a:lnTo>
                      <a:pt x="500" y="408"/>
                    </a:lnTo>
                    <a:lnTo>
                      <a:pt x="500" y="386"/>
                    </a:lnTo>
                    <a:lnTo>
                      <a:pt x="480" y="375"/>
                    </a:lnTo>
                    <a:lnTo>
                      <a:pt x="458" y="386"/>
                    </a:lnTo>
                    <a:lnTo>
                      <a:pt x="458" y="408"/>
                    </a:lnTo>
                    <a:lnTo>
                      <a:pt x="480" y="422"/>
                    </a:lnTo>
                    <a:close/>
                    <a:moveTo>
                      <a:pt x="532" y="422"/>
                    </a:moveTo>
                    <a:lnTo>
                      <a:pt x="552" y="408"/>
                    </a:lnTo>
                    <a:lnTo>
                      <a:pt x="552" y="386"/>
                    </a:lnTo>
                    <a:lnTo>
                      <a:pt x="532" y="375"/>
                    </a:lnTo>
                    <a:lnTo>
                      <a:pt x="514" y="386"/>
                    </a:lnTo>
                    <a:lnTo>
                      <a:pt x="514" y="408"/>
                    </a:lnTo>
                    <a:lnTo>
                      <a:pt x="532" y="422"/>
                    </a:lnTo>
                    <a:close/>
                    <a:moveTo>
                      <a:pt x="586" y="422"/>
                    </a:moveTo>
                    <a:lnTo>
                      <a:pt x="608" y="408"/>
                    </a:lnTo>
                    <a:lnTo>
                      <a:pt x="608" y="386"/>
                    </a:lnTo>
                    <a:lnTo>
                      <a:pt x="586" y="375"/>
                    </a:lnTo>
                    <a:lnTo>
                      <a:pt x="566" y="386"/>
                    </a:lnTo>
                    <a:lnTo>
                      <a:pt x="566" y="408"/>
                    </a:lnTo>
                    <a:lnTo>
                      <a:pt x="586" y="422"/>
                    </a:lnTo>
                    <a:close/>
                    <a:moveTo>
                      <a:pt x="371" y="422"/>
                    </a:moveTo>
                    <a:lnTo>
                      <a:pt x="392" y="408"/>
                    </a:lnTo>
                    <a:lnTo>
                      <a:pt x="392" y="386"/>
                    </a:lnTo>
                    <a:lnTo>
                      <a:pt x="371" y="375"/>
                    </a:lnTo>
                    <a:lnTo>
                      <a:pt x="351" y="386"/>
                    </a:lnTo>
                    <a:lnTo>
                      <a:pt x="351" y="408"/>
                    </a:lnTo>
                    <a:lnTo>
                      <a:pt x="371" y="422"/>
                    </a:lnTo>
                    <a:close/>
                    <a:moveTo>
                      <a:pt x="426" y="422"/>
                    </a:moveTo>
                    <a:lnTo>
                      <a:pt x="445" y="408"/>
                    </a:lnTo>
                    <a:lnTo>
                      <a:pt x="445" y="386"/>
                    </a:lnTo>
                    <a:lnTo>
                      <a:pt x="426" y="375"/>
                    </a:lnTo>
                    <a:lnTo>
                      <a:pt x="406" y="386"/>
                    </a:lnTo>
                    <a:lnTo>
                      <a:pt x="406" y="408"/>
                    </a:lnTo>
                    <a:lnTo>
                      <a:pt x="426" y="422"/>
                    </a:lnTo>
                    <a:close/>
                    <a:moveTo>
                      <a:pt x="400" y="375"/>
                    </a:moveTo>
                    <a:lnTo>
                      <a:pt x="418" y="361"/>
                    </a:lnTo>
                    <a:lnTo>
                      <a:pt x="418" y="339"/>
                    </a:lnTo>
                    <a:lnTo>
                      <a:pt x="400" y="328"/>
                    </a:lnTo>
                    <a:lnTo>
                      <a:pt x="379" y="339"/>
                    </a:lnTo>
                    <a:lnTo>
                      <a:pt x="379" y="361"/>
                    </a:lnTo>
                    <a:lnTo>
                      <a:pt x="400" y="375"/>
                    </a:lnTo>
                    <a:close/>
                    <a:moveTo>
                      <a:pt x="452" y="375"/>
                    </a:moveTo>
                    <a:lnTo>
                      <a:pt x="473" y="361"/>
                    </a:lnTo>
                    <a:lnTo>
                      <a:pt x="473" y="339"/>
                    </a:lnTo>
                    <a:lnTo>
                      <a:pt x="452" y="328"/>
                    </a:lnTo>
                    <a:lnTo>
                      <a:pt x="432" y="339"/>
                    </a:lnTo>
                    <a:lnTo>
                      <a:pt x="432" y="361"/>
                    </a:lnTo>
                    <a:lnTo>
                      <a:pt x="452" y="375"/>
                    </a:lnTo>
                    <a:close/>
                    <a:moveTo>
                      <a:pt x="505" y="375"/>
                    </a:moveTo>
                    <a:lnTo>
                      <a:pt x="526" y="361"/>
                    </a:lnTo>
                    <a:lnTo>
                      <a:pt x="526" y="339"/>
                    </a:lnTo>
                    <a:lnTo>
                      <a:pt x="505" y="328"/>
                    </a:lnTo>
                    <a:lnTo>
                      <a:pt x="485" y="339"/>
                    </a:lnTo>
                    <a:lnTo>
                      <a:pt x="485" y="361"/>
                    </a:lnTo>
                    <a:lnTo>
                      <a:pt x="505" y="375"/>
                    </a:lnTo>
                    <a:close/>
                    <a:moveTo>
                      <a:pt x="560" y="375"/>
                    </a:moveTo>
                    <a:lnTo>
                      <a:pt x="579" y="361"/>
                    </a:lnTo>
                    <a:lnTo>
                      <a:pt x="579" y="339"/>
                    </a:lnTo>
                    <a:lnTo>
                      <a:pt x="560" y="328"/>
                    </a:lnTo>
                    <a:lnTo>
                      <a:pt x="540" y="339"/>
                    </a:lnTo>
                    <a:lnTo>
                      <a:pt x="540" y="361"/>
                    </a:lnTo>
                    <a:lnTo>
                      <a:pt x="560" y="375"/>
                    </a:lnTo>
                    <a:close/>
                    <a:moveTo>
                      <a:pt x="344" y="375"/>
                    </a:moveTo>
                    <a:lnTo>
                      <a:pt x="364" y="361"/>
                    </a:lnTo>
                    <a:lnTo>
                      <a:pt x="364" y="339"/>
                    </a:lnTo>
                    <a:lnTo>
                      <a:pt x="344" y="328"/>
                    </a:lnTo>
                    <a:lnTo>
                      <a:pt x="324" y="339"/>
                    </a:lnTo>
                    <a:lnTo>
                      <a:pt x="324" y="361"/>
                    </a:lnTo>
                    <a:lnTo>
                      <a:pt x="344" y="375"/>
                    </a:lnTo>
                    <a:close/>
                    <a:moveTo>
                      <a:pt x="371" y="326"/>
                    </a:moveTo>
                    <a:lnTo>
                      <a:pt x="392" y="314"/>
                    </a:lnTo>
                    <a:lnTo>
                      <a:pt x="392" y="293"/>
                    </a:lnTo>
                    <a:lnTo>
                      <a:pt x="371" y="281"/>
                    </a:lnTo>
                    <a:lnTo>
                      <a:pt x="351" y="293"/>
                    </a:lnTo>
                    <a:lnTo>
                      <a:pt x="351" y="314"/>
                    </a:lnTo>
                    <a:lnTo>
                      <a:pt x="371" y="326"/>
                    </a:lnTo>
                    <a:close/>
                    <a:moveTo>
                      <a:pt x="426" y="326"/>
                    </a:moveTo>
                    <a:lnTo>
                      <a:pt x="445" y="314"/>
                    </a:lnTo>
                    <a:lnTo>
                      <a:pt x="445" y="293"/>
                    </a:lnTo>
                    <a:lnTo>
                      <a:pt x="426" y="281"/>
                    </a:lnTo>
                    <a:lnTo>
                      <a:pt x="406" y="293"/>
                    </a:lnTo>
                    <a:lnTo>
                      <a:pt x="406" y="314"/>
                    </a:lnTo>
                    <a:lnTo>
                      <a:pt x="426" y="326"/>
                    </a:lnTo>
                    <a:close/>
                    <a:moveTo>
                      <a:pt x="480" y="326"/>
                    </a:moveTo>
                    <a:lnTo>
                      <a:pt x="500" y="314"/>
                    </a:lnTo>
                    <a:lnTo>
                      <a:pt x="500" y="293"/>
                    </a:lnTo>
                    <a:lnTo>
                      <a:pt x="480" y="281"/>
                    </a:lnTo>
                    <a:lnTo>
                      <a:pt x="458" y="293"/>
                    </a:lnTo>
                    <a:lnTo>
                      <a:pt x="458" y="314"/>
                    </a:lnTo>
                    <a:lnTo>
                      <a:pt x="480" y="326"/>
                    </a:lnTo>
                    <a:close/>
                    <a:moveTo>
                      <a:pt x="532" y="326"/>
                    </a:moveTo>
                    <a:lnTo>
                      <a:pt x="552" y="314"/>
                    </a:lnTo>
                    <a:lnTo>
                      <a:pt x="552" y="293"/>
                    </a:lnTo>
                    <a:lnTo>
                      <a:pt x="532" y="281"/>
                    </a:lnTo>
                    <a:lnTo>
                      <a:pt x="514" y="293"/>
                    </a:lnTo>
                    <a:lnTo>
                      <a:pt x="514" y="314"/>
                    </a:lnTo>
                    <a:lnTo>
                      <a:pt x="532" y="326"/>
                    </a:lnTo>
                    <a:close/>
                    <a:moveTo>
                      <a:pt x="480" y="140"/>
                    </a:moveTo>
                    <a:lnTo>
                      <a:pt x="500" y="129"/>
                    </a:lnTo>
                    <a:lnTo>
                      <a:pt x="500" y="105"/>
                    </a:lnTo>
                    <a:lnTo>
                      <a:pt x="480" y="93"/>
                    </a:lnTo>
                    <a:lnTo>
                      <a:pt x="458" y="105"/>
                    </a:lnTo>
                    <a:lnTo>
                      <a:pt x="458" y="129"/>
                    </a:lnTo>
                    <a:lnTo>
                      <a:pt x="480" y="140"/>
                    </a:lnTo>
                    <a:close/>
                    <a:moveTo>
                      <a:pt x="532" y="140"/>
                    </a:moveTo>
                    <a:lnTo>
                      <a:pt x="552" y="129"/>
                    </a:lnTo>
                    <a:lnTo>
                      <a:pt x="552" y="105"/>
                    </a:lnTo>
                    <a:lnTo>
                      <a:pt x="532" y="93"/>
                    </a:lnTo>
                    <a:lnTo>
                      <a:pt x="514" y="105"/>
                    </a:lnTo>
                    <a:lnTo>
                      <a:pt x="514" y="129"/>
                    </a:lnTo>
                    <a:lnTo>
                      <a:pt x="532" y="140"/>
                    </a:lnTo>
                    <a:close/>
                    <a:moveTo>
                      <a:pt x="505" y="93"/>
                    </a:moveTo>
                    <a:lnTo>
                      <a:pt x="526" y="82"/>
                    </a:lnTo>
                    <a:lnTo>
                      <a:pt x="526" y="58"/>
                    </a:lnTo>
                    <a:lnTo>
                      <a:pt x="505" y="47"/>
                    </a:lnTo>
                    <a:lnTo>
                      <a:pt x="485" y="58"/>
                    </a:lnTo>
                    <a:lnTo>
                      <a:pt x="485" y="82"/>
                    </a:lnTo>
                    <a:lnTo>
                      <a:pt x="505" y="93"/>
                    </a:lnTo>
                    <a:close/>
                    <a:moveTo>
                      <a:pt x="560" y="93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60" y="47"/>
                    </a:lnTo>
                    <a:lnTo>
                      <a:pt x="540" y="58"/>
                    </a:lnTo>
                    <a:lnTo>
                      <a:pt x="540" y="82"/>
                    </a:lnTo>
                    <a:lnTo>
                      <a:pt x="560" y="93"/>
                    </a:lnTo>
                    <a:close/>
                    <a:moveTo>
                      <a:pt x="371" y="140"/>
                    </a:moveTo>
                    <a:lnTo>
                      <a:pt x="392" y="129"/>
                    </a:lnTo>
                    <a:lnTo>
                      <a:pt x="392" y="105"/>
                    </a:lnTo>
                    <a:lnTo>
                      <a:pt x="371" y="93"/>
                    </a:lnTo>
                    <a:lnTo>
                      <a:pt x="351" y="105"/>
                    </a:lnTo>
                    <a:lnTo>
                      <a:pt x="351" y="129"/>
                    </a:lnTo>
                    <a:lnTo>
                      <a:pt x="371" y="140"/>
                    </a:lnTo>
                    <a:close/>
                    <a:moveTo>
                      <a:pt x="426" y="140"/>
                    </a:moveTo>
                    <a:lnTo>
                      <a:pt x="445" y="129"/>
                    </a:lnTo>
                    <a:lnTo>
                      <a:pt x="445" y="105"/>
                    </a:lnTo>
                    <a:lnTo>
                      <a:pt x="426" y="93"/>
                    </a:lnTo>
                    <a:lnTo>
                      <a:pt x="406" y="105"/>
                    </a:lnTo>
                    <a:lnTo>
                      <a:pt x="406" y="129"/>
                    </a:lnTo>
                    <a:lnTo>
                      <a:pt x="426" y="140"/>
                    </a:lnTo>
                    <a:close/>
                    <a:moveTo>
                      <a:pt x="748" y="607"/>
                    </a:moveTo>
                    <a:lnTo>
                      <a:pt x="768" y="596"/>
                    </a:lnTo>
                    <a:lnTo>
                      <a:pt x="768" y="572"/>
                    </a:lnTo>
                    <a:lnTo>
                      <a:pt x="748" y="560"/>
                    </a:lnTo>
                    <a:lnTo>
                      <a:pt x="728" y="572"/>
                    </a:lnTo>
                    <a:lnTo>
                      <a:pt x="728" y="596"/>
                    </a:lnTo>
                    <a:lnTo>
                      <a:pt x="748" y="607"/>
                    </a:lnTo>
                    <a:close/>
                    <a:moveTo>
                      <a:pt x="803" y="607"/>
                    </a:moveTo>
                    <a:lnTo>
                      <a:pt x="823" y="596"/>
                    </a:lnTo>
                    <a:lnTo>
                      <a:pt x="823" y="572"/>
                    </a:lnTo>
                    <a:lnTo>
                      <a:pt x="803" y="560"/>
                    </a:lnTo>
                    <a:lnTo>
                      <a:pt x="783" y="572"/>
                    </a:lnTo>
                    <a:lnTo>
                      <a:pt x="783" y="596"/>
                    </a:lnTo>
                    <a:lnTo>
                      <a:pt x="803" y="607"/>
                    </a:lnTo>
                    <a:close/>
                    <a:moveTo>
                      <a:pt x="858" y="607"/>
                    </a:moveTo>
                    <a:lnTo>
                      <a:pt x="878" y="596"/>
                    </a:lnTo>
                    <a:lnTo>
                      <a:pt x="878" y="572"/>
                    </a:lnTo>
                    <a:lnTo>
                      <a:pt x="858" y="560"/>
                    </a:lnTo>
                    <a:lnTo>
                      <a:pt x="836" y="572"/>
                    </a:lnTo>
                    <a:lnTo>
                      <a:pt x="836" y="596"/>
                    </a:lnTo>
                    <a:lnTo>
                      <a:pt x="858" y="607"/>
                    </a:lnTo>
                    <a:close/>
                    <a:moveTo>
                      <a:pt x="911" y="607"/>
                    </a:moveTo>
                    <a:lnTo>
                      <a:pt x="931" y="596"/>
                    </a:lnTo>
                    <a:lnTo>
                      <a:pt x="931" y="572"/>
                    </a:lnTo>
                    <a:lnTo>
                      <a:pt x="911" y="560"/>
                    </a:lnTo>
                    <a:lnTo>
                      <a:pt x="891" y="572"/>
                    </a:lnTo>
                    <a:lnTo>
                      <a:pt x="891" y="596"/>
                    </a:lnTo>
                    <a:lnTo>
                      <a:pt x="911" y="607"/>
                    </a:lnTo>
                    <a:close/>
                    <a:moveTo>
                      <a:pt x="532" y="607"/>
                    </a:moveTo>
                    <a:lnTo>
                      <a:pt x="552" y="596"/>
                    </a:lnTo>
                    <a:lnTo>
                      <a:pt x="552" y="572"/>
                    </a:lnTo>
                    <a:lnTo>
                      <a:pt x="532" y="560"/>
                    </a:lnTo>
                    <a:lnTo>
                      <a:pt x="514" y="572"/>
                    </a:lnTo>
                    <a:lnTo>
                      <a:pt x="514" y="596"/>
                    </a:lnTo>
                    <a:lnTo>
                      <a:pt x="532" y="607"/>
                    </a:lnTo>
                    <a:close/>
                    <a:moveTo>
                      <a:pt x="586" y="607"/>
                    </a:moveTo>
                    <a:lnTo>
                      <a:pt x="608" y="596"/>
                    </a:lnTo>
                    <a:lnTo>
                      <a:pt x="608" y="572"/>
                    </a:lnTo>
                    <a:lnTo>
                      <a:pt x="586" y="560"/>
                    </a:lnTo>
                    <a:lnTo>
                      <a:pt x="566" y="572"/>
                    </a:lnTo>
                    <a:lnTo>
                      <a:pt x="566" y="596"/>
                    </a:lnTo>
                    <a:lnTo>
                      <a:pt x="586" y="607"/>
                    </a:lnTo>
                    <a:close/>
                    <a:moveTo>
                      <a:pt x="640" y="607"/>
                    </a:moveTo>
                    <a:lnTo>
                      <a:pt x="660" y="596"/>
                    </a:lnTo>
                    <a:lnTo>
                      <a:pt x="660" y="572"/>
                    </a:lnTo>
                    <a:lnTo>
                      <a:pt x="640" y="560"/>
                    </a:lnTo>
                    <a:lnTo>
                      <a:pt x="621" y="572"/>
                    </a:lnTo>
                    <a:lnTo>
                      <a:pt x="621" y="596"/>
                    </a:lnTo>
                    <a:lnTo>
                      <a:pt x="640" y="607"/>
                    </a:lnTo>
                    <a:close/>
                    <a:moveTo>
                      <a:pt x="695" y="607"/>
                    </a:moveTo>
                    <a:lnTo>
                      <a:pt x="715" y="596"/>
                    </a:lnTo>
                    <a:lnTo>
                      <a:pt x="715" y="572"/>
                    </a:lnTo>
                    <a:lnTo>
                      <a:pt x="695" y="560"/>
                    </a:lnTo>
                    <a:lnTo>
                      <a:pt x="674" y="572"/>
                    </a:lnTo>
                    <a:lnTo>
                      <a:pt x="674" y="596"/>
                    </a:lnTo>
                    <a:lnTo>
                      <a:pt x="695" y="607"/>
                    </a:lnTo>
                    <a:close/>
                    <a:moveTo>
                      <a:pt x="966" y="607"/>
                    </a:moveTo>
                    <a:lnTo>
                      <a:pt x="985" y="596"/>
                    </a:lnTo>
                    <a:lnTo>
                      <a:pt x="985" y="572"/>
                    </a:lnTo>
                    <a:lnTo>
                      <a:pt x="966" y="560"/>
                    </a:lnTo>
                    <a:lnTo>
                      <a:pt x="946" y="572"/>
                    </a:lnTo>
                    <a:lnTo>
                      <a:pt x="946" y="596"/>
                    </a:lnTo>
                    <a:lnTo>
                      <a:pt x="966" y="607"/>
                    </a:lnTo>
                    <a:close/>
                    <a:moveTo>
                      <a:pt x="1018" y="607"/>
                    </a:moveTo>
                    <a:lnTo>
                      <a:pt x="1040" y="596"/>
                    </a:lnTo>
                    <a:lnTo>
                      <a:pt x="1040" y="572"/>
                    </a:lnTo>
                    <a:lnTo>
                      <a:pt x="1018" y="560"/>
                    </a:lnTo>
                    <a:lnTo>
                      <a:pt x="998" y="572"/>
                    </a:lnTo>
                    <a:lnTo>
                      <a:pt x="998" y="596"/>
                    </a:lnTo>
                    <a:lnTo>
                      <a:pt x="1018" y="607"/>
                    </a:lnTo>
                    <a:close/>
                    <a:moveTo>
                      <a:pt x="1072" y="607"/>
                    </a:moveTo>
                    <a:lnTo>
                      <a:pt x="1092" y="596"/>
                    </a:lnTo>
                    <a:lnTo>
                      <a:pt x="1092" y="572"/>
                    </a:lnTo>
                    <a:lnTo>
                      <a:pt x="1072" y="560"/>
                    </a:lnTo>
                    <a:lnTo>
                      <a:pt x="1054" y="572"/>
                    </a:lnTo>
                    <a:lnTo>
                      <a:pt x="1054" y="596"/>
                    </a:lnTo>
                    <a:lnTo>
                      <a:pt x="1072" y="607"/>
                    </a:lnTo>
                    <a:close/>
                    <a:moveTo>
                      <a:pt x="884" y="560"/>
                    </a:moveTo>
                    <a:lnTo>
                      <a:pt x="904" y="550"/>
                    </a:lnTo>
                    <a:lnTo>
                      <a:pt x="904" y="525"/>
                    </a:lnTo>
                    <a:lnTo>
                      <a:pt x="884" y="514"/>
                    </a:lnTo>
                    <a:lnTo>
                      <a:pt x="864" y="525"/>
                    </a:lnTo>
                    <a:lnTo>
                      <a:pt x="864" y="550"/>
                    </a:lnTo>
                    <a:lnTo>
                      <a:pt x="884" y="560"/>
                    </a:lnTo>
                    <a:close/>
                    <a:moveTo>
                      <a:pt x="940" y="560"/>
                    </a:moveTo>
                    <a:lnTo>
                      <a:pt x="958" y="550"/>
                    </a:lnTo>
                    <a:lnTo>
                      <a:pt x="958" y="525"/>
                    </a:lnTo>
                    <a:lnTo>
                      <a:pt x="940" y="514"/>
                    </a:lnTo>
                    <a:lnTo>
                      <a:pt x="917" y="525"/>
                    </a:lnTo>
                    <a:lnTo>
                      <a:pt x="917" y="550"/>
                    </a:lnTo>
                    <a:lnTo>
                      <a:pt x="940" y="560"/>
                    </a:lnTo>
                    <a:close/>
                    <a:moveTo>
                      <a:pt x="992" y="560"/>
                    </a:moveTo>
                    <a:lnTo>
                      <a:pt x="1011" y="550"/>
                    </a:lnTo>
                    <a:lnTo>
                      <a:pt x="1011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50"/>
                    </a:lnTo>
                    <a:lnTo>
                      <a:pt x="992" y="560"/>
                    </a:lnTo>
                    <a:close/>
                    <a:moveTo>
                      <a:pt x="1046" y="560"/>
                    </a:moveTo>
                    <a:lnTo>
                      <a:pt x="1066" y="550"/>
                    </a:lnTo>
                    <a:lnTo>
                      <a:pt x="1066" y="525"/>
                    </a:lnTo>
                    <a:lnTo>
                      <a:pt x="1046" y="514"/>
                    </a:lnTo>
                    <a:lnTo>
                      <a:pt x="1027" y="525"/>
                    </a:lnTo>
                    <a:lnTo>
                      <a:pt x="1027" y="550"/>
                    </a:lnTo>
                    <a:lnTo>
                      <a:pt x="1046" y="560"/>
                    </a:lnTo>
                    <a:close/>
                    <a:moveTo>
                      <a:pt x="666" y="560"/>
                    </a:moveTo>
                    <a:lnTo>
                      <a:pt x="689" y="550"/>
                    </a:lnTo>
                    <a:lnTo>
                      <a:pt x="689" y="525"/>
                    </a:lnTo>
                    <a:lnTo>
                      <a:pt x="666" y="514"/>
                    </a:lnTo>
                    <a:lnTo>
                      <a:pt x="648" y="525"/>
                    </a:lnTo>
                    <a:lnTo>
                      <a:pt x="648" y="550"/>
                    </a:lnTo>
                    <a:lnTo>
                      <a:pt x="666" y="560"/>
                    </a:lnTo>
                    <a:close/>
                    <a:moveTo>
                      <a:pt x="722" y="560"/>
                    </a:moveTo>
                    <a:lnTo>
                      <a:pt x="742" y="550"/>
                    </a:lnTo>
                    <a:lnTo>
                      <a:pt x="742" y="525"/>
                    </a:lnTo>
                    <a:lnTo>
                      <a:pt x="722" y="514"/>
                    </a:lnTo>
                    <a:lnTo>
                      <a:pt x="701" y="525"/>
                    </a:lnTo>
                    <a:lnTo>
                      <a:pt x="701" y="550"/>
                    </a:lnTo>
                    <a:lnTo>
                      <a:pt x="722" y="560"/>
                    </a:lnTo>
                    <a:close/>
                    <a:moveTo>
                      <a:pt x="777" y="560"/>
                    </a:moveTo>
                    <a:lnTo>
                      <a:pt x="797" y="550"/>
                    </a:lnTo>
                    <a:lnTo>
                      <a:pt x="797" y="525"/>
                    </a:lnTo>
                    <a:lnTo>
                      <a:pt x="777" y="514"/>
                    </a:lnTo>
                    <a:lnTo>
                      <a:pt x="754" y="525"/>
                    </a:lnTo>
                    <a:lnTo>
                      <a:pt x="754" y="550"/>
                    </a:lnTo>
                    <a:lnTo>
                      <a:pt x="777" y="560"/>
                    </a:lnTo>
                    <a:close/>
                    <a:moveTo>
                      <a:pt x="829" y="560"/>
                    </a:moveTo>
                    <a:lnTo>
                      <a:pt x="849" y="550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50"/>
                    </a:lnTo>
                    <a:lnTo>
                      <a:pt x="829" y="560"/>
                    </a:lnTo>
                    <a:close/>
                    <a:moveTo>
                      <a:pt x="505" y="560"/>
                    </a:moveTo>
                    <a:lnTo>
                      <a:pt x="526" y="550"/>
                    </a:lnTo>
                    <a:lnTo>
                      <a:pt x="526" y="525"/>
                    </a:lnTo>
                    <a:lnTo>
                      <a:pt x="505" y="514"/>
                    </a:lnTo>
                    <a:lnTo>
                      <a:pt x="485" y="525"/>
                    </a:lnTo>
                    <a:lnTo>
                      <a:pt x="485" y="550"/>
                    </a:lnTo>
                    <a:lnTo>
                      <a:pt x="505" y="560"/>
                    </a:lnTo>
                    <a:close/>
                    <a:moveTo>
                      <a:pt x="560" y="560"/>
                    </a:moveTo>
                    <a:lnTo>
                      <a:pt x="579" y="550"/>
                    </a:lnTo>
                    <a:lnTo>
                      <a:pt x="579" y="525"/>
                    </a:lnTo>
                    <a:lnTo>
                      <a:pt x="560" y="514"/>
                    </a:lnTo>
                    <a:lnTo>
                      <a:pt x="540" y="525"/>
                    </a:lnTo>
                    <a:lnTo>
                      <a:pt x="540" y="550"/>
                    </a:lnTo>
                    <a:lnTo>
                      <a:pt x="560" y="560"/>
                    </a:lnTo>
                    <a:close/>
                    <a:moveTo>
                      <a:pt x="614" y="560"/>
                    </a:moveTo>
                    <a:lnTo>
                      <a:pt x="634" y="550"/>
                    </a:lnTo>
                    <a:lnTo>
                      <a:pt x="634" y="525"/>
                    </a:lnTo>
                    <a:lnTo>
                      <a:pt x="614" y="514"/>
                    </a:lnTo>
                    <a:lnTo>
                      <a:pt x="592" y="525"/>
                    </a:lnTo>
                    <a:lnTo>
                      <a:pt x="592" y="550"/>
                    </a:lnTo>
                    <a:lnTo>
                      <a:pt x="614" y="560"/>
                    </a:lnTo>
                    <a:close/>
                    <a:moveTo>
                      <a:pt x="911" y="514"/>
                    </a:moveTo>
                    <a:lnTo>
                      <a:pt x="931" y="504"/>
                    </a:lnTo>
                    <a:lnTo>
                      <a:pt x="931" y="478"/>
                    </a:lnTo>
                    <a:lnTo>
                      <a:pt x="911" y="468"/>
                    </a:lnTo>
                    <a:lnTo>
                      <a:pt x="891" y="478"/>
                    </a:lnTo>
                    <a:lnTo>
                      <a:pt x="891" y="504"/>
                    </a:lnTo>
                    <a:lnTo>
                      <a:pt x="911" y="514"/>
                    </a:lnTo>
                    <a:close/>
                    <a:moveTo>
                      <a:pt x="966" y="514"/>
                    </a:moveTo>
                    <a:lnTo>
                      <a:pt x="985" y="504"/>
                    </a:lnTo>
                    <a:lnTo>
                      <a:pt x="985" y="478"/>
                    </a:lnTo>
                    <a:lnTo>
                      <a:pt x="966" y="468"/>
                    </a:lnTo>
                    <a:lnTo>
                      <a:pt x="946" y="478"/>
                    </a:lnTo>
                    <a:lnTo>
                      <a:pt x="946" y="504"/>
                    </a:lnTo>
                    <a:lnTo>
                      <a:pt x="966" y="514"/>
                    </a:lnTo>
                    <a:close/>
                    <a:moveTo>
                      <a:pt x="1018" y="514"/>
                    </a:moveTo>
                    <a:lnTo>
                      <a:pt x="1040" y="504"/>
                    </a:lnTo>
                    <a:lnTo>
                      <a:pt x="1040" y="478"/>
                    </a:lnTo>
                    <a:lnTo>
                      <a:pt x="1018" y="468"/>
                    </a:lnTo>
                    <a:lnTo>
                      <a:pt x="998" y="478"/>
                    </a:lnTo>
                    <a:lnTo>
                      <a:pt x="998" y="504"/>
                    </a:lnTo>
                    <a:lnTo>
                      <a:pt x="1018" y="514"/>
                    </a:lnTo>
                    <a:close/>
                    <a:moveTo>
                      <a:pt x="1072" y="514"/>
                    </a:moveTo>
                    <a:lnTo>
                      <a:pt x="1092" y="504"/>
                    </a:lnTo>
                    <a:lnTo>
                      <a:pt x="1092" y="478"/>
                    </a:lnTo>
                    <a:lnTo>
                      <a:pt x="1072" y="468"/>
                    </a:lnTo>
                    <a:lnTo>
                      <a:pt x="1054" y="478"/>
                    </a:lnTo>
                    <a:lnTo>
                      <a:pt x="1054" y="504"/>
                    </a:lnTo>
                    <a:lnTo>
                      <a:pt x="1072" y="514"/>
                    </a:lnTo>
                    <a:close/>
                    <a:moveTo>
                      <a:pt x="695" y="514"/>
                    </a:moveTo>
                    <a:lnTo>
                      <a:pt x="715" y="504"/>
                    </a:lnTo>
                    <a:lnTo>
                      <a:pt x="715" y="478"/>
                    </a:lnTo>
                    <a:lnTo>
                      <a:pt x="695" y="468"/>
                    </a:lnTo>
                    <a:lnTo>
                      <a:pt x="674" y="478"/>
                    </a:lnTo>
                    <a:lnTo>
                      <a:pt x="674" y="504"/>
                    </a:lnTo>
                    <a:lnTo>
                      <a:pt x="695" y="514"/>
                    </a:lnTo>
                    <a:close/>
                    <a:moveTo>
                      <a:pt x="748" y="514"/>
                    </a:moveTo>
                    <a:lnTo>
                      <a:pt x="768" y="504"/>
                    </a:lnTo>
                    <a:lnTo>
                      <a:pt x="768" y="478"/>
                    </a:lnTo>
                    <a:lnTo>
                      <a:pt x="748" y="468"/>
                    </a:lnTo>
                    <a:lnTo>
                      <a:pt x="728" y="478"/>
                    </a:lnTo>
                    <a:lnTo>
                      <a:pt x="728" y="504"/>
                    </a:lnTo>
                    <a:lnTo>
                      <a:pt x="748" y="514"/>
                    </a:lnTo>
                    <a:close/>
                    <a:moveTo>
                      <a:pt x="803" y="514"/>
                    </a:moveTo>
                    <a:lnTo>
                      <a:pt x="823" y="504"/>
                    </a:lnTo>
                    <a:lnTo>
                      <a:pt x="823" y="478"/>
                    </a:lnTo>
                    <a:lnTo>
                      <a:pt x="803" y="468"/>
                    </a:lnTo>
                    <a:lnTo>
                      <a:pt x="783" y="478"/>
                    </a:lnTo>
                    <a:lnTo>
                      <a:pt x="783" y="504"/>
                    </a:lnTo>
                    <a:lnTo>
                      <a:pt x="803" y="514"/>
                    </a:lnTo>
                    <a:close/>
                    <a:moveTo>
                      <a:pt x="858" y="514"/>
                    </a:moveTo>
                    <a:lnTo>
                      <a:pt x="878" y="504"/>
                    </a:lnTo>
                    <a:lnTo>
                      <a:pt x="878" y="478"/>
                    </a:lnTo>
                    <a:lnTo>
                      <a:pt x="858" y="468"/>
                    </a:lnTo>
                    <a:lnTo>
                      <a:pt x="836" y="478"/>
                    </a:lnTo>
                    <a:lnTo>
                      <a:pt x="836" y="504"/>
                    </a:lnTo>
                    <a:lnTo>
                      <a:pt x="858" y="514"/>
                    </a:lnTo>
                    <a:close/>
                    <a:moveTo>
                      <a:pt x="640" y="514"/>
                    </a:moveTo>
                    <a:lnTo>
                      <a:pt x="660" y="504"/>
                    </a:lnTo>
                    <a:lnTo>
                      <a:pt x="660" y="478"/>
                    </a:lnTo>
                    <a:lnTo>
                      <a:pt x="640" y="468"/>
                    </a:lnTo>
                    <a:lnTo>
                      <a:pt x="621" y="478"/>
                    </a:lnTo>
                    <a:lnTo>
                      <a:pt x="621" y="504"/>
                    </a:lnTo>
                    <a:lnTo>
                      <a:pt x="640" y="514"/>
                    </a:lnTo>
                    <a:close/>
                    <a:moveTo>
                      <a:pt x="884" y="468"/>
                    </a:moveTo>
                    <a:lnTo>
                      <a:pt x="904" y="454"/>
                    </a:lnTo>
                    <a:lnTo>
                      <a:pt x="904" y="432"/>
                    </a:lnTo>
                    <a:lnTo>
                      <a:pt x="884" y="422"/>
                    </a:lnTo>
                    <a:lnTo>
                      <a:pt x="864" y="432"/>
                    </a:lnTo>
                    <a:lnTo>
                      <a:pt x="864" y="454"/>
                    </a:lnTo>
                    <a:lnTo>
                      <a:pt x="884" y="468"/>
                    </a:lnTo>
                    <a:close/>
                    <a:moveTo>
                      <a:pt x="940" y="468"/>
                    </a:moveTo>
                    <a:lnTo>
                      <a:pt x="958" y="454"/>
                    </a:lnTo>
                    <a:lnTo>
                      <a:pt x="958" y="432"/>
                    </a:lnTo>
                    <a:lnTo>
                      <a:pt x="940" y="422"/>
                    </a:lnTo>
                    <a:lnTo>
                      <a:pt x="917" y="432"/>
                    </a:lnTo>
                    <a:lnTo>
                      <a:pt x="917" y="454"/>
                    </a:lnTo>
                    <a:lnTo>
                      <a:pt x="940" y="468"/>
                    </a:lnTo>
                    <a:close/>
                    <a:moveTo>
                      <a:pt x="992" y="468"/>
                    </a:moveTo>
                    <a:lnTo>
                      <a:pt x="1011" y="454"/>
                    </a:lnTo>
                    <a:lnTo>
                      <a:pt x="1011" y="432"/>
                    </a:lnTo>
                    <a:lnTo>
                      <a:pt x="992" y="422"/>
                    </a:lnTo>
                    <a:lnTo>
                      <a:pt x="972" y="432"/>
                    </a:lnTo>
                    <a:lnTo>
                      <a:pt x="972" y="454"/>
                    </a:lnTo>
                    <a:lnTo>
                      <a:pt x="992" y="468"/>
                    </a:lnTo>
                    <a:close/>
                    <a:moveTo>
                      <a:pt x="1046" y="468"/>
                    </a:moveTo>
                    <a:lnTo>
                      <a:pt x="1066" y="454"/>
                    </a:lnTo>
                    <a:lnTo>
                      <a:pt x="1066" y="432"/>
                    </a:lnTo>
                    <a:lnTo>
                      <a:pt x="1046" y="422"/>
                    </a:lnTo>
                    <a:lnTo>
                      <a:pt x="1027" y="432"/>
                    </a:lnTo>
                    <a:lnTo>
                      <a:pt x="1027" y="454"/>
                    </a:lnTo>
                    <a:lnTo>
                      <a:pt x="1046" y="468"/>
                    </a:lnTo>
                    <a:close/>
                    <a:moveTo>
                      <a:pt x="666" y="468"/>
                    </a:moveTo>
                    <a:lnTo>
                      <a:pt x="689" y="454"/>
                    </a:lnTo>
                    <a:lnTo>
                      <a:pt x="689" y="432"/>
                    </a:lnTo>
                    <a:lnTo>
                      <a:pt x="666" y="422"/>
                    </a:lnTo>
                    <a:lnTo>
                      <a:pt x="648" y="432"/>
                    </a:lnTo>
                    <a:lnTo>
                      <a:pt x="648" y="454"/>
                    </a:lnTo>
                    <a:lnTo>
                      <a:pt x="666" y="468"/>
                    </a:lnTo>
                    <a:close/>
                    <a:moveTo>
                      <a:pt x="722" y="468"/>
                    </a:moveTo>
                    <a:lnTo>
                      <a:pt x="742" y="454"/>
                    </a:lnTo>
                    <a:lnTo>
                      <a:pt x="742" y="432"/>
                    </a:lnTo>
                    <a:lnTo>
                      <a:pt x="722" y="422"/>
                    </a:lnTo>
                    <a:lnTo>
                      <a:pt x="701" y="432"/>
                    </a:lnTo>
                    <a:lnTo>
                      <a:pt x="701" y="454"/>
                    </a:lnTo>
                    <a:lnTo>
                      <a:pt x="722" y="468"/>
                    </a:lnTo>
                    <a:close/>
                    <a:moveTo>
                      <a:pt x="777" y="468"/>
                    </a:moveTo>
                    <a:lnTo>
                      <a:pt x="797" y="454"/>
                    </a:lnTo>
                    <a:lnTo>
                      <a:pt x="797" y="432"/>
                    </a:lnTo>
                    <a:lnTo>
                      <a:pt x="777" y="422"/>
                    </a:lnTo>
                    <a:lnTo>
                      <a:pt x="754" y="432"/>
                    </a:lnTo>
                    <a:lnTo>
                      <a:pt x="754" y="454"/>
                    </a:lnTo>
                    <a:lnTo>
                      <a:pt x="777" y="468"/>
                    </a:lnTo>
                    <a:close/>
                    <a:moveTo>
                      <a:pt x="829" y="468"/>
                    </a:moveTo>
                    <a:lnTo>
                      <a:pt x="849" y="454"/>
                    </a:lnTo>
                    <a:lnTo>
                      <a:pt x="849" y="432"/>
                    </a:lnTo>
                    <a:lnTo>
                      <a:pt x="829" y="422"/>
                    </a:lnTo>
                    <a:lnTo>
                      <a:pt x="809" y="432"/>
                    </a:lnTo>
                    <a:lnTo>
                      <a:pt x="809" y="454"/>
                    </a:lnTo>
                    <a:lnTo>
                      <a:pt x="829" y="468"/>
                    </a:lnTo>
                    <a:close/>
                    <a:moveTo>
                      <a:pt x="614" y="468"/>
                    </a:moveTo>
                    <a:lnTo>
                      <a:pt x="634" y="454"/>
                    </a:lnTo>
                    <a:lnTo>
                      <a:pt x="634" y="432"/>
                    </a:lnTo>
                    <a:lnTo>
                      <a:pt x="614" y="422"/>
                    </a:lnTo>
                    <a:lnTo>
                      <a:pt x="592" y="432"/>
                    </a:lnTo>
                    <a:lnTo>
                      <a:pt x="592" y="454"/>
                    </a:lnTo>
                    <a:lnTo>
                      <a:pt x="614" y="468"/>
                    </a:lnTo>
                    <a:close/>
                    <a:moveTo>
                      <a:pt x="1046" y="654"/>
                    </a:moveTo>
                    <a:lnTo>
                      <a:pt x="1066" y="642"/>
                    </a:lnTo>
                    <a:lnTo>
                      <a:pt x="1066" y="618"/>
                    </a:lnTo>
                    <a:lnTo>
                      <a:pt x="1046" y="607"/>
                    </a:lnTo>
                    <a:lnTo>
                      <a:pt x="1027" y="618"/>
                    </a:lnTo>
                    <a:lnTo>
                      <a:pt x="1027" y="642"/>
                    </a:lnTo>
                    <a:lnTo>
                      <a:pt x="1046" y="654"/>
                    </a:lnTo>
                    <a:close/>
                    <a:moveTo>
                      <a:pt x="505" y="654"/>
                    </a:moveTo>
                    <a:lnTo>
                      <a:pt x="526" y="642"/>
                    </a:lnTo>
                    <a:lnTo>
                      <a:pt x="526" y="618"/>
                    </a:lnTo>
                    <a:lnTo>
                      <a:pt x="505" y="607"/>
                    </a:lnTo>
                    <a:lnTo>
                      <a:pt x="485" y="618"/>
                    </a:lnTo>
                    <a:lnTo>
                      <a:pt x="485" y="642"/>
                    </a:lnTo>
                    <a:lnTo>
                      <a:pt x="505" y="654"/>
                    </a:lnTo>
                    <a:close/>
                    <a:moveTo>
                      <a:pt x="560" y="654"/>
                    </a:moveTo>
                    <a:lnTo>
                      <a:pt x="579" y="642"/>
                    </a:lnTo>
                    <a:lnTo>
                      <a:pt x="579" y="618"/>
                    </a:lnTo>
                    <a:lnTo>
                      <a:pt x="560" y="607"/>
                    </a:lnTo>
                    <a:lnTo>
                      <a:pt x="540" y="618"/>
                    </a:lnTo>
                    <a:lnTo>
                      <a:pt x="540" y="642"/>
                    </a:lnTo>
                    <a:lnTo>
                      <a:pt x="560" y="654"/>
                    </a:lnTo>
                    <a:close/>
                    <a:moveTo>
                      <a:pt x="614" y="654"/>
                    </a:moveTo>
                    <a:lnTo>
                      <a:pt x="634" y="642"/>
                    </a:lnTo>
                    <a:lnTo>
                      <a:pt x="634" y="618"/>
                    </a:lnTo>
                    <a:lnTo>
                      <a:pt x="614" y="607"/>
                    </a:lnTo>
                    <a:lnTo>
                      <a:pt x="592" y="618"/>
                    </a:lnTo>
                    <a:lnTo>
                      <a:pt x="592" y="642"/>
                    </a:lnTo>
                    <a:lnTo>
                      <a:pt x="614" y="654"/>
                    </a:lnTo>
                    <a:close/>
                    <a:moveTo>
                      <a:pt x="666" y="654"/>
                    </a:moveTo>
                    <a:lnTo>
                      <a:pt x="689" y="642"/>
                    </a:lnTo>
                    <a:lnTo>
                      <a:pt x="689" y="618"/>
                    </a:lnTo>
                    <a:lnTo>
                      <a:pt x="666" y="607"/>
                    </a:lnTo>
                    <a:lnTo>
                      <a:pt x="648" y="618"/>
                    </a:lnTo>
                    <a:lnTo>
                      <a:pt x="648" y="642"/>
                    </a:lnTo>
                    <a:lnTo>
                      <a:pt x="666" y="654"/>
                    </a:lnTo>
                    <a:close/>
                    <a:moveTo>
                      <a:pt x="722" y="654"/>
                    </a:moveTo>
                    <a:lnTo>
                      <a:pt x="742" y="642"/>
                    </a:lnTo>
                    <a:lnTo>
                      <a:pt x="742" y="618"/>
                    </a:lnTo>
                    <a:lnTo>
                      <a:pt x="722" y="607"/>
                    </a:lnTo>
                    <a:lnTo>
                      <a:pt x="701" y="618"/>
                    </a:lnTo>
                    <a:lnTo>
                      <a:pt x="701" y="642"/>
                    </a:lnTo>
                    <a:lnTo>
                      <a:pt x="722" y="654"/>
                    </a:lnTo>
                    <a:close/>
                    <a:moveTo>
                      <a:pt x="777" y="654"/>
                    </a:moveTo>
                    <a:lnTo>
                      <a:pt x="797" y="642"/>
                    </a:lnTo>
                    <a:lnTo>
                      <a:pt x="797" y="618"/>
                    </a:lnTo>
                    <a:lnTo>
                      <a:pt x="777" y="607"/>
                    </a:lnTo>
                    <a:lnTo>
                      <a:pt x="754" y="618"/>
                    </a:lnTo>
                    <a:lnTo>
                      <a:pt x="754" y="642"/>
                    </a:lnTo>
                    <a:lnTo>
                      <a:pt x="777" y="654"/>
                    </a:lnTo>
                    <a:close/>
                    <a:moveTo>
                      <a:pt x="829" y="654"/>
                    </a:moveTo>
                    <a:lnTo>
                      <a:pt x="849" y="642"/>
                    </a:lnTo>
                    <a:lnTo>
                      <a:pt x="849" y="618"/>
                    </a:lnTo>
                    <a:lnTo>
                      <a:pt x="829" y="607"/>
                    </a:lnTo>
                    <a:lnTo>
                      <a:pt x="809" y="618"/>
                    </a:lnTo>
                    <a:lnTo>
                      <a:pt x="809" y="642"/>
                    </a:lnTo>
                    <a:lnTo>
                      <a:pt x="829" y="654"/>
                    </a:lnTo>
                    <a:close/>
                    <a:moveTo>
                      <a:pt x="884" y="654"/>
                    </a:moveTo>
                    <a:lnTo>
                      <a:pt x="904" y="642"/>
                    </a:lnTo>
                    <a:lnTo>
                      <a:pt x="904" y="618"/>
                    </a:lnTo>
                    <a:lnTo>
                      <a:pt x="884" y="607"/>
                    </a:lnTo>
                    <a:lnTo>
                      <a:pt x="864" y="618"/>
                    </a:lnTo>
                    <a:lnTo>
                      <a:pt x="864" y="642"/>
                    </a:lnTo>
                    <a:lnTo>
                      <a:pt x="884" y="654"/>
                    </a:lnTo>
                    <a:close/>
                    <a:moveTo>
                      <a:pt x="940" y="654"/>
                    </a:moveTo>
                    <a:lnTo>
                      <a:pt x="958" y="642"/>
                    </a:lnTo>
                    <a:lnTo>
                      <a:pt x="958" y="618"/>
                    </a:lnTo>
                    <a:lnTo>
                      <a:pt x="940" y="607"/>
                    </a:lnTo>
                    <a:lnTo>
                      <a:pt x="917" y="618"/>
                    </a:lnTo>
                    <a:lnTo>
                      <a:pt x="917" y="642"/>
                    </a:lnTo>
                    <a:lnTo>
                      <a:pt x="940" y="654"/>
                    </a:lnTo>
                    <a:close/>
                    <a:moveTo>
                      <a:pt x="992" y="654"/>
                    </a:moveTo>
                    <a:lnTo>
                      <a:pt x="1011" y="642"/>
                    </a:lnTo>
                    <a:lnTo>
                      <a:pt x="1011" y="618"/>
                    </a:lnTo>
                    <a:lnTo>
                      <a:pt x="992" y="607"/>
                    </a:lnTo>
                    <a:lnTo>
                      <a:pt x="972" y="618"/>
                    </a:lnTo>
                    <a:lnTo>
                      <a:pt x="972" y="642"/>
                    </a:lnTo>
                    <a:lnTo>
                      <a:pt x="992" y="654"/>
                    </a:lnTo>
                    <a:close/>
                    <a:moveTo>
                      <a:pt x="1018" y="422"/>
                    </a:moveTo>
                    <a:lnTo>
                      <a:pt x="1040" y="408"/>
                    </a:lnTo>
                    <a:lnTo>
                      <a:pt x="1040" y="386"/>
                    </a:lnTo>
                    <a:lnTo>
                      <a:pt x="1018" y="375"/>
                    </a:lnTo>
                    <a:lnTo>
                      <a:pt x="998" y="386"/>
                    </a:lnTo>
                    <a:lnTo>
                      <a:pt x="998" y="408"/>
                    </a:lnTo>
                    <a:lnTo>
                      <a:pt x="1018" y="422"/>
                    </a:lnTo>
                    <a:close/>
                    <a:moveTo>
                      <a:pt x="1072" y="422"/>
                    </a:moveTo>
                    <a:lnTo>
                      <a:pt x="1092" y="408"/>
                    </a:lnTo>
                    <a:lnTo>
                      <a:pt x="1092" y="386"/>
                    </a:lnTo>
                    <a:lnTo>
                      <a:pt x="1072" y="375"/>
                    </a:lnTo>
                    <a:lnTo>
                      <a:pt x="1054" y="386"/>
                    </a:lnTo>
                    <a:lnTo>
                      <a:pt x="1054" y="408"/>
                    </a:lnTo>
                    <a:lnTo>
                      <a:pt x="1072" y="422"/>
                    </a:lnTo>
                    <a:close/>
                    <a:moveTo>
                      <a:pt x="480" y="607"/>
                    </a:moveTo>
                    <a:lnTo>
                      <a:pt x="500" y="596"/>
                    </a:lnTo>
                    <a:lnTo>
                      <a:pt x="500" y="572"/>
                    </a:lnTo>
                    <a:lnTo>
                      <a:pt x="480" y="560"/>
                    </a:lnTo>
                    <a:lnTo>
                      <a:pt x="458" y="572"/>
                    </a:lnTo>
                    <a:lnTo>
                      <a:pt x="458" y="596"/>
                    </a:lnTo>
                    <a:lnTo>
                      <a:pt x="480" y="60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499068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03316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07528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116320" y="566568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5160240" y="566568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4968720" y="562680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5012640" y="562680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5053320" y="562680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5096160" y="56268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5139720" y="56268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5180760" y="562680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499068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503316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507528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5116320" y="559152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5160240" y="559152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520452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4968720" y="555264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5012640" y="555264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5053320" y="55526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509616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513972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5180760" y="555264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4968720" y="570276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012640" y="57027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5053320" y="570276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5096160" y="57027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5139720" y="57027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5180760" y="570276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4968720" y="540072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012640" y="54007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5053320" y="540072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5096160" y="5400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5139720" y="5400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5180760" y="540072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4990680" y="53640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5033160" y="53640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5075280" y="53640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5116320" y="536400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5160240" y="536400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5204520" y="53640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4968720" y="5325120"/>
                <a:ext cx="3168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5012640" y="532512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5053320" y="532512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5096160" y="532512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5139720" y="532512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5180760" y="5325120"/>
                <a:ext cx="32760" cy="3852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4990680" y="52880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5033160" y="52880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5075280" y="52880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5116320" y="528804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5160240" y="528804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5204520" y="52880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4968720" y="525096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5012640" y="52509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5053320" y="525096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5096160" y="5250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5139720" y="5250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5180760" y="525096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4990680" y="521244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5033160" y="521244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5075280" y="5212440"/>
                <a:ext cx="3132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5116320" y="5212440"/>
                <a:ext cx="34200" cy="3816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5160240" y="5212440"/>
                <a:ext cx="31680" cy="381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499068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503316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507528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5116320" y="551556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5160240" y="551556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520452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4968720" y="5478480"/>
                <a:ext cx="316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5012640" y="54784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5053320" y="547848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5096160" y="54784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5139720" y="54784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5180760" y="5478480"/>
                <a:ext cx="32760" cy="370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3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4990680" y="543960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5033160" y="543960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5075280" y="543960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5116320" y="543960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5160240" y="543960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5204520" y="543960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5244840" y="559152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528768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533016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537264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541476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530964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5350320" y="55526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539280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522468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526716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5392800" y="5400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5224680" y="5400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5267160" y="5400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5309640" y="540072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5350320" y="540072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5244840" y="536400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5287680" y="53640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5330160" y="53640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5372640" y="536400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5224680" y="532512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5267160" y="532512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5309640" y="532512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5350320" y="532512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5392800" y="532512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533016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537264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541476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5244840" y="551556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528768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5267160" y="54784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5309640" y="54784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5350320" y="547848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5392800" y="54784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5224680" y="547848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5244840" y="543960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5287680" y="543960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5330160" y="543960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5372640" y="543960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3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5330160" y="52880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5372640" y="52880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5350320" y="525096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5392800" y="52509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5244840" y="528804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5287680" y="528804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5540400" y="5665680"/>
                <a:ext cx="316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558432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5625360" y="5665680"/>
                <a:ext cx="3420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566928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537264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541476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545724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5497920" y="5665680"/>
                <a:ext cx="3312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571176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575424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579636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5649120" y="56268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5689440" y="562680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5733720" y="562680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5776200" y="56268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5477760" y="562680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5519880" y="56268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5562360" y="562680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5604840" y="56268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5350320" y="562680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5392800" y="56268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5435280" y="562680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566928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571176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575424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579636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5497920" y="5591520"/>
                <a:ext cx="3312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5540400" y="5591520"/>
                <a:ext cx="3168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558432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5625360" y="5591520"/>
                <a:ext cx="3420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5457240" y="5591520"/>
                <a:ext cx="3132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564912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5689440" y="55526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5733720" y="5552640"/>
                <a:ext cx="2988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577620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5477760" y="55526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551988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5562360" y="5552640"/>
                <a:ext cx="33120" cy="3852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560484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5435280" y="5552640"/>
                <a:ext cx="31320" cy="385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2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5776200" y="57027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5350320" y="570276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5392800" y="57027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5435280" y="57027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5477760" y="570276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8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5519880" y="57027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5562360" y="570276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5604840" y="57027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5649120" y="5702760"/>
                <a:ext cx="3132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5689440" y="5702760"/>
                <a:ext cx="3312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5733720" y="57027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575424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5796360" y="551556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5330160" y="5665680"/>
                <a:ext cx="3132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5445000" y="5249520"/>
                <a:ext cx="334440" cy="2530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5445000" y="5249520"/>
                <a:ext cx="334440" cy="2530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5466600" y="5273640"/>
                <a:ext cx="289080" cy="20484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5466600" y="5273640"/>
                <a:ext cx="289080" cy="20484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5526360" y="5319000"/>
                <a:ext cx="172440" cy="11592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1" y="68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" y="68"/>
                    </a:lnTo>
                    <a:close/>
                    <a:moveTo>
                      <a:pt x="120" y="144"/>
                    </a:moveTo>
                    <a:lnTo>
                      <a:pt x="120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20" y="144"/>
                    </a:lnTo>
                    <a:close/>
                    <a:moveTo>
                      <a:pt x="219" y="68"/>
                    </a:moveTo>
                    <a:lnTo>
                      <a:pt x="219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9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>
                <a:off x="5780880" y="5270400"/>
                <a:ext cx="109800" cy="228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>
                <a:off x="5754240" y="5270400"/>
                <a:ext cx="26640" cy="25632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5780880" y="5270400"/>
                <a:ext cx="28440" cy="256320"/>
              </a:xfrm>
              <a:prstGeom prst="rect">
                <a:avLst/>
              </a:prstGeom>
              <a:solidFill>
                <a:srgbClr val="b7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5809320" y="5270400"/>
                <a:ext cx="26640" cy="256320"/>
              </a:xfrm>
              <a:prstGeom prst="rect">
                <a:avLst/>
              </a:prstGeom>
              <a:solidFill>
                <a:srgbClr val="b55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5835960" y="5270400"/>
                <a:ext cx="28080" cy="256320"/>
              </a:xfrm>
              <a:prstGeom prst="rect">
                <a:avLst/>
              </a:prstGeom>
              <a:solidFill>
                <a:srgbClr val="b2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5864040" y="5270400"/>
                <a:ext cx="26640" cy="25632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5779440" y="5268600"/>
                <a:ext cx="109440" cy="227520"/>
              </a:xfrm>
              <a:custGeom>
                <a:avLst/>
                <a:gdLst/>
                <a:ahLst/>
                <a:rect l="l" t="t" r="r" b="b"/>
                <a:pathLst>
                  <a:path w="140" h="282">
                    <a:moveTo>
                      <a:pt x="0" y="264"/>
                    </a:moveTo>
                    <a:lnTo>
                      <a:pt x="1" y="267"/>
                    </a:lnTo>
                    <a:lnTo>
                      <a:pt x="1" y="270"/>
                    </a:lnTo>
                    <a:lnTo>
                      <a:pt x="4" y="273"/>
                    </a:lnTo>
                    <a:lnTo>
                      <a:pt x="6" y="276"/>
                    </a:lnTo>
                    <a:lnTo>
                      <a:pt x="10" y="278"/>
                    </a:lnTo>
                    <a:lnTo>
                      <a:pt x="14" y="279"/>
                    </a:lnTo>
                    <a:lnTo>
                      <a:pt x="18" y="281"/>
                    </a:lnTo>
                    <a:lnTo>
                      <a:pt x="23" y="282"/>
                    </a:lnTo>
                    <a:lnTo>
                      <a:pt x="29" y="282"/>
                    </a:lnTo>
                    <a:lnTo>
                      <a:pt x="29" y="282"/>
                    </a:lnTo>
                    <a:lnTo>
                      <a:pt x="114" y="273"/>
                    </a:lnTo>
                    <a:lnTo>
                      <a:pt x="120" y="272"/>
                    </a:lnTo>
                    <a:lnTo>
                      <a:pt x="125" y="269"/>
                    </a:lnTo>
                    <a:lnTo>
                      <a:pt x="129" y="267"/>
                    </a:lnTo>
                    <a:lnTo>
                      <a:pt x="133" y="263"/>
                    </a:lnTo>
                    <a:lnTo>
                      <a:pt x="137" y="259"/>
                    </a:lnTo>
                    <a:lnTo>
                      <a:pt x="139" y="255"/>
                    </a:lnTo>
                    <a:lnTo>
                      <a:pt x="140" y="250"/>
                    </a:lnTo>
                    <a:lnTo>
                      <a:pt x="140" y="246"/>
                    </a:lnTo>
                    <a:lnTo>
                      <a:pt x="140" y="38"/>
                    </a:lnTo>
                    <a:lnTo>
                      <a:pt x="140" y="33"/>
                    </a:lnTo>
                    <a:lnTo>
                      <a:pt x="139" y="28"/>
                    </a:lnTo>
                    <a:lnTo>
                      <a:pt x="137" y="24"/>
                    </a:lnTo>
                    <a:lnTo>
                      <a:pt x="133" y="19"/>
                    </a:lnTo>
                    <a:lnTo>
                      <a:pt x="129" y="17"/>
                    </a:lnTo>
                    <a:lnTo>
                      <a:pt x="125" y="13"/>
                    </a:lnTo>
                    <a:lnTo>
                      <a:pt x="120" y="10"/>
                    </a:lnTo>
                    <a:lnTo>
                      <a:pt x="114" y="9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6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5243400" y="5201280"/>
                <a:ext cx="53280" cy="525600"/>
              </a:xfrm>
              <a:custGeom>
                <a:avLst/>
                <a:gdLst/>
                <a:ahLst/>
                <a:rect l="l" t="t" r="r" b="b"/>
                <a:pathLst>
                  <a:path w="69" h="651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80"/>
                    </a:moveTo>
                    <a:lnTo>
                      <a:pt x="39" y="580"/>
                    </a:lnTo>
                    <a:lnTo>
                      <a:pt x="43" y="582"/>
                    </a:lnTo>
                    <a:lnTo>
                      <a:pt x="47" y="582"/>
                    </a:lnTo>
                    <a:lnTo>
                      <a:pt x="50" y="583"/>
                    </a:lnTo>
                    <a:lnTo>
                      <a:pt x="53" y="586"/>
                    </a:lnTo>
                    <a:lnTo>
                      <a:pt x="57" y="588"/>
                    </a:lnTo>
                    <a:lnTo>
                      <a:pt x="59" y="591"/>
                    </a:lnTo>
                    <a:lnTo>
                      <a:pt x="62" y="593"/>
                    </a:lnTo>
                    <a:lnTo>
                      <a:pt x="64" y="596"/>
                    </a:lnTo>
                    <a:lnTo>
                      <a:pt x="67" y="599"/>
                    </a:lnTo>
                    <a:lnTo>
                      <a:pt x="68" y="602"/>
                    </a:lnTo>
                    <a:lnTo>
                      <a:pt x="69" y="606"/>
                    </a:lnTo>
                    <a:lnTo>
                      <a:pt x="69" y="610"/>
                    </a:lnTo>
                    <a:lnTo>
                      <a:pt x="69" y="613"/>
                    </a:lnTo>
                    <a:lnTo>
                      <a:pt x="69" y="617"/>
                    </a:lnTo>
                    <a:lnTo>
                      <a:pt x="69" y="620"/>
                    </a:lnTo>
                    <a:lnTo>
                      <a:pt x="69" y="623"/>
                    </a:lnTo>
                    <a:lnTo>
                      <a:pt x="68" y="626"/>
                    </a:lnTo>
                    <a:lnTo>
                      <a:pt x="67" y="630"/>
                    </a:lnTo>
                    <a:lnTo>
                      <a:pt x="65" y="632"/>
                    </a:lnTo>
                    <a:lnTo>
                      <a:pt x="63" y="637"/>
                    </a:lnTo>
                    <a:lnTo>
                      <a:pt x="58" y="642"/>
                    </a:lnTo>
                    <a:lnTo>
                      <a:pt x="53" y="646"/>
                    </a:lnTo>
                    <a:lnTo>
                      <a:pt x="47" y="649"/>
                    </a:lnTo>
                    <a:lnTo>
                      <a:pt x="41" y="650"/>
                    </a:lnTo>
                    <a:lnTo>
                      <a:pt x="38" y="651"/>
                    </a:lnTo>
                    <a:lnTo>
                      <a:pt x="35" y="651"/>
                    </a:lnTo>
                    <a:lnTo>
                      <a:pt x="31" y="651"/>
                    </a:lnTo>
                    <a:lnTo>
                      <a:pt x="28" y="650"/>
                    </a:lnTo>
                    <a:lnTo>
                      <a:pt x="24" y="649"/>
                    </a:lnTo>
                    <a:lnTo>
                      <a:pt x="20" y="647"/>
                    </a:lnTo>
                    <a:lnTo>
                      <a:pt x="13" y="642"/>
                    </a:lnTo>
                    <a:lnTo>
                      <a:pt x="10" y="640"/>
                    </a:lnTo>
                    <a:lnTo>
                      <a:pt x="8" y="637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1" y="627"/>
                    </a:lnTo>
                    <a:lnTo>
                      <a:pt x="0" y="625"/>
                    </a:lnTo>
                    <a:lnTo>
                      <a:pt x="0" y="621"/>
                    </a:lnTo>
                    <a:lnTo>
                      <a:pt x="0" y="617"/>
                    </a:lnTo>
                    <a:lnTo>
                      <a:pt x="0" y="613"/>
                    </a:lnTo>
                    <a:lnTo>
                      <a:pt x="0" y="610"/>
                    </a:lnTo>
                    <a:lnTo>
                      <a:pt x="1" y="606"/>
                    </a:lnTo>
                    <a:lnTo>
                      <a:pt x="1" y="603"/>
                    </a:lnTo>
                    <a:lnTo>
                      <a:pt x="3" y="599"/>
                    </a:lnTo>
                    <a:lnTo>
                      <a:pt x="4" y="597"/>
                    </a:lnTo>
                    <a:lnTo>
                      <a:pt x="8" y="593"/>
                    </a:lnTo>
                    <a:lnTo>
                      <a:pt x="11" y="589"/>
                    </a:lnTo>
                    <a:lnTo>
                      <a:pt x="14" y="587"/>
                    </a:lnTo>
                    <a:lnTo>
                      <a:pt x="16" y="586"/>
                    </a:lnTo>
                    <a:lnTo>
                      <a:pt x="20" y="583"/>
                    </a:lnTo>
                    <a:lnTo>
                      <a:pt x="23" y="582"/>
                    </a:lnTo>
                    <a:lnTo>
                      <a:pt x="29" y="580"/>
                    </a:lnTo>
                    <a:lnTo>
                      <a:pt x="35" y="580"/>
                    </a:lnTo>
                    <a:lnTo>
                      <a:pt x="35" y="58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5243400" y="5201280"/>
                <a:ext cx="53280" cy="5616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5243400" y="5668920"/>
                <a:ext cx="53280" cy="5760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35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7" y="8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3"/>
                    </a:lnTo>
                    <a:lnTo>
                      <a:pt x="69" y="37"/>
                    </a:lnTo>
                    <a:lnTo>
                      <a:pt x="69" y="40"/>
                    </a:lnTo>
                    <a:lnTo>
                      <a:pt x="69" y="43"/>
                    </a:lnTo>
                    <a:lnTo>
                      <a:pt x="68" y="46"/>
                    </a:lnTo>
                    <a:lnTo>
                      <a:pt x="67" y="50"/>
                    </a:lnTo>
                    <a:lnTo>
                      <a:pt x="65" y="52"/>
                    </a:lnTo>
                    <a:lnTo>
                      <a:pt x="63" y="57"/>
                    </a:lnTo>
                    <a:lnTo>
                      <a:pt x="58" y="62"/>
                    </a:lnTo>
                    <a:lnTo>
                      <a:pt x="53" y="66"/>
                    </a:lnTo>
                    <a:lnTo>
                      <a:pt x="47" y="69"/>
                    </a:lnTo>
                    <a:lnTo>
                      <a:pt x="41" y="70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8" y="70"/>
                    </a:lnTo>
                    <a:lnTo>
                      <a:pt x="24" y="69"/>
                    </a:lnTo>
                    <a:lnTo>
                      <a:pt x="20" y="67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5259240" y="5217120"/>
                <a:ext cx="21960" cy="491760"/>
              </a:xfrm>
              <a:custGeom>
                <a:avLst/>
                <a:gdLst/>
                <a:ahLst/>
                <a:rect l="l" t="t" r="r" b="b"/>
                <a:pathLst>
                  <a:path w="29" h="611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8"/>
                    </a:moveTo>
                    <a:lnTo>
                      <a:pt x="9" y="607"/>
                    </a:lnTo>
                    <a:lnTo>
                      <a:pt x="10" y="606"/>
                    </a:lnTo>
                    <a:lnTo>
                      <a:pt x="11" y="605"/>
                    </a:lnTo>
                    <a:lnTo>
                      <a:pt x="13" y="603"/>
                    </a:lnTo>
                    <a:lnTo>
                      <a:pt x="15" y="603"/>
                    </a:lnTo>
                    <a:lnTo>
                      <a:pt x="16" y="603"/>
                    </a:lnTo>
                    <a:lnTo>
                      <a:pt x="18" y="605"/>
                    </a:lnTo>
                    <a:lnTo>
                      <a:pt x="19" y="606"/>
                    </a:lnTo>
                    <a:lnTo>
                      <a:pt x="20" y="607"/>
                    </a:lnTo>
                    <a:lnTo>
                      <a:pt x="20" y="607"/>
                    </a:lnTo>
                    <a:lnTo>
                      <a:pt x="23" y="608"/>
                    </a:lnTo>
                    <a:lnTo>
                      <a:pt x="24" y="608"/>
                    </a:lnTo>
                    <a:lnTo>
                      <a:pt x="25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9" y="607"/>
                    </a:lnTo>
                    <a:lnTo>
                      <a:pt x="29" y="606"/>
                    </a:lnTo>
                    <a:lnTo>
                      <a:pt x="29" y="606"/>
                    </a:lnTo>
                    <a:lnTo>
                      <a:pt x="29" y="603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7" y="600"/>
                    </a:lnTo>
                    <a:lnTo>
                      <a:pt x="25" y="600"/>
                    </a:lnTo>
                    <a:lnTo>
                      <a:pt x="24" y="598"/>
                    </a:lnTo>
                    <a:lnTo>
                      <a:pt x="24" y="597"/>
                    </a:lnTo>
                    <a:lnTo>
                      <a:pt x="24" y="596"/>
                    </a:lnTo>
                    <a:lnTo>
                      <a:pt x="24" y="595"/>
                    </a:lnTo>
                    <a:lnTo>
                      <a:pt x="24" y="592"/>
                    </a:lnTo>
                    <a:lnTo>
                      <a:pt x="25" y="591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9" y="587"/>
                    </a:lnTo>
                    <a:lnTo>
                      <a:pt x="29" y="587"/>
                    </a:lnTo>
                    <a:lnTo>
                      <a:pt x="29" y="586"/>
                    </a:lnTo>
                    <a:lnTo>
                      <a:pt x="29" y="584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7" y="582"/>
                    </a:lnTo>
                    <a:lnTo>
                      <a:pt x="27" y="581"/>
                    </a:lnTo>
                    <a:lnTo>
                      <a:pt x="25" y="581"/>
                    </a:lnTo>
                    <a:lnTo>
                      <a:pt x="24" y="581"/>
                    </a:lnTo>
                    <a:lnTo>
                      <a:pt x="23" y="582"/>
                    </a:lnTo>
                    <a:lnTo>
                      <a:pt x="23" y="582"/>
                    </a:lnTo>
                    <a:lnTo>
                      <a:pt x="20" y="584"/>
                    </a:lnTo>
                    <a:lnTo>
                      <a:pt x="19" y="586"/>
                    </a:lnTo>
                    <a:lnTo>
                      <a:pt x="18" y="586"/>
                    </a:lnTo>
                    <a:lnTo>
                      <a:pt x="15" y="586"/>
                    </a:lnTo>
                    <a:lnTo>
                      <a:pt x="11" y="586"/>
                    </a:lnTo>
                    <a:lnTo>
                      <a:pt x="10" y="586"/>
                    </a:lnTo>
                    <a:lnTo>
                      <a:pt x="9" y="584"/>
                    </a:lnTo>
                    <a:lnTo>
                      <a:pt x="9" y="584"/>
                    </a:lnTo>
                    <a:lnTo>
                      <a:pt x="6" y="582"/>
                    </a:lnTo>
                    <a:lnTo>
                      <a:pt x="5" y="581"/>
                    </a:lnTo>
                    <a:lnTo>
                      <a:pt x="4" y="581"/>
                    </a:lnTo>
                    <a:lnTo>
                      <a:pt x="3" y="581"/>
                    </a:lnTo>
                    <a:lnTo>
                      <a:pt x="3" y="582"/>
                    </a:lnTo>
                    <a:lnTo>
                      <a:pt x="0" y="582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6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3" y="590"/>
                    </a:lnTo>
                    <a:lnTo>
                      <a:pt x="4" y="591"/>
                    </a:lnTo>
                    <a:lnTo>
                      <a:pt x="5" y="592"/>
                    </a:lnTo>
                    <a:lnTo>
                      <a:pt x="5" y="595"/>
                    </a:lnTo>
                    <a:lnTo>
                      <a:pt x="6" y="596"/>
                    </a:lnTo>
                    <a:lnTo>
                      <a:pt x="5" y="597"/>
                    </a:lnTo>
                    <a:lnTo>
                      <a:pt x="5" y="598"/>
                    </a:lnTo>
                    <a:lnTo>
                      <a:pt x="4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0" y="602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3" y="608"/>
                    </a:lnTo>
                    <a:lnTo>
                      <a:pt x="3" y="610"/>
                    </a:lnTo>
                    <a:lnTo>
                      <a:pt x="4" y="611"/>
                    </a:lnTo>
                    <a:lnTo>
                      <a:pt x="5" y="610"/>
                    </a:lnTo>
                    <a:lnTo>
                      <a:pt x="6" y="608"/>
                    </a:lnTo>
                    <a:lnTo>
                      <a:pt x="6" y="60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5259240" y="521712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5259240" y="5685120"/>
                <a:ext cx="21960" cy="2412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7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2992" name=""/>
            <p:cNvSpPr/>
            <p:nvPr/>
          </p:nvSpPr>
          <p:spPr>
            <a:xfrm>
              <a:off x="5312160" y="5184000"/>
              <a:ext cx="55080" cy="5745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5284440" y="5155560"/>
              <a:ext cx="27360" cy="630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5312160" y="5155560"/>
              <a:ext cx="27360" cy="630000"/>
            </a:xfrm>
            <a:prstGeom prst="rect">
              <a:avLst/>
            </a:pr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5339520" y="5155560"/>
              <a:ext cx="27720" cy="63000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305320" y="5171400"/>
              <a:ext cx="46800" cy="588240"/>
            </a:xfrm>
            <a:custGeom>
              <a:avLst/>
              <a:gdLst/>
              <a:ahLst/>
              <a:rect l="l" t="t" r="r" b="b"/>
              <a:pathLst>
                <a:path w="60" h="728">
                  <a:moveTo>
                    <a:pt x="60" y="720"/>
                  </a:moveTo>
                  <a:lnTo>
                    <a:pt x="60" y="7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20"/>
                  </a:lnTo>
                  <a:lnTo>
                    <a:pt x="1" y="723"/>
                  </a:lnTo>
                  <a:lnTo>
                    <a:pt x="1" y="724"/>
                  </a:lnTo>
                  <a:lnTo>
                    <a:pt x="4" y="725"/>
                  </a:lnTo>
                  <a:lnTo>
                    <a:pt x="6" y="726"/>
                  </a:lnTo>
                  <a:lnTo>
                    <a:pt x="9" y="728"/>
                  </a:lnTo>
                  <a:lnTo>
                    <a:pt x="9" y="728"/>
                  </a:lnTo>
                  <a:lnTo>
                    <a:pt x="53" y="728"/>
                  </a:lnTo>
                  <a:lnTo>
                    <a:pt x="56" y="726"/>
                  </a:lnTo>
                  <a:lnTo>
                    <a:pt x="58" y="725"/>
                  </a:lnTo>
                  <a:lnTo>
                    <a:pt x="59" y="724"/>
                  </a:lnTo>
                  <a:lnTo>
                    <a:pt x="60" y="7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2640600" y="5729040"/>
              <a:ext cx="169200" cy="5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2640600" y="5729040"/>
              <a:ext cx="16920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2895480" y="5729040"/>
              <a:ext cx="168120" cy="5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895480" y="5729040"/>
              <a:ext cx="16812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147840" y="5729040"/>
              <a:ext cx="171000" cy="5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147840" y="5729040"/>
              <a:ext cx="17100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3402000" y="5729040"/>
              <a:ext cx="169200" cy="57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3402000" y="5729040"/>
              <a:ext cx="169200" cy="57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2978280" y="5509800"/>
              <a:ext cx="256320" cy="86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2978280" y="5509800"/>
              <a:ext cx="256320" cy="867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978280" y="5245920"/>
              <a:ext cx="256320" cy="889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978280" y="5245920"/>
              <a:ext cx="256320" cy="88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009" name=""/>
          <p:cNvSpPr/>
          <p:nvPr/>
        </p:nvSpPr>
        <p:spPr>
          <a:xfrm>
            <a:off x="6696360" y="1541520"/>
            <a:ext cx="2117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AS Disk Enclo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0" name=""/>
          <p:cNvSpPr/>
          <p:nvPr/>
        </p:nvSpPr>
        <p:spPr>
          <a:xfrm>
            <a:off x="6685560" y="2604960"/>
            <a:ext cx="2176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AS Disk Enclosur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1" name=""/>
          <p:cNvSpPr/>
          <p:nvPr/>
        </p:nvSpPr>
        <p:spPr>
          <a:xfrm>
            <a:off x="7016760" y="5369040"/>
            <a:ext cx="173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torage CLIM 1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2" name=""/>
          <p:cNvSpPr/>
          <p:nvPr/>
        </p:nvSpPr>
        <p:spPr>
          <a:xfrm>
            <a:off x="6981840" y="4390920"/>
            <a:ext cx="173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torage CLIM 2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3" name=""/>
          <p:cNvSpPr/>
          <p:nvPr/>
        </p:nvSpPr>
        <p:spPr>
          <a:xfrm>
            <a:off x="601560" y="4289400"/>
            <a:ext cx="14814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erverNet adapter (slot 3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4" name=""/>
          <p:cNvSpPr/>
          <p:nvPr/>
        </p:nvSpPr>
        <p:spPr>
          <a:xfrm>
            <a:off x="484200" y="3711600"/>
            <a:ext cx="1630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AS HBA (slot 5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AS HBA (slot 4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5" name=""/>
          <p:cNvSpPr/>
          <p:nvPr/>
        </p:nvSpPr>
        <p:spPr>
          <a:xfrm>
            <a:off x="1812960" y="6245280"/>
            <a:ext cx="548460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Futura Bk"/>
              </a:rPr>
              <a:t>Minimal fault tolerant configuration</a:t>
            </a:r>
            <a:endParaRPr b="0" lang="en-US" sz="2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6" name=""/>
          <p:cNvSpPr/>
          <p:nvPr/>
        </p:nvSpPr>
        <p:spPr>
          <a:xfrm>
            <a:off x="341280" y="1214280"/>
            <a:ext cx="0" cy="4343400"/>
          </a:xfrm>
          <a:prstGeom prst="line">
            <a:avLst/>
          </a:prstGeom>
          <a:ln w="2844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7" name=""/>
          <p:cNvSpPr/>
          <p:nvPr/>
        </p:nvSpPr>
        <p:spPr>
          <a:xfrm>
            <a:off x="351000" y="5559480"/>
            <a:ext cx="2352600" cy="0"/>
          </a:xfrm>
          <a:prstGeom prst="line">
            <a:avLst/>
          </a:prstGeom>
          <a:ln w="28440">
            <a:solidFill>
              <a:srgbClr val="0071b5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8" name=""/>
          <p:cNvSpPr/>
          <p:nvPr/>
        </p:nvSpPr>
        <p:spPr>
          <a:xfrm flipV="1">
            <a:off x="349200" y="1198440"/>
            <a:ext cx="3603600" cy="14400"/>
          </a:xfrm>
          <a:prstGeom prst="line">
            <a:avLst/>
          </a:prstGeom>
          <a:ln w="2844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9" name=""/>
          <p:cNvSpPr/>
          <p:nvPr/>
        </p:nvSpPr>
        <p:spPr>
          <a:xfrm>
            <a:off x="3952800" y="1211400"/>
            <a:ext cx="0" cy="939600"/>
          </a:xfrm>
          <a:prstGeom prst="line">
            <a:avLst/>
          </a:prstGeom>
          <a:ln w="28440">
            <a:solidFill>
              <a:srgbClr val="0071b5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0" name=""/>
          <p:cNvSpPr/>
          <p:nvPr/>
        </p:nvSpPr>
        <p:spPr>
          <a:xfrm flipH="1">
            <a:off x="456840" y="5297400"/>
            <a:ext cx="2259000" cy="0"/>
          </a:xfrm>
          <a:prstGeom prst="line">
            <a:avLst/>
          </a:prstGeom>
          <a:ln w="2844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1" name=""/>
          <p:cNvSpPr/>
          <p:nvPr/>
        </p:nvSpPr>
        <p:spPr>
          <a:xfrm>
            <a:off x="2017800" y="3898800"/>
            <a:ext cx="846000" cy="68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21600" bIns="21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2" name=""/>
          <p:cNvSpPr/>
          <p:nvPr/>
        </p:nvSpPr>
        <p:spPr>
          <a:xfrm>
            <a:off x="2058840" y="4154400"/>
            <a:ext cx="819360" cy="95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3" name=""/>
          <p:cNvSpPr/>
          <p:nvPr/>
        </p:nvSpPr>
        <p:spPr>
          <a:xfrm>
            <a:off x="1743120" y="44514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4" name=""/>
          <p:cNvSpPr/>
          <p:nvPr/>
        </p:nvSpPr>
        <p:spPr>
          <a:xfrm flipH="1" flipV="1">
            <a:off x="417240" y="2500200"/>
            <a:ext cx="27000" cy="27972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5" name=""/>
          <p:cNvSpPr/>
          <p:nvPr/>
        </p:nvSpPr>
        <p:spPr>
          <a:xfrm>
            <a:off x="430200" y="2502000"/>
            <a:ext cx="3510000" cy="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6" name=""/>
          <p:cNvSpPr/>
          <p:nvPr/>
        </p:nvSpPr>
        <p:spPr>
          <a:xfrm>
            <a:off x="3940200" y="2502000"/>
            <a:ext cx="0" cy="7524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7" name=""/>
          <p:cNvSpPr/>
          <p:nvPr/>
        </p:nvSpPr>
        <p:spPr>
          <a:xfrm>
            <a:off x="2863080" y="1779480"/>
            <a:ext cx="93816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Primar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8" name=""/>
          <p:cNvSpPr/>
          <p:nvPr/>
        </p:nvSpPr>
        <p:spPr>
          <a:xfrm>
            <a:off x="2139480" y="2895480"/>
            <a:ext cx="163152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Mirror Backup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9" name=""/>
          <p:cNvSpPr/>
          <p:nvPr/>
        </p:nvSpPr>
        <p:spPr>
          <a:xfrm>
            <a:off x="3294000" y="4235400"/>
            <a:ext cx="5688000" cy="0"/>
          </a:xfrm>
          <a:prstGeom prst="line">
            <a:avLst/>
          </a:prstGeom>
          <a:ln w="28440">
            <a:solidFill>
              <a:srgbClr val="0071b5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0" name=""/>
          <p:cNvSpPr/>
          <p:nvPr/>
        </p:nvSpPr>
        <p:spPr>
          <a:xfrm flipV="1">
            <a:off x="4840200" y="1155600"/>
            <a:ext cx="0" cy="874800"/>
          </a:xfrm>
          <a:prstGeom prst="line">
            <a:avLst/>
          </a:prstGeom>
          <a:ln w="19080">
            <a:solidFill>
              <a:srgbClr val="0071b5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1" name=""/>
          <p:cNvSpPr/>
          <p:nvPr/>
        </p:nvSpPr>
        <p:spPr>
          <a:xfrm>
            <a:off x="4840200" y="1143000"/>
            <a:ext cx="4114800" cy="14400"/>
          </a:xfrm>
          <a:prstGeom prst="line">
            <a:avLst/>
          </a:prstGeom>
          <a:ln w="1908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2" name=""/>
          <p:cNvSpPr/>
          <p:nvPr/>
        </p:nvSpPr>
        <p:spPr>
          <a:xfrm>
            <a:off x="9028080" y="1130400"/>
            <a:ext cx="0" cy="3092400"/>
          </a:xfrm>
          <a:prstGeom prst="line">
            <a:avLst/>
          </a:prstGeom>
          <a:ln w="1908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3" name=""/>
          <p:cNvSpPr/>
          <p:nvPr/>
        </p:nvSpPr>
        <p:spPr>
          <a:xfrm flipV="1">
            <a:off x="3335400" y="3967200"/>
            <a:ext cx="5419800" cy="14400"/>
          </a:xfrm>
          <a:prstGeom prst="line">
            <a:avLst/>
          </a:prstGeom>
          <a:ln w="2844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4" name=""/>
          <p:cNvSpPr/>
          <p:nvPr/>
        </p:nvSpPr>
        <p:spPr>
          <a:xfrm flipV="1">
            <a:off x="4813200" y="2447640"/>
            <a:ext cx="0" cy="765000"/>
          </a:xfrm>
          <a:prstGeom prst="line">
            <a:avLst/>
          </a:prstGeom>
          <a:ln w="1908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5" name=""/>
          <p:cNvSpPr/>
          <p:nvPr/>
        </p:nvSpPr>
        <p:spPr>
          <a:xfrm>
            <a:off x="4813200" y="2462040"/>
            <a:ext cx="3954600" cy="1296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6" name=""/>
          <p:cNvSpPr/>
          <p:nvPr/>
        </p:nvSpPr>
        <p:spPr>
          <a:xfrm>
            <a:off x="8753400" y="2460600"/>
            <a:ext cx="0" cy="147960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7" name=""/>
          <p:cNvSpPr/>
          <p:nvPr/>
        </p:nvSpPr>
        <p:spPr>
          <a:xfrm>
            <a:off x="4942440" y="1717560"/>
            <a:ext cx="88308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Backup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8" name=""/>
          <p:cNvSpPr/>
          <p:nvPr/>
        </p:nvSpPr>
        <p:spPr>
          <a:xfrm>
            <a:off x="4938840" y="2811600"/>
            <a:ext cx="780840" cy="36828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Mirro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9" name=""/>
          <p:cNvSpPr/>
          <p:nvPr/>
        </p:nvSpPr>
        <p:spPr>
          <a:xfrm>
            <a:off x="3796920" y="3414600"/>
            <a:ext cx="45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A  B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057F3-172D-4D88-ACAE-03FA0365D40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onfiguration – 4C4D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3041" name="" descr=""/>
          <p:cNvPicPr/>
          <p:nvPr/>
        </p:nvPicPr>
        <p:blipFill>
          <a:blip r:embed="rId1"/>
          <a:stretch/>
        </p:blipFill>
        <p:spPr>
          <a:xfrm>
            <a:off x="2724120" y="979560"/>
            <a:ext cx="3718080" cy="590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042" name=""/>
          <p:cNvGrpSpPr/>
          <p:nvPr/>
        </p:nvGrpSpPr>
        <p:grpSpPr>
          <a:xfrm>
            <a:off x="2490840" y="6039000"/>
            <a:ext cx="4190760" cy="678960"/>
            <a:chOff x="2490840" y="6039000"/>
            <a:chExt cx="4190760" cy="678960"/>
          </a:xfrm>
        </p:grpSpPr>
        <p:sp>
          <p:nvSpPr>
            <p:cNvPr id="3043" name=""/>
            <p:cNvSpPr/>
            <p:nvPr/>
          </p:nvSpPr>
          <p:spPr>
            <a:xfrm>
              <a:off x="2493000" y="6431400"/>
              <a:ext cx="83160" cy="276480"/>
            </a:xfrm>
            <a:custGeom>
              <a:avLst/>
              <a:gdLst/>
              <a:ahLst/>
              <a:rect l="l" t="t" r="r" b="b"/>
              <a:pathLst>
                <a:path w="122" h="497">
                  <a:moveTo>
                    <a:pt x="104" y="497"/>
                  </a:moveTo>
                  <a:lnTo>
                    <a:pt x="108" y="497"/>
                  </a:lnTo>
                  <a:lnTo>
                    <a:pt x="110" y="496"/>
                  </a:lnTo>
                  <a:lnTo>
                    <a:pt x="114" y="495"/>
                  </a:lnTo>
                  <a:lnTo>
                    <a:pt x="117" y="492"/>
                  </a:lnTo>
                  <a:lnTo>
                    <a:pt x="118" y="490"/>
                  </a:lnTo>
                  <a:lnTo>
                    <a:pt x="120" y="487"/>
                  </a:lnTo>
                  <a:lnTo>
                    <a:pt x="122" y="485"/>
                  </a:lnTo>
                  <a:lnTo>
                    <a:pt x="122" y="481"/>
                  </a:lnTo>
                  <a:lnTo>
                    <a:pt x="122" y="481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0" y="9"/>
                  </a:lnTo>
                  <a:lnTo>
                    <a:pt x="118" y="6"/>
                  </a:lnTo>
                  <a:lnTo>
                    <a:pt x="117" y="4"/>
                  </a:lnTo>
                  <a:lnTo>
                    <a:pt x="114" y="2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1" y="487"/>
                  </a:lnTo>
                  <a:lnTo>
                    <a:pt x="3" y="490"/>
                  </a:lnTo>
                  <a:lnTo>
                    <a:pt x="5" y="492"/>
                  </a:lnTo>
                  <a:lnTo>
                    <a:pt x="8" y="495"/>
                  </a:lnTo>
                  <a:lnTo>
                    <a:pt x="10" y="496"/>
                  </a:lnTo>
                  <a:lnTo>
                    <a:pt x="14" y="497"/>
                  </a:lnTo>
                  <a:lnTo>
                    <a:pt x="18" y="497"/>
                  </a:lnTo>
                  <a:lnTo>
                    <a:pt x="104" y="497"/>
                  </a:lnTo>
                  <a:lnTo>
                    <a:pt x="104" y="49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2491920" y="6429600"/>
              <a:ext cx="84600" cy="2782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2491920" y="6429600"/>
              <a:ext cx="1080" cy="278280"/>
            </a:xfrm>
            <a:prstGeom prst="rect">
              <a:avLst/>
            </a:prstGeom>
            <a:solidFill>
              <a:srgbClr val="b4b4b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2491920" y="6429600"/>
              <a:ext cx="1080" cy="27828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2493000" y="6429600"/>
              <a:ext cx="1080" cy="278280"/>
            </a:xfrm>
            <a:prstGeom prst="rect">
              <a:avLst/>
            </a:prstGeom>
            <a:solidFill>
              <a:srgbClr val="b5b5b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2494080" y="6429600"/>
              <a:ext cx="2160" cy="278280"/>
            </a:xfrm>
            <a:prstGeom prst="rect">
              <a:avLst/>
            </a:prstGeom>
            <a:solidFill>
              <a:srgbClr val="b7b7b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494080" y="6429600"/>
              <a:ext cx="2160" cy="278280"/>
            </a:xfrm>
            <a:prstGeom prst="rect">
              <a:avLst/>
            </a:prstGeom>
            <a:solidFill>
              <a:srgbClr val="b8b8b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2496600" y="6429600"/>
              <a:ext cx="1080" cy="278280"/>
            </a:xfrm>
            <a:prstGeom prst="rect">
              <a:avLst/>
            </a:prstGeom>
            <a:solidFill>
              <a:srgbClr val="baba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497680" y="6429600"/>
              <a:ext cx="1080" cy="27828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2497680" y="6429600"/>
              <a:ext cx="1080" cy="278280"/>
            </a:xfrm>
            <a:prstGeom prst="rect">
              <a:avLst/>
            </a:prstGeom>
            <a:solidFill>
              <a:srgbClr val="bdbdb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499120" y="6429600"/>
              <a:ext cx="1080" cy="27828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499120" y="6429600"/>
              <a:ext cx="1080" cy="278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2500200" y="6429600"/>
              <a:ext cx="1080" cy="278280"/>
            </a:xfrm>
            <a:prstGeom prst="rect">
              <a:avLst/>
            </a:prstGeom>
            <a:solidFill>
              <a:srgbClr val="c2c2c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2501640" y="6429600"/>
              <a:ext cx="1080" cy="278280"/>
            </a:xfrm>
            <a:prstGeom prst="rect">
              <a:avLst/>
            </a:prstGeom>
            <a:solidFill>
              <a:srgbClr val="c3c3c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501640" y="6429600"/>
              <a:ext cx="1080" cy="278280"/>
            </a:xfrm>
            <a:prstGeom prst="rect">
              <a:avLst/>
            </a:prstGeom>
            <a:solidFill>
              <a:srgbClr val="c4c4c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2502720" y="6429600"/>
              <a:ext cx="1080" cy="278280"/>
            </a:xfrm>
            <a:prstGeom prst="rect">
              <a:avLst/>
            </a:prstGeom>
            <a:solidFill>
              <a:srgbClr val="c6c6c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503800" y="6429600"/>
              <a:ext cx="2160" cy="278280"/>
            </a:xfrm>
            <a:prstGeom prst="rect">
              <a:avLst/>
            </a:prstGeom>
            <a:solidFill>
              <a:srgbClr val="c8c8c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2503800" y="6429600"/>
              <a:ext cx="2160" cy="278280"/>
            </a:xfrm>
            <a:prstGeom prst="rect">
              <a:avLst/>
            </a:prstGeom>
            <a:solidFill>
              <a:srgbClr val="c9c9c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2505960" y="6429600"/>
              <a:ext cx="1080" cy="278280"/>
            </a:xfrm>
            <a:prstGeom prst="rect">
              <a:avLst/>
            </a:prstGeom>
            <a:solidFill>
              <a:srgbClr val="cbcb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505960" y="6429600"/>
              <a:ext cx="1080" cy="278280"/>
            </a:xfrm>
            <a:prstGeom prst="rect">
              <a:avLst/>
            </a:prstGeom>
            <a:solidFill>
              <a:srgbClr val="cccc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507400" y="6429600"/>
              <a:ext cx="1080" cy="27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2508480" y="6429600"/>
              <a:ext cx="1080" cy="278280"/>
            </a:xfrm>
            <a:prstGeom prst="rect">
              <a:avLst/>
            </a:prstGeom>
            <a:solidFill>
              <a:srgbClr val="d0d0d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2508480" y="6429600"/>
              <a:ext cx="1080" cy="278280"/>
            </a:xfrm>
            <a:prstGeom prst="rect">
              <a:avLst/>
            </a:prstGeom>
            <a:solidFill>
              <a:srgbClr val="d1d1d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2509920" y="6429600"/>
              <a:ext cx="1080" cy="278280"/>
            </a:xfrm>
            <a:prstGeom prst="rect">
              <a:avLst/>
            </a:prstGeom>
            <a:solidFill>
              <a:srgbClr val="d3d3d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511000" y="6429600"/>
              <a:ext cx="1080" cy="278280"/>
            </a:xfrm>
            <a:prstGeom prst="rect">
              <a:avLst/>
            </a:prstGeom>
            <a:solidFill>
              <a:srgbClr val="d4d4d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2511000" y="6429600"/>
              <a:ext cx="1080" cy="278280"/>
            </a:xfrm>
            <a:prstGeom prst="rect">
              <a:avLst/>
            </a:prstGeom>
            <a:solidFill>
              <a:srgbClr val="d6d6d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2512080" y="6429600"/>
              <a:ext cx="1080" cy="278280"/>
            </a:xfrm>
            <a:prstGeom prst="rect">
              <a:avLst/>
            </a:prstGeom>
            <a:solidFill>
              <a:srgbClr val="d7d7d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512080" y="6429600"/>
              <a:ext cx="1080" cy="278280"/>
            </a:xfrm>
            <a:prstGeom prst="rect">
              <a:avLst/>
            </a:prstGeom>
            <a:solidFill>
              <a:srgbClr val="d8d8d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2513520" y="6429600"/>
              <a:ext cx="1080" cy="278280"/>
            </a:xfrm>
            <a:prstGeom prst="rect">
              <a:avLst/>
            </a:prstGeom>
            <a:solidFill>
              <a:srgbClr val="dadad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2514600" y="6429600"/>
              <a:ext cx="2160" cy="278280"/>
            </a:xfrm>
            <a:prstGeom prst="rect">
              <a:avLst/>
            </a:prstGeom>
            <a:solidFill>
              <a:srgbClr val="dcdcd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2514600" y="6429600"/>
              <a:ext cx="2160" cy="2782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2517120" y="6429600"/>
              <a:ext cx="1080" cy="278280"/>
            </a:xfrm>
            <a:prstGeom prst="rect">
              <a:avLst/>
            </a:prstGeom>
            <a:solidFill>
              <a:srgbClr val="dfdfd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518200" y="6429600"/>
              <a:ext cx="1080" cy="27828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2518200" y="6429600"/>
              <a:ext cx="1080" cy="278280"/>
            </a:xfrm>
            <a:prstGeom prst="rect">
              <a:avLst/>
            </a:prstGeom>
            <a:solidFill>
              <a:srgbClr val="e2e2e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2519280" y="6429600"/>
              <a:ext cx="1080" cy="278280"/>
            </a:xfrm>
            <a:prstGeom prst="rect">
              <a:avLst/>
            </a:prstGeom>
            <a:solidFill>
              <a:srgbClr val="e4e4e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2520360" y="6429600"/>
              <a:ext cx="1080" cy="278280"/>
            </a:xfrm>
            <a:prstGeom prst="rect">
              <a:avLst/>
            </a:prstGeom>
            <a:solidFill>
              <a:srgbClr val="e5e5e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2520360" y="6429600"/>
              <a:ext cx="1080" cy="278280"/>
            </a:xfrm>
            <a:prstGeom prst="rect">
              <a:avLst/>
            </a:prstGeom>
            <a:solidFill>
              <a:srgbClr val="e7e7e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2521800" y="6429600"/>
              <a:ext cx="1080" cy="278280"/>
            </a:xfrm>
            <a:prstGeom prst="rect">
              <a:avLst/>
            </a:prstGeom>
            <a:solidFill>
              <a:srgbClr val="e8e8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2521800" y="6429600"/>
              <a:ext cx="1080" cy="2782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2522880" y="6429600"/>
              <a:ext cx="1080" cy="278280"/>
            </a:xfrm>
            <a:prstGeom prst="rect">
              <a:avLst/>
            </a:prstGeom>
            <a:solidFill>
              <a:srgbClr val="ebebe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523960" y="6429600"/>
              <a:ext cx="2160" cy="278280"/>
            </a:xfrm>
            <a:prstGeom prst="rect">
              <a:avLst/>
            </a:prstGeom>
            <a:solidFill>
              <a:srgbClr val="edede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2523960" y="6429600"/>
              <a:ext cx="2160" cy="278280"/>
            </a:xfrm>
            <a:prstGeom prst="rect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2526480" y="6429600"/>
              <a:ext cx="1080" cy="278280"/>
            </a:xfrm>
            <a:prstGeom prst="rect">
              <a:avLst/>
            </a:prstGeom>
            <a:solidFill>
              <a:srgbClr val="f0f0f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2527920" y="6429600"/>
              <a:ext cx="1080" cy="278280"/>
            </a:xfrm>
            <a:prstGeom prst="rect">
              <a:avLst/>
            </a:prstGeom>
            <a:solidFill>
              <a:srgbClr val="f1f1f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2527920" y="6429600"/>
              <a:ext cx="1080" cy="278280"/>
            </a:xfrm>
            <a:prstGeom prst="rect">
              <a:avLst/>
            </a:prstGeom>
            <a:solidFill>
              <a:srgbClr val="f3f3f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2529000" y="6429600"/>
              <a:ext cx="1080" cy="278280"/>
            </a:xfrm>
            <a:prstGeom prst="rect">
              <a:avLst/>
            </a:prstGeom>
            <a:solidFill>
              <a:srgbClr val="f5f5f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2529000" y="6429600"/>
              <a:ext cx="1080" cy="278280"/>
            </a:xfrm>
            <a:prstGeom prst="rect">
              <a:avLst/>
            </a:prstGeom>
            <a:solidFill>
              <a:srgbClr val="f6f6f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2530080" y="6429600"/>
              <a:ext cx="1080" cy="278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531160" y="6429600"/>
              <a:ext cx="1080" cy="278280"/>
            </a:xfrm>
            <a:prstGeom prst="rect">
              <a:avLst/>
            </a:prstGeom>
            <a:solidFill>
              <a:srgbClr val="f9f9f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2531160" y="6429600"/>
              <a:ext cx="1080" cy="278280"/>
            </a:xfrm>
            <a:prstGeom prst="rect">
              <a:avLst/>
            </a:prstGeom>
            <a:solidFill>
              <a:srgbClr val="fbfbf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2240" y="6429600"/>
              <a:ext cx="1080" cy="278280"/>
            </a:xfrm>
            <a:prstGeom prst="rect">
              <a:avLst/>
            </a:prstGeom>
            <a:solidFill>
              <a:srgbClr val="fcfc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2533680" y="6429600"/>
              <a:ext cx="2160" cy="278280"/>
            </a:xfrm>
            <a:prstGeom prst="rect">
              <a:avLst/>
            </a:prstGeom>
            <a:solidFill>
              <a:srgbClr val="fefef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2533680" y="6429600"/>
              <a:ext cx="2160" cy="27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2536200" y="6429600"/>
              <a:ext cx="1080" cy="278280"/>
            </a:xfrm>
            <a:prstGeom prst="rect">
              <a:avLst/>
            </a:prstGeom>
            <a:solidFill>
              <a:srgbClr val="fdfd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2536200" y="6429600"/>
              <a:ext cx="1080" cy="278280"/>
            </a:xfrm>
            <a:prstGeom prst="rect">
              <a:avLst/>
            </a:prstGeom>
            <a:solidFill>
              <a:srgbClr val="fcfc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537280" y="6429600"/>
              <a:ext cx="1080" cy="278280"/>
            </a:xfrm>
            <a:prstGeom prst="rect">
              <a:avLst/>
            </a:prstGeom>
            <a:solidFill>
              <a:srgbClr val="fbfbf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538360" y="6429600"/>
              <a:ext cx="1080" cy="278280"/>
            </a:xfrm>
            <a:prstGeom prst="rect">
              <a:avLst/>
            </a:prstGeom>
            <a:solidFill>
              <a:srgbClr val="f9f9f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3100" name=""/>
            <p:cNvGrpSpPr/>
            <p:nvPr/>
          </p:nvGrpSpPr>
          <p:grpSpPr>
            <a:xfrm>
              <a:off x="2490840" y="6039000"/>
              <a:ext cx="4190760" cy="677520"/>
              <a:chOff x="2490840" y="6039000"/>
              <a:chExt cx="4190760" cy="677520"/>
            </a:xfrm>
          </p:grpSpPr>
          <p:sp>
            <p:nvSpPr>
              <p:cNvPr id="3101" name=""/>
              <p:cNvSpPr/>
              <p:nvPr/>
            </p:nvSpPr>
            <p:spPr>
              <a:xfrm>
                <a:off x="2538360" y="6429960"/>
                <a:ext cx="1080" cy="2775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539800" y="6429960"/>
                <a:ext cx="1440" cy="277560"/>
              </a:xfrm>
              <a:prstGeom prst="rect">
                <a:avLst/>
              </a:prstGeom>
              <a:solidFill>
                <a:srgbClr val="f6f6f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2541240" y="6429960"/>
                <a:ext cx="1080" cy="277560"/>
              </a:xfrm>
              <a:prstGeom prst="rect">
                <a:avLst/>
              </a:prstGeom>
              <a:solidFill>
                <a:srgbClr val="f5f5f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541240" y="6429960"/>
                <a:ext cx="1080" cy="277560"/>
              </a:xfrm>
              <a:prstGeom prst="rect">
                <a:avLst/>
              </a:prstGeom>
              <a:solidFill>
                <a:srgbClr val="f3f3f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2542320" y="6429960"/>
                <a:ext cx="1080" cy="277560"/>
              </a:xfrm>
              <a:prstGeom prst="rect">
                <a:avLst/>
              </a:prstGeom>
              <a:solidFill>
                <a:srgbClr val="f1f1f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542320" y="6429960"/>
                <a:ext cx="1080" cy="277560"/>
              </a:xfrm>
              <a:prstGeom prst="rect">
                <a:avLst/>
              </a:prstGeom>
              <a:solidFill>
                <a:srgbClr val="f0f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2543760" y="6429960"/>
                <a:ext cx="1440" cy="27756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545200" y="6429960"/>
                <a:ext cx="108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545200" y="6429960"/>
                <a:ext cx="1080" cy="277560"/>
              </a:xfrm>
              <a:prstGeom prst="rect">
                <a:avLst/>
              </a:prstGeom>
              <a:solidFill>
                <a:srgbClr val="ebebe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2546640" y="6429960"/>
                <a:ext cx="144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2548080" y="6429960"/>
                <a:ext cx="1080" cy="277560"/>
              </a:xfrm>
              <a:prstGeom prst="rect">
                <a:avLst/>
              </a:prstGeom>
              <a:solidFill>
                <a:srgbClr val="e8e8e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2548080" y="6429960"/>
                <a:ext cx="1080" cy="277560"/>
              </a:xfrm>
              <a:prstGeom prst="rect">
                <a:avLst/>
              </a:prstGeom>
              <a:solidFill>
                <a:srgbClr val="e7e7e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2549160" y="6429960"/>
                <a:ext cx="1080" cy="27756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2549160" y="6429960"/>
                <a:ext cx="1080" cy="277560"/>
              </a:xfrm>
              <a:prstGeom prst="rect">
                <a:avLst/>
              </a:prstGeom>
              <a:solidFill>
                <a:srgbClr val="e4e4e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2550600" y="6429960"/>
                <a:ext cx="1440" cy="277560"/>
              </a:xfrm>
              <a:prstGeom prst="rect">
                <a:avLst/>
              </a:prstGeom>
              <a:solidFill>
                <a:srgbClr val="e2e2e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2552040" y="6429960"/>
                <a:ext cx="1080" cy="27756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2552040" y="6429960"/>
                <a:ext cx="1080" cy="27756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2553120" y="6429960"/>
                <a:ext cx="1440" cy="27756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2554920" y="6429960"/>
                <a:ext cx="1080" cy="277560"/>
              </a:xfrm>
              <a:prstGeom prst="rect">
                <a:avLst/>
              </a:prstGeom>
              <a:solidFill>
                <a:srgbClr val="dcdcd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2554920" y="6429960"/>
                <a:ext cx="1080" cy="277560"/>
              </a:xfrm>
              <a:prstGeom prst="rect">
                <a:avLst/>
              </a:prstGeom>
              <a:solidFill>
                <a:srgbClr val="dadad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2556000" y="6429960"/>
                <a:ext cx="1080" cy="27756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2556000" y="6429960"/>
                <a:ext cx="1080" cy="27756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2557440" y="6429960"/>
                <a:ext cx="144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2558880" y="6429960"/>
                <a:ext cx="1080" cy="277560"/>
              </a:xfrm>
              <a:prstGeom prst="rect">
                <a:avLst/>
              </a:prstGeom>
              <a:solidFill>
                <a:srgbClr val="d4d4d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2558880" y="642996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2559960" y="6429960"/>
                <a:ext cx="1440" cy="27756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2561760" y="6429960"/>
                <a:ext cx="1080" cy="277560"/>
              </a:xfrm>
              <a:prstGeom prst="rect">
                <a:avLst/>
              </a:prstGeom>
              <a:solidFill>
                <a:srgbClr val="d0d0d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2561760" y="6429960"/>
                <a:ext cx="1080" cy="2775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2562840" y="6429960"/>
                <a:ext cx="1080" cy="277560"/>
              </a:xfrm>
              <a:prstGeom prst="rect">
                <a:avLst/>
              </a:prstGeom>
              <a:solidFill>
                <a:srgbClr val="cc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2562840" y="6429960"/>
                <a:ext cx="1080" cy="277560"/>
              </a:xfrm>
              <a:prstGeom prst="rect">
                <a:avLst/>
              </a:prstGeom>
              <a:solidFill>
                <a:srgbClr val="cbcbc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2563920" y="6429960"/>
                <a:ext cx="1440" cy="277560"/>
              </a:xfrm>
              <a:prstGeom prst="rect">
                <a:avLst/>
              </a:prstGeom>
              <a:solidFill>
                <a:srgbClr val="c9c9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2565720" y="6429960"/>
                <a:ext cx="1080" cy="277560"/>
              </a:xfrm>
              <a:prstGeom prst="rect">
                <a:avLst/>
              </a:prstGeom>
              <a:solidFill>
                <a:srgbClr val="c7c7c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2565720" y="6429960"/>
                <a:ext cx="1080" cy="27756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2566800" y="6429960"/>
                <a:ext cx="1440" cy="277560"/>
              </a:xfrm>
              <a:prstGeom prst="rect">
                <a:avLst/>
              </a:prstGeom>
              <a:solidFill>
                <a:srgbClr val="c4c4c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2568240" y="6429960"/>
                <a:ext cx="1080" cy="277560"/>
              </a:xfrm>
              <a:prstGeom prst="rect">
                <a:avLst/>
              </a:prstGeom>
              <a:solidFill>
                <a:srgbClr val="c3c3c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2568240" y="6429960"/>
                <a:ext cx="108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2569680" y="6429960"/>
                <a:ext cx="1440" cy="2775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2569680" y="6429960"/>
                <a:ext cx="144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2571120" y="6429960"/>
                <a:ext cx="1080" cy="277560"/>
              </a:xfrm>
              <a:prstGeom prst="rect">
                <a:avLst/>
              </a:prstGeom>
              <a:solidFill>
                <a:srgbClr val="bdbdb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2572560" y="6429960"/>
                <a:ext cx="1080" cy="27756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2572560" y="6429960"/>
                <a:ext cx="1080" cy="277560"/>
              </a:xfrm>
              <a:prstGeom prst="rect">
                <a:avLst/>
              </a:prstGeom>
              <a:solidFill>
                <a:srgbClr val="babab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2573640" y="6429960"/>
                <a:ext cx="1440" cy="27756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2575080" y="6429960"/>
                <a:ext cx="1080" cy="277560"/>
              </a:xfrm>
              <a:prstGeom prst="rect">
                <a:avLst/>
              </a:prstGeom>
              <a:solidFill>
                <a:srgbClr val="b7b7b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2575080" y="6429960"/>
                <a:ext cx="1080" cy="277560"/>
              </a:xfrm>
              <a:prstGeom prst="rect">
                <a:avLst/>
              </a:prstGeom>
              <a:solidFill>
                <a:srgbClr val="b5b5b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2576520" y="6429960"/>
                <a:ext cx="1440" cy="27756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2493360" y="6429960"/>
                <a:ext cx="81720" cy="276480"/>
              </a:xfrm>
              <a:custGeom>
                <a:avLst/>
                <a:gdLst/>
                <a:ahLst/>
                <a:rect l="l" t="t" r="r" b="b"/>
                <a:pathLst>
                  <a:path w="120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0" y="496"/>
                    </a:lnTo>
                    <a:lnTo>
                      <a:pt x="113" y="495"/>
                    </a:lnTo>
                    <a:lnTo>
                      <a:pt x="115" y="492"/>
                    </a:lnTo>
                    <a:lnTo>
                      <a:pt x="118" y="491"/>
                    </a:lnTo>
                    <a:lnTo>
                      <a:pt x="119" y="487"/>
                    </a:lnTo>
                    <a:lnTo>
                      <a:pt x="120" y="484"/>
                    </a:lnTo>
                    <a:lnTo>
                      <a:pt x="120" y="482"/>
                    </a:lnTo>
                    <a:lnTo>
                      <a:pt x="120" y="482"/>
                    </a:lnTo>
                    <a:lnTo>
                      <a:pt x="120" y="16"/>
                    </a:lnTo>
                    <a:lnTo>
                      <a:pt x="120" y="12"/>
                    </a:lnTo>
                    <a:lnTo>
                      <a:pt x="119" y="10"/>
                    </a:lnTo>
                    <a:lnTo>
                      <a:pt x="118" y="7"/>
                    </a:lnTo>
                    <a:lnTo>
                      <a:pt x="115" y="5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82"/>
                    </a:lnTo>
                    <a:lnTo>
                      <a:pt x="0" y="484"/>
                    </a:lnTo>
                    <a:lnTo>
                      <a:pt x="1" y="487"/>
                    </a:lnTo>
                    <a:lnTo>
                      <a:pt x="3" y="491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4" y="497"/>
                    </a:lnTo>
                    <a:lnTo>
                      <a:pt x="18" y="497"/>
                    </a:lnTo>
                    <a:lnTo>
                      <a:pt x="103" y="497"/>
                    </a:lnTo>
                    <a:lnTo>
                      <a:pt x="103" y="497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6597360" y="6431040"/>
                <a:ext cx="81720" cy="276480"/>
              </a:xfrm>
              <a:custGeom>
                <a:avLst/>
                <a:gdLst/>
                <a:ahLst/>
                <a:rect l="l" t="t" r="r" b="b"/>
                <a:pathLst>
                  <a:path w="121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1" y="496"/>
                    </a:lnTo>
                    <a:lnTo>
                      <a:pt x="113" y="495"/>
                    </a:lnTo>
                    <a:lnTo>
                      <a:pt x="116" y="492"/>
                    </a:lnTo>
                    <a:lnTo>
                      <a:pt x="118" y="490"/>
                    </a:lnTo>
                    <a:lnTo>
                      <a:pt x="119" y="487"/>
                    </a:lnTo>
                    <a:lnTo>
                      <a:pt x="121" y="485"/>
                    </a:lnTo>
                    <a:lnTo>
                      <a:pt x="121" y="481"/>
                    </a:lnTo>
                    <a:lnTo>
                      <a:pt x="121" y="15"/>
                    </a:lnTo>
                    <a:lnTo>
                      <a:pt x="121" y="11"/>
                    </a:lnTo>
                    <a:lnTo>
                      <a:pt x="119" y="9"/>
                    </a:lnTo>
                    <a:lnTo>
                      <a:pt x="118" y="6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11" y="1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2" y="487"/>
                    </a:lnTo>
                    <a:lnTo>
                      <a:pt x="3" y="490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3" y="497"/>
                    </a:lnTo>
                    <a:lnTo>
                      <a:pt x="17" y="497"/>
                    </a:lnTo>
                    <a:lnTo>
                      <a:pt x="103" y="497"/>
                    </a:lnTo>
                    <a:lnTo>
                      <a:pt x="10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6595920" y="6429960"/>
                <a:ext cx="83880" cy="2775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6595920" y="6429960"/>
                <a:ext cx="1080" cy="27756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6597360" y="6429960"/>
                <a:ext cx="1440" cy="277560"/>
              </a:xfrm>
              <a:prstGeom prst="rect">
                <a:avLst/>
              </a:prstGeom>
              <a:solidFill>
                <a:srgbClr val="b4b4b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6597360" y="6429960"/>
                <a:ext cx="1440" cy="277560"/>
              </a:xfrm>
              <a:prstGeom prst="rect">
                <a:avLst/>
              </a:prstGeom>
              <a:solidFill>
                <a:srgbClr val="b6b6b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6598800" y="6429960"/>
                <a:ext cx="1080" cy="27756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6598800" y="6429960"/>
                <a:ext cx="1080" cy="277560"/>
              </a:xfrm>
              <a:prstGeom prst="rect">
                <a:avLst/>
              </a:prstGeom>
              <a:solidFill>
                <a:srgbClr val="b9b9b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6600240" y="6429960"/>
                <a:ext cx="1440" cy="27756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6601680" y="6429960"/>
                <a:ext cx="1080" cy="277560"/>
              </a:xfrm>
              <a:prstGeom prst="rect">
                <a:avLst/>
              </a:prstGeom>
              <a:solidFill>
                <a:srgbClr val="bcbcb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6601680" y="6429960"/>
                <a:ext cx="108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6602760" y="6429960"/>
                <a:ext cx="1080" cy="277560"/>
              </a:xfrm>
              <a:prstGeom prst="rect">
                <a:avLst/>
              </a:prstGeom>
              <a:solidFill>
                <a:srgbClr val="bfbfb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6604200" y="6429960"/>
                <a:ext cx="144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6604200" y="6429960"/>
                <a:ext cx="1440" cy="277560"/>
              </a:xfrm>
              <a:prstGeom prst="rect">
                <a:avLst/>
              </a:prstGeom>
              <a:solidFill>
                <a:srgbClr val="c2c2c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6605640" y="6429960"/>
                <a:ext cx="1080" cy="277560"/>
              </a:xfrm>
              <a:prstGeom prst="rect">
                <a:avLst/>
              </a:prstGeom>
              <a:solidFill>
                <a:srgbClr val="c4c4c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6605640" y="6429960"/>
                <a:ext cx="1080" cy="277560"/>
              </a:xfrm>
              <a:prstGeom prst="rect">
                <a:avLst/>
              </a:prstGeom>
              <a:solidFill>
                <a:srgbClr val="c5c5c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6606720" y="6429960"/>
                <a:ext cx="1440" cy="277560"/>
              </a:xfrm>
              <a:prstGeom prst="rect">
                <a:avLst/>
              </a:prstGeom>
              <a:solidFill>
                <a:srgbClr val="c7c7c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6608520" y="6429960"/>
                <a:ext cx="1080" cy="277560"/>
              </a:xfrm>
              <a:prstGeom prst="rect">
                <a:avLst/>
              </a:prstGeom>
              <a:solidFill>
                <a:srgbClr val="c9c9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6608520" y="6429960"/>
                <a:ext cx="1080" cy="277560"/>
              </a:xfrm>
              <a:prstGeom prst="rect">
                <a:avLst/>
              </a:prstGeom>
              <a:solidFill>
                <a:srgbClr val="cacac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6609600" y="6429960"/>
                <a:ext cx="1080" cy="277560"/>
              </a:xfrm>
              <a:prstGeom prst="rect">
                <a:avLst/>
              </a:prstGeom>
              <a:solidFill>
                <a:srgbClr val="cc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6611040" y="6429960"/>
                <a:ext cx="1440" cy="2775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6611040" y="6429960"/>
                <a:ext cx="1440" cy="27756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6612480" y="6429960"/>
                <a:ext cx="1080" cy="27756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6612480" y="642996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6613560" y="6429960"/>
                <a:ext cx="1440" cy="27756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6615360" y="6429960"/>
                <a:ext cx="108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6615360" y="6429960"/>
                <a:ext cx="1080" cy="277560"/>
              </a:xfrm>
              <a:prstGeom prst="rect">
                <a:avLst/>
              </a:prstGeom>
              <a:solidFill>
                <a:srgbClr val="d6d6d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6616440" y="6429960"/>
                <a:ext cx="1080" cy="27756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6617520" y="6429960"/>
                <a:ext cx="1440" cy="27756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6617520" y="6429960"/>
                <a:ext cx="1440" cy="27756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6619320" y="6429960"/>
                <a:ext cx="1080" cy="27756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6619320" y="6429960"/>
                <a:ext cx="1080" cy="277560"/>
              </a:xfrm>
              <a:prstGeom prst="rect">
                <a:avLst/>
              </a:prstGeom>
              <a:solidFill>
                <a:srgbClr val="deded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6620400" y="6429960"/>
                <a:ext cx="1440" cy="27756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6621840" y="6429960"/>
                <a:ext cx="1080" cy="277560"/>
              </a:xfrm>
              <a:prstGeom prst="rect">
                <a:avLst/>
              </a:prstGeom>
              <a:solidFill>
                <a:srgbClr val="e2e2e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0" name=""/>
              <p:cNvSpPr/>
              <p:nvPr/>
            </p:nvSpPr>
            <p:spPr>
              <a:xfrm>
                <a:off x="6621840" y="6429960"/>
                <a:ext cx="1080" cy="27756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1" name=""/>
              <p:cNvSpPr/>
              <p:nvPr/>
            </p:nvSpPr>
            <p:spPr>
              <a:xfrm>
                <a:off x="6623280" y="6429960"/>
                <a:ext cx="1440" cy="27756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2" name=""/>
              <p:cNvSpPr/>
              <p:nvPr/>
            </p:nvSpPr>
            <p:spPr>
              <a:xfrm>
                <a:off x="6624720" y="6429960"/>
                <a:ext cx="1080" cy="2775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3" name=""/>
              <p:cNvSpPr/>
              <p:nvPr/>
            </p:nvSpPr>
            <p:spPr>
              <a:xfrm>
                <a:off x="6624720" y="6429960"/>
                <a:ext cx="1080" cy="277560"/>
              </a:xfrm>
              <a:prstGeom prst="rect">
                <a:avLst/>
              </a:prstGeom>
              <a:solidFill>
                <a:srgbClr val="e8e8e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4" name=""/>
              <p:cNvSpPr/>
              <p:nvPr/>
            </p:nvSpPr>
            <p:spPr>
              <a:xfrm>
                <a:off x="6626160" y="6429960"/>
                <a:ext cx="108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5" name=""/>
              <p:cNvSpPr/>
              <p:nvPr/>
            </p:nvSpPr>
            <p:spPr>
              <a:xfrm>
                <a:off x="6626160" y="6429960"/>
                <a:ext cx="1080" cy="27756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6" name=""/>
              <p:cNvSpPr/>
              <p:nvPr/>
            </p:nvSpPr>
            <p:spPr>
              <a:xfrm>
                <a:off x="6627240" y="6429960"/>
                <a:ext cx="144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>
                <a:off x="6628680" y="6429960"/>
                <a:ext cx="1080" cy="27756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>
                <a:off x="6628680" y="6429960"/>
                <a:ext cx="1080" cy="277560"/>
              </a:xfrm>
              <a:prstGeom prst="rect">
                <a:avLst/>
              </a:prstGeom>
              <a:solidFill>
                <a:srgbClr val="efefe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6630120" y="6429960"/>
                <a:ext cx="1440" cy="277560"/>
              </a:xfrm>
              <a:prstGeom prst="rect">
                <a:avLst/>
              </a:prstGeom>
              <a:solidFill>
                <a:srgbClr val="f1f1f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6631560" y="6429960"/>
                <a:ext cx="1080" cy="277560"/>
              </a:xfrm>
              <a:prstGeom prst="rect">
                <a:avLst/>
              </a:prstGeom>
              <a:solidFill>
                <a:srgbClr val="f2f2f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6631560" y="6429960"/>
                <a:ext cx="1080" cy="277560"/>
              </a:xfrm>
              <a:prstGeom prst="rect">
                <a:avLst/>
              </a:prstGeom>
              <a:solidFill>
                <a:srgbClr val="f4f4f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6632640" y="6429960"/>
                <a:ext cx="1080" cy="277560"/>
              </a:xfrm>
              <a:prstGeom prst="rect">
                <a:avLst/>
              </a:prstGeom>
              <a:solidFill>
                <a:srgbClr val="f6f6f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6632640" y="6429960"/>
                <a:ext cx="1080" cy="277560"/>
              </a:xfrm>
              <a:prstGeom prst="rect">
                <a:avLst/>
              </a:prstGeom>
              <a:solidFill>
                <a:srgbClr val="f7f7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6634080" y="6429960"/>
                <a:ext cx="1440" cy="277560"/>
              </a:xfrm>
              <a:prstGeom prst="rect">
                <a:avLst/>
              </a:prstGeom>
              <a:solidFill>
                <a:srgbClr val="f9f9f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6635520" y="6429960"/>
                <a:ext cx="1080" cy="277560"/>
              </a:xfrm>
              <a:prstGeom prst="rect">
                <a:avLst/>
              </a:prstGeom>
              <a:solidFill>
                <a:srgbClr val="fafaf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6635520" y="6429960"/>
                <a:ext cx="1080" cy="277560"/>
              </a:xfrm>
              <a:prstGeom prst="rect">
                <a:avLst/>
              </a:prstGeom>
              <a:solidFill>
                <a:srgbClr val="fcfcf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636960" y="6429960"/>
                <a:ext cx="1440" cy="277560"/>
              </a:xfrm>
              <a:prstGeom prst="rect">
                <a:avLst/>
              </a:prstGeom>
              <a:solidFill>
                <a:srgbClr val="fdfdf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6638400" y="6429960"/>
                <a:ext cx="1080" cy="277560"/>
              </a:xfrm>
              <a:prstGeom prst="rect">
                <a:avLst/>
              </a:prstGeom>
              <a:solidFill>
                <a:srgbClr val="fefef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6639480" y="6429960"/>
                <a:ext cx="1080" cy="277560"/>
              </a:xfrm>
              <a:prstGeom prst="rect">
                <a:avLst/>
              </a:prstGeom>
              <a:solidFill>
                <a:srgbClr val="fdfdf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6640920" y="6429960"/>
                <a:ext cx="1440" cy="277560"/>
              </a:xfrm>
              <a:prstGeom prst="rect">
                <a:avLst/>
              </a:prstGeom>
              <a:solidFill>
                <a:srgbClr val="fbfbf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6640920" y="6429960"/>
                <a:ext cx="1440" cy="277560"/>
              </a:xfrm>
              <a:prstGeom prst="rect">
                <a:avLst/>
              </a:prstGeom>
              <a:solidFill>
                <a:srgbClr val="fafaf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>
                <a:off x="6642360" y="6429960"/>
                <a:ext cx="1080" cy="2775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>
                <a:off x="6642360" y="6429960"/>
                <a:ext cx="1080" cy="277560"/>
              </a:xfrm>
              <a:prstGeom prst="rect">
                <a:avLst/>
              </a:prstGeom>
              <a:solidFill>
                <a:srgbClr val="f7f7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>
                <a:off x="6643440" y="6429960"/>
                <a:ext cx="1440" cy="277560"/>
              </a:xfrm>
              <a:prstGeom prst="rect">
                <a:avLst/>
              </a:prstGeom>
              <a:solidFill>
                <a:srgbClr val="f5f5f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>
                <a:off x="6645240" y="6429960"/>
                <a:ext cx="1080" cy="277560"/>
              </a:xfrm>
              <a:prstGeom prst="rect">
                <a:avLst/>
              </a:prstGeom>
              <a:solidFill>
                <a:srgbClr val="f4f4f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6645240" y="6429960"/>
                <a:ext cx="1080" cy="277560"/>
              </a:xfrm>
              <a:prstGeom prst="rect">
                <a:avLst/>
              </a:prstGeom>
              <a:solidFill>
                <a:srgbClr val="f2f2f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>
                <a:off x="6646320" y="6429960"/>
                <a:ext cx="1080" cy="277560"/>
              </a:xfrm>
              <a:prstGeom prst="rect">
                <a:avLst/>
              </a:prstGeom>
              <a:solidFill>
                <a:srgbClr val="f0f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>
                <a:off x="6647760" y="6429960"/>
                <a:ext cx="1440" cy="277560"/>
              </a:xfrm>
              <a:prstGeom prst="rect">
                <a:avLst/>
              </a:prstGeom>
              <a:solidFill>
                <a:srgbClr val="efefe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6647760" y="6429960"/>
                <a:ext cx="1440" cy="277560"/>
              </a:xfrm>
              <a:prstGeom prst="rect">
                <a:avLst/>
              </a:prstGeom>
              <a:solidFill>
                <a:srgbClr val="edede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6649200" y="6429960"/>
                <a:ext cx="108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6649200" y="6429960"/>
                <a:ext cx="1080" cy="27756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>
                <a:off x="6650280" y="6429960"/>
                <a:ext cx="144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6652080" y="6429960"/>
                <a:ext cx="1080" cy="277560"/>
              </a:xfrm>
              <a:prstGeom prst="rect">
                <a:avLst/>
              </a:prstGeom>
              <a:solidFill>
                <a:srgbClr val="e7e7e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6652080" y="6429960"/>
                <a:ext cx="1080" cy="2775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>
                <a:off x="6653160" y="6429960"/>
                <a:ext cx="1440" cy="277560"/>
              </a:xfrm>
              <a:prstGeom prst="rect">
                <a:avLst/>
              </a:prstGeom>
              <a:solidFill>
                <a:srgbClr val="e4e4e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>
                <a:off x="6654600" y="6429960"/>
                <a:ext cx="1080" cy="27756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6654600" y="6429960"/>
                <a:ext cx="1080" cy="27756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6656040" y="6429960"/>
                <a:ext cx="1080" cy="27756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6656040" y="6429960"/>
                <a:ext cx="1080" cy="277560"/>
              </a:xfrm>
              <a:prstGeom prst="rect">
                <a:avLst/>
              </a:prstGeom>
              <a:solidFill>
                <a:srgbClr val="deded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6657120" y="6429960"/>
                <a:ext cx="1440" cy="277560"/>
              </a:xfrm>
              <a:prstGeom prst="rect">
                <a:avLst/>
              </a:prstGeom>
              <a:solidFill>
                <a:srgbClr val="dcdcd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6658560" y="6429960"/>
                <a:ext cx="1080" cy="27756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>
                <a:off x="6658560" y="6429960"/>
                <a:ext cx="1080" cy="27756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6660000" y="6429960"/>
                <a:ext cx="1440" cy="27756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661440" y="6429960"/>
                <a:ext cx="1080" cy="277560"/>
              </a:xfrm>
              <a:prstGeom prst="rect">
                <a:avLst/>
              </a:prstGeom>
              <a:solidFill>
                <a:srgbClr val="d6d6d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5" name=""/>
              <p:cNvSpPr/>
              <p:nvPr/>
            </p:nvSpPr>
            <p:spPr>
              <a:xfrm>
                <a:off x="6661440" y="6429960"/>
                <a:ext cx="108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6" name=""/>
              <p:cNvSpPr/>
              <p:nvPr/>
            </p:nvSpPr>
            <p:spPr>
              <a:xfrm>
                <a:off x="6662880" y="6429960"/>
                <a:ext cx="1080" cy="27756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7" name=""/>
              <p:cNvSpPr/>
              <p:nvPr/>
            </p:nvSpPr>
            <p:spPr>
              <a:xfrm>
                <a:off x="6662880" y="642996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8" name=""/>
              <p:cNvSpPr/>
              <p:nvPr/>
            </p:nvSpPr>
            <p:spPr>
              <a:xfrm>
                <a:off x="6663960" y="6429960"/>
                <a:ext cx="1440" cy="277560"/>
              </a:xfrm>
              <a:prstGeom prst="rect">
                <a:avLst/>
              </a:prstGeom>
              <a:solidFill>
                <a:srgbClr val="d0d0d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6665400" y="6429960"/>
                <a:ext cx="1080" cy="27756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0" name=""/>
              <p:cNvSpPr/>
              <p:nvPr/>
            </p:nvSpPr>
            <p:spPr>
              <a:xfrm>
                <a:off x="6665400" y="6429960"/>
                <a:ext cx="1080" cy="2775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1" name=""/>
              <p:cNvSpPr/>
              <p:nvPr/>
            </p:nvSpPr>
            <p:spPr>
              <a:xfrm>
                <a:off x="6666840" y="6429960"/>
                <a:ext cx="1440" cy="277560"/>
              </a:xfrm>
              <a:prstGeom prst="rect">
                <a:avLst/>
              </a:prstGeom>
              <a:solidFill>
                <a:srgbClr val="cbcbc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2" name=""/>
              <p:cNvSpPr/>
              <p:nvPr/>
            </p:nvSpPr>
            <p:spPr>
              <a:xfrm>
                <a:off x="6668280" y="6429960"/>
                <a:ext cx="1080" cy="277560"/>
              </a:xfrm>
              <a:prstGeom prst="rect">
                <a:avLst/>
              </a:prstGeom>
              <a:solidFill>
                <a:srgbClr val="cacac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3" name=""/>
              <p:cNvSpPr/>
              <p:nvPr/>
            </p:nvSpPr>
            <p:spPr>
              <a:xfrm>
                <a:off x="6668280" y="6429960"/>
                <a:ext cx="1080" cy="277560"/>
              </a:xfrm>
              <a:prstGeom prst="rect">
                <a:avLst/>
              </a:prstGeom>
              <a:solidFill>
                <a:srgbClr val="c8c8c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4" name=""/>
              <p:cNvSpPr/>
              <p:nvPr/>
            </p:nvSpPr>
            <p:spPr>
              <a:xfrm>
                <a:off x="6669360" y="6429960"/>
                <a:ext cx="1080" cy="27756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5" name=""/>
              <p:cNvSpPr/>
              <p:nvPr/>
            </p:nvSpPr>
            <p:spPr>
              <a:xfrm>
                <a:off x="6669360" y="6429960"/>
                <a:ext cx="1080" cy="277560"/>
              </a:xfrm>
              <a:prstGeom prst="rect">
                <a:avLst/>
              </a:prstGeom>
              <a:solidFill>
                <a:srgbClr val="c5c5c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6670800" y="6429960"/>
                <a:ext cx="1440" cy="277560"/>
              </a:xfrm>
              <a:prstGeom prst="rect">
                <a:avLst/>
              </a:prstGeom>
              <a:solidFill>
                <a:srgbClr val="c3c3c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7" name=""/>
              <p:cNvSpPr/>
              <p:nvPr/>
            </p:nvSpPr>
            <p:spPr>
              <a:xfrm>
                <a:off x="6672240" y="6429960"/>
                <a:ext cx="1080" cy="277560"/>
              </a:xfrm>
              <a:prstGeom prst="rect">
                <a:avLst/>
              </a:prstGeom>
              <a:solidFill>
                <a:srgbClr val="c2c2c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8" name=""/>
              <p:cNvSpPr/>
              <p:nvPr/>
            </p:nvSpPr>
            <p:spPr>
              <a:xfrm>
                <a:off x="6672240" y="6429960"/>
                <a:ext cx="108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9" name=""/>
              <p:cNvSpPr/>
              <p:nvPr/>
            </p:nvSpPr>
            <p:spPr>
              <a:xfrm>
                <a:off x="6673680" y="6429960"/>
                <a:ext cx="1440" cy="277560"/>
              </a:xfrm>
              <a:prstGeom prst="rect">
                <a:avLst/>
              </a:prstGeom>
              <a:solidFill>
                <a:srgbClr val="bfbfb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0" name=""/>
              <p:cNvSpPr/>
              <p:nvPr/>
            </p:nvSpPr>
            <p:spPr>
              <a:xfrm>
                <a:off x="6675120" y="6429960"/>
                <a:ext cx="108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1" name=""/>
              <p:cNvSpPr/>
              <p:nvPr/>
            </p:nvSpPr>
            <p:spPr>
              <a:xfrm>
                <a:off x="6675120" y="6429960"/>
                <a:ext cx="1080" cy="277560"/>
              </a:xfrm>
              <a:prstGeom prst="rect">
                <a:avLst/>
              </a:prstGeom>
              <a:solidFill>
                <a:srgbClr val="bcbcb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>
                <a:off x="6676200" y="6429960"/>
                <a:ext cx="1080" cy="277560"/>
              </a:xfrm>
              <a:prstGeom prst="rect">
                <a:avLst/>
              </a:prstGeom>
              <a:solidFill>
                <a:srgbClr val="babab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>
                <a:off x="6676200" y="6429960"/>
                <a:ext cx="1080" cy="277560"/>
              </a:xfrm>
              <a:prstGeom prst="rect">
                <a:avLst/>
              </a:prstGeom>
              <a:solidFill>
                <a:srgbClr val="b9b9b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>
                <a:off x="6677640" y="6429960"/>
                <a:ext cx="1440" cy="277560"/>
              </a:xfrm>
              <a:prstGeom prst="rect">
                <a:avLst/>
              </a:prstGeom>
              <a:solidFill>
                <a:srgbClr val="b7b7b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>
                <a:off x="6679080" y="6429960"/>
                <a:ext cx="1080" cy="277560"/>
              </a:xfrm>
              <a:prstGeom prst="rect">
                <a:avLst/>
              </a:prstGeom>
              <a:solidFill>
                <a:srgbClr val="b6b6b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>
                <a:off x="6679080" y="6429960"/>
                <a:ext cx="2520" cy="277560"/>
              </a:xfrm>
              <a:prstGeom prst="rect">
                <a:avLst/>
              </a:prstGeom>
              <a:solidFill>
                <a:srgbClr val="b4b4b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6597360" y="6431040"/>
                <a:ext cx="81720" cy="275400"/>
              </a:xfrm>
              <a:custGeom>
                <a:avLst/>
                <a:gdLst/>
                <a:ahLst/>
                <a:rect l="l" t="t" r="r" b="b"/>
                <a:pathLst>
                  <a:path w="122" h="496">
                    <a:moveTo>
                      <a:pt x="104" y="496"/>
                    </a:moveTo>
                    <a:lnTo>
                      <a:pt x="108" y="496"/>
                    </a:lnTo>
                    <a:lnTo>
                      <a:pt x="110" y="495"/>
                    </a:lnTo>
                    <a:lnTo>
                      <a:pt x="114" y="494"/>
                    </a:lnTo>
                    <a:lnTo>
                      <a:pt x="117" y="492"/>
                    </a:lnTo>
                    <a:lnTo>
                      <a:pt x="118" y="490"/>
                    </a:lnTo>
                    <a:lnTo>
                      <a:pt x="120" y="486"/>
                    </a:lnTo>
                    <a:lnTo>
                      <a:pt x="120" y="483"/>
                    </a:lnTo>
                    <a:lnTo>
                      <a:pt x="122" y="481"/>
                    </a:lnTo>
                    <a:lnTo>
                      <a:pt x="122" y="15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18" y="6"/>
                    </a:lnTo>
                    <a:lnTo>
                      <a:pt x="117" y="4"/>
                    </a:lnTo>
                    <a:lnTo>
                      <a:pt x="114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1" y="483"/>
                    </a:lnTo>
                    <a:lnTo>
                      <a:pt x="1" y="486"/>
                    </a:lnTo>
                    <a:lnTo>
                      <a:pt x="4" y="490"/>
                    </a:lnTo>
                    <a:lnTo>
                      <a:pt x="5" y="492"/>
                    </a:lnTo>
                    <a:lnTo>
                      <a:pt x="8" y="494"/>
                    </a:lnTo>
                    <a:lnTo>
                      <a:pt x="11" y="495"/>
                    </a:lnTo>
                    <a:lnTo>
                      <a:pt x="14" y="496"/>
                    </a:lnTo>
                    <a:lnTo>
                      <a:pt x="18" y="496"/>
                    </a:lnTo>
                    <a:lnTo>
                      <a:pt x="104" y="496"/>
                    </a:lnTo>
                    <a:lnTo>
                      <a:pt x="104" y="49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2492280" y="6040080"/>
                <a:ext cx="4189320" cy="67536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5" y="677"/>
                    </a:lnTo>
                    <a:lnTo>
                      <a:pt x="125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2490840" y="6039000"/>
                <a:ext cx="131760" cy="6775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2622600" y="6039000"/>
                <a:ext cx="175320" cy="67752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2798280" y="6039000"/>
                <a:ext cx="173880" cy="67752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2972160" y="6039000"/>
                <a:ext cx="175320" cy="67752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3147840" y="6039000"/>
                <a:ext cx="163080" cy="67752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3310920" y="6039000"/>
                <a:ext cx="130680" cy="67752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3441600" y="6039000"/>
                <a:ext cx="142560" cy="67752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3584520" y="6039000"/>
                <a:ext cx="173880" cy="67752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3758400" y="6039000"/>
                <a:ext cx="175320" cy="6775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3934080" y="6039000"/>
                <a:ext cx="174240" cy="67752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4108320" y="6039000"/>
                <a:ext cx="174960" cy="67752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4283640" y="6039000"/>
                <a:ext cx="174240" cy="67752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4457880" y="6039000"/>
                <a:ext cx="351000" cy="67752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4808880" y="6039000"/>
                <a:ext cx="174960" cy="67752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4983840" y="6039000"/>
                <a:ext cx="172440" cy="67752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156640" y="6039000"/>
                <a:ext cx="175320" cy="67752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>
                <a:off x="5332320" y="6039000"/>
                <a:ext cx="175320" cy="6775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>
                <a:off x="5507640" y="6039000"/>
                <a:ext cx="163080" cy="67752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>
                <a:off x="5671080" y="6039000"/>
                <a:ext cx="131760" cy="67752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>
                <a:off x="5802840" y="6039000"/>
                <a:ext cx="141480" cy="67752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>
                <a:off x="5944680" y="6039000"/>
                <a:ext cx="175320" cy="67752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>
                <a:off x="6120000" y="6039000"/>
                <a:ext cx="173880" cy="67752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6294240" y="6039000"/>
                <a:ext cx="173880" cy="67752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6468120" y="6039000"/>
                <a:ext cx="175320" cy="67752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6643440" y="6039000"/>
                <a:ext cx="38160" cy="6775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>
                <a:off x="2492280" y="6040080"/>
                <a:ext cx="4189320" cy="67536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4" y="677"/>
                    </a:lnTo>
                    <a:lnTo>
                      <a:pt x="124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>
                <a:off x="2499120" y="6045480"/>
                <a:ext cx="4174200" cy="664200"/>
              </a:xfrm>
              <a:custGeom>
                <a:avLst/>
                <a:gdLst/>
                <a:ahLst/>
                <a:rect l="l" t="t" r="r" b="b"/>
                <a:pathLst>
                  <a:path w="6138" h="1196">
                    <a:moveTo>
                      <a:pt x="0" y="0"/>
                    </a:moveTo>
                    <a:lnTo>
                      <a:pt x="0" y="656"/>
                    </a:lnTo>
                    <a:lnTo>
                      <a:pt x="125" y="656"/>
                    </a:lnTo>
                    <a:lnTo>
                      <a:pt x="125" y="1196"/>
                    </a:lnTo>
                    <a:lnTo>
                      <a:pt x="6010" y="1196"/>
                    </a:lnTo>
                    <a:lnTo>
                      <a:pt x="6010" y="656"/>
                    </a:lnTo>
                    <a:lnTo>
                      <a:pt x="6138" y="656"/>
                    </a:lnTo>
                    <a:lnTo>
                      <a:pt x="613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>
                <a:off x="3958200" y="6423120"/>
                <a:ext cx="756360" cy="270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solidFill>
                <a:srgbClr val="f8f8f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>
                <a:off x="3958200" y="6423120"/>
                <a:ext cx="756360" cy="270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>
                <a:off x="3792240" y="6143400"/>
                <a:ext cx="171360" cy="5508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  <a:close/>
                  </a:path>
                </a:pathLst>
              </a:custGeom>
              <a:solidFill>
                <a:srgbClr val="66666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>
                <a:off x="3792240" y="6143400"/>
                <a:ext cx="171360" cy="5508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>
                <a:off x="6159240" y="6521040"/>
                <a:ext cx="292320" cy="1731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>
                <a:off x="5506560" y="6521040"/>
                <a:ext cx="817200" cy="173160"/>
              </a:xfrm>
              <a:custGeom>
                <a:avLst/>
                <a:gdLst/>
                <a:ahLst/>
                <a:rect l="l" t="t" r="r" b="b"/>
                <a:pathLst>
                  <a:path w="1201" h="311">
                    <a:moveTo>
                      <a:pt x="0" y="311"/>
                    </a:moveTo>
                    <a:lnTo>
                      <a:pt x="491" y="311"/>
                    </a:lnTo>
                    <a:lnTo>
                      <a:pt x="49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  <a:moveTo>
                      <a:pt x="1201" y="8"/>
                    </a:moveTo>
                    <a:lnTo>
                      <a:pt x="973" y="8"/>
                    </a:lnTo>
                    <a:lnTo>
                      <a:pt x="973" y="193"/>
                    </a:lnTo>
                    <a:lnTo>
                      <a:pt x="1201" y="193"/>
                    </a:lnTo>
                    <a:lnTo>
                      <a:pt x="1201" y="8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>
                <a:off x="3848400" y="6143400"/>
                <a:ext cx="61200" cy="55080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>
                <a:off x="3848400" y="6143400"/>
                <a:ext cx="61200" cy="550800"/>
              </a:xfrm>
              <a:prstGeom prst="rect">
                <a:avLst/>
              </a:pr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32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828160" y="6072480"/>
                <a:ext cx="960120" cy="5263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3285" name=""/>
              <p:cNvSpPr/>
              <p:nvPr/>
            </p:nvSpPr>
            <p:spPr>
              <a:xfrm>
                <a:off x="2841840" y="6077880"/>
                <a:ext cx="943560" cy="517320"/>
              </a:xfrm>
              <a:prstGeom prst="rect">
                <a:avLst/>
              </a:prstGeom>
              <a:noFill/>
              <a:ln w="324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>
                <a:off x="3823920" y="648000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>
                <a:off x="3824280" y="65199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3946320" y="648000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3921120" y="65199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>
                <a:off x="3871440" y="648000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>
                <a:off x="3873240" y="65199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3823920" y="63165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3824280" y="635760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>
                <a:off x="3946320" y="63165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3927600" y="6357600"/>
                <a:ext cx="45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3871440" y="63165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3873600" y="6357600"/>
                <a:ext cx="4176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3823920" y="617328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3824280" y="619560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3871440" y="617328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3301" name=""/>
            <p:cNvGrpSpPr/>
            <p:nvPr/>
          </p:nvGrpSpPr>
          <p:grpSpPr>
            <a:xfrm>
              <a:off x="2606760" y="6072120"/>
              <a:ext cx="3955320" cy="645840"/>
              <a:chOff x="2606760" y="6072120"/>
              <a:chExt cx="3955320" cy="645840"/>
            </a:xfrm>
          </p:grpSpPr>
          <p:sp>
            <p:nvSpPr>
              <p:cNvPr id="3302" name=""/>
              <p:cNvSpPr/>
              <p:nvPr/>
            </p:nvSpPr>
            <p:spPr>
              <a:xfrm>
                <a:off x="3876480" y="6196320"/>
                <a:ext cx="4176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3879360" y="645948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3875040" y="621540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3875040" y="635724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3927240" y="629640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3803400" y="613404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3880440" y="6134040"/>
                <a:ext cx="694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3985920" y="6093000"/>
                <a:ext cx="713880" cy="545040"/>
              </a:xfrm>
              <a:custGeom>
                <a:avLst/>
                <a:gdLst/>
                <a:ahLst/>
                <a:rect l="l" t="t" r="r" b="b"/>
                <a:pathLst>
                  <a:path w="1050" h="984">
                    <a:moveTo>
                      <a:pt x="833" y="984"/>
                    </a:moveTo>
                    <a:lnTo>
                      <a:pt x="1050" y="984"/>
                    </a:lnTo>
                    <a:lnTo>
                      <a:pt x="1050" y="0"/>
                    </a:lnTo>
                    <a:lnTo>
                      <a:pt x="0" y="0"/>
                    </a:lnTo>
                    <a:lnTo>
                      <a:pt x="0" y="984"/>
                    </a:lnTo>
                    <a:lnTo>
                      <a:pt x="218" y="984"/>
                    </a:lnTo>
                    <a:lnTo>
                      <a:pt x="218" y="584"/>
                    </a:lnTo>
                    <a:lnTo>
                      <a:pt x="833" y="584"/>
                    </a:lnTo>
                    <a:lnTo>
                      <a:pt x="833" y="984"/>
                    </a:lnTo>
                    <a:lnTo>
                      <a:pt x="833" y="98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331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1440" y="6072120"/>
                <a:ext cx="738720" cy="56628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3311" name=""/>
              <p:cNvSpPr/>
              <p:nvPr/>
            </p:nvSpPr>
            <p:spPr>
              <a:xfrm>
                <a:off x="3976560" y="6078600"/>
                <a:ext cx="724680" cy="554040"/>
              </a:xfrm>
              <a:custGeom>
                <a:avLst/>
                <a:gdLst/>
                <a:ahLst/>
                <a:rect l="l" t="t" r="r" b="b"/>
                <a:pathLst>
                  <a:path w="1068" h="998">
                    <a:moveTo>
                      <a:pt x="840" y="998"/>
                    </a:moveTo>
                    <a:lnTo>
                      <a:pt x="1068" y="998"/>
                    </a:lnTo>
                    <a:lnTo>
                      <a:pt x="1068" y="0"/>
                    </a:lnTo>
                    <a:lnTo>
                      <a:pt x="0" y="0"/>
                    </a:lnTo>
                    <a:lnTo>
                      <a:pt x="0" y="998"/>
                    </a:lnTo>
                    <a:lnTo>
                      <a:pt x="226" y="998"/>
                    </a:lnTo>
                    <a:lnTo>
                      <a:pt x="226" y="606"/>
                    </a:lnTo>
                    <a:lnTo>
                      <a:pt x="840" y="606"/>
                    </a:lnTo>
                    <a:lnTo>
                      <a:pt x="840" y="998"/>
                    </a:lnTo>
                  </a:path>
                </a:pathLst>
              </a:custGeom>
              <a:noFill/>
              <a:ln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4226760" y="642276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  <a:moveTo>
                      <a:pt x="0" y="374"/>
                    </a:moveTo>
                    <a:lnTo>
                      <a:pt x="0" y="374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  <a:moveTo>
                      <a:pt x="309" y="374"/>
                    </a:moveTo>
                    <a:lnTo>
                      <a:pt x="309" y="374"/>
                    </a:lnTo>
                    <a:lnTo>
                      <a:pt x="309" y="374"/>
                    </a:lnTo>
                    <a:lnTo>
                      <a:pt x="309" y="374"/>
                    </a:lnTo>
                    <a:close/>
                  </a:path>
                </a:pathLst>
              </a:custGeom>
              <a:solidFill>
                <a:srgbClr val="1a1a1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4226760" y="642276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4226760" y="6630480"/>
                <a:ext cx="0" cy="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4435920" y="6630480"/>
                <a:ext cx="0" cy="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4252680" y="6427440"/>
                <a:ext cx="156240" cy="20304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4240080" y="6417360"/>
                <a:ext cx="182160" cy="223200"/>
              </a:xfrm>
              <a:custGeom>
                <a:avLst/>
                <a:gdLst/>
                <a:ahLst/>
                <a:rect l="l" t="t" r="r" b="b"/>
                <a:pathLst>
                  <a:path w="269" h="401">
                    <a:moveTo>
                      <a:pt x="37" y="56"/>
                    </a:moveTo>
                    <a:lnTo>
                      <a:pt x="37" y="311"/>
                    </a:lnTo>
                    <a:lnTo>
                      <a:pt x="37" y="314"/>
                    </a:lnTo>
                    <a:lnTo>
                      <a:pt x="36" y="317"/>
                    </a:lnTo>
                    <a:lnTo>
                      <a:pt x="34" y="321"/>
                    </a:lnTo>
                    <a:lnTo>
                      <a:pt x="32" y="323"/>
                    </a:lnTo>
                    <a:lnTo>
                      <a:pt x="29" y="326"/>
                    </a:lnTo>
                    <a:lnTo>
                      <a:pt x="27" y="327"/>
                    </a:lnTo>
                    <a:lnTo>
                      <a:pt x="23" y="328"/>
                    </a:lnTo>
                    <a:lnTo>
                      <a:pt x="19" y="328"/>
                    </a:lnTo>
                    <a:lnTo>
                      <a:pt x="15" y="328"/>
                    </a:lnTo>
                    <a:lnTo>
                      <a:pt x="12" y="327"/>
                    </a:lnTo>
                    <a:lnTo>
                      <a:pt x="9" y="326"/>
                    </a:lnTo>
                    <a:lnTo>
                      <a:pt x="7" y="323"/>
                    </a:lnTo>
                    <a:lnTo>
                      <a:pt x="4" y="321"/>
                    </a:lnTo>
                    <a:lnTo>
                      <a:pt x="3" y="317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9" y="37"/>
                    </a:lnTo>
                    <a:lnTo>
                      <a:pt x="23" y="38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4" y="45"/>
                    </a:lnTo>
                    <a:lnTo>
                      <a:pt x="36" y="48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  <a:moveTo>
                      <a:pt x="127" y="365"/>
                    </a:moveTo>
                    <a:lnTo>
                      <a:pt x="250" y="365"/>
                    </a:lnTo>
                    <a:lnTo>
                      <a:pt x="232" y="384"/>
                    </a:lnTo>
                    <a:lnTo>
                      <a:pt x="232" y="251"/>
                    </a:lnTo>
                    <a:lnTo>
                      <a:pt x="232" y="247"/>
                    </a:lnTo>
                    <a:lnTo>
                      <a:pt x="234" y="244"/>
                    </a:lnTo>
                    <a:lnTo>
                      <a:pt x="235" y="240"/>
                    </a:lnTo>
                    <a:lnTo>
                      <a:pt x="237" y="237"/>
                    </a:lnTo>
                    <a:lnTo>
                      <a:pt x="240" y="236"/>
                    </a:lnTo>
                    <a:lnTo>
                      <a:pt x="244" y="235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4" y="234"/>
                    </a:lnTo>
                    <a:lnTo>
                      <a:pt x="257" y="235"/>
                    </a:lnTo>
                    <a:lnTo>
                      <a:pt x="261" y="236"/>
                    </a:lnTo>
                    <a:lnTo>
                      <a:pt x="264" y="237"/>
                    </a:lnTo>
                    <a:lnTo>
                      <a:pt x="265" y="240"/>
                    </a:lnTo>
                    <a:lnTo>
                      <a:pt x="267" y="244"/>
                    </a:lnTo>
                    <a:lnTo>
                      <a:pt x="267" y="247"/>
                    </a:lnTo>
                    <a:lnTo>
                      <a:pt x="269" y="251"/>
                    </a:lnTo>
                    <a:lnTo>
                      <a:pt x="269" y="384"/>
                    </a:lnTo>
                    <a:lnTo>
                      <a:pt x="267" y="386"/>
                    </a:lnTo>
                    <a:lnTo>
                      <a:pt x="267" y="390"/>
                    </a:lnTo>
                    <a:lnTo>
                      <a:pt x="265" y="393"/>
                    </a:lnTo>
                    <a:lnTo>
                      <a:pt x="264" y="396"/>
                    </a:lnTo>
                    <a:lnTo>
                      <a:pt x="261" y="398"/>
                    </a:lnTo>
                    <a:lnTo>
                      <a:pt x="257" y="400"/>
                    </a:lnTo>
                    <a:lnTo>
                      <a:pt x="254" y="401"/>
                    </a:lnTo>
                    <a:lnTo>
                      <a:pt x="250" y="401"/>
                    </a:lnTo>
                    <a:lnTo>
                      <a:pt x="127" y="401"/>
                    </a:lnTo>
                    <a:lnTo>
                      <a:pt x="124" y="401"/>
                    </a:lnTo>
                    <a:lnTo>
                      <a:pt x="121" y="400"/>
                    </a:lnTo>
                    <a:lnTo>
                      <a:pt x="118" y="398"/>
                    </a:lnTo>
                    <a:lnTo>
                      <a:pt x="116" y="396"/>
                    </a:lnTo>
                    <a:lnTo>
                      <a:pt x="113" y="393"/>
                    </a:lnTo>
                    <a:lnTo>
                      <a:pt x="111" y="390"/>
                    </a:lnTo>
                    <a:lnTo>
                      <a:pt x="109" y="386"/>
                    </a:lnTo>
                    <a:lnTo>
                      <a:pt x="109" y="384"/>
                    </a:lnTo>
                    <a:lnTo>
                      <a:pt x="109" y="379"/>
                    </a:lnTo>
                    <a:lnTo>
                      <a:pt x="111" y="376"/>
                    </a:lnTo>
                    <a:lnTo>
                      <a:pt x="113" y="372"/>
                    </a:lnTo>
                    <a:lnTo>
                      <a:pt x="116" y="370"/>
                    </a:lnTo>
                    <a:lnTo>
                      <a:pt x="118" y="367"/>
                    </a:lnTo>
                    <a:lnTo>
                      <a:pt x="121" y="366"/>
                    </a:lnTo>
                    <a:lnTo>
                      <a:pt x="124" y="365"/>
                    </a:lnTo>
                    <a:lnTo>
                      <a:pt x="127" y="365"/>
                    </a:lnTo>
                    <a:lnTo>
                      <a:pt x="127" y="365"/>
                    </a:lnTo>
                    <a:close/>
                    <a:moveTo>
                      <a:pt x="232" y="69"/>
                    </a:moveTo>
                    <a:lnTo>
                      <a:pt x="232" y="19"/>
                    </a:lnTo>
                    <a:lnTo>
                      <a:pt x="250" y="37"/>
                    </a:lnTo>
                    <a:lnTo>
                      <a:pt x="46" y="37"/>
                    </a:lnTo>
                    <a:lnTo>
                      <a:pt x="43" y="37"/>
                    </a:lnTo>
                    <a:lnTo>
                      <a:pt x="39" y="35"/>
                    </a:lnTo>
                    <a:lnTo>
                      <a:pt x="37" y="34"/>
                    </a:lnTo>
                    <a:lnTo>
                      <a:pt x="34" y="32"/>
                    </a:lnTo>
                    <a:lnTo>
                      <a:pt x="32" y="29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250" y="0"/>
                    </a:lnTo>
                    <a:lnTo>
                      <a:pt x="254" y="1"/>
                    </a:lnTo>
                    <a:lnTo>
                      <a:pt x="257" y="2"/>
                    </a:lnTo>
                    <a:lnTo>
                      <a:pt x="261" y="4"/>
                    </a:lnTo>
                    <a:lnTo>
                      <a:pt x="264" y="6"/>
                    </a:lnTo>
                    <a:lnTo>
                      <a:pt x="265" y="9"/>
                    </a:lnTo>
                    <a:lnTo>
                      <a:pt x="267" y="13"/>
                    </a:lnTo>
                    <a:lnTo>
                      <a:pt x="267" y="15"/>
                    </a:lnTo>
                    <a:lnTo>
                      <a:pt x="269" y="19"/>
                    </a:lnTo>
                    <a:lnTo>
                      <a:pt x="269" y="69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5" y="78"/>
                    </a:lnTo>
                    <a:lnTo>
                      <a:pt x="264" y="82"/>
                    </a:lnTo>
                    <a:lnTo>
                      <a:pt x="261" y="83"/>
                    </a:lnTo>
                    <a:lnTo>
                      <a:pt x="257" y="86"/>
                    </a:lnTo>
                    <a:lnTo>
                      <a:pt x="254" y="87"/>
                    </a:lnTo>
                    <a:lnTo>
                      <a:pt x="250" y="87"/>
                    </a:lnTo>
                    <a:lnTo>
                      <a:pt x="246" y="87"/>
                    </a:lnTo>
                    <a:lnTo>
                      <a:pt x="244" y="86"/>
                    </a:lnTo>
                    <a:lnTo>
                      <a:pt x="240" y="83"/>
                    </a:lnTo>
                    <a:lnTo>
                      <a:pt x="237" y="82"/>
                    </a:lnTo>
                    <a:lnTo>
                      <a:pt x="235" y="78"/>
                    </a:lnTo>
                    <a:lnTo>
                      <a:pt x="234" y="76"/>
                    </a:lnTo>
                    <a:lnTo>
                      <a:pt x="232" y="72"/>
                    </a:lnTo>
                    <a:lnTo>
                      <a:pt x="232" y="69"/>
                    </a:lnTo>
                    <a:lnTo>
                      <a:pt x="232" y="69"/>
                    </a:lnTo>
                    <a:close/>
                  </a:path>
                </a:pathLst>
              </a:custGeom>
              <a:solidFill>
                <a:srgbClr val="1a1a1a"/>
              </a:solidFill>
              <a:ln w="32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>
                <a:off x="4071600" y="66405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>
                <a:off x="4070160" y="665964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>
                <a:off x="3999960" y="665964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4566240" y="665964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>
                <a:off x="4633560" y="66405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>
                <a:off x="4611600" y="665964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>
                <a:off x="5838480" y="6520680"/>
                <a:ext cx="320760" cy="173160"/>
              </a:xfrm>
              <a:prstGeom prst="rect">
                <a:avLst/>
              </a:prstGeom>
              <a:solidFill>
                <a:srgbClr val="35509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143320" y="6520680"/>
                <a:ext cx="366120" cy="173160"/>
              </a:xfrm>
              <a:prstGeom prst="rect">
                <a:avLst/>
              </a:prstGeom>
              <a:solidFill>
                <a:srgbClr val="26918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4707000" y="6520680"/>
                <a:ext cx="260640" cy="173160"/>
              </a:xfrm>
              <a:prstGeom prst="rect">
                <a:avLst/>
              </a:prstGeom>
              <a:solidFill>
                <a:srgbClr val="9997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4966560" y="6520680"/>
                <a:ext cx="176400" cy="173160"/>
              </a:xfrm>
              <a:prstGeom prst="rect">
                <a:avLst/>
              </a:prstGeom>
              <a:solidFill>
                <a:srgbClr val="bced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6354000" y="6641640"/>
                <a:ext cx="110520" cy="76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>
                <a:off x="4707000" y="6520680"/>
                <a:ext cx="1744920" cy="173160"/>
              </a:xfrm>
              <a:prstGeom prst="rect">
                <a:avLst/>
              </a:prstGeom>
              <a:noFill/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>
                <a:off x="4463280" y="645948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>
                <a:off x="4463280" y="65804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4872960" y="6072120"/>
                <a:ext cx="1689120" cy="4395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>
                <a:off x="4883760" y="6080760"/>
                <a:ext cx="1665000" cy="420840"/>
              </a:xfrm>
              <a:prstGeom prst="rect">
                <a:avLst/>
              </a:prstGeom>
              <a:solidFill>
                <a:srgbClr val="3333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>
                <a:off x="4883760" y="6080760"/>
                <a:ext cx="1665000" cy="420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>
                <a:off x="5735160" y="6090840"/>
                <a:ext cx="803520" cy="4017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>
                <a:off x="5735160" y="6090840"/>
                <a:ext cx="803520" cy="4017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>
                <a:off x="5709240" y="6080760"/>
                <a:ext cx="14760" cy="42084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>
                <a:off x="5709240" y="6080760"/>
                <a:ext cx="14760" cy="420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>
                <a:off x="5020920" y="6234120"/>
                <a:ext cx="148320" cy="14184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18" y="109"/>
                    </a:moveTo>
                    <a:lnTo>
                      <a:pt x="217" y="123"/>
                    </a:lnTo>
                    <a:lnTo>
                      <a:pt x="216" y="137"/>
                    </a:lnTo>
                    <a:lnTo>
                      <a:pt x="214" y="149"/>
                    </a:lnTo>
                    <a:lnTo>
                      <a:pt x="211" y="163"/>
                    </a:lnTo>
                    <a:lnTo>
                      <a:pt x="207" y="176"/>
                    </a:lnTo>
                    <a:lnTo>
                      <a:pt x="203" y="187"/>
                    </a:lnTo>
                    <a:lnTo>
                      <a:pt x="197" y="199"/>
                    </a:lnTo>
                    <a:lnTo>
                      <a:pt x="191" y="210"/>
                    </a:lnTo>
                    <a:lnTo>
                      <a:pt x="183" y="220"/>
                    </a:lnTo>
                    <a:lnTo>
                      <a:pt x="176" y="229"/>
                    </a:lnTo>
                    <a:lnTo>
                      <a:pt x="167" y="237"/>
                    </a:lnTo>
                    <a:lnTo>
                      <a:pt x="162" y="239"/>
                    </a:lnTo>
                    <a:lnTo>
                      <a:pt x="157" y="243"/>
                    </a:lnTo>
                    <a:lnTo>
                      <a:pt x="152" y="245"/>
                    </a:lnTo>
                    <a:lnTo>
                      <a:pt x="145" y="248"/>
                    </a:lnTo>
                    <a:lnTo>
                      <a:pt x="140" y="250"/>
                    </a:lnTo>
                    <a:lnTo>
                      <a:pt x="134" y="252"/>
                    </a:lnTo>
                    <a:lnTo>
                      <a:pt x="129" y="253"/>
                    </a:lnTo>
                    <a:lnTo>
                      <a:pt x="123" y="254"/>
                    </a:lnTo>
                    <a:lnTo>
                      <a:pt x="115" y="255"/>
                    </a:lnTo>
                    <a:lnTo>
                      <a:pt x="109" y="255"/>
                    </a:lnTo>
                    <a:lnTo>
                      <a:pt x="103" y="255"/>
                    </a:lnTo>
                    <a:lnTo>
                      <a:pt x="97" y="254"/>
                    </a:lnTo>
                    <a:lnTo>
                      <a:pt x="90" y="253"/>
                    </a:lnTo>
                    <a:lnTo>
                      <a:pt x="84" y="252"/>
                    </a:lnTo>
                    <a:lnTo>
                      <a:pt x="78" y="250"/>
                    </a:lnTo>
                    <a:lnTo>
                      <a:pt x="73" y="248"/>
                    </a:lnTo>
                    <a:lnTo>
                      <a:pt x="67" y="245"/>
                    </a:lnTo>
                    <a:lnTo>
                      <a:pt x="62" y="243"/>
                    </a:lnTo>
                    <a:lnTo>
                      <a:pt x="57" y="239"/>
                    </a:lnTo>
                    <a:lnTo>
                      <a:pt x="52" y="237"/>
                    </a:lnTo>
                    <a:lnTo>
                      <a:pt x="43" y="229"/>
                    </a:lnTo>
                    <a:lnTo>
                      <a:pt x="35" y="220"/>
                    </a:lnTo>
                    <a:lnTo>
                      <a:pt x="28" y="210"/>
                    </a:lnTo>
                    <a:lnTo>
                      <a:pt x="21" y="199"/>
                    </a:lnTo>
                    <a:lnTo>
                      <a:pt x="15" y="187"/>
                    </a:lnTo>
                    <a:lnTo>
                      <a:pt x="11" y="176"/>
                    </a:lnTo>
                    <a:lnTo>
                      <a:pt x="8" y="163"/>
                    </a:lnTo>
                    <a:lnTo>
                      <a:pt x="4" y="149"/>
                    </a:lnTo>
                    <a:lnTo>
                      <a:pt x="3" y="137"/>
                    </a:lnTo>
                    <a:lnTo>
                      <a:pt x="1" y="123"/>
                    </a:lnTo>
                    <a:lnTo>
                      <a:pt x="0" y="109"/>
                    </a:lnTo>
                    <a:lnTo>
                      <a:pt x="1" y="96"/>
                    </a:lnTo>
                    <a:lnTo>
                      <a:pt x="3" y="84"/>
                    </a:lnTo>
                    <a:lnTo>
                      <a:pt x="4" y="72"/>
                    </a:lnTo>
                    <a:lnTo>
                      <a:pt x="8" y="61"/>
                    </a:lnTo>
                    <a:lnTo>
                      <a:pt x="11" y="52"/>
                    </a:lnTo>
                    <a:lnTo>
                      <a:pt x="15" y="43"/>
                    </a:lnTo>
                    <a:lnTo>
                      <a:pt x="21" y="35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2" y="7"/>
                    </a:lnTo>
                    <a:lnTo>
                      <a:pt x="73" y="4"/>
                    </a:lnTo>
                    <a:lnTo>
                      <a:pt x="84" y="2"/>
                    </a:lnTo>
                    <a:lnTo>
                      <a:pt x="97" y="0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4" y="2"/>
                    </a:lnTo>
                    <a:lnTo>
                      <a:pt x="145" y="4"/>
                    </a:lnTo>
                    <a:lnTo>
                      <a:pt x="157" y="7"/>
                    </a:lnTo>
                    <a:lnTo>
                      <a:pt x="167" y="11"/>
                    </a:lnTo>
                    <a:lnTo>
                      <a:pt x="176" y="16"/>
                    </a:lnTo>
                    <a:lnTo>
                      <a:pt x="183" y="21"/>
                    </a:lnTo>
                    <a:lnTo>
                      <a:pt x="191" y="27"/>
                    </a:lnTo>
                    <a:lnTo>
                      <a:pt x="197" y="35"/>
                    </a:lnTo>
                    <a:lnTo>
                      <a:pt x="203" y="43"/>
                    </a:lnTo>
                    <a:lnTo>
                      <a:pt x="207" y="52"/>
                    </a:lnTo>
                    <a:lnTo>
                      <a:pt x="211" y="61"/>
                    </a:lnTo>
                    <a:lnTo>
                      <a:pt x="214" y="72"/>
                    </a:lnTo>
                    <a:lnTo>
                      <a:pt x="216" y="84"/>
                    </a:lnTo>
                    <a:lnTo>
                      <a:pt x="217" y="96"/>
                    </a:lnTo>
                    <a:lnTo>
                      <a:pt x="218" y="109"/>
                    </a:lnTo>
                    <a:lnTo>
                      <a:pt x="21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>
                <a:off x="5439960" y="6234120"/>
                <a:ext cx="171000" cy="14184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253" y="109"/>
                    </a:moveTo>
                    <a:lnTo>
                      <a:pt x="253" y="117"/>
                    </a:lnTo>
                    <a:lnTo>
                      <a:pt x="251" y="123"/>
                    </a:lnTo>
                    <a:lnTo>
                      <a:pt x="251" y="130"/>
                    </a:lnTo>
                    <a:lnTo>
                      <a:pt x="249" y="137"/>
                    </a:lnTo>
                    <a:lnTo>
                      <a:pt x="248" y="143"/>
                    </a:lnTo>
                    <a:lnTo>
                      <a:pt x="245" y="149"/>
                    </a:lnTo>
                    <a:lnTo>
                      <a:pt x="243" y="157"/>
                    </a:lnTo>
                    <a:lnTo>
                      <a:pt x="240" y="163"/>
                    </a:lnTo>
                    <a:lnTo>
                      <a:pt x="238" y="170"/>
                    </a:lnTo>
                    <a:lnTo>
                      <a:pt x="234" y="176"/>
                    </a:lnTo>
                    <a:lnTo>
                      <a:pt x="226" y="187"/>
                    </a:lnTo>
                    <a:lnTo>
                      <a:pt x="218" y="199"/>
                    </a:lnTo>
                    <a:lnTo>
                      <a:pt x="208" y="210"/>
                    </a:lnTo>
                    <a:lnTo>
                      <a:pt x="196" y="220"/>
                    </a:lnTo>
                    <a:lnTo>
                      <a:pt x="185" y="229"/>
                    </a:lnTo>
                    <a:lnTo>
                      <a:pt x="174" y="237"/>
                    </a:lnTo>
                    <a:lnTo>
                      <a:pt x="167" y="239"/>
                    </a:lnTo>
                    <a:lnTo>
                      <a:pt x="161" y="243"/>
                    </a:lnTo>
                    <a:lnTo>
                      <a:pt x="155" y="245"/>
                    </a:lnTo>
                    <a:lnTo>
                      <a:pt x="149" y="248"/>
                    </a:lnTo>
                    <a:lnTo>
                      <a:pt x="141" y="250"/>
                    </a:lnTo>
                    <a:lnTo>
                      <a:pt x="135" y="252"/>
                    </a:lnTo>
                    <a:lnTo>
                      <a:pt x="129" y="253"/>
                    </a:lnTo>
                    <a:lnTo>
                      <a:pt x="121" y="254"/>
                    </a:lnTo>
                    <a:lnTo>
                      <a:pt x="115" y="255"/>
                    </a:lnTo>
                    <a:lnTo>
                      <a:pt x="107" y="255"/>
                    </a:lnTo>
                    <a:lnTo>
                      <a:pt x="101" y="255"/>
                    </a:lnTo>
                    <a:lnTo>
                      <a:pt x="95" y="254"/>
                    </a:lnTo>
                    <a:lnTo>
                      <a:pt x="89" y="253"/>
                    </a:lnTo>
                    <a:lnTo>
                      <a:pt x="82" y="252"/>
                    </a:lnTo>
                    <a:lnTo>
                      <a:pt x="76" y="250"/>
                    </a:lnTo>
                    <a:lnTo>
                      <a:pt x="71" y="248"/>
                    </a:lnTo>
                    <a:lnTo>
                      <a:pt x="66" y="245"/>
                    </a:lnTo>
                    <a:lnTo>
                      <a:pt x="60" y="243"/>
                    </a:lnTo>
                    <a:lnTo>
                      <a:pt x="55" y="239"/>
                    </a:lnTo>
                    <a:lnTo>
                      <a:pt x="51" y="237"/>
                    </a:lnTo>
                    <a:lnTo>
                      <a:pt x="42" y="229"/>
                    </a:lnTo>
                    <a:lnTo>
                      <a:pt x="33" y="220"/>
                    </a:lnTo>
                    <a:lnTo>
                      <a:pt x="26" y="210"/>
                    </a:lnTo>
                    <a:lnTo>
                      <a:pt x="20" y="199"/>
                    </a:lnTo>
                    <a:lnTo>
                      <a:pt x="15" y="187"/>
                    </a:lnTo>
                    <a:lnTo>
                      <a:pt x="10" y="176"/>
                    </a:lnTo>
                    <a:lnTo>
                      <a:pt x="6" y="163"/>
                    </a:lnTo>
                    <a:lnTo>
                      <a:pt x="3" y="149"/>
                    </a:lnTo>
                    <a:lnTo>
                      <a:pt x="1" y="137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3" y="72"/>
                    </a:lnTo>
                    <a:lnTo>
                      <a:pt x="6" y="61"/>
                    </a:lnTo>
                    <a:lnTo>
                      <a:pt x="10" y="52"/>
                    </a:lnTo>
                    <a:lnTo>
                      <a:pt x="15" y="43"/>
                    </a:lnTo>
                    <a:lnTo>
                      <a:pt x="20" y="35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2" y="16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5" y="2"/>
                    </a:lnTo>
                    <a:lnTo>
                      <a:pt x="149" y="4"/>
                    </a:lnTo>
                    <a:lnTo>
                      <a:pt x="161" y="7"/>
                    </a:lnTo>
                    <a:lnTo>
                      <a:pt x="174" y="11"/>
                    </a:lnTo>
                    <a:lnTo>
                      <a:pt x="185" y="16"/>
                    </a:lnTo>
                    <a:lnTo>
                      <a:pt x="196" y="21"/>
                    </a:lnTo>
                    <a:lnTo>
                      <a:pt x="208" y="27"/>
                    </a:lnTo>
                    <a:lnTo>
                      <a:pt x="218" y="35"/>
                    </a:lnTo>
                    <a:lnTo>
                      <a:pt x="226" y="43"/>
                    </a:lnTo>
                    <a:lnTo>
                      <a:pt x="234" y="52"/>
                    </a:lnTo>
                    <a:lnTo>
                      <a:pt x="238" y="56"/>
                    </a:lnTo>
                    <a:lnTo>
                      <a:pt x="240" y="61"/>
                    </a:lnTo>
                    <a:lnTo>
                      <a:pt x="243" y="67"/>
                    </a:lnTo>
                    <a:lnTo>
                      <a:pt x="245" y="72"/>
                    </a:lnTo>
                    <a:lnTo>
                      <a:pt x="248" y="77"/>
                    </a:lnTo>
                    <a:lnTo>
                      <a:pt x="249" y="84"/>
                    </a:lnTo>
                    <a:lnTo>
                      <a:pt x="251" y="90"/>
                    </a:lnTo>
                    <a:lnTo>
                      <a:pt x="251" y="96"/>
                    </a:lnTo>
                    <a:lnTo>
                      <a:pt x="253" y="103"/>
                    </a:lnTo>
                    <a:lnTo>
                      <a:pt x="253" y="109"/>
                    </a:lnTo>
                    <a:lnTo>
                      <a:pt x="25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>
                <a:off x="4897080" y="6093000"/>
                <a:ext cx="813240" cy="403920"/>
              </a:xfrm>
              <a:custGeom>
                <a:avLst/>
                <a:gdLst/>
                <a:ahLst/>
                <a:rect l="l" t="t" r="r" b="b"/>
                <a:pathLst>
                  <a:path w="1195" h="729">
                    <a:moveTo>
                      <a:pt x="0" y="729"/>
                    </a:moveTo>
                    <a:lnTo>
                      <a:pt x="1195" y="729"/>
                    </a:lnTo>
                    <a:lnTo>
                      <a:pt x="119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334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72960" y="6072120"/>
                <a:ext cx="813240" cy="4050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334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872960" y="6072120"/>
                <a:ext cx="813240" cy="4050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3344" name=""/>
              <p:cNvSpPr/>
              <p:nvPr/>
            </p:nvSpPr>
            <p:spPr>
              <a:xfrm>
                <a:off x="4999320" y="6221880"/>
                <a:ext cx="169920" cy="138600"/>
              </a:xfrm>
              <a:custGeom>
                <a:avLst/>
                <a:gdLst/>
                <a:ahLst/>
                <a:rect l="l" t="t" r="r" b="b"/>
                <a:pathLst>
                  <a:path w="249" h="249">
                    <a:moveTo>
                      <a:pt x="249" y="126"/>
                    </a:moveTo>
                    <a:lnTo>
                      <a:pt x="249" y="133"/>
                    </a:lnTo>
                    <a:lnTo>
                      <a:pt x="248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3" y="163"/>
                    </a:lnTo>
                    <a:lnTo>
                      <a:pt x="239" y="174"/>
                    </a:lnTo>
                    <a:lnTo>
                      <a:pt x="234" y="184"/>
                    </a:lnTo>
                    <a:lnTo>
                      <a:pt x="228" y="194"/>
                    </a:lnTo>
                    <a:lnTo>
                      <a:pt x="220" y="204"/>
                    </a:lnTo>
                    <a:lnTo>
                      <a:pt x="212" y="213"/>
                    </a:lnTo>
                    <a:lnTo>
                      <a:pt x="203" y="221"/>
                    </a:lnTo>
                    <a:lnTo>
                      <a:pt x="194" y="228"/>
                    </a:lnTo>
                    <a:lnTo>
                      <a:pt x="183" y="235"/>
                    </a:lnTo>
                    <a:lnTo>
                      <a:pt x="173" y="240"/>
                    </a:lnTo>
                    <a:lnTo>
                      <a:pt x="161" y="244"/>
                    </a:lnTo>
                    <a:lnTo>
                      <a:pt x="149" y="246"/>
                    </a:lnTo>
                    <a:lnTo>
                      <a:pt x="136" y="249"/>
                    </a:lnTo>
                    <a:lnTo>
                      <a:pt x="130" y="249"/>
                    </a:lnTo>
                    <a:lnTo>
                      <a:pt x="124" y="249"/>
                    </a:lnTo>
                    <a:lnTo>
                      <a:pt x="118" y="249"/>
                    </a:lnTo>
                    <a:lnTo>
                      <a:pt x="111" y="249"/>
                    </a:lnTo>
                    <a:lnTo>
                      <a:pt x="100" y="246"/>
                    </a:lnTo>
                    <a:lnTo>
                      <a:pt x="88" y="244"/>
                    </a:lnTo>
                    <a:lnTo>
                      <a:pt x="76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6" y="213"/>
                    </a:lnTo>
                    <a:lnTo>
                      <a:pt x="29" y="204"/>
                    </a:lnTo>
                    <a:lnTo>
                      <a:pt x="21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5" y="163"/>
                    </a:lnTo>
                    <a:lnTo>
                      <a:pt x="2" y="150"/>
                    </a:lnTo>
                    <a:lnTo>
                      <a:pt x="1" y="145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1" y="106"/>
                    </a:lnTo>
                    <a:lnTo>
                      <a:pt x="2" y="100"/>
                    </a:lnTo>
                    <a:lnTo>
                      <a:pt x="6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1" y="56"/>
                    </a:lnTo>
                    <a:lnTo>
                      <a:pt x="29" y="45"/>
                    </a:lnTo>
                    <a:lnTo>
                      <a:pt x="36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8" y="6"/>
                    </a:lnTo>
                    <a:lnTo>
                      <a:pt x="100" y="2"/>
                    </a:lnTo>
                    <a:lnTo>
                      <a:pt x="111" y="1"/>
                    </a:lnTo>
                    <a:lnTo>
                      <a:pt x="118" y="1"/>
                    </a:lnTo>
                    <a:lnTo>
                      <a:pt x="124" y="0"/>
                    </a:lnTo>
                    <a:lnTo>
                      <a:pt x="130" y="1"/>
                    </a:lnTo>
                    <a:lnTo>
                      <a:pt x="136" y="1"/>
                    </a:lnTo>
                    <a:lnTo>
                      <a:pt x="149" y="2"/>
                    </a:lnTo>
                    <a:lnTo>
                      <a:pt x="161" y="6"/>
                    </a:lnTo>
                    <a:lnTo>
                      <a:pt x="173" y="10"/>
                    </a:lnTo>
                    <a:lnTo>
                      <a:pt x="183" y="15"/>
                    </a:lnTo>
                    <a:lnTo>
                      <a:pt x="194" y="21"/>
                    </a:lnTo>
                    <a:lnTo>
                      <a:pt x="203" y="29"/>
                    </a:lnTo>
                    <a:lnTo>
                      <a:pt x="212" y="37"/>
                    </a:lnTo>
                    <a:lnTo>
                      <a:pt x="220" y="45"/>
                    </a:lnTo>
                    <a:lnTo>
                      <a:pt x="228" y="56"/>
                    </a:lnTo>
                    <a:lnTo>
                      <a:pt x="234" y="66"/>
                    </a:lnTo>
                    <a:lnTo>
                      <a:pt x="239" y="77"/>
                    </a:lnTo>
                    <a:lnTo>
                      <a:pt x="243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48" y="112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2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>
                <a:off x="5424840" y="6221880"/>
                <a:ext cx="169920" cy="13860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50" y="126"/>
                    </a:moveTo>
                    <a:lnTo>
                      <a:pt x="250" y="133"/>
                    </a:lnTo>
                    <a:lnTo>
                      <a:pt x="250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5" y="163"/>
                    </a:lnTo>
                    <a:lnTo>
                      <a:pt x="240" y="174"/>
                    </a:lnTo>
                    <a:lnTo>
                      <a:pt x="235" y="184"/>
                    </a:lnTo>
                    <a:lnTo>
                      <a:pt x="228" y="194"/>
                    </a:lnTo>
                    <a:lnTo>
                      <a:pt x="221" y="204"/>
                    </a:lnTo>
                    <a:lnTo>
                      <a:pt x="213" y="213"/>
                    </a:lnTo>
                    <a:lnTo>
                      <a:pt x="205" y="221"/>
                    </a:lnTo>
                    <a:lnTo>
                      <a:pt x="195" y="228"/>
                    </a:lnTo>
                    <a:lnTo>
                      <a:pt x="184" y="235"/>
                    </a:lnTo>
                    <a:lnTo>
                      <a:pt x="173" y="240"/>
                    </a:lnTo>
                    <a:lnTo>
                      <a:pt x="162" y="244"/>
                    </a:lnTo>
                    <a:lnTo>
                      <a:pt x="151" y="246"/>
                    </a:lnTo>
                    <a:lnTo>
                      <a:pt x="138" y="249"/>
                    </a:lnTo>
                    <a:lnTo>
                      <a:pt x="132" y="249"/>
                    </a:lnTo>
                    <a:lnTo>
                      <a:pt x="126" y="249"/>
                    </a:lnTo>
                    <a:lnTo>
                      <a:pt x="119" y="249"/>
                    </a:lnTo>
                    <a:lnTo>
                      <a:pt x="112" y="249"/>
                    </a:lnTo>
                    <a:lnTo>
                      <a:pt x="99" y="246"/>
                    </a:lnTo>
                    <a:lnTo>
                      <a:pt x="88" y="244"/>
                    </a:lnTo>
                    <a:lnTo>
                      <a:pt x="77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7" y="213"/>
                    </a:lnTo>
                    <a:lnTo>
                      <a:pt x="29" y="204"/>
                    </a:lnTo>
                    <a:lnTo>
                      <a:pt x="22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7" y="163"/>
                    </a:lnTo>
                    <a:lnTo>
                      <a:pt x="3" y="150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6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3" y="100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9" y="45"/>
                    </a:lnTo>
                    <a:lnTo>
                      <a:pt x="37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7" y="10"/>
                    </a:lnTo>
                    <a:lnTo>
                      <a:pt x="88" y="6"/>
                    </a:lnTo>
                    <a:lnTo>
                      <a:pt x="99" y="2"/>
                    </a:lnTo>
                    <a:lnTo>
                      <a:pt x="112" y="1"/>
                    </a:lnTo>
                    <a:lnTo>
                      <a:pt x="119" y="1"/>
                    </a:lnTo>
                    <a:lnTo>
                      <a:pt x="126" y="0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51" y="2"/>
                    </a:lnTo>
                    <a:lnTo>
                      <a:pt x="162" y="6"/>
                    </a:lnTo>
                    <a:lnTo>
                      <a:pt x="173" y="10"/>
                    </a:lnTo>
                    <a:lnTo>
                      <a:pt x="184" y="15"/>
                    </a:lnTo>
                    <a:lnTo>
                      <a:pt x="195" y="21"/>
                    </a:lnTo>
                    <a:lnTo>
                      <a:pt x="205" y="29"/>
                    </a:lnTo>
                    <a:lnTo>
                      <a:pt x="213" y="37"/>
                    </a:lnTo>
                    <a:lnTo>
                      <a:pt x="221" y="45"/>
                    </a:lnTo>
                    <a:lnTo>
                      <a:pt x="228" y="56"/>
                    </a:lnTo>
                    <a:lnTo>
                      <a:pt x="235" y="66"/>
                    </a:lnTo>
                    <a:lnTo>
                      <a:pt x="240" y="77"/>
                    </a:lnTo>
                    <a:lnTo>
                      <a:pt x="245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50" y="112"/>
                    </a:lnTo>
                    <a:lnTo>
                      <a:pt x="250" y="120"/>
                    </a:lnTo>
                    <a:lnTo>
                      <a:pt x="250" y="126"/>
                    </a:lnTo>
                    <a:lnTo>
                      <a:pt x="250" y="12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>
                <a:off x="4894560" y="6090840"/>
                <a:ext cx="803520" cy="4017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>
                <a:off x="2606760" y="6213960"/>
                <a:ext cx="24480" cy="445320"/>
              </a:xfrm>
              <a:prstGeom prst="rect">
                <a:avLst/>
              </a:prstGeom>
              <a:solidFill>
                <a:srgbClr val="47474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>
                <a:off x="2631240" y="6213960"/>
                <a:ext cx="24120" cy="445320"/>
              </a:xfrm>
              <a:prstGeom prst="rect">
                <a:avLst/>
              </a:prstGeom>
              <a:solidFill>
                <a:srgbClr val="46464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>
                <a:off x="2655720" y="6213960"/>
                <a:ext cx="24120" cy="445320"/>
              </a:xfrm>
              <a:prstGeom prst="rect">
                <a:avLst/>
              </a:prstGeom>
              <a:solidFill>
                <a:srgbClr val="60606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>
                <a:off x="2620080" y="6226200"/>
                <a:ext cx="65160" cy="437400"/>
              </a:xfrm>
              <a:custGeom>
                <a:avLst/>
                <a:gdLst/>
                <a:ahLst/>
                <a:rect l="l" t="t" r="r" b="b"/>
                <a:pathLst>
                  <a:path w="95" h="786">
                    <a:moveTo>
                      <a:pt x="90" y="786"/>
                    </a:moveTo>
                    <a:lnTo>
                      <a:pt x="4" y="786"/>
                    </a:lnTo>
                    <a:lnTo>
                      <a:pt x="2" y="785"/>
                    </a:lnTo>
                    <a:lnTo>
                      <a:pt x="1" y="784"/>
                    </a:lnTo>
                    <a:lnTo>
                      <a:pt x="0" y="782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4" y="2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779"/>
                    </a:lnTo>
                    <a:lnTo>
                      <a:pt x="94" y="782"/>
                    </a:lnTo>
                    <a:lnTo>
                      <a:pt x="93" y="784"/>
                    </a:lnTo>
                    <a:lnTo>
                      <a:pt x="91" y="785"/>
                    </a:lnTo>
                    <a:lnTo>
                      <a:pt x="90" y="7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2896200" y="6592680"/>
                <a:ext cx="838080" cy="59760"/>
              </a:xfrm>
              <a:custGeom>
                <a:avLst/>
                <a:gdLst/>
                <a:ahLst/>
                <a:rect l="l" t="t" r="r" b="b"/>
                <a:pathLst>
                  <a:path w="1231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77" y="0"/>
                    </a:moveTo>
                    <a:lnTo>
                      <a:pt x="1077" y="104"/>
                    </a:lnTo>
                    <a:lnTo>
                      <a:pt x="1077" y="106"/>
                    </a:lnTo>
                    <a:lnTo>
                      <a:pt x="1077" y="107"/>
                    </a:lnTo>
                    <a:lnTo>
                      <a:pt x="1078" y="108"/>
                    </a:lnTo>
                    <a:lnTo>
                      <a:pt x="1080" y="108"/>
                    </a:lnTo>
                    <a:lnTo>
                      <a:pt x="1080" y="108"/>
                    </a:lnTo>
                    <a:lnTo>
                      <a:pt x="1229" y="108"/>
                    </a:lnTo>
                    <a:lnTo>
                      <a:pt x="1229" y="108"/>
                    </a:lnTo>
                    <a:lnTo>
                      <a:pt x="1230" y="107"/>
                    </a:lnTo>
                    <a:lnTo>
                      <a:pt x="1231" y="106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0"/>
                    </a:lnTo>
                    <a:lnTo>
                      <a:pt x="1077" y="0"/>
                    </a:lnTo>
                    <a:lnTo>
                      <a:pt x="1077" y="0"/>
                    </a:lnTo>
                    <a:close/>
                  </a:path>
                </a:pathLst>
              </a:custGeom>
              <a:solidFill>
                <a:srgbClr val="c5c5c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2896200" y="659268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3629520" y="659268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3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4128840" y="6082920"/>
                <a:ext cx="415800" cy="3319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>
                <a:off x="4128840" y="6082920"/>
                <a:ext cx="415800" cy="33192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>
                <a:off x="4132800" y="6262920"/>
                <a:ext cx="410760" cy="15192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>
                <a:off x="4132800" y="6262920"/>
                <a:ext cx="410760" cy="15192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>
                <a:off x="2893680" y="6081840"/>
                <a:ext cx="1928520" cy="588600"/>
              </a:xfrm>
              <a:custGeom>
                <a:avLst/>
                <a:gdLst/>
                <a:ahLst/>
                <a:rect l="l" t="t" r="r" b="b"/>
                <a:pathLst>
                  <a:path w="2835" h="1060">
                    <a:moveTo>
                      <a:pt x="175" y="1060"/>
                    </a:moveTo>
                    <a:lnTo>
                      <a:pt x="326" y="1060"/>
                    </a:lnTo>
                    <a:lnTo>
                      <a:pt x="327" y="1060"/>
                    </a:lnTo>
                    <a:lnTo>
                      <a:pt x="327" y="1058"/>
                    </a:lnTo>
                    <a:lnTo>
                      <a:pt x="327" y="1057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978"/>
                    </a:lnTo>
                    <a:lnTo>
                      <a:pt x="327" y="976"/>
                    </a:lnTo>
                    <a:lnTo>
                      <a:pt x="327" y="975"/>
                    </a:lnTo>
                    <a:lnTo>
                      <a:pt x="327" y="974"/>
                    </a:lnTo>
                    <a:lnTo>
                      <a:pt x="326" y="974"/>
                    </a:lnTo>
                    <a:lnTo>
                      <a:pt x="175" y="974"/>
                    </a:lnTo>
                    <a:lnTo>
                      <a:pt x="175" y="974"/>
                    </a:lnTo>
                    <a:lnTo>
                      <a:pt x="175" y="975"/>
                    </a:lnTo>
                    <a:lnTo>
                      <a:pt x="174" y="976"/>
                    </a:lnTo>
                    <a:lnTo>
                      <a:pt x="174" y="978"/>
                    </a:lnTo>
                    <a:lnTo>
                      <a:pt x="174" y="978"/>
                    </a:lnTo>
                    <a:lnTo>
                      <a:pt x="174" y="1056"/>
                    </a:lnTo>
                    <a:lnTo>
                      <a:pt x="174" y="1057"/>
                    </a:lnTo>
                    <a:lnTo>
                      <a:pt x="175" y="1058"/>
                    </a:lnTo>
                    <a:lnTo>
                      <a:pt x="175" y="1060"/>
                    </a:lnTo>
                    <a:lnTo>
                      <a:pt x="175" y="1060"/>
                    </a:lnTo>
                    <a:lnTo>
                      <a:pt x="175" y="1060"/>
                    </a:lnTo>
                    <a:close/>
                    <a:moveTo>
                      <a:pt x="362" y="1060"/>
                    </a:moveTo>
                    <a:lnTo>
                      <a:pt x="508" y="1060"/>
                    </a:lnTo>
                    <a:lnTo>
                      <a:pt x="510" y="1060"/>
                    </a:lnTo>
                    <a:lnTo>
                      <a:pt x="511" y="1058"/>
                    </a:lnTo>
                    <a:lnTo>
                      <a:pt x="512" y="1057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978"/>
                    </a:lnTo>
                    <a:lnTo>
                      <a:pt x="512" y="976"/>
                    </a:lnTo>
                    <a:lnTo>
                      <a:pt x="511" y="975"/>
                    </a:lnTo>
                    <a:lnTo>
                      <a:pt x="510" y="974"/>
                    </a:lnTo>
                    <a:lnTo>
                      <a:pt x="508" y="974"/>
                    </a:lnTo>
                    <a:lnTo>
                      <a:pt x="362" y="974"/>
                    </a:lnTo>
                    <a:lnTo>
                      <a:pt x="359" y="974"/>
                    </a:lnTo>
                    <a:lnTo>
                      <a:pt x="358" y="975"/>
                    </a:lnTo>
                    <a:lnTo>
                      <a:pt x="357" y="976"/>
                    </a:lnTo>
                    <a:lnTo>
                      <a:pt x="357" y="978"/>
                    </a:lnTo>
                    <a:lnTo>
                      <a:pt x="357" y="978"/>
                    </a:lnTo>
                    <a:lnTo>
                      <a:pt x="357" y="1056"/>
                    </a:lnTo>
                    <a:lnTo>
                      <a:pt x="357" y="1057"/>
                    </a:lnTo>
                    <a:lnTo>
                      <a:pt x="358" y="1058"/>
                    </a:lnTo>
                    <a:lnTo>
                      <a:pt x="359" y="1060"/>
                    </a:lnTo>
                    <a:lnTo>
                      <a:pt x="362" y="1060"/>
                    </a:lnTo>
                    <a:lnTo>
                      <a:pt x="362" y="1060"/>
                    </a:lnTo>
                    <a:close/>
                    <a:moveTo>
                      <a:pt x="545" y="1060"/>
                    </a:moveTo>
                    <a:lnTo>
                      <a:pt x="694" y="1060"/>
                    </a:lnTo>
                    <a:lnTo>
                      <a:pt x="694" y="1060"/>
                    </a:lnTo>
                    <a:lnTo>
                      <a:pt x="695" y="1058"/>
                    </a:lnTo>
                    <a:lnTo>
                      <a:pt x="696" y="1057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978"/>
                    </a:lnTo>
                    <a:lnTo>
                      <a:pt x="696" y="976"/>
                    </a:lnTo>
                    <a:lnTo>
                      <a:pt x="695" y="975"/>
                    </a:lnTo>
                    <a:lnTo>
                      <a:pt x="694" y="974"/>
                    </a:lnTo>
                    <a:lnTo>
                      <a:pt x="694" y="974"/>
                    </a:lnTo>
                    <a:lnTo>
                      <a:pt x="545" y="974"/>
                    </a:lnTo>
                    <a:lnTo>
                      <a:pt x="544" y="974"/>
                    </a:lnTo>
                    <a:lnTo>
                      <a:pt x="542" y="975"/>
                    </a:lnTo>
                    <a:lnTo>
                      <a:pt x="542" y="976"/>
                    </a:lnTo>
                    <a:lnTo>
                      <a:pt x="542" y="978"/>
                    </a:lnTo>
                    <a:lnTo>
                      <a:pt x="542" y="978"/>
                    </a:lnTo>
                    <a:lnTo>
                      <a:pt x="542" y="1056"/>
                    </a:lnTo>
                    <a:lnTo>
                      <a:pt x="542" y="1057"/>
                    </a:lnTo>
                    <a:lnTo>
                      <a:pt x="542" y="1058"/>
                    </a:lnTo>
                    <a:lnTo>
                      <a:pt x="544" y="1060"/>
                    </a:lnTo>
                    <a:lnTo>
                      <a:pt x="545" y="1060"/>
                    </a:lnTo>
                    <a:lnTo>
                      <a:pt x="545" y="1060"/>
                    </a:lnTo>
                    <a:close/>
                    <a:moveTo>
                      <a:pt x="730" y="1060"/>
                    </a:moveTo>
                    <a:lnTo>
                      <a:pt x="877" y="1060"/>
                    </a:lnTo>
                    <a:lnTo>
                      <a:pt x="879" y="1060"/>
                    </a:lnTo>
                    <a:lnTo>
                      <a:pt x="881" y="1058"/>
                    </a:lnTo>
                    <a:lnTo>
                      <a:pt x="882" y="1057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978"/>
                    </a:lnTo>
                    <a:lnTo>
                      <a:pt x="882" y="976"/>
                    </a:lnTo>
                    <a:lnTo>
                      <a:pt x="881" y="975"/>
                    </a:lnTo>
                    <a:lnTo>
                      <a:pt x="879" y="974"/>
                    </a:lnTo>
                    <a:lnTo>
                      <a:pt x="877" y="974"/>
                    </a:lnTo>
                    <a:lnTo>
                      <a:pt x="730" y="974"/>
                    </a:lnTo>
                    <a:lnTo>
                      <a:pt x="729" y="974"/>
                    </a:lnTo>
                    <a:lnTo>
                      <a:pt x="728" y="975"/>
                    </a:lnTo>
                    <a:lnTo>
                      <a:pt x="727" y="976"/>
                    </a:lnTo>
                    <a:lnTo>
                      <a:pt x="725" y="978"/>
                    </a:lnTo>
                    <a:lnTo>
                      <a:pt x="725" y="978"/>
                    </a:lnTo>
                    <a:lnTo>
                      <a:pt x="725" y="1056"/>
                    </a:lnTo>
                    <a:lnTo>
                      <a:pt x="727" y="1057"/>
                    </a:lnTo>
                    <a:lnTo>
                      <a:pt x="728" y="1058"/>
                    </a:lnTo>
                    <a:lnTo>
                      <a:pt x="729" y="1060"/>
                    </a:lnTo>
                    <a:lnTo>
                      <a:pt x="730" y="1060"/>
                    </a:lnTo>
                    <a:lnTo>
                      <a:pt x="730" y="1060"/>
                    </a:lnTo>
                    <a:close/>
                    <a:moveTo>
                      <a:pt x="913" y="1060"/>
                    </a:moveTo>
                    <a:lnTo>
                      <a:pt x="1061" y="1060"/>
                    </a:lnTo>
                    <a:lnTo>
                      <a:pt x="1062" y="1060"/>
                    </a:lnTo>
                    <a:lnTo>
                      <a:pt x="1064" y="1058"/>
                    </a:lnTo>
                    <a:lnTo>
                      <a:pt x="1065" y="1057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978"/>
                    </a:lnTo>
                    <a:lnTo>
                      <a:pt x="1065" y="976"/>
                    </a:lnTo>
                    <a:lnTo>
                      <a:pt x="1064" y="975"/>
                    </a:lnTo>
                    <a:lnTo>
                      <a:pt x="1062" y="974"/>
                    </a:lnTo>
                    <a:lnTo>
                      <a:pt x="1061" y="974"/>
                    </a:lnTo>
                    <a:lnTo>
                      <a:pt x="1061" y="974"/>
                    </a:lnTo>
                    <a:lnTo>
                      <a:pt x="913" y="974"/>
                    </a:lnTo>
                    <a:lnTo>
                      <a:pt x="912" y="974"/>
                    </a:lnTo>
                    <a:lnTo>
                      <a:pt x="912" y="975"/>
                    </a:lnTo>
                    <a:lnTo>
                      <a:pt x="912" y="976"/>
                    </a:lnTo>
                    <a:lnTo>
                      <a:pt x="912" y="978"/>
                    </a:lnTo>
                    <a:lnTo>
                      <a:pt x="912" y="978"/>
                    </a:lnTo>
                    <a:lnTo>
                      <a:pt x="912" y="1056"/>
                    </a:lnTo>
                    <a:lnTo>
                      <a:pt x="912" y="1057"/>
                    </a:lnTo>
                    <a:lnTo>
                      <a:pt x="912" y="1058"/>
                    </a:lnTo>
                    <a:lnTo>
                      <a:pt x="912" y="1060"/>
                    </a:lnTo>
                    <a:lnTo>
                      <a:pt x="913" y="1060"/>
                    </a:lnTo>
                    <a:lnTo>
                      <a:pt x="913" y="1060"/>
                    </a:lnTo>
                    <a:close/>
                    <a:moveTo>
                      <a:pt x="4" y="643"/>
                    </a:moveTo>
                    <a:lnTo>
                      <a:pt x="151" y="643"/>
                    </a:lnTo>
                    <a:lnTo>
                      <a:pt x="153" y="643"/>
                    </a:lnTo>
                    <a:lnTo>
                      <a:pt x="154" y="643"/>
                    </a:lnTo>
                    <a:lnTo>
                      <a:pt x="155" y="642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581"/>
                    </a:lnTo>
                    <a:lnTo>
                      <a:pt x="155" y="581"/>
                    </a:lnTo>
                    <a:lnTo>
                      <a:pt x="154" y="580"/>
                    </a:lnTo>
                    <a:lnTo>
                      <a:pt x="153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4" y="580"/>
                    </a:lnTo>
                    <a:lnTo>
                      <a:pt x="2" y="580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641"/>
                    </a:lnTo>
                    <a:lnTo>
                      <a:pt x="0" y="642"/>
                    </a:lnTo>
                    <a:lnTo>
                      <a:pt x="1" y="643"/>
                    </a:lnTo>
                    <a:lnTo>
                      <a:pt x="2" y="643"/>
                    </a:lnTo>
                    <a:lnTo>
                      <a:pt x="4" y="643"/>
                    </a:lnTo>
                    <a:lnTo>
                      <a:pt x="4" y="643"/>
                    </a:lnTo>
                    <a:close/>
                    <a:moveTo>
                      <a:pt x="352" y="643"/>
                    </a:moveTo>
                    <a:lnTo>
                      <a:pt x="466" y="643"/>
                    </a:lnTo>
                    <a:lnTo>
                      <a:pt x="467" y="643"/>
                    </a:lnTo>
                    <a:lnTo>
                      <a:pt x="468" y="643"/>
                    </a:lnTo>
                    <a:lnTo>
                      <a:pt x="470" y="642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581"/>
                    </a:lnTo>
                    <a:lnTo>
                      <a:pt x="470" y="581"/>
                    </a:lnTo>
                    <a:lnTo>
                      <a:pt x="468" y="580"/>
                    </a:lnTo>
                    <a:lnTo>
                      <a:pt x="467" y="580"/>
                    </a:lnTo>
                    <a:lnTo>
                      <a:pt x="466" y="580"/>
                    </a:lnTo>
                    <a:lnTo>
                      <a:pt x="466" y="580"/>
                    </a:lnTo>
                    <a:lnTo>
                      <a:pt x="352" y="580"/>
                    </a:lnTo>
                    <a:lnTo>
                      <a:pt x="351" y="580"/>
                    </a:lnTo>
                    <a:lnTo>
                      <a:pt x="349" y="580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641"/>
                    </a:lnTo>
                    <a:lnTo>
                      <a:pt x="348" y="642"/>
                    </a:lnTo>
                    <a:lnTo>
                      <a:pt x="349" y="643"/>
                    </a:lnTo>
                    <a:lnTo>
                      <a:pt x="351" y="643"/>
                    </a:lnTo>
                    <a:lnTo>
                      <a:pt x="352" y="643"/>
                    </a:lnTo>
                    <a:lnTo>
                      <a:pt x="352" y="643"/>
                    </a:lnTo>
                    <a:close/>
                    <a:moveTo>
                      <a:pt x="502" y="643"/>
                    </a:moveTo>
                    <a:lnTo>
                      <a:pt x="617" y="643"/>
                    </a:lnTo>
                    <a:lnTo>
                      <a:pt x="619" y="643"/>
                    </a:lnTo>
                    <a:lnTo>
                      <a:pt x="619" y="643"/>
                    </a:lnTo>
                    <a:lnTo>
                      <a:pt x="619" y="642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581"/>
                    </a:lnTo>
                    <a:lnTo>
                      <a:pt x="619" y="581"/>
                    </a:lnTo>
                    <a:lnTo>
                      <a:pt x="619" y="580"/>
                    </a:lnTo>
                    <a:lnTo>
                      <a:pt x="619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502" y="580"/>
                    </a:lnTo>
                    <a:lnTo>
                      <a:pt x="501" y="580"/>
                    </a:lnTo>
                    <a:lnTo>
                      <a:pt x="500" y="580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641"/>
                    </a:lnTo>
                    <a:lnTo>
                      <a:pt x="500" y="642"/>
                    </a:lnTo>
                    <a:lnTo>
                      <a:pt x="500" y="643"/>
                    </a:lnTo>
                    <a:lnTo>
                      <a:pt x="501" y="643"/>
                    </a:lnTo>
                    <a:lnTo>
                      <a:pt x="502" y="643"/>
                    </a:lnTo>
                    <a:lnTo>
                      <a:pt x="502" y="643"/>
                    </a:lnTo>
                    <a:close/>
                    <a:moveTo>
                      <a:pt x="651" y="643"/>
                    </a:moveTo>
                    <a:lnTo>
                      <a:pt x="767" y="643"/>
                    </a:lnTo>
                    <a:lnTo>
                      <a:pt x="768" y="643"/>
                    </a:lnTo>
                    <a:lnTo>
                      <a:pt x="769" y="643"/>
                    </a:lnTo>
                    <a:lnTo>
                      <a:pt x="770" y="642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581"/>
                    </a:lnTo>
                    <a:lnTo>
                      <a:pt x="770" y="581"/>
                    </a:lnTo>
                    <a:lnTo>
                      <a:pt x="769" y="580"/>
                    </a:lnTo>
                    <a:lnTo>
                      <a:pt x="768" y="580"/>
                    </a:lnTo>
                    <a:lnTo>
                      <a:pt x="767" y="580"/>
                    </a:lnTo>
                    <a:lnTo>
                      <a:pt x="767" y="580"/>
                    </a:lnTo>
                    <a:lnTo>
                      <a:pt x="651" y="580"/>
                    </a:lnTo>
                    <a:lnTo>
                      <a:pt x="651" y="580"/>
                    </a:lnTo>
                    <a:lnTo>
                      <a:pt x="650" y="580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641"/>
                    </a:lnTo>
                    <a:lnTo>
                      <a:pt x="649" y="642"/>
                    </a:lnTo>
                    <a:lnTo>
                      <a:pt x="650" y="643"/>
                    </a:lnTo>
                    <a:lnTo>
                      <a:pt x="651" y="643"/>
                    </a:lnTo>
                    <a:lnTo>
                      <a:pt x="651" y="643"/>
                    </a:lnTo>
                    <a:lnTo>
                      <a:pt x="651" y="643"/>
                    </a:lnTo>
                    <a:close/>
                    <a:moveTo>
                      <a:pt x="971" y="643"/>
                    </a:moveTo>
                    <a:lnTo>
                      <a:pt x="1086" y="643"/>
                    </a:lnTo>
                    <a:lnTo>
                      <a:pt x="1087" y="643"/>
                    </a:lnTo>
                    <a:lnTo>
                      <a:pt x="1087" y="643"/>
                    </a:lnTo>
                    <a:lnTo>
                      <a:pt x="1087" y="642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581"/>
                    </a:lnTo>
                    <a:lnTo>
                      <a:pt x="1087" y="581"/>
                    </a:lnTo>
                    <a:lnTo>
                      <a:pt x="1087" y="580"/>
                    </a:lnTo>
                    <a:lnTo>
                      <a:pt x="1087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971" y="580"/>
                    </a:lnTo>
                    <a:lnTo>
                      <a:pt x="970" y="580"/>
                    </a:lnTo>
                    <a:lnTo>
                      <a:pt x="968" y="580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641"/>
                    </a:lnTo>
                    <a:lnTo>
                      <a:pt x="968" y="642"/>
                    </a:lnTo>
                    <a:lnTo>
                      <a:pt x="968" y="643"/>
                    </a:lnTo>
                    <a:lnTo>
                      <a:pt x="970" y="643"/>
                    </a:lnTo>
                    <a:lnTo>
                      <a:pt x="971" y="643"/>
                    </a:lnTo>
                    <a:lnTo>
                      <a:pt x="971" y="643"/>
                    </a:lnTo>
                    <a:close/>
                    <a:moveTo>
                      <a:pt x="1120" y="643"/>
                    </a:moveTo>
                    <a:lnTo>
                      <a:pt x="1235" y="643"/>
                    </a:lnTo>
                    <a:lnTo>
                      <a:pt x="1236" y="643"/>
                    </a:lnTo>
                    <a:lnTo>
                      <a:pt x="1238" y="643"/>
                    </a:lnTo>
                    <a:lnTo>
                      <a:pt x="1239" y="642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581"/>
                    </a:lnTo>
                    <a:lnTo>
                      <a:pt x="1239" y="581"/>
                    </a:lnTo>
                    <a:lnTo>
                      <a:pt x="1238" y="580"/>
                    </a:lnTo>
                    <a:lnTo>
                      <a:pt x="1236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120" y="580"/>
                    </a:lnTo>
                    <a:lnTo>
                      <a:pt x="1120" y="580"/>
                    </a:lnTo>
                    <a:lnTo>
                      <a:pt x="1119" y="580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641"/>
                    </a:lnTo>
                    <a:lnTo>
                      <a:pt x="1117" y="642"/>
                    </a:lnTo>
                    <a:lnTo>
                      <a:pt x="1119" y="643"/>
                    </a:lnTo>
                    <a:lnTo>
                      <a:pt x="1120" y="643"/>
                    </a:lnTo>
                    <a:lnTo>
                      <a:pt x="1120" y="643"/>
                    </a:lnTo>
                    <a:lnTo>
                      <a:pt x="1120" y="643"/>
                    </a:lnTo>
                    <a:close/>
                    <a:moveTo>
                      <a:pt x="1120" y="338"/>
                    </a:moveTo>
                    <a:lnTo>
                      <a:pt x="1235" y="338"/>
                    </a:lnTo>
                    <a:lnTo>
                      <a:pt x="1236" y="338"/>
                    </a:lnTo>
                    <a:lnTo>
                      <a:pt x="1238" y="338"/>
                    </a:lnTo>
                    <a:lnTo>
                      <a:pt x="1239" y="336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277"/>
                    </a:lnTo>
                    <a:lnTo>
                      <a:pt x="1239" y="274"/>
                    </a:lnTo>
                    <a:lnTo>
                      <a:pt x="1238" y="274"/>
                    </a:lnTo>
                    <a:lnTo>
                      <a:pt x="1236" y="274"/>
                    </a:lnTo>
                    <a:lnTo>
                      <a:pt x="1235" y="274"/>
                    </a:lnTo>
                    <a:lnTo>
                      <a:pt x="1235" y="274"/>
                    </a:lnTo>
                    <a:lnTo>
                      <a:pt x="1120" y="274"/>
                    </a:lnTo>
                    <a:lnTo>
                      <a:pt x="1120" y="274"/>
                    </a:lnTo>
                    <a:lnTo>
                      <a:pt x="1119" y="274"/>
                    </a:lnTo>
                    <a:lnTo>
                      <a:pt x="1117" y="274"/>
                    </a:lnTo>
                    <a:lnTo>
                      <a:pt x="1117" y="277"/>
                    </a:lnTo>
                    <a:lnTo>
                      <a:pt x="1117" y="277"/>
                    </a:lnTo>
                    <a:lnTo>
                      <a:pt x="1117" y="335"/>
                    </a:lnTo>
                    <a:lnTo>
                      <a:pt x="1117" y="336"/>
                    </a:lnTo>
                    <a:lnTo>
                      <a:pt x="1119" y="338"/>
                    </a:lnTo>
                    <a:lnTo>
                      <a:pt x="1120" y="338"/>
                    </a:lnTo>
                    <a:lnTo>
                      <a:pt x="1120" y="338"/>
                    </a:lnTo>
                    <a:lnTo>
                      <a:pt x="1120" y="338"/>
                    </a:lnTo>
                    <a:close/>
                    <a:moveTo>
                      <a:pt x="971" y="338"/>
                    </a:moveTo>
                    <a:lnTo>
                      <a:pt x="1086" y="338"/>
                    </a:lnTo>
                    <a:lnTo>
                      <a:pt x="1087" y="338"/>
                    </a:lnTo>
                    <a:lnTo>
                      <a:pt x="1087" y="338"/>
                    </a:lnTo>
                    <a:lnTo>
                      <a:pt x="1087" y="336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277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6" y="274"/>
                    </a:lnTo>
                    <a:lnTo>
                      <a:pt x="1086" y="274"/>
                    </a:lnTo>
                    <a:lnTo>
                      <a:pt x="971" y="274"/>
                    </a:lnTo>
                    <a:lnTo>
                      <a:pt x="970" y="274"/>
                    </a:lnTo>
                    <a:lnTo>
                      <a:pt x="968" y="274"/>
                    </a:lnTo>
                    <a:lnTo>
                      <a:pt x="968" y="274"/>
                    </a:lnTo>
                    <a:lnTo>
                      <a:pt x="968" y="277"/>
                    </a:lnTo>
                    <a:lnTo>
                      <a:pt x="968" y="277"/>
                    </a:lnTo>
                    <a:lnTo>
                      <a:pt x="968" y="335"/>
                    </a:lnTo>
                    <a:lnTo>
                      <a:pt x="968" y="336"/>
                    </a:lnTo>
                    <a:lnTo>
                      <a:pt x="968" y="338"/>
                    </a:lnTo>
                    <a:lnTo>
                      <a:pt x="970" y="338"/>
                    </a:lnTo>
                    <a:lnTo>
                      <a:pt x="971" y="338"/>
                    </a:lnTo>
                    <a:lnTo>
                      <a:pt x="971" y="338"/>
                    </a:lnTo>
                    <a:close/>
                    <a:moveTo>
                      <a:pt x="651" y="338"/>
                    </a:moveTo>
                    <a:lnTo>
                      <a:pt x="767" y="338"/>
                    </a:lnTo>
                    <a:lnTo>
                      <a:pt x="768" y="338"/>
                    </a:lnTo>
                    <a:lnTo>
                      <a:pt x="769" y="338"/>
                    </a:lnTo>
                    <a:lnTo>
                      <a:pt x="770" y="336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277"/>
                    </a:lnTo>
                    <a:lnTo>
                      <a:pt x="770" y="274"/>
                    </a:lnTo>
                    <a:lnTo>
                      <a:pt x="769" y="274"/>
                    </a:lnTo>
                    <a:lnTo>
                      <a:pt x="768" y="274"/>
                    </a:lnTo>
                    <a:lnTo>
                      <a:pt x="767" y="274"/>
                    </a:lnTo>
                    <a:lnTo>
                      <a:pt x="651" y="274"/>
                    </a:lnTo>
                    <a:lnTo>
                      <a:pt x="651" y="274"/>
                    </a:lnTo>
                    <a:lnTo>
                      <a:pt x="650" y="274"/>
                    </a:lnTo>
                    <a:lnTo>
                      <a:pt x="649" y="274"/>
                    </a:lnTo>
                    <a:lnTo>
                      <a:pt x="649" y="277"/>
                    </a:lnTo>
                    <a:lnTo>
                      <a:pt x="649" y="277"/>
                    </a:lnTo>
                    <a:lnTo>
                      <a:pt x="649" y="335"/>
                    </a:lnTo>
                    <a:lnTo>
                      <a:pt x="649" y="336"/>
                    </a:lnTo>
                    <a:lnTo>
                      <a:pt x="650" y="338"/>
                    </a:lnTo>
                    <a:lnTo>
                      <a:pt x="651" y="338"/>
                    </a:lnTo>
                    <a:lnTo>
                      <a:pt x="651" y="338"/>
                    </a:lnTo>
                    <a:lnTo>
                      <a:pt x="651" y="338"/>
                    </a:lnTo>
                    <a:close/>
                    <a:moveTo>
                      <a:pt x="502" y="338"/>
                    </a:moveTo>
                    <a:lnTo>
                      <a:pt x="617" y="338"/>
                    </a:lnTo>
                    <a:lnTo>
                      <a:pt x="619" y="338"/>
                    </a:lnTo>
                    <a:lnTo>
                      <a:pt x="619" y="338"/>
                    </a:lnTo>
                    <a:lnTo>
                      <a:pt x="619" y="336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277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7" y="274"/>
                    </a:lnTo>
                    <a:lnTo>
                      <a:pt x="617" y="274"/>
                    </a:lnTo>
                    <a:lnTo>
                      <a:pt x="502" y="274"/>
                    </a:lnTo>
                    <a:lnTo>
                      <a:pt x="501" y="274"/>
                    </a:lnTo>
                    <a:lnTo>
                      <a:pt x="500" y="274"/>
                    </a:lnTo>
                    <a:lnTo>
                      <a:pt x="500" y="274"/>
                    </a:lnTo>
                    <a:lnTo>
                      <a:pt x="500" y="277"/>
                    </a:lnTo>
                    <a:lnTo>
                      <a:pt x="500" y="277"/>
                    </a:lnTo>
                    <a:lnTo>
                      <a:pt x="500" y="335"/>
                    </a:lnTo>
                    <a:lnTo>
                      <a:pt x="500" y="336"/>
                    </a:lnTo>
                    <a:lnTo>
                      <a:pt x="500" y="338"/>
                    </a:lnTo>
                    <a:lnTo>
                      <a:pt x="501" y="338"/>
                    </a:lnTo>
                    <a:lnTo>
                      <a:pt x="502" y="338"/>
                    </a:lnTo>
                    <a:lnTo>
                      <a:pt x="502" y="338"/>
                    </a:lnTo>
                    <a:close/>
                    <a:moveTo>
                      <a:pt x="352" y="338"/>
                    </a:moveTo>
                    <a:lnTo>
                      <a:pt x="466" y="338"/>
                    </a:lnTo>
                    <a:lnTo>
                      <a:pt x="467" y="338"/>
                    </a:lnTo>
                    <a:lnTo>
                      <a:pt x="468" y="338"/>
                    </a:lnTo>
                    <a:lnTo>
                      <a:pt x="470" y="336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277"/>
                    </a:lnTo>
                    <a:lnTo>
                      <a:pt x="470" y="274"/>
                    </a:lnTo>
                    <a:lnTo>
                      <a:pt x="468" y="274"/>
                    </a:lnTo>
                    <a:lnTo>
                      <a:pt x="467" y="274"/>
                    </a:lnTo>
                    <a:lnTo>
                      <a:pt x="466" y="274"/>
                    </a:lnTo>
                    <a:lnTo>
                      <a:pt x="352" y="274"/>
                    </a:lnTo>
                    <a:lnTo>
                      <a:pt x="351" y="274"/>
                    </a:lnTo>
                    <a:lnTo>
                      <a:pt x="349" y="274"/>
                    </a:lnTo>
                    <a:lnTo>
                      <a:pt x="348" y="274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335"/>
                    </a:lnTo>
                    <a:lnTo>
                      <a:pt x="348" y="336"/>
                    </a:lnTo>
                    <a:lnTo>
                      <a:pt x="349" y="338"/>
                    </a:lnTo>
                    <a:lnTo>
                      <a:pt x="351" y="338"/>
                    </a:lnTo>
                    <a:lnTo>
                      <a:pt x="352" y="338"/>
                    </a:lnTo>
                    <a:lnTo>
                      <a:pt x="352" y="338"/>
                    </a:lnTo>
                    <a:close/>
                    <a:moveTo>
                      <a:pt x="4" y="338"/>
                    </a:moveTo>
                    <a:lnTo>
                      <a:pt x="151" y="338"/>
                    </a:lnTo>
                    <a:lnTo>
                      <a:pt x="153" y="338"/>
                    </a:lnTo>
                    <a:lnTo>
                      <a:pt x="154" y="338"/>
                    </a:lnTo>
                    <a:lnTo>
                      <a:pt x="155" y="336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277"/>
                    </a:lnTo>
                    <a:lnTo>
                      <a:pt x="155" y="274"/>
                    </a:lnTo>
                    <a:lnTo>
                      <a:pt x="154" y="274"/>
                    </a:lnTo>
                    <a:lnTo>
                      <a:pt x="153" y="274"/>
                    </a:lnTo>
                    <a:lnTo>
                      <a:pt x="151" y="274"/>
                    </a:lnTo>
                    <a:lnTo>
                      <a:pt x="4" y="274"/>
                    </a:lnTo>
                    <a:lnTo>
                      <a:pt x="2" y="274"/>
                    </a:lnTo>
                    <a:lnTo>
                      <a:pt x="1" y="274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335"/>
                    </a:lnTo>
                    <a:lnTo>
                      <a:pt x="0" y="336"/>
                    </a:lnTo>
                    <a:lnTo>
                      <a:pt x="1" y="338"/>
                    </a:lnTo>
                    <a:lnTo>
                      <a:pt x="2" y="338"/>
                    </a:lnTo>
                    <a:lnTo>
                      <a:pt x="4" y="338"/>
                    </a:lnTo>
                    <a:lnTo>
                      <a:pt x="4" y="338"/>
                    </a:lnTo>
                    <a:close/>
                    <a:moveTo>
                      <a:pt x="1849" y="74"/>
                    </a:moveTo>
                    <a:lnTo>
                      <a:pt x="1849" y="156"/>
                    </a:lnTo>
                    <a:lnTo>
                      <a:pt x="1849" y="157"/>
                    </a:lnTo>
                    <a:lnTo>
                      <a:pt x="1850" y="157"/>
                    </a:lnTo>
                    <a:lnTo>
                      <a:pt x="1852" y="158"/>
                    </a:lnTo>
                    <a:lnTo>
                      <a:pt x="1853" y="158"/>
                    </a:lnTo>
                    <a:lnTo>
                      <a:pt x="1853" y="158"/>
                    </a:lnTo>
                    <a:lnTo>
                      <a:pt x="1912" y="158"/>
                    </a:lnTo>
                    <a:lnTo>
                      <a:pt x="1913" y="158"/>
                    </a:lnTo>
                    <a:lnTo>
                      <a:pt x="1914" y="157"/>
                    </a:lnTo>
                    <a:lnTo>
                      <a:pt x="1914" y="157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74"/>
                    </a:lnTo>
                    <a:lnTo>
                      <a:pt x="1914" y="72"/>
                    </a:lnTo>
                    <a:lnTo>
                      <a:pt x="1914" y="71"/>
                    </a:lnTo>
                    <a:lnTo>
                      <a:pt x="1913" y="71"/>
                    </a:lnTo>
                    <a:lnTo>
                      <a:pt x="1912" y="71"/>
                    </a:lnTo>
                    <a:lnTo>
                      <a:pt x="1912" y="71"/>
                    </a:lnTo>
                    <a:lnTo>
                      <a:pt x="1853" y="71"/>
                    </a:lnTo>
                    <a:lnTo>
                      <a:pt x="1852" y="71"/>
                    </a:lnTo>
                    <a:lnTo>
                      <a:pt x="1850" y="71"/>
                    </a:lnTo>
                    <a:lnTo>
                      <a:pt x="1849" y="72"/>
                    </a:lnTo>
                    <a:lnTo>
                      <a:pt x="1849" y="74"/>
                    </a:lnTo>
                    <a:lnTo>
                      <a:pt x="1849" y="74"/>
                    </a:lnTo>
                    <a:close/>
                    <a:moveTo>
                      <a:pt x="1968" y="0"/>
                    </a:moveTo>
                    <a:lnTo>
                      <a:pt x="1968" y="80"/>
                    </a:lnTo>
                    <a:lnTo>
                      <a:pt x="1969" y="83"/>
                    </a:lnTo>
                    <a:lnTo>
                      <a:pt x="1969" y="84"/>
                    </a:lnTo>
                    <a:lnTo>
                      <a:pt x="1972" y="85"/>
                    </a:lnTo>
                    <a:lnTo>
                      <a:pt x="1973" y="85"/>
                    </a:lnTo>
                    <a:lnTo>
                      <a:pt x="1973" y="85"/>
                    </a:lnTo>
                    <a:lnTo>
                      <a:pt x="2066" y="85"/>
                    </a:lnTo>
                    <a:lnTo>
                      <a:pt x="2067" y="85"/>
                    </a:lnTo>
                    <a:lnTo>
                      <a:pt x="2068" y="84"/>
                    </a:lnTo>
                    <a:lnTo>
                      <a:pt x="2070" y="83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0"/>
                    </a:lnTo>
                    <a:lnTo>
                      <a:pt x="1968" y="0"/>
                    </a:lnTo>
                    <a:lnTo>
                      <a:pt x="1968" y="0"/>
                    </a:lnTo>
                    <a:close/>
                    <a:moveTo>
                      <a:pt x="2010" y="190"/>
                    </a:moveTo>
                    <a:lnTo>
                      <a:pt x="2010" y="274"/>
                    </a:lnTo>
                    <a:lnTo>
                      <a:pt x="2010" y="274"/>
                    </a:lnTo>
                    <a:lnTo>
                      <a:pt x="2011" y="276"/>
                    </a:lnTo>
                    <a:lnTo>
                      <a:pt x="2012" y="276"/>
                    </a:lnTo>
                    <a:lnTo>
                      <a:pt x="2013" y="277"/>
                    </a:lnTo>
                    <a:lnTo>
                      <a:pt x="2013" y="277"/>
                    </a:lnTo>
                    <a:lnTo>
                      <a:pt x="2072" y="277"/>
                    </a:lnTo>
                    <a:lnTo>
                      <a:pt x="2073" y="276"/>
                    </a:lnTo>
                    <a:lnTo>
                      <a:pt x="2075" y="276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190"/>
                    </a:lnTo>
                    <a:lnTo>
                      <a:pt x="2075" y="189"/>
                    </a:lnTo>
                    <a:lnTo>
                      <a:pt x="2075" y="187"/>
                    </a:lnTo>
                    <a:lnTo>
                      <a:pt x="2073" y="187"/>
                    </a:lnTo>
                    <a:lnTo>
                      <a:pt x="2072" y="187"/>
                    </a:lnTo>
                    <a:lnTo>
                      <a:pt x="2013" y="187"/>
                    </a:lnTo>
                    <a:lnTo>
                      <a:pt x="2012" y="187"/>
                    </a:lnTo>
                    <a:lnTo>
                      <a:pt x="2011" y="187"/>
                    </a:lnTo>
                    <a:lnTo>
                      <a:pt x="2010" y="189"/>
                    </a:lnTo>
                    <a:lnTo>
                      <a:pt x="2010" y="190"/>
                    </a:lnTo>
                    <a:lnTo>
                      <a:pt x="2010" y="190"/>
                    </a:lnTo>
                    <a:close/>
                    <a:moveTo>
                      <a:pt x="2127" y="190"/>
                    </a:moveTo>
                    <a:lnTo>
                      <a:pt x="2127" y="274"/>
                    </a:lnTo>
                    <a:lnTo>
                      <a:pt x="2127" y="274"/>
                    </a:lnTo>
                    <a:lnTo>
                      <a:pt x="2129" y="276"/>
                    </a:lnTo>
                    <a:lnTo>
                      <a:pt x="2130" y="276"/>
                    </a:lnTo>
                    <a:lnTo>
                      <a:pt x="2131" y="277"/>
                    </a:lnTo>
                    <a:lnTo>
                      <a:pt x="2131" y="277"/>
                    </a:lnTo>
                    <a:lnTo>
                      <a:pt x="2190" y="277"/>
                    </a:lnTo>
                    <a:lnTo>
                      <a:pt x="2192" y="276"/>
                    </a:lnTo>
                    <a:lnTo>
                      <a:pt x="2194" y="276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190"/>
                    </a:lnTo>
                    <a:lnTo>
                      <a:pt x="2195" y="189"/>
                    </a:lnTo>
                    <a:lnTo>
                      <a:pt x="2194" y="187"/>
                    </a:lnTo>
                    <a:lnTo>
                      <a:pt x="2192" y="187"/>
                    </a:lnTo>
                    <a:lnTo>
                      <a:pt x="2190" y="187"/>
                    </a:lnTo>
                    <a:lnTo>
                      <a:pt x="2131" y="187"/>
                    </a:lnTo>
                    <a:lnTo>
                      <a:pt x="2130" y="187"/>
                    </a:lnTo>
                    <a:lnTo>
                      <a:pt x="2129" y="187"/>
                    </a:lnTo>
                    <a:lnTo>
                      <a:pt x="2127" y="189"/>
                    </a:lnTo>
                    <a:lnTo>
                      <a:pt x="2127" y="190"/>
                    </a:lnTo>
                    <a:lnTo>
                      <a:pt x="2127" y="190"/>
                    </a:lnTo>
                    <a:close/>
                    <a:moveTo>
                      <a:pt x="2270" y="190"/>
                    </a:moveTo>
                    <a:lnTo>
                      <a:pt x="2270" y="274"/>
                    </a:lnTo>
                    <a:lnTo>
                      <a:pt x="2270" y="274"/>
                    </a:lnTo>
                    <a:lnTo>
                      <a:pt x="2271" y="276"/>
                    </a:lnTo>
                    <a:lnTo>
                      <a:pt x="2273" y="276"/>
                    </a:lnTo>
                    <a:lnTo>
                      <a:pt x="2274" y="277"/>
                    </a:lnTo>
                    <a:lnTo>
                      <a:pt x="2274" y="277"/>
                    </a:lnTo>
                    <a:lnTo>
                      <a:pt x="2333" y="277"/>
                    </a:lnTo>
                    <a:lnTo>
                      <a:pt x="2334" y="276"/>
                    </a:lnTo>
                    <a:lnTo>
                      <a:pt x="2337" y="276"/>
                    </a:lnTo>
                    <a:lnTo>
                      <a:pt x="2337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190"/>
                    </a:lnTo>
                    <a:lnTo>
                      <a:pt x="2337" y="189"/>
                    </a:lnTo>
                    <a:lnTo>
                      <a:pt x="2337" y="187"/>
                    </a:lnTo>
                    <a:lnTo>
                      <a:pt x="2334" y="187"/>
                    </a:lnTo>
                    <a:lnTo>
                      <a:pt x="2333" y="187"/>
                    </a:lnTo>
                    <a:lnTo>
                      <a:pt x="2274" y="187"/>
                    </a:lnTo>
                    <a:lnTo>
                      <a:pt x="2273" y="187"/>
                    </a:lnTo>
                    <a:lnTo>
                      <a:pt x="2271" y="187"/>
                    </a:lnTo>
                    <a:lnTo>
                      <a:pt x="2270" y="189"/>
                    </a:lnTo>
                    <a:lnTo>
                      <a:pt x="2270" y="190"/>
                    </a:lnTo>
                    <a:lnTo>
                      <a:pt x="2270" y="190"/>
                    </a:lnTo>
                    <a:close/>
                    <a:moveTo>
                      <a:pt x="2270" y="0"/>
                    </a:moveTo>
                    <a:lnTo>
                      <a:pt x="2270" y="80"/>
                    </a:lnTo>
                    <a:lnTo>
                      <a:pt x="2270" y="83"/>
                    </a:lnTo>
                    <a:lnTo>
                      <a:pt x="2271" y="84"/>
                    </a:lnTo>
                    <a:lnTo>
                      <a:pt x="2273" y="85"/>
                    </a:lnTo>
                    <a:lnTo>
                      <a:pt x="2274" y="85"/>
                    </a:lnTo>
                    <a:lnTo>
                      <a:pt x="2274" y="85"/>
                    </a:lnTo>
                    <a:lnTo>
                      <a:pt x="2367" y="85"/>
                    </a:lnTo>
                    <a:lnTo>
                      <a:pt x="2369" y="85"/>
                    </a:lnTo>
                    <a:lnTo>
                      <a:pt x="2370" y="84"/>
                    </a:lnTo>
                    <a:lnTo>
                      <a:pt x="2372" y="83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0"/>
                    </a:lnTo>
                    <a:lnTo>
                      <a:pt x="2270" y="0"/>
                    </a:lnTo>
                    <a:lnTo>
                      <a:pt x="2270" y="0"/>
                    </a:lnTo>
                    <a:close/>
                    <a:moveTo>
                      <a:pt x="2322" y="397"/>
                    </a:moveTo>
                    <a:lnTo>
                      <a:pt x="2322" y="392"/>
                    </a:lnTo>
                    <a:lnTo>
                      <a:pt x="2320" y="388"/>
                    </a:lnTo>
                    <a:lnTo>
                      <a:pt x="2318" y="383"/>
                    </a:lnTo>
                    <a:lnTo>
                      <a:pt x="2314" y="379"/>
                    </a:lnTo>
                    <a:lnTo>
                      <a:pt x="2310" y="377"/>
                    </a:lnTo>
                    <a:lnTo>
                      <a:pt x="2306" y="374"/>
                    </a:lnTo>
                    <a:lnTo>
                      <a:pt x="2301" y="373"/>
                    </a:lnTo>
                    <a:lnTo>
                      <a:pt x="2296" y="372"/>
                    </a:lnTo>
                    <a:lnTo>
                      <a:pt x="2291" y="373"/>
                    </a:lnTo>
                    <a:lnTo>
                      <a:pt x="2288" y="374"/>
                    </a:lnTo>
                    <a:lnTo>
                      <a:pt x="2283" y="377"/>
                    </a:lnTo>
                    <a:lnTo>
                      <a:pt x="2279" y="379"/>
                    </a:lnTo>
                    <a:lnTo>
                      <a:pt x="2276" y="383"/>
                    </a:lnTo>
                    <a:lnTo>
                      <a:pt x="2274" y="388"/>
                    </a:lnTo>
                    <a:lnTo>
                      <a:pt x="2273" y="392"/>
                    </a:lnTo>
                    <a:lnTo>
                      <a:pt x="2271" y="397"/>
                    </a:lnTo>
                    <a:lnTo>
                      <a:pt x="2273" y="402"/>
                    </a:lnTo>
                    <a:lnTo>
                      <a:pt x="2274" y="407"/>
                    </a:lnTo>
                    <a:lnTo>
                      <a:pt x="2276" y="411"/>
                    </a:lnTo>
                    <a:lnTo>
                      <a:pt x="2279" y="415"/>
                    </a:lnTo>
                    <a:lnTo>
                      <a:pt x="2283" y="418"/>
                    </a:lnTo>
                    <a:lnTo>
                      <a:pt x="2288" y="420"/>
                    </a:lnTo>
                    <a:lnTo>
                      <a:pt x="2291" y="422"/>
                    </a:lnTo>
                    <a:lnTo>
                      <a:pt x="2296" y="422"/>
                    </a:lnTo>
                    <a:lnTo>
                      <a:pt x="2301" y="422"/>
                    </a:lnTo>
                    <a:lnTo>
                      <a:pt x="2306" y="420"/>
                    </a:lnTo>
                    <a:lnTo>
                      <a:pt x="2310" y="418"/>
                    </a:lnTo>
                    <a:lnTo>
                      <a:pt x="2314" y="415"/>
                    </a:lnTo>
                    <a:lnTo>
                      <a:pt x="2318" y="411"/>
                    </a:lnTo>
                    <a:lnTo>
                      <a:pt x="2320" y="407"/>
                    </a:lnTo>
                    <a:lnTo>
                      <a:pt x="2322" y="402"/>
                    </a:lnTo>
                    <a:lnTo>
                      <a:pt x="2322" y="397"/>
                    </a:lnTo>
                    <a:lnTo>
                      <a:pt x="2322" y="397"/>
                    </a:lnTo>
                    <a:close/>
                    <a:moveTo>
                      <a:pt x="2251" y="547"/>
                    </a:moveTo>
                    <a:lnTo>
                      <a:pt x="2367" y="547"/>
                    </a:lnTo>
                    <a:lnTo>
                      <a:pt x="2369" y="547"/>
                    </a:lnTo>
                    <a:lnTo>
                      <a:pt x="2370" y="547"/>
                    </a:lnTo>
                    <a:lnTo>
                      <a:pt x="2372" y="547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495"/>
                    </a:lnTo>
                    <a:lnTo>
                      <a:pt x="2372" y="495"/>
                    </a:lnTo>
                    <a:lnTo>
                      <a:pt x="2370" y="494"/>
                    </a:lnTo>
                    <a:lnTo>
                      <a:pt x="2369" y="493"/>
                    </a:lnTo>
                    <a:lnTo>
                      <a:pt x="2367" y="493"/>
                    </a:lnTo>
                    <a:lnTo>
                      <a:pt x="2251" y="493"/>
                    </a:lnTo>
                    <a:lnTo>
                      <a:pt x="2251" y="493"/>
                    </a:lnTo>
                    <a:lnTo>
                      <a:pt x="2250" y="494"/>
                    </a:lnTo>
                    <a:lnTo>
                      <a:pt x="2250" y="495"/>
                    </a:lnTo>
                    <a:lnTo>
                      <a:pt x="2249" y="495"/>
                    </a:lnTo>
                    <a:lnTo>
                      <a:pt x="2249" y="495"/>
                    </a:lnTo>
                    <a:lnTo>
                      <a:pt x="2249" y="546"/>
                    </a:lnTo>
                    <a:lnTo>
                      <a:pt x="2250" y="547"/>
                    </a:lnTo>
                    <a:lnTo>
                      <a:pt x="2250" y="547"/>
                    </a:lnTo>
                    <a:lnTo>
                      <a:pt x="2251" y="547"/>
                    </a:lnTo>
                    <a:lnTo>
                      <a:pt x="2251" y="547"/>
                    </a:lnTo>
                    <a:lnTo>
                      <a:pt x="2251" y="547"/>
                    </a:lnTo>
                    <a:close/>
                    <a:moveTo>
                      <a:pt x="2063" y="547"/>
                    </a:moveTo>
                    <a:lnTo>
                      <a:pt x="2179" y="547"/>
                    </a:lnTo>
                    <a:lnTo>
                      <a:pt x="2180" y="547"/>
                    </a:lnTo>
                    <a:lnTo>
                      <a:pt x="2181" y="547"/>
                    </a:lnTo>
                    <a:lnTo>
                      <a:pt x="2181" y="547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495"/>
                    </a:lnTo>
                    <a:lnTo>
                      <a:pt x="2181" y="495"/>
                    </a:lnTo>
                    <a:lnTo>
                      <a:pt x="2181" y="494"/>
                    </a:lnTo>
                    <a:lnTo>
                      <a:pt x="2180" y="493"/>
                    </a:lnTo>
                    <a:lnTo>
                      <a:pt x="2179" y="493"/>
                    </a:lnTo>
                    <a:lnTo>
                      <a:pt x="2179" y="493"/>
                    </a:lnTo>
                    <a:lnTo>
                      <a:pt x="2063" y="493"/>
                    </a:lnTo>
                    <a:lnTo>
                      <a:pt x="2062" y="493"/>
                    </a:lnTo>
                    <a:lnTo>
                      <a:pt x="2062" y="494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546"/>
                    </a:lnTo>
                    <a:lnTo>
                      <a:pt x="2061" y="547"/>
                    </a:lnTo>
                    <a:lnTo>
                      <a:pt x="2062" y="547"/>
                    </a:lnTo>
                    <a:lnTo>
                      <a:pt x="2062" y="547"/>
                    </a:lnTo>
                    <a:lnTo>
                      <a:pt x="2063" y="547"/>
                    </a:lnTo>
                    <a:lnTo>
                      <a:pt x="2063" y="547"/>
                    </a:lnTo>
                    <a:close/>
                    <a:moveTo>
                      <a:pt x="1875" y="547"/>
                    </a:moveTo>
                    <a:lnTo>
                      <a:pt x="1989" y="547"/>
                    </a:lnTo>
                    <a:lnTo>
                      <a:pt x="1991" y="547"/>
                    </a:lnTo>
                    <a:lnTo>
                      <a:pt x="1992" y="547"/>
                    </a:lnTo>
                    <a:lnTo>
                      <a:pt x="1993" y="547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495"/>
                    </a:lnTo>
                    <a:lnTo>
                      <a:pt x="1993" y="495"/>
                    </a:lnTo>
                    <a:lnTo>
                      <a:pt x="1992" y="494"/>
                    </a:lnTo>
                    <a:lnTo>
                      <a:pt x="1991" y="493"/>
                    </a:lnTo>
                    <a:lnTo>
                      <a:pt x="1989" y="493"/>
                    </a:lnTo>
                    <a:lnTo>
                      <a:pt x="1989" y="493"/>
                    </a:lnTo>
                    <a:lnTo>
                      <a:pt x="1875" y="493"/>
                    </a:lnTo>
                    <a:lnTo>
                      <a:pt x="1874" y="493"/>
                    </a:lnTo>
                    <a:lnTo>
                      <a:pt x="1873" y="494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546"/>
                    </a:lnTo>
                    <a:lnTo>
                      <a:pt x="1872" y="547"/>
                    </a:lnTo>
                    <a:lnTo>
                      <a:pt x="1873" y="547"/>
                    </a:lnTo>
                    <a:lnTo>
                      <a:pt x="1874" y="547"/>
                    </a:lnTo>
                    <a:lnTo>
                      <a:pt x="1875" y="547"/>
                    </a:lnTo>
                    <a:lnTo>
                      <a:pt x="1875" y="547"/>
                    </a:lnTo>
                    <a:close/>
                    <a:moveTo>
                      <a:pt x="1968" y="397"/>
                    </a:moveTo>
                    <a:lnTo>
                      <a:pt x="1968" y="392"/>
                    </a:lnTo>
                    <a:lnTo>
                      <a:pt x="1967" y="388"/>
                    </a:lnTo>
                    <a:lnTo>
                      <a:pt x="1964" y="383"/>
                    </a:lnTo>
                    <a:lnTo>
                      <a:pt x="1962" y="379"/>
                    </a:lnTo>
                    <a:lnTo>
                      <a:pt x="1958" y="377"/>
                    </a:lnTo>
                    <a:lnTo>
                      <a:pt x="1954" y="374"/>
                    </a:lnTo>
                    <a:lnTo>
                      <a:pt x="1949" y="373"/>
                    </a:lnTo>
                    <a:lnTo>
                      <a:pt x="1943" y="372"/>
                    </a:lnTo>
                    <a:lnTo>
                      <a:pt x="1939" y="373"/>
                    </a:lnTo>
                    <a:lnTo>
                      <a:pt x="1934" y="374"/>
                    </a:lnTo>
                    <a:lnTo>
                      <a:pt x="1931" y="377"/>
                    </a:lnTo>
                    <a:lnTo>
                      <a:pt x="1927" y="379"/>
                    </a:lnTo>
                    <a:lnTo>
                      <a:pt x="1924" y="383"/>
                    </a:lnTo>
                    <a:lnTo>
                      <a:pt x="1923" y="388"/>
                    </a:lnTo>
                    <a:lnTo>
                      <a:pt x="1922" y="392"/>
                    </a:lnTo>
                    <a:lnTo>
                      <a:pt x="1921" y="397"/>
                    </a:lnTo>
                    <a:lnTo>
                      <a:pt x="1922" y="402"/>
                    </a:lnTo>
                    <a:lnTo>
                      <a:pt x="1923" y="407"/>
                    </a:lnTo>
                    <a:lnTo>
                      <a:pt x="1924" y="411"/>
                    </a:lnTo>
                    <a:lnTo>
                      <a:pt x="1927" y="415"/>
                    </a:lnTo>
                    <a:lnTo>
                      <a:pt x="1931" y="418"/>
                    </a:lnTo>
                    <a:lnTo>
                      <a:pt x="1934" y="420"/>
                    </a:lnTo>
                    <a:lnTo>
                      <a:pt x="1939" y="422"/>
                    </a:lnTo>
                    <a:lnTo>
                      <a:pt x="1943" y="422"/>
                    </a:lnTo>
                    <a:lnTo>
                      <a:pt x="1949" y="422"/>
                    </a:lnTo>
                    <a:lnTo>
                      <a:pt x="1954" y="420"/>
                    </a:lnTo>
                    <a:lnTo>
                      <a:pt x="1958" y="418"/>
                    </a:lnTo>
                    <a:lnTo>
                      <a:pt x="1962" y="415"/>
                    </a:lnTo>
                    <a:lnTo>
                      <a:pt x="1964" y="411"/>
                    </a:lnTo>
                    <a:lnTo>
                      <a:pt x="1967" y="407"/>
                    </a:lnTo>
                    <a:lnTo>
                      <a:pt x="1968" y="402"/>
                    </a:lnTo>
                    <a:lnTo>
                      <a:pt x="1968" y="397"/>
                    </a:lnTo>
                    <a:lnTo>
                      <a:pt x="1968" y="397"/>
                    </a:lnTo>
                    <a:close/>
                    <a:moveTo>
                      <a:pt x="2835" y="295"/>
                    </a:moveTo>
                    <a:lnTo>
                      <a:pt x="2835" y="290"/>
                    </a:lnTo>
                    <a:lnTo>
                      <a:pt x="2834" y="285"/>
                    </a:lnTo>
                    <a:lnTo>
                      <a:pt x="2831" y="281"/>
                    </a:lnTo>
                    <a:lnTo>
                      <a:pt x="2828" y="277"/>
                    </a:lnTo>
                    <a:lnTo>
                      <a:pt x="2824" y="274"/>
                    </a:lnTo>
                    <a:lnTo>
                      <a:pt x="2820" y="272"/>
                    </a:lnTo>
                    <a:lnTo>
                      <a:pt x="2815" y="271"/>
                    </a:lnTo>
                    <a:lnTo>
                      <a:pt x="2810" y="269"/>
                    </a:lnTo>
                    <a:lnTo>
                      <a:pt x="2805" y="271"/>
                    </a:lnTo>
                    <a:lnTo>
                      <a:pt x="2801" y="272"/>
                    </a:lnTo>
                    <a:lnTo>
                      <a:pt x="2796" y="274"/>
                    </a:lnTo>
                    <a:lnTo>
                      <a:pt x="2793" y="277"/>
                    </a:lnTo>
                    <a:lnTo>
                      <a:pt x="2790" y="281"/>
                    </a:lnTo>
                    <a:lnTo>
                      <a:pt x="2788" y="285"/>
                    </a:lnTo>
                    <a:lnTo>
                      <a:pt x="2786" y="290"/>
                    </a:lnTo>
                    <a:lnTo>
                      <a:pt x="2785" y="295"/>
                    </a:lnTo>
                    <a:lnTo>
                      <a:pt x="2786" y="300"/>
                    </a:lnTo>
                    <a:lnTo>
                      <a:pt x="2788" y="305"/>
                    </a:lnTo>
                    <a:lnTo>
                      <a:pt x="2790" y="309"/>
                    </a:lnTo>
                    <a:lnTo>
                      <a:pt x="2793" y="312"/>
                    </a:lnTo>
                    <a:lnTo>
                      <a:pt x="2796" y="315"/>
                    </a:lnTo>
                    <a:lnTo>
                      <a:pt x="2801" y="317"/>
                    </a:lnTo>
                    <a:lnTo>
                      <a:pt x="2805" y="319"/>
                    </a:lnTo>
                    <a:lnTo>
                      <a:pt x="2810" y="320"/>
                    </a:lnTo>
                    <a:lnTo>
                      <a:pt x="2815" y="319"/>
                    </a:lnTo>
                    <a:lnTo>
                      <a:pt x="2820" y="317"/>
                    </a:lnTo>
                    <a:lnTo>
                      <a:pt x="2824" y="315"/>
                    </a:lnTo>
                    <a:lnTo>
                      <a:pt x="2828" y="312"/>
                    </a:lnTo>
                    <a:lnTo>
                      <a:pt x="2831" y="309"/>
                    </a:lnTo>
                    <a:lnTo>
                      <a:pt x="2834" y="305"/>
                    </a:lnTo>
                    <a:lnTo>
                      <a:pt x="2835" y="300"/>
                    </a:lnTo>
                    <a:lnTo>
                      <a:pt x="2835" y="295"/>
                    </a:lnTo>
                    <a:lnTo>
                      <a:pt x="2835" y="295"/>
                    </a:lnTo>
                    <a:close/>
                    <a:moveTo>
                      <a:pt x="2835" y="473"/>
                    </a:moveTo>
                    <a:lnTo>
                      <a:pt x="2835" y="468"/>
                    </a:lnTo>
                    <a:lnTo>
                      <a:pt x="2834" y="463"/>
                    </a:lnTo>
                    <a:lnTo>
                      <a:pt x="2831" y="459"/>
                    </a:lnTo>
                    <a:lnTo>
                      <a:pt x="2828" y="455"/>
                    </a:lnTo>
                    <a:lnTo>
                      <a:pt x="2824" y="451"/>
                    </a:lnTo>
                    <a:lnTo>
                      <a:pt x="2820" y="449"/>
                    </a:lnTo>
                    <a:lnTo>
                      <a:pt x="2815" y="447"/>
                    </a:lnTo>
                    <a:lnTo>
                      <a:pt x="2810" y="447"/>
                    </a:lnTo>
                    <a:lnTo>
                      <a:pt x="2805" y="447"/>
                    </a:lnTo>
                    <a:lnTo>
                      <a:pt x="2801" y="449"/>
                    </a:lnTo>
                    <a:lnTo>
                      <a:pt x="2796" y="451"/>
                    </a:lnTo>
                    <a:lnTo>
                      <a:pt x="2793" y="455"/>
                    </a:lnTo>
                    <a:lnTo>
                      <a:pt x="2790" y="459"/>
                    </a:lnTo>
                    <a:lnTo>
                      <a:pt x="2788" y="463"/>
                    </a:lnTo>
                    <a:lnTo>
                      <a:pt x="2786" y="468"/>
                    </a:lnTo>
                    <a:lnTo>
                      <a:pt x="2785" y="473"/>
                    </a:lnTo>
                    <a:lnTo>
                      <a:pt x="2786" y="478"/>
                    </a:lnTo>
                    <a:lnTo>
                      <a:pt x="2788" y="481"/>
                    </a:lnTo>
                    <a:lnTo>
                      <a:pt x="2790" y="487"/>
                    </a:lnTo>
                    <a:lnTo>
                      <a:pt x="2793" y="490"/>
                    </a:lnTo>
                    <a:lnTo>
                      <a:pt x="2796" y="493"/>
                    </a:lnTo>
                    <a:lnTo>
                      <a:pt x="2801" y="495"/>
                    </a:lnTo>
                    <a:lnTo>
                      <a:pt x="2805" y="497"/>
                    </a:lnTo>
                    <a:lnTo>
                      <a:pt x="2810" y="498"/>
                    </a:lnTo>
                    <a:lnTo>
                      <a:pt x="2815" y="497"/>
                    </a:lnTo>
                    <a:lnTo>
                      <a:pt x="2820" y="495"/>
                    </a:lnTo>
                    <a:lnTo>
                      <a:pt x="2824" y="493"/>
                    </a:lnTo>
                    <a:lnTo>
                      <a:pt x="2828" y="490"/>
                    </a:lnTo>
                    <a:lnTo>
                      <a:pt x="2831" y="487"/>
                    </a:lnTo>
                    <a:lnTo>
                      <a:pt x="2834" y="481"/>
                    </a:lnTo>
                    <a:lnTo>
                      <a:pt x="2835" y="478"/>
                    </a:lnTo>
                    <a:lnTo>
                      <a:pt x="2835" y="473"/>
                    </a:lnTo>
                    <a:lnTo>
                      <a:pt x="2835" y="473"/>
                    </a:lnTo>
                    <a:close/>
                    <a:moveTo>
                      <a:pt x="2835" y="651"/>
                    </a:moveTo>
                    <a:lnTo>
                      <a:pt x="2835" y="646"/>
                    </a:lnTo>
                    <a:lnTo>
                      <a:pt x="2834" y="641"/>
                    </a:lnTo>
                    <a:lnTo>
                      <a:pt x="2831" y="636"/>
                    </a:lnTo>
                    <a:lnTo>
                      <a:pt x="2828" y="633"/>
                    </a:lnTo>
                    <a:lnTo>
                      <a:pt x="2824" y="629"/>
                    </a:lnTo>
                    <a:lnTo>
                      <a:pt x="2820" y="627"/>
                    </a:lnTo>
                    <a:lnTo>
                      <a:pt x="2815" y="625"/>
                    </a:lnTo>
                    <a:lnTo>
                      <a:pt x="2810" y="625"/>
                    </a:lnTo>
                    <a:lnTo>
                      <a:pt x="2805" y="625"/>
                    </a:lnTo>
                    <a:lnTo>
                      <a:pt x="2801" y="627"/>
                    </a:lnTo>
                    <a:lnTo>
                      <a:pt x="2796" y="629"/>
                    </a:lnTo>
                    <a:lnTo>
                      <a:pt x="2793" y="633"/>
                    </a:lnTo>
                    <a:lnTo>
                      <a:pt x="2790" y="636"/>
                    </a:lnTo>
                    <a:lnTo>
                      <a:pt x="2788" y="641"/>
                    </a:lnTo>
                    <a:lnTo>
                      <a:pt x="2786" y="646"/>
                    </a:lnTo>
                    <a:lnTo>
                      <a:pt x="2785" y="651"/>
                    </a:lnTo>
                    <a:lnTo>
                      <a:pt x="2786" y="654"/>
                    </a:lnTo>
                    <a:lnTo>
                      <a:pt x="2788" y="660"/>
                    </a:lnTo>
                    <a:lnTo>
                      <a:pt x="2790" y="665"/>
                    </a:lnTo>
                    <a:lnTo>
                      <a:pt x="2793" y="668"/>
                    </a:lnTo>
                    <a:lnTo>
                      <a:pt x="2796" y="671"/>
                    </a:lnTo>
                    <a:lnTo>
                      <a:pt x="2801" y="673"/>
                    </a:lnTo>
                    <a:lnTo>
                      <a:pt x="2805" y="675"/>
                    </a:lnTo>
                    <a:lnTo>
                      <a:pt x="2810" y="675"/>
                    </a:lnTo>
                    <a:lnTo>
                      <a:pt x="2815" y="675"/>
                    </a:lnTo>
                    <a:lnTo>
                      <a:pt x="2820" y="673"/>
                    </a:lnTo>
                    <a:lnTo>
                      <a:pt x="2824" y="671"/>
                    </a:lnTo>
                    <a:lnTo>
                      <a:pt x="2828" y="668"/>
                    </a:lnTo>
                    <a:lnTo>
                      <a:pt x="2831" y="665"/>
                    </a:lnTo>
                    <a:lnTo>
                      <a:pt x="2834" y="660"/>
                    </a:lnTo>
                    <a:lnTo>
                      <a:pt x="2835" y="654"/>
                    </a:lnTo>
                    <a:lnTo>
                      <a:pt x="2835" y="651"/>
                    </a:lnTo>
                    <a:lnTo>
                      <a:pt x="2835" y="651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>
                <a:off x="3011760" y="662292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52" y="86"/>
                    </a:lnTo>
                    <a:lnTo>
                      <a:pt x="153" y="86"/>
                    </a:lnTo>
                    <a:lnTo>
                      <a:pt x="153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>
                <a:off x="3135960" y="6622920"/>
                <a:ext cx="107280" cy="4752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1" y="86"/>
                    </a:lnTo>
                    <a:lnTo>
                      <a:pt x="153" y="86"/>
                    </a:lnTo>
                    <a:lnTo>
                      <a:pt x="154" y="84"/>
                    </a:lnTo>
                    <a:lnTo>
                      <a:pt x="155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5" y="2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>
                <a:off x="3262320" y="66229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3" y="86"/>
                    </a:moveTo>
                    <a:lnTo>
                      <a:pt x="152" y="86"/>
                    </a:lnTo>
                    <a:lnTo>
                      <a:pt x="152" y="86"/>
                    </a:lnTo>
                    <a:lnTo>
                      <a:pt x="153" y="84"/>
                    </a:lnTo>
                    <a:lnTo>
                      <a:pt x="154" y="83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4"/>
                    </a:lnTo>
                    <a:lnTo>
                      <a:pt x="154" y="2"/>
                    </a:lnTo>
                    <a:lnTo>
                      <a:pt x="153" y="1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3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>
                <a:off x="3387240" y="6622920"/>
                <a:ext cx="105840" cy="4752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2" y="86"/>
                    </a:lnTo>
                    <a:lnTo>
                      <a:pt x="154" y="86"/>
                    </a:lnTo>
                    <a:lnTo>
                      <a:pt x="156" y="84"/>
                    </a:lnTo>
                    <a:lnTo>
                      <a:pt x="157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6" y="1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>
                <a:off x="3513600" y="662292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49" y="86"/>
                    </a:lnTo>
                    <a:lnTo>
                      <a:pt x="150" y="86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4" name=""/>
              <p:cNvSpPr/>
              <p:nvPr/>
            </p:nvSpPr>
            <p:spPr>
              <a:xfrm>
                <a:off x="2893680" y="6404040"/>
                <a:ext cx="105840" cy="35280"/>
              </a:xfrm>
              <a:custGeom>
                <a:avLst/>
                <a:gdLst/>
                <a:ahLst/>
                <a:rect l="l" t="t" r="r" b="b"/>
                <a:pathLst>
                  <a:path w="155" h="63">
                    <a:moveTo>
                      <a:pt x="4" y="63"/>
                    </a:moveTo>
                    <a:lnTo>
                      <a:pt x="151" y="63"/>
                    </a:lnTo>
                    <a:lnTo>
                      <a:pt x="153" y="63"/>
                    </a:lnTo>
                    <a:lnTo>
                      <a:pt x="154" y="63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5" name=""/>
              <p:cNvSpPr/>
              <p:nvPr/>
            </p:nvSpPr>
            <p:spPr>
              <a:xfrm>
                <a:off x="3130200" y="640404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4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6" name=""/>
              <p:cNvSpPr/>
              <p:nvPr/>
            </p:nvSpPr>
            <p:spPr>
              <a:xfrm>
                <a:off x="3233520" y="640404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0" h="63">
                    <a:moveTo>
                      <a:pt x="2" y="63"/>
                    </a:moveTo>
                    <a:lnTo>
                      <a:pt x="117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7" name=""/>
              <p:cNvSpPr/>
              <p:nvPr/>
            </p:nvSpPr>
            <p:spPr>
              <a:xfrm>
                <a:off x="3334320" y="6404040"/>
                <a:ext cx="84240" cy="352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2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8" name=""/>
              <p:cNvSpPr/>
              <p:nvPr/>
            </p:nvSpPr>
            <p:spPr>
              <a:xfrm>
                <a:off x="3552120" y="640404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1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9" name=""/>
              <p:cNvSpPr/>
              <p:nvPr/>
            </p:nvSpPr>
            <p:spPr>
              <a:xfrm>
                <a:off x="3654000" y="640404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1" y="63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2" y="1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0" name=""/>
              <p:cNvSpPr/>
              <p:nvPr/>
            </p:nvSpPr>
            <p:spPr>
              <a:xfrm>
                <a:off x="3654000" y="623412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1" y="64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1" name=""/>
              <p:cNvSpPr/>
              <p:nvPr/>
            </p:nvSpPr>
            <p:spPr>
              <a:xfrm>
                <a:off x="3552120" y="623412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1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2" name=""/>
              <p:cNvSpPr/>
              <p:nvPr/>
            </p:nvSpPr>
            <p:spPr>
              <a:xfrm>
                <a:off x="3334320" y="6234120"/>
                <a:ext cx="84240" cy="352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2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3" name=""/>
              <p:cNvSpPr/>
              <p:nvPr/>
            </p:nvSpPr>
            <p:spPr>
              <a:xfrm>
                <a:off x="3233520" y="623412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2" y="64"/>
                    </a:moveTo>
                    <a:lnTo>
                      <a:pt x="117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3130200" y="623412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4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3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2893680" y="6234120"/>
                <a:ext cx="105840" cy="35280"/>
              </a:xfrm>
              <a:custGeom>
                <a:avLst/>
                <a:gdLst/>
                <a:ahLst/>
                <a:rect l="l" t="t" r="r" b="b"/>
                <a:pathLst>
                  <a:path w="155" h="64">
                    <a:moveTo>
                      <a:pt x="4" y="64"/>
                    </a:moveTo>
                    <a:lnTo>
                      <a:pt x="151" y="64"/>
                    </a:lnTo>
                    <a:lnTo>
                      <a:pt x="153" y="64"/>
                    </a:lnTo>
                    <a:lnTo>
                      <a:pt x="154" y="64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4151880" y="6121800"/>
                <a:ext cx="43200" cy="475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5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7" name=""/>
              <p:cNvSpPr/>
              <p:nvPr/>
            </p:nvSpPr>
            <p:spPr>
              <a:xfrm>
                <a:off x="4232160" y="608184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98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8" name=""/>
              <p:cNvSpPr/>
              <p:nvPr/>
            </p:nvSpPr>
            <p:spPr>
              <a:xfrm>
                <a:off x="4260600" y="6186240"/>
                <a:ext cx="43560" cy="48600"/>
              </a:xfrm>
              <a:custGeom>
                <a:avLst/>
                <a:gdLst/>
                <a:ahLst/>
                <a:rect l="l" t="t" r="r" b="b"/>
                <a:pathLst>
                  <a:path w="65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62" y="90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9" name=""/>
              <p:cNvSpPr/>
              <p:nvPr/>
            </p:nvSpPr>
            <p:spPr>
              <a:xfrm>
                <a:off x="4341240" y="6186240"/>
                <a:ext cx="44640" cy="4860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7" y="89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0" name=""/>
              <p:cNvSpPr/>
              <p:nvPr/>
            </p:nvSpPr>
            <p:spPr>
              <a:xfrm>
                <a:off x="4437720" y="618624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7" y="89"/>
                    </a:lnTo>
                    <a:lnTo>
                      <a:pt x="67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1" name=""/>
              <p:cNvSpPr/>
              <p:nvPr/>
            </p:nvSpPr>
            <p:spPr>
              <a:xfrm>
                <a:off x="4437720" y="608184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0" y="0"/>
                    </a:moveTo>
                    <a:lnTo>
                      <a:pt x="0" y="80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97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2" name=""/>
              <p:cNvSpPr/>
              <p:nvPr/>
            </p:nvSpPr>
            <p:spPr>
              <a:xfrm>
                <a:off x="4438800" y="628848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25"/>
                    </a:moveTo>
                    <a:lnTo>
                      <a:pt x="51" y="20"/>
                    </a:lnTo>
                    <a:lnTo>
                      <a:pt x="49" y="16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7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7" y="39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3" name=""/>
              <p:cNvSpPr/>
              <p:nvPr/>
            </p:nvSpPr>
            <p:spPr>
              <a:xfrm>
                <a:off x="4422600" y="6355080"/>
                <a:ext cx="84240" cy="30960"/>
              </a:xfrm>
              <a:custGeom>
                <a:avLst/>
                <a:gdLst/>
                <a:ahLst/>
                <a:rect l="l" t="t" r="r" b="b"/>
                <a:pathLst>
                  <a:path w="123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294800" y="6355080"/>
                <a:ext cx="82800" cy="3096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5" name=""/>
              <p:cNvSpPr/>
              <p:nvPr/>
            </p:nvSpPr>
            <p:spPr>
              <a:xfrm>
                <a:off x="4166640" y="6355080"/>
                <a:ext cx="82800" cy="30960"/>
              </a:xfrm>
              <a:custGeom>
                <a:avLst/>
                <a:gdLst/>
                <a:ahLst/>
                <a:rect l="l" t="t" r="r" b="b"/>
                <a:pathLst>
                  <a:path w="121" h="54">
                    <a:moveTo>
                      <a:pt x="3" y="54"/>
                    </a:moveTo>
                    <a:lnTo>
                      <a:pt x="117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6" name=""/>
              <p:cNvSpPr/>
              <p:nvPr/>
            </p:nvSpPr>
            <p:spPr>
              <a:xfrm>
                <a:off x="4199400" y="6288480"/>
                <a:ext cx="32400" cy="27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47" y="25"/>
                    </a:moveTo>
                    <a:lnTo>
                      <a:pt x="47" y="20"/>
                    </a:lnTo>
                    <a:lnTo>
                      <a:pt x="46" y="16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3"/>
                    </a:lnTo>
                    <a:lnTo>
                      <a:pt x="10" y="46"/>
                    </a:lnTo>
                    <a:lnTo>
                      <a:pt x="13" y="48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3" y="48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7" y="30"/>
                    </a:lnTo>
                    <a:lnTo>
                      <a:pt x="47" y="25"/>
                    </a:lnTo>
                    <a:lnTo>
                      <a:pt x="47" y="2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7" name=""/>
              <p:cNvSpPr/>
              <p:nvPr/>
            </p:nvSpPr>
            <p:spPr>
              <a:xfrm>
                <a:off x="4788360" y="6231960"/>
                <a:ext cx="34200" cy="273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5"/>
                    </a:lnTo>
                    <a:lnTo>
                      <a:pt x="35" y="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6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8" name=""/>
              <p:cNvSpPr/>
              <p:nvPr/>
            </p:nvSpPr>
            <p:spPr>
              <a:xfrm>
                <a:off x="4788360" y="6330600"/>
                <a:ext cx="34200" cy="273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4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9" name=""/>
              <p:cNvSpPr/>
              <p:nvPr/>
            </p:nvSpPr>
            <p:spPr>
              <a:xfrm>
                <a:off x="4788360" y="6429600"/>
                <a:ext cx="34200" cy="2664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1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5"/>
                    </a:lnTo>
                    <a:lnTo>
                      <a:pt x="50" y="29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0" name=""/>
              <p:cNvSpPr/>
              <p:nvPr/>
            </p:nvSpPr>
            <p:spPr>
              <a:xfrm>
                <a:off x="3976560" y="6079680"/>
                <a:ext cx="723600" cy="151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1" name=""/>
              <p:cNvSpPr/>
              <p:nvPr/>
            </p:nvSpPr>
            <p:spPr>
              <a:xfrm>
                <a:off x="3976560" y="6079680"/>
                <a:ext cx="723600" cy="1512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5766480" y="6118560"/>
                <a:ext cx="740880" cy="362160"/>
              </a:xfrm>
              <a:custGeom>
                <a:avLst/>
                <a:gdLst/>
                <a:ahLst/>
                <a:rect l="l" t="t" r="r" b="b"/>
                <a:pathLst>
                  <a:path w="1091" h="653">
                    <a:moveTo>
                      <a:pt x="775" y="559"/>
                    </a:moveTo>
                    <a:lnTo>
                      <a:pt x="795" y="548"/>
                    </a:lnTo>
                    <a:lnTo>
                      <a:pt x="795" y="525"/>
                    </a:lnTo>
                    <a:lnTo>
                      <a:pt x="775" y="514"/>
                    </a:lnTo>
                    <a:lnTo>
                      <a:pt x="754" y="525"/>
                    </a:lnTo>
                    <a:lnTo>
                      <a:pt x="754" y="548"/>
                    </a:lnTo>
                    <a:lnTo>
                      <a:pt x="775" y="559"/>
                    </a:lnTo>
                    <a:close/>
                    <a:moveTo>
                      <a:pt x="829" y="559"/>
                    </a:moveTo>
                    <a:lnTo>
                      <a:pt x="849" y="548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48"/>
                    </a:lnTo>
                    <a:lnTo>
                      <a:pt x="829" y="559"/>
                    </a:lnTo>
                    <a:close/>
                    <a:moveTo>
                      <a:pt x="883" y="559"/>
                    </a:moveTo>
                    <a:lnTo>
                      <a:pt x="904" y="548"/>
                    </a:lnTo>
                    <a:lnTo>
                      <a:pt x="904" y="525"/>
                    </a:lnTo>
                    <a:lnTo>
                      <a:pt x="883" y="514"/>
                    </a:lnTo>
                    <a:lnTo>
                      <a:pt x="863" y="525"/>
                    </a:lnTo>
                    <a:lnTo>
                      <a:pt x="863" y="548"/>
                    </a:lnTo>
                    <a:lnTo>
                      <a:pt x="883" y="559"/>
                    </a:lnTo>
                    <a:close/>
                    <a:moveTo>
                      <a:pt x="938" y="559"/>
                    </a:moveTo>
                    <a:lnTo>
                      <a:pt x="958" y="548"/>
                    </a:lnTo>
                    <a:lnTo>
                      <a:pt x="958" y="525"/>
                    </a:lnTo>
                    <a:lnTo>
                      <a:pt x="938" y="514"/>
                    </a:lnTo>
                    <a:lnTo>
                      <a:pt x="916" y="525"/>
                    </a:lnTo>
                    <a:lnTo>
                      <a:pt x="916" y="548"/>
                    </a:lnTo>
                    <a:lnTo>
                      <a:pt x="938" y="559"/>
                    </a:lnTo>
                    <a:close/>
                    <a:moveTo>
                      <a:pt x="666" y="559"/>
                    </a:moveTo>
                    <a:lnTo>
                      <a:pt x="686" y="548"/>
                    </a:lnTo>
                    <a:lnTo>
                      <a:pt x="686" y="525"/>
                    </a:lnTo>
                    <a:lnTo>
                      <a:pt x="666" y="514"/>
                    </a:lnTo>
                    <a:lnTo>
                      <a:pt x="647" y="525"/>
                    </a:lnTo>
                    <a:lnTo>
                      <a:pt x="647" y="548"/>
                    </a:lnTo>
                    <a:lnTo>
                      <a:pt x="666" y="559"/>
                    </a:lnTo>
                    <a:close/>
                    <a:moveTo>
                      <a:pt x="720" y="559"/>
                    </a:moveTo>
                    <a:lnTo>
                      <a:pt x="740" y="548"/>
                    </a:lnTo>
                    <a:lnTo>
                      <a:pt x="740" y="525"/>
                    </a:lnTo>
                    <a:lnTo>
                      <a:pt x="720" y="514"/>
                    </a:lnTo>
                    <a:lnTo>
                      <a:pt x="700" y="525"/>
                    </a:lnTo>
                    <a:lnTo>
                      <a:pt x="700" y="548"/>
                    </a:lnTo>
                    <a:lnTo>
                      <a:pt x="720" y="559"/>
                    </a:lnTo>
                    <a:close/>
                    <a:moveTo>
                      <a:pt x="505" y="559"/>
                    </a:moveTo>
                    <a:lnTo>
                      <a:pt x="525" y="548"/>
                    </a:lnTo>
                    <a:lnTo>
                      <a:pt x="525" y="525"/>
                    </a:lnTo>
                    <a:lnTo>
                      <a:pt x="505" y="514"/>
                    </a:lnTo>
                    <a:lnTo>
                      <a:pt x="484" y="525"/>
                    </a:lnTo>
                    <a:lnTo>
                      <a:pt x="484" y="548"/>
                    </a:lnTo>
                    <a:lnTo>
                      <a:pt x="505" y="559"/>
                    </a:lnTo>
                    <a:close/>
                    <a:moveTo>
                      <a:pt x="559" y="559"/>
                    </a:moveTo>
                    <a:lnTo>
                      <a:pt x="579" y="548"/>
                    </a:lnTo>
                    <a:lnTo>
                      <a:pt x="579" y="525"/>
                    </a:lnTo>
                    <a:lnTo>
                      <a:pt x="559" y="514"/>
                    </a:lnTo>
                    <a:lnTo>
                      <a:pt x="539" y="525"/>
                    </a:lnTo>
                    <a:lnTo>
                      <a:pt x="539" y="548"/>
                    </a:lnTo>
                    <a:lnTo>
                      <a:pt x="559" y="559"/>
                    </a:lnTo>
                    <a:close/>
                    <a:moveTo>
                      <a:pt x="613" y="559"/>
                    </a:moveTo>
                    <a:lnTo>
                      <a:pt x="634" y="548"/>
                    </a:lnTo>
                    <a:lnTo>
                      <a:pt x="634" y="525"/>
                    </a:lnTo>
                    <a:lnTo>
                      <a:pt x="613" y="514"/>
                    </a:lnTo>
                    <a:lnTo>
                      <a:pt x="593" y="525"/>
                    </a:lnTo>
                    <a:lnTo>
                      <a:pt x="593" y="548"/>
                    </a:lnTo>
                    <a:lnTo>
                      <a:pt x="613" y="559"/>
                    </a:lnTo>
                    <a:close/>
                    <a:moveTo>
                      <a:pt x="21" y="559"/>
                    </a:moveTo>
                    <a:lnTo>
                      <a:pt x="41" y="548"/>
                    </a:lnTo>
                    <a:lnTo>
                      <a:pt x="41" y="525"/>
                    </a:lnTo>
                    <a:lnTo>
                      <a:pt x="21" y="514"/>
                    </a:lnTo>
                    <a:lnTo>
                      <a:pt x="0" y="525"/>
                    </a:lnTo>
                    <a:lnTo>
                      <a:pt x="0" y="548"/>
                    </a:lnTo>
                    <a:lnTo>
                      <a:pt x="21" y="559"/>
                    </a:lnTo>
                    <a:close/>
                    <a:moveTo>
                      <a:pt x="74" y="559"/>
                    </a:moveTo>
                    <a:lnTo>
                      <a:pt x="93" y="548"/>
                    </a:lnTo>
                    <a:lnTo>
                      <a:pt x="93" y="525"/>
                    </a:lnTo>
                    <a:lnTo>
                      <a:pt x="74" y="514"/>
                    </a:lnTo>
                    <a:lnTo>
                      <a:pt x="54" y="525"/>
                    </a:lnTo>
                    <a:lnTo>
                      <a:pt x="54" y="548"/>
                    </a:lnTo>
                    <a:lnTo>
                      <a:pt x="74" y="559"/>
                    </a:lnTo>
                    <a:close/>
                    <a:moveTo>
                      <a:pt x="127" y="559"/>
                    </a:moveTo>
                    <a:lnTo>
                      <a:pt x="147" y="548"/>
                    </a:lnTo>
                    <a:lnTo>
                      <a:pt x="147" y="525"/>
                    </a:lnTo>
                    <a:lnTo>
                      <a:pt x="127" y="514"/>
                    </a:lnTo>
                    <a:lnTo>
                      <a:pt x="107" y="525"/>
                    </a:lnTo>
                    <a:lnTo>
                      <a:pt x="107" y="548"/>
                    </a:lnTo>
                    <a:lnTo>
                      <a:pt x="127" y="559"/>
                    </a:lnTo>
                    <a:close/>
                    <a:moveTo>
                      <a:pt x="181" y="559"/>
                    </a:moveTo>
                    <a:lnTo>
                      <a:pt x="201" y="548"/>
                    </a:lnTo>
                    <a:lnTo>
                      <a:pt x="201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48"/>
                    </a:lnTo>
                    <a:lnTo>
                      <a:pt x="181" y="559"/>
                    </a:lnTo>
                    <a:close/>
                    <a:moveTo>
                      <a:pt x="236" y="559"/>
                    </a:moveTo>
                    <a:lnTo>
                      <a:pt x="256" y="548"/>
                    </a:lnTo>
                    <a:lnTo>
                      <a:pt x="256" y="525"/>
                    </a:lnTo>
                    <a:lnTo>
                      <a:pt x="236" y="514"/>
                    </a:lnTo>
                    <a:lnTo>
                      <a:pt x="215" y="525"/>
                    </a:lnTo>
                    <a:lnTo>
                      <a:pt x="215" y="548"/>
                    </a:lnTo>
                    <a:lnTo>
                      <a:pt x="236" y="559"/>
                    </a:lnTo>
                    <a:close/>
                    <a:moveTo>
                      <a:pt x="290" y="559"/>
                    </a:moveTo>
                    <a:lnTo>
                      <a:pt x="310" y="548"/>
                    </a:lnTo>
                    <a:lnTo>
                      <a:pt x="310" y="525"/>
                    </a:lnTo>
                    <a:lnTo>
                      <a:pt x="290" y="514"/>
                    </a:lnTo>
                    <a:lnTo>
                      <a:pt x="270" y="525"/>
                    </a:lnTo>
                    <a:lnTo>
                      <a:pt x="270" y="548"/>
                    </a:lnTo>
                    <a:lnTo>
                      <a:pt x="290" y="559"/>
                    </a:lnTo>
                    <a:close/>
                    <a:moveTo>
                      <a:pt x="801" y="511"/>
                    </a:moveTo>
                    <a:lnTo>
                      <a:pt x="821" y="500"/>
                    </a:lnTo>
                    <a:lnTo>
                      <a:pt x="821" y="477"/>
                    </a:lnTo>
                    <a:lnTo>
                      <a:pt x="801" y="466"/>
                    </a:lnTo>
                    <a:lnTo>
                      <a:pt x="781" y="477"/>
                    </a:lnTo>
                    <a:lnTo>
                      <a:pt x="781" y="500"/>
                    </a:lnTo>
                    <a:lnTo>
                      <a:pt x="801" y="511"/>
                    </a:lnTo>
                    <a:close/>
                    <a:moveTo>
                      <a:pt x="856" y="511"/>
                    </a:moveTo>
                    <a:lnTo>
                      <a:pt x="876" y="500"/>
                    </a:lnTo>
                    <a:lnTo>
                      <a:pt x="876" y="477"/>
                    </a:lnTo>
                    <a:lnTo>
                      <a:pt x="856" y="466"/>
                    </a:lnTo>
                    <a:lnTo>
                      <a:pt x="835" y="477"/>
                    </a:lnTo>
                    <a:lnTo>
                      <a:pt x="835" y="500"/>
                    </a:lnTo>
                    <a:lnTo>
                      <a:pt x="856" y="511"/>
                    </a:lnTo>
                    <a:close/>
                    <a:moveTo>
                      <a:pt x="910" y="511"/>
                    </a:moveTo>
                    <a:lnTo>
                      <a:pt x="930" y="500"/>
                    </a:lnTo>
                    <a:lnTo>
                      <a:pt x="930" y="477"/>
                    </a:lnTo>
                    <a:lnTo>
                      <a:pt x="910" y="466"/>
                    </a:lnTo>
                    <a:lnTo>
                      <a:pt x="890" y="477"/>
                    </a:lnTo>
                    <a:lnTo>
                      <a:pt x="890" y="500"/>
                    </a:lnTo>
                    <a:lnTo>
                      <a:pt x="910" y="511"/>
                    </a:lnTo>
                    <a:close/>
                    <a:moveTo>
                      <a:pt x="587" y="511"/>
                    </a:moveTo>
                    <a:lnTo>
                      <a:pt x="607" y="500"/>
                    </a:lnTo>
                    <a:lnTo>
                      <a:pt x="607" y="477"/>
                    </a:lnTo>
                    <a:lnTo>
                      <a:pt x="587" y="466"/>
                    </a:lnTo>
                    <a:lnTo>
                      <a:pt x="566" y="477"/>
                    </a:lnTo>
                    <a:lnTo>
                      <a:pt x="566" y="500"/>
                    </a:lnTo>
                    <a:lnTo>
                      <a:pt x="587" y="511"/>
                    </a:lnTo>
                    <a:close/>
                    <a:moveTo>
                      <a:pt x="641" y="511"/>
                    </a:moveTo>
                    <a:lnTo>
                      <a:pt x="658" y="500"/>
                    </a:lnTo>
                    <a:lnTo>
                      <a:pt x="658" y="477"/>
                    </a:lnTo>
                    <a:lnTo>
                      <a:pt x="641" y="466"/>
                    </a:lnTo>
                    <a:lnTo>
                      <a:pt x="621" y="477"/>
                    </a:lnTo>
                    <a:lnTo>
                      <a:pt x="621" y="500"/>
                    </a:lnTo>
                    <a:lnTo>
                      <a:pt x="641" y="511"/>
                    </a:lnTo>
                    <a:close/>
                    <a:moveTo>
                      <a:pt x="692" y="511"/>
                    </a:moveTo>
                    <a:lnTo>
                      <a:pt x="713" y="500"/>
                    </a:lnTo>
                    <a:lnTo>
                      <a:pt x="713" y="477"/>
                    </a:lnTo>
                    <a:lnTo>
                      <a:pt x="692" y="466"/>
                    </a:lnTo>
                    <a:lnTo>
                      <a:pt x="675" y="477"/>
                    </a:lnTo>
                    <a:lnTo>
                      <a:pt x="675" y="500"/>
                    </a:lnTo>
                    <a:lnTo>
                      <a:pt x="692" y="511"/>
                    </a:lnTo>
                    <a:close/>
                    <a:moveTo>
                      <a:pt x="747" y="511"/>
                    </a:moveTo>
                    <a:lnTo>
                      <a:pt x="767" y="500"/>
                    </a:lnTo>
                    <a:lnTo>
                      <a:pt x="767" y="477"/>
                    </a:lnTo>
                    <a:lnTo>
                      <a:pt x="747" y="466"/>
                    </a:lnTo>
                    <a:lnTo>
                      <a:pt x="727" y="477"/>
                    </a:lnTo>
                    <a:lnTo>
                      <a:pt x="727" y="500"/>
                    </a:lnTo>
                    <a:lnTo>
                      <a:pt x="747" y="511"/>
                    </a:lnTo>
                    <a:close/>
                    <a:moveTo>
                      <a:pt x="371" y="511"/>
                    </a:moveTo>
                    <a:lnTo>
                      <a:pt x="391" y="500"/>
                    </a:lnTo>
                    <a:lnTo>
                      <a:pt x="391" y="477"/>
                    </a:lnTo>
                    <a:lnTo>
                      <a:pt x="371" y="466"/>
                    </a:lnTo>
                    <a:lnTo>
                      <a:pt x="351" y="477"/>
                    </a:lnTo>
                    <a:lnTo>
                      <a:pt x="351" y="500"/>
                    </a:lnTo>
                    <a:lnTo>
                      <a:pt x="371" y="511"/>
                    </a:lnTo>
                    <a:close/>
                    <a:moveTo>
                      <a:pt x="425" y="511"/>
                    </a:moveTo>
                    <a:lnTo>
                      <a:pt x="447" y="500"/>
                    </a:lnTo>
                    <a:lnTo>
                      <a:pt x="447" y="477"/>
                    </a:lnTo>
                    <a:lnTo>
                      <a:pt x="425" y="466"/>
                    </a:lnTo>
                    <a:lnTo>
                      <a:pt x="405" y="477"/>
                    </a:lnTo>
                    <a:lnTo>
                      <a:pt x="405" y="500"/>
                    </a:lnTo>
                    <a:lnTo>
                      <a:pt x="425" y="511"/>
                    </a:lnTo>
                    <a:close/>
                    <a:moveTo>
                      <a:pt x="480" y="511"/>
                    </a:moveTo>
                    <a:lnTo>
                      <a:pt x="498" y="500"/>
                    </a:lnTo>
                    <a:lnTo>
                      <a:pt x="498" y="477"/>
                    </a:lnTo>
                    <a:lnTo>
                      <a:pt x="480" y="466"/>
                    </a:lnTo>
                    <a:lnTo>
                      <a:pt x="459" y="477"/>
                    </a:lnTo>
                    <a:lnTo>
                      <a:pt x="459" y="500"/>
                    </a:lnTo>
                    <a:lnTo>
                      <a:pt x="480" y="511"/>
                    </a:lnTo>
                    <a:close/>
                    <a:moveTo>
                      <a:pt x="532" y="511"/>
                    </a:moveTo>
                    <a:lnTo>
                      <a:pt x="552" y="500"/>
                    </a:lnTo>
                    <a:lnTo>
                      <a:pt x="552" y="477"/>
                    </a:lnTo>
                    <a:lnTo>
                      <a:pt x="532" y="466"/>
                    </a:lnTo>
                    <a:lnTo>
                      <a:pt x="512" y="477"/>
                    </a:lnTo>
                    <a:lnTo>
                      <a:pt x="512" y="500"/>
                    </a:lnTo>
                    <a:lnTo>
                      <a:pt x="532" y="511"/>
                    </a:lnTo>
                    <a:close/>
                    <a:moveTo>
                      <a:pt x="48" y="511"/>
                    </a:moveTo>
                    <a:lnTo>
                      <a:pt x="68" y="500"/>
                    </a:lnTo>
                    <a:lnTo>
                      <a:pt x="68" y="477"/>
                    </a:lnTo>
                    <a:lnTo>
                      <a:pt x="48" y="466"/>
                    </a:lnTo>
                    <a:lnTo>
                      <a:pt x="27" y="477"/>
                    </a:lnTo>
                    <a:lnTo>
                      <a:pt x="27" y="500"/>
                    </a:lnTo>
                    <a:lnTo>
                      <a:pt x="48" y="511"/>
                    </a:lnTo>
                    <a:close/>
                    <a:moveTo>
                      <a:pt x="99" y="511"/>
                    </a:moveTo>
                    <a:lnTo>
                      <a:pt x="120" y="500"/>
                    </a:lnTo>
                    <a:lnTo>
                      <a:pt x="120" y="477"/>
                    </a:lnTo>
                    <a:lnTo>
                      <a:pt x="99" y="466"/>
                    </a:lnTo>
                    <a:lnTo>
                      <a:pt x="82" y="477"/>
                    </a:lnTo>
                    <a:lnTo>
                      <a:pt x="82" y="500"/>
                    </a:lnTo>
                    <a:lnTo>
                      <a:pt x="99" y="511"/>
                    </a:lnTo>
                    <a:close/>
                    <a:moveTo>
                      <a:pt x="155" y="511"/>
                    </a:moveTo>
                    <a:lnTo>
                      <a:pt x="175" y="500"/>
                    </a:lnTo>
                    <a:lnTo>
                      <a:pt x="175" y="477"/>
                    </a:lnTo>
                    <a:lnTo>
                      <a:pt x="155" y="466"/>
                    </a:lnTo>
                    <a:lnTo>
                      <a:pt x="133" y="477"/>
                    </a:lnTo>
                    <a:lnTo>
                      <a:pt x="133" y="500"/>
                    </a:lnTo>
                    <a:lnTo>
                      <a:pt x="155" y="511"/>
                    </a:lnTo>
                    <a:close/>
                    <a:moveTo>
                      <a:pt x="208" y="511"/>
                    </a:moveTo>
                    <a:lnTo>
                      <a:pt x="229" y="500"/>
                    </a:lnTo>
                    <a:lnTo>
                      <a:pt x="229" y="477"/>
                    </a:lnTo>
                    <a:lnTo>
                      <a:pt x="208" y="466"/>
                    </a:lnTo>
                    <a:lnTo>
                      <a:pt x="188" y="477"/>
                    </a:lnTo>
                    <a:lnTo>
                      <a:pt x="188" y="500"/>
                    </a:lnTo>
                    <a:lnTo>
                      <a:pt x="208" y="511"/>
                    </a:lnTo>
                    <a:close/>
                    <a:moveTo>
                      <a:pt x="262" y="511"/>
                    </a:moveTo>
                    <a:lnTo>
                      <a:pt x="282" y="500"/>
                    </a:lnTo>
                    <a:lnTo>
                      <a:pt x="282" y="477"/>
                    </a:lnTo>
                    <a:lnTo>
                      <a:pt x="262" y="466"/>
                    </a:lnTo>
                    <a:lnTo>
                      <a:pt x="242" y="477"/>
                    </a:lnTo>
                    <a:lnTo>
                      <a:pt x="242" y="500"/>
                    </a:lnTo>
                    <a:lnTo>
                      <a:pt x="262" y="511"/>
                    </a:lnTo>
                    <a:close/>
                    <a:moveTo>
                      <a:pt x="317" y="511"/>
                    </a:moveTo>
                    <a:lnTo>
                      <a:pt x="338" y="500"/>
                    </a:lnTo>
                    <a:lnTo>
                      <a:pt x="338" y="477"/>
                    </a:lnTo>
                    <a:lnTo>
                      <a:pt x="317" y="466"/>
                    </a:lnTo>
                    <a:lnTo>
                      <a:pt x="296" y="477"/>
                    </a:lnTo>
                    <a:lnTo>
                      <a:pt x="296" y="500"/>
                    </a:lnTo>
                    <a:lnTo>
                      <a:pt x="317" y="511"/>
                    </a:lnTo>
                    <a:close/>
                    <a:moveTo>
                      <a:pt x="505" y="466"/>
                    </a:moveTo>
                    <a:lnTo>
                      <a:pt x="525" y="455"/>
                    </a:lnTo>
                    <a:lnTo>
                      <a:pt x="525" y="432"/>
                    </a:lnTo>
                    <a:lnTo>
                      <a:pt x="505" y="421"/>
                    </a:lnTo>
                    <a:lnTo>
                      <a:pt x="484" y="432"/>
                    </a:lnTo>
                    <a:lnTo>
                      <a:pt x="484" y="455"/>
                    </a:lnTo>
                    <a:lnTo>
                      <a:pt x="505" y="466"/>
                    </a:lnTo>
                    <a:close/>
                    <a:moveTo>
                      <a:pt x="559" y="466"/>
                    </a:moveTo>
                    <a:lnTo>
                      <a:pt x="579" y="455"/>
                    </a:lnTo>
                    <a:lnTo>
                      <a:pt x="579" y="432"/>
                    </a:lnTo>
                    <a:lnTo>
                      <a:pt x="559" y="421"/>
                    </a:lnTo>
                    <a:lnTo>
                      <a:pt x="539" y="432"/>
                    </a:lnTo>
                    <a:lnTo>
                      <a:pt x="539" y="455"/>
                    </a:lnTo>
                    <a:lnTo>
                      <a:pt x="559" y="466"/>
                    </a:lnTo>
                    <a:close/>
                    <a:moveTo>
                      <a:pt x="21" y="466"/>
                    </a:moveTo>
                    <a:lnTo>
                      <a:pt x="41" y="455"/>
                    </a:lnTo>
                    <a:lnTo>
                      <a:pt x="41" y="432"/>
                    </a:lnTo>
                    <a:lnTo>
                      <a:pt x="21" y="421"/>
                    </a:lnTo>
                    <a:lnTo>
                      <a:pt x="0" y="432"/>
                    </a:lnTo>
                    <a:lnTo>
                      <a:pt x="0" y="455"/>
                    </a:lnTo>
                    <a:lnTo>
                      <a:pt x="21" y="466"/>
                    </a:lnTo>
                    <a:close/>
                    <a:moveTo>
                      <a:pt x="74" y="466"/>
                    </a:moveTo>
                    <a:lnTo>
                      <a:pt x="93" y="455"/>
                    </a:lnTo>
                    <a:lnTo>
                      <a:pt x="93" y="432"/>
                    </a:lnTo>
                    <a:lnTo>
                      <a:pt x="74" y="421"/>
                    </a:lnTo>
                    <a:lnTo>
                      <a:pt x="54" y="432"/>
                    </a:lnTo>
                    <a:lnTo>
                      <a:pt x="54" y="455"/>
                    </a:lnTo>
                    <a:lnTo>
                      <a:pt x="74" y="466"/>
                    </a:lnTo>
                    <a:close/>
                    <a:moveTo>
                      <a:pt x="127" y="466"/>
                    </a:moveTo>
                    <a:lnTo>
                      <a:pt x="147" y="455"/>
                    </a:lnTo>
                    <a:lnTo>
                      <a:pt x="147" y="432"/>
                    </a:lnTo>
                    <a:lnTo>
                      <a:pt x="127" y="421"/>
                    </a:lnTo>
                    <a:lnTo>
                      <a:pt x="107" y="432"/>
                    </a:lnTo>
                    <a:lnTo>
                      <a:pt x="107" y="455"/>
                    </a:lnTo>
                    <a:lnTo>
                      <a:pt x="127" y="466"/>
                    </a:lnTo>
                    <a:close/>
                    <a:moveTo>
                      <a:pt x="181" y="466"/>
                    </a:moveTo>
                    <a:lnTo>
                      <a:pt x="201" y="455"/>
                    </a:lnTo>
                    <a:lnTo>
                      <a:pt x="201" y="432"/>
                    </a:lnTo>
                    <a:lnTo>
                      <a:pt x="181" y="421"/>
                    </a:lnTo>
                    <a:lnTo>
                      <a:pt x="161" y="432"/>
                    </a:lnTo>
                    <a:lnTo>
                      <a:pt x="161" y="455"/>
                    </a:lnTo>
                    <a:lnTo>
                      <a:pt x="181" y="466"/>
                    </a:lnTo>
                    <a:close/>
                    <a:moveTo>
                      <a:pt x="236" y="466"/>
                    </a:moveTo>
                    <a:lnTo>
                      <a:pt x="256" y="455"/>
                    </a:lnTo>
                    <a:lnTo>
                      <a:pt x="256" y="432"/>
                    </a:lnTo>
                    <a:lnTo>
                      <a:pt x="236" y="421"/>
                    </a:lnTo>
                    <a:lnTo>
                      <a:pt x="215" y="432"/>
                    </a:lnTo>
                    <a:lnTo>
                      <a:pt x="215" y="455"/>
                    </a:lnTo>
                    <a:lnTo>
                      <a:pt x="236" y="466"/>
                    </a:lnTo>
                    <a:close/>
                    <a:moveTo>
                      <a:pt x="290" y="466"/>
                    </a:moveTo>
                    <a:lnTo>
                      <a:pt x="310" y="455"/>
                    </a:lnTo>
                    <a:lnTo>
                      <a:pt x="310" y="432"/>
                    </a:lnTo>
                    <a:lnTo>
                      <a:pt x="290" y="421"/>
                    </a:lnTo>
                    <a:lnTo>
                      <a:pt x="270" y="432"/>
                    </a:lnTo>
                    <a:lnTo>
                      <a:pt x="270" y="455"/>
                    </a:lnTo>
                    <a:lnTo>
                      <a:pt x="290" y="466"/>
                    </a:lnTo>
                    <a:close/>
                    <a:moveTo>
                      <a:pt x="344" y="466"/>
                    </a:moveTo>
                    <a:lnTo>
                      <a:pt x="365" y="455"/>
                    </a:lnTo>
                    <a:lnTo>
                      <a:pt x="365" y="432"/>
                    </a:lnTo>
                    <a:lnTo>
                      <a:pt x="344" y="421"/>
                    </a:lnTo>
                    <a:lnTo>
                      <a:pt x="324" y="432"/>
                    </a:lnTo>
                    <a:lnTo>
                      <a:pt x="324" y="455"/>
                    </a:lnTo>
                    <a:lnTo>
                      <a:pt x="344" y="466"/>
                    </a:lnTo>
                    <a:close/>
                    <a:moveTo>
                      <a:pt x="399" y="466"/>
                    </a:moveTo>
                    <a:lnTo>
                      <a:pt x="419" y="455"/>
                    </a:lnTo>
                    <a:lnTo>
                      <a:pt x="419" y="432"/>
                    </a:lnTo>
                    <a:lnTo>
                      <a:pt x="399" y="421"/>
                    </a:lnTo>
                    <a:lnTo>
                      <a:pt x="378" y="432"/>
                    </a:lnTo>
                    <a:lnTo>
                      <a:pt x="378" y="455"/>
                    </a:lnTo>
                    <a:lnTo>
                      <a:pt x="399" y="466"/>
                    </a:lnTo>
                    <a:close/>
                    <a:moveTo>
                      <a:pt x="613" y="466"/>
                    </a:moveTo>
                    <a:lnTo>
                      <a:pt x="634" y="455"/>
                    </a:lnTo>
                    <a:lnTo>
                      <a:pt x="634" y="432"/>
                    </a:lnTo>
                    <a:lnTo>
                      <a:pt x="613" y="421"/>
                    </a:lnTo>
                    <a:lnTo>
                      <a:pt x="593" y="432"/>
                    </a:lnTo>
                    <a:lnTo>
                      <a:pt x="593" y="455"/>
                    </a:lnTo>
                    <a:lnTo>
                      <a:pt x="613" y="466"/>
                    </a:lnTo>
                    <a:close/>
                    <a:moveTo>
                      <a:pt x="666" y="466"/>
                    </a:moveTo>
                    <a:lnTo>
                      <a:pt x="686" y="455"/>
                    </a:lnTo>
                    <a:lnTo>
                      <a:pt x="686" y="432"/>
                    </a:lnTo>
                    <a:lnTo>
                      <a:pt x="666" y="421"/>
                    </a:lnTo>
                    <a:lnTo>
                      <a:pt x="647" y="432"/>
                    </a:lnTo>
                    <a:lnTo>
                      <a:pt x="647" y="455"/>
                    </a:lnTo>
                    <a:lnTo>
                      <a:pt x="666" y="466"/>
                    </a:lnTo>
                    <a:close/>
                    <a:moveTo>
                      <a:pt x="720" y="466"/>
                    </a:moveTo>
                    <a:lnTo>
                      <a:pt x="740" y="455"/>
                    </a:lnTo>
                    <a:lnTo>
                      <a:pt x="740" y="432"/>
                    </a:lnTo>
                    <a:lnTo>
                      <a:pt x="720" y="421"/>
                    </a:lnTo>
                    <a:lnTo>
                      <a:pt x="700" y="432"/>
                    </a:lnTo>
                    <a:lnTo>
                      <a:pt x="700" y="455"/>
                    </a:lnTo>
                    <a:lnTo>
                      <a:pt x="720" y="466"/>
                    </a:lnTo>
                    <a:close/>
                    <a:moveTo>
                      <a:pt x="775" y="466"/>
                    </a:moveTo>
                    <a:lnTo>
                      <a:pt x="795" y="455"/>
                    </a:lnTo>
                    <a:lnTo>
                      <a:pt x="795" y="432"/>
                    </a:lnTo>
                    <a:lnTo>
                      <a:pt x="775" y="421"/>
                    </a:lnTo>
                    <a:lnTo>
                      <a:pt x="754" y="432"/>
                    </a:lnTo>
                    <a:lnTo>
                      <a:pt x="754" y="455"/>
                    </a:lnTo>
                    <a:lnTo>
                      <a:pt x="775" y="466"/>
                    </a:lnTo>
                    <a:close/>
                    <a:moveTo>
                      <a:pt x="532" y="234"/>
                    </a:moveTo>
                    <a:lnTo>
                      <a:pt x="552" y="222"/>
                    </a:lnTo>
                    <a:lnTo>
                      <a:pt x="552" y="198"/>
                    </a:lnTo>
                    <a:lnTo>
                      <a:pt x="532" y="187"/>
                    </a:lnTo>
                    <a:lnTo>
                      <a:pt x="512" y="198"/>
                    </a:lnTo>
                    <a:lnTo>
                      <a:pt x="512" y="222"/>
                    </a:lnTo>
                    <a:lnTo>
                      <a:pt x="532" y="234"/>
                    </a:lnTo>
                    <a:close/>
                    <a:moveTo>
                      <a:pt x="532" y="140"/>
                    </a:moveTo>
                    <a:lnTo>
                      <a:pt x="552" y="128"/>
                    </a:lnTo>
                    <a:lnTo>
                      <a:pt x="552" y="105"/>
                    </a:lnTo>
                    <a:lnTo>
                      <a:pt x="532" y="94"/>
                    </a:lnTo>
                    <a:lnTo>
                      <a:pt x="512" y="105"/>
                    </a:lnTo>
                    <a:lnTo>
                      <a:pt x="512" y="128"/>
                    </a:lnTo>
                    <a:lnTo>
                      <a:pt x="532" y="140"/>
                    </a:lnTo>
                    <a:close/>
                    <a:moveTo>
                      <a:pt x="559" y="279"/>
                    </a:moveTo>
                    <a:lnTo>
                      <a:pt x="579" y="268"/>
                    </a:lnTo>
                    <a:lnTo>
                      <a:pt x="579" y="245"/>
                    </a:lnTo>
                    <a:lnTo>
                      <a:pt x="559" y="234"/>
                    </a:lnTo>
                    <a:lnTo>
                      <a:pt x="539" y="245"/>
                    </a:lnTo>
                    <a:lnTo>
                      <a:pt x="539" y="268"/>
                    </a:lnTo>
                    <a:lnTo>
                      <a:pt x="559" y="279"/>
                    </a:lnTo>
                    <a:close/>
                    <a:moveTo>
                      <a:pt x="559" y="187"/>
                    </a:moveTo>
                    <a:lnTo>
                      <a:pt x="579" y="174"/>
                    </a:lnTo>
                    <a:lnTo>
                      <a:pt x="579" y="152"/>
                    </a:lnTo>
                    <a:lnTo>
                      <a:pt x="559" y="140"/>
                    </a:lnTo>
                    <a:lnTo>
                      <a:pt x="539" y="152"/>
                    </a:lnTo>
                    <a:lnTo>
                      <a:pt x="539" y="174"/>
                    </a:lnTo>
                    <a:lnTo>
                      <a:pt x="559" y="187"/>
                    </a:lnTo>
                    <a:close/>
                    <a:moveTo>
                      <a:pt x="559" y="94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59" y="47"/>
                    </a:lnTo>
                    <a:lnTo>
                      <a:pt x="539" y="58"/>
                    </a:lnTo>
                    <a:lnTo>
                      <a:pt x="539" y="82"/>
                    </a:lnTo>
                    <a:lnTo>
                      <a:pt x="559" y="94"/>
                    </a:lnTo>
                    <a:close/>
                    <a:moveTo>
                      <a:pt x="480" y="327"/>
                    </a:moveTo>
                    <a:lnTo>
                      <a:pt x="498" y="316"/>
                    </a:lnTo>
                    <a:lnTo>
                      <a:pt x="498" y="292"/>
                    </a:lnTo>
                    <a:lnTo>
                      <a:pt x="480" y="280"/>
                    </a:lnTo>
                    <a:lnTo>
                      <a:pt x="459" y="292"/>
                    </a:lnTo>
                    <a:lnTo>
                      <a:pt x="459" y="316"/>
                    </a:lnTo>
                    <a:lnTo>
                      <a:pt x="480" y="327"/>
                    </a:lnTo>
                    <a:close/>
                    <a:moveTo>
                      <a:pt x="505" y="373"/>
                    </a:moveTo>
                    <a:lnTo>
                      <a:pt x="525" y="361"/>
                    </a:lnTo>
                    <a:lnTo>
                      <a:pt x="525" y="338"/>
                    </a:lnTo>
                    <a:lnTo>
                      <a:pt x="505" y="327"/>
                    </a:lnTo>
                    <a:lnTo>
                      <a:pt x="484" y="338"/>
                    </a:lnTo>
                    <a:lnTo>
                      <a:pt x="484" y="361"/>
                    </a:lnTo>
                    <a:lnTo>
                      <a:pt x="505" y="373"/>
                    </a:lnTo>
                    <a:close/>
                    <a:moveTo>
                      <a:pt x="48" y="421"/>
                    </a:moveTo>
                    <a:lnTo>
                      <a:pt x="68" y="409"/>
                    </a:lnTo>
                    <a:lnTo>
                      <a:pt x="68" y="384"/>
                    </a:lnTo>
                    <a:lnTo>
                      <a:pt x="48" y="373"/>
                    </a:lnTo>
                    <a:lnTo>
                      <a:pt x="27" y="384"/>
                    </a:lnTo>
                    <a:lnTo>
                      <a:pt x="27" y="409"/>
                    </a:lnTo>
                    <a:lnTo>
                      <a:pt x="48" y="421"/>
                    </a:lnTo>
                    <a:close/>
                    <a:moveTo>
                      <a:pt x="99" y="421"/>
                    </a:moveTo>
                    <a:lnTo>
                      <a:pt x="120" y="409"/>
                    </a:lnTo>
                    <a:lnTo>
                      <a:pt x="120" y="384"/>
                    </a:lnTo>
                    <a:lnTo>
                      <a:pt x="99" y="373"/>
                    </a:lnTo>
                    <a:lnTo>
                      <a:pt x="82" y="384"/>
                    </a:lnTo>
                    <a:lnTo>
                      <a:pt x="82" y="409"/>
                    </a:lnTo>
                    <a:lnTo>
                      <a:pt x="99" y="421"/>
                    </a:lnTo>
                    <a:close/>
                    <a:moveTo>
                      <a:pt x="155" y="421"/>
                    </a:moveTo>
                    <a:lnTo>
                      <a:pt x="175" y="409"/>
                    </a:lnTo>
                    <a:lnTo>
                      <a:pt x="175" y="384"/>
                    </a:lnTo>
                    <a:lnTo>
                      <a:pt x="155" y="373"/>
                    </a:lnTo>
                    <a:lnTo>
                      <a:pt x="133" y="384"/>
                    </a:lnTo>
                    <a:lnTo>
                      <a:pt x="133" y="409"/>
                    </a:lnTo>
                    <a:lnTo>
                      <a:pt x="155" y="421"/>
                    </a:lnTo>
                    <a:close/>
                    <a:moveTo>
                      <a:pt x="208" y="421"/>
                    </a:moveTo>
                    <a:lnTo>
                      <a:pt x="229" y="409"/>
                    </a:lnTo>
                    <a:lnTo>
                      <a:pt x="229" y="384"/>
                    </a:lnTo>
                    <a:lnTo>
                      <a:pt x="208" y="373"/>
                    </a:lnTo>
                    <a:lnTo>
                      <a:pt x="188" y="384"/>
                    </a:lnTo>
                    <a:lnTo>
                      <a:pt x="188" y="409"/>
                    </a:lnTo>
                    <a:lnTo>
                      <a:pt x="208" y="421"/>
                    </a:lnTo>
                    <a:close/>
                    <a:moveTo>
                      <a:pt x="262" y="421"/>
                    </a:moveTo>
                    <a:lnTo>
                      <a:pt x="282" y="409"/>
                    </a:lnTo>
                    <a:lnTo>
                      <a:pt x="282" y="384"/>
                    </a:lnTo>
                    <a:lnTo>
                      <a:pt x="262" y="373"/>
                    </a:lnTo>
                    <a:lnTo>
                      <a:pt x="242" y="384"/>
                    </a:lnTo>
                    <a:lnTo>
                      <a:pt x="242" y="409"/>
                    </a:lnTo>
                    <a:lnTo>
                      <a:pt x="262" y="421"/>
                    </a:lnTo>
                    <a:close/>
                    <a:moveTo>
                      <a:pt x="317" y="421"/>
                    </a:moveTo>
                    <a:lnTo>
                      <a:pt x="338" y="409"/>
                    </a:lnTo>
                    <a:lnTo>
                      <a:pt x="338" y="384"/>
                    </a:lnTo>
                    <a:lnTo>
                      <a:pt x="317" y="373"/>
                    </a:lnTo>
                    <a:lnTo>
                      <a:pt x="296" y="384"/>
                    </a:lnTo>
                    <a:lnTo>
                      <a:pt x="296" y="409"/>
                    </a:lnTo>
                    <a:lnTo>
                      <a:pt x="317" y="421"/>
                    </a:lnTo>
                    <a:close/>
                    <a:moveTo>
                      <a:pt x="371" y="421"/>
                    </a:moveTo>
                    <a:lnTo>
                      <a:pt x="391" y="409"/>
                    </a:lnTo>
                    <a:lnTo>
                      <a:pt x="391" y="384"/>
                    </a:lnTo>
                    <a:lnTo>
                      <a:pt x="371" y="373"/>
                    </a:lnTo>
                    <a:lnTo>
                      <a:pt x="351" y="384"/>
                    </a:lnTo>
                    <a:lnTo>
                      <a:pt x="351" y="409"/>
                    </a:lnTo>
                    <a:lnTo>
                      <a:pt x="371" y="421"/>
                    </a:lnTo>
                    <a:close/>
                    <a:moveTo>
                      <a:pt x="425" y="421"/>
                    </a:moveTo>
                    <a:lnTo>
                      <a:pt x="447" y="409"/>
                    </a:lnTo>
                    <a:lnTo>
                      <a:pt x="447" y="384"/>
                    </a:lnTo>
                    <a:lnTo>
                      <a:pt x="425" y="373"/>
                    </a:lnTo>
                    <a:lnTo>
                      <a:pt x="405" y="384"/>
                    </a:lnTo>
                    <a:lnTo>
                      <a:pt x="405" y="409"/>
                    </a:lnTo>
                    <a:lnTo>
                      <a:pt x="425" y="421"/>
                    </a:lnTo>
                    <a:close/>
                    <a:moveTo>
                      <a:pt x="371" y="327"/>
                    </a:moveTo>
                    <a:lnTo>
                      <a:pt x="391" y="316"/>
                    </a:lnTo>
                    <a:lnTo>
                      <a:pt x="391" y="292"/>
                    </a:lnTo>
                    <a:lnTo>
                      <a:pt x="371" y="280"/>
                    </a:lnTo>
                    <a:lnTo>
                      <a:pt x="351" y="292"/>
                    </a:lnTo>
                    <a:lnTo>
                      <a:pt x="351" y="316"/>
                    </a:lnTo>
                    <a:lnTo>
                      <a:pt x="371" y="327"/>
                    </a:lnTo>
                    <a:close/>
                    <a:moveTo>
                      <a:pt x="425" y="327"/>
                    </a:moveTo>
                    <a:lnTo>
                      <a:pt x="447" y="316"/>
                    </a:lnTo>
                    <a:lnTo>
                      <a:pt x="447" y="292"/>
                    </a:lnTo>
                    <a:lnTo>
                      <a:pt x="425" y="280"/>
                    </a:lnTo>
                    <a:lnTo>
                      <a:pt x="405" y="292"/>
                    </a:lnTo>
                    <a:lnTo>
                      <a:pt x="405" y="316"/>
                    </a:lnTo>
                    <a:lnTo>
                      <a:pt x="425" y="327"/>
                    </a:lnTo>
                    <a:close/>
                    <a:moveTo>
                      <a:pt x="21" y="373"/>
                    </a:moveTo>
                    <a:lnTo>
                      <a:pt x="41" y="361"/>
                    </a:lnTo>
                    <a:lnTo>
                      <a:pt x="41" y="338"/>
                    </a:lnTo>
                    <a:lnTo>
                      <a:pt x="21" y="327"/>
                    </a:lnTo>
                    <a:lnTo>
                      <a:pt x="0" y="338"/>
                    </a:lnTo>
                    <a:lnTo>
                      <a:pt x="0" y="361"/>
                    </a:lnTo>
                    <a:lnTo>
                      <a:pt x="21" y="373"/>
                    </a:lnTo>
                    <a:close/>
                    <a:moveTo>
                      <a:pt x="74" y="373"/>
                    </a:moveTo>
                    <a:lnTo>
                      <a:pt x="93" y="361"/>
                    </a:lnTo>
                    <a:lnTo>
                      <a:pt x="93" y="338"/>
                    </a:lnTo>
                    <a:lnTo>
                      <a:pt x="74" y="327"/>
                    </a:lnTo>
                    <a:lnTo>
                      <a:pt x="54" y="338"/>
                    </a:lnTo>
                    <a:lnTo>
                      <a:pt x="54" y="361"/>
                    </a:lnTo>
                    <a:lnTo>
                      <a:pt x="74" y="373"/>
                    </a:lnTo>
                    <a:close/>
                    <a:moveTo>
                      <a:pt x="127" y="373"/>
                    </a:moveTo>
                    <a:lnTo>
                      <a:pt x="147" y="361"/>
                    </a:lnTo>
                    <a:lnTo>
                      <a:pt x="147" y="338"/>
                    </a:lnTo>
                    <a:lnTo>
                      <a:pt x="127" y="327"/>
                    </a:lnTo>
                    <a:lnTo>
                      <a:pt x="107" y="338"/>
                    </a:lnTo>
                    <a:lnTo>
                      <a:pt x="107" y="361"/>
                    </a:lnTo>
                    <a:lnTo>
                      <a:pt x="127" y="373"/>
                    </a:lnTo>
                    <a:close/>
                    <a:moveTo>
                      <a:pt x="181" y="373"/>
                    </a:moveTo>
                    <a:lnTo>
                      <a:pt x="201" y="361"/>
                    </a:lnTo>
                    <a:lnTo>
                      <a:pt x="201" y="338"/>
                    </a:lnTo>
                    <a:lnTo>
                      <a:pt x="181" y="327"/>
                    </a:lnTo>
                    <a:lnTo>
                      <a:pt x="161" y="338"/>
                    </a:lnTo>
                    <a:lnTo>
                      <a:pt x="161" y="361"/>
                    </a:lnTo>
                    <a:lnTo>
                      <a:pt x="181" y="373"/>
                    </a:lnTo>
                    <a:close/>
                    <a:moveTo>
                      <a:pt x="236" y="373"/>
                    </a:moveTo>
                    <a:lnTo>
                      <a:pt x="256" y="361"/>
                    </a:lnTo>
                    <a:lnTo>
                      <a:pt x="256" y="338"/>
                    </a:lnTo>
                    <a:lnTo>
                      <a:pt x="236" y="327"/>
                    </a:lnTo>
                    <a:lnTo>
                      <a:pt x="215" y="338"/>
                    </a:lnTo>
                    <a:lnTo>
                      <a:pt x="215" y="361"/>
                    </a:lnTo>
                    <a:lnTo>
                      <a:pt x="236" y="373"/>
                    </a:lnTo>
                    <a:close/>
                    <a:moveTo>
                      <a:pt x="290" y="373"/>
                    </a:moveTo>
                    <a:lnTo>
                      <a:pt x="310" y="361"/>
                    </a:lnTo>
                    <a:lnTo>
                      <a:pt x="310" y="338"/>
                    </a:lnTo>
                    <a:lnTo>
                      <a:pt x="290" y="327"/>
                    </a:lnTo>
                    <a:lnTo>
                      <a:pt x="270" y="338"/>
                    </a:lnTo>
                    <a:lnTo>
                      <a:pt x="270" y="361"/>
                    </a:lnTo>
                    <a:lnTo>
                      <a:pt x="290" y="373"/>
                    </a:lnTo>
                    <a:close/>
                    <a:moveTo>
                      <a:pt x="48" y="327"/>
                    </a:moveTo>
                    <a:lnTo>
                      <a:pt x="68" y="316"/>
                    </a:lnTo>
                    <a:lnTo>
                      <a:pt x="68" y="292"/>
                    </a:lnTo>
                    <a:lnTo>
                      <a:pt x="48" y="280"/>
                    </a:lnTo>
                    <a:lnTo>
                      <a:pt x="27" y="292"/>
                    </a:lnTo>
                    <a:lnTo>
                      <a:pt x="27" y="316"/>
                    </a:lnTo>
                    <a:lnTo>
                      <a:pt x="48" y="327"/>
                    </a:lnTo>
                    <a:close/>
                    <a:moveTo>
                      <a:pt x="99" y="327"/>
                    </a:moveTo>
                    <a:lnTo>
                      <a:pt x="120" y="316"/>
                    </a:lnTo>
                    <a:lnTo>
                      <a:pt x="120" y="292"/>
                    </a:lnTo>
                    <a:lnTo>
                      <a:pt x="99" y="280"/>
                    </a:lnTo>
                    <a:lnTo>
                      <a:pt x="82" y="292"/>
                    </a:lnTo>
                    <a:lnTo>
                      <a:pt x="82" y="316"/>
                    </a:lnTo>
                    <a:lnTo>
                      <a:pt x="99" y="327"/>
                    </a:lnTo>
                    <a:close/>
                    <a:moveTo>
                      <a:pt x="155" y="327"/>
                    </a:moveTo>
                    <a:lnTo>
                      <a:pt x="175" y="316"/>
                    </a:lnTo>
                    <a:lnTo>
                      <a:pt x="175" y="292"/>
                    </a:lnTo>
                    <a:lnTo>
                      <a:pt x="155" y="280"/>
                    </a:lnTo>
                    <a:lnTo>
                      <a:pt x="133" y="292"/>
                    </a:lnTo>
                    <a:lnTo>
                      <a:pt x="133" y="316"/>
                    </a:lnTo>
                    <a:lnTo>
                      <a:pt x="155" y="327"/>
                    </a:lnTo>
                    <a:close/>
                    <a:moveTo>
                      <a:pt x="208" y="327"/>
                    </a:moveTo>
                    <a:lnTo>
                      <a:pt x="229" y="316"/>
                    </a:lnTo>
                    <a:lnTo>
                      <a:pt x="229" y="292"/>
                    </a:lnTo>
                    <a:lnTo>
                      <a:pt x="208" y="280"/>
                    </a:lnTo>
                    <a:lnTo>
                      <a:pt x="188" y="292"/>
                    </a:lnTo>
                    <a:lnTo>
                      <a:pt x="188" y="316"/>
                    </a:lnTo>
                    <a:lnTo>
                      <a:pt x="208" y="327"/>
                    </a:lnTo>
                    <a:close/>
                    <a:moveTo>
                      <a:pt x="262" y="327"/>
                    </a:moveTo>
                    <a:lnTo>
                      <a:pt x="282" y="316"/>
                    </a:lnTo>
                    <a:lnTo>
                      <a:pt x="282" y="292"/>
                    </a:lnTo>
                    <a:lnTo>
                      <a:pt x="262" y="280"/>
                    </a:lnTo>
                    <a:lnTo>
                      <a:pt x="242" y="292"/>
                    </a:lnTo>
                    <a:lnTo>
                      <a:pt x="242" y="316"/>
                    </a:lnTo>
                    <a:lnTo>
                      <a:pt x="262" y="327"/>
                    </a:lnTo>
                    <a:close/>
                    <a:moveTo>
                      <a:pt x="317" y="327"/>
                    </a:moveTo>
                    <a:lnTo>
                      <a:pt x="338" y="316"/>
                    </a:lnTo>
                    <a:lnTo>
                      <a:pt x="338" y="292"/>
                    </a:lnTo>
                    <a:lnTo>
                      <a:pt x="317" y="280"/>
                    </a:lnTo>
                    <a:lnTo>
                      <a:pt x="296" y="292"/>
                    </a:lnTo>
                    <a:lnTo>
                      <a:pt x="296" y="316"/>
                    </a:lnTo>
                    <a:lnTo>
                      <a:pt x="317" y="327"/>
                    </a:lnTo>
                    <a:close/>
                    <a:moveTo>
                      <a:pt x="344" y="373"/>
                    </a:moveTo>
                    <a:lnTo>
                      <a:pt x="365" y="361"/>
                    </a:lnTo>
                    <a:lnTo>
                      <a:pt x="365" y="338"/>
                    </a:lnTo>
                    <a:lnTo>
                      <a:pt x="344" y="327"/>
                    </a:lnTo>
                    <a:lnTo>
                      <a:pt x="324" y="338"/>
                    </a:lnTo>
                    <a:lnTo>
                      <a:pt x="324" y="361"/>
                    </a:lnTo>
                    <a:lnTo>
                      <a:pt x="344" y="373"/>
                    </a:lnTo>
                    <a:close/>
                    <a:moveTo>
                      <a:pt x="399" y="373"/>
                    </a:moveTo>
                    <a:lnTo>
                      <a:pt x="419" y="361"/>
                    </a:lnTo>
                    <a:lnTo>
                      <a:pt x="419" y="338"/>
                    </a:lnTo>
                    <a:lnTo>
                      <a:pt x="399" y="327"/>
                    </a:lnTo>
                    <a:lnTo>
                      <a:pt x="378" y="338"/>
                    </a:lnTo>
                    <a:lnTo>
                      <a:pt x="378" y="361"/>
                    </a:lnTo>
                    <a:lnTo>
                      <a:pt x="399" y="373"/>
                    </a:lnTo>
                    <a:close/>
                    <a:moveTo>
                      <a:pt x="480" y="421"/>
                    </a:moveTo>
                    <a:lnTo>
                      <a:pt x="498" y="409"/>
                    </a:lnTo>
                    <a:lnTo>
                      <a:pt x="498" y="384"/>
                    </a:lnTo>
                    <a:lnTo>
                      <a:pt x="480" y="373"/>
                    </a:lnTo>
                    <a:lnTo>
                      <a:pt x="459" y="384"/>
                    </a:lnTo>
                    <a:lnTo>
                      <a:pt x="459" y="409"/>
                    </a:lnTo>
                    <a:lnTo>
                      <a:pt x="480" y="421"/>
                    </a:lnTo>
                    <a:close/>
                    <a:moveTo>
                      <a:pt x="480" y="140"/>
                    </a:moveTo>
                    <a:lnTo>
                      <a:pt x="498" y="128"/>
                    </a:lnTo>
                    <a:lnTo>
                      <a:pt x="498" y="105"/>
                    </a:lnTo>
                    <a:lnTo>
                      <a:pt x="480" y="94"/>
                    </a:lnTo>
                    <a:lnTo>
                      <a:pt x="459" y="105"/>
                    </a:lnTo>
                    <a:lnTo>
                      <a:pt x="459" y="128"/>
                    </a:lnTo>
                    <a:lnTo>
                      <a:pt x="480" y="140"/>
                    </a:lnTo>
                    <a:close/>
                    <a:moveTo>
                      <a:pt x="505" y="94"/>
                    </a:moveTo>
                    <a:lnTo>
                      <a:pt x="525" y="82"/>
                    </a:lnTo>
                    <a:lnTo>
                      <a:pt x="525" y="58"/>
                    </a:lnTo>
                    <a:lnTo>
                      <a:pt x="505" y="47"/>
                    </a:lnTo>
                    <a:lnTo>
                      <a:pt x="484" y="58"/>
                    </a:lnTo>
                    <a:lnTo>
                      <a:pt x="484" y="82"/>
                    </a:lnTo>
                    <a:lnTo>
                      <a:pt x="505" y="94"/>
                    </a:lnTo>
                    <a:close/>
                    <a:moveTo>
                      <a:pt x="505" y="187"/>
                    </a:moveTo>
                    <a:lnTo>
                      <a:pt x="525" y="174"/>
                    </a:lnTo>
                    <a:lnTo>
                      <a:pt x="525" y="152"/>
                    </a:lnTo>
                    <a:lnTo>
                      <a:pt x="505" y="140"/>
                    </a:lnTo>
                    <a:lnTo>
                      <a:pt x="484" y="152"/>
                    </a:lnTo>
                    <a:lnTo>
                      <a:pt x="484" y="174"/>
                    </a:lnTo>
                    <a:lnTo>
                      <a:pt x="505" y="187"/>
                    </a:lnTo>
                    <a:close/>
                    <a:moveTo>
                      <a:pt x="371" y="234"/>
                    </a:moveTo>
                    <a:lnTo>
                      <a:pt x="391" y="222"/>
                    </a:lnTo>
                    <a:lnTo>
                      <a:pt x="391" y="198"/>
                    </a:lnTo>
                    <a:lnTo>
                      <a:pt x="371" y="187"/>
                    </a:lnTo>
                    <a:lnTo>
                      <a:pt x="351" y="198"/>
                    </a:lnTo>
                    <a:lnTo>
                      <a:pt x="351" y="222"/>
                    </a:lnTo>
                    <a:lnTo>
                      <a:pt x="371" y="234"/>
                    </a:lnTo>
                    <a:close/>
                    <a:moveTo>
                      <a:pt x="425" y="234"/>
                    </a:moveTo>
                    <a:lnTo>
                      <a:pt x="447" y="222"/>
                    </a:lnTo>
                    <a:lnTo>
                      <a:pt x="447" y="198"/>
                    </a:lnTo>
                    <a:lnTo>
                      <a:pt x="425" y="187"/>
                    </a:lnTo>
                    <a:lnTo>
                      <a:pt x="405" y="198"/>
                    </a:lnTo>
                    <a:lnTo>
                      <a:pt x="405" y="222"/>
                    </a:lnTo>
                    <a:lnTo>
                      <a:pt x="425" y="234"/>
                    </a:lnTo>
                    <a:close/>
                    <a:moveTo>
                      <a:pt x="21" y="279"/>
                    </a:moveTo>
                    <a:lnTo>
                      <a:pt x="41" y="268"/>
                    </a:lnTo>
                    <a:lnTo>
                      <a:pt x="41" y="245"/>
                    </a:lnTo>
                    <a:lnTo>
                      <a:pt x="21" y="234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21" y="279"/>
                    </a:lnTo>
                    <a:close/>
                    <a:moveTo>
                      <a:pt x="74" y="279"/>
                    </a:moveTo>
                    <a:lnTo>
                      <a:pt x="93" y="268"/>
                    </a:lnTo>
                    <a:lnTo>
                      <a:pt x="93" y="245"/>
                    </a:lnTo>
                    <a:lnTo>
                      <a:pt x="74" y="234"/>
                    </a:lnTo>
                    <a:lnTo>
                      <a:pt x="54" y="245"/>
                    </a:lnTo>
                    <a:lnTo>
                      <a:pt x="54" y="268"/>
                    </a:lnTo>
                    <a:lnTo>
                      <a:pt x="74" y="279"/>
                    </a:lnTo>
                    <a:close/>
                    <a:moveTo>
                      <a:pt x="127" y="279"/>
                    </a:moveTo>
                    <a:lnTo>
                      <a:pt x="147" y="268"/>
                    </a:lnTo>
                    <a:lnTo>
                      <a:pt x="147" y="245"/>
                    </a:lnTo>
                    <a:lnTo>
                      <a:pt x="127" y="234"/>
                    </a:lnTo>
                    <a:lnTo>
                      <a:pt x="107" y="245"/>
                    </a:lnTo>
                    <a:lnTo>
                      <a:pt x="107" y="268"/>
                    </a:lnTo>
                    <a:lnTo>
                      <a:pt x="127" y="279"/>
                    </a:lnTo>
                    <a:close/>
                    <a:moveTo>
                      <a:pt x="181" y="279"/>
                    </a:moveTo>
                    <a:lnTo>
                      <a:pt x="201" y="268"/>
                    </a:lnTo>
                    <a:lnTo>
                      <a:pt x="201" y="245"/>
                    </a:lnTo>
                    <a:lnTo>
                      <a:pt x="181" y="234"/>
                    </a:lnTo>
                    <a:lnTo>
                      <a:pt x="161" y="245"/>
                    </a:lnTo>
                    <a:lnTo>
                      <a:pt x="161" y="268"/>
                    </a:lnTo>
                    <a:lnTo>
                      <a:pt x="181" y="279"/>
                    </a:lnTo>
                    <a:close/>
                    <a:moveTo>
                      <a:pt x="236" y="279"/>
                    </a:moveTo>
                    <a:lnTo>
                      <a:pt x="256" y="268"/>
                    </a:lnTo>
                    <a:lnTo>
                      <a:pt x="256" y="245"/>
                    </a:lnTo>
                    <a:lnTo>
                      <a:pt x="236" y="234"/>
                    </a:lnTo>
                    <a:lnTo>
                      <a:pt x="215" y="245"/>
                    </a:lnTo>
                    <a:lnTo>
                      <a:pt x="215" y="268"/>
                    </a:lnTo>
                    <a:lnTo>
                      <a:pt x="236" y="279"/>
                    </a:lnTo>
                    <a:close/>
                    <a:moveTo>
                      <a:pt x="290" y="279"/>
                    </a:moveTo>
                    <a:lnTo>
                      <a:pt x="310" y="268"/>
                    </a:lnTo>
                    <a:lnTo>
                      <a:pt x="310" y="245"/>
                    </a:lnTo>
                    <a:lnTo>
                      <a:pt x="290" y="234"/>
                    </a:lnTo>
                    <a:lnTo>
                      <a:pt x="270" y="245"/>
                    </a:lnTo>
                    <a:lnTo>
                      <a:pt x="270" y="268"/>
                    </a:lnTo>
                    <a:lnTo>
                      <a:pt x="290" y="279"/>
                    </a:lnTo>
                    <a:close/>
                    <a:moveTo>
                      <a:pt x="344" y="279"/>
                    </a:moveTo>
                    <a:lnTo>
                      <a:pt x="365" y="268"/>
                    </a:lnTo>
                    <a:lnTo>
                      <a:pt x="365" y="245"/>
                    </a:lnTo>
                    <a:lnTo>
                      <a:pt x="344" y="234"/>
                    </a:lnTo>
                    <a:lnTo>
                      <a:pt x="324" y="245"/>
                    </a:lnTo>
                    <a:lnTo>
                      <a:pt x="324" y="268"/>
                    </a:lnTo>
                    <a:lnTo>
                      <a:pt x="344" y="279"/>
                    </a:lnTo>
                    <a:close/>
                    <a:moveTo>
                      <a:pt x="48" y="234"/>
                    </a:moveTo>
                    <a:lnTo>
                      <a:pt x="68" y="222"/>
                    </a:lnTo>
                    <a:lnTo>
                      <a:pt x="68" y="198"/>
                    </a:lnTo>
                    <a:lnTo>
                      <a:pt x="48" y="187"/>
                    </a:lnTo>
                    <a:lnTo>
                      <a:pt x="27" y="198"/>
                    </a:lnTo>
                    <a:lnTo>
                      <a:pt x="27" y="222"/>
                    </a:lnTo>
                    <a:lnTo>
                      <a:pt x="48" y="234"/>
                    </a:lnTo>
                    <a:close/>
                    <a:moveTo>
                      <a:pt x="99" y="234"/>
                    </a:moveTo>
                    <a:lnTo>
                      <a:pt x="120" y="222"/>
                    </a:lnTo>
                    <a:lnTo>
                      <a:pt x="120" y="198"/>
                    </a:lnTo>
                    <a:lnTo>
                      <a:pt x="99" y="187"/>
                    </a:lnTo>
                    <a:lnTo>
                      <a:pt x="82" y="198"/>
                    </a:lnTo>
                    <a:lnTo>
                      <a:pt x="82" y="222"/>
                    </a:lnTo>
                    <a:lnTo>
                      <a:pt x="99" y="234"/>
                    </a:lnTo>
                    <a:close/>
                    <a:moveTo>
                      <a:pt x="155" y="234"/>
                    </a:moveTo>
                    <a:lnTo>
                      <a:pt x="175" y="222"/>
                    </a:lnTo>
                    <a:lnTo>
                      <a:pt x="175" y="198"/>
                    </a:lnTo>
                    <a:lnTo>
                      <a:pt x="155" y="187"/>
                    </a:lnTo>
                    <a:lnTo>
                      <a:pt x="133" y="198"/>
                    </a:lnTo>
                    <a:lnTo>
                      <a:pt x="133" y="222"/>
                    </a:lnTo>
                    <a:lnTo>
                      <a:pt x="155" y="234"/>
                    </a:lnTo>
                    <a:close/>
                    <a:moveTo>
                      <a:pt x="208" y="234"/>
                    </a:moveTo>
                    <a:lnTo>
                      <a:pt x="229" y="222"/>
                    </a:lnTo>
                    <a:lnTo>
                      <a:pt x="229" y="198"/>
                    </a:lnTo>
                    <a:lnTo>
                      <a:pt x="208" y="187"/>
                    </a:lnTo>
                    <a:lnTo>
                      <a:pt x="188" y="198"/>
                    </a:lnTo>
                    <a:lnTo>
                      <a:pt x="188" y="222"/>
                    </a:lnTo>
                    <a:lnTo>
                      <a:pt x="208" y="234"/>
                    </a:lnTo>
                    <a:close/>
                    <a:moveTo>
                      <a:pt x="262" y="234"/>
                    </a:moveTo>
                    <a:lnTo>
                      <a:pt x="282" y="222"/>
                    </a:lnTo>
                    <a:lnTo>
                      <a:pt x="282" y="198"/>
                    </a:lnTo>
                    <a:lnTo>
                      <a:pt x="262" y="187"/>
                    </a:lnTo>
                    <a:lnTo>
                      <a:pt x="242" y="198"/>
                    </a:lnTo>
                    <a:lnTo>
                      <a:pt x="242" y="222"/>
                    </a:lnTo>
                    <a:lnTo>
                      <a:pt x="262" y="234"/>
                    </a:lnTo>
                    <a:close/>
                    <a:moveTo>
                      <a:pt x="317" y="234"/>
                    </a:moveTo>
                    <a:lnTo>
                      <a:pt x="338" y="222"/>
                    </a:lnTo>
                    <a:lnTo>
                      <a:pt x="338" y="198"/>
                    </a:lnTo>
                    <a:lnTo>
                      <a:pt x="317" y="187"/>
                    </a:lnTo>
                    <a:lnTo>
                      <a:pt x="296" y="198"/>
                    </a:lnTo>
                    <a:lnTo>
                      <a:pt x="296" y="222"/>
                    </a:lnTo>
                    <a:lnTo>
                      <a:pt x="317" y="234"/>
                    </a:lnTo>
                    <a:close/>
                    <a:moveTo>
                      <a:pt x="399" y="279"/>
                    </a:moveTo>
                    <a:lnTo>
                      <a:pt x="419" y="268"/>
                    </a:lnTo>
                    <a:lnTo>
                      <a:pt x="419" y="245"/>
                    </a:lnTo>
                    <a:lnTo>
                      <a:pt x="399" y="234"/>
                    </a:lnTo>
                    <a:lnTo>
                      <a:pt x="378" y="245"/>
                    </a:lnTo>
                    <a:lnTo>
                      <a:pt x="378" y="268"/>
                    </a:lnTo>
                    <a:lnTo>
                      <a:pt x="399" y="279"/>
                    </a:lnTo>
                    <a:close/>
                    <a:moveTo>
                      <a:pt x="371" y="140"/>
                    </a:moveTo>
                    <a:lnTo>
                      <a:pt x="391" y="128"/>
                    </a:lnTo>
                    <a:lnTo>
                      <a:pt x="391" y="105"/>
                    </a:lnTo>
                    <a:lnTo>
                      <a:pt x="371" y="94"/>
                    </a:lnTo>
                    <a:lnTo>
                      <a:pt x="351" y="105"/>
                    </a:lnTo>
                    <a:lnTo>
                      <a:pt x="351" y="128"/>
                    </a:lnTo>
                    <a:lnTo>
                      <a:pt x="371" y="140"/>
                    </a:lnTo>
                    <a:close/>
                    <a:moveTo>
                      <a:pt x="425" y="140"/>
                    </a:moveTo>
                    <a:lnTo>
                      <a:pt x="447" y="128"/>
                    </a:lnTo>
                    <a:lnTo>
                      <a:pt x="447" y="105"/>
                    </a:lnTo>
                    <a:lnTo>
                      <a:pt x="425" y="94"/>
                    </a:lnTo>
                    <a:lnTo>
                      <a:pt x="405" y="105"/>
                    </a:lnTo>
                    <a:lnTo>
                      <a:pt x="405" y="128"/>
                    </a:lnTo>
                    <a:lnTo>
                      <a:pt x="425" y="140"/>
                    </a:lnTo>
                    <a:close/>
                    <a:moveTo>
                      <a:pt x="21" y="187"/>
                    </a:moveTo>
                    <a:lnTo>
                      <a:pt x="41" y="174"/>
                    </a:lnTo>
                    <a:lnTo>
                      <a:pt x="41" y="152"/>
                    </a:lnTo>
                    <a:lnTo>
                      <a:pt x="21" y="14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21" y="187"/>
                    </a:lnTo>
                    <a:close/>
                    <a:moveTo>
                      <a:pt x="74" y="187"/>
                    </a:moveTo>
                    <a:lnTo>
                      <a:pt x="93" y="174"/>
                    </a:lnTo>
                    <a:lnTo>
                      <a:pt x="93" y="152"/>
                    </a:lnTo>
                    <a:lnTo>
                      <a:pt x="74" y="140"/>
                    </a:lnTo>
                    <a:lnTo>
                      <a:pt x="54" y="152"/>
                    </a:lnTo>
                    <a:lnTo>
                      <a:pt x="54" y="174"/>
                    </a:lnTo>
                    <a:lnTo>
                      <a:pt x="74" y="187"/>
                    </a:lnTo>
                    <a:close/>
                    <a:moveTo>
                      <a:pt x="127" y="187"/>
                    </a:moveTo>
                    <a:lnTo>
                      <a:pt x="147" y="174"/>
                    </a:lnTo>
                    <a:lnTo>
                      <a:pt x="147" y="152"/>
                    </a:lnTo>
                    <a:lnTo>
                      <a:pt x="127" y="140"/>
                    </a:lnTo>
                    <a:lnTo>
                      <a:pt x="107" y="152"/>
                    </a:lnTo>
                    <a:lnTo>
                      <a:pt x="107" y="174"/>
                    </a:lnTo>
                    <a:lnTo>
                      <a:pt x="127" y="187"/>
                    </a:lnTo>
                    <a:close/>
                    <a:moveTo>
                      <a:pt x="181" y="187"/>
                    </a:moveTo>
                    <a:lnTo>
                      <a:pt x="201" y="174"/>
                    </a:lnTo>
                    <a:lnTo>
                      <a:pt x="201" y="152"/>
                    </a:lnTo>
                    <a:lnTo>
                      <a:pt x="181" y="140"/>
                    </a:lnTo>
                    <a:lnTo>
                      <a:pt x="161" y="152"/>
                    </a:lnTo>
                    <a:lnTo>
                      <a:pt x="161" y="174"/>
                    </a:lnTo>
                    <a:lnTo>
                      <a:pt x="181" y="187"/>
                    </a:lnTo>
                    <a:close/>
                    <a:moveTo>
                      <a:pt x="236" y="187"/>
                    </a:moveTo>
                    <a:lnTo>
                      <a:pt x="256" y="174"/>
                    </a:lnTo>
                    <a:lnTo>
                      <a:pt x="256" y="152"/>
                    </a:lnTo>
                    <a:lnTo>
                      <a:pt x="236" y="140"/>
                    </a:lnTo>
                    <a:lnTo>
                      <a:pt x="215" y="152"/>
                    </a:lnTo>
                    <a:lnTo>
                      <a:pt x="215" y="174"/>
                    </a:lnTo>
                    <a:lnTo>
                      <a:pt x="236" y="187"/>
                    </a:lnTo>
                    <a:close/>
                    <a:moveTo>
                      <a:pt x="290" y="187"/>
                    </a:moveTo>
                    <a:lnTo>
                      <a:pt x="310" y="174"/>
                    </a:lnTo>
                    <a:lnTo>
                      <a:pt x="310" y="152"/>
                    </a:lnTo>
                    <a:lnTo>
                      <a:pt x="290" y="140"/>
                    </a:lnTo>
                    <a:lnTo>
                      <a:pt x="270" y="152"/>
                    </a:lnTo>
                    <a:lnTo>
                      <a:pt x="270" y="174"/>
                    </a:lnTo>
                    <a:lnTo>
                      <a:pt x="290" y="187"/>
                    </a:lnTo>
                    <a:close/>
                    <a:moveTo>
                      <a:pt x="344" y="187"/>
                    </a:moveTo>
                    <a:lnTo>
                      <a:pt x="365" y="174"/>
                    </a:lnTo>
                    <a:lnTo>
                      <a:pt x="365" y="152"/>
                    </a:lnTo>
                    <a:lnTo>
                      <a:pt x="344" y="140"/>
                    </a:lnTo>
                    <a:lnTo>
                      <a:pt x="324" y="152"/>
                    </a:lnTo>
                    <a:lnTo>
                      <a:pt x="324" y="174"/>
                    </a:lnTo>
                    <a:lnTo>
                      <a:pt x="344" y="187"/>
                    </a:lnTo>
                    <a:close/>
                    <a:moveTo>
                      <a:pt x="262" y="47"/>
                    </a:moveTo>
                    <a:lnTo>
                      <a:pt x="282" y="34"/>
                    </a:lnTo>
                    <a:lnTo>
                      <a:pt x="282" y="11"/>
                    </a:lnTo>
                    <a:lnTo>
                      <a:pt x="262" y="0"/>
                    </a:lnTo>
                    <a:lnTo>
                      <a:pt x="242" y="11"/>
                    </a:lnTo>
                    <a:lnTo>
                      <a:pt x="242" y="34"/>
                    </a:lnTo>
                    <a:lnTo>
                      <a:pt x="262" y="47"/>
                    </a:lnTo>
                    <a:close/>
                    <a:moveTo>
                      <a:pt x="290" y="94"/>
                    </a:moveTo>
                    <a:lnTo>
                      <a:pt x="310" y="82"/>
                    </a:lnTo>
                    <a:lnTo>
                      <a:pt x="310" y="58"/>
                    </a:lnTo>
                    <a:lnTo>
                      <a:pt x="290" y="47"/>
                    </a:lnTo>
                    <a:lnTo>
                      <a:pt x="270" y="58"/>
                    </a:lnTo>
                    <a:lnTo>
                      <a:pt x="270" y="82"/>
                    </a:lnTo>
                    <a:lnTo>
                      <a:pt x="290" y="94"/>
                    </a:lnTo>
                    <a:close/>
                    <a:moveTo>
                      <a:pt x="48" y="140"/>
                    </a:moveTo>
                    <a:lnTo>
                      <a:pt x="68" y="128"/>
                    </a:lnTo>
                    <a:lnTo>
                      <a:pt x="68" y="105"/>
                    </a:lnTo>
                    <a:lnTo>
                      <a:pt x="48" y="94"/>
                    </a:lnTo>
                    <a:lnTo>
                      <a:pt x="27" y="105"/>
                    </a:lnTo>
                    <a:lnTo>
                      <a:pt x="27" y="128"/>
                    </a:lnTo>
                    <a:lnTo>
                      <a:pt x="48" y="140"/>
                    </a:lnTo>
                    <a:close/>
                    <a:moveTo>
                      <a:pt x="99" y="140"/>
                    </a:moveTo>
                    <a:lnTo>
                      <a:pt x="120" y="128"/>
                    </a:lnTo>
                    <a:lnTo>
                      <a:pt x="120" y="105"/>
                    </a:lnTo>
                    <a:lnTo>
                      <a:pt x="99" y="94"/>
                    </a:lnTo>
                    <a:lnTo>
                      <a:pt x="82" y="105"/>
                    </a:lnTo>
                    <a:lnTo>
                      <a:pt x="82" y="128"/>
                    </a:lnTo>
                    <a:lnTo>
                      <a:pt x="99" y="140"/>
                    </a:lnTo>
                    <a:close/>
                    <a:moveTo>
                      <a:pt x="155" y="140"/>
                    </a:moveTo>
                    <a:lnTo>
                      <a:pt x="175" y="128"/>
                    </a:lnTo>
                    <a:lnTo>
                      <a:pt x="175" y="105"/>
                    </a:lnTo>
                    <a:lnTo>
                      <a:pt x="155" y="94"/>
                    </a:lnTo>
                    <a:lnTo>
                      <a:pt x="133" y="105"/>
                    </a:lnTo>
                    <a:lnTo>
                      <a:pt x="133" y="128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29" y="128"/>
                    </a:lnTo>
                    <a:lnTo>
                      <a:pt x="229" y="105"/>
                    </a:lnTo>
                    <a:lnTo>
                      <a:pt x="208" y="94"/>
                    </a:lnTo>
                    <a:lnTo>
                      <a:pt x="188" y="105"/>
                    </a:lnTo>
                    <a:lnTo>
                      <a:pt x="188" y="128"/>
                    </a:lnTo>
                    <a:lnTo>
                      <a:pt x="208" y="140"/>
                    </a:lnTo>
                    <a:close/>
                    <a:moveTo>
                      <a:pt x="155" y="47"/>
                    </a:moveTo>
                    <a:lnTo>
                      <a:pt x="175" y="34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3" y="11"/>
                    </a:lnTo>
                    <a:lnTo>
                      <a:pt x="133" y="34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29" y="34"/>
                    </a:lnTo>
                    <a:lnTo>
                      <a:pt x="229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4"/>
                    </a:lnTo>
                    <a:lnTo>
                      <a:pt x="208" y="47"/>
                    </a:lnTo>
                    <a:close/>
                    <a:moveTo>
                      <a:pt x="21" y="94"/>
                    </a:moveTo>
                    <a:lnTo>
                      <a:pt x="41" y="82"/>
                    </a:lnTo>
                    <a:lnTo>
                      <a:pt x="41" y="58"/>
                    </a:lnTo>
                    <a:lnTo>
                      <a:pt x="21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1" y="94"/>
                    </a:lnTo>
                    <a:close/>
                    <a:moveTo>
                      <a:pt x="74" y="94"/>
                    </a:moveTo>
                    <a:lnTo>
                      <a:pt x="93" y="82"/>
                    </a:lnTo>
                    <a:lnTo>
                      <a:pt x="93" y="58"/>
                    </a:lnTo>
                    <a:lnTo>
                      <a:pt x="74" y="47"/>
                    </a:lnTo>
                    <a:lnTo>
                      <a:pt x="54" y="58"/>
                    </a:lnTo>
                    <a:lnTo>
                      <a:pt x="54" y="82"/>
                    </a:lnTo>
                    <a:lnTo>
                      <a:pt x="74" y="94"/>
                    </a:lnTo>
                    <a:close/>
                    <a:moveTo>
                      <a:pt x="127" y="94"/>
                    </a:moveTo>
                    <a:lnTo>
                      <a:pt x="147" y="82"/>
                    </a:lnTo>
                    <a:lnTo>
                      <a:pt x="147" y="58"/>
                    </a:lnTo>
                    <a:lnTo>
                      <a:pt x="127" y="47"/>
                    </a:lnTo>
                    <a:lnTo>
                      <a:pt x="107" y="58"/>
                    </a:lnTo>
                    <a:lnTo>
                      <a:pt x="107" y="82"/>
                    </a:lnTo>
                    <a:lnTo>
                      <a:pt x="127" y="94"/>
                    </a:lnTo>
                    <a:close/>
                    <a:moveTo>
                      <a:pt x="48" y="47"/>
                    </a:moveTo>
                    <a:lnTo>
                      <a:pt x="68" y="34"/>
                    </a:lnTo>
                    <a:lnTo>
                      <a:pt x="68" y="11"/>
                    </a:lnTo>
                    <a:lnTo>
                      <a:pt x="48" y="0"/>
                    </a:lnTo>
                    <a:lnTo>
                      <a:pt x="27" y="11"/>
                    </a:lnTo>
                    <a:lnTo>
                      <a:pt x="27" y="34"/>
                    </a:lnTo>
                    <a:lnTo>
                      <a:pt x="48" y="47"/>
                    </a:lnTo>
                    <a:close/>
                    <a:moveTo>
                      <a:pt x="99" y="47"/>
                    </a:moveTo>
                    <a:lnTo>
                      <a:pt x="120" y="34"/>
                    </a:lnTo>
                    <a:lnTo>
                      <a:pt x="120" y="11"/>
                    </a:lnTo>
                    <a:lnTo>
                      <a:pt x="99" y="0"/>
                    </a:lnTo>
                    <a:lnTo>
                      <a:pt x="82" y="11"/>
                    </a:lnTo>
                    <a:lnTo>
                      <a:pt x="82" y="34"/>
                    </a:lnTo>
                    <a:lnTo>
                      <a:pt x="99" y="47"/>
                    </a:lnTo>
                    <a:close/>
                    <a:moveTo>
                      <a:pt x="181" y="94"/>
                    </a:moveTo>
                    <a:lnTo>
                      <a:pt x="201" y="82"/>
                    </a:lnTo>
                    <a:lnTo>
                      <a:pt x="201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4"/>
                    </a:lnTo>
                    <a:close/>
                    <a:moveTo>
                      <a:pt x="236" y="94"/>
                    </a:moveTo>
                    <a:lnTo>
                      <a:pt x="256" y="82"/>
                    </a:lnTo>
                    <a:lnTo>
                      <a:pt x="256" y="58"/>
                    </a:lnTo>
                    <a:lnTo>
                      <a:pt x="236" y="47"/>
                    </a:lnTo>
                    <a:lnTo>
                      <a:pt x="215" y="58"/>
                    </a:lnTo>
                    <a:lnTo>
                      <a:pt x="215" y="82"/>
                    </a:lnTo>
                    <a:lnTo>
                      <a:pt x="236" y="94"/>
                    </a:lnTo>
                    <a:close/>
                    <a:moveTo>
                      <a:pt x="262" y="140"/>
                    </a:moveTo>
                    <a:lnTo>
                      <a:pt x="282" y="128"/>
                    </a:lnTo>
                    <a:lnTo>
                      <a:pt x="282" y="105"/>
                    </a:lnTo>
                    <a:lnTo>
                      <a:pt x="262" y="94"/>
                    </a:lnTo>
                    <a:lnTo>
                      <a:pt x="242" y="105"/>
                    </a:lnTo>
                    <a:lnTo>
                      <a:pt x="242" y="128"/>
                    </a:lnTo>
                    <a:lnTo>
                      <a:pt x="262" y="140"/>
                    </a:lnTo>
                    <a:close/>
                    <a:moveTo>
                      <a:pt x="317" y="140"/>
                    </a:moveTo>
                    <a:lnTo>
                      <a:pt x="338" y="128"/>
                    </a:lnTo>
                    <a:lnTo>
                      <a:pt x="338" y="105"/>
                    </a:lnTo>
                    <a:lnTo>
                      <a:pt x="317" y="94"/>
                    </a:lnTo>
                    <a:lnTo>
                      <a:pt x="296" y="105"/>
                    </a:lnTo>
                    <a:lnTo>
                      <a:pt x="296" y="128"/>
                    </a:lnTo>
                    <a:lnTo>
                      <a:pt x="317" y="140"/>
                    </a:lnTo>
                    <a:close/>
                    <a:moveTo>
                      <a:pt x="399" y="187"/>
                    </a:moveTo>
                    <a:lnTo>
                      <a:pt x="419" y="174"/>
                    </a:lnTo>
                    <a:lnTo>
                      <a:pt x="419" y="152"/>
                    </a:lnTo>
                    <a:lnTo>
                      <a:pt x="399" y="140"/>
                    </a:lnTo>
                    <a:lnTo>
                      <a:pt x="378" y="152"/>
                    </a:lnTo>
                    <a:lnTo>
                      <a:pt x="378" y="174"/>
                    </a:lnTo>
                    <a:lnTo>
                      <a:pt x="399" y="187"/>
                    </a:lnTo>
                    <a:close/>
                    <a:moveTo>
                      <a:pt x="480" y="234"/>
                    </a:moveTo>
                    <a:lnTo>
                      <a:pt x="498" y="222"/>
                    </a:lnTo>
                    <a:lnTo>
                      <a:pt x="498" y="198"/>
                    </a:lnTo>
                    <a:lnTo>
                      <a:pt x="480" y="187"/>
                    </a:lnTo>
                    <a:lnTo>
                      <a:pt x="459" y="198"/>
                    </a:lnTo>
                    <a:lnTo>
                      <a:pt x="459" y="222"/>
                    </a:lnTo>
                    <a:lnTo>
                      <a:pt x="480" y="234"/>
                    </a:lnTo>
                    <a:close/>
                    <a:moveTo>
                      <a:pt x="505" y="279"/>
                    </a:moveTo>
                    <a:lnTo>
                      <a:pt x="525" y="268"/>
                    </a:lnTo>
                    <a:lnTo>
                      <a:pt x="525" y="245"/>
                    </a:lnTo>
                    <a:lnTo>
                      <a:pt x="505" y="234"/>
                    </a:lnTo>
                    <a:lnTo>
                      <a:pt x="484" y="245"/>
                    </a:lnTo>
                    <a:lnTo>
                      <a:pt x="484" y="268"/>
                    </a:lnTo>
                    <a:lnTo>
                      <a:pt x="505" y="279"/>
                    </a:lnTo>
                    <a:close/>
                    <a:moveTo>
                      <a:pt x="532" y="421"/>
                    </a:moveTo>
                    <a:lnTo>
                      <a:pt x="552" y="409"/>
                    </a:lnTo>
                    <a:lnTo>
                      <a:pt x="552" y="384"/>
                    </a:lnTo>
                    <a:lnTo>
                      <a:pt x="532" y="373"/>
                    </a:lnTo>
                    <a:lnTo>
                      <a:pt x="512" y="384"/>
                    </a:lnTo>
                    <a:lnTo>
                      <a:pt x="512" y="409"/>
                    </a:lnTo>
                    <a:lnTo>
                      <a:pt x="532" y="421"/>
                    </a:lnTo>
                    <a:close/>
                    <a:moveTo>
                      <a:pt x="532" y="327"/>
                    </a:moveTo>
                    <a:lnTo>
                      <a:pt x="552" y="316"/>
                    </a:lnTo>
                    <a:lnTo>
                      <a:pt x="552" y="292"/>
                    </a:lnTo>
                    <a:lnTo>
                      <a:pt x="532" y="280"/>
                    </a:lnTo>
                    <a:lnTo>
                      <a:pt x="512" y="292"/>
                    </a:lnTo>
                    <a:lnTo>
                      <a:pt x="512" y="316"/>
                    </a:lnTo>
                    <a:lnTo>
                      <a:pt x="532" y="327"/>
                    </a:lnTo>
                    <a:close/>
                    <a:moveTo>
                      <a:pt x="559" y="373"/>
                    </a:moveTo>
                    <a:lnTo>
                      <a:pt x="579" y="361"/>
                    </a:lnTo>
                    <a:lnTo>
                      <a:pt x="579" y="338"/>
                    </a:lnTo>
                    <a:lnTo>
                      <a:pt x="559" y="327"/>
                    </a:lnTo>
                    <a:lnTo>
                      <a:pt x="539" y="338"/>
                    </a:lnTo>
                    <a:lnTo>
                      <a:pt x="539" y="361"/>
                    </a:lnTo>
                    <a:lnTo>
                      <a:pt x="559" y="373"/>
                    </a:lnTo>
                    <a:close/>
                    <a:moveTo>
                      <a:pt x="587" y="421"/>
                    </a:moveTo>
                    <a:lnTo>
                      <a:pt x="607" y="409"/>
                    </a:lnTo>
                    <a:lnTo>
                      <a:pt x="607" y="384"/>
                    </a:lnTo>
                    <a:lnTo>
                      <a:pt x="587" y="373"/>
                    </a:lnTo>
                    <a:lnTo>
                      <a:pt x="566" y="384"/>
                    </a:lnTo>
                    <a:lnTo>
                      <a:pt x="566" y="409"/>
                    </a:lnTo>
                    <a:lnTo>
                      <a:pt x="587" y="421"/>
                    </a:lnTo>
                    <a:close/>
                    <a:moveTo>
                      <a:pt x="829" y="466"/>
                    </a:moveTo>
                    <a:lnTo>
                      <a:pt x="849" y="455"/>
                    </a:lnTo>
                    <a:lnTo>
                      <a:pt x="849" y="432"/>
                    </a:lnTo>
                    <a:lnTo>
                      <a:pt x="829" y="421"/>
                    </a:lnTo>
                    <a:lnTo>
                      <a:pt x="809" y="432"/>
                    </a:lnTo>
                    <a:lnTo>
                      <a:pt x="809" y="455"/>
                    </a:lnTo>
                    <a:lnTo>
                      <a:pt x="829" y="466"/>
                    </a:lnTo>
                    <a:close/>
                    <a:moveTo>
                      <a:pt x="883" y="466"/>
                    </a:moveTo>
                    <a:lnTo>
                      <a:pt x="904" y="455"/>
                    </a:lnTo>
                    <a:lnTo>
                      <a:pt x="904" y="432"/>
                    </a:lnTo>
                    <a:lnTo>
                      <a:pt x="883" y="421"/>
                    </a:lnTo>
                    <a:lnTo>
                      <a:pt x="863" y="432"/>
                    </a:lnTo>
                    <a:lnTo>
                      <a:pt x="863" y="455"/>
                    </a:lnTo>
                    <a:lnTo>
                      <a:pt x="883" y="466"/>
                    </a:lnTo>
                    <a:close/>
                    <a:moveTo>
                      <a:pt x="938" y="466"/>
                    </a:moveTo>
                    <a:lnTo>
                      <a:pt x="958" y="455"/>
                    </a:lnTo>
                    <a:lnTo>
                      <a:pt x="958" y="432"/>
                    </a:lnTo>
                    <a:lnTo>
                      <a:pt x="938" y="421"/>
                    </a:lnTo>
                    <a:lnTo>
                      <a:pt x="916" y="432"/>
                    </a:lnTo>
                    <a:lnTo>
                      <a:pt x="916" y="455"/>
                    </a:lnTo>
                    <a:lnTo>
                      <a:pt x="938" y="466"/>
                    </a:lnTo>
                    <a:close/>
                    <a:moveTo>
                      <a:pt x="992" y="559"/>
                    </a:moveTo>
                    <a:lnTo>
                      <a:pt x="1012" y="548"/>
                    </a:lnTo>
                    <a:lnTo>
                      <a:pt x="1012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48"/>
                    </a:lnTo>
                    <a:lnTo>
                      <a:pt x="992" y="559"/>
                    </a:lnTo>
                    <a:close/>
                    <a:moveTo>
                      <a:pt x="1045" y="559"/>
                    </a:moveTo>
                    <a:lnTo>
                      <a:pt x="1064" y="548"/>
                    </a:lnTo>
                    <a:lnTo>
                      <a:pt x="1064" y="525"/>
                    </a:lnTo>
                    <a:lnTo>
                      <a:pt x="1045" y="514"/>
                    </a:lnTo>
                    <a:lnTo>
                      <a:pt x="1025" y="525"/>
                    </a:lnTo>
                    <a:lnTo>
                      <a:pt x="1025" y="548"/>
                    </a:lnTo>
                    <a:lnTo>
                      <a:pt x="1045" y="559"/>
                    </a:lnTo>
                    <a:close/>
                    <a:moveTo>
                      <a:pt x="801" y="605"/>
                    </a:moveTo>
                    <a:lnTo>
                      <a:pt x="821" y="594"/>
                    </a:lnTo>
                    <a:lnTo>
                      <a:pt x="821" y="571"/>
                    </a:lnTo>
                    <a:lnTo>
                      <a:pt x="801" y="559"/>
                    </a:lnTo>
                    <a:lnTo>
                      <a:pt x="781" y="571"/>
                    </a:lnTo>
                    <a:lnTo>
                      <a:pt x="781" y="594"/>
                    </a:lnTo>
                    <a:lnTo>
                      <a:pt x="801" y="605"/>
                    </a:lnTo>
                    <a:close/>
                    <a:moveTo>
                      <a:pt x="856" y="605"/>
                    </a:moveTo>
                    <a:lnTo>
                      <a:pt x="876" y="594"/>
                    </a:lnTo>
                    <a:lnTo>
                      <a:pt x="876" y="571"/>
                    </a:lnTo>
                    <a:lnTo>
                      <a:pt x="856" y="559"/>
                    </a:lnTo>
                    <a:lnTo>
                      <a:pt x="835" y="571"/>
                    </a:lnTo>
                    <a:lnTo>
                      <a:pt x="835" y="594"/>
                    </a:lnTo>
                    <a:lnTo>
                      <a:pt x="856" y="605"/>
                    </a:lnTo>
                    <a:close/>
                    <a:moveTo>
                      <a:pt x="910" y="605"/>
                    </a:moveTo>
                    <a:lnTo>
                      <a:pt x="930" y="594"/>
                    </a:lnTo>
                    <a:lnTo>
                      <a:pt x="930" y="571"/>
                    </a:lnTo>
                    <a:lnTo>
                      <a:pt x="910" y="559"/>
                    </a:lnTo>
                    <a:lnTo>
                      <a:pt x="890" y="571"/>
                    </a:lnTo>
                    <a:lnTo>
                      <a:pt x="890" y="594"/>
                    </a:lnTo>
                    <a:lnTo>
                      <a:pt x="910" y="605"/>
                    </a:lnTo>
                    <a:close/>
                    <a:moveTo>
                      <a:pt x="964" y="605"/>
                    </a:moveTo>
                    <a:lnTo>
                      <a:pt x="985" y="594"/>
                    </a:lnTo>
                    <a:lnTo>
                      <a:pt x="985" y="571"/>
                    </a:lnTo>
                    <a:lnTo>
                      <a:pt x="964" y="559"/>
                    </a:lnTo>
                    <a:lnTo>
                      <a:pt x="944" y="571"/>
                    </a:lnTo>
                    <a:lnTo>
                      <a:pt x="944" y="594"/>
                    </a:lnTo>
                    <a:lnTo>
                      <a:pt x="964" y="605"/>
                    </a:lnTo>
                    <a:close/>
                    <a:moveTo>
                      <a:pt x="1019" y="605"/>
                    </a:moveTo>
                    <a:lnTo>
                      <a:pt x="1039" y="594"/>
                    </a:lnTo>
                    <a:lnTo>
                      <a:pt x="1039" y="571"/>
                    </a:lnTo>
                    <a:lnTo>
                      <a:pt x="1019" y="559"/>
                    </a:lnTo>
                    <a:lnTo>
                      <a:pt x="998" y="571"/>
                    </a:lnTo>
                    <a:lnTo>
                      <a:pt x="998" y="594"/>
                    </a:lnTo>
                    <a:lnTo>
                      <a:pt x="1019" y="605"/>
                    </a:lnTo>
                    <a:close/>
                    <a:moveTo>
                      <a:pt x="1070" y="605"/>
                    </a:moveTo>
                    <a:lnTo>
                      <a:pt x="1091" y="594"/>
                    </a:lnTo>
                    <a:lnTo>
                      <a:pt x="1091" y="571"/>
                    </a:lnTo>
                    <a:lnTo>
                      <a:pt x="1070" y="559"/>
                    </a:lnTo>
                    <a:lnTo>
                      <a:pt x="1053" y="571"/>
                    </a:lnTo>
                    <a:lnTo>
                      <a:pt x="1053" y="594"/>
                    </a:lnTo>
                    <a:lnTo>
                      <a:pt x="1070" y="605"/>
                    </a:lnTo>
                    <a:close/>
                    <a:moveTo>
                      <a:pt x="505" y="653"/>
                    </a:moveTo>
                    <a:lnTo>
                      <a:pt x="525" y="641"/>
                    </a:lnTo>
                    <a:lnTo>
                      <a:pt x="525" y="619"/>
                    </a:lnTo>
                    <a:lnTo>
                      <a:pt x="505" y="605"/>
                    </a:lnTo>
                    <a:lnTo>
                      <a:pt x="484" y="619"/>
                    </a:lnTo>
                    <a:lnTo>
                      <a:pt x="484" y="641"/>
                    </a:lnTo>
                    <a:lnTo>
                      <a:pt x="505" y="653"/>
                    </a:lnTo>
                    <a:close/>
                    <a:moveTo>
                      <a:pt x="559" y="653"/>
                    </a:moveTo>
                    <a:lnTo>
                      <a:pt x="579" y="641"/>
                    </a:lnTo>
                    <a:lnTo>
                      <a:pt x="579" y="619"/>
                    </a:lnTo>
                    <a:lnTo>
                      <a:pt x="559" y="605"/>
                    </a:lnTo>
                    <a:lnTo>
                      <a:pt x="539" y="619"/>
                    </a:lnTo>
                    <a:lnTo>
                      <a:pt x="539" y="641"/>
                    </a:lnTo>
                    <a:lnTo>
                      <a:pt x="559" y="653"/>
                    </a:lnTo>
                    <a:close/>
                    <a:moveTo>
                      <a:pt x="613" y="653"/>
                    </a:moveTo>
                    <a:lnTo>
                      <a:pt x="634" y="641"/>
                    </a:lnTo>
                    <a:lnTo>
                      <a:pt x="634" y="619"/>
                    </a:lnTo>
                    <a:lnTo>
                      <a:pt x="613" y="605"/>
                    </a:lnTo>
                    <a:lnTo>
                      <a:pt x="593" y="619"/>
                    </a:lnTo>
                    <a:lnTo>
                      <a:pt x="593" y="641"/>
                    </a:lnTo>
                    <a:lnTo>
                      <a:pt x="613" y="653"/>
                    </a:lnTo>
                    <a:close/>
                    <a:moveTo>
                      <a:pt x="666" y="653"/>
                    </a:moveTo>
                    <a:lnTo>
                      <a:pt x="686" y="641"/>
                    </a:lnTo>
                    <a:lnTo>
                      <a:pt x="686" y="619"/>
                    </a:lnTo>
                    <a:lnTo>
                      <a:pt x="666" y="605"/>
                    </a:lnTo>
                    <a:lnTo>
                      <a:pt x="647" y="619"/>
                    </a:lnTo>
                    <a:lnTo>
                      <a:pt x="647" y="641"/>
                    </a:lnTo>
                    <a:lnTo>
                      <a:pt x="666" y="653"/>
                    </a:lnTo>
                    <a:close/>
                    <a:moveTo>
                      <a:pt x="720" y="653"/>
                    </a:moveTo>
                    <a:lnTo>
                      <a:pt x="740" y="641"/>
                    </a:lnTo>
                    <a:lnTo>
                      <a:pt x="740" y="619"/>
                    </a:lnTo>
                    <a:lnTo>
                      <a:pt x="720" y="605"/>
                    </a:lnTo>
                    <a:lnTo>
                      <a:pt x="700" y="619"/>
                    </a:lnTo>
                    <a:lnTo>
                      <a:pt x="700" y="641"/>
                    </a:lnTo>
                    <a:lnTo>
                      <a:pt x="720" y="653"/>
                    </a:lnTo>
                    <a:close/>
                    <a:moveTo>
                      <a:pt x="21" y="653"/>
                    </a:moveTo>
                    <a:lnTo>
                      <a:pt x="41" y="641"/>
                    </a:lnTo>
                    <a:lnTo>
                      <a:pt x="41" y="619"/>
                    </a:lnTo>
                    <a:lnTo>
                      <a:pt x="21" y="605"/>
                    </a:lnTo>
                    <a:lnTo>
                      <a:pt x="0" y="619"/>
                    </a:lnTo>
                    <a:lnTo>
                      <a:pt x="0" y="641"/>
                    </a:lnTo>
                    <a:lnTo>
                      <a:pt x="21" y="653"/>
                    </a:lnTo>
                    <a:close/>
                    <a:moveTo>
                      <a:pt x="74" y="653"/>
                    </a:moveTo>
                    <a:lnTo>
                      <a:pt x="93" y="641"/>
                    </a:lnTo>
                    <a:lnTo>
                      <a:pt x="93" y="619"/>
                    </a:lnTo>
                    <a:lnTo>
                      <a:pt x="74" y="605"/>
                    </a:lnTo>
                    <a:lnTo>
                      <a:pt x="54" y="619"/>
                    </a:lnTo>
                    <a:lnTo>
                      <a:pt x="54" y="641"/>
                    </a:lnTo>
                    <a:lnTo>
                      <a:pt x="74" y="653"/>
                    </a:lnTo>
                    <a:close/>
                    <a:moveTo>
                      <a:pt x="127" y="653"/>
                    </a:moveTo>
                    <a:lnTo>
                      <a:pt x="147" y="641"/>
                    </a:lnTo>
                    <a:lnTo>
                      <a:pt x="147" y="619"/>
                    </a:lnTo>
                    <a:lnTo>
                      <a:pt x="127" y="605"/>
                    </a:lnTo>
                    <a:lnTo>
                      <a:pt x="107" y="619"/>
                    </a:lnTo>
                    <a:lnTo>
                      <a:pt x="107" y="641"/>
                    </a:lnTo>
                    <a:lnTo>
                      <a:pt x="127" y="653"/>
                    </a:lnTo>
                    <a:close/>
                    <a:moveTo>
                      <a:pt x="181" y="653"/>
                    </a:moveTo>
                    <a:lnTo>
                      <a:pt x="201" y="641"/>
                    </a:lnTo>
                    <a:lnTo>
                      <a:pt x="201" y="619"/>
                    </a:lnTo>
                    <a:lnTo>
                      <a:pt x="181" y="605"/>
                    </a:lnTo>
                    <a:lnTo>
                      <a:pt x="161" y="619"/>
                    </a:lnTo>
                    <a:lnTo>
                      <a:pt x="161" y="641"/>
                    </a:lnTo>
                    <a:lnTo>
                      <a:pt x="181" y="653"/>
                    </a:lnTo>
                    <a:close/>
                    <a:moveTo>
                      <a:pt x="236" y="653"/>
                    </a:moveTo>
                    <a:lnTo>
                      <a:pt x="256" y="641"/>
                    </a:lnTo>
                    <a:lnTo>
                      <a:pt x="256" y="619"/>
                    </a:lnTo>
                    <a:lnTo>
                      <a:pt x="236" y="605"/>
                    </a:lnTo>
                    <a:lnTo>
                      <a:pt x="215" y="619"/>
                    </a:lnTo>
                    <a:lnTo>
                      <a:pt x="215" y="641"/>
                    </a:lnTo>
                    <a:lnTo>
                      <a:pt x="236" y="653"/>
                    </a:lnTo>
                    <a:close/>
                    <a:moveTo>
                      <a:pt x="290" y="653"/>
                    </a:moveTo>
                    <a:lnTo>
                      <a:pt x="310" y="641"/>
                    </a:lnTo>
                    <a:lnTo>
                      <a:pt x="310" y="619"/>
                    </a:lnTo>
                    <a:lnTo>
                      <a:pt x="290" y="605"/>
                    </a:lnTo>
                    <a:lnTo>
                      <a:pt x="270" y="619"/>
                    </a:lnTo>
                    <a:lnTo>
                      <a:pt x="270" y="641"/>
                    </a:lnTo>
                    <a:lnTo>
                      <a:pt x="290" y="653"/>
                    </a:lnTo>
                    <a:close/>
                    <a:moveTo>
                      <a:pt x="480" y="605"/>
                    </a:moveTo>
                    <a:lnTo>
                      <a:pt x="498" y="594"/>
                    </a:lnTo>
                    <a:lnTo>
                      <a:pt x="498" y="571"/>
                    </a:lnTo>
                    <a:lnTo>
                      <a:pt x="480" y="559"/>
                    </a:lnTo>
                    <a:lnTo>
                      <a:pt x="459" y="571"/>
                    </a:lnTo>
                    <a:lnTo>
                      <a:pt x="459" y="594"/>
                    </a:lnTo>
                    <a:lnTo>
                      <a:pt x="480" y="605"/>
                    </a:lnTo>
                    <a:close/>
                    <a:moveTo>
                      <a:pt x="532" y="605"/>
                    </a:moveTo>
                    <a:lnTo>
                      <a:pt x="552" y="594"/>
                    </a:lnTo>
                    <a:lnTo>
                      <a:pt x="552" y="571"/>
                    </a:lnTo>
                    <a:lnTo>
                      <a:pt x="532" y="559"/>
                    </a:lnTo>
                    <a:lnTo>
                      <a:pt x="512" y="571"/>
                    </a:lnTo>
                    <a:lnTo>
                      <a:pt x="512" y="594"/>
                    </a:lnTo>
                    <a:lnTo>
                      <a:pt x="532" y="605"/>
                    </a:lnTo>
                    <a:close/>
                    <a:moveTo>
                      <a:pt x="587" y="605"/>
                    </a:moveTo>
                    <a:lnTo>
                      <a:pt x="607" y="594"/>
                    </a:lnTo>
                    <a:lnTo>
                      <a:pt x="607" y="571"/>
                    </a:lnTo>
                    <a:lnTo>
                      <a:pt x="587" y="559"/>
                    </a:lnTo>
                    <a:lnTo>
                      <a:pt x="566" y="571"/>
                    </a:lnTo>
                    <a:lnTo>
                      <a:pt x="566" y="594"/>
                    </a:lnTo>
                    <a:lnTo>
                      <a:pt x="587" y="605"/>
                    </a:lnTo>
                    <a:close/>
                    <a:moveTo>
                      <a:pt x="641" y="605"/>
                    </a:moveTo>
                    <a:lnTo>
                      <a:pt x="658" y="594"/>
                    </a:lnTo>
                    <a:lnTo>
                      <a:pt x="658" y="571"/>
                    </a:lnTo>
                    <a:lnTo>
                      <a:pt x="641" y="559"/>
                    </a:lnTo>
                    <a:lnTo>
                      <a:pt x="621" y="571"/>
                    </a:lnTo>
                    <a:lnTo>
                      <a:pt x="621" y="594"/>
                    </a:lnTo>
                    <a:lnTo>
                      <a:pt x="641" y="605"/>
                    </a:lnTo>
                    <a:close/>
                    <a:moveTo>
                      <a:pt x="48" y="605"/>
                    </a:moveTo>
                    <a:lnTo>
                      <a:pt x="68" y="594"/>
                    </a:lnTo>
                    <a:lnTo>
                      <a:pt x="68" y="571"/>
                    </a:lnTo>
                    <a:lnTo>
                      <a:pt x="48" y="559"/>
                    </a:lnTo>
                    <a:lnTo>
                      <a:pt x="27" y="571"/>
                    </a:lnTo>
                    <a:lnTo>
                      <a:pt x="27" y="594"/>
                    </a:lnTo>
                    <a:lnTo>
                      <a:pt x="48" y="605"/>
                    </a:lnTo>
                    <a:close/>
                    <a:moveTo>
                      <a:pt x="99" y="605"/>
                    </a:moveTo>
                    <a:lnTo>
                      <a:pt x="120" y="594"/>
                    </a:lnTo>
                    <a:lnTo>
                      <a:pt x="120" y="571"/>
                    </a:lnTo>
                    <a:lnTo>
                      <a:pt x="99" y="559"/>
                    </a:lnTo>
                    <a:lnTo>
                      <a:pt x="82" y="571"/>
                    </a:lnTo>
                    <a:lnTo>
                      <a:pt x="82" y="594"/>
                    </a:lnTo>
                    <a:lnTo>
                      <a:pt x="99" y="605"/>
                    </a:lnTo>
                    <a:close/>
                    <a:moveTo>
                      <a:pt x="155" y="605"/>
                    </a:moveTo>
                    <a:lnTo>
                      <a:pt x="175" y="594"/>
                    </a:lnTo>
                    <a:lnTo>
                      <a:pt x="175" y="571"/>
                    </a:lnTo>
                    <a:lnTo>
                      <a:pt x="155" y="559"/>
                    </a:lnTo>
                    <a:lnTo>
                      <a:pt x="133" y="571"/>
                    </a:lnTo>
                    <a:lnTo>
                      <a:pt x="133" y="594"/>
                    </a:lnTo>
                    <a:lnTo>
                      <a:pt x="155" y="605"/>
                    </a:lnTo>
                    <a:close/>
                    <a:moveTo>
                      <a:pt x="208" y="605"/>
                    </a:moveTo>
                    <a:lnTo>
                      <a:pt x="229" y="594"/>
                    </a:lnTo>
                    <a:lnTo>
                      <a:pt x="229" y="571"/>
                    </a:lnTo>
                    <a:lnTo>
                      <a:pt x="208" y="559"/>
                    </a:lnTo>
                    <a:lnTo>
                      <a:pt x="188" y="571"/>
                    </a:lnTo>
                    <a:lnTo>
                      <a:pt x="188" y="594"/>
                    </a:lnTo>
                    <a:lnTo>
                      <a:pt x="208" y="605"/>
                    </a:lnTo>
                    <a:close/>
                    <a:moveTo>
                      <a:pt x="262" y="605"/>
                    </a:moveTo>
                    <a:lnTo>
                      <a:pt x="282" y="594"/>
                    </a:lnTo>
                    <a:lnTo>
                      <a:pt x="282" y="571"/>
                    </a:lnTo>
                    <a:lnTo>
                      <a:pt x="262" y="559"/>
                    </a:lnTo>
                    <a:lnTo>
                      <a:pt x="242" y="571"/>
                    </a:lnTo>
                    <a:lnTo>
                      <a:pt x="242" y="594"/>
                    </a:lnTo>
                    <a:lnTo>
                      <a:pt x="262" y="605"/>
                    </a:lnTo>
                    <a:close/>
                    <a:moveTo>
                      <a:pt x="692" y="605"/>
                    </a:moveTo>
                    <a:lnTo>
                      <a:pt x="713" y="594"/>
                    </a:lnTo>
                    <a:lnTo>
                      <a:pt x="713" y="571"/>
                    </a:lnTo>
                    <a:lnTo>
                      <a:pt x="692" y="559"/>
                    </a:lnTo>
                    <a:lnTo>
                      <a:pt x="675" y="571"/>
                    </a:lnTo>
                    <a:lnTo>
                      <a:pt x="675" y="594"/>
                    </a:lnTo>
                    <a:lnTo>
                      <a:pt x="692" y="605"/>
                    </a:lnTo>
                    <a:close/>
                    <a:moveTo>
                      <a:pt x="747" y="605"/>
                    </a:moveTo>
                    <a:lnTo>
                      <a:pt x="767" y="594"/>
                    </a:lnTo>
                    <a:lnTo>
                      <a:pt x="767" y="571"/>
                    </a:lnTo>
                    <a:lnTo>
                      <a:pt x="747" y="559"/>
                    </a:lnTo>
                    <a:lnTo>
                      <a:pt x="727" y="571"/>
                    </a:lnTo>
                    <a:lnTo>
                      <a:pt x="727" y="594"/>
                    </a:lnTo>
                    <a:lnTo>
                      <a:pt x="747" y="605"/>
                    </a:lnTo>
                    <a:close/>
                    <a:moveTo>
                      <a:pt x="775" y="653"/>
                    </a:moveTo>
                    <a:lnTo>
                      <a:pt x="795" y="641"/>
                    </a:lnTo>
                    <a:lnTo>
                      <a:pt x="795" y="619"/>
                    </a:lnTo>
                    <a:lnTo>
                      <a:pt x="775" y="605"/>
                    </a:lnTo>
                    <a:lnTo>
                      <a:pt x="754" y="619"/>
                    </a:lnTo>
                    <a:lnTo>
                      <a:pt x="754" y="641"/>
                    </a:lnTo>
                    <a:lnTo>
                      <a:pt x="775" y="653"/>
                    </a:lnTo>
                    <a:close/>
                    <a:moveTo>
                      <a:pt x="829" y="653"/>
                    </a:moveTo>
                    <a:lnTo>
                      <a:pt x="849" y="641"/>
                    </a:lnTo>
                    <a:lnTo>
                      <a:pt x="849" y="619"/>
                    </a:lnTo>
                    <a:lnTo>
                      <a:pt x="829" y="605"/>
                    </a:lnTo>
                    <a:lnTo>
                      <a:pt x="809" y="619"/>
                    </a:lnTo>
                    <a:lnTo>
                      <a:pt x="809" y="641"/>
                    </a:lnTo>
                    <a:lnTo>
                      <a:pt x="829" y="653"/>
                    </a:lnTo>
                    <a:close/>
                    <a:moveTo>
                      <a:pt x="883" y="653"/>
                    </a:moveTo>
                    <a:lnTo>
                      <a:pt x="904" y="641"/>
                    </a:lnTo>
                    <a:lnTo>
                      <a:pt x="904" y="619"/>
                    </a:lnTo>
                    <a:lnTo>
                      <a:pt x="883" y="605"/>
                    </a:lnTo>
                    <a:lnTo>
                      <a:pt x="863" y="619"/>
                    </a:lnTo>
                    <a:lnTo>
                      <a:pt x="863" y="641"/>
                    </a:lnTo>
                    <a:lnTo>
                      <a:pt x="883" y="653"/>
                    </a:lnTo>
                    <a:close/>
                    <a:moveTo>
                      <a:pt x="938" y="653"/>
                    </a:moveTo>
                    <a:lnTo>
                      <a:pt x="958" y="641"/>
                    </a:lnTo>
                    <a:lnTo>
                      <a:pt x="958" y="619"/>
                    </a:lnTo>
                    <a:lnTo>
                      <a:pt x="938" y="605"/>
                    </a:lnTo>
                    <a:lnTo>
                      <a:pt x="916" y="619"/>
                    </a:lnTo>
                    <a:lnTo>
                      <a:pt x="916" y="641"/>
                    </a:lnTo>
                    <a:lnTo>
                      <a:pt x="938" y="653"/>
                    </a:lnTo>
                    <a:close/>
                    <a:moveTo>
                      <a:pt x="992" y="653"/>
                    </a:moveTo>
                    <a:lnTo>
                      <a:pt x="1012" y="641"/>
                    </a:lnTo>
                    <a:lnTo>
                      <a:pt x="1012" y="619"/>
                    </a:lnTo>
                    <a:lnTo>
                      <a:pt x="992" y="605"/>
                    </a:lnTo>
                    <a:lnTo>
                      <a:pt x="972" y="619"/>
                    </a:lnTo>
                    <a:lnTo>
                      <a:pt x="972" y="641"/>
                    </a:lnTo>
                    <a:lnTo>
                      <a:pt x="992" y="653"/>
                    </a:lnTo>
                    <a:close/>
                    <a:moveTo>
                      <a:pt x="1045" y="653"/>
                    </a:moveTo>
                    <a:lnTo>
                      <a:pt x="1064" y="641"/>
                    </a:lnTo>
                    <a:lnTo>
                      <a:pt x="1064" y="619"/>
                    </a:lnTo>
                    <a:lnTo>
                      <a:pt x="1045" y="605"/>
                    </a:lnTo>
                    <a:lnTo>
                      <a:pt x="1025" y="619"/>
                    </a:lnTo>
                    <a:lnTo>
                      <a:pt x="1025" y="641"/>
                    </a:lnTo>
                    <a:lnTo>
                      <a:pt x="1045" y="653"/>
                    </a:lnTo>
                    <a:close/>
                    <a:moveTo>
                      <a:pt x="1019" y="421"/>
                    </a:moveTo>
                    <a:lnTo>
                      <a:pt x="1039" y="409"/>
                    </a:lnTo>
                    <a:lnTo>
                      <a:pt x="1039" y="384"/>
                    </a:lnTo>
                    <a:lnTo>
                      <a:pt x="1019" y="373"/>
                    </a:lnTo>
                    <a:lnTo>
                      <a:pt x="998" y="384"/>
                    </a:lnTo>
                    <a:lnTo>
                      <a:pt x="998" y="409"/>
                    </a:lnTo>
                    <a:lnTo>
                      <a:pt x="1019" y="421"/>
                    </a:lnTo>
                    <a:close/>
                    <a:moveTo>
                      <a:pt x="1045" y="466"/>
                    </a:moveTo>
                    <a:lnTo>
                      <a:pt x="1064" y="455"/>
                    </a:lnTo>
                    <a:lnTo>
                      <a:pt x="1064" y="432"/>
                    </a:lnTo>
                    <a:lnTo>
                      <a:pt x="1045" y="421"/>
                    </a:lnTo>
                    <a:lnTo>
                      <a:pt x="1025" y="432"/>
                    </a:lnTo>
                    <a:lnTo>
                      <a:pt x="1025" y="455"/>
                    </a:lnTo>
                    <a:lnTo>
                      <a:pt x="1045" y="466"/>
                    </a:lnTo>
                    <a:close/>
                    <a:moveTo>
                      <a:pt x="1070" y="421"/>
                    </a:moveTo>
                    <a:lnTo>
                      <a:pt x="1091" y="409"/>
                    </a:lnTo>
                    <a:lnTo>
                      <a:pt x="1091" y="384"/>
                    </a:lnTo>
                    <a:lnTo>
                      <a:pt x="1070" y="373"/>
                    </a:lnTo>
                    <a:lnTo>
                      <a:pt x="1053" y="384"/>
                    </a:lnTo>
                    <a:lnTo>
                      <a:pt x="1053" y="409"/>
                    </a:lnTo>
                    <a:lnTo>
                      <a:pt x="1070" y="421"/>
                    </a:lnTo>
                    <a:close/>
                    <a:moveTo>
                      <a:pt x="964" y="511"/>
                    </a:moveTo>
                    <a:lnTo>
                      <a:pt x="985" y="500"/>
                    </a:lnTo>
                    <a:lnTo>
                      <a:pt x="985" y="477"/>
                    </a:lnTo>
                    <a:lnTo>
                      <a:pt x="964" y="466"/>
                    </a:lnTo>
                    <a:lnTo>
                      <a:pt x="944" y="477"/>
                    </a:lnTo>
                    <a:lnTo>
                      <a:pt x="944" y="500"/>
                    </a:lnTo>
                    <a:lnTo>
                      <a:pt x="964" y="511"/>
                    </a:lnTo>
                    <a:close/>
                    <a:moveTo>
                      <a:pt x="992" y="466"/>
                    </a:moveTo>
                    <a:lnTo>
                      <a:pt x="1012" y="455"/>
                    </a:lnTo>
                    <a:lnTo>
                      <a:pt x="1012" y="432"/>
                    </a:lnTo>
                    <a:lnTo>
                      <a:pt x="992" y="421"/>
                    </a:lnTo>
                    <a:lnTo>
                      <a:pt x="972" y="432"/>
                    </a:lnTo>
                    <a:lnTo>
                      <a:pt x="972" y="455"/>
                    </a:lnTo>
                    <a:lnTo>
                      <a:pt x="992" y="466"/>
                    </a:lnTo>
                    <a:close/>
                    <a:moveTo>
                      <a:pt x="1019" y="511"/>
                    </a:moveTo>
                    <a:lnTo>
                      <a:pt x="1039" y="500"/>
                    </a:lnTo>
                    <a:lnTo>
                      <a:pt x="1039" y="477"/>
                    </a:lnTo>
                    <a:lnTo>
                      <a:pt x="1019" y="466"/>
                    </a:lnTo>
                    <a:lnTo>
                      <a:pt x="998" y="477"/>
                    </a:lnTo>
                    <a:lnTo>
                      <a:pt x="998" y="500"/>
                    </a:lnTo>
                    <a:lnTo>
                      <a:pt x="1019" y="511"/>
                    </a:lnTo>
                    <a:close/>
                    <a:moveTo>
                      <a:pt x="1070" y="511"/>
                    </a:moveTo>
                    <a:lnTo>
                      <a:pt x="1091" y="500"/>
                    </a:lnTo>
                    <a:lnTo>
                      <a:pt x="1091" y="477"/>
                    </a:lnTo>
                    <a:lnTo>
                      <a:pt x="1070" y="466"/>
                    </a:lnTo>
                    <a:lnTo>
                      <a:pt x="1053" y="477"/>
                    </a:lnTo>
                    <a:lnTo>
                      <a:pt x="1053" y="500"/>
                    </a:lnTo>
                    <a:lnTo>
                      <a:pt x="1070" y="511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3" name=""/>
              <p:cNvSpPr/>
              <p:nvPr/>
            </p:nvSpPr>
            <p:spPr>
              <a:xfrm>
                <a:off x="6278040" y="64040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4" name=""/>
              <p:cNvSpPr/>
              <p:nvPr/>
            </p:nvSpPr>
            <p:spPr>
              <a:xfrm>
                <a:off x="631620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5" name=""/>
              <p:cNvSpPr/>
              <p:nvPr/>
            </p:nvSpPr>
            <p:spPr>
              <a:xfrm>
                <a:off x="635292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6" name=""/>
              <p:cNvSpPr/>
              <p:nvPr/>
            </p:nvSpPr>
            <p:spPr>
              <a:xfrm>
                <a:off x="638964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7" name=""/>
              <p:cNvSpPr/>
              <p:nvPr/>
            </p:nvSpPr>
            <p:spPr>
              <a:xfrm>
                <a:off x="6205680" y="6404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8" name=""/>
              <p:cNvSpPr/>
              <p:nvPr/>
            </p:nvSpPr>
            <p:spPr>
              <a:xfrm>
                <a:off x="624132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609552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0" name=""/>
              <p:cNvSpPr/>
              <p:nvPr/>
            </p:nvSpPr>
            <p:spPr>
              <a:xfrm>
                <a:off x="613224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1" name=""/>
              <p:cNvSpPr/>
              <p:nvPr/>
            </p:nvSpPr>
            <p:spPr>
              <a:xfrm>
                <a:off x="6168960" y="64040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2" name=""/>
              <p:cNvSpPr/>
              <p:nvPr/>
            </p:nvSpPr>
            <p:spPr>
              <a:xfrm>
                <a:off x="576648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3" name=""/>
              <p:cNvSpPr/>
              <p:nvPr/>
            </p:nvSpPr>
            <p:spPr>
              <a:xfrm>
                <a:off x="5803200" y="6404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4" name=""/>
              <p:cNvSpPr/>
              <p:nvPr/>
            </p:nvSpPr>
            <p:spPr>
              <a:xfrm>
                <a:off x="583848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5" name=""/>
              <p:cNvSpPr/>
              <p:nvPr/>
            </p:nvSpPr>
            <p:spPr>
              <a:xfrm>
                <a:off x="587520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6" name=""/>
              <p:cNvSpPr/>
              <p:nvPr/>
            </p:nvSpPr>
            <p:spPr>
              <a:xfrm>
                <a:off x="5911920" y="64040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7" name=""/>
              <p:cNvSpPr/>
              <p:nvPr/>
            </p:nvSpPr>
            <p:spPr>
              <a:xfrm>
                <a:off x="5948640" y="6404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8" name=""/>
              <p:cNvSpPr/>
              <p:nvPr/>
            </p:nvSpPr>
            <p:spPr>
              <a:xfrm>
                <a:off x="6297120" y="6377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9" name=""/>
              <p:cNvSpPr/>
              <p:nvPr/>
            </p:nvSpPr>
            <p:spPr>
              <a:xfrm>
                <a:off x="6333840" y="63770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0" name=""/>
              <p:cNvSpPr/>
              <p:nvPr/>
            </p:nvSpPr>
            <p:spPr>
              <a:xfrm>
                <a:off x="6371640" y="6377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1" name=""/>
              <p:cNvSpPr/>
              <p:nvPr/>
            </p:nvSpPr>
            <p:spPr>
              <a:xfrm>
                <a:off x="6150240" y="63770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2" name=""/>
              <p:cNvSpPr/>
              <p:nvPr/>
            </p:nvSpPr>
            <p:spPr>
              <a:xfrm>
                <a:off x="6188040" y="6377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0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3" name=""/>
              <p:cNvSpPr/>
              <p:nvPr/>
            </p:nvSpPr>
            <p:spPr>
              <a:xfrm>
                <a:off x="6224760" y="6377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4" name=""/>
              <p:cNvSpPr/>
              <p:nvPr/>
            </p:nvSpPr>
            <p:spPr>
              <a:xfrm>
                <a:off x="6260400" y="6377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5" name=""/>
              <p:cNvSpPr/>
              <p:nvPr/>
            </p:nvSpPr>
            <p:spPr>
              <a:xfrm>
                <a:off x="6004440" y="6377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6" name=""/>
              <p:cNvSpPr/>
              <p:nvPr/>
            </p:nvSpPr>
            <p:spPr>
              <a:xfrm>
                <a:off x="6041160" y="63770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7" name=""/>
              <p:cNvSpPr/>
              <p:nvPr/>
            </p:nvSpPr>
            <p:spPr>
              <a:xfrm>
                <a:off x="6077880" y="6377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1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8" name=""/>
              <p:cNvSpPr/>
              <p:nvPr/>
            </p:nvSpPr>
            <p:spPr>
              <a:xfrm>
                <a:off x="6113160" y="63770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9" name=""/>
              <p:cNvSpPr/>
              <p:nvPr/>
            </p:nvSpPr>
            <p:spPr>
              <a:xfrm>
                <a:off x="5784120" y="63770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0" name=""/>
              <p:cNvSpPr/>
              <p:nvPr/>
            </p:nvSpPr>
            <p:spPr>
              <a:xfrm>
                <a:off x="5820840" y="6377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1" name=""/>
              <p:cNvSpPr/>
              <p:nvPr/>
            </p:nvSpPr>
            <p:spPr>
              <a:xfrm>
                <a:off x="5856120" y="63770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2" name=""/>
              <p:cNvSpPr/>
              <p:nvPr/>
            </p:nvSpPr>
            <p:spPr>
              <a:xfrm>
                <a:off x="5894280" y="63770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3" name=""/>
              <p:cNvSpPr/>
              <p:nvPr/>
            </p:nvSpPr>
            <p:spPr>
              <a:xfrm>
                <a:off x="5931360" y="6377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4" name=""/>
              <p:cNvSpPr/>
              <p:nvPr/>
            </p:nvSpPr>
            <p:spPr>
              <a:xfrm>
                <a:off x="5968080" y="6377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1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5" name=""/>
              <p:cNvSpPr/>
              <p:nvPr/>
            </p:nvSpPr>
            <p:spPr>
              <a:xfrm>
                <a:off x="6095520" y="6351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6" name=""/>
              <p:cNvSpPr/>
              <p:nvPr/>
            </p:nvSpPr>
            <p:spPr>
              <a:xfrm>
                <a:off x="6132240" y="6351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7" name=""/>
              <p:cNvSpPr/>
              <p:nvPr/>
            </p:nvSpPr>
            <p:spPr>
              <a:xfrm>
                <a:off x="5766480" y="6351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8" name=""/>
              <p:cNvSpPr/>
              <p:nvPr/>
            </p:nvSpPr>
            <p:spPr>
              <a:xfrm>
                <a:off x="5803200" y="635184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9" name=""/>
              <p:cNvSpPr/>
              <p:nvPr/>
            </p:nvSpPr>
            <p:spPr>
              <a:xfrm>
                <a:off x="5838480" y="6351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0" name=""/>
              <p:cNvSpPr/>
              <p:nvPr/>
            </p:nvSpPr>
            <p:spPr>
              <a:xfrm>
                <a:off x="5875200" y="6351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1" name=""/>
              <p:cNvSpPr/>
              <p:nvPr/>
            </p:nvSpPr>
            <p:spPr>
              <a:xfrm>
                <a:off x="5911920" y="635184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2" name=""/>
              <p:cNvSpPr/>
              <p:nvPr/>
            </p:nvSpPr>
            <p:spPr>
              <a:xfrm>
                <a:off x="5948640" y="6351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3" name=""/>
              <p:cNvSpPr/>
              <p:nvPr/>
            </p:nvSpPr>
            <p:spPr>
              <a:xfrm>
                <a:off x="5985360" y="6351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4" name=""/>
              <p:cNvSpPr/>
              <p:nvPr/>
            </p:nvSpPr>
            <p:spPr>
              <a:xfrm>
                <a:off x="6022080" y="6351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5" name=""/>
              <p:cNvSpPr/>
              <p:nvPr/>
            </p:nvSpPr>
            <p:spPr>
              <a:xfrm>
                <a:off x="6168960" y="6351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6" name=""/>
              <p:cNvSpPr/>
              <p:nvPr/>
            </p:nvSpPr>
            <p:spPr>
              <a:xfrm>
                <a:off x="6205680" y="635184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7" name=""/>
              <p:cNvSpPr/>
              <p:nvPr/>
            </p:nvSpPr>
            <p:spPr>
              <a:xfrm>
                <a:off x="6241320" y="6351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8" name=""/>
              <p:cNvSpPr/>
              <p:nvPr/>
            </p:nvSpPr>
            <p:spPr>
              <a:xfrm>
                <a:off x="6278040" y="6351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9" name=""/>
              <p:cNvSpPr/>
              <p:nvPr/>
            </p:nvSpPr>
            <p:spPr>
              <a:xfrm>
                <a:off x="6113160" y="622188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0" name=""/>
              <p:cNvSpPr/>
              <p:nvPr/>
            </p:nvSpPr>
            <p:spPr>
              <a:xfrm>
                <a:off x="6113160" y="61707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1" name=""/>
              <p:cNvSpPr/>
              <p:nvPr/>
            </p:nvSpPr>
            <p:spPr>
              <a:xfrm>
                <a:off x="6132240" y="62485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2" name=""/>
              <p:cNvSpPr/>
              <p:nvPr/>
            </p:nvSpPr>
            <p:spPr>
              <a:xfrm>
                <a:off x="6132240" y="619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3" name=""/>
              <p:cNvSpPr/>
              <p:nvPr/>
            </p:nvSpPr>
            <p:spPr>
              <a:xfrm>
                <a:off x="6132240" y="614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4" name=""/>
              <p:cNvSpPr/>
              <p:nvPr/>
            </p:nvSpPr>
            <p:spPr>
              <a:xfrm>
                <a:off x="6077880" y="627408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5" name=""/>
              <p:cNvSpPr/>
              <p:nvPr/>
            </p:nvSpPr>
            <p:spPr>
              <a:xfrm>
                <a:off x="6095520" y="63007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6" name=""/>
              <p:cNvSpPr/>
              <p:nvPr/>
            </p:nvSpPr>
            <p:spPr>
              <a:xfrm>
                <a:off x="5784120" y="632520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7" name=""/>
              <p:cNvSpPr/>
              <p:nvPr/>
            </p:nvSpPr>
            <p:spPr>
              <a:xfrm>
                <a:off x="5820840" y="632520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8" name=""/>
              <p:cNvSpPr/>
              <p:nvPr/>
            </p:nvSpPr>
            <p:spPr>
              <a:xfrm>
                <a:off x="5856120" y="632520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9" name=""/>
              <p:cNvSpPr/>
              <p:nvPr/>
            </p:nvSpPr>
            <p:spPr>
              <a:xfrm>
                <a:off x="5894280" y="632520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0" name=""/>
              <p:cNvSpPr/>
              <p:nvPr/>
            </p:nvSpPr>
            <p:spPr>
              <a:xfrm>
                <a:off x="5931360" y="63252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1" name=""/>
              <p:cNvSpPr/>
              <p:nvPr/>
            </p:nvSpPr>
            <p:spPr>
              <a:xfrm>
                <a:off x="5968080" y="63252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2" name=""/>
              <p:cNvSpPr/>
              <p:nvPr/>
            </p:nvSpPr>
            <p:spPr>
              <a:xfrm>
                <a:off x="6004440" y="63252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3" name=""/>
              <p:cNvSpPr/>
              <p:nvPr/>
            </p:nvSpPr>
            <p:spPr>
              <a:xfrm>
                <a:off x="6041160" y="632520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4" name=""/>
              <p:cNvSpPr/>
              <p:nvPr/>
            </p:nvSpPr>
            <p:spPr>
              <a:xfrm>
                <a:off x="6004440" y="6274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5" name=""/>
              <p:cNvSpPr/>
              <p:nvPr/>
            </p:nvSpPr>
            <p:spPr>
              <a:xfrm>
                <a:off x="6041160" y="627408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6" name=""/>
              <p:cNvSpPr/>
              <p:nvPr/>
            </p:nvSpPr>
            <p:spPr>
              <a:xfrm>
                <a:off x="5766480" y="63007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7" name=""/>
              <p:cNvSpPr/>
              <p:nvPr/>
            </p:nvSpPr>
            <p:spPr>
              <a:xfrm>
                <a:off x="5803200" y="630072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8" name=""/>
              <p:cNvSpPr/>
              <p:nvPr/>
            </p:nvSpPr>
            <p:spPr>
              <a:xfrm>
                <a:off x="5838480" y="63007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9" name=""/>
              <p:cNvSpPr/>
              <p:nvPr/>
            </p:nvSpPr>
            <p:spPr>
              <a:xfrm>
                <a:off x="5875200" y="63007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0" name=""/>
              <p:cNvSpPr/>
              <p:nvPr/>
            </p:nvSpPr>
            <p:spPr>
              <a:xfrm>
                <a:off x="5911920" y="6300720"/>
                <a:ext cx="2808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1" name=""/>
              <p:cNvSpPr/>
              <p:nvPr/>
            </p:nvSpPr>
            <p:spPr>
              <a:xfrm>
                <a:off x="5948640" y="63007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2" name=""/>
              <p:cNvSpPr/>
              <p:nvPr/>
            </p:nvSpPr>
            <p:spPr>
              <a:xfrm>
                <a:off x="5784120" y="62740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3" name=""/>
              <p:cNvSpPr/>
              <p:nvPr/>
            </p:nvSpPr>
            <p:spPr>
              <a:xfrm>
                <a:off x="5820840" y="627408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4" name=""/>
              <p:cNvSpPr/>
              <p:nvPr/>
            </p:nvSpPr>
            <p:spPr>
              <a:xfrm>
                <a:off x="5856120" y="62740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5" name=""/>
              <p:cNvSpPr/>
              <p:nvPr/>
            </p:nvSpPr>
            <p:spPr>
              <a:xfrm>
                <a:off x="5894280" y="627408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6" name=""/>
              <p:cNvSpPr/>
              <p:nvPr/>
            </p:nvSpPr>
            <p:spPr>
              <a:xfrm>
                <a:off x="5931360" y="6274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7" name=""/>
              <p:cNvSpPr/>
              <p:nvPr/>
            </p:nvSpPr>
            <p:spPr>
              <a:xfrm>
                <a:off x="5968080" y="62740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8" name=""/>
              <p:cNvSpPr/>
              <p:nvPr/>
            </p:nvSpPr>
            <p:spPr>
              <a:xfrm>
                <a:off x="5985360" y="630072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9" name=""/>
              <p:cNvSpPr/>
              <p:nvPr/>
            </p:nvSpPr>
            <p:spPr>
              <a:xfrm>
                <a:off x="6022080" y="630072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0" name=""/>
              <p:cNvSpPr/>
              <p:nvPr/>
            </p:nvSpPr>
            <p:spPr>
              <a:xfrm>
                <a:off x="6077880" y="632520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1" name=""/>
              <p:cNvSpPr/>
              <p:nvPr/>
            </p:nvSpPr>
            <p:spPr>
              <a:xfrm>
                <a:off x="6077880" y="6170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2" name=""/>
              <p:cNvSpPr/>
              <p:nvPr/>
            </p:nvSpPr>
            <p:spPr>
              <a:xfrm>
                <a:off x="6095520" y="614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3" name=""/>
              <p:cNvSpPr/>
              <p:nvPr/>
            </p:nvSpPr>
            <p:spPr>
              <a:xfrm>
                <a:off x="6095520" y="619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4" name=""/>
              <p:cNvSpPr/>
              <p:nvPr/>
            </p:nvSpPr>
            <p:spPr>
              <a:xfrm>
                <a:off x="6004440" y="62218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5" name=""/>
              <p:cNvSpPr/>
              <p:nvPr/>
            </p:nvSpPr>
            <p:spPr>
              <a:xfrm>
                <a:off x="6041160" y="622188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6" name=""/>
              <p:cNvSpPr/>
              <p:nvPr/>
            </p:nvSpPr>
            <p:spPr>
              <a:xfrm>
                <a:off x="5766480" y="62485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7" name=""/>
              <p:cNvSpPr/>
              <p:nvPr/>
            </p:nvSpPr>
            <p:spPr>
              <a:xfrm>
                <a:off x="5803200" y="62485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8" name=""/>
              <p:cNvSpPr/>
              <p:nvPr/>
            </p:nvSpPr>
            <p:spPr>
              <a:xfrm>
                <a:off x="5838480" y="62485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9" name=""/>
              <p:cNvSpPr/>
              <p:nvPr/>
            </p:nvSpPr>
            <p:spPr>
              <a:xfrm>
                <a:off x="5875200" y="62485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0" name=""/>
              <p:cNvSpPr/>
              <p:nvPr/>
            </p:nvSpPr>
            <p:spPr>
              <a:xfrm>
                <a:off x="5911920" y="624852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1" name=""/>
              <p:cNvSpPr/>
              <p:nvPr/>
            </p:nvSpPr>
            <p:spPr>
              <a:xfrm>
                <a:off x="5948640" y="62485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2" name=""/>
              <p:cNvSpPr/>
              <p:nvPr/>
            </p:nvSpPr>
            <p:spPr>
              <a:xfrm>
                <a:off x="5985360" y="62485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3" name=""/>
              <p:cNvSpPr/>
              <p:nvPr/>
            </p:nvSpPr>
            <p:spPr>
              <a:xfrm>
                <a:off x="5784120" y="62218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4" name=""/>
              <p:cNvSpPr/>
              <p:nvPr/>
            </p:nvSpPr>
            <p:spPr>
              <a:xfrm>
                <a:off x="5820840" y="622188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5" name=""/>
              <p:cNvSpPr/>
              <p:nvPr/>
            </p:nvSpPr>
            <p:spPr>
              <a:xfrm>
                <a:off x="5856120" y="62218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6" name=""/>
              <p:cNvSpPr/>
              <p:nvPr/>
            </p:nvSpPr>
            <p:spPr>
              <a:xfrm>
                <a:off x="5894280" y="622188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7" name=""/>
              <p:cNvSpPr/>
              <p:nvPr/>
            </p:nvSpPr>
            <p:spPr>
              <a:xfrm>
                <a:off x="5931360" y="62218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8" name=""/>
              <p:cNvSpPr/>
              <p:nvPr/>
            </p:nvSpPr>
            <p:spPr>
              <a:xfrm>
                <a:off x="5968080" y="62218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9" name=""/>
              <p:cNvSpPr/>
              <p:nvPr/>
            </p:nvSpPr>
            <p:spPr>
              <a:xfrm>
                <a:off x="6022080" y="62485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0" name=""/>
              <p:cNvSpPr/>
              <p:nvPr/>
            </p:nvSpPr>
            <p:spPr>
              <a:xfrm>
                <a:off x="6004440" y="6170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1" name=""/>
              <p:cNvSpPr/>
              <p:nvPr/>
            </p:nvSpPr>
            <p:spPr>
              <a:xfrm>
                <a:off x="6041160" y="61707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2" name=""/>
              <p:cNvSpPr/>
              <p:nvPr/>
            </p:nvSpPr>
            <p:spPr>
              <a:xfrm>
                <a:off x="5766480" y="619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3" name=""/>
              <p:cNvSpPr/>
              <p:nvPr/>
            </p:nvSpPr>
            <p:spPr>
              <a:xfrm>
                <a:off x="5803200" y="61963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4" name=""/>
              <p:cNvSpPr/>
              <p:nvPr/>
            </p:nvSpPr>
            <p:spPr>
              <a:xfrm>
                <a:off x="5838480" y="619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5" name=""/>
              <p:cNvSpPr/>
              <p:nvPr/>
            </p:nvSpPr>
            <p:spPr>
              <a:xfrm>
                <a:off x="5875200" y="619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6" name=""/>
              <p:cNvSpPr/>
              <p:nvPr/>
            </p:nvSpPr>
            <p:spPr>
              <a:xfrm>
                <a:off x="5911920" y="619632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7" name=""/>
              <p:cNvSpPr/>
              <p:nvPr/>
            </p:nvSpPr>
            <p:spPr>
              <a:xfrm>
                <a:off x="5948640" y="619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8" name=""/>
              <p:cNvSpPr/>
              <p:nvPr/>
            </p:nvSpPr>
            <p:spPr>
              <a:xfrm>
                <a:off x="5985360" y="61963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9" name=""/>
              <p:cNvSpPr/>
              <p:nvPr/>
            </p:nvSpPr>
            <p:spPr>
              <a:xfrm>
                <a:off x="5931360" y="611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00" name=""/>
              <p:cNvSpPr/>
              <p:nvPr/>
            </p:nvSpPr>
            <p:spPr>
              <a:xfrm>
                <a:off x="5948640" y="614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01" name=""/>
              <p:cNvSpPr/>
              <p:nvPr/>
            </p:nvSpPr>
            <p:spPr>
              <a:xfrm>
                <a:off x="5784120" y="61707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3502" name=""/>
            <p:cNvGrpSpPr/>
            <p:nvPr/>
          </p:nvGrpSpPr>
          <p:grpSpPr>
            <a:xfrm>
              <a:off x="2494080" y="6042240"/>
              <a:ext cx="4186080" cy="651600"/>
              <a:chOff x="2494080" y="6042240"/>
              <a:chExt cx="4186080" cy="651600"/>
            </a:xfrm>
          </p:grpSpPr>
          <p:sp>
            <p:nvSpPr>
              <p:cNvPr id="3503" name=""/>
              <p:cNvSpPr/>
              <p:nvPr/>
            </p:nvSpPr>
            <p:spPr>
              <a:xfrm>
                <a:off x="5820840" y="617076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04" name=""/>
              <p:cNvSpPr/>
              <p:nvPr/>
            </p:nvSpPr>
            <p:spPr>
              <a:xfrm>
                <a:off x="5855760" y="61707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05" name=""/>
              <p:cNvSpPr/>
              <p:nvPr/>
            </p:nvSpPr>
            <p:spPr>
              <a:xfrm>
                <a:off x="5893920" y="61707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06" name=""/>
              <p:cNvSpPr/>
              <p:nvPr/>
            </p:nvSpPr>
            <p:spPr>
              <a:xfrm>
                <a:off x="5855760" y="6118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07" name=""/>
              <p:cNvSpPr/>
              <p:nvPr/>
            </p:nvSpPr>
            <p:spPr>
              <a:xfrm>
                <a:off x="5893920" y="61185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08" name=""/>
              <p:cNvSpPr/>
              <p:nvPr/>
            </p:nvSpPr>
            <p:spPr>
              <a:xfrm>
                <a:off x="5766120" y="61441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09" name=""/>
              <p:cNvSpPr/>
              <p:nvPr/>
            </p:nvSpPr>
            <p:spPr>
              <a:xfrm>
                <a:off x="5803200" y="6144120"/>
                <a:ext cx="24840" cy="26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0" name=""/>
              <p:cNvSpPr/>
              <p:nvPr/>
            </p:nvSpPr>
            <p:spPr>
              <a:xfrm>
                <a:off x="5837760" y="61441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1" name=""/>
              <p:cNvSpPr/>
              <p:nvPr/>
            </p:nvSpPr>
            <p:spPr>
              <a:xfrm>
                <a:off x="5783760" y="61185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2" name=""/>
              <p:cNvSpPr/>
              <p:nvPr/>
            </p:nvSpPr>
            <p:spPr>
              <a:xfrm>
                <a:off x="5820840" y="611856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3" name=""/>
              <p:cNvSpPr/>
              <p:nvPr/>
            </p:nvSpPr>
            <p:spPr>
              <a:xfrm>
                <a:off x="5874480" y="61441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4" name=""/>
              <p:cNvSpPr/>
              <p:nvPr/>
            </p:nvSpPr>
            <p:spPr>
              <a:xfrm>
                <a:off x="5911920" y="6144120"/>
                <a:ext cx="2844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5" name=""/>
              <p:cNvSpPr/>
              <p:nvPr/>
            </p:nvSpPr>
            <p:spPr>
              <a:xfrm>
                <a:off x="5931000" y="6170760"/>
                <a:ext cx="2628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6" name=""/>
              <p:cNvSpPr/>
              <p:nvPr/>
            </p:nvSpPr>
            <p:spPr>
              <a:xfrm>
                <a:off x="5966640" y="61707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7" name=""/>
              <p:cNvSpPr/>
              <p:nvPr/>
            </p:nvSpPr>
            <p:spPr>
              <a:xfrm>
                <a:off x="6021720" y="61959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8" name=""/>
              <p:cNvSpPr/>
              <p:nvPr/>
            </p:nvSpPr>
            <p:spPr>
              <a:xfrm>
                <a:off x="6077880" y="622188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9" name=""/>
              <p:cNvSpPr/>
              <p:nvPr/>
            </p:nvSpPr>
            <p:spPr>
              <a:xfrm>
                <a:off x="6094800" y="62488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0" name=""/>
              <p:cNvSpPr/>
              <p:nvPr/>
            </p:nvSpPr>
            <p:spPr>
              <a:xfrm>
                <a:off x="6112440" y="63255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1" name=""/>
              <p:cNvSpPr/>
              <p:nvPr/>
            </p:nvSpPr>
            <p:spPr>
              <a:xfrm>
                <a:off x="6112440" y="627444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2" name=""/>
              <p:cNvSpPr/>
              <p:nvPr/>
            </p:nvSpPr>
            <p:spPr>
              <a:xfrm>
                <a:off x="6131520" y="63010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3" name=""/>
              <p:cNvSpPr/>
              <p:nvPr/>
            </p:nvSpPr>
            <p:spPr>
              <a:xfrm>
                <a:off x="6149880" y="632556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4" name=""/>
              <p:cNvSpPr/>
              <p:nvPr/>
            </p:nvSpPr>
            <p:spPr>
              <a:xfrm>
                <a:off x="6315840" y="63518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5" name=""/>
              <p:cNvSpPr/>
              <p:nvPr/>
            </p:nvSpPr>
            <p:spPr>
              <a:xfrm>
                <a:off x="6352560" y="6351840"/>
                <a:ext cx="262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6388920" y="63518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7" name=""/>
              <p:cNvSpPr/>
              <p:nvPr/>
            </p:nvSpPr>
            <p:spPr>
              <a:xfrm>
                <a:off x="6425640" y="64040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8" name=""/>
              <p:cNvSpPr/>
              <p:nvPr/>
            </p:nvSpPr>
            <p:spPr>
              <a:xfrm>
                <a:off x="6462720" y="64040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9" name=""/>
              <p:cNvSpPr/>
              <p:nvPr/>
            </p:nvSpPr>
            <p:spPr>
              <a:xfrm>
                <a:off x="6296760" y="64296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0" name=""/>
              <p:cNvSpPr/>
              <p:nvPr/>
            </p:nvSpPr>
            <p:spPr>
              <a:xfrm>
                <a:off x="6333840" y="64296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1" name=""/>
              <p:cNvSpPr/>
              <p:nvPr/>
            </p:nvSpPr>
            <p:spPr>
              <a:xfrm>
                <a:off x="6372000" y="642960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2" name=""/>
              <p:cNvSpPr/>
              <p:nvPr/>
            </p:nvSpPr>
            <p:spPr>
              <a:xfrm>
                <a:off x="6406560" y="64296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3" name=""/>
              <p:cNvSpPr/>
              <p:nvPr/>
            </p:nvSpPr>
            <p:spPr>
              <a:xfrm>
                <a:off x="6443640" y="64296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6481800" y="642960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5" name=""/>
              <p:cNvSpPr/>
              <p:nvPr/>
            </p:nvSpPr>
            <p:spPr>
              <a:xfrm>
                <a:off x="609480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6" name=""/>
              <p:cNvSpPr/>
              <p:nvPr/>
            </p:nvSpPr>
            <p:spPr>
              <a:xfrm>
                <a:off x="613152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7" name=""/>
              <p:cNvSpPr/>
              <p:nvPr/>
            </p:nvSpPr>
            <p:spPr>
              <a:xfrm>
                <a:off x="6168600" y="64544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8" name=""/>
              <p:cNvSpPr/>
              <p:nvPr/>
            </p:nvSpPr>
            <p:spPr>
              <a:xfrm>
                <a:off x="6205680" y="645444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19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9" name=""/>
              <p:cNvSpPr/>
              <p:nvPr/>
            </p:nvSpPr>
            <p:spPr>
              <a:xfrm>
                <a:off x="624060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0" name=""/>
              <p:cNvSpPr/>
              <p:nvPr/>
            </p:nvSpPr>
            <p:spPr>
              <a:xfrm>
                <a:off x="576612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5803200" y="645444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2" name=""/>
              <p:cNvSpPr/>
              <p:nvPr/>
            </p:nvSpPr>
            <p:spPr>
              <a:xfrm>
                <a:off x="583776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3" name=""/>
              <p:cNvSpPr/>
              <p:nvPr/>
            </p:nvSpPr>
            <p:spPr>
              <a:xfrm>
                <a:off x="587448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4" name=""/>
              <p:cNvSpPr/>
              <p:nvPr/>
            </p:nvSpPr>
            <p:spPr>
              <a:xfrm>
                <a:off x="5911920" y="64544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5" name=""/>
              <p:cNvSpPr/>
              <p:nvPr/>
            </p:nvSpPr>
            <p:spPr>
              <a:xfrm>
                <a:off x="5949000" y="645444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6" name=""/>
              <p:cNvSpPr/>
              <p:nvPr/>
            </p:nvSpPr>
            <p:spPr>
              <a:xfrm>
                <a:off x="6077880" y="642960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7" name=""/>
              <p:cNvSpPr/>
              <p:nvPr/>
            </p:nvSpPr>
            <p:spPr>
              <a:xfrm>
                <a:off x="6112440" y="64296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8" name=""/>
              <p:cNvSpPr/>
              <p:nvPr/>
            </p:nvSpPr>
            <p:spPr>
              <a:xfrm>
                <a:off x="6149880" y="64296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9" name=""/>
              <p:cNvSpPr/>
              <p:nvPr/>
            </p:nvSpPr>
            <p:spPr>
              <a:xfrm>
                <a:off x="6188040" y="642960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20" y="46"/>
                    </a:moveTo>
                    <a:lnTo>
                      <a:pt x="37" y="35"/>
                    </a:lnTo>
                    <a:lnTo>
                      <a:pt x="37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0" name=""/>
              <p:cNvSpPr/>
              <p:nvPr/>
            </p:nvSpPr>
            <p:spPr>
              <a:xfrm>
                <a:off x="5783760" y="64296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1" name=""/>
              <p:cNvSpPr/>
              <p:nvPr/>
            </p:nvSpPr>
            <p:spPr>
              <a:xfrm>
                <a:off x="5820840" y="64296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2" name=""/>
              <p:cNvSpPr/>
              <p:nvPr/>
            </p:nvSpPr>
            <p:spPr>
              <a:xfrm>
                <a:off x="5855760" y="64296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3" name=""/>
              <p:cNvSpPr/>
              <p:nvPr/>
            </p:nvSpPr>
            <p:spPr>
              <a:xfrm>
                <a:off x="5893920" y="64296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4" name=""/>
              <p:cNvSpPr/>
              <p:nvPr/>
            </p:nvSpPr>
            <p:spPr>
              <a:xfrm>
                <a:off x="5931000" y="642960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5" name=""/>
              <p:cNvSpPr/>
              <p:nvPr/>
            </p:nvSpPr>
            <p:spPr>
              <a:xfrm>
                <a:off x="6224760" y="642960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6" name=""/>
              <p:cNvSpPr/>
              <p:nvPr/>
            </p:nvSpPr>
            <p:spPr>
              <a:xfrm>
                <a:off x="6259320" y="64296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7" name=""/>
              <p:cNvSpPr/>
              <p:nvPr/>
            </p:nvSpPr>
            <p:spPr>
              <a:xfrm>
                <a:off x="6277320" y="64544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8" name=""/>
              <p:cNvSpPr/>
              <p:nvPr/>
            </p:nvSpPr>
            <p:spPr>
              <a:xfrm>
                <a:off x="631584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9" name=""/>
              <p:cNvSpPr/>
              <p:nvPr/>
            </p:nvSpPr>
            <p:spPr>
              <a:xfrm>
                <a:off x="6352560" y="645444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0" name=""/>
              <p:cNvSpPr/>
              <p:nvPr/>
            </p:nvSpPr>
            <p:spPr>
              <a:xfrm>
                <a:off x="638892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4"/>
                    </a:lnTo>
                    <a:lnTo>
                      <a:pt x="22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1" name=""/>
              <p:cNvSpPr/>
              <p:nvPr/>
            </p:nvSpPr>
            <p:spPr>
              <a:xfrm>
                <a:off x="642564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2" name=""/>
              <p:cNvSpPr/>
              <p:nvPr/>
            </p:nvSpPr>
            <p:spPr>
              <a:xfrm>
                <a:off x="6462720" y="64544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3" name=""/>
              <p:cNvSpPr/>
              <p:nvPr/>
            </p:nvSpPr>
            <p:spPr>
              <a:xfrm>
                <a:off x="6443640" y="632556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4" name=""/>
              <p:cNvSpPr/>
              <p:nvPr/>
            </p:nvSpPr>
            <p:spPr>
              <a:xfrm>
                <a:off x="6462720" y="63518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5" name=""/>
              <p:cNvSpPr/>
              <p:nvPr/>
            </p:nvSpPr>
            <p:spPr>
              <a:xfrm>
                <a:off x="6481800" y="6325560"/>
                <a:ext cx="25200" cy="2592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6" name=""/>
              <p:cNvSpPr/>
              <p:nvPr/>
            </p:nvSpPr>
            <p:spPr>
              <a:xfrm>
                <a:off x="6406560" y="63777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7" name=""/>
              <p:cNvSpPr/>
              <p:nvPr/>
            </p:nvSpPr>
            <p:spPr>
              <a:xfrm>
                <a:off x="6425640" y="63518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8" name=""/>
              <p:cNvSpPr/>
              <p:nvPr/>
            </p:nvSpPr>
            <p:spPr>
              <a:xfrm>
                <a:off x="6443640" y="63777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9" name=""/>
              <p:cNvSpPr/>
              <p:nvPr/>
            </p:nvSpPr>
            <p:spPr>
              <a:xfrm>
                <a:off x="6481800" y="637776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0" name=""/>
              <p:cNvSpPr/>
              <p:nvPr/>
            </p:nvSpPr>
            <p:spPr>
              <a:xfrm>
                <a:off x="6177240" y="6143400"/>
                <a:ext cx="289080" cy="1742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1" name=""/>
              <p:cNvSpPr/>
              <p:nvPr/>
            </p:nvSpPr>
            <p:spPr>
              <a:xfrm>
                <a:off x="6177240" y="6143400"/>
                <a:ext cx="289080" cy="1742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2" name=""/>
              <p:cNvSpPr/>
              <p:nvPr/>
            </p:nvSpPr>
            <p:spPr>
              <a:xfrm>
                <a:off x="6197400" y="6161400"/>
                <a:ext cx="248400" cy="1393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  <a:close/>
                  </a:path>
                </a:pathLst>
              </a:custGeom>
              <a:solidFill>
                <a:srgbClr val="2b2b2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3" name=""/>
              <p:cNvSpPr/>
              <p:nvPr/>
            </p:nvSpPr>
            <p:spPr>
              <a:xfrm>
                <a:off x="6197400" y="6161400"/>
                <a:ext cx="248400" cy="1393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4" name=""/>
              <p:cNvSpPr/>
              <p:nvPr/>
            </p:nvSpPr>
            <p:spPr>
              <a:xfrm>
                <a:off x="6247440" y="6191280"/>
                <a:ext cx="147960" cy="79920"/>
              </a:xfrm>
              <a:custGeom>
                <a:avLst/>
                <a:gdLst/>
                <a:ahLst/>
                <a:rect l="l" t="t" r="r" b="b"/>
                <a:pathLst>
                  <a:path w="218" h="144">
                    <a:moveTo>
                      <a:pt x="20" y="68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0" y="68"/>
                    </a:lnTo>
                    <a:close/>
                    <a:moveTo>
                      <a:pt x="118" y="144"/>
                    </a:moveTo>
                    <a:lnTo>
                      <a:pt x="118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18" y="144"/>
                    </a:lnTo>
                    <a:close/>
                    <a:moveTo>
                      <a:pt x="218" y="68"/>
                    </a:moveTo>
                    <a:lnTo>
                      <a:pt x="218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8" y="6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5" name=""/>
              <p:cNvSpPr/>
              <p:nvPr/>
            </p:nvSpPr>
            <p:spPr>
              <a:xfrm>
                <a:off x="6448320" y="6173280"/>
                <a:ext cx="97920" cy="1422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6" name=""/>
              <p:cNvSpPr/>
              <p:nvPr/>
            </p:nvSpPr>
            <p:spPr>
              <a:xfrm>
                <a:off x="6448320" y="6153480"/>
                <a:ext cx="25200" cy="182160"/>
              </a:xfrm>
              <a:prstGeom prst="rect">
                <a:avLst/>
              </a:prstGeom>
              <a:solidFill>
                <a:srgbClr val="af4b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7" name=""/>
              <p:cNvSpPr/>
              <p:nvPr/>
            </p:nvSpPr>
            <p:spPr>
              <a:xfrm>
                <a:off x="6473520" y="6153480"/>
                <a:ext cx="26280" cy="182160"/>
              </a:xfrm>
              <a:prstGeom prst="rect">
                <a:avLst/>
              </a:prstGeom>
              <a:solidFill>
                <a:srgbClr val="b65d8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8" name=""/>
              <p:cNvSpPr/>
              <p:nvPr/>
            </p:nvSpPr>
            <p:spPr>
              <a:xfrm>
                <a:off x="6499800" y="6153480"/>
                <a:ext cx="23760" cy="182160"/>
              </a:xfrm>
              <a:prstGeom prst="rect">
                <a:avLst/>
              </a:prstGeom>
              <a:solidFill>
                <a:srgbClr val="b357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9" name=""/>
              <p:cNvSpPr/>
              <p:nvPr/>
            </p:nvSpPr>
            <p:spPr>
              <a:xfrm>
                <a:off x="6523560" y="6153480"/>
                <a:ext cx="22680" cy="182160"/>
              </a:xfrm>
              <a:prstGeom prst="rect">
                <a:avLst/>
              </a:prstGeom>
              <a:solidFill>
                <a:srgbClr val="b1507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0" name=""/>
              <p:cNvSpPr/>
              <p:nvPr/>
            </p:nvSpPr>
            <p:spPr>
              <a:xfrm>
                <a:off x="6546600" y="6153480"/>
                <a:ext cx="24840" cy="182160"/>
              </a:xfrm>
              <a:prstGeom prst="rect">
                <a:avLst/>
              </a:prstGeom>
              <a:solidFill>
                <a:srgbClr val="ae4a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1" name=""/>
              <p:cNvSpPr/>
              <p:nvPr/>
            </p:nvSpPr>
            <p:spPr>
              <a:xfrm>
                <a:off x="6466320" y="6157800"/>
                <a:ext cx="95400" cy="154800"/>
              </a:xfrm>
              <a:custGeom>
                <a:avLst/>
                <a:gdLst/>
                <a:ahLst/>
                <a:rect l="l" t="t" r="r" b="b"/>
                <a:pathLst>
                  <a:path w="141" h="280">
                    <a:moveTo>
                      <a:pt x="0" y="261"/>
                    </a:moveTo>
                    <a:lnTo>
                      <a:pt x="0" y="265"/>
                    </a:lnTo>
                    <a:lnTo>
                      <a:pt x="2" y="268"/>
                    </a:lnTo>
                    <a:lnTo>
                      <a:pt x="3" y="272"/>
                    </a:lnTo>
                    <a:lnTo>
                      <a:pt x="5" y="275"/>
                    </a:lnTo>
                    <a:lnTo>
                      <a:pt x="9" y="276"/>
                    </a:lnTo>
                    <a:lnTo>
                      <a:pt x="13" y="279"/>
                    </a:lnTo>
                    <a:lnTo>
                      <a:pt x="17" y="279"/>
                    </a:lnTo>
                    <a:lnTo>
                      <a:pt x="20" y="280"/>
                    </a:lnTo>
                    <a:lnTo>
                      <a:pt x="27" y="280"/>
                    </a:lnTo>
                    <a:lnTo>
                      <a:pt x="116" y="270"/>
                    </a:lnTo>
                    <a:lnTo>
                      <a:pt x="121" y="268"/>
                    </a:lnTo>
                    <a:lnTo>
                      <a:pt x="126" y="267"/>
                    </a:lnTo>
                    <a:lnTo>
                      <a:pt x="129" y="265"/>
                    </a:lnTo>
                    <a:lnTo>
                      <a:pt x="133" y="261"/>
                    </a:lnTo>
                    <a:lnTo>
                      <a:pt x="136" y="257"/>
                    </a:lnTo>
                    <a:lnTo>
                      <a:pt x="138" y="252"/>
                    </a:lnTo>
                    <a:lnTo>
                      <a:pt x="139" y="248"/>
                    </a:lnTo>
                    <a:lnTo>
                      <a:pt x="141" y="243"/>
                    </a:lnTo>
                    <a:lnTo>
                      <a:pt x="141" y="243"/>
                    </a:lnTo>
                    <a:lnTo>
                      <a:pt x="141" y="35"/>
                    </a:lnTo>
                    <a:lnTo>
                      <a:pt x="139" y="31"/>
                    </a:lnTo>
                    <a:lnTo>
                      <a:pt x="138" y="26"/>
                    </a:lnTo>
                    <a:lnTo>
                      <a:pt x="136" y="21"/>
                    </a:lnTo>
                    <a:lnTo>
                      <a:pt x="133" y="17"/>
                    </a:lnTo>
                    <a:lnTo>
                      <a:pt x="128" y="15"/>
                    </a:lnTo>
                    <a:lnTo>
                      <a:pt x="124" y="11"/>
                    </a:lnTo>
                    <a:lnTo>
                      <a:pt x="119" y="10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1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2" name=""/>
              <p:cNvSpPr/>
              <p:nvPr/>
            </p:nvSpPr>
            <p:spPr>
              <a:xfrm>
                <a:off x="2845440" y="6106680"/>
                <a:ext cx="1829520" cy="481680"/>
              </a:xfrm>
              <a:custGeom>
                <a:avLst/>
                <a:gdLst/>
                <a:ahLst/>
                <a:rect l="l" t="t" r="r" b="b"/>
                <a:pathLst>
                  <a:path w="2690" h="869">
                    <a:moveTo>
                      <a:pt x="1379" y="632"/>
                    </a:moveTo>
                    <a:lnTo>
                      <a:pt x="0" y="632"/>
                    </a:lnTo>
                    <a:lnTo>
                      <a:pt x="0" y="812"/>
                    </a:lnTo>
                    <a:lnTo>
                      <a:pt x="1379" y="812"/>
                    </a:lnTo>
                    <a:lnTo>
                      <a:pt x="1379" y="632"/>
                    </a:lnTo>
                    <a:close/>
                    <a:moveTo>
                      <a:pt x="1379" y="325"/>
                    </a:moveTo>
                    <a:lnTo>
                      <a:pt x="0" y="325"/>
                    </a:lnTo>
                    <a:lnTo>
                      <a:pt x="0" y="507"/>
                    </a:lnTo>
                    <a:lnTo>
                      <a:pt x="1379" y="507"/>
                    </a:lnTo>
                    <a:lnTo>
                      <a:pt x="1379" y="325"/>
                    </a:lnTo>
                    <a:close/>
                    <a:moveTo>
                      <a:pt x="1379" y="19"/>
                    </a:moveTo>
                    <a:lnTo>
                      <a:pt x="0" y="19"/>
                    </a:lnTo>
                    <a:lnTo>
                      <a:pt x="0" y="201"/>
                    </a:lnTo>
                    <a:lnTo>
                      <a:pt x="1379" y="201"/>
                    </a:lnTo>
                    <a:lnTo>
                      <a:pt x="1379" y="19"/>
                    </a:lnTo>
                    <a:close/>
                    <a:moveTo>
                      <a:pt x="1695" y="0"/>
                    </a:moveTo>
                    <a:lnTo>
                      <a:pt x="1695" y="869"/>
                    </a:lnTo>
                    <a:lnTo>
                      <a:pt x="1868" y="869"/>
                    </a:lnTo>
                    <a:lnTo>
                      <a:pt x="1868" y="0"/>
                    </a:lnTo>
                    <a:lnTo>
                      <a:pt x="1695" y="0"/>
                    </a:lnTo>
                    <a:close/>
                    <a:moveTo>
                      <a:pt x="2517" y="0"/>
                    </a:moveTo>
                    <a:lnTo>
                      <a:pt x="2517" y="869"/>
                    </a:lnTo>
                    <a:lnTo>
                      <a:pt x="2690" y="869"/>
                    </a:lnTo>
                    <a:lnTo>
                      <a:pt x="2690" y="0"/>
                    </a:lnTo>
                    <a:lnTo>
                      <a:pt x="2517" y="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3" name=""/>
              <p:cNvSpPr/>
              <p:nvPr/>
            </p:nvSpPr>
            <p:spPr>
              <a:xfrm>
                <a:off x="2845440" y="645660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4" name=""/>
              <p:cNvSpPr/>
              <p:nvPr/>
            </p:nvSpPr>
            <p:spPr>
              <a:xfrm>
                <a:off x="2845440" y="628632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5" name=""/>
              <p:cNvSpPr/>
              <p:nvPr/>
            </p:nvSpPr>
            <p:spPr>
              <a:xfrm>
                <a:off x="2845440" y="611604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6" name=""/>
              <p:cNvSpPr/>
              <p:nvPr/>
            </p:nvSpPr>
            <p:spPr>
              <a:xfrm>
                <a:off x="3998520" y="6106680"/>
                <a:ext cx="118080" cy="481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7" name=""/>
              <p:cNvSpPr/>
              <p:nvPr/>
            </p:nvSpPr>
            <p:spPr>
              <a:xfrm>
                <a:off x="4557960" y="6106680"/>
                <a:ext cx="117000" cy="481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8" name=""/>
              <p:cNvSpPr/>
              <p:nvPr/>
            </p:nvSpPr>
            <p:spPr>
              <a:xfrm>
                <a:off x="2886120" y="6130800"/>
                <a:ext cx="1750320" cy="432360"/>
              </a:xfrm>
              <a:custGeom>
                <a:avLst/>
                <a:gdLst/>
                <a:ahLst/>
                <a:rect l="l" t="t" r="r" b="b"/>
                <a:pathLst>
                  <a:path w="2573" h="779">
                    <a:moveTo>
                      <a:pt x="1139" y="36"/>
                    </a:moveTo>
                    <a:lnTo>
                      <a:pt x="123" y="36"/>
                    </a:lnTo>
                    <a:lnTo>
                      <a:pt x="110" y="36"/>
                    </a:lnTo>
                    <a:lnTo>
                      <a:pt x="98" y="36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6" y="39"/>
                    </a:lnTo>
                    <a:lnTo>
                      <a:pt x="27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6" y="88"/>
                    </a:lnTo>
                    <a:lnTo>
                      <a:pt x="10" y="89"/>
                    </a:lnTo>
                    <a:lnTo>
                      <a:pt x="15" y="90"/>
                    </a:lnTo>
                    <a:lnTo>
                      <a:pt x="21" y="90"/>
                    </a:lnTo>
                    <a:lnTo>
                      <a:pt x="27" y="92"/>
                    </a:lnTo>
                    <a:lnTo>
                      <a:pt x="36" y="92"/>
                    </a:lnTo>
                    <a:lnTo>
                      <a:pt x="45" y="93"/>
                    </a:lnTo>
                    <a:lnTo>
                      <a:pt x="54" y="93"/>
                    </a:lnTo>
                    <a:lnTo>
                      <a:pt x="64" y="94"/>
                    </a:lnTo>
                    <a:lnTo>
                      <a:pt x="75" y="94"/>
                    </a:lnTo>
                    <a:lnTo>
                      <a:pt x="86" y="94"/>
                    </a:lnTo>
                    <a:lnTo>
                      <a:pt x="98" y="94"/>
                    </a:lnTo>
                    <a:lnTo>
                      <a:pt x="110" y="94"/>
                    </a:lnTo>
                    <a:lnTo>
                      <a:pt x="123" y="96"/>
                    </a:lnTo>
                    <a:lnTo>
                      <a:pt x="123" y="96"/>
                    </a:lnTo>
                    <a:lnTo>
                      <a:pt x="1139" y="96"/>
                    </a:lnTo>
                    <a:lnTo>
                      <a:pt x="1151" y="94"/>
                    </a:lnTo>
                    <a:lnTo>
                      <a:pt x="1164" y="94"/>
                    </a:lnTo>
                    <a:lnTo>
                      <a:pt x="1175" y="94"/>
                    </a:lnTo>
                    <a:lnTo>
                      <a:pt x="1186" y="94"/>
                    </a:lnTo>
                    <a:lnTo>
                      <a:pt x="1198" y="94"/>
                    </a:lnTo>
                    <a:lnTo>
                      <a:pt x="1208" y="93"/>
                    </a:lnTo>
                    <a:lnTo>
                      <a:pt x="1216" y="93"/>
                    </a:lnTo>
                    <a:lnTo>
                      <a:pt x="1225" y="92"/>
                    </a:lnTo>
                    <a:lnTo>
                      <a:pt x="1233" y="92"/>
                    </a:lnTo>
                    <a:lnTo>
                      <a:pt x="1240" y="90"/>
                    </a:lnTo>
                    <a:lnTo>
                      <a:pt x="1246" y="90"/>
                    </a:lnTo>
                    <a:lnTo>
                      <a:pt x="1251" y="89"/>
                    </a:lnTo>
                    <a:lnTo>
                      <a:pt x="1255" y="88"/>
                    </a:lnTo>
                    <a:lnTo>
                      <a:pt x="1259" y="88"/>
                    </a:lnTo>
                    <a:lnTo>
                      <a:pt x="1260" y="87"/>
                    </a:lnTo>
                    <a:lnTo>
                      <a:pt x="1260" y="87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45"/>
                    </a:lnTo>
                    <a:lnTo>
                      <a:pt x="1260" y="44"/>
                    </a:lnTo>
                    <a:lnTo>
                      <a:pt x="1260" y="44"/>
                    </a:lnTo>
                    <a:lnTo>
                      <a:pt x="1259" y="43"/>
                    </a:lnTo>
                    <a:lnTo>
                      <a:pt x="1255" y="43"/>
                    </a:lnTo>
                    <a:lnTo>
                      <a:pt x="1251" y="41"/>
                    </a:lnTo>
                    <a:lnTo>
                      <a:pt x="1246" y="41"/>
                    </a:lnTo>
                    <a:lnTo>
                      <a:pt x="1240" y="40"/>
                    </a:lnTo>
                    <a:lnTo>
                      <a:pt x="1233" y="39"/>
                    </a:lnTo>
                    <a:lnTo>
                      <a:pt x="1225" y="39"/>
                    </a:lnTo>
                    <a:lnTo>
                      <a:pt x="1216" y="37"/>
                    </a:lnTo>
                    <a:lnTo>
                      <a:pt x="1208" y="37"/>
                    </a:lnTo>
                    <a:lnTo>
                      <a:pt x="1198" y="37"/>
                    </a:lnTo>
                    <a:lnTo>
                      <a:pt x="1186" y="36"/>
                    </a:lnTo>
                    <a:lnTo>
                      <a:pt x="1175" y="36"/>
                    </a:lnTo>
                    <a:lnTo>
                      <a:pt x="1164" y="36"/>
                    </a:lnTo>
                    <a:lnTo>
                      <a:pt x="1151" y="36"/>
                    </a:lnTo>
                    <a:lnTo>
                      <a:pt x="1139" y="36"/>
                    </a:lnTo>
                    <a:lnTo>
                      <a:pt x="1139" y="36"/>
                    </a:lnTo>
                    <a:close/>
                    <a:moveTo>
                      <a:pt x="1139" y="340"/>
                    </a:moveTo>
                    <a:lnTo>
                      <a:pt x="123" y="340"/>
                    </a:lnTo>
                    <a:lnTo>
                      <a:pt x="110" y="340"/>
                    </a:lnTo>
                    <a:lnTo>
                      <a:pt x="98" y="342"/>
                    </a:lnTo>
                    <a:lnTo>
                      <a:pt x="86" y="342"/>
                    </a:lnTo>
                    <a:lnTo>
                      <a:pt x="75" y="342"/>
                    </a:lnTo>
                    <a:lnTo>
                      <a:pt x="64" y="342"/>
                    </a:lnTo>
                    <a:lnTo>
                      <a:pt x="54" y="343"/>
                    </a:lnTo>
                    <a:lnTo>
                      <a:pt x="45" y="343"/>
                    </a:lnTo>
                    <a:lnTo>
                      <a:pt x="36" y="344"/>
                    </a:lnTo>
                    <a:lnTo>
                      <a:pt x="27" y="344"/>
                    </a:lnTo>
                    <a:lnTo>
                      <a:pt x="21" y="346"/>
                    </a:lnTo>
                    <a:lnTo>
                      <a:pt x="15" y="346"/>
                    </a:lnTo>
                    <a:lnTo>
                      <a:pt x="10" y="347"/>
                    </a:lnTo>
                    <a:lnTo>
                      <a:pt x="6" y="348"/>
                    </a:lnTo>
                    <a:lnTo>
                      <a:pt x="2" y="348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1" y="392"/>
                    </a:lnTo>
                    <a:lnTo>
                      <a:pt x="2" y="392"/>
                    </a:lnTo>
                    <a:lnTo>
                      <a:pt x="6" y="393"/>
                    </a:lnTo>
                    <a:lnTo>
                      <a:pt x="10" y="395"/>
                    </a:lnTo>
                    <a:lnTo>
                      <a:pt x="15" y="395"/>
                    </a:lnTo>
                    <a:lnTo>
                      <a:pt x="21" y="396"/>
                    </a:lnTo>
                    <a:lnTo>
                      <a:pt x="27" y="397"/>
                    </a:lnTo>
                    <a:lnTo>
                      <a:pt x="36" y="397"/>
                    </a:lnTo>
                    <a:lnTo>
                      <a:pt x="45" y="399"/>
                    </a:lnTo>
                    <a:lnTo>
                      <a:pt x="54" y="399"/>
                    </a:lnTo>
                    <a:lnTo>
                      <a:pt x="64" y="399"/>
                    </a:lnTo>
                    <a:lnTo>
                      <a:pt x="75" y="400"/>
                    </a:lnTo>
                    <a:lnTo>
                      <a:pt x="86" y="400"/>
                    </a:lnTo>
                    <a:lnTo>
                      <a:pt x="98" y="400"/>
                    </a:lnTo>
                    <a:lnTo>
                      <a:pt x="110" y="400"/>
                    </a:lnTo>
                    <a:lnTo>
                      <a:pt x="123" y="400"/>
                    </a:lnTo>
                    <a:lnTo>
                      <a:pt x="123" y="400"/>
                    </a:lnTo>
                    <a:lnTo>
                      <a:pt x="1139" y="400"/>
                    </a:lnTo>
                    <a:lnTo>
                      <a:pt x="1151" y="400"/>
                    </a:lnTo>
                    <a:lnTo>
                      <a:pt x="1164" y="400"/>
                    </a:lnTo>
                    <a:lnTo>
                      <a:pt x="1175" y="400"/>
                    </a:lnTo>
                    <a:lnTo>
                      <a:pt x="1186" y="400"/>
                    </a:lnTo>
                    <a:lnTo>
                      <a:pt x="1198" y="399"/>
                    </a:lnTo>
                    <a:lnTo>
                      <a:pt x="1208" y="399"/>
                    </a:lnTo>
                    <a:lnTo>
                      <a:pt x="1216" y="399"/>
                    </a:lnTo>
                    <a:lnTo>
                      <a:pt x="1225" y="397"/>
                    </a:lnTo>
                    <a:lnTo>
                      <a:pt x="1233" y="397"/>
                    </a:lnTo>
                    <a:lnTo>
                      <a:pt x="1240" y="396"/>
                    </a:lnTo>
                    <a:lnTo>
                      <a:pt x="1246" y="395"/>
                    </a:lnTo>
                    <a:lnTo>
                      <a:pt x="1251" y="395"/>
                    </a:lnTo>
                    <a:lnTo>
                      <a:pt x="1255" y="393"/>
                    </a:lnTo>
                    <a:lnTo>
                      <a:pt x="1259" y="392"/>
                    </a:lnTo>
                    <a:lnTo>
                      <a:pt x="1260" y="392"/>
                    </a:lnTo>
                    <a:lnTo>
                      <a:pt x="1260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51"/>
                    </a:lnTo>
                    <a:lnTo>
                      <a:pt x="1260" y="349"/>
                    </a:lnTo>
                    <a:lnTo>
                      <a:pt x="1260" y="349"/>
                    </a:lnTo>
                    <a:lnTo>
                      <a:pt x="1259" y="348"/>
                    </a:lnTo>
                    <a:lnTo>
                      <a:pt x="1255" y="348"/>
                    </a:lnTo>
                    <a:lnTo>
                      <a:pt x="1251" y="347"/>
                    </a:lnTo>
                    <a:lnTo>
                      <a:pt x="1246" y="346"/>
                    </a:lnTo>
                    <a:lnTo>
                      <a:pt x="1240" y="346"/>
                    </a:lnTo>
                    <a:lnTo>
                      <a:pt x="1233" y="344"/>
                    </a:lnTo>
                    <a:lnTo>
                      <a:pt x="1225" y="344"/>
                    </a:lnTo>
                    <a:lnTo>
                      <a:pt x="1216" y="343"/>
                    </a:lnTo>
                    <a:lnTo>
                      <a:pt x="1208" y="343"/>
                    </a:lnTo>
                    <a:lnTo>
                      <a:pt x="1198" y="342"/>
                    </a:lnTo>
                    <a:lnTo>
                      <a:pt x="1186" y="342"/>
                    </a:lnTo>
                    <a:lnTo>
                      <a:pt x="1175" y="342"/>
                    </a:lnTo>
                    <a:lnTo>
                      <a:pt x="1164" y="342"/>
                    </a:lnTo>
                    <a:lnTo>
                      <a:pt x="1151" y="340"/>
                    </a:lnTo>
                    <a:lnTo>
                      <a:pt x="1139" y="340"/>
                    </a:lnTo>
                    <a:lnTo>
                      <a:pt x="1139" y="340"/>
                    </a:lnTo>
                    <a:close/>
                    <a:moveTo>
                      <a:pt x="1139" y="646"/>
                    </a:moveTo>
                    <a:lnTo>
                      <a:pt x="123" y="646"/>
                    </a:lnTo>
                    <a:lnTo>
                      <a:pt x="110" y="646"/>
                    </a:lnTo>
                    <a:lnTo>
                      <a:pt x="98" y="646"/>
                    </a:lnTo>
                    <a:lnTo>
                      <a:pt x="86" y="647"/>
                    </a:lnTo>
                    <a:lnTo>
                      <a:pt x="75" y="647"/>
                    </a:lnTo>
                    <a:lnTo>
                      <a:pt x="64" y="647"/>
                    </a:lnTo>
                    <a:lnTo>
                      <a:pt x="54" y="649"/>
                    </a:lnTo>
                    <a:lnTo>
                      <a:pt x="45" y="649"/>
                    </a:lnTo>
                    <a:lnTo>
                      <a:pt x="36" y="650"/>
                    </a:lnTo>
                    <a:lnTo>
                      <a:pt x="27" y="650"/>
                    </a:lnTo>
                    <a:lnTo>
                      <a:pt x="21" y="651"/>
                    </a:lnTo>
                    <a:lnTo>
                      <a:pt x="15" y="651"/>
                    </a:lnTo>
                    <a:lnTo>
                      <a:pt x="10" y="652"/>
                    </a:lnTo>
                    <a:lnTo>
                      <a:pt x="6" y="654"/>
                    </a:lnTo>
                    <a:lnTo>
                      <a:pt x="2" y="654"/>
                    </a:lnTo>
                    <a:lnTo>
                      <a:pt x="1" y="655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6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1" y="698"/>
                    </a:lnTo>
                    <a:lnTo>
                      <a:pt x="2" y="698"/>
                    </a:lnTo>
                    <a:lnTo>
                      <a:pt x="6" y="699"/>
                    </a:lnTo>
                    <a:lnTo>
                      <a:pt x="10" y="700"/>
                    </a:lnTo>
                    <a:lnTo>
                      <a:pt x="15" y="700"/>
                    </a:lnTo>
                    <a:lnTo>
                      <a:pt x="21" y="702"/>
                    </a:lnTo>
                    <a:lnTo>
                      <a:pt x="27" y="702"/>
                    </a:lnTo>
                    <a:lnTo>
                      <a:pt x="36" y="703"/>
                    </a:lnTo>
                    <a:lnTo>
                      <a:pt x="45" y="703"/>
                    </a:lnTo>
                    <a:lnTo>
                      <a:pt x="54" y="704"/>
                    </a:lnTo>
                    <a:lnTo>
                      <a:pt x="64" y="704"/>
                    </a:lnTo>
                    <a:lnTo>
                      <a:pt x="75" y="705"/>
                    </a:lnTo>
                    <a:lnTo>
                      <a:pt x="86" y="705"/>
                    </a:lnTo>
                    <a:lnTo>
                      <a:pt x="98" y="705"/>
                    </a:lnTo>
                    <a:lnTo>
                      <a:pt x="110" y="705"/>
                    </a:lnTo>
                    <a:lnTo>
                      <a:pt x="123" y="705"/>
                    </a:lnTo>
                    <a:lnTo>
                      <a:pt x="123" y="705"/>
                    </a:lnTo>
                    <a:lnTo>
                      <a:pt x="1139" y="705"/>
                    </a:lnTo>
                    <a:lnTo>
                      <a:pt x="1151" y="705"/>
                    </a:lnTo>
                    <a:lnTo>
                      <a:pt x="1164" y="705"/>
                    </a:lnTo>
                    <a:lnTo>
                      <a:pt x="1175" y="705"/>
                    </a:lnTo>
                    <a:lnTo>
                      <a:pt x="1186" y="705"/>
                    </a:lnTo>
                    <a:lnTo>
                      <a:pt x="1198" y="704"/>
                    </a:lnTo>
                    <a:lnTo>
                      <a:pt x="1208" y="704"/>
                    </a:lnTo>
                    <a:lnTo>
                      <a:pt x="1216" y="703"/>
                    </a:lnTo>
                    <a:lnTo>
                      <a:pt x="1225" y="703"/>
                    </a:lnTo>
                    <a:lnTo>
                      <a:pt x="1233" y="702"/>
                    </a:lnTo>
                    <a:lnTo>
                      <a:pt x="1240" y="702"/>
                    </a:lnTo>
                    <a:lnTo>
                      <a:pt x="1246" y="700"/>
                    </a:lnTo>
                    <a:lnTo>
                      <a:pt x="1251" y="700"/>
                    </a:lnTo>
                    <a:lnTo>
                      <a:pt x="1255" y="699"/>
                    </a:lnTo>
                    <a:lnTo>
                      <a:pt x="1259" y="698"/>
                    </a:lnTo>
                    <a:lnTo>
                      <a:pt x="1260" y="698"/>
                    </a:lnTo>
                    <a:lnTo>
                      <a:pt x="1260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56"/>
                    </a:lnTo>
                    <a:lnTo>
                      <a:pt x="1260" y="655"/>
                    </a:lnTo>
                    <a:lnTo>
                      <a:pt x="1260" y="655"/>
                    </a:lnTo>
                    <a:lnTo>
                      <a:pt x="1259" y="654"/>
                    </a:lnTo>
                    <a:lnTo>
                      <a:pt x="1255" y="654"/>
                    </a:lnTo>
                    <a:lnTo>
                      <a:pt x="1251" y="652"/>
                    </a:lnTo>
                    <a:lnTo>
                      <a:pt x="1246" y="651"/>
                    </a:lnTo>
                    <a:lnTo>
                      <a:pt x="1240" y="651"/>
                    </a:lnTo>
                    <a:lnTo>
                      <a:pt x="1233" y="650"/>
                    </a:lnTo>
                    <a:lnTo>
                      <a:pt x="1225" y="650"/>
                    </a:lnTo>
                    <a:lnTo>
                      <a:pt x="1216" y="649"/>
                    </a:lnTo>
                    <a:lnTo>
                      <a:pt x="1208" y="649"/>
                    </a:lnTo>
                    <a:lnTo>
                      <a:pt x="1198" y="647"/>
                    </a:lnTo>
                    <a:lnTo>
                      <a:pt x="1186" y="647"/>
                    </a:lnTo>
                    <a:lnTo>
                      <a:pt x="1175" y="647"/>
                    </a:lnTo>
                    <a:lnTo>
                      <a:pt x="1164" y="646"/>
                    </a:lnTo>
                    <a:lnTo>
                      <a:pt x="1151" y="646"/>
                    </a:lnTo>
                    <a:lnTo>
                      <a:pt x="1139" y="646"/>
                    </a:lnTo>
                    <a:lnTo>
                      <a:pt x="1139" y="646"/>
                    </a:lnTo>
                    <a:close/>
                    <a:moveTo>
                      <a:pt x="1753" y="703"/>
                    </a:moveTo>
                    <a:lnTo>
                      <a:pt x="1753" y="74"/>
                    </a:lnTo>
                    <a:lnTo>
                      <a:pt x="1751" y="59"/>
                    </a:lnTo>
                    <a:lnTo>
                      <a:pt x="1751" y="53"/>
                    </a:lnTo>
                    <a:lnTo>
                      <a:pt x="1751" y="45"/>
                    </a:lnTo>
                    <a:lnTo>
                      <a:pt x="1751" y="39"/>
                    </a:lnTo>
                    <a:lnTo>
                      <a:pt x="1750" y="32"/>
                    </a:lnTo>
                    <a:lnTo>
                      <a:pt x="1750" y="27"/>
                    </a:lnTo>
                    <a:lnTo>
                      <a:pt x="1749" y="21"/>
                    </a:lnTo>
                    <a:lnTo>
                      <a:pt x="1749" y="16"/>
                    </a:lnTo>
                    <a:lnTo>
                      <a:pt x="1748" y="12"/>
                    </a:lnTo>
                    <a:lnTo>
                      <a:pt x="1748" y="8"/>
                    </a:lnTo>
                    <a:lnTo>
                      <a:pt x="1746" y="5"/>
                    </a:lnTo>
                    <a:lnTo>
                      <a:pt x="1745" y="2"/>
                    </a:lnTo>
                    <a:lnTo>
                      <a:pt x="1745" y="1"/>
                    </a:lnTo>
                    <a:lnTo>
                      <a:pt x="1744" y="0"/>
                    </a:lnTo>
                    <a:lnTo>
                      <a:pt x="1743" y="0"/>
                    </a:lnTo>
                    <a:lnTo>
                      <a:pt x="1705" y="0"/>
                    </a:lnTo>
                    <a:lnTo>
                      <a:pt x="1704" y="0"/>
                    </a:lnTo>
                    <a:lnTo>
                      <a:pt x="1703" y="1"/>
                    </a:lnTo>
                    <a:lnTo>
                      <a:pt x="1703" y="2"/>
                    </a:lnTo>
                    <a:lnTo>
                      <a:pt x="1701" y="5"/>
                    </a:lnTo>
                    <a:lnTo>
                      <a:pt x="1700" y="8"/>
                    </a:lnTo>
                    <a:lnTo>
                      <a:pt x="1700" y="12"/>
                    </a:lnTo>
                    <a:lnTo>
                      <a:pt x="1699" y="16"/>
                    </a:lnTo>
                    <a:lnTo>
                      <a:pt x="1699" y="21"/>
                    </a:lnTo>
                    <a:lnTo>
                      <a:pt x="1698" y="27"/>
                    </a:lnTo>
                    <a:lnTo>
                      <a:pt x="1698" y="32"/>
                    </a:lnTo>
                    <a:lnTo>
                      <a:pt x="1696" y="39"/>
                    </a:lnTo>
                    <a:lnTo>
                      <a:pt x="1696" y="45"/>
                    </a:lnTo>
                    <a:lnTo>
                      <a:pt x="1696" y="53"/>
                    </a:lnTo>
                    <a:lnTo>
                      <a:pt x="1696" y="59"/>
                    </a:lnTo>
                    <a:lnTo>
                      <a:pt x="1695" y="74"/>
                    </a:lnTo>
                    <a:lnTo>
                      <a:pt x="1695" y="74"/>
                    </a:lnTo>
                    <a:lnTo>
                      <a:pt x="1695" y="703"/>
                    </a:lnTo>
                    <a:lnTo>
                      <a:pt x="1696" y="712"/>
                    </a:lnTo>
                    <a:lnTo>
                      <a:pt x="1696" y="719"/>
                    </a:lnTo>
                    <a:lnTo>
                      <a:pt x="1696" y="727"/>
                    </a:lnTo>
                    <a:lnTo>
                      <a:pt x="1696" y="733"/>
                    </a:lnTo>
                    <a:lnTo>
                      <a:pt x="1696" y="739"/>
                    </a:lnTo>
                    <a:lnTo>
                      <a:pt x="1698" y="746"/>
                    </a:lnTo>
                    <a:lnTo>
                      <a:pt x="1698" y="752"/>
                    </a:lnTo>
                    <a:lnTo>
                      <a:pt x="1699" y="757"/>
                    </a:lnTo>
                    <a:lnTo>
                      <a:pt x="1699" y="762"/>
                    </a:lnTo>
                    <a:lnTo>
                      <a:pt x="1700" y="766"/>
                    </a:lnTo>
                    <a:lnTo>
                      <a:pt x="1700" y="770"/>
                    </a:lnTo>
                    <a:lnTo>
                      <a:pt x="1701" y="774"/>
                    </a:lnTo>
                    <a:lnTo>
                      <a:pt x="1703" y="775"/>
                    </a:lnTo>
                    <a:lnTo>
                      <a:pt x="1703" y="777"/>
                    </a:lnTo>
                    <a:lnTo>
                      <a:pt x="1704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43" y="779"/>
                    </a:lnTo>
                    <a:lnTo>
                      <a:pt x="1744" y="779"/>
                    </a:lnTo>
                    <a:lnTo>
                      <a:pt x="1745" y="777"/>
                    </a:lnTo>
                    <a:lnTo>
                      <a:pt x="1745" y="775"/>
                    </a:lnTo>
                    <a:lnTo>
                      <a:pt x="1746" y="774"/>
                    </a:lnTo>
                    <a:lnTo>
                      <a:pt x="1748" y="770"/>
                    </a:lnTo>
                    <a:lnTo>
                      <a:pt x="1748" y="766"/>
                    </a:lnTo>
                    <a:lnTo>
                      <a:pt x="1749" y="762"/>
                    </a:lnTo>
                    <a:lnTo>
                      <a:pt x="1749" y="757"/>
                    </a:lnTo>
                    <a:lnTo>
                      <a:pt x="1750" y="752"/>
                    </a:lnTo>
                    <a:lnTo>
                      <a:pt x="1750" y="746"/>
                    </a:lnTo>
                    <a:lnTo>
                      <a:pt x="1751" y="739"/>
                    </a:lnTo>
                    <a:lnTo>
                      <a:pt x="1751" y="733"/>
                    </a:lnTo>
                    <a:lnTo>
                      <a:pt x="1751" y="727"/>
                    </a:lnTo>
                    <a:lnTo>
                      <a:pt x="1751" y="719"/>
                    </a:lnTo>
                    <a:lnTo>
                      <a:pt x="1753" y="712"/>
                    </a:lnTo>
                    <a:lnTo>
                      <a:pt x="1753" y="703"/>
                    </a:lnTo>
                    <a:lnTo>
                      <a:pt x="1753" y="703"/>
                    </a:lnTo>
                    <a:close/>
                    <a:moveTo>
                      <a:pt x="2573" y="703"/>
                    </a:moveTo>
                    <a:lnTo>
                      <a:pt x="2573" y="74"/>
                    </a:lnTo>
                    <a:lnTo>
                      <a:pt x="2573" y="59"/>
                    </a:lnTo>
                    <a:lnTo>
                      <a:pt x="2573" y="53"/>
                    </a:lnTo>
                    <a:lnTo>
                      <a:pt x="2573" y="45"/>
                    </a:lnTo>
                    <a:lnTo>
                      <a:pt x="2572" y="39"/>
                    </a:lnTo>
                    <a:lnTo>
                      <a:pt x="2572" y="32"/>
                    </a:lnTo>
                    <a:lnTo>
                      <a:pt x="2572" y="27"/>
                    </a:lnTo>
                    <a:lnTo>
                      <a:pt x="2571" y="21"/>
                    </a:lnTo>
                    <a:lnTo>
                      <a:pt x="2571" y="16"/>
                    </a:lnTo>
                    <a:lnTo>
                      <a:pt x="2570" y="12"/>
                    </a:lnTo>
                    <a:lnTo>
                      <a:pt x="2568" y="8"/>
                    </a:lnTo>
                    <a:lnTo>
                      <a:pt x="2568" y="5"/>
                    </a:lnTo>
                    <a:lnTo>
                      <a:pt x="2567" y="2"/>
                    </a:lnTo>
                    <a:lnTo>
                      <a:pt x="2567" y="1"/>
                    </a:lnTo>
                    <a:lnTo>
                      <a:pt x="2566" y="0"/>
                    </a:lnTo>
                    <a:lnTo>
                      <a:pt x="2565" y="0"/>
                    </a:lnTo>
                    <a:lnTo>
                      <a:pt x="2524" y="0"/>
                    </a:lnTo>
                    <a:lnTo>
                      <a:pt x="2523" y="0"/>
                    </a:lnTo>
                    <a:lnTo>
                      <a:pt x="2522" y="1"/>
                    </a:lnTo>
                    <a:lnTo>
                      <a:pt x="2522" y="2"/>
                    </a:lnTo>
                    <a:lnTo>
                      <a:pt x="2521" y="5"/>
                    </a:lnTo>
                    <a:lnTo>
                      <a:pt x="2521" y="8"/>
                    </a:lnTo>
                    <a:lnTo>
                      <a:pt x="2519" y="12"/>
                    </a:lnTo>
                    <a:lnTo>
                      <a:pt x="2519" y="16"/>
                    </a:lnTo>
                    <a:lnTo>
                      <a:pt x="2519" y="21"/>
                    </a:lnTo>
                    <a:lnTo>
                      <a:pt x="2518" y="27"/>
                    </a:lnTo>
                    <a:lnTo>
                      <a:pt x="2518" y="32"/>
                    </a:lnTo>
                    <a:lnTo>
                      <a:pt x="2518" y="39"/>
                    </a:lnTo>
                    <a:lnTo>
                      <a:pt x="2518" y="45"/>
                    </a:lnTo>
                    <a:lnTo>
                      <a:pt x="2517" y="53"/>
                    </a:lnTo>
                    <a:lnTo>
                      <a:pt x="2517" y="59"/>
                    </a:lnTo>
                    <a:lnTo>
                      <a:pt x="2517" y="74"/>
                    </a:lnTo>
                    <a:lnTo>
                      <a:pt x="2517" y="74"/>
                    </a:lnTo>
                    <a:lnTo>
                      <a:pt x="2517" y="703"/>
                    </a:lnTo>
                    <a:lnTo>
                      <a:pt x="2517" y="712"/>
                    </a:lnTo>
                    <a:lnTo>
                      <a:pt x="2517" y="719"/>
                    </a:lnTo>
                    <a:lnTo>
                      <a:pt x="2517" y="727"/>
                    </a:lnTo>
                    <a:lnTo>
                      <a:pt x="2518" y="733"/>
                    </a:lnTo>
                    <a:lnTo>
                      <a:pt x="2518" y="739"/>
                    </a:lnTo>
                    <a:lnTo>
                      <a:pt x="2518" y="746"/>
                    </a:lnTo>
                    <a:lnTo>
                      <a:pt x="2518" y="752"/>
                    </a:lnTo>
                    <a:lnTo>
                      <a:pt x="2519" y="757"/>
                    </a:lnTo>
                    <a:lnTo>
                      <a:pt x="2519" y="762"/>
                    </a:lnTo>
                    <a:lnTo>
                      <a:pt x="2519" y="766"/>
                    </a:lnTo>
                    <a:lnTo>
                      <a:pt x="2521" y="770"/>
                    </a:lnTo>
                    <a:lnTo>
                      <a:pt x="2521" y="774"/>
                    </a:lnTo>
                    <a:lnTo>
                      <a:pt x="2522" y="775"/>
                    </a:lnTo>
                    <a:lnTo>
                      <a:pt x="2522" y="777"/>
                    </a:lnTo>
                    <a:lnTo>
                      <a:pt x="2523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65" y="779"/>
                    </a:lnTo>
                    <a:lnTo>
                      <a:pt x="2566" y="779"/>
                    </a:lnTo>
                    <a:lnTo>
                      <a:pt x="2567" y="777"/>
                    </a:lnTo>
                    <a:lnTo>
                      <a:pt x="2567" y="775"/>
                    </a:lnTo>
                    <a:lnTo>
                      <a:pt x="2568" y="774"/>
                    </a:lnTo>
                    <a:lnTo>
                      <a:pt x="2568" y="770"/>
                    </a:lnTo>
                    <a:lnTo>
                      <a:pt x="2570" y="766"/>
                    </a:lnTo>
                    <a:lnTo>
                      <a:pt x="2571" y="762"/>
                    </a:lnTo>
                    <a:lnTo>
                      <a:pt x="2571" y="757"/>
                    </a:lnTo>
                    <a:lnTo>
                      <a:pt x="2572" y="752"/>
                    </a:lnTo>
                    <a:lnTo>
                      <a:pt x="2572" y="746"/>
                    </a:lnTo>
                    <a:lnTo>
                      <a:pt x="2572" y="739"/>
                    </a:lnTo>
                    <a:lnTo>
                      <a:pt x="2573" y="733"/>
                    </a:lnTo>
                    <a:lnTo>
                      <a:pt x="2573" y="727"/>
                    </a:lnTo>
                    <a:lnTo>
                      <a:pt x="2573" y="719"/>
                    </a:lnTo>
                    <a:lnTo>
                      <a:pt x="2573" y="712"/>
                    </a:lnTo>
                    <a:lnTo>
                      <a:pt x="2573" y="703"/>
                    </a:lnTo>
                    <a:lnTo>
                      <a:pt x="2573" y="703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9" name=""/>
              <p:cNvSpPr/>
              <p:nvPr/>
            </p:nvSpPr>
            <p:spPr>
              <a:xfrm>
                <a:off x="2886120" y="615132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5" y="0"/>
                    </a:lnTo>
                    <a:lnTo>
                      <a:pt x="64" y="1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6" y="3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6" y="52"/>
                    </a:lnTo>
                    <a:lnTo>
                      <a:pt x="10" y="53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7" y="56"/>
                    </a:lnTo>
                    <a:lnTo>
                      <a:pt x="36" y="56"/>
                    </a:lnTo>
                    <a:lnTo>
                      <a:pt x="45" y="57"/>
                    </a:lnTo>
                    <a:lnTo>
                      <a:pt x="54" y="57"/>
                    </a:lnTo>
                    <a:lnTo>
                      <a:pt x="64" y="58"/>
                    </a:lnTo>
                    <a:lnTo>
                      <a:pt x="75" y="58"/>
                    </a:lnTo>
                    <a:lnTo>
                      <a:pt x="86" y="58"/>
                    </a:lnTo>
                    <a:lnTo>
                      <a:pt x="98" y="58"/>
                    </a:lnTo>
                    <a:lnTo>
                      <a:pt x="110" y="58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58"/>
                    </a:lnTo>
                    <a:lnTo>
                      <a:pt x="1164" y="58"/>
                    </a:lnTo>
                    <a:lnTo>
                      <a:pt x="1175" y="58"/>
                    </a:lnTo>
                    <a:lnTo>
                      <a:pt x="1186" y="58"/>
                    </a:lnTo>
                    <a:lnTo>
                      <a:pt x="1198" y="58"/>
                    </a:lnTo>
                    <a:lnTo>
                      <a:pt x="1208" y="57"/>
                    </a:lnTo>
                    <a:lnTo>
                      <a:pt x="1216" y="57"/>
                    </a:lnTo>
                    <a:lnTo>
                      <a:pt x="1225" y="56"/>
                    </a:lnTo>
                    <a:lnTo>
                      <a:pt x="1233" y="56"/>
                    </a:lnTo>
                    <a:lnTo>
                      <a:pt x="1240" y="54"/>
                    </a:lnTo>
                    <a:lnTo>
                      <a:pt x="1246" y="54"/>
                    </a:lnTo>
                    <a:lnTo>
                      <a:pt x="1251" y="53"/>
                    </a:lnTo>
                    <a:lnTo>
                      <a:pt x="1255" y="52"/>
                    </a:lnTo>
                    <a:lnTo>
                      <a:pt x="1259" y="52"/>
                    </a:lnTo>
                    <a:lnTo>
                      <a:pt x="1260" y="51"/>
                    </a:lnTo>
                    <a:lnTo>
                      <a:pt x="1260" y="51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9"/>
                    </a:lnTo>
                    <a:lnTo>
                      <a:pt x="1260" y="8"/>
                    </a:lnTo>
                    <a:lnTo>
                      <a:pt x="1260" y="8"/>
                    </a:lnTo>
                    <a:lnTo>
                      <a:pt x="1259" y="7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6" y="5"/>
                    </a:lnTo>
                    <a:lnTo>
                      <a:pt x="1240" y="4"/>
                    </a:lnTo>
                    <a:lnTo>
                      <a:pt x="1233" y="3"/>
                    </a:lnTo>
                    <a:lnTo>
                      <a:pt x="1225" y="3"/>
                    </a:lnTo>
                    <a:lnTo>
                      <a:pt x="1216" y="1"/>
                    </a:lnTo>
                    <a:lnTo>
                      <a:pt x="1208" y="1"/>
                    </a:lnTo>
                    <a:lnTo>
                      <a:pt x="1198" y="1"/>
                    </a:lnTo>
                    <a:lnTo>
                      <a:pt x="1186" y="0"/>
                    </a:lnTo>
                    <a:lnTo>
                      <a:pt x="1175" y="0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0" name=""/>
              <p:cNvSpPr/>
              <p:nvPr/>
            </p:nvSpPr>
            <p:spPr>
              <a:xfrm>
                <a:off x="2886120" y="631980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2"/>
                    </a:lnTo>
                    <a:lnTo>
                      <a:pt x="86" y="2"/>
                    </a:lnTo>
                    <a:lnTo>
                      <a:pt x="75" y="2"/>
                    </a:lnTo>
                    <a:lnTo>
                      <a:pt x="64" y="2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10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21" y="56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9"/>
                    </a:lnTo>
                    <a:lnTo>
                      <a:pt x="54" y="59"/>
                    </a:lnTo>
                    <a:lnTo>
                      <a:pt x="64" y="59"/>
                    </a:lnTo>
                    <a:lnTo>
                      <a:pt x="75" y="60"/>
                    </a:lnTo>
                    <a:lnTo>
                      <a:pt x="86" y="60"/>
                    </a:lnTo>
                    <a:lnTo>
                      <a:pt x="98" y="60"/>
                    </a:lnTo>
                    <a:lnTo>
                      <a:pt x="110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60"/>
                    </a:lnTo>
                    <a:lnTo>
                      <a:pt x="1164" y="60"/>
                    </a:lnTo>
                    <a:lnTo>
                      <a:pt x="1175" y="60"/>
                    </a:lnTo>
                    <a:lnTo>
                      <a:pt x="1186" y="60"/>
                    </a:lnTo>
                    <a:lnTo>
                      <a:pt x="1198" y="59"/>
                    </a:lnTo>
                    <a:lnTo>
                      <a:pt x="1208" y="59"/>
                    </a:lnTo>
                    <a:lnTo>
                      <a:pt x="1216" y="59"/>
                    </a:lnTo>
                    <a:lnTo>
                      <a:pt x="1225" y="57"/>
                    </a:lnTo>
                    <a:lnTo>
                      <a:pt x="1233" y="57"/>
                    </a:lnTo>
                    <a:lnTo>
                      <a:pt x="1240" y="56"/>
                    </a:lnTo>
                    <a:lnTo>
                      <a:pt x="1246" y="55"/>
                    </a:lnTo>
                    <a:lnTo>
                      <a:pt x="1251" y="55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11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7"/>
                    </a:lnTo>
                    <a:lnTo>
                      <a:pt x="1246" y="6"/>
                    </a:lnTo>
                    <a:lnTo>
                      <a:pt x="1240" y="6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2"/>
                    </a:lnTo>
                    <a:lnTo>
                      <a:pt x="1186" y="2"/>
                    </a:lnTo>
                    <a:lnTo>
                      <a:pt x="1175" y="2"/>
                    </a:lnTo>
                    <a:lnTo>
                      <a:pt x="1164" y="2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1" name=""/>
              <p:cNvSpPr/>
              <p:nvPr/>
            </p:nvSpPr>
            <p:spPr>
              <a:xfrm>
                <a:off x="2886120" y="649008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59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1"/>
                    </a:lnTo>
                    <a:lnTo>
                      <a:pt x="75" y="1"/>
                    </a:lnTo>
                    <a:lnTo>
                      <a:pt x="64" y="1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5"/>
                    </a:lnTo>
                    <a:lnTo>
                      <a:pt x="15" y="5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4"/>
                    </a:lnTo>
                    <a:lnTo>
                      <a:pt x="15" y="54"/>
                    </a:lnTo>
                    <a:lnTo>
                      <a:pt x="21" y="56"/>
                    </a:lnTo>
                    <a:lnTo>
                      <a:pt x="27" y="56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8"/>
                    </a:lnTo>
                    <a:lnTo>
                      <a:pt x="64" y="58"/>
                    </a:lnTo>
                    <a:lnTo>
                      <a:pt x="75" y="59"/>
                    </a:lnTo>
                    <a:lnTo>
                      <a:pt x="86" y="59"/>
                    </a:lnTo>
                    <a:lnTo>
                      <a:pt x="98" y="59"/>
                    </a:lnTo>
                    <a:lnTo>
                      <a:pt x="110" y="59"/>
                    </a:lnTo>
                    <a:lnTo>
                      <a:pt x="123" y="59"/>
                    </a:lnTo>
                    <a:lnTo>
                      <a:pt x="123" y="59"/>
                    </a:lnTo>
                    <a:lnTo>
                      <a:pt x="1139" y="59"/>
                    </a:lnTo>
                    <a:lnTo>
                      <a:pt x="1151" y="59"/>
                    </a:lnTo>
                    <a:lnTo>
                      <a:pt x="1164" y="59"/>
                    </a:lnTo>
                    <a:lnTo>
                      <a:pt x="1175" y="59"/>
                    </a:lnTo>
                    <a:lnTo>
                      <a:pt x="1186" y="59"/>
                    </a:lnTo>
                    <a:lnTo>
                      <a:pt x="1198" y="58"/>
                    </a:lnTo>
                    <a:lnTo>
                      <a:pt x="1208" y="58"/>
                    </a:lnTo>
                    <a:lnTo>
                      <a:pt x="1216" y="57"/>
                    </a:lnTo>
                    <a:lnTo>
                      <a:pt x="1225" y="57"/>
                    </a:lnTo>
                    <a:lnTo>
                      <a:pt x="1233" y="56"/>
                    </a:lnTo>
                    <a:lnTo>
                      <a:pt x="1240" y="56"/>
                    </a:lnTo>
                    <a:lnTo>
                      <a:pt x="1246" y="54"/>
                    </a:lnTo>
                    <a:lnTo>
                      <a:pt x="1251" y="54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10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6"/>
                    </a:lnTo>
                    <a:lnTo>
                      <a:pt x="1246" y="5"/>
                    </a:lnTo>
                    <a:lnTo>
                      <a:pt x="1240" y="5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1"/>
                    </a:lnTo>
                    <a:lnTo>
                      <a:pt x="1186" y="1"/>
                    </a:lnTo>
                    <a:lnTo>
                      <a:pt x="1175" y="1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2" name=""/>
              <p:cNvSpPr/>
              <p:nvPr/>
            </p:nvSpPr>
            <p:spPr>
              <a:xfrm>
                <a:off x="4039200" y="6130800"/>
                <a:ext cx="38160" cy="432360"/>
              </a:xfrm>
              <a:custGeom>
                <a:avLst/>
                <a:gdLst/>
                <a:ahLst/>
                <a:rect l="l" t="t" r="r" b="b"/>
                <a:pathLst>
                  <a:path w="58" h="779">
                    <a:moveTo>
                      <a:pt x="58" y="703"/>
                    </a:moveTo>
                    <a:lnTo>
                      <a:pt x="58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6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4" y="21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1" y="712"/>
                    </a:lnTo>
                    <a:lnTo>
                      <a:pt x="1" y="719"/>
                    </a:lnTo>
                    <a:lnTo>
                      <a:pt x="1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3" y="746"/>
                    </a:lnTo>
                    <a:lnTo>
                      <a:pt x="3" y="752"/>
                    </a:lnTo>
                    <a:lnTo>
                      <a:pt x="4" y="757"/>
                    </a:lnTo>
                    <a:lnTo>
                      <a:pt x="4" y="762"/>
                    </a:lnTo>
                    <a:lnTo>
                      <a:pt x="5" y="766"/>
                    </a:lnTo>
                    <a:lnTo>
                      <a:pt x="5" y="770"/>
                    </a:lnTo>
                    <a:lnTo>
                      <a:pt x="6" y="774"/>
                    </a:lnTo>
                    <a:lnTo>
                      <a:pt x="8" y="775"/>
                    </a:lnTo>
                    <a:lnTo>
                      <a:pt x="8" y="777"/>
                    </a:lnTo>
                    <a:lnTo>
                      <a:pt x="9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3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6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8" y="712"/>
                    </a:lnTo>
                    <a:lnTo>
                      <a:pt x="58" y="703"/>
                    </a:lnTo>
                    <a:lnTo>
                      <a:pt x="58" y="70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3" name=""/>
              <p:cNvSpPr/>
              <p:nvPr/>
            </p:nvSpPr>
            <p:spPr>
              <a:xfrm>
                <a:off x="4597200" y="6130800"/>
                <a:ext cx="39240" cy="432360"/>
              </a:xfrm>
              <a:custGeom>
                <a:avLst/>
                <a:gdLst/>
                <a:ahLst/>
                <a:rect l="l" t="t" r="r" b="b"/>
                <a:pathLst>
                  <a:path w="56" h="779">
                    <a:moveTo>
                      <a:pt x="56" y="703"/>
                    </a:moveTo>
                    <a:lnTo>
                      <a:pt x="56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5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0" y="712"/>
                    </a:lnTo>
                    <a:lnTo>
                      <a:pt x="0" y="719"/>
                    </a:lnTo>
                    <a:lnTo>
                      <a:pt x="0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1" y="746"/>
                    </a:lnTo>
                    <a:lnTo>
                      <a:pt x="1" y="752"/>
                    </a:lnTo>
                    <a:lnTo>
                      <a:pt x="2" y="757"/>
                    </a:lnTo>
                    <a:lnTo>
                      <a:pt x="2" y="762"/>
                    </a:lnTo>
                    <a:lnTo>
                      <a:pt x="2" y="766"/>
                    </a:lnTo>
                    <a:lnTo>
                      <a:pt x="4" y="770"/>
                    </a:lnTo>
                    <a:lnTo>
                      <a:pt x="4" y="774"/>
                    </a:lnTo>
                    <a:lnTo>
                      <a:pt x="5" y="775"/>
                    </a:lnTo>
                    <a:lnTo>
                      <a:pt x="5" y="777"/>
                    </a:lnTo>
                    <a:lnTo>
                      <a:pt x="6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1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5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6" y="712"/>
                    </a:lnTo>
                    <a:lnTo>
                      <a:pt x="56" y="703"/>
                    </a:lnTo>
                    <a:lnTo>
                      <a:pt x="56" y="70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4" name=""/>
              <p:cNvSpPr/>
              <p:nvPr/>
            </p:nvSpPr>
            <p:spPr>
              <a:xfrm>
                <a:off x="3024360" y="6255720"/>
                <a:ext cx="99000" cy="18720"/>
              </a:xfrm>
              <a:custGeom>
                <a:avLst/>
                <a:gdLst/>
                <a:ahLst/>
                <a:rect l="l" t="t" r="r" b="b"/>
                <a:pathLst>
                  <a:path w="145" h="35">
                    <a:moveTo>
                      <a:pt x="36" y="35"/>
                    </a:moveTo>
                    <a:lnTo>
                      <a:pt x="109" y="35"/>
                    </a:lnTo>
                    <a:lnTo>
                      <a:pt x="109" y="35"/>
                    </a:lnTo>
                    <a:lnTo>
                      <a:pt x="110" y="35"/>
                    </a:lnTo>
                    <a:lnTo>
                      <a:pt x="112" y="35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20" y="34"/>
                    </a:lnTo>
                    <a:lnTo>
                      <a:pt x="123" y="33"/>
                    </a:lnTo>
                    <a:lnTo>
                      <a:pt x="127" y="32"/>
                    </a:lnTo>
                    <a:lnTo>
                      <a:pt x="130" y="29"/>
                    </a:lnTo>
                    <a:lnTo>
                      <a:pt x="133" y="27"/>
                    </a:lnTo>
                    <a:lnTo>
                      <a:pt x="137" y="24"/>
                    </a:lnTo>
                    <a:lnTo>
                      <a:pt x="139" y="20"/>
                    </a:lnTo>
                    <a:lnTo>
                      <a:pt x="142" y="16"/>
                    </a:lnTo>
                    <a:lnTo>
                      <a:pt x="143" y="11"/>
                    </a:lnTo>
                    <a:lnTo>
                      <a:pt x="144" y="6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4" y="16"/>
                    </a:lnTo>
                    <a:lnTo>
                      <a:pt x="5" y="20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3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5" name=""/>
              <p:cNvSpPr/>
              <p:nvPr/>
            </p:nvSpPr>
            <p:spPr>
              <a:xfrm>
                <a:off x="3024360" y="6416640"/>
                <a:ext cx="99000" cy="2088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36" y="36"/>
                    </a:moveTo>
                    <a:lnTo>
                      <a:pt x="109" y="36"/>
                    </a:lnTo>
                    <a:lnTo>
                      <a:pt x="109" y="36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7" y="36"/>
                    </a:lnTo>
                    <a:lnTo>
                      <a:pt x="120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7" y="36"/>
                    </a:lnTo>
                    <a:lnTo>
                      <a:pt x="139" y="36"/>
                    </a:lnTo>
                    <a:lnTo>
                      <a:pt x="142" y="36"/>
                    </a:lnTo>
                    <a:lnTo>
                      <a:pt x="143" y="36"/>
                    </a:lnTo>
                    <a:lnTo>
                      <a:pt x="144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4" y="29"/>
                    </a:lnTo>
                    <a:lnTo>
                      <a:pt x="143" y="24"/>
                    </a:lnTo>
                    <a:lnTo>
                      <a:pt x="142" y="19"/>
                    </a:lnTo>
                    <a:lnTo>
                      <a:pt x="139" y="15"/>
                    </a:lnTo>
                    <a:lnTo>
                      <a:pt x="137" y="11"/>
                    </a:lnTo>
                    <a:lnTo>
                      <a:pt x="133" y="9"/>
                    </a:lnTo>
                    <a:lnTo>
                      <a:pt x="130" y="6"/>
                    </a:lnTo>
                    <a:lnTo>
                      <a:pt x="127" y="3"/>
                    </a:lnTo>
                    <a:lnTo>
                      <a:pt x="123" y="2"/>
                    </a:lnTo>
                    <a:lnTo>
                      <a:pt x="120" y="1"/>
                    </a:lnTo>
                    <a:lnTo>
                      <a:pt x="117" y="1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5" y="15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6" name=""/>
              <p:cNvSpPr/>
              <p:nvPr/>
            </p:nvSpPr>
            <p:spPr>
              <a:xfrm>
                <a:off x="3000600" y="6234480"/>
                <a:ext cx="23760" cy="20160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7" name=""/>
              <p:cNvSpPr/>
              <p:nvPr/>
            </p:nvSpPr>
            <p:spPr>
              <a:xfrm>
                <a:off x="3024360" y="6234480"/>
                <a:ext cx="23760" cy="201600"/>
              </a:xfrm>
              <a:prstGeom prst="rect">
                <a:avLst/>
              </a:prstGeom>
              <a:solidFill>
                <a:srgbClr val="dadad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8" name=""/>
              <p:cNvSpPr/>
              <p:nvPr/>
            </p:nvSpPr>
            <p:spPr>
              <a:xfrm>
                <a:off x="3048480" y="6234480"/>
                <a:ext cx="25200" cy="20160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9" name=""/>
              <p:cNvSpPr/>
              <p:nvPr/>
            </p:nvSpPr>
            <p:spPr>
              <a:xfrm>
                <a:off x="3073680" y="6234480"/>
                <a:ext cx="26280" cy="2016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0" name=""/>
              <p:cNvSpPr/>
              <p:nvPr/>
            </p:nvSpPr>
            <p:spPr>
              <a:xfrm>
                <a:off x="3023280" y="6239520"/>
                <a:ext cx="77400" cy="2448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17" y="46"/>
                    </a:move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3" y="37"/>
                    </a:lnTo>
                    <a:lnTo>
                      <a:pt x="115" y="34"/>
                    </a:lnTo>
                    <a:lnTo>
                      <a:pt x="116" y="31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18"/>
                    </a:lnTo>
                    <a:lnTo>
                      <a:pt x="116" y="15"/>
                    </a:lnTo>
                    <a:lnTo>
                      <a:pt x="115" y="12"/>
                    </a:lnTo>
                    <a:lnTo>
                      <a:pt x="113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7" y="46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1" name=""/>
              <p:cNvSpPr/>
              <p:nvPr/>
            </p:nvSpPr>
            <p:spPr>
              <a:xfrm>
                <a:off x="3023280" y="6409080"/>
                <a:ext cx="77400" cy="2520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7" y="45"/>
                    </a:moveTo>
                    <a:lnTo>
                      <a:pt x="101" y="45"/>
                    </a:lnTo>
                    <a:lnTo>
                      <a:pt x="103" y="45"/>
                    </a:lnTo>
                    <a:lnTo>
                      <a:pt x="107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6" y="30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5" y="11"/>
                    </a:lnTo>
                    <a:lnTo>
                      <a:pt x="113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4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2" name=""/>
              <p:cNvSpPr/>
              <p:nvPr/>
            </p:nvSpPr>
            <p:spPr>
              <a:xfrm>
                <a:off x="3467880" y="6255720"/>
                <a:ext cx="74160" cy="1872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0" y="35"/>
                    </a:moveTo>
                    <a:lnTo>
                      <a:pt x="72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0" y="34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5" y="29"/>
                    </a:lnTo>
                    <a:lnTo>
                      <a:pt x="106" y="27"/>
                    </a:lnTo>
                    <a:lnTo>
                      <a:pt x="107" y="24"/>
                    </a:lnTo>
                    <a:lnTo>
                      <a:pt x="107" y="20"/>
                    </a:lnTo>
                    <a:lnTo>
                      <a:pt x="109" y="16"/>
                    </a:lnTo>
                    <a:lnTo>
                      <a:pt x="109" y="11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3" name=""/>
              <p:cNvSpPr/>
              <p:nvPr/>
            </p:nvSpPr>
            <p:spPr>
              <a:xfrm>
                <a:off x="3467880" y="6416640"/>
                <a:ext cx="74160" cy="2088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0" y="36"/>
                    </a:moveTo>
                    <a:lnTo>
                      <a:pt x="72" y="36"/>
                    </a:lnTo>
                    <a:lnTo>
                      <a:pt x="78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94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29"/>
                    </a:lnTo>
                    <a:lnTo>
                      <a:pt x="109" y="24"/>
                    </a:lnTo>
                    <a:lnTo>
                      <a:pt x="109" y="19"/>
                    </a:lnTo>
                    <a:lnTo>
                      <a:pt x="107" y="15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6"/>
                    </a:lnTo>
                    <a:lnTo>
                      <a:pt x="104" y="3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7" y="1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4" name=""/>
              <p:cNvSpPr/>
              <p:nvPr/>
            </p:nvSpPr>
            <p:spPr>
              <a:xfrm>
                <a:off x="3444120" y="6234480"/>
                <a:ext cx="23760" cy="20160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5" name=""/>
              <p:cNvSpPr/>
              <p:nvPr/>
            </p:nvSpPr>
            <p:spPr>
              <a:xfrm>
                <a:off x="3467880" y="6234480"/>
                <a:ext cx="25200" cy="201600"/>
              </a:xfrm>
              <a:prstGeom prst="rect">
                <a:avLst/>
              </a:prstGeom>
              <a:solidFill>
                <a:srgbClr val="c8c8c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6" name=""/>
              <p:cNvSpPr/>
              <p:nvPr/>
            </p:nvSpPr>
            <p:spPr>
              <a:xfrm>
                <a:off x="3493080" y="6234480"/>
                <a:ext cx="23760" cy="20160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7" name=""/>
              <p:cNvSpPr/>
              <p:nvPr/>
            </p:nvSpPr>
            <p:spPr>
              <a:xfrm>
                <a:off x="3516840" y="6234480"/>
                <a:ext cx="25200" cy="20160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8" name=""/>
              <p:cNvSpPr/>
              <p:nvPr/>
            </p:nvSpPr>
            <p:spPr>
              <a:xfrm>
                <a:off x="3447720" y="6239520"/>
                <a:ext cx="79920" cy="2448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7" y="46"/>
                    </a:moveTo>
                    <a:lnTo>
                      <a:pt x="99" y="46"/>
                    </a:lnTo>
                    <a:lnTo>
                      <a:pt x="102" y="46"/>
                    </a:lnTo>
                    <a:lnTo>
                      <a:pt x="106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4" y="37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8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6" y="2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2" y="37"/>
                    </a:lnTo>
                    <a:lnTo>
                      <a:pt x="5" y="41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7" y="46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9" name=""/>
              <p:cNvSpPr/>
              <p:nvPr/>
            </p:nvSpPr>
            <p:spPr>
              <a:xfrm>
                <a:off x="3447720" y="6409080"/>
                <a:ext cx="79920" cy="25200"/>
              </a:xfrm>
              <a:custGeom>
                <a:avLst/>
                <a:gdLst/>
                <a:ahLst/>
                <a:rect l="l" t="t" r="r" b="b"/>
                <a:pathLst>
                  <a:path w="117" h="45">
                    <a:moveTo>
                      <a:pt x="17" y="45"/>
                    </a:moveTo>
                    <a:lnTo>
                      <a:pt x="99" y="45"/>
                    </a:lnTo>
                    <a:lnTo>
                      <a:pt x="102" y="45"/>
                    </a:lnTo>
                    <a:lnTo>
                      <a:pt x="106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6" y="34"/>
                    </a:lnTo>
                    <a:lnTo>
                      <a:pt x="116" y="30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6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39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7" y="45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0" name=""/>
              <p:cNvSpPr/>
              <p:nvPr/>
            </p:nvSpPr>
            <p:spPr>
              <a:xfrm>
                <a:off x="2566800" y="6152040"/>
                <a:ext cx="205560" cy="336960"/>
              </a:xfrm>
              <a:custGeom>
                <a:avLst/>
                <a:gdLst/>
                <a:ahLst/>
                <a:rect l="l" t="t" r="r" b="b"/>
                <a:pathLst>
                  <a:path w="302" h="608">
                    <a:moveTo>
                      <a:pt x="70" y="340"/>
                    </a:moveTo>
                    <a:lnTo>
                      <a:pt x="70" y="338"/>
                    </a:lnTo>
                    <a:lnTo>
                      <a:pt x="70" y="334"/>
                    </a:lnTo>
                    <a:lnTo>
                      <a:pt x="69" y="330"/>
                    </a:lnTo>
                    <a:lnTo>
                      <a:pt x="68" y="327"/>
                    </a:lnTo>
                    <a:lnTo>
                      <a:pt x="65" y="321"/>
                    </a:lnTo>
                    <a:lnTo>
                      <a:pt x="60" y="316"/>
                    </a:lnTo>
                    <a:lnTo>
                      <a:pt x="55" y="312"/>
                    </a:lnTo>
                    <a:lnTo>
                      <a:pt x="50" y="309"/>
                    </a:lnTo>
                    <a:lnTo>
                      <a:pt x="47" y="309"/>
                    </a:lnTo>
                    <a:lnTo>
                      <a:pt x="44" y="307"/>
                    </a:lnTo>
                    <a:lnTo>
                      <a:pt x="40" y="306"/>
                    </a:lnTo>
                    <a:lnTo>
                      <a:pt x="37" y="306"/>
                    </a:lnTo>
                    <a:lnTo>
                      <a:pt x="33" y="306"/>
                    </a:lnTo>
                    <a:lnTo>
                      <a:pt x="29" y="307"/>
                    </a:lnTo>
                    <a:lnTo>
                      <a:pt x="26" y="309"/>
                    </a:lnTo>
                    <a:lnTo>
                      <a:pt x="23" y="309"/>
                    </a:lnTo>
                    <a:lnTo>
                      <a:pt x="16" y="312"/>
                    </a:lnTo>
                    <a:lnTo>
                      <a:pt x="11" y="316"/>
                    </a:lnTo>
                    <a:lnTo>
                      <a:pt x="6" y="321"/>
                    </a:lnTo>
                    <a:lnTo>
                      <a:pt x="4" y="327"/>
                    </a:lnTo>
                    <a:lnTo>
                      <a:pt x="3" y="330"/>
                    </a:lnTo>
                    <a:lnTo>
                      <a:pt x="1" y="334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4"/>
                    </a:lnTo>
                    <a:lnTo>
                      <a:pt x="1" y="348"/>
                    </a:lnTo>
                    <a:lnTo>
                      <a:pt x="3" y="351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11" y="367"/>
                    </a:lnTo>
                    <a:lnTo>
                      <a:pt x="16" y="370"/>
                    </a:lnTo>
                    <a:lnTo>
                      <a:pt x="23" y="374"/>
                    </a:lnTo>
                    <a:lnTo>
                      <a:pt x="26" y="375"/>
                    </a:lnTo>
                    <a:lnTo>
                      <a:pt x="29" y="377"/>
                    </a:lnTo>
                    <a:lnTo>
                      <a:pt x="33" y="377"/>
                    </a:lnTo>
                    <a:lnTo>
                      <a:pt x="37" y="377"/>
                    </a:lnTo>
                    <a:lnTo>
                      <a:pt x="40" y="377"/>
                    </a:lnTo>
                    <a:lnTo>
                      <a:pt x="44" y="377"/>
                    </a:lnTo>
                    <a:lnTo>
                      <a:pt x="47" y="375"/>
                    </a:lnTo>
                    <a:lnTo>
                      <a:pt x="50" y="374"/>
                    </a:lnTo>
                    <a:lnTo>
                      <a:pt x="55" y="370"/>
                    </a:lnTo>
                    <a:lnTo>
                      <a:pt x="60" y="367"/>
                    </a:lnTo>
                    <a:lnTo>
                      <a:pt x="65" y="362"/>
                    </a:lnTo>
                    <a:lnTo>
                      <a:pt x="68" y="355"/>
                    </a:lnTo>
                    <a:lnTo>
                      <a:pt x="69" y="351"/>
                    </a:lnTo>
                    <a:lnTo>
                      <a:pt x="70" y="348"/>
                    </a:lnTo>
                    <a:lnTo>
                      <a:pt x="70" y="344"/>
                    </a:lnTo>
                    <a:lnTo>
                      <a:pt x="70" y="340"/>
                    </a:lnTo>
                    <a:lnTo>
                      <a:pt x="70" y="340"/>
                    </a:lnTo>
                    <a:close/>
                    <a:moveTo>
                      <a:pt x="302" y="37"/>
                    </a:moveTo>
                    <a:lnTo>
                      <a:pt x="301" y="33"/>
                    </a:lnTo>
                    <a:lnTo>
                      <a:pt x="301" y="29"/>
                    </a:lnTo>
                    <a:lnTo>
                      <a:pt x="300" y="27"/>
                    </a:lnTo>
                    <a:lnTo>
                      <a:pt x="298" y="23"/>
                    </a:lnTo>
                    <a:lnTo>
                      <a:pt x="296" y="17"/>
                    </a:lnTo>
                    <a:lnTo>
                      <a:pt x="291" y="12"/>
                    </a:lnTo>
                    <a:lnTo>
                      <a:pt x="286" y="7"/>
                    </a:lnTo>
                    <a:lnTo>
                      <a:pt x="281" y="4"/>
                    </a:lnTo>
                    <a:lnTo>
                      <a:pt x="277" y="3"/>
                    </a:lnTo>
                    <a:lnTo>
                      <a:pt x="275" y="2"/>
                    </a:lnTo>
                    <a:lnTo>
                      <a:pt x="271" y="2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1" y="2"/>
                    </a:lnTo>
                    <a:lnTo>
                      <a:pt x="258" y="3"/>
                    </a:lnTo>
                    <a:lnTo>
                      <a:pt x="255" y="4"/>
                    </a:lnTo>
                    <a:lnTo>
                      <a:pt x="250" y="7"/>
                    </a:lnTo>
                    <a:lnTo>
                      <a:pt x="244" y="12"/>
                    </a:lnTo>
                    <a:lnTo>
                      <a:pt x="239" y="17"/>
                    </a:lnTo>
                    <a:lnTo>
                      <a:pt x="237" y="23"/>
                    </a:lnTo>
                    <a:lnTo>
                      <a:pt x="236" y="27"/>
                    </a:lnTo>
                    <a:lnTo>
                      <a:pt x="234" y="29"/>
                    </a:lnTo>
                    <a:lnTo>
                      <a:pt x="234" y="33"/>
                    </a:lnTo>
                    <a:lnTo>
                      <a:pt x="233" y="37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6" y="47"/>
                    </a:lnTo>
                    <a:lnTo>
                      <a:pt x="237" y="51"/>
                    </a:lnTo>
                    <a:lnTo>
                      <a:pt x="239" y="56"/>
                    </a:lnTo>
                    <a:lnTo>
                      <a:pt x="244" y="61"/>
                    </a:lnTo>
                    <a:lnTo>
                      <a:pt x="250" y="66"/>
                    </a:lnTo>
                    <a:lnTo>
                      <a:pt x="255" y="69"/>
                    </a:lnTo>
                    <a:lnTo>
                      <a:pt x="258" y="70"/>
                    </a:lnTo>
                    <a:lnTo>
                      <a:pt x="261" y="71"/>
                    </a:lnTo>
                    <a:lnTo>
                      <a:pt x="265" y="71"/>
                    </a:lnTo>
                    <a:lnTo>
                      <a:pt x="267" y="71"/>
                    </a:lnTo>
                    <a:lnTo>
                      <a:pt x="271" y="71"/>
                    </a:lnTo>
                    <a:lnTo>
                      <a:pt x="275" y="71"/>
                    </a:lnTo>
                    <a:lnTo>
                      <a:pt x="277" y="70"/>
                    </a:lnTo>
                    <a:lnTo>
                      <a:pt x="281" y="69"/>
                    </a:lnTo>
                    <a:lnTo>
                      <a:pt x="286" y="66"/>
                    </a:lnTo>
                    <a:lnTo>
                      <a:pt x="291" y="61"/>
                    </a:lnTo>
                    <a:lnTo>
                      <a:pt x="296" y="56"/>
                    </a:lnTo>
                    <a:lnTo>
                      <a:pt x="298" y="51"/>
                    </a:lnTo>
                    <a:lnTo>
                      <a:pt x="300" y="47"/>
                    </a:lnTo>
                    <a:lnTo>
                      <a:pt x="301" y="45"/>
                    </a:lnTo>
                    <a:lnTo>
                      <a:pt x="301" y="41"/>
                    </a:lnTo>
                    <a:lnTo>
                      <a:pt x="302" y="37"/>
                    </a:lnTo>
                    <a:lnTo>
                      <a:pt x="302" y="37"/>
                    </a:lnTo>
                    <a:close/>
                    <a:moveTo>
                      <a:pt x="302" y="572"/>
                    </a:moveTo>
                    <a:lnTo>
                      <a:pt x="301" y="569"/>
                    </a:lnTo>
                    <a:lnTo>
                      <a:pt x="301" y="566"/>
                    </a:lnTo>
                    <a:lnTo>
                      <a:pt x="300" y="562"/>
                    </a:lnTo>
                    <a:lnTo>
                      <a:pt x="298" y="558"/>
                    </a:lnTo>
                    <a:lnTo>
                      <a:pt x="296" y="552"/>
                    </a:lnTo>
                    <a:lnTo>
                      <a:pt x="291" y="547"/>
                    </a:lnTo>
                    <a:lnTo>
                      <a:pt x="286" y="542"/>
                    </a:lnTo>
                    <a:lnTo>
                      <a:pt x="281" y="540"/>
                    </a:lnTo>
                    <a:lnTo>
                      <a:pt x="277" y="538"/>
                    </a:lnTo>
                    <a:lnTo>
                      <a:pt x="275" y="537"/>
                    </a:lnTo>
                    <a:lnTo>
                      <a:pt x="271" y="537"/>
                    </a:lnTo>
                    <a:lnTo>
                      <a:pt x="267" y="537"/>
                    </a:lnTo>
                    <a:lnTo>
                      <a:pt x="265" y="537"/>
                    </a:lnTo>
                    <a:lnTo>
                      <a:pt x="261" y="537"/>
                    </a:lnTo>
                    <a:lnTo>
                      <a:pt x="258" y="538"/>
                    </a:lnTo>
                    <a:lnTo>
                      <a:pt x="255" y="540"/>
                    </a:lnTo>
                    <a:lnTo>
                      <a:pt x="250" y="542"/>
                    </a:lnTo>
                    <a:lnTo>
                      <a:pt x="244" y="547"/>
                    </a:lnTo>
                    <a:lnTo>
                      <a:pt x="239" y="552"/>
                    </a:lnTo>
                    <a:lnTo>
                      <a:pt x="237" y="558"/>
                    </a:lnTo>
                    <a:lnTo>
                      <a:pt x="236" y="562"/>
                    </a:lnTo>
                    <a:lnTo>
                      <a:pt x="234" y="566"/>
                    </a:lnTo>
                    <a:lnTo>
                      <a:pt x="234" y="569"/>
                    </a:lnTo>
                    <a:lnTo>
                      <a:pt x="233" y="572"/>
                    </a:lnTo>
                    <a:lnTo>
                      <a:pt x="234" y="576"/>
                    </a:lnTo>
                    <a:lnTo>
                      <a:pt x="234" y="580"/>
                    </a:lnTo>
                    <a:lnTo>
                      <a:pt x="236" y="582"/>
                    </a:lnTo>
                    <a:lnTo>
                      <a:pt x="237" y="586"/>
                    </a:lnTo>
                    <a:lnTo>
                      <a:pt x="239" y="591"/>
                    </a:lnTo>
                    <a:lnTo>
                      <a:pt x="244" y="596"/>
                    </a:lnTo>
                    <a:lnTo>
                      <a:pt x="250" y="601"/>
                    </a:lnTo>
                    <a:lnTo>
                      <a:pt x="255" y="604"/>
                    </a:lnTo>
                    <a:lnTo>
                      <a:pt x="258" y="605"/>
                    </a:lnTo>
                    <a:lnTo>
                      <a:pt x="261" y="606"/>
                    </a:lnTo>
                    <a:lnTo>
                      <a:pt x="265" y="606"/>
                    </a:lnTo>
                    <a:lnTo>
                      <a:pt x="267" y="608"/>
                    </a:lnTo>
                    <a:lnTo>
                      <a:pt x="271" y="606"/>
                    </a:lnTo>
                    <a:lnTo>
                      <a:pt x="275" y="606"/>
                    </a:lnTo>
                    <a:lnTo>
                      <a:pt x="277" y="605"/>
                    </a:lnTo>
                    <a:lnTo>
                      <a:pt x="281" y="604"/>
                    </a:lnTo>
                    <a:lnTo>
                      <a:pt x="286" y="601"/>
                    </a:lnTo>
                    <a:lnTo>
                      <a:pt x="291" y="596"/>
                    </a:lnTo>
                    <a:lnTo>
                      <a:pt x="296" y="591"/>
                    </a:lnTo>
                    <a:lnTo>
                      <a:pt x="298" y="586"/>
                    </a:lnTo>
                    <a:lnTo>
                      <a:pt x="300" y="582"/>
                    </a:lnTo>
                    <a:lnTo>
                      <a:pt x="301" y="580"/>
                    </a:lnTo>
                    <a:lnTo>
                      <a:pt x="301" y="576"/>
                    </a:lnTo>
                    <a:lnTo>
                      <a:pt x="302" y="572"/>
                    </a:lnTo>
                    <a:lnTo>
                      <a:pt x="302" y="572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1" name=""/>
              <p:cNvSpPr/>
              <p:nvPr/>
            </p:nvSpPr>
            <p:spPr>
              <a:xfrm>
                <a:off x="2566800" y="6321600"/>
                <a:ext cx="4788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2"/>
                    </a:lnTo>
                    <a:lnTo>
                      <a:pt x="70" y="28"/>
                    </a:lnTo>
                    <a:lnTo>
                      <a:pt x="69" y="24"/>
                    </a:lnTo>
                    <a:lnTo>
                      <a:pt x="68" y="21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0" y="71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0" y="68"/>
                    </a:lnTo>
                    <a:lnTo>
                      <a:pt x="55" y="64"/>
                    </a:lnTo>
                    <a:lnTo>
                      <a:pt x="60" y="61"/>
                    </a:lnTo>
                    <a:lnTo>
                      <a:pt x="65" y="56"/>
                    </a:lnTo>
                    <a:lnTo>
                      <a:pt x="68" y="49"/>
                    </a:lnTo>
                    <a:lnTo>
                      <a:pt x="69" y="45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2" name=""/>
              <p:cNvSpPr/>
              <p:nvPr/>
            </p:nvSpPr>
            <p:spPr>
              <a:xfrm>
                <a:off x="2725920" y="6152040"/>
                <a:ext cx="46440" cy="38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7"/>
                    </a:moveTo>
                    <a:lnTo>
                      <a:pt x="68" y="33"/>
                    </a:lnTo>
                    <a:lnTo>
                      <a:pt x="68" y="29"/>
                    </a:lnTo>
                    <a:lnTo>
                      <a:pt x="67" y="27"/>
                    </a:lnTo>
                    <a:lnTo>
                      <a:pt x="65" y="23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6"/>
                    </a:lnTo>
                    <a:lnTo>
                      <a:pt x="22" y="69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2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8" y="61"/>
                    </a:lnTo>
                    <a:lnTo>
                      <a:pt x="63" y="56"/>
                    </a:lnTo>
                    <a:lnTo>
                      <a:pt x="65" y="51"/>
                    </a:lnTo>
                    <a:lnTo>
                      <a:pt x="67" y="47"/>
                    </a:lnTo>
                    <a:lnTo>
                      <a:pt x="68" y="45"/>
                    </a:lnTo>
                    <a:lnTo>
                      <a:pt x="68" y="41"/>
                    </a:lnTo>
                    <a:lnTo>
                      <a:pt x="69" y="37"/>
                    </a:lnTo>
                    <a:lnTo>
                      <a:pt x="69" y="37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3" name=""/>
              <p:cNvSpPr/>
              <p:nvPr/>
            </p:nvSpPr>
            <p:spPr>
              <a:xfrm>
                <a:off x="2725920" y="6450120"/>
                <a:ext cx="46440" cy="38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5"/>
                    </a:moveTo>
                    <a:lnTo>
                      <a:pt x="68" y="32"/>
                    </a:lnTo>
                    <a:lnTo>
                      <a:pt x="68" y="29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5"/>
                    </a:lnTo>
                    <a:lnTo>
                      <a:pt x="58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4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9"/>
                    </a:lnTo>
                    <a:lnTo>
                      <a:pt x="32" y="69"/>
                    </a:lnTo>
                    <a:lnTo>
                      <a:pt x="34" y="71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4" y="68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5" y="49"/>
                    </a:lnTo>
                    <a:lnTo>
                      <a:pt x="67" y="45"/>
                    </a:lnTo>
                    <a:lnTo>
                      <a:pt x="68" y="43"/>
                    </a:lnTo>
                    <a:lnTo>
                      <a:pt x="68" y="39"/>
                    </a:lnTo>
                    <a:lnTo>
                      <a:pt x="69" y="35"/>
                    </a:lnTo>
                    <a:lnTo>
                      <a:pt x="69" y="3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4" name=""/>
              <p:cNvSpPr/>
              <p:nvPr/>
            </p:nvSpPr>
            <p:spPr>
              <a:xfrm>
                <a:off x="2582640" y="6164640"/>
                <a:ext cx="175320" cy="310680"/>
              </a:xfrm>
              <a:custGeom>
                <a:avLst/>
                <a:gdLst/>
                <a:ahLst/>
                <a:rect l="l" t="t" r="r" b="b"/>
                <a:pathLst>
                  <a:path w="258" h="561">
                    <a:moveTo>
                      <a:pt x="25" y="317"/>
                    </a:moveTo>
                    <a:lnTo>
                      <a:pt x="25" y="315"/>
                    </a:lnTo>
                    <a:lnTo>
                      <a:pt x="25" y="313"/>
                    </a:lnTo>
                    <a:lnTo>
                      <a:pt x="24" y="311"/>
                    </a:lnTo>
                    <a:lnTo>
                      <a:pt x="22" y="309"/>
                    </a:lnTo>
                    <a:lnTo>
                      <a:pt x="20" y="308"/>
                    </a:lnTo>
                    <a:lnTo>
                      <a:pt x="19" y="307"/>
                    </a:lnTo>
                    <a:lnTo>
                      <a:pt x="16" y="306"/>
                    </a:lnTo>
                    <a:lnTo>
                      <a:pt x="14" y="306"/>
                    </a:lnTo>
                    <a:lnTo>
                      <a:pt x="11" y="306"/>
                    </a:lnTo>
                    <a:lnTo>
                      <a:pt x="7" y="307"/>
                    </a:lnTo>
                    <a:lnTo>
                      <a:pt x="6" y="308"/>
                    </a:lnTo>
                    <a:lnTo>
                      <a:pt x="3" y="309"/>
                    </a:lnTo>
                    <a:lnTo>
                      <a:pt x="2" y="311"/>
                    </a:lnTo>
                    <a:lnTo>
                      <a:pt x="1" y="313"/>
                    </a:lnTo>
                    <a:lnTo>
                      <a:pt x="1" y="315"/>
                    </a:lnTo>
                    <a:lnTo>
                      <a:pt x="0" y="317"/>
                    </a:lnTo>
                    <a:lnTo>
                      <a:pt x="1" y="321"/>
                    </a:lnTo>
                    <a:lnTo>
                      <a:pt x="1" y="323"/>
                    </a:lnTo>
                    <a:lnTo>
                      <a:pt x="2" y="326"/>
                    </a:lnTo>
                    <a:lnTo>
                      <a:pt x="3" y="327"/>
                    </a:lnTo>
                    <a:lnTo>
                      <a:pt x="6" y="330"/>
                    </a:lnTo>
                    <a:lnTo>
                      <a:pt x="7" y="330"/>
                    </a:lnTo>
                    <a:lnTo>
                      <a:pt x="11" y="331"/>
                    </a:lnTo>
                    <a:lnTo>
                      <a:pt x="14" y="331"/>
                    </a:lnTo>
                    <a:lnTo>
                      <a:pt x="16" y="331"/>
                    </a:lnTo>
                    <a:lnTo>
                      <a:pt x="19" y="330"/>
                    </a:lnTo>
                    <a:lnTo>
                      <a:pt x="20" y="330"/>
                    </a:lnTo>
                    <a:lnTo>
                      <a:pt x="22" y="327"/>
                    </a:lnTo>
                    <a:lnTo>
                      <a:pt x="24" y="326"/>
                    </a:lnTo>
                    <a:lnTo>
                      <a:pt x="25" y="323"/>
                    </a:lnTo>
                    <a:lnTo>
                      <a:pt x="25" y="321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  <a:moveTo>
                      <a:pt x="258" y="14"/>
                    </a:moveTo>
                    <a:lnTo>
                      <a:pt x="258" y="12"/>
                    </a:lnTo>
                    <a:lnTo>
                      <a:pt x="257" y="9"/>
                    </a:lnTo>
                    <a:lnTo>
                      <a:pt x="255" y="6"/>
                    </a:lnTo>
                    <a:lnTo>
                      <a:pt x="254" y="4"/>
                    </a:lnTo>
                    <a:lnTo>
                      <a:pt x="252" y="3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4" y="0"/>
                    </a:lnTo>
                    <a:lnTo>
                      <a:pt x="242" y="1"/>
                    </a:lnTo>
                    <a:lnTo>
                      <a:pt x="240" y="1"/>
                    </a:lnTo>
                    <a:lnTo>
                      <a:pt x="238" y="3"/>
                    </a:lnTo>
                    <a:lnTo>
                      <a:pt x="235" y="4"/>
                    </a:lnTo>
                    <a:lnTo>
                      <a:pt x="234" y="6"/>
                    </a:lnTo>
                    <a:lnTo>
                      <a:pt x="233" y="9"/>
                    </a:lnTo>
                    <a:lnTo>
                      <a:pt x="232" y="12"/>
                    </a:lnTo>
                    <a:lnTo>
                      <a:pt x="232" y="14"/>
                    </a:lnTo>
                    <a:lnTo>
                      <a:pt x="232" y="17"/>
                    </a:lnTo>
                    <a:lnTo>
                      <a:pt x="233" y="19"/>
                    </a:lnTo>
                    <a:lnTo>
                      <a:pt x="234" y="22"/>
                    </a:lnTo>
                    <a:lnTo>
                      <a:pt x="235" y="23"/>
                    </a:lnTo>
                    <a:lnTo>
                      <a:pt x="238" y="24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5"/>
                    </a:lnTo>
                    <a:lnTo>
                      <a:pt x="248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4" y="23"/>
                    </a:lnTo>
                    <a:lnTo>
                      <a:pt x="255" y="22"/>
                    </a:lnTo>
                    <a:lnTo>
                      <a:pt x="257" y="19"/>
                    </a:lnTo>
                    <a:lnTo>
                      <a:pt x="258" y="17"/>
                    </a:lnTo>
                    <a:lnTo>
                      <a:pt x="258" y="14"/>
                    </a:lnTo>
                    <a:lnTo>
                      <a:pt x="258" y="14"/>
                    </a:lnTo>
                    <a:close/>
                    <a:moveTo>
                      <a:pt x="258" y="549"/>
                    </a:moveTo>
                    <a:lnTo>
                      <a:pt x="258" y="547"/>
                    </a:lnTo>
                    <a:lnTo>
                      <a:pt x="257" y="544"/>
                    </a:lnTo>
                    <a:lnTo>
                      <a:pt x="255" y="542"/>
                    </a:lnTo>
                    <a:lnTo>
                      <a:pt x="254" y="539"/>
                    </a:lnTo>
                    <a:lnTo>
                      <a:pt x="252" y="538"/>
                    </a:lnTo>
                    <a:lnTo>
                      <a:pt x="249" y="537"/>
                    </a:lnTo>
                    <a:lnTo>
                      <a:pt x="248" y="537"/>
                    </a:lnTo>
                    <a:lnTo>
                      <a:pt x="244" y="537"/>
                    </a:lnTo>
                    <a:lnTo>
                      <a:pt x="242" y="537"/>
                    </a:lnTo>
                    <a:lnTo>
                      <a:pt x="240" y="537"/>
                    </a:lnTo>
                    <a:lnTo>
                      <a:pt x="238" y="538"/>
                    </a:lnTo>
                    <a:lnTo>
                      <a:pt x="235" y="539"/>
                    </a:lnTo>
                    <a:lnTo>
                      <a:pt x="234" y="542"/>
                    </a:lnTo>
                    <a:lnTo>
                      <a:pt x="233" y="544"/>
                    </a:lnTo>
                    <a:lnTo>
                      <a:pt x="232" y="547"/>
                    </a:lnTo>
                    <a:lnTo>
                      <a:pt x="232" y="549"/>
                    </a:lnTo>
                    <a:lnTo>
                      <a:pt x="232" y="552"/>
                    </a:lnTo>
                    <a:lnTo>
                      <a:pt x="233" y="554"/>
                    </a:lnTo>
                    <a:lnTo>
                      <a:pt x="234" y="557"/>
                    </a:lnTo>
                    <a:lnTo>
                      <a:pt x="235" y="558"/>
                    </a:lnTo>
                    <a:lnTo>
                      <a:pt x="238" y="559"/>
                    </a:lnTo>
                    <a:lnTo>
                      <a:pt x="240" y="561"/>
                    </a:lnTo>
                    <a:lnTo>
                      <a:pt x="242" y="561"/>
                    </a:lnTo>
                    <a:lnTo>
                      <a:pt x="244" y="561"/>
                    </a:lnTo>
                    <a:lnTo>
                      <a:pt x="248" y="561"/>
                    </a:lnTo>
                    <a:lnTo>
                      <a:pt x="249" y="561"/>
                    </a:lnTo>
                    <a:lnTo>
                      <a:pt x="252" y="559"/>
                    </a:lnTo>
                    <a:lnTo>
                      <a:pt x="254" y="558"/>
                    </a:lnTo>
                    <a:lnTo>
                      <a:pt x="255" y="557"/>
                    </a:lnTo>
                    <a:lnTo>
                      <a:pt x="257" y="554"/>
                    </a:lnTo>
                    <a:lnTo>
                      <a:pt x="258" y="552"/>
                    </a:lnTo>
                    <a:lnTo>
                      <a:pt x="258" y="549"/>
                    </a:lnTo>
                    <a:lnTo>
                      <a:pt x="258" y="549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5" name=""/>
              <p:cNvSpPr/>
              <p:nvPr/>
            </p:nvSpPr>
            <p:spPr>
              <a:xfrm>
                <a:off x="2582640" y="6334200"/>
                <a:ext cx="16200" cy="13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1"/>
                    </a:moveTo>
                    <a:lnTo>
                      <a:pt x="25" y="9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11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6" name=""/>
              <p:cNvSpPr/>
              <p:nvPr/>
            </p:nvSpPr>
            <p:spPr>
              <a:xfrm>
                <a:off x="2740320" y="61646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4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7" name=""/>
              <p:cNvSpPr/>
              <p:nvPr/>
            </p:nvSpPr>
            <p:spPr>
              <a:xfrm>
                <a:off x="2740320" y="646164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2"/>
                    </a:moveTo>
                    <a:lnTo>
                      <a:pt x="26" y="10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8" name=""/>
              <p:cNvSpPr/>
              <p:nvPr/>
            </p:nvSpPr>
            <p:spPr>
              <a:xfrm>
                <a:off x="2653920" y="6153480"/>
                <a:ext cx="197280" cy="444960"/>
              </a:xfrm>
              <a:custGeom>
                <a:avLst/>
                <a:gdLst/>
                <a:ahLst/>
                <a:rect l="l" t="t" r="r" b="b"/>
                <a:pathLst>
                  <a:path w="291" h="803">
                    <a:moveTo>
                      <a:pt x="291" y="37"/>
                    </a:moveTo>
                    <a:lnTo>
                      <a:pt x="73" y="37"/>
                    </a:lnTo>
                    <a:lnTo>
                      <a:pt x="67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9" y="38"/>
                    </a:lnTo>
                    <a:lnTo>
                      <a:pt x="45" y="39"/>
                    </a:lnTo>
                    <a:lnTo>
                      <a:pt x="43" y="39"/>
                    </a:lnTo>
                    <a:lnTo>
                      <a:pt x="42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7" y="57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803"/>
                    </a:lnTo>
                    <a:lnTo>
                      <a:pt x="0" y="80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1" y="0"/>
                    </a:lnTo>
                    <a:lnTo>
                      <a:pt x="291" y="37"/>
                    </a:lnTo>
                    <a:lnTo>
                      <a:pt x="2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9" name=""/>
              <p:cNvSpPr/>
              <p:nvPr/>
            </p:nvSpPr>
            <p:spPr>
              <a:xfrm>
                <a:off x="2637360" y="6134040"/>
                <a:ext cx="192240" cy="464400"/>
              </a:xfrm>
              <a:custGeom>
                <a:avLst/>
                <a:gdLst/>
                <a:ahLst/>
                <a:rect l="l" t="t" r="r" b="b"/>
                <a:pathLst>
                  <a:path w="284" h="837">
                    <a:moveTo>
                      <a:pt x="284" y="43"/>
                    </a:moveTo>
                    <a:lnTo>
                      <a:pt x="76" y="43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6" y="45"/>
                    </a:lnTo>
                    <a:lnTo>
                      <a:pt x="64" y="47"/>
                    </a:lnTo>
                    <a:lnTo>
                      <a:pt x="58" y="49"/>
                    </a:lnTo>
                    <a:lnTo>
                      <a:pt x="53" y="54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4" y="69"/>
                    </a:lnTo>
                    <a:lnTo>
                      <a:pt x="44" y="72"/>
                    </a:lnTo>
                    <a:lnTo>
                      <a:pt x="43" y="76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837"/>
                    </a:lnTo>
                    <a:lnTo>
                      <a:pt x="0" y="83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7" y="37"/>
                    </a:lnTo>
                    <a:lnTo>
                      <a:pt x="11" y="31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5" y="9"/>
                    </a:lnTo>
                    <a:lnTo>
                      <a:pt x="41" y="6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284" y="0"/>
                    </a:lnTo>
                    <a:lnTo>
                      <a:pt x="284" y="4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0" name=""/>
              <p:cNvSpPr/>
              <p:nvPr/>
            </p:nvSpPr>
            <p:spPr>
              <a:xfrm>
                <a:off x="2494080" y="6042240"/>
                <a:ext cx="4186080" cy="9684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1" name=""/>
              <p:cNvSpPr/>
              <p:nvPr/>
            </p:nvSpPr>
            <p:spPr>
              <a:xfrm>
                <a:off x="2494080" y="6042240"/>
                <a:ext cx="4186080" cy="9684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2" name=""/>
              <p:cNvSpPr/>
              <p:nvPr/>
            </p:nvSpPr>
            <p:spPr>
              <a:xfrm>
                <a:off x="3901680" y="6089760"/>
                <a:ext cx="909360" cy="39960"/>
              </a:xfrm>
              <a:custGeom>
                <a:avLst/>
                <a:gdLst/>
                <a:ahLst/>
                <a:rect l="l" t="t" r="r" b="b"/>
                <a:pathLst>
                  <a:path w="1335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  <a:close/>
                    <a:moveTo>
                      <a:pt x="1335" y="34"/>
                    </a:moveTo>
                    <a:lnTo>
                      <a:pt x="1334" y="31"/>
                    </a:lnTo>
                    <a:lnTo>
                      <a:pt x="1334" y="28"/>
                    </a:lnTo>
                    <a:lnTo>
                      <a:pt x="1333" y="24"/>
                    </a:lnTo>
                    <a:lnTo>
                      <a:pt x="1331" y="22"/>
                    </a:lnTo>
                    <a:lnTo>
                      <a:pt x="1329" y="16"/>
                    </a:lnTo>
                    <a:lnTo>
                      <a:pt x="1324" y="10"/>
                    </a:lnTo>
                    <a:lnTo>
                      <a:pt x="1319" y="7"/>
                    </a:lnTo>
                    <a:lnTo>
                      <a:pt x="1313" y="3"/>
                    </a:lnTo>
                    <a:lnTo>
                      <a:pt x="1309" y="2"/>
                    </a:lnTo>
                    <a:lnTo>
                      <a:pt x="1306" y="2"/>
                    </a:lnTo>
                    <a:lnTo>
                      <a:pt x="1303" y="0"/>
                    </a:lnTo>
                    <a:lnTo>
                      <a:pt x="1299" y="0"/>
                    </a:lnTo>
                    <a:lnTo>
                      <a:pt x="1295" y="0"/>
                    </a:lnTo>
                    <a:lnTo>
                      <a:pt x="1291" y="2"/>
                    </a:lnTo>
                    <a:lnTo>
                      <a:pt x="1289" y="2"/>
                    </a:lnTo>
                    <a:lnTo>
                      <a:pt x="1285" y="3"/>
                    </a:lnTo>
                    <a:lnTo>
                      <a:pt x="1280" y="7"/>
                    </a:lnTo>
                    <a:lnTo>
                      <a:pt x="1275" y="10"/>
                    </a:lnTo>
                    <a:lnTo>
                      <a:pt x="1270" y="16"/>
                    </a:lnTo>
                    <a:lnTo>
                      <a:pt x="1268" y="22"/>
                    </a:lnTo>
                    <a:lnTo>
                      <a:pt x="1266" y="24"/>
                    </a:lnTo>
                    <a:lnTo>
                      <a:pt x="1265" y="28"/>
                    </a:lnTo>
                    <a:lnTo>
                      <a:pt x="1265" y="31"/>
                    </a:lnTo>
                    <a:lnTo>
                      <a:pt x="1265" y="34"/>
                    </a:lnTo>
                    <a:lnTo>
                      <a:pt x="1265" y="38"/>
                    </a:lnTo>
                    <a:lnTo>
                      <a:pt x="1265" y="42"/>
                    </a:lnTo>
                    <a:lnTo>
                      <a:pt x="1266" y="46"/>
                    </a:lnTo>
                    <a:lnTo>
                      <a:pt x="1268" y="48"/>
                    </a:lnTo>
                    <a:lnTo>
                      <a:pt x="1270" y="55"/>
                    </a:lnTo>
                    <a:lnTo>
                      <a:pt x="1275" y="61"/>
                    </a:lnTo>
                    <a:lnTo>
                      <a:pt x="1280" y="65"/>
                    </a:lnTo>
                    <a:lnTo>
                      <a:pt x="1285" y="69"/>
                    </a:lnTo>
                    <a:lnTo>
                      <a:pt x="1289" y="70"/>
                    </a:lnTo>
                    <a:lnTo>
                      <a:pt x="1291" y="70"/>
                    </a:lnTo>
                    <a:lnTo>
                      <a:pt x="1295" y="71"/>
                    </a:lnTo>
                    <a:lnTo>
                      <a:pt x="1299" y="71"/>
                    </a:lnTo>
                    <a:lnTo>
                      <a:pt x="1303" y="71"/>
                    </a:lnTo>
                    <a:lnTo>
                      <a:pt x="1306" y="70"/>
                    </a:lnTo>
                    <a:lnTo>
                      <a:pt x="1309" y="70"/>
                    </a:lnTo>
                    <a:lnTo>
                      <a:pt x="1313" y="69"/>
                    </a:lnTo>
                    <a:lnTo>
                      <a:pt x="1319" y="65"/>
                    </a:lnTo>
                    <a:lnTo>
                      <a:pt x="1324" y="61"/>
                    </a:lnTo>
                    <a:lnTo>
                      <a:pt x="1329" y="55"/>
                    </a:lnTo>
                    <a:lnTo>
                      <a:pt x="1331" y="48"/>
                    </a:lnTo>
                    <a:lnTo>
                      <a:pt x="1333" y="46"/>
                    </a:lnTo>
                    <a:lnTo>
                      <a:pt x="1334" y="42"/>
                    </a:lnTo>
                    <a:lnTo>
                      <a:pt x="1334" y="38"/>
                    </a:lnTo>
                    <a:lnTo>
                      <a:pt x="1335" y="34"/>
                    </a:lnTo>
                    <a:lnTo>
                      <a:pt x="1335" y="34"/>
                    </a:lnTo>
                    <a:close/>
                  </a:path>
                </a:pathLst>
              </a:custGeom>
              <a:solidFill>
                <a:srgbClr val="d3d3d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3" name=""/>
              <p:cNvSpPr/>
              <p:nvPr/>
            </p:nvSpPr>
            <p:spPr>
              <a:xfrm>
                <a:off x="3901680" y="608976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4" name=""/>
              <p:cNvSpPr/>
              <p:nvPr/>
            </p:nvSpPr>
            <p:spPr>
              <a:xfrm>
                <a:off x="4763160" y="6089760"/>
                <a:ext cx="4788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69" y="31"/>
                    </a:lnTo>
                    <a:lnTo>
                      <a:pt x="69" y="28"/>
                    </a:lnTo>
                    <a:lnTo>
                      <a:pt x="68" y="24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4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4" y="65"/>
                    </a:lnTo>
                    <a:lnTo>
                      <a:pt x="59" y="61"/>
                    </a:lnTo>
                    <a:lnTo>
                      <a:pt x="64" y="55"/>
                    </a:lnTo>
                    <a:lnTo>
                      <a:pt x="66" y="48"/>
                    </a:lnTo>
                    <a:lnTo>
                      <a:pt x="68" y="46"/>
                    </a:lnTo>
                    <a:lnTo>
                      <a:pt x="69" y="42"/>
                    </a:lnTo>
                    <a:lnTo>
                      <a:pt x="69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5" name=""/>
              <p:cNvSpPr/>
              <p:nvPr/>
            </p:nvSpPr>
            <p:spPr>
              <a:xfrm>
                <a:off x="4016520" y="6099840"/>
                <a:ext cx="2301480" cy="527760"/>
              </a:xfrm>
              <a:custGeom>
                <a:avLst/>
                <a:gdLst/>
                <a:ahLst/>
                <a:rect l="l" t="t" r="r" b="b"/>
                <a:pathLst>
                  <a:path w="3384" h="951">
                    <a:moveTo>
                      <a:pt x="1350" y="862"/>
                    </a:moveTo>
                    <a:lnTo>
                      <a:pt x="1350" y="853"/>
                    </a:lnTo>
                    <a:lnTo>
                      <a:pt x="1348" y="846"/>
                    </a:lnTo>
                    <a:lnTo>
                      <a:pt x="1346" y="838"/>
                    </a:lnTo>
                    <a:lnTo>
                      <a:pt x="1343" y="832"/>
                    </a:lnTo>
                    <a:lnTo>
                      <a:pt x="1341" y="824"/>
                    </a:lnTo>
                    <a:lnTo>
                      <a:pt x="1337" y="818"/>
                    </a:lnTo>
                    <a:lnTo>
                      <a:pt x="1332" y="812"/>
                    </a:lnTo>
                    <a:lnTo>
                      <a:pt x="1327" y="807"/>
                    </a:lnTo>
                    <a:lnTo>
                      <a:pt x="1322" y="802"/>
                    </a:lnTo>
                    <a:lnTo>
                      <a:pt x="1316" y="798"/>
                    </a:lnTo>
                    <a:lnTo>
                      <a:pt x="1310" y="794"/>
                    </a:lnTo>
                    <a:lnTo>
                      <a:pt x="1303" y="790"/>
                    </a:lnTo>
                    <a:lnTo>
                      <a:pt x="1296" y="788"/>
                    </a:lnTo>
                    <a:lnTo>
                      <a:pt x="1288" y="787"/>
                    </a:lnTo>
                    <a:lnTo>
                      <a:pt x="1281" y="785"/>
                    </a:lnTo>
                    <a:lnTo>
                      <a:pt x="1273" y="784"/>
                    </a:lnTo>
                    <a:lnTo>
                      <a:pt x="1264" y="785"/>
                    </a:lnTo>
                    <a:lnTo>
                      <a:pt x="1257" y="787"/>
                    </a:lnTo>
                    <a:lnTo>
                      <a:pt x="1249" y="788"/>
                    </a:lnTo>
                    <a:lnTo>
                      <a:pt x="1242" y="790"/>
                    </a:lnTo>
                    <a:lnTo>
                      <a:pt x="1236" y="794"/>
                    </a:lnTo>
                    <a:lnTo>
                      <a:pt x="1229" y="798"/>
                    </a:lnTo>
                    <a:lnTo>
                      <a:pt x="1223" y="802"/>
                    </a:lnTo>
                    <a:lnTo>
                      <a:pt x="1217" y="807"/>
                    </a:lnTo>
                    <a:lnTo>
                      <a:pt x="1212" y="812"/>
                    </a:lnTo>
                    <a:lnTo>
                      <a:pt x="1207" y="818"/>
                    </a:lnTo>
                    <a:lnTo>
                      <a:pt x="1203" y="824"/>
                    </a:lnTo>
                    <a:lnTo>
                      <a:pt x="1201" y="832"/>
                    </a:lnTo>
                    <a:lnTo>
                      <a:pt x="1197" y="838"/>
                    </a:lnTo>
                    <a:lnTo>
                      <a:pt x="1195" y="846"/>
                    </a:lnTo>
                    <a:lnTo>
                      <a:pt x="1194" y="853"/>
                    </a:lnTo>
                    <a:lnTo>
                      <a:pt x="1193" y="862"/>
                    </a:lnTo>
                    <a:lnTo>
                      <a:pt x="1194" y="870"/>
                    </a:lnTo>
                    <a:lnTo>
                      <a:pt x="1195" y="877"/>
                    </a:lnTo>
                    <a:lnTo>
                      <a:pt x="1197" y="885"/>
                    </a:lnTo>
                    <a:lnTo>
                      <a:pt x="1201" y="893"/>
                    </a:lnTo>
                    <a:lnTo>
                      <a:pt x="1203" y="900"/>
                    </a:lnTo>
                    <a:lnTo>
                      <a:pt x="1207" y="907"/>
                    </a:lnTo>
                    <a:lnTo>
                      <a:pt x="1212" y="913"/>
                    </a:lnTo>
                    <a:lnTo>
                      <a:pt x="1217" y="918"/>
                    </a:lnTo>
                    <a:lnTo>
                      <a:pt x="1223" y="923"/>
                    </a:lnTo>
                    <a:lnTo>
                      <a:pt x="1229" y="928"/>
                    </a:lnTo>
                    <a:lnTo>
                      <a:pt x="1236" y="932"/>
                    </a:lnTo>
                    <a:lnTo>
                      <a:pt x="1242" y="936"/>
                    </a:lnTo>
                    <a:lnTo>
                      <a:pt x="1249" y="938"/>
                    </a:lnTo>
                    <a:lnTo>
                      <a:pt x="1257" y="941"/>
                    </a:lnTo>
                    <a:lnTo>
                      <a:pt x="1264" y="942"/>
                    </a:lnTo>
                    <a:lnTo>
                      <a:pt x="1273" y="942"/>
                    </a:lnTo>
                    <a:lnTo>
                      <a:pt x="1281" y="942"/>
                    </a:lnTo>
                    <a:lnTo>
                      <a:pt x="1288" y="941"/>
                    </a:lnTo>
                    <a:lnTo>
                      <a:pt x="1296" y="938"/>
                    </a:lnTo>
                    <a:lnTo>
                      <a:pt x="1303" y="936"/>
                    </a:lnTo>
                    <a:lnTo>
                      <a:pt x="1310" y="932"/>
                    </a:lnTo>
                    <a:lnTo>
                      <a:pt x="1316" y="928"/>
                    </a:lnTo>
                    <a:lnTo>
                      <a:pt x="1322" y="923"/>
                    </a:lnTo>
                    <a:lnTo>
                      <a:pt x="1327" y="918"/>
                    </a:lnTo>
                    <a:lnTo>
                      <a:pt x="1332" y="913"/>
                    </a:lnTo>
                    <a:lnTo>
                      <a:pt x="1337" y="907"/>
                    </a:lnTo>
                    <a:lnTo>
                      <a:pt x="1341" y="900"/>
                    </a:lnTo>
                    <a:lnTo>
                      <a:pt x="1343" y="893"/>
                    </a:lnTo>
                    <a:lnTo>
                      <a:pt x="1346" y="885"/>
                    </a:lnTo>
                    <a:lnTo>
                      <a:pt x="1348" y="877"/>
                    </a:lnTo>
                    <a:lnTo>
                      <a:pt x="1350" y="870"/>
                    </a:lnTo>
                    <a:lnTo>
                      <a:pt x="1350" y="862"/>
                    </a:lnTo>
                    <a:lnTo>
                      <a:pt x="1350" y="862"/>
                    </a:lnTo>
                    <a:close/>
                    <a:moveTo>
                      <a:pt x="1605" y="862"/>
                    </a:moveTo>
                    <a:lnTo>
                      <a:pt x="1605" y="853"/>
                    </a:lnTo>
                    <a:lnTo>
                      <a:pt x="1604" y="846"/>
                    </a:lnTo>
                    <a:lnTo>
                      <a:pt x="1603" y="838"/>
                    </a:lnTo>
                    <a:lnTo>
                      <a:pt x="1600" y="832"/>
                    </a:lnTo>
                    <a:lnTo>
                      <a:pt x="1596" y="824"/>
                    </a:lnTo>
                    <a:lnTo>
                      <a:pt x="1593" y="818"/>
                    </a:lnTo>
                    <a:lnTo>
                      <a:pt x="1588" y="812"/>
                    </a:lnTo>
                    <a:lnTo>
                      <a:pt x="1583" y="807"/>
                    </a:lnTo>
                    <a:lnTo>
                      <a:pt x="1578" y="802"/>
                    </a:lnTo>
                    <a:lnTo>
                      <a:pt x="1571" y="798"/>
                    </a:lnTo>
                    <a:lnTo>
                      <a:pt x="1565" y="794"/>
                    </a:lnTo>
                    <a:lnTo>
                      <a:pt x="1559" y="790"/>
                    </a:lnTo>
                    <a:lnTo>
                      <a:pt x="1551" y="788"/>
                    </a:lnTo>
                    <a:lnTo>
                      <a:pt x="1544" y="787"/>
                    </a:lnTo>
                    <a:lnTo>
                      <a:pt x="1536" y="785"/>
                    </a:lnTo>
                    <a:lnTo>
                      <a:pt x="1529" y="784"/>
                    </a:lnTo>
                    <a:lnTo>
                      <a:pt x="1520" y="785"/>
                    </a:lnTo>
                    <a:lnTo>
                      <a:pt x="1512" y="787"/>
                    </a:lnTo>
                    <a:lnTo>
                      <a:pt x="1505" y="788"/>
                    </a:lnTo>
                    <a:lnTo>
                      <a:pt x="1497" y="790"/>
                    </a:lnTo>
                    <a:lnTo>
                      <a:pt x="1491" y="794"/>
                    </a:lnTo>
                    <a:lnTo>
                      <a:pt x="1485" y="798"/>
                    </a:lnTo>
                    <a:lnTo>
                      <a:pt x="1479" y="802"/>
                    </a:lnTo>
                    <a:lnTo>
                      <a:pt x="1472" y="807"/>
                    </a:lnTo>
                    <a:lnTo>
                      <a:pt x="1467" y="812"/>
                    </a:lnTo>
                    <a:lnTo>
                      <a:pt x="1464" y="818"/>
                    </a:lnTo>
                    <a:lnTo>
                      <a:pt x="1459" y="824"/>
                    </a:lnTo>
                    <a:lnTo>
                      <a:pt x="1456" y="832"/>
                    </a:lnTo>
                    <a:lnTo>
                      <a:pt x="1452" y="838"/>
                    </a:lnTo>
                    <a:lnTo>
                      <a:pt x="1451" y="846"/>
                    </a:lnTo>
                    <a:lnTo>
                      <a:pt x="1450" y="853"/>
                    </a:lnTo>
                    <a:lnTo>
                      <a:pt x="1450" y="862"/>
                    </a:lnTo>
                    <a:lnTo>
                      <a:pt x="1450" y="870"/>
                    </a:lnTo>
                    <a:lnTo>
                      <a:pt x="1451" y="877"/>
                    </a:lnTo>
                    <a:lnTo>
                      <a:pt x="1452" y="885"/>
                    </a:lnTo>
                    <a:lnTo>
                      <a:pt x="1456" y="893"/>
                    </a:lnTo>
                    <a:lnTo>
                      <a:pt x="1459" y="900"/>
                    </a:lnTo>
                    <a:lnTo>
                      <a:pt x="1464" y="907"/>
                    </a:lnTo>
                    <a:lnTo>
                      <a:pt x="1467" y="913"/>
                    </a:lnTo>
                    <a:lnTo>
                      <a:pt x="1472" y="918"/>
                    </a:lnTo>
                    <a:lnTo>
                      <a:pt x="1479" y="923"/>
                    </a:lnTo>
                    <a:lnTo>
                      <a:pt x="1485" y="928"/>
                    </a:lnTo>
                    <a:lnTo>
                      <a:pt x="1491" y="932"/>
                    </a:lnTo>
                    <a:lnTo>
                      <a:pt x="1497" y="936"/>
                    </a:lnTo>
                    <a:lnTo>
                      <a:pt x="1505" y="938"/>
                    </a:lnTo>
                    <a:lnTo>
                      <a:pt x="1512" y="941"/>
                    </a:lnTo>
                    <a:lnTo>
                      <a:pt x="1520" y="942"/>
                    </a:lnTo>
                    <a:lnTo>
                      <a:pt x="1529" y="942"/>
                    </a:lnTo>
                    <a:lnTo>
                      <a:pt x="1536" y="942"/>
                    </a:lnTo>
                    <a:lnTo>
                      <a:pt x="1544" y="941"/>
                    </a:lnTo>
                    <a:lnTo>
                      <a:pt x="1551" y="938"/>
                    </a:lnTo>
                    <a:lnTo>
                      <a:pt x="1559" y="936"/>
                    </a:lnTo>
                    <a:lnTo>
                      <a:pt x="1565" y="932"/>
                    </a:lnTo>
                    <a:lnTo>
                      <a:pt x="1571" y="928"/>
                    </a:lnTo>
                    <a:lnTo>
                      <a:pt x="1578" y="923"/>
                    </a:lnTo>
                    <a:lnTo>
                      <a:pt x="1583" y="918"/>
                    </a:lnTo>
                    <a:lnTo>
                      <a:pt x="1588" y="913"/>
                    </a:lnTo>
                    <a:lnTo>
                      <a:pt x="1593" y="907"/>
                    </a:lnTo>
                    <a:lnTo>
                      <a:pt x="1596" y="900"/>
                    </a:lnTo>
                    <a:lnTo>
                      <a:pt x="1600" y="893"/>
                    </a:lnTo>
                    <a:lnTo>
                      <a:pt x="1603" y="885"/>
                    </a:lnTo>
                    <a:lnTo>
                      <a:pt x="1604" y="877"/>
                    </a:lnTo>
                    <a:lnTo>
                      <a:pt x="1605" y="870"/>
                    </a:lnTo>
                    <a:lnTo>
                      <a:pt x="1605" y="862"/>
                    </a:lnTo>
                    <a:lnTo>
                      <a:pt x="1605" y="862"/>
                    </a:lnTo>
                    <a:close/>
                    <a:moveTo>
                      <a:pt x="1779" y="832"/>
                    </a:moveTo>
                    <a:lnTo>
                      <a:pt x="1751" y="832"/>
                    </a:lnTo>
                    <a:lnTo>
                      <a:pt x="1747" y="832"/>
                    </a:lnTo>
                    <a:lnTo>
                      <a:pt x="1742" y="833"/>
                    </a:lnTo>
                    <a:lnTo>
                      <a:pt x="1738" y="835"/>
                    </a:lnTo>
                    <a:lnTo>
                      <a:pt x="1734" y="836"/>
                    </a:lnTo>
                    <a:lnTo>
                      <a:pt x="1731" y="837"/>
                    </a:lnTo>
                    <a:lnTo>
                      <a:pt x="1728" y="840"/>
                    </a:lnTo>
                    <a:lnTo>
                      <a:pt x="1722" y="845"/>
                    </a:lnTo>
                    <a:lnTo>
                      <a:pt x="1717" y="850"/>
                    </a:lnTo>
                    <a:lnTo>
                      <a:pt x="1714" y="853"/>
                    </a:lnTo>
                    <a:lnTo>
                      <a:pt x="1713" y="857"/>
                    </a:lnTo>
                    <a:lnTo>
                      <a:pt x="1712" y="861"/>
                    </a:lnTo>
                    <a:lnTo>
                      <a:pt x="1710" y="865"/>
                    </a:lnTo>
                    <a:lnTo>
                      <a:pt x="1710" y="869"/>
                    </a:lnTo>
                    <a:lnTo>
                      <a:pt x="1709" y="874"/>
                    </a:lnTo>
                    <a:lnTo>
                      <a:pt x="1710" y="877"/>
                    </a:lnTo>
                    <a:lnTo>
                      <a:pt x="1710" y="881"/>
                    </a:lnTo>
                    <a:lnTo>
                      <a:pt x="1712" y="885"/>
                    </a:lnTo>
                    <a:lnTo>
                      <a:pt x="1713" y="889"/>
                    </a:lnTo>
                    <a:lnTo>
                      <a:pt x="1714" y="893"/>
                    </a:lnTo>
                    <a:lnTo>
                      <a:pt x="1717" y="896"/>
                    </a:lnTo>
                    <a:lnTo>
                      <a:pt x="1722" y="903"/>
                    </a:lnTo>
                    <a:lnTo>
                      <a:pt x="1728" y="908"/>
                    </a:lnTo>
                    <a:lnTo>
                      <a:pt x="1731" y="909"/>
                    </a:lnTo>
                    <a:lnTo>
                      <a:pt x="1734" y="912"/>
                    </a:lnTo>
                    <a:lnTo>
                      <a:pt x="1738" y="913"/>
                    </a:lnTo>
                    <a:lnTo>
                      <a:pt x="1742" y="914"/>
                    </a:lnTo>
                    <a:lnTo>
                      <a:pt x="1747" y="914"/>
                    </a:lnTo>
                    <a:lnTo>
                      <a:pt x="1751" y="914"/>
                    </a:lnTo>
                    <a:lnTo>
                      <a:pt x="1751" y="914"/>
                    </a:lnTo>
                    <a:lnTo>
                      <a:pt x="1791" y="914"/>
                    </a:lnTo>
                    <a:lnTo>
                      <a:pt x="1791" y="919"/>
                    </a:lnTo>
                    <a:lnTo>
                      <a:pt x="1793" y="925"/>
                    </a:lnTo>
                    <a:lnTo>
                      <a:pt x="1796" y="931"/>
                    </a:lnTo>
                    <a:lnTo>
                      <a:pt x="1801" y="936"/>
                    </a:lnTo>
                    <a:lnTo>
                      <a:pt x="1804" y="939"/>
                    </a:lnTo>
                    <a:lnTo>
                      <a:pt x="1811" y="942"/>
                    </a:lnTo>
                    <a:lnTo>
                      <a:pt x="1817" y="944"/>
                    </a:lnTo>
                    <a:lnTo>
                      <a:pt x="1823" y="946"/>
                    </a:lnTo>
                    <a:lnTo>
                      <a:pt x="1829" y="946"/>
                    </a:lnTo>
                    <a:lnTo>
                      <a:pt x="1829" y="946"/>
                    </a:lnTo>
                    <a:lnTo>
                      <a:pt x="2017" y="946"/>
                    </a:lnTo>
                    <a:lnTo>
                      <a:pt x="2024" y="946"/>
                    </a:lnTo>
                    <a:lnTo>
                      <a:pt x="2027" y="946"/>
                    </a:lnTo>
                    <a:lnTo>
                      <a:pt x="2031" y="944"/>
                    </a:lnTo>
                    <a:lnTo>
                      <a:pt x="2035" y="943"/>
                    </a:lnTo>
                    <a:lnTo>
                      <a:pt x="2037" y="942"/>
                    </a:lnTo>
                    <a:lnTo>
                      <a:pt x="2041" y="939"/>
                    </a:lnTo>
                    <a:lnTo>
                      <a:pt x="2045" y="937"/>
                    </a:lnTo>
                    <a:lnTo>
                      <a:pt x="2047" y="936"/>
                    </a:lnTo>
                    <a:lnTo>
                      <a:pt x="2049" y="933"/>
                    </a:lnTo>
                    <a:lnTo>
                      <a:pt x="2051" y="931"/>
                    </a:lnTo>
                    <a:lnTo>
                      <a:pt x="2054" y="928"/>
                    </a:lnTo>
                    <a:lnTo>
                      <a:pt x="2056" y="922"/>
                    </a:lnTo>
                    <a:lnTo>
                      <a:pt x="2059" y="914"/>
                    </a:lnTo>
                    <a:lnTo>
                      <a:pt x="2059" y="914"/>
                    </a:lnTo>
                    <a:lnTo>
                      <a:pt x="2099" y="914"/>
                    </a:lnTo>
                    <a:lnTo>
                      <a:pt x="2103" y="914"/>
                    </a:lnTo>
                    <a:lnTo>
                      <a:pt x="2108" y="914"/>
                    </a:lnTo>
                    <a:lnTo>
                      <a:pt x="2111" y="913"/>
                    </a:lnTo>
                    <a:lnTo>
                      <a:pt x="2115" y="912"/>
                    </a:lnTo>
                    <a:lnTo>
                      <a:pt x="2119" y="909"/>
                    </a:lnTo>
                    <a:lnTo>
                      <a:pt x="2121" y="908"/>
                    </a:lnTo>
                    <a:lnTo>
                      <a:pt x="2128" y="903"/>
                    </a:lnTo>
                    <a:lnTo>
                      <a:pt x="2133" y="896"/>
                    </a:lnTo>
                    <a:lnTo>
                      <a:pt x="2135" y="893"/>
                    </a:lnTo>
                    <a:lnTo>
                      <a:pt x="2136" y="889"/>
                    </a:lnTo>
                    <a:lnTo>
                      <a:pt x="2138" y="885"/>
                    </a:lnTo>
                    <a:lnTo>
                      <a:pt x="2139" y="881"/>
                    </a:lnTo>
                    <a:lnTo>
                      <a:pt x="2139" y="877"/>
                    </a:lnTo>
                    <a:lnTo>
                      <a:pt x="2140" y="874"/>
                    </a:lnTo>
                    <a:lnTo>
                      <a:pt x="2140" y="874"/>
                    </a:lnTo>
                    <a:lnTo>
                      <a:pt x="2139" y="869"/>
                    </a:lnTo>
                    <a:lnTo>
                      <a:pt x="2139" y="865"/>
                    </a:lnTo>
                    <a:lnTo>
                      <a:pt x="2138" y="861"/>
                    </a:lnTo>
                    <a:lnTo>
                      <a:pt x="2136" y="857"/>
                    </a:lnTo>
                    <a:lnTo>
                      <a:pt x="2135" y="853"/>
                    </a:lnTo>
                    <a:lnTo>
                      <a:pt x="2133" y="850"/>
                    </a:lnTo>
                    <a:lnTo>
                      <a:pt x="2128" y="845"/>
                    </a:lnTo>
                    <a:lnTo>
                      <a:pt x="2121" y="840"/>
                    </a:lnTo>
                    <a:lnTo>
                      <a:pt x="2119" y="837"/>
                    </a:lnTo>
                    <a:lnTo>
                      <a:pt x="2115" y="836"/>
                    </a:lnTo>
                    <a:lnTo>
                      <a:pt x="2111" y="835"/>
                    </a:lnTo>
                    <a:lnTo>
                      <a:pt x="2108" y="833"/>
                    </a:lnTo>
                    <a:lnTo>
                      <a:pt x="2103" y="832"/>
                    </a:lnTo>
                    <a:lnTo>
                      <a:pt x="2099" y="832"/>
                    </a:lnTo>
                    <a:lnTo>
                      <a:pt x="2099" y="832"/>
                    </a:lnTo>
                    <a:lnTo>
                      <a:pt x="2070" y="832"/>
                    </a:lnTo>
                    <a:lnTo>
                      <a:pt x="2069" y="830"/>
                    </a:lnTo>
                    <a:lnTo>
                      <a:pt x="2069" y="827"/>
                    </a:lnTo>
                    <a:lnTo>
                      <a:pt x="2068" y="824"/>
                    </a:lnTo>
                    <a:lnTo>
                      <a:pt x="2066" y="822"/>
                    </a:lnTo>
                    <a:lnTo>
                      <a:pt x="2064" y="818"/>
                    </a:lnTo>
                    <a:lnTo>
                      <a:pt x="2060" y="814"/>
                    </a:lnTo>
                    <a:lnTo>
                      <a:pt x="2058" y="811"/>
                    </a:lnTo>
                    <a:lnTo>
                      <a:pt x="2055" y="808"/>
                    </a:lnTo>
                    <a:lnTo>
                      <a:pt x="2053" y="806"/>
                    </a:lnTo>
                    <a:lnTo>
                      <a:pt x="2049" y="804"/>
                    </a:lnTo>
                    <a:lnTo>
                      <a:pt x="2045" y="802"/>
                    </a:lnTo>
                    <a:lnTo>
                      <a:pt x="2041" y="802"/>
                    </a:lnTo>
                    <a:lnTo>
                      <a:pt x="2037" y="800"/>
                    </a:lnTo>
                    <a:lnTo>
                      <a:pt x="2034" y="800"/>
                    </a:lnTo>
                    <a:lnTo>
                      <a:pt x="2034" y="800"/>
                    </a:lnTo>
                    <a:lnTo>
                      <a:pt x="1816" y="800"/>
                    </a:lnTo>
                    <a:lnTo>
                      <a:pt x="1812" y="800"/>
                    </a:lnTo>
                    <a:lnTo>
                      <a:pt x="1808" y="802"/>
                    </a:lnTo>
                    <a:lnTo>
                      <a:pt x="1804" y="802"/>
                    </a:lnTo>
                    <a:lnTo>
                      <a:pt x="1801" y="804"/>
                    </a:lnTo>
                    <a:lnTo>
                      <a:pt x="1797" y="806"/>
                    </a:lnTo>
                    <a:lnTo>
                      <a:pt x="1793" y="808"/>
                    </a:lnTo>
                    <a:lnTo>
                      <a:pt x="1791" y="811"/>
                    </a:lnTo>
                    <a:lnTo>
                      <a:pt x="1787" y="814"/>
                    </a:lnTo>
                    <a:lnTo>
                      <a:pt x="1783" y="818"/>
                    </a:lnTo>
                    <a:lnTo>
                      <a:pt x="1782" y="822"/>
                    </a:lnTo>
                    <a:lnTo>
                      <a:pt x="1781" y="827"/>
                    </a:lnTo>
                    <a:lnTo>
                      <a:pt x="1779" y="832"/>
                    </a:lnTo>
                    <a:lnTo>
                      <a:pt x="1779" y="832"/>
                    </a:lnTo>
                    <a:close/>
                    <a:moveTo>
                      <a:pt x="2237" y="934"/>
                    </a:moveTo>
                    <a:lnTo>
                      <a:pt x="2651" y="934"/>
                    </a:lnTo>
                    <a:lnTo>
                      <a:pt x="2653" y="934"/>
                    </a:lnTo>
                    <a:lnTo>
                      <a:pt x="2655" y="934"/>
                    </a:lnTo>
                    <a:lnTo>
                      <a:pt x="2656" y="933"/>
                    </a:lnTo>
                    <a:lnTo>
                      <a:pt x="2658" y="932"/>
                    </a:lnTo>
                    <a:lnTo>
                      <a:pt x="2659" y="931"/>
                    </a:lnTo>
                    <a:lnTo>
                      <a:pt x="2660" y="929"/>
                    </a:lnTo>
                    <a:lnTo>
                      <a:pt x="2660" y="928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818"/>
                    </a:lnTo>
                    <a:lnTo>
                      <a:pt x="2660" y="817"/>
                    </a:lnTo>
                    <a:lnTo>
                      <a:pt x="2660" y="816"/>
                    </a:lnTo>
                    <a:lnTo>
                      <a:pt x="2659" y="813"/>
                    </a:lnTo>
                    <a:lnTo>
                      <a:pt x="2658" y="812"/>
                    </a:lnTo>
                    <a:lnTo>
                      <a:pt x="2656" y="811"/>
                    </a:lnTo>
                    <a:lnTo>
                      <a:pt x="2655" y="811"/>
                    </a:lnTo>
                    <a:lnTo>
                      <a:pt x="2653" y="809"/>
                    </a:lnTo>
                    <a:lnTo>
                      <a:pt x="2651" y="809"/>
                    </a:lnTo>
                    <a:lnTo>
                      <a:pt x="2651" y="809"/>
                    </a:lnTo>
                    <a:lnTo>
                      <a:pt x="2237" y="809"/>
                    </a:lnTo>
                    <a:lnTo>
                      <a:pt x="2235" y="809"/>
                    </a:lnTo>
                    <a:lnTo>
                      <a:pt x="2234" y="811"/>
                    </a:lnTo>
                    <a:lnTo>
                      <a:pt x="2232" y="811"/>
                    </a:lnTo>
                    <a:lnTo>
                      <a:pt x="2230" y="812"/>
                    </a:lnTo>
                    <a:lnTo>
                      <a:pt x="2229" y="813"/>
                    </a:lnTo>
                    <a:lnTo>
                      <a:pt x="2229" y="816"/>
                    </a:lnTo>
                    <a:lnTo>
                      <a:pt x="2228" y="817"/>
                    </a:lnTo>
                    <a:lnTo>
                      <a:pt x="2228" y="818"/>
                    </a:lnTo>
                    <a:lnTo>
                      <a:pt x="2228" y="818"/>
                    </a:lnTo>
                    <a:lnTo>
                      <a:pt x="2228" y="925"/>
                    </a:lnTo>
                    <a:lnTo>
                      <a:pt x="2228" y="928"/>
                    </a:lnTo>
                    <a:lnTo>
                      <a:pt x="2229" y="929"/>
                    </a:lnTo>
                    <a:lnTo>
                      <a:pt x="2229" y="931"/>
                    </a:lnTo>
                    <a:lnTo>
                      <a:pt x="2230" y="932"/>
                    </a:lnTo>
                    <a:lnTo>
                      <a:pt x="2232" y="933"/>
                    </a:lnTo>
                    <a:lnTo>
                      <a:pt x="2234" y="934"/>
                    </a:lnTo>
                    <a:lnTo>
                      <a:pt x="2235" y="934"/>
                    </a:lnTo>
                    <a:lnTo>
                      <a:pt x="2237" y="934"/>
                    </a:lnTo>
                    <a:lnTo>
                      <a:pt x="2237" y="934"/>
                    </a:lnTo>
                    <a:close/>
                    <a:moveTo>
                      <a:pt x="2772" y="837"/>
                    </a:moveTo>
                    <a:lnTo>
                      <a:pt x="2742" y="837"/>
                    </a:lnTo>
                    <a:lnTo>
                      <a:pt x="2738" y="837"/>
                    </a:lnTo>
                    <a:lnTo>
                      <a:pt x="2734" y="837"/>
                    </a:lnTo>
                    <a:lnTo>
                      <a:pt x="2729" y="838"/>
                    </a:lnTo>
                    <a:lnTo>
                      <a:pt x="2725" y="840"/>
                    </a:lnTo>
                    <a:lnTo>
                      <a:pt x="2723" y="842"/>
                    </a:lnTo>
                    <a:lnTo>
                      <a:pt x="2719" y="843"/>
                    </a:lnTo>
                    <a:lnTo>
                      <a:pt x="2713" y="848"/>
                    </a:lnTo>
                    <a:lnTo>
                      <a:pt x="2708" y="855"/>
                    </a:lnTo>
                    <a:lnTo>
                      <a:pt x="2707" y="859"/>
                    </a:lnTo>
                    <a:lnTo>
                      <a:pt x="2704" y="862"/>
                    </a:lnTo>
                    <a:lnTo>
                      <a:pt x="2703" y="866"/>
                    </a:lnTo>
                    <a:lnTo>
                      <a:pt x="2702" y="870"/>
                    </a:lnTo>
                    <a:lnTo>
                      <a:pt x="2702" y="874"/>
                    </a:lnTo>
                    <a:lnTo>
                      <a:pt x="2702" y="877"/>
                    </a:lnTo>
                    <a:lnTo>
                      <a:pt x="2702" y="881"/>
                    </a:lnTo>
                    <a:lnTo>
                      <a:pt x="2702" y="885"/>
                    </a:lnTo>
                    <a:lnTo>
                      <a:pt x="2703" y="889"/>
                    </a:lnTo>
                    <a:lnTo>
                      <a:pt x="2704" y="893"/>
                    </a:lnTo>
                    <a:lnTo>
                      <a:pt x="2707" y="896"/>
                    </a:lnTo>
                    <a:lnTo>
                      <a:pt x="2708" y="899"/>
                    </a:lnTo>
                    <a:lnTo>
                      <a:pt x="2713" y="905"/>
                    </a:lnTo>
                    <a:lnTo>
                      <a:pt x="2719" y="910"/>
                    </a:lnTo>
                    <a:lnTo>
                      <a:pt x="2723" y="912"/>
                    </a:lnTo>
                    <a:lnTo>
                      <a:pt x="2725" y="913"/>
                    </a:lnTo>
                    <a:lnTo>
                      <a:pt x="2729" y="915"/>
                    </a:lnTo>
                    <a:lnTo>
                      <a:pt x="2734" y="915"/>
                    </a:lnTo>
                    <a:lnTo>
                      <a:pt x="2738" y="917"/>
                    </a:lnTo>
                    <a:lnTo>
                      <a:pt x="2742" y="917"/>
                    </a:lnTo>
                    <a:lnTo>
                      <a:pt x="2742" y="917"/>
                    </a:lnTo>
                    <a:lnTo>
                      <a:pt x="2783" y="917"/>
                    </a:lnTo>
                    <a:lnTo>
                      <a:pt x="2783" y="922"/>
                    </a:lnTo>
                    <a:lnTo>
                      <a:pt x="2784" y="928"/>
                    </a:lnTo>
                    <a:lnTo>
                      <a:pt x="2788" y="933"/>
                    </a:lnTo>
                    <a:lnTo>
                      <a:pt x="2792" y="938"/>
                    </a:lnTo>
                    <a:lnTo>
                      <a:pt x="2797" y="942"/>
                    </a:lnTo>
                    <a:lnTo>
                      <a:pt x="2799" y="944"/>
                    </a:lnTo>
                    <a:lnTo>
                      <a:pt x="2803" y="946"/>
                    </a:lnTo>
                    <a:lnTo>
                      <a:pt x="2806" y="948"/>
                    </a:lnTo>
                    <a:lnTo>
                      <a:pt x="2808" y="948"/>
                    </a:lnTo>
                    <a:lnTo>
                      <a:pt x="2812" y="949"/>
                    </a:lnTo>
                    <a:lnTo>
                      <a:pt x="2814" y="951"/>
                    </a:lnTo>
                    <a:lnTo>
                      <a:pt x="2821" y="951"/>
                    </a:lnTo>
                    <a:lnTo>
                      <a:pt x="2821" y="951"/>
                    </a:lnTo>
                    <a:lnTo>
                      <a:pt x="3009" y="951"/>
                    </a:lnTo>
                    <a:lnTo>
                      <a:pt x="3014" y="951"/>
                    </a:lnTo>
                    <a:lnTo>
                      <a:pt x="3017" y="949"/>
                    </a:lnTo>
                    <a:lnTo>
                      <a:pt x="3021" y="949"/>
                    </a:lnTo>
                    <a:lnTo>
                      <a:pt x="3025" y="948"/>
                    </a:lnTo>
                    <a:lnTo>
                      <a:pt x="3031" y="944"/>
                    </a:lnTo>
                    <a:lnTo>
                      <a:pt x="3036" y="942"/>
                    </a:lnTo>
                    <a:lnTo>
                      <a:pt x="3041" y="936"/>
                    </a:lnTo>
                    <a:lnTo>
                      <a:pt x="3044" y="933"/>
                    </a:lnTo>
                    <a:lnTo>
                      <a:pt x="3046" y="931"/>
                    </a:lnTo>
                    <a:lnTo>
                      <a:pt x="3047" y="927"/>
                    </a:lnTo>
                    <a:lnTo>
                      <a:pt x="3049" y="923"/>
                    </a:lnTo>
                    <a:lnTo>
                      <a:pt x="3050" y="920"/>
                    </a:lnTo>
                    <a:lnTo>
                      <a:pt x="3050" y="917"/>
                    </a:lnTo>
                    <a:lnTo>
                      <a:pt x="3050" y="917"/>
                    </a:lnTo>
                    <a:lnTo>
                      <a:pt x="3092" y="917"/>
                    </a:lnTo>
                    <a:lnTo>
                      <a:pt x="3097" y="917"/>
                    </a:lnTo>
                    <a:lnTo>
                      <a:pt x="3101" y="915"/>
                    </a:lnTo>
                    <a:lnTo>
                      <a:pt x="3105" y="915"/>
                    </a:lnTo>
                    <a:lnTo>
                      <a:pt x="3109" y="913"/>
                    </a:lnTo>
                    <a:lnTo>
                      <a:pt x="3113" y="912"/>
                    </a:lnTo>
                    <a:lnTo>
                      <a:pt x="3115" y="910"/>
                    </a:lnTo>
                    <a:lnTo>
                      <a:pt x="3121" y="905"/>
                    </a:lnTo>
                    <a:lnTo>
                      <a:pt x="3126" y="899"/>
                    </a:lnTo>
                    <a:lnTo>
                      <a:pt x="3129" y="896"/>
                    </a:lnTo>
                    <a:lnTo>
                      <a:pt x="3130" y="893"/>
                    </a:lnTo>
                    <a:lnTo>
                      <a:pt x="3131" y="889"/>
                    </a:lnTo>
                    <a:lnTo>
                      <a:pt x="3133" y="885"/>
                    </a:lnTo>
                    <a:lnTo>
                      <a:pt x="3134" y="881"/>
                    </a:lnTo>
                    <a:lnTo>
                      <a:pt x="3134" y="877"/>
                    </a:lnTo>
                    <a:lnTo>
                      <a:pt x="3134" y="877"/>
                    </a:lnTo>
                    <a:lnTo>
                      <a:pt x="3134" y="874"/>
                    </a:lnTo>
                    <a:lnTo>
                      <a:pt x="3133" y="870"/>
                    </a:lnTo>
                    <a:lnTo>
                      <a:pt x="3131" y="866"/>
                    </a:lnTo>
                    <a:lnTo>
                      <a:pt x="3130" y="862"/>
                    </a:lnTo>
                    <a:lnTo>
                      <a:pt x="3129" y="859"/>
                    </a:lnTo>
                    <a:lnTo>
                      <a:pt x="3126" y="855"/>
                    </a:lnTo>
                    <a:lnTo>
                      <a:pt x="3121" y="848"/>
                    </a:lnTo>
                    <a:lnTo>
                      <a:pt x="3115" y="843"/>
                    </a:lnTo>
                    <a:lnTo>
                      <a:pt x="3113" y="842"/>
                    </a:lnTo>
                    <a:lnTo>
                      <a:pt x="3109" y="840"/>
                    </a:lnTo>
                    <a:lnTo>
                      <a:pt x="3105" y="838"/>
                    </a:lnTo>
                    <a:lnTo>
                      <a:pt x="3101" y="837"/>
                    </a:lnTo>
                    <a:lnTo>
                      <a:pt x="3097" y="837"/>
                    </a:lnTo>
                    <a:lnTo>
                      <a:pt x="3092" y="837"/>
                    </a:lnTo>
                    <a:lnTo>
                      <a:pt x="3092" y="837"/>
                    </a:lnTo>
                    <a:lnTo>
                      <a:pt x="3061" y="837"/>
                    </a:lnTo>
                    <a:lnTo>
                      <a:pt x="3061" y="832"/>
                    </a:lnTo>
                    <a:lnTo>
                      <a:pt x="3060" y="827"/>
                    </a:lnTo>
                    <a:lnTo>
                      <a:pt x="3057" y="822"/>
                    </a:lnTo>
                    <a:lnTo>
                      <a:pt x="3055" y="817"/>
                    </a:lnTo>
                    <a:lnTo>
                      <a:pt x="3051" y="814"/>
                    </a:lnTo>
                    <a:lnTo>
                      <a:pt x="3049" y="812"/>
                    </a:lnTo>
                    <a:lnTo>
                      <a:pt x="3045" y="809"/>
                    </a:lnTo>
                    <a:lnTo>
                      <a:pt x="3041" y="807"/>
                    </a:lnTo>
                    <a:lnTo>
                      <a:pt x="3037" y="806"/>
                    </a:lnTo>
                    <a:lnTo>
                      <a:pt x="3034" y="804"/>
                    </a:lnTo>
                    <a:lnTo>
                      <a:pt x="3029" y="803"/>
                    </a:lnTo>
                    <a:lnTo>
                      <a:pt x="3025" y="803"/>
                    </a:lnTo>
                    <a:lnTo>
                      <a:pt x="3025" y="803"/>
                    </a:lnTo>
                    <a:lnTo>
                      <a:pt x="2809" y="803"/>
                    </a:lnTo>
                    <a:lnTo>
                      <a:pt x="2806" y="803"/>
                    </a:lnTo>
                    <a:lnTo>
                      <a:pt x="2802" y="804"/>
                    </a:lnTo>
                    <a:lnTo>
                      <a:pt x="2797" y="806"/>
                    </a:lnTo>
                    <a:lnTo>
                      <a:pt x="2793" y="807"/>
                    </a:lnTo>
                    <a:lnTo>
                      <a:pt x="2789" y="809"/>
                    </a:lnTo>
                    <a:lnTo>
                      <a:pt x="2787" y="812"/>
                    </a:lnTo>
                    <a:lnTo>
                      <a:pt x="2783" y="814"/>
                    </a:lnTo>
                    <a:lnTo>
                      <a:pt x="2780" y="817"/>
                    </a:lnTo>
                    <a:lnTo>
                      <a:pt x="2778" y="822"/>
                    </a:lnTo>
                    <a:lnTo>
                      <a:pt x="2775" y="827"/>
                    </a:lnTo>
                    <a:lnTo>
                      <a:pt x="2773" y="832"/>
                    </a:lnTo>
                    <a:lnTo>
                      <a:pt x="2772" y="837"/>
                    </a:lnTo>
                    <a:lnTo>
                      <a:pt x="2772" y="837"/>
                    </a:lnTo>
                    <a:close/>
                    <a:moveTo>
                      <a:pt x="3384" y="775"/>
                    </a:moveTo>
                    <a:lnTo>
                      <a:pt x="3176" y="775"/>
                    </a:lnTo>
                    <a:lnTo>
                      <a:pt x="3176" y="942"/>
                    </a:lnTo>
                    <a:lnTo>
                      <a:pt x="3384" y="942"/>
                    </a:lnTo>
                    <a:lnTo>
                      <a:pt x="3384" y="775"/>
                    </a:lnTo>
                    <a:lnTo>
                      <a:pt x="3384" y="775"/>
                    </a:lnTo>
                    <a:close/>
                    <a:moveTo>
                      <a:pt x="3000" y="0"/>
                    </a:moveTo>
                    <a:lnTo>
                      <a:pt x="2918" y="0"/>
                    </a:lnTo>
                    <a:lnTo>
                      <a:pt x="2915" y="1"/>
                    </a:lnTo>
                    <a:lnTo>
                      <a:pt x="2911" y="3"/>
                    </a:lnTo>
                    <a:lnTo>
                      <a:pt x="2908" y="4"/>
                    </a:lnTo>
                    <a:lnTo>
                      <a:pt x="2906" y="6"/>
                    </a:lnTo>
                    <a:lnTo>
                      <a:pt x="2903" y="10"/>
                    </a:lnTo>
                    <a:lnTo>
                      <a:pt x="2902" y="13"/>
                    </a:lnTo>
                    <a:lnTo>
                      <a:pt x="2901" y="16"/>
                    </a:lnTo>
                    <a:lnTo>
                      <a:pt x="2901" y="21"/>
                    </a:lnTo>
                    <a:lnTo>
                      <a:pt x="2901" y="21"/>
                    </a:lnTo>
                    <a:lnTo>
                      <a:pt x="2901" y="93"/>
                    </a:lnTo>
                    <a:lnTo>
                      <a:pt x="2901" y="97"/>
                    </a:lnTo>
                    <a:lnTo>
                      <a:pt x="2902" y="101"/>
                    </a:lnTo>
                    <a:lnTo>
                      <a:pt x="2903" y="104"/>
                    </a:lnTo>
                    <a:lnTo>
                      <a:pt x="2906" y="106"/>
                    </a:lnTo>
                    <a:lnTo>
                      <a:pt x="2908" y="109"/>
                    </a:lnTo>
                    <a:lnTo>
                      <a:pt x="2911" y="111"/>
                    </a:lnTo>
                    <a:lnTo>
                      <a:pt x="2915" y="111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3000" y="112"/>
                    </a:lnTo>
                    <a:lnTo>
                      <a:pt x="3000" y="0"/>
                    </a:lnTo>
                    <a:lnTo>
                      <a:pt x="3000" y="0"/>
                    </a:lnTo>
                    <a:close/>
                    <a:moveTo>
                      <a:pt x="3000" y="580"/>
                    </a:moveTo>
                    <a:lnTo>
                      <a:pt x="2918" y="580"/>
                    </a:lnTo>
                    <a:lnTo>
                      <a:pt x="2915" y="580"/>
                    </a:lnTo>
                    <a:lnTo>
                      <a:pt x="2911" y="581"/>
                    </a:lnTo>
                    <a:lnTo>
                      <a:pt x="2908" y="583"/>
                    </a:lnTo>
                    <a:lnTo>
                      <a:pt x="2906" y="585"/>
                    </a:lnTo>
                    <a:lnTo>
                      <a:pt x="2903" y="588"/>
                    </a:lnTo>
                    <a:lnTo>
                      <a:pt x="2902" y="591"/>
                    </a:lnTo>
                    <a:lnTo>
                      <a:pt x="2901" y="595"/>
                    </a:lnTo>
                    <a:lnTo>
                      <a:pt x="2901" y="597"/>
                    </a:lnTo>
                    <a:lnTo>
                      <a:pt x="2901" y="597"/>
                    </a:lnTo>
                    <a:lnTo>
                      <a:pt x="2901" y="670"/>
                    </a:lnTo>
                    <a:lnTo>
                      <a:pt x="2901" y="674"/>
                    </a:lnTo>
                    <a:lnTo>
                      <a:pt x="2902" y="678"/>
                    </a:lnTo>
                    <a:lnTo>
                      <a:pt x="2903" y="682"/>
                    </a:lnTo>
                    <a:lnTo>
                      <a:pt x="2906" y="686"/>
                    </a:lnTo>
                    <a:lnTo>
                      <a:pt x="2908" y="688"/>
                    </a:lnTo>
                    <a:lnTo>
                      <a:pt x="2911" y="689"/>
                    </a:lnTo>
                    <a:lnTo>
                      <a:pt x="2915" y="691"/>
                    </a:lnTo>
                    <a:lnTo>
                      <a:pt x="2918" y="691"/>
                    </a:lnTo>
                    <a:lnTo>
                      <a:pt x="2918" y="691"/>
                    </a:lnTo>
                    <a:lnTo>
                      <a:pt x="3000" y="691"/>
                    </a:lnTo>
                    <a:lnTo>
                      <a:pt x="3000" y="580"/>
                    </a:lnTo>
                    <a:lnTo>
                      <a:pt x="3000" y="580"/>
                    </a:lnTo>
                    <a:close/>
                    <a:moveTo>
                      <a:pt x="0" y="880"/>
                    </a:moveTo>
                    <a:lnTo>
                      <a:pt x="0" y="925"/>
                    </a:lnTo>
                    <a:lnTo>
                      <a:pt x="125" y="925"/>
                    </a:lnTo>
                    <a:lnTo>
                      <a:pt x="125" y="880"/>
                    </a:lnTo>
                    <a:lnTo>
                      <a:pt x="0" y="880"/>
                    </a:lnTo>
                    <a:lnTo>
                      <a:pt x="0" y="880"/>
                    </a:lnTo>
                    <a:close/>
                    <a:moveTo>
                      <a:pt x="822" y="880"/>
                    </a:moveTo>
                    <a:lnTo>
                      <a:pt x="822" y="925"/>
                    </a:lnTo>
                    <a:lnTo>
                      <a:pt x="945" y="925"/>
                    </a:lnTo>
                    <a:lnTo>
                      <a:pt x="945" y="880"/>
                    </a:lnTo>
                    <a:lnTo>
                      <a:pt x="822" y="880"/>
                    </a:lnTo>
                    <a:lnTo>
                      <a:pt x="822" y="88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6" name=""/>
              <p:cNvSpPr/>
              <p:nvPr/>
            </p:nvSpPr>
            <p:spPr>
              <a:xfrm>
                <a:off x="4826520" y="6535080"/>
                <a:ext cx="106200" cy="8820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78"/>
                    </a:moveTo>
                    <a:lnTo>
                      <a:pt x="157" y="69"/>
                    </a:lnTo>
                    <a:lnTo>
                      <a:pt x="155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8" y="40"/>
                    </a:lnTo>
                    <a:lnTo>
                      <a:pt x="144" y="34"/>
                    </a:lnTo>
                    <a:lnTo>
                      <a:pt x="139" y="28"/>
                    </a:lnTo>
                    <a:lnTo>
                      <a:pt x="134" y="23"/>
                    </a:lnTo>
                    <a:lnTo>
                      <a:pt x="129" y="18"/>
                    </a:lnTo>
                    <a:lnTo>
                      <a:pt x="123" y="14"/>
                    </a:lnTo>
                    <a:lnTo>
                      <a:pt x="117" y="10"/>
                    </a:lnTo>
                    <a:lnTo>
                      <a:pt x="110" y="6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1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24" y="23"/>
                    </a:lnTo>
                    <a:lnTo>
                      <a:pt x="19" y="28"/>
                    </a:lnTo>
                    <a:lnTo>
                      <a:pt x="14" y="34"/>
                    </a:lnTo>
                    <a:lnTo>
                      <a:pt x="10" y="40"/>
                    </a:lnTo>
                    <a:lnTo>
                      <a:pt x="8" y="48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1" y="69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2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9" y="129"/>
                    </a:lnTo>
                    <a:lnTo>
                      <a:pt x="24" y="134"/>
                    </a:lnTo>
                    <a:lnTo>
                      <a:pt x="30" y="139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9" y="152"/>
                    </a:lnTo>
                    <a:lnTo>
                      <a:pt x="56" y="154"/>
                    </a:lnTo>
                    <a:lnTo>
                      <a:pt x="64" y="157"/>
                    </a:lnTo>
                    <a:lnTo>
                      <a:pt x="71" y="158"/>
                    </a:lnTo>
                    <a:lnTo>
                      <a:pt x="80" y="158"/>
                    </a:lnTo>
                    <a:lnTo>
                      <a:pt x="88" y="158"/>
                    </a:lnTo>
                    <a:lnTo>
                      <a:pt x="95" y="157"/>
                    </a:lnTo>
                    <a:lnTo>
                      <a:pt x="103" y="154"/>
                    </a:lnTo>
                    <a:lnTo>
                      <a:pt x="110" y="152"/>
                    </a:lnTo>
                    <a:lnTo>
                      <a:pt x="117" y="148"/>
                    </a:lnTo>
                    <a:lnTo>
                      <a:pt x="123" y="144"/>
                    </a:lnTo>
                    <a:lnTo>
                      <a:pt x="129" y="139"/>
                    </a:lnTo>
                    <a:lnTo>
                      <a:pt x="134" y="134"/>
                    </a:lnTo>
                    <a:lnTo>
                      <a:pt x="139" y="129"/>
                    </a:lnTo>
                    <a:lnTo>
                      <a:pt x="144" y="123"/>
                    </a:lnTo>
                    <a:lnTo>
                      <a:pt x="148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5" y="93"/>
                    </a:lnTo>
                    <a:lnTo>
                      <a:pt x="157" y="86"/>
                    </a:lnTo>
                    <a:lnTo>
                      <a:pt x="157" y="78"/>
                    </a:lnTo>
                    <a:lnTo>
                      <a:pt x="157" y="78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7" name=""/>
              <p:cNvSpPr/>
              <p:nvPr/>
            </p:nvSpPr>
            <p:spPr>
              <a:xfrm>
                <a:off x="5001120" y="6535080"/>
                <a:ext cx="106200" cy="88200"/>
              </a:xfrm>
              <a:custGeom>
                <a:avLst/>
                <a:gdLst/>
                <a:ahLst/>
                <a:rect l="l" t="t" r="r" b="b"/>
                <a:pathLst>
                  <a:path w="155" h="158">
                    <a:moveTo>
                      <a:pt x="155" y="78"/>
                    </a:moveTo>
                    <a:lnTo>
                      <a:pt x="155" y="69"/>
                    </a:lnTo>
                    <a:lnTo>
                      <a:pt x="154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6" y="40"/>
                    </a:lnTo>
                    <a:lnTo>
                      <a:pt x="143" y="34"/>
                    </a:lnTo>
                    <a:lnTo>
                      <a:pt x="138" y="28"/>
                    </a:lnTo>
                    <a:lnTo>
                      <a:pt x="133" y="23"/>
                    </a:lnTo>
                    <a:lnTo>
                      <a:pt x="128" y="18"/>
                    </a:lnTo>
                    <a:lnTo>
                      <a:pt x="121" y="14"/>
                    </a:lnTo>
                    <a:lnTo>
                      <a:pt x="115" y="10"/>
                    </a:lnTo>
                    <a:lnTo>
                      <a:pt x="109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6" y="1"/>
                    </a:lnTo>
                    <a:lnTo>
                      <a:pt x="79" y="0"/>
                    </a:lnTo>
                    <a:lnTo>
                      <a:pt x="70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7" y="6"/>
                    </a:lnTo>
                    <a:lnTo>
                      <a:pt x="41" y="10"/>
                    </a:lnTo>
                    <a:lnTo>
                      <a:pt x="35" y="14"/>
                    </a:lnTo>
                    <a:lnTo>
                      <a:pt x="29" y="18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4" y="34"/>
                    </a:lnTo>
                    <a:lnTo>
                      <a:pt x="9" y="40"/>
                    </a:lnTo>
                    <a:lnTo>
                      <a:pt x="6" y="48"/>
                    </a:lnTo>
                    <a:lnTo>
                      <a:pt x="2" y="54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" y="93"/>
                    </a:lnTo>
                    <a:lnTo>
                      <a:pt x="2" y="101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4" y="123"/>
                    </a:lnTo>
                    <a:lnTo>
                      <a:pt x="17" y="129"/>
                    </a:lnTo>
                    <a:lnTo>
                      <a:pt x="22" y="134"/>
                    </a:lnTo>
                    <a:lnTo>
                      <a:pt x="29" y="139"/>
                    </a:lnTo>
                    <a:lnTo>
                      <a:pt x="35" y="144"/>
                    </a:lnTo>
                    <a:lnTo>
                      <a:pt x="41" y="148"/>
                    </a:lnTo>
                    <a:lnTo>
                      <a:pt x="47" y="152"/>
                    </a:lnTo>
                    <a:lnTo>
                      <a:pt x="55" y="154"/>
                    </a:lnTo>
                    <a:lnTo>
                      <a:pt x="62" y="157"/>
                    </a:lnTo>
                    <a:lnTo>
                      <a:pt x="70" y="158"/>
                    </a:lnTo>
                    <a:lnTo>
                      <a:pt x="79" y="158"/>
                    </a:lnTo>
                    <a:lnTo>
                      <a:pt x="86" y="158"/>
                    </a:lnTo>
                    <a:lnTo>
                      <a:pt x="94" y="157"/>
                    </a:lnTo>
                    <a:lnTo>
                      <a:pt x="101" y="154"/>
                    </a:lnTo>
                    <a:lnTo>
                      <a:pt x="109" y="152"/>
                    </a:lnTo>
                    <a:lnTo>
                      <a:pt x="115" y="148"/>
                    </a:lnTo>
                    <a:lnTo>
                      <a:pt x="121" y="144"/>
                    </a:lnTo>
                    <a:lnTo>
                      <a:pt x="128" y="139"/>
                    </a:lnTo>
                    <a:lnTo>
                      <a:pt x="133" y="134"/>
                    </a:lnTo>
                    <a:lnTo>
                      <a:pt x="138" y="129"/>
                    </a:lnTo>
                    <a:lnTo>
                      <a:pt x="143" y="123"/>
                    </a:lnTo>
                    <a:lnTo>
                      <a:pt x="146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4" y="93"/>
                    </a:lnTo>
                    <a:lnTo>
                      <a:pt x="155" y="86"/>
                    </a:lnTo>
                    <a:lnTo>
                      <a:pt x="155" y="78"/>
                    </a:lnTo>
                    <a:lnTo>
                      <a:pt x="155" y="78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8" name=""/>
              <p:cNvSpPr/>
              <p:nvPr/>
            </p:nvSpPr>
            <p:spPr>
              <a:xfrm>
                <a:off x="5177880" y="6544440"/>
                <a:ext cx="293760" cy="80640"/>
              </a:xfrm>
              <a:custGeom>
                <a:avLst/>
                <a:gdLst/>
                <a:ahLst/>
                <a:rect l="l" t="t" r="r" b="b"/>
                <a:pathLst>
                  <a:path w="431" h="146">
                    <a:moveTo>
                      <a:pt x="70" y="32"/>
                    </a:moveTo>
                    <a:lnTo>
                      <a:pt x="42" y="32"/>
                    </a:lnTo>
                    <a:lnTo>
                      <a:pt x="38" y="32"/>
                    </a:lnTo>
                    <a:lnTo>
                      <a:pt x="33" y="33"/>
                    </a:lnTo>
                    <a:lnTo>
                      <a:pt x="29" y="35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3" y="45"/>
                    </a:lnTo>
                    <a:lnTo>
                      <a:pt x="8" y="50"/>
                    </a:lnTo>
                    <a:lnTo>
                      <a:pt x="5" y="53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9"/>
                    </a:lnTo>
                    <a:lnTo>
                      <a:pt x="5" y="93"/>
                    </a:lnTo>
                    <a:lnTo>
                      <a:pt x="8" y="96"/>
                    </a:lnTo>
                    <a:lnTo>
                      <a:pt x="13" y="103"/>
                    </a:lnTo>
                    <a:lnTo>
                      <a:pt x="19" y="108"/>
                    </a:lnTo>
                    <a:lnTo>
                      <a:pt x="22" y="109"/>
                    </a:lnTo>
                    <a:lnTo>
                      <a:pt x="25" y="112"/>
                    </a:lnTo>
                    <a:lnTo>
                      <a:pt x="29" y="113"/>
                    </a:lnTo>
                    <a:lnTo>
                      <a:pt x="33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82" y="114"/>
                    </a:lnTo>
                    <a:lnTo>
                      <a:pt x="82" y="119"/>
                    </a:lnTo>
                    <a:lnTo>
                      <a:pt x="84" y="125"/>
                    </a:lnTo>
                    <a:lnTo>
                      <a:pt x="87" y="131"/>
                    </a:lnTo>
                    <a:lnTo>
                      <a:pt x="92" y="136"/>
                    </a:lnTo>
                    <a:lnTo>
                      <a:pt x="95" y="139"/>
                    </a:lnTo>
                    <a:lnTo>
                      <a:pt x="102" y="142"/>
                    </a:lnTo>
                    <a:lnTo>
                      <a:pt x="108" y="144"/>
                    </a:lnTo>
                    <a:lnTo>
                      <a:pt x="114" y="146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308" y="146"/>
                    </a:lnTo>
                    <a:lnTo>
                      <a:pt x="315" y="146"/>
                    </a:lnTo>
                    <a:lnTo>
                      <a:pt x="318" y="146"/>
                    </a:lnTo>
                    <a:lnTo>
                      <a:pt x="322" y="144"/>
                    </a:lnTo>
                    <a:lnTo>
                      <a:pt x="326" y="143"/>
                    </a:lnTo>
                    <a:lnTo>
                      <a:pt x="328" y="142"/>
                    </a:lnTo>
                    <a:lnTo>
                      <a:pt x="332" y="139"/>
                    </a:lnTo>
                    <a:lnTo>
                      <a:pt x="336" y="137"/>
                    </a:lnTo>
                    <a:lnTo>
                      <a:pt x="338" y="136"/>
                    </a:lnTo>
                    <a:lnTo>
                      <a:pt x="340" y="133"/>
                    </a:lnTo>
                    <a:lnTo>
                      <a:pt x="342" y="131"/>
                    </a:lnTo>
                    <a:lnTo>
                      <a:pt x="345" y="128"/>
                    </a:lnTo>
                    <a:lnTo>
                      <a:pt x="347" y="122"/>
                    </a:lnTo>
                    <a:lnTo>
                      <a:pt x="350" y="114"/>
                    </a:lnTo>
                    <a:lnTo>
                      <a:pt x="350" y="114"/>
                    </a:lnTo>
                    <a:lnTo>
                      <a:pt x="390" y="114"/>
                    </a:lnTo>
                    <a:lnTo>
                      <a:pt x="394" y="114"/>
                    </a:lnTo>
                    <a:lnTo>
                      <a:pt x="399" y="114"/>
                    </a:lnTo>
                    <a:lnTo>
                      <a:pt x="402" y="113"/>
                    </a:lnTo>
                    <a:lnTo>
                      <a:pt x="406" y="112"/>
                    </a:lnTo>
                    <a:lnTo>
                      <a:pt x="410" y="109"/>
                    </a:lnTo>
                    <a:lnTo>
                      <a:pt x="412" y="108"/>
                    </a:lnTo>
                    <a:lnTo>
                      <a:pt x="419" y="103"/>
                    </a:lnTo>
                    <a:lnTo>
                      <a:pt x="424" y="96"/>
                    </a:lnTo>
                    <a:lnTo>
                      <a:pt x="426" y="93"/>
                    </a:lnTo>
                    <a:lnTo>
                      <a:pt x="427" y="89"/>
                    </a:lnTo>
                    <a:lnTo>
                      <a:pt x="429" y="85"/>
                    </a:lnTo>
                    <a:lnTo>
                      <a:pt x="430" y="81"/>
                    </a:lnTo>
                    <a:lnTo>
                      <a:pt x="430" y="77"/>
                    </a:lnTo>
                    <a:lnTo>
                      <a:pt x="431" y="74"/>
                    </a:lnTo>
                    <a:lnTo>
                      <a:pt x="431" y="74"/>
                    </a:lnTo>
                    <a:lnTo>
                      <a:pt x="430" y="69"/>
                    </a:lnTo>
                    <a:lnTo>
                      <a:pt x="430" y="65"/>
                    </a:lnTo>
                    <a:lnTo>
                      <a:pt x="429" y="61"/>
                    </a:lnTo>
                    <a:lnTo>
                      <a:pt x="427" y="57"/>
                    </a:lnTo>
                    <a:lnTo>
                      <a:pt x="426" y="53"/>
                    </a:lnTo>
                    <a:lnTo>
                      <a:pt x="424" y="50"/>
                    </a:lnTo>
                    <a:lnTo>
                      <a:pt x="419" y="45"/>
                    </a:lnTo>
                    <a:lnTo>
                      <a:pt x="412" y="40"/>
                    </a:lnTo>
                    <a:lnTo>
                      <a:pt x="410" y="37"/>
                    </a:lnTo>
                    <a:lnTo>
                      <a:pt x="406" y="36"/>
                    </a:lnTo>
                    <a:lnTo>
                      <a:pt x="402" y="35"/>
                    </a:lnTo>
                    <a:lnTo>
                      <a:pt x="399" y="33"/>
                    </a:lnTo>
                    <a:lnTo>
                      <a:pt x="394" y="32"/>
                    </a:lnTo>
                    <a:lnTo>
                      <a:pt x="390" y="32"/>
                    </a:lnTo>
                    <a:lnTo>
                      <a:pt x="390" y="32"/>
                    </a:lnTo>
                    <a:lnTo>
                      <a:pt x="361" y="32"/>
                    </a:lnTo>
                    <a:lnTo>
                      <a:pt x="360" y="30"/>
                    </a:lnTo>
                    <a:lnTo>
                      <a:pt x="360" y="27"/>
                    </a:lnTo>
                    <a:lnTo>
                      <a:pt x="359" y="24"/>
                    </a:lnTo>
                    <a:lnTo>
                      <a:pt x="357" y="22"/>
                    </a:lnTo>
                    <a:lnTo>
                      <a:pt x="355" y="18"/>
                    </a:lnTo>
                    <a:lnTo>
                      <a:pt x="351" y="14"/>
                    </a:lnTo>
                    <a:lnTo>
                      <a:pt x="349" y="11"/>
                    </a:lnTo>
                    <a:lnTo>
                      <a:pt x="346" y="8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36" y="2"/>
                    </a:lnTo>
                    <a:lnTo>
                      <a:pt x="332" y="2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4" y="18"/>
                    </a:lnTo>
                    <a:lnTo>
                      <a:pt x="73" y="22"/>
                    </a:lnTo>
                    <a:lnTo>
                      <a:pt x="72" y="27"/>
                    </a:lnTo>
                    <a:lnTo>
                      <a:pt x="70" y="32"/>
                    </a:lnTo>
                    <a:lnTo>
                      <a:pt x="70" y="32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9" name=""/>
              <p:cNvSpPr/>
              <p:nvPr/>
            </p:nvSpPr>
            <p:spPr>
              <a:xfrm>
                <a:off x="5530320" y="6549480"/>
                <a:ext cx="295200" cy="68760"/>
              </a:xfrm>
              <a:custGeom>
                <a:avLst/>
                <a:gdLst/>
                <a:ahLst/>
                <a:rect l="l" t="t" r="r" b="b"/>
                <a:pathLst>
                  <a:path w="432" h="125">
                    <a:moveTo>
                      <a:pt x="9" y="125"/>
                    </a:moveTo>
                    <a:lnTo>
                      <a:pt x="423" y="125"/>
                    </a:lnTo>
                    <a:lnTo>
                      <a:pt x="425" y="125"/>
                    </a:lnTo>
                    <a:lnTo>
                      <a:pt x="427" y="125"/>
                    </a:lnTo>
                    <a:lnTo>
                      <a:pt x="428" y="124"/>
                    </a:lnTo>
                    <a:lnTo>
                      <a:pt x="430" y="123"/>
                    </a:lnTo>
                    <a:lnTo>
                      <a:pt x="431" y="122"/>
                    </a:lnTo>
                    <a:lnTo>
                      <a:pt x="432" y="120"/>
                    </a:lnTo>
                    <a:lnTo>
                      <a:pt x="432" y="119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9"/>
                    </a:lnTo>
                    <a:lnTo>
                      <a:pt x="432" y="8"/>
                    </a:lnTo>
                    <a:lnTo>
                      <a:pt x="432" y="7"/>
                    </a:lnTo>
                    <a:lnTo>
                      <a:pt x="431" y="4"/>
                    </a:lnTo>
                    <a:lnTo>
                      <a:pt x="430" y="3"/>
                    </a:lnTo>
                    <a:lnTo>
                      <a:pt x="428" y="2"/>
                    </a:lnTo>
                    <a:lnTo>
                      <a:pt x="427" y="2"/>
                    </a:lnTo>
                    <a:lnTo>
                      <a:pt x="425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2" y="123"/>
                    </a:lnTo>
                    <a:lnTo>
                      <a:pt x="4" y="124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9" y="125"/>
                    </a:lnTo>
                    <a:lnTo>
                      <a:pt x="9" y="125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0" name=""/>
              <p:cNvSpPr/>
              <p:nvPr/>
            </p:nvSpPr>
            <p:spPr>
              <a:xfrm>
                <a:off x="5853240" y="6545160"/>
                <a:ext cx="293760" cy="82440"/>
              </a:xfrm>
              <a:custGeom>
                <a:avLst/>
                <a:gdLst/>
                <a:ahLst/>
                <a:rect l="l" t="t" r="r" b="b"/>
                <a:pathLst>
                  <a:path w="432" h="148">
                    <a:moveTo>
                      <a:pt x="70" y="34"/>
                    </a:moveTo>
                    <a:lnTo>
                      <a:pt x="40" y="34"/>
                    </a:lnTo>
                    <a:lnTo>
                      <a:pt x="36" y="34"/>
                    </a:lnTo>
                    <a:lnTo>
                      <a:pt x="32" y="34"/>
                    </a:lnTo>
                    <a:lnTo>
                      <a:pt x="27" y="35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1" y="45"/>
                    </a:lnTo>
                    <a:lnTo>
                      <a:pt x="6" y="52"/>
                    </a:lnTo>
                    <a:lnTo>
                      <a:pt x="5" y="56"/>
                    </a:lnTo>
                    <a:lnTo>
                      <a:pt x="2" y="59"/>
                    </a:lnTo>
                    <a:lnTo>
                      <a:pt x="1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6"/>
                    </a:lnTo>
                    <a:lnTo>
                      <a:pt x="2" y="90"/>
                    </a:lnTo>
                    <a:lnTo>
                      <a:pt x="5" y="93"/>
                    </a:lnTo>
                    <a:lnTo>
                      <a:pt x="6" y="96"/>
                    </a:lnTo>
                    <a:lnTo>
                      <a:pt x="11" y="102"/>
                    </a:lnTo>
                    <a:lnTo>
                      <a:pt x="17" y="107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2"/>
                    </a:lnTo>
                    <a:lnTo>
                      <a:pt x="32" y="112"/>
                    </a:lnTo>
                    <a:lnTo>
                      <a:pt x="36" y="114"/>
                    </a:lnTo>
                    <a:lnTo>
                      <a:pt x="40" y="114"/>
                    </a:lnTo>
                    <a:lnTo>
                      <a:pt x="40" y="114"/>
                    </a:lnTo>
                    <a:lnTo>
                      <a:pt x="81" y="114"/>
                    </a:lnTo>
                    <a:lnTo>
                      <a:pt x="81" y="119"/>
                    </a:lnTo>
                    <a:lnTo>
                      <a:pt x="82" y="125"/>
                    </a:lnTo>
                    <a:lnTo>
                      <a:pt x="86" y="130"/>
                    </a:lnTo>
                    <a:lnTo>
                      <a:pt x="90" y="135"/>
                    </a:lnTo>
                    <a:lnTo>
                      <a:pt x="95" y="139"/>
                    </a:lnTo>
                    <a:lnTo>
                      <a:pt x="97" y="141"/>
                    </a:lnTo>
                    <a:lnTo>
                      <a:pt x="101" y="143"/>
                    </a:lnTo>
                    <a:lnTo>
                      <a:pt x="104" y="145"/>
                    </a:lnTo>
                    <a:lnTo>
                      <a:pt x="106" y="145"/>
                    </a:lnTo>
                    <a:lnTo>
                      <a:pt x="110" y="146"/>
                    </a:lnTo>
                    <a:lnTo>
                      <a:pt x="112" y="148"/>
                    </a:lnTo>
                    <a:lnTo>
                      <a:pt x="119" y="148"/>
                    </a:lnTo>
                    <a:lnTo>
                      <a:pt x="119" y="148"/>
                    </a:lnTo>
                    <a:lnTo>
                      <a:pt x="307" y="148"/>
                    </a:lnTo>
                    <a:lnTo>
                      <a:pt x="312" y="148"/>
                    </a:lnTo>
                    <a:lnTo>
                      <a:pt x="315" y="146"/>
                    </a:lnTo>
                    <a:lnTo>
                      <a:pt x="319" y="146"/>
                    </a:lnTo>
                    <a:lnTo>
                      <a:pt x="323" y="145"/>
                    </a:lnTo>
                    <a:lnTo>
                      <a:pt x="329" y="141"/>
                    </a:lnTo>
                    <a:lnTo>
                      <a:pt x="334" y="139"/>
                    </a:lnTo>
                    <a:lnTo>
                      <a:pt x="339" y="133"/>
                    </a:lnTo>
                    <a:lnTo>
                      <a:pt x="342" y="130"/>
                    </a:lnTo>
                    <a:lnTo>
                      <a:pt x="344" y="128"/>
                    </a:lnTo>
                    <a:lnTo>
                      <a:pt x="345" y="124"/>
                    </a:lnTo>
                    <a:lnTo>
                      <a:pt x="347" y="120"/>
                    </a:lnTo>
                    <a:lnTo>
                      <a:pt x="348" y="117"/>
                    </a:lnTo>
                    <a:lnTo>
                      <a:pt x="348" y="114"/>
                    </a:lnTo>
                    <a:lnTo>
                      <a:pt x="348" y="114"/>
                    </a:lnTo>
                    <a:lnTo>
                      <a:pt x="390" y="114"/>
                    </a:lnTo>
                    <a:lnTo>
                      <a:pt x="395" y="114"/>
                    </a:lnTo>
                    <a:lnTo>
                      <a:pt x="399" y="112"/>
                    </a:lnTo>
                    <a:lnTo>
                      <a:pt x="403" y="112"/>
                    </a:lnTo>
                    <a:lnTo>
                      <a:pt x="407" y="110"/>
                    </a:lnTo>
                    <a:lnTo>
                      <a:pt x="411" y="109"/>
                    </a:lnTo>
                    <a:lnTo>
                      <a:pt x="413" y="107"/>
                    </a:lnTo>
                    <a:lnTo>
                      <a:pt x="419" y="102"/>
                    </a:lnTo>
                    <a:lnTo>
                      <a:pt x="424" y="96"/>
                    </a:lnTo>
                    <a:lnTo>
                      <a:pt x="427" y="93"/>
                    </a:lnTo>
                    <a:lnTo>
                      <a:pt x="428" y="90"/>
                    </a:lnTo>
                    <a:lnTo>
                      <a:pt x="429" y="86"/>
                    </a:lnTo>
                    <a:lnTo>
                      <a:pt x="431" y="82"/>
                    </a:lnTo>
                    <a:lnTo>
                      <a:pt x="432" y="78"/>
                    </a:lnTo>
                    <a:lnTo>
                      <a:pt x="432" y="74"/>
                    </a:lnTo>
                    <a:lnTo>
                      <a:pt x="432" y="74"/>
                    </a:lnTo>
                    <a:lnTo>
                      <a:pt x="432" y="71"/>
                    </a:lnTo>
                    <a:lnTo>
                      <a:pt x="431" y="67"/>
                    </a:lnTo>
                    <a:lnTo>
                      <a:pt x="429" y="63"/>
                    </a:lnTo>
                    <a:lnTo>
                      <a:pt x="428" y="59"/>
                    </a:lnTo>
                    <a:lnTo>
                      <a:pt x="427" y="56"/>
                    </a:lnTo>
                    <a:lnTo>
                      <a:pt x="424" y="52"/>
                    </a:lnTo>
                    <a:lnTo>
                      <a:pt x="419" y="45"/>
                    </a:lnTo>
                    <a:lnTo>
                      <a:pt x="413" y="40"/>
                    </a:lnTo>
                    <a:lnTo>
                      <a:pt x="411" y="39"/>
                    </a:lnTo>
                    <a:lnTo>
                      <a:pt x="407" y="37"/>
                    </a:lnTo>
                    <a:lnTo>
                      <a:pt x="403" y="35"/>
                    </a:lnTo>
                    <a:lnTo>
                      <a:pt x="399" y="34"/>
                    </a:lnTo>
                    <a:lnTo>
                      <a:pt x="395" y="34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59" y="34"/>
                    </a:lnTo>
                    <a:lnTo>
                      <a:pt x="359" y="29"/>
                    </a:lnTo>
                    <a:lnTo>
                      <a:pt x="358" y="24"/>
                    </a:lnTo>
                    <a:lnTo>
                      <a:pt x="355" y="19"/>
                    </a:lnTo>
                    <a:lnTo>
                      <a:pt x="353" y="14"/>
                    </a:lnTo>
                    <a:lnTo>
                      <a:pt x="349" y="11"/>
                    </a:lnTo>
                    <a:lnTo>
                      <a:pt x="347" y="9"/>
                    </a:lnTo>
                    <a:lnTo>
                      <a:pt x="343" y="6"/>
                    </a:lnTo>
                    <a:lnTo>
                      <a:pt x="339" y="4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107" y="0"/>
                    </a:lnTo>
                    <a:lnTo>
                      <a:pt x="104" y="0"/>
                    </a:lnTo>
                    <a:lnTo>
                      <a:pt x="100" y="1"/>
                    </a:lnTo>
                    <a:lnTo>
                      <a:pt x="95" y="3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9"/>
                    </a:lnTo>
                    <a:lnTo>
                      <a:pt x="81" y="11"/>
                    </a:lnTo>
                    <a:lnTo>
                      <a:pt x="78" y="14"/>
                    </a:lnTo>
                    <a:lnTo>
                      <a:pt x="76" y="19"/>
                    </a:lnTo>
                    <a:lnTo>
                      <a:pt x="73" y="24"/>
                    </a:lnTo>
                    <a:lnTo>
                      <a:pt x="71" y="29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1" name=""/>
              <p:cNvSpPr/>
              <p:nvPr/>
            </p:nvSpPr>
            <p:spPr>
              <a:xfrm>
                <a:off x="6177240" y="6530760"/>
                <a:ext cx="140760" cy="92520"/>
              </a:xfrm>
              <a:custGeom>
                <a:avLst/>
                <a:gdLst/>
                <a:ahLst/>
                <a:rect l="l" t="t" r="r" b="b"/>
                <a:pathLst>
                  <a:path w="208" h="167">
                    <a:moveTo>
                      <a:pt x="208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208" y="167"/>
                    </a:lnTo>
                    <a:lnTo>
                      <a:pt x="208" y="0"/>
                    </a:lnTo>
                    <a:lnTo>
                      <a:pt x="20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2" name=""/>
              <p:cNvSpPr/>
              <p:nvPr/>
            </p:nvSpPr>
            <p:spPr>
              <a:xfrm>
                <a:off x="5989680" y="6099840"/>
                <a:ext cx="65520" cy="6192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99" y="0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1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7" y="109"/>
                    </a:lnTo>
                    <a:lnTo>
                      <a:pt x="10" y="111"/>
                    </a:lnTo>
                    <a:lnTo>
                      <a:pt x="14" y="111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99" y="11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3" name=""/>
              <p:cNvSpPr/>
              <p:nvPr/>
            </p:nvSpPr>
            <p:spPr>
              <a:xfrm>
                <a:off x="5989680" y="6421680"/>
                <a:ext cx="65520" cy="6120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99" y="0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10" y="109"/>
                    </a:lnTo>
                    <a:lnTo>
                      <a:pt x="14" y="111"/>
                    </a:lnTo>
                    <a:lnTo>
                      <a:pt x="17" y="111"/>
                    </a:lnTo>
                    <a:lnTo>
                      <a:pt x="17" y="111"/>
                    </a:lnTo>
                    <a:lnTo>
                      <a:pt x="99" y="111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4" name=""/>
              <p:cNvSpPr/>
              <p:nvPr/>
            </p:nvSpPr>
            <p:spPr>
              <a:xfrm>
                <a:off x="4016520" y="6588720"/>
                <a:ext cx="84600" cy="2556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0"/>
                    </a:moveTo>
                    <a:lnTo>
                      <a:pt x="0" y="45"/>
                    </a:lnTo>
                    <a:lnTo>
                      <a:pt x="125" y="45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5" name=""/>
              <p:cNvSpPr/>
              <p:nvPr/>
            </p:nvSpPr>
            <p:spPr>
              <a:xfrm>
                <a:off x="4575600" y="6588720"/>
                <a:ext cx="82080" cy="2556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0" y="0"/>
                    </a:moveTo>
                    <a:lnTo>
                      <a:pt x="0" y="45"/>
                    </a:lnTo>
                    <a:lnTo>
                      <a:pt x="123" y="45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6" name=""/>
              <p:cNvSpPr/>
              <p:nvPr/>
            </p:nvSpPr>
            <p:spPr>
              <a:xfrm>
                <a:off x="4844520" y="654948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9997c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7" name=""/>
              <p:cNvSpPr/>
              <p:nvPr/>
            </p:nvSpPr>
            <p:spPr>
              <a:xfrm>
                <a:off x="4844520" y="654948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8" name=""/>
              <p:cNvSpPr/>
              <p:nvPr/>
            </p:nvSpPr>
            <p:spPr>
              <a:xfrm>
                <a:off x="5862600" y="656928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9" name=""/>
              <p:cNvSpPr/>
              <p:nvPr/>
            </p:nvSpPr>
            <p:spPr>
              <a:xfrm>
                <a:off x="5862600" y="656928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0" name=""/>
              <p:cNvSpPr/>
              <p:nvPr/>
            </p:nvSpPr>
            <p:spPr>
              <a:xfrm>
                <a:off x="6099480" y="656928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1" name=""/>
              <p:cNvSpPr/>
              <p:nvPr/>
            </p:nvSpPr>
            <p:spPr>
              <a:xfrm>
                <a:off x="6099480" y="656928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2" name=""/>
              <p:cNvSpPr/>
              <p:nvPr/>
            </p:nvSpPr>
            <p:spPr>
              <a:xfrm>
                <a:off x="5920200" y="655812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3" name=""/>
              <p:cNvSpPr/>
              <p:nvPr/>
            </p:nvSpPr>
            <p:spPr>
              <a:xfrm>
                <a:off x="5920200" y="655812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4" name=""/>
              <p:cNvSpPr/>
              <p:nvPr/>
            </p:nvSpPr>
            <p:spPr>
              <a:xfrm>
                <a:off x="5187600" y="656676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5" name=""/>
              <p:cNvSpPr/>
              <p:nvPr/>
            </p:nvSpPr>
            <p:spPr>
              <a:xfrm>
                <a:off x="5187600" y="656676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6" name=""/>
              <p:cNvSpPr/>
              <p:nvPr/>
            </p:nvSpPr>
            <p:spPr>
              <a:xfrm>
                <a:off x="5424120" y="656676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7" name=""/>
              <p:cNvSpPr/>
              <p:nvPr/>
            </p:nvSpPr>
            <p:spPr>
              <a:xfrm>
                <a:off x="5424120" y="656676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8" name=""/>
              <p:cNvSpPr/>
              <p:nvPr/>
            </p:nvSpPr>
            <p:spPr>
              <a:xfrm>
                <a:off x="5244840" y="655452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9" name=""/>
              <p:cNvSpPr/>
              <p:nvPr/>
            </p:nvSpPr>
            <p:spPr>
              <a:xfrm>
                <a:off x="5244840" y="655452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50" name=""/>
              <p:cNvSpPr/>
              <p:nvPr/>
            </p:nvSpPr>
            <p:spPr>
              <a:xfrm>
                <a:off x="5261760" y="6570000"/>
                <a:ext cx="127800" cy="30600"/>
              </a:xfrm>
              <a:custGeom>
                <a:avLst/>
                <a:gdLst/>
                <a:ahLst/>
                <a:rect l="l" t="t" r="r" b="b"/>
                <a:pathLst>
                  <a:path w="188" h="57">
                    <a:moveTo>
                      <a:pt x="174" y="6"/>
                    </a:moveTo>
                    <a:lnTo>
                      <a:pt x="174" y="9"/>
                    </a:lnTo>
                    <a:lnTo>
                      <a:pt x="175" y="11"/>
                    </a:lnTo>
                    <a:lnTo>
                      <a:pt x="178" y="13"/>
                    </a:lnTo>
                    <a:lnTo>
                      <a:pt x="179" y="14"/>
                    </a:lnTo>
                    <a:lnTo>
                      <a:pt x="180" y="14"/>
                    </a:lnTo>
                    <a:lnTo>
                      <a:pt x="182" y="14"/>
                    </a:lnTo>
                    <a:lnTo>
                      <a:pt x="183" y="13"/>
                    </a:lnTo>
                    <a:lnTo>
                      <a:pt x="185" y="11"/>
                    </a:lnTo>
                    <a:lnTo>
                      <a:pt x="187" y="9"/>
                    </a:lnTo>
                    <a:lnTo>
                      <a:pt x="188" y="7"/>
                    </a:lnTo>
                    <a:lnTo>
                      <a:pt x="188" y="6"/>
                    </a:lnTo>
                    <a:lnTo>
                      <a:pt x="188" y="5"/>
                    </a:lnTo>
                    <a:lnTo>
                      <a:pt x="187" y="4"/>
                    </a:lnTo>
                    <a:lnTo>
                      <a:pt x="185" y="1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5" y="1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close/>
                    <a:moveTo>
                      <a:pt x="20" y="50"/>
                    </a:moveTo>
                    <a:lnTo>
                      <a:pt x="20" y="50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25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7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4" y="45"/>
                    </a:lnTo>
                    <a:lnTo>
                      <a:pt x="30" y="44"/>
                    </a:lnTo>
                    <a:lnTo>
                      <a:pt x="28" y="43"/>
                    </a:lnTo>
                    <a:lnTo>
                      <a:pt x="25" y="44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0"/>
                    </a:lnTo>
                    <a:close/>
                    <a:moveTo>
                      <a:pt x="65" y="50"/>
                    </a:moveTo>
                    <a:lnTo>
                      <a:pt x="66" y="52"/>
                    </a:lnTo>
                    <a:lnTo>
                      <a:pt x="68" y="54"/>
                    </a:lnTo>
                    <a:lnTo>
                      <a:pt x="69" y="57"/>
                    </a:lnTo>
                    <a:lnTo>
                      <a:pt x="70" y="57"/>
                    </a:lnTo>
                    <a:lnTo>
                      <a:pt x="73" y="57"/>
                    </a:lnTo>
                    <a:lnTo>
                      <a:pt x="73" y="57"/>
                    </a:lnTo>
                    <a:lnTo>
                      <a:pt x="74" y="57"/>
                    </a:lnTo>
                    <a:lnTo>
                      <a:pt x="76" y="54"/>
                    </a:lnTo>
                    <a:lnTo>
                      <a:pt x="79" y="52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3" y="43"/>
                    </a:lnTo>
                    <a:lnTo>
                      <a:pt x="69" y="44"/>
                    </a:lnTo>
                    <a:lnTo>
                      <a:pt x="68" y="45"/>
                    </a:lnTo>
                    <a:lnTo>
                      <a:pt x="66" y="47"/>
                    </a:lnTo>
                    <a:lnTo>
                      <a:pt x="65" y="50"/>
                    </a:lnTo>
                    <a:lnTo>
                      <a:pt x="65" y="50"/>
                    </a:lnTo>
                    <a:close/>
                    <a:moveTo>
                      <a:pt x="109" y="50"/>
                    </a:moveTo>
                    <a:lnTo>
                      <a:pt x="109" y="52"/>
                    </a:lnTo>
                    <a:lnTo>
                      <a:pt x="110" y="54"/>
                    </a:lnTo>
                    <a:lnTo>
                      <a:pt x="113" y="57"/>
                    </a:lnTo>
                    <a:lnTo>
                      <a:pt x="114" y="57"/>
                    </a:lnTo>
                    <a:lnTo>
                      <a:pt x="115" y="57"/>
                    </a:lnTo>
                    <a:lnTo>
                      <a:pt x="117" y="57"/>
                    </a:lnTo>
                    <a:lnTo>
                      <a:pt x="118" y="57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2" y="47"/>
                    </a:lnTo>
                    <a:lnTo>
                      <a:pt x="120" y="45"/>
                    </a:lnTo>
                    <a:lnTo>
                      <a:pt x="118" y="44"/>
                    </a:lnTo>
                    <a:lnTo>
                      <a:pt x="115" y="43"/>
                    </a:lnTo>
                    <a:lnTo>
                      <a:pt x="113" y="44"/>
                    </a:lnTo>
                    <a:lnTo>
                      <a:pt x="110" y="45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9" y="50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4" y="9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6" y="6"/>
                    </a:moveTo>
                    <a:lnTo>
                      <a:pt x="86" y="7"/>
                    </a:lnTo>
                    <a:lnTo>
                      <a:pt x="86" y="9"/>
                    </a:lnTo>
                    <a:lnTo>
                      <a:pt x="89" y="11"/>
                    </a:lnTo>
                    <a:lnTo>
                      <a:pt x="90" y="13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3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1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6"/>
                    </a:lnTo>
                    <a:lnTo>
                      <a:pt x="86" y="6"/>
                    </a:lnTo>
                    <a:close/>
                    <a:moveTo>
                      <a:pt x="132" y="6"/>
                    </a:moveTo>
                    <a:lnTo>
                      <a:pt x="132" y="9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7" y="14"/>
                    </a:lnTo>
                    <a:lnTo>
                      <a:pt x="138" y="14"/>
                    </a:lnTo>
                    <a:lnTo>
                      <a:pt x="139" y="14"/>
                    </a:lnTo>
                    <a:lnTo>
                      <a:pt x="140" y="13"/>
                    </a:lnTo>
                    <a:lnTo>
                      <a:pt x="143" y="11"/>
                    </a:lnTo>
                    <a:lnTo>
                      <a:pt x="144" y="9"/>
                    </a:lnTo>
                    <a:lnTo>
                      <a:pt x="144" y="7"/>
                    </a:lnTo>
                    <a:lnTo>
                      <a:pt x="145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3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3" y="1"/>
                    </a:lnTo>
                    <a:lnTo>
                      <a:pt x="132" y="4"/>
                    </a:lnTo>
                    <a:lnTo>
                      <a:pt x="132" y="6"/>
                    </a:lnTo>
                    <a:lnTo>
                      <a:pt x="132" y="6"/>
                    </a:lnTo>
                    <a:close/>
                    <a:moveTo>
                      <a:pt x="152" y="50"/>
                    </a:moveTo>
                    <a:lnTo>
                      <a:pt x="152" y="52"/>
                    </a:lnTo>
                    <a:lnTo>
                      <a:pt x="153" y="54"/>
                    </a:lnTo>
                    <a:lnTo>
                      <a:pt x="155" y="57"/>
                    </a:lnTo>
                    <a:lnTo>
                      <a:pt x="157" y="57"/>
                    </a:lnTo>
                    <a:lnTo>
                      <a:pt x="158" y="57"/>
                    </a:lnTo>
                    <a:lnTo>
                      <a:pt x="160" y="57"/>
                    </a:lnTo>
                    <a:lnTo>
                      <a:pt x="162" y="57"/>
                    </a:lnTo>
                    <a:lnTo>
                      <a:pt x="163" y="54"/>
                    </a:lnTo>
                    <a:lnTo>
                      <a:pt x="164" y="52"/>
                    </a:lnTo>
                    <a:lnTo>
                      <a:pt x="165" y="50"/>
                    </a:lnTo>
                    <a:lnTo>
                      <a:pt x="164" y="47"/>
                    </a:lnTo>
                    <a:lnTo>
                      <a:pt x="163" y="45"/>
                    </a:lnTo>
                    <a:lnTo>
                      <a:pt x="162" y="44"/>
                    </a:lnTo>
                    <a:lnTo>
                      <a:pt x="158" y="43"/>
                    </a:lnTo>
                    <a:lnTo>
                      <a:pt x="155" y="44"/>
                    </a:lnTo>
                    <a:lnTo>
                      <a:pt x="153" y="45"/>
                    </a:lnTo>
                    <a:lnTo>
                      <a:pt x="152" y="47"/>
                    </a:lnTo>
                    <a:lnTo>
                      <a:pt x="152" y="50"/>
                    </a:lnTo>
                    <a:lnTo>
                      <a:pt x="152" y="50"/>
                    </a:lnTo>
                    <a:close/>
                  </a:path>
                </a:pathLst>
              </a:custGeom>
              <a:solidFill>
                <a:srgbClr val="f7eeb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51" name=""/>
              <p:cNvSpPr/>
              <p:nvPr/>
            </p:nvSpPr>
            <p:spPr>
              <a:xfrm>
                <a:off x="5537880" y="6558840"/>
                <a:ext cx="122760" cy="59400"/>
              </a:xfrm>
              <a:custGeom>
                <a:avLst/>
                <a:gdLst/>
                <a:ahLst/>
                <a:rect l="l" t="t" r="r" b="b"/>
                <a:pathLst>
                  <a:path w="181" h="108">
                    <a:moveTo>
                      <a:pt x="181" y="36"/>
                    </a:moveTo>
                    <a:lnTo>
                      <a:pt x="181" y="36"/>
                    </a:lnTo>
                    <a:lnTo>
                      <a:pt x="181" y="30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3"/>
                    </a:lnTo>
                    <a:lnTo>
                      <a:pt x="36" y="97"/>
                    </a:lnTo>
                    <a:lnTo>
                      <a:pt x="36" y="99"/>
                    </a:lnTo>
                    <a:lnTo>
                      <a:pt x="36" y="102"/>
                    </a:lnTo>
                    <a:lnTo>
                      <a:pt x="36" y="105"/>
                    </a:lnTo>
                    <a:lnTo>
                      <a:pt x="36" y="106"/>
                    </a:lnTo>
                    <a:lnTo>
                      <a:pt x="36" y="107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7"/>
                    </a:lnTo>
                    <a:lnTo>
                      <a:pt x="181" y="106"/>
                    </a:lnTo>
                    <a:lnTo>
                      <a:pt x="181" y="105"/>
                    </a:lnTo>
                    <a:lnTo>
                      <a:pt x="181" y="102"/>
                    </a:lnTo>
                    <a:lnTo>
                      <a:pt x="181" y="99"/>
                    </a:lnTo>
                    <a:lnTo>
                      <a:pt x="181" y="97"/>
                    </a:lnTo>
                    <a:lnTo>
                      <a:pt x="181" y="93"/>
                    </a:lnTo>
                    <a:lnTo>
                      <a:pt x="181" y="89"/>
                    </a:lnTo>
                    <a:lnTo>
                      <a:pt x="181" y="84"/>
                    </a:lnTo>
                    <a:lnTo>
                      <a:pt x="181" y="79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36"/>
                    </a:lnTo>
                    <a:lnTo>
                      <a:pt x="181" y="36"/>
                    </a:lnTo>
                    <a:lnTo>
                      <a:pt x="18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365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37880" y="6538320"/>
                <a:ext cx="12276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365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37880" y="6538320"/>
                <a:ext cx="12276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3654" name=""/>
              <p:cNvSpPr/>
              <p:nvPr/>
            </p:nvSpPr>
            <p:spPr>
              <a:xfrm>
                <a:off x="5537880" y="6558120"/>
                <a:ext cx="120240" cy="44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5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1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1" y="77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365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86200" y="6538320"/>
                <a:ext cx="12132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365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86200" y="6538320"/>
                <a:ext cx="12132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3657" name=""/>
              <p:cNvSpPr/>
              <p:nvPr/>
            </p:nvSpPr>
            <p:spPr>
              <a:xfrm>
                <a:off x="5695560" y="6558120"/>
                <a:ext cx="121680" cy="44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10" y="76"/>
                    </a:lnTo>
                    <a:lnTo>
                      <a:pt x="10" y="78"/>
                    </a:lnTo>
                    <a:lnTo>
                      <a:pt x="11" y="81"/>
                    </a:lnTo>
                    <a:lnTo>
                      <a:pt x="14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9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365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50400" y="6558840"/>
                <a:ext cx="74160" cy="594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3659" name=""/>
              <p:cNvSpPr/>
              <p:nvPr/>
            </p:nvSpPr>
            <p:spPr>
              <a:xfrm>
                <a:off x="6352560" y="6566760"/>
                <a:ext cx="68040" cy="5760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101" y="53"/>
                    </a:moveTo>
                    <a:lnTo>
                      <a:pt x="101" y="48"/>
                    </a:lnTo>
                    <a:lnTo>
                      <a:pt x="100" y="42"/>
                    </a:lnTo>
                    <a:lnTo>
                      <a:pt x="100" y="36"/>
                    </a:lnTo>
                    <a:lnTo>
                      <a:pt x="97" y="33"/>
                    </a:lnTo>
                    <a:lnTo>
                      <a:pt x="95" y="28"/>
                    </a:lnTo>
                    <a:lnTo>
                      <a:pt x="92" y="23"/>
                    </a:lnTo>
                    <a:lnTo>
                      <a:pt x="90" y="19"/>
                    </a:lnTo>
                    <a:lnTo>
                      <a:pt x="87" y="15"/>
                    </a:lnTo>
                    <a:lnTo>
                      <a:pt x="83" y="12"/>
                    </a:lnTo>
                    <a:lnTo>
                      <a:pt x="80" y="9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6" y="2"/>
                    </a:lnTo>
                    <a:lnTo>
                      <a:pt x="62" y="1"/>
                    </a:lnTo>
                    <a:lnTo>
                      <a:pt x="57" y="1"/>
                    </a:lnTo>
                    <a:lnTo>
                      <a:pt x="52" y="0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2"/>
                    </a:lnTo>
                    <a:lnTo>
                      <a:pt x="15" y="15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6" y="28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6" y="77"/>
                    </a:lnTo>
                    <a:lnTo>
                      <a:pt x="8" y="81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8" y="91"/>
                    </a:lnTo>
                    <a:lnTo>
                      <a:pt x="22" y="95"/>
                    </a:lnTo>
                    <a:lnTo>
                      <a:pt x="27" y="97"/>
                    </a:lnTo>
                    <a:lnTo>
                      <a:pt x="31" y="98"/>
                    </a:lnTo>
                    <a:lnTo>
                      <a:pt x="36" y="101"/>
                    </a:lnTo>
                    <a:lnTo>
                      <a:pt x="41" y="102"/>
                    </a:lnTo>
                    <a:lnTo>
                      <a:pt x="46" y="102"/>
                    </a:lnTo>
                    <a:lnTo>
                      <a:pt x="52" y="103"/>
                    </a:lnTo>
                    <a:lnTo>
                      <a:pt x="57" y="102"/>
                    </a:lnTo>
                    <a:lnTo>
                      <a:pt x="62" y="102"/>
                    </a:lnTo>
                    <a:lnTo>
                      <a:pt x="66" y="101"/>
                    </a:lnTo>
                    <a:lnTo>
                      <a:pt x="71" y="98"/>
                    </a:lnTo>
                    <a:lnTo>
                      <a:pt x="75" y="97"/>
                    </a:lnTo>
                    <a:lnTo>
                      <a:pt x="80" y="95"/>
                    </a:lnTo>
                    <a:lnTo>
                      <a:pt x="83" y="91"/>
                    </a:lnTo>
                    <a:lnTo>
                      <a:pt x="87" y="88"/>
                    </a:lnTo>
                    <a:lnTo>
                      <a:pt x="90" y="84"/>
                    </a:lnTo>
                    <a:lnTo>
                      <a:pt x="92" y="81"/>
                    </a:lnTo>
                    <a:lnTo>
                      <a:pt x="95" y="77"/>
                    </a:lnTo>
                    <a:lnTo>
                      <a:pt x="97" y="72"/>
                    </a:lnTo>
                    <a:lnTo>
                      <a:pt x="100" y="68"/>
                    </a:lnTo>
                    <a:lnTo>
                      <a:pt x="100" y="63"/>
                    </a:lnTo>
                    <a:lnTo>
                      <a:pt x="101" y="58"/>
                    </a:lnTo>
                    <a:lnTo>
                      <a:pt x="101" y="5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3660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350400" y="6558840"/>
                <a:ext cx="48960" cy="399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3661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350400" y="6558840"/>
                <a:ext cx="48960" cy="399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3662" name=""/>
              <p:cNvSpPr/>
              <p:nvPr/>
            </p:nvSpPr>
            <p:spPr>
              <a:xfrm>
                <a:off x="6364800" y="6577560"/>
                <a:ext cx="43920" cy="3636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lnTo>
                      <a:pt x="66" y="30"/>
                    </a:lnTo>
                    <a:lnTo>
                      <a:pt x="65" y="26"/>
                    </a:lnTo>
                    <a:lnTo>
                      <a:pt x="64" y="20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" y="52"/>
                    </a:lnTo>
                    <a:lnTo>
                      <a:pt x="10" y="57"/>
                    </a:lnTo>
                    <a:lnTo>
                      <a:pt x="15" y="60"/>
                    </a:lnTo>
                    <a:lnTo>
                      <a:pt x="20" y="63"/>
                    </a:lnTo>
                    <a:lnTo>
                      <a:pt x="28" y="65"/>
                    </a:lnTo>
                    <a:lnTo>
                      <a:pt x="31" y="65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41" y="65"/>
                    </a:lnTo>
                    <a:lnTo>
                      <a:pt x="48" y="63"/>
                    </a:lnTo>
                    <a:lnTo>
                      <a:pt x="53" y="60"/>
                    </a:lnTo>
                    <a:lnTo>
                      <a:pt x="58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5" y="40"/>
                    </a:lnTo>
                    <a:lnTo>
                      <a:pt x="66" y="38"/>
                    </a:lnTo>
                    <a:lnTo>
                      <a:pt x="66" y="3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>
                <a:off x="6217920" y="666288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>
                <a:off x="6190200" y="6548040"/>
                <a:ext cx="23760" cy="7200"/>
              </a:xfrm>
              <a:prstGeom prst="rect">
                <a:avLst/>
              </a:prstGeom>
              <a:solidFill>
                <a:srgbClr val="eadb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>
                <a:off x="6190200" y="6548040"/>
                <a:ext cx="23760" cy="7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>
                <a:off x="5018040" y="654948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  <a:close/>
                  </a:path>
                </a:pathLst>
              </a:custGeom>
              <a:solidFill>
                <a:srgbClr val="bcedc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>
                <a:off x="5018040" y="654948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5281920" y="6654240"/>
                <a:ext cx="739800" cy="28800"/>
              </a:xfrm>
              <a:custGeom>
                <a:avLst/>
                <a:gdLst/>
                <a:ahLst/>
                <a:rect l="l" t="t" r="r" b="b"/>
                <a:pathLst>
                  <a:path w="1087" h="51">
                    <a:moveTo>
                      <a:pt x="0" y="45"/>
                    </a:moveTo>
                    <a:lnTo>
                      <a:pt x="7" y="45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  <a:moveTo>
                      <a:pt x="50" y="25"/>
                    </a:moveTo>
                    <a:lnTo>
                      <a:pt x="50" y="21"/>
                    </a:lnTo>
                    <a:lnTo>
                      <a:pt x="49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7" y="33"/>
                    </a:lnTo>
                    <a:lnTo>
                      <a:pt x="20" y="36"/>
                    </a:lnTo>
                    <a:lnTo>
                      <a:pt x="22" y="39"/>
                    </a:lnTo>
                    <a:lnTo>
                      <a:pt x="25" y="41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  <a:moveTo>
                      <a:pt x="44" y="25"/>
                    </a:moveTo>
                    <a:lnTo>
                      <a:pt x="44" y="27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30" y="35"/>
                    </a:lnTo>
                    <a:lnTo>
                      <a:pt x="27" y="34"/>
                    </a:lnTo>
                    <a:lnTo>
                      <a:pt x="26" y="33"/>
                    </a:lnTo>
                    <a:lnTo>
                      <a:pt x="25" y="31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2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6" y="16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  <a:moveTo>
                      <a:pt x="59" y="45"/>
                    </a:moveTo>
                    <a:lnTo>
                      <a:pt x="66" y="45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9" y="45"/>
                    </a:lnTo>
                    <a:lnTo>
                      <a:pt x="59" y="45"/>
                    </a:lnTo>
                    <a:close/>
                    <a:moveTo>
                      <a:pt x="109" y="25"/>
                    </a:moveTo>
                    <a:lnTo>
                      <a:pt x="109" y="21"/>
                    </a:lnTo>
                    <a:lnTo>
                      <a:pt x="108" y="19"/>
                    </a:lnTo>
                    <a:lnTo>
                      <a:pt x="106" y="15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7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1" y="12"/>
                    </a:lnTo>
                    <a:lnTo>
                      <a:pt x="79" y="15"/>
                    </a:lnTo>
                    <a:lnTo>
                      <a:pt x="76" y="19"/>
                    </a:lnTo>
                    <a:lnTo>
                      <a:pt x="75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6" y="33"/>
                    </a:lnTo>
                    <a:lnTo>
                      <a:pt x="79" y="36"/>
                    </a:lnTo>
                    <a:lnTo>
                      <a:pt x="81" y="39"/>
                    </a:lnTo>
                    <a:lnTo>
                      <a:pt x="84" y="41"/>
                    </a:lnTo>
                    <a:lnTo>
                      <a:pt x="86" y="44"/>
                    </a:lnTo>
                    <a:lnTo>
                      <a:pt x="90" y="45"/>
                    </a:lnTo>
                    <a:lnTo>
                      <a:pt x="93" y="45"/>
                    </a:lnTo>
                    <a:lnTo>
                      <a:pt x="96" y="45"/>
                    </a:lnTo>
                    <a:lnTo>
                      <a:pt x="100" y="44"/>
                    </a:lnTo>
                    <a:lnTo>
                      <a:pt x="103" y="41"/>
                    </a:lnTo>
                    <a:lnTo>
                      <a:pt x="105" y="39"/>
                    </a:lnTo>
                    <a:lnTo>
                      <a:pt x="106" y="36"/>
                    </a:lnTo>
                    <a:lnTo>
                      <a:pt x="108" y="33"/>
                    </a:lnTo>
                    <a:lnTo>
                      <a:pt x="109" y="29"/>
                    </a:lnTo>
                    <a:lnTo>
                      <a:pt x="109" y="25"/>
                    </a:lnTo>
                    <a:lnTo>
                      <a:pt x="109" y="25"/>
                    </a:lnTo>
                    <a:close/>
                    <a:moveTo>
                      <a:pt x="103" y="25"/>
                    </a:moveTo>
                    <a:lnTo>
                      <a:pt x="103" y="27"/>
                    </a:lnTo>
                    <a:lnTo>
                      <a:pt x="101" y="30"/>
                    </a:lnTo>
                    <a:lnTo>
                      <a:pt x="100" y="31"/>
                    </a:lnTo>
                    <a:lnTo>
                      <a:pt x="99" y="33"/>
                    </a:lnTo>
                    <a:lnTo>
                      <a:pt x="98" y="34"/>
                    </a:lnTo>
                    <a:lnTo>
                      <a:pt x="96" y="35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1" y="36"/>
                    </a:lnTo>
                    <a:lnTo>
                      <a:pt x="89" y="35"/>
                    </a:lnTo>
                    <a:lnTo>
                      <a:pt x="86" y="34"/>
                    </a:lnTo>
                    <a:lnTo>
                      <a:pt x="85" y="33"/>
                    </a:lnTo>
                    <a:lnTo>
                      <a:pt x="84" y="31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1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4" y="19"/>
                    </a:lnTo>
                    <a:lnTo>
                      <a:pt x="85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0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  <a:moveTo>
                      <a:pt x="118" y="45"/>
                    </a:moveTo>
                    <a:lnTo>
                      <a:pt x="125" y="45"/>
                    </a:lnTo>
                    <a:lnTo>
                      <a:pt x="125" y="6"/>
                    </a:lnTo>
                    <a:lnTo>
                      <a:pt x="118" y="6"/>
                    </a:lnTo>
                    <a:lnTo>
                      <a:pt x="118" y="45"/>
                    </a:lnTo>
                    <a:lnTo>
                      <a:pt x="118" y="45"/>
                    </a:lnTo>
                    <a:close/>
                    <a:moveTo>
                      <a:pt x="502" y="25"/>
                    </a:moveTo>
                    <a:lnTo>
                      <a:pt x="460" y="25"/>
                    </a:lnTo>
                    <a:lnTo>
                      <a:pt x="468" y="16"/>
                    </a:lnTo>
                    <a:lnTo>
                      <a:pt x="478" y="16"/>
                    </a:lnTo>
                    <a:lnTo>
                      <a:pt x="478" y="17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2" y="17"/>
                    </a:lnTo>
                    <a:lnTo>
                      <a:pt x="483" y="17"/>
                    </a:lnTo>
                    <a:lnTo>
                      <a:pt x="485" y="17"/>
                    </a:lnTo>
                    <a:lnTo>
                      <a:pt x="486" y="16"/>
                    </a:lnTo>
                    <a:lnTo>
                      <a:pt x="486" y="15"/>
                    </a:lnTo>
                    <a:lnTo>
                      <a:pt x="487" y="14"/>
                    </a:lnTo>
                    <a:lnTo>
                      <a:pt x="487" y="11"/>
                    </a:lnTo>
                    <a:lnTo>
                      <a:pt x="485" y="10"/>
                    </a:lnTo>
                    <a:lnTo>
                      <a:pt x="483" y="9"/>
                    </a:lnTo>
                    <a:lnTo>
                      <a:pt x="482" y="9"/>
                    </a:lnTo>
                    <a:lnTo>
                      <a:pt x="480" y="9"/>
                    </a:lnTo>
                    <a:lnTo>
                      <a:pt x="478" y="9"/>
                    </a:lnTo>
                    <a:lnTo>
                      <a:pt x="478" y="10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67" y="11"/>
                    </a:lnTo>
                    <a:lnTo>
                      <a:pt x="456" y="25"/>
                    </a:lnTo>
                    <a:lnTo>
                      <a:pt x="451" y="25"/>
                    </a:lnTo>
                    <a:lnTo>
                      <a:pt x="448" y="21"/>
                    </a:lnTo>
                    <a:lnTo>
                      <a:pt x="447" y="21"/>
                    </a:lnTo>
                    <a:lnTo>
                      <a:pt x="446" y="20"/>
                    </a:lnTo>
                    <a:lnTo>
                      <a:pt x="445" y="20"/>
                    </a:lnTo>
                    <a:lnTo>
                      <a:pt x="443" y="19"/>
                    </a:lnTo>
                    <a:lnTo>
                      <a:pt x="442" y="20"/>
                    </a:lnTo>
                    <a:lnTo>
                      <a:pt x="442" y="20"/>
                    </a:lnTo>
                    <a:lnTo>
                      <a:pt x="440" y="20"/>
                    </a:lnTo>
                    <a:lnTo>
                      <a:pt x="438" y="21"/>
                    </a:lnTo>
                    <a:lnTo>
                      <a:pt x="437" y="22"/>
                    </a:lnTo>
                    <a:lnTo>
                      <a:pt x="437" y="22"/>
                    </a:lnTo>
                    <a:lnTo>
                      <a:pt x="436" y="26"/>
                    </a:lnTo>
                    <a:lnTo>
                      <a:pt x="435" y="29"/>
                    </a:lnTo>
                    <a:lnTo>
                      <a:pt x="437" y="31"/>
                    </a:lnTo>
                    <a:lnTo>
                      <a:pt x="440" y="33"/>
                    </a:lnTo>
                    <a:lnTo>
                      <a:pt x="442" y="34"/>
                    </a:lnTo>
                    <a:lnTo>
                      <a:pt x="445" y="34"/>
                    </a:lnTo>
                    <a:lnTo>
                      <a:pt x="446" y="34"/>
                    </a:lnTo>
                    <a:lnTo>
                      <a:pt x="447" y="33"/>
                    </a:lnTo>
                    <a:lnTo>
                      <a:pt x="450" y="31"/>
                    </a:lnTo>
                    <a:lnTo>
                      <a:pt x="451" y="29"/>
                    </a:lnTo>
                    <a:lnTo>
                      <a:pt x="451" y="29"/>
                    </a:lnTo>
                    <a:lnTo>
                      <a:pt x="467" y="29"/>
                    </a:lnTo>
                    <a:lnTo>
                      <a:pt x="480" y="40"/>
                    </a:lnTo>
                    <a:lnTo>
                      <a:pt x="487" y="40"/>
                    </a:lnTo>
                    <a:lnTo>
                      <a:pt x="487" y="45"/>
                    </a:lnTo>
                    <a:lnTo>
                      <a:pt x="498" y="45"/>
                    </a:lnTo>
                    <a:lnTo>
                      <a:pt x="498" y="34"/>
                    </a:lnTo>
                    <a:lnTo>
                      <a:pt x="487" y="34"/>
                    </a:lnTo>
                    <a:lnTo>
                      <a:pt x="487" y="39"/>
                    </a:lnTo>
                    <a:lnTo>
                      <a:pt x="480" y="39"/>
                    </a:lnTo>
                    <a:lnTo>
                      <a:pt x="471" y="29"/>
                    </a:lnTo>
                    <a:lnTo>
                      <a:pt x="502" y="29"/>
                    </a:lnTo>
                    <a:lnTo>
                      <a:pt x="502" y="31"/>
                    </a:lnTo>
                    <a:lnTo>
                      <a:pt x="512" y="27"/>
                    </a:lnTo>
                    <a:lnTo>
                      <a:pt x="502" y="22"/>
                    </a:lnTo>
                    <a:lnTo>
                      <a:pt x="502" y="25"/>
                    </a:lnTo>
                    <a:lnTo>
                      <a:pt x="502" y="25"/>
                    </a:lnTo>
                    <a:close/>
                    <a:moveTo>
                      <a:pt x="727" y="25"/>
                    </a:moveTo>
                    <a:lnTo>
                      <a:pt x="684" y="25"/>
                    </a:lnTo>
                    <a:lnTo>
                      <a:pt x="695" y="16"/>
                    </a:lnTo>
                    <a:lnTo>
                      <a:pt x="701" y="16"/>
                    </a:lnTo>
                    <a:lnTo>
                      <a:pt x="704" y="17"/>
                    </a:lnTo>
                    <a:lnTo>
                      <a:pt x="705" y="17"/>
                    </a:lnTo>
                    <a:lnTo>
                      <a:pt x="708" y="17"/>
                    </a:lnTo>
                    <a:lnTo>
                      <a:pt x="709" y="17"/>
                    </a:lnTo>
                    <a:lnTo>
                      <a:pt x="710" y="17"/>
                    </a:lnTo>
                    <a:lnTo>
                      <a:pt x="710" y="17"/>
                    </a:lnTo>
                    <a:lnTo>
                      <a:pt x="711" y="15"/>
                    </a:lnTo>
                    <a:lnTo>
                      <a:pt x="711" y="14"/>
                    </a:lnTo>
                    <a:lnTo>
                      <a:pt x="711" y="14"/>
                    </a:lnTo>
                    <a:lnTo>
                      <a:pt x="711" y="12"/>
                    </a:lnTo>
                    <a:lnTo>
                      <a:pt x="711" y="11"/>
                    </a:lnTo>
                    <a:lnTo>
                      <a:pt x="711" y="10"/>
                    </a:lnTo>
                    <a:lnTo>
                      <a:pt x="710" y="10"/>
                    </a:lnTo>
                    <a:lnTo>
                      <a:pt x="709" y="9"/>
                    </a:lnTo>
                    <a:lnTo>
                      <a:pt x="706" y="9"/>
                    </a:lnTo>
                    <a:lnTo>
                      <a:pt x="704" y="9"/>
                    </a:lnTo>
                    <a:lnTo>
                      <a:pt x="704" y="9"/>
                    </a:lnTo>
                    <a:lnTo>
                      <a:pt x="704" y="10"/>
                    </a:lnTo>
                    <a:lnTo>
                      <a:pt x="704" y="11"/>
                    </a:lnTo>
                    <a:lnTo>
                      <a:pt x="701" y="11"/>
                    </a:lnTo>
                    <a:lnTo>
                      <a:pt x="701" y="11"/>
                    </a:lnTo>
                    <a:lnTo>
                      <a:pt x="693" y="11"/>
                    </a:lnTo>
                    <a:lnTo>
                      <a:pt x="679" y="25"/>
                    </a:lnTo>
                    <a:lnTo>
                      <a:pt x="675" y="25"/>
                    </a:lnTo>
                    <a:lnTo>
                      <a:pt x="675" y="24"/>
                    </a:lnTo>
                    <a:lnTo>
                      <a:pt x="674" y="21"/>
                    </a:lnTo>
                    <a:lnTo>
                      <a:pt x="673" y="21"/>
                    </a:lnTo>
                    <a:lnTo>
                      <a:pt x="673" y="20"/>
                    </a:lnTo>
                    <a:lnTo>
                      <a:pt x="670" y="20"/>
                    </a:lnTo>
                    <a:lnTo>
                      <a:pt x="669" y="19"/>
                    </a:lnTo>
                    <a:lnTo>
                      <a:pt x="668" y="20"/>
                    </a:lnTo>
                    <a:lnTo>
                      <a:pt x="666" y="20"/>
                    </a:lnTo>
                    <a:lnTo>
                      <a:pt x="664" y="20"/>
                    </a:lnTo>
                    <a:lnTo>
                      <a:pt x="663" y="21"/>
                    </a:lnTo>
                    <a:lnTo>
                      <a:pt x="661" y="22"/>
                    </a:lnTo>
                    <a:lnTo>
                      <a:pt x="661" y="22"/>
                    </a:lnTo>
                    <a:lnTo>
                      <a:pt x="660" y="25"/>
                    </a:lnTo>
                    <a:lnTo>
                      <a:pt x="660" y="26"/>
                    </a:lnTo>
                    <a:lnTo>
                      <a:pt x="660" y="27"/>
                    </a:lnTo>
                    <a:lnTo>
                      <a:pt x="661" y="29"/>
                    </a:lnTo>
                    <a:lnTo>
                      <a:pt x="661" y="30"/>
                    </a:lnTo>
                    <a:lnTo>
                      <a:pt x="663" y="31"/>
                    </a:lnTo>
                    <a:lnTo>
                      <a:pt x="663" y="31"/>
                    </a:lnTo>
                    <a:lnTo>
                      <a:pt x="664" y="33"/>
                    </a:lnTo>
                    <a:lnTo>
                      <a:pt x="668" y="34"/>
                    </a:lnTo>
                    <a:lnTo>
                      <a:pt x="670" y="34"/>
                    </a:lnTo>
                    <a:lnTo>
                      <a:pt x="673" y="34"/>
                    </a:lnTo>
                    <a:lnTo>
                      <a:pt x="674" y="33"/>
                    </a:lnTo>
                    <a:lnTo>
                      <a:pt x="674" y="31"/>
                    </a:lnTo>
                    <a:lnTo>
                      <a:pt x="675" y="29"/>
                    </a:lnTo>
                    <a:lnTo>
                      <a:pt x="675" y="29"/>
                    </a:lnTo>
                    <a:lnTo>
                      <a:pt x="693" y="29"/>
                    </a:lnTo>
                    <a:lnTo>
                      <a:pt x="704" y="40"/>
                    </a:lnTo>
                    <a:lnTo>
                      <a:pt x="714" y="40"/>
                    </a:lnTo>
                    <a:lnTo>
                      <a:pt x="714" y="45"/>
                    </a:lnTo>
                    <a:lnTo>
                      <a:pt x="723" y="45"/>
                    </a:lnTo>
                    <a:lnTo>
                      <a:pt x="723" y="34"/>
                    </a:lnTo>
                    <a:lnTo>
                      <a:pt x="714" y="34"/>
                    </a:lnTo>
                    <a:lnTo>
                      <a:pt x="714" y="39"/>
                    </a:lnTo>
                    <a:lnTo>
                      <a:pt x="706" y="39"/>
                    </a:lnTo>
                    <a:lnTo>
                      <a:pt x="698" y="29"/>
                    </a:lnTo>
                    <a:lnTo>
                      <a:pt x="727" y="29"/>
                    </a:lnTo>
                    <a:lnTo>
                      <a:pt x="727" y="31"/>
                    </a:lnTo>
                    <a:lnTo>
                      <a:pt x="738" y="27"/>
                    </a:lnTo>
                    <a:lnTo>
                      <a:pt x="727" y="22"/>
                    </a:lnTo>
                    <a:lnTo>
                      <a:pt x="727" y="25"/>
                    </a:lnTo>
                    <a:lnTo>
                      <a:pt x="727" y="25"/>
                    </a:lnTo>
                    <a:close/>
                    <a:moveTo>
                      <a:pt x="1037" y="51"/>
                    </a:moveTo>
                    <a:lnTo>
                      <a:pt x="1076" y="51"/>
                    </a:lnTo>
                    <a:lnTo>
                      <a:pt x="1079" y="51"/>
                    </a:lnTo>
                    <a:lnTo>
                      <a:pt x="1080" y="51"/>
                    </a:lnTo>
                    <a:lnTo>
                      <a:pt x="1082" y="50"/>
                    </a:lnTo>
                    <a:lnTo>
                      <a:pt x="1084" y="49"/>
                    </a:lnTo>
                    <a:lnTo>
                      <a:pt x="1085" y="48"/>
                    </a:lnTo>
                    <a:lnTo>
                      <a:pt x="1086" y="45"/>
                    </a:lnTo>
                    <a:lnTo>
                      <a:pt x="1086" y="43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11"/>
                    </a:lnTo>
                    <a:lnTo>
                      <a:pt x="1086" y="9"/>
                    </a:lnTo>
                    <a:lnTo>
                      <a:pt x="1086" y="6"/>
                    </a:lnTo>
                    <a:lnTo>
                      <a:pt x="1085" y="5"/>
                    </a:lnTo>
                    <a:lnTo>
                      <a:pt x="1084" y="2"/>
                    </a:lnTo>
                    <a:lnTo>
                      <a:pt x="1082" y="1"/>
                    </a:lnTo>
                    <a:lnTo>
                      <a:pt x="1080" y="1"/>
                    </a:lnTo>
                    <a:lnTo>
                      <a:pt x="1079" y="0"/>
                    </a:lnTo>
                    <a:lnTo>
                      <a:pt x="1076" y="0"/>
                    </a:lnTo>
                    <a:lnTo>
                      <a:pt x="1076" y="0"/>
                    </a:lnTo>
                    <a:lnTo>
                      <a:pt x="1037" y="0"/>
                    </a:lnTo>
                    <a:lnTo>
                      <a:pt x="1035" y="0"/>
                    </a:lnTo>
                    <a:lnTo>
                      <a:pt x="1033" y="1"/>
                    </a:lnTo>
                    <a:lnTo>
                      <a:pt x="1031" y="1"/>
                    </a:lnTo>
                    <a:lnTo>
                      <a:pt x="1030" y="2"/>
                    </a:lnTo>
                    <a:lnTo>
                      <a:pt x="1028" y="5"/>
                    </a:lnTo>
                    <a:lnTo>
                      <a:pt x="1027" y="6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1"/>
                    </a:lnTo>
                    <a:lnTo>
                      <a:pt x="1026" y="40"/>
                    </a:lnTo>
                    <a:lnTo>
                      <a:pt x="1026" y="43"/>
                    </a:lnTo>
                    <a:lnTo>
                      <a:pt x="1027" y="45"/>
                    </a:lnTo>
                    <a:lnTo>
                      <a:pt x="1028" y="48"/>
                    </a:lnTo>
                    <a:lnTo>
                      <a:pt x="1030" y="49"/>
                    </a:lnTo>
                    <a:lnTo>
                      <a:pt x="1031" y="50"/>
                    </a:lnTo>
                    <a:lnTo>
                      <a:pt x="1033" y="51"/>
                    </a:lnTo>
                    <a:lnTo>
                      <a:pt x="1035" y="51"/>
                    </a:lnTo>
                    <a:lnTo>
                      <a:pt x="1037" y="51"/>
                    </a:lnTo>
                    <a:lnTo>
                      <a:pt x="1037" y="51"/>
                    </a:lnTo>
                    <a:close/>
                    <a:moveTo>
                      <a:pt x="1044" y="43"/>
                    </a:moveTo>
                    <a:lnTo>
                      <a:pt x="1050" y="43"/>
                    </a:lnTo>
                    <a:lnTo>
                      <a:pt x="1056" y="43"/>
                    </a:lnTo>
                    <a:lnTo>
                      <a:pt x="1062" y="43"/>
                    </a:lnTo>
                    <a:lnTo>
                      <a:pt x="1069" y="43"/>
                    </a:lnTo>
                    <a:lnTo>
                      <a:pt x="1070" y="43"/>
                    </a:lnTo>
                    <a:lnTo>
                      <a:pt x="1072" y="43"/>
                    </a:lnTo>
                    <a:lnTo>
                      <a:pt x="1074" y="41"/>
                    </a:lnTo>
                    <a:lnTo>
                      <a:pt x="1075" y="40"/>
                    </a:lnTo>
                    <a:lnTo>
                      <a:pt x="1076" y="39"/>
                    </a:lnTo>
                    <a:lnTo>
                      <a:pt x="1077" y="38"/>
                    </a:lnTo>
                    <a:lnTo>
                      <a:pt x="1077" y="35"/>
                    </a:lnTo>
                    <a:lnTo>
                      <a:pt x="1077" y="34"/>
                    </a:lnTo>
                    <a:lnTo>
                      <a:pt x="1077" y="34"/>
                    </a:lnTo>
                    <a:lnTo>
                      <a:pt x="1077" y="30"/>
                    </a:lnTo>
                    <a:lnTo>
                      <a:pt x="1077" y="26"/>
                    </a:lnTo>
                    <a:lnTo>
                      <a:pt x="1077" y="21"/>
                    </a:lnTo>
                    <a:lnTo>
                      <a:pt x="1077" y="17"/>
                    </a:lnTo>
                    <a:lnTo>
                      <a:pt x="1077" y="16"/>
                    </a:lnTo>
                    <a:lnTo>
                      <a:pt x="1077" y="15"/>
                    </a:lnTo>
                    <a:lnTo>
                      <a:pt x="1076" y="14"/>
                    </a:lnTo>
                    <a:lnTo>
                      <a:pt x="1075" y="11"/>
                    </a:lnTo>
                    <a:lnTo>
                      <a:pt x="1074" y="11"/>
                    </a:lnTo>
                    <a:lnTo>
                      <a:pt x="1072" y="10"/>
                    </a:lnTo>
                    <a:lnTo>
                      <a:pt x="1070" y="9"/>
                    </a:lnTo>
                    <a:lnTo>
                      <a:pt x="1069" y="9"/>
                    </a:lnTo>
                    <a:lnTo>
                      <a:pt x="1062" y="9"/>
                    </a:lnTo>
                    <a:lnTo>
                      <a:pt x="1056" y="9"/>
                    </a:lnTo>
                    <a:lnTo>
                      <a:pt x="1050" y="9"/>
                    </a:lnTo>
                    <a:lnTo>
                      <a:pt x="1044" y="9"/>
                    </a:lnTo>
                    <a:lnTo>
                      <a:pt x="1042" y="9"/>
                    </a:lnTo>
                    <a:lnTo>
                      <a:pt x="1041" y="10"/>
                    </a:lnTo>
                    <a:lnTo>
                      <a:pt x="1039" y="11"/>
                    </a:lnTo>
                    <a:lnTo>
                      <a:pt x="1037" y="11"/>
                    </a:lnTo>
                    <a:lnTo>
                      <a:pt x="1036" y="14"/>
                    </a:lnTo>
                    <a:lnTo>
                      <a:pt x="1036" y="15"/>
                    </a:lnTo>
                    <a:lnTo>
                      <a:pt x="1035" y="16"/>
                    </a:lnTo>
                    <a:lnTo>
                      <a:pt x="1035" y="17"/>
                    </a:lnTo>
                    <a:lnTo>
                      <a:pt x="1035" y="21"/>
                    </a:lnTo>
                    <a:lnTo>
                      <a:pt x="1035" y="26"/>
                    </a:lnTo>
                    <a:lnTo>
                      <a:pt x="1035" y="30"/>
                    </a:lnTo>
                    <a:lnTo>
                      <a:pt x="1035" y="34"/>
                    </a:lnTo>
                    <a:lnTo>
                      <a:pt x="1035" y="35"/>
                    </a:lnTo>
                    <a:lnTo>
                      <a:pt x="1036" y="38"/>
                    </a:lnTo>
                    <a:lnTo>
                      <a:pt x="1036" y="39"/>
                    </a:lnTo>
                    <a:lnTo>
                      <a:pt x="1037" y="40"/>
                    </a:lnTo>
                    <a:lnTo>
                      <a:pt x="1039" y="41"/>
                    </a:lnTo>
                    <a:lnTo>
                      <a:pt x="1041" y="43"/>
                    </a:lnTo>
                    <a:lnTo>
                      <a:pt x="1042" y="43"/>
                    </a:lnTo>
                    <a:lnTo>
                      <a:pt x="1044" y="43"/>
                    </a:lnTo>
                    <a:lnTo>
                      <a:pt x="104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>
                <a:off x="4445280" y="6504480"/>
                <a:ext cx="1683720" cy="174960"/>
              </a:xfrm>
              <a:custGeom>
                <a:avLst/>
                <a:gdLst/>
                <a:ahLst/>
                <a:rect l="l" t="t" r="r" b="b"/>
                <a:pathLst>
                  <a:path w="2476" h="317">
                    <a:moveTo>
                      <a:pt x="41" y="39"/>
                    </a:moveTo>
                    <a:lnTo>
                      <a:pt x="4" y="39"/>
                    </a:lnTo>
                    <a:lnTo>
                      <a:pt x="23" y="8"/>
                    </a:lnTo>
                    <a:lnTo>
                      <a:pt x="41" y="39"/>
                    </a:lnTo>
                    <a:lnTo>
                      <a:pt x="41" y="39"/>
                    </a:lnTo>
                    <a:close/>
                    <a:moveTo>
                      <a:pt x="24" y="3"/>
                    </a:move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  <a:moveTo>
                      <a:pt x="23" y="37"/>
                    </a:moveTo>
                    <a:lnTo>
                      <a:pt x="24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close/>
                    <a:moveTo>
                      <a:pt x="24" y="31"/>
                    </a:moveTo>
                    <a:lnTo>
                      <a:pt x="24" y="27"/>
                    </a:lnTo>
                    <a:lnTo>
                      <a:pt x="24" y="23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4" y="31"/>
                    </a:lnTo>
                    <a:close/>
                    <a:moveTo>
                      <a:pt x="43" y="71"/>
                    </a:moveTo>
                    <a:lnTo>
                      <a:pt x="43" y="67"/>
                    </a:lnTo>
                    <a:lnTo>
                      <a:pt x="42" y="63"/>
                    </a:lnTo>
                    <a:lnTo>
                      <a:pt x="39" y="60"/>
                    </a:lnTo>
                    <a:lnTo>
                      <a:pt x="37" y="57"/>
                    </a:lnTo>
                    <a:lnTo>
                      <a:pt x="34" y="55"/>
                    </a:lnTo>
                    <a:lnTo>
                      <a:pt x="30" y="52"/>
                    </a:lnTo>
                    <a:lnTo>
                      <a:pt x="27" y="51"/>
                    </a:lnTo>
                    <a:lnTo>
                      <a:pt x="23" y="51"/>
                    </a:lnTo>
                    <a:lnTo>
                      <a:pt x="18" y="51"/>
                    </a:lnTo>
                    <a:lnTo>
                      <a:pt x="15" y="52"/>
                    </a:lnTo>
                    <a:lnTo>
                      <a:pt x="12" y="55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5" y="63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9" y="86"/>
                    </a:lnTo>
                    <a:lnTo>
                      <a:pt x="12" y="89"/>
                    </a:lnTo>
                    <a:lnTo>
                      <a:pt x="15" y="90"/>
                    </a:lnTo>
                    <a:lnTo>
                      <a:pt x="18" y="91"/>
                    </a:lnTo>
                    <a:lnTo>
                      <a:pt x="23" y="91"/>
                    </a:lnTo>
                    <a:lnTo>
                      <a:pt x="27" y="91"/>
                    </a:lnTo>
                    <a:lnTo>
                      <a:pt x="30" y="90"/>
                    </a:lnTo>
                    <a:lnTo>
                      <a:pt x="34" y="89"/>
                    </a:lnTo>
                    <a:lnTo>
                      <a:pt x="37" y="86"/>
                    </a:lnTo>
                    <a:lnTo>
                      <a:pt x="39" y="82"/>
                    </a:lnTo>
                    <a:lnTo>
                      <a:pt x="42" y="79"/>
                    </a:lnTo>
                    <a:lnTo>
                      <a:pt x="43" y="75"/>
                    </a:lnTo>
                    <a:lnTo>
                      <a:pt x="43" y="71"/>
                    </a:lnTo>
                    <a:lnTo>
                      <a:pt x="43" y="71"/>
                    </a:lnTo>
                    <a:close/>
                    <a:moveTo>
                      <a:pt x="23" y="73"/>
                    </a:moveTo>
                    <a:lnTo>
                      <a:pt x="22" y="75"/>
                    </a:lnTo>
                    <a:lnTo>
                      <a:pt x="22" y="76"/>
                    </a:lnTo>
                    <a:lnTo>
                      <a:pt x="19" y="76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1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20" y="80"/>
                    </a:lnTo>
                    <a:lnTo>
                      <a:pt x="22" y="79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34" y="85"/>
                    </a:lnTo>
                    <a:lnTo>
                      <a:pt x="30" y="86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9" y="80"/>
                    </a:lnTo>
                    <a:lnTo>
                      <a:pt x="8" y="77"/>
                    </a:lnTo>
                    <a:lnTo>
                      <a:pt x="7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23" y="73"/>
                    </a:lnTo>
                    <a:lnTo>
                      <a:pt x="23" y="73"/>
                    </a:lnTo>
                    <a:close/>
                    <a:moveTo>
                      <a:pt x="27" y="76"/>
                    </a:moveTo>
                    <a:lnTo>
                      <a:pt x="29" y="73"/>
                    </a:lnTo>
                    <a:lnTo>
                      <a:pt x="32" y="72"/>
                    </a:lnTo>
                    <a:lnTo>
                      <a:pt x="33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8" y="70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13" y="57"/>
                    </a:lnTo>
                    <a:lnTo>
                      <a:pt x="17" y="56"/>
                    </a:lnTo>
                    <a:lnTo>
                      <a:pt x="19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9" y="55"/>
                    </a:lnTo>
                    <a:lnTo>
                      <a:pt x="32" y="57"/>
                    </a:lnTo>
                    <a:lnTo>
                      <a:pt x="34" y="58"/>
                    </a:lnTo>
                    <a:lnTo>
                      <a:pt x="37" y="62"/>
                    </a:lnTo>
                    <a:lnTo>
                      <a:pt x="38" y="65"/>
                    </a:lnTo>
                    <a:lnTo>
                      <a:pt x="39" y="67"/>
                    </a:lnTo>
                    <a:lnTo>
                      <a:pt x="39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9"/>
                    </a:lnTo>
                    <a:lnTo>
                      <a:pt x="35" y="81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27" y="76"/>
                    </a:lnTo>
                    <a:lnTo>
                      <a:pt x="27" y="76"/>
                    </a:lnTo>
                    <a:close/>
                    <a:moveTo>
                      <a:pt x="681" y="139"/>
                    </a:moveTo>
                    <a:lnTo>
                      <a:pt x="681" y="138"/>
                    </a:lnTo>
                    <a:lnTo>
                      <a:pt x="680" y="137"/>
                    </a:lnTo>
                    <a:lnTo>
                      <a:pt x="678" y="135"/>
                    </a:lnTo>
                    <a:lnTo>
                      <a:pt x="677" y="135"/>
                    </a:lnTo>
                    <a:lnTo>
                      <a:pt x="674" y="135"/>
                    </a:lnTo>
                    <a:lnTo>
                      <a:pt x="673" y="137"/>
                    </a:lnTo>
                    <a:lnTo>
                      <a:pt x="672" y="138"/>
                    </a:lnTo>
                    <a:lnTo>
                      <a:pt x="672" y="139"/>
                    </a:lnTo>
                    <a:lnTo>
                      <a:pt x="672" y="143"/>
                    </a:lnTo>
                    <a:lnTo>
                      <a:pt x="673" y="144"/>
                    </a:lnTo>
                    <a:lnTo>
                      <a:pt x="674" y="145"/>
                    </a:lnTo>
                    <a:lnTo>
                      <a:pt x="677" y="147"/>
                    </a:lnTo>
                    <a:lnTo>
                      <a:pt x="678" y="145"/>
                    </a:lnTo>
                    <a:lnTo>
                      <a:pt x="680" y="144"/>
                    </a:lnTo>
                    <a:lnTo>
                      <a:pt x="681" y="143"/>
                    </a:lnTo>
                    <a:lnTo>
                      <a:pt x="681" y="139"/>
                    </a:lnTo>
                    <a:lnTo>
                      <a:pt x="681" y="139"/>
                    </a:lnTo>
                    <a:close/>
                    <a:moveTo>
                      <a:pt x="633" y="167"/>
                    </a:moveTo>
                    <a:lnTo>
                      <a:pt x="633" y="166"/>
                    </a:lnTo>
                    <a:lnTo>
                      <a:pt x="632" y="163"/>
                    </a:lnTo>
                    <a:lnTo>
                      <a:pt x="631" y="163"/>
                    </a:lnTo>
                    <a:lnTo>
                      <a:pt x="629" y="162"/>
                    </a:lnTo>
                    <a:lnTo>
                      <a:pt x="628" y="163"/>
                    </a:lnTo>
                    <a:lnTo>
                      <a:pt x="626" y="163"/>
                    </a:lnTo>
                    <a:lnTo>
                      <a:pt x="626" y="166"/>
                    </a:lnTo>
                    <a:lnTo>
                      <a:pt x="624" y="167"/>
                    </a:lnTo>
                    <a:lnTo>
                      <a:pt x="626" y="169"/>
                    </a:lnTo>
                    <a:lnTo>
                      <a:pt x="626" y="172"/>
                    </a:lnTo>
                    <a:lnTo>
                      <a:pt x="628" y="173"/>
                    </a:lnTo>
                    <a:lnTo>
                      <a:pt x="629" y="173"/>
                    </a:lnTo>
                    <a:lnTo>
                      <a:pt x="631" y="173"/>
                    </a:lnTo>
                    <a:lnTo>
                      <a:pt x="632" y="172"/>
                    </a:lnTo>
                    <a:lnTo>
                      <a:pt x="633" y="169"/>
                    </a:lnTo>
                    <a:lnTo>
                      <a:pt x="633" y="167"/>
                    </a:lnTo>
                    <a:lnTo>
                      <a:pt x="633" y="167"/>
                    </a:lnTo>
                    <a:close/>
                    <a:moveTo>
                      <a:pt x="661" y="167"/>
                    </a:moveTo>
                    <a:lnTo>
                      <a:pt x="661" y="166"/>
                    </a:lnTo>
                    <a:lnTo>
                      <a:pt x="659" y="163"/>
                    </a:lnTo>
                    <a:lnTo>
                      <a:pt x="658" y="163"/>
                    </a:lnTo>
                    <a:lnTo>
                      <a:pt x="657" y="162"/>
                    </a:lnTo>
                    <a:lnTo>
                      <a:pt x="654" y="162"/>
                    </a:lnTo>
                    <a:lnTo>
                      <a:pt x="653" y="163"/>
                    </a:lnTo>
                    <a:lnTo>
                      <a:pt x="653" y="163"/>
                    </a:lnTo>
                    <a:lnTo>
                      <a:pt x="652" y="163"/>
                    </a:lnTo>
                    <a:lnTo>
                      <a:pt x="652" y="166"/>
                    </a:lnTo>
                    <a:lnTo>
                      <a:pt x="652" y="167"/>
                    </a:lnTo>
                    <a:lnTo>
                      <a:pt x="652" y="169"/>
                    </a:lnTo>
                    <a:lnTo>
                      <a:pt x="652" y="172"/>
                    </a:lnTo>
                    <a:lnTo>
                      <a:pt x="653" y="173"/>
                    </a:lnTo>
                    <a:lnTo>
                      <a:pt x="653" y="173"/>
                    </a:lnTo>
                    <a:lnTo>
                      <a:pt x="654" y="173"/>
                    </a:lnTo>
                    <a:lnTo>
                      <a:pt x="657" y="173"/>
                    </a:lnTo>
                    <a:lnTo>
                      <a:pt x="658" y="173"/>
                    </a:lnTo>
                    <a:lnTo>
                      <a:pt x="659" y="172"/>
                    </a:lnTo>
                    <a:lnTo>
                      <a:pt x="661" y="169"/>
                    </a:lnTo>
                    <a:lnTo>
                      <a:pt x="661" y="167"/>
                    </a:lnTo>
                    <a:lnTo>
                      <a:pt x="661" y="167"/>
                    </a:lnTo>
                    <a:close/>
                    <a:moveTo>
                      <a:pt x="613" y="139"/>
                    </a:moveTo>
                    <a:lnTo>
                      <a:pt x="613" y="138"/>
                    </a:lnTo>
                    <a:lnTo>
                      <a:pt x="612" y="137"/>
                    </a:lnTo>
                    <a:lnTo>
                      <a:pt x="611" y="135"/>
                    </a:lnTo>
                    <a:lnTo>
                      <a:pt x="609" y="135"/>
                    </a:lnTo>
                    <a:lnTo>
                      <a:pt x="607" y="135"/>
                    </a:lnTo>
                    <a:lnTo>
                      <a:pt x="607" y="135"/>
                    </a:lnTo>
                    <a:lnTo>
                      <a:pt x="606" y="135"/>
                    </a:lnTo>
                    <a:lnTo>
                      <a:pt x="604" y="137"/>
                    </a:lnTo>
                    <a:lnTo>
                      <a:pt x="604" y="138"/>
                    </a:lnTo>
                    <a:lnTo>
                      <a:pt x="604" y="139"/>
                    </a:lnTo>
                    <a:lnTo>
                      <a:pt x="604" y="143"/>
                    </a:lnTo>
                    <a:lnTo>
                      <a:pt x="604" y="144"/>
                    </a:lnTo>
                    <a:lnTo>
                      <a:pt x="606" y="145"/>
                    </a:lnTo>
                    <a:lnTo>
                      <a:pt x="607" y="145"/>
                    </a:lnTo>
                    <a:lnTo>
                      <a:pt x="607" y="147"/>
                    </a:lnTo>
                    <a:lnTo>
                      <a:pt x="609" y="147"/>
                    </a:lnTo>
                    <a:lnTo>
                      <a:pt x="611" y="145"/>
                    </a:lnTo>
                    <a:lnTo>
                      <a:pt x="612" y="144"/>
                    </a:lnTo>
                    <a:lnTo>
                      <a:pt x="613" y="143"/>
                    </a:lnTo>
                    <a:lnTo>
                      <a:pt x="613" y="139"/>
                    </a:lnTo>
                    <a:lnTo>
                      <a:pt x="613" y="139"/>
                    </a:lnTo>
                    <a:close/>
                    <a:moveTo>
                      <a:pt x="633" y="137"/>
                    </a:moveTo>
                    <a:lnTo>
                      <a:pt x="652" y="137"/>
                    </a:lnTo>
                    <a:lnTo>
                      <a:pt x="652" y="105"/>
                    </a:lnTo>
                    <a:lnTo>
                      <a:pt x="633" y="105"/>
                    </a:lnTo>
                    <a:lnTo>
                      <a:pt x="633" y="137"/>
                    </a:lnTo>
                    <a:lnTo>
                      <a:pt x="633" y="137"/>
                    </a:lnTo>
                    <a:close/>
                    <a:moveTo>
                      <a:pt x="621" y="114"/>
                    </a:moveTo>
                    <a:lnTo>
                      <a:pt x="619" y="111"/>
                    </a:lnTo>
                    <a:lnTo>
                      <a:pt x="619" y="109"/>
                    </a:lnTo>
                    <a:lnTo>
                      <a:pt x="617" y="108"/>
                    </a:lnTo>
                    <a:lnTo>
                      <a:pt x="616" y="108"/>
                    </a:lnTo>
                    <a:lnTo>
                      <a:pt x="614" y="108"/>
                    </a:lnTo>
                    <a:lnTo>
                      <a:pt x="613" y="109"/>
                    </a:lnTo>
                    <a:lnTo>
                      <a:pt x="612" y="111"/>
                    </a:lnTo>
                    <a:lnTo>
                      <a:pt x="611" y="114"/>
                    </a:lnTo>
                    <a:lnTo>
                      <a:pt x="612" y="116"/>
                    </a:lnTo>
                    <a:lnTo>
                      <a:pt x="613" y="118"/>
                    </a:lnTo>
                    <a:lnTo>
                      <a:pt x="614" y="119"/>
                    </a:lnTo>
                    <a:lnTo>
                      <a:pt x="616" y="119"/>
                    </a:lnTo>
                    <a:lnTo>
                      <a:pt x="617" y="119"/>
                    </a:lnTo>
                    <a:lnTo>
                      <a:pt x="619" y="118"/>
                    </a:lnTo>
                    <a:lnTo>
                      <a:pt x="619" y="116"/>
                    </a:lnTo>
                    <a:lnTo>
                      <a:pt x="621" y="114"/>
                    </a:lnTo>
                    <a:lnTo>
                      <a:pt x="621" y="114"/>
                    </a:lnTo>
                    <a:close/>
                    <a:moveTo>
                      <a:pt x="674" y="114"/>
                    </a:moveTo>
                    <a:lnTo>
                      <a:pt x="674" y="111"/>
                    </a:lnTo>
                    <a:lnTo>
                      <a:pt x="673" y="109"/>
                    </a:lnTo>
                    <a:lnTo>
                      <a:pt x="672" y="108"/>
                    </a:lnTo>
                    <a:lnTo>
                      <a:pt x="669" y="108"/>
                    </a:lnTo>
                    <a:lnTo>
                      <a:pt x="667" y="108"/>
                    </a:lnTo>
                    <a:lnTo>
                      <a:pt x="664" y="109"/>
                    </a:lnTo>
                    <a:lnTo>
                      <a:pt x="663" y="111"/>
                    </a:lnTo>
                    <a:lnTo>
                      <a:pt x="663" y="114"/>
                    </a:lnTo>
                    <a:lnTo>
                      <a:pt x="663" y="116"/>
                    </a:lnTo>
                    <a:lnTo>
                      <a:pt x="664" y="118"/>
                    </a:lnTo>
                    <a:lnTo>
                      <a:pt x="667" y="119"/>
                    </a:lnTo>
                    <a:lnTo>
                      <a:pt x="669" y="119"/>
                    </a:lnTo>
                    <a:lnTo>
                      <a:pt x="672" y="119"/>
                    </a:lnTo>
                    <a:lnTo>
                      <a:pt x="673" y="118"/>
                    </a:lnTo>
                    <a:lnTo>
                      <a:pt x="674" y="116"/>
                    </a:lnTo>
                    <a:lnTo>
                      <a:pt x="674" y="114"/>
                    </a:lnTo>
                    <a:lnTo>
                      <a:pt x="674" y="114"/>
                    </a:lnTo>
                    <a:close/>
                    <a:moveTo>
                      <a:pt x="607" y="281"/>
                    </a:moveTo>
                    <a:lnTo>
                      <a:pt x="607" y="317"/>
                    </a:lnTo>
                    <a:lnTo>
                      <a:pt x="681" y="317"/>
                    </a:lnTo>
                    <a:lnTo>
                      <a:pt x="681" y="281"/>
                    </a:lnTo>
                    <a:lnTo>
                      <a:pt x="607" y="281"/>
                    </a:lnTo>
                    <a:lnTo>
                      <a:pt x="607" y="281"/>
                    </a:lnTo>
                    <a:close/>
                    <a:moveTo>
                      <a:pt x="611" y="286"/>
                    </a:moveTo>
                    <a:lnTo>
                      <a:pt x="611" y="311"/>
                    </a:lnTo>
                    <a:lnTo>
                      <a:pt x="674" y="311"/>
                    </a:lnTo>
                    <a:lnTo>
                      <a:pt x="674" y="286"/>
                    </a:lnTo>
                    <a:lnTo>
                      <a:pt x="611" y="286"/>
                    </a:lnTo>
                    <a:lnTo>
                      <a:pt x="611" y="286"/>
                    </a:lnTo>
                    <a:close/>
                    <a:moveTo>
                      <a:pt x="668" y="288"/>
                    </a:moveTo>
                    <a:lnTo>
                      <a:pt x="668" y="294"/>
                    </a:lnTo>
                    <a:lnTo>
                      <a:pt x="672" y="294"/>
                    </a:lnTo>
                    <a:lnTo>
                      <a:pt x="672" y="288"/>
                    </a:lnTo>
                    <a:lnTo>
                      <a:pt x="668" y="288"/>
                    </a:lnTo>
                    <a:lnTo>
                      <a:pt x="668" y="288"/>
                    </a:lnTo>
                    <a:close/>
                    <a:moveTo>
                      <a:pt x="658" y="288"/>
                    </a:moveTo>
                    <a:lnTo>
                      <a:pt x="658" y="294"/>
                    </a:lnTo>
                    <a:lnTo>
                      <a:pt x="663" y="294"/>
                    </a:lnTo>
                    <a:lnTo>
                      <a:pt x="663" y="288"/>
                    </a:lnTo>
                    <a:lnTo>
                      <a:pt x="658" y="288"/>
                    </a:lnTo>
                    <a:lnTo>
                      <a:pt x="658" y="288"/>
                    </a:lnTo>
                    <a:close/>
                    <a:moveTo>
                      <a:pt x="663" y="297"/>
                    </a:moveTo>
                    <a:lnTo>
                      <a:pt x="663" y="301"/>
                    </a:lnTo>
                    <a:lnTo>
                      <a:pt x="668" y="301"/>
                    </a:lnTo>
                    <a:lnTo>
                      <a:pt x="668" y="297"/>
                    </a:lnTo>
                    <a:lnTo>
                      <a:pt x="663" y="297"/>
                    </a:lnTo>
                    <a:lnTo>
                      <a:pt x="663" y="297"/>
                    </a:lnTo>
                    <a:close/>
                    <a:moveTo>
                      <a:pt x="649" y="288"/>
                    </a:moveTo>
                    <a:lnTo>
                      <a:pt x="649" y="294"/>
                    </a:lnTo>
                    <a:lnTo>
                      <a:pt x="654" y="294"/>
                    </a:lnTo>
                    <a:lnTo>
                      <a:pt x="654" y="288"/>
                    </a:lnTo>
                    <a:lnTo>
                      <a:pt x="649" y="288"/>
                    </a:lnTo>
                    <a:lnTo>
                      <a:pt x="649" y="288"/>
                    </a:lnTo>
                    <a:close/>
                    <a:moveTo>
                      <a:pt x="641" y="288"/>
                    </a:moveTo>
                    <a:lnTo>
                      <a:pt x="641" y="294"/>
                    </a:lnTo>
                    <a:lnTo>
                      <a:pt x="647" y="294"/>
                    </a:lnTo>
                    <a:lnTo>
                      <a:pt x="647" y="288"/>
                    </a:lnTo>
                    <a:lnTo>
                      <a:pt x="641" y="288"/>
                    </a:lnTo>
                    <a:lnTo>
                      <a:pt x="641" y="288"/>
                    </a:lnTo>
                    <a:close/>
                    <a:moveTo>
                      <a:pt x="632" y="288"/>
                    </a:moveTo>
                    <a:lnTo>
                      <a:pt x="632" y="294"/>
                    </a:lnTo>
                    <a:lnTo>
                      <a:pt x="638" y="294"/>
                    </a:lnTo>
                    <a:lnTo>
                      <a:pt x="638" y="288"/>
                    </a:lnTo>
                    <a:lnTo>
                      <a:pt x="632" y="288"/>
                    </a:lnTo>
                    <a:lnTo>
                      <a:pt x="632" y="288"/>
                    </a:lnTo>
                    <a:close/>
                    <a:moveTo>
                      <a:pt x="622" y="288"/>
                    </a:moveTo>
                    <a:lnTo>
                      <a:pt x="622" y="294"/>
                    </a:lnTo>
                    <a:lnTo>
                      <a:pt x="629" y="294"/>
                    </a:lnTo>
                    <a:lnTo>
                      <a:pt x="629" y="288"/>
                    </a:lnTo>
                    <a:lnTo>
                      <a:pt x="622" y="288"/>
                    </a:lnTo>
                    <a:lnTo>
                      <a:pt x="622" y="288"/>
                    </a:lnTo>
                    <a:close/>
                    <a:moveTo>
                      <a:pt x="616" y="288"/>
                    </a:moveTo>
                    <a:lnTo>
                      <a:pt x="616" y="294"/>
                    </a:lnTo>
                    <a:lnTo>
                      <a:pt x="621" y="294"/>
                    </a:lnTo>
                    <a:lnTo>
                      <a:pt x="621" y="288"/>
                    </a:lnTo>
                    <a:lnTo>
                      <a:pt x="616" y="288"/>
                    </a:lnTo>
                    <a:lnTo>
                      <a:pt x="616" y="288"/>
                    </a:lnTo>
                    <a:close/>
                    <a:moveTo>
                      <a:pt x="654" y="297"/>
                    </a:moveTo>
                    <a:lnTo>
                      <a:pt x="654" y="301"/>
                    </a:lnTo>
                    <a:lnTo>
                      <a:pt x="658" y="301"/>
                    </a:lnTo>
                    <a:lnTo>
                      <a:pt x="658" y="297"/>
                    </a:lnTo>
                    <a:lnTo>
                      <a:pt x="654" y="297"/>
                    </a:lnTo>
                    <a:lnTo>
                      <a:pt x="654" y="297"/>
                    </a:lnTo>
                    <a:close/>
                    <a:moveTo>
                      <a:pt x="644" y="297"/>
                    </a:moveTo>
                    <a:lnTo>
                      <a:pt x="644" y="301"/>
                    </a:lnTo>
                    <a:lnTo>
                      <a:pt x="649" y="301"/>
                    </a:lnTo>
                    <a:lnTo>
                      <a:pt x="649" y="297"/>
                    </a:lnTo>
                    <a:lnTo>
                      <a:pt x="644" y="297"/>
                    </a:lnTo>
                    <a:lnTo>
                      <a:pt x="644" y="297"/>
                    </a:lnTo>
                    <a:close/>
                    <a:moveTo>
                      <a:pt x="636" y="297"/>
                    </a:moveTo>
                    <a:lnTo>
                      <a:pt x="636" y="301"/>
                    </a:lnTo>
                    <a:lnTo>
                      <a:pt x="643" y="301"/>
                    </a:lnTo>
                    <a:lnTo>
                      <a:pt x="643" y="297"/>
                    </a:lnTo>
                    <a:lnTo>
                      <a:pt x="636" y="297"/>
                    </a:lnTo>
                    <a:lnTo>
                      <a:pt x="636" y="297"/>
                    </a:lnTo>
                    <a:close/>
                    <a:moveTo>
                      <a:pt x="627" y="297"/>
                    </a:moveTo>
                    <a:lnTo>
                      <a:pt x="627" y="301"/>
                    </a:lnTo>
                    <a:lnTo>
                      <a:pt x="633" y="301"/>
                    </a:lnTo>
                    <a:lnTo>
                      <a:pt x="633" y="297"/>
                    </a:lnTo>
                    <a:lnTo>
                      <a:pt x="627" y="297"/>
                    </a:lnTo>
                    <a:lnTo>
                      <a:pt x="627" y="297"/>
                    </a:lnTo>
                    <a:close/>
                    <a:moveTo>
                      <a:pt x="618" y="297"/>
                    </a:moveTo>
                    <a:lnTo>
                      <a:pt x="618" y="301"/>
                    </a:lnTo>
                    <a:lnTo>
                      <a:pt x="624" y="301"/>
                    </a:lnTo>
                    <a:lnTo>
                      <a:pt x="624" y="297"/>
                    </a:lnTo>
                    <a:lnTo>
                      <a:pt x="618" y="297"/>
                    </a:lnTo>
                    <a:lnTo>
                      <a:pt x="618" y="297"/>
                    </a:lnTo>
                    <a:close/>
                    <a:moveTo>
                      <a:pt x="658" y="303"/>
                    </a:moveTo>
                    <a:lnTo>
                      <a:pt x="627" y="303"/>
                    </a:lnTo>
                    <a:lnTo>
                      <a:pt x="627" y="308"/>
                    </a:lnTo>
                    <a:lnTo>
                      <a:pt x="658" y="308"/>
                    </a:lnTo>
                    <a:lnTo>
                      <a:pt x="658" y="303"/>
                    </a:lnTo>
                    <a:lnTo>
                      <a:pt x="658" y="303"/>
                    </a:lnTo>
                    <a:close/>
                    <a:moveTo>
                      <a:pt x="663" y="303"/>
                    </a:moveTo>
                    <a:lnTo>
                      <a:pt x="663" y="308"/>
                    </a:lnTo>
                    <a:lnTo>
                      <a:pt x="669" y="308"/>
                    </a:lnTo>
                    <a:lnTo>
                      <a:pt x="669" y="303"/>
                    </a:lnTo>
                    <a:lnTo>
                      <a:pt x="663" y="303"/>
                    </a:lnTo>
                    <a:lnTo>
                      <a:pt x="663" y="303"/>
                    </a:lnTo>
                    <a:close/>
                    <a:moveTo>
                      <a:pt x="618" y="303"/>
                    </a:moveTo>
                    <a:lnTo>
                      <a:pt x="618" y="308"/>
                    </a:lnTo>
                    <a:lnTo>
                      <a:pt x="622" y="308"/>
                    </a:lnTo>
                    <a:lnTo>
                      <a:pt x="622" y="303"/>
                    </a:lnTo>
                    <a:lnTo>
                      <a:pt x="618" y="303"/>
                    </a:lnTo>
                    <a:lnTo>
                      <a:pt x="618" y="303"/>
                    </a:lnTo>
                    <a:close/>
                    <a:moveTo>
                      <a:pt x="869" y="139"/>
                    </a:moveTo>
                    <a:lnTo>
                      <a:pt x="869" y="138"/>
                    </a:lnTo>
                    <a:lnTo>
                      <a:pt x="867" y="137"/>
                    </a:lnTo>
                    <a:lnTo>
                      <a:pt x="866" y="135"/>
                    </a:lnTo>
                    <a:lnTo>
                      <a:pt x="865" y="135"/>
                    </a:lnTo>
                    <a:lnTo>
                      <a:pt x="861" y="135"/>
                    </a:lnTo>
                    <a:lnTo>
                      <a:pt x="860" y="137"/>
                    </a:lnTo>
                    <a:lnTo>
                      <a:pt x="859" y="138"/>
                    </a:lnTo>
                    <a:lnTo>
                      <a:pt x="857" y="139"/>
                    </a:lnTo>
                    <a:lnTo>
                      <a:pt x="859" y="143"/>
                    </a:lnTo>
                    <a:lnTo>
                      <a:pt x="860" y="144"/>
                    </a:lnTo>
                    <a:lnTo>
                      <a:pt x="861" y="145"/>
                    </a:lnTo>
                    <a:lnTo>
                      <a:pt x="865" y="147"/>
                    </a:lnTo>
                    <a:lnTo>
                      <a:pt x="866" y="145"/>
                    </a:lnTo>
                    <a:lnTo>
                      <a:pt x="867" y="144"/>
                    </a:lnTo>
                    <a:lnTo>
                      <a:pt x="869" y="143"/>
                    </a:lnTo>
                    <a:lnTo>
                      <a:pt x="869" y="139"/>
                    </a:lnTo>
                    <a:lnTo>
                      <a:pt x="869" y="139"/>
                    </a:lnTo>
                    <a:close/>
                    <a:moveTo>
                      <a:pt x="876" y="114"/>
                    </a:moveTo>
                    <a:lnTo>
                      <a:pt x="875" y="111"/>
                    </a:lnTo>
                    <a:lnTo>
                      <a:pt x="875" y="109"/>
                    </a:lnTo>
                    <a:lnTo>
                      <a:pt x="872" y="108"/>
                    </a:lnTo>
                    <a:lnTo>
                      <a:pt x="871" y="108"/>
                    </a:lnTo>
                    <a:lnTo>
                      <a:pt x="870" y="108"/>
                    </a:lnTo>
                    <a:lnTo>
                      <a:pt x="869" y="109"/>
                    </a:lnTo>
                    <a:lnTo>
                      <a:pt x="867" y="111"/>
                    </a:lnTo>
                    <a:lnTo>
                      <a:pt x="867" y="114"/>
                    </a:lnTo>
                    <a:lnTo>
                      <a:pt x="867" y="116"/>
                    </a:lnTo>
                    <a:lnTo>
                      <a:pt x="869" y="118"/>
                    </a:lnTo>
                    <a:lnTo>
                      <a:pt x="870" y="119"/>
                    </a:lnTo>
                    <a:lnTo>
                      <a:pt x="871" y="119"/>
                    </a:lnTo>
                    <a:lnTo>
                      <a:pt x="872" y="119"/>
                    </a:lnTo>
                    <a:lnTo>
                      <a:pt x="875" y="118"/>
                    </a:lnTo>
                    <a:lnTo>
                      <a:pt x="875" y="116"/>
                    </a:lnTo>
                    <a:lnTo>
                      <a:pt x="876" y="114"/>
                    </a:lnTo>
                    <a:lnTo>
                      <a:pt x="876" y="114"/>
                    </a:lnTo>
                    <a:close/>
                    <a:moveTo>
                      <a:pt x="890" y="167"/>
                    </a:moveTo>
                    <a:lnTo>
                      <a:pt x="889" y="166"/>
                    </a:lnTo>
                    <a:lnTo>
                      <a:pt x="887" y="163"/>
                    </a:lnTo>
                    <a:lnTo>
                      <a:pt x="886" y="163"/>
                    </a:lnTo>
                    <a:lnTo>
                      <a:pt x="885" y="162"/>
                    </a:lnTo>
                    <a:lnTo>
                      <a:pt x="884" y="162"/>
                    </a:lnTo>
                    <a:lnTo>
                      <a:pt x="882" y="163"/>
                    </a:lnTo>
                    <a:lnTo>
                      <a:pt x="881" y="163"/>
                    </a:lnTo>
                    <a:lnTo>
                      <a:pt x="881" y="163"/>
                    </a:lnTo>
                    <a:lnTo>
                      <a:pt x="880" y="166"/>
                    </a:lnTo>
                    <a:lnTo>
                      <a:pt x="880" y="167"/>
                    </a:lnTo>
                    <a:lnTo>
                      <a:pt x="880" y="169"/>
                    </a:lnTo>
                    <a:lnTo>
                      <a:pt x="881" y="172"/>
                    </a:lnTo>
                    <a:lnTo>
                      <a:pt x="881" y="173"/>
                    </a:lnTo>
                    <a:lnTo>
                      <a:pt x="882" y="173"/>
                    </a:lnTo>
                    <a:lnTo>
                      <a:pt x="884" y="173"/>
                    </a:lnTo>
                    <a:lnTo>
                      <a:pt x="885" y="173"/>
                    </a:lnTo>
                    <a:lnTo>
                      <a:pt x="886" y="173"/>
                    </a:lnTo>
                    <a:lnTo>
                      <a:pt x="887" y="172"/>
                    </a:lnTo>
                    <a:lnTo>
                      <a:pt x="889" y="169"/>
                    </a:lnTo>
                    <a:lnTo>
                      <a:pt x="890" y="167"/>
                    </a:lnTo>
                    <a:lnTo>
                      <a:pt x="890" y="167"/>
                    </a:lnTo>
                    <a:close/>
                    <a:moveTo>
                      <a:pt x="890" y="137"/>
                    </a:moveTo>
                    <a:lnTo>
                      <a:pt x="908" y="137"/>
                    </a:lnTo>
                    <a:lnTo>
                      <a:pt x="908" y="105"/>
                    </a:lnTo>
                    <a:lnTo>
                      <a:pt x="890" y="105"/>
                    </a:lnTo>
                    <a:lnTo>
                      <a:pt x="890" y="137"/>
                    </a:lnTo>
                    <a:lnTo>
                      <a:pt x="890" y="137"/>
                    </a:lnTo>
                    <a:close/>
                    <a:moveTo>
                      <a:pt x="916" y="167"/>
                    </a:moveTo>
                    <a:lnTo>
                      <a:pt x="916" y="166"/>
                    </a:lnTo>
                    <a:lnTo>
                      <a:pt x="915" y="163"/>
                    </a:lnTo>
                    <a:lnTo>
                      <a:pt x="914" y="163"/>
                    </a:lnTo>
                    <a:lnTo>
                      <a:pt x="913" y="162"/>
                    </a:lnTo>
                    <a:lnTo>
                      <a:pt x="909" y="163"/>
                    </a:lnTo>
                    <a:lnTo>
                      <a:pt x="908" y="163"/>
                    </a:lnTo>
                    <a:lnTo>
                      <a:pt x="906" y="166"/>
                    </a:lnTo>
                    <a:lnTo>
                      <a:pt x="905" y="167"/>
                    </a:lnTo>
                    <a:lnTo>
                      <a:pt x="906" y="169"/>
                    </a:lnTo>
                    <a:lnTo>
                      <a:pt x="908" y="172"/>
                    </a:lnTo>
                    <a:lnTo>
                      <a:pt x="909" y="173"/>
                    </a:lnTo>
                    <a:lnTo>
                      <a:pt x="913" y="173"/>
                    </a:lnTo>
                    <a:lnTo>
                      <a:pt x="914" y="173"/>
                    </a:lnTo>
                    <a:lnTo>
                      <a:pt x="915" y="172"/>
                    </a:lnTo>
                    <a:lnTo>
                      <a:pt x="916" y="169"/>
                    </a:lnTo>
                    <a:lnTo>
                      <a:pt x="916" y="167"/>
                    </a:lnTo>
                    <a:lnTo>
                      <a:pt x="916" y="167"/>
                    </a:lnTo>
                    <a:close/>
                    <a:moveTo>
                      <a:pt x="930" y="114"/>
                    </a:moveTo>
                    <a:lnTo>
                      <a:pt x="930" y="111"/>
                    </a:lnTo>
                    <a:lnTo>
                      <a:pt x="929" y="109"/>
                    </a:lnTo>
                    <a:lnTo>
                      <a:pt x="926" y="108"/>
                    </a:lnTo>
                    <a:lnTo>
                      <a:pt x="924" y="108"/>
                    </a:lnTo>
                    <a:lnTo>
                      <a:pt x="921" y="108"/>
                    </a:lnTo>
                    <a:lnTo>
                      <a:pt x="920" y="109"/>
                    </a:lnTo>
                    <a:lnTo>
                      <a:pt x="919" y="111"/>
                    </a:lnTo>
                    <a:lnTo>
                      <a:pt x="919" y="114"/>
                    </a:lnTo>
                    <a:lnTo>
                      <a:pt x="919" y="116"/>
                    </a:lnTo>
                    <a:lnTo>
                      <a:pt x="920" y="118"/>
                    </a:lnTo>
                    <a:lnTo>
                      <a:pt x="921" y="119"/>
                    </a:lnTo>
                    <a:lnTo>
                      <a:pt x="924" y="119"/>
                    </a:lnTo>
                    <a:lnTo>
                      <a:pt x="926" y="119"/>
                    </a:lnTo>
                    <a:lnTo>
                      <a:pt x="929" y="118"/>
                    </a:lnTo>
                    <a:lnTo>
                      <a:pt x="930" y="116"/>
                    </a:lnTo>
                    <a:lnTo>
                      <a:pt x="930" y="114"/>
                    </a:lnTo>
                    <a:lnTo>
                      <a:pt x="930" y="114"/>
                    </a:lnTo>
                    <a:close/>
                    <a:moveTo>
                      <a:pt x="938" y="139"/>
                    </a:moveTo>
                    <a:lnTo>
                      <a:pt x="936" y="138"/>
                    </a:lnTo>
                    <a:lnTo>
                      <a:pt x="935" y="137"/>
                    </a:lnTo>
                    <a:lnTo>
                      <a:pt x="934" y="135"/>
                    </a:lnTo>
                    <a:lnTo>
                      <a:pt x="933" y="135"/>
                    </a:lnTo>
                    <a:lnTo>
                      <a:pt x="930" y="135"/>
                    </a:lnTo>
                    <a:lnTo>
                      <a:pt x="928" y="137"/>
                    </a:lnTo>
                    <a:lnTo>
                      <a:pt x="926" y="138"/>
                    </a:lnTo>
                    <a:lnTo>
                      <a:pt x="926" y="139"/>
                    </a:lnTo>
                    <a:lnTo>
                      <a:pt x="926" y="143"/>
                    </a:lnTo>
                    <a:lnTo>
                      <a:pt x="928" y="144"/>
                    </a:lnTo>
                    <a:lnTo>
                      <a:pt x="930" y="145"/>
                    </a:lnTo>
                    <a:lnTo>
                      <a:pt x="933" y="147"/>
                    </a:lnTo>
                    <a:lnTo>
                      <a:pt x="934" y="145"/>
                    </a:lnTo>
                    <a:lnTo>
                      <a:pt x="935" y="144"/>
                    </a:lnTo>
                    <a:lnTo>
                      <a:pt x="936" y="143"/>
                    </a:lnTo>
                    <a:lnTo>
                      <a:pt x="938" y="139"/>
                    </a:lnTo>
                    <a:lnTo>
                      <a:pt x="938" y="139"/>
                    </a:lnTo>
                    <a:close/>
                    <a:moveTo>
                      <a:pt x="876" y="301"/>
                    </a:moveTo>
                    <a:lnTo>
                      <a:pt x="876" y="308"/>
                    </a:lnTo>
                    <a:lnTo>
                      <a:pt x="876" y="310"/>
                    </a:lnTo>
                    <a:lnTo>
                      <a:pt x="877" y="311"/>
                    </a:lnTo>
                    <a:lnTo>
                      <a:pt x="879" y="312"/>
                    </a:lnTo>
                    <a:lnTo>
                      <a:pt x="880" y="312"/>
                    </a:lnTo>
                    <a:lnTo>
                      <a:pt x="880" y="312"/>
                    </a:lnTo>
                    <a:lnTo>
                      <a:pt x="887" y="312"/>
                    </a:lnTo>
                    <a:lnTo>
                      <a:pt x="887" y="301"/>
                    </a:lnTo>
                    <a:lnTo>
                      <a:pt x="876" y="301"/>
                    </a:lnTo>
                    <a:lnTo>
                      <a:pt x="876" y="301"/>
                    </a:lnTo>
                    <a:close/>
                    <a:moveTo>
                      <a:pt x="887" y="297"/>
                    </a:moveTo>
                    <a:lnTo>
                      <a:pt x="887" y="286"/>
                    </a:lnTo>
                    <a:lnTo>
                      <a:pt x="880" y="286"/>
                    </a:lnTo>
                    <a:lnTo>
                      <a:pt x="879" y="286"/>
                    </a:lnTo>
                    <a:lnTo>
                      <a:pt x="877" y="287"/>
                    </a:lnTo>
                    <a:lnTo>
                      <a:pt x="876" y="288"/>
                    </a:lnTo>
                    <a:lnTo>
                      <a:pt x="876" y="289"/>
                    </a:lnTo>
                    <a:lnTo>
                      <a:pt x="876" y="289"/>
                    </a:lnTo>
                    <a:lnTo>
                      <a:pt x="876" y="297"/>
                    </a:lnTo>
                    <a:lnTo>
                      <a:pt x="887" y="297"/>
                    </a:lnTo>
                    <a:lnTo>
                      <a:pt x="887" y="297"/>
                    </a:lnTo>
                    <a:close/>
                    <a:moveTo>
                      <a:pt x="894" y="312"/>
                    </a:moveTo>
                    <a:lnTo>
                      <a:pt x="908" y="312"/>
                    </a:lnTo>
                    <a:lnTo>
                      <a:pt x="910" y="312"/>
                    </a:lnTo>
                    <a:lnTo>
                      <a:pt x="913" y="312"/>
                    </a:lnTo>
                    <a:lnTo>
                      <a:pt x="914" y="311"/>
                    </a:lnTo>
                    <a:lnTo>
                      <a:pt x="916" y="310"/>
                    </a:lnTo>
                    <a:lnTo>
                      <a:pt x="918" y="308"/>
                    </a:lnTo>
                    <a:lnTo>
                      <a:pt x="918" y="306"/>
                    </a:lnTo>
                    <a:lnTo>
                      <a:pt x="919" y="303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294"/>
                    </a:lnTo>
                    <a:lnTo>
                      <a:pt x="919" y="293"/>
                    </a:lnTo>
                    <a:lnTo>
                      <a:pt x="918" y="291"/>
                    </a:lnTo>
                    <a:lnTo>
                      <a:pt x="918" y="289"/>
                    </a:lnTo>
                    <a:lnTo>
                      <a:pt x="916" y="288"/>
                    </a:lnTo>
                    <a:lnTo>
                      <a:pt x="914" y="287"/>
                    </a:lnTo>
                    <a:lnTo>
                      <a:pt x="913" y="286"/>
                    </a:lnTo>
                    <a:lnTo>
                      <a:pt x="910" y="286"/>
                    </a:lnTo>
                    <a:lnTo>
                      <a:pt x="908" y="286"/>
                    </a:lnTo>
                    <a:lnTo>
                      <a:pt x="908" y="286"/>
                    </a:lnTo>
                    <a:lnTo>
                      <a:pt x="894" y="286"/>
                    </a:lnTo>
                    <a:lnTo>
                      <a:pt x="894" y="312"/>
                    </a:lnTo>
                    <a:lnTo>
                      <a:pt x="894" y="312"/>
                    </a:lnTo>
                    <a:close/>
                    <a:moveTo>
                      <a:pt x="871" y="308"/>
                    </a:moveTo>
                    <a:lnTo>
                      <a:pt x="871" y="310"/>
                    </a:lnTo>
                    <a:lnTo>
                      <a:pt x="871" y="312"/>
                    </a:lnTo>
                    <a:lnTo>
                      <a:pt x="872" y="313"/>
                    </a:lnTo>
                    <a:lnTo>
                      <a:pt x="874" y="315"/>
                    </a:lnTo>
                    <a:lnTo>
                      <a:pt x="875" y="316"/>
                    </a:lnTo>
                    <a:lnTo>
                      <a:pt x="877" y="316"/>
                    </a:lnTo>
                    <a:lnTo>
                      <a:pt x="879" y="317"/>
                    </a:lnTo>
                    <a:lnTo>
                      <a:pt x="880" y="317"/>
                    </a:lnTo>
                    <a:lnTo>
                      <a:pt x="908" y="317"/>
                    </a:lnTo>
                    <a:lnTo>
                      <a:pt x="911" y="317"/>
                    </a:lnTo>
                    <a:lnTo>
                      <a:pt x="914" y="316"/>
                    </a:lnTo>
                    <a:lnTo>
                      <a:pt x="916" y="315"/>
                    </a:lnTo>
                    <a:lnTo>
                      <a:pt x="919" y="312"/>
                    </a:lnTo>
                    <a:lnTo>
                      <a:pt x="921" y="311"/>
                    </a:lnTo>
                    <a:lnTo>
                      <a:pt x="924" y="308"/>
                    </a:lnTo>
                    <a:lnTo>
                      <a:pt x="925" y="305"/>
                    </a:lnTo>
                    <a:lnTo>
                      <a:pt x="926" y="301"/>
                    </a:lnTo>
                    <a:lnTo>
                      <a:pt x="926" y="294"/>
                    </a:lnTo>
                    <a:lnTo>
                      <a:pt x="925" y="292"/>
                    </a:lnTo>
                    <a:lnTo>
                      <a:pt x="924" y="289"/>
                    </a:lnTo>
                    <a:lnTo>
                      <a:pt x="921" y="287"/>
                    </a:lnTo>
                    <a:lnTo>
                      <a:pt x="919" y="286"/>
                    </a:lnTo>
                    <a:lnTo>
                      <a:pt x="916" y="283"/>
                    </a:lnTo>
                    <a:lnTo>
                      <a:pt x="914" y="282"/>
                    </a:lnTo>
                    <a:lnTo>
                      <a:pt x="911" y="281"/>
                    </a:lnTo>
                    <a:lnTo>
                      <a:pt x="908" y="281"/>
                    </a:lnTo>
                    <a:lnTo>
                      <a:pt x="880" y="281"/>
                    </a:lnTo>
                    <a:lnTo>
                      <a:pt x="879" y="281"/>
                    </a:lnTo>
                    <a:lnTo>
                      <a:pt x="877" y="281"/>
                    </a:lnTo>
                    <a:lnTo>
                      <a:pt x="875" y="282"/>
                    </a:lnTo>
                    <a:lnTo>
                      <a:pt x="874" y="283"/>
                    </a:lnTo>
                    <a:lnTo>
                      <a:pt x="872" y="284"/>
                    </a:lnTo>
                    <a:lnTo>
                      <a:pt x="871" y="287"/>
                    </a:lnTo>
                    <a:lnTo>
                      <a:pt x="871" y="288"/>
                    </a:lnTo>
                    <a:lnTo>
                      <a:pt x="871" y="289"/>
                    </a:lnTo>
                    <a:lnTo>
                      <a:pt x="871" y="308"/>
                    </a:lnTo>
                    <a:lnTo>
                      <a:pt x="871" y="308"/>
                    </a:lnTo>
                    <a:close/>
                    <a:moveTo>
                      <a:pt x="1121" y="130"/>
                    </a:moveTo>
                    <a:lnTo>
                      <a:pt x="1117" y="130"/>
                    </a:lnTo>
                    <a:lnTo>
                      <a:pt x="1114" y="132"/>
                    </a:lnTo>
                    <a:lnTo>
                      <a:pt x="1112" y="133"/>
                    </a:lnTo>
                    <a:lnTo>
                      <a:pt x="1109" y="135"/>
                    </a:lnTo>
                    <a:lnTo>
                      <a:pt x="1107" y="138"/>
                    </a:lnTo>
                    <a:lnTo>
                      <a:pt x="1106" y="140"/>
                    </a:lnTo>
                    <a:lnTo>
                      <a:pt x="1104" y="143"/>
                    </a:lnTo>
                    <a:lnTo>
                      <a:pt x="1104" y="147"/>
                    </a:lnTo>
                    <a:lnTo>
                      <a:pt x="1104" y="149"/>
                    </a:lnTo>
                    <a:lnTo>
                      <a:pt x="1106" y="153"/>
                    </a:lnTo>
                    <a:lnTo>
                      <a:pt x="1107" y="156"/>
                    </a:lnTo>
                    <a:lnTo>
                      <a:pt x="1109" y="158"/>
                    </a:lnTo>
                    <a:lnTo>
                      <a:pt x="1112" y="159"/>
                    </a:lnTo>
                    <a:lnTo>
                      <a:pt x="1114" y="161"/>
                    </a:lnTo>
                    <a:lnTo>
                      <a:pt x="1117" y="162"/>
                    </a:lnTo>
                    <a:lnTo>
                      <a:pt x="1121" y="162"/>
                    </a:lnTo>
                    <a:lnTo>
                      <a:pt x="1124" y="162"/>
                    </a:lnTo>
                    <a:lnTo>
                      <a:pt x="1127" y="161"/>
                    </a:lnTo>
                    <a:lnTo>
                      <a:pt x="1129" y="159"/>
                    </a:lnTo>
                    <a:lnTo>
                      <a:pt x="1132" y="158"/>
                    </a:lnTo>
                    <a:lnTo>
                      <a:pt x="1133" y="156"/>
                    </a:lnTo>
                    <a:lnTo>
                      <a:pt x="1136" y="153"/>
                    </a:lnTo>
                    <a:lnTo>
                      <a:pt x="1136" y="149"/>
                    </a:lnTo>
                    <a:lnTo>
                      <a:pt x="1137" y="147"/>
                    </a:lnTo>
                    <a:lnTo>
                      <a:pt x="1136" y="143"/>
                    </a:lnTo>
                    <a:lnTo>
                      <a:pt x="1136" y="140"/>
                    </a:lnTo>
                    <a:lnTo>
                      <a:pt x="1133" y="138"/>
                    </a:lnTo>
                    <a:lnTo>
                      <a:pt x="1132" y="135"/>
                    </a:lnTo>
                    <a:lnTo>
                      <a:pt x="1129" y="133"/>
                    </a:lnTo>
                    <a:lnTo>
                      <a:pt x="1127" y="132"/>
                    </a:lnTo>
                    <a:lnTo>
                      <a:pt x="1124" y="130"/>
                    </a:lnTo>
                    <a:lnTo>
                      <a:pt x="1121" y="130"/>
                    </a:lnTo>
                    <a:lnTo>
                      <a:pt x="1121" y="130"/>
                    </a:lnTo>
                    <a:close/>
                    <a:moveTo>
                      <a:pt x="1471" y="130"/>
                    </a:moveTo>
                    <a:lnTo>
                      <a:pt x="1468" y="130"/>
                    </a:lnTo>
                    <a:lnTo>
                      <a:pt x="1465" y="132"/>
                    </a:lnTo>
                    <a:lnTo>
                      <a:pt x="1463" y="133"/>
                    </a:lnTo>
                    <a:lnTo>
                      <a:pt x="1460" y="135"/>
                    </a:lnTo>
                    <a:lnTo>
                      <a:pt x="1458" y="138"/>
                    </a:lnTo>
                    <a:lnTo>
                      <a:pt x="1456" y="140"/>
                    </a:lnTo>
                    <a:lnTo>
                      <a:pt x="1456" y="143"/>
                    </a:lnTo>
                    <a:lnTo>
                      <a:pt x="1455" y="147"/>
                    </a:lnTo>
                    <a:lnTo>
                      <a:pt x="1456" y="149"/>
                    </a:lnTo>
                    <a:lnTo>
                      <a:pt x="1456" y="153"/>
                    </a:lnTo>
                    <a:lnTo>
                      <a:pt x="1458" y="156"/>
                    </a:lnTo>
                    <a:lnTo>
                      <a:pt x="1460" y="158"/>
                    </a:lnTo>
                    <a:lnTo>
                      <a:pt x="1463" y="159"/>
                    </a:lnTo>
                    <a:lnTo>
                      <a:pt x="1465" y="161"/>
                    </a:lnTo>
                    <a:lnTo>
                      <a:pt x="1468" y="162"/>
                    </a:lnTo>
                    <a:lnTo>
                      <a:pt x="1471" y="162"/>
                    </a:lnTo>
                    <a:lnTo>
                      <a:pt x="1474" y="162"/>
                    </a:lnTo>
                    <a:lnTo>
                      <a:pt x="1476" y="161"/>
                    </a:lnTo>
                    <a:lnTo>
                      <a:pt x="1479" y="159"/>
                    </a:lnTo>
                    <a:lnTo>
                      <a:pt x="1480" y="158"/>
                    </a:lnTo>
                    <a:lnTo>
                      <a:pt x="1483" y="156"/>
                    </a:lnTo>
                    <a:lnTo>
                      <a:pt x="1484" y="153"/>
                    </a:lnTo>
                    <a:lnTo>
                      <a:pt x="1485" y="149"/>
                    </a:lnTo>
                    <a:lnTo>
                      <a:pt x="1485" y="147"/>
                    </a:lnTo>
                    <a:lnTo>
                      <a:pt x="1485" y="143"/>
                    </a:lnTo>
                    <a:lnTo>
                      <a:pt x="1484" y="140"/>
                    </a:lnTo>
                    <a:lnTo>
                      <a:pt x="1483" y="138"/>
                    </a:lnTo>
                    <a:lnTo>
                      <a:pt x="1480" y="135"/>
                    </a:lnTo>
                    <a:lnTo>
                      <a:pt x="1479" y="133"/>
                    </a:lnTo>
                    <a:lnTo>
                      <a:pt x="1476" y="132"/>
                    </a:lnTo>
                    <a:lnTo>
                      <a:pt x="1474" y="130"/>
                    </a:lnTo>
                    <a:lnTo>
                      <a:pt x="1471" y="130"/>
                    </a:lnTo>
                    <a:lnTo>
                      <a:pt x="1471" y="130"/>
                    </a:lnTo>
                    <a:close/>
                    <a:moveTo>
                      <a:pt x="2112" y="135"/>
                    </a:moveTo>
                    <a:lnTo>
                      <a:pt x="2109" y="135"/>
                    </a:lnTo>
                    <a:lnTo>
                      <a:pt x="2105" y="137"/>
                    </a:lnTo>
                    <a:lnTo>
                      <a:pt x="2103" y="138"/>
                    </a:lnTo>
                    <a:lnTo>
                      <a:pt x="2100" y="139"/>
                    </a:lnTo>
                    <a:lnTo>
                      <a:pt x="2099" y="142"/>
                    </a:lnTo>
                    <a:lnTo>
                      <a:pt x="2098" y="144"/>
                    </a:lnTo>
                    <a:lnTo>
                      <a:pt x="2097" y="148"/>
                    </a:lnTo>
                    <a:lnTo>
                      <a:pt x="2097" y="150"/>
                    </a:lnTo>
                    <a:lnTo>
                      <a:pt x="2097" y="153"/>
                    </a:lnTo>
                    <a:lnTo>
                      <a:pt x="2098" y="156"/>
                    </a:lnTo>
                    <a:lnTo>
                      <a:pt x="2099" y="158"/>
                    </a:lnTo>
                    <a:lnTo>
                      <a:pt x="2100" y="161"/>
                    </a:lnTo>
                    <a:lnTo>
                      <a:pt x="2103" y="162"/>
                    </a:lnTo>
                    <a:lnTo>
                      <a:pt x="2105" y="163"/>
                    </a:lnTo>
                    <a:lnTo>
                      <a:pt x="2109" y="164"/>
                    </a:lnTo>
                    <a:lnTo>
                      <a:pt x="2112" y="164"/>
                    </a:lnTo>
                    <a:lnTo>
                      <a:pt x="2115" y="164"/>
                    </a:lnTo>
                    <a:lnTo>
                      <a:pt x="2118" y="163"/>
                    </a:lnTo>
                    <a:lnTo>
                      <a:pt x="2120" y="162"/>
                    </a:lnTo>
                    <a:lnTo>
                      <a:pt x="2123" y="161"/>
                    </a:lnTo>
                    <a:lnTo>
                      <a:pt x="2125" y="158"/>
                    </a:lnTo>
                    <a:lnTo>
                      <a:pt x="2127" y="156"/>
                    </a:lnTo>
                    <a:lnTo>
                      <a:pt x="2128" y="153"/>
                    </a:lnTo>
                    <a:lnTo>
                      <a:pt x="2128" y="150"/>
                    </a:lnTo>
                    <a:lnTo>
                      <a:pt x="2128" y="148"/>
                    </a:lnTo>
                    <a:lnTo>
                      <a:pt x="2127" y="144"/>
                    </a:lnTo>
                    <a:lnTo>
                      <a:pt x="2125" y="142"/>
                    </a:lnTo>
                    <a:lnTo>
                      <a:pt x="2123" y="139"/>
                    </a:lnTo>
                    <a:lnTo>
                      <a:pt x="2120" y="138"/>
                    </a:lnTo>
                    <a:lnTo>
                      <a:pt x="2118" y="137"/>
                    </a:lnTo>
                    <a:lnTo>
                      <a:pt x="2115" y="135"/>
                    </a:lnTo>
                    <a:lnTo>
                      <a:pt x="2112" y="135"/>
                    </a:lnTo>
                    <a:lnTo>
                      <a:pt x="2112" y="135"/>
                    </a:lnTo>
                    <a:close/>
                    <a:moveTo>
                      <a:pt x="2198" y="181"/>
                    </a:moveTo>
                    <a:lnTo>
                      <a:pt x="2198" y="182"/>
                    </a:lnTo>
                    <a:lnTo>
                      <a:pt x="2198" y="182"/>
                    </a:lnTo>
                    <a:lnTo>
                      <a:pt x="2201" y="185"/>
                    </a:lnTo>
                    <a:lnTo>
                      <a:pt x="2203" y="187"/>
                    </a:lnTo>
                    <a:lnTo>
                      <a:pt x="2204" y="187"/>
                    </a:lnTo>
                    <a:lnTo>
                      <a:pt x="2204" y="187"/>
                    </a:lnTo>
                    <a:lnTo>
                      <a:pt x="2207" y="187"/>
                    </a:lnTo>
                    <a:lnTo>
                      <a:pt x="2208" y="187"/>
                    </a:lnTo>
                    <a:lnTo>
                      <a:pt x="2211" y="185"/>
                    </a:lnTo>
                    <a:lnTo>
                      <a:pt x="2212" y="183"/>
                    </a:lnTo>
                    <a:lnTo>
                      <a:pt x="2213" y="182"/>
                    </a:lnTo>
                    <a:lnTo>
                      <a:pt x="2213" y="182"/>
                    </a:lnTo>
                    <a:lnTo>
                      <a:pt x="2214" y="181"/>
                    </a:lnTo>
                    <a:lnTo>
                      <a:pt x="2213" y="178"/>
                    </a:lnTo>
                    <a:lnTo>
                      <a:pt x="2213" y="177"/>
                    </a:lnTo>
                    <a:lnTo>
                      <a:pt x="2212" y="176"/>
                    </a:lnTo>
                    <a:lnTo>
                      <a:pt x="2211" y="176"/>
                    </a:lnTo>
                    <a:lnTo>
                      <a:pt x="2208" y="174"/>
                    </a:lnTo>
                    <a:lnTo>
                      <a:pt x="2204" y="173"/>
                    </a:lnTo>
                    <a:lnTo>
                      <a:pt x="2203" y="174"/>
                    </a:lnTo>
                    <a:lnTo>
                      <a:pt x="2201" y="176"/>
                    </a:lnTo>
                    <a:lnTo>
                      <a:pt x="2198" y="177"/>
                    </a:lnTo>
                    <a:lnTo>
                      <a:pt x="2198" y="178"/>
                    </a:lnTo>
                    <a:lnTo>
                      <a:pt x="2198" y="181"/>
                    </a:lnTo>
                    <a:lnTo>
                      <a:pt x="2198" y="181"/>
                    </a:lnTo>
                    <a:close/>
                    <a:moveTo>
                      <a:pt x="2237" y="181"/>
                    </a:moveTo>
                    <a:lnTo>
                      <a:pt x="2237" y="182"/>
                    </a:lnTo>
                    <a:lnTo>
                      <a:pt x="2237" y="182"/>
                    </a:lnTo>
                    <a:lnTo>
                      <a:pt x="2239" y="185"/>
                    </a:lnTo>
                    <a:lnTo>
                      <a:pt x="2241" y="187"/>
                    </a:lnTo>
                    <a:lnTo>
                      <a:pt x="2242" y="187"/>
                    </a:lnTo>
                    <a:lnTo>
                      <a:pt x="2243" y="187"/>
                    </a:lnTo>
                    <a:lnTo>
                      <a:pt x="2244" y="187"/>
                    </a:lnTo>
                    <a:lnTo>
                      <a:pt x="2246" y="187"/>
                    </a:lnTo>
                    <a:lnTo>
                      <a:pt x="2248" y="185"/>
                    </a:lnTo>
                    <a:lnTo>
                      <a:pt x="2249" y="182"/>
                    </a:lnTo>
                    <a:lnTo>
                      <a:pt x="2249" y="181"/>
                    </a:lnTo>
                    <a:lnTo>
                      <a:pt x="2249" y="177"/>
                    </a:lnTo>
                    <a:lnTo>
                      <a:pt x="2248" y="176"/>
                    </a:lnTo>
                    <a:lnTo>
                      <a:pt x="2246" y="174"/>
                    </a:lnTo>
                    <a:lnTo>
                      <a:pt x="2243" y="173"/>
                    </a:lnTo>
                    <a:lnTo>
                      <a:pt x="2241" y="174"/>
                    </a:lnTo>
                    <a:lnTo>
                      <a:pt x="2239" y="176"/>
                    </a:lnTo>
                    <a:lnTo>
                      <a:pt x="2237" y="177"/>
                    </a:lnTo>
                    <a:lnTo>
                      <a:pt x="2237" y="178"/>
                    </a:lnTo>
                    <a:lnTo>
                      <a:pt x="2237" y="181"/>
                    </a:lnTo>
                    <a:lnTo>
                      <a:pt x="2237" y="181"/>
                    </a:lnTo>
                    <a:close/>
                    <a:moveTo>
                      <a:pt x="2275" y="181"/>
                    </a:moveTo>
                    <a:lnTo>
                      <a:pt x="2275" y="182"/>
                    </a:lnTo>
                    <a:lnTo>
                      <a:pt x="2276" y="182"/>
                    </a:lnTo>
                    <a:lnTo>
                      <a:pt x="2277" y="185"/>
                    </a:lnTo>
                    <a:lnTo>
                      <a:pt x="2280" y="187"/>
                    </a:lnTo>
                    <a:lnTo>
                      <a:pt x="2281" y="187"/>
                    </a:lnTo>
                    <a:lnTo>
                      <a:pt x="2282" y="187"/>
                    </a:lnTo>
                    <a:lnTo>
                      <a:pt x="2283" y="187"/>
                    </a:lnTo>
                    <a:lnTo>
                      <a:pt x="2285" y="187"/>
                    </a:lnTo>
                    <a:lnTo>
                      <a:pt x="2287" y="185"/>
                    </a:lnTo>
                    <a:lnTo>
                      <a:pt x="2288" y="182"/>
                    </a:lnTo>
                    <a:lnTo>
                      <a:pt x="2288" y="181"/>
                    </a:lnTo>
                    <a:lnTo>
                      <a:pt x="2288" y="177"/>
                    </a:lnTo>
                    <a:lnTo>
                      <a:pt x="2287" y="176"/>
                    </a:lnTo>
                    <a:lnTo>
                      <a:pt x="2285" y="174"/>
                    </a:lnTo>
                    <a:lnTo>
                      <a:pt x="2282" y="173"/>
                    </a:lnTo>
                    <a:lnTo>
                      <a:pt x="2280" y="174"/>
                    </a:lnTo>
                    <a:lnTo>
                      <a:pt x="2277" y="176"/>
                    </a:lnTo>
                    <a:lnTo>
                      <a:pt x="2276" y="177"/>
                    </a:lnTo>
                    <a:lnTo>
                      <a:pt x="2275" y="178"/>
                    </a:lnTo>
                    <a:lnTo>
                      <a:pt x="2275" y="181"/>
                    </a:lnTo>
                    <a:lnTo>
                      <a:pt x="2275" y="181"/>
                    </a:lnTo>
                    <a:close/>
                    <a:moveTo>
                      <a:pt x="2313" y="181"/>
                    </a:moveTo>
                    <a:lnTo>
                      <a:pt x="2313" y="182"/>
                    </a:lnTo>
                    <a:lnTo>
                      <a:pt x="2315" y="185"/>
                    </a:lnTo>
                    <a:lnTo>
                      <a:pt x="2317" y="187"/>
                    </a:lnTo>
                    <a:lnTo>
                      <a:pt x="2318" y="187"/>
                    </a:lnTo>
                    <a:lnTo>
                      <a:pt x="2320" y="187"/>
                    </a:lnTo>
                    <a:lnTo>
                      <a:pt x="2322" y="187"/>
                    </a:lnTo>
                    <a:lnTo>
                      <a:pt x="2323" y="187"/>
                    </a:lnTo>
                    <a:lnTo>
                      <a:pt x="2325" y="185"/>
                    </a:lnTo>
                    <a:lnTo>
                      <a:pt x="2326" y="182"/>
                    </a:lnTo>
                    <a:lnTo>
                      <a:pt x="2327" y="181"/>
                    </a:lnTo>
                    <a:lnTo>
                      <a:pt x="2326" y="177"/>
                    </a:lnTo>
                    <a:lnTo>
                      <a:pt x="2325" y="176"/>
                    </a:lnTo>
                    <a:lnTo>
                      <a:pt x="2323" y="174"/>
                    </a:lnTo>
                    <a:lnTo>
                      <a:pt x="2320" y="173"/>
                    </a:lnTo>
                    <a:lnTo>
                      <a:pt x="2317" y="174"/>
                    </a:lnTo>
                    <a:lnTo>
                      <a:pt x="2315" y="176"/>
                    </a:lnTo>
                    <a:lnTo>
                      <a:pt x="2313" y="177"/>
                    </a:lnTo>
                    <a:lnTo>
                      <a:pt x="2313" y="181"/>
                    </a:lnTo>
                    <a:lnTo>
                      <a:pt x="2313" y="181"/>
                    </a:lnTo>
                    <a:close/>
                    <a:moveTo>
                      <a:pt x="2352" y="181"/>
                    </a:moveTo>
                    <a:lnTo>
                      <a:pt x="2352" y="182"/>
                    </a:lnTo>
                    <a:lnTo>
                      <a:pt x="2353" y="185"/>
                    </a:lnTo>
                    <a:lnTo>
                      <a:pt x="2356" y="187"/>
                    </a:lnTo>
                    <a:lnTo>
                      <a:pt x="2357" y="187"/>
                    </a:lnTo>
                    <a:lnTo>
                      <a:pt x="2358" y="187"/>
                    </a:lnTo>
                    <a:lnTo>
                      <a:pt x="2360" y="187"/>
                    </a:lnTo>
                    <a:lnTo>
                      <a:pt x="2362" y="187"/>
                    </a:lnTo>
                    <a:lnTo>
                      <a:pt x="2363" y="185"/>
                    </a:lnTo>
                    <a:lnTo>
                      <a:pt x="2365" y="182"/>
                    </a:lnTo>
                    <a:lnTo>
                      <a:pt x="2366" y="181"/>
                    </a:lnTo>
                    <a:lnTo>
                      <a:pt x="2365" y="177"/>
                    </a:lnTo>
                    <a:lnTo>
                      <a:pt x="2363" y="176"/>
                    </a:lnTo>
                    <a:lnTo>
                      <a:pt x="2362" y="174"/>
                    </a:lnTo>
                    <a:lnTo>
                      <a:pt x="2358" y="173"/>
                    </a:lnTo>
                    <a:lnTo>
                      <a:pt x="2356" y="174"/>
                    </a:lnTo>
                    <a:lnTo>
                      <a:pt x="2353" y="176"/>
                    </a:lnTo>
                    <a:lnTo>
                      <a:pt x="2352" y="177"/>
                    </a:lnTo>
                    <a:lnTo>
                      <a:pt x="2352" y="181"/>
                    </a:lnTo>
                    <a:lnTo>
                      <a:pt x="2352" y="181"/>
                    </a:lnTo>
                    <a:close/>
                    <a:moveTo>
                      <a:pt x="2218" y="150"/>
                    </a:moveTo>
                    <a:lnTo>
                      <a:pt x="2218" y="152"/>
                    </a:lnTo>
                    <a:lnTo>
                      <a:pt x="2219" y="153"/>
                    </a:lnTo>
                    <a:lnTo>
                      <a:pt x="2221" y="156"/>
                    </a:lnTo>
                    <a:lnTo>
                      <a:pt x="2223" y="157"/>
                    </a:lnTo>
                    <a:lnTo>
                      <a:pt x="2224" y="158"/>
                    </a:lnTo>
                    <a:lnTo>
                      <a:pt x="2226" y="158"/>
                    </a:lnTo>
                    <a:lnTo>
                      <a:pt x="2227" y="158"/>
                    </a:lnTo>
                    <a:lnTo>
                      <a:pt x="2228" y="157"/>
                    </a:lnTo>
                    <a:lnTo>
                      <a:pt x="2231" y="156"/>
                    </a:lnTo>
                    <a:lnTo>
                      <a:pt x="2232" y="153"/>
                    </a:lnTo>
                    <a:lnTo>
                      <a:pt x="2232" y="150"/>
                    </a:lnTo>
                    <a:lnTo>
                      <a:pt x="2232" y="148"/>
                    </a:lnTo>
                    <a:lnTo>
                      <a:pt x="2231" y="145"/>
                    </a:lnTo>
                    <a:lnTo>
                      <a:pt x="2228" y="144"/>
                    </a:lnTo>
                    <a:lnTo>
                      <a:pt x="2226" y="144"/>
                    </a:lnTo>
                    <a:lnTo>
                      <a:pt x="2223" y="144"/>
                    </a:lnTo>
                    <a:lnTo>
                      <a:pt x="2221" y="145"/>
                    </a:lnTo>
                    <a:lnTo>
                      <a:pt x="2219" y="148"/>
                    </a:lnTo>
                    <a:lnTo>
                      <a:pt x="2218" y="149"/>
                    </a:lnTo>
                    <a:lnTo>
                      <a:pt x="2218" y="150"/>
                    </a:lnTo>
                    <a:lnTo>
                      <a:pt x="2218" y="150"/>
                    </a:lnTo>
                    <a:close/>
                    <a:moveTo>
                      <a:pt x="2257" y="150"/>
                    </a:moveTo>
                    <a:lnTo>
                      <a:pt x="2257" y="152"/>
                    </a:lnTo>
                    <a:lnTo>
                      <a:pt x="2257" y="153"/>
                    </a:lnTo>
                    <a:lnTo>
                      <a:pt x="2259" y="156"/>
                    </a:lnTo>
                    <a:lnTo>
                      <a:pt x="2262" y="157"/>
                    </a:lnTo>
                    <a:lnTo>
                      <a:pt x="2262" y="158"/>
                    </a:lnTo>
                    <a:lnTo>
                      <a:pt x="2263" y="158"/>
                    </a:lnTo>
                    <a:lnTo>
                      <a:pt x="2266" y="158"/>
                    </a:lnTo>
                    <a:lnTo>
                      <a:pt x="2267" y="157"/>
                    </a:lnTo>
                    <a:lnTo>
                      <a:pt x="2268" y="156"/>
                    </a:lnTo>
                    <a:lnTo>
                      <a:pt x="2270" y="153"/>
                    </a:lnTo>
                    <a:lnTo>
                      <a:pt x="2271" y="150"/>
                    </a:lnTo>
                    <a:lnTo>
                      <a:pt x="2270" y="148"/>
                    </a:lnTo>
                    <a:lnTo>
                      <a:pt x="2268" y="145"/>
                    </a:lnTo>
                    <a:lnTo>
                      <a:pt x="2267" y="144"/>
                    </a:lnTo>
                    <a:lnTo>
                      <a:pt x="2263" y="144"/>
                    </a:lnTo>
                    <a:lnTo>
                      <a:pt x="2262" y="144"/>
                    </a:lnTo>
                    <a:lnTo>
                      <a:pt x="2259" y="145"/>
                    </a:lnTo>
                    <a:lnTo>
                      <a:pt x="2257" y="148"/>
                    </a:lnTo>
                    <a:lnTo>
                      <a:pt x="2257" y="149"/>
                    </a:lnTo>
                    <a:lnTo>
                      <a:pt x="2257" y="150"/>
                    </a:lnTo>
                    <a:lnTo>
                      <a:pt x="2257" y="150"/>
                    </a:lnTo>
                    <a:close/>
                    <a:moveTo>
                      <a:pt x="2296" y="150"/>
                    </a:moveTo>
                    <a:lnTo>
                      <a:pt x="2296" y="153"/>
                    </a:lnTo>
                    <a:lnTo>
                      <a:pt x="2297" y="156"/>
                    </a:lnTo>
                    <a:lnTo>
                      <a:pt x="2300" y="157"/>
                    </a:lnTo>
                    <a:lnTo>
                      <a:pt x="2301" y="158"/>
                    </a:lnTo>
                    <a:lnTo>
                      <a:pt x="2302" y="158"/>
                    </a:lnTo>
                    <a:lnTo>
                      <a:pt x="2303" y="158"/>
                    </a:lnTo>
                    <a:lnTo>
                      <a:pt x="2305" y="157"/>
                    </a:lnTo>
                    <a:lnTo>
                      <a:pt x="2307" y="156"/>
                    </a:lnTo>
                    <a:lnTo>
                      <a:pt x="2308" y="153"/>
                    </a:lnTo>
                    <a:lnTo>
                      <a:pt x="2308" y="150"/>
                    </a:lnTo>
                    <a:lnTo>
                      <a:pt x="2308" y="148"/>
                    </a:lnTo>
                    <a:lnTo>
                      <a:pt x="2307" y="145"/>
                    </a:lnTo>
                    <a:lnTo>
                      <a:pt x="2305" y="144"/>
                    </a:lnTo>
                    <a:lnTo>
                      <a:pt x="2302" y="144"/>
                    </a:lnTo>
                    <a:lnTo>
                      <a:pt x="2300" y="144"/>
                    </a:lnTo>
                    <a:lnTo>
                      <a:pt x="2297" y="145"/>
                    </a:lnTo>
                    <a:lnTo>
                      <a:pt x="2296" y="148"/>
                    </a:lnTo>
                    <a:lnTo>
                      <a:pt x="2296" y="150"/>
                    </a:lnTo>
                    <a:lnTo>
                      <a:pt x="2296" y="150"/>
                    </a:lnTo>
                    <a:close/>
                    <a:moveTo>
                      <a:pt x="2333" y="150"/>
                    </a:moveTo>
                    <a:lnTo>
                      <a:pt x="2335" y="153"/>
                    </a:lnTo>
                    <a:lnTo>
                      <a:pt x="2336" y="156"/>
                    </a:lnTo>
                    <a:lnTo>
                      <a:pt x="2337" y="157"/>
                    </a:lnTo>
                    <a:lnTo>
                      <a:pt x="2338" y="158"/>
                    </a:lnTo>
                    <a:lnTo>
                      <a:pt x="2341" y="158"/>
                    </a:lnTo>
                    <a:lnTo>
                      <a:pt x="2342" y="158"/>
                    </a:lnTo>
                    <a:lnTo>
                      <a:pt x="2343" y="157"/>
                    </a:lnTo>
                    <a:lnTo>
                      <a:pt x="2346" y="156"/>
                    </a:lnTo>
                    <a:lnTo>
                      <a:pt x="2347" y="153"/>
                    </a:lnTo>
                    <a:lnTo>
                      <a:pt x="2347" y="150"/>
                    </a:lnTo>
                    <a:lnTo>
                      <a:pt x="2347" y="148"/>
                    </a:lnTo>
                    <a:lnTo>
                      <a:pt x="2346" y="145"/>
                    </a:lnTo>
                    <a:lnTo>
                      <a:pt x="2343" y="144"/>
                    </a:lnTo>
                    <a:lnTo>
                      <a:pt x="2341" y="144"/>
                    </a:lnTo>
                    <a:lnTo>
                      <a:pt x="2337" y="144"/>
                    </a:lnTo>
                    <a:lnTo>
                      <a:pt x="2336" y="145"/>
                    </a:lnTo>
                    <a:lnTo>
                      <a:pt x="2335" y="148"/>
                    </a:lnTo>
                    <a:lnTo>
                      <a:pt x="2333" y="150"/>
                    </a:lnTo>
                    <a:lnTo>
                      <a:pt x="2333" y="150"/>
                    </a:lnTo>
                    <a:close/>
                    <a:moveTo>
                      <a:pt x="2372" y="150"/>
                    </a:moveTo>
                    <a:lnTo>
                      <a:pt x="2372" y="153"/>
                    </a:lnTo>
                    <a:lnTo>
                      <a:pt x="2373" y="156"/>
                    </a:lnTo>
                    <a:lnTo>
                      <a:pt x="2376" y="157"/>
                    </a:lnTo>
                    <a:lnTo>
                      <a:pt x="2377" y="158"/>
                    </a:lnTo>
                    <a:lnTo>
                      <a:pt x="2379" y="158"/>
                    </a:lnTo>
                    <a:lnTo>
                      <a:pt x="2380" y="158"/>
                    </a:lnTo>
                    <a:lnTo>
                      <a:pt x="2381" y="157"/>
                    </a:lnTo>
                    <a:lnTo>
                      <a:pt x="2384" y="156"/>
                    </a:lnTo>
                    <a:lnTo>
                      <a:pt x="2385" y="153"/>
                    </a:lnTo>
                    <a:lnTo>
                      <a:pt x="2386" y="152"/>
                    </a:lnTo>
                    <a:lnTo>
                      <a:pt x="2386" y="150"/>
                    </a:lnTo>
                    <a:lnTo>
                      <a:pt x="2386" y="149"/>
                    </a:lnTo>
                    <a:lnTo>
                      <a:pt x="2385" y="148"/>
                    </a:lnTo>
                    <a:lnTo>
                      <a:pt x="2384" y="145"/>
                    </a:lnTo>
                    <a:lnTo>
                      <a:pt x="2381" y="144"/>
                    </a:lnTo>
                    <a:lnTo>
                      <a:pt x="2379" y="144"/>
                    </a:lnTo>
                    <a:lnTo>
                      <a:pt x="2376" y="144"/>
                    </a:lnTo>
                    <a:lnTo>
                      <a:pt x="2373" y="145"/>
                    </a:lnTo>
                    <a:lnTo>
                      <a:pt x="2372" y="148"/>
                    </a:lnTo>
                    <a:lnTo>
                      <a:pt x="2372" y="150"/>
                    </a:lnTo>
                    <a:lnTo>
                      <a:pt x="2372" y="150"/>
                    </a:lnTo>
                    <a:close/>
                    <a:moveTo>
                      <a:pt x="2198" y="119"/>
                    </a:moveTo>
                    <a:lnTo>
                      <a:pt x="2198" y="120"/>
                    </a:lnTo>
                    <a:lnTo>
                      <a:pt x="2198" y="121"/>
                    </a:lnTo>
                    <a:lnTo>
                      <a:pt x="2201" y="124"/>
                    </a:lnTo>
                    <a:lnTo>
                      <a:pt x="2203" y="125"/>
                    </a:lnTo>
                    <a:lnTo>
                      <a:pt x="2204" y="125"/>
                    </a:lnTo>
                    <a:lnTo>
                      <a:pt x="2208" y="125"/>
                    </a:lnTo>
                    <a:lnTo>
                      <a:pt x="2211" y="124"/>
                    </a:lnTo>
                    <a:lnTo>
                      <a:pt x="2212" y="123"/>
                    </a:lnTo>
                    <a:lnTo>
                      <a:pt x="2213" y="121"/>
                    </a:lnTo>
                    <a:lnTo>
                      <a:pt x="2213" y="120"/>
                    </a:lnTo>
                    <a:lnTo>
                      <a:pt x="2214" y="119"/>
                    </a:lnTo>
                    <a:lnTo>
                      <a:pt x="2213" y="118"/>
                    </a:lnTo>
                    <a:lnTo>
                      <a:pt x="2213" y="116"/>
                    </a:lnTo>
                    <a:lnTo>
                      <a:pt x="2212" y="116"/>
                    </a:lnTo>
                    <a:lnTo>
                      <a:pt x="2211" y="115"/>
                    </a:lnTo>
                    <a:lnTo>
                      <a:pt x="2208" y="113"/>
                    </a:lnTo>
                    <a:lnTo>
                      <a:pt x="2207" y="113"/>
                    </a:lnTo>
                    <a:lnTo>
                      <a:pt x="2204" y="113"/>
                    </a:lnTo>
                    <a:lnTo>
                      <a:pt x="2204" y="113"/>
                    </a:lnTo>
                    <a:lnTo>
                      <a:pt x="2203" y="113"/>
                    </a:lnTo>
                    <a:lnTo>
                      <a:pt x="2201" y="115"/>
                    </a:lnTo>
                    <a:lnTo>
                      <a:pt x="2198" y="116"/>
                    </a:lnTo>
                    <a:lnTo>
                      <a:pt x="2198" y="118"/>
                    </a:lnTo>
                    <a:lnTo>
                      <a:pt x="2198" y="119"/>
                    </a:lnTo>
                    <a:lnTo>
                      <a:pt x="2198" y="119"/>
                    </a:lnTo>
                    <a:close/>
                    <a:moveTo>
                      <a:pt x="2237" y="119"/>
                    </a:moveTo>
                    <a:lnTo>
                      <a:pt x="2237" y="120"/>
                    </a:lnTo>
                    <a:lnTo>
                      <a:pt x="2237" y="121"/>
                    </a:lnTo>
                    <a:lnTo>
                      <a:pt x="2239" y="124"/>
                    </a:lnTo>
                    <a:lnTo>
                      <a:pt x="2241" y="125"/>
                    </a:lnTo>
                    <a:lnTo>
                      <a:pt x="2243" y="125"/>
                    </a:lnTo>
                    <a:lnTo>
                      <a:pt x="2246" y="125"/>
                    </a:lnTo>
                    <a:lnTo>
                      <a:pt x="2248" y="124"/>
                    </a:lnTo>
                    <a:lnTo>
                      <a:pt x="2249" y="121"/>
                    </a:lnTo>
                    <a:lnTo>
                      <a:pt x="2249" y="119"/>
                    </a:lnTo>
                    <a:lnTo>
                      <a:pt x="2249" y="116"/>
                    </a:lnTo>
                    <a:lnTo>
                      <a:pt x="2248" y="115"/>
                    </a:lnTo>
                    <a:lnTo>
                      <a:pt x="2246" y="113"/>
                    </a:lnTo>
                    <a:lnTo>
                      <a:pt x="2244" y="113"/>
                    </a:lnTo>
                    <a:lnTo>
                      <a:pt x="2243" y="113"/>
                    </a:lnTo>
                    <a:lnTo>
                      <a:pt x="2242" y="113"/>
                    </a:lnTo>
                    <a:lnTo>
                      <a:pt x="2241" y="113"/>
                    </a:lnTo>
                    <a:lnTo>
                      <a:pt x="2239" y="115"/>
                    </a:lnTo>
                    <a:lnTo>
                      <a:pt x="2237" y="116"/>
                    </a:lnTo>
                    <a:lnTo>
                      <a:pt x="2237" y="118"/>
                    </a:lnTo>
                    <a:lnTo>
                      <a:pt x="2237" y="119"/>
                    </a:lnTo>
                    <a:lnTo>
                      <a:pt x="2237" y="119"/>
                    </a:lnTo>
                    <a:close/>
                    <a:moveTo>
                      <a:pt x="2275" y="119"/>
                    </a:moveTo>
                    <a:lnTo>
                      <a:pt x="2275" y="120"/>
                    </a:lnTo>
                    <a:lnTo>
                      <a:pt x="2276" y="121"/>
                    </a:lnTo>
                    <a:lnTo>
                      <a:pt x="2277" y="124"/>
                    </a:lnTo>
                    <a:lnTo>
                      <a:pt x="2280" y="125"/>
                    </a:lnTo>
                    <a:lnTo>
                      <a:pt x="2282" y="125"/>
                    </a:lnTo>
                    <a:lnTo>
                      <a:pt x="2285" y="125"/>
                    </a:lnTo>
                    <a:lnTo>
                      <a:pt x="2287" y="124"/>
                    </a:lnTo>
                    <a:lnTo>
                      <a:pt x="2288" y="121"/>
                    </a:lnTo>
                    <a:lnTo>
                      <a:pt x="2288" y="119"/>
                    </a:lnTo>
                    <a:lnTo>
                      <a:pt x="2288" y="116"/>
                    </a:lnTo>
                    <a:lnTo>
                      <a:pt x="2287" y="115"/>
                    </a:lnTo>
                    <a:lnTo>
                      <a:pt x="2285" y="113"/>
                    </a:lnTo>
                    <a:lnTo>
                      <a:pt x="2283" y="113"/>
                    </a:lnTo>
                    <a:lnTo>
                      <a:pt x="2282" y="113"/>
                    </a:lnTo>
                    <a:lnTo>
                      <a:pt x="2281" y="113"/>
                    </a:lnTo>
                    <a:lnTo>
                      <a:pt x="2280" y="113"/>
                    </a:lnTo>
                    <a:lnTo>
                      <a:pt x="2277" y="115"/>
                    </a:lnTo>
                    <a:lnTo>
                      <a:pt x="2276" y="116"/>
                    </a:lnTo>
                    <a:lnTo>
                      <a:pt x="2275" y="118"/>
                    </a:lnTo>
                    <a:lnTo>
                      <a:pt x="2275" y="119"/>
                    </a:lnTo>
                    <a:lnTo>
                      <a:pt x="2275" y="119"/>
                    </a:lnTo>
                    <a:close/>
                    <a:moveTo>
                      <a:pt x="2313" y="119"/>
                    </a:moveTo>
                    <a:lnTo>
                      <a:pt x="2313" y="121"/>
                    </a:lnTo>
                    <a:lnTo>
                      <a:pt x="2315" y="124"/>
                    </a:lnTo>
                    <a:lnTo>
                      <a:pt x="2317" y="125"/>
                    </a:lnTo>
                    <a:lnTo>
                      <a:pt x="2320" y="125"/>
                    </a:lnTo>
                    <a:lnTo>
                      <a:pt x="2323" y="125"/>
                    </a:lnTo>
                    <a:lnTo>
                      <a:pt x="2325" y="124"/>
                    </a:lnTo>
                    <a:lnTo>
                      <a:pt x="2326" y="121"/>
                    </a:lnTo>
                    <a:lnTo>
                      <a:pt x="2327" y="119"/>
                    </a:lnTo>
                    <a:lnTo>
                      <a:pt x="2326" y="116"/>
                    </a:lnTo>
                    <a:lnTo>
                      <a:pt x="2325" y="115"/>
                    </a:lnTo>
                    <a:lnTo>
                      <a:pt x="2323" y="113"/>
                    </a:lnTo>
                    <a:lnTo>
                      <a:pt x="2322" y="113"/>
                    </a:lnTo>
                    <a:lnTo>
                      <a:pt x="2320" y="113"/>
                    </a:lnTo>
                    <a:lnTo>
                      <a:pt x="2318" y="113"/>
                    </a:lnTo>
                    <a:lnTo>
                      <a:pt x="2317" y="113"/>
                    </a:lnTo>
                    <a:lnTo>
                      <a:pt x="2315" y="115"/>
                    </a:lnTo>
                    <a:lnTo>
                      <a:pt x="2313" y="116"/>
                    </a:lnTo>
                    <a:lnTo>
                      <a:pt x="2313" y="119"/>
                    </a:lnTo>
                    <a:lnTo>
                      <a:pt x="2313" y="119"/>
                    </a:lnTo>
                    <a:close/>
                    <a:moveTo>
                      <a:pt x="2352" y="119"/>
                    </a:moveTo>
                    <a:lnTo>
                      <a:pt x="2352" y="121"/>
                    </a:lnTo>
                    <a:lnTo>
                      <a:pt x="2353" y="124"/>
                    </a:lnTo>
                    <a:lnTo>
                      <a:pt x="2356" y="125"/>
                    </a:lnTo>
                    <a:lnTo>
                      <a:pt x="2358" y="125"/>
                    </a:lnTo>
                    <a:lnTo>
                      <a:pt x="2362" y="125"/>
                    </a:lnTo>
                    <a:lnTo>
                      <a:pt x="2363" y="124"/>
                    </a:lnTo>
                    <a:lnTo>
                      <a:pt x="2365" y="121"/>
                    </a:lnTo>
                    <a:lnTo>
                      <a:pt x="2366" y="119"/>
                    </a:lnTo>
                    <a:lnTo>
                      <a:pt x="2365" y="116"/>
                    </a:lnTo>
                    <a:lnTo>
                      <a:pt x="2363" y="115"/>
                    </a:lnTo>
                    <a:lnTo>
                      <a:pt x="2362" y="113"/>
                    </a:lnTo>
                    <a:lnTo>
                      <a:pt x="2360" y="113"/>
                    </a:lnTo>
                    <a:lnTo>
                      <a:pt x="2358" y="113"/>
                    </a:lnTo>
                    <a:lnTo>
                      <a:pt x="2357" y="113"/>
                    </a:lnTo>
                    <a:lnTo>
                      <a:pt x="2356" y="113"/>
                    </a:lnTo>
                    <a:lnTo>
                      <a:pt x="2353" y="115"/>
                    </a:lnTo>
                    <a:lnTo>
                      <a:pt x="2352" y="116"/>
                    </a:lnTo>
                    <a:lnTo>
                      <a:pt x="2352" y="119"/>
                    </a:lnTo>
                    <a:lnTo>
                      <a:pt x="2352" y="119"/>
                    </a:lnTo>
                    <a:close/>
                    <a:moveTo>
                      <a:pt x="2460" y="135"/>
                    </a:moveTo>
                    <a:lnTo>
                      <a:pt x="2457" y="135"/>
                    </a:lnTo>
                    <a:lnTo>
                      <a:pt x="2455" y="137"/>
                    </a:lnTo>
                    <a:lnTo>
                      <a:pt x="2454" y="138"/>
                    </a:lnTo>
                    <a:lnTo>
                      <a:pt x="2451" y="139"/>
                    </a:lnTo>
                    <a:lnTo>
                      <a:pt x="2450" y="142"/>
                    </a:lnTo>
                    <a:lnTo>
                      <a:pt x="2449" y="144"/>
                    </a:lnTo>
                    <a:lnTo>
                      <a:pt x="2447" y="148"/>
                    </a:lnTo>
                    <a:lnTo>
                      <a:pt x="2447" y="150"/>
                    </a:lnTo>
                    <a:lnTo>
                      <a:pt x="2447" y="153"/>
                    </a:lnTo>
                    <a:lnTo>
                      <a:pt x="2449" y="156"/>
                    </a:lnTo>
                    <a:lnTo>
                      <a:pt x="2450" y="158"/>
                    </a:lnTo>
                    <a:lnTo>
                      <a:pt x="2451" y="161"/>
                    </a:lnTo>
                    <a:lnTo>
                      <a:pt x="2454" y="162"/>
                    </a:lnTo>
                    <a:lnTo>
                      <a:pt x="2455" y="163"/>
                    </a:lnTo>
                    <a:lnTo>
                      <a:pt x="2457" y="164"/>
                    </a:lnTo>
                    <a:lnTo>
                      <a:pt x="2460" y="164"/>
                    </a:lnTo>
                    <a:lnTo>
                      <a:pt x="2464" y="164"/>
                    </a:lnTo>
                    <a:lnTo>
                      <a:pt x="2466" y="163"/>
                    </a:lnTo>
                    <a:lnTo>
                      <a:pt x="2470" y="162"/>
                    </a:lnTo>
                    <a:lnTo>
                      <a:pt x="2471" y="161"/>
                    </a:lnTo>
                    <a:lnTo>
                      <a:pt x="2474" y="158"/>
                    </a:lnTo>
                    <a:lnTo>
                      <a:pt x="2475" y="156"/>
                    </a:lnTo>
                    <a:lnTo>
                      <a:pt x="2476" y="153"/>
                    </a:lnTo>
                    <a:lnTo>
                      <a:pt x="2476" y="150"/>
                    </a:lnTo>
                    <a:lnTo>
                      <a:pt x="2476" y="148"/>
                    </a:lnTo>
                    <a:lnTo>
                      <a:pt x="2475" y="144"/>
                    </a:lnTo>
                    <a:lnTo>
                      <a:pt x="2474" y="142"/>
                    </a:lnTo>
                    <a:lnTo>
                      <a:pt x="2471" y="139"/>
                    </a:lnTo>
                    <a:lnTo>
                      <a:pt x="2470" y="138"/>
                    </a:lnTo>
                    <a:lnTo>
                      <a:pt x="2466" y="137"/>
                    </a:lnTo>
                    <a:lnTo>
                      <a:pt x="2464" y="135"/>
                    </a:lnTo>
                    <a:lnTo>
                      <a:pt x="2460" y="135"/>
                    </a:lnTo>
                    <a:lnTo>
                      <a:pt x="246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>
                <a:off x="5543640" y="6562440"/>
                <a:ext cx="269640" cy="33840"/>
              </a:xfrm>
              <a:custGeom>
                <a:avLst/>
                <a:gdLst/>
                <a:ahLst/>
                <a:rect l="l" t="t" r="r" b="b"/>
                <a:pathLst>
                  <a:path w="396" h="62">
                    <a:moveTo>
                      <a:pt x="60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60" y="62"/>
                    </a:lnTo>
                    <a:lnTo>
                      <a:pt x="160" y="61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8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  <a:moveTo>
                      <a:pt x="293" y="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4" y="1"/>
                    </a:lnTo>
                    <a:lnTo>
                      <a:pt x="233" y="3"/>
                    </a:lnTo>
                    <a:lnTo>
                      <a:pt x="233" y="5"/>
                    </a:lnTo>
                    <a:lnTo>
                      <a:pt x="233" y="5"/>
                    </a:lnTo>
                    <a:lnTo>
                      <a:pt x="233" y="59"/>
                    </a:lnTo>
                    <a:lnTo>
                      <a:pt x="233" y="61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391" y="62"/>
                    </a:lnTo>
                    <a:lnTo>
                      <a:pt x="392" y="62"/>
                    </a:lnTo>
                    <a:lnTo>
                      <a:pt x="394" y="62"/>
                    </a:lnTo>
                    <a:lnTo>
                      <a:pt x="394" y="61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"/>
                    </a:lnTo>
                    <a:lnTo>
                      <a:pt x="394" y="3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>
                <a:off x="5549760" y="6569280"/>
                <a:ext cx="255600" cy="8280"/>
              </a:xfrm>
              <a:custGeom>
                <a:avLst/>
                <a:gdLst/>
                <a:ahLst/>
                <a:rect l="l" t="t" r="r" b="b"/>
                <a:pathLst>
                  <a:path w="376" h="17">
                    <a:moveTo>
                      <a:pt x="143" y="17"/>
                    </a:moveTo>
                    <a:lnTo>
                      <a:pt x="14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3" y="17"/>
                    </a:lnTo>
                    <a:close/>
                    <a:moveTo>
                      <a:pt x="376" y="17"/>
                    </a:moveTo>
                    <a:lnTo>
                      <a:pt x="376" y="0"/>
                    </a:lnTo>
                    <a:lnTo>
                      <a:pt x="236" y="0"/>
                    </a:lnTo>
                    <a:lnTo>
                      <a:pt x="236" y="17"/>
                    </a:lnTo>
                    <a:lnTo>
                      <a:pt x="376" y="17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>
                <a:off x="5549760" y="6569280"/>
                <a:ext cx="97560" cy="828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>
                <a:off x="5709960" y="6569280"/>
                <a:ext cx="95400" cy="828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>
                <a:off x="4273200" y="6435360"/>
                <a:ext cx="2028960" cy="187920"/>
              </a:xfrm>
              <a:custGeom>
                <a:avLst/>
                <a:gdLst/>
                <a:ahLst/>
                <a:rect l="l" t="t" r="r" b="b"/>
                <a:pathLst>
                  <a:path w="2983" h="337">
                    <a:moveTo>
                      <a:pt x="2974" y="259"/>
                    </a:moveTo>
                    <a:lnTo>
                      <a:pt x="2983" y="259"/>
                    </a:lnTo>
                    <a:lnTo>
                      <a:pt x="2983" y="221"/>
                    </a:lnTo>
                    <a:lnTo>
                      <a:pt x="2947" y="221"/>
                    </a:lnTo>
                    <a:lnTo>
                      <a:pt x="2947" y="195"/>
                    </a:lnTo>
                    <a:lnTo>
                      <a:pt x="2931" y="195"/>
                    </a:lnTo>
                    <a:lnTo>
                      <a:pt x="2931" y="184"/>
                    </a:lnTo>
                    <a:lnTo>
                      <a:pt x="2870" y="184"/>
                    </a:lnTo>
                    <a:lnTo>
                      <a:pt x="2870" y="195"/>
                    </a:lnTo>
                    <a:lnTo>
                      <a:pt x="2854" y="195"/>
                    </a:lnTo>
                    <a:lnTo>
                      <a:pt x="2854" y="221"/>
                    </a:lnTo>
                    <a:lnTo>
                      <a:pt x="2817" y="221"/>
                    </a:lnTo>
                    <a:lnTo>
                      <a:pt x="2817" y="259"/>
                    </a:lnTo>
                    <a:lnTo>
                      <a:pt x="2827" y="259"/>
                    </a:lnTo>
                    <a:lnTo>
                      <a:pt x="2827" y="284"/>
                    </a:lnTo>
                    <a:lnTo>
                      <a:pt x="2817" y="284"/>
                    </a:lnTo>
                    <a:lnTo>
                      <a:pt x="2817" y="323"/>
                    </a:lnTo>
                    <a:lnTo>
                      <a:pt x="2983" y="323"/>
                    </a:lnTo>
                    <a:lnTo>
                      <a:pt x="2983" y="284"/>
                    </a:lnTo>
                    <a:lnTo>
                      <a:pt x="2974" y="284"/>
                    </a:lnTo>
                    <a:lnTo>
                      <a:pt x="2974" y="259"/>
                    </a:lnTo>
                    <a:close/>
                    <a:moveTo>
                      <a:pt x="157" y="264"/>
                    </a:moveTo>
                    <a:lnTo>
                      <a:pt x="167" y="264"/>
                    </a:lnTo>
                    <a:lnTo>
                      <a:pt x="167" y="300"/>
                    </a:lnTo>
                    <a:lnTo>
                      <a:pt x="131" y="300"/>
                    </a:lnTo>
                    <a:lnTo>
                      <a:pt x="131" y="326"/>
                    </a:lnTo>
                    <a:lnTo>
                      <a:pt x="115" y="326"/>
                    </a:lnTo>
                    <a:lnTo>
                      <a:pt x="115" y="337"/>
                    </a:lnTo>
                    <a:lnTo>
                      <a:pt x="52" y="337"/>
                    </a:lnTo>
                    <a:lnTo>
                      <a:pt x="52" y="326"/>
                    </a:lnTo>
                    <a:lnTo>
                      <a:pt x="36" y="326"/>
                    </a:lnTo>
                    <a:lnTo>
                      <a:pt x="36" y="300"/>
                    </a:lnTo>
                    <a:lnTo>
                      <a:pt x="0" y="300"/>
                    </a:lnTo>
                    <a:lnTo>
                      <a:pt x="2" y="264"/>
                    </a:lnTo>
                    <a:lnTo>
                      <a:pt x="8" y="264"/>
                    </a:lnTo>
                    <a:lnTo>
                      <a:pt x="8" y="236"/>
                    </a:lnTo>
                    <a:lnTo>
                      <a:pt x="2" y="236"/>
                    </a:lnTo>
                    <a:lnTo>
                      <a:pt x="2" y="198"/>
                    </a:lnTo>
                    <a:lnTo>
                      <a:pt x="167" y="198"/>
                    </a:lnTo>
                    <a:lnTo>
                      <a:pt x="167" y="236"/>
                    </a:lnTo>
                    <a:lnTo>
                      <a:pt x="157" y="236"/>
                    </a:lnTo>
                    <a:lnTo>
                      <a:pt x="157" y="264"/>
                    </a:lnTo>
                    <a:close/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>
                <a:off x="6190200" y="6538320"/>
                <a:ext cx="112320" cy="76320"/>
              </a:xfrm>
              <a:custGeom>
                <a:avLst/>
                <a:gdLst/>
                <a:ahLst/>
                <a:rect l="l" t="t" r="r" b="b"/>
                <a:pathLst>
                  <a:path w="166" h="139">
                    <a:moveTo>
                      <a:pt x="157" y="75"/>
                    </a:moveTo>
                    <a:lnTo>
                      <a:pt x="166" y="75"/>
                    </a:lnTo>
                    <a:lnTo>
                      <a:pt x="166" y="37"/>
                    </a:lnTo>
                    <a:lnTo>
                      <a:pt x="130" y="37"/>
                    </a:lnTo>
                    <a:lnTo>
                      <a:pt x="130" y="11"/>
                    </a:lnTo>
                    <a:lnTo>
                      <a:pt x="114" y="11"/>
                    </a:lnTo>
                    <a:lnTo>
                      <a:pt x="114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37" y="1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100"/>
                    </a:lnTo>
                    <a:lnTo>
                      <a:pt x="0" y="100"/>
                    </a:lnTo>
                    <a:lnTo>
                      <a:pt x="0" y="139"/>
                    </a:lnTo>
                    <a:lnTo>
                      <a:pt x="166" y="139"/>
                    </a:lnTo>
                    <a:lnTo>
                      <a:pt x="166" y="100"/>
                    </a:lnTo>
                    <a:lnTo>
                      <a:pt x="157" y="100"/>
                    </a:lnTo>
                    <a:lnTo>
                      <a:pt x="157" y="75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4273200" y="6545160"/>
                <a:ext cx="114840" cy="7812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66"/>
                    </a:moveTo>
                    <a:lnTo>
                      <a:pt x="167" y="66"/>
                    </a:lnTo>
                    <a:lnTo>
                      <a:pt x="167" y="102"/>
                    </a:lnTo>
                    <a:lnTo>
                      <a:pt x="131" y="102"/>
                    </a:lnTo>
                    <a:lnTo>
                      <a:pt x="131" y="128"/>
                    </a:lnTo>
                    <a:lnTo>
                      <a:pt x="115" y="128"/>
                    </a:lnTo>
                    <a:lnTo>
                      <a:pt x="115" y="139"/>
                    </a:lnTo>
                    <a:lnTo>
                      <a:pt x="52" y="139"/>
                    </a:lnTo>
                    <a:lnTo>
                      <a:pt x="52" y="128"/>
                    </a:lnTo>
                    <a:lnTo>
                      <a:pt x="36" y="128"/>
                    </a:lnTo>
                    <a:lnTo>
                      <a:pt x="36" y="102"/>
                    </a:lnTo>
                    <a:lnTo>
                      <a:pt x="0" y="102"/>
                    </a:lnTo>
                    <a:lnTo>
                      <a:pt x="2" y="66"/>
                    </a:lnTo>
                    <a:lnTo>
                      <a:pt x="8" y="66"/>
                    </a:lnTo>
                    <a:lnTo>
                      <a:pt x="8" y="38"/>
                    </a:lnTo>
                    <a:lnTo>
                      <a:pt x="2" y="38"/>
                    </a:lnTo>
                    <a:lnTo>
                      <a:pt x="2" y="0"/>
                    </a:lnTo>
                    <a:lnTo>
                      <a:pt x="167" y="0"/>
                    </a:lnTo>
                    <a:lnTo>
                      <a:pt x="167" y="38"/>
                    </a:lnTo>
                    <a:lnTo>
                      <a:pt x="157" y="38"/>
                    </a:lnTo>
                    <a:lnTo>
                      <a:pt x="157" y="66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>
                <a:off x="4273200" y="6435360"/>
                <a:ext cx="114840" cy="7740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>
                <a:off x="4273200" y="6445800"/>
                <a:ext cx="2031480" cy="165600"/>
              </a:xfrm>
              <a:custGeom>
                <a:avLst/>
                <a:gdLst/>
                <a:ahLst/>
                <a:rect l="l" t="t" r="r" b="b"/>
                <a:pathLst>
                  <a:path w="2985" h="301">
                    <a:moveTo>
                      <a:pt x="36" y="301"/>
                    </a:moveTo>
                    <a:lnTo>
                      <a:pt x="0" y="301"/>
                    </a:lnTo>
                    <a:lnTo>
                      <a:pt x="0" y="290"/>
                    </a:lnTo>
                    <a:lnTo>
                      <a:pt x="36" y="290"/>
                    </a:lnTo>
                    <a:lnTo>
                      <a:pt x="36" y="301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67" y="301"/>
                    </a:moveTo>
                    <a:lnTo>
                      <a:pt x="134" y="301"/>
                    </a:lnTo>
                    <a:lnTo>
                      <a:pt x="134" y="290"/>
                    </a:lnTo>
                    <a:lnTo>
                      <a:pt x="167" y="290"/>
                    </a:lnTo>
                    <a:lnTo>
                      <a:pt x="167" y="301"/>
                    </a:lnTo>
                    <a:close/>
                    <a:moveTo>
                      <a:pt x="167" y="0"/>
                    </a:moveTo>
                    <a:lnTo>
                      <a:pt x="134" y="0"/>
                    </a:lnTo>
                    <a:lnTo>
                      <a:pt x="134" y="12"/>
                    </a:lnTo>
                    <a:lnTo>
                      <a:pt x="167" y="12"/>
                    </a:lnTo>
                    <a:lnTo>
                      <a:pt x="167" y="0"/>
                    </a:lnTo>
                    <a:close/>
                    <a:moveTo>
                      <a:pt x="2985" y="185"/>
                    </a:moveTo>
                    <a:lnTo>
                      <a:pt x="2949" y="185"/>
                    </a:lnTo>
                    <a:lnTo>
                      <a:pt x="2949" y="199"/>
                    </a:lnTo>
                    <a:lnTo>
                      <a:pt x="2985" y="199"/>
                    </a:lnTo>
                    <a:lnTo>
                      <a:pt x="2985" y="185"/>
                    </a:lnTo>
                    <a:close/>
                  </a:path>
                </a:pathLst>
              </a:custGeom>
              <a:solidFill>
                <a:srgbClr val="82938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>
                <a:off x="4273200" y="6606720"/>
                <a:ext cx="25200" cy="4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>
                <a:off x="4273200" y="6445800"/>
                <a:ext cx="25200" cy="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>
                <a:off x="4363920" y="6606720"/>
                <a:ext cx="23760" cy="4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>
                <a:off x="4363920" y="6445800"/>
                <a:ext cx="23760" cy="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6279840" y="6548040"/>
                <a:ext cx="25200" cy="7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>
                <a:off x="3808440" y="6089040"/>
                <a:ext cx="2833200" cy="295920"/>
              </a:xfrm>
              <a:custGeom>
                <a:avLst/>
                <a:gdLst/>
                <a:ahLst/>
                <a:rect l="l" t="t" r="r" b="b"/>
                <a:pathLst>
                  <a:path w="4168" h="534">
                    <a:moveTo>
                      <a:pt x="4168" y="499"/>
                    </a:moveTo>
                    <a:lnTo>
                      <a:pt x="4168" y="495"/>
                    </a:lnTo>
                    <a:lnTo>
                      <a:pt x="4168" y="492"/>
                    </a:lnTo>
                    <a:lnTo>
                      <a:pt x="4167" y="488"/>
                    </a:lnTo>
                    <a:lnTo>
                      <a:pt x="4165" y="485"/>
                    </a:lnTo>
                    <a:lnTo>
                      <a:pt x="4163" y="478"/>
                    </a:lnTo>
                    <a:lnTo>
                      <a:pt x="4158" y="473"/>
                    </a:lnTo>
                    <a:lnTo>
                      <a:pt x="4153" y="468"/>
                    </a:lnTo>
                    <a:lnTo>
                      <a:pt x="4146" y="466"/>
                    </a:lnTo>
                    <a:lnTo>
                      <a:pt x="4143" y="464"/>
                    </a:lnTo>
                    <a:lnTo>
                      <a:pt x="4139" y="463"/>
                    </a:lnTo>
                    <a:lnTo>
                      <a:pt x="4136" y="463"/>
                    </a:lnTo>
                    <a:lnTo>
                      <a:pt x="4133" y="463"/>
                    </a:lnTo>
                    <a:lnTo>
                      <a:pt x="4129" y="463"/>
                    </a:lnTo>
                    <a:lnTo>
                      <a:pt x="4125" y="463"/>
                    </a:lnTo>
                    <a:lnTo>
                      <a:pt x="4123" y="464"/>
                    </a:lnTo>
                    <a:lnTo>
                      <a:pt x="4119" y="466"/>
                    </a:lnTo>
                    <a:lnTo>
                      <a:pt x="4114" y="468"/>
                    </a:lnTo>
                    <a:lnTo>
                      <a:pt x="4109" y="473"/>
                    </a:lnTo>
                    <a:lnTo>
                      <a:pt x="4104" y="478"/>
                    </a:lnTo>
                    <a:lnTo>
                      <a:pt x="4101" y="485"/>
                    </a:lnTo>
                    <a:lnTo>
                      <a:pt x="4100" y="488"/>
                    </a:lnTo>
                    <a:lnTo>
                      <a:pt x="4099" y="492"/>
                    </a:lnTo>
                    <a:lnTo>
                      <a:pt x="4099" y="495"/>
                    </a:lnTo>
                    <a:lnTo>
                      <a:pt x="4098" y="499"/>
                    </a:lnTo>
                    <a:lnTo>
                      <a:pt x="4099" y="502"/>
                    </a:lnTo>
                    <a:lnTo>
                      <a:pt x="4099" y="506"/>
                    </a:lnTo>
                    <a:lnTo>
                      <a:pt x="4100" y="509"/>
                    </a:lnTo>
                    <a:lnTo>
                      <a:pt x="4101" y="512"/>
                    </a:lnTo>
                    <a:lnTo>
                      <a:pt x="4104" y="517"/>
                    </a:lnTo>
                    <a:lnTo>
                      <a:pt x="4109" y="523"/>
                    </a:lnTo>
                    <a:lnTo>
                      <a:pt x="4114" y="528"/>
                    </a:lnTo>
                    <a:lnTo>
                      <a:pt x="4119" y="530"/>
                    </a:lnTo>
                    <a:lnTo>
                      <a:pt x="4123" y="531"/>
                    </a:lnTo>
                    <a:lnTo>
                      <a:pt x="4125" y="533"/>
                    </a:lnTo>
                    <a:lnTo>
                      <a:pt x="4129" y="533"/>
                    </a:lnTo>
                    <a:lnTo>
                      <a:pt x="4133" y="534"/>
                    </a:lnTo>
                    <a:lnTo>
                      <a:pt x="4136" y="533"/>
                    </a:lnTo>
                    <a:lnTo>
                      <a:pt x="4139" y="533"/>
                    </a:lnTo>
                    <a:lnTo>
                      <a:pt x="4143" y="531"/>
                    </a:lnTo>
                    <a:lnTo>
                      <a:pt x="4146" y="530"/>
                    </a:lnTo>
                    <a:lnTo>
                      <a:pt x="4153" y="528"/>
                    </a:lnTo>
                    <a:lnTo>
                      <a:pt x="4158" y="523"/>
                    </a:lnTo>
                    <a:lnTo>
                      <a:pt x="4163" y="517"/>
                    </a:lnTo>
                    <a:lnTo>
                      <a:pt x="4165" y="512"/>
                    </a:lnTo>
                    <a:lnTo>
                      <a:pt x="4167" y="509"/>
                    </a:lnTo>
                    <a:lnTo>
                      <a:pt x="4168" y="506"/>
                    </a:lnTo>
                    <a:lnTo>
                      <a:pt x="4168" y="502"/>
                    </a:lnTo>
                    <a:lnTo>
                      <a:pt x="4168" y="499"/>
                    </a:lnTo>
                    <a:lnTo>
                      <a:pt x="4168" y="499"/>
                    </a:lnTo>
                    <a:close/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>
                <a:off x="6594120" y="634680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6"/>
                    </a:moveTo>
                    <a:lnTo>
                      <a:pt x="70" y="32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7" y="22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3" y="49"/>
                    </a:lnTo>
                    <a:lnTo>
                      <a:pt x="6" y="54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1" y="67"/>
                    </a:lnTo>
                    <a:lnTo>
                      <a:pt x="25" y="68"/>
                    </a:lnTo>
                    <a:lnTo>
                      <a:pt x="27" y="70"/>
                    </a:lnTo>
                    <a:lnTo>
                      <a:pt x="31" y="70"/>
                    </a:lnTo>
                    <a:lnTo>
                      <a:pt x="35" y="71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5" y="68"/>
                    </a:lnTo>
                    <a:lnTo>
                      <a:pt x="48" y="67"/>
                    </a:lnTo>
                    <a:lnTo>
                      <a:pt x="55" y="65"/>
                    </a:lnTo>
                    <a:lnTo>
                      <a:pt x="60" y="60"/>
                    </a:lnTo>
                    <a:lnTo>
                      <a:pt x="65" y="54"/>
                    </a:lnTo>
                    <a:lnTo>
                      <a:pt x="67" y="49"/>
                    </a:lnTo>
                    <a:lnTo>
                      <a:pt x="69" y="46"/>
                    </a:lnTo>
                    <a:lnTo>
                      <a:pt x="70" y="43"/>
                    </a:lnTo>
                    <a:lnTo>
                      <a:pt x="70" y="39"/>
                    </a:lnTo>
                    <a:lnTo>
                      <a:pt x="70" y="36"/>
                    </a:lnTo>
                    <a:lnTo>
                      <a:pt x="70" y="3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>
                <a:off x="3808440" y="6089040"/>
                <a:ext cx="45000" cy="374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>
                <a:off x="6001560" y="6110280"/>
                <a:ext cx="47520" cy="360720"/>
              </a:xfrm>
              <a:custGeom>
                <a:avLst/>
                <a:gdLst/>
                <a:ahLst/>
                <a:rect l="l" t="t" r="r" b="b"/>
                <a:pathLst>
                  <a:path w="70" h="649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78"/>
                    </a:moveTo>
                    <a:lnTo>
                      <a:pt x="38" y="578"/>
                    </a:lnTo>
                    <a:lnTo>
                      <a:pt x="42" y="579"/>
                    </a:lnTo>
                    <a:lnTo>
                      <a:pt x="46" y="581"/>
                    </a:lnTo>
                    <a:lnTo>
                      <a:pt x="50" y="582"/>
                    </a:lnTo>
                    <a:lnTo>
                      <a:pt x="52" y="583"/>
                    </a:lnTo>
                    <a:lnTo>
                      <a:pt x="56" y="586"/>
                    </a:lnTo>
                    <a:lnTo>
                      <a:pt x="58" y="587"/>
                    </a:lnTo>
                    <a:lnTo>
                      <a:pt x="62" y="590"/>
                    </a:lnTo>
                    <a:lnTo>
                      <a:pt x="65" y="593"/>
                    </a:lnTo>
                    <a:lnTo>
                      <a:pt x="66" y="597"/>
                    </a:lnTo>
                    <a:lnTo>
                      <a:pt x="67" y="601"/>
                    </a:lnTo>
                    <a:lnTo>
                      <a:pt x="68" y="603"/>
                    </a:lnTo>
                    <a:lnTo>
                      <a:pt x="70" y="607"/>
                    </a:lnTo>
                    <a:lnTo>
                      <a:pt x="70" y="611"/>
                    </a:lnTo>
                    <a:lnTo>
                      <a:pt x="70" y="615"/>
                    </a:lnTo>
                    <a:lnTo>
                      <a:pt x="68" y="620"/>
                    </a:lnTo>
                    <a:lnTo>
                      <a:pt x="68" y="622"/>
                    </a:lnTo>
                    <a:lnTo>
                      <a:pt x="67" y="625"/>
                    </a:lnTo>
                    <a:lnTo>
                      <a:pt x="67" y="627"/>
                    </a:lnTo>
                    <a:lnTo>
                      <a:pt x="66" y="631"/>
                    </a:lnTo>
                    <a:lnTo>
                      <a:pt x="63" y="634"/>
                    </a:lnTo>
                    <a:lnTo>
                      <a:pt x="62" y="636"/>
                    </a:lnTo>
                    <a:lnTo>
                      <a:pt x="60" y="639"/>
                    </a:lnTo>
                    <a:lnTo>
                      <a:pt x="57" y="640"/>
                    </a:lnTo>
                    <a:lnTo>
                      <a:pt x="52" y="644"/>
                    </a:lnTo>
                    <a:lnTo>
                      <a:pt x="47" y="646"/>
                    </a:lnTo>
                    <a:lnTo>
                      <a:pt x="45" y="648"/>
                    </a:lnTo>
                    <a:lnTo>
                      <a:pt x="41" y="649"/>
                    </a:lnTo>
                    <a:lnTo>
                      <a:pt x="38" y="649"/>
                    </a:lnTo>
                    <a:lnTo>
                      <a:pt x="35" y="649"/>
                    </a:lnTo>
                    <a:lnTo>
                      <a:pt x="31" y="649"/>
                    </a:lnTo>
                    <a:lnTo>
                      <a:pt x="27" y="649"/>
                    </a:lnTo>
                    <a:lnTo>
                      <a:pt x="23" y="648"/>
                    </a:lnTo>
                    <a:lnTo>
                      <a:pt x="20" y="646"/>
                    </a:lnTo>
                    <a:lnTo>
                      <a:pt x="16" y="644"/>
                    </a:lnTo>
                    <a:lnTo>
                      <a:pt x="13" y="641"/>
                    </a:lnTo>
                    <a:lnTo>
                      <a:pt x="10" y="639"/>
                    </a:lnTo>
                    <a:lnTo>
                      <a:pt x="7" y="635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2" y="626"/>
                    </a:lnTo>
                    <a:lnTo>
                      <a:pt x="1" y="622"/>
                    </a:lnTo>
                    <a:lnTo>
                      <a:pt x="0" y="619"/>
                    </a:lnTo>
                    <a:lnTo>
                      <a:pt x="0" y="615"/>
                    </a:lnTo>
                    <a:lnTo>
                      <a:pt x="0" y="612"/>
                    </a:lnTo>
                    <a:lnTo>
                      <a:pt x="1" y="609"/>
                    </a:lnTo>
                    <a:lnTo>
                      <a:pt x="1" y="605"/>
                    </a:lnTo>
                    <a:lnTo>
                      <a:pt x="2" y="602"/>
                    </a:lnTo>
                    <a:lnTo>
                      <a:pt x="2" y="598"/>
                    </a:lnTo>
                    <a:lnTo>
                      <a:pt x="3" y="596"/>
                    </a:lnTo>
                    <a:lnTo>
                      <a:pt x="6" y="593"/>
                    </a:lnTo>
                    <a:lnTo>
                      <a:pt x="7" y="592"/>
                    </a:lnTo>
                    <a:lnTo>
                      <a:pt x="12" y="588"/>
                    </a:lnTo>
                    <a:lnTo>
                      <a:pt x="15" y="586"/>
                    </a:lnTo>
                    <a:lnTo>
                      <a:pt x="17" y="583"/>
                    </a:lnTo>
                    <a:lnTo>
                      <a:pt x="20" y="582"/>
                    </a:lnTo>
                    <a:lnTo>
                      <a:pt x="22" y="581"/>
                    </a:lnTo>
                    <a:lnTo>
                      <a:pt x="26" y="579"/>
                    </a:lnTo>
                    <a:lnTo>
                      <a:pt x="28" y="579"/>
                    </a:lnTo>
                    <a:lnTo>
                      <a:pt x="35" y="578"/>
                    </a:lnTo>
                    <a:lnTo>
                      <a:pt x="35" y="578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001560" y="611028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9" name=""/>
              <p:cNvSpPr/>
              <p:nvPr/>
            </p:nvSpPr>
            <p:spPr>
              <a:xfrm>
                <a:off x="6001560" y="6432120"/>
                <a:ext cx="47520" cy="388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1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0" y="33"/>
                    </a:lnTo>
                    <a:lnTo>
                      <a:pt x="70" y="37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60" y="61"/>
                    </a:lnTo>
                    <a:lnTo>
                      <a:pt x="57" y="62"/>
                    </a:lnTo>
                    <a:lnTo>
                      <a:pt x="52" y="66"/>
                    </a:lnTo>
                    <a:lnTo>
                      <a:pt x="47" y="68"/>
                    </a:lnTo>
                    <a:lnTo>
                      <a:pt x="45" y="70"/>
                    </a:lnTo>
                    <a:lnTo>
                      <a:pt x="41" y="71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71"/>
                    </a:lnTo>
                    <a:lnTo>
                      <a:pt x="23" y="70"/>
                    </a:lnTo>
                    <a:lnTo>
                      <a:pt x="20" y="68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10" y="61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0" name=""/>
              <p:cNvSpPr/>
              <p:nvPr/>
            </p:nvSpPr>
            <p:spPr>
              <a:xfrm>
                <a:off x="6014520" y="6122160"/>
                <a:ext cx="20160" cy="337680"/>
              </a:xfrm>
              <a:custGeom>
                <a:avLst/>
                <a:gdLst/>
                <a:ahLst/>
                <a:rect l="l" t="t" r="r" b="b"/>
                <a:pathLst>
                  <a:path w="30" h="608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5"/>
                    </a:moveTo>
                    <a:lnTo>
                      <a:pt x="8" y="603"/>
                    </a:lnTo>
                    <a:lnTo>
                      <a:pt x="11" y="601"/>
                    </a:lnTo>
                    <a:lnTo>
                      <a:pt x="15" y="601"/>
                    </a:lnTo>
                    <a:lnTo>
                      <a:pt x="18" y="601"/>
                    </a:lnTo>
                    <a:lnTo>
                      <a:pt x="21" y="603"/>
                    </a:lnTo>
                    <a:lnTo>
                      <a:pt x="21" y="603"/>
                    </a:lnTo>
                    <a:lnTo>
                      <a:pt x="21" y="605"/>
                    </a:lnTo>
                    <a:lnTo>
                      <a:pt x="23" y="606"/>
                    </a:lnTo>
                    <a:lnTo>
                      <a:pt x="25" y="608"/>
                    </a:lnTo>
                    <a:lnTo>
                      <a:pt x="27" y="606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30" y="604"/>
                    </a:lnTo>
                    <a:lnTo>
                      <a:pt x="30" y="603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6" y="599"/>
                    </a:lnTo>
                    <a:lnTo>
                      <a:pt x="25" y="595"/>
                    </a:lnTo>
                    <a:lnTo>
                      <a:pt x="25" y="593"/>
                    </a:lnTo>
                    <a:lnTo>
                      <a:pt x="25" y="589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8" y="585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8" y="581"/>
                    </a:lnTo>
                    <a:lnTo>
                      <a:pt x="28" y="580"/>
                    </a:lnTo>
                    <a:lnTo>
                      <a:pt x="28" y="580"/>
                    </a:lnTo>
                    <a:lnTo>
                      <a:pt x="28" y="579"/>
                    </a:lnTo>
                    <a:lnTo>
                      <a:pt x="27" y="579"/>
                    </a:lnTo>
                    <a:lnTo>
                      <a:pt x="25" y="579"/>
                    </a:lnTo>
                    <a:lnTo>
                      <a:pt x="25" y="579"/>
                    </a:lnTo>
                    <a:lnTo>
                      <a:pt x="23" y="579"/>
                    </a:lnTo>
                    <a:lnTo>
                      <a:pt x="23" y="579"/>
                    </a:lnTo>
                    <a:lnTo>
                      <a:pt x="21" y="580"/>
                    </a:lnTo>
                    <a:lnTo>
                      <a:pt x="20" y="582"/>
                    </a:lnTo>
                    <a:lnTo>
                      <a:pt x="18" y="582"/>
                    </a:lnTo>
                    <a:lnTo>
                      <a:pt x="16" y="584"/>
                    </a:lnTo>
                    <a:lnTo>
                      <a:pt x="15" y="584"/>
                    </a:lnTo>
                    <a:lnTo>
                      <a:pt x="13" y="584"/>
                    </a:lnTo>
                    <a:lnTo>
                      <a:pt x="11" y="582"/>
                    </a:lnTo>
                    <a:lnTo>
                      <a:pt x="10" y="582"/>
                    </a:lnTo>
                    <a:lnTo>
                      <a:pt x="8" y="580"/>
                    </a:lnTo>
                    <a:lnTo>
                      <a:pt x="8" y="580"/>
                    </a:lnTo>
                    <a:lnTo>
                      <a:pt x="6" y="579"/>
                    </a:lnTo>
                    <a:lnTo>
                      <a:pt x="5" y="579"/>
                    </a:lnTo>
                    <a:lnTo>
                      <a:pt x="5" y="579"/>
                    </a:lnTo>
                    <a:lnTo>
                      <a:pt x="3" y="579"/>
                    </a:lnTo>
                    <a:lnTo>
                      <a:pt x="1" y="579"/>
                    </a:lnTo>
                    <a:lnTo>
                      <a:pt x="1" y="579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4"/>
                    </a:lnTo>
                    <a:lnTo>
                      <a:pt x="1" y="585"/>
                    </a:lnTo>
                    <a:lnTo>
                      <a:pt x="1" y="585"/>
                    </a:lnTo>
                    <a:lnTo>
                      <a:pt x="3" y="588"/>
                    </a:lnTo>
                    <a:lnTo>
                      <a:pt x="5" y="589"/>
                    </a:lnTo>
                    <a:lnTo>
                      <a:pt x="5" y="593"/>
                    </a:lnTo>
                    <a:lnTo>
                      <a:pt x="5" y="595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1" y="601"/>
                    </a:lnTo>
                    <a:lnTo>
                      <a:pt x="0" y="601"/>
                    </a:lnTo>
                    <a:lnTo>
                      <a:pt x="0" y="603"/>
                    </a:lnTo>
                    <a:lnTo>
                      <a:pt x="0" y="604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3" y="606"/>
                    </a:lnTo>
                    <a:lnTo>
                      <a:pt x="5" y="608"/>
                    </a:lnTo>
                    <a:lnTo>
                      <a:pt x="5" y="606"/>
                    </a:lnTo>
                    <a:lnTo>
                      <a:pt x="6" y="605"/>
                    </a:lnTo>
                    <a:lnTo>
                      <a:pt x="6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6014520" y="61221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32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2" name=""/>
              <p:cNvSpPr/>
              <p:nvPr/>
            </p:nvSpPr>
            <p:spPr>
              <a:xfrm>
                <a:off x="6014520" y="644292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6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32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3" name=""/>
              <p:cNvSpPr/>
              <p:nvPr/>
            </p:nvSpPr>
            <p:spPr>
              <a:xfrm>
                <a:off x="6054120" y="6093360"/>
                <a:ext cx="24840" cy="4042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4" name=""/>
              <p:cNvSpPr/>
              <p:nvPr/>
            </p:nvSpPr>
            <p:spPr>
              <a:xfrm>
                <a:off x="6054120" y="6072120"/>
                <a:ext cx="24840" cy="425520"/>
              </a:xfrm>
              <a:prstGeom prst="rect">
                <a:avLst/>
              </a:prstGeom>
              <a:solidFill>
                <a:srgbClr val="4f4f4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5" name=""/>
              <p:cNvSpPr/>
              <p:nvPr/>
            </p:nvSpPr>
            <p:spPr>
              <a:xfrm>
                <a:off x="6078960" y="6072120"/>
                <a:ext cx="23760" cy="425520"/>
              </a:xfrm>
              <a:prstGeom prst="rect">
                <a:avLst/>
              </a:prstGeom>
              <a:solidFill>
                <a:srgbClr val="76767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6" name=""/>
              <p:cNvSpPr/>
              <p:nvPr/>
            </p:nvSpPr>
            <p:spPr>
              <a:xfrm>
                <a:off x="6103080" y="6072120"/>
                <a:ext cx="26280" cy="425520"/>
              </a:xfrm>
              <a:prstGeom prst="rect">
                <a:avLst/>
              </a:prstGeom>
              <a:solidFill>
                <a:srgbClr val="63636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7" name=""/>
              <p:cNvSpPr/>
              <p:nvPr/>
            </p:nvSpPr>
            <p:spPr>
              <a:xfrm>
                <a:off x="6055200" y="6090840"/>
                <a:ext cx="41760" cy="402480"/>
              </a:xfrm>
              <a:custGeom>
                <a:avLst/>
                <a:gdLst/>
                <a:ahLst/>
                <a:rect l="l" t="t" r="r" b="b"/>
                <a:pathLst>
                  <a:path w="59" h="722">
                    <a:moveTo>
                      <a:pt x="59" y="717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17"/>
                    </a:lnTo>
                    <a:lnTo>
                      <a:pt x="0" y="720"/>
                    </a:lnTo>
                    <a:lnTo>
                      <a:pt x="2" y="721"/>
                    </a:lnTo>
                    <a:lnTo>
                      <a:pt x="3" y="722"/>
                    </a:lnTo>
                    <a:lnTo>
                      <a:pt x="7" y="722"/>
                    </a:lnTo>
                    <a:lnTo>
                      <a:pt x="7" y="722"/>
                    </a:lnTo>
                    <a:lnTo>
                      <a:pt x="52" y="722"/>
                    </a:lnTo>
                    <a:lnTo>
                      <a:pt x="54" y="722"/>
                    </a:lnTo>
                    <a:lnTo>
                      <a:pt x="56" y="721"/>
                    </a:lnTo>
                    <a:lnTo>
                      <a:pt x="59" y="720"/>
                    </a:lnTo>
                    <a:lnTo>
                      <a:pt x="59" y="718"/>
                    </a:lnTo>
                    <a:lnTo>
                      <a:pt x="59" y="7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4892400" y="6089760"/>
                <a:ext cx="803880" cy="40068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9" name=""/>
              <p:cNvSpPr/>
              <p:nvPr/>
            </p:nvSpPr>
            <p:spPr>
              <a:xfrm>
                <a:off x="4892400" y="6089760"/>
                <a:ext cx="803880" cy="400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0" name=""/>
              <p:cNvSpPr/>
              <p:nvPr/>
            </p:nvSpPr>
            <p:spPr>
              <a:xfrm>
                <a:off x="5148000" y="6099840"/>
                <a:ext cx="66600" cy="383760"/>
              </a:xfrm>
              <a:custGeom>
                <a:avLst/>
                <a:gdLst/>
                <a:ahLst/>
                <a:rect l="l" t="t" r="r" b="b"/>
                <a:pathLst>
                  <a:path w="98" h="692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  <a:moveTo>
                      <a:pt x="98" y="581"/>
                    </a:moveTo>
                    <a:lnTo>
                      <a:pt x="18" y="581"/>
                    </a:lnTo>
                    <a:lnTo>
                      <a:pt x="14" y="581"/>
                    </a:lnTo>
                    <a:lnTo>
                      <a:pt x="10" y="582"/>
                    </a:lnTo>
                    <a:lnTo>
                      <a:pt x="7" y="583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2" y="592"/>
                    </a:lnTo>
                    <a:lnTo>
                      <a:pt x="0" y="595"/>
                    </a:lnTo>
                    <a:lnTo>
                      <a:pt x="0" y="598"/>
                    </a:lnTo>
                    <a:lnTo>
                      <a:pt x="0" y="598"/>
                    </a:lnTo>
                    <a:lnTo>
                      <a:pt x="0" y="672"/>
                    </a:lnTo>
                    <a:lnTo>
                      <a:pt x="0" y="675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4" y="686"/>
                    </a:lnTo>
                    <a:lnTo>
                      <a:pt x="7" y="688"/>
                    </a:lnTo>
                    <a:lnTo>
                      <a:pt x="10" y="689"/>
                    </a:lnTo>
                    <a:lnTo>
                      <a:pt x="14" y="691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98" y="692"/>
                    </a:lnTo>
                    <a:lnTo>
                      <a:pt x="98" y="581"/>
                    </a:lnTo>
                    <a:lnTo>
                      <a:pt x="98" y="581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1" name=""/>
              <p:cNvSpPr/>
              <p:nvPr/>
            </p:nvSpPr>
            <p:spPr>
              <a:xfrm>
                <a:off x="5148000" y="60998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3702" name=""/>
            <p:cNvGrpSpPr/>
            <p:nvPr/>
          </p:nvGrpSpPr>
          <p:grpSpPr>
            <a:xfrm>
              <a:off x="4923720" y="6110280"/>
              <a:ext cx="798840" cy="373320"/>
              <a:chOff x="4923720" y="6110280"/>
              <a:chExt cx="798840" cy="373320"/>
            </a:xfrm>
          </p:grpSpPr>
          <p:sp>
            <p:nvSpPr>
              <p:cNvPr id="3703" name=""/>
              <p:cNvSpPr/>
              <p:nvPr/>
            </p:nvSpPr>
            <p:spPr>
              <a:xfrm>
                <a:off x="5148360" y="642168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8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4" name=""/>
              <p:cNvSpPr/>
              <p:nvPr/>
            </p:nvSpPr>
            <p:spPr>
              <a:xfrm>
                <a:off x="4923720" y="6117840"/>
                <a:ext cx="744480" cy="362520"/>
              </a:xfrm>
              <a:custGeom>
                <a:avLst/>
                <a:gdLst/>
                <a:ahLst/>
                <a:rect l="l" t="t" r="r" b="b"/>
                <a:pathLst>
                  <a:path w="1092" h="654">
                    <a:moveTo>
                      <a:pt x="47" y="607"/>
                    </a:moveTo>
                    <a:lnTo>
                      <a:pt x="67" y="596"/>
                    </a:lnTo>
                    <a:lnTo>
                      <a:pt x="67" y="572"/>
                    </a:lnTo>
                    <a:lnTo>
                      <a:pt x="47" y="560"/>
                    </a:lnTo>
                    <a:lnTo>
                      <a:pt x="26" y="572"/>
                    </a:lnTo>
                    <a:lnTo>
                      <a:pt x="26" y="596"/>
                    </a:lnTo>
                    <a:lnTo>
                      <a:pt x="47" y="607"/>
                    </a:lnTo>
                    <a:close/>
                    <a:moveTo>
                      <a:pt x="100" y="607"/>
                    </a:moveTo>
                    <a:lnTo>
                      <a:pt x="120" y="596"/>
                    </a:lnTo>
                    <a:lnTo>
                      <a:pt x="120" y="572"/>
                    </a:lnTo>
                    <a:lnTo>
                      <a:pt x="100" y="560"/>
                    </a:lnTo>
                    <a:lnTo>
                      <a:pt x="81" y="572"/>
                    </a:lnTo>
                    <a:lnTo>
                      <a:pt x="81" y="596"/>
                    </a:lnTo>
                    <a:lnTo>
                      <a:pt x="100" y="607"/>
                    </a:lnTo>
                    <a:close/>
                    <a:moveTo>
                      <a:pt x="155" y="607"/>
                    </a:moveTo>
                    <a:lnTo>
                      <a:pt x="175" y="596"/>
                    </a:lnTo>
                    <a:lnTo>
                      <a:pt x="175" y="572"/>
                    </a:lnTo>
                    <a:lnTo>
                      <a:pt x="155" y="560"/>
                    </a:lnTo>
                    <a:lnTo>
                      <a:pt x="135" y="572"/>
                    </a:lnTo>
                    <a:lnTo>
                      <a:pt x="135" y="596"/>
                    </a:lnTo>
                    <a:lnTo>
                      <a:pt x="155" y="607"/>
                    </a:lnTo>
                    <a:close/>
                    <a:moveTo>
                      <a:pt x="208" y="607"/>
                    </a:moveTo>
                    <a:lnTo>
                      <a:pt x="230" y="596"/>
                    </a:lnTo>
                    <a:lnTo>
                      <a:pt x="230" y="572"/>
                    </a:lnTo>
                    <a:lnTo>
                      <a:pt x="208" y="560"/>
                    </a:lnTo>
                    <a:lnTo>
                      <a:pt x="188" y="572"/>
                    </a:lnTo>
                    <a:lnTo>
                      <a:pt x="188" y="596"/>
                    </a:lnTo>
                    <a:lnTo>
                      <a:pt x="208" y="607"/>
                    </a:lnTo>
                    <a:close/>
                    <a:moveTo>
                      <a:pt x="263" y="607"/>
                    </a:moveTo>
                    <a:lnTo>
                      <a:pt x="283" y="596"/>
                    </a:lnTo>
                    <a:lnTo>
                      <a:pt x="283" y="572"/>
                    </a:lnTo>
                    <a:lnTo>
                      <a:pt x="263" y="560"/>
                    </a:lnTo>
                    <a:lnTo>
                      <a:pt x="243" y="572"/>
                    </a:lnTo>
                    <a:lnTo>
                      <a:pt x="243" y="596"/>
                    </a:lnTo>
                    <a:lnTo>
                      <a:pt x="263" y="607"/>
                    </a:lnTo>
                    <a:close/>
                    <a:moveTo>
                      <a:pt x="20" y="560"/>
                    </a:moveTo>
                    <a:lnTo>
                      <a:pt x="39" y="550"/>
                    </a:lnTo>
                    <a:lnTo>
                      <a:pt x="39" y="525"/>
                    </a:lnTo>
                    <a:lnTo>
                      <a:pt x="20" y="514"/>
                    </a:lnTo>
                    <a:lnTo>
                      <a:pt x="0" y="525"/>
                    </a:lnTo>
                    <a:lnTo>
                      <a:pt x="0" y="550"/>
                    </a:lnTo>
                    <a:lnTo>
                      <a:pt x="20" y="560"/>
                    </a:lnTo>
                    <a:close/>
                    <a:moveTo>
                      <a:pt x="74" y="560"/>
                    </a:moveTo>
                    <a:lnTo>
                      <a:pt x="94" y="550"/>
                    </a:lnTo>
                    <a:lnTo>
                      <a:pt x="94" y="525"/>
                    </a:lnTo>
                    <a:lnTo>
                      <a:pt x="74" y="514"/>
                    </a:lnTo>
                    <a:lnTo>
                      <a:pt x="55" y="525"/>
                    </a:lnTo>
                    <a:lnTo>
                      <a:pt x="55" y="550"/>
                    </a:lnTo>
                    <a:lnTo>
                      <a:pt x="74" y="560"/>
                    </a:lnTo>
                    <a:close/>
                    <a:moveTo>
                      <a:pt x="129" y="560"/>
                    </a:moveTo>
                    <a:lnTo>
                      <a:pt x="149" y="550"/>
                    </a:lnTo>
                    <a:lnTo>
                      <a:pt x="149" y="525"/>
                    </a:lnTo>
                    <a:lnTo>
                      <a:pt x="129" y="514"/>
                    </a:lnTo>
                    <a:lnTo>
                      <a:pt x="108" y="525"/>
                    </a:lnTo>
                    <a:lnTo>
                      <a:pt x="108" y="550"/>
                    </a:lnTo>
                    <a:lnTo>
                      <a:pt x="129" y="560"/>
                    </a:lnTo>
                    <a:close/>
                    <a:moveTo>
                      <a:pt x="181" y="560"/>
                    </a:moveTo>
                    <a:lnTo>
                      <a:pt x="202" y="550"/>
                    </a:lnTo>
                    <a:lnTo>
                      <a:pt x="202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50"/>
                    </a:lnTo>
                    <a:lnTo>
                      <a:pt x="181" y="560"/>
                    </a:lnTo>
                    <a:close/>
                    <a:moveTo>
                      <a:pt x="237" y="560"/>
                    </a:moveTo>
                    <a:lnTo>
                      <a:pt x="257" y="550"/>
                    </a:lnTo>
                    <a:lnTo>
                      <a:pt x="257" y="525"/>
                    </a:lnTo>
                    <a:lnTo>
                      <a:pt x="237" y="514"/>
                    </a:lnTo>
                    <a:lnTo>
                      <a:pt x="217" y="525"/>
                    </a:lnTo>
                    <a:lnTo>
                      <a:pt x="217" y="550"/>
                    </a:lnTo>
                    <a:lnTo>
                      <a:pt x="237" y="560"/>
                    </a:lnTo>
                    <a:close/>
                    <a:moveTo>
                      <a:pt x="289" y="560"/>
                    </a:moveTo>
                    <a:lnTo>
                      <a:pt x="312" y="550"/>
                    </a:lnTo>
                    <a:lnTo>
                      <a:pt x="312" y="525"/>
                    </a:lnTo>
                    <a:lnTo>
                      <a:pt x="289" y="514"/>
                    </a:lnTo>
                    <a:lnTo>
                      <a:pt x="269" y="525"/>
                    </a:lnTo>
                    <a:lnTo>
                      <a:pt x="269" y="550"/>
                    </a:lnTo>
                    <a:lnTo>
                      <a:pt x="289" y="560"/>
                    </a:lnTo>
                    <a:close/>
                    <a:moveTo>
                      <a:pt x="47" y="514"/>
                    </a:moveTo>
                    <a:lnTo>
                      <a:pt x="67" y="504"/>
                    </a:lnTo>
                    <a:lnTo>
                      <a:pt x="67" y="478"/>
                    </a:lnTo>
                    <a:lnTo>
                      <a:pt x="47" y="468"/>
                    </a:lnTo>
                    <a:lnTo>
                      <a:pt x="26" y="478"/>
                    </a:lnTo>
                    <a:lnTo>
                      <a:pt x="26" y="504"/>
                    </a:lnTo>
                    <a:lnTo>
                      <a:pt x="47" y="514"/>
                    </a:lnTo>
                    <a:close/>
                    <a:moveTo>
                      <a:pt x="100" y="514"/>
                    </a:moveTo>
                    <a:lnTo>
                      <a:pt x="120" y="504"/>
                    </a:lnTo>
                    <a:lnTo>
                      <a:pt x="120" y="478"/>
                    </a:lnTo>
                    <a:lnTo>
                      <a:pt x="100" y="468"/>
                    </a:lnTo>
                    <a:lnTo>
                      <a:pt x="81" y="478"/>
                    </a:lnTo>
                    <a:lnTo>
                      <a:pt x="81" y="504"/>
                    </a:lnTo>
                    <a:lnTo>
                      <a:pt x="100" y="514"/>
                    </a:lnTo>
                    <a:close/>
                    <a:moveTo>
                      <a:pt x="155" y="514"/>
                    </a:moveTo>
                    <a:lnTo>
                      <a:pt x="175" y="504"/>
                    </a:lnTo>
                    <a:lnTo>
                      <a:pt x="175" y="478"/>
                    </a:lnTo>
                    <a:lnTo>
                      <a:pt x="155" y="468"/>
                    </a:lnTo>
                    <a:lnTo>
                      <a:pt x="135" y="478"/>
                    </a:lnTo>
                    <a:lnTo>
                      <a:pt x="135" y="504"/>
                    </a:lnTo>
                    <a:lnTo>
                      <a:pt x="155" y="514"/>
                    </a:lnTo>
                    <a:close/>
                    <a:moveTo>
                      <a:pt x="208" y="514"/>
                    </a:moveTo>
                    <a:lnTo>
                      <a:pt x="230" y="504"/>
                    </a:lnTo>
                    <a:lnTo>
                      <a:pt x="230" y="478"/>
                    </a:lnTo>
                    <a:lnTo>
                      <a:pt x="208" y="468"/>
                    </a:lnTo>
                    <a:lnTo>
                      <a:pt x="188" y="478"/>
                    </a:lnTo>
                    <a:lnTo>
                      <a:pt x="188" y="504"/>
                    </a:lnTo>
                    <a:lnTo>
                      <a:pt x="208" y="514"/>
                    </a:lnTo>
                    <a:close/>
                    <a:moveTo>
                      <a:pt x="263" y="514"/>
                    </a:moveTo>
                    <a:lnTo>
                      <a:pt x="283" y="504"/>
                    </a:lnTo>
                    <a:lnTo>
                      <a:pt x="283" y="478"/>
                    </a:lnTo>
                    <a:lnTo>
                      <a:pt x="263" y="468"/>
                    </a:lnTo>
                    <a:lnTo>
                      <a:pt x="243" y="478"/>
                    </a:lnTo>
                    <a:lnTo>
                      <a:pt x="243" y="504"/>
                    </a:lnTo>
                    <a:lnTo>
                      <a:pt x="263" y="514"/>
                    </a:lnTo>
                    <a:close/>
                    <a:moveTo>
                      <a:pt x="318" y="514"/>
                    </a:moveTo>
                    <a:lnTo>
                      <a:pt x="338" y="504"/>
                    </a:lnTo>
                    <a:lnTo>
                      <a:pt x="338" y="478"/>
                    </a:lnTo>
                    <a:lnTo>
                      <a:pt x="318" y="468"/>
                    </a:lnTo>
                    <a:lnTo>
                      <a:pt x="298" y="478"/>
                    </a:lnTo>
                    <a:lnTo>
                      <a:pt x="298" y="504"/>
                    </a:lnTo>
                    <a:lnTo>
                      <a:pt x="318" y="514"/>
                    </a:lnTo>
                    <a:close/>
                    <a:moveTo>
                      <a:pt x="20" y="468"/>
                    </a:moveTo>
                    <a:lnTo>
                      <a:pt x="39" y="454"/>
                    </a:lnTo>
                    <a:lnTo>
                      <a:pt x="39" y="432"/>
                    </a:lnTo>
                    <a:lnTo>
                      <a:pt x="20" y="422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20" y="468"/>
                    </a:lnTo>
                    <a:close/>
                    <a:moveTo>
                      <a:pt x="74" y="468"/>
                    </a:moveTo>
                    <a:lnTo>
                      <a:pt x="94" y="454"/>
                    </a:lnTo>
                    <a:lnTo>
                      <a:pt x="94" y="432"/>
                    </a:lnTo>
                    <a:lnTo>
                      <a:pt x="74" y="422"/>
                    </a:lnTo>
                    <a:lnTo>
                      <a:pt x="55" y="432"/>
                    </a:lnTo>
                    <a:lnTo>
                      <a:pt x="55" y="454"/>
                    </a:lnTo>
                    <a:lnTo>
                      <a:pt x="74" y="468"/>
                    </a:lnTo>
                    <a:close/>
                    <a:moveTo>
                      <a:pt x="129" y="468"/>
                    </a:moveTo>
                    <a:lnTo>
                      <a:pt x="149" y="454"/>
                    </a:lnTo>
                    <a:lnTo>
                      <a:pt x="149" y="432"/>
                    </a:lnTo>
                    <a:lnTo>
                      <a:pt x="129" y="422"/>
                    </a:lnTo>
                    <a:lnTo>
                      <a:pt x="108" y="432"/>
                    </a:lnTo>
                    <a:lnTo>
                      <a:pt x="108" y="454"/>
                    </a:lnTo>
                    <a:lnTo>
                      <a:pt x="129" y="468"/>
                    </a:lnTo>
                    <a:close/>
                    <a:moveTo>
                      <a:pt x="181" y="468"/>
                    </a:moveTo>
                    <a:lnTo>
                      <a:pt x="202" y="454"/>
                    </a:lnTo>
                    <a:lnTo>
                      <a:pt x="202" y="432"/>
                    </a:lnTo>
                    <a:lnTo>
                      <a:pt x="181" y="422"/>
                    </a:lnTo>
                    <a:lnTo>
                      <a:pt x="161" y="432"/>
                    </a:lnTo>
                    <a:lnTo>
                      <a:pt x="161" y="454"/>
                    </a:lnTo>
                    <a:lnTo>
                      <a:pt x="181" y="468"/>
                    </a:lnTo>
                    <a:close/>
                    <a:moveTo>
                      <a:pt x="237" y="468"/>
                    </a:moveTo>
                    <a:lnTo>
                      <a:pt x="257" y="454"/>
                    </a:lnTo>
                    <a:lnTo>
                      <a:pt x="257" y="432"/>
                    </a:lnTo>
                    <a:lnTo>
                      <a:pt x="237" y="422"/>
                    </a:lnTo>
                    <a:lnTo>
                      <a:pt x="217" y="432"/>
                    </a:lnTo>
                    <a:lnTo>
                      <a:pt x="217" y="454"/>
                    </a:lnTo>
                    <a:lnTo>
                      <a:pt x="237" y="468"/>
                    </a:lnTo>
                    <a:close/>
                    <a:moveTo>
                      <a:pt x="289" y="468"/>
                    </a:moveTo>
                    <a:lnTo>
                      <a:pt x="312" y="454"/>
                    </a:lnTo>
                    <a:lnTo>
                      <a:pt x="312" y="432"/>
                    </a:lnTo>
                    <a:lnTo>
                      <a:pt x="289" y="422"/>
                    </a:lnTo>
                    <a:lnTo>
                      <a:pt x="269" y="432"/>
                    </a:lnTo>
                    <a:lnTo>
                      <a:pt x="269" y="454"/>
                    </a:lnTo>
                    <a:lnTo>
                      <a:pt x="289" y="468"/>
                    </a:lnTo>
                    <a:close/>
                    <a:moveTo>
                      <a:pt x="20" y="654"/>
                    </a:moveTo>
                    <a:lnTo>
                      <a:pt x="39" y="642"/>
                    </a:lnTo>
                    <a:lnTo>
                      <a:pt x="39" y="618"/>
                    </a:lnTo>
                    <a:lnTo>
                      <a:pt x="20" y="607"/>
                    </a:lnTo>
                    <a:lnTo>
                      <a:pt x="0" y="618"/>
                    </a:lnTo>
                    <a:lnTo>
                      <a:pt x="0" y="642"/>
                    </a:lnTo>
                    <a:lnTo>
                      <a:pt x="20" y="654"/>
                    </a:lnTo>
                    <a:close/>
                    <a:moveTo>
                      <a:pt x="74" y="654"/>
                    </a:moveTo>
                    <a:lnTo>
                      <a:pt x="94" y="642"/>
                    </a:lnTo>
                    <a:lnTo>
                      <a:pt x="94" y="618"/>
                    </a:lnTo>
                    <a:lnTo>
                      <a:pt x="74" y="607"/>
                    </a:lnTo>
                    <a:lnTo>
                      <a:pt x="55" y="618"/>
                    </a:lnTo>
                    <a:lnTo>
                      <a:pt x="55" y="642"/>
                    </a:lnTo>
                    <a:lnTo>
                      <a:pt x="74" y="654"/>
                    </a:lnTo>
                    <a:close/>
                    <a:moveTo>
                      <a:pt x="129" y="654"/>
                    </a:moveTo>
                    <a:lnTo>
                      <a:pt x="149" y="642"/>
                    </a:lnTo>
                    <a:lnTo>
                      <a:pt x="149" y="618"/>
                    </a:lnTo>
                    <a:lnTo>
                      <a:pt x="129" y="607"/>
                    </a:lnTo>
                    <a:lnTo>
                      <a:pt x="108" y="618"/>
                    </a:lnTo>
                    <a:lnTo>
                      <a:pt x="108" y="642"/>
                    </a:lnTo>
                    <a:lnTo>
                      <a:pt x="129" y="654"/>
                    </a:lnTo>
                    <a:close/>
                    <a:moveTo>
                      <a:pt x="181" y="654"/>
                    </a:moveTo>
                    <a:lnTo>
                      <a:pt x="202" y="642"/>
                    </a:lnTo>
                    <a:lnTo>
                      <a:pt x="202" y="618"/>
                    </a:lnTo>
                    <a:lnTo>
                      <a:pt x="181" y="607"/>
                    </a:lnTo>
                    <a:lnTo>
                      <a:pt x="161" y="618"/>
                    </a:lnTo>
                    <a:lnTo>
                      <a:pt x="161" y="642"/>
                    </a:lnTo>
                    <a:lnTo>
                      <a:pt x="181" y="654"/>
                    </a:lnTo>
                    <a:close/>
                    <a:moveTo>
                      <a:pt x="237" y="654"/>
                    </a:moveTo>
                    <a:lnTo>
                      <a:pt x="257" y="642"/>
                    </a:lnTo>
                    <a:lnTo>
                      <a:pt x="257" y="618"/>
                    </a:lnTo>
                    <a:lnTo>
                      <a:pt x="237" y="607"/>
                    </a:lnTo>
                    <a:lnTo>
                      <a:pt x="217" y="618"/>
                    </a:lnTo>
                    <a:lnTo>
                      <a:pt x="217" y="642"/>
                    </a:lnTo>
                    <a:lnTo>
                      <a:pt x="237" y="654"/>
                    </a:lnTo>
                    <a:close/>
                    <a:moveTo>
                      <a:pt x="289" y="654"/>
                    </a:moveTo>
                    <a:lnTo>
                      <a:pt x="312" y="642"/>
                    </a:lnTo>
                    <a:lnTo>
                      <a:pt x="312" y="618"/>
                    </a:lnTo>
                    <a:lnTo>
                      <a:pt x="289" y="607"/>
                    </a:lnTo>
                    <a:lnTo>
                      <a:pt x="269" y="618"/>
                    </a:lnTo>
                    <a:lnTo>
                      <a:pt x="269" y="642"/>
                    </a:lnTo>
                    <a:lnTo>
                      <a:pt x="289" y="654"/>
                    </a:lnTo>
                    <a:close/>
                    <a:moveTo>
                      <a:pt x="20" y="279"/>
                    </a:moveTo>
                    <a:lnTo>
                      <a:pt x="39" y="269"/>
                    </a:lnTo>
                    <a:lnTo>
                      <a:pt x="39" y="246"/>
                    </a:lnTo>
                    <a:lnTo>
                      <a:pt x="20" y="233"/>
                    </a:lnTo>
                    <a:lnTo>
                      <a:pt x="0" y="246"/>
                    </a:lnTo>
                    <a:lnTo>
                      <a:pt x="0" y="269"/>
                    </a:lnTo>
                    <a:lnTo>
                      <a:pt x="20" y="279"/>
                    </a:lnTo>
                    <a:close/>
                    <a:moveTo>
                      <a:pt x="74" y="279"/>
                    </a:moveTo>
                    <a:lnTo>
                      <a:pt x="94" y="269"/>
                    </a:lnTo>
                    <a:lnTo>
                      <a:pt x="94" y="246"/>
                    </a:lnTo>
                    <a:lnTo>
                      <a:pt x="74" y="233"/>
                    </a:lnTo>
                    <a:lnTo>
                      <a:pt x="55" y="246"/>
                    </a:lnTo>
                    <a:lnTo>
                      <a:pt x="55" y="269"/>
                    </a:lnTo>
                    <a:lnTo>
                      <a:pt x="74" y="279"/>
                    </a:lnTo>
                    <a:close/>
                    <a:moveTo>
                      <a:pt x="129" y="279"/>
                    </a:moveTo>
                    <a:lnTo>
                      <a:pt x="149" y="269"/>
                    </a:lnTo>
                    <a:lnTo>
                      <a:pt x="149" y="246"/>
                    </a:lnTo>
                    <a:lnTo>
                      <a:pt x="129" y="233"/>
                    </a:lnTo>
                    <a:lnTo>
                      <a:pt x="108" y="246"/>
                    </a:lnTo>
                    <a:lnTo>
                      <a:pt x="108" y="269"/>
                    </a:lnTo>
                    <a:lnTo>
                      <a:pt x="129" y="279"/>
                    </a:lnTo>
                    <a:close/>
                    <a:moveTo>
                      <a:pt x="181" y="279"/>
                    </a:moveTo>
                    <a:lnTo>
                      <a:pt x="202" y="269"/>
                    </a:lnTo>
                    <a:lnTo>
                      <a:pt x="202" y="246"/>
                    </a:lnTo>
                    <a:lnTo>
                      <a:pt x="181" y="233"/>
                    </a:lnTo>
                    <a:lnTo>
                      <a:pt x="161" y="246"/>
                    </a:lnTo>
                    <a:lnTo>
                      <a:pt x="161" y="269"/>
                    </a:lnTo>
                    <a:lnTo>
                      <a:pt x="181" y="279"/>
                    </a:lnTo>
                    <a:close/>
                    <a:moveTo>
                      <a:pt x="237" y="279"/>
                    </a:moveTo>
                    <a:lnTo>
                      <a:pt x="257" y="269"/>
                    </a:lnTo>
                    <a:lnTo>
                      <a:pt x="257" y="246"/>
                    </a:lnTo>
                    <a:lnTo>
                      <a:pt x="237" y="233"/>
                    </a:lnTo>
                    <a:lnTo>
                      <a:pt x="217" y="246"/>
                    </a:lnTo>
                    <a:lnTo>
                      <a:pt x="217" y="269"/>
                    </a:lnTo>
                    <a:lnTo>
                      <a:pt x="237" y="279"/>
                    </a:lnTo>
                    <a:close/>
                    <a:moveTo>
                      <a:pt x="289" y="279"/>
                    </a:moveTo>
                    <a:lnTo>
                      <a:pt x="312" y="269"/>
                    </a:lnTo>
                    <a:lnTo>
                      <a:pt x="312" y="246"/>
                    </a:lnTo>
                    <a:lnTo>
                      <a:pt x="289" y="233"/>
                    </a:lnTo>
                    <a:lnTo>
                      <a:pt x="269" y="246"/>
                    </a:lnTo>
                    <a:lnTo>
                      <a:pt x="269" y="269"/>
                    </a:lnTo>
                    <a:lnTo>
                      <a:pt x="289" y="279"/>
                    </a:lnTo>
                    <a:close/>
                    <a:moveTo>
                      <a:pt x="47" y="233"/>
                    </a:moveTo>
                    <a:lnTo>
                      <a:pt x="67" y="222"/>
                    </a:lnTo>
                    <a:lnTo>
                      <a:pt x="67" y="199"/>
                    </a:lnTo>
                    <a:lnTo>
                      <a:pt x="47" y="187"/>
                    </a:lnTo>
                    <a:lnTo>
                      <a:pt x="26" y="199"/>
                    </a:lnTo>
                    <a:lnTo>
                      <a:pt x="26" y="222"/>
                    </a:lnTo>
                    <a:lnTo>
                      <a:pt x="47" y="233"/>
                    </a:lnTo>
                    <a:close/>
                    <a:moveTo>
                      <a:pt x="100" y="233"/>
                    </a:moveTo>
                    <a:lnTo>
                      <a:pt x="120" y="222"/>
                    </a:lnTo>
                    <a:lnTo>
                      <a:pt x="120" y="199"/>
                    </a:lnTo>
                    <a:lnTo>
                      <a:pt x="100" y="187"/>
                    </a:lnTo>
                    <a:lnTo>
                      <a:pt x="81" y="199"/>
                    </a:lnTo>
                    <a:lnTo>
                      <a:pt x="81" y="222"/>
                    </a:lnTo>
                    <a:lnTo>
                      <a:pt x="100" y="233"/>
                    </a:lnTo>
                    <a:close/>
                    <a:moveTo>
                      <a:pt x="155" y="233"/>
                    </a:moveTo>
                    <a:lnTo>
                      <a:pt x="175" y="222"/>
                    </a:lnTo>
                    <a:lnTo>
                      <a:pt x="175" y="199"/>
                    </a:lnTo>
                    <a:lnTo>
                      <a:pt x="155" y="187"/>
                    </a:lnTo>
                    <a:lnTo>
                      <a:pt x="135" y="199"/>
                    </a:lnTo>
                    <a:lnTo>
                      <a:pt x="135" y="222"/>
                    </a:lnTo>
                    <a:lnTo>
                      <a:pt x="155" y="233"/>
                    </a:lnTo>
                    <a:close/>
                    <a:moveTo>
                      <a:pt x="208" y="233"/>
                    </a:moveTo>
                    <a:lnTo>
                      <a:pt x="230" y="222"/>
                    </a:lnTo>
                    <a:lnTo>
                      <a:pt x="230" y="199"/>
                    </a:lnTo>
                    <a:lnTo>
                      <a:pt x="208" y="187"/>
                    </a:lnTo>
                    <a:lnTo>
                      <a:pt x="188" y="199"/>
                    </a:lnTo>
                    <a:lnTo>
                      <a:pt x="188" y="222"/>
                    </a:lnTo>
                    <a:lnTo>
                      <a:pt x="208" y="233"/>
                    </a:lnTo>
                    <a:close/>
                    <a:moveTo>
                      <a:pt x="263" y="233"/>
                    </a:moveTo>
                    <a:lnTo>
                      <a:pt x="283" y="222"/>
                    </a:lnTo>
                    <a:lnTo>
                      <a:pt x="283" y="199"/>
                    </a:lnTo>
                    <a:lnTo>
                      <a:pt x="263" y="187"/>
                    </a:lnTo>
                    <a:lnTo>
                      <a:pt x="243" y="199"/>
                    </a:lnTo>
                    <a:lnTo>
                      <a:pt x="243" y="222"/>
                    </a:lnTo>
                    <a:lnTo>
                      <a:pt x="263" y="233"/>
                    </a:lnTo>
                    <a:close/>
                    <a:moveTo>
                      <a:pt x="318" y="233"/>
                    </a:moveTo>
                    <a:lnTo>
                      <a:pt x="338" y="222"/>
                    </a:lnTo>
                    <a:lnTo>
                      <a:pt x="338" y="199"/>
                    </a:lnTo>
                    <a:lnTo>
                      <a:pt x="318" y="187"/>
                    </a:lnTo>
                    <a:lnTo>
                      <a:pt x="298" y="199"/>
                    </a:lnTo>
                    <a:lnTo>
                      <a:pt x="298" y="222"/>
                    </a:lnTo>
                    <a:lnTo>
                      <a:pt x="318" y="233"/>
                    </a:lnTo>
                    <a:close/>
                    <a:moveTo>
                      <a:pt x="20" y="187"/>
                    </a:moveTo>
                    <a:lnTo>
                      <a:pt x="39" y="175"/>
                    </a:lnTo>
                    <a:lnTo>
                      <a:pt x="39" y="153"/>
                    </a:lnTo>
                    <a:lnTo>
                      <a:pt x="20" y="140"/>
                    </a:lnTo>
                    <a:lnTo>
                      <a:pt x="0" y="153"/>
                    </a:lnTo>
                    <a:lnTo>
                      <a:pt x="0" y="175"/>
                    </a:lnTo>
                    <a:lnTo>
                      <a:pt x="20" y="187"/>
                    </a:lnTo>
                    <a:close/>
                    <a:moveTo>
                      <a:pt x="74" y="187"/>
                    </a:moveTo>
                    <a:lnTo>
                      <a:pt x="94" y="175"/>
                    </a:lnTo>
                    <a:lnTo>
                      <a:pt x="94" y="153"/>
                    </a:lnTo>
                    <a:lnTo>
                      <a:pt x="74" y="140"/>
                    </a:lnTo>
                    <a:lnTo>
                      <a:pt x="55" y="153"/>
                    </a:lnTo>
                    <a:lnTo>
                      <a:pt x="55" y="175"/>
                    </a:lnTo>
                    <a:lnTo>
                      <a:pt x="74" y="187"/>
                    </a:lnTo>
                    <a:close/>
                    <a:moveTo>
                      <a:pt x="129" y="187"/>
                    </a:moveTo>
                    <a:lnTo>
                      <a:pt x="149" y="175"/>
                    </a:lnTo>
                    <a:lnTo>
                      <a:pt x="149" y="153"/>
                    </a:lnTo>
                    <a:lnTo>
                      <a:pt x="129" y="140"/>
                    </a:lnTo>
                    <a:lnTo>
                      <a:pt x="108" y="153"/>
                    </a:lnTo>
                    <a:lnTo>
                      <a:pt x="108" y="175"/>
                    </a:lnTo>
                    <a:lnTo>
                      <a:pt x="129" y="187"/>
                    </a:lnTo>
                    <a:close/>
                    <a:moveTo>
                      <a:pt x="181" y="187"/>
                    </a:moveTo>
                    <a:lnTo>
                      <a:pt x="202" y="175"/>
                    </a:lnTo>
                    <a:lnTo>
                      <a:pt x="202" y="153"/>
                    </a:lnTo>
                    <a:lnTo>
                      <a:pt x="181" y="140"/>
                    </a:lnTo>
                    <a:lnTo>
                      <a:pt x="161" y="153"/>
                    </a:lnTo>
                    <a:lnTo>
                      <a:pt x="161" y="175"/>
                    </a:lnTo>
                    <a:lnTo>
                      <a:pt x="181" y="187"/>
                    </a:lnTo>
                    <a:close/>
                    <a:moveTo>
                      <a:pt x="237" y="187"/>
                    </a:moveTo>
                    <a:lnTo>
                      <a:pt x="257" y="175"/>
                    </a:lnTo>
                    <a:lnTo>
                      <a:pt x="257" y="153"/>
                    </a:lnTo>
                    <a:lnTo>
                      <a:pt x="237" y="140"/>
                    </a:lnTo>
                    <a:lnTo>
                      <a:pt x="217" y="153"/>
                    </a:lnTo>
                    <a:lnTo>
                      <a:pt x="217" y="175"/>
                    </a:lnTo>
                    <a:lnTo>
                      <a:pt x="237" y="187"/>
                    </a:lnTo>
                    <a:close/>
                    <a:moveTo>
                      <a:pt x="289" y="187"/>
                    </a:moveTo>
                    <a:lnTo>
                      <a:pt x="312" y="175"/>
                    </a:lnTo>
                    <a:lnTo>
                      <a:pt x="312" y="153"/>
                    </a:lnTo>
                    <a:lnTo>
                      <a:pt x="289" y="140"/>
                    </a:lnTo>
                    <a:lnTo>
                      <a:pt x="269" y="153"/>
                    </a:lnTo>
                    <a:lnTo>
                      <a:pt x="269" y="175"/>
                    </a:lnTo>
                    <a:lnTo>
                      <a:pt x="289" y="187"/>
                    </a:lnTo>
                    <a:close/>
                    <a:moveTo>
                      <a:pt x="47" y="140"/>
                    </a:moveTo>
                    <a:lnTo>
                      <a:pt x="67" y="129"/>
                    </a:lnTo>
                    <a:lnTo>
                      <a:pt x="67" y="105"/>
                    </a:lnTo>
                    <a:lnTo>
                      <a:pt x="47" y="93"/>
                    </a:lnTo>
                    <a:lnTo>
                      <a:pt x="26" y="105"/>
                    </a:lnTo>
                    <a:lnTo>
                      <a:pt x="26" y="129"/>
                    </a:lnTo>
                    <a:lnTo>
                      <a:pt x="47" y="140"/>
                    </a:lnTo>
                    <a:close/>
                    <a:moveTo>
                      <a:pt x="100" y="140"/>
                    </a:moveTo>
                    <a:lnTo>
                      <a:pt x="120" y="129"/>
                    </a:lnTo>
                    <a:lnTo>
                      <a:pt x="120" y="105"/>
                    </a:lnTo>
                    <a:lnTo>
                      <a:pt x="100" y="93"/>
                    </a:lnTo>
                    <a:lnTo>
                      <a:pt x="81" y="105"/>
                    </a:lnTo>
                    <a:lnTo>
                      <a:pt x="81" y="129"/>
                    </a:lnTo>
                    <a:lnTo>
                      <a:pt x="100" y="140"/>
                    </a:lnTo>
                    <a:close/>
                    <a:moveTo>
                      <a:pt x="155" y="140"/>
                    </a:moveTo>
                    <a:lnTo>
                      <a:pt x="175" y="129"/>
                    </a:lnTo>
                    <a:lnTo>
                      <a:pt x="175" y="105"/>
                    </a:lnTo>
                    <a:lnTo>
                      <a:pt x="155" y="93"/>
                    </a:lnTo>
                    <a:lnTo>
                      <a:pt x="135" y="105"/>
                    </a:lnTo>
                    <a:lnTo>
                      <a:pt x="135" y="129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30" y="129"/>
                    </a:lnTo>
                    <a:lnTo>
                      <a:pt x="230" y="105"/>
                    </a:lnTo>
                    <a:lnTo>
                      <a:pt x="208" y="93"/>
                    </a:lnTo>
                    <a:lnTo>
                      <a:pt x="188" y="105"/>
                    </a:lnTo>
                    <a:lnTo>
                      <a:pt x="188" y="129"/>
                    </a:lnTo>
                    <a:lnTo>
                      <a:pt x="208" y="140"/>
                    </a:lnTo>
                    <a:close/>
                    <a:moveTo>
                      <a:pt x="263" y="140"/>
                    </a:moveTo>
                    <a:lnTo>
                      <a:pt x="283" y="129"/>
                    </a:lnTo>
                    <a:lnTo>
                      <a:pt x="283" y="105"/>
                    </a:lnTo>
                    <a:lnTo>
                      <a:pt x="263" y="93"/>
                    </a:lnTo>
                    <a:lnTo>
                      <a:pt x="243" y="105"/>
                    </a:lnTo>
                    <a:lnTo>
                      <a:pt x="243" y="129"/>
                    </a:lnTo>
                    <a:lnTo>
                      <a:pt x="263" y="140"/>
                    </a:lnTo>
                    <a:close/>
                    <a:moveTo>
                      <a:pt x="318" y="140"/>
                    </a:moveTo>
                    <a:lnTo>
                      <a:pt x="338" y="129"/>
                    </a:lnTo>
                    <a:lnTo>
                      <a:pt x="338" y="105"/>
                    </a:lnTo>
                    <a:lnTo>
                      <a:pt x="318" y="93"/>
                    </a:lnTo>
                    <a:lnTo>
                      <a:pt x="298" y="105"/>
                    </a:lnTo>
                    <a:lnTo>
                      <a:pt x="298" y="129"/>
                    </a:lnTo>
                    <a:lnTo>
                      <a:pt x="318" y="140"/>
                    </a:lnTo>
                    <a:close/>
                    <a:moveTo>
                      <a:pt x="20" y="93"/>
                    </a:moveTo>
                    <a:lnTo>
                      <a:pt x="39" y="82"/>
                    </a:lnTo>
                    <a:lnTo>
                      <a:pt x="39" y="58"/>
                    </a:lnTo>
                    <a:lnTo>
                      <a:pt x="20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0" y="93"/>
                    </a:lnTo>
                    <a:close/>
                    <a:moveTo>
                      <a:pt x="74" y="93"/>
                    </a:moveTo>
                    <a:lnTo>
                      <a:pt x="94" y="82"/>
                    </a:lnTo>
                    <a:lnTo>
                      <a:pt x="94" y="58"/>
                    </a:lnTo>
                    <a:lnTo>
                      <a:pt x="74" y="47"/>
                    </a:lnTo>
                    <a:lnTo>
                      <a:pt x="55" y="58"/>
                    </a:lnTo>
                    <a:lnTo>
                      <a:pt x="55" y="82"/>
                    </a:lnTo>
                    <a:lnTo>
                      <a:pt x="74" y="93"/>
                    </a:lnTo>
                    <a:close/>
                    <a:moveTo>
                      <a:pt x="129" y="93"/>
                    </a:moveTo>
                    <a:lnTo>
                      <a:pt x="149" y="82"/>
                    </a:lnTo>
                    <a:lnTo>
                      <a:pt x="149" y="58"/>
                    </a:lnTo>
                    <a:lnTo>
                      <a:pt x="129" y="47"/>
                    </a:lnTo>
                    <a:lnTo>
                      <a:pt x="108" y="58"/>
                    </a:lnTo>
                    <a:lnTo>
                      <a:pt x="108" y="82"/>
                    </a:lnTo>
                    <a:lnTo>
                      <a:pt x="129" y="93"/>
                    </a:lnTo>
                    <a:close/>
                    <a:moveTo>
                      <a:pt x="181" y="93"/>
                    </a:moveTo>
                    <a:lnTo>
                      <a:pt x="202" y="82"/>
                    </a:lnTo>
                    <a:lnTo>
                      <a:pt x="202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3"/>
                    </a:lnTo>
                    <a:close/>
                    <a:moveTo>
                      <a:pt x="237" y="93"/>
                    </a:moveTo>
                    <a:lnTo>
                      <a:pt x="257" y="82"/>
                    </a:lnTo>
                    <a:lnTo>
                      <a:pt x="257" y="58"/>
                    </a:lnTo>
                    <a:lnTo>
                      <a:pt x="237" y="47"/>
                    </a:lnTo>
                    <a:lnTo>
                      <a:pt x="217" y="58"/>
                    </a:lnTo>
                    <a:lnTo>
                      <a:pt x="217" y="82"/>
                    </a:lnTo>
                    <a:lnTo>
                      <a:pt x="237" y="93"/>
                    </a:lnTo>
                    <a:close/>
                    <a:moveTo>
                      <a:pt x="289" y="93"/>
                    </a:moveTo>
                    <a:lnTo>
                      <a:pt x="312" y="82"/>
                    </a:lnTo>
                    <a:lnTo>
                      <a:pt x="312" y="58"/>
                    </a:lnTo>
                    <a:lnTo>
                      <a:pt x="289" y="47"/>
                    </a:lnTo>
                    <a:lnTo>
                      <a:pt x="269" y="58"/>
                    </a:lnTo>
                    <a:lnTo>
                      <a:pt x="269" y="82"/>
                    </a:lnTo>
                    <a:lnTo>
                      <a:pt x="289" y="93"/>
                    </a:lnTo>
                    <a:close/>
                    <a:moveTo>
                      <a:pt x="47" y="47"/>
                    </a:moveTo>
                    <a:lnTo>
                      <a:pt x="67" y="35"/>
                    </a:lnTo>
                    <a:lnTo>
                      <a:pt x="67" y="11"/>
                    </a:lnTo>
                    <a:lnTo>
                      <a:pt x="47" y="0"/>
                    </a:lnTo>
                    <a:lnTo>
                      <a:pt x="26" y="11"/>
                    </a:lnTo>
                    <a:lnTo>
                      <a:pt x="26" y="35"/>
                    </a:lnTo>
                    <a:lnTo>
                      <a:pt x="47" y="47"/>
                    </a:lnTo>
                    <a:close/>
                    <a:moveTo>
                      <a:pt x="100" y="47"/>
                    </a:moveTo>
                    <a:lnTo>
                      <a:pt x="120" y="35"/>
                    </a:lnTo>
                    <a:lnTo>
                      <a:pt x="120" y="11"/>
                    </a:lnTo>
                    <a:lnTo>
                      <a:pt x="100" y="0"/>
                    </a:lnTo>
                    <a:lnTo>
                      <a:pt x="81" y="11"/>
                    </a:lnTo>
                    <a:lnTo>
                      <a:pt x="81" y="35"/>
                    </a:lnTo>
                    <a:lnTo>
                      <a:pt x="100" y="47"/>
                    </a:lnTo>
                    <a:close/>
                    <a:moveTo>
                      <a:pt x="155" y="47"/>
                    </a:moveTo>
                    <a:lnTo>
                      <a:pt x="175" y="35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5" y="11"/>
                    </a:lnTo>
                    <a:lnTo>
                      <a:pt x="135" y="35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30" y="35"/>
                    </a:lnTo>
                    <a:lnTo>
                      <a:pt x="230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5"/>
                    </a:lnTo>
                    <a:lnTo>
                      <a:pt x="208" y="47"/>
                    </a:lnTo>
                    <a:close/>
                    <a:moveTo>
                      <a:pt x="263" y="47"/>
                    </a:moveTo>
                    <a:lnTo>
                      <a:pt x="283" y="35"/>
                    </a:lnTo>
                    <a:lnTo>
                      <a:pt x="283" y="11"/>
                    </a:lnTo>
                    <a:lnTo>
                      <a:pt x="263" y="0"/>
                    </a:lnTo>
                    <a:lnTo>
                      <a:pt x="243" y="11"/>
                    </a:lnTo>
                    <a:lnTo>
                      <a:pt x="243" y="35"/>
                    </a:lnTo>
                    <a:lnTo>
                      <a:pt x="263" y="47"/>
                    </a:lnTo>
                    <a:close/>
                    <a:moveTo>
                      <a:pt x="47" y="422"/>
                    </a:moveTo>
                    <a:lnTo>
                      <a:pt x="67" y="408"/>
                    </a:lnTo>
                    <a:lnTo>
                      <a:pt x="67" y="386"/>
                    </a:lnTo>
                    <a:lnTo>
                      <a:pt x="47" y="375"/>
                    </a:lnTo>
                    <a:lnTo>
                      <a:pt x="26" y="386"/>
                    </a:lnTo>
                    <a:lnTo>
                      <a:pt x="26" y="408"/>
                    </a:lnTo>
                    <a:lnTo>
                      <a:pt x="47" y="422"/>
                    </a:lnTo>
                    <a:close/>
                    <a:moveTo>
                      <a:pt x="100" y="422"/>
                    </a:moveTo>
                    <a:lnTo>
                      <a:pt x="120" y="408"/>
                    </a:lnTo>
                    <a:lnTo>
                      <a:pt x="120" y="386"/>
                    </a:lnTo>
                    <a:lnTo>
                      <a:pt x="100" y="375"/>
                    </a:lnTo>
                    <a:lnTo>
                      <a:pt x="81" y="386"/>
                    </a:lnTo>
                    <a:lnTo>
                      <a:pt x="81" y="408"/>
                    </a:lnTo>
                    <a:lnTo>
                      <a:pt x="100" y="422"/>
                    </a:lnTo>
                    <a:close/>
                    <a:moveTo>
                      <a:pt x="155" y="422"/>
                    </a:moveTo>
                    <a:lnTo>
                      <a:pt x="175" y="408"/>
                    </a:lnTo>
                    <a:lnTo>
                      <a:pt x="175" y="386"/>
                    </a:lnTo>
                    <a:lnTo>
                      <a:pt x="155" y="375"/>
                    </a:lnTo>
                    <a:lnTo>
                      <a:pt x="135" y="386"/>
                    </a:lnTo>
                    <a:lnTo>
                      <a:pt x="135" y="408"/>
                    </a:lnTo>
                    <a:lnTo>
                      <a:pt x="155" y="422"/>
                    </a:lnTo>
                    <a:close/>
                    <a:moveTo>
                      <a:pt x="208" y="422"/>
                    </a:moveTo>
                    <a:lnTo>
                      <a:pt x="230" y="408"/>
                    </a:lnTo>
                    <a:lnTo>
                      <a:pt x="230" y="386"/>
                    </a:lnTo>
                    <a:lnTo>
                      <a:pt x="208" y="375"/>
                    </a:lnTo>
                    <a:lnTo>
                      <a:pt x="188" y="386"/>
                    </a:lnTo>
                    <a:lnTo>
                      <a:pt x="188" y="408"/>
                    </a:lnTo>
                    <a:lnTo>
                      <a:pt x="208" y="422"/>
                    </a:lnTo>
                    <a:close/>
                    <a:moveTo>
                      <a:pt x="263" y="422"/>
                    </a:moveTo>
                    <a:lnTo>
                      <a:pt x="283" y="408"/>
                    </a:lnTo>
                    <a:lnTo>
                      <a:pt x="283" y="386"/>
                    </a:lnTo>
                    <a:lnTo>
                      <a:pt x="263" y="375"/>
                    </a:lnTo>
                    <a:lnTo>
                      <a:pt x="243" y="386"/>
                    </a:lnTo>
                    <a:lnTo>
                      <a:pt x="243" y="408"/>
                    </a:lnTo>
                    <a:lnTo>
                      <a:pt x="263" y="422"/>
                    </a:lnTo>
                    <a:close/>
                    <a:moveTo>
                      <a:pt x="318" y="422"/>
                    </a:moveTo>
                    <a:lnTo>
                      <a:pt x="338" y="408"/>
                    </a:lnTo>
                    <a:lnTo>
                      <a:pt x="338" y="386"/>
                    </a:lnTo>
                    <a:lnTo>
                      <a:pt x="318" y="375"/>
                    </a:lnTo>
                    <a:lnTo>
                      <a:pt x="298" y="386"/>
                    </a:lnTo>
                    <a:lnTo>
                      <a:pt x="298" y="408"/>
                    </a:lnTo>
                    <a:lnTo>
                      <a:pt x="318" y="422"/>
                    </a:lnTo>
                    <a:close/>
                    <a:moveTo>
                      <a:pt x="20" y="375"/>
                    </a:moveTo>
                    <a:lnTo>
                      <a:pt x="39" y="361"/>
                    </a:lnTo>
                    <a:lnTo>
                      <a:pt x="39" y="339"/>
                    </a:lnTo>
                    <a:lnTo>
                      <a:pt x="20" y="328"/>
                    </a:lnTo>
                    <a:lnTo>
                      <a:pt x="0" y="339"/>
                    </a:lnTo>
                    <a:lnTo>
                      <a:pt x="0" y="361"/>
                    </a:lnTo>
                    <a:lnTo>
                      <a:pt x="20" y="375"/>
                    </a:lnTo>
                    <a:close/>
                    <a:moveTo>
                      <a:pt x="74" y="375"/>
                    </a:moveTo>
                    <a:lnTo>
                      <a:pt x="94" y="361"/>
                    </a:lnTo>
                    <a:lnTo>
                      <a:pt x="94" y="339"/>
                    </a:lnTo>
                    <a:lnTo>
                      <a:pt x="74" y="328"/>
                    </a:lnTo>
                    <a:lnTo>
                      <a:pt x="55" y="339"/>
                    </a:lnTo>
                    <a:lnTo>
                      <a:pt x="55" y="361"/>
                    </a:lnTo>
                    <a:lnTo>
                      <a:pt x="74" y="375"/>
                    </a:lnTo>
                    <a:close/>
                    <a:moveTo>
                      <a:pt x="129" y="375"/>
                    </a:moveTo>
                    <a:lnTo>
                      <a:pt x="149" y="361"/>
                    </a:lnTo>
                    <a:lnTo>
                      <a:pt x="149" y="339"/>
                    </a:lnTo>
                    <a:lnTo>
                      <a:pt x="129" y="328"/>
                    </a:lnTo>
                    <a:lnTo>
                      <a:pt x="108" y="339"/>
                    </a:lnTo>
                    <a:lnTo>
                      <a:pt x="108" y="361"/>
                    </a:lnTo>
                    <a:lnTo>
                      <a:pt x="129" y="375"/>
                    </a:lnTo>
                    <a:close/>
                    <a:moveTo>
                      <a:pt x="181" y="375"/>
                    </a:moveTo>
                    <a:lnTo>
                      <a:pt x="202" y="361"/>
                    </a:lnTo>
                    <a:lnTo>
                      <a:pt x="202" y="339"/>
                    </a:lnTo>
                    <a:lnTo>
                      <a:pt x="181" y="328"/>
                    </a:lnTo>
                    <a:lnTo>
                      <a:pt x="161" y="339"/>
                    </a:lnTo>
                    <a:lnTo>
                      <a:pt x="161" y="361"/>
                    </a:lnTo>
                    <a:lnTo>
                      <a:pt x="181" y="375"/>
                    </a:lnTo>
                    <a:close/>
                    <a:moveTo>
                      <a:pt x="237" y="375"/>
                    </a:moveTo>
                    <a:lnTo>
                      <a:pt x="257" y="361"/>
                    </a:lnTo>
                    <a:lnTo>
                      <a:pt x="257" y="339"/>
                    </a:lnTo>
                    <a:lnTo>
                      <a:pt x="237" y="328"/>
                    </a:lnTo>
                    <a:lnTo>
                      <a:pt x="217" y="339"/>
                    </a:lnTo>
                    <a:lnTo>
                      <a:pt x="217" y="361"/>
                    </a:lnTo>
                    <a:lnTo>
                      <a:pt x="237" y="375"/>
                    </a:lnTo>
                    <a:close/>
                    <a:moveTo>
                      <a:pt x="289" y="375"/>
                    </a:moveTo>
                    <a:lnTo>
                      <a:pt x="312" y="361"/>
                    </a:lnTo>
                    <a:lnTo>
                      <a:pt x="312" y="339"/>
                    </a:lnTo>
                    <a:lnTo>
                      <a:pt x="289" y="328"/>
                    </a:lnTo>
                    <a:lnTo>
                      <a:pt x="269" y="339"/>
                    </a:lnTo>
                    <a:lnTo>
                      <a:pt x="269" y="361"/>
                    </a:lnTo>
                    <a:lnTo>
                      <a:pt x="289" y="375"/>
                    </a:lnTo>
                    <a:close/>
                    <a:moveTo>
                      <a:pt x="47" y="326"/>
                    </a:moveTo>
                    <a:lnTo>
                      <a:pt x="67" y="314"/>
                    </a:lnTo>
                    <a:lnTo>
                      <a:pt x="67" y="293"/>
                    </a:lnTo>
                    <a:lnTo>
                      <a:pt x="47" y="281"/>
                    </a:lnTo>
                    <a:lnTo>
                      <a:pt x="26" y="293"/>
                    </a:lnTo>
                    <a:lnTo>
                      <a:pt x="26" y="314"/>
                    </a:lnTo>
                    <a:lnTo>
                      <a:pt x="47" y="326"/>
                    </a:lnTo>
                    <a:close/>
                    <a:moveTo>
                      <a:pt x="100" y="326"/>
                    </a:moveTo>
                    <a:lnTo>
                      <a:pt x="120" y="314"/>
                    </a:lnTo>
                    <a:lnTo>
                      <a:pt x="120" y="293"/>
                    </a:lnTo>
                    <a:lnTo>
                      <a:pt x="100" y="281"/>
                    </a:lnTo>
                    <a:lnTo>
                      <a:pt x="81" y="293"/>
                    </a:lnTo>
                    <a:lnTo>
                      <a:pt x="81" y="314"/>
                    </a:lnTo>
                    <a:lnTo>
                      <a:pt x="100" y="326"/>
                    </a:lnTo>
                    <a:close/>
                    <a:moveTo>
                      <a:pt x="155" y="326"/>
                    </a:moveTo>
                    <a:lnTo>
                      <a:pt x="175" y="314"/>
                    </a:lnTo>
                    <a:lnTo>
                      <a:pt x="175" y="293"/>
                    </a:lnTo>
                    <a:lnTo>
                      <a:pt x="155" y="281"/>
                    </a:lnTo>
                    <a:lnTo>
                      <a:pt x="135" y="293"/>
                    </a:lnTo>
                    <a:lnTo>
                      <a:pt x="135" y="314"/>
                    </a:lnTo>
                    <a:lnTo>
                      <a:pt x="155" y="326"/>
                    </a:lnTo>
                    <a:close/>
                    <a:moveTo>
                      <a:pt x="208" y="326"/>
                    </a:moveTo>
                    <a:lnTo>
                      <a:pt x="230" y="314"/>
                    </a:lnTo>
                    <a:lnTo>
                      <a:pt x="230" y="293"/>
                    </a:lnTo>
                    <a:lnTo>
                      <a:pt x="208" y="281"/>
                    </a:lnTo>
                    <a:lnTo>
                      <a:pt x="188" y="293"/>
                    </a:lnTo>
                    <a:lnTo>
                      <a:pt x="188" y="314"/>
                    </a:lnTo>
                    <a:lnTo>
                      <a:pt x="208" y="326"/>
                    </a:lnTo>
                    <a:close/>
                    <a:moveTo>
                      <a:pt x="263" y="326"/>
                    </a:moveTo>
                    <a:lnTo>
                      <a:pt x="283" y="314"/>
                    </a:lnTo>
                    <a:lnTo>
                      <a:pt x="283" y="293"/>
                    </a:lnTo>
                    <a:lnTo>
                      <a:pt x="263" y="281"/>
                    </a:lnTo>
                    <a:lnTo>
                      <a:pt x="243" y="293"/>
                    </a:lnTo>
                    <a:lnTo>
                      <a:pt x="243" y="314"/>
                    </a:lnTo>
                    <a:lnTo>
                      <a:pt x="263" y="326"/>
                    </a:lnTo>
                    <a:close/>
                    <a:moveTo>
                      <a:pt x="318" y="326"/>
                    </a:moveTo>
                    <a:lnTo>
                      <a:pt x="338" y="314"/>
                    </a:lnTo>
                    <a:lnTo>
                      <a:pt x="338" y="293"/>
                    </a:lnTo>
                    <a:lnTo>
                      <a:pt x="318" y="281"/>
                    </a:lnTo>
                    <a:lnTo>
                      <a:pt x="298" y="293"/>
                    </a:lnTo>
                    <a:lnTo>
                      <a:pt x="298" y="314"/>
                    </a:lnTo>
                    <a:lnTo>
                      <a:pt x="318" y="326"/>
                    </a:lnTo>
                    <a:close/>
                    <a:moveTo>
                      <a:pt x="371" y="514"/>
                    </a:moveTo>
                    <a:lnTo>
                      <a:pt x="392" y="504"/>
                    </a:lnTo>
                    <a:lnTo>
                      <a:pt x="392" y="478"/>
                    </a:lnTo>
                    <a:lnTo>
                      <a:pt x="371" y="468"/>
                    </a:lnTo>
                    <a:lnTo>
                      <a:pt x="351" y="478"/>
                    </a:lnTo>
                    <a:lnTo>
                      <a:pt x="351" y="504"/>
                    </a:lnTo>
                    <a:lnTo>
                      <a:pt x="371" y="514"/>
                    </a:lnTo>
                    <a:close/>
                    <a:moveTo>
                      <a:pt x="426" y="514"/>
                    </a:moveTo>
                    <a:lnTo>
                      <a:pt x="445" y="504"/>
                    </a:lnTo>
                    <a:lnTo>
                      <a:pt x="445" y="478"/>
                    </a:lnTo>
                    <a:lnTo>
                      <a:pt x="426" y="468"/>
                    </a:lnTo>
                    <a:lnTo>
                      <a:pt x="406" y="478"/>
                    </a:lnTo>
                    <a:lnTo>
                      <a:pt x="406" y="504"/>
                    </a:lnTo>
                    <a:lnTo>
                      <a:pt x="426" y="514"/>
                    </a:lnTo>
                    <a:close/>
                    <a:moveTo>
                      <a:pt x="480" y="514"/>
                    </a:moveTo>
                    <a:lnTo>
                      <a:pt x="500" y="504"/>
                    </a:lnTo>
                    <a:lnTo>
                      <a:pt x="500" y="478"/>
                    </a:lnTo>
                    <a:lnTo>
                      <a:pt x="480" y="468"/>
                    </a:lnTo>
                    <a:lnTo>
                      <a:pt x="458" y="478"/>
                    </a:lnTo>
                    <a:lnTo>
                      <a:pt x="458" y="504"/>
                    </a:lnTo>
                    <a:lnTo>
                      <a:pt x="480" y="514"/>
                    </a:lnTo>
                    <a:close/>
                    <a:moveTo>
                      <a:pt x="532" y="514"/>
                    </a:moveTo>
                    <a:lnTo>
                      <a:pt x="552" y="504"/>
                    </a:lnTo>
                    <a:lnTo>
                      <a:pt x="552" y="478"/>
                    </a:lnTo>
                    <a:lnTo>
                      <a:pt x="532" y="468"/>
                    </a:lnTo>
                    <a:lnTo>
                      <a:pt x="514" y="478"/>
                    </a:lnTo>
                    <a:lnTo>
                      <a:pt x="514" y="504"/>
                    </a:lnTo>
                    <a:lnTo>
                      <a:pt x="532" y="514"/>
                    </a:lnTo>
                    <a:close/>
                    <a:moveTo>
                      <a:pt x="586" y="514"/>
                    </a:moveTo>
                    <a:lnTo>
                      <a:pt x="608" y="504"/>
                    </a:lnTo>
                    <a:lnTo>
                      <a:pt x="608" y="478"/>
                    </a:lnTo>
                    <a:lnTo>
                      <a:pt x="586" y="468"/>
                    </a:lnTo>
                    <a:lnTo>
                      <a:pt x="566" y="478"/>
                    </a:lnTo>
                    <a:lnTo>
                      <a:pt x="566" y="504"/>
                    </a:lnTo>
                    <a:lnTo>
                      <a:pt x="586" y="514"/>
                    </a:lnTo>
                    <a:close/>
                    <a:moveTo>
                      <a:pt x="452" y="468"/>
                    </a:moveTo>
                    <a:lnTo>
                      <a:pt x="473" y="454"/>
                    </a:lnTo>
                    <a:lnTo>
                      <a:pt x="473" y="432"/>
                    </a:lnTo>
                    <a:lnTo>
                      <a:pt x="452" y="422"/>
                    </a:lnTo>
                    <a:lnTo>
                      <a:pt x="432" y="432"/>
                    </a:lnTo>
                    <a:lnTo>
                      <a:pt x="432" y="454"/>
                    </a:lnTo>
                    <a:lnTo>
                      <a:pt x="452" y="468"/>
                    </a:lnTo>
                    <a:close/>
                    <a:moveTo>
                      <a:pt x="505" y="468"/>
                    </a:moveTo>
                    <a:lnTo>
                      <a:pt x="526" y="454"/>
                    </a:lnTo>
                    <a:lnTo>
                      <a:pt x="526" y="432"/>
                    </a:lnTo>
                    <a:lnTo>
                      <a:pt x="505" y="422"/>
                    </a:lnTo>
                    <a:lnTo>
                      <a:pt x="485" y="432"/>
                    </a:lnTo>
                    <a:lnTo>
                      <a:pt x="485" y="454"/>
                    </a:lnTo>
                    <a:lnTo>
                      <a:pt x="505" y="468"/>
                    </a:lnTo>
                    <a:close/>
                    <a:moveTo>
                      <a:pt x="560" y="468"/>
                    </a:moveTo>
                    <a:lnTo>
                      <a:pt x="579" y="454"/>
                    </a:lnTo>
                    <a:lnTo>
                      <a:pt x="579" y="432"/>
                    </a:lnTo>
                    <a:lnTo>
                      <a:pt x="560" y="422"/>
                    </a:lnTo>
                    <a:lnTo>
                      <a:pt x="540" y="432"/>
                    </a:lnTo>
                    <a:lnTo>
                      <a:pt x="540" y="454"/>
                    </a:lnTo>
                    <a:lnTo>
                      <a:pt x="560" y="468"/>
                    </a:lnTo>
                    <a:close/>
                    <a:moveTo>
                      <a:pt x="344" y="468"/>
                    </a:moveTo>
                    <a:lnTo>
                      <a:pt x="364" y="454"/>
                    </a:lnTo>
                    <a:lnTo>
                      <a:pt x="364" y="432"/>
                    </a:lnTo>
                    <a:lnTo>
                      <a:pt x="344" y="422"/>
                    </a:lnTo>
                    <a:lnTo>
                      <a:pt x="324" y="432"/>
                    </a:lnTo>
                    <a:lnTo>
                      <a:pt x="324" y="454"/>
                    </a:lnTo>
                    <a:lnTo>
                      <a:pt x="344" y="468"/>
                    </a:lnTo>
                    <a:close/>
                    <a:moveTo>
                      <a:pt x="400" y="468"/>
                    </a:moveTo>
                    <a:lnTo>
                      <a:pt x="418" y="454"/>
                    </a:lnTo>
                    <a:lnTo>
                      <a:pt x="418" y="432"/>
                    </a:lnTo>
                    <a:lnTo>
                      <a:pt x="400" y="422"/>
                    </a:lnTo>
                    <a:lnTo>
                      <a:pt x="379" y="432"/>
                    </a:lnTo>
                    <a:lnTo>
                      <a:pt x="379" y="454"/>
                    </a:lnTo>
                    <a:lnTo>
                      <a:pt x="400" y="468"/>
                    </a:lnTo>
                    <a:close/>
                    <a:moveTo>
                      <a:pt x="560" y="279"/>
                    </a:moveTo>
                    <a:lnTo>
                      <a:pt x="579" y="269"/>
                    </a:lnTo>
                    <a:lnTo>
                      <a:pt x="579" y="246"/>
                    </a:lnTo>
                    <a:lnTo>
                      <a:pt x="560" y="233"/>
                    </a:lnTo>
                    <a:lnTo>
                      <a:pt x="540" y="246"/>
                    </a:lnTo>
                    <a:lnTo>
                      <a:pt x="540" y="269"/>
                    </a:lnTo>
                    <a:lnTo>
                      <a:pt x="560" y="279"/>
                    </a:lnTo>
                    <a:close/>
                    <a:moveTo>
                      <a:pt x="344" y="279"/>
                    </a:moveTo>
                    <a:lnTo>
                      <a:pt x="364" y="269"/>
                    </a:lnTo>
                    <a:lnTo>
                      <a:pt x="364" y="246"/>
                    </a:lnTo>
                    <a:lnTo>
                      <a:pt x="344" y="233"/>
                    </a:lnTo>
                    <a:lnTo>
                      <a:pt x="324" y="246"/>
                    </a:lnTo>
                    <a:lnTo>
                      <a:pt x="324" y="269"/>
                    </a:lnTo>
                    <a:lnTo>
                      <a:pt x="344" y="279"/>
                    </a:lnTo>
                    <a:close/>
                    <a:moveTo>
                      <a:pt x="400" y="279"/>
                    </a:moveTo>
                    <a:lnTo>
                      <a:pt x="418" y="269"/>
                    </a:lnTo>
                    <a:lnTo>
                      <a:pt x="418" y="246"/>
                    </a:lnTo>
                    <a:lnTo>
                      <a:pt x="400" y="233"/>
                    </a:lnTo>
                    <a:lnTo>
                      <a:pt x="379" y="246"/>
                    </a:lnTo>
                    <a:lnTo>
                      <a:pt x="379" y="269"/>
                    </a:lnTo>
                    <a:lnTo>
                      <a:pt x="400" y="279"/>
                    </a:lnTo>
                    <a:close/>
                    <a:moveTo>
                      <a:pt x="452" y="279"/>
                    </a:moveTo>
                    <a:lnTo>
                      <a:pt x="473" y="269"/>
                    </a:lnTo>
                    <a:lnTo>
                      <a:pt x="473" y="246"/>
                    </a:lnTo>
                    <a:lnTo>
                      <a:pt x="452" y="233"/>
                    </a:lnTo>
                    <a:lnTo>
                      <a:pt x="432" y="246"/>
                    </a:lnTo>
                    <a:lnTo>
                      <a:pt x="432" y="269"/>
                    </a:lnTo>
                    <a:lnTo>
                      <a:pt x="452" y="279"/>
                    </a:lnTo>
                    <a:close/>
                    <a:moveTo>
                      <a:pt x="505" y="279"/>
                    </a:moveTo>
                    <a:lnTo>
                      <a:pt x="526" y="269"/>
                    </a:lnTo>
                    <a:lnTo>
                      <a:pt x="526" y="246"/>
                    </a:lnTo>
                    <a:lnTo>
                      <a:pt x="505" y="233"/>
                    </a:lnTo>
                    <a:lnTo>
                      <a:pt x="485" y="246"/>
                    </a:lnTo>
                    <a:lnTo>
                      <a:pt x="485" y="269"/>
                    </a:lnTo>
                    <a:lnTo>
                      <a:pt x="505" y="279"/>
                    </a:lnTo>
                    <a:close/>
                    <a:moveTo>
                      <a:pt x="371" y="233"/>
                    </a:moveTo>
                    <a:lnTo>
                      <a:pt x="392" y="222"/>
                    </a:lnTo>
                    <a:lnTo>
                      <a:pt x="392" y="199"/>
                    </a:lnTo>
                    <a:lnTo>
                      <a:pt x="371" y="187"/>
                    </a:lnTo>
                    <a:lnTo>
                      <a:pt x="351" y="199"/>
                    </a:lnTo>
                    <a:lnTo>
                      <a:pt x="351" y="222"/>
                    </a:lnTo>
                    <a:lnTo>
                      <a:pt x="371" y="233"/>
                    </a:lnTo>
                    <a:close/>
                    <a:moveTo>
                      <a:pt x="426" y="233"/>
                    </a:moveTo>
                    <a:lnTo>
                      <a:pt x="445" y="222"/>
                    </a:lnTo>
                    <a:lnTo>
                      <a:pt x="445" y="199"/>
                    </a:lnTo>
                    <a:lnTo>
                      <a:pt x="426" y="187"/>
                    </a:lnTo>
                    <a:lnTo>
                      <a:pt x="406" y="199"/>
                    </a:lnTo>
                    <a:lnTo>
                      <a:pt x="406" y="222"/>
                    </a:lnTo>
                    <a:lnTo>
                      <a:pt x="426" y="233"/>
                    </a:lnTo>
                    <a:close/>
                    <a:moveTo>
                      <a:pt x="480" y="233"/>
                    </a:moveTo>
                    <a:lnTo>
                      <a:pt x="500" y="222"/>
                    </a:lnTo>
                    <a:lnTo>
                      <a:pt x="500" y="199"/>
                    </a:lnTo>
                    <a:lnTo>
                      <a:pt x="480" y="187"/>
                    </a:lnTo>
                    <a:lnTo>
                      <a:pt x="458" y="199"/>
                    </a:lnTo>
                    <a:lnTo>
                      <a:pt x="458" y="222"/>
                    </a:lnTo>
                    <a:lnTo>
                      <a:pt x="480" y="233"/>
                    </a:lnTo>
                    <a:close/>
                    <a:moveTo>
                      <a:pt x="532" y="233"/>
                    </a:moveTo>
                    <a:lnTo>
                      <a:pt x="552" y="222"/>
                    </a:lnTo>
                    <a:lnTo>
                      <a:pt x="552" y="199"/>
                    </a:lnTo>
                    <a:lnTo>
                      <a:pt x="532" y="187"/>
                    </a:lnTo>
                    <a:lnTo>
                      <a:pt x="514" y="199"/>
                    </a:lnTo>
                    <a:lnTo>
                      <a:pt x="514" y="222"/>
                    </a:lnTo>
                    <a:lnTo>
                      <a:pt x="532" y="233"/>
                    </a:lnTo>
                    <a:close/>
                    <a:moveTo>
                      <a:pt x="344" y="187"/>
                    </a:moveTo>
                    <a:lnTo>
                      <a:pt x="364" y="175"/>
                    </a:lnTo>
                    <a:lnTo>
                      <a:pt x="364" y="153"/>
                    </a:lnTo>
                    <a:lnTo>
                      <a:pt x="344" y="140"/>
                    </a:lnTo>
                    <a:lnTo>
                      <a:pt x="324" y="153"/>
                    </a:lnTo>
                    <a:lnTo>
                      <a:pt x="324" y="175"/>
                    </a:lnTo>
                    <a:lnTo>
                      <a:pt x="344" y="187"/>
                    </a:lnTo>
                    <a:close/>
                    <a:moveTo>
                      <a:pt x="400" y="187"/>
                    </a:moveTo>
                    <a:lnTo>
                      <a:pt x="418" y="175"/>
                    </a:lnTo>
                    <a:lnTo>
                      <a:pt x="418" y="153"/>
                    </a:lnTo>
                    <a:lnTo>
                      <a:pt x="400" y="140"/>
                    </a:lnTo>
                    <a:lnTo>
                      <a:pt x="379" y="153"/>
                    </a:lnTo>
                    <a:lnTo>
                      <a:pt x="379" y="175"/>
                    </a:lnTo>
                    <a:lnTo>
                      <a:pt x="400" y="187"/>
                    </a:lnTo>
                    <a:close/>
                    <a:moveTo>
                      <a:pt x="452" y="187"/>
                    </a:moveTo>
                    <a:lnTo>
                      <a:pt x="473" y="175"/>
                    </a:lnTo>
                    <a:lnTo>
                      <a:pt x="473" y="153"/>
                    </a:lnTo>
                    <a:lnTo>
                      <a:pt x="452" y="140"/>
                    </a:lnTo>
                    <a:lnTo>
                      <a:pt x="432" y="153"/>
                    </a:lnTo>
                    <a:lnTo>
                      <a:pt x="432" y="175"/>
                    </a:lnTo>
                    <a:lnTo>
                      <a:pt x="452" y="187"/>
                    </a:lnTo>
                    <a:close/>
                    <a:moveTo>
                      <a:pt x="505" y="187"/>
                    </a:moveTo>
                    <a:lnTo>
                      <a:pt x="526" y="175"/>
                    </a:lnTo>
                    <a:lnTo>
                      <a:pt x="526" y="153"/>
                    </a:lnTo>
                    <a:lnTo>
                      <a:pt x="505" y="140"/>
                    </a:lnTo>
                    <a:lnTo>
                      <a:pt x="485" y="153"/>
                    </a:lnTo>
                    <a:lnTo>
                      <a:pt x="485" y="175"/>
                    </a:lnTo>
                    <a:lnTo>
                      <a:pt x="505" y="187"/>
                    </a:lnTo>
                    <a:close/>
                    <a:moveTo>
                      <a:pt x="560" y="187"/>
                    </a:moveTo>
                    <a:lnTo>
                      <a:pt x="579" y="175"/>
                    </a:lnTo>
                    <a:lnTo>
                      <a:pt x="579" y="153"/>
                    </a:lnTo>
                    <a:lnTo>
                      <a:pt x="560" y="140"/>
                    </a:lnTo>
                    <a:lnTo>
                      <a:pt x="540" y="153"/>
                    </a:lnTo>
                    <a:lnTo>
                      <a:pt x="540" y="175"/>
                    </a:lnTo>
                    <a:lnTo>
                      <a:pt x="560" y="187"/>
                    </a:lnTo>
                    <a:close/>
                    <a:moveTo>
                      <a:pt x="480" y="422"/>
                    </a:moveTo>
                    <a:lnTo>
                      <a:pt x="500" y="408"/>
                    </a:lnTo>
                    <a:lnTo>
                      <a:pt x="500" y="386"/>
                    </a:lnTo>
                    <a:lnTo>
                      <a:pt x="480" y="375"/>
                    </a:lnTo>
                    <a:lnTo>
                      <a:pt x="458" y="386"/>
                    </a:lnTo>
                    <a:lnTo>
                      <a:pt x="458" y="408"/>
                    </a:lnTo>
                    <a:lnTo>
                      <a:pt x="480" y="422"/>
                    </a:lnTo>
                    <a:close/>
                    <a:moveTo>
                      <a:pt x="532" y="422"/>
                    </a:moveTo>
                    <a:lnTo>
                      <a:pt x="552" y="408"/>
                    </a:lnTo>
                    <a:lnTo>
                      <a:pt x="552" y="386"/>
                    </a:lnTo>
                    <a:lnTo>
                      <a:pt x="532" y="375"/>
                    </a:lnTo>
                    <a:lnTo>
                      <a:pt x="514" y="386"/>
                    </a:lnTo>
                    <a:lnTo>
                      <a:pt x="514" y="408"/>
                    </a:lnTo>
                    <a:lnTo>
                      <a:pt x="532" y="422"/>
                    </a:lnTo>
                    <a:close/>
                    <a:moveTo>
                      <a:pt x="586" y="422"/>
                    </a:moveTo>
                    <a:lnTo>
                      <a:pt x="608" y="408"/>
                    </a:lnTo>
                    <a:lnTo>
                      <a:pt x="608" y="386"/>
                    </a:lnTo>
                    <a:lnTo>
                      <a:pt x="586" y="375"/>
                    </a:lnTo>
                    <a:lnTo>
                      <a:pt x="566" y="386"/>
                    </a:lnTo>
                    <a:lnTo>
                      <a:pt x="566" y="408"/>
                    </a:lnTo>
                    <a:lnTo>
                      <a:pt x="586" y="422"/>
                    </a:lnTo>
                    <a:close/>
                    <a:moveTo>
                      <a:pt x="371" y="422"/>
                    </a:moveTo>
                    <a:lnTo>
                      <a:pt x="392" y="408"/>
                    </a:lnTo>
                    <a:lnTo>
                      <a:pt x="392" y="386"/>
                    </a:lnTo>
                    <a:lnTo>
                      <a:pt x="371" y="375"/>
                    </a:lnTo>
                    <a:lnTo>
                      <a:pt x="351" y="386"/>
                    </a:lnTo>
                    <a:lnTo>
                      <a:pt x="351" y="408"/>
                    </a:lnTo>
                    <a:lnTo>
                      <a:pt x="371" y="422"/>
                    </a:lnTo>
                    <a:close/>
                    <a:moveTo>
                      <a:pt x="426" y="422"/>
                    </a:moveTo>
                    <a:lnTo>
                      <a:pt x="445" y="408"/>
                    </a:lnTo>
                    <a:lnTo>
                      <a:pt x="445" y="386"/>
                    </a:lnTo>
                    <a:lnTo>
                      <a:pt x="426" y="375"/>
                    </a:lnTo>
                    <a:lnTo>
                      <a:pt x="406" y="386"/>
                    </a:lnTo>
                    <a:lnTo>
                      <a:pt x="406" y="408"/>
                    </a:lnTo>
                    <a:lnTo>
                      <a:pt x="426" y="422"/>
                    </a:lnTo>
                    <a:close/>
                    <a:moveTo>
                      <a:pt x="400" y="375"/>
                    </a:moveTo>
                    <a:lnTo>
                      <a:pt x="418" y="361"/>
                    </a:lnTo>
                    <a:lnTo>
                      <a:pt x="418" y="339"/>
                    </a:lnTo>
                    <a:lnTo>
                      <a:pt x="400" y="328"/>
                    </a:lnTo>
                    <a:lnTo>
                      <a:pt x="379" y="339"/>
                    </a:lnTo>
                    <a:lnTo>
                      <a:pt x="379" y="361"/>
                    </a:lnTo>
                    <a:lnTo>
                      <a:pt x="400" y="375"/>
                    </a:lnTo>
                    <a:close/>
                    <a:moveTo>
                      <a:pt x="452" y="375"/>
                    </a:moveTo>
                    <a:lnTo>
                      <a:pt x="473" y="361"/>
                    </a:lnTo>
                    <a:lnTo>
                      <a:pt x="473" y="339"/>
                    </a:lnTo>
                    <a:lnTo>
                      <a:pt x="452" y="328"/>
                    </a:lnTo>
                    <a:lnTo>
                      <a:pt x="432" y="339"/>
                    </a:lnTo>
                    <a:lnTo>
                      <a:pt x="432" y="361"/>
                    </a:lnTo>
                    <a:lnTo>
                      <a:pt x="452" y="375"/>
                    </a:lnTo>
                    <a:close/>
                    <a:moveTo>
                      <a:pt x="505" y="375"/>
                    </a:moveTo>
                    <a:lnTo>
                      <a:pt x="526" y="361"/>
                    </a:lnTo>
                    <a:lnTo>
                      <a:pt x="526" y="339"/>
                    </a:lnTo>
                    <a:lnTo>
                      <a:pt x="505" y="328"/>
                    </a:lnTo>
                    <a:lnTo>
                      <a:pt x="485" y="339"/>
                    </a:lnTo>
                    <a:lnTo>
                      <a:pt x="485" y="361"/>
                    </a:lnTo>
                    <a:lnTo>
                      <a:pt x="505" y="375"/>
                    </a:lnTo>
                    <a:close/>
                    <a:moveTo>
                      <a:pt x="560" y="375"/>
                    </a:moveTo>
                    <a:lnTo>
                      <a:pt x="579" y="361"/>
                    </a:lnTo>
                    <a:lnTo>
                      <a:pt x="579" y="339"/>
                    </a:lnTo>
                    <a:lnTo>
                      <a:pt x="560" y="328"/>
                    </a:lnTo>
                    <a:lnTo>
                      <a:pt x="540" y="339"/>
                    </a:lnTo>
                    <a:lnTo>
                      <a:pt x="540" y="361"/>
                    </a:lnTo>
                    <a:lnTo>
                      <a:pt x="560" y="375"/>
                    </a:lnTo>
                    <a:close/>
                    <a:moveTo>
                      <a:pt x="344" y="375"/>
                    </a:moveTo>
                    <a:lnTo>
                      <a:pt x="364" y="361"/>
                    </a:lnTo>
                    <a:lnTo>
                      <a:pt x="364" y="339"/>
                    </a:lnTo>
                    <a:lnTo>
                      <a:pt x="344" y="328"/>
                    </a:lnTo>
                    <a:lnTo>
                      <a:pt x="324" y="339"/>
                    </a:lnTo>
                    <a:lnTo>
                      <a:pt x="324" y="361"/>
                    </a:lnTo>
                    <a:lnTo>
                      <a:pt x="344" y="375"/>
                    </a:lnTo>
                    <a:close/>
                    <a:moveTo>
                      <a:pt x="371" y="326"/>
                    </a:moveTo>
                    <a:lnTo>
                      <a:pt x="392" y="314"/>
                    </a:lnTo>
                    <a:lnTo>
                      <a:pt x="392" y="293"/>
                    </a:lnTo>
                    <a:lnTo>
                      <a:pt x="371" y="281"/>
                    </a:lnTo>
                    <a:lnTo>
                      <a:pt x="351" y="293"/>
                    </a:lnTo>
                    <a:lnTo>
                      <a:pt x="351" y="314"/>
                    </a:lnTo>
                    <a:lnTo>
                      <a:pt x="371" y="326"/>
                    </a:lnTo>
                    <a:close/>
                    <a:moveTo>
                      <a:pt x="426" y="326"/>
                    </a:moveTo>
                    <a:lnTo>
                      <a:pt x="445" y="314"/>
                    </a:lnTo>
                    <a:lnTo>
                      <a:pt x="445" y="293"/>
                    </a:lnTo>
                    <a:lnTo>
                      <a:pt x="426" y="281"/>
                    </a:lnTo>
                    <a:lnTo>
                      <a:pt x="406" y="293"/>
                    </a:lnTo>
                    <a:lnTo>
                      <a:pt x="406" y="314"/>
                    </a:lnTo>
                    <a:lnTo>
                      <a:pt x="426" y="326"/>
                    </a:lnTo>
                    <a:close/>
                    <a:moveTo>
                      <a:pt x="480" y="326"/>
                    </a:moveTo>
                    <a:lnTo>
                      <a:pt x="500" y="314"/>
                    </a:lnTo>
                    <a:lnTo>
                      <a:pt x="500" y="293"/>
                    </a:lnTo>
                    <a:lnTo>
                      <a:pt x="480" y="281"/>
                    </a:lnTo>
                    <a:lnTo>
                      <a:pt x="458" y="293"/>
                    </a:lnTo>
                    <a:lnTo>
                      <a:pt x="458" y="314"/>
                    </a:lnTo>
                    <a:lnTo>
                      <a:pt x="480" y="326"/>
                    </a:lnTo>
                    <a:close/>
                    <a:moveTo>
                      <a:pt x="532" y="326"/>
                    </a:moveTo>
                    <a:lnTo>
                      <a:pt x="552" y="314"/>
                    </a:lnTo>
                    <a:lnTo>
                      <a:pt x="552" y="293"/>
                    </a:lnTo>
                    <a:lnTo>
                      <a:pt x="532" y="281"/>
                    </a:lnTo>
                    <a:lnTo>
                      <a:pt x="514" y="293"/>
                    </a:lnTo>
                    <a:lnTo>
                      <a:pt x="514" y="314"/>
                    </a:lnTo>
                    <a:lnTo>
                      <a:pt x="532" y="326"/>
                    </a:lnTo>
                    <a:close/>
                    <a:moveTo>
                      <a:pt x="480" y="140"/>
                    </a:moveTo>
                    <a:lnTo>
                      <a:pt x="500" y="129"/>
                    </a:lnTo>
                    <a:lnTo>
                      <a:pt x="500" y="105"/>
                    </a:lnTo>
                    <a:lnTo>
                      <a:pt x="480" y="93"/>
                    </a:lnTo>
                    <a:lnTo>
                      <a:pt x="458" y="105"/>
                    </a:lnTo>
                    <a:lnTo>
                      <a:pt x="458" y="129"/>
                    </a:lnTo>
                    <a:lnTo>
                      <a:pt x="480" y="140"/>
                    </a:lnTo>
                    <a:close/>
                    <a:moveTo>
                      <a:pt x="532" y="140"/>
                    </a:moveTo>
                    <a:lnTo>
                      <a:pt x="552" y="129"/>
                    </a:lnTo>
                    <a:lnTo>
                      <a:pt x="552" y="105"/>
                    </a:lnTo>
                    <a:lnTo>
                      <a:pt x="532" y="93"/>
                    </a:lnTo>
                    <a:lnTo>
                      <a:pt x="514" y="105"/>
                    </a:lnTo>
                    <a:lnTo>
                      <a:pt x="514" y="129"/>
                    </a:lnTo>
                    <a:lnTo>
                      <a:pt x="532" y="140"/>
                    </a:lnTo>
                    <a:close/>
                    <a:moveTo>
                      <a:pt x="505" y="93"/>
                    </a:moveTo>
                    <a:lnTo>
                      <a:pt x="526" y="82"/>
                    </a:lnTo>
                    <a:lnTo>
                      <a:pt x="526" y="58"/>
                    </a:lnTo>
                    <a:lnTo>
                      <a:pt x="505" y="47"/>
                    </a:lnTo>
                    <a:lnTo>
                      <a:pt x="485" y="58"/>
                    </a:lnTo>
                    <a:lnTo>
                      <a:pt x="485" y="82"/>
                    </a:lnTo>
                    <a:lnTo>
                      <a:pt x="505" y="93"/>
                    </a:lnTo>
                    <a:close/>
                    <a:moveTo>
                      <a:pt x="560" y="93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60" y="47"/>
                    </a:lnTo>
                    <a:lnTo>
                      <a:pt x="540" y="58"/>
                    </a:lnTo>
                    <a:lnTo>
                      <a:pt x="540" y="82"/>
                    </a:lnTo>
                    <a:lnTo>
                      <a:pt x="560" y="93"/>
                    </a:lnTo>
                    <a:close/>
                    <a:moveTo>
                      <a:pt x="371" y="140"/>
                    </a:moveTo>
                    <a:lnTo>
                      <a:pt x="392" y="129"/>
                    </a:lnTo>
                    <a:lnTo>
                      <a:pt x="392" y="105"/>
                    </a:lnTo>
                    <a:lnTo>
                      <a:pt x="371" y="93"/>
                    </a:lnTo>
                    <a:lnTo>
                      <a:pt x="351" y="105"/>
                    </a:lnTo>
                    <a:lnTo>
                      <a:pt x="351" y="129"/>
                    </a:lnTo>
                    <a:lnTo>
                      <a:pt x="371" y="140"/>
                    </a:lnTo>
                    <a:close/>
                    <a:moveTo>
                      <a:pt x="426" y="140"/>
                    </a:moveTo>
                    <a:lnTo>
                      <a:pt x="445" y="129"/>
                    </a:lnTo>
                    <a:lnTo>
                      <a:pt x="445" y="105"/>
                    </a:lnTo>
                    <a:lnTo>
                      <a:pt x="426" y="93"/>
                    </a:lnTo>
                    <a:lnTo>
                      <a:pt x="406" y="105"/>
                    </a:lnTo>
                    <a:lnTo>
                      <a:pt x="406" y="129"/>
                    </a:lnTo>
                    <a:lnTo>
                      <a:pt x="426" y="140"/>
                    </a:lnTo>
                    <a:close/>
                    <a:moveTo>
                      <a:pt x="748" y="607"/>
                    </a:moveTo>
                    <a:lnTo>
                      <a:pt x="768" y="596"/>
                    </a:lnTo>
                    <a:lnTo>
                      <a:pt x="768" y="572"/>
                    </a:lnTo>
                    <a:lnTo>
                      <a:pt x="748" y="560"/>
                    </a:lnTo>
                    <a:lnTo>
                      <a:pt x="728" y="572"/>
                    </a:lnTo>
                    <a:lnTo>
                      <a:pt x="728" y="596"/>
                    </a:lnTo>
                    <a:lnTo>
                      <a:pt x="748" y="607"/>
                    </a:lnTo>
                    <a:close/>
                    <a:moveTo>
                      <a:pt x="803" y="607"/>
                    </a:moveTo>
                    <a:lnTo>
                      <a:pt x="823" y="596"/>
                    </a:lnTo>
                    <a:lnTo>
                      <a:pt x="823" y="572"/>
                    </a:lnTo>
                    <a:lnTo>
                      <a:pt x="803" y="560"/>
                    </a:lnTo>
                    <a:lnTo>
                      <a:pt x="783" y="572"/>
                    </a:lnTo>
                    <a:lnTo>
                      <a:pt x="783" y="596"/>
                    </a:lnTo>
                    <a:lnTo>
                      <a:pt x="803" y="607"/>
                    </a:lnTo>
                    <a:close/>
                    <a:moveTo>
                      <a:pt x="858" y="607"/>
                    </a:moveTo>
                    <a:lnTo>
                      <a:pt x="878" y="596"/>
                    </a:lnTo>
                    <a:lnTo>
                      <a:pt x="878" y="572"/>
                    </a:lnTo>
                    <a:lnTo>
                      <a:pt x="858" y="560"/>
                    </a:lnTo>
                    <a:lnTo>
                      <a:pt x="836" y="572"/>
                    </a:lnTo>
                    <a:lnTo>
                      <a:pt x="836" y="596"/>
                    </a:lnTo>
                    <a:lnTo>
                      <a:pt x="858" y="607"/>
                    </a:lnTo>
                    <a:close/>
                    <a:moveTo>
                      <a:pt x="911" y="607"/>
                    </a:moveTo>
                    <a:lnTo>
                      <a:pt x="931" y="596"/>
                    </a:lnTo>
                    <a:lnTo>
                      <a:pt x="931" y="572"/>
                    </a:lnTo>
                    <a:lnTo>
                      <a:pt x="911" y="560"/>
                    </a:lnTo>
                    <a:lnTo>
                      <a:pt x="891" y="572"/>
                    </a:lnTo>
                    <a:lnTo>
                      <a:pt x="891" y="596"/>
                    </a:lnTo>
                    <a:lnTo>
                      <a:pt x="911" y="607"/>
                    </a:lnTo>
                    <a:close/>
                    <a:moveTo>
                      <a:pt x="532" y="607"/>
                    </a:moveTo>
                    <a:lnTo>
                      <a:pt x="552" y="596"/>
                    </a:lnTo>
                    <a:lnTo>
                      <a:pt x="552" y="572"/>
                    </a:lnTo>
                    <a:lnTo>
                      <a:pt x="532" y="560"/>
                    </a:lnTo>
                    <a:lnTo>
                      <a:pt x="514" y="572"/>
                    </a:lnTo>
                    <a:lnTo>
                      <a:pt x="514" y="596"/>
                    </a:lnTo>
                    <a:lnTo>
                      <a:pt x="532" y="607"/>
                    </a:lnTo>
                    <a:close/>
                    <a:moveTo>
                      <a:pt x="586" y="607"/>
                    </a:moveTo>
                    <a:lnTo>
                      <a:pt x="608" y="596"/>
                    </a:lnTo>
                    <a:lnTo>
                      <a:pt x="608" y="572"/>
                    </a:lnTo>
                    <a:lnTo>
                      <a:pt x="586" y="560"/>
                    </a:lnTo>
                    <a:lnTo>
                      <a:pt x="566" y="572"/>
                    </a:lnTo>
                    <a:lnTo>
                      <a:pt x="566" y="596"/>
                    </a:lnTo>
                    <a:lnTo>
                      <a:pt x="586" y="607"/>
                    </a:lnTo>
                    <a:close/>
                    <a:moveTo>
                      <a:pt x="640" y="607"/>
                    </a:moveTo>
                    <a:lnTo>
                      <a:pt x="660" y="596"/>
                    </a:lnTo>
                    <a:lnTo>
                      <a:pt x="660" y="572"/>
                    </a:lnTo>
                    <a:lnTo>
                      <a:pt x="640" y="560"/>
                    </a:lnTo>
                    <a:lnTo>
                      <a:pt x="621" y="572"/>
                    </a:lnTo>
                    <a:lnTo>
                      <a:pt x="621" y="596"/>
                    </a:lnTo>
                    <a:lnTo>
                      <a:pt x="640" y="607"/>
                    </a:lnTo>
                    <a:close/>
                    <a:moveTo>
                      <a:pt x="695" y="607"/>
                    </a:moveTo>
                    <a:lnTo>
                      <a:pt x="715" y="596"/>
                    </a:lnTo>
                    <a:lnTo>
                      <a:pt x="715" y="572"/>
                    </a:lnTo>
                    <a:lnTo>
                      <a:pt x="695" y="560"/>
                    </a:lnTo>
                    <a:lnTo>
                      <a:pt x="674" y="572"/>
                    </a:lnTo>
                    <a:lnTo>
                      <a:pt x="674" y="596"/>
                    </a:lnTo>
                    <a:lnTo>
                      <a:pt x="695" y="607"/>
                    </a:lnTo>
                    <a:close/>
                    <a:moveTo>
                      <a:pt x="966" y="607"/>
                    </a:moveTo>
                    <a:lnTo>
                      <a:pt x="985" y="596"/>
                    </a:lnTo>
                    <a:lnTo>
                      <a:pt x="985" y="572"/>
                    </a:lnTo>
                    <a:lnTo>
                      <a:pt x="966" y="560"/>
                    </a:lnTo>
                    <a:lnTo>
                      <a:pt x="946" y="572"/>
                    </a:lnTo>
                    <a:lnTo>
                      <a:pt x="946" y="596"/>
                    </a:lnTo>
                    <a:lnTo>
                      <a:pt x="966" y="607"/>
                    </a:lnTo>
                    <a:close/>
                    <a:moveTo>
                      <a:pt x="1018" y="607"/>
                    </a:moveTo>
                    <a:lnTo>
                      <a:pt x="1040" y="596"/>
                    </a:lnTo>
                    <a:lnTo>
                      <a:pt x="1040" y="572"/>
                    </a:lnTo>
                    <a:lnTo>
                      <a:pt x="1018" y="560"/>
                    </a:lnTo>
                    <a:lnTo>
                      <a:pt x="998" y="572"/>
                    </a:lnTo>
                    <a:lnTo>
                      <a:pt x="998" y="596"/>
                    </a:lnTo>
                    <a:lnTo>
                      <a:pt x="1018" y="607"/>
                    </a:lnTo>
                    <a:close/>
                    <a:moveTo>
                      <a:pt x="1072" y="607"/>
                    </a:moveTo>
                    <a:lnTo>
                      <a:pt x="1092" y="596"/>
                    </a:lnTo>
                    <a:lnTo>
                      <a:pt x="1092" y="572"/>
                    </a:lnTo>
                    <a:lnTo>
                      <a:pt x="1072" y="560"/>
                    </a:lnTo>
                    <a:lnTo>
                      <a:pt x="1054" y="572"/>
                    </a:lnTo>
                    <a:lnTo>
                      <a:pt x="1054" y="596"/>
                    </a:lnTo>
                    <a:lnTo>
                      <a:pt x="1072" y="607"/>
                    </a:lnTo>
                    <a:close/>
                    <a:moveTo>
                      <a:pt x="884" y="560"/>
                    </a:moveTo>
                    <a:lnTo>
                      <a:pt x="904" y="550"/>
                    </a:lnTo>
                    <a:lnTo>
                      <a:pt x="904" y="525"/>
                    </a:lnTo>
                    <a:lnTo>
                      <a:pt x="884" y="514"/>
                    </a:lnTo>
                    <a:lnTo>
                      <a:pt x="864" y="525"/>
                    </a:lnTo>
                    <a:lnTo>
                      <a:pt x="864" y="550"/>
                    </a:lnTo>
                    <a:lnTo>
                      <a:pt x="884" y="560"/>
                    </a:lnTo>
                    <a:close/>
                    <a:moveTo>
                      <a:pt x="940" y="560"/>
                    </a:moveTo>
                    <a:lnTo>
                      <a:pt x="958" y="550"/>
                    </a:lnTo>
                    <a:lnTo>
                      <a:pt x="958" y="525"/>
                    </a:lnTo>
                    <a:lnTo>
                      <a:pt x="940" y="514"/>
                    </a:lnTo>
                    <a:lnTo>
                      <a:pt x="917" y="525"/>
                    </a:lnTo>
                    <a:lnTo>
                      <a:pt x="917" y="550"/>
                    </a:lnTo>
                    <a:lnTo>
                      <a:pt x="940" y="560"/>
                    </a:lnTo>
                    <a:close/>
                    <a:moveTo>
                      <a:pt x="992" y="560"/>
                    </a:moveTo>
                    <a:lnTo>
                      <a:pt x="1011" y="550"/>
                    </a:lnTo>
                    <a:lnTo>
                      <a:pt x="1011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50"/>
                    </a:lnTo>
                    <a:lnTo>
                      <a:pt x="992" y="560"/>
                    </a:lnTo>
                    <a:close/>
                    <a:moveTo>
                      <a:pt x="1046" y="560"/>
                    </a:moveTo>
                    <a:lnTo>
                      <a:pt x="1066" y="550"/>
                    </a:lnTo>
                    <a:lnTo>
                      <a:pt x="1066" y="525"/>
                    </a:lnTo>
                    <a:lnTo>
                      <a:pt x="1046" y="514"/>
                    </a:lnTo>
                    <a:lnTo>
                      <a:pt x="1027" y="525"/>
                    </a:lnTo>
                    <a:lnTo>
                      <a:pt x="1027" y="550"/>
                    </a:lnTo>
                    <a:lnTo>
                      <a:pt x="1046" y="560"/>
                    </a:lnTo>
                    <a:close/>
                    <a:moveTo>
                      <a:pt x="666" y="560"/>
                    </a:moveTo>
                    <a:lnTo>
                      <a:pt x="689" y="550"/>
                    </a:lnTo>
                    <a:lnTo>
                      <a:pt x="689" y="525"/>
                    </a:lnTo>
                    <a:lnTo>
                      <a:pt x="666" y="514"/>
                    </a:lnTo>
                    <a:lnTo>
                      <a:pt x="648" y="525"/>
                    </a:lnTo>
                    <a:lnTo>
                      <a:pt x="648" y="550"/>
                    </a:lnTo>
                    <a:lnTo>
                      <a:pt x="666" y="560"/>
                    </a:lnTo>
                    <a:close/>
                    <a:moveTo>
                      <a:pt x="722" y="560"/>
                    </a:moveTo>
                    <a:lnTo>
                      <a:pt x="742" y="550"/>
                    </a:lnTo>
                    <a:lnTo>
                      <a:pt x="742" y="525"/>
                    </a:lnTo>
                    <a:lnTo>
                      <a:pt x="722" y="514"/>
                    </a:lnTo>
                    <a:lnTo>
                      <a:pt x="701" y="525"/>
                    </a:lnTo>
                    <a:lnTo>
                      <a:pt x="701" y="550"/>
                    </a:lnTo>
                    <a:lnTo>
                      <a:pt x="722" y="560"/>
                    </a:lnTo>
                    <a:close/>
                    <a:moveTo>
                      <a:pt x="777" y="560"/>
                    </a:moveTo>
                    <a:lnTo>
                      <a:pt x="797" y="550"/>
                    </a:lnTo>
                    <a:lnTo>
                      <a:pt x="797" y="525"/>
                    </a:lnTo>
                    <a:lnTo>
                      <a:pt x="777" y="514"/>
                    </a:lnTo>
                    <a:lnTo>
                      <a:pt x="754" y="525"/>
                    </a:lnTo>
                    <a:lnTo>
                      <a:pt x="754" y="550"/>
                    </a:lnTo>
                    <a:lnTo>
                      <a:pt x="777" y="560"/>
                    </a:lnTo>
                    <a:close/>
                    <a:moveTo>
                      <a:pt x="829" y="560"/>
                    </a:moveTo>
                    <a:lnTo>
                      <a:pt x="849" y="550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50"/>
                    </a:lnTo>
                    <a:lnTo>
                      <a:pt x="829" y="560"/>
                    </a:lnTo>
                    <a:close/>
                    <a:moveTo>
                      <a:pt x="505" y="560"/>
                    </a:moveTo>
                    <a:lnTo>
                      <a:pt x="526" y="550"/>
                    </a:lnTo>
                    <a:lnTo>
                      <a:pt x="526" y="525"/>
                    </a:lnTo>
                    <a:lnTo>
                      <a:pt x="505" y="514"/>
                    </a:lnTo>
                    <a:lnTo>
                      <a:pt x="485" y="525"/>
                    </a:lnTo>
                    <a:lnTo>
                      <a:pt x="485" y="550"/>
                    </a:lnTo>
                    <a:lnTo>
                      <a:pt x="505" y="560"/>
                    </a:lnTo>
                    <a:close/>
                    <a:moveTo>
                      <a:pt x="560" y="560"/>
                    </a:moveTo>
                    <a:lnTo>
                      <a:pt x="579" y="550"/>
                    </a:lnTo>
                    <a:lnTo>
                      <a:pt x="579" y="525"/>
                    </a:lnTo>
                    <a:lnTo>
                      <a:pt x="560" y="514"/>
                    </a:lnTo>
                    <a:lnTo>
                      <a:pt x="540" y="525"/>
                    </a:lnTo>
                    <a:lnTo>
                      <a:pt x="540" y="550"/>
                    </a:lnTo>
                    <a:lnTo>
                      <a:pt x="560" y="560"/>
                    </a:lnTo>
                    <a:close/>
                    <a:moveTo>
                      <a:pt x="614" y="560"/>
                    </a:moveTo>
                    <a:lnTo>
                      <a:pt x="634" y="550"/>
                    </a:lnTo>
                    <a:lnTo>
                      <a:pt x="634" y="525"/>
                    </a:lnTo>
                    <a:lnTo>
                      <a:pt x="614" y="514"/>
                    </a:lnTo>
                    <a:lnTo>
                      <a:pt x="592" y="525"/>
                    </a:lnTo>
                    <a:lnTo>
                      <a:pt x="592" y="550"/>
                    </a:lnTo>
                    <a:lnTo>
                      <a:pt x="614" y="560"/>
                    </a:lnTo>
                    <a:close/>
                    <a:moveTo>
                      <a:pt x="911" y="514"/>
                    </a:moveTo>
                    <a:lnTo>
                      <a:pt x="931" y="504"/>
                    </a:lnTo>
                    <a:lnTo>
                      <a:pt x="931" y="478"/>
                    </a:lnTo>
                    <a:lnTo>
                      <a:pt x="911" y="468"/>
                    </a:lnTo>
                    <a:lnTo>
                      <a:pt x="891" y="478"/>
                    </a:lnTo>
                    <a:lnTo>
                      <a:pt x="891" y="504"/>
                    </a:lnTo>
                    <a:lnTo>
                      <a:pt x="911" y="514"/>
                    </a:lnTo>
                    <a:close/>
                    <a:moveTo>
                      <a:pt x="966" y="514"/>
                    </a:moveTo>
                    <a:lnTo>
                      <a:pt x="985" y="504"/>
                    </a:lnTo>
                    <a:lnTo>
                      <a:pt x="985" y="478"/>
                    </a:lnTo>
                    <a:lnTo>
                      <a:pt x="966" y="468"/>
                    </a:lnTo>
                    <a:lnTo>
                      <a:pt x="946" y="478"/>
                    </a:lnTo>
                    <a:lnTo>
                      <a:pt x="946" y="504"/>
                    </a:lnTo>
                    <a:lnTo>
                      <a:pt x="966" y="514"/>
                    </a:lnTo>
                    <a:close/>
                    <a:moveTo>
                      <a:pt x="1018" y="514"/>
                    </a:moveTo>
                    <a:lnTo>
                      <a:pt x="1040" y="504"/>
                    </a:lnTo>
                    <a:lnTo>
                      <a:pt x="1040" y="478"/>
                    </a:lnTo>
                    <a:lnTo>
                      <a:pt x="1018" y="468"/>
                    </a:lnTo>
                    <a:lnTo>
                      <a:pt x="998" y="478"/>
                    </a:lnTo>
                    <a:lnTo>
                      <a:pt x="998" y="504"/>
                    </a:lnTo>
                    <a:lnTo>
                      <a:pt x="1018" y="514"/>
                    </a:lnTo>
                    <a:close/>
                    <a:moveTo>
                      <a:pt x="1072" y="514"/>
                    </a:moveTo>
                    <a:lnTo>
                      <a:pt x="1092" y="504"/>
                    </a:lnTo>
                    <a:lnTo>
                      <a:pt x="1092" y="478"/>
                    </a:lnTo>
                    <a:lnTo>
                      <a:pt x="1072" y="468"/>
                    </a:lnTo>
                    <a:lnTo>
                      <a:pt x="1054" y="478"/>
                    </a:lnTo>
                    <a:lnTo>
                      <a:pt x="1054" y="504"/>
                    </a:lnTo>
                    <a:lnTo>
                      <a:pt x="1072" y="514"/>
                    </a:lnTo>
                    <a:close/>
                    <a:moveTo>
                      <a:pt x="695" y="514"/>
                    </a:moveTo>
                    <a:lnTo>
                      <a:pt x="715" y="504"/>
                    </a:lnTo>
                    <a:lnTo>
                      <a:pt x="715" y="478"/>
                    </a:lnTo>
                    <a:lnTo>
                      <a:pt x="695" y="468"/>
                    </a:lnTo>
                    <a:lnTo>
                      <a:pt x="674" y="478"/>
                    </a:lnTo>
                    <a:lnTo>
                      <a:pt x="674" y="504"/>
                    </a:lnTo>
                    <a:lnTo>
                      <a:pt x="695" y="514"/>
                    </a:lnTo>
                    <a:close/>
                    <a:moveTo>
                      <a:pt x="748" y="514"/>
                    </a:moveTo>
                    <a:lnTo>
                      <a:pt x="768" y="504"/>
                    </a:lnTo>
                    <a:lnTo>
                      <a:pt x="768" y="478"/>
                    </a:lnTo>
                    <a:lnTo>
                      <a:pt x="748" y="468"/>
                    </a:lnTo>
                    <a:lnTo>
                      <a:pt x="728" y="478"/>
                    </a:lnTo>
                    <a:lnTo>
                      <a:pt x="728" y="504"/>
                    </a:lnTo>
                    <a:lnTo>
                      <a:pt x="748" y="514"/>
                    </a:lnTo>
                    <a:close/>
                    <a:moveTo>
                      <a:pt x="803" y="514"/>
                    </a:moveTo>
                    <a:lnTo>
                      <a:pt x="823" y="504"/>
                    </a:lnTo>
                    <a:lnTo>
                      <a:pt x="823" y="478"/>
                    </a:lnTo>
                    <a:lnTo>
                      <a:pt x="803" y="468"/>
                    </a:lnTo>
                    <a:lnTo>
                      <a:pt x="783" y="478"/>
                    </a:lnTo>
                    <a:lnTo>
                      <a:pt x="783" y="504"/>
                    </a:lnTo>
                    <a:lnTo>
                      <a:pt x="803" y="514"/>
                    </a:lnTo>
                    <a:close/>
                    <a:moveTo>
                      <a:pt x="858" y="514"/>
                    </a:moveTo>
                    <a:lnTo>
                      <a:pt x="878" y="504"/>
                    </a:lnTo>
                    <a:lnTo>
                      <a:pt x="878" y="478"/>
                    </a:lnTo>
                    <a:lnTo>
                      <a:pt x="858" y="468"/>
                    </a:lnTo>
                    <a:lnTo>
                      <a:pt x="836" y="478"/>
                    </a:lnTo>
                    <a:lnTo>
                      <a:pt x="836" y="504"/>
                    </a:lnTo>
                    <a:lnTo>
                      <a:pt x="858" y="514"/>
                    </a:lnTo>
                    <a:close/>
                    <a:moveTo>
                      <a:pt x="640" y="514"/>
                    </a:moveTo>
                    <a:lnTo>
                      <a:pt x="660" y="504"/>
                    </a:lnTo>
                    <a:lnTo>
                      <a:pt x="660" y="478"/>
                    </a:lnTo>
                    <a:lnTo>
                      <a:pt x="640" y="468"/>
                    </a:lnTo>
                    <a:lnTo>
                      <a:pt x="621" y="478"/>
                    </a:lnTo>
                    <a:lnTo>
                      <a:pt x="621" y="504"/>
                    </a:lnTo>
                    <a:lnTo>
                      <a:pt x="640" y="514"/>
                    </a:lnTo>
                    <a:close/>
                    <a:moveTo>
                      <a:pt x="884" y="468"/>
                    </a:moveTo>
                    <a:lnTo>
                      <a:pt x="904" y="454"/>
                    </a:lnTo>
                    <a:lnTo>
                      <a:pt x="904" y="432"/>
                    </a:lnTo>
                    <a:lnTo>
                      <a:pt x="884" y="422"/>
                    </a:lnTo>
                    <a:lnTo>
                      <a:pt x="864" y="432"/>
                    </a:lnTo>
                    <a:lnTo>
                      <a:pt x="864" y="454"/>
                    </a:lnTo>
                    <a:lnTo>
                      <a:pt x="884" y="468"/>
                    </a:lnTo>
                    <a:close/>
                    <a:moveTo>
                      <a:pt x="940" y="468"/>
                    </a:moveTo>
                    <a:lnTo>
                      <a:pt x="958" y="454"/>
                    </a:lnTo>
                    <a:lnTo>
                      <a:pt x="958" y="432"/>
                    </a:lnTo>
                    <a:lnTo>
                      <a:pt x="940" y="422"/>
                    </a:lnTo>
                    <a:lnTo>
                      <a:pt x="917" y="432"/>
                    </a:lnTo>
                    <a:lnTo>
                      <a:pt x="917" y="454"/>
                    </a:lnTo>
                    <a:lnTo>
                      <a:pt x="940" y="468"/>
                    </a:lnTo>
                    <a:close/>
                    <a:moveTo>
                      <a:pt x="992" y="468"/>
                    </a:moveTo>
                    <a:lnTo>
                      <a:pt x="1011" y="454"/>
                    </a:lnTo>
                    <a:lnTo>
                      <a:pt x="1011" y="432"/>
                    </a:lnTo>
                    <a:lnTo>
                      <a:pt x="992" y="422"/>
                    </a:lnTo>
                    <a:lnTo>
                      <a:pt x="972" y="432"/>
                    </a:lnTo>
                    <a:lnTo>
                      <a:pt x="972" y="454"/>
                    </a:lnTo>
                    <a:lnTo>
                      <a:pt x="992" y="468"/>
                    </a:lnTo>
                    <a:close/>
                    <a:moveTo>
                      <a:pt x="1046" y="468"/>
                    </a:moveTo>
                    <a:lnTo>
                      <a:pt x="1066" y="454"/>
                    </a:lnTo>
                    <a:lnTo>
                      <a:pt x="1066" y="432"/>
                    </a:lnTo>
                    <a:lnTo>
                      <a:pt x="1046" y="422"/>
                    </a:lnTo>
                    <a:lnTo>
                      <a:pt x="1027" y="432"/>
                    </a:lnTo>
                    <a:lnTo>
                      <a:pt x="1027" y="454"/>
                    </a:lnTo>
                    <a:lnTo>
                      <a:pt x="1046" y="468"/>
                    </a:lnTo>
                    <a:close/>
                    <a:moveTo>
                      <a:pt x="666" y="468"/>
                    </a:moveTo>
                    <a:lnTo>
                      <a:pt x="689" y="454"/>
                    </a:lnTo>
                    <a:lnTo>
                      <a:pt x="689" y="432"/>
                    </a:lnTo>
                    <a:lnTo>
                      <a:pt x="666" y="422"/>
                    </a:lnTo>
                    <a:lnTo>
                      <a:pt x="648" y="432"/>
                    </a:lnTo>
                    <a:lnTo>
                      <a:pt x="648" y="454"/>
                    </a:lnTo>
                    <a:lnTo>
                      <a:pt x="666" y="468"/>
                    </a:lnTo>
                    <a:close/>
                    <a:moveTo>
                      <a:pt x="722" y="468"/>
                    </a:moveTo>
                    <a:lnTo>
                      <a:pt x="742" y="454"/>
                    </a:lnTo>
                    <a:lnTo>
                      <a:pt x="742" y="432"/>
                    </a:lnTo>
                    <a:lnTo>
                      <a:pt x="722" y="422"/>
                    </a:lnTo>
                    <a:lnTo>
                      <a:pt x="701" y="432"/>
                    </a:lnTo>
                    <a:lnTo>
                      <a:pt x="701" y="454"/>
                    </a:lnTo>
                    <a:lnTo>
                      <a:pt x="722" y="468"/>
                    </a:lnTo>
                    <a:close/>
                    <a:moveTo>
                      <a:pt x="777" y="468"/>
                    </a:moveTo>
                    <a:lnTo>
                      <a:pt x="797" y="454"/>
                    </a:lnTo>
                    <a:lnTo>
                      <a:pt x="797" y="432"/>
                    </a:lnTo>
                    <a:lnTo>
                      <a:pt x="777" y="422"/>
                    </a:lnTo>
                    <a:lnTo>
                      <a:pt x="754" y="432"/>
                    </a:lnTo>
                    <a:lnTo>
                      <a:pt x="754" y="454"/>
                    </a:lnTo>
                    <a:lnTo>
                      <a:pt x="777" y="468"/>
                    </a:lnTo>
                    <a:close/>
                    <a:moveTo>
                      <a:pt x="829" y="468"/>
                    </a:moveTo>
                    <a:lnTo>
                      <a:pt x="849" y="454"/>
                    </a:lnTo>
                    <a:lnTo>
                      <a:pt x="849" y="432"/>
                    </a:lnTo>
                    <a:lnTo>
                      <a:pt x="829" y="422"/>
                    </a:lnTo>
                    <a:lnTo>
                      <a:pt x="809" y="432"/>
                    </a:lnTo>
                    <a:lnTo>
                      <a:pt x="809" y="454"/>
                    </a:lnTo>
                    <a:lnTo>
                      <a:pt x="829" y="468"/>
                    </a:lnTo>
                    <a:close/>
                    <a:moveTo>
                      <a:pt x="614" y="468"/>
                    </a:moveTo>
                    <a:lnTo>
                      <a:pt x="634" y="454"/>
                    </a:lnTo>
                    <a:lnTo>
                      <a:pt x="634" y="432"/>
                    </a:lnTo>
                    <a:lnTo>
                      <a:pt x="614" y="422"/>
                    </a:lnTo>
                    <a:lnTo>
                      <a:pt x="592" y="432"/>
                    </a:lnTo>
                    <a:lnTo>
                      <a:pt x="592" y="454"/>
                    </a:lnTo>
                    <a:lnTo>
                      <a:pt x="614" y="468"/>
                    </a:lnTo>
                    <a:close/>
                    <a:moveTo>
                      <a:pt x="1046" y="654"/>
                    </a:moveTo>
                    <a:lnTo>
                      <a:pt x="1066" y="642"/>
                    </a:lnTo>
                    <a:lnTo>
                      <a:pt x="1066" y="618"/>
                    </a:lnTo>
                    <a:lnTo>
                      <a:pt x="1046" y="607"/>
                    </a:lnTo>
                    <a:lnTo>
                      <a:pt x="1027" y="618"/>
                    </a:lnTo>
                    <a:lnTo>
                      <a:pt x="1027" y="642"/>
                    </a:lnTo>
                    <a:lnTo>
                      <a:pt x="1046" y="654"/>
                    </a:lnTo>
                    <a:close/>
                    <a:moveTo>
                      <a:pt x="505" y="654"/>
                    </a:moveTo>
                    <a:lnTo>
                      <a:pt x="526" y="642"/>
                    </a:lnTo>
                    <a:lnTo>
                      <a:pt x="526" y="618"/>
                    </a:lnTo>
                    <a:lnTo>
                      <a:pt x="505" y="607"/>
                    </a:lnTo>
                    <a:lnTo>
                      <a:pt x="485" y="618"/>
                    </a:lnTo>
                    <a:lnTo>
                      <a:pt x="485" y="642"/>
                    </a:lnTo>
                    <a:lnTo>
                      <a:pt x="505" y="654"/>
                    </a:lnTo>
                    <a:close/>
                    <a:moveTo>
                      <a:pt x="560" y="654"/>
                    </a:moveTo>
                    <a:lnTo>
                      <a:pt x="579" y="642"/>
                    </a:lnTo>
                    <a:lnTo>
                      <a:pt x="579" y="618"/>
                    </a:lnTo>
                    <a:lnTo>
                      <a:pt x="560" y="607"/>
                    </a:lnTo>
                    <a:lnTo>
                      <a:pt x="540" y="618"/>
                    </a:lnTo>
                    <a:lnTo>
                      <a:pt x="540" y="642"/>
                    </a:lnTo>
                    <a:lnTo>
                      <a:pt x="560" y="654"/>
                    </a:lnTo>
                    <a:close/>
                    <a:moveTo>
                      <a:pt x="614" y="654"/>
                    </a:moveTo>
                    <a:lnTo>
                      <a:pt x="634" y="642"/>
                    </a:lnTo>
                    <a:lnTo>
                      <a:pt x="634" y="618"/>
                    </a:lnTo>
                    <a:lnTo>
                      <a:pt x="614" y="607"/>
                    </a:lnTo>
                    <a:lnTo>
                      <a:pt x="592" y="618"/>
                    </a:lnTo>
                    <a:lnTo>
                      <a:pt x="592" y="642"/>
                    </a:lnTo>
                    <a:lnTo>
                      <a:pt x="614" y="654"/>
                    </a:lnTo>
                    <a:close/>
                    <a:moveTo>
                      <a:pt x="666" y="654"/>
                    </a:moveTo>
                    <a:lnTo>
                      <a:pt x="689" y="642"/>
                    </a:lnTo>
                    <a:lnTo>
                      <a:pt x="689" y="618"/>
                    </a:lnTo>
                    <a:lnTo>
                      <a:pt x="666" y="607"/>
                    </a:lnTo>
                    <a:lnTo>
                      <a:pt x="648" y="618"/>
                    </a:lnTo>
                    <a:lnTo>
                      <a:pt x="648" y="642"/>
                    </a:lnTo>
                    <a:lnTo>
                      <a:pt x="666" y="654"/>
                    </a:lnTo>
                    <a:close/>
                    <a:moveTo>
                      <a:pt x="722" y="654"/>
                    </a:moveTo>
                    <a:lnTo>
                      <a:pt x="742" y="642"/>
                    </a:lnTo>
                    <a:lnTo>
                      <a:pt x="742" y="618"/>
                    </a:lnTo>
                    <a:lnTo>
                      <a:pt x="722" y="607"/>
                    </a:lnTo>
                    <a:lnTo>
                      <a:pt x="701" y="618"/>
                    </a:lnTo>
                    <a:lnTo>
                      <a:pt x="701" y="642"/>
                    </a:lnTo>
                    <a:lnTo>
                      <a:pt x="722" y="654"/>
                    </a:lnTo>
                    <a:close/>
                    <a:moveTo>
                      <a:pt x="777" y="654"/>
                    </a:moveTo>
                    <a:lnTo>
                      <a:pt x="797" y="642"/>
                    </a:lnTo>
                    <a:lnTo>
                      <a:pt x="797" y="618"/>
                    </a:lnTo>
                    <a:lnTo>
                      <a:pt x="777" y="607"/>
                    </a:lnTo>
                    <a:lnTo>
                      <a:pt x="754" y="618"/>
                    </a:lnTo>
                    <a:lnTo>
                      <a:pt x="754" y="642"/>
                    </a:lnTo>
                    <a:lnTo>
                      <a:pt x="777" y="654"/>
                    </a:lnTo>
                    <a:close/>
                    <a:moveTo>
                      <a:pt x="829" y="654"/>
                    </a:moveTo>
                    <a:lnTo>
                      <a:pt x="849" y="642"/>
                    </a:lnTo>
                    <a:lnTo>
                      <a:pt x="849" y="618"/>
                    </a:lnTo>
                    <a:lnTo>
                      <a:pt x="829" y="607"/>
                    </a:lnTo>
                    <a:lnTo>
                      <a:pt x="809" y="618"/>
                    </a:lnTo>
                    <a:lnTo>
                      <a:pt x="809" y="642"/>
                    </a:lnTo>
                    <a:lnTo>
                      <a:pt x="829" y="654"/>
                    </a:lnTo>
                    <a:close/>
                    <a:moveTo>
                      <a:pt x="884" y="654"/>
                    </a:moveTo>
                    <a:lnTo>
                      <a:pt x="904" y="642"/>
                    </a:lnTo>
                    <a:lnTo>
                      <a:pt x="904" y="618"/>
                    </a:lnTo>
                    <a:lnTo>
                      <a:pt x="884" y="607"/>
                    </a:lnTo>
                    <a:lnTo>
                      <a:pt x="864" y="618"/>
                    </a:lnTo>
                    <a:lnTo>
                      <a:pt x="864" y="642"/>
                    </a:lnTo>
                    <a:lnTo>
                      <a:pt x="884" y="654"/>
                    </a:lnTo>
                    <a:close/>
                    <a:moveTo>
                      <a:pt x="940" y="654"/>
                    </a:moveTo>
                    <a:lnTo>
                      <a:pt x="958" y="642"/>
                    </a:lnTo>
                    <a:lnTo>
                      <a:pt x="958" y="618"/>
                    </a:lnTo>
                    <a:lnTo>
                      <a:pt x="940" y="607"/>
                    </a:lnTo>
                    <a:lnTo>
                      <a:pt x="917" y="618"/>
                    </a:lnTo>
                    <a:lnTo>
                      <a:pt x="917" y="642"/>
                    </a:lnTo>
                    <a:lnTo>
                      <a:pt x="940" y="654"/>
                    </a:lnTo>
                    <a:close/>
                    <a:moveTo>
                      <a:pt x="992" y="654"/>
                    </a:moveTo>
                    <a:lnTo>
                      <a:pt x="1011" y="642"/>
                    </a:lnTo>
                    <a:lnTo>
                      <a:pt x="1011" y="618"/>
                    </a:lnTo>
                    <a:lnTo>
                      <a:pt x="992" y="607"/>
                    </a:lnTo>
                    <a:lnTo>
                      <a:pt x="972" y="618"/>
                    </a:lnTo>
                    <a:lnTo>
                      <a:pt x="972" y="642"/>
                    </a:lnTo>
                    <a:lnTo>
                      <a:pt x="992" y="654"/>
                    </a:lnTo>
                    <a:close/>
                    <a:moveTo>
                      <a:pt x="1018" y="422"/>
                    </a:moveTo>
                    <a:lnTo>
                      <a:pt x="1040" y="408"/>
                    </a:lnTo>
                    <a:lnTo>
                      <a:pt x="1040" y="386"/>
                    </a:lnTo>
                    <a:lnTo>
                      <a:pt x="1018" y="375"/>
                    </a:lnTo>
                    <a:lnTo>
                      <a:pt x="998" y="386"/>
                    </a:lnTo>
                    <a:lnTo>
                      <a:pt x="998" y="408"/>
                    </a:lnTo>
                    <a:lnTo>
                      <a:pt x="1018" y="422"/>
                    </a:lnTo>
                    <a:close/>
                    <a:moveTo>
                      <a:pt x="1072" y="422"/>
                    </a:moveTo>
                    <a:lnTo>
                      <a:pt x="1092" y="408"/>
                    </a:lnTo>
                    <a:lnTo>
                      <a:pt x="1092" y="386"/>
                    </a:lnTo>
                    <a:lnTo>
                      <a:pt x="1072" y="375"/>
                    </a:lnTo>
                    <a:lnTo>
                      <a:pt x="1054" y="386"/>
                    </a:lnTo>
                    <a:lnTo>
                      <a:pt x="1054" y="408"/>
                    </a:lnTo>
                    <a:lnTo>
                      <a:pt x="1072" y="422"/>
                    </a:lnTo>
                    <a:close/>
                    <a:moveTo>
                      <a:pt x="480" y="607"/>
                    </a:moveTo>
                    <a:lnTo>
                      <a:pt x="500" y="596"/>
                    </a:lnTo>
                    <a:lnTo>
                      <a:pt x="500" y="572"/>
                    </a:lnTo>
                    <a:lnTo>
                      <a:pt x="480" y="560"/>
                    </a:lnTo>
                    <a:lnTo>
                      <a:pt x="458" y="572"/>
                    </a:lnTo>
                    <a:lnTo>
                      <a:pt x="458" y="596"/>
                    </a:lnTo>
                    <a:lnTo>
                      <a:pt x="480" y="607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5" name=""/>
              <p:cNvSpPr/>
              <p:nvPr/>
            </p:nvSpPr>
            <p:spPr>
              <a:xfrm>
                <a:off x="494280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497952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7" name=""/>
              <p:cNvSpPr/>
              <p:nvPr/>
            </p:nvSpPr>
            <p:spPr>
              <a:xfrm>
                <a:off x="501624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8" name=""/>
              <p:cNvSpPr/>
              <p:nvPr/>
            </p:nvSpPr>
            <p:spPr>
              <a:xfrm>
                <a:off x="5051520" y="64296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9" name=""/>
              <p:cNvSpPr/>
              <p:nvPr/>
            </p:nvSpPr>
            <p:spPr>
              <a:xfrm>
                <a:off x="5089680" y="64296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0" name=""/>
              <p:cNvSpPr/>
              <p:nvPr/>
            </p:nvSpPr>
            <p:spPr>
              <a:xfrm>
                <a:off x="4923720" y="640296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1" name=""/>
              <p:cNvSpPr/>
              <p:nvPr/>
            </p:nvSpPr>
            <p:spPr>
              <a:xfrm>
                <a:off x="4961880" y="640296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2" name=""/>
              <p:cNvSpPr/>
              <p:nvPr/>
            </p:nvSpPr>
            <p:spPr>
              <a:xfrm>
                <a:off x="4997160" y="64029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033880" y="6402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4" name=""/>
              <p:cNvSpPr/>
              <p:nvPr/>
            </p:nvSpPr>
            <p:spPr>
              <a:xfrm>
                <a:off x="5072040" y="6402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5" name=""/>
              <p:cNvSpPr/>
              <p:nvPr/>
            </p:nvSpPr>
            <p:spPr>
              <a:xfrm>
                <a:off x="5107680" y="640296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6" name=""/>
              <p:cNvSpPr/>
              <p:nvPr/>
            </p:nvSpPr>
            <p:spPr>
              <a:xfrm>
                <a:off x="494280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7" name=""/>
              <p:cNvSpPr/>
              <p:nvPr/>
            </p:nvSpPr>
            <p:spPr>
              <a:xfrm>
                <a:off x="497952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8" name=""/>
              <p:cNvSpPr/>
              <p:nvPr/>
            </p:nvSpPr>
            <p:spPr>
              <a:xfrm>
                <a:off x="501624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9" name=""/>
              <p:cNvSpPr/>
              <p:nvPr/>
            </p:nvSpPr>
            <p:spPr>
              <a:xfrm>
                <a:off x="5051520" y="637848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0" name=""/>
              <p:cNvSpPr/>
              <p:nvPr/>
            </p:nvSpPr>
            <p:spPr>
              <a:xfrm>
                <a:off x="5089680" y="63784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1" name=""/>
              <p:cNvSpPr/>
              <p:nvPr/>
            </p:nvSpPr>
            <p:spPr>
              <a:xfrm>
                <a:off x="512784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2" name=""/>
              <p:cNvSpPr/>
              <p:nvPr/>
            </p:nvSpPr>
            <p:spPr>
              <a:xfrm>
                <a:off x="4923720" y="635184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3" name=""/>
              <p:cNvSpPr/>
              <p:nvPr/>
            </p:nvSpPr>
            <p:spPr>
              <a:xfrm>
                <a:off x="4961880" y="635184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4" name=""/>
              <p:cNvSpPr/>
              <p:nvPr/>
            </p:nvSpPr>
            <p:spPr>
              <a:xfrm>
                <a:off x="4997160" y="63518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5" name=""/>
              <p:cNvSpPr/>
              <p:nvPr/>
            </p:nvSpPr>
            <p:spPr>
              <a:xfrm>
                <a:off x="503388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07204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7" name=""/>
              <p:cNvSpPr/>
              <p:nvPr/>
            </p:nvSpPr>
            <p:spPr>
              <a:xfrm>
                <a:off x="5107680" y="63518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8" name=""/>
              <p:cNvSpPr/>
              <p:nvPr/>
            </p:nvSpPr>
            <p:spPr>
              <a:xfrm>
                <a:off x="4923720" y="645480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9" name=""/>
              <p:cNvSpPr/>
              <p:nvPr/>
            </p:nvSpPr>
            <p:spPr>
              <a:xfrm>
                <a:off x="4961880" y="645480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0" name=""/>
              <p:cNvSpPr/>
              <p:nvPr/>
            </p:nvSpPr>
            <p:spPr>
              <a:xfrm>
                <a:off x="4997160" y="64548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1" name=""/>
              <p:cNvSpPr/>
              <p:nvPr/>
            </p:nvSpPr>
            <p:spPr>
              <a:xfrm>
                <a:off x="5033880" y="6454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2" name=""/>
              <p:cNvSpPr/>
              <p:nvPr/>
            </p:nvSpPr>
            <p:spPr>
              <a:xfrm>
                <a:off x="5072040" y="6454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107680" y="645480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4" name=""/>
              <p:cNvSpPr/>
              <p:nvPr/>
            </p:nvSpPr>
            <p:spPr>
              <a:xfrm>
                <a:off x="4923720" y="62474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5" name=""/>
              <p:cNvSpPr/>
              <p:nvPr/>
            </p:nvSpPr>
            <p:spPr>
              <a:xfrm>
                <a:off x="4961880" y="624744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6" name=""/>
              <p:cNvSpPr/>
              <p:nvPr/>
            </p:nvSpPr>
            <p:spPr>
              <a:xfrm>
                <a:off x="4997160" y="62474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7" name=""/>
              <p:cNvSpPr/>
              <p:nvPr/>
            </p:nvSpPr>
            <p:spPr>
              <a:xfrm>
                <a:off x="5033880" y="624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8" name=""/>
              <p:cNvSpPr/>
              <p:nvPr/>
            </p:nvSpPr>
            <p:spPr>
              <a:xfrm>
                <a:off x="5072040" y="624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9" name=""/>
              <p:cNvSpPr/>
              <p:nvPr/>
            </p:nvSpPr>
            <p:spPr>
              <a:xfrm>
                <a:off x="5107680" y="62474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0" name=""/>
              <p:cNvSpPr/>
              <p:nvPr/>
            </p:nvSpPr>
            <p:spPr>
              <a:xfrm>
                <a:off x="4942800" y="622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1" name=""/>
              <p:cNvSpPr/>
              <p:nvPr/>
            </p:nvSpPr>
            <p:spPr>
              <a:xfrm>
                <a:off x="4979520" y="622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2" name=""/>
              <p:cNvSpPr/>
              <p:nvPr/>
            </p:nvSpPr>
            <p:spPr>
              <a:xfrm>
                <a:off x="5016240" y="622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3" name=""/>
              <p:cNvSpPr/>
              <p:nvPr/>
            </p:nvSpPr>
            <p:spPr>
              <a:xfrm>
                <a:off x="5051520" y="62218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4" name=""/>
              <p:cNvSpPr/>
              <p:nvPr/>
            </p:nvSpPr>
            <p:spPr>
              <a:xfrm>
                <a:off x="5089680" y="62218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5" name=""/>
              <p:cNvSpPr/>
              <p:nvPr/>
            </p:nvSpPr>
            <p:spPr>
              <a:xfrm>
                <a:off x="5127840" y="622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6" name=""/>
              <p:cNvSpPr/>
              <p:nvPr/>
            </p:nvSpPr>
            <p:spPr>
              <a:xfrm>
                <a:off x="4923720" y="619524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7" name=""/>
              <p:cNvSpPr/>
              <p:nvPr/>
            </p:nvSpPr>
            <p:spPr>
              <a:xfrm>
                <a:off x="4961880" y="619524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8" name=""/>
              <p:cNvSpPr/>
              <p:nvPr/>
            </p:nvSpPr>
            <p:spPr>
              <a:xfrm>
                <a:off x="4997160" y="619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9" name=""/>
              <p:cNvSpPr/>
              <p:nvPr/>
            </p:nvSpPr>
            <p:spPr>
              <a:xfrm>
                <a:off x="5033880" y="619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0" name=""/>
              <p:cNvSpPr/>
              <p:nvPr/>
            </p:nvSpPr>
            <p:spPr>
              <a:xfrm>
                <a:off x="5072040" y="619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1" name=""/>
              <p:cNvSpPr/>
              <p:nvPr/>
            </p:nvSpPr>
            <p:spPr>
              <a:xfrm>
                <a:off x="5107680" y="61952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2" name=""/>
              <p:cNvSpPr/>
              <p:nvPr/>
            </p:nvSpPr>
            <p:spPr>
              <a:xfrm>
                <a:off x="4942800" y="6170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3" name=""/>
              <p:cNvSpPr/>
              <p:nvPr/>
            </p:nvSpPr>
            <p:spPr>
              <a:xfrm>
                <a:off x="4979520" y="6170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4" name=""/>
              <p:cNvSpPr/>
              <p:nvPr/>
            </p:nvSpPr>
            <p:spPr>
              <a:xfrm>
                <a:off x="5016240" y="6170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5" name=""/>
              <p:cNvSpPr/>
              <p:nvPr/>
            </p:nvSpPr>
            <p:spPr>
              <a:xfrm>
                <a:off x="5051520" y="617004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6" name=""/>
              <p:cNvSpPr/>
              <p:nvPr/>
            </p:nvSpPr>
            <p:spPr>
              <a:xfrm>
                <a:off x="5089680" y="617004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7" name=""/>
              <p:cNvSpPr/>
              <p:nvPr/>
            </p:nvSpPr>
            <p:spPr>
              <a:xfrm>
                <a:off x="5127840" y="6170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8" name=""/>
              <p:cNvSpPr/>
              <p:nvPr/>
            </p:nvSpPr>
            <p:spPr>
              <a:xfrm>
                <a:off x="4923720" y="614448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9" name=""/>
              <p:cNvSpPr/>
              <p:nvPr/>
            </p:nvSpPr>
            <p:spPr>
              <a:xfrm>
                <a:off x="4961880" y="614448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0" name=""/>
              <p:cNvSpPr/>
              <p:nvPr/>
            </p:nvSpPr>
            <p:spPr>
              <a:xfrm>
                <a:off x="4997160" y="61444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1" name=""/>
              <p:cNvSpPr/>
              <p:nvPr/>
            </p:nvSpPr>
            <p:spPr>
              <a:xfrm>
                <a:off x="5033880" y="61444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2" name=""/>
              <p:cNvSpPr/>
              <p:nvPr/>
            </p:nvSpPr>
            <p:spPr>
              <a:xfrm>
                <a:off x="5072040" y="61444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3" name=""/>
              <p:cNvSpPr/>
              <p:nvPr/>
            </p:nvSpPr>
            <p:spPr>
              <a:xfrm>
                <a:off x="5107680" y="614448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4" name=""/>
              <p:cNvSpPr/>
              <p:nvPr/>
            </p:nvSpPr>
            <p:spPr>
              <a:xfrm>
                <a:off x="4942800" y="611784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5" name=""/>
              <p:cNvSpPr/>
              <p:nvPr/>
            </p:nvSpPr>
            <p:spPr>
              <a:xfrm>
                <a:off x="4979520" y="611784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6" name=""/>
              <p:cNvSpPr/>
              <p:nvPr/>
            </p:nvSpPr>
            <p:spPr>
              <a:xfrm>
                <a:off x="5016240" y="611784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7" name=""/>
              <p:cNvSpPr/>
              <p:nvPr/>
            </p:nvSpPr>
            <p:spPr>
              <a:xfrm>
                <a:off x="5051520" y="6117840"/>
                <a:ext cx="29880" cy="26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8" name=""/>
              <p:cNvSpPr/>
              <p:nvPr/>
            </p:nvSpPr>
            <p:spPr>
              <a:xfrm>
                <a:off x="5089680" y="611784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9" name=""/>
              <p:cNvSpPr/>
              <p:nvPr/>
            </p:nvSpPr>
            <p:spPr>
              <a:xfrm>
                <a:off x="494280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0" name=""/>
              <p:cNvSpPr/>
              <p:nvPr/>
            </p:nvSpPr>
            <p:spPr>
              <a:xfrm>
                <a:off x="497952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1" name=""/>
              <p:cNvSpPr/>
              <p:nvPr/>
            </p:nvSpPr>
            <p:spPr>
              <a:xfrm>
                <a:off x="501624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2" name=""/>
              <p:cNvSpPr/>
              <p:nvPr/>
            </p:nvSpPr>
            <p:spPr>
              <a:xfrm>
                <a:off x="5051520" y="63262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3" name=""/>
              <p:cNvSpPr/>
              <p:nvPr/>
            </p:nvSpPr>
            <p:spPr>
              <a:xfrm>
                <a:off x="5089680" y="63262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4" name=""/>
              <p:cNvSpPr/>
              <p:nvPr/>
            </p:nvSpPr>
            <p:spPr>
              <a:xfrm>
                <a:off x="512784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5" name=""/>
              <p:cNvSpPr/>
              <p:nvPr/>
            </p:nvSpPr>
            <p:spPr>
              <a:xfrm>
                <a:off x="4923720" y="63007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6" name=""/>
              <p:cNvSpPr/>
              <p:nvPr/>
            </p:nvSpPr>
            <p:spPr>
              <a:xfrm>
                <a:off x="4961880" y="630072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7" name=""/>
              <p:cNvSpPr/>
              <p:nvPr/>
            </p:nvSpPr>
            <p:spPr>
              <a:xfrm>
                <a:off x="4997160" y="63007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8" name=""/>
              <p:cNvSpPr/>
              <p:nvPr/>
            </p:nvSpPr>
            <p:spPr>
              <a:xfrm>
                <a:off x="5033880" y="6300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9" name=""/>
              <p:cNvSpPr/>
              <p:nvPr/>
            </p:nvSpPr>
            <p:spPr>
              <a:xfrm>
                <a:off x="5072040" y="6300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0" name=""/>
              <p:cNvSpPr/>
              <p:nvPr/>
            </p:nvSpPr>
            <p:spPr>
              <a:xfrm>
                <a:off x="5107680" y="630072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3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1" name=""/>
              <p:cNvSpPr/>
              <p:nvPr/>
            </p:nvSpPr>
            <p:spPr>
              <a:xfrm>
                <a:off x="4942800" y="62740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2" name=""/>
              <p:cNvSpPr/>
              <p:nvPr/>
            </p:nvSpPr>
            <p:spPr>
              <a:xfrm>
                <a:off x="4979520" y="62740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3" name=""/>
              <p:cNvSpPr/>
              <p:nvPr/>
            </p:nvSpPr>
            <p:spPr>
              <a:xfrm>
                <a:off x="5016240" y="62740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4" name=""/>
              <p:cNvSpPr/>
              <p:nvPr/>
            </p:nvSpPr>
            <p:spPr>
              <a:xfrm>
                <a:off x="5051520" y="627408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5" name=""/>
              <p:cNvSpPr/>
              <p:nvPr/>
            </p:nvSpPr>
            <p:spPr>
              <a:xfrm>
                <a:off x="5089680" y="62740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6" name=""/>
              <p:cNvSpPr/>
              <p:nvPr/>
            </p:nvSpPr>
            <p:spPr>
              <a:xfrm>
                <a:off x="5127840" y="62740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7" name=""/>
              <p:cNvSpPr/>
              <p:nvPr/>
            </p:nvSpPr>
            <p:spPr>
              <a:xfrm>
                <a:off x="5163120" y="63784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8" name=""/>
              <p:cNvSpPr/>
              <p:nvPr/>
            </p:nvSpPr>
            <p:spPr>
              <a:xfrm>
                <a:off x="520020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9" name=""/>
              <p:cNvSpPr/>
              <p:nvPr/>
            </p:nvSpPr>
            <p:spPr>
              <a:xfrm>
                <a:off x="523692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0" name=""/>
              <p:cNvSpPr/>
              <p:nvPr/>
            </p:nvSpPr>
            <p:spPr>
              <a:xfrm>
                <a:off x="527364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1" name=""/>
              <p:cNvSpPr/>
              <p:nvPr/>
            </p:nvSpPr>
            <p:spPr>
              <a:xfrm>
                <a:off x="531036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2" name=""/>
              <p:cNvSpPr/>
              <p:nvPr/>
            </p:nvSpPr>
            <p:spPr>
              <a:xfrm>
                <a:off x="521892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3" name=""/>
              <p:cNvSpPr/>
              <p:nvPr/>
            </p:nvSpPr>
            <p:spPr>
              <a:xfrm>
                <a:off x="5254560" y="63518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4" name=""/>
              <p:cNvSpPr/>
              <p:nvPr/>
            </p:nvSpPr>
            <p:spPr>
              <a:xfrm>
                <a:off x="529128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5" name=""/>
              <p:cNvSpPr/>
              <p:nvPr/>
            </p:nvSpPr>
            <p:spPr>
              <a:xfrm>
                <a:off x="514548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6" name=""/>
              <p:cNvSpPr/>
              <p:nvPr/>
            </p:nvSpPr>
            <p:spPr>
              <a:xfrm>
                <a:off x="518220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7" name=""/>
              <p:cNvSpPr/>
              <p:nvPr/>
            </p:nvSpPr>
            <p:spPr>
              <a:xfrm>
                <a:off x="5291280" y="624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8" name=""/>
              <p:cNvSpPr/>
              <p:nvPr/>
            </p:nvSpPr>
            <p:spPr>
              <a:xfrm>
                <a:off x="5145480" y="624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9" name=""/>
              <p:cNvSpPr/>
              <p:nvPr/>
            </p:nvSpPr>
            <p:spPr>
              <a:xfrm>
                <a:off x="5182200" y="624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0" name=""/>
              <p:cNvSpPr/>
              <p:nvPr/>
            </p:nvSpPr>
            <p:spPr>
              <a:xfrm>
                <a:off x="5218920" y="624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1" name=""/>
              <p:cNvSpPr/>
              <p:nvPr/>
            </p:nvSpPr>
            <p:spPr>
              <a:xfrm>
                <a:off x="5254560" y="62474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2" name=""/>
              <p:cNvSpPr/>
              <p:nvPr/>
            </p:nvSpPr>
            <p:spPr>
              <a:xfrm>
                <a:off x="5163120" y="62218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3" name=""/>
              <p:cNvSpPr/>
              <p:nvPr/>
            </p:nvSpPr>
            <p:spPr>
              <a:xfrm>
                <a:off x="5200200" y="622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4" name=""/>
              <p:cNvSpPr/>
              <p:nvPr/>
            </p:nvSpPr>
            <p:spPr>
              <a:xfrm>
                <a:off x="5236920" y="622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5" name=""/>
              <p:cNvSpPr/>
              <p:nvPr/>
            </p:nvSpPr>
            <p:spPr>
              <a:xfrm>
                <a:off x="5273640" y="622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6" name=""/>
              <p:cNvSpPr/>
              <p:nvPr/>
            </p:nvSpPr>
            <p:spPr>
              <a:xfrm>
                <a:off x="5145480" y="619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7" name=""/>
              <p:cNvSpPr/>
              <p:nvPr/>
            </p:nvSpPr>
            <p:spPr>
              <a:xfrm>
                <a:off x="5182200" y="619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8" name=""/>
              <p:cNvSpPr/>
              <p:nvPr/>
            </p:nvSpPr>
            <p:spPr>
              <a:xfrm>
                <a:off x="5218920" y="619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9" name=""/>
              <p:cNvSpPr/>
              <p:nvPr/>
            </p:nvSpPr>
            <p:spPr>
              <a:xfrm>
                <a:off x="5254560" y="619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0" name=""/>
              <p:cNvSpPr/>
              <p:nvPr/>
            </p:nvSpPr>
            <p:spPr>
              <a:xfrm>
                <a:off x="5291280" y="619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1" name=""/>
              <p:cNvSpPr/>
              <p:nvPr/>
            </p:nvSpPr>
            <p:spPr>
              <a:xfrm>
                <a:off x="523692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2" name=""/>
              <p:cNvSpPr/>
              <p:nvPr/>
            </p:nvSpPr>
            <p:spPr>
              <a:xfrm>
                <a:off x="527364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3" name=""/>
              <p:cNvSpPr/>
              <p:nvPr/>
            </p:nvSpPr>
            <p:spPr>
              <a:xfrm>
                <a:off x="531036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4" name=""/>
              <p:cNvSpPr/>
              <p:nvPr/>
            </p:nvSpPr>
            <p:spPr>
              <a:xfrm>
                <a:off x="5163120" y="63262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5" name=""/>
              <p:cNvSpPr/>
              <p:nvPr/>
            </p:nvSpPr>
            <p:spPr>
              <a:xfrm>
                <a:off x="520020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6" name=""/>
              <p:cNvSpPr/>
              <p:nvPr/>
            </p:nvSpPr>
            <p:spPr>
              <a:xfrm>
                <a:off x="5182200" y="6300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7" name=""/>
              <p:cNvSpPr/>
              <p:nvPr/>
            </p:nvSpPr>
            <p:spPr>
              <a:xfrm>
                <a:off x="5218920" y="6300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8" name=""/>
              <p:cNvSpPr/>
              <p:nvPr/>
            </p:nvSpPr>
            <p:spPr>
              <a:xfrm>
                <a:off x="5254560" y="63007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9" name=""/>
              <p:cNvSpPr/>
              <p:nvPr/>
            </p:nvSpPr>
            <p:spPr>
              <a:xfrm>
                <a:off x="5291280" y="6300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>
                <a:off x="5145480" y="6300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>
                <a:off x="5163120" y="62740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5200200" y="62740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>
                <a:off x="5236920" y="62740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>
                <a:off x="5273640" y="62740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3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>
                <a:off x="5236920" y="6170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5273640" y="6170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5254560" y="61444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5291280" y="61444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5163120" y="617004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5200200" y="6170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5419080" y="64296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545724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5492880" y="64296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553068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527364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531036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534708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5382360" y="64296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556740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560412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564084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5513040" y="6402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>
                <a:off x="5548320" y="64029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4" name=""/>
              <p:cNvSpPr/>
              <p:nvPr/>
            </p:nvSpPr>
            <p:spPr>
              <a:xfrm>
                <a:off x="5586480" y="640296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5" name=""/>
              <p:cNvSpPr/>
              <p:nvPr/>
            </p:nvSpPr>
            <p:spPr>
              <a:xfrm>
                <a:off x="5623560" y="6402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5364720" y="64029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>
                <a:off x="5401440" y="6402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>
                <a:off x="5438160" y="64029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5474880" y="6402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5254560" y="64029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>
                <a:off x="5291280" y="6402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>
                <a:off x="5328000" y="64029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>
                <a:off x="553068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>
                <a:off x="556740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>
                <a:off x="560412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>
                <a:off x="564084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7" name=""/>
              <p:cNvSpPr/>
              <p:nvPr/>
            </p:nvSpPr>
            <p:spPr>
              <a:xfrm>
                <a:off x="5382360" y="637848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8" name=""/>
              <p:cNvSpPr/>
              <p:nvPr/>
            </p:nvSpPr>
            <p:spPr>
              <a:xfrm>
                <a:off x="5419080" y="63784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9" name=""/>
              <p:cNvSpPr/>
              <p:nvPr/>
            </p:nvSpPr>
            <p:spPr>
              <a:xfrm>
                <a:off x="545724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0" name=""/>
              <p:cNvSpPr/>
              <p:nvPr/>
            </p:nvSpPr>
            <p:spPr>
              <a:xfrm>
                <a:off x="5492880" y="637848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1" name=""/>
              <p:cNvSpPr/>
              <p:nvPr/>
            </p:nvSpPr>
            <p:spPr>
              <a:xfrm>
                <a:off x="5347080" y="6378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2" name=""/>
              <p:cNvSpPr/>
              <p:nvPr/>
            </p:nvSpPr>
            <p:spPr>
              <a:xfrm>
                <a:off x="551304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3" name=""/>
              <p:cNvSpPr/>
              <p:nvPr/>
            </p:nvSpPr>
            <p:spPr>
              <a:xfrm>
                <a:off x="5548320" y="63518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4" name=""/>
              <p:cNvSpPr/>
              <p:nvPr/>
            </p:nvSpPr>
            <p:spPr>
              <a:xfrm>
                <a:off x="5586480" y="635184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5" name=""/>
              <p:cNvSpPr/>
              <p:nvPr/>
            </p:nvSpPr>
            <p:spPr>
              <a:xfrm>
                <a:off x="562356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6" name=""/>
              <p:cNvSpPr/>
              <p:nvPr/>
            </p:nvSpPr>
            <p:spPr>
              <a:xfrm>
                <a:off x="5364720" y="63518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7" name=""/>
              <p:cNvSpPr/>
              <p:nvPr/>
            </p:nvSpPr>
            <p:spPr>
              <a:xfrm>
                <a:off x="540144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8" name=""/>
              <p:cNvSpPr/>
              <p:nvPr/>
            </p:nvSpPr>
            <p:spPr>
              <a:xfrm>
                <a:off x="5438160" y="63518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9" name=""/>
              <p:cNvSpPr/>
              <p:nvPr/>
            </p:nvSpPr>
            <p:spPr>
              <a:xfrm>
                <a:off x="547488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0" name=""/>
              <p:cNvSpPr/>
              <p:nvPr/>
            </p:nvSpPr>
            <p:spPr>
              <a:xfrm>
                <a:off x="5328000" y="635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2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1" name=""/>
              <p:cNvSpPr/>
              <p:nvPr/>
            </p:nvSpPr>
            <p:spPr>
              <a:xfrm>
                <a:off x="5623560" y="6454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2" name=""/>
              <p:cNvSpPr/>
              <p:nvPr/>
            </p:nvSpPr>
            <p:spPr>
              <a:xfrm>
                <a:off x="5254560" y="64548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3" name=""/>
              <p:cNvSpPr/>
              <p:nvPr/>
            </p:nvSpPr>
            <p:spPr>
              <a:xfrm>
                <a:off x="5291280" y="6454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4" name=""/>
              <p:cNvSpPr/>
              <p:nvPr/>
            </p:nvSpPr>
            <p:spPr>
              <a:xfrm>
                <a:off x="5328000" y="6454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5" name=""/>
              <p:cNvSpPr/>
              <p:nvPr/>
            </p:nvSpPr>
            <p:spPr>
              <a:xfrm>
                <a:off x="5364720" y="64548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8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6" name=""/>
              <p:cNvSpPr/>
              <p:nvPr/>
            </p:nvSpPr>
            <p:spPr>
              <a:xfrm>
                <a:off x="5401440" y="6454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7" name=""/>
              <p:cNvSpPr/>
              <p:nvPr/>
            </p:nvSpPr>
            <p:spPr>
              <a:xfrm>
                <a:off x="5438160" y="64548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8" name=""/>
              <p:cNvSpPr/>
              <p:nvPr/>
            </p:nvSpPr>
            <p:spPr>
              <a:xfrm>
                <a:off x="5474880" y="6454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9" name=""/>
              <p:cNvSpPr/>
              <p:nvPr/>
            </p:nvSpPr>
            <p:spPr>
              <a:xfrm>
                <a:off x="5513040" y="64548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0" name=""/>
              <p:cNvSpPr/>
              <p:nvPr/>
            </p:nvSpPr>
            <p:spPr>
              <a:xfrm>
                <a:off x="5548320" y="64548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1" name=""/>
              <p:cNvSpPr/>
              <p:nvPr/>
            </p:nvSpPr>
            <p:spPr>
              <a:xfrm>
                <a:off x="5586480" y="645480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2" name=""/>
              <p:cNvSpPr/>
              <p:nvPr/>
            </p:nvSpPr>
            <p:spPr>
              <a:xfrm>
                <a:off x="560412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3" name=""/>
              <p:cNvSpPr/>
              <p:nvPr/>
            </p:nvSpPr>
            <p:spPr>
              <a:xfrm>
                <a:off x="5640840" y="6326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4" name=""/>
              <p:cNvSpPr/>
              <p:nvPr/>
            </p:nvSpPr>
            <p:spPr>
              <a:xfrm>
                <a:off x="5236920" y="6429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5" name=""/>
              <p:cNvSpPr/>
              <p:nvPr/>
            </p:nvSpPr>
            <p:spPr>
              <a:xfrm>
                <a:off x="5336280" y="6143400"/>
                <a:ext cx="289800" cy="1738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6" name=""/>
              <p:cNvSpPr/>
              <p:nvPr/>
            </p:nvSpPr>
            <p:spPr>
              <a:xfrm>
                <a:off x="5336280" y="6143400"/>
                <a:ext cx="289800" cy="1738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7" name=""/>
              <p:cNvSpPr/>
              <p:nvPr/>
            </p:nvSpPr>
            <p:spPr>
              <a:xfrm>
                <a:off x="5355000" y="6159960"/>
                <a:ext cx="250560" cy="1407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  <a:close/>
                  </a:path>
                </a:pathLst>
              </a:custGeom>
              <a:solidFill>
                <a:srgbClr val="2b2b2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8" name=""/>
              <p:cNvSpPr/>
              <p:nvPr/>
            </p:nvSpPr>
            <p:spPr>
              <a:xfrm>
                <a:off x="5355000" y="6159960"/>
                <a:ext cx="250560" cy="1407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9" name=""/>
              <p:cNvSpPr/>
              <p:nvPr/>
            </p:nvSpPr>
            <p:spPr>
              <a:xfrm>
                <a:off x="5406840" y="6190920"/>
                <a:ext cx="149400" cy="7956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1" y="68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" y="68"/>
                    </a:lnTo>
                    <a:close/>
                    <a:moveTo>
                      <a:pt x="120" y="144"/>
                    </a:moveTo>
                    <a:lnTo>
                      <a:pt x="120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20" y="144"/>
                    </a:lnTo>
                    <a:close/>
                    <a:moveTo>
                      <a:pt x="219" y="68"/>
                    </a:moveTo>
                    <a:lnTo>
                      <a:pt x="219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9" y="6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0" name=""/>
              <p:cNvSpPr/>
              <p:nvPr/>
            </p:nvSpPr>
            <p:spPr>
              <a:xfrm>
                <a:off x="5627520" y="6157800"/>
                <a:ext cx="95040" cy="1573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1" name=""/>
              <p:cNvSpPr/>
              <p:nvPr/>
            </p:nvSpPr>
            <p:spPr>
              <a:xfrm>
                <a:off x="5604120" y="6157800"/>
                <a:ext cx="23040" cy="176040"/>
              </a:xfrm>
              <a:prstGeom prst="rect">
                <a:avLst/>
              </a:prstGeom>
              <a:solidFill>
                <a:srgbClr val="b04d7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2" name=""/>
              <p:cNvSpPr/>
              <p:nvPr/>
            </p:nvSpPr>
            <p:spPr>
              <a:xfrm>
                <a:off x="5627520" y="6157800"/>
                <a:ext cx="24480" cy="176040"/>
              </a:xfrm>
              <a:prstGeom prst="rect">
                <a:avLst/>
              </a:prstGeom>
              <a:solidFill>
                <a:srgbClr val="b75f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3" name=""/>
              <p:cNvSpPr/>
              <p:nvPr/>
            </p:nvSpPr>
            <p:spPr>
              <a:xfrm>
                <a:off x="5652000" y="6157800"/>
                <a:ext cx="23040" cy="176040"/>
              </a:xfrm>
              <a:prstGeom prst="rect">
                <a:avLst/>
              </a:prstGeom>
              <a:solidFill>
                <a:srgbClr val="b5598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4" name=""/>
              <p:cNvSpPr/>
              <p:nvPr/>
            </p:nvSpPr>
            <p:spPr>
              <a:xfrm>
                <a:off x="5675400" y="6157800"/>
                <a:ext cx="24120" cy="176040"/>
              </a:xfrm>
              <a:prstGeom prst="rect">
                <a:avLst/>
              </a:prstGeom>
              <a:solidFill>
                <a:srgbClr val="b2537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>
                <a:off x="5699520" y="6157800"/>
                <a:ext cx="23040" cy="176040"/>
              </a:xfrm>
              <a:prstGeom prst="rect">
                <a:avLst/>
              </a:prstGeom>
              <a:solidFill>
                <a:srgbClr val="b04d7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6" name=""/>
              <p:cNvSpPr/>
              <p:nvPr/>
            </p:nvSpPr>
            <p:spPr>
              <a:xfrm>
                <a:off x="5626080" y="6156720"/>
                <a:ext cx="95040" cy="156240"/>
              </a:xfrm>
              <a:custGeom>
                <a:avLst/>
                <a:gdLst/>
                <a:ahLst/>
                <a:rect l="l" t="t" r="r" b="b"/>
                <a:pathLst>
                  <a:path w="140" h="282">
                    <a:moveTo>
                      <a:pt x="0" y="264"/>
                    </a:moveTo>
                    <a:lnTo>
                      <a:pt x="1" y="267"/>
                    </a:lnTo>
                    <a:lnTo>
                      <a:pt x="1" y="270"/>
                    </a:lnTo>
                    <a:lnTo>
                      <a:pt x="4" y="273"/>
                    </a:lnTo>
                    <a:lnTo>
                      <a:pt x="6" y="276"/>
                    </a:lnTo>
                    <a:lnTo>
                      <a:pt x="10" y="278"/>
                    </a:lnTo>
                    <a:lnTo>
                      <a:pt x="14" y="279"/>
                    </a:lnTo>
                    <a:lnTo>
                      <a:pt x="18" y="281"/>
                    </a:lnTo>
                    <a:lnTo>
                      <a:pt x="23" y="282"/>
                    </a:lnTo>
                    <a:lnTo>
                      <a:pt x="29" y="282"/>
                    </a:lnTo>
                    <a:lnTo>
                      <a:pt x="29" y="282"/>
                    </a:lnTo>
                    <a:lnTo>
                      <a:pt x="114" y="273"/>
                    </a:lnTo>
                    <a:lnTo>
                      <a:pt x="120" y="272"/>
                    </a:lnTo>
                    <a:lnTo>
                      <a:pt x="125" y="269"/>
                    </a:lnTo>
                    <a:lnTo>
                      <a:pt x="129" y="267"/>
                    </a:lnTo>
                    <a:lnTo>
                      <a:pt x="133" y="263"/>
                    </a:lnTo>
                    <a:lnTo>
                      <a:pt x="137" y="259"/>
                    </a:lnTo>
                    <a:lnTo>
                      <a:pt x="139" y="255"/>
                    </a:lnTo>
                    <a:lnTo>
                      <a:pt x="140" y="250"/>
                    </a:lnTo>
                    <a:lnTo>
                      <a:pt x="140" y="246"/>
                    </a:lnTo>
                    <a:lnTo>
                      <a:pt x="140" y="38"/>
                    </a:lnTo>
                    <a:lnTo>
                      <a:pt x="140" y="33"/>
                    </a:lnTo>
                    <a:lnTo>
                      <a:pt x="139" y="28"/>
                    </a:lnTo>
                    <a:lnTo>
                      <a:pt x="137" y="24"/>
                    </a:lnTo>
                    <a:lnTo>
                      <a:pt x="133" y="19"/>
                    </a:lnTo>
                    <a:lnTo>
                      <a:pt x="129" y="17"/>
                    </a:lnTo>
                    <a:lnTo>
                      <a:pt x="125" y="13"/>
                    </a:lnTo>
                    <a:lnTo>
                      <a:pt x="120" y="10"/>
                    </a:lnTo>
                    <a:lnTo>
                      <a:pt x="114" y="9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6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7" name=""/>
              <p:cNvSpPr/>
              <p:nvPr/>
            </p:nvSpPr>
            <p:spPr>
              <a:xfrm>
                <a:off x="5162040" y="6110280"/>
                <a:ext cx="46080" cy="361440"/>
              </a:xfrm>
              <a:custGeom>
                <a:avLst/>
                <a:gdLst/>
                <a:ahLst/>
                <a:rect l="l" t="t" r="r" b="b"/>
                <a:pathLst>
                  <a:path w="69" h="651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80"/>
                    </a:moveTo>
                    <a:lnTo>
                      <a:pt x="39" y="580"/>
                    </a:lnTo>
                    <a:lnTo>
                      <a:pt x="43" y="582"/>
                    </a:lnTo>
                    <a:lnTo>
                      <a:pt x="47" y="582"/>
                    </a:lnTo>
                    <a:lnTo>
                      <a:pt x="50" y="583"/>
                    </a:lnTo>
                    <a:lnTo>
                      <a:pt x="53" y="586"/>
                    </a:lnTo>
                    <a:lnTo>
                      <a:pt x="57" y="588"/>
                    </a:lnTo>
                    <a:lnTo>
                      <a:pt x="59" y="591"/>
                    </a:lnTo>
                    <a:lnTo>
                      <a:pt x="62" y="593"/>
                    </a:lnTo>
                    <a:lnTo>
                      <a:pt x="64" y="596"/>
                    </a:lnTo>
                    <a:lnTo>
                      <a:pt x="67" y="599"/>
                    </a:lnTo>
                    <a:lnTo>
                      <a:pt x="68" y="602"/>
                    </a:lnTo>
                    <a:lnTo>
                      <a:pt x="69" y="606"/>
                    </a:lnTo>
                    <a:lnTo>
                      <a:pt x="69" y="610"/>
                    </a:lnTo>
                    <a:lnTo>
                      <a:pt x="69" y="613"/>
                    </a:lnTo>
                    <a:lnTo>
                      <a:pt x="69" y="617"/>
                    </a:lnTo>
                    <a:lnTo>
                      <a:pt x="69" y="620"/>
                    </a:lnTo>
                    <a:lnTo>
                      <a:pt x="69" y="623"/>
                    </a:lnTo>
                    <a:lnTo>
                      <a:pt x="68" y="626"/>
                    </a:lnTo>
                    <a:lnTo>
                      <a:pt x="67" y="630"/>
                    </a:lnTo>
                    <a:lnTo>
                      <a:pt x="65" y="632"/>
                    </a:lnTo>
                    <a:lnTo>
                      <a:pt x="63" y="637"/>
                    </a:lnTo>
                    <a:lnTo>
                      <a:pt x="58" y="642"/>
                    </a:lnTo>
                    <a:lnTo>
                      <a:pt x="53" y="646"/>
                    </a:lnTo>
                    <a:lnTo>
                      <a:pt x="47" y="649"/>
                    </a:lnTo>
                    <a:lnTo>
                      <a:pt x="41" y="650"/>
                    </a:lnTo>
                    <a:lnTo>
                      <a:pt x="38" y="651"/>
                    </a:lnTo>
                    <a:lnTo>
                      <a:pt x="35" y="651"/>
                    </a:lnTo>
                    <a:lnTo>
                      <a:pt x="31" y="651"/>
                    </a:lnTo>
                    <a:lnTo>
                      <a:pt x="28" y="650"/>
                    </a:lnTo>
                    <a:lnTo>
                      <a:pt x="24" y="649"/>
                    </a:lnTo>
                    <a:lnTo>
                      <a:pt x="20" y="647"/>
                    </a:lnTo>
                    <a:lnTo>
                      <a:pt x="13" y="642"/>
                    </a:lnTo>
                    <a:lnTo>
                      <a:pt x="10" y="640"/>
                    </a:lnTo>
                    <a:lnTo>
                      <a:pt x="8" y="637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1" y="627"/>
                    </a:lnTo>
                    <a:lnTo>
                      <a:pt x="0" y="625"/>
                    </a:lnTo>
                    <a:lnTo>
                      <a:pt x="0" y="621"/>
                    </a:lnTo>
                    <a:lnTo>
                      <a:pt x="0" y="617"/>
                    </a:lnTo>
                    <a:lnTo>
                      <a:pt x="0" y="613"/>
                    </a:lnTo>
                    <a:lnTo>
                      <a:pt x="0" y="610"/>
                    </a:lnTo>
                    <a:lnTo>
                      <a:pt x="1" y="606"/>
                    </a:lnTo>
                    <a:lnTo>
                      <a:pt x="1" y="603"/>
                    </a:lnTo>
                    <a:lnTo>
                      <a:pt x="3" y="599"/>
                    </a:lnTo>
                    <a:lnTo>
                      <a:pt x="4" y="597"/>
                    </a:lnTo>
                    <a:lnTo>
                      <a:pt x="8" y="593"/>
                    </a:lnTo>
                    <a:lnTo>
                      <a:pt x="11" y="589"/>
                    </a:lnTo>
                    <a:lnTo>
                      <a:pt x="14" y="587"/>
                    </a:lnTo>
                    <a:lnTo>
                      <a:pt x="16" y="586"/>
                    </a:lnTo>
                    <a:lnTo>
                      <a:pt x="20" y="583"/>
                    </a:lnTo>
                    <a:lnTo>
                      <a:pt x="23" y="582"/>
                    </a:lnTo>
                    <a:lnTo>
                      <a:pt x="29" y="580"/>
                    </a:lnTo>
                    <a:lnTo>
                      <a:pt x="35" y="580"/>
                    </a:lnTo>
                    <a:lnTo>
                      <a:pt x="35" y="580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8" name=""/>
              <p:cNvSpPr/>
              <p:nvPr/>
            </p:nvSpPr>
            <p:spPr>
              <a:xfrm>
                <a:off x="5162040" y="6110280"/>
                <a:ext cx="46080" cy="3852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9" name=""/>
              <p:cNvSpPr/>
              <p:nvPr/>
            </p:nvSpPr>
            <p:spPr>
              <a:xfrm>
                <a:off x="5162040" y="643176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35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7" y="8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3"/>
                    </a:lnTo>
                    <a:lnTo>
                      <a:pt x="69" y="37"/>
                    </a:lnTo>
                    <a:lnTo>
                      <a:pt x="69" y="40"/>
                    </a:lnTo>
                    <a:lnTo>
                      <a:pt x="69" y="43"/>
                    </a:lnTo>
                    <a:lnTo>
                      <a:pt x="68" y="46"/>
                    </a:lnTo>
                    <a:lnTo>
                      <a:pt x="67" y="50"/>
                    </a:lnTo>
                    <a:lnTo>
                      <a:pt x="65" y="52"/>
                    </a:lnTo>
                    <a:lnTo>
                      <a:pt x="63" y="57"/>
                    </a:lnTo>
                    <a:lnTo>
                      <a:pt x="58" y="62"/>
                    </a:lnTo>
                    <a:lnTo>
                      <a:pt x="53" y="66"/>
                    </a:lnTo>
                    <a:lnTo>
                      <a:pt x="47" y="69"/>
                    </a:lnTo>
                    <a:lnTo>
                      <a:pt x="41" y="70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8" y="70"/>
                    </a:lnTo>
                    <a:lnTo>
                      <a:pt x="24" y="69"/>
                    </a:lnTo>
                    <a:lnTo>
                      <a:pt x="20" y="67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00" name=""/>
              <p:cNvSpPr/>
              <p:nvPr/>
            </p:nvSpPr>
            <p:spPr>
              <a:xfrm>
                <a:off x="5175360" y="6121080"/>
                <a:ext cx="19080" cy="338040"/>
              </a:xfrm>
              <a:custGeom>
                <a:avLst/>
                <a:gdLst/>
                <a:ahLst/>
                <a:rect l="l" t="t" r="r" b="b"/>
                <a:pathLst>
                  <a:path w="29" h="611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8"/>
                    </a:moveTo>
                    <a:lnTo>
                      <a:pt x="9" y="607"/>
                    </a:lnTo>
                    <a:lnTo>
                      <a:pt x="10" y="606"/>
                    </a:lnTo>
                    <a:lnTo>
                      <a:pt x="11" y="605"/>
                    </a:lnTo>
                    <a:lnTo>
                      <a:pt x="13" y="603"/>
                    </a:lnTo>
                    <a:lnTo>
                      <a:pt x="15" y="603"/>
                    </a:lnTo>
                    <a:lnTo>
                      <a:pt x="16" y="603"/>
                    </a:lnTo>
                    <a:lnTo>
                      <a:pt x="18" y="605"/>
                    </a:lnTo>
                    <a:lnTo>
                      <a:pt x="19" y="606"/>
                    </a:lnTo>
                    <a:lnTo>
                      <a:pt x="20" y="607"/>
                    </a:lnTo>
                    <a:lnTo>
                      <a:pt x="20" y="607"/>
                    </a:lnTo>
                    <a:lnTo>
                      <a:pt x="23" y="608"/>
                    </a:lnTo>
                    <a:lnTo>
                      <a:pt x="24" y="608"/>
                    </a:lnTo>
                    <a:lnTo>
                      <a:pt x="25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9" y="607"/>
                    </a:lnTo>
                    <a:lnTo>
                      <a:pt x="29" y="606"/>
                    </a:lnTo>
                    <a:lnTo>
                      <a:pt x="29" y="606"/>
                    </a:lnTo>
                    <a:lnTo>
                      <a:pt x="29" y="603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7" y="600"/>
                    </a:lnTo>
                    <a:lnTo>
                      <a:pt x="25" y="600"/>
                    </a:lnTo>
                    <a:lnTo>
                      <a:pt x="24" y="598"/>
                    </a:lnTo>
                    <a:lnTo>
                      <a:pt x="24" y="597"/>
                    </a:lnTo>
                    <a:lnTo>
                      <a:pt x="24" y="596"/>
                    </a:lnTo>
                    <a:lnTo>
                      <a:pt x="24" y="595"/>
                    </a:lnTo>
                    <a:lnTo>
                      <a:pt x="24" y="592"/>
                    </a:lnTo>
                    <a:lnTo>
                      <a:pt x="25" y="591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9" y="587"/>
                    </a:lnTo>
                    <a:lnTo>
                      <a:pt x="29" y="587"/>
                    </a:lnTo>
                    <a:lnTo>
                      <a:pt x="29" y="586"/>
                    </a:lnTo>
                    <a:lnTo>
                      <a:pt x="29" y="584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7" y="582"/>
                    </a:lnTo>
                    <a:lnTo>
                      <a:pt x="27" y="581"/>
                    </a:lnTo>
                    <a:lnTo>
                      <a:pt x="25" y="581"/>
                    </a:lnTo>
                    <a:lnTo>
                      <a:pt x="24" y="581"/>
                    </a:lnTo>
                    <a:lnTo>
                      <a:pt x="23" y="582"/>
                    </a:lnTo>
                    <a:lnTo>
                      <a:pt x="23" y="582"/>
                    </a:lnTo>
                    <a:lnTo>
                      <a:pt x="20" y="584"/>
                    </a:lnTo>
                    <a:lnTo>
                      <a:pt x="19" y="586"/>
                    </a:lnTo>
                    <a:lnTo>
                      <a:pt x="18" y="586"/>
                    </a:lnTo>
                    <a:lnTo>
                      <a:pt x="15" y="586"/>
                    </a:lnTo>
                    <a:lnTo>
                      <a:pt x="11" y="586"/>
                    </a:lnTo>
                    <a:lnTo>
                      <a:pt x="10" y="586"/>
                    </a:lnTo>
                    <a:lnTo>
                      <a:pt x="9" y="584"/>
                    </a:lnTo>
                    <a:lnTo>
                      <a:pt x="9" y="584"/>
                    </a:lnTo>
                    <a:lnTo>
                      <a:pt x="6" y="582"/>
                    </a:lnTo>
                    <a:lnTo>
                      <a:pt x="5" y="581"/>
                    </a:lnTo>
                    <a:lnTo>
                      <a:pt x="4" y="581"/>
                    </a:lnTo>
                    <a:lnTo>
                      <a:pt x="3" y="581"/>
                    </a:lnTo>
                    <a:lnTo>
                      <a:pt x="3" y="582"/>
                    </a:lnTo>
                    <a:lnTo>
                      <a:pt x="0" y="582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6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3" y="590"/>
                    </a:lnTo>
                    <a:lnTo>
                      <a:pt x="4" y="591"/>
                    </a:lnTo>
                    <a:lnTo>
                      <a:pt x="5" y="592"/>
                    </a:lnTo>
                    <a:lnTo>
                      <a:pt x="5" y="595"/>
                    </a:lnTo>
                    <a:lnTo>
                      <a:pt x="6" y="596"/>
                    </a:lnTo>
                    <a:lnTo>
                      <a:pt x="5" y="597"/>
                    </a:lnTo>
                    <a:lnTo>
                      <a:pt x="5" y="598"/>
                    </a:lnTo>
                    <a:lnTo>
                      <a:pt x="4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0" y="602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3" y="608"/>
                    </a:lnTo>
                    <a:lnTo>
                      <a:pt x="3" y="610"/>
                    </a:lnTo>
                    <a:lnTo>
                      <a:pt x="4" y="611"/>
                    </a:lnTo>
                    <a:lnTo>
                      <a:pt x="5" y="610"/>
                    </a:lnTo>
                    <a:lnTo>
                      <a:pt x="6" y="608"/>
                    </a:lnTo>
                    <a:lnTo>
                      <a:pt x="6" y="608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01" name=""/>
              <p:cNvSpPr/>
              <p:nvPr/>
            </p:nvSpPr>
            <p:spPr>
              <a:xfrm>
                <a:off x="5175360" y="6121080"/>
                <a:ext cx="19080" cy="165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02" name=""/>
              <p:cNvSpPr/>
              <p:nvPr/>
            </p:nvSpPr>
            <p:spPr>
              <a:xfrm>
                <a:off x="5175360" y="6442920"/>
                <a:ext cx="19080" cy="165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7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3903" name=""/>
            <p:cNvSpPr/>
            <p:nvPr/>
          </p:nvSpPr>
          <p:spPr>
            <a:xfrm>
              <a:off x="5221440" y="6098400"/>
              <a:ext cx="47880" cy="394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197680" y="6078960"/>
              <a:ext cx="23760" cy="433080"/>
            </a:xfrm>
            <a:prstGeom prst="rect">
              <a:avLst/>
            </a:prstGeom>
            <a:solidFill>
              <a:srgbClr val="7b7b7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221440" y="6078960"/>
              <a:ext cx="23760" cy="433080"/>
            </a:xfrm>
            <a:prstGeom prst="rect">
              <a:avLst/>
            </a:prstGeom>
            <a:solidFill>
              <a:srgbClr val="5d5d5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5245200" y="6078960"/>
              <a:ext cx="24120" cy="433080"/>
            </a:xfrm>
            <a:prstGeom prst="rect">
              <a:avLst/>
            </a:prstGeom>
            <a:solidFill>
              <a:srgbClr val="67676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5215320" y="6089760"/>
              <a:ext cx="40320" cy="404280"/>
            </a:xfrm>
            <a:custGeom>
              <a:avLst/>
              <a:gdLst/>
              <a:ahLst/>
              <a:rect l="l" t="t" r="r" b="b"/>
              <a:pathLst>
                <a:path w="60" h="728">
                  <a:moveTo>
                    <a:pt x="60" y="720"/>
                  </a:moveTo>
                  <a:lnTo>
                    <a:pt x="60" y="7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20"/>
                  </a:lnTo>
                  <a:lnTo>
                    <a:pt x="1" y="723"/>
                  </a:lnTo>
                  <a:lnTo>
                    <a:pt x="1" y="724"/>
                  </a:lnTo>
                  <a:lnTo>
                    <a:pt x="4" y="725"/>
                  </a:lnTo>
                  <a:lnTo>
                    <a:pt x="6" y="726"/>
                  </a:lnTo>
                  <a:lnTo>
                    <a:pt x="9" y="728"/>
                  </a:lnTo>
                  <a:lnTo>
                    <a:pt x="9" y="728"/>
                  </a:lnTo>
                  <a:lnTo>
                    <a:pt x="53" y="728"/>
                  </a:lnTo>
                  <a:lnTo>
                    <a:pt x="56" y="726"/>
                  </a:lnTo>
                  <a:lnTo>
                    <a:pt x="58" y="725"/>
                  </a:lnTo>
                  <a:lnTo>
                    <a:pt x="59" y="724"/>
                  </a:lnTo>
                  <a:lnTo>
                    <a:pt x="60" y="7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906640" y="6473160"/>
              <a:ext cx="14688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2906640" y="6473160"/>
              <a:ext cx="14688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3127680" y="6473160"/>
              <a:ext cx="14580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3127680" y="6473160"/>
              <a:ext cx="14580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3346200" y="6473160"/>
              <a:ext cx="14796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3346200" y="6473160"/>
              <a:ext cx="1479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3566160" y="6473160"/>
              <a:ext cx="14688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3566160" y="6473160"/>
              <a:ext cx="14688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3199320" y="6322320"/>
              <a:ext cx="222120" cy="594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199320" y="6322320"/>
              <a:ext cx="222120" cy="59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3199320" y="6140880"/>
              <a:ext cx="222120" cy="612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3199320" y="6140880"/>
              <a:ext cx="222120" cy="61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920" name=""/>
          <p:cNvSpPr/>
          <p:nvPr/>
        </p:nvSpPr>
        <p:spPr>
          <a:xfrm flipH="1">
            <a:off x="417240" y="6361200"/>
            <a:ext cx="2593800" cy="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21" name=""/>
          <p:cNvSpPr/>
          <p:nvPr/>
        </p:nvSpPr>
        <p:spPr>
          <a:xfrm>
            <a:off x="423720" y="1474920"/>
            <a:ext cx="0" cy="488160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22" name=""/>
          <p:cNvSpPr/>
          <p:nvPr/>
        </p:nvSpPr>
        <p:spPr>
          <a:xfrm>
            <a:off x="2300400" y="3537000"/>
            <a:ext cx="0" cy="263520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3923" name="" descr=""/>
          <p:cNvPicPr/>
          <p:nvPr/>
        </p:nvPicPr>
        <p:blipFill>
          <a:blip r:embed="rId13"/>
          <a:stretch/>
        </p:blipFill>
        <p:spPr>
          <a:xfrm>
            <a:off x="2724120" y="1670040"/>
            <a:ext cx="3718080" cy="590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24" name="" descr=""/>
          <p:cNvPicPr/>
          <p:nvPr/>
        </p:nvPicPr>
        <p:blipFill>
          <a:blip r:embed="rId14"/>
          <a:stretch/>
        </p:blipFill>
        <p:spPr>
          <a:xfrm>
            <a:off x="2724120" y="3005280"/>
            <a:ext cx="3718080" cy="590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25" name="" descr=""/>
          <p:cNvPicPr/>
          <p:nvPr/>
        </p:nvPicPr>
        <p:blipFill>
          <a:blip r:embed="rId15"/>
          <a:stretch/>
        </p:blipFill>
        <p:spPr>
          <a:xfrm>
            <a:off x="2724120" y="2379600"/>
            <a:ext cx="3718080" cy="590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3926" name="" descr=""/>
          <p:cNvPicPr/>
          <p:nvPr/>
        </p:nvPicPr>
        <p:blipFill>
          <a:blip r:embed="rId16"/>
          <a:stretch/>
        </p:blipFill>
        <p:spPr>
          <a:xfrm>
            <a:off x="2811600" y="979560"/>
            <a:ext cx="3649680" cy="590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927" name=""/>
          <p:cNvGrpSpPr/>
          <p:nvPr/>
        </p:nvGrpSpPr>
        <p:grpSpPr>
          <a:xfrm>
            <a:off x="2490840" y="5291280"/>
            <a:ext cx="4190760" cy="678960"/>
            <a:chOff x="2490840" y="5291280"/>
            <a:chExt cx="4190760" cy="678960"/>
          </a:xfrm>
        </p:grpSpPr>
        <p:sp>
          <p:nvSpPr>
            <p:cNvPr id="3928" name=""/>
            <p:cNvSpPr/>
            <p:nvPr/>
          </p:nvSpPr>
          <p:spPr>
            <a:xfrm>
              <a:off x="2493000" y="5683680"/>
              <a:ext cx="83160" cy="276480"/>
            </a:xfrm>
            <a:custGeom>
              <a:avLst/>
              <a:gdLst/>
              <a:ahLst/>
              <a:rect l="l" t="t" r="r" b="b"/>
              <a:pathLst>
                <a:path w="122" h="497">
                  <a:moveTo>
                    <a:pt x="104" y="497"/>
                  </a:moveTo>
                  <a:lnTo>
                    <a:pt x="108" y="497"/>
                  </a:lnTo>
                  <a:lnTo>
                    <a:pt x="110" y="496"/>
                  </a:lnTo>
                  <a:lnTo>
                    <a:pt x="114" y="495"/>
                  </a:lnTo>
                  <a:lnTo>
                    <a:pt x="117" y="492"/>
                  </a:lnTo>
                  <a:lnTo>
                    <a:pt x="118" y="490"/>
                  </a:lnTo>
                  <a:lnTo>
                    <a:pt x="120" y="487"/>
                  </a:lnTo>
                  <a:lnTo>
                    <a:pt x="122" y="485"/>
                  </a:lnTo>
                  <a:lnTo>
                    <a:pt x="122" y="481"/>
                  </a:lnTo>
                  <a:lnTo>
                    <a:pt x="122" y="481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0" y="9"/>
                  </a:lnTo>
                  <a:lnTo>
                    <a:pt x="118" y="6"/>
                  </a:lnTo>
                  <a:lnTo>
                    <a:pt x="117" y="4"/>
                  </a:lnTo>
                  <a:lnTo>
                    <a:pt x="114" y="2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1" y="487"/>
                  </a:lnTo>
                  <a:lnTo>
                    <a:pt x="3" y="490"/>
                  </a:lnTo>
                  <a:lnTo>
                    <a:pt x="5" y="492"/>
                  </a:lnTo>
                  <a:lnTo>
                    <a:pt x="8" y="495"/>
                  </a:lnTo>
                  <a:lnTo>
                    <a:pt x="10" y="496"/>
                  </a:lnTo>
                  <a:lnTo>
                    <a:pt x="14" y="497"/>
                  </a:lnTo>
                  <a:lnTo>
                    <a:pt x="18" y="497"/>
                  </a:lnTo>
                  <a:lnTo>
                    <a:pt x="104" y="497"/>
                  </a:lnTo>
                  <a:lnTo>
                    <a:pt x="104" y="49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2491920" y="5681880"/>
              <a:ext cx="84600" cy="2782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2491920" y="5681880"/>
              <a:ext cx="1080" cy="278280"/>
            </a:xfrm>
            <a:prstGeom prst="rect">
              <a:avLst/>
            </a:prstGeom>
            <a:solidFill>
              <a:srgbClr val="b4b4b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2491920" y="5681880"/>
              <a:ext cx="1080" cy="27828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2493000" y="5681880"/>
              <a:ext cx="1080" cy="278280"/>
            </a:xfrm>
            <a:prstGeom prst="rect">
              <a:avLst/>
            </a:prstGeom>
            <a:solidFill>
              <a:srgbClr val="b5b5b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2494080" y="5681880"/>
              <a:ext cx="2160" cy="278280"/>
            </a:xfrm>
            <a:prstGeom prst="rect">
              <a:avLst/>
            </a:prstGeom>
            <a:solidFill>
              <a:srgbClr val="b7b7b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2494080" y="5681880"/>
              <a:ext cx="2160" cy="278280"/>
            </a:xfrm>
            <a:prstGeom prst="rect">
              <a:avLst/>
            </a:prstGeom>
            <a:solidFill>
              <a:srgbClr val="b8b8b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496600" y="5681880"/>
              <a:ext cx="1080" cy="278280"/>
            </a:xfrm>
            <a:prstGeom prst="rect">
              <a:avLst/>
            </a:prstGeom>
            <a:solidFill>
              <a:srgbClr val="baba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2497680" y="5681880"/>
              <a:ext cx="1080" cy="27828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2497680" y="5681880"/>
              <a:ext cx="1080" cy="278280"/>
            </a:xfrm>
            <a:prstGeom prst="rect">
              <a:avLst/>
            </a:prstGeom>
            <a:solidFill>
              <a:srgbClr val="bdbdb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2499120" y="5681880"/>
              <a:ext cx="1080" cy="27828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2499120" y="5681880"/>
              <a:ext cx="1080" cy="278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2500200" y="5681880"/>
              <a:ext cx="1080" cy="278280"/>
            </a:xfrm>
            <a:prstGeom prst="rect">
              <a:avLst/>
            </a:prstGeom>
            <a:solidFill>
              <a:srgbClr val="c2c2c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2501640" y="5681880"/>
              <a:ext cx="1080" cy="278280"/>
            </a:xfrm>
            <a:prstGeom prst="rect">
              <a:avLst/>
            </a:prstGeom>
            <a:solidFill>
              <a:srgbClr val="c3c3c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2501640" y="5681880"/>
              <a:ext cx="1080" cy="278280"/>
            </a:xfrm>
            <a:prstGeom prst="rect">
              <a:avLst/>
            </a:prstGeom>
            <a:solidFill>
              <a:srgbClr val="c4c4c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502720" y="5681880"/>
              <a:ext cx="1080" cy="278280"/>
            </a:xfrm>
            <a:prstGeom prst="rect">
              <a:avLst/>
            </a:prstGeom>
            <a:solidFill>
              <a:srgbClr val="c6c6c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2503800" y="5681880"/>
              <a:ext cx="2160" cy="278280"/>
            </a:xfrm>
            <a:prstGeom prst="rect">
              <a:avLst/>
            </a:prstGeom>
            <a:solidFill>
              <a:srgbClr val="c8c8c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2503800" y="5681880"/>
              <a:ext cx="2160" cy="278280"/>
            </a:xfrm>
            <a:prstGeom prst="rect">
              <a:avLst/>
            </a:prstGeom>
            <a:solidFill>
              <a:srgbClr val="c9c9c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2505960" y="5681880"/>
              <a:ext cx="1080" cy="278280"/>
            </a:xfrm>
            <a:prstGeom prst="rect">
              <a:avLst/>
            </a:prstGeom>
            <a:solidFill>
              <a:srgbClr val="cbcb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2505960" y="5681880"/>
              <a:ext cx="1080" cy="278280"/>
            </a:xfrm>
            <a:prstGeom prst="rect">
              <a:avLst/>
            </a:prstGeom>
            <a:solidFill>
              <a:srgbClr val="cccc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507400" y="5681880"/>
              <a:ext cx="1080" cy="27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508480" y="5681880"/>
              <a:ext cx="1080" cy="278280"/>
            </a:xfrm>
            <a:prstGeom prst="rect">
              <a:avLst/>
            </a:prstGeom>
            <a:solidFill>
              <a:srgbClr val="d0d0d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508480" y="5681880"/>
              <a:ext cx="1080" cy="278280"/>
            </a:xfrm>
            <a:prstGeom prst="rect">
              <a:avLst/>
            </a:prstGeom>
            <a:solidFill>
              <a:srgbClr val="d1d1d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509920" y="5681880"/>
              <a:ext cx="1080" cy="278280"/>
            </a:xfrm>
            <a:prstGeom prst="rect">
              <a:avLst/>
            </a:prstGeom>
            <a:solidFill>
              <a:srgbClr val="d3d3d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511000" y="5681880"/>
              <a:ext cx="1080" cy="278280"/>
            </a:xfrm>
            <a:prstGeom prst="rect">
              <a:avLst/>
            </a:prstGeom>
            <a:solidFill>
              <a:srgbClr val="d4d4d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511000" y="5681880"/>
              <a:ext cx="1080" cy="278280"/>
            </a:xfrm>
            <a:prstGeom prst="rect">
              <a:avLst/>
            </a:prstGeom>
            <a:solidFill>
              <a:srgbClr val="d6d6d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512080" y="5681880"/>
              <a:ext cx="1080" cy="278280"/>
            </a:xfrm>
            <a:prstGeom prst="rect">
              <a:avLst/>
            </a:prstGeom>
            <a:solidFill>
              <a:srgbClr val="d7d7d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512080" y="5681880"/>
              <a:ext cx="1080" cy="278280"/>
            </a:xfrm>
            <a:prstGeom prst="rect">
              <a:avLst/>
            </a:prstGeom>
            <a:solidFill>
              <a:srgbClr val="d8d8d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513520" y="5681880"/>
              <a:ext cx="1080" cy="278280"/>
            </a:xfrm>
            <a:prstGeom prst="rect">
              <a:avLst/>
            </a:prstGeom>
            <a:solidFill>
              <a:srgbClr val="dadad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2514600" y="5681880"/>
              <a:ext cx="2160" cy="278280"/>
            </a:xfrm>
            <a:prstGeom prst="rect">
              <a:avLst/>
            </a:prstGeom>
            <a:solidFill>
              <a:srgbClr val="dcdcd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2514600" y="5681880"/>
              <a:ext cx="2160" cy="2782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517120" y="5681880"/>
              <a:ext cx="1080" cy="278280"/>
            </a:xfrm>
            <a:prstGeom prst="rect">
              <a:avLst/>
            </a:prstGeom>
            <a:solidFill>
              <a:srgbClr val="dfdfd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2518200" y="5681880"/>
              <a:ext cx="1080" cy="27828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2518200" y="5681880"/>
              <a:ext cx="1080" cy="278280"/>
            </a:xfrm>
            <a:prstGeom prst="rect">
              <a:avLst/>
            </a:prstGeom>
            <a:solidFill>
              <a:srgbClr val="e2e2e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2519280" y="5681880"/>
              <a:ext cx="1080" cy="278280"/>
            </a:xfrm>
            <a:prstGeom prst="rect">
              <a:avLst/>
            </a:prstGeom>
            <a:solidFill>
              <a:srgbClr val="e4e4e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2520360" y="5681880"/>
              <a:ext cx="1080" cy="278280"/>
            </a:xfrm>
            <a:prstGeom prst="rect">
              <a:avLst/>
            </a:prstGeom>
            <a:solidFill>
              <a:srgbClr val="e5e5e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2520360" y="5681880"/>
              <a:ext cx="1080" cy="278280"/>
            </a:xfrm>
            <a:prstGeom prst="rect">
              <a:avLst/>
            </a:prstGeom>
            <a:solidFill>
              <a:srgbClr val="e7e7e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2521800" y="5681880"/>
              <a:ext cx="1080" cy="278280"/>
            </a:xfrm>
            <a:prstGeom prst="rect">
              <a:avLst/>
            </a:prstGeom>
            <a:solidFill>
              <a:srgbClr val="e8e8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2521800" y="5681880"/>
              <a:ext cx="1080" cy="2782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522880" y="5681880"/>
              <a:ext cx="1080" cy="278280"/>
            </a:xfrm>
            <a:prstGeom prst="rect">
              <a:avLst/>
            </a:prstGeom>
            <a:solidFill>
              <a:srgbClr val="ebebe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2523960" y="5681880"/>
              <a:ext cx="2160" cy="278280"/>
            </a:xfrm>
            <a:prstGeom prst="rect">
              <a:avLst/>
            </a:prstGeom>
            <a:solidFill>
              <a:srgbClr val="edede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2523960" y="5681880"/>
              <a:ext cx="2160" cy="278280"/>
            </a:xfrm>
            <a:prstGeom prst="rect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2526480" y="5681880"/>
              <a:ext cx="1080" cy="278280"/>
            </a:xfrm>
            <a:prstGeom prst="rect">
              <a:avLst/>
            </a:prstGeom>
            <a:solidFill>
              <a:srgbClr val="f0f0f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2527920" y="5681880"/>
              <a:ext cx="1080" cy="278280"/>
            </a:xfrm>
            <a:prstGeom prst="rect">
              <a:avLst/>
            </a:prstGeom>
            <a:solidFill>
              <a:srgbClr val="f1f1f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2527920" y="5681880"/>
              <a:ext cx="1080" cy="278280"/>
            </a:xfrm>
            <a:prstGeom prst="rect">
              <a:avLst/>
            </a:prstGeom>
            <a:solidFill>
              <a:srgbClr val="f3f3f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2529000" y="5681880"/>
              <a:ext cx="1080" cy="278280"/>
            </a:xfrm>
            <a:prstGeom prst="rect">
              <a:avLst/>
            </a:prstGeom>
            <a:solidFill>
              <a:srgbClr val="f5f5f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2529000" y="5681880"/>
              <a:ext cx="1080" cy="278280"/>
            </a:xfrm>
            <a:prstGeom prst="rect">
              <a:avLst/>
            </a:prstGeom>
            <a:solidFill>
              <a:srgbClr val="f6f6f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530080" y="5681880"/>
              <a:ext cx="1080" cy="278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2531160" y="5681880"/>
              <a:ext cx="1080" cy="278280"/>
            </a:xfrm>
            <a:prstGeom prst="rect">
              <a:avLst/>
            </a:prstGeom>
            <a:solidFill>
              <a:srgbClr val="f9f9f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2531160" y="5681880"/>
              <a:ext cx="1080" cy="278280"/>
            </a:xfrm>
            <a:prstGeom prst="rect">
              <a:avLst/>
            </a:prstGeom>
            <a:solidFill>
              <a:srgbClr val="fbfbf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2532240" y="5681880"/>
              <a:ext cx="1080" cy="278280"/>
            </a:xfrm>
            <a:prstGeom prst="rect">
              <a:avLst/>
            </a:prstGeom>
            <a:solidFill>
              <a:srgbClr val="fcfc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2533680" y="5681880"/>
              <a:ext cx="2160" cy="278280"/>
            </a:xfrm>
            <a:prstGeom prst="rect">
              <a:avLst/>
            </a:prstGeom>
            <a:solidFill>
              <a:srgbClr val="fefef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2533680" y="5681880"/>
              <a:ext cx="2160" cy="27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2536200" y="5681880"/>
              <a:ext cx="1080" cy="278280"/>
            </a:xfrm>
            <a:prstGeom prst="rect">
              <a:avLst/>
            </a:prstGeom>
            <a:solidFill>
              <a:srgbClr val="fdfd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2536200" y="5681880"/>
              <a:ext cx="1080" cy="278280"/>
            </a:xfrm>
            <a:prstGeom prst="rect">
              <a:avLst/>
            </a:prstGeom>
            <a:solidFill>
              <a:srgbClr val="fcfc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537280" y="5681880"/>
              <a:ext cx="1080" cy="278280"/>
            </a:xfrm>
            <a:prstGeom prst="rect">
              <a:avLst/>
            </a:prstGeom>
            <a:solidFill>
              <a:srgbClr val="fbfbf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2538360" y="5681880"/>
              <a:ext cx="1080" cy="278280"/>
            </a:xfrm>
            <a:prstGeom prst="rect">
              <a:avLst/>
            </a:prstGeom>
            <a:solidFill>
              <a:srgbClr val="f9f9f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3985" name=""/>
            <p:cNvGrpSpPr/>
            <p:nvPr/>
          </p:nvGrpSpPr>
          <p:grpSpPr>
            <a:xfrm>
              <a:off x="2490840" y="5291280"/>
              <a:ext cx="4190760" cy="677520"/>
              <a:chOff x="2490840" y="5291280"/>
              <a:chExt cx="4190760" cy="677520"/>
            </a:xfrm>
          </p:grpSpPr>
          <p:sp>
            <p:nvSpPr>
              <p:cNvPr id="3986" name=""/>
              <p:cNvSpPr/>
              <p:nvPr/>
            </p:nvSpPr>
            <p:spPr>
              <a:xfrm>
                <a:off x="2538360" y="5682240"/>
                <a:ext cx="1080" cy="2775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2539800" y="5682240"/>
                <a:ext cx="1440" cy="277560"/>
              </a:xfrm>
              <a:prstGeom prst="rect">
                <a:avLst/>
              </a:prstGeom>
              <a:solidFill>
                <a:srgbClr val="f6f6f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2541240" y="5682240"/>
                <a:ext cx="1080" cy="277560"/>
              </a:xfrm>
              <a:prstGeom prst="rect">
                <a:avLst/>
              </a:prstGeom>
              <a:solidFill>
                <a:srgbClr val="f5f5f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2541240" y="5682240"/>
                <a:ext cx="1080" cy="277560"/>
              </a:xfrm>
              <a:prstGeom prst="rect">
                <a:avLst/>
              </a:prstGeom>
              <a:solidFill>
                <a:srgbClr val="f3f3f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0" name=""/>
              <p:cNvSpPr/>
              <p:nvPr/>
            </p:nvSpPr>
            <p:spPr>
              <a:xfrm>
                <a:off x="2542320" y="5682240"/>
                <a:ext cx="1080" cy="277560"/>
              </a:xfrm>
              <a:prstGeom prst="rect">
                <a:avLst/>
              </a:prstGeom>
              <a:solidFill>
                <a:srgbClr val="f1f1f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1" name=""/>
              <p:cNvSpPr/>
              <p:nvPr/>
            </p:nvSpPr>
            <p:spPr>
              <a:xfrm>
                <a:off x="2542320" y="5682240"/>
                <a:ext cx="1080" cy="277560"/>
              </a:xfrm>
              <a:prstGeom prst="rect">
                <a:avLst/>
              </a:prstGeom>
              <a:solidFill>
                <a:srgbClr val="f0f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2" name=""/>
              <p:cNvSpPr/>
              <p:nvPr/>
            </p:nvSpPr>
            <p:spPr>
              <a:xfrm>
                <a:off x="2543760" y="5682240"/>
                <a:ext cx="1440" cy="27756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3" name=""/>
              <p:cNvSpPr/>
              <p:nvPr/>
            </p:nvSpPr>
            <p:spPr>
              <a:xfrm>
                <a:off x="2545200" y="5682240"/>
                <a:ext cx="108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4" name=""/>
              <p:cNvSpPr/>
              <p:nvPr/>
            </p:nvSpPr>
            <p:spPr>
              <a:xfrm>
                <a:off x="2545200" y="5682240"/>
                <a:ext cx="1080" cy="277560"/>
              </a:xfrm>
              <a:prstGeom prst="rect">
                <a:avLst/>
              </a:prstGeom>
              <a:solidFill>
                <a:srgbClr val="ebebe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5" name=""/>
              <p:cNvSpPr/>
              <p:nvPr/>
            </p:nvSpPr>
            <p:spPr>
              <a:xfrm>
                <a:off x="2546640" y="5682240"/>
                <a:ext cx="144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6" name=""/>
              <p:cNvSpPr/>
              <p:nvPr/>
            </p:nvSpPr>
            <p:spPr>
              <a:xfrm>
                <a:off x="2548080" y="5682240"/>
                <a:ext cx="1080" cy="277560"/>
              </a:xfrm>
              <a:prstGeom prst="rect">
                <a:avLst/>
              </a:prstGeom>
              <a:solidFill>
                <a:srgbClr val="e8e8e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7" name=""/>
              <p:cNvSpPr/>
              <p:nvPr/>
            </p:nvSpPr>
            <p:spPr>
              <a:xfrm>
                <a:off x="2548080" y="5682240"/>
                <a:ext cx="1080" cy="277560"/>
              </a:xfrm>
              <a:prstGeom prst="rect">
                <a:avLst/>
              </a:prstGeom>
              <a:solidFill>
                <a:srgbClr val="e7e7e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8" name=""/>
              <p:cNvSpPr/>
              <p:nvPr/>
            </p:nvSpPr>
            <p:spPr>
              <a:xfrm>
                <a:off x="2549160" y="5682240"/>
                <a:ext cx="1080" cy="27756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9" name=""/>
              <p:cNvSpPr/>
              <p:nvPr/>
            </p:nvSpPr>
            <p:spPr>
              <a:xfrm>
                <a:off x="2549160" y="5682240"/>
                <a:ext cx="1080" cy="277560"/>
              </a:xfrm>
              <a:prstGeom prst="rect">
                <a:avLst/>
              </a:prstGeom>
              <a:solidFill>
                <a:srgbClr val="e4e4e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0" name=""/>
              <p:cNvSpPr/>
              <p:nvPr/>
            </p:nvSpPr>
            <p:spPr>
              <a:xfrm>
                <a:off x="2550600" y="5682240"/>
                <a:ext cx="1440" cy="277560"/>
              </a:xfrm>
              <a:prstGeom prst="rect">
                <a:avLst/>
              </a:prstGeom>
              <a:solidFill>
                <a:srgbClr val="e2e2e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1" name=""/>
              <p:cNvSpPr/>
              <p:nvPr/>
            </p:nvSpPr>
            <p:spPr>
              <a:xfrm>
                <a:off x="2552040" y="5682240"/>
                <a:ext cx="1080" cy="27756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2" name=""/>
              <p:cNvSpPr/>
              <p:nvPr/>
            </p:nvSpPr>
            <p:spPr>
              <a:xfrm>
                <a:off x="2552040" y="5682240"/>
                <a:ext cx="1080" cy="27756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3" name=""/>
              <p:cNvSpPr/>
              <p:nvPr/>
            </p:nvSpPr>
            <p:spPr>
              <a:xfrm>
                <a:off x="2553120" y="5682240"/>
                <a:ext cx="1440" cy="27756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4" name=""/>
              <p:cNvSpPr/>
              <p:nvPr/>
            </p:nvSpPr>
            <p:spPr>
              <a:xfrm>
                <a:off x="2554920" y="5682240"/>
                <a:ext cx="1080" cy="277560"/>
              </a:xfrm>
              <a:prstGeom prst="rect">
                <a:avLst/>
              </a:prstGeom>
              <a:solidFill>
                <a:srgbClr val="dcdcd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5" name=""/>
              <p:cNvSpPr/>
              <p:nvPr/>
            </p:nvSpPr>
            <p:spPr>
              <a:xfrm>
                <a:off x="2554920" y="5682240"/>
                <a:ext cx="1080" cy="277560"/>
              </a:xfrm>
              <a:prstGeom prst="rect">
                <a:avLst/>
              </a:prstGeom>
              <a:solidFill>
                <a:srgbClr val="dadad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6" name=""/>
              <p:cNvSpPr/>
              <p:nvPr/>
            </p:nvSpPr>
            <p:spPr>
              <a:xfrm>
                <a:off x="2556000" y="5682240"/>
                <a:ext cx="1080" cy="27756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7" name=""/>
              <p:cNvSpPr/>
              <p:nvPr/>
            </p:nvSpPr>
            <p:spPr>
              <a:xfrm>
                <a:off x="2556000" y="5682240"/>
                <a:ext cx="1080" cy="27756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8" name=""/>
              <p:cNvSpPr/>
              <p:nvPr/>
            </p:nvSpPr>
            <p:spPr>
              <a:xfrm>
                <a:off x="2557440" y="5682240"/>
                <a:ext cx="144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9" name=""/>
              <p:cNvSpPr/>
              <p:nvPr/>
            </p:nvSpPr>
            <p:spPr>
              <a:xfrm>
                <a:off x="2558880" y="5682240"/>
                <a:ext cx="1080" cy="277560"/>
              </a:xfrm>
              <a:prstGeom prst="rect">
                <a:avLst/>
              </a:prstGeom>
              <a:solidFill>
                <a:srgbClr val="d4d4d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0" name=""/>
              <p:cNvSpPr/>
              <p:nvPr/>
            </p:nvSpPr>
            <p:spPr>
              <a:xfrm>
                <a:off x="2558880" y="568224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1" name=""/>
              <p:cNvSpPr/>
              <p:nvPr/>
            </p:nvSpPr>
            <p:spPr>
              <a:xfrm>
                <a:off x="2559960" y="5682240"/>
                <a:ext cx="1440" cy="27756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2" name=""/>
              <p:cNvSpPr/>
              <p:nvPr/>
            </p:nvSpPr>
            <p:spPr>
              <a:xfrm>
                <a:off x="2561760" y="5682240"/>
                <a:ext cx="1080" cy="277560"/>
              </a:xfrm>
              <a:prstGeom prst="rect">
                <a:avLst/>
              </a:prstGeom>
              <a:solidFill>
                <a:srgbClr val="d0d0d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3" name=""/>
              <p:cNvSpPr/>
              <p:nvPr/>
            </p:nvSpPr>
            <p:spPr>
              <a:xfrm>
                <a:off x="2561760" y="5682240"/>
                <a:ext cx="1080" cy="2775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4" name=""/>
              <p:cNvSpPr/>
              <p:nvPr/>
            </p:nvSpPr>
            <p:spPr>
              <a:xfrm>
                <a:off x="2562840" y="5682240"/>
                <a:ext cx="1080" cy="277560"/>
              </a:xfrm>
              <a:prstGeom prst="rect">
                <a:avLst/>
              </a:prstGeom>
              <a:solidFill>
                <a:srgbClr val="cc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5" name=""/>
              <p:cNvSpPr/>
              <p:nvPr/>
            </p:nvSpPr>
            <p:spPr>
              <a:xfrm>
                <a:off x="2562840" y="5682240"/>
                <a:ext cx="1080" cy="277560"/>
              </a:xfrm>
              <a:prstGeom prst="rect">
                <a:avLst/>
              </a:prstGeom>
              <a:solidFill>
                <a:srgbClr val="cbcbc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6" name=""/>
              <p:cNvSpPr/>
              <p:nvPr/>
            </p:nvSpPr>
            <p:spPr>
              <a:xfrm>
                <a:off x="2563920" y="5682240"/>
                <a:ext cx="1440" cy="277560"/>
              </a:xfrm>
              <a:prstGeom prst="rect">
                <a:avLst/>
              </a:prstGeom>
              <a:solidFill>
                <a:srgbClr val="c9c9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7" name=""/>
              <p:cNvSpPr/>
              <p:nvPr/>
            </p:nvSpPr>
            <p:spPr>
              <a:xfrm>
                <a:off x="2565720" y="5682240"/>
                <a:ext cx="1080" cy="277560"/>
              </a:xfrm>
              <a:prstGeom prst="rect">
                <a:avLst/>
              </a:prstGeom>
              <a:solidFill>
                <a:srgbClr val="c7c7c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8" name=""/>
              <p:cNvSpPr/>
              <p:nvPr/>
            </p:nvSpPr>
            <p:spPr>
              <a:xfrm>
                <a:off x="2565720" y="5682240"/>
                <a:ext cx="1080" cy="27756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9" name=""/>
              <p:cNvSpPr/>
              <p:nvPr/>
            </p:nvSpPr>
            <p:spPr>
              <a:xfrm>
                <a:off x="2566800" y="5682240"/>
                <a:ext cx="1440" cy="277560"/>
              </a:xfrm>
              <a:prstGeom prst="rect">
                <a:avLst/>
              </a:prstGeom>
              <a:solidFill>
                <a:srgbClr val="c4c4c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0" name=""/>
              <p:cNvSpPr/>
              <p:nvPr/>
            </p:nvSpPr>
            <p:spPr>
              <a:xfrm>
                <a:off x="2568240" y="5682240"/>
                <a:ext cx="1080" cy="277560"/>
              </a:xfrm>
              <a:prstGeom prst="rect">
                <a:avLst/>
              </a:prstGeom>
              <a:solidFill>
                <a:srgbClr val="c3c3c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1" name=""/>
              <p:cNvSpPr/>
              <p:nvPr/>
            </p:nvSpPr>
            <p:spPr>
              <a:xfrm>
                <a:off x="2568240" y="5682240"/>
                <a:ext cx="108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2" name=""/>
              <p:cNvSpPr/>
              <p:nvPr/>
            </p:nvSpPr>
            <p:spPr>
              <a:xfrm>
                <a:off x="2569680" y="5682240"/>
                <a:ext cx="1440" cy="2775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3" name=""/>
              <p:cNvSpPr/>
              <p:nvPr/>
            </p:nvSpPr>
            <p:spPr>
              <a:xfrm>
                <a:off x="2569680" y="5682240"/>
                <a:ext cx="144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4" name=""/>
              <p:cNvSpPr/>
              <p:nvPr/>
            </p:nvSpPr>
            <p:spPr>
              <a:xfrm>
                <a:off x="2571120" y="5682240"/>
                <a:ext cx="1080" cy="277560"/>
              </a:xfrm>
              <a:prstGeom prst="rect">
                <a:avLst/>
              </a:prstGeom>
              <a:solidFill>
                <a:srgbClr val="bdbdb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5" name=""/>
              <p:cNvSpPr/>
              <p:nvPr/>
            </p:nvSpPr>
            <p:spPr>
              <a:xfrm>
                <a:off x="2572560" y="5682240"/>
                <a:ext cx="1080" cy="27756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6" name=""/>
              <p:cNvSpPr/>
              <p:nvPr/>
            </p:nvSpPr>
            <p:spPr>
              <a:xfrm>
                <a:off x="2572560" y="5682240"/>
                <a:ext cx="1080" cy="277560"/>
              </a:xfrm>
              <a:prstGeom prst="rect">
                <a:avLst/>
              </a:prstGeom>
              <a:solidFill>
                <a:srgbClr val="babab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7" name=""/>
              <p:cNvSpPr/>
              <p:nvPr/>
            </p:nvSpPr>
            <p:spPr>
              <a:xfrm>
                <a:off x="2573640" y="5682240"/>
                <a:ext cx="1440" cy="27756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8" name=""/>
              <p:cNvSpPr/>
              <p:nvPr/>
            </p:nvSpPr>
            <p:spPr>
              <a:xfrm>
                <a:off x="2575080" y="5682240"/>
                <a:ext cx="1080" cy="277560"/>
              </a:xfrm>
              <a:prstGeom prst="rect">
                <a:avLst/>
              </a:prstGeom>
              <a:solidFill>
                <a:srgbClr val="b7b7b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9" name=""/>
              <p:cNvSpPr/>
              <p:nvPr/>
            </p:nvSpPr>
            <p:spPr>
              <a:xfrm>
                <a:off x="2575080" y="5682240"/>
                <a:ext cx="1080" cy="277560"/>
              </a:xfrm>
              <a:prstGeom prst="rect">
                <a:avLst/>
              </a:prstGeom>
              <a:solidFill>
                <a:srgbClr val="b5b5b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0" name=""/>
              <p:cNvSpPr/>
              <p:nvPr/>
            </p:nvSpPr>
            <p:spPr>
              <a:xfrm>
                <a:off x="2576520" y="5682240"/>
                <a:ext cx="1440" cy="27756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1" name=""/>
              <p:cNvSpPr/>
              <p:nvPr/>
            </p:nvSpPr>
            <p:spPr>
              <a:xfrm>
                <a:off x="2493360" y="5682240"/>
                <a:ext cx="81720" cy="276480"/>
              </a:xfrm>
              <a:custGeom>
                <a:avLst/>
                <a:gdLst/>
                <a:ahLst/>
                <a:rect l="l" t="t" r="r" b="b"/>
                <a:pathLst>
                  <a:path w="120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0" y="496"/>
                    </a:lnTo>
                    <a:lnTo>
                      <a:pt x="113" y="495"/>
                    </a:lnTo>
                    <a:lnTo>
                      <a:pt x="115" y="492"/>
                    </a:lnTo>
                    <a:lnTo>
                      <a:pt x="118" y="491"/>
                    </a:lnTo>
                    <a:lnTo>
                      <a:pt x="119" y="487"/>
                    </a:lnTo>
                    <a:lnTo>
                      <a:pt x="120" y="484"/>
                    </a:lnTo>
                    <a:lnTo>
                      <a:pt x="120" y="482"/>
                    </a:lnTo>
                    <a:lnTo>
                      <a:pt x="120" y="482"/>
                    </a:lnTo>
                    <a:lnTo>
                      <a:pt x="120" y="16"/>
                    </a:lnTo>
                    <a:lnTo>
                      <a:pt x="120" y="12"/>
                    </a:lnTo>
                    <a:lnTo>
                      <a:pt x="119" y="10"/>
                    </a:lnTo>
                    <a:lnTo>
                      <a:pt x="118" y="7"/>
                    </a:lnTo>
                    <a:lnTo>
                      <a:pt x="115" y="5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82"/>
                    </a:lnTo>
                    <a:lnTo>
                      <a:pt x="0" y="484"/>
                    </a:lnTo>
                    <a:lnTo>
                      <a:pt x="1" y="487"/>
                    </a:lnTo>
                    <a:lnTo>
                      <a:pt x="3" y="491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4" y="497"/>
                    </a:lnTo>
                    <a:lnTo>
                      <a:pt x="18" y="497"/>
                    </a:lnTo>
                    <a:lnTo>
                      <a:pt x="103" y="497"/>
                    </a:lnTo>
                    <a:lnTo>
                      <a:pt x="103" y="497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2" name=""/>
              <p:cNvSpPr/>
              <p:nvPr/>
            </p:nvSpPr>
            <p:spPr>
              <a:xfrm>
                <a:off x="6597360" y="5683320"/>
                <a:ext cx="81720" cy="276480"/>
              </a:xfrm>
              <a:custGeom>
                <a:avLst/>
                <a:gdLst/>
                <a:ahLst/>
                <a:rect l="l" t="t" r="r" b="b"/>
                <a:pathLst>
                  <a:path w="121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1" y="496"/>
                    </a:lnTo>
                    <a:lnTo>
                      <a:pt x="113" y="495"/>
                    </a:lnTo>
                    <a:lnTo>
                      <a:pt x="116" y="492"/>
                    </a:lnTo>
                    <a:lnTo>
                      <a:pt x="118" y="490"/>
                    </a:lnTo>
                    <a:lnTo>
                      <a:pt x="119" y="487"/>
                    </a:lnTo>
                    <a:lnTo>
                      <a:pt x="121" y="485"/>
                    </a:lnTo>
                    <a:lnTo>
                      <a:pt x="121" y="481"/>
                    </a:lnTo>
                    <a:lnTo>
                      <a:pt x="121" y="15"/>
                    </a:lnTo>
                    <a:lnTo>
                      <a:pt x="121" y="11"/>
                    </a:lnTo>
                    <a:lnTo>
                      <a:pt x="119" y="9"/>
                    </a:lnTo>
                    <a:lnTo>
                      <a:pt x="118" y="6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11" y="1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2" y="487"/>
                    </a:lnTo>
                    <a:lnTo>
                      <a:pt x="3" y="490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3" y="497"/>
                    </a:lnTo>
                    <a:lnTo>
                      <a:pt x="17" y="497"/>
                    </a:lnTo>
                    <a:lnTo>
                      <a:pt x="103" y="497"/>
                    </a:lnTo>
                    <a:lnTo>
                      <a:pt x="10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3" name=""/>
              <p:cNvSpPr/>
              <p:nvPr/>
            </p:nvSpPr>
            <p:spPr>
              <a:xfrm>
                <a:off x="6595920" y="5682240"/>
                <a:ext cx="83880" cy="2775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4" name=""/>
              <p:cNvSpPr/>
              <p:nvPr/>
            </p:nvSpPr>
            <p:spPr>
              <a:xfrm>
                <a:off x="6595920" y="5682240"/>
                <a:ext cx="1080" cy="27756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5" name=""/>
              <p:cNvSpPr/>
              <p:nvPr/>
            </p:nvSpPr>
            <p:spPr>
              <a:xfrm>
                <a:off x="6597360" y="5682240"/>
                <a:ext cx="1440" cy="277560"/>
              </a:xfrm>
              <a:prstGeom prst="rect">
                <a:avLst/>
              </a:prstGeom>
              <a:solidFill>
                <a:srgbClr val="b4b4b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6" name=""/>
              <p:cNvSpPr/>
              <p:nvPr/>
            </p:nvSpPr>
            <p:spPr>
              <a:xfrm>
                <a:off x="6597360" y="5682240"/>
                <a:ext cx="1440" cy="277560"/>
              </a:xfrm>
              <a:prstGeom prst="rect">
                <a:avLst/>
              </a:prstGeom>
              <a:solidFill>
                <a:srgbClr val="b6b6b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7" name=""/>
              <p:cNvSpPr/>
              <p:nvPr/>
            </p:nvSpPr>
            <p:spPr>
              <a:xfrm>
                <a:off x="6598800" y="5682240"/>
                <a:ext cx="1080" cy="27756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8" name=""/>
              <p:cNvSpPr/>
              <p:nvPr/>
            </p:nvSpPr>
            <p:spPr>
              <a:xfrm>
                <a:off x="6598800" y="5682240"/>
                <a:ext cx="1080" cy="277560"/>
              </a:xfrm>
              <a:prstGeom prst="rect">
                <a:avLst/>
              </a:prstGeom>
              <a:solidFill>
                <a:srgbClr val="b9b9b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9" name=""/>
              <p:cNvSpPr/>
              <p:nvPr/>
            </p:nvSpPr>
            <p:spPr>
              <a:xfrm>
                <a:off x="6600240" y="5682240"/>
                <a:ext cx="1440" cy="27756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0" name=""/>
              <p:cNvSpPr/>
              <p:nvPr/>
            </p:nvSpPr>
            <p:spPr>
              <a:xfrm>
                <a:off x="6601680" y="5682240"/>
                <a:ext cx="1080" cy="277560"/>
              </a:xfrm>
              <a:prstGeom prst="rect">
                <a:avLst/>
              </a:prstGeom>
              <a:solidFill>
                <a:srgbClr val="bcbcb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1" name=""/>
              <p:cNvSpPr/>
              <p:nvPr/>
            </p:nvSpPr>
            <p:spPr>
              <a:xfrm>
                <a:off x="6601680" y="5682240"/>
                <a:ext cx="108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2" name=""/>
              <p:cNvSpPr/>
              <p:nvPr/>
            </p:nvSpPr>
            <p:spPr>
              <a:xfrm>
                <a:off x="6602760" y="5682240"/>
                <a:ext cx="1080" cy="277560"/>
              </a:xfrm>
              <a:prstGeom prst="rect">
                <a:avLst/>
              </a:prstGeom>
              <a:solidFill>
                <a:srgbClr val="bfbfb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3" name=""/>
              <p:cNvSpPr/>
              <p:nvPr/>
            </p:nvSpPr>
            <p:spPr>
              <a:xfrm>
                <a:off x="6604200" y="5682240"/>
                <a:ext cx="144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4" name=""/>
              <p:cNvSpPr/>
              <p:nvPr/>
            </p:nvSpPr>
            <p:spPr>
              <a:xfrm>
                <a:off x="6604200" y="5682240"/>
                <a:ext cx="1440" cy="277560"/>
              </a:xfrm>
              <a:prstGeom prst="rect">
                <a:avLst/>
              </a:prstGeom>
              <a:solidFill>
                <a:srgbClr val="c2c2c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5" name=""/>
              <p:cNvSpPr/>
              <p:nvPr/>
            </p:nvSpPr>
            <p:spPr>
              <a:xfrm>
                <a:off x="6605640" y="5682240"/>
                <a:ext cx="1080" cy="277560"/>
              </a:xfrm>
              <a:prstGeom prst="rect">
                <a:avLst/>
              </a:prstGeom>
              <a:solidFill>
                <a:srgbClr val="c4c4c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6" name=""/>
              <p:cNvSpPr/>
              <p:nvPr/>
            </p:nvSpPr>
            <p:spPr>
              <a:xfrm>
                <a:off x="6605640" y="5682240"/>
                <a:ext cx="1080" cy="277560"/>
              </a:xfrm>
              <a:prstGeom prst="rect">
                <a:avLst/>
              </a:prstGeom>
              <a:solidFill>
                <a:srgbClr val="c5c5c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7" name=""/>
              <p:cNvSpPr/>
              <p:nvPr/>
            </p:nvSpPr>
            <p:spPr>
              <a:xfrm>
                <a:off x="6606720" y="5682240"/>
                <a:ext cx="1440" cy="277560"/>
              </a:xfrm>
              <a:prstGeom prst="rect">
                <a:avLst/>
              </a:prstGeom>
              <a:solidFill>
                <a:srgbClr val="c7c7c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8" name=""/>
              <p:cNvSpPr/>
              <p:nvPr/>
            </p:nvSpPr>
            <p:spPr>
              <a:xfrm>
                <a:off x="6608520" y="5682240"/>
                <a:ext cx="1080" cy="277560"/>
              </a:xfrm>
              <a:prstGeom prst="rect">
                <a:avLst/>
              </a:prstGeom>
              <a:solidFill>
                <a:srgbClr val="c9c9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9" name=""/>
              <p:cNvSpPr/>
              <p:nvPr/>
            </p:nvSpPr>
            <p:spPr>
              <a:xfrm>
                <a:off x="6608520" y="5682240"/>
                <a:ext cx="1080" cy="277560"/>
              </a:xfrm>
              <a:prstGeom prst="rect">
                <a:avLst/>
              </a:prstGeom>
              <a:solidFill>
                <a:srgbClr val="cacac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0" name=""/>
              <p:cNvSpPr/>
              <p:nvPr/>
            </p:nvSpPr>
            <p:spPr>
              <a:xfrm>
                <a:off x="6609600" y="5682240"/>
                <a:ext cx="1080" cy="277560"/>
              </a:xfrm>
              <a:prstGeom prst="rect">
                <a:avLst/>
              </a:prstGeom>
              <a:solidFill>
                <a:srgbClr val="cc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1" name=""/>
              <p:cNvSpPr/>
              <p:nvPr/>
            </p:nvSpPr>
            <p:spPr>
              <a:xfrm>
                <a:off x="6611040" y="5682240"/>
                <a:ext cx="1440" cy="2775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2" name=""/>
              <p:cNvSpPr/>
              <p:nvPr/>
            </p:nvSpPr>
            <p:spPr>
              <a:xfrm>
                <a:off x="6611040" y="5682240"/>
                <a:ext cx="1440" cy="27756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3" name=""/>
              <p:cNvSpPr/>
              <p:nvPr/>
            </p:nvSpPr>
            <p:spPr>
              <a:xfrm>
                <a:off x="6612480" y="5682240"/>
                <a:ext cx="1080" cy="27756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4" name=""/>
              <p:cNvSpPr/>
              <p:nvPr/>
            </p:nvSpPr>
            <p:spPr>
              <a:xfrm>
                <a:off x="6612480" y="568224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5" name=""/>
              <p:cNvSpPr/>
              <p:nvPr/>
            </p:nvSpPr>
            <p:spPr>
              <a:xfrm>
                <a:off x="6613560" y="5682240"/>
                <a:ext cx="1440" cy="27756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6" name=""/>
              <p:cNvSpPr/>
              <p:nvPr/>
            </p:nvSpPr>
            <p:spPr>
              <a:xfrm>
                <a:off x="6615360" y="5682240"/>
                <a:ext cx="108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7" name=""/>
              <p:cNvSpPr/>
              <p:nvPr/>
            </p:nvSpPr>
            <p:spPr>
              <a:xfrm>
                <a:off x="6615360" y="5682240"/>
                <a:ext cx="1080" cy="277560"/>
              </a:xfrm>
              <a:prstGeom prst="rect">
                <a:avLst/>
              </a:prstGeom>
              <a:solidFill>
                <a:srgbClr val="d6d6d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8" name=""/>
              <p:cNvSpPr/>
              <p:nvPr/>
            </p:nvSpPr>
            <p:spPr>
              <a:xfrm>
                <a:off x="6616440" y="5682240"/>
                <a:ext cx="1080" cy="27756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9" name=""/>
              <p:cNvSpPr/>
              <p:nvPr/>
            </p:nvSpPr>
            <p:spPr>
              <a:xfrm>
                <a:off x="6617520" y="5682240"/>
                <a:ext cx="1440" cy="27756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0" name=""/>
              <p:cNvSpPr/>
              <p:nvPr/>
            </p:nvSpPr>
            <p:spPr>
              <a:xfrm>
                <a:off x="6617520" y="5682240"/>
                <a:ext cx="1440" cy="27756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1" name=""/>
              <p:cNvSpPr/>
              <p:nvPr/>
            </p:nvSpPr>
            <p:spPr>
              <a:xfrm>
                <a:off x="6619320" y="5682240"/>
                <a:ext cx="1080" cy="27756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2" name=""/>
              <p:cNvSpPr/>
              <p:nvPr/>
            </p:nvSpPr>
            <p:spPr>
              <a:xfrm>
                <a:off x="6619320" y="5682240"/>
                <a:ext cx="1080" cy="277560"/>
              </a:xfrm>
              <a:prstGeom prst="rect">
                <a:avLst/>
              </a:prstGeom>
              <a:solidFill>
                <a:srgbClr val="deded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3" name=""/>
              <p:cNvSpPr/>
              <p:nvPr/>
            </p:nvSpPr>
            <p:spPr>
              <a:xfrm>
                <a:off x="6620400" y="5682240"/>
                <a:ext cx="1440" cy="27756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4" name=""/>
              <p:cNvSpPr/>
              <p:nvPr/>
            </p:nvSpPr>
            <p:spPr>
              <a:xfrm>
                <a:off x="6621840" y="5682240"/>
                <a:ext cx="1080" cy="277560"/>
              </a:xfrm>
              <a:prstGeom prst="rect">
                <a:avLst/>
              </a:prstGeom>
              <a:solidFill>
                <a:srgbClr val="e2e2e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5" name=""/>
              <p:cNvSpPr/>
              <p:nvPr/>
            </p:nvSpPr>
            <p:spPr>
              <a:xfrm>
                <a:off x="6621840" y="5682240"/>
                <a:ext cx="1080" cy="27756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6" name=""/>
              <p:cNvSpPr/>
              <p:nvPr/>
            </p:nvSpPr>
            <p:spPr>
              <a:xfrm>
                <a:off x="6623280" y="5682240"/>
                <a:ext cx="1440" cy="27756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7" name=""/>
              <p:cNvSpPr/>
              <p:nvPr/>
            </p:nvSpPr>
            <p:spPr>
              <a:xfrm>
                <a:off x="6624720" y="5682240"/>
                <a:ext cx="1080" cy="2775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8" name=""/>
              <p:cNvSpPr/>
              <p:nvPr/>
            </p:nvSpPr>
            <p:spPr>
              <a:xfrm>
                <a:off x="6624720" y="5682240"/>
                <a:ext cx="1080" cy="277560"/>
              </a:xfrm>
              <a:prstGeom prst="rect">
                <a:avLst/>
              </a:prstGeom>
              <a:solidFill>
                <a:srgbClr val="e8e8e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9" name=""/>
              <p:cNvSpPr/>
              <p:nvPr/>
            </p:nvSpPr>
            <p:spPr>
              <a:xfrm>
                <a:off x="6626160" y="5682240"/>
                <a:ext cx="108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0" name=""/>
              <p:cNvSpPr/>
              <p:nvPr/>
            </p:nvSpPr>
            <p:spPr>
              <a:xfrm>
                <a:off x="6626160" y="5682240"/>
                <a:ext cx="1080" cy="27756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1" name=""/>
              <p:cNvSpPr/>
              <p:nvPr/>
            </p:nvSpPr>
            <p:spPr>
              <a:xfrm>
                <a:off x="6627240" y="5682240"/>
                <a:ext cx="144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2" name=""/>
              <p:cNvSpPr/>
              <p:nvPr/>
            </p:nvSpPr>
            <p:spPr>
              <a:xfrm>
                <a:off x="6628680" y="5682240"/>
                <a:ext cx="1080" cy="27756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3" name=""/>
              <p:cNvSpPr/>
              <p:nvPr/>
            </p:nvSpPr>
            <p:spPr>
              <a:xfrm>
                <a:off x="6628680" y="5682240"/>
                <a:ext cx="1080" cy="277560"/>
              </a:xfrm>
              <a:prstGeom prst="rect">
                <a:avLst/>
              </a:prstGeom>
              <a:solidFill>
                <a:srgbClr val="efefe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4" name=""/>
              <p:cNvSpPr/>
              <p:nvPr/>
            </p:nvSpPr>
            <p:spPr>
              <a:xfrm>
                <a:off x="6630120" y="5682240"/>
                <a:ext cx="1440" cy="277560"/>
              </a:xfrm>
              <a:prstGeom prst="rect">
                <a:avLst/>
              </a:prstGeom>
              <a:solidFill>
                <a:srgbClr val="f1f1f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5" name=""/>
              <p:cNvSpPr/>
              <p:nvPr/>
            </p:nvSpPr>
            <p:spPr>
              <a:xfrm>
                <a:off x="6631560" y="5682240"/>
                <a:ext cx="1080" cy="277560"/>
              </a:xfrm>
              <a:prstGeom prst="rect">
                <a:avLst/>
              </a:prstGeom>
              <a:solidFill>
                <a:srgbClr val="f2f2f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6" name=""/>
              <p:cNvSpPr/>
              <p:nvPr/>
            </p:nvSpPr>
            <p:spPr>
              <a:xfrm>
                <a:off x="6631560" y="5682240"/>
                <a:ext cx="1080" cy="277560"/>
              </a:xfrm>
              <a:prstGeom prst="rect">
                <a:avLst/>
              </a:prstGeom>
              <a:solidFill>
                <a:srgbClr val="f4f4f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7" name=""/>
              <p:cNvSpPr/>
              <p:nvPr/>
            </p:nvSpPr>
            <p:spPr>
              <a:xfrm>
                <a:off x="6632640" y="5682240"/>
                <a:ext cx="1080" cy="277560"/>
              </a:xfrm>
              <a:prstGeom prst="rect">
                <a:avLst/>
              </a:prstGeom>
              <a:solidFill>
                <a:srgbClr val="f6f6f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8" name=""/>
              <p:cNvSpPr/>
              <p:nvPr/>
            </p:nvSpPr>
            <p:spPr>
              <a:xfrm>
                <a:off x="6632640" y="5682240"/>
                <a:ext cx="1080" cy="277560"/>
              </a:xfrm>
              <a:prstGeom prst="rect">
                <a:avLst/>
              </a:prstGeom>
              <a:solidFill>
                <a:srgbClr val="f7f7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9" name=""/>
              <p:cNvSpPr/>
              <p:nvPr/>
            </p:nvSpPr>
            <p:spPr>
              <a:xfrm>
                <a:off x="6634080" y="5682240"/>
                <a:ext cx="1440" cy="277560"/>
              </a:xfrm>
              <a:prstGeom prst="rect">
                <a:avLst/>
              </a:prstGeom>
              <a:solidFill>
                <a:srgbClr val="f9f9f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0" name=""/>
              <p:cNvSpPr/>
              <p:nvPr/>
            </p:nvSpPr>
            <p:spPr>
              <a:xfrm>
                <a:off x="6635520" y="5682240"/>
                <a:ext cx="1080" cy="277560"/>
              </a:xfrm>
              <a:prstGeom prst="rect">
                <a:avLst/>
              </a:prstGeom>
              <a:solidFill>
                <a:srgbClr val="fafaf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1" name=""/>
              <p:cNvSpPr/>
              <p:nvPr/>
            </p:nvSpPr>
            <p:spPr>
              <a:xfrm>
                <a:off x="6635520" y="5682240"/>
                <a:ext cx="1080" cy="277560"/>
              </a:xfrm>
              <a:prstGeom prst="rect">
                <a:avLst/>
              </a:prstGeom>
              <a:solidFill>
                <a:srgbClr val="fcfcf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2" name=""/>
              <p:cNvSpPr/>
              <p:nvPr/>
            </p:nvSpPr>
            <p:spPr>
              <a:xfrm>
                <a:off x="6636960" y="5682240"/>
                <a:ext cx="1440" cy="277560"/>
              </a:xfrm>
              <a:prstGeom prst="rect">
                <a:avLst/>
              </a:prstGeom>
              <a:solidFill>
                <a:srgbClr val="fdfdf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3" name=""/>
              <p:cNvSpPr/>
              <p:nvPr/>
            </p:nvSpPr>
            <p:spPr>
              <a:xfrm>
                <a:off x="6638400" y="5682240"/>
                <a:ext cx="1080" cy="277560"/>
              </a:xfrm>
              <a:prstGeom prst="rect">
                <a:avLst/>
              </a:prstGeom>
              <a:solidFill>
                <a:srgbClr val="fefef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4" name=""/>
              <p:cNvSpPr/>
              <p:nvPr/>
            </p:nvSpPr>
            <p:spPr>
              <a:xfrm>
                <a:off x="6639480" y="5682240"/>
                <a:ext cx="1080" cy="277560"/>
              </a:xfrm>
              <a:prstGeom prst="rect">
                <a:avLst/>
              </a:prstGeom>
              <a:solidFill>
                <a:srgbClr val="fdfdf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5" name=""/>
              <p:cNvSpPr/>
              <p:nvPr/>
            </p:nvSpPr>
            <p:spPr>
              <a:xfrm>
                <a:off x="6640920" y="5682240"/>
                <a:ext cx="1440" cy="277560"/>
              </a:xfrm>
              <a:prstGeom prst="rect">
                <a:avLst/>
              </a:prstGeom>
              <a:solidFill>
                <a:srgbClr val="fbfbf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6" name=""/>
              <p:cNvSpPr/>
              <p:nvPr/>
            </p:nvSpPr>
            <p:spPr>
              <a:xfrm>
                <a:off x="6640920" y="5682240"/>
                <a:ext cx="1440" cy="277560"/>
              </a:xfrm>
              <a:prstGeom prst="rect">
                <a:avLst/>
              </a:prstGeom>
              <a:solidFill>
                <a:srgbClr val="fafaf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7" name=""/>
              <p:cNvSpPr/>
              <p:nvPr/>
            </p:nvSpPr>
            <p:spPr>
              <a:xfrm>
                <a:off x="6642360" y="5682240"/>
                <a:ext cx="1080" cy="2775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8" name=""/>
              <p:cNvSpPr/>
              <p:nvPr/>
            </p:nvSpPr>
            <p:spPr>
              <a:xfrm>
                <a:off x="6642360" y="5682240"/>
                <a:ext cx="1080" cy="277560"/>
              </a:xfrm>
              <a:prstGeom prst="rect">
                <a:avLst/>
              </a:prstGeom>
              <a:solidFill>
                <a:srgbClr val="f7f7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9" name=""/>
              <p:cNvSpPr/>
              <p:nvPr/>
            </p:nvSpPr>
            <p:spPr>
              <a:xfrm>
                <a:off x="6643440" y="5682240"/>
                <a:ext cx="1440" cy="277560"/>
              </a:xfrm>
              <a:prstGeom prst="rect">
                <a:avLst/>
              </a:prstGeom>
              <a:solidFill>
                <a:srgbClr val="f5f5f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0" name=""/>
              <p:cNvSpPr/>
              <p:nvPr/>
            </p:nvSpPr>
            <p:spPr>
              <a:xfrm>
                <a:off x="6645240" y="5682240"/>
                <a:ext cx="1080" cy="277560"/>
              </a:xfrm>
              <a:prstGeom prst="rect">
                <a:avLst/>
              </a:prstGeom>
              <a:solidFill>
                <a:srgbClr val="f4f4f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1" name=""/>
              <p:cNvSpPr/>
              <p:nvPr/>
            </p:nvSpPr>
            <p:spPr>
              <a:xfrm>
                <a:off x="6645240" y="5682240"/>
                <a:ext cx="1080" cy="277560"/>
              </a:xfrm>
              <a:prstGeom prst="rect">
                <a:avLst/>
              </a:prstGeom>
              <a:solidFill>
                <a:srgbClr val="f2f2f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2" name=""/>
              <p:cNvSpPr/>
              <p:nvPr/>
            </p:nvSpPr>
            <p:spPr>
              <a:xfrm>
                <a:off x="6646320" y="5682240"/>
                <a:ext cx="1080" cy="277560"/>
              </a:xfrm>
              <a:prstGeom prst="rect">
                <a:avLst/>
              </a:prstGeom>
              <a:solidFill>
                <a:srgbClr val="f0f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3" name=""/>
              <p:cNvSpPr/>
              <p:nvPr/>
            </p:nvSpPr>
            <p:spPr>
              <a:xfrm>
                <a:off x="6647760" y="5682240"/>
                <a:ext cx="1440" cy="277560"/>
              </a:xfrm>
              <a:prstGeom prst="rect">
                <a:avLst/>
              </a:prstGeom>
              <a:solidFill>
                <a:srgbClr val="efefe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4" name=""/>
              <p:cNvSpPr/>
              <p:nvPr/>
            </p:nvSpPr>
            <p:spPr>
              <a:xfrm>
                <a:off x="6647760" y="5682240"/>
                <a:ext cx="1440" cy="277560"/>
              </a:xfrm>
              <a:prstGeom prst="rect">
                <a:avLst/>
              </a:prstGeom>
              <a:solidFill>
                <a:srgbClr val="edede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5" name=""/>
              <p:cNvSpPr/>
              <p:nvPr/>
            </p:nvSpPr>
            <p:spPr>
              <a:xfrm>
                <a:off x="6649200" y="5682240"/>
                <a:ext cx="108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6" name=""/>
              <p:cNvSpPr/>
              <p:nvPr/>
            </p:nvSpPr>
            <p:spPr>
              <a:xfrm>
                <a:off x="6649200" y="5682240"/>
                <a:ext cx="1080" cy="27756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7" name=""/>
              <p:cNvSpPr/>
              <p:nvPr/>
            </p:nvSpPr>
            <p:spPr>
              <a:xfrm>
                <a:off x="6650280" y="5682240"/>
                <a:ext cx="144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8" name=""/>
              <p:cNvSpPr/>
              <p:nvPr/>
            </p:nvSpPr>
            <p:spPr>
              <a:xfrm>
                <a:off x="6652080" y="5682240"/>
                <a:ext cx="1080" cy="277560"/>
              </a:xfrm>
              <a:prstGeom prst="rect">
                <a:avLst/>
              </a:prstGeom>
              <a:solidFill>
                <a:srgbClr val="e7e7e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9" name=""/>
              <p:cNvSpPr/>
              <p:nvPr/>
            </p:nvSpPr>
            <p:spPr>
              <a:xfrm>
                <a:off x="6652080" y="5682240"/>
                <a:ext cx="1080" cy="2775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0" name=""/>
              <p:cNvSpPr/>
              <p:nvPr/>
            </p:nvSpPr>
            <p:spPr>
              <a:xfrm>
                <a:off x="6653160" y="5682240"/>
                <a:ext cx="1440" cy="277560"/>
              </a:xfrm>
              <a:prstGeom prst="rect">
                <a:avLst/>
              </a:prstGeom>
              <a:solidFill>
                <a:srgbClr val="e4e4e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1" name=""/>
              <p:cNvSpPr/>
              <p:nvPr/>
            </p:nvSpPr>
            <p:spPr>
              <a:xfrm>
                <a:off x="6654600" y="5682240"/>
                <a:ext cx="1080" cy="27756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2" name=""/>
              <p:cNvSpPr/>
              <p:nvPr/>
            </p:nvSpPr>
            <p:spPr>
              <a:xfrm>
                <a:off x="6654600" y="5682240"/>
                <a:ext cx="1080" cy="27756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3" name=""/>
              <p:cNvSpPr/>
              <p:nvPr/>
            </p:nvSpPr>
            <p:spPr>
              <a:xfrm>
                <a:off x="6656040" y="5682240"/>
                <a:ext cx="1080" cy="27756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4" name=""/>
              <p:cNvSpPr/>
              <p:nvPr/>
            </p:nvSpPr>
            <p:spPr>
              <a:xfrm>
                <a:off x="6656040" y="5682240"/>
                <a:ext cx="1080" cy="277560"/>
              </a:xfrm>
              <a:prstGeom prst="rect">
                <a:avLst/>
              </a:prstGeom>
              <a:solidFill>
                <a:srgbClr val="deded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5" name=""/>
              <p:cNvSpPr/>
              <p:nvPr/>
            </p:nvSpPr>
            <p:spPr>
              <a:xfrm>
                <a:off x="6657120" y="5682240"/>
                <a:ext cx="1440" cy="277560"/>
              </a:xfrm>
              <a:prstGeom prst="rect">
                <a:avLst/>
              </a:prstGeom>
              <a:solidFill>
                <a:srgbClr val="dcdcd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6" name=""/>
              <p:cNvSpPr/>
              <p:nvPr/>
            </p:nvSpPr>
            <p:spPr>
              <a:xfrm>
                <a:off x="6658560" y="5682240"/>
                <a:ext cx="1080" cy="27756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7" name=""/>
              <p:cNvSpPr/>
              <p:nvPr/>
            </p:nvSpPr>
            <p:spPr>
              <a:xfrm>
                <a:off x="6658560" y="5682240"/>
                <a:ext cx="1080" cy="27756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8" name=""/>
              <p:cNvSpPr/>
              <p:nvPr/>
            </p:nvSpPr>
            <p:spPr>
              <a:xfrm>
                <a:off x="6660000" y="5682240"/>
                <a:ext cx="1440" cy="27756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9" name=""/>
              <p:cNvSpPr/>
              <p:nvPr/>
            </p:nvSpPr>
            <p:spPr>
              <a:xfrm>
                <a:off x="6661440" y="5682240"/>
                <a:ext cx="1080" cy="277560"/>
              </a:xfrm>
              <a:prstGeom prst="rect">
                <a:avLst/>
              </a:prstGeom>
              <a:solidFill>
                <a:srgbClr val="d6d6d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0" name=""/>
              <p:cNvSpPr/>
              <p:nvPr/>
            </p:nvSpPr>
            <p:spPr>
              <a:xfrm>
                <a:off x="6661440" y="5682240"/>
                <a:ext cx="108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1" name=""/>
              <p:cNvSpPr/>
              <p:nvPr/>
            </p:nvSpPr>
            <p:spPr>
              <a:xfrm>
                <a:off x="6662880" y="5682240"/>
                <a:ext cx="1080" cy="27756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2" name=""/>
              <p:cNvSpPr/>
              <p:nvPr/>
            </p:nvSpPr>
            <p:spPr>
              <a:xfrm>
                <a:off x="6662880" y="568224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3" name=""/>
              <p:cNvSpPr/>
              <p:nvPr/>
            </p:nvSpPr>
            <p:spPr>
              <a:xfrm>
                <a:off x="6663960" y="5682240"/>
                <a:ext cx="1440" cy="277560"/>
              </a:xfrm>
              <a:prstGeom prst="rect">
                <a:avLst/>
              </a:prstGeom>
              <a:solidFill>
                <a:srgbClr val="d0d0d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4" name=""/>
              <p:cNvSpPr/>
              <p:nvPr/>
            </p:nvSpPr>
            <p:spPr>
              <a:xfrm>
                <a:off x="6665400" y="5682240"/>
                <a:ext cx="1080" cy="27756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5" name=""/>
              <p:cNvSpPr/>
              <p:nvPr/>
            </p:nvSpPr>
            <p:spPr>
              <a:xfrm>
                <a:off x="6665400" y="5682240"/>
                <a:ext cx="1080" cy="2775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6" name=""/>
              <p:cNvSpPr/>
              <p:nvPr/>
            </p:nvSpPr>
            <p:spPr>
              <a:xfrm>
                <a:off x="6666840" y="5682240"/>
                <a:ext cx="1440" cy="277560"/>
              </a:xfrm>
              <a:prstGeom prst="rect">
                <a:avLst/>
              </a:prstGeom>
              <a:solidFill>
                <a:srgbClr val="cbcbc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7" name=""/>
              <p:cNvSpPr/>
              <p:nvPr/>
            </p:nvSpPr>
            <p:spPr>
              <a:xfrm>
                <a:off x="6668280" y="5682240"/>
                <a:ext cx="1080" cy="277560"/>
              </a:xfrm>
              <a:prstGeom prst="rect">
                <a:avLst/>
              </a:prstGeom>
              <a:solidFill>
                <a:srgbClr val="cacac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8" name=""/>
              <p:cNvSpPr/>
              <p:nvPr/>
            </p:nvSpPr>
            <p:spPr>
              <a:xfrm>
                <a:off x="6668280" y="5682240"/>
                <a:ext cx="1080" cy="277560"/>
              </a:xfrm>
              <a:prstGeom prst="rect">
                <a:avLst/>
              </a:prstGeom>
              <a:solidFill>
                <a:srgbClr val="c8c8c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9" name=""/>
              <p:cNvSpPr/>
              <p:nvPr/>
            </p:nvSpPr>
            <p:spPr>
              <a:xfrm>
                <a:off x="6669360" y="5682240"/>
                <a:ext cx="1080" cy="27756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0" name=""/>
              <p:cNvSpPr/>
              <p:nvPr/>
            </p:nvSpPr>
            <p:spPr>
              <a:xfrm>
                <a:off x="6669360" y="5682240"/>
                <a:ext cx="1080" cy="277560"/>
              </a:xfrm>
              <a:prstGeom prst="rect">
                <a:avLst/>
              </a:prstGeom>
              <a:solidFill>
                <a:srgbClr val="c5c5c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1" name=""/>
              <p:cNvSpPr/>
              <p:nvPr/>
            </p:nvSpPr>
            <p:spPr>
              <a:xfrm>
                <a:off x="6670800" y="5682240"/>
                <a:ext cx="1440" cy="277560"/>
              </a:xfrm>
              <a:prstGeom prst="rect">
                <a:avLst/>
              </a:prstGeom>
              <a:solidFill>
                <a:srgbClr val="c3c3c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2" name=""/>
              <p:cNvSpPr/>
              <p:nvPr/>
            </p:nvSpPr>
            <p:spPr>
              <a:xfrm>
                <a:off x="6672240" y="5682240"/>
                <a:ext cx="1080" cy="277560"/>
              </a:xfrm>
              <a:prstGeom prst="rect">
                <a:avLst/>
              </a:prstGeom>
              <a:solidFill>
                <a:srgbClr val="c2c2c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3" name=""/>
              <p:cNvSpPr/>
              <p:nvPr/>
            </p:nvSpPr>
            <p:spPr>
              <a:xfrm>
                <a:off x="6672240" y="5682240"/>
                <a:ext cx="108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4" name=""/>
              <p:cNvSpPr/>
              <p:nvPr/>
            </p:nvSpPr>
            <p:spPr>
              <a:xfrm>
                <a:off x="6673680" y="5682240"/>
                <a:ext cx="1440" cy="277560"/>
              </a:xfrm>
              <a:prstGeom prst="rect">
                <a:avLst/>
              </a:prstGeom>
              <a:solidFill>
                <a:srgbClr val="bfbfb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5" name=""/>
              <p:cNvSpPr/>
              <p:nvPr/>
            </p:nvSpPr>
            <p:spPr>
              <a:xfrm>
                <a:off x="6675120" y="5682240"/>
                <a:ext cx="108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6" name=""/>
              <p:cNvSpPr/>
              <p:nvPr/>
            </p:nvSpPr>
            <p:spPr>
              <a:xfrm>
                <a:off x="6675120" y="5682240"/>
                <a:ext cx="1080" cy="277560"/>
              </a:xfrm>
              <a:prstGeom prst="rect">
                <a:avLst/>
              </a:prstGeom>
              <a:solidFill>
                <a:srgbClr val="bcbcb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7" name=""/>
              <p:cNvSpPr/>
              <p:nvPr/>
            </p:nvSpPr>
            <p:spPr>
              <a:xfrm>
                <a:off x="6676200" y="5682240"/>
                <a:ext cx="1080" cy="277560"/>
              </a:xfrm>
              <a:prstGeom prst="rect">
                <a:avLst/>
              </a:prstGeom>
              <a:solidFill>
                <a:srgbClr val="babab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8" name=""/>
              <p:cNvSpPr/>
              <p:nvPr/>
            </p:nvSpPr>
            <p:spPr>
              <a:xfrm>
                <a:off x="6676200" y="5682240"/>
                <a:ext cx="1080" cy="277560"/>
              </a:xfrm>
              <a:prstGeom prst="rect">
                <a:avLst/>
              </a:prstGeom>
              <a:solidFill>
                <a:srgbClr val="b9b9b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6677640" y="5682240"/>
                <a:ext cx="1440" cy="277560"/>
              </a:xfrm>
              <a:prstGeom prst="rect">
                <a:avLst/>
              </a:prstGeom>
              <a:solidFill>
                <a:srgbClr val="b7b7b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679080" y="5682240"/>
                <a:ext cx="1080" cy="277560"/>
              </a:xfrm>
              <a:prstGeom prst="rect">
                <a:avLst/>
              </a:prstGeom>
              <a:solidFill>
                <a:srgbClr val="b6b6b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1" name=""/>
              <p:cNvSpPr/>
              <p:nvPr/>
            </p:nvSpPr>
            <p:spPr>
              <a:xfrm>
                <a:off x="6679080" y="5682240"/>
                <a:ext cx="2520" cy="277560"/>
              </a:xfrm>
              <a:prstGeom prst="rect">
                <a:avLst/>
              </a:prstGeom>
              <a:solidFill>
                <a:srgbClr val="b4b4b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2" name=""/>
              <p:cNvSpPr/>
              <p:nvPr/>
            </p:nvSpPr>
            <p:spPr>
              <a:xfrm>
                <a:off x="6597360" y="5683320"/>
                <a:ext cx="81720" cy="275400"/>
              </a:xfrm>
              <a:custGeom>
                <a:avLst/>
                <a:gdLst/>
                <a:ahLst/>
                <a:rect l="l" t="t" r="r" b="b"/>
                <a:pathLst>
                  <a:path w="122" h="496">
                    <a:moveTo>
                      <a:pt x="104" y="496"/>
                    </a:moveTo>
                    <a:lnTo>
                      <a:pt x="108" y="496"/>
                    </a:lnTo>
                    <a:lnTo>
                      <a:pt x="110" y="495"/>
                    </a:lnTo>
                    <a:lnTo>
                      <a:pt x="114" y="494"/>
                    </a:lnTo>
                    <a:lnTo>
                      <a:pt x="117" y="492"/>
                    </a:lnTo>
                    <a:lnTo>
                      <a:pt x="118" y="490"/>
                    </a:lnTo>
                    <a:lnTo>
                      <a:pt x="120" y="486"/>
                    </a:lnTo>
                    <a:lnTo>
                      <a:pt x="120" y="483"/>
                    </a:lnTo>
                    <a:lnTo>
                      <a:pt x="122" y="481"/>
                    </a:lnTo>
                    <a:lnTo>
                      <a:pt x="122" y="15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18" y="6"/>
                    </a:lnTo>
                    <a:lnTo>
                      <a:pt x="117" y="4"/>
                    </a:lnTo>
                    <a:lnTo>
                      <a:pt x="114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1" y="483"/>
                    </a:lnTo>
                    <a:lnTo>
                      <a:pt x="1" y="486"/>
                    </a:lnTo>
                    <a:lnTo>
                      <a:pt x="4" y="490"/>
                    </a:lnTo>
                    <a:lnTo>
                      <a:pt x="5" y="492"/>
                    </a:lnTo>
                    <a:lnTo>
                      <a:pt x="8" y="494"/>
                    </a:lnTo>
                    <a:lnTo>
                      <a:pt x="11" y="495"/>
                    </a:lnTo>
                    <a:lnTo>
                      <a:pt x="14" y="496"/>
                    </a:lnTo>
                    <a:lnTo>
                      <a:pt x="18" y="496"/>
                    </a:lnTo>
                    <a:lnTo>
                      <a:pt x="104" y="496"/>
                    </a:lnTo>
                    <a:lnTo>
                      <a:pt x="104" y="49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3" name=""/>
              <p:cNvSpPr/>
              <p:nvPr/>
            </p:nvSpPr>
            <p:spPr>
              <a:xfrm>
                <a:off x="2492280" y="5292360"/>
                <a:ext cx="4189320" cy="67536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5" y="677"/>
                    </a:lnTo>
                    <a:lnTo>
                      <a:pt x="125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4" name=""/>
              <p:cNvSpPr/>
              <p:nvPr/>
            </p:nvSpPr>
            <p:spPr>
              <a:xfrm>
                <a:off x="2490840" y="5291280"/>
                <a:ext cx="131760" cy="6775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2622600" y="5291280"/>
                <a:ext cx="175320" cy="67752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>
                <a:off x="2798280" y="5291280"/>
                <a:ext cx="173880" cy="67752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7" name=""/>
              <p:cNvSpPr/>
              <p:nvPr/>
            </p:nvSpPr>
            <p:spPr>
              <a:xfrm>
                <a:off x="2972160" y="5291280"/>
                <a:ext cx="175320" cy="67752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8" name=""/>
              <p:cNvSpPr/>
              <p:nvPr/>
            </p:nvSpPr>
            <p:spPr>
              <a:xfrm>
                <a:off x="3147840" y="5291280"/>
                <a:ext cx="163080" cy="67752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9" name=""/>
              <p:cNvSpPr/>
              <p:nvPr/>
            </p:nvSpPr>
            <p:spPr>
              <a:xfrm>
                <a:off x="3310920" y="5291280"/>
                <a:ext cx="130680" cy="67752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0" name=""/>
              <p:cNvSpPr/>
              <p:nvPr/>
            </p:nvSpPr>
            <p:spPr>
              <a:xfrm>
                <a:off x="3441600" y="5291280"/>
                <a:ext cx="142560" cy="67752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1" name=""/>
              <p:cNvSpPr/>
              <p:nvPr/>
            </p:nvSpPr>
            <p:spPr>
              <a:xfrm>
                <a:off x="3584520" y="5291280"/>
                <a:ext cx="173880" cy="67752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2" name=""/>
              <p:cNvSpPr/>
              <p:nvPr/>
            </p:nvSpPr>
            <p:spPr>
              <a:xfrm>
                <a:off x="3758400" y="5291280"/>
                <a:ext cx="175320" cy="6775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3" name=""/>
              <p:cNvSpPr/>
              <p:nvPr/>
            </p:nvSpPr>
            <p:spPr>
              <a:xfrm>
                <a:off x="3934080" y="5291280"/>
                <a:ext cx="174240" cy="67752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4" name=""/>
              <p:cNvSpPr/>
              <p:nvPr/>
            </p:nvSpPr>
            <p:spPr>
              <a:xfrm>
                <a:off x="4108320" y="5291280"/>
                <a:ext cx="174960" cy="67752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5" name=""/>
              <p:cNvSpPr/>
              <p:nvPr/>
            </p:nvSpPr>
            <p:spPr>
              <a:xfrm>
                <a:off x="4283640" y="5291280"/>
                <a:ext cx="174240" cy="67752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6" name=""/>
              <p:cNvSpPr/>
              <p:nvPr/>
            </p:nvSpPr>
            <p:spPr>
              <a:xfrm>
                <a:off x="4457880" y="5291280"/>
                <a:ext cx="351000" cy="67752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7" name=""/>
              <p:cNvSpPr/>
              <p:nvPr/>
            </p:nvSpPr>
            <p:spPr>
              <a:xfrm>
                <a:off x="4808880" y="5291280"/>
                <a:ext cx="174960" cy="67752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8" name=""/>
              <p:cNvSpPr/>
              <p:nvPr/>
            </p:nvSpPr>
            <p:spPr>
              <a:xfrm>
                <a:off x="4983840" y="5291280"/>
                <a:ext cx="172440" cy="67752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9" name=""/>
              <p:cNvSpPr/>
              <p:nvPr/>
            </p:nvSpPr>
            <p:spPr>
              <a:xfrm>
                <a:off x="5156640" y="5291280"/>
                <a:ext cx="175320" cy="67752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0" name=""/>
              <p:cNvSpPr/>
              <p:nvPr/>
            </p:nvSpPr>
            <p:spPr>
              <a:xfrm>
                <a:off x="5332320" y="5291280"/>
                <a:ext cx="175320" cy="6775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1" name=""/>
              <p:cNvSpPr/>
              <p:nvPr/>
            </p:nvSpPr>
            <p:spPr>
              <a:xfrm>
                <a:off x="5507640" y="5291280"/>
                <a:ext cx="163080" cy="67752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2" name=""/>
              <p:cNvSpPr/>
              <p:nvPr/>
            </p:nvSpPr>
            <p:spPr>
              <a:xfrm>
                <a:off x="5671080" y="5291280"/>
                <a:ext cx="131760" cy="67752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3" name=""/>
              <p:cNvSpPr/>
              <p:nvPr/>
            </p:nvSpPr>
            <p:spPr>
              <a:xfrm>
                <a:off x="5802840" y="5291280"/>
                <a:ext cx="141480" cy="67752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4" name=""/>
              <p:cNvSpPr/>
              <p:nvPr/>
            </p:nvSpPr>
            <p:spPr>
              <a:xfrm>
                <a:off x="5944680" y="5291280"/>
                <a:ext cx="175320" cy="67752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5" name=""/>
              <p:cNvSpPr/>
              <p:nvPr/>
            </p:nvSpPr>
            <p:spPr>
              <a:xfrm>
                <a:off x="6120000" y="5291280"/>
                <a:ext cx="173880" cy="67752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6" name=""/>
              <p:cNvSpPr/>
              <p:nvPr/>
            </p:nvSpPr>
            <p:spPr>
              <a:xfrm>
                <a:off x="6294240" y="5291280"/>
                <a:ext cx="173880" cy="67752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7" name=""/>
              <p:cNvSpPr/>
              <p:nvPr/>
            </p:nvSpPr>
            <p:spPr>
              <a:xfrm>
                <a:off x="6468120" y="5291280"/>
                <a:ext cx="175320" cy="67752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6643440" y="5291280"/>
                <a:ext cx="38160" cy="6775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2492280" y="5292360"/>
                <a:ext cx="4189320" cy="67536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4" y="677"/>
                    </a:lnTo>
                    <a:lnTo>
                      <a:pt x="124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0" name=""/>
              <p:cNvSpPr/>
              <p:nvPr/>
            </p:nvSpPr>
            <p:spPr>
              <a:xfrm>
                <a:off x="2499120" y="5297760"/>
                <a:ext cx="4174200" cy="664200"/>
              </a:xfrm>
              <a:custGeom>
                <a:avLst/>
                <a:gdLst/>
                <a:ahLst/>
                <a:rect l="l" t="t" r="r" b="b"/>
                <a:pathLst>
                  <a:path w="6138" h="1196">
                    <a:moveTo>
                      <a:pt x="0" y="0"/>
                    </a:moveTo>
                    <a:lnTo>
                      <a:pt x="0" y="656"/>
                    </a:lnTo>
                    <a:lnTo>
                      <a:pt x="125" y="656"/>
                    </a:lnTo>
                    <a:lnTo>
                      <a:pt x="125" y="1196"/>
                    </a:lnTo>
                    <a:lnTo>
                      <a:pt x="6010" y="1196"/>
                    </a:lnTo>
                    <a:lnTo>
                      <a:pt x="6010" y="656"/>
                    </a:lnTo>
                    <a:lnTo>
                      <a:pt x="6138" y="656"/>
                    </a:lnTo>
                    <a:lnTo>
                      <a:pt x="613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1" name=""/>
              <p:cNvSpPr/>
              <p:nvPr/>
            </p:nvSpPr>
            <p:spPr>
              <a:xfrm>
                <a:off x="3958200" y="5675400"/>
                <a:ext cx="756360" cy="270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solidFill>
                <a:srgbClr val="f8f8f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2" name=""/>
              <p:cNvSpPr/>
              <p:nvPr/>
            </p:nvSpPr>
            <p:spPr>
              <a:xfrm>
                <a:off x="3958200" y="5675400"/>
                <a:ext cx="756360" cy="270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3" name=""/>
              <p:cNvSpPr/>
              <p:nvPr/>
            </p:nvSpPr>
            <p:spPr>
              <a:xfrm>
                <a:off x="3792240" y="5395680"/>
                <a:ext cx="171360" cy="5508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  <a:close/>
                  </a:path>
                </a:pathLst>
              </a:custGeom>
              <a:solidFill>
                <a:srgbClr val="66666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792240" y="5395680"/>
                <a:ext cx="171360" cy="5508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>
                <a:off x="6159240" y="5773320"/>
                <a:ext cx="292320" cy="1731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6" name=""/>
              <p:cNvSpPr/>
              <p:nvPr/>
            </p:nvSpPr>
            <p:spPr>
              <a:xfrm>
                <a:off x="5506560" y="5773320"/>
                <a:ext cx="817200" cy="173160"/>
              </a:xfrm>
              <a:custGeom>
                <a:avLst/>
                <a:gdLst/>
                <a:ahLst/>
                <a:rect l="l" t="t" r="r" b="b"/>
                <a:pathLst>
                  <a:path w="1201" h="311">
                    <a:moveTo>
                      <a:pt x="0" y="311"/>
                    </a:moveTo>
                    <a:lnTo>
                      <a:pt x="491" y="311"/>
                    </a:lnTo>
                    <a:lnTo>
                      <a:pt x="49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  <a:moveTo>
                      <a:pt x="1201" y="8"/>
                    </a:moveTo>
                    <a:lnTo>
                      <a:pt x="973" y="8"/>
                    </a:lnTo>
                    <a:lnTo>
                      <a:pt x="973" y="193"/>
                    </a:lnTo>
                    <a:lnTo>
                      <a:pt x="1201" y="193"/>
                    </a:lnTo>
                    <a:lnTo>
                      <a:pt x="1201" y="8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7" name=""/>
              <p:cNvSpPr/>
              <p:nvPr/>
            </p:nvSpPr>
            <p:spPr>
              <a:xfrm>
                <a:off x="3848400" y="5395680"/>
                <a:ext cx="61200" cy="55080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8" name=""/>
              <p:cNvSpPr/>
              <p:nvPr/>
            </p:nvSpPr>
            <p:spPr>
              <a:xfrm>
                <a:off x="3848400" y="5395680"/>
                <a:ext cx="61200" cy="550800"/>
              </a:xfrm>
              <a:prstGeom prst="rect">
                <a:avLst/>
              </a:pr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416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828160" y="5324760"/>
                <a:ext cx="960120" cy="5263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170" name=""/>
              <p:cNvSpPr/>
              <p:nvPr/>
            </p:nvSpPr>
            <p:spPr>
              <a:xfrm>
                <a:off x="2841840" y="5330160"/>
                <a:ext cx="943560" cy="517320"/>
              </a:xfrm>
              <a:prstGeom prst="rect">
                <a:avLst/>
              </a:prstGeom>
              <a:noFill/>
              <a:ln w="324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1" name=""/>
              <p:cNvSpPr/>
              <p:nvPr/>
            </p:nvSpPr>
            <p:spPr>
              <a:xfrm>
                <a:off x="3823920" y="572760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2" name=""/>
              <p:cNvSpPr/>
              <p:nvPr/>
            </p:nvSpPr>
            <p:spPr>
              <a:xfrm>
                <a:off x="3822840" y="57675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3" name=""/>
              <p:cNvSpPr/>
              <p:nvPr/>
            </p:nvSpPr>
            <p:spPr>
              <a:xfrm>
                <a:off x="3946320" y="572760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4" name=""/>
              <p:cNvSpPr/>
              <p:nvPr/>
            </p:nvSpPr>
            <p:spPr>
              <a:xfrm>
                <a:off x="3919320" y="57675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5" name=""/>
              <p:cNvSpPr/>
              <p:nvPr/>
            </p:nvSpPr>
            <p:spPr>
              <a:xfrm>
                <a:off x="3871440" y="572760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6" name=""/>
              <p:cNvSpPr/>
              <p:nvPr/>
            </p:nvSpPr>
            <p:spPr>
              <a:xfrm>
                <a:off x="3871800" y="57675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7" name=""/>
              <p:cNvSpPr/>
              <p:nvPr/>
            </p:nvSpPr>
            <p:spPr>
              <a:xfrm>
                <a:off x="3823920" y="556452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8" name=""/>
              <p:cNvSpPr/>
              <p:nvPr/>
            </p:nvSpPr>
            <p:spPr>
              <a:xfrm>
                <a:off x="3822840" y="56055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9" name=""/>
              <p:cNvSpPr/>
              <p:nvPr/>
            </p:nvSpPr>
            <p:spPr>
              <a:xfrm>
                <a:off x="3946320" y="556452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0" name=""/>
              <p:cNvSpPr/>
              <p:nvPr/>
            </p:nvSpPr>
            <p:spPr>
              <a:xfrm>
                <a:off x="3927600" y="5605560"/>
                <a:ext cx="45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1" name=""/>
              <p:cNvSpPr/>
              <p:nvPr/>
            </p:nvSpPr>
            <p:spPr>
              <a:xfrm>
                <a:off x="3871440" y="556452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2" name=""/>
              <p:cNvSpPr/>
              <p:nvPr/>
            </p:nvSpPr>
            <p:spPr>
              <a:xfrm>
                <a:off x="3873600" y="5605560"/>
                <a:ext cx="4176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3" name=""/>
              <p:cNvSpPr/>
              <p:nvPr/>
            </p:nvSpPr>
            <p:spPr>
              <a:xfrm>
                <a:off x="3823920" y="54212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4" name=""/>
              <p:cNvSpPr/>
              <p:nvPr/>
            </p:nvSpPr>
            <p:spPr>
              <a:xfrm>
                <a:off x="3822840" y="54435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5" name=""/>
              <p:cNvSpPr/>
              <p:nvPr/>
            </p:nvSpPr>
            <p:spPr>
              <a:xfrm>
                <a:off x="3871440" y="54212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4186" name=""/>
            <p:cNvGrpSpPr/>
            <p:nvPr/>
          </p:nvGrpSpPr>
          <p:grpSpPr>
            <a:xfrm>
              <a:off x="2606760" y="5324400"/>
              <a:ext cx="3955320" cy="645840"/>
              <a:chOff x="2606760" y="5324400"/>
              <a:chExt cx="3955320" cy="645840"/>
            </a:xfrm>
          </p:grpSpPr>
          <p:sp>
            <p:nvSpPr>
              <p:cNvPr id="4187" name=""/>
              <p:cNvSpPr/>
              <p:nvPr/>
            </p:nvSpPr>
            <p:spPr>
              <a:xfrm>
                <a:off x="3876480" y="5443200"/>
                <a:ext cx="4176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3879360" y="570744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9" name=""/>
              <p:cNvSpPr/>
              <p:nvPr/>
            </p:nvSpPr>
            <p:spPr>
              <a:xfrm>
                <a:off x="3875040" y="546192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0" name=""/>
              <p:cNvSpPr/>
              <p:nvPr/>
            </p:nvSpPr>
            <p:spPr>
              <a:xfrm>
                <a:off x="3875040" y="560520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1" name=""/>
              <p:cNvSpPr/>
              <p:nvPr/>
            </p:nvSpPr>
            <p:spPr>
              <a:xfrm>
                <a:off x="3927240" y="554292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2" name=""/>
              <p:cNvSpPr/>
              <p:nvPr/>
            </p:nvSpPr>
            <p:spPr>
              <a:xfrm>
                <a:off x="3803400" y="538092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880440" y="5380920"/>
                <a:ext cx="694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>
                <a:off x="3985920" y="5345280"/>
                <a:ext cx="713880" cy="545040"/>
              </a:xfrm>
              <a:custGeom>
                <a:avLst/>
                <a:gdLst/>
                <a:ahLst/>
                <a:rect l="l" t="t" r="r" b="b"/>
                <a:pathLst>
                  <a:path w="1050" h="984">
                    <a:moveTo>
                      <a:pt x="833" y="984"/>
                    </a:moveTo>
                    <a:lnTo>
                      <a:pt x="1050" y="984"/>
                    </a:lnTo>
                    <a:lnTo>
                      <a:pt x="1050" y="0"/>
                    </a:lnTo>
                    <a:lnTo>
                      <a:pt x="0" y="0"/>
                    </a:lnTo>
                    <a:lnTo>
                      <a:pt x="0" y="984"/>
                    </a:lnTo>
                    <a:lnTo>
                      <a:pt x="218" y="984"/>
                    </a:lnTo>
                    <a:lnTo>
                      <a:pt x="218" y="584"/>
                    </a:lnTo>
                    <a:lnTo>
                      <a:pt x="833" y="584"/>
                    </a:lnTo>
                    <a:lnTo>
                      <a:pt x="833" y="984"/>
                    </a:lnTo>
                    <a:lnTo>
                      <a:pt x="833" y="98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419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961440" y="5324400"/>
                <a:ext cx="738720" cy="56628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196" name=""/>
              <p:cNvSpPr/>
              <p:nvPr/>
            </p:nvSpPr>
            <p:spPr>
              <a:xfrm>
                <a:off x="3976560" y="5330880"/>
                <a:ext cx="724680" cy="554040"/>
              </a:xfrm>
              <a:custGeom>
                <a:avLst/>
                <a:gdLst/>
                <a:ahLst/>
                <a:rect l="l" t="t" r="r" b="b"/>
                <a:pathLst>
                  <a:path w="1068" h="998">
                    <a:moveTo>
                      <a:pt x="840" y="998"/>
                    </a:moveTo>
                    <a:lnTo>
                      <a:pt x="1068" y="998"/>
                    </a:lnTo>
                    <a:lnTo>
                      <a:pt x="1068" y="0"/>
                    </a:lnTo>
                    <a:lnTo>
                      <a:pt x="0" y="0"/>
                    </a:lnTo>
                    <a:lnTo>
                      <a:pt x="0" y="998"/>
                    </a:lnTo>
                    <a:lnTo>
                      <a:pt x="226" y="998"/>
                    </a:lnTo>
                    <a:lnTo>
                      <a:pt x="226" y="606"/>
                    </a:lnTo>
                    <a:lnTo>
                      <a:pt x="840" y="606"/>
                    </a:lnTo>
                    <a:lnTo>
                      <a:pt x="840" y="998"/>
                    </a:lnTo>
                  </a:path>
                </a:pathLst>
              </a:custGeom>
              <a:noFill/>
              <a:ln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7" name=""/>
              <p:cNvSpPr/>
              <p:nvPr/>
            </p:nvSpPr>
            <p:spPr>
              <a:xfrm>
                <a:off x="4226760" y="567504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  <a:moveTo>
                      <a:pt x="0" y="374"/>
                    </a:moveTo>
                    <a:lnTo>
                      <a:pt x="0" y="374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  <a:moveTo>
                      <a:pt x="309" y="374"/>
                    </a:moveTo>
                    <a:lnTo>
                      <a:pt x="309" y="374"/>
                    </a:lnTo>
                    <a:lnTo>
                      <a:pt x="309" y="374"/>
                    </a:lnTo>
                    <a:lnTo>
                      <a:pt x="309" y="374"/>
                    </a:lnTo>
                    <a:close/>
                  </a:path>
                </a:pathLst>
              </a:custGeom>
              <a:solidFill>
                <a:srgbClr val="1a1a1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8" name=""/>
              <p:cNvSpPr/>
              <p:nvPr/>
            </p:nvSpPr>
            <p:spPr>
              <a:xfrm>
                <a:off x="4226760" y="567504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9" name=""/>
              <p:cNvSpPr/>
              <p:nvPr/>
            </p:nvSpPr>
            <p:spPr>
              <a:xfrm>
                <a:off x="4226760" y="5882760"/>
                <a:ext cx="0" cy="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0" name=""/>
              <p:cNvSpPr/>
              <p:nvPr/>
            </p:nvSpPr>
            <p:spPr>
              <a:xfrm>
                <a:off x="4435920" y="5882760"/>
                <a:ext cx="0" cy="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4252680" y="5679720"/>
                <a:ext cx="156240" cy="20304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4240080" y="5669640"/>
                <a:ext cx="182160" cy="223200"/>
              </a:xfrm>
              <a:custGeom>
                <a:avLst/>
                <a:gdLst/>
                <a:ahLst/>
                <a:rect l="l" t="t" r="r" b="b"/>
                <a:pathLst>
                  <a:path w="269" h="401">
                    <a:moveTo>
                      <a:pt x="37" y="56"/>
                    </a:moveTo>
                    <a:lnTo>
                      <a:pt x="37" y="311"/>
                    </a:lnTo>
                    <a:lnTo>
                      <a:pt x="37" y="314"/>
                    </a:lnTo>
                    <a:lnTo>
                      <a:pt x="36" y="317"/>
                    </a:lnTo>
                    <a:lnTo>
                      <a:pt x="34" y="321"/>
                    </a:lnTo>
                    <a:lnTo>
                      <a:pt x="32" y="323"/>
                    </a:lnTo>
                    <a:lnTo>
                      <a:pt x="29" y="326"/>
                    </a:lnTo>
                    <a:lnTo>
                      <a:pt x="27" y="327"/>
                    </a:lnTo>
                    <a:lnTo>
                      <a:pt x="23" y="328"/>
                    </a:lnTo>
                    <a:lnTo>
                      <a:pt x="19" y="328"/>
                    </a:lnTo>
                    <a:lnTo>
                      <a:pt x="15" y="328"/>
                    </a:lnTo>
                    <a:lnTo>
                      <a:pt x="12" y="327"/>
                    </a:lnTo>
                    <a:lnTo>
                      <a:pt x="9" y="326"/>
                    </a:lnTo>
                    <a:lnTo>
                      <a:pt x="7" y="323"/>
                    </a:lnTo>
                    <a:lnTo>
                      <a:pt x="4" y="321"/>
                    </a:lnTo>
                    <a:lnTo>
                      <a:pt x="3" y="317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9" y="37"/>
                    </a:lnTo>
                    <a:lnTo>
                      <a:pt x="23" y="38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4" y="45"/>
                    </a:lnTo>
                    <a:lnTo>
                      <a:pt x="36" y="48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  <a:moveTo>
                      <a:pt x="127" y="365"/>
                    </a:moveTo>
                    <a:lnTo>
                      <a:pt x="250" y="365"/>
                    </a:lnTo>
                    <a:lnTo>
                      <a:pt x="232" y="384"/>
                    </a:lnTo>
                    <a:lnTo>
                      <a:pt x="232" y="251"/>
                    </a:lnTo>
                    <a:lnTo>
                      <a:pt x="232" y="247"/>
                    </a:lnTo>
                    <a:lnTo>
                      <a:pt x="234" y="244"/>
                    </a:lnTo>
                    <a:lnTo>
                      <a:pt x="235" y="240"/>
                    </a:lnTo>
                    <a:lnTo>
                      <a:pt x="237" y="237"/>
                    </a:lnTo>
                    <a:lnTo>
                      <a:pt x="240" y="236"/>
                    </a:lnTo>
                    <a:lnTo>
                      <a:pt x="244" y="235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4" y="234"/>
                    </a:lnTo>
                    <a:lnTo>
                      <a:pt x="257" y="235"/>
                    </a:lnTo>
                    <a:lnTo>
                      <a:pt x="261" y="236"/>
                    </a:lnTo>
                    <a:lnTo>
                      <a:pt x="264" y="237"/>
                    </a:lnTo>
                    <a:lnTo>
                      <a:pt x="265" y="240"/>
                    </a:lnTo>
                    <a:lnTo>
                      <a:pt x="267" y="244"/>
                    </a:lnTo>
                    <a:lnTo>
                      <a:pt x="267" y="247"/>
                    </a:lnTo>
                    <a:lnTo>
                      <a:pt x="269" y="251"/>
                    </a:lnTo>
                    <a:lnTo>
                      <a:pt x="269" y="384"/>
                    </a:lnTo>
                    <a:lnTo>
                      <a:pt x="267" y="386"/>
                    </a:lnTo>
                    <a:lnTo>
                      <a:pt x="267" y="390"/>
                    </a:lnTo>
                    <a:lnTo>
                      <a:pt x="265" y="393"/>
                    </a:lnTo>
                    <a:lnTo>
                      <a:pt x="264" y="396"/>
                    </a:lnTo>
                    <a:lnTo>
                      <a:pt x="261" y="398"/>
                    </a:lnTo>
                    <a:lnTo>
                      <a:pt x="257" y="400"/>
                    </a:lnTo>
                    <a:lnTo>
                      <a:pt x="254" y="401"/>
                    </a:lnTo>
                    <a:lnTo>
                      <a:pt x="250" y="401"/>
                    </a:lnTo>
                    <a:lnTo>
                      <a:pt x="127" y="401"/>
                    </a:lnTo>
                    <a:lnTo>
                      <a:pt x="124" y="401"/>
                    </a:lnTo>
                    <a:lnTo>
                      <a:pt x="121" y="400"/>
                    </a:lnTo>
                    <a:lnTo>
                      <a:pt x="118" y="398"/>
                    </a:lnTo>
                    <a:lnTo>
                      <a:pt x="116" y="396"/>
                    </a:lnTo>
                    <a:lnTo>
                      <a:pt x="113" y="393"/>
                    </a:lnTo>
                    <a:lnTo>
                      <a:pt x="111" y="390"/>
                    </a:lnTo>
                    <a:lnTo>
                      <a:pt x="109" y="386"/>
                    </a:lnTo>
                    <a:lnTo>
                      <a:pt x="109" y="384"/>
                    </a:lnTo>
                    <a:lnTo>
                      <a:pt x="109" y="379"/>
                    </a:lnTo>
                    <a:lnTo>
                      <a:pt x="111" y="376"/>
                    </a:lnTo>
                    <a:lnTo>
                      <a:pt x="113" y="372"/>
                    </a:lnTo>
                    <a:lnTo>
                      <a:pt x="116" y="370"/>
                    </a:lnTo>
                    <a:lnTo>
                      <a:pt x="118" y="367"/>
                    </a:lnTo>
                    <a:lnTo>
                      <a:pt x="121" y="366"/>
                    </a:lnTo>
                    <a:lnTo>
                      <a:pt x="124" y="365"/>
                    </a:lnTo>
                    <a:lnTo>
                      <a:pt x="127" y="365"/>
                    </a:lnTo>
                    <a:lnTo>
                      <a:pt x="127" y="365"/>
                    </a:lnTo>
                    <a:close/>
                    <a:moveTo>
                      <a:pt x="232" y="69"/>
                    </a:moveTo>
                    <a:lnTo>
                      <a:pt x="232" y="19"/>
                    </a:lnTo>
                    <a:lnTo>
                      <a:pt x="250" y="37"/>
                    </a:lnTo>
                    <a:lnTo>
                      <a:pt x="46" y="37"/>
                    </a:lnTo>
                    <a:lnTo>
                      <a:pt x="43" y="37"/>
                    </a:lnTo>
                    <a:lnTo>
                      <a:pt x="39" y="35"/>
                    </a:lnTo>
                    <a:lnTo>
                      <a:pt x="37" y="34"/>
                    </a:lnTo>
                    <a:lnTo>
                      <a:pt x="34" y="32"/>
                    </a:lnTo>
                    <a:lnTo>
                      <a:pt x="32" y="29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250" y="0"/>
                    </a:lnTo>
                    <a:lnTo>
                      <a:pt x="254" y="1"/>
                    </a:lnTo>
                    <a:lnTo>
                      <a:pt x="257" y="2"/>
                    </a:lnTo>
                    <a:lnTo>
                      <a:pt x="261" y="4"/>
                    </a:lnTo>
                    <a:lnTo>
                      <a:pt x="264" y="6"/>
                    </a:lnTo>
                    <a:lnTo>
                      <a:pt x="265" y="9"/>
                    </a:lnTo>
                    <a:lnTo>
                      <a:pt x="267" y="13"/>
                    </a:lnTo>
                    <a:lnTo>
                      <a:pt x="267" y="15"/>
                    </a:lnTo>
                    <a:lnTo>
                      <a:pt x="269" y="19"/>
                    </a:lnTo>
                    <a:lnTo>
                      <a:pt x="269" y="69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5" y="78"/>
                    </a:lnTo>
                    <a:lnTo>
                      <a:pt x="264" y="82"/>
                    </a:lnTo>
                    <a:lnTo>
                      <a:pt x="261" y="83"/>
                    </a:lnTo>
                    <a:lnTo>
                      <a:pt x="257" y="86"/>
                    </a:lnTo>
                    <a:lnTo>
                      <a:pt x="254" y="87"/>
                    </a:lnTo>
                    <a:lnTo>
                      <a:pt x="250" y="87"/>
                    </a:lnTo>
                    <a:lnTo>
                      <a:pt x="246" y="87"/>
                    </a:lnTo>
                    <a:lnTo>
                      <a:pt x="244" y="86"/>
                    </a:lnTo>
                    <a:lnTo>
                      <a:pt x="240" y="83"/>
                    </a:lnTo>
                    <a:lnTo>
                      <a:pt x="237" y="82"/>
                    </a:lnTo>
                    <a:lnTo>
                      <a:pt x="235" y="78"/>
                    </a:lnTo>
                    <a:lnTo>
                      <a:pt x="234" y="76"/>
                    </a:lnTo>
                    <a:lnTo>
                      <a:pt x="232" y="72"/>
                    </a:lnTo>
                    <a:lnTo>
                      <a:pt x="232" y="69"/>
                    </a:lnTo>
                    <a:lnTo>
                      <a:pt x="232" y="69"/>
                    </a:lnTo>
                    <a:close/>
                  </a:path>
                </a:pathLst>
              </a:custGeom>
              <a:solidFill>
                <a:srgbClr val="1a1a1a"/>
              </a:solidFill>
              <a:ln w="32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4071600" y="588600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4070160" y="590724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3999960" y="590724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4566240" y="590724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4633560" y="588708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4611600" y="590724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5838480" y="5772960"/>
                <a:ext cx="320760" cy="173160"/>
              </a:xfrm>
              <a:prstGeom prst="rect">
                <a:avLst/>
              </a:prstGeom>
              <a:solidFill>
                <a:srgbClr val="35509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5143320" y="5772960"/>
                <a:ext cx="366120" cy="173160"/>
              </a:xfrm>
              <a:prstGeom prst="rect">
                <a:avLst/>
              </a:prstGeom>
              <a:solidFill>
                <a:srgbClr val="26918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4707000" y="5772960"/>
                <a:ext cx="260640" cy="173160"/>
              </a:xfrm>
              <a:prstGeom prst="rect">
                <a:avLst/>
              </a:prstGeom>
              <a:solidFill>
                <a:srgbClr val="9997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4966560" y="5772960"/>
                <a:ext cx="176400" cy="173160"/>
              </a:xfrm>
              <a:prstGeom prst="rect">
                <a:avLst/>
              </a:prstGeom>
              <a:solidFill>
                <a:srgbClr val="bced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6354000" y="5893920"/>
                <a:ext cx="110520" cy="76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4707000" y="5772960"/>
                <a:ext cx="1744920" cy="173160"/>
              </a:xfrm>
              <a:prstGeom prst="rect">
                <a:avLst/>
              </a:prstGeom>
              <a:noFill/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4463280" y="57063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4463280" y="582732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4872960" y="5324400"/>
                <a:ext cx="1689120" cy="4395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883760" y="5333040"/>
                <a:ext cx="1665000" cy="420840"/>
              </a:xfrm>
              <a:prstGeom prst="rect">
                <a:avLst/>
              </a:prstGeom>
              <a:solidFill>
                <a:srgbClr val="3333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4883760" y="5333040"/>
                <a:ext cx="1665000" cy="420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5735160" y="5343120"/>
                <a:ext cx="803520" cy="4017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5735160" y="5343120"/>
                <a:ext cx="803520" cy="4017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5709240" y="5333040"/>
                <a:ext cx="14760" cy="42084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5709240" y="5333040"/>
                <a:ext cx="14760" cy="420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5020920" y="5486400"/>
                <a:ext cx="148320" cy="14184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18" y="109"/>
                    </a:moveTo>
                    <a:lnTo>
                      <a:pt x="217" y="123"/>
                    </a:lnTo>
                    <a:lnTo>
                      <a:pt x="216" y="137"/>
                    </a:lnTo>
                    <a:lnTo>
                      <a:pt x="214" y="149"/>
                    </a:lnTo>
                    <a:lnTo>
                      <a:pt x="211" y="163"/>
                    </a:lnTo>
                    <a:lnTo>
                      <a:pt x="207" y="176"/>
                    </a:lnTo>
                    <a:lnTo>
                      <a:pt x="203" y="187"/>
                    </a:lnTo>
                    <a:lnTo>
                      <a:pt x="197" y="199"/>
                    </a:lnTo>
                    <a:lnTo>
                      <a:pt x="191" y="210"/>
                    </a:lnTo>
                    <a:lnTo>
                      <a:pt x="183" y="220"/>
                    </a:lnTo>
                    <a:lnTo>
                      <a:pt x="176" y="229"/>
                    </a:lnTo>
                    <a:lnTo>
                      <a:pt x="167" y="237"/>
                    </a:lnTo>
                    <a:lnTo>
                      <a:pt x="162" y="239"/>
                    </a:lnTo>
                    <a:lnTo>
                      <a:pt x="157" y="243"/>
                    </a:lnTo>
                    <a:lnTo>
                      <a:pt x="152" y="245"/>
                    </a:lnTo>
                    <a:lnTo>
                      <a:pt x="145" y="248"/>
                    </a:lnTo>
                    <a:lnTo>
                      <a:pt x="140" y="250"/>
                    </a:lnTo>
                    <a:lnTo>
                      <a:pt x="134" y="252"/>
                    </a:lnTo>
                    <a:lnTo>
                      <a:pt x="129" y="253"/>
                    </a:lnTo>
                    <a:lnTo>
                      <a:pt x="123" y="254"/>
                    </a:lnTo>
                    <a:lnTo>
                      <a:pt x="115" y="255"/>
                    </a:lnTo>
                    <a:lnTo>
                      <a:pt x="109" y="255"/>
                    </a:lnTo>
                    <a:lnTo>
                      <a:pt x="103" y="255"/>
                    </a:lnTo>
                    <a:lnTo>
                      <a:pt x="97" y="254"/>
                    </a:lnTo>
                    <a:lnTo>
                      <a:pt x="90" y="253"/>
                    </a:lnTo>
                    <a:lnTo>
                      <a:pt x="84" y="252"/>
                    </a:lnTo>
                    <a:lnTo>
                      <a:pt x="78" y="250"/>
                    </a:lnTo>
                    <a:lnTo>
                      <a:pt x="73" y="248"/>
                    </a:lnTo>
                    <a:lnTo>
                      <a:pt x="67" y="245"/>
                    </a:lnTo>
                    <a:lnTo>
                      <a:pt x="62" y="243"/>
                    </a:lnTo>
                    <a:lnTo>
                      <a:pt x="57" y="239"/>
                    </a:lnTo>
                    <a:lnTo>
                      <a:pt x="52" y="237"/>
                    </a:lnTo>
                    <a:lnTo>
                      <a:pt x="43" y="229"/>
                    </a:lnTo>
                    <a:lnTo>
                      <a:pt x="35" y="220"/>
                    </a:lnTo>
                    <a:lnTo>
                      <a:pt x="28" y="210"/>
                    </a:lnTo>
                    <a:lnTo>
                      <a:pt x="21" y="199"/>
                    </a:lnTo>
                    <a:lnTo>
                      <a:pt x="15" y="187"/>
                    </a:lnTo>
                    <a:lnTo>
                      <a:pt x="11" y="176"/>
                    </a:lnTo>
                    <a:lnTo>
                      <a:pt x="8" y="163"/>
                    </a:lnTo>
                    <a:lnTo>
                      <a:pt x="4" y="149"/>
                    </a:lnTo>
                    <a:lnTo>
                      <a:pt x="3" y="137"/>
                    </a:lnTo>
                    <a:lnTo>
                      <a:pt x="1" y="123"/>
                    </a:lnTo>
                    <a:lnTo>
                      <a:pt x="0" y="109"/>
                    </a:lnTo>
                    <a:lnTo>
                      <a:pt x="1" y="96"/>
                    </a:lnTo>
                    <a:lnTo>
                      <a:pt x="3" y="84"/>
                    </a:lnTo>
                    <a:lnTo>
                      <a:pt x="4" y="72"/>
                    </a:lnTo>
                    <a:lnTo>
                      <a:pt x="8" y="61"/>
                    </a:lnTo>
                    <a:lnTo>
                      <a:pt x="11" y="52"/>
                    </a:lnTo>
                    <a:lnTo>
                      <a:pt x="15" y="43"/>
                    </a:lnTo>
                    <a:lnTo>
                      <a:pt x="21" y="35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2" y="7"/>
                    </a:lnTo>
                    <a:lnTo>
                      <a:pt x="73" y="4"/>
                    </a:lnTo>
                    <a:lnTo>
                      <a:pt x="84" y="2"/>
                    </a:lnTo>
                    <a:lnTo>
                      <a:pt x="97" y="0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4" y="2"/>
                    </a:lnTo>
                    <a:lnTo>
                      <a:pt x="145" y="4"/>
                    </a:lnTo>
                    <a:lnTo>
                      <a:pt x="157" y="7"/>
                    </a:lnTo>
                    <a:lnTo>
                      <a:pt x="167" y="11"/>
                    </a:lnTo>
                    <a:lnTo>
                      <a:pt x="176" y="16"/>
                    </a:lnTo>
                    <a:lnTo>
                      <a:pt x="183" y="21"/>
                    </a:lnTo>
                    <a:lnTo>
                      <a:pt x="191" y="27"/>
                    </a:lnTo>
                    <a:lnTo>
                      <a:pt x="197" y="35"/>
                    </a:lnTo>
                    <a:lnTo>
                      <a:pt x="203" y="43"/>
                    </a:lnTo>
                    <a:lnTo>
                      <a:pt x="207" y="52"/>
                    </a:lnTo>
                    <a:lnTo>
                      <a:pt x="211" y="61"/>
                    </a:lnTo>
                    <a:lnTo>
                      <a:pt x="214" y="72"/>
                    </a:lnTo>
                    <a:lnTo>
                      <a:pt x="216" y="84"/>
                    </a:lnTo>
                    <a:lnTo>
                      <a:pt x="217" y="96"/>
                    </a:lnTo>
                    <a:lnTo>
                      <a:pt x="218" y="109"/>
                    </a:lnTo>
                    <a:lnTo>
                      <a:pt x="21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5439960" y="5486400"/>
                <a:ext cx="171000" cy="14184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253" y="109"/>
                    </a:moveTo>
                    <a:lnTo>
                      <a:pt x="253" y="117"/>
                    </a:lnTo>
                    <a:lnTo>
                      <a:pt x="251" y="123"/>
                    </a:lnTo>
                    <a:lnTo>
                      <a:pt x="251" y="130"/>
                    </a:lnTo>
                    <a:lnTo>
                      <a:pt x="249" y="137"/>
                    </a:lnTo>
                    <a:lnTo>
                      <a:pt x="248" y="143"/>
                    </a:lnTo>
                    <a:lnTo>
                      <a:pt x="245" y="149"/>
                    </a:lnTo>
                    <a:lnTo>
                      <a:pt x="243" y="157"/>
                    </a:lnTo>
                    <a:lnTo>
                      <a:pt x="240" y="163"/>
                    </a:lnTo>
                    <a:lnTo>
                      <a:pt x="238" y="170"/>
                    </a:lnTo>
                    <a:lnTo>
                      <a:pt x="234" y="176"/>
                    </a:lnTo>
                    <a:lnTo>
                      <a:pt x="226" y="187"/>
                    </a:lnTo>
                    <a:lnTo>
                      <a:pt x="218" y="199"/>
                    </a:lnTo>
                    <a:lnTo>
                      <a:pt x="208" y="210"/>
                    </a:lnTo>
                    <a:lnTo>
                      <a:pt x="196" y="220"/>
                    </a:lnTo>
                    <a:lnTo>
                      <a:pt x="185" y="229"/>
                    </a:lnTo>
                    <a:lnTo>
                      <a:pt x="174" y="237"/>
                    </a:lnTo>
                    <a:lnTo>
                      <a:pt x="167" y="239"/>
                    </a:lnTo>
                    <a:lnTo>
                      <a:pt x="161" y="243"/>
                    </a:lnTo>
                    <a:lnTo>
                      <a:pt x="155" y="245"/>
                    </a:lnTo>
                    <a:lnTo>
                      <a:pt x="149" y="248"/>
                    </a:lnTo>
                    <a:lnTo>
                      <a:pt x="141" y="250"/>
                    </a:lnTo>
                    <a:lnTo>
                      <a:pt x="135" y="252"/>
                    </a:lnTo>
                    <a:lnTo>
                      <a:pt x="129" y="253"/>
                    </a:lnTo>
                    <a:lnTo>
                      <a:pt x="121" y="254"/>
                    </a:lnTo>
                    <a:lnTo>
                      <a:pt x="115" y="255"/>
                    </a:lnTo>
                    <a:lnTo>
                      <a:pt x="107" y="255"/>
                    </a:lnTo>
                    <a:lnTo>
                      <a:pt x="101" y="255"/>
                    </a:lnTo>
                    <a:lnTo>
                      <a:pt x="95" y="254"/>
                    </a:lnTo>
                    <a:lnTo>
                      <a:pt x="89" y="253"/>
                    </a:lnTo>
                    <a:lnTo>
                      <a:pt x="82" y="252"/>
                    </a:lnTo>
                    <a:lnTo>
                      <a:pt x="76" y="250"/>
                    </a:lnTo>
                    <a:lnTo>
                      <a:pt x="71" y="248"/>
                    </a:lnTo>
                    <a:lnTo>
                      <a:pt x="66" y="245"/>
                    </a:lnTo>
                    <a:lnTo>
                      <a:pt x="60" y="243"/>
                    </a:lnTo>
                    <a:lnTo>
                      <a:pt x="55" y="239"/>
                    </a:lnTo>
                    <a:lnTo>
                      <a:pt x="51" y="237"/>
                    </a:lnTo>
                    <a:lnTo>
                      <a:pt x="42" y="229"/>
                    </a:lnTo>
                    <a:lnTo>
                      <a:pt x="33" y="220"/>
                    </a:lnTo>
                    <a:lnTo>
                      <a:pt x="26" y="210"/>
                    </a:lnTo>
                    <a:lnTo>
                      <a:pt x="20" y="199"/>
                    </a:lnTo>
                    <a:lnTo>
                      <a:pt x="15" y="187"/>
                    </a:lnTo>
                    <a:lnTo>
                      <a:pt x="10" y="176"/>
                    </a:lnTo>
                    <a:lnTo>
                      <a:pt x="6" y="163"/>
                    </a:lnTo>
                    <a:lnTo>
                      <a:pt x="3" y="149"/>
                    </a:lnTo>
                    <a:lnTo>
                      <a:pt x="1" y="137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3" y="72"/>
                    </a:lnTo>
                    <a:lnTo>
                      <a:pt x="6" y="61"/>
                    </a:lnTo>
                    <a:lnTo>
                      <a:pt x="10" y="52"/>
                    </a:lnTo>
                    <a:lnTo>
                      <a:pt x="15" y="43"/>
                    </a:lnTo>
                    <a:lnTo>
                      <a:pt x="20" y="35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2" y="16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5" y="2"/>
                    </a:lnTo>
                    <a:lnTo>
                      <a:pt x="149" y="4"/>
                    </a:lnTo>
                    <a:lnTo>
                      <a:pt x="161" y="7"/>
                    </a:lnTo>
                    <a:lnTo>
                      <a:pt x="174" y="11"/>
                    </a:lnTo>
                    <a:lnTo>
                      <a:pt x="185" y="16"/>
                    </a:lnTo>
                    <a:lnTo>
                      <a:pt x="196" y="21"/>
                    </a:lnTo>
                    <a:lnTo>
                      <a:pt x="208" y="27"/>
                    </a:lnTo>
                    <a:lnTo>
                      <a:pt x="218" y="35"/>
                    </a:lnTo>
                    <a:lnTo>
                      <a:pt x="226" y="43"/>
                    </a:lnTo>
                    <a:lnTo>
                      <a:pt x="234" y="52"/>
                    </a:lnTo>
                    <a:lnTo>
                      <a:pt x="238" y="56"/>
                    </a:lnTo>
                    <a:lnTo>
                      <a:pt x="240" y="61"/>
                    </a:lnTo>
                    <a:lnTo>
                      <a:pt x="243" y="67"/>
                    </a:lnTo>
                    <a:lnTo>
                      <a:pt x="245" y="72"/>
                    </a:lnTo>
                    <a:lnTo>
                      <a:pt x="248" y="77"/>
                    </a:lnTo>
                    <a:lnTo>
                      <a:pt x="249" y="84"/>
                    </a:lnTo>
                    <a:lnTo>
                      <a:pt x="251" y="90"/>
                    </a:lnTo>
                    <a:lnTo>
                      <a:pt x="251" y="96"/>
                    </a:lnTo>
                    <a:lnTo>
                      <a:pt x="253" y="103"/>
                    </a:lnTo>
                    <a:lnTo>
                      <a:pt x="253" y="109"/>
                    </a:lnTo>
                    <a:lnTo>
                      <a:pt x="25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4897080" y="5345280"/>
                <a:ext cx="813240" cy="403920"/>
              </a:xfrm>
              <a:custGeom>
                <a:avLst/>
                <a:gdLst/>
                <a:ahLst/>
                <a:rect l="l" t="t" r="r" b="b"/>
                <a:pathLst>
                  <a:path w="1195" h="729">
                    <a:moveTo>
                      <a:pt x="0" y="729"/>
                    </a:moveTo>
                    <a:lnTo>
                      <a:pt x="1195" y="729"/>
                    </a:lnTo>
                    <a:lnTo>
                      <a:pt x="119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4227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872960" y="5324400"/>
                <a:ext cx="813240" cy="4050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228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872960" y="5324400"/>
                <a:ext cx="813240" cy="4050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229" name=""/>
              <p:cNvSpPr/>
              <p:nvPr/>
            </p:nvSpPr>
            <p:spPr>
              <a:xfrm>
                <a:off x="4999320" y="5474160"/>
                <a:ext cx="169920" cy="138600"/>
              </a:xfrm>
              <a:custGeom>
                <a:avLst/>
                <a:gdLst/>
                <a:ahLst/>
                <a:rect l="l" t="t" r="r" b="b"/>
                <a:pathLst>
                  <a:path w="249" h="249">
                    <a:moveTo>
                      <a:pt x="249" y="126"/>
                    </a:moveTo>
                    <a:lnTo>
                      <a:pt x="249" y="133"/>
                    </a:lnTo>
                    <a:lnTo>
                      <a:pt x="248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3" y="163"/>
                    </a:lnTo>
                    <a:lnTo>
                      <a:pt x="239" y="174"/>
                    </a:lnTo>
                    <a:lnTo>
                      <a:pt x="234" y="184"/>
                    </a:lnTo>
                    <a:lnTo>
                      <a:pt x="228" y="194"/>
                    </a:lnTo>
                    <a:lnTo>
                      <a:pt x="220" y="204"/>
                    </a:lnTo>
                    <a:lnTo>
                      <a:pt x="212" y="213"/>
                    </a:lnTo>
                    <a:lnTo>
                      <a:pt x="203" y="221"/>
                    </a:lnTo>
                    <a:lnTo>
                      <a:pt x="194" y="228"/>
                    </a:lnTo>
                    <a:lnTo>
                      <a:pt x="183" y="235"/>
                    </a:lnTo>
                    <a:lnTo>
                      <a:pt x="173" y="240"/>
                    </a:lnTo>
                    <a:lnTo>
                      <a:pt x="161" y="244"/>
                    </a:lnTo>
                    <a:lnTo>
                      <a:pt x="149" y="246"/>
                    </a:lnTo>
                    <a:lnTo>
                      <a:pt x="136" y="249"/>
                    </a:lnTo>
                    <a:lnTo>
                      <a:pt x="130" y="249"/>
                    </a:lnTo>
                    <a:lnTo>
                      <a:pt x="124" y="249"/>
                    </a:lnTo>
                    <a:lnTo>
                      <a:pt x="118" y="249"/>
                    </a:lnTo>
                    <a:lnTo>
                      <a:pt x="111" y="249"/>
                    </a:lnTo>
                    <a:lnTo>
                      <a:pt x="100" y="246"/>
                    </a:lnTo>
                    <a:lnTo>
                      <a:pt x="88" y="244"/>
                    </a:lnTo>
                    <a:lnTo>
                      <a:pt x="76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6" y="213"/>
                    </a:lnTo>
                    <a:lnTo>
                      <a:pt x="29" y="204"/>
                    </a:lnTo>
                    <a:lnTo>
                      <a:pt x="21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5" y="163"/>
                    </a:lnTo>
                    <a:lnTo>
                      <a:pt x="2" y="150"/>
                    </a:lnTo>
                    <a:lnTo>
                      <a:pt x="1" y="145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1" y="106"/>
                    </a:lnTo>
                    <a:lnTo>
                      <a:pt x="2" y="100"/>
                    </a:lnTo>
                    <a:lnTo>
                      <a:pt x="6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1" y="56"/>
                    </a:lnTo>
                    <a:lnTo>
                      <a:pt x="29" y="45"/>
                    </a:lnTo>
                    <a:lnTo>
                      <a:pt x="36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8" y="6"/>
                    </a:lnTo>
                    <a:lnTo>
                      <a:pt x="100" y="2"/>
                    </a:lnTo>
                    <a:lnTo>
                      <a:pt x="111" y="1"/>
                    </a:lnTo>
                    <a:lnTo>
                      <a:pt x="118" y="1"/>
                    </a:lnTo>
                    <a:lnTo>
                      <a:pt x="124" y="0"/>
                    </a:lnTo>
                    <a:lnTo>
                      <a:pt x="130" y="1"/>
                    </a:lnTo>
                    <a:lnTo>
                      <a:pt x="136" y="1"/>
                    </a:lnTo>
                    <a:lnTo>
                      <a:pt x="149" y="2"/>
                    </a:lnTo>
                    <a:lnTo>
                      <a:pt x="161" y="6"/>
                    </a:lnTo>
                    <a:lnTo>
                      <a:pt x="173" y="10"/>
                    </a:lnTo>
                    <a:lnTo>
                      <a:pt x="183" y="15"/>
                    </a:lnTo>
                    <a:lnTo>
                      <a:pt x="194" y="21"/>
                    </a:lnTo>
                    <a:lnTo>
                      <a:pt x="203" y="29"/>
                    </a:lnTo>
                    <a:lnTo>
                      <a:pt x="212" y="37"/>
                    </a:lnTo>
                    <a:lnTo>
                      <a:pt x="220" y="45"/>
                    </a:lnTo>
                    <a:lnTo>
                      <a:pt x="228" y="56"/>
                    </a:lnTo>
                    <a:lnTo>
                      <a:pt x="234" y="66"/>
                    </a:lnTo>
                    <a:lnTo>
                      <a:pt x="239" y="77"/>
                    </a:lnTo>
                    <a:lnTo>
                      <a:pt x="243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48" y="112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2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5424840" y="5474160"/>
                <a:ext cx="169920" cy="13860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50" y="126"/>
                    </a:moveTo>
                    <a:lnTo>
                      <a:pt x="250" y="133"/>
                    </a:lnTo>
                    <a:lnTo>
                      <a:pt x="250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5" y="163"/>
                    </a:lnTo>
                    <a:lnTo>
                      <a:pt x="240" y="174"/>
                    </a:lnTo>
                    <a:lnTo>
                      <a:pt x="235" y="184"/>
                    </a:lnTo>
                    <a:lnTo>
                      <a:pt x="228" y="194"/>
                    </a:lnTo>
                    <a:lnTo>
                      <a:pt x="221" y="204"/>
                    </a:lnTo>
                    <a:lnTo>
                      <a:pt x="213" y="213"/>
                    </a:lnTo>
                    <a:lnTo>
                      <a:pt x="205" y="221"/>
                    </a:lnTo>
                    <a:lnTo>
                      <a:pt x="195" y="228"/>
                    </a:lnTo>
                    <a:lnTo>
                      <a:pt x="184" y="235"/>
                    </a:lnTo>
                    <a:lnTo>
                      <a:pt x="173" y="240"/>
                    </a:lnTo>
                    <a:lnTo>
                      <a:pt x="162" y="244"/>
                    </a:lnTo>
                    <a:lnTo>
                      <a:pt x="151" y="246"/>
                    </a:lnTo>
                    <a:lnTo>
                      <a:pt x="138" y="249"/>
                    </a:lnTo>
                    <a:lnTo>
                      <a:pt x="132" y="249"/>
                    </a:lnTo>
                    <a:lnTo>
                      <a:pt x="126" y="249"/>
                    </a:lnTo>
                    <a:lnTo>
                      <a:pt x="119" y="249"/>
                    </a:lnTo>
                    <a:lnTo>
                      <a:pt x="112" y="249"/>
                    </a:lnTo>
                    <a:lnTo>
                      <a:pt x="99" y="246"/>
                    </a:lnTo>
                    <a:lnTo>
                      <a:pt x="88" y="244"/>
                    </a:lnTo>
                    <a:lnTo>
                      <a:pt x="77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7" y="213"/>
                    </a:lnTo>
                    <a:lnTo>
                      <a:pt x="29" y="204"/>
                    </a:lnTo>
                    <a:lnTo>
                      <a:pt x="22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7" y="163"/>
                    </a:lnTo>
                    <a:lnTo>
                      <a:pt x="3" y="150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6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3" y="100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9" y="45"/>
                    </a:lnTo>
                    <a:lnTo>
                      <a:pt x="37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7" y="10"/>
                    </a:lnTo>
                    <a:lnTo>
                      <a:pt x="88" y="6"/>
                    </a:lnTo>
                    <a:lnTo>
                      <a:pt x="99" y="2"/>
                    </a:lnTo>
                    <a:lnTo>
                      <a:pt x="112" y="1"/>
                    </a:lnTo>
                    <a:lnTo>
                      <a:pt x="119" y="1"/>
                    </a:lnTo>
                    <a:lnTo>
                      <a:pt x="126" y="0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51" y="2"/>
                    </a:lnTo>
                    <a:lnTo>
                      <a:pt x="162" y="6"/>
                    </a:lnTo>
                    <a:lnTo>
                      <a:pt x="173" y="10"/>
                    </a:lnTo>
                    <a:lnTo>
                      <a:pt x="184" y="15"/>
                    </a:lnTo>
                    <a:lnTo>
                      <a:pt x="195" y="21"/>
                    </a:lnTo>
                    <a:lnTo>
                      <a:pt x="205" y="29"/>
                    </a:lnTo>
                    <a:lnTo>
                      <a:pt x="213" y="37"/>
                    </a:lnTo>
                    <a:lnTo>
                      <a:pt x="221" y="45"/>
                    </a:lnTo>
                    <a:lnTo>
                      <a:pt x="228" y="56"/>
                    </a:lnTo>
                    <a:lnTo>
                      <a:pt x="235" y="66"/>
                    </a:lnTo>
                    <a:lnTo>
                      <a:pt x="240" y="77"/>
                    </a:lnTo>
                    <a:lnTo>
                      <a:pt x="245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50" y="112"/>
                    </a:lnTo>
                    <a:lnTo>
                      <a:pt x="250" y="120"/>
                    </a:lnTo>
                    <a:lnTo>
                      <a:pt x="250" y="126"/>
                    </a:lnTo>
                    <a:lnTo>
                      <a:pt x="250" y="12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4894560" y="5343120"/>
                <a:ext cx="803520" cy="4017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2606760" y="5466240"/>
                <a:ext cx="24480" cy="445320"/>
              </a:xfrm>
              <a:prstGeom prst="rect">
                <a:avLst/>
              </a:prstGeom>
              <a:solidFill>
                <a:srgbClr val="47474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2631240" y="5466240"/>
                <a:ext cx="24120" cy="445320"/>
              </a:xfrm>
              <a:prstGeom prst="rect">
                <a:avLst/>
              </a:prstGeom>
              <a:solidFill>
                <a:srgbClr val="46464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2655720" y="5466240"/>
                <a:ext cx="24120" cy="445320"/>
              </a:xfrm>
              <a:prstGeom prst="rect">
                <a:avLst/>
              </a:prstGeom>
              <a:solidFill>
                <a:srgbClr val="60606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2620080" y="5478480"/>
                <a:ext cx="65160" cy="437400"/>
              </a:xfrm>
              <a:custGeom>
                <a:avLst/>
                <a:gdLst/>
                <a:ahLst/>
                <a:rect l="l" t="t" r="r" b="b"/>
                <a:pathLst>
                  <a:path w="95" h="786">
                    <a:moveTo>
                      <a:pt x="90" y="786"/>
                    </a:moveTo>
                    <a:lnTo>
                      <a:pt x="4" y="786"/>
                    </a:lnTo>
                    <a:lnTo>
                      <a:pt x="2" y="785"/>
                    </a:lnTo>
                    <a:lnTo>
                      <a:pt x="1" y="784"/>
                    </a:lnTo>
                    <a:lnTo>
                      <a:pt x="0" y="782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4" y="2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779"/>
                    </a:lnTo>
                    <a:lnTo>
                      <a:pt x="94" y="782"/>
                    </a:lnTo>
                    <a:lnTo>
                      <a:pt x="93" y="784"/>
                    </a:lnTo>
                    <a:lnTo>
                      <a:pt x="91" y="785"/>
                    </a:lnTo>
                    <a:lnTo>
                      <a:pt x="90" y="7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2896200" y="5844960"/>
                <a:ext cx="838080" cy="59760"/>
              </a:xfrm>
              <a:custGeom>
                <a:avLst/>
                <a:gdLst/>
                <a:ahLst/>
                <a:rect l="l" t="t" r="r" b="b"/>
                <a:pathLst>
                  <a:path w="1231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77" y="0"/>
                    </a:moveTo>
                    <a:lnTo>
                      <a:pt x="1077" y="104"/>
                    </a:lnTo>
                    <a:lnTo>
                      <a:pt x="1077" y="106"/>
                    </a:lnTo>
                    <a:lnTo>
                      <a:pt x="1077" y="107"/>
                    </a:lnTo>
                    <a:lnTo>
                      <a:pt x="1078" y="108"/>
                    </a:lnTo>
                    <a:lnTo>
                      <a:pt x="1080" y="108"/>
                    </a:lnTo>
                    <a:lnTo>
                      <a:pt x="1080" y="108"/>
                    </a:lnTo>
                    <a:lnTo>
                      <a:pt x="1229" y="108"/>
                    </a:lnTo>
                    <a:lnTo>
                      <a:pt x="1229" y="108"/>
                    </a:lnTo>
                    <a:lnTo>
                      <a:pt x="1230" y="107"/>
                    </a:lnTo>
                    <a:lnTo>
                      <a:pt x="1231" y="106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0"/>
                    </a:lnTo>
                    <a:lnTo>
                      <a:pt x="1077" y="0"/>
                    </a:lnTo>
                    <a:lnTo>
                      <a:pt x="1077" y="0"/>
                    </a:lnTo>
                    <a:close/>
                  </a:path>
                </a:pathLst>
              </a:custGeom>
              <a:solidFill>
                <a:srgbClr val="c5c5c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2896200" y="584496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3629520" y="584496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3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4128840" y="5335200"/>
                <a:ext cx="415800" cy="3319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4128840" y="5335200"/>
                <a:ext cx="415800" cy="33192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4132800" y="5515200"/>
                <a:ext cx="410760" cy="15192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4132800" y="5515200"/>
                <a:ext cx="410760" cy="15192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2893680" y="5334120"/>
                <a:ext cx="1928520" cy="588600"/>
              </a:xfrm>
              <a:custGeom>
                <a:avLst/>
                <a:gdLst/>
                <a:ahLst/>
                <a:rect l="l" t="t" r="r" b="b"/>
                <a:pathLst>
                  <a:path w="2835" h="1060">
                    <a:moveTo>
                      <a:pt x="175" y="1060"/>
                    </a:moveTo>
                    <a:lnTo>
                      <a:pt x="326" y="1060"/>
                    </a:lnTo>
                    <a:lnTo>
                      <a:pt x="327" y="1060"/>
                    </a:lnTo>
                    <a:lnTo>
                      <a:pt x="327" y="1058"/>
                    </a:lnTo>
                    <a:lnTo>
                      <a:pt x="327" y="1057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978"/>
                    </a:lnTo>
                    <a:lnTo>
                      <a:pt x="327" y="976"/>
                    </a:lnTo>
                    <a:lnTo>
                      <a:pt x="327" y="975"/>
                    </a:lnTo>
                    <a:lnTo>
                      <a:pt x="327" y="974"/>
                    </a:lnTo>
                    <a:lnTo>
                      <a:pt x="326" y="974"/>
                    </a:lnTo>
                    <a:lnTo>
                      <a:pt x="175" y="974"/>
                    </a:lnTo>
                    <a:lnTo>
                      <a:pt x="175" y="974"/>
                    </a:lnTo>
                    <a:lnTo>
                      <a:pt x="175" y="975"/>
                    </a:lnTo>
                    <a:lnTo>
                      <a:pt x="174" y="976"/>
                    </a:lnTo>
                    <a:lnTo>
                      <a:pt x="174" y="978"/>
                    </a:lnTo>
                    <a:lnTo>
                      <a:pt x="174" y="978"/>
                    </a:lnTo>
                    <a:lnTo>
                      <a:pt x="174" y="1056"/>
                    </a:lnTo>
                    <a:lnTo>
                      <a:pt x="174" y="1057"/>
                    </a:lnTo>
                    <a:lnTo>
                      <a:pt x="175" y="1058"/>
                    </a:lnTo>
                    <a:lnTo>
                      <a:pt x="175" y="1060"/>
                    </a:lnTo>
                    <a:lnTo>
                      <a:pt x="175" y="1060"/>
                    </a:lnTo>
                    <a:lnTo>
                      <a:pt x="175" y="1060"/>
                    </a:lnTo>
                    <a:close/>
                    <a:moveTo>
                      <a:pt x="362" y="1060"/>
                    </a:moveTo>
                    <a:lnTo>
                      <a:pt x="508" y="1060"/>
                    </a:lnTo>
                    <a:lnTo>
                      <a:pt x="510" y="1060"/>
                    </a:lnTo>
                    <a:lnTo>
                      <a:pt x="511" y="1058"/>
                    </a:lnTo>
                    <a:lnTo>
                      <a:pt x="512" y="1057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978"/>
                    </a:lnTo>
                    <a:lnTo>
                      <a:pt x="512" y="976"/>
                    </a:lnTo>
                    <a:lnTo>
                      <a:pt x="511" y="975"/>
                    </a:lnTo>
                    <a:lnTo>
                      <a:pt x="510" y="974"/>
                    </a:lnTo>
                    <a:lnTo>
                      <a:pt x="508" y="974"/>
                    </a:lnTo>
                    <a:lnTo>
                      <a:pt x="362" y="974"/>
                    </a:lnTo>
                    <a:lnTo>
                      <a:pt x="359" y="974"/>
                    </a:lnTo>
                    <a:lnTo>
                      <a:pt x="358" y="975"/>
                    </a:lnTo>
                    <a:lnTo>
                      <a:pt x="357" y="976"/>
                    </a:lnTo>
                    <a:lnTo>
                      <a:pt x="357" y="978"/>
                    </a:lnTo>
                    <a:lnTo>
                      <a:pt x="357" y="978"/>
                    </a:lnTo>
                    <a:lnTo>
                      <a:pt x="357" y="1056"/>
                    </a:lnTo>
                    <a:lnTo>
                      <a:pt x="357" y="1057"/>
                    </a:lnTo>
                    <a:lnTo>
                      <a:pt x="358" y="1058"/>
                    </a:lnTo>
                    <a:lnTo>
                      <a:pt x="359" y="1060"/>
                    </a:lnTo>
                    <a:lnTo>
                      <a:pt x="362" y="1060"/>
                    </a:lnTo>
                    <a:lnTo>
                      <a:pt x="362" y="1060"/>
                    </a:lnTo>
                    <a:close/>
                    <a:moveTo>
                      <a:pt x="545" y="1060"/>
                    </a:moveTo>
                    <a:lnTo>
                      <a:pt x="694" y="1060"/>
                    </a:lnTo>
                    <a:lnTo>
                      <a:pt x="694" y="1060"/>
                    </a:lnTo>
                    <a:lnTo>
                      <a:pt x="695" y="1058"/>
                    </a:lnTo>
                    <a:lnTo>
                      <a:pt x="696" y="1057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978"/>
                    </a:lnTo>
                    <a:lnTo>
                      <a:pt x="696" y="976"/>
                    </a:lnTo>
                    <a:lnTo>
                      <a:pt x="695" y="975"/>
                    </a:lnTo>
                    <a:lnTo>
                      <a:pt x="694" y="974"/>
                    </a:lnTo>
                    <a:lnTo>
                      <a:pt x="694" y="974"/>
                    </a:lnTo>
                    <a:lnTo>
                      <a:pt x="545" y="974"/>
                    </a:lnTo>
                    <a:lnTo>
                      <a:pt x="544" y="974"/>
                    </a:lnTo>
                    <a:lnTo>
                      <a:pt x="542" y="975"/>
                    </a:lnTo>
                    <a:lnTo>
                      <a:pt x="542" y="976"/>
                    </a:lnTo>
                    <a:lnTo>
                      <a:pt x="542" y="978"/>
                    </a:lnTo>
                    <a:lnTo>
                      <a:pt x="542" y="978"/>
                    </a:lnTo>
                    <a:lnTo>
                      <a:pt x="542" y="1056"/>
                    </a:lnTo>
                    <a:lnTo>
                      <a:pt x="542" y="1057"/>
                    </a:lnTo>
                    <a:lnTo>
                      <a:pt x="542" y="1058"/>
                    </a:lnTo>
                    <a:lnTo>
                      <a:pt x="544" y="1060"/>
                    </a:lnTo>
                    <a:lnTo>
                      <a:pt x="545" y="1060"/>
                    </a:lnTo>
                    <a:lnTo>
                      <a:pt x="545" y="1060"/>
                    </a:lnTo>
                    <a:close/>
                    <a:moveTo>
                      <a:pt x="730" y="1060"/>
                    </a:moveTo>
                    <a:lnTo>
                      <a:pt x="877" y="1060"/>
                    </a:lnTo>
                    <a:lnTo>
                      <a:pt x="879" y="1060"/>
                    </a:lnTo>
                    <a:lnTo>
                      <a:pt x="881" y="1058"/>
                    </a:lnTo>
                    <a:lnTo>
                      <a:pt x="882" y="1057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978"/>
                    </a:lnTo>
                    <a:lnTo>
                      <a:pt x="882" y="976"/>
                    </a:lnTo>
                    <a:lnTo>
                      <a:pt x="881" y="975"/>
                    </a:lnTo>
                    <a:lnTo>
                      <a:pt x="879" y="974"/>
                    </a:lnTo>
                    <a:lnTo>
                      <a:pt x="877" y="974"/>
                    </a:lnTo>
                    <a:lnTo>
                      <a:pt x="730" y="974"/>
                    </a:lnTo>
                    <a:lnTo>
                      <a:pt x="729" y="974"/>
                    </a:lnTo>
                    <a:lnTo>
                      <a:pt x="728" y="975"/>
                    </a:lnTo>
                    <a:lnTo>
                      <a:pt x="727" y="976"/>
                    </a:lnTo>
                    <a:lnTo>
                      <a:pt x="725" y="978"/>
                    </a:lnTo>
                    <a:lnTo>
                      <a:pt x="725" y="978"/>
                    </a:lnTo>
                    <a:lnTo>
                      <a:pt x="725" y="1056"/>
                    </a:lnTo>
                    <a:lnTo>
                      <a:pt x="727" y="1057"/>
                    </a:lnTo>
                    <a:lnTo>
                      <a:pt x="728" y="1058"/>
                    </a:lnTo>
                    <a:lnTo>
                      <a:pt x="729" y="1060"/>
                    </a:lnTo>
                    <a:lnTo>
                      <a:pt x="730" y="1060"/>
                    </a:lnTo>
                    <a:lnTo>
                      <a:pt x="730" y="1060"/>
                    </a:lnTo>
                    <a:close/>
                    <a:moveTo>
                      <a:pt x="913" y="1060"/>
                    </a:moveTo>
                    <a:lnTo>
                      <a:pt x="1061" y="1060"/>
                    </a:lnTo>
                    <a:lnTo>
                      <a:pt x="1062" y="1060"/>
                    </a:lnTo>
                    <a:lnTo>
                      <a:pt x="1064" y="1058"/>
                    </a:lnTo>
                    <a:lnTo>
                      <a:pt x="1065" y="1057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978"/>
                    </a:lnTo>
                    <a:lnTo>
                      <a:pt x="1065" y="976"/>
                    </a:lnTo>
                    <a:lnTo>
                      <a:pt x="1064" y="975"/>
                    </a:lnTo>
                    <a:lnTo>
                      <a:pt x="1062" y="974"/>
                    </a:lnTo>
                    <a:lnTo>
                      <a:pt x="1061" y="974"/>
                    </a:lnTo>
                    <a:lnTo>
                      <a:pt x="1061" y="974"/>
                    </a:lnTo>
                    <a:lnTo>
                      <a:pt x="913" y="974"/>
                    </a:lnTo>
                    <a:lnTo>
                      <a:pt x="912" y="974"/>
                    </a:lnTo>
                    <a:lnTo>
                      <a:pt x="912" y="975"/>
                    </a:lnTo>
                    <a:lnTo>
                      <a:pt x="912" y="976"/>
                    </a:lnTo>
                    <a:lnTo>
                      <a:pt x="912" y="978"/>
                    </a:lnTo>
                    <a:lnTo>
                      <a:pt x="912" y="978"/>
                    </a:lnTo>
                    <a:lnTo>
                      <a:pt x="912" y="1056"/>
                    </a:lnTo>
                    <a:lnTo>
                      <a:pt x="912" y="1057"/>
                    </a:lnTo>
                    <a:lnTo>
                      <a:pt x="912" y="1058"/>
                    </a:lnTo>
                    <a:lnTo>
                      <a:pt x="912" y="1060"/>
                    </a:lnTo>
                    <a:lnTo>
                      <a:pt x="913" y="1060"/>
                    </a:lnTo>
                    <a:lnTo>
                      <a:pt x="913" y="1060"/>
                    </a:lnTo>
                    <a:close/>
                    <a:moveTo>
                      <a:pt x="4" y="643"/>
                    </a:moveTo>
                    <a:lnTo>
                      <a:pt x="151" y="643"/>
                    </a:lnTo>
                    <a:lnTo>
                      <a:pt x="153" y="643"/>
                    </a:lnTo>
                    <a:lnTo>
                      <a:pt x="154" y="643"/>
                    </a:lnTo>
                    <a:lnTo>
                      <a:pt x="155" y="642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581"/>
                    </a:lnTo>
                    <a:lnTo>
                      <a:pt x="155" y="581"/>
                    </a:lnTo>
                    <a:lnTo>
                      <a:pt x="154" y="580"/>
                    </a:lnTo>
                    <a:lnTo>
                      <a:pt x="153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4" y="580"/>
                    </a:lnTo>
                    <a:lnTo>
                      <a:pt x="2" y="580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641"/>
                    </a:lnTo>
                    <a:lnTo>
                      <a:pt x="0" y="642"/>
                    </a:lnTo>
                    <a:lnTo>
                      <a:pt x="1" y="643"/>
                    </a:lnTo>
                    <a:lnTo>
                      <a:pt x="2" y="643"/>
                    </a:lnTo>
                    <a:lnTo>
                      <a:pt x="4" y="643"/>
                    </a:lnTo>
                    <a:lnTo>
                      <a:pt x="4" y="643"/>
                    </a:lnTo>
                    <a:close/>
                    <a:moveTo>
                      <a:pt x="352" y="643"/>
                    </a:moveTo>
                    <a:lnTo>
                      <a:pt x="466" y="643"/>
                    </a:lnTo>
                    <a:lnTo>
                      <a:pt x="467" y="643"/>
                    </a:lnTo>
                    <a:lnTo>
                      <a:pt x="468" y="643"/>
                    </a:lnTo>
                    <a:lnTo>
                      <a:pt x="470" y="642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581"/>
                    </a:lnTo>
                    <a:lnTo>
                      <a:pt x="470" y="581"/>
                    </a:lnTo>
                    <a:lnTo>
                      <a:pt x="468" y="580"/>
                    </a:lnTo>
                    <a:lnTo>
                      <a:pt x="467" y="580"/>
                    </a:lnTo>
                    <a:lnTo>
                      <a:pt x="466" y="580"/>
                    </a:lnTo>
                    <a:lnTo>
                      <a:pt x="466" y="580"/>
                    </a:lnTo>
                    <a:lnTo>
                      <a:pt x="352" y="580"/>
                    </a:lnTo>
                    <a:lnTo>
                      <a:pt x="351" y="580"/>
                    </a:lnTo>
                    <a:lnTo>
                      <a:pt x="349" y="580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641"/>
                    </a:lnTo>
                    <a:lnTo>
                      <a:pt x="348" y="642"/>
                    </a:lnTo>
                    <a:lnTo>
                      <a:pt x="349" y="643"/>
                    </a:lnTo>
                    <a:lnTo>
                      <a:pt x="351" y="643"/>
                    </a:lnTo>
                    <a:lnTo>
                      <a:pt x="352" y="643"/>
                    </a:lnTo>
                    <a:lnTo>
                      <a:pt x="352" y="643"/>
                    </a:lnTo>
                    <a:close/>
                    <a:moveTo>
                      <a:pt x="502" y="643"/>
                    </a:moveTo>
                    <a:lnTo>
                      <a:pt x="617" y="643"/>
                    </a:lnTo>
                    <a:lnTo>
                      <a:pt x="619" y="643"/>
                    </a:lnTo>
                    <a:lnTo>
                      <a:pt x="619" y="643"/>
                    </a:lnTo>
                    <a:lnTo>
                      <a:pt x="619" y="642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581"/>
                    </a:lnTo>
                    <a:lnTo>
                      <a:pt x="619" y="581"/>
                    </a:lnTo>
                    <a:lnTo>
                      <a:pt x="619" y="580"/>
                    </a:lnTo>
                    <a:lnTo>
                      <a:pt x="619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502" y="580"/>
                    </a:lnTo>
                    <a:lnTo>
                      <a:pt x="501" y="580"/>
                    </a:lnTo>
                    <a:lnTo>
                      <a:pt x="500" y="580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641"/>
                    </a:lnTo>
                    <a:lnTo>
                      <a:pt x="500" y="642"/>
                    </a:lnTo>
                    <a:lnTo>
                      <a:pt x="500" y="643"/>
                    </a:lnTo>
                    <a:lnTo>
                      <a:pt x="501" y="643"/>
                    </a:lnTo>
                    <a:lnTo>
                      <a:pt x="502" y="643"/>
                    </a:lnTo>
                    <a:lnTo>
                      <a:pt x="502" y="643"/>
                    </a:lnTo>
                    <a:close/>
                    <a:moveTo>
                      <a:pt x="651" y="643"/>
                    </a:moveTo>
                    <a:lnTo>
                      <a:pt x="767" y="643"/>
                    </a:lnTo>
                    <a:lnTo>
                      <a:pt x="768" y="643"/>
                    </a:lnTo>
                    <a:lnTo>
                      <a:pt x="769" y="643"/>
                    </a:lnTo>
                    <a:lnTo>
                      <a:pt x="770" y="642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581"/>
                    </a:lnTo>
                    <a:lnTo>
                      <a:pt x="770" y="581"/>
                    </a:lnTo>
                    <a:lnTo>
                      <a:pt x="769" y="580"/>
                    </a:lnTo>
                    <a:lnTo>
                      <a:pt x="768" y="580"/>
                    </a:lnTo>
                    <a:lnTo>
                      <a:pt x="767" y="580"/>
                    </a:lnTo>
                    <a:lnTo>
                      <a:pt x="767" y="580"/>
                    </a:lnTo>
                    <a:lnTo>
                      <a:pt x="651" y="580"/>
                    </a:lnTo>
                    <a:lnTo>
                      <a:pt x="651" y="580"/>
                    </a:lnTo>
                    <a:lnTo>
                      <a:pt x="650" y="580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641"/>
                    </a:lnTo>
                    <a:lnTo>
                      <a:pt x="649" y="642"/>
                    </a:lnTo>
                    <a:lnTo>
                      <a:pt x="650" y="643"/>
                    </a:lnTo>
                    <a:lnTo>
                      <a:pt x="651" y="643"/>
                    </a:lnTo>
                    <a:lnTo>
                      <a:pt x="651" y="643"/>
                    </a:lnTo>
                    <a:lnTo>
                      <a:pt x="651" y="643"/>
                    </a:lnTo>
                    <a:close/>
                    <a:moveTo>
                      <a:pt x="971" y="643"/>
                    </a:moveTo>
                    <a:lnTo>
                      <a:pt x="1086" y="643"/>
                    </a:lnTo>
                    <a:lnTo>
                      <a:pt x="1087" y="643"/>
                    </a:lnTo>
                    <a:lnTo>
                      <a:pt x="1087" y="643"/>
                    </a:lnTo>
                    <a:lnTo>
                      <a:pt x="1087" y="642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581"/>
                    </a:lnTo>
                    <a:lnTo>
                      <a:pt x="1087" y="581"/>
                    </a:lnTo>
                    <a:lnTo>
                      <a:pt x="1087" y="580"/>
                    </a:lnTo>
                    <a:lnTo>
                      <a:pt x="1087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971" y="580"/>
                    </a:lnTo>
                    <a:lnTo>
                      <a:pt x="970" y="580"/>
                    </a:lnTo>
                    <a:lnTo>
                      <a:pt x="968" y="580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641"/>
                    </a:lnTo>
                    <a:lnTo>
                      <a:pt x="968" y="642"/>
                    </a:lnTo>
                    <a:lnTo>
                      <a:pt x="968" y="643"/>
                    </a:lnTo>
                    <a:lnTo>
                      <a:pt x="970" y="643"/>
                    </a:lnTo>
                    <a:lnTo>
                      <a:pt x="971" y="643"/>
                    </a:lnTo>
                    <a:lnTo>
                      <a:pt x="971" y="643"/>
                    </a:lnTo>
                    <a:close/>
                    <a:moveTo>
                      <a:pt x="1120" y="643"/>
                    </a:moveTo>
                    <a:lnTo>
                      <a:pt x="1235" y="643"/>
                    </a:lnTo>
                    <a:lnTo>
                      <a:pt x="1236" y="643"/>
                    </a:lnTo>
                    <a:lnTo>
                      <a:pt x="1238" y="643"/>
                    </a:lnTo>
                    <a:lnTo>
                      <a:pt x="1239" y="642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581"/>
                    </a:lnTo>
                    <a:lnTo>
                      <a:pt x="1239" y="581"/>
                    </a:lnTo>
                    <a:lnTo>
                      <a:pt x="1238" y="580"/>
                    </a:lnTo>
                    <a:lnTo>
                      <a:pt x="1236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120" y="580"/>
                    </a:lnTo>
                    <a:lnTo>
                      <a:pt x="1120" y="580"/>
                    </a:lnTo>
                    <a:lnTo>
                      <a:pt x="1119" y="580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641"/>
                    </a:lnTo>
                    <a:lnTo>
                      <a:pt x="1117" y="642"/>
                    </a:lnTo>
                    <a:lnTo>
                      <a:pt x="1119" y="643"/>
                    </a:lnTo>
                    <a:lnTo>
                      <a:pt x="1120" y="643"/>
                    </a:lnTo>
                    <a:lnTo>
                      <a:pt x="1120" y="643"/>
                    </a:lnTo>
                    <a:lnTo>
                      <a:pt x="1120" y="643"/>
                    </a:lnTo>
                    <a:close/>
                    <a:moveTo>
                      <a:pt x="1120" y="338"/>
                    </a:moveTo>
                    <a:lnTo>
                      <a:pt x="1235" y="338"/>
                    </a:lnTo>
                    <a:lnTo>
                      <a:pt x="1236" y="338"/>
                    </a:lnTo>
                    <a:lnTo>
                      <a:pt x="1238" y="338"/>
                    </a:lnTo>
                    <a:lnTo>
                      <a:pt x="1239" y="336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277"/>
                    </a:lnTo>
                    <a:lnTo>
                      <a:pt x="1239" y="274"/>
                    </a:lnTo>
                    <a:lnTo>
                      <a:pt x="1238" y="274"/>
                    </a:lnTo>
                    <a:lnTo>
                      <a:pt x="1236" y="274"/>
                    </a:lnTo>
                    <a:lnTo>
                      <a:pt x="1235" y="274"/>
                    </a:lnTo>
                    <a:lnTo>
                      <a:pt x="1235" y="274"/>
                    </a:lnTo>
                    <a:lnTo>
                      <a:pt x="1120" y="274"/>
                    </a:lnTo>
                    <a:lnTo>
                      <a:pt x="1120" y="274"/>
                    </a:lnTo>
                    <a:lnTo>
                      <a:pt x="1119" y="274"/>
                    </a:lnTo>
                    <a:lnTo>
                      <a:pt x="1117" y="274"/>
                    </a:lnTo>
                    <a:lnTo>
                      <a:pt x="1117" y="277"/>
                    </a:lnTo>
                    <a:lnTo>
                      <a:pt x="1117" y="277"/>
                    </a:lnTo>
                    <a:lnTo>
                      <a:pt x="1117" y="335"/>
                    </a:lnTo>
                    <a:lnTo>
                      <a:pt x="1117" y="336"/>
                    </a:lnTo>
                    <a:lnTo>
                      <a:pt x="1119" y="338"/>
                    </a:lnTo>
                    <a:lnTo>
                      <a:pt x="1120" y="338"/>
                    </a:lnTo>
                    <a:lnTo>
                      <a:pt x="1120" y="338"/>
                    </a:lnTo>
                    <a:lnTo>
                      <a:pt x="1120" y="338"/>
                    </a:lnTo>
                    <a:close/>
                    <a:moveTo>
                      <a:pt x="971" y="338"/>
                    </a:moveTo>
                    <a:lnTo>
                      <a:pt x="1086" y="338"/>
                    </a:lnTo>
                    <a:lnTo>
                      <a:pt x="1087" y="338"/>
                    </a:lnTo>
                    <a:lnTo>
                      <a:pt x="1087" y="338"/>
                    </a:lnTo>
                    <a:lnTo>
                      <a:pt x="1087" y="336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277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6" y="274"/>
                    </a:lnTo>
                    <a:lnTo>
                      <a:pt x="1086" y="274"/>
                    </a:lnTo>
                    <a:lnTo>
                      <a:pt x="971" y="274"/>
                    </a:lnTo>
                    <a:lnTo>
                      <a:pt x="970" y="274"/>
                    </a:lnTo>
                    <a:lnTo>
                      <a:pt x="968" y="274"/>
                    </a:lnTo>
                    <a:lnTo>
                      <a:pt x="968" y="274"/>
                    </a:lnTo>
                    <a:lnTo>
                      <a:pt x="968" y="277"/>
                    </a:lnTo>
                    <a:lnTo>
                      <a:pt x="968" y="277"/>
                    </a:lnTo>
                    <a:lnTo>
                      <a:pt x="968" y="335"/>
                    </a:lnTo>
                    <a:lnTo>
                      <a:pt x="968" y="336"/>
                    </a:lnTo>
                    <a:lnTo>
                      <a:pt x="968" y="338"/>
                    </a:lnTo>
                    <a:lnTo>
                      <a:pt x="970" y="338"/>
                    </a:lnTo>
                    <a:lnTo>
                      <a:pt x="971" y="338"/>
                    </a:lnTo>
                    <a:lnTo>
                      <a:pt x="971" y="338"/>
                    </a:lnTo>
                    <a:close/>
                    <a:moveTo>
                      <a:pt x="651" y="338"/>
                    </a:moveTo>
                    <a:lnTo>
                      <a:pt x="767" y="338"/>
                    </a:lnTo>
                    <a:lnTo>
                      <a:pt x="768" y="338"/>
                    </a:lnTo>
                    <a:lnTo>
                      <a:pt x="769" y="338"/>
                    </a:lnTo>
                    <a:lnTo>
                      <a:pt x="770" y="336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277"/>
                    </a:lnTo>
                    <a:lnTo>
                      <a:pt x="770" y="274"/>
                    </a:lnTo>
                    <a:lnTo>
                      <a:pt x="769" y="274"/>
                    </a:lnTo>
                    <a:lnTo>
                      <a:pt x="768" y="274"/>
                    </a:lnTo>
                    <a:lnTo>
                      <a:pt x="767" y="274"/>
                    </a:lnTo>
                    <a:lnTo>
                      <a:pt x="651" y="274"/>
                    </a:lnTo>
                    <a:lnTo>
                      <a:pt x="651" y="274"/>
                    </a:lnTo>
                    <a:lnTo>
                      <a:pt x="650" y="274"/>
                    </a:lnTo>
                    <a:lnTo>
                      <a:pt x="649" y="274"/>
                    </a:lnTo>
                    <a:lnTo>
                      <a:pt x="649" y="277"/>
                    </a:lnTo>
                    <a:lnTo>
                      <a:pt x="649" y="277"/>
                    </a:lnTo>
                    <a:lnTo>
                      <a:pt x="649" y="335"/>
                    </a:lnTo>
                    <a:lnTo>
                      <a:pt x="649" y="336"/>
                    </a:lnTo>
                    <a:lnTo>
                      <a:pt x="650" y="338"/>
                    </a:lnTo>
                    <a:lnTo>
                      <a:pt x="651" y="338"/>
                    </a:lnTo>
                    <a:lnTo>
                      <a:pt x="651" y="338"/>
                    </a:lnTo>
                    <a:lnTo>
                      <a:pt x="651" y="338"/>
                    </a:lnTo>
                    <a:close/>
                    <a:moveTo>
                      <a:pt x="502" y="338"/>
                    </a:moveTo>
                    <a:lnTo>
                      <a:pt x="617" y="338"/>
                    </a:lnTo>
                    <a:lnTo>
                      <a:pt x="619" y="338"/>
                    </a:lnTo>
                    <a:lnTo>
                      <a:pt x="619" y="338"/>
                    </a:lnTo>
                    <a:lnTo>
                      <a:pt x="619" y="336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277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7" y="274"/>
                    </a:lnTo>
                    <a:lnTo>
                      <a:pt x="617" y="274"/>
                    </a:lnTo>
                    <a:lnTo>
                      <a:pt x="502" y="274"/>
                    </a:lnTo>
                    <a:lnTo>
                      <a:pt x="501" y="274"/>
                    </a:lnTo>
                    <a:lnTo>
                      <a:pt x="500" y="274"/>
                    </a:lnTo>
                    <a:lnTo>
                      <a:pt x="500" y="274"/>
                    </a:lnTo>
                    <a:lnTo>
                      <a:pt x="500" y="277"/>
                    </a:lnTo>
                    <a:lnTo>
                      <a:pt x="500" y="277"/>
                    </a:lnTo>
                    <a:lnTo>
                      <a:pt x="500" y="335"/>
                    </a:lnTo>
                    <a:lnTo>
                      <a:pt x="500" y="336"/>
                    </a:lnTo>
                    <a:lnTo>
                      <a:pt x="500" y="338"/>
                    </a:lnTo>
                    <a:lnTo>
                      <a:pt x="501" y="338"/>
                    </a:lnTo>
                    <a:lnTo>
                      <a:pt x="502" y="338"/>
                    </a:lnTo>
                    <a:lnTo>
                      <a:pt x="502" y="338"/>
                    </a:lnTo>
                    <a:close/>
                    <a:moveTo>
                      <a:pt x="352" y="338"/>
                    </a:moveTo>
                    <a:lnTo>
                      <a:pt x="466" y="338"/>
                    </a:lnTo>
                    <a:lnTo>
                      <a:pt x="467" y="338"/>
                    </a:lnTo>
                    <a:lnTo>
                      <a:pt x="468" y="338"/>
                    </a:lnTo>
                    <a:lnTo>
                      <a:pt x="470" y="336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277"/>
                    </a:lnTo>
                    <a:lnTo>
                      <a:pt x="470" y="274"/>
                    </a:lnTo>
                    <a:lnTo>
                      <a:pt x="468" y="274"/>
                    </a:lnTo>
                    <a:lnTo>
                      <a:pt x="467" y="274"/>
                    </a:lnTo>
                    <a:lnTo>
                      <a:pt x="466" y="274"/>
                    </a:lnTo>
                    <a:lnTo>
                      <a:pt x="352" y="274"/>
                    </a:lnTo>
                    <a:lnTo>
                      <a:pt x="351" y="274"/>
                    </a:lnTo>
                    <a:lnTo>
                      <a:pt x="349" y="274"/>
                    </a:lnTo>
                    <a:lnTo>
                      <a:pt x="348" y="274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335"/>
                    </a:lnTo>
                    <a:lnTo>
                      <a:pt x="348" y="336"/>
                    </a:lnTo>
                    <a:lnTo>
                      <a:pt x="349" y="338"/>
                    </a:lnTo>
                    <a:lnTo>
                      <a:pt x="351" y="338"/>
                    </a:lnTo>
                    <a:lnTo>
                      <a:pt x="352" y="338"/>
                    </a:lnTo>
                    <a:lnTo>
                      <a:pt x="352" y="338"/>
                    </a:lnTo>
                    <a:close/>
                    <a:moveTo>
                      <a:pt x="4" y="338"/>
                    </a:moveTo>
                    <a:lnTo>
                      <a:pt x="151" y="338"/>
                    </a:lnTo>
                    <a:lnTo>
                      <a:pt x="153" y="338"/>
                    </a:lnTo>
                    <a:lnTo>
                      <a:pt x="154" y="338"/>
                    </a:lnTo>
                    <a:lnTo>
                      <a:pt x="155" y="336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277"/>
                    </a:lnTo>
                    <a:lnTo>
                      <a:pt x="155" y="274"/>
                    </a:lnTo>
                    <a:lnTo>
                      <a:pt x="154" y="274"/>
                    </a:lnTo>
                    <a:lnTo>
                      <a:pt x="153" y="274"/>
                    </a:lnTo>
                    <a:lnTo>
                      <a:pt x="151" y="274"/>
                    </a:lnTo>
                    <a:lnTo>
                      <a:pt x="4" y="274"/>
                    </a:lnTo>
                    <a:lnTo>
                      <a:pt x="2" y="274"/>
                    </a:lnTo>
                    <a:lnTo>
                      <a:pt x="1" y="274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335"/>
                    </a:lnTo>
                    <a:lnTo>
                      <a:pt x="0" y="336"/>
                    </a:lnTo>
                    <a:lnTo>
                      <a:pt x="1" y="338"/>
                    </a:lnTo>
                    <a:lnTo>
                      <a:pt x="2" y="338"/>
                    </a:lnTo>
                    <a:lnTo>
                      <a:pt x="4" y="338"/>
                    </a:lnTo>
                    <a:lnTo>
                      <a:pt x="4" y="338"/>
                    </a:lnTo>
                    <a:close/>
                    <a:moveTo>
                      <a:pt x="1849" y="74"/>
                    </a:moveTo>
                    <a:lnTo>
                      <a:pt x="1849" y="156"/>
                    </a:lnTo>
                    <a:lnTo>
                      <a:pt x="1849" y="157"/>
                    </a:lnTo>
                    <a:lnTo>
                      <a:pt x="1850" y="157"/>
                    </a:lnTo>
                    <a:lnTo>
                      <a:pt x="1852" y="158"/>
                    </a:lnTo>
                    <a:lnTo>
                      <a:pt x="1853" y="158"/>
                    </a:lnTo>
                    <a:lnTo>
                      <a:pt x="1853" y="158"/>
                    </a:lnTo>
                    <a:lnTo>
                      <a:pt x="1912" y="158"/>
                    </a:lnTo>
                    <a:lnTo>
                      <a:pt x="1913" y="158"/>
                    </a:lnTo>
                    <a:lnTo>
                      <a:pt x="1914" y="157"/>
                    </a:lnTo>
                    <a:lnTo>
                      <a:pt x="1914" y="157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74"/>
                    </a:lnTo>
                    <a:lnTo>
                      <a:pt x="1914" y="72"/>
                    </a:lnTo>
                    <a:lnTo>
                      <a:pt x="1914" y="71"/>
                    </a:lnTo>
                    <a:lnTo>
                      <a:pt x="1913" y="71"/>
                    </a:lnTo>
                    <a:lnTo>
                      <a:pt x="1912" y="71"/>
                    </a:lnTo>
                    <a:lnTo>
                      <a:pt x="1912" y="71"/>
                    </a:lnTo>
                    <a:lnTo>
                      <a:pt x="1853" y="71"/>
                    </a:lnTo>
                    <a:lnTo>
                      <a:pt x="1852" y="71"/>
                    </a:lnTo>
                    <a:lnTo>
                      <a:pt x="1850" y="71"/>
                    </a:lnTo>
                    <a:lnTo>
                      <a:pt x="1849" y="72"/>
                    </a:lnTo>
                    <a:lnTo>
                      <a:pt x="1849" y="74"/>
                    </a:lnTo>
                    <a:lnTo>
                      <a:pt x="1849" y="74"/>
                    </a:lnTo>
                    <a:close/>
                    <a:moveTo>
                      <a:pt x="1968" y="0"/>
                    </a:moveTo>
                    <a:lnTo>
                      <a:pt x="1968" y="80"/>
                    </a:lnTo>
                    <a:lnTo>
                      <a:pt x="1969" y="83"/>
                    </a:lnTo>
                    <a:lnTo>
                      <a:pt x="1969" y="84"/>
                    </a:lnTo>
                    <a:lnTo>
                      <a:pt x="1972" y="85"/>
                    </a:lnTo>
                    <a:lnTo>
                      <a:pt x="1973" y="85"/>
                    </a:lnTo>
                    <a:lnTo>
                      <a:pt x="1973" y="85"/>
                    </a:lnTo>
                    <a:lnTo>
                      <a:pt x="2066" y="85"/>
                    </a:lnTo>
                    <a:lnTo>
                      <a:pt x="2067" y="85"/>
                    </a:lnTo>
                    <a:lnTo>
                      <a:pt x="2068" y="84"/>
                    </a:lnTo>
                    <a:lnTo>
                      <a:pt x="2070" y="83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0"/>
                    </a:lnTo>
                    <a:lnTo>
                      <a:pt x="1968" y="0"/>
                    </a:lnTo>
                    <a:lnTo>
                      <a:pt x="1968" y="0"/>
                    </a:lnTo>
                    <a:close/>
                    <a:moveTo>
                      <a:pt x="2010" y="190"/>
                    </a:moveTo>
                    <a:lnTo>
                      <a:pt x="2010" y="274"/>
                    </a:lnTo>
                    <a:lnTo>
                      <a:pt x="2010" y="274"/>
                    </a:lnTo>
                    <a:lnTo>
                      <a:pt x="2011" y="276"/>
                    </a:lnTo>
                    <a:lnTo>
                      <a:pt x="2012" y="276"/>
                    </a:lnTo>
                    <a:lnTo>
                      <a:pt x="2013" y="277"/>
                    </a:lnTo>
                    <a:lnTo>
                      <a:pt x="2013" y="277"/>
                    </a:lnTo>
                    <a:lnTo>
                      <a:pt x="2072" y="277"/>
                    </a:lnTo>
                    <a:lnTo>
                      <a:pt x="2073" y="276"/>
                    </a:lnTo>
                    <a:lnTo>
                      <a:pt x="2075" y="276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190"/>
                    </a:lnTo>
                    <a:lnTo>
                      <a:pt x="2075" y="189"/>
                    </a:lnTo>
                    <a:lnTo>
                      <a:pt x="2075" y="187"/>
                    </a:lnTo>
                    <a:lnTo>
                      <a:pt x="2073" y="187"/>
                    </a:lnTo>
                    <a:lnTo>
                      <a:pt x="2072" y="187"/>
                    </a:lnTo>
                    <a:lnTo>
                      <a:pt x="2013" y="187"/>
                    </a:lnTo>
                    <a:lnTo>
                      <a:pt x="2012" y="187"/>
                    </a:lnTo>
                    <a:lnTo>
                      <a:pt x="2011" y="187"/>
                    </a:lnTo>
                    <a:lnTo>
                      <a:pt x="2010" y="189"/>
                    </a:lnTo>
                    <a:lnTo>
                      <a:pt x="2010" y="190"/>
                    </a:lnTo>
                    <a:lnTo>
                      <a:pt x="2010" y="190"/>
                    </a:lnTo>
                    <a:close/>
                    <a:moveTo>
                      <a:pt x="2127" y="190"/>
                    </a:moveTo>
                    <a:lnTo>
                      <a:pt x="2127" y="274"/>
                    </a:lnTo>
                    <a:lnTo>
                      <a:pt x="2127" y="274"/>
                    </a:lnTo>
                    <a:lnTo>
                      <a:pt x="2129" y="276"/>
                    </a:lnTo>
                    <a:lnTo>
                      <a:pt x="2130" y="276"/>
                    </a:lnTo>
                    <a:lnTo>
                      <a:pt x="2131" y="277"/>
                    </a:lnTo>
                    <a:lnTo>
                      <a:pt x="2131" y="277"/>
                    </a:lnTo>
                    <a:lnTo>
                      <a:pt x="2190" y="277"/>
                    </a:lnTo>
                    <a:lnTo>
                      <a:pt x="2192" y="276"/>
                    </a:lnTo>
                    <a:lnTo>
                      <a:pt x="2194" y="276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190"/>
                    </a:lnTo>
                    <a:lnTo>
                      <a:pt x="2195" y="189"/>
                    </a:lnTo>
                    <a:lnTo>
                      <a:pt x="2194" y="187"/>
                    </a:lnTo>
                    <a:lnTo>
                      <a:pt x="2192" y="187"/>
                    </a:lnTo>
                    <a:lnTo>
                      <a:pt x="2190" y="187"/>
                    </a:lnTo>
                    <a:lnTo>
                      <a:pt x="2131" y="187"/>
                    </a:lnTo>
                    <a:lnTo>
                      <a:pt x="2130" y="187"/>
                    </a:lnTo>
                    <a:lnTo>
                      <a:pt x="2129" y="187"/>
                    </a:lnTo>
                    <a:lnTo>
                      <a:pt x="2127" y="189"/>
                    </a:lnTo>
                    <a:lnTo>
                      <a:pt x="2127" y="190"/>
                    </a:lnTo>
                    <a:lnTo>
                      <a:pt x="2127" y="190"/>
                    </a:lnTo>
                    <a:close/>
                    <a:moveTo>
                      <a:pt x="2270" y="190"/>
                    </a:moveTo>
                    <a:lnTo>
                      <a:pt x="2270" y="274"/>
                    </a:lnTo>
                    <a:lnTo>
                      <a:pt x="2270" y="274"/>
                    </a:lnTo>
                    <a:lnTo>
                      <a:pt x="2271" y="276"/>
                    </a:lnTo>
                    <a:lnTo>
                      <a:pt x="2273" y="276"/>
                    </a:lnTo>
                    <a:lnTo>
                      <a:pt x="2274" y="277"/>
                    </a:lnTo>
                    <a:lnTo>
                      <a:pt x="2274" y="277"/>
                    </a:lnTo>
                    <a:lnTo>
                      <a:pt x="2333" y="277"/>
                    </a:lnTo>
                    <a:lnTo>
                      <a:pt x="2334" y="276"/>
                    </a:lnTo>
                    <a:lnTo>
                      <a:pt x="2337" y="276"/>
                    </a:lnTo>
                    <a:lnTo>
                      <a:pt x="2337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190"/>
                    </a:lnTo>
                    <a:lnTo>
                      <a:pt x="2337" y="189"/>
                    </a:lnTo>
                    <a:lnTo>
                      <a:pt x="2337" y="187"/>
                    </a:lnTo>
                    <a:lnTo>
                      <a:pt x="2334" y="187"/>
                    </a:lnTo>
                    <a:lnTo>
                      <a:pt x="2333" y="187"/>
                    </a:lnTo>
                    <a:lnTo>
                      <a:pt x="2274" y="187"/>
                    </a:lnTo>
                    <a:lnTo>
                      <a:pt x="2273" y="187"/>
                    </a:lnTo>
                    <a:lnTo>
                      <a:pt x="2271" y="187"/>
                    </a:lnTo>
                    <a:lnTo>
                      <a:pt x="2270" y="189"/>
                    </a:lnTo>
                    <a:lnTo>
                      <a:pt x="2270" y="190"/>
                    </a:lnTo>
                    <a:lnTo>
                      <a:pt x="2270" y="190"/>
                    </a:lnTo>
                    <a:close/>
                    <a:moveTo>
                      <a:pt x="2270" y="0"/>
                    </a:moveTo>
                    <a:lnTo>
                      <a:pt x="2270" y="80"/>
                    </a:lnTo>
                    <a:lnTo>
                      <a:pt x="2270" y="83"/>
                    </a:lnTo>
                    <a:lnTo>
                      <a:pt x="2271" y="84"/>
                    </a:lnTo>
                    <a:lnTo>
                      <a:pt x="2273" y="85"/>
                    </a:lnTo>
                    <a:lnTo>
                      <a:pt x="2274" y="85"/>
                    </a:lnTo>
                    <a:lnTo>
                      <a:pt x="2274" y="85"/>
                    </a:lnTo>
                    <a:lnTo>
                      <a:pt x="2367" y="85"/>
                    </a:lnTo>
                    <a:lnTo>
                      <a:pt x="2369" y="85"/>
                    </a:lnTo>
                    <a:lnTo>
                      <a:pt x="2370" y="84"/>
                    </a:lnTo>
                    <a:lnTo>
                      <a:pt x="2372" y="83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0"/>
                    </a:lnTo>
                    <a:lnTo>
                      <a:pt x="2270" y="0"/>
                    </a:lnTo>
                    <a:lnTo>
                      <a:pt x="2270" y="0"/>
                    </a:lnTo>
                    <a:close/>
                    <a:moveTo>
                      <a:pt x="2322" y="397"/>
                    </a:moveTo>
                    <a:lnTo>
                      <a:pt x="2322" y="392"/>
                    </a:lnTo>
                    <a:lnTo>
                      <a:pt x="2320" y="388"/>
                    </a:lnTo>
                    <a:lnTo>
                      <a:pt x="2318" y="383"/>
                    </a:lnTo>
                    <a:lnTo>
                      <a:pt x="2314" y="379"/>
                    </a:lnTo>
                    <a:lnTo>
                      <a:pt x="2310" y="377"/>
                    </a:lnTo>
                    <a:lnTo>
                      <a:pt x="2306" y="374"/>
                    </a:lnTo>
                    <a:lnTo>
                      <a:pt x="2301" y="373"/>
                    </a:lnTo>
                    <a:lnTo>
                      <a:pt x="2296" y="372"/>
                    </a:lnTo>
                    <a:lnTo>
                      <a:pt x="2291" y="373"/>
                    </a:lnTo>
                    <a:lnTo>
                      <a:pt x="2288" y="374"/>
                    </a:lnTo>
                    <a:lnTo>
                      <a:pt x="2283" y="377"/>
                    </a:lnTo>
                    <a:lnTo>
                      <a:pt x="2279" y="379"/>
                    </a:lnTo>
                    <a:lnTo>
                      <a:pt x="2276" y="383"/>
                    </a:lnTo>
                    <a:lnTo>
                      <a:pt x="2274" y="388"/>
                    </a:lnTo>
                    <a:lnTo>
                      <a:pt x="2273" y="392"/>
                    </a:lnTo>
                    <a:lnTo>
                      <a:pt x="2271" y="397"/>
                    </a:lnTo>
                    <a:lnTo>
                      <a:pt x="2273" y="402"/>
                    </a:lnTo>
                    <a:lnTo>
                      <a:pt x="2274" y="407"/>
                    </a:lnTo>
                    <a:lnTo>
                      <a:pt x="2276" y="411"/>
                    </a:lnTo>
                    <a:lnTo>
                      <a:pt x="2279" y="415"/>
                    </a:lnTo>
                    <a:lnTo>
                      <a:pt x="2283" y="418"/>
                    </a:lnTo>
                    <a:lnTo>
                      <a:pt x="2288" y="420"/>
                    </a:lnTo>
                    <a:lnTo>
                      <a:pt x="2291" y="422"/>
                    </a:lnTo>
                    <a:lnTo>
                      <a:pt x="2296" y="422"/>
                    </a:lnTo>
                    <a:lnTo>
                      <a:pt x="2301" y="422"/>
                    </a:lnTo>
                    <a:lnTo>
                      <a:pt x="2306" y="420"/>
                    </a:lnTo>
                    <a:lnTo>
                      <a:pt x="2310" y="418"/>
                    </a:lnTo>
                    <a:lnTo>
                      <a:pt x="2314" y="415"/>
                    </a:lnTo>
                    <a:lnTo>
                      <a:pt x="2318" y="411"/>
                    </a:lnTo>
                    <a:lnTo>
                      <a:pt x="2320" y="407"/>
                    </a:lnTo>
                    <a:lnTo>
                      <a:pt x="2322" y="402"/>
                    </a:lnTo>
                    <a:lnTo>
                      <a:pt x="2322" y="397"/>
                    </a:lnTo>
                    <a:lnTo>
                      <a:pt x="2322" y="397"/>
                    </a:lnTo>
                    <a:close/>
                    <a:moveTo>
                      <a:pt x="2251" y="547"/>
                    </a:moveTo>
                    <a:lnTo>
                      <a:pt x="2367" y="547"/>
                    </a:lnTo>
                    <a:lnTo>
                      <a:pt x="2369" y="547"/>
                    </a:lnTo>
                    <a:lnTo>
                      <a:pt x="2370" y="547"/>
                    </a:lnTo>
                    <a:lnTo>
                      <a:pt x="2372" y="547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495"/>
                    </a:lnTo>
                    <a:lnTo>
                      <a:pt x="2372" y="495"/>
                    </a:lnTo>
                    <a:lnTo>
                      <a:pt x="2370" y="494"/>
                    </a:lnTo>
                    <a:lnTo>
                      <a:pt x="2369" y="493"/>
                    </a:lnTo>
                    <a:lnTo>
                      <a:pt x="2367" y="493"/>
                    </a:lnTo>
                    <a:lnTo>
                      <a:pt x="2251" y="493"/>
                    </a:lnTo>
                    <a:lnTo>
                      <a:pt x="2251" y="493"/>
                    </a:lnTo>
                    <a:lnTo>
                      <a:pt x="2250" y="494"/>
                    </a:lnTo>
                    <a:lnTo>
                      <a:pt x="2250" y="495"/>
                    </a:lnTo>
                    <a:lnTo>
                      <a:pt x="2249" y="495"/>
                    </a:lnTo>
                    <a:lnTo>
                      <a:pt x="2249" y="495"/>
                    </a:lnTo>
                    <a:lnTo>
                      <a:pt x="2249" y="546"/>
                    </a:lnTo>
                    <a:lnTo>
                      <a:pt x="2250" y="547"/>
                    </a:lnTo>
                    <a:lnTo>
                      <a:pt x="2250" y="547"/>
                    </a:lnTo>
                    <a:lnTo>
                      <a:pt x="2251" y="547"/>
                    </a:lnTo>
                    <a:lnTo>
                      <a:pt x="2251" y="547"/>
                    </a:lnTo>
                    <a:lnTo>
                      <a:pt x="2251" y="547"/>
                    </a:lnTo>
                    <a:close/>
                    <a:moveTo>
                      <a:pt x="2063" y="547"/>
                    </a:moveTo>
                    <a:lnTo>
                      <a:pt x="2179" y="547"/>
                    </a:lnTo>
                    <a:lnTo>
                      <a:pt x="2180" y="547"/>
                    </a:lnTo>
                    <a:lnTo>
                      <a:pt x="2181" y="547"/>
                    </a:lnTo>
                    <a:lnTo>
                      <a:pt x="2181" y="547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495"/>
                    </a:lnTo>
                    <a:lnTo>
                      <a:pt x="2181" y="495"/>
                    </a:lnTo>
                    <a:lnTo>
                      <a:pt x="2181" y="494"/>
                    </a:lnTo>
                    <a:lnTo>
                      <a:pt x="2180" y="493"/>
                    </a:lnTo>
                    <a:lnTo>
                      <a:pt x="2179" y="493"/>
                    </a:lnTo>
                    <a:lnTo>
                      <a:pt x="2179" y="493"/>
                    </a:lnTo>
                    <a:lnTo>
                      <a:pt x="2063" y="493"/>
                    </a:lnTo>
                    <a:lnTo>
                      <a:pt x="2062" y="493"/>
                    </a:lnTo>
                    <a:lnTo>
                      <a:pt x="2062" y="494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546"/>
                    </a:lnTo>
                    <a:lnTo>
                      <a:pt x="2061" y="547"/>
                    </a:lnTo>
                    <a:lnTo>
                      <a:pt x="2062" y="547"/>
                    </a:lnTo>
                    <a:lnTo>
                      <a:pt x="2062" y="547"/>
                    </a:lnTo>
                    <a:lnTo>
                      <a:pt x="2063" y="547"/>
                    </a:lnTo>
                    <a:lnTo>
                      <a:pt x="2063" y="547"/>
                    </a:lnTo>
                    <a:close/>
                    <a:moveTo>
                      <a:pt x="1875" y="547"/>
                    </a:moveTo>
                    <a:lnTo>
                      <a:pt x="1989" y="547"/>
                    </a:lnTo>
                    <a:lnTo>
                      <a:pt x="1991" y="547"/>
                    </a:lnTo>
                    <a:lnTo>
                      <a:pt x="1992" y="547"/>
                    </a:lnTo>
                    <a:lnTo>
                      <a:pt x="1993" y="547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495"/>
                    </a:lnTo>
                    <a:lnTo>
                      <a:pt x="1993" y="495"/>
                    </a:lnTo>
                    <a:lnTo>
                      <a:pt x="1992" y="494"/>
                    </a:lnTo>
                    <a:lnTo>
                      <a:pt x="1991" y="493"/>
                    </a:lnTo>
                    <a:lnTo>
                      <a:pt x="1989" y="493"/>
                    </a:lnTo>
                    <a:lnTo>
                      <a:pt x="1989" y="493"/>
                    </a:lnTo>
                    <a:lnTo>
                      <a:pt x="1875" y="493"/>
                    </a:lnTo>
                    <a:lnTo>
                      <a:pt x="1874" y="493"/>
                    </a:lnTo>
                    <a:lnTo>
                      <a:pt x="1873" y="494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546"/>
                    </a:lnTo>
                    <a:lnTo>
                      <a:pt x="1872" y="547"/>
                    </a:lnTo>
                    <a:lnTo>
                      <a:pt x="1873" y="547"/>
                    </a:lnTo>
                    <a:lnTo>
                      <a:pt x="1874" y="547"/>
                    </a:lnTo>
                    <a:lnTo>
                      <a:pt x="1875" y="547"/>
                    </a:lnTo>
                    <a:lnTo>
                      <a:pt x="1875" y="547"/>
                    </a:lnTo>
                    <a:close/>
                    <a:moveTo>
                      <a:pt x="1968" y="397"/>
                    </a:moveTo>
                    <a:lnTo>
                      <a:pt x="1968" y="392"/>
                    </a:lnTo>
                    <a:lnTo>
                      <a:pt x="1967" y="388"/>
                    </a:lnTo>
                    <a:lnTo>
                      <a:pt x="1964" y="383"/>
                    </a:lnTo>
                    <a:lnTo>
                      <a:pt x="1962" y="379"/>
                    </a:lnTo>
                    <a:lnTo>
                      <a:pt x="1958" y="377"/>
                    </a:lnTo>
                    <a:lnTo>
                      <a:pt x="1954" y="374"/>
                    </a:lnTo>
                    <a:lnTo>
                      <a:pt x="1949" y="373"/>
                    </a:lnTo>
                    <a:lnTo>
                      <a:pt x="1943" y="372"/>
                    </a:lnTo>
                    <a:lnTo>
                      <a:pt x="1939" y="373"/>
                    </a:lnTo>
                    <a:lnTo>
                      <a:pt x="1934" y="374"/>
                    </a:lnTo>
                    <a:lnTo>
                      <a:pt x="1931" y="377"/>
                    </a:lnTo>
                    <a:lnTo>
                      <a:pt x="1927" y="379"/>
                    </a:lnTo>
                    <a:lnTo>
                      <a:pt x="1924" y="383"/>
                    </a:lnTo>
                    <a:lnTo>
                      <a:pt x="1923" y="388"/>
                    </a:lnTo>
                    <a:lnTo>
                      <a:pt x="1922" y="392"/>
                    </a:lnTo>
                    <a:lnTo>
                      <a:pt x="1921" y="397"/>
                    </a:lnTo>
                    <a:lnTo>
                      <a:pt x="1922" y="402"/>
                    </a:lnTo>
                    <a:lnTo>
                      <a:pt x="1923" y="407"/>
                    </a:lnTo>
                    <a:lnTo>
                      <a:pt x="1924" y="411"/>
                    </a:lnTo>
                    <a:lnTo>
                      <a:pt x="1927" y="415"/>
                    </a:lnTo>
                    <a:lnTo>
                      <a:pt x="1931" y="418"/>
                    </a:lnTo>
                    <a:lnTo>
                      <a:pt x="1934" y="420"/>
                    </a:lnTo>
                    <a:lnTo>
                      <a:pt x="1939" y="422"/>
                    </a:lnTo>
                    <a:lnTo>
                      <a:pt x="1943" y="422"/>
                    </a:lnTo>
                    <a:lnTo>
                      <a:pt x="1949" y="422"/>
                    </a:lnTo>
                    <a:lnTo>
                      <a:pt x="1954" y="420"/>
                    </a:lnTo>
                    <a:lnTo>
                      <a:pt x="1958" y="418"/>
                    </a:lnTo>
                    <a:lnTo>
                      <a:pt x="1962" y="415"/>
                    </a:lnTo>
                    <a:lnTo>
                      <a:pt x="1964" y="411"/>
                    </a:lnTo>
                    <a:lnTo>
                      <a:pt x="1967" y="407"/>
                    </a:lnTo>
                    <a:lnTo>
                      <a:pt x="1968" y="402"/>
                    </a:lnTo>
                    <a:lnTo>
                      <a:pt x="1968" y="397"/>
                    </a:lnTo>
                    <a:lnTo>
                      <a:pt x="1968" y="397"/>
                    </a:lnTo>
                    <a:close/>
                    <a:moveTo>
                      <a:pt x="2835" y="295"/>
                    </a:moveTo>
                    <a:lnTo>
                      <a:pt x="2835" y="290"/>
                    </a:lnTo>
                    <a:lnTo>
                      <a:pt x="2834" y="285"/>
                    </a:lnTo>
                    <a:lnTo>
                      <a:pt x="2831" y="281"/>
                    </a:lnTo>
                    <a:lnTo>
                      <a:pt x="2828" y="277"/>
                    </a:lnTo>
                    <a:lnTo>
                      <a:pt x="2824" y="274"/>
                    </a:lnTo>
                    <a:lnTo>
                      <a:pt x="2820" y="272"/>
                    </a:lnTo>
                    <a:lnTo>
                      <a:pt x="2815" y="271"/>
                    </a:lnTo>
                    <a:lnTo>
                      <a:pt x="2810" y="269"/>
                    </a:lnTo>
                    <a:lnTo>
                      <a:pt x="2805" y="271"/>
                    </a:lnTo>
                    <a:lnTo>
                      <a:pt x="2801" y="272"/>
                    </a:lnTo>
                    <a:lnTo>
                      <a:pt x="2796" y="274"/>
                    </a:lnTo>
                    <a:lnTo>
                      <a:pt x="2793" y="277"/>
                    </a:lnTo>
                    <a:lnTo>
                      <a:pt x="2790" y="281"/>
                    </a:lnTo>
                    <a:lnTo>
                      <a:pt x="2788" y="285"/>
                    </a:lnTo>
                    <a:lnTo>
                      <a:pt x="2786" y="290"/>
                    </a:lnTo>
                    <a:lnTo>
                      <a:pt x="2785" y="295"/>
                    </a:lnTo>
                    <a:lnTo>
                      <a:pt x="2786" y="300"/>
                    </a:lnTo>
                    <a:lnTo>
                      <a:pt x="2788" y="305"/>
                    </a:lnTo>
                    <a:lnTo>
                      <a:pt x="2790" y="309"/>
                    </a:lnTo>
                    <a:lnTo>
                      <a:pt x="2793" y="312"/>
                    </a:lnTo>
                    <a:lnTo>
                      <a:pt x="2796" y="315"/>
                    </a:lnTo>
                    <a:lnTo>
                      <a:pt x="2801" y="317"/>
                    </a:lnTo>
                    <a:lnTo>
                      <a:pt x="2805" y="319"/>
                    </a:lnTo>
                    <a:lnTo>
                      <a:pt x="2810" y="320"/>
                    </a:lnTo>
                    <a:lnTo>
                      <a:pt x="2815" y="319"/>
                    </a:lnTo>
                    <a:lnTo>
                      <a:pt x="2820" y="317"/>
                    </a:lnTo>
                    <a:lnTo>
                      <a:pt x="2824" y="315"/>
                    </a:lnTo>
                    <a:lnTo>
                      <a:pt x="2828" y="312"/>
                    </a:lnTo>
                    <a:lnTo>
                      <a:pt x="2831" y="309"/>
                    </a:lnTo>
                    <a:lnTo>
                      <a:pt x="2834" y="305"/>
                    </a:lnTo>
                    <a:lnTo>
                      <a:pt x="2835" y="300"/>
                    </a:lnTo>
                    <a:lnTo>
                      <a:pt x="2835" y="295"/>
                    </a:lnTo>
                    <a:lnTo>
                      <a:pt x="2835" y="295"/>
                    </a:lnTo>
                    <a:close/>
                    <a:moveTo>
                      <a:pt x="2835" y="473"/>
                    </a:moveTo>
                    <a:lnTo>
                      <a:pt x="2835" y="468"/>
                    </a:lnTo>
                    <a:lnTo>
                      <a:pt x="2834" y="463"/>
                    </a:lnTo>
                    <a:lnTo>
                      <a:pt x="2831" y="459"/>
                    </a:lnTo>
                    <a:lnTo>
                      <a:pt x="2828" y="455"/>
                    </a:lnTo>
                    <a:lnTo>
                      <a:pt x="2824" y="451"/>
                    </a:lnTo>
                    <a:lnTo>
                      <a:pt x="2820" y="449"/>
                    </a:lnTo>
                    <a:lnTo>
                      <a:pt x="2815" y="447"/>
                    </a:lnTo>
                    <a:lnTo>
                      <a:pt x="2810" y="447"/>
                    </a:lnTo>
                    <a:lnTo>
                      <a:pt x="2805" y="447"/>
                    </a:lnTo>
                    <a:lnTo>
                      <a:pt x="2801" y="449"/>
                    </a:lnTo>
                    <a:lnTo>
                      <a:pt x="2796" y="451"/>
                    </a:lnTo>
                    <a:lnTo>
                      <a:pt x="2793" y="455"/>
                    </a:lnTo>
                    <a:lnTo>
                      <a:pt x="2790" y="459"/>
                    </a:lnTo>
                    <a:lnTo>
                      <a:pt x="2788" y="463"/>
                    </a:lnTo>
                    <a:lnTo>
                      <a:pt x="2786" y="468"/>
                    </a:lnTo>
                    <a:lnTo>
                      <a:pt x="2785" y="473"/>
                    </a:lnTo>
                    <a:lnTo>
                      <a:pt x="2786" y="478"/>
                    </a:lnTo>
                    <a:lnTo>
                      <a:pt x="2788" y="481"/>
                    </a:lnTo>
                    <a:lnTo>
                      <a:pt x="2790" y="487"/>
                    </a:lnTo>
                    <a:lnTo>
                      <a:pt x="2793" y="490"/>
                    </a:lnTo>
                    <a:lnTo>
                      <a:pt x="2796" y="493"/>
                    </a:lnTo>
                    <a:lnTo>
                      <a:pt x="2801" y="495"/>
                    </a:lnTo>
                    <a:lnTo>
                      <a:pt x="2805" y="497"/>
                    </a:lnTo>
                    <a:lnTo>
                      <a:pt x="2810" y="498"/>
                    </a:lnTo>
                    <a:lnTo>
                      <a:pt x="2815" y="497"/>
                    </a:lnTo>
                    <a:lnTo>
                      <a:pt x="2820" y="495"/>
                    </a:lnTo>
                    <a:lnTo>
                      <a:pt x="2824" y="493"/>
                    </a:lnTo>
                    <a:lnTo>
                      <a:pt x="2828" y="490"/>
                    </a:lnTo>
                    <a:lnTo>
                      <a:pt x="2831" y="487"/>
                    </a:lnTo>
                    <a:lnTo>
                      <a:pt x="2834" y="481"/>
                    </a:lnTo>
                    <a:lnTo>
                      <a:pt x="2835" y="478"/>
                    </a:lnTo>
                    <a:lnTo>
                      <a:pt x="2835" y="473"/>
                    </a:lnTo>
                    <a:lnTo>
                      <a:pt x="2835" y="473"/>
                    </a:lnTo>
                    <a:close/>
                    <a:moveTo>
                      <a:pt x="2835" y="651"/>
                    </a:moveTo>
                    <a:lnTo>
                      <a:pt x="2835" y="646"/>
                    </a:lnTo>
                    <a:lnTo>
                      <a:pt x="2834" y="641"/>
                    </a:lnTo>
                    <a:lnTo>
                      <a:pt x="2831" y="636"/>
                    </a:lnTo>
                    <a:lnTo>
                      <a:pt x="2828" y="633"/>
                    </a:lnTo>
                    <a:lnTo>
                      <a:pt x="2824" y="629"/>
                    </a:lnTo>
                    <a:lnTo>
                      <a:pt x="2820" y="627"/>
                    </a:lnTo>
                    <a:lnTo>
                      <a:pt x="2815" y="625"/>
                    </a:lnTo>
                    <a:lnTo>
                      <a:pt x="2810" y="625"/>
                    </a:lnTo>
                    <a:lnTo>
                      <a:pt x="2805" y="625"/>
                    </a:lnTo>
                    <a:lnTo>
                      <a:pt x="2801" y="627"/>
                    </a:lnTo>
                    <a:lnTo>
                      <a:pt x="2796" y="629"/>
                    </a:lnTo>
                    <a:lnTo>
                      <a:pt x="2793" y="633"/>
                    </a:lnTo>
                    <a:lnTo>
                      <a:pt x="2790" y="636"/>
                    </a:lnTo>
                    <a:lnTo>
                      <a:pt x="2788" y="641"/>
                    </a:lnTo>
                    <a:lnTo>
                      <a:pt x="2786" y="646"/>
                    </a:lnTo>
                    <a:lnTo>
                      <a:pt x="2785" y="651"/>
                    </a:lnTo>
                    <a:lnTo>
                      <a:pt x="2786" y="654"/>
                    </a:lnTo>
                    <a:lnTo>
                      <a:pt x="2788" y="660"/>
                    </a:lnTo>
                    <a:lnTo>
                      <a:pt x="2790" y="665"/>
                    </a:lnTo>
                    <a:lnTo>
                      <a:pt x="2793" y="668"/>
                    </a:lnTo>
                    <a:lnTo>
                      <a:pt x="2796" y="671"/>
                    </a:lnTo>
                    <a:lnTo>
                      <a:pt x="2801" y="673"/>
                    </a:lnTo>
                    <a:lnTo>
                      <a:pt x="2805" y="675"/>
                    </a:lnTo>
                    <a:lnTo>
                      <a:pt x="2810" y="675"/>
                    </a:lnTo>
                    <a:lnTo>
                      <a:pt x="2815" y="675"/>
                    </a:lnTo>
                    <a:lnTo>
                      <a:pt x="2820" y="673"/>
                    </a:lnTo>
                    <a:lnTo>
                      <a:pt x="2824" y="671"/>
                    </a:lnTo>
                    <a:lnTo>
                      <a:pt x="2828" y="668"/>
                    </a:lnTo>
                    <a:lnTo>
                      <a:pt x="2831" y="665"/>
                    </a:lnTo>
                    <a:lnTo>
                      <a:pt x="2834" y="660"/>
                    </a:lnTo>
                    <a:lnTo>
                      <a:pt x="2835" y="654"/>
                    </a:lnTo>
                    <a:lnTo>
                      <a:pt x="2835" y="651"/>
                    </a:lnTo>
                    <a:lnTo>
                      <a:pt x="2835" y="651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3011760" y="58752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52" y="86"/>
                    </a:lnTo>
                    <a:lnTo>
                      <a:pt x="153" y="86"/>
                    </a:lnTo>
                    <a:lnTo>
                      <a:pt x="153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3135960" y="5875200"/>
                <a:ext cx="107280" cy="4752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1" y="86"/>
                    </a:lnTo>
                    <a:lnTo>
                      <a:pt x="153" y="86"/>
                    </a:lnTo>
                    <a:lnTo>
                      <a:pt x="154" y="84"/>
                    </a:lnTo>
                    <a:lnTo>
                      <a:pt x="155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5" y="2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3262320" y="587520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3" y="86"/>
                    </a:moveTo>
                    <a:lnTo>
                      <a:pt x="152" y="86"/>
                    </a:lnTo>
                    <a:lnTo>
                      <a:pt x="152" y="86"/>
                    </a:lnTo>
                    <a:lnTo>
                      <a:pt x="153" y="84"/>
                    </a:lnTo>
                    <a:lnTo>
                      <a:pt x="154" y="83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4"/>
                    </a:lnTo>
                    <a:lnTo>
                      <a:pt x="154" y="2"/>
                    </a:lnTo>
                    <a:lnTo>
                      <a:pt x="153" y="1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3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3387240" y="5875200"/>
                <a:ext cx="105840" cy="4752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2" y="86"/>
                    </a:lnTo>
                    <a:lnTo>
                      <a:pt x="154" y="86"/>
                    </a:lnTo>
                    <a:lnTo>
                      <a:pt x="156" y="84"/>
                    </a:lnTo>
                    <a:lnTo>
                      <a:pt x="157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6" y="1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3513600" y="587520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49" y="86"/>
                    </a:lnTo>
                    <a:lnTo>
                      <a:pt x="150" y="86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2893680" y="5656320"/>
                <a:ext cx="105840" cy="35280"/>
              </a:xfrm>
              <a:custGeom>
                <a:avLst/>
                <a:gdLst/>
                <a:ahLst/>
                <a:rect l="l" t="t" r="r" b="b"/>
                <a:pathLst>
                  <a:path w="155" h="63">
                    <a:moveTo>
                      <a:pt x="4" y="63"/>
                    </a:moveTo>
                    <a:lnTo>
                      <a:pt x="151" y="63"/>
                    </a:lnTo>
                    <a:lnTo>
                      <a:pt x="153" y="63"/>
                    </a:lnTo>
                    <a:lnTo>
                      <a:pt x="154" y="63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3130200" y="565632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4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233520" y="565632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0" h="63">
                    <a:moveTo>
                      <a:pt x="2" y="63"/>
                    </a:moveTo>
                    <a:lnTo>
                      <a:pt x="117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3334320" y="5656320"/>
                <a:ext cx="84240" cy="352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2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3552120" y="565632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1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3654000" y="565632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1" y="63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2" y="1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3654000" y="548640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1" y="64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3552120" y="548640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1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3334320" y="5486400"/>
                <a:ext cx="84240" cy="352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2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3233520" y="548640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2" y="64"/>
                    </a:moveTo>
                    <a:lnTo>
                      <a:pt x="117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3130200" y="548640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4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3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2893680" y="5486400"/>
                <a:ext cx="105840" cy="35280"/>
              </a:xfrm>
              <a:custGeom>
                <a:avLst/>
                <a:gdLst/>
                <a:ahLst/>
                <a:rect l="l" t="t" r="r" b="b"/>
                <a:pathLst>
                  <a:path w="155" h="64">
                    <a:moveTo>
                      <a:pt x="4" y="64"/>
                    </a:moveTo>
                    <a:lnTo>
                      <a:pt x="151" y="64"/>
                    </a:lnTo>
                    <a:lnTo>
                      <a:pt x="153" y="64"/>
                    </a:lnTo>
                    <a:lnTo>
                      <a:pt x="154" y="64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4151880" y="5374080"/>
                <a:ext cx="43200" cy="475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5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4232160" y="533412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98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4260600" y="5438520"/>
                <a:ext cx="43560" cy="48600"/>
              </a:xfrm>
              <a:custGeom>
                <a:avLst/>
                <a:gdLst/>
                <a:ahLst/>
                <a:rect l="l" t="t" r="r" b="b"/>
                <a:pathLst>
                  <a:path w="65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62" y="90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4341240" y="5438520"/>
                <a:ext cx="44640" cy="4860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7" y="89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4437720" y="543852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7" y="89"/>
                    </a:lnTo>
                    <a:lnTo>
                      <a:pt x="67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4437720" y="533412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0" y="0"/>
                    </a:moveTo>
                    <a:lnTo>
                      <a:pt x="0" y="80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97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4438800" y="554076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25"/>
                    </a:moveTo>
                    <a:lnTo>
                      <a:pt x="51" y="20"/>
                    </a:lnTo>
                    <a:lnTo>
                      <a:pt x="49" y="16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7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7" y="39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4422600" y="5607360"/>
                <a:ext cx="84240" cy="30960"/>
              </a:xfrm>
              <a:custGeom>
                <a:avLst/>
                <a:gdLst/>
                <a:ahLst/>
                <a:rect l="l" t="t" r="r" b="b"/>
                <a:pathLst>
                  <a:path w="123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4294800" y="5607360"/>
                <a:ext cx="82800" cy="3096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4166640" y="5607360"/>
                <a:ext cx="82800" cy="30960"/>
              </a:xfrm>
              <a:custGeom>
                <a:avLst/>
                <a:gdLst/>
                <a:ahLst/>
                <a:rect l="l" t="t" r="r" b="b"/>
                <a:pathLst>
                  <a:path w="121" h="54">
                    <a:moveTo>
                      <a:pt x="3" y="54"/>
                    </a:moveTo>
                    <a:lnTo>
                      <a:pt x="117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4199400" y="5540760"/>
                <a:ext cx="32400" cy="27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47" y="25"/>
                    </a:moveTo>
                    <a:lnTo>
                      <a:pt x="47" y="20"/>
                    </a:lnTo>
                    <a:lnTo>
                      <a:pt x="46" y="16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3"/>
                    </a:lnTo>
                    <a:lnTo>
                      <a:pt x="10" y="46"/>
                    </a:lnTo>
                    <a:lnTo>
                      <a:pt x="13" y="48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3" y="48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7" y="30"/>
                    </a:lnTo>
                    <a:lnTo>
                      <a:pt x="47" y="25"/>
                    </a:lnTo>
                    <a:lnTo>
                      <a:pt x="47" y="2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4788360" y="5484240"/>
                <a:ext cx="34200" cy="273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5"/>
                    </a:lnTo>
                    <a:lnTo>
                      <a:pt x="35" y="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6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4788360" y="5582880"/>
                <a:ext cx="34200" cy="273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4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4788360" y="5681880"/>
                <a:ext cx="34200" cy="2664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1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5"/>
                    </a:lnTo>
                    <a:lnTo>
                      <a:pt x="50" y="29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3976560" y="5331960"/>
                <a:ext cx="723600" cy="151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3976560" y="5331960"/>
                <a:ext cx="723600" cy="1512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5766480" y="5370840"/>
                <a:ext cx="740880" cy="362160"/>
              </a:xfrm>
              <a:custGeom>
                <a:avLst/>
                <a:gdLst/>
                <a:ahLst/>
                <a:rect l="l" t="t" r="r" b="b"/>
                <a:pathLst>
                  <a:path w="1091" h="653">
                    <a:moveTo>
                      <a:pt x="775" y="559"/>
                    </a:moveTo>
                    <a:lnTo>
                      <a:pt x="795" y="548"/>
                    </a:lnTo>
                    <a:lnTo>
                      <a:pt x="795" y="525"/>
                    </a:lnTo>
                    <a:lnTo>
                      <a:pt x="775" y="514"/>
                    </a:lnTo>
                    <a:lnTo>
                      <a:pt x="754" y="525"/>
                    </a:lnTo>
                    <a:lnTo>
                      <a:pt x="754" y="548"/>
                    </a:lnTo>
                    <a:lnTo>
                      <a:pt x="775" y="559"/>
                    </a:lnTo>
                    <a:close/>
                    <a:moveTo>
                      <a:pt x="829" y="559"/>
                    </a:moveTo>
                    <a:lnTo>
                      <a:pt x="849" y="548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48"/>
                    </a:lnTo>
                    <a:lnTo>
                      <a:pt x="829" y="559"/>
                    </a:lnTo>
                    <a:close/>
                    <a:moveTo>
                      <a:pt x="883" y="559"/>
                    </a:moveTo>
                    <a:lnTo>
                      <a:pt x="904" y="548"/>
                    </a:lnTo>
                    <a:lnTo>
                      <a:pt x="904" y="525"/>
                    </a:lnTo>
                    <a:lnTo>
                      <a:pt x="883" y="514"/>
                    </a:lnTo>
                    <a:lnTo>
                      <a:pt x="863" y="525"/>
                    </a:lnTo>
                    <a:lnTo>
                      <a:pt x="863" y="548"/>
                    </a:lnTo>
                    <a:lnTo>
                      <a:pt x="883" y="559"/>
                    </a:lnTo>
                    <a:close/>
                    <a:moveTo>
                      <a:pt x="938" y="559"/>
                    </a:moveTo>
                    <a:lnTo>
                      <a:pt x="958" y="548"/>
                    </a:lnTo>
                    <a:lnTo>
                      <a:pt x="958" y="525"/>
                    </a:lnTo>
                    <a:lnTo>
                      <a:pt x="938" y="514"/>
                    </a:lnTo>
                    <a:lnTo>
                      <a:pt x="916" y="525"/>
                    </a:lnTo>
                    <a:lnTo>
                      <a:pt x="916" y="548"/>
                    </a:lnTo>
                    <a:lnTo>
                      <a:pt x="938" y="559"/>
                    </a:lnTo>
                    <a:close/>
                    <a:moveTo>
                      <a:pt x="666" y="559"/>
                    </a:moveTo>
                    <a:lnTo>
                      <a:pt x="686" y="548"/>
                    </a:lnTo>
                    <a:lnTo>
                      <a:pt x="686" y="525"/>
                    </a:lnTo>
                    <a:lnTo>
                      <a:pt x="666" y="514"/>
                    </a:lnTo>
                    <a:lnTo>
                      <a:pt x="647" y="525"/>
                    </a:lnTo>
                    <a:lnTo>
                      <a:pt x="647" y="548"/>
                    </a:lnTo>
                    <a:lnTo>
                      <a:pt x="666" y="559"/>
                    </a:lnTo>
                    <a:close/>
                    <a:moveTo>
                      <a:pt x="720" y="559"/>
                    </a:moveTo>
                    <a:lnTo>
                      <a:pt x="740" y="548"/>
                    </a:lnTo>
                    <a:lnTo>
                      <a:pt x="740" y="525"/>
                    </a:lnTo>
                    <a:lnTo>
                      <a:pt x="720" y="514"/>
                    </a:lnTo>
                    <a:lnTo>
                      <a:pt x="700" y="525"/>
                    </a:lnTo>
                    <a:lnTo>
                      <a:pt x="700" y="548"/>
                    </a:lnTo>
                    <a:lnTo>
                      <a:pt x="720" y="559"/>
                    </a:lnTo>
                    <a:close/>
                    <a:moveTo>
                      <a:pt x="505" y="559"/>
                    </a:moveTo>
                    <a:lnTo>
                      <a:pt x="525" y="548"/>
                    </a:lnTo>
                    <a:lnTo>
                      <a:pt x="525" y="525"/>
                    </a:lnTo>
                    <a:lnTo>
                      <a:pt x="505" y="514"/>
                    </a:lnTo>
                    <a:lnTo>
                      <a:pt x="484" y="525"/>
                    </a:lnTo>
                    <a:lnTo>
                      <a:pt x="484" y="548"/>
                    </a:lnTo>
                    <a:lnTo>
                      <a:pt x="505" y="559"/>
                    </a:lnTo>
                    <a:close/>
                    <a:moveTo>
                      <a:pt x="559" y="559"/>
                    </a:moveTo>
                    <a:lnTo>
                      <a:pt x="579" y="548"/>
                    </a:lnTo>
                    <a:lnTo>
                      <a:pt x="579" y="525"/>
                    </a:lnTo>
                    <a:lnTo>
                      <a:pt x="559" y="514"/>
                    </a:lnTo>
                    <a:lnTo>
                      <a:pt x="539" y="525"/>
                    </a:lnTo>
                    <a:lnTo>
                      <a:pt x="539" y="548"/>
                    </a:lnTo>
                    <a:lnTo>
                      <a:pt x="559" y="559"/>
                    </a:lnTo>
                    <a:close/>
                    <a:moveTo>
                      <a:pt x="613" y="559"/>
                    </a:moveTo>
                    <a:lnTo>
                      <a:pt x="634" y="548"/>
                    </a:lnTo>
                    <a:lnTo>
                      <a:pt x="634" y="525"/>
                    </a:lnTo>
                    <a:lnTo>
                      <a:pt x="613" y="514"/>
                    </a:lnTo>
                    <a:lnTo>
                      <a:pt x="593" y="525"/>
                    </a:lnTo>
                    <a:lnTo>
                      <a:pt x="593" y="548"/>
                    </a:lnTo>
                    <a:lnTo>
                      <a:pt x="613" y="559"/>
                    </a:lnTo>
                    <a:close/>
                    <a:moveTo>
                      <a:pt x="21" y="559"/>
                    </a:moveTo>
                    <a:lnTo>
                      <a:pt x="41" y="548"/>
                    </a:lnTo>
                    <a:lnTo>
                      <a:pt x="41" y="525"/>
                    </a:lnTo>
                    <a:lnTo>
                      <a:pt x="21" y="514"/>
                    </a:lnTo>
                    <a:lnTo>
                      <a:pt x="0" y="525"/>
                    </a:lnTo>
                    <a:lnTo>
                      <a:pt x="0" y="548"/>
                    </a:lnTo>
                    <a:lnTo>
                      <a:pt x="21" y="559"/>
                    </a:lnTo>
                    <a:close/>
                    <a:moveTo>
                      <a:pt x="74" y="559"/>
                    </a:moveTo>
                    <a:lnTo>
                      <a:pt x="93" y="548"/>
                    </a:lnTo>
                    <a:lnTo>
                      <a:pt x="93" y="525"/>
                    </a:lnTo>
                    <a:lnTo>
                      <a:pt x="74" y="514"/>
                    </a:lnTo>
                    <a:lnTo>
                      <a:pt x="54" y="525"/>
                    </a:lnTo>
                    <a:lnTo>
                      <a:pt x="54" y="548"/>
                    </a:lnTo>
                    <a:lnTo>
                      <a:pt x="74" y="559"/>
                    </a:lnTo>
                    <a:close/>
                    <a:moveTo>
                      <a:pt x="127" y="559"/>
                    </a:moveTo>
                    <a:lnTo>
                      <a:pt x="147" y="548"/>
                    </a:lnTo>
                    <a:lnTo>
                      <a:pt x="147" y="525"/>
                    </a:lnTo>
                    <a:lnTo>
                      <a:pt x="127" y="514"/>
                    </a:lnTo>
                    <a:lnTo>
                      <a:pt x="107" y="525"/>
                    </a:lnTo>
                    <a:lnTo>
                      <a:pt x="107" y="548"/>
                    </a:lnTo>
                    <a:lnTo>
                      <a:pt x="127" y="559"/>
                    </a:lnTo>
                    <a:close/>
                    <a:moveTo>
                      <a:pt x="181" y="559"/>
                    </a:moveTo>
                    <a:lnTo>
                      <a:pt x="201" y="548"/>
                    </a:lnTo>
                    <a:lnTo>
                      <a:pt x="201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48"/>
                    </a:lnTo>
                    <a:lnTo>
                      <a:pt x="181" y="559"/>
                    </a:lnTo>
                    <a:close/>
                    <a:moveTo>
                      <a:pt x="236" y="559"/>
                    </a:moveTo>
                    <a:lnTo>
                      <a:pt x="256" y="548"/>
                    </a:lnTo>
                    <a:lnTo>
                      <a:pt x="256" y="525"/>
                    </a:lnTo>
                    <a:lnTo>
                      <a:pt x="236" y="514"/>
                    </a:lnTo>
                    <a:lnTo>
                      <a:pt x="215" y="525"/>
                    </a:lnTo>
                    <a:lnTo>
                      <a:pt x="215" y="548"/>
                    </a:lnTo>
                    <a:lnTo>
                      <a:pt x="236" y="559"/>
                    </a:lnTo>
                    <a:close/>
                    <a:moveTo>
                      <a:pt x="290" y="559"/>
                    </a:moveTo>
                    <a:lnTo>
                      <a:pt x="310" y="548"/>
                    </a:lnTo>
                    <a:lnTo>
                      <a:pt x="310" y="525"/>
                    </a:lnTo>
                    <a:lnTo>
                      <a:pt x="290" y="514"/>
                    </a:lnTo>
                    <a:lnTo>
                      <a:pt x="270" y="525"/>
                    </a:lnTo>
                    <a:lnTo>
                      <a:pt x="270" y="548"/>
                    </a:lnTo>
                    <a:lnTo>
                      <a:pt x="290" y="559"/>
                    </a:lnTo>
                    <a:close/>
                    <a:moveTo>
                      <a:pt x="801" y="511"/>
                    </a:moveTo>
                    <a:lnTo>
                      <a:pt x="821" y="500"/>
                    </a:lnTo>
                    <a:lnTo>
                      <a:pt x="821" y="477"/>
                    </a:lnTo>
                    <a:lnTo>
                      <a:pt x="801" y="466"/>
                    </a:lnTo>
                    <a:lnTo>
                      <a:pt x="781" y="477"/>
                    </a:lnTo>
                    <a:lnTo>
                      <a:pt x="781" y="500"/>
                    </a:lnTo>
                    <a:lnTo>
                      <a:pt x="801" y="511"/>
                    </a:lnTo>
                    <a:close/>
                    <a:moveTo>
                      <a:pt x="856" y="511"/>
                    </a:moveTo>
                    <a:lnTo>
                      <a:pt x="876" y="500"/>
                    </a:lnTo>
                    <a:lnTo>
                      <a:pt x="876" y="477"/>
                    </a:lnTo>
                    <a:lnTo>
                      <a:pt x="856" y="466"/>
                    </a:lnTo>
                    <a:lnTo>
                      <a:pt x="835" y="477"/>
                    </a:lnTo>
                    <a:lnTo>
                      <a:pt x="835" y="500"/>
                    </a:lnTo>
                    <a:lnTo>
                      <a:pt x="856" y="511"/>
                    </a:lnTo>
                    <a:close/>
                    <a:moveTo>
                      <a:pt x="910" y="511"/>
                    </a:moveTo>
                    <a:lnTo>
                      <a:pt x="930" y="500"/>
                    </a:lnTo>
                    <a:lnTo>
                      <a:pt x="930" y="477"/>
                    </a:lnTo>
                    <a:lnTo>
                      <a:pt x="910" y="466"/>
                    </a:lnTo>
                    <a:lnTo>
                      <a:pt x="890" y="477"/>
                    </a:lnTo>
                    <a:lnTo>
                      <a:pt x="890" y="500"/>
                    </a:lnTo>
                    <a:lnTo>
                      <a:pt x="910" y="511"/>
                    </a:lnTo>
                    <a:close/>
                    <a:moveTo>
                      <a:pt x="587" y="511"/>
                    </a:moveTo>
                    <a:lnTo>
                      <a:pt x="607" y="500"/>
                    </a:lnTo>
                    <a:lnTo>
                      <a:pt x="607" y="477"/>
                    </a:lnTo>
                    <a:lnTo>
                      <a:pt x="587" y="466"/>
                    </a:lnTo>
                    <a:lnTo>
                      <a:pt x="566" y="477"/>
                    </a:lnTo>
                    <a:lnTo>
                      <a:pt x="566" y="500"/>
                    </a:lnTo>
                    <a:lnTo>
                      <a:pt x="587" y="511"/>
                    </a:lnTo>
                    <a:close/>
                    <a:moveTo>
                      <a:pt x="641" y="511"/>
                    </a:moveTo>
                    <a:lnTo>
                      <a:pt x="658" y="500"/>
                    </a:lnTo>
                    <a:lnTo>
                      <a:pt x="658" y="477"/>
                    </a:lnTo>
                    <a:lnTo>
                      <a:pt x="641" y="466"/>
                    </a:lnTo>
                    <a:lnTo>
                      <a:pt x="621" y="477"/>
                    </a:lnTo>
                    <a:lnTo>
                      <a:pt x="621" y="500"/>
                    </a:lnTo>
                    <a:lnTo>
                      <a:pt x="641" y="511"/>
                    </a:lnTo>
                    <a:close/>
                    <a:moveTo>
                      <a:pt x="692" y="511"/>
                    </a:moveTo>
                    <a:lnTo>
                      <a:pt x="713" y="500"/>
                    </a:lnTo>
                    <a:lnTo>
                      <a:pt x="713" y="477"/>
                    </a:lnTo>
                    <a:lnTo>
                      <a:pt x="692" y="466"/>
                    </a:lnTo>
                    <a:lnTo>
                      <a:pt x="675" y="477"/>
                    </a:lnTo>
                    <a:lnTo>
                      <a:pt x="675" y="500"/>
                    </a:lnTo>
                    <a:lnTo>
                      <a:pt x="692" y="511"/>
                    </a:lnTo>
                    <a:close/>
                    <a:moveTo>
                      <a:pt x="747" y="511"/>
                    </a:moveTo>
                    <a:lnTo>
                      <a:pt x="767" y="500"/>
                    </a:lnTo>
                    <a:lnTo>
                      <a:pt x="767" y="477"/>
                    </a:lnTo>
                    <a:lnTo>
                      <a:pt x="747" y="466"/>
                    </a:lnTo>
                    <a:lnTo>
                      <a:pt x="727" y="477"/>
                    </a:lnTo>
                    <a:lnTo>
                      <a:pt x="727" y="500"/>
                    </a:lnTo>
                    <a:lnTo>
                      <a:pt x="747" y="511"/>
                    </a:lnTo>
                    <a:close/>
                    <a:moveTo>
                      <a:pt x="371" y="511"/>
                    </a:moveTo>
                    <a:lnTo>
                      <a:pt x="391" y="500"/>
                    </a:lnTo>
                    <a:lnTo>
                      <a:pt x="391" y="477"/>
                    </a:lnTo>
                    <a:lnTo>
                      <a:pt x="371" y="466"/>
                    </a:lnTo>
                    <a:lnTo>
                      <a:pt x="351" y="477"/>
                    </a:lnTo>
                    <a:lnTo>
                      <a:pt x="351" y="500"/>
                    </a:lnTo>
                    <a:lnTo>
                      <a:pt x="371" y="511"/>
                    </a:lnTo>
                    <a:close/>
                    <a:moveTo>
                      <a:pt x="425" y="511"/>
                    </a:moveTo>
                    <a:lnTo>
                      <a:pt x="447" y="500"/>
                    </a:lnTo>
                    <a:lnTo>
                      <a:pt x="447" y="477"/>
                    </a:lnTo>
                    <a:lnTo>
                      <a:pt x="425" y="466"/>
                    </a:lnTo>
                    <a:lnTo>
                      <a:pt x="405" y="477"/>
                    </a:lnTo>
                    <a:lnTo>
                      <a:pt x="405" y="500"/>
                    </a:lnTo>
                    <a:lnTo>
                      <a:pt x="425" y="511"/>
                    </a:lnTo>
                    <a:close/>
                    <a:moveTo>
                      <a:pt x="480" y="511"/>
                    </a:moveTo>
                    <a:lnTo>
                      <a:pt x="498" y="500"/>
                    </a:lnTo>
                    <a:lnTo>
                      <a:pt x="498" y="477"/>
                    </a:lnTo>
                    <a:lnTo>
                      <a:pt x="480" y="466"/>
                    </a:lnTo>
                    <a:lnTo>
                      <a:pt x="459" y="477"/>
                    </a:lnTo>
                    <a:lnTo>
                      <a:pt x="459" y="500"/>
                    </a:lnTo>
                    <a:lnTo>
                      <a:pt x="480" y="511"/>
                    </a:lnTo>
                    <a:close/>
                    <a:moveTo>
                      <a:pt x="532" y="511"/>
                    </a:moveTo>
                    <a:lnTo>
                      <a:pt x="552" y="500"/>
                    </a:lnTo>
                    <a:lnTo>
                      <a:pt x="552" y="477"/>
                    </a:lnTo>
                    <a:lnTo>
                      <a:pt x="532" y="466"/>
                    </a:lnTo>
                    <a:lnTo>
                      <a:pt x="512" y="477"/>
                    </a:lnTo>
                    <a:lnTo>
                      <a:pt x="512" y="500"/>
                    </a:lnTo>
                    <a:lnTo>
                      <a:pt x="532" y="511"/>
                    </a:lnTo>
                    <a:close/>
                    <a:moveTo>
                      <a:pt x="48" y="511"/>
                    </a:moveTo>
                    <a:lnTo>
                      <a:pt x="68" y="500"/>
                    </a:lnTo>
                    <a:lnTo>
                      <a:pt x="68" y="477"/>
                    </a:lnTo>
                    <a:lnTo>
                      <a:pt x="48" y="466"/>
                    </a:lnTo>
                    <a:lnTo>
                      <a:pt x="27" y="477"/>
                    </a:lnTo>
                    <a:lnTo>
                      <a:pt x="27" y="500"/>
                    </a:lnTo>
                    <a:lnTo>
                      <a:pt x="48" y="511"/>
                    </a:lnTo>
                    <a:close/>
                    <a:moveTo>
                      <a:pt x="99" y="511"/>
                    </a:moveTo>
                    <a:lnTo>
                      <a:pt x="120" y="500"/>
                    </a:lnTo>
                    <a:lnTo>
                      <a:pt x="120" y="477"/>
                    </a:lnTo>
                    <a:lnTo>
                      <a:pt x="99" y="466"/>
                    </a:lnTo>
                    <a:lnTo>
                      <a:pt x="82" y="477"/>
                    </a:lnTo>
                    <a:lnTo>
                      <a:pt x="82" y="500"/>
                    </a:lnTo>
                    <a:lnTo>
                      <a:pt x="99" y="511"/>
                    </a:lnTo>
                    <a:close/>
                    <a:moveTo>
                      <a:pt x="155" y="511"/>
                    </a:moveTo>
                    <a:lnTo>
                      <a:pt x="175" y="500"/>
                    </a:lnTo>
                    <a:lnTo>
                      <a:pt x="175" y="477"/>
                    </a:lnTo>
                    <a:lnTo>
                      <a:pt x="155" y="466"/>
                    </a:lnTo>
                    <a:lnTo>
                      <a:pt x="133" y="477"/>
                    </a:lnTo>
                    <a:lnTo>
                      <a:pt x="133" y="500"/>
                    </a:lnTo>
                    <a:lnTo>
                      <a:pt x="155" y="511"/>
                    </a:lnTo>
                    <a:close/>
                    <a:moveTo>
                      <a:pt x="208" y="511"/>
                    </a:moveTo>
                    <a:lnTo>
                      <a:pt x="229" y="500"/>
                    </a:lnTo>
                    <a:lnTo>
                      <a:pt x="229" y="477"/>
                    </a:lnTo>
                    <a:lnTo>
                      <a:pt x="208" y="466"/>
                    </a:lnTo>
                    <a:lnTo>
                      <a:pt x="188" y="477"/>
                    </a:lnTo>
                    <a:lnTo>
                      <a:pt x="188" y="500"/>
                    </a:lnTo>
                    <a:lnTo>
                      <a:pt x="208" y="511"/>
                    </a:lnTo>
                    <a:close/>
                    <a:moveTo>
                      <a:pt x="262" y="511"/>
                    </a:moveTo>
                    <a:lnTo>
                      <a:pt x="282" y="500"/>
                    </a:lnTo>
                    <a:lnTo>
                      <a:pt x="282" y="477"/>
                    </a:lnTo>
                    <a:lnTo>
                      <a:pt x="262" y="466"/>
                    </a:lnTo>
                    <a:lnTo>
                      <a:pt x="242" y="477"/>
                    </a:lnTo>
                    <a:lnTo>
                      <a:pt x="242" y="500"/>
                    </a:lnTo>
                    <a:lnTo>
                      <a:pt x="262" y="511"/>
                    </a:lnTo>
                    <a:close/>
                    <a:moveTo>
                      <a:pt x="317" y="511"/>
                    </a:moveTo>
                    <a:lnTo>
                      <a:pt x="338" y="500"/>
                    </a:lnTo>
                    <a:lnTo>
                      <a:pt x="338" y="477"/>
                    </a:lnTo>
                    <a:lnTo>
                      <a:pt x="317" y="466"/>
                    </a:lnTo>
                    <a:lnTo>
                      <a:pt x="296" y="477"/>
                    </a:lnTo>
                    <a:lnTo>
                      <a:pt x="296" y="500"/>
                    </a:lnTo>
                    <a:lnTo>
                      <a:pt x="317" y="511"/>
                    </a:lnTo>
                    <a:close/>
                    <a:moveTo>
                      <a:pt x="505" y="466"/>
                    </a:moveTo>
                    <a:lnTo>
                      <a:pt x="525" y="455"/>
                    </a:lnTo>
                    <a:lnTo>
                      <a:pt x="525" y="432"/>
                    </a:lnTo>
                    <a:lnTo>
                      <a:pt x="505" y="421"/>
                    </a:lnTo>
                    <a:lnTo>
                      <a:pt x="484" y="432"/>
                    </a:lnTo>
                    <a:lnTo>
                      <a:pt x="484" y="455"/>
                    </a:lnTo>
                    <a:lnTo>
                      <a:pt x="505" y="466"/>
                    </a:lnTo>
                    <a:close/>
                    <a:moveTo>
                      <a:pt x="559" y="466"/>
                    </a:moveTo>
                    <a:lnTo>
                      <a:pt x="579" y="455"/>
                    </a:lnTo>
                    <a:lnTo>
                      <a:pt x="579" y="432"/>
                    </a:lnTo>
                    <a:lnTo>
                      <a:pt x="559" y="421"/>
                    </a:lnTo>
                    <a:lnTo>
                      <a:pt x="539" y="432"/>
                    </a:lnTo>
                    <a:lnTo>
                      <a:pt x="539" y="455"/>
                    </a:lnTo>
                    <a:lnTo>
                      <a:pt x="559" y="466"/>
                    </a:lnTo>
                    <a:close/>
                    <a:moveTo>
                      <a:pt x="21" y="466"/>
                    </a:moveTo>
                    <a:lnTo>
                      <a:pt x="41" y="455"/>
                    </a:lnTo>
                    <a:lnTo>
                      <a:pt x="41" y="432"/>
                    </a:lnTo>
                    <a:lnTo>
                      <a:pt x="21" y="421"/>
                    </a:lnTo>
                    <a:lnTo>
                      <a:pt x="0" y="432"/>
                    </a:lnTo>
                    <a:lnTo>
                      <a:pt x="0" y="455"/>
                    </a:lnTo>
                    <a:lnTo>
                      <a:pt x="21" y="466"/>
                    </a:lnTo>
                    <a:close/>
                    <a:moveTo>
                      <a:pt x="74" y="466"/>
                    </a:moveTo>
                    <a:lnTo>
                      <a:pt x="93" y="455"/>
                    </a:lnTo>
                    <a:lnTo>
                      <a:pt x="93" y="432"/>
                    </a:lnTo>
                    <a:lnTo>
                      <a:pt x="74" y="421"/>
                    </a:lnTo>
                    <a:lnTo>
                      <a:pt x="54" y="432"/>
                    </a:lnTo>
                    <a:lnTo>
                      <a:pt x="54" y="455"/>
                    </a:lnTo>
                    <a:lnTo>
                      <a:pt x="74" y="466"/>
                    </a:lnTo>
                    <a:close/>
                    <a:moveTo>
                      <a:pt x="127" y="466"/>
                    </a:moveTo>
                    <a:lnTo>
                      <a:pt x="147" y="455"/>
                    </a:lnTo>
                    <a:lnTo>
                      <a:pt x="147" y="432"/>
                    </a:lnTo>
                    <a:lnTo>
                      <a:pt x="127" y="421"/>
                    </a:lnTo>
                    <a:lnTo>
                      <a:pt x="107" y="432"/>
                    </a:lnTo>
                    <a:lnTo>
                      <a:pt x="107" y="455"/>
                    </a:lnTo>
                    <a:lnTo>
                      <a:pt x="127" y="466"/>
                    </a:lnTo>
                    <a:close/>
                    <a:moveTo>
                      <a:pt x="181" y="466"/>
                    </a:moveTo>
                    <a:lnTo>
                      <a:pt x="201" y="455"/>
                    </a:lnTo>
                    <a:lnTo>
                      <a:pt x="201" y="432"/>
                    </a:lnTo>
                    <a:lnTo>
                      <a:pt x="181" y="421"/>
                    </a:lnTo>
                    <a:lnTo>
                      <a:pt x="161" y="432"/>
                    </a:lnTo>
                    <a:lnTo>
                      <a:pt x="161" y="455"/>
                    </a:lnTo>
                    <a:lnTo>
                      <a:pt x="181" y="466"/>
                    </a:lnTo>
                    <a:close/>
                    <a:moveTo>
                      <a:pt x="236" y="466"/>
                    </a:moveTo>
                    <a:lnTo>
                      <a:pt x="256" y="455"/>
                    </a:lnTo>
                    <a:lnTo>
                      <a:pt x="256" y="432"/>
                    </a:lnTo>
                    <a:lnTo>
                      <a:pt x="236" y="421"/>
                    </a:lnTo>
                    <a:lnTo>
                      <a:pt x="215" y="432"/>
                    </a:lnTo>
                    <a:lnTo>
                      <a:pt x="215" y="455"/>
                    </a:lnTo>
                    <a:lnTo>
                      <a:pt x="236" y="466"/>
                    </a:lnTo>
                    <a:close/>
                    <a:moveTo>
                      <a:pt x="290" y="466"/>
                    </a:moveTo>
                    <a:lnTo>
                      <a:pt x="310" y="455"/>
                    </a:lnTo>
                    <a:lnTo>
                      <a:pt x="310" y="432"/>
                    </a:lnTo>
                    <a:lnTo>
                      <a:pt x="290" y="421"/>
                    </a:lnTo>
                    <a:lnTo>
                      <a:pt x="270" y="432"/>
                    </a:lnTo>
                    <a:lnTo>
                      <a:pt x="270" y="455"/>
                    </a:lnTo>
                    <a:lnTo>
                      <a:pt x="290" y="466"/>
                    </a:lnTo>
                    <a:close/>
                    <a:moveTo>
                      <a:pt x="344" y="466"/>
                    </a:moveTo>
                    <a:lnTo>
                      <a:pt x="365" y="455"/>
                    </a:lnTo>
                    <a:lnTo>
                      <a:pt x="365" y="432"/>
                    </a:lnTo>
                    <a:lnTo>
                      <a:pt x="344" y="421"/>
                    </a:lnTo>
                    <a:lnTo>
                      <a:pt x="324" y="432"/>
                    </a:lnTo>
                    <a:lnTo>
                      <a:pt x="324" y="455"/>
                    </a:lnTo>
                    <a:lnTo>
                      <a:pt x="344" y="466"/>
                    </a:lnTo>
                    <a:close/>
                    <a:moveTo>
                      <a:pt x="399" y="466"/>
                    </a:moveTo>
                    <a:lnTo>
                      <a:pt x="419" y="455"/>
                    </a:lnTo>
                    <a:lnTo>
                      <a:pt x="419" y="432"/>
                    </a:lnTo>
                    <a:lnTo>
                      <a:pt x="399" y="421"/>
                    </a:lnTo>
                    <a:lnTo>
                      <a:pt x="378" y="432"/>
                    </a:lnTo>
                    <a:lnTo>
                      <a:pt x="378" y="455"/>
                    </a:lnTo>
                    <a:lnTo>
                      <a:pt x="399" y="466"/>
                    </a:lnTo>
                    <a:close/>
                    <a:moveTo>
                      <a:pt x="613" y="466"/>
                    </a:moveTo>
                    <a:lnTo>
                      <a:pt x="634" y="455"/>
                    </a:lnTo>
                    <a:lnTo>
                      <a:pt x="634" y="432"/>
                    </a:lnTo>
                    <a:lnTo>
                      <a:pt x="613" y="421"/>
                    </a:lnTo>
                    <a:lnTo>
                      <a:pt x="593" y="432"/>
                    </a:lnTo>
                    <a:lnTo>
                      <a:pt x="593" y="455"/>
                    </a:lnTo>
                    <a:lnTo>
                      <a:pt x="613" y="466"/>
                    </a:lnTo>
                    <a:close/>
                    <a:moveTo>
                      <a:pt x="666" y="466"/>
                    </a:moveTo>
                    <a:lnTo>
                      <a:pt x="686" y="455"/>
                    </a:lnTo>
                    <a:lnTo>
                      <a:pt x="686" y="432"/>
                    </a:lnTo>
                    <a:lnTo>
                      <a:pt x="666" y="421"/>
                    </a:lnTo>
                    <a:lnTo>
                      <a:pt x="647" y="432"/>
                    </a:lnTo>
                    <a:lnTo>
                      <a:pt x="647" y="455"/>
                    </a:lnTo>
                    <a:lnTo>
                      <a:pt x="666" y="466"/>
                    </a:lnTo>
                    <a:close/>
                    <a:moveTo>
                      <a:pt x="720" y="466"/>
                    </a:moveTo>
                    <a:lnTo>
                      <a:pt x="740" y="455"/>
                    </a:lnTo>
                    <a:lnTo>
                      <a:pt x="740" y="432"/>
                    </a:lnTo>
                    <a:lnTo>
                      <a:pt x="720" y="421"/>
                    </a:lnTo>
                    <a:lnTo>
                      <a:pt x="700" y="432"/>
                    </a:lnTo>
                    <a:lnTo>
                      <a:pt x="700" y="455"/>
                    </a:lnTo>
                    <a:lnTo>
                      <a:pt x="720" y="466"/>
                    </a:lnTo>
                    <a:close/>
                    <a:moveTo>
                      <a:pt x="775" y="466"/>
                    </a:moveTo>
                    <a:lnTo>
                      <a:pt x="795" y="455"/>
                    </a:lnTo>
                    <a:lnTo>
                      <a:pt x="795" y="432"/>
                    </a:lnTo>
                    <a:lnTo>
                      <a:pt x="775" y="421"/>
                    </a:lnTo>
                    <a:lnTo>
                      <a:pt x="754" y="432"/>
                    </a:lnTo>
                    <a:lnTo>
                      <a:pt x="754" y="455"/>
                    </a:lnTo>
                    <a:lnTo>
                      <a:pt x="775" y="466"/>
                    </a:lnTo>
                    <a:close/>
                    <a:moveTo>
                      <a:pt x="532" y="234"/>
                    </a:moveTo>
                    <a:lnTo>
                      <a:pt x="552" y="222"/>
                    </a:lnTo>
                    <a:lnTo>
                      <a:pt x="552" y="198"/>
                    </a:lnTo>
                    <a:lnTo>
                      <a:pt x="532" y="187"/>
                    </a:lnTo>
                    <a:lnTo>
                      <a:pt x="512" y="198"/>
                    </a:lnTo>
                    <a:lnTo>
                      <a:pt x="512" y="222"/>
                    </a:lnTo>
                    <a:lnTo>
                      <a:pt x="532" y="234"/>
                    </a:lnTo>
                    <a:close/>
                    <a:moveTo>
                      <a:pt x="532" y="140"/>
                    </a:moveTo>
                    <a:lnTo>
                      <a:pt x="552" y="128"/>
                    </a:lnTo>
                    <a:lnTo>
                      <a:pt x="552" y="105"/>
                    </a:lnTo>
                    <a:lnTo>
                      <a:pt x="532" y="94"/>
                    </a:lnTo>
                    <a:lnTo>
                      <a:pt x="512" y="105"/>
                    </a:lnTo>
                    <a:lnTo>
                      <a:pt x="512" y="128"/>
                    </a:lnTo>
                    <a:lnTo>
                      <a:pt x="532" y="140"/>
                    </a:lnTo>
                    <a:close/>
                    <a:moveTo>
                      <a:pt x="559" y="279"/>
                    </a:moveTo>
                    <a:lnTo>
                      <a:pt x="579" y="268"/>
                    </a:lnTo>
                    <a:lnTo>
                      <a:pt x="579" y="245"/>
                    </a:lnTo>
                    <a:lnTo>
                      <a:pt x="559" y="234"/>
                    </a:lnTo>
                    <a:lnTo>
                      <a:pt x="539" y="245"/>
                    </a:lnTo>
                    <a:lnTo>
                      <a:pt x="539" y="268"/>
                    </a:lnTo>
                    <a:lnTo>
                      <a:pt x="559" y="279"/>
                    </a:lnTo>
                    <a:close/>
                    <a:moveTo>
                      <a:pt x="559" y="187"/>
                    </a:moveTo>
                    <a:lnTo>
                      <a:pt x="579" y="174"/>
                    </a:lnTo>
                    <a:lnTo>
                      <a:pt x="579" y="152"/>
                    </a:lnTo>
                    <a:lnTo>
                      <a:pt x="559" y="140"/>
                    </a:lnTo>
                    <a:lnTo>
                      <a:pt x="539" y="152"/>
                    </a:lnTo>
                    <a:lnTo>
                      <a:pt x="539" y="174"/>
                    </a:lnTo>
                    <a:lnTo>
                      <a:pt x="559" y="187"/>
                    </a:lnTo>
                    <a:close/>
                    <a:moveTo>
                      <a:pt x="559" y="94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59" y="47"/>
                    </a:lnTo>
                    <a:lnTo>
                      <a:pt x="539" y="58"/>
                    </a:lnTo>
                    <a:lnTo>
                      <a:pt x="539" y="82"/>
                    </a:lnTo>
                    <a:lnTo>
                      <a:pt x="559" y="94"/>
                    </a:lnTo>
                    <a:close/>
                    <a:moveTo>
                      <a:pt x="480" y="327"/>
                    </a:moveTo>
                    <a:lnTo>
                      <a:pt x="498" y="316"/>
                    </a:lnTo>
                    <a:lnTo>
                      <a:pt x="498" y="292"/>
                    </a:lnTo>
                    <a:lnTo>
                      <a:pt x="480" y="280"/>
                    </a:lnTo>
                    <a:lnTo>
                      <a:pt x="459" y="292"/>
                    </a:lnTo>
                    <a:lnTo>
                      <a:pt x="459" y="316"/>
                    </a:lnTo>
                    <a:lnTo>
                      <a:pt x="480" y="327"/>
                    </a:lnTo>
                    <a:close/>
                    <a:moveTo>
                      <a:pt x="505" y="373"/>
                    </a:moveTo>
                    <a:lnTo>
                      <a:pt x="525" y="361"/>
                    </a:lnTo>
                    <a:lnTo>
                      <a:pt x="525" y="338"/>
                    </a:lnTo>
                    <a:lnTo>
                      <a:pt x="505" y="327"/>
                    </a:lnTo>
                    <a:lnTo>
                      <a:pt x="484" y="338"/>
                    </a:lnTo>
                    <a:lnTo>
                      <a:pt x="484" y="361"/>
                    </a:lnTo>
                    <a:lnTo>
                      <a:pt x="505" y="373"/>
                    </a:lnTo>
                    <a:close/>
                    <a:moveTo>
                      <a:pt x="48" y="421"/>
                    </a:moveTo>
                    <a:lnTo>
                      <a:pt x="68" y="409"/>
                    </a:lnTo>
                    <a:lnTo>
                      <a:pt x="68" y="384"/>
                    </a:lnTo>
                    <a:lnTo>
                      <a:pt x="48" y="373"/>
                    </a:lnTo>
                    <a:lnTo>
                      <a:pt x="27" y="384"/>
                    </a:lnTo>
                    <a:lnTo>
                      <a:pt x="27" y="409"/>
                    </a:lnTo>
                    <a:lnTo>
                      <a:pt x="48" y="421"/>
                    </a:lnTo>
                    <a:close/>
                    <a:moveTo>
                      <a:pt x="99" y="421"/>
                    </a:moveTo>
                    <a:lnTo>
                      <a:pt x="120" y="409"/>
                    </a:lnTo>
                    <a:lnTo>
                      <a:pt x="120" y="384"/>
                    </a:lnTo>
                    <a:lnTo>
                      <a:pt x="99" y="373"/>
                    </a:lnTo>
                    <a:lnTo>
                      <a:pt x="82" y="384"/>
                    </a:lnTo>
                    <a:lnTo>
                      <a:pt x="82" y="409"/>
                    </a:lnTo>
                    <a:lnTo>
                      <a:pt x="99" y="421"/>
                    </a:lnTo>
                    <a:close/>
                    <a:moveTo>
                      <a:pt x="155" y="421"/>
                    </a:moveTo>
                    <a:lnTo>
                      <a:pt x="175" y="409"/>
                    </a:lnTo>
                    <a:lnTo>
                      <a:pt x="175" y="384"/>
                    </a:lnTo>
                    <a:lnTo>
                      <a:pt x="155" y="373"/>
                    </a:lnTo>
                    <a:lnTo>
                      <a:pt x="133" y="384"/>
                    </a:lnTo>
                    <a:lnTo>
                      <a:pt x="133" y="409"/>
                    </a:lnTo>
                    <a:lnTo>
                      <a:pt x="155" y="421"/>
                    </a:lnTo>
                    <a:close/>
                    <a:moveTo>
                      <a:pt x="208" y="421"/>
                    </a:moveTo>
                    <a:lnTo>
                      <a:pt x="229" y="409"/>
                    </a:lnTo>
                    <a:lnTo>
                      <a:pt x="229" y="384"/>
                    </a:lnTo>
                    <a:lnTo>
                      <a:pt x="208" y="373"/>
                    </a:lnTo>
                    <a:lnTo>
                      <a:pt x="188" y="384"/>
                    </a:lnTo>
                    <a:lnTo>
                      <a:pt x="188" y="409"/>
                    </a:lnTo>
                    <a:lnTo>
                      <a:pt x="208" y="421"/>
                    </a:lnTo>
                    <a:close/>
                    <a:moveTo>
                      <a:pt x="262" y="421"/>
                    </a:moveTo>
                    <a:lnTo>
                      <a:pt x="282" y="409"/>
                    </a:lnTo>
                    <a:lnTo>
                      <a:pt x="282" y="384"/>
                    </a:lnTo>
                    <a:lnTo>
                      <a:pt x="262" y="373"/>
                    </a:lnTo>
                    <a:lnTo>
                      <a:pt x="242" y="384"/>
                    </a:lnTo>
                    <a:lnTo>
                      <a:pt x="242" y="409"/>
                    </a:lnTo>
                    <a:lnTo>
                      <a:pt x="262" y="421"/>
                    </a:lnTo>
                    <a:close/>
                    <a:moveTo>
                      <a:pt x="317" y="421"/>
                    </a:moveTo>
                    <a:lnTo>
                      <a:pt x="338" y="409"/>
                    </a:lnTo>
                    <a:lnTo>
                      <a:pt x="338" y="384"/>
                    </a:lnTo>
                    <a:lnTo>
                      <a:pt x="317" y="373"/>
                    </a:lnTo>
                    <a:lnTo>
                      <a:pt x="296" y="384"/>
                    </a:lnTo>
                    <a:lnTo>
                      <a:pt x="296" y="409"/>
                    </a:lnTo>
                    <a:lnTo>
                      <a:pt x="317" y="421"/>
                    </a:lnTo>
                    <a:close/>
                    <a:moveTo>
                      <a:pt x="371" y="421"/>
                    </a:moveTo>
                    <a:lnTo>
                      <a:pt x="391" y="409"/>
                    </a:lnTo>
                    <a:lnTo>
                      <a:pt x="391" y="384"/>
                    </a:lnTo>
                    <a:lnTo>
                      <a:pt x="371" y="373"/>
                    </a:lnTo>
                    <a:lnTo>
                      <a:pt x="351" y="384"/>
                    </a:lnTo>
                    <a:lnTo>
                      <a:pt x="351" y="409"/>
                    </a:lnTo>
                    <a:lnTo>
                      <a:pt x="371" y="421"/>
                    </a:lnTo>
                    <a:close/>
                    <a:moveTo>
                      <a:pt x="425" y="421"/>
                    </a:moveTo>
                    <a:lnTo>
                      <a:pt x="447" y="409"/>
                    </a:lnTo>
                    <a:lnTo>
                      <a:pt x="447" y="384"/>
                    </a:lnTo>
                    <a:lnTo>
                      <a:pt x="425" y="373"/>
                    </a:lnTo>
                    <a:lnTo>
                      <a:pt x="405" y="384"/>
                    </a:lnTo>
                    <a:lnTo>
                      <a:pt x="405" y="409"/>
                    </a:lnTo>
                    <a:lnTo>
                      <a:pt x="425" y="421"/>
                    </a:lnTo>
                    <a:close/>
                    <a:moveTo>
                      <a:pt x="371" y="327"/>
                    </a:moveTo>
                    <a:lnTo>
                      <a:pt x="391" y="316"/>
                    </a:lnTo>
                    <a:lnTo>
                      <a:pt x="391" y="292"/>
                    </a:lnTo>
                    <a:lnTo>
                      <a:pt x="371" y="280"/>
                    </a:lnTo>
                    <a:lnTo>
                      <a:pt x="351" y="292"/>
                    </a:lnTo>
                    <a:lnTo>
                      <a:pt x="351" y="316"/>
                    </a:lnTo>
                    <a:lnTo>
                      <a:pt x="371" y="327"/>
                    </a:lnTo>
                    <a:close/>
                    <a:moveTo>
                      <a:pt x="425" y="327"/>
                    </a:moveTo>
                    <a:lnTo>
                      <a:pt x="447" y="316"/>
                    </a:lnTo>
                    <a:lnTo>
                      <a:pt x="447" y="292"/>
                    </a:lnTo>
                    <a:lnTo>
                      <a:pt x="425" y="280"/>
                    </a:lnTo>
                    <a:lnTo>
                      <a:pt x="405" y="292"/>
                    </a:lnTo>
                    <a:lnTo>
                      <a:pt x="405" y="316"/>
                    </a:lnTo>
                    <a:lnTo>
                      <a:pt x="425" y="327"/>
                    </a:lnTo>
                    <a:close/>
                    <a:moveTo>
                      <a:pt x="21" y="373"/>
                    </a:moveTo>
                    <a:lnTo>
                      <a:pt x="41" y="361"/>
                    </a:lnTo>
                    <a:lnTo>
                      <a:pt x="41" y="338"/>
                    </a:lnTo>
                    <a:lnTo>
                      <a:pt x="21" y="327"/>
                    </a:lnTo>
                    <a:lnTo>
                      <a:pt x="0" y="338"/>
                    </a:lnTo>
                    <a:lnTo>
                      <a:pt x="0" y="361"/>
                    </a:lnTo>
                    <a:lnTo>
                      <a:pt x="21" y="373"/>
                    </a:lnTo>
                    <a:close/>
                    <a:moveTo>
                      <a:pt x="74" y="373"/>
                    </a:moveTo>
                    <a:lnTo>
                      <a:pt x="93" y="361"/>
                    </a:lnTo>
                    <a:lnTo>
                      <a:pt x="93" y="338"/>
                    </a:lnTo>
                    <a:lnTo>
                      <a:pt x="74" y="327"/>
                    </a:lnTo>
                    <a:lnTo>
                      <a:pt x="54" y="338"/>
                    </a:lnTo>
                    <a:lnTo>
                      <a:pt x="54" y="361"/>
                    </a:lnTo>
                    <a:lnTo>
                      <a:pt x="74" y="373"/>
                    </a:lnTo>
                    <a:close/>
                    <a:moveTo>
                      <a:pt x="127" y="373"/>
                    </a:moveTo>
                    <a:lnTo>
                      <a:pt x="147" y="361"/>
                    </a:lnTo>
                    <a:lnTo>
                      <a:pt x="147" y="338"/>
                    </a:lnTo>
                    <a:lnTo>
                      <a:pt x="127" y="327"/>
                    </a:lnTo>
                    <a:lnTo>
                      <a:pt x="107" y="338"/>
                    </a:lnTo>
                    <a:lnTo>
                      <a:pt x="107" y="361"/>
                    </a:lnTo>
                    <a:lnTo>
                      <a:pt x="127" y="373"/>
                    </a:lnTo>
                    <a:close/>
                    <a:moveTo>
                      <a:pt x="181" y="373"/>
                    </a:moveTo>
                    <a:lnTo>
                      <a:pt x="201" y="361"/>
                    </a:lnTo>
                    <a:lnTo>
                      <a:pt x="201" y="338"/>
                    </a:lnTo>
                    <a:lnTo>
                      <a:pt x="181" y="327"/>
                    </a:lnTo>
                    <a:lnTo>
                      <a:pt x="161" y="338"/>
                    </a:lnTo>
                    <a:lnTo>
                      <a:pt x="161" y="361"/>
                    </a:lnTo>
                    <a:lnTo>
                      <a:pt x="181" y="373"/>
                    </a:lnTo>
                    <a:close/>
                    <a:moveTo>
                      <a:pt x="236" y="373"/>
                    </a:moveTo>
                    <a:lnTo>
                      <a:pt x="256" y="361"/>
                    </a:lnTo>
                    <a:lnTo>
                      <a:pt x="256" y="338"/>
                    </a:lnTo>
                    <a:lnTo>
                      <a:pt x="236" y="327"/>
                    </a:lnTo>
                    <a:lnTo>
                      <a:pt x="215" y="338"/>
                    </a:lnTo>
                    <a:lnTo>
                      <a:pt x="215" y="361"/>
                    </a:lnTo>
                    <a:lnTo>
                      <a:pt x="236" y="373"/>
                    </a:lnTo>
                    <a:close/>
                    <a:moveTo>
                      <a:pt x="290" y="373"/>
                    </a:moveTo>
                    <a:lnTo>
                      <a:pt x="310" y="361"/>
                    </a:lnTo>
                    <a:lnTo>
                      <a:pt x="310" y="338"/>
                    </a:lnTo>
                    <a:lnTo>
                      <a:pt x="290" y="327"/>
                    </a:lnTo>
                    <a:lnTo>
                      <a:pt x="270" y="338"/>
                    </a:lnTo>
                    <a:lnTo>
                      <a:pt x="270" y="361"/>
                    </a:lnTo>
                    <a:lnTo>
                      <a:pt x="290" y="373"/>
                    </a:lnTo>
                    <a:close/>
                    <a:moveTo>
                      <a:pt x="48" y="327"/>
                    </a:moveTo>
                    <a:lnTo>
                      <a:pt x="68" y="316"/>
                    </a:lnTo>
                    <a:lnTo>
                      <a:pt x="68" y="292"/>
                    </a:lnTo>
                    <a:lnTo>
                      <a:pt x="48" y="280"/>
                    </a:lnTo>
                    <a:lnTo>
                      <a:pt x="27" y="292"/>
                    </a:lnTo>
                    <a:lnTo>
                      <a:pt x="27" y="316"/>
                    </a:lnTo>
                    <a:lnTo>
                      <a:pt x="48" y="327"/>
                    </a:lnTo>
                    <a:close/>
                    <a:moveTo>
                      <a:pt x="99" y="327"/>
                    </a:moveTo>
                    <a:lnTo>
                      <a:pt x="120" y="316"/>
                    </a:lnTo>
                    <a:lnTo>
                      <a:pt x="120" y="292"/>
                    </a:lnTo>
                    <a:lnTo>
                      <a:pt x="99" y="280"/>
                    </a:lnTo>
                    <a:lnTo>
                      <a:pt x="82" y="292"/>
                    </a:lnTo>
                    <a:lnTo>
                      <a:pt x="82" y="316"/>
                    </a:lnTo>
                    <a:lnTo>
                      <a:pt x="99" y="327"/>
                    </a:lnTo>
                    <a:close/>
                    <a:moveTo>
                      <a:pt x="155" y="327"/>
                    </a:moveTo>
                    <a:lnTo>
                      <a:pt x="175" y="316"/>
                    </a:lnTo>
                    <a:lnTo>
                      <a:pt x="175" y="292"/>
                    </a:lnTo>
                    <a:lnTo>
                      <a:pt x="155" y="280"/>
                    </a:lnTo>
                    <a:lnTo>
                      <a:pt x="133" y="292"/>
                    </a:lnTo>
                    <a:lnTo>
                      <a:pt x="133" y="316"/>
                    </a:lnTo>
                    <a:lnTo>
                      <a:pt x="155" y="327"/>
                    </a:lnTo>
                    <a:close/>
                    <a:moveTo>
                      <a:pt x="208" y="327"/>
                    </a:moveTo>
                    <a:lnTo>
                      <a:pt x="229" y="316"/>
                    </a:lnTo>
                    <a:lnTo>
                      <a:pt x="229" y="292"/>
                    </a:lnTo>
                    <a:lnTo>
                      <a:pt x="208" y="280"/>
                    </a:lnTo>
                    <a:lnTo>
                      <a:pt x="188" y="292"/>
                    </a:lnTo>
                    <a:lnTo>
                      <a:pt x="188" y="316"/>
                    </a:lnTo>
                    <a:lnTo>
                      <a:pt x="208" y="327"/>
                    </a:lnTo>
                    <a:close/>
                    <a:moveTo>
                      <a:pt x="262" y="327"/>
                    </a:moveTo>
                    <a:lnTo>
                      <a:pt x="282" y="316"/>
                    </a:lnTo>
                    <a:lnTo>
                      <a:pt x="282" y="292"/>
                    </a:lnTo>
                    <a:lnTo>
                      <a:pt x="262" y="280"/>
                    </a:lnTo>
                    <a:lnTo>
                      <a:pt x="242" y="292"/>
                    </a:lnTo>
                    <a:lnTo>
                      <a:pt x="242" y="316"/>
                    </a:lnTo>
                    <a:lnTo>
                      <a:pt x="262" y="327"/>
                    </a:lnTo>
                    <a:close/>
                    <a:moveTo>
                      <a:pt x="317" y="327"/>
                    </a:moveTo>
                    <a:lnTo>
                      <a:pt x="338" y="316"/>
                    </a:lnTo>
                    <a:lnTo>
                      <a:pt x="338" y="292"/>
                    </a:lnTo>
                    <a:lnTo>
                      <a:pt x="317" y="280"/>
                    </a:lnTo>
                    <a:lnTo>
                      <a:pt x="296" y="292"/>
                    </a:lnTo>
                    <a:lnTo>
                      <a:pt x="296" y="316"/>
                    </a:lnTo>
                    <a:lnTo>
                      <a:pt x="317" y="327"/>
                    </a:lnTo>
                    <a:close/>
                    <a:moveTo>
                      <a:pt x="344" y="373"/>
                    </a:moveTo>
                    <a:lnTo>
                      <a:pt x="365" y="361"/>
                    </a:lnTo>
                    <a:lnTo>
                      <a:pt x="365" y="338"/>
                    </a:lnTo>
                    <a:lnTo>
                      <a:pt x="344" y="327"/>
                    </a:lnTo>
                    <a:lnTo>
                      <a:pt x="324" y="338"/>
                    </a:lnTo>
                    <a:lnTo>
                      <a:pt x="324" y="361"/>
                    </a:lnTo>
                    <a:lnTo>
                      <a:pt x="344" y="373"/>
                    </a:lnTo>
                    <a:close/>
                    <a:moveTo>
                      <a:pt x="399" y="373"/>
                    </a:moveTo>
                    <a:lnTo>
                      <a:pt x="419" y="361"/>
                    </a:lnTo>
                    <a:lnTo>
                      <a:pt x="419" y="338"/>
                    </a:lnTo>
                    <a:lnTo>
                      <a:pt x="399" y="327"/>
                    </a:lnTo>
                    <a:lnTo>
                      <a:pt x="378" y="338"/>
                    </a:lnTo>
                    <a:lnTo>
                      <a:pt x="378" y="361"/>
                    </a:lnTo>
                    <a:lnTo>
                      <a:pt x="399" y="373"/>
                    </a:lnTo>
                    <a:close/>
                    <a:moveTo>
                      <a:pt x="480" y="421"/>
                    </a:moveTo>
                    <a:lnTo>
                      <a:pt x="498" y="409"/>
                    </a:lnTo>
                    <a:lnTo>
                      <a:pt x="498" y="384"/>
                    </a:lnTo>
                    <a:lnTo>
                      <a:pt x="480" y="373"/>
                    </a:lnTo>
                    <a:lnTo>
                      <a:pt x="459" y="384"/>
                    </a:lnTo>
                    <a:lnTo>
                      <a:pt x="459" y="409"/>
                    </a:lnTo>
                    <a:lnTo>
                      <a:pt x="480" y="421"/>
                    </a:lnTo>
                    <a:close/>
                    <a:moveTo>
                      <a:pt x="480" y="140"/>
                    </a:moveTo>
                    <a:lnTo>
                      <a:pt x="498" y="128"/>
                    </a:lnTo>
                    <a:lnTo>
                      <a:pt x="498" y="105"/>
                    </a:lnTo>
                    <a:lnTo>
                      <a:pt x="480" y="94"/>
                    </a:lnTo>
                    <a:lnTo>
                      <a:pt x="459" y="105"/>
                    </a:lnTo>
                    <a:lnTo>
                      <a:pt x="459" y="128"/>
                    </a:lnTo>
                    <a:lnTo>
                      <a:pt x="480" y="140"/>
                    </a:lnTo>
                    <a:close/>
                    <a:moveTo>
                      <a:pt x="505" y="94"/>
                    </a:moveTo>
                    <a:lnTo>
                      <a:pt x="525" y="82"/>
                    </a:lnTo>
                    <a:lnTo>
                      <a:pt x="525" y="58"/>
                    </a:lnTo>
                    <a:lnTo>
                      <a:pt x="505" y="47"/>
                    </a:lnTo>
                    <a:lnTo>
                      <a:pt x="484" y="58"/>
                    </a:lnTo>
                    <a:lnTo>
                      <a:pt x="484" y="82"/>
                    </a:lnTo>
                    <a:lnTo>
                      <a:pt x="505" y="94"/>
                    </a:lnTo>
                    <a:close/>
                    <a:moveTo>
                      <a:pt x="505" y="187"/>
                    </a:moveTo>
                    <a:lnTo>
                      <a:pt x="525" y="174"/>
                    </a:lnTo>
                    <a:lnTo>
                      <a:pt x="525" y="152"/>
                    </a:lnTo>
                    <a:lnTo>
                      <a:pt x="505" y="140"/>
                    </a:lnTo>
                    <a:lnTo>
                      <a:pt x="484" y="152"/>
                    </a:lnTo>
                    <a:lnTo>
                      <a:pt x="484" y="174"/>
                    </a:lnTo>
                    <a:lnTo>
                      <a:pt x="505" y="187"/>
                    </a:lnTo>
                    <a:close/>
                    <a:moveTo>
                      <a:pt x="371" y="234"/>
                    </a:moveTo>
                    <a:lnTo>
                      <a:pt x="391" y="222"/>
                    </a:lnTo>
                    <a:lnTo>
                      <a:pt x="391" y="198"/>
                    </a:lnTo>
                    <a:lnTo>
                      <a:pt x="371" y="187"/>
                    </a:lnTo>
                    <a:lnTo>
                      <a:pt x="351" y="198"/>
                    </a:lnTo>
                    <a:lnTo>
                      <a:pt x="351" y="222"/>
                    </a:lnTo>
                    <a:lnTo>
                      <a:pt x="371" y="234"/>
                    </a:lnTo>
                    <a:close/>
                    <a:moveTo>
                      <a:pt x="425" y="234"/>
                    </a:moveTo>
                    <a:lnTo>
                      <a:pt x="447" y="222"/>
                    </a:lnTo>
                    <a:lnTo>
                      <a:pt x="447" y="198"/>
                    </a:lnTo>
                    <a:lnTo>
                      <a:pt x="425" y="187"/>
                    </a:lnTo>
                    <a:lnTo>
                      <a:pt x="405" y="198"/>
                    </a:lnTo>
                    <a:lnTo>
                      <a:pt x="405" y="222"/>
                    </a:lnTo>
                    <a:lnTo>
                      <a:pt x="425" y="234"/>
                    </a:lnTo>
                    <a:close/>
                    <a:moveTo>
                      <a:pt x="21" y="279"/>
                    </a:moveTo>
                    <a:lnTo>
                      <a:pt x="41" y="268"/>
                    </a:lnTo>
                    <a:lnTo>
                      <a:pt x="41" y="245"/>
                    </a:lnTo>
                    <a:lnTo>
                      <a:pt x="21" y="234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21" y="279"/>
                    </a:lnTo>
                    <a:close/>
                    <a:moveTo>
                      <a:pt x="74" y="279"/>
                    </a:moveTo>
                    <a:lnTo>
                      <a:pt x="93" y="268"/>
                    </a:lnTo>
                    <a:lnTo>
                      <a:pt x="93" y="245"/>
                    </a:lnTo>
                    <a:lnTo>
                      <a:pt x="74" y="234"/>
                    </a:lnTo>
                    <a:lnTo>
                      <a:pt x="54" y="245"/>
                    </a:lnTo>
                    <a:lnTo>
                      <a:pt x="54" y="268"/>
                    </a:lnTo>
                    <a:lnTo>
                      <a:pt x="74" y="279"/>
                    </a:lnTo>
                    <a:close/>
                    <a:moveTo>
                      <a:pt x="127" y="279"/>
                    </a:moveTo>
                    <a:lnTo>
                      <a:pt x="147" y="268"/>
                    </a:lnTo>
                    <a:lnTo>
                      <a:pt x="147" y="245"/>
                    </a:lnTo>
                    <a:lnTo>
                      <a:pt x="127" y="234"/>
                    </a:lnTo>
                    <a:lnTo>
                      <a:pt x="107" y="245"/>
                    </a:lnTo>
                    <a:lnTo>
                      <a:pt x="107" y="268"/>
                    </a:lnTo>
                    <a:lnTo>
                      <a:pt x="127" y="279"/>
                    </a:lnTo>
                    <a:close/>
                    <a:moveTo>
                      <a:pt x="181" y="279"/>
                    </a:moveTo>
                    <a:lnTo>
                      <a:pt x="201" y="268"/>
                    </a:lnTo>
                    <a:lnTo>
                      <a:pt x="201" y="245"/>
                    </a:lnTo>
                    <a:lnTo>
                      <a:pt x="181" y="234"/>
                    </a:lnTo>
                    <a:lnTo>
                      <a:pt x="161" y="245"/>
                    </a:lnTo>
                    <a:lnTo>
                      <a:pt x="161" y="268"/>
                    </a:lnTo>
                    <a:lnTo>
                      <a:pt x="181" y="279"/>
                    </a:lnTo>
                    <a:close/>
                    <a:moveTo>
                      <a:pt x="236" y="279"/>
                    </a:moveTo>
                    <a:lnTo>
                      <a:pt x="256" y="268"/>
                    </a:lnTo>
                    <a:lnTo>
                      <a:pt x="256" y="245"/>
                    </a:lnTo>
                    <a:lnTo>
                      <a:pt x="236" y="234"/>
                    </a:lnTo>
                    <a:lnTo>
                      <a:pt x="215" y="245"/>
                    </a:lnTo>
                    <a:lnTo>
                      <a:pt x="215" y="268"/>
                    </a:lnTo>
                    <a:lnTo>
                      <a:pt x="236" y="279"/>
                    </a:lnTo>
                    <a:close/>
                    <a:moveTo>
                      <a:pt x="290" y="279"/>
                    </a:moveTo>
                    <a:lnTo>
                      <a:pt x="310" y="268"/>
                    </a:lnTo>
                    <a:lnTo>
                      <a:pt x="310" y="245"/>
                    </a:lnTo>
                    <a:lnTo>
                      <a:pt x="290" y="234"/>
                    </a:lnTo>
                    <a:lnTo>
                      <a:pt x="270" y="245"/>
                    </a:lnTo>
                    <a:lnTo>
                      <a:pt x="270" y="268"/>
                    </a:lnTo>
                    <a:lnTo>
                      <a:pt x="290" y="279"/>
                    </a:lnTo>
                    <a:close/>
                    <a:moveTo>
                      <a:pt x="344" y="279"/>
                    </a:moveTo>
                    <a:lnTo>
                      <a:pt x="365" y="268"/>
                    </a:lnTo>
                    <a:lnTo>
                      <a:pt x="365" y="245"/>
                    </a:lnTo>
                    <a:lnTo>
                      <a:pt x="344" y="234"/>
                    </a:lnTo>
                    <a:lnTo>
                      <a:pt x="324" y="245"/>
                    </a:lnTo>
                    <a:lnTo>
                      <a:pt x="324" y="268"/>
                    </a:lnTo>
                    <a:lnTo>
                      <a:pt x="344" y="279"/>
                    </a:lnTo>
                    <a:close/>
                    <a:moveTo>
                      <a:pt x="48" y="234"/>
                    </a:moveTo>
                    <a:lnTo>
                      <a:pt x="68" y="222"/>
                    </a:lnTo>
                    <a:lnTo>
                      <a:pt x="68" y="198"/>
                    </a:lnTo>
                    <a:lnTo>
                      <a:pt x="48" y="187"/>
                    </a:lnTo>
                    <a:lnTo>
                      <a:pt x="27" y="198"/>
                    </a:lnTo>
                    <a:lnTo>
                      <a:pt x="27" y="222"/>
                    </a:lnTo>
                    <a:lnTo>
                      <a:pt x="48" y="234"/>
                    </a:lnTo>
                    <a:close/>
                    <a:moveTo>
                      <a:pt x="99" y="234"/>
                    </a:moveTo>
                    <a:lnTo>
                      <a:pt x="120" y="222"/>
                    </a:lnTo>
                    <a:lnTo>
                      <a:pt x="120" y="198"/>
                    </a:lnTo>
                    <a:lnTo>
                      <a:pt x="99" y="187"/>
                    </a:lnTo>
                    <a:lnTo>
                      <a:pt x="82" y="198"/>
                    </a:lnTo>
                    <a:lnTo>
                      <a:pt x="82" y="222"/>
                    </a:lnTo>
                    <a:lnTo>
                      <a:pt x="99" y="234"/>
                    </a:lnTo>
                    <a:close/>
                    <a:moveTo>
                      <a:pt x="155" y="234"/>
                    </a:moveTo>
                    <a:lnTo>
                      <a:pt x="175" y="222"/>
                    </a:lnTo>
                    <a:lnTo>
                      <a:pt x="175" y="198"/>
                    </a:lnTo>
                    <a:lnTo>
                      <a:pt x="155" y="187"/>
                    </a:lnTo>
                    <a:lnTo>
                      <a:pt x="133" y="198"/>
                    </a:lnTo>
                    <a:lnTo>
                      <a:pt x="133" y="222"/>
                    </a:lnTo>
                    <a:lnTo>
                      <a:pt x="155" y="234"/>
                    </a:lnTo>
                    <a:close/>
                    <a:moveTo>
                      <a:pt x="208" y="234"/>
                    </a:moveTo>
                    <a:lnTo>
                      <a:pt x="229" y="222"/>
                    </a:lnTo>
                    <a:lnTo>
                      <a:pt x="229" y="198"/>
                    </a:lnTo>
                    <a:lnTo>
                      <a:pt x="208" y="187"/>
                    </a:lnTo>
                    <a:lnTo>
                      <a:pt x="188" y="198"/>
                    </a:lnTo>
                    <a:lnTo>
                      <a:pt x="188" y="222"/>
                    </a:lnTo>
                    <a:lnTo>
                      <a:pt x="208" y="234"/>
                    </a:lnTo>
                    <a:close/>
                    <a:moveTo>
                      <a:pt x="262" y="234"/>
                    </a:moveTo>
                    <a:lnTo>
                      <a:pt x="282" y="222"/>
                    </a:lnTo>
                    <a:lnTo>
                      <a:pt x="282" y="198"/>
                    </a:lnTo>
                    <a:lnTo>
                      <a:pt x="262" y="187"/>
                    </a:lnTo>
                    <a:lnTo>
                      <a:pt x="242" y="198"/>
                    </a:lnTo>
                    <a:lnTo>
                      <a:pt x="242" y="222"/>
                    </a:lnTo>
                    <a:lnTo>
                      <a:pt x="262" y="234"/>
                    </a:lnTo>
                    <a:close/>
                    <a:moveTo>
                      <a:pt x="317" y="234"/>
                    </a:moveTo>
                    <a:lnTo>
                      <a:pt x="338" y="222"/>
                    </a:lnTo>
                    <a:lnTo>
                      <a:pt x="338" y="198"/>
                    </a:lnTo>
                    <a:lnTo>
                      <a:pt x="317" y="187"/>
                    </a:lnTo>
                    <a:lnTo>
                      <a:pt x="296" y="198"/>
                    </a:lnTo>
                    <a:lnTo>
                      <a:pt x="296" y="222"/>
                    </a:lnTo>
                    <a:lnTo>
                      <a:pt x="317" y="234"/>
                    </a:lnTo>
                    <a:close/>
                    <a:moveTo>
                      <a:pt x="399" y="279"/>
                    </a:moveTo>
                    <a:lnTo>
                      <a:pt x="419" y="268"/>
                    </a:lnTo>
                    <a:lnTo>
                      <a:pt x="419" y="245"/>
                    </a:lnTo>
                    <a:lnTo>
                      <a:pt x="399" y="234"/>
                    </a:lnTo>
                    <a:lnTo>
                      <a:pt x="378" y="245"/>
                    </a:lnTo>
                    <a:lnTo>
                      <a:pt x="378" y="268"/>
                    </a:lnTo>
                    <a:lnTo>
                      <a:pt x="399" y="279"/>
                    </a:lnTo>
                    <a:close/>
                    <a:moveTo>
                      <a:pt x="371" y="140"/>
                    </a:moveTo>
                    <a:lnTo>
                      <a:pt x="391" y="128"/>
                    </a:lnTo>
                    <a:lnTo>
                      <a:pt x="391" y="105"/>
                    </a:lnTo>
                    <a:lnTo>
                      <a:pt x="371" y="94"/>
                    </a:lnTo>
                    <a:lnTo>
                      <a:pt x="351" y="105"/>
                    </a:lnTo>
                    <a:lnTo>
                      <a:pt x="351" y="128"/>
                    </a:lnTo>
                    <a:lnTo>
                      <a:pt x="371" y="140"/>
                    </a:lnTo>
                    <a:close/>
                    <a:moveTo>
                      <a:pt x="425" y="140"/>
                    </a:moveTo>
                    <a:lnTo>
                      <a:pt x="447" y="128"/>
                    </a:lnTo>
                    <a:lnTo>
                      <a:pt x="447" y="105"/>
                    </a:lnTo>
                    <a:lnTo>
                      <a:pt x="425" y="94"/>
                    </a:lnTo>
                    <a:lnTo>
                      <a:pt x="405" y="105"/>
                    </a:lnTo>
                    <a:lnTo>
                      <a:pt x="405" y="128"/>
                    </a:lnTo>
                    <a:lnTo>
                      <a:pt x="425" y="140"/>
                    </a:lnTo>
                    <a:close/>
                    <a:moveTo>
                      <a:pt x="21" y="187"/>
                    </a:moveTo>
                    <a:lnTo>
                      <a:pt x="41" y="174"/>
                    </a:lnTo>
                    <a:lnTo>
                      <a:pt x="41" y="152"/>
                    </a:lnTo>
                    <a:lnTo>
                      <a:pt x="21" y="14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21" y="187"/>
                    </a:lnTo>
                    <a:close/>
                    <a:moveTo>
                      <a:pt x="74" y="187"/>
                    </a:moveTo>
                    <a:lnTo>
                      <a:pt x="93" y="174"/>
                    </a:lnTo>
                    <a:lnTo>
                      <a:pt x="93" y="152"/>
                    </a:lnTo>
                    <a:lnTo>
                      <a:pt x="74" y="140"/>
                    </a:lnTo>
                    <a:lnTo>
                      <a:pt x="54" y="152"/>
                    </a:lnTo>
                    <a:lnTo>
                      <a:pt x="54" y="174"/>
                    </a:lnTo>
                    <a:lnTo>
                      <a:pt x="74" y="187"/>
                    </a:lnTo>
                    <a:close/>
                    <a:moveTo>
                      <a:pt x="127" y="187"/>
                    </a:moveTo>
                    <a:lnTo>
                      <a:pt x="147" y="174"/>
                    </a:lnTo>
                    <a:lnTo>
                      <a:pt x="147" y="152"/>
                    </a:lnTo>
                    <a:lnTo>
                      <a:pt x="127" y="140"/>
                    </a:lnTo>
                    <a:lnTo>
                      <a:pt x="107" y="152"/>
                    </a:lnTo>
                    <a:lnTo>
                      <a:pt x="107" y="174"/>
                    </a:lnTo>
                    <a:lnTo>
                      <a:pt x="127" y="187"/>
                    </a:lnTo>
                    <a:close/>
                    <a:moveTo>
                      <a:pt x="181" y="187"/>
                    </a:moveTo>
                    <a:lnTo>
                      <a:pt x="201" y="174"/>
                    </a:lnTo>
                    <a:lnTo>
                      <a:pt x="201" y="152"/>
                    </a:lnTo>
                    <a:lnTo>
                      <a:pt x="181" y="140"/>
                    </a:lnTo>
                    <a:lnTo>
                      <a:pt x="161" y="152"/>
                    </a:lnTo>
                    <a:lnTo>
                      <a:pt x="161" y="174"/>
                    </a:lnTo>
                    <a:lnTo>
                      <a:pt x="181" y="187"/>
                    </a:lnTo>
                    <a:close/>
                    <a:moveTo>
                      <a:pt x="236" y="187"/>
                    </a:moveTo>
                    <a:lnTo>
                      <a:pt x="256" y="174"/>
                    </a:lnTo>
                    <a:lnTo>
                      <a:pt x="256" y="152"/>
                    </a:lnTo>
                    <a:lnTo>
                      <a:pt x="236" y="140"/>
                    </a:lnTo>
                    <a:lnTo>
                      <a:pt x="215" y="152"/>
                    </a:lnTo>
                    <a:lnTo>
                      <a:pt x="215" y="174"/>
                    </a:lnTo>
                    <a:lnTo>
                      <a:pt x="236" y="187"/>
                    </a:lnTo>
                    <a:close/>
                    <a:moveTo>
                      <a:pt x="290" y="187"/>
                    </a:moveTo>
                    <a:lnTo>
                      <a:pt x="310" y="174"/>
                    </a:lnTo>
                    <a:lnTo>
                      <a:pt x="310" y="152"/>
                    </a:lnTo>
                    <a:lnTo>
                      <a:pt x="290" y="140"/>
                    </a:lnTo>
                    <a:lnTo>
                      <a:pt x="270" y="152"/>
                    </a:lnTo>
                    <a:lnTo>
                      <a:pt x="270" y="174"/>
                    </a:lnTo>
                    <a:lnTo>
                      <a:pt x="290" y="187"/>
                    </a:lnTo>
                    <a:close/>
                    <a:moveTo>
                      <a:pt x="344" y="187"/>
                    </a:moveTo>
                    <a:lnTo>
                      <a:pt x="365" y="174"/>
                    </a:lnTo>
                    <a:lnTo>
                      <a:pt x="365" y="152"/>
                    </a:lnTo>
                    <a:lnTo>
                      <a:pt x="344" y="140"/>
                    </a:lnTo>
                    <a:lnTo>
                      <a:pt x="324" y="152"/>
                    </a:lnTo>
                    <a:lnTo>
                      <a:pt x="324" y="174"/>
                    </a:lnTo>
                    <a:lnTo>
                      <a:pt x="344" y="187"/>
                    </a:lnTo>
                    <a:close/>
                    <a:moveTo>
                      <a:pt x="262" y="47"/>
                    </a:moveTo>
                    <a:lnTo>
                      <a:pt x="282" y="34"/>
                    </a:lnTo>
                    <a:lnTo>
                      <a:pt x="282" y="11"/>
                    </a:lnTo>
                    <a:lnTo>
                      <a:pt x="262" y="0"/>
                    </a:lnTo>
                    <a:lnTo>
                      <a:pt x="242" y="11"/>
                    </a:lnTo>
                    <a:lnTo>
                      <a:pt x="242" y="34"/>
                    </a:lnTo>
                    <a:lnTo>
                      <a:pt x="262" y="47"/>
                    </a:lnTo>
                    <a:close/>
                    <a:moveTo>
                      <a:pt x="290" y="94"/>
                    </a:moveTo>
                    <a:lnTo>
                      <a:pt x="310" y="82"/>
                    </a:lnTo>
                    <a:lnTo>
                      <a:pt x="310" y="58"/>
                    </a:lnTo>
                    <a:lnTo>
                      <a:pt x="290" y="47"/>
                    </a:lnTo>
                    <a:lnTo>
                      <a:pt x="270" y="58"/>
                    </a:lnTo>
                    <a:lnTo>
                      <a:pt x="270" y="82"/>
                    </a:lnTo>
                    <a:lnTo>
                      <a:pt x="290" y="94"/>
                    </a:lnTo>
                    <a:close/>
                    <a:moveTo>
                      <a:pt x="48" y="140"/>
                    </a:moveTo>
                    <a:lnTo>
                      <a:pt x="68" y="128"/>
                    </a:lnTo>
                    <a:lnTo>
                      <a:pt x="68" y="105"/>
                    </a:lnTo>
                    <a:lnTo>
                      <a:pt x="48" y="94"/>
                    </a:lnTo>
                    <a:lnTo>
                      <a:pt x="27" y="105"/>
                    </a:lnTo>
                    <a:lnTo>
                      <a:pt x="27" y="128"/>
                    </a:lnTo>
                    <a:lnTo>
                      <a:pt x="48" y="140"/>
                    </a:lnTo>
                    <a:close/>
                    <a:moveTo>
                      <a:pt x="99" y="140"/>
                    </a:moveTo>
                    <a:lnTo>
                      <a:pt x="120" y="128"/>
                    </a:lnTo>
                    <a:lnTo>
                      <a:pt x="120" y="105"/>
                    </a:lnTo>
                    <a:lnTo>
                      <a:pt x="99" y="94"/>
                    </a:lnTo>
                    <a:lnTo>
                      <a:pt x="82" y="105"/>
                    </a:lnTo>
                    <a:lnTo>
                      <a:pt x="82" y="128"/>
                    </a:lnTo>
                    <a:lnTo>
                      <a:pt x="99" y="140"/>
                    </a:lnTo>
                    <a:close/>
                    <a:moveTo>
                      <a:pt x="155" y="140"/>
                    </a:moveTo>
                    <a:lnTo>
                      <a:pt x="175" y="128"/>
                    </a:lnTo>
                    <a:lnTo>
                      <a:pt x="175" y="105"/>
                    </a:lnTo>
                    <a:lnTo>
                      <a:pt x="155" y="94"/>
                    </a:lnTo>
                    <a:lnTo>
                      <a:pt x="133" y="105"/>
                    </a:lnTo>
                    <a:lnTo>
                      <a:pt x="133" y="128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29" y="128"/>
                    </a:lnTo>
                    <a:lnTo>
                      <a:pt x="229" y="105"/>
                    </a:lnTo>
                    <a:lnTo>
                      <a:pt x="208" y="94"/>
                    </a:lnTo>
                    <a:lnTo>
                      <a:pt x="188" y="105"/>
                    </a:lnTo>
                    <a:lnTo>
                      <a:pt x="188" y="128"/>
                    </a:lnTo>
                    <a:lnTo>
                      <a:pt x="208" y="140"/>
                    </a:lnTo>
                    <a:close/>
                    <a:moveTo>
                      <a:pt x="155" y="47"/>
                    </a:moveTo>
                    <a:lnTo>
                      <a:pt x="175" y="34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3" y="11"/>
                    </a:lnTo>
                    <a:lnTo>
                      <a:pt x="133" y="34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29" y="34"/>
                    </a:lnTo>
                    <a:lnTo>
                      <a:pt x="229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4"/>
                    </a:lnTo>
                    <a:lnTo>
                      <a:pt x="208" y="47"/>
                    </a:lnTo>
                    <a:close/>
                    <a:moveTo>
                      <a:pt x="21" y="94"/>
                    </a:moveTo>
                    <a:lnTo>
                      <a:pt x="41" y="82"/>
                    </a:lnTo>
                    <a:lnTo>
                      <a:pt x="41" y="58"/>
                    </a:lnTo>
                    <a:lnTo>
                      <a:pt x="21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1" y="94"/>
                    </a:lnTo>
                    <a:close/>
                    <a:moveTo>
                      <a:pt x="74" y="94"/>
                    </a:moveTo>
                    <a:lnTo>
                      <a:pt x="93" y="82"/>
                    </a:lnTo>
                    <a:lnTo>
                      <a:pt x="93" y="58"/>
                    </a:lnTo>
                    <a:lnTo>
                      <a:pt x="74" y="47"/>
                    </a:lnTo>
                    <a:lnTo>
                      <a:pt x="54" y="58"/>
                    </a:lnTo>
                    <a:lnTo>
                      <a:pt x="54" y="82"/>
                    </a:lnTo>
                    <a:lnTo>
                      <a:pt x="74" y="94"/>
                    </a:lnTo>
                    <a:close/>
                    <a:moveTo>
                      <a:pt x="127" y="94"/>
                    </a:moveTo>
                    <a:lnTo>
                      <a:pt x="147" y="82"/>
                    </a:lnTo>
                    <a:lnTo>
                      <a:pt x="147" y="58"/>
                    </a:lnTo>
                    <a:lnTo>
                      <a:pt x="127" y="47"/>
                    </a:lnTo>
                    <a:lnTo>
                      <a:pt x="107" y="58"/>
                    </a:lnTo>
                    <a:lnTo>
                      <a:pt x="107" y="82"/>
                    </a:lnTo>
                    <a:lnTo>
                      <a:pt x="127" y="94"/>
                    </a:lnTo>
                    <a:close/>
                    <a:moveTo>
                      <a:pt x="48" y="47"/>
                    </a:moveTo>
                    <a:lnTo>
                      <a:pt x="68" y="34"/>
                    </a:lnTo>
                    <a:lnTo>
                      <a:pt x="68" y="11"/>
                    </a:lnTo>
                    <a:lnTo>
                      <a:pt x="48" y="0"/>
                    </a:lnTo>
                    <a:lnTo>
                      <a:pt x="27" y="11"/>
                    </a:lnTo>
                    <a:lnTo>
                      <a:pt x="27" y="34"/>
                    </a:lnTo>
                    <a:lnTo>
                      <a:pt x="48" y="47"/>
                    </a:lnTo>
                    <a:close/>
                    <a:moveTo>
                      <a:pt x="99" y="47"/>
                    </a:moveTo>
                    <a:lnTo>
                      <a:pt x="120" y="34"/>
                    </a:lnTo>
                    <a:lnTo>
                      <a:pt x="120" y="11"/>
                    </a:lnTo>
                    <a:lnTo>
                      <a:pt x="99" y="0"/>
                    </a:lnTo>
                    <a:lnTo>
                      <a:pt x="82" y="11"/>
                    </a:lnTo>
                    <a:lnTo>
                      <a:pt x="82" y="34"/>
                    </a:lnTo>
                    <a:lnTo>
                      <a:pt x="99" y="47"/>
                    </a:lnTo>
                    <a:close/>
                    <a:moveTo>
                      <a:pt x="181" y="94"/>
                    </a:moveTo>
                    <a:lnTo>
                      <a:pt x="201" y="82"/>
                    </a:lnTo>
                    <a:lnTo>
                      <a:pt x="201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4"/>
                    </a:lnTo>
                    <a:close/>
                    <a:moveTo>
                      <a:pt x="236" y="94"/>
                    </a:moveTo>
                    <a:lnTo>
                      <a:pt x="256" y="82"/>
                    </a:lnTo>
                    <a:lnTo>
                      <a:pt x="256" y="58"/>
                    </a:lnTo>
                    <a:lnTo>
                      <a:pt x="236" y="47"/>
                    </a:lnTo>
                    <a:lnTo>
                      <a:pt x="215" y="58"/>
                    </a:lnTo>
                    <a:lnTo>
                      <a:pt x="215" y="82"/>
                    </a:lnTo>
                    <a:lnTo>
                      <a:pt x="236" y="94"/>
                    </a:lnTo>
                    <a:close/>
                    <a:moveTo>
                      <a:pt x="262" y="140"/>
                    </a:moveTo>
                    <a:lnTo>
                      <a:pt x="282" y="128"/>
                    </a:lnTo>
                    <a:lnTo>
                      <a:pt x="282" y="105"/>
                    </a:lnTo>
                    <a:lnTo>
                      <a:pt x="262" y="94"/>
                    </a:lnTo>
                    <a:lnTo>
                      <a:pt x="242" y="105"/>
                    </a:lnTo>
                    <a:lnTo>
                      <a:pt x="242" y="128"/>
                    </a:lnTo>
                    <a:lnTo>
                      <a:pt x="262" y="140"/>
                    </a:lnTo>
                    <a:close/>
                    <a:moveTo>
                      <a:pt x="317" y="140"/>
                    </a:moveTo>
                    <a:lnTo>
                      <a:pt x="338" y="128"/>
                    </a:lnTo>
                    <a:lnTo>
                      <a:pt x="338" y="105"/>
                    </a:lnTo>
                    <a:lnTo>
                      <a:pt x="317" y="94"/>
                    </a:lnTo>
                    <a:lnTo>
                      <a:pt x="296" y="105"/>
                    </a:lnTo>
                    <a:lnTo>
                      <a:pt x="296" y="128"/>
                    </a:lnTo>
                    <a:lnTo>
                      <a:pt x="317" y="140"/>
                    </a:lnTo>
                    <a:close/>
                    <a:moveTo>
                      <a:pt x="399" y="187"/>
                    </a:moveTo>
                    <a:lnTo>
                      <a:pt x="419" y="174"/>
                    </a:lnTo>
                    <a:lnTo>
                      <a:pt x="419" y="152"/>
                    </a:lnTo>
                    <a:lnTo>
                      <a:pt x="399" y="140"/>
                    </a:lnTo>
                    <a:lnTo>
                      <a:pt x="378" y="152"/>
                    </a:lnTo>
                    <a:lnTo>
                      <a:pt x="378" y="174"/>
                    </a:lnTo>
                    <a:lnTo>
                      <a:pt x="399" y="187"/>
                    </a:lnTo>
                    <a:close/>
                    <a:moveTo>
                      <a:pt x="480" y="234"/>
                    </a:moveTo>
                    <a:lnTo>
                      <a:pt x="498" y="222"/>
                    </a:lnTo>
                    <a:lnTo>
                      <a:pt x="498" y="198"/>
                    </a:lnTo>
                    <a:lnTo>
                      <a:pt x="480" y="187"/>
                    </a:lnTo>
                    <a:lnTo>
                      <a:pt x="459" y="198"/>
                    </a:lnTo>
                    <a:lnTo>
                      <a:pt x="459" y="222"/>
                    </a:lnTo>
                    <a:lnTo>
                      <a:pt x="480" y="234"/>
                    </a:lnTo>
                    <a:close/>
                    <a:moveTo>
                      <a:pt x="505" y="279"/>
                    </a:moveTo>
                    <a:lnTo>
                      <a:pt x="525" y="268"/>
                    </a:lnTo>
                    <a:lnTo>
                      <a:pt x="525" y="245"/>
                    </a:lnTo>
                    <a:lnTo>
                      <a:pt x="505" y="234"/>
                    </a:lnTo>
                    <a:lnTo>
                      <a:pt x="484" y="245"/>
                    </a:lnTo>
                    <a:lnTo>
                      <a:pt x="484" y="268"/>
                    </a:lnTo>
                    <a:lnTo>
                      <a:pt x="505" y="279"/>
                    </a:lnTo>
                    <a:close/>
                    <a:moveTo>
                      <a:pt x="532" y="421"/>
                    </a:moveTo>
                    <a:lnTo>
                      <a:pt x="552" y="409"/>
                    </a:lnTo>
                    <a:lnTo>
                      <a:pt x="552" y="384"/>
                    </a:lnTo>
                    <a:lnTo>
                      <a:pt x="532" y="373"/>
                    </a:lnTo>
                    <a:lnTo>
                      <a:pt x="512" y="384"/>
                    </a:lnTo>
                    <a:lnTo>
                      <a:pt x="512" y="409"/>
                    </a:lnTo>
                    <a:lnTo>
                      <a:pt x="532" y="421"/>
                    </a:lnTo>
                    <a:close/>
                    <a:moveTo>
                      <a:pt x="532" y="327"/>
                    </a:moveTo>
                    <a:lnTo>
                      <a:pt x="552" y="316"/>
                    </a:lnTo>
                    <a:lnTo>
                      <a:pt x="552" y="292"/>
                    </a:lnTo>
                    <a:lnTo>
                      <a:pt x="532" y="280"/>
                    </a:lnTo>
                    <a:lnTo>
                      <a:pt x="512" y="292"/>
                    </a:lnTo>
                    <a:lnTo>
                      <a:pt x="512" y="316"/>
                    </a:lnTo>
                    <a:lnTo>
                      <a:pt x="532" y="327"/>
                    </a:lnTo>
                    <a:close/>
                    <a:moveTo>
                      <a:pt x="559" y="373"/>
                    </a:moveTo>
                    <a:lnTo>
                      <a:pt x="579" y="361"/>
                    </a:lnTo>
                    <a:lnTo>
                      <a:pt x="579" y="338"/>
                    </a:lnTo>
                    <a:lnTo>
                      <a:pt x="559" y="327"/>
                    </a:lnTo>
                    <a:lnTo>
                      <a:pt x="539" y="338"/>
                    </a:lnTo>
                    <a:lnTo>
                      <a:pt x="539" y="361"/>
                    </a:lnTo>
                    <a:lnTo>
                      <a:pt x="559" y="373"/>
                    </a:lnTo>
                    <a:close/>
                    <a:moveTo>
                      <a:pt x="587" y="421"/>
                    </a:moveTo>
                    <a:lnTo>
                      <a:pt x="607" y="409"/>
                    </a:lnTo>
                    <a:lnTo>
                      <a:pt x="607" y="384"/>
                    </a:lnTo>
                    <a:lnTo>
                      <a:pt x="587" y="373"/>
                    </a:lnTo>
                    <a:lnTo>
                      <a:pt x="566" y="384"/>
                    </a:lnTo>
                    <a:lnTo>
                      <a:pt x="566" y="409"/>
                    </a:lnTo>
                    <a:lnTo>
                      <a:pt x="587" y="421"/>
                    </a:lnTo>
                    <a:close/>
                    <a:moveTo>
                      <a:pt x="829" y="466"/>
                    </a:moveTo>
                    <a:lnTo>
                      <a:pt x="849" y="455"/>
                    </a:lnTo>
                    <a:lnTo>
                      <a:pt x="849" y="432"/>
                    </a:lnTo>
                    <a:lnTo>
                      <a:pt x="829" y="421"/>
                    </a:lnTo>
                    <a:lnTo>
                      <a:pt x="809" y="432"/>
                    </a:lnTo>
                    <a:lnTo>
                      <a:pt x="809" y="455"/>
                    </a:lnTo>
                    <a:lnTo>
                      <a:pt x="829" y="466"/>
                    </a:lnTo>
                    <a:close/>
                    <a:moveTo>
                      <a:pt x="883" y="466"/>
                    </a:moveTo>
                    <a:lnTo>
                      <a:pt x="904" y="455"/>
                    </a:lnTo>
                    <a:lnTo>
                      <a:pt x="904" y="432"/>
                    </a:lnTo>
                    <a:lnTo>
                      <a:pt x="883" y="421"/>
                    </a:lnTo>
                    <a:lnTo>
                      <a:pt x="863" y="432"/>
                    </a:lnTo>
                    <a:lnTo>
                      <a:pt x="863" y="455"/>
                    </a:lnTo>
                    <a:lnTo>
                      <a:pt x="883" y="466"/>
                    </a:lnTo>
                    <a:close/>
                    <a:moveTo>
                      <a:pt x="938" y="466"/>
                    </a:moveTo>
                    <a:lnTo>
                      <a:pt x="958" y="455"/>
                    </a:lnTo>
                    <a:lnTo>
                      <a:pt x="958" y="432"/>
                    </a:lnTo>
                    <a:lnTo>
                      <a:pt x="938" y="421"/>
                    </a:lnTo>
                    <a:lnTo>
                      <a:pt x="916" y="432"/>
                    </a:lnTo>
                    <a:lnTo>
                      <a:pt x="916" y="455"/>
                    </a:lnTo>
                    <a:lnTo>
                      <a:pt x="938" y="466"/>
                    </a:lnTo>
                    <a:close/>
                    <a:moveTo>
                      <a:pt x="992" y="559"/>
                    </a:moveTo>
                    <a:lnTo>
                      <a:pt x="1012" y="548"/>
                    </a:lnTo>
                    <a:lnTo>
                      <a:pt x="1012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48"/>
                    </a:lnTo>
                    <a:lnTo>
                      <a:pt x="992" y="559"/>
                    </a:lnTo>
                    <a:close/>
                    <a:moveTo>
                      <a:pt x="1045" y="559"/>
                    </a:moveTo>
                    <a:lnTo>
                      <a:pt x="1064" y="548"/>
                    </a:lnTo>
                    <a:lnTo>
                      <a:pt x="1064" y="525"/>
                    </a:lnTo>
                    <a:lnTo>
                      <a:pt x="1045" y="514"/>
                    </a:lnTo>
                    <a:lnTo>
                      <a:pt x="1025" y="525"/>
                    </a:lnTo>
                    <a:lnTo>
                      <a:pt x="1025" y="548"/>
                    </a:lnTo>
                    <a:lnTo>
                      <a:pt x="1045" y="559"/>
                    </a:lnTo>
                    <a:close/>
                    <a:moveTo>
                      <a:pt x="801" y="605"/>
                    </a:moveTo>
                    <a:lnTo>
                      <a:pt x="821" y="594"/>
                    </a:lnTo>
                    <a:lnTo>
                      <a:pt x="821" y="571"/>
                    </a:lnTo>
                    <a:lnTo>
                      <a:pt x="801" y="559"/>
                    </a:lnTo>
                    <a:lnTo>
                      <a:pt x="781" y="571"/>
                    </a:lnTo>
                    <a:lnTo>
                      <a:pt x="781" y="594"/>
                    </a:lnTo>
                    <a:lnTo>
                      <a:pt x="801" y="605"/>
                    </a:lnTo>
                    <a:close/>
                    <a:moveTo>
                      <a:pt x="856" y="605"/>
                    </a:moveTo>
                    <a:lnTo>
                      <a:pt x="876" y="594"/>
                    </a:lnTo>
                    <a:lnTo>
                      <a:pt x="876" y="571"/>
                    </a:lnTo>
                    <a:lnTo>
                      <a:pt x="856" y="559"/>
                    </a:lnTo>
                    <a:lnTo>
                      <a:pt x="835" y="571"/>
                    </a:lnTo>
                    <a:lnTo>
                      <a:pt x="835" y="594"/>
                    </a:lnTo>
                    <a:lnTo>
                      <a:pt x="856" y="605"/>
                    </a:lnTo>
                    <a:close/>
                    <a:moveTo>
                      <a:pt x="910" y="605"/>
                    </a:moveTo>
                    <a:lnTo>
                      <a:pt x="930" y="594"/>
                    </a:lnTo>
                    <a:lnTo>
                      <a:pt x="930" y="571"/>
                    </a:lnTo>
                    <a:lnTo>
                      <a:pt x="910" y="559"/>
                    </a:lnTo>
                    <a:lnTo>
                      <a:pt x="890" y="571"/>
                    </a:lnTo>
                    <a:lnTo>
                      <a:pt x="890" y="594"/>
                    </a:lnTo>
                    <a:lnTo>
                      <a:pt x="910" y="605"/>
                    </a:lnTo>
                    <a:close/>
                    <a:moveTo>
                      <a:pt x="964" y="605"/>
                    </a:moveTo>
                    <a:lnTo>
                      <a:pt x="985" y="594"/>
                    </a:lnTo>
                    <a:lnTo>
                      <a:pt x="985" y="571"/>
                    </a:lnTo>
                    <a:lnTo>
                      <a:pt x="964" y="559"/>
                    </a:lnTo>
                    <a:lnTo>
                      <a:pt x="944" y="571"/>
                    </a:lnTo>
                    <a:lnTo>
                      <a:pt x="944" y="594"/>
                    </a:lnTo>
                    <a:lnTo>
                      <a:pt x="964" y="605"/>
                    </a:lnTo>
                    <a:close/>
                    <a:moveTo>
                      <a:pt x="1019" y="605"/>
                    </a:moveTo>
                    <a:lnTo>
                      <a:pt x="1039" y="594"/>
                    </a:lnTo>
                    <a:lnTo>
                      <a:pt x="1039" y="571"/>
                    </a:lnTo>
                    <a:lnTo>
                      <a:pt x="1019" y="559"/>
                    </a:lnTo>
                    <a:lnTo>
                      <a:pt x="998" y="571"/>
                    </a:lnTo>
                    <a:lnTo>
                      <a:pt x="998" y="594"/>
                    </a:lnTo>
                    <a:lnTo>
                      <a:pt x="1019" y="605"/>
                    </a:lnTo>
                    <a:close/>
                    <a:moveTo>
                      <a:pt x="1070" y="605"/>
                    </a:moveTo>
                    <a:lnTo>
                      <a:pt x="1091" y="594"/>
                    </a:lnTo>
                    <a:lnTo>
                      <a:pt x="1091" y="571"/>
                    </a:lnTo>
                    <a:lnTo>
                      <a:pt x="1070" y="559"/>
                    </a:lnTo>
                    <a:lnTo>
                      <a:pt x="1053" y="571"/>
                    </a:lnTo>
                    <a:lnTo>
                      <a:pt x="1053" y="594"/>
                    </a:lnTo>
                    <a:lnTo>
                      <a:pt x="1070" y="605"/>
                    </a:lnTo>
                    <a:close/>
                    <a:moveTo>
                      <a:pt x="505" y="653"/>
                    </a:moveTo>
                    <a:lnTo>
                      <a:pt x="525" y="641"/>
                    </a:lnTo>
                    <a:lnTo>
                      <a:pt x="525" y="619"/>
                    </a:lnTo>
                    <a:lnTo>
                      <a:pt x="505" y="605"/>
                    </a:lnTo>
                    <a:lnTo>
                      <a:pt x="484" y="619"/>
                    </a:lnTo>
                    <a:lnTo>
                      <a:pt x="484" y="641"/>
                    </a:lnTo>
                    <a:lnTo>
                      <a:pt x="505" y="653"/>
                    </a:lnTo>
                    <a:close/>
                    <a:moveTo>
                      <a:pt x="559" y="653"/>
                    </a:moveTo>
                    <a:lnTo>
                      <a:pt x="579" y="641"/>
                    </a:lnTo>
                    <a:lnTo>
                      <a:pt x="579" y="619"/>
                    </a:lnTo>
                    <a:lnTo>
                      <a:pt x="559" y="605"/>
                    </a:lnTo>
                    <a:lnTo>
                      <a:pt x="539" y="619"/>
                    </a:lnTo>
                    <a:lnTo>
                      <a:pt x="539" y="641"/>
                    </a:lnTo>
                    <a:lnTo>
                      <a:pt x="559" y="653"/>
                    </a:lnTo>
                    <a:close/>
                    <a:moveTo>
                      <a:pt x="613" y="653"/>
                    </a:moveTo>
                    <a:lnTo>
                      <a:pt x="634" y="641"/>
                    </a:lnTo>
                    <a:lnTo>
                      <a:pt x="634" y="619"/>
                    </a:lnTo>
                    <a:lnTo>
                      <a:pt x="613" y="605"/>
                    </a:lnTo>
                    <a:lnTo>
                      <a:pt x="593" y="619"/>
                    </a:lnTo>
                    <a:lnTo>
                      <a:pt x="593" y="641"/>
                    </a:lnTo>
                    <a:lnTo>
                      <a:pt x="613" y="653"/>
                    </a:lnTo>
                    <a:close/>
                    <a:moveTo>
                      <a:pt x="666" y="653"/>
                    </a:moveTo>
                    <a:lnTo>
                      <a:pt x="686" y="641"/>
                    </a:lnTo>
                    <a:lnTo>
                      <a:pt x="686" y="619"/>
                    </a:lnTo>
                    <a:lnTo>
                      <a:pt x="666" y="605"/>
                    </a:lnTo>
                    <a:lnTo>
                      <a:pt x="647" y="619"/>
                    </a:lnTo>
                    <a:lnTo>
                      <a:pt x="647" y="641"/>
                    </a:lnTo>
                    <a:lnTo>
                      <a:pt x="666" y="653"/>
                    </a:lnTo>
                    <a:close/>
                    <a:moveTo>
                      <a:pt x="720" y="653"/>
                    </a:moveTo>
                    <a:lnTo>
                      <a:pt x="740" y="641"/>
                    </a:lnTo>
                    <a:lnTo>
                      <a:pt x="740" y="619"/>
                    </a:lnTo>
                    <a:lnTo>
                      <a:pt x="720" y="605"/>
                    </a:lnTo>
                    <a:lnTo>
                      <a:pt x="700" y="619"/>
                    </a:lnTo>
                    <a:lnTo>
                      <a:pt x="700" y="641"/>
                    </a:lnTo>
                    <a:lnTo>
                      <a:pt x="720" y="653"/>
                    </a:lnTo>
                    <a:close/>
                    <a:moveTo>
                      <a:pt x="21" y="653"/>
                    </a:moveTo>
                    <a:lnTo>
                      <a:pt x="41" y="641"/>
                    </a:lnTo>
                    <a:lnTo>
                      <a:pt x="41" y="619"/>
                    </a:lnTo>
                    <a:lnTo>
                      <a:pt x="21" y="605"/>
                    </a:lnTo>
                    <a:lnTo>
                      <a:pt x="0" y="619"/>
                    </a:lnTo>
                    <a:lnTo>
                      <a:pt x="0" y="641"/>
                    </a:lnTo>
                    <a:lnTo>
                      <a:pt x="21" y="653"/>
                    </a:lnTo>
                    <a:close/>
                    <a:moveTo>
                      <a:pt x="74" y="653"/>
                    </a:moveTo>
                    <a:lnTo>
                      <a:pt x="93" y="641"/>
                    </a:lnTo>
                    <a:lnTo>
                      <a:pt x="93" y="619"/>
                    </a:lnTo>
                    <a:lnTo>
                      <a:pt x="74" y="605"/>
                    </a:lnTo>
                    <a:lnTo>
                      <a:pt x="54" y="619"/>
                    </a:lnTo>
                    <a:lnTo>
                      <a:pt x="54" y="641"/>
                    </a:lnTo>
                    <a:lnTo>
                      <a:pt x="74" y="653"/>
                    </a:lnTo>
                    <a:close/>
                    <a:moveTo>
                      <a:pt x="127" y="653"/>
                    </a:moveTo>
                    <a:lnTo>
                      <a:pt x="147" y="641"/>
                    </a:lnTo>
                    <a:lnTo>
                      <a:pt x="147" y="619"/>
                    </a:lnTo>
                    <a:lnTo>
                      <a:pt x="127" y="605"/>
                    </a:lnTo>
                    <a:lnTo>
                      <a:pt x="107" y="619"/>
                    </a:lnTo>
                    <a:lnTo>
                      <a:pt x="107" y="641"/>
                    </a:lnTo>
                    <a:lnTo>
                      <a:pt x="127" y="653"/>
                    </a:lnTo>
                    <a:close/>
                    <a:moveTo>
                      <a:pt x="181" y="653"/>
                    </a:moveTo>
                    <a:lnTo>
                      <a:pt x="201" y="641"/>
                    </a:lnTo>
                    <a:lnTo>
                      <a:pt x="201" y="619"/>
                    </a:lnTo>
                    <a:lnTo>
                      <a:pt x="181" y="605"/>
                    </a:lnTo>
                    <a:lnTo>
                      <a:pt x="161" y="619"/>
                    </a:lnTo>
                    <a:lnTo>
                      <a:pt x="161" y="641"/>
                    </a:lnTo>
                    <a:lnTo>
                      <a:pt x="181" y="653"/>
                    </a:lnTo>
                    <a:close/>
                    <a:moveTo>
                      <a:pt x="236" y="653"/>
                    </a:moveTo>
                    <a:lnTo>
                      <a:pt x="256" y="641"/>
                    </a:lnTo>
                    <a:lnTo>
                      <a:pt x="256" y="619"/>
                    </a:lnTo>
                    <a:lnTo>
                      <a:pt x="236" y="605"/>
                    </a:lnTo>
                    <a:lnTo>
                      <a:pt x="215" y="619"/>
                    </a:lnTo>
                    <a:lnTo>
                      <a:pt x="215" y="641"/>
                    </a:lnTo>
                    <a:lnTo>
                      <a:pt x="236" y="653"/>
                    </a:lnTo>
                    <a:close/>
                    <a:moveTo>
                      <a:pt x="290" y="653"/>
                    </a:moveTo>
                    <a:lnTo>
                      <a:pt x="310" y="641"/>
                    </a:lnTo>
                    <a:lnTo>
                      <a:pt x="310" y="619"/>
                    </a:lnTo>
                    <a:lnTo>
                      <a:pt x="290" y="605"/>
                    </a:lnTo>
                    <a:lnTo>
                      <a:pt x="270" y="619"/>
                    </a:lnTo>
                    <a:lnTo>
                      <a:pt x="270" y="641"/>
                    </a:lnTo>
                    <a:lnTo>
                      <a:pt x="290" y="653"/>
                    </a:lnTo>
                    <a:close/>
                    <a:moveTo>
                      <a:pt x="480" y="605"/>
                    </a:moveTo>
                    <a:lnTo>
                      <a:pt x="498" y="594"/>
                    </a:lnTo>
                    <a:lnTo>
                      <a:pt x="498" y="571"/>
                    </a:lnTo>
                    <a:lnTo>
                      <a:pt x="480" y="559"/>
                    </a:lnTo>
                    <a:lnTo>
                      <a:pt x="459" y="571"/>
                    </a:lnTo>
                    <a:lnTo>
                      <a:pt x="459" y="594"/>
                    </a:lnTo>
                    <a:lnTo>
                      <a:pt x="480" y="605"/>
                    </a:lnTo>
                    <a:close/>
                    <a:moveTo>
                      <a:pt x="532" y="605"/>
                    </a:moveTo>
                    <a:lnTo>
                      <a:pt x="552" y="594"/>
                    </a:lnTo>
                    <a:lnTo>
                      <a:pt x="552" y="571"/>
                    </a:lnTo>
                    <a:lnTo>
                      <a:pt x="532" y="559"/>
                    </a:lnTo>
                    <a:lnTo>
                      <a:pt x="512" y="571"/>
                    </a:lnTo>
                    <a:lnTo>
                      <a:pt x="512" y="594"/>
                    </a:lnTo>
                    <a:lnTo>
                      <a:pt x="532" y="605"/>
                    </a:lnTo>
                    <a:close/>
                    <a:moveTo>
                      <a:pt x="587" y="605"/>
                    </a:moveTo>
                    <a:lnTo>
                      <a:pt x="607" y="594"/>
                    </a:lnTo>
                    <a:lnTo>
                      <a:pt x="607" y="571"/>
                    </a:lnTo>
                    <a:lnTo>
                      <a:pt x="587" y="559"/>
                    </a:lnTo>
                    <a:lnTo>
                      <a:pt x="566" y="571"/>
                    </a:lnTo>
                    <a:lnTo>
                      <a:pt x="566" y="594"/>
                    </a:lnTo>
                    <a:lnTo>
                      <a:pt x="587" y="605"/>
                    </a:lnTo>
                    <a:close/>
                    <a:moveTo>
                      <a:pt x="641" y="605"/>
                    </a:moveTo>
                    <a:lnTo>
                      <a:pt x="658" y="594"/>
                    </a:lnTo>
                    <a:lnTo>
                      <a:pt x="658" y="571"/>
                    </a:lnTo>
                    <a:lnTo>
                      <a:pt x="641" y="559"/>
                    </a:lnTo>
                    <a:lnTo>
                      <a:pt x="621" y="571"/>
                    </a:lnTo>
                    <a:lnTo>
                      <a:pt x="621" y="594"/>
                    </a:lnTo>
                    <a:lnTo>
                      <a:pt x="641" y="605"/>
                    </a:lnTo>
                    <a:close/>
                    <a:moveTo>
                      <a:pt x="48" y="605"/>
                    </a:moveTo>
                    <a:lnTo>
                      <a:pt x="68" y="594"/>
                    </a:lnTo>
                    <a:lnTo>
                      <a:pt x="68" y="571"/>
                    </a:lnTo>
                    <a:lnTo>
                      <a:pt x="48" y="559"/>
                    </a:lnTo>
                    <a:lnTo>
                      <a:pt x="27" y="571"/>
                    </a:lnTo>
                    <a:lnTo>
                      <a:pt x="27" y="594"/>
                    </a:lnTo>
                    <a:lnTo>
                      <a:pt x="48" y="605"/>
                    </a:lnTo>
                    <a:close/>
                    <a:moveTo>
                      <a:pt x="99" y="605"/>
                    </a:moveTo>
                    <a:lnTo>
                      <a:pt x="120" y="594"/>
                    </a:lnTo>
                    <a:lnTo>
                      <a:pt x="120" y="571"/>
                    </a:lnTo>
                    <a:lnTo>
                      <a:pt x="99" y="559"/>
                    </a:lnTo>
                    <a:lnTo>
                      <a:pt x="82" y="571"/>
                    </a:lnTo>
                    <a:lnTo>
                      <a:pt x="82" y="594"/>
                    </a:lnTo>
                    <a:lnTo>
                      <a:pt x="99" y="605"/>
                    </a:lnTo>
                    <a:close/>
                    <a:moveTo>
                      <a:pt x="155" y="605"/>
                    </a:moveTo>
                    <a:lnTo>
                      <a:pt x="175" y="594"/>
                    </a:lnTo>
                    <a:lnTo>
                      <a:pt x="175" y="571"/>
                    </a:lnTo>
                    <a:lnTo>
                      <a:pt x="155" y="559"/>
                    </a:lnTo>
                    <a:lnTo>
                      <a:pt x="133" y="571"/>
                    </a:lnTo>
                    <a:lnTo>
                      <a:pt x="133" y="594"/>
                    </a:lnTo>
                    <a:lnTo>
                      <a:pt x="155" y="605"/>
                    </a:lnTo>
                    <a:close/>
                    <a:moveTo>
                      <a:pt x="208" y="605"/>
                    </a:moveTo>
                    <a:lnTo>
                      <a:pt x="229" y="594"/>
                    </a:lnTo>
                    <a:lnTo>
                      <a:pt x="229" y="571"/>
                    </a:lnTo>
                    <a:lnTo>
                      <a:pt x="208" y="559"/>
                    </a:lnTo>
                    <a:lnTo>
                      <a:pt x="188" y="571"/>
                    </a:lnTo>
                    <a:lnTo>
                      <a:pt x="188" y="594"/>
                    </a:lnTo>
                    <a:lnTo>
                      <a:pt x="208" y="605"/>
                    </a:lnTo>
                    <a:close/>
                    <a:moveTo>
                      <a:pt x="262" y="605"/>
                    </a:moveTo>
                    <a:lnTo>
                      <a:pt x="282" y="594"/>
                    </a:lnTo>
                    <a:lnTo>
                      <a:pt x="282" y="571"/>
                    </a:lnTo>
                    <a:lnTo>
                      <a:pt x="262" y="559"/>
                    </a:lnTo>
                    <a:lnTo>
                      <a:pt x="242" y="571"/>
                    </a:lnTo>
                    <a:lnTo>
                      <a:pt x="242" y="594"/>
                    </a:lnTo>
                    <a:lnTo>
                      <a:pt x="262" y="605"/>
                    </a:lnTo>
                    <a:close/>
                    <a:moveTo>
                      <a:pt x="692" y="605"/>
                    </a:moveTo>
                    <a:lnTo>
                      <a:pt x="713" y="594"/>
                    </a:lnTo>
                    <a:lnTo>
                      <a:pt x="713" y="571"/>
                    </a:lnTo>
                    <a:lnTo>
                      <a:pt x="692" y="559"/>
                    </a:lnTo>
                    <a:lnTo>
                      <a:pt x="675" y="571"/>
                    </a:lnTo>
                    <a:lnTo>
                      <a:pt x="675" y="594"/>
                    </a:lnTo>
                    <a:lnTo>
                      <a:pt x="692" y="605"/>
                    </a:lnTo>
                    <a:close/>
                    <a:moveTo>
                      <a:pt x="747" y="605"/>
                    </a:moveTo>
                    <a:lnTo>
                      <a:pt x="767" y="594"/>
                    </a:lnTo>
                    <a:lnTo>
                      <a:pt x="767" y="571"/>
                    </a:lnTo>
                    <a:lnTo>
                      <a:pt x="747" y="559"/>
                    </a:lnTo>
                    <a:lnTo>
                      <a:pt x="727" y="571"/>
                    </a:lnTo>
                    <a:lnTo>
                      <a:pt x="727" y="594"/>
                    </a:lnTo>
                    <a:lnTo>
                      <a:pt x="747" y="605"/>
                    </a:lnTo>
                    <a:close/>
                    <a:moveTo>
                      <a:pt x="775" y="653"/>
                    </a:moveTo>
                    <a:lnTo>
                      <a:pt x="795" y="641"/>
                    </a:lnTo>
                    <a:lnTo>
                      <a:pt x="795" y="619"/>
                    </a:lnTo>
                    <a:lnTo>
                      <a:pt x="775" y="605"/>
                    </a:lnTo>
                    <a:lnTo>
                      <a:pt x="754" y="619"/>
                    </a:lnTo>
                    <a:lnTo>
                      <a:pt x="754" y="641"/>
                    </a:lnTo>
                    <a:lnTo>
                      <a:pt x="775" y="653"/>
                    </a:lnTo>
                    <a:close/>
                    <a:moveTo>
                      <a:pt x="829" y="653"/>
                    </a:moveTo>
                    <a:lnTo>
                      <a:pt x="849" y="641"/>
                    </a:lnTo>
                    <a:lnTo>
                      <a:pt x="849" y="619"/>
                    </a:lnTo>
                    <a:lnTo>
                      <a:pt x="829" y="605"/>
                    </a:lnTo>
                    <a:lnTo>
                      <a:pt x="809" y="619"/>
                    </a:lnTo>
                    <a:lnTo>
                      <a:pt x="809" y="641"/>
                    </a:lnTo>
                    <a:lnTo>
                      <a:pt x="829" y="653"/>
                    </a:lnTo>
                    <a:close/>
                    <a:moveTo>
                      <a:pt x="883" y="653"/>
                    </a:moveTo>
                    <a:lnTo>
                      <a:pt x="904" y="641"/>
                    </a:lnTo>
                    <a:lnTo>
                      <a:pt x="904" y="619"/>
                    </a:lnTo>
                    <a:lnTo>
                      <a:pt x="883" y="605"/>
                    </a:lnTo>
                    <a:lnTo>
                      <a:pt x="863" y="619"/>
                    </a:lnTo>
                    <a:lnTo>
                      <a:pt x="863" y="641"/>
                    </a:lnTo>
                    <a:lnTo>
                      <a:pt x="883" y="653"/>
                    </a:lnTo>
                    <a:close/>
                    <a:moveTo>
                      <a:pt x="938" y="653"/>
                    </a:moveTo>
                    <a:lnTo>
                      <a:pt x="958" y="641"/>
                    </a:lnTo>
                    <a:lnTo>
                      <a:pt x="958" y="619"/>
                    </a:lnTo>
                    <a:lnTo>
                      <a:pt x="938" y="605"/>
                    </a:lnTo>
                    <a:lnTo>
                      <a:pt x="916" y="619"/>
                    </a:lnTo>
                    <a:lnTo>
                      <a:pt x="916" y="641"/>
                    </a:lnTo>
                    <a:lnTo>
                      <a:pt x="938" y="653"/>
                    </a:lnTo>
                    <a:close/>
                    <a:moveTo>
                      <a:pt x="992" y="653"/>
                    </a:moveTo>
                    <a:lnTo>
                      <a:pt x="1012" y="641"/>
                    </a:lnTo>
                    <a:lnTo>
                      <a:pt x="1012" y="619"/>
                    </a:lnTo>
                    <a:lnTo>
                      <a:pt x="992" y="605"/>
                    </a:lnTo>
                    <a:lnTo>
                      <a:pt x="972" y="619"/>
                    </a:lnTo>
                    <a:lnTo>
                      <a:pt x="972" y="641"/>
                    </a:lnTo>
                    <a:lnTo>
                      <a:pt x="992" y="653"/>
                    </a:lnTo>
                    <a:close/>
                    <a:moveTo>
                      <a:pt x="1045" y="653"/>
                    </a:moveTo>
                    <a:lnTo>
                      <a:pt x="1064" y="641"/>
                    </a:lnTo>
                    <a:lnTo>
                      <a:pt x="1064" y="619"/>
                    </a:lnTo>
                    <a:lnTo>
                      <a:pt x="1045" y="605"/>
                    </a:lnTo>
                    <a:lnTo>
                      <a:pt x="1025" y="619"/>
                    </a:lnTo>
                    <a:lnTo>
                      <a:pt x="1025" y="641"/>
                    </a:lnTo>
                    <a:lnTo>
                      <a:pt x="1045" y="653"/>
                    </a:lnTo>
                    <a:close/>
                    <a:moveTo>
                      <a:pt x="1019" y="421"/>
                    </a:moveTo>
                    <a:lnTo>
                      <a:pt x="1039" y="409"/>
                    </a:lnTo>
                    <a:lnTo>
                      <a:pt x="1039" y="384"/>
                    </a:lnTo>
                    <a:lnTo>
                      <a:pt x="1019" y="373"/>
                    </a:lnTo>
                    <a:lnTo>
                      <a:pt x="998" y="384"/>
                    </a:lnTo>
                    <a:lnTo>
                      <a:pt x="998" y="409"/>
                    </a:lnTo>
                    <a:lnTo>
                      <a:pt x="1019" y="421"/>
                    </a:lnTo>
                    <a:close/>
                    <a:moveTo>
                      <a:pt x="1045" y="466"/>
                    </a:moveTo>
                    <a:lnTo>
                      <a:pt x="1064" y="455"/>
                    </a:lnTo>
                    <a:lnTo>
                      <a:pt x="1064" y="432"/>
                    </a:lnTo>
                    <a:lnTo>
                      <a:pt x="1045" y="421"/>
                    </a:lnTo>
                    <a:lnTo>
                      <a:pt x="1025" y="432"/>
                    </a:lnTo>
                    <a:lnTo>
                      <a:pt x="1025" y="455"/>
                    </a:lnTo>
                    <a:lnTo>
                      <a:pt x="1045" y="466"/>
                    </a:lnTo>
                    <a:close/>
                    <a:moveTo>
                      <a:pt x="1070" y="421"/>
                    </a:moveTo>
                    <a:lnTo>
                      <a:pt x="1091" y="409"/>
                    </a:lnTo>
                    <a:lnTo>
                      <a:pt x="1091" y="384"/>
                    </a:lnTo>
                    <a:lnTo>
                      <a:pt x="1070" y="373"/>
                    </a:lnTo>
                    <a:lnTo>
                      <a:pt x="1053" y="384"/>
                    </a:lnTo>
                    <a:lnTo>
                      <a:pt x="1053" y="409"/>
                    </a:lnTo>
                    <a:lnTo>
                      <a:pt x="1070" y="421"/>
                    </a:lnTo>
                    <a:close/>
                    <a:moveTo>
                      <a:pt x="964" y="511"/>
                    </a:moveTo>
                    <a:lnTo>
                      <a:pt x="985" y="500"/>
                    </a:lnTo>
                    <a:lnTo>
                      <a:pt x="985" y="477"/>
                    </a:lnTo>
                    <a:lnTo>
                      <a:pt x="964" y="466"/>
                    </a:lnTo>
                    <a:lnTo>
                      <a:pt x="944" y="477"/>
                    </a:lnTo>
                    <a:lnTo>
                      <a:pt x="944" y="500"/>
                    </a:lnTo>
                    <a:lnTo>
                      <a:pt x="964" y="511"/>
                    </a:lnTo>
                    <a:close/>
                    <a:moveTo>
                      <a:pt x="992" y="466"/>
                    </a:moveTo>
                    <a:lnTo>
                      <a:pt x="1012" y="455"/>
                    </a:lnTo>
                    <a:lnTo>
                      <a:pt x="1012" y="432"/>
                    </a:lnTo>
                    <a:lnTo>
                      <a:pt x="992" y="421"/>
                    </a:lnTo>
                    <a:lnTo>
                      <a:pt x="972" y="432"/>
                    </a:lnTo>
                    <a:lnTo>
                      <a:pt x="972" y="455"/>
                    </a:lnTo>
                    <a:lnTo>
                      <a:pt x="992" y="466"/>
                    </a:lnTo>
                    <a:close/>
                    <a:moveTo>
                      <a:pt x="1019" y="511"/>
                    </a:moveTo>
                    <a:lnTo>
                      <a:pt x="1039" y="500"/>
                    </a:lnTo>
                    <a:lnTo>
                      <a:pt x="1039" y="477"/>
                    </a:lnTo>
                    <a:lnTo>
                      <a:pt x="1019" y="466"/>
                    </a:lnTo>
                    <a:lnTo>
                      <a:pt x="998" y="477"/>
                    </a:lnTo>
                    <a:lnTo>
                      <a:pt x="998" y="500"/>
                    </a:lnTo>
                    <a:lnTo>
                      <a:pt x="1019" y="511"/>
                    </a:lnTo>
                    <a:close/>
                    <a:moveTo>
                      <a:pt x="1070" y="511"/>
                    </a:moveTo>
                    <a:lnTo>
                      <a:pt x="1091" y="500"/>
                    </a:lnTo>
                    <a:lnTo>
                      <a:pt x="1091" y="477"/>
                    </a:lnTo>
                    <a:lnTo>
                      <a:pt x="1070" y="466"/>
                    </a:lnTo>
                    <a:lnTo>
                      <a:pt x="1053" y="477"/>
                    </a:lnTo>
                    <a:lnTo>
                      <a:pt x="1053" y="500"/>
                    </a:lnTo>
                    <a:lnTo>
                      <a:pt x="1070" y="511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6278040" y="5656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631620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635292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638964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6205680" y="56563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624132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609552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613224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6168960" y="5656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576648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5803200" y="56563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583848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587520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5911920" y="565632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2" name=""/>
              <p:cNvSpPr/>
              <p:nvPr/>
            </p:nvSpPr>
            <p:spPr>
              <a:xfrm>
                <a:off x="5948640" y="5656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6297120" y="562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6333840" y="562932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6371640" y="562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6150240" y="562932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7" name=""/>
              <p:cNvSpPr/>
              <p:nvPr/>
            </p:nvSpPr>
            <p:spPr>
              <a:xfrm>
                <a:off x="6188040" y="56293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0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8" name=""/>
              <p:cNvSpPr/>
              <p:nvPr/>
            </p:nvSpPr>
            <p:spPr>
              <a:xfrm>
                <a:off x="6224760" y="56293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6260400" y="562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6004440" y="562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6041160" y="562932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6077880" y="56293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1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3" name=""/>
              <p:cNvSpPr/>
              <p:nvPr/>
            </p:nvSpPr>
            <p:spPr>
              <a:xfrm>
                <a:off x="6113160" y="56293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4" name=""/>
              <p:cNvSpPr/>
              <p:nvPr/>
            </p:nvSpPr>
            <p:spPr>
              <a:xfrm>
                <a:off x="5784120" y="5629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5820840" y="562932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5856120" y="5629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5894280" y="56293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5931360" y="562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9" name=""/>
              <p:cNvSpPr/>
              <p:nvPr/>
            </p:nvSpPr>
            <p:spPr>
              <a:xfrm>
                <a:off x="5968080" y="562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1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0" name=""/>
              <p:cNvSpPr/>
              <p:nvPr/>
            </p:nvSpPr>
            <p:spPr>
              <a:xfrm>
                <a:off x="6095520" y="560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6132240" y="560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5766480" y="560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5803200" y="5604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5838480" y="560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5" name=""/>
              <p:cNvSpPr/>
              <p:nvPr/>
            </p:nvSpPr>
            <p:spPr>
              <a:xfrm>
                <a:off x="5875200" y="560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6" name=""/>
              <p:cNvSpPr/>
              <p:nvPr/>
            </p:nvSpPr>
            <p:spPr>
              <a:xfrm>
                <a:off x="5911920" y="560412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5948640" y="560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5985360" y="5604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6022080" y="5604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6168960" y="5604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1" name=""/>
              <p:cNvSpPr/>
              <p:nvPr/>
            </p:nvSpPr>
            <p:spPr>
              <a:xfrm>
                <a:off x="6205680" y="56041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2" name=""/>
              <p:cNvSpPr/>
              <p:nvPr/>
            </p:nvSpPr>
            <p:spPr>
              <a:xfrm>
                <a:off x="6241320" y="560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3" name=""/>
              <p:cNvSpPr/>
              <p:nvPr/>
            </p:nvSpPr>
            <p:spPr>
              <a:xfrm>
                <a:off x="6278040" y="5604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6113160" y="547416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113160" y="54230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132240" y="550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6132240" y="5448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8" name=""/>
              <p:cNvSpPr/>
              <p:nvPr/>
            </p:nvSpPr>
            <p:spPr>
              <a:xfrm>
                <a:off x="6132240" y="5396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9" name=""/>
              <p:cNvSpPr/>
              <p:nvPr/>
            </p:nvSpPr>
            <p:spPr>
              <a:xfrm>
                <a:off x="6077880" y="552636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095520" y="555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5784120" y="55774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5820840" y="557748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5856120" y="55774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5894280" y="557748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5931360" y="557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5968080" y="557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6004440" y="557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6041160" y="557748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004440" y="552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0" name=""/>
              <p:cNvSpPr/>
              <p:nvPr/>
            </p:nvSpPr>
            <p:spPr>
              <a:xfrm>
                <a:off x="6041160" y="552636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1" name=""/>
              <p:cNvSpPr/>
              <p:nvPr/>
            </p:nvSpPr>
            <p:spPr>
              <a:xfrm>
                <a:off x="5766480" y="555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5803200" y="555300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5838480" y="555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5875200" y="555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5911920" y="5553000"/>
                <a:ext cx="2808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6" name=""/>
              <p:cNvSpPr/>
              <p:nvPr/>
            </p:nvSpPr>
            <p:spPr>
              <a:xfrm>
                <a:off x="5948640" y="555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7" name=""/>
              <p:cNvSpPr/>
              <p:nvPr/>
            </p:nvSpPr>
            <p:spPr>
              <a:xfrm>
                <a:off x="5784120" y="552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5820840" y="552636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5856120" y="552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5894280" y="552636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5931360" y="552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2" name=""/>
              <p:cNvSpPr/>
              <p:nvPr/>
            </p:nvSpPr>
            <p:spPr>
              <a:xfrm>
                <a:off x="5968080" y="552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3" name=""/>
              <p:cNvSpPr/>
              <p:nvPr/>
            </p:nvSpPr>
            <p:spPr>
              <a:xfrm>
                <a:off x="5985360" y="555300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4" name=""/>
              <p:cNvSpPr/>
              <p:nvPr/>
            </p:nvSpPr>
            <p:spPr>
              <a:xfrm>
                <a:off x="6022080" y="555300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5" name=""/>
              <p:cNvSpPr/>
              <p:nvPr/>
            </p:nvSpPr>
            <p:spPr>
              <a:xfrm>
                <a:off x="6077880" y="557748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6" name=""/>
              <p:cNvSpPr/>
              <p:nvPr/>
            </p:nvSpPr>
            <p:spPr>
              <a:xfrm>
                <a:off x="6077880" y="5423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6095520" y="5396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6095520" y="5448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9" name=""/>
              <p:cNvSpPr/>
              <p:nvPr/>
            </p:nvSpPr>
            <p:spPr>
              <a:xfrm>
                <a:off x="6004440" y="54741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0" name=""/>
              <p:cNvSpPr/>
              <p:nvPr/>
            </p:nvSpPr>
            <p:spPr>
              <a:xfrm>
                <a:off x="6041160" y="547416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1" name=""/>
              <p:cNvSpPr/>
              <p:nvPr/>
            </p:nvSpPr>
            <p:spPr>
              <a:xfrm>
                <a:off x="5766480" y="550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2" name=""/>
              <p:cNvSpPr/>
              <p:nvPr/>
            </p:nvSpPr>
            <p:spPr>
              <a:xfrm>
                <a:off x="5803200" y="55008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3" name=""/>
              <p:cNvSpPr/>
              <p:nvPr/>
            </p:nvSpPr>
            <p:spPr>
              <a:xfrm>
                <a:off x="5838480" y="550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4" name=""/>
              <p:cNvSpPr/>
              <p:nvPr/>
            </p:nvSpPr>
            <p:spPr>
              <a:xfrm>
                <a:off x="5875200" y="550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5" name=""/>
              <p:cNvSpPr/>
              <p:nvPr/>
            </p:nvSpPr>
            <p:spPr>
              <a:xfrm>
                <a:off x="5911920" y="550080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6" name=""/>
              <p:cNvSpPr/>
              <p:nvPr/>
            </p:nvSpPr>
            <p:spPr>
              <a:xfrm>
                <a:off x="5948640" y="550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7" name=""/>
              <p:cNvSpPr/>
              <p:nvPr/>
            </p:nvSpPr>
            <p:spPr>
              <a:xfrm>
                <a:off x="5985360" y="55008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8" name=""/>
              <p:cNvSpPr/>
              <p:nvPr/>
            </p:nvSpPr>
            <p:spPr>
              <a:xfrm>
                <a:off x="5784120" y="54741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9" name=""/>
              <p:cNvSpPr/>
              <p:nvPr/>
            </p:nvSpPr>
            <p:spPr>
              <a:xfrm>
                <a:off x="5820840" y="547416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0" name=""/>
              <p:cNvSpPr/>
              <p:nvPr/>
            </p:nvSpPr>
            <p:spPr>
              <a:xfrm>
                <a:off x="5856120" y="54741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1" name=""/>
              <p:cNvSpPr/>
              <p:nvPr/>
            </p:nvSpPr>
            <p:spPr>
              <a:xfrm>
                <a:off x="5894280" y="547416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2" name=""/>
              <p:cNvSpPr/>
              <p:nvPr/>
            </p:nvSpPr>
            <p:spPr>
              <a:xfrm>
                <a:off x="5931360" y="54741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3" name=""/>
              <p:cNvSpPr/>
              <p:nvPr/>
            </p:nvSpPr>
            <p:spPr>
              <a:xfrm>
                <a:off x="5968080" y="54741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4" name=""/>
              <p:cNvSpPr/>
              <p:nvPr/>
            </p:nvSpPr>
            <p:spPr>
              <a:xfrm>
                <a:off x="6022080" y="55008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5" name=""/>
              <p:cNvSpPr/>
              <p:nvPr/>
            </p:nvSpPr>
            <p:spPr>
              <a:xfrm>
                <a:off x="6004440" y="54230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6" name=""/>
              <p:cNvSpPr/>
              <p:nvPr/>
            </p:nvSpPr>
            <p:spPr>
              <a:xfrm>
                <a:off x="6041160" y="54230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7" name=""/>
              <p:cNvSpPr/>
              <p:nvPr/>
            </p:nvSpPr>
            <p:spPr>
              <a:xfrm>
                <a:off x="5766480" y="5448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8" name=""/>
              <p:cNvSpPr/>
              <p:nvPr/>
            </p:nvSpPr>
            <p:spPr>
              <a:xfrm>
                <a:off x="5803200" y="544860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9" name=""/>
              <p:cNvSpPr/>
              <p:nvPr/>
            </p:nvSpPr>
            <p:spPr>
              <a:xfrm>
                <a:off x="5838480" y="5448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0" name=""/>
              <p:cNvSpPr/>
              <p:nvPr/>
            </p:nvSpPr>
            <p:spPr>
              <a:xfrm>
                <a:off x="5875200" y="5448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1" name=""/>
              <p:cNvSpPr/>
              <p:nvPr/>
            </p:nvSpPr>
            <p:spPr>
              <a:xfrm>
                <a:off x="5911920" y="544860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2" name=""/>
              <p:cNvSpPr/>
              <p:nvPr/>
            </p:nvSpPr>
            <p:spPr>
              <a:xfrm>
                <a:off x="5948640" y="54486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3" name=""/>
              <p:cNvSpPr/>
              <p:nvPr/>
            </p:nvSpPr>
            <p:spPr>
              <a:xfrm>
                <a:off x="5985360" y="54486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4" name=""/>
              <p:cNvSpPr/>
              <p:nvPr/>
            </p:nvSpPr>
            <p:spPr>
              <a:xfrm>
                <a:off x="5931360" y="5370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5" name=""/>
              <p:cNvSpPr/>
              <p:nvPr/>
            </p:nvSpPr>
            <p:spPr>
              <a:xfrm>
                <a:off x="5948640" y="5396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6" name=""/>
              <p:cNvSpPr/>
              <p:nvPr/>
            </p:nvSpPr>
            <p:spPr>
              <a:xfrm>
                <a:off x="5784120" y="54230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4387" name=""/>
            <p:cNvGrpSpPr/>
            <p:nvPr/>
          </p:nvGrpSpPr>
          <p:grpSpPr>
            <a:xfrm>
              <a:off x="2494080" y="5294520"/>
              <a:ext cx="4186080" cy="646560"/>
              <a:chOff x="2494080" y="5294520"/>
              <a:chExt cx="4186080" cy="646560"/>
            </a:xfrm>
          </p:grpSpPr>
          <p:sp>
            <p:nvSpPr>
              <p:cNvPr id="4388" name=""/>
              <p:cNvSpPr/>
              <p:nvPr/>
            </p:nvSpPr>
            <p:spPr>
              <a:xfrm>
                <a:off x="5820840" y="542304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9" name=""/>
              <p:cNvSpPr/>
              <p:nvPr/>
            </p:nvSpPr>
            <p:spPr>
              <a:xfrm>
                <a:off x="5855760" y="54230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5893920" y="542304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1" name=""/>
              <p:cNvSpPr/>
              <p:nvPr/>
            </p:nvSpPr>
            <p:spPr>
              <a:xfrm>
                <a:off x="5855760" y="5370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2" name=""/>
              <p:cNvSpPr/>
              <p:nvPr/>
            </p:nvSpPr>
            <p:spPr>
              <a:xfrm>
                <a:off x="5893920" y="537084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3" name=""/>
              <p:cNvSpPr/>
              <p:nvPr/>
            </p:nvSpPr>
            <p:spPr>
              <a:xfrm>
                <a:off x="5766120" y="539640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4" name=""/>
              <p:cNvSpPr/>
              <p:nvPr/>
            </p:nvSpPr>
            <p:spPr>
              <a:xfrm>
                <a:off x="5803200" y="5396400"/>
                <a:ext cx="24840" cy="26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5" name=""/>
              <p:cNvSpPr/>
              <p:nvPr/>
            </p:nvSpPr>
            <p:spPr>
              <a:xfrm>
                <a:off x="5837760" y="539640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6" name=""/>
              <p:cNvSpPr/>
              <p:nvPr/>
            </p:nvSpPr>
            <p:spPr>
              <a:xfrm>
                <a:off x="5783760" y="5370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7" name=""/>
              <p:cNvSpPr/>
              <p:nvPr/>
            </p:nvSpPr>
            <p:spPr>
              <a:xfrm>
                <a:off x="5820840" y="537084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8" name=""/>
              <p:cNvSpPr/>
              <p:nvPr/>
            </p:nvSpPr>
            <p:spPr>
              <a:xfrm>
                <a:off x="5874480" y="539640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9" name=""/>
              <p:cNvSpPr/>
              <p:nvPr/>
            </p:nvSpPr>
            <p:spPr>
              <a:xfrm>
                <a:off x="5911920" y="5396400"/>
                <a:ext cx="2844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0" name=""/>
              <p:cNvSpPr/>
              <p:nvPr/>
            </p:nvSpPr>
            <p:spPr>
              <a:xfrm>
                <a:off x="5931000" y="5423040"/>
                <a:ext cx="2628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1" name=""/>
              <p:cNvSpPr/>
              <p:nvPr/>
            </p:nvSpPr>
            <p:spPr>
              <a:xfrm>
                <a:off x="5966640" y="542304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6021720" y="54482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6077880" y="547416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4" name=""/>
              <p:cNvSpPr/>
              <p:nvPr/>
            </p:nvSpPr>
            <p:spPr>
              <a:xfrm>
                <a:off x="6094800" y="55011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5" name=""/>
              <p:cNvSpPr/>
              <p:nvPr/>
            </p:nvSpPr>
            <p:spPr>
              <a:xfrm>
                <a:off x="6112440" y="557784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6" name=""/>
              <p:cNvSpPr/>
              <p:nvPr/>
            </p:nvSpPr>
            <p:spPr>
              <a:xfrm>
                <a:off x="6112440" y="55267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7" name=""/>
              <p:cNvSpPr/>
              <p:nvPr/>
            </p:nvSpPr>
            <p:spPr>
              <a:xfrm>
                <a:off x="6131520" y="555336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8" name=""/>
              <p:cNvSpPr/>
              <p:nvPr/>
            </p:nvSpPr>
            <p:spPr>
              <a:xfrm>
                <a:off x="6149880" y="55778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9" name=""/>
              <p:cNvSpPr/>
              <p:nvPr/>
            </p:nvSpPr>
            <p:spPr>
              <a:xfrm>
                <a:off x="6315840" y="56041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0" name=""/>
              <p:cNvSpPr/>
              <p:nvPr/>
            </p:nvSpPr>
            <p:spPr>
              <a:xfrm>
                <a:off x="6352560" y="5604120"/>
                <a:ext cx="262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1" name=""/>
              <p:cNvSpPr/>
              <p:nvPr/>
            </p:nvSpPr>
            <p:spPr>
              <a:xfrm>
                <a:off x="6388920" y="56041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2" name=""/>
              <p:cNvSpPr/>
              <p:nvPr/>
            </p:nvSpPr>
            <p:spPr>
              <a:xfrm>
                <a:off x="6425640" y="56563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3" name=""/>
              <p:cNvSpPr/>
              <p:nvPr/>
            </p:nvSpPr>
            <p:spPr>
              <a:xfrm>
                <a:off x="6462720" y="56563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4" name=""/>
              <p:cNvSpPr/>
              <p:nvPr/>
            </p:nvSpPr>
            <p:spPr>
              <a:xfrm>
                <a:off x="6296760" y="56818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5" name=""/>
              <p:cNvSpPr/>
              <p:nvPr/>
            </p:nvSpPr>
            <p:spPr>
              <a:xfrm>
                <a:off x="6333840" y="568188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6" name=""/>
              <p:cNvSpPr/>
              <p:nvPr/>
            </p:nvSpPr>
            <p:spPr>
              <a:xfrm>
                <a:off x="6372000" y="56818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7" name=""/>
              <p:cNvSpPr/>
              <p:nvPr/>
            </p:nvSpPr>
            <p:spPr>
              <a:xfrm>
                <a:off x="6406560" y="568188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8" name=""/>
              <p:cNvSpPr/>
              <p:nvPr/>
            </p:nvSpPr>
            <p:spPr>
              <a:xfrm>
                <a:off x="6443640" y="568188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9" name=""/>
              <p:cNvSpPr/>
              <p:nvPr/>
            </p:nvSpPr>
            <p:spPr>
              <a:xfrm>
                <a:off x="6481800" y="568188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0" name=""/>
              <p:cNvSpPr/>
              <p:nvPr/>
            </p:nvSpPr>
            <p:spPr>
              <a:xfrm>
                <a:off x="609480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1" name=""/>
              <p:cNvSpPr/>
              <p:nvPr/>
            </p:nvSpPr>
            <p:spPr>
              <a:xfrm>
                <a:off x="613152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2" name=""/>
              <p:cNvSpPr/>
              <p:nvPr/>
            </p:nvSpPr>
            <p:spPr>
              <a:xfrm>
                <a:off x="6168600" y="570636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3" name=""/>
              <p:cNvSpPr/>
              <p:nvPr/>
            </p:nvSpPr>
            <p:spPr>
              <a:xfrm>
                <a:off x="6205680" y="570636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19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4" name=""/>
              <p:cNvSpPr/>
              <p:nvPr/>
            </p:nvSpPr>
            <p:spPr>
              <a:xfrm>
                <a:off x="624060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5" name=""/>
              <p:cNvSpPr/>
              <p:nvPr/>
            </p:nvSpPr>
            <p:spPr>
              <a:xfrm>
                <a:off x="576612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6" name=""/>
              <p:cNvSpPr/>
              <p:nvPr/>
            </p:nvSpPr>
            <p:spPr>
              <a:xfrm>
                <a:off x="5803200" y="570636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7" name=""/>
              <p:cNvSpPr/>
              <p:nvPr/>
            </p:nvSpPr>
            <p:spPr>
              <a:xfrm>
                <a:off x="583776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8" name=""/>
              <p:cNvSpPr/>
              <p:nvPr/>
            </p:nvSpPr>
            <p:spPr>
              <a:xfrm>
                <a:off x="587448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9" name=""/>
              <p:cNvSpPr/>
              <p:nvPr/>
            </p:nvSpPr>
            <p:spPr>
              <a:xfrm>
                <a:off x="5911920" y="570636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0" name=""/>
              <p:cNvSpPr/>
              <p:nvPr/>
            </p:nvSpPr>
            <p:spPr>
              <a:xfrm>
                <a:off x="5949000" y="570636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1" name=""/>
              <p:cNvSpPr/>
              <p:nvPr/>
            </p:nvSpPr>
            <p:spPr>
              <a:xfrm>
                <a:off x="6077880" y="568188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2" name=""/>
              <p:cNvSpPr/>
              <p:nvPr/>
            </p:nvSpPr>
            <p:spPr>
              <a:xfrm>
                <a:off x="6112440" y="56818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3" name=""/>
              <p:cNvSpPr/>
              <p:nvPr/>
            </p:nvSpPr>
            <p:spPr>
              <a:xfrm>
                <a:off x="6149880" y="568188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4" name=""/>
              <p:cNvSpPr/>
              <p:nvPr/>
            </p:nvSpPr>
            <p:spPr>
              <a:xfrm>
                <a:off x="6188040" y="56818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20" y="46"/>
                    </a:moveTo>
                    <a:lnTo>
                      <a:pt x="37" y="35"/>
                    </a:lnTo>
                    <a:lnTo>
                      <a:pt x="37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5783760" y="568188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6" name=""/>
              <p:cNvSpPr/>
              <p:nvPr/>
            </p:nvSpPr>
            <p:spPr>
              <a:xfrm>
                <a:off x="5820840" y="568188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7" name=""/>
              <p:cNvSpPr/>
              <p:nvPr/>
            </p:nvSpPr>
            <p:spPr>
              <a:xfrm>
                <a:off x="5855760" y="568188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8" name=""/>
              <p:cNvSpPr/>
              <p:nvPr/>
            </p:nvSpPr>
            <p:spPr>
              <a:xfrm>
                <a:off x="5893920" y="56818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9" name=""/>
              <p:cNvSpPr/>
              <p:nvPr/>
            </p:nvSpPr>
            <p:spPr>
              <a:xfrm>
                <a:off x="5931000" y="568188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0" name=""/>
              <p:cNvSpPr/>
              <p:nvPr/>
            </p:nvSpPr>
            <p:spPr>
              <a:xfrm>
                <a:off x="6224760" y="568188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1" name=""/>
              <p:cNvSpPr/>
              <p:nvPr/>
            </p:nvSpPr>
            <p:spPr>
              <a:xfrm>
                <a:off x="6259320" y="56818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2" name=""/>
              <p:cNvSpPr/>
              <p:nvPr/>
            </p:nvSpPr>
            <p:spPr>
              <a:xfrm>
                <a:off x="6277320" y="570636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3" name=""/>
              <p:cNvSpPr/>
              <p:nvPr/>
            </p:nvSpPr>
            <p:spPr>
              <a:xfrm>
                <a:off x="631584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4" name=""/>
              <p:cNvSpPr/>
              <p:nvPr/>
            </p:nvSpPr>
            <p:spPr>
              <a:xfrm>
                <a:off x="6352560" y="570636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5" name=""/>
              <p:cNvSpPr/>
              <p:nvPr/>
            </p:nvSpPr>
            <p:spPr>
              <a:xfrm>
                <a:off x="638892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4"/>
                    </a:lnTo>
                    <a:lnTo>
                      <a:pt x="22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6" name=""/>
              <p:cNvSpPr/>
              <p:nvPr/>
            </p:nvSpPr>
            <p:spPr>
              <a:xfrm>
                <a:off x="642564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6462720" y="57063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6443640" y="557784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9" name=""/>
              <p:cNvSpPr/>
              <p:nvPr/>
            </p:nvSpPr>
            <p:spPr>
              <a:xfrm>
                <a:off x="6462720" y="56041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0" name=""/>
              <p:cNvSpPr/>
              <p:nvPr/>
            </p:nvSpPr>
            <p:spPr>
              <a:xfrm>
                <a:off x="6481800" y="5577840"/>
                <a:ext cx="25200" cy="2592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1" name=""/>
              <p:cNvSpPr/>
              <p:nvPr/>
            </p:nvSpPr>
            <p:spPr>
              <a:xfrm>
                <a:off x="6406560" y="56300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2" name=""/>
              <p:cNvSpPr/>
              <p:nvPr/>
            </p:nvSpPr>
            <p:spPr>
              <a:xfrm>
                <a:off x="6425640" y="56041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3" name=""/>
              <p:cNvSpPr/>
              <p:nvPr/>
            </p:nvSpPr>
            <p:spPr>
              <a:xfrm>
                <a:off x="6443640" y="56300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4" name=""/>
              <p:cNvSpPr/>
              <p:nvPr/>
            </p:nvSpPr>
            <p:spPr>
              <a:xfrm>
                <a:off x="6481800" y="563004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5" name=""/>
              <p:cNvSpPr/>
              <p:nvPr/>
            </p:nvSpPr>
            <p:spPr>
              <a:xfrm>
                <a:off x="6177240" y="5395680"/>
                <a:ext cx="289080" cy="1742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6" name=""/>
              <p:cNvSpPr/>
              <p:nvPr/>
            </p:nvSpPr>
            <p:spPr>
              <a:xfrm>
                <a:off x="6177240" y="5395680"/>
                <a:ext cx="289080" cy="1742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7" name=""/>
              <p:cNvSpPr/>
              <p:nvPr/>
            </p:nvSpPr>
            <p:spPr>
              <a:xfrm>
                <a:off x="6197400" y="5413680"/>
                <a:ext cx="248400" cy="1393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  <a:close/>
                  </a:path>
                </a:pathLst>
              </a:custGeom>
              <a:solidFill>
                <a:srgbClr val="2b2b2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8" name=""/>
              <p:cNvSpPr/>
              <p:nvPr/>
            </p:nvSpPr>
            <p:spPr>
              <a:xfrm>
                <a:off x="6197400" y="5413680"/>
                <a:ext cx="248400" cy="1393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9" name=""/>
              <p:cNvSpPr/>
              <p:nvPr/>
            </p:nvSpPr>
            <p:spPr>
              <a:xfrm>
                <a:off x="6247440" y="5443560"/>
                <a:ext cx="147960" cy="79920"/>
              </a:xfrm>
              <a:custGeom>
                <a:avLst/>
                <a:gdLst/>
                <a:ahLst/>
                <a:rect l="l" t="t" r="r" b="b"/>
                <a:pathLst>
                  <a:path w="218" h="144">
                    <a:moveTo>
                      <a:pt x="20" y="68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0" y="68"/>
                    </a:lnTo>
                    <a:close/>
                    <a:moveTo>
                      <a:pt x="118" y="144"/>
                    </a:moveTo>
                    <a:lnTo>
                      <a:pt x="118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18" y="144"/>
                    </a:lnTo>
                    <a:close/>
                    <a:moveTo>
                      <a:pt x="218" y="68"/>
                    </a:moveTo>
                    <a:lnTo>
                      <a:pt x="218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8" y="6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0" name=""/>
              <p:cNvSpPr/>
              <p:nvPr/>
            </p:nvSpPr>
            <p:spPr>
              <a:xfrm>
                <a:off x="6448320" y="5425560"/>
                <a:ext cx="97920" cy="1422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1" name=""/>
              <p:cNvSpPr/>
              <p:nvPr/>
            </p:nvSpPr>
            <p:spPr>
              <a:xfrm>
                <a:off x="6448320" y="5405760"/>
                <a:ext cx="25200" cy="182160"/>
              </a:xfrm>
              <a:prstGeom prst="rect">
                <a:avLst/>
              </a:prstGeom>
              <a:solidFill>
                <a:srgbClr val="af4b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2" name=""/>
              <p:cNvSpPr/>
              <p:nvPr/>
            </p:nvSpPr>
            <p:spPr>
              <a:xfrm>
                <a:off x="6473520" y="5405760"/>
                <a:ext cx="26280" cy="182160"/>
              </a:xfrm>
              <a:prstGeom prst="rect">
                <a:avLst/>
              </a:prstGeom>
              <a:solidFill>
                <a:srgbClr val="b65d8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3" name=""/>
              <p:cNvSpPr/>
              <p:nvPr/>
            </p:nvSpPr>
            <p:spPr>
              <a:xfrm>
                <a:off x="6499800" y="5405760"/>
                <a:ext cx="23760" cy="182160"/>
              </a:xfrm>
              <a:prstGeom prst="rect">
                <a:avLst/>
              </a:prstGeom>
              <a:solidFill>
                <a:srgbClr val="b357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4" name=""/>
              <p:cNvSpPr/>
              <p:nvPr/>
            </p:nvSpPr>
            <p:spPr>
              <a:xfrm>
                <a:off x="6523560" y="5405760"/>
                <a:ext cx="22680" cy="182160"/>
              </a:xfrm>
              <a:prstGeom prst="rect">
                <a:avLst/>
              </a:prstGeom>
              <a:solidFill>
                <a:srgbClr val="b1507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5" name=""/>
              <p:cNvSpPr/>
              <p:nvPr/>
            </p:nvSpPr>
            <p:spPr>
              <a:xfrm>
                <a:off x="6546600" y="5405760"/>
                <a:ext cx="24840" cy="182160"/>
              </a:xfrm>
              <a:prstGeom prst="rect">
                <a:avLst/>
              </a:prstGeom>
              <a:solidFill>
                <a:srgbClr val="ae4a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6466320" y="5410080"/>
                <a:ext cx="95400" cy="154800"/>
              </a:xfrm>
              <a:custGeom>
                <a:avLst/>
                <a:gdLst/>
                <a:ahLst/>
                <a:rect l="l" t="t" r="r" b="b"/>
                <a:pathLst>
                  <a:path w="141" h="280">
                    <a:moveTo>
                      <a:pt x="0" y="261"/>
                    </a:moveTo>
                    <a:lnTo>
                      <a:pt x="0" y="265"/>
                    </a:lnTo>
                    <a:lnTo>
                      <a:pt x="2" y="268"/>
                    </a:lnTo>
                    <a:lnTo>
                      <a:pt x="3" y="272"/>
                    </a:lnTo>
                    <a:lnTo>
                      <a:pt x="5" y="275"/>
                    </a:lnTo>
                    <a:lnTo>
                      <a:pt x="9" y="276"/>
                    </a:lnTo>
                    <a:lnTo>
                      <a:pt x="13" y="279"/>
                    </a:lnTo>
                    <a:lnTo>
                      <a:pt x="17" y="279"/>
                    </a:lnTo>
                    <a:lnTo>
                      <a:pt x="20" y="280"/>
                    </a:lnTo>
                    <a:lnTo>
                      <a:pt x="27" y="280"/>
                    </a:lnTo>
                    <a:lnTo>
                      <a:pt x="116" y="270"/>
                    </a:lnTo>
                    <a:lnTo>
                      <a:pt x="121" y="268"/>
                    </a:lnTo>
                    <a:lnTo>
                      <a:pt x="126" y="267"/>
                    </a:lnTo>
                    <a:lnTo>
                      <a:pt x="129" y="265"/>
                    </a:lnTo>
                    <a:lnTo>
                      <a:pt x="133" y="261"/>
                    </a:lnTo>
                    <a:lnTo>
                      <a:pt x="136" y="257"/>
                    </a:lnTo>
                    <a:lnTo>
                      <a:pt x="138" y="252"/>
                    </a:lnTo>
                    <a:lnTo>
                      <a:pt x="139" y="248"/>
                    </a:lnTo>
                    <a:lnTo>
                      <a:pt x="141" y="243"/>
                    </a:lnTo>
                    <a:lnTo>
                      <a:pt x="141" y="243"/>
                    </a:lnTo>
                    <a:lnTo>
                      <a:pt x="141" y="35"/>
                    </a:lnTo>
                    <a:lnTo>
                      <a:pt x="139" y="31"/>
                    </a:lnTo>
                    <a:lnTo>
                      <a:pt x="138" y="26"/>
                    </a:lnTo>
                    <a:lnTo>
                      <a:pt x="136" y="21"/>
                    </a:lnTo>
                    <a:lnTo>
                      <a:pt x="133" y="17"/>
                    </a:lnTo>
                    <a:lnTo>
                      <a:pt x="128" y="15"/>
                    </a:lnTo>
                    <a:lnTo>
                      <a:pt x="124" y="11"/>
                    </a:lnTo>
                    <a:lnTo>
                      <a:pt x="119" y="10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1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7" name=""/>
              <p:cNvSpPr/>
              <p:nvPr/>
            </p:nvSpPr>
            <p:spPr>
              <a:xfrm>
                <a:off x="2845440" y="5358960"/>
                <a:ext cx="1829520" cy="481680"/>
              </a:xfrm>
              <a:custGeom>
                <a:avLst/>
                <a:gdLst/>
                <a:ahLst/>
                <a:rect l="l" t="t" r="r" b="b"/>
                <a:pathLst>
                  <a:path w="2690" h="869">
                    <a:moveTo>
                      <a:pt x="1379" y="632"/>
                    </a:moveTo>
                    <a:lnTo>
                      <a:pt x="0" y="632"/>
                    </a:lnTo>
                    <a:lnTo>
                      <a:pt x="0" y="812"/>
                    </a:lnTo>
                    <a:lnTo>
                      <a:pt x="1379" y="812"/>
                    </a:lnTo>
                    <a:lnTo>
                      <a:pt x="1379" y="632"/>
                    </a:lnTo>
                    <a:close/>
                    <a:moveTo>
                      <a:pt x="1379" y="325"/>
                    </a:moveTo>
                    <a:lnTo>
                      <a:pt x="0" y="325"/>
                    </a:lnTo>
                    <a:lnTo>
                      <a:pt x="0" y="507"/>
                    </a:lnTo>
                    <a:lnTo>
                      <a:pt x="1379" y="507"/>
                    </a:lnTo>
                    <a:lnTo>
                      <a:pt x="1379" y="325"/>
                    </a:lnTo>
                    <a:close/>
                    <a:moveTo>
                      <a:pt x="1379" y="19"/>
                    </a:moveTo>
                    <a:lnTo>
                      <a:pt x="0" y="19"/>
                    </a:lnTo>
                    <a:lnTo>
                      <a:pt x="0" y="201"/>
                    </a:lnTo>
                    <a:lnTo>
                      <a:pt x="1379" y="201"/>
                    </a:lnTo>
                    <a:lnTo>
                      <a:pt x="1379" y="19"/>
                    </a:lnTo>
                    <a:close/>
                    <a:moveTo>
                      <a:pt x="1695" y="0"/>
                    </a:moveTo>
                    <a:lnTo>
                      <a:pt x="1695" y="869"/>
                    </a:lnTo>
                    <a:lnTo>
                      <a:pt x="1868" y="869"/>
                    </a:lnTo>
                    <a:lnTo>
                      <a:pt x="1868" y="0"/>
                    </a:lnTo>
                    <a:lnTo>
                      <a:pt x="1695" y="0"/>
                    </a:lnTo>
                    <a:close/>
                    <a:moveTo>
                      <a:pt x="2517" y="0"/>
                    </a:moveTo>
                    <a:lnTo>
                      <a:pt x="2517" y="869"/>
                    </a:lnTo>
                    <a:lnTo>
                      <a:pt x="2690" y="869"/>
                    </a:lnTo>
                    <a:lnTo>
                      <a:pt x="2690" y="0"/>
                    </a:lnTo>
                    <a:lnTo>
                      <a:pt x="2517" y="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8" name=""/>
              <p:cNvSpPr/>
              <p:nvPr/>
            </p:nvSpPr>
            <p:spPr>
              <a:xfrm>
                <a:off x="2845440" y="570888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9" name=""/>
              <p:cNvSpPr/>
              <p:nvPr/>
            </p:nvSpPr>
            <p:spPr>
              <a:xfrm>
                <a:off x="2845440" y="553860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0" name=""/>
              <p:cNvSpPr/>
              <p:nvPr/>
            </p:nvSpPr>
            <p:spPr>
              <a:xfrm>
                <a:off x="2845440" y="536832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3998520" y="5358960"/>
                <a:ext cx="118080" cy="481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2" name=""/>
              <p:cNvSpPr/>
              <p:nvPr/>
            </p:nvSpPr>
            <p:spPr>
              <a:xfrm>
                <a:off x="4557960" y="5358960"/>
                <a:ext cx="117000" cy="481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3" name=""/>
              <p:cNvSpPr/>
              <p:nvPr/>
            </p:nvSpPr>
            <p:spPr>
              <a:xfrm>
                <a:off x="2886120" y="5383080"/>
                <a:ext cx="1750320" cy="432360"/>
              </a:xfrm>
              <a:custGeom>
                <a:avLst/>
                <a:gdLst/>
                <a:ahLst/>
                <a:rect l="l" t="t" r="r" b="b"/>
                <a:pathLst>
                  <a:path w="2573" h="779">
                    <a:moveTo>
                      <a:pt x="1139" y="36"/>
                    </a:moveTo>
                    <a:lnTo>
                      <a:pt x="123" y="36"/>
                    </a:lnTo>
                    <a:lnTo>
                      <a:pt x="110" y="36"/>
                    </a:lnTo>
                    <a:lnTo>
                      <a:pt x="98" y="36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6" y="39"/>
                    </a:lnTo>
                    <a:lnTo>
                      <a:pt x="27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6" y="88"/>
                    </a:lnTo>
                    <a:lnTo>
                      <a:pt x="10" y="89"/>
                    </a:lnTo>
                    <a:lnTo>
                      <a:pt x="15" y="90"/>
                    </a:lnTo>
                    <a:lnTo>
                      <a:pt x="21" y="90"/>
                    </a:lnTo>
                    <a:lnTo>
                      <a:pt x="27" y="92"/>
                    </a:lnTo>
                    <a:lnTo>
                      <a:pt x="36" y="92"/>
                    </a:lnTo>
                    <a:lnTo>
                      <a:pt x="45" y="93"/>
                    </a:lnTo>
                    <a:lnTo>
                      <a:pt x="54" y="93"/>
                    </a:lnTo>
                    <a:lnTo>
                      <a:pt x="64" y="94"/>
                    </a:lnTo>
                    <a:lnTo>
                      <a:pt x="75" y="94"/>
                    </a:lnTo>
                    <a:lnTo>
                      <a:pt x="86" y="94"/>
                    </a:lnTo>
                    <a:lnTo>
                      <a:pt x="98" y="94"/>
                    </a:lnTo>
                    <a:lnTo>
                      <a:pt x="110" y="94"/>
                    </a:lnTo>
                    <a:lnTo>
                      <a:pt x="123" y="96"/>
                    </a:lnTo>
                    <a:lnTo>
                      <a:pt x="123" y="96"/>
                    </a:lnTo>
                    <a:lnTo>
                      <a:pt x="1139" y="96"/>
                    </a:lnTo>
                    <a:lnTo>
                      <a:pt x="1151" y="94"/>
                    </a:lnTo>
                    <a:lnTo>
                      <a:pt x="1164" y="94"/>
                    </a:lnTo>
                    <a:lnTo>
                      <a:pt x="1175" y="94"/>
                    </a:lnTo>
                    <a:lnTo>
                      <a:pt x="1186" y="94"/>
                    </a:lnTo>
                    <a:lnTo>
                      <a:pt x="1198" y="94"/>
                    </a:lnTo>
                    <a:lnTo>
                      <a:pt x="1208" y="93"/>
                    </a:lnTo>
                    <a:lnTo>
                      <a:pt x="1216" y="93"/>
                    </a:lnTo>
                    <a:lnTo>
                      <a:pt x="1225" y="92"/>
                    </a:lnTo>
                    <a:lnTo>
                      <a:pt x="1233" y="92"/>
                    </a:lnTo>
                    <a:lnTo>
                      <a:pt x="1240" y="90"/>
                    </a:lnTo>
                    <a:lnTo>
                      <a:pt x="1246" y="90"/>
                    </a:lnTo>
                    <a:lnTo>
                      <a:pt x="1251" y="89"/>
                    </a:lnTo>
                    <a:lnTo>
                      <a:pt x="1255" y="88"/>
                    </a:lnTo>
                    <a:lnTo>
                      <a:pt x="1259" y="88"/>
                    </a:lnTo>
                    <a:lnTo>
                      <a:pt x="1260" y="87"/>
                    </a:lnTo>
                    <a:lnTo>
                      <a:pt x="1260" y="87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45"/>
                    </a:lnTo>
                    <a:lnTo>
                      <a:pt x="1260" y="44"/>
                    </a:lnTo>
                    <a:lnTo>
                      <a:pt x="1260" y="44"/>
                    </a:lnTo>
                    <a:lnTo>
                      <a:pt x="1259" y="43"/>
                    </a:lnTo>
                    <a:lnTo>
                      <a:pt x="1255" y="43"/>
                    </a:lnTo>
                    <a:lnTo>
                      <a:pt x="1251" y="41"/>
                    </a:lnTo>
                    <a:lnTo>
                      <a:pt x="1246" y="41"/>
                    </a:lnTo>
                    <a:lnTo>
                      <a:pt x="1240" y="40"/>
                    </a:lnTo>
                    <a:lnTo>
                      <a:pt x="1233" y="39"/>
                    </a:lnTo>
                    <a:lnTo>
                      <a:pt x="1225" y="39"/>
                    </a:lnTo>
                    <a:lnTo>
                      <a:pt x="1216" y="37"/>
                    </a:lnTo>
                    <a:lnTo>
                      <a:pt x="1208" y="37"/>
                    </a:lnTo>
                    <a:lnTo>
                      <a:pt x="1198" y="37"/>
                    </a:lnTo>
                    <a:lnTo>
                      <a:pt x="1186" y="36"/>
                    </a:lnTo>
                    <a:lnTo>
                      <a:pt x="1175" y="36"/>
                    </a:lnTo>
                    <a:lnTo>
                      <a:pt x="1164" y="36"/>
                    </a:lnTo>
                    <a:lnTo>
                      <a:pt x="1151" y="36"/>
                    </a:lnTo>
                    <a:lnTo>
                      <a:pt x="1139" y="36"/>
                    </a:lnTo>
                    <a:lnTo>
                      <a:pt x="1139" y="36"/>
                    </a:lnTo>
                    <a:close/>
                    <a:moveTo>
                      <a:pt x="1139" y="340"/>
                    </a:moveTo>
                    <a:lnTo>
                      <a:pt x="123" y="340"/>
                    </a:lnTo>
                    <a:lnTo>
                      <a:pt x="110" y="340"/>
                    </a:lnTo>
                    <a:lnTo>
                      <a:pt x="98" y="342"/>
                    </a:lnTo>
                    <a:lnTo>
                      <a:pt x="86" y="342"/>
                    </a:lnTo>
                    <a:lnTo>
                      <a:pt x="75" y="342"/>
                    </a:lnTo>
                    <a:lnTo>
                      <a:pt x="64" y="342"/>
                    </a:lnTo>
                    <a:lnTo>
                      <a:pt x="54" y="343"/>
                    </a:lnTo>
                    <a:lnTo>
                      <a:pt x="45" y="343"/>
                    </a:lnTo>
                    <a:lnTo>
                      <a:pt x="36" y="344"/>
                    </a:lnTo>
                    <a:lnTo>
                      <a:pt x="27" y="344"/>
                    </a:lnTo>
                    <a:lnTo>
                      <a:pt x="21" y="346"/>
                    </a:lnTo>
                    <a:lnTo>
                      <a:pt x="15" y="346"/>
                    </a:lnTo>
                    <a:lnTo>
                      <a:pt x="10" y="347"/>
                    </a:lnTo>
                    <a:lnTo>
                      <a:pt x="6" y="348"/>
                    </a:lnTo>
                    <a:lnTo>
                      <a:pt x="2" y="348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1" y="392"/>
                    </a:lnTo>
                    <a:lnTo>
                      <a:pt x="2" y="392"/>
                    </a:lnTo>
                    <a:lnTo>
                      <a:pt x="6" y="393"/>
                    </a:lnTo>
                    <a:lnTo>
                      <a:pt x="10" y="395"/>
                    </a:lnTo>
                    <a:lnTo>
                      <a:pt x="15" y="395"/>
                    </a:lnTo>
                    <a:lnTo>
                      <a:pt x="21" y="396"/>
                    </a:lnTo>
                    <a:lnTo>
                      <a:pt x="27" y="397"/>
                    </a:lnTo>
                    <a:lnTo>
                      <a:pt x="36" y="397"/>
                    </a:lnTo>
                    <a:lnTo>
                      <a:pt x="45" y="399"/>
                    </a:lnTo>
                    <a:lnTo>
                      <a:pt x="54" y="399"/>
                    </a:lnTo>
                    <a:lnTo>
                      <a:pt x="64" y="399"/>
                    </a:lnTo>
                    <a:lnTo>
                      <a:pt x="75" y="400"/>
                    </a:lnTo>
                    <a:lnTo>
                      <a:pt x="86" y="400"/>
                    </a:lnTo>
                    <a:lnTo>
                      <a:pt x="98" y="400"/>
                    </a:lnTo>
                    <a:lnTo>
                      <a:pt x="110" y="400"/>
                    </a:lnTo>
                    <a:lnTo>
                      <a:pt x="123" y="400"/>
                    </a:lnTo>
                    <a:lnTo>
                      <a:pt x="123" y="400"/>
                    </a:lnTo>
                    <a:lnTo>
                      <a:pt x="1139" y="400"/>
                    </a:lnTo>
                    <a:lnTo>
                      <a:pt x="1151" y="400"/>
                    </a:lnTo>
                    <a:lnTo>
                      <a:pt x="1164" y="400"/>
                    </a:lnTo>
                    <a:lnTo>
                      <a:pt x="1175" y="400"/>
                    </a:lnTo>
                    <a:lnTo>
                      <a:pt x="1186" y="400"/>
                    </a:lnTo>
                    <a:lnTo>
                      <a:pt x="1198" y="399"/>
                    </a:lnTo>
                    <a:lnTo>
                      <a:pt x="1208" y="399"/>
                    </a:lnTo>
                    <a:lnTo>
                      <a:pt x="1216" y="399"/>
                    </a:lnTo>
                    <a:lnTo>
                      <a:pt x="1225" y="397"/>
                    </a:lnTo>
                    <a:lnTo>
                      <a:pt x="1233" y="397"/>
                    </a:lnTo>
                    <a:lnTo>
                      <a:pt x="1240" y="396"/>
                    </a:lnTo>
                    <a:lnTo>
                      <a:pt x="1246" y="395"/>
                    </a:lnTo>
                    <a:lnTo>
                      <a:pt x="1251" y="395"/>
                    </a:lnTo>
                    <a:lnTo>
                      <a:pt x="1255" y="393"/>
                    </a:lnTo>
                    <a:lnTo>
                      <a:pt x="1259" y="392"/>
                    </a:lnTo>
                    <a:lnTo>
                      <a:pt x="1260" y="392"/>
                    </a:lnTo>
                    <a:lnTo>
                      <a:pt x="1260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51"/>
                    </a:lnTo>
                    <a:lnTo>
                      <a:pt x="1260" y="349"/>
                    </a:lnTo>
                    <a:lnTo>
                      <a:pt x="1260" y="349"/>
                    </a:lnTo>
                    <a:lnTo>
                      <a:pt x="1259" y="348"/>
                    </a:lnTo>
                    <a:lnTo>
                      <a:pt x="1255" y="348"/>
                    </a:lnTo>
                    <a:lnTo>
                      <a:pt x="1251" y="347"/>
                    </a:lnTo>
                    <a:lnTo>
                      <a:pt x="1246" y="346"/>
                    </a:lnTo>
                    <a:lnTo>
                      <a:pt x="1240" y="346"/>
                    </a:lnTo>
                    <a:lnTo>
                      <a:pt x="1233" y="344"/>
                    </a:lnTo>
                    <a:lnTo>
                      <a:pt x="1225" y="344"/>
                    </a:lnTo>
                    <a:lnTo>
                      <a:pt x="1216" y="343"/>
                    </a:lnTo>
                    <a:lnTo>
                      <a:pt x="1208" y="343"/>
                    </a:lnTo>
                    <a:lnTo>
                      <a:pt x="1198" y="342"/>
                    </a:lnTo>
                    <a:lnTo>
                      <a:pt x="1186" y="342"/>
                    </a:lnTo>
                    <a:lnTo>
                      <a:pt x="1175" y="342"/>
                    </a:lnTo>
                    <a:lnTo>
                      <a:pt x="1164" y="342"/>
                    </a:lnTo>
                    <a:lnTo>
                      <a:pt x="1151" y="340"/>
                    </a:lnTo>
                    <a:lnTo>
                      <a:pt x="1139" y="340"/>
                    </a:lnTo>
                    <a:lnTo>
                      <a:pt x="1139" y="340"/>
                    </a:lnTo>
                    <a:close/>
                    <a:moveTo>
                      <a:pt x="1139" y="646"/>
                    </a:moveTo>
                    <a:lnTo>
                      <a:pt x="123" y="646"/>
                    </a:lnTo>
                    <a:lnTo>
                      <a:pt x="110" y="646"/>
                    </a:lnTo>
                    <a:lnTo>
                      <a:pt x="98" y="646"/>
                    </a:lnTo>
                    <a:lnTo>
                      <a:pt x="86" y="647"/>
                    </a:lnTo>
                    <a:lnTo>
                      <a:pt x="75" y="647"/>
                    </a:lnTo>
                    <a:lnTo>
                      <a:pt x="64" y="647"/>
                    </a:lnTo>
                    <a:lnTo>
                      <a:pt x="54" y="649"/>
                    </a:lnTo>
                    <a:lnTo>
                      <a:pt x="45" y="649"/>
                    </a:lnTo>
                    <a:lnTo>
                      <a:pt x="36" y="650"/>
                    </a:lnTo>
                    <a:lnTo>
                      <a:pt x="27" y="650"/>
                    </a:lnTo>
                    <a:lnTo>
                      <a:pt x="21" y="651"/>
                    </a:lnTo>
                    <a:lnTo>
                      <a:pt x="15" y="651"/>
                    </a:lnTo>
                    <a:lnTo>
                      <a:pt x="10" y="652"/>
                    </a:lnTo>
                    <a:lnTo>
                      <a:pt x="6" y="654"/>
                    </a:lnTo>
                    <a:lnTo>
                      <a:pt x="2" y="654"/>
                    </a:lnTo>
                    <a:lnTo>
                      <a:pt x="1" y="655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6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1" y="698"/>
                    </a:lnTo>
                    <a:lnTo>
                      <a:pt x="2" y="698"/>
                    </a:lnTo>
                    <a:lnTo>
                      <a:pt x="6" y="699"/>
                    </a:lnTo>
                    <a:lnTo>
                      <a:pt x="10" y="700"/>
                    </a:lnTo>
                    <a:lnTo>
                      <a:pt x="15" y="700"/>
                    </a:lnTo>
                    <a:lnTo>
                      <a:pt x="21" y="702"/>
                    </a:lnTo>
                    <a:lnTo>
                      <a:pt x="27" y="702"/>
                    </a:lnTo>
                    <a:lnTo>
                      <a:pt x="36" y="703"/>
                    </a:lnTo>
                    <a:lnTo>
                      <a:pt x="45" y="703"/>
                    </a:lnTo>
                    <a:lnTo>
                      <a:pt x="54" y="704"/>
                    </a:lnTo>
                    <a:lnTo>
                      <a:pt x="64" y="704"/>
                    </a:lnTo>
                    <a:lnTo>
                      <a:pt x="75" y="705"/>
                    </a:lnTo>
                    <a:lnTo>
                      <a:pt x="86" y="705"/>
                    </a:lnTo>
                    <a:lnTo>
                      <a:pt x="98" y="705"/>
                    </a:lnTo>
                    <a:lnTo>
                      <a:pt x="110" y="705"/>
                    </a:lnTo>
                    <a:lnTo>
                      <a:pt x="123" y="705"/>
                    </a:lnTo>
                    <a:lnTo>
                      <a:pt x="123" y="705"/>
                    </a:lnTo>
                    <a:lnTo>
                      <a:pt x="1139" y="705"/>
                    </a:lnTo>
                    <a:lnTo>
                      <a:pt x="1151" y="705"/>
                    </a:lnTo>
                    <a:lnTo>
                      <a:pt x="1164" y="705"/>
                    </a:lnTo>
                    <a:lnTo>
                      <a:pt x="1175" y="705"/>
                    </a:lnTo>
                    <a:lnTo>
                      <a:pt x="1186" y="705"/>
                    </a:lnTo>
                    <a:lnTo>
                      <a:pt x="1198" y="704"/>
                    </a:lnTo>
                    <a:lnTo>
                      <a:pt x="1208" y="704"/>
                    </a:lnTo>
                    <a:lnTo>
                      <a:pt x="1216" y="703"/>
                    </a:lnTo>
                    <a:lnTo>
                      <a:pt x="1225" y="703"/>
                    </a:lnTo>
                    <a:lnTo>
                      <a:pt x="1233" y="702"/>
                    </a:lnTo>
                    <a:lnTo>
                      <a:pt x="1240" y="702"/>
                    </a:lnTo>
                    <a:lnTo>
                      <a:pt x="1246" y="700"/>
                    </a:lnTo>
                    <a:lnTo>
                      <a:pt x="1251" y="700"/>
                    </a:lnTo>
                    <a:lnTo>
                      <a:pt x="1255" y="699"/>
                    </a:lnTo>
                    <a:lnTo>
                      <a:pt x="1259" y="698"/>
                    </a:lnTo>
                    <a:lnTo>
                      <a:pt x="1260" y="698"/>
                    </a:lnTo>
                    <a:lnTo>
                      <a:pt x="1260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56"/>
                    </a:lnTo>
                    <a:lnTo>
                      <a:pt x="1260" y="655"/>
                    </a:lnTo>
                    <a:lnTo>
                      <a:pt x="1260" y="655"/>
                    </a:lnTo>
                    <a:lnTo>
                      <a:pt x="1259" y="654"/>
                    </a:lnTo>
                    <a:lnTo>
                      <a:pt x="1255" y="654"/>
                    </a:lnTo>
                    <a:lnTo>
                      <a:pt x="1251" y="652"/>
                    </a:lnTo>
                    <a:lnTo>
                      <a:pt x="1246" y="651"/>
                    </a:lnTo>
                    <a:lnTo>
                      <a:pt x="1240" y="651"/>
                    </a:lnTo>
                    <a:lnTo>
                      <a:pt x="1233" y="650"/>
                    </a:lnTo>
                    <a:lnTo>
                      <a:pt x="1225" y="650"/>
                    </a:lnTo>
                    <a:lnTo>
                      <a:pt x="1216" y="649"/>
                    </a:lnTo>
                    <a:lnTo>
                      <a:pt x="1208" y="649"/>
                    </a:lnTo>
                    <a:lnTo>
                      <a:pt x="1198" y="647"/>
                    </a:lnTo>
                    <a:lnTo>
                      <a:pt x="1186" y="647"/>
                    </a:lnTo>
                    <a:lnTo>
                      <a:pt x="1175" y="647"/>
                    </a:lnTo>
                    <a:lnTo>
                      <a:pt x="1164" y="646"/>
                    </a:lnTo>
                    <a:lnTo>
                      <a:pt x="1151" y="646"/>
                    </a:lnTo>
                    <a:lnTo>
                      <a:pt x="1139" y="646"/>
                    </a:lnTo>
                    <a:lnTo>
                      <a:pt x="1139" y="646"/>
                    </a:lnTo>
                    <a:close/>
                    <a:moveTo>
                      <a:pt x="1753" y="703"/>
                    </a:moveTo>
                    <a:lnTo>
                      <a:pt x="1753" y="74"/>
                    </a:lnTo>
                    <a:lnTo>
                      <a:pt x="1751" y="59"/>
                    </a:lnTo>
                    <a:lnTo>
                      <a:pt x="1751" y="53"/>
                    </a:lnTo>
                    <a:lnTo>
                      <a:pt x="1751" y="45"/>
                    </a:lnTo>
                    <a:lnTo>
                      <a:pt x="1751" y="39"/>
                    </a:lnTo>
                    <a:lnTo>
                      <a:pt x="1750" y="32"/>
                    </a:lnTo>
                    <a:lnTo>
                      <a:pt x="1750" y="27"/>
                    </a:lnTo>
                    <a:lnTo>
                      <a:pt x="1749" y="21"/>
                    </a:lnTo>
                    <a:lnTo>
                      <a:pt x="1749" y="16"/>
                    </a:lnTo>
                    <a:lnTo>
                      <a:pt x="1748" y="12"/>
                    </a:lnTo>
                    <a:lnTo>
                      <a:pt x="1748" y="8"/>
                    </a:lnTo>
                    <a:lnTo>
                      <a:pt x="1746" y="5"/>
                    </a:lnTo>
                    <a:lnTo>
                      <a:pt x="1745" y="2"/>
                    </a:lnTo>
                    <a:lnTo>
                      <a:pt x="1745" y="1"/>
                    </a:lnTo>
                    <a:lnTo>
                      <a:pt x="1744" y="0"/>
                    </a:lnTo>
                    <a:lnTo>
                      <a:pt x="1743" y="0"/>
                    </a:lnTo>
                    <a:lnTo>
                      <a:pt x="1705" y="0"/>
                    </a:lnTo>
                    <a:lnTo>
                      <a:pt x="1704" y="0"/>
                    </a:lnTo>
                    <a:lnTo>
                      <a:pt x="1703" y="1"/>
                    </a:lnTo>
                    <a:lnTo>
                      <a:pt x="1703" y="2"/>
                    </a:lnTo>
                    <a:lnTo>
                      <a:pt x="1701" y="5"/>
                    </a:lnTo>
                    <a:lnTo>
                      <a:pt x="1700" y="8"/>
                    </a:lnTo>
                    <a:lnTo>
                      <a:pt x="1700" y="12"/>
                    </a:lnTo>
                    <a:lnTo>
                      <a:pt x="1699" y="16"/>
                    </a:lnTo>
                    <a:lnTo>
                      <a:pt x="1699" y="21"/>
                    </a:lnTo>
                    <a:lnTo>
                      <a:pt x="1698" y="27"/>
                    </a:lnTo>
                    <a:lnTo>
                      <a:pt x="1698" y="32"/>
                    </a:lnTo>
                    <a:lnTo>
                      <a:pt x="1696" y="39"/>
                    </a:lnTo>
                    <a:lnTo>
                      <a:pt x="1696" y="45"/>
                    </a:lnTo>
                    <a:lnTo>
                      <a:pt x="1696" y="53"/>
                    </a:lnTo>
                    <a:lnTo>
                      <a:pt x="1696" y="59"/>
                    </a:lnTo>
                    <a:lnTo>
                      <a:pt x="1695" y="74"/>
                    </a:lnTo>
                    <a:lnTo>
                      <a:pt x="1695" y="74"/>
                    </a:lnTo>
                    <a:lnTo>
                      <a:pt x="1695" y="703"/>
                    </a:lnTo>
                    <a:lnTo>
                      <a:pt x="1696" y="712"/>
                    </a:lnTo>
                    <a:lnTo>
                      <a:pt x="1696" y="719"/>
                    </a:lnTo>
                    <a:lnTo>
                      <a:pt x="1696" y="727"/>
                    </a:lnTo>
                    <a:lnTo>
                      <a:pt x="1696" y="733"/>
                    </a:lnTo>
                    <a:lnTo>
                      <a:pt x="1696" y="739"/>
                    </a:lnTo>
                    <a:lnTo>
                      <a:pt x="1698" y="746"/>
                    </a:lnTo>
                    <a:lnTo>
                      <a:pt x="1698" y="752"/>
                    </a:lnTo>
                    <a:lnTo>
                      <a:pt x="1699" y="757"/>
                    </a:lnTo>
                    <a:lnTo>
                      <a:pt x="1699" y="762"/>
                    </a:lnTo>
                    <a:lnTo>
                      <a:pt x="1700" y="766"/>
                    </a:lnTo>
                    <a:lnTo>
                      <a:pt x="1700" y="770"/>
                    </a:lnTo>
                    <a:lnTo>
                      <a:pt x="1701" y="774"/>
                    </a:lnTo>
                    <a:lnTo>
                      <a:pt x="1703" y="775"/>
                    </a:lnTo>
                    <a:lnTo>
                      <a:pt x="1703" y="777"/>
                    </a:lnTo>
                    <a:lnTo>
                      <a:pt x="1704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43" y="779"/>
                    </a:lnTo>
                    <a:lnTo>
                      <a:pt x="1744" y="779"/>
                    </a:lnTo>
                    <a:lnTo>
                      <a:pt x="1745" y="777"/>
                    </a:lnTo>
                    <a:lnTo>
                      <a:pt x="1745" y="775"/>
                    </a:lnTo>
                    <a:lnTo>
                      <a:pt x="1746" y="774"/>
                    </a:lnTo>
                    <a:lnTo>
                      <a:pt x="1748" y="770"/>
                    </a:lnTo>
                    <a:lnTo>
                      <a:pt x="1748" y="766"/>
                    </a:lnTo>
                    <a:lnTo>
                      <a:pt x="1749" y="762"/>
                    </a:lnTo>
                    <a:lnTo>
                      <a:pt x="1749" y="757"/>
                    </a:lnTo>
                    <a:lnTo>
                      <a:pt x="1750" y="752"/>
                    </a:lnTo>
                    <a:lnTo>
                      <a:pt x="1750" y="746"/>
                    </a:lnTo>
                    <a:lnTo>
                      <a:pt x="1751" y="739"/>
                    </a:lnTo>
                    <a:lnTo>
                      <a:pt x="1751" y="733"/>
                    </a:lnTo>
                    <a:lnTo>
                      <a:pt x="1751" y="727"/>
                    </a:lnTo>
                    <a:lnTo>
                      <a:pt x="1751" y="719"/>
                    </a:lnTo>
                    <a:lnTo>
                      <a:pt x="1753" y="712"/>
                    </a:lnTo>
                    <a:lnTo>
                      <a:pt x="1753" y="703"/>
                    </a:lnTo>
                    <a:lnTo>
                      <a:pt x="1753" y="703"/>
                    </a:lnTo>
                    <a:close/>
                    <a:moveTo>
                      <a:pt x="2573" y="703"/>
                    </a:moveTo>
                    <a:lnTo>
                      <a:pt x="2573" y="74"/>
                    </a:lnTo>
                    <a:lnTo>
                      <a:pt x="2573" y="59"/>
                    </a:lnTo>
                    <a:lnTo>
                      <a:pt x="2573" y="53"/>
                    </a:lnTo>
                    <a:lnTo>
                      <a:pt x="2573" y="45"/>
                    </a:lnTo>
                    <a:lnTo>
                      <a:pt x="2572" y="39"/>
                    </a:lnTo>
                    <a:lnTo>
                      <a:pt x="2572" y="32"/>
                    </a:lnTo>
                    <a:lnTo>
                      <a:pt x="2572" y="27"/>
                    </a:lnTo>
                    <a:lnTo>
                      <a:pt x="2571" y="21"/>
                    </a:lnTo>
                    <a:lnTo>
                      <a:pt x="2571" y="16"/>
                    </a:lnTo>
                    <a:lnTo>
                      <a:pt x="2570" y="12"/>
                    </a:lnTo>
                    <a:lnTo>
                      <a:pt x="2568" y="8"/>
                    </a:lnTo>
                    <a:lnTo>
                      <a:pt x="2568" y="5"/>
                    </a:lnTo>
                    <a:lnTo>
                      <a:pt x="2567" y="2"/>
                    </a:lnTo>
                    <a:lnTo>
                      <a:pt x="2567" y="1"/>
                    </a:lnTo>
                    <a:lnTo>
                      <a:pt x="2566" y="0"/>
                    </a:lnTo>
                    <a:lnTo>
                      <a:pt x="2565" y="0"/>
                    </a:lnTo>
                    <a:lnTo>
                      <a:pt x="2524" y="0"/>
                    </a:lnTo>
                    <a:lnTo>
                      <a:pt x="2523" y="0"/>
                    </a:lnTo>
                    <a:lnTo>
                      <a:pt x="2522" y="1"/>
                    </a:lnTo>
                    <a:lnTo>
                      <a:pt x="2522" y="2"/>
                    </a:lnTo>
                    <a:lnTo>
                      <a:pt x="2521" y="5"/>
                    </a:lnTo>
                    <a:lnTo>
                      <a:pt x="2521" y="8"/>
                    </a:lnTo>
                    <a:lnTo>
                      <a:pt x="2519" y="12"/>
                    </a:lnTo>
                    <a:lnTo>
                      <a:pt x="2519" y="16"/>
                    </a:lnTo>
                    <a:lnTo>
                      <a:pt x="2519" y="21"/>
                    </a:lnTo>
                    <a:lnTo>
                      <a:pt x="2518" y="27"/>
                    </a:lnTo>
                    <a:lnTo>
                      <a:pt x="2518" y="32"/>
                    </a:lnTo>
                    <a:lnTo>
                      <a:pt x="2518" y="39"/>
                    </a:lnTo>
                    <a:lnTo>
                      <a:pt x="2518" y="45"/>
                    </a:lnTo>
                    <a:lnTo>
                      <a:pt x="2517" y="53"/>
                    </a:lnTo>
                    <a:lnTo>
                      <a:pt x="2517" y="59"/>
                    </a:lnTo>
                    <a:lnTo>
                      <a:pt x="2517" y="74"/>
                    </a:lnTo>
                    <a:lnTo>
                      <a:pt x="2517" y="74"/>
                    </a:lnTo>
                    <a:lnTo>
                      <a:pt x="2517" y="703"/>
                    </a:lnTo>
                    <a:lnTo>
                      <a:pt x="2517" y="712"/>
                    </a:lnTo>
                    <a:lnTo>
                      <a:pt x="2517" y="719"/>
                    </a:lnTo>
                    <a:lnTo>
                      <a:pt x="2517" y="727"/>
                    </a:lnTo>
                    <a:lnTo>
                      <a:pt x="2518" y="733"/>
                    </a:lnTo>
                    <a:lnTo>
                      <a:pt x="2518" y="739"/>
                    </a:lnTo>
                    <a:lnTo>
                      <a:pt x="2518" y="746"/>
                    </a:lnTo>
                    <a:lnTo>
                      <a:pt x="2518" y="752"/>
                    </a:lnTo>
                    <a:lnTo>
                      <a:pt x="2519" y="757"/>
                    </a:lnTo>
                    <a:lnTo>
                      <a:pt x="2519" y="762"/>
                    </a:lnTo>
                    <a:lnTo>
                      <a:pt x="2519" y="766"/>
                    </a:lnTo>
                    <a:lnTo>
                      <a:pt x="2521" y="770"/>
                    </a:lnTo>
                    <a:lnTo>
                      <a:pt x="2521" y="774"/>
                    </a:lnTo>
                    <a:lnTo>
                      <a:pt x="2522" y="775"/>
                    </a:lnTo>
                    <a:lnTo>
                      <a:pt x="2522" y="777"/>
                    </a:lnTo>
                    <a:lnTo>
                      <a:pt x="2523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65" y="779"/>
                    </a:lnTo>
                    <a:lnTo>
                      <a:pt x="2566" y="779"/>
                    </a:lnTo>
                    <a:lnTo>
                      <a:pt x="2567" y="777"/>
                    </a:lnTo>
                    <a:lnTo>
                      <a:pt x="2567" y="775"/>
                    </a:lnTo>
                    <a:lnTo>
                      <a:pt x="2568" y="774"/>
                    </a:lnTo>
                    <a:lnTo>
                      <a:pt x="2568" y="770"/>
                    </a:lnTo>
                    <a:lnTo>
                      <a:pt x="2570" y="766"/>
                    </a:lnTo>
                    <a:lnTo>
                      <a:pt x="2571" y="762"/>
                    </a:lnTo>
                    <a:lnTo>
                      <a:pt x="2571" y="757"/>
                    </a:lnTo>
                    <a:lnTo>
                      <a:pt x="2572" y="752"/>
                    </a:lnTo>
                    <a:lnTo>
                      <a:pt x="2572" y="746"/>
                    </a:lnTo>
                    <a:lnTo>
                      <a:pt x="2572" y="739"/>
                    </a:lnTo>
                    <a:lnTo>
                      <a:pt x="2573" y="733"/>
                    </a:lnTo>
                    <a:lnTo>
                      <a:pt x="2573" y="727"/>
                    </a:lnTo>
                    <a:lnTo>
                      <a:pt x="2573" y="719"/>
                    </a:lnTo>
                    <a:lnTo>
                      <a:pt x="2573" y="712"/>
                    </a:lnTo>
                    <a:lnTo>
                      <a:pt x="2573" y="703"/>
                    </a:lnTo>
                    <a:lnTo>
                      <a:pt x="2573" y="703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4" name=""/>
              <p:cNvSpPr/>
              <p:nvPr/>
            </p:nvSpPr>
            <p:spPr>
              <a:xfrm>
                <a:off x="2886120" y="540360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5" y="0"/>
                    </a:lnTo>
                    <a:lnTo>
                      <a:pt x="64" y="1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6" y="3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6" y="52"/>
                    </a:lnTo>
                    <a:lnTo>
                      <a:pt x="10" y="53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7" y="56"/>
                    </a:lnTo>
                    <a:lnTo>
                      <a:pt x="36" y="56"/>
                    </a:lnTo>
                    <a:lnTo>
                      <a:pt x="45" y="57"/>
                    </a:lnTo>
                    <a:lnTo>
                      <a:pt x="54" y="57"/>
                    </a:lnTo>
                    <a:lnTo>
                      <a:pt x="64" y="58"/>
                    </a:lnTo>
                    <a:lnTo>
                      <a:pt x="75" y="58"/>
                    </a:lnTo>
                    <a:lnTo>
                      <a:pt x="86" y="58"/>
                    </a:lnTo>
                    <a:lnTo>
                      <a:pt x="98" y="58"/>
                    </a:lnTo>
                    <a:lnTo>
                      <a:pt x="110" y="58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58"/>
                    </a:lnTo>
                    <a:lnTo>
                      <a:pt x="1164" y="58"/>
                    </a:lnTo>
                    <a:lnTo>
                      <a:pt x="1175" y="58"/>
                    </a:lnTo>
                    <a:lnTo>
                      <a:pt x="1186" y="58"/>
                    </a:lnTo>
                    <a:lnTo>
                      <a:pt x="1198" y="58"/>
                    </a:lnTo>
                    <a:lnTo>
                      <a:pt x="1208" y="57"/>
                    </a:lnTo>
                    <a:lnTo>
                      <a:pt x="1216" y="57"/>
                    </a:lnTo>
                    <a:lnTo>
                      <a:pt x="1225" y="56"/>
                    </a:lnTo>
                    <a:lnTo>
                      <a:pt x="1233" y="56"/>
                    </a:lnTo>
                    <a:lnTo>
                      <a:pt x="1240" y="54"/>
                    </a:lnTo>
                    <a:lnTo>
                      <a:pt x="1246" y="54"/>
                    </a:lnTo>
                    <a:lnTo>
                      <a:pt x="1251" y="53"/>
                    </a:lnTo>
                    <a:lnTo>
                      <a:pt x="1255" y="52"/>
                    </a:lnTo>
                    <a:lnTo>
                      <a:pt x="1259" y="52"/>
                    </a:lnTo>
                    <a:lnTo>
                      <a:pt x="1260" y="51"/>
                    </a:lnTo>
                    <a:lnTo>
                      <a:pt x="1260" y="51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9"/>
                    </a:lnTo>
                    <a:lnTo>
                      <a:pt x="1260" y="8"/>
                    </a:lnTo>
                    <a:lnTo>
                      <a:pt x="1260" y="8"/>
                    </a:lnTo>
                    <a:lnTo>
                      <a:pt x="1259" y="7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6" y="5"/>
                    </a:lnTo>
                    <a:lnTo>
                      <a:pt x="1240" y="4"/>
                    </a:lnTo>
                    <a:lnTo>
                      <a:pt x="1233" y="3"/>
                    </a:lnTo>
                    <a:lnTo>
                      <a:pt x="1225" y="3"/>
                    </a:lnTo>
                    <a:lnTo>
                      <a:pt x="1216" y="1"/>
                    </a:lnTo>
                    <a:lnTo>
                      <a:pt x="1208" y="1"/>
                    </a:lnTo>
                    <a:lnTo>
                      <a:pt x="1198" y="1"/>
                    </a:lnTo>
                    <a:lnTo>
                      <a:pt x="1186" y="0"/>
                    </a:lnTo>
                    <a:lnTo>
                      <a:pt x="1175" y="0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5" name=""/>
              <p:cNvSpPr/>
              <p:nvPr/>
            </p:nvSpPr>
            <p:spPr>
              <a:xfrm>
                <a:off x="2886120" y="557208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2"/>
                    </a:lnTo>
                    <a:lnTo>
                      <a:pt x="86" y="2"/>
                    </a:lnTo>
                    <a:lnTo>
                      <a:pt x="75" y="2"/>
                    </a:lnTo>
                    <a:lnTo>
                      <a:pt x="64" y="2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10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21" y="56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9"/>
                    </a:lnTo>
                    <a:lnTo>
                      <a:pt x="54" y="59"/>
                    </a:lnTo>
                    <a:lnTo>
                      <a:pt x="64" y="59"/>
                    </a:lnTo>
                    <a:lnTo>
                      <a:pt x="75" y="60"/>
                    </a:lnTo>
                    <a:lnTo>
                      <a:pt x="86" y="60"/>
                    </a:lnTo>
                    <a:lnTo>
                      <a:pt x="98" y="60"/>
                    </a:lnTo>
                    <a:lnTo>
                      <a:pt x="110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60"/>
                    </a:lnTo>
                    <a:lnTo>
                      <a:pt x="1164" y="60"/>
                    </a:lnTo>
                    <a:lnTo>
                      <a:pt x="1175" y="60"/>
                    </a:lnTo>
                    <a:lnTo>
                      <a:pt x="1186" y="60"/>
                    </a:lnTo>
                    <a:lnTo>
                      <a:pt x="1198" y="59"/>
                    </a:lnTo>
                    <a:lnTo>
                      <a:pt x="1208" y="59"/>
                    </a:lnTo>
                    <a:lnTo>
                      <a:pt x="1216" y="59"/>
                    </a:lnTo>
                    <a:lnTo>
                      <a:pt x="1225" y="57"/>
                    </a:lnTo>
                    <a:lnTo>
                      <a:pt x="1233" y="57"/>
                    </a:lnTo>
                    <a:lnTo>
                      <a:pt x="1240" y="56"/>
                    </a:lnTo>
                    <a:lnTo>
                      <a:pt x="1246" y="55"/>
                    </a:lnTo>
                    <a:lnTo>
                      <a:pt x="1251" y="55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11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7"/>
                    </a:lnTo>
                    <a:lnTo>
                      <a:pt x="1246" y="6"/>
                    </a:lnTo>
                    <a:lnTo>
                      <a:pt x="1240" y="6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2"/>
                    </a:lnTo>
                    <a:lnTo>
                      <a:pt x="1186" y="2"/>
                    </a:lnTo>
                    <a:lnTo>
                      <a:pt x="1175" y="2"/>
                    </a:lnTo>
                    <a:lnTo>
                      <a:pt x="1164" y="2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2886120" y="574236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59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1"/>
                    </a:lnTo>
                    <a:lnTo>
                      <a:pt x="75" y="1"/>
                    </a:lnTo>
                    <a:lnTo>
                      <a:pt x="64" y="1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5"/>
                    </a:lnTo>
                    <a:lnTo>
                      <a:pt x="15" y="5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4"/>
                    </a:lnTo>
                    <a:lnTo>
                      <a:pt x="15" y="54"/>
                    </a:lnTo>
                    <a:lnTo>
                      <a:pt x="21" y="56"/>
                    </a:lnTo>
                    <a:lnTo>
                      <a:pt x="27" y="56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8"/>
                    </a:lnTo>
                    <a:lnTo>
                      <a:pt x="64" y="58"/>
                    </a:lnTo>
                    <a:lnTo>
                      <a:pt x="75" y="59"/>
                    </a:lnTo>
                    <a:lnTo>
                      <a:pt x="86" y="59"/>
                    </a:lnTo>
                    <a:lnTo>
                      <a:pt x="98" y="59"/>
                    </a:lnTo>
                    <a:lnTo>
                      <a:pt x="110" y="59"/>
                    </a:lnTo>
                    <a:lnTo>
                      <a:pt x="123" y="59"/>
                    </a:lnTo>
                    <a:lnTo>
                      <a:pt x="123" y="59"/>
                    </a:lnTo>
                    <a:lnTo>
                      <a:pt x="1139" y="59"/>
                    </a:lnTo>
                    <a:lnTo>
                      <a:pt x="1151" y="59"/>
                    </a:lnTo>
                    <a:lnTo>
                      <a:pt x="1164" y="59"/>
                    </a:lnTo>
                    <a:lnTo>
                      <a:pt x="1175" y="59"/>
                    </a:lnTo>
                    <a:lnTo>
                      <a:pt x="1186" y="59"/>
                    </a:lnTo>
                    <a:lnTo>
                      <a:pt x="1198" y="58"/>
                    </a:lnTo>
                    <a:lnTo>
                      <a:pt x="1208" y="58"/>
                    </a:lnTo>
                    <a:lnTo>
                      <a:pt x="1216" y="57"/>
                    </a:lnTo>
                    <a:lnTo>
                      <a:pt x="1225" y="57"/>
                    </a:lnTo>
                    <a:lnTo>
                      <a:pt x="1233" y="56"/>
                    </a:lnTo>
                    <a:lnTo>
                      <a:pt x="1240" y="56"/>
                    </a:lnTo>
                    <a:lnTo>
                      <a:pt x="1246" y="54"/>
                    </a:lnTo>
                    <a:lnTo>
                      <a:pt x="1251" y="54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10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6"/>
                    </a:lnTo>
                    <a:lnTo>
                      <a:pt x="1246" y="5"/>
                    </a:lnTo>
                    <a:lnTo>
                      <a:pt x="1240" y="5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1"/>
                    </a:lnTo>
                    <a:lnTo>
                      <a:pt x="1186" y="1"/>
                    </a:lnTo>
                    <a:lnTo>
                      <a:pt x="1175" y="1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7" name=""/>
              <p:cNvSpPr/>
              <p:nvPr/>
            </p:nvSpPr>
            <p:spPr>
              <a:xfrm>
                <a:off x="4039200" y="5383080"/>
                <a:ext cx="38160" cy="432360"/>
              </a:xfrm>
              <a:custGeom>
                <a:avLst/>
                <a:gdLst/>
                <a:ahLst/>
                <a:rect l="l" t="t" r="r" b="b"/>
                <a:pathLst>
                  <a:path w="58" h="779">
                    <a:moveTo>
                      <a:pt x="58" y="703"/>
                    </a:moveTo>
                    <a:lnTo>
                      <a:pt x="58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6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4" y="21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1" y="712"/>
                    </a:lnTo>
                    <a:lnTo>
                      <a:pt x="1" y="719"/>
                    </a:lnTo>
                    <a:lnTo>
                      <a:pt x="1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3" y="746"/>
                    </a:lnTo>
                    <a:lnTo>
                      <a:pt x="3" y="752"/>
                    </a:lnTo>
                    <a:lnTo>
                      <a:pt x="4" y="757"/>
                    </a:lnTo>
                    <a:lnTo>
                      <a:pt x="4" y="762"/>
                    </a:lnTo>
                    <a:lnTo>
                      <a:pt x="5" y="766"/>
                    </a:lnTo>
                    <a:lnTo>
                      <a:pt x="5" y="770"/>
                    </a:lnTo>
                    <a:lnTo>
                      <a:pt x="6" y="774"/>
                    </a:lnTo>
                    <a:lnTo>
                      <a:pt x="8" y="775"/>
                    </a:lnTo>
                    <a:lnTo>
                      <a:pt x="8" y="777"/>
                    </a:lnTo>
                    <a:lnTo>
                      <a:pt x="9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3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6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8" y="712"/>
                    </a:lnTo>
                    <a:lnTo>
                      <a:pt x="58" y="703"/>
                    </a:lnTo>
                    <a:lnTo>
                      <a:pt x="58" y="70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8" name=""/>
              <p:cNvSpPr/>
              <p:nvPr/>
            </p:nvSpPr>
            <p:spPr>
              <a:xfrm>
                <a:off x="4597200" y="5383080"/>
                <a:ext cx="39240" cy="432360"/>
              </a:xfrm>
              <a:custGeom>
                <a:avLst/>
                <a:gdLst/>
                <a:ahLst/>
                <a:rect l="l" t="t" r="r" b="b"/>
                <a:pathLst>
                  <a:path w="56" h="779">
                    <a:moveTo>
                      <a:pt x="56" y="703"/>
                    </a:moveTo>
                    <a:lnTo>
                      <a:pt x="56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5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0" y="712"/>
                    </a:lnTo>
                    <a:lnTo>
                      <a:pt x="0" y="719"/>
                    </a:lnTo>
                    <a:lnTo>
                      <a:pt x="0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1" y="746"/>
                    </a:lnTo>
                    <a:lnTo>
                      <a:pt x="1" y="752"/>
                    </a:lnTo>
                    <a:lnTo>
                      <a:pt x="2" y="757"/>
                    </a:lnTo>
                    <a:lnTo>
                      <a:pt x="2" y="762"/>
                    </a:lnTo>
                    <a:lnTo>
                      <a:pt x="2" y="766"/>
                    </a:lnTo>
                    <a:lnTo>
                      <a:pt x="4" y="770"/>
                    </a:lnTo>
                    <a:lnTo>
                      <a:pt x="4" y="774"/>
                    </a:lnTo>
                    <a:lnTo>
                      <a:pt x="5" y="775"/>
                    </a:lnTo>
                    <a:lnTo>
                      <a:pt x="5" y="777"/>
                    </a:lnTo>
                    <a:lnTo>
                      <a:pt x="6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1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5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6" y="712"/>
                    </a:lnTo>
                    <a:lnTo>
                      <a:pt x="56" y="703"/>
                    </a:lnTo>
                    <a:lnTo>
                      <a:pt x="56" y="70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9" name=""/>
              <p:cNvSpPr/>
              <p:nvPr/>
            </p:nvSpPr>
            <p:spPr>
              <a:xfrm>
                <a:off x="3024360" y="5508000"/>
                <a:ext cx="99000" cy="18720"/>
              </a:xfrm>
              <a:custGeom>
                <a:avLst/>
                <a:gdLst/>
                <a:ahLst/>
                <a:rect l="l" t="t" r="r" b="b"/>
                <a:pathLst>
                  <a:path w="145" h="35">
                    <a:moveTo>
                      <a:pt x="36" y="35"/>
                    </a:moveTo>
                    <a:lnTo>
                      <a:pt x="109" y="35"/>
                    </a:lnTo>
                    <a:lnTo>
                      <a:pt x="109" y="35"/>
                    </a:lnTo>
                    <a:lnTo>
                      <a:pt x="110" y="35"/>
                    </a:lnTo>
                    <a:lnTo>
                      <a:pt x="112" y="35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20" y="34"/>
                    </a:lnTo>
                    <a:lnTo>
                      <a:pt x="123" y="33"/>
                    </a:lnTo>
                    <a:lnTo>
                      <a:pt x="127" y="32"/>
                    </a:lnTo>
                    <a:lnTo>
                      <a:pt x="130" y="29"/>
                    </a:lnTo>
                    <a:lnTo>
                      <a:pt x="133" y="27"/>
                    </a:lnTo>
                    <a:lnTo>
                      <a:pt x="137" y="24"/>
                    </a:lnTo>
                    <a:lnTo>
                      <a:pt x="139" y="20"/>
                    </a:lnTo>
                    <a:lnTo>
                      <a:pt x="142" y="16"/>
                    </a:lnTo>
                    <a:lnTo>
                      <a:pt x="143" y="11"/>
                    </a:lnTo>
                    <a:lnTo>
                      <a:pt x="144" y="6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4" y="16"/>
                    </a:lnTo>
                    <a:lnTo>
                      <a:pt x="5" y="20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3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024360" y="5668920"/>
                <a:ext cx="99000" cy="2088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36" y="36"/>
                    </a:moveTo>
                    <a:lnTo>
                      <a:pt x="109" y="36"/>
                    </a:lnTo>
                    <a:lnTo>
                      <a:pt x="109" y="36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7" y="36"/>
                    </a:lnTo>
                    <a:lnTo>
                      <a:pt x="120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7" y="36"/>
                    </a:lnTo>
                    <a:lnTo>
                      <a:pt x="139" y="36"/>
                    </a:lnTo>
                    <a:lnTo>
                      <a:pt x="142" y="36"/>
                    </a:lnTo>
                    <a:lnTo>
                      <a:pt x="143" y="36"/>
                    </a:lnTo>
                    <a:lnTo>
                      <a:pt x="144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4" y="29"/>
                    </a:lnTo>
                    <a:lnTo>
                      <a:pt x="143" y="24"/>
                    </a:lnTo>
                    <a:lnTo>
                      <a:pt x="142" y="19"/>
                    </a:lnTo>
                    <a:lnTo>
                      <a:pt x="139" y="15"/>
                    </a:lnTo>
                    <a:lnTo>
                      <a:pt x="137" y="11"/>
                    </a:lnTo>
                    <a:lnTo>
                      <a:pt x="133" y="9"/>
                    </a:lnTo>
                    <a:lnTo>
                      <a:pt x="130" y="6"/>
                    </a:lnTo>
                    <a:lnTo>
                      <a:pt x="127" y="3"/>
                    </a:lnTo>
                    <a:lnTo>
                      <a:pt x="123" y="2"/>
                    </a:lnTo>
                    <a:lnTo>
                      <a:pt x="120" y="1"/>
                    </a:lnTo>
                    <a:lnTo>
                      <a:pt x="117" y="1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5" y="15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3000600" y="5486760"/>
                <a:ext cx="23760" cy="20160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2" name=""/>
              <p:cNvSpPr/>
              <p:nvPr/>
            </p:nvSpPr>
            <p:spPr>
              <a:xfrm>
                <a:off x="3024360" y="5486760"/>
                <a:ext cx="23760" cy="201600"/>
              </a:xfrm>
              <a:prstGeom prst="rect">
                <a:avLst/>
              </a:prstGeom>
              <a:solidFill>
                <a:srgbClr val="dadad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3" name=""/>
              <p:cNvSpPr/>
              <p:nvPr/>
            </p:nvSpPr>
            <p:spPr>
              <a:xfrm>
                <a:off x="3048480" y="5486760"/>
                <a:ext cx="25200" cy="20160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4" name=""/>
              <p:cNvSpPr/>
              <p:nvPr/>
            </p:nvSpPr>
            <p:spPr>
              <a:xfrm>
                <a:off x="3073680" y="5486760"/>
                <a:ext cx="26280" cy="2016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5" name=""/>
              <p:cNvSpPr/>
              <p:nvPr/>
            </p:nvSpPr>
            <p:spPr>
              <a:xfrm>
                <a:off x="3023280" y="5491800"/>
                <a:ext cx="77400" cy="2448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17" y="46"/>
                    </a:move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3" y="37"/>
                    </a:lnTo>
                    <a:lnTo>
                      <a:pt x="115" y="34"/>
                    </a:lnTo>
                    <a:lnTo>
                      <a:pt x="116" y="31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18"/>
                    </a:lnTo>
                    <a:lnTo>
                      <a:pt x="116" y="15"/>
                    </a:lnTo>
                    <a:lnTo>
                      <a:pt x="115" y="12"/>
                    </a:lnTo>
                    <a:lnTo>
                      <a:pt x="113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7" y="46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3023280" y="5661360"/>
                <a:ext cx="77400" cy="2520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7" y="45"/>
                    </a:moveTo>
                    <a:lnTo>
                      <a:pt x="101" y="45"/>
                    </a:lnTo>
                    <a:lnTo>
                      <a:pt x="103" y="45"/>
                    </a:lnTo>
                    <a:lnTo>
                      <a:pt x="107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6" y="30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5" y="11"/>
                    </a:lnTo>
                    <a:lnTo>
                      <a:pt x="113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4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7" name=""/>
              <p:cNvSpPr/>
              <p:nvPr/>
            </p:nvSpPr>
            <p:spPr>
              <a:xfrm>
                <a:off x="3467880" y="5508000"/>
                <a:ext cx="74160" cy="1872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0" y="35"/>
                    </a:moveTo>
                    <a:lnTo>
                      <a:pt x="72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0" y="34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5" y="29"/>
                    </a:lnTo>
                    <a:lnTo>
                      <a:pt x="106" y="27"/>
                    </a:lnTo>
                    <a:lnTo>
                      <a:pt x="107" y="24"/>
                    </a:lnTo>
                    <a:lnTo>
                      <a:pt x="107" y="20"/>
                    </a:lnTo>
                    <a:lnTo>
                      <a:pt x="109" y="16"/>
                    </a:lnTo>
                    <a:lnTo>
                      <a:pt x="109" y="11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8" name=""/>
              <p:cNvSpPr/>
              <p:nvPr/>
            </p:nvSpPr>
            <p:spPr>
              <a:xfrm>
                <a:off x="3467880" y="5668920"/>
                <a:ext cx="74160" cy="2088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0" y="36"/>
                    </a:moveTo>
                    <a:lnTo>
                      <a:pt x="72" y="36"/>
                    </a:lnTo>
                    <a:lnTo>
                      <a:pt x="78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94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29"/>
                    </a:lnTo>
                    <a:lnTo>
                      <a:pt x="109" y="24"/>
                    </a:lnTo>
                    <a:lnTo>
                      <a:pt x="109" y="19"/>
                    </a:lnTo>
                    <a:lnTo>
                      <a:pt x="107" y="15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6"/>
                    </a:lnTo>
                    <a:lnTo>
                      <a:pt x="104" y="3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7" y="1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9" name=""/>
              <p:cNvSpPr/>
              <p:nvPr/>
            </p:nvSpPr>
            <p:spPr>
              <a:xfrm>
                <a:off x="3444120" y="5486760"/>
                <a:ext cx="23760" cy="20160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0" name=""/>
              <p:cNvSpPr/>
              <p:nvPr/>
            </p:nvSpPr>
            <p:spPr>
              <a:xfrm>
                <a:off x="3467880" y="5486760"/>
                <a:ext cx="25200" cy="201600"/>
              </a:xfrm>
              <a:prstGeom prst="rect">
                <a:avLst/>
              </a:prstGeom>
              <a:solidFill>
                <a:srgbClr val="c8c8c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3493080" y="5486760"/>
                <a:ext cx="23760" cy="20160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3516840" y="5486760"/>
                <a:ext cx="25200" cy="20160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3447720" y="5491800"/>
                <a:ext cx="79920" cy="2448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7" y="46"/>
                    </a:moveTo>
                    <a:lnTo>
                      <a:pt x="99" y="46"/>
                    </a:lnTo>
                    <a:lnTo>
                      <a:pt x="102" y="46"/>
                    </a:lnTo>
                    <a:lnTo>
                      <a:pt x="106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4" y="37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8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6" y="2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2" y="37"/>
                    </a:lnTo>
                    <a:lnTo>
                      <a:pt x="5" y="41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7" y="46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4" name=""/>
              <p:cNvSpPr/>
              <p:nvPr/>
            </p:nvSpPr>
            <p:spPr>
              <a:xfrm>
                <a:off x="3447720" y="5661360"/>
                <a:ext cx="79920" cy="25200"/>
              </a:xfrm>
              <a:custGeom>
                <a:avLst/>
                <a:gdLst/>
                <a:ahLst/>
                <a:rect l="l" t="t" r="r" b="b"/>
                <a:pathLst>
                  <a:path w="117" h="45">
                    <a:moveTo>
                      <a:pt x="17" y="45"/>
                    </a:moveTo>
                    <a:lnTo>
                      <a:pt x="99" y="45"/>
                    </a:lnTo>
                    <a:lnTo>
                      <a:pt x="102" y="45"/>
                    </a:lnTo>
                    <a:lnTo>
                      <a:pt x="106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6" y="34"/>
                    </a:lnTo>
                    <a:lnTo>
                      <a:pt x="116" y="30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6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39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7" y="45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5" name=""/>
              <p:cNvSpPr/>
              <p:nvPr/>
            </p:nvSpPr>
            <p:spPr>
              <a:xfrm>
                <a:off x="2566800" y="5404320"/>
                <a:ext cx="205560" cy="336960"/>
              </a:xfrm>
              <a:custGeom>
                <a:avLst/>
                <a:gdLst/>
                <a:ahLst/>
                <a:rect l="l" t="t" r="r" b="b"/>
                <a:pathLst>
                  <a:path w="302" h="608">
                    <a:moveTo>
                      <a:pt x="70" y="340"/>
                    </a:moveTo>
                    <a:lnTo>
                      <a:pt x="70" y="338"/>
                    </a:lnTo>
                    <a:lnTo>
                      <a:pt x="70" y="334"/>
                    </a:lnTo>
                    <a:lnTo>
                      <a:pt x="69" y="330"/>
                    </a:lnTo>
                    <a:lnTo>
                      <a:pt x="68" y="327"/>
                    </a:lnTo>
                    <a:lnTo>
                      <a:pt x="65" y="321"/>
                    </a:lnTo>
                    <a:lnTo>
                      <a:pt x="60" y="316"/>
                    </a:lnTo>
                    <a:lnTo>
                      <a:pt x="55" y="312"/>
                    </a:lnTo>
                    <a:lnTo>
                      <a:pt x="50" y="309"/>
                    </a:lnTo>
                    <a:lnTo>
                      <a:pt x="47" y="309"/>
                    </a:lnTo>
                    <a:lnTo>
                      <a:pt x="44" y="307"/>
                    </a:lnTo>
                    <a:lnTo>
                      <a:pt x="40" y="306"/>
                    </a:lnTo>
                    <a:lnTo>
                      <a:pt x="37" y="306"/>
                    </a:lnTo>
                    <a:lnTo>
                      <a:pt x="33" y="306"/>
                    </a:lnTo>
                    <a:lnTo>
                      <a:pt x="29" y="307"/>
                    </a:lnTo>
                    <a:lnTo>
                      <a:pt x="26" y="309"/>
                    </a:lnTo>
                    <a:lnTo>
                      <a:pt x="23" y="309"/>
                    </a:lnTo>
                    <a:lnTo>
                      <a:pt x="16" y="312"/>
                    </a:lnTo>
                    <a:lnTo>
                      <a:pt x="11" y="316"/>
                    </a:lnTo>
                    <a:lnTo>
                      <a:pt x="6" y="321"/>
                    </a:lnTo>
                    <a:lnTo>
                      <a:pt x="4" y="327"/>
                    </a:lnTo>
                    <a:lnTo>
                      <a:pt x="3" y="330"/>
                    </a:lnTo>
                    <a:lnTo>
                      <a:pt x="1" y="334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4"/>
                    </a:lnTo>
                    <a:lnTo>
                      <a:pt x="1" y="348"/>
                    </a:lnTo>
                    <a:lnTo>
                      <a:pt x="3" y="351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11" y="367"/>
                    </a:lnTo>
                    <a:lnTo>
                      <a:pt x="16" y="370"/>
                    </a:lnTo>
                    <a:lnTo>
                      <a:pt x="23" y="374"/>
                    </a:lnTo>
                    <a:lnTo>
                      <a:pt x="26" y="375"/>
                    </a:lnTo>
                    <a:lnTo>
                      <a:pt x="29" y="377"/>
                    </a:lnTo>
                    <a:lnTo>
                      <a:pt x="33" y="377"/>
                    </a:lnTo>
                    <a:lnTo>
                      <a:pt x="37" y="377"/>
                    </a:lnTo>
                    <a:lnTo>
                      <a:pt x="40" y="377"/>
                    </a:lnTo>
                    <a:lnTo>
                      <a:pt x="44" y="377"/>
                    </a:lnTo>
                    <a:lnTo>
                      <a:pt x="47" y="375"/>
                    </a:lnTo>
                    <a:lnTo>
                      <a:pt x="50" y="374"/>
                    </a:lnTo>
                    <a:lnTo>
                      <a:pt x="55" y="370"/>
                    </a:lnTo>
                    <a:lnTo>
                      <a:pt x="60" y="367"/>
                    </a:lnTo>
                    <a:lnTo>
                      <a:pt x="65" y="362"/>
                    </a:lnTo>
                    <a:lnTo>
                      <a:pt x="68" y="355"/>
                    </a:lnTo>
                    <a:lnTo>
                      <a:pt x="69" y="351"/>
                    </a:lnTo>
                    <a:lnTo>
                      <a:pt x="70" y="348"/>
                    </a:lnTo>
                    <a:lnTo>
                      <a:pt x="70" y="344"/>
                    </a:lnTo>
                    <a:lnTo>
                      <a:pt x="70" y="340"/>
                    </a:lnTo>
                    <a:lnTo>
                      <a:pt x="70" y="340"/>
                    </a:lnTo>
                    <a:close/>
                    <a:moveTo>
                      <a:pt x="302" y="37"/>
                    </a:moveTo>
                    <a:lnTo>
                      <a:pt x="301" y="33"/>
                    </a:lnTo>
                    <a:lnTo>
                      <a:pt x="301" y="29"/>
                    </a:lnTo>
                    <a:lnTo>
                      <a:pt x="300" y="27"/>
                    </a:lnTo>
                    <a:lnTo>
                      <a:pt x="298" y="23"/>
                    </a:lnTo>
                    <a:lnTo>
                      <a:pt x="296" y="17"/>
                    </a:lnTo>
                    <a:lnTo>
                      <a:pt x="291" y="12"/>
                    </a:lnTo>
                    <a:lnTo>
                      <a:pt x="286" y="7"/>
                    </a:lnTo>
                    <a:lnTo>
                      <a:pt x="281" y="4"/>
                    </a:lnTo>
                    <a:lnTo>
                      <a:pt x="277" y="3"/>
                    </a:lnTo>
                    <a:lnTo>
                      <a:pt x="275" y="2"/>
                    </a:lnTo>
                    <a:lnTo>
                      <a:pt x="271" y="2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1" y="2"/>
                    </a:lnTo>
                    <a:lnTo>
                      <a:pt x="258" y="3"/>
                    </a:lnTo>
                    <a:lnTo>
                      <a:pt x="255" y="4"/>
                    </a:lnTo>
                    <a:lnTo>
                      <a:pt x="250" y="7"/>
                    </a:lnTo>
                    <a:lnTo>
                      <a:pt x="244" y="12"/>
                    </a:lnTo>
                    <a:lnTo>
                      <a:pt x="239" y="17"/>
                    </a:lnTo>
                    <a:lnTo>
                      <a:pt x="237" y="23"/>
                    </a:lnTo>
                    <a:lnTo>
                      <a:pt x="236" y="27"/>
                    </a:lnTo>
                    <a:lnTo>
                      <a:pt x="234" y="29"/>
                    </a:lnTo>
                    <a:lnTo>
                      <a:pt x="234" y="33"/>
                    </a:lnTo>
                    <a:lnTo>
                      <a:pt x="233" y="37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6" y="47"/>
                    </a:lnTo>
                    <a:lnTo>
                      <a:pt x="237" y="51"/>
                    </a:lnTo>
                    <a:lnTo>
                      <a:pt x="239" y="56"/>
                    </a:lnTo>
                    <a:lnTo>
                      <a:pt x="244" y="61"/>
                    </a:lnTo>
                    <a:lnTo>
                      <a:pt x="250" y="66"/>
                    </a:lnTo>
                    <a:lnTo>
                      <a:pt x="255" y="69"/>
                    </a:lnTo>
                    <a:lnTo>
                      <a:pt x="258" y="70"/>
                    </a:lnTo>
                    <a:lnTo>
                      <a:pt x="261" y="71"/>
                    </a:lnTo>
                    <a:lnTo>
                      <a:pt x="265" y="71"/>
                    </a:lnTo>
                    <a:lnTo>
                      <a:pt x="267" y="71"/>
                    </a:lnTo>
                    <a:lnTo>
                      <a:pt x="271" y="71"/>
                    </a:lnTo>
                    <a:lnTo>
                      <a:pt x="275" y="71"/>
                    </a:lnTo>
                    <a:lnTo>
                      <a:pt x="277" y="70"/>
                    </a:lnTo>
                    <a:lnTo>
                      <a:pt x="281" y="69"/>
                    </a:lnTo>
                    <a:lnTo>
                      <a:pt x="286" y="66"/>
                    </a:lnTo>
                    <a:lnTo>
                      <a:pt x="291" y="61"/>
                    </a:lnTo>
                    <a:lnTo>
                      <a:pt x="296" y="56"/>
                    </a:lnTo>
                    <a:lnTo>
                      <a:pt x="298" y="51"/>
                    </a:lnTo>
                    <a:lnTo>
                      <a:pt x="300" y="47"/>
                    </a:lnTo>
                    <a:lnTo>
                      <a:pt x="301" y="45"/>
                    </a:lnTo>
                    <a:lnTo>
                      <a:pt x="301" y="41"/>
                    </a:lnTo>
                    <a:lnTo>
                      <a:pt x="302" y="37"/>
                    </a:lnTo>
                    <a:lnTo>
                      <a:pt x="302" y="37"/>
                    </a:lnTo>
                    <a:close/>
                    <a:moveTo>
                      <a:pt x="302" y="572"/>
                    </a:moveTo>
                    <a:lnTo>
                      <a:pt x="301" y="569"/>
                    </a:lnTo>
                    <a:lnTo>
                      <a:pt x="301" y="566"/>
                    </a:lnTo>
                    <a:lnTo>
                      <a:pt x="300" y="562"/>
                    </a:lnTo>
                    <a:lnTo>
                      <a:pt x="298" y="558"/>
                    </a:lnTo>
                    <a:lnTo>
                      <a:pt x="296" y="552"/>
                    </a:lnTo>
                    <a:lnTo>
                      <a:pt x="291" y="547"/>
                    </a:lnTo>
                    <a:lnTo>
                      <a:pt x="286" y="542"/>
                    </a:lnTo>
                    <a:lnTo>
                      <a:pt x="281" y="540"/>
                    </a:lnTo>
                    <a:lnTo>
                      <a:pt x="277" y="538"/>
                    </a:lnTo>
                    <a:lnTo>
                      <a:pt x="275" y="537"/>
                    </a:lnTo>
                    <a:lnTo>
                      <a:pt x="271" y="537"/>
                    </a:lnTo>
                    <a:lnTo>
                      <a:pt x="267" y="537"/>
                    </a:lnTo>
                    <a:lnTo>
                      <a:pt x="265" y="537"/>
                    </a:lnTo>
                    <a:lnTo>
                      <a:pt x="261" y="537"/>
                    </a:lnTo>
                    <a:lnTo>
                      <a:pt x="258" y="538"/>
                    </a:lnTo>
                    <a:lnTo>
                      <a:pt x="255" y="540"/>
                    </a:lnTo>
                    <a:lnTo>
                      <a:pt x="250" y="542"/>
                    </a:lnTo>
                    <a:lnTo>
                      <a:pt x="244" y="547"/>
                    </a:lnTo>
                    <a:lnTo>
                      <a:pt x="239" y="552"/>
                    </a:lnTo>
                    <a:lnTo>
                      <a:pt x="237" y="558"/>
                    </a:lnTo>
                    <a:lnTo>
                      <a:pt x="236" y="562"/>
                    </a:lnTo>
                    <a:lnTo>
                      <a:pt x="234" y="566"/>
                    </a:lnTo>
                    <a:lnTo>
                      <a:pt x="234" y="569"/>
                    </a:lnTo>
                    <a:lnTo>
                      <a:pt x="233" y="572"/>
                    </a:lnTo>
                    <a:lnTo>
                      <a:pt x="234" y="576"/>
                    </a:lnTo>
                    <a:lnTo>
                      <a:pt x="234" y="580"/>
                    </a:lnTo>
                    <a:lnTo>
                      <a:pt x="236" y="582"/>
                    </a:lnTo>
                    <a:lnTo>
                      <a:pt x="237" y="586"/>
                    </a:lnTo>
                    <a:lnTo>
                      <a:pt x="239" y="591"/>
                    </a:lnTo>
                    <a:lnTo>
                      <a:pt x="244" y="596"/>
                    </a:lnTo>
                    <a:lnTo>
                      <a:pt x="250" y="601"/>
                    </a:lnTo>
                    <a:lnTo>
                      <a:pt x="255" y="604"/>
                    </a:lnTo>
                    <a:lnTo>
                      <a:pt x="258" y="605"/>
                    </a:lnTo>
                    <a:lnTo>
                      <a:pt x="261" y="606"/>
                    </a:lnTo>
                    <a:lnTo>
                      <a:pt x="265" y="606"/>
                    </a:lnTo>
                    <a:lnTo>
                      <a:pt x="267" y="608"/>
                    </a:lnTo>
                    <a:lnTo>
                      <a:pt x="271" y="606"/>
                    </a:lnTo>
                    <a:lnTo>
                      <a:pt x="275" y="606"/>
                    </a:lnTo>
                    <a:lnTo>
                      <a:pt x="277" y="605"/>
                    </a:lnTo>
                    <a:lnTo>
                      <a:pt x="281" y="604"/>
                    </a:lnTo>
                    <a:lnTo>
                      <a:pt x="286" y="601"/>
                    </a:lnTo>
                    <a:lnTo>
                      <a:pt x="291" y="596"/>
                    </a:lnTo>
                    <a:lnTo>
                      <a:pt x="296" y="591"/>
                    </a:lnTo>
                    <a:lnTo>
                      <a:pt x="298" y="586"/>
                    </a:lnTo>
                    <a:lnTo>
                      <a:pt x="300" y="582"/>
                    </a:lnTo>
                    <a:lnTo>
                      <a:pt x="301" y="580"/>
                    </a:lnTo>
                    <a:lnTo>
                      <a:pt x="301" y="576"/>
                    </a:lnTo>
                    <a:lnTo>
                      <a:pt x="302" y="572"/>
                    </a:lnTo>
                    <a:lnTo>
                      <a:pt x="302" y="572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2566800" y="5573880"/>
                <a:ext cx="4788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2"/>
                    </a:lnTo>
                    <a:lnTo>
                      <a:pt x="70" y="28"/>
                    </a:lnTo>
                    <a:lnTo>
                      <a:pt x="69" y="24"/>
                    </a:lnTo>
                    <a:lnTo>
                      <a:pt x="68" y="21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0" y="71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0" y="68"/>
                    </a:lnTo>
                    <a:lnTo>
                      <a:pt x="55" y="64"/>
                    </a:lnTo>
                    <a:lnTo>
                      <a:pt x="60" y="61"/>
                    </a:lnTo>
                    <a:lnTo>
                      <a:pt x="65" y="56"/>
                    </a:lnTo>
                    <a:lnTo>
                      <a:pt x="68" y="49"/>
                    </a:lnTo>
                    <a:lnTo>
                      <a:pt x="69" y="45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7" name=""/>
              <p:cNvSpPr/>
              <p:nvPr/>
            </p:nvSpPr>
            <p:spPr>
              <a:xfrm>
                <a:off x="2725920" y="5404320"/>
                <a:ext cx="46440" cy="38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7"/>
                    </a:moveTo>
                    <a:lnTo>
                      <a:pt x="68" y="33"/>
                    </a:lnTo>
                    <a:lnTo>
                      <a:pt x="68" y="29"/>
                    </a:lnTo>
                    <a:lnTo>
                      <a:pt x="67" y="27"/>
                    </a:lnTo>
                    <a:lnTo>
                      <a:pt x="65" y="23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6"/>
                    </a:lnTo>
                    <a:lnTo>
                      <a:pt x="22" y="69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2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8" y="61"/>
                    </a:lnTo>
                    <a:lnTo>
                      <a:pt x="63" y="56"/>
                    </a:lnTo>
                    <a:lnTo>
                      <a:pt x="65" y="51"/>
                    </a:lnTo>
                    <a:lnTo>
                      <a:pt x="67" y="47"/>
                    </a:lnTo>
                    <a:lnTo>
                      <a:pt x="68" y="45"/>
                    </a:lnTo>
                    <a:lnTo>
                      <a:pt x="68" y="41"/>
                    </a:lnTo>
                    <a:lnTo>
                      <a:pt x="69" y="37"/>
                    </a:lnTo>
                    <a:lnTo>
                      <a:pt x="69" y="37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8" name=""/>
              <p:cNvSpPr/>
              <p:nvPr/>
            </p:nvSpPr>
            <p:spPr>
              <a:xfrm>
                <a:off x="2725920" y="5702400"/>
                <a:ext cx="46440" cy="38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5"/>
                    </a:moveTo>
                    <a:lnTo>
                      <a:pt x="68" y="32"/>
                    </a:lnTo>
                    <a:lnTo>
                      <a:pt x="68" y="29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5"/>
                    </a:lnTo>
                    <a:lnTo>
                      <a:pt x="58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4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9"/>
                    </a:lnTo>
                    <a:lnTo>
                      <a:pt x="32" y="69"/>
                    </a:lnTo>
                    <a:lnTo>
                      <a:pt x="34" y="71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4" y="68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5" y="49"/>
                    </a:lnTo>
                    <a:lnTo>
                      <a:pt x="67" y="45"/>
                    </a:lnTo>
                    <a:lnTo>
                      <a:pt x="68" y="43"/>
                    </a:lnTo>
                    <a:lnTo>
                      <a:pt x="68" y="39"/>
                    </a:lnTo>
                    <a:lnTo>
                      <a:pt x="69" y="35"/>
                    </a:lnTo>
                    <a:lnTo>
                      <a:pt x="69" y="3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9" name=""/>
              <p:cNvSpPr/>
              <p:nvPr/>
            </p:nvSpPr>
            <p:spPr>
              <a:xfrm>
                <a:off x="2582640" y="5416920"/>
                <a:ext cx="175320" cy="310680"/>
              </a:xfrm>
              <a:custGeom>
                <a:avLst/>
                <a:gdLst/>
                <a:ahLst/>
                <a:rect l="l" t="t" r="r" b="b"/>
                <a:pathLst>
                  <a:path w="258" h="561">
                    <a:moveTo>
                      <a:pt x="25" y="317"/>
                    </a:moveTo>
                    <a:lnTo>
                      <a:pt x="25" y="315"/>
                    </a:lnTo>
                    <a:lnTo>
                      <a:pt x="25" y="313"/>
                    </a:lnTo>
                    <a:lnTo>
                      <a:pt x="24" y="311"/>
                    </a:lnTo>
                    <a:lnTo>
                      <a:pt x="22" y="309"/>
                    </a:lnTo>
                    <a:lnTo>
                      <a:pt x="20" y="308"/>
                    </a:lnTo>
                    <a:lnTo>
                      <a:pt x="19" y="307"/>
                    </a:lnTo>
                    <a:lnTo>
                      <a:pt x="16" y="306"/>
                    </a:lnTo>
                    <a:lnTo>
                      <a:pt x="14" y="306"/>
                    </a:lnTo>
                    <a:lnTo>
                      <a:pt x="11" y="306"/>
                    </a:lnTo>
                    <a:lnTo>
                      <a:pt x="7" y="307"/>
                    </a:lnTo>
                    <a:lnTo>
                      <a:pt x="6" y="308"/>
                    </a:lnTo>
                    <a:lnTo>
                      <a:pt x="3" y="309"/>
                    </a:lnTo>
                    <a:lnTo>
                      <a:pt x="2" y="311"/>
                    </a:lnTo>
                    <a:lnTo>
                      <a:pt x="1" y="313"/>
                    </a:lnTo>
                    <a:lnTo>
                      <a:pt x="1" y="315"/>
                    </a:lnTo>
                    <a:lnTo>
                      <a:pt x="0" y="317"/>
                    </a:lnTo>
                    <a:lnTo>
                      <a:pt x="1" y="321"/>
                    </a:lnTo>
                    <a:lnTo>
                      <a:pt x="1" y="323"/>
                    </a:lnTo>
                    <a:lnTo>
                      <a:pt x="2" y="326"/>
                    </a:lnTo>
                    <a:lnTo>
                      <a:pt x="3" y="327"/>
                    </a:lnTo>
                    <a:lnTo>
                      <a:pt x="6" y="330"/>
                    </a:lnTo>
                    <a:lnTo>
                      <a:pt x="7" y="330"/>
                    </a:lnTo>
                    <a:lnTo>
                      <a:pt x="11" y="331"/>
                    </a:lnTo>
                    <a:lnTo>
                      <a:pt x="14" y="331"/>
                    </a:lnTo>
                    <a:lnTo>
                      <a:pt x="16" y="331"/>
                    </a:lnTo>
                    <a:lnTo>
                      <a:pt x="19" y="330"/>
                    </a:lnTo>
                    <a:lnTo>
                      <a:pt x="20" y="330"/>
                    </a:lnTo>
                    <a:lnTo>
                      <a:pt x="22" y="327"/>
                    </a:lnTo>
                    <a:lnTo>
                      <a:pt x="24" y="326"/>
                    </a:lnTo>
                    <a:lnTo>
                      <a:pt x="25" y="323"/>
                    </a:lnTo>
                    <a:lnTo>
                      <a:pt x="25" y="321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  <a:moveTo>
                      <a:pt x="258" y="14"/>
                    </a:moveTo>
                    <a:lnTo>
                      <a:pt x="258" y="12"/>
                    </a:lnTo>
                    <a:lnTo>
                      <a:pt x="257" y="9"/>
                    </a:lnTo>
                    <a:lnTo>
                      <a:pt x="255" y="6"/>
                    </a:lnTo>
                    <a:lnTo>
                      <a:pt x="254" y="4"/>
                    </a:lnTo>
                    <a:lnTo>
                      <a:pt x="252" y="3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4" y="0"/>
                    </a:lnTo>
                    <a:lnTo>
                      <a:pt x="242" y="1"/>
                    </a:lnTo>
                    <a:lnTo>
                      <a:pt x="240" y="1"/>
                    </a:lnTo>
                    <a:lnTo>
                      <a:pt x="238" y="3"/>
                    </a:lnTo>
                    <a:lnTo>
                      <a:pt x="235" y="4"/>
                    </a:lnTo>
                    <a:lnTo>
                      <a:pt x="234" y="6"/>
                    </a:lnTo>
                    <a:lnTo>
                      <a:pt x="233" y="9"/>
                    </a:lnTo>
                    <a:lnTo>
                      <a:pt x="232" y="12"/>
                    </a:lnTo>
                    <a:lnTo>
                      <a:pt x="232" y="14"/>
                    </a:lnTo>
                    <a:lnTo>
                      <a:pt x="232" y="17"/>
                    </a:lnTo>
                    <a:lnTo>
                      <a:pt x="233" y="19"/>
                    </a:lnTo>
                    <a:lnTo>
                      <a:pt x="234" y="22"/>
                    </a:lnTo>
                    <a:lnTo>
                      <a:pt x="235" y="23"/>
                    </a:lnTo>
                    <a:lnTo>
                      <a:pt x="238" y="24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5"/>
                    </a:lnTo>
                    <a:lnTo>
                      <a:pt x="248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4" y="23"/>
                    </a:lnTo>
                    <a:lnTo>
                      <a:pt x="255" y="22"/>
                    </a:lnTo>
                    <a:lnTo>
                      <a:pt x="257" y="19"/>
                    </a:lnTo>
                    <a:lnTo>
                      <a:pt x="258" y="17"/>
                    </a:lnTo>
                    <a:lnTo>
                      <a:pt x="258" y="14"/>
                    </a:lnTo>
                    <a:lnTo>
                      <a:pt x="258" y="14"/>
                    </a:lnTo>
                    <a:close/>
                    <a:moveTo>
                      <a:pt x="258" y="549"/>
                    </a:moveTo>
                    <a:lnTo>
                      <a:pt x="258" y="547"/>
                    </a:lnTo>
                    <a:lnTo>
                      <a:pt x="257" y="544"/>
                    </a:lnTo>
                    <a:lnTo>
                      <a:pt x="255" y="542"/>
                    </a:lnTo>
                    <a:lnTo>
                      <a:pt x="254" y="539"/>
                    </a:lnTo>
                    <a:lnTo>
                      <a:pt x="252" y="538"/>
                    </a:lnTo>
                    <a:lnTo>
                      <a:pt x="249" y="537"/>
                    </a:lnTo>
                    <a:lnTo>
                      <a:pt x="248" y="537"/>
                    </a:lnTo>
                    <a:lnTo>
                      <a:pt x="244" y="537"/>
                    </a:lnTo>
                    <a:lnTo>
                      <a:pt x="242" y="537"/>
                    </a:lnTo>
                    <a:lnTo>
                      <a:pt x="240" y="537"/>
                    </a:lnTo>
                    <a:lnTo>
                      <a:pt x="238" y="538"/>
                    </a:lnTo>
                    <a:lnTo>
                      <a:pt x="235" y="539"/>
                    </a:lnTo>
                    <a:lnTo>
                      <a:pt x="234" y="542"/>
                    </a:lnTo>
                    <a:lnTo>
                      <a:pt x="233" y="544"/>
                    </a:lnTo>
                    <a:lnTo>
                      <a:pt x="232" y="547"/>
                    </a:lnTo>
                    <a:lnTo>
                      <a:pt x="232" y="549"/>
                    </a:lnTo>
                    <a:lnTo>
                      <a:pt x="232" y="552"/>
                    </a:lnTo>
                    <a:lnTo>
                      <a:pt x="233" y="554"/>
                    </a:lnTo>
                    <a:lnTo>
                      <a:pt x="234" y="557"/>
                    </a:lnTo>
                    <a:lnTo>
                      <a:pt x="235" y="558"/>
                    </a:lnTo>
                    <a:lnTo>
                      <a:pt x="238" y="559"/>
                    </a:lnTo>
                    <a:lnTo>
                      <a:pt x="240" y="561"/>
                    </a:lnTo>
                    <a:lnTo>
                      <a:pt x="242" y="561"/>
                    </a:lnTo>
                    <a:lnTo>
                      <a:pt x="244" y="561"/>
                    </a:lnTo>
                    <a:lnTo>
                      <a:pt x="248" y="561"/>
                    </a:lnTo>
                    <a:lnTo>
                      <a:pt x="249" y="561"/>
                    </a:lnTo>
                    <a:lnTo>
                      <a:pt x="252" y="559"/>
                    </a:lnTo>
                    <a:lnTo>
                      <a:pt x="254" y="558"/>
                    </a:lnTo>
                    <a:lnTo>
                      <a:pt x="255" y="557"/>
                    </a:lnTo>
                    <a:lnTo>
                      <a:pt x="257" y="554"/>
                    </a:lnTo>
                    <a:lnTo>
                      <a:pt x="258" y="552"/>
                    </a:lnTo>
                    <a:lnTo>
                      <a:pt x="258" y="549"/>
                    </a:lnTo>
                    <a:lnTo>
                      <a:pt x="258" y="549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0" name=""/>
              <p:cNvSpPr/>
              <p:nvPr/>
            </p:nvSpPr>
            <p:spPr>
              <a:xfrm>
                <a:off x="2582640" y="5586480"/>
                <a:ext cx="16200" cy="13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1"/>
                    </a:moveTo>
                    <a:lnTo>
                      <a:pt x="25" y="9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11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2740320" y="541692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4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2" name=""/>
              <p:cNvSpPr/>
              <p:nvPr/>
            </p:nvSpPr>
            <p:spPr>
              <a:xfrm>
                <a:off x="2740320" y="571392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2"/>
                    </a:moveTo>
                    <a:lnTo>
                      <a:pt x="26" y="10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3" name=""/>
              <p:cNvSpPr/>
              <p:nvPr/>
            </p:nvSpPr>
            <p:spPr>
              <a:xfrm>
                <a:off x="2653920" y="5405760"/>
                <a:ext cx="197280" cy="444960"/>
              </a:xfrm>
              <a:custGeom>
                <a:avLst/>
                <a:gdLst/>
                <a:ahLst/>
                <a:rect l="l" t="t" r="r" b="b"/>
                <a:pathLst>
                  <a:path w="291" h="803">
                    <a:moveTo>
                      <a:pt x="291" y="37"/>
                    </a:moveTo>
                    <a:lnTo>
                      <a:pt x="73" y="37"/>
                    </a:lnTo>
                    <a:lnTo>
                      <a:pt x="67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9" y="38"/>
                    </a:lnTo>
                    <a:lnTo>
                      <a:pt x="45" y="39"/>
                    </a:lnTo>
                    <a:lnTo>
                      <a:pt x="43" y="39"/>
                    </a:lnTo>
                    <a:lnTo>
                      <a:pt x="42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7" y="57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803"/>
                    </a:lnTo>
                    <a:lnTo>
                      <a:pt x="0" y="80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1" y="0"/>
                    </a:lnTo>
                    <a:lnTo>
                      <a:pt x="291" y="37"/>
                    </a:lnTo>
                    <a:lnTo>
                      <a:pt x="2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4" name=""/>
              <p:cNvSpPr/>
              <p:nvPr/>
            </p:nvSpPr>
            <p:spPr>
              <a:xfrm>
                <a:off x="2637360" y="5386320"/>
                <a:ext cx="192240" cy="464400"/>
              </a:xfrm>
              <a:custGeom>
                <a:avLst/>
                <a:gdLst/>
                <a:ahLst/>
                <a:rect l="l" t="t" r="r" b="b"/>
                <a:pathLst>
                  <a:path w="284" h="837">
                    <a:moveTo>
                      <a:pt x="284" y="43"/>
                    </a:moveTo>
                    <a:lnTo>
                      <a:pt x="76" y="43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6" y="45"/>
                    </a:lnTo>
                    <a:lnTo>
                      <a:pt x="64" y="47"/>
                    </a:lnTo>
                    <a:lnTo>
                      <a:pt x="58" y="49"/>
                    </a:lnTo>
                    <a:lnTo>
                      <a:pt x="53" y="54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4" y="69"/>
                    </a:lnTo>
                    <a:lnTo>
                      <a:pt x="44" y="72"/>
                    </a:lnTo>
                    <a:lnTo>
                      <a:pt x="43" y="76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837"/>
                    </a:lnTo>
                    <a:lnTo>
                      <a:pt x="0" y="83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7" y="37"/>
                    </a:lnTo>
                    <a:lnTo>
                      <a:pt x="11" y="31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5" y="9"/>
                    </a:lnTo>
                    <a:lnTo>
                      <a:pt x="41" y="6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284" y="0"/>
                    </a:lnTo>
                    <a:lnTo>
                      <a:pt x="284" y="4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5" name=""/>
              <p:cNvSpPr/>
              <p:nvPr/>
            </p:nvSpPr>
            <p:spPr>
              <a:xfrm>
                <a:off x="2494080" y="5294520"/>
                <a:ext cx="4186080" cy="9684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2494080" y="5294520"/>
                <a:ext cx="4186080" cy="9684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7" name=""/>
              <p:cNvSpPr/>
              <p:nvPr/>
            </p:nvSpPr>
            <p:spPr>
              <a:xfrm>
                <a:off x="3901680" y="5342040"/>
                <a:ext cx="909360" cy="39960"/>
              </a:xfrm>
              <a:custGeom>
                <a:avLst/>
                <a:gdLst/>
                <a:ahLst/>
                <a:rect l="l" t="t" r="r" b="b"/>
                <a:pathLst>
                  <a:path w="1335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  <a:close/>
                    <a:moveTo>
                      <a:pt x="1335" y="34"/>
                    </a:moveTo>
                    <a:lnTo>
                      <a:pt x="1334" y="31"/>
                    </a:lnTo>
                    <a:lnTo>
                      <a:pt x="1334" y="28"/>
                    </a:lnTo>
                    <a:lnTo>
                      <a:pt x="1333" y="24"/>
                    </a:lnTo>
                    <a:lnTo>
                      <a:pt x="1331" y="22"/>
                    </a:lnTo>
                    <a:lnTo>
                      <a:pt x="1329" y="16"/>
                    </a:lnTo>
                    <a:lnTo>
                      <a:pt x="1324" y="10"/>
                    </a:lnTo>
                    <a:lnTo>
                      <a:pt x="1319" y="7"/>
                    </a:lnTo>
                    <a:lnTo>
                      <a:pt x="1313" y="3"/>
                    </a:lnTo>
                    <a:lnTo>
                      <a:pt x="1309" y="2"/>
                    </a:lnTo>
                    <a:lnTo>
                      <a:pt x="1306" y="2"/>
                    </a:lnTo>
                    <a:lnTo>
                      <a:pt x="1303" y="0"/>
                    </a:lnTo>
                    <a:lnTo>
                      <a:pt x="1299" y="0"/>
                    </a:lnTo>
                    <a:lnTo>
                      <a:pt x="1295" y="0"/>
                    </a:lnTo>
                    <a:lnTo>
                      <a:pt x="1291" y="2"/>
                    </a:lnTo>
                    <a:lnTo>
                      <a:pt x="1289" y="2"/>
                    </a:lnTo>
                    <a:lnTo>
                      <a:pt x="1285" y="3"/>
                    </a:lnTo>
                    <a:lnTo>
                      <a:pt x="1280" y="7"/>
                    </a:lnTo>
                    <a:lnTo>
                      <a:pt x="1275" y="10"/>
                    </a:lnTo>
                    <a:lnTo>
                      <a:pt x="1270" y="16"/>
                    </a:lnTo>
                    <a:lnTo>
                      <a:pt x="1268" y="22"/>
                    </a:lnTo>
                    <a:lnTo>
                      <a:pt x="1266" y="24"/>
                    </a:lnTo>
                    <a:lnTo>
                      <a:pt x="1265" y="28"/>
                    </a:lnTo>
                    <a:lnTo>
                      <a:pt x="1265" y="31"/>
                    </a:lnTo>
                    <a:lnTo>
                      <a:pt x="1265" y="34"/>
                    </a:lnTo>
                    <a:lnTo>
                      <a:pt x="1265" y="38"/>
                    </a:lnTo>
                    <a:lnTo>
                      <a:pt x="1265" y="42"/>
                    </a:lnTo>
                    <a:lnTo>
                      <a:pt x="1266" y="46"/>
                    </a:lnTo>
                    <a:lnTo>
                      <a:pt x="1268" y="48"/>
                    </a:lnTo>
                    <a:lnTo>
                      <a:pt x="1270" y="55"/>
                    </a:lnTo>
                    <a:lnTo>
                      <a:pt x="1275" y="61"/>
                    </a:lnTo>
                    <a:lnTo>
                      <a:pt x="1280" y="65"/>
                    </a:lnTo>
                    <a:lnTo>
                      <a:pt x="1285" y="69"/>
                    </a:lnTo>
                    <a:lnTo>
                      <a:pt x="1289" y="70"/>
                    </a:lnTo>
                    <a:lnTo>
                      <a:pt x="1291" y="70"/>
                    </a:lnTo>
                    <a:lnTo>
                      <a:pt x="1295" y="71"/>
                    </a:lnTo>
                    <a:lnTo>
                      <a:pt x="1299" y="71"/>
                    </a:lnTo>
                    <a:lnTo>
                      <a:pt x="1303" y="71"/>
                    </a:lnTo>
                    <a:lnTo>
                      <a:pt x="1306" y="70"/>
                    </a:lnTo>
                    <a:lnTo>
                      <a:pt x="1309" y="70"/>
                    </a:lnTo>
                    <a:lnTo>
                      <a:pt x="1313" y="69"/>
                    </a:lnTo>
                    <a:lnTo>
                      <a:pt x="1319" y="65"/>
                    </a:lnTo>
                    <a:lnTo>
                      <a:pt x="1324" y="61"/>
                    </a:lnTo>
                    <a:lnTo>
                      <a:pt x="1329" y="55"/>
                    </a:lnTo>
                    <a:lnTo>
                      <a:pt x="1331" y="48"/>
                    </a:lnTo>
                    <a:lnTo>
                      <a:pt x="1333" y="46"/>
                    </a:lnTo>
                    <a:lnTo>
                      <a:pt x="1334" y="42"/>
                    </a:lnTo>
                    <a:lnTo>
                      <a:pt x="1334" y="38"/>
                    </a:lnTo>
                    <a:lnTo>
                      <a:pt x="1335" y="34"/>
                    </a:lnTo>
                    <a:lnTo>
                      <a:pt x="1335" y="34"/>
                    </a:lnTo>
                    <a:close/>
                  </a:path>
                </a:pathLst>
              </a:custGeom>
              <a:solidFill>
                <a:srgbClr val="d3d3d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8" name=""/>
              <p:cNvSpPr/>
              <p:nvPr/>
            </p:nvSpPr>
            <p:spPr>
              <a:xfrm>
                <a:off x="3901680" y="534204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9" name=""/>
              <p:cNvSpPr/>
              <p:nvPr/>
            </p:nvSpPr>
            <p:spPr>
              <a:xfrm>
                <a:off x="4763160" y="5342040"/>
                <a:ext cx="4788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69" y="31"/>
                    </a:lnTo>
                    <a:lnTo>
                      <a:pt x="69" y="28"/>
                    </a:lnTo>
                    <a:lnTo>
                      <a:pt x="68" y="24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4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4" y="65"/>
                    </a:lnTo>
                    <a:lnTo>
                      <a:pt x="59" y="61"/>
                    </a:lnTo>
                    <a:lnTo>
                      <a:pt x="64" y="55"/>
                    </a:lnTo>
                    <a:lnTo>
                      <a:pt x="66" y="48"/>
                    </a:lnTo>
                    <a:lnTo>
                      <a:pt x="68" y="46"/>
                    </a:lnTo>
                    <a:lnTo>
                      <a:pt x="69" y="42"/>
                    </a:lnTo>
                    <a:lnTo>
                      <a:pt x="69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0" name=""/>
              <p:cNvSpPr/>
              <p:nvPr/>
            </p:nvSpPr>
            <p:spPr>
              <a:xfrm>
                <a:off x="4016520" y="5352120"/>
                <a:ext cx="2301480" cy="527760"/>
              </a:xfrm>
              <a:custGeom>
                <a:avLst/>
                <a:gdLst/>
                <a:ahLst/>
                <a:rect l="l" t="t" r="r" b="b"/>
                <a:pathLst>
                  <a:path w="3384" h="951">
                    <a:moveTo>
                      <a:pt x="1350" y="862"/>
                    </a:moveTo>
                    <a:lnTo>
                      <a:pt x="1350" y="853"/>
                    </a:lnTo>
                    <a:lnTo>
                      <a:pt x="1348" y="846"/>
                    </a:lnTo>
                    <a:lnTo>
                      <a:pt x="1346" y="838"/>
                    </a:lnTo>
                    <a:lnTo>
                      <a:pt x="1343" y="832"/>
                    </a:lnTo>
                    <a:lnTo>
                      <a:pt x="1341" y="824"/>
                    </a:lnTo>
                    <a:lnTo>
                      <a:pt x="1337" y="818"/>
                    </a:lnTo>
                    <a:lnTo>
                      <a:pt x="1332" y="812"/>
                    </a:lnTo>
                    <a:lnTo>
                      <a:pt x="1327" y="807"/>
                    </a:lnTo>
                    <a:lnTo>
                      <a:pt x="1322" y="802"/>
                    </a:lnTo>
                    <a:lnTo>
                      <a:pt x="1316" y="798"/>
                    </a:lnTo>
                    <a:lnTo>
                      <a:pt x="1310" y="794"/>
                    </a:lnTo>
                    <a:lnTo>
                      <a:pt x="1303" y="790"/>
                    </a:lnTo>
                    <a:lnTo>
                      <a:pt x="1296" y="788"/>
                    </a:lnTo>
                    <a:lnTo>
                      <a:pt x="1288" y="787"/>
                    </a:lnTo>
                    <a:lnTo>
                      <a:pt x="1281" y="785"/>
                    </a:lnTo>
                    <a:lnTo>
                      <a:pt x="1273" y="784"/>
                    </a:lnTo>
                    <a:lnTo>
                      <a:pt x="1264" y="785"/>
                    </a:lnTo>
                    <a:lnTo>
                      <a:pt x="1257" y="787"/>
                    </a:lnTo>
                    <a:lnTo>
                      <a:pt x="1249" y="788"/>
                    </a:lnTo>
                    <a:lnTo>
                      <a:pt x="1242" y="790"/>
                    </a:lnTo>
                    <a:lnTo>
                      <a:pt x="1236" y="794"/>
                    </a:lnTo>
                    <a:lnTo>
                      <a:pt x="1229" y="798"/>
                    </a:lnTo>
                    <a:lnTo>
                      <a:pt x="1223" y="802"/>
                    </a:lnTo>
                    <a:lnTo>
                      <a:pt x="1217" y="807"/>
                    </a:lnTo>
                    <a:lnTo>
                      <a:pt x="1212" y="812"/>
                    </a:lnTo>
                    <a:lnTo>
                      <a:pt x="1207" y="818"/>
                    </a:lnTo>
                    <a:lnTo>
                      <a:pt x="1203" y="824"/>
                    </a:lnTo>
                    <a:lnTo>
                      <a:pt x="1201" y="832"/>
                    </a:lnTo>
                    <a:lnTo>
                      <a:pt x="1197" y="838"/>
                    </a:lnTo>
                    <a:lnTo>
                      <a:pt x="1195" y="846"/>
                    </a:lnTo>
                    <a:lnTo>
                      <a:pt x="1194" y="853"/>
                    </a:lnTo>
                    <a:lnTo>
                      <a:pt x="1193" y="862"/>
                    </a:lnTo>
                    <a:lnTo>
                      <a:pt x="1194" y="870"/>
                    </a:lnTo>
                    <a:lnTo>
                      <a:pt x="1195" y="877"/>
                    </a:lnTo>
                    <a:lnTo>
                      <a:pt x="1197" y="885"/>
                    </a:lnTo>
                    <a:lnTo>
                      <a:pt x="1201" y="893"/>
                    </a:lnTo>
                    <a:lnTo>
                      <a:pt x="1203" y="900"/>
                    </a:lnTo>
                    <a:lnTo>
                      <a:pt x="1207" y="907"/>
                    </a:lnTo>
                    <a:lnTo>
                      <a:pt x="1212" y="913"/>
                    </a:lnTo>
                    <a:lnTo>
                      <a:pt x="1217" y="918"/>
                    </a:lnTo>
                    <a:lnTo>
                      <a:pt x="1223" y="923"/>
                    </a:lnTo>
                    <a:lnTo>
                      <a:pt x="1229" y="928"/>
                    </a:lnTo>
                    <a:lnTo>
                      <a:pt x="1236" y="932"/>
                    </a:lnTo>
                    <a:lnTo>
                      <a:pt x="1242" y="936"/>
                    </a:lnTo>
                    <a:lnTo>
                      <a:pt x="1249" y="938"/>
                    </a:lnTo>
                    <a:lnTo>
                      <a:pt x="1257" y="941"/>
                    </a:lnTo>
                    <a:lnTo>
                      <a:pt x="1264" y="942"/>
                    </a:lnTo>
                    <a:lnTo>
                      <a:pt x="1273" y="942"/>
                    </a:lnTo>
                    <a:lnTo>
                      <a:pt x="1281" y="942"/>
                    </a:lnTo>
                    <a:lnTo>
                      <a:pt x="1288" y="941"/>
                    </a:lnTo>
                    <a:lnTo>
                      <a:pt x="1296" y="938"/>
                    </a:lnTo>
                    <a:lnTo>
                      <a:pt x="1303" y="936"/>
                    </a:lnTo>
                    <a:lnTo>
                      <a:pt x="1310" y="932"/>
                    </a:lnTo>
                    <a:lnTo>
                      <a:pt x="1316" y="928"/>
                    </a:lnTo>
                    <a:lnTo>
                      <a:pt x="1322" y="923"/>
                    </a:lnTo>
                    <a:lnTo>
                      <a:pt x="1327" y="918"/>
                    </a:lnTo>
                    <a:lnTo>
                      <a:pt x="1332" y="913"/>
                    </a:lnTo>
                    <a:lnTo>
                      <a:pt x="1337" y="907"/>
                    </a:lnTo>
                    <a:lnTo>
                      <a:pt x="1341" y="900"/>
                    </a:lnTo>
                    <a:lnTo>
                      <a:pt x="1343" y="893"/>
                    </a:lnTo>
                    <a:lnTo>
                      <a:pt x="1346" y="885"/>
                    </a:lnTo>
                    <a:lnTo>
                      <a:pt x="1348" y="877"/>
                    </a:lnTo>
                    <a:lnTo>
                      <a:pt x="1350" y="870"/>
                    </a:lnTo>
                    <a:lnTo>
                      <a:pt x="1350" y="862"/>
                    </a:lnTo>
                    <a:lnTo>
                      <a:pt x="1350" y="862"/>
                    </a:lnTo>
                    <a:close/>
                    <a:moveTo>
                      <a:pt x="1605" y="862"/>
                    </a:moveTo>
                    <a:lnTo>
                      <a:pt x="1605" y="853"/>
                    </a:lnTo>
                    <a:lnTo>
                      <a:pt x="1604" y="846"/>
                    </a:lnTo>
                    <a:lnTo>
                      <a:pt x="1603" y="838"/>
                    </a:lnTo>
                    <a:lnTo>
                      <a:pt x="1600" y="832"/>
                    </a:lnTo>
                    <a:lnTo>
                      <a:pt x="1596" y="824"/>
                    </a:lnTo>
                    <a:lnTo>
                      <a:pt x="1593" y="818"/>
                    </a:lnTo>
                    <a:lnTo>
                      <a:pt x="1588" y="812"/>
                    </a:lnTo>
                    <a:lnTo>
                      <a:pt x="1583" y="807"/>
                    </a:lnTo>
                    <a:lnTo>
                      <a:pt x="1578" y="802"/>
                    </a:lnTo>
                    <a:lnTo>
                      <a:pt x="1571" y="798"/>
                    </a:lnTo>
                    <a:lnTo>
                      <a:pt x="1565" y="794"/>
                    </a:lnTo>
                    <a:lnTo>
                      <a:pt x="1559" y="790"/>
                    </a:lnTo>
                    <a:lnTo>
                      <a:pt x="1551" y="788"/>
                    </a:lnTo>
                    <a:lnTo>
                      <a:pt x="1544" y="787"/>
                    </a:lnTo>
                    <a:lnTo>
                      <a:pt x="1536" y="785"/>
                    </a:lnTo>
                    <a:lnTo>
                      <a:pt x="1529" y="784"/>
                    </a:lnTo>
                    <a:lnTo>
                      <a:pt x="1520" y="785"/>
                    </a:lnTo>
                    <a:lnTo>
                      <a:pt x="1512" y="787"/>
                    </a:lnTo>
                    <a:lnTo>
                      <a:pt x="1505" y="788"/>
                    </a:lnTo>
                    <a:lnTo>
                      <a:pt x="1497" y="790"/>
                    </a:lnTo>
                    <a:lnTo>
                      <a:pt x="1491" y="794"/>
                    </a:lnTo>
                    <a:lnTo>
                      <a:pt x="1485" y="798"/>
                    </a:lnTo>
                    <a:lnTo>
                      <a:pt x="1479" y="802"/>
                    </a:lnTo>
                    <a:lnTo>
                      <a:pt x="1472" y="807"/>
                    </a:lnTo>
                    <a:lnTo>
                      <a:pt x="1467" y="812"/>
                    </a:lnTo>
                    <a:lnTo>
                      <a:pt x="1464" y="818"/>
                    </a:lnTo>
                    <a:lnTo>
                      <a:pt x="1459" y="824"/>
                    </a:lnTo>
                    <a:lnTo>
                      <a:pt x="1456" y="832"/>
                    </a:lnTo>
                    <a:lnTo>
                      <a:pt x="1452" y="838"/>
                    </a:lnTo>
                    <a:lnTo>
                      <a:pt x="1451" y="846"/>
                    </a:lnTo>
                    <a:lnTo>
                      <a:pt x="1450" y="853"/>
                    </a:lnTo>
                    <a:lnTo>
                      <a:pt x="1450" y="862"/>
                    </a:lnTo>
                    <a:lnTo>
                      <a:pt x="1450" y="870"/>
                    </a:lnTo>
                    <a:lnTo>
                      <a:pt x="1451" y="877"/>
                    </a:lnTo>
                    <a:lnTo>
                      <a:pt x="1452" y="885"/>
                    </a:lnTo>
                    <a:lnTo>
                      <a:pt x="1456" y="893"/>
                    </a:lnTo>
                    <a:lnTo>
                      <a:pt x="1459" y="900"/>
                    </a:lnTo>
                    <a:lnTo>
                      <a:pt x="1464" y="907"/>
                    </a:lnTo>
                    <a:lnTo>
                      <a:pt x="1467" y="913"/>
                    </a:lnTo>
                    <a:lnTo>
                      <a:pt x="1472" y="918"/>
                    </a:lnTo>
                    <a:lnTo>
                      <a:pt x="1479" y="923"/>
                    </a:lnTo>
                    <a:lnTo>
                      <a:pt x="1485" y="928"/>
                    </a:lnTo>
                    <a:lnTo>
                      <a:pt x="1491" y="932"/>
                    </a:lnTo>
                    <a:lnTo>
                      <a:pt x="1497" y="936"/>
                    </a:lnTo>
                    <a:lnTo>
                      <a:pt x="1505" y="938"/>
                    </a:lnTo>
                    <a:lnTo>
                      <a:pt x="1512" y="941"/>
                    </a:lnTo>
                    <a:lnTo>
                      <a:pt x="1520" y="942"/>
                    </a:lnTo>
                    <a:lnTo>
                      <a:pt x="1529" y="942"/>
                    </a:lnTo>
                    <a:lnTo>
                      <a:pt x="1536" y="942"/>
                    </a:lnTo>
                    <a:lnTo>
                      <a:pt x="1544" y="941"/>
                    </a:lnTo>
                    <a:lnTo>
                      <a:pt x="1551" y="938"/>
                    </a:lnTo>
                    <a:lnTo>
                      <a:pt x="1559" y="936"/>
                    </a:lnTo>
                    <a:lnTo>
                      <a:pt x="1565" y="932"/>
                    </a:lnTo>
                    <a:lnTo>
                      <a:pt x="1571" y="928"/>
                    </a:lnTo>
                    <a:lnTo>
                      <a:pt x="1578" y="923"/>
                    </a:lnTo>
                    <a:lnTo>
                      <a:pt x="1583" y="918"/>
                    </a:lnTo>
                    <a:lnTo>
                      <a:pt x="1588" y="913"/>
                    </a:lnTo>
                    <a:lnTo>
                      <a:pt x="1593" y="907"/>
                    </a:lnTo>
                    <a:lnTo>
                      <a:pt x="1596" y="900"/>
                    </a:lnTo>
                    <a:lnTo>
                      <a:pt x="1600" y="893"/>
                    </a:lnTo>
                    <a:lnTo>
                      <a:pt x="1603" y="885"/>
                    </a:lnTo>
                    <a:lnTo>
                      <a:pt x="1604" y="877"/>
                    </a:lnTo>
                    <a:lnTo>
                      <a:pt x="1605" y="870"/>
                    </a:lnTo>
                    <a:lnTo>
                      <a:pt x="1605" y="862"/>
                    </a:lnTo>
                    <a:lnTo>
                      <a:pt x="1605" y="862"/>
                    </a:lnTo>
                    <a:close/>
                    <a:moveTo>
                      <a:pt x="1779" y="832"/>
                    </a:moveTo>
                    <a:lnTo>
                      <a:pt x="1751" y="832"/>
                    </a:lnTo>
                    <a:lnTo>
                      <a:pt x="1747" y="832"/>
                    </a:lnTo>
                    <a:lnTo>
                      <a:pt x="1742" y="833"/>
                    </a:lnTo>
                    <a:lnTo>
                      <a:pt x="1738" y="835"/>
                    </a:lnTo>
                    <a:lnTo>
                      <a:pt x="1734" y="836"/>
                    </a:lnTo>
                    <a:lnTo>
                      <a:pt x="1731" y="837"/>
                    </a:lnTo>
                    <a:lnTo>
                      <a:pt x="1728" y="840"/>
                    </a:lnTo>
                    <a:lnTo>
                      <a:pt x="1722" y="845"/>
                    </a:lnTo>
                    <a:lnTo>
                      <a:pt x="1717" y="850"/>
                    </a:lnTo>
                    <a:lnTo>
                      <a:pt x="1714" y="853"/>
                    </a:lnTo>
                    <a:lnTo>
                      <a:pt x="1713" y="857"/>
                    </a:lnTo>
                    <a:lnTo>
                      <a:pt x="1712" y="861"/>
                    </a:lnTo>
                    <a:lnTo>
                      <a:pt x="1710" y="865"/>
                    </a:lnTo>
                    <a:lnTo>
                      <a:pt x="1710" y="869"/>
                    </a:lnTo>
                    <a:lnTo>
                      <a:pt x="1709" y="874"/>
                    </a:lnTo>
                    <a:lnTo>
                      <a:pt x="1710" y="877"/>
                    </a:lnTo>
                    <a:lnTo>
                      <a:pt x="1710" y="881"/>
                    </a:lnTo>
                    <a:lnTo>
                      <a:pt x="1712" y="885"/>
                    </a:lnTo>
                    <a:lnTo>
                      <a:pt x="1713" y="889"/>
                    </a:lnTo>
                    <a:lnTo>
                      <a:pt x="1714" y="893"/>
                    </a:lnTo>
                    <a:lnTo>
                      <a:pt x="1717" y="896"/>
                    </a:lnTo>
                    <a:lnTo>
                      <a:pt x="1722" y="903"/>
                    </a:lnTo>
                    <a:lnTo>
                      <a:pt x="1728" y="908"/>
                    </a:lnTo>
                    <a:lnTo>
                      <a:pt x="1731" y="909"/>
                    </a:lnTo>
                    <a:lnTo>
                      <a:pt x="1734" y="912"/>
                    </a:lnTo>
                    <a:lnTo>
                      <a:pt x="1738" y="913"/>
                    </a:lnTo>
                    <a:lnTo>
                      <a:pt x="1742" y="914"/>
                    </a:lnTo>
                    <a:lnTo>
                      <a:pt x="1747" y="914"/>
                    </a:lnTo>
                    <a:lnTo>
                      <a:pt x="1751" y="914"/>
                    </a:lnTo>
                    <a:lnTo>
                      <a:pt x="1751" y="914"/>
                    </a:lnTo>
                    <a:lnTo>
                      <a:pt x="1791" y="914"/>
                    </a:lnTo>
                    <a:lnTo>
                      <a:pt x="1791" y="919"/>
                    </a:lnTo>
                    <a:lnTo>
                      <a:pt x="1793" y="925"/>
                    </a:lnTo>
                    <a:lnTo>
                      <a:pt x="1796" y="931"/>
                    </a:lnTo>
                    <a:lnTo>
                      <a:pt x="1801" y="936"/>
                    </a:lnTo>
                    <a:lnTo>
                      <a:pt x="1804" y="939"/>
                    </a:lnTo>
                    <a:lnTo>
                      <a:pt x="1811" y="942"/>
                    </a:lnTo>
                    <a:lnTo>
                      <a:pt x="1817" y="944"/>
                    </a:lnTo>
                    <a:lnTo>
                      <a:pt x="1823" y="946"/>
                    </a:lnTo>
                    <a:lnTo>
                      <a:pt x="1829" y="946"/>
                    </a:lnTo>
                    <a:lnTo>
                      <a:pt x="1829" y="946"/>
                    </a:lnTo>
                    <a:lnTo>
                      <a:pt x="2017" y="946"/>
                    </a:lnTo>
                    <a:lnTo>
                      <a:pt x="2024" y="946"/>
                    </a:lnTo>
                    <a:lnTo>
                      <a:pt x="2027" y="946"/>
                    </a:lnTo>
                    <a:lnTo>
                      <a:pt x="2031" y="944"/>
                    </a:lnTo>
                    <a:lnTo>
                      <a:pt x="2035" y="943"/>
                    </a:lnTo>
                    <a:lnTo>
                      <a:pt x="2037" y="942"/>
                    </a:lnTo>
                    <a:lnTo>
                      <a:pt x="2041" y="939"/>
                    </a:lnTo>
                    <a:lnTo>
                      <a:pt x="2045" y="937"/>
                    </a:lnTo>
                    <a:lnTo>
                      <a:pt x="2047" y="936"/>
                    </a:lnTo>
                    <a:lnTo>
                      <a:pt x="2049" y="933"/>
                    </a:lnTo>
                    <a:lnTo>
                      <a:pt x="2051" y="931"/>
                    </a:lnTo>
                    <a:lnTo>
                      <a:pt x="2054" y="928"/>
                    </a:lnTo>
                    <a:lnTo>
                      <a:pt x="2056" y="922"/>
                    </a:lnTo>
                    <a:lnTo>
                      <a:pt x="2059" y="914"/>
                    </a:lnTo>
                    <a:lnTo>
                      <a:pt x="2059" y="914"/>
                    </a:lnTo>
                    <a:lnTo>
                      <a:pt x="2099" y="914"/>
                    </a:lnTo>
                    <a:lnTo>
                      <a:pt x="2103" y="914"/>
                    </a:lnTo>
                    <a:lnTo>
                      <a:pt x="2108" y="914"/>
                    </a:lnTo>
                    <a:lnTo>
                      <a:pt x="2111" y="913"/>
                    </a:lnTo>
                    <a:lnTo>
                      <a:pt x="2115" y="912"/>
                    </a:lnTo>
                    <a:lnTo>
                      <a:pt x="2119" y="909"/>
                    </a:lnTo>
                    <a:lnTo>
                      <a:pt x="2121" y="908"/>
                    </a:lnTo>
                    <a:lnTo>
                      <a:pt x="2128" y="903"/>
                    </a:lnTo>
                    <a:lnTo>
                      <a:pt x="2133" y="896"/>
                    </a:lnTo>
                    <a:lnTo>
                      <a:pt x="2135" y="893"/>
                    </a:lnTo>
                    <a:lnTo>
                      <a:pt x="2136" y="889"/>
                    </a:lnTo>
                    <a:lnTo>
                      <a:pt x="2138" y="885"/>
                    </a:lnTo>
                    <a:lnTo>
                      <a:pt x="2139" y="881"/>
                    </a:lnTo>
                    <a:lnTo>
                      <a:pt x="2139" y="877"/>
                    </a:lnTo>
                    <a:lnTo>
                      <a:pt x="2140" y="874"/>
                    </a:lnTo>
                    <a:lnTo>
                      <a:pt x="2140" y="874"/>
                    </a:lnTo>
                    <a:lnTo>
                      <a:pt x="2139" y="869"/>
                    </a:lnTo>
                    <a:lnTo>
                      <a:pt x="2139" y="865"/>
                    </a:lnTo>
                    <a:lnTo>
                      <a:pt x="2138" y="861"/>
                    </a:lnTo>
                    <a:lnTo>
                      <a:pt x="2136" y="857"/>
                    </a:lnTo>
                    <a:lnTo>
                      <a:pt x="2135" y="853"/>
                    </a:lnTo>
                    <a:lnTo>
                      <a:pt x="2133" y="850"/>
                    </a:lnTo>
                    <a:lnTo>
                      <a:pt x="2128" y="845"/>
                    </a:lnTo>
                    <a:lnTo>
                      <a:pt x="2121" y="840"/>
                    </a:lnTo>
                    <a:lnTo>
                      <a:pt x="2119" y="837"/>
                    </a:lnTo>
                    <a:lnTo>
                      <a:pt x="2115" y="836"/>
                    </a:lnTo>
                    <a:lnTo>
                      <a:pt x="2111" y="835"/>
                    </a:lnTo>
                    <a:lnTo>
                      <a:pt x="2108" y="833"/>
                    </a:lnTo>
                    <a:lnTo>
                      <a:pt x="2103" y="832"/>
                    </a:lnTo>
                    <a:lnTo>
                      <a:pt x="2099" y="832"/>
                    </a:lnTo>
                    <a:lnTo>
                      <a:pt x="2099" y="832"/>
                    </a:lnTo>
                    <a:lnTo>
                      <a:pt x="2070" y="832"/>
                    </a:lnTo>
                    <a:lnTo>
                      <a:pt x="2069" y="830"/>
                    </a:lnTo>
                    <a:lnTo>
                      <a:pt x="2069" y="827"/>
                    </a:lnTo>
                    <a:lnTo>
                      <a:pt x="2068" y="824"/>
                    </a:lnTo>
                    <a:lnTo>
                      <a:pt x="2066" y="822"/>
                    </a:lnTo>
                    <a:lnTo>
                      <a:pt x="2064" y="818"/>
                    </a:lnTo>
                    <a:lnTo>
                      <a:pt x="2060" y="814"/>
                    </a:lnTo>
                    <a:lnTo>
                      <a:pt x="2058" y="811"/>
                    </a:lnTo>
                    <a:lnTo>
                      <a:pt x="2055" y="808"/>
                    </a:lnTo>
                    <a:lnTo>
                      <a:pt x="2053" y="806"/>
                    </a:lnTo>
                    <a:lnTo>
                      <a:pt x="2049" y="804"/>
                    </a:lnTo>
                    <a:lnTo>
                      <a:pt x="2045" y="802"/>
                    </a:lnTo>
                    <a:lnTo>
                      <a:pt x="2041" y="802"/>
                    </a:lnTo>
                    <a:lnTo>
                      <a:pt x="2037" y="800"/>
                    </a:lnTo>
                    <a:lnTo>
                      <a:pt x="2034" y="800"/>
                    </a:lnTo>
                    <a:lnTo>
                      <a:pt x="2034" y="800"/>
                    </a:lnTo>
                    <a:lnTo>
                      <a:pt x="1816" y="800"/>
                    </a:lnTo>
                    <a:lnTo>
                      <a:pt x="1812" y="800"/>
                    </a:lnTo>
                    <a:lnTo>
                      <a:pt x="1808" y="802"/>
                    </a:lnTo>
                    <a:lnTo>
                      <a:pt x="1804" y="802"/>
                    </a:lnTo>
                    <a:lnTo>
                      <a:pt x="1801" y="804"/>
                    </a:lnTo>
                    <a:lnTo>
                      <a:pt x="1797" y="806"/>
                    </a:lnTo>
                    <a:lnTo>
                      <a:pt x="1793" y="808"/>
                    </a:lnTo>
                    <a:lnTo>
                      <a:pt x="1791" y="811"/>
                    </a:lnTo>
                    <a:lnTo>
                      <a:pt x="1787" y="814"/>
                    </a:lnTo>
                    <a:lnTo>
                      <a:pt x="1783" y="818"/>
                    </a:lnTo>
                    <a:lnTo>
                      <a:pt x="1782" y="822"/>
                    </a:lnTo>
                    <a:lnTo>
                      <a:pt x="1781" y="827"/>
                    </a:lnTo>
                    <a:lnTo>
                      <a:pt x="1779" y="832"/>
                    </a:lnTo>
                    <a:lnTo>
                      <a:pt x="1779" y="832"/>
                    </a:lnTo>
                    <a:close/>
                    <a:moveTo>
                      <a:pt x="2237" y="934"/>
                    </a:moveTo>
                    <a:lnTo>
                      <a:pt x="2651" y="934"/>
                    </a:lnTo>
                    <a:lnTo>
                      <a:pt x="2653" y="934"/>
                    </a:lnTo>
                    <a:lnTo>
                      <a:pt x="2655" y="934"/>
                    </a:lnTo>
                    <a:lnTo>
                      <a:pt x="2656" y="933"/>
                    </a:lnTo>
                    <a:lnTo>
                      <a:pt x="2658" y="932"/>
                    </a:lnTo>
                    <a:lnTo>
                      <a:pt x="2659" y="931"/>
                    </a:lnTo>
                    <a:lnTo>
                      <a:pt x="2660" y="929"/>
                    </a:lnTo>
                    <a:lnTo>
                      <a:pt x="2660" y="928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818"/>
                    </a:lnTo>
                    <a:lnTo>
                      <a:pt x="2660" y="817"/>
                    </a:lnTo>
                    <a:lnTo>
                      <a:pt x="2660" y="816"/>
                    </a:lnTo>
                    <a:lnTo>
                      <a:pt x="2659" y="813"/>
                    </a:lnTo>
                    <a:lnTo>
                      <a:pt x="2658" y="812"/>
                    </a:lnTo>
                    <a:lnTo>
                      <a:pt x="2656" y="811"/>
                    </a:lnTo>
                    <a:lnTo>
                      <a:pt x="2655" y="811"/>
                    </a:lnTo>
                    <a:lnTo>
                      <a:pt x="2653" y="809"/>
                    </a:lnTo>
                    <a:lnTo>
                      <a:pt x="2651" y="809"/>
                    </a:lnTo>
                    <a:lnTo>
                      <a:pt x="2651" y="809"/>
                    </a:lnTo>
                    <a:lnTo>
                      <a:pt x="2237" y="809"/>
                    </a:lnTo>
                    <a:lnTo>
                      <a:pt x="2235" y="809"/>
                    </a:lnTo>
                    <a:lnTo>
                      <a:pt x="2234" y="811"/>
                    </a:lnTo>
                    <a:lnTo>
                      <a:pt x="2232" y="811"/>
                    </a:lnTo>
                    <a:lnTo>
                      <a:pt x="2230" y="812"/>
                    </a:lnTo>
                    <a:lnTo>
                      <a:pt x="2229" y="813"/>
                    </a:lnTo>
                    <a:lnTo>
                      <a:pt x="2229" y="816"/>
                    </a:lnTo>
                    <a:lnTo>
                      <a:pt x="2228" y="817"/>
                    </a:lnTo>
                    <a:lnTo>
                      <a:pt x="2228" y="818"/>
                    </a:lnTo>
                    <a:lnTo>
                      <a:pt x="2228" y="818"/>
                    </a:lnTo>
                    <a:lnTo>
                      <a:pt x="2228" y="925"/>
                    </a:lnTo>
                    <a:lnTo>
                      <a:pt x="2228" y="928"/>
                    </a:lnTo>
                    <a:lnTo>
                      <a:pt x="2229" y="929"/>
                    </a:lnTo>
                    <a:lnTo>
                      <a:pt x="2229" y="931"/>
                    </a:lnTo>
                    <a:lnTo>
                      <a:pt x="2230" y="932"/>
                    </a:lnTo>
                    <a:lnTo>
                      <a:pt x="2232" y="933"/>
                    </a:lnTo>
                    <a:lnTo>
                      <a:pt x="2234" y="934"/>
                    </a:lnTo>
                    <a:lnTo>
                      <a:pt x="2235" y="934"/>
                    </a:lnTo>
                    <a:lnTo>
                      <a:pt x="2237" y="934"/>
                    </a:lnTo>
                    <a:lnTo>
                      <a:pt x="2237" y="934"/>
                    </a:lnTo>
                    <a:close/>
                    <a:moveTo>
                      <a:pt x="2772" y="837"/>
                    </a:moveTo>
                    <a:lnTo>
                      <a:pt x="2742" y="837"/>
                    </a:lnTo>
                    <a:lnTo>
                      <a:pt x="2738" y="837"/>
                    </a:lnTo>
                    <a:lnTo>
                      <a:pt x="2734" y="837"/>
                    </a:lnTo>
                    <a:lnTo>
                      <a:pt x="2729" y="838"/>
                    </a:lnTo>
                    <a:lnTo>
                      <a:pt x="2725" y="840"/>
                    </a:lnTo>
                    <a:lnTo>
                      <a:pt x="2723" y="842"/>
                    </a:lnTo>
                    <a:lnTo>
                      <a:pt x="2719" y="843"/>
                    </a:lnTo>
                    <a:lnTo>
                      <a:pt x="2713" y="848"/>
                    </a:lnTo>
                    <a:lnTo>
                      <a:pt x="2708" y="855"/>
                    </a:lnTo>
                    <a:lnTo>
                      <a:pt x="2707" y="859"/>
                    </a:lnTo>
                    <a:lnTo>
                      <a:pt x="2704" y="862"/>
                    </a:lnTo>
                    <a:lnTo>
                      <a:pt x="2703" y="866"/>
                    </a:lnTo>
                    <a:lnTo>
                      <a:pt x="2702" y="870"/>
                    </a:lnTo>
                    <a:lnTo>
                      <a:pt x="2702" y="874"/>
                    </a:lnTo>
                    <a:lnTo>
                      <a:pt x="2702" y="877"/>
                    </a:lnTo>
                    <a:lnTo>
                      <a:pt x="2702" y="881"/>
                    </a:lnTo>
                    <a:lnTo>
                      <a:pt x="2702" y="885"/>
                    </a:lnTo>
                    <a:lnTo>
                      <a:pt x="2703" y="889"/>
                    </a:lnTo>
                    <a:lnTo>
                      <a:pt x="2704" y="893"/>
                    </a:lnTo>
                    <a:lnTo>
                      <a:pt x="2707" y="896"/>
                    </a:lnTo>
                    <a:lnTo>
                      <a:pt x="2708" y="899"/>
                    </a:lnTo>
                    <a:lnTo>
                      <a:pt x="2713" y="905"/>
                    </a:lnTo>
                    <a:lnTo>
                      <a:pt x="2719" y="910"/>
                    </a:lnTo>
                    <a:lnTo>
                      <a:pt x="2723" y="912"/>
                    </a:lnTo>
                    <a:lnTo>
                      <a:pt x="2725" y="913"/>
                    </a:lnTo>
                    <a:lnTo>
                      <a:pt x="2729" y="915"/>
                    </a:lnTo>
                    <a:lnTo>
                      <a:pt x="2734" y="915"/>
                    </a:lnTo>
                    <a:lnTo>
                      <a:pt x="2738" y="917"/>
                    </a:lnTo>
                    <a:lnTo>
                      <a:pt x="2742" y="917"/>
                    </a:lnTo>
                    <a:lnTo>
                      <a:pt x="2742" y="917"/>
                    </a:lnTo>
                    <a:lnTo>
                      <a:pt x="2783" y="917"/>
                    </a:lnTo>
                    <a:lnTo>
                      <a:pt x="2783" y="922"/>
                    </a:lnTo>
                    <a:lnTo>
                      <a:pt x="2784" y="928"/>
                    </a:lnTo>
                    <a:lnTo>
                      <a:pt x="2788" y="933"/>
                    </a:lnTo>
                    <a:lnTo>
                      <a:pt x="2792" y="938"/>
                    </a:lnTo>
                    <a:lnTo>
                      <a:pt x="2797" y="942"/>
                    </a:lnTo>
                    <a:lnTo>
                      <a:pt x="2799" y="944"/>
                    </a:lnTo>
                    <a:lnTo>
                      <a:pt x="2803" y="946"/>
                    </a:lnTo>
                    <a:lnTo>
                      <a:pt x="2806" y="948"/>
                    </a:lnTo>
                    <a:lnTo>
                      <a:pt x="2808" y="948"/>
                    </a:lnTo>
                    <a:lnTo>
                      <a:pt x="2812" y="949"/>
                    </a:lnTo>
                    <a:lnTo>
                      <a:pt x="2814" y="951"/>
                    </a:lnTo>
                    <a:lnTo>
                      <a:pt x="2821" y="951"/>
                    </a:lnTo>
                    <a:lnTo>
                      <a:pt x="2821" y="951"/>
                    </a:lnTo>
                    <a:lnTo>
                      <a:pt x="3009" y="951"/>
                    </a:lnTo>
                    <a:lnTo>
                      <a:pt x="3014" y="951"/>
                    </a:lnTo>
                    <a:lnTo>
                      <a:pt x="3017" y="949"/>
                    </a:lnTo>
                    <a:lnTo>
                      <a:pt x="3021" y="949"/>
                    </a:lnTo>
                    <a:lnTo>
                      <a:pt x="3025" y="948"/>
                    </a:lnTo>
                    <a:lnTo>
                      <a:pt x="3031" y="944"/>
                    </a:lnTo>
                    <a:lnTo>
                      <a:pt x="3036" y="942"/>
                    </a:lnTo>
                    <a:lnTo>
                      <a:pt x="3041" y="936"/>
                    </a:lnTo>
                    <a:lnTo>
                      <a:pt x="3044" y="933"/>
                    </a:lnTo>
                    <a:lnTo>
                      <a:pt x="3046" y="931"/>
                    </a:lnTo>
                    <a:lnTo>
                      <a:pt x="3047" y="927"/>
                    </a:lnTo>
                    <a:lnTo>
                      <a:pt x="3049" y="923"/>
                    </a:lnTo>
                    <a:lnTo>
                      <a:pt x="3050" y="920"/>
                    </a:lnTo>
                    <a:lnTo>
                      <a:pt x="3050" y="917"/>
                    </a:lnTo>
                    <a:lnTo>
                      <a:pt x="3050" y="917"/>
                    </a:lnTo>
                    <a:lnTo>
                      <a:pt x="3092" y="917"/>
                    </a:lnTo>
                    <a:lnTo>
                      <a:pt x="3097" y="917"/>
                    </a:lnTo>
                    <a:lnTo>
                      <a:pt x="3101" y="915"/>
                    </a:lnTo>
                    <a:lnTo>
                      <a:pt x="3105" y="915"/>
                    </a:lnTo>
                    <a:lnTo>
                      <a:pt x="3109" y="913"/>
                    </a:lnTo>
                    <a:lnTo>
                      <a:pt x="3113" y="912"/>
                    </a:lnTo>
                    <a:lnTo>
                      <a:pt x="3115" y="910"/>
                    </a:lnTo>
                    <a:lnTo>
                      <a:pt x="3121" y="905"/>
                    </a:lnTo>
                    <a:lnTo>
                      <a:pt x="3126" y="899"/>
                    </a:lnTo>
                    <a:lnTo>
                      <a:pt x="3129" y="896"/>
                    </a:lnTo>
                    <a:lnTo>
                      <a:pt x="3130" y="893"/>
                    </a:lnTo>
                    <a:lnTo>
                      <a:pt x="3131" y="889"/>
                    </a:lnTo>
                    <a:lnTo>
                      <a:pt x="3133" y="885"/>
                    </a:lnTo>
                    <a:lnTo>
                      <a:pt x="3134" y="881"/>
                    </a:lnTo>
                    <a:lnTo>
                      <a:pt x="3134" y="877"/>
                    </a:lnTo>
                    <a:lnTo>
                      <a:pt x="3134" y="877"/>
                    </a:lnTo>
                    <a:lnTo>
                      <a:pt x="3134" y="874"/>
                    </a:lnTo>
                    <a:lnTo>
                      <a:pt x="3133" y="870"/>
                    </a:lnTo>
                    <a:lnTo>
                      <a:pt x="3131" y="866"/>
                    </a:lnTo>
                    <a:lnTo>
                      <a:pt x="3130" y="862"/>
                    </a:lnTo>
                    <a:lnTo>
                      <a:pt x="3129" y="859"/>
                    </a:lnTo>
                    <a:lnTo>
                      <a:pt x="3126" y="855"/>
                    </a:lnTo>
                    <a:lnTo>
                      <a:pt x="3121" y="848"/>
                    </a:lnTo>
                    <a:lnTo>
                      <a:pt x="3115" y="843"/>
                    </a:lnTo>
                    <a:lnTo>
                      <a:pt x="3113" y="842"/>
                    </a:lnTo>
                    <a:lnTo>
                      <a:pt x="3109" y="840"/>
                    </a:lnTo>
                    <a:lnTo>
                      <a:pt x="3105" y="838"/>
                    </a:lnTo>
                    <a:lnTo>
                      <a:pt x="3101" y="837"/>
                    </a:lnTo>
                    <a:lnTo>
                      <a:pt x="3097" y="837"/>
                    </a:lnTo>
                    <a:lnTo>
                      <a:pt x="3092" y="837"/>
                    </a:lnTo>
                    <a:lnTo>
                      <a:pt x="3092" y="837"/>
                    </a:lnTo>
                    <a:lnTo>
                      <a:pt x="3061" y="837"/>
                    </a:lnTo>
                    <a:lnTo>
                      <a:pt x="3061" y="832"/>
                    </a:lnTo>
                    <a:lnTo>
                      <a:pt x="3060" y="827"/>
                    </a:lnTo>
                    <a:lnTo>
                      <a:pt x="3057" y="822"/>
                    </a:lnTo>
                    <a:lnTo>
                      <a:pt x="3055" y="817"/>
                    </a:lnTo>
                    <a:lnTo>
                      <a:pt x="3051" y="814"/>
                    </a:lnTo>
                    <a:lnTo>
                      <a:pt x="3049" y="812"/>
                    </a:lnTo>
                    <a:lnTo>
                      <a:pt x="3045" y="809"/>
                    </a:lnTo>
                    <a:lnTo>
                      <a:pt x="3041" y="807"/>
                    </a:lnTo>
                    <a:lnTo>
                      <a:pt x="3037" y="806"/>
                    </a:lnTo>
                    <a:lnTo>
                      <a:pt x="3034" y="804"/>
                    </a:lnTo>
                    <a:lnTo>
                      <a:pt x="3029" y="803"/>
                    </a:lnTo>
                    <a:lnTo>
                      <a:pt x="3025" y="803"/>
                    </a:lnTo>
                    <a:lnTo>
                      <a:pt x="3025" y="803"/>
                    </a:lnTo>
                    <a:lnTo>
                      <a:pt x="2809" y="803"/>
                    </a:lnTo>
                    <a:lnTo>
                      <a:pt x="2806" y="803"/>
                    </a:lnTo>
                    <a:lnTo>
                      <a:pt x="2802" y="804"/>
                    </a:lnTo>
                    <a:lnTo>
                      <a:pt x="2797" y="806"/>
                    </a:lnTo>
                    <a:lnTo>
                      <a:pt x="2793" y="807"/>
                    </a:lnTo>
                    <a:lnTo>
                      <a:pt x="2789" y="809"/>
                    </a:lnTo>
                    <a:lnTo>
                      <a:pt x="2787" y="812"/>
                    </a:lnTo>
                    <a:lnTo>
                      <a:pt x="2783" y="814"/>
                    </a:lnTo>
                    <a:lnTo>
                      <a:pt x="2780" y="817"/>
                    </a:lnTo>
                    <a:lnTo>
                      <a:pt x="2778" y="822"/>
                    </a:lnTo>
                    <a:lnTo>
                      <a:pt x="2775" y="827"/>
                    </a:lnTo>
                    <a:lnTo>
                      <a:pt x="2773" y="832"/>
                    </a:lnTo>
                    <a:lnTo>
                      <a:pt x="2772" y="837"/>
                    </a:lnTo>
                    <a:lnTo>
                      <a:pt x="2772" y="837"/>
                    </a:lnTo>
                    <a:close/>
                    <a:moveTo>
                      <a:pt x="3384" y="775"/>
                    </a:moveTo>
                    <a:lnTo>
                      <a:pt x="3176" y="775"/>
                    </a:lnTo>
                    <a:lnTo>
                      <a:pt x="3176" y="942"/>
                    </a:lnTo>
                    <a:lnTo>
                      <a:pt x="3384" y="942"/>
                    </a:lnTo>
                    <a:lnTo>
                      <a:pt x="3384" y="775"/>
                    </a:lnTo>
                    <a:lnTo>
                      <a:pt x="3384" y="775"/>
                    </a:lnTo>
                    <a:close/>
                    <a:moveTo>
                      <a:pt x="3000" y="0"/>
                    </a:moveTo>
                    <a:lnTo>
                      <a:pt x="2918" y="0"/>
                    </a:lnTo>
                    <a:lnTo>
                      <a:pt x="2915" y="1"/>
                    </a:lnTo>
                    <a:lnTo>
                      <a:pt x="2911" y="3"/>
                    </a:lnTo>
                    <a:lnTo>
                      <a:pt x="2908" y="4"/>
                    </a:lnTo>
                    <a:lnTo>
                      <a:pt x="2906" y="6"/>
                    </a:lnTo>
                    <a:lnTo>
                      <a:pt x="2903" y="10"/>
                    </a:lnTo>
                    <a:lnTo>
                      <a:pt x="2902" y="13"/>
                    </a:lnTo>
                    <a:lnTo>
                      <a:pt x="2901" y="16"/>
                    </a:lnTo>
                    <a:lnTo>
                      <a:pt x="2901" y="21"/>
                    </a:lnTo>
                    <a:lnTo>
                      <a:pt x="2901" y="21"/>
                    </a:lnTo>
                    <a:lnTo>
                      <a:pt x="2901" y="93"/>
                    </a:lnTo>
                    <a:lnTo>
                      <a:pt x="2901" y="97"/>
                    </a:lnTo>
                    <a:lnTo>
                      <a:pt x="2902" y="101"/>
                    </a:lnTo>
                    <a:lnTo>
                      <a:pt x="2903" y="104"/>
                    </a:lnTo>
                    <a:lnTo>
                      <a:pt x="2906" y="106"/>
                    </a:lnTo>
                    <a:lnTo>
                      <a:pt x="2908" y="109"/>
                    </a:lnTo>
                    <a:lnTo>
                      <a:pt x="2911" y="111"/>
                    </a:lnTo>
                    <a:lnTo>
                      <a:pt x="2915" y="111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3000" y="112"/>
                    </a:lnTo>
                    <a:lnTo>
                      <a:pt x="3000" y="0"/>
                    </a:lnTo>
                    <a:lnTo>
                      <a:pt x="3000" y="0"/>
                    </a:lnTo>
                    <a:close/>
                    <a:moveTo>
                      <a:pt x="3000" y="580"/>
                    </a:moveTo>
                    <a:lnTo>
                      <a:pt x="2918" y="580"/>
                    </a:lnTo>
                    <a:lnTo>
                      <a:pt x="2915" y="580"/>
                    </a:lnTo>
                    <a:lnTo>
                      <a:pt x="2911" y="581"/>
                    </a:lnTo>
                    <a:lnTo>
                      <a:pt x="2908" y="583"/>
                    </a:lnTo>
                    <a:lnTo>
                      <a:pt x="2906" y="585"/>
                    </a:lnTo>
                    <a:lnTo>
                      <a:pt x="2903" y="588"/>
                    </a:lnTo>
                    <a:lnTo>
                      <a:pt x="2902" y="591"/>
                    </a:lnTo>
                    <a:lnTo>
                      <a:pt x="2901" y="595"/>
                    </a:lnTo>
                    <a:lnTo>
                      <a:pt x="2901" y="597"/>
                    </a:lnTo>
                    <a:lnTo>
                      <a:pt x="2901" y="597"/>
                    </a:lnTo>
                    <a:lnTo>
                      <a:pt x="2901" y="670"/>
                    </a:lnTo>
                    <a:lnTo>
                      <a:pt x="2901" y="674"/>
                    </a:lnTo>
                    <a:lnTo>
                      <a:pt x="2902" y="678"/>
                    </a:lnTo>
                    <a:lnTo>
                      <a:pt x="2903" y="682"/>
                    </a:lnTo>
                    <a:lnTo>
                      <a:pt x="2906" y="686"/>
                    </a:lnTo>
                    <a:lnTo>
                      <a:pt x="2908" y="688"/>
                    </a:lnTo>
                    <a:lnTo>
                      <a:pt x="2911" y="689"/>
                    </a:lnTo>
                    <a:lnTo>
                      <a:pt x="2915" y="691"/>
                    </a:lnTo>
                    <a:lnTo>
                      <a:pt x="2918" y="691"/>
                    </a:lnTo>
                    <a:lnTo>
                      <a:pt x="2918" y="691"/>
                    </a:lnTo>
                    <a:lnTo>
                      <a:pt x="3000" y="691"/>
                    </a:lnTo>
                    <a:lnTo>
                      <a:pt x="3000" y="580"/>
                    </a:lnTo>
                    <a:lnTo>
                      <a:pt x="3000" y="580"/>
                    </a:lnTo>
                    <a:close/>
                    <a:moveTo>
                      <a:pt x="0" y="880"/>
                    </a:moveTo>
                    <a:lnTo>
                      <a:pt x="0" y="925"/>
                    </a:lnTo>
                    <a:lnTo>
                      <a:pt x="125" y="925"/>
                    </a:lnTo>
                    <a:lnTo>
                      <a:pt x="125" y="880"/>
                    </a:lnTo>
                    <a:lnTo>
                      <a:pt x="0" y="880"/>
                    </a:lnTo>
                    <a:lnTo>
                      <a:pt x="0" y="880"/>
                    </a:lnTo>
                    <a:close/>
                    <a:moveTo>
                      <a:pt x="822" y="880"/>
                    </a:moveTo>
                    <a:lnTo>
                      <a:pt x="822" y="925"/>
                    </a:lnTo>
                    <a:lnTo>
                      <a:pt x="945" y="925"/>
                    </a:lnTo>
                    <a:lnTo>
                      <a:pt x="945" y="880"/>
                    </a:lnTo>
                    <a:lnTo>
                      <a:pt x="822" y="880"/>
                    </a:lnTo>
                    <a:lnTo>
                      <a:pt x="822" y="88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4826520" y="5787360"/>
                <a:ext cx="106200" cy="8820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78"/>
                    </a:moveTo>
                    <a:lnTo>
                      <a:pt x="157" y="69"/>
                    </a:lnTo>
                    <a:lnTo>
                      <a:pt x="155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8" y="40"/>
                    </a:lnTo>
                    <a:lnTo>
                      <a:pt x="144" y="34"/>
                    </a:lnTo>
                    <a:lnTo>
                      <a:pt x="139" y="28"/>
                    </a:lnTo>
                    <a:lnTo>
                      <a:pt x="134" y="23"/>
                    </a:lnTo>
                    <a:lnTo>
                      <a:pt x="129" y="18"/>
                    </a:lnTo>
                    <a:lnTo>
                      <a:pt x="123" y="14"/>
                    </a:lnTo>
                    <a:lnTo>
                      <a:pt x="117" y="10"/>
                    </a:lnTo>
                    <a:lnTo>
                      <a:pt x="110" y="6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1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24" y="23"/>
                    </a:lnTo>
                    <a:lnTo>
                      <a:pt x="19" y="28"/>
                    </a:lnTo>
                    <a:lnTo>
                      <a:pt x="14" y="34"/>
                    </a:lnTo>
                    <a:lnTo>
                      <a:pt x="10" y="40"/>
                    </a:lnTo>
                    <a:lnTo>
                      <a:pt x="8" y="48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1" y="69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2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9" y="129"/>
                    </a:lnTo>
                    <a:lnTo>
                      <a:pt x="24" y="134"/>
                    </a:lnTo>
                    <a:lnTo>
                      <a:pt x="30" y="139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9" y="152"/>
                    </a:lnTo>
                    <a:lnTo>
                      <a:pt x="56" y="154"/>
                    </a:lnTo>
                    <a:lnTo>
                      <a:pt x="64" y="157"/>
                    </a:lnTo>
                    <a:lnTo>
                      <a:pt x="71" y="158"/>
                    </a:lnTo>
                    <a:lnTo>
                      <a:pt x="80" y="158"/>
                    </a:lnTo>
                    <a:lnTo>
                      <a:pt x="88" y="158"/>
                    </a:lnTo>
                    <a:lnTo>
                      <a:pt x="95" y="157"/>
                    </a:lnTo>
                    <a:lnTo>
                      <a:pt x="103" y="154"/>
                    </a:lnTo>
                    <a:lnTo>
                      <a:pt x="110" y="152"/>
                    </a:lnTo>
                    <a:lnTo>
                      <a:pt x="117" y="148"/>
                    </a:lnTo>
                    <a:lnTo>
                      <a:pt x="123" y="144"/>
                    </a:lnTo>
                    <a:lnTo>
                      <a:pt x="129" y="139"/>
                    </a:lnTo>
                    <a:lnTo>
                      <a:pt x="134" y="134"/>
                    </a:lnTo>
                    <a:lnTo>
                      <a:pt x="139" y="129"/>
                    </a:lnTo>
                    <a:lnTo>
                      <a:pt x="144" y="123"/>
                    </a:lnTo>
                    <a:lnTo>
                      <a:pt x="148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5" y="93"/>
                    </a:lnTo>
                    <a:lnTo>
                      <a:pt x="157" y="86"/>
                    </a:lnTo>
                    <a:lnTo>
                      <a:pt x="157" y="78"/>
                    </a:lnTo>
                    <a:lnTo>
                      <a:pt x="157" y="78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2" name=""/>
              <p:cNvSpPr/>
              <p:nvPr/>
            </p:nvSpPr>
            <p:spPr>
              <a:xfrm>
                <a:off x="5001120" y="5787360"/>
                <a:ext cx="106200" cy="88200"/>
              </a:xfrm>
              <a:custGeom>
                <a:avLst/>
                <a:gdLst/>
                <a:ahLst/>
                <a:rect l="l" t="t" r="r" b="b"/>
                <a:pathLst>
                  <a:path w="155" h="158">
                    <a:moveTo>
                      <a:pt x="155" y="78"/>
                    </a:moveTo>
                    <a:lnTo>
                      <a:pt x="155" y="69"/>
                    </a:lnTo>
                    <a:lnTo>
                      <a:pt x="154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6" y="40"/>
                    </a:lnTo>
                    <a:lnTo>
                      <a:pt x="143" y="34"/>
                    </a:lnTo>
                    <a:lnTo>
                      <a:pt x="138" y="28"/>
                    </a:lnTo>
                    <a:lnTo>
                      <a:pt x="133" y="23"/>
                    </a:lnTo>
                    <a:lnTo>
                      <a:pt x="128" y="18"/>
                    </a:lnTo>
                    <a:lnTo>
                      <a:pt x="121" y="14"/>
                    </a:lnTo>
                    <a:lnTo>
                      <a:pt x="115" y="10"/>
                    </a:lnTo>
                    <a:lnTo>
                      <a:pt x="109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6" y="1"/>
                    </a:lnTo>
                    <a:lnTo>
                      <a:pt x="79" y="0"/>
                    </a:lnTo>
                    <a:lnTo>
                      <a:pt x="70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7" y="6"/>
                    </a:lnTo>
                    <a:lnTo>
                      <a:pt x="41" y="10"/>
                    </a:lnTo>
                    <a:lnTo>
                      <a:pt x="35" y="14"/>
                    </a:lnTo>
                    <a:lnTo>
                      <a:pt x="29" y="18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4" y="34"/>
                    </a:lnTo>
                    <a:lnTo>
                      <a:pt x="9" y="40"/>
                    </a:lnTo>
                    <a:lnTo>
                      <a:pt x="6" y="48"/>
                    </a:lnTo>
                    <a:lnTo>
                      <a:pt x="2" y="54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" y="93"/>
                    </a:lnTo>
                    <a:lnTo>
                      <a:pt x="2" y="101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4" y="123"/>
                    </a:lnTo>
                    <a:lnTo>
                      <a:pt x="17" y="129"/>
                    </a:lnTo>
                    <a:lnTo>
                      <a:pt x="22" y="134"/>
                    </a:lnTo>
                    <a:lnTo>
                      <a:pt x="29" y="139"/>
                    </a:lnTo>
                    <a:lnTo>
                      <a:pt x="35" y="144"/>
                    </a:lnTo>
                    <a:lnTo>
                      <a:pt x="41" y="148"/>
                    </a:lnTo>
                    <a:lnTo>
                      <a:pt x="47" y="152"/>
                    </a:lnTo>
                    <a:lnTo>
                      <a:pt x="55" y="154"/>
                    </a:lnTo>
                    <a:lnTo>
                      <a:pt x="62" y="157"/>
                    </a:lnTo>
                    <a:lnTo>
                      <a:pt x="70" y="158"/>
                    </a:lnTo>
                    <a:lnTo>
                      <a:pt x="79" y="158"/>
                    </a:lnTo>
                    <a:lnTo>
                      <a:pt x="86" y="158"/>
                    </a:lnTo>
                    <a:lnTo>
                      <a:pt x="94" y="157"/>
                    </a:lnTo>
                    <a:lnTo>
                      <a:pt x="101" y="154"/>
                    </a:lnTo>
                    <a:lnTo>
                      <a:pt x="109" y="152"/>
                    </a:lnTo>
                    <a:lnTo>
                      <a:pt x="115" y="148"/>
                    </a:lnTo>
                    <a:lnTo>
                      <a:pt x="121" y="144"/>
                    </a:lnTo>
                    <a:lnTo>
                      <a:pt x="128" y="139"/>
                    </a:lnTo>
                    <a:lnTo>
                      <a:pt x="133" y="134"/>
                    </a:lnTo>
                    <a:lnTo>
                      <a:pt x="138" y="129"/>
                    </a:lnTo>
                    <a:lnTo>
                      <a:pt x="143" y="123"/>
                    </a:lnTo>
                    <a:lnTo>
                      <a:pt x="146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4" y="93"/>
                    </a:lnTo>
                    <a:lnTo>
                      <a:pt x="155" y="86"/>
                    </a:lnTo>
                    <a:lnTo>
                      <a:pt x="155" y="78"/>
                    </a:lnTo>
                    <a:lnTo>
                      <a:pt x="155" y="78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3" name=""/>
              <p:cNvSpPr/>
              <p:nvPr/>
            </p:nvSpPr>
            <p:spPr>
              <a:xfrm>
                <a:off x="5177880" y="5796720"/>
                <a:ext cx="293760" cy="80640"/>
              </a:xfrm>
              <a:custGeom>
                <a:avLst/>
                <a:gdLst/>
                <a:ahLst/>
                <a:rect l="l" t="t" r="r" b="b"/>
                <a:pathLst>
                  <a:path w="431" h="146">
                    <a:moveTo>
                      <a:pt x="70" y="32"/>
                    </a:moveTo>
                    <a:lnTo>
                      <a:pt x="42" y="32"/>
                    </a:lnTo>
                    <a:lnTo>
                      <a:pt x="38" y="32"/>
                    </a:lnTo>
                    <a:lnTo>
                      <a:pt x="33" y="33"/>
                    </a:lnTo>
                    <a:lnTo>
                      <a:pt x="29" y="35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3" y="45"/>
                    </a:lnTo>
                    <a:lnTo>
                      <a:pt x="8" y="50"/>
                    </a:lnTo>
                    <a:lnTo>
                      <a:pt x="5" y="53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9"/>
                    </a:lnTo>
                    <a:lnTo>
                      <a:pt x="5" y="93"/>
                    </a:lnTo>
                    <a:lnTo>
                      <a:pt x="8" y="96"/>
                    </a:lnTo>
                    <a:lnTo>
                      <a:pt x="13" y="103"/>
                    </a:lnTo>
                    <a:lnTo>
                      <a:pt x="19" y="108"/>
                    </a:lnTo>
                    <a:lnTo>
                      <a:pt x="22" y="109"/>
                    </a:lnTo>
                    <a:lnTo>
                      <a:pt x="25" y="112"/>
                    </a:lnTo>
                    <a:lnTo>
                      <a:pt x="29" y="113"/>
                    </a:lnTo>
                    <a:lnTo>
                      <a:pt x="33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82" y="114"/>
                    </a:lnTo>
                    <a:lnTo>
                      <a:pt x="82" y="119"/>
                    </a:lnTo>
                    <a:lnTo>
                      <a:pt x="84" y="125"/>
                    </a:lnTo>
                    <a:lnTo>
                      <a:pt x="87" y="131"/>
                    </a:lnTo>
                    <a:lnTo>
                      <a:pt x="92" y="136"/>
                    </a:lnTo>
                    <a:lnTo>
                      <a:pt x="95" y="139"/>
                    </a:lnTo>
                    <a:lnTo>
                      <a:pt x="102" y="142"/>
                    </a:lnTo>
                    <a:lnTo>
                      <a:pt x="108" y="144"/>
                    </a:lnTo>
                    <a:lnTo>
                      <a:pt x="114" y="146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308" y="146"/>
                    </a:lnTo>
                    <a:lnTo>
                      <a:pt x="315" y="146"/>
                    </a:lnTo>
                    <a:lnTo>
                      <a:pt x="318" y="146"/>
                    </a:lnTo>
                    <a:lnTo>
                      <a:pt x="322" y="144"/>
                    </a:lnTo>
                    <a:lnTo>
                      <a:pt x="326" y="143"/>
                    </a:lnTo>
                    <a:lnTo>
                      <a:pt x="328" y="142"/>
                    </a:lnTo>
                    <a:lnTo>
                      <a:pt x="332" y="139"/>
                    </a:lnTo>
                    <a:lnTo>
                      <a:pt x="336" y="137"/>
                    </a:lnTo>
                    <a:lnTo>
                      <a:pt x="338" y="136"/>
                    </a:lnTo>
                    <a:lnTo>
                      <a:pt x="340" y="133"/>
                    </a:lnTo>
                    <a:lnTo>
                      <a:pt x="342" y="131"/>
                    </a:lnTo>
                    <a:lnTo>
                      <a:pt x="345" y="128"/>
                    </a:lnTo>
                    <a:lnTo>
                      <a:pt x="347" y="122"/>
                    </a:lnTo>
                    <a:lnTo>
                      <a:pt x="350" y="114"/>
                    </a:lnTo>
                    <a:lnTo>
                      <a:pt x="350" y="114"/>
                    </a:lnTo>
                    <a:lnTo>
                      <a:pt x="390" y="114"/>
                    </a:lnTo>
                    <a:lnTo>
                      <a:pt x="394" y="114"/>
                    </a:lnTo>
                    <a:lnTo>
                      <a:pt x="399" y="114"/>
                    </a:lnTo>
                    <a:lnTo>
                      <a:pt x="402" y="113"/>
                    </a:lnTo>
                    <a:lnTo>
                      <a:pt x="406" y="112"/>
                    </a:lnTo>
                    <a:lnTo>
                      <a:pt x="410" y="109"/>
                    </a:lnTo>
                    <a:lnTo>
                      <a:pt x="412" y="108"/>
                    </a:lnTo>
                    <a:lnTo>
                      <a:pt x="419" y="103"/>
                    </a:lnTo>
                    <a:lnTo>
                      <a:pt x="424" y="96"/>
                    </a:lnTo>
                    <a:lnTo>
                      <a:pt x="426" y="93"/>
                    </a:lnTo>
                    <a:lnTo>
                      <a:pt x="427" y="89"/>
                    </a:lnTo>
                    <a:lnTo>
                      <a:pt x="429" y="85"/>
                    </a:lnTo>
                    <a:lnTo>
                      <a:pt x="430" y="81"/>
                    </a:lnTo>
                    <a:lnTo>
                      <a:pt x="430" y="77"/>
                    </a:lnTo>
                    <a:lnTo>
                      <a:pt x="431" y="74"/>
                    </a:lnTo>
                    <a:lnTo>
                      <a:pt x="431" y="74"/>
                    </a:lnTo>
                    <a:lnTo>
                      <a:pt x="430" y="69"/>
                    </a:lnTo>
                    <a:lnTo>
                      <a:pt x="430" y="65"/>
                    </a:lnTo>
                    <a:lnTo>
                      <a:pt x="429" y="61"/>
                    </a:lnTo>
                    <a:lnTo>
                      <a:pt x="427" y="57"/>
                    </a:lnTo>
                    <a:lnTo>
                      <a:pt x="426" y="53"/>
                    </a:lnTo>
                    <a:lnTo>
                      <a:pt x="424" y="50"/>
                    </a:lnTo>
                    <a:lnTo>
                      <a:pt x="419" y="45"/>
                    </a:lnTo>
                    <a:lnTo>
                      <a:pt x="412" y="40"/>
                    </a:lnTo>
                    <a:lnTo>
                      <a:pt x="410" y="37"/>
                    </a:lnTo>
                    <a:lnTo>
                      <a:pt x="406" y="36"/>
                    </a:lnTo>
                    <a:lnTo>
                      <a:pt x="402" y="35"/>
                    </a:lnTo>
                    <a:lnTo>
                      <a:pt x="399" y="33"/>
                    </a:lnTo>
                    <a:lnTo>
                      <a:pt x="394" y="32"/>
                    </a:lnTo>
                    <a:lnTo>
                      <a:pt x="390" y="32"/>
                    </a:lnTo>
                    <a:lnTo>
                      <a:pt x="390" y="32"/>
                    </a:lnTo>
                    <a:lnTo>
                      <a:pt x="361" y="32"/>
                    </a:lnTo>
                    <a:lnTo>
                      <a:pt x="360" y="30"/>
                    </a:lnTo>
                    <a:lnTo>
                      <a:pt x="360" y="27"/>
                    </a:lnTo>
                    <a:lnTo>
                      <a:pt x="359" y="24"/>
                    </a:lnTo>
                    <a:lnTo>
                      <a:pt x="357" y="22"/>
                    </a:lnTo>
                    <a:lnTo>
                      <a:pt x="355" y="18"/>
                    </a:lnTo>
                    <a:lnTo>
                      <a:pt x="351" y="14"/>
                    </a:lnTo>
                    <a:lnTo>
                      <a:pt x="349" y="11"/>
                    </a:lnTo>
                    <a:lnTo>
                      <a:pt x="346" y="8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36" y="2"/>
                    </a:lnTo>
                    <a:lnTo>
                      <a:pt x="332" y="2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4" y="18"/>
                    </a:lnTo>
                    <a:lnTo>
                      <a:pt x="73" y="22"/>
                    </a:lnTo>
                    <a:lnTo>
                      <a:pt x="72" y="27"/>
                    </a:lnTo>
                    <a:lnTo>
                      <a:pt x="70" y="32"/>
                    </a:lnTo>
                    <a:lnTo>
                      <a:pt x="70" y="32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4" name=""/>
              <p:cNvSpPr/>
              <p:nvPr/>
            </p:nvSpPr>
            <p:spPr>
              <a:xfrm>
                <a:off x="5530320" y="5801760"/>
                <a:ext cx="295200" cy="68760"/>
              </a:xfrm>
              <a:custGeom>
                <a:avLst/>
                <a:gdLst/>
                <a:ahLst/>
                <a:rect l="l" t="t" r="r" b="b"/>
                <a:pathLst>
                  <a:path w="432" h="125">
                    <a:moveTo>
                      <a:pt x="9" y="125"/>
                    </a:moveTo>
                    <a:lnTo>
                      <a:pt x="423" y="125"/>
                    </a:lnTo>
                    <a:lnTo>
                      <a:pt x="425" y="125"/>
                    </a:lnTo>
                    <a:lnTo>
                      <a:pt x="427" y="125"/>
                    </a:lnTo>
                    <a:lnTo>
                      <a:pt x="428" y="124"/>
                    </a:lnTo>
                    <a:lnTo>
                      <a:pt x="430" y="123"/>
                    </a:lnTo>
                    <a:lnTo>
                      <a:pt x="431" y="122"/>
                    </a:lnTo>
                    <a:lnTo>
                      <a:pt x="432" y="120"/>
                    </a:lnTo>
                    <a:lnTo>
                      <a:pt x="432" y="119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9"/>
                    </a:lnTo>
                    <a:lnTo>
                      <a:pt x="432" y="8"/>
                    </a:lnTo>
                    <a:lnTo>
                      <a:pt x="432" y="7"/>
                    </a:lnTo>
                    <a:lnTo>
                      <a:pt x="431" y="4"/>
                    </a:lnTo>
                    <a:lnTo>
                      <a:pt x="430" y="3"/>
                    </a:lnTo>
                    <a:lnTo>
                      <a:pt x="428" y="2"/>
                    </a:lnTo>
                    <a:lnTo>
                      <a:pt x="427" y="2"/>
                    </a:lnTo>
                    <a:lnTo>
                      <a:pt x="425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2" y="123"/>
                    </a:lnTo>
                    <a:lnTo>
                      <a:pt x="4" y="124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9" y="125"/>
                    </a:lnTo>
                    <a:lnTo>
                      <a:pt x="9" y="125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5" name=""/>
              <p:cNvSpPr/>
              <p:nvPr/>
            </p:nvSpPr>
            <p:spPr>
              <a:xfrm>
                <a:off x="5853240" y="5797440"/>
                <a:ext cx="293760" cy="82440"/>
              </a:xfrm>
              <a:custGeom>
                <a:avLst/>
                <a:gdLst/>
                <a:ahLst/>
                <a:rect l="l" t="t" r="r" b="b"/>
                <a:pathLst>
                  <a:path w="432" h="148">
                    <a:moveTo>
                      <a:pt x="70" y="34"/>
                    </a:moveTo>
                    <a:lnTo>
                      <a:pt x="40" y="34"/>
                    </a:lnTo>
                    <a:lnTo>
                      <a:pt x="36" y="34"/>
                    </a:lnTo>
                    <a:lnTo>
                      <a:pt x="32" y="34"/>
                    </a:lnTo>
                    <a:lnTo>
                      <a:pt x="27" y="35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1" y="45"/>
                    </a:lnTo>
                    <a:lnTo>
                      <a:pt x="6" y="52"/>
                    </a:lnTo>
                    <a:lnTo>
                      <a:pt x="5" y="56"/>
                    </a:lnTo>
                    <a:lnTo>
                      <a:pt x="2" y="59"/>
                    </a:lnTo>
                    <a:lnTo>
                      <a:pt x="1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6"/>
                    </a:lnTo>
                    <a:lnTo>
                      <a:pt x="2" y="90"/>
                    </a:lnTo>
                    <a:lnTo>
                      <a:pt x="5" y="93"/>
                    </a:lnTo>
                    <a:lnTo>
                      <a:pt x="6" y="96"/>
                    </a:lnTo>
                    <a:lnTo>
                      <a:pt x="11" y="102"/>
                    </a:lnTo>
                    <a:lnTo>
                      <a:pt x="17" y="107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2"/>
                    </a:lnTo>
                    <a:lnTo>
                      <a:pt x="32" y="112"/>
                    </a:lnTo>
                    <a:lnTo>
                      <a:pt x="36" y="114"/>
                    </a:lnTo>
                    <a:lnTo>
                      <a:pt x="40" y="114"/>
                    </a:lnTo>
                    <a:lnTo>
                      <a:pt x="40" y="114"/>
                    </a:lnTo>
                    <a:lnTo>
                      <a:pt x="81" y="114"/>
                    </a:lnTo>
                    <a:lnTo>
                      <a:pt x="81" y="119"/>
                    </a:lnTo>
                    <a:lnTo>
                      <a:pt x="82" y="125"/>
                    </a:lnTo>
                    <a:lnTo>
                      <a:pt x="86" y="130"/>
                    </a:lnTo>
                    <a:lnTo>
                      <a:pt x="90" y="135"/>
                    </a:lnTo>
                    <a:lnTo>
                      <a:pt x="95" y="139"/>
                    </a:lnTo>
                    <a:lnTo>
                      <a:pt x="97" y="141"/>
                    </a:lnTo>
                    <a:lnTo>
                      <a:pt x="101" y="143"/>
                    </a:lnTo>
                    <a:lnTo>
                      <a:pt x="104" y="145"/>
                    </a:lnTo>
                    <a:lnTo>
                      <a:pt x="106" y="145"/>
                    </a:lnTo>
                    <a:lnTo>
                      <a:pt x="110" y="146"/>
                    </a:lnTo>
                    <a:lnTo>
                      <a:pt x="112" y="148"/>
                    </a:lnTo>
                    <a:lnTo>
                      <a:pt x="119" y="148"/>
                    </a:lnTo>
                    <a:lnTo>
                      <a:pt x="119" y="148"/>
                    </a:lnTo>
                    <a:lnTo>
                      <a:pt x="307" y="148"/>
                    </a:lnTo>
                    <a:lnTo>
                      <a:pt x="312" y="148"/>
                    </a:lnTo>
                    <a:lnTo>
                      <a:pt x="315" y="146"/>
                    </a:lnTo>
                    <a:lnTo>
                      <a:pt x="319" y="146"/>
                    </a:lnTo>
                    <a:lnTo>
                      <a:pt x="323" y="145"/>
                    </a:lnTo>
                    <a:lnTo>
                      <a:pt x="329" y="141"/>
                    </a:lnTo>
                    <a:lnTo>
                      <a:pt x="334" y="139"/>
                    </a:lnTo>
                    <a:lnTo>
                      <a:pt x="339" y="133"/>
                    </a:lnTo>
                    <a:lnTo>
                      <a:pt x="342" y="130"/>
                    </a:lnTo>
                    <a:lnTo>
                      <a:pt x="344" y="128"/>
                    </a:lnTo>
                    <a:lnTo>
                      <a:pt x="345" y="124"/>
                    </a:lnTo>
                    <a:lnTo>
                      <a:pt x="347" y="120"/>
                    </a:lnTo>
                    <a:lnTo>
                      <a:pt x="348" y="117"/>
                    </a:lnTo>
                    <a:lnTo>
                      <a:pt x="348" y="114"/>
                    </a:lnTo>
                    <a:lnTo>
                      <a:pt x="348" y="114"/>
                    </a:lnTo>
                    <a:lnTo>
                      <a:pt x="390" y="114"/>
                    </a:lnTo>
                    <a:lnTo>
                      <a:pt x="395" y="114"/>
                    </a:lnTo>
                    <a:lnTo>
                      <a:pt x="399" y="112"/>
                    </a:lnTo>
                    <a:lnTo>
                      <a:pt x="403" y="112"/>
                    </a:lnTo>
                    <a:lnTo>
                      <a:pt x="407" y="110"/>
                    </a:lnTo>
                    <a:lnTo>
                      <a:pt x="411" y="109"/>
                    </a:lnTo>
                    <a:lnTo>
                      <a:pt x="413" y="107"/>
                    </a:lnTo>
                    <a:lnTo>
                      <a:pt x="419" y="102"/>
                    </a:lnTo>
                    <a:lnTo>
                      <a:pt x="424" y="96"/>
                    </a:lnTo>
                    <a:lnTo>
                      <a:pt x="427" y="93"/>
                    </a:lnTo>
                    <a:lnTo>
                      <a:pt x="428" y="90"/>
                    </a:lnTo>
                    <a:lnTo>
                      <a:pt x="429" y="86"/>
                    </a:lnTo>
                    <a:lnTo>
                      <a:pt x="431" y="82"/>
                    </a:lnTo>
                    <a:lnTo>
                      <a:pt x="432" y="78"/>
                    </a:lnTo>
                    <a:lnTo>
                      <a:pt x="432" y="74"/>
                    </a:lnTo>
                    <a:lnTo>
                      <a:pt x="432" y="74"/>
                    </a:lnTo>
                    <a:lnTo>
                      <a:pt x="432" y="71"/>
                    </a:lnTo>
                    <a:lnTo>
                      <a:pt x="431" y="67"/>
                    </a:lnTo>
                    <a:lnTo>
                      <a:pt x="429" y="63"/>
                    </a:lnTo>
                    <a:lnTo>
                      <a:pt x="428" y="59"/>
                    </a:lnTo>
                    <a:lnTo>
                      <a:pt x="427" y="56"/>
                    </a:lnTo>
                    <a:lnTo>
                      <a:pt x="424" y="52"/>
                    </a:lnTo>
                    <a:lnTo>
                      <a:pt x="419" y="45"/>
                    </a:lnTo>
                    <a:lnTo>
                      <a:pt x="413" y="40"/>
                    </a:lnTo>
                    <a:lnTo>
                      <a:pt x="411" y="39"/>
                    </a:lnTo>
                    <a:lnTo>
                      <a:pt x="407" y="37"/>
                    </a:lnTo>
                    <a:lnTo>
                      <a:pt x="403" y="35"/>
                    </a:lnTo>
                    <a:lnTo>
                      <a:pt x="399" y="34"/>
                    </a:lnTo>
                    <a:lnTo>
                      <a:pt x="395" y="34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59" y="34"/>
                    </a:lnTo>
                    <a:lnTo>
                      <a:pt x="359" y="29"/>
                    </a:lnTo>
                    <a:lnTo>
                      <a:pt x="358" y="24"/>
                    </a:lnTo>
                    <a:lnTo>
                      <a:pt x="355" y="19"/>
                    </a:lnTo>
                    <a:lnTo>
                      <a:pt x="353" y="14"/>
                    </a:lnTo>
                    <a:lnTo>
                      <a:pt x="349" y="11"/>
                    </a:lnTo>
                    <a:lnTo>
                      <a:pt x="347" y="9"/>
                    </a:lnTo>
                    <a:lnTo>
                      <a:pt x="343" y="6"/>
                    </a:lnTo>
                    <a:lnTo>
                      <a:pt x="339" y="4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107" y="0"/>
                    </a:lnTo>
                    <a:lnTo>
                      <a:pt x="104" y="0"/>
                    </a:lnTo>
                    <a:lnTo>
                      <a:pt x="100" y="1"/>
                    </a:lnTo>
                    <a:lnTo>
                      <a:pt x="95" y="3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9"/>
                    </a:lnTo>
                    <a:lnTo>
                      <a:pt x="81" y="11"/>
                    </a:lnTo>
                    <a:lnTo>
                      <a:pt x="78" y="14"/>
                    </a:lnTo>
                    <a:lnTo>
                      <a:pt x="76" y="19"/>
                    </a:lnTo>
                    <a:lnTo>
                      <a:pt x="73" y="24"/>
                    </a:lnTo>
                    <a:lnTo>
                      <a:pt x="71" y="29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6177240" y="5783040"/>
                <a:ext cx="140760" cy="92520"/>
              </a:xfrm>
              <a:custGeom>
                <a:avLst/>
                <a:gdLst/>
                <a:ahLst/>
                <a:rect l="l" t="t" r="r" b="b"/>
                <a:pathLst>
                  <a:path w="208" h="167">
                    <a:moveTo>
                      <a:pt x="208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208" y="167"/>
                    </a:lnTo>
                    <a:lnTo>
                      <a:pt x="208" y="0"/>
                    </a:lnTo>
                    <a:lnTo>
                      <a:pt x="20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7" name=""/>
              <p:cNvSpPr/>
              <p:nvPr/>
            </p:nvSpPr>
            <p:spPr>
              <a:xfrm>
                <a:off x="5989680" y="5352120"/>
                <a:ext cx="65520" cy="6192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99" y="0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1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7" y="109"/>
                    </a:lnTo>
                    <a:lnTo>
                      <a:pt x="10" y="111"/>
                    </a:lnTo>
                    <a:lnTo>
                      <a:pt x="14" y="111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99" y="11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8" name=""/>
              <p:cNvSpPr/>
              <p:nvPr/>
            </p:nvSpPr>
            <p:spPr>
              <a:xfrm>
                <a:off x="5989680" y="5673960"/>
                <a:ext cx="65520" cy="6120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99" y="0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10" y="109"/>
                    </a:lnTo>
                    <a:lnTo>
                      <a:pt x="14" y="111"/>
                    </a:lnTo>
                    <a:lnTo>
                      <a:pt x="17" y="111"/>
                    </a:lnTo>
                    <a:lnTo>
                      <a:pt x="17" y="111"/>
                    </a:lnTo>
                    <a:lnTo>
                      <a:pt x="99" y="111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9" name=""/>
              <p:cNvSpPr/>
              <p:nvPr/>
            </p:nvSpPr>
            <p:spPr>
              <a:xfrm>
                <a:off x="4016520" y="5841000"/>
                <a:ext cx="84600" cy="2556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0"/>
                    </a:moveTo>
                    <a:lnTo>
                      <a:pt x="0" y="45"/>
                    </a:lnTo>
                    <a:lnTo>
                      <a:pt x="125" y="45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0" name=""/>
              <p:cNvSpPr/>
              <p:nvPr/>
            </p:nvSpPr>
            <p:spPr>
              <a:xfrm>
                <a:off x="4575600" y="5841000"/>
                <a:ext cx="82080" cy="2556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0" y="0"/>
                    </a:moveTo>
                    <a:lnTo>
                      <a:pt x="0" y="45"/>
                    </a:lnTo>
                    <a:lnTo>
                      <a:pt x="123" y="45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4844520" y="580176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9997c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2" name=""/>
              <p:cNvSpPr/>
              <p:nvPr/>
            </p:nvSpPr>
            <p:spPr>
              <a:xfrm>
                <a:off x="4844520" y="580176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3" name=""/>
              <p:cNvSpPr/>
              <p:nvPr/>
            </p:nvSpPr>
            <p:spPr>
              <a:xfrm>
                <a:off x="5862600" y="582156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4" name=""/>
              <p:cNvSpPr/>
              <p:nvPr/>
            </p:nvSpPr>
            <p:spPr>
              <a:xfrm>
                <a:off x="5862600" y="582156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6099480" y="582156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6099480" y="582156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7" name=""/>
              <p:cNvSpPr/>
              <p:nvPr/>
            </p:nvSpPr>
            <p:spPr>
              <a:xfrm>
                <a:off x="5920200" y="581040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8" name=""/>
              <p:cNvSpPr/>
              <p:nvPr/>
            </p:nvSpPr>
            <p:spPr>
              <a:xfrm>
                <a:off x="5920200" y="581040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9" name=""/>
              <p:cNvSpPr/>
              <p:nvPr/>
            </p:nvSpPr>
            <p:spPr>
              <a:xfrm>
                <a:off x="5187600" y="581904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30" name=""/>
              <p:cNvSpPr/>
              <p:nvPr/>
            </p:nvSpPr>
            <p:spPr>
              <a:xfrm>
                <a:off x="5187600" y="581904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5424120" y="581904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32" name=""/>
              <p:cNvSpPr/>
              <p:nvPr/>
            </p:nvSpPr>
            <p:spPr>
              <a:xfrm>
                <a:off x="5424120" y="581904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33" name=""/>
              <p:cNvSpPr/>
              <p:nvPr/>
            </p:nvSpPr>
            <p:spPr>
              <a:xfrm>
                <a:off x="5244840" y="580680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34" name=""/>
              <p:cNvSpPr/>
              <p:nvPr/>
            </p:nvSpPr>
            <p:spPr>
              <a:xfrm>
                <a:off x="5244840" y="580680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35" name=""/>
              <p:cNvSpPr/>
              <p:nvPr/>
            </p:nvSpPr>
            <p:spPr>
              <a:xfrm>
                <a:off x="5261760" y="5822280"/>
                <a:ext cx="127800" cy="30600"/>
              </a:xfrm>
              <a:custGeom>
                <a:avLst/>
                <a:gdLst/>
                <a:ahLst/>
                <a:rect l="l" t="t" r="r" b="b"/>
                <a:pathLst>
                  <a:path w="188" h="57">
                    <a:moveTo>
                      <a:pt x="174" y="6"/>
                    </a:moveTo>
                    <a:lnTo>
                      <a:pt x="174" y="9"/>
                    </a:lnTo>
                    <a:lnTo>
                      <a:pt x="175" y="11"/>
                    </a:lnTo>
                    <a:lnTo>
                      <a:pt x="178" y="13"/>
                    </a:lnTo>
                    <a:lnTo>
                      <a:pt x="179" y="14"/>
                    </a:lnTo>
                    <a:lnTo>
                      <a:pt x="180" y="14"/>
                    </a:lnTo>
                    <a:lnTo>
                      <a:pt x="182" y="14"/>
                    </a:lnTo>
                    <a:lnTo>
                      <a:pt x="183" y="13"/>
                    </a:lnTo>
                    <a:lnTo>
                      <a:pt x="185" y="11"/>
                    </a:lnTo>
                    <a:lnTo>
                      <a:pt x="187" y="9"/>
                    </a:lnTo>
                    <a:lnTo>
                      <a:pt x="188" y="7"/>
                    </a:lnTo>
                    <a:lnTo>
                      <a:pt x="188" y="6"/>
                    </a:lnTo>
                    <a:lnTo>
                      <a:pt x="188" y="5"/>
                    </a:lnTo>
                    <a:lnTo>
                      <a:pt x="187" y="4"/>
                    </a:lnTo>
                    <a:lnTo>
                      <a:pt x="185" y="1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5" y="1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close/>
                    <a:moveTo>
                      <a:pt x="20" y="50"/>
                    </a:moveTo>
                    <a:lnTo>
                      <a:pt x="20" y="50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25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7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4" y="45"/>
                    </a:lnTo>
                    <a:lnTo>
                      <a:pt x="30" y="44"/>
                    </a:lnTo>
                    <a:lnTo>
                      <a:pt x="28" y="43"/>
                    </a:lnTo>
                    <a:lnTo>
                      <a:pt x="25" y="44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0"/>
                    </a:lnTo>
                    <a:close/>
                    <a:moveTo>
                      <a:pt x="65" y="50"/>
                    </a:moveTo>
                    <a:lnTo>
                      <a:pt x="66" y="52"/>
                    </a:lnTo>
                    <a:lnTo>
                      <a:pt x="68" y="54"/>
                    </a:lnTo>
                    <a:lnTo>
                      <a:pt x="69" y="57"/>
                    </a:lnTo>
                    <a:lnTo>
                      <a:pt x="70" y="57"/>
                    </a:lnTo>
                    <a:lnTo>
                      <a:pt x="73" y="57"/>
                    </a:lnTo>
                    <a:lnTo>
                      <a:pt x="73" y="57"/>
                    </a:lnTo>
                    <a:lnTo>
                      <a:pt x="74" y="57"/>
                    </a:lnTo>
                    <a:lnTo>
                      <a:pt x="76" y="54"/>
                    </a:lnTo>
                    <a:lnTo>
                      <a:pt x="79" y="52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3" y="43"/>
                    </a:lnTo>
                    <a:lnTo>
                      <a:pt x="69" y="44"/>
                    </a:lnTo>
                    <a:lnTo>
                      <a:pt x="68" y="45"/>
                    </a:lnTo>
                    <a:lnTo>
                      <a:pt x="66" y="47"/>
                    </a:lnTo>
                    <a:lnTo>
                      <a:pt x="65" y="50"/>
                    </a:lnTo>
                    <a:lnTo>
                      <a:pt x="65" y="50"/>
                    </a:lnTo>
                    <a:close/>
                    <a:moveTo>
                      <a:pt x="109" y="50"/>
                    </a:moveTo>
                    <a:lnTo>
                      <a:pt x="109" y="52"/>
                    </a:lnTo>
                    <a:lnTo>
                      <a:pt x="110" y="54"/>
                    </a:lnTo>
                    <a:lnTo>
                      <a:pt x="113" y="57"/>
                    </a:lnTo>
                    <a:lnTo>
                      <a:pt x="114" y="57"/>
                    </a:lnTo>
                    <a:lnTo>
                      <a:pt x="115" y="57"/>
                    </a:lnTo>
                    <a:lnTo>
                      <a:pt x="117" y="57"/>
                    </a:lnTo>
                    <a:lnTo>
                      <a:pt x="118" y="57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2" y="47"/>
                    </a:lnTo>
                    <a:lnTo>
                      <a:pt x="120" y="45"/>
                    </a:lnTo>
                    <a:lnTo>
                      <a:pt x="118" y="44"/>
                    </a:lnTo>
                    <a:lnTo>
                      <a:pt x="115" y="43"/>
                    </a:lnTo>
                    <a:lnTo>
                      <a:pt x="113" y="44"/>
                    </a:lnTo>
                    <a:lnTo>
                      <a:pt x="110" y="45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9" y="50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4" y="9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6" y="6"/>
                    </a:moveTo>
                    <a:lnTo>
                      <a:pt x="86" y="7"/>
                    </a:lnTo>
                    <a:lnTo>
                      <a:pt x="86" y="9"/>
                    </a:lnTo>
                    <a:lnTo>
                      <a:pt x="89" y="11"/>
                    </a:lnTo>
                    <a:lnTo>
                      <a:pt x="90" y="13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3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1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6"/>
                    </a:lnTo>
                    <a:lnTo>
                      <a:pt x="86" y="6"/>
                    </a:lnTo>
                    <a:close/>
                    <a:moveTo>
                      <a:pt x="132" y="6"/>
                    </a:moveTo>
                    <a:lnTo>
                      <a:pt x="132" y="9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7" y="14"/>
                    </a:lnTo>
                    <a:lnTo>
                      <a:pt x="138" y="14"/>
                    </a:lnTo>
                    <a:lnTo>
                      <a:pt x="139" y="14"/>
                    </a:lnTo>
                    <a:lnTo>
                      <a:pt x="140" y="13"/>
                    </a:lnTo>
                    <a:lnTo>
                      <a:pt x="143" y="11"/>
                    </a:lnTo>
                    <a:lnTo>
                      <a:pt x="144" y="9"/>
                    </a:lnTo>
                    <a:lnTo>
                      <a:pt x="144" y="7"/>
                    </a:lnTo>
                    <a:lnTo>
                      <a:pt x="145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3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3" y="1"/>
                    </a:lnTo>
                    <a:lnTo>
                      <a:pt x="132" y="4"/>
                    </a:lnTo>
                    <a:lnTo>
                      <a:pt x="132" y="6"/>
                    </a:lnTo>
                    <a:lnTo>
                      <a:pt x="132" y="6"/>
                    </a:lnTo>
                    <a:close/>
                    <a:moveTo>
                      <a:pt x="152" y="50"/>
                    </a:moveTo>
                    <a:lnTo>
                      <a:pt x="152" y="52"/>
                    </a:lnTo>
                    <a:lnTo>
                      <a:pt x="153" y="54"/>
                    </a:lnTo>
                    <a:lnTo>
                      <a:pt x="155" y="57"/>
                    </a:lnTo>
                    <a:lnTo>
                      <a:pt x="157" y="57"/>
                    </a:lnTo>
                    <a:lnTo>
                      <a:pt x="158" y="57"/>
                    </a:lnTo>
                    <a:lnTo>
                      <a:pt x="160" y="57"/>
                    </a:lnTo>
                    <a:lnTo>
                      <a:pt x="162" y="57"/>
                    </a:lnTo>
                    <a:lnTo>
                      <a:pt x="163" y="54"/>
                    </a:lnTo>
                    <a:lnTo>
                      <a:pt x="164" y="52"/>
                    </a:lnTo>
                    <a:lnTo>
                      <a:pt x="165" y="50"/>
                    </a:lnTo>
                    <a:lnTo>
                      <a:pt x="164" y="47"/>
                    </a:lnTo>
                    <a:lnTo>
                      <a:pt x="163" y="45"/>
                    </a:lnTo>
                    <a:lnTo>
                      <a:pt x="162" y="44"/>
                    </a:lnTo>
                    <a:lnTo>
                      <a:pt x="158" y="43"/>
                    </a:lnTo>
                    <a:lnTo>
                      <a:pt x="155" y="44"/>
                    </a:lnTo>
                    <a:lnTo>
                      <a:pt x="153" y="45"/>
                    </a:lnTo>
                    <a:lnTo>
                      <a:pt x="152" y="47"/>
                    </a:lnTo>
                    <a:lnTo>
                      <a:pt x="152" y="50"/>
                    </a:lnTo>
                    <a:lnTo>
                      <a:pt x="152" y="50"/>
                    </a:lnTo>
                    <a:close/>
                  </a:path>
                </a:pathLst>
              </a:custGeom>
              <a:solidFill>
                <a:srgbClr val="f7eeb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5537880" y="5811120"/>
                <a:ext cx="122760" cy="59400"/>
              </a:xfrm>
              <a:custGeom>
                <a:avLst/>
                <a:gdLst/>
                <a:ahLst/>
                <a:rect l="l" t="t" r="r" b="b"/>
                <a:pathLst>
                  <a:path w="181" h="108">
                    <a:moveTo>
                      <a:pt x="181" y="36"/>
                    </a:moveTo>
                    <a:lnTo>
                      <a:pt x="181" y="36"/>
                    </a:lnTo>
                    <a:lnTo>
                      <a:pt x="181" y="30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3"/>
                    </a:lnTo>
                    <a:lnTo>
                      <a:pt x="36" y="97"/>
                    </a:lnTo>
                    <a:lnTo>
                      <a:pt x="36" y="99"/>
                    </a:lnTo>
                    <a:lnTo>
                      <a:pt x="36" y="102"/>
                    </a:lnTo>
                    <a:lnTo>
                      <a:pt x="36" y="105"/>
                    </a:lnTo>
                    <a:lnTo>
                      <a:pt x="36" y="106"/>
                    </a:lnTo>
                    <a:lnTo>
                      <a:pt x="36" y="107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7"/>
                    </a:lnTo>
                    <a:lnTo>
                      <a:pt x="181" y="106"/>
                    </a:lnTo>
                    <a:lnTo>
                      <a:pt x="181" y="105"/>
                    </a:lnTo>
                    <a:lnTo>
                      <a:pt x="181" y="102"/>
                    </a:lnTo>
                    <a:lnTo>
                      <a:pt x="181" y="99"/>
                    </a:lnTo>
                    <a:lnTo>
                      <a:pt x="181" y="97"/>
                    </a:lnTo>
                    <a:lnTo>
                      <a:pt x="181" y="93"/>
                    </a:lnTo>
                    <a:lnTo>
                      <a:pt x="181" y="89"/>
                    </a:lnTo>
                    <a:lnTo>
                      <a:pt x="181" y="84"/>
                    </a:lnTo>
                    <a:lnTo>
                      <a:pt x="181" y="79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36"/>
                    </a:lnTo>
                    <a:lnTo>
                      <a:pt x="181" y="36"/>
                    </a:lnTo>
                    <a:lnTo>
                      <a:pt x="18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453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537880" y="5790600"/>
                <a:ext cx="12276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538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5537880" y="5790600"/>
                <a:ext cx="12276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539" name=""/>
              <p:cNvSpPr/>
              <p:nvPr/>
            </p:nvSpPr>
            <p:spPr>
              <a:xfrm>
                <a:off x="5537880" y="5810400"/>
                <a:ext cx="120240" cy="44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5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1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1" y="77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4540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5686200" y="5790600"/>
                <a:ext cx="12132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541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5686200" y="5790600"/>
                <a:ext cx="12132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542" name=""/>
              <p:cNvSpPr/>
              <p:nvPr/>
            </p:nvSpPr>
            <p:spPr>
              <a:xfrm>
                <a:off x="5695560" y="5810400"/>
                <a:ext cx="121680" cy="44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10" y="76"/>
                    </a:lnTo>
                    <a:lnTo>
                      <a:pt x="10" y="78"/>
                    </a:lnTo>
                    <a:lnTo>
                      <a:pt x="11" y="81"/>
                    </a:lnTo>
                    <a:lnTo>
                      <a:pt x="14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9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4543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6350400" y="5811120"/>
                <a:ext cx="74160" cy="594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544" name=""/>
              <p:cNvSpPr/>
              <p:nvPr/>
            </p:nvSpPr>
            <p:spPr>
              <a:xfrm>
                <a:off x="6352560" y="5819040"/>
                <a:ext cx="68040" cy="5760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101" y="53"/>
                    </a:moveTo>
                    <a:lnTo>
                      <a:pt x="101" y="48"/>
                    </a:lnTo>
                    <a:lnTo>
                      <a:pt x="100" y="42"/>
                    </a:lnTo>
                    <a:lnTo>
                      <a:pt x="100" y="36"/>
                    </a:lnTo>
                    <a:lnTo>
                      <a:pt x="97" y="33"/>
                    </a:lnTo>
                    <a:lnTo>
                      <a:pt x="95" y="28"/>
                    </a:lnTo>
                    <a:lnTo>
                      <a:pt x="92" y="23"/>
                    </a:lnTo>
                    <a:lnTo>
                      <a:pt x="90" y="19"/>
                    </a:lnTo>
                    <a:lnTo>
                      <a:pt x="87" y="15"/>
                    </a:lnTo>
                    <a:lnTo>
                      <a:pt x="83" y="12"/>
                    </a:lnTo>
                    <a:lnTo>
                      <a:pt x="80" y="9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6" y="2"/>
                    </a:lnTo>
                    <a:lnTo>
                      <a:pt x="62" y="1"/>
                    </a:lnTo>
                    <a:lnTo>
                      <a:pt x="57" y="1"/>
                    </a:lnTo>
                    <a:lnTo>
                      <a:pt x="52" y="0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2"/>
                    </a:lnTo>
                    <a:lnTo>
                      <a:pt x="15" y="15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6" y="28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6" y="77"/>
                    </a:lnTo>
                    <a:lnTo>
                      <a:pt x="8" y="81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8" y="91"/>
                    </a:lnTo>
                    <a:lnTo>
                      <a:pt x="22" y="95"/>
                    </a:lnTo>
                    <a:lnTo>
                      <a:pt x="27" y="97"/>
                    </a:lnTo>
                    <a:lnTo>
                      <a:pt x="31" y="98"/>
                    </a:lnTo>
                    <a:lnTo>
                      <a:pt x="36" y="101"/>
                    </a:lnTo>
                    <a:lnTo>
                      <a:pt x="41" y="102"/>
                    </a:lnTo>
                    <a:lnTo>
                      <a:pt x="46" y="102"/>
                    </a:lnTo>
                    <a:lnTo>
                      <a:pt x="52" y="103"/>
                    </a:lnTo>
                    <a:lnTo>
                      <a:pt x="57" y="102"/>
                    </a:lnTo>
                    <a:lnTo>
                      <a:pt x="62" y="102"/>
                    </a:lnTo>
                    <a:lnTo>
                      <a:pt x="66" y="101"/>
                    </a:lnTo>
                    <a:lnTo>
                      <a:pt x="71" y="98"/>
                    </a:lnTo>
                    <a:lnTo>
                      <a:pt x="75" y="97"/>
                    </a:lnTo>
                    <a:lnTo>
                      <a:pt x="80" y="95"/>
                    </a:lnTo>
                    <a:lnTo>
                      <a:pt x="83" y="91"/>
                    </a:lnTo>
                    <a:lnTo>
                      <a:pt x="87" y="88"/>
                    </a:lnTo>
                    <a:lnTo>
                      <a:pt x="90" y="84"/>
                    </a:lnTo>
                    <a:lnTo>
                      <a:pt x="92" y="81"/>
                    </a:lnTo>
                    <a:lnTo>
                      <a:pt x="95" y="77"/>
                    </a:lnTo>
                    <a:lnTo>
                      <a:pt x="97" y="72"/>
                    </a:lnTo>
                    <a:lnTo>
                      <a:pt x="100" y="68"/>
                    </a:lnTo>
                    <a:lnTo>
                      <a:pt x="100" y="63"/>
                    </a:lnTo>
                    <a:lnTo>
                      <a:pt x="101" y="58"/>
                    </a:lnTo>
                    <a:lnTo>
                      <a:pt x="101" y="5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4545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6350400" y="5811120"/>
                <a:ext cx="48960" cy="399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546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6350400" y="5811120"/>
                <a:ext cx="48960" cy="399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547" name=""/>
              <p:cNvSpPr/>
              <p:nvPr/>
            </p:nvSpPr>
            <p:spPr>
              <a:xfrm>
                <a:off x="6364800" y="5829840"/>
                <a:ext cx="43920" cy="3636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lnTo>
                      <a:pt x="66" y="30"/>
                    </a:lnTo>
                    <a:lnTo>
                      <a:pt x="65" y="26"/>
                    </a:lnTo>
                    <a:lnTo>
                      <a:pt x="64" y="20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" y="52"/>
                    </a:lnTo>
                    <a:lnTo>
                      <a:pt x="10" y="57"/>
                    </a:lnTo>
                    <a:lnTo>
                      <a:pt x="15" y="60"/>
                    </a:lnTo>
                    <a:lnTo>
                      <a:pt x="20" y="63"/>
                    </a:lnTo>
                    <a:lnTo>
                      <a:pt x="28" y="65"/>
                    </a:lnTo>
                    <a:lnTo>
                      <a:pt x="31" y="65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41" y="65"/>
                    </a:lnTo>
                    <a:lnTo>
                      <a:pt x="48" y="63"/>
                    </a:lnTo>
                    <a:lnTo>
                      <a:pt x="53" y="60"/>
                    </a:lnTo>
                    <a:lnTo>
                      <a:pt x="58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5" y="40"/>
                    </a:lnTo>
                    <a:lnTo>
                      <a:pt x="66" y="38"/>
                    </a:lnTo>
                    <a:lnTo>
                      <a:pt x="66" y="3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48" name=""/>
              <p:cNvSpPr/>
              <p:nvPr/>
            </p:nvSpPr>
            <p:spPr>
              <a:xfrm>
                <a:off x="6217920" y="591012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49" name=""/>
              <p:cNvSpPr/>
              <p:nvPr/>
            </p:nvSpPr>
            <p:spPr>
              <a:xfrm>
                <a:off x="6190200" y="5800320"/>
                <a:ext cx="23760" cy="7200"/>
              </a:xfrm>
              <a:prstGeom prst="rect">
                <a:avLst/>
              </a:prstGeom>
              <a:solidFill>
                <a:srgbClr val="eadb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0" name=""/>
              <p:cNvSpPr/>
              <p:nvPr/>
            </p:nvSpPr>
            <p:spPr>
              <a:xfrm>
                <a:off x="6190200" y="5800320"/>
                <a:ext cx="23760" cy="7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5018040" y="580176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  <a:close/>
                  </a:path>
                </a:pathLst>
              </a:custGeom>
              <a:solidFill>
                <a:srgbClr val="bcedc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2" name=""/>
              <p:cNvSpPr/>
              <p:nvPr/>
            </p:nvSpPr>
            <p:spPr>
              <a:xfrm>
                <a:off x="5018040" y="580176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3" name=""/>
              <p:cNvSpPr/>
              <p:nvPr/>
            </p:nvSpPr>
            <p:spPr>
              <a:xfrm>
                <a:off x="5281920" y="5906520"/>
                <a:ext cx="739800" cy="28800"/>
              </a:xfrm>
              <a:custGeom>
                <a:avLst/>
                <a:gdLst/>
                <a:ahLst/>
                <a:rect l="l" t="t" r="r" b="b"/>
                <a:pathLst>
                  <a:path w="1087" h="51">
                    <a:moveTo>
                      <a:pt x="0" y="45"/>
                    </a:moveTo>
                    <a:lnTo>
                      <a:pt x="7" y="45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  <a:moveTo>
                      <a:pt x="50" y="25"/>
                    </a:moveTo>
                    <a:lnTo>
                      <a:pt x="50" y="21"/>
                    </a:lnTo>
                    <a:lnTo>
                      <a:pt x="49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7" y="33"/>
                    </a:lnTo>
                    <a:lnTo>
                      <a:pt x="20" y="36"/>
                    </a:lnTo>
                    <a:lnTo>
                      <a:pt x="22" y="39"/>
                    </a:lnTo>
                    <a:lnTo>
                      <a:pt x="25" y="41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  <a:moveTo>
                      <a:pt x="44" y="25"/>
                    </a:moveTo>
                    <a:lnTo>
                      <a:pt x="44" y="27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30" y="35"/>
                    </a:lnTo>
                    <a:lnTo>
                      <a:pt x="27" y="34"/>
                    </a:lnTo>
                    <a:lnTo>
                      <a:pt x="26" y="33"/>
                    </a:lnTo>
                    <a:lnTo>
                      <a:pt x="25" y="31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2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6" y="16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  <a:moveTo>
                      <a:pt x="59" y="45"/>
                    </a:moveTo>
                    <a:lnTo>
                      <a:pt x="66" y="45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9" y="45"/>
                    </a:lnTo>
                    <a:lnTo>
                      <a:pt x="59" y="45"/>
                    </a:lnTo>
                    <a:close/>
                    <a:moveTo>
                      <a:pt x="109" y="25"/>
                    </a:moveTo>
                    <a:lnTo>
                      <a:pt x="109" y="21"/>
                    </a:lnTo>
                    <a:lnTo>
                      <a:pt x="108" y="19"/>
                    </a:lnTo>
                    <a:lnTo>
                      <a:pt x="106" y="15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7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1" y="12"/>
                    </a:lnTo>
                    <a:lnTo>
                      <a:pt x="79" y="15"/>
                    </a:lnTo>
                    <a:lnTo>
                      <a:pt x="76" y="19"/>
                    </a:lnTo>
                    <a:lnTo>
                      <a:pt x="75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6" y="33"/>
                    </a:lnTo>
                    <a:lnTo>
                      <a:pt x="79" y="36"/>
                    </a:lnTo>
                    <a:lnTo>
                      <a:pt x="81" y="39"/>
                    </a:lnTo>
                    <a:lnTo>
                      <a:pt x="84" y="41"/>
                    </a:lnTo>
                    <a:lnTo>
                      <a:pt x="86" y="44"/>
                    </a:lnTo>
                    <a:lnTo>
                      <a:pt x="90" y="45"/>
                    </a:lnTo>
                    <a:lnTo>
                      <a:pt x="93" y="45"/>
                    </a:lnTo>
                    <a:lnTo>
                      <a:pt x="96" y="45"/>
                    </a:lnTo>
                    <a:lnTo>
                      <a:pt x="100" y="44"/>
                    </a:lnTo>
                    <a:lnTo>
                      <a:pt x="103" y="41"/>
                    </a:lnTo>
                    <a:lnTo>
                      <a:pt x="105" y="39"/>
                    </a:lnTo>
                    <a:lnTo>
                      <a:pt x="106" y="36"/>
                    </a:lnTo>
                    <a:lnTo>
                      <a:pt x="108" y="33"/>
                    </a:lnTo>
                    <a:lnTo>
                      <a:pt x="109" y="29"/>
                    </a:lnTo>
                    <a:lnTo>
                      <a:pt x="109" y="25"/>
                    </a:lnTo>
                    <a:lnTo>
                      <a:pt x="109" y="25"/>
                    </a:lnTo>
                    <a:close/>
                    <a:moveTo>
                      <a:pt x="103" y="25"/>
                    </a:moveTo>
                    <a:lnTo>
                      <a:pt x="103" y="27"/>
                    </a:lnTo>
                    <a:lnTo>
                      <a:pt x="101" y="30"/>
                    </a:lnTo>
                    <a:lnTo>
                      <a:pt x="100" y="31"/>
                    </a:lnTo>
                    <a:lnTo>
                      <a:pt x="99" y="33"/>
                    </a:lnTo>
                    <a:lnTo>
                      <a:pt x="98" y="34"/>
                    </a:lnTo>
                    <a:lnTo>
                      <a:pt x="96" y="35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1" y="36"/>
                    </a:lnTo>
                    <a:lnTo>
                      <a:pt x="89" y="35"/>
                    </a:lnTo>
                    <a:lnTo>
                      <a:pt x="86" y="34"/>
                    </a:lnTo>
                    <a:lnTo>
                      <a:pt x="85" y="33"/>
                    </a:lnTo>
                    <a:lnTo>
                      <a:pt x="84" y="31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1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4" y="19"/>
                    </a:lnTo>
                    <a:lnTo>
                      <a:pt x="85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0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  <a:moveTo>
                      <a:pt x="118" y="45"/>
                    </a:moveTo>
                    <a:lnTo>
                      <a:pt x="125" y="45"/>
                    </a:lnTo>
                    <a:lnTo>
                      <a:pt x="125" y="6"/>
                    </a:lnTo>
                    <a:lnTo>
                      <a:pt x="118" y="6"/>
                    </a:lnTo>
                    <a:lnTo>
                      <a:pt x="118" y="45"/>
                    </a:lnTo>
                    <a:lnTo>
                      <a:pt x="118" y="45"/>
                    </a:lnTo>
                    <a:close/>
                    <a:moveTo>
                      <a:pt x="502" y="25"/>
                    </a:moveTo>
                    <a:lnTo>
                      <a:pt x="460" y="25"/>
                    </a:lnTo>
                    <a:lnTo>
                      <a:pt x="468" y="16"/>
                    </a:lnTo>
                    <a:lnTo>
                      <a:pt x="478" y="16"/>
                    </a:lnTo>
                    <a:lnTo>
                      <a:pt x="478" y="17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2" y="17"/>
                    </a:lnTo>
                    <a:lnTo>
                      <a:pt x="483" y="17"/>
                    </a:lnTo>
                    <a:lnTo>
                      <a:pt x="485" y="17"/>
                    </a:lnTo>
                    <a:lnTo>
                      <a:pt x="486" y="16"/>
                    </a:lnTo>
                    <a:lnTo>
                      <a:pt x="486" y="15"/>
                    </a:lnTo>
                    <a:lnTo>
                      <a:pt x="487" y="14"/>
                    </a:lnTo>
                    <a:lnTo>
                      <a:pt x="487" y="11"/>
                    </a:lnTo>
                    <a:lnTo>
                      <a:pt x="485" y="10"/>
                    </a:lnTo>
                    <a:lnTo>
                      <a:pt x="483" y="9"/>
                    </a:lnTo>
                    <a:lnTo>
                      <a:pt x="482" y="9"/>
                    </a:lnTo>
                    <a:lnTo>
                      <a:pt x="480" y="9"/>
                    </a:lnTo>
                    <a:lnTo>
                      <a:pt x="478" y="9"/>
                    </a:lnTo>
                    <a:lnTo>
                      <a:pt x="478" y="10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67" y="11"/>
                    </a:lnTo>
                    <a:lnTo>
                      <a:pt x="456" y="25"/>
                    </a:lnTo>
                    <a:lnTo>
                      <a:pt x="451" y="25"/>
                    </a:lnTo>
                    <a:lnTo>
                      <a:pt x="448" y="21"/>
                    </a:lnTo>
                    <a:lnTo>
                      <a:pt x="447" y="21"/>
                    </a:lnTo>
                    <a:lnTo>
                      <a:pt x="446" y="20"/>
                    </a:lnTo>
                    <a:lnTo>
                      <a:pt x="445" y="20"/>
                    </a:lnTo>
                    <a:lnTo>
                      <a:pt x="443" y="19"/>
                    </a:lnTo>
                    <a:lnTo>
                      <a:pt x="442" y="20"/>
                    </a:lnTo>
                    <a:lnTo>
                      <a:pt x="442" y="20"/>
                    </a:lnTo>
                    <a:lnTo>
                      <a:pt x="440" y="20"/>
                    </a:lnTo>
                    <a:lnTo>
                      <a:pt x="438" y="21"/>
                    </a:lnTo>
                    <a:lnTo>
                      <a:pt x="437" y="22"/>
                    </a:lnTo>
                    <a:lnTo>
                      <a:pt x="437" y="22"/>
                    </a:lnTo>
                    <a:lnTo>
                      <a:pt x="436" y="26"/>
                    </a:lnTo>
                    <a:lnTo>
                      <a:pt x="435" y="29"/>
                    </a:lnTo>
                    <a:lnTo>
                      <a:pt x="437" y="31"/>
                    </a:lnTo>
                    <a:lnTo>
                      <a:pt x="440" y="33"/>
                    </a:lnTo>
                    <a:lnTo>
                      <a:pt x="442" y="34"/>
                    </a:lnTo>
                    <a:lnTo>
                      <a:pt x="445" y="34"/>
                    </a:lnTo>
                    <a:lnTo>
                      <a:pt x="446" y="34"/>
                    </a:lnTo>
                    <a:lnTo>
                      <a:pt x="447" y="33"/>
                    </a:lnTo>
                    <a:lnTo>
                      <a:pt x="450" y="31"/>
                    </a:lnTo>
                    <a:lnTo>
                      <a:pt x="451" y="29"/>
                    </a:lnTo>
                    <a:lnTo>
                      <a:pt x="451" y="29"/>
                    </a:lnTo>
                    <a:lnTo>
                      <a:pt x="467" y="29"/>
                    </a:lnTo>
                    <a:lnTo>
                      <a:pt x="480" y="40"/>
                    </a:lnTo>
                    <a:lnTo>
                      <a:pt x="487" y="40"/>
                    </a:lnTo>
                    <a:lnTo>
                      <a:pt x="487" y="45"/>
                    </a:lnTo>
                    <a:lnTo>
                      <a:pt x="498" y="45"/>
                    </a:lnTo>
                    <a:lnTo>
                      <a:pt x="498" y="34"/>
                    </a:lnTo>
                    <a:lnTo>
                      <a:pt x="487" y="34"/>
                    </a:lnTo>
                    <a:lnTo>
                      <a:pt x="487" y="39"/>
                    </a:lnTo>
                    <a:lnTo>
                      <a:pt x="480" y="39"/>
                    </a:lnTo>
                    <a:lnTo>
                      <a:pt x="471" y="29"/>
                    </a:lnTo>
                    <a:lnTo>
                      <a:pt x="502" y="29"/>
                    </a:lnTo>
                    <a:lnTo>
                      <a:pt x="502" y="31"/>
                    </a:lnTo>
                    <a:lnTo>
                      <a:pt x="512" y="27"/>
                    </a:lnTo>
                    <a:lnTo>
                      <a:pt x="502" y="22"/>
                    </a:lnTo>
                    <a:lnTo>
                      <a:pt x="502" y="25"/>
                    </a:lnTo>
                    <a:lnTo>
                      <a:pt x="502" y="25"/>
                    </a:lnTo>
                    <a:close/>
                    <a:moveTo>
                      <a:pt x="727" y="25"/>
                    </a:moveTo>
                    <a:lnTo>
                      <a:pt x="684" y="25"/>
                    </a:lnTo>
                    <a:lnTo>
                      <a:pt x="695" y="16"/>
                    </a:lnTo>
                    <a:lnTo>
                      <a:pt x="701" y="16"/>
                    </a:lnTo>
                    <a:lnTo>
                      <a:pt x="704" y="17"/>
                    </a:lnTo>
                    <a:lnTo>
                      <a:pt x="705" y="17"/>
                    </a:lnTo>
                    <a:lnTo>
                      <a:pt x="708" y="17"/>
                    </a:lnTo>
                    <a:lnTo>
                      <a:pt x="709" y="17"/>
                    </a:lnTo>
                    <a:lnTo>
                      <a:pt x="710" y="17"/>
                    </a:lnTo>
                    <a:lnTo>
                      <a:pt x="710" y="17"/>
                    </a:lnTo>
                    <a:lnTo>
                      <a:pt x="711" y="15"/>
                    </a:lnTo>
                    <a:lnTo>
                      <a:pt x="711" y="14"/>
                    </a:lnTo>
                    <a:lnTo>
                      <a:pt x="711" y="14"/>
                    </a:lnTo>
                    <a:lnTo>
                      <a:pt x="711" y="12"/>
                    </a:lnTo>
                    <a:lnTo>
                      <a:pt x="711" y="11"/>
                    </a:lnTo>
                    <a:lnTo>
                      <a:pt x="711" y="10"/>
                    </a:lnTo>
                    <a:lnTo>
                      <a:pt x="710" y="10"/>
                    </a:lnTo>
                    <a:lnTo>
                      <a:pt x="709" y="9"/>
                    </a:lnTo>
                    <a:lnTo>
                      <a:pt x="706" y="9"/>
                    </a:lnTo>
                    <a:lnTo>
                      <a:pt x="704" y="9"/>
                    </a:lnTo>
                    <a:lnTo>
                      <a:pt x="704" y="9"/>
                    </a:lnTo>
                    <a:lnTo>
                      <a:pt x="704" y="10"/>
                    </a:lnTo>
                    <a:lnTo>
                      <a:pt x="704" y="11"/>
                    </a:lnTo>
                    <a:lnTo>
                      <a:pt x="701" y="11"/>
                    </a:lnTo>
                    <a:lnTo>
                      <a:pt x="701" y="11"/>
                    </a:lnTo>
                    <a:lnTo>
                      <a:pt x="693" y="11"/>
                    </a:lnTo>
                    <a:lnTo>
                      <a:pt x="679" y="25"/>
                    </a:lnTo>
                    <a:lnTo>
                      <a:pt x="675" y="25"/>
                    </a:lnTo>
                    <a:lnTo>
                      <a:pt x="675" y="24"/>
                    </a:lnTo>
                    <a:lnTo>
                      <a:pt x="674" y="21"/>
                    </a:lnTo>
                    <a:lnTo>
                      <a:pt x="673" y="21"/>
                    </a:lnTo>
                    <a:lnTo>
                      <a:pt x="673" y="20"/>
                    </a:lnTo>
                    <a:lnTo>
                      <a:pt x="670" y="20"/>
                    </a:lnTo>
                    <a:lnTo>
                      <a:pt x="669" y="19"/>
                    </a:lnTo>
                    <a:lnTo>
                      <a:pt x="668" y="20"/>
                    </a:lnTo>
                    <a:lnTo>
                      <a:pt x="666" y="20"/>
                    </a:lnTo>
                    <a:lnTo>
                      <a:pt x="664" y="20"/>
                    </a:lnTo>
                    <a:lnTo>
                      <a:pt x="663" y="21"/>
                    </a:lnTo>
                    <a:lnTo>
                      <a:pt x="661" y="22"/>
                    </a:lnTo>
                    <a:lnTo>
                      <a:pt x="661" y="22"/>
                    </a:lnTo>
                    <a:lnTo>
                      <a:pt x="660" y="25"/>
                    </a:lnTo>
                    <a:lnTo>
                      <a:pt x="660" y="26"/>
                    </a:lnTo>
                    <a:lnTo>
                      <a:pt x="660" y="27"/>
                    </a:lnTo>
                    <a:lnTo>
                      <a:pt x="661" y="29"/>
                    </a:lnTo>
                    <a:lnTo>
                      <a:pt x="661" y="30"/>
                    </a:lnTo>
                    <a:lnTo>
                      <a:pt x="663" y="31"/>
                    </a:lnTo>
                    <a:lnTo>
                      <a:pt x="663" y="31"/>
                    </a:lnTo>
                    <a:lnTo>
                      <a:pt x="664" y="33"/>
                    </a:lnTo>
                    <a:lnTo>
                      <a:pt x="668" y="34"/>
                    </a:lnTo>
                    <a:lnTo>
                      <a:pt x="670" y="34"/>
                    </a:lnTo>
                    <a:lnTo>
                      <a:pt x="673" y="34"/>
                    </a:lnTo>
                    <a:lnTo>
                      <a:pt x="674" y="33"/>
                    </a:lnTo>
                    <a:lnTo>
                      <a:pt x="674" y="31"/>
                    </a:lnTo>
                    <a:lnTo>
                      <a:pt x="675" y="29"/>
                    </a:lnTo>
                    <a:lnTo>
                      <a:pt x="675" y="29"/>
                    </a:lnTo>
                    <a:lnTo>
                      <a:pt x="693" y="29"/>
                    </a:lnTo>
                    <a:lnTo>
                      <a:pt x="704" y="40"/>
                    </a:lnTo>
                    <a:lnTo>
                      <a:pt x="714" y="40"/>
                    </a:lnTo>
                    <a:lnTo>
                      <a:pt x="714" y="45"/>
                    </a:lnTo>
                    <a:lnTo>
                      <a:pt x="723" y="45"/>
                    </a:lnTo>
                    <a:lnTo>
                      <a:pt x="723" y="34"/>
                    </a:lnTo>
                    <a:lnTo>
                      <a:pt x="714" y="34"/>
                    </a:lnTo>
                    <a:lnTo>
                      <a:pt x="714" y="39"/>
                    </a:lnTo>
                    <a:lnTo>
                      <a:pt x="706" y="39"/>
                    </a:lnTo>
                    <a:lnTo>
                      <a:pt x="698" y="29"/>
                    </a:lnTo>
                    <a:lnTo>
                      <a:pt x="727" y="29"/>
                    </a:lnTo>
                    <a:lnTo>
                      <a:pt x="727" y="31"/>
                    </a:lnTo>
                    <a:lnTo>
                      <a:pt x="738" y="27"/>
                    </a:lnTo>
                    <a:lnTo>
                      <a:pt x="727" y="22"/>
                    </a:lnTo>
                    <a:lnTo>
                      <a:pt x="727" y="25"/>
                    </a:lnTo>
                    <a:lnTo>
                      <a:pt x="727" y="25"/>
                    </a:lnTo>
                    <a:close/>
                    <a:moveTo>
                      <a:pt x="1037" y="51"/>
                    </a:moveTo>
                    <a:lnTo>
                      <a:pt x="1076" y="51"/>
                    </a:lnTo>
                    <a:lnTo>
                      <a:pt x="1079" y="51"/>
                    </a:lnTo>
                    <a:lnTo>
                      <a:pt x="1080" y="51"/>
                    </a:lnTo>
                    <a:lnTo>
                      <a:pt x="1082" y="50"/>
                    </a:lnTo>
                    <a:lnTo>
                      <a:pt x="1084" y="49"/>
                    </a:lnTo>
                    <a:lnTo>
                      <a:pt x="1085" y="48"/>
                    </a:lnTo>
                    <a:lnTo>
                      <a:pt x="1086" y="45"/>
                    </a:lnTo>
                    <a:lnTo>
                      <a:pt x="1086" y="43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11"/>
                    </a:lnTo>
                    <a:lnTo>
                      <a:pt x="1086" y="9"/>
                    </a:lnTo>
                    <a:lnTo>
                      <a:pt x="1086" y="6"/>
                    </a:lnTo>
                    <a:lnTo>
                      <a:pt x="1085" y="5"/>
                    </a:lnTo>
                    <a:lnTo>
                      <a:pt x="1084" y="2"/>
                    </a:lnTo>
                    <a:lnTo>
                      <a:pt x="1082" y="1"/>
                    </a:lnTo>
                    <a:lnTo>
                      <a:pt x="1080" y="1"/>
                    </a:lnTo>
                    <a:lnTo>
                      <a:pt x="1079" y="0"/>
                    </a:lnTo>
                    <a:lnTo>
                      <a:pt x="1076" y="0"/>
                    </a:lnTo>
                    <a:lnTo>
                      <a:pt x="1076" y="0"/>
                    </a:lnTo>
                    <a:lnTo>
                      <a:pt x="1037" y="0"/>
                    </a:lnTo>
                    <a:lnTo>
                      <a:pt x="1035" y="0"/>
                    </a:lnTo>
                    <a:lnTo>
                      <a:pt x="1033" y="1"/>
                    </a:lnTo>
                    <a:lnTo>
                      <a:pt x="1031" y="1"/>
                    </a:lnTo>
                    <a:lnTo>
                      <a:pt x="1030" y="2"/>
                    </a:lnTo>
                    <a:lnTo>
                      <a:pt x="1028" y="5"/>
                    </a:lnTo>
                    <a:lnTo>
                      <a:pt x="1027" y="6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1"/>
                    </a:lnTo>
                    <a:lnTo>
                      <a:pt x="1026" y="40"/>
                    </a:lnTo>
                    <a:lnTo>
                      <a:pt x="1026" y="43"/>
                    </a:lnTo>
                    <a:lnTo>
                      <a:pt x="1027" y="45"/>
                    </a:lnTo>
                    <a:lnTo>
                      <a:pt x="1028" y="48"/>
                    </a:lnTo>
                    <a:lnTo>
                      <a:pt x="1030" y="49"/>
                    </a:lnTo>
                    <a:lnTo>
                      <a:pt x="1031" y="50"/>
                    </a:lnTo>
                    <a:lnTo>
                      <a:pt x="1033" y="51"/>
                    </a:lnTo>
                    <a:lnTo>
                      <a:pt x="1035" y="51"/>
                    </a:lnTo>
                    <a:lnTo>
                      <a:pt x="1037" y="51"/>
                    </a:lnTo>
                    <a:lnTo>
                      <a:pt x="1037" y="51"/>
                    </a:lnTo>
                    <a:close/>
                    <a:moveTo>
                      <a:pt x="1044" y="43"/>
                    </a:moveTo>
                    <a:lnTo>
                      <a:pt x="1050" y="43"/>
                    </a:lnTo>
                    <a:lnTo>
                      <a:pt x="1056" y="43"/>
                    </a:lnTo>
                    <a:lnTo>
                      <a:pt x="1062" y="43"/>
                    </a:lnTo>
                    <a:lnTo>
                      <a:pt x="1069" y="43"/>
                    </a:lnTo>
                    <a:lnTo>
                      <a:pt x="1070" y="43"/>
                    </a:lnTo>
                    <a:lnTo>
                      <a:pt x="1072" y="43"/>
                    </a:lnTo>
                    <a:lnTo>
                      <a:pt x="1074" y="41"/>
                    </a:lnTo>
                    <a:lnTo>
                      <a:pt x="1075" y="40"/>
                    </a:lnTo>
                    <a:lnTo>
                      <a:pt x="1076" y="39"/>
                    </a:lnTo>
                    <a:lnTo>
                      <a:pt x="1077" y="38"/>
                    </a:lnTo>
                    <a:lnTo>
                      <a:pt x="1077" y="35"/>
                    </a:lnTo>
                    <a:lnTo>
                      <a:pt x="1077" y="34"/>
                    </a:lnTo>
                    <a:lnTo>
                      <a:pt x="1077" y="34"/>
                    </a:lnTo>
                    <a:lnTo>
                      <a:pt x="1077" y="30"/>
                    </a:lnTo>
                    <a:lnTo>
                      <a:pt x="1077" y="26"/>
                    </a:lnTo>
                    <a:lnTo>
                      <a:pt x="1077" y="21"/>
                    </a:lnTo>
                    <a:lnTo>
                      <a:pt x="1077" y="17"/>
                    </a:lnTo>
                    <a:lnTo>
                      <a:pt x="1077" y="16"/>
                    </a:lnTo>
                    <a:lnTo>
                      <a:pt x="1077" y="15"/>
                    </a:lnTo>
                    <a:lnTo>
                      <a:pt x="1076" y="14"/>
                    </a:lnTo>
                    <a:lnTo>
                      <a:pt x="1075" y="11"/>
                    </a:lnTo>
                    <a:lnTo>
                      <a:pt x="1074" y="11"/>
                    </a:lnTo>
                    <a:lnTo>
                      <a:pt x="1072" y="10"/>
                    </a:lnTo>
                    <a:lnTo>
                      <a:pt x="1070" y="9"/>
                    </a:lnTo>
                    <a:lnTo>
                      <a:pt x="1069" y="9"/>
                    </a:lnTo>
                    <a:lnTo>
                      <a:pt x="1062" y="9"/>
                    </a:lnTo>
                    <a:lnTo>
                      <a:pt x="1056" y="9"/>
                    </a:lnTo>
                    <a:lnTo>
                      <a:pt x="1050" y="9"/>
                    </a:lnTo>
                    <a:lnTo>
                      <a:pt x="1044" y="9"/>
                    </a:lnTo>
                    <a:lnTo>
                      <a:pt x="1042" y="9"/>
                    </a:lnTo>
                    <a:lnTo>
                      <a:pt x="1041" y="10"/>
                    </a:lnTo>
                    <a:lnTo>
                      <a:pt x="1039" y="11"/>
                    </a:lnTo>
                    <a:lnTo>
                      <a:pt x="1037" y="11"/>
                    </a:lnTo>
                    <a:lnTo>
                      <a:pt x="1036" y="14"/>
                    </a:lnTo>
                    <a:lnTo>
                      <a:pt x="1036" y="15"/>
                    </a:lnTo>
                    <a:lnTo>
                      <a:pt x="1035" y="16"/>
                    </a:lnTo>
                    <a:lnTo>
                      <a:pt x="1035" y="17"/>
                    </a:lnTo>
                    <a:lnTo>
                      <a:pt x="1035" y="21"/>
                    </a:lnTo>
                    <a:lnTo>
                      <a:pt x="1035" y="26"/>
                    </a:lnTo>
                    <a:lnTo>
                      <a:pt x="1035" y="30"/>
                    </a:lnTo>
                    <a:lnTo>
                      <a:pt x="1035" y="34"/>
                    </a:lnTo>
                    <a:lnTo>
                      <a:pt x="1035" y="35"/>
                    </a:lnTo>
                    <a:lnTo>
                      <a:pt x="1036" y="38"/>
                    </a:lnTo>
                    <a:lnTo>
                      <a:pt x="1036" y="39"/>
                    </a:lnTo>
                    <a:lnTo>
                      <a:pt x="1037" y="40"/>
                    </a:lnTo>
                    <a:lnTo>
                      <a:pt x="1039" y="41"/>
                    </a:lnTo>
                    <a:lnTo>
                      <a:pt x="1041" y="43"/>
                    </a:lnTo>
                    <a:lnTo>
                      <a:pt x="1042" y="43"/>
                    </a:lnTo>
                    <a:lnTo>
                      <a:pt x="1044" y="43"/>
                    </a:lnTo>
                    <a:lnTo>
                      <a:pt x="104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4" name=""/>
              <p:cNvSpPr/>
              <p:nvPr/>
            </p:nvSpPr>
            <p:spPr>
              <a:xfrm>
                <a:off x="4445280" y="5756760"/>
                <a:ext cx="1683720" cy="174960"/>
              </a:xfrm>
              <a:custGeom>
                <a:avLst/>
                <a:gdLst/>
                <a:ahLst/>
                <a:rect l="l" t="t" r="r" b="b"/>
                <a:pathLst>
                  <a:path w="2476" h="317">
                    <a:moveTo>
                      <a:pt x="41" y="39"/>
                    </a:moveTo>
                    <a:lnTo>
                      <a:pt x="4" y="39"/>
                    </a:lnTo>
                    <a:lnTo>
                      <a:pt x="23" y="8"/>
                    </a:lnTo>
                    <a:lnTo>
                      <a:pt x="41" y="39"/>
                    </a:lnTo>
                    <a:lnTo>
                      <a:pt x="41" y="39"/>
                    </a:lnTo>
                    <a:close/>
                    <a:moveTo>
                      <a:pt x="24" y="3"/>
                    </a:move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  <a:moveTo>
                      <a:pt x="23" y="37"/>
                    </a:moveTo>
                    <a:lnTo>
                      <a:pt x="24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close/>
                    <a:moveTo>
                      <a:pt x="24" y="31"/>
                    </a:moveTo>
                    <a:lnTo>
                      <a:pt x="24" y="27"/>
                    </a:lnTo>
                    <a:lnTo>
                      <a:pt x="24" y="23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4" y="31"/>
                    </a:lnTo>
                    <a:close/>
                    <a:moveTo>
                      <a:pt x="43" y="71"/>
                    </a:moveTo>
                    <a:lnTo>
                      <a:pt x="43" y="67"/>
                    </a:lnTo>
                    <a:lnTo>
                      <a:pt x="42" y="63"/>
                    </a:lnTo>
                    <a:lnTo>
                      <a:pt x="39" y="60"/>
                    </a:lnTo>
                    <a:lnTo>
                      <a:pt x="37" y="57"/>
                    </a:lnTo>
                    <a:lnTo>
                      <a:pt x="34" y="55"/>
                    </a:lnTo>
                    <a:lnTo>
                      <a:pt x="30" y="52"/>
                    </a:lnTo>
                    <a:lnTo>
                      <a:pt x="27" y="51"/>
                    </a:lnTo>
                    <a:lnTo>
                      <a:pt x="23" y="51"/>
                    </a:lnTo>
                    <a:lnTo>
                      <a:pt x="18" y="51"/>
                    </a:lnTo>
                    <a:lnTo>
                      <a:pt x="15" y="52"/>
                    </a:lnTo>
                    <a:lnTo>
                      <a:pt x="12" y="55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5" y="63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9" y="86"/>
                    </a:lnTo>
                    <a:lnTo>
                      <a:pt x="12" y="89"/>
                    </a:lnTo>
                    <a:lnTo>
                      <a:pt x="15" y="90"/>
                    </a:lnTo>
                    <a:lnTo>
                      <a:pt x="18" y="91"/>
                    </a:lnTo>
                    <a:lnTo>
                      <a:pt x="23" y="91"/>
                    </a:lnTo>
                    <a:lnTo>
                      <a:pt x="27" y="91"/>
                    </a:lnTo>
                    <a:lnTo>
                      <a:pt x="30" y="90"/>
                    </a:lnTo>
                    <a:lnTo>
                      <a:pt x="34" y="89"/>
                    </a:lnTo>
                    <a:lnTo>
                      <a:pt x="37" y="86"/>
                    </a:lnTo>
                    <a:lnTo>
                      <a:pt x="39" y="82"/>
                    </a:lnTo>
                    <a:lnTo>
                      <a:pt x="42" y="79"/>
                    </a:lnTo>
                    <a:lnTo>
                      <a:pt x="43" y="75"/>
                    </a:lnTo>
                    <a:lnTo>
                      <a:pt x="43" y="71"/>
                    </a:lnTo>
                    <a:lnTo>
                      <a:pt x="43" y="71"/>
                    </a:lnTo>
                    <a:close/>
                    <a:moveTo>
                      <a:pt x="23" y="73"/>
                    </a:moveTo>
                    <a:lnTo>
                      <a:pt x="22" y="75"/>
                    </a:lnTo>
                    <a:lnTo>
                      <a:pt x="22" y="76"/>
                    </a:lnTo>
                    <a:lnTo>
                      <a:pt x="19" y="76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1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20" y="80"/>
                    </a:lnTo>
                    <a:lnTo>
                      <a:pt x="22" y="79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34" y="85"/>
                    </a:lnTo>
                    <a:lnTo>
                      <a:pt x="30" y="86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9" y="80"/>
                    </a:lnTo>
                    <a:lnTo>
                      <a:pt x="8" y="77"/>
                    </a:lnTo>
                    <a:lnTo>
                      <a:pt x="7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23" y="73"/>
                    </a:lnTo>
                    <a:lnTo>
                      <a:pt x="23" y="73"/>
                    </a:lnTo>
                    <a:close/>
                    <a:moveTo>
                      <a:pt x="27" y="76"/>
                    </a:moveTo>
                    <a:lnTo>
                      <a:pt x="29" y="73"/>
                    </a:lnTo>
                    <a:lnTo>
                      <a:pt x="32" y="72"/>
                    </a:lnTo>
                    <a:lnTo>
                      <a:pt x="33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8" y="70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13" y="57"/>
                    </a:lnTo>
                    <a:lnTo>
                      <a:pt x="17" y="56"/>
                    </a:lnTo>
                    <a:lnTo>
                      <a:pt x="19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9" y="55"/>
                    </a:lnTo>
                    <a:lnTo>
                      <a:pt x="32" y="57"/>
                    </a:lnTo>
                    <a:lnTo>
                      <a:pt x="34" y="58"/>
                    </a:lnTo>
                    <a:lnTo>
                      <a:pt x="37" y="62"/>
                    </a:lnTo>
                    <a:lnTo>
                      <a:pt x="38" y="65"/>
                    </a:lnTo>
                    <a:lnTo>
                      <a:pt x="39" y="67"/>
                    </a:lnTo>
                    <a:lnTo>
                      <a:pt x="39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9"/>
                    </a:lnTo>
                    <a:lnTo>
                      <a:pt x="35" y="81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27" y="76"/>
                    </a:lnTo>
                    <a:lnTo>
                      <a:pt x="27" y="76"/>
                    </a:lnTo>
                    <a:close/>
                    <a:moveTo>
                      <a:pt x="681" y="139"/>
                    </a:moveTo>
                    <a:lnTo>
                      <a:pt x="681" y="138"/>
                    </a:lnTo>
                    <a:lnTo>
                      <a:pt x="680" y="137"/>
                    </a:lnTo>
                    <a:lnTo>
                      <a:pt x="678" y="135"/>
                    </a:lnTo>
                    <a:lnTo>
                      <a:pt x="677" y="135"/>
                    </a:lnTo>
                    <a:lnTo>
                      <a:pt x="674" y="135"/>
                    </a:lnTo>
                    <a:lnTo>
                      <a:pt x="673" y="137"/>
                    </a:lnTo>
                    <a:lnTo>
                      <a:pt x="672" y="138"/>
                    </a:lnTo>
                    <a:lnTo>
                      <a:pt x="672" y="139"/>
                    </a:lnTo>
                    <a:lnTo>
                      <a:pt x="672" y="143"/>
                    </a:lnTo>
                    <a:lnTo>
                      <a:pt x="673" y="144"/>
                    </a:lnTo>
                    <a:lnTo>
                      <a:pt x="674" y="145"/>
                    </a:lnTo>
                    <a:lnTo>
                      <a:pt x="677" y="147"/>
                    </a:lnTo>
                    <a:lnTo>
                      <a:pt x="678" y="145"/>
                    </a:lnTo>
                    <a:lnTo>
                      <a:pt x="680" y="144"/>
                    </a:lnTo>
                    <a:lnTo>
                      <a:pt x="681" y="143"/>
                    </a:lnTo>
                    <a:lnTo>
                      <a:pt x="681" y="139"/>
                    </a:lnTo>
                    <a:lnTo>
                      <a:pt x="681" y="139"/>
                    </a:lnTo>
                    <a:close/>
                    <a:moveTo>
                      <a:pt x="633" y="167"/>
                    </a:moveTo>
                    <a:lnTo>
                      <a:pt x="633" y="166"/>
                    </a:lnTo>
                    <a:lnTo>
                      <a:pt x="632" y="163"/>
                    </a:lnTo>
                    <a:lnTo>
                      <a:pt x="631" y="163"/>
                    </a:lnTo>
                    <a:lnTo>
                      <a:pt x="629" y="162"/>
                    </a:lnTo>
                    <a:lnTo>
                      <a:pt x="628" y="163"/>
                    </a:lnTo>
                    <a:lnTo>
                      <a:pt x="626" y="163"/>
                    </a:lnTo>
                    <a:lnTo>
                      <a:pt x="626" y="166"/>
                    </a:lnTo>
                    <a:lnTo>
                      <a:pt x="624" y="167"/>
                    </a:lnTo>
                    <a:lnTo>
                      <a:pt x="626" y="169"/>
                    </a:lnTo>
                    <a:lnTo>
                      <a:pt x="626" y="172"/>
                    </a:lnTo>
                    <a:lnTo>
                      <a:pt x="628" y="173"/>
                    </a:lnTo>
                    <a:lnTo>
                      <a:pt x="629" y="173"/>
                    </a:lnTo>
                    <a:lnTo>
                      <a:pt x="631" y="173"/>
                    </a:lnTo>
                    <a:lnTo>
                      <a:pt x="632" y="172"/>
                    </a:lnTo>
                    <a:lnTo>
                      <a:pt x="633" y="169"/>
                    </a:lnTo>
                    <a:lnTo>
                      <a:pt x="633" y="167"/>
                    </a:lnTo>
                    <a:lnTo>
                      <a:pt x="633" y="167"/>
                    </a:lnTo>
                    <a:close/>
                    <a:moveTo>
                      <a:pt x="661" y="167"/>
                    </a:moveTo>
                    <a:lnTo>
                      <a:pt x="661" y="166"/>
                    </a:lnTo>
                    <a:lnTo>
                      <a:pt x="659" y="163"/>
                    </a:lnTo>
                    <a:lnTo>
                      <a:pt x="658" y="163"/>
                    </a:lnTo>
                    <a:lnTo>
                      <a:pt x="657" y="162"/>
                    </a:lnTo>
                    <a:lnTo>
                      <a:pt x="654" y="162"/>
                    </a:lnTo>
                    <a:lnTo>
                      <a:pt x="653" y="163"/>
                    </a:lnTo>
                    <a:lnTo>
                      <a:pt x="653" y="163"/>
                    </a:lnTo>
                    <a:lnTo>
                      <a:pt x="652" y="163"/>
                    </a:lnTo>
                    <a:lnTo>
                      <a:pt x="652" y="166"/>
                    </a:lnTo>
                    <a:lnTo>
                      <a:pt x="652" y="167"/>
                    </a:lnTo>
                    <a:lnTo>
                      <a:pt x="652" y="169"/>
                    </a:lnTo>
                    <a:lnTo>
                      <a:pt x="652" y="172"/>
                    </a:lnTo>
                    <a:lnTo>
                      <a:pt x="653" y="173"/>
                    </a:lnTo>
                    <a:lnTo>
                      <a:pt x="653" y="173"/>
                    </a:lnTo>
                    <a:lnTo>
                      <a:pt x="654" y="173"/>
                    </a:lnTo>
                    <a:lnTo>
                      <a:pt x="657" y="173"/>
                    </a:lnTo>
                    <a:lnTo>
                      <a:pt x="658" y="173"/>
                    </a:lnTo>
                    <a:lnTo>
                      <a:pt x="659" y="172"/>
                    </a:lnTo>
                    <a:lnTo>
                      <a:pt x="661" y="169"/>
                    </a:lnTo>
                    <a:lnTo>
                      <a:pt x="661" y="167"/>
                    </a:lnTo>
                    <a:lnTo>
                      <a:pt x="661" y="167"/>
                    </a:lnTo>
                    <a:close/>
                    <a:moveTo>
                      <a:pt x="613" y="139"/>
                    </a:moveTo>
                    <a:lnTo>
                      <a:pt x="613" y="138"/>
                    </a:lnTo>
                    <a:lnTo>
                      <a:pt x="612" y="137"/>
                    </a:lnTo>
                    <a:lnTo>
                      <a:pt x="611" y="135"/>
                    </a:lnTo>
                    <a:lnTo>
                      <a:pt x="609" y="135"/>
                    </a:lnTo>
                    <a:lnTo>
                      <a:pt x="607" y="135"/>
                    </a:lnTo>
                    <a:lnTo>
                      <a:pt x="607" y="135"/>
                    </a:lnTo>
                    <a:lnTo>
                      <a:pt x="606" y="135"/>
                    </a:lnTo>
                    <a:lnTo>
                      <a:pt x="604" y="137"/>
                    </a:lnTo>
                    <a:lnTo>
                      <a:pt x="604" y="138"/>
                    </a:lnTo>
                    <a:lnTo>
                      <a:pt x="604" y="139"/>
                    </a:lnTo>
                    <a:lnTo>
                      <a:pt x="604" y="143"/>
                    </a:lnTo>
                    <a:lnTo>
                      <a:pt x="604" y="144"/>
                    </a:lnTo>
                    <a:lnTo>
                      <a:pt x="606" y="145"/>
                    </a:lnTo>
                    <a:lnTo>
                      <a:pt x="607" y="145"/>
                    </a:lnTo>
                    <a:lnTo>
                      <a:pt x="607" y="147"/>
                    </a:lnTo>
                    <a:lnTo>
                      <a:pt x="609" y="147"/>
                    </a:lnTo>
                    <a:lnTo>
                      <a:pt x="611" y="145"/>
                    </a:lnTo>
                    <a:lnTo>
                      <a:pt x="612" y="144"/>
                    </a:lnTo>
                    <a:lnTo>
                      <a:pt x="613" y="143"/>
                    </a:lnTo>
                    <a:lnTo>
                      <a:pt x="613" y="139"/>
                    </a:lnTo>
                    <a:lnTo>
                      <a:pt x="613" y="139"/>
                    </a:lnTo>
                    <a:close/>
                    <a:moveTo>
                      <a:pt x="633" y="137"/>
                    </a:moveTo>
                    <a:lnTo>
                      <a:pt x="652" y="137"/>
                    </a:lnTo>
                    <a:lnTo>
                      <a:pt x="652" y="105"/>
                    </a:lnTo>
                    <a:lnTo>
                      <a:pt x="633" y="105"/>
                    </a:lnTo>
                    <a:lnTo>
                      <a:pt x="633" y="137"/>
                    </a:lnTo>
                    <a:lnTo>
                      <a:pt x="633" y="137"/>
                    </a:lnTo>
                    <a:close/>
                    <a:moveTo>
                      <a:pt x="621" y="114"/>
                    </a:moveTo>
                    <a:lnTo>
                      <a:pt x="619" y="111"/>
                    </a:lnTo>
                    <a:lnTo>
                      <a:pt x="619" y="109"/>
                    </a:lnTo>
                    <a:lnTo>
                      <a:pt x="617" y="108"/>
                    </a:lnTo>
                    <a:lnTo>
                      <a:pt x="616" y="108"/>
                    </a:lnTo>
                    <a:lnTo>
                      <a:pt x="614" y="108"/>
                    </a:lnTo>
                    <a:lnTo>
                      <a:pt x="613" y="109"/>
                    </a:lnTo>
                    <a:lnTo>
                      <a:pt x="612" y="111"/>
                    </a:lnTo>
                    <a:lnTo>
                      <a:pt x="611" y="114"/>
                    </a:lnTo>
                    <a:lnTo>
                      <a:pt x="612" y="116"/>
                    </a:lnTo>
                    <a:lnTo>
                      <a:pt x="613" y="118"/>
                    </a:lnTo>
                    <a:lnTo>
                      <a:pt x="614" y="119"/>
                    </a:lnTo>
                    <a:lnTo>
                      <a:pt x="616" y="119"/>
                    </a:lnTo>
                    <a:lnTo>
                      <a:pt x="617" y="119"/>
                    </a:lnTo>
                    <a:lnTo>
                      <a:pt x="619" y="118"/>
                    </a:lnTo>
                    <a:lnTo>
                      <a:pt x="619" y="116"/>
                    </a:lnTo>
                    <a:lnTo>
                      <a:pt x="621" y="114"/>
                    </a:lnTo>
                    <a:lnTo>
                      <a:pt x="621" y="114"/>
                    </a:lnTo>
                    <a:close/>
                    <a:moveTo>
                      <a:pt x="674" y="114"/>
                    </a:moveTo>
                    <a:lnTo>
                      <a:pt x="674" y="111"/>
                    </a:lnTo>
                    <a:lnTo>
                      <a:pt x="673" y="109"/>
                    </a:lnTo>
                    <a:lnTo>
                      <a:pt x="672" y="108"/>
                    </a:lnTo>
                    <a:lnTo>
                      <a:pt x="669" y="108"/>
                    </a:lnTo>
                    <a:lnTo>
                      <a:pt x="667" y="108"/>
                    </a:lnTo>
                    <a:lnTo>
                      <a:pt x="664" y="109"/>
                    </a:lnTo>
                    <a:lnTo>
                      <a:pt x="663" y="111"/>
                    </a:lnTo>
                    <a:lnTo>
                      <a:pt x="663" y="114"/>
                    </a:lnTo>
                    <a:lnTo>
                      <a:pt x="663" y="116"/>
                    </a:lnTo>
                    <a:lnTo>
                      <a:pt x="664" y="118"/>
                    </a:lnTo>
                    <a:lnTo>
                      <a:pt x="667" y="119"/>
                    </a:lnTo>
                    <a:lnTo>
                      <a:pt x="669" y="119"/>
                    </a:lnTo>
                    <a:lnTo>
                      <a:pt x="672" y="119"/>
                    </a:lnTo>
                    <a:lnTo>
                      <a:pt x="673" y="118"/>
                    </a:lnTo>
                    <a:lnTo>
                      <a:pt x="674" y="116"/>
                    </a:lnTo>
                    <a:lnTo>
                      <a:pt x="674" y="114"/>
                    </a:lnTo>
                    <a:lnTo>
                      <a:pt x="674" y="114"/>
                    </a:lnTo>
                    <a:close/>
                    <a:moveTo>
                      <a:pt x="607" y="281"/>
                    </a:moveTo>
                    <a:lnTo>
                      <a:pt x="607" y="317"/>
                    </a:lnTo>
                    <a:lnTo>
                      <a:pt x="681" y="317"/>
                    </a:lnTo>
                    <a:lnTo>
                      <a:pt x="681" y="281"/>
                    </a:lnTo>
                    <a:lnTo>
                      <a:pt x="607" y="281"/>
                    </a:lnTo>
                    <a:lnTo>
                      <a:pt x="607" y="281"/>
                    </a:lnTo>
                    <a:close/>
                    <a:moveTo>
                      <a:pt x="611" y="286"/>
                    </a:moveTo>
                    <a:lnTo>
                      <a:pt x="611" y="311"/>
                    </a:lnTo>
                    <a:lnTo>
                      <a:pt x="674" y="311"/>
                    </a:lnTo>
                    <a:lnTo>
                      <a:pt x="674" y="286"/>
                    </a:lnTo>
                    <a:lnTo>
                      <a:pt x="611" y="286"/>
                    </a:lnTo>
                    <a:lnTo>
                      <a:pt x="611" y="286"/>
                    </a:lnTo>
                    <a:close/>
                    <a:moveTo>
                      <a:pt x="668" y="288"/>
                    </a:moveTo>
                    <a:lnTo>
                      <a:pt x="668" y="294"/>
                    </a:lnTo>
                    <a:lnTo>
                      <a:pt x="672" y="294"/>
                    </a:lnTo>
                    <a:lnTo>
                      <a:pt x="672" y="288"/>
                    </a:lnTo>
                    <a:lnTo>
                      <a:pt x="668" y="288"/>
                    </a:lnTo>
                    <a:lnTo>
                      <a:pt x="668" y="288"/>
                    </a:lnTo>
                    <a:close/>
                    <a:moveTo>
                      <a:pt x="658" y="288"/>
                    </a:moveTo>
                    <a:lnTo>
                      <a:pt x="658" y="294"/>
                    </a:lnTo>
                    <a:lnTo>
                      <a:pt x="663" y="294"/>
                    </a:lnTo>
                    <a:lnTo>
                      <a:pt x="663" y="288"/>
                    </a:lnTo>
                    <a:lnTo>
                      <a:pt x="658" y="288"/>
                    </a:lnTo>
                    <a:lnTo>
                      <a:pt x="658" y="288"/>
                    </a:lnTo>
                    <a:close/>
                    <a:moveTo>
                      <a:pt x="663" y="297"/>
                    </a:moveTo>
                    <a:lnTo>
                      <a:pt x="663" y="301"/>
                    </a:lnTo>
                    <a:lnTo>
                      <a:pt x="668" y="301"/>
                    </a:lnTo>
                    <a:lnTo>
                      <a:pt x="668" y="297"/>
                    </a:lnTo>
                    <a:lnTo>
                      <a:pt x="663" y="297"/>
                    </a:lnTo>
                    <a:lnTo>
                      <a:pt x="663" y="297"/>
                    </a:lnTo>
                    <a:close/>
                    <a:moveTo>
                      <a:pt x="649" y="288"/>
                    </a:moveTo>
                    <a:lnTo>
                      <a:pt x="649" y="294"/>
                    </a:lnTo>
                    <a:lnTo>
                      <a:pt x="654" y="294"/>
                    </a:lnTo>
                    <a:lnTo>
                      <a:pt x="654" y="288"/>
                    </a:lnTo>
                    <a:lnTo>
                      <a:pt x="649" y="288"/>
                    </a:lnTo>
                    <a:lnTo>
                      <a:pt x="649" y="288"/>
                    </a:lnTo>
                    <a:close/>
                    <a:moveTo>
                      <a:pt x="641" y="288"/>
                    </a:moveTo>
                    <a:lnTo>
                      <a:pt x="641" y="294"/>
                    </a:lnTo>
                    <a:lnTo>
                      <a:pt x="647" y="294"/>
                    </a:lnTo>
                    <a:lnTo>
                      <a:pt x="647" y="288"/>
                    </a:lnTo>
                    <a:lnTo>
                      <a:pt x="641" y="288"/>
                    </a:lnTo>
                    <a:lnTo>
                      <a:pt x="641" y="288"/>
                    </a:lnTo>
                    <a:close/>
                    <a:moveTo>
                      <a:pt x="632" y="288"/>
                    </a:moveTo>
                    <a:lnTo>
                      <a:pt x="632" y="294"/>
                    </a:lnTo>
                    <a:lnTo>
                      <a:pt x="638" y="294"/>
                    </a:lnTo>
                    <a:lnTo>
                      <a:pt x="638" y="288"/>
                    </a:lnTo>
                    <a:lnTo>
                      <a:pt x="632" y="288"/>
                    </a:lnTo>
                    <a:lnTo>
                      <a:pt x="632" y="288"/>
                    </a:lnTo>
                    <a:close/>
                    <a:moveTo>
                      <a:pt x="622" y="288"/>
                    </a:moveTo>
                    <a:lnTo>
                      <a:pt x="622" y="294"/>
                    </a:lnTo>
                    <a:lnTo>
                      <a:pt x="629" y="294"/>
                    </a:lnTo>
                    <a:lnTo>
                      <a:pt x="629" y="288"/>
                    </a:lnTo>
                    <a:lnTo>
                      <a:pt x="622" y="288"/>
                    </a:lnTo>
                    <a:lnTo>
                      <a:pt x="622" y="288"/>
                    </a:lnTo>
                    <a:close/>
                    <a:moveTo>
                      <a:pt x="616" y="288"/>
                    </a:moveTo>
                    <a:lnTo>
                      <a:pt x="616" y="294"/>
                    </a:lnTo>
                    <a:lnTo>
                      <a:pt x="621" y="294"/>
                    </a:lnTo>
                    <a:lnTo>
                      <a:pt x="621" y="288"/>
                    </a:lnTo>
                    <a:lnTo>
                      <a:pt x="616" y="288"/>
                    </a:lnTo>
                    <a:lnTo>
                      <a:pt x="616" y="288"/>
                    </a:lnTo>
                    <a:close/>
                    <a:moveTo>
                      <a:pt x="654" y="297"/>
                    </a:moveTo>
                    <a:lnTo>
                      <a:pt x="654" y="301"/>
                    </a:lnTo>
                    <a:lnTo>
                      <a:pt x="658" y="301"/>
                    </a:lnTo>
                    <a:lnTo>
                      <a:pt x="658" y="297"/>
                    </a:lnTo>
                    <a:lnTo>
                      <a:pt x="654" y="297"/>
                    </a:lnTo>
                    <a:lnTo>
                      <a:pt x="654" y="297"/>
                    </a:lnTo>
                    <a:close/>
                    <a:moveTo>
                      <a:pt x="644" y="297"/>
                    </a:moveTo>
                    <a:lnTo>
                      <a:pt x="644" y="301"/>
                    </a:lnTo>
                    <a:lnTo>
                      <a:pt x="649" y="301"/>
                    </a:lnTo>
                    <a:lnTo>
                      <a:pt x="649" y="297"/>
                    </a:lnTo>
                    <a:lnTo>
                      <a:pt x="644" y="297"/>
                    </a:lnTo>
                    <a:lnTo>
                      <a:pt x="644" y="297"/>
                    </a:lnTo>
                    <a:close/>
                    <a:moveTo>
                      <a:pt x="636" y="297"/>
                    </a:moveTo>
                    <a:lnTo>
                      <a:pt x="636" y="301"/>
                    </a:lnTo>
                    <a:lnTo>
                      <a:pt x="643" y="301"/>
                    </a:lnTo>
                    <a:lnTo>
                      <a:pt x="643" y="297"/>
                    </a:lnTo>
                    <a:lnTo>
                      <a:pt x="636" y="297"/>
                    </a:lnTo>
                    <a:lnTo>
                      <a:pt x="636" y="297"/>
                    </a:lnTo>
                    <a:close/>
                    <a:moveTo>
                      <a:pt x="627" y="297"/>
                    </a:moveTo>
                    <a:lnTo>
                      <a:pt x="627" y="301"/>
                    </a:lnTo>
                    <a:lnTo>
                      <a:pt x="633" y="301"/>
                    </a:lnTo>
                    <a:lnTo>
                      <a:pt x="633" y="297"/>
                    </a:lnTo>
                    <a:lnTo>
                      <a:pt x="627" y="297"/>
                    </a:lnTo>
                    <a:lnTo>
                      <a:pt x="627" y="297"/>
                    </a:lnTo>
                    <a:close/>
                    <a:moveTo>
                      <a:pt x="618" y="297"/>
                    </a:moveTo>
                    <a:lnTo>
                      <a:pt x="618" y="301"/>
                    </a:lnTo>
                    <a:lnTo>
                      <a:pt x="624" y="301"/>
                    </a:lnTo>
                    <a:lnTo>
                      <a:pt x="624" y="297"/>
                    </a:lnTo>
                    <a:lnTo>
                      <a:pt x="618" y="297"/>
                    </a:lnTo>
                    <a:lnTo>
                      <a:pt x="618" y="297"/>
                    </a:lnTo>
                    <a:close/>
                    <a:moveTo>
                      <a:pt x="658" y="303"/>
                    </a:moveTo>
                    <a:lnTo>
                      <a:pt x="627" y="303"/>
                    </a:lnTo>
                    <a:lnTo>
                      <a:pt x="627" y="308"/>
                    </a:lnTo>
                    <a:lnTo>
                      <a:pt x="658" y="308"/>
                    </a:lnTo>
                    <a:lnTo>
                      <a:pt x="658" y="303"/>
                    </a:lnTo>
                    <a:lnTo>
                      <a:pt x="658" y="303"/>
                    </a:lnTo>
                    <a:close/>
                    <a:moveTo>
                      <a:pt x="663" y="303"/>
                    </a:moveTo>
                    <a:lnTo>
                      <a:pt x="663" y="308"/>
                    </a:lnTo>
                    <a:lnTo>
                      <a:pt x="669" y="308"/>
                    </a:lnTo>
                    <a:lnTo>
                      <a:pt x="669" y="303"/>
                    </a:lnTo>
                    <a:lnTo>
                      <a:pt x="663" y="303"/>
                    </a:lnTo>
                    <a:lnTo>
                      <a:pt x="663" y="303"/>
                    </a:lnTo>
                    <a:close/>
                    <a:moveTo>
                      <a:pt x="618" y="303"/>
                    </a:moveTo>
                    <a:lnTo>
                      <a:pt x="618" y="308"/>
                    </a:lnTo>
                    <a:lnTo>
                      <a:pt x="622" y="308"/>
                    </a:lnTo>
                    <a:lnTo>
                      <a:pt x="622" y="303"/>
                    </a:lnTo>
                    <a:lnTo>
                      <a:pt x="618" y="303"/>
                    </a:lnTo>
                    <a:lnTo>
                      <a:pt x="618" y="303"/>
                    </a:lnTo>
                    <a:close/>
                    <a:moveTo>
                      <a:pt x="869" y="139"/>
                    </a:moveTo>
                    <a:lnTo>
                      <a:pt x="869" y="138"/>
                    </a:lnTo>
                    <a:lnTo>
                      <a:pt x="867" y="137"/>
                    </a:lnTo>
                    <a:lnTo>
                      <a:pt x="866" y="135"/>
                    </a:lnTo>
                    <a:lnTo>
                      <a:pt x="865" y="135"/>
                    </a:lnTo>
                    <a:lnTo>
                      <a:pt x="861" y="135"/>
                    </a:lnTo>
                    <a:lnTo>
                      <a:pt x="860" y="137"/>
                    </a:lnTo>
                    <a:lnTo>
                      <a:pt x="859" y="138"/>
                    </a:lnTo>
                    <a:lnTo>
                      <a:pt x="857" y="139"/>
                    </a:lnTo>
                    <a:lnTo>
                      <a:pt x="859" y="143"/>
                    </a:lnTo>
                    <a:lnTo>
                      <a:pt x="860" y="144"/>
                    </a:lnTo>
                    <a:lnTo>
                      <a:pt x="861" y="145"/>
                    </a:lnTo>
                    <a:lnTo>
                      <a:pt x="865" y="147"/>
                    </a:lnTo>
                    <a:lnTo>
                      <a:pt x="866" y="145"/>
                    </a:lnTo>
                    <a:lnTo>
                      <a:pt x="867" y="144"/>
                    </a:lnTo>
                    <a:lnTo>
                      <a:pt x="869" y="143"/>
                    </a:lnTo>
                    <a:lnTo>
                      <a:pt x="869" y="139"/>
                    </a:lnTo>
                    <a:lnTo>
                      <a:pt x="869" y="139"/>
                    </a:lnTo>
                    <a:close/>
                    <a:moveTo>
                      <a:pt x="876" y="114"/>
                    </a:moveTo>
                    <a:lnTo>
                      <a:pt x="875" y="111"/>
                    </a:lnTo>
                    <a:lnTo>
                      <a:pt x="875" y="109"/>
                    </a:lnTo>
                    <a:lnTo>
                      <a:pt x="872" y="108"/>
                    </a:lnTo>
                    <a:lnTo>
                      <a:pt x="871" y="108"/>
                    </a:lnTo>
                    <a:lnTo>
                      <a:pt x="870" y="108"/>
                    </a:lnTo>
                    <a:lnTo>
                      <a:pt x="869" y="109"/>
                    </a:lnTo>
                    <a:lnTo>
                      <a:pt x="867" y="111"/>
                    </a:lnTo>
                    <a:lnTo>
                      <a:pt x="867" y="114"/>
                    </a:lnTo>
                    <a:lnTo>
                      <a:pt x="867" y="116"/>
                    </a:lnTo>
                    <a:lnTo>
                      <a:pt x="869" y="118"/>
                    </a:lnTo>
                    <a:lnTo>
                      <a:pt x="870" y="119"/>
                    </a:lnTo>
                    <a:lnTo>
                      <a:pt x="871" y="119"/>
                    </a:lnTo>
                    <a:lnTo>
                      <a:pt x="872" y="119"/>
                    </a:lnTo>
                    <a:lnTo>
                      <a:pt x="875" y="118"/>
                    </a:lnTo>
                    <a:lnTo>
                      <a:pt x="875" y="116"/>
                    </a:lnTo>
                    <a:lnTo>
                      <a:pt x="876" y="114"/>
                    </a:lnTo>
                    <a:lnTo>
                      <a:pt x="876" y="114"/>
                    </a:lnTo>
                    <a:close/>
                    <a:moveTo>
                      <a:pt x="890" y="167"/>
                    </a:moveTo>
                    <a:lnTo>
                      <a:pt x="889" y="166"/>
                    </a:lnTo>
                    <a:lnTo>
                      <a:pt x="887" y="163"/>
                    </a:lnTo>
                    <a:lnTo>
                      <a:pt x="886" y="163"/>
                    </a:lnTo>
                    <a:lnTo>
                      <a:pt x="885" y="162"/>
                    </a:lnTo>
                    <a:lnTo>
                      <a:pt x="884" y="162"/>
                    </a:lnTo>
                    <a:lnTo>
                      <a:pt x="882" y="163"/>
                    </a:lnTo>
                    <a:lnTo>
                      <a:pt x="881" y="163"/>
                    </a:lnTo>
                    <a:lnTo>
                      <a:pt x="881" y="163"/>
                    </a:lnTo>
                    <a:lnTo>
                      <a:pt x="880" y="166"/>
                    </a:lnTo>
                    <a:lnTo>
                      <a:pt x="880" y="167"/>
                    </a:lnTo>
                    <a:lnTo>
                      <a:pt x="880" y="169"/>
                    </a:lnTo>
                    <a:lnTo>
                      <a:pt x="881" y="172"/>
                    </a:lnTo>
                    <a:lnTo>
                      <a:pt x="881" y="173"/>
                    </a:lnTo>
                    <a:lnTo>
                      <a:pt x="882" y="173"/>
                    </a:lnTo>
                    <a:lnTo>
                      <a:pt x="884" y="173"/>
                    </a:lnTo>
                    <a:lnTo>
                      <a:pt x="885" y="173"/>
                    </a:lnTo>
                    <a:lnTo>
                      <a:pt x="886" y="173"/>
                    </a:lnTo>
                    <a:lnTo>
                      <a:pt x="887" y="172"/>
                    </a:lnTo>
                    <a:lnTo>
                      <a:pt x="889" y="169"/>
                    </a:lnTo>
                    <a:lnTo>
                      <a:pt x="890" y="167"/>
                    </a:lnTo>
                    <a:lnTo>
                      <a:pt x="890" y="167"/>
                    </a:lnTo>
                    <a:close/>
                    <a:moveTo>
                      <a:pt x="890" y="137"/>
                    </a:moveTo>
                    <a:lnTo>
                      <a:pt x="908" y="137"/>
                    </a:lnTo>
                    <a:lnTo>
                      <a:pt x="908" y="105"/>
                    </a:lnTo>
                    <a:lnTo>
                      <a:pt x="890" y="105"/>
                    </a:lnTo>
                    <a:lnTo>
                      <a:pt x="890" y="137"/>
                    </a:lnTo>
                    <a:lnTo>
                      <a:pt x="890" y="137"/>
                    </a:lnTo>
                    <a:close/>
                    <a:moveTo>
                      <a:pt x="916" y="167"/>
                    </a:moveTo>
                    <a:lnTo>
                      <a:pt x="916" y="166"/>
                    </a:lnTo>
                    <a:lnTo>
                      <a:pt x="915" y="163"/>
                    </a:lnTo>
                    <a:lnTo>
                      <a:pt x="914" y="163"/>
                    </a:lnTo>
                    <a:lnTo>
                      <a:pt x="913" y="162"/>
                    </a:lnTo>
                    <a:lnTo>
                      <a:pt x="909" y="163"/>
                    </a:lnTo>
                    <a:lnTo>
                      <a:pt x="908" y="163"/>
                    </a:lnTo>
                    <a:lnTo>
                      <a:pt x="906" y="166"/>
                    </a:lnTo>
                    <a:lnTo>
                      <a:pt x="905" y="167"/>
                    </a:lnTo>
                    <a:lnTo>
                      <a:pt x="906" y="169"/>
                    </a:lnTo>
                    <a:lnTo>
                      <a:pt x="908" y="172"/>
                    </a:lnTo>
                    <a:lnTo>
                      <a:pt x="909" y="173"/>
                    </a:lnTo>
                    <a:lnTo>
                      <a:pt x="913" y="173"/>
                    </a:lnTo>
                    <a:lnTo>
                      <a:pt x="914" y="173"/>
                    </a:lnTo>
                    <a:lnTo>
                      <a:pt x="915" y="172"/>
                    </a:lnTo>
                    <a:lnTo>
                      <a:pt x="916" y="169"/>
                    </a:lnTo>
                    <a:lnTo>
                      <a:pt x="916" y="167"/>
                    </a:lnTo>
                    <a:lnTo>
                      <a:pt x="916" y="167"/>
                    </a:lnTo>
                    <a:close/>
                    <a:moveTo>
                      <a:pt x="930" y="114"/>
                    </a:moveTo>
                    <a:lnTo>
                      <a:pt x="930" y="111"/>
                    </a:lnTo>
                    <a:lnTo>
                      <a:pt x="929" y="109"/>
                    </a:lnTo>
                    <a:lnTo>
                      <a:pt x="926" y="108"/>
                    </a:lnTo>
                    <a:lnTo>
                      <a:pt x="924" y="108"/>
                    </a:lnTo>
                    <a:lnTo>
                      <a:pt x="921" y="108"/>
                    </a:lnTo>
                    <a:lnTo>
                      <a:pt x="920" y="109"/>
                    </a:lnTo>
                    <a:lnTo>
                      <a:pt x="919" y="111"/>
                    </a:lnTo>
                    <a:lnTo>
                      <a:pt x="919" y="114"/>
                    </a:lnTo>
                    <a:lnTo>
                      <a:pt x="919" y="116"/>
                    </a:lnTo>
                    <a:lnTo>
                      <a:pt x="920" y="118"/>
                    </a:lnTo>
                    <a:lnTo>
                      <a:pt x="921" y="119"/>
                    </a:lnTo>
                    <a:lnTo>
                      <a:pt x="924" y="119"/>
                    </a:lnTo>
                    <a:lnTo>
                      <a:pt x="926" y="119"/>
                    </a:lnTo>
                    <a:lnTo>
                      <a:pt x="929" y="118"/>
                    </a:lnTo>
                    <a:lnTo>
                      <a:pt x="930" y="116"/>
                    </a:lnTo>
                    <a:lnTo>
                      <a:pt x="930" y="114"/>
                    </a:lnTo>
                    <a:lnTo>
                      <a:pt x="930" y="114"/>
                    </a:lnTo>
                    <a:close/>
                    <a:moveTo>
                      <a:pt x="938" y="139"/>
                    </a:moveTo>
                    <a:lnTo>
                      <a:pt x="936" y="138"/>
                    </a:lnTo>
                    <a:lnTo>
                      <a:pt x="935" y="137"/>
                    </a:lnTo>
                    <a:lnTo>
                      <a:pt x="934" y="135"/>
                    </a:lnTo>
                    <a:lnTo>
                      <a:pt x="933" y="135"/>
                    </a:lnTo>
                    <a:lnTo>
                      <a:pt x="930" y="135"/>
                    </a:lnTo>
                    <a:lnTo>
                      <a:pt x="928" y="137"/>
                    </a:lnTo>
                    <a:lnTo>
                      <a:pt x="926" y="138"/>
                    </a:lnTo>
                    <a:lnTo>
                      <a:pt x="926" y="139"/>
                    </a:lnTo>
                    <a:lnTo>
                      <a:pt x="926" y="143"/>
                    </a:lnTo>
                    <a:lnTo>
                      <a:pt x="928" y="144"/>
                    </a:lnTo>
                    <a:lnTo>
                      <a:pt x="930" y="145"/>
                    </a:lnTo>
                    <a:lnTo>
                      <a:pt x="933" y="147"/>
                    </a:lnTo>
                    <a:lnTo>
                      <a:pt x="934" y="145"/>
                    </a:lnTo>
                    <a:lnTo>
                      <a:pt x="935" y="144"/>
                    </a:lnTo>
                    <a:lnTo>
                      <a:pt x="936" y="143"/>
                    </a:lnTo>
                    <a:lnTo>
                      <a:pt x="938" y="139"/>
                    </a:lnTo>
                    <a:lnTo>
                      <a:pt x="938" y="139"/>
                    </a:lnTo>
                    <a:close/>
                    <a:moveTo>
                      <a:pt x="876" y="301"/>
                    </a:moveTo>
                    <a:lnTo>
                      <a:pt x="876" y="308"/>
                    </a:lnTo>
                    <a:lnTo>
                      <a:pt x="876" y="310"/>
                    </a:lnTo>
                    <a:lnTo>
                      <a:pt x="877" y="311"/>
                    </a:lnTo>
                    <a:lnTo>
                      <a:pt x="879" y="312"/>
                    </a:lnTo>
                    <a:lnTo>
                      <a:pt x="880" y="312"/>
                    </a:lnTo>
                    <a:lnTo>
                      <a:pt x="880" y="312"/>
                    </a:lnTo>
                    <a:lnTo>
                      <a:pt x="887" y="312"/>
                    </a:lnTo>
                    <a:lnTo>
                      <a:pt x="887" y="301"/>
                    </a:lnTo>
                    <a:lnTo>
                      <a:pt x="876" y="301"/>
                    </a:lnTo>
                    <a:lnTo>
                      <a:pt x="876" y="301"/>
                    </a:lnTo>
                    <a:close/>
                    <a:moveTo>
                      <a:pt x="887" y="297"/>
                    </a:moveTo>
                    <a:lnTo>
                      <a:pt x="887" y="286"/>
                    </a:lnTo>
                    <a:lnTo>
                      <a:pt x="880" y="286"/>
                    </a:lnTo>
                    <a:lnTo>
                      <a:pt x="879" y="286"/>
                    </a:lnTo>
                    <a:lnTo>
                      <a:pt x="877" y="287"/>
                    </a:lnTo>
                    <a:lnTo>
                      <a:pt x="876" y="288"/>
                    </a:lnTo>
                    <a:lnTo>
                      <a:pt x="876" y="289"/>
                    </a:lnTo>
                    <a:lnTo>
                      <a:pt x="876" y="289"/>
                    </a:lnTo>
                    <a:lnTo>
                      <a:pt x="876" y="297"/>
                    </a:lnTo>
                    <a:lnTo>
                      <a:pt x="887" y="297"/>
                    </a:lnTo>
                    <a:lnTo>
                      <a:pt x="887" y="297"/>
                    </a:lnTo>
                    <a:close/>
                    <a:moveTo>
                      <a:pt x="894" y="312"/>
                    </a:moveTo>
                    <a:lnTo>
                      <a:pt x="908" y="312"/>
                    </a:lnTo>
                    <a:lnTo>
                      <a:pt x="910" y="312"/>
                    </a:lnTo>
                    <a:lnTo>
                      <a:pt x="913" y="312"/>
                    </a:lnTo>
                    <a:lnTo>
                      <a:pt x="914" y="311"/>
                    </a:lnTo>
                    <a:lnTo>
                      <a:pt x="916" y="310"/>
                    </a:lnTo>
                    <a:lnTo>
                      <a:pt x="918" y="308"/>
                    </a:lnTo>
                    <a:lnTo>
                      <a:pt x="918" y="306"/>
                    </a:lnTo>
                    <a:lnTo>
                      <a:pt x="919" y="303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294"/>
                    </a:lnTo>
                    <a:lnTo>
                      <a:pt x="919" y="293"/>
                    </a:lnTo>
                    <a:lnTo>
                      <a:pt x="918" y="291"/>
                    </a:lnTo>
                    <a:lnTo>
                      <a:pt x="918" y="289"/>
                    </a:lnTo>
                    <a:lnTo>
                      <a:pt x="916" y="288"/>
                    </a:lnTo>
                    <a:lnTo>
                      <a:pt x="914" y="287"/>
                    </a:lnTo>
                    <a:lnTo>
                      <a:pt x="913" y="286"/>
                    </a:lnTo>
                    <a:lnTo>
                      <a:pt x="910" y="286"/>
                    </a:lnTo>
                    <a:lnTo>
                      <a:pt x="908" y="286"/>
                    </a:lnTo>
                    <a:lnTo>
                      <a:pt x="908" y="286"/>
                    </a:lnTo>
                    <a:lnTo>
                      <a:pt x="894" y="286"/>
                    </a:lnTo>
                    <a:lnTo>
                      <a:pt x="894" y="312"/>
                    </a:lnTo>
                    <a:lnTo>
                      <a:pt x="894" y="312"/>
                    </a:lnTo>
                    <a:close/>
                    <a:moveTo>
                      <a:pt x="871" y="308"/>
                    </a:moveTo>
                    <a:lnTo>
                      <a:pt x="871" y="310"/>
                    </a:lnTo>
                    <a:lnTo>
                      <a:pt x="871" y="312"/>
                    </a:lnTo>
                    <a:lnTo>
                      <a:pt x="872" y="313"/>
                    </a:lnTo>
                    <a:lnTo>
                      <a:pt x="874" y="315"/>
                    </a:lnTo>
                    <a:lnTo>
                      <a:pt x="875" y="316"/>
                    </a:lnTo>
                    <a:lnTo>
                      <a:pt x="877" y="316"/>
                    </a:lnTo>
                    <a:lnTo>
                      <a:pt x="879" y="317"/>
                    </a:lnTo>
                    <a:lnTo>
                      <a:pt x="880" y="317"/>
                    </a:lnTo>
                    <a:lnTo>
                      <a:pt x="908" y="317"/>
                    </a:lnTo>
                    <a:lnTo>
                      <a:pt x="911" y="317"/>
                    </a:lnTo>
                    <a:lnTo>
                      <a:pt x="914" y="316"/>
                    </a:lnTo>
                    <a:lnTo>
                      <a:pt x="916" y="315"/>
                    </a:lnTo>
                    <a:lnTo>
                      <a:pt x="919" y="312"/>
                    </a:lnTo>
                    <a:lnTo>
                      <a:pt x="921" y="311"/>
                    </a:lnTo>
                    <a:lnTo>
                      <a:pt x="924" y="308"/>
                    </a:lnTo>
                    <a:lnTo>
                      <a:pt x="925" y="305"/>
                    </a:lnTo>
                    <a:lnTo>
                      <a:pt x="926" y="301"/>
                    </a:lnTo>
                    <a:lnTo>
                      <a:pt x="926" y="294"/>
                    </a:lnTo>
                    <a:lnTo>
                      <a:pt x="925" y="292"/>
                    </a:lnTo>
                    <a:lnTo>
                      <a:pt x="924" y="289"/>
                    </a:lnTo>
                    <a:lnTo>
                      <a:pt x="921" y="287"/>
                    </a:lnTo>
                    <a:lnTo>
                      <a:pt x="919" y="286"/>
                    </a:lnTo>
                    <a:lnTo>
                      <a:pt x="916" y="283"/>
                    </a:lnTo>
                    <a:lnTo>
                      <a:pt x="914" y="282"/>
                    </a:lnTo>
                    <a:lnTo>
                      <a:pt x="911" y="281"/>
                    </a:lnTo>
                    <a:lnTo>
                      <a:pt x="908" y="281"/>
                    </a:lnTo>
                    <a:lnTo>
                      <a:pt x="880" y="281"/>
                    </a:lnTo>
                    <a:lnTo>
                      <a:pt x="879" y="281"/>
                    </a:lnTo>
                    <a:lnTo>
                      <a:pt x="877" y="281"/>
                    </a:lnTo>
                    <a:lnTo>
                      <a:pt x="875" y="282"/>
                    </a:lnTo>
                    <a:lnTo>
                      <a:pt x="874" y="283"/>
                    </a:lnTo>
                    <a:lnTo>
                      <a:pt x="872" y="284"/>
                    </a:lnTo>
                    <a:lnTo>
                      <a:pt x="871" y="287"/>
                    </a:lnTo>
                    <a:lnTo>
                      <a:pt x="871" y="288"/>
                    </a:lnTo>
                    <a:lnTo>
                      <a:pt x="871" y="289"/>
                    </a:lnTo>
                    <a:lnTo>
                      <a:pt x="871" y="308"/>
                    </a:lnTo>
                    <a:lnTo>
                      <a:pt x="871" y="308"/>
                    </a:lnTo>
                    <a:close/>
                    <a:moveTo>
                      <a:pt x="1121" y="130"/>
                    </a:moveTo>
                    <a:lnTo>
                      <a:pt x="1117" y="130"/>
                    </a:lnTo>
                    <a:lnTo>
                      <a:pt x="1114" y="132"/>
                    </a:lnTo>
                    <a:lnTo>
                      <a:pt x="1112" y="133"/>
                    </a:lnTo>
                    <a:lnTo>
                      <a:pt x="1109" y="135"/>
                    </a:lnTo>
                    <a:lnTo>
                      <a:pt x="1107" y="138"/>
                    </a:lnTo>
                    <a:lnTo>
                      <a:pt x="1106" y="140"/>
                    </a:lnTo>
                    <a:lnTo>
                      <a:pt x="1104" y="143"/>
                    </a:lnTo>
                    <a:lnTo>
                      <a:pt x="1104" y="147"/>
                    </a:lnTo>
                    <a:lnTo>
                      <a:pt x="1104" y="149"/>
                    </a:lnTo>
                    <a:lnTo>
                      <a:pt x="1106" y="153"/>
                    </a:lnTo>
                    <a:lnTo>
                      <a:pt x="1107" y="156"/>
                    </a:lnTo>
                    <a:lnTo>
                      <a:pt x="1109" y="158"/>
                    </a:lnTo>
                    <a:lnTo>
                      <a:pt x="1112" y="159"/>
                    </a:lnTo>
                    <a:lnTo>
                      <a:pt x="1114" y="161"/>
                    </a:lnTo>
                    <a:lnTo>
                      <a:pt x="1117" y="162"/>
                    </a:lnTo>
                    <a:lnTo>
                      <a:pt x="1121" y="162"/>
                    </a:lnTo>
                    <a:lnTo>
                      <a:pt x="1124" y="162"/>
                    </a:lnTo>
                    <a:lnTo>
                      <a:pt x="1127" y="161"/>
                    </a:lnTo>
                    <a:lnTo>
                      <a:pt x="1129" y="159"/>
                    </a:lnTo>
                    <a:lnTo>
                      <a:pt x="1132" y="158"/>
                    </a:lnTo>
                    <a:lnTo>
                      <a:pt x="1133" y="156"/>
                    </a:lnTo>
                    <a:lnTo>
                      <a:pt x="1136" y="153"/>
                    </a:lnTo>
                    <a:lnTo>
                      <a:pt x="1136" y="149"/>
                    </a:lnTo>
                    <a:lnTo>
                      <a:pt x="1137" y="147"/>
                    </a:lnTo>
                    <a:lnTo>
                      <a:pt x="1136" y="143"/>
                    </a:lnTo>
                    <a:lnTo>
                      <a:pt x="1136" y="140"/>
                    </a:lnTo>
                    <a:lnTo>
                      <a:pt x="1133" y="138"/>
                    </a:lnTo>
                    <a:lnTo>
                      <a:pt x="1132" y="135"/>
                    </a:lnTo>
                    <a:lnTo>
                      <a:pt x="1129" y="133"/>
                    </a:lnTo>
                    <a:lnTo>
                      <a:pt x="1127" y="132"/>
                    </a:lnTo>
                    <a:lnTo>
                      <a:pt x="1124" y="130"/>
                    </a:lnTo>
                    <a:lnTo>
                      <a:pt x="1121" y="130"/>
                    </a:lnTo>
                    <a:lnTo>
                      <a:pt x="1121" y="130"/>
                    </a:lnTo>
                    <a:close/>
                    <a:moveTo>
                      <a:pt x="1471" y="130"/>
                    </a:moveTo>
                    <a:lnTo>
                      <a:pt x="1468" y="130"/>
                    </a:lnTo>
                    <a:lnTo>
                      <a:pt x="1465" y="132"/>
                    </a:lnTo>
                    <a:lnTo>
                      <a:pt x="1463" y="133"/>
                    </a:lnTo>
                    <a:lnTo>
                      <a:pt x="1460" y="135"/>
                    </a:lnTo>
                    <a:lnTo>
                      <a:pt x="1458" y="138"/>
                    </a:lnTo>
                    <a:lnTo>
                      <a:pt x="1456" y="140"/>
                    </a:lnTo>
                    <a:lnTo>
                      <a:pt x="1456" y="143"/>
                    </a:lnTo>
                    <a:lnTo>
                      <a:pt x="1455" y="147"/>
                    </a:lnTo>
                    <a:lnTo>
                      <a:pt x="1456" y="149"/>
                    </a:lnTo>
                    <a:lnTo>
                      <a:pt x="1456" y="153"/>
                    </a:lnTo>
                    <a:lnTo>
                      <a:pt x="1458" y="156"/>
                    </a:lnTo>
                    <a:lnTo>
                      <a:pt x="1460" y="158"/>
                    </a:lnTo>
                    <a:lnTo>
                      <a:pt x="1463" y="159"/>
                    </a:lnTo>
                    <a:lnTo>
                      <a:pt x="1465" y="161"/>
                    </a:lnTo>
                    <a:lnTo>
                      <a:pt x="1468" y="162"/>
                    </a:lnTo>
                    <a:lnTo>
                      <a:pt x="1471" y="162"/>
                    </a:lnTo>
                    <a:lnTo>
                      <a:pt x="1474" y="162"/>
                    </a:lnTo>
                    <a:lnTo>
                      <a:pt x="1476" y="161"/>
                    </a:lnTo>
                    <a:lnTo>
                      <a:pt x="1479" y="159"/>
                    </a:lnTo>
                    <a:lnTo>
                      <a:pt x="1480" y="158"/>
                    </a:lnTo>
                    <a:lnTo>
                      <a:pt x="1483" y="156"/>
                    </a:lnTo>
                    <a:lnTo>
                      <a:pt x="1484" y="153"/>
                    </a:lnTo>
                    <a:lnTo>
                      <a:pt x="1485" y="149"/>
                    </a:lnTo>
                    <a:lnTo>
                      <a:pt x="1485" y="147"/>
                    </a:lnTo>
                    <a:lnTo>
                      <a:pt x="1485" y="143"/>
                    </a:lnTo>
                    <a:lnTo>
                      <a:pt x="1484" y="140"/>
                    </a:lnTo>
                    <a:lnTo>
                      <a:pt x="1483" y="138"/>
                    </a:lnTo>
                    <a:lnTo>
                      <a:pt x="1480" y="135"/>
                    </a:lnTo>
                    <a:lnTo>
                      <a:pt x="1479" y="133"/>
                    </a:lnTo>
                    <a:lnTo>
                      <a:pt x="1476" y="132"/>
                    </a:lnTo>
                    <a:lnTo>
                      <a:pt x="1474" y="130"/>
                    </a:lnTo>
                    <a:lnTo>
                      <a:pt x="1471" y="130"/>
                    </a:lnTo>
                    <a:lnTo>
                      <a:pt x="1471" y="130"/>
                    </a:lnTo>
                    <a:close/>
                    <a:moveTo>
                      <a:pt x="2112" y="135"/>
                    </a:moveTo>
                    <a:lnTo>
                      <a:pt x="2109" y="135"/>
                    </a:lnTo>
                    <a:lnTo>
                      <a:pt x="2105" y="137"/>
                    </a:lnTo>
                    <a:lnTo>
                      <a:pt x="2103" y="138"/>
                    </a:lnTo>
                    <a:lnTo>
                      <a:pt x="2100" y="139"/>
                    </a:lnTo>
                    <a:lnTo>
                      <a:pt x="2099" y="142"/>
                    </a:lnTo>
                    <a:lnTo>
                      <a:pt x="2098" y="144"/>
                    </a:lnTo>
                    <a:lnTo>
                      <a:pt x="2097" y="148"/>
                    </a:lnTo>
                    <a:lnTo>
                      <a:pt x="2097" y="150"/>
                    </a:lnTo>
                    <a:lnTo>
                      <a:pt x="2097" y="153"/>
                    </a:lnTo>
                    <a:lnTo>
                      <a:pt x="2098" y="156"/>
                    </a:lnTo>
                    <a:lnTo>
                      <a:pt x="2099" y="158"/>
                    </a:lnTo>
                    <a:lnTo>
                      <a:pt x="2100" y="161"/>
                    </a:lnTo>
                    <a:lnTo>
                      <a:pt x="2103" y="162"/>
                    </a:lnTo>
                    <a:lnTo>
                      <a:pt x="2105" y="163"/>
                    </a:lnTo>
                    <a:lnTo>
                      <a:pt x="2109" y="164"/>
                    </a:lnTo>
                    <a:lnTo>
                      <a:pt x="2112" y="164"/>
                    </a:lnTo>
                    <a:lnTo>
                      <a:pt x="2115" y="164"/>
                    </a:lnTo>
                    <a:lnTo>
                      <a:pt x="2118" y="163"/>
                    </a:lnTo>
                    <a:lnTo>
                      <a:pt x="2120" y="162"/>
                    </a:lnTo>
                    <a:lnTo>
                      <a:pt x="2123" y="161"/>
                    </a:lnTo>
                    <a:lnTo>
                      <a:pt x="2125" y="158"/>
                    </a:lnTo>
                    <a:lnTo>
                      <a:pt x="2127" y="156"/>
                    </a:lnTo>
                    <a:lnTo>
                      <a:pt x="2128" y="153"/>
                    </a:lnTo>
                    <a:lnTo>
                      <a:pt x="2128" y="150"/>
                    </a:lnTo>
                    <a:lnTo>
                      <a:pt x="2128" y="148"/>
                    </a:lnTo>
                    <a:lnTo>
                      <a:pt x="2127" y="144"/>
                    </a:lnTo>
                    <a:lnTo>
                      <a:pt x="2125" y="142"/>
                    </a:lnTo>
                    <a:lnTo>
                      <a:pt x="2123" y="139"/>
                    </a:lnTo>
                    <a:lnTo>
                      <a:pt x="2120" y="138"/>
                    </a:lnTo>
                    <a:lnTo>
                      <a:pt x="2118" y="137"/>
                    </a:lnTo>
                    <a:lnTo>
                      <a:pt x="2115" y="135"/>
                    </a:lnTo>
                    <a:lnTo>
                      <a:pt x="2112" y="135"/>
                    </a:lnTo>
                    <a:lnTo>
                      <a:pt x="2112" y="135"/>
                    </a:lnTo>
                    <a:close/>
                    <a:moveTo>
                      <a:pt x="2198" y="181"/>
                    </a:moveTo>
                    <a:lnTo>
                      <a:pt x="2198" y="182"/>
                    </a:lnTo>
                    <a:lnTo>
                      <a:pt x="2198" y="182"/>
                    </a:lnTo>
                    <a:lnTo>
                      <a:pt x="2201" y="185"/>
                    </a:lnTo>
                    <a:lnTo>
                      <a:pt x="2203" y="187"/>
                    </a:lnTo>
                    <a:lnTo>
                      <a:pt x="2204" y="187"/>
                    </a:lnTo>
                    <a:lnTo>
                      <a:pt x="2204" y="187"/>
                    </a:lnTo>
                    <a:lnTo>
                      <a:pt x="2207" y="187"/>
                    </a:lnTo>
                    <a:lnTo>
                      <a:pt x="2208" y="187"/>
                    </a:lnTo>
                    <a:lnTo>
                      <a:pt x="2211" y="185"/>
                    </a:lnTo>
                    <a:lnTo>
                      <a:pt x="2212" y="183"/>
                    </a:lnTo>
                    <a:lnTo>
                      <a:pt x="2213" y="182"/>
                    </a:lnTo>
                    <a:lnTo>
                      <a:pt x="2213" y="182"/>
                    </a:lnTo>
                    <a:lnTo>
                      <a:pt x="2214" y="181"/>
                    </a:lnTo>
                    <a:lnTo>
                      <a:pt x="2213" y="178"/>
                    </a:lnTo>
                    <a:lnTo>
                      <a:pt x="2213" y="177"/>
                    </a:lnTo>
                    <a:lnTo>
                      <a:pt x="2212" y="176"/>
                    </a:lnTo>
                    <a:lnTo>
                      <a:pt x="2211" y="176"/>
                    </a:lnTo>
                    <a:lnTo>
                      <a:pt x="2208" y="174"/>
                    </a:lnTo>
                    <a:lnTo>
                      <a:pt x="2204" y="173"/>
                    </a:lnTo>
                    <a:lnTo>
                      <a:pt x="2203" y="174"/>
                    </a:lnTo>
                    <a:lnTo>
                      <a:pt x="2201" y="176"/>
                    </a:lnTo>
                    <a:lnTo>
                      <a:pt x="2198" y="177"/>
                    </a:lnTo>
                    <a:lnTo>
                      <a:pt x="2198" y="178"/>
                    </a:lnTo>
                    <a:lnTo>
                      <a:pt x="2198" y="181"/>
                    </a:lnTo>
                    <a:lnTo>
                      <a:pt x="2198" y="181"/>
                    </a:lnTo>
                    <a:close/>
                    <a:moveTo>
                      <a:pt x="2237" y="181"/>
                    </a:moveTo>
                    <a:lnTo>
                      <a:pt x="2237" y="182"/>
                    </a:lnTo>
                    <a:lnTo>
                      <a:pt x="2237" y="182"/>
                    </a:lnTo>
                    <a:lnTo>
                      <a:pt x="2239" y="185"/>
                    </a:lnTo>
                    <a:lnTo>
                      <a:pt x="2241" y="187"/>
                    </a:lnTo>
                    <a:lnTo>
                      <a:pt x="2242" y="187"/>
                    </a:lnTo>
                    <a:lnTo>
                      <a:pt x="2243" y="187"/>
                    </a:lnTo>
                    <a:lnTo>
                      <a:pt x="2244" y="187"/>
                    </a:lnTo>
                    <a:lnTo>
                      <a:pt x="2246" y="187"/>
                    </a:lnTo>
                    <a:lnTo>
                      <a:pt x="2248" y="185"/>
                    </a:lnTo>
                    <a:lnTo>
                      <a:pt x="2249" y="182"/>
                    </a:lnTo>
                    <a:lnTo>
                      <a:pt x="2249" y="181"/>
                    </a:lnTo>
                    <a:lnTo>
                      <a:pt x="2249" y="177"/>
                    </a:lnTo>
                    <a:lnTo>
                      <a:pt x="2248" y="176"/>
                    </a:lnTo>
                    <a:lnTo>
                      <a:pt x="2246" y="174"/>
                    </a:lnTo>
                    <a:lnTo>
                      <a:pt x="2243" y="173"/>
                    </a:lnTo>
                    <a:lnTo>
                      <a:pt x="2241" y="174"/>
                    </a:lnTo>
                    <a:lnTo>
                      <a:pt x="2239" y="176"/>
                    </a:lnTo>
                    <a:lnTo>
                      <a:pt x="2237" y="177"/>
                    </a:lnTo>
                    <a:lnTo>
                      <a:pt x="2237" y="178"/>
                    </a:lnTo>
                    <a:lnTo>
                      <a:pt x="2237" y="181"/>
                    </a:lnTo>
                    <a:lnTo>
                      <a:pt x="2237" y="181"/>
                    </a:lnTo>
                    <a:close/>
                    <a:moveTo>
                      <a:pt x="2275" y="181"/>
                    </a:moveTo>
                    <a:lnTo>
                      <a:pt x="2275" y="182"/>
                    </a:lnTo>
                    <a:lnTo>
                      <a:pt x="2276" y="182"/>
                    </a:lnTo>
                    <a:lnTo>
                      <a:pt x="2277" y="185"/>
                    </a:lnTo>
                    <a:lnTo>
                      <a:pt x="2280" y="187"/>
                    </a:lnTo>
                    <a:lnTo>
                      <a:pt x="2281" y="187"/>
                    </a:lnTo>
                    <a:lnTo>
                      <a:pt x="2282" y="187"/>
                    </a:lnTo>
                    <a:lnTo>
                      <a:pt x="2283" y="187"/>
                    </a:lnTo>
                    <a:lnTo>
                      <a:pt x="2285" y="187"/>
                    </a:lnTo>
                    <a:lnTo>
                      <a:pt x="2287" y="185"/>
                    </a:lnTo>
                    <a:lnTo>
                      <a:pt x="2288" y="182"/>
                    </a:lnTo>
                    <a:lnTo>
                      <a:pt x="2288" y="181"/>
                    </a:lnTo>
                    <a:lnTo>
                      <a:pt x="2288" y="177"/>
                    </a:lnTo>
                    <a:lnTo>
                      <a:pt x="2287" y="176"/>
                    </a:lnTo>
                    <a:lnTo>
                      <a:pt x="2285" y="174"/>
                    </a:lnTo>
                    <a:lnTo>
                      <a:pt x="2282" y="173"/>
                    </a:lnTo>
                    <a:lnTo>
                      <a:pt x="2280" y="174"/>
                    </a:lnTo>
                    <a:lnTo>
                      <a:pt x="2277" y="176"/>
                    </a:lnTo>
                    <a:lnTo>
                      <a:pt x="2276" y="177"/>
                    </a:lnTo>
                    <a:lnTo>
                      <a:pt x="2275" y="178"/>
                    </a:lnTo>
                    <a:lnTo>
                      <a:pt x="2275" y="181"/>
                    </a:lnTo>
                    <a:lnTo>
                      <a:pt x="2275" y="181"/>
                    </a:lnTo>
                    <a:close/>
                    <a:moveTo>
                      <a:pt x="2313" y="181"/>
                    </a:moveTo>
                    <a:lnTo>
                      <a:pt x="2313" y="182"/>
                    </a:lnTo>
                    <a:lnTo>
                      <a:pt x="2315" y="185"/>
                    </a:lnTo>
                    <a:lnTo>
                      <a:pt x="2317" y="187"/>
                    </a:lnTo>
                    <a:lnTo>
                      <a:pt x="2318" y="187"/>
                    </a:lnTo>
                    <a:lnTo>
                      <a:pt x="2320" y="187"/>
                    </a:lnTo>
                    <a:lnTo>
                      <a:pt x="2322" y="187"/>
                    </a:lnTo>
                    <a:lnTo>
                      <a:pt x="2323" y="187"/>
                    </a:lnTo>
                    <a:lnTo>
                      <a:pt x="2325" y="185"/>
                    </a:lnTo>
                    <a:lnTo>
                      <a:pt x="2326" y="182"/>
                    </a:lnTo>
                    <a:lnTo>
                      <a:pt x="2327" y="181"/>
                    </a:lnTo>
                    <a:lnTo>
                      <a:pt x="2326" y="177"/>
                    </a:lnTo>
                    <a:lnTo>
                      <a:pt x="2325" y="176"/>
                    </a:lnTo>
                    <a:lnTo>
                      <a:pt x="2323" y="174"/>
                    </a:lnTo>
                    <a:lnTo>
                      <a:pt x="2320" y="173"/>
                    </a:lnTo>
                    <a:lnTo>
                      <a:pt x="2317" y="174"/>
                    </a:lnTo>
                    <a:lnTo>
                      <a:pt x="2315" y="176"/>
                    </a:lnTo>
                    <a:lnTo>
                      <a:pt x="2313" y="177"/>
                    </a:lnTo>
                    <a:lnTo>
                      <a:pt x="2313" y="181"/>
                    </a:lnTo>
                    <a:lnTo>
                      <a:pt x="2313" y="181"/>
                    </a:lnTo>
                    <a:close/>
                    <a:moveTo>
                      <a:pt x="2352" y="181"/>
                    </a:moveTo>
                    <a:lnTo>
                      <a:pt x="2352" y="182"/>
                    </a:lnTo>
                    <a:lnTo>
                      <a:pt x="2353" y="185"/>
                    </a:lnTo>
                    <a:lnTo>
                      <a:pt x="2356" y="187"/>
                    </a:lnTo>
                    <a:lnTo>
                      <a:pt x="2357" y="187"/>
                    </a:lnTo>
                    <a:lnTo>
                      <a:pt x="2358" y="187"/>
                    </a:lnTo>
                    <a:lnTo>
                      <a:pt x="2360" y="187"/>
                    </a:lnTo>
                    <a:lnTo>
                      <a:pt x="2362" y="187"/>
                    </a:lnTo>
                    <a:lnTo>
                      <a:pt x="2363" y="185"/>
                    </a:lnTo>
                    <a:lnTo>
                      <a:pt x="2365" y="182"/>
                    </a:lnTo>
                    <a:lnTo>
                      <a:pt x="2366" y="181"/>
                    </a:lnTo>
                    <a:lnTo>
                      <a:pt x="2365" y="177"/>
                    </a:lnTo>
                    <a:lnTo>
                      <a:pt x="2363" y="176"/>
                    </a:lnTo>
                    <a:lnTo>
                      <a:pt x="2362" y="174"/>
                    </a:lnTo>
                    <a:lnTo>
                      <a:pt x="2358" y="173"/>
                    </a:lnTo>
                    <a:lnTo>
                      <a:pt x="2356" y="174"/>
                    </a:lnTo>
                    <a:lnTo>
                      <a:pt x="2353" y="176"/>
                    </a:lnTo>
                    <a:lnTo>
                      <a:pt x="2352" y="177"/>
                    </a:lnTo>
                    <a:lnTo>
                      <a:pt x="2352" y="181"/>
                    </a:lnTo>
                    <a:lnTo>
                      <a:pt x="2352" y="181"/>
                    </a:lnTo>
                    <a:close/>
                    <a:moveTo>
                      <a:pt x="2218" y="150"/>
                    </a:moveTo>
                    <a:lnTo>
                      <a:pt x="2218" y="152"/>
                    </a:lnTo>
                    <a:lnTo>
                      <a:pt x="2219" y="153"/>
                    </a:lnTo>
                    <a:lnTo>
                      <a:pt x="2221" y="156"/>
                    </a:lnTo>
                    <a:lnTo>
                      <a:pt x="2223" y="157"/>
                    </a:lnTo>
                    <a:lnTo>
                      <a:pt x="2224" y="158"/>
                    </a:lnTo>
                    <a:lnTo>
                      <a:pt x="2226" y="158"/>
                    </a:lnTo>
                    <a:lnTo>
                      <a:pt x="2227" y="158"/>
                    </a:lnTo>
                    <a:lnTo>
                      <a:pt x="2228" y="157"/>
                    </a:lnTo>
                    <a:lnTo>
                      <a:pt x="2231" y="156"/>
                    </a:lnTo>
                    <a:lnTo>
                      <a:pt x="2232" y="153"/>
                    </a:lnTo>
                    <a:lnTo>
                      <a:pt x="2232" y="150"/>
                    </a:lnTo>
                    <a:lnTo>
                      <a:pt x="2232" y="148"/>
                    </a:lnTo>
                    <a:lnTo>
                      <a:pt x="2231" y="145"/>
                    </a:lnTo>
                    <a:lnTo>
                      <a:pt x="2228" y="144"/>
                    </a:lnTo>
                    <a:lnTo>
                      <a:pt x="2226" y="144"/>
                    </a:lnTo>
                    <a:lnTo>
                      <a:pt x="2223" y="144"/>
                    </a:lnTo>
                    <a:lnTo>
                      <a:pt x="2221" y="145"/>
                    </a:lnTo>
                    <a:lnTo>
                      <a:pt x="2219" y="148"/>
                    </a:lnTo>
                    <a:lnTo>
                      <a:pt x="2218" y="149"/>
                    </a:lnTo>
                    <a:lnTo>
                      <a:pt x="2218" y="150"/>
                    </a:lnTo>
                    <a:lnTo>
                      <a:pt x="2218" y="150"/>
                    </a:lnTo>
                    <a:close/>
                    <a:moveTo>
                      <a:pt x="2257" y="150"/>
                    </a:moveTo>
                    <a:lnTo>
                      <a:pt x="2257" y="152"/>
                    </a:lnTo>
                    <a:lnTo>
                      <a:pt x="2257" y="153"/>
                    </a:lnTo>
                    <a:lnTo>
                      <a:pt x="2259" y="156"/>
                    </a:lnTo>
                    <a:lnTo>
                      <a:pt x="2262" y="157"/>
                    </a:lnTo>
                    <a:lnTo>
                      <a:pt x="2262" y="158"/>
                    </a:lnTo>
                    <a:lnTo>
                      <a:pt x="2263" y="158"/>
                    </a:lnTo>
                    <a:lnTo>
                      <a:pt x="2266" y="158"/>
                    </a:lnTo>
                    <a:lnTo>
                      <a:pt x="2267" y="157"/>
                    </a:lnTo>
                    <a:lnTo>
                      <a:pt x="2268" y="156"/>
                    </a:lnTo>
                    <a:lnTo>
                      <a:pt x="2270" y="153"/>
                    </a:lnTo>
                    <a:lnTo>
                      <a:pt x="2271" y="150"/>
                    </a:lnTo>
                    <a:lnTo>
                      <a:pt x="2270" y="148"/>
                    </a:lnTo>
                    <a:lnTo>
                      <a:pt x="2268" y="145"/>
                    </a:lnTo>
                    <a:lnTo>
                      <a:pt x="2267" y="144"/>
                    </a:lnTo>
                    <a:lnTo>
                      <a:pt x="2263" y="144"/>
                    </a:lnTo>
                    <a:lnTo>
                      <a:pt x="2262" y="144"/>
                    </a:lnTo>
                    <a:lnTo>
                      <a:pt x="2259" y="145"/>
                    </a:lnTo>
                    <a:lnTo>
                      <a:pt x="2257" y="148"/>
                    </a:lnTo>
                    <a:lnTo>
                      <a:pt x="2257" y="149"/>
                    </a:lnTo>
                    <a:lnTo>
                      <a:pt x="2257" y="150"/>
                    </a:lnTo>
                    <a:lnTo>
                      <a:pt x="2257" y="150"/>
                    </a:lnTo>
                    <a:close/>
                    <a:moveTo>
                      <a:pt x="2296" y="150"/>
                    </a:moveTo>
                    <a:lnTo>
                      <a:pt x="2296" y="153"/>
                    </a:lnTo>
                    <a:lnTo>
                      <a:pt x="2297" y="156"/>
                    </a:lnTo>
                    <a:lnTo>
                      <a:pt x="2300" y="157"/>
                    </a:lnTo>
                    <a:lnTo>
                      <a:pt x="2301" y="158"/>
                    </a:lnTo>
                    <a:lnTo>
                      <a:pt x="2302" y="158"/>
                    </a:lnTo>
                    <a:lnTo>
                      <a:pt x="2303" y="158"/>
                    </a:lnTo>
                    <a:lnTo>
                      <a:pt x="2305" y="157"/>
                    </a:lnTo>
                    <a:lnTo>
                      <a:pt x="2307" y="156"/>
                    </a:lnTo>
                    <a:lnTo>
                      <a:pt x="2308" y="153"/>
                    </a:lnTo>
                    <a:lnTo>
                      <a:pt x="2308" y="150"/>
                    </a:lnTo>
                    <a:lnTo>
                      <a:pt x="2308" y="148"/>
                    </a:lnTo>
                    <a:lnTo>
                      <a:pt x="2307" y="145"/>
                    </a:lnTo>
                    <a:lnTo>
                      <a:pt x="2305" y="144"/>
                    </a:lnTo>
                    <a:lnTo>
                      <a:pt x="2302" y="144"/>
                    </a:lnTo>
                    <a:lnTo>
                      <a:pt x="2300" y="144"/>
                    </a:lnTo>
                    <a:lnTo>
                      <a:pt x="2297" y="145"/>
                    </a:lnTo>
                    <a:lnTo>
                      <a:pt x="2296" y="148"/>
                    </a:lnTo>
                    <a:lnTo>
                      <a:pt x="2296" y="150"/>
                    </a:lnTo>
                    <a:lnTo>
                      <a:pt x="2296" y="150"/>
                    </a:lnTo>
                    <a:close/>
                    <a:moveTo>
                      <a:pt x="2333" y="150"/>
                    </a:moveTo>
                    <a:lnTo>
                      <a:pt x="2335" y="153"/>
                    </a:lnTo>
                    <a:lnTo>
                      <a:pt x="2336" y="156"/>
                    </a:lnTo>
                    <a:lnTo>
                      <a:pt x="2337" y="157"/>
                    </a:lnTo>
                    <a:lnTo>
                      <a:pt x="2338" y="158"/>
                    </a:lnTo>
                    <a:lnTo>
                      <a:pt x="2341" y="158"/>
                    </a:lnTo>
                    <a:lnTo>
                      <a:pt x="2342" y="158"/>
                    </a:lnTo>
                    <a:lnTo>
                      <a:pt x="2343" y="157"/>
                    </a:lnTo>
                    <a:lnTo>
                      <a:pt x="2346" y="156"/>
                    </a:lnTo>
                    <a:lnTo>
                      <a:pt x="2347" y="153"/>
                    </a:lnTo>
                    <a:lnTo>
                      <a:pt x="2347" y="150"/>
                    </a:lnTo>
                    <a:lnTo>
                      <a:pt x="2347" y="148"/>
                    </a:lnTo>
                    <a:lnTo>
                      <a:pt x="2346" y="145"/>
                    </a:lnTo>
                    <a:lnTo>
                      <a:pt x="2343" y="144"/>
                    </a:lnTo>
                    <a:lnTo>
                      <a:pt x="2341" y="144"/>
                    </a:lnTo>
                    <a:lnTo>
                      <a:pt x="2337" y="144"/>
                    </a:lnTo>
                    <a:lnTo>
                      <a:pt x="2336" y="145"/>
                    </a:lnTo>
                    <a:lnTo>
                      <a:pt x="2335" y="148"/>
                    </a:lnTo>
                    <a:lnTo>
                      <a:pt x="2333" y="150"/>
                    </a:lnTo>
                    <a:lnTo>
                      <a:pt x="2333" y="150"/>
                    </a:lnTo>
                    <a:close/>
                    <a:moveTo>
                      <a:pt x="2372" y="150"/>
                    </a:moveTo>
                    <a:lnTo>
                      <a:pt x="2372" y="153"/>
                    </a:lnTo>
                    <a:lnTo>
                      <a:pt x="2373" y="156"/>
                    </a:lnTo>
                    <a:lnTo>
                      <a:pt x="2376" y="157"/>
                    </a:lnTo>
                    <a:lnTo>
                      <a:pt x="2377" y="158"/>
                    </a:lnTo>
                    <a:lnTo>
                      <a:pt x="2379" y="158"/>
                    </a:lnTo>
                    <a:lnTo>
                      <a:pt x="2380" y="158"/>
                    </a:lnTo>
                    <a:lnTo>
                      <a:pt x="2381" y="157"/>
                    </a:lnTo>
                    <a:lnTo>
                      <a:pt x="2384" y="156"/>
                    </a:lnTo>
                    <a:lnTo>
                      <a:pt x="2385" y="153"/>
                    </a:lnTo>
                    <a:lnTo>
                      <a:pt x="2386" y="152"/>
                    </a:lnTo>
                    <a:lnTo>
                      <a:pt x="2386" y="150"/>
                    </a:lnTo>
                    <a:lnTo>
                      <a:pt x="2386" y="149"/>
                    </a:lnTo>
                    <a:lnTo>
                      <a:pt x="2385" y="148"/>
                    </a:lnTo>
                    <a:lnTo>
                      <a:pt x="2384" y="145"/>
                    </a:lnTo>
                    <a:lnTo>
                      <a:pt x="2381" y="144"/>
                    </a:lnTo>
                    <a:lnTo>
                      <a:pt x="2379" y="144"/>
                    </a:lnTo>
                    <a:lnTo>
                      <a:pt x="2376" y="144"/>
                    </a:lnTo>
                    <a:lnTo>
                      <a:pt x="2373" y="145"/>
                    </a:lnTo>
                    <a:lnTo>
                      <a:pt x="2372" y="148"/>
                    </a:lnTo>
                    <a:lnTo>
                      <a:pt x="2372" y="150"/>
                    </a:lnTo>
                    <a:lnTo>
                      <a:pt x="2372" y="150"/>
                    </a:lnTo>
                    <a:close/>
                    <a:moveTo>
                      <a:pt x="2198" y="119"/>
                    </a:moveTo>
                    <a:lnTo>
                      <a:pt x="2198" y="120"/>
                    </a:lnTo>
                    <a:lnTo>
                      <a:pt x="2198" y="121"/>
                    </a:lnTo>
                    <a:lnTo>
                      <a:pt x="2201" y="124"/>
                    </a:lnTo>
                    <a:lnTo>
                      <a:pt x="2203" y="125"/>
                    </a:lnTo>
                    <a:lnTo>
                      <a:pt x="2204" y="125"/>
                    </a:lnTo>
                    <a:lnTo>
                      <a:pt x="2208" y="125"/>
                    </a:lnTo>
                    <a:lnTo>
                      <a:pt x="2211" y="124"/>
                    </a:lnTo>
                    <a:lnTo>
                      <a:pt x="2212" y="123"/>
                    </a:lnTo>
                    <a:lnTo>
                      <a:pt x="2213" y="121"/>
                    </a:lnTo>
                    <a:lnTo>
                      <a:pt x="2213" y="120"/>
                    </a:lnTo>
                    <a:lnTo>
                      <a:pt x="2214" y="119"/>
                    </a:lnTo>
                    <a:lnTo>
                      <a:pt x="2213" y="118"/>
                    </a:lnTo>
                    <a:lnTo>
                      <a:pt x="2213" y="116"/>
                    </a:lnTo>
                    <a:lnTo>
                      <a:pt x="2212" y="116"/>
                    </a:lnTo>
                    <a:lnTo>
                      <a:pt x="2211" y="115"/>
                    </a:lnTo>
                    <a:lnTo>
                      <a:pt x="2208" y="113"/>
                    </a:lnTo>
                    <a:lnTo>
                      <a:pt x="2207" y="113"/>
                    </a:lnTo>
                    <a:lnTo>
                      <a:pt x="2204" y="113"/>
                    </a:lnTo>
                    <a:lnTo>
                      <a:pt x="2204" y="113"/>
                    </a:lnTo>
                    <a:lnTo>
                      <a:pt x="2203" y="113"/>
                    </a:lnTo>
                    <a:lnTo>
                      <a:pt x="2201" y="115"/>
                    </a:lnTo>
                    <a:lnTo>
                      <a:pt x="2198" y="116"/>
                    </a:lnTo>
                    <a:lnTo>
                      <a:pt x="2198" y="118"/>
                    </a:lnTo>
                    <a:lnTo>
                      <a:pt x="2198" y="119"/>
                    </a:lnTo>
                    <a:lnTo>
                      <a:pt x="2198" y="119"/>
                    </a:lnTo>
                    <a:close/>
                    <a:moveTo>
                      <a:pt x="2237" y="119"/>
                    </a:moveTo>
                    <a:lnTo>
                      <a:pt x="2237" y="120"/>
                    </a:lnTo>
                    <a:lnTo>
                      <a:pt x="2237" y="121"/>
                    </a:lnTo>
                    <a:lnTo>
                      <a:pt x="2239" y="124"/>
                    </a:lnTo>
                    <a:lnTo>
                      <a:pt x="2241" y="125"/>
                    </a:lnTo>
                    <a:lnTo>
                      <a:pt x="2243" y="125"/>
                    </a:lnTo>
                    <a:lnTo>
                      <a:pt x="2246" y="125"/>
                    </a:lnTo>
                    <a:lnTo>
                      <a:pt x="2248" y="124"/>
                    </a:lnTo>
                    <a:lnTo>
                      <a:pt x="2249" y="121"/>
                    </a:lnTo>
                    <a:lnTo>
                      <a:pt x="2249" y="119"/>
                    </a:lnTo>
                    <a:lnTo>
                      <a:pt x="2249" y="116"/>
                    </a:lnTo>
                    <a:lnTo>
                      <a:pt x="2248" y="115"/>
                    </a:lnTo>
                    <a:lnTo>
                      <a:pt x="2246" y="113"/>
                    </a:lnTo>
                    <a:lnTo>
                      <a:pt x="2244" y="113"/>
                    </a:lnTo>
                    <a:lnTo>
                      <a:pt x="2243" y="113"/>
                    </a:lnTo>
                    <a:lnTo>
                      <a:pt x="2242" y="113"/>
                    </a:lnTo>
                    <a:lnTo>
                      <a:pt x="2241" y="113"/>
                    </a:lnTo>
                    <a:lnTo>
                      <a:pt x="2239" y="115"/>
                    </a:lnTo>
                    <a:lnTo>
                      <a:pt x="2237" y="116"/>
                    </a:lnTo>
                    <a:lnTo>
                      <a:pt x="2237" y="118"/>
                    </a:lnTo>
                    <a:lnTo>
                      <a:pt x="2237" y="119"/>
                    </a:lnTo>
                    <a:lnTo>
                      <a:pt x="2237" y="119"/>
                    </a:lnTo>
                    <a:close/>
                    <a:moveTo>
                      <a:pt x="2275" y="119"/>
                    </a:moveTo>
                    <a:lnTo>
                      <a:pt x="2275" y="120"/>
                    </a:lnTo>
                    <a:lnTo>
                      <a:pt x="2276" y="121"/>
                    </a:lnTo>
                    <a:lnTo>
                      <a:pt x="2277" y="124"/>
                    </a:lnTo>
                    <a:lnTo>
                      <a:pt x="2280" y="125"/>
                    </a:lnTo>
                    <a:lnTo>
                      <a:pt x="2282" y="125"/>
                    </a:lnTo>
                    <a:lnTo>
                      <a:pt x="2285" y="125"/>
                    </a:lnTo>
                    <a:lnTo>
                      <a:pt x="2287" y="124"/>
                    </a:lnTo>
                    <a:lnTo>
                      <a:pt x="2288" y="121"/>
                    </a:lnTo>
                    <a:lnTo>
                      <a:pt x="2288" y="119"/>
                    </a:lnTo>
                    <a:lnTo>
                      <a:pt x="2288" y="116"/>
                    </a:lnTo>
                    <a:lnTo>
                      <a:pt x="2287" y="115"/>
                    </a:lnTo>
                    <a:lnTo>
                      <a:pt x="2285" y="113"/>
                    </a:lnTo>
                    <a:lnTo>
                      <a:pt x="2283" y="113"/>
                    </a:lnTo>
                    <a:lnTo>
                      <a:pt x="2282" y="113"/>
                    </a:lnTo>
                    <a:lnTo>
                      <a:pt x="2281" y="113"/>
                    </a:lnTo>
                    <a:lnTo>
                      <a:pt x="2280" y="113"/>
                    </a:lnTo>
                    <a:lnTo>
                      <a:pt x="2277" y="115"/>
                    </a:lnTo>
                    <a:lnTo>
                      <a:pt x="2276" y="116"/>
                    </a:lnTo>
                    <a:lnTo>
                      <a:pt x="2275" y="118"/>
                    </a:lnTo>
                    <a:lnTo>
                      <a:pt x="2275" y="119"/>
                    </a:lnTo>
                    <a:lnTo>
                      <a:pt x="2275" y="119"/>
                    </a:lnTo>
                    <a:close/>
                    <a:moveTo>
                      <a:pt x="2313" y="119"/>
                    </a:moveTo>
                    <a:lnTo>
                      <a:pt x="2313" y="121"/>
                    </a:lnTo>
                    <a:lnTo>
                      <a:pt x="2315" y="124"/>
                    </a:lnTo>
                    <a:lnTo>
                      <a:pt x="2317" y="125"/>
                    </a:lnTo>
                    <a:lnTo>
                      <a:pt x="2320" y="125"/>
                    </a:lnTo>
                    <a:lnTo>
                      <a:pt x="2323" y="125"/>
                    </a:lnTo>
                    <a:lnTo>
                      <a:pt x="2325" y="124"/>
                    </a:lnTo>
                    <a:lnTo>
                      <a:pt x="2326" y="121"/>
                    </a:lnTo>
                    <a:lnTo>
                      <a:pt x="2327" y="119"/>
                    </a:lnTo>
                    <a:lnTo>
                      <a:pt x="2326" y="116"/>
                    </a:lnTo>
                    <a:lnTo>
                      <a:pt x="2325" y="115"/>
                    </a:lnTo>
                    <a:lnTo>
                      <a:pt x="2323" y="113"/>
                    </a:lnTo>
                    <a:lnTo>
                      <a:pt x="2322" y="113"/>
                    </a:lnTo>
                    <a:lnTo>
                      <a:pt x="2320" y="113"/>
                    </a:lnTo>
                    <a:lnTo>
                      <a:pt x="2318" y="113"/>
                    </a:lnTo>
                    <a:lnTo>
                      <a:pt x="2317" y="113"/>
                    </a:lnTo>
                    <a:lnTo>
                      <a:pt x="2315" y="115"/>
                    </a:lnTo>
                    <a:lnTo>
                      <a:pt x="2313" y="116"/>
                    </a:lnTo>
                    <a:lnTo>
                      <a:pt x="2313" y="119"/>
                    </a:lnTo>
                    <a:lnTo>
                      <a:pt x="2313" y="119"/>
                    </a:lnTo>
                    <a:close/>
                    <a:moveTo>
                      <a:pt x="2352" y="119"/>
                    </a:moveTo>
                    <a:lnTo>
                      <a:pt x="2352" y="121"/>
                    </a:lnTo>
                    <a:lnTo>
                      <a:pt x="2353" y="124"/>
                    </a:lnTo>
                    <a:lnTo>
                      <a:pt x="2356" y="125"/>
                    </a:lnTo>
                    <a:lnTo>
                      <a:pt x="2358" y="125"/>
                    </a:lnTo>
                    <a:lnTo>
                      <a:pt x="2362" y="125"/>
                    </a:lnTo>
                    <a:lnTo>
                      <a:pt x="2363" y="124"/>
                    </a:lnTo>
                    <a:lnTo>
                      <a:pt x="2365" y="121"/>
                    </a:lnTo>
                    <a:lnTo>
                      <a:pt x="2366" y="119"/>
                    </a:lnTo>
                    <a:lnTo>
                      <a:pt x="2365" y="116"/>
                    </a:lnTo>
                    <a:lnTo>
                      <a:pt x="2363" y="115"/>
                    </a:lnTo>
                    <a:lnTo>
                      <a:pt x="2362" y="113"/>
                    </a:lnTo>
                    <a:lnTo>
                      <a:pt x="2360" y="113"/>
                    </a:lnTo>
                    <a:lnTo>
                      <a:pt x="2358" y="113"/>
                    </a:lnTo>
                    <a:lnTo>
                      <a:pt x="2357" y="113"/>
                    </a:lnTo>
                    <a:lnTo>
                      <a:pt x="2356" y="113"/>
                    </a:lnTo>
                    <a:lnTo>
                      <a:pt x="2353" y="115"/>
                    </a:lnTo>
                    <a:lnTo>
                      <a:pt x="2352" y="116"/>
                    </a:lnTo>
                    <a:lnTo>
                      <a:pt x="2352" y="119"/>
                    </a:lnTo>
                    <a:lnTo>
                      <a:pt x="2352" y="119"/>
                    </a:lnTo>
                    <a:close/>
                    <a:moveTo>
                      <a:pt x="2460" y="135"/>
                    </a:moveTo>
                    <a:lnTo>
                      <a:pt x="2457" y="135"/>
                    </a:lnTo>
                    <a:lnTo>
                      <a:pt x="2455" y="137"/>
                    </a:lnTo>
                    <a:lnTo>
                      <a:pt x="2454" y="138"/>
                    </a:lnTo>
                    <a:lnTo>
                      <a:pt x="2451" y="139"/>
                    </a:lnTo>
                    <a:lnTo>
                      <a:pt x="2450" y="142"/>
                    </a:lnTo>
                    <a:lnTo>
                      <a:pt x="2449" y="144"/>
                    </a:lnTo>
                    <a:lnTo>
                      <a:pt x="2447" y="148"/>
                    </a:lnTo>
                    <a:lnTo>
                      <a:pt x="2447" y="150"/>
                    </a:lnTo>
                    <a:lnTo>
                      <a:pt x="2447" y="153"/>
                    </a:lnTo>
                    <a:lnTo>
                      <a:pt x="2449" y="156"/>
                    </a:lnTo>
                    <a:lnTo>
                      <a:pt x="2450" y="158"/>
                    </a:lnTo>
                    <a:lnTo>
                      <a:pt x="2451" y="161"/>
                    </a:lnTo>
                    <a:lnTo>
                      <a:pt x="2454" y="162"/>
                    </a:lnTo>
                    <a:lnTo>
                      <a:pt x="2455" y="163"/>
                    </a:lnTo>
                    <a:lnTo>
                      <a:pt x="2457" y="164"/>
                    </a:lnTo>
                    <a:lnTo>
                      <a:pt x="2460" y="164"/>
                    </a:lnTo>
                    <a:lnTo>
                      <a:pt x="2464" y="164"/>
                    </a:lnTo>
                    <a:lnTo>
                      <a:pt x="2466" y="163"/>
                    </a:lnTo>
                    <a:lnTo>
                      <a:pt x="2470" y="162"/>
                    </a:lnTo>
                    <a:lnTo>
                      <a:pt x="2471" y="161"/>
                    </a:lnTo>
                    <a:lnTo>
                      <a:pt x="2474" y="158"/>
                    </a:lnTo>
                    <a:lnTo>
                      <a:pt x="2475" y="156"/>
                    </a:lnTo>
                    <a:lnTo>
                      <a:pt x="2476" y="153"/>
                    </a:lnTo>
                    <a:lnTo>
                      <a:pt x="2476" y="150"/>
                    </a:lnTo>
                    <a:lnTo>
                      <a:pt x="2476" y="148"/>
                    </a:lnTo>
                    <a:lnTo>
                      <a:pt x="2475" y="144"/>
                    </a:lnTo>
                    <a:lnTo>
                      <a:pt x="2474" y="142"/>
                    </a:lnTo>
                    <a:lnTo>
                      <a:pt x="2471" y="139"/>
                    </a:lnTo>
                    <a:lnTo>
                      <a:pt x="2470" y="138"/>
                    </a:lnTo>
                    <a:lnTo>
                      <a:pt x="2466" y="137"/>
                    </a:lnTo>
                    <a:lnTo>
                      <a:pt x="2464" y="135"/>
                    </a:lnTo>
                    <a:lnTo>
                      <a:pt x="2460" y="135"/>
                    </a:lnTo>
                    <a:lnTo>
                      <a:pt x="246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>
                <a:off x="5543640" y="5814720"/>
                <a:ext cx="269640" cy="33840"/>
              </a:xfrm>
              <a:custGeom>
                <a:avLst/>
                <a:gdLst/>
                <a:ahLst/>
                <a:rect l="l" t="t" r="r" b="b"/>
                <a:pathLst>
                  <a:path w="396" h="62">
                    <a:moveTo>
                      <a:pt x="60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60" y="62"/>
                    </a:lnTo>
                    <a:lnTo>
                      <a:pt x="160" y="61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8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  <a:moveTo>
                      <a:pt x="293" y="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4" y="1"/>
                    </a:lnTo>
                    <a:lnTo>
                      <a:pt x="233" y="3"/>
                    </a:lnTo>
                    <a:lnTo>
                      <a:pt x="233" y="5"/>
                    </a:lnTo>
                    <a:lnTo>
                      <a:pt x="233" y="5"/>
                    </a:lnTo>
                    <a:lnTo>
                      <a:pt x="233" y="59"/>
                    </a:lnTo>
                    <a:lnTo>
                      <a:pt x="233" y="61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391" y="62"/>
                    </a:lnTo>
                    <a:lnTo>
                      <a:pt x="392" y="62"/>
                    </a:lnTo>
                    <a:lnTo>
                      <a:pt x="394" y="62"/>
                    </a:lnTo>
                    <a:lnTo>
                      <a:pt x="394" y="61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"/>
                    </a:lnTo>
                    <a:lnTo>
                      <a:pt x="394" y="3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5549760" y="5821560"/>
                <a:ext cx="255600" cy="8280"/>
              </a:xfrm>
              <a:custGeom>
                <a:avLst/>
                <a:gdLst/>
                <a:ahLst/>
                <a:rect l="l" t="t" r="r" b="b"/>
                <a:pathLst>
                  <a:path w="376" h="17">
                    <a:moveTo>
                      <a:pt x="143" y="17"/>
                    </a:moveTo>
                    <a:lnTo>
                      <a:pt x="14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3" y="17"/>
                    </a:lnTo>
                    <a:close/>
                    <a:moveTo>
                      <a:pt x="376" y="17"/>
                    </a:moveTo>
                    <a:lnTo>
                      <a:pt x="376" y="0"/>
                    </a:lnTo>
                    <a:lnTo>
                      <a:pt x="236" y="0"/>
                    </a:lnTo>
                    <a:lnTo>
                      <a:pt x="236" y="17"/>
                    </a:lnTo>
                    <a:lnTo>
                      <a:pt x="376" y="17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7" name=""/>
              <p:cNvSpPr/>
              <p:nvPr/>
            </p:nvSpPr>
            <p:spPr>
              <a:xfrm>
                <a:off x="5549760" y="5821560"/>
                <a:ext cx="97560" cy="828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8" name=""/>
              <p:cNvSpPr/>
              <p:nvPr/>
            </p:nvSpPr>
            <p:spPr>
              <a:xfrm>
                <a:off x="5709960" y="5821560"/>
                <a:ext cx="95400" cy="828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9" name=""/>
              <p:cNvSpPr/>
              <p:nvPr/>
            </p:nvSpPr>
            <p:spPr>
              <a:xfrm>
                <a:off x="4273200" y="5687640"/>
                <a:ext cx="2028960" cy="187920"/>
              </a:xfrm>
              <a:custGeom>
                <a:avLst/>
                <a:gdLst/>
                <a:ahLst/>
                <a:rect l="l" t="t" r="r" b="b"/>
                <a:pathLst>
                  <a:path w="2983" h="337">
                    <a:moveTo>
                      <a:pt x="2974" y="259"/>
                    </a:moveTo>
                    <a:lnTo>
                      <a:pt x="2983" y="259"/>
                    </a:lnTo>
                    <a:lnTo>
                      <a:pt x="2983" y="221"/>
                    </a:lnTo>
                    <a:lnTo>
                      <a:pt x="2947" y="221"/>
                    </a:lnTo>
                    <a:lnTo>
                      <a:pt x="2947" y="195"/>
                    </a:lnTo>
                    <a:lnTo>
                      <a:pt x="2931" y="195"/>
                    </a:lnTo>
                    <a:lnTo>
                      <a:pt x="2931" y="184"/>
                    </a:lnTo>
                    <a:lnTo>
                      <a:pt x="2870" y="184"/>
                    </a:lnTo>
                    <a:lnTo>
                      <a:pt x="2870" y="195"/>
                    </a:lnTo>
                    <a:lnTo>
                      <a:pt x="2854" y="195"/>
                    </a:lnTo>
                    <a:lnTo>
                      <a:pt x="2854" y="221"/>
                    </a:lnTo>
                    <a:lnTo>
                      <a:pt x="2817" y="221"/>
                    </a:lnTo>
                    <a:lnTo>
                      <a:pt x="2817" y="259"/>
                    </a:lnTo>
                    <a:lnTo>
                      <a:pt x="2827" y="259"/>
                    </a:lnTo>
                    <a:lnTo>
                      <a:pt x="2827" y="284"/>
                    </a:lnTo>
                    <a:lnTo>
                      <a:pt x="2817" y="284"/>
                    </a:lnTo>
                    <a:lnTo>
                      <a:pt x="2817" y="323"/>
                    </a:lnTo>
                    <a:lnTo>
                      <a:pt x="2983" y="323"/>
                    </a:lnTo>
                    <a:lnTo>
                      <a:pt x="2983" y="284"/>
                    </a:lnTo>
                    <a:lnTo>
                      <a:pt x="2974" y="284"/>
                    </a:lnTo>
                    <a:lnTo>
                      <a:pt x="2974" y="259"/>
                    </a:lnTo>
                    <a:close/>
                    <a:moveTo>
                      <a:pt x="157" y="264"/>
                    </a:moveTo>
                    <a:lnTo>
                      <a:pt x="167" y="264"/>
                    </a:lnTo>
                    <a:lnTo>
                      <a:pt x="167" y="300"/>
                    </a:lnTo>
                    <a:lnTo>
                      <a:pt x="131" y="300"/>
                    </a:lnTo>
                    <a:lnTo>
                      <a:pt x="131" y="326"/>
                    </a:lnTo>
                    <a:lnTo>
                      <a:pt x="115" y="326"/>
                    </a:lnTo>
                    <a:lnTo>
                      <a:pt x="115" y="337"/>
                    </a:lnTo>
                    <a:lnTo>
                      <a:pt x="52" y="337"/>
                    </a:lnTo>
                    <a:lnTo>
                      <a:pt x="52" y="326"/>
                    </a:lnTo>
                    <a:lnTo>
                      <a:pt x="36" y="326"/>
                    </a:lnTo>
                    <a:lnTo>
                      <a:pt x="36" y="300"/>
                    </a:lnTo>
                    <a:lnTo>
                      <a:pt x="0" y="300"/>
                    </a:lnTo>
                    <a:lnTo>
                      <a:pt x="2" y="264"/>
                    </a:lnTo>
                    <a:lnTo>
                      <a:pt x="8" y="264"/>
                    </a:lnTo>
                    <a:lnTo>
                      <a:pt x="8" y="236"/>
                    </a:lnTo>
                    <a:lnTo>
                      <a:pt x="2" y="236"/>
                    </a:lnTo>
                    <a:lnTo>
                      <a:pt x="2" y="198"/>
                    </a:lnTo>
                    <a:lnTo>
                      <a:pt x="167" y="198"/>
                    </a:lnTo>
                    <a:lnTo>
                      <a:pt x="167" y="236"/>
                    </a:lnTo>
                    <a:lnTo>
                      <a:pt x="157" y="236"/>
                    </a:lnTo>
                    <a:lnTo>
                      <a:pt x="157" y="264"/>
                    </a:lnTo>
                    <a:close/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0" name=""/>
              <p:cNvSpPr/>
              <p:nvPr/>
            </p:nvSpPr>
            <p:spPr>
              <a:xfrm>
                <a:off x="6190200" y="5790600"/>
                <a:ext cx="112320" cy="76320"/>
              </a:xfrm>
              <a:custGeom>
                <a:avLst/>
                <a:gdLst/>
                <a:ahLst/>
                <a:rect l="l" t="t" r="r" b="b"/>
                <a:pathLst>
                  <a:path w="166" h="139">
                    <a:moveTo>
                      <a:pt x="157" y="75"/>
                    </a:moveTo>
                    <a:lnTo>
                      <a:pt x="166" y="75"/>
                    </a:lnTo>
                    <a:lnTo>
                      <a:pt x="166" y="37"/>
                    </a:lnTo>
                    <a:lnTo>
                      <a:pt x="130" y="37"/>
                    </a:lnTo>
                    <a:lnTo>
                      <a:pt x="130" y="11"/>
                    </a:lnTo>
                    <a:lnTo>
                      <a:pt x="114" y="11"/>
                    </a:lnTo>
                    <a:lnTo>
                      <a:pt x="114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37" y="1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100"/>
                    </a:lnTo>
                    <a:lnTo>
                      <a:pt x="0" y="100"/>
                    </a:lnTo>
                    <a:lnTo>
                      <a:pt x="0" y="139"/>
                    </a:lnTo>
                    <a:lnTo>
                      <a:pt x="166" y="139"/>
                    </a:lnTo>
                    <a:lnTo>
                      <a:pt x="166" y="100"/>
                    </a:lnTo>
                    <a:lnTo>
                      <a:pt x="157" y="100"/>
                    </a:lnTo>
                    <a:lnTo>
                      <a:pt x="157" y="75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4273200" y="5797440"/>
                <a:ext cx="114840" cy="7812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66"/>
                    </a:moveTo>
                    <a:lnTo>
                      <a:pt x="167" y="66"/>
                    </a:lnTo>
                    <a:lnTo>
                      <a:pt x="167" y="102"/>
                    </a:lnTo>
                    <a:lnTo>
                      <a:pt x="131" y="102"/>
                    </a:lnTo>
                    <a:lnTo>
                      <a:pt x="131" y="128"/>
                    </a:lnTo>
                    <a:lnTo>
                      <a:pt x="115" y="128"/>
                    </a:lnTo>
                    <a:lnTo>
                      <a:pt x="115" y="139"/>
                    </a:lnTo>
                    <a:lnTo>
                      <a:pt x="52" y="139"/>
                    </a:lnTo>
                    <a:lnTo>
                      <a:pt x="52" y="128"/>
                    </a:lnTo>
                    <a:lnTo>
                      <a:pt x="36" y="128"/>
                    </a:lnTo>
                    <a:lnTo>
                      <a:pt x="36" y="102"/>
                    </a:lnTo>
                    <a:lnTo>
                      <a:pt x="0" y="102"/>
                    </a:lnTo>
                    <a:lnTo>
                      <a:pt x="2" y="66"/>
                    </a:lnTo>
                    <a:lnTo>
                      <a:pt x="8" y="66"/>
                    </a:lnTo>
                    <a:lnTo>
                      <a:pt x="8" y="38"/>
                    </a:lnTo>
                    <a:lnTo>
                      <a:pt x="2" y="38"/>
                    </a:lnTo>
                    <a:lnTo>
                      <a:pt x="2" y="0"/>
                    </a:lnTo>
                    <a:lnTo>
                      <a:pt x="167" y="0"/>
                    </a:lnTo>
                    <a:lnTo>
                      <a:pt x="167" y="38"/>
                    </a:lnTo>
                    <a:lnTo>
                      <a:pt x="157" y="38"/>
                    </a:lnTo>
                    <a:lnTo>
                      <a:pt x="157" y="66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2" name=""/>
              <p:cNvSpPr/>
              <p:nvPr/>
            </p:nvSpPr>
            <p:spPr>
              <a:xfrm>
                <a:off x="4273200" y="5687640"/>
                <a:ext cx="114840" cy="7740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3" name=""/>
              <p:cNvSpPr/>
              <p:nvPr/>
            </p:nvSpPr>
            <p:spPr>
              <a:xfrm>
                <a:off x="4273200" y="5698080"/>
                <a:ext cx="2031480" cy="165600"/>
              </a:xfrm>
              <a:custGeom>
                <a:avLst/>
                <a:gdLst/>
                <a:ahLst/>
                <a:rect l="l" t="t" r="r" b="b"/>
                <a:pathLst>
                  <a:path w="2985" h="301">
                    <a:moveTo>
                      <a:pt x="36" y="301"/>
                    </a:moveTo>
                    <a:lnTo>
                      <a:pt x="0" y="301"/>
                    </a:lnTo>
                    <a:lnTo>
                      <a:pt x="0" y="290"/>
                    </a:lnTo>
                    <a:lnTo>
                      <a:pt x="36" y="290"/>
                    </a:lnTo>
                    <a:lnTo>
                      <a:pt x="36" y="301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67" y="301"/>
                    </a:moveTo>
                    <a:lnTo>
                      <a:pt x="134" y="301"/>
                    </a:lnTo>
                    <a:lnTo>
                      <a:pt x="134" y="290"/>
                    </a:lnTo>
                    <a:lnTo>
                      <a:pt x="167" y="290"/>
                    </a:lnTo>
                    <a:lnTo>
                      <a:pt x="167" y="301"/>
                    </a:lnTo>
                    <a:close/>
                    <a:moveTo>
                      <a:pt x="167" y="0"/>
                    </a:moveTo>
                    <a:lnTo>
                      <a:pt x="134" y="0"/>
                    </a:lnTo>
                    <a:lnTo>
                      <a:pt x="134" y="12"/>
                    </a:lnTo>
                    <a:lnTo>
                      <a:pt x="167" y="12"/>
                    </a:lnTo>
                    <a:lnTo>
                      <a:pt x="167" y="0"/>
                    </a:lnTo>
                    <a:close/>
                    <a:moveTo>
                      <a:pt x="2985" y="185"/>
                    </a:moveTo>
                    <a:lnTo>
                      <a:pt x="2949" y="185"/>
                    </a:lnTo>
                    <a:lnTo>
                      <a:pt x="2949" y="199"/>
                    </a:lnTo>
                    <a:lnTo>
                      <a:pt x="2985" y="199"/>
                    </a:lnTo>
                    <a:lnTo>
                      <a:pt x="2985" y="185"/>
                    </a:lnTo>
                    <a:close/>
                  </a:path>
                </a:pathLst>
              </a:custGeom>
              <a:solidFill>
                <a:srgbClr val="82938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4" name=""/>
              <p:cNvSpPr/>
              <p:nvPr/>
            </p:nvSpPr>
            <p:spPr>
              <a:xfrm>
                <a:off x="4273200" y="5859000"/>
                <a:ext cx="25200" cy="4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5" name=""/>
              <p:cNvSpPr/>
              <p:nvPr/>
            </p:nvSpPr>
            <p:spPr>
              <a:xfrm>
                <a:off x="4273200" y="5698080"/>
                <a:ext cx="25200" cy="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4363920" y="5859000"/>
                <a:ext cx="23760" cy="4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7" name=""/>
              <p:cNvSpPr/>
              <p:nvPr/>
            </p:nvSpPr>
            <p:spPr>
              <a:xfrm>
                <a:off x="4363920" y="5698080"/>
                <a:ext cx="23760" cy="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8" name=""/>
              <p:cNvSpPr/>
              <p:nvPr/>
            </p:nvSpPr>
            <p:spPr>
              <a:xfrm>
                <a:off x="6279840" y="5800320"/>
                <a:ext cx="25200" cy="7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9" name=""/>
              <p:cNvSpPr/>
              <p:nvPr/>
            </p:nvSpPr>
            <p:spPr>
              <a:xfrm>
                <a:off x="3808440" y="5341320"/>
                <a:ext cx="2833200" cy="295920"/>
              </a:xfrm>
              <a:custGeom>
                <a:avLst/>
                <a:gdLst/>
                <a:ahLst/>
                <a:rect l="l" t="t" r="r" b="b"/>
                <a:pathLst>
                  <a:path w="4168" h="534">
                    <a:moveTo>
                      <a:pt x="4168" y="499"/>
                    </a:moveTo>
                    <a:lnTo>
                      <a:pt x="4168" y="495"/>
                    </a:lnTo>
                    <a:lnTo>
                      <a:pt x="4168" y="492"/>
                    </a:lnTo>
                    <a:lnTo>
                      <a:pt x="4167" y="488"/>
                    </a:lnTo>
                    <a:lnTo>
                      <a:pt x="4165" y="485"/>
                    </a:lnTo>
                    <a:lnTo>
                      <a:pt x="4163" y="478"/>
                    </a:lnTo>
                    <a:lnTo>
                      <a:pt x="4158" y="473"/>
                    </a:lnTo>
                    <a:lnTo>
                      <a:pt x="4153" y="468"/>
                    </a:lnTo>
                    <a:lnTo>
                      <a:pt x="4146" y="466"/>
                    </a:lnTo>
                    <a:lnTo>
                      <a:pt x="4143" y="464"/>
                    </a:lnTo>
                    <a:lnTo>
                      <a:pt x="4139" y="463"/>
                    </a:lnTo>
                    <a:lnTo>
                      <a:pt x="4136" y="463"/>
                    </a:lnTo>
                    <a:lnTo>
                      <a:pt x="4133" y="463"/>
                    </a:lnTo>
                    <a:lnTo>
                      <a:pt x="4129" y="463"/>
                    </a:lnTo>
                    <a:lnTo>
                      <a:pt x="4125" y="463"/>
                    </a:lnTo>
                    <a:lnTo>
                      <a:pt x="4123" y="464"/>
                    </a:lnTo>
                    <a:lnTo>
                      <a:pt x="4119" y="466"/>
                    </a:lnTo>
                    <a:lnTo>
                      <a:pt x="4114" y="468"/>
                    </a:lnTo>
                    <a:lnTo>
                      <a:pt x="4109" y="473"/>
                    </a:lnTo>
                    <a:lnTo>
                      <a:pt x="4104" y="478"/>
                    </a:lnTo>
                    <a:lnTo>
                      <a:pt x="4101" y="485"/>
                    </a:lnTo>
                    <a:lnTo>
                      <a:pt x="4100" y="488"/>
                    </a:lnTo>
                    <a:lnTo>
                      <a:pt x="4099" y="492"/>
                    </a:lnTo>
                    <a:lnTo>
                      <a:pt x="4099" y="495"/>
                    </a:lnTo>
                    <a:lnTo>
                      <a:pt x="4098" y="499"/>
                    </a:lnTo>
                    <a:lnTo>
                      <a:pt x="4099" y="502"/>
                    </a:lnTo>
                    <a:lnTo>
                      <a:pt x="4099" y="506"/>
                    </a:lnTo>
                    <a:lnTo>
                      <a:pt x="4100" y="509"/>
                    </a:lnTo>
                    <a:lnTo>
                      <a:pt x="4101" y="512"/>
                    </a:lnTo>
                    <a:lnTo>
                      <a:pt x="4104" y="517"/>
                    </a:lnTo>
                    <a:lnTo>
                      <a:pt x="4109" y="523"/>
                    </a:lnTo>
                    <a:lnTo>
                      <a:pt x="4114" y="528"/>
                    </a:lnTo>
                    <a:lnTo>
                      <a:pt x="4119" y="530"/>
                    </a:lnTo>
                    <a:lnTo>
                      <a:pt x="4123" y="531"/>
                    </a:lnTo>
                    <a:lnTo>
                      <a:pt x="4125" y="533"/>
                    </a:lnTo>
                    <a:lnTo>
                      <a:pt x="4129" y="533"/>
                    </a:lnTo>
                    <a:lnTo>
                      <a:pt x="4133" y="534"/>
                    </a:lnTo>
                    <a:lnTo>
                      <a:pt x="4136" y="533"/>
                    </a:lnTo>
                    <a:lnTo>
                      <a:pt x="4139" y="533"/>
                    </a:lnTo>
                    <a:lnTo>
                      <a:pt x="4143" y="531"/>
                    </a:lnTo>
                    <a:lnTo>
                      <a:pt x="4146" y="530"/>
                    </a:lnTo>
                    <a:lnTo>
                      <a:pt x="4153" y="528"/>
                    </a:lnTo>
                    <a:lnTo>
                      <a:pt x="4158" y="523"/>
                    </a:lnTo>
                    <a:lnTo>
                      <a:pt x="4163" y="517"/>
                    </a:lnTo>
                    <a:lnTo>
                      <a:pt x="4165" y="512"/>
                    </a:lnTo>
                    <a:lnTo>
                      <a:pt x="4167" y="509"/>
                    </a:lnTo>
                    <a:lnTo>
                      <a:pt x="4168" y="506"/>
                    </a:lnTo>
                    <a:lnTo>
                      <a:pt x="4168" y="502"/>
                    </a:lnTo>
                    <a:lnTo>
                      <a:pt x="4168" y="499"/>
                    </a:lnTo>
                    <a:lnTo>
                      <a:pt x="4168" y="499"/>
                    </a:lnTo>
                    <a:close/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6594120" y="559908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6"/>
                    </a:moveTo>
                    <a:lnTo>
                      <a:pt x="70" y="32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7" y="22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3" y="49"/>
                    </a:lnTo>
                    <a:lnTo>
                      <a:pt x="6" y="54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1" y="67"/>
                    </a:lnTo>
                    <a:lnTo>
                      <a:pt x="25" y="68"/>
                    </a:lnTo>
                    <a:lnTo>
                      <a:pt x="27" y="70"/>
                    </a:lnTo>
                    <a:lnTo>
                      <a:pt x="31" y="70"/>
                    </a:lnTo>
                    <a:lnTo>
                      <a:pt x="35" y="71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5" y="68"/>
                    </a:lnTo>
                    <a:lnTo>
                      <a:pt x="48" y="67"/>
                    </a:lnTo>
                    <a:lnTo>
                      <a:pt x="55" y="65"/>
                    </a:lnTo>
                    <a:lnTo>
                      <a:pt x="60" y="60"/>
                    </a:lnTo>
                    <a:lnTo>
                      <a:pt x="65" y="54"/>
                    </a:lnTo>
                    <a:lnTo>
                      <a:pt x="67" y="49"/>
                    </a:lnTo>
                    <a:lnTo>
                      <a:pt x="69" y="46"/>
                    </a:lnTo>
                    <a:lnTo>
                      <a:pt x="70" y="43"/>
                    </a:lnTo>
                    <a:lnTo>
                      <a:pt x="70" y="39"/>
                    </a:lnTo>
                    <a:lnTo>
                      <a:pt x="70" y="36"/>
                    </a:lnTo>
                    <a:lnTo>
                      <a:pt x="70" y="3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3808440" y="5341320"/>
                <a:ext cx="45000" cy="374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2" name=""/>
              <p:cNvSpPr/>
              <p:nvPr/>
            </p:nvSpPr>
            <p:spPr>
              <a:xfrm>
                <a:off x="6001560" y="5362560"/>
                <a:ext cx="47520" cy="360720"/>
              </a:xfrm>
              <a:custGeom>
                <a:avLst/>
                <a:gdLst/>
                <a:ahLst/>
                <a:rect l="l" t="t" r="r" b="b"/>
                <a:pathLst>
                  <a:path w="70" h="649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78"/>
                    </a:moveTo>
                    <a:lnTo>
                      <a:pt x="38" y="578"/>
                    </a:lnTo>
                    <a:lnTo>
                      <a:pt x="42" y="579"/>
                    </a:lnTo>
                    <a:lnTo>
                      <a:pt x="46" y="581"/>
                    </a:lnTo>
                    <a:lnTo>
                      <a:pt x="50" y="582"/>
                    </a:lnTo>
                    <a:lnTo>
                      <a:pt x="52" y="583"/>
                    </a:lnTo>
                    <a:lnTo>
                      <a:pt x="56" y="586"/>
                    </a:lnTo>
                    <a:lnTo>
                      <a:pt x="58" y="587"/>
                    </a:lnTo>
                    <a:lnTo>
                      <a:pt x="62" y="590"/>
                    </a:lnTo>
                    <a:lnTo>
                      <a:pt x="65" y="593"/>
                    </a:lnTo>
                    <a:lnTo>
                      <a:pt x="66" y="597"/>
                    </a:lnTo>
                    <a:lnTo>
                      <a:pt x="67" y="601"/>
                    </a:lnTo>
                    <a:lnTo>
                      <a:pt x="68" y="603"/>
                    </a:lnTo>
                    <a:lnTo>
                      <a:pt x="70" y="607"/>
                    </a:lnTo>
                    <a:lnTo>
                      <a:pt x="70" y="611"/>
                    </a:lnTo>
                    <a:lnTo>
                      <a:pt x="70" y="615"/>
                    </a:lnTo>
                    <a:lnTo>
                      <a:pt x="68" y="620"/>
                    </a:lnTo>
                    <a:lnTo>
                      <a:pt x="68" y="622"/>
                    </a:lnTo>
                    <a:lnTo>
                      <a:pt x="67" y="625"/>
                    </a:lnTo>
                    <a:lnTo>
                      <a:pt x="67" y="627"/>
                    </a:lnTo>
                    <a:lnTo>
                      <a:pt x="66" y="631"/>
                    </a:lnTo>
                    <a:lnTo>
                      <a:pt x="63" y="634"/>
                    </a:lnTo>
                    <a:lnTo>
                      <a:pt x="62" y="636"/>
                    </a:lnTo>
                    <a:lnTo>
                      <a:pt x="60" y="639"/>
                    </a:lnTo>
                    <a:lnTo>
                      <a:pt x="57" y="640"/>
                    </a:lnTo>
                    <a:lnTo>
                      <a:pt x="52" y="644"/>
                    </a:lnTo>
                    <a:lnTo>
                      <a:pt x="47" y="646"/>
                    </a:lnTo>
                    <a:lnTo>
                      <a:pt x="45" y="648"/>
                    </a:lnTo>
                    <a:lnTo>
                      <a:pt x="41" y="649"/>
                    </a:lnTo>
                    <a:lnTo>
                      <a:pt x="38" y="649"/>
                    </a:lnTo>
                    <a:lnTo>
                      <a:pt x="35" y="649"/>
                    </a:lnTo>
                    <a:lnTo>
                      <a:pt x="31" y="649"/>
                    </a:lnTo>
                    <a:lnTo>
                      <a:pt x="27" y="649"/>
                    </a:lnTo>
                    <a:lnTo>
                      <a:pt x="23" y="648"/>
                    </a:lnTo>
                    <a:lnTo>
                      <a:pt x="20" y="646"/>
                    </a:lnTo>
                    <a:lnTo>
                      <a:pt x="16" y="644"/>
                    </a:lnTo>
                    <a:lnTo>
                      <a:pt x="13" y="641"/>
                    </a:lnTo>
                    <a:lnTo>
                      <a:pt x="10" y="639"/>
                    </a:lnTo>
                    <a:lnTo>
                      <a:pt x="7" y="635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2" y="626"/>
                    </a:lnTo>
                    <a:lnTo>
                      <a:pt x="1" y="622"/>
                    </a:lnTo>
                    <a:lnTo>
                      <a:pt x="0" y="619"/>
                    </a:lnTo>
                    <a:lnTo>
                      <a:pt x="0" y="615"/>
                    </a:lnTo>
                    <a:lnTo>
                      <a:pt x="0" y="612"/>
                    </a:lnTo>
                    <a:lnTo>
                      <a:pt x="1" y="609"/>
                    </a:lnTo>
                    <a:lnTo>
                      <a:pt x="1" y="605"/>
                    </a:lnTo>
                    <a:lnTo>
                      <a:pt x="2" y="602"/>
                    </a:lnTo>
                    <a:lnTo>
                      <a:pt x="2" y="598"/>
                    </a:lnTo>
                    <a:lnTo>
                      <a:pt x="3" y="596"/>
                    </a:lnTo>
                    <a:lnTo>
                      <a:pt x="6" y="593"/>
                    </a:lnTo>
                    <a:lnTo>
                      <a:pt x="7" y="592"/>
                    </a:lnTo>
                    <a:lnTo>
                      <a:pt x="12" y="588"/>
                    </a:lnTo>
                    <a:lnTo>
                      <a:pt x="15" y="586"/>
                    </a:lnTo>
                    <a:lnTo>
                      <a:pt x="17" y="583"/>
                    </a:lnTo>
                    <a:lnTo>
                      <a:pt x="20" y="582"/>
                    </a:lnTo>
                    <a:lnTo>
                      <a:pt x="22" y="581"/>
                    </a:lnTo>
                    <a:lnTo>
                      <a:pt x="26" y="579"/>
                    </a:lnTo>
                    <a:lnTo>
                      <a:pt x="28" y="579"/>
                    </a:lnTo>
                    <a:lnTo>
                      <a:pt x="35" y="578"/>
                    </a:lnTo>
                    <a:lnTo>
                      <a:pt x="35" y="578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3" name=""/>
              <p:cNvSpPr/>
              <p:nvPr/>
            </p:nvSpPr>
            <p:spPr>
              <a:xfrm>
                <a:off x="6001560" y="536256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4" name=""/>
              <p:cNvSpPr/>
              <p:nvPr/>
            </p:nvSpPr>
            <p:spPr>
              <a:xfrm>
                <a:off x="6001560" y="5684400"/>
                <a:ext cx="47520" cy="388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1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0" y="33"/>
                    </a:lnTo>
                    <a:lnTo>
                      <a:pt x="70" y="37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60" y="61"/>
                    </a:lnTo>
                    <a:lnTo>
                      <a:pt x="57" y="62"/>
                    </a:lnTo>
                    <a:lnTo>
                      <a:pt x="52" y="66"/>
                    </a:lnTo>
                    <a:lnTo>
                      <a:pt x="47" y="68"/>
                    </a:lnTo>
                    <a:lnTo>
                      <a:pt x="45" y="70"/>
                    </a:lnTo>
                    <a:lnTo>
                      <a:pt x="41" y="71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71"/>
                    </a:lnTo>
                    <a:lnTo>
                      <a:pt x="23" y="70"/>
                    </a:lnTo>
                    <a:lnTo>
                      <a:pt x="20" y="68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10" y="61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>
                <a:off x="6014520" y="5374440"/>
                <a:ext cx="20160" cy="337680"/>
              </a:xfrm>
              <a:custGeom>
                <a:avLst/>
                <a:gdLst/>
                <a:ahLst/>
                <a:rect l="l" t="t" r="r" b="b"/>
                <a:pathLst>
                  <a:path w="30" h="608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5"/>
                    </a:moveTo>
                    <a:lnTo>
                      <a:pt x="8" y="603"/>
                    </a:lnTo>
                    <a:lnTo>
                      <a:pt x="11" y="601"/>
                    </a:lnTo>
                    <a:lnTo>
                      <a:pt x="15" y="601"/>
                    </a:lnTo>
                    <a:lnTo>
                      <a:pt x="18" y="601"/>
                    </a:lnTo>
                    <a:lnTo>
                      <a:pt x="21" y="603"/>
                    </a:lnTo>
                    <a:lnTo>
                      <a:pt x="21" y="603"/>
                    </a:lnTo>
                    <a:lnTo>
                      <a:pt x="21" y="605"/>
                    </a:lnTo>
                    <a:lnTo>
                      <a:pt x="23" y="606"/>
                    </a:lnTo>
                    <a:lnTo>
                      <a:pt x="25" y="608"/>
                    </a:lnTo>
                    <a:lnTo>
                      <a:pt x="27" y="606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30" y="604"/>
                    </a:lnTo>
                    <a:lnTo>
                      <a:pt x="30" y="603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6" y="599"/>
                    </a:lnTo>
                    <a:lnTo>
                      <a:pt x="25" y="595"/>
                    </a:lnTo>
                    <a:lnTo>
                      <a:pt x="25" y="593"/>
                    </a:lnTo>
                    <a:lnTo>
                      <a:pt x="25" y="589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8" y="585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8" y="581"/>
                    </a:lnTo>
                    <a:lnTo>
                      <a:pt x="28" y="580"/>
                    </a:lnTo>
                    <a:lnTo>
                      <a:pt x="28" y="580"/>
                    </a:lnTo>
                    <a:lnTo>
                      <a:pt x="28" y="579"/>
                    </a:lnTo>
                    <a:lnTo>
                      <a:pt x="27" y="579"/>
                    </a:lnTo>
                    <a:lnTo>
                      <a:pt x="25" y="579"/>
                    </a:lnTo>
                    <a:lnTo>
                      <a:pt x="25" y="579"/>
                    </a:lnTo>
                    <a:lnTo>
                      <a:pt x="23" y="579"/>
                    </a:lnTo>
                    <a:lnTo>
                      <a:pt x="23" y="579"/>
                    </a:lnTo>
                    <a:lnTo>
                      <a:pt x="21" y="580"/>
                    </a:lnTo>
                    <a:lnTo>
                      <a:pt x="20" y="582"/>
                    </a:lnTo>
                    <a:lnTo>
                      <a:pt x="18" y="582"/>
                    </a:lnTo>
                    <a:lnTo>
                      <a:pt x="16" y="584"/>
                    </a:lnTo>
                    <a:lnTo>
                      <a:pt x="15" y="584"/>
                    </a:lnTo>
                    <a:lnTo>
                      <a:pt x="13" y="584"/>
                    </a:lnTo>
                    <a:lnTo>
                      <a:pt x="11" y="582"/>
                    </a:lnTo>
                    <a:lnTo>
                      <a:pt x="10" y="582"/>
                    </a:lnTo>
                    <a:lnTo>
                      <a:pt x="8" y="580"/>
                    </a:lnTo>
                    <a:lnTo>
                      <a:pt x="8" y="580"/>
                    </a:lnTo>
                    <a:lnTo>
                      <a:pt x="6" y="579"/>
                    </a:lnTo>
                    <a:lnTo>
                      <a:pt x="5" y="579"/>
                    </a:lnTo>
                    <a:lnTo>
                      <a:pt x="5" y="579"/>
                    </a:lnTo>
                    <a:lnTo>
                      <a:pt x="3" y="579"/>
                    </a:lnTo>
                    <a:lnTo>
                      <a:pt x="1" y="579"/>
                    </a:lnTo>
                    <a:lnTo>
                      <a:pt x="1" y="579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4"/>
                    </a:lnTo>
                    <a:lnTo>
                      <a:pt x="1" y="585"/>
                    </a:lnTo>
                    <a:lnTo>
                      <a:pt x="1" y="585"/>
                    </a:lnTo>
                    <a:lnTo>
                      <a:pt x="3" y="588"/>
                    </a:lnTo>
                    <a:lnTo>
                      <a:pt x="5" y="589"/>
                    </a:lnTo>
                    <a:lnTo>
                      <a:pt x="5" y="593"/>
                    </a:lnTo>
                    <a:lnTo>
                      <a:pt x="5" y="595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1" y="601"/>
                    </a:lnTo>
                    <a:lnTo>
                      <a:pt x="0" y="601"/>
                    </a:lnTo>
                    <a:lnTo>
                      <a:pt x="0" y="603"/>
                    </a:lnTo>
                    <a:lnTo>
                      <a:pt x="0" y="604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3" y="606"/>
                    </a:lnTo>
                    <a:lnTo>
                      <a:pt x="5" y="608"/>
                    </a:lnTo>
                    <a:lnTo>
                      <a:pt x="5" y="606"/>
                    </a:lnTo>
                    <a:lnTo>
                      <a:pt x="6" y="605"/>
                    </a:lnTo>
                    <a:lnTo>
                      <a:pt x="6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014520" y="537444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32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7" name=""/>
              <p:cNvSpPr/>
              <p:nvPr/>
            </p:nvSpPr>
            <p:spPr>
              <a:xfrm>
                <a:off x="6014520" y="569520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6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32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8" name=""/>
              <p:cNvSpPr/>
              <p:nvPr/>
            </p:nvSpPr>
            <p:spPr>
              <a:xfrm>
                <a:off x="6054120" y="5345640"/>
                <a:ext cx="24840" cy="4042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9" name=""/>
              <p:cNvSpPr/>
              <p:nvPr/>
            </p:nvSpPr>
            <p:spPr>
              <a:xfrm>
                <a:off x="6054120" y="5324400"/>
                <a:ext cx="24840" cy="425520"/>
              </a:xfrm>
              <a:prstGeom prst="rect">
                <a:avLst/>
              </a:prstGeom>
              <a:solidFill>
                <a:srgbClr val="4f4f4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0" name=""/>
              <p:cNvSpPr/>
              <p:nvPr/>
            </p:nvSpPr>
            <p:spPr>
              <a:xfrm>
                <a:off x="6078960" y="5324400"/>
                <a:ext cx="23760" cy="425520"/>
              </a:xfrm>
              <a:prstGeom prst="rect">
                <a:avLst/>
              </a:prstGeom>
              <a:solidFill>
                <a:srgbClr val="76767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103080" y="5324400"/>
                <a:ext cx="26280" cy="425520"/>
              </a:xfrm>
              <a:prstGeom prst="rect">
                <a:avLst/>
              </a:prstGeom>
              <a:solidFill>
                <a:srgbClr val="63636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6055200" y="5343120"/>
                <a:ext cx="41760" cy="402480"/>
              </a:xfrm>
              <a:custGeom>
                <a:avLst/>
                <a:gdLst/>
                <a:ahLst/>
                <a:rect l="l" t="t" r="r" b="b"/>
                <a:pathLst>
                  <a:path w="59" h="722">
                    <a:moveTo>
                      <a:pt x="59" y="717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17"/>
                    </a:lnTo>
                    <a:lnTo>
                      <a:pt x="0" y="720"/>
                    </a:lnTo>
                    <a:lnTo>
                      <a:pt x="2" y="721"/>
                    </a:lnTo>
                    <a:lnTo>
                      <a:pt x="3" y="722"/>
                    </a:lnTo>
                    <a:lnTo>
                      <a:pt x="7" y="722"/>
                    </a:lnTo>
                    <a:lnTo>
                      <a:pt x="7" y="722"/>
                    </a:lnTo>
                    <a:lnTo>
                      <a:pt x="52" y="722"/>
                    </a:lnTo>
                    <a:lnTo>
                      <a:pt x="54" y="722"/>
                    </a:lnTo>
                    <a:lnTo>
                      <a:pt x="56" y="721"/>
                    </a:lnTo>
                    <a:lnTo>
                      <a:pt x="59" y="720"/>
                    </a:lnTo>
                    <a:lnTo>
                      <a:pt x="59" y="718"/>
                    </a:lnTo>
                    <a:lnTo>
                      <a:pt x="59" y="7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4892400" y="5342040"/>
                <a:ext cx="803880" cy="40068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4" name=""/>
              <p:cNvSpPr/>
              <p:nvPr/>
            </p:nvSpPr>
            <p:spPr>
              <a:xfrm>
                <a:off x="4892400" y="5342040"/>
                <a:ext cx="803880" cy="400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5" name=""/>
              <p:cNvSpPr/>
              <p:nvPr/>
            </p:nvSpPr>
            <p:spPr>
              <a:xfrm>
                <a:off x="5148000" y="5352120"/>
                <a:ext cx="66600" cy="383760"/>
              </a:xfrm>
              <a:custGeom>
                <a:avLst/>
                <a:gdLst/>
                <a:ahLst/>
                <a:rect l="l" t="t" r="r" b="b"/>
                <a:pathLst>
                  <a:path w="98" h="692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  <a:moveTo>
                      <a:pt x="98" y="581"/>
                    </a:moveTo>
                    <a:lnTo>
                      <a:pt x="18" y="581"/>
                    </a:lnTo>
                    <a:lnTo>
                      <a:pt x="14" y="581"/>
                    </a:lnTo>
                    <a:lnTo>
                      <a:pt x="10" y="582"/>
                    </a:lnTo>
                    <a:lnTo>
                      <a:pt x="7" y="583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2" y="592"/>
                    </a:lnTo>
                    <a:lnTo>
                      <a:pt x="0" y="595"/>
                    </a:lnTo>
                    <a:lnTo>
                      <a:pt x="0" y="598"/>
                    </a:lnTo>
                    <a:lnTo>
                      <a:pt x="0" y="598"/>
                    </a:lnTo>
                    <a:lnTo>
                      <a:pt x="0" y="672"/>
                    </a:lnTo>
                    <a:lnTo>
                      <a:pt x="0" y="675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4" y="686"/>
                    </a:lnTo>
                    <a:lnTo>
                      <a:pt x="7" y="688"/>
                    </a:lnTo>
                    <a:lnTo>
                      <a:pt x="10" y="689"/>
                    </a:lnTo>
                    <a:lnTo>
                      <a:pt x="14" y="691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98" y="692"/>
                    </a:lnTo>
                    <a:lnTo>
                      <a:pt x="98" y="581"/>
                    </a:lnTo>
                    <a:lnTo>
                      <a:pt x="98" y="581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5148000" y="535212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4587" name=""/>
            <p:cNvGrpSpPr/>
            <p:nvPr/>
          </p:nvGrpSpPr>
          <p:grpSpPr>
            <a:xfrm>
              <a:off x="4923720" y="5362560"/>
              <a:ext cx="798840" cy="373320"/>
              <a:chOff x="4923720" y="5362560"/>
              <a:chExt cx="798840" cy="373320"/>
            </a:xfrm>
          </p:grpSpPr>
          <p:sp>
            <p:nvSpPr>
              <p:cNvPr id="4588" name=""/>
              <p:cNvSpPr/>
              <p:nvPr/>
            </p:nvSpPr>
            <p:spPr>
              <a:xfrm>
                <a:off x="5148360" y="56739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8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9" name=""/>
              <p:cNvSpPr/>
              <p:nvPr/>
            </p:nvSpPr>
            <p:spPr>
              <a:xfrm>
                <a:off x="4923720" y="5370120"/>
                <a:ext cx="744480" cy="362520"/>
              </a:xfrm>
              <a:custGeom>
                <a:avLst/>
                <a:gdLst/>
                <a:ahLst/>
                <a:rect l="l" t="t" r="r" b="b"/>
                <a:pathLst>
                  <a:path w="1092" h="654">
                    <a:moveTo>
                      <a:pt x="47" y="607"/>
                    </a:moveTo>
                    <a:lnTo>
                      <a:pt x="67" y="596"/>
                    </a:lnTo>
                    <a:lnTo>
                      <a:pt x="67" y="572"/>
                    </a:lnTo>
                    <a:lnTo>
                      <a:pt x="47" y="560"/>
                    </a:lnTo>
                    <a:lnTo>
                      <a:pt x="26" y="572"/>
                    </a:lnTo>
                    <a:lnTo>
                      <a:pt x="26" y="596"/>
                    </a:lnTo>
                    <a:lnTo>
                      <a:pt x="47" y="607"/>
                    </a:lnTo>
                    <a:close/>
                    <a:moveTo>
                      <a:pt x="100" y="607"/>
                    </a:moveTo>
                    <a:lnTo>
                      <a:pt x="120" y="596"/>
                    </a:lnTo>
                    <a:lnTo>
                      <a:pt x="120" y="572"/>
                    </a:lnTo>
                    <a:lnTo>
                      <a:pt x="100" y="560"/>
                    </a:lnTo>
                    <a:lnTo>
                      <a:pt x="81" y="572"/>
                    </a:lnTo>
                    <a:lnTo>
                      <a:pt x="81" y="596"/>
                    </a:lnTo>
                    <a:lnTo>
                      <a:pt x="100" y="607"/>
                    </a:lnTo>
                    <a:close/>
                    <a:moveTo>
                      <a:pt x="155" y="607"/>
                    </a:moveTo>
                    <a:lnTo>
                      <a:pt x="175" y="596"/>
                    </a:lnTo>
                    <a:lnTo>
                      <a:pt x="175" y="572"/>
                    </a:lnTo>
                    <a:lnTo>
                      <a:pt x="155" y="560"/>
                    </a:lnTo>
                    <a:lnTo>
                      <a:pt x="135" y="572"/>
                    </a:lnTo>
                    <a:lnTo>
                      <a:pt x="135" y="596"/>
                    </a:lnTo>
                    <a:lnTo>
                      <a:pt x="155" y="607"/>
                    </a:lnTo>
                    <a:close/>
                    <a:moveTo>
                      <a:pt x="208" y="607"/>
                    </a:moveTo>
                    <a:lnTo>
                      <a:pt x="230" y="596"/>
                    </a:lnTo>
                    <a:lnTo>
                      <a:pt x="230" y="572"/>
                    </a:lnTo>
                    <a:lnTo>
                      <a:pt x="208" y="560"/>
                    </a:lnTo>
                    <a:lnTo>
                      <a:pt x="188" y="572"/>
                    </a:lnTo>
                    <a:lnTo>
                      <a:pt x="188" y="596"/>
                    </a:lnTo>
                    <a:lnTo>
                      <a:pt x="208" y="607"/>
                    </a:lnTo>
                    <a:close/>
                    <a:moveTo>
                      <a:pt x="263" y="607"/>
                    </a:moveTo>
                    <a:lnTo>
                      <a:pt x="283" y="596"/>
                    </a:lnTo>
                    <a:lnTo>
                      <a:pt x="283" y="572"/>
                    </a:lnTo>
                    <a:lnTo>
                      <a:pt x="263" y="560"/>
                    </a:lnTo>
                    <a:lnTo>
                      <a:pt x="243" y="572"/>
                    </a:lnTo>
                    <a:lnTo>
                      <a:pt x="243" y="596"/>
                    </a:lnTo>
                    <a:lnTo>
                      <a:pt x="263" y="607"/>
                    </a:lnTo>
                    <a:close/>
                    <a:moveTo>
                      <a:pt x="20" y="560"/>
                    </a:moveTo>
                    <a:lnTo>
                      <a:pt x="39" y="550"/>
                    </a:lnTo>
                    <a:lnTo>
                      <a:pt x="39" y="525"/>
                    </a:lnTo>
                    <a:lnTo>
                      <a:pt x="20" y="514"/>
                    </a:lnTo>
                    <a:lnTo>
                      <a:pt x="0" y="525"/>
                    </a:lnTo>
                    <a:lnTo>
                      <a:pt x="0" y="550"/>
                    </a:lnTo>
                    <a:lnTo>
                      <a:pt x="20" y="560"/>
                    </a:lnTo>
                    <a:close/>
                    <a:moveTo>
                      <a:pt x="74" y="560"/>
                    </a:moveTo>
                    <a:lnTo>
                      <a:pt x="94" y="550"/>
                    </a:lnTo>
                    <a:lnTo>
                      <a:pt x="94" y="525"/>
                    </a:lnTo>
                    <a:lnTo>
                      <a:pt x="74" y="514"/>
                    </a:lnTo>
                    <a:lnTo>
                      <a:pt x="55" y="525"/>
                    </a:lnTo>
                    <a:lnTo>
                      <a:pt x="55" y="550"/>
                    </a:lnTo>
                    <a:lnTo>
                      <a:pt x="74" y="560"/>
                    </a:lnTo>
                    <a:close/>
                    <a:moveTo>
                      <a:pt x="129" y="560"/>
                    </a:moveTo>
                    <a:lnTo>
                      <a:pt x="149" y="550"/>
                    </a:lnTo>
                    <a:lnTo>
                      <a:pt x="149" y="525"/>
                    </a:lnTo>
                    <a:lnTo>
                      <a:pt x="129" y="514"/>
                    </a:lnTo>
                    <a:lnTo>
                      <a:pt x="108" y="525"/>
                    </a:lnTo>
                    <a:lnTo>
                      <a:pt x="108" y="550"/>
                    </a:lnTo>
                    <a:lnTo>
                      <a:pt x="129" y="560"/>
                    </a:lnTo>
                    <a:close/>
                    <a:moveTo>
                      <a:pt x="181" y="560"/>
                    </a:moveTo>
                    <a:lnTo>
                      <a:pt x="202" y="550"/>
                    </a:lnTo>
                    <a:lnTo>
                      <a:pt x="202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50"/>
                    </a:lnTo>
                    <a:lnTo>
                      <a:pt x="181" y="560"/>
                    </a:lnTo>
                    <a:close/>
                    <a:moveTo>
                      <a:pt x="237" y="560"/>
                    </a:moveTo>
                    <a:lnTo>
                      <a:pt x="257" y="550"/>
                    </a:lnTo>
                    <a:lnTo>
                      <a:pt x="257" y="525"/>
                    </a:lnTo>
                    <a:lnTo>
                      <a:pt x="237" y="514"/>
                    </a:lnTo>
                    <a:lnTo>
                      <a:pt x="217" y="525"/>
                    </a:lnTo>
                    <a:lnTo>
                      <a:pt x="217" y="550"/>
                    </a:lnTo>
                    <a:lnTo>
                      <a:pt x="237" y="560"/>
                    </a:lnTo>
                    <a:close/>
                    <a:moveTo>
                      <a:pt x="289" y="560"/>
                    </a:moveTo>
                    <a:lnTo>
                      <a:pt x="312" y="550"/>
                    </a:lnTo>
                    <a:lnTo>
                      <a:pt x="312" y="525"/>
                    </a:lnTo>
                    <a:lnTo>
                      <a:pt x="289" y="514"/>
                    </a:lnTo>
                    <a:lnTo>
                      <a:pt x="269" y="525"/>
                    </a:lnTo>
                    <a:lnTo>
                      <a:pt x="269" y="550"/>
                    </a:lnTo>
                    <a:lnTo>
                      <a:pt x="289" y="560"/>
                    </a:lnTo>
                    <a:close/>
                    <a:moveTo>
                      <a:pt x="47" y="514"/>
                    </a:moveTo>
                    <a:lnTo>
                      <a:pt x="67" y="504"/>
                    </a:lnTo>
                    <a:lnTo>
                      <a:pt x="67" y="478"/>
                    </a:lnTo>
                    <a:lnTo>
                      <a:pt x="47" y="468"/>
                    </a:lnTo>
                    <a:lnTo>
                      <a:pt x="26" y="478"/>
                    </a:lnTo>
                    <a:lnTo>
                      <a:pt x="26" y="504"/>
                    </a:lnTo>
                    <a:lnTo>
                      <a:pt x="47" y="514"/>
                    </a:lnTo>
                    <a:close/>
                    <a:moveTo>
                      <a:pt x="100" y="514"/>
                    </a:moveTo>
                    <a:lnTo>
                      <a:pt x="120" y="504"/>
                    </a:lnTo>
                    <a:lnTo>
                      <a:pt x="120" y="478"/>
                    </a:lnTo>
                    <a:lnTo>
                      <a:pt x="100" y="468"/>
                    </a:lnTo>
                    <a:lnTo>
                      <a:pt x="81" y="478"/>
                    </a:lnTo>
                    <a:lnTo>
                      <a:pt x="81" y="504"/>
                    </a:lnTo>
                    <a:lnTo>
                      <a:pt x="100" y="514"/>
                    </a:lnTo>
                    <a:close/>
                    <a:moveTo>
                      <a:pt x="155" y="514"/>
                    </a:moveTo>
                    <a:lnTo>
                      <a:pt x="175" y="504"/>
                    </a:lnTo>
                    <a:lnTo>
                      <a:pt x="175" y="478"/>
                    </a:lnTo>
                    <a:lnTo>
                      <a:pt x="155" y="468"/>
                    </a:lnTo>
                    <a:lnTo>
                      <a:pt x="135" y="478"/>
                    </a:lnTo>
                    <a:lnTo>
                      <a:pt x="135" y="504"/>
                    </a:lnTo>
                    <a:lnTo>
                      <a:pt x="155" y="514"/>
                    </a:lnTo>
                    <a:close/>
                    <a:moveTo>
                      <a:pt x="208" y="514"/>
                    </a:moveTo>
                    <a:lnTo>
                      <a:pt x="230" y="504"/>
                    </a:lnTo>
                    <a:lnTo>
                      <a:pt x="230" y="478"/>
                    </a:lnTo>
                    <a:lnTo>
                      <a:pt x="208" y="468"/>
                    </a:lnTo>
                    <a:lnTo>
                      <a:pt x="188" y="478"/>
                    </a:lnTo>
                    <a:lnTo>
                      <a:pt x="188" y="504"/>
                    </a:lnTo>
                    <a:lnTo>
                      <a:pt x="208" y="514"/>
                    </a:lnTo>
                    <a:close/>
                    <a:moveTo>
                      <a:pt x="263" y="514"/>
                    </a:moveTo>
                    <a:lnTo>
                      <a:pt x="283" y="504"/>
                    </a:lnTo>
                    <a:lnTo>
                      <a:pt x="283" y="478"/>
                    </a:lnTo>
                    <a:lnTo>
                      <a:pt x="263" y="468"/>
                    </a:lnTo>
                    <a:lnTo>
                      <a:pt x="243" y="478"/>
                    </a:lnTo>
                    <a:lnTo>
                      <a:pt x="243" y="504"/>
                    </a:lnTo>
                    <a:lnTo>
                      <a:pt x="263" y="514"/>
                    </a:lnTo>
                    <a:close/>
                    <a:moveTo>
                      <a:pt x="318" y="514"/>
                    </a:moveTo>
                    <a:lnTo>
                      <a:pt x="338" y="504"/>
                    </a:lnTo>
                    <a:lnTo>
                      <a:pt x="338" y="478"/>
                    </a:lnTo>
                    <a:lnTo>
                      <a:pt x="318" y="468"/>
                    </a:lnTo>
                    <a:lnTo>
                      <a:pt x="298" y="478"/>
                    </a:lnTo>
                    <a:lnTo>
                      <a:pt x="298" y="504"/>
                    </a:lnTo>
                    <a:lnTo>
                      <a:pt x="318" y="514"/>
                    </a:lnTo>
                    <a:close/>
                    <a:moveTo>
                      <a:pt x="20" y="468"/>
                    </a:moveTo>
                    <a:lnTo>
                      <a:pt x="39" y="454"/>
                    </a:lnTo>
                    <a:lnTo>
                      <a:pt x="39" y="432"/>
                    </a:lnTo>
                    <a:lnTo>
                      <a:pt x="20" y="422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20" y="468"/>
                    </a:lnTo>
                    <a:close/>
                    <a:moveTo>
                      <a:pt x="74" y="468"/>
                    </a:moveTo>
                    <a:lnTo>
                      <a:pt x="94" y="454"/>
                    </a:lnTo>
                    <a:lnTo>
                      <a:pt x="94" y="432"/>
                    </a:lnTo>
                    <a:lnTo>
                      <a:pt x="74" y="422"/>
                    </a:lnTo>
                    <a:lnTo>
                      <a:pt x="55" y="432"/>
                    </a:lnTo>
                    <a:lnTo>
                      <a:pt x="55" y="454"/>
                    </a:lnTo>
                    <a:lnTo>
                      <a:pt x="74" y="468"/>
                    </a:lnTo>
                    <a:close/>
                    <a:moveTo>
                      <a:pt x="129" y="468"/>
                    </a:moveTo>
                    <a:lnTo>
                      <a:pt x="149" y="454"/>
                    </a:lnTo>
                    <a:lnTo>
                      <a:pt x="149" y="432"/>
                    </a:lnTo>
                    <a:lnTo>
                      <a:pt x="129" y="422"/>
                    </a:lnTo>
                    <a:lnTo>
                      <a:pt x="108" y="432"/>
                    </a:lnTo>
                    <a:lnTo>
                      <a:pt x="108" y="454"/>
                    </a:lnTo>
                    <a:lnTo>
                      <a:pt x="129" y="468"/>
                    </a:lnTo>
                    <a:close/>
                    <a:moveTo>
                      <a:pt x="181" y="468"/>
                    </a:moveTo>
                    <a:lnTo>
                      <a:pt x="202" y="454"/>
                    </a:lnTo>
                    <a:lnTo>
                      <a:pt x="202" y="432"/>
                    </a:lnTo>
                    <a:lnTo>
                      <a:pt x="181" y="422"/>
                    </a:lnTo>
                    <a:lnTo>
                      <a:pt x="161" y="432"/>
                    </a:lnTo>
                    <a:lnTo>
                      <a:pt x="161" y="454"/>
                    </a:lnTo>
                    <a:lnTo>
                      <a:pt x="181" y="468"/>
                    </a:lnTo>
                    <a:close/>
                    <a:moveTo>
                      <a:pt x="237" y="468"/>
                    </a:moveTo>
                    <a:lnTo>
                      <a:pt x="257" y="454"/>
                    </a:lnTo>
                    <a:lnTo>
                      <a:pt x="257" y="432"/>
                    </a:lnTo>
                    <a:lnTo>
                      <a:pt x="237" y="422"/>
                    </a:lnTo>
                    <a:lnTo>
                      <a:pt x="217" y="432"/>
                    </a:lnTo>
                    <a:lnTo>
                      <a:pt x="217" y="454"/>
                    </a:lnTo>
                    <a:lnTo>
                      <a:pt x="237" y="468"/>
                    </a:lnTo>
                    <a:close/>
                    <a:moveTo>
                      <a:pt x="289" y="468"/>
                    </a:moveTo>
                    <a:lnTo>
                      <a:pt x="312" y="454"/>
                    </a:lnTo>
                    <a:lnTo>
                      <a:pt x="312" y="432"/>
                    </a:lnTo>
                    <a:lnTo>
                      <a:pt x="289" y="422"/>
                    </a:lnTo>
                    <a:lnTo>
                      <a:pt x="269" y="432"/>
                    </a:lnTo>
                    <a:lnTo>
                      <a:pt x="269" y="454"/>
                    </a:lnTo>
                    <a:lnTo>
                      <a:pt x="289" y="468"/>
                    </a:lnTo>
                    <a:close/>
                    <a:moveTo>
                      <a:pt x="20" y="654"/>
                    </a:moveTo>
                    <a:lnTo>
                      <a:pt x="39" y="642"/>
                    </a:lnTo>
                    <a:lnTo>
                      <a:pt x="39" y="618"/>
                    </a:lnTo>
                    <a:lnTo>
                      <a:pt x="20" y="607"/>
                    </a:lnTo>
                    <a:lnTo>
                      <a:pt x="0" y="618"/>
                    </a:lnTo>
                    <a:lnTo>
                      <a:pt x="0" y="642"/>
                    </a:lnTo>
                    <a:lnTo>
                      <a:pt x="20" y="654"/>
                    </a:lnTo>
                    <a:close/>
                    <a:moveTo>
                      <a:pt x="74" y="654"/>
                    </a:moveTo>
                    <a:lnTo>
                      <a:pt x="94" y="642"/>
                    </a:lnTo>
                    <a:lnTo>
                      <a:pt x="94" y="618"/>
                    </a:lnTo>
                    <a:lnTo>
                      <a:pt x="74" y="607"/>
                    </a:lnTo>
                    <a:lnTo>
                      <a:pt x="55" y="618"/>
                    </a:lnTo>
                    <a:lnTo>
                      <a:pt x="55" y="642"/>
                    </a:lnTo>
                    <a:lnTo>
                      <a:pt x="74" y="654"/>
                    </a:lnTo>
                    <a:close/>
                    <a:moveTo>
                      <a:pt x="129" y="654"/>
                    </a:moveTo>
                    <a:lnTo>
                      <a:pt x="149" y="642"/>
                    </a:lnTo>
                    <a:lnTo>
                      <a:pt x="149" y="618"/>
                    </a:lnTo>
                    <a:lnTo>
                      <a:pt x="129" y="607"/>
                    </a:lnTo>
                    <a:lnTo>
                      <a:pt x="108" y="618"/>
                    </a:lnTo>
                    <a:lnTo>
                      <a:pt x="108" y="642"/>
                    </a:lnTo>
                    <a:lnTo>
                      <a:pt x="129" y="654"/>
                    </a:lnTo>
                    <a:close/>
                    <a:moveTo>
                      <a:pt x="181" y="654"/>
                    </a:moveTo>
                    <a:lnTo>
                      <a:pt x="202" y="642"/>
                    </a:lnTo>
                    <a:lnTo>
                      <a:pt x="202" y="618"/>
                    </a:lnTo>
                    <a:lnTo>
                      <a:pt x="181" y="607"/>
                    </a:lnTo>
                    <a:lnTo>
                      <a:pt x="161" y="618"/>
                    </a:lnTo>
                    <a:lnTo>
                      <a:pt x="161" y="642"/>
                    </a:lnTo>
                    <a:lnTo>
                      <a:pt x="181" y="654"/>
                    </a:lnTo>
                    <a:close/>
                    <a:moveTo>
                      <a:pt x="237" y="654"/>
                    </a:moveTo>
                    <a:lnTo>
                      <a:pt x="257" y="642"/>
                    </a:lnTo>
                    <a:lnTo>
                      <a:pt x="257" y="618"/>
                    </a:lnTo>
                    <a:lnTo>
                      <a:pt x="237" y="607"/>
                    </a:lnTo>
                    <a:lnTo>
                      <a:pt x="217" y="618"/>
                    </a:lnTo>
                    <a:lnTo>
                      <a:pt x="217" y="642"/>
                    </a:lnTo>
                    <a:lnTo>
                      <a:pt x="237" y="654"/>
                    </a:lnTo>
                    <a:close/>
                    <a:moveTo>
                      <a:pt x="289" y="654"/>
                    </a:moveTo>
                    <a:lnTo>
                      <a:pt x="312" y="642"/>
                    </a:lnTo>
                    <a:lnTo>
                      <a:pt x="312" y="618"/>
                    </a:lnTo>
                    <a:lnTo>
                      <a:pt x="289" y="607"/>
                    </a:lnTo>
                    <a:lnTo>
                      <a:pt x="269" y="618"/>
                    </a:lnTo>
                    <a:lnTo>
                      <a:pt x="269" y="642"/>
                    </a:lnTo>
                    <a:lnTo>
                      <a:pt x="289" y="654"/>
                    </a:lnTo>
                    <a:close/>
                    <a:moveTo>
                      <a:pt x="20" y="279"/>
                    </a:moveTo>
                    <a:lnTo>
                      <a:pt x="39" y="269"/>
                    </a:lnTo>
                    <a:lnTo>
                      <a:pt x="39" y="246"/>
                    </a:lnTo>
                    <a:lnTo>
                      <a:pt x="20" y="233"/>
                    </a:lnTo>
                    <a:lnTo>
                      <a:pt x="0" y="246"/>
                    </a:lnTo>
                    <a:lnTo>
                      <a:pt x="0" y="269"/>
                    </a:lnTo>
                    <a:lnTo>
                      <a:pt x="20" y="279"/>
                    </a:lnTo>
                    <a:close/>
                    <a:moveTo>
                      <a:pt x="74" y="279"/>
                    </a:moveTo>
                    <a:lnTo>
                      <a:pt x="94" y="269"/>
                    </a:lnTo>
                    <a:lnTo>
                      <a:pt x="94" y="246"/>
                    </a:lnTo>
                    <a:lnTo>
                      <a:pt x="74" y="233"/>
                    </a:lnTo>
                    <a:lnTo>
                      <a:pt x="55" y="246"/>
                    </a:lnTo>
                    <a:lnTo>
                      <a:pt x="55" y="269"/>
                    </a:lnTo>
                    <a:lnTo>
                      <a:pt x="74" y="279"/>
                    </a:lnTo>
                    <a:close/>
                    <a:moveTo>
                      <a:pt x="129" y="279"/>
                    </a:moveTo>
                    <a:lnTo>
                      <a:pt x="149" y="269"/>
                    </a:lnTo>
                    <a:lnTo>
                      <a:pt x="149" y="246"/>
                    </a:lnTo>
                    <a:lnTo>
                      <a:pt x="129" y="233"/>
                    </a:lnTo>
                    <a:lnTo>
                      <a:pt x="108" y="246"/>
                    </a:lnTo>
                    <a:lnTo>
                      <a:pt x="108" y="269"/>
                    </a:lnTo>
                    <a:lnTo>
                      <a:pt x="129" y="279"/>
                    </a:lnTo>
                    <a:close/>
                    <a:moveTo>
                      <a:pt x="181" y="279"/>
                    </a:moveTo>
                    <a:lnTo>
                      <a:pt x="202" y="269"/>
                    </a:lnTo>
                    <a:lnTo>
                      <a:pt x="202" y="246"/>
                    </a:lnTo>
                    <a:lnTo>
                      <a:pt x="181" y="233"/>
                    </a:lnTo>
                    <a:lnTo>
                      <a:pt x="161" y="246"/>
                    </a:lnTo>
                    <a:lnTo>
                      <a:pt x="161" y="269"/>
                    </a:lnTo>
                    <a:lnTo>
                      <a:pt x="181" y="279"/>
                    </a:lnTo>
                    <a:close/>
                    <a:moveTo>
                      <a:pt x="237" y="279"/>
                    </a:moveTo>
                    <a:lnTo>
                      <a:pt x="257" y="269"/>
                    </a:lnTo>
                    <a:lnTo>
                      <a:pt x="257" y="246"/>
                    </a:lnTo>
                    <a:lnTo>
                      <a:pt x="237" y="233"/>
                    </a:lnTo>
                    <a:lnTo>
                      <a:pt x="217" y="246"/>
                    </a:lnTo>
                    <a:lnTo>
                      <a:pt x="217" y="269"/>
                    </a:lnTo>
                    <a:lnTo>
                      <a:pt x="237" y="279"/>
                    </a:lnTo>
                    <a:close/>
                    <a:moveTo>
                      <a:pt x="289" y="279"/>
                    </a:moveTo>
                    <a:lnTo>
                      <a:pt x="312" y="269"/>
                    </a:lnTo>
                    <a:lnTo>
                      <a:pt x="312" y="246"/>
                    </a:lnTo>
                    <a:lnTo>
                      <a:pt x="289" y="233"/>
                    </a:lnTo>
                    <a:lnTo>
                      <a:pt x="269" y="246"/>
                    </a:lnTo>
                    <a:lnTo>
                      <a:pt x="269" y="269"/>
                    </a:lnTo>
                    <a:lnTo>
                      <a:pt x="289" y="279"/>
                    </a:lnTo>
                    <a:close/>
                    <a:moveTo>
                      <a:pt x="47" y="233"/>
                    </a:moveTo>
                    <a:lnTo>
                      <a:pt x="67" y="222"/>
                    </a:lnTo>
                    <a:lnTo>
                      <a:pt x="67" y="199"/>
                    </a:lnTo>
                    <a:lnTo>
                      <a:pt x="47" y="187"/>
                    </a:lnTo>
                    <a:lnTo>
                      <a:pt x="26" y="199"/>
                    </a:lnTo>
                    <a:lnTo>
                      <a:pt x="26" y="222"/>
                    </a:lnTo>
                    <a:lnTo>
                      <a:pt x="47" y="233"/>
                    </a:lnTo>
                    <a:close/>
                    <a:moveTo>
                      <a:pt x="100" y="233"/>
                    </a:moveTo>
                    <a:lnTo>
                      <a:pt x="120" y="222"/>
                    </a:lnTo>
                    <a:lnTo>
                      <a:pt x="120" y="199"/>
                    </a:lnTo>
                    <a:lnTo>
                      <a:pt x="100" y="187"/>
                    </a:lnTo>
                    <a:lnTo>
                      <a:pt x="81" y="199"/>
                    </a:lnTo>
                    <a:lnTo>
                      <a:pt x="81" y="222"/>
                    </a:lnTo>
                    <a:lnTo>
                      <a:pt x="100" y="233"/>
                    </a:lnTo>
                    <a:close/>
                    <a:moveTo>
                      <a:pt x="155" y="233"/>
                    </a:moveTo>
                    <a:lnTo>
                      <a:pt x="175" y="222"/>
                    </a:lnTo>
                    <a:lnTo>
                      <a:pt x="175" y="199"/>
                    </a:lnTo>
                    <a:lnTo>
                      <a:pt x="155" y="187"/>
                    </a:lnTo>
                    <a:lnTo>
                      <a:pt x="135" y="199"/>
                    </a:lnTo>
                    <a:lnTo>
                      <a:pt x="135" y="222"/>
                    </a:lnTo>
                    <a:lnTo>
                      <a:pt x="155" y="233"/>
                    </a:lnTo>
                    <a:close/>
                    <a:moveTo>
                      <a:pt x="208" y="233"/>
                    </a:moveTo>
                    <a:lnTo>
                      <a:pt x="230" y="222"/>
                    </a:lnTo>
                    <a:lnTo>
                      <a:pt x="230" y="199"/>
                    </a:lnTo>
                    <a:lnTo>
                      <a:pt x="208" y="187"/>
                    </a:lnTo>
                    <a:lnTo>
                      <a:pt x="188" y="199"/>
                    </a:lnTo>
                    <a:lnTo>
                      <a:pt x="188" y="222"/>
                    </a:lnTo>
                    <a:lnTo>
                      <a:pt x="208" y="233"/>
                    </a:lnTo>
                    <a:close/>
                    <a:moveTo>
                      <a:pt x="263" y="233"/>
                    </a:moveTo>
                    <a:lnTo>
                      <a:pt x="283" y="222"/>
                    </a:lnTo>
                    <a:lnTo>
                      <a:pt x="283" y="199"/>
                    </a:lnTo>
                    <a:lnTo>
                      <a:pt x="263" y="187"/>
                    </a:lnTo>
                    <a:lnTo>
                      <a:pt x="243" y="199"/>
                    </a:lnTo>
                    <a:lnTo>
                      <a:pt x="243" y="222"/>
                    </a:lnTo>
                    <a:lnTo>
                      <a:pt x="263" y="233"/>
                    </a:lnTo>
                    <a:close/>
                    <a:moveTo>
                      <a:pt x="318" y="233"/>
                    </a:moveTo>
                    <a:lnTo>
                      <a:pt x="338" y="222"/>
                    </a:lnTo>
                    <a:lnTo>
                      <a:pt x="338" y="199"/>
                    </a:lnTo>
                    <a:lnTo>
                      <a:pt x="318" y="187"/>
                    </a:lnTo>
                    <a:lnTo>
                      <a:pt x="298" y="199"/>
                    </a:lnTo>
                    <a:lnTo>
                      <a:pt x="298" y="222"/>
                    </a:lnTo>
                    <a:lnTo>
                      <a:pt x="318" y="233"/>
                    </a:lnTo>
                    <a:close/>
                    <a:moveTo>
                      <a:pt x="20" y="187"/>
                    </a:moveTo>
                    <a:lnTo>
                      <a:pt x="39" y="175"/>
                    </a:lnTo>
                    <a:lnTo>
                      <a:pt x="39" y="153"/>
                    </a:lnTo>
                    <a:lnTo>
                      <a:pt x="20" y="140"/>
                    </a:lnTo>
                    <a:lnTo>
                      <a:pt x="0" y="153"/>
                    </a:lnTo>
                    <a:lnTo>
                      <a:pt x="0" y="175"/>
                    </a:lnTo>
                    <a:lnTo>
                      <a:pt x="20" y="187"/>
                    </a:lnTo>
                    <a:close/>
                    <a:moveTo>
                      <a:pt x="74" y="187"/>
                    </a:moveTo>
                    <a:lnTo>
                      <a:pt x="94" y="175"/>
                    </a:lnTo>
                    <a:lnTo>
                      <a:pt x="94" y="153"/>
                    </a:lnTo>
                    <a:lnTo>
                      <a:pt x="74" y="140"/>
                    </a:lnTo>
                    <a:lnTo>
                      <a:pt x="55" y="153"/>
                    </a:lnTo>
                    <a:lnTo>
                      <a:pt x="55" y="175"/>
                    </a:lnTo>
                    <a:lnTo>
                      <a:pt x="74" y="187"/>
                    </a:lnTo>
                    <a:close/>
                    <a:moveTo>
                      <a:pt x="129" y="187"/>
                    </a:moveTo>
                    <a:lnTo>
                      <a:pt x="149" y="175"/>
                    </a:lnTo>
                    <a:lnTo>
                      <a:pt x="149" y="153"/>
                    </a:lnTo>
                    <a:lnTo>
                      <a:pt x="129" y="140"/>
                    </a:lnTo>
                    <a:lnTo>
                      <a:pt x="108" y="153"/>
                    </a:lnTo>
                    <a:lnTo>
                      <a:pt x="108" y="175"/>
                    </a:lnTo>
                    <a:lnTo>
                      <a:pt x="129" y="187"/>
                    </a:lnTo>
                    <a:close/>
                    <a:moveTo>
                      <a:pt x="181" y="187"/>
                    </a:moveTo>
                    <a:lnTo>
                      <a:pt x="202" y="175"/>
                    </a:lnTo>
                    <a:lnTo>
                      <a:pt x="202" y="153"/>
                    </a:lnTo>
                    <a:lnTo>
                      <a:pt x="181" y="140"/>
                    </a:lnTo>
                    <a:lnTo>
                      <a:pt x="161" y="153"/>
                    </a:lnTo>
                    <a:lnTo>
                      <a:pt x="161" y="175"/>
                    </a:lnTo>
                    <a:lnTo>
                      <a:pt x="181" y="187"/>
                    </a:lnTo>
                    <a:close/>
                    <a:moveTo>
                      <a:pt x="237" y="187"/>
                    </a:moveTo>
                    <a:lnTo>
                      <a:pt x="257" y="175"/>
                    </a:lnTo>
                    <a:lnTo>
                      <a:pt x="257" y="153"/>
                    </a:lnTo>
                    <a:lnTo>
                      <a:pt x="237" y="140"/>
                    </a:lnTo>
                    <a:lnTo>
                      <a:pt x="217" y="153"/>
                    </a:lnTo>
                    <a:lnTo>
                      <a:pt x="217" y="175"/>
                    </a:lnTo>
                    <a:lnTo>
                      <a:pt x="237" y="187"/>
                    </a:lnTo>
                    <a:close/>
                    <a:moveTo>
                      <a:pt x="289" y="187"/>
                    </a:moveTo>
                    <a:lnTo>
                      <a:pt x="312" y="175"/>
                    </a:lnTo>
                    <a:lnTo>
                      <a:pt x="312" y="153"/>
                    </a:lnTo>
                    <a:lnTo>
                      <a:pt x="289" y="140"/>
                    </a:lnTo>
                    <a:lnTo>
                      <a:pt x="269" y="153"/>
                    </a:lnTo>
                    <a:lnTo>
                      <a:pt x="269" y="175"/>
                    </a:lnTo>
                    <a:lnTo>
                      <a:pt x="289" y="187"/>
                    </a:lnTo>
                    <a:close/>
                    <a:moveTo>
                      <a:pt x="47" y="140"/>
                    </a:moveTo>
                    <a:lnTo>
                      <a:pt x="67" y="129"/>
                    </a:lnTo>
                    <a:lnTo>
                      <a:pt x="67" y="105"/>
                    </a:lnTo>
                    <a:lnTo>
                      <a:pt x="47" y="93"/>
                    </a:lnTo>
                    <a:lnTo>
                      <a:pt x="26" y="105"/>
                    </a:lnTo>
                    <a:lnTo>
                      <a:pt x="26" y="129"/>
                    </a:lnTo>
                    <a:lnTo>
                      <a:pt x="47" y="140"/>
                    </a:lnTo>
                    <a:close/>
                    <a:moveTo>
                      <a:pt x="100" y="140"/>
                    </a:moveTo>
                    <a:lnTo>
                      <a:pt x="120" y="129"/>
                    </a:lnTo>
                    <a:lnTo>
                      <a:pt x="120" y="105"/>
                    </a:lnTo>
                    <a:lnTo>
                      <a:pt x="100" y="93"/>
                    </a:lnTo>
                    <a:lnTo>
                      <a:pt x="81" y="105"/>
                    </a:lnTo>
                    <a:lnTo>
                      <a:pt x="81" y="129"/>
                    </a:lnTo>
                    <a:lnTo>
                      <a:pt x="100" y="140"/>
                    </a:lnTo>
                    <a:close/>
                    <a:moveTo>
                      <a:pt x="155" y="140"/>
                    </a:moveTo>
                    <a:lnTo>
                      <a:pt x="175" y="129"/>
                    </a:lnTo>
                    <a:lnTo>
                      <a:pt x="175" y="105"/>
                    </a:lnTo>
                    <a:lnTo>
                      <a:pt x="155" y="93"/>
                    </a:lnTo>
                    <a:lnTo>
                      <a:pt x="135" y="105"/>
                    </a:lnTo>
                    <a:lnTo>
                      <a:pt x="135" y="129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30" y="129"/>
                    </a:lnTo>
                    <a:lnTo>
                      <a:pt x="230" y="105"/>
                    </a:lnTo>
                    <a:lnTo>
                      <a:pt x="208" y="93"/>
                    </a:lnTo>
                    <a:lnTo>
                      <a:pt x="188" y="105"/>
                    </a:lnTo>
                    <a:lnTo>
                      <a:pt x="188" y="129"/>
                    </a:lnTo>
                    <a:lnTo>
                      <a:pt x="208" y="140"/>
                    </a:lnTo>
                    <a:close/>
                    <a:moveTo>
                      <a:pt x="263" y="140"/>
                    </a:moveTo>
                    <a:lnTo>
                      <a:pt x="283" y="129"/>
                    </a:lnTo>
                    <a:lnTo>
                      <a:pt x="283" y="105"/>
                    </a:lnTo>
                    <a:lnTo>
                      <a:pt x="263" y="93"/>
                    </a:lnTo>
                    <a:lnTo>
                      <a:pt x="243" y="105"/>
                    </a:lnTo>
                    <a:lnTo>
                      <a:pt x="243" y="129"/>
                    </a:lnTo>
                    <a:lnTo>
                      <a:pt x="263" y="140"/>
                    </a:lnTo>
                    <a:close/>
                    <a:moveTo>
                      <a:pt x="318" y="140"/>
                    </a:moveTo>
                    <a:lnTo>
                      <a:pt x="338" y="129"/>
                    </a:lnTo>
                    <a:lnTo>
                      <a:pt x="338" y="105"/>
                    </a:lnTo>
                    <a:lnTo>
                      <a:pt x="318" y="93"/>
                    </a:lnTo>
                    <a:lnTo>
                      <a:pt x="298" y="105"/>
                    </a:lnTo>
                    <a:lnTo>
                      <a:pt x="298" y="129"/>
                    </a:lnTo>
                    <a:lnTo>
                      <a:pt x="318" y="140"/>
                    </a:lnTo>
                    <a:close/>
                    <a:moveTo>
                      <a:pt x="20" y="93"/>
                    </a:moveTo>
                    <a:lnTo>
                      <a:pt x="39" y="82"/>
                    </a:lnTo>
                    <a:lnTo>
                      <a:pt x="39" y="58"/>
                    </a:lnTo>
                    <a:lnTo>
                      <a:pt x="20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0" y="93"/>
                    </a:lnTo>
                    <a:close/>
                    <a:moveTo>
                      <a:pt x="74" y="93"/>
                    </a:moveTo>
                    <a:lnTo>
                      <a:pt x="94" y="82"/>
                    </a:lnTo>
                    <a:lnTo>
                      <a:pt x="94" y="58"/>
                    </a:lnTo>
                    <a:lnTo>
                      <a:pt x="74" y="47"/>
                    </a:lnTo>
                    <a:lnTo>
                      <a:pt x="55" y="58"/>
                    </a:lnTo>
                    <a:lnTo>
                      <a:pt x="55" y="82"/>
                    </a:lnTo>
                    <a:lnTo>
                      <a:pt x="74" y="93"/>
                    </a:lnTo>
                    <a:close/>
                    <a:moveTo>
                      <a:pt x="129" y="93"/>
                    </a:moveTo>
                    <a:lnTo>
                      <a:pt x="149" y="82"/>
                    </a:lnTo>
                    <a:lnTo>
                      <a:pt x="149" y="58"/>
                    </a:lnTo>
                    <a:lnTo>
                      <a:pt x="129" y="47"/>
                    </a:lnTo>
                    <a:lnTo>
                      <a:pt x="108" y="58"/>
                    </a:lnTo>
                    <a:lnTo>
                      <a:pt x="108" y="82"/>
                    </a:lnTo>
                    <a:lnTo>
                      <a:pt x="129" y="93"/>
                    </a:lnTo>
                    <a:close/>
                    <a:moveTo>
                      <a:pt x="181" y="93"/>
                    </a:moveTo>
                    <a:lnTo>
                      <a:pt x="202" y="82"/>
                    </a:lnTo>
                    <a:lnTo>
                      <a:pt x="202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3"/>
                    </a:lnTo>
                    <a:close/>
                    <a:moveTo>
                      <a:pt x="237" y="93"/>
                    </a:moveTo>
                    <a:lnTo>
                      <a:pt x="257" y="82"/>
                    </a:lnTo>
                    <a:lnTo>
                      <a:pt x="257" y="58"/>
                    </a:lnTo>
                    <a:lnTo>
                      <a:pt x="237" y="47"/>
                    </a:lnTo>
                    <a:lnTo>
                      <a:pt x="217" y="58"/>
                    </a:lnTo>
                    <a:lnTo>
                      <a:pt x="217" y="82"/>
                    </a:lnTo>
                    <a:lnTo>
                      <a:pt x="237" y="93"/>
                    </a:lnTo>
                    <a:close/>
                    <a:moveTo>
                      <a:pt x="289" y="93"/>
                    </a:moveTo>
                    <a:lnTo>
                      <a:pt x="312" y="82"/>
                    </a:lnTo>
                    <a:lnTo>
                      <a:pt x="312" y="58"/>
                    </a:lnTo>
                    <a:lnTo>
                      <a:pt x="289" y="47"/>
                    </a:lnTo>
                    <a:lnTo>
                      <a:pt x="269" y="58"/>
                    </a:lnTo>
                    <a:lnTo>
                      <a:pt x="269" y="82"/>
                    </a:lnTo>
                    <a:lnTo>
                      <a:pt x="289" y="93"/>
                    </a:lnTo>
                    <a:close/>
                    <a:moveTo>
                      <a:pt x="47" y="47"/>
                    </a:moveTo>
                    <a:lnTo>
                      <a:pt x="67" y="35"/>
                    </a:lnTo>
                    <a:lnTo>
                      <a:pt x="67" y="11"/>
                    </a:lnTo>
                    <a:lnTo>
                      <a:pt x="47" y="0"/>
                    </a:lnTo>
                    <a:lnTo>
                      <a:pt x="26" y="11"/>
                    </a:lnTo>
                    <a:lnTo>
                      <a:pt x="26" y="35"/>
                    </a:lnTo>
                    <a:lnTo>
                      <a:pt x="47" y="47"/>
                    </a:lnTo>
                    <a:close/>
                    <a:moveTo>
                      <a:pt x="100" y="47"/>
                    </a:moveTo>
                    <a:lnTo>
                      <a:pt x="120" y="35"/>
                    </a:lnTo>
                    <a:lnTo>
                      <a:pt x="120" y="11"/>
                    </a:lnTo>
                    <a:lnTo>
                      <a:pt x="100" y="0"/>
                    </a:lnTo>
                    <a:lnTo>
                      <a:pt x="81" y="11"/>
                    </a:lnTo>
                    <a:lnTo>
                      <a:pt x="81" y="35"/>
                    </a:lnTo>
                    <a:lnTo>
                      <a:pt x="100" y="47"/>
                    </a:lnTo>
                    <a:close/>
                    <a:moveTo>
                      <a:pt x="155" y="47"/>
                    </a:moveTo>
                    <a:lnTo>
                      <a:pt x="175" y="35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5" y="11"/>
                    </a:lnTo>
                    <a:lnTo>
                      <a:pt x="135" y="35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30" y="35"/>
                    </a:lnTo>
                    <a:lnTo>
                      <a:pt x="230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5"/>
                    </a:lnTo>
                    <a:lnTo>
                      <a:pt x="208" y="47"/>
                    </a:lnTo>
                    <a:close/>
                    <a:moveTo>
                      <a:pt x="263" y="47"/>
                    </a:moveTo>
                    <a:lnTo>
                      <a:pt x="283" y="35"/>
                    </a:lnTo>
                    <a:lnTo>
                      <a:pt x="283" y="11"/>
                    </a:lnTo>
                    <a:lnTo>
                      <a:pt x="263" y="0"/>
                    </a:lnTo>
                    <a:lnTo>
                      <a:pt x="243" y="11"/>
                    </a:lnTo>
                    <a:lnTo>
                      <a:pt x="243" y="35"/>
                    </a:lnTo>
                    <a:lnTo>
                      <a:pt x="263" y="47"/>
                    </a:lnTo>
                    <a:close/>
                    <a:moveTo>
                      <a:pt x="47" y="422"/>
                    </a:moveTo>
                    <a:lnTo>
                      <a:pt x="67" y="408"/>
                    </a:lnTo>
                    <a:lnTo>
                      <a:pt x="67" y="386"/>
                    </a:lnTo>
                    <a:lnTo>
                      <a:pt x="47" y="375"/>
                    </a:lnTo>
                    <a:lnTo>
                      <a:pt x="26" y="386"/>
                    </a:lnTo>
                    <a:lnTo>
                      <a:pt x="26" y="408"/>
                    </a:lnTo>
                    <a:lnTo>
                      <a:pt x="47" y="422"/>
                    </a:lnTo>
                    <a:close/>
                    <a:moveTo>
                      <a:pt x="100" y="422"/>
                    </a:moveTo>
                    <a:lnTo>
                      <a:pt x="120" y="408"/>
                    </a:lnTo>
                    <a:lnTo>
                      <a:pt x="120" y="386"/>
                    </a:lnTo>
                    <a:lnTo>
                      <a:pt x="100" y="375"/>
                    </a:lnTo>
                    <a:lnTo>
                      <a:pt x="81" y="386"/>
                    </a:lnTo>
                    <a:lnTo>
                      <a:pt x="81" y="408"/>
                    </a:lnTo>
                    <a:lnTo>
                      <a:pt x="100" y="422"/>
                    </a:lnTo>
                    <a:close/>
                    <a:moveTo>
                      <a:pt x="155" y="422"/>
                    </a:moveTo>
                    <a:lnTo>
                      <a:pt x="175" y="408"/>
                    </a:lnTo>
                    <a:lnTo>
                      <a:pt x="175" y="386"/>
                    </a:lnTo>
                    <a:lnTo>
                      <a:pt x="155" y="375"/>
                    </a:lnTo>
                    <a:lnTo>
                      <a:pt x="135" y="386"/>
                    </a:lnTo>
                    <a:lnTo>
                      <a:pt x="135" y="408"/>
                    </a:lnTo>
                    <a:lnTo>
                      <a:pt x="155" y="422"/>
                    </a:lnTo>
                    <a:close/>
                    <a:moveTo>
                      <a:pt x="208" y="422"/>
                    </a:moveTo>
                    <a:lnTo>
                      <a:pt x="230" y="408"/>
                    </a:lnTo>
                    <a:lnTo>
                      <a:pt x="230" y="386"/>
                    </a:lnTo>
                    <a:lnTo>
                      <a:pt x="208" y="375"/>
                    </a:lnTo>
                    <a:lnTo>
                      <a:pt x="188" y="386"/>
                    </a:lnTo>
                    <a:lnTo>
                      <a:pt x="188" y="408"/>
                    </a:lnTo>
                    <a:lnTo>
                      <a:pt x="208" y="422"/>
                    </a:lnTo>
                    <a:close/>
                    <a:moveTo>
                      <a:pt x="263" y="422"/>
                    </a:moveTo>
                    <a:lnTo>
                      <a:pt x="283" y="408"/>
                    </a:lnTo>
                    <a:lnTo>
                      <a:pt x="283" y="386"/>
                    </a:lnTo>
                    <a:lnTo>
                      <a:pt x="263" y="375"/>
                    </a:lnTo>
                    <a:lnTo>
                      <a:pt x="243" y="386"/>
                    </a:lnTo>
                    <a:lnTo>
                      <a:pt x="243" y="408"/>
                    </a:lnTo>
                    <a:lnTo>
                      <a:pt x="263" y="422"/>
                    </a:lnTo>
                    <a:close/>
                    <a:moveTo>
                      <a:pt x="318" y="422"/>
                    </a:moveTo>
                    <a:lnTo>
                      <a:pt x="338" y="408"/>
                    </a:lnTo>
                    <a:lnTo>
                      <a:pt x="338" y="386"/>
                    </a:lnTo>
                    <a:lnTo>
                      <a:pt x="318" y="375"/>
                    </a:lnTo>
                    <a:lnTo>
                      <a:pt x="298" y="386"/>
                    </a:lnTo>
                    <a:lnTo>
                      <a:pt x="298" y="408"/>
                    </a:lnTo>
                    <a:lnTo>
                      <a:pt x="318" y="422"/>
                    </a:lnTo>
                    <a:close/>
                    <a:moveTo>
                      <a:pt x="20" y="375"/>
                    </a:moveTo>
                    <a:lnTo>
                      <a:pt x="39" y="361"/>
                    </a:lnTo>
                    <a:lnTo>
                      <a:pt x="39" y="339"/>
                    </a:lnTo>
                    <a:lnTo>
                      <a:pt x="20" y="328"/>
                    </a:lnTo>
                    <a:lnTo>
                      <a:pt x="0" y="339"/>
                    </a:lnTo>
                    <a:lnTo>
                      <a:pt x="0" y="361"/>
                    </a:lnTo>
                    <a:lnTo>
                      <a:pt x="20" y="375"/>
                    </a:lnTo>
                    <a:close/>
                    <a:moveTo>
                      <a:pt x="74" y="375"/>
                    </a:moveTo>
                    <a:lnTo>
                      <a:pt x="94" y="361"/>
                    </a:lnTo>
                    <a:lnTo>
                      <a:pt x="94" y="339"/>
                    </a:lnTo>
                    <a:lnTo>
                      <a:pt x="74" y="328"/>
                    </a:lnTo>
                    <a:lnTo>
                      <a:pt x="55" y="339"/>
                    </a:lnTo>
                    <a:lnTo>
                      <a:pt x="55" y="361"/>
                    </a:lnTo>
                    <a:lnTo>
                      <a:pt x="74" y="375"/>
                    </a:lnTo>
                    <a:close/>
                    <a:moveTo>
                      <a:pt x="129" y="375"/>
                    </a:moveTo>
                    <a:lnTo>
                      <a:pt x="149" y="361"/>
                    </a:lnTo>
                    <a:lnTo>
                      <a:pt x="149" y="339"/>
                    </a:lnTo>
                    <a:lnTo>
                      <a:pt x="129" y="328"/>
                    </a:lnTo>
                    <a:lnTo>
                      <a:pt x="108" y="339"/>
                    </a:lnTo>
                    <a:lnTo>
                      <a:pt x="108" y="361"/>
                    </a:lnTo>
                    <a:lnTo>
                      <a:pt x="129" y="375"/>
                    </a:lnTo>
                    <a:close/>
                    <a:moveTo>
                      <a:pt x="181" y="375"/>
                    </a:moveTo>
                    <a:lnTo>
                      <a:pt x="202" y="361"/>
                    </a:lnTo>
                    <a:lnTo>
                      <a:pt x="202" y="339"/>
                    </a:lnTo>
                    <a:lnTo>
                      <a:pt x="181" y="328"/>
                    </a:lnTo>
                    <a:lnTo>
                      <a:pt x="161" y="339"/>
                    </a:lnTo>
                    <a:lnTo>
                      <a:pt x="161" y="361"/>
                    </a:lnTo>
                    <a:lnTo>
                      <a:pt x="181" y="375"/>
                    </a:lnTo>
                    <a:close/>
                    <a:moveTo>
                      <a:pt x="237" y="375"/>
                    </a:moveTo>
                    <a:lnTo>
                      <a:pt x="257" y="361"/>
                    </a:lnTo>
                    <a:lnTo>
                      <a:pt x="257" y="339"/>
                    </a:lnTo>
                    <a:lnTo>
                      <a:pt x="237" y="328"/>
                    </a:lnTo>
                    <a:lnTo>
                      <a:pt x="217" y="339"/>
                    </a:lnTo>
                    <a:lnTo>
                      <a:pt x="217" y="361"/>
                    </a:lnTo>
                    <a:lnTo>
                      <a:pt x="237" y="375"/>
                    </a:lnTo>
                    <a:close/>
                    <a:moveTo>
                      <a:pt x="289" y="375"/>
                    </a:moveTo>
                    <a:lnTo>
                      <a:pt x="312" y="361"/>
                    </a:lnTo>
                    <a:lnTo>
                      <a:pt x="312" y="339"/>
                    </a:lnTo>
                    <a:lnTo>
                      <a:pt x="289" y="328"/>
                    </a:lnTo>
                    <a:lnTo>
                      <a:pt x="269" y="339"/>
                    </a:lnTo>
                    <a:lnTo>
                      <a:pt x="269" y="361"/>
                    </a:lnTo>
                    <a:lnTo>
                      <a:pt x="289" y="375"/>
                    </a:lnTo>
                    <a:close/>
                    <a:moveTo>
                      <a:pt x="47" y="326"/>
                    </a:moveTo>
                    <a:lnTo>
                      <a:pt x="67" y="314"/>
                    </a:lnTo>
                    <a:lnTo>
                      <a:pt x="67" y="293"/>
                    </a:lnTo>
                    <a:lnTo>
                      <a:pt x="47" y="281"/>
                    </a:lnTo>
                    <a:lnTo>
                      <a:pt x="26" y="293"/>
                    </a:lnTo>
                    <a:lnTo>
                      <a:pt x="26" y="314"/>
                    </a:lnTo>
                    <a:lnTo>
                      <a:pt x="47" y="326"/>
                    </a:lnTo>
                    <a:close/>
                    <a:moveTo>
                      <a:pt x="100" y="326"/>
                    </a:moveTo>
                    <a:lnTo>
                      <a:pt x="120" y="314"/>
                    </a:lnTo>
                    <a:lnTo>
                      <a:pt x="120" y="293"/>
                    </a:lnTo>
                    <a:lnTo>
                      <a:pt x="100" y="281"/>
                    </a:lnTo>
                    <a:lnTo>
                      <a:pt x="81" y="293"/>
                    </a:lnTo>
                    <a:lnTo>
                      <a:pt x="81" y="314"/>
                    </a:lnTo>
                    <a:lnTo>
                      <a:pt x="100" y="326"/>
                    </a:lnTo>
                    <a:close/>
                    <a:moveTo>
                      <a:pt x="155" y="326"/>
                    </a:moveTo>
                    <a:lnTo>
                      <a:pt x="175" y="314"/>
                    </a:lnTo>
                    <a:lnTo>
                      <a:pt x="175" y="293"/>
                    </a:lnTo>
                    <a:lnTo>
                      <a:pt x="155" y="281"/>
                    </a:lnTo>
                    <a:lnTo>
                      <a:pt x="135" y="293"/>
                    </a:lnTo>
                    <a:lnTo>
                      <a:pt x="135" y="314"/>
                    </a:lnTo>
                    <a:lnTo>
                      <a:pt x="155" y="326"/>
                    </a:lnTo>
                    <a:close/>
                    <a:moveTo>
                      <a:pt x="208" y="326"/>
                    </a:moveTo>
                    <a:lnTo>
                      <a:pt x="230" y="314"/>
                    </a:lnTo>
                    <a:lnTo>
                      <a:pt x="230" y="293"/>
                    </a:lnTo>
                    <a:lnTo>
                      <a:pt x="208" y="281"/>
                    </a:lnTo>
                    <a:lnTo>
                      <a:pt x="188" y="293"/>
                    </a:lnTo>
                    <a:lnTo>
                      <a:pt x="188" y="314"/>
                    </a:lnTo>
                    <a:lnTo>
                      <a:pt x="208" y="326"/>
                    </a:lnTo>
                    <a:close/>
                    <a:moveTo>
                      <a:pt x="263" y="326"/>
                    </a:moveTo>
                    <a:lnTo>
                      <a:pt x="283" y="314"/>
                    </a:lnTo>
                    <a:lnTo>
                      <a:pt x="283" y="293"/>
                    </a:lnTo>
                    <a:lnTo>
                      <a:pt x="263" y="281"/>
                    </a:lnTo>
                    <a:lnTo>
                      <a:pt x="243" y="293"/>
                    </a:lnTo>
                    <a:lnTo>
                      <a:pt x="243" y="314"/>
                    </a:lnTo>
                    <a:lnTo>
                      <a:pt x="263" y="326"/>
                    </a:lnTo>
                    <a:close/>
                    <a:moveTo>
                      <a:pt x="318" y="326"/>
                    </a:moveTo>
                    <a:lnTo>
                      <a:pt x="338" y="314"/>
                    </a:lnTo>
                    <a:lnTo>
                      <a:pt x="338" y="293"/>
                    </a:lnTo>
                    <a:lnTo>
                      <a:pt x="318" y="281"/>
                    </a:lnTo>
                    <a:lnTo>
                      <a:pt x="298" y="293"/>
                    </a:lnTo>
                    <a:lnTo>
                      <a:pt x="298" y="314"/>
                    </a:lnTo>
                    <a:lnTo>
                      <a:pt x="318" y="326"/>
                    </a:lnTo>
                    <a:close/>
                    <a:moveTo>
                      <a:pt x="371" y="514"/>
                    </a:moveTo>
                    <a:lnTo>
                      <a:pt x="392" y="504"/>
                    </a:lnTo>
                    <a:lnTo>
                      <a:pt x="392" y="478"/>
                    </a:lnTo>
                    <a:lnTo>
                      <a:pt x="371" y="468"/>
                    </a:lnTo>
                    <a:lnTo>
                      <a:pt x="351" y="478"/>
                    </a:lnTo>
                    <a:lnTo>
                      <a:pt x="351" y="504"/>
                    </a:lnTo>
                    <a:lnTo>
                      <a:pt x="371" y="514"/>
                    </a:lnTo>
                    <a:close/>
                    <a:moveTo>
                      <a:pt x="426" y="514"/>
                    </a:moveTo>
                    <a:lnTo>
                      <a:pt x="445" y="504"/>
                    </a:lnTo>
                    <a:lnTo>
                      <a:pt x="445" y="478"/>
                    </a:lnTo>
                    <a:lnTo>
                      <a:pt x="426" y="468"/>
                    </a:lnTo>
                    <a:lnTo>
                      <a:pt x="406" y="478"/>
                    </a:lnTo>
                    <a:lnTo>
                      <a:pt x="406" y="504"/>
                    </a:lnTo>
                    <a:lnTo>
                      <a:pt x="426" y="514"/>
                    </a:lnTo>
                    <a:close/>
                    <a:moveTo>
                      <a:pt x="480" y="514"/>
                    </a:moveTo>
                    <a:lnTo>
                      <a:pt x="500" y="504"/>
                    </a:lnTo>
                    <a:lnTo>
                      <a:pt x="500" y="478"/>
                    </a:lnTo>
                    <a:lnTo>
                      <a:pt x="480" y="468"/>
                    </a:lnTo>
                    <a:lnTo>
                      <a:pt x="458" y="478"/>
                    </a:lnTo>
                    <a:lnTo>
                      <a:pt x="458" y="504"/>
                    </a:lnTo>
                    <a:lnTo>
                      <a:pt x="480" y="514"/>
                    </a:lnTo>
                    <a:close/>
                    <a:moveTo>
                      <a:pt x="532" y="514"/>
                    </a:moveTo>
                    <a:lnTo>
                      <a:pt x="552" y="504"/>
                    </a:lnTo>
                    <a:lnTo>
                      <a:pt x="552" y="478"/>
                    </a:lnTo>
                    <a:lnTo>
                      <a:pt x="532" y="468"/>
                    </a:lnTo>
                    <a:lnTo>
                      <a:pt x="514" y="478"/>
                    </a:lnTo>
                    <a:lnTo>
                      <a:pt x="514" y="504"/>
                    </a:lnTo>
                    <a:lnTo>
                      <a:pt x="532" y="514"/>
                    </a:lnTo>
                    <a:close/>
                    <a:moveTo>
                      <a:pt x="586" y="514"/>
                    </a:moveTo>
                    <a:lnTo>
                      <a:pt x="608" y="504"/>
                    </a:lnTo>
                    <a:lnTo>
                      <a:pt x="608" y="478"/>
                    </a:lnTo>
                    <a:lnTo>
                      <a:pt x="586" y="468"/>
                    </a:lnTo>
                    <a:lnTo>
                      <a:pt x="566" y="478"/>
                    </a:lnTo>
                    <a:lnTo>
                      <a:pt x="566" y="504"/>
                    </a:lnTo>
                    <a:lnTo>
                      <a:pt x="586" y="514"/>
                    </a:lnTo>
                    <a:close/>
                    <a:moveTo>
                      <a:pt x="452" y="468"/>
                    </a:moveTo>
                    <a:lnTo>
                      <a:pt x="473" y="454"/>
                    </a:lnTo>
                    <a:lnTo>
                      <a:pt x="473" y="432"/>
                    </a:lnTo>
                    <a:lnTo>
                      <a:pt x="452" y="422"/>
                    </a:lnTo>
                    <a:lnTo>
                      <a:pt x="432" y="432"/>
                    </a:lnTo>
                    <a:lnTo>
                      <a:pt x="432" y="454"/>
                    </a:lnTo>
                    <a:lnTo>
                      <a:pt x="452" y="468"/>
                    </a:lnTo>
                    <a:close/>
                    <a:moveTo>
                      <a:pt x="505" y="468"/>
                    </a:moveTo>
                    <a:lnTo>
                      <a:pt x="526" y="454"/>
                    </a:lnTo>
                    <a:lnTo>
                      <a:pt x="526" y="432"/>
                    </a:lnTo>
                    <a:lnTo>
                      <a:pt x="505" y="422"/>
                    </a:lnTo>
                    <a:lnTo>
                      <a:pt x="485" y="432"/>
                    </a:lnTo>
                    <a:lnTo>
                      <a:pt x="485" y="454"/>
                    </a:lnTo>
                    <a:lnTo>
                      <a:pt x="505" y="468"/>
                    </a:lnTo>
                    <a:close/>
                    <a:moveTo>
                      <a:pt x="560" y="468"/>
                    </a:moveTo>
                    <a:lnTo>
                      <a:pt x="579" y="454"/>
                    </a:lnTo>
                    <a:lnTo>
                      <a:pt x="579" y="432"/>
                    </a:lnTo>
                    <a:lnTo>
                      <a:pt x="560" y="422"/>
                    </a:lnTo>
                    <a:lnTo>
                      <a:pt x="540" y="432"/>
                    </a:lnTo>
                    <a:lnTo>
                      <a:pt x="540" y="454"/>
                    </a:lnTo>
                    <a:lnTo>
                      <a:pt x="560" y="468"/>
                    </a:lnTo>
                    <a:close/>
                    <a:moveTo>
                      <a:pt x="344" y="468"/>
                    </a:moveTo>
                    <a:lnTo>
                      <a:pt x="364" y="454"/>
                    </a:lnTo>
                    <a:lnTo>
                      <a:pt x="364" y="432"/>
                    </a:lnTo>
                    <a:lnTo>
                      <a:pt x="344" y="422"/>
                    </a:lnTo>
                    <a:lnTo>
                      <a:pt x="324" y="432"/>
                    </a:lnTo>
                    <a:lnTo>
                      <a:pt x="324" y="454"/>
                    </a:lnTo>
                    <a:lnTo>
                      <a:pt x="344" y="468"/>
                    </a:lnTo>
                    <a:close/>
                    <a:moveTo>
                      <a:pt x="400" y="468"/>
                    </a:moveTo>
                    <a:lnTo>
                      <a:pt x="418" y="454"/>
                    </a:lnTo>
                    <a:lnTo>
                      <a:pt x="418" y="432"/>
                    </a:lnTo>
                    <a:lnTo>
                      <a:pt x="400" y="422"/>
                    </a:lnTo>
                    <a:lnTo>
                      <a:pt x="379" y="432"/>
                    </a:lnTo>
                    <a:lnTo>
                      <a:pt x="379" y="454"/>
                    </a:lnTo>
                    <a:lnTo>
                      <a:pt x="400" y="468"/>
                    </a:lnTo>
                    <a:close/>
                    <a:moveTo>
                      <a:pt x="560" y="279"/>
                    </a:moveTo>
                    <a:lnTo>
                      <a:pt x="579" y="269"/>
                    </a:lnTo>
                    <a:lnTo>
                      <a:pt x="579" y="246"/>
                    </a:lnTo>
                    <a:lnTo>
                      <a:pt x="560" y="233"/>
                    </a:lnTo>
                    <a:lnTo>
                      <a:pt x="540" y="246"/>
                    </a:lnTo>
                    <a:lnTo>
                      <a:pt x="540" y="269"/>
                    </a:lnTo>
                    <a:lnTo>
                      <a:pt x="560" y="279"/>
                    </a:lnTo>
                    <a:close/>
                    <a:moveTo>
                      <a:pt x="344" y="279"/>
                    </a:moveTo>
                    <a:lnTo>
                      <a:pt x="364" y="269"/>
                    </a:lnTo>
                    <a:lnTo>
                      <a:pt x="364" y="246"/>
                    </a:lnTo>
                    <a:lnTo>
                      <a:pt x="344" y="233"/>
                    </a:lnTo>
                    <a:lnTo>
                      <a:pt x="324" y="246"/>
                    </a:lnTo>
                    <a:lnTo>
                      <a:pt x="324" y="269"/>
                    </a:lnTo>
                    <a:lnTo>
                      <a:pt x="344" y="279"/>
                    </a:lnTo>
                    <a:close/>
                    <a:moveTo>
                      <a:pt x="400" y="279"/>
                    </a:moveTo>
                    <a:lnTo>
                      <a:pt x="418" y="269"/>
                    </a:lnTo>
                    <a:lnTo>
                      <a:pt x="418" y="246"/>
                    </a:lnTo>
                    <a:lnTo>
                      <a:pt x="400" y="233"/>
                    </a:lnTo>
                    <a:lnTo>
                      <a:pt x="379" y="246"/>
                    </a:lnTo>
                    <a:lnTo>
                      <a:pt x="379" y="269"/>
                    </a:lnTo>
                    <a:lnTo>
                      <a:pt x="400" y="279"/>
                    </a:lnTo>
                    <a:close/>
                    <a:moveTo>
                      <a:pt x="452" y="279"/>
                    </a:moveTo>
                    <a:lnTo>
                      <a:pt x="473" y="269"/>
                    </a:lnTo>
                    <a:lnTo>
                      <a:pt x="473" y="246"/>
                    </a:lnTo>
                    <a:lnTo>
                      <a:pt x="452" y="233"/>
                    </a:lnTo>
                    <a:lnTo>
                      <a:pt x="432" y="246"/>
                    </a:lnTo>
                    <a:lnTo>
                      <a:pt x="432" y="269"/>
                    </a:lnTo>
                    <a:lnTo>
                      <a:pt x="452" y="279"/>
                    </a:lnTo>
                    <a:close/>
                    <a:moveTo>
                      <a:pt x="505" y="279"/>
                    </a:moveTo>
                    <a:lnTo>
                      <a:pt x="526" y="269"/>
                    </a:lnTo>
                    <a:lnTo>
                      <a:pt x="526" y="246"/>
                    </a:lnTo>
                    <a:lnTo>
                      <a:pt x="505" y="233"/>
                    </a:lnTo>
                    <a:lnTo>
                      <a:pt x="485" y="246"/>
                    </a:lnTo>
                    <a:lnTo>
                      <a:pt x="485" y="269"/>
                    </a:lnTo>
                    <a:lnTo>
                      <a:pt x="505" y="279"/>
                    </a:lnTo>
                    <a:close/>
                    <a:moveTo>
                      <a:pt x="371" y="233"/>
                    </a:moveTo>
                    <a:lnTo>
                      <a:pt x="392" y="222"/>
                    </a:lnTo>
                    <a:lnTo>
                      <a:pt x="392" y="199"/>
                    </a:lnTo>
                    <a:lnTo>
                      <a:pt x="371" y="187"/>
                    </a:lnTo>
                    <a:lnTo>
                      <a:pt x="351" y="199"/>
                    </a:lnTo>
                    <a:lnTo>
                      <a:pt x="351" y="222"/>
                    </a:lnTo>
                    <a:lnTo>
                      <a:pt x="371" y="233"/>
                    </a:lnTo>
                    <a:close/>
                    <a:moveTo>
                      <a:pt x="426" y="233"/>
                    </a:moveTo>
                    <a:lnTo>
                      <a:pt x="445" y="222"/>
                    </a:lnTo>
                    <a:lnTo>
                      <a:pt x="445" y="199"/>
                    </a:lnTo>
                    <a:lnTo>
                      <a:pt x="426" y="187"/>
                    </a:lnTo>
                    <a:lnTo>
                      <a:pt x="406" y="199"/>
                    </a:lnTo>
                    <a:lnTo>
                      <a:pt x="406" y="222"/>
                    </a:lnTo>
                    <a:lnTo>
                      <a:pt x="426" y="233"/>
                    </a:lnTo>
                    <a:close/>
                    <a:moveTo>
                      <a:pt x="480" y="233"/>
                    </a:moveTo>
                    <a:lnTo>
                      <a:pt x="500" y="222"/>
                    </a:lnTo>
                    <a:lnTo>
                      <a:pt x="500" y="199"/>
                    </a:lnTo>
                    <a:lnTo>
                      <a:pt x="480" y="187"/>
                    </a:lnTo>
                    <a:lnTo>
                      <a:pt x="458" y="199"/>
                    </a:lnTo>
                    <a:lnTo>
                      <a:pt x="458" y="222"/>
                    </a:lnTo>
                    <a:lnTo>
                      <a:pt x="480" y="233"/>
                    </a:lnTo>
                    <a:close/>
                    <a:moveTo>
                      <a:pt x="532" y="233"/>
                    </a:moveTo>
                    <a:lnTo>
                      <a:pt x="552" y="222"/>
                    </a:lnTo>
                    <a:lnTo>
                      <a:pt x="552" y="199"/>
                    </a:lnTo>
                    <a:lnTo>
                      <a:pt x="532" y="187"/>
                    </a:lnTo>
                    <a:lnTo>
                      <a:pt x="514" y="199"/>
                    </a:lnTo>
                    <a:lnTo>
                      <a:pt x="514" y="222"/>
                    </a:lnTo>
                    <a:lnTo>
                      <a:pt x="532" y="233"/>
                    </a:lnTo>
                    <a:close/>
                    <a:moveTo>
                      <a:pt x="344" y="187"/>
                    </a:moveTo>
                    <a:lnTo>
                      <a:pt x="364" y="175"/>
                    </a:lnTo>
                    <a:lnTo>
                      <a:pt x="364" y="153"/>
                    </a:lnTo>
                    <a:lnTo>
                      <a:pt x="344" y="140"/>
                    </a:lnTo>
                    <a:lnTo>
                      <a:pt x="324" y="153"/>
                    </a:lnTo>
                    <a:lnTo>
                      <a:pt x="324" y="175"/>
                    </a:lnTo>
                    <a:lnTo>
                      <a:pt x="344" y="187"/>
                    </a:lnTo>
                    <a:close/>
                    <a:moveTo>
                      <a:pt x="400" y="187"/>
                    </a:moveTo>
                    <a:lnTo>
                      <a:pt x="418" y="175"/>
                    </a:lnTo>
                    <a:lnTo>
                      <a:pt x="418" y="153"/>
                    </a:lnTo>
                    <a:lnTo>
                      <a:pt x="400" y="140"/>
                    </a:lnTo>
                    <a:lnTo>
                      <a:pt x="379" y="153"/>
                    </a:lnTo>
                    <a:lnTo>
                      <a:pt x="379" y="175"/>
                    </a:lnTo>
                    <a:lnTo>
                      <a:pt x="400" y="187"/>
                    </a:lnTo>
                    <a:close/>
                    <a:moveTo>
                      <a:pt x="452" y="187"/>
                    </a:moveTo>
                    <a:lnTo>
                      <a:pt x="473" y="175"/>
                    </a:lnTo>
                    <a:lnTo>
                      <a:pt x="473" y="153"/>
                    </a:lnTo>
                    <a:lnTo>
                      <a:pt x="452" y="140"/>
                    </a:lnTo>
                    <a:lnTo>
                      <a:pt x="432" y="153"/>
                    </a:lnTo>
                    <a:lnTo>
                      <a:pt x="432" y="175"/>
                    </a:lnTo>
                    <a:lnTo>
                      <a:pt x="452" y="187"/>
                    </a:lnTo>
                    <a:close/>
                    <a:moveTo>
                      <a:pt x="505" y="187"/>
                    </a:moveTo>
                    <a:lnTo>
                      <a:pt x="526" y="175"/>
                    </a:lnTo>
                    <a:lnTo>
                      <a:pt x="526" y="153"/>
                    </a:lnTo>
                    <a:lnTo>
                      <a:pt x="505" y="140"/>
                    </a:lnTo>
                    <a:lnTo>
                      <a:pt x="485" y="153"/>
                    </a:lnTo>
                    <a:lnTo>
                      <a:pt x="485" y="175"/>
                    </a:lnTo>
                    <a:lnTo>
                      <a:pt x="505" y="187"/>
                    </a:lnTo>
                    <a:close/>
                    <a:moveTo>
                      <a:pt x="560" y="187"/>
                    </a:moveTo>
                    <a:lnTo>
                      <a:pt x="579" y="175"/>
                    </a:lnTo>
                    <a:lnTo>
                      <a:pt x="579" y="153"/>
                    </a:lnTo>
                    <a:lnTo>
                      <a:pt x="560" y="140"/>
                    </a:lnTo>
                    <a:lnTo>
                      <a:pt x="540" y="153"/>
                    </a:lnTo>
                    <a:lnTo>
                      <a:pt x="540" y="175"/>
                    </a:lnTo>
                    <a:lnTo>
                      <a:pt x="560" y="187"/>
                    </a:lnTo>
                    <a:close/>
                    <a:moveTo>
                      <a:pt x="480" y="422"/>
                    </a:moveTo>
                    <a:lnTo>
                      <a:pt x="500" y="408"/>
                    </a:lnTo>
                    <a:lnTo>
                      <a:pt x="500" y="386"/>
                    </a:lnTo>
                    <a:lnTo>
                      <a:pt x="480" y="375"/>
                    </a:lnTo>
                    <a:lnTo>
                      <a:pt x="458" y="386"/>
                    </a:lnTo>
                    <a:lnTo>
                      <a:pt x="458" y="408"/>
                    </a:lnTo>
                    <a:lnTo>
                      <a:pt x="480" y="422"/>
                    </a:lnTo>
                    <a:close/>
                    <a:moveTo>
                      <a:pt x="532" y="422"/>
                    </a:moveTo>
                    <a:lnTo>
                      <a:pt x="552" y="408"/>
                    </a:lnTo>
                    <a:lnTo>
                      <a:pt x="552" y="386"/>
                    </a:lnTo>
                    <a:lnTo>
                      <a:pt x="532" y="375"/>
                    </a:lnTo>
                    <a:lnTo>
                      <a:pt x="514" y="386"/>
                    </a:lnTo>
                    <a:lnTo>
                      <a:pt x="514" y="408"/>
                    </a:lnTo>
                    <a:lnTo>
                      <a:pt x="532" y="422"/>
                    </a:lnTo>
                    <a:close/>
                    <a:moveTo>
                      <a:pt x="586" y="422"/>
                    </a:moveTo>
                    <a:lnTo>
                      <a:pt x="608" y="408"/>
                    </a:lnTo>
                    <a:lnTo>
                      <a:pt x="608" y="386"/>
                    </a:lnTo>
                    <a:lnTo>
                      <a:pt x="586" y="375"/>
                    </a:lnTo>
                    <a:lnTo>
                      <a:pt x="566" y="386"/>
                    </a:lnTo>
                    <a:lnTo>
                      <a:pt x="566" y="408"/>
                    </a:lnTo>
                    <a:lnTo>
                      <a:pt x="586" y="422"/>
                    </a:lnTo>
                    <a:close/>
                    <a:moveTo>
                      <a:pt x="371" y="422"/>
                    </a:moveTo>
                    <a:lnTo>
                      <a:pt x="392" y="408"/>
                    </a:lnTo>
                    <a:lnTo>
                      <a:pt x="392" y="386"/>
                    </a:lnTo>
                    <a:lnTo>
                      <a:pt x="371" y="375"/>
                    </a:lnTo>
                    <a:lnTo>
                      <a:pt x="351" y="386"/>
                    </a:lnTo>
                    <a:lnTo>
                      <a:pt x="351" y="408"/>
                    </a:lnTo>
                    <a:lnTo>
                      <a:pt x="371" y="422"/>
                    </a:lnTo>
                    <a:close/>
                    <a:moveTo>
                      <a:pt x="426" y="422"/>
                    </a:moveTo>
                    <a:lnTo>
                      <a:pt x="445" y="408"/>
                    </a:lnTo>
                    <a:lnTo>
                      <a:pt x="445" y="386"/>
                    </a:lnTo>
                    <a:lnTo>
                      <a:pt x="426" y="375"/>
                    </a:lnTo>
                    <a:lnTo>
                      <a:pt x="406" y="386"/>
                    </a:lnTo>
                    <a:lnTo>
                      <a:pt x="406" y="408"/>
                    </a:lnTo>
                    <a:lnTo>
                      <a:pt x="426" y="422"/>
                    </a:lnTo>
                    <a:close/>
                    <a:moveTo>
                      <a:pt x="400" y="375"/>
                    </a:moveTo>
                    <a:lnTo>
                      <a:pt x="418" y="361"/>
                    </a:lnTo>
                    <a:lnTo>
                      <a:pt x="418" y="339"/>
                    </a:lnTo>
                    <a:lnTo>
                      <a:pt x="400" y="328"/>
                    </a:lnTo>
                    <a:lnTo>
                      <a:pt x="379" y="339"/>
                    </a:lnTo>
                    <a:lnTo>
                      <a:pt x="379" y="361"/>
                    </a:lnTo>
                    <a:lnTo>
                      <a:pt x="400" y="375"/>
                    </a:lnTo>
                    <a:close/>
                    <a:moveTo>
                      <a:pt x="452" y="375"/>
                    </a:moveTo>
                    <a:lnTo>
                      <a:pt x="473" y="361"/>
                    </a:lnTo>
                    <a:lnTo>
                      <a:pt x="473" y="339"/>
                    </a:lnTo>
                    <a:lnTo>
                      <a:pt x="452" y="328"/>
                    </a:lnTo>
                    <a:lnTo>
                      <a:pt x="432" y="339"/>
                    </a:lnTo>
                    <a:lnTo>
                      <a:pt x="432" y="361"/>
                    </a:lnTo>
                    <a:lnTo>
                      <a:pt x="452" y="375"/>
                    </a:lnTo>
                    <a:close/>
                    <a:moveTo>
                      <a:pt x="505" y="375"/>
                    </a:moveTo>
                    <a:lnTo>
                      <a:pt x="526" y="361"/>
                    </a:lnTo>
                    <a:lnTo>
                      <a:pt x="526" y="339"/>
                    </a:lnTo>
                    <a:lnTo>
                      <a:pt x="505" y="328"/>
                    </a:lnTo>
                    <a:lnTo>
                      <a:pt x="485" y="339"/>
                    </a:lnTo>
                    <a:lnTo>
                      <a:pt x="485" y="361"/>
                    </a:lnTo>
                    <a:lnTo>
                      <a:pt x="505" y="375"/>
                    </a:lnTo>
                    <a:close/>
                    <a:moveTo>
                      <a:pt x="560" y="375"/>
                    </a:moveTo>
                    <a:lnTo>
                      <a:pt x="579" y="361"/>
                    </a:lnTo>
                    <a:lnTo>
                      <a:pt x="579" y="339"/>
                    </a:lnTo>
                    <a:lnTo>
                      <a:pt x="560" y="328"/>
                    </a:lnTo>
                    <a:lnTo>
                      <a:pt x="540" y="339"/>
                    </a:lnTo>
                    <a:lnTo>
                      <a:pt x="540" y="361"/>
                    </a:lnTo>
                    <a:lnTo>
                      <a:pt x="560" y="375"/>
                    </a:lnTo>
                    <a:close/>
                    <a:moveTo>
                      <a:pt x="344" y="375"/>
                    </a:moveTo>
                    <a:lnTo>
                      <a:pt x="364" y="361"/>
                    </a:lnTo>
                    <a:lnTo>
                      <a:pt x="364" y="339"/>
                    </a:lnTo>
                    <a:lnTo>
                      <a:pt x="344" y="328"/>
                    </a:lnTo>
                    <a:lnTo>
                      <a:pt x="324" y="339"/>
                    </a:lnTo>
                    <a:lnTo>
                      <a:pt x="324" y="361"/>
                    </a:lnTo>
                    <a:lnTo>
                      <a:pt x="344" y="375"/>
                    </a:lnTo>
                    <a:close/>
                    <a:moveTo>
                      <a:pt x="371" y="326"/>
                    </a:moveTo>
                    <a:lnTo>
                      <a:pt x="392" y="314"/>
                    </a:lnTo>
                    <a:lnTo>
                      <a:pt x="392" y="293"/>
                    </a:lnTo>
                    <a:lnTo>
                      <a:pt x="371" y="281"/>
                    </a:lnTo>
                    <a:lnTo>
                      <a:pt x="351" y="293"/>
                    </a:lnTo>
                    <a:lnTo>
                      <a:pt x="351" y="314"/>
                    </a:lnTo>
                    <a:lnTo>
                      <a:pt x="371" y="326"/>
                    </a:lnTo>
                    <a:close/>
                    <a:moveTo>
                      <a:pt x="426" y="326"/>
                    </a:moveTo>
                    <a:lnTo>
                      <a:pt x="445" y="314"/>
                    </a:lnTo>
                    <a:lnTo>
                      <a:pt x="445" y="293"/>
                    </a:lnTo>
                    <a:lnTo>
                      <a:pt x="426" y="281"/>
                    </a:lnTo>
                    <a:lnTo>
                      <a:pt x="406" y="293"/>
                    </a:lnTo>
                    <a:lnTo>
                      <a:pt x="406" y="314"/>
                    </a:lnTo>
                    <a:lnTo>
                      <a:pt x="426" y="326"/>
                    </a:lnTo>
                    <a:close/>
                    <a:moveTo>
                      <a:pt x="480" y="326"/>
                    </a:moveTo>
                    <a:lnTo>
                      <a:pt x="500" y="314"/>
                    </a:lnTo>
                    <a:lnTo>
                      <a:pt x="500" y="293"/>
                    </a:lnTo>
                    <a:lnTo>
                      <a:pt x="480" y="281"/>
                    </a:lnTo>
                    <a:lnTo>
                      <a:pt x="458" y="293"/>
                    </a:lnTo>
                    <a:lnTo>
                      <a:pt x="458" y="314"/>
                    </a:lnTo>
                    <a:lnTo>
                      <a:pt x="480" y="326"/>
                    </a:lnTo>
                    <a:close/>
                    <a:moveTo>
                      <a:pt x="532" y="326"/>
                    </a:moveTo>
                    <a:lnTo>
                      <a:pt x="552" y="314"/>
                    </a:lnTo>
                    <a:lnTo>
                      <a:pt x="552" y="293"/>
                    </a:lnTo>
                    <a:lnTo>
                      <a:pt x="532" y="281"/>
                    </a:lnTo>
                    <a:lnTo>
                      <a:pt x="514" y="293"/>
                    </a:lnTo>
                    <a:lnTo>
                      <a:pt x="514" y="314"/>
                    </a:lnTo>
                    <a:lnTo>
                      <a:pt x="532" y="326"/>
                    </a:lnTo>
                    <a:close/>
                    <a:moveTo>
                      <a:pt x="480" y="140"/>
                    </a:moveTo>
                    <a:lnTo>
                      <a:pt x="500" y="129"/>
                    </a:lnTo>
                    <a:lnTo>
                      <a:pt x="500" y="105"/>
                    </a:lnTo>
                    <a:lnTo>
                      <a:pt x="480" y="93"/>
                    </a:lnTo>
                    <a:lnTo>
                      <a:pt x="458" y="105"/>
                    </a:lnTo>
                    <a:lnTo>
                      <a:pt x="458" y="129"/>
                    </a:lnTo>
                    <a:lnTo>
                      <a:pt x="480" y="140"/>
                    </a:lnTo>
                    <a:close/>
                    <a:moveTo>
                      <a:pt x="532" y="140"/>
                    </a:moveTo>
                    <a:lnTo>
                      <a:pt x="552" y="129"/>
                    </a:lnTo>
                    <a:lnTo>
                      <a:pt x="552" y="105"/>
                    </a:lnTo>
                    <a:lnTo>
                      <a:pt x="532" y="93"/>
                    </a:lnTo>
                    <a:lnTo>
                      <a:pt x="514" y="105"/>
                    </a:lnTo>
                    <a:lnTo>
                      <a:pt x="514" y="129"/>
                    </a:lnTo>
                    <a:lnTo>
                      <a:pt x="532" y="140"/>
                    </a:lnTo>
                    <a:close/>
                    <a:moveTo>
                      <a:pt x="505" y="93"/>
                    </a:moveTo>
                    <a:lnTo>
                      <a:pt x="526" y="82"/>
                    </a:lnTo>
                    <a:lnTo>
                      <a:pt x="526" y="58"/>
                    </a:lnTo>
                    <a:lnTo>
                      <a:pt x="505" y="47"/>
                    </a:lnTo>
                    <a:lnTo>
                      <a:pt x="485" y="58"/>
                    </a:lnTo>
                    <a:lnTo>
                      <a:pt x="485" y="82"/>
                    </a:lnTo>
                    <a:lnTo>
                      <a:pt x="505" y="93"/>
                    </a:lnTo>
                    <a:close/>
                    <a:moveTo>
                      <a:pt x="560" y="93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60" y="47"/>
                    </a:lnTo>
                    <a:lnTo>
                      <a:pt x="540" y="58"/>
                    </a:lnTo>
                    <a:lnTo>
                      <a:pt x="540" y="82"/>
                    </a:lnTo>
                    <a:lnTo>
                      <a:pt x="560" y="93"/>
                    </a:lnTo>
                    <a:close/>
                    <a:moveTo>
                      <a:pt x="371" y="140"/>
                    </a:moveTo>
                    <a:lnTo>
                      <a:pt x="392" y="129"/>
                    </a:lnTo>
                    <a:lnTo>
                      <a:pt x="392" y="105"/>
                    </a:lnTo>
                    <a:lnTo>
                      <a:pt x="371" y="93"/>
                    </a:lnTo>
                    <a:lnTo>
                      <a:pt x="351" y="105"/>
                    </a:lnTo>
                    <a:lnTo>
                      <a:pt x="351" y="129"/>
                    </a:lnTo>
                    <a:lnTo>
                      <a:pt x="371" y="140"/>
                    </a:lnTo>
                    <a:close/>
                    <a:moveTo>
                      <a:pt x="426" y="140"/>
                    </a:moveTo>
                    <a:lnTo>
                      <a:pt x="445" y="129"/>
                    </a:lnTo>
                    <a:lnTo>
                      <a:pt x="445" y="105"/>
                    </a:lnTo>
                    <a:lnTo>
                      <a:pt x="426" y="93"/>
                    </a:lnTo>
                    <a:lnTo>
                      <a:pt x="406" y="105"/>
                    </a:lnTo>
                    <a:lnTo>
                      <a:pt x="406" y="129"/>
                    </a:lnTo>
                    <a:lnTo>
                      <a:pt x="426" y="140"/>
                    </a:lnTo>
                    <a:close/>
                    <a:moveTo>
                      <a:pt x="748" y="607"/>
                    </a:moveTo>
                    <a:lnTo>
                      <a:pt x="768" y="596"/>
                    </a:lnTo>
                    <a:lnTo>
                      <a:pt x="768" y="572"/>
                    </a:lnTo>
                    <a:lnTo>
                      <a:pt x="748" y="560"/>
                    </a:lnTo>
                    <a:lnTo>
                      <a:pt x="728" y="572"/>
                    </a:lnTo>
                    <a:lnTo>
                      <a:pt x="728" y="596"/>
                    </a:lnTo>
                    <a:lnTo>
                      <a:pt x="748" y="607"/>
                    </a:lnTo>
                    <a:close/>
                    <a:moveTo>
                      <a:pt x="803" y="607"/>
                    </a:moveTo>
                    <a:lnTo>
                      <a:pt x="823" y="596"/>
                    </a:lnTo>
                    <a:lnTo>
                      <a:pt x="823" y="572"/>
                    </a:lnTo>
                    <a:lnTo>
                      <a:pt x="803" y="560"/>
                    </a:lnTo>
                    <a:lnTo>
                      <a:pt x="783" y="572"/>
                    </a:lnTo>
                    <a:lnTo>
                      <a:pt x="783" y="596"/>
                    </a:lnTo>
                    <a:lnTo>
                      <a:pt x="803" y="607"/>
                    </a:lnTo>
                    <a:close/>
                    <a:moveTo>
                      <a:pt x="858" y="607"/>
                    </a:moveTo>
                    <a:lnTo>
                      <a:pt x="878" y="596"/>
                    </a:lnTo>
                    <a:lnTo>
                      <a:pt x="878" y="572"/>
                    </a:lnTo>
                    <a:lnTo>
                      <a:pt x="858" y="560"/>
                    </a:lnTo>
                    <a:lnTo>
                      <a:pt x="836" y="572"/>
                    </a:lnTo>
                    <a:lnTo>
                      <a:pt x="836" y="596"/>
                    </a:lnTo>
                    <a:lnTo>
                      <a:pt x="858" y="607"/>
                    </a:lnTo>
                    <a:close/>
                    <a:moveTo>
                      <a:pt x="911" y="607"/>
                    </a:moveTo>
                    <a:lnTo>
                      <a:pt x="931" y="596"/>
                    </a:lnTo>
                    <a:lnTo>
                      <a:pt x="931" y="572"/>
                    </a:lnTo>
                    <a:lnTo>
                      <a:pt x="911" y="560"/>
                    </a:lnTo>
                    <a:lnTo>
                      <a:pt x="891" y="572"/>
                    </a:lnTo>
                    <a:lnTo>
                      <a:pt x="891" y="596"/>
                    </a:lnTo>
                    <a:lnTo>
                      <a:pt x="911" y="607"/>
                    </a:lnTo>
                    <a:close/>
                    <a:moveTo>
                      <a:pt x="532" y="607"/>
                    </a:moveTo>
                    <a:lnTo>
                      <a:pt x="552" y="596"/>
                    </a:lnTo>
                    <a:lnTo>
                      <a:pt x="552" y="572"/>
                    </a:lnTo>
                    <a:lnTo>
                      <a:pt x="532" y="560"/>
                    </a:lnTo>
                    <a:lnTo>
                      <a:pt x="514" y="572"/>
                    </a:lnTo>
                    <a:lnTo>
                      <a:pt x="514" y="596"/>
                    </a:lnTo>
                    <a:lnTo>
                      <a:pt x="532" y="607"/>
                    </a:lnTo>
                    <a:close/>
                    <a:moveTo>
                      <a:pt x="586" y="607"/>
                    </a:moveTo>
                    <a:lnTo>
                      <a:pt x="608" y="596"/>
                    </a:lnTo>
                    <a:lnTo>
                      <a:pt x="608" y="572"/>
                    </a:lnTo>
                    <a:lnTo>
                      <a:pt x="586" y="560"/>
                    </a:lnTo>
                    <a:lnTo>
                      <a:pt x="566" y="572"/>
                    </a:lnTo>
                    <a:lnTo>
                      <a:pt x="566" y="596"/>
                    </a:lnTo>
                    <a:lnTo>
                      <a:pt x="586" y="607"/>
                    </a:lnTo>
                    <a:close/>
                    <a:moveTo>
                      <a:pt x="640" y="607"/>
                    </a:moveTo>
                    <a:lnTo>
                      <a:pt x="660" y="596"/>
                    </a:lnTo>
                    <a:lnTo>
                      <a:pt x="660" y="572"/>
                    </a:lnTo>
                    <a:lnTo>
                      <a:pt x="640" y="560"/>
                    </a:lnTo>
                    <a:lnTo>
                      <a:pt x="621" y="572"/>
                    </a:lnTo>
                    <a:lnTo>
                      <a:pt x="621" y="596"/>
                    </a:lnTo>
                    <a:lnTo>
                      <a:pt x="640" y="607"/>
                    </a:lnTo>
                    <a:close/>
                    <a:moveTo>
                      <a:pt x="695" y="607"/>
                    </a:moveTo>
                    <a:lnTo>
                      <a:pt x="715" y="596"/>
                    </a:lnTo>
                    <a:lnTo>
                      <a:pt x="715" y="572"/>
                    </a:lnTo>
                    <a:lnTo>
                      <a:pt x="695" y="560"/>
                    </a:lnTo>
                    <a:lnTo>
                      <a:pt x="674" y="572"/>
                    </a:lnTo>
                    <a:lnTo>
                      <a:pt x="674" y="596"/>
                    </a:lnTo>
                    <a:lnTo>
                      <a:pt x="695" y="607"/>
                    </a:lnTo>
                    <a:close/>
                    <a:moveTo>
                      <a:pt x="966" y="607"/>
                    </a:moveTo>
                    <a:lnTo>
                      <a:pt x="985" y="596"/>
                    </a:lnTo>
                    <a:lnTo>
                      <a:pt x="985" y="572"/>
                    </a:lnTo>
                    <a:lnTo>
                      <a:pt x="966" y="560"/>
                    </a:lnTo>
                    <a:lnTo>
                      <a:pt x="946" y="572"/>
                    </a:lnTo>
                    <a:lnTo>
                      <a:pt x="946" y="596"/>
                    </a:lnTo>
                    <a:lnTo>
                      <a:pt x="966" y="607"/>
                    </a:lnTo>
                    <a:close/>
                    <a:moveTo>
                      <a:pt x="1018" y="607"/>
                    </a:moveTo>
                    <a:lnTo>
                      <a:pt x="1040" y="596"/>
                    </a:lnTo>
                    <a:lnTo>
                      <a:pt x="1040" y="572"/>
                    </a:lnTo>
                    <a:lnTo>
                      <a:pt x="1018" y="560"/>
                    </a:lnTo>
                    <a:lnTo>
                      <a:pt x="998" y="572"/>
                    </a:lnTo>
                    <a:lnTo>
                      <a:pt x="998" y="596"/>
                    </a:lnTo>
                    <a:lnTo>
                      <a:pt x="1018" y="607"/>
                    </a:lnTo>
                    <a:close/>
                    <a:moveTo>
                      <a:pt x="1072" y="607"/>
                    </a:moveTo>
                    <a:lnTo>
                      <a:pt x="1092" y="596"/>
                    </a:lnTo>
                    <a:lnTo>
                      <a:pt x="1092" y="572"/>
                    </a:lnTo>
                    <a:lnTo>
                      <a:pt x="1072" y="560"/>
                    </a:lnTo>
                    <a:lnTo>
                      <a:pt x="1054" y="572"/>
                    </a:lnTo>
                    <a:lnTo>
                      <a:pt x="1054" y="596"/>
                    </a:lnTo>
                    <a:lnTo>
                      <a:pt x="1072" y="607"/>
                    </a:lnTo>
                    <a:close/>
                    <a:moveTo>
                      <a:pt x="884" y="560"/>
                    </a:moveTo>
                    <a:lnTo>
                      <a:pt x="904" y="550"/>
                    </a:lnTo>
                    <a:lnTo>
                      <a:pt x="904" y="525"/>
                    </a:lnTo>
                    <a:lnTo>
                      <a:pt x="884" y="514"/>
                    </a:lnTo>
                    <a:lnTo>
                      <a:pt x="864" y="525"/>
                    </a:lnTo>
                    <a:lnTo>
                      <a:pt x="864" y="550"/>
                    </a:lnTo>
                    <a:lnTo>
                      <a:pt x="884" y="560"/>
                    </a:lnTo>
                    <a:close/>
                    <a:moveTo>
                      <a:pt x="940" y="560"/>
                    </a:moveTo>
                    <a:lnTo>
                      <a:pt x="958" y="550"/>
                    </a:lnTo>
                    <a:lnTo>
                      <a:pt x="958" y="525"/>
                    </a:lnTo>
                    <a:lnTo>
                      <a:pt x="940" y="514"/>
                    </a:lnTo>
                    <a:lnTo>
                      <a:pt x="917" y="525"/>
                    </a:lnTo>
                    <a:lnTo>
                      <a:pt x="917" y="550"/>
                    </a:lnTo>
                    <a:lnTo>
                      <a:pt x="940" y="560"/>
                    </a:lnTo>
                    <a:close/>
                    <a:moveTo>
                      <a:pt x="992" y="560"/>
                    </a:moveTo>
                    <a:lnTo>
                      <a:pt x="1011" y="550"/>
                    </a:lnTo>
                    <a:lnTo>
                      <a:pt x="1011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50"/>
                    </a:lnTo>
                    <a:lnTo>
                      <a:pt x="992" y="560"/>
                    </a:lnTo>
                    <a:close/>
                    <a:moveTo>
                      <a:pt x="1046" y="560"/>
                    </a:moveTo>
                    <a:lnTo>
                      <a:pt x="1066" y="550"/>
                    </a:lnTo>
                    <a:lnTo>
                      <a:pt x="1066" y="525"/>
                    </a:lnTo>
                    <a:lnTo>
                      <a:pt x="1046" y="514"/>
                    </a:lnTo>
                    <a:lnTo>
                      <a:pt x="1027" y="525"/>
                    </a:lnTo>
                    <a:lnTo>
                      <a:pt x="1027" y="550"/>
                    </a:lnTo>
                    <a:lnTo>
                      <a:pt x="1046" y="560"/>
                    </a:lnTo>
                    <a:close/>
                    <a:moveTo>
                      <a:pt x="666" y="560"/>
                    </a:moveTo>
                    <a:lnTo>
                      <a:pt x="689" y="550"/>
                    </a:lnTo>
                    <a:lnTo>
                      <a:pt x="689" y="525"/>
                    </a:lnTo>
                    <a:lnTo>
                      <a:pt x="666" y="514"/>
                    </a:lnTo>
                    <a:lnTo>
                      <a:pt x="648" y="525"/>
                    </a:lnTo>
                    <a:lnTo>
                      <a:pt x="648" y="550"/>
                    </a:lnTo>
                    <a:lnTo>
                      <a:pt x="666" y="560"/>
                    </a:lnTo>
                    <a:close/>
                    <a:moveTo>
                      <a:pt x="722" y="560"/>
                    </a:moveTo>
                    <a:lnTo>
                      <a:pt x="742" y="550"/>
                    </a:lnTo>
                    <a:lnTo>
                      <a:pt x="742" y="525"/>
                    </a:lnTo>
                    <a:lnTo>
                      <a:pt x="722" y="514"/>
                    </a:lnTo>
                    <a:lnTo>
                      <a:pt x="701" y="525"/>
                    </a:lnTo>
                    <a:lnTo>
                      <a:pt x="701" y="550"/>
                    </a:lnTo>
                    <a:lnTo>
                      <a:pt x="722" y="560"/>
                    </a:lnTo>
                    <a:close/>
                    <a:moveTo>
                      <a:pt x="777" y="560"/>
                    </a:moveTo>
                    <a:lnTo>
                      <a:pt x="797" y="550"/>
                    </a:lnTo>
                    <a:lnTo>
                      <a:pt x="797" y="525"/>
                    </a:lnTo>
                    <a:lnTo>
                      <a:pt x="777" y="514"/>
                    </a:lnTo>
                    <a:lnTo>
                      <a:pt x="754" y="525"/>
                    </a:lnTo>
                    <a:lnTo>
                      <a:pt x="754" y="550"/>
                    </a:lnTo>
                    <a:lnTo>
                      <a:pt x="777" y="560"/>
                    </a:lnTo>
                    <a:close/>
                    <a:moveTo>
                      <a:pt x="829" y="560"/>
                    </a:moveTo>
                    <a:lnTo>
                      <a:pt x="849" y="550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50"/>
                    </a:lnTo>
                    <a:lnTo>
                      <a:pt x="829" y="560"/>
                    </a:lnTo>
                    <a:close/>
                    <a:moveTo>
                      <a:pt x="505" y="560"/>
                    </a:moveTo>
                    <a:lnTo>
                      <a:pt x="526" y="550"/>
                    </a:lnTo>
                    <a:lnTo>
                      <a:pt x="526" y="525"/>
                    </a:lnTo>
                    <a:lnTo>
                      <a:pt x="505" y="514"/>
                    </a:lnTo>
                    <a:lnTo>
                      <a:pt x="485" y="525"/>
                    </a:lnTo>
                    <a:lnTo>
                      <a:pt x="485" y="550"/>
                    </a:lnTo>
                    <a:lnTo>
                      <a:pt x="505" y="560"/>
                    </a:lnTo>
                    <a:close/>
                    <a:moveTo>
                      <a:pt x="560" y="560"/>
                    </a:moveTo>
                    <a:lnTo>
                      <a:pt x="579" y="550"/>
                    </a:lnTo>
                    <a:lnTo>
                      <a:pt x="579" y="525"/>
                    </a:lnTo>
                    <a:lnTo>
                      <a:pt x="560" y="514"/>
                    </a:lnTo>
                    <a:lnTo>
                      <a:pt x="540" y="525"/>
                    </a:lnTo>
                    <a:lnTo>
                      <a:pt x="540" y="550"/>
                    </a:lnTo>
                    <a:lnTo>
                      <a:pt x="560" y="560"/>
                    </a:lnTo>
                    <a:close/>
                    <a:moveTo>
                      <a:pt x="614" y="560"/>
                    </a:moveTo>
                    <a:lnTo>
                      <a:pt x="634" y="550"/>
                    </a:lnTo>
                    <a:lnTo>
                      <a:pt x="634" y="525"/>
                    </a:lnTo>
                    <a:lnTo>
                      <a:pt x="614" y="514"/>
                    </a:lnTo>
                    <a:lnTo>
                      <a:pt x="592" y="525"/>
                    </a:lnTo>
                    <a:lnTo>
                      <a:pt x="592" y="550"/>
                    </a:lnTo>
                    <a:lnTo>
                      <a:pt x="614" y="560"/>
                    </a:lnTo>
                    <a:close/>
                    <a:moveTo>
                      <a:pt x="911" y="514"/>
                    </a:moveTo>
                    <a:lnTo>
                      <a:pt x="931" y="504"/>
                    </a:lnTo>
                    <a:lnTo>
                      <a:pt x="931" y="478"/>
                    </a:lnTo>
                    <a:lnTo>
                      <a:pt x="911" y="468"/>
                    </a:lnTo>
                    <a:lnTo>
                      <a:pt x="891" y="478"/>
                    </a:lnTo>
                    <a:lnTo>
                      <a:pt x="891" y="504"/>
                    </a:lnTo>
                    <a:lnTo>
                      <a:pt x="911" y="514"/>
                    </a:lnTo>
                    <a:close/>
                    <a:moveTo>
                      <a:pt x="966" y="514"/>
                    </a:moveTo>
                    <a:lnTo>
                      <a:pt x="985" y="504"/>
                    </a:lnTo>
                    <a:lnTo>
                      <a:pt x="985" y="478"/>
                    </a:lnTo>
                    <a:lnTo>
                      <a:pt x="966" y="468"/>
                    </a:lnTo>
                    <a:lnTo>
                      <a:pt x="946" y="478"/>
                    </a:lnTo>
                    <a:lnTo>
                      <a:pt x="946" y="504"/>
                    </a:lnTo>
                    <a:lnTo>
                      <a:pt x="966" y="514"/>
                    </a:lnTo>
                    <a:close/>
                    <a:moveTo>
                      <a:pt x="1018" y="514"/>
                    </a:moveTo>
                    <a:lnTo>
                      <a:pt x="1040" y="504"/>
                    </a:lnTo>
                    <a:lnTo>
                      <a:pt x="1040" y="478"/>
                    </a:lnTo>
                    <a:lnTo>
                      <a:pt x="1018" y="468"/>
                    </a:lnTo>
                    <a:lnTo>
                      <a:pt x="998" y="478"/>
                    </a:lnTo>
                    <a:lnTo>
                      <a:pt x="998" y="504"/>
                    </a:lnTo>
                    <a:lnTo>
                      <a:pt x="1018" y="514"/>
                    </a:lnTo>
                    <a:close/>
                    <a:moveTo>
                      <a:pt x="1072" y="514"/>
                    </a:moveTo>
                    <a:lnTo>
                      <a:pt x="1092" y="504"/>
                    </a:lnTo>
                    <a:lnTo>
                      <a:pt x="1092" y="478"/>
                    </a:lnTo>
                    <a:lnTo>
                      <a:pt x="1072" y="468"/>
                    </a:lnTo>
                    <a:lnTo>
                      <a:pt x="1054" y="478"/>
                    </a:lnTo>
                    <a:lnTo>
                      <a:pt x="1054" y="504"/>
                    </a:lnTo>
                    <a:lnTo>
                      <a:pt x="1072" y="514"/>
                    </a:lnTo>
                    <a:close/>
                    <a:moveTo>
                      <a:pt x="695" y="514"/>
                    </a:moveTo>
                    <a:lnTo>
                      <a:pt x="715" y="504"/>
                    </a:lnTo>
                    <a:lnTo>
                      <a:pt x="715" y="478"/>
                    </a:lnTo>
                    <a:lnTo>
                      <a:pt x="695" y="468"/>
                    </a:lnTo>
                    <a:lnTo>
                      <a:pt x="674" y="478"/>
                    </a:lnTo>
                    <a:lnTo>
                      <a:pt x="674" y="504"/>
                    </a:lnTo>
                    <a:lnTo>
                      <a:pt x="695" y="514"/>
                    </a:lnTo>
                    <a:close/>
                    <a:moveTo>
                      <a:pt x="748" y="514"/>
                    </a:moveTo>
                    <a:lnTo>
                      <a:pt x="768" y="504"/>
                    </a:lnTo>
                    <a:lnTo>
                      <a:pt x="768" y="478"/>
                    </a:lnTo>
                    <a:lnTo>
                      <a:pt x="748" y="468"/>
                    </a:lnTo>
                    <a:lnTo>
                      <a:pt x="728" y="478"/>
                    </a:lnTo>
                    <a:lnTo>
                      <a:pt x="728" y="504"/>
                    </a:lnTo>
                    <a:lnTo>
                      <a:pt x="748" y="514"/>
                    </a:lnTo>
                    <a:close/>
                    <a:moveTo>
                      <a:pt x="803" y="514"/>
                    </a:moveTo>
                    <a:lnTo>
                      <a:pt x="823" y="504"/>
                    </a:lnTo>
                    <a:lnTo>
                      <a:pt x="823" y="478"/>
                    </a:lnTo>
                    <a:lnTo>
                      <a:pt x="803" y="468"/>
                    </a:lnTo>
                    <a:lnTo>
                      <a:pt x="783" y="478"/>
                    </a:lnTo>
                    <a:lnTo>
                      <a:pt x="783" y="504"/>
                    </a:lnTo>
                    <a:lnTo>
                      <a:pt x="803" y="514"/>
                    </a:lnTo>
                    <a:close/>
                    <a:moveTo>
                      <a:pt x="858" y="514"/>
                    </a:moveTo>
                    <a:lnTo>
                      <a:pt x="878" y="504"/>
                    </a:lnTo>
                    <a:lnTo>
                      <a:pt x="878" y="478"/>
                    </a:lnTo>
                    <a:lnTo>
                      <a:pt x="858" y="468"/>
                    </a:lnTo>
                    <a:lnTo>
                      <a:pt x="836" y="478"/>
                    </a:lnTo>
                    <a:lnTo>
                      <a:pt x="836" y="504"/>
                    </a:lnTo>
                    <a:lnTo>
                      <a:pt x="858" y="514"/>
                    </a:lnTo>
                    <a:close/>
                    <a:moveTo>
                      <a:pt x="640" y="514"/>
                    </a:moveTo>
                    <a:lnTo>
                      <a:pt x="660" y="504"/>
                    </a:lnTo>
                    <a:lnTo>
                      <a:pt x="660" y="478"/>
                    </a:lnTo>
                    <a:lnTo>
                      <a:pt x="640" y="468"/>
                    </a:lnTo>
                    <a:lnTo>
                      <a:pt x="621" y="478"/>
                    </a:lnTo>
                    <a:lnTo>
                      <a:pt x="621" y="504"/>
                    </a:lnTo>
                    <a:lnTo>
                      <a:pt x="640" y="514"/>
                    </a:lnTo>
                    <a:close/>
                    <a:moveTo>
                      <a:pt x="884" y="468"/>
                    </a:moveTo>
                    <a:lnTo>
                      <a:pt x="904" y="454"/>
                    </a:lnTo>
                    <a:lnTo>
                      <a:pt x="904" y="432"/>
                    </a:lnTo>
                    <a:lnTo>
                      <a:pt x="884" y="422"/>
                    </a:lnTo>
                    <a:lnTo>
                      <a:pt x="864" y="432"/>
                    </a:lnTo>
                    <a:lnTo>
                      <a:pt x="864" y="454"/>
                    </a:lnTo>
                    <a:lnTo>
                      <a:pt x="884" y="468"/>
                    </a:lnTo>
                    <a:close/>
                    <a:moveTo>
                      <a:pt x="940" y="468"/>
                    </a:moveTo>
                    <a:lnTo>
                      <a:pt x="958" y="454"/>
                    </a:lnTo>
                    <a:lnTo>
                      <a:pt x="958" y="432"/>
                    </a:lnTo>
                    <a:lnTo>
                      <a:pt x="940" y="422"/>
                    </a:lnTo>
                    <a:lnTo>
                      <a:pt x="917" y="432"/>
                    </a:lnTo>
                    <a:lnTo>
                      <a:pt x="917" y="454"/>
                    </a:lnTo>
                    <a:lnTo>
                      <a:pt x="940" y="468"/>
                    </a:lnTo>
                    <a:close/>
                    <a:moveTo>
                      <a:pt x="992" y="468"/>
                    </a:moveTo>
                    <a:lnTo>
                      <a:pt x="1011" y="454"/>
                    </a:lnTo>
                    <a:lnTo>
                      <a:pt x="1011" y="432"/>
                    </a:lnTo>
                    <a:lnTo>
                      <a:pt x="992" y="422"/>
                    </a:lnTo>
                    <a:lnTo>
                      <a:pt x="972" y="432"/>
                    </a:lnTo>
                    <a:lnTo>
                      <a:pt x="972" y="454"/>
                    </a:lnTo>
                    <a:lnTo>
                      <a:pt x="992" y="468"/>
                    </a:lnTo>
                    <a:close/>
                    <a:moveTo>
                      <a:pt x="1046" y="468"/>
                    </a:moveTo>
                    <a:lnTo>
                      <a:pt x="1066" y="454"/>
                    </a:lnTo>
                    <a:lnTo>
                      <a:pt x="1066" y="432"/>
                    </a:lnTo>
                    <a:lnTo>
                      <a:pt x="1046" y="422"/>
                    </a:lnTo>
                    <a:lnTo>
                      <a:pt x="1027" y="432"/>
                    </a:lnTo>
                    <a:lnTo>
                      <a:pt x="1027" y="454"/>
                    </a:lnTo>
                    <a:lnTo>
                      <a:pt x="1046" y="468"/>
                    </a:lnTo>
                    <a:close/>
                    <a:moveTo>
                      <a:pt x="666" y="468"/>
                    </a:moveTo>
                    <a:lnTo>
                      <a:pt x="689" y="454"/>
                    </a:lnTo>
                    <a:lnTo>
                      <a:pt x="689" y="432"/>
                    </a:lnTo>
                    <a:lnTo>
                      <a:pt x="666" y="422"/>
                    </a:lnTo>
                    <a:lnTo>
                      <a:pt x="648" y="432"/>
                    </a:lnTo>
                    <a:lnTo>
                      <a:pt x="648" y="454"/>
                    </a:lnTo>
                    <a:lnTo>
                      <a:pt x="666" y="468"/>
                    </a:lnTo>
                    <a:close/>
                    <a:moveTo>
                      <a:pt x="722" y="468"/>
                    </a:moveTo>
                    <a:lnTo>
                      <a:pt x="742" y="454"/>
                    </a:lnTo>
                    <a:lnTo>
                      <a:pt x="742" y="432"/>
                    </a:lnTo>
                    <a:lnTo>
                      <a:pt x="722" y="422"/>
                    </a:lnTo>
                    <a:lnTo>
                      <a:pt x="701" y="432"/>
                    </a:lnTo>
                    <a:lnTo>
                      <a:pt x="701" y="454"/>
                    </a:lnTo>
                    <a:lnTo>
                      <a:pt x="722" y="468"/>
                    </a:lnTo>
                    <a:close/>
                    <a:moveTo>
                      <a:pt x="777" y="468"/>
                    </a:moveTo>
                    <a:lnTo>
                      <a:pt x="797" y="454"/>
                    </a:lnTo>
                    <a:lnTo>
                      <a:pt x="797" y="432"/>
                    </a:lnTo>
                    <a:lnTo>
                      <a:pt x="777" y="422"/>
                    </a:lnTo>
                    <a:lnTo>
                      <a:pt x="754" y="432"/>
                    </a:lnTo>
                    <a:lnTo>
                      <a:pt x="754" y="454"/>
                    </a:lnTo>
                    <a:lnTo>
                      <a:pt x="777" y="468"/>
                    </a:lnTo>
                    <a:close/>
                    <a:moveTo>
                      <a:pt x="829" y="468"/>
                    </a:moveTo>
                    <a:lnTo>
                      <a:pt x="849" y="454"/>
                    </a:lnTo>
                    <a:lnTo>
                      <a:pt x="849" y="432"/>
                    </a:lnTo>
                    <a:lnTo>
                      <a:pt x="829" y="422"/>
                    </a:lnTo>
                    <a:lnTo>
                      <a:pt x="809" y="432"/>
                    </a:lnTo>
                    <a:lnTo>
                      <a:pt x="809" y="454"/>
                    </a:lnTo>
                    <a:lnTo>
                      <a:pt x="829" y="468"/>
                    </a:lnTo>
                    <a:close/>
                    <a:moveTo>
                      <a:pt x="614" y="468"/>
                    </a:moveTo>
                    <a:lnTo>
                      <a:pt x="634" y="454"/>
                    </a:lnTo>
                    <a:lnTo>
                      <a:pt x="634" y="432"/>
                    </a:lnTo>
                    <a:lnTo>
                      <a:pt x="614" y="422"/>
                    </a:lnTo>
                    <a:lnTo>
                      <a:pt x="592" y="432"/>
                    </a:lnTo>
                    <a:lnTo>
                      <a:pt x="592" y="454"/>
                    </a:lnTo>
                    <a:lnTo>
                      <a:pt x="614" y="468"/>
                    </a:lnTo>
                    <a:close/>
                    <a:moveTo>
                      <a:pt x="1046" y="654"/>
                    </a:moveTo>
                    <a:lnTo>
                      <a:pt x="1066" y="642"/>
                    </a:lnTo>
                    <a:lnTo>
                      <a:pt x="1066" y="618"/>
                    </a:lnTo>
                    <a:lnTo>
                      <a:pt x="1046" y="607"/>
                    </a:lnTo>
                    <a:lnTo>
                      <a:pt x="1027" y="618"/>
                    </a:lnTo>
                    <a:lnTo>
                      <a:pt x="1027" y="642"/>
                    </a:lnTo>
                    <a:lnTo>
                      <a:pt x="1046" y="654"/>
                    </a:lnTo>
                    <a:close/>
                    <a:moveTo>
                      <a:pt x="505" y="654"/>
                    </a:moveTo>
                    <a:lnTo>
                      <a:pt x="526" y="642"/>
                    </a:lnTo>
                    <a:lnTo>
                      <a:pt x="526" y="618"/>
                    </a:lnTo>
                    <a:lnTo>
                      <a:pt x="505" y="607"/>
                    </a:lnTo>
                    <a:lnTo>
                      <a:pt x="485" y="618"/>
                    </a:lnTo>
                    <a:lnTo>
                      <a:pt x="485" y="642"/>
                    </a:lnTo>
                    <a:lnTo>
                      <a:pt x="505" y="654"/>
                    </a:lnTo>
                    <a:close/>
                    <a:moveTo>
                      <a:pt x="560" y="654"/>
                    </a:moveTo>
                    <a:lnTo>
                      <a:pt x="579" y="642"/>
                    </a:lnTo>
                    <a:lnTo>
                      <a:pt x="579" y="618"/>
                    </a:lnTo>
                    <a:lnTo>
                      <a:pt x="560" y="607"/>
                    </a:lnTo>
                    <a:lnTo>
                      <a:pt x="540" y="618"/>
                    </a:lnTo>
                    <a:lnTo>
                      <a:pt x="540" y="642"/>
                    </a:lnTo>
                    <a:lnTo>
                      <a:pt x="560" y="654"/>
                    </a:lnTo>
                    <a:close/>
                    <a:moveTo>
                      <a:pt x="614" y="654"/>
                    </a:moveTo>
                    <a:lnTo>
                      <a:pt x="634" y="642"/>
                    </a:lnTo>
                    <a:lnTo>
                      <a:pt x="634" y="618"/>
                    </a:lnTo>
                    <a:lnTo>
                      <a:pt x="614" y="607"/>
                    </a:lnTo>
                    <a:lnTo>
                      <a:pt x="592" y="618"/>
                    </a:lnTo>
                    <a:lnTo>
                      <a:pt x="592" y="642"/>
                    </a:lnTo>
                    <a:lnTo>
                      <a:pt x="614" y="654"/>
                    </a:lnTo>
                    <a:close/>
                    <a:moveTo>
                      <a:pt x="666" y="654"/>
                    </a:moveTo>
                    <a:lnTo>
                      <a:pt x="689" y="642"/>
                    </a:lnTo>
                    <a:lnTo>
                      <a:pt x="689" y="618"/>
                    </a:lnTo>
                    <a:lnTo>
                      <a:pt x="666" y="607"/>
                    </a:lnTo>
                    <a:lnTo>
                      <a:pt x="648" y="618"/>
                    </a:lnTo>
                    <a:lnTo>
                      <a:pt x="648" y="642"/>
                    </a:lnTo>
                    <a:lnTo>
                      <a:pt x="666" y="654"/>
                    </a:lnTo>
                    <a:close/>
                    <a:moveTo>
                      <a:pt x="722" y="654"/>
                    </a:moveTo>
                    <a:lnTo>
                      <a:pt x="742" y="642"/>
                    </a:lnTo>
                    <a:lnTo>
                      <a:pt x="742" y="618"/>
                    </a:lnTo>
                    <a:lnTo>
                      <a:pt x="722" y="607"/>
                    </a:lnTo>
                    <a:lnTo>
                      <a:pt x="701" y="618"/>
                    </a:lnTo>
                    <a:lnTo>
                      <a:pt x="701" y="642"/>
                    </a:lnTo>
                    <a:lnTo>
                      <a:pt x="722" y="654"/>
                    </a:lnTo>
                    <a:close/>
                    <a:moveTo>
                      <a:pt x="777" y="654"/>
                    </a:moveTo>
                    <a:lnTo>
                      <a:pt x="797" y="642"/>
                    </a:lnTo>
                    <a:lnTo>
                      <a:pt x="797" y="618"/>
                    </a:lnTo>
                    <a:lnTo>
                      <a:pt x="777" y="607"/>
                    </a:lnTo>
                    <a:lnTo>
                      <a:pt x="754" y="618"/>
                    </a:lnTo>
                    <a:lnTo>
                      <a:pt x="754" y="642"/>
                    </a:lnTo>
                    <a:lnTo>
                      <a:pt x="777" y="654"/>
                    </a:lnTo>
                    <a:close/>
                    <a:moveTo>
                      <a:pt x="829" y="654"/>
                    </a:moveTo>
                    <a:lnTo>
                      <a:pt x="849" y="642"/>
                    </a:lnTo>
                    <a:lnTo>
                      <a:pt x="849" y="618"/>
                    </a:lnTo>
                    <a:lnTo>
                      <a:pt x="829" y="607"/>
                    </a:lnTo>
                    <a:lnTo>
                      <a:pt x="809" y="618"/>
                    </a:lnTo>
                    <a:lnTo>
                      <a:pt x="809" y="642"/>
                    </a:lnTo>
                    <a:lnTo>
                      <a:pt x="829" y="654"/>
                    </a:lnTo>
                    <a:close/>
                    <a:moveTo>
                      <a:pt x="884" y="654"/>
                    </a:moveTo>
                    <a:lnTo>
                      <a:pt x="904" y="642"/>
                    </a:lnTo>
                    <a:lnTo>
                      <a:pt x="904" y="618"/>
                    </a:lnTo>
                    <a:lnTo>
                      <a:pt x="884" y="607"/>
                    </a:lnTo>
                    <a:lnTo>
                      <a:pt x="864" y="618"/>
                    </a:lnTo>
                    <a:lnTo>
                      <a:pt x="864" y="642"/>
                    </a:lnTo>
                    <a:lnTo>
                      <a:pt x="884" y="654"/>
                    </a:lnTo>
                    <a:close/>
                    <a:moveTo>
                      <a:pt x="940" y="654"/>
                    </a:moveTo>
                    <a:lnTo>
                      <a:pt x="958" y="642"/>
                    </a:lnTo>
                    <a:lnTo>
                      <a:pt x="958" y="618"/>
                    </a:lnTo>
                    <a:lnTo>
                      <a:pt x="940" y="607"/>
                    </a:lnTo>
                    <a:lnTo>
                      <a:pt x="917" y="618"/>
                    </a:lnTo>
                    <a:lnTo>
                      <a:pt x="917" y="642"/>
                    </a:lnTo>
                    <a:lnTo>
                      <a:pt x="940" y="654"/>
                    </a:lnTo>
                    <a:close/>
                    <a:moveTo>
                      <a:pt x="992" y="654"/>
                    </a:moveTo>
                    <a:lnTo>
                      <a:pt x="1011" y="642"/>
                    </a:lnTo>
                    <a:lnTo>
                      <a:pt x="1011" y="618"/>
                    </a:lnTo>
                    <a:lnTo>
                      <a:pt x="992" y="607"/>
                    </a:lnTo>
                    <a:lnTo>
                      <a:pt x="972" y="618"/>
                    </a:lnTo>
                    <a:lnTo>
                      <a:pt x="972" y="642"/>
                    </a:lnTo>
                    <a:lnTo>
                      <a:pt x="992" y="654"/>
                    </a:lnTo>
                    <a:close/>
                    <a:moveTo>
                      <a:pt x="1018" y="422"/>
                    </a:moveTo>
                    <a:lnTo>
                      <a:pt x="1040" y="408"/>
                    </a:lnTo>
                    <a:lnTo>
                      <a:pt x="1040" y="386"/>
                    </a:lnTo>
                    <a:lnTo>
                      <a:pt x="1018" y="375"/>
                    </a:lnTo>
                    <a:lnTo>
                      <a:pt x="998" y="386"/>
                    </a:lnTo>
                    <a:lnTo>
                      <a:pt x="998" y="408"/>
                    </a:lnTo>
                    <a:lnTo>
                      <a:pt x="1018" y="422"/>
                    </a:lnTo>
                    <a:close/>
                    <a:moveTo>
                      <a:pt x="1072" y="422"/>
                    </a:moveTo>
                    <a:lnTo>
                      <a:pt x="1092" y="408"/>
                    </a:lnTo>
                    <a:lnTo>
                      <a:pt x="1092" y="386"/>
                    </a:lnTo>
                    <a:lnTo>
                      <a:pt x="1072" y="375"/>
                    </a:lnTo>
                    <a:lnTo>
                      <a:pt x="1054" y="386"/>
                    </a:lnTo>
                    <a:lnTo>
                      <a:pt x="1054" y="408"/>
                    </a:lnTo>
                    <a:lnTo>
                      <a:pt x="1072" y="422"/>
                    </a:lnTo>
                    <a:close/>
                    <a:moveTo>
                      <a:pt x="480" y="607"/>
                    </a:moveTo>
                    <a:lnTo>
                      <a:pt x="500" y="596"/>
                    </a:lnTo>
                    <a:lnTo>
                      <a:pt x="500" y="572"/>
                    </a:lnTo>
                    <a:lnTo>
                      <a:pt x="480" y="560"/>
                    </a:lnTo>
                    <a:lnTo>
                      <a:pt x="458" y="572"/>
                    </a:lnTo>
                    <a:lnTo>
                      <a:pt x="458" y="596"/>
                    </a:lnTo>
                    <a:lnTo>
                      <a:pt x="480" y="607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0" name=""/>
              <p:cNvSpPr/>
              <p:nvPr/>
            </p:nvSpPr>
            <p:spPr>
              <a:xfrm>
                <a:off x="494280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497952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2" name=""/>
              <p:cNvSpPr/>
              <p:nvPr/>
            </p:nvSpPr>
            <p:spPr>
              <a:xfrm>
                <a:off x="501624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3" name=""/>
              <p:cNvSpPr/>
              <p:nvPr/>
            </p:nvSpPr>
            <p:spPr>
              <a:xfrm>
                <a:off x="5051520" y="56818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4" name=""/>
              <p:cNvSpPr/>
              <p:nvPr/>
            </p:nvSpPr>
            <p:spPr>
              <a:xfrm>
                <a:off x="5089680" y="56818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4923720" y="565524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4961880" y="565524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4997160" y="565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5033880" y="565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5072040" y="565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5107680" y="56552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494280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497952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501624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5051520" y="563076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5089680" y="563076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512784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4923720" y="560412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4961880" y="560412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4997160" y="560412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503388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507204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5107680" y="560412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4923720" y="570708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>
                <a:off x="4961880" y="570708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997160" y="57070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5033880" y="5707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>
                <a:off x="5072040" y="5707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>
                <a:off x="5107680" y="570708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>
                <a:off x="4923720" y="54997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>
                <a:off x="4961880" y="549972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4997160" y="54997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5033880" y="5499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5072040" y="5499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5107680" y="549972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4942800" y="54741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4979520" y="54741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7" name=""/>
              <p:cNvSpPr/>
              <p:nvPr/>
            </p:nvSpPr>
            <p:spPr>
              <a:xfrm>
                <a:off x="5016240" y="54741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8" name=""/>
              <p:cNvSpPr/>
              <p:nvPr/>
            </p:nvSpPr>
            <p:spPr>
              <a:xfrm>
                <a:off x="5051520" y="547416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9" name=""/>
              <p:cNvSpPr/>
              <p:nvPr/>
            </p:nvSpPr>
            <p:spPr>
              <a:xfrm>
                <a:off x="5089680" y="54741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0" name=""/>
              <p:cNvSpPr/>
              <p:nvPr/>
            </p:nvSpPr>
            <p:spPr>
              <a:xfrm>
                <a:off x="5127840" y="54741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4923720" y="544752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2" name=""/>
              <p:cNvSpPr/>
              <p:nvPr/>
            </p:nvSpPr>
            <p:spPr>
              <a:xfrm>
                <a:off x="4961880" y="544752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3" name=""/>
              <p:cNvSpPr/>
              <p:nvPr/>
            </p:nvSpPr>
            <p:spPr>
              <a:xfrm>
                <a:off x="4997160" y="544752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4" name=""/>
              <p:cNvSpPr/>
              <p:nvPr/>
            </p:nvSpPr>
            <p:spPr>
              <a:xfrm>
                <a:off x="5033880" y="5447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5" name=""/>
              <p:cNvSpPr/>
              <p:nvPr/>
            </p:nvSpPr>
            <p:spPr>
              <a:xfrm>
                <a:off x="5072040" y="5447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5107680" y="544752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7" name=""/>
              <p:cNvSpPr/>
              <p:nvPr/>
            </p:nvSpPr>
            <p:spPr>
              <a:xfrm>
                <a:off x="4942800" y="5422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8" name=""/>
              <p:cNvSpPr/>
              <p:nvPr/>
            </p:nvSpPr>
            <p:spPr>
              <a:xfrm>
                <a:off x="4979520" y="5422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9" name=""/>
              <p:cNvSpPr/>
              <p:nvPr/>
            </p:nvSpPr>
            <p:spPr>
              <a:xfrm>
                <a:off x="5016240" y="5422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5051520" y="542232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5089680" y="542232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5127840" y="5422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4923720" y="53967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4" name=""/>
              <p:cNvSpPr/>
              <p:nvPr/>
            </p:nvSpPr>
            <p:spPr>
              <a:xfrm>
                <a:off x="4961880" y="539676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5" name=""/>
              <p:cNvSpPr/>
              <p:nvPr/>
            </p:nvSpPr>
            <p:spPr>
              <a:xfrm>
                <a:off x="4997160" y="53967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5033880" y="5396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5072040" y="5396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5107680" y="53967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4942800" y="537012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0" name=""/>
              <p:cNvSpPr/>
              <p:nvPr/>
            </p:nvSpPr>
            <p:spPr>
              <a:xfrm>
                <a:off x="4979520" y="537012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1" name=""/>
              <p:cNvSpPr/>
              <p:nvPr/>
            </p:nvSpPr>
            <p:spPr>
              <a:xfrm>
                <a:off x="5016240" y="537012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5051520" y="5370120"/>
                <a:ext cx="29880" cy="26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5089680" y="53701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494280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497952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6" name=""/>
              <p:cNvSpPr/>
              <p:nvPr/>
            </p:nvSpPr>
            <p:spPr>
              <a:xfrm>
                <a:off x="501624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7" name=""/>
              <p:cNvSpPr/>
              <p:nvPr/>
            </p:nvSpPr>
            <p:spPr>
              <a:xfrm>
                <a:off x="5051520" y="557856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5089680" y="55785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512784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4923720" y="555300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4961880" y="555300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2" name=""/>
              <p:cNvSpPr/>
              <p:nvPr/>
            </p:nvSpPr>
            <p:spPr>
              <a:xfrm>
                <a:off x="4997160" y="55530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3" name=""/>
              <p:cNvSpPr/>
              <p:nvPr/>
            </p:nvSpPr>
            <p:spPr>
              <a:xfrm>
                <a:off x="5033880" y="5553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5072040" y="5553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5107680" y="555300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3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4942800" y="5526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4979520" y="5526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8" name=""/>
              <p:cNvSpPr/>
              <p:nvPr/>
            </p:nvSpPr>
            <p:spPr>
              <a:xfrm>
                <a:off x="5016240" y="5526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9" name=""/>
              <p:cNvSpPr/>
              <p:nvPr/>
            </p:nvSpPr>
            <p:spPr>
              <a:xfrm>
                <a:off x="5051520" y="552636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5089680" y="552636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5127840" y="5526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5163120" y="563076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520020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4" name=""/>
              <p:cNvSpPr/>
              <p:nvPr/>
            </p:nvSpPr>
            <p:spPr>
              <a:xfrm>
                <a:off x="523692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5" name=""/>
              <p:cNvSpPr/>
              <p:nvPr/>
            </p:nvSpPr>
            <p:spPr>
              <a:xfrm>
                <a:off x="527364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531036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521892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5254560" y="560412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529128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0" name=""/>
              <p:cNvSpPr/>
              <p:nvPr/>
            </p:nvSpPr>
            <p:spPr>
              <a:xfrm>
                <a:off x="514548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1" name=""/>
              <p:cNvSpPr/>
              <p:nvPr/>
            </p:nvSpPr>
            <p:spPr>
              <a:xfrm>
                <a:off x="518220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5291280" y="5499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5145480" y="5499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5182200" y="5499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5218920" y="5499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5254560" y="54997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5163120" y="54741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8" name=""/>
              <p:cNvSpPr/>
              <p:nvPr/>
            </p:nvSpPr>
            <p:spPr>
              <a:xfrm>
                <a:off x="5200200" y="54741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236920" y="54741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5273640" y="54741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5145480" y="5447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5182200" y="5447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5218920" y="5447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5254560" y="544752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5291280" y="5447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523692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527364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531036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5163120" y="55785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520020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5182200" y="5553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5218920" y="5553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5254560" y="55530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5291280" y="5553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5145480" y="5553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5163120" y="552636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5200200" y="5526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5236920" y="5526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5273640" y="55263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3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5236920" y="5422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5273640" y="5422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5254560" y="53967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5291280" y="5396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5163120" y="542232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5200200" y="5422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5419080" y="56818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545724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5492880" y="56818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553068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527364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531036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534708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5382360" y="56818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556740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560412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564084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5513040" y="565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5548320" y="565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5586480" y="565524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5623560" y="565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5364720" y="565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5401440" y="565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5438160" y="565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5474880" y="565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5254560" y="565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5291280" y="565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5328000" y="565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553068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556740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560412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564084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5382360" y="563076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5419080" y="563076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545724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5492880" y="563076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5347080" y="563076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551304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5548320" y="560412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5586480" y="560412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562356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5364720" y="560412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540144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5438160" y="560412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547488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5328000" y="56041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2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5623560" y="5707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5254560" y="57070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5291280" y="5707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5328000" y="5707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>
                <a:off x="5364720" y="57070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8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>
                <a:off x="5401440" y="5707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5438160" y="57070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5474880" y="5707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>
                <a:off x="5513040" y="5707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>
                <a:off x="5548320" y="57070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>
                <a:off x="5586480" y="570708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>
                <a:off x="560412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8" name=""/>
              <p:cNvSpPr/>
              <p:nvPr/>
            </p:nvSpPr>
            <p:spPr>
              <a:xfrm>
                <a:off x="5640840" y="5578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9" name=""/>
              <p:cNvSpPr/>
              <p:nvPr/>
            </p:nvSpPr>
            <p:spPr>
              <a:xfrm>
                <a:off x="5236920" y="56818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0" name=""/>
              <p:cNvSpPr/>
              <p:nvPr/>
            </p:nvSpPr>
            <p:spPr>
              <a:xfrm>
                <a:off x="5336280" y="5395680"/>
                <a:ext cx="289800" cy="1738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1" name=""/>
              <p:cNvSpPr/>
              <p:nvPr/>
            </p:nvSpPr>
            <p:spPr>
              <a:xfrm>
                <a:off x="5336280" y="5395680"/>
                <a:ext cx="289800" cy="1738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2" name=""/>
              <p:cNvSpPr/>
              <p:nvPr/>
            </p:nvSpPr>
            <p:spPr>
              <a:xfrm>
                <a:off x="5355000" y="5412240"/>
                <a:ext cx="250560" cy="1407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  <a:close/>
                  </a:path>
                </a:pathLst>
              </a:custGeom>
              <a:solidFill>
                <a:srgbClr val="2b2b2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3" name=""/>
              <p:cNvSpPr/>
              <p:nvPr/>
            </p:nvSpPr>
            <p:spPr>
              <a:xfrm>
                <a:off x="5355000" y="5412240"/>
                <a:ext cx="250560" cy="1407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4" name=""/>
              <p:cNvSpPr/>
              <p:nvPr/>
            </p:nvSpPr>
            <p:spPr>
              <a:xfrm>
                <a:off x="5406840" y="5443200"/>
                <a:ext cx="149400" cy="7956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1" y="68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" y="68"/>
                    </a:lnTo>
                    <a:close/>
                    <a:moveTo>
                      <a:pt x="120" y="144"/>
                    </a:moveTo>
                    <a:lnTo>
                      <a:pt x="120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20" y="144"/>
                    </a:lnTo>
                    <a:close/>
                    <a:moveTo>
                      <a:pt x="219" y="68"/>
                    </a:moveTo>
                    <a:lnTo>
                      <a:pt x="219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9" y="6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5627520" y="5410080"/>
                <a:ext cx="95040" cy="1573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5604120" y="5410080"/>
                <a:ext cx="23040" cy="176040"/>
              </a:xfrm>
              <a:prstGeom prst="rect">
                <a:avLst/>
              </a:prstGeom>
              <a:solidFill>
                <a:srgbClr val="b04d7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5627520" y="5410080"/>
                <a:ext cx="24480" cy="176040"/>
              </a:xfrm>
              <a:prstGeom prst="rect">
                <a:avLst/>
              </a:prstGeom>
              <a:solidFill>
                <a:srgbClr val="b75f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5652000" y="5410080"/>
                <a:ext cx="23040" cy="176040"/>
              </a:xfrm>
              <a:prstGeom prst="rect">
                <a:avLst/>
              </a:prstGeom>
              <a:solidFill>
                <a:srgbClr val="b5598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5675400" y="5410080"/>
                <a:ext cx="24120" cy="176040"/>
              </a:xfrm>
              <a:prstGeom prst="rect">
                <a:avLst/>
              </a:prstGeom>
              <a:solidFill>
                <a:srgbClr val="b2537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5699520" y="5410080"/>
                <a:ext cx="23040" cy="176040"/>
              </a:xfrm>
              <a:prstGeom prst="rect">
                <a:avLst/>
              </a:prstGeom>
              <a:solidFill>
                <a:srgbClr val="b04d7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5626080" y="5409000"/>
                <a:ext cx="95040" cy="156240"/>
              </a:xfrm>
              <a:custGeom>
                <a:avLst/>
                <a:gdLst/>
                <a:ahLst/>
                <a:rect l="l" t="t" r="r" b="b"/>
                <a:pathLst>
                  <a:path w="140" h="282">
                    <a:moveTo>
                      <a:pt x="0" y="264"/>
                    </a:moveTo>
                    <a:lnTo>
                      <a:pt x="1" y="267"/>
                    </a:lnTo>
                    <a:lnTo>
                      <a:pt x="1" y="270"/>
                    </a:lnTo>
                    <a:lnTo>
                      <a:pt x="4" y="273"/>
                    </a:lnTo>
                    <a:lnTo>
                      <a:pt x="6" y="276"/>
                    </a:lnTo>
                    <a:lnTo>
                      <a:pt x="10" y="278"/>
                    </a:lnTo>
                    <a:lnTo>
                      <a:pt x="14" y="279"/>
                    </a:lnTo>
                    <a:lnTo>
                      <a:pt x="18" y="281"/>
                    </a:lnTo>
                    <a:lnTo>
                      <a:pt x="23" y="282"/>
                    </a:lnTo>
                    <a:lnTo>
                      <a:pt x="29" y="282"/>
                    </a:lnTo>
                    <a:lnTo>
                      <a:pt x="29" y="282"/>
                    </a:lnTo>
                    <a:lnTo>
                      <a:pt x="114" y="273"/>
                    </a:lnTo>
                    <a:lnTo>
                      <a:pt x="120" y="272"/>
                    </a:lnTo>
                    <a:lnTo>
                      <a:pt x="125" y="269"/>
                    </a:lnTo>
                    <a:lnTo>
                      <a:pt x="129" y="267"/>
                    </a:lnTo>
                    <a:lnTo>
                      <a:pt x="133" y="263"/>
                    </a:lnTo>
                    <a:lnTo>
                      <a:pt x="137" y="259"/>
                    </a:lnTo>
                    <a:lnTo>
                      <a:pt x="139" y="255"/>
                    </a:lnTo>
                    <a:lnTo>
                      <a:pt x="140" y="250"/>
                    </a:lnTo>
                    <a:lnTo>
                      <a:pt x="140" y="246"/>
                    </a:lnTo>
                    <a:lnTo>
                      <a:pt x="140" y="38"/>
                    </a:lnTo>
                    <a:lnTo>
                      <a:pt x="140" y="33"/>
                    </a:lnTo>
                    <a:lnTo>
                      <a:pt x="139" y="28"/>
                    </a:lnTo>
                    <a:lnTo>
                      <a:pt x="137" y="24"/>
                    </a:lnTo>
                    <a:lnTo>
                      <a:pt x="133" y="19"/>
                    </a:lnTo>
                    <a:lnTo>
                      <a:pt x="129" y="17"/>
                    </a:lnTo>
                    <a:lnTo>
                      <a:pt x="125" y="13"/>
                    </a:lnTo>
                    <a:lnTo>
                      <a:pt x="120" y="10"/>
                    </a:lnTo>
                    <a:lnTo>
                      <a:pt x="114" y="9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6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5162040" y="5362560"/>
                <a:ext cx="46080" cy="361440"/>
              </a:xfrm>
              <a:custGeom>
                <a:avLst/>
                <a:gdLst/>
                <a:ahLst/>
                <a:rect l="l" t="t" r="r" b="b"/>
                <a:pathLst>
                  <a:path w="69" h="651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80"/>
                    </a:moveTo>
                    <a:lnTo>
                      <a:pt x="39" y="580"/>
                    </a:lnTo>
                    <a:lnTo>
                      <a:pt x="43" y="582"/>
                    </a:lnTo>
                    <a:lnTo>
                      <a:pt x="47" y="582"/>
                    </a:lnTo>
                    <a:lnTo>
                      <a:pt x="50" y="583"/>
                    </a:lnTo>
                    <a:lnTo>
                      <a:pt x="53" y="586"/>
                    </a:lnTo>
                    <a:lnTo>
                      <a:pt x="57" y="588"/>
                    </a:lnTo>
                    <a:lnTo>
                      <a:pt x="59" y="591"/>
                    </a:lnTo>
                    <a:lnTo>
                      <a:pt x="62" y="593"/>
                    </a:lnTo>
                    <a:lnTo>
                      <a:pt x="64" y="596"/>
                    </a:lnTo>
                    <a:lnTo>
                      <a:pt x="67" y="599"/>
                    </a:lnTo>
                    <a:lnTo>
                      <a:pt x="68" y="602"/>
                    </a:lnTo>
                    <a:lnTo>
                      <a:pt x="69" y="606"/>
                    </a:lnTo>
                    <a:lnTo>
                      <a:pt x="69" y="610"/>
                    </a:lnTo>
                    <a:lnTo>
                      <a:pt x="69" y="613"/>
                    </a:lnTo>
                    <a:lnTo>
                      <a:pt x="69" y="617"/>
                    </a:lnTo>
                    <a:lnTo>
                      <a:pt x="69" y="620"/>
                    </a:lnTo>
                    <a:lnTo>
                      <a:pt x="69" y="623"/>
                    </a:lnTo>
                    <a:lnTo>
                      <a:pt x="68" y="626"/>
                    </a:lnTo>
                    <a:lnTo>
                      <a:pt x="67" y="630"/>
                    </a:lnTo>
                    <a:lnTo>
                      <a:pt x="65" y="632"/>
                    </a:lnTo>
                    <a:lnTo>
                      <a:pt x="63" y="637"/>
                    </a:lnTo>
                    <a:lnTo>
                      <a:pt x="58" y="642"/>
                    </a:lnTo>
                    <a:lnTo>
                      <a:pt x="53" y="646"/>
                    </a:lnTo>
                    <a:lnTo>
                      <a:pt x="47" y="649"/>
                    </a:lnTo>
                    <a:lnTo>
                      <a:pt x="41" y="650"/>
                    </a:lnTo>
                    <a:lnTo>
                      <a:pt x="38" y="651"/>
                    </a:lnTo>
                    <a:lnTo>
                      <a:pt x="35" y="651"/>
                    </a:lnTo>
                    <a:lnTo>
                      <a:pt x="31" y="651"/>
                    </a:lnTo>
                    <a:lnTo>
                      <a:pt x="28" y="650"/>
                    </a:lnTo>
                    <a:lnTo>
                      <a:pt x="24" y="649"/>
                    </a:lnTo>
                    <a:lnTo>
                      <a:pt x="20" y="647"/>
                    </a:lnTo>
                    <a:lnTo>
                      <a:pt x="13" y="642"/>
                    </a:lnTo>
                    <a:lnTo>
                      <a:pt x="10" y="640"/>
                    </a:lnTo>
                    <a:lnTo>
                      <a:pt x="8" y="637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1" y="627"/>
                    </a:lnTo>
                    <a:lnTo>
                      <a:pt x="0" y="625"/>
                    </a:lnTo>
                    <a:lnTo>
                      <a:pt x="0" y="621"/>
                    </a:lnTo>
                    <a:lnTo>
                      <a:pt x="0" y="617"/>
                    </a:lnTo>
                    <a:lnTo>
                      <a:pt x="0" y="613"/>
                    </a:lnTo>
                    <a:lnTo>
                      <a:pt x="0" y="610"/>
                    </a:lnTo>
                    <a:lnTo>
                      <a:pt x="1" y="606"/>
                    </a:lnTo>
                    <a:lnTo>
                      <a:pt x="1" y="603"/>
                    </a:lnTo>
                    <a:lnTo>
                      <a:pt x="3" y="599"/>
                    </a:lnTo>
                    <a:lnTo>
                      <a:pt x="4" y="597"/>
                    </a:lnTo>
                    <a:lnTo>
                      <a:pt x="8" y="593"/>
                    </a:lnTo>
                    <a:lnTo>
                      <a:pt x="11" y="589"/>
                    </a:lnTo>
                    <a:lnTo>
                      <a:pt x="14" y="587"/>
                    </a:lnTo>
                    <a:lnTo>
                      <a:pt x="16" y="586"/>
                    </a:lnTo>
                    <a:lnTo>
                      <a:pt x="20" y="583"/>
                    </a:lnTo>
                    <a:lnTo>
                      <a:pt x="23" y="582"/>
                    </a:lnTo>
                    <a:lnTo>
                      <a:pt x="29" y="580"/>
                    </a:lnTo>
                    <a:lnTo>
                      <a:pt x="35" y="580"/>
                    </a:lnTo>
                    <a:lnTo>
                      <a:pt x="35" y="580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5162040" y="5362560"/>
                <a:ext cx="46080" cy="3852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5162040" y="568404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35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7" y="8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3"/>
                    </a:lnTo>
                    <a:lnTo>
                      <a:pt x="69" y="37"/>
                    </a:lnTo>
                    <a:lnTo>
                      <a:pt x="69" y="40"/>
                    </a:lnTo>
                    <a:lnTo>
                      <a:pt x="69" y="43"/>
                    </a:lnTo>
                    <a:lnTo>
                      <a:pt x="68" y="46"/>
                    </a:lnTo>
                    <a:lnTo>
                      <a:pt x="67" y="50"/>
                    </a:lnTo>
                    <a:lnTo>
                      <a:pt x="65" y="52"/>
                    </a:lnTo>
                    <a:lnTo>
                      <a:pt x="63" y="57"/>
                    </a:lnTo>
                    <a:lnTo>
                      <a:pt x="58" y="62"/>
                    </a:lnTo>
                    <a:lnTo>
                      <a:pt x="53" y="66"/>
                    </a:lnTo>
                    <a:lnTo>
                      <a:pt x="47" y="69"/>
                    </a:lnTo>
                    <a:lnTo>
                      <a:pt x="41" y="70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8" y="70"/>
                    </a:lnTo>
                    <a:lnTo>
                      <a:pt x="24" y="69"/>
                    </a:lnTo>
                    <a:lnTo>
                      <a:pt x="20" y="67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5175360" y="5373360"/>
                <a:ext cx="19080" cy="338040"/>
              </a:xfrm>
              <a:custGeom>
                <a:avLst/>
                <a:gdLst/>
                <a:ahLst/>
                <a:rect l="l" t="t" r="r" b="b"/>
                <a:pathLst>
                  <a:path w="29" h="611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8"/>
                    </a:moveTo>
                    <a:lnTo>
                      <a:pt x="9" y="607"/>
                    </a:lnTo>
                    <a:lnTo>
                      <a:pt x="10" y="606"/>
                    </a:lnTo>
                    <a:lnTo>
                      <a:pt x="11" y="605"/>
                    </a:lnTo>
                    <a:lnTo>
                      <a:pt x="13" y="603"/>
                    </a:lnTo>
                    <a:lnTo>
                      <a:pt x="15" y="603"/>
                    </a:lnTo>
                    <a:lnTo>
                      <a:pt x="16" y="603"/>
                    </a:lnTo>
                    <a:lnTo>
                      <a:pt x="18" y="605"/>
                    </a:lnTo>
                    <a:lnTo>
                      <a:pt x="19" y="606"/>
                    </a:lnTo>
                    <a:lnTo>
                      <a:pt x="20" y="607"/>
                    </a:lnTo>
                    <a:lnTo>
                      <a:pt x="20" y="607"/>
                    </a:lnTo>
                    <a:lnTo>
                      <a:pt x="23" y="608"/>
                    </a:lnTo>
                    <a:lnTo>
                      <a:pt x="24" y="608"/>
                    </a:lnTo>
                    <a:lnTo>
                      <a:pt x="25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9" y="607"/>
                    </a:lnTo>
                    <a:lnTo>
                      <a:pt x="29" y="606"/>
                    </a:lnTo>
                    <a:lnTo>
                      <a:pt x="29" y="606"/>
                    </a:lnTo>
                    <a:lnTo>
                      <a:pt x="29" y="603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7" y="600"/>
                    </a:lnTo>
                    <a:lnTo>
                      <a:pt x="25" y="600"/>
                    </a:lnTo>
                    <a:lnTo>
                      <a:pt x="24" y="598"/>
                    </a:lnTo>
                    <a:lnTo>
                      <a:pt x="24" y="597"/>
                    </a:lnTo>
                    <a:lnTo>
                      <a:pt x="24" y="596"/>
                    </a:lnTo>
                    <a:lnTo>
                      <a:pt x="24" y="595"/>
                    </a:lnTo>
                    <a:lnTo>
                      <a:pt x="24" y="592"/>
                    </a:lnTo>
                    <a:lnTo>
                      <a:pt x="25" y="591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9" y="587"/>
                    </a:lnTo>
                    <a:lnTo>
                      <a:pt x="29" y="587"/>
                    </a:lnTo>
                    <a:lnTo>
                      <a:pt x="29" y="586"/>
                    </a:lnTo>
                    <a:lnTo>
                      <a:pt x="29" y="584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7" y="582"/>
                    </a:lnTo>
                    <a:lnTo>
                      <a:pt x="27" y="581"/>
                    </a:lnTo>
                    <a:lnTo>
                      <a:pt x="25" y="581"/>
                    </a:lnTo>
                    <a:lnTo>
                      <a:pt x="24" y="581"/>
                    </a:lnTo>
                    <a:lnTo>
                      <a:pt x="23" y="582"/>
                    </a:lnTo>
                    <a:lnTo>
                      <a:pt x="23" y="582"/>
                    </a:lnTo>
                    <a:lnTo>
                      <a:pt x="20" y="584"/>
                    </a:lnTo>
                    <a:lnTo>
                      <a:pt x="19" y="586"/>
                    </a:lnTo>
                    <a:lnTo>
                      <a:pt x="18" y="586"/>
                    </a:lnTo>
                    <a:lnTo>
                      <a:pt x="15" y="586"/>
                    </a:lnTo>
                    <a:lnTo>
                      <a:pt x="11" y="586"/>
                    </a:lnTo>
                    <a:lnTo>
                      <a:pt x="10" y="586"/>
                    </a:lnTo>
                    <a:lnTo>
                      <a:pt x="9" y="584"/>
                    </a:lnTo>
                    <a:lnTo>
                      <a:pt x="9" y="584"/>
                    </a:lnTo>
                    <a:lnTo>
                      <a:pt x="6" y="582"/>
                    </a:lnTo>
                    <a:lnTo>
                      <a:pt x="5" y="581"/>
                    </a:lnTo>
                    <a:lnTo>
                      <a:pt x="4" y="581"/>
                    </a:lnTo>
                    <a:lnTo>
                      <a:pt x="3" y="581"/>
                    </a:lnTo>
                    <a:lnTo>
                      <a:pt x="3" y="582"/>
                    </a:lnTo>
                    <a:lnTo>
                      <a:pt x="0" y="582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6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3" y="590"/>
                    </a:lnTo>
                    <a:lnTo>
                      <a:pt x="4" y="591"/>
                    </a:lnTo>
                    <a:lnTo>
                      <a:pt x="5" y="592"/>
                    </a:lnTo>
                    <a:lnTo>
                      <a:pt x="5" y="595"/>
                    </a:lnTo>
                    <a:lnTo>
                      <a:pt x="6" y="596"/>
                    </a:lnTo>
                    <a:lnTo>
                      <a:pt x="5" y="597"/>
                    </a:lnTo>
                    <a:lnTo>
                      <a:pt x="5" y="598"/>
                    </a:lnTo>
                    <a:lnTo>
                      <a:pt x="4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0" y="602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3" y="608"/>
                    </a:lnTo>
                    <a:lnTo>
                      <a:pt x="3" y="610"/>
                    </a:lnTo>
                    <a:lnTo>
                      <a:pt x="4" y="611"/>
                    </a:lnTo>
                    <a:lnTo>
                      <a:pt x="5" y="610"/>
                    </a:lnTo>
                    <a:lnTo>
                      <a:pt x="6" y="608"/>
                    </a:lnTo>
                    <a:lnTo>
                      <a:pt x="6" y="608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5175360" y="5373360"/>
                <a:ext cx="19080" cy="165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5175360" y="5695200"/>
                <a:ext cx="19080" cy="165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7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4788" name=""/>
            <p:cNvSpPr/>
            <p:nvPr/>
          </p:nvSpPr>
          <p:spPr>
            <a:xfrm>
              <a:off x="5221440" y="5350680"/>
              <a:ext cx="47880" cy="394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89" name=""/>
            <p:cNvSpPr/>
            <p:nvPr/>
          </p:nvSpPr>
          <p:spPr>
            <a:xfrm>
              <a:off x="5197680" y="5331240"/>
              <a:ext cx="23760" cy="433080"/>
            </a:xfrm>
            <a:prstGeom prst="rect">
              <a:avLst/>
            </a:prstGeom>
            <a:solidFill>
              <a:srgbClr val="7b7b7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0" name=""/>
            <p:cNvSpPr/>
            <p:nvPr/>
          </p:nvSpPr>
          <p:spPr>
            <a:xfrm>
              <a:off x="5221440" y="5331240"/>
              <a:ext cx="23760" cy="433080"/>
            </a:xfrm>
            <a:prstGeom prst="rect">
              <a:avLst/>
            </a:prstGeom>
            <a:solidFill>
              <a:srgbClr val="5d5d5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1" name=""/>
            <p:cNvSpPr/>
            <p:nvPr/>
          </p:nvSpPr>
          <p:spPr>
            <a:xfrm>
              <a:off x="5245200" y="5331240"/>
              <a:ext cx="24120" cy="433080"/>
            </a:xfrm>
            <a:prstGeom prst="rect">
              <a:avLst/>
            </a:prstGeom>
            <a:solidFill>
              <a:srgbClr val="67676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2" name=""/>
            <p:cNvSpPr/>
            <p:nvPr/>
          </p:nvSpPr>
          <p:spPr>
            <a:xfrm>
              <a:off x="5215320" y="5342040"/>
              <a:ext cx="40320" cy="404280"/>
            </a:xfrm>
            <a:custGeom>
              <a:avLst/>
              <a:gdLst/>
              <a:ahLst/>
              <a:rect l="l" t="t" r="r" b="b"/>
              <a:pathLst>
                <a:path w="60" h="728">
                  <a:moveTo>
                    <a:pt x="60" y="720"/>
                  </a:moveTo>
                  <a:lnTo>
                    <a:pt x="60" y="7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20"/>
                  </a:lnTo>
                  <a:lnTo>
                    <a:pt x="1" y="723"/>
                  </a:lnTo>
                  <a:lnTo>
                    <a:pt x="1" y="724"/>
                  </a:lnTo>
                  <a:lnTo>
                    <a:pt x="4" y="725"/>
                  </a:lnTo>
                  <a:lnTo>
                    <a:pt x="6" y="726"/>
                  </a:lnTo>
                  <a:lnTo>
                    <a:pt x="9" y="728"/>
                  </a:lnTo>
                  <a:lnTo>
                    <a:pt x="9" y="728"/>
                  </a:lnTo>
                  <a:lnTo>
                    <a:pt x="53" y="728"/>
                  </a:lnTo>
                  <a:lnTo>
                    <a:pt x="56" y="726"/>
                  </a:lnTo>
                  <a:lnTo>
                    <a:pt x="58" y="725"/>
                  </a:lnTo>
                  <a:lnTo>
                    <a:pt x="59" y="724"/>
                  </a:lnTo>
                  <a:lnTo>
                    <a:pt x="60" y="7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3" name=""/>
            <p:cNvSpPr/>
            <p:nvPr/>
          </p:nvSpPr>
          <p:spPr>
            <a:xfrm>
              <a:off x="2906640" y="5725440"/>
              <a:ext cx="14688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4" name=""/>
            <p:cNvSpPr/>
            <p:nvPr/>
          </p:nvSpPr>
          <p:spPr>
            <a:xfrm>
              <a:off x="2906640" y="5725440"/>
              <a:ext cx="14688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5" name=""/>
            <p:cNvSpPr/>
            <p:nvPr/>
          </p:nvSpPr>
          <p:spPr>
            <a:xfrm>
              <a:off x="3127680" y="5725440"/>
              <a:ext cx="14580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6" name=""/>
            <p:cNvSpPr/>
            <p:nvPr/>
          </p:nvSpPr>
          <p:spPr>
            <a:xfrm>
              <a:off x="3127680" y="5725440"/>
              <a:ext cx="14580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7" name=""/>
            <p:cNvSpPr/>
            <p:nvPr/>
          </p:nvSpPr>
          <p:spPr>
            <a:xfrm>
              <a:off x="3346200" y="5725440"/>
              <a:ext cx="14796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8" name=""/>
            <p:cNvSpPr/>
            <p:nvPr/>
          </p:nvSpPr>
          <p:spPr>
            <a:xfrm>
              <a:off x="3346200" y="5725440"/>
              <a:ext cx="1479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9" name=""/>
            <p:cNvSpPr/>
            <p:nvPr/>
          </p:nvSpPr>
          <p:spPr>
            <a:xfrm>
              <a:off x="3566160" y="5725440"/>
              <a:ext cx="14688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0" name=""/>
            <p:cNvSpPr/>
            <p:nvPr/>
          </p:nvSpPr>
          <p:spPr>
            <a:xfrm>
              <a:off x="3566160" y="5725440"/>
              <a:ext cx="14688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1" name=""/>
            <p:cNvSpPr/>
            <p:nvPr/>
          </p:nvSpPr>
          <p:spPr>
            <a:xfrm>
              <a:off x="3199320" y="5574600"/>
              <a:ext cx="222120" cy="594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2" name=""/>
            <p:cNvSpPr/>
            <p:nvPr/>
          </p:nvSpPr>
          <p:spPr>
            <a:xfrm>
              <a:off x="3199320" y="5574600"/>
              <a:ext cx="222120" cy="59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3" name=""/>
            <p:cNvSpPr/>
            <p:nvPr/>
          </p:nvSpPr>
          <p:spPr>
            <a:xfrm>
              <a:off x="3199320" y="5393160"/>
              <a:ext cx="222120" cy="612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4" name=""/>
            <p:cNvSpPr/>
            <p:nvPr/>
          </p:nvSpPr>
          <p:spPr>
            <a:xfrm>
              <a:off x="3199320" y="5393160"/>
              <a:ext cx="222120" cy="61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4805" name=""/>
          <p:cNvGrpSpPr/>
          <p:nvPr/>
        </p:nvGrpSpPr>
        <p:grpSpPr>
          <a:xfrm>
            <a:off x="2490840" y="4532400"/>
            <a:ext cx="4190760" cy="678960"/>
            <a:chOff x="2490840" y="4532400"/>
            <a:chExt cx="4190760" cy="678960"/>
          </a:xfrm>
        </p:grpSpPr>
        <p:sp>
          <p:nvSpPr>
            <p:cNvPr id="4806" name=""/>
            <p:cNvSpPr/>
            <p:nvPr/>
          </p:nvSpPr>
          <p:spPr>
            <a:xfrm>
              <a:off x="2493000" y="4924800"/>
              <a:ext cx="83160" cy="276480"/>
            </a:xfrm>
            <a:custGeom>
              <a:avLst/>
              <a:gdLst/>
              <a:ahLst/>
              <a:rect l="l" t="t" r="r" b="b"/>
              <a:pathLst>
                <a:path w="122" h="497">
                  <a:moveTo>
                    <a:pt x="104" y="497"/>
                  </a:moveTo>
                  <a:lnTo>
                    <a:pt x="108" y="497"/>
                  </a:lnTo>
                  <a:lnTo>
                    <a:pt x="110" y="496"/>
                  </a:lnTo>
                  <a:lnTo>
                    <a:pt x="114" y="495"/>
                  </a:lnTo>
                  <a:lnTo>
                    <a:pt x="117" y="492"/>
                  </a:lnTo>
                  <a:lnTo>
                    <a:pt x="118" y="490"/>
                  </a:lnTo>
                  <a:lnTo>
                    <a:pt x="120" y="487"/>
                  </a:lnTo>
                  <a:lnTo>
                    <a:pt x="122" y="485"/>
                  </a:lnTo>
                  <a:lnTo>
                    <a:pt x="122" y="481"/>
                  </a:lnTo>
                  <a:lnTo>
                    <a:pt x="122" y="481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0" y="9"/>
                  </a:lnTo>
                  <a:lnTo>
                    <a:pt x="118" y="6"/>
                  </a:lnTo>
                  <a:lnTo>
                    <a:pt x="117" y="4"/>
                  </a:lnTo>
                  <a:lnTo>
                    <a:pt x="114" y="2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1" y="487"/>
                  </a:lnTo>
                  <a:lnTo>
                    <a:pt x="3" y="490"/>
                  </a:lnTo>
                  <a:lnTo>
                    <a:pt x="5" y="492"/>
                  </a:lnTo>
                  <a:lnTo>
                    <a:pt x="8" y="495"/>
                  </a:lnTo>
                  <a:lnTo>
                    <a:pt x="10" y="496"/>
                  </a:lnTo>
                  <a:lnTo>
                    <a:pt x="14" y="497"/>
                  </a:lnTo>
                  <a:lnTo>
                    <a:pt x="18" y="497"/>
                  </a:lnTo>
                  <a:lnTo>
                    <a:pt x="104" y="497"/>
                  </a:lnTo>
                  <a:lnTo>
                    <a:pt x="104" y="49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7" name=""/>
            <p:cNvSpPr/>
            <p:nvPr/>
          </p:nvSpPr>
          <p:spPr>
            <a:xfrm>
              <a:off x="2491920" y="4923000"/>
              <a:ext cx="84600" cy="2782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8" name=""/>
            <p:cNvSpPr/>
            <p:nvPr/>
          </p:nvSpPr>
          <p:spPr>
            <a:xfrm>
              <a:off x="2491920" y="4923000"/>
              <a:ext cx="1080" cy="278280"/>
            </a:xfrm>
            <a:prstGeom prst="rect">
              <a:avLst/>
            </a:prstGeom>
            <a:solidFill>
              <a:srgbClr val="b4b4b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9" name=""/>
            <p:cNvSpPr/>
            <p:nvPr/>
          </p:nvSpPr>
          <p:spPr>
            <a:xfrm>
              <a:off x="2491920" y="4923000"/>
              <a:ext cx="1080" cy="27828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0" name=""/>
            <p:cNvSpPr/>
            <p:nvPr/>
          </p:nvSpPr>
          <p:spPr>
            <a:xfrm>
              <a:off x="2493000" y="4923000"/>
              <a:ext cx="1080" cy="278280"/>
            </a:xfrm>
            <a:prstGeom prst="rect">
              <a:avLst/>
            </a:prstGeom>
            <a:solidFill>
              <a:srgbClr val="b5b5b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1" name=""/>
            <p:cNvSpPr/>
            <p:nvPr/>
          </p:nvSpPr>
          <p:spPr>
            <a:xfrm>
              <a:off x="2494080" y="4923000"/>
              <a:ext cx="2160" cy="278280"/>
            </a:xfrm>
            <a:prstGeom prst="rect">
              <a:avLst/>
            </a:prstGeom>
            <a:solidFill>
              <a:srgbClr val="b7b7b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2" name=""/>
            <p:cNvSpPr/>
            <p:nvPr/>
          </p:nvSpPr>
          <p:spPr>
            <a:xfrm>
              <a:off x="2494080" y="4923000"/>
              <a:ext cx="2160" cy="278280"/>
            </a:xfrm>
            <a:prstGeom prst="rect">
              <a:avLst/>
            </a:prstGeom>
            <a:solidFill>
              <a:srgbClr val="b8b8b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3" name=""/>
            <p:cNvSpPr/>
            <p:nvPr/>
          </p:nvSpPr>
          <p:spPr>
            <a:xfrm>
              <a:off x="2496600" y="4923000"/>
              <a:ext cx="1080" cy="278280"/>
            </a:xfrm>
            <a:prstGeom prst="rect">
              <a:avLst/>
            </a:prstGeom>
            <a:solidFill>
              <a:srgbClr val="baba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4" name=""/>
            <p:cNvSpPr/>
            <p:nvPr/>
          </p:nvSpPr>
          <p:spPr>
            <a:xfrm>
              <a:off x="2497680" y="4923000"/>
              <a:ext cx="1080" cy="27828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5" name=""/>
            <p:cNvSpPr/>
            <p:nvPr/>
          </p:nvSpPr>
          <p:spPr>
            <a:xfrm>
              <a:off x="2497680" y="4923000"/>
              <a:ext cx="1080" cy="278280"/>
            </a:xfrm>
            <a:prstGeom prst="rect">
              <a:avLst/>
            </a:prstGeom>
            <a:solidFill>
              <a:srgbClr val="bdbdb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6" name=""/>
            <p:cNvSpPr/>
            <p:nvPr/>
          </p:nvSpPr>
          <p:spPr>
            <a:xfrm>
              <a:off x="2499120" y="4923000"/>
              <a:ext cx="1080" cy="27828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7" name=""/>
            <p:cNvSpPr/>
            <p:nvPr/>
          </p:nvSpPr>
          <p:spPr>
            <a:xfrm>
              <a:off x="2499120" y="4923000"/>
              <a:ext cx="1080" cy="278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8" name=""/>
            <p:cNvSpPr/>
            <p:nvPr/>
          </p:nvSpPr>
          <p:spPr>
            <a:xfrm>
              <a:off x="2500200" y="4923000"/>
              <a:ext cx="1080" cy="278280"/>
            </a:xfrm>
            <a:prstGeom prst="rect">
              <a:avLst/>
            </a:prstGeom>
            <a:solidFill>
              <a:srgbClr val="c2c2c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9" name=""/>
            <p:cNvSpPr/>
            <p:nvPr/>
          </p:nvSpPr>
          <p:spPr>
            <a:xfrm>
              <a:off x="2501640" y="4923000"/>
              <a:ext cx="1080" cy="278280"/>
            </a:xfrm>
            <a:prstGeom prst="rect">
              <a:avLst/>
            </a:prstGeom>
            <a:solidFill>
              <a:srgbClr val="c3c3c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0" name=""/>
            <p:cNvSpPr/>
            <p:nvPr/>
          </p:nvSpPr>
          <p:spPr>
            <a:xfrm>
              <a:off x="2501640" y="4923000"/>
              <a:ext cx="1080" cy="278280"/>
            </a:xfrm>
            <a:prstGeom prst="rect">
              <a:avLst/>
            </a:prstGeom>
            <a:solidFill>
              <a:srgbClr val="c4c4c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1" name=""/>
            <p:cNvSpPr/>
            <p:nvPr/>
          </p:nvSpPr>
          <p:spPr>
            <a:xfrm>
              <a:off x="2502720" y="4923000"/>
              <a:ext cx="1080" cy="278280"/>
            </a:xfrm>
            <a:prstGeom prst="rect">
              <a:avLst/>
            </a:prstGeom>
            <a:solidFill>
              <a:srgbClr val="c6c6c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2" name=""/>
            <p:cNvSpPr/>
            <p:nvPr/>
          </p:nvSpPr>
          <p:spPr>
            <a:xfrm>
              <a:off x="2503800" y="4923000"/>
              <a:ext cx="2160" cy="278280"/>
            </a:xfrm>
            <a:prstGeom prst="rect">
              <a:avLst/>
            </a:prstGeom>
            <a:solidFill>
              <a:srgbClr val="c8c8c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3" name=""/>
            <p:cNvSpPr/>
            <p:nvPr/>
          </p:nvSpPr>
          <p:spPr>
            <a:xfrm>
              <a:off x="2503800" y="4923000"/>
              <a:ext cx="2160" cy="278280"/>
            </a:xfrm>
            <a:prstGeom prst="rect">
              <a:avLst/>
            </a:prstGeom>
            <a:solidFill>
              <a:srgbClr val="c9c9c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4" name=""/>
            <p:cNvSpPr/>
            <p:nvPr/>
          </p:nvSpPr>
          <p:spPr>
            <a:xfrm>
              <a:off x="2505960" y="4923000"/>
              <a:ext cx="1080" cy="278280"/>
            </a:xfrm>
            <a:prstGeom prst="rect">
              <a:avLst/>
            </a:prstGeom>
            <a:solidFill>
              <a:srgbClr val="cbcb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5" name=""/>
            <p:cNvSpPr/>
            <p:nvPr/>
          </p:nvSpPr>
          <p:spPr>
            <a:xfrm>
              <a:off x="2505960" y="4923000"/>
              <a:ext cx="1080" cy="278280"/>
            </a:xfrm>
            <a:prstGeom prst="rect">
              <a:avLst/>
            </a:prstGeom>
            <a:solidFill>
              <a:srgbClr val="cccc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6" name=""/>
            <p:cNvSpPr/>
            <p:nvPr/>
          </p:nvSpPr>
          <p:spPr>
            <a:xfrm>
              <a:off x="2507400" y="4923000"/>
              <a:ext cx="1080" cy="27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7" name=""/>
            <p:cNvSpPr/>
            <p:nvPr/>
          </p:nvSpPr>
          <p:spPr>
            <a:xfrm>
              <a:off x="2508480" y="4923000"/>
              <a:ext cx="1080" cy="278280"/>
            </a:xfrm>
            <a:prstGeom prst="rect">
              <a:avLst/>
            </a:prstGeom>
            <a:solidFill>
              <a:srgbClr val="d0d0d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8" name=""/>
            <p:cNvSpPr/>
            <p:nvPr/>
          </p:nvSpPr>
          <p:spPr>
            <a:xfrm>
              <a:off x="2508480" y="4923000"/>
              <a:ext cx="1080" cy="278280"/>
            </a:xfrm>
            <a:prstGeom prst="rect">
              <a:avLst/>
            </a:prstGeom>
            <a:solidFill>
              <a:srgbClr val="d1d1d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9" name=""/>
            <p:cNvSpPr/>
            <p:nvPr/>
          </p:nvSpPr>
          <p:spPr>
            <a:xfrm>
              <a:off x="2509920" y="4923000"/>
              <a:ext cx="1080" cy="278280"/>
            </a:xfrm>
            <a:prstGeom prst="rect">
              <a:avLst/>
            </a:prstGeom>
            <a:solidFill>
              <a:srgbClr val="d3d3d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0" name=""/>
            <p:cNvSpPr/>
            <p:nvPr/>
          </p:nvSpPr>
          <p:spPr>
            <a:xfrm>
              <a:off x="2511000" y="4923000"/>
              <a:ext cx="1080" cy="278280"/>
            </a:xfrm>
            <a:prstGeom prst="rect">
              <a:avLst/>
            </a:prstGeom>
            <a:solidFill>
              <a:srgbClr val="d4d4d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1" name=""/>
            <p:cNvSpPr/>
            <p:nvPr/>
          </p:nvSpPr>
          <p:spPr>
            <a:xfrm>
              <a:off x="2511000" y="4923000"/>
              <a:ext cx="1080" cy="278280"/>
            </a:xfrm>
            <a:prstGeom prst="rect">
              <a:avLst/>
            </a:prstGeom>
            <a:solidFill>
              <a:srgbClr val="d6d6d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2" name=""/>
            <p:cNvSpPr/>
            <p:nvPr/>
          </p:nvSpPr>
          <p:spPr>
            <a:xfrm>
              <a:off x="2512080" y="4923000"/>
              <a:ext cx="1080" cy="278280"/>
            </a:xfrm>
            <a:prstGeom prst="rect">
              <a:avLst/>
            </a:prstGeom>
            <a:solidFill>
              <a:srgbClr val="d7d7d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3" name=""/>
            <p:cNvSpPr/>
            <p:nvPr/>
          </p:nvSpPr>
          <p:spPr>
            <a:xfrm>
              <a:off x="2512080" y="4923000"/>
              <a:ext cx="1080" cy="278280"/>
            </a:xfrm>
            <a:prstGeom prst="rect">
              <a:avLst/>
            </a:prstGeom>
            <a:solidFill>
              <a:srgbClr val="d8d8d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4" name=""/>
            <p:cNvSpPr/>
            <p:nvPr/>
          </p:nvSpPr>
          <p:spPr>
            <a:xfrm>
              <a:off x="2513520" y="4923000"/>
              <a:ext cx="1080" cy="278280"/>
            </a:xfrm>
            <a:prstGeom prst="rect">
              <a:avLst/>
            </a:prstGeom>
            <a:solidFill>
              <a:srgbClr val="dadad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5" name=""/>
            <p:cNvSpPr/>
            <p:nvPr/>
          </p:nvSpPr>
          <p:spPr>
            <a:xfrm>
              <a:off x="2514600" y="4923000"/>
              <a:ext cx="2160" cy="278280"/>
            </a:xfrm>
            <a:prstGeom prst="rect">
              <a:avLst/>
            </a:prstGeom>
            <a:solidFill>
              <a:srgbClr val="dcdcd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6" name=""/>
            <p:cNvSpPr/>
            <p:nvPr/>
          </p:nvSpPr>
          <p:spPr>
            <a:xfrm>
              <a:off x="2514600" y="4923000"/>
              <a:ext cx="2160" cy="2782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7" name=""/>
            <p:cNvSpPr/>
            <p:nvPr/>
          </p:nvSpPr>
          <p:spPr>
            <a:xfrm>
              <a:off x="2517120" y="4923000"/>
              <a:ext cx="1080" cy="278280"/>
            </a:xfrm>
            <a:prstGeom prst="rect">
              <a:avLst/>
            </a:prstGeom>
            <a:solidFill>
              <a:srgbClr val="dfdfd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8" name=""/>
            <p:cNvSpPr/>
            <p:nvPr/>
          </p:nvSpPr>
          <p:spPr>
            <a:xfrm>
              <a:off x="2518200" y="4923000"/>
              <a:ext cx="1080" cy="27828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9" name=""/>
            <p:cNvSpPr/>
            <p:nvPr/>
          </p:nvSpPr>
          <p:spPr>
            <a:xfrm>
              <a:off x="2518200" y="4923000"/>
              <a:ext cx="1080" cy="278280"/>
            </a:xfrm>
            <a:prstGeom prst="rect">
              <a:avLst/>
            </a:prstGeom>
            <a:solidFill>
              <a:srgbClr val="e2e2e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0" name=""/>
            <p:cNvSpPr/>
            <p:nvPr/>
          </p:nvSpPr>
          <p:spPr>
            <a:xfrm>
              <a:off x="2519280" y="4923000"/>
              <a:ext cx="1080" cy="278280"/>
            </a:xfrm>
            <a:prstGeom prst="rect">
              <a:avLst/>
            </a:prstGeom>
            <a:solidFill>
              <a:srgbClr val="e4e4e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1" name=""/>
            <p:cNvSpPr/>
            <p:nvPr/>
          </p:nvSpPr>
          <p:spPr>
            <a:xfrm>
              <a:off x="2520360" y="4923000"/>
              <a:ext cx="1080" cy="278280"/>
            </a:xfrm>
            <a:prstGeom prst="rect">
              <a:avLst/>
            </a:prstGeom>
            <a:solidFill>
              <a:srgbClr val="e5e5e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2" name=""/>
            <p:cNvSpPr/>
            <p:nvPr/>
          </p:nvSpPr>
          <p:spPr>
            <a:xfrm>
              <a:off x="2520360" y="4923000"/>
              <a:ext cx="1080" cy="278280"/>
            </a:xfrm>
            <a:prstGeom prst="rect">
              <a:avLst/>
            </a:prstGeom>
            <a:solidFill>
              <a:srgbClr val="e7e7e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3" name=""/>
            <p:cNvSpPr/>
            <p:nvPr/>
          </p:nvSpPr>
          <p:spPr>
            <a:xfrm>
              <a:off x="2521800" y="4923000"/>
              <a:ext cx="1080" cy="278280"/>
            </a:xfrm>
            <a:prstGeom prst="rect">
              <a:avLst/>
            </a:prstGeom>
            <a:solidFill>
              <a:srgbClr val="e8e8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4" name=""/>
            <p:cNvSpPr/>
            <p:nvPr/>
          </p:nvSpPr>
          <p:spPr>
            <a:xfrm>
              <a:off x="2521800" y="4923000"/>
              <a:ext cx="1080" cy="2782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5" name=""/>
            <p:cNvSpPr/>
            <p:nvPr/>
          </p:nvSpPr>
          <p:spPr>
            <a:xfrm>
              <a:off x="2522880" y="4923000"/>
              <a:ext cx="1080" cy="278280"/>
            </a:xfrm>
            <a:prstGeom prst="rect">
              <a:avLst/>
            </a:prstGeom>
            <a:solidFill>
              <a:srgbClr val="ebebe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6" name=""/>
            <p:cNvSpPr/>
            <p:nvPr/>
          </p:nvSpPr>
          <p:spPr>
            <a:xfrm>
              <a:off x="2523960" y="4923000"/>
              <a:ext cx="2160" cy="278280"/>
            </a:xfrm>
            <a:prstGeom prst="rect">
              <a:avLst/>
            </a:prstGeom>
            <a:solidFill>
              <a:srgbClr val="edede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7" name=""/>
            <p:cNvSpPr/>
            <p:nvPr/>
          </p:nvSpPr>
          <p:spPr>
            <a:xfrm>
              <a:off x="2523960" y="4923000"/>
              <a:ext cx="2160" cy="278280"/>
            </a:xfrm>
            <a:prstGeom prst="rect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8" name=""/>
            <p:cNvSpPr/>
            <p:nvPr/>
          </p:nvSpPr>
          <p:spPr>
            <a:xfrm>
              <a:off x="2526480" y="4923000"/>
              <a:ext cx="1080" cy="278280"/>
            </a:xfrm>
            <a:prstGeom prst="rect">
              <a:avLst/>
            </a:prstGeom>
            <a:solidFill>
              <a:srgbClr val="f0f0f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9" name=""/>
            <p:cNvSpPr/>
            <p:nvPr/>
          </p:nvSpPr>
          <p:spPr>
            <a:xfrm>
              <a:off x="2527920" y="4923000"/>
              <a:ext cx="1080" cy="278280"/>
            </a:xfrm>
            <a:prstGeom prst="rect">
              <a:avLst/>
            </a:prstGeom>
            <a:solidFill>
              <a:srgbClr val="f1f1f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0" name=""/>
            <p:cNvSpPr/>
            <p:nvPr/>
          </p:nvSpPr>
          <p:spPr>
            <a:xfrm>
              <a:off x="2527920" y="4923000"/>
              <a:ext cx="1080" cy="278280"/>
            </a:xfrm>
            <a:prstGeom prst="rect">
              <a:avLst/>
            </a:prstGeom>
            <a:solidFill>
              <a:srgbClr val="f3f3f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1" name=""/>
            <p:cNvSpPr/>
            <p:nvPr/>
          </p:nvSpPr>
          <p:spPr>
            <a:xfrm>
              <a:off x="2529000" y="4923000"/>
              <a:ext cx="1080" cy="278280"/>
            </a:xfrm>
            <a:prstGeom prst="rect">
              <a:avLst/>
            </a:prstGeom>
            <a:solidFill>
              <a:srgbClr val="f5f5f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2" name=""/>
            <p:cNvSpPr/>
            <p:nvPr/>
          </p:nvSpPr>
          <p:spPr>
            <a:xfrm>
              <a:off x="2529000" y="4923000"/>
              <a:ext cx="1080" cy="278280"/>
            </a:xfrm>
            <a:prstGeom prst="rect">
              <a:avLst/>
            </a:prstGeom>
            <a:solidFill>
              <a:srgbClr val="f6f6f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3" name=""/>
            <p:cNvSpPr/>
            <p:nvPr/>
          </p:nvSpPr>
          <p:spPr>
            <a:xfrm>
              <a:off x="2530080" y="4923000"/>
              <a:ext cx="1080" cy="278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4" name=""/>
            <p:cNvSpPr/>
            <p:nvPr/>
          </p:nvSpPr>
          <p:spPr>
            <a:xfrm>
              <a:off x="2531160" y="4923000"/>
              <a:ext cx="1080" cy="278280"/>
            </a:xfrm>
            <a:prstGeom prst="rect">
              <a:avLst/>
            </a:prstGeom>
            <a:solidFill>
              <a:srgbClr val="f9f9f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5" name=""/>
            <p:cNvSpPr/>
            <p:nvPr/>
          </p:nvSpPr>
          <p:spPr>
            <a:xfrm>
              <a:off x="2531160" y="4923000"/>
              <a:ext cx="1080" cy="278280"/>
            </a:xfrm>
            <a:prstGeom prst="rect">
              <a:avLst/>
            </a:prstGeom>
            <a:solidFill>
              <a:srgbClr val="fbfbf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6" name=""/>
            <p:cNvSpPr/>
            <p:nvPr/>
          </p:nvSpPr>
          <p:spPr>
            <a:xfrm>
              <a:off x="2532240" y="4923000"/>
              <a:ext cx="1080" cy="278280"/>
            </a:xfrm>
            <a:prstGeom prst="rect">
              <a:avLst/>
            </a:prstGeom>
            <a:solidFill>
              <a:srgbClr val="fcfc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7" name=""/>
            <p:cNvSpPr/>
            <p:nvPr/>
          </p:nvSpPr>
          <p:spPr>
            <a:xfrm>
              <a:off x="2533680" y="4923000"/>
              <a:ext cx="2160" cy="278280"/>
            </a:xfrm>
            <a:prstGeom prst="rect">
              <a:avLst/>
            </a:prstGeom>
            <a:solidFill>
              <a:srgbClr val="fefef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8" name=""/>
            <p:cNvSpPr/>
            <p:nvPr/>
          </p:nvSpPr>
          <p:spPr>
            <a:xfrm>
              <a:off x="2533680" y="4923000"/>
              <a:ext cx="2160" cy="27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9" name=""/>
            <p:cNvSpPr/>
            <p:nvPr/>
          </p:nvSpPr>
          <p:spPr>
            <a:xfrm>
              <a:off x="2536200" y="4923000"/>
              <a:ext cx="1080" cy="278280"/>
            </a:xfrm>
            <a:prstGeom prst="rect">
              <a:avLst/>
            </a:prstGeom>
            <a:solidFill>
              <a:srgbClr val="fdfd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60" name=""/>
            <p:cNvSpPr/>
            <p:nvPr/>
          </p:nvSpPr>
          <p:spPr>
            <a:xfrm>
              <a:off x="2536200" y="4923000"/>
              <a:ext cx="1080" cy="278280"/>
            </a:xfrm>
            <a:prstGeom prst="rect">
              <a:avLst/>
            </a:prstGeom>
            <a:solidFill>
              <a:srgbClr val="fcfc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61" name=""/>
            <p:cNvSpPr/>
            <p:nvPr/>
          </p:nvSpPr>
          <p:spPr>
            <a:xfrm>
              <a:off x="2537280" y="4923000"/>
              <a:ext cx="1080" cy="278280"/>
            </a:xfrm>
            <a:prstGeom prst="rect">
              <a:avLst/>
            </a:prstGeom>
            <a:solidFill>
              <a:srgbClr val="fbfbf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62" name=""/>
            <p:cNvSpPr/>
            <p:nvPr/>
          </p:nvSpPr>
          <p:spPr>
            <a:xfrm>
              <a:off x="2538360" y="4923000"/>
              <a:ext cx="1080" cy="278280"/>
            </a:xfrm>
            <a:prstGeom prst="rect">
              <a:avLst/>
            </a:prstGeom>
            <a:solidFill>
              <a:srgbClr val="f9f9f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4863" name=""/>
            <p:cNvGrpSpPr/>
            <p:nvPr/>
          </p:nvGrpSpPr>
          <p:grpSpPr>
            <a:xfrm>
              <a:off x="2490840" y="4532400"/>
              <a:ext cx="4190760" cy="677520"/>
              <a:chOff x="2490840" y="4532400"/>
              <a:chExt cx="4190760" cy="677520"/>
            </a:xfrm>
          </p:grpSpPr>
          <p:sp>
            <p:nvSpPr>
              <p:cNvPr id="4864" name=""/>
              <p:cNvSpPr/>
              <p:nvPr/>
            </p:nvSpPr>
            <p:spPr>
              <a:xfrm>
                <a:off x="2538360" y="4923360"/>
                <a:ext cx="1080" cy="2775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65" name=""/>
              <p:cNvSpPr/>
              <p:nvPr/>
            </p:nvSpPr>
            <p:spPr>
              <a:xfrm>
                <a:off x="2539800" y="4923360"/>
                <a:ext cx="1440" cy="277560"/>
              </a:xfrm>
              <a:prstGeom prst="rect">
                <a:avLst/>
              </a:prstGeom>
              <a:solidFill>
                <a:srgbClr val="f6f6f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66" name=""/>
              <p:cNvSpPr/>
              <p:nvPr/>
            </p:nvSpPr>
            <p:spPr>
              <a:xfrm>
                <a:off x="2541240" y="4923360"/>
                <a:ext cx="1080" cy="277560"/>
              </a:xfrm>
              <a:prstGeom prst="rect">
                <a:avLst/>
              </a:prstGeom>
              <a:solidFill>
                <a:srgbClr val="f5f5f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67" name=""/>
              <p:cNvSpPr/>
              <p:nvPr/>
            </p:nvSpPr>
            <p:spPr>
              <a:xfrm>
                <a:off x="2541240" y="4923360"/>
                <a:ext cx="1080" cy="277560"/>
              </a:xfrm>
              <a:prstGeom prst="rect">
                <a:avLst/>
              </a:prstGeom>
              <a:solidFill>
                <a:srgbClr val="f3f3f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68" name=""/>
              <p:cNvSpPr/>
              <p:nvPr/>
            </p:nvSpPr>
            <p:spPr>
              <a:xfrm>
                <a:off x="2542320" y="4923360"/>
                <a:ext cx="1080" cy="277560"/>
              </a:xfrm>
              <a:prstGeom prst="rect">
                <a:avLst/>
              </a:prstGeom>
              <a:solidFill>
                <a:srgbClr val="f1f1f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69" name=""/>
              <p:cNvSpPr/>
              <p:nvPr/>
            </p:nvSpPr>
            <p:spPr>
              <a:xfrm>
                <a:off x="2542320" y="4923360"/>
                <a:ext cx="1080" cy="277560"/>
              </a:xfrm>
              <a:prstGeom prst="rect">
                <a:avLst/>
              </a:prstGeom>
              <a:solidFill>
                <a:srgbClr val="f0f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0" name=""/>
              <p:cNvSpPr/>
              <p:nvPr/>
            </p:nvSpPr>
            <p:spPr>
              <a:xfrm>
                <a:off x="2543760" y="4923360"/>
                <a:ext cx="1440" cy="27756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2545200" y="4923360"/>
                <a:ext cx="108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2545200" y="4923360"/>
                <a:ext cx="1080" cy="277560"/>
              </a:xfrm>
              <a:prstGeom prst="rect">
                <a:avLst/>
              </a:prstGeom>
              <a:solidFill>
                <a:srgbClr val="ebebe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2546640" y="4923360"/>
                <a:ext cx="144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2548080" y="4923360"/>
                <a:ext cx="1080" cy="277560"/>
              </a:xfrm>
              <a:prstGeom prst="rect">
                <a:avLst/>
              </a:prstGeom>
              <a:solidFill>
                <a:srgbClr val="e8e8e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2548080" y="4923360"/>
                <a:ext cx="1080" cy="277560"/>
              </a:xfrm>
              <a:prstGeom prst="rect">
                <a:avLst/>
              </a:prstGeom>
              <a:solidFill>
                <a:srgbClr val="e7e7e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2549160" y="4923360"/>
                <a:ext cx="1080" cy="27756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2549160" y="4923360"/>
                <a:ext cx="1080" cy="277560"/>
              </a:xfrm>
              <a:prstGeom prst="rect">
                <a:avLst/>
              </a:prstGeom>
              <a:solidFill>
                <a:srgbClr val="e4e4e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2550600" y="4923360"/>
                <a:ext cx="1440" cy="277560"/>
              </a:xfrm>
              <a:prstGeom prst="rect">
                <a:avLst/>
              </a:prstGeom>
              <a:solidFill>
                <a:srgbClr val="e2e2e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2552040" y="4923360"/>
                <a:ext cx="1080" cy="27756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2552040" y="4923360"/>
                <a:ext cx="1080" cy="27756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2553120" y="4923360"/>
                <a:ext cx="1440" cy="27756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2554920" y="4923360"/>
                <a:ext cx="1080" cy="277560"/>
              </a:xfrm>
              <a:prstGeom prst="rect">
                <a:avLst/>
              </a:prstGeom>
              <a:solidFill>
                <a:srgbClr val="dcdcd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2554920" y="4923360"/>
                <a:ext cx="1080" cy="277560"/>
              </a:xfrm>
              <a:prstGeom prst="rect">
                <a:avLst/>
              </a:prstGeom>
              <a:solidFill>
                <a:srgbClr val="dadad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2556000" y="4923360"/>
                <a:ext cx="1080" cy="27756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2556000" y="4923360"/>
                <a:ext cx="1080" cy="27756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2557440" y="4923360"/>
                <a:ext cx="144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2558880" y="4923360"/>
                <a:ext cx="1080" cy="277560"/>
              </a:xfrm>
              <a:prstGeom prst="rect">
                <a:avLst/>
              </a:prstGeom>
              <a:solidFill>
                <a:srgbClr val="d4d4d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2558880" y="492336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2559960" y="4923360"/>
                <a:ext cx="1440" cy="27756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2561760" y="4923360"/>
                <a:ext cx="1080" cy="277560"/>
              </a:xfrm>
              <a:prstGeom prst="rect">
                <a:avLst/>
              </a:prstGeom>
              <a:solidFill>
                <a:srgbClr val="d0d0d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2561760" y="4923360"/>
                <a:ext cx="1080" cy="2775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2562840" y="4923360"/>
                <a:ext cx="1080" cy="277560"/>
              </a:xfrm>
              <a:prstGeom prst="rect">
                <a:avLst/>
              </a:prstGeom>
              <a:solidFill>
                <a:srgbClr val="cc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2562840" y="4923360"/>
                <a:ext cx="1080" cy="277560"/>
              </a:xfrm>
              <a:prstGeom prst="rect">
                <a:avLst/>
              </a:prstGeom>
              <a:solidFill>
                <a:srgbClr val="cbcbc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2563920" y="4923360"/>
                <a:ext cx="1440" cy="277560"/>
              </a:xfrm>
              <a:prstGeom prst="rect">
                <a:avLst/>
              </a:prstGeom>
              <a:solidFill>
                <a:srgbClr val="c9c9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2565720" y="4923360"/>
                <a:ext cx="1080" cy="277560"/>
              </a:xfrm>
              <a:prstGeom prst="rect">
                <a:avLst/>
              </a:prstGeom>
              <a:solidFill>
                <a:srgbClr val="c7c7c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2565720" y="4923360"/>
                <a:ext cx="1080" cy="27756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2566800" y="4923360"/>
                <a:ext cx="1440" cy="277560"/>
              </a:xfrm>
              <a:prstGeom prst="rect">
                <a:avLst/>
              </a:prstGeom>
              <a:solidFill>
                <a:srgbClr val="c4c4c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2568240" y="4923360"/>
                <a:ext cx="1080" cy="277560"/>
              </a:xfrm>
              <a:prstGeom prst="rect">
                <a:avLst/>
              </a:prstGeom>
              <a:solidFill>
                <a:srgbClr val="c3c3c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2568240" y="4923360"/>
                <a:ext cx="108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2569680" y="4923360"/>
                <a:ext cx="1440" cy="2775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2569680" y="4923360"/>
                <a:ext cx="144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2571120" y="4923360"/>
                <a:ext cx="1080" cy="277560"/>
              </a:xfrm>
              <a:prstGeom prst="rect">
                <a:avLst/>
              </a:prstGeom>
              <a:solidFill>
                <a:srgbClr val="bdbdb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2572560" y="4923360"/>
                <a:ext cx="1080" cy="27756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2572560" y="4923360"/>
                <a:ext cx="1080" cy="277560"/>
              </a:xfrm>
              <a:prstGeom prst="rect">
                <a:avLst/>
              </a:prstGeom>
              <a:solidFill>
                <a:srgbClr val="babab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2573640" y="4923360"/>
                <a:ext cx="1440" cy="27756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2575080" y="4923360"/>
                <a:ext cx="1080" cy="277560"/>
              </a:xfrm>
              <a:prstGeom prst="rect">
                <a:avLst/>
              </a:prstGeom>
              <a:solidFill>
                <a:srgbClr val="b7b7b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2575080" y="4923360"/>
                <a:ext cx="1080" cy="277560"/>
              </a:xfrm>
              <a:prstGeom prst="rect">
                <a:avLst/>
              </a:prstGeom>
              <a:solidFill>
                <a:srgbClr val="b5b5b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2576520" y="4923360"/>
                <a:ext cx="1440" cy="27756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2493360" y="4923360"/>
                <a:ext cx="81720" cy="276480"/>
              </a:xfrm>
              <a:custGeom>
                <a:avLst/>
                <a:gdLst/>
                <a:ahLst/>
                <a:rect l="l" t="t" r="r" b="b"/>
                <a:pathLst>
                  <a:path w="120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0" y="496"/>
                    </a:lnTo>
                    <a:lnTo>
                      <a:pt x="113" y="495"/>
                    </a:lnTo>
                    <a:lnTo>
                      <a:pt x="115" y="492"/>
                    </a:lnTo>
                    <a:lnTo>
                      <a:pt x="118" y="491"/>
                    </a:lnTo>
                    <a:lnTo>
                      <a:pt x="119" y="487"/>
                    </a:lnTo>
                    <a:lnTo>
                      <a:pt x="120" y="484"/>
                    </a:lnTo>
                    <a:lnTo>
                      <a:pt x="120" y="482"/>
                    </a:lnTo>
                    <a:lnTo>
                      <a:pt x="120" y="482"/>
                    </a:lnTo>
                    <a:lnTo>
                      <a:pt x="120" y="16"/>
                    </a:lnTo>
                    <a:lnTo>
                      <a:pt x="120" y="12"/>
                    </a:lnTo>
                    <a:lnTo>
                      <a:pt x="119" y="10"/>
                    </a:lnTo>
                    <a:lnTo>
                      <a:pt x="118" y="7"/>
                    </a:lnTo>
                    <a:lnTo>
                      <a:pt x="115" y="5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82"/>
                    </a:lnTo>
                    <a:lnTo>
                      <a:pt x="0" y="484"/>
                    </a:lnTo>
                    <a:lnTo>
                      <a:pt x="1" y="487"/>
                    </a:lnTo>
                    <a:lnTo>
                      <a:pt x="3" y="491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4" y="497"/>
                    </a:lnTo>
                    <a:lnTo>
                      <a:pt x="18" y="497"/>
                    </a:lnTo>
                    <a:lnTo>
                      <a:pt x="103" y="497"/>
                    </a:lnTo>
                    <a:lnTo>
                      <a:pt x="103" y="497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6597360" y="4924440"/>
                <a:ext cx="81720" cy="276480"/>
              </a:xfrm>
              <a:custGeom>
                <a:avLst/>
                <a:gdLst/>
                <a:ahLst/>
                <a:rect l="l" t="t" r="r" b="b"/>
                <a:pathLst>
                  <a:path w="121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1" y="496"/>
                    </a:lnTo>
                    <a:lnTo>
                      <a:pt x="113" y="495"/>
                    </a:lnTo>
                    <a:lnTo>
                      <a:pt x="116" y="492"/>
                    </a:lnTo>
                    <a:lnTo>
                      <a:pt x="118" y="490"/>
                    </a:lnTo>
                    <a:lnTo>
                      <a:pt x="119" y="487"/>
                    </a:lnTo>
                    <a:lnTo>
                      <a:pt x="121" y="485"/>
                    </a:lnTo>
                    <a:lnTo>
                      <a:pt x="121" y="481"/>
                    </a:lnTo>
                    <a:lnTo>
                      <a:pt x="121" y="15"/>
                    </a:lnTo>
                    <a:lnTo>
                      <a:pt x="121" y="11"/>
                    </a:lnTo>
                    <a:lnTo>
                      <a:pt x="119" y="9"/>
                    </a:lnTo>
                    <a:lnTo>
                      <a:pt x="118" y="6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11" y="1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2" y="487"/>
                    </a:lnTo>
                    <a:lnTo>
                      <a:pt x="3" y="490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3" y="497"/>
                    </a:lnTo>
                    <a:lnTo>
                      <a:pt x="17" y="497"/>
                    </a:lnTo>
                    <a:lnTo>
                      <a:pt x="103" y="497"/>
                    </a:lnTo>
                    <a:lnTo>
                      <a:pt x="10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6595920" y="4923360"/>
                <a:ext cx="83880" cy="2775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6595920" y="4923360"/>
                <a:ext cx="1080" cy="27756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6597360" y="4923360"/>
                <a:ext cx="1440" cy="277560"/>
              </a:xfrm>
              <a:prstGeom prst="rect">
                <a:avLst/>
              </a:prstGeom>
              <a:solidFill>
                <a:srgbClr val="b4b4b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6597360" y="4923360"/>
                <a:ext cx="1440" cy="277560"/>
              </a:xfrm>
              <a:prstGeom prst="rect">
                <a:avLst/>
              </a:prstGeom>
              <a:solidFill>
                <a:srgbClr val="b6b6b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6598800" y="4923360"/>
                <a:ext cx="1080" cy="27756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6598800" y="4923360"/>
                <a:ext cx="1080" cy="277560"/>
              </a:xfrm>
              <a:prstGeom prst="rect">
                <a:avLst/>
              </a:prstGeom>
              <a:solidFill>
                <a:srgbClr val="b9b9b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6600240" y="4923360"/>
                <a:ext cx="1440" cy="27756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6601680" y="4923360"/>
                <a:ext cx="1080" cy="277560"/>
              </a:xfrm>
              <a:prstGeom prst="rect">
                <a:avLst/>
              </a:prstGeom>
              <a:solidFill>
                <a:srgbClr val="bcbcb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6601680" y="4923360"/>
                <a:ext cx="108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6602760" y="4923360"/>
                <a:ext cx="1080" cy="277560"/>
              </a:xfrm>
              <a:prstGeom prst="rect">
                <a:avLst/>
              </a:prstGeom>
              <a:solidFill>
                <a:srgbClr val="bfbfb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6604200" y="4923360"/>
                <a:ext cx="144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6604200" y="4923360"/>
                <a:ext cx="1440" cy="277560"/>
              </a:xfrm>
              <a:prstGeom prst="rect">
                <a:avLst/>
              </a:prstGeom>
              <a:solidFill>
                <a:srgbClr val="c2c2c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6605640" y="4923360"/>
                <a:ext cx="1080" cy="277560"/>
              </a:xfrm>
              <a:prstGeom prst="rect">
                <a:avLst/>
              </a:prstGeom>
              <a:solidFill>
                <a:srgbClr val="c4c4c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6605640" y="4923360"/>
                <a:ext cx="1080" cy="277560"/>
              </a:xfrm>
              <a:prstGeom prst="rect">
                <a:avLst/>
              </a:prstGeom>
              <a:solidFill>
                <a:srgbClr val="c5c5c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6606720" y="4923360"/>
                <a:ext cx="1440" cy="277560"/>
              </a:xfrm>
              <a:prstGeom prst="rect">
                <a:avLst/>
              </a:prstGeom>
              <a:solidFill>
                <a:srgbClr val="c7c7c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6608520" y="4923360"/>
                <a:ext cx="1080" cy="277560"/>
              </a:xfrm>
              <a:prstGeom prst="rect">
                <a:avLst/>
              </a:prstGeom>
              <a:solidFill>
                <a:srgbClr val="c9c9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6608520" y="4923360"/>
                <a:ext cx="1080" cy="277560"/>
              </a:xfrm>
              <a:prstGeom prst="rect">
                <a:avLst/>
              </a:prstGeom>
              <a:solidFill>
                <a:srgbClr val="cacac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6609600" y="4923360"/>
                <a:ext cx="1080" cy="277560"/>
              </a:xfrm>
              <a:prstGeom prst="rect">
                <a:avLst/>
              </a:prstGeom>
              <a:solidFill>
                <a:srgbClr val="cc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6611040" y="4923360"/>
                <a:ext cx="1440" cy="2775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6611040" y="4923360"/>
                <a:ext cx="1440" cy="27756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6612480" y="4923360"/>
                <a:ext cx="1080" cy="27756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6612480" y="492336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6613560" y="4923360"/>
                <a:ext cx="1440" cy="27756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6615360" y="4923360"/>
                <a:ext cx="108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6615360" y="4923360"/>
                <a:ext cx="1080" cy="277560"/>
              </a:xfrm>
              <a:prstGeom prst="rect">
                <a:avLst/>
              </a:prstGeom>
              <a:solidFill>
                <a:srgbClr val="d6d6d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6616440" y="4923360"/>
                <a:ext cx="1080" cy="27756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6617520" y="4923360"/>
                <a:ext cx="1440" cy="27756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6617520" y="4923360"/>
                <a:ext cx="1440" cy="27756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6619320" y="4923360"/>
                <a:ext cx="1080" cy="27756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>
                <a:off x="6619320" y="4923360"/>
                <a:ext cx="1080" cy="277560"/>
              </a:xfrm>
              <a:prstGeom prst="rect">
                <a:avLst/>
              </a:prstGeom>
              <a:solidFill>
                <a:srgbClr val="deded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>
                <a:off x="6620400" y="4923360"/>
                <a:ext cx="1440" cy="27756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>
                <a:off x="6621840" y="4923360"/>
                <a:ext cx="1080" cy="277560"/>
              </a:xfrm>
              <a:prstGeom prst="rect">
                <a:avLst/>
              </a:prstGeom>
              <a:solidFill>
                <a:srgbClr val="e2e2e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>
                <a:off x="6621840" y="4923360"/>
                <a:ext cx="1080" cy="27756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>
                <a:off x="6623280" y="4923360"/>
                <a:ext cx="1440" cy="27756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>
                <a:off x="6624720" y="4923360"/>
                <a:ext cx="1080" cy="2775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>
                <a:off x="6624720" y="4923360"/>
                <a:ext cx="1080" cy="277560"/>
              </a:xfrm>
              <a:prstGeom prst="rect">
                <a:avLst/>
              </a:prstGeom>
              <a:solidFill>
                <a:srgbClr val="e8e8e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>
                <a:off x="6626160" y="4923360"/>
                <a:ext cx="108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8" name=""/>
              <p:cNvSpPr/>
              <p:nvPr/>
            </p:nvSpPr>
            <p:spPr>
              <a:xfrm>
                <a:off x="6626160" y="4923360"/>
                <a:ext cx="1080" cy="27756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6627240" y="4923360"/>
                <a:ext cx="144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0" name=""/>
              <p:cNvSpPr/>
              <p:nvPr/>
            </p:nvSpPr>
            <p:spPr>
              <a:xfrm>
                <a:off x="6628680" y="4923360"/>
                <a:ext cx="1080" cy="27756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1" name=""/>
              <p:cNvSpPr/>
              <p:nvPr/>
            </p:nvSpPr>
            <p:spPr>
              <a:xfrm>
                <a:off x="6628680" y="4923360"/>
                <a:ext cx="1080" cy="277560"/>
              </a:xfrm>
              <a:prstGeom prst="rect">
                <a:avLst/>
              </a:prstGeom>
              <a:solidFill>
                <a:srgbClr val="efefe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2" name=""/>
              <p:cNvSpPr/>
              <p:nvPr/>
            </p:nvSpPr>
            <p:spPr>
              <a:xfrm>
                <a:off x="6630120" y="4923360"/>
                <a:ext cx="1440" cy="277560"/>
              </a:xfrm>
              <a:prstGeom prst="rect">
                <a:avLst/>
              </a:prstGeom>
              <a:solidFill>
                <a:srgbClr val="f1f1f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3" name=""/>
              <p:cNvSpPr/>
              <p:nvPr/>
            </p:nvSpPr>
            <p:spPr>
              <a:xfrm>
                <a:off x="6631560" y="4923360"/>
                <a:ext cx="1080" cy="277560"/>
              </a:xfrm>
              <a:prstGeom prst="rect">
                <a:avLst/>
              </a:prstGeom>
              <a:solidFill>
                <a:srgbClr val="f2f2f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4" name=""/>
              <p:cNvSpPr/>
              <p:nvPr/>
            </p:nvSpPr>
            <p:spPr>
              <a:xfrm>
                <a:off x="6631560" y="4923360"/>
                <a:ext cx="1080" cy="277560"/>
              </a:xfrm>
              <a:prstGeom prst="rect">
                <a:avLst/>
              </a:prstGeom>
              <a:solidFill>
                <a:srgbClr val="f4f4f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6632640" y="4923360"/>
                <a:ext cx="1080" cy="277560"/>
              </a:xfrm>
              <a:prstGeom prst="rect">
                <a:avLst/>
              </a:prstGeom>
              <a:solidFill>
                <a:srgbClr val="f6f6f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6632640" y="4923360"/>
                <a:ext cx="1080" cy="277560"/>
              </a:xfrm>
              <a:prstGeom prst="rect">
                <a:avLst/>
              </a:prstGeom>
              <a:solidFill>
                <a:srgbClr val="f7f7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6634080" y="4923360"/>
                <a:ext cx="1440" cy="277560"/>
              </a:xfrm>
              <a:prstGeom prst="rect">
                <a:avLst/>
              </a:prstGeom>
              <a:solidFill>
                <a:srgbClr val="f9f9f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6635520" y="4923360"/>
                <a:ext cx="1080" cy="277560"/>
              </a:xfrm>
              <a:prstGeom prst="rect">
                <a:avLst/>
              </a:prstGeom>
              <a:solidFill>
                <a:srgbClr val="fafaf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6635520" y="4923360"/>
                <a:ext cx="1080" cy="277560"/>
              </a:xfrm>
              <a:prstGeom prst="rect">
                <a:avLst/>
              </a:prstGeom>
              <a:solidFill>
                <a:srgbClr val="fcfcf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6636960" y="4923360"/>
                <a:ext cx="1440" cy="277560"/>
              </a:xfrm>
              <a:prstGeom prst="rect">
                <a:avLst/>
              </a:prstGeom>
              <a:solidFill>
                <a:srgbClr val="fdfdf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6638400" y="4923360"/>
                <a:ext cx="1080" cy="277560"/>
              </a:xfrm>
              <a:prstGeom prst="rect">
                <a:avLst/>
              </a:prstGeom>
              <a:solidFill>
                <a:srgbClr val="fefef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6639480" y="4923360"/>
                <a:ext cx="1080" cy="277560"/>
              </a:xfrm>
              <a:prstGeom prst="rect">
                <a:avLst/>
              </a:prstGeom>
              <a:solidFill>
                <a:srgbClr val="fdfdf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6640920" y="4923360"/>
                <a:ext cx="1440" cy="277560"/>
              </a:xfrm>
              <a:prstGeom prst="rect">
                <a:avLst/>
              </a:prstGeom>
              <a:solidFill>
                <a:srgbClr val="fbfbf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6640920" y="4923360"/>
                <a:ext cx="1440" cy="277560"/>
              </a:xfrm>
              <a:prstGeom prst="rect">
                <a:avLst/>
              </a:prstGeom>
              <a:solidFill>
                <a:srgbClr val="fafaf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6642360" y="4923360"/>
                <a:ext cx="1080" cy="2775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6642360" y="4923360"/>
                <a:ext cx="1080" cy="277560"/>
              </a:xfrm>
              <a:prstGeom prst="rect">
                <a:avLst/>
              </a:prstGeom>
              <a:solidFill>
                <a:srgbClr val="f7f7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6643440" y="4923360"/>
                <a:ext cx="1440" cy="277560"/>
              </a:xfrm>
              <a:prstGeom prst="rect">
                <a:avLst/>
              </a:prstGeom>
              <a:solidFill>
                <a:srgbClr val="f5f5f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6645240" y="4923360"/>
                <a:ext cx="1080" cy="277560"/>
              </a:xfrm>
              <a:prstGeom prst="rect">
                <a:avLst/>
              </a:prstGeom>
              <a:solidFill>
                <a:srgbClr val="f4f4f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6645240" y="4923360"/>
                <a:ext cx="1080" cy="277560"/>
              </a:xfrm>
              <a:prstGeom prst="rect">
                <a:avLst/>
              </a:prstGeom>
              <a:solidFill>
                <a:srgbClr val="f2f2f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6646320" y="4923360"/>
                <a:ext cx="1080" cy="277560"/>
              </a:xfrm>
              <a:prstGeom prst="rect">
                <a:avLst/>
              </a:prstGeom>
              <a:solidFill>
                <a:srgbClr val="f0f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6647760" y="4923360"/>
                <a:ext cx="1440" cy="277560"/>
              </a:xfrm>
              <a:prstGeom prst="rect">
                <a:avLst/>
              </a:prstGeom>
              <a:solidFill>
                <a:srgbClr val="efefe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6647760" y="4923360"/>
                <a:ext cx="1440" cy="277560"/>
              </a:xfrm>
              <a:prstGeom prst="rect">
                <a:avLst/>
              </a:prstGeom>
              <a:solidFill>
                <a:srgbClr val="edede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6649200" y="4923360"/>
                <a:ext cx="108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>
                <a:off x="6649200" y="4923360"/>
                <a:ext cx="1080" cy="27756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>
                <a:off x="6650280" y="4923360"/>
                <a:ext cx="144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>
                <a:off x="6652080" y="4923360"/>
                <a:ext cx="1080" cy="277560"/>
              </a:xfrm>
              <a:prstGeom prst="rect">
                <a:avLst/>
              </a:prstGeom>
              <a:solidFill>
                <a:srgbClr val="e7e7e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>
                <a:off x="6652080" y="4923360"/>
                <a:ext cx="1080" cy="2775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>
                <a:off x="6653160" y="4923360"/>
                <a:ext cx="1440" cy="277560"/>
              </a:xfrm>
              <a:prstGeom prst="rect">
                <a:avLst/>
              </a:prstGeom>
              <a:solidFill>
                <a:srgbClr val="e4e4e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>
                <a:off x="6654600" y="4923360"/>
                <a:ext cx="1080" cy="27756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>
                <a:off x="6654600" y="4923360"/>
                <a:ext cx="1080" cy="27756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>
                <a:off x="6656040" y="4923360"/>
                <a:ext cx="1080" cy="27756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6656040" y="4923360"/>
                <a:ext cx="1080" cy="277560"/>
              </a:xfrm>
              <a:prstGeom prst="rect">
                <a:avLst/>
              </a:prstGeom>
              <a:solidFill>
                <a:srgbClr val="deded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6657120" y="4923360"/>
                <a:ext cx="1440" cy="277560"/>
              </a:xfrm>
              <a:prstGeom prst="rect">
                <a:avLst/>
              </a:prstGeom>
              <a:solidFill>
                <a:srgbClr val="dcdcd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6658560" y="4923360"/>
                <a:ext cx="1080" cy="27756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6658560" y="4923360"/>
                <a:ext cx="1080" cy="27756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6660000" y="4923360"/>
                <a:ext cx="1440" cy="27756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7" name=""/>
              <p:cNvSpPr/>
              <p:nvPr/>
            </p:nvSpPr>
            <p:spPr>
              <a:xfrm>
                <a:off x="6661440" y="4923360"/>
                <a:ext cx="1080" cy="277560"/>
              </a:xfrm>
              <a:prstGeom prst="rect">
                <a:avLst/>
              </a:prstGeom>
              <a:solidFill>
                <a:srgbClr val="d6d6d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8" name=""/>
              <p:cNvSpPr/>
              <p:nvPr/>
            </p:nvSpPr>
            <p:spPr>
              <a:xfrm>
                <a:off x="6661440" y="4923360"/>
                <a:ext cx="108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9" name=""/>
              <p:cNvSpPr/>
              <p:nvPr/>
            </p:nvSpPr>
            <p:spPr>
              <a:xfrm>
                <a:off x="6662880" y="4923360"/>
                <a:ext cx="1080" cy="27756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0" name=""/>
              <p:cNvSpPr/>
              <p:nvPr/>
            </p:nvSpPr>
            <p:spPr>
              <a:xfrm>
                <a:off x="6662880" y="492336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1" name=""/>
              <p:cNvSpPr/>
              <p:nvPr/>
            </p:nvSpPr>
            <p:spPr>
              <a:xfrm>
                <a:off x="6663960" y="4923360"/>
                <a:ext cx="1440" cy="277560"/>
              </a:xfrm>
              <a:prstGeom prst="rect">
                <a:avLst/>
              </a:prstGeom>
              <a:solidFill>
                <a:srgbClr val="d0d0d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2" name=""/>
              <p:cNvSpPr/>
              <p:nvPr/>
            </p:nvSpPr>
            <p:spPr>
              <a:xfrm>
                <a:off x="6665400" y="4923360"/>
                <a:ext cx="1080" cy="27756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3" name=""/>
              <p:cNvSpPr/>
              <p:nvPr/>
            </p:nvSpPr>
            <p:spPr>
              <a:xfrm>
                <a:off x="6665400" y="4923360"/>
                <a:ext cx="1080" cy="2775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4" name=""/>
              <p:cNvSpPr/>
              <p:nvPr/>
            </p:nvSpPr>
            <p:spPr>
              <a:xfrm>
                <a:off x="6666840" y="4923360"/>
                <a:ext cx="1440" cy="277560"/>
              </a:xfrm>
              <a:prstGeom prst="rect">
                <a:avLst/>
              </a:prstGeom>
              <a:solidFill>
                <a:srgbClr val="cbcbc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5" name=""/>
              <p:cNvSpPr/>
              <p:nvPr/>
            </p:nvSpPr>
            <p:spPr>
              <a:xfrm>
                <a:off x="6668280" y="4923360"/>
                <a:ext cx="1080" cy="277560"/>
              </a:xfrm>
              <a:prstGeom prst="rect">
                <a:avLst/>
              </a:prstGeom>
              <a:solidFill>
                <a:srgbClr val="cacac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6" name=""/>
              <p:cNvSpPr/>
              <p:nvPr/>
            </p:nvSpPr>
            <p:spPr>
              <a:xfrm>
                <a:off x="6668280" y="4923360"/>
                <a:ext cx="1080" cy="277560"/>
              </a:xfrm>
              <a:prstGeom prst="rect">
                <a:avLst/>
              </a:prstGeom>
              <a:solidFill>
                <a:srgbClr val="c8c8c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7" name=""/>
              <p:cNvSpPr/>
              <p:nvPr/>
            </p:nvSpPr>
            <p:spPr>
              <a:xfrm>
                <a:off x="6669360" y="4923360"/>
                <a:ext cx="1080" cy="27756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8" name=""/>
              <p:cNvSpPr/>
              <p:nvPr/>
            </p:nvSpPr>
            <p:spPr>
              <a:xfrm>
                <a:off x="6669360" y="4923360"/>
                <a:ext cx="1080" cy="277560"/>
              </a:xfrm>
              <a:prstGeom prst="rect">
                <a:avLst/>
              </a:prstGeom>
              <a:solidFill>
                <a:srgbClr val="c5c5c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9" name=""/>
              <p:cNvSpPr/>
              <p:nvPr/>
            </p:nvSpPr>
            <p:spPr>
              <a:xfrm>
                <a:off x="6670800" y="4923360"/>
                <a:ext cx="1440" cy="277560"/>
              </a:xfrm>
              <a:prstGeom prst="rect">
                <a:avLst/>
              </a:prstGeom>
              <a:solidFill>
                <a:srgbClr val="c3c3c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0" name=""/>
              <p:cNvSpPr/>
              <p:nvPr/>
            </p:nvSpPr>
            <p:spPr>
              <a:xfrm>
                <a:off x="6672240" y="4923360"/>
                <a:ext cx="1080" cy="277560"/>
              </a:xfrm>
              <a:prstGeom prst="rect">
                <a:avLst/>
              </a:prstGeom>
              <a:solidFill>
                <a:srgbClr val="c2c2c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1" name=""/>
              <p:cNvSpPr/>
              <p:nvPr/>
            </p:nvSpPr>
            <p:spPr>
              <a:xfrm>
                <a:off x="6672240" y="4923360"/>
                <a:ext cx="108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2" name=""/>
              <p:cNvSpPr/>
              <p:nvPr/>
            </p:nvSpPr>
            <p:spPr>
              <a:xfrm>
                <a:off x="6673680" y="4923360"/>
                <a:ext cx="1440" cy="277560"/>
              </a:xfrm>
              <a:prstGeom prst="rect">
                <a:avLst/>
              </a:prstGeom>
              <a:solidFill>
                <a:srgbClr val="bfbfb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3" name=""/>
              <p:cNvSpPr/>
              <p:nvPr/>
            </p:nvSpPr>
            <p:spPr>
              <a:xfrm>
                <a:off x="6675120" y="4923360"/>
                <a:ext cx="108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4" name=""/>
              <p:cNvSpPr/>
              <p:nvPr/>
            </p:nvSpPr>
            <p:spPr>
              <a:xfrm>
                <a:off x="6675120" y="4923360"/>
                <a:ext cx="1080" cy="277560"/>
              </a:xfrm>
              <a:prstGeom prst="rect">
                <a:avLst/>
              </a:prstGeom>
              <a:solidFill>
                <a:srgbClr val="bcbcb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6676200" y="4923360"/>
                <a:ext cx="1080" cy="277560"/>
              </a:xfrm>
              <a:prstGeom prst="rect">
                <a:avLst/>
              </a:prstGeom>
              <a:solidFill>
                <a:srgbClr val="babab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6" name=""/>
              <p:cNvSpPr/>
              <p:nvPr/>
            </p:nvSpPr>
            <p:spPr>
              <a:xfrm>
                <a:off x="6676200" y="4923360"/>
                <a:ext cx="1080" cy="277560"/>
              </a:xfrm>
              <a:prstGeom prst="rect">
                <a:avLst/>
              </a:prstGeom>
              <a:solidFill>
                <a:srgbClr val="b9b9b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7" name=""/>
              <p:cNvSpPr/>
              <p:nvPr/>
            </p:nvSpPr>
            <p:spPr>
              <a:xfrm>
                <a:off x="6677640" y="4923360"/>
                <a:ext cx="1440" cy="277560"/>
              </a:xfrm>
              <a:prstGeom prst="rect">
                <a:avLst/>
              </a:prstGeom>
              <a:solidFill>
                <a:srgbClr val="b7b7b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8" name=""/>
              <p:cNvSpPr/>
              <p:nvPr/>
            </p:nvSpPr>
            <p:spPr>
              <a:xfrm>
                <a:off x="6679080" y="4923360"/>
                <a:ext cx="1080" cy="277560"/>
              </a:xfrm>
              <a:prstGeom prst="rect">
                <a:avLst/>
              </a:prstGeom>
              <a:solidFill>
                <a:srgbClr val="b6b6b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9" name=""/>
              <p:cNvSpPr/>
              <p:nvPr/>
            </p:nvSpPr>
            <p:spPr>
              <a:xfrm>
                <a:off x="6679080" y="4923360"/>
                <a:ext cx="2520" cy="277560"/>
              </a:xfrm>
              <a:prstGeom prst="rect">
                <a:avLst/>
              </a:prstGeom>
              <a:solidFill>
                <a:srgbClr val="b4b4b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0" name=""/>
              <p:cNvSpPr/>
              <p:nvPr/>
            </p:nvSpPr>
            <p:spPr>
              <a:xfrm>
                <a:off x="6597360" y="4924440"/>
                <a:ext cx="81720" cy="275400"/>
              </a:xfrm>
              <a:custGeom>
                <a:avLst/>
                <a:gdLst/>
                <a:ahLst/>
                <a:rect l="l" t="t" r="r" b="b"/>
                <a:pathLst>
                  <a:path w="122" h="496">
                    <a:moveTo>
                      <a:pt x="104" y="496"/>
                    </a:moveTo>
                    <a:lnTo>
                      <a:pt x="108" y="496"/>
                    </a:lnTo>
                    <a:lnTo>
                      <a:pt x="110" y="495"/>
                    </a:lnTo>
                    <a:lnTo>
                      <a:pt x="114" y="494"/>
                    </a:lnTo>
                    <a:lnTo>
                      <a:pt x="117" y="492"/>
                    </a:lnTo>
                    <a:lnTo>
                      <a:pt x="118" y="490"/>
                    </a:lnTo>
                    <a:lnTo>
                      <a:pt x="120" y="486"/>
                    </a:lnTo>
                    <a:lnTo>
                      <a:pt x="120" y="483"/>
                    </a:lnTo>
                    <a:lnTo>
                      <a:pt x="122" y="481"/>
                    </a:lnTo>
                    <a:lnTo>
                      <a:pt x="122" y="15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18" y="6"/>
                    </a:lnTo>
                    <a:lnTo>
                      <a:pt x="117" y="4"/>
                    </a:lnTo>
                    <a:lnTo>
                      <a:pt x="114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1" y="483"/>
                    </a:lnTo>
                    <a:lnTo>
                      <a:pt x="1" y="486"/>
                    </a:lnTo>
                    <a:lnTo>
                      <a:pt x="4" y="490"/>
                    </a:lnTo>
                    <a:lnTo>
                      <a:pt x="5" y="492"/>
                    </a:lnTo>
                    <a:lnTo>
                      <a:pt x="8" y="494"/>
                    </a:lnTo>
                    <a:lnTo>
                      <a:pt x="11" y="495"/>
                    </a:lnTo>
                    <a:lnTo>
                      <a:pt x="14" y="496"/>
                    </a:lnTo>
                    <a:lnTo>
                      <a:pt x="18" y="496"/>
                    </a:lnTo>
                    <a:lnTo>
                      <a:pt x="104" y="496"/>
                    </a:lnTo>
                    <a:lnTo>
                      <a:pt x="104" y="49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1" name=""/>
              <p:cNvSpPr/>
              <p:nvPr/>
            </p:nvSpPr>
            <p:spPr>
              <a:xfrm>
                <a:off x="2492280" y="4533480"/>
                <a:ext cx="4189320" cy="67536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5" y="677"/>
                    </a:lnTo>
                    <a:lnTo>
                      <a:pt x="125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2" name=""/>
              <p:cNvSpPr/>
              <p:nvPr/>
            </p:nvSpPr>
            <p:spPr>
              <a:xfrm>
                <a:off x="2490840" y="4532400"/>
                <a:ext cx="131760" cy="6775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3" name=""/>
              <p:cNvSpPr/>
              <p:nvPr/>
            </p:nvSpPr>
            <p:spPr>
              <a:xfrm>
                <a:off x="2622600" y="4532400"/>
                <a:ext cx="175320" cy="67752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4" name=""/>
              <p:cNvSpPr/>
              <p:nvPr/>
            </p:nvSpPr>
            <p:spPr>
              <a:xfrm>
                <a:off x="2798280" y="4532400"/>
                <a:ext cx="173880" cy="67752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5" name=""/>
              <p:cNvSpPr/>
              <p:nvPr/>
            </p:nvSpPr>
            <p:spPr>
              <a:xfrm>
                <a:off x="2972160" y="4532400"/>
                <a:ext cx="175320" cy="67752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3147840" y="4532400"/>
                <a:ext cx="163080" cy="67752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3310920" y="4532400"/>
                <a:ext cx="130680" cy="67752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3441600" y="4532400"/>
                <a:ext cx="142560" cy="67752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3584520" y="4532400"/>
                <a:ext cx="173880" cy="67752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>
                <a:off x="3758400" y="4532400"/>
                <a:ext cx="175320" cy="6775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>
                <a:off x="3934080" y="4532400"/>
                <a:ext cx="174240" cy="67752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4108320" y="4532400"/>
                <a:ext cx="174960" cy="67752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4283640" y="4532400"/>
                <a:ext cx="174240" cy="67752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4457880" y="4532400"/>
                <a:ext cx="351000" cy="67752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4808880" y="4532400"/>
                <a:ext cx="174960" cy="67752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>
                <a:off x="4983840" y="4532400"/>
                <a:ext cx="172440" cy="67752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5156640" y="4532400"/>
                <a:ext cx="175320" cy="67752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5332320" y="4532400"/>
                <a:ext cx="175320" cy="6775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>
                <a:off x="5507640" y="4532400"/>
                <a:ext cx="163080" cy="67752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5671080" y="4532400"/>
                <a:ext cx="131760" cy="67752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>
                <a:off x="5802840" y="4532400"/>
                <a:ext cx="141480" cy="67752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>
                <a:off x="5944680" y="4532400"/>
                <a:ext cx="175320" cy="67752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6120000" y="4532400"/>
                <a:ext cx="173880" cy="67752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4" name=""/>
              <p:cNvSpPr/>
              <p:nvPr/>
            </p:nvSpPr>
            <p:spPr>
              <a:xfrm>
                <a:off x="6294240" y="4532400"/>
                <a:ext cx="173880" cy="67752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5" name=""/>
              <p:cNvSpPr/>
              <p:nvPr/>
            </p:nvSpPr>
            <p:spPr>
              <a:xfrm>
                <a:off x="6468120" y="4532400"/>
                <a:ext cx="175320" cy="67752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6" name=""/>
              <p:cNvSpPr/>
              <p:nvPr/>
            </p:nvSpPr>
            <p:spPr>
              <a:xfrm>
                <a:off x="6643440" y="4532400"/>
                <a:ext cx="38160" cy="6775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7" name=""/>
              <p:cNvSpPr/>
              <p:nvPr/>
            </p:nvSpPr>
            <p:spPr>
              <a:xfrm>
                <a:off x="2492280" y="4533480"/>
                <a:ext cx="4189320" cy="67536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4" y="677"/>
                    </a:lnTo>
                    <a:lnTo>
                      <a:pt x="124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8" name=""/>
              <p:cNvSpPr/>
              <p:nvPr/>
            </p:nvSpPr>
            <p:spPr>
              <a:xfrm>
                <a:off x="2499120" y="4538880"/>
                <a:ext cx="4174200" cy="664200"/>
              </a:xfrm>
              <a:custGeom>
                <a:avLst/>
                <a:gdLst/>
                <a:ahLst/>
                <a:rect l="l" t="t" r="r" b="b"/>
                <a:pathLst>
                  <a:path w="6138" h="1196">
                    <a:moveTo>
                      <a:pt x="0" y="0"/>
                    </a:moveTo>
                    <a:lnTo>
                      <a:pt x="0" y="656"/>
                    </a:lnTo>
                    <a:lnTo>
                      <a:pt x="125" y="656"/>
                    </a:lnTo>
                    <a:lnTo>
                      <a:pt x="125" y="1196"/>
                    </a:lnTo>
                    <a:lnTo>
                      <a:pt x="6010" y="1196"/>
                    </a:lnTo>
                    <a:lnTo>
                      <a:pt x="6010" y="656"/>
                    </a:lnTo>
                    <a:lnTo>
                      <a:pt x="6138" y="656"/>
                    </a:lnTo>
                    <a:lnTo>
                      <a:pt x="613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9" name=""/>
              <p:cNvSpPr/>
              <p:nvPr/>
            </p:nvSpPr>
            <p:spPr>
              <a:xfrm>
                <a:off x="3958200" y="4916520"/>
                <a:ext cx="756360" cy="270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solidFill>
                <a:srgbClr val="f8f8f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0" name=""/>
              <p:cNvSpPr/>
              <p:nvPr/>
            </p:nvSpPr>
            <p:spPr>
              <a:xfrm>
                <a:off x="3958200" y="4916520"/>
                <a:ext cx="756360" cy="270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1" name=""/>
              <p:cNvSpPr/>
              <p:nvPr/>
            </p:nvSpPr>
            <p:spPr>
              <a:xfrm>
                <a:off x="3792240" y="4636800"/>
                <a:ext cx="171360" cy="5508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  <a:close/>
                  </a:path>
                </a:pathLst>
              </a:custGeom>
              <a:solidFill>
                <a:srgbClr val="66666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2" name=""/>
              <p:cNvSpPr/>
              <p:nvPr/>
            </p:nvSpPr>
            <p:spPr>
              <a:xfrm>
                <a:off x="3792240" y="4636800"/>
                <a:ext cx="171360" cy="5508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3" name=""/>
              <p:cNvSpPr/>
              <p:nvPr/>
            </p:nvSpPr>
            <p:spPr>
              <a:xfrm>
                <a:off x="6159240" y="5014440"/>
                <a:ext cx="292320" cy="1731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4" name=""/>
              <p:cNvSpPr/>
              <p:nvPr/>
            </p:nvSpPr>
            <p:spPr>
              <a:xfrm>
                <a:off x="5506560" y="5014440"/>
                <a:ext cx="817200" cy="173160"/>
              </a:xfrm>
              <a:custGeom>
                <a:avLst/>
                <a:gdLst/>
                <a:ahLst/>
                <a:rect l="l" t="t" r="r" b="b"/>
                <a:pathLst>
                  <a:path w="1201" h="311">
                    <a:moveTo>
                      <a:pt x="0" y="311"/>
                    </a:moveTo>
                    <a:lnTo>
                      <a:pt x="491" y="311"/>
                    </a:lnTo>
                    <a:lnTo>
                      <a:pt x="49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  <a:moveTo>
                      <a:pt x="1201" y="8"/>
                    </a:moveTo>
                    <a:lnTo>
                      <a:pt x="973" y="8"/>
                    </a:lnTo>
                    <a:lnTo>
                      <a:pt x="973" y="193"/>
                    </a:lnTo>
                    <a:lnTo>
                      <a:pt x="1201" y="193"/>
                    </a:lnTo>
                    <a:lnTo>
                      <a:pt x="1201" y="8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5" name=""/>
              <p:cNvSpPr/>
              <p:nvPr/>
            </p:nvSpPr>
            <p:spPr>
              <a:xfrm>
                <a:off x="3848400" y="4636800"/>
                <a:ext cx="61200" cy="55080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3848400" y="4636800"/>
                <a:ext cx="61200" cy="550800"/>
              </a:xfrm>
              <a:prstGeom prst="rect">
                <a:avLst/>
              </a:pr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047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828160" y="4565880"/>
                <a:ext cx="960120" cy="5263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048" name=""/>
              <p:cNvSpPr/>
              <p:nvPr/>
            </p:nvSpPr>
            <p:spPr>
              <a:xfrm>
                <a:off x="2841840" y="4571280"/>
                <a:ext cx="943560" cy="517320"/>
              </a:xfrm>
              <a:prstGeom prst="rect">
                <a:avLst/>
              </a:prstGeom>
              <a:noFill/>
              <a:ln w="324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3823920" y="496872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3822840" y="500868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3946320" y="496872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3919320" y="500868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3871440" y="496872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3871800" y="500868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3823920" y="48056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3822840" y="484668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3946320" y="48056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3927600" y="4846680"/>
                <a:ext cx="45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3871440" y="48056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3873600" y="4846680"/>
                <a:ext cx="4176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3823920" y="46623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3822840" y="468468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3871440" y="46623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5064" name=""/>
            <p:cNvGrpSpPr/>
            <p:nvPr/>
          </p:nvGrpSpPr>
          <p:grpSpPr>
            <a:xfrm>
              <a:off x="2606760" y="4565520"/>
              <a:ext cx="3955320" cy="645840"/>
              <a:chOff x="2606760" y="4565520"/>
              <a:chExt cx="3955320" cy="645840"/>
            </a:xfrm>
          </p:grpSpPr>
          <p:sp>
            <p:nvSpPr>
              <p:cNvPr id="5065" name=""/>
              <p:cNvSpPr/>
              <p:nvPr/>
            </p:nvSpPr>
            <p:spPr>
              <a:xfrm>
                <a:off x="3876480" y="4684320"/>
                <a:ext cx="4176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3879360" y="494856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3875040" y="470304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3875040" y="484632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3927240" y="478404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3803400" y="462204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3880440" y="4622040"/>
                <a:ext cx="694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3985920" y="4586400"/>
                <a:ext cx="713880" cy="545040"/>
              </a:xfrm>
              <a:custGeom>
                <a:avLst/>
                <a:gdLst/>
                <a:ahLst/>
                <a:rect l="l" t="t" r="r" b="b"/>
                <a:pathLst>
                  <a:path w="1050" h="984">
                    <a:moveTo>
                      <a:pt x="833" y="984"/>
                    </a:moveTo>
                    <a:lnTo>
                      <a:pt x="1050" y="984"/>
                    </a:lnTo>
                    <a:lnTo>
                      <a:pt x="1050" y="0"/>
                    </a:lnTo>
                    <a:lnTo>
                      <a:pt x="0" y="0"/>
                    </a:lnTo>
                    <a:lnTo>
                      <a:pt x="0" y="984"/>
                    </a:lnTo>
                    <a:lnTo>
                      <a:pt x="218" y="984"/>
                    </a:lnTo>
                    <a:lnTo>
                      <a:pt x="218" y="584"/>
                    </a:lnTo>
                    <a:lnTo>
                      <a:pt x="833" y="584"/>
                    </a:lnTo>
                    <a:lnTo>
                      <a:pt x="833" y="984"/>
                    </a:lnTo>
                    <a:lnTo>
                      <a:pt x="833" y="98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07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3961440" y="4565520"/>
                <a:ext cx="738720" cy="56628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074" name=""/>
              <p:cNvSpPr/>
              <p:nvPr/>
            </p:nvSpPr>
            <p:spPr>
              <a:xfrm>
                <a:off x="3976560" y="4572000"/>
                <a:ext cx="724680" cy="554040"/>
              </a:xfrm>
              <a:custGeom>
                <a:avLst/>
                <a:gdLst/>
                <a:ahLst/>
                <a:rect l="l" t="t" r="r" b="b"/>
                <a:pathLst>
                  <a:path w="1068" h="998">
                    <a:moveTo>
                      <a:pt x="840" y="998"/>
                    </a:moveTo>
                    <a:lnTo>
                      <a:pt x="1068" y="998"/>
                    </a:lnTo>
                    <a:lnTo>
                      <a:pt x="1068" y="0"/>
                    </a:lnTo>
                    <a:lnTo>
                      <a:pt x="0" y="0"/>
                    </a:lnTo>
                    <a:lnTo>
                      <a:pt x="0" y="998"/>
                    </a:lnTo>
                    <a:lnTo>
                      <a:pt x="226" y="998"/>
                    </a:lnTo>
                    <a:lnTo>
                      <a:pt x="226" y="606"/>
                    </a:lnTo>
                    <a:lnTo>
                      <a:pt x="840" y="606"/>
                    </a:lnTo>
                    <a:lnTo>
                      <a:pt x="840" y="998"/>
                    </a:lnTo>
                  </a:path>
                </a:pathLst>
              </a:custGeom>
              <a:noFill/>
              <a:ln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4226760" y="491616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  <a:moveTo>
                      <a:pt x="0" y="374"/>
                    </a:moveTo>
                    <a:lnTo>
                      <a:pt x="0" y="374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  <a:moveTo>
                      <a:pt x="309" y="374"/>
                    </a:moveTo>
                    <a:lnTo>
                      <a:pt x="309" y="374"/>
                    </a:lnTo>
                    <a:lnTo>
                      <a:pt x="309" y="374"/>
                    </a:lnTo>
                    <a:lnTo>
                      <a:pt x="309" y="374"/>
                    </a:lnTo>
                    <a:close/>
                  </a:path>
                </a:pathLst>
              </a:custGeom>
              <a:solidFill>
                <a:srgbClr val="1a1a1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4226760" y="491616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4226760" y="5123880"/>
                <a:ext cx="0" cy="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4435920" y="5123880"/>
                <a:ext cx="0" cy="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4252680" y="4920840"/>
                <a:ext cx="156240" cy="20304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4240080" y="4910760"/>
                <a:ext cx="182160" cy="223200"/>
              </a:xfrm>
              <a:custGeom>
                <a:avLst/>
                <a:gdLst/>
                <a:ahLst/>
                <a:rect l="l" t="t" r="r" b="b"/>
                <a:pathLst>
                  <a:path w="269" h="401">
                    <a:moveTo>
                      <a:pt x="37" y="56"/>
                    </a:moveTo>
                    <a:lnTo>
                      <a:pt x="37" y="311"/>
                    </a:lnTo>
                    <a:lnTo>
                      <a:pt x="37" y="314"/>
                    </a:lnTo>
                    <a:lnTo>
                      <a:pt x="36" y="317"/>
                    </a:lnTo>
                    <a:lnTo>
                      <a:pt x="34" y="321"/>
                    </a:lnTo>
                    <a:lnTo>
                      <a:pt x="32" y="323"/>
                    </a:lnTo>
                    <a:lnTo>
                      <a:pt x="29" y="326"/>
                    </a:lnTo>
                    <a:lnTo>
                      <a:pt x="27" y="327"/>
                    </a:lnTo>
                    <a:lnTo>
                      <a:pt x="23" y="328"/>
                    </a:lnTo>
                    <a:lnTo>
                      <a:pt x="19" y="328"/>
                    </a:lnTo>
                    <a:lnTo>
                      <a:pt x="15" y="328"/>
                    </a:lnTo>
                    <a:lnTo>
                      <a:pt x="12" y="327"/>
                    </a:lnTo>
                    <a:lnTo>
                      <a:pt x="9" y="326"/>
                    </a:lnTo>
                    <a:lnTo>
                      <a:pt x="7" y="323"/>
                    </a:lnTo>
                    <a:lnTo>
                      <a:pt x="4" y="321"/>
                    </a:lnTo>
                    <a:lnTo>
                      <a:pt x="3" y="317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9" y="37"/>
                    </a:lnTo>
                    <a:lnTo>
                      <a:pt x="23" y="38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4" y="45"/>
                    </a:lnTo>
                    <a:lnTo>
                      <a:pt x="36" y="48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  <a:moveTo>
                      <a:pt x="127" y="365"/>
                    </a:moveTo>
                    <a:lnTo>
                      <a:pt x="250" y="365"/>
                    </a:lnTo>
                    <a:lnTo>
                      <a:pt x="232" y="384"/>
                    </a:lnTo>
                    <a:lnTo>
                      <a:pt x="232" y="251"/>
                    </a:lnTo>
                    <a:lnTo>
                      <a:pt x="232" y="247"/>
                    </a:lnTo>
                    <a:lnTo>
                      <a:pt x="234" y="244"/>
                    </a:lnTo>
                    <a:lnTo>
                      <a:pt x="235" y="240"/>
                    </a:lnTo>
                    <a:lnTo>
                      <a:pt x="237" y="237"/>
                    </a:lnTo>
                    <a:lnTo>
                      <a:pt x="240" y="236"/>
                    </a:lnTo>
                    <a:lnTo>
                      <a:pt x="244" y="235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4" y="234"/>
                    </a:lnTo>
                    <a:lnTo>
                      <a:pt x="257" y="235"/>
                    </a:lnTo>
                    <a:lnTo>
                      <a:pt x="261" y="236"/>
                    </a:lnTo>
                    <a:lnTo>
                      <a:pt x="264" y="237"/>
                    </a:lnTo>
                    <a:lnTo>
                      <a:pt x="265" y="240"/>
                    </a:lnTo>
                    <a:lnTo>
                      <a:pt x="267" y="244"/>
                    </a:lnTo>
                    <a:lnTo>
                      <a:pt x="267" y="247"/>
                    </a:lnTo>
                    <a:lnTo>
                      <a:pt x="269" y="251"/>
                    </a:lnTo>
                    <a:lnTo>
                      <a:pt x="269" y="384"/>
                    </a:lnTo>
                    <a:lnTo>
                      <a:pt x="267" y="386"/>
                    </a:lnTo>
                    <a:lnTo>
                      <a:pt x="267" y="390"/>
                    </a:lnTo>
                    <a:lnTo>
                      <a:pt x="265" y="393"/>
                    </a:lnTo>
                    <a:lnTo>
                      <a:pt x="264" y="396"/>
                    </a:lnTo>
                    <a:lnTo>
                      <a:pt x="261" y="398"/>
                    </a:lnTo>
                    <a:lnTo>
                      <a:pt x="257" y="400"/>
                    </a:lnTo>
                    <a:lnTo>
                      <a:pt x="254" y="401"/>
                    </a:lnTo>
                    <a:lnTo>
                      <a:pt x="250" y="401"/>
                    </a:lnTo>
                    <a:lnTo>
                      <a:pt x="127" y="401"/>
                    </a:lnTo>
                    <a:lnTo>
                      <a:pt x="124" y="401"/>
                    </a:lnTo>
                    <a:lnTo>
                      <a:pt x="121" y="400"/>
                    </a:lnTo>
                    <a:lnTo>
                      <a:pt x="118" y="398"/>
                    </a:lnTo>
                    <a:lnTo>
                      <a:pt x="116" y="396"/>
                    </a:lnTo>
                    <a:lnTo>
                      <a:pt x="113" y="393"/>
                    </a:lnTo>
                    <a:lnTo>
                      <a:pt x="111" y="390"/>
                    </a:lnTo>
                    <a:lnTo>
                      <a:pt x="109" y="386"/>
                    </a:lnTo>
                    <a:lnTo>
                      <a:pt x="109" y="384"/>
                    </a:lnTo>
                    <a:lnTo>
                      <a:pt x="109" y="379"/>
                    </a:lnTo>
                    <a:lnTo>
                      <a:pt x="111" y="376"/>
                    </a:lnTo>
                    <a:lnTo>
                      <a:pt x="113" y="372"/>
                    </a:lnTo>
                    <a:lnTo>
                      <a:pt x="116" y="370"/>
                    </a:lnTo>
                    <a:lnTo>
                      <a:pt x="118" y="367"/>
                    </a:lnTo>
                    <a:lnTo>
                      <a:pt x="121" y="366"/>
                    </a:lnTo>
                    <a:lnTo>
                      <a:pt x="124" y="365"/>
                    </a:lnTo>
                    <a:lnTo>
                      <a:pt x="127" y="365"/>
                    </a:lnTo>
                    <a:lnTo>
                      <a:pt x="127" y="365"/>
                    </a:lnTo>
                    <a:close/>
                    <a:moveTo>
                      <a:pt x="232" y="69"/>
                    </a:moveTo>
                    <a:lnTo>
                      <a:pt x="232" y="19"/>
                    </a:lnTo>
                    <a:lnTo>
                      <a:pt x="250" y="37"/>
                    </a:lnTo>
                    <a:lnTo>
                      <a:pt x="46" y="37"/>
                    </a:lnTo>
                    <a:lnTo>
                      <a:pt x="43" y="37"/>
                    </a:lnTo>
                    <a:lnTo>
                      <a:pt x="39" y="35"/>
                    </a:lnTo>
                    <a:lnTo>
                      <a:pt x="37" y="34"/>
                    </a:lnTo>
                    <a:lnTo>
                      <a:pt x="34" y="32"/>
                    </a:lnTo>
                    <a:lnTo>
                      <a:pt x="32" y="29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250" y="0"/>
                    </a:lnTo>
                    <a:lnTo>
                      <a:pt x="254" y="1"/>
                    </a:lnTo>
                    <a:lnTo>
                      <a:pt x="257" y="2"/>
                    </a:lnTo>
                    <a:lnTo>
                      <a:pt x="261" y="4"/>
                    </a:lnTo>
                    <a:lnTo>
                      <a:pt x="264" y="6"/>
                    </a:lnTo>
                    <a:lnTo>
                      <a:pt x="265" y="9"/>
                    </a:lnTo>
                    <a:lnTo>
                      <a:pt x="267" y="13"/>
                    </a:lnTo>
                    <a:lnTo>
                      <a:pt x="267" y="15"/>
                    </a:lnTo>
                    <a:lnTo>
                      <a:pt x="269" y="19"/>
                    </a:lnTo>
                    <a:lnTo>
                      <a:pt x="269" y="69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5" y="78"/>
                    </a:lnTo>
                    <a:lnTo>
                      <a:pt x="264" y="82"/>
                    </a:lnTo>
                    <a:lnTo>
                      <a:pt x="261" y="83"/>
                    </a:lnTo>
                    <a:lnTo>
                      <a:pt x="257" y="86"/>
                    </a:lnTo>
                    <a:lnTo>
                      <a:pt x="254" y="87"/>
                    </a:lnTo>
                    <a:lnTo>
                      <a:pt x="250" y="87"/>
                    </a:lnTo>
                    <a:lnTo>
                      <a:pt x="246" y="87"/>
                    </a:lnTo>
                    <a:lnTo>
                      <a:pt x="244" y="86"/>
                    </a:lnTo>
                    <a:lnTo>
                      <a:pt x="240" y="83"/>
                    </a:lnTo>
                    <a:lnTo>
                      <a:pt x="237" y="82"/>
                    </a:lnTo>
                    <a:lnTo>
                      <a:pt x="235" y="78"/>
                    </a:lnTo>
                    <a:lnTo>
                      <a:pt x="234" y="76"/>
                    </a:lnTo>
                    <a:lnTo>
                      <a:pt x="232" y="72"/>
                    </a:lnTo>
                    <a:lnTo>
                      <a:pt x="232" y="69"/>
                    </a:lnTo>
                    <a:lnTo>
                      <a:pt x="232" y="69"/>
                    </a:lnTo>
                    <a:close/>
                  </a:path>
                </a:pathLst>
              </a:custGeom>
              <a:solidFill>
                <a:srgbClr val="1a1a1a"/>
              </a:solidFill>
              <a:ln w="32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4071600" y="512712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4070160" y="51483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3999960" y="514836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4566240" y="514836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4633560" y="512820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4611600" y="514836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5838480" y="5014080"/>
                <a:ext cx="320760" cy="173160"/>
              </a:xfrm>
              <a:prstGeom prst="rect">
                <a:avLst/>
              </a:prstGeom>
              <a:solidFill>
                <a:srgbClr val="35509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5143320" y="5014080"/>
                <a:ext cx="366120" cy="173160"/>
              </a:xfrm>
              <a:prstGeom prst="rect">
                <a:avLst/>
              </a:prstGeom>
              <a:solidFill>
                <a:srgbClr val="26918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4707000" y="5014080"/>
                <a:ext cx="260640" cy="173160"/>
              </a:xfrm>
              <a:prstGeom prst="rect">
                <a:avLst/>
              </a:prstGeom>
              <a:solidFill>
                <a:srgbClr val="9997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4966560" y="5014080"/>
                <a:ext cx="176400" cy="173160"/>
              </a:xfrm>
              <a:prstGeom prst="rect">
                <a:avLst/>
              </a:prstGeom>
              <a:solidFill>
                <a:srgbClr val="bced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354000" y="5135040"/>
                <a:ext cx="110520" cy="76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4707000" y="5014080"/>
                <a:ext cx="1744920" cy="173160"/>
              </a:xfrm>
              <a:prstGeom prst="rect">
                <a:avLst/>
              </a:prstGeom>
              <a:noFill/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4463280" y="494748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4463280" y="50684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4872960" y="4565520"/>
                <a:ext cx="1689120" cy="4395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4883760" y="4574160"/>
                <a:ext cx="1665000" cy="420840"/>
              </a:xfrm>
              <a:prstGeom prst="rect">
                <a:avLst/>
              </a:prstGeom>
              <a:solidFill>
                <a:srgbClr val="3333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4883760" y="4574160"/>
                <a:ext cx="1665000" cy="420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5735160" y="4584240"/>
                <a:ext cx="803520" cy="4017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5735160" y="4584240"/>
                <a:ext cx="803520" cy="4017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5709240" y="4574160"/>
                <a:ext cx="14760" cy="42084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5709240" y="4574160"/>
                <a:ext cx="14760" cy="420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5020920" y="4727520"/>
                <a:ext cx="148320" cy="14184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18" y="109"/>
                    </a:moveTo>
                    <a:lnTo>
                      <a:pt x="217" y="123"/>
                    </a:lnTo>
                    <a:lnTo>
                      <a:pt x="216" y="137"/>
                    </a:lnTo>
                    <a:lnTo>
                      <a:pt x="214" y="149"/>
                    </a:lnTo>
                    <a:lnTo>
                      <a:pt x="211" y="163"/>
                    </a:lnTo>
                    <a:lnTo>
                      <a:pt x="207" y="176"/>
                    </a:lnTo>
                    <a:lnTo>
                      <a:pt x="203" y="187"/>
                    </a:lnTo>
                    <a:lnTo>
                      <a:pt x="197" y="199"/>
                    </a:lnTo>
                    <a:lnTo>
                      <a:pt x="191" y="210"/>
                    </a:lnTo>
                    <a:lnTo>
                      <a:pt x="183" y="220"/>
                    </a:lnTo>
                    <a:lnTo>
                      <a:pt x="176" y="229"/>
                    </a:lnTo>
                    <a:lnTo>
                      <a:pt x="167" y="237"/>
                    </a:lnTo>
                    <a:lnTo>
                      <a:pt x="162" y="239"/>
                    </a:lnTo>
                    <a:lnTo>
                      <a:pt x="157" y="243"/>
                    </a:lnTo>
                    <a:lnTo>
                      <a:pt x="152" y="245"/>
                    </a:lnTo>
                    <a:lnTo>
                      <a:pt x="145" y="248"/>
                    </a:lnTo>
                    <a:lnTo>
                      <a:pt x="140" y="250"/>
                    </a:lnTo>
                    <a:lnTo>
                      <a:pt x="134" y="252"/>
                    </a:lnTo>
                    <a:lnTo>
                      <a:pt x="129" y="253"/>
                    </a:lnTo>
                    <a:lnTo>
                      <a:pt x="123" y="254"/>
                    </a:lnTo>
                    <a:lnTo>
                      <a:pt x="115" y="255"/>
                    </a:lnTo>
                    <a:lnTo>
                      <a:pt x="109" y="255"/>
                    </a:lnTo>
                    <a:lnTo>
                      <a:pt x="103" y="255"/>
                    </a:lnTo>
                    <a:lnTo>
                      <a:pt x="97" y="254"/>
                    </a:lnTo>
                    <a:lnTo>
                      <a:pt x="90" y="253"/>
                    </a:lnTo>
                    <a:lnTo>
                      <a:pt x="84" y="252"/>
                    </a:lnTo>
                    <a:lnTo>
                      <a:pt x="78" y="250"/>
                    </a:lnTo>
                    <a:lnTo>
                      <a:pt x="73" y="248"/>
                    </a:lnTo>
                    <a:lnTo>
                      <a:pt x="67" y="245"/>
                    </a:lnTo>
                    <a:lnTo>
                      <a:pt x="62" y="243"/>
                    </a:lnTo>
                    <a:lnTo>
                      <a:pt x="57" y="239"/>
                    </a:lnTo>
                    <a:lnTo>
                      <a:pt x="52" y="237"/>
                    </a:lnTo>
                    <a:lnTo>
                      <a:pt x="43" y="229"/>
                    </a:lnTo>
                    <a:lnTo>
                      <a:pt x="35" y="220"/>
                    </a:lnTo>
                    <a:lnTo>
                      <a:pt x="28" y="210"/>
                    </a:lnTo>
                    <a:lnTo>
                      <a:pt x="21" y="199"/>
                    </a:lnTo>
                    <a:lnTo>
                      <a:pt x="15" y="187"/>
                    </a:lnTo>
                    <a:lnTo>
                      <a:pt x="11" y="176"/>
                    </a:lnTo>
                    <a:lnTo>
                      <a:pt x="8" y="163"/>
                    </a:lnTo>
                    <a:lnTo>
                      <a:pt x="4" y="149"/>
                    </a:lnTo>
                    <a:lnTo>
                      <a:pt x="3" y="137"/>
                    </a:lnTo>
                    <a:lnTo>
                      <a:pt x="1" y="123"/>
                    </a:lnTo>
                    <a:lnTo>
                      <a:pt x="0" y="109"/>
                    </a:lnTo>
                    <a:lnTo>
                      <a:pt x="1" y="96"/>
                    </a:lnTo>
                    <a:lnTo>
                      <a:pt x="3" y="84"/>
                    </a:lnTo>
                    <a:lnTo>
                      <a:pt x="4" y="72"/>
                    </a:lnTo>
                    <a:lnTo>
                      <a:pt x="8" y="61"/>
                    </a:lnTo>
                    <a:lnTo>
                      <a:pt x="11" y="52"/>
                    </a:lnTo>
                    <a:lnTo>
                      <a:pt x="15" y="43"/>
                    </a:lnTo>
                    <a:lnTo>
                      <a:pt x="21" y="35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2" y="7"/>
                    </a:lnTo>
                    <a:lnTo>
                      <a:pt x="73" y="4"/>
                    </a:lnTo>
                    <a:lnTo>
                      <a:pt x="84" y="2"/>
                    </a:lnTo>
                    <a:lnTo>
                      <a:pt x="97" y="0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4" y="2"/>
                    </a:lnTo>
                    <a:lnTo>
                      <a:pt x="145" y="4"/>
                    </a:lnTo>
                    <a:lnTo>
                      <a:pt x="157" y="7"/>
                    </a:lnTo>
                    <a:lnTo>
                      <a:pt x="167" y="11"/>
                    </a:lnTo>
                    <a:lnTo>
                      <a:pt x="176" y="16"/>
                    </a:lnTo>
                    <a:lnTo>
                      <a:pt x="183" y="21"/>
                    </a:lnTo>
                    <a:lnTo>
                      <a:pt x="191" y="27"/>
                    </a:lnTo>
                    <a:lnTo>
                      <a:pt x="197" y="35"/>
                    </a:lnTo>
                    <a:lnTo>
                      <a:pt x="203" y="43"/>
                    </a:lnTo>
                    <a:lnTo>
                      <a:pt x="207" y="52"/>
                    </a:lnTo>
                    <a:lnTo>
                      <a:pt x="211" y="61"/>
                    </a:lnTo>
                    <a:lnTo>
                      <a:pt x="214" y="72"/>
                    </a:lnTo>
                    <a:lnTo>
                      <a:pt x="216" y="84"/>
                    </a:lnTo>
                    <a:lnTo>
                      <a:pt x="217" y="96"/>
                    </a:lnTo>
                    <a:lnTo>
                      <a:pt x="218" y="109"/>
                    </a:lnTo>
                    <a:lnTo>
                      <a:pt x="21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5439960" y="4727520"/>
                <a:ext cx="171000" cy="14184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253" y="109"/>
                    </a:moveTo>
                    <a:lnTo>
                      <a:pt x="253" y="117"/>
                    </a:lnTo>
                    <a:lnTo>
                      <a:pt x="251" y="123"/>
                    </a:lnTo>
                    <a:lnTo>
                      <a:pt x="251" y="130"/>
                    </a:lnTo>
                    <a:lnTo>
                      <a:pt x="249" y="137"/>
                    </a:lnTo>
                    <a:lnTo>
                      <a:pt x="248" y="143"/>
                    </a:lnTo>
                    <a:lnTo>
                      <a:pt x="245" y="149"/>
                    </a:lnTo>
                    <a:lnTo>
                      <a:pt x="243" y="157"/>
                    </a:lnTo>
                    <a:lnTo>
                      <a:pt x="240" y="163"/>
                    </a:lnTo>
                    <a:lnTo>
                      <a:pt x="238" y="170"/>
                    </a:lnTo>
                    <a:lnTo>
                      <a:pt x="234" y="176"/>
                    </a:lnTo>
                    <a:lnTo>
                      <a:pt x="226" y="187"/>
                    </a:lnTo>
                    <a:lnTo>
                      <a:pt x="218" y="199"/>
                    </a:lnTo>
                    <a:lnTo>
                      <a:pt x="208" y="210"/>
                    </a:lnTo>
                    <a:lnTo>
                      <a:pt x="196" y="220"/>
                    </a:lnTo>
                    <a:lnTo>
                      <a:pt x="185" y="229"/>
                    </a:lnTo>
                    <a:lnTo>
                      <a:pt x="174" y="237"/>
                    </a:lnTo>
                    <a:lnTo>
                      <a:pt x="167" y="239"/>
                    </a:lnTo>
                    <a:lnTo>
                      <a:pt x="161" y="243"/>
                    </a:lnTo>
                    <a:lnTo>
                      <a:pt x="155" y="245"/>
                    </a:lnTo>
                    <a:lnTo>
                      <a:pt x="149" y="248"/>
                    </a:lnTo>
                    <a:lnTo>
                      <a:pt x="141" y="250"/>
                    </a:lnTo>
                    <a:lnTo>
                      <a:pt x="135" y="252"/>
                    </a:lnTo>
                    <a:lnTo>
                      <a:pt x="129" y="253"/>
                    </a:lnTo>
                    <a:lnTo>
                      <a:pt x="121" y="254"/>
                    </a:lnTo>
                    <a:lnTo>
                      <a:pt x="115" y="255"/>
                    </a:lnTo>
                    <a:lnTo>
                      <a:pt x="107" y="255"/>
                    </a:lnTo>
                    <a:lnTo>
                      <a:pt x="101" y="255"/>
                    </a:lnTo>
                    <a:lnTo>
                      <a:pt x="95" y="254"/>
                    </a:lnTo>
                    <a:lnTo>
                      <a:pt x="89" y="253"/>
                    </a:lnTo>
                    <a:lnTo>
                      <a:pt x="82" y="252"/>
                    </a:lnTo>
                    <a:lnTo>
                      <a:pt x="76" y="250"/>
                    </a:lnTo>
                    <a:lnTo>
                      <a:pt x="71" y="248"/>
                    </a:lnTo>
                    <a:lnTo>
                      <a:pt x="66" y="245"/>
                    </a:lnTo>
                    <a:lnTo>
                      <a:pt x="60" y="243"/>
                    </a:lnTo>
                    <a:lnTo>
                      <a:pt x="55" y="239"/>
                    </a:lnTo>
                    <a:lnTo>
                      <a:pt x="51" y="237"/>
                    </a:lnTo>
                    <a:lnTo>
                      <a:pt x="42" y="229"/>
                    </a:lnTo>
                    <a:lnTo>
                      <a:pt x="33" y="220"/>
                    </a:lnTo>
                    <a:lnTo>
                      <a:pt x="26" y="210"/>
                    </a:lnTo>
                    <a:lnTo>
                      <a:pt x="20" y="199"/>
                    </a:lnTo>
                    <a:lnTo>
                      <a:pt x="15" y="187"/>
                    </a:lnTo>
                    <a:lnTo>
                      <a:pt x="10" y="176"/>
                    </a:lnTo>
                    <a:lnTo>
                      <a:pt x="6" y="163"/>
                    </a:lnTo>
                    <a:lnTo>
                      <a:pt x="3" y="149"/>
                    </a:lnTo>
                    <a:lnTo>
                      <a:pt x="1" y="137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3" y="72"/>
                    </a:lnTo>
                    <a:lnTo>
                      <a:pt x="6" y="61"/>
                    </a:lnTo>
                    <a:lnTo>
                      <a:pt x="10" y="52"/>
                    </a:lnTo>
                    <a:lnTo>
                      <a:pt x="15" y="43"/>
                    </a:lnTo>
                    <a:lnTo>
                      <a:pt x="20" y="35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2" y="16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5" y="2"/>
                    </a:lnTo>
                    <a:lnTo>
                      <a:pt x="149" y="4"/>
                    </a:lnTo>
                    <a:lnTo>
                      <a:pt x="161" y="7"/>
                    </a:lnTo>
                    <a:lnTo>
                      <a:pt x="174" y="11"/>
                    </a:lnTo>
                    <a:lnTo>
                      <a:pt x="185" y="16"/>
                    </a:lnTo>
                    <a:lnTo>
                      <a:pt x="196" y="21"/>
                    </a:lnTo>
                    <a:lnTo>
                      <a:pt x="208" y="27"/>
                    </a:lnTo>
                    <a:lnTo>
                      <a:pt x="218" y="35"/>
                    </a:lnTo>
                    <a:lnTo>
                      <a:pt x="226" y="43"/>
                    </a:lnTo>
                    <a:lnTo>
                      <a:pt x="234" y="52"/>
                    </a:lnTo>
                    <a:lnTo>
                      <a:pt x="238" y="56"/>
                    </a:lnTo>
                    <a:lnTo>
                      <a:pt x="240" y="61"/>
                    </a:lnTo>
                    <a:lnTo>
                      <a:pt x="243" y="67"/>
                    </a:lnTo>
                    <a:lnTo>
                      <a:pt x="245" y="72"/>
                    </a:lnTo>
                    <a:lnTo>
                      <a:pt x="248" y="77"/>
                    </a:lnTo>
                    <a:lnTo>
                      <a:pt x="249" y="84"/>
                    </a:lnTo>
                    <a:lnTo>
                      <a:pt x="251" y="90"/>
                    </a:lnTo>
                    <a:lnTo>
                      <a:pt x="251" y="96"/>
                    </a:lnTo>
                    <a:lnTo>
                      <a:pt x="253" y="103"/>
                    </a:lnTo>
                    <a:lnTo>
                      <a:pt x="253" y="109"/>
                    </a:lnTo>
                    <a:lnTo>
                      <a:pt x="25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4897080" y="4586400"/>
                <a:ext cx="813240" cy="403920"/>
              </a:xfrm>
              <a:custGeom>
                <a:avLst/>
                <a:gdLst/>
                <a:ahLst/>
                <a:rect l="l" t="t" r="r" b="b"/>
                <a:pathLst>
                  <a:path w="1195" h="729">
                    <a:moveTo>
                      <a:pt x="0" y="729"/>
                    </a:moveTo>
                    <a:lnTo>
                      <a:pt x="1195" y="729"/>
                    </a:lnTo>
                    <a:lnTo>
                      <a:pt x="119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105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4872960" y="4565520"/>
                <a:ext cx="813240" cy="4050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06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4872960" y="4565520"/>
                <a:ext cx="813240" cy="4050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107" name=""/>
              <p:cNvSpPr/>
              <p:nvPr/>
            </p:nvSpPr>
            <p:spPr>
              <a:xfrm>
                <a:off x="4999320" y="4715280"/>
                <a:ext cx="169920" cy="138600"/>
              </a:xfrm>
              <a:custGeom>
                <a:avLst/>
                <a:gdLst/>
                <a:ahLst/>
                <a:rect l="l" t="t" r="r" b="b"/>
                <a:pathLst>
                  <a:path w="249" h="249">
                    <a:moveTo>
                      <a:pt x="249" y="126"/>
                    </a:moveTo>
                    <a:lnTo>
                      <a:pt x="249" y="133"/>
                    </a:lnTo>
                    <a:lnTo>
                      <a:pt x="248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3" y="163"/>
                    </a:lnTo>
                    <a:lnTo>
                      <a:pt x="239" y="174"/>
                    </a:lnTo>
                    <a:lnTo>
                      <a:pt x="234" y="184"/>
                    </a:lnTo>
                    <a:lnTo>
                      <a:pt x="228" y="194"/>
                    </a:lnTo>
                    <a:lnTo>
                      <a:pt x="220" y="204"/>
                    </a:lnTo>
                    <a:lnTo>
                      <a:pt x="212" y="213"/>
                    </a:lnTo>
                    <a:lnTo>
                      <a:pt x="203" y="221"/>
                    </a:lnTo>
                    <a:lnTo>
                      <a:pt x="194" y="228"/>
                    </a:lnTo>
                    <a:lnTo>
                      <a:pt x="183" y="235"/>
                    </a:lnTo>
                    <a:lnTo>
                      <a:pt x="173" y="240"/>
                    </a:lnTo>
                    <a:lnTo>
                      <a:pt x="161" y="244"/>
                    </a:lnTo>
                    <a:lnTo>
                      <a:pt x="149" y="246"/>
                    </a:lnTo>
                    <a:lnTo>
                      <a:pt x="136" y="249"/>
                    </a:lnTo>
                    <a:lnTo>
                      <a:pt x="130" y="249"/>
                    </a:lnTo>
                    <a:lnTo>
                      <a:pt x="124" y="249"/>
                    </a:lnTo>
                    <a:lnTo>
                      <a:pt x="118" y="249"/>
                    </a:lnTo>
                    <a:lnTo>
                      <a:pt x="111" y="249"/>
                    </a:lnTo>
                    <a:lnTo>
                      <a:pt x="100" y="246"/>
                    </a:lnTo>
                    <a:lnTo>
                      <a:pt x="88" y="244"/>
                    </a:lnTo>
                    <a:lnTo>
                      <a:pt x="76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6" y="213"/>
                    </a:lnTo>
                    <a:lnTo>
                      <a:pt x="29" y="204"/>
                    </a:lnTo>
                    <a:lnTo>
                      <a:pt x="21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5" y="163"/>
                    </a:lnTo>
                    <a:lnTo>
                      <a:pt x="2" y="150"/>
                    </a:lnTo>
                    <a:lnTo>
                      <a:pt x="1" y="145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1" y="106"/>
                    </a:lnTo>
                    <a:lnTo>
                      <a:pt x="2" y="100"/>
                    </a:lnTo>
                    <a:lnTo>
                      <a:pt x="6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1" y="56"/>
                    </a:lnTo>
                    <a:lnTo>
                      <a:pt x="29" y="45"/>
                    </a:lnTo>
                    <a:lnTo>
                      <a:pt x="36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8" y="6"/>
                    </a:lnTo>
                    <a:lnTo>
                      <a:pt x="100" y="2"/>
                    </a:lnTo>
                    <a:lnTo>
                      <a:pt x="111" y="1"/>
                    </a:lnTo>
                    <a:lnTo>
                      <a:pt x="118" y="1"/>
                    </a:lnTo>
                    <a:lnTo>
                      <a:pt x="124" y="0"/>
                    </a:lnTo>
                    <a:lnTo>
                      <a:pt x="130" y="1"/>
                    </a:lnTo>
                    <a:lnTo>
                      <a:pt x="136" y="1"/>
                    </a:lnTo>
                    <a:lnTo>
                      <a:pt x="149" y="2"/>
                    </a:lnTo>
                    <a:lnTo>
                      <a:pt x="161" y="6"/>
                    </a:lnTo>
                    <a:lnTo>
                      <a:pt x="173" y="10"/>
                    </a:lnTo>
                    <a:lnTo>
                      <a:pt x="183" y="15"/>
                    </a:lnTo>
                    <a:lnTo>
                      <a:pt x="194" y="21"/>
                    </a:lnTo>
                    <a:lnTo>
                      <a:pt x="203" y="29"/>
                    </a:lnTo>
                    <a:lnTo>
                      <a:pt x="212" y="37"/>
                    </a:lnTo>
                    <a:lnTo>
                      <a:pt x="220" y="45"/>
                    </a:lnTo>
                    <a:lnTo>
                      <a:pt x="228" y="56"/>
                    </a:lnTo>
                    <a:lnTo>
                      <a:pt x="234" y="66"/>
                    </a:lnTo>
                    <a:lnTo>
                      <a:pt x="239" y="77"/>
                    </a:lnTo>
                    <a:lnTo>
                      <a:pt x="243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48" y="112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2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5424840" y="4715280"/>
                <a:ext cx="169920" cy="13860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50" y="126"/>
                    </a:moveTo>
                    <a:lnTo>
                      <a:pt x="250" y="133"/>
                    </a:lnTo>
                    <a:lnTo>
                      <a:pt x="250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5" y="163"/>
                    </a:lnTo>
                    <a:lnTo>
                      <a:pt x="240" y="174"/>
                    </a:lnTo>
                    <a:lnTo>
                      <a:pt x="235" y="184"/>
                    </a:lnTo>
                    <a:lnTo>
                      <a:pt x="228" y="194"/>
                    </a:lnTo>
                    <a:lnTo>
                      <a:pt x="221" y="204"/>
                    </a:lnTo>
                    <a:lnTo>
                      <a:pt x="213" y="213"/>
                    </a:lnTo>
                    <a:lnTo>
                      <a:pt x="205" y="221"/>
                    </a:lnTo>
                    <a:lnTo>
                      <a:pt x="195" y="228"/>
                    </a:lnTo>
                    <a:lnTo>
                      <a:pt x="184" y="235"/>
                    </a:lnTo>
                    <a:lnTo>
                      <a:pt x="173" y="240"/>
                    </a:lnTo>
                    <a:lnTo>
                      <a:pt x="162" y="244"/>
                    </a:lnTo>
                    <a:lnTo>
                      <a:pt x="151" y="246"/>
                    </a:lnTo>
                    <a:lnTo>
                      <a:pt x="138" y="249"/>
                    </a:lnTo>
                    <a:lnTo>
                      <a:pt x="132" y="249"/>
                    </a:lnTo>
                    <a:lnTo>
                      <a:pt x="126" y="249"/>
                    </a:lnTo>
                    <a:lnTo>
                      <a:pt x="119" y="249"/>
                    </a:lnTo>
                    <a:lnTo>
                      <a:pt x="112" y="249"/>
                    </a:lnTo>
                    <a:lnTo>
                      <a:pt x="99" y="246"/>
                    </a:lnTo>
                    <a:lnTo>
                      <a:pt x="88" y="244"/>
                    </a:lnTo>
                    <a:lnTo>
                      <a:pt x="77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7" y="213"/>
                    </a:lnTo>
                    <a:lnTo>
                      <a:pt x="29" y="204"/>
                    </a:lnTo>
                    <a:lnTo>
                      <a:pt x="22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7" y="163"/>
                    </a:lnTo>
                    <a:lnTo>
                      <a:pt x="3" y="150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6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3" y="100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9" y="45"/>
                    </a:lnTo>
                    <a:lnTo>
                      <a:pt x="37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7" y="10"/>
                    </a:lnTo>
                    <a:lnTo>
                      <a:pt x="88" y="6"/>
                    </a:lnTo>
                    <a:lnTo>
                      <a:pt x="99" y="2"/>
                    </a:lnTo>
                    <a:lnTo>
                      <a:pt x="112" y="1"/>
                    </a:lnTo>
                    <a:lnTo>
                      <a:pt x="119" y="1"/>
                    </a:lnTo>
                    <a:lnTo>
                      <a:pt x="126" y="0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51" y="2"/>
                    </a:lnTo>
                    <a:lnTo>
                      <a:pt x="162" y="6"/>
                    </a:lnTo>
                    <a:lnTo>
                      <a:pt x="173" y="10"/>
                    </a:lnTo>
                    <a:lnTo>
                      <a:pt x="184" y="15"/>
                    </a:lnTo>
                    <a:lnTo>
                      <a:pt x="195" y="21"/>
                    </a:lnTo>
                    <a:lnTo>
                      <a:pt x="205" y="29"/>
                    </a:lnTo>
                    <a:lnTo>
                      <a:pt x="213" y="37"/>
                    </a:lnTo>
                    <a:lnTo>
                      <a:pt x="221" y="45"/>
                    </a:lnTo>
                    <a:lnTo>
                      <a:pt x="228" y="56"/>
                    </a:lnTo>
                    <a:lnTo>
                      <a:pt x="235" y="66"/>
                    </a:lnTo>
                    <a:lnTo>
                      <a:pt x="240" y="77"/>
                    </a:lnTo>
                    <a:lnTo>
                      <a:pt x="245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50" y="112"/>
                    </a:lnTo>
                    <a:lnTo>
                      <a:pt x="250" y="120"/>
                    </a:lnTo>
                    <a:lnTo>
                      <a:pt x="250" y="126"/>
                    </a:lnTo>
                    <a:lnTo>
                      <a:pt x="250" y="12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4894560" y="4584240"/>
                <a:ext cx="803520" cy="4017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2606760" y="4707360"/>
                <a:ext cx="24480" cy="445320"/>
              </a:xfrm>
              <a:prstGeom prst="rect">
                <a:avLst/>
              </a:prstGeom>
              <a:solidFill>
                <a:srgbClr val="47474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2631240" y="4707360"/>
                <a:ext cx="24120" cy="445320"/>
              </a:xfrm>
              <a:prstGeom prst="rect">
                <a:avLst/>
              </a:prstGeom>
              <a:solidFill>
                <a:srgbClr val="46464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2655720" y="4707360"/>
                <a:ext cx="24120" cy="445320"/>
              </a:xfrm>
              <a:prstGeom prst="rect">
                <a:avLst/>
              </a:prstGeom>
              <a:solidFill>
                <a:srgbClr val="60606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2620080" y="4719600"/>
                <a:ext cx="65160" cy="437400"/>
              </a:xfrm>
              <a:custGeom>
                <a:avLst/>
                <a:gdLst/>
                <a:ahLst/>
                <a:rect l="l" t="t" r="r" b="b"/>
                <a:pathLst>
                  <a:path w="95" h="786">
                    <a:moveTo>
                      <a:pt x="90" y="786"/>
                    </a:moveTo>
                    <a:lnTo>
                      <a:pt x="4" y="786"/>
                    </a:lnTo>
                    <a:lnTo>
                      <a:pt x="2" y="785"/>
                    </a:lnTo>
                    <a:lnTo>
                      <a:pt x="1" y="784"/>
                    </a:lnTo>
                    <a:lnTo>
                      <a:pt x="0" y="782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4" y="2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779"/>
                    </a:lnTo>
                    <a:lnTo>
                      <a:pt x="94" y="782"/>
                    </a:lnTo>
                    <a:lnTo>
                      <a:pt x="93" y="784"/>
                    </a:lnTo>
                    <a:lnTo>
                      <a:pt x="91" y="785"/>
                    </a:lnTo>
                    <a:lnTo>
                      <a:pt x="90" y="7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2896200" y="5086080"/>
                <a:ext cx="838080" cy="59760"/>
              </a:xfrm>
              <a:custGeom>
                <a:avLst/>
                <a:gdLst/>
                <a:ahLst/>
                <a:rect l="l" t="t" r="r" b="b"/>
                <a:pathLst>
                  <a:path w="1231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77" y="0"/>
                    </a:moveTo>
                    <a:lnTo>
                      <a:pt x="1077" y="104"/>
                    </a:lnTo>
                    <a:lnTo>
                      <a:pt x="1077" y="106"/>
                    </a:lnTo>
                    <a:lnTo>
                      <a:pt x="1077" y="107"/>
                    </a:lnTo>
                    <a:lnTo>
                      <a:pt x="1078" y="108"/>
                    </a:lnTo>
                    <a:lnTo>
                      <a:pt x="1080" y="108"/>
                    </a:lnTo>
                    <a:lnTo>
                      <a:pt x="1080" y="108"/>
                    </a:lnTo>
                    <a:lnTo>
                      <a:pt x="1229" y="108"/>
                    </a:lnTo>
                    <a:lnTo>
                      <a:pt x="1229" y="108"/>
                    </a:lnTo>
                    <a:lnTo>
                      <a:pt x="1230" y="107"/>
                    </a:lnTo>
                    <a:lnTo>
                      <a:pt x="1231" y="106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0"/>
                    </a:lnTo>
                    <a:lnTo>
                      <a:pt x="1077" y="0"/>
                    </a:lnTo>
                    <a:lnTo>
                      <a:pt x="1077" y="0"/>
                    </a:lnTo>
                    <a:close/>
                  </a:path>
                </a:pathLst>
              </a:custGeom>
              <a:solidFill>
                <a:srgbClr val="c5c5c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2896200" y="508608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3629520" y="508608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3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4128840" y="4576320"/>
                <a:ext cx="415800" cy="3319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4128840" y="4576320"/>
                <a:ext cx="415800" cy="33192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4132800" y="4756320"/>
                <a:ext cx="410760" cy="15192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4132800" y="4756320"/>
                <a:ext cx="410760" cy="15192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2893680" y="4575240"/>
                <a:ext cx="1928520" cy="588600"/>
              </a:xfrm>
              <a:custGeom>
                <a:avLst/>
                <a:gdLst/>
                <a:ahLst/>
                <a:rect l="l" t="t" r="r" b="b"/>
                <a:pathLst>
                  <a:path w="2835" h="1060">
                    <a:moveTo>
                      <a:pt x="175" y="1060"/>
                    </a:moveTo>
                    <a:lnTo>
                      <a:pt x="326" y="1060"/>
                    </a:lnTo>
                    <a:lnTo>
                      <a:pt x="327" y="1060"/>
                    </a:lnTo>
                    <a:lnTo>
                      <a:pt x="327" y="1058"/>
                    </a:lnTo>
                    <a:lnTo>
                      <a:pt x="327" y="1057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978"/>
                    </a:lnTo>
                    <a:lnTo>
                      <a:pt x="327" y="976"/>
                    </a:lnTo>
                    <a:lnTo>
                      <a:pt x="327" y="975"/>
                    </a:lnTo>
                    <a:lnTo>
                      <a:pt x="327" y="974"/>
                    </a:lnTo>
                    <a:lnTo>
                      <a:pt x="326" y="974"/>
                    </a:lnTo>
                    <a:lnTo>
                      <a:pt x="175" y="974"/>
                    </a:lnTo>
                    <a:lnTo>
                      <a:pt x="175" y="974"/>
                    </a:lnTo>
                    <a:lnTo>
                      <a:pt x="175" y="975"/>
                    </a:lnTo>
                    <a:lnTo>
                      <a:pt x="174" y="976"/>
                    </a:lnTo>
                    <a:lnTo>
                      <a:pt x="174" y="978"/>
                    </a:lnTo>
                    <a:lnTo>
                      <a:pt x="174" y="978"/>
                    </a:lnTo>
                    <a:lnTo>
                      <a:pt x="174" y="1056"/>
                    </a:lnTo>
                    <a:lnTo>
                      <a:pt x="174" y="1057"/>
                    </a:lnTo>
                    <a:lnTo>
                      <a:pt x="175" y="1058"/>
                    </a:lnTo>
                    <a:lnTo>
                      <a:pt x="175" y="1060"/>
                    </a:lnTo>
                    <a:lnTo>
                      <a:pt x="175" y="1060"/>
                    </a:lnTo>
                    <a:lnTo>
                      <a:pt x="175" y="1060"/>
                    </a:lnTo>
                    <a:close/>
                    <a:moveTo>
                      <a:pt x="362" y="1060"/>
                    </a:moveTo>
                    <a:lnTo>
                      <a:pt x="508" y="1060"/>
                    </a:lnTo>
                    <a:lnTo>
                      <a:pt x="510" y="1060"/>
                    </a:lnTo>
                    <a:lnTo>
                      <a:pt x="511" y="1058"/>
                    </a:lnTo>
                    <a:lnTo>
                      <a:pt x="512" y="1057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978"/>
                    </a:lnTo>
                    <a:lnTo>
                      <a:pt x="512" y="976"/>
                    </a:lnTo>
                    <a:lnTo>
                      <a:pt x="511" y="975"/>
                    </a:lnTo>
                    <a:lnTo>
                      <a:pt x="510" y="974"/>
                    </a:lnTo>
                    <a:lnTo>
                      <a:pt x="508" y="974"/>
                    </a:lnTo>
                    <a:lnTo>
                      <a:pt x="362" y="974"/>
                    </a:lnTo>
                    <a:lnTo>
                      <a:pt x="359" y="974"/>
                    </a:lnTo>
                    <a:lnTo>
                      <a:pt x="358" y="975"/>
                    </a:lnTo>
                    <a:lnTo>
                      <a:pt x="357" y="976"/>
                    </a:lnTo>
                    <a:lnTo>
                      <a:pt x="357" y="978"/>
                    </a:lnTo>
                    <a:lnTo>
                      <a:pt x="357" y="978"/>
                    </a:lnTo>
                    <a:lnTo>
                      <a:pt x="357" y="1056"/>
                    </a:lnTo>
                    <a:lnTo>
                      <a:pt x="357" y="1057"/>
                    </a:lnTo>
                    <a:lnTo>
                      <a:pt x="358" y="1058"/>
                    </a:lnTo>
                    <a:lnTo>
                      <a:pt x="359" y="1060"/>
                    </a:lnTo>
                    <a:lnTo>
                      <a:pt x="362" y="1060"/>
                    </a:lnTo>
                    <a:lnTo>
                      <a:pt x="362" y="1060"/>
                    </a:lnTo>
                    <a:close/>
                    <a:moveTo>
                      <a:pt x="545" y="1060"/>
                    </a:moveTo>
                    <a:lnTo>
                      <a:pt x="694" y="1060"/>
                    </a:lnTo>
                    <a:lnTo>
                      <a:pt x="694" y="1060"/>
                    </a:lnTo>
                    <a:lnTo>
                      <a:pt x="695" y="1058"/>
                    </a:lnTo>
                    <a:lnTo>
                      <a:pt x="696" y="1057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978"/>
                    </a:lnTo>
                    <a:lnTo>
                      <a:pt x="696" y="976"/>
                    </a:lnTo>
                    <a:lnTo>
                      <a:pt x="695" y="975"/>
                    </a:lnTo>
                    <a:lnTo>
                      <a:pt x="694" y="974"/>
                    </a:lnTo>
                    <a:lnTo>
                      <a:pt x="694" y="974"/>
                    </a:lnTo>
                    <a:lnTo>
                      <a:pt x="545" y="974"/>
                    </a:lnTo>
                    <a:lnTo>
                      <a:pt x="544" y="974"/>
                    </a:lnTo>
                    <a:lnTo>
                      <a:pt x="542" y="975"/>
                    </a:lnTo>
                    <a:lnTo>
                      <a:pt x="542" y="976"/>
                    </a:lnTo>
                    <a:lnTo>
                      <a:pt x="542" y="978"/>
                    </a:lnTo>
                    <a:lnTo>
                      <a:pt x="542" y="978"/>
                    </a:lnTo>
                    <a:lnTo>
                      <a:pt x="542" y="1056"/>
                    </a:lnTo>
                    <a:lnTo>
                      <a:pt x="542" y="1057"/>
                    </a:lnTo>
                    <a:lnTo>
                      <a:pt x="542" y="1058"/>
                    </a:lnTo>
                    <a:lnTo>
                      <a:pt x="544" y="1060"/>
                    </a:lnTo>
                    <a:lnTo>
                      <a:pt x="545" y="1060"/>
                    </a:lnTo>
                    <a:lnTo>
                      <a:pt x="545" y="1060"/>
                    </a:lnTo>
                    <a:close/>
                    <a:moveTo>
                      <a:pt x="730" y="1060"/>
                    </a:moveTo>
                    <a:lnTo>
                      <a:pt x="877" y="1060"/>
                    </a:lnTo>
                    <a:lnTo>
                      <a:pt x="879" y="1060"/>
                    </a:lnTo>
                    <a:lnTo>
                      <a:pt x="881" y="1058"/>
                    </a:lnTo>
                    <a:lnTo>
                      <a:pt x="882" y="1057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978"/>
                    </a:lnTo>
                    <a:lnTo>
                      <a:pt x="882" y="976"/>
                    </a:lnTo>
                    <a:lnTo>
                      <a:pt x="881" y="975"/>
                    </a:lnTo>
                    <a:lnTo>
                      <a:pt x="879" y="974"/>
                    </a:lnTo>
                    <a:lnTo>
                      <a:pt x="877" y="974"/>
                    </a:lnTo>
                    <a:lnTo>
                      <a:pt x="730" y="974"/>
                    </a:lnTo>
                    <a:lnTo>
                      <a:pt x="729" y="974"/>
                    </a:lnTo>
                    <a:lnTo>
                      <a:pt x="728" y="975"/>
                    </a:lnTo>
                    <a:lnTo>
                      <a:pt x="727" y="976"/>
                    </a:lnTo>
                    <a:lnTo>
                      <a:pt x="725" y="978"/>
                    </a:lnTo>
                    <a:lnTo>
                      <a:pt x="725" y="978"/>
                    </a:lnTo>
                    <a:lnTo>
                      <a:pt x="725" y="1056"/>
                    </a:lnTo>
                    <a:lnTo>
                      <a:pt x="727" y="1057"/>
                    </a:lnTo>
                    <a:lnTo>
                      <a:pt x="728" y="1058"/>
                    </a:lnTo>
                    <a:lnTo>
                      <a:pt x="729" y="1060"/>
                    </a:lnTo>
                    <a:lnTo>
                      <a:pt x="730" y="1060"/>
                    </a:lnTo>
                    <a:lnTo>
                      <a:pt x="730" y="1060"/>
                    </a:lnTo>
                    <a:close/>
                    <a:moveTo>
                      <a:pt x="913" y="1060"/>
                    </a:moveTo>
                    <a:lnTo>
                      <a:pt x="1061" y="1060"/>
                    </a:lnTo>
                    <a:lnTo>
                      <a:pt x="1062" y="1060"/>
                    </a:lnTo>
                    <a:lnTo>
                      <a:pt x="1064" y="1058"/>
                    </a:lnTo>
                    <a:lnTo>
                      <a:pt x="1065" y="1057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978"/>
                    </a:lnTo>
                    <a:lnTo>
                      <a:pt x="1065" y="976"/>
                    </a:lnTo>
                    <a:lnTo>
                      <a:pt x="1064" y="975"/>
                    </a:lnTo>
                    <a:lnTo>
                      <a:pt x="1062" y="974"/>
                    </a:lnTo>
                    <a:lnTo>
                      <a:pt x="1061" y="974"/>
                    </a:lnTo>
                    <a:lnTo>
                      <a:pt x="1061" y="974"/>
                    </a:lnTo>
                    <a:lnTo>
                      <a:pt x="913" y="974"/>
                    </a:lnTo>
                    <a:lnTo>
                      <a:pt x="912" y="974"/>
                    </a:lnTo>
                    <a:lnTo>
                      <a:pt x="912" y="975"/>
                    </a:lnTo>
                    <a:lnTo>
                      <a:pt x="912" y="976"/>
                    </a:lnTo>
                    <a:lnTo>
                      <a:pt x="912" y="978"/>
                    </a:lnTo>
                    <a:lnTo>
                      <a:pt x="912" y="978"/>
                    </a:lnTo>
                    <a:lnTo>
                      <a:pt x="912" y="1056"/>
                    </a:lnTo>
                    <a:lnTo>
                      <a:pt x="912" y="1057"/>
                    </a:lnTo>
                    <a:lnTo>
                      <a:pt x="912" y="1058"/>
                    </a:lnTo>
                    <a:lnTo>
                      <a:pt x="912" y="1060"/>
                    </a:lnTo>
                    <a:lnTo>
                      <a:pt x="913" y="1060"/>
                    </a:lnTo>
                    <a:lnTo>
                      <a:pt x="913" y="1060"/>
                    </a:lnTo>
                    <a:close/>
                    <a:moveTo>
                      <a:pt x="4" y="643"/>
                    </a:moveTo>
                    <a:lnTo>
                      <a:pt x="151" y="643"/>
                    </a:lnTo>
                    <a:lnTo>
                      <a:pt x="153" y="643"/>
                    </a:lnTo>
                    <a:lnTo>
                      <a:pt x="154" y="643"/>
                    </a:lnTo>
                    <a:lnTo>
                      <a:pt x="155" y="642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581"/>
                    </a:lnTo>
                    <a:lnTo>
                      <a:pt x="155" y="581"/>
                    </a:lnTo>
                    <a:lnTo>
                      <a:pt x="154" y="580"/>
                    </a:lnTo>
                    <a:lnTo>
                      <a:pt x="153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4" y="580"/>
                    </a:lnTo>
                    <a:lnTo>
                      <a:pt x="2" y="580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641"/>
                    </a:lnTo>
                    <a:lnTo>
                      <a:pt x="0" y="642"/>
                    </a:lnTo>
                    <a:lnTo>
                      <a:pt x="1" y="643"/>
                    </a:lnTo>
                    <a:lnTo>
                      <a:pt x="2" y="643"/>
                    </a:lnTo>
                    <a:lnTo>
                      <a:pt x="4" y="643"/>
                    </a:lnTo>
                    <a:lnTo>
                      <a:pt x="4" y="643"/>
                    </a:lnTo>
                    <a:close/>
                    <a:moveTo>
                      <a:pt x="352" y="643"/>
                    </a:moveTo>
                    <a:lnTo>
                      <a:pt x="466" y="643"/>
                    </a:lnTo>
                    <a:lnTo>
                      <a:pt x="467" y="643"/>
                    </a:lnTo>
                    <a:lnTo>
                      <a:pt x="468" y="643"/>
                    </a:lnTo>
                    <a:lnTo>
                      <a:pt x="470" y="642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581"/>
                    </a:lnTo>
                    <a:lnTo>
                      <a:pt x="470" y="581"/>
                    </a:lnTo>
                    <a:lnTo>
                      <a:pt x="468" y="580"/>
                    </a:lnTo>
                    <a:lnTo>
                      <a:pt x="467" y="580"/>
                    </a:lnTo>
                    <a:lnTo>
                      <a:pt x="466" y="580"/>
                    </a:lnTo>
                    <a:lnTo>
                      <a:pt x="466" y="580"/>
                    </a:lnTo>
                    <a:lnTo>
                      <a:pt x="352" y="580"/>
                    </a:lnTo>
                    <a:lnTo>
                      <a:pt x="351" y="580"/>
                    </a:lnTo>
                    <a:lnTo>
                      <a:pt x="349" y="580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641"/>
                    </a:lnTo>
                    <a:lnTo>
                      <a:pt x="348" y="642"/>
                    </a:lnTo>
                    <a:lnTo>
                      <a:pt x="349" y="643"/>
                    </a:lnTo>
                    <a:lnTo>
                      <a:pt x="351" y="643"/>
                    </a:lnTo>
                    <a:lnTo>
                      <a:pt x="352" y="643"/>
                    </a:lnTo>
                    <a:lnTo>
                      <a:pt x="352" y="643"/>
                    </a:lnTo>
                    <a:close/>
                    <a:moveTo>
                      <a:pt x="502" y="643"/>
                    </a:moveTo>
                    <a:lnTo>
                      <a:pt x="617" y="643"/>
                    </a:lnTo>
                    <a:lnTo>
                      <a:pt x="619" y="643"/>
                    </a:lnTo>
                    <a:lnTo>
                      <a:pt x="619" y="643"/>
                    </a:lnTo>
                    <a:lnTo>
                      <a:pt x="619" y="642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581"/>
                    </a:lnTo>
                    <a:lnTo>
                      <a:pt x="619" y="581"/>
                    </a:lnTo>
                    <a:lnTo>
                      <a:pt x="619" y="580"/>
                    </a:lnTo>
                    <a:lnTo>
                      <a:pt x="619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502" y="580"/>
                    </a:lnTo>
                    <a:lnTo>
                      <a:pt x="501" y="580"/>
                    </a:lnTo>
                    <a:lnTo>
                      <a:pt x="500" y="580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641"/>
                    </a:lnTo>
                    <a:lnTo>
                      <a:pt x="500" y="642"/>
                    </a:lnTo>
                    <a:lnTo>
                      <a:pt x="500" y="643"/>
                    </a:lnTo>
                    <a:lnTo>
                      <a:pt x="501" y="643"/>
                    </a:lnTo>
                    <a:lnTo>
                      <a:pt x="502" y="643"/>
                    </a:lnTo>
                    <a:lnTo>
                      <a:pt x="502" y="643"/>
                    </a:lnTo>
                    <a:close/>
                    <a:moveTo>
                      <a:pt x="651" y="643"/>
                    </a:moveTo>
                    <a:lnTo>
                      <a:pt x="767" y="643"/>
                    </a:lnTo>
                    <a:lnTo>
                      <a:pt x="768" y="643"/>
                    </a:lnTo>
                    <a:lnTo>
                      <a:pt x="769" y="643"/>
                    </a:lnTo>
                    <a:lnTo>
                      <a:pt x="770" y="642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581"/>
                    </a:lnTo>
                    <a:lnTo>
                      <a:pt x="770" y="581"/>
                    </a:lnTo>
                    <a:lnTo>
                      <a:pt x="769" y="580"/>
                    </a:lnTo>
                    <a:lnTo>
                      <a:pt x="768" y="580"/>
                    </a:lnTo>
                    <a:lnTo>
                      <a:pt x="767" y="580"/>
                    </a:lnTo>
                    <a:lnTo>
                      <a:pt x="767" y="580"/>
                    </a:lnTo>
                    <a:lnTo>
                      <a:pt x="651" y="580"/>
                    </a:lnTo>
                    <a:lnTo>
                      <a:pt x="651" y="580"/>
                    </a:lnTo>
                    <a:lnTo>
                      <a:pt x="650" y="580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641"/>
                    </a:lnTo>
                    <a:lnTo>
                      <a:pt x="649" y="642"/>
                    </a:lnTo>
                    <a:lnTo>
                      <a:pt x="650" y="643"/>
                    </a:lnTo>
                    <a:lnTo>
                      <a:pt x="651" y="643"/>
                    </a:lnTo>
                    <a:lnTo>
                      <a:pt x="651" y="643"/>
                    </a:lnTo>
                    <a:lnTo>
                      <a:pt x="651" y="643"/>
                    </a:lnTo>
                    <a:close/>
                    <a:moveTo>
                      <a:pt x="971" y="643"/>
                    </a:moveTo>
                    <a:lnTo>
                      <a:pt x="1086" y="643"/>
                    </a:lnTo>
                    <a:lnTo>
                      <a:pt x="1087" y="643"/>
                    </a:lnTo>
                    <a:lnTo>
                      <a:pt x="1087" y="643"/>
                    </a:lnTo>
                    <a:lnTo>
                      <a:pt x="1087" y="642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581"/>
                    </a:lnTo>
                    <a:lnTo>
                      <a:pt x="1087" y="581"/>
                    </a:lnTo>
                    <a:lnTo>
                      <a:pt x="1087" y="580"/>
                    </a:lnTo>
                    <a:lnTo>
                      <a:pt x="1087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971" y="580"/>
                    </a:lnTo>
                    <a:lnTo>
                      <a:pt x="970" y="580"/>
                    </a:lnTo>
                    <a:lnTo>
                      <a:pt x="968" y="580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641"/>
                    </a:lnTo>
                    <a:lnTo>
                      <a:pt x="968" y="642"/>
                    </a:lnTo>
                    <a:lnTo>
                      <a:pt x="968" y="643"/>
                    </a:lnTo>
                    <a:lnTo>
                      <a:pt x="970" y="643"/>
                    </a:lnTo>
                    <a:lnTo>
                      <a:pt x="971" y="643"/>
                    </a:lnTo>
                    <a:lnTo>
                      <a:pt x="971" y="643"/>
                    </a:lnTo>
                    <a:close/>
                    <a:moveTo>
                      <a:pt x="1120" y="643"/>
                    </a:moveTo>
                    <a:lnTo>
                      <a:pt x="1235" y="643"/>
                    </a:lnTo>
                    <a:lnTo>
                      <a:pt x="1236" y="643"/>
                    </a:lnTo>
                    <a:lnTo>
                      <a:pt x="1238" y="643"/>
                    </a:lnTo>
                    <a:lnTo>
                      <a:pt x="1239" y="642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581"/>
                    </a:lnTo>
                    <a:lnTo>
                      <a:pt x="1239" y="581"/>
                    </a:lnTo>
                    <a:lnTo>
                      <a:pt x="1238" y="580"/>
                    </a:lnTo>
                    <a:lnTo>
                      <a:pt x="1236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120" y="580"/>
                    </a:lnTo>
                    <a:lnTo>
                      <a:pt x="1120" y="580"/>
                    </a:lnTo>
                    <a:lnTo>
                      <a:pt x="1119" y="580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641"/>
                    </a:lnTo>
                    <a:lnTo>
                      <a:pt x="1117" y="642"/>
                    </a:lnTo>
                    <a:lnTo>
                      <a:pt x="1119" y="643"/>
                    </a:lnTo>
                    <a:lnTo>
                      <a:pt x="1120" y="643"/>
                    </a:lnTo>
                    <a:lnTo>
                      <a:pt x="1120" y="643"/>
                    </a:lnTo>
                    <a:lnTo>
                      <a:pt x="1120" y="643"/>
                    </a:lnTo>
                    <a:close/>
                    <a:moveTo>
                      <a:pt x="1120" y="338"/>
                    </a:moveTo>
                    <a:lnTo>
                      <a:pt x="1235" y="338"/>
                    </a:lnTo>
                    <a:lnTo>
                      <a:pt x="1236" y="338"/>
                    </a:lnTo>
                    <a:lnTo>
                      <a:pt x="1238" y="338"/>
                    </a:lnTo>
                    <a:lnTo>
                      <a:pt x="1239" y="336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277"/>
                    </a:lnTo>
                    <a:lnTo>
                      <a:pt x="1239" y="274"/>
                    </a:lnTo>
                    <a:lnTo>
                      <a:pt x="1238" y="274"/>
                    </a:lnTo>
                    <a:lnTo>
                      <a:pt x="1236" y="274"/>
                    </a:lnTo>
                    <a:lnTo>
                      <a:pt x="1235" y="274"/>
                    </a:lnTo>
                    <a:lnTo>
                      <a:pt x="1235" y="274"/>
                    </a:lnTo>
                    <a:lnTo>
                      <a:pt x="1120" y="274"/>
                    </a:lnTo>
                    <a:lnTo>
                      <a:pt x="1120" y="274"/>
                    </a:lnTo>
                    <a:lnTo>
                      <a:pt x="1119" y="274"/>
                    </a:lnTo>
                    <a:lnTo>
                      <a:pt x="1117" y="274"/>
                    </a:lnTo>
                    <a:lnTo>
                      <a:pt x="1117" y="277"/>
                    </a:lnTo>
                    <a:lnTo>
                      <a:pt x="1117" y="277"/>
                    </a:lnTo>
                    <a:lnTo>
                      <a:pt x="1117" y="335"/>
                    </a:lnTo>
                    <a:lnTo>
                      <a:pt x="1117" y="336"/>
                    </a:lnTo>
                    <a:lnTo>
                      <a:pt x="1119" y="338"/>
                    </a:lnTo>
                    <a:lnTo>
                      <a:pt x="1120" y="338"/>
                    </a:lnTo>
                    <a:lnTo>
                      <a:pt x="1120" y="338"/>
                    </a:lnTo>
                    <a:lnTo>
                      <a:pt x="1120" y="338"/>
                    </a:lnTo>
                    <a:close/>
                    <a:moveTo>
                      <a:pt x="971" y="338"/>
                    </a:moveTo>
                    <a:lnTo>
                      <a:pt x="1086" y="338"/>
                    </a:lnTo>
                    <a:lnTo>
                      <a:pt x="1087" y="338"/>
                    </a:lnTo>
                    <a:lnTo>
                      <a:pt x="1087" y="338"/>
                    </a:lnTo>
                    <a:lnTo>
                      <a:pt x="1087" y="336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277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6" y="274"/>
                    </a:lnTo>
                    <a:lnTo>
                      <a:pt x="1086" y="274"/>
                    </a:lnTo>
                    <a:lnTo>
                      <a:pt x="971" y="274"/>
                    </a:lnTo>
                    <a:lnTo>
                      <a:pt x="970" y="274"/>
                    </a:lnTo>
                    <a:lnTo>
                      <a:pt x="968" y="274"/>
                    </a:lnTo>
                    <a:lnTo>
                      <a:pt x="968" y="274"/>
                    </a:lnTo>
                    <a:lnTo>
                      <a:pt x="968" y="277"/>
                    </a:lnTo>
                    <a:lnTo>
                      <a:pt x="968" y="277"/>
                    </a:lnTo>
                    <a:lnTo>
                      <a:pt x="968" y="335"/>
                    </a:lnTo>
                    <a:lnTo>
                      <a:pt x="968" y="336"/>
                    </a:lnTo>
                    <a:lnTo>
                      <a:pt x="968" y="338"/>
                    </a:lnTo>
                    <a:lnTo>
                      <a:pt x="970" y="338"/>
                    </a:lnTo>
                    <a:lnTo>
                      <a:pt x="971" y="338"/>
                    </a:lnTo>
                    <a:lnTo>
                      <a:pt x="971" y="338"/>
                    </a:lnTo>
                    <a:close/>
                    <a:moveTo>
                      <a:pt x="651" y="338"/>
                    </a:moveTo>
                    <a:lnTo>
                      <a:pt x="767" y="338"/>
                    </a:lnTo>
                    <a:lnTo>
                      <a:pt x="768" y="338"/>
                    </a:lnTo>
                    <a:lnTo>
                      <a:pt x="769" y="338"/>
                    </a:lnTo>
                    <a:lnTo>
                      <a:pt x="770" y="336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277"/>
                    </a:lnTo>
                    <a:lnTo>
                      <a:pt x="770" y="274"/>
                    </a:lnTo>
                    <a:lnTo>
                      <a:pt x="769" y="274"/>
                    </a:lnTo>
                    <a:lnTo>
                      <a:pt x="768" y="274"/>
                    </a:lnTo>
                    <a:lnTo>
                      <a:pt x="767" y="274"/>
                    </a:lnTo>
                    <a:lnTo>
                      <a:pt x="651" y="274"/>
                    </a:lnTo>
                    <a:lnTo>
                      <a:pt x="651" y="274"/>
                    </a:lnTo>
                    <a:lnTo>
                      <a:pt x="650" y="274"/>
                    </a:lnTo>
                    <a:lnTo>
                      <a:pt x="649" y="274"/>
                    </a:lnTo>
                    <a:lnTo>
                      <a:pt x="649" y="277"/>
                    </a:lnTo>
                    <a:lnTo>
                      <a:pt x="649" y="277"/>
                    </a:lnTo>
                    <a:lnTo>
                      <a:pt x="649" y="335"/>
                    </a:lnTo>
                    <a:lnTo>
                      <a:pt x="649" y="336"/>
                    </a:lnTo>
                    <a:lnTo>
                      <a:pt x="650" y="338"/>
                    </a:lnTo>
                    <a:lnTo>
                      <a:pt x="651" y="338"/>
                    </a:lnTo>
                    <a:lnTo>
                      <a:pt x="651" y="338"/>
                    </a:lnTo>
                    <a:lnTo>
                      <a:pt x="651" y="338"/>
                    </a:lnTo>
                    <a:close/>
                    <a:moveTo>
                      <a:pt x="502" y="338"/>
                    </a:moveTo>
                    <a:lnTo>
                      <a:pt x="617" y="338"/>
                    </a:lnTo>
                    <a:lnTo>
                      <a:pt x="619" y="338"/>
                    </a:lnTo>
                    <a:lnTo>
                      <a:pt x="619" y="338"/>
                    </a:lnTo>
                    <a:lnTo>
                      <a:pt x="619" y="336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277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7" y="274"/>
                    </a:lnTo>
                    <a:lnTo>
                      <a:pt x="617" y="274"/>
                    </a:lnTo>
                    <a:lnTo>
                      <a:pt x="502" y="274"/>
                    </a:lnTo>
                    <a:lnTo>
                      <a:pt x="501" y="274"/>
                    </a:lnTo>
                    <a:lnTo>
                      <a:pt x="500" y="274"/>
                    </a:lnTo>
                    <a:lnTo>
                      <a:pt x="500" y="274"/>
                    </a:lnTo>
                    <a:lnTo>
                      <a:pt x="500" y="277"/>
                    </a:lnTo>
                    <a:lnTo>
                      <a:pt x="500" y="277"/>
                    </a:lnTo>
                    <a:lnTo>
                      <a:pt x="500" y="335"/>
                    </a:lnTo>
                    <a:lnTo>
                      <a:pt x="500" y="336"/>
                    </a:lnTo>
                    <a:lnTo>
                      <a:pt x="500" y="338"/>
                    </a:lnTo>
                    <a:lnTo>
                      <a:pt x="501" y="338"/>
                    </a:lnTo>
                    <a:lnTo>
                      <a:pt x="502" y="338"/>
                    </a:lnTo>
                    <a:lnTo>
                      <a:pt x="502" y="338"/>
                    </a:lnTo>
                    <a:close/>
                    <a:moveTo>
                      <a:pt x="352" y="338"/>
                    </a:moveTo>
                    <a:lnTo>
                      <a:pt x="466" y="338"/>
                    </a:lnTo>
                    <a:lnTo>
                      <a:pt x="467" y="338"/>
                    </a:lnTo>
                    <a:lnTo>
                      <a:pt x="468" y="338"/>
                    </a:lnTo>
                    <a:lnTo>
                      <a:pt x="470" y="336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277"/>
                    </a:lnTo>
                    <a:lnTo>
                      <a:pt x="470" y="274"/>
                    </a:lnTo>
                    <a:lnTo>
                      <a:pt x="468" y="274"/>
                    </a:lnTo>
                    <a:lnTo>
                      <a:pt x="467" y="274"/>
                    </a:lnTo>
                    <a:lnTo>
                      <a:pt x="466" y="274"/>
                    </a:lnTo>
                    <a:lnTo>
                      <a:pt x="352" y="274"/>
                    </a:lnTo>
                    <a:lnTo>
                      <a:pt x="351" y="274"/>
                    </a:lnTo>
                    <a:lnTo>
                      <a:pt x="349" y="274"/>
                    </a:lnTo>
                    <a:lnTo>
                      <a:pt x="348" y="274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335"/>
                    </a:lnTo>
                    <a:lnTo>
                      <a:pt x="348" y="336"/>
                    </a:lnTo>
                    <a:lnTo>
                      <a:pt x="349" y="338"/>
                    </a:lnTo>
                    <a:lnTo>
                      <a:pt x="351" y="338"/>
                    </a:lnTo>
                    <a:lnTo>
                      <a:pt x="352" y="338"/>
                    </a:lnTo>
                    <a:lnTo>
                      <a:pt x="352" y="338"/>
                    </a:lnTo>
                    <a:close/>
                    <a:moveTo>
                      <a:pt x="4" y="338"/>
                    </a:moveTo>
                    <a:lnTo>
                      <a:pt x="151" y="338"/>
                    </a:lnTo>
                    <a:lnTo>
                      <a:pt x="153" y="338"/>
                    </a:lnTo>
                    <a:lnTo>
                      <a:pt x="154" y="338"/>
                    </a:lnTo>
                    <a:lnTo>
                      <a:pt x="155" y="336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277"/>
                    </a:lnTo>
                    <a:lnTo>
                      <a:pt x="155" y="274"/>
                    </a:lnTo>
                    <a:lnTo>
                      <a:pt x="154" y="274"/>
                    </a:lnTo>
                    <a:lnTo>
                      <a:pt x="153" y="274"/>
                    </a:lnTo>
                    <a:lnTo>
                      <a:pt x="151" y="274"/>
                    </a:lnTo>
                    <a:lnTo>
                      <a:pt x="4" y="274"/>
                    </a:lnTo>
                    <a:lnTo>
                      <a:pt x="2" y="274"/>
                    </a:lnTo>
                    <a:lnTo>
                      <a:pt x="1" y="274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335"/>
                    </a:lnTo>
                    <a:lnTo>
                      <a:pt x="0" y="336"/>
                    </a:lnTo>
                    <a:lnTo>
                      <a:pt x="1" y="338"/>
                    </a:lnTo>
                    <a:lnTo>
                      <a:pt x="2" y="338"/>
                    </a:lnTo>
                    <a:lnTo>
                      <a:pt x="4" y="338"/>
                    </a:lnTo>
                    <a:lnTo>
                      <a:pt x="4" y="338"/>
                    </a:lnTo>
                    <a:close/>
                    <a:moveTo>
                      <a:pt x="1849" y="74"/>
                    </a:moveTo>
                    <a:lnTo>
                      <a:pt x="1849" y="156"/>
                    </a:lnTo>
                    <a:lnTo>
                      <a:pt x="1849" y="157"/>
                    </a:lnTo>
                    <a:lnTo>
                      <a:pt x="1850" y="157"/>
                    </a:lnTo>
                    <a:lnTo>
                      <a:pt x="1852" y="158"/>
                    </a:lnTo>
                    <a:lnTo>
                      <a:pt x="1853" y="158"/>
                    </a:lnTo>
                    <a:lnTo>
                      <a:pt x="1853" y="158"/>
                    </a:lnTo>
                    <a:lnTo>
                      <a:pt x="1912" y="158"/>
                    </a:lnTo>
                    <a:lnTo>
                      <a:pt x="1913" y="158"/>
                    </a:lnTo>
                    <a:lnTo>
                      <a:pt x="1914" y="157"/>
                    </a:lnTo>
                    <a:lnTo>
                      <a:pt x="1914" y="157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74"/>
                    </a:lnTo>
                    <a:lnTo>
                      <a:pt x="1914" y="72"/>
                    </a:lnTo>
                    <a:lnTo>
                      <a:pt x="1914" y="71"/>
                    </a:lnTo>
                    <a:lnTo>
                      <a:pt x="1913" y="71"/>
                    </a:lnTo>
                    <a:lnTo>
                      <a:pt x="1912" y="71"/>
                    </a:lnTo>
                    <a:lnTo>
                      <a:pt x="1912" y="71"/>
                    </a:lnTo>
                    <a:lnTo>
                      <a:pt x="1853" y="71"/>
                    </a:lnTo>
                    <a:lnTo>
                      <a:pt x="1852" y="71"/>
                    </a:lnTo>
                    <a:lnTo>
                      <a:pt x="1850" y="71"/>
                    </a:lnTo>
                    <a:lnTo>
                      <a:pt x="1849" y="72"/>
                    </a:lnTo>
                    <a:lnTo>
                      <a:pt x="1849" y="74"/>
                    </a:lnTo>
                    <a:lnTo>
                      <a:pt x="1849" y="74"/>
                    </a:lnTo>
                    <a:close/>
                    <a:moveTo>
                      <a:pt x="1968" y="0"/>
                    </a:moveTo>
                    <a:lnTo>
                      <a:pt x="1968" y="80"/>
                    </a:lnTo>
                    <a:lnTo>
                      <a:pt x="1969" y="83"/>
                    </a:lnTo>
                    <a:lnTo>
                      <a:pt x="1969" y="84"/>
                    </a:lnTo>
                    <a:lnTo>
                      <a:pt x="1972" y="85"/>
                    </a:lnTo>
                    <a:lnTo>
                      <a:pt x="1973" y="85"/>
                    </a:lnTo>
                    <a:lnTo>
                      <a:pt x="1973" y="85"/>
                    </a:lnTo>
                    <a:lnTo>
                      <a:pt x="2066" y="85"/>
                    </a:lnTo>
                    <a:lnTo>
                      <a:pt x="2067" y="85"/>
                    </a:lnTo>
                    <a:lnTo>
                      <a:pt x="2068" y="84"/>
                    </a:lnTo>
                    <a:lnTo>
                      <a:pt x="2070" y="83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0"/>
                    </a:lnTo>
                    <a:lnTo>
                      <a:pt x="1968" y="0"/>
                    </a:lnTo>
                    <a:lnTo>
                      <a:pt x="1968" y="0"/>
                    </a:lnTo>
                    <a:close/>
                    <a:moveTo>
                      <a:pt x="2010" y="190"/>
                    </a:moveTo>
                    <a:lnTo>
                      <a:pt x="2010" y="274"/>
                    </a:lnTo>
                    <a:lnTo>
                      <a:pt x="2010" y="274"/>
                    </a:lnTo>
                    <a:lnTo>
                      <a:pt x="2011" y="276"/>
                    </a:lnTo>
                    <a:lnTo>
                      <a:pt x="2012" y="276"/>
                    </a:lnTo>
                    <a:lnTo>
                      <a:pt x="2013" y="277"/>
                    </a:lnTo>
                    <a:lnTo>
                      <a:pt x="2013" y="277"/>
                    </a:lnTo>
                    <a:lnTo>
                      <a:pt x="2072" y="277"/>
                    </a:lnTo>
                    <a:lnTo>
                      <a:pt x="2073" y="276"/>
                    </a:lnTo>
                    <a:lnTo>
                      <a:pt x="2075" y="276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190"/>
                    </a:lnTo>
                    <a:lnTo>
                      <a:pt x="2075" y="189"/>
                    </a:lnTo>
                    <a:lnTo>
                      <a:pt x="2075" y="187"/>
                    </a:lnTo>
                    <a:lnTo>
                      <a:pt x="2073" y="187"/>
                    </a:lnTo>
                    <a:lnTo>
                      <a:pt x="2072" y="187"/>
                    </a:lnTo>
                    <a:lnTo>
                      <a:pt x="2013" y="187"/>
                    </a:lnTo>
                    <a:lnTo>
                      <a:pt x="2012" y="187"/>
                    </a:lnTo>
                    <a:lnTo>
                      <a:pt x="2011" y="187"/>
                    </a:lnTo>
                    <a:lnTo>
                      <a:pt x="2010" y="189"/>
                    </a:lnTo>
                    <a:lnTo>
                      <a:pt x="2010" y="190"/>
                    </a:lnTo>
                    <a:lnTo>
                      <a:pt x="2010" y="190"/>
                    </a:lnTo>
                    <a:close/>
                    <a:moveTo>
                      <a:pt x="2127" y="190"/>
                    </a:moveTo>
                    <a:lnTo>
                      <a:pt x="2127" y="274"/>
                    </a:lnTo>
                    <a:lnTo>
                      <a:pt x="2127" y="274"/>
                    </a:lnTo>
                    <a:lnTo>
                      <a:pt x="2129" y="276"/>
                    </a:lnTo>
                    <a:lnTo>
                      <a:pt x="2130" y="276"/>
                    </a:lnTo>
                    <a:lnTo>
                      <a:pt x="2131" y="277"/>
                    </a:lnTo>
                    <a:lnTo>
                      <a:pt x="2131" y="277"/>
                    </a:lnTo>
                    <a:lnTo>
                      <a:pt x="2190" y="277"/>
                    </a:lnTo>
                    <a:lnTo>
                      <a:pt x="2192" y="276"/>
                    </a:lnTo>
                    <a:lnTo>
                      <a:pt x="2194" y="276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190"/>
                    </a:lnTo>
                    <a:lnTo>
                      <a:pt x="2195" y="189"/>
                    </a:lnTo>
                    <a:lnTo>
                      <a:pt x="2194" y="187"/>
                    </a:lnTo>
                    <a:lnTo>
                      <a:pt x="2192" y="187"/>
                    </a:lnTo>
                    <a:lnTo>
                      <a:pt x="2190" y="187"/>
                    </a:lnTo>
                    <a:lnTo>
                      <a:pt x="2131" y="187"/>
                    </a:lnTo>
                    <a:lnTo>
                      <a:pt x="2130" y="187"/>
                    </a:lnTo>
                    <a:lnTo>
                      <a:pt x="2129" y="187"/>
                    </a:lnTo>
                    <a:lnTo>
                      <a:pt x="2127" y="189"/>
                    </a:lnTo>
                    <a:lnTo>
                      <a:pt x="2127" y="190"/>
                    </a:lnTo>
                    <a:lnTo>
                      <a:pt x="2127" y="190"/>
                    </a:lnTo>
                    <a:close/>
                    <a:moveTo>
                      <a:pt x="2270" y="190"/>
                    </a:moveTo>
                    <a:lnTo>
                      <a:pt x="2270" y="274"/>
                    </a:lnTo>
                    <a:lnTo>
                      <a:pt x="2270" y="274"/>
                    </a:lnTo>
                    <a:lnTo>
                      <a:pt x="2271" y="276"/>
                    </a:lnTo>
                    <a:lnTo>
                      <a:pt x="2273" y="276"/>
                    </a:lnTo>
                    <a:lnTo>
                      <a:pt x="2274" y="277"/>
                    </a:lnTo>
                    <a:lnTo>
                      <a:pt x="2274" y="277"/>
                    </a:lnTo>
                    <a:lnTo>
                      <a:pt x="2333" y="277"/>
                    </a:lnTo>
                    <a:lnTo>
                      <a:pt x="2334" y="276"/>
                    </a:lnTo>
                    <a:lnTo>
                      <a:pt x="2337" y="276"/>
                    </a:lnTo>
                    <a:lnTo>
                      <a:pt x="2337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190"/>
                    </a:lnTo>
                    <a:lnTo>
                      <a:pt x="2337" y="189"/>
                    </a:lnTo>
                    <a:lnTo>
                      <a:pt x="2337" y="187"/>
                    </a:lnTo>
                    <a:lnTo>
                      <a:pt x="2334" y="187"/>
                    </a:lnTo>
                    <a:lnTo>
                      <a:pt x="2333" y="187"/>
                    </a:lnTo>
                    <a:lnTo>
                      <a:pt x="2274" y="187"/>
                    </a:lnTo>
                    <a:lnTo>
                      <a:pt x="2273" y="187"/>
                    </a:lnTo>
                    <a:lnTo>
                      <a:pt x="2271" y="187"/>
                    </a:lnTo>
                    <a:lnTo>
                      <a:pt x="2270" y="189"/>
                    </a:lnTo>
                    <a:lnTo>
                      <a:pt x="2270" y="190"/>
                    </a:lnTo>
                    <a:lnTo>
                      <a:pt x="2270" y="190"/>
                    </a:lnTo>
                    <a:close/>
                    <a:moveTo>
                      <a:pt x="2270" y="0"/>
                    </a:moveTo>
                    <a:lnTo>
                      <a:pt x="2270" y="80"/>
                    </a:lnTo>
                    <a:lnTo>
                      <a:pt x="2270" y="83"/>
                    </a:lnTo>
                    <a:lnTo>
                      <a:pt x="2271" y="84"/>
                    </a:lnTo>
                    <a:lnTo>
                      <a:pt x="2273" y="85"/>
                    </a:lnTo>
                    <a:lnTo>
                      <a:pt x="2274" y="85"/>
                    </a:lnTo>
                    <a:lnTo>
                      <a:pt x="2274" y="85"/>
                    </a:lnTo>
                    <a:lnTo>
                      <a:pt x="2367" y="85"/>
                    </a:lnTo>
                    <a:lnTo>
                      <a:pt x="2369" y="85"/>
                    </a:lnTo>
                    <a:lnTo>
                      <a:pt x="2370" y="84"/>
                    </a:lnTo>
                    <a:lnTo>
                      <a:pt x="2372" y="83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0"/>
                    </a:lnTo>
                    <a:lnTo>
                      <a:pt x="2270" y="0"/>
                    </a:lnTo>
                    <a:lnTo>
                      <a:pt x="2270" y="0"/>
                    </a:lnTo>
                    <a:close/>
                    <a:moveTo>
                      <a:pt x="2322" y="397"/>
                    </a:moveTo>
                    <a:lnTo>
                      <a:pt x="2322" y="392"/>
                    </a:lnTo>
                    <a:lnTo>
                      <a:pt x="2320" y="388"/>
                    </a:lnTo>
                    <a:lnTo>
                      <a:pt x="2318" y="383"/>
                    </a:lnTo>
                    <a:lnTo>
                      <a:pt x="2314" y="379"/>
                    </a:lnTo>
                    <a:lnTo>
                      <a:pt x="2310" y="377"/>
                    </a:lnTo>
                    <a:lnTo>
                      <a:pt x="2306" y="374"/>
                    </a:lnTo>
                    <a:lnTo>
                      <a:pt x="2301" y="373"/>
                    </a:lnTo>
                    <a:lnTo>
                      <a:pt x="2296" y="372"/>
                    </a:lnTo>
                    <a:lnTo>
                      <a:pt x="2291" y="373"/>
                    </a:lnTo>
                    <a:lnTo>
                      <a:pt x="2288" y="374"/>
                    </a:lnTo>
                    <a:lnTo>
                      <a:pt x="2283" y="377"/>
                    </a:lnTo>
                    <a:lnTo>
                      <a:pt x="2279" y="379"/>
                    </a:lnTo>
                    <a:lnTo>
                      <a:pt x="2276" y="383"/>
                    </a:lnTo>
                    <a:lnTo>
                      <a:pt x="2274" y="388"/>
                    </a:lnTo>
                    <a:lnTo>
                      <a:pt x="2273" y="392"/>
                    </a:lnTo>
                    <a:lnTo>
                      <a:pt x="2271" y="397"/>
                    </a:lnTo>
                    <a:lnTo>
                      <a:pt x="2273" y="402"/>
                    </a:lnTo>
                    <a:lnTo>
                      <a:pt x="2274" y="407"/>
                    </a:lnTo>
                    <a:lnTo>
                      <a:pt x="2276" y="411"/>
                    </a:lnTo>
                    <a:lnTo>
                      <a:pt x="2279" y="415"/>
                    </a:lnTo>
                    <a:lnTo>
                      <a:pt x="2283" y="418"/>
                    </a:lnTo>
                    <a:lnTo>
                      <a:pt x="2288" y="420"/>
                    </a:lnTo>
                    <a:lnTo>
                      <a:pt x="2291" y="422"/>
                    </a:lnTo>
                    <a:lnTo>
                      <a:pt x="2296" y="422"/>
                    </a:lnTo>
                    <a:lnTo>
                      <a:pt x="2301" y="422"/>
                    </a:lnTo>
                    <a:lnTo>
                      <a:pt x="2306" y="420"/>
                    </a:lnTo>
                    <a:lnTo>
                      <a:pt x="2310" y="418"/>
                    </a:lnTo>
                    <a:lnTo>
                      <a:pt x="2314" y="415"/>
                    </a:lnTo>
                    <a:lnTo>
                      <a:pt x="2318" y="411"/>
                    </a:lnTo>
                    <a:lnTo>
                      <a:pt x="2320" y="407"/>
                    </a:lnTo>
                    <a:lnTo>
                      <a:pt x="2322" y="402"/>
                    </a:lnTo>
                    <a:lnTo>
                      <a:pt x="2322" y="397"/>
                    </a:lnTo>
                    <a:lnTo>
                      <a:pt x="2322" y="397"/>
                    </a:lnTo>
                    <a:close/>
                    <a:moveTo>
                      <a:pt x="2251" y="547"/>
                    </a:moveTo>
                    <a:lnTo>
                      <a:pt x="2367" y="547"/>
                    </a:lnTo>
                    <a:lnTo>
                      <a:pt x="2369" y="547"/>
                    </a:lnTo>
                    <a:lnTo>
                      <a:pt x="2370" y="547"/>
                    </a:lnTo>
                    <a:lnTo>
                      <a:pt x="2372" y="547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495"/>
                    </a:lnTo>
                    <a:lnTo>
                      <a:pt x="2372" y="495"/>
                    </a:lnTo>
                    <a:lnTo>
                      <a:pt x="2370" y="494"/>
                    </a:lnTo>
                    <a:lnTo>
                      <a:pt x="2369" y="493"/>
                    </a:lnTo>
                    <a:lnTo>
                      <a:pt x="2367" y="493"/>
                    </a:lnTo>
                    <a:lnTo>
                      <a:pt x="2251" y="493"/>
                    </a:lnTo>
                    <a:lnTo>
                      <a:pt x="2251" y="493"/>
                    </a:lnTo>
                    <a:lnTo>
                      <a:pt x="2250" y="494"/>
                    </a:lnTo>
                    <a:lnTo>
                      <a:pt x="2250" y="495"/>
                    </a:lnTo>
                    <a:lnTo>
                      <a:pt x="2249" y="495"/>
                    </a:lnTo>
                    <a:lnTo>
                      <a:pt x="2249" y="495"/>
                    </a:lnTo>
                    <a:lnTo>
                      <a:pt x="2249" y="546"/>
                    </a:lnTo>
                    <a:lnTo>
                      <a:pt x="2250" y="547"/>
                    </a:lnTo>
                    <a:lnTo>
                      <a:pt x="2250" y="547"/>
                    </a:lnTo>
                    <a:lnTo>
                      <a:pt x="2251" y="547"/>
                    </a:lnTo>
                    <a:lnTo>
                      <a:pt x="2251" y="547"/>
                    </a:lnTo>
                    <a:lnTo>
                      <a:pt x="2251" y="547"/>
                    </a:lnTo>
                    <a:close/>
                    <a:moveTo>
                      <a:pt x="2063" y="547"/>
                    </a:moveTo>
                    <a:lnTo>
                      <a:pt x="2179" y="547"/>
                    </a:lnTo>
                    <a:lnTo>
                      <a:pt x="2180" y="547"/>
                    </a:lnTo>
                    <a:lnTo>
                      <a:pt x="2181" y="547"/>
                    </a:lnTo>
                    <a:lnTo>
                      <a:pt x="2181" y="547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495"/>
                    </a:lnTo>
                    <a:lnTo>
                      <a:pt x="2181" y="495"/>
                    </a:lnTo>
                    <a:lnTo>
                      <a:pt x="2181" y="494"/>
                    </a:lnTo>
                    <a:lnTo>
                      <a:pt x="2180" y="493"/>
                    </a:lnTo>
                    <a:lnTo>
                      <a:pt x="2179" y="493"/>
                    </a:lnTo>
                    <a:lnTo>
                      <a:pt x="2179" y="493"/>
                    </a:lnTo>
                    <a:lnTo>
                      <a:pt x="2063" y="493"/>
                    </a:lnTo>
                    <a:lnTo>
                      <a:pt x="2062" y="493"/>
                    </a:lnTo>
                    <a:lnTo>
                      <a:pt x="2062" y="494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546"/>
                    </a:lnTo>
                    <a:lnTo>
                      <a:pt x="2061" y="547"/>
                    </a:lnTo>
                    <a:lnTo>
                      <a:pt x="2062" y="547"/>
                    </a:lnTo>
                    <a:lnTo>
                      <a:pt x="2062" y="547"/>
                    </a:lnTo>
                    <a:lnTo>
                      <a:pt x="2063" y="547"/>
                    </a:lnTo>
                    <a:lnTo>
                      <a:pt x="2063" y="547"/>
                    </a:lnTo>
                    <a:close/>
                    <a:moveTo>
                      <a:pt x="1875" y="547"/>
                    </a:moveTo>
                    <a:lnTo>
                      <a:pt x="1989" y="547"/>
                    </a:lnTo>
                    <a:lnTo>
                      <a:pt x="1991" y="547"/>
                    </a:lnTo>
                    <a:lnTo>
                      <a:pt x="1992" y="547"/>
                    </a:lnTo>
                    <a:lnTo>
                      <a:pt x="1993" y="547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495"/>
                    </a:lnTo>
                    <a:lnTo>
                      <a:pt x="1993" y="495"/>
                    </a:lnTo>
                    <a:lnTo>
                      <a:pt x="1992" y="494"/>
                    </a:lnTo>
                    <a:lnTo>
                      <a:pt x="1991" y="493"/>
                    </a:lnTo>
                    <a:lnTo>
                      <a:pt x="1989" y="493"/>
                    </a:lnTo>
                    <a:lnTo>
                      <a:pt x="1989" y="493"/>
                    </a:lnTo>
                    <a:lnTo>
                      <a:pt x="1875" y="493"/>
                    </a:lnTo>
                    <a:lnTo>
                      <a:pt x="1874" y="493"/>
                    </a:lnTo>
                    <a:lnTo>
                      <a:pt x="1873" y="494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546"/>
                    </a:lnTo>
                    <a:lnTo>
                      <a:pt x="1872" y="547"/>
                    </a:lnTo>
                    <a:lnTo>
                      <a:pt x="1873" y="547"/>
                    </a:lnTo>
                    <a:lnTo>
                      <a:pt x="1874" y="547"/>
                    </a:lnTo>
                    <a:lnTo>
                      <a:pt x="1875" y="547"/>
                    </a:lnTo>
                    <a:lnTo>
                      <a:pt x="1875" y="547"/>
                    </a:lnTo>
                    <a:close/>
                    <a:moveTo>
                      <a:pt x="1968" y="397"/>
                    </a:moveTo>
                    <a:lnTo>
                      <a:pt x="1968" y="392"/>
                    </a:lnTo>
                    <a:lnTo>
                      <a:pt x="1967" y="388"/>
                    </a:lnTo>
                    <a:lnTo>
                      <a:pt x="1964" y="383"/>
                    </a:lnTo>
                    <a:lnTo>
                      <a:pt x="1962" y="379"/>
                    </a:lnTo>
                    <a:lnTo>
                      <a:pt x="1958" y="377"/>
                    </a:lnTo>
                    <a:lnTo>
                      <a:pt x="1954" y="374"/>
                    </a:lnTo>
                    <a:lnTo>
                      <a:pt x="1949" y="373"/>
                    </a:lnTo>
                    <a:lnTo>
                      <a:pt x="1943" y="372"/>
                    </a:lnTo>
                    <a:lnTo>
                      <a:pt x="1939" y="373"/>
                    </a:lnTo>
                    <a:lnTo>
                      <a:pt x="1934" y="374"/>
                    </a:lnTo>
                    <a:lnTo>
                      <a:pt x="1931" y="377"/>
                    </a:lnTo>
                    <a:lnTo>
                      <a:pt x="1927" y="379"/>
                    </a:lnTo>
                    <a:lnTo>
                      <a:pt x="1924" y="383"/>
                    </a:lnTo>
                    <a:lnTo>
                      <a:pt x="1923" y="388"/>
                    </a:lnTo>
                    <a:lnTo>
                      <a:pt x="1922" y="392"/>
                    </a:lnTo>
                    <a:lnTo>
                      <a:pt x="1921" y="397"/>
                    </a:lnTo>
                    <a:lnTo>
                      <a:pt x="1922" y="402"/>
                    </a:lnTo>
                    <a:lnTo>
                      <a:pt x="1923" y="407"/>
                    </a:lnTo>
                    <a:lnTo>
                      <a:pt x="1924" y="411"/>
                    </a:lnTo>
                    <a:lnTo>
                      <a:pt x="1927" y="415"/>
                    </a:lnTo>
                    <a:lnTo>
                      <a:pt x="1931" y="418"/>
                    </a:lnTo>
                    <a:lnTo>
                      <a:pt x="1934" y="420"/>
                    </a:lnTo>
                    <a:lnTo>
                      <a:pt x="1939" y="422"/>
                    </a:lnTo>
                    <a:lnTo>
                      <a:pt x="1943" y="422"/>
                    </a:lnTo>
                    <a:lnTo>
                      <a:pt x="1949" y="422"/>
                    </a:lnTo>
                    <a:lnTo>
                      <a:pt x="1954" y="420"/>
                    </a:lnTo>
                    <a:lnTo>
                      <a:pt x="1958" y="418"/>
                    </a:lnTo>
                    <a:lnTo>
                      <a:pt x="1962" y="415"/>
                    </a:lnTo>
                    <a:lnTo>
                      <a:pt x="1964" y="411"/>
                    </a:lnTo>
                    <a:lnTo>
                      <a:pt x="1967" y="407"/>
                    </a:lnTo>
                    <a:lnTo>
                      <a:pt x="1968" y="402"/>
                    </a:lnTo>
                    <a:lnTo>
                      <a:pt x="1968" y="397"/>
                    </a:lnTo>
                    <a:lnTo>
                      <a:pt x="1968" y="397"/>
                    </a:lnTo>
                    <a:close/>
                    <a:moveTo>
                      <a:pt x="2835" y="295"/>
                    </a:moveTo>
                    <a:lnTo>
                      <a:pt x="2835" y="290"/>
                    </a:lnTo>
                    <a:lnTo>
                      <a:pt x="2834" y="285"/>
                    </a:lnTo>
                    <a:lnTo>
                      <a:pt x="2831" y="281"/>
                    </a:lnTo>
                    <a:lnTo>
                      <a:pt x="2828" y="277"/>
                    </a:lnTo>
                    <a:lnTo>
                      <a:pt x="2824" y="274"/>
                    </a:lnTo>
                    <a:lnTo>
                      <a:pt x="2820" y="272"/>
                    </a:lnTo>
                    <a:lnTo>
                      <a:pt x="2815" y="271"/>
                    </a:lnTo>
                    <a:lnTo>
                      <a:pt x="2810" y="269"/>
                    </a:lnTo>
                    <a:lnTo>
                      <a:pt x="2805" y="271"/>
                    </a:lnTo>
                    <a:lnTo>
                      <a:pt x="2801" y="272"/>
                    </a:lnTo>
                    <a:lnTo>
                      <a:pt x="2796" y="274"/>
                    </a:lnTo>
                    <a:lnTo>
                      <a:pt x="2793" y="277"/>
                    </a:lnTo>
                    <a:lnTo>
                      <a:pt x="2790" y="281"/>
                    </a:lnTo>
                    <a:lnTo>
                      <a:pt x="2788" y="285"/>
                    </a:lnTo>
                    <a:lnTo>
                      <a:pt x="2786" y="290"/>
                    </a:lnTo>
                    <a:lnTo>
                      <a:pt x="2785" y="295"/>
                    </a:lnTo>
                    <a:lnTo>
                      <a:pt x="2786" y="300"/>
                    </a:lnTo>
                    <a:lnTo>
                      <a:pt x="2788" y="305"/>
                    </a:lnTo>
                    <a:lnTo>
                      <a:pt x="2790" y="309"/>
                    </a:lnTo>
                    <a:lnTo>
                      <a:pt x="2793" y="312"/>
                    </a:lnTo>
                    <a:lnTo>
                      <a:pt x="2796" y="315"/>
                    </a:lnTo>
                    <a:lnTo>
                      <a:pt x="2801" y="317"/>
                    </a:lnTo>
                    <a:lnTo>
                      <a:pt x="2805" y="319"/>
                    </a:lnTo>
                    <a:lnTo>
                      <a:pt x="2810" y="320"/>
                    </a:lnTo>
                    <a:lnTo>
                      <a:pt x="2815" y="319"/>
                    </a:lnTo>
                    <a:lnTo>
                      <a:pt x="2820" y="317"/>
                    </a:lnTo>
                    <a:lnTo>
                      <a:pt x="2824" y="315"/>
                    </a:lnTo>
                    <a:lnTo>
                      <a:pt x="2828" y="312"/>
                    </a:lnTo>
                    <a:lnTo>
                      <a:pt x="2831" y="309"/>
                    </a:lnTo>
                    <a:lnTo>
                      <a:pt x="2834" y="305"/>
                    </a:lnTo>
                    <a:lnTo>
                      <a:pt x="2835" y="300"/>
                    </a:lnTo>
                    <a:lnTo>
                      <a:pt x="2835" y="295"/>
                    </a:lnTo>
                    <a:lnTo>
                      <a:pt x="2835" y="295"/>
                    </a:lnTo>
                    <a:close/>
                    <a:moveTo>
                      <a:pt x="2835" y="473"/>
                    </a:moveTo>
                    <a:lnTo>
                      <a:pt x="2835" y="468"/>
                    </a:lnTo>
                    <a:lnTo>
                      <a:pt x="2834" y="463"/>
                    </a:lnTo>
                    <a:lnTo>
                      <a:pt x="2831" y="459"/>
                    </a:lnTo>
                    <a:lnTo>
                      <a:pt x="2828" y="455"/>
                    </a:lnTo>
                    <a:lnTo>
                      <a:pt x="2824" y="451"/>
                    </a:lnTo>
                    <a:lnTo>
                      <a:pt x="2820" y="449"/>
                    </a:lnTo>
                    <a:lnTo>
                      <a:pt x="2815" y="447"/>
                    </a:lnTo>
                    <a:lnTo>
                      <a:pt x="2810" y="447"/>
                    </a:lnTo>
                    <a:lnTo>
                      <a:pt x="2805" y="447"/>
                    </a:lnTo>
                    <a:lnTo>
                      <a:pt x="2801" y="449"/>
                    </a:lnTo>
                    <a:lnTo>
                      <a:pt x="2796" y="451"/>
                    </a:lnTo>
                    <a:lnTo>
                      <a:pt x="2793" y="455"/>
                    </a:lnTo>
                    <a:lnTo>
                      <a:pt x="2790" y="459"/>
                    </a:lnTo>
                    <a:lnTo>
                      <a:pt x="2788" y="463"/>
                    </a:lnTo>
                    <a:lnTo>
                      <a:pt x="2786" y="468"/>
                    </a:lnTo>
                    <a:lnTo>
                      <a:pt x="2785" y="473"/>
                    </a:lnTo>
                    <a:lnTo>
                      <a:pt x="2786" y="478"/>
                    </a:lnTo>
                    <a:lnTo>
                      <a:pt x="2788" y="481"/>
                    </a:lnTo>
                    <a:lnTo>
                      <a:pt x="2790" y="487"/>
                    </a:lnTo>
                    <a:lnTo>
                      <a:pt x="2793" y="490"/>
                    </a:lnTo>
                    <a:lnTo>
                      <a:pt x="2796" y="493"/>
                    </a:lnTo>
                    <a:lnTo>
                      <a:pt x="2801" y="495"/>
                    </a:lnTo>
                    <a:lnTo>
                      <a:pt x="2805" y="497"/>
                    </a:lnTo>
                    <a:lnTo>
                      <a:pt x="2810" y="498"/>
                    </a:lnTo>
                    <a:lnTo>
                      <a:pt x="2815" y="497"/>
                    </a:lnTo>
                    <a:lnTo>
                      <a:pt x="2820" y="495"/>
                    </a:lnTo>
                    <a:lnTo>
                      <a:pt x="2824" y="493"/>
                    </a:lnTo>
                    <a:lnTo>
                      <a:pt x="2828" y="490"/>
                    </a:lnTo>
                    <a:lnTo>
                      <a:pt x="2831" y="487"/>
                    </a:lnTo>
                    <a:lnTo>
                      <a:pt x="2834" y="481"/>
                    </a:lnTo>
                    <a:lnTo>
                      <a:pt x="2835" y="478"/>
                    </a:lnTo>
                    <a:lnTo>
                      <a:pt x="2835" y="473"/>
                    </a:lnTo>
                    <a:lnTo>
                      <a:pt x="2835" y="473"/>
                    </a:lnTo>
                    <a:close/>
                    <a:moveTo>
                      <a:pt x="2835" y="651"/>
                    </a:moveTo>
                    <a:lnTo>
                      <a:pt x="2835" y="646"/>
                    </a:lnTo>
                    <a:lnTo>
                      <a:pt x="2834" y="641"/>
                    </a:lnTo>
                    <a:lnTo>
                      <a:pt x="2831" y="636"/>
                    </a:lnTo>
                    <a:lnTo>
                      <a:pt x="2828" y="633"/>
                    </a:lnTo>
                    <a:lnTo>
                      <a:pt x="2824" y="629"/>
                    </a:lnTo>
                    <a:lnTo>
                      <a:pt x="2820" y="627"/>
                    </a:lnTo>
                    <a:lnTo>
                      <a:pt x="2815" y="625"/>
                    </a:lnTo>
                    <a:lnTo>
                      <a:pt x="2810" y="625"/>
                    </a:lnTo>
                    <a:lnTo>
                      <a:pt x="2805" y="625"/>
                    </a:lnTo>
                    <a:lnTo>
                      <a:pt x="2801" y="627"/>
                    </a:lnTo>
                    <a:lnTo>
                      <a:pt x="2796" y="629"/>
                    </a:lnTo>
                    <a:lnTo>
                      <a:pt x="2793" y="633"/>
                    </a:lnTo>
                    <a:lnTo>
                      <a:pt x="2790" y="636"/>
                    </a:lnTo>
                    <a:lnTo>
                      <a:pt x="2788" y="641"/>
                    </a:lnTo>
                    <a:lnTo>
                      <a:pt x="2786" y="646"/>
                    </a:lnTo>
                    <a:lnTo>
                      <a:pt x="2785" y="651"/>
                    </a:lnTo>
                    <a:lnTo>
                      <a:pt x="2786" y="654"/>
                    </a:lnTo>
                    <a:lnTo>
                      <a:pt x="2788" y="660"/>
                    </a:lnTo>
                    <a:lnTo>
                      <a:pt x="2790" y="665"/>
                    </a:lnTo>
                    <a:lnTo>
                      <a:pt x="2793" y="668"/>
                    </a:lnTo>
                    <a:lnTo>
                      <a:pt x="2796" y="671"/>
                    </a:lnTo>
                    <a:lnTo>
                      <a:pt x="2801" y="673"/>
                    </a:lnTo>
                    <a:lnTo>
                      <a:pt x="2805" y="675"/>
                    </a:lnTo>
                    <a:lnTo>
                      <a:pt x="2810" y="675"/>
                    </a:lnTo>
                    <a:lnTo>
                      <a:pt x="2815" y="675"/>
                    </a:lnTo>
                    <a:lnTo>
                      <a:pt x="2820" y="673"/>
                    </a:lnTo>
                    <a:lnTo>
                      <a:pt x="2824" y="671"/>
                    </a:lnTo>
                    <a:lnTo>
                      <a:pt x="2828" y="668"/>
                    </a:lnTo>
                    <a:lnTo>
                      <a:pt x="2831" y="665"/>
                    </a:lnTo>
                    <a:lnTo>
                      <a:pt x="2834" y="660"/>
                    </a:lnTo>
                    <a:lnTo>
                      <a:pt x="2835" y="654"/>
                    </a:lnTo>
                    <a:lnTo>
                      <a:pt x="2835" y="651"/>
                    </a:lnTo>
                    <a:lnTo>
                      <a:pt x="2835" y="651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3011760" y="511632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52" y="86"/>
                    </a:lnTo>
                    <a:lnTo>
                      <a:pt x="153" y="86"/>
                    </a:lnTo>
                    <a:lnTo>
                      <a:pt x="153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3135960" y="5116320"/>
                <a:ext cx="107280" cy="4752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1" y="86"/>
                    </a:lnTo>
                    <a:lnTo>
                      <a:pt x="153" y="86"/>
                    </a:lnTo>
                    <a:lnTo>
                      <a:pt x="154" y="84"/>
                    </a:lnTo>
                    <a:lnTo>
                      <a:pt x="155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5" y="2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3262320" y="51163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3" y="86"/>
                    </a:moveTo>
                    <a:lnTo>
                      <a:pt x="152" y="86"/>
                    </a:lnTo>
                    <a:lnTo>
                      <a:pt x="152" y="86"/>
                    </a:lnTo>
                    <a:lnTo>
                      <a:pt x="153" y="84"/>
                    </a:lnTo>
                    <a:lnTo>
                      <a:pt x="154" y="83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4"/>
                    </a:lnTo>
                    <a:lnTo>
                      <a:pt x="154" y="2"/>
                    </a:lnTo>
                    <a:lnTo>
                      <a:pt x="153" y="1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3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3387240" y="5116320"/>
                <a:ext cx="105840" cy="4752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2" y="86"/>
                    </a:lnTo>
                    <a:lnTo>
                      <a:pt x="154" y="86"/>
                    </a:lnTo>
                    <a:lnTo>
                      <a:pt x="156" y="84"/>
                    </a:lnTo>
                    <a:lnTo>
                      <a:pt x="157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6" y="1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3513600" y="511632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49" y="86"/>
                    </a:lnTo>
                    <a:lnTo>
                      <a:pt x="150" y="86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2893680" y="4897440"/>
                <a:ext cx="105840" cy="35280"/>
              </a:xfrm>
              <a:custGeom>
                <a:avLst/>
                <a:gdLst/>
                <a:ahLst/>
                <a:rect l="l" t="t" r="r" b="b"/>
                <a:pathLst>
                  <a:path w="155" h="63">
                    <a:moveTo>
                      <a:pt x="4" y="63"/>
                    </a:moveTo>
                    <a:lnTo>
                      <a:pt x="151" y="63"/>
                    </a:lnTo>
                    <a:lnTo>
                      <a:pt x="153" y="63"/>
                    </a:lnTo>
                    <a:lnTo>
                      <a:pt x="154" y="63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3130200" y="489744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4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3233520" y="489744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0" h="63">
                    <a:moveTo>
                      <a:pt x="2" y="63"/>
                    </a:moveTo>
                    <a:lnTo>
                      <a:pt x="117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3334320" y="4897440"/>
                <a:ext cx="84240" cy="352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2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3552120" y="489744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1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3654000" y="489744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1" y="63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2" y="1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3654000" y="472752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1" y="64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3552120" y="472752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1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3334320" y="4727520"/>
                <a:ext cx="84240" cy="352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2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3233520" y="472752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2" y="64"/>
                    </a:moveTo>
                    <a:lnTo>
                      <a:pt x="117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3130200" y="472752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4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3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2893680" y="4727520"/>
                <a:ext cx="105840" cy="35280"/>
              </a:xfrm>
              <a:custGeom>
                <a:avLst/>
                <a:gdLst/>
                <a:ahLst/>
                <a:rect l="l" t="t" r="r" b="b"/>
                <a:pathLst>
                  <a:path w="155" h="64">
                    <a:moveTo>
                      <a:pt x="4" y="64"/>
                    </a:moveTo>
                    <a:lnTo>
                      <a:pt x="151" y="64"/>
                    </a:lnTo>
                    <a:lnTo>
                      <a:pt x="153" y="64"/>
                    </a:lnTo>
                    <a:lnTo>
                      <a:pt x="154" y="64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4151880" y="4615200"/>
                <a:ext cx="43200" cy="475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5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4232160" y="457524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98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4260600" y="4679640"/>
                <a:ext cx="43560" cy="48600"/>
              </a:xfrm>
              <a:custGeom>
                <a:avLst/>
                <a:gdLst/>
                <a:ahLst/>
                <a:rect l="l" t="t" r="r" b="b"/>
                <a:pathLst>
                  <a:path w="65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62" y="90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4341240" y="4679640"/>
                <a:ext cx="44640" cy="4860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7" y="89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4437720" y="467964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7" y="89"/>
                    </a:lnTo>
                    <a:lnTo>
                      <a:pt x="67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4437720" y="457524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0" y="0"/>
                    </a:moveTo>
                    <a:lnTo>
                      <a:pt x="0" y="80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97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4438800" y="478188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25"/>
                    </a:moveTo>
                    <a:lnTo>
                      <a:pt x="51" y="20"/>
                    </a:lnTo>
                    <a:lnTo>
                      <a:pt x="49" y="16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7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7" y="39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4422600" y="4848480"/>
                <a:ext cx="84240" cy="30960"/>
              </a:xfrm>
              <a:custGeom>
                <a:avLst/>
                <a:gdLst/>
                <a:ahLst/>
                <a:rect l="l" t="t" r="r" b="b"/>
                <a:pathLst>
                  <a:path w="123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4294800" y="4848480"/>
                <a:ext cx="82800" cy="3096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4166640" y="4848480"/>
                <a:ext cx="82800" cy="30960"/>
              </a:xfrm>
              <a:custGeom>
                <a:avLst/>
                <a:gdLst/>
                <a:ahLst/>
                <a:rect l="l" t="t" r="r" b="b"/>
                <a:pathLst>
                  <a:path w="121" h="54">
                    <a:moveTo>
                      <a:pt x="3" y="54"/>
                    </a:moveTo>
                    <a:lnTo>
                      <a:pt x="117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4199400" y="4781880"/>
                <a:ext cx="32400" cy="27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47" y="25"/>
                    </a:moveTo>
                    <a:lnTo>
                      <a:pt x="47" y="20"/>
                    </a:lnTo>
                    <a:lnTo>
                      <a:pt x="46" y="16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3"/>
                    </a:lnTo>
                    <a:lnTo>
                      <a:pt x="10" y="46"/>
                    </a:lnTo>
                    <a:lnTo>
                      <a:pt x="13" y="48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3" y="48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7" y="30"/>
                    </a:lnTo>
                    <a:lnTo>
                      <a:pt x="47" y="25"/>
                    </a:lnTo>
                    <a:lnTo>
                      <a:pt x="47" y="2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4788360" y="4725360"/>
                <a:ext cx="34200" cy="273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5"/>
                    </a:lnTo>
                    <a:lnTo>
                      <a:pt x="35" y="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6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4788360" y="4824000"/>
                <a:ext cx="34200" cy="273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4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4788360" y="4923000"/>
                <a:ext cx="34200" cy="2664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1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5"/>
                    </a:lnTo>
                    <a:lnTo>
                      <a:pt x="50" y="29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3976560" y="4573080"/>
                <a:ext cx="723600" cy="151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3976560" y="4573080"/>
                <a:ext cx="723600" cy="1512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5766480" y="4611960"/>
                <a:ext cx="740880" cy="362160"/>
              </a:xfrm>
              <a:custGeom>
                <a:avLst/>
                <a:gdLst/>
                <a:ahLst/>
                <a:rect l="l" t="t" r="r" b="b"/>
                <a:pathLst>
                  <a:path w="1091" h="653">
                    <a:moveTo>
                      <a:pt x="775" y="559"/>
                    </a:moveTo>
                    <a:lnTo>
                      <a:pt x="795" y="548"/>
                    </a:lnTo>
                    <a:lnTo>
                      <a:pt x="795" y="525"/>
                    </a:lnTo>
                    <a:lnTo>
                      <a:pt x="775" y="514"/>
                    </a:lnTo>
                    <a:lnTo>
                      <a:pt x="754" y="525"/>
                    </a:lnTo>
                    <a:lnTo>
                      <a:pt x="754" y="548"/>
                    </a:lnTo>
                    <a:lnTo>
                      <a:pt x="775" y="559"/>
                    </a:lnTo>
                    <a:close/>
                    <a:moveTo>
                      <a:pt x="829" y="559"/>
                    </a:moveTo>
                    <a:lnTo>
                      <a:pt x="849" y="548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48"/>
                    </a:lnTo>
                    <a:lnTo>
                      <a:pt x="829" y="559"/>
                    </a:lnTo>
                    <a:close/>
                    <a:moveTo>
                      <a:pt x="883" y="559"/>
                    </a:moveTo>
                    <a:lnTo>
                      <a:pt x="904" y="548"/>
                    </a:lnTo>
                    <a:lnTo>
                      <a:pt x="904" y="525"/>
                    </a:lnTo>
                    <a:lnTo>
                      <a:pt x="883" y="514"/>
                    </a:lnTo>
                    <a:lnTo>
                      <a:pt x="863" y="525"/>
                    </a:lnTo>
                    <a:lnTo>
                      <a:pt x="863" y="548"/>
                    </a:lnTo>
                    <a:lnTo>
                      <a:pt x="883" y="559"/>
                    </a:lnTo>
                    <a:close/>
                    <a:moveTo>
                      <a:pt x="938" y="559"/>
                    </a:moveTo>
                    <a:lnTo>
                      <a:pt x="958" y="548"/>
                    </a:lnTo>
                    <a:lnTo>
                      <a:pt x="958" y="525"/>
                    </a:lnTo>
                    <a:lnTo>
                      <a:pt x="938" y="514"/>
                    </a:lnTo>
                    <a:lnTo>
                      <a:pt x="916" y="525"/>
                    </a:lnTo>
                    <a:lnTo>
                      <a:pt x="916" y="548"/>
                    </a:lnTo>
                    <a:lnTo>
                      <a:pt x="938" y="559"/>
                    </a:lnTo>
                    <a:close/>
                    <a:moveTo>
                      <a:pt x="666" y="559"/>
                    </a:moveTo>
                    <a:lnTo>
                      <a:pt x="686" y="548"/>
                    </a:lnTo>
                    <a:lnTo>
                      <a:pt x="686" y="525"/>
                    </a:lnTo>
                    <a:lnTo>
                      <a:pt x="666" y="514"/>
                    </a:lnTo>
                    <a:lnTo>
                      <a:pt x="647" y="525"/>
                    </a:lnTo>
                    <a:lnTo>
                      <a:pt x="647" y="548"/>
                    </a:lnTo>
                    <a:lnTo>
                      <a:pt x="666" y="559"/>
                    </a:lnTo>
                    <a:close/>
                    <a:moveTo>
                      <a:pt x="720" y="559"/>
                    </a:moveTo>
                    <a:lnTo>
                      <a:pt x="740" y="548"/>
                    </a:lnTo>
                    <a:lnTo>
                      <a:pt x="740" y="525"/>
                    </a:lnTo>
                    <a:lnTo>
                      <a:pt x="720" y="514"/>
                    </a:lnTo>
                    <a:lnTo>
                      <a:pt x="700" y="525"/>
                    </a:lnTo>
                    <a:lnTo>
                      <a:pt x="700" y="548"/>
                    </a:lnTo>
                    <a:lnTo>
                      <a:pt x="720" y="559"/>
                    </a:lnTo>
                    <a:close/>
                    <a:moveTo>
                      <a:pt x="505" y="559"/>
                    </a:moveTo>
                    <a:lnTo>
                      <a:pt x="525" y="548"/>
                    </a:lnTo>
                    <a:lnTo>
                      <a:pt x="525" y="525"/>
                    </a:lnTo>
                    <a:lnTo>
                      <a:pt x="505" y="514"/>
                    </a:lnTo>
                    <a:lnTo>
                      <a:pt x="484" y="525"/>
                    </a:lnTo>
                    <a:lnTo>
                      <a:pt x="484" y="548"/>
                    </a:lnTo>
                    <a:lnTo>
                      <a:pt x="505" y="559"/>
                    </a:lnTo>
                    <a:close/>
                    <a:moveTo>
                      <a:pt x="559" y="559"/>
                    </a:moveTo>
                    <a:lnTo>
                      <a:pt x="579" y="548"/>
                    </a:lnTo>
                    <a:lnTo>
                      <a:pt x="579" y="525"/>
                    </a:lnTo>
                    <a:lnTo>
                      <a:pt x="559" y="514"/>
                    </a:lnTo>
                    <a:lnTo>
                      <a:pt x="539" y="525"/>
                    </a:lnTo>
                    <a:lnTo>
                      <a:pt x="539" y="548"/>
                    </a:lnTo>
                    <a:lnTo>
                      <a:pt x="559" y="559"/>
                    </a:lnTo>
                    <a:close/>
                    <a:moveTo>
                      <a:pt x="613" y="559"/>
                    </a:moveTo>
                    <a:lnTo>
                      <a:pt x="634" y="548"/>
                    </a:lnTo>
                    <a:lnTo>
                      <a:pt x="634" y="525"/>
                    </a:lnTo>
                    <a:lnTo>
                      <a:pt x="613" y="514"/>
                    </a:lnTo>
                    <a:lnTo>
                      <a:pt x="593" y="525"/>
                    </a:lnTo>
                    <a:lnTo>
                      <a:pt x="593" y="548"/>
                    </a:lnTo>
                    <a:lnTo>
                      <a:pt x="613" y="559"/>
                    </a:lnTo>
                    <a:close/>
                    <a:moveTo>
                      <a:pt x="21" y="559"/>
                    </a:moveTo>
                    <a:lnTo>
                      <a:pt x="41" y="548"/>
                    </a:lnTo>
                    <a:lnTo>
                      <a:pt x="41" y="525"/>
                    </a:lnTo>
                    <a:lnTo>
                      <a:pt x="21" y="514"/>
                    </a:lnTo>
                    <a:lnTo>
                      <a:pt x="0" y="525"/>
                    </a:lnTo>
                    <a:lnTo>
                      <a:pt x="0" y="548"/>
                    </a:lnTo>
                    <a:lnTo>
                      <a:pt x="21" y="559"/>
                    </a:lnTo>
                    <a:close/>
                    <a:moveTo>
                      <a:pt x="74" y="559"/>
                    </a:moveTo>
                    <a:lnTo>
                      <a:pt x="93" y="548"/>
                    </a:lnTo>
                    <a:lnTo>
                      <a:pt x="93" y="525"/>
                    </a:lnTo>
                    <a:lnTo>
                      <a:pt x="74" y="514"/>
                    </a:lnTo>
                    <a:lnTo>
                      <a:pt x="54" y="525"/>
                    </a:lnTo>
                    <a:lnTo>
                      <a:pt x="54" y="548"/>
                    </a:lnTo>
                    <a:lnTo>
                      <a:pt x="74" y="559"/>
                    </a:lnTo>
                    <a:close/>
                    <a:moveTo>
                      <a:pt x="127" y="559"/>
                    </a:moveTo>
                    <a:lnTo>
                      <a:pt x="147" y="548"/>
                    </a:lnTo>
                    <a:lnTo>
                      <a:pt x="147" y="525"/>
                    </a:lnTo>
                    <a:lnTo>
                      <a:pt x="127" y="514"/>
                    </a:lnTo>
                    <a:lnTo>
                      <a:pt x="107" y="525"/>
                    </a:lnTo>
                    <a:lnTo>
                      <a:pt x="107" y="548"/>
                    </a:lnTo>
                    <a:lnTo>
                      <a:pt x="127" y="559"/>
                    </a:lnTo>
                    <a:close/>
                    <a:moveTo>
                      <a:pt x="181" y="559"/>
                    </a:moveTo>
                    <a:lnTo>
                      <a:pt x="201" y="548"/>
                    </a:lnTo>
                    <a:lnTo>
                      <a:pt x="201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48"/>
                    </a:lnTo>
                    <a:lnTo>
                      <a:pt x="181" y="559"/>
                    </a:lnTo>
                    <a:close/>
                    <a:moveTo>
                      <a:pt x="236" y="559"/>
                    </a:moveTo>
                    <a:lnTo>
                      <a:pt x="256" y="548"/>
                    </a:lnTo>
                    <a:lnTo>
                      <a:pt x="256" y="525"/>
                    </a:lnTo>
                    <a:lnTo>
                      <a:pt x="236" y="514"/>
                    </a:lnTo>
                    <a:lnTo>
                      <a:pt x="215" y="525"/>
                    </a:lnTo>
                    <a:lnTo>
                      <a:pt x="215" y="548"/>
                    </a:lnTo>
                    <a:lnTo>
                      <a:pt x="236" y="559"/>
                    </a:lnTo>
                    <a:close/>
                    <a:moveTo>
                      <a:pt x="290" y="559"/>
                    </a:moveTo>
                    <a:lnTo>
                      <a:pt x="310" y="548"/>
                    </a:lnTo>
                    <a:lnTo>
                      <a:pt x="310" y="525"/>
                    </a:lnTo>
                    <a:lnTo>
                      <a:pt x="290" y="514"/>
                    </a:lnTo>
                    <a:lnTo>
                      <a:pt x="270" y="525"/>
                    </a:lnTo>
                    <a:lnTo>
                      <a:pt x="270" y="548"/>
                    </a:lnTo>
                    <a:lnTo>
                      <a:pt x="290" y="559"/>
                    </a:lnTo>
                    <a:close/>
                    <a:moveTo>
                      <a:pt x="801" y="511"/>
                    </a:moveTo>
                    <a:lnTo>
                      <a:pt x="821" y="500"/>
                    </a:lnTo>
                    <a:lnTo>
                      <a:pt x="821" y="477"/>
                    </a:lnTo>
                    <a:lnTo>
                      <a:pt x="801" y="466"/>
                    </a:lnTo>
                    <a:lnTo>
                      <a:pt x="781" y="477"/>
                    </a:lnTo>
                    <a:lnTo>
                      <a:pt x="781" y="500"/>
                    </a:lnTo>
                    <a:lnTo>
                      <a:pt x="801" y="511"/>
                    </a:lnTo>
                    <a:close/>
                    <a:moveTo>
                      <a:pt x="856" y="511"/>
                    </a:moveTo>
                    <a:lnTo>
                      <a:pt x="876" y="500"/>
                    </a:lnTo>
                    <a:lnTo>
                      <a:pt x="876" y="477"/>
                    </a:lnTo>
                    <a:lnTo>
                      <a:pt x="856" y="466"/>
                    </a:lnTo>
                    <a:lnTo>
                      <a:pt x="835" y="477"/>
                    </a:lnTo>
                    <a:lnTo>
                      <a:pt x="835" y="500"/>
                    </a:lnTo>
                    <a:lnTo>
                      <a:pt x="856" y="511"/>
                    </a:lnTo>
                    <a:close/>
                    <a:moveTo>
                      <a:pt x="910" y="511"/>
                    </a:moveTo>
                    <a:lnTo>
                      <a:pt x="930" y="500"/>
                    </a:lnTo>
                    <a:lnTo>
                      <a:pt x="930" y="477"/>
                    </a:lnTo>
                    <a:lnTo>
                      <a:pt x="910" y="466"/>
                    </a:lnTo>
                    <a:lnTo>
                      <a:pt x="890" y="477"/>
                    </a:lnTo>
                    <a:lnTo>
                      <a:pt x="890" y="500"/>
                    </a:lnTo>
                    <a:lnTo>
                      <a:pt x="910" y="511"/>
                    </a:lnTo>
                    <a:close/>
                    <a:moveTo>
                      <a:pt x="587" y="511"/>
                    </a:moveTo>
                    <a:lnTo>
                      <a:pt x="607" y="500"/>
                    </a:lnTo>
                    <a:lnTo>
                      <a:pt x="607" y="477"/>
                    </a:lnTo>
                    <a:lnTo>
                      <a:pt x="587" y="466"/>
                    </a:lnTo>
                    <a:lnTo>
                      <a:pt x="566" y="477"/>
                    </a:lnTo>
                    <a:lnTo>
                      <a:pt x="566" y="500"/>
                    </a:lnTo>
                    <a:lnTo>
                      <a:pt x="587" y="511"/>
                    </a:lnTo>
                    <a:close/>
                    <a:moveTo>
                      <a:pt x="641" y="511"/>
                    </a:moveTo>
                    <a:lnTo>
                      <a:pt x="658" y="500"/>
                    </a:lnTo>
                    <a:lnTo>
                      <a:pt x="658" y="477"/>
                    </a:lnTo>
                    <a:lnTo>
                      <a:pt x="641" y="466"/>
                    </a:lnTo>
                    <a:lnTo>
                      <a:pt x="621" y="477"/>
                    </a:lnTo>
                    <a:lnTo>
                      <a:pt x="621" y="500"/>
                    </a:lnTo>
                    <a:lnTo>
                      <a:pt x="641" y="511"/>
                    </a:lnTo>
                    <a:close/>
                    <a:moveTo>
                      <a:pt x="692" y="511"/>
                    </a:moveTo>
                    <a:lnTo>
                      <a:pt x="713" y="500"/>
                    </a:lnTo>
                    <a:lnTo>
                      <a:pt x="713" y="477"/>
                    </a:lnTo>
                    <a:lnTo>
                      <a:pt x="692" y="466"/>
                    </a:lnTo>
                    <a:lnTo>
                      <a:pt x="675" y="477"/>
                    </a:lnTo>
                    <a:lnTo>
                      <a:pt x="675" y="500"/>
                    </a:lnTo>
                    <a:lnTo>
                      <a:pt x="692" y="511"/>
                    </a:lnTo>
                    <a:close/>
                    <a:moveTo>
                      <a:pt x="747" y="511"/>
                    </a:moveTo>
                    <a:lnTo>
                      <a:pt x="767" y="500"/>
                    </a:lnTo>
                    <a:lnTo>
                      <a:pt x="767" y="477"/>
                    </a:lnTo>
                    <a:lnTo>
                      <a:pt x="747" y="466"/>
                    </a:lnTo>
                    <a:lnTo>
                      <a:pt x="727" y="477"/>
                    </a:lnTo>
                    <a:lnTo>
                      <a:pt x="727" y="500"/>
                    </a:lnTo>
                    <a:lnTo>
                      <a:pt x="747" y="511"/>
                    </a:lnTo>
                    <a:close/>
                    <a:moveTo>
                      <a:pt x="371" y="511"/>
                    </a:moveTo>
                    <a:lnTo>
                      <a:pt x="391" y="500"/>
                    </a:lnTo>
                    <a:lnTo>
                      <a:pt x="391" y="477"/>
                    </a:lnTo>
                    <a:lnTo>
                      <a:pt x="371" y="466"/>
                    </a:lnTo>
                    <a:lnTo>
                      <a:pt x="351" y="477"/>
                    </a:lnTo>
                    <a:lnTo>
                      <a:pt x="351" y="500"/>
                    </a:lnTo>
                    <a:lnTo>
                      <a:pt x="371" y="511"/>
                    </a:lnTo>
                    <a:close/>
                    <a:moveTo>
                      <a:pt x="425" y="511"/>
                    </a:moveTo>
                    <a:lnTo>
                      <a:pt x="447" y="500"/>
                    </a:lnTo>
                    <a:lnTo>
                      <a:pt x="447" y="477"/>
                    </a:lnTo>
                    <a:lnTo>
                      <a:pt x="425" y="466"/>
                    </a:lnTo>
                    <a:lnTo>
                      <a:pt x="405" y="477"/>
                    </a:lnTo>
                    <a:lnTo>
                      <a:pt x="405" y="500"/>
                    </a:lnTo>
                    <a:lnTo>
                      <a:pt x="425" y="511"/>
                    </a:lnTo>
                    <a:close/>
                    <a:moveTo>
                      <a:pt x="480" y="511"/>
                    </a:moveTo>
                    <a:lnTo>
                      <a:pt x="498" y="500"/>
                    </a:lnTo>
                    <a:lnTo>
                      <a:pt x="498" y="477"/>
                    </a:lnTo>
                    <a:lnTo>
                      <a:pt x="480" y="466"/>
                    </a:lnTo>
                    <a:lnTo>
                      <a:pt x="459" y="477"/>
                    </a:lnTo>
                    <a:lnTo>
                      <a:pt x="459" y="500"/>
                    </a:lnTo>
                    <a:lnTo>
                      <a:pt x="480" y="511"/>
                    </a:lnTo>
                    <a:close/>
                    <a:moveTo>
                      <a:pt x="532" y="511"/>
                    </a:moveTo>
                    <a:lnTo>
                      <a:pt x="552" y="500"/>
                    </a:lnTo>
                    <a:lnTo>
                      <a:pt x="552" y="477"/>
                    </a:lnTo>
                    <a:lnTo>
                      <a:pt x="532" y="466"/>
                    </a:lnTo>
                    <a:lnTo>
                      <a:pt x="512" y="477"/>
                    </a:lnTo>
                    <a:lnTo>
                      <a:pt x="512" y="500"/>
                    </a:lnTo>
                    <a:lnTo>
                      <a:pt x="532" y="511"/>
                    </a:lnTo>
                    <a:close/>
                    <a:moveTo>
                      <a:pt x="48" y="511"/>
                    </a:moveTo>
                    <a:lnTo>
                      <a:pt x="68" y="500"/>
                    </a:lnTo>
                    <a:lnTo>
                      <a:pt x="68" y="477"/>
                    </a:lnTo>
                    <a:lnTo>
                      <a:pt x="48" y="466"/>
                    </a:lnTo>
                    <a:lnTo>
                      <a:pt x="27" y="477"/>
                    </a:lnTo>
                    <a:lnTo>
                      <a:pt x="27" y="500"/>
                    </a:lnTo>
                    <a:lnTo>
                      <a:pt x="48" y="511"/>
                    </a:lnTo>
                    <a:close/>
                    <a:moveTo>
                      <a:pt x="99" y="511"/>
                    </a:moveTo>
                    <a:lnTo>
                      <a:pt x="120" y="500"/>
                    </a:lnTo>
                    <a:lnTo>
                      <a:pt x="120" y="477"/>
                    </a:lnTo>
                    <a:lnTo>
                      <a:pt x="99" y="466"/>
                    </a:lnTo>
                    <a:lnTo>
                      <a:pt x="82" y="477"/>
                    </a:lnTo>
                    <a:lnTo>
                      <a:pt x="82" y="500"/>
                    </a:lnTo>
                    <a:lnTo>
                      <a:pt x="99" y="511"/>
                    </a:lnTo>
                    <a:close/>
                    <a:moveTo>
                      <a:pt x="155" y="511"/>
                    </a:moveTo>
                    <a:lnTo>
                      <a:pt x="175" y="500"/>
                    </a:lnTo>
                    <a:lnTo>
                      <a:pt x="175" y="477"/>
                    </a:lnTo>
                    <a:lnTo>
                      <a:pt x="155" y="466"/>
                    </a:lnTo>
                    <a:lnTo>
                      <a:pt x="133" y="477"/>
                    </a:lnTo>
                    <a:lnTo>
                      <a:pt x="133" y="500"/>
                    </a:lnTo>
                    <a:lnTo>
                      <a:pt x="155" y="511"/>
                    </a:lnTo>
                    <a:close/>
                    <a:moveTo>
                      <a:pt x="208" y="511"/>
                    </a:moveTo>
                    <a:lnTo>
                      <a:pt x="229" y="500"/>
                    </a:lnTo>
                    <a:lnTo>
                      <a:pt x="229" y="477"/>
                    </a:lnTo>
                    <a:lnTo>
                      <a:pt x="208" y="466"/>
                    </a:lnTo>
                    <a:lnTo>
                      <a:pt x="188" y="477"/>
                    </a:lnTo>
                    <a:lnTo>
                      <a:pt x="188" y="500"/>
                    </a:lnTo>
                    <a:lnTo>
                      <a:pt x="208" y="511"/>
                    </a:lnTo>
                    <a:close/>
                    <a:moveTo>
                      <a:pt x="262" y="511"/>
                    </a:moveTo>
                    <a:lnTo>
                      <a:pt x="282" y="500"/>
                    </a:lnTo>
                    <a:lnTo>
                      <a:pt x="282" y="477"/>
                    </a:lnTo>
                    <a:lnTo>
                      <a:pt x="262" y="466"/>
                    </a:lnTo>
                    <a:lnTo>
                      <a:pt x="242" y="477"/>
                    </a:lnTo>
                    <a:lnTo>
                      <a:pt x="242" y="500"/>
                    </a:lnTo>
                    <a:lnTo>
                      <a:pt x="262" y="511"/>
                    </a:lnTo>
                    <a:close/>
                    <a:moveTo>
                      <a:pt x="317" y="511"/>
                    </a:moveTo>
                    <a:lnTo>
                      <a:pt x="338" y="500"/>
                    </a:lnTo>
                    <a:lnTo>
                      <a:pt x="338" y="477"/>
                    </a:lnTo>
                    <a:lnTo>
                      <a:pt x="317" y="466"/>
                    </a:lnTo>
                    <a:lnTo>
                      <a:pt x="296" y="477"/>
                    </a:lnTo>
                    <a:lnTo>
                      <a:pt x="296" y="500"/>
                    </a:lnTo>
                    <a:lnTo>
                      <a:pt x="317" y="511"/>
                    </a:lnTo>
                    <a:close/>
                    <a:moveTo>
                      <a:pt x="505" y="466"/>
                    </a:moveTo>
                    <a:lnTo>
                      <a:pt x="525" y="455"/>
                    </a:lnTo>
                    <a:lnTo>
                      <a:pt x="525" y="432"/>
                    </a:lnTo>
                    <a:lnTo>
                      <a:pt x="505" y="421"/>
                    </a:lnTo>
                    <a:lnTo>
                      <a:pt x="484" y="432"/>
                    </a:lnTo>
                    <a:lnTo>
                      <a:pt x="484" y="455"/>
                    </a:lnTo>
                    <a:lnTo>
                      <a:pt x="505" y="466"/>
                    </a:lnTo>
                    <a:close/>
                    <a:moveTo>
                      <a:pt x="559" y="466"/>
                    </a:moveTo>
                    <a:lnTo>
                      <a:pt x="579" y="455"/>
                    </a:lnTo>
                    <a:lnTo>
                      <a:pt x="579" y="432"/>
                    </a:lnTo>
                    <a:lnTo>
                      <a:pt x="559" y="421"/>
                    </a:lnTo>
                    <a:lnTo>
                      <a:pt x="539" y="432"/>
                    </a:lnTo>
                    <a:lnTo>
                      <a:pt x="539" y="455"/>
                    </a:lnTo>
                    <a:lnTo>
                      <a:pt x="559" y="466"/>
                    </a:lnTo>
                    <a:close/>
                    <a:moveTo>
                      <a:pt x="21" y="466"/>
                    </a:moveTo>
                    <a:lnTo>
                      <a:pt x="41" y="455"/>
                    </a:lnTo>
                    <a:lnTo>
                      <a:pt x="41" y="432"/>
                    </a:lnTo>
                    <a:lnTo>
                      <a:pt x="21" y="421"/>
                    </a:lnTo>
                    <a:lnTo>
                      <a:pt x="0" y="432"/>
                    </a:lnTo>
                    <a:lnTo>
                      <a:pt x="0" y="455"/>
                    </a:lnTo>
                    <a:lnTo>
                      <a:pt x="21" y="466"/>
                    </a:lnTo>
                    <a:close/>
                    <a:moveTo>
                      <a:pt x="74" y="466"/>
                    </a:moveTo>
                    <a:lnTo>
                      <a:pt x="93" y="455"/>
                    </a:lnTo>
                    <a:lnTo>
                      <a:pt x="93" y="432"/>
                    </a:lnTo>
                    <a:lnTo>
                      <a:pt x="74" y="421"/>
                    </a:lnTo>
                    <a:lnTo>
                      <a:pt x="54" y="432"/>
                    </a:lnTo>
                    <a:lnTo>
                      <a:pt x="54" y="455"/>
                    </a:lnTo>
                    <a:lnTo>
                      <a:pt x="74" y="466"/>
                    </a:lnTo>
                    <a:close/>
                    <a:moveTo>
                      <a:pt x="127" y="466"/>
                    </a:moveTo>
                    <a:lnTo>
                      <a:pt x="147" y="455"/>
                    </a:lnTo>
                    <a:lnTo>
                      <a:pt x="147" y="432"/>
                    </a:lnTo>
                    <a:lnTo>
                      <a:pt x="127" y="421"/>
                    </a:lnTo>
                    <a:lnTo>
                      <a:pt x="107" y="432"/>
                    </a:lnTo>
                    <a:lnTo>
                      <a:pt x="107" y="455"/>
                    </a:lnTo>
                    <a:lnTo>
                      <a:pt x="127" y="466"/>
                    </a:lnTo>
                    <a:close/>
                    <a:moveTo>
                      <a:pt x="181" y="466"/>
                    </a:moveTo>
                    <a:lnTo>
                      <a:pt x="201" y="455"/>
                    </a:lnTo>
                    <a:lnTo>
                      <a:pt x="201" y="432"/>
                    </a:lnTo>
                    <a:lnTo>
                      <a:pt x="181" y="421"/>
                    </a:lnTo>
                    <a:lnTo>
                      <a:pt x="161" y="432"/>
                    </a:lnTo>
                    <a:lnTo>
                      <a:pt x="161" y="455"/>
                    </a:lnTo>
                    <a:lnTo>
                      <a:pt x="181" y="466"/>
                    </a:lnTo>
                    <a:close/>
                    <a:moveTo>
                      <a:pt x="236" y="466"/>
                    </a:moveTo>
                    <a:lnTo>
                      <a:pt x="256" y="455"/>
                    </a:lnTo>
                    <a:lnTo>
                      <a:pt x="256" y="432"/>
                    </a:lnTo>
                    <a:lnTo>
                      <a:pt x="236" y="421"/>
                    </a:lnTo>
                    <a:lnTo>
                      <a:pt x="215" y="432"/>
                    </a:lnTo>
                    <a:lnTo>
                      <a:pt x="215" y="455"/>
                    </a:lnTo>
                    <a:lnTo>
                      <a:pt x="236" y="466"/>
                    </a:lnTo>
                    <a:close/>
                    <a:moveTo>
                      <a:pt x="290" y="466"/>
                    </a:moveTo>
                    <a:lnTo>
                      <a:pt x="310" y="455"/>
                    </a:lnTo>
                    <a:lnTo>
                      <a:pt x="310" y="432"/>
                    </a:lnTo>
                    <a:lnTo>
                      <a:pt x="290" y="421"/>
                    </a:lnTo>
                    <a:lnTo>
                      <a:pt x="270" y="432"/>
                    </a:lnTo>
                    <a:lnTo>
                      <a:pt x="270" y="455"/>
                    </a:lnTo>
                    <a:lnTo>
                      <a:pt x="290" y="466"/>
                    </a:lnTo>
                    <a:close/>
                    <a:moveTo>
                      <a:pt x="344" y="466"/>
                    </a:moveTo>
                    <a:lnTo>
                      <a:pt x="365" y="455"/>
                    </a:lnTo>
                    <a:lnTo>
                      <a:pt x="365" y="432"/>
                    </a:lnTo>
                    <a:lnTo>
                      <a:pt x="344" y="421"/>
                    </a:lnTo>
                    <a:lnTo>
                      <a:pt x="324" y="432"/>
                    </a:lnTo>
                    <a:lnTo>
                      <a:pt x="324" y="455"/>
                    </a:lnTo>
                    <a:lnTo>
                      <a:pt x="344" y="466"/>
                    </a:lnTo>
                    <a:close/>
                    <a:moveTo>
                      <a:pt x="399" y="466"/>
                    </a:moveTo>
                    <a:lnTo>
                      <a:pt x="419" y="455"/>
                    </a:lnTo>
                    <a:lnTo>
                      <a:pt x="419" y="432"/>
                    </a:lnTo>
                    <a:lnTo>
                      <a:pt x="399" y="421"/>
                    </a:lnTo>
                    <a:lnTo>
                      <a:pt x="378" y="432"/>
                    </a:lnTo>
                    <a:lnTo>
                      <a:pt x="378" y="455"/>
                    </a:lnTo>
                    <a:lnTo>
                      <a:pt x="399" y="466"/>
                    </a:lnTo>
                    <a:close/>
                    <a:moveTo>
                      <a:pt x="613" y="466"/>
                    </a:moveTo>
                    <a:lnTo>
                      <a:pt x="634" y="455"/>
                    </a:lnTo>
                    <a:lnTo>
                      <a:pt x="634" y="432"/>
                    </a:lnTo>
                    <a:lnTo>
                      <a:pt x="613" y="421"/>
                    </a:lnTo>
                    <a:lnTo>
                      <a:pt x="593" y="432"/>
                    </a:lnTo>
                    <a:lnTo>
                      <a:pt x="593" y="455"/>
                    </a:lnTo>
                    <a:lnTo>
                      <a:pt x="613" y="466"/>
                    </a:lnTo>
                    <a:close/>
                    <a:moveTo>
                      <a:pt x="666" y="466"/>
                    </a:moveTo>
                    <a:lnTo>
                      <a:pt x="686" y="455"/>
                    </a:lnTo>
                    <a:lnTo>
                      <a:pt x="686" y="432"/>
                    </a:lnTo>
                    <a:lnTo>
                      <a:pt x="666" y="421"/>
                    </a:lnTo>
                    <a:lnTo>
                      <a:pt x="647" y="432"/>
                    </a:lnTo>
                    <a:lnTo>
                      <a:pt x="647" y="455"/>
                    </a:lnTo>
                    <a:lnTo>
                      <a:pt x="666" y="466"/>
                    </a:lnTo>
                    <a:close/>
                    <a:moveTo>
                      <a:pt x="720" y="466"/>
                    </a:moveTo>
                    <a:lnTo>
                      <a:pt x="740" y="455"/>
                    </a:lnTo>
                    <a:lnTo>
                      <a:pt x="740" y="432"/>
                    </a:lnTo>
                    <a:lnTo>
                      <a:pt x="720" y="421"/>
                    </a:lnTo>
                    <a:lnTo>
                      <a:pt x="700" y="432"/>
                    </a:lnTo>
                    <a:lnTo>
                      <a:pt x="700" y="455"/>
                    </a:lnTo>
                    <a:lnTo>
                      <a:pt x="720" y="466"/>
                    </a:lnTo>
                    <a:close/>
                    <a:moveTo>
                      <a:pt x="775" y="466"/>
                    </a:moveTo>
                    <a:lnTo>
                      <a:pt x="795" y="455"/>
                    </a:lnTo>
                    <a:lnTo>
                      <a:pt x="795" y="432"/>
                    </a:lnTo>
                    <a:lnTo>
                      <a:pt x="775" y="421"/>
                    </a:lnTo>
                    <a:lnTo>
                      <a:pt x="754" y="432"/>
                    </a:lnTo>
                    <a:lnTo>
                      <a:pt x="754" y="455"/>
                    </a:lnTo>
                    <a:lnTo>
                      <a:pt x="775" y="466"/>
                    </a:lnTo>
                    <a:close/>
                    <a:moveTo>
                      <a:pt x="532" y="234"/>
                    </a:moveTo>
                    <a:lnTo>
                      <a:pt x="552" y="222"/>
                    </a:lnTo>
                    <a:lnTo>
                      <a:pt x="552" y="198"/>
                    </a:lnTo>
                    <a:lnTo>
                      <a:pt x="532" y="187"/>
                    </a:lnTo>
                    <a:lnTo>
                      <a:pt x="512" y="198"/>
                    </a:lnTo>
                    <a:lnTo>
                      <a:pt x="512" y="222"/>
                    </a:lnTo>
                    <a:lnTo>
                      <a:pt x="532" y="234"/>
                    </a:lnTo>
                    <a:close/>
                    <a:moveTo>
                      <a:pt x="532" y="140"/>
                    </a:moveTo>
                    <a:lnTo>
                      <a:pt x="552" y="128"/>
                    </a:lnTo>
                    <a:lnTo>
                      <a:pt x="552" y="105"/>
                    </a:lnTo>
                    <a:lnTo>
                      <a:pt x="532" y="94"/>
                    </a:lnTo>
                    <a:lnTo>
                      <a:pt x="512" y="105"/>
                    </a:lnTo>
                    <a:lnTo>
                      <a:pt x="512" y="128"/>
                    </a:lnTo>
                    <a:lnTo>
                      <a:pt x="532" y="140"/>
                    </a:lnTo>
                    <a:close/>
                    <a:moveTo>
                      <a:pt x="559" y="279"/>
                    </a:moveTo>
                    <a:lnTo>
                      <a:pt x="579" y="268"/>
                    </a:lnTo>
                    <a:lnTo>
                      <a:pt x="579" y="245"/>
                    </a:lnTo>
                    <a:lnTo>
                      <a:pt x="559" y="234"/>
                    </a:lnTo>
                    <a:lnTo>
                      <a:pt x="539" y="245"/>
                    </a:lnTo>
                    <a:lnTo>
                      <a:pt x="539" y="268"/>
                    </a:lnTo>
                    <a:lnTo>
                      <a:pt x="559" y="279"/>
                    </a:lnTo>
                    <a:close/>
                    <a:moveTo>
                      <a:pt x="559" y="187"/>
                    </a:moveTo>
                    <a:lnTo>
                      <a:pt x="579" y="174"/>
                    </a:lnTo>
                    <a:lnTo>
                      <a:pt x="579" y="152"/>
                    </a:lnTo>
                    <a:lnTo>
                      <a:pt x="559" y="140"/>
                    </a:lnTo>
                    <a:lnTo>
                      <a:pt x="539" y="152"/>
                    </a:lnTo>
                    <a:lnTo>
                      <a:pt x="539" y="174"/>
                    </a:lnTo>
                    <a:lnTo>
                      <a:pt x="559" y="187"/>
                    </a:lnTo>
                    <a:close/>
                    <a:moveTo>
                      <a:pt x="559" y="94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59" y="47"/>
                    </a:lnTo>
                    <a:lnTo>
                      <a:pt x="539" y="58"/>
                    </a:lnTo>
                    <a:lnTo>
                      <a:pt x="539" y="82"/>
                    </a:lnTo>
                    <a:lnTo>
                      <a:pt x="559" y="94"/>
                    </a:lnTo>
                    <a:close/>
                    <a:moveTo>
                      <a:pt x="480" y="327"/>
                    </a:moveTo>
                    <a:lnTo>
                      <a:pt x="498" y="316"/>
                    </a:lnTo>
                    <a:lnTo>
                      <a:pt x="498" y="292"/>
                    </a:lnTo>
                    <a:lnTo>
                      <a:pt x="480" y="280"/>
                    </a:lnTo>
                    <a:lnTo>
                      <a:pt x="459" y="292"/>
                    </a:lnTo>
                    <a:lnTo>
                      <a:pt x="459" y="316"/>
                    </a:lnTo>
                    <a:lnTo>
                      <a:pt x="480" y="327"/>
                    </a:lnTo>
                    <a:close/>
                    <a:moveTo>
                      <a:pt x="505" y="373"/>
                    </a:moveTo>
                    <a:lnTo>
                      <a:pt x="525" y="361"/>
                    </a:lnTo>
                    <a:lnTo>
                      <a:pt x="525" y="338"/>
                    </a:lnTo>
                    <a:lnTo>
                      <a:pt x="505" y="327"/>
                    </a:lnTo>
                    <a:lnTo>
                      <a:pt x="484" y="338"/>
                    </a:lnTo>
                    <a:lnTo>
                      <a:pt x="484" y="361"/>
                    </a:lnTo>
                    <a:lnTo>
                      <a:pt x="505" y="373"/>
                    </a:lnTo>
                    <a:close/>
                    <a:moveTo>
                      <a:pt x="48" y="421"/>
                    </a:moveTo>
                    <a:lnTo>
                      <a:pt x="68" y="409"/>
                    </a:lnTo>
                    <a:lnTo>
                      <a:pt x="68" y="384"/>
                    </a:lnTo>
                    <a:lnTo>
                      <a:pt x="48" y="373"/>
                    </a:lnTo>
                    <a:lnTo>
                      <a:pt x="27" y="384"/>
                    </a:lnTo>
                    <a:lnTo>
                      <a:pt x="27" y="409"/>
                    </a:lnTo>
                    <a:lnTo>
                      <a:pt x="48" y="421"/>
                    </a:lnTo>
                    <a:close/>
                    <a:moveTo>
                      <a:pt x="99" y="421"/>
                    </a:moveTo>
                    <a:lnTo>
                      <a:pt x="120" y="409"/>
                    </a:lnTo>
                    <a:lnTo>
                      <a:pt x="120" y="384"/>
                    </a:lnTo>
                    <a:lnTo>
                      <a:pt x="99" y="373"/>
                    </a:lnTo>
                    <a:lnTo>
                      <a:pt x="82" y="384"/>
                    </a:lnTo>
                    <a:lnTo>
                      <a:pt x="82" y="409"/>
                    </a:lnTo>
                    <a:lnTo>
                      <a:pt x="99" y="421"/>
                    </a:lnTo>
                    <a:close/>
                    <a:moveTo>
                      <a:pt x="155" y="421"/>
                    </a:moveTo>
                    <a:lnTo>
                      <a:pt x="175" y="409"/>
                    </a:lnTo>
                    <a:lnTo>
                      <a:pt x="175" y="384"/>
                    </a:lnTo>
                    <a:lnTo>
                      <a:pt x="155" y="373"/>
                    </a:lnTo>
                    <a:lnTo>
                      <a:pt x="133" y="384"/>
                    </a:lnTo>
                    <a:lnTo>
                      <a:pt x="133" y="409"/>
                    </a:lnTo>
                    <a:lnTo>
                      <a:pt x="155" y="421"/>
                    </a:lnTo>
                    <a:close/>
                    <a:moveTo>
                      <a:pt x="208" y="421"/>
                    </a:moveTo>
                    <a:lnTo>
                      <a:pt x="229" y="409"/>
                    </a:lnTo>
                    <a:lnTo>
                      <a:pt x="229" y="384"/>
                    </a:lnTo>
                    <a:lnTo>
                      <a:pt x="208" y="373"/>
                    </a:lnTo>
                    <a:lnTo>
                      <a:pt x="188" y="384"/>
                    </a:lnTo>
                    <a:lnTo>
                      <a:pt x="188" y="409"/>
                    </a:lnTo>
                    <a:lnTo>
                      <a:pt x="208" y="421"/>
                    </a:lnTo>
                    <a:close/>
                    <a:moveTo>
                      <a:pt x="262" y="421"/>
                    </a:moveTo>
                    <a:lnTo>
                      <a:pt x="282" y="409"/>
                    </a:lnTo>
                    <a:lnTo>
                      <a:pt x="282" y="384"/>
                    </a:lnTo>
                    <a:lnTo>
                      <a:pt x="262" y="373"/>
                    </a:lnTo>
                    <a:lnTo>
                      <a:pt x="242" y="384"/>
                    </a:lnTo>
                    <a:lnTo>
                      <a:pt x="242" y="409"/>
                    </a:lnTo>
                    <a:lnTo>
                      <a:pt x="262" y="421"/>
                    </a:lnTo>
                    <a:close/>
                    <a:moveTo>
                      <a:pt x="317" y="421"/>
                    </a:moveTo>
                    <a:lnTo>
                      <a:pt x="338" y="409"/>
                    </a:lnTo>
                    <a:lnTo>
                      <a:pt x="338" y="384"/>
                    </a:lnTo>
                    <a:lnTo>
                      <a:pt x="317" y="373"/>
                    </a:lnTo>
                    <a:lnTo>
                      <a:pt x="296" y="384"/>
                    </a:lnTo>
                    <a:lnTo>
                      <a:pt x="296" y="409"/>
                    </a:lnTo>
                    <a:lnTo>
                      <a:pt x="317" y="421"/>
                    </a:lnTo>
                    <a:close/>
                    <a:moveTo>
                      <a:pt x="371" y="421"/>
                    </a:moveTo>
                    <a:lnTo>
                      <a:pt x="391" y="409"/>
                    </a:lnTo>
                    <a:lnTo>
                      <a:pt x="391" y="384"/>
                    </a:lnTo>
                    <a:lnTo>
                      <a:pt x="371" y="373"/>
                    </a:lnTo>
                    <a:lnTo>
                      <a:pt x="351" y="384"/>
                    </a:lnTo>
                    <a:lnTo>
                      <a:pt x="351" y="409"/>
                    </a:lnTo>
                    <a:lnTo>
                      <a:pt x="371" y="421"/>
                    </a:lnTo>
                    <a:close/>
                    <a:moveTo>
                      <a:pt x="425" y="421"/>
                    </a:moveTo>
                    <a:lnTo>
                      <a:pt x="447" y="409"/>
                    </a:lnTo>
                    <a:lnTo>
                      <a:pt x="447" y="384"/>
                    </a:lnTo>
                    <a:lnTo>
                      <a:pt x="425" y="373"/>
                    </a:lnTo>
                    <a:lnTo>
                      <a:pt x="405" y="384"/>
                    </a:lnTo>
                    <a:lnTo>
                      <a:pt x="405" y="409"/>
                    </a:lnTo>
                    <a:lnTo>
                      <a:pt x="425" y="421"/>
                    </a:lnTo>
                    <a:close/>
                    <a:moveTo>
                      <a:pt x="371" y="327"/>
                    </a:moveTo>
                    <a:lnTo>
                      <a:pt x="391" y="316"/>
                    </a:lnTo>
                    <a:lnTo>
                      <a:pt x="391" y="292"/>
                    </a:lnTo>
                    <a:lnTo>
                      <a:pt x="371" y="280"/>
                    </a:lnTo>
                    <a:lnTo>
                      <a:pt x="351" y="292"/>
                    </a:lnTo>
                    <a:lnTo>
                      <a:pt x="351" y="316"/>
                    </a:lnTo>
                    <a:lnTo>
                      <a:pt x="371" y="327"/>
                    </a:lnTo>
                    <a:close/>
                    <a:moveTo>
                      <a:pt x="425" y="327"/>
                    </a:moveTo>
                    <a:lnTo>
                      <a:pt x="447" y="316"/>
                    </a:lnTo>
                    <a:lnTo>
                      <a:pt x="447" y="292"/>
                    </a:lnTo>
                    <a:lnTo>
                      <a:pt x="425" y="280"/>
                    </a:lnTo>
                    <a:lnTo>
                      <a:pt x="405" y="292"/>
                    </a:lnTo>
                    <a:lnTo>
                      <a:pt x="405" y="316"/>
                    </a:lnTo>
                    <a:lnTo>
                      <a:pt x="425" y="327"/>
                    </a:lnTo>
                    <a:close/>
                    <a:moveTo>
                      <a:pt x="21" y="373"/>
                    </a:moveTo>
                    <a:lnTo>
                      <a:pt x="41" y="361"/>
                    </a:lnTo>
                    <a:lnTo>
                      <a:pt x="41" y="338"/>
                    </a:lnTo>
                    <a:lnTo>
                      <a:pt x="21" y="327"/>
                    </a:lnTo>
                    <a:lnTo>
                      <a:pt x="0" y="338"/>
                    </a:lnTo>
                    <a:lnTo>
                      <a:pt x="0" y="361"/>
                    </a:lnTo>
                    <a:lnTo>
                      <a:pt x="21" y="373"/>
                    </a:lnTo>
                    <a:close/>
                    <a:moveTo>
                      <a:pt x="74" y="373"/>
                    </a:moveTo>
                    <a:lnTo>
                      <a:pt x="93" y="361"/>
                    </a:lnTo>
                    <a:lnTo>
                      <a:pt x="93" y="338"/>
                    </a:lnTo>
                    <a:lnTo>
                      <a:pt x="74" y="327"/>
                    </a:lnTo>
                    <a:lnTo>
                      <a:pt x="54" y="338"/>
                    </a:lnTo>
                    <a:lnTo>
                      <a:pt x="54" y="361"/>
                    </a:lnTo>
                    <a:lnTo>
                      <a:pt x="74" y="373"/>
                    </a:lnTo>
                    <a:close/>
                    <a:moveTo>
                      <a:pt x="127" y="373"/>
                    </a:moveTo>
                    <a:lnTo>
                      <a:pt x="147" y="361"/>
                    </a:lnTo>
                    <a:lnTo>
                      <a:pt x="147" y="338"/>
                    </a:lnTo>
                    <a:lnTo>
                      <a:pt x="127" y="327"/>
                    </a:lnTo>
                    <a:lnTo>
                      <a:pt x="107" y="338"/>
                    </a:lnTo>
                    <a:lnTo>
                      <a:pt x="107" y="361"/>
                    </a:lnTo>
                    <a:lnTo>
                      <a:pt x="127" y="373"/>
                    </a:lnTo>
                    <a:close/>
                    <a:moveTo>
                      <a:pt x="181" y="373"/>
                    </a:moveTo>
                    <a:lnTo>
                      <a:pt x="201" y="361"/>
                    </a:lnTo>
                    <a:lnTo>
                      <a:pt x="201" y="338"/>
                    </a:lnTo>
                    <a:lnTo>
                      <a:pt x="181" y="327"/>
                    </a:lnTo>
                    <a:lnTo>
                      <a:pt x="161" y="338"/>
                    </a:lnTo>
                    <a:lnTo>
                      <a:pt x="161" y="361"/>
                    </a:lnTo>
                    <a:lnTo>
                      <a:pt x="181" y="373"/>
                    </a:lnTo>
                    <a:close/>
                    <a:moveTo>
                      <a:pt x="236" y="373"/>
                    </a:moveTo>
                    <a:lnTo>
                      <a:pt x="256" y="361"/>
                    </a:lnTo>
                    <a:lnTo>
                      <a:pt x="256" y="338"/>
                    </a:lnTo>
                    <a:lnTo>
                      <a:pt x="236" y="327"/>
                    </a:lnTo>
                    <a:lnTo>
                      <a:pt x="215" y="338"/>
                    </a:lnTo>
                    <a:lnTo>
                      <a:pt x="215" y="361"/>
                    </a:lnTo>
                    <a:lnTo>
                      <a:pt x="236" y="373"/>
                    </a:lnTo>
                    <a:close/>
                    <a:moveTo>
                      <a:pt x="290" y="373"/>
                    </a:moveTo>
                    <a:lnTo>
                      <a:pt x="310" y="361"/>
                    </a:lnTo>
                    <a:lnTo>
                      <a:pt x="310" y="338"/>
                    </a:lnTo>
                    <a:lnTo>
                      <a:pt x="290" y="327"/>
                    </a:lnTo>
                    <a:lnTo>
                      <a:pt x="270" y="338"/>
                    </a:lnTo>
                    <a:lnTo>
                      <a:pt x="270" y="361"/>
                    </a:lnTo>
                    <a:lnTo>
                      <a:pt x="290" y="373"/>
                    </a:lnTo>
                    <a:close/>
                    <a:moveTo>
                      <a:pt x="48" y="327"/>
                    </a:moveTo>
                    <a:lnTo>
                      <a:pt x="68" y="316"/>
                    </a:lnTo>
                    <a:lnTo>
                      <a:pt x="68" y="292"/>
                    </a:lnTo>
                    <a:lnTo>
                      <a:pt x="48" y="280"/>
                    </a:lnTo>
                    <a:lnTo>
                      <a:pt x="27" y="292"/>
                    </a:lnTo>
                    <a:lnTo>
                      <a:pt x="27" y="316"/>
                    </a:lnTo>
                    <a:lnTo>
                      <a:pt x="48" y="327"/>
                    </a:lnTo>
                    <a:close/>
                    <a:moveTo>
                      <a:pt x="99" y="327"/>
                    </a:moveTo>
                    <a:lnTo>
                      <a:pt x="120" y="316"/>
                    </a:lnTo>
                    <a:lnTo>
                      <a:pt x="120" y="292"/>
                    </a:lnTo>
                    <a:lnTo>
                      <a:pt x="99" y="280"/>
                    </a:lnTo>
                    <a:lnTo>
                      <a:pt x="82" y="292"/>
                    </a:lnTo>
                    <a:lnTo>
                      <a:pt x="82" y="316"/>
                    </a:lnTo>
                    <a:lnTo>
                      <a:pt x="99" y="327"/>
                    </a:lnTo>
                    <a:close/>
                    <a:moveTo>
                      <a:pt x="155" y="327"/>
                    </a:moveTo>
                    <a:lnTo>
                      <a:pt x="175" y="316"/>
                    </a:lnTo>
                    <a:lnTo>
                      <a:pt x="175" y="292"/>
                    </a:lnTo>
                    <a:lnTo>
                      <a:pt x="155" y="280"/>
                    </a:lnTo>
                    <a:lnTo>
                      <a:pt x="133" y="292"/>
                    </a:lnTo>
                    <a:lnTo>
                      <a:pt x="133" y="316"/>
                    </a:lnTo>
                    <a:lnTo>
                      <a:pt x="155" y="327"/>
                    </a:lnTo>
                    <a:close/>
                    <a:moveTo>
                      <a:pt x="208" y="327"/>
                    </a:moveTo>
                    <a:lnTo>
                      <a:pt x="229" y="316"/>
                    </a:lnTo>
                    <a:lnTo>
                      <a:pt x="229" y="292"/>
                    </a:lnTo>
                    <a:lnTo>
                      <a:pt x="208" y="280"/>
                    </a:lnTo>
                    <a:lnTo>
                      <a:pt x="188" y="292"/>
                    </a:lnTo>
                    <a:lnTo>
                      <a:pt x="188" y="316"/>
                    </a:lnTo>
                    <a:lnTo>
                      <a:pt x="208" y="327"/>
                    </a:lnTo>
                    <a:close/>
                    <a:moveTo>
                      <a:pt x="262" y="327"/>
                    </a:moveTo>
                    <a:lnTo>
                      <a:pt x="282" y="316"/>
                    </a:lnTo>
                    <a:lnTo>
                      <a:pt x="282" y="292"/>
                    </a:lnTo>
                    <a:lnTo>
                      <a:pt x="262" y="280"/>
                    </a:lnTo>
                    <a:lnTo>
                      <a:pt x="242" y="292"/>
                    </a:lnTo>
                    <a:lnTo>
                      <a:pt x="242" y="316"/>
                    </a:lnTo>
                    <a:lnTo>
                      <a:pt x="262" y="327"/>
                    </a:lnTo>
                    <a:close/>
                    <a:moveTo>
                      <a:pt x="317" y="327"/>
                    </a:moveTo>
                    <a:lnTo>
                      <a:pt x="338" y="316"/>
                    </a:lnTo>
                    <a:lnTo>
                      <a:pt x="338" y="292"/>
                    </a:lnTo>
                    <a:lnTo>
                      <a:pt x="317" y="280"/>
                    </a:lnTo>
                    <a:lnTo>
                      <a:pt x="296" y="292"/>
                    </a:lnTo>
                    <a:lnTo>
                      <a:pt x="296" y="316"/>
                    </a:lnTo>
                    <a:lnTo>
                      <a:pt x="317" y="327"/>
                    </a:lnTo>
                    <a:close/>
                    <a:moveTo>
                      <a:pt x="344" y="373"/>
                    </a:moveTo>
                    <a:lnTo>
                      <a:pt x="365" y="361"/>
                    </a:lnTo>
                    <a:lnTo>
                      <a:pt x="365" y="338"/>
                    </a:lnTo>
                    <a:lnTo>
                      <a:pt x="344" y="327"/>
                    </a:lnTo>
                    <a:lnTo>
                      <a:pt x="324" y="338"/>
                    </a:lnTo>
                    <a:lnTo>
                      <a:pt x="324" y="361"/>
                    </a:lnTo>
                    <a:lnTo>
                      <a:pt x="344" y="373"/>
                    </a:lnTo>
                    <a:close/>
                    <a:moveTo>
                      <a:pt x="399" y="373"/>
                    </a:moveTo>
                    <a:lnTo>
                      <a:pt x="419" y="361"/>
                    </a:lnTo>
                    <a:lnTo>
                      <a:pt x="419" y="338"/>
                    </a:lnTo>
                    <a:lnTo>
                      <a:pt x="399" y="327"/>
                    </a:lnTo>
                    <a:lnTo>
                      <a:pt x="378" y="338"/>
                    </a:lnTo>
                    <a:lnTo>
                      <a:pt x="378" y="361"/>
                    </a:lnTo>
                    <a:lnTo>
                      <a:pt x="399" y="373"/>
                    </a:lnTo>
                    <a:close/>
                    <a:moveTo>
                      <a:pt x="480" y="421"/>
                    </a:moveTo>
                    <a:lnTo>
                      <a:pt x="498" y="409"/>
                    </a:lnTo>
                    <a:lnTo>
                      <a:pt x="498" y="384"/>
                    </a:lnTo>
                    <a:lnTo>
                      <a:pt x="480" y="373"/>
                    </a:lnTo>
                    <a:lnTo>
                      <a:pt x="459" y="384"/>
                    </a:lnTo>
                    <a:lnTo>
                      <a:pt x="459" y="409"/>
                    </a:lnTo>
                    <a:lnTo>
                      <a:pt x="480" y="421"/>
                    </a:lnTo>
                    <a:close/>
                    <a:moveTo>
                      <a:pt x="480" y="140"/>
                    </a:moveTo>
                    <a:lnTo>
                      <a:pt x="498" y="128"/>
                    </a:lnTo>
                    <a:lnTo>
                      <a:pt x="498" y="105"/>
                    </a:lnTo>
                    <a:lnTo>
                      <a:pt x="480" y="94"/>
                    </a:lnTo>
                    <a:lnTo>
                      <a:pt x="459" y="105"/>
                    </a:lnTo>
                    <a:lnTo>
                      <a:pt x="459" y="128"/>
                    </a:lnTo>
                    <a:lnTo>
                      <a:pt x="480" y="140"/>
                    </a:lnTo>
                    <a:close/>
                    <a:moveTo>
                      <a:pt x="505" y="94"/>
                    </a:moveTo>
                    <a:lnTo>
                      <a:pt x="525" y="82"/>
                    </a:lnTo>
                    <a:lnTo>
                      <a:pt x="525" y="58"/>
                    </a:lnTo>
                    <a:lnTo>
                      <a:pt x="505" y="47"/>
                    </a:lnTo>
                    <a:lnTo>
                      <a:pt x="484" y="58"/>
                    </a:lnTo>
                    <a:lnTo>
                      <a:pt x="484" y="82"/>
                    </a:lnTo>
                    <a:lnTo>
                      <a:pt x="505" y="94"/>
                    </a:lnTo>
                    <a:close/>
                    <a:moveTo>
                      <a:pt x="505" y="187"/>
                    </a:moveTo>
                    <a:lnTo>
                      <a:pt x="525" y="174"/>
                    </a:lnTo>
                    <a:lnTo>
                      <a:pt x="525" y="152"/>
                    </a:lnTo>
                    <a:lnTo>
                      <a:pt x="505" y="140"/>
                    </a:lnTo>
                    <a:lnTo>
                      <a:pt x="484" y="152"/>
                    </a:lnTo>
                    <a:lnTo>
                      <a:pt x="484" y="174"/>
                    </a:lnTo>
                    <a:lnTo>
                      <a:pt x="505" y="187"/>
                    </a:lnTo>
                    <a:close/>
                    <a:moveTo>
                      <a:pt x="371" y="234"/>
                    </a:moveTo>
                    <a:lnTo>
                      <a:pt x="391" y="222"/>
                    </a:lnTo>
                    <a:lnTo>
                      <a:pt x="391" y="198"/>
                    </a:lnTo>
                    <a:lnTo>
                      <a:pt x="371" y="187"/>
                    </a:lnTo>
                    <a:lnTo>
                      <a:pt x="351" y="198"/>
                    </a:lnTo>
                    <a:lnTo>
                      <a:pt x="351" y="222"/>
                    </a:lnTo>
                    <a:lnTo>
                      <a:pt x="371" y="234"/>
                    </a:lnTo>
                    <a:close/>
                    <a:moveTo>
                      <a:pt x="425" y="234"/>
                    </a:moveTo>
                    <a:lnTo>
                      <a:pt x="447" y="222"/>
                    </a:lnTo>
                    <a:lnTo>
                      <a:pt x="447" y="198"/>
                    </a:lnTo>
                    <a:lnTo>
                      <a:pt x="425" y="187"/>
                    </a:lnTo>
                    <a:lnTo>
                      <a:pt x="405" y="198"/>
                    </a:lnTo>
                    <a:lnTo>
                      <a:pt x="405" y="222"/>
                    </a:lnTo>
                    <a:lnTo>
                      <a:pt x="425" y="234"/>
                    </a:lnTo>
                    <a:close/>
                    <a:moveTo>
                      <a:pt x="21" y="279"/>
                    </a:moveTo>
                    <a:lnTo>
                      <a:pt x="41" y="268"/>
                    </a:lnTo>
                    <a:lnTo>
                      <a:pt x="41" y="245"/>
                    </a:lnTo>
                    <a:lnTo>
                      <a:pt x="21" y="234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21" y="279"/>
                    </a:lnTo>
                    <a:close/>
                    <a:moveTo>
                      <a:pt x="74" y="279"/>
                    </a:moveTo>
                    <a:lnTo>
                      <a:pt x="93" y="268"/>
                    </a:lnTo>
                    <a:lnTo>
                      <a:pt x="93" y="245"/>
                    </a:lnTo>
                    <a:lnTo>
                      <a:pt x="74" y="234"/>
                    </a:lnTo>
                    <a:lnTo>
                      <a:pt x="54" y="245"/>
                    </a:lnTo>
                    <a:lnTo>
                      <a:pt x="54" y="268"/>
                    </a:lnTo>
                    <a:lnTo>
                      <a:pt x="74" y="279"/>
                    </a:lnTo>
                    <a:close/>
                    <a:moveTo>
                      <a:pt x="127" y="279"/>
                    </a:moveTo>
                    <a:lnTo>
                      <a:pt x="147" y="268"/>
                    </a:lnTo>
                    <a:lnTo>
                      <a:pt x="147" y="245"/>
                    </a:lnTo>
                    <a:lnTo>
                      <a:pt x="127" y="234"/>
                    </a:lnTo>
                    <a:lnTo>
                      <a:pt x="107" y="245"/>
                    </a:lnTo>
                    <a:lnTo>
                      <a:pt x="107" y="268"/>
                    </a:lnTo>
                    <a:lnTo>
                      <a:pt x="127" y="279"/>
                    </a:lnTo>
                    <a:close/>
                    <a:moveTo>
                      <a:pt x="181" y="279"/>
                    </a:moveTo>
                    <a:lnTo>
                      <a:pt x="201" y="268"/>
                    </a:lnTo>
                    <a:lnTo>
                      <a:pt x="201" y="245"/>
                    </a:lnTo>
                    <a:lnTo>
                      <a:pt x="181" y="234"/>
                    </a:lnTo>
                    <a:lnTo>
                      <a:pt x="161" y="245"/>
                    </a:lnTo>
                    <a:lnTo>
                      <a:pt x="161" y="268"/>
                    </a:lnTo>
                    <a:lnTo>
                      <a:pt x="181" y="279"/>
                    </a:lnTo>
                    <a:close/>
                    <a:moveTo>
                      <a:pt x="236" y="279"/>
                    </a:moveTo>
                    <a:lnTo>
                      <a:pt x="256" y="268"/>
                    </a:lnTo>
                    <a:lnTo>
                      <a:pt x="256" y="245"/>
                    </a:lnTo>
                    <a:lnTo>
                      <a:pt x="236" y="234"/>
                    </a:lnTo>
                    <a:lnTo>
                      <a:pt x="215" y="245"/>
                    </a:lnTo>
                    <a:lnTo>
                      <a:pt x="215" y="268"/>
                    </a:lnTo>
                    <a:lnTo>
                      <a:pt x="236" y="279"/>
                    </a:lnTo>
                    <a:close/>
                    <a:moveTo>
                      <a:pt x="290" y="279"/>
                    </a:moveTo>
                    <a:lnTo>
                      <a:pt x="310" y="268"/>
                    </a:lnTo>
                    <a:lnTo>
                      <a:pt x="310" y="245"/>
                    </a:lnTo>
                    <a:lnTo>
                      <a:pt x="290" y="234"/>
                    </a:lnTo>
                    <a:lnTo>
                      <a:pt x="270" y="245"/>
                    </a:lnTo>
                    <a:lnTo>
                      <a:pt x="270" y="268"/>
                    </a:lnTo>
                    <a:lnTo>
                      <a:pt x="290" y="279"/>
                    </a:lnTo>
                    <a:close/>
                    <a:moveTo>
                      <a:pt x="344" y="279"/>
                    </a:moveTo>
                    <a:lnTo>
                      <a:pt x="365" y="268"/>
                    </a:lnTo>
                    <a:lnTo>
                      <a:pt x="365" y="245"/>
                    </a:lnTo>
                    <a:lnTo>
                      <a:pt x="344" y="234"/>
                    </a:lnTo>
                    <a:lnTo>
                      <a:pt x="324" y="245"/>
                    </a:lnTo>
                    <a:lnTo>
                      <a:pt x="324" y="268"/>
                    </a:lnTo>
                    <a:lnTo>
                      <a:pt x="344" y="279"/>
                    </a:lnTo>
                    <a:close/>
                    <a:moveTo>
                      <a:pt x="48" y="234"/>
                    </a:moveTo>
                    <a:lnTo>
                      <a:pt x="68" y="222"/>
                    </a:lnTo>
                    <a:lnTo>
                      <a:pt x="68" y="198"/>
                    </a:lnTo>
                    <a:lnTo>
                      <a:pt x="48" y="187"/>
                    </a:lnTo>
                    <a:lnTo>
                      <a:pt x="27" y="198"/>
                    </a:lnTo>
                    <a:lnTo>
                      <a:pt x="27" y="222"/>
                    </a:lnTo>
                    <a:lnTo>
                      <a:pt x="48" y="234"/>
                    </a:lnTo>
                    <a:close/>
                    <a:moveTo>
                      <a:pt x="99" y="234"/>
                    </a:moveTo>
                    <a:lnTo>
                      <a:pt x="120" y="222"/>
                    </a:lnTo>
                    <a:lnTo>
                      <a:pt x="120" y="198"/>
                    </a:lnTo>
                    <a:lnTo>
                      <a:pt x="99" y="187"/>
                    </a:lnTo>
                    <a:lnTo>
                      <a:pt x="82" y="198"/>
                    </a:lnTo>
                    <a:lnTo>
                      <a:pt x="82" y="222"/>
                    </a:lnTo>
                    <a:lnTo>
                      <a:pt x="99" y="234"/>
                    </a:lnTo>
                    <a:close/>
                    <a:moveTo>
                      <a:pt x="155" y="234"/>
                    </a:moveTo>
                    <a:lnTo>
                      <a:pt x="175" y="222"/>
                    </a:lnTo>
                    <a:lnTo>
                      <a:pt x="175" y="198"/>
                    </a:lnTo>
                    <a:lnTo>
                      <a:pt x="155" y="187"/>
                    </a:lnTo>
                    <a:lnTo>
                      <a:pt x="133" y="198"/>
                    </a:lnTo>
                    <a:lnTo>
                      <a:pt x="133" y="222"/>
                    </a:lnTo>
                    <a:lnTo>
                      <a:pt x="155" y="234"/>
                    </a:lnTo>
                    <a:close/>
                    <a:moveTo>
                      <a:pt x="208" y="234"/>
                    </a:moveTo>
                    <a:lnTo>
                      <a:pt x="229" y="222"/>
                    </a:lnTo>
                    <a:lnTo>
                      <a:pt x="229" y="198"/>
                    </a:lnTo>
                    <a:lnTo>
                      <a:pt x="208" y="187"/>
                    </a:lnTo>
                    <a:lnTo>
                      <a:pt x="188" y="198"/>
                    </a:lnTo>
                    <a:lnTo>
                      <a:pt x="188" y="222"/>
                    </a:lnTo>
                    <a:lnTo>
                      <a:pt x="208" y="234"/>
                    </a:lnTo>
                    <a:close/>
                    <a:moveTo>
                      <a:pt x="262" y="234"/>
                    </a:moveTo>
                    <a:lnTo>
                      <a:pt x="282" y="222"/>
                    </a:lnTo>
                    <a:lnTo>
                      <a:pt x="282" y="198"/>
                    </a:lnTo>
                    <a:lnTo>
                      <a:pt x="262" y="187"/>
                    </a:lnTo>
                    <a:lnTo>
                      <a:pt x="242" y="198"/>
                    </a:lnTo>
                    <a:lnTo>
                      <a:pt x="242" y="222"/>
                    </a:lnTo>
                    <a:lnTo>
                      <a:pt x="262" y="234"/>
                    </a:lnTo>
                    <a:close/>
                    <a:moveTo>
                      <a:pt x="317" y="234"/>
                    </a:moveTo>
                    <a:lnTo>
                      <a:pt x="338" y="222"/>
                    </a:lnTo>
                    <a:lnTo>
                      <a:pt x="338" y="198"/>
                    </a:lnTo>
                    <a:lnTo>
                      <a:pt x="317" y="187"/>
                    </a:lnTo>
                    <a:lnTo>
                      <a:pt x="296" y="198"/>
                    </a:lnTo>
                    <a:lnTo>
                      <a:pt x="296" y="222"/>
                    </a:lnTo>
                    <a:lnTo>
                      <a:pt x="317" y="234"/>
                    </a:lnTo>
                    <a:close/>
                    <a:moveTo>
                      <a:pt x="399" y="279"/>
                    </a:moveTo>
                    <a:lnTo>
                      <a:pt x="419" y="268"/>
                    </a:lnTo>
                    <a:lnTo>
                      <a:pt x="419" y="245"/>
                    </a:lnTo>
                    <a:lnTo>
                      <a:pt x="399" y="234"/>
                    </a:lnTo>
                    <a:lnTo>
                      <a:pt x="378" y="245"/>
                    </a:lnTo>
                    <a:lnTo>
                      <a:pt x="378" y="268"/>
                    </a:lnTo>
                    <a:lnTo>
                      <a:pt x="399" y="279"/>
                    </a:lnTo>
                    <a:close/>
                    <a:moveTo>
                      <a:pt x="371" y="140"/>
                    </a:moveTo>
                    <a:lnTo>
                      <a:pt x="391" y="128"/>
                    </a:lnTo>
                    <a:lnTo>
                      <a:pt x="391" y="105"/>
                    </a:lnTo>
                    <a:lnTo>
                      <a:pt x="371" y="94"/>
                    </a:lnTo>
                    <a:lnTo>
                      <a:pt x="351" y="105"/>
                    </a:lnTo>
                    <a:lnTo>
                      <a:pt x="351" y="128"/>
                    </a:lnTo>
                    <a:lnTo>
                      <a:pt x="371" y="140"/>
                    </a:lnTo>
                    <a:close/>
                    <a:moveTo>
                      <a:pt x="425" y="140"/>
                    </a:moveTo>
                    <a:lnTo>
                      <a:pt x="447" y="128"/>
                    </a:lnTo>
                    <a:lnTo>
                      <a:pt x="447" y="105"/>
                    </a:lnTo>
                    <a:lnTo>
                      <a:pt x="425" y="94"/>
                    </a:lnTo>
                    <a:lnTo>
                      <a:pt x="405" y="105"/>
                    </a:lnTo>
                    <a:lnTo>
                      <a:pt x="405" y="128"/>
                    </a:lnTo>
                    <a:lnTo>
                      <a:pt x="425" y="140"/>
                    </a:lnTo>
                    <a:close/>
                    <a:moveTo>
                      <a:pt x="21" y="187"/>
                    </a:moveTo>
                    <a:lnTo>
                      <a:pt x="41" y="174"/>
                    </a:lnTo>
                    <a:lnTo>
                      <a:pt x="41" y="152"/>
                    </a:lnTo>
                    <a:lnTo>
                      <a:pt x="21" y="14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21" y="187"/>
                    </a:lnTo>
                    <a:close/>
                    <a:moveTo>
                      <a:pt x="74" y="187"/>
                    </a:moveTo>
                    <a:lnTo>
                      <a:pt x="93" y="174"/>
                    </a:lnTo>
                    <a:lnTo>
                      <a:pt x="93" y="152"/>
                    </a:lnTo>
                    <a:lnTo>
                      <a:pt x="74" y="140"/>
                    </a:lnTo>
                    <a:lnTo>
                      <a:pt x="54" y="152"/>
                    </a:lnTo>
                    <a:lnTo>
                      <a:pt x="54" y="174"/>
                    </a:lnTo>
                    <a:lnTo>
                      <a:pt x="74" y="187"/>
                    </a:lnTo>
                    <a:close/>
                    <a:moveTo>
                      <a:pt x="127" y="187"/>
                    </a:moveTo>
                    <a:lnTo>
                      <a:pt x="147" y="174"/>
                    </a:lnTo>
                    <a:lnTo>
                      <a:pt x="147" y="152"/>
                    </a:lnTo>
                    <a:lnTo>
                      <a:pt x="127" y="140"/>
                    </a:lnTo>
                    <a:lnTo>
                      <a:pt x="107" y="152"/>
                    </a:lnTo>
                    <a:lnTo>
                      <a:pt x="107" y="174"/>
                    </a:lnTo>
                    <a:lnTo>
                      <a:pt x="127" y="187"/>
                    </a:lnTo>
                    <a:close/>
                    <a:moveTo>
                      <a:pt x="181" y="187"/>
                    </a:moveTo>
                    <a:lnTo>
                      <a:pt x="201" y="174"/>
                    </a:lnTo>
                    <a:lnTo>
                      <a:pt x="201" y="152"/>
                    </a:lnTo>
                    <a:lnTo>
                      <a:pt x="181" y="140"/>
                    </a:lnTo>
                    <a:lnTo>
                      <a:pt x="161" y="152"/>
                    </a:lnTo>
                    <a:lnTo>
                      <a:pt x="161" y="174"/>
                    </a:lnTo>
                    <a:lnTo>
                      <a:pt x="181" y="187"/>
                    </a:lnTo>
                    <a:close/>
                    <a:moveTo>
                      <a:pt x="236" y="187"/>
                    </a:moveTo>
                    <a:lnTo>
                      <a:pt x="256" y="174"/>
                    </a:lnTo>
                    <a:lnTo>
                      <a:pt x="256" y="152"/>
                    </a:lnTo>
                    <a:lnTo>
                      <a:pt x="236" y="140"/>
                    </a:lnTo>
                    <a:lnTo>
                      <a:pt x="215" y="152"/>
                    </a:lnTo>
                    <a:lnTo>
                      <a:pt x="215" y="174"/>
                    </a:lnTo>
                    <a:lnTo>
                      <a:pt x="236" y="187"/>
                    </a:lnTo>
                    <a:close/>
                    <a:moveTo>
                      <a:pt x="290" y="187"/>
                    </a:moveTo>
                    <a:lnTo>
                      <a:pt x="310" y="174"/>
                    </a:lnTo>
                    <a:lnTo>
                      <a:pt x="310" y="152"/>
                    </a:lnTo>
                    <a:lnTo>
                      <a:pt x="290" y="140"/>
                    </a:lnTo>
                    <a:lnTo>
                      <a:pt x="270" y="152"/>
                    </a:lnTo>
                    <a:lnTo>
                      <a:pt x="270" y="174"/>
                    </a:lnTo>
                    <a:lnTo>
                      <a:pt x="290" y="187"/>
                    </a:lnTo>
                    <a:close/>
                    <a:moveTo>
                      <a:pt x="344" y="187"/>
                    </a:moveTo>
                    <a:lnTo>
                      <a:pt x="365" y="174"/>
                    </a:lnTo>
                    <a:lnTo>
                      <a:pt x="365" y="152"/>
                    </a:lnTo>
                    <a:lnTo>
                      <a:pt x="344" y="140"/>
                    </a:lnTo>
                    <a:lnTo>
                      <a:pt x="324" y="152"/>
                    </a:lnTo>
                    <a:lnTo>
                      <a:pt x="324" y="174"/>
                    </a:lnTo>
                    <a:lnTo>
                      <a:pt x="344" y="187"/>
                    </a:lnTo>
                    <a:close/>
                    <a:moveTo>
                      <a:pt x="262" y="47"/>
                    </a:moveTo>
                    <a:lnTo>
                      <a:pt x="282" y="34"/>
                    </a:lnTo>
                    <a:lnTo>
                      <a:pt x="282" y="11"/>
                    </a:lnTo>
                    <a:lnTo>
                      <a:pt x="262" y="0"/>
                    </a:lnTo>
                    <a:lnTo>
                      <a:pt x="242" y="11"/>
                    </a:lnTo>
                    <a:lnTo>
                      <a:pt x="242" y="34"/>
                    </a:lnTo>
                    <a:lnTo>
                      <a:pt x="262" y="47"/>
                    </a:lnTo>
                    <a:close/>
                    <a:moveTo>
                      <a:pt x="290" y="94"/>
                    </a:moveTo>
                    <a:lnTo>
                      <a:pt x="310" y="82"/>
                    </a:lnTo>
                    <a:lnTo>
                      <a:pt x="310" y="58"/>
                    </a:lnTo>
                    <a:lnTo>
                      <a:pt x="290" y="47"/>
                    </a:lnTo>
                    <a:lnTo>
                      <a:pt x="270" y="58"/>
                    </a:lnTo>
                    <a:lnTo>
                      <a:pt x="270" y="82"/>
                    </a:lnTo>
                    <a:lnTo>
                      <a:pt x="290" y="94"/>
                    </a:lnTo>
                    <a:close/>
                    <a:moveTo>
                      <a:pt x="48" y="140"/>
                    </a:moveTo>
                    <a:lnTo>
                      <a:pt x="68" y="128"/>
                    </a:lnTo>
                    <a:lnTo>
                      <a:pt x="68" y="105"/>
                    </a:lnTo>
                    <a:lnTo>
                      <a:pt x="48" y="94"/>
                    </a:lnTo>
                    <a:lnTo>
                      <a:pt x="27" y="105"/>
                    </a:lnTo>
                    <a:lnTo>
                      <a:pt x="27" y="128"/>
                    </a:lnTo>
                    <a:lnTo>
                      <a:pt x="48" y="140"/>
                    </a:lnTo>
                    <a:close/>
                    <a:moveTo>
                      <a:pt x="99" y="140"/>
                    </a:moveTo>
                    <a:lnTo>
                      <a:pt x="120" y="128"/>
                    </a:lnTo>
                    <a:lnTo>
                      <a:pt x="120" y="105"/>
                    </a:lnTo>
                    <a:lnTo>
                      <a:pt x="99" y="94"/>
                    </a:lnTo>
                    <a:lnTo>
                      <a:pt x="82" y="105"/>
                    </a:lnTo>
                    <a:lnTo>
                      <a:pt x="82" y="128"/>
                    </a:lnTo>
                    <a:lnTo>
                      <a:pt x="99" y="140"/>
                    </a:lnTo>
                    <a:close/>
                    <a:moveTo>
                      <a:pt x="155" y="140"/>
                    </a:moveTo>
                    <a:lnTo>
                      <a:pt x="175" y="128"/>
                    </a:lnTo>
                    <a:lnTo>
                      <a:pt x="175" y="105"/>
                    </a:lnTo>
                    <a:lnTo>
                      <a:pt x="155" y="94"/>
                    </a:lnTo>
                    <a:lnTo>
                      <a:pt x="133" y="105"/>
                    </a:lnTo>
                    <a:lnTo>
                      <a:pt x="133" y="128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29" y="128"/>
                    </a:lnTo>
                    <a:lnTo>
                      <a:pt x="229" y="105"/>
                    </a:lnTo>
                    <a:lnTo>
                      <a:pt x="208" y="94"/>
                    </a:lnTo>
                    <a:lnTo>
                      <a:pt x="188" y="105"/>
                    </a:lnTo>
                    <a:lnTo>
                      <a:pt x="188" y="128"/>
                    </a:lnTo>
                    <a:lnTo>
                      <a:pt x="208" y="140"/>
                    </a:lnTo>
                    <a:close/>
                    <a:moveTo>
                      <a:pt x="155" y="47"/>
                    </a:moveTo>
                    <a:lnTo>
                      <a:pt x="175" y="34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3" y="11"/>
                    </a:lnTo>
                    <a:lnTo>
                      <a:pt x="133" y="34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29" y="34"/>
                    </a:lnTo>
                    <a:lnTo>
                      <a:pt x="229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4"/>
                    </a:lnTo>
                    <a:lnTo>
                      <a:pt x="208" y="47"/>
                    </a:lnTo>
                    <a:close/>
                    <a:moveTo>
                      <a:pt x="21" y="94"/>
                    </a:moveTo>
                    <a:lnTo>
                      <a:pt x="41" y="82"/>
                    </a:lnTo>
                    <a:lnTo>
                      <a:pt x="41" y="58"/>
                    </a:lnTo>
                    <a:lnTo>
                      <a:pt x="21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1" y="94"/>
                    </a:lnTo>
                    <a:close/>
                    <a:moveTo>
                      <a:pt x="74" y="94"/>
                    </a:moveTo>
                    <a:lnTo>
                      <a:pt x="93" y="82"/>
                    </a:lnTo>
                    <a:lnTo>
                      <a:pt x="93" y="58"/>
                    </a:lnTo>
                    <a:lnTo>
                      <a:pt x="74" y="47"/>
                    </a:lnTo>
                    <a:lnTo>
                      <a:pt x="54" y="58"/>
                    </a:lnTo>
                    <a:lnTo>
                      <a:pt x="54" y="82"/>
                    </a:lnTo>
                    <a:lnTo>
                      <a:pt x="74" y="94"/>
                    </a:lnTo>
                    <a:close/>
                    <a:moveTo>
                      <a:pt x="127" y="94"/>
                    </a:moveTo>
                    <a:lnTo>
                      <a:pt x="147" y="82"/>
                    </a:lnTo>
                    <a:lnTo>
                      <a:pt x="147" y="58"/>
                    </a:lnTo>
                    <a:lnTo>
                      <a:pt x="127" y="47"/>
                    </a:lnTo>
                    <a:lnTo>
                      <a:pt x="107" y="58"/>
                    </a:lnTo>
                    <a:lnTo>
                      <a:pt x="107" y="82"/>
                    </a:lnTo>
                    <a:lnTo>
                      <a:pt x="127" y="94"/>
                    </a:lnTo>
                    <a:close/>
                    <a:moveTo>
                      <a:pt x="48" y="47"/>
                    </a:moveTo>
                    <a:lnTo>
                      <a:pt x="68" y="34"/>
                    </a:lnTo>
                    <a:lnTo>
                      <a:pt x="68" y="11"/>
                    </a:lnTo>
                    <a:lnTo>
                      <a:pt x="48" y="0"/>
                    </a:lnTo>
                    <a:lnTo>
                      <a:pt x="27" y="11"/>
                    </a:lnTo>
                    <a:lnTo>
                      <a:pt x="27" y="34"/>
                    </a:lnTo>
                    <a:lnTo>
                      <a:pt x="48" y="47"/>
                    </a:lnTo>
                    <a:close/>
                    <a:moveTo>
                      <a:pt x="99" y="47"/>
                    </a:moveTo>
                    <a:lnTo>
                      <a:pt x="120" y="34"/>
                    </a:lnTo>
                    <a:lnTo>
                      <a:pt x="120" y="11"/>
                    </a:lnTo>
                    <a:lnTo>
                      <a:pt x="99" y="0"/>
                    </a:lnTo>
                    <a:lnTo>
                      <a:pt x="82" y="11"/>
                    </a:lnTo>
                    <a:lnTo>
                      <a:pt x="82" y="34"/>
                    </a:lnTo>
                    <a:lnTo>
                      <a:pt x="99" y="47"/>
                    </a:lnTo>
                    <a:close/>
                    <a:moveTo>
                      <a:pt x="181" y="94"/>
                    </a:moveTo>
                    <a:lnTo>
                      <a:pt x="201" y="82"/>
                    </a:lnTo>
                    <a:lnTo>
                      <a:pt x="201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4"/>
                    </a:lnTo>
                    <a:close/>
                    <a:moveTo>
                      <a:pt x="236" y="94"/>
                    </a:moveTo>
                    <a:lnTo>
                      <a:pt x="256" y="82"/>
                    </a:lnTo>
                    <a:lnTo>
                      <a:pt x="256" y="58"/>
                    </a:lnTo>
                    <a:lnTo>
                      <a:pt x="236" y="47"/>
                    </a:lnTo>
                    <a:lnTo>
                      <a:pt x="215" y="58"/>
                    </a:lnTo>
                    <a:lnTo>
                      <a:pt x="215" y="82"/>
                    </a:lnTo>
                    <a:lnTo>
                      <a:pt x="236" y="94"/>
                    </a:lnTo>
                    <a:close/>
                    <a:moveTo>
                      <a:pt x="262" y="140"/>
                    </a:moveTo>
                    <a:lnTo>
                      <a:pt x="282" y="128"/>
                    </a:lnTo>
                    <a:lnTo>
                      <a:pt x="282" y="105"/>
                    </a:lnTo>
                    <a:lnTo>
                      <a:pt x="262" y="94"/>
                    </a:lnTo>
                    <a:lnTo>
                      <a:pt x="242" y="105"/>
                    </a:lnTo>
                    <a:lnTo>
                      <a:pt x="242" y="128"/>
                    </a:lnTo>
                    <a:lnTo>
                      <a:pt x="262" y="140"/>
                    </a:lnTo>
                    <a:close/>
                    <a:moveTo>
                      <a:pt x="317" y="140"/>
                    </a:moveTo>
                    <a:lnTo>
                      <a:pt x="338" y="128"/>
                    </a:lnTo>
                    <a:lnTo>
                      <a:pt x="338" y="105"/>
                    </a:lnTo>
                    <a:lnTo>
                      <a:pt x="317" y="94"/>
                    </a:lnTo>
                    <a:lnTo>
                      <a:pt x="296" y="105"/>
                    </a:lnTo>
                    <a:lnTo>
                      <a:pt x="296" y="128"/>
                    </a:lnTo>
                    <a:lnTo>
                      <a:pt x="317" y="140"/>
                    </a:lnTo>
                    <a:close/>
                    <a:moveTo>
                      <a:pt x="399" y="187"/>
                    </a:moveTo>
                    <a:lnTo>
                      <a:pt x="419" y="174"/>
                    </a:lnTo>
                    <a:lnTo>
                      <a:pt x="419" y="152"/>
                    </a:lnTo>
                    <a:lnTo>
                      <a:pt x="399" y="140"/>
                    </a:lnTo>
                    <a:lnTo>
                      <a:pt x="378" y="152"/>
                    </a:lnTo>
                    <a:lnTo>
                      <a:pt x="378" y="174"/>
                    </a:lnTo>
                    <a:lnTo>
                      <a:pt x="399" y="187"/>
                    </a:lnTo>
                    <a:close/>
                    <a:moveTo>
                      <a:pt x="480" y="234"/>
                    </a:moveTo>
                    <a:lnTo>
                      <a:pt x="498" y="222"/>
                    </a:lnTo>
                    <a:lnTo>
                      <a:pt x="498" y="198"/>
                    </a:lnTo>
                    <a:lnTo>
                      <a:pt x="480" y="187"/>
                    </a:lnTo>
                    <a:lnTo>
                      <a:pt x="459" y="198"/>
                    </a:lnTo>
                    <a:lnTo>
                      <a:pt x="459" y="222"/>
                    </a:lnTo>
                    <a:lnTo>
                      <a:pt x="480" y="234"/>
                    </a:lnTo>
                    <a:close/>
                    <a:moveTo>
                      <a:pt x="505" y="279"/>
                    </a:moveTo>
                    <a:lnTo>
                      <a:pt x="525" y="268"/>
                    </a:lnTo>
                    <a:lnTo>
                      <a:pt x="525" y="245"/>
                    </a:lnTo>
                    <a:lnTo>
                      <a:pt x="505" y="234"/>
                    </a:lnTo>
                    <a:lnTo>
                      <a:pt x="484" y="245"/>
                    </a:lnTo>
                    <a:lnTo>
                      <a:pt x="484" y="268"/>
                    </a:lnTo>
                    <a:lnTo>
                      <a:pt x="505" y="279"/>
                    </a:lnTo>
                    <a:close/>
                    <a:moveTo>
                      <a:pt x="532" y="421"/>
                    </a:moveTo>
                    <a:lnTo>
                      <a:pt x="552" y="409"/>
                    </a:lnTo>
                    <a:lnTo>
                      <a:pt x="552" y="384"/>
                    </a:lnTo>
                    <a:lnTo>
                      <a:pt x="532" y="373"/>
                    </a:lnTo>
                    <a:lnTo>
                      <a:pt x="512" y="384"/>
                    </a:lnTo>
                    <a:lnTo>
                      <a:pt x="512" y="409"/>
                    </a:lnTo>
                    <a:lnTo>
                      <a:pt x="532" y="421"/>
                    </a:lnTo>
                    <a:close/>
                    <a:moveTo>
                      <a:pt x="532" y="327"/>
                    </a:moveTo>
                    <a:lnTo>
                      <a:pt x="552" y="316"/>
                    </a:lnTo>
                    <a:lnTo>
                      <a:pt x="552" y="292"/>
                    </a:lnTo>
                    <a:lnTo>
                      <a:pt x="532" y="280"/>
                    </a:lnTo>
                    <a:lnTo>
                      <a:pt x="512" y="292"/>
                    </a:lnTo>
                    <a:lnTo>
                      <a:pt x="512" y="316"/>
                    </a:lnTo>
                    <a:lnTo>
                      <a:pt x="532" y="327"/>
                    </a:lnTo>
                    <a:close/>
                    <a:moveTo>
                      <a:pt x="559" y="373"/>
                    </a:moveTo>
                    <a:lnTo>
                      <a:pt x="579" y="361"/>
                    </a:lnTo>
                    <a:lnTo>
                      <a:pt x="579" y="338"/>
                    </a:lnTo>
                    <a:lnTo>
                      <a:pt x="559" y="327"/>
                    </a:lnTo>
                    <a:lnTo>
                      <a:pt x="539" y="338"/>
                    </a:lnTo>
                    <a:lnTo>
                      <a:pt x="539" y="361"/>
                    </a:lnTo>
                    <a:lnTo>
                      <a:pt x="559" y="373"/>
                    </a:lnTo>
                    <a:close/>
                    <a:moveTo>
                      <a:pt x="587" y="421"/>
                    </a:moveTo>
                    <a:lnTo>
                      <a:pt x="607" y="409"/>
                    </a:lnTo>
                    <a:lnTo>
                      <a:pt x="607" y="384"/>
                    </a:lnTo>
                    <a:lnTo>
                      <a:pt x="587" y="373"/>
                    </a:lnTo>
                    <a:lnTo>
                      <a:pt x="566" y="384"/>
                    </a:lnTo>
                    <a:lnTo>
                      <a:pt x="566" y="409"/>
                    </a:lnTo>
                    <a:lnTo>
                      <a:pt x="587" y="421"/>
                    </a:lnTo>
                    <a:close/>
                    <a:moveTo>
                      <a:pt x="829" y="466"/>
                    </a:moveTo>
                    <a:lnTo>
                      <a:pt x="849" y="455"/>
                    </a:lnTo>
                    <a:lnTo>
                      <a:pt x="849" y="432"/>
                    </a:lnTo>
                    <a:lnTo>
                      <a:pt x="829" y="421"/>
                    </a:lnTo>
                    <a:lnTo>
                      <a:pt x="809" y="432"/>
                    </a:lnTo>
                    <a:lnTo>
                      <a:pt x="809" y="455"/>
                    </a:lnTo>
                    <a:lnTo>
                      <a:pt x="829" y="466"/>
                    </a:lnTo>
                    <a:close/>
                    <a:moveTo>
                      <a:pt x="883" y="466"/>
                    </a:moveTo>
                    <a:lnTo>
                      <a:pt x="904" y="455"/>
                    </a:lnTo>
                    <a:lnTo>
                      <a:pt x="904" y="432"/>
                    </a:lnTo>
                    <a:lnTo>
                      <a:pt x="883" y="421"/>
                    </a:lnTo>
                    <a:lnTo>
                      <a:pt x="863" y="432"/>
                    </a:lnTo>
                    <a:lnTo>
                      <a:pt x="863" y="455"/>
                    </a:lnTo>
                    <a:lnTo>
                      <a:pt x="883" y="466"/>
                    </a:lnTo>
                    <a:close/>
                    <a:moveTo>
                      <a:pt x="938" y="466"/>
                    </a:moveTo>
                    <a:lnTo>
                      <a:pt x="958" y="455"/>
                    </a:lnTo>
                    <a:lnTo>
                      <a:pt x="958" y="432"/>
                    </a:lnTo>
                    <a:lnTo>
                      <a:pt x="938" y="421"/>
                    </a:lnTo>
                    <a:lnTo>
                      <a:pt x="916" y="432"/>
                    </a:lnTo>
                    <a:lnTo>
                      <a:pt x="916" y="455"/>
                    </a:lnTo>
                    <a:lnTo>
                      <a:pt x="938" y="466"/>
                    </a:lnTo>
                    <a:close/>
                    <a:moveTo>
                      <a:pt x="992" y="559"/>
                    </a:moveTo>
                    <a:lnTo>
                      <a:pt x="1012" y="548"/>
                    </a:lnTo>
                    <a:lnTo>
                      <a:pt x="1012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48"/>
                    </a:lnTo>
                    <a:lnTo>
                      <a:pt x="992" y="559"/>
                    </a:lnTo>
                    <a:close/>
                    <a:moveTo>
                      <a:pt x="1045" y="559"/>
                    </a:moveTo>
                    <a:lnTo>
                      <a:pt x="1064" y="548"/>
                    </a:lnTo>
                    <a:lnTo>
                      <a:pt x="1064" y="525"/>
                    </a:lnTo>
                    <a:lnTo>
                      <a:pt x="1045" y="514"/>
                    </a:lnTo>
                    <a:lnTo>
                      <a:pt x="1025" y="525"/>
                    </a:lnTo>
                    <a:lnTo>
                      <a:pt x="1025" y="548"/>
                    </a:lnTo>
                    <a:lnTo>
                      <a:pt x="1045" y="559"/>
                    </a:lnTo>
                    <a:close/>
                    <a:moveTo>
                      <a:pt x="801" y="605"/>
                    </a:moveTo>
                    <a:lnTo>
                      <a:pt x="821" y="594"/>
                    </a:lnTo>
                    <a:lnTo>
                      <a:pt x="821" y="571"/>
                    </a:lnTo>
                    <a:lnTo>
                      <a:pt x="801" y="559"/>
                    </a:lnTo>
                    <a:lnTo>
                      <a:pt x="781" y="571"/>
                    </a:lnTo>
                    <a:lnTo>
                      <a:pt x="781" y="594"/>
                    </a:lnTo>
                    <a:lnTo>
                      <a:pt x="801" y="605"/>
                    </a:lnTo>
                    <a:close/>
                    <a:moveTo>
                      <a:pt x="856" y="605"/>
                    </a:moveTo>
                    <a:lnTo>
                      <a:pt x="876" y="594"/>
                    </a:lnTo>
                    <a:lnTo>
                      <a:pt x="876" y="571"/>
                    </a:lnTo>
                    <a:lnTo>
                      <a:pt x="856" y="559"/>
                    </a:lnTo>
                    <a:lnTo>
                      <a:pt x="835" y="571"/>
                    </a:lnTo>
                    <a:lnTo>
                      <a:pt x="835" y="594"/>
                    </a:lnTo>
                    <a:lnTo>
                      <a:pt x="856" y="605"/>
                    </a:lnTo>
                    <a:close/>
                    <a:moveTo>
                      <a:pt x="910" y="605"/>
                    </a:moveTo>
                    <a:lnTo>
                      <a:pt x="930" y="594"/>
                    </a:lnTo>
                    <a:lnTo>
                      <a:pt x="930" y="571"/>
                    </a:lnTo>
                    <a:lnTo>
                      <a:pt x="910" y="559"/>
                    </a:lnTo>
                    <a:lnTo>
                      <a:pt x="890" y="571"/>
                    </a:lnTo>
                    <a:lnTo>
                      <a:pt x="890" y="594"/>
                    </a:lnTo>
                    <a:lnTo>
                      <a:pt x="910" y="605"/>
                    </a:lnTo>
                    <a:close/>
                    <a:moveTo>
                      <a:pt x="964" y="605"/>
                    </a:moveTo>
                    <a:lnTo>
                      <a:pt x="985" y="594"/>
                    </a:lnTo>
                    <a:lnTo>
                      <a:pt x="985" y="571"/>
                    </a:lnTo>
                    <a:lnTo>
                      <a:pt x="964" y="559"/>
                    </a:lnTo>
                    <a:lnTo>
                      <a:pt x="944" y="571"/>
                    </a:lnTo>
                    <a:lnTo>
                      <a:pt x="944" y="594"/>
                    </a:lnTo>
                    <a:lnTo>
                      <a:pt x="964" y="605"/>
                    </a:lnTo>
                    <a:close/>
                    <a:moveTo>
                      <a:pt x="1019" y="605"/>
                    </a:moveTo>
                    <a:lnTo>
                      <a:pt x="1039" y="594"/>
                    </a:lnTo>
                    <a:lnTo>
                      <a:pt x="1039" y="571"/>
                    </a:lnTo>
                    <a:lnTo>
                      <a:pt x="1019" y="559"/>
                    </a:lnTo>
                    <a:lnTo>
                      <a:pt x="998" y="571"/>
                    </a:lnTo>
                    <a:lnTo>
                      <a:pt x="998" y="594"/>
                    </a:lnTo>
                    <a:lnTo>
                      <a:pt x="1019" y="605"/>
                    </a:lnTo>
                    <a:close/>
                    <a:moveTo>
                      <a:pt x="1070" y="605"/>
                    </a:moveTo>
                    <a:lnTo>
                      <a:pt x="1091" y="594"/>
                    </a:lnTo>
                    <a:lnTo>
                      <a:pt x="1091" y="571"/>
                    </a:lnTo>
                    <a:lnTo>
                      <a:pt x="1070" y="559"/>
                    </a:lnTo>
                    <a:lnTo>
                      <a:pt x="1053" y="571"/>
                    </a:lnTo>
                    <a:lnTo>
                      <a:pt x="1053" y="594"/>
                    </a:lnTo>
                    <a:lnTo>
                      <a:pt x="1070" y="605"/>
                    </a:lnTo>
                    <a:close/>
                    <a:moveTo>
                      <a:pt x="505" y="653"/>
                    </a:moveTo>
                    <a:lnTo>
                      <a:pt x="525" y="641"/>
                    </a:lnTo>
                    <a:lnTo>
                      <a:pt x="525" y="619"/>
                    </a:lnTo>
                    <a:lnTo>
                      <a:pt x="505" y="605"/>
                    </a:lnTo>
                    <a:lnTo>
                      <a:pt x="484" y="619"/>
                    </a:lnTo>
                    <a:lnTo>
                      <a:pt x="484" y="641"/>
                    </a:lnTo>
                    <a:lnTo>
                      <a:pt x="505" y="653"/>
                    </a:lnTo>
                    <a:close/>
                    <a:moveTo>
                      <a:pt x="559" y="653"/>
                    </a:moveTo>
                    <a:lnTo>
                      <a:pt x="579" y="641"/>
                    </a:lnTo>
                    <a:lnTo>
                      <a:pt x="579" y="619"/>
                    </a:lnTo>
                    <a:lnTo>
                      <a:pt x="559" y="605"/>
                    </a:lnTo>
                    <a:lnTo>
                      <a:pt x="539" y="619"/>
                    </a:lnTo>
                    <a:lnTo>
                      <a:pt x="539" y="641"/>
                    </a:lnTo>
                    <a:lnTo>
                      <a:pt x="559" y="653"/>
                    </a:lnTo>
                    <a:close/>
                    <a:moveTo>
                      <a:pt x="613" y="653"/>
                    </a:moveTo>
                    <a:lnTo>
                      <a:pt x="634" y="641"/>
                    </a:lnTo>
                    <a:lnTo>
                      <a:pt x="634" y="619"/>
                    </a:lnTo>
                    <a:lnTo>
                      <a:pt x="613" y="605"/>
                    </a:lnTo>
                    <a:lnTo>
                      <a:pt x="593" y="619"/>
                    </a:lnTo>
                    <a:lnTo>
                      <a:pt x="593" y="641"/>
                    </a:lnTo>
                    <a:lnTo>
                      <a:pt x="613" y="653"/>
                    </a:lnTo>
                    <a:close/>
                    <a:moveTo>
                      <a:pt x="666" y="653"/>
                    </a:moveTo>
                    <a:lnTo>
                      <a:pt x="686" y="641"/>
                    </a:lnTo>
                    <a:lnTo>
                      <a:pt x="686" y="619"/>
                    </a:lnTo>
                    <a:lnTo>
                      <a:pt x="666" y="605"/>
                    </a:lnTo>
                    <a:lnTo>
                      <a:pt x="647" y="619"/>
                    </a:lnTo>
                    <a:lnTo>
                      <a:pt x="647" y="641"/>
                    </a:lnTo>
                    <a:lnTo>
                      <a:pt x="666" y="653"/>
                    </a:lnTo>
                    <a:close/>
                    <a:moveTo>
                      <a:pt x="720" y="653"/>
                    </a:moveTo>
                    <a:lnTo>
                      <a:pt x="740" y="641"/>
                    </a:lnTo>
                    <a:lnTo>
                      <a:pt x="740" y="619"/>
                    </a:lnTo>
                    <a:lnTo>
                      <a:pt x="720" y="605"/>
                    </a:lnTo>
                    <a:lnTo>
                      <a:pt x="700" y="619"/>
                    </a:lnTo>
                    <a:lnTo>
                      <a:pt x="700" y="641"/>
                    </a:lnTo>
                    <a:lnTo>
                      <a:pt x="720" y="653"/>
                    </a:lnTo>
                    <a:close/>
                    <a:moveTo>
                      <a:pt x="21" y="653"/>
                    </a:moveTo>
                    <a:lnTo>
                      <a:pt x="41" y="641"/>
                    </a:lnTo>
                    <a:lnTo>
                      <a:pt x="41" y="619"/>
                    </a:lnTo>
                    <a:lnTo>
                      <a:pt x="21" y="605"/>
                    </a:lnTo>
                    <a:lnTo>
                      <a:pt x="0" y="619"/>
                    </a:lnTo>
                    <a:lnTo>
                      <a:pt x="0" y="641"/>
                    </a:lnTo>
                    <a:lnTo>
                      <a:pt x="21" y="653"/>
                    </a:lnTo>
                    <a:close/>
                    <a:moveTo>
                      <a:pt x="74" y="653"/>
                    </a:moveTo>
                    <a:lnTo>
                      <a:pt x="93" y="641"/>
                    </a:lnTo>
                    <a:lnTo>
                      <a:pt x="93" y="619"/>
                    </a:lnTo>
                    <a:lnTo>
                      <a:pt x="74" y="605"/>
                    </a:lnTo>
                    <a:lnTo>
                      <a:pt x="54" y="619"/>
                    </a:lnTo>
                    <a:lnTo>
                      <a:pt x="54" y="641"/>
                    </a:lnTo>
                    <a:lnTo>
                      <a:pt x="74" y="653"/>
                    </a:lnTo>
                    <a:close/>
                    <a:moveTo>
                      <a:pt x="127" y="653"/>
                    </a:moveTo>
                    <a:lnTo>
                      <a:pt x="147" y="641"/>
                    </a:lnTo>
                    <a:lnTo>
                      <a:pt x="147" y="619"/>
                    </a:lnTo>
                    <a:lnTo>
                      <a:pt x="127" y="605"/>
                    </a:lnTo>
                    <a:lnTo>
                      <a:pt x="107" y="619"/>
                    </a:lnTo>
                    <a:lnTo>
                      <a:pt x="107" y="641"/>
                    </a:lnTo>
                    <a:lnTo>
                      <a:pt x="127" y="653"/>
                    </a:lnTo>
                    <a:close/>
                    <a:moveTo>
                      <a:pt x="181" y="653"/>
                    </a:moveTo>
                    <a:lnTo>
                      <a:pt x="201" y="641"/>
                    </a:lnTo>
                    <a:lnTo>
                      <a:pt x="201" y="619"/>
                    </a:lnTo>
                    <a:lnTo>
                      <a:pt x="181" y="605"/>
                    </a:lnTo>
                    <a:lnTo>
                      <a:pt x="161" y="619"/>
                    </a:lnTo>
                    <a:lnTo>
                      <a:pt x="161" y="641"/>
                    </a:lnTo>
                    <a:lnTo>
                      <a:pt x="181" y="653"/>
                    </a:lnTo>
                    <a:close/>
                    <a:moveTo>
                      <a:pt x="236" y="653"/>
                    </a:moveTo>
                    <a:lnTo>
                      <a:pt x="256" y="641"/>
                    </a:lnTo>
                    <a:lnTo>
                      <a:pt x="256" y="619"/>
                    </a:lnTo>
                    <a:lnTo>
                      <a:pt x="236" y="605"/>
                    </a:lnTo>
                    <a:lnTo>
                      <a:pt x="215" y="619"/>
                    </a:lnTo>
                    <a:lnTo>
                      <a:pt x="215" y="641"/>
                    </a:lnTo>
                    <a:lnTo>
                      <a:pt x="236" y="653"/>
                    </a:lnTo>
                    <a:close/>
                    <a:moveTo>
                      <a:pt x="290" y="653"/>
                    </a:moveTo>
                    <a:lnTo>
                      <a:pt x="310" y="641"/>
                    </a:lnTo>
                    <a:lnTo>
                      <a:pt x="310" y="619"/>
                    </a:lnTo>
                    <a:lnTo>
                      <a:pt x="290" y="605"/>
                    </a:lnTo>
                    <a:lnTo>
                      <a:pt x="270" y="619"/>
                    </a:lnTo>
                    <a:lnTo>
                      <a:pt x="270" y="641"/>
                    </a:lnTo>
                    <a:lnTo>
                      <a:pt x="290" y="653"/>
                    </a:lnTo>
                    <a:close/>
                    <a:moveTo>
                      <a:pt x="480" y="605"/>
                    </a:moveTo>
                    <a:lnTo>
                      <a:pt x="498" y="594"/>
                    </a:lnTo>
                    <a:lnTo>
                      <a:pt x="498" y="571"/>
                    </a:lnTo>
                    <a:lnTo>
                      <a:pt x="480" y="559"/>
                    </a:lnTo>
                    <a:lnTo>
                      <a:pt x="459" y="571"/>
                    </a:lnTo>
                    <a:lnTo>
                      <a:pt x="459" y="594"/>
                    </a:lnTo>
                    <a:lnTo>
                      <a:pt x="480" y="605"/>
                    </a:lnTo>
                    <a:close/>
                    <a:moveTo>
                      <a:pt x="532" y="605"/>
                    </a:moveTo>
                    <a:lnTo>
                      <a:pt x="552" y="594"/>
                    </a:lnTo>
                    <a:lnTo>
                      <a:pt x="552" y="571"/>
                    </a:lnTo>
                    <a:lnTo>
                      <a:pt x="532" y="559"/>
                    </a:lnTo>
                    <a:lnTo>
                      <a:pt x="512" y="571"/>
                    </a:lnTo>
                    <a:lnTo>
                      <a:pt x="512" y="594"/>
                    </a:lnTo>
                    <a:lnTo>
                      <a:pt x="532" y="605"/>
                    </a:lnTo>
                    <a:close/>
                    <a:moveTo>
                      <a:pt x="587" y="605"/>
                    </a:moveTo>
                    <a:lnTo>
                      <a:pt x="607" y="594"/>
                    </a:lnTo>
                    <a:lnTo>
                      <a:pt x="607" y="571"/>
                    </a:lnTo>
                    <a:lnTo>
                      <a:pt x="587" y="559"/>
                    </a:lnTo>
                    <a:lnTo>
                      <a:pt x="566" y="571"/>
                    </a:lnTo>
                    <a:lnTo>
                      <a:pt x="566" y="594"/>
                    </a:lnTo>
                    <a:lnTo>
                      <a:pt x="587" y="605"/>
                    </a:lnTo>
                    <a:close/>
                    <a:moveTo>
                      <a:pt x="641" y="605"/>
                    </a:moveTo>
                    <a:lnTo>
                      <a:pt x="658" y="594"/>
                    </a:lnTo>
                    <a:lnTo>
                      <a:pt x="658" y="571"/>
                    </a:lnTo>
                    <a:lnTo>
                      <a:pt x="641" y="559"/>
                    </a:lnTo>
                    <a:lnTo>
                      <a:pt x="621" y="571"/>
                    </a:lnTo>
                    <a:lnTo>
                      <a:pt x="621" y="594"/>
                    </a:lnTo>
                    <a:lnTo>
                      <a:pt x="641" y="605"/>
                    </a:lnTo>
                    <a:close/>
                    <a:moveTo>
                      <a:pt x="48" y="605"/>
                    </a:moveTo>
                    <a:lnTo>
                      <a:pt x="68" y="594"/>
                    </a:lnTo>
                    <a:lnTo>
                      <a:pt x="68" y="571"/>
                    </a:lnTo>
                    <a:lnTo>
                      <a:pt x="48" y="559"/>
                    </a:lnTo>
                    <a:lnTo>
                      <a:pt x="27" y="571"/>
                    </a:lnTo>
                    <a:lnTo>
                      <a:pt x="27" y="594"/>
                    </a:lnTo>
                    <a:lnTo>
                      <a:pt x="48" y="605"/>
                    </a:lnTo>
                    <a:close/>
                    <a:moveTo>
                      <a:pt x="99" y="605"/>
                    </a:moveTo>
                    <a:lnTo>
                      <a:pt x="120" y="594"/>
                    </a:lnTo>
                    <a:lnTo>
                      <a:pt x="120" y="571"/>
                    </a:lnTo>
                    <a:lnTo>
                      <a:pt x="99" y="559"/>
                    </a:lnTo>
                    <a:lnTo>
                      <a:pt x="82" y="571"/>
                    </a:lnTo>
                    <a:lnTo>
                      <a:pt x="82" y="594"/>
                    </a:lnTo>
                    <a:lnTo>
                      <a:pt x="99" y="605"/>
                    </a:lnTo>
                    <a:close/>
                    <a:moveTo>
                      <a:pt x="155" y="605"/>
                    </a:moveTo>
                    <a:lnTo>
                      <a:pt x="175" y="594"/>
                    </a:lnTo>
                    <a:lnTo>
                      <a:pt x="175" y="571"/>
                    </a:lnTo>
                    <a:lnTo>
                      <a:pt x="155" y="559"/>
                    </a:lnTo>
                    <a:lnTo>
                      <a:pt x="133" y="571"/>
                    </a:lnTo>
                    <a:lnTo>
                      <a:pt x="133" y="594"/>
                    </a:lnTo>
                    <a:lnTo>
                      <a:pt x="155" y="605"/>
                    </a:lnTo>
                    <a:close/>
                    <a:moveTo>
                      <a:pt x="208" y="605"/>
                    </a:moveTo>
                    <a:lnTo>
                      <a:pt x="229" y="594"/>
                    </a:lnTo>
                    <a:lnTo>
                      <a:pt x="229" y="571"/>
                    </a:lnTo>
                    <a:lnTo>
                      <a:pt x="208" y="559"/>
                    </a:lnTo>
                    <a:lnTo>
                      <a:pt x="188" y="571"/>
                    </a:lnTo>
                    <a:lnTo>
                      <a:pt x="188" y="594"/>
                    </a:lnTo>
                    <a:lnTo>
                      <a:pt x="208" y="605"/>
                    </a:lnTo>
                    <a:close/>
                    <a:moveTo>
                      <a:pt x="262" y="605"/>
                    </a:moveTo>
                    <a:lnTo>
                      <a:pt x="282" y="594"/>
                    </a:lnTo>
                    <a:lnTo>
                      <a:pt x="282" y="571"/>
                    </a:lnTo>
                    <a:lnTo>
                      <a:pt x="262" y="559"/>
                    </a:lnTo>
                    <a:lnTo>
                      <a:pt x="242" y="571"/>
                    </a:lnTo>
                    <a:lnTo>
                      <a:pt x="242" y="594"/>
                    </a:lnTo>
                    <a:lnTo>
                      <a:pt x="262" y="605"/>
                    </a:lnTo>
                    <a:close/>
                    <a:moveTo>
                      <a:pt x="692" y="605"/>
                    </a:moveTo>
                    <a:lnTo>
                      <a:pt x="713" y="594"/>
                    </a:lnTo>
                    <a:lnTo>
                      <a:pt x="713" y="571"/>
                    </a:lnTo>
                    <a:lnTo>
                      <a:pt x="692" y="559"/>
                    </a:lnTo>
                    <a:lnTo>
                      <a:pt x="675" y="571"/>
                    </a:lnTo>
                    <a:lnTo>
                      <a:pt x="675" y="594"/>
                    </a:lnTo>
                    <a:lnTo>
                      <a:pt x="692" y="605"/>
                    </a:lnTo>
                    <a:close/>
                    <a:moveTo>
                      <a:pt x="747" y="605"/>
                    </a:moveTo>
                    <a:lnTo>
                      <a:pt x="767" y="594"/>
                    </a:lnTo>
                    <a:lnTo>
                      <a:pt x="767" y="571"/>
                    </a:lnTo>
                    <a:lnTo>
                      <a:pt x="747" y="559"/>
                    </a:lnTo>
                    <a:lnTo>
                      <a:pt x="727" y="571"/>
                    </a:lnTo>
                    <a:lnTo>
                      <a:pt x="727" y="594"/>
                    </a:lnTo>
                    <a:lnTo>
                      <a:pt x="747" y="605"/>
                    </a:lnTo>
                    <a:close/>
                    <a:moveTo>
                      <a:pt x="775" y="653"/>
                    </a:moveTo>
                    <a:lnTo>
                      <a:pt x="795" y="641"/>
                    </a:lnTo>
                    <a:lnTo>
                      <a:pt x="795" y="619"/>
                    </a:lnTo>
                    <a:lnTo>
                      <a:pt x="775" y="605"/>
                    </a:lnTo>
                    <a:lnTo>
                      <a:pt x="754" y="619"/>
                    </a:lnTo>
                    <a:lnTo>
                      <a:pt x="754" y="641"/>
                    </a:lnTo>
                    <a:lnTo>
                      <a:pt x="775" y="653"/>
                    </a:lnTo>
                    <a:close/>
                    <a:moveTo>
                      <a:pt x="829" y="653"/>
                    </a:moveTo>
                    <a:lnTo>
                      <a:pt x="849" y="641"/>
                    </a:lnTo>
                    <a:lnTo>
                      <a:pt x="849" y="619"/>
                    </a:lnTo>
                    <a:lnTo>
                      <a:pt x="829" y="605"/>
                    </a:lnTo>
                    <a:lnTo>
                      <a:pt x="809" y="619"/>
                    </a:lnTo>
                    <a:lnTo>
                      <a:pt x="809" y="641"/>
                    </a:lnTo>
                    <a:lnTo>
                      <a:pt x="829" y="653"/>
                    </a:lnTo>
                    <a:close/>
                    <a:moveTo>
                      <a:pt x="883" y="653"/>
                    </a:moveTo>
                    <a:lnTo>
                      <a:pt x="904" y="641"/>
                    </a:lnTo>
                    <a:lnTo>
                      <a:pt x="904" y="619"/>
                    </a:lnTo>
                    <a:lnTo>
                      <a:pt x="883" y="605"/>
                    </a:lnTo>
                    <a:lnTo>
                      <a:pt x="863" y="619"/>
                    </a:lnTo>
                    <a:lnTo>
                      <a:pt x="863" y="641"/>
                    </a:lnTo>
                    <a:lnTo>
                      <a:pt x="883" y="653"/>
                    </a:lnTo>
                    <a:close/>
                    <a:moveTo>
                      <a:pt x="938" y="653"/>
                    </a:moveTo>
                    <a:lnTo>
                      <a:pt x="958" y="641"/>
                    </a:lnTo>
                    <a:lnTo>
                      <a:pt x="958" y="619"/>
                    </a:lnTo>
                    <a:lnTo>
                      <a:pt x="938" y="605"/>
                    </a:lnTo>
                    <a:lnTo>
                      <a:pt x="916" y="619"/>
                    </a:lnTo>
                    <a:lnTo>
                      <a:pt x="916" y="641"/>
                    </a:lnTo>
                    <a:lnTo>
                      <a:pt x="938" y="653"/>
                    </a:lnTo>
                    <a:close/>
                    <a:moveTo>
                      <a:pt x="992" y="653"/>
                    </a:moveTo>
                    <a:lnTo>
                      <a:pt x="1012" y="641"/>
                    </a:lnTo>
                    <a:lnTo>
                      <a:pt x="1012" y="619"/>
                    </a:lnTo>
                    <a:lnTo>
                      <a:pt x="992" y="605"/>
                    </a:lnTo>
                    <a:lnTo>
                      <a:pt x="972" y="619"/>
                    </a:lnTo>
                    <a:lnTo>
                      <a:pt x="972" y="641"/>
                    </a:lnTo>
                    <a:lnTo>
                      <a:pt x="992" y="653"/>
                    </a:lnTo>
                    <a:close/>
                    <a:moveTo>
                      <a:pt x="1045" y="653"/>
                    </a:moveTo>
                    <a:lnTo>
                      <a:pt x="1064" y="641"/>
                    </a:lnTo>
                    <a:lnTo>
                      <a:pt x="1064" y="619"/>
                    </a:lnTo>
                    <a:lnTo>
                      <a:pt x="1045" y="605"/>
                    </a:lnTo>
                    <a:lnTo>
                      <a:pt x="1025" y="619"/>
                    </a:lnTo>
                    <a:lnTo>
                      <a:pt x="1025" y="641"/>
                    </a:lnTo>
                    <a:lnTo>
                      <a:pt x="1045" y="653"/>
                    </a:lnTo>
                    <a:close/>
                    <a:moveTo>
                      <a:pt x="1019" y="421"/>
                    </a:moveTo>
                    <a:lnTo>
                      <a:pt x="1039" y="409"/>
                    </a:lnTo>
                    <a:lnTo>
                      <a:pt x="1039" y="384"/>
                    </a:lnTo>
                    <a:lnTo>
                      <a:pt x="1019" y="373"/>
                    </a:lnTo>
                    <a:lnTo>
                      <a:pt x="998" y="384"/>
                    </a:lnTo>
                    <a:lnTo>
                      <a:pt x="998" y="409"/>
                    </a:lnTo>
                    <a:lnTo>
                      <a:pt x="1019" y="421"/>
                    </a:lnTo>
                    <a:close/>
                    <a:moveTo>
                      <a:pt x="1045" y="466"/>
                    </a:moveTo>
                    <a:lnTo>
                      <a:pt x="1064" y="455"/>
                    </a:lnTo>
                    <a:lnTo>
                      <a:pt x="1064" y="432"/>
                    </a:lnTo>
                    <a:lnTo>
                      <a:pt x="1045" y="421"/>
                    </a:lnTo>
                    <a:lnTo>
                      <a:pt x="1025" y="432"/>
                    </a:lnTo>
                    <a:lnTo>
                      <a:pt x="1025" y="455"/>
                    </a:lnTo>
                    <a:lnTo>
                      <a:pt x="1045" y="466"/>
                    </a:lnTo>
                    <a:close/>
                    <a:moveTo>
                      <a:pt x="1070" y="421"/>
                    </a:moveTo>
                    <a:lnTo>
                      <a:pt x="1091" y="409"/>
                    </a:lnTo>
                    <a:lnTo>
                      <a:pt x="1091" y="384"/>
                    </a:lnTo>
                    <a:lnTo>
                      <a:pt x="1070" y="373"/>
                    </a:lnTo>
                    <a:lnTo>
                      <a:pt x="1053" y="384"/>
                    </a:lnTo>
                    <a:lnTo>
                      <a:pt x="1053" y="409"/>
                    </a:lnTo>
                    <a:lnTo>
                      <a:pt x="1070" y="421"/>
                    </a:lnTo>
                    <a:close/>
                    <a:moveTo>
                      <a:pt x="964" y="511"/>
                    </a:moveTo>
                    <a:lnTo>
                      <a:pt x="985" y="500"/>
                    </a:lnTo>
                    <a:lnTo>
                      <a:pt x="985" y="477"/>
                    </a:lnTo>
                    <a:lnTo>
                      <a:pt x="964" y="466"/>
                    </a:lnTo>
                    <a:lnTo>
                      <a:pt x="944" y="477"/>
                    </a:lnTo>
                    <a:lnTo>
                      <a:pt x="944" y="500"/>
                    </a:lnTo>
                    <a:lnTo>
                      <a:pt x="964" y="511"/>
                    </a:lnTo>
                    <a:close/>
                    <a:moveTo>
                      <a:pt x="992" y="466"/>
                    </a:moveTo>
                    <a:lnTo>
                      <a:pt x="1012" y="455"/>
                    </a:lnTo>
                    <a:lnTo>
                      <a:pt x="1012" y="432"/>
                    </a:lnTo>
                    <a:lnTo>
                      <a:pt x="992" y="421"/>
                    </a:lnTo>
                    <a:lnTo>
                      <a:pt x="972" y="432"/>
                    </a:lnTo>
                    <a:lnTo>
                      <a:pt x="972" y="455"/>
                    </a:lnTo>
                    <a:lnTo>
                      <a:pt x="992" y="466"/>
                    </a:lnTo>
                    <a:close/>
                    <a:moveTo>
                      <a:pt x="1019" y="511"/>
                    </a:moveTo>
                    <a:lnTo>
                      <a:pt x="1039" y="500"/>
                    </a:lnTo>
                    <a:lnTo>
                      <a:pt x="1039" y="477"/>
                    </a:lnTo>
                    <a:lnTo>
                      <a:pt x="1019" y="466"/>
                    </a:lnTo>
                    <a:lnTo>
                      <a:pt x="998" y="477"/>
                    </a:lnTo>
                    <a:lnTo>
                      <a:pt x="998" y="500"/>
                    </a:lnTo>
                    <a:lnTo>
                      <a:pt x="1019" y="511"/>
                    </a:lnTo>
                    <a:close/>
                    <a:moveTo>
                      <a:pt x="1070" y="511"/>
                    </a:moveTo>
                    <a:lnTo>
                      <a:pt x="1091" y="500"/>
                    </a:lnTo>
                    <a:lnTo>
                      <a:pt x="1091" y="477"/>
                    </a:lnTo>
                    <a:lnTo>
                      <a:pt x="1070" y="466"/>
                    </a:lnTo>
                    <a:lnTo>
                      <a:pt x="1053" y="477"/>
                    </a:lnTo>
                    <a:lnTo>
                      <a:pt x="1053" y="500"/>
                    </a:lnTo>
                    <a:lnTo>
                      <a:pt x="1070" y="511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6278040" y="48974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631620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35292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638964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205680" y="48974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624132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609552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613224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6168960" y="48974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576648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5803200" y="48974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583848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587520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5911920" y="48974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5948640" y="4897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6297120" y="4870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>
                <a:off x="6333840" y="48704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6371640" y="4870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6150240" y="48704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6188040" y="48704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0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224760" y="48704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260400" y="4870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004440" y="4870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041160" y="48704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077880" y="48704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1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6113160" y="48704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5784120" y="48704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5820840" y="48704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5856120" y="48704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5894280" y="48704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5931360" y="4870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5968080" y="4870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1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095520" y="48452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132240" y="48452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5766480" y="48452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5803200" y="484524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5838480" y="48452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5875200" y="48452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5911920" y="484524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5948640" y="48452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5985360" y="4845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022080" y="4845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168960" y="4845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205680" y="484524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241320" y="48452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278040" y="4845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113160" y="471528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113160" y="46641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132240" y="47419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6132240" y="4689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6132240" y="4637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7" name=""/>
              <p:cNvSpPr/>
              <p:nvPr/>
            </p:nvSpPr>
            <p:spPr>
              <a:xfrm>
                <a:off x="6077880" y="476748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8" name=""/>
              <p:cNvSpPr/>
              <p:nvPr/>
            </p:nvSpPr>
            <p:spPr>
              <a:xfrm>
                <a:off x="6095520" y="47941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5784120" y="481860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5820840" y="481860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5856120" y="481860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5894280" y="481860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5931360" y="48186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5968080" y="48186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6004440" y="48186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6041160" y="481860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6004440" y="476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6041160" y="476748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5766480" y="47941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5803200" y="479412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5838480" y="47941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5875200" y="47941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5911920" y="4794120"/>
                <a:ext cx="2808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5948640" y="479412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5784120" y="47674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5820840" y="476748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5856120" y="47674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5894280" y="476748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5931360" y="476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5968080" y="476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5985360" y="479412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6022080" y="479412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6077880" y="481860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6077880" y="46641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6095520" y="4637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6095520" y="4689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6004440" y="47152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6041160" y="471528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5766480" y="47419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5803200" y="47419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5838480" y="47419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5875200" y="47419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5911920" y="474192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5948640" y="47419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5985360" y="47419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5784120" y="47152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5820840" y="471528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5856120" y="47152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5894280" y="471528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5931360" y="47152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5968080" y="47152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6022080" y="47419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6004440" y="4664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6041160" y="46641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5766480" y="4689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5803200" y="468972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5838480" y="4689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5875200" y="4689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5911920" y="468972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5948640" y="4689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5985360" y="46897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5931360" y="46119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5948640" y="4637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5784120" y="46641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5265" name=""/>
            <p:cNvGrpSpPr/>
            <p:nvPr/>
          </p:nvGrpSpPr>
          <p:grpSpPr>
            <a:xfrm>
              <a:off x="2494080" y="4535640"/>
              <a:ext cx="4186080" cy="646560"/>
              <a:chOff x="2494080" y="4535640"/>
              <a:chExt cx="4186080" cy="646560"/>
            </a:xfrm>
          </p:grpSpPr>
          <p:sp>
            <p:nvSpPr>
              <p:cNvPr id="5266" name=""/>
              <p:cNvSpPr/>
              <p:nvPr/>
            </p:nvSpPr>
            <p:spPr>
              <a:xfrm>
                <a:off x="5820840" y="466416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5855760" y="46641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5893920" y="46641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5855760" y="46119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5893920" y="46119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5766120" y="46375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5803200" y="4637520"/>
                <a:ext cx="24840" cy="26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5837760" y="46375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5783760" y="46119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5820840" y="461196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5874480" y="463752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5911920" y="4637520"/>
                <a:ext cx="2844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5931000" y="4664160"/>
                <a:ext cx="2628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5966640" y="46641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6021720" y="46893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6077880" y="471528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6094800" y="47422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6112440" y="481896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6112440" y="476784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6131520" y="479448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6149880" y="481896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6315840" y="48452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6352560" y="4845240"/>
                <a:ext cx="262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6388920" y="48452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6425640" y="48974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6462720" y="48974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6296760" y="49230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6333840" y="49230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6372000" y="492300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6406560" y="49230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6443640" y="49230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6481800" y="492300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609480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613152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6168600" y="494748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6205680" y="494748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19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624060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576612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5803200" y="494748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583776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587448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5911920" y="494748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5949000" y="49474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6077880" y="492300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6112440" y="49230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6149880" y="49230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6188040" y="492300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20" y="46"/>
                    </a:moveTo>
                    <a:lnTo>
                      <a:pt x="37" y="35"/>
                    </a:lnTo>
                    <a:lnTo>
                      <a:pt x="37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5783760" y="49230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5820840" y="492300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5855760" y="492300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>
                <a:off x="5893920" y="49230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5931000" y="492300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6224760" y="492300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>
                <a:off x="6259320" y="49230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6277320" y="494748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631584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6352560" y="494748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638892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4"/>
                    </a:lnTo>
                    <a:lnTo>
                      <a:pt x="22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642564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6462720" y="49474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6443640" y="481896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6462720" y="48452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6481800" y="4818960"/>
                <a:ext cx="25200" cy="2592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6406560" y="48711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6425640" y="48452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6443640" y="48711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>
                <a:off x="6481800" y="487116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>
                <a:off x="6177240" y="4636800"/>
                <a:ext cx="289080" cy="1742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4" name=""/>
              <p:cNvSpPr/>
              <p:nvPr/>
            </p:nvSpPr>
            <p:spPr>
              <a:xfrm>
                <a:off x="6177240" y="4636800"/>
                <a:ext cx="289080" cy="1742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5" name=""/>
              <p:cNvSpPr/>
              <p:nvPr/>
            </p:nvSpPr>
            <p:spPr>
              <a:xfrm>
                <a:off x="6197400" y="4654800"/>
                <a:ext cx="248400" cy="1393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  <a:close/>
                  </a:path>
                </a:pathLst>
              </a:custGeom>
              <a:solidFill>
                <a:srgbClr val="2b2b2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6" name=""/>
              <p:cNvSpPr/>
              <p:nvPr/>
            </p:nvSpPr>
            <p:spPr>
              <a:xfrm>
                <a:off x="6197400" y="4654800"/>
                <a:ext cx="248400" cy="1393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7" name=""/>
              <p:cNvSpPr/>
              <p:nvPr/>
            </p:nvSpPr>
            <p:spPr>
              <a:xfrm>
                <a:off x="6247440" y="4684680"/>
                <a:ext cx="147960" cy="79920"/>
              </a:xfrm>
              <a:custGeom>
                <a:avLst/>
                <a:gdLst/>
                <a:ahLst/>
                <a:rect l="l" t="t" r="r" b="b"/>
                <a:pathLst>
                  <a:path w="218" h="144">
                    <a:moveTo>
                      <a:pt x="20" y="68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0" y="68"/>
                    </a:lnTo>
                    <a:close/>
                    <a:moveTo>
                      <a:pt x="118" y="144"/>
                    </a:moveTo>
                    <a:lnTo>
                      <a:pt x="118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18" y="144"/>
                    </a:lnTo>
                    <a:close/>
                    <a:moveTo>
                      <a:pt x="218" y="68"/>
                    </a:moveTo>
                    <a:lnTo>
                      <a:pt x="218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8" y="6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8" name=""/>
              <p:cNvSpPr/>
              <p:nvPr/>
            </p:nvSpPr>
            <p:spPr>
              <a:xfrm>
                <a:off x="6448320" y="4666680"/>
                <a:ext cx="97920" cy="1422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9" name=""/>
              <p:cNvSpPr/>
              <p:nvPr/>
            </p:nvSpPr>
            <p:spPr>
              <a:xfrm>
                <a:off x="6448320" y="4646880"/>
                <a:ext cx="25200" cy="182160"/>
              </a:xfrm>
              <a:prstGeom prst="rect">
                <a:avLst/>
              </a:prstGeom>
              <a:solidFill>
                <a:srgbClr val="af4b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0" name=""/>
              <p:cNvSpPr/>
              <p:nvPr/>
            </p:nvSpPr>
            <p:spPr>
              <a:xfrm>
                <a:off x="6473520" y="4646880"/>
                <a:ext cx="26280" cy="182160"/>
              </a:xfrm>
              <a:prstGeom prst="rect">
                <a:avLst/>
              </a:prstGeom>
              <a:solidFill>
                <a:srgbClr val="b65d8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1" name=""/>
              <p:cNvSpPr/>
              <p:nvPr/>
            </p:nvSpPr>
            <p:spPr>
              <a:xfrm>
                <a:off x="6499800" y="4646880"/>
                <a:ext cx="23760" cy="182160"/>
              </a:xfrm>
              <a:prstGeom prst="rect">
                <a:avLst/>
              </a:prstGeom>
              <a:solidFill>
                <a:srgbClr val="b357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2" name=""/>
              <p:cNvSpPr/>
              <p:nvPr/>
            </p:nvSpPr>
            <p:spPr>
              <a:xfrm>
                <a:off x="6523560" y="4646880"/>
                <a:ext cx="22680" cy="182160"/>
              </a:xfrm>
              <a:prstGeom prst="rect">
                <a:avLst/>
              </a:prstGeom>
              <a:solidFill>
                <a:srgbClr val="b1507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3" name=""/>
              <p:cNvSpPr/>
              <p:nvPr/>
            </p:nvSpPr>
            <p:spPr>
              <a:xfrm>
                <a:off x="6546600" y="4646880"/>
                <a:ext cx="24840" cy="182160"/>
              </a:xfrm>
              <a:prstGeom prst="rect">
                <a:avLst/>
              </a:prstGeom>
              <a:solidFill>
                <a:srgbClr val="ae4a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4" name=""/>
              <p:cNvSpPr/>
              <p:nvPr/>
            </p:nvSpPr>
            <p:spPr>
              <a:xfrm>
                <a:off x="6466320" y="4651200"/>
                <a:ext cx="95400" cy="154800"/>
              </a:xfrm>
              <a:custGeom>
                <a:avLst/>
                <a:gdLst/>
                <a:ahLst/>
                <a:rect l="l" t="t" r="r" b="b"/>
                <a:pathLst>
                  <a:path w="141" h="280">
                    <a:moveTo>
                      <a:pt x="0" y="261"/>
                    </a:moveTo>
                    <a:lnTo>
                      <a:pt x="0" y="265"/>
                    </a:lnTo>
                    <a:lnTo>
                      <a:pt x="2" y="268"/>
                    </a:lnTo>
                    <a:lnTo>
                      <a:pt x="3" y="272"/>
                    </a:lnTo>
                    <a:lnTo>
                      <a:pt x="5" y="275"/>
                    </a:lnTo>
                    <a:lnTo>
                      <a:pt x="9" y="276"/>
                    </a:lnTo>
                    <a:lnTo>
                      <a:pt x="13" y="279"/>
                    </a:lnTo>
                    <a:lnTo>
                      <a:pt x="17" y="279"/>
                    </a:lnTo>
                    <a:lnTo>
                      <a:pt x="20" y="280"/>
                    </a:lnTo>
                    <a:lnTo>
                      <a:pt x="27" y="280"/>
                    </a:lnTo>
                    <a:lnTo>
                      <a:pt x="116" y="270"/>
                    </a:lnTo>
                    <a:lnTo>
                      <a:pt x="121" y="268"/>
                    </a:lnTo>
                    <a:lnTo>
                      <a:pt x="126" y="267"/>
                    </a:lnTo>
                    <a:lnTo>
                      <a:pt x="129" y="265"/>
                    </a:lnTo>
                    <a:lnTo>
                      <a:pt x="133" y="261"/>
                    </a:lnTo>
                    <a:lnTo>
                      <a:pt x="136" y="257"/>
                    </a:lnTo>
                    <a:lnTo>
                      <a:pt x="138" y="252"/>
                    </a:lnTo>
                    <a:lnTo>
                      <a:pt x="139" y="248"/>
                    </a:lnTo>
                    <a:lnTo>
                      <a:pt x="141" y="243"/>
                    </a:lnTo>
                    <a:lnTo>
                      <a:pt x="141" y="243"/>
                    </a:lnTo>
                    <a:lnTo>
                      <a:pt x="141" y="35"/>
                    </a:lnTo>
                    <a:lnTo>
                      <a:pt x="139" y="31"/>
                    </a:lnTo>
                    <a:lnTo>
                      <a:pt x="138" y="26"/>
                    </a:lnTo>
                    <a:lnTo>
                      <a:pt x="136" y="21"/>
                    </a:lnTo>
                    <a:lnTo>
                      <a:pt x="133" y="17"/>
                    </a:lnTo>
                    <a:lnTo>
                      <a:pt x="128" y="15"/>
                    </a:lnTo>
                    <a:lnTo>
                      <a:pt x="124" y="11"/>
                    </a:lnTo>
                    <a:lnTo>
                      <a:pt x="119" y="10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1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5" name=""/>
              <p:cNvSpPr/>
              <p:nvPr/>
            </p:nvSpPr>
            <p:spPr>
              <a:xfrm>
                <a:off x="2845440" y="4600080"/>
                <a:ext cx="1829520" cy="481680"/>
              </a:xfrm>
              <a:custGeom>
                <a:avLst/>
                <a:gdLst/>
                <a:ahLst/>
                <a:rect l="l" t="t" r="r" b="b"/>
                <a:pathLst>
                  <a:path w="2690" h="869">
                    <a:moveTo>
                      <a:pt x="1379" y="632"/>
                    </a:moveTo>
                    <a:lnTo>
                      <a:pt x="0" y="632"/>
                    </a:lnTo>
                    <a:lnTo>
                      <a:pt x="0" y="812"/>
                    </a:lnTo>
                    <a:lnTo>
                      <a:pt x="1379" y="812"/>
                    </a:lnTo>
                    <a:lnTo>
                      <a:pt x="1379" y="632"/>
                    </a:lnTo>
                    <a:close/>
                    <a:moveTo>
                      <a:pt x="1379" y="325"/>
                    </a:moveTo>
                    <a:lnTo>
                      <a:pt x="0" y="325"/>
                    </a:lnTo>
                    <a:lnTo>
                      <a:pt x="0" y="507"/>
                    </a:lnTo>
                    <a:lnTo>
                      <a:pt x="1379" y="507"/>
                    </a:lnTo>
                    <a:lnTo>
                      <a:pt x="1379" y="325"/>
                    </a:lnTo>
                    <a:close/>
                    <a:moveTo>
                      <a:pt x="1379" y="19"/>
                    </a:moveTo>
                    <a:lnTo>
                      <a:pt x="0" y="19"/>
                    </a:lnTo>
                    <a:lnTo>
                      <a:pt x="0" y="201"/>
                    </a:lnTo>
                    <a:lnTo>
                      <a:pt x="1379" y="201"/>
                    </a:lnTo>
                    <a:lnTo>
                      <a:pt x="1379" y="19"/>
                    </a:lnTo>
                    <a:close/>
                    <a:moveTo>
                      <a:pt x="1695" y="0"/>
                    </a:moveTo>
                    <a:lnTo>
                      <a:pt x="1695" y="869"/>
                    </a:lnTo>
                    <a:lnTo>
                      <a:pt x="1868" y="869"/>
                    </a:lnTo>
                    <a:lnTo>
                      <a:pt x="1868" y="0"/>
                    </a:lnTo>
                    <a:lnTo>
                      <a:pt x="1695" y="0"/>
                    </a:lnTo>
                    <a:close/>
                    <a:moveTo>
                      <a:pt x="2517" y="0"/>
                    </a:moveTo>
                    <a:lnTo>
                      <a:pt x="2517" y="869"/>
                    </a:lnTo>
                    <a:lnTo>
                      <a:pt x="2690" y="869"/>
                    </a:lnTo>
                    <a:lnTo>
                      <a:pt x="2690" y="0"/>
                    </a:lnTo>
                    <a:lnTo>
                      <a:pt x="2517" y="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6" name=""/>
              <p:cNvSpPr/>
              <p:nvPr/>
            </p:nvSpPr>
            <p:spPr>
              <a:xfrm>
                <a:off x="2845440" y="495000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7" name=""/>
              <p:cNvSpPr/>
              <p:nvPr/>
            </p:nvSpPr>
            <p:spPr>
              <a:xfrm>
                <a:off x="2845440" y="477972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8" name=""/>
              <p:cNvSpPr/>
              <p:nvPr/>
            </p:nvSpPr>
            <p:spPr>
              <a:xfrm>
                <a:off x="2845440" y="460944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9" name=""/>
              <p:cNvSpPr/>
              <p:nvPr/>
            </p:nvSpPr>
            <p:spPr>
              <a:xfrm>
                <a:off x="3998520" y="4600080"/>
                <a:ext cx="118080" cy="481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0" name=""/>
              <p:cNvSpPr/>
              <p:nvPr/>
            </p:nvSpPr>
            <p:spPr>
              <a:xfrm>
                <a:off x="4557960" y="4600080"/>
                <a:ext cx="117000" cy="481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1" name=""/>
              <p:cNvSpPr/>
              <p:nvPr/>
            </p:nvSpPr>
            <p:spPr>
              <a:xfrm>
                <a:off x="2886120" y="4624200"/>
                <a:ext cx="1750320" cy="432360"/>
              </a:xfrm>
              <a:custGeom>
                <a:avLst/>
                <a:gdLst/>
                <a:ahLst/>
                <a:rect l="l" t="t" r="r" b="b"/>
                <a:pathLst>
                  <a:path w="2573" h="779">
                    <a:moveTo>
                      <a:pt x="1139" y="36"/>
                    </a:moveTo>
                    <a:lnTo>
                      <a:pt x="123" y="36"/>
                    </a:lnTo>
                    <a:lnTo>
                      <a:pt x="110" y="36"/>
                    </a:lnTo>
                    <a:lnTo>
                      <a:pt x="98" y="36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6" y="39"/>
                    </a:lnTo>
                    <a:lnTo>
                      <a:pt x="27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6" y="88"/>
                    </a:lnTo>
                    <a:lnTo>
                      <a:pt x="10" y="89"/>
                    </a:lnTo>
                    <a:lnTo>
                      <a:pt x="15" y="90"/>
                    </a:lnTo>
                    <a:lnTo>
                      <a:pt x="21" y="90"/>
                    </a:lnTo>
                    <a:lnTo>
                      <a:pt x="27" y="92"/>
                    </a:lnTo>
                    <a:lnTo>
                      <a:pt x="36" y="92"/>
                    </a:lnTo>
                    <a:lnTo>
                      <a:pt x="45" y="93"/>
                    </a:lnTo>
                    <a:lnTo>
                      <a:pt x="54" y="93"/>
                    </a:lnTo>
                    <a:lnTo>
                      <a:pt x="64" y="94"/>
                    </a:lnTo>
                    <a:lnTo>
                      <a:pt x="75" y="94"/>
                    </a:lnTo>
                    <a:lnTo>
                      <a:pt x="86" y="94"/>
                    </a:lnTo>
                    <a:lnTo>
                      <a:pt x="98" y="94"/>
                    </a:lnTo>
                    <a:lnTo>
                      <a:pt x="110" y="94"/>
                    </a:lnTo>
                    <a:lnTo>
                      <a:pt x="123" y="96"/>
                    </a:lnTo>
                    <a:lnTo>
                      <a:pt x="123" y="96"/>
                    </a:lnTo>
                    <a:lnTo>
                      <a:pt x="1139" y="96"/>
                    </a:lnTo>
                    <a:lnTo>
                      <a:pt x="1151" y="94"/>
                    </a:lnTo>
                    <a:lnTo>
                      <a:pt x="1164" y="94"/>
                    </a:lnTo>
                    <a:lnTo>
                      <a:pt x="1175" y="94"/>
                    </a:lnTo>
                    <a:lnTo>
                      <a:pt x="1186" y="94"/>
                    </a:lnTo>
                    <a:lnTo>
                      <a:pt x="1198" y="94"/>
                    </a:lnTo>
                    <a:lnTo>
                      <a:pt x="1208" y="93"/>
                    </a:lnTo>
                    <a:lnTo>
                      <a:pt x="1216" y="93"/>
                    </a:lnTo>
                    <a:lnTo>
                      <a:pt x="1225" y="92"/>
                    </a:lnTo>
                    <a:lnTo>
                      <a:pt x="1233" y="92"/>
                    </a:lnTo>
                    <a:lnTo>
                      <a:pt x="1240" y="90"/>
                    </a:lnTo>
                    <a:lnTo>
                      <a:pt x="1246" y="90"/>
                    </a:lnTo>
                    <a:lnTo>
                      <a:pt x="1251" y="89"/>
                    </a:lnTo>
                    <a:lnTo>
                      <a:pt x="1255" y="88"/>
                    </a:lnTo>
                    <a:lnTo>
                      <a:pt x="1259" y="88"/>
                    </a:lnTo>
                    <a:lnTo>
                      <a:pt x="1260" y="87"/>
                    </a:lnTo>
                    <a:lnTo>
                      <a:pt x="1260" y="87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45"/>
                    </a:lnTo>
                    <a:lnTo>
                      <a:pt x="1260" y="44"/>
                    </a:lnTo>
                    <a:lnTo>
                      <a:pt x="1260" y="44"/>
                    </a:lnTo>
                    <a:lnTo>
                      <a:pt x="1259" y="43"/>
                    </a:lnTo>
                    <a:lnTo>
                      <a:pt x="1255" y="43"/>
                    </a:lnTo>
                    <a:lnTo>
                      <a:pt x="1251" y="41"/>
                    </a:lnTo>
                    <a:lnTo>
                      <a:pt x="1246" y="41"/>
                    </a:lnTo>
                    <a:lnTo>
                      <a:pt x="1240" y="40"/>
                    </a:lnTo>
                    <a:lnTo>
                      <a:pt x="1233" y="39"/>
                    </a:lnTo>
                    <a:lnTo>
                      <a:pt x="1225" y="39"/>
                    </a:lnTo>
                    <a:lnTo>
                      <a:pt x="1216" y="37"/>
                    </a:lnTo>
                    <a:lnTo>
                      <a:pt x="1208" y="37"/>
                    </a:lnTo>
                    <a:lnTo>
                      <a:pt x="1198" y="37"/>
                    </a:lnTo>
                    <a:lnTo>
                      <a:pt x="1186" y="36"/>
                    </a:lnTo>
                    <a:lnTo>
                      <a:pt x="1175" y="36"/>
                    </a:lnTo>
                    <a:lnTo>
                      <a:pt x="1164" y="36"/>
                    </a:lnTo>
                    <a:lnTo>
                      <a:pt x="1151" y="36"/>
                    </a:lnTo>
                    <a:lnTo>
                      <a:pt x="1139" y="36"/>
                    </a:lnTo>
                    <a:lnTo>
                      <a:pt x="1139" y="36"/>
                    </a:lnTo>
                    <a:close/>
                    <a:moveTo>
                      <a:pt x="1139" y="340"/>
                    </a:moveTo>
                    <a:lnTo>
                      <a:pt x="123" y="340"/>
                    </a:lnTo>
                    <a:lnTo>
                      <a:pt x="110" y="340"/>
                    </a:lnTo>
                    <a:lnTo>
                      <a:pt x="98" y="342"/>
                    </a:lnTo>
                    <a:lnTo>
                      <a:pt x="86" y="342"/>
                    </a:lnTo>
                    <a:lnTo>
                      <a:pt x="75" y="342"/>
                    </a:lnTo>
                    <a:lnTo>
                      <a:pt x="64" y="342"/>
                    </a:lnTo>
                    <a:lnTo>
                      <a:pt x="54" y="343"/>
                    </a:lnTo>
                    <a:lnTo>
                      <a:pt x="45" y="343"/>
                    </a:lnTo>
                    <a:lnTo>
                      <a:pt x="36" y="344"/>
                    </a:lnTo>
                    <a:lnTo>
                      <a:pt x="27" y="344"/>
                    </a:lnTo>
                    <a:lnTo>
                      <a:pt x="21" y="346"/>
                    </a:lnTo>
                    <a:lnTo>
                      <a:pt x="15" y="346"/>
                    </a:lnTo>
                    <a:lnTo>
                      <a:pt x="10" y="347"/>
                    </a:lnTo>
                    <a:lnTo>
                      <a:pt x="6" y="348"/>
                    </a:lnTo>
                    <a:lnTo>
                      <a:pt x="2" y="348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1" y="392"/>
                    </a:lnTo>
                    <a:lnTo>
                      <a:pt x="2" y="392"/>
                    </a:lnTo>
                    <a:lnTo>
                      <a:pt x="6" y="393"/>
                    </a:lnTo>
                    <a:lnTo>
                      <a:pt x="10" y="395"/>
                    </a:lnTo>
                    <a:lnTo>
                      <a:pt x="15" y="395"/>
                    </a:lnTo>
                    <a:lnTo>
                      <a:pt x="21" y="396"/>
                    </a:lnTo>
                    <a:lnTo>
                      <a:pt x="27" y="397"/>
                    </a:lnTo>
                    <a:lnTo>
                      <a:pt x="36" y="397"/>
                    </a:lnTo>
                    <a:lnTo>
                      <a:pt x="45" y="399"/>
                    </a:lnTo>
                    <a:lnTo>
                      <a:pt x="54" y="399"/>
                    </a:lnTo>
                    <a:lnTo>
                      <a:pt x="64" y="399"/>
                    </a:lnTo>
                    <a:lnTo>
                      <a:pt x="75" y="400"/>
                    </a:lnTo>
                    <a:lnTo>
                      <a:pt x="86" y="400"/>
                    </a:lnTo>
                    <a:lnTo>
                      <a:pt x="98" y="400"/>
                    </a:lnTo>
                    <a:lnTo>
                      <a:pt x="110" y="400"/>
                    </a:lnTo>
                    <a:lnTo>
                      <a:pt x="123" y="400"/>
                    </a:lnTo>
                    <a:lnTo>
                      <a:pt x="123" y="400"/>
                    </a:lnTo>
                    <a:lnTo>
                      <a:pt x="1139" y="400"/>
                    </a:lnTo>
                    <a:lnTo>
                      <a:pt x="1151" y="400"/>
                    </a:lnTo>
                    <a:lnTo>
                      <a:pt x="1164" y="400"/>
                    </a:lnTo>
                    <a:lnTo>
                      <a:pt x="1175" y="400"/>
                    </a:lnTo>
                    <a:lnTo>
                      <a:pt x="1186" y="400"/>
                    </a:lnTo>
                    <a:lnTo>
                      <a:pt x="1198" y="399"/>
                    </a:lnTo>
                    <a:lnTo>
                      <a:pt x="1208" y="399"/>
                    </a:lnTo>
                    <a:lnTo>
                      <a:pt x="1216" y="399"/>
                    </a:lnTo>
                    <a:lnTo>
                      <a:pt x="1225" y="397"/>
                    </a:lnTo>
                    <a:lnTo>
                      <a:pt x="1233" y="397"/>
                    </a:lnTo>
                    <a:lnTo>
                      <a:pt x="1240" y="396"/>
                    </a:lnTo>
                    <a:lnTo>
                      <a:pt x="1246" y="395"/>
                    </a:lnTo>
                    <a:lnTo>
                      <a:pt x="1251" y="395"/>
                    </a:lnTo>
                    <a:lnTo>
                      <a:pt x="1255" y="393"/>
                    </a:lnTo>
                    <a:lnTo>
                      <a:pt x="1259" y="392"/>
                    </a:lnTo>
                    <a:lnTo>
                      <a:pt x="1260" y="392"/>
                    </a:lnTo>
                    <a:lnTo>
                      <a:pt x="1260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51"/>
                    </a:lnTo>
                    <a:lnTo>
                      <a:pt x="1260" y="349"/>
                    </a:lnTo>
                    <a:lnTo>
                      <a:pt x="1260" y="349"/>
                    </a:lnTo>
                    <a:lnTo>
                      <a:pt x="1259" y="348"/>
                    </a:lnTo>
                    <a:lnTo>
                      <a:pt x="1255" y="348"/>
                    </a:lnTo>
                    <a:lnTo>
                      <a:pt x="1251" y="347"/>
                    </a:lnTo>
                    <a:lnTo>
                      <a:pt x="1246" y="346"/>
                    </a:lnTo>
                    <a:lnTo>
                      <a:pt x="1240" y="346"/>
                    </a:lnTo>
                    <a:lnTo>
                      <a:pt x="1233" y="344"/>
                    </a:lnTo>
                    <a:lnTo>
                      <a:pt x="1225" y="344"/>
                    </a:lnTo>
                    <a:lnTo>
                      <a:pt x="1216" y="343"/>
                    </a:lnTo>
                    <a:lnTo>
                      <a:pt x="1208" y="343"/>
                    </a:lnTo>
                    <a:lnTo>
                      <a:pt x="1198" y="342"/>
                    </a:lnTo>
                    <a:lnTo>
                      <a:pt x="1186" y="342"/>
                    </a:lnTo>
                    <a:lnTo>
                      <a:pt x="1175" y="342"/>
                    </a:lnTo>
                    <a:lnTo>
                      <a:pt x="1164" y="342"/>
                    </a:lnTo>
                    <a:lnTo>
                      <a:pt x="1151" y="340"/>
                    </a:lnTo>
                    <a:lnTo>
                      <a:pt x="1139" y="340"/>
                    </a:lnTo>
                    <a:lnTo>
                      <a:pt x="1139" y="340"/>
                    </a:lnTo>
                    <a:close/>
                    <a:moveTo>
                      <a:pt x="1139" y="646"/>
                    </a:moveTo>
                    <a:lnTo>
                      <a:pt x="123" y="646"/>
                    </a:lnTo>
                    <a:lnTo>
                      <a:pt x="110" y="646"/>
                    </a:lnTo>
                    <a:lnTo>
                      <a:pt x="98" y="646"/>
                    </a:lnTo>
                    <a:lnTo>
                      <a:pt x="86" y="647"/>
                    </a:lnTo>
                    <a:lnTo>
                      <a:pt x="75" y="647"/>
                    </a:lnTo>
                    <a:lnTo>
                      <a:pt x="64" y="647"/>
                    </a:lnTo>
                    <a:lnTo>
                      <a:pt x="54" y="649"/>
                    </a:lnTo>
                    <a:lnTo>
                      <a:pt x="45" y="649"/>
                    </a:lnTo>
                    <a:lnTo>
                      <a:pt x="36" y="650"/>
                    </a:lnTo>
                    <a:lnTo>
                      <a:pt x="27" y="650"/>
                    </a:lnTo>
                    <a:lnTo>
                      <a:pt x="21" y="651"/>
                    </a:lnTo>
                    <a:lnTo>
                      <a:pt x="15" y="651"/>
                    </a:lnTo>
                    <a:lnTo>
                      <a:pt x="10" y="652"/>
                    </a:lnTo>
                    <a:lnTo>
                      <a:pt x="6" y="654"/>
                    </a:lnTo>
                    <a:lnTo>
                      <a:pt x="2" y="654"/>
                    </a:lnTo>
                    <a:lnTo>
                      <a:pt x="1" y="655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6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1" y="698"/>
                    </a:lnTo>
                    <a:lnTo>
                      <a:pt x="2" y="698"/>
                    </a:lnTo>
                    <a:lnTo>
                      <a:pt x="6" y="699"/>
                    </a:lnTo>
                    <a:lnTo>
                      <a:pt x="10" y="700"/>
                    </a:lnTo>
                    <a:lnTo>
                      <a:pt x="15" y="700"/>
                    </a:lnTo>
                    <a:lnTo>
                      <a:pt x="21" y="702"/>
                    </a:lnTo>
                    <a:lnTo>
                      <a:pt x="27" y="702"/>
                    </a:lnTo>
                    <a:lnTo>
                      <a:pt x="36" y="703"/>
                    </a:lnTo>
                    <a:lnTo>
                      <a:pt x="45" y="703"/>
                    </a:lnTo>
                    <a:lnTo>
                      <a:pt x="54" y="704"/>
                    </a:lnTo>
                    <a:lnTo>
                      <a:pt x="64" y="704"/>
                    </a:lnTo>
                    <a:lnTo>
                      <a:pt x="75" y="705"/>
                    </a:lnTo>
                    <a:lnTo>
                      <a:pt x="86" y="705"/>
                    </a:lnTo>
                    <a:lnTo>
                      <a:pt x="98" y="705"/>
                    </a:lnTo>
                    <a:lnTo>
                      <a:pt x="110" y="705"/>
                    </a:lnTo>
                    <a:lnTo>
                      <a:pt x="123" y="705"/>
                    </a:lnTo>
                    <a:lnTo>
                      <a:pt x="123" y="705"/>
                    </a:lnTo>
                    <a:lnTo>
                      <a:pt x="1139" y="705"/>
                    </a:lnTo>
                    <a:lnTo>
                      <a:pt x="1151" y="705"/>
                    </a:lnTo>
                    <a:lnTo>
                      <a:pt x="1164" y="705"/>
                    </a:lnTo>
                    <a:lnTo>
                      <a:pt x="1175" y="705"/>
                    </a:lnTo>
                    <a:lnTo>
                      <a:pt x="1186" y="705"/>
                    </a:lnTo>
                    <a:lnTo>
                      <a:pt x="1198" y="704"/>
                    </a:lnTo>
                    <a:lnTo>
                      <a:pt x="1208" y="704"/>
                    </a:lnTo>
                    <a:lnTo>
                      <a:pt x="1216" y="703"/>
                    </a:lnTo>
                    <a:lnTo>
                      <a:pt x="1225" y="703"/>
                    </a:lnTo>
                    <a:lnTo>
                      <a:pt x="1233" y="702"/>
                    </a:lnTo>
                    <a:lnTo>
                      <a:pt x="1240" y="702"/>
                    </a:lnTo>
                    <a:lnTo>
                      <a:pt x="1246" y="700"/>
                    </a:lnTo>
                    <a:lnTo>
                      <a:pt x="1251" y="700"/>
                    </a:lnTo>
                    <a:lnTo>
                      <a:pt x="1255" y="699"/>
                    </a:lnTo>
                    <a:lnTo>
                      <a:pt x="1259" y="698"/>
                    </a:lnTo>
                    <a:lnTo>
                      <a:pt x="1260" y="698"/>
                    </a:lnTo>
                    <a:lnTo>
                      <a:pt x="1260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56"/>
                    </a:lnTo>
                    <a:lnTo>
                      <a:pt x="1260" y="655"/>
                    </a:lnTo>
                    <a:lnTo>
                      <a:pt x="1260" y="655"/>
                    </a:lnTo>
                    <a:lnTo>
                      <a:pt x="1259" y="654"/>
                    </a:lnTo>
                    <a:lnTo>
                      <a:pt x="1255" y="654"/>
                    </a:lnTo>
                    <a:lnTo>
                      <a:pt x="1251" y="652"/>
                    </a:lnTo>
                    <a:lnTo>
                      <a:pt x="1246" y="651"/>
                    </a:lnTo>
                    <a:lnTo>
                      <a:pt x="1240" y="651"/>
                    </a:lnTo>
                    <a:lnTo>
                      <a:pt x="1233" y="650"/>
                    </a:lnTo>
                    <a:lnTo>
                      <a:pt x="1225" y="650"/>
                    </a:lnTo>
                    <a:lnTo>
                      <a:pt x="1216" y="649"/>
                    </a:lnTo>
                    <a:lnTo>
                      <a:pt x="1208" y="649"/>
                    </a:lnTo>
                    <a:lnTo>
                      <a:pt x="1198" y="647"/>
                    </a:lnTo>
                    <a:lnTo>
                      <a:pt x="1186" y="647"/>
                    </a:lnTo>
                    <a:lnTo>
                      <a:pt x="1175" y="647"/>
                    </a:lnTo>
                    <a:lnTo>
                      <a:pt x="1164" y="646"/>
                    </a:lnTo>
                    <a:lnTo>
                      <a:pt x="1151" y="646"/>
                    </a:lnTo>
                    <a:lnTo>
                      <a:pt x="1139" y="646"/>
                    </a:lnTo>
                    <a:lnTo>
                      <a:pt x="1139" y="646"/>
                    </a:lnTo>
                    <a:close/>
                    <a:moveTo>
                      <a:pt x="1753" y="703"/>
                    </a:moveTo>
                    <a:lnTo>
                      <a:pt x="1753" y="74"/>
                    </a:lnTo>
                    <a:lnTo>
                      <a:pt x="1751" y="59"/>
                    </a:lnTo>
                    <a:lnTo>
                      <a:pt x="1751" y="53"/>
                    </a:lnTo>
                    <a:lnTo>
                      <a:pt x="1751" y="45"/>
                    </a:lnTo>
                    <a:lnTo>
                      <a:pt x="1751" y="39"/>
                    </a:lnTo>
                    <a:lnTo>
                      <a:pt x="1750" y="32"/>
                    </a:lnTo>
                    <a:lnTo>
                      <a:pt x="1750" y="27"/>
                    </a:lnTo>
                    <a:lnTo>
                      <a:pt x="1749" y="21"/>
                    </a:lnTo>
                    <a:lnTo>
                      <a:pt x="1749" y="16"/>
                    </a:lnTo>
                    <a:lnTo>
                      <a:pt x="1748" y="12"/>
                    </a:lnTo>
                    <a:lnTo>
                      <a:pt x="1748" y="8"/>
                    </a:lnTo>
                    <a:lnTo>
                      <a:pt x="1746" y="5"/>
                    </a:lnTo>
                    <a:lnTo>
                      <a:pt x="1745" y="2"/>
                    </a:lnTo>
                    <a:lnTo>
                      <a:pt x="1745" y="1"/>
                    </a:lnTo>
                    <a:lnTo>
                      <a:pt x="1744" y="0"/>
                    </a:lnTo>
                    <a:lnTo>
                      <a:pt x="1743" y="0"/>
                    </a:lnTo>
                    <a:lnTo>
                      <a:pt x="1705" y="0"/>
                    </a:lnTo>
                    <a:lnTo>
                      <a:pt x="1704" y="0"/>
                    </a:lnTo>
                    <a:lnTo>
                      <a:pt x="1703" y="1"/>
                    </a:lnTo>
                    <a:lnTo>
                      <a:pt x="1703" y="2"/>
                    </a:lnTo>
                    <a:lnTo>
                      <a:pt x="1701" y="5"/>
                    </a:lnTo>
                    <a:lnTo>
                      <a:pt x="1700" y="8"/>
                    </a:lnTo>
                    <a:lnTo>
                      <a:pt x="1700" y="12"/>
                    </a:lnTo>
                    <a:lnTo>
                      <a:pt x="1699" y="16"/>
                    </a:lnTo>
                    <a:lnTo>
                      <a:pt x="1699" y="21"/>
                    </a:lnTo>
                    <a:lnTo>
                      <a:pt x="1698" y="27"/>
                    </a:lnTo>
                    <a:lnTo>
                      <a:pt x="1698" y="32"/>
                    </a:lnTo>
                    <a:lnTo>
                      <a:pt x="1696" y="39"/>
                    </a:lnTo>
                    <a:lnTo>
                      <a:pt x="1696" y="45"/>
                    </a:lnTo>
                    <a:lnTo>
                      <a:pt x="1696" y="53"/>
                    </a:lnTo>
                    <a:lnTo>
                      <a:pt x="1696" y="59"/>
                    </a:lnTo>
                    <a:lnTo>
                      <a:pt x="1695" y="74"/>
                    </a:lnTo>
                    <a:lnTo>
                      <a:pt x="1695" y="74"/>
                    </a:lnTo>
                    <a:lnTo>
                      <a:pt x="1695" y="703"/>
                    </a:lnTo>
                    <a:lnTo>
                      <a:pt x="1696" y="712"/>
                    </a:lnTo>
                    <a:lnTo>
                      <a:pt x="1696" y="719"/>
                    </a:lnTo>
                    <a:lnTo>
                      <a:pt x="1696" y="727"/>
                    </a:lnTo>
                    <a:lnTo>
                      <a:pt x="1696" y="733"/>
                    </a:lnTo>
                    <a:lnTo>
                      <a:pt x="1696" y="739"/>
                    </a:lnTo>
                    <a:lnTo>
                      <a:pt x="1698" y="746"/>
                    </a:lnTo>
                    <a:lnTo>
                      <a:pt x="1698" y="752"/>
                    </a:lnTo>
                    <a:lnTo>
                      <a:pt x="1699" y="757"/>
                    </a:lnTo>
                    <a:lnTo>
                      <a:pt x="1699" y="762"/>
                    </a:lnTo>
                    <a:lnTo>
                      <a:pt x="1700" y="766"/>
                    </a:lnTo>
                    <a:lnTo>
                      <a:pt x="1700" y="770"/>
                    </a:lnTo>
                    <a:lnTo>
                      <a:pt x="1701" y="774"/>
                    </a:lnTo>
                    <a:lnTo>
                      <a:pt x="1703" y="775"/>
                    </a:lnTo>
                    <a:lnTo>
                      <a:pt x="1703" y="777"/>
                    </a:lnTo>
                    <a:lnTo>
                      <a:pt x="1704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43" y="779"/>
                    </a:lnTo>
                    <a:lnTo>
                      <a:pt x="1744" y="779"/>
                    </a:lnTo>
                    <a:lnTo>
                      <a:pt x="1745" y="777"/>
                    </a:lnTo>
                    <a:lnTo>
                      <a:pt x="1745" y="775"/>
                    </a:lnTo>
                    <a:lnTo>
                      <a:pt x="1746" y="774"/>
                    </a:lnTo>
                    <a:lnTo>
                      <a:pt x="1748" y="770"/>
                    </a:lnTo>
                    <a:lnTo>
                      <a:pt x="1748" y="766"/>
                    </a:lnTo>
                    <a:lnTo>
                      <a:pt x="1749" y="762"/>
                    </a:lnTo>
                    <a:lnTo>
                      <a:pt x="1749" y="757"/>
                    </a:lnTo>
                    <a:lnTo>
                      <a:pt x="1750" y="752"/>
                    </a:lnTo>
                    <a:lnTo>
                      <a:pt x="1750" y="746"/>
                    </a:lnTo>
                    <a:lnTo>
                      <a:pt x="1751" y="739"/>
                    </a:lnTo>
                    <a:lnTo>
                      <a:pt x="1751" y="733"/>
                    </a:lnTo>
                    <a:lnTo>
                      <a:pt x="1751" y="727"/>
                    </a:lnTo>
                    <a:lnTo>
                      <a:pt x="1751" y="719"/>
                    </a:lnTo>
                    <a:lnTo>
                      <a:pt x="1753" y="712"/>
                    </a:lnTo>
                    <a:lnTo>
                      <a:pt x="1753" y="703"/>
                    </a:lnTo>
                    <a:lnTo>
                      <a:pt x="1753" y="703"/>
                    </a:lnTo>
                    <a:close/>
                    <a:moveTo>
                      <a:pt x="2573" y="703"/>
                    </a:moveTo>
                    <a:lnTo>
                      <a:pt x="2573" y="74"/>
                    </a:lnTo>
                    <a:lnTo>
                      <a:pt x="2573" y="59"/>
                    </a:lnTo>
                    <a:lnTo>
                      <a:pt x="2573" y="53"/>
                    </a:lnTo>
                    <a:lnTo>
                      <a:pt x="2573" y="45"/>
                    </a:lnTo>
                    <a:lnTo>
                      <a:pt x="2572" y="39"/>
                    </a:lnTo>
                    <a:lnTo>
                      <a:pt x="2572" y="32"/>
                    </a:lnTo>
                    <a:lnTo>
                      <a:pt x="2572" y="27"/>
                    </a:lnTo>
                    <a:lnTo>
                      <a:pt x="2571" y="21"/>
                    </a:lnTo>
                    <a:lnTo>
                      <a:pt x="2571" y="16"/>
                    </a:lnTo>
                    <a:lnTo>
                      <a:pt x="2570" y="12"/>
                    </a:lnTo>
                    <a:lnTo>
                      <a:pt x="2568" y="8"/>
                    </a:lnTo>
                    <a:lnTo>
                      <a:pt x="2568" y="5"/>
                    </a:lnTo>
                    <a:lnTo>
                      <a:pt x="2567" y="2"/>
                    </a:lnTo>
                    <a:lnTo>
                      <a:pt x="2567" y="1"/>
                    </a:lnTo>
                    <a:lnTo>
                      <a:pt x="2566" y="0"/>
                    </a:lnTo>
                    <a:lnTo>
                      <a:pt x="2565" y="0"/>
                    </a:lnTo>
                    <a:lnTo>
                      <a:pt x="2524" y="0"/>
                    </a:lnTo>
                    <a:lnTo>
                      <a:pt x="2523" y="0"/>
                    </a:lnTo>
                    <a:lnTo>
                      <a:pt x="2522" y="1"/>
                    </a:lnTo>
                    <a:lnTo>
                      <a:pt x="2522" y="2"/>
                    </a:lnTo>
                    <a:lnTo>
                      <a:pt x="2521" y="5"/>
                    </a:lnTo>
                    <a:lnTo>
                      <a:pt x="2521" y="8"/>
                    </a:lnTo>
                    <a:lnTo>
                      <a:pt x="2519" y="12"/>
                    </a:lnTo>
                    <a:lnTo>
                      <a:pt x="2519" y="16"/>
                    </a:lnTo>
                    <a:lnTo>
                      <a:pt x="2519" y="21"/>
                    </a:lnTo>
                    <a:lnTo>
                      <a:pt x="2518" y="27"/>
                    </a:lnTo>
                    <a:lnTo>
                      <a:pt x="2518" y="32"/>
                    </a:lnTo>
                    <a:lnTo>
                      <a:pt x="2518" y="39"/>
                    </a:lnTo>
                    <a:lnTo>
                      <a:pt x="2518" y="45"/>
                    </a:lnTo>
                    <a:lnTo>
                      <a:pt x="2517" y="53"/>
                    </a:lnTo>
                    <a:lnTo>
                      <a:pt x="2517" y="59"/>
                    </a:lnTo>
                    <a:lnTo>
                      <a:pt x="2517" y="74"/>
                    </a:lnTo>
                    <a:lnTo>
                      <a:pt x="2517" y="74"/>
                    </a:lnTo>
                    <a:lnTo>
                      <a:pt x="2517" y="703"/>
                    </a:lnTo>
                    <a:lnTo>
                      <a:pt x="2517" y="712"/>
                    </a:lnTo>
                    <a:lnTo>
                      <a:pt x="2517" y="719"/>
                    </a:lnTo>
                    <a:lnTo>
                      <a:pt x="2517" y="727"/>
                    </a:lnTo>
                    <a:lnTo>
                      <a:pt x="2518" y="733"/>
                    </a:lnTo>
                    <a:lnTo>
                      <a:pt x="2518" y="739"/>
                    </a:lnTo>
                    <a:lnTo>
                      <a:pt x="2518" y="746"/>
                    </a:lnTo>
                    <a:lnTo>
                      <a:pt x="2518" y="752"/>
                    </a:lnTo>
                    <a:lnTo>
                      <a:pt x="2519" y="757"/>
                    </a:lnTo>
                    <a:lnTo>
                      <a:pt x="2519" y="762"/>
                    </a:lnTo>
                    <a:lnTo>
                      <a:pt x="2519" y="766"/>
                    </a:lnTo>
                    <a:lnTo>
                      <a:pt x="2521" y="770"/>
                    </a:lnTo>
                    <a:lnTo>
                      <a:pt x="2521" y="774"/>
                    </a:lnTo>
                    <a:lnTo>
                      <a:pt x="2522" y="775"/>
                    </a:lnTo>
                    <a:lnTo>
                      <a:pt x="2522" y="777"/>
                    </a:lnTo>
                    <a:lnTo>
                      <a:pt x="2523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65" y="779"/>
                    </a:lnTo>
                    <a:lnTo>
                      <a:pt x="2566" y="779"/>
                    </a:lnTo>
                    <a:lnTo>
                      <a:pt x="2567" y="777"/>
                    </a:lnTo>
                    <a:lnTo>
                      <a:pt x="2567" y="775"/>
                    </a:lnTo>
                    <a:lnTo>
                      <a:pt x="2568" y="774"/>
                    </a:lnTo>
                    <a:lnTo>
                      <a:pt x="2568" y="770"/>
                    </a:lnTo>
                    <a:lnTo>
                      <a:pt x="2570" y="766"/>
                    </a:lnTo>
                    <a:lnTo>
                      <a:pt x="2571" y="762"/>
                    </a:lnTo>
                    <a:lnTo>
                      <a:pt x="2571" y="757"/>
                    </a:lnTo>
                    <a:lnTo>
                      <a:pt x="2572" y="752"/>
                    </a:lnTo>
                    <a:lnTo>
                      <a:pt x="2572" y="746"/>
                    </a:lnTo>
                    <a:lnTo>
                      <a:pt x="2572" y="739"/>
                    </a:lnTo>
                    <a:lnTo>
                      <a:pt x="2573" y="733"/>
                    </a:lnTo>
                    <a:lnTo>
                      <a:pt x="2573" y="727"/>
                    </a:lnTo>
                    <a:lnTo>
                      <a:pt x="2573" y="719"/>
                    </a:lnTo>
                    <a:lnTo>
                      <a:pt x="2573" y="712"/>
                    </a:lnTo>
                    <a:lnTo>
                      <a:pt x="2573" y="703"/>
                    </a:lnTo>
                    <a:lnTo>
                      <a:pt x="2573" y="703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2" name=""/>
              <p:cNvSpPr/>
              <p:nvPr/>
            </p:nvSpPr>
            <p:spPr>
              <a:xfrm>
                <a:off x="2886120" y="464472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5" y="0"/>
                    </a:lnTo>
                    <a:lnTo>
                      <a:pt x="64" y="1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6" y="3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6" y="52"/>
                    </a:lnTo>
                    <a:lnTo>
                      <a:pt x="10" y="53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7" y="56"/>
                    </a:lnTo>
                    <a:lnTo>
                      <a:pt x="36" y="56"/>
                    </a:lnTo>
                    <a:lnTo>
                      <a:pt x="45" y="57"/>
                    </a:lnTo>
                    <a:lnTo>
                      <a:pt x="54" y="57"/>
                    </a:lnTo>
                    <a:lnTo>
                      <a:pt x="64" y="58"/>
                    </a:lnTo>
                    <a:lnTo>
                      <a:pt x="75" y="58"/>
                    </a:lnTo>
                    <a:lnTo>
                      <a:pt x="86" y="58"/>
                    </a:lnTo>
                    <a:lnTo>
                      <a:pt x="98" y="58"/>
                    </a:lnTo>
                    <a:lnTo>
                      <a:pt x="110" y="58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58"/>
                    </a:lnTo>
                    <a:lnTo>
                      <a:pt x="1164" y="58"/>
                    </a:lnTo>
                    <a:lnTo>
                      <a:pt x="1175" y="58"/>
                    </a:lnTo>
                    <a:lnTo>
                      <a:pt x="1186" y="58"/>
                    </a:lnTo>
                    <a:lnTo>
                      <a:pt x="1198" y="58"/>
                    </a:lnTo>
                    <a:lnTo>
                      <a:pt x="1208" y="57"/>
                    </a:lnTo>
                    <a:lnTo>
                      <a:pt x="1216" y="57"/>
                    </a:lnTo>
                    <a:lnTo>
                      <a:pt x="1225" y="56"/>
                    </a:lnTo>
                    <a:lnTo>
                      <a:pt x="1233" y="56"/>
                    </a:lnTo>
                    <a:lnTo>
                      <a:pt x="1240" y="54"/>
                    </a:lnTo>
                    <a:lnTo>
                      <a:pt x="1246" y="54"/>
                    </a:lnTo>
                    <a:lnTo>
                      <a:pt x="1251" y="53"/>
                    </a:lnTo>
                    <a:lnTo>
                      <a:pt x="1255" y="52"/>
                    </a:lnTo>
                    <a:lnTo>
                      <a:pt x="1259" y="52"/>
                    </a:lnTo>
                    <a:lnTo>
                      <a:pt x="1260" y="51"/>
                    </a:lnTo>
                    <a:lnTo>
                      <a:pt x="1260" y="51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9"/>
                    </a:lnTo>
                    <a:lnTo>
                      <a:pt x="1260" y="8"/>
                    </a:lnTo>
                    <a:lnTo>
                      <a:pt x="1260" y="8"/>
                    </a:lnTo>
                    <a:lnTo>
                      <a:pt x="1259" y="7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6" y="5"/>
                    </a:lnTo>
                    <a:lnTo>
                      <a:pt x="1240" y="4"/>
                    </a:lnTo>
                    <a:lnTo>
                      <a:pt x="1233" y="3"/>
                    </a:lnTo>
                    <a:lnTo>
                      <a:pt x="1225" y="3"/>
                    </a:lnTo>
                    <a:lnTo>
                      <a:pt x="1216" y="1"/>
                    </a:lnTo>
                    <a:lnTo>
                      <a:pt x="1208" y="1"/>
                    </a:lnTo>
                    <a:lnTo>
                      <a:pt x="1198" y="1"/>
                    </a:lnTo>
                    <a:lnTo>
                      <a:pt x="1186" y="0"/>
                    </a:lnTo>
                    <a:lnTo>
                      <a:pt x="1175" y="0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3" name=""/>
              <p:cNvSpPr/>
              <p:nvPr/>
            </p:nvSpPr>
            <p:spPr>
              <a:xfrm>
                <a:off x="2886120" y="481320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2"/>
                    </a:lnTo>
                    <a:lnTo>
                      <a:pt x="86" y="2"/>
                    </a:lnTo>
                    <a:lnTo>
                      <a:pt x="75" y="2"/>
                    </a:lnTo>
                    <a:lnTo>
                      <a:pt x="64" y="2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10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21" y="56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9"/>
                    </a:lnTo>
                    <a:lnTo>
                      <a:pt x="54" y="59"/>
                    </a:lnTo>
                    <a:lnTo>
                      <a:pt x="64" y="59"/>
                    </a:lnTo>
                    <a:lnTo>
                      <a:pt x="75" y="60"/>
                    </a:lnTo>
                    <a:lnTo>
                      <a:pt x="86" y="60"/>
                    </a:lnTo>
                    <a:lnTo>
                      <a:pt x="98" y="60"/>
                    </a:lnTo>
                    <a:lnTo>
                      <a:pt x="110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60"/>
                    </a:lnTo>
                    <a:lnTo>
                      <a:pt x="1164" y="60"/>
                    </a:lnTo>
                    <a:lnTo>
                      <a:pt x="1175" y="60"/>
                    </a:lnTo>
                    <a:lnTo>
                      <a:pt x="1186" y="60"/>
                    </a:lnTo>
                    <a:lnTo>
                      <a:pt x="1198" y="59"/>
                    </a:lnTo>
                    <a:lnTo>
                      <a:pt x="1208" y="59"/>
                    </a:lnTo>
                    <a:lnTo>
                      <a:pt x="1216" y="59"/>
                    </a:lnTo>
                    <a:lnTo>
                      <a:pt x="1225" y="57"/>
                    </a:lnTo>
                    <a:lnTo>
                      <a:pt x="1233" y="57"/>
                    </a:lnTo>
                    <a:lnTo>
                      <a:pt x="1240" y="56"/>
                    </a:lnTo>
                    <a:lnTo>
                      <a:pt x="1246" y="55"/>
                    </a:lnTo>
                    <a:lnTo>
                      <a:pt x="1251" y="55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11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7"/>
                    </a:lnTo>
                    <a:lnTo>
                      <a:pt x="1246" y="6"/>
                    </a:lnTo>
                    <a:lnTo>
                      <a:pt x="1240" y="6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2"/>
                    </a:lnTo>
                    <a:lnTo>
                      <a:pt x="1186" y="2"/>
                    </a:lnTo>
                    <a:lnTo>
                      <a:pt x="1175" y="2"/>
                    </a:lnTo>
                    <a:lnTo>
                      <a:pt x="1164" y="2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4" name=""/>
              <p:cNvSpPr/>
              <p:nvPr/>
            </p:nvSpPr>
            <p:spPr>
              <a:xfrm>
                <a:off x="2886120" y="498348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59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1"/>
                    </a:lnTo>
                    <a:lnTo>
                      <a:pt x="75" y="1"/>
                    </a:lnTo>
                    <a:lnTo>
                      <a:pt x="64" y="1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5"/>
                    </a:lnTo>
                    <a:lnTo>
                      <a:pt x="15" y="5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4"/>
                    </a:lnTo>
                    <a:lnTo>
                      <a:pt x="15" y="54"/>
                    </a:lnTo>
                    <a:lnTo>
                      <a:pt x="21" y="56"/>
                    </a:lnTo>
                    <a:lnTo>
                      <a:pt x="27" y="56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8"/>
                    </a:lnTo>
                    <a:lnTo>
                      <a:pt x="64" y="58"/>
                    </a:lnTo>
                    <a:lnTo>
                      <a:pt x="75" y="59"/>
                    </a:lnTo>
                    <a:lnTo>
                      <a:pt x="86" y="59"/>
                    </a:lnTo>
                    <a:lnTo>
                      <a:pt x="98" y="59"/>
                    </a:lnTo>
                    <a:lnTo>
                      <a:pt x="110" y="59"/>
                    </a:lnTo>
                    <a:lnTo>
                      <a:pt x="123" y="59"/>
                    </a:lnTo>
                    <a:lnTo>
                      <a:pt x="123" y="59"/>
                    </a:lnTo>
                    <a:lnTo>
                      <a:pt x="1139" y="59"/>
                    </a:lnTo>
                    <a:lnTo>
                      <a:pt x="1151" y="59"/>
                    </a:lnTo>
                    <a:lnTo>
                      <a:pt x="1164" y="59"/>
                    </a:lnTo>
                    <a:lnTo>
                      <a:pt x="1175" y="59"/>
                    </a:lnTo>
                    <a:lnTo>
                      <a:pt x="1186" y="59"/>
                    </a:lnTo>
                    <a:lnTo>
                      <a:pt x="1198" y="58"/>
                    </a:lnTo>
                    <a:lnTo>
                      <a:pt x="1208" y="58"/>
                    </a:lnTo>
                    <a:lnTo>
                      <a:pt x="1216" y="57"/>
                    </a:lnTo>
                    <a:lnTo>
                      <a:pt x="1225" y="57"/>
                    </a:lnTo>
                    <a:lnTo>
                      <a:pt x="1233" y="56"/>
                    </a:lnTo>
                    <a:lnTo>
                      <a:pt x="1240" y="56"/>
                    </a:lnTo>
                    <a:lnTo>
                      <a:pt x="1246" y="54"/>
                    </a:lnTo>
                    <a:lnTo>
                      <a:pt x="1251" y="54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10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6"/>
                    </a:lnTo>
                    <a:lnTo>
                      <a:pt x="1246" y="5"/>
                    </a:lnTo>
                    <a:lnTo>
                      <a:pt x="1240" y="5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1"/>
                    </a:lnTo>
                    <a:lnTo>
                      <a:pt x="1186" y="1"/>
                    </a:lnTo>
                    <a:lnTo>
                      <a:pt x="1175" y="1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5" name=""/>
              <p:cNvSpPr/>
              <p:nvPr/>
            </p:nvSpPr>
            <p:spPr>
              <a:xfrm>
                <a:off x="4039200" y="4624200"/>
                <a:ext cx="38160" cy="432360"/>
              </a:xfrm>
              <a:custGeom>
                <a:avLst/>
                <a:gdLst/>
                <a:ahLst/>
                <a:rect l="l" t="t" r="r" b="b"/>
                <a:pathLst>
                  <a:path w="58" h="779">
                    <a:moveTo>
                      <a:pt x="58" y="703"/>
                    </a:moveTo>
                    <a:lnTo>
                      <a:pt x="58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6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4" y="21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1" y="712"/>
                    </a:lnTo>
                    <a:lnTo>
                      <a:pt x="1" y="719"/>
                    </a:lnTo>
                    <a:lnTo>
                      <a:pt x="1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3" y="746"/>
                    </a:lnTo>
                    <a:lnTo>
                      <a:pt x="3" y="752"/>
                    </a:lnTo>
                    <a:lnTo>
                      <a:pt x="4" y="757"/>
                    </a:lnTo>
                    <a:lnTo>
                      <a:pt x="4" y="762"/>
                    </a:lnTo>
                    <a:lnTo>
                      <a:pt x="5" y="766"/>
                    </a:lnTo>
                    <a:lnTo>
                      <a:pt x="5" y="770"/>
                    </a:lnTo>
                    <a:lnTo>
                      <a:pt x="6" y="774"/>
                    </a:lnTo>
                    <a:lnTo>
                      <a:pt x="8" y="775"/>
                    </a:lnTo>
                    <a:lnTo>
                      <a:pt x="8" y="777"/>
                    </a:lnTo>
                    <a:lnTo>
                      <a:pt x="9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3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6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8" y="712"/>
                    </a:lnTo>
                    <a:lnTo>
                      <a:pt x="58" y="703"/>
                    </a:lnTo>
                    <a:lnTo>
                      <a:pt x="58" y="70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6" name=""/>
              <p:cNvSpPr/>
              <p:nvPr/>
            </p:nvSpPr>
            <p:spPr>
              <a:xfrm>
                <a:off x="4597200" y="4624200"/>
                <a:ext cx="39240" cy="432360"/>
              </a:xfrm>
              <a:custGeom>
                <a:avLst/>
                <a:gdLst/>
                <a:ahLst/>
                <a:rect l="l" t="t" r="r" b="b"/>
                <a:pathLst>
                  <a:path w="56" h="779">
                    <a:moveTo>
                      <a:pt x="56" y="703"/>
                    </a:moveTo>
                    <a:lnTo>
                      <a:pt x="56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5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0" y="712"/>
                    </a:lnTo>
                    <a:lnTo>
                      <a:pt x="0" y="719"/>
                    </a:lnTo>
                    <a:lnTo>
                      <a:pt x="0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1" y="746"/>
                    </a:lnTo>
                    <a:lnTo>
                      <a:pt x="1" y="752"/>
                    </a:lnTo>
                    <a:lnTo>
                      <a:pt x="2" y="757"/>
                    </a:lnTo>
                    <a:lnTo>
                      <a:pt x="2" y="762"/>
                    </a:lnTo>
                    <a:lnTo>
                      <a:pt x="2" y="766"/>
                    </a:lnTo>
                    <a:lnTo>
                      <a:pt x="4" y="770"/>
                    </a:lnTo>
                    <a:lnTo>
                      <a:pt x="4" y="774"/>
                    </a:lnTo>
                    <a:lnTo>
                      <a:pt x="5" y="775"/>
                    </a:lnTo>
                    <a:lnTo>
                      <a:pt x="5" y="777"/>
                    </a:lnTo>
                    <a:lnTo>
                      <a:pt x="6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1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5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6" y="712"/>
                    </a:lnTo>
                    <a:lnTo>
                      <a:pt x="56" y="703"/>
                    </a:lnTo>
                    <a:lnTo>
                      <a:pt x="56" y="70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7" name=""/>
              <p:cNvSpPr/>
              <p:nvPr/>
            </p:nvSpPr>
            <p:spPr>
              <a:xfrm>
                <a:off x="3024360" y="4749120"/>
                <a:ext cx="99000" cy="18720"/>
              </a:xfrm>
              <a:custGeom>
                <a:avLst/>
                <a:gdLst/>
                <a:ahLst/>
                <a:rect l="l" t="t" r="r" b="b"/>
                <a:pathLst>
                  <a:path w="145" h="35">
                    <a:moveTo>
                      <a:pt x="36" y="35"/>
                    </a:moveTo>
                    <a:lnTo>
                      <a:pt x="109" y="35"/>
                    </a:lnTo>
                    <a:lnTo>
                      <a:pt x="109" y="35"/>
                    </a:lnTo>
                    <a:lnTo>
                      <a:pt x="110" y="35"/>
                    </a:lnTo>
                    <a:lnTo>
                      <a:pt x="112" y="35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20" y="34"/>
                    </a:lnTo>
                    <a:lnTo>
                      <a:pt x="123" y="33"/>
                    </a:lnTo>
                    <a:lnTo>
                      <a:pt x="127" y="32"/>
                    </a:lnTo>
                    <a:lnTo>
                      <a:pt x="130" y="29"/>
                    </a:lnTo>
                    <a:lnTo>
                      <a:pt x="133" y="27"/>
                    </a:lnTo>
                    <a:lnTo>
                      <a:pt x="137" y="24"/>
                    </a:lnTo>
                    <a:lnTo>
                      <a:pt x="139" y="20"/>
                    </a:lnTo>
                    <a:lnTo>
                      <a:pt x="142" y="16"/>
                    </a:lnTo>
                    <a:lnTo>
                      <a:pt x="143" y="11"/>
                    </a:lnTo>
                    <a:lnTo>
                      <a:pt x="144" y="6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4" y="16"/>
                    </a:lnTo>
                    <a:lnTo>
                      <a:pt x="5" y="20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3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8" name=""/>
              <p:cNvSpPr/>
              <p:nvPr/>
            </p:nvSpPr>
            <p:spPr>
              <a:xfrm>
                <a:off x="3024360" y="4910040"/>
                <a:ext cx="99000" cy="2088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36" y="36"/>
                    </a:moveTo>
                    <a:lnTo>
                      <a:pt x="109" y="36"/>
                    </a:lnTo>
                    <a:lnTo>
                      <a:pt x="109" y="36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7" y="36"/>
                    </a:lnTo>
                    <a:lnTo>
                      <a:pt x="120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7" y="36"/>
                    </a:lnTo>
                    <a:lnTo>
                      <a:pt x="139" y="36"/>
                    </a:lnTo>
                    <a:lnTo>
                      <a:pt x="142" y="36"/>
                    </a:lnTo>
                    <a:lnTo>
                      <a:pt x="143" y="36"/>
                    </a:lnTo>
                    <a:lnTo>
                      <a:pt x="144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4" y="29"/>
                    </a:lnTo>
                    <a:lnTo>
                      <a:pt x="143" y="24"/>
                    </a:lnTo>
                    <a:lnTo>
                      <a:pt x="142" y="19"/>
                    </a:lnTo>
                    <a:lnTo>
                      <a:pt x="139" y="15"/>
                    </a:lnTo>
                    <a:lnTo>
                      <a:pt x="137" y="11"/>
                    </a:lnTo>
                    <a:lnTo>
                      <a:pt x="133" y="9"/>
                    </a:lnTo>
                    <a:lnTo>
                      <a:pt x="130" y="6"/>
                    </a:lnTo>
                    <a:lnTo>
                      <a:pt x="127" y="3"/>
                    </a:lnTo>
                    <a:lnTo>
                      <a:pt x="123" y="2"/>
                    </a:lnTo>
                    <a:lnTo>
                      <a:pt x="120" y="1"/>
                    </a:lnTo>
                    <a:lnTo>
                      <a:pt x="117" y="1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5" y="15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9" name=""/>
              <p:cNvSpPr/>
              <p:nvPr/>
            </p:nvSpPr>
            <p:spPr>
              <a:xfrm>
                <a:off x="3000600" y="4727880"/>
                <a:ext cx="23760" cy="20160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0" name=""/>
              <p:cNvSpPr/>
              <p:nvPr/>
            </p:nvSpPr>
            <p:spPr>
              <a:xfrm>
                <a:off x="3024360" y="4727880"/>
                <a:ext cx="23760" cy="201600"/>
              </a:xfrm>
              <a:prstGeom prst="rect">
                <a:avLst/>
              </a:prstGeom>
              <a:solidFill>
                <a:srgbClr val="dadad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1" name=""/>
              <p:cNvSpPr/>
              <p:nvPr/>
            </p:nvSpPr>
            <p:spPr>
              <a:xfrm>
                <a:off x="3048480" y="4727880"/>
                <a:ext cx="25200" cy="20160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2" name=""/>
              <p:cNvSpPr/>
              <p:nvPr/>
            </p:nvSpPr>
            <p:spPr>
              <a:xfrm>
                <a:off x="3073680" y="4727880"/>
                <a:ext cx="26280" cy="2016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3" name=""/>
              <p:cNvSpPr/>
              <p:nvPr/>
            </p:nvSpPr>
            <p:spPr>
              <a:xfrm>
                <a:off x="3023280" y="4732920"/>
                <a:ext cx="77400" cy="2448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17" y="46"/>
                    </a:move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3" y="37"/>
                    </a:lnTo>
                    <a:lnTo>
                      <a:pt x="115" y="34"/>
                    </a:lnTo>
                    <a:lnTo>
                      <a:pt x="116" y="31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18"/>
                    </a:lnTo>
                    <a:lnTo>
                      <a:pt x="116" y="15"/>
                    </a:lnTo>
                    <a:lnTo>
                      <a:pt x="115" y="12"/>
                    </a:lnTo>
                    <a:lnTo>
                      <a:pt x="113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7" y="46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4" name=""/>
              <p:cNvSpPr/>
              <p:nvPr/>
            </p:nvSpPr>
            <p:spPr>
              <a:xfrm>
                <a:off x="3023280" y="4902480"/>
                <a:ext cx="77400" cy="2520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7" y="45"/>
                    </a:moveTo>
                    <a:lnTo>
                      <a:pt x="101" y="45"/>
                    </a:lnTo>
                    <a:lnTo>
                      <a:pt x="103" y="45"/>
                    </a:lnTo>
                    <a:lnTo>
                      <a:pt x="107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6" y="30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5" y="11"/>
                    </a:lnTo>
                    <a:lnTo>
                      <a:pt x="113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4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5" name=""/>
              <p:cNvSpPr/>
              <p:nvPr/>
            </p:nvSpPr>
            <p:spPr>
              <a:xfrm>
                <a:off x="3467880" y="4749120"/>
                <a:ext cx="74160" cy="1872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0" y="35"/>
                    </a:moveTo>
                    <a:lnTo>
                      <a:pt x="72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0" y="34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5" y="29"/>
                    </a:lnTo>
                    <a:lnTo>
                      <a:pt x="106" y="27"/>
                    </a:lnTo>
                    <a:lnTo>
                      <a:pt x="107" y="24"/>
                    </a:lnTo>
                    <a:lnTo>
                      <a:pt x="107" y="20"/>
                    </a:lnTo>
                    <a:lnTo>
                      <a:pt x="109" y="16"/>
                    </a:lnTo>
                    <a:lnTo>
                      <a:pt x="109" y="11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6" name=""/>
              <p:cNvSpPr/>
              <p:nvPr/>
            </p:nvSpPr>
            <p:spPr>
              <a:xfrm>
                <a:off x="3467880" y="4910040"/>
                <a:ext cx="74160" cy="2088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0" y="36"/>
                    </a:moveTo>
                    <a:lnTo>
                      <a:pt x="72" y="36"/>
                    </a:lnTo>
                    <a:lnTo>
                      <a:pt x="78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94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29"/>
                    </a:lnTo>
                    <a:lnTo>
                      <a:pt x="109" y="24"/>
                    </a:lnTo>
                    <a:lnTo>
                      <a:pt x="109" y="19"/>
                    </a:lnTo>
                    <a:lnTo>
                      <a:pt x="107" y="15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6"/>
                    </a:lnTo>
                    <a:lnTo>
                      <a:pt x="104" y="3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7" y="1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7" name=""/>
              <p:cNvSpPr/>
              <p:nvPr/>
            </p:nvSpPr>
            <p:spPr>
              <a:xfrm>
                <a:off x="3444120" y="4727880"/>
                <a:ext cx="23760" cy="20160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8" name=""/>
              <p:cNvSpPr/>
              <p:nvPr/>
            </p:nvSpPr>
            <p:spPr>
              <a:xfrm>
                <a:off x="3467880" y="4727880"/>
                <a:ext cx="25200" cy="201600"/>
              </a:xfrm>
              <a:prstGeom prst="rect">
                <a:avLst/>
              </a:prstGeom>
              <a:solidFill>
                <a:srgbClr val="c8c8c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9" name=""/>
              <p:cNvSpPr/>
              <p:nvPr/>
            </p:nvSpPr>
            <p:spPr>
              <a:xfrm>
                <a:off x="3493080" y="4727880"/>
                <a:ext cx="23760" cy="20160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0" name=""/>
              <p:cNvSpPr/>
              <p:nvPr/>
            </p:nvSpPr>
            <p:spPr>
              <a:xfrm>
                <a:off x="3516840" y="4727880"/>
                <a:ext cx="25200" cy="20160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1" name=""/>
              <p:cNvSpPr/>
              <p:nvPr/>
            </p:nvSpPr>
            <p:spPr>
              <a:xfrm>
                <a:off x="3447720" y="4732920"/>
                <a:ext cx="79920" cy="2448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7" y="46"/>
                    </a:moveTo>
                    <a:lnTo>
                      <a:pt x="99" y="46"/>
                    </a:lnTo>
                    <a:lnTo>
                      <a:pt x="102" y="46"/>
                    </a:lnTo>
                    <a:lnTo>
                      <a:pt x="106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4" y="37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8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6" y="2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2" y="37"/>
                    </a:lnTo>
                    <a:lnTo>
                      <a:pt x="5" y="41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7" y="46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2" name=""/>
              <p:cNvSpPr/>
              <p:nvPr/>
            </p:nvSpPr>
            <p:spPr>
              <a:xfrm>
                <a:off x="3447720" y="4902480"/>
                <a:ext cx="79920" cy="25200"/>
              </a:xfrm>
              <a:custGeom>
                <a:avLst/>
                <a:gdLst/>
                <a:ahLst/>
                <a:rect l="l" t="t" r="r" b="b"/>
                <a:pathLst>
                  <a:path w="117" h="45">
                    <a:moveTo>
                      <a:pt x="17" y="45"/>
                    </a:moveTo>
                    <a:lnTo>
                      <a:pt x="99" y="45"/>
                    </a:lnTo>
                    <a:lnTo>
                      <a:pt x="102" y="45"/>
                    </a:lnTo>
                    <a:lnTo>
                      <a:pt x="106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6" y="34"/>
                    </a:lnTo>
                    <a:lnTo>
                      <a:pt x="116" y="30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6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39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7" y="45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3" name=""/>
              <p:cNvSpPr/>
              <p:nvPr/>
            </p:nvSpPr>
            <p:spPr>
              <a:xfrm>
                <a:off x="2566800" y="4645440"/>
                <a:ext cx="205560" cy="336960"/>
              </a:xfrm>
              <a:custGeom>
                <a:avLst/>
                <a:gdLst/>
                <a:ahLst/>
                <a:rect l="l" t="t" r="r" b="b"/>
                <a:pathLst>
                  <a:path w="302" h="608">
                    <a:moveTo>
                      <a:pt x="70" y="340"/>
                    </a:moveTo>
                    <a:lnTo>
                      <a:pt x="70" y="338"/>
                    </a:lnTo>
                    <a:lnTo>
                      <a:pt x="70" y="334"/>
                    </a:lnTo>
                    <a:lnTo>
                      <a:pt x="69" y="330"/>
                    </a:lnTo>
                    <a:lnTo>
                      <a:pt x="68" y="327"/>
                    </a:lnTo>
                    <a:lnTo>
                      <a:pt x="65" y="321"/>
                    </a:lnTo>
                    <a:lnTo>
                      <a:pt x="60" y="316"/>
                    </a:lnTo>
                    <a:lnTo>
                      <a:pt x="55" y="312"/>
                    </a:lnTo>
                    <a:lnTo>
                      <a:pt x="50" y="309"/>
                    </a:lnTo>
                    <a:lnTo>
                      <a:pt x="47" y="309"/>
                    </a:lnTo>
                    <a:lnTo>
                      <a:pt x="44" y="307"/>
                    </a:lnTo>
                    <a:lnTo>
                      <a:pt x="40" y="306"/>
                    </a:lnTo>
                    <a:lnTo>
                      <a:pt x="37" y="306"/>
                    </a:lnTo>
                    <a:lnTo>
                      <a:pt x="33" y="306"/>
                    </a:lnTo>
                    <a:lnTo>
                      <a:pt x="29" y="307"/>
                    </a:lnTo>
                    <a:lnTo>
                      <a:pt x="26" y="309"/>
                    </a:lnTo>
                    <a:lnTo>
                      <a:pt x="23" y="309"/>
                    </a:lnTo>
                    <a:lnTo>
                      <a:pt x="16" y="312"/>
                    </a:lnTo>
                    <a:lnTo>
                      <a:pt x="11" y="316"/>
                    </a:lnTo>
                    <a:lnTo>
                      <a:pt x="6" y="321"/>
                    </a:lnTo>
                    <a:lnTo>
                      <a:pt x="4" y="327"/>
                    </a:lnTo>
                    <a:lnTo>
                      <a:pt x="3" y="330"/>
                    </a:lnTo>
                    <a:lnTo>
                      <a:pt x="1" y="334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4"/>
                    </a:lnTo>
                    <a:lnTo>
                      <a:pt x="1" y="348"/>
                    </a:lnTo>
                    <a:lnTo>
                      <a:pt x="3" y="351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11" y="367"/>
                    </a:lnTo>
                    <a:lnTo>
                      <a:pt x="16" y="370"/>
                    </a:lnTo>
                    <a:lnTo>
                      <a:pt x="23" y="374"/>
                    </a:lnTo>
                    <a:lnTo>
                      <a:pt x="26" y="375"/>
                    </a:lnTo>
                    <a:lnTo>
                      <a:pt x="29" y="377"/>
                    </a:lnTo>
                    <a:lnTo>
                      <a:pt x="33" y="377"/>
                    </a:lnTo>
                    <a:lnTo>
                      <a:pt x="37" y="377"/>
                    </a:lnTo>
                    <a:lnTo>
                      <a:pt x="40" y="377"/>
                    </a:lnTo>
                    <a:lnTo>
                      <a:pt x="44" y="377"/>
                    </a:lnTo>
                    <a:lnTo>
                      <a:pt x="47" y="375"/>
                    </a:lnTo>
                    <a:lnTo>
                      <a:pt x="50" y="374"/>
                    </a:lnTo>
                    <a:lnTo>
                      <a:pt x="55" y="370"/>
                    </a:lnTo>
                    <a:lnTo>
                      <a:pt x="60" y="367"/>
                    </a:lnTo>
                    <a:lnTo>
                      <a:pt x="65" y="362"/>
                    </a:lnTo>
                    <a:lnTo>
                      <a:pt x="68" y="355"/>
                    </a:lnTo>
                    <a:lnTo>
                      <a:pt x="69" y="351"/>
                    </a:lnTo>
                    <a:lnTo>
                      <a:pt x="70" y="348"/>
                    </a:lnTo>
                    <a:lnTo>
                      <a:pt x="70" y="344"/>
                    </a:lnTo>
                    <a:lnTo>
                      <a:pt x="70" y="340"/>
                    </a:lnTo>
                    <a:lnTo>
                      <a:pt x="70" y="340"/>
                    </a:lnTo>
                    <a:close/>
                    <a:moveTo>
                      <a:pt x="302" y="37"/>
                    </a:moveTo>
                    <a:lnTo>
                      <a:pt x="301" y="33"/>
                    </a:lnTo>
                    <a:lnTo>
                      <a:pt x="301" y="29"/>
                    </a:lnTo>
                    <a:lnTo>
                      <a:pt x="300" y="27"/>
                    </a:lnTo>
                    <a:lnTo>
                      <a:pt x="298" y="23"/>
                    </a:lnTo>
                    <a:lnTo>
                      <a:pt x="296" y="17"/>
                    </a:lnTo>
                    <a:lnTo>
                      <a:pt x="291" y="12"/>
                    </a:lnTo>
                    <a:lnTo>
                      <a:pt x="286" y="7"/>
                    </a:lnTo>
                    <a:lnTo>
                      <a:pt x="281" y="4"/>
                    </a:lnTo>
                    <a:lnTo>
                      <a:pt x="277" y="3"/>
                    </a:lnTo>
                    <a:lnTo>
                      <a:pt x="275" y="2"/>
                    </a:lnTo>
                    <a:lnTo>
                      <a:pt x="271" y="2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1" y="2"/>
                    </a:lnTo>
                    <a:lnTo>
                      <a:pt x="258" y="3"/>
                    </a:lnTo>
                    <a:lnTo>
                      <a:pt x="255" y="4"/>
                    </a:lnTo>
                    <a:lnTo>
                      <a:pt x="250" y="7"/>
                    </a:lnTo>
                    <a:lnTo>
                      <a:pt x="244" y="12"/>
                    </a:lnTo>
                    <a:lnTo>
                      <a:pt x="239" y="17"/>
                    </a:lnTo>
                    <a:lnTo>
                      <a:pt x="237" y="23"/>
                    </a:lnTo>
                    <a:lnTo>
                      <a:pt x="236" y="27"/>
                    </a:lnTo>
                    <a:lnTo>
                      <a:pt x="234" y="29"/>
                    </a:lnTo>
                    <a:lnTo>
                      <a:pt x="234" y="33"/>
                    </a:lnTo>
                    <a:lnTo>
                      <a:pt x="233" y="37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6" y="47"/>
                    </a:lnTo>
                    <a:lnTo>
                      <a:pt x="237" y="51"/>
                    </a:lnTo>
                    <a:lnTo>
                      <a:pt x="239" y="56"/>
                    </a:lnTo>
                    <a:lnTo>
                      <a:pt x="244" y="61"/>
                    </a:lnTo>
                    <a:lnTo>
                      <a:pt x="250" y="66"/>
                    </a:lnTo>
                    <a:lnTo>
                      <a:pt x="255" y="69"/>
                    </a:lnTo>
                    <a:lnTo>
                      <a:pt x="258" y="70"/>
                    </a:lnTo>
                    <a:lnTo>
                      <a:pt x="261" y="71"/>
                    </a:lnTo>
                    <a:lnTo>
                      <a:pt x="265" y="71"/>
                    </a:lnTo>
                    <a:lnTo>
                      <a:pt x="267" y="71"/>
                    </a:lnTo>
                    <a:lnTo>
                      <a:pt x="271" y="71"/>
                    </a:lnTo>
                    <a:lnTo>
                      <a:pt x="275" y="71"/>
                    </a:lnTo>
                    <a:lnTo>
                      <a:pt x="277" y="70"/>
                    </a:lnTo>
                    <a:lnTo>
                      <a:pt x="281" y="69"/>
                    </a:lnTo>
                    <a:lnTo>
                      <a:pt x="286" y="66"/>
                    </a:lnTo>
                    <a:lnTo>
                      <a:pt x="291" y="61"/>
                    </a:lnTo>
                    <a:lnTo>
                      <a:pt x="296" y="56"/>
                    </a:lnTo>
                    <a:lnTo>
                      <a:pt x="298" y="51"/>
                    </a:lnTo>
                    <a:lnTo>
                      <a:pt x="300" y="47"/>
                    </a:lnTo>
                    <a:lnTo>
                      <a:pt x="301" y="45"/>
                    </a:lnTo>
                    <a:lnTo>
                      <a:pt x="301" y="41"/>
                    </a:lnTo>
                    <a:lnTo>
                      <a:pt x="302" y="37"/>
                    </a:lnTo>
                    <a:lnTo>
                      <a:pt x="302" y="37"/>
                    </a:lnTo>
                    <a:close/>
                    <a:moveTo>
                      <a:pt x="302" y="572"/>
                    </a:moveTo>
                    <a:lnTo>
                      <a:pt x="301" y="569"/>
                    </a:lnTo>
                    <a:lnTo>
                      <a:pt x="301" y="566"/>
                    </a:lnTo>
                    <a:lnTo>
                      <a:pt x="300" y="562"/>
                    </a:lnTo>
                    <a:lnTo>
                      <a:pt x="298" y="558"/>
                    </a:lnTo>
                    <a:lnTo>
                      <a:pt x="296" y="552"/>
                    </a:lnTo>
                    <a:lnTo>
                      <a:pt x="291" y="547"/>
                    </a:lnTo>
                    <a:lnTo>
                      <a:pt x="286" y="542"/>
                    </a:lnTo>
                    <a:lnTo>
                      <a:pt x="281" y="540"/>
                    </a:lnTo>
                    <a:lnTo>
                      <a:pt x="277" y="538"/>
                    </a:lnTo>
                    <a:lnTo>
                      <a:pt x="275" y="537"/>
                    </a:lnTo>
                    <a:lnTo>
                      <a:pt x="271" y="537"/>
                    </a:lnTo>
                    <a:lnTo>
                      <a:pt x="267" y="537"/>
                    </a:lnTo>
                    <a:lnTo>
                      <a:pt x="265" y="537"/>
                    </a:lnTo>
                    <a:lnTo>
                      <a:pt x="261" y="537"/>
                    </a:lnTo>
                    <a:lnTo>
                      <a:pt x="258" y="538"/>
                    </a:lnTo>
                    <a:lnTo>
                      <a:pt x="255" y="540"/>
                    </a:lnTo>
                    <a:lnTo>
                      <a:pt x="250" y="542"/>
                    </a:lnTo>
                    <a:lnTo>
                      <a:pt x="244" y="547"/>
                    </a:lnTo>
                    <a:lnTo>
                      <a:pt x="239" y="552"/>
                    </a:lnTo>
                    <a:lnTo>
                      <a:pt x="237" y="558"/>
                    </a:lnTo>
                    <a:lnTo>
                      <a:pt x="236" y="562"/>
                    </a:lnTo>
                    <a:lnTo>
                      <a:pt x="234" y="566"/>
                    </a:lnTo>
                    <a:lnTo>
                      <a:pt x="234" y="569"/>
                    </a:lnTo>
                    <a:lnTo>
                      <a:pt x="233" y="572"/>
                    </a:lnTo>
                    <a:lnTo>
                      <a:pt x="234" y="576"/>
                    </a:lnTo>
                    <a:lnTo>
                      <a:pt x="234" y="580"/>
                    </a:lnTo>
                    <a:lnTo>
                      <a:pt x="236" y="582"/>
                    </a:lnTo>
                    <a:lnTo>
                      <a:pt x="237" y="586"/>
                    </a:lnTo>
                    <a:lnTo>
                      <a:pt x="239" y="591"/>
                    </a:lnTo>
                    <a:lnTo>
                      <a:pt x="244" y="596"/>
                    </a:lnTo>
                    <a:lnTo>
                      <a:pt x="250" y="601"/>
                    </a:lnTo>
                    <a:lnTo>
                      <a:pt x="255" y="604"/>
                    </a:lnTo>
                    <a:lnTo>
                      <a:pt x="258" y="605"/>
                    </a:lnTo>
                    <a:lnTo>
                      <a:pt x="261" y="606"/>
                    </a:lnTo>
                    <a:lnTo>
                      <a:pt x="265" y="606"/>
                    </a:lnTo>
                    <a:lnTo>
                      <a:pt x="267" y="608"/>
                    </a:lnTo>
                    <a:lnTo>
                      <a:pt x="271" y="606"/>
                    </a:lnTo>
                    <a:lnTo>
                      <a:pt x="275" y="606"/>
                    </a:lnTo>
                    <a:lnTo>
                      <a:pt x="277" y="605"/>
                    </a:lnTo>
                    <a:lnTo>
                      <a:pt x="281" y="604"/>
                    </a:lnTo>
                    <a:lnTo>
                      <a:pt x="286" y="601"/>
                    </a:lnTo>
                    <a:lnTo>
                      <a:pt x="291" y="596"/>
                    </a:lnTo>
                    <a:lnTo>
                      <a:pt x="296" y="591"/>
                    </a:lnTo>
                    <a:lnTo>
                      <a:pt x="298" y="586"/>
                    </a:lnTo>
                    <a:lnTo>
                      <a:pt x="300" y="582"/>
                    </a:lnTo>
                    <a:lnTo>
                      <a:pt x="301" y="580"/>
                    </a:lnTo>
                    <a:lnTo>
                      <a:pt x="301" y="576"/>
                    </a:lnTo>
                    <a:lnTo>
                      <a:pt x="302" y="572"/>
                    </a:lnTo>
                    <a:lnTo>
                      <a:pt x="302" y="572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4" name=""/>
              <p:cNvSpPr/>
              <p:nvPr/>
            </p:nvSpPr>
            <p:spPr>
              <a:xfrm>
                <a:off x="2566800" y="4815000"/>
                <a:ext cx="4788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2"/>
                    </a:lnTo>
                    <a:lnTo>
                      <a:pt x="70" y="28"/>
                    </a:lnTo>
                    <a:lnTo>
                      <a:pt x="69" y="24"/>
                    </a:lnTo>
                    <a:lnTo>
                      <a:pt x="68" y="21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0" y="71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0" y="68"/>
                    </a:lnTo>
                    <a:lnTo>
                      <a:pt x="55" y="64"/>
                    </a:lnTo>
                    <a:lnTo>
                      <a:pt x="60" y="61"/>
                    </a:lnTo>
                    <a:lnTo>
                      <a:pt x="65" y="56"/>
                    </a:lnTo>
                    <a:lnTo>
                      <a:pt x="68" y="49"/>
                    </a:lnTo>
                    <a:lnTo>
                      <a:pt x="69" y="45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5" name=""/>
              <p:cNvSpPr/>
              <p:nvPr/>
            </p:nvSpPr>
            <p:spPr>
              <a:xfrm>
                <a:off x="2725920" y="4645440"/>
                <a:ext cx="46440" cy="38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7"/>
                    </a:moveTo>
                    <a:lnTo>
                      <a:pt x="68" y="33"/>
                    </a:lnTo>
                    <a:lnTo>
                      <a:pt x="68" y="29"/>
                    </a:lnTo>
                    <a:lnTo>
                      <a:pt x="67" y="27"/>
                    </a:lnTo>
                    <a:lnTo>
                      <a:pt x="65" y="23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6"/>
                    </a:lnTo>
                    <a:lnTo>
                      <a:pt x="22" y="69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2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8" y="61"/>
                    </a:lnTo>
                    <a:lnTo>
                      <a:pt x="63" y="56"/>
                    </a:lnTo>
                    <a:lnTo>
                      <a:pt x="65" y="51"/>
                    </a:lnTo>
                    <a:lnTo>
                      <a:pt x="67" y="47"/>
                    </a:lnTo>
                    <a:lnTo>
                      <a:pt x="68" y="45"/>
                    </a:lnTo>
                    <a:lnTo>
                      <a:pt x="68" y="41"/>
                    </a:lnTo>
                    <a:lnTo>
                      <a:pt x="69" y="37"/>
                    </a:lnTo>
                    <a:lnTo>
                      <a:pt x="69" y="37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6" name=""/>
              <p:cNvSpPr/>
              <p:nvPr/>
            </p:nvSpPr>
            <p:spPr>
              <a:xfrm>
                <a:off x="2725920" y="4943520"/>
                <a:ext cx="46440" cy="38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5"/>
                    </a:moveTo>
                    <a:lnTo>
                      <a:pt x="68" y="32"/>
                    </a:lnTo>
                    <a:lnTo>
                      <a:pt x="68" y="29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5"/>
                    </a:lnTo>
                    <a:lnTo>
                      <a:pt x="58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4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9"/>
                    </a:lnTo>
                    <a:lnTo>
                      <a:pt x="32" y="69"/>
                    </a:lnTo>
                    <a:lnTo>
                      <a:pt x="34" y="71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4" y="68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5" y="49"/>
                    </a:lnTo>
                    <a:lnTo>
                      <a:pt x="67" y="45"/>
                    </a:lnTo>
                    <a:lnTo>
                      <a:pt x="68" y="43"/>
                    </a:lnTo>
                    <a:lnTo>
                      <a:pt x="68" y="39"/>
                    </a:lnTo>
                    <a:lnTo>
                      <a:pt x="69" y="35"/>
                    </a:lnTo>
                    <a:lnTo>
                      <a:pt x="69" y="3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7" name=""/>
              <p:cNvSpPr/>
              <p:nvPr/>
            </p:nvSpPr>
            <p:spPr>
              <a:xfrm>
                <a:off x="2582640" y="4658040"/>
                <a:ext cx="175320" cy="310680"/>
              </a:xfrm>
              <a:custGeom>
                <a:avLst/>
                <a:gdLst/>
                <a:ahLst/>
                <a:rect l="l" t="t" r="r" b="b"/>
                <a:pathLst>
                  <a:path w="258" h="561">
                    <a:moveTo>
                      <a:pt x="25" y="317"/>
                    </a:moveTo>
                    <a:lnTo>
                      <a:pt x="25" y="315"/>
                    </a:lnTo>
                    <a:lnTo>
                      <a:pt x="25" y="313"/>
                    </a:lnTo>
                    <a:lnTo>
                      <a:pt x="24" y="311"/>
                    </a:lnTo>
                    <a:lnTo>
                      <a:pt x="22" y="309"/>
                    </a:lnTo>
                    <a:lnTo>
                      <a:pt x="20" y="308"/>
                    </a:lnTo>
                    <a:lnTo>
                      <a:pt x="19" y="307"/>
                    </a:lnTo>
                    <a:lnTo>
                      <a:pt x="16" y="306"/>
                    </a:lnTo>
                    <a:lnTo>
                      <a:pt x="14" y="306"/>
                    </a:lnTo>
                    <a:lnTo>
                      <a:pt x="11" y="306"/>
                    </a:lnTo>
                    <a:lnTo>
                      <a:pt x="7" y="307"/>
                    </a:lnTo>
                    <a:lnTo>
                      <a:pt x="6" y="308"/>
                    </a:lnTo>
                    <a:lnTo>
                      <a:pt x="3" y="309"/>
                    </a:lnTo>
                    <a:lnTo>
                      <a:pt x="2" y="311"/>
                    </a:lnTo>
                    <a:lnTo>
                      <a:pt x="1" y="313"/>
                    </a:lnTo>
                    <a:lnTo>
                      <a:pt x="1" y="315"/>
                    </a:lnTo>
                    <a:lnTo>
                      <a:pt x="0" y="317"/>
                    </a:lnTo>
                    <a:lnTo>
                      <a:pt x="1" y="321"/>
                    </a:lnTo>
                    <a:lnTo>
                      <a:pt x="1" y="323"/>
                    </a:lnTo>
                    <a:lnTo>
                      <a:pt x="2" y="326"/>
                    </a:lnTo>
                    <a:lnTo>
                      <a:pt x="3" y="327"/>
                    </a:lnTo>
                    <a:lnTo>
                      <a:pt x="6" y="330"/>
                    </a:lnTo>
                    <a:lnTo>
                      <a:pt x="7" y="330"/>
                    </a:lnTo>
                    <a:lnTo>
                      <a:pt x="11" y="331"/>
                    </a:lnTo>
                    <a:lnTo>
                      <a:pt x="14" y="331"/>
                    </a:lnTo>
                    <a:lnTo>
                      <a:pt x="16" y="331"/>
                    </a:lnTo>
                    <a:lnTo>
                      <a:pt x="19" y="330"/>
                    </a:lnTo>
                    <a:lnTo>
                      <a:pt x="20" y="330"/>
                    </a:lnTo>
                    <a:lnTo>
                      <a:pt x="22" y="327"/>
                    </a:lnTo>
                    <a:lnTo>
                      <a:pt x="24" y="326"/>
                    </a:lnTo>
                    <a:lnTo>
                      <a:pt x="25" y="323"/>
                    </a:lnTo>
                    <a:lnTo>
                      <a:pt x="25" y="321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  <a:moveTo>
                      <a:pt x="258" y="14"/>
                    </a:moveTo>
                    <a:lnTo>
                      <a:pt x="258" y="12"/>
                    </a:lnTo>
                    <a:lnTo>
                      <a:pt x="257" y="9"/>
                    </a:lnTo>
                    <a:lnTo>
                      <a:pt x="255" y="6"/>
                    </a:lnTo>
                    <a:lnTo>
                      <a:pt x="254" y="4"/>
                    </a:lnTo>
                    <a:lnTo>
                      <a:pt x="252" y="3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4" y="0"/>
                    </a:lnTo>
                    <a:lnTo>
                      <a:pt x="242" y="1"/>
                    </a:lnTo>
                    <a:lnTo>
                      <a:pt x="240" y="1"/>
                    </a:lnTo>
                    <a:lnTo>
                      <a:pt x="238" y="3"/>
                    </a:lnTo>
                    <a:lnTo>
                      <a:pt x="235" y="4"/>
                    </a:lnTo>
                    <a:lnTo>
                      <a:pt x="234" y="6"/>
                    </a:lnTo>
                    <a:lnTo>
                      <a:pt x="233" y="9"/>
                    </a:lnTo>
                    <a:lnTo>
                      <a:pt x="232" y="12"/>
                    </a:lnTo>
                    <a:lnTo>
                      <a:pt x="232" y="14"/>
                    </a:lnTo>
                    <a:lnTo>
                      <a:pt x="232" y="17"/>
                    </a:lnTo>
                    <a:lnTo>
                      <a:pt x="233" y="19"/>
                    </a:lnTo>
                    <a:lnTo>
                      <a:pt x="234" y="22"/>
                    </a:lnTo>
                    <a:lnTo>
                      <a:pt x="235" y="23"/>
                    </a:lnTo>
                    <a:lnTo>
                      <a:pt x="238" y="24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5"/>
                    </a:lnTo>
                    <a:lnTo>
                      <a:pt x="248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4" y="23"/>
                    </a:lnTo>
                    <a:lnTo>
                      <a:pt x="255" y="22"/>
                    </a:lnTo>
                    <a:lnTo>
                      <a:pt x="257" y="19"/>
                    </a:lnTo>
                    <a:lnTo>
                      <a:pt x="258" y="17"/>
                    </a:lnTo>
                    <a:lnTo>
                      <a:pt x="258" y="14"/>
                    </a:lnTo>
                    <a:lnTo>
                      <a:pt x="258" y="14"/>
                    </a:lnTo>
                    <a:close/>
                    <a:moveTo>
                      <a:pt x="258" y="549"/>
                    </a:moveTo>
                    <a:lnTo>
                      <a:pt x="258" y="547"/>
                    </a:lnTo>
                    <a:lnTo>
                      <a:pt x="257" y="544"/>
                    </a:lnTo>
                    <a:lnTo>
                      <a:pt x="255" y="542"/>
                    </a:lnTo>
                    <a:lnTo>
                      <a:pt x="254" y="539"/>
                    </a:lnTo>
                    <a:lnTo>
                      <a:pt x="252" y="538"/>
                    </a:lnTo>
                    <a:lnTo>
                      <a:pt x="249" y="537"/>
                    </a:lnTo>
                    <a:lnTo>
                      <a:pt x="248" y="537"/>
                    </a:lnTo>
                    <a:lnTo>
                      <a:pt x="244" y="537"/>
                    </a:lnTo>
                    <a:lnTo>
                      <a:pt x="242" y="537"/>
                    </a:lnTo>
                    <a:lnTo>
                      <a:pt x="240" y="537"/>
                    </a:lnTo>
                    <a:lnTo>
                      <a:pt x="238" y="538"/>
                    </a:lnTo>
                    <a:lnTo>
                      <a:pt x="235" y="539"/>
                    </a:lnTo>
                    <a:lnTo>
                      <a:pt x="234" y="542"/>
                    </a:lnTo>
                    <a:lnTo>
                      <a:pt x="233" y="544"/>
                    </a:lnTo>
                    <a:lnTo>
                      <a:pt x="232" y="547"/>
                    </a:lnTo>
                    <a:lnTo>
                      <a:pt x="232" y="549"/>
                    </a:lnTo>
                    <a:lnTo>
                      <a:pt x="232" y="552"/>
                    </a:lnTo>
                    <a:lnTo>
                      <a:pt x="233" y="554"/>
                    </a:lnTo>
                    <a:lnTo>
                      <a:pt x="234" y="557"/>
                    </a:lnTo>
                    <a:lnTo>
                      <a:pt x="235" y="558"/>
                    </a:lnTo>
                    <a:lnTo>
                      <a:pt x="238" y="559"/>
                    </a:lnTo>
                    <a:lnTo>
                      <a:pt x="240" y="561"/>
                    </a:lnTo>
                    <a:lnTo>
                      <a:pt x="242" y="561"/>
                    </a:lnTo>
                    <a:lnTo>
                      <a:pt x="244" y="561"/>
                    </a:lnTo>
                    <a:lnTo>
                      <a:pt x="248" y="561"/>
                    </a:lnTo>
                    <a:lnTo>
                      <a:pt x="249" y="561"/>
                    </a:lnTo>
                    <a:lnTo>
                      <a:pt x="252" y="559"/>
                    </a:lnTo>
                    <a:lnTo>
                      <a:pt x="254" y="558"/>
                    </a:lnTo>
                    <a:lnTo>
                      <a:pt x="255" y="557"/>
                    </a:lnTo>
                    <a:lnTo>
                      <a:pt x="257" y="554"/>
                    </a:lnTo>
                    <a:lnTo>
                      <a:pt x="258" y="552"/>
                    </a:lnTo>
                    <a:lnTo>
                      <a:pt x="258" y="549"/>
                    </a:lnTo>
                    <a:lnTo>
                      <a:pt x="258" y="549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8" name=""/>
              <p:cNvSpPr/>
              <p:nvPr/>
            </p:nvSpPr>
            <p:spPr>
              <a:xfrm>
                <a:off x="2582640" y="4827600"/>
                <a:ext cx="16200" cy="13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1"/>
                    </a:moveTo>
                    <a:lnTo>
                      <a:pt x="25" y="9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11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9" name=""/>
              <p:cNvSpPr/>
              <p:nvPr/>
            </p:nvSpPr>
            <p:spPr>
              <a:xfrm>
                <a:off x="2740320" y="46580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4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0" name=""/>
              <p:cNvSpPr/>
              <p:nvPr/>
            </p:nvSpPr>
            <p:spPr>
              <a:xfrm>
                <a:off x="2740320" y="495504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2"/>
                    </a:moveTo>
                    <a:lnTo>
                      <a:pt x="26" y="10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1" name=""/>
              <p:cNvSpPr/>
              <p:nvPr/>
            </p:nvSpPr>
            <p:spPr>
              <a:xfrm>
                <a:off x="2653920" y="4646880"/>
                <a:ext cx="197280" cy="444960"/>
              </a:xfrm>
              <a:custGeom>
                <a:avLst/>
                <a:gdLst/>
                <a:ahLst/>
                <a:rect l="l" t="t" r="r" b="b"/>
                <a:pathLst>
                  <a:path w="291" h="803">
                    <a:moveTo>
                      <a:pt x="291" y="37"/>
                    </a:moveTo>
                    <a:lnTo>
                      <a:pt x="73" y="37"/>
                    </a:lnTo>
                    <a:lnTo>
                      <a:pt x="67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9" y="38"/>
                    </a:lnTo>
                    <a:lnTo>
                      <a:pt x="45" y="39"/>
                    </a:lnTo>
                    <a:lnTo>
                      <a:pt x="43" y="39"/>
                    </a:lnTo>
                    <a:lnTo>
                      <a:pt x="42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7" y="57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803"/>
                    </a:lnTo>
                    <a:lnTo>
                      <a:pt x="0" y="80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1" y="0"/>
                    </a:lnTo>
                    <a:lnTo>
                      <a:pt x="291" y="37"/>
                    </a:lnTo>
                    <a:lnTo>
                      <a:pt x="2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2" name=""/>
              <p:cNvSpPr/>
              <p:nvPr/>
            </p:nvSpPr>
            <p:spPr>
              <a:xfrm>
                <a:off x="2637360" y="4627440"/>
                <a:ext cx="192240" cy="464400"/>
              </a:xfrm>
              <a:custGeom>
                <a:avLst/>
                <a:gdLst/>
                <a:ahLst/>
                <a:rect l="l" t="t" r="r" b="b"/>
                <a:pathLst>
                  <a:path w="284" h="837">
                    <a:moveTo>
                      <a:pt x="284" y="43"/>
                    </a:moveTo>
                    <a:lnTo>
                      <a:pt x="76" y="43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6" y="45"/>
                    </a:lnTo>
                    <a:lnTo>
                      <a:pt x="64" y="47"/>
                    </a:lnTo>
                    <a:lnTo>
                      <a:pt x="58" y="49"/>
                    </a:lnTo>
                    <a:lnTo>
                      <a:pt x="53" y="54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4" y="69"/>
                    </a:lnTo>
                    <a:lnTo>
                      <a:pt x="44" y="72"/>
                    </a:lnTo>
                    <a:lnTo>
                      <a:pt x="43" y="76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837"/>
                    </a:lnTo>
                    <a:lnTo>
                      <a:pt x="0" y="83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7" y="37"/>
                    </a:lnTo>
                    <a:lnTo>
                      <a:pt x="11" y="31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5" y="9"/>
                    </a:lnTo>
                    <a:lnTo>
                      <a:pt x="41" y="6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284" y="0"/>
                    </a:lnTo>
                    <a:lnTo>
                      <a:pt x="284" y="4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3" name=""/>
              <p:cNvSpPr/>
              <p:nvPr/>
            </p:nvSpPr>
            <p:spPr>
              <a:xfrm>
                <a:off x="2494080" y="4535640"/>
                <a:ext cx="4186080" cy="9684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4" name=""/>
              <p:cNvSpPr/>
              <p:nvPr/>
            </p:nvSpPr>
            <p:spPr>
              <a:xfrm>
                <a:off x="2494080" y="4535640"/>
                <a:ext cx="4186080" cy="9684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5" name=""/>
              <p:cNvSpPr/>
              <p:nvPr/>
            </p:nvSpPr>
            <p:spPr>
              <a:xfrm>
                <a:off x="3901680" y="4583160"/>
                <a:ext cx="909360" cy="39960"/>
              </a:xfrm>
              <a:custGeom>
                <a:avLst/>
                <a:gdLst/>
                <a:ahLst/>
                <a:rect l="l" t="t" r="r" b="b"/>
                <a:pathLst>
                  <a:path w="1335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  <a:close/>
                    <a:moveTo>
                      <a:pt x="1335" y="34"/>
                    </a:moveTo>
                    <a:lnTo>
                      <a:pt x="1334" y="31"/>
                    </a:lnTo>
                    <a:lnTo>
                      <a:pt x="1334" y="28"/>
                    </a:lnTo>
                    <a:lnTo>
                      <a:pt x="1333" y="24"/>
                    </a:lnTo>
                    <a:lnTo>
                      <a:pt x="1331" y="22"/>
                    </a:lnTo>
                    <a:lnTo>
                      <a:pt x="1329" y="16"/>
                    </a:lnTo>
                    <a:lnTo>
                      <a:pt x="1324" y="10"/>
                    </a:lnTo>
                    <a:lnTo>
                      <a:pt x="1319" y="7"/>
                    </a:lnTo>
                    <a:lnTo>
                      <a:pt x="1313" y="3"/>
                    </a:lnTo>
                    <a:lnTo>
                      <a:pt x="1309" y="2"/>
                    </a:lnTo>
                    <a:lnTo>
                      <a:pt x="1306" y="2"/>
                    </a:lnTo>
                    <a:lnTo>
                      <a:pt x="1303" y="0"/>
                    </a:lnTo>
                    <a:lnTo>
                      <a:pt x="1299" y="0"/>
                    </a:lnTo>
                    <a:lnTo>
                      <a:pt x="1295" y="0"/>
                    </a:lnTo>
                    <a:lnTo>
                      <a:pt x="1291" y="2"/>
                    </a:lnTo>
                    <a:lnTo>
                      <a:pt x="1289" y="2"/>
                    </a:lnTo>
                    <a:lnTo>
                      <a:pt x="1285" y="3"/>
                    </a:lnTo>
                    <a:lnTo>
                      <a:pt x="1280" y="7"/>
                    </a:lnTo>
                    <a:lnTo>
                      <a:pt x="1275" y="10"/>
                    </a:lnTo>
                    <a:lnTo>
                      <a:pt x="1270" y="16"/>
                    </a:lnTo>
                    <a:lnTo>
                      <a:pt x="1268" y="22"/>
                    </a:lnTo>
                    <a:lnTo>
                      <a:pt x="1266" y="24"/>
                    </a:lnTo>
                    <a:lnTo>
                      <a:pt x="1265" y="28"/>
                    </a:lnTo>
                    <a:lnTo>
                      <a:pt x="1265" y="31"/>
                    </a:lnTo>
                    <a:lnTo>
                      <a:pt x="1265" y="34"/>
                    </a:lnTo>
                    <a:lnTo>
                      <a:pt x="1265" y="38"/>
                    </a:lnTo>
                    <a:lnTo>
                      <a:pt x="1265" y="42"/>
                    </a:lnTo>
                    <a:lnTo>
                      <a:pt x="1266" y="46"/>
                    </a:lnTo>
                    <a:lnTo>
                      <a:pt x="1268" y="48"/>
                    </a:lnTo>
                    <a:lnTo>
                      <a:pt x="1270" y="55"/>
                    </a:lnTo>
                    <a:lnTo>
                      <a:pt x="1275" y="61"/>
                    </a:lnTo>
                    <a:lnTo>
                      <a:pt x="1280" y="65"/>
                    </a:lnTo>
                    <a:lnTo>
                      <a:pt x="1285" y="69"/>
                    </a:lnTo>
                    <a:lnTo>
                      <a:pt x="1289" y="70"/>
                    </a:lnTo>
                    <a:lnTo>
                      <a:pt x="1291" y="70"/>
                    </a:lnTo>
                    <a:lnTo>
                      <a:pt x="1295" y="71"/>
                    </a:lnTo>
                    <a:lnTo>
                      <a:pt x="1299" y="71"/>
                    </a:lnTo>
                    <a:lnTo>
                      <a:pt x="1303" y="71"/>
                    </a:lnTo>
                    <a:lnTo>
                      <a:pt x="1306" y="70"/>
                    </a:lnTo>
                    <a:lnTo>
                      <a:pt x="1309" y="70"/>
                    </a:lnTo>
                    <a:lnTo>
                      <a:pt x="1313" y="69"/>
                    </a:lnTo>
                    <a:lnTo>
                      <a:pt x="1319" y="65"/>
                    </a:lnTo>
                    <a:lnTo>
                      <a:pt x="1324" y="61"/>
                    </a:lnTo>
                    <a:lnTo>
                      <a:pt x="1329" y="55"/>
                    </a:lnTo>
                    <a:lnTo>
                      <a:pt x="1331" y="48"/>
                    </a:lnTo>
                    <a:lnTo>
                      <a:pt x="1333" y="46"/>
                    </a:lnTo>
                    <a:lnTo>
                      <a:pt x="1334" y="42"/>
                    </a:lnTo>
                    <a:lnTo>
                      <a:pt x="1334" y="38"/>
                    </a:lnTo>
                    <a:lnTo>
                      <a:pt x="1335" y="34"/>
                    </a:lnTo>
                    <a:lnTo>
                      <a:pt x="1335" y="34"/>
                    </a:lnTo>
                    <a:close/>
                  </a:path>
                </a:pathLst>
              </a:custGeom>
              <a:solidFill>
                <a:srgbClr val="d3d3d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6" name=""/>
              <p:cNvSpPr/>
              <p:nvPr/>
            </p:nvSpPr>
            <p:spPr>
              <a:xfrm>
                <a:off x="3901680" y="458316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7" name=""/>
              <p:cNvSpPr/>
              <p:nvPr/>
            </p:nvSpPr>
            <p:spPr>
              <a:xfrm>
                <a:off x="4763160" y="4583160"/>
                <a:ext cx="4788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69" y="31"/>
                    </a:lnTo>
                    <a:lnTo>
                      <a:pt x="69" y="28"/>
                    </a:lnTo>
                    <a:lnTo>
                      <a:pt x="68" y="24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4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4" y="65"/>
                    </a:lnTo>
                    <a:lnTo>
                      <a:pt x="59" y="61"/>
                    </a:lnTo>
                    <a:lnTo>
                      <a:pt x="64" y="55"/>
                    </a:lnTo>
                    <a:lnTo>
                      <a:pt x="66" y="48"/>
                    </a:lnTo>
                    <a:lnTo>
                      <a:pt x="68" y="46"/>
                    </a:lnTo>
                    <a:lnTo>
                      <a:pt x="69" y="42"/>
                    </a:lnTo>
                    <a:lnTo>
                      <a:pt x="69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8" name=""/>
              <p:cNvSpPr/>
              <p:nvPr/>
            </p:nvSpPr>
            <p:spPr>
              <a:xfrm>
                <a:off x="4016520" y="4593240"/>
                <a:ext cx="2301480" cy="527760"/>
              </a:xfrm>
              <a:custGeom>
                <a:avLst/>
                <a:gdLst/>
                <a:ahLst/>
                <a:rect l="l" t="t" r="r" b="b"/>
                <a:pathLst>
                  <a:path w="3384" h="951">
                    <a:moveTo>
                      <a:pt x="1350" y="862"/>
                    </a:moveTo>
                    <a:lnTo>
                      <a:pt x="1350" y="853"/>
                    </a:lnTo>
                    <a:lnTo>
                      <a:pt x="1348" y="846"/>
                    </a:lnTo>
                    <a:lnTo>
                      <a:pt x="1346" y="838"/>
                    </a:lnTo>
                    <a:lnTo>
                      <a:pt x="1343" y="832"/>
                    </a:lnTo>
                    <a:lnTo>
                      <a:pt x="1341" y="824"/>
                    </a:lnTo>
                    <a:lnTo>
                      <a:pt x="1337" y="818"/>
                    </a:lnTo>
                    <a:lnTo>
                      <a:pt x="1332" y="812"/>
                    </a:lnTo>
                    <a:lnTo>
                      <a:pt x="1327" y="807"/>
                    </a:lnTo>
                    <a:lnTo>
                      <a:pt x="1322" y="802"/>
                    </a:lnTo>
                    <a:lnTo>
                      <a:pt x="1316" y="798"/>
                    </a:lnTo>
                    <a:lnTo>
                      <a:pt x="1310" y="794"/>
                    </a:lnTo>
                    <a:lnTo>
                      <a:pt x="1303" y="790"/>
                    </a:lnTo>
                    <a:lnTo>
                      <a:pt x="1296" y="788"/>
                    </a:lnTo>
                    <a:lnTo>
                      <a:pt x="1288" y="787"/>
                    </a:lnTo>
                    <a:lnTo>
                      <a:pt x="1281" y="785"/>
                    </a:lnTo>
                    <a:lnTo>
                      <a:pt x="1273" y="784"/>
                    </a:lnTo>
                    <a:lnTo>
                      <a:pt x="1264" y="785"/>
                    </a:lnTo>
                    <a:lnTo>
                      <a:pt x="1257" y="787"/>
                    </a:lnTo>
                    <a:lnTo>
                      <a:pt x="1249" y="788"/>
                    </a:lnTo>
                    <a:lnTo>
                      <a:pt x="1242" y="790"/>
                    </a:lnTo>
                    <a:lnTo>
                      <a:pt x="1236" y="794"/>
                    </a:lnTo>
                    <a:lnTo>
                      <a:pt x="1229" y="798"/>
                    </a:lnTo>
                    <a:lnTo>
                      <a:pt x="1223" y="802"/>
                    </a:lnTo>
                    <a:lnTo>
                      <a:pt x="1217" y="807"/>
                    </a:lnTo>
                    <a:lnTo>
                      <a:pt x="1212" y="812"/>
                    </a:lnTo>
                    <a:lnTo>
                      <a:pt x="1207" y="818"/>
                    </a:lnTo>
                    <a:lnTo>
                      <a:pt x="1203" y="824"/>
                    </a:lnTo>
                    <a:lnTo>
                      <a:pt x="1201" y="832"/>
                    </a:lnTo>
                    <a:lnTo>
                      <a:pt x="1197" y="838"/>
                    </a:lnTo>
                    <a:lnTo>
                      <a:pt x="1195" y="846"/>
                    </a:lnTo>
                    <a:lnTo>
                      <a:pt x="1194" y="853"/>
                    </a:lnTo>
                    <a:lnTo>
                      <a:pt x="1193" y="862"/>
                    </a:lnTo>
                    <a:lnTo>
                      <a:pt x="1194" y="870"/>
                    </a:lnTo>
                    <a:lnTo>
                      <a:pt x="1195" y="877"/>
                    </a:lnTo>
                    <a:lnTo>
                      <a:pt x="1197" y="885"/>
                    </a:lnTo>
                    <a:lnTo>
                      <a:pt x="1201" y="893"/>
                    </a:lnTo>
                    <a:lnTo>
                      <a:pt x="1203" y="900"/>
                    </a:lnTo>
                    <a:lnTo>
                      <a:pt x="1207" y="907"/>
                    </a:lnTo>
                    <a:lnTo>
                      <a:pt x="1212" y="913"/>
                    </a:lnTo>
                    <a:lnTo>
                      <a:pt x="1217" y="918"/>
                    </a:lnTo>
                    <a:lnTo>
                      <a:pt x="1223" y="923"/>
                    </a:lnTo>
                    <a:lnTo>
                      <a:pt x="1229" y="928"/>
                    </a:lnTo>
                    <a:lnTo>
                      <a:pt x="1236" y="932"/>
                    </a:lnTo>
                    <a:lnTo>
                      <a:pt x="1242" y="936"/>
                    </a:lnTo>
                    <a:lnTo>
                      <a:pt x="1249" y="938"/>
                    </a:lnTo>
                    <a:lnTo>
                      <a:pt x="1257" y="941"/>
                    </a:lnTo>
                    <a:lnTo>
                      <a:pt x="1264" y="942"/>
                    </a:lnTo>
                    <a:lnTo>
                      <a:pt x="1273" y="942"/>
                    </a:lnTo>
                    <a:lnTo>
                      <a:pt x="1281" y="942"/>
                    </a:lnTo>
                    <a:lnTo>
                      <a:pt x="1288" y="941"/>
                    </a:lnTo>
                    <a:lnTo>
                      <a:pt x="1296" y="938"/>
                    </a:lnTo>
                    <a:lnTo>
                      <a:pt x="1303" y="936"/>
                    </a:lnTo>
                    <a:lnTo>
                      <a:pt x="1310" y="932"/>
                    </a:lnTo>
                    <a:lnTo>
                      <a:pt x="1316" y="928"/>
                    </a:lnTo>
                    <a:lnTo>
                      <a:pt x="1322" y="923"/>
                    </a:lnTo>
                    <a:lnTo>
                      <a:pt x="1327" y="918"/>
                    </a:lnTo>
                    <a:lnTo>
                      <a:pt x="1332" y="913"/>
                    </a:lnTo>
                    <a:lnTo>
                      <a:pt x="1337" y="907"/>
                    </a:lnTo>
                    <a:lnTo>
                      <a:pt x="1341" y="900"/>
                    </a:lnTo>
                    <a:lnTo>
                      <a:pt x="1343" y="893"/>
                    </a:lnTo>
                    <a:lnTo>
                      <a:pt x="1346" y="885"/>
                    </a:lnTo>
                    <a:lnTo>
                      <a:pt x="1348" y="877"/>
                    </a:lnTo>
                    <a:lnTo>
                      <a:pt x="1350" y="870"/>
                    </a:lnTo>
                    <a:lnTo>
                      <a:pt x="1350" y="862"/>
                    </a:lnTo>
                    <a:lnTo>
                      <a:pt x="1350" y="862"/>
                    </a:lnTo>
                    <a:close/>
                    <a:moveTo>
                      <a:pt x="1605" y="862"/>
                    </a:moveTo>
                    <a:lnTo>
                      <a:pt x="1605" y="853"/>
                    </a:lnTo>
                    <a:lnTo>
                      <a:pt x="1604" y="846"/>
                    </a:lnTo>
                    <a:lnTo>
                      <a:pt x="1603" y="838"/>
                    </a:lnTo>
                    <a:lnTo>
                      <a:pt x="1600" y="832"/>
                    </a:lnTo>
                    <a:lnTo>
                      <a:pt x="1596" y="824"/>
                    </a:lnTo>
                    <a:lnTo>
                      <a:pt x="1593" y="818"/>
                    </a:lnTo>
                    <a:lnTo>
                      <a:pt x="1588" y="812"/>
                    </a:lnTo>
                    <a:lnTo>
                      <a:pt x="1583" y="807"/>
                    </a:lnTo>
                    <a:lnTo>
                      <a:pt x="1578" y="802"/>
                    </a:lnTo>
                    <a:lnTo>
                      <a:pt x="1571" y="798"/>
                    </a:lnTo>
                    <a:lnTo>
                      <a:pt x="1565" y="794"/>
                    </a:lnTo>
                    <a:lnTo>
                      <a:pt x="1559" y="790"/>
                    </a:lnTo>
                    <a:lnTo>
                      <a:pt x="1551" y="788"/>
                    </a:lnTo>
                    <a:lnTo>
                      <a:pt x="1544" y="787"/>
                    </a:lnTo>
                    <a:lnTo>
                      <a:pt x="1536" y="785"/>
                    </a:lnTo>
                    <a:lnTo>
                      <a:pt x="1529" y="784"/>
                    </a:lnTo>
                    <a:lnTo>
                      <a:pt x="1520" y="785"/>
                    </a:lnTo>
                    <a:lnTo>
                      <a:pt x="1512" y="787"/>
                    </a:lnTo>
                    <a:lnTo>
                      <a:pt x="1505" y="788"/>
                    </a:lnTo>
                    <a:lnTo>
                      <a:pt x="1497" y="790"/>
                    </a:lnTo>
                    <a:lnTo>
                      <a:pt x="1491" y="794"/>
                    </a:lnTo>
                    <a:lnTo>
                      <a:pt x="1485" y="798"/>
                    </a:lnTo>
                    <a:lnTo>
                      <a:pt x="1479" y="802"/>
                    </a:lnTo>
                    <a:lnTo>
                      <a:pt x="1472" y="807"/>
                    </a:lnTo>
                    <a:lnTo>
                      <a:pt x="1467" y="812"/>
                    </a:lnTo>
                    <a:lnTo>
                      <a:pt x="1464" y="818"/>
                    </a:lnTo>
                    <a:lnTo>
                      <a:pt x="1459" y="824"/>
                    </a:lnTo>
                    <a:lnTo>
                      <a:pt x="1456" y="832"/>
                    </a:lnTo>
                    <a:lnTo>
                      <a:pt x="1452" y="838"/>
                    </a:lnTo>
                    <a:lnTo>
                      <a:pt x="1451" y="846"/>
                    </a:lnTo>
                    <a:lnTo>
                      <a:pt x="1450" y="853"/>
                    </a:lnTo>
                    <a:lnTo>
                      <a:pt x="1450" y="862"/>
                    </a:lnTo>
                    <a:lnTo>
                      <a:pt x="1450" y="870"/>
                    </a:lnTo>
                    <a:lnTo>
                      <a:pt x="1451" y="877"/>
                    </a:lnTo>
                    <a:lnTo>
                      <a:pt x="1452" y="885"/>
                    </a:lnTo>
                    <a:lnTo>
                      <a:pt x="1456" y="893"/>
                    </a:lnTo>
                    <a:lnTo>
                      <a:pt x="1459" y="900"/>
                    </a:lnTo>
                    <a:lnTo>
                      <a:pt x="1464" y="907"/>
                    </a:lnTo>
                    <a:lnTo>
                      <a:pt x="1467" y="913"/>
                    </a:lnTo>
                    <a:lnTo>
                      <a:pt x="1472" y="918"/>
                    </a:lnTo>
                    <a:lnTo>
                      <a:pt x="1479" y="923"/>
                    </a:lnTo>
                    <a:lnTo>
                      <a:pt x="1485" y="928"/>
                    </a:lnTo>
                    <a:lnTo>
                      <a:pt x="1491" y="932"/>
                    </a:lnTo>
                    <a:lnTo>
                      <a:pt x="1497" y="936"/>
                    </a:lnTo>
                    <a:lnTo>
                      <a:pt x="1505" y="938"/>
                    </a:lnTo>
                    <a:lnTo>
                      <a:pt x="1512" y="941"/>
                    </a:lnTo>
                    <a:lnTo>
                      <a:pt x="1520" y="942"/>
                    </a:lnTo>
                    <a:lnTo>
                      <a:pt x="1529" y="942"/>
                    </a:lnTo>
                    <a:lnTo>
                      <a:pt x="1536" y="942"/>
                    </a:lnTo>
                    <a:lnTo>
                      <a:pt x="1544" y="941"/>
                    </a:lnTo>
                    <a:lnTo>
                      <a:pt x="1551" y="938"/>
                    </a:lnTo>
                    <a:lnTo>
                      <a:pt x="1559" y="936"/>
                    </a:lnTo>
                    <a:lnTo>
                      <a:pt x="1565" y="932"/>
                    </a:lnTo>
                    <a:lnTo>
                      <a:pt x="1571" y="928"/>
                    </a:lnTo>
                    <a:lnTo>
                      <a:pt x="1578" y="923"/>
                    </a:lnTo>
                    <a:lnTo>
                      <a:pt x="1583" y="918"/>
                    </a:lnTo>
                    <a:lnTo>
                      <a:pt x="1588" y="913"/>
                    </a:lnTo>
                    <a:lnTo>
                      <a:pt x="1593" y="907"/>
                    </a:lnTo>
                    <a:lnTo>
                      <a:pt x="1596" y="900"/>
                    </a:lnTo>
                    <a:lnTo>
                      <a:pt x="1600" y="893"/>
                    </a:lnTo>
                    <a:lnTo>
                      <a:pt x="1603" y="885"/>
                    </a:lnTo>
                    <a:lnTo>
                      <a:pt x="1604" y="877"/>
                    </a:lnTo>
                    <a:lnTo>
                      <a:pt x="1605" y="870"/>
                    </a:lnTo>
                    <a:lnTo>
                      <a:pt x="1605" y="862"/>
                    </a:lnTo>
                    <a:lnTo>
                      <a:pt x="1605" y="862"/>
                    </a:lnTo>
                    <a:close/>
                    <a:moveTo>
                      <a:pt x="1779" y="832"/>
                    </a:moveTo>
                    <a:lnTo>
                      <a:pt x="1751" y="832"/>
                    </a:lnTo>
                    <a:lnTo>
                      <a:pt x="1747" y="832"/>
                    </a:lnTo>
                    <a:lnTo>
                      <a:pt x="1742" y="833"/>
                    </a:lnTo>
                    <a:lnTo>
                      <a:pt x="1738" y="835"/>
                    </a:lnTo>
                    <a:lnTo>
                      <a:pt x="1734" y="836"/>
                    </a:lnTo>
                    <a:lnTo>
                      <a:pt x="1731" y="837"/>
                    </a:lnTo>
                    <a:lnTo>
                      <a:pt x="1728" y="840"/>
                    </a:lnTo>
                    <a:lnTo>
                      <a:pt x="1722" y="845"/>
                    </a:lnTo>
                    <a:lnTo>
                      <a:pt x="1717" y="850"/>
                    </a:lnTo>
                    <a:lnTo>
                      <a:pt x="1714" y="853"/>
                    </a:lnTo>
                    <a:lnTo>
                      <a:pt x="1713" y="857"/>
                    </a:lnTo>
                    <a:lnTo>
                      <a:pt x="1712" y="861"/>
                    </a:lnTo>
                    <a:lnTo>
                      <a:pt x="1710" y="865"/>
                    </a:lnTo>
                    <a:lnTo>
                      <a:pt x="1710" y="869"/>
                    </a:lnTo>
                    <a:lnTo>
                      <a:pt x="1709" y="874"/>
                    </a:lnTo>
                    <a:lnTo>
                      <a:pt x="1710" y="877"/>
                    </a:lnTo>
                    <a:lnTo>
                      <a:pt x="1710" y="881"/>
                    </a:lnTo>
                    <a:lnTo>
                      <a:pt x="1712" y="885"/>
                    </a:lnTo>
                    <a:lnTo>
                      <a:pt x="1713" y="889"/>
                    </a:lnTo>
                    <a:lnTo>
                      <a:pt x="1714" y="893"/>
                    </a:lnTo>
                    <a:lnTo>
                      <a:pt x="1717" y="896"/>
                    </a:lnTo>
                    <a:lnTo>
                      <a:pt x="1722" y="903"/>
                    </a:lnTo>
                    <a:lnTo>
                      <a:pt x="1728" y="908"/>
                    </a:lnTo>
                    <a:lnTo>
                      <a:pt x="1731" y="909"/>
                    </a:lnTo>
                    <a:lnTo>
                      <a:pt x="1734" y="912"/>
                    </a:lnTo>
                    <a:lnTo>
                      <a:pt x="1738" y="913"/>
                    </a:lnTo>
                    <a:lnTo>
                      <a:pt x="1742" y="914"/>
                    </a:lnTo>
                    <a:lnTo>
                      <a:pt x="1747" y="914"/>
                    </a:lnTo>
                    <a:lnTo>
                      <a:pt x="1751" y="914"/>
                    </a:lnTo>
                    <a:lnTo>
                      <a:pt x="1751" y="914"/>
                    </a:lnTo>
                    <a:lnTo>
                      <a:pt x="1791" y="914"/>
                    </a:lnTo>
                    <a:lnTo>
                      <a:pt x="1791" y="919"/>
                    </a:lnTo>
                    <a:lnTo>
                      <a:pt x="1793" y="925"/>
                    </a:lnTo>
                    <a:lnTo>
                      <a:pt x="1796" y="931"/>
                    </a:lnTo>
                    <a:lnTo>
                      <a:pt x="1801" y="936"/>
                    </a:lnTo>
                    <a:lnTo>
                      <a:pt x="1804" y="939"/>
                    </a:lnTo>
                    <a:lnTo>
                      <a:pt x="1811" y="942"/>
                    </a:lnTo>
                    <a:lnTo>
                      <a:pt x="1817" y="944"/>
                    </a:lnTo>
                    <a:lnTo>
                      <a:pt x="1823" y="946"/>
                    </a:lnTo>
                    <a:lnTo>
                      <a:pt x="1829" y="946"/>
                    </a:lnTo>
                    <a:lnTo>
                      <a:pt x="1829" y="946"/>
                    </a:lnTo>
                    <a:lnTo>
                      <a:pt x="2017" y="946"/>
                    </a:lnTo>
                    <a:lnTo>
                      <a:pt x="2024" y="946"/>
                    </a:lnTo>
                    <a:lnTo>
                      <a:pt x="2027" y="946"/>
                    </a:lnTo>
                    <a:lnTo>
                      <a:pt x="2031" y="944"/>
                    </a:lnTo>
                    <a:lnTo>
                      <a:pt x="2035" y="943"/>
                    </a:lnTo>
                    <a:lnTo>
                      <a:pt x="2037" y="942"/>
                    </a:lnTo>
                    <a:lnTo>
                      <a:pt x="2041" y="939"/>
                    </a:lnTo>
                    <a:lnTo>
                      <a:pt x="2045" y="937"/>
                    </a:lnTo>
                    <a:lnTo>
                      <a:pt x="2047" y="936"/>
                    </a:lnTo>
                    <a:lnTo>
                      <a:pt x="2049" y="933"/>
                    </a:lnTo>
                    <a:lnTo>
                      <a:pt x="2051" y="931"/>
                    </a:lnTo>
                    <a:lnTo>
                      <a:pt x="2054" y="928"/>
                    </a:lnTo>
                    <a:lnTo>
                      <a:pt x="2056" y="922"/>
                    </a:lnTo>
                    <a:lnTo>
                      <a:pt x="2059" y="914"/>
                    </a:lnTo>
                    <a:lnTo>
                      <a:pt x="2059" y="914"/>
                    </a:lnTo>
                    <a:lnTo>
                      <a:pt x="2099" y="914"/>
                    </a:lnTo>
                    <a:lnTo>
                      <a:pt x="2103" y="914"/>
                    </a:lnTo>
                    <a:lnTo>
                      <a:pt x="2108" y="914"/>
                    </a:lnTo>
                    <a:lnTo>
                      <a:pt x="2111" y="913"/>
                    </a:lnTo>
                    <a:lnTo>
                      <a:pt x="2115" y="912"/>
                    </a:lnTo>
                    <a:lnTo>
                      <a:pt x="2119" y="909"/>
                    </a:lnTo>
                    <a:lnTo>
                      <a:pt x="2121" y="908"/>
                    </a:lnTo>
                    <a:lnTo>
                      <a:pt x="2128" y="903"/>
                    </a:lnTo>
                    <a:lnTo>
                      <a:pt x="2133" y="896"/>
                    </a:lnTo>
                    <a:lnTo>
                      <a:pt x="2135" y="893"/>
                    </a:lnTo>
                    <a:lnTo>
                      <a:pt x="2136" y="889"/>
                    </a:lnTo>
                    <a:lnTo>
                      <a:pt x="2138" y="885"/>
                    </a:lnTo>
                    <a:lnTo>
                      <a:pt x="2139" y="881"/>
                    </a:lnTo>
                    <a:lnTo>
                      <a:pt x="2139" y="877"/>
                    </a:lnTo>
                    <a:lnTo>
                      <a:pt x="2140" y="874"/>
                    </a:lnTo>
                    <a:lnTo>
                      <a:pt x="2140" y="874"/>
                    </a:lnTo>
                    <a:lnTo>
                      <a:pt x="2139" y="869"/>
                    </a:lnTo>
                    <a:lnTo>
                      <a:pt x="2139" y="865"/>
                    </a:lnTo>
                    <a:lnTo>
                      <a:pt x="2138" y="861"/>
                    </a:lnTo>
                    <a:lnTo>
                      <a:pt x="2136" y="857"/>
                    </a:lnTo>
                    <a:lnTo>
                      <a:pt x="2135" y="853"/>
                    </a:lnTo>
                    <a:lnTo>
                      <a:pt x="2133" y="850"/>
                    </a:lnTo>
                    <a:lnTo>
                      <a:pt x="2128" y="845"/>
                    </a:lnTo>
                    <a:lnTo>
                      <a:pt x="2121" y="840"/>
                    </a:lnTo>
                    <a:lnTo>
                      <a:pt x="2119" y="837"/>
                    </a:lnTo>
                    <a:lnTo>
                      <a:pt x="2115" y="836"/>
                    </a:lnTo>
                    <a:lnTo>
                      <a:pt x="2111" y="835"/>
                    </a:lnTo>
                    <a:lnTo>
                      <a:pt x="2108" y="833"/>
                    </a:lnTo>
                    <a:lnTo>
                      <a:pt x="2103" y="832"/>
                    </a:lnTo>
                    <a:lnTo>
                      <a:pt x="2099" y="832"/>
                    </a:lnTo>
                    <a:lnTo>
                      <a:pt x="2099" y="832"/>
                    </a:lnTo>
                    <a:lnTo>
                      <a:pt x="2070" y="832"/>
                    </a:lnTo>
                    <a:lnTo>
                      <a:pt x="2069" y="830"/>
                    </a:lnTo>
                    <a:lnTo>
                      <a:pt x="2069" y="827"/>
                    </a:lnTo>
                    <a:lnTo>
                      <a:pt x="2068" y="824"/>
                    </a:lnTo>
                    <a:lnTo>
                      <a:pt x="2066" y="822"/>
                    </a:lnTo>
                    <a:lnTo>
                      <a:pt x="2064" y="818"/>
                    </a:lnTo>
                    <a:lnTo>
                      <a:pt x="2060" y="814"/>
                    </a:lnTo>
                    <a:lnTo>
                      <a:pt x="2058" y="811"/>
                    </a:lnTo>
                    <a:lnTo>
                      <a:pt x="2055" y="808"/>
                    </a:lnTo>
                    <a:lnTo>
                      <a:pt x="2053" y="806"/>
                    </a:lnTo>
                    <a:lnTo>
                      <a:pt x="2049" y="804"/>
                    </a:lnTo>
                    <a:lnTo>
                      <a:pt x="2045" y="802"/>
                    </a:lnTo>
                    <a:lnTo>
                      <a:pt x="2041" y="802"/>
                    </a:lnTo>
                    <a:lnTo>
                      <a:pt x="2037" y="800"/>
                    </a:lnTo>
                    <a:lnTo>
                      <a:pt x="2034" y="800"/>
                    </a:lnTo>
                    <a:lnTo>
                      <a:pt x="2034" y="800"/>
                    </a:lnTo>
                    <a:lnTo>
                      <a:pt x="1816" y="800"/>
                    </a:lnTo>
                    <a:lnTo>
                      <a:pt x="1812" y="800"/>
                    </a:lnTo>
                    <a:lnTo>
                      <a:pt x="1808" y="802"/>
                    </a:lnTo>
                    <a:lnTo>
                      <a:pt x="1804" y="802"/>
                    </a:lnTo>
                    <a:lnTo>
                      <a:pt x="1801" y="804"/>
                    </a:lnTo>
                    <a:lnTo>
                      <a:pt x="1797" y="806"/>
                    </a:lnTo>
                    <a:lnTo>
                      <a:pt x="1793" y="808"/>
                    </a:lnTo>
                    <a:lnTo>
                      <a:pt x="1791" y="811"/>
                    </a:lnTo>
                    <a:lnTo>
                      <a:pt x="1787" y="814"/>
                    </a:lnTo>
                    <a:lnTo>
                      <a:pt x="1783" y="818"/>
                    </a:lnTo>
                    <a:lnTo>
                      <a:pt x="1782" y="822"/>
                    </a:lnTo>
                    <a:lnTo>
                      <a:pt x="1781" y="827"/>
                    </a:lnTo>
                    <a:lnTo>
                      <a:pt x="1779" y="832"/>
                    </a:lnTo>
                    <a:lnTo>
                      <a:pt x="1779" y="832"/>
                    </a:lnTo>
                    <a:close/>
                    <a:moveTo>
                      <a:pt x="2237" y="934"/>
                    </a:moveTo>
                    <a:lnTo>
                      <a:pt x="2651" y="934"/>
                    </a:lnTo>
                    <a:lnTo>
                      <a:pt x="2653" y="934"/>
                    </a:lnTo>
                    <a:lnTo>
                      <a:pt x="2655" y="934"/>
                    </a:lnTo>
                    <a:lnTo>
                      <a:pt x="2656" y="933"/>
                    </a:lnTo>
                    <a:lnTo>
                      <a:pt x="2658" y="932"/>
                    </a:lnTo>
                    <a:lnTo>
                      <a:pt x="2659" y="931"/>
                    </a:lnTo>
                    <a:lnTo>
                      <a:pt x="2660" y="929"/>
                    </a:lnTo>
                    <a:lnTo>
                      <a:pt x="2660" y="928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818"/>
                    </a:lnTo>
                    <a:lnTo>
                      <a:pt x="2660" y="817"/>
                    </a:lnTo>
                    <a:lnTo>
                      <a:pt x="2660" y="816"/>
                    </a:lnTo>
                    <a:lnTo>
                      <a:pt x="2659" y="813"/>
                    </a:lnTo>
                    <a:lnTo>
                      <a:pt x="2658" y="812"/>
                    </a:lnTo>
                    <a:lnTo>
                      <a:pt x="2656" y="811"/>
                    </a:lnTo>
                    <a:lnTo>
                      <a:pt x="2655" y="811"/>
                    </a:lnTo>
                    <a:lnTo>
                      <a:pt x="2653" y="809"/>
                    </a:lnTo>
                    <a:lnTo>
                      <a:pt x="2651" y="809"/>
                    </a:lnTo>
                    <a:lnTo>
                      <a:pt x="2651" y="809"/>
                    </a:lnTo>
                    <a:lnTo>
                      <a:pt x="2237" y="809"/>
                    </a:lnTo>
                    <a:lnTo>
                      <a:pt x="2235" y="809"/>
                    </a:lnTo>
                    <a:lnTo>
                      <a:pt x="2234" y="811"/>
                    </a:lnTo>
                    <a:lnTo>
                      <a:pt x="2232" y="811"/>
                    </a:lnTo>
                    <a:lnTo>
                      <a:pt x="2230" y="812"/>
                    </a:lnTo>
                    <a:lnTo>
                      <a:pt x="2229" y="813"/>
                    </a:lnTo>
                    <a:lnTo>
                      <a:pt x="2229" y="816"/>
                    </a:lnTo>
                    <a:lnTo>
                      <a:pt x="2228" y="817"/>
                    </a:lnTo>
                    <a:lnTo>
                      <a:pt x="2228" y="818"/>
                    </a:lnTo>
                    <a:lnTo>
                      <a:pt x="2228" y="818"/>
                    </a:lnTo>
                    <a:lnTo>
                      <a:pt x="2228" y="925"/>
                    </a:lnTo>
                    <a:lnTo>
                      <a:pt x="2228" y="928"/>
                    </a:lnTo>
                    <a:lnTo>
                      <a:pt x="2229" y="929"/>
                    </a:lnTo>
                    <a:lnTo>
                      <a:pt x="2229" y="931"/>
                    </a:lnTo>
                    <a:lnTo>
                      <a:pt x="2230" y="932"/>
                    </a:lnTo>
                    <a:lnTo>
                      <a:pt x="2232" y="933"/>
                    </a:lnTo>
                    <a:lnTo>
                      <a:pt x="2234" y="934"/>
                    </a:lnTo>
                    <a:lnTo>
                      <a:pt x="2235" y="934"/>
                    </a:lnTo>
                    <a:lnTo>
                      <a:pt x="2237" y="934"/>
                    </a:lnTo>
                    <a:lnTo>
                      <a:pt x="2237" y="934"/>
                    </a:lnTo>
                    <a:close/>
                    <a:moveTo>
                      <a:pt x="2772" y="837"/>
                    </a:moveTo>
                    <a:lnTo>
                      <a:pt x="2742" y="837"/>
                    </a:lnTo>
                    <a:lnTo>
                      <a:pt x="2738" y="837"/>
                    </a:lnTo>
                    <a:lnTo>
                      <a:pt x="2734" y="837"/>
                    </a:lnTo>
                    <a:lnTo>
                      <a:pt x="2729" y="838"/>
                    </a:lnTo>
                    <a:lnTo>
                      <a:pt x="2725" y="840"/>
                    </a:lnTo>
                    <a:lnTo>
                      <a:pt x="2723" y="842"/>
                    </a:lnTo>
                    <a:lnTo>
                      <a:pt x="2719" y="843"/>
                    </a:lnTo>
                    <a:lnTo>
                      <a:pt x="2713" y="848"/>
                    </a:lnTo>
                    <a:lnTo>
                      <a:pt x="2708" y="855"/>
                    </a:lnTo>
                    <a:lnTo>
                      <a:pt x="2707" y="859"/>
                    </a:lnTo>
                    <a:lnTo>
                      <a:pt x="2704" y="862"/>
                    </a:lnTo>
                    <a:lnTo>
                      <a:pt x="2703" y="866"/>
                    </a:lnTo>
                    <a:lnTo>
                      <a:pt x="2702" y="870"/>
                    </a:lnTo>
                    <a:lnTo>
                      <a:pt x="2702" y="874"/>
                    </a:lnTo>
                    <a:lnTo>
                      <a:pt x="2702" y="877"/>
                    </a:lnTo>
                    <a:lnTo>
                      <a:pt x="2702" y="881"/>
                    </a:lnTo>
                    <a:lnTo>
                      <a:pt x="2702" y="885"/>
                    </a:lnTo>
                    <a:lnTo>
                      <a:pt x="2703" y="889"/>
                    </a:lnTo>
                    <a:lnTo>
                      <a:pt x="2704" y="893"/>
                    </a:lnTo>
                    <a:lnTo>
                      <a:pt x="2707" y="896"/>
                    </a:lnTo>
                    <a:lnTo>
                      <a:pt x="2708" y="899"/>
                    </a:lnTo>
                    <a:lnTo>
                      <a:pt x="2713" y="905"/>
                    </a:lnTo>
                    <a:lnTo>
                      <a:pt x="2719" y="910"/>
                    </a:lnTo>
                    <a:lnTo>
                      <a:pt x="2723" y="912"/>
                    </a:lnTo>
                    <a:lnTo>
                      <a:pt x="2725" y="913"/>
                    </a:lnTo>
                    <a:lnTo>
                      <a:pt x="2729" y="915"/>
                    </a:lnTo>
                    <a:lnTo>
                      <a:pt x="2734" y="915"/>
                    </a:lnTo>
                    <a:lnTo>
                      <a:pt x="2738" y="917"/>
                    </a:lnTo>
                    <a:lnTo>
                      <a:pt x="2742" y="917"/>
                    </a:lnTo>
                    <a:lnTo>
                      <a:pt x="2742" y="917"/>
                    </a:lnTo>
                    <a:lnTo>
                      <a:pt x="2783" y="917"/>
                    </a:lnTo>
                    <a:lnTo>
                      <a:pt x="2783" y="922"/>
                    </a:lnTo>
                    <a:lnTo>
                      <a:pt x="2784" y="928"/>
                    </a:lnTo>
                    <a:lnTo>
                      <a:pt x="2788" y="933"/>
                    </a:lnTo>
                    <a:lnTo>
                      <a:pt x="2792" y="938"/>
                    </a:lnTo>
                    <a:lnTo>
                      <a:pt x="2797" y="942"/>
                    </a:lnTo>
                    <a:lnTo>
                      <a:pt x="2799" y="944"/>
                    </a:lnTo>
                    <a:lnTo>
                      <a:pt x="2803" y="946"/>
                    </a:lnTo>
                    <a:lnTo>
                      <a:pt x="2806" y="948"/>
                    </a:lnTo>
                    <a:lnTo>
                      <a:pt x="2808" y="948"/>
                    </a:lnTo>
                    <a:lnTo>
                      <a:pt x="2812" y="949"/>
                    </a:lnTo>
                    <a:lnTo>
                      <a:pt x="2814" y="951"/>
                    </a:lnTo>
                    <a:lnTo>
                      <a:pt x="2821" y="951"/>
                    </a:lnTo>
                    <a:lnTo>
                      <a:pt x="2821" y="951"/>
                    </a:lnTo>
                    <a:lnTo>
                      <a:pt x="3009" y="951"/>
                    </a:lnTo>
                    <a:lnTo>
                      <a:pt x="3014" y="951"/>
                    </a:lnTo>
                    <a:lnTo>
                      <a:pt x="3017" y="949"/>
                    </a:lnTo>
                    <a:lnTo>
                      <a:pt x="3021" y="949"/>
                    </a:lnTo>
                    <a:lnTo>
                      <a:pt x="3025" y="948"/>
                    </a:lnTo>
                    <a:lnTo>
                      <a:pt x="3031" y="944"/>
                    </a:lnTo>
                    <a:lnTo>
                      <a:pt x="3036" y="942"/>
                    </a:lnTo>
                    <a:lnTo>
                      <a:pt x="3041" y="936"/>
                    </a:lnTo>
                    <a:lnTo>
                      <a:pt x="3044" y="933"/>
                    </a:lnTo>
                    <a:lnTo>
                      <a:pt x="3046" y="931"/>
                    </a:lnTo>
                    <a:lnTo>
                      <a:pt x="3047" y="927"/>
                    </a:lnTo>
                    <a:lnTo>
                      <a:pt x="3049" y="923"/>
                    </a:lnTo>
                    <a:lnTo>
                      <a:pt x="3050" y="920"/>
                    </a:lnTo>
                    <a:lnTo>
                      <a:pt x="3050" y="917"/>
                    </a:lnTo>
                    <a:lnTo>
                      <a:pt x="3050" y="917"/>
                    </a:lnTo>
                    <a:lnTo>
                      <a:pt x="3092" y="917"/>
                    </a:lnTo>
                    <a:lnTo>
                      <a:pt x="3097" y="917"/>
                    </a:lnTo>
                    <a:lnTo>
                      <a:pt x="3101" y="915"/>
                    </a:lnTo>
                    <a:lnTo>
                      <a:pt x="3105" y="915"/>
                    </a:lnTo>
                    <a:lnTo>
                      <a:pt x="3109" y="913"/>
                    </a:lnTo>
                    <a:lnTo>
                      <a:pt x="3113" y="912"/>
                    </a:lnTo>
                    <a:lnTo>
                      <a:pt x="3115" y="910"/>
                    </a:lnTo>
                    <a:lnTo>
                      <a:pt x="3121" y="905"/>
                    </a:lnTo>
                    <a:lnTo>
                      <a:pt x="3126" y="899"/>
                    </a:lnTo>
                    <a:lnTo>
                      <a:pt x="3129" y="896"/>
                    </a:lnTo>
                    <a:lnTo>
                      <a:pt x="3130" y="893"/>
                    </a:lnTo>
                    <a:lnTo>
                      <a:pt x="3131" y="889"/>
                    </a:lnTo>
                    <a:lnTo>
                      <a:pt x="3133" y="885"/>
                    </a:lnTo>
                    <a:lnTo>
                      <a:pt x="3134" y="881"/>
                    </a:lnTo>
                    <a:lnTo>
                      <a:pt x="3134" y="877"/>
                    </a:lnTo>
                    <a:lnTo>
                      <a:pt x="3134" y="877"/>
                    </a:lnTo>
                    <a:lnTo>
                      <a:pt x="3134" y="874"/>
                    </a:lnTo>
                    <a:lnTo>
                      <a:pt x="3133" y="870"/>
                    </a:lnTo>
                    <a:lnTo>
                      <a:pt x="3131" y="866"/>
                    </a:lnTo>
                    <a:lnTo>
                      <a:pt x="3130" y="862"/>
                    </a:lnTo>
                    <a:lnTo>
                      <a:pt x="3129" y="859"/>
                    </a:lnTo>
                    <a:lnTo>
                      <a:pt x="3126" y="855"/>
                    </a:lnTo>
                    <a:lnTo>
                      <a:pt x="3121" y="848"/>
                    </a:lnTo>
                    <a:lnTo>
                      <a:pt x="3115" y="843"/>
                    </a:lnTo>
                    <a:lnTo>
                      <a:pt x="3113" y="842"/>
                    </a:lnTo>
                    <a:lnTo>
                      <a:pt x="3109" y="840"/>
                    </a:lnTo>
                    <a:lnTo>
                      <a:pt x="3105" y="838"/>
                    </a:lnTo>
                    <a:lnTo>
                      <a:pt x="3101" y="837"/>
                    </a:lnTo>
                    <a:lnTo>
                      <a:pt x="3097" y="837"/>
                    </a:lnTo>
                    <a:lnTo>
                      <a:pt x="3092" y="837"/>
                    </a:lnTo>
                    <a:lnTo>
                      <a:pt x="3092" y="837"/>
                    </a:lnTo>
                    <a:lnTo>
                      <a:pt x="3061" y="837"/>
                    </a:lnTo>
                    <a:lnTo>
                      <a:pt x="3061" y="832"/>
                    </a:lnTo>
                    <a:lnTo>
                      <a:pt x="3060" y="827"/>
                    </a:lnTo>
                    <a:lnTo>
                      <a:pt x="3057" y="822"/>
                    </a:lnTo>
                    <a:lnTo>
                      <a:pt x="3055" y="817"/>
                    </a:lnTo>
                    <a:lnTo>
                      <a:pt x="3051" y="814"/>
                    </a:lnTo>
                    <a:lnTo>
                      <a:pt x="3049" y="812"/>
                    </a:lnTo>
                    <a:lnTo>
                      <a:pt x="3045" y="809"/>
                    </a:lnTo>
                    <a:lnTo>
                      <a:pt x="3041" y="807"/>
                    </a:lnTo>
                    <a:lnTo>
                      <a:pt x="3037" y="806"/>
                    </a:lnTo>
                    <a:lnTo>
                      <a:pt x="3034" y="804"/>
                    </a:lnTo>
                    <a:lnTo>
                      <a:pt x="3029" y="803"/>
                    </a:lnTo>
                    <a:lnTo>
                      <a:pt x="3025" y="803"/>
                    </a:lnTo>
                    <a:lnTo>
                      <a:pt x="3025" y="803"/>
                    </a:lnTo>
                    <a:lnTo>
                      <a:pt x="2809" y="803"/>
                    </a:lnTo>
                    <a:lnTo>
                      <a:pt x="2806" y="803"/>
                    </a:lnTo>
                    <a:lnTo>
                      <a:pt x="2802" y="804"/>
                    </a:lnTo>
                    <a:lnTo>
                      <a:pt x="2797" y="806"/>
                    </a:lnTo>
                    <a:lnTo>
                      <a:pt x="2793" y="807"/>
                    </a:lnTo>
                    <a:lnTo>
                      <a:pt x="2789" y="809"/>
                    </a:lnTo>
                    <a:lnTo>
                      <a:pt x="2787" y="812"/>
                    </a:lnTo>
                    <a:lnTo>
                      <a:pt x="2783" y="814"/>
                    </a:lnTo>
                    <a:lnTo>
                      <a:pt x="2780" y="817"/>
                    </a:lnTo>
                    <a:lnTo>
                      <a:pt x="2778" y="822"/>
                    </a:lnTo>
                    <a:lnTo>
                      <a:pt x="2775" y="827"/>
                    </a:lnTo>
                    <a:lnTo>
                      <a:pt x="2773" y="832"/>
                    </a:lnTo>
                    <a:lnTo>
                      <a:pt x="2772" y="837"/>
                    </a:lnTo>
                    <a:lnTo>
                      <a:pt x="2772" y="837"/>
                    </a:lnTo>
                    <a:close/>
                    <a:moveTo>
                      <a:pt x="3384" y="775"/>
                    </a:moveTo>
                    <a:lnTo>
                      <a:pt x="3176" y="775"/>
                    </a:lnTo>
                    <a:lnTo>
                      <a:pt x="3176" y="942"/>
                    </a:lnTo>
                    <a:lnTo>
                      <a:pt x="3384" y="942"/>
                    </a:lnTo>
                    <a:lnTo>
                      <a:pt x="3384" y="775"/>
                    </a:lnTo>
                    <a:lnTo>
                      <a:pt x="3384" y="775"/>
                    </a:lnTo>
                    <a:close/>
                    <a:moveTo>
                      <a:pt x="3000" y="0"/>
                    </a:moveTo>
                    <a:lnTo>
                      <a:pt x="2918" y="0"/>
                    </a:lnTo>
                    <a:lnTo>
                      <a:pt x="2915" y="1"/>
                    </a:lnTo>
                    <a:lnTo>
                      <a:pt x="2911" y="3"/>
                    </a:lnTo>
                    <a:lnTo>
                      <a:pt x="2908" y="4"/>
                    </a:lnTo>
                    <a:lnTo>
                      <a:pt x="2906" y="6"/>
                    </a:lnTo>
                    <a:lnTo>
                      <a:pt x="2903" y="10"/>
                    </a:lnTo>
                    <a:lnTo>
                      <a:pt x="2902" y="13"/>
                    </a:lnTo>
                    <a:lnTo>
                      <a:pt x="2901" y="16"/>
                    </a:lnTo>
                    <a:lnTo>
                      <a:pt x="2901" y="21"/>
                    </a:lnTo>
                    <a:lnTo>
                      <a:pt x="2901" y="21"/>
                    </a:lnTo>
                    <a:lnTo>
                      <a:pt x="2901" y="93"/>
                    </a:lnTo>
                    <a:lnTo>
                      <a:pt x="2901" y="97"/>
                    </a:lnTo>
                    <a:lnTo>
                      <a:pt x="2902" y="101"/>
                    </a:lnTo>
                    <a:lnTo>
                      <a:pt x="2903" y="104"/>
                    </a:lnTo>
                    <a:lnTo>
                      <a:pt x="2906" y="106"/>
                    </a:lnTo>
                    <a:lnTo>
                      <a:pt x="2908" y="109"/>
                    </a:lnTo>
                    <a:lnTo>
                      <a:pt x="2911" y="111"/>
                    </a:lnTo>
                    <a:lnTo>
                      <a:pt x="2915" y="111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3000" y="112"/>
                    </a:lnTo>
                    <a:lnTo>
                      <a:pt x="3000" y="0"/>
                    </a:lnTo>
                    <a:lnTo>
                      <a:pt x="3000" y="0"/>
                    </a:lnTo>
                    <a:close/>
                    <a:moveTo>
                      <a:pt x="3000" y="580"/>
                    </a:moveTo>
                    <a:lnTo>
                      <a:pt x="2918" y="580"/>
                    </a:lnTo>
                    <a:lnTo>
                      <a:pt x="2915" y="580"/>
                    </a:lnTo>
                    <a:lnTo>
                      <a:pt x="2911" y="581"/>
                    </a:lnTo>
                    <a:lnTo>
                      <a:pt x="2908" y="583"/>
                    </a:lnTo>
                    <a:lnTo>
                      <a:pt x="2906" y="585"/>
                    </a:lnTo>
                    <a:lnTo>
                      <a:pt x="2903" y="588"/>
                    </a:lnTo>
                    <a:lnTo>
                      <a:pt x="2902" y="591"/>
                    </a:lnTo>
                    <a:lnTo>
                      <a:pt x="2901" y="595"/>
                    </a:lnTo>
                    <a:lnTo>
                      <a:pt x="2901" y="597"/>
                    </a:lnTo>
                    <a:lnTo>
                      <a:pt x="2901" y="597"/>
                    </a:lnTo>
                    <a:lnTo>
                      <a:pt x="2901" y="670"/>
                    </a:lnTo>
                    <a:lnTo>
                      <a:pt x="2901" y="674"/>
                    </a:lnTo>
                    <a:lnTo>
                      <a:pt x="2902" y="678"/>
                    </a:lnTo>
                    <a:lnTo>
                      <a:pt x="2903" y="682"/>
                    </a:lnTo>
                    <a:lnTo>
                      <a:pt x="2906" y="686"/>
                    </a:lnTo>
                    <a:lnTo>
                      <a:pt x="2908" y="688"/>
                    </a:lnTo>
                    <a:lnTo>
                      <a:pt x="2911" y="689"/>
                    </a:lnTo>
                    <a:lnTo>
                      <a:pt x="2915" y="691"/>
                    </a:lnTo>
                    <a:lnTo>
                      <a:pt x="2918" y="691"/>
                    </a:lnTo>
                    <a:lnTo>
                      <a:pt x="2918" y="691"/>
                    </a:lnTo>
                    <a:lnTo>
                      <a:pt x="3000" y="691"/>
                    </a:lnTo>
                    <a:lnTo>
                      <a:pt x="3000" y="580"/>
                    </a:lnTo>
                    <a:lnTo>
                      <a:pt x="3000" y="580"/>
                    </a:lnTo>
                    <a:close/>
                    <a:moveTo>
                      <a:pt x="0" y="880"/>
                    </a:moveTo>
                    <a:lnTo>
                      <a:pt x="0" y="925"/>
                    </a:lnTo>
                    <a:lnTo>
                      <a:pt x="125" y="925"/>
                    </a:lnTo>
                    <a:lnTo>
                      <a:pt x="125" y="880"/>
                    </a:lnTo>
                    <a:lnTo>
                      <a:pt x="0" y="880"/>
                    </a:lnTo>
                    <a:lnTo>
                      <a:pt x="0" y="880"/>
                    </a:lnTo>
                    <a:close/>
                    <a:moveTo>
                      <a:pt x="822" y="880"/>
                    </a:moveTo>
                    <a:lnTo>
                      <a:pt x="822" y="925"/>
                    </a:lnTo>
                    <a:lnTo>
                      <a:pt x="945" y="925"/>
                    </a:lnTo>
                    <a:lnTo>
                      <a:pt x="945" y="880"/>
                    </a:lnTo>
                    <a:lnTo>
                      <a:pt x="822" y="880"/>
                    </a:lnTo>
                    <a:lnTo>
                      <a:pt x="822" y="88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9" name=""/>
              <p:cNvSpPr/>
              <p:nvPr/>
            </p:nvSpPr>
            <p:spPr>
              <a:xfrm>
                <a:off x="4826520" y="5028480"/>
                <a:ext cx="106200" cy="8820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78"/>
                    </a:moveTo>
                    <a:lnTo>
                      <a:pt x="157" y="69"/>
                    </a:lnTo>
                    <a:lnTo>
                      <a:pt x="155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8" y="40"/>
                    </a:lnTo>
                    <a:lnTo>
                      <a:pt x="144" y="34"/>
                    </a:lnTo>
                    <a:lnTo>
                      <a:pt x="139" y="28"/>
                    </a:lnTo>
                    <a:lnTo>
                      <a:pt x="134" y="23"/>
                    </a:lnTo>
                    <a:lnTo>
                      <a:pt x="129" y="18"/>
                    </a:lnTo>
                    <a:lnTo>
                      <a:pt x="123" y="14"/>
                    </a:lnTo>
                    <a:lnTo>
                      <a:pt x="117" y="10"/>
                    </a:lnTo>
                    <a:lnTo>
                      <a:pt x="110" y="6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1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24" y="23"/>
                    </a:lnTo>
                    <a:lnTo>
                      <a:pt x="19" y="28"/>
                    </a:lnTo>
                    <a:lnTo>
                      <a:pt x="14" y="34"/>
                    </a:lnTo>
                    <a:lnTo>
                      <a:pt x="10" y="40"/>
                    </a:lnTo>
                    <a:lnTo>
                      <a:pt x="8" y="48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1" y="69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2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9" y="129"/>
                    </a:lnTo>
                    <a:lnTo>
                      <a:pt x="24" y="134"/>
                    </a:lnTo>
                    <a:lnTo>
                      <a:pt x="30" y="139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9" y="152"/>
                    </a:lnTo>
                    <a:lnTo>
                      <a:pt x="56" y="154"/>
                    </a:lnTo>
                    <a:lnTo>
                      <a:pt x="64" y="157"/>
                    </a:lnTo>
                    <a:lnTo>
                      <a:pt x="71" y="158"/>
                    </a:lnTo>
                    <a:lnTo>
                      <a:pt x="80" y="158"/>
                    </a:lnTo>
                    <a:lnTo>
                      <a:pt x="88" y="158"/>
                    </a:lnTo>
                    <a:lnTo>
                      <a:pt x="95" y="157"/>
                    </a:lnTo>
                    <a:lnTo>
                      <a:pt x="103" y="154"/>
                    </a:lnTo>
                    <a:lnTo>
                      <a:pt x="110" y="152"/>
                    </a:lnTo>
                    <a:lnTo>
                      <a:pt x="117" y="148"/>
                    </a:lnTo>
                    <a:lnTo>
                      <a:pt x="123" y="144"/>
                    </a:lnTo>
                    <a:lnTo>
                      <a:pt x="129" y="139"/>
                    </a:lnTo>
                    <a:lnTo>
                      <a:pt x="134" y="134"/>
                    </a:lnTo>
                    <a:lnTo>
                      <a:pt x="139" y="129"/>
                    </a:lnTo>
                    <a:lnTo>
                      <a:pt x="144" y="123"/>
                    </a:lnTo>
                    <a:lnTo>
                      <a:pt x="148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5" y="93"/>
                    </a:lnTo>
                    <a:lnTo>
                      <a:pt x="157" y="86"/>
                    </a:lnTo>
                    <a:lnTo>
                      <a:pt x="157" y="78"/>
                    </a:lnTo>
                    <a:lnTo>
                      <a:pt x="157" y="78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0" name=""/>
              <p:cNvSpPr/>
              <p:nvPr/>
            </p:nvSpPr>
            <p:spPr>
              <a:xfrm>
                <a:off x="5001120" y="5028480"/>
                <a:ext cx="106200" cy="88200"/>
              </a:xfrm>
              <a:custGeom>
                <a:avLst/>
                <a:gdLst/>
                <a:ahLst/>
                <a:rect l="l" t="t" r="r" b="b"/>
                <a:pathLst>
                  <a:path w="155" h="158">
                    <a:moveTo>
                      <a:pt x="155" y="78"/>
                    </a:moveTo>
                    <a:lnTo>
                      <a:pt x="155" y="69"/>
                    </a:lnTo>
                    <a:lnTo>
                      <a:pt x="154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6" y="40"/>
                    </a:lnTo>
                    <a:lnTo>
                      <a:pt x="143" y="34"/>
                    </a:lnTo>
                    <a:lnTo>
                      <a:pt x="138" y="28"/>
                    </a:lnTo>
                    <a:lnTo>
                      <a:pt x="133" y="23"/>
                    </a:lnTo>
                    <a:lnTo>
                      <a:pt x="128" y="18"/>
                    </a:lnTo>
                    <a:lnTo>
                      <a:pt x="121" y="14"/>
                    </a:lnTo>
                    <a:lnTo>
                      <a:pt x="115" y="10"/>
                    </a:lnTo>
                    <a:lnTo>
                      <a:pt x="109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6" y="1"/>
                    </a:lnTo>
                    <a:lnTo>
                      <a:pt x="79" y="0"/>
                    </a:lnTo>
                    <a:lnTo>
                      <a:pt x="70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7" y="6"/>
                    </a:lnTo>
                    <a:lnTo>
                      <a:pt x="41" y="10"/>
                    </a:lnTo>
                    <a:lnTo>
                      <a:pt x="35" y="14"/>
                    </a:lnTo>
                    <a:lnTo>
                      <a:pt x="29" y="18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4" y="34"/>
                    </a:lnTo>
                    <a:lnTo>
                      <a:pt x="9" y="40"/>
                    </a:lnTo>
                    <a:lnTo>
                      <a:pt x="6" y="48"/>
                    </a:lnTo>
                    <a:lnTo>
                      <a:pt x="2" y="54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" y="93"/>
                    </a:lnTo>
                    <a:lnTo>
                      <a:pt x="2" y="101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4" y="123"/>
                    </a:lnTo>
                    <a:lnTo>
                      <a:pt x="17" y="129"/>
                    </a:lnTo>
                    <a:lnTo>
                      <a:pt x="22" y="134"/>
                    </a:lnTo>
                    <a:lnTo>
                      <a:pt x="29" y="139"/>
                    </a:lnTo>
                    <a:lnTo>
                      <a:pt x="35" y="144"/>
                    </a:lnTo>
                    <a:lnTo>
                      <a:pt x="41" y="148"/>
                    </a:lnTo>
                    <a:lnTo>
                      <a:pt x="47" y="152"/>
                    </a:lnTo>
                    <a:lnTo>
                      <a:pt x="55" y="154"/>
                    </a:lnTo>
                    <a:lnTo>
                      <a:pt x="62" y="157"/>
                    </a:lnTo>
                    <a:lnTo>
                      <a:pt x="70" y="158"/>
                    </a:lnTo>
                    <a:lnTo>
                      <a:pt x="79" y="158"/>
                    </a:lnTo>
                    <a:lnTo>
                      <a:pt x="86" y="158"/>
                    </a:lnTo>
                    <a:lnTo>
                      <a:pt x="94" y="157"/>
                    </a:lnTo>
                    <a:lnTo>
                      <a:pt x="101" y="154"/>
                    </a:lnTo>
                    <a:lnTo>
                      <a:pt x="109" y="152"/>
                    </a:lnTo>
                    <a:lnTo>
                      <a:pt x="115" y="148"/>
                    </a:lnTo>
                    <a:lnTo>
                      <a:pt x="121" y="144"/>
                    </a:lnTo>
                    <a:lnTo>
                      <a:pt x="128" y="139"/>
                    </a:lnTo>
                    <a:lnTo>
                      <a:pt x="133" y="134"/>
                    </a:lnTo>
                    <a:lnTo>
                      <a:pt x="138" y="129"/>
                    </a:lnTo>
                    <a:lnTo>
                      <a:pt x="143" y="123"/>
                    </a:lnTo>
                    <a:lnTo>
                      <a:pt x="146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4" y="93"/>
                    </a:lnTo>
                    <a:lnTo>
                      <a:pt x="155" y="86"/>
                    </a:lnTo>
                    <a:lnTo>
                      <a:pt x="155" y="78"/>
                    </a:lnTo>
                    <a:lnTo>
                      <a:pt x="155" y="78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1" name=""/>
              <p:cNvSpPr/>
              <p:nvPr/>
            </p:nvSpPr>
            <p:spPr>
              <a:xfrm>
                <a:off x="5177880" y="5037840"/>
                <a:ext cx="293760" cy="80640"/>
              </a:xfrm>
              <a:custGeom>
                <a:avLst/>
                <a:gdLst/>
                <a:ahLst/>
                <a:rect l="l" t="t" r="r" b="b"/>
                <a:pathLst>
                  <a:path w="431" h="146">
                    <a:moveTo>
                      <a:pt x="70" y="32"/>
                    </a:moveTo>
                    <a:lnTo>
                      <a:pt x="42" y="32"/>
                    </a:lnTo>
                    <a:lnTo>
                      <a:pt x="38" y="32"/>
                    </a:lnTo>
                    <a:lnTo>
                      <a:pt x="33" y="33"/>
                    </a:lnTo>
                    <a:lnTo>
                      <a:pt x="29" y="35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3" y="45"/>
                    </a:lnTo>
                    <a:lnTo>
                      <a:pt x="8" y="50"/>
                    </a:lnTo>
                    <a:lnTo>
                      <a:pt x="5" y="53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9"/>
                    </a:lnTo>
                    <a:lnTo>
                      <a:pt x="5" y="93"/>
                    </a:lnTo>
                    <a:lnTo>
                      <a:pt x="8" y="96"/>
                    </a:lnTo>
                    <a:lnTo>
                      <a:pt x="13" y="103"/>
                    </a:lnTo>
                    <a:lnTo>
                      <a:pt x="19" y="108"/>
                    </a:lnTo>
                    <a:lnTo>
                      <a:pt x="22" y="109"/>
                    </a:lnTo>
                    <a:lnTo>
                      <a:pt x="25" y="112"/>
                    </a:lnTo>
                    <a:lnTo>
                      <a:pt x="29" y="113"/>
                    </a:lnTo>
                    <a:lnTo>
                      <a:pt x="33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82" y="114"/>
                    </a:lnTo>
                    <a:lnTo>
                      <a:pt x="82" y="119"/>
                    </a:lnTo>
                    <a:lnTo>
                      <a:pt x="84" y="125"/>
                    </a:lnTo>
                    <a:lnTo>
                      <a:pt x="87" y="131"/>
                    </a:lnTo>
                    <a:lnTo>
                      <a:pt x="92" y="136"/>
                    </a:lnTo>
                    <a:lnTo>
                      <a:pt x="95" y="139"/>
                    </a:lnTo>
                    <a:lnTo>
                      <a:pt x="102" y="142"/>
                    </a:lnTo>
                    <a:lnTo>
                      <a:pt x="108" y="144"/>
                    </a:lnTo>
                    <a:lnTo>
                      <a:pt x="114" y="146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308" y="146"/>
                    </a:lnTo>
                    <a:lnTo>
                      <a:pt x="315" y="146"/>
                    </a:lnTo>
                    <a:lnTo>
                      <a:pt x="318" y="146"/>
                    </a:lnTo>
                    <a:lnTo>
                      <a:pt x="322" y="144"/>
                    </a:lnTo>
                    <a:lnTo>
                      <a:pt x="326" y="143"/>
                    </a:lnTo>
                    <a:lnTo>
                      <a:pt x="328" y="142"/>
                    </a:lnTo>
                    <a:lnTo>
                      <a:pt x="332" y="139"/>
                    </a:lnTo>
                    <a:lnTo>
                      <a:pt x="336" y="137"/>
                    </a:lnTo>
                    <a:lnTo>
                      <a:pt x="338" y="136"/>
                    </a:lnTo>
                    <a:lnTo>
                      <a:pt x="340" y="133"/>
                    </a:lnTo>
                    <a:lnTo>
                      <a:pt x="342" y="131"/>
                    </a:lnTo>
                    <a:lnTo>
                      <a:pt x="345" y="128"/>
                    </a:lnTo>
                    <a:lnTo>
                      <a:pt x="347" y="122"/>
                    </a:lnTo>
                    <a:lnTo>
                      <a:pt x="350" y="114"/>
                    </a:lnTo>
                    <a:lnTo>
                      <a:pt x="350" y="114"/>
                    </a:lnTo>
                    <a:lnTo>
                      <a:pt x="390" y="114"/>
                    </a:lnTo>
                    <a:lnTo>
                      <a:pt x="394" y="114"/>
                    </a:lnTo>
                    <a:lnTo>
                      <a:pt x="399" y="114"/>
                    </a:lnTo>
                    <a:lnTo>
                      <a:pt x="402" y="113"/>
                    </a:lnTo>
                    <a:lnTo>
                      <a:pt x="406" y="112"/>
                    </a:lnTo>
                    <a:lnTo>
                      <a:pt x="410" y="109"/>
                    </a:lnTo>
                    <a:lnTo>
                      <a:pt x="412" y="108"/>
                    </a:lnTo>
                    <a:lnTo>
                      <a:pt x="419" y="103"/>
                    </a:lnTo>
                    <a:lnTo>
                      <a:pt x="424" y="96"/>
                    </a:lnTo>
                    <a:lnTo>
                      <a:pt x="426" y="93"/>
                    </a:lnTo>
                    <a:lnTo>
                      <a:pt x="427" y="89"/>
                    </a:lnTo>
                    <a:lnTo>
                      <a:pt x="429" y="85"/>
                    </a:lnTo>
                    <a:lnTo>
                      <a:pt x="430" y="81"/>
                    </a:lnTo>
                    <a:lnTo>
                      <a:pt x="430" y="77"/>
                    </a:lnTo>
                    <a:lnTo>
                      <a:pt x="431" y="74"/>
                    </a:lnTo>
                    <a:lnTo>
                      <a:pt x="431" y="74"/>
                    </a:lnTo>
                    <a:lnTo>
                      <a:pt x="430" y="69"/>
                    </a:lnTo>
                    <a:lnTo>
                      <a:pt x="430" y="65"/>
                    </a:lnTo>
                    <a:lnTo>
                      <a:pt x="429" y="61"/>
                    </a:lnTo>
                    <a:lnTo>
                      <a:pt x="427" y="57"/>
                    </a:lnTo>
                    <a:lnTo>
                      <a:pt x="426" y="53"/>
                    </a:lnTo>
                    <a:lnTo>
                      <a:pt x="424" y="50"/>
                    </a:lnTo>
                    <a:lnTo>
                      <a:pt x="419" y="45"/>
                    </a:lnTo>
                    <a:lnTo>
                      <a:pt x="412" y="40"/>
                    </a:lnTo>
                    <a:lnTo>
                      <a:pt x="410" y="37"/>
                    </a:lnTo>
                    <a:lnTo>
                      <a:pt x="406" y="36"/>
                    </a:lnTo>
                    <a:lnTo>
                      <a:pt x="402" y="35"/>
                    </a:lnTo>
                    <a:lnTo>
                      <a:pt x="399" y="33"/>
                    </a:lnTo>
                    <a:lnTo>
                      <a:pt x="394" y="32"/>
                    </a:lnTo>
                    <a:lnTo>
                      <a:pt x="390" y="32"/>
                    </a:lnTo>
                    <a:lnTo>
                      <a:pt x="390" y="32"/>
                    </a:lnTo>
                    <a:lnTo>
                      <a:pt x="361" y="32"/>
                    </a:lnTo>
                    <a:lnTo>
                      <a:pt x="360" y="30"/>
                    </a:lnTo>
                    <a:lnTo>
                      <a:pt x="360" y="27"/>
                    </a:lnTo>
                    <a:lnTo>
                      <a:pt x="359" y="24"/>
                    </a:lnTo>
                    <a:lnTo>
                      <a:pt x="357" y="22"/>
                    </a:lnTo>
                    <a:lnTo>
                      <a:pt x="355" y="18"/>
                    </a:lnTo>
                    <a:lnTo>
                      <a:pt x="351" y="14"/>
                    </a:lnTo>
                    <a:lnTo>
                      <a:pt x="349" y="11"/>
                    </a:lnTo>
                    <a:lnTo>
                      <a:pt x="346" y="8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36" y="2"/>
                    </a:lnTo>
                    <a:lnTo>
                      <a:pt x="332" y="2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4" y="18"/>
                    </a:lnTo>
                    <a:lnTo>
                      <a:pt x="73" y="22"/>
                    </a:lnTo>
                    <a:lnTo>
                      <a:pt x="72" y="27"/>
                    </a:lnTo>
                    <a:lnTo>
                      <a:pt x="70" y="32"/>
                    </a:lnTo>
                    <a:lnTo>
                      <a:pt x="70" y="32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2" name=""/>
              <p:cNvSpPr/>
              <p:nvPr/>
            </p:nvSpPr>
            <p:spPr>
              <a:xfrm>
                <a:off x="5530320" y="5042880"/>
                <a:ext cx="295200" cy="68760"/>
              </a:xfrm>
              <a:custGeom>
                <a:avLst/>
                <a:gdLst/>
                <a:ahLst/>
                <a:rect l="l" t="t" r="r" b="b"/>
                <a:pathLst>
                  <a:path w="432" h="125">
                    <a:moveTo>
                      <a:pt x="9" y="125"/>
                    </a:moveTo>
                    <a:lnTo>
                      <a:pt x="423" y="125"/>
                    </a:lnTo>
                    <a:lnTo>
                      <a:pt x="425" y="125"/>
                    </a:lnTo>
                    <a:lnTo>
                      <a:pt x="427" y="125"/>
                    </a:lnTo>
                    <a:lnTo>
                      <a:pt x="428" y="124"/>
                    </a:lnTo>
                    <a:lnTo>
                      <a:pt x="430" y="123"/>
                    </a:lnTo>
                    <a:lnTo>
                      <a:pt x="431" y="122"/>
                    </a:lnTo>
                    <a:lnTo>
                      <a:pt x="432" y="120"/>
                    </a:lnTo>
                    <a:lnTo>
                      <a:pt x="432" y="119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9"/>
                    </a:lnTo>
                    <a:lnTo>
                      <a:pt x="432" y="8"/>
                    </a:lnTo>
                    <a:lnTo>
                      <a:pt x="432" y="7"/>
                    </a:lnTo>
                    <a:lnTo>
                      <a:pt x="431" y="4"/>
                    </a:lnTo>
                    <a:lnTo>
                      <a:pt x="430" y="3"/>
                    </a:lnTo>
                    <a:lnTo>
                      <a:pt x="428" y="2"/>
                    </a:lnTo>
                    <a:lnTo>
                      <a:pt x="427" y="2"/>
                    </a:lnTo>
                    <a:lnTo>
                      <a:pt x="425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2" y="123"/>
                    </a:lnTo>
                    <a:lnTo>
                      <a:pt x="4" y="124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9" y="125"/>
                    </a:lnTo>
                    <a:lnTo>
                      <a:pt x="9" y="125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3" name=""/>
              <p:cNvSpPr/>
              <p:nvPr/>
            </p:nvSpPr>
            <p:spPr>
              <a:xfrm>
                <a:off x="5853240" y="5038560"/>
                <a:ext cx="293760" cy="82440"/>
              </a:xfrm>
              <a:custGeom>
                <a:avLst/>
                <a:gdLst/>
                <a:ahLst/>
                <a:rect l="l" t="t" r="r" b="b"/>
                <a:pathLst>
                  <a:path w="432" h="148">
                    <a:moveTo>
                      <a:pt x="70" y="34"/>
                    </a:moveTo>
                    <a:lnTo>
                      <a:pt x="40" y="34"/>
                    </a:lnTo>
                    <a:lnTo>
                      <a:pt x="36" y="34"/>
                    </a:lnTo>
                    <a:lnTo>
                      <a:pt x="32" y="34"/>
                    </a:lnTo>
                    <a:lnTo>
                      <a:pt x="27" y="35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1" y="45"/>
                    </a:lnTo>
                    <a:lnTo>
                      <a:pt x="6" y="52"/>
                    </a:lnTo>
                    <a:lnTo>
                      <a:pt x="5" y="56"/>
                    </a:lnTo>
                    <a:lnTo>
                      <a:pt x="2" y="59"/>
                    </a:lnTo>
                    <a:lnTo>
                      <a:pt x="1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6"/>
                    </a:lnTo>
                    <a:lnTo>
                      <a:pt x="2" y="90"/>
                    </a:lnTo>
                    <a:lnTo>
                      <a:pt x="5" y="93"/>
                    </a:lnTo>
                    <a:lnTo>
                      <a:pt x="6" y="96"/>
                    </a:lnTo>
                    <a:lnTo>
                      <a:pt x="11" y="102"/>
                    </a:lnTo>
                    <a:lnTo>
                      <a:pt x="17" y="107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2"/>
                    </a:lnTo>
                    <a:lnTo>
                      <a:pt x="32" y="112"/>
                    </a:lnTo>
                    <a:lnTo>
                      <a:pt x="36" y="114"/>
                    </a:lnTo>
                    <a:lnTo>
                      <a:pt x="40" y="114"/>
                    </a:lnTo>
                    <a:lnTo>
                      <a:pt x="40" y="114"/>
                    </a:lnTo>
                    <a:lnTo>
                      <a:pt x="81" y="114"/>
                    </a:lnTo>
                    <a:lnTo>
                      <a:pt x="81" y="119"/>
                    </a:lnTo>
                    <a:lnTo>
                      <a:pt x="82" y="125"/>
                    </a:lnTo>
                    <a:lnTo>
                      <a:pt x="86" y="130"/>
                    </a:lnTo>
                    <a:lnTo>
                      <a:pt x="90" y="135"/>
                    </a:lnTo>
                    <a:lnTo>
                      <a:pt x="95" y="139"/>
                    </a:lnTo>
                    <a:lnTo>
                      <a:pt x="97" y="141"/>
                    </a:lnTo>
                    <a:lnTo>
                      <a:pt x="101" y="143"/>
                    </a:lnTo>
                    <a:lnTo>
                      <a:pt x="104" y="145"/>
                    </a:lnTo>
                    <a:lnTo>
                      <a:pt x="106" y="145"/>
                    </a:lnTo>
                    <a:lnTo>
                      <a:pt x="110" y="146"/>
                    </a:lnTo>
                    <a:lnTo>
                      <a:pt x="112" y="148"/>
                    </a:lnTo>
                    <a:lnTo>
                      <a:pt x="119" y="148"/>
                    </a:lnTo>
                    <a:lnTo>
                      <a:pt x="119" y="148"/>
                    </a:lnTo>
                    <a:lnTo>
                      <a:pt x="307" y="148"/>
                    </a:lnTo>
                    <a:lnTo>
                      <a:pt x="312" y="148"/>
                    </a:lnTo>
                    <a:lnTo>
                      <a:pt x="315" y="146"/>
                    </a:lnTo>
                    <a:lnTo>
                      <a:pt x="319" y="146"/>
                    </a:lnTo>
                    <a:lnTo>
                      <a:pt x="323" y="145"/>
                    </a:lnTo>
                    <a:lnTo>
                      <a:pt x="329" y="141"/>
                    </a:lnTo>
                    <a:lnTo>
                      <a:pt x="334" y="139"/>
                    </a:lnTo>
                    <a:lnTo>
                      <a:pt x="339" y="133"/>
                    </a:lnTo>
                    <a:lnTo>
                      <a:pt x="342" y="130"/>
                    </a:lnTo>
                    <a:lnTo>
                      <a:pt x="344" y="128"/>
                    </a:lnTo>
                    <a:lnTo>
                      <a:pt x="345" y="124"/>
                    </a:lnTo>
                    <a:lnTo>
                      <a:pt x="347" y="120"/>
                    </a:lnTo>
                    <a:lnTo>
                      <a:pt x="348" y="117"/>
                    </a:lnTo>
                    <a:lnTo>
                      <a:pt x="348" y="114"/>
                    </a:lnTo>
                    <a:lnTo>
                      <a:pt x="348" y="114"/>
                    </a:lnTo>
                    <a:lnTo>
                      <a:pt x="390" y="114"/>
                    </a:lnTo>
                    <a:lnTo>
                      <a:pt x="395" y="114"/>
                    </a:lnTo>
                    <a:lnTo>
                      <a:pt x="399" y="112"/>
                    </a:lnTo>
                    <a:lnTo>
                      <a:pt x="403" y="112"/>
                    </a:lnTo>
                    <a:lnTo>
                      <a:pt x="407" y="110"/>
                    </a:lnTo>
                    <a:lnTo>
                      <a:pt x="411" y="109"/>
                    </a:lnTo>
                    <a:lnTo>
                      <a:pt x="413" y="107"/>
                    </a:lnTo>
                    <a:lnTo>
                      <a:pt x="419" y="102"/>
                    </a:lnTo>
                    <a:lnTo>
                      <a:pt x="424" y="96"/>
                    </a:lnTo>
                    <a:lnTo>
                      <a:pt x="427" y="93"/>
                    </a:lnTo>
                    <a:lnTo>
                      <a:pt x="428" y="90"/>
                    </a:lnTo>
                    <a:lnTo>
                      <a:pt x="429" y="86"/>
                    </a:lnTo>
                    <a:lnTo>
                      <a:pt x="431" y="82"/>
                    </a:lnTo>
                    <a:lnTo>
                      <a:pt x="432" y="78"/>
                    </a:lnTo>
                    <a:lnTo>
                      <a:pt x="432" y="74"/>
                    </a:lnTo>
                    <a:lnTo>
                      <a:pt x="432" y="74"/>
                    </a:lnTo>
                    <a:lnTo>
                      <a:pt x="432" y="71"/>
                    </a:lnTo>
                    <a:lnTo>
                      <a:pt x="431" y="67"/>
                    </a:lnTo>
                    <a:lnTo>
                      <a:pt x="429" y="63"/>
                    </a:lnTo>
                    <a:lnTo>
                      <a:pt x="428" y="59"/>
                    </a:lnTo>
                    <a:lnTo>
                      <a:pt x="427" y="56"/>
                    </a:lnTo>
                    <a:lnTo>
                      <a:pt x="424" y="52"/>
                    </a:lnTo>
                    <a:lnTo>
                      <a:pt x="419" y="45"/>
                    </a:lnTo>
                    <a:lnTo>
                      <a:pt x="413" y="40"/>
                    </a:lnTo>
                    <a:lnTo>
                      <a:pt x="411" y="39"/>
                    </a:lnTo>
                    <a:lnTo>
                      <a:pt x="407" y="37"/>
                    </a:lnTo>
                    <a:lnTo>
                      <a:pt x="403" y="35"/>
                    </a:lnTo>
                    <a:lnTo>
                      <a:pt x="399" y="34"/>
                    </a:lnTo>
                    <a:lnTo>
                      <a:pt x="395" y="34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59" y="34"/>
                    </a:lnTo>
                    <a:lnTo>
                      <a:pt x="359" y="29"/>
                    </a:lnTo>
                    <a:lnTo>
                      <a:pt x="358" y="24"/>
                    </a:lnTo>
                    <a:lnTo>
                      <a:pt x="355" y="19"/>
                    </a:lnTo>
                    <a:lnTo>
                      <a:pt x="353" y="14"/>
                    </a:lnTo>
                    <a:lnTo>
                      <a:pt x="349" y="11"/>
                    </a:lnTo>
                    <a:lnTo>
                      <a:pt x="347" y="9"/>
                    </a:lnTo>
                    <a:lnTo>
                      <a:pt x="343" y="6"/>
                    </a:lnTo>
                    <a:lnTo>
                      <a:pt x="339" y="4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107" y="0"/>
                    </a:lnTo>
                    <a:lnTo>
                      <a:pt x="104" y="0"/>
                    </a:lnTo>
                    <a:lnTo>
                      <a:pt x="100" y="1"/>
                    </a:lnTo>
                    <a:lnTo>
                      <a:pt x="95" y="3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9"/>
                    </a:lnTo>
                    <a:lnTo>
                      <a:pt x="81" y="11"/>
                    </a:lnTo>
                    <a:lnTo>
                      <a:pt x="78" y="14"/>
                    </a:lnTo>
                    <a:lnTo>
                      <a:pt x="76" y="19"/>
                    </a:lnTo>
                    <a:lnTo>
                      <a:pt x="73" y="24"/>
                    </a:lnTo>
                    <a:lnTo>
                      <a:pt x="71" y="29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4" name=""/>
              <p:cNvSpPr/>
              <p:nvPr/>
            </p:nvSpPr>
            <p:spPr>
              <a:xfrm>
                <a:off x="6177240" y="5024160"/>
                <a:ext cx="140760" cy="92520"/>
              </a:xfrm>
              <a:custGeom>
                <a:avLst/>
                <a:gdLst/>
                <a:ahLst/>
                <a:rect l="l" t="t" r="r" b="b"/>
                <a:pathLst>
                  <a:path w="208" h="167">
                    <a:moveTo>
                      <a:pt x="208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208" y="167"/>
                    </a:lnTo>
                    <a:lnTo>
                      <a:pt x="208" y="0"/>
                    </a:lnTo>
                    <a:lnTo>
                      <a:pt x="20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5" name=""/>
              <p:cNvSpPr/>
              <p:nvPr/>
            </p:nvSpPr>
            <p:spPr>
              <a:xfrm>
                <a:off x="5989680" y="4593240"/>
                <a:ext cx="65520" cy="6192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99" y="0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1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7" y="109"/>
                    </a:lnTo>
                    <a:lnTo>
                      <a:pt x="10" y="111"/>
                    </a:lnTo>
                    <a:lnTo>
                      <a:pt x="14" y="111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99" y="11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6" name=""/>
              <p:cNvSpPr/>
              <p:nvPr/>
            </p:nvSpPr>
            <p:spPr>
              <a:xfrm>
                <a:off x="5989680" y="4915080"/>
                <a:ext cx="65520" cy="6120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99" y="0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10" y="109"/>
                    </a:lnTo>
                    <a:lnTo>
                      <a:pt x="14" y="111"/>
                    </a:lnTo>
                    <a:lnTo>
                      <a:pt x="17" y="111"/>
                    </a:lnTo>
                    <a:lnTo>
                      <a:pt x="17" y="111"/>
                    </a:lnTo>
                    <a:lnTo>
                      <a:pt x="99" y="111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7" name=""/>
              <p:cNvSpPr/>
              <p:nvPr/>
            </p:nvSpPr>
            <p:spPr>
              <a:xfrm>
                <a:off x="4016520" y="5082120"/>
                <a:ext cx="84600" cy="2556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0"/>
                    </a:moveTo>
                    <a:lnTo>
                      <a:pt x="0" y="45"/>
                    </a:lnTo>
                    <a:lnTo>
                      <a:pt x="125" y="45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8" name=""/>
              <p:cNvSpPr/>
              <p:nvPr/>
            </p:nvSpPr>
            <p:spPr>
              <a:xfrm>
                <a:off x="4575600" y="5082120"/>
                <a:ext cx="82080" cy="2556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0" y="0"/>
                    </a:moveTo>
                    <a:lnTo>
                      <a:pt x="0" y="45"/>
                    </a:lnTo>
                    <a:lnTo>
                      <a:pt x="123" y="45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9" name=""/>
              <p:cNvSpPr/>
              <p:nvPr/>
            </p:nvSpPr>
            <p:spPr>
              <a:xfrm>
                <a:off x="4844520" y="504288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9997c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0" name=""/>
              <p:cNvSpPr/>
              <p:nvPr/>
            </p:nvSpPr>
            <p:spPr>
              <a:xfrm>
                <a:off x="4844520" y="504288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1" name=""/>
              <p:cNvSpPr/>
              <p:nvPr/>
            </p:nvSpPr>
            <p:spPr>
              <a:xfrm>
                <a:off x="5862600" y="506268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2" name=""/>
              <p:cNvSpPr/>
              <p:nvPr/>
            </p:nvSpPr>
            <p:spPr>
              <a:xfrm>
                <a:off x="5862600" y="506268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3" name=""/>
              <p:cNvSpPr/>
              <p:nvPr/>
            </p:nvSpPr>
            <p:spPr>
              <a:xfrm>
                <a:off x="6099480" y="506268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4" name=""/>
              <p:cNvSpPr/>
              <p:nvPr/>
            </p:nvSpPr>
            <p:spPr>
              <a:xfrm>
                <a:off x="6099480" y="506268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5" name=""/>
              <p:cNvSpPr/>
              <p:nvPr/>
            </p:nvSpPr>
            <p:spPr>
              <a:xfrm>
                <a:off x="5920200" y="505152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6" name=""/>
              <p:cNvSpPr/>
              <p:nvPr/>
            </p:nvSpPr>
            <p:spPr>
              <a:xfrm>
                <a:off x="5920200" y="505152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7" name=""/>
              <p:cNvSpPr/>
              <p:nvPr/>
            </p:nvSpPr>
            <p:spPr>
              <a:xfrm>
                <a:off x="5187600" y="506016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8" name=""/>
              <p:cNvSpPr/>
              <p:nvPr/>
            </p:nvSpPr>
            <p:spPr>
              <a:xfrm>
                <a:off x="5187600" y="506016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5424120" y="506016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5424120" y="506016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5244840" y="504792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12" name=""/>
              <p:cNvSpPr/>
              <p:nvPr/>
            </p:nvSpPr>
            <p:spPr>
              <a:xfrm>
                <a:off x="5244840" y="504792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13" name=""/>
              <p:cNvSpPr/>
              <p:nvPr/>
            </p:nvSpPr>
            <p:spPr>
              <a:xfrm>
                <a:off x="5261760" y="5063400"/>
                <a:ext cx="127800" cy="30600"/>
              </a:xfrm>
              <a:custGeom>
                <a:avLst/>
                <a:gdLst/>
                <a:ahLst/>
                <a:rect l="l" t="t" r="r" b="b"/>
                <a:pathLst>
                  <a:path w="188" h="57">
                    <a:moveTo>
                      <a:pt x="174" y="6"/>
                    </a:moveTo>
                    <a:lnTo>
                      <a:pt x="174" y="9"/>
                    </a:lnTo>
                    <a:lnTo>
                      <a:pt x="175" y="11"/>
                    </a:lnTo>
                    <a:lnTo>
                      <a:pt x="178" y="13"/>
                    </a:lnTo>
                    <a:lnTo>
                      <a:pt x="179" y="14"/>
                    </a:lnTo>
                    <a:lnTo>
                      <a:pt x="180" y="14"/>
                    </a:lnTo>
                    <a:lnTo>
                      <a:pt x="182" y="14"/>
                    </a:lnTo>
                    <a:lnTo>
                      <a:pt x="183" y="13"/>
                    </a:lnTo>
                    <a:lnTo>
                      <a:pt x="185" y="11"/>
                    </a:lnTo>
                    <a:lnTo>
                      <a:pt x="187" y="9"/>
                    </a:lnTo>
                    <a:lnTo>
                      <a:pt x="188" y="7"/>
                    </a:lnTo>
                    <a:lnTo>
                      <a:pt x="188" y="6"/>
                    </a:lnTo>
                    <a:lnTo>
                      <a:pt x="188" y="5"/>
                    </a:lnTo>
                    <a:lnTo>
                      <a:pt x="187" y="4"/>
                    </a:lnTo>
                    <a:lnTo>
                      <a:pt x="185" y="1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5" y="1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close/>
                    <a:moveTo>
                      <a:pt x="20" y="50"/>
                    </a:moveTo>
                    <a:lnTo>
                      <a:pt x="20" y="50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25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7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4" y="45"/>
                    </a:lnTo>
                    <a:lnTo>
                      <a:pt x="30" y="44"/>
                    </a:lnTo>
                    <a:lnTo>
                      <a:pt x="28" y="43"/>
                    </a:lnTo>
                    <a:lnTo>
                      <a:pt x="25" y="44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0"/>
                    </a:lnTo>
                    <a:close/>
                    <a:moveTo>
                      <a:pt x="65" y="50"/>
                    </a:moveTo>
                    <a:lnTo>
                      <a:pt x="66" y="52"/>
                    </a:lnTo>
                    <a:lnTo>
                      <a:pt x="68" y="54"/>
                    </a:lnTo>
                    <a:lnTo>
                      <a:pt x="69" y="57"/>
                    </a:lnTo>
                    <a:lnTo>
                      <a:pt x="70" y="57"/>
                    </a:lnTo>
                    <a:lnTo>
                      <a:pt x="73" y="57"/>
                    </a:lnTo>
                    <a:lnTo>
                      <a:pt x="73" y="57"/>
                    </a:lnTo>
                    <a:lnTo>
                      <a:pt x="74" y="57"/>
                    </a:lnTo>
                    <a:lnTo>
                      <a:pt x="76" y="54"/>
                    </a:lnTo>
                    <a:lnTo>
                      <a:pt x="79" y="52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3" y="43"/>
                    </a:lnTo>
                    <a:lnTo>
                      <a:pt x="69" y="44"/>
                    </a:lnTo>
                    <a:lnTo>
                      <a:pt x="68" y="45"/>
                    </a:lnTo>
                    <a:lnTo>
                      <a:pt x="66" y="47"/>
                    </a:lnTo>
                    <a:lnTo>
                      <a:pt x="65" y="50"/>
                    </a:lnTo>
                    <a:lnTo>
                      <a:pt x="65" y="50"/>
                    </a:lnTo>
                    <a:close/>
                    <a:moveTo>
                      <a:pt x="109" y="50"/>
                    </a:moveTo>
                    <a:lnTo>
                      <a:pt x="109" y="52"/>
                    </a:lnTo>
                    <a:lnTo>
                      <a:pt x="110" y="54"/>
                    </a:lnTo>
                    <a:lnTo>
                      <a:pt x="113" y="57"/>
                    </a:lnTo>
                    <a:lnTo>
                      <a:pt x="114" y="57"/>
                    </a:lnTo>
                    <a:lnTo>
                      <a:pt x="115" y="57"/>
                    </a:lnTo>
                    <a:lnTo>
                      <a:pt x="117" y="57"/>
                    </a:lnTo>
                    <a:lnTo>
                      <a:pt x="118" y="57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2" y="47"/>
                    </a:lnTo>
                    <a:lnTo>
                      <a:pt x="120" y="45"/>
                    </a:lnTo>
                    <a:lnTo>
                      <a:pt x="118" y="44"/>
                    </a:lnTo>
                    <a:lnTo>
                      <a:pt x="115" y="43"/>
                    </a:lnTo>
                    <a:lnTo>
                      <a:pt x="113" y="44"/>
                    </a:lnTo>
                    <a:lnTo>
                      <a:pt x="110" y="45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9" y="50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4" y="9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6" y="6"/>
                    </a:moveTo>
                    <a:lnTo>
                      <a:pt x="86" y="7"/>
                    </a:lnTo>
                    <a:lnTo>
                      <a:pt x="86" y="9"/>
                    </a:lnTo>
                    <a:lnTo>
                      <a:pt x="89" y="11"/>
                    </a:lnTo>
                    <a:lnTo>
                      <a:pt x="90" y="13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3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1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6"/>
                    </a:lnTo>
                    <a:lnTo>
                      <a:pt x="86" y="6"/>
                    </a:lnTo>
                    <a:close/>
                    <a:moveTo>
                      <a:pt x="132" y="6"/>
                    </a:moveTo>
                    <a:lnTo>
                      <a:pt x="132" y="9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7" y="14"/>
                    </a:lnTo>
                    <a:lnTo>
                      <a:pt x="138" y="14"/>
                    </a:lnTo>
                    <a:lnTo>
                      <a:pt x="139" y="14"/>
                    </a:lnTo>
                    <a:lnTo>
                      <a:pt x="140" y="13"/>
                    </a:lnTo>
                    <a:lnTo>
                      <a:pt x="143" y="11"/>
                    </a:lnTo>
                    <a:lnTo>
                      <a:pt x="144" y="9"/>
                    </a:lnTo>
                    <a:lnTo>
                      <a:pt x="144" y="7"/>
                    </a:lnTo>
                    <a:lnTo>
                      <a:pt x="145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3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3" y="1"/>
                    </a:lnTo>
                    <a:lnTo>
                      <a:pt x="132" y="4"/>
                    </a:lnTo>
                    <a:lnTo>
                      <a:pt x="132" y="6"/>
                    </a:lnTo>
                    <a:lnTo>
                      <a:pt x="132" y="6"/>
                    </a:lnTo>
                    <a:close/>
                    <a:moveTo>
                      <a:pt x="152" y="50"/>
                    </a:moveTo>
                    <a:lnTo>
                      <a:pt x="152" y="52"/>
                    </a:lnTo>
                    <a:lnTo>
                      <a:pt x="153" y="54"/>
                    </a:lnTo>
                    <a:lnTo>
                      <a:pt x="155" y="57"/>
                    </a:lnTo>
                    <a:lnTo>
                      <a:pt x="157" y="57"/>
                    </a:lnTo>
                    <a:lnTo>
                      <a:pt x="158" y="57"/>
                    </a:lnTo>
                    <a:lnTo>
                      <a:pt x="160" y="57"/>
                    </a:lnTo>
                    <a:lnTo>
                      <a:pt x="162" y="57"/>
                    </a:lnTo>
                    <a:lnTo>
                      <a:pt x="163" y="54"/>
                    </a:lnTo>
                    <a:lnTo>
                      <a:pt x="164" y="52"/>
                    </a:lnTo>
                    <a:lnTo>
                      <a:pt x="165" y="50"/>
                    </a:lnTo>
                    <a:lnTo>
                      <a:pt x="164" y="47"/>
                    </a:lnTo>
                    <a:lnTo>
                      <a:pt x="163" y="45"/>
                    </a:lnTo>
                    <a:lnTo>
                      <a:pt x="162" y="44"/>
                    </a:lnTo>
                    <a:lnTo>
                      <a:pt x="158" y="43"/>
                    </a:lnTo>
                    <a:lnTo>
                      <a:pt x="155" y="44"/>
                    </a:lnTo>
                    <a:lnTo>
                      <a:pt x="153" y="45"/>
                    </a:lnTo>
                    <a:lnTo>
                      <a:pt x="152" y="47"/>
                    </a:lnTo>
                    <a:lnTo>
                      <a:pt x="152" y="50"/>
                    </a:lnTo>
                    <a:lnTo>
                      <a:pt x="152" y="50"/>
                    </a:lnTo>
                    <a:close/>
                  </a:path>
                </a:pathLst>
              </a:custGeom>
              <a:solidFill>
                <a:srgbClr val="f7eeb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14" name=""/>
              <p:cNvSpPr/>
              <p:nvPr/>
            </p:nvSpPr>
            <p:spPr>
              <a:xfrm>
                <a:off x="5537880" y="5052240"/>
                <a:ext cx="122760" cy="59400"/>
              </a:xfrm>
              <a:custGeom>
                <a:avLst/>
                <a:gdLst/>
                <a:ahLst/>
                <a:rect l="l" t="t" r="r" b="b"/>
                <a:pathLst>
                  <a:path w="181" h="108">
                    <a:moveTo>
                      <a:pt x="181" y="36"/>
                    </a:moveTo>
                    <a:lnTo>
                      <a:pt x="181" y="36"/>
                    </a:lnTo>
                    <a:lnTo>
                      <a:pt x="181" y="30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3"/>
                    </a:lnTo>
                    <a:lnTo>
                      <a:pt x="36" y="97"/>
                    </a:lnTo>
                    <a:lnTo>
                      <a:pt x="36" y="99"/>
                    </a:lnTo>
                    <a:lnTo>
                      <a:pt x="36" y="102"/>
                    </a:lnTo>
                    <a:lnTo>
                      <a:pt x="36" y="105"/>
                    </a:lnTo>
                    <a:lnTo>
                      <a:pt x="36" y="106"/>
                    </a:lnTo>
                    <a:lnTo>
                      <a:pt x="36" y="107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7"/>
                    </a:lnTo>
                    <a:lnTo>
                      <a:pt x="181" y="106"/>
                    </a:lnTo>
                    <a:lnTo>
                      <a:pt x="181" y="105"/>
                    </a:lnTo>
                    <a:lnTo>
                      <a:pt x="181" y="102"/>
                    </a:lnTo>
                    <a:lnTo>
                      <a:pt x="181" y="99"/>
                    </a:lnTo>
                    <a:lnTo>
                      <a:pt x="181" y="97"/>
                    </a:lnTo>
                    <a:lnTo>
                      <a:pt x="181" y="93"/>
                    </a:lnTo>
                    <a:lnTo>
                      <a:pt x="181" y="89"/>
                    </a:lnTo>
                    <a:lnTo>
                      <a:pt x="181" y="84"/>
                    </a:lnTo>
                    <a:lnTo>
                      <a:pt x="181" y="79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36"/>
                    </a:lnTo>
                    <a:lnTo>
                      <a:pt x="181" y="36"/>
                    </a:lnTo>
                    <a:lnTo>
                      <a:pt x="18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415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5537880" y="5031720"/>
                <a:ext cx="12276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416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5537880" y="5031720"/>
                <a:ext cx="12276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417" name=""/>
              <p:cNvSpPr/>
              <p:nvPr/>
            </p:nvSpPr>
            <p:spPr>
              <a:xfrm>
                <a:off x="5537880" y="5051520"/>
                <a:ext cx="120240" cy="44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5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1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1" y="77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418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5686200" y="5031720"/>
                <a:ext cx="12132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419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5686200" y="5031720"/>
                <a:ext cx="12132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420" name=""/>
              <p:cNvSpPr/>
              <p:nvPr/>
            </p:nvSpPr>
            <p:spPr>
              <a:xfrm>
                <a:off x="5695560" y="5051520"/>
                <a:ext cx="121680" cy="44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10" y="76"/>
                    </a:lnTo>
                    <a:lnTo>
                      <a:pt x="10" y="78"/>
                    </a:lnTo>
                    <a:lnTo>
                      <a:pt x="11" y="81"/>
                    </a:lnTo>
                    <a:lnTo>
                      <a:pt x="14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9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42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6350400" y="5052240"/>
                <a:ext cx="74160" cy="594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422" name=""/>
              <p:cNvSpPr/>
              <p:nvPr/>
            </p:nvSpPr>
            <p:spPr>
              <a:xfrm>
                <a:off x="6352560" y="5060160"/>
                <a:ext cx="68040" cy="5760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101" y="53"/>
                    </a:moveTo>
                    <a:lnTo>
                      <a:pt x="101" y="48"/>
                    </a:lnTo>
                    <a:lnTo>
                      <a:pt x="100" y="42"/>
                    </a:lnTo>
                    <a:lnTo>
                      <a:pt x="100" y="36"/>
                    </a:lnTo>
                    <a:lnTo>
                      <a:pt x="97" y="33"/>
                    </a:lnTo>
                    <a:lnTo>
                      <a:pt x="95" y="28"/>
                    </a:lnTo>
                    <a:lnTo>
                      <a:pt x="92" y="23"/>
                    </a:lnTo>
                    <a:lnTo>
                      <a:pt x="90" y="19"/>
                    </a:lnTo>
                    <a:lnTo>
                      <a:pt x="87" y="15"/>
                    </a:lnTo>
                    <a:lnTo>
                      <a:pt x="83" y="12"/>
                    </a:lnTo>
                    <a:lnTo>
                      <a:pt x="80" y="9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6" y="2"/>
                    </a:lnTo>
                    <a:lnTo>
                      <a:pt x="62" y="1"/>
                    </a:lnTo>
                    <a:lnTo>
                      <a:pt x="57" y="1"/>
                    </a:lnTo>
                    <a:lnTo>
                      <a:pt x="52" y="0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2"/>
                    </a:lnTo>
                    <a:lnTo>
                      <a:pt x="15" y="15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6" y="28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6" y="77"/>
                    </a:lnTo>
                    <a:lnTo>
                      <a:pt x="8" y="81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8" y="91"/>
                    </a:lnTo>
                    <a:lnTo>
                      <a:pt x="22" y="95"/>
                    </a:lnTo>
                    <a:lnTo>
                      <a:pt x="27" y="97"/>
                    </a:lnTo>
                    <a:lnTo>
                      <a:pt x="31" y="98"/>
                    </a:lnTo>
                    <a:lnTo>
                      <a:pt x="36" y="101"/>
                    </a:lnTo>
                    <a:lnTo>
                      <a:pt x="41" y="102"/>
                    </a:lnTo>
                    <a:lnTo>
                      <a:pt x="46" y="102"/>
                    </a:lnTo>
                    <a:lnTo>
                      <a:pt x="52" y="103"/>
                    </a:lnTo>
                    <a:lnTo>
                      <a:pt x="57" y="102"/>
                    </a:lnTo>
                    <a:lnTo>
                      <a:pt x="62" y="102"/>
                    </a:lnTo>
                    <a:lnTo>
                      <a:pt x="66" y="101"/>
                    </a:lnTo>
                    <a:lnTo>
                      <a:pt x="71" y="98"/>
                    </a:lnTo>
                    <a:lnTo>
                      <a:pt x="75" y="97"/>
                    </a:lnTo>
                    <a:lnTo>
                      <a:pt x="80" y="95"/>
                    </a:lnTo>
                    <a:lnTo>
                      <a:pt x="83" y="91"/>
                    </a:lnTo>
                    <a:lnTo>
                      <a:pt x="87" y="88"/>
                    </a:lnTo>
                    <a:lnTo>
                      <a:pt x="90" y="84"/>
                    </a:lnTo>
                    <a:lnTo>
                      <a:pt x="92" y="81"/>
                    </a:lnTo>
                    <a:lnTo>
                      <a:pt x="95" y="77"/>
                    </a:lnTo>
                    <a:lnTo>
                      <a:pt x="97" y="72"/>
                    </a:lnTo>
                    <a:lnTo>
                      <a:pt x="100" y="68"/>
                    </a:lnTo>
                    <a:lnTo>
                      <a:pt x="100" y="63"/>
                    </a:lnTo>
                    <a:lnTo>
                      <a:pt x="101" y="58"/>
                    </a:lnTo>
                    <a:lnTo>
                      <a:pt x="101" y="5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42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6350400" y="5052240"/>
                <a:ext cx="48960" cy="399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42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6350400" y="5052240"/>
                <a:ext cx="48960" cy="399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425" name=""/>
              <p:cNvSpPr/>
              <p:nvPr/>
            </p:nvSpPr>
            <p:spPr>
              <a:xfrm>
                <a:off x="6364800" y="5070960"/>
                <a:ext cx="43920" cy="3636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lnTo>
                      <a:pt x="66" y="30"/>
                    </a:lnTo>
                    <a:lnTo>
                      <a:pt x="65" y="26"/>
                    </a:lnTo>
                    <a:lnTo>
                      <a:pt x="64" y="20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" y="52"/>
                    </a:lnTo>
                    <a:lnTo>
                      <a:pt x="10" y="57"/>
                    </a:lnTo>
                    <a:lnTo>
                      <a:pt x="15" y="60"/>
                    </a:lnTo>
                    <a:lnTo>
                      <a:pt x="20" y="63"/>
                    </a:lnTo>
                    <a:lnTo>
                      <a:pt x="28" y="65"/>
                    </a:lnTo>
                    <a:lnTo>
                      <a:pt x="31" y="65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41" y="65"/>
                    </a:lnTo>
                    <a:lnTo>
                      <a:pt x="48" y="63"/>
                    </a:lnTo>
                    <a:lnTo>
                      <a:pt x="53" y="60"/>
                    </a:lnTo>
                    <a:lnTo>
                      <a:pt x="58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5" y="40"/>
                    </a:lnTo>
                    <a:lnTo>
                      <a:pt x="66" y="38"/>
                    </a:lnTo>
                    <a:lnTo>
                      <a:pt x="66" y="3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26" name=""/>
              <p:cNvSpPr/>
              <p:nvPr/>
            </p:nvSpPr>
            <p:spPr>
              <a:xfrm>
                <a:off x="6217920" y="515124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27" name=""/>
              <p:cNvSpPr/>
              <p:nvPr/>
            </p:nvSpPr>
            <p:spPr>
              <a:xfrm>
                <a:off x="6190200" y="5041440"/>
                <a:ext cx="23760" cy="7200"/>
              </a:xfrm>
              <a:prstGeom prst="rect">
                <a:avLst/>
              </a:prstGeom>
              <a:solidFill>
                <a:srgbClr val="eadb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28" name=""/>
              <p:cNvSpPr/>
              <p:nvPr/>
            </p:nvSpPr>
            <p:spPr>
              <a:xfrm>
                <a:off x="6190200" y="5041440"/>
                <a:ext cx="23760" cy="7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29" name=""/>
              <p:cNvSpPr/>
              <p:nvPr/>
            </p:nvSpPr>
            <p:spPr>
              <a:xfrm>
                <a:off x="5018040" y="504288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  <a:close/>
                  </a:path>
                </a:pathLst>
              </a:custGeom>
              <a:solidFill>
                <a:srgbClr val="bcedc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0" name=""/>
              <p:cNvSpPr/>
              <p:nvPr/>
            </p:nvSpPr>
            <p:spPr>
              <a:xfrm>
                <a:off x="5018040" y="504288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1" name=""/>
              <p:cNvSpPr/>
              <p:nvPr/>
            </p:nvSpPr>
            <p:spPr>
              <a:xfrm>
                <a:off x="5281920" y="5147640"/>
                <a:ext cx="739800" cy="28800"/>
              </a:xfrm>
              <a:custGeom>
                <a:avLst/>
                <a:gdLst/>
                <a:ahLst/>
                <a:rect l="l" t="t" r="r" b="b"/>
                <a:pathLst>
                  <a:path w="1087" h="51">
                    <a:moveTo>
                      <a:pt x="0" y="45"/>
                    </a:moveTo>
                    <a:lnTo>
                      <a:pt x="7" y="45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  <a:moveTo>
                      <a:pt x="50" y="25"/>
                    </a:moveTo>
                    <a:lnTo>
                      <a:pt x="50" y="21"/>
                    </a:lnTo>
                    <a:lnTo>
                      <a:pt x="49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7" y="33"/>
                    </a:lnTo>
                    <a:lnTo>
                      <a:pt x="20" y="36"/>
                    </a:lnTo>
                    <a:lnTo>
                      <a:pt x="22" y="39"/>
                    </a:lnTo>
                    <a:lnTo>
                      <a:pt x="25" y="41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  <a:moveTo>
                      <a:pt x="44" y="25"/>
                    </a:moveTo>
                    <a:lnTo>
                      <a:pt x="44" y="27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30" y="35"/>
                    </a:lnTo>
                    <a:lnTo>
                      <a:pt x="27" y="34"/>
                    </a:lnTo>
                    <a:lnTo>
                      <a:pt x="26" y="33"/>
                    </a:lnTo>
                    <a:lnTo>
                      <a:pt x="25" y="31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2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6" y="16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  <a:moveTo>
                      <a:pt x="59" y="45"/>
                    </a:moveTo>
                    <a:lnTo>
                      <a:pt x="66" y="45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9" y="45"/>
                    </a:lnTo>
                    <a:lnTo>
                      <a:pt x="59" y="45"/>
                    </a:lnTo>
                    <a:close/>
                    <a:moveTo>
                      <a:pt x="109" y="25"/>
                    </a:moveTo>
                    <a:lnTo>
                      <a:pt x="109" y="21"/>
                    </a:lnTo>
                    <a:lnTo>
                      <a:pt x="108" y="19"/>
                    </a:lnTo>
                    <a:lnTo>
                      <a:pt x="106" y="15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7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1" y="12"/>
                    </a:lnTo>
                    <a:lnTo>
                      <a:pt x="79" y="15"/>
                    </a:lnTo>
                    <a:lnTo>
                      <a:pt x="76" y="19"/>
                    </a:lnTo>
                    <a:lnTo>
                      <a:pt x="75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6" y="33"/>
                    </a:lnTo>
                    <a:lnTo>
                      <a:pt x="79" y="36"/>
                    </a:lnTo>
                    <a:lnTo>
                      <a:pt x="81" y="39"/>
                    </a:lnTo>
                    <a:lnTo>
                      <a:pt x="84" y="41"/>
                    </a:lnTo>
                    <a:lnTo>
                      <a:pt x="86" y="44"/>
                    </a:lnTo>
                    <a:lnTo>
                      <a:pt x="90" y="45"/>
                    </a:lnTo>
                    <a:lnTo>
                      <a:pt x="93" y="45"/>
                    </a:lnTo>
                    <a:lnTo>
                      <a:pt x="96" y="45"/>
                    </a:lnTo>
                    <a:lnTo>
                      <a:pt x="100" y="44"/>
                    </a:lnTo>
                    <a:lnTo>
                      <a:pt x="103" y="41"/>
                    </a:lnTo>
                    <a:lnTo>
                      <a:pt x="105" y="39"/>
                    </a:lnTo>
                    <a:lnTo>
                      <a:pt x="106" y="36"/>
                    </a:lnTo>
                    <a:lnTo>
                      <a:pt x="108" y="33"/>
                    </a:lnTo>
                    <a:lnTo>
                      <a:pt x="109" y="29"/>
                    </a:lnTo>
                    <a:lnTo>
                      <a:pt x="109" y="25"/>
                    </a:lnTo>
                    <a:lnTo>
                      <a:pt x="109" y="25"/>
                    </a:lnTo>
                    <a:close/>
                    <a:moveTo>
                      <a:pt x="103" y="25"/>
                    </a:moveTo>
                    <a:lnTo>
                      <a:pt x="103" y="27"/>
                    </a:lnTo>
                    <a:lnTo>
                      <a:pt x="101" y="30"/>
                    </a:lnTo>
                    <a:lnTo>
                      <a:pt x="100" y="31"/>
                    </a:lnTo>
                    <a:lnTo>
                      <a:pt x="99" y="33"/>
                    </a:lnTo>
                    <a:lnTo>
                      <a:pt x="98" y="34"/>
                    </a:lnTo>
                    <a:lnTo>
                      <a:pt x="96" y="35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1" y="36"/>
                    </a:lnTo>
                    <a:lnTo>
                      <a:pt x="89" y="35"/>
                    </a:lnTo>
                    <a:lnTo>
                      <a:pt x="86" y="34"/>
                    </a:lnTo>
                    <a:lnTo>
                      <a:pt x="85" y="33"/>
                    </a:lnTo>
                    <a:lnTo>
                      <a:pt x="84" y="31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1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4" y="19"/>
                    </a:lnTo>
                    <a:lnTo>
                      <a:pt x="85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0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  <a:moveTo>
                      <a:pt x="118" y="45"/>
                    </a:moveTo>
                    <a:lnTo>
                      <a:pt x="125" y="45"/>
                    </a:lnTo>
                    <a:lnTo>
                      <a:pt x="125" y="6"/>
                    </a:lnTo>
                    <a:lnTo>
                      <a:pt x="118" y="6"/>
                    </a:lnTo>
                    <a:lnTo>
                      <a:pt x="118" y="45"/>
                    </a:lnTo>
                    <a:lnTo>
                      <a:pt x="118" y="45"/>
                    </a:lnTo>
                    <a:close/>
                    <a:moveTo>
                      <a:pt x="502" y="25"/>
                    </a:moveTo>
                    <a:lnTo>
                      <a:pt x="460" y="25"/>
                    </a:lnTo>
                    <a:lnTo>
                      <a:pt x="468" y="16"/>
                    </a:lnTo>
                    <a:lnTo>
                      <a:pt x="478" y="16"/>
                    </a:lnTo>
                    <a:lnTo>
                      <a:pt x="478" y="17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2" y="17"/>
                    </a:lnTo>
                    <a:lnTo>
                      <a:pt x="483" y="17"/>
                    </a:lnTo>
                    <a:lnTo>
                      <a:pt x="485" y="17"/>
                    </a:lnTo>
                    <a:lnTo>
                      <a:pt x="486" y="16"/>
                    </a:lnTo>
                    <a:lnTo>
                      <a:pt x="486" y="15"/>
                    </a:lnTo>
                    <a:lnTo>
                      <a:pt x="487" y="14"/>
                    </a:lnTo>
                    <a:lnTo>
                      <a:pt x="487" y="11"/>
                    </a:lnTo>
                    <a:lnTo>
                      <a:pt x="485" y="10"/>
                    </a:lnTo>
                    <a:lnTo>
                      <a:pt x="483" y="9"/>
                    </a:lnTo>
                    <a:lnTo>
                      <a:pt x="482" y="9"/>
                    </a:lnTo>
                    <a:lnTo>
                      <a:pt x="480" y="9"/>
                    </a:lnTo>
                    <a:lnTo>
                      <a:pt x="478" y="9"/>
                    </a:lnTo>
                    <a:lnTo>
                      <a:pt x="478" y="10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67" y="11"/>
                    </a:lnTo>
                    <a:lnTo>
                      <a:pt x="456" y="25"/>
                    </a:lnTo>
                    <a:lnTo>
                      <a:pt x="451" y="25"/>
                    </a:lnTo>
                    <a:lnTo>
                      <a:pt x="448" y="21"/>
                    </a:lnTo>
                    <a:lnTo>
                      <a:pt x="447" y="21"/>
                    </a:lnTo>
                    <a:lnTo>
                      <a:pt x="446" y="20"/>
                    </a:lnTo>
                    <a:lnTo>
                      <a:pt x="445" y="20"/>
                    </a:lnTo>
                    <a:lnTo>
                      <a:pt x="443" y="19"/>
                    </a:lnTo>
                    <a:lnTo>
                      <a:pt x="442" y="20"/>
                    </a:lnTo>
                    <a:lnTo>
                      <a:pt x="442" y="20"/>
                    </a:lnTo>
                    <a:lnTo>
                      <a:pt x="440" y="20"/>
                    </a:lnTo>
                    <a:lnTo>
                      <a:pt x="438" y="21"/>
                    </a:lnTo>
                    <a:lnTo>
                      <a:pt x="437" y="22"/>
                    </a:lnTo>
                    <a:lnTo>
                      <a:pt x="437" y="22"/>
                    </a:lnTo>
                    <a:lnTo>
                      <a:pt x="436" y="26"/>
                    </a:lnTo>
                    <a:lnTo>
                      <a:pt x="435" y="29"/>
                    </a:lnTo>
                    <a:lnTo>
                      <a:pt x="437" y="31"/>
                    </a:lnTo>
                    <a:lnTo>
                      <a:pt x="440" y="33"/>
                    </a:lnTo>
                    <a:lnTo>
                      <a:pt x="442" y="34"/>
                    </a:lnTo>
                    <a:lnTo>
                      <a:pt x="445" y="34"/>
                    </a:lnTo>
                    <a:lnTo>
                      <a:pt x="446" y="34"/>
                    </a:lnTo>
                    <a:lnTo>
                      <a:pt x="447" y="33"/>
                    </a:lnTo>
                    <a:lnTo>
                      <a:pt x="450" y="31"/>
                    </a:lnTo>
                    <a:lnTo>
                      <a:pt x="451" y="29"/>
                    </a:lnTo>
                    <a:lnTo>
                      <a:pt x="451" y="29"/>
                    </a:lnTo>
                    <a:lnTo>
                      <a:pt x="467" y="29"/>
                    </a:lnTo>
                    <a:lnTo>
                      <a:pt x="480" y="40"/>
                    </a:lnTo>
                    <a:lnTo>
                      <a:pt x="487" y="40"/>
                    </a:lnTo>
                    <a:lnTo>
                      <a:pt x="487" y="45"/>
                    </a:lnTo>
                    <a:lnTo>
                      <a:pt x="498" y="45"/>
                    </a:lnTo>
                    <a:lnTo>
                      <a:pt x="498" y="34"/>
                    </a:lnTo>
                    <a:lnTo>
                      <a:pt x="487" y="34"/>
                    </a:lnTo>
                    <a:lnTo>
                      <a:pt x="487" y="39"/>
                    </a:lnTo>
                    <a:lnTo>
                      <a:pt x="480" y="39"/>
                    </a:lnTo>
                    <a:lnTo>
                      <a:pt x="471" y="29"/>
                    </a:lnTo>
                    <a:lnTo>
                      <a:pt x="502" y="29"/>
                    </a:lnTo>
                    <a:lnTo>
                      <a:pt x="502" y="31"/>
                    </a:lnTo>
                    <a:lnTo>
                      <a:pt x="512" y="27"/>
                    </a:lnTo>
                    <a:lnTo>
                      <a:pt x="502" y="22"/>
                    </a:lnTo>
                    <a:lnTo>
                      <a:pt x="502" y="25"/>
                    </a:lnTo>
                    <a:lnTo>
                      <a:pt x="502" y="25"/>
                    </a:lnTo>
                    <a:close/>
                    <a:moveTo>
                      <a:pt x="727" y="25"/>
                    </a:moveTo>
                    <a:lnTo>
                      <a:pt x="684" y="25"/>
                    </a:lnTo>
                    <a:lnTo>
                      <a:pt x="695" y="16"/>
                    </a:lnTo>
                    <a:lnTo>
                      <a:pt x="701" y="16"/>
                    </a:lnTo>
                    <a:lnTo>
                      <a:pt x="704" y="17"/>
                    </a:lnTo>
                    <a:lnTo>
                      <a:pt x="705" y="17"/>
                    </a:lnTo>
                    <a:lnTo>
                      <a:pt x="708" y="17"/>
                    </a:lnTo>
                    <a:lnTo>
                      <a:pt x="709" y="17"/>
                    </a:lnTo>
                    <a:lnTo>
                      <a:pt x="710" y="17"/>
                    </a:lnTo>
                    <a:lnTo>
                      <a:pt x="710" y="17"/>
                    </a:lnTo>
                    <a:lnTo>
                      <a:pt x="711" y="15"/>
                    </a:lnTo>
                    <a:lnTo>
                      <a:pt x="711" y="14"/>
                    </a:lnTo>
                    <a:lnTo>
                      <a:pt x="711" y="14"/>
                    </a:lnTo>
                    <a:lnTo>
                      <a:pt x="711" y="12"/>
                    </a:lnTo>
                    <a:lnTo>
                      <a:pt x="711" y="11"/>
                    </a:lnTo>
                    <a:lnTo>
                      <a:pt x="711" y="10"/>
                    </a:lnTo>
                    <a:lnTo>
                      <a:pt x="710" y="10"/>
                    </a:lnTo>
                    <a:lnTo>
                      <a:pt x="709" y="9"/>
                    </a:lnTo>
                    <a:lnTo>
                      <a:pt x="706" y="9"/>
                    </a:lnTo>
                    <a:lnTo>
                      <a:pt x="704" y="9"/>
                    </a:lnTo>
                    <a:lnTo>
                      <a:pt x="704" y="9"/>
                    </a:lnTo>
                    <a:lnTo>
                      <a:pt x="704" y="10"/>
                    </a:lnTo>
                    <a:lnTo>
                      <a:pt x="704" y="11"/>
                    </a:lnTo>
                    <a:lnTo>
                      <a:pt x="701" y="11"/>
                    </a:lnTo>
                    <a:lnTo>
                      <a:pt x="701" y="11"/>
                    </a:lnTo>
                    <a:lnTo>
                      <a:pt x="693" y="11"/>
                    </a:lnTo>
                    <a:lnTo>
                      <a:pt x="679" y="25"/>
                    </a:lnTo>
                    <a:lnTo>
                      <a:pt x="675" y="25"/>
                    </a:lnTo>
                    <a:lnTo>
                      <a:pt x="675" y="24"/>
                    </a:lnTo>
                    <a:lnTo>
                      <a:pt x="674" y="21"/>
                    </a:lnTo>
                    <a:lnTo>
                      <a:pt x="673" y="21"/>
                    </a:lnTo>
                    <a:lnTo>
                      <a:pt x="673" y="20"/>
                    </a:lnTo>
                    <a:lnTo>
                      <a:pt x="670" y="20"/>
                    </a:lnTo>
                    <a:lnTo>
                      <a:pt x="669" y="19"/>
                    </a:lnTo>
                    <a:lnTo>
                      <a:pt x="668" y="20"/>
                    </a:lnTo>
                    <a:lnTo>
                      <a:pt x="666" y="20"/>
                    </a:lnTo>
                    <a:lnTo>
                      <a:pt x="664" y="20"/>
                    </a:lnTo>
                    <a:lnTo>
                      <a:pt x="663" y="21"/>
                    </a:lnTo>
                    <a:lnTo>
                      <a:pt x="661" y="22"/>
                    </a:lnTo>
                    <a:lnTo>
                      <a:pt x="661" y="22"/>
                    </a:lnTo>
                    <a:lnTo>
                      <a:pt x="660" y="25"/>
                    </a:lnTo>
                    <a:lnTo>
                      <a:pt x="660" y="26"/>
                    </a:lnTo>
                    <a:lnTo>
                      <a:pt x="660" y="27"/>
                    </a:lnTo>
                    <a:lnTo>
                      <a:pt x="661" y="29"/>
                    </a:lnTo>
                    <a:lnTo>
                      <a:pt x="661" y="30"/>
                    </a:lnTo>
                    <a:lnTo>
                      <a:pt x="663" y="31"/>
                    </a:lnTo>
                    <a:lnTo>
                      <a:pt x="663" y="31"/>
                    </a:lnTo>
                    <a:lnTo>
                      <a:pt x="664" y="33"/>
                    </a:lnTo>
                    <a:lnTo>
                      <a:pt x="668" y="34"/>
                    </a:lnTo>
                    <a:lnTo>
                      <a:pt x="670" y="34"/>
                    </a:lnTo>
                    <a:lnTo>
                      <a:pt x="673" y="34"/>
                    </a:lnTo>
                    <a:lnTo>
                      <a:pt x="674" y="33"/>
                    </a:lnTo>
                    <a:lnTo>
                      <a:pt x="674" y="31"/>
                    </a:lnTo>
                    <a:lnTo>
                      <a:pt x="675" y="29"/>
                    </a:lnTo>
                    <a:lnTo>
                      <a:pt x="675" y="29"/>
                    </a:lnTo>
                    <a:lnTo>
                      <a:pt x="693" y="29"/>
                    </a:lnTo>
                    <a:lnTo>
                      <a:pt x="704" y="40"/>
                    </a:lnTo>
                    <a:lnTo>
                      <a:pt x="714" y="40"/>
                    </a:lnTo>
                    <a:lnTo>
                      <a:pt x="714" y="45"/>
                    </a:lnTo>
                    <a:lnTo>
                      <a:pt x="723" y="45"/>
                    </a:lnTo>
                    <a:lnTo>
                      <a:pt x="723" y="34"/>
                    </a:lnTo>
                    <a:lnTo>
                      <a:pt x="714" y="34"/>
                    </a:lnTo>
                    <a:lnTo>
                      <a:pt x="714" y="39"/>
                    </a:lnTo>
                    <a:lnTo>
                      <a:pt x="706" y="39"/>
                    </a:lnTo>
                    <a:lnTo>
                      <a:pt x="698" y="29"/>
                    </a:lnTo>
                    <a:lnTo>
                      <a:pt x="727" y="29"/>
                    </a:lnTo>
                    <a:lnTo>
                      <a:pt x="727" y="31"/>
                    </a:lnTo>
                    <a:lnTo>
                      <a:pt x="738" y="27"/>
                    </a:lnTo>
                    <a:lnTo>
                      <a:pt x="727" y="22"/>
                    </a:lnTo>
                    <a:lnTo>
                      <a:pt x="727" y="25"/>
                    </a:lnTo>
                    <a:lnTo>
                      <a:pt x="727" y="25"/>
                    </a:lnTo>
                    <a:close/>
                    <a:moveTo>
                      <a:pt x="1037" y="51"/>
                    </a:moveTo>
                    <a:lnTo>
                      <a:pt x="1076" y="51"/>
                    </a:lnTo>
                    <a:lnTo>
                      <a:pt x="1079" y="51"/>
                    </a:lnTo>
                    <a:lnTo>
                      <a:pt x="1080" y="51"/>
                    </a:lnTo>
                    <a:lnTo>
                      <a:pt x="1082" y="50"/>
                    </a:lnTo>
                    <a:lnTo>
                      <a:pt x="1084" y="49"/>
                    </a:lnTo>
                    <a:lnTo>
                      <a:pt x="1085" y="48"/>
                    </a:lnTo>
                    <a:lnTo>
                      <a:pt x="1086" y="45"/>
                    </a:lnTo>
                    <a:lnTo>
                      <a:pt x="1086" y="43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11"/>
                    </a:lnTo>
                    <a:lnTo>
                      <a:pt x="1086" y="9"/>
                    </a:lnTo>
                    <a:lnTo>
                      <a:pt x="1086" y="6"/>
                    </a:lnTo>
                    <a:lnTo>
                      <a:pt x="1085" y="5"/>
                    </a:lnTo>
                    <a:lnTo>
                      <a:pt x="1084" y="2"/>
                    </a:lnTo>
                    <a:lnTo>
                      <a:pt x="1082" y="1"/>
                    </a:lnTo>
                    <a:lnTo>
                      <a:pt x="1080" y="1"/>
                    </a:lnTo>
                    <a:lnTo>
                      <a:pt x="1079" y="0"/>
                    </a:lnTo>
                    <a:lnTo>
                      <a:pt x="1076" y="0"/>
                    </a:lnTo>
                    <a:lnTo>
                      <a:pt x="1076" y="0"/>
                    </a:lnTo>
                    <a:lnTo>
                      <a:pt x="1037" y="0"/>
                    </a:lnTo>
                    <a:lnTo>
                      <a:pt x="1035" y="0"/>
                    </a:lnTo>
                    <a:lnTo>
                      <a:pt x="1033" y="1"/>
                    </a:lnTo>
                    <a:lnTo>
                      <a:pt x="1031" y="1"/>
                    </a:lnTo>
                    <a:lnTo>
                      <a:pt x="1030" y="2"/>
                    </a:lnTo>
                    <a:lnTo>
                      <a:pt x="1028" y="5"/>
                    </a:lnTo>
                    <a:lnTo>
                      <a:pt x="1027" y="6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1"/>
                    </a:lnTo>
                    <a:lnTo>
                      <a:pt x="1026" y="40"/>
                    </a:lnTo>
                    <a:lnTo>
                      <a:pt x="1026" y="43"/>
                    </a:lnTo>
                    <a:lnTo>
                      <a:pt x="1027" y="45"/>
                    </a:lnTo>
                    <a:lnTo>
                      <a:pt x="1028" y="48"/>
                    </a:lnTo>
                    <a:lnTo>
                      <a:pt x="1030" y="49"/>
                    </a:lnTo>
                    <a:lnTo>
                      <a:pt x="1031" y="50"/>
                    </a:lnTo>
                    <a:lnTo>
                      <a:pt x="1033" y="51"/>
                    </a:lnTo>
                    <a:lnTo>
                      <a:pt x="1035" y="51"/>
                    </a:lnTo>
                    <a:lnTo>
                      <a:pt x="1037" y="51"/>
                    </a:lnTo>
                    <a:lnTo>
                      <a:pt x="1037" y="51"/>
                    </a:lnTo>
                    <a:close/>
                    <a:moveTo>
                      <a:pt x="1044" y="43"/>
                    </a:moveTo>
                    <a:lnTo>
                      <a:pt x="1050" y="43"/>
                    </a:lnTo>
                    <a:lnTo>
                      <a:pt x="1056" y="43"/>
                    </a:lnTo>
                    <a:lnTo>
                      <a:pt x="1062" y="43"/>
                    </a:lnTo>
                    <a:lnTo>
                      <a:pt x="1069" y="43"/>
                    </a:lnTo>
                    <a:lnTo>
                      <a:pt x="1070" y="43"/>
                    </a:lnTo>
                    <a:lnTo>
                      <a:pt x="1072" y="43"/>
                    </a:lnTo>
                    <a:lnTo>
                      <a:pt x="1074" y="41"/>
                    </a:lnTo>
                    <a:lnTo>
                      <a:pt x="1075" y="40"/>
                    </a:lnTo>
                    <a:lnTo>
                      <a:pt x="1076" y="39"/>
                    </a:lnTo>
                    <a:lnTo>
                      <a:pt x="1077" y="38"/>
                    </a:lnTo>
                    <a:lnTo>
                      <a:pt x="1077" y="35"/>
                    </a:lnTo>
                    <a:lnTo>
                      <a:pt x="1077" y="34"/>
                    </a:lnTo>
                    <a:lnTo>
                      <a:pt x="1077" y="34"/>
                    </a:lnTo>
                    <a:lnTo>
                      <a:pt x="1077" y="30"/>
                    </a:lnTo>
                    <a:lnTo>
                      <a:pt x="1077" y="26"/>
                    </a:lnTo>
                    <a:lnTo>
                      <a:pt x="1077" y="21"/>
                    </a:lnTo>
                    <a:lnTo>
                      <a:pt x="1077" y="17"/>
                    </a:lnTo>
                    <a:lnTo>
                      <a:pt x="1077" y="16"/>
                    </a:lnTo>
                    <a:lnTo>
                      <a:pt x="1077" y="15"/>
                    </a:lnTo>
                    <a:lnTo>
                      <a:pt x="1076" y="14"/>
                    </a:lnTo>
                    <a:lnTo>
                      <a:pt x="1075" y="11"/>
                    </a:lnTo>
                    <a:lnTo>
                      <a:pt x="1074" y="11"/>
                    </a:lnTo>
                    <a:lnTo>
                      <a:pt x="1072" y="10"/>
                    </a:lnTo>
                    <a:lnTo>
                      <a:pt x="1070" y="9"/>
                    </a:lnTo>
                    <a:lnTo>
                      <a:pt x="1069" y="9"/>
                    </a:lnTo>
                    <a:lnTo>
                      <a:pt x="1062" y="9"/>
                    </a:lnTo>
                    <a:lnTo>
                      <a:pt x="1056" y="9"/>
                    </a:lnTo>
                    <a:lnTo>
                      <a:pt x="1050" y="9"/>
                    </a:lnTo>
                    <a:lnTo>
                      <a:pt x="1044" y="9"/>
                    </a:lnTo>
                    <a:lnTo>
                      <a:pt x="1042" y="9"/>
                    </a:lnTo>
                    <a:lnTo>
                      <a:pt x="1041" y="10"/>
                    </a:lnTo>
                    <a:lnTo>
                      <a:pt x="1039" y="11"/>
                    </a:lnTo>
                    <a:lnTo>
                      <a:pt x="1037" y="11"/>
                    </a:lnTo>
                    <a:lnTo>
                      <a:pt x="1036" y="14"/>
                    </a:lnTo>
                    <a:lnTo>
                      <a:pt x="1036" y="15"/>
                    </a:lnTo>
                    <a:lnTo>
                      <a:pt x="1035" y="16"/>
                    </a:lnTo>
                    <a:lnTo>
                      <a:pt x="1035" y="17"/>
                    </a:lnTo>
                    <a:lnTo>
                      <a:pt x="1035" y="21"/>
                    </a:lnTo>
                    <a:lnTo>
                      <a:pt x="1035" y="26"/>
                    </a:lnTo>
                    <a:lnTo>
                      <a:pt x="1035" y="30"/>
                    </a:lnTo>
                    <a:lnTo>
                      <a:pt x="1035" y="34"/>
                    </a:lnTo>
                    <a:lnTo>
                      <a:pt x="1035" y="35"/>
                    </a:lnTo>
                    <a:lnTo>
                      <a:pt x="1036" y="38"/>
                    </a:lnTo>
                    <a:lnTo>
                      <a:pt x="1036" y="39"/>
                    </a:lnTo>
                    <a:lnTo>
                      <a:pt x="1037" y="40"/>
                    </a:lnTo>
                    <a:lnTo>
                      <a:pt x="1039" y="41"/>
                    </a:lnTo>
                    <a:lnTo>
                      <a:pt x="1041" y="43"/>
                    </a:lnTo>
                    <a:lnTo>
                      <a:pt x="1042" y="43"/>
                    </a:lnTo>
                    <a:lnTo>
                      <a:pt x="1044" y="43"/>
                    </a:lnTo>
                    <a:lnTo>
                      <a:pt x="104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2" name=""/>
              <p:cNvSpPr/>
              <p:nvPr/>
            </p:nvSpPr>
            <p:spPr>
              <a:xfrm>
                <a:off x="4445280" y="4997880"/>
                <a:ext cx="1683720" cy="174960"/>
              </a:xfrm>
              <a:custGeom>
                <a:avLst/>
                <a:gdLst/>
                <a:ahLst/>
                <a:rect l="l" t="t" r="r" b="b"/>
                <a:pathLst>
                  <a:path w="2476" h="317">
                    <a:moveTo>
                      <a:pt x="41" y="39"/>
                    </a:moveTo>
                    <a:lnTo>
                      <a:pt x="4" y="39"/>
                    </a:lnTo>
                    <a:lnTo>
                      <a:pt x="23" y="8"/>
                    </a:lnTo>
                    <a:lnTo>
                      <a:pt x="41" y="39"/>
                    </a:lnTo>
                    <a:lnTo>
                      <a:pt x="41" y="39"/>
                    </a:lnTo>
                    <a:close/>
                    <a:moveTo>
                      <a:pt x="24" y="3"/>
                    </a:move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  <a:moveTo>
                      <a:pt x="23" y="37"/>
                    </a:moveTo>
                    <a:lnTo>
                      <a:pt x="24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close/>
                    <a:moveTo>
                      <a:pt x="24" y="31"/>
                    </a:moveTo>
                    <a:lnTo>
                      <a:pt x="24" y="27"/>
                    </a:lnTo>
                    <a:lnTo>
                      <a:pt x="24" y="23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4" y="31"/>
                    </a:lnTo>
                    <a:close/>
                    <a:moveTo>
                      <a:pt x="43" y="71"/>
                    </a:moveTo>
                    <a:lnTo>
                      <a:pt x="43" y="67"/>
                    </a:lnTo>
                    <a:lnTo>
                      <a:pt x="42" y="63"/>
                    </a:lnTo>
                    <a:lnTo>
                      <a:pt x="39" y="60"/>
                    </a:lnTo>
                    <a:lnTo>
                      <a:pt x="37" y="57"/>
                    </a:lnTo>
                    <a:lnTo>
                      <a:pt x="34" y="55"/>
                    </a:lnTo>
                    <a:lnTo>
                      <a:pt x="30" y="52"/>
                    </a:lnTo>
                    <a:lnTo>
                      <a:pt x="27" y="51"/>
                    </a:lnTo>
                    <a:lnTo>
                      <a:pt x="23" y="51"/>
                    </a:lnTo>
                    <a:lnTo>
                      <a:pt x="18" y="51"/>
                    </a:lnTo>
                    <a:lnTo>
                      <a:pt x="15" y="52"/>
                    </a:lnTo>
                    <a:lnTo>
                      <a:pt x="12" y="55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5" y="63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9" y="86"/>
                    </a:lnTo>
                    <a:lnTo>
                      <a:pt x="12" y="89"/>
                    </a:lnTo>
                    <a:lnTo>
                      <a:pt x="15" y="90"/>
                    </a:lnTo>
                    <a:lnTo>
                      <a:pt x="18" y="91"/>
                    </a:lnTo>
                    <a:lnTo>
                      <a:pt x="23" y="91"/>
                    </a:lnTo>
                    <a:lnTo>
                      <a:pt x="27" y="91"/>
                    </a:lnTo>
                    <a:lnTo>
                      <a:pt x="30" y="90"/>
                    </a:lnTo>
                    <a:lnTo>
                      <a:pt x="34" y="89"/>
                    </a:lnTo>
                    <a:lnTo>
                      <a:pt x="37" y="86"/>
                    </a:lnTo>
                    <a:lnTo>
                      <a:pt x="39" y="82"/>
                    </a:lnTo>
                    <a:lnTo>
                      <a:pt x="42" y="79"/>
                    </a:lnTo>
                    <a:lnTo>
                      <a:pt x="43" y="75"/>
                    </a:lnTo>
                    <a:lnTo>
                      <a:pt x="43" y="71"/>
                    </a:lnTo>
                    <a:lnTo>
                      <a:pt x="43" y="71"/>
                    </a:lnTo>
                    <a:close/>
                    <a:moveTo>
                      <a:pt x="23" y="73"/>
                    </a:moveTo>
                    <a:lnTo>
                      <a:pt x="22" y="75"/>
                    </a:lnTo>
                    <a:lnTo>
                      <a:pt x="22" y="76"/>
                    </a:lnTo>
                    <a:lnTo>
                      <a:pt x="19" y="76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1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20" y="80"/>
                    </a:lnTo>
                    <a:lnTo>
                      <a:pt x="22" y="79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34" y="85"/>
                    </a:lnTo>
                    <a:lnTo>
                      <a:pt x="30" y="86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9" y="80"/>
                    </a:lnTo>
                    <a:lnTo>
                      <a:pt x="8" y="77"/>
                    </a:lnTo>
                    <a:lnTo>
                      <a:pt x="7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23" y="73"/>
                    </a:lnTo>
                    <a:lnTo>
                      <a:pt x="23" y="73"/>
                    </a:lnTo>
                    <a:close/>
                    <a:moveTo>
                      <a:pt x="27" y="76"/>
                    </a:moveTo>
                    <a:lnTo>
                      <a:pt x="29" y="73"/>
                    </a:lnTo>
                    <a:lnTo>
                      <a:pt x="32" y="72"/>
                    </a:lnTo>
                    <a:lnTo>
                      <a:pt x="33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8" y="70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13" y="57"/>
                    </a:lnTo>
                    <a:lnTo>
                      <a:pt x="17" y="56"/>
                    </a:lnTo>
                    <a:lnTo>
                      <a:pt x="19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9" y="55"/>
                    </a:lnTo>
                    <a:lnTo>
                      <a:pt x="32" y="57"/>
                    </a:lnTo>
                    <a:lnTo>
                      <a:pt x="34" y="58"/>
                    </a:lnTo>
                    <a:lnTo>
                      <a:pt x="37" y="62"/>
                    </a:lnTo>
                    <a:lnTo>
                      <a:pt x="38" y="65"/>
                    </a:lnTo>
                    <a:lnTo>
                      <a:pt x="39" y="67"/>
                    </a:lnTo>
                    <a:lnTo>
                      <a:pt x="39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9"/>
                    </a:lnTo>
                    <a:lnTo>
                      <a:pt x="35" y="81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27" y="76"/>
                    </a:lnTo>
                    <a:lnTo>
                      <a:pt x="27" y="76"/>
                    </a:lnTo>
                    <a:close/>
                    <a:moveTo>
                      <a:pt x="681" y="139"/>
                    </a:moveTo>
                    <a:lnTo>
                      <a:pt x="681" y="138"/>
                    </a:lnTo>
                    <a:lnTo>
                      <a:pt x="680" y="137"/>
                    </a:lnTo>
                    <a:lnTo>
                      <a:pt x="678" y="135"/>
                    </a:lnTo>
                    <a:lnTo>
                      <a:pt x="677" y="135"/>
                    </a:lnTo>
                    <a:lnTo>
                      <a:pt x="674" y="135"/>
                    </a:lnTo>
                    <a:lnTo>
                      <a:pt x="673" y="137"/>
                    </a:lnTo>
                    <a:lnTo>
                      <a:pt x="672" y="138"/>
                    </a:lnTo>
                    <a:lnTo>
                      <a:pt x="672" y="139"/>
                    </a:lnTo>
                    <a:lnTo>
                      <a:pt x="672" y="143"/>
                    </a:lnTo>
                    <a:lnTo>
                      <a:pt x="673" y="144"/>
                    </a:lnTo>
                    <a:lnTo>
                      <a:pt x="674" y="145"/>
                    </a:lnTo>
                    <a:lnTo>
                      <a:pt x="677" y="147"/>
                    </a:lnTo>
                    <a:lnTo>
                      <a:pt x="678" y="145"/>
                    </a:lnTo>
                    <a:lnTo>
                      <a:pt x="680" y="144"/>
                    </a:lnTo>
                    <a:lnTo>
                      <a:pt x="681" y="143"/>
                    </a:lnTo>
                    <a:lnTo>
                      <a:pt x="681" y="139"/>
                    </a:lnTo>
                    <a:lnTo>
                      <a:pt x="681" y="139"/>
                    </a:lnTo>
                    <a:close/>
                    <a:moveTo>
                      <a:pt x="633" y="167"/>
                    </a:moveTo>
                    <a:lnTo>
                      <a:pt x="633" y="166"/>
                    </a:lnTo>
                    <a:lnTo>
                      <a:pt x="632" y="163"/>
                    </a:lnTo>
                    <a:lnTo>
                      <a:pt x="631" y="163"/>
                    </a:lnTo>
                    <a:lnTo>
                      <a:pt x="629" y="162"/>
                    </a:lnTo>
                    <a:lnTo>
                      <a:pt x="628" y="163"/>
                    </a:lnTo>
                    <a:lnTo>
                      <a:pt x="626" y="163"/>
                    </a:lnTo>
                    <a:lnTo>
                      <a:pt x="626" y="166"/>
                    </a:lnTo>
                    <a:lnTo>
                      <a:pt x="624" y="167"/>
                    </a:lnTo>
                    <a:lnTo>
                      <a:pt x="626" y="169"/>
                    </a:lnTo>
                    <a:lnTo>
                      <a:pt x="626" y="172"/>
                    </a:lnTo>
                    <a:lnTo>
                      <a:pt x="628" y="173"/>
                    </a:lnTo>
                    <a:lnTo>
                      <a:pt x="629" y="173"/>
                    </a:lnTo>
                    <a:lnTo>
                      <a:pt x="631" y="173"/>
                    </a:lnTo>
                    <a:lnTo>
                      <a:pt x="632" y="172"/>
                    </a:lnTo>
                    <a:lnTo>
                      <a:pt x="633" y="169"/>
                    </a:lnTo>
                    <a:lnTo>
                      <a:pt x="633" y="167"/>
                    </a:lnTo>
                    <a:lnTo>
                      <a:pt x="633" y="167"/>
                    </a:lnTo>
                    <a:close/>
                    <a:moveTo>
                      <a:pt x="661" y="167"/>
                    </a:moveTo>
                    <a:lnTo>
                      <a:pt x="661" y="166"/>
                    </a:lnTo>
                    <a:lnTo>
                      <a:pt x="659" y="163"/>
                    </a:lnTo>
                    <a:lnTo>
                      <a:pt x="658" y="163"/>
                    </a:lnTo>
                    <a:lnTo>
                      <a:pt x="657" y="162"/>
                    </a:lnTo>
                    <a:lnTo>
                      <a:pt x="654" y="162"/>
                    </a:lnTo>
                    <a:lnTo>
                      <a:pt x="653" y="163"/>
                    </a:lnTo>
                    <a:lnTo>
                      <a:pt x="653" y="163"/>
                    </a:lnTo>
                    <a:lnTo>
                      <a:pt x="652" y="163"/>
                    </a:lnTo>
                    <a:lnTo>
                      <a:pt x="652" y="166"/>
                    </a:lnTo>
                    <a:lnTo>
                      <a:pt x="652" y="167"/>
                    </a:lnTo>
                    <a:lnTo>
                      <a:pt x="652" y="169"/>
                    </a:lnTo>
                    <a:lnTo>
                      <a:pt x="652" y="172"/>
                    </a:lnTo>
                    <a:lnTo>
                      <a:pt x="653" y="173"/>
                    </a:lnTo>
                    <a:lnTo>
                      <a:pt x="653" y="173"/>
                    </a:lnTo>
                    <a:lnTo>
                      <a:pt x="654" y="173"/>
                    </a:lnTo>
                    <a:lnTo>
                      <a:pt x="657" y="173"/>
                    </a:lnTo>
                    <a:lnTo>
                      <a:pt x="658" y="173"/>
                    </a:lnTo>
                    <a:lnTo>
                      <a:pt x="659" y="172"/>
                    </a:lnTo>
                    <a:lnTo>
                      <a:pt x="661" y="169"/>
                    </a:lnTo>
                    <a:lnTo>
                      <a:pt x="661" y="167"/>
                    </a:lnTo>
                    <a:lnTo>
                      <a:pt x="661" y="167"/>
                    </a:lnTo>
                    <a:close/>
                    <a:moveTo>
                      <a:pt x="613" y="139"/>
                    </a:moveTo>
                    <a:lnTo>
                      <a:pt x="613" y="138"/>
                    </a:lnTo>
                    <a:lnTo>
                      <a:pt x="612" y="137"/>
                    </a:lnTo>
                    <a:lnTo>
                      <a:pt x="611" y="135"/>
                    </a:lnTo>
                    <a:lnTo>
                      <a:pt x="609" y="135"/>
                    </a:lnTo>
                    <a:lnTo>
                      <a:pt x="607" y="135"/>
                    </a:lnTo>
                    <a:lnTo>
                      <a:pt x="607" y="135"/>
                    </a:lnTo>
                    <a:lnTo>
                      <a:pt x="606" y="135"/>
                    </a:lnTo>
                    <a:lnTo>
                      <a:pt x="604" y="137"/>
                    </a:lnTo>
                    <a:lnTo>
                      <a:pt x="604" y="138"/>
                    </a:lnTo>
                    <a:lnTo>
                      <a:pt x="604" y="139"/>
                    </a:lnTo>
                    <a:lnTo>
                      <a:pt x="604" y="143"/>
                    </a:lnTo>
                    <a:lnTo>
                      <a:pt x="604" y="144"/>
                    </a:lnTo>
                    <a:lnTo>
                      <a:pt x="606" y="145"/>
                    </a:lnTo>
                    <a:lnTo>
                      <a:pt x="607" y="145"/>
                    </a:lnTo>
                    <a:lnTo>
                      <a:pt x="607" y="147"/>
                    </a:lnTo>
                    <a:lnTo>
                      <a:pt x="609" y="147"/>
                    </a:lnTo>
                    <a:lnTo>
                      <a:pt x="611" y="145"/>
                    </a:lnTo>
                    <a:lnTo>
                      <a:pt x="612" y="144"/>
                    </a:lnTo>
                    <a:lnTo>
                      <a:pt x="613" y="143"/>
                    </a:lnTo>
                    <a:lnTo>
                      <a:pt x="613" y="139"/>
                    </a:lnTo>
                    <a:lnTo>
                      <a:pt x="613" y="139"/>
                    </a:lnTo>
                    <a:close/>
                    <a:moveTo>
                      <a:pt x="633" y="137"/>
                    </a:moveTo>
                    <a:lnTo>
                      <a:pt x="652" y="137"/>
                    </a:lnTo>
                    <a:lnTo>
                      <a:pt x="652" y="105"/>
                    </a:lnTo>
                    <a:lnTo>
                      <a:pt x="633" y="105"/>
                    </a:lnTo>
                    <a:lnTo>
                      <a:pt x="633" y="137"/>
                    </a:lnTo>
                    <a:lnTo>
                      <a:pt x="633" y="137"/>
                    </a:lnTo>
                    <a:close/>
                    <a:moveTo>
                      <a:pt x="621" y="114"/>
                    </a:moveTo>
                    <a:lnTo>
                      <a:pt x="619" y="111"/>
                    </a:lnTo>
                    <a:lnTo>
                      <a:pt x="619" y="109"/>
                    </a:lnTo>
                    <a:lnTo>
                      <a:pt x="617" y="108"/>
                    </a:lnTo>
                    <a:lnTo>
                      <a:pt x="616" y="108"/>
                    </a:lnTo>
                    <a:lnTo>
                      <a:pt x="614" y="108"/>
                    </a:lnTo>
                    <a:lnTo>
                      <a:pt x="613" y="109"/>
                    </a:lnTo>
                    <a:lnTo>
                      <a:pt x="612" y="111"/>
                    </a:lnTo>
                    <a:lnTo>
                      <a:pt x="611" y="114"/>
                    </a:lnTo>
                    <a:lnTo>
                      <a:pt x="612" y="116"/>
                    </a:lnTo>
                    <a:lnTo>
                      <a:pt x="613" y="118"/>
                    </a:lnTo>
                    <a:lnTo>
                      <a:pt x="614" y="119"/>
                    </a:lnTo>
                    <a:lnTo>
                      <a:pt x="616" y="119"/>
                    </a:lnTo>
                    <a:lnTo>
                      <a:pt x="617" y="119"/>
                    </a:lnTo>
                    <a:lnTo>
                      <a:pt x="619" y="118"/>
                    </a:lnTo>
                    <a:lnTo>
                      <a:pt x="619" y="116"/>
                    </a:lnTo>
                    <a:lnTo>
                      <a:pt x="621" y="114"/>
                    </a:lnTo>
                    <a:lnTo>
                      <a:pt x="621" y="114"/>
                    </a:lnTo>
                    <a:close/>
                    <a:moveTo>
                      <a:pt x="674" y="114"/>
                    </a:moveTo>
                    <a:lnTo>
                      <a:pt x="674" y="111"/>
                    </a:lnTo>
                    <a:lnTo>
                      <a:pt x="673" y="109"/>
                    </a:lnTo>
                    <a:lnTo>
                      <a:pt x="672" y="108"/>
                    </a:lnTo>
                    <a:lnTo>
                      <a:pt x="669" y="108"/>
                    </a:lnTo>
                    <a:lnTo>
                      <a:pt x="667" y="108"/>
                    </a:lnTo>
                    <a:lnTo>
                      <a:pt x="664" y="109"/>
                    </a:lnTo>
                    <a:lnTo>
                      <a:pt x="663" y="111"/>
                    </a:lnTo>
                    <a:lnTo>
                      <a:pt x="663" y="114"/>
                    </a:lnTo>
                    <a:lnTo>
                      <a:pt x="663" y="116"/>
                    </a:lnTo>
                    <a:lnTo>
                      <a:pt x="664" y="118"/>
                    </a:lnTo>
                    <a:lnTo>
                      <a:pt x="667" y="119"/>
                    </a:lnTo>
                    <a:lnTo>
                      <a:pt x="669" y="119"/>
                    </a:lnTo>
                    <a:lnTo>
                      <a:pt x="672" y="119"/>
                    </a:lnTo>
                    <a:lnTo>
                      <a:pt x="673" y="118"/>
                    </a:lnTo>
                    <a:lnTo>
                      <a:pt x="674" y="116"/>
                    </a:lnTo>
                    <a:lnTo>
                      <a:pt x="674" y="114"/>
                    </a:lnTo>
                    <a:lnTo>
                      <a:pt x="674" y="114"/>
                    </a:lnTo>
                    <a:close/>
                    <a:moveTo>
                      <a:pt x="607" y="281"/>
                    </a:moveTo>
                    <a:lnTo>
                      <a:pt x="607" y="317"/>
                    </a:lnTo>
                    <a:lnTo>
                      <a:pt x="681" y="317"/>
                    </a:lnTo>
                    <a:lnTo>
                      <a:pt x="681" y="281"/>
                    </a:lnTo>
                    <a:lnTo>
                      <a:pt x="607" y="281"/>
                    </a:lnTo>
                    <a:lnTo>
                      <a:pt x="607" y="281"/>
                    </a:lnTo>
                    <a:close/>
                    <a:moveTo>
                      <a:pt x="611" y="286"/>
                    </a:moveTo>
                    <a:lnTo>
                      <a:pt x="611" y="311"/>
                    </a:lnTo>
                    <a:lnTo>
                      <a:pt x="674" y="311"/>
                    </a:lnTo>
                    <a:lnTo>
                      <a:pt x="674" y="286"/>
                    </a:lnTo>
                    <a:lnTo>
                      <a:pt x="611" y="286"/>
                    </a:lnTo>
                    <a:lnTo>
                      <a:pt x="611" y="286"/>
                    </a:lnTo>
                    <a:close/>
                    <a:moveTo>
                      <a:pt x="668" y="288"/>
                    </a:moveTo>
                    <a:lnTo>
                      <a:pt x="668" y="294"/>
                    </a:lnTo>
                    <a:lnTo>
                      <a:pt x="672" y="294"/>
                    </a:lnTo>
                    <a:lnTo>
                      <a:pt x="672" y="288"/>
                    </a:lnTo>
                    <a:lnTo>
                      <a:pt x="668" y="288"/>
                    </a:lnTo>
                    <a:lnTo>
                      <a:pt x="668" y="288"/>
                    </a:lnTo>
                    <a:close/>
                    <a:moveTo>
                      <a:pt x="658" y="288"/>
                    </a:moveTo>
                    <a:lnTo>
                      <a:pt x="658" y="294"/>
                    </a:lnTo>
                    <a:lnTo>
                      <a:pt x="663" y="294"/>
                    </a:lnTo>
                    <a:lnTo>
                      <a:pt x="663" y="288"/>
                    </a:lnTo>
                    <a:lnTo>
                      <a:pt x="658" y="288"/>
                    </a:lnTo>
                    <a:lnTo>
                      <a:pt x="658" y="288"/>
                    </a:lnTo>
                    <a:close/>
                    <a:moveTo>
                      <a:pt x="663" y="297"/>
                    </a:moveTo>
                    <a:lnTo>
                      <a:pt x="663" y="301"/>
                    </a:lnTo>
                    <a:lnTo>
                      <a:pt x="668" y="301"/>
                    </a:lnTo>
                    <a:lnTo>
                      <a:pt x="668" y="297"/>
                    </a:lnTo>
                    <a:lnTo>
                      <a:pt x="663" y="297"/>
                    </a:lnTo>
                    <a:lnTo>
                      <a:pt x="663" y="297"/>
                    </a:lnTo>
                    <a:close/>
                    <a:moveTo>
                      <a:pt x="649" y="288"/>
                    </a:moveTo>
                    <a:lnTo>
                      <a:pt x="649" y="294"/>
                    </a:lnTo>
                    <a:lnTo>
                      <a:pt x="654" y="294"/>
                    </a:lnTo>
                    <a:lnTo>
                      <a:pt x="654" y="288"/>
                    </a:lnTo>
                    <a:lnTo>
                      <a:pt x="649" y="288"/>
                    </a:lnTo>
                    <a:lnTo>
                      <a:pt x="649" y="288"/>
                    </a:lnTo>
                    <a:close/>
                    <a:moveTo>
                      <a:pt x="641" y="288"/>
                    </a:moveTo>
                    <a:lnTo>
                      <a:pt x="641" y="294"/>
                    </a:lnTo>
                    <a:lnTo>
                      <a:pt x="647" y="294"/>
                    </a:lnTo>
                    <a:lnTo>
                      <a:pt x="647" y="288"/>
                    </a:lnTo>
                    <a:lnTo>
                      <a:pt x="641" y="288"/>
                    </a:lnTo>
                    <a:lnTo>
                      <a:pt x="641" y="288"/>
                    </a:lnTo>
                    <a:close/>
                    <a:moveTo>
                      <a:pt x="632" y="288"/>
                    </a:moveTo>
                    <a:lnTo>
                      <a:pt x="632" y="294"/>
                    </a:lnTo>
                    <a:lnTo>
                      <a:pt x="638" y="294"/>
                    </a:lnTo>
                    <a:lnTo>
                      <a:pt x="638" y="288"/>
                    </a:lnTo>
                    <a:lnTo>
                      <a:pt x="632" y="288"/>
                    </a:lnTo>
                    <a:lnTo>
                      <a:pt x="632" y="288"/>
                    </a:lnTo>
                    <a:close/>
                    <a:moveTo>
                      <a:pt x="622" y="288"/>
                    </a:moveTo>
                    <a:lnTo>
                      <a:pt x="622" y="294"/>
                    </a:lnTo>
                    <a:lnTo>
                      <a:pt x="629" y="294"/>
                    </a:lnTo>
                    <a:lnTo>
                      <a:pt x="629" y="288"/>
                    </a:lnTo>
                    <a:lnTo>
                      <a:pt x="622" y="288"/>
                    </a:lnTo>
                    <a:lnTo>
                      <a:pt x="622" y="288"/>
                    </a:lnTo>
                    <a:close/>
                    <a:moveTo>
                      <a:pt x="616" y="288"/>
                    </a:moveTo>
                    <a:lnTo>
                      <a:pt x="616" y="294"/>
                    </a:lnTo>
                    <a:lnTo>
                      <a:pt x="621" y="294"/>
                    </a:lnTo>
                    <a:lnTo>
                      <a:pt x="621" y="288"/>
                    </a:lnTo>
                    <a:lnTo>
                      <a:pt x="616" y="288"/>
                    </a:lnTo>
                    <a:lnTo>
                      <a:pt x="616" y="288"/>
                    </a:lnTo>
                    <a:close/>
                    <a:moveTo>
                      <a:pt x="654" y="297"/>
                    </a:moveTo>
                    <a:lnTo>
                      <a:pt x="654" y="301"/>
                    </a:lnTo>
                    <a:lnTo>
                      <a:pt x="658" y="301"/>
                    </a:lnTo>
                    <a:lnTo>
                      <a:pt x="658" y="297"/>
                    </a:lnTo>
                    <a:lnTo>
                      <a:pt x="654" y="297"/>
                    </a:lnTo>
                    <a:lnTo>
                      <a:pt x="654" y="297"/>
                    </a:lnTo>
                    <a:close/>
                    <a:moveTo>
                      <a:pt x="644" y="297"/>
                    </a:moveTo>
                    <a:lnTo>
                      <a:pt x="644" y="301"/>
                    </a:lnTo>
                    <a:lnTo>
                      <a:pt x="649" y="301"/>
                    </a:lnTo>
                    <a:lnTo>
                      <a:pt x="649" y="297"/>
                    </a:lnTo>
                    <a:lnTo>
                      <a:pt x="644" y="297"/>
                    </a:lnTo>
                    <a:lnTo>
                      <a:pt x="644" y="297"/>
                    </a:lnTo>
                    <a:close/>
                    <a:moveTo>
                      <a:pt x="636" y="297"/>
                    </a:moveTo>
                    <a:lnTo>
                      <a:pt x="636" y="301"/>
                    </a:lnTo>
                    <a:lnTo>
                      <a:pt x="643" y="301"/>
                    </a:lnTo>
                    <a:lnTo>
                      <a:pt x="643" y="297"/>
                    </a:lnTo>
                    <a:lnTo>
                      <a:pt x="636" y="297"/>
                    </a:lnTo>
                    <a:lnTo>
                      <a:pt x="636" y="297"/>
                    </a:lnTo>
                    <a:close/>
                    <a:moveTo>
                      <a:pt x="627" y="297"/>
                    </a:moveTo>
                    <a:lnTo>
                      <a:pt x="627" y="301"/>
                    </a:lnTo>
                    <a:lnTo>
                      <a:pt x="633" y="301"/>
                    </a:lnTo>
                    <a:lnTo>
                      <a:pt x="633" y="297"/>
                    </a:lnTo>
                    <a:lnTo>
                      <a:pt x="627" y="297"/>
                    </a:lnTo>
                    <a:lnTo>
                      <a:pt x="627" y="297"/>
                    </a:lnTo>
                    <a:close/>
                    <a:moveTo>
                      <a:pt x="618" y="297"/>
                    </a:moveTo>
                    <a:lnTo>
                      <a:pt x="618" y="301"/>
                    </a:lnTo>
                    <a:lnTo>
                      <a:pt x="624" y="301"/>
                    </a:lnTo>
                    <a:lnTo>
                      <a:pt x="624" y="297"/>
                    </a:lnTo>
                    <a:lnTo>
                      <a:pt x="618" y="297"/>
                    </a:lnTo>
                    <a:lnTo>
                      <a:pt x="618" y="297"/>
                    </a:lnTo>
                    <a:close/>
                    <a:moveTo>
                      <a:pt x="658" y="303"/>
                    </a:moveTo>
                    <a:lnTo>
                      <a:pt x="627" y="303"/>
                    </a:lnTo>
                    <a:lnTo>
                      <a:pt x="627" y="308"/>
                    </a:lnTo>
                    <a:lnTo>
                      <a:pt x="658" y="308"/>
                    </a:lnTo>
                    <a:lnTo>
                      <a:pt x="658" y="303"/>
                    </a:lnTo>
                    <a:lnTo>
                      <a:pt x="658" y="303"/>
                    </a:lnTo>
                    <a:close/>
                    <a:moveTo>
                      <a:pt x="663" y="303"/>
                    </a:moveTo>
                    <a:lnTo>
                      <a:pt x="663" y="308"/>
                    </a:lnTo>
                    <a:lnTo>
                      <a:pt x="669" y="308"/>
                    </a:lnTo>
                    <a:lnTo>
                      <a:pt x="669" y="303"/>
                    </a:lnTo>
                    <a:lnTo>
                      <a:pt x="663" y="303"/>
                    </a:lnTo>
                    <a:lnTo>
                      <a:pt x="663" y="303"/>
                    </a:lnTo>
                    <a:close/>
                    <a:moveTo>
                      <a:pt x="618" y="303"/>
                    </a:moveTo>
                    <a:lnTo>
                      <a:pt x="618" y="308"/>
                    </a:lnTo>
                    <a:lnTo>
                      <a:pt x="622" y="308"/>
                    </a:lnTo>
                    <a:lnTo>
                      <a:pt x="622" y="303"/>
                    </a:lnTo>
                    <a:lnTo>
                      <a:pt x="618" y="303"/>
                    </a:lnTo>
                    <a:lnTo>
                      <a:pt x="618" y="303"/>
                    </a:lnTo>
                    <a:close/>
                    <a:moveTo>
                      <a:pt x="869" y="139"/>
                    </a:moveTo>
                    <a:lnTo>
                      <a:pt x="869" y="138"/>
                    </a:lnTo>
                    <a:lnTo>
                      <a:pt x="867" y="137"/>
                    </a:lnTo>
                    <a:lnTo>
                      <a:pt x="866" y="135"/>
                    </a:lnTo>
                    <a:lnTo>
                      <a:pt x="865" y="135"/>
                    </a:lnTo>
                    <a:lnTo>
                      <a:pt x="861" y="135"/>
                    </a:lnTo>
                    <a:lnTo>
                      <a:pt x="860" y="137"/>
                    </a:lnTo>
                    <a:lnTo>
                      <a:pt x="859" y="138"/>
                    </a:lnTo>
                    <a:lnTo>
                      <a:pt x="857" y="139"/>
                    </a:lnTo>
                    <a:lnTo>
                      <a:pt x="859" y="143"/>
                    </a:lnTo>
                    <a:lnTo>
                      <a:pt x="860" y="144"/>
                    </a:lnTo>
                    <a:lnTo>
                      <a:pt x="861" y="145"/>
                    </a:lnTo>
                    <a:lnTo>
                      <a:pt x="865" y="147"/>
                    </a:lnTo>
                    <a:lnTo>
                      <a:pt x="866" y="145"/>
                    </a:lnTo>
                    <a:lnTo>
                      <a:pt x="867" y="144"/>
                    </a:lnTo>
                    <a:lnTo>
                      <a:pt x="869" y="143"/>
                    </a:lnTo>
                    <a:lnTo>
                      <a:pt x="869" y="139"/>
                    </a:lnTo>
                    <a:lnTo>
                      <a:pt x="869" y="139"/>
                    </a:lnTo>
                    <a:close/>
                    <a:moveTo>
                      <a:pt x="876" y="114"/>
                    </a:moveTo>
                    <a:lnTo>
                      <a:pt x="875" y="111"/>
                    </a:lnTo>
                    <a:lnTo>
                      <a:pt x="875" y="109"/>
                    </a:lnTo>
                    <a:lnTo>
                      <a:pt x="872" y="108"/>
                    </a:lnTo>
                    <a:lnTo>
                      <a:pt x="871" y="108"/>
                    </a:lnTo>
                    <a:lnTo>
                      <a:pt x="870" y="108"/>
                    </a:lnTo>
                    <a:lnTo>
                      <a:pt x="869" y="109"/>
                    </a:lnTo>
                    <a:lnTo>
                      <a:pt x="867" y="111"/>
                    </a:lnTo>
                    <a:lnTo>
                      <a:pt x="867" y="114"/>
                    </a:lnTo>
                    <a:lnTo>
                      <a:pt x="867" y="116"/>
                    </a:lnTo>
                    <a:lnTo>
                      <a:pt x="869" y="118"/>
                    </a:lnTo>
                    <a:lnTo>
                      <a:pt x="870" y="119"/>
                    </a:lnTo>
                    <a:lnTo>
                      <a:pt x="871" y="119"/>
                    </a:lnTo>
                    <a:lnTo>
                      <a:pt x="872" y="119"/>
                    </a:lnTo>
                    <a:lnTo>
                      <a:pt x="875" y="118"/>
                    </a:lnTo>
                    <a:lnTo>
                      <a:pt x="875" y="116"/>
                    </a:lnTo>
                    <a:lnTo>
                      <a:pt x="876" y="114"/>
                    </a:lnTo>
                    <a:lnTo>
                      <a:pt x="876" y="114"/>
                    </a:lnTo>
                    <a:close/>
                    <a:moveTo>
                      <a:pt x="890" y="167"/>
                    </a:moveTo>
                    <a:lnTo>
                      <a:pt x="889" y="166"/>
                    </a:lnTo>
                    <a:lnTo>
                      <a:pt x="887" y="163"/>
                    </a:lnTo>
                    <a:lnTo>
                      <a:pt x="886" y="163"/>
                    </a:lnTo>
                    <a:lnTo>
                      <a:pt x="885" y="162"/>
                    </a:lnTo>
                    <a:lnTo>
                      <a:pt x="884" y="162"/>
                    </a:lnTo>
                    <a:lnTo>
                      <a:pt x="882" y="163"/>
                    </a:lnTo>
                    <a:lnTo>
                      <a:pt x="881" y="163"/>
                    </a:lnTo>
                    <a:lnTo>
                      <a:pt x="881" y="163"/>
                    </a:lnTo>
                    <a:lnTo>
                      <a:pt x="880" y="166"/>
                    </a:lnTo>
                    <a:lnTo>
                      <a:pt x="880" y="167"/>
                    </a:lnTo>
                    <a:lnTo>
                      <a:pt x="880" y="169"/>
                    </a:lnTo>
                    <a:lnTo>
                      <a:pt x="881" y="172"/>
                    </a:lnTo>
                    <a:lnTo>
                      <a:pt x="881" y="173"/>
                    </a:lnTo>
                    <a:lnTo>
                      <a:pt x="882" y="173"/>
                    </a:lnTo>
                    <a:lnTo>
                      <a:pt x="884" y="173"/>
                    </a:lnTo>
                    <a:lnTo>
                      <a:pt x="885" y="173"/>
                    </a:lnTo>
                    <a:lnTo>
                      <a:pt x="886" y="173"/>
                    </a:lnTo>
                    <a:lnTo>
                      <a:pt x="887" y="172"/>
                    </a:lnTo>
                    <a:lnTo>
                      <a:pt x="889" y="169"/>
                    </a:lnTo>
                    <a:lnTo>
                      <a:pt x="890" y="167"/>
                    </a:lnTo>
                    <a:lnTo>
                      <a:pt x="890" y="167"/>
                    </a:lnTo>
                    <a:close/>
                    <a:moveTo>
                      <a:pt x="890" y="137"/>
                    </a:moveTo>
                    <a:lnTo>
                      <a:pt x="908" y="137"/>
                    </a:lnTo>
                    <a:lnTo>
                      <a:pt x="908" y="105"/>
                    </a:lnTo>
                    <a:lnTo>
                      <a:pt x="890" y="105"/>
                    </a:lnTo>
                    <a:lnTo>
                      <a:pt x="890" y="137"/>
                    </a:lnTo>
                    <a:lnTo>
                      <a:pt x="890" y="137"/>
                    </a:lnTo>
                    <a:close/>
                    <a:moveTo>
                      <a:pt x="916" y="167"/>
                    </a:moveTo>
                    <a:lnTo>
                      <a:pt x="916" y="166"/>
                    </a:lnTo>
                    <a:lnTo>
                      <a:pt x="915" y="163"/>
                    </a:lnTo>
                    <a:lnTo>
                      <a:pt x="914" y="163"/>
                    </a:lnTo>
                    <a:lnTo>
                      <a:pt x="913" y="162"/>
                    </a:lnTo>
                    <a:lnTo>
                      <a:pt x="909" y="163"/>
                    </a:lnTo>
                    <a:lnTo>
                      <a:pt x="908" y="163"/>
                    </a:lnTo>
                    <a:lnTo>
                      <a:pt x="906" y="166"/>
                    </a:lnTo>
                    <a:lnTo>
                      <a:pt x="905" y="167"/>
                    </a:lnTo>
                    <a:lnTo>
                      <a:pt x="906" y="169"/>
                    </a:lnTo>
                    <a:lnTo>
                      <a:pt x="908" y="172"/>
                    </a:lnTo>
                    <a:lnTo>
                      <a:pt x="909" y="173"/>
                    </a:lnTo>
                    <a:lnTo>
                      <a:pt x="913" y="173"/>
                    </a:lnTo>
                    <a:lnTo>
                      <a:pt x="914" y="173"/>
                    </a:lnTo>
                    <a:lnTo>
                      <a:pt x="915" y="172"/>
                    </a:lnTo>
                    <a:lnTo>
                      <a:pt x="916" y="169"/>
                    </a:lnTo>
                    <a:lnTo>
                      <a:pt x="916" y="167"/>
                    </a:lnTo>
                    <a:lnTo>
                      <a:pt x="916" y="167"/>
                    </a:lnTo>
                    <a:close/>
                    <a:moveTo>
                      <a:pt x="930" y="114"/>
                    </a:moveTo>
                    <a:lnTo>
                      <a:pt x="930" y="111"/>
                    </a:lnTo>
                    <a:lnTo>
                      <a:pt x="929" y="109"/>
                    </a:lnTo>
                    <a:lnTo>
                      <a:pt x="926" y="108"/>
                    </a:lnTo>
                    <a:lnTo>
                      <a:pt x="924" y="108"/>
                    </a:lnTo>
                    <a:lnTo>
                      <a:pt x="921" y="108"/>
                    </a:lnTo>
                    <a:lnTo>
                      <a:pt x="920" y="109"/>
                    </a:lnTo>
                    <a:lnTo>
                      <a:pt x="919" y="111"/>
                    </a:lnTo>
                    <a:lnTo>
                      <a:pt x="919" y="114"/>
                    </a:lnTo>
                    <a:lnTo>
                      <a:pt x="919" y="116"/>
                    </a:lnTo>
                    <a:lnTo>
                      <a:pt x="920" y="118"/>
                    </a:lnTo>
                    <a:lnTo>
                      <a:pt x="921" y="119"/>
                    </a:lnTo>
                    <a:lnTo>
                      <a:pt x="924" y="119"/>
                    </a:lnTo>
                    <a:lnTo>
                      <a:pt x="926" y="119"/>
                    </a:lnTo>
                    <a:lnTo>
                      <a:pt x="929" y="118"/>
                    </a:lnTo>
                    <a:lnTo>
                      <a:pt x="930" y="116"/>
                    </a:lnTo>
                    <a:lnTo>
                      <a:pt x="930" y="114"/>
                    </a:lnTo>
                    <a:lnTo>
                      <a:pt x="930" y="114"/>
                    </a:lnTo>
                    <a:close/>
                    <a:moveTo>
                      <a:pt x="938" y="139"/>
                    </a:moveTo>
                    <a:lnTo>
                      <a:pt x="936" y="138"/>
                    </a:lnTo>
                    <a:lnTo>
                      <a:pt x="935" y="137"/>
                    </a:lnTo>
                    <a:lnTo>
                      <a:pt x="934" y="135"/>
                    </a:lnTo>
                    <a:lnTo>
                      <a:pt x="933" y="135"/>
                    </a:lnTo>
                    <a:lnTo>
                      <a:pt x="930" y="135"/>
                    </a:lnTo>
                    <a:lnTo>
                      <a:pt x="928" y="137"/>
                    </a:lnTo>
                    <a:lnTo>
                      <a:pt x="926" y="138"/>
                    </a:lnTo>
                    <a:lnTo>
                      <a:pt x="926" y="139"/>
                    </a:lnTo>
                    <a:lnTo>
                      <a:pt x="926" y="143"/>
                    </a:lnTo>
                    <a:lnTo>
                      <a:pt x="928" y="144"/>
                    </a:lnTo>
                    <a:lnTo>
                      <a:pt x="930" y="145"/>
                    </a:lnTo>
                    <a:lnTo>
                      <a:pt x="933" y="147"/>
                    </a:lnTo>
                    <a:lnTo>
                      <a:pt x="934" y="145"/>
                    </a:lnTo>
                    <a:lnTo>
                      <a:pt x="935" y="144"/>
                    </a:lnTo>
                    <a:lnTo>
                      <a:pt x="936" y="143"/>
                    </a:lnTo>
                    <a:lnTo>
                      <a:pt x="938" y="139"/>
                    </a:lnTo>
                    <a:lnTo>
                      <a:pt x="938" y="139"/>
                    </a:lnTo>
                    <a:close/>
                    <a:moveTo>
                      <a:pt x="876" y="301"/>
                    </a:moveTo>
                    <a:lnTo>
                      <a:pt x="876" y="308"/>
                    </a:lnTo>
                    <a:lnTo>
                      <a:pt x="876" y="310"/>
                    </a:lnTo>
                    <a:lnTo>
                      <a:pt x="877" y="311"/>
                    </a:lnTo>
                    <a:lnTo>
                      <a:pt x="879" y="312"/>
                    </a:lnTo>
                    <a:lnTo>
                      <a:pt x="880" y="312"/>
                    </a:lnTo>
                    <a:lnTo>
                      <a:pt x="880" y="312"/>
                    </a:lnTo>
                    <a:lnTo>
                      <a:pt x="887" y="312"/>
                    </a:lnTo>
                    <a:lnTo>
                      <a:pt x="887" y="301"/>
                    </a:lnTo>
                    <a:lnTo>
                      <a:pt x="876" y="301"/>
                    </a:lnTo>
                    <a:lnTo>
                      <a:pt x="876" y="301"/>
                    </a:lnTo>
                    <a:close/>
                    <a:moveTo>
                      <a:pt x="887" y="297"/>
                    </a:moveTo>
                    <a:lnTo>
                      <a:pt x="887" y="286"/>
                    </a:lnTo>
                    <a:lnTo>
                      <a:pt x="880" y="286"/>
                    </a:lnTo>
                    <a:lnTo>
                      <a:pt x="879" y="286"/>
                    </a:lnTo>
                    <a:lnTo>
                      <a:pt x="877" y="287"/>
                    </a:lnTo>
                    <a:lnTo>
                      <a:pt x="876" y="288"/>
                    </a:lnTo>
                    <a:lnTo>
                      <a:pt x="876" y="289"/>
                    </a:lnTo>
                    <a:lnTo>
                      <a:pt x="876" y="289"/>
                    </a:lnTo>
                    <a:lnTo>
                      <a:pt x="876" y="297"/>
                    </a:lnTo>
                    <a:lnTo>
                      <a:pt x="887" y="297"/>
                    </a:lnTo>
                    <a:lnTo>
                      <a:pt x="887" y="297"/>
                    </a:lnTo>
                    <a:close/>
                    <a:moveTo>
                      <a:pt x="894" y="312"/>
                    </a:moveTo>
                    <a:lnTo>
                      <a:pt x="908" y="312"/>
                    </a:lnTo>
                    <a:lnTo>
                      <a:pt x="910" y="312"/>
                    </a:lnTo>
                    <a:lnTo>
                      <a:pt x="913" y="312"/>
                    </a:lnTo>
                    <a:lnTo>
                      <a:pt x="914" y="311"/>
                    </a:lnTo>
                    <a:lnTo>
                      <a:pt x="916" y="310"/>
                    </a:lnTo>
                    <a:lnTo>
                      <a:pt x="918" y="308"/>
                    </a:lnTo>
                    <a:lnTo>
                      <a:pt x="918" y="306"/>
                    </a:lnTo>
                    <a:lnTo>
                      <a:pt x="919" y="303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294"/>
                    </a:lnTo>
                    <a:lnTo>
                      <a:pt x="919" y="293"/>
                    </a:lnTo>
                    <a:lnTo>
                      <a:pt x="918" y="291"/>
                    </a:lnTo>
                    <a:lnTo>
                      <a:pt x="918" y="289"/>
                    </a:lnTo>
                    <a:lnTo>
                      <a:pt x="916" y="288"/>
                    </a:lnTo>
                    <a:lnTo>
                      <a:pt x="914" y="287"/>
                    </a:lnTo>
                    <a:lnTo>
                      <a:pt x="913" y="286"/>
                    </a:lnTo>
                    <a:lnTo>
                      <a:pt x="910" y="286"/>
                    </a:lnTo>
                    <a:lnTo>
                      <a:pt x="908" y="286"/>
                    </a:lnTo>
                    <a:lnTo>
                      <a:pt x="908" y="286"/>
                    </a:lnTo>
                    <a:lnTo>
                      <a:pt x="894" y="286"/>
                    </a:lnTo>
                    <a:lnTo>
                      <a:pt x="894" y="312"/>
                    </a:lnTo>
                    <a:lnTo>
                      <a:pt x="894" y="312"/>
                    </a:lnTo>
                    <a:close/>
                    <a:moveTo>
                      <a:pt x="871" y="308"/>
                    </a:moveTo>
                    <a:lnTo>
                      <a:pt x="871" y="310"/>
                    </a:lnTo>
                    <a:lnTo>
                      <a:pt x="871" y="312"/>
                    </a:lnTo>
                    <a:lnTo>
                      <a:pt x="872" y="313"/>
                    </a:lnTo>
                    <a:lnTo>
                      <a:pt x="874" y="315"/>
                    </a:lnTo>
                    <a:lnTo>
                      <a:pt x="875" y="316"/>
                    </a:lnTo>
                    <a:lnTo>
                      <a:pt x="877" y="316"/>
                    </a:lnTo>
                    <a:lnTo>
                      <a:pt x="879" y="317"/>
                    </a:lnTo>
                    <a:lnTo>
                      <a:pt x="880" y="317"/>
                    </a:lnTo>
                    <a:lnTo>
                      <a:pt x="908" y="317"/>
                    </a:lnTo>
                    <a:lnTo>
                      <a:pt x="911" y="317"/>
                    </a:lnTo>
                    <a:lnTo>
                      <a:pt x="914" y="316"/>
                    </a:lnTo>
                    <a:lnTo>
                      <a:pt x="916" y="315"/>
                    </a:lnTo>
                    <a:lnTo>
                      <a:pt x="919" y="312"/>
                    </a:lnTo>
                    <a:lnTo>
                      <a:pt x="921" y="311"/>
                    </a:lnTo>
                    <a:lnTo>
                      <a:pt x="924" y="308"/>
                    </a:lnTo>
                    <a:lnTo>
                      <a:pt x="925" y="305"/>
                    </a:lnTo>
                    <a:lnTo>
                      <a:pt x="926" y="301"/>
                    </a:lnTo>
                    <a:lnTo>
                      <a:pt x="926" y="294"/>
                    </a:lnTo>
                    <a:lnTo>
                      <a:pt x="925" y="292"/>
                    </a:lnTo>
                    <a:lnTo>
                      <a:pt x="924" y="289"/>
                    </a:lnTo>
                    <a:lnTo>
                      <a:pt x="921" y="287"/>
                    </a:lnTo>
                    <a:lnTo>
                      <a:pt x="919" y="286"/>
                    </a:lnTo>
                    <a:lnTo>
                      <a:pt x="916" y="283"/>
                    </a:lnTo>
                    <a:lnTo>
                      <a:pt x="914" y="282"/>
                    </a:lnTo>
                    <a:lnTo>
                      <a:pt x="911" y="281"/>
                    </a:lnTo>
                    <a:lnTo>
                      <a:pt x="908" y="281"/>
                    </a:lnTo>
                    <a:lnTo>
                      <a:pt x="880" y="281"/>
                    </a:lnTo>
                    <a:lnTo>
                      <a:pt x="879" y="281"/>
                    </a:lnTo>
                    <a:lnTo>
                      <a:pt x="877" y="281"/>
                    </a:lnTo>
                    <a:lnTo>
                      <a:pt x="875" y="282"/>
                    </a:lnTo>
                    <a:lnTo>
                      <a:pt x="874" y="283"/>
                    </a:lnTo>
                    <a:lnTo>
                      <a:pt x="872" y="284"/>
                    </a:lnTo>
                    <a:lnTo>
                      <a:pt x="871" y="287"/>
                    </a:lnTo>
                    <a:lnTo>
                      <a:pt x="871" y="288"/>
                    </a:lnTo>
                    <a:lnTo>
                      <a:pt x="871" y="289"/>
                    </a:lnTo>
                    <a:lnTo>
                      <a:pt x="871" y="308"/>
                    </a:lnTo>
                    <a:lnTo>
                      <a:pt x="871" y="308"/>
                    </a:lnTo>
                    <a:close/>
                    <a:moveTo>
                      <a:pt x="1121" y="130"/>
                    </a:moveTo>
                    <a:lnTo>
                      <a:pt x="1117" y="130"/>
                    </a:lnTo>
                    <a:lnTo>
                      <a:pt x="1114" y="132"/>
                    </a:lnTo>
                    <a:lnTo>
                      <a:pt x="1112" y="133"/>
                    </a:lnTo>
                    <a:lnTo>
                      <a:pt x="1109" y="135"/>
                    </a:lnTo>
                    <a:lnTo>
                      <a:pt x="1107" y="138"/>
                    </a:lnTo>
                    <a:lnTo>
                      <a:pt x="1106" y="140"/>
                    </a:lnTo>
                    <a:lnTo>
                      <a:pt x="1104" y="143"/>
                    </a:lnTo>
                    <a:lnTo>
                      <a:pt x="1104" y="147"/>
                    </a:lnTo>
                    <a:lnTo>
                      <a:pt x="1104" y="149"/>
                    </a:lnTo>
                    <a:lnTo>
                      <a:pt x="1106" y="153"/>
                    </a:lnTo>
                    <a:lnTo>
                      <a:pt x="1107" y="156"/>
                    </a:lnTo>
                    <a:lnTo>
                      <a:pt x="1109" y="158"/>
                    </a:lnTo>
                    <a:lnTo>
                      <a:pt x="1112" y="159"/>
                    </a:lnTo>
                    <a:lnTo>
                      <a:pt x="1114" y="161"/>
                    </a:lnTo>
                    <a:lnTo>
                      <a:pt x="1117" y="162"/>
                    </a:lnTo>
                    <a:lnTo>
                      <a:pt x="1121" y="162"/>
                    </a:lnTo>
                    <a:lnTo>
                      <a:pt x="1124" y="162"/>
                    </a:lnTo>
                    <a:lnTo>
                      <a:pt x="1127" y="161"/>
                    </a:lnTo>
                    <a:lnTo>
                      <a:pt x="1129" y="159"/>
                    </a:lnTo>
                    <a:lnTo>
                      <a:pt x="1132" y="158"/>
                    </a:lnTo>
                    <a:lnTo>
                      <a:pt x="1133" y="156"/>
                    </a:lnTo>
                    <a:lnTo>
                      <a:pt x="1136" y="153"/>
                    </a:lnTo>
                    <a:lnTo>
                      <a:pt x="1136" y="149"/>
                    </a:lnTo>
                    <a:lnTo>
                      <a:pt x="1137" y="147"/>
                    </a:lnTo>
                    <a:lnTo>
                      <a:pt x="1136" y="143"/>
                    </a:lnTo>
                    <a:lnTo>
                      <a:pt x="1136" y="140"/>
                    </a:lnTo>
                    <a:lnTo>
                      <a:pt x="1133" y="138"/>
                    </a:lnTo>
                    <a:lnTo>
                      <a:pt x="1132" y="135"/>
                    </a:lnTo>
                    <a:lnTo>
                      <a:pt x="1129" y="133"/>
                    </a:lnTo>
                    <a:lnTo>
                      <a:pt x="1127" y="132"/>
                    </a:lnTo>
                    <a:lnTo>
                      <a:pt x="1124" y="130"/>
                    </a:lnTo>
                    <a:lnTo>
                      <a:pt x="1121" y="130"/>
                    </a:lnTo>
                    <a:lnTo>
                      <a:pt x="1121" y="130"/>
                    </a:lnTo>
                    <a:close/>
                    <a:moveTo>
                      <a:pt x="1471" y="130"/>
                    </a:moveTo>
                    <a:lnTo>
                      <a:pt x="1468" y="130"/>
                    </a:lnTo>
                    <a:lnTo>
                      <a:pt x="1465" y="132"/>
                    </a:lnTo>
                    <a:lnTo>
                      <a:pt x="1463" y="133"/>
                    </a:lnTo>
                    <a:lnTo>
                      <a:pt x="1460" y="135"/>
                    </a:lnTo>
                    <a:lnTo>
                      <a:pt x="1458" y="138"/>
                    </a:lnTo>
                    <a:lnTo>
                      <a:pt x="1456" y="140"/>
                    </a:lnTo>
                    <a:lnTo>
                      <a:pt x="1456" y="143"/>
                    </a:lnTo>
                    <a:lnTo>
                      <a:pt x="1455" y="147"/>
                    </a:lnTo>
                    <a:lnTo>
                      <a:pt x="1456" y="149"/>
                    </a:lnTo>
                    <a:lnTo>
                      <a:pt x="1456" y="153"/>
                    </a:lnTo>
                    <a:lnTo>
                      <a:pt x="1458" y="156"/>
                    </a:lnTo>
                    <a:lnTo>
                      <a:pt x="1460" y="158"/>
                    </a:lnTo>
                    <a:lnTo>
                      <a:pt x="1463" y="159"/>
                    </a:lnTo>
                    <a:lnTo>
                      <a:pt x="1465" y="161"/>
                    </a:lnTo>
                    <a:lnTo>
                      <a:pt x="1468" y="162"/>
                    </a:lnTo>
                    <a:lnTo>
                      <a:pt x="1471" y="162"/>
                    </a:lnTo>
                    <a:lnTo>
                      <a:pt x="1474" y="162"/>
                    </a:lnTo>
                    <a:lnTo>
                      <a:pt x="1476" y="161"/>
                    </a:lnTo>
                    <a:lnTo>
                      <a:pt x="1479" y="159"/>
                    </a:lnTo>
                    <a:lnTo>
                      <a:pt x="1480" y="158"/>
                    </a:lnTo>
                    <a:lnTo>
                      <a:pt x="1483" y="156"/>
                    </a:lnTo>
                    <a:lnTo>
                      <a:pt x="1484" y="153"/>
                    </a:lnTo>
                    <a:lnTo>
                      <a:pt x="1485" y="149"/>
                    </a:lnTo>
                    <a:lnTo>
                      <a:pt x="1485" y="147"/>
                    </a:lnTo>
                    <a:lnTo>
                      <a:pt x="1485" y="143"/>
                    </a:lnTo>
                    <a:lnTo>
                      <a:pt x="1484" y="140"/>
                    </a:lnTo>
                    <a:lnTo>
                      <a:pt x="1483" y="138"/>
                    </a:lnTo>
                    <a:lnTo>
                      <a:pt x="1480" y="135"/>
                    </a:lnTo>
                    <a:lnTo>
                      <a:pt x="1479" y="133"/>
                    </a:lnTo>
                    <a:lnTo>
                      <a:pt x="1476" y="132"/>
                    </a:lnTo>
                    <a:lnTo>
                      <a:pt x="1474" y="130"/>
                    </a:lnTo>
                    <a:lnTo>
                      <a:pt x="1471" y="130"/>
                    </a:lnTo>
                    <a:lnTo>
                      <a:pt x="1471" y="130"/>
                    </a:lnTo>
                    <a:close/>
                    <a:moveTo>
                      <a:pt x="2112" y="135"/>
                    </a:moveTo>
                    <a:lnTo>
                      <a:pt x="2109" y="135"/>
                    </a:lnTo>
                    <a:lnTo>
                      <a:pt x="2105" y="137"/>
                    </a:lnTo>
                    <a:lnTo>
                      <a:pt x="2103" y="138"/>
                    </a:lnTo>
                    <a:lnTo>
                      <a:pt x="2100" y="139"/>
                    </a:lnTo>
                    <a:lnTo>
                      <a:pt x="2099" y="142"/>
                    </a:lnTo>
                    <a:lnTo>
                      <a:pt x="2098" y="144"/>
                    </a:lnTo>
                    <a:lnTo>
                      <a:pt x="2097" y="148"/>
                    </a:lnTo>
                    <a:lnTo>
                      <a:pt x="2097" y="150"/>
                    </a:lnTo>
                    <a:lnTo>
                      <a:pt x="2097" y="153"/>
                    </a:lnTo>
                    <a:lnTo>
                      <a:pt x="2098" y="156"/>
                    </a:lnTo>
                    <a:lnTo>
                      <a:pt x="2099" y="158"/>
                    </a:lnTo>
                    <a:lnTo>
                      <a:pt x="2100" y="161"/>
                    </a:lnTo>
                    <a:lnTo>
                      <a:pt x="2103" y="162"/>
                    </a:lnTo>
                    <a:lnTo>
                      <a:pt x="2105" y="163"/>
                    </a:lnTo>
                    <a:lnTo>
                      <a:pt x="2109" y="164"/>
                    </a:lnTo>
                    <a:lnTo>
                      <a:pt x="2112" y="164"/>
                    </a:lnTo>
                    <a:lnTo>
                      <a:pt x="2115" y="164"/>
                    </a:lnTo>
                    <a:lnTo>
                      <a:pt x="2118" y="163"/>
                    </a:lnTo>
                    <a:lnTo>
                      <a:pt x="2120" y="162"/>
                    </a:lnTo>
                    <a:lnTo>
                      <a:pt x="2123" y="161"/>
                    </a:lnTo>
                    <a:lnTo>
                      <a:pt x="2125" y="158"/>
                    </a:lnTo>
                    <a:lnTo>
                      <a:pt x="2127" y="156"/>
                    </a:lnTo>
                    <a:lnTo>
                      <a:pt x="2128" y="153"/>
                    </a:lnTo>
                    <a:lnTo>
                      <a:pt x="2128" y="150"/>
                    </a:lnTo>
                    <a:lnTo>
                      <a:pt x="2128" y="148"/>
                    </a:lnTo>
                    <a:lnTo>
                      <a:pt x="2127" y="144"/>
                    </a:lnTo>
                    <a:lnTo>
                      <a:pt x="2125" y="142"/>
                    </a:lnTo>
                    <a:lnTo>
                      <a:pt x="2123" y="139"/>
                    </a:lnTo>
                    <a:lnTo>
                      <a:pt x="2120" y="138"/>
                    </a:lnTo>
                    <a:lnTo>
                      <a:pt x="2118" y="137"/>
                    </a:lnTo>
                    <a:lnTo>
                      <a:pt x="2115" y="135"/>
                    </a:lnTo>
                    <a:lnTo>
                      <a:pt x="2112" y="135"/>
                    </a:lnTo>
                    <a:lnTo>
                      <a:pt x="2112" y="135"/>
                    </a:lnTo>
                    <a:close/>
                    <a:moveTo>
                      <a:pt x="2198" y="181"/>
                    </a:moveTo>
                    <a:lnTo>
                      <a:pt x="2198" y="182"/>
                    </a:lnTo>
                    <a:lnTo>
                      <a:pt x="2198" y="182"/>
                    </a:lnTo>
                    <a:lnTo>
                      <a:pt x="2201" y="185"/>
                    </a:lnTo>
                    <a:lnTo>
                      <a:pt x="2203" y="187"/>
                    </a:lnTo>
                    <a:lnTo>
                      <a:pt x="2204" y="187"/>
                    </a:lnTo>
                    <a:lnTo>
                      <a:pt x="2204" y="187"/>
                    </a:lnTo>
                    <a:lnTo>
                      <a:pt x="2207" y="187"/>
                    </a:lnTo>
                    <a:lnTo>
                      <a:pt x="2208" y="187"/>
                    </a:lnTo>
                    <a:lnTo>
                      <a:pt x="2211" y="185"/>
                    </a:lnTo>
                    <a:lnTo>
                      <a:pt x="2212" y="183"/>
                    </a:lnTo>
                    <a:lnTo>
                      <a:pt x="2213" y="182"/>
                    </a:lnTo>
                    <a:lnTo>
                      <a:pt x="2213" y="182"/>
                    </a:lnTo>
                    <a:lnTo>
                      <a:pt x="2214" y="181"/>
                    </a:lnTo>
                    <a:lnTo>
                      <a:pt x="2213" y="178"/>
                    </a:lnTo>
                    <a:lnTo>
                      <a:pt x="2213" y="177"/>
                    </a:lnTo>
                    <a:lnTo>
                      <a:pt x="2212" y="176"/>
                    </a:lnTo>
                    <a:lnTo>
                      <a:pt x="2211" y="176"/>
                    </a:lnTo>
                    <a:lnTo>
                      <a:pt x="2208" y="174"/>
                    </a:lnTo>
                    <a:lnTo>
                      <a:pt x="2204" y="173"/>
                    </a:lnTo>
                    <a:lnTo>
                      <a:pt x="2203" y="174"/>
                    </a:lnTo>
                    <a:lnTo>
                      <a:pt x="2201" y="176"/>
                    </a:lnTo>
                    <a:lnTo>
                      <a:pt x="2198" y="177"/>
                    </a:lnTo>
                    <a:lnTo>
                      <a:pt x="2198" y="178"/>
                    </a:lnTo>
                    <a:lnTo>
                      <a:pt x="2198" y="181"/>
                    </a:lnTo>
                    <a:lnTo>
                      <a:pt x="2198" y="181"/>
                    </a:lnTo>
                    <a:close/>
                    <a:moveTo>
                      <a:pt x="2237" y="181"/>
                    </a:moveTo>
                    <a:lnTo>
                      <a:pt x="2237" y="182"/>
                    </a:lnTo>
                    <a:lnTo>
                      <a:pt x="2237" y="182"/>
                    </a:lnTo>
                    <a:lnTo>
                      <a:pt x="2239" y="185"/>
                    </a:lnTo>
                    <a:lnTo>
                      <a:pt x="2241" y="187"/>
                    </a:lnTo>
                    <a:lnTo>
                      <a:pt x="2242" y="187"/>
                    </a:lnTo>
                    <a:lnTo>
                      <a:pt x="2243" y="187"/>
                    </a:lnTo>
                    <a:lnTo>
                      <a:pt x="2244" y="187"/>
                    </a:lnTo>
                    <a:lnTo>
                      <a:pt x="2246" y="187"/>
                    </a:lnTo>
                    <a:lnTo>
                      <a:pt x="2248" y="185"/>
                    </a:lnTo>
                    <a:lnTo>
                      <a:pt x="2249" y="182"/>
                    </a:lnTo>
                    <a:lnTo>
                      <a:pt x="2249" y="181"/>
                    </a:lnTo>
                    <a:lnTo>
                      <a:pt x="2249" y="177"/>
                    </a:lnTo>
                    <a:lnTo>
                      <a:pt x="2248" y="176"/>
                    </a:lnTo>
                    <a:lnTo>
                      <a:pt x="2246" y="174"/>
                    </a:lnTo>
                    <a:lnTo>
                      <a:pt x="2243" y="173"/>
                    </a:lnTo>
                    <a:lnTo>
                      <a:pt x="2241" y="174"/>
                    </a:lnTo>
                    <a:lnTo>
                      <a:pt x="2239" y="176"/>
                    </a:lnTo>
                    <a:lnTo>
                      <a:pt x="2237" y="177"/>
                    </a:lnTo>
                    <a:lnTo>
                      <a:pt x="2237" y="178"/>
                    </a:lnTo>
                    <a:lnTo>
                      <a:pt x="2237" y="181"/>
                    </a:lnTo>
                    <a:lnTo>
                      <a:pt x="2237" y="181"/>
                    </a:lnTo>
                    <a:close/>
                    <a:moveTo>
                      <a:pt x="2275" y="181"/>
                    </a:moveTo>
                    <a:lnTo>
                      <a:pt x="2275" y="182"/>
                    </a:lnTo>
                    <a:lnTo>
                      <a:pt x="2276" y="182"/>
                    </a:lnTo>
                    <a:lnTo>
                      <a:pt x="2277" y="185"/>
                    </a:lnTo>
                    <a:lnTo>
                      <a:pt x="2280" y="187"/>
                    </a:lnTo>
                    <a:lnTo>
                      <a:pt x="2281" y="187"/>
                    </a:lnTo>
                    <a:lnTo>
                      <a:pt x="2282" y="187"/>
                    </a:lnTo>
                    <a:lnTo>
                      <a:pt x="2283" y="187"/>
                    </a:lnTo>
                    <a:lnTo>
                      <a:pt x="2285" y="187"/>
                    </a:lnTo>
                    <a:lnTo>
                      <a:pt x="2287" y="185"/>
                    </a:lnTo>
                    <a:lnTo>
                      <a:pt x="2288" y="182"/>
                    </a:lnTo>
                    <a:lnTo>
                      <a:pt x="2288" y="181"/>
                    </a:lnTo>
                    <a:lnTo>
                      <a:pt x="2288" y="177"/>
                    </a:lnTo>
                    <a:lnTo>
                      <a:pt x="2287" y="176"/>
                    </a:lnTo>
                    <a:lnTo>
                      <a:pt x="2285" y="174"/>
                    </a:lnTo>
                    <a:lnTo>
                      <a:pt x="2282" y="173"/>
                    </a:lnTo>
                    <a:lnTo>
                      <a:pt x="2280" y="174"/>
                    </a:lnTo>
                    <a:lnTo>
                      <a:pt x="2277" y="176"/>
                    </a:lnTo>
                    <a:lnTo>
                      <a:pt x="2276" y="177"/>
                    </a:lnTo>
                    <a:lnTo>
                      <a:pt x="2275" y="178"/>
                    </a:lnTo>
                    <a:lnTo>
                      <a:pt x="2275" y="181"/>
                    </a:lnTo>
                    <a:lnTo>
                      <a:pt x="2275" y="181"/>
                    </a:lnTo>
                    <a:close/>
                    <a:moveTo>
                      <a:pt x="2313" y="181"/>
                    </a:moveTo>
                    <a:lnTo>
                      <a:pt x="2313" y="182"/>
                    </a:lnTo>
                    <a:lnTo>
                      <a:pt x="2315" y="185"/>
                    </a:lnTo>
                    <a:lnTo>
                      <a:pt x="2317" y="187"/>
                    </a:lnTo>
                    <a:lnTo>
                      <a:pt x="2318" y="187"/>
                    </a:lnTo>
                    <a:lnTo>
                      <a:pt x="2320" y="187"/>
                    </a:lnTo>
                    <a:lnTo>
                      <a:pt x="2322" y="187"/>
                    </a:lnTo>
                    <a:lnTo>
                      <a:pt x="2323" y="187"/>
                    </a:lnTo>
                    <a:lnTo>
                      <a:pt x="2325" y="185"/>
                    </a:lnTo>
                    <a:lnTo>
                      <a:pt x="2326" y="182"/>
                    </a:lnTo>
                    <a:lnTo>
                      <a:pt x="2327" y="181"/>
                    </a:lnTo>
                    <a:lnTo>
                      <a:pt x="2326" y="177"/>
                    </a:lnTo>
                    <a:lnTo>
                      <a:pt x="2325" y="176"/>
                    </a:lnTo>
                    <a:lnTo>
                      <a:pt x="2323" y="174"/>
                    </a:lnTo>
                    <a:lnTo>
                      <a:pt x="2320" y="173"/>
                    </a:lnTo>
                    <a:lnTo>
                      <a:pt x="2317" y="174"/>
                    </a:lnTo>
                    <a:lnTo>
                      <a:pt x="2315" y="176"/>
                    </a:lnTo>
                    <a:lnTo>
                      <a:pt x="2313" y="177"/>
                    </a:lnTo>
                    <a:lnTo>
                      <a:pt x="2313" y="181"/>
                    </a:lnTo>
                    <a:lnTo>
                      <a:pt x="2313" y="181"/>
                    </a:lnTo>
                    <a:close/>
                    <a:moveTo>
                      <a:pt x="2352" y="181"/>
                    </a:moveTo>
                    <a:lnTo>
                      <a:pt x="2352" y="182"/>
                    </a:lnTo>
                    <a:lnTo>
                      <a:pt x="2353" y="185"/>
                    </a:lnTo>
                    <a:lnTo>
                      <a:pt x="2356" y="187"/>
                    </a:lnTo>
                    <a:lnTo>
                      <a:pt x="2357" y="187"/>
                    </a:lnTo>
                    <a:lnTo>
                      <a:pt x="2358" y="187"/>
                    </a:lnTo>
                    <a:lnTo>
                      <a:pt x="2360" y="187"/>
                    </a:lnTo>
                    <a:lnTo>
                      <a:pt x="2362" y="187"/>
                    </a:lnTo>
                    <a:lnTo>
                      <a:pt x="2363" y="185"/>
                    </a:lnTo>
                    <a:lnTo>
                      <a:pt x="2365" y="182"/>
                    </a:lnTo>
                    <a:lnTo>
                      <a:pt x="2366" y="181"/>
                    </a:lnTo>
                    <a:lnTo>
                      <a:pt x="2365" y="177"/>
                    </a:lnTo>
                    <a:lnTo>
                      <a:pt x="2363" y="176"/>
                    </a:lnTo>
                    <a:lnTo>
                      <a:pt x="2362" y="174"/>
                    </a:lnTo>
                    <a:lnTo>
                      <a:pt x="2358" y="173"/>
                    </a:lnTo>
                    <a:lnTo>
                      <a:pt x="2356" y="174"/>
                    </a:lnTo>
                    <a:lnTo>
                      <a:pt x="2353" y="176"/>
                    </a:lnTo>
                    <a:lnTo>
                      <a:pt x="2352" y="177"/>
                    </a:lnTo>
                    <a:lnTo>
                      <a:pt x="2352" y="181"/>
                    </a:lnTo>
                    <a:lnTo>
                      <a:pt x="2352" y="181"/>
                    </a:lnTo>
                    <a:close/>
                    <a:moveTo>
                      <a:pt x="2218" y="150"/>
                    </a:moveTo>
                    <a:lnTo>
                      <a:pt x="2218" y="152"/>
                    </a:lnTo>
                    <a:lnTo>
                      <a:pt x="2219" y="153"/>
                    </a:lnTo>
                    <a:lnTo>
                      <a:pt x="2221" y="156"/>
                    </a:lnTo>
                    <a:lnTo>
                      <a:pt x="2223" y="157"/>
                    </a:lnTo>
                    <a:lnTo>
                      <a:pt x="2224" y="158"/>
                    </a:lnTo>
                    <a:lnTo>
                      <a:pt x="2226" y="158"/>
                    </a:lnTo>
                    <a:lnTo>
                      <a:pt x="2227" y="158"/>
                    </a:lnTo>
                    <a:lnTo>
                      <a:pt x="2228" y="157"/>
                    </a:lnTo>
                    <a:lnTo>
                      <a:pt x="2231" y="156"/>
                    </a:lnTo>
                    <a:lnTo>
                      <a:pt x="2232" y="153"/>
                    </a:lnTo>
                    <a:lnTo>
                      <a:pt x="2232" y="150"/>
                    </a:lnTo>
                    <a:lnTo>
                      <a:pt x="2232" y="148"/>
                    </a:lnTo>
                    <a:lnTo>
                      <a:pt x="2231" y="145"/>
                    </a:lnTo>
                    <a:lnTo>
                      <a:pt x="2228" y="144"/>
                    </a:lnTo>
                    <a:lnTo>
                      <a:pt x="2226" y="144"/>
                    </a:lnTo>
                    <a:lnTo>
                      <a:pt x="2223" y="144"/>
                    </a:lnTo>
                    <a:lnTo>
                      <a:pt x="2221" y="145"/>
                    </a:lnTo>
                    <a:lnTo>
                      <a:pt x="2219" y="148"/>
                    </a:lnTo>
                    <a:lnTo>
                      <a:pt x="2218" y="149"/>
                    </a:lnTo>
                    <a:lnTo>
                      <a:pt x="2218" y="150"/>
                    </a:lnTo>
                    <a:lnTo>
                      <a:pt x="2218" y="150"/>
                    </a:lnTo>
                    <a:close/>
                    <a:moveTo>
                      <a:pt x="2257" y="150"/>
                    </a:moveTo>
                    <a:lnTo>
                      <a:pt x="2257" y="152"/>
                    </a:lnTo>
                    <a:lnTo>
                      <a:pt x="2257" y="153"/>
                    </a:lnTo>
                    <a:lnTo>
                      <a:pt x="2259" y="156"/>
                    </a:lnTo>
                    <a:lnTo>
                      <a:pt x="2262" y="157"/>
                    </a:lnTo>
                    <a:lnTo>
                      <a:pt x="2262" y="158"/>
                    </a:lnTo>
                    <a:lnTo>
                      <a:pt x="2263" y="158"/>
                    </a:lnTo>
                    <a:lnTo>
                      <a:pt x="2266" y="158"/>
                    </a:lnTo>
                    <a:lnTo>
                      <a:pt x="2267" y="157"/>
                    </a:lnTo>
                    <a:lnTo>
                      <a:pt x="2268" y="156"/>
                    </a:lnTo>
                    <a:lnTo>
                      <a:pt x="2270" y="153"/>
                    </a:lnTo>
                    <a:lnTo>
                      <a:pt x="2271" y="150"/>
                    </a:lnTo>
                    <a:lnTo>
                      <a:pt x="2270" y="148"/>
                    </a:lnTo>
                    <a:lnTo>
                      <a:pt x="2268" y="145"/>
                    </a:lnTo>
                    <a:lnTo>
                      <a:pt x="2267" y="144"/>
                    </a:lnTo>
                    <a:lnTo>
                      <a:pt x="2263" y="144"/>
                    </a:lnTo>
                    <a:lnTo>
                      <a:pt x="2262" y="144"/>
                    </a:lnTo>
                    <a:lnTo>
                      <a:pt x="2259" y="145"/>
                    </a:lnTo>
                    <a:lnTo>
                      <a:pt x="2257" y="148"/>
                    </a:lnTo>
                    <a:lnTo>
                      <a:pt x="2257" y="149"/>
                    </a:lnTo>
                    <a:lnTo>
                      <a:pt x="2257" y="150"/>
                    </a:lnTo>
                    <a:lnTo>
                      <a:pt x="2257" y="150"/>
                    </a:lnTo>
                    <a:close/>
                    <a:moveTo>
                      <a:pt x="2296" y="150"/>
                    </a:moveTo>
                    <a:lnTo>
                      <a:pt x="2296" y="153"/>
                    </a:lnTo>
                    <a:lnTo>
                      <a:pt x="2297" y="156"/>
                    </a:lnTo>
                    <a:lnTo>
                      <a:pt x="2300" y="157"/>
                    </a:lnTo>
                    <a:lnTo>
                      <a:pt x="2301" y="158"/>
                    </a:lnTo>
                    <a:lnTo>
                      <a:pt x="2302" y="158"/>
                    </a:lnTo>
                    <a:lnTo>
                      <a:pt x="2303" y="158"/>
                    </a:lnTo>
                    <a:lnTo>
                      <a:pt x="2305" y="157"/>
                    </a:lnTo>
                    <a:lnTo>
                      <a:pt x="2307" y="156"/>
                    </a:lnTo>
                    <a:lnTo>
                      <a:pt x="2308" y="153"/>
                    </a:lnTo>
                    <a:lnTo>
                      <a:pt x="2308" y="150"/>
                    </a:lnTo>
                    <a:lnTo>
                      <a:pt x="2308" y="148"/>
                    </a:lnTo>
                    <a:lnTo>
                      <a:pt x="2307" y="145"/>
                    </a:lnTo>
                    <a:lnTo>
                      <a:pt x="2305" y="144"/>
                    </a:lnTo>
                    <a:lnTo>
                      <a:pt x="2302" y="144"/>
                    </a:lnTo>
                    <a:lnTo>
                      <a:pt x="2300" y="144"/>
                    </a:lnTo>
                    <a:lnTo>
                      <a:pt x="2297" y="145"/>
                    </a:lnTo>
                    <a:lnTo>
                      <a:pt x="2296" y="148"/>
                    </a:lnTo>
                    <a:lnTo>
                      <a:pt x="2296" y="150"/>
                    </a:lnTo>
                    <a:lnTo>
                      <a:pt x="2296" y="150"/>
                    </a:lnTo>
                    <a:close/>
                    <a:moveTo>
                      <a:pt x="2333" y="150"/>
                    </a:moveTo>
                    <a:lnTo>
                      <a:pt x="2335" y="153"/>
                    </a:lnTo>
                    <a:lnTo>
                      <a:pt x="2336" y="156"/>
                    </a:lnTo>
                    <a:lnTo>
                      <a:pt x="2337" y="157"/>
                    </a:lnTo>
                    <a:lnTo>
                      <a:pt x="2338" y="158"/>
                    </a:lnTo>
                    <a:lnTo>
                      <a:pt x="2341" y="158"/>
                    </a:lnTo>
                    <a:lnTo>
                      <a:pt x="2342" y="158"/>
                    </a:lnTo>
                    <a:lnTo>
                      <a:pt x="2343" y="157"/>
                    </a:lnTo>
                    <a:lnTo>
                      <a:pt x="2346" y="156"/>
                    </a:lnTo>
                    <a:lnTo>
                      <a:pt x="2347" y="153"/>
                    </a:lnTo>
                    <a:lnTo>
                      <a:pt x="2347" y="150"/>
                    </a:lnTo>
                    <a:lnTo>
                      <a:pt x="2347" y="148"/>
                    </a:lnTo>
                    <a:lnTo>
                      <a:pt x="2346" y="145"/>
                    </a:lnTo>
                    <a:lnTo>
                      <a:pt x="2343" y="144"/>
                    </a:lnTo>
                    <a:lnTo>
                      <a:pt x="2341" y="144"/>
                    </a:lnTo>
                    <a:lnTo>
                      <a:pt x="2337" y="144"/>
                    </a:lnTo>
                    <a:lnTo>
                      <a:pt x="2336" y="145"/>
                    </a:lnTo>
                    <a:lnTo>
                      <a:pt x="2335" y="148"/>
                    </a:lnTo>
                    <a:lnTo>
                      <a:pt x="2333" y="150"/>
                    </a:lnTo>
                    <a:lnTo>
                      <a:pt x="2333" y="150"/>
                    </a:lnTo>
                    <a:close/>
                    <a:moveTo>
                      <a:pt x="2372" y="150"/>
                    </a:moveTo>
                    <a:lnTo>
                      <a:pt x="2372" y="153"/>
                    </a:lnTo>
                    <a:lnTo>
                      <a:pt x="2373" y="156"/>
                    </a:lnTo>
                    <a:lnTo>
                      <a:pt x="2376" y="157"/>
                    </a:lnTo>
                    <a:lnTo>
                      <a:pt x="2377" y="158"/>
                    </a:lnTo>
                    <a:lnTo>
                      <a:pt x="2379" y="158"/>
                    </a:lnTo>
                    <a:lnTo>
                      <a:pt x="2380" y="158"/>
                    </a:lnTo>
                    <a:lnTo>
                      <a:pt x="2381" y="157"/>
                    </a:lnTo>
                    <a:lnTo>
                      <a:pt x="2384" y="156"/>
                    </a:lnTo>
                    <a:lnTo>
                      <a:pt x="2385" y="153"/>
                    </a:lnTo>
                    <a:lnTo>
                      <a:pt x="2386" y="152"/>
                    </a:lnTo>
                    <a:lnTo>
                      <a:pt x="2386" y="150"/>
                    </a:lnTo>
                    <a:lnTo>
                      <a:pt x="2386" y="149"/>
                    </a:lnTo>
                    <a:lnTo>
                      <a:pt x="2385" y="148"/>
                    </a:lnTo>
                    <a:lnTo>
                      <a:pt x="2384" y="145"/>
                    </a:lnTo>
                    <a:lnTo>
                      <a:pt x="2381" y="144"/>
                    </a:lnTo>
                    <a:lnTo>
                      <a:pt x="2379" y="144"/>
                    </a:lnTo>
                    <a:lnTo>
                      <a:pt x="2376" y="144"/>
                    </a:lnTo>
                    <a:lnTo>
                      <a:pt x="2373" y="145"/>
                    </a:lnTo>
                    <a:lnTo>
                      <a:pt x="2372" y="148"/>
                    </a:lnTo>
                    <a:lnTo>
                      <a:pt x="2372" y="150"/>
                    </a:lnTo>
                    <a:lnTo>
                      <a:pt x="2372" y="150"/>
                    </a:lnTo>
                    <a:close/>
                    <a:moveTo>
                      <a:pt x="2198" y="119"/>
                    </a:moveTo>
                    <a:lnTo>
                      <a:pt x="2198" y="120"/>
                    </a:lnTo>
                    <a:lnTo>
                      <a:pt x="2198" y="121"/>
                    </a:lnTo>
                    <a:lnTo>
                      <a:pt x="2201" y="124"/>
                    </a:lnTo>
                    <a:lnTo>
                      <a:pt x="2203" y="125"/>
                    </a:lnTo>
                    <a:lnTo>
                      <a:pt x="2204" y="125"/>
                    </a:lnTo>
                    <a:lnTo>
                      <a:pt x="2208" y="125"/>
                    </a:lnTo>
                    <a:lnTo>
                      <a:pt x="2211" y="124"/>
                    </a:lnTo>
                    <a:lnTo>
                      <a:pt x="2212" y="123"/>
                    </a:lnTo>
                    <a:lnTo>
                      <a:pt x="2213" y="121"/>
                    </a:lnTo>
                    <a:lnTo>
                      <a:pt x="2213" y="120"/>
                    </a:lnTo>
                    <a:lnTo>
                      <a:pt x="2214" y="119"/>
                    </a:lnTo>
                    <a:lnTo>
                      <a:pt x="2213" y="118"/>
                    </a:lnTo>
                    <a:lnTo>
                      <a:pt x="2213" y="116"/>
                    </a:lnTo>
                    <a:lnTo>
                      <a:pt x="2212" y="116"/>
                    </a:lnTo>
                    <a:lnTo>
                      <a:pt x="2211" y="115"/>
                    </a:lnTo>
                    <a:lnTo>
                      <a:pt x="2208" y="113"/>
                    </a:lnTo>
                    <a:lnTo>
                      <a:pt x="2207" y="113"/>
                    </a:lnTo>
                    <a:lnTo>
                      <a:pt x="2204" y="113"/>
                    </a:lnTo>
                    <a:lnTo>
                      <a:pt x="2204" y="113"/>
                    </a:lnTo>
                    <a:lnTo>
                      <a:pt x="2203" y="113"/>
                    </a:lnTo>
                    <a:lnTo>
                      <a:pt x="2201" y="115"/>
                    </a:lnTo>
                    <a:lnTo>
                      <a:pt x="2198" y="116"/>
                    </a:lnTo>
                    <a:lnTo>
                      <a:pt x="2198" y="118"/>
                    </a:lnTo>
                    <a:lnTo>
                      <a:pt x="2198" y="119"/>
                    </a:lnTo>
                    <a:lnTo>
                      <a:pt x="2198" y="119"/>
                    </a:lnTo>
                    <a:close/>
                    <a:moveTo>
                      <a:pt x="2237" y="119"/>
                    </a:moveTo>
                    <a:lnTo>
                      <a:pt x="2237" y="120"/>
                    </a:lnTo>
                    <a:lnTo>
                      <a:pt x="2237" y="121"/>
                    </a:lnTo>
                    <a:lnTo>
                      <a:pt x="2239" y="124"/>
                    </a:lnTo>
                    <a:lnTo>
                      <a:pt x="2241" y="125"/>
                    </a:lnTo>
                    <a:lnTo>
                      <a:pt x="2243" y="125"/>
                    </a:lnTo>
                    <a:lnTo>
                      <a:pt x="2246" y="125"/>
                    </a:lnTo>
                    <a:lnTo>
                      <a:pt x="2248" y="124"/>
                    </a:lnTo>
                    <a:lnTo>
                      <a:pt x="2249" y="121"/>
                    </a:lnTo>
                    <a:lnTo>
                      <a:pt x="2249" y="119"/>
                    </a:lnTo>
                    <a:lnTo>
                      <a:pt x="2249" y="116"/>
                    </a:lnTo>
                    <a:lnTo>
                      <a:pt x="2248" y="115"/>
                    </a:lnTo>
                    <a:lnTo>
                      <a:pt x="2246" y="113"/>
                    </a:lnTo>
                    <a:lnTo>
                      <a:pt x="2244" y="113"/>
                    </a:lnTo>
                    <a:lnTo>
                      <a:pt x="2243" y="113"/>
                    </a:lnTo>
                    <a:lnTo>
                      <a:pt x="2242" y="113"/>
                    </a:lnTo>
                    <a:lnTo>
                      <a:pt x="2241" y="113"/>
                    </a:lnTo>
                    <a:lnTo>
                      <a:pt x="2239" y="115"/>
                    </a:lnTo>
                    <a:lnTo>
                      <a:pt x="2237" y="116"/>
                    </a:lnTo>
                    <a:lnTo>
                      <a:pt x="2237" y="118"/>
                    </a:lnTo>
                    <a:lnTo>
                      <a:pt x="2237" y="119"/>
                    </a:lnTo>
                    <a:lnTo>
                      <a:pt x="2237" y="119"/>
                    </a:lnTo>
                    <a:close/>
                    <a:moveTo>
                      <a:pt x="2275" y="119"/>
                    </a:moveTo>
                    <a:lnTo>
                      <a:pt x="2275" y="120"/>
                    </a:lnTo>
                    <a:lnTo>
                      <a:pt x="2276" y="121"/>
                    </a:lnTo>
                    <a:lnTo>
                      <a:pt x="2277" y="124"/>
                    </a:lnTo>
                    <a:lnTo>
                      <a:pt x="2280" y="125"/>
                    </a:lnTo>
                    <a:lnTo>
                      <a:pt x="2282" y="125"/>
                    </a:lnTo>
                    <a:lnTo>
                      <a:pt x="2285" y="125"/>
                    </a:lnTo>
                    <a:lnTo>
                      <a:pt x="2287" y="124"/>
                    </a:lnTo>
                    <a:lnTo>
                      <a:pt x="2288" y="121"/>
                    </a:lnTo>
                    <a:lnTo>
                      <a:pt x="2288" y="119"/>
                    </a:lnTo>
                    <a:lnTo>
                      <a:pt x="2288" y="116"/>
                    </a:lnTo>
                    <a:lnTo>
                      <a:pt x="2287" y="115"/>
                    </a:lnTo>
                    <a:lnTo>
                      <a:pt x="2285" y="113"/>
                    </a:lnTo>
                    <a:lnTo>
                      <a:pt x="2283" y="113"/>
                    </a:lnTo>
                    <a:lnTo>
                      <a:pt x="2282" y="113"/>
                    </a:lnTo>
                    <a:lnTo>
                      <a:pt x="2281" y="113"/>
                    </a:lnTo>
                    <a:lnTo>
                      <a:pt x="2280" y="113"/>
                    </a:lnTo>
                    <a:lnTo>
                      <a:pt x="2277" y="115"/>
                    </a:lnTo>
                    <a:lnTo>
                      <a:pt x="2276" y="116"/>
                    </a:lnTo>
                    <a:lnTo>
                      <a:pt x="2275" y="118"/>
                    </a:lnTo>
                    <a:lnTo>
                      <a:pt x="2275" y="119"/>
                    </a:lnTo>
                    <a:lnTo>
                      <a:pt x="2275" y="119"/>
                    </a:lnTo>
                    <a:close/>
                    <a:moveTo>
                      <a:pt x="2313" y="119"/>
                    </a:moveTo>
                    <a:lnTo>
                      <a:pt x="2313" y="121"/>
                    </a:lnTo>
                    <a:lnTo>
                      <a:pt x="2315" y="124"/>
                    </a:lnTo>
                    <a:lnTo>
                      <a:pt x="2317" y="125"/>
                    </a:lnTo>
                    <a:lnTo>
                      <a:pt x="2320" y="125"/>
                    </a:lnTo>
                    <a:lnTo>
                      <a:pt x="2323" y="125"/>
                    </a:lnTo>
                    <a:lnTo>
                      <a:pt x="2325" y="124"/>
                    </a:lnTo>
                    <a:lnTo>
                      <a:pt x="2326" y="121"/>
                    </a:lnTo>
                    <a:lnTo>
                      <a:pt x="2327" y="119"/>
                    </a:lnTo>
                    <a:lnTo>
                      <a:pt x="2326" y="116"/>
                    </a:lnTo>
                    <a:lnTo>
                      <a:pt x="2325" y="115"/>
                    </a:lnTo>
                    <a:lnTo>
                      <a:pt x="2323" y="113"/>
                    </a:lnTo>
                    <a:lnTo>
                      <a:pt x="2322" y="113"/>
                    </a:lnTo>
                    <a:lnTo>
                      <a:pt x="2320" y="113"/>
                    </a:lnTo>
                    <a:lnTo>
                      <a:pt x="2318" y="113"/>
                    </a:lnTo>
                    <a:lnTo>
                      <a:pt x="2317" y="113"/>
                    </a:lnTo>
                    <a:lnTo>
                      <a:pt x="2315" y="115"/>
                    </a:lnTo>
                    <a:lnTo>
                      <a:pt x="2313" y="116"/>
                    </a:lnTo>
                    <a:lnTo>
                      <a:pt x="2313" y="119"/>
                    </a:lnTo>
                    <a:lnTo>
                      <a:pt x="2313" y="119"/>
                    </a:lnTo>
                    <a:close/>
                    <a:moveTo>
                      <a:pt x="2352" y="119"/>
                    </a:moveTo>
                    <a:lnTo>
                      <a:pt x="2352" y="121"/>
                    </a:lnTo>
                    <a:lnTo>
                      <a:pt x="2353" y="124"/>
                    </a:lnTo>
                    <a:lnTo>
                      <a:pt x="2356" y="125"/>
                    </a:lnTo>
                    <a:lnTo>
                      <a:pt x="2358" y="125"/>
                    </a:lnTo>
                    <a:lnTo>
                      <a:pt x="2362" y="125"/>
                    </a:lnTo>
                    <a:lnTo>
                      <a:pt x="2363" y="124"/>
                    </a:lnTo>
                    <a:lnTo>
                      <a:pt x="2365" y="121"/>
                    </a:lnTo>
                    <a:lnTo>
                      <a:pt x="2366" y="119"/>
                    </a:lnTo>
                    <a:lnTo>
                      <a:pt x="2365" y="116"/>
                    </a:lnTo>
                    <a:lnTo>
                      <a:pt x="2363" y="115"/>
                    </a:lnTo>
                    <a:lnTo>
                      <a:pt x="2362" y="113"/>
                    </a:lnTo>
                    <a:lnTo>
                      <a:pt x="2360" y="113"/>
                    </a:lnTo>
                    <a:lnTo>
                      <a:pt x="2358" y="113"/>
                    </a:lnTo>
                    <a:lnTo>
                      <a:pt x="2357" y="113"/>
                    </a:lnTo>
                    <a:lnTo>
                      <a:pt x="2356" y="113"/>
                    </a:lnTo>
                    <a:lnTo>
                      <a:pt x="2353" y="115"/>
                    </a:lnTo>
                    <a:lnTo>
                      <a:pt x="2352" y="116"/>
                    </a:lnTo>
                    <a:lnTo>
                      <a:pt x="2352" y="119"/>
                    </a:lnTo>
                    <a:lnTo>
                      <a:pt x="2352" y="119"/>
                    </a:lnTo>
                    <a:close/>
                    <a:moveTo>
                      <a:pt x="2460" y="135"/>
                    </a:moveTo>
                    <a:lnTo>
                      <a:pt x="2457" y="135"/>
                    </a:lnTo>
                    <a:lnTo>
                      <a:pt x="2455" y="137"/>
                    </a:lnTo>
                    <a:lnTo>
                      <a:pt x="2454" y="138"/>
                    </a:lnTo>
                    <a:lnTo>
                      <a:pt x="2451" y="139"/>
                    </a:lnTo>
                    <a:lnTo>
                      <a:pt x="2450" y="142"/>
                    </a:lnTo>
                    <a:lnTo>
                      <a:pt x="2449" y="144"/>
                    </a:lnTo>
                    <a:lnTo>
                      <a:pt x="2447" y="148"/>
                    </a:lnTo>
                    <a:lnTo>
                      <a:pt x="2447" y="150"/>
                    </a:lnTo>
                    <a:lnTo>
                      <a:pt x="2447" y="153"/>
                    </a:lnTo>
                    <a:lnTo>
                      <a:pt x="2449" y="156"/>
                    </a:lnTo>
                    <a:lnTo>
                      <a:pt x="2450" y="158"/>
                    </a:lnTo>
                    <a:lnTo>
                      <a:pt x="2451" y="161"/>
                    </a:lnTo>
                    <a:lnTo>
                      <a:pt x="2454" y="162"/>
                    </a:lnTo>
                    <a:lnTo>
                      <a:pt x="2455" y="163"/>
                    </a:lnTo>
                    <a:lnTo>
                      <a:pt x="2457" y="164"/>
                    </a:lnTo>
                    <a:lnTo>
                      <a:pt x="2460" y="164"/>
                    </a:lnTo>
                    <a:lnTo>
                      <a:pt x="2464" y="164"/>
                    </a:lnTo>
                    <a:lnTo>
                      <a:pt x="2466" y="163"/>
                    </a:lnTo>
                    <a:lnTo>
                      <a:pt x="2470" y="162"/>
                    </a:lnTo>
                    <a:lnTo>
                      <a:pt x="2471" y="161"/>
                    </a:lnTo>
                    <a:lnTo>
                      <a:pt x="2474" y="158"/>
                    </a:lnTo>
                    <a:lnTo>
                      <a:pt x="2475" y="156"/>
                    </a:lnTo>
                    <a:lnTo>
                      <a:pt x="2476" y="153"/>
                    </a:lnTo>
                    <a:lnTo>
                      <a:pt x="2476" y="150"/>
                    </a:lnTo>
                    <a:lnTo>
                      <a:pt x="2476" y="148"/>
                    </a:lnTo>
                    <a:lnTo>
                      <a:pt x="2475" y="144"/>
                    </a:lnTo>
                    <a:lnTo>
                      <a:pt x="2474" y="142"/>
                    </a:lnTo>
                    <a:lnTo>
                      <a:pt x="2471" y="139"/>
                    </a:lnTo>
                    <a:lnTo>
                      <a:pt x="2470" y="138"/>
                    </a:lnTo>
                    <a:lnTo>
                      <a:pt x="2466" y="137"/>
                    </a:lnTo>
                    <a:lnTo>
                      <a:pt x="2464" y="135"/>
                    </a:lnTo>
                    <a:lnTo>
                      <a:pt x="2460" y="135"/>
                    </a:lnTo>
                    <a:lnTo>
                      <a:pt x="246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3" name=""/>
              <p:cNvSpPr/>
              <p:nvPr/>
            </p:nvSpPr>
            <p:spPr>
              <a:xfrm>
                <a:off x="5543640" y="5055840"/>
                <a:ext cx="269640" cy="33840"/>
              </a:xfrm>
              <a:custGeom>
                <a:avLst/>
                <a:gdLst/>
                <a:ahLst/>
                <a:rect l="l" t="t" r="r" b="b"/>
                <a:pathLst>
                  <a:path w="396" h="62">
                    <a:moveTo>
                      <a:pt x="60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60" y="62"/>
                    </a:lnTo>
                    <a:lnTo>
                      <a:pt x="160" y="61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8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  <a:moveTo>
                      <a:pt x="293" y="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4" y="1"/>
                    </a:lnTo>
                    <a:lnTo>
                      <a:pt x="233" y="3"/>
                    </a:lnTo>
                    <a:lnTo>
                      <a:pt x="233" y="5"/>
                    </a:lnTo>
                    <a:lnTo>
                      <a:pt x="233" y="5"/>
                    </a:lnTo>
                    <a:lnTo>
                      <a:pt x="233" y="59"/>
                    </a:lnTo>
                    <a:lnTo>
                      <a:pt x="233" y="61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391" y="62"/>
                    </a:lnTo>
                    <a:lnTo>
                      <a:pt x="392" y="62"/>
                    </a:lnTo>
                    <a:lnTo>
                      <a:pt x="394" y="62"/>
                    </a:lnTo>
                    <a:lnTo>
                      <a:pt x="394" y="61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"/>
                    </a:lnTo>
                    <a:lnTo>
                      <a:pt x="394" y="3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4" name=""/>
              <p:cNvSpPr/>
              <p:nvPr/>
            </p:nvSpPr>
            <p:spPr>
              <a:xfrm>
                <a:off x="5549760" y="5062680"/>
                <a:ext cx="255600" cy="8280"/>
              </a:xfrm>
              <a:custGeom>
                <a:avLst/>
                <a:gdLst/>
                <a:ahLst/>
                <a:rect l="l" t="t" r="r" b="b"/>
                <a:pathLst>
                  <a:path w="376" h="17">
                    <a:moveTo>
                      <a:pt x="143" y="17"/>
                    </a:moveTo>
                    <a:lnTo>
                      <a:pt x="14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3" y="17"/>
                    </a:lnTo>
                    <a:close/>
                    <a:moveTo>
                      <a:pt x="376" y="17"/>
                    </a:moveTo>
                    <a:lnTo>
                      <a:pt x="376" y="0"/>
                    </a:lnTo>
                    <a:lnTo>
                      <a:pt x="236" y="0"/>
                    </a:lnTo>
                    <a:lnTo>
                      <a:pt x="236" y="17"/>
                    </a:lnTo>
                    <a:lnTo>
                      <a:pt x="376" y="17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5" name=""/>
              <p:cNvSpPr/>
              <p:nvPr/>
            </p:nvSpPr>
            <p:spPr>
              <a:xfrm>
                <a:off x="5549760" y="5062680"/>
                <a:ext cx="97560" cy="828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6" name=""/>
              <p:cNvSpPr/>
              <p:nvPr/>
            </p:nvSpPr>
            <p:spPr>
              <a:xfrm>
                <a:off x="5709960" y="5062680"/>
                <a:ext cx="95400" cy="828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7" name=""/>
              <p:cNvSpPr/>
              <p:nvPr/>
            </p:nvSpPr>
            <p:spPr>
              <a:xfrm>
                <a:off x="4273200" y="4928760"/>
                <a:ext cx="2028960" cy="187920"/>
              </a:xfrm>
              <a:custGeom>
                <a:avLst/>
                <a:gdLst/>
                <a:ahLst/>
                <a:rect l="l" t="t" r="r" b="b"/>
                <a:pathLst>
                  <a:path w="2983" h="337">
                    <a:moveTo>
                      <a:pt x="2974" y="259"/>
                    </a:moveTo>
                    <a:lnTo>
                      <a:pt x="2983" y="259"/>
                    </a:lnTo>
                    <a:lnTo>
                      <a:pt x="2983" y="221"/>
                    </a:lnTo>
                    <a:lnTo>
                      <a:pt x="2947" y="221"/>
                    </a:lnTo>
                    <a:lnTo>
                      <a:pt x="2947" y="195"/>
                    </a:lnTo>
                    <a:lnTo>
                      <a:pt x="2931" y="195"/>
                    </a:lnTo>
                    <a:lnTo>
                      <a:pt x="2931" y="184"/>
                    </a:lnTo>
                    <a:lnTo>
                      <a:pt x="2870" y="184"/>
                    </a:lnTo>
                    <a:lnTo>
                      <a:pt x="2870" y="195"/>
                    </a:lnTo>
                    <a:lnTo>
                      <a:pt x="2854" y="195"/>
                    </a:lnTo>
                    <a:lnTo>
                      <a:pt x="2854" y="221"/>
                    </a:lnTo>
                    <a:lnTo>
                      <a:pt x="2817" y="221"/>
                    </a:lnTo>
                    <a:lnTo>
                      <a:pt x="2817" y="259"/>
                    </a:lnTo>
                    <a:lnTo>
                      <a:pt x="2827" y="259"/>
                    </a:lnTo>
                    <a:lnTo>
                      <a:pt x="2827" y="284"/>
                    </a:lnTo>
                    <a:lnTo>
                      <a:pt x="2817" y="284"/>
                    </a:lnTo>
                    <a:lnTo>
                      <a:pt x="2817" y="323"/>
                    </a:lnTo>
                    <a:lnTo>
                      <a:pt x="2983" y="323"/>
                    </a:lnTo>
                    <a:lnTo>
                      <a:pt x="2983" y="284"/>
                    </a:lnTo>
                    <a:lnTo>
                      <a:pt x="2974" y="284"/>
                    </a:lnTo>
                    <a:lnTo>
                      <a:pt x="2974" y="259"/>
                    </a:lnTo>
                    <a:close/>
                    <a:moveTo>
                      <a:pt x="157" y="264"/>
                    </a:moveTo>
                    <a:lnTo>
                      <a:pt x="167" y="264"/>
                    </a:lnTo>
                    <a:lnTo>
                      <a:pt x="167" y="300"/>
                    </a:lnTo>
                    <a:lnTo>
                      <a:pt x="131" y="300"/>
                    </a:lnTo>
                    <a:lnTo>
                      <a:pt x="131" y="326"/>
                    </a:lnTo>
                    <a:lnTo>
                      <a:pt x="115" y="326"/>
                    </a:lnTo>
                    <a:lnTo>
                      <a:pt x="115" y="337"/>
                    </a:lnTo>
                    <a:lnTo>
                      <a:pt x="52" y="337"/>
                    </a:lnTo>
                    <a:lnTo>
                      <a:pt x="52" y="326"/>
                    </a:lnTo>
                    <a:lnTo>
                      <a:pt x="36" y="326"/>
                    </a:lnTo>
                    <a:lnTo>
                      <a:pt x="36" y="300"/>
                    </a:lnTo>
                    <a:lnTo>
                      <a:pt x="0" y="300"/>
                    </a:lnTo>
                    <a:lnTo>
                      <a:pt x="2" y="264"/>
                    </a:lnTo>
                    <a:lnTo>
                      <a:pt x="8" y="264"/>
                    </a:lnTo>
                    <a:lnTo>
                      <a:pt x="8" y="236"/>
                    </a:lnTo>
                    <a:lnTo>
                      <a:pt x="2" y="236"/>
                    </a:lnTo>
                    <a:lnTo>
                      <a:pt x="2" y="198"/>
                    </a:lnTo>
                    <a:lnTo>
                      <a:pt x="167" y="198"/>
                    </a:lnTo>
                    <a:lnTo>
                      <a:pt x="167" y="236"/>
                    </a:lnTo>
                    <a:lnTo>
                      <a:pt x="157" y="236"/>
                    </a:lnTo>
                    <a:lnTo>
                      <a:pt x="157" y="264"/>
                    </a:lnTo>
                    <a:close/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8" name=""/>
              <p:cNvSpPr/>
              <p:nvPr/>
            </p:nvSpPr>
            <p:spPr>
              <a:xfrm>
                <a:off x="6190200" y="5031720"/>
                <a:ext cx="112320" cy="76320"/>
              </a:xfrm>
              <a:custGeom>
                <a:avLst/>
                <a:gdLst/>
                <a:ahLst/>
                <a:rect l="l" t="t" r="r" b="b"/>
                <a:pathLst>
                  <a:path w="166" h="139">
                    <a:moveTo>
                      <a:pt x="157" y="75"/>
                    </a:moveTo>
                    <a:lnTo>
                      <a:pt x="166" y="75"/>
                    </a:lnTo>
                    <a:lnTo>
                      <a:pt x="166" y="37"/>
                    </a:lnTo>
                    <a:lnTo>
                      <a:pt x="130" y="37"/>
                    </a:lnTo>
                    <a:lnTo>
                      <a:pt x="130" y="11"/>
                    </a:lnTo>
                    <a:lnTo>
                      <a:pt x="114" y="11"/>
                    </a:lnTo>
                    <a:lnTo>
                      <a:pt x="114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37" y="1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100"/>
                    </a:lnTo>
                    <a:lnTo>
                      <a:pt x="0" y="100"/>
                    </a:lnTo>
                    <a:lnTo>
                      <a:pt x="0" y="139"/>
                    </a:lnTo>
                    <a:lnTo>
                      <a:pt x="166" y="139"/>
                    </a:lnTo>
                    <a:lnTo>
                      <a:pt x="166" y="100"/>
                    </a:lnTo>
                    <a:lnTo>
                      <a:pt x="157" y="100"/>
                    </a:lnTo>
                    <a:lnTo>
                      <a:pt x="157" y="75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9" name=""/>
              <p:cNvSpPr/>
              <p:nvPr/>
            </p:nvSpPr>
            <p:spPr>
              <a:xfrm>
                <a:off x="4273200" y="5038560"/>
                <a:ext cx="114840" cy="7812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66"/>
                    </a:moveTo>
                    <a:lnTo>
                      <a:pt x="167" y="66"/>
                    </a:lnTo>
                    <a:lnTo>
                      <a:pt x="167" y="102"/>
                    </a:lnTo>
                    <a:lnTo>
                      <a:pt x="131" y="102"/>
                    </a:lnTo>
                    <a:lnTo>
                      <a:pt x="131" y="128"/>
                    </a:lnTo>
                    <a:lnTo>
                      <a:pt x="115" y="128"/>
                    </a:lnTo>
                    <a:lnTo>
                      <a:pt x="115" y="139"/>
                    </a:lnTo>
                    <a:lnTo>
                      <a:pt x="52" y="139"/>
                    </a:lnTo>
                    <a:lnTo>
                      <a:pt x="52" y="128"/>
                    </a:lnTo>
                    <a:lnTo>
                      <a:pt x="36" y="128"/>
                    </a:lnTo>
                    <a:lnTo>
                      <a:pt x="36" y="102"/>
                    </a:lnTo>
                    <a:lnTo>
                      <a:pt x="0" y="102"/>
                    </a:lnTo>
                    <a:lnTo>
                      <a:pt x="2" y="66"/>
                    </a:lnTo>
                    <a:lnTo>
                      <a:pt x="8" y="66"/>
                    </a:lnTo>
                    <a:lnTo>
                      <a:pt x="8" y="38"/>
                    </a:lnTo>
                    <a:lnTo>
                      <a:pt x="2" y="38"/>
                    </a:lnTo>
                    <a:lnTo>
                      <a:pt x="2" y="0"/>
                    </a:lnTo>
                    <a:lnTo>
                      <a:pt x="167" y="0"/>
                    </a:lnTo>
                    <a:lnTo>
                      <a:pt x="167" y="38"/>
                    </a:lnTo>
                    <a:lnTo>
                      <a:pt x="157" y="38"/>
                    </a:lnTo>
                    <a:lnTo>
                      <a:pt x="157" y="66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0" name=""/>
              <p:cNvSpPr/>
              <p:nvPr/>
            </p:nvSpPr>
            <p:spPr>
              <a:xfrm>
                <a:off x="4273200" y="4928760"/>
                <a:ext cx="114840" cy="7740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1" name=""/>
              <p:cNvSpPr/>
              <p:nvPr/>
            </p:nvSpPr>
            <p:spPr>
              <a:xfrm>
                <a:off x="4273200" y="4939200"/>
                <a:ext cx="2031480" cy="165600"/>
              </a:xfrm>
              <a:custGeom>
                <a:avLst/>
                <a:gdLst/>
                <a:ahLst/>
                <a:rect l="l" t="t" r="r" b="b"/>
                <a:pathLst>
                  <a:path w="2985" h="301">
                    <a:moveTo>
                      <a:pt x="36" y="301"/>
                    </a:moveTo>
                    <a:lnTo>
                      <a:pt x="0" y="301"/>
                    </a:lnTo>
                    <a:lnTo>
                      <a:pt x="0" y="290"/>
                    </a:lnTo>
                    <a:lnTo>
                      <a:pt x="36" y="290"/>
                    </a:lnTo>
                    <a:lnTo>
                      <a:pt x="36" y="301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67" y="301"/>
                    </a:moveTo>
                    <a:lnTo>
                      <a:pt x="134" y="301"/>
                    </a:lnTo>
                    <a:lnTo>
                      <a:pt x="134" y="290"/>
                    </a:lnTo>
                    <a:lnTo>
                      <a:pt x="167" y="290"/>
                    </a:lnTo>
                    <a:lnTo>
                      <a:pt x="167" y="301"/>
                    </a:lnTo>
                    <a:close/>
                    <a:moveTo>
                      <a:pt x="167" y="0"/>
                    </a:moveTo>
                    <a:lnTo>
                      <a:pt x="134" y="0"/>
                    </a:lnTo>
                    <a:lnTo>
                      <a:pt x="134" y="12"/>
                    </a:lnTo>
                    <a:lnTo>
                      <a:pt x="167" y="12"/>
                    </a:lnTo>
                    <a:lnTo>
                      <a:pt x="167" y="0"/>
                    </a:lnTo>
                    <a:close/>
                    <a:moveTo>
                      <a:pt x="2985" y="185"/>
                    </a:moveTo>
                    <a:lnTo>
                      <a:pt x="2949" y="185"/>
                    </a:lnTo>
                    <a:lnTo>
                      <a:pt x="2949" y="199"/>
                    </a:lnTo>
                    <a:lnTo>
                      <a:pt x="2985" y="199"/>
                    </a:lnTo>
                    <a:lnTo>
                      <a:pt x="2985" y="185"/>
                    </a:lnTo>
                    <a:close/>
                  </a:path>
                </a:pathLst>
              </a:custGeom>
              <a:solidFill>
                <a:srgbClr val="82938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2" name=""/>
              <p:cNvSpPr/>
              <p:nvPr/>
            </p:nvSpPr>
            <p:spPr>
              <a:xfrm>
                <a:off x="4273200" y="5100120"/>
                <a:ext cx="25200" cy="4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3" name=""/>
              <p:cNvSpPr/>
              <p:nvPr/>
            </p:nvSpPr>
            <p:spPr>
              <a:xfrm>
                <a:off x="4273200" y="4939200"/>
                <a:ext cx="25200" cy="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4" name=""/>
              <p:cNvSpPr/>
              <p:nvPr/>
            </p:nvSpPr>
            <p:spPr>
              <a:xfrm>
                <a:off x="4363920" y="5100120"/>
                <a:ext cx="23760" cy="4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5" name=""/>
              <p:cNvSpPr/>
              <p:nvPr/>
            </p:nvSpPr>
            <p:spPr>
              <a:xfrm>
                <a:off x="4363920" y="4939200"/>
                <a:ext cx="23760" cy="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6" name=""/>
              <p:cNvSpPr/>
              <p:nvPr/>
            </p:nvSpPr>
            <p:spPr>
              <a:xfrm>
                <a:off x="6279840" y="5041440"/>
                <a:ext cx="25200" cy="7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7" name=""/>
              <p:cNvSpPr/>
              <p:nvPr/>
            </p:nvSpPr>
            <p:spPr>
              <a:xfrm>
                <a:off x="3808440" y="4582440"/>
                <a:ext cx="2833200" cy="295920"/>
              </a:xfrm>
              <a:custGeom>
                <a:avLst/>
                <a:gdLst/>
                <a:ahLst/>
                <a:rect l="l" t="t" r="r" b="b"/>
                <a:pathLst>
                  <a:path w="4168" h="534">
                    <a:moveTo>
                      <a:pt x="4168" y="499"/>
                    </a:moveTo>
                    <a:lnTo>
                      <a:pt x="4168" y="495"/>
                    </a:lnTo>
                    <a:lnTo>
                      <a:pt x="4168" y="492"/>
                    </a:lnTo>
                    <a:lnTo>
                      <a:pt x="4167" y="488"/>
                    </a:lnTo>
                    <a:lnTo>
                      <a:pt x="4165" y="485"/>
                    </a:lnTo>
                    <a:lnTo>
                      <a:pt x="4163" y="478"/>
                    </a:lnTo>
                    <a:lnTo>
                      <a:pt x="4158" y="473"/>
                    </a:lnTo>
                    <a:lnTo>
                      <a:pt x="4153" y="468"/>
                    </a:lnTo>
                    <a:lnTo>
                      <a:pt x="4146" y="466"/>
                    </a:lnTo>
                    <a:lnTo>
                      <a:pt x="4143" y="464"/>
                    </a:lnTo>
                    <a:lnTo>
                      <a:pt x="4139" y="463"/>
                    </a:lnTo>
                    <a:lnTo>
                      <a:pt x="4136" y="463"/>
                    </a:lnTo>
                    <a:lnTo>
                      <a:pt x="4133" y="463"/>
                    </a:lnTo>
                    <a:lnTo>
                      <a:pt x="4129" y="463"/>
                    </a:lnTo>
                    <a:lnTo>
                      <a:pt x="4125" y="463"/>
                    </a:lnTo>
                    <a:lnTo>
                      <a:pt x="4123" y="464"/>
                    </a:lnTo>
                    <a:lnTo>
                      <a:pt x="4119" y="466"/>
                    </a:lnTo>
                    <a:lnTo>
                      <a:pt x="4114" y="468"/>
                    </a:lnTo>
                    <a:lnTo>
                      <a:pt x="4109" y="473"/>
                    </a:lnTo>
                    <a:lnTo>
                      <a:pt x="4104" y="478"/>
                    </a:lnTo>
                    <a:lnTo>
                      <a:pt x="4101" y="485"/>
                    </a:lnTo>
                    <a:lnTo>
                      <a:pt x="4100" y="488"/>
                    </a:lnTo>
                    <a:lnTo>
                      <a:pt x="4099" y="492"/>
                    </a:lnTo>
                    <a:lnTo>
                      <a:pt x="4099" y="495"/>
                    </a:lnTo>
                    <a:lnTo>
                      <a:pt x="4098" y="499"/>
                    </a:lnTo>
                    <a:lnTo>
                      <a:pt x="4099" y="502"/>
                    </a:lnTo>
                    <a:lnTo>
                      <a:pt x="4099" y="506"/>
                    </a:lnTo>
                    <a:lnTo>
                      <a:pt x="4100" y="509"/>
                    </a:lnTo>
                    <a:lnTo>
                      <a:pt x="4101" y="512"/>
                    </a:lnTo>
                    <a:lnTo>
                      <a:pt x="4104" y="517"/>
                    </a:lnTo>
                    <a:lnTo>
                      <a:pt x="4109" y="523"/>
                    </a:lnTo>
                    <a:lnTo>
                      <a:pt x="4114" y="528"/>
                    </a:lnTo>
                    <a:lnTo>
                      <a:pt x="4119" y="530"/>
                    </a:lnTo>
                    <a:lnTo>
                      <a:pt x="4123" y="531"/>
                    </a:lnTo>
                    <a:lnTo>
                      <a:pt x="4125" y="533"/>
                    </a:lnTo>
                    <a:lnTo>
                      <a:pt x="4129" y="533"/>
                    </a:lnTo>
                    <a:lnTo>
                      <a:pt x="4133" y="534"/>
                    </a:lnTo>
                    <a:lnTo>
                      <a:pt x="4136" y="533"/>
                    </a:lnTo>
                    <a:lnTo>
                      <a:pt x="4139" y="533"/>
                    </a:lnTo>
                    <a:lnTo>
                      <a:pt x="4143" y="531"/>
                    </a:lnTo>
                    <a:lnTo>
                      <a:pt x="4146" y="530"/>
                    </a:lnTo>
                    <a:lnTo>
                      <a:pt x="4153" y="528"/>
                    </a:lnTo>
                    <a:lnTo>
                      <a:pt x="4158" y="523"/>
                    </a:lnTo>
                    <a:lnTo>
                      <a:pt x="4163" y="517"/>
                    </a:lnTo>
                    <a:lnTo>
                      <a:pt x="4165" y="512"/>
                    </a:lnTo>
                    <a:lnTo>
                      <a:pt x="4167" y="509"/>
                    </a:lnTo>
                    <a:lnTo>
                      <a:pt x="4168" y="506"/>
                    </a:lnTo>
                    <a:lnTo>
                      <a:pt x="4168" y="502"/>
                    </a:lnTo>
                    <a:lnTo>
                      <a:pt x="4168" y="499"/>
                    </a:lnTo>
                    <a:lnTo>
                      <a:pt x="4168" y="499"/>
                    </a:lnTo>
                    <a:close/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8" name=""/>
              <p:cNvSpPr/>
              <p:nvPr/>
            </p:nvSpPr>
            <p:spPr>
              <a:xfrm>
                <a:off x="6594120" y="484020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6"/>
                    </a:moveTo>
                    <a:lnTo>
                      <a:pt x="70" y="32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7" y="22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3" y="49"/>
                    </a:lnTo>
                    <a:lnTo>
                      <a:pt x="6" y="54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1" y="67"/>
                    </a:lnTo>
                    <a:lnTo>
                      <a:pt x="25" y="68"/>
                    </a:lnTo>
                    <a:lnTo>
                      <a:pt x="27" y="70"/>
                    </a:lnTo>
                    <a:lnTo>
                      <a:pt x="31" y="70"/>
                    </a:lnTo>
                    <a:lnTo>
                      <a:pt x="35" y="71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5" y="68"/>
                    </a:lnTo>
                    <a:lnTo>
                      <a:pt x="48" y="67"/>
                    </a:lnTo>
                    <a:lnTo>
                      <a:pt x="55" y="65"/>
                    </a:lnTo>
                    <a:lnTo>
                      <a:pt x="60" y="60"/>
                    </a:lnTo>
                    <a:lnTo>
                      <a:pt x="65" y="54"/>
                    </a:lnTo>
                    <a:lnTo>
                      <a:pt x="67" y="49"/>
                    </a:lnTo>
                    <a:lnTo>
                      <a:pt x="69" y="46"/>
                    </a:lnTo>
                    <a:lnTo>
                      <a:pt x="70" y="43"/>
                    </a:lnTo>
                    <a:lnTo>
                      <a:pt x="70" y="39"/>
                    </a:lnTo>
                    <a:lnTo>
                      <a:pt x="70" y="36"/>
                    </a:lnTo>
                    <a:lnTo>
                      <a:pt x="70" y="3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9" name=""/>
              <p:cNvSpPr/>
              <p:nvPr/>
            </p:nvSpPr>
            <p:spPr>
              <a:xfrm>
                <a:off x="3808440" y="4582440"/>
                <a:ext cx="45000" cy="374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0" name=""/>
              <p:cNvSpPr/>
              <p:nvPr/>
            </p:nvSpPr>
            <p:spPr>
              <a:xfrm>
                <a:off x="6001560" y="4603680"/>
                <a:ext cx="47520" cy="360720"/>
              </a:xfrm>
              <a:custGeom>
                <a:avLst/>
                <a:gdLst/>
                <a:ahLst/>
                <a:rect l="l" t="t" r="r" b="b"/>
                <a:pathLst>
                  <a:path w="70" h="649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78"/>
                    </a:moveTo>
                    <a:lnTo>
                      <a:pt x="38" y="578"/>
                    </a:lnTo>
                    <a:lnTo>
                      <a:pt x="42" y="579"/>
                    </a:lnTo>
                    <a:lnTo>
                      <a:pt x="46" y="581"/>
                    </a:lnTo>
                    <a:lnTo>
                      <a:pt x="50" y="582"/>
                    </a:lnTo>
                    <a:lnTo>
                      <a:pt x="52" y="583"/>
                    </a:lnTo>
                    <a:lnTo>
                      <a:pt x="56" y="586"/>
                    </a:lnTo>
                    <a:lnTo>
                      <a:pt x="58" y="587"/>
                    </a:lnTo>
                    <a:lnTo>
                      <a:pt x="62" y="590"/>
                    </a:lnTo>
                    <a:lnTo>
                      <a:pt x="65" y="593"/>
                    </a:lnTo>
                    <a:lnTo>
                      <a:pt x="66" y="597"/>
                    </a:lnTo>
                    <a:lnTo>
                      <a:pt x="67" y="601"/>
                    </a:lnTo>
                    <a:lnTo>
                      <a:pt x="68" y="603"/>
                    </a:lnTo>
                    <a:lnTo>
                      <a:pt x="70" y="607"/>
                    </a:lnTo>
                    <a:lnTo>
                      <a:pt x="70" y="611"/>
                    </a:lnTo>
                    <a:lnTo>
                      <a:pt x="70" y="615"/>
                    </a:lnTo>
                    <a:lnTo>
                      <a:pt x="68" y="620"/>
                    </a:lnTo>
                    <a:lnTo>
                      <a:pt x="68" y="622"/>
                    </a:lnTo>
                    <a:lnTo>
                      <a:pt x="67" y="625"/>
                    </a:lnTo>
                    <a:lnTo>
                      <a:pt x="67" y="627"/>
                    </a:lnTo>
                    <a:lnTo>
                      <a:pt x="66" y="631"/>
                    </a:lnTo>
                    <a:lnTo>
                      <a:pt x="63" y="634"/>
                    </a:lnTo>
                    <a:lnTo>
                      <a:pt x="62" y="636"/>
                    </a:lnTo>
                    <a:lnTo>
                      <a:pt x="60" y="639"/>
                    </a:lnTo>
                    <a:lnTo>
                      <a:pt x="57" y="640"/>
                    </a:lnTo>
                    <a:lnTo>
                      <a:pt x="52" y="644"/>
                    </a:lnTo>
                    <a:lnTo>
                      <a:pt x="47" y="646"/>
                    </a:lnTo>
                    <a:lnTo>
                      <a:pt x="45" y="648"/>
                    </a:lnTo>
                    <a:lnTo>
                      <a:pt x="41" y="649"/>
                    </a:lnTo>
                    <a:lnTo>
                      <a:pt x="38" y="649"/>
                    </a:lnTo>
                    <a:lnTo>
                      <a:pt x="35" y="649"/>
                    </a:lnTo>
                    <a:lnTo>
                      <a:pt x="31" y="649"/>
                    </a:lnTo>
                    <a:lnTo>
                      <a:pt x="27" y="649"/>
                    </a:lnTo>
                    <a:lnTo>
                      <a:pt x="23" y="648"/>
                    </a:lnTo>
                    <a:lnTo>
                      <a:pt x="20" y="646"/>
                    </a:lnTo>
                    <a:lnTo>
                      <a:pt x="16" y="644"/>
                    </a:lnTo>
                    <a:lnTo>
                      <a:pt x="13" y="641"/>
                    </a:lnTo>
                    <a:lnTo>
                      <a:pt x="10" y="639"/>
                    </a:lnTo>
                    <a:lnTo>
                      <a:pt x="7" y="635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2" y="626"/>
                    </a:lnTo>
                    <a:lnTo>
                      <a:pt x="1" y="622"/>
                    </a:lnTo>
                    <a:lnTo>
                      <a:pt x="0" y="619"/>
                    </a:lnTo>
                    <a:lnTo>
                      <a:pt x="0" y="615"/>
                    </a:lnTo>
                    <a:lnTo>
                      <a:pt x="0" y="612"/>
                    </a:lnTo>
                    <a:lnTo>
                      <a:pt x="1" y="609"/>
                    </a:lnTo>
                    <a:lnTo>
                      <a:pt x="1" y="605"/>
                    </a:lnTo>
                    <a:lnTo>
                      <a:pt x="2" y="602"/>
                    </a:lnTo>
                    <a:lnTo>
                      <a:pt x="2" y="598"/>
                    </a:lnTo>
                    <a:lnTo>
                      <a:pt x="3" y="596"/>
                    </a:lnTo>
                    <a:lnTo>
                      <a:pt x="6" y="593"/>
                    </a:lnTo>
                    <a:lnTo>
                      <a:pt x="7" y="592"/>
                    </a:lnTo>
                    <a:lnTo>
                      <a:pt x="12" y="588"/>
                    </a:lnTo>
                    <a:lnTo>
                      <a:pt x="15" y="586"/>
                    </a:lnTo>
                    <a:lnTo>
                      <a:pt x="17" y="583"/>
                    </a:lnTo>
                    <a:lnTo>
                      <a:pt x="20" y="582"/>
                    </a:lnTo>
                    <a:lnTo>
                      <a:pt x="22" y="581"/>
                    </a:lnTo>
                    <a:lnTo>
                      <a:pt x="26" y="579"/>
                    </a:lnTo>
                    <a:lnTo>
                      <a:pt x="28" y="579"/>
                    </a:lnTo>
                    <a:lnTo>
                      <a:pt x="35" y="578"/>
                    </a:lnTo>
                    <a:lnTo>
                      <a:pt x="35" y="578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1" name=""/>
              <p:cNvSpPr/>
              <p:nvPr/>
            </p:nvSpPr>
            <p:spPr>
              <a:xfrm>
                <a:off x="6001560" y="460368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2" name=""/>
              <p:cNvSpPr/>
              <p:nvPr/>
            </p:nvSpPr>
            <p:spPr>
              <a:xfrm>
                <a:off x="6001560" y="4925520"/>
                <a:ext cx="47520" cy="388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1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0" y="33"/>
                    </a:lnTo>
                    <a:lnTo>
                      <a:pt x="70" y="37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60" y="61"/>
                    </a:lnTo>
                    <a:lnTo>
                      <a:pt x="57" y="62"/>
                    </a:lnTo>
                    <a:lnTo>
                      <a:pt x="52" y="66"/>
                    </a:lnTo>
                    <a:lnTo>
                      <a:pt x="47" y="68"/>
                    </a:lnTo>
                    <a:lnTo>
                      <a:pt x="45" y="70"/>
                    </a:lnTo>
                    <a:lnTo>
                      <a:pt x="41" y="71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71"/>
                    </a:lnTo>
                    <a:lnTo>
                      <a:pt x="23" y="70"/>
                    </a:lnTo>
                    <a:lnTo>
                      <a:pt x="20" y="68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10" y="61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3" name=""/>
              <p:cNvSpPr/>
              <p:nvPr/>
            </p:nvSpPr>
            <p:spPr>
              <a:xfrm>
                <a:off x="6014520" y="4615560"/>
                <a:ext cx="20160" cy="337680"/>
              </a:xfrm>
              <a:custGeom>
                <a:avLst/>
                <a:gdLst/>
                <a:ahLst/>
                <a:rect l="l" t="t" r="r" b="b"/>
                <a:pathLst>
                  <a:path w="30" h="608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5"/>
                    </a:moveTo>
                    <a:lnTo>
                      <a:pt x="8" y="603"/>
                    </a:lnTo>
                    <a:lnTo>
                      <a:pt x="11" y="601"/>
                    </a:lnTo>
                    <a:lnTo>
                      <a:pt x="15" y="601"/>
                    </a:lnTo>
                    <a:lnTo>
                      <a:pt x="18" y="601"/>
                    </a:lnTo>
                    <a:lnTo>
                      <a:pt x="21" y="603"/>
                    </a:lnTo>
                    <a:lnTo>
                      <a:pt x="21" y="603"/>
                    </a:lnTo>
                    <a:lnTo>
                      <a:pt x="21" y="605"/>
                    </a:lnTo>
                    <a:lnTo>
                      <a:pt x="23" y="606"/>
                    </a:lnTo>
                    <a:lnTo>
                      <a:pt x="25" y="608"/>
                    </a:lnTo>
                    <a:lnTo>
                      <a:pt x="27" y="606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30" y="604"/>
                    </a:lnTo>
                    <a:lnTo>
                      <a:pt x="30" y="603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6" y="599"/>
                    </a:lnTo>
                    <a:lnTo>
                      <a:pt x="25" y="595"/>
                    </a:lnTo>
                    <a:lnTo>
                      <a:pt x="25" y="593"/>
                    </a:lnTo>
                    <a:lnTo>
                      <a:pt x="25" y="589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8" y="585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8" y="581"/>
                    </a:lnTo>
                    <a:lnTo>
                      <a:pt x="28" y="580"/>
                    </a:lnTo>
                    <a:lnTo>
                      <a:pt x="28" y="580"/>
                    </a:lnTo>
                    <a:lnTo>
                      <a:pt x="28" y="579"/>
                    </a:lnTo>
                    <a:lnTo>
                      <a:pt x="27" y="579"/>
                    </a:lnTo>
                    <a:lnTo>
                      <a:pt x="25" y="579"/>
                    </a:lnTo>
                    <a:lnTo>
                      <a:pt x="25" y="579"/>
                    </a:lnTo>
                    <a:lnTo>
                      <a:pt x="23" y="579"/>
                    </a:lnTo>
                    <a:lnTo>
                      <a:pt x="23" y="579"/>
                    </a:lnTo>
                    <a:lnTo>
                      <a:pt x="21" y="580"/>
                    </a:lnTo>
                    <a:lnTo>
                      <a:pt x="20" y="582"/>
                    </a:lnTo>
                    <a:lnTo>
                      <a:pt x="18" y="582"/>
                    </a:lnTo>
                    <a:lnTo>
                      <a:pt x="16" y="584"/>
                    </a:lnTo>
                    <a:lnTo>
                      <a:pt x="15" y="584"/>
                    </a:lnTo>
                    <a:lnTo>
                      <a:pt x="13" y="584"/>
                    </a:lnTo>
                    <a:lnTo>
                      <a:pt x="11" y="582"/>
                    </a:lnTo>
                    <a:lnTo>
                      <a:pt x="10" y="582"/>
                    </a:lnTo>
                    <a:lnTo>
                      <a:pt x="8" y="580"/>
                    </a:lnTo>
                    <a:lnTo>
                      <a:pt x="8" y="580"/>
                    </a:lnTo>
                    <a:lnTo>
                      <a:pt x="6" y="579"/>
                    </a:lnTo>
                    <a:lnTo>
                      <a:pt x="5" y="579"/>
                    </a:lnTo>
                    <a:lnTo>
                      <a:pt x="5" y="579"/>
                    </a:lnTo>
                    <a:lnTo>
                      <a:pt x="3" y="579"/>
                    </a:lnTo>
                    <a:lnTo>
                      <a:pt x="1" y="579"/>
                    </a:lnTo>
                    <a:lnTo>
                      <a:pt x="1" y="579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4"/>
                    </a:lnTo>
                    <a:lnTo>
                      <a:pt x="1" y="585"/>
                    </a:lnTo>
                    <a:lnTo>
                      <a:pt x="1" y="585"/>
                    </a:lnTo>
                    <a:lnTo>
                      <a:pt x="3" y="588"/>
                    </a:lnTo>
                    <a:lnTo>
                      <a:pt x="5" y="589"/>
                    </a:lnTo>
                    <a:lnTo>
                      <a:pt x="5" y="593"/>
                    </a:lnTo>
                    <a:lnTo>
                      <a:pt x="5" y="595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1" y="601"/>
                    </a:lnTo>
                    <a:lnTo>
                      <a:pt x="0" y="601"/>
                    </a:lnTo>
                    <a:lnTo>
                      <a:pt x="0" y="603"/>
                    </a:lnTo>
                    <a:lnTo>
                      <a:pt x="0" y="604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3" y="606"/>
                    </a:lnTo>
                    <a:lnTo>
                      <a:pt x="5" y="608"/>
                    </a:lnTo>
                    <a:lnTo>
                      <a:pt x="5" y="606"/>
                    </a:lnTo>
                    <a:lnTo>
                      <a:pt x="6" y="605"/>
                    </a:lnTo>
                    <a:lnTo>
                      <a:pt x="6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4" name=""/>
              <p:cNvSpPr/>
              <p:nvPr/>
            </p:nvSpPr>
            <p:spPr>
              <a:xfrm>
                <a:off x="6014520" y="46155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32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5" name=""/>
              <p:cNvSpPr/>
              <p:nvPr/>
            </p:nvSpPr>
            <p:spPr>
              <a:xfrm>
                <a:off x="6014520" y="493632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6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32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6" name=""/>
              <p:cNvSpPr/>
              <p:nvPr/>
            </p:nvSpPr>
            <p:spPr>
              <a:xfrm>
                <a:off x="6054120" y="4586760"/>
                <a:ext cx="24840" cy="4042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7" name=""/>
              <p:cNvSpPr/>
              <p:nvPr/>
            </p:nvSpPr>
            <p:spPr>
              <a:xfrm>
                <a:off x="6054120" y="4565520"/>
                <a:ext cx="24840" cy="425520"/>
              </a:xfrm>
              <a:prstGeom prst="rect">
                <a:avLst/>
              </a:prstGeom>
              <a:solidFill>
                <a:srgbClr val="4f4f4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8" name=""/>
              <p:cNvSpPr/>
              <p:nvPr/>
            </p:nvSpPr>
            <p:spPr>
              <a:xfrm>
                <a:off x="6078960" y="4565520"/>
                <a:ext cx="23760" cy="425520"/>
              </a:xfrm>
              <a:prstGeom prst="rect">
                <a:avLst/>
              </a:prstGeom>
              <a:solidFill>
                <a:srgbClr val="76767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9" name=""/>
              <p:cNvSpPr/>
              <p:nvPr/>
            </p:nvSpPr>
            <p:spPr>
              <a:xfrm>
                <a:off x="6103080" y="4565520"/>
                <a:ext cx="26280" cy="425520"/>
              </a:xfrm>
              <a:prstGeom prst="rect">
                <a:avLst/>
              </a:prstGeom>
              <a:solidFill>
                <a:srgbClr val="63636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0" name=""/>
              <p:cNvSpPr/>
              <p:nvPr/>
            </p:nvSpPr>
            <p:spPr>
              <a:xfrm>
                <a:off x="6055200" y="4584240"/>
                <a:ext cx="41760" cy="402480"/>
              </a:xfrm>
              <a:custGeom>
                <a:avLst/>
                <a:gdLst/>
                <a:ahLst/>
                <a:rect l="l" t="t" r="r" b="b"/>
                <a:pathLst>
                  <a:path w="59" h="722">
                    <a:moveTo>
                      <a:pt x="59" y="717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17"/>
                    </a:lnTo>
                    <a:lnTo>
                      <a:pt x="0" y="720"/>
                    </a:lnTo>
                    <a:lnTo>
                      <a:pt x="2" y="721"/>
                    </a:lnTo>
                    <a:lnTo>
                      <a:pt x="3" y="722"/>
                    </a:lnTo>
                    <a:lnTo>
                      <a:pt x="7" y="722"/>
                    </a:lnTo>
                    <a:lnTo>
                      <a:pt x="7" y="722"/>
                    </a:lnTo>
                    <a:lnTo>
                      <a:pt x="52" y="722"/>
                    </a:lnTo>
                    <a:lnTo>
                      <a:pt x="54" y="722"/>
                    </a:lnTo>
                    <a:lnTo>
                      <a:pt x="56" y="721"/>
                    </a:lnTo>
                    <a:lnTo>
                      <a:pt x="59" y="720"/>
                    </a:lnTo>
                    <a:lnTo>
                      <a:pt x="59" y="718"/>
                    </a:lnTo>
                    <a:lnTo>
                      <a:pt x="59" y="7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1" name=""/>
              <p:cNvSpPr/>
              <p:nvPr/>
            </p:nvSpPr>
            <p:spPr>
              <a:xfrm>
                <a:off x="4892400" y="4583160"/>
                <a:ext cx="803880" cy="40068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2" name=""/>
              <p:cNvSpPr/>
              <p:nvPr/>
            </p:nvSpPr>
            <p:spPr>
              <a:xfrm>
                <a:off x="4892400" y="4583160"/>
                <a:ext cx="803880" cy="400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3" name=""/>
              <p:cNvSpPr/>
              <p:nvPr/>
            </p:nvSpPr>
            <p:spPr>
              <a:xfrm>
                <a:off x="5148000" y="4593240"/>
                <a:ext cx="66600" cy="383760"/>
              </a:xfrm>
              <a:custGeom>
                <a:avLst/>
                <a:gdLst/>
                <a:ahLst/>
                <a:rect l="l" t="t" r="r" b="b"/>
                <a:pathLst>
                  <a:path w="98" h="692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  <a:moveTo>
                      <a:pt x="98" y="581"/>
                    </a:moveTo>
                    <a:lnTo>
                      <a:pt x="18" y="581"/>
                    </a:lnTo>
                    <a:lnTo>
                      <a:pt x="14" y="581"/>
                    </a:lnTo>
                    <a:lnTo>
                      <a:pt x="10" y="582"/>
                    </a:lnTo>
                    <a:lnTo>
                      <a:pt x="7" y="583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2" y="592"/>
                    </a:lnTo>
                    <a:lnTo>
                      <a:pt x="0" y="595"/>
                    </a:lnTo>
                    <a:lnTo>
                      <a:pt x="0" y="598"/>
                    </a:lnTo>
                    <a:lnTo>
                      <a:pt x="0" y="598"/>
                    </a:lnTo>
                    <a:lnTo>
                      <a:pt x="0" y="672"/>
                    </a:lnTo>
                    <a:lnTo>
                      <a:pt x="0" y="675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4" y="686"/>
                    </a:lnTo>
                    <a:lnTo>
                      <a:pt x="7" y="688"/>
                    </a:lnTo>
                    <a:lnTo>
                      <a:pt x="10" y="689"/>
                    </a:lnTo>
                    <a:lnTo>
                      <a:pt x="14" y="691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98" y="692"/>
                    </a:lnTo>
                    <a:lnTo>
                      <a:pt x="98" y="581"/>
                    </a:lnTo>
                    <a:lnTo>
                      <a:pt x="98" y="581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4" name=""/>
              <p:cNvSpPr/>
              <p:nvPr/>
            </p:nvSpPr>
            <p:spPr>
              <a:xfrm>
                <a:off x="5148000" y="459324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5465" name=""/>
            <p:cNvGrpSpPr/>
            <p:nvPr/>
          </p:nvGrpSpPr>
          <p:grpSpPr>
            <a:xfrm>
              <a:off x="4923720" y="4603680"/>
              <a:ext cx="798840" cy="373320"/>
              <a:chOff x="4923720" y="4603680"/>
              <a:chExt cx="798840" cy="373320"/>
            </a:xfrm>
          </p:grpSpPr>
          <p:sp>
            <p:nvSpPr>
              <p:cNvPr id="5466" name=""/>
              <p:cNvSpPr/>
              <p:nvPr/>
            </p:nvSpPr>
            <p:spPr>
              <a:xfrm>
                <a:off x="5148360" y="491508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8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4923720" y="4611240"/>
                <a:ext cx="744480" cy="362520"/>
              </a:xfrm>
              <a:custGeom>
                <a:avLst/>
                <a:gdLst/>
                <a:ahLst/>
                <a:rect l="l" t="t" r="r" b="b"/>
                <a:pathLst>
                  <a:path w="1092" h="654">
                    <a:moveTo>
                      <a:pt x="47" y="607"/>
                    </a:moveTo>
                    <a:lnTo>
                      <a:pt x="67" y="596"/>
                    </a:lnTo>
                    <a:lnTo>
                      <a:pt x="67" y="572"/>
                    </a:lnTo>
                    <a:lnTo>
                      <a:pt x="47" y="560"/>
                    </a:lnTo>
                    <a:lnTo>
                      <a:pt x="26" y="572"/>
                    </a:lnTo>
                    <a:lnTo>
                      <a:pt x="26" y="596"/>
                    </a:lnTo>
                    <a:lnTo>
                      <a:pt x="47" y="607"/>
                    </a:lnTo>
                    <a:close/>
                    <a:moveTo>
                      <a:pt x="100" y="607"/>
                    </a:moveTo>
                    <a:lnTo>
                      <a:pt x="120" y="596"/>
                    </a:lnTo>
                    <a:lnTo>
                      <a:pt x="120" y="572"/>
                    </a:lnTo>
                    <a:lnTo>
                      <a:pt x="100" y="560"/>
                    </a:lnTo>
                    <a:lnTo>
                      <a:pt x="81" y="572"/>
                    </a:lnTo>
                    <a:lnTo>
                      <a:pt x="81" y="596"/>
                    </a:lnTo>
                    <a:lnTo>
                      <a:pt x="100" y="607"/>
                    </a:lnTo>
                    <a:close/>
                    <a:moveTo>
                      <a:pt x="155" y="607"/>
                    </a:moveTo>
                    <a:lnTo>
                      <a:pt x="175" y="596"/>
                    </a:lnTo>
                    <a:lnTo>
                      <a:pt x="175" y="572"/>
                    </a:lnTo>
                    <a:lnTo>
                      <a:pt x="155" y="560"/>
                    </a:lnTo>
                    <a:lnTo>
                      <a:pt x="135" y="572"/>
                    </a:lnTo>
                    <a:lnTo>
                      <a:pt x="135" y="596"/>
                    </a:lnTo>
                    <a:lnTo>
                      <a:pt x="155" y="607"/>
                    </a:lnTo>
                    <a:close/>
                    <a:moveTo>
                      <a:pt x="208" y="607"/>
                    </a:moveTo>
                    <a:lnTo>
                      <a:pt x="230" y="596"/>
                    </a:lnTo>
                    <a:lnTo>
                      <a:pt x="230" y="572"/>
                    </a:lnTo>
                    <a:lnTo>
                      <a:pt x="208" y="560"/>
                    </a:lnTo>
                    <a:lnTo>
                      <a:pt x="188" y="572"/>
                    </a:lnTo>
                    <a:lnTo>
                      <a:pt x="188" y="596"/>
                    </a:lnTo>
                    <a:lnTo>
                      <a:pt x="208" y="607"/>
                    </a:lnTo>
                    <a:close/>
                    <a:moveTo>
                      <a:pt x="263" y="607"/>
                    </a:moveTo>
                    <a:lnTo>
                      <a:pt x="283" y="596"/>
                    </a:lnTo>
                    <a:lnTo>
                      <a:pt x="283" y="572"/>
                    </a:lnTo>
                    <a:lnTo>
                      <a:pt x="263" y="560"/>
                    </a:lnTo>
                    <a:lnTo>
                      <a:pt x="243" y="572"/>
                    </a:lnTo>
                    <a:lnTo>
                      <a:pt x="243" y="596"/>
                    </a:lnTo>
                    <a:lnTo>
                      <a:pt x="263" y="607"/>
                    </a:lnTo>
                    <a:close/>
                    <a:moveTo>
                      <a:pt x="20" y="560"/>
                    </a:moveTo>
                    <a:lnTo>
                      <a:pt x="39" y="550"/>
                    </a:lnTo>
                    <a:lnTo>
                      <a:pt x="39" y="525"/>
                    </a:lnTo>
                    <a:lnTo>
                      <a:pt x="20" y="514"/>
                    </a:lnTo>
                    <a:lnTo>
                      <a:pt x="0" y="525"/>
                    </a:lnTo>
                    <a:lnTo>
                      <a:pt x="0" y="550"/>
                    </a:lnTo>
                    <a:lnTo>
                      <a:pt x="20" y="560"/>
                    </a:lnTo>
                    <a:close/>
                    <a:moveTo>
                      <a:pt x="74" y="560"/>
                    </a:moveTo>
                    <a:lnTo>
                      <a:pt x="94" y="550"/>
                    </a:lnTo>
                    <a:lnTo>
                      <a:pt x="94" y="525"/>
                    </a:lnTo>
                    <a:lnTo>
                      <a:pt x="74" y="514"/>
                    </a:lnTo>
                    <a:lnTo>
                      <a:pt x="55" y="525"/>
                    </a:lnTo>
                    <a:lnTo>
                      <a:pt x="55" y="550"/>
                    </a:lnTo>
                    <a:lnTo>
                      <a:pt x="74" y="560"/>
                    </a:lnTo>
                    <a:close/>
                    <a:moveTo>
                      <a:pt x="129" y="560"/>
                    </a:moveTo>
                    <a:lnTo>
                      <a:pt x="149" y="550"/>
                    </a:lnTo>
                    <a:lnTo>
                      <a:pt x="149" y="525"/>
                    </a:lnTo>
                    <a:lnTo>
                      <a:pt x="129" y="514"/>
                    </a:lnTo>
                    <a:lnTo>
                      <a:pt x="108" y="525"/>
                    </a:lnTo>
                    <a:lnTo>
                      <a:pt x="108" y="550"/>
                    </a:lnTo>
                    <a:lnTo>
                      <a:pt x="129" y="560"/>
                    </a:lnTo>
                    <a:close/>
                    <a:moveTo>
                      <a:pt x="181" y="560"/>
                    </a:moveTo>
                    <a:lnTo>
                      <a:pt x="202" y="550"/>
                    </a:lnTo>
                    <a:lnTo>
                      <a:pt x="202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50"/>
                    </a:lnTo>
                    <a:lnTo>
                      <a:pt x="181" y="560"/>
                    </a:lnTo>
                    <a:close/>
                    <a:moveTo>
                      <a:pt x="237" y="560"/>
                    </a:moveTo>
                    <a:lnTo>
                      <a:pt x="257" y="550"/>
                    </a:lnTo>
                    <a:lnTo>
                      <a:pt x="257" y="525"/>
                    </a:lnTo>
                    <a:lnTo>
                      <a:pt x="237" y="514"/>
                    </a:lnTo>
                    <a:lnTo>
                      <a:pt x="217" y="525"/>
                    </a:lnTo>
                    <a:lnTo>
                      <a:pt x="217" y="550"/>
                    </a:lnTo>
                    <a:lnTo>
                      <a:pt x="237" y="560"/>
                    </a:lnTo>
                    <a:close/>
                    <a:moveTo>
                      <a:pt x="289" y="560"/>
                    </a:moveTo>
                    <a:lnTo>
                      <a:pt x="312" y="550"/>
                    </a:lnTo>
                    <a:lnTo>
                      <a:pt x="312" y="525"/>
                    </a:lnTo>
                    <a:lnTo>
                      <a:pt x="289" y="514"/>
                    </a:lnTo>
                    <a:lnTo>
                      <a:pt x="269" y="525"/>
                    </a:lnTo>
                    <a:lnTo>
                      <a:pt x="269" y="550"/>
                    </a:lnTo>
                    <a:lnTo>
                      <a:pt x="289" y="560"/>
                    </a:lnTo>
                    <a:close/>
                    <a:moveTo>
                      <a:pt x="47" y="514"/>
                    </a:moveTo>
                    <a:lnTo>
                      <a:pt x="67" y="504"/>
                    </a:lnTo>
                    <a:lnTo>
                      <a:pt x="67" y="478"/>
                    </a:lnTo>
                    <a:lnTo>
                      <a:pt x="47" y="468"/>
                    </a:lnTo>
                    <a:lnTo>
                      <a:pt x="26" y="478"/>
                    </a:lnTo>
                    <a:lnTo>
                      <a:pt x="26" y="504"/>
                    </a:lnTo>
                    <a:lnTo>
                      <a:pt x="47" y="514"/>
                    </a:lnTo>
                    <a:close/>
                    <a:moveTo>
                      <a:pt x="100" y="514"/>
                    </a:moveTo>
                    <a:lnTo>
                      <a:pt x="120" y="504"/>
                    </a:lnTo>
                    <a:lnTo>
                      <a:pt x="120" y="478"/>
                    </a:lnTo>
                    <a:lnTo>
                      <a:pt x="100" y="468"/>
                    </a:lnTo>
                    <a:lnTo>
                      <a:pt x="81" y="478"/>
                    </a:lnTo>
                    <a:lnTo>
                      <a:pt x="81" y="504"/>
                    </a:lnTo>
                    <a:lnTo>
                      <a:pt x="100" y="514"/>
                    </a:lnTo>
                    <a:close/>
                    <a:moveTo>
                      <a:pt x="155" y="514"/>
                    </a:moveTo>
                    <a:lnTo>
                      <a:pt x="175" y="504"/>
                    </a:lnTo>
                    <a:lnTo>
                      <a:pt x="175" y="478"/>
                    </a:lnTo>
                    <a:lnTo>
                      <a:pt x="155" y="468"/>
                    </a:lnTo>
                    <a:lnTo>
                      <a:pt x="135" y="478"/>
                    </a:lnTo>
                    <a:lnTo>
                      <a:pt x="135" y="504"/>
                    </a:lnTo>
                    <a:lnTo>
                      <a:pt x="155" y="514"/>
                    </a:lnTo>
                    <a:close/>
                    <a:moveTo>
                      <a:pt x="208" y="514"/>
                    </a:moveTo>
                    <a:lnTo>
                      <a:pt x="230" y="504"/>
                    </a:lnTo>
                    <a:lnTo>
                      <a:pt x="230" y="478"/>
                    </a:lnTo>
                    <a:lnTo>
                      <a:pt x="208" y="468"/>
                    </a:lnTo>
                    <a:lnTo>
                      <a:pt x="188" y="478"/>
                    </a:lnTo>
                    <a:lnTo>
                      <a:pt x="188" y="504"/>
                    </a:lnTo>
                    <a:lnTo>
                      <a:pt x="208" y="514"/>
                    </a:lnTo>
                    <a:close/>
                    <a:moveTo>
                      <a:pt x="263" y="514"/>
                    </a:moveTo>
                    <a:lnTo>
                      <a:pt x="283" y="504"/>
                    </a:lnTo>
                    <a:lnTo>
                      <a:pt x="283" y="478"/>
                    </a:lnTo>
                    <a:lnTo>
                      <a:pt x="263" y="468"/>
                    </a:lnTo>
                    <a:lnTo>
                      <a:pt x="243" y="478"/>
                    </a:lnTo>
                    <a:lnTo>
                      <a:pt x="243" y="504"/>
                    </a:lnTo>
                    <a:lnTo>
                      <a:pt x="263" y="514"/>
                    </a:lnTo>
                    <a:close/>
                    <a:moveTo>
                      <a:pt x="318" y="514"/>
                    </a:moveTo>
                    <a:lnTo>
                      <a:pt x="338" y="504"/>
                    </a:lnTo>
                    <a:lnTo>
                      <a:pt x="338" y="478"/>
                    </a:lnTo>
                    <a:lnTo>
                      <a:pt x="318" y="468"/>
                    </a:lnTo>
                    <a:lnTo>
                      <a:pt x="298" y="478"/>
                    </a:lnTo>
                    <a:lnTo>
                      <a:pt x="298" y="504"/>
                    </a:lnTo>
                    <a:lnTo>
                      <a:pt x="318" y="514"/>
                    </a:lnTo>
                    <a:close/>
                    <a:moveTo>
                      <a:pt x="20" y="468"/>
                    </a:moveTo>
                    <a:lnTo>
                      <a:pt x="39" y="454"/>
                    </a:lnTo>
                    <a:lnTo>
                      <a:pt x="39" y="432"/>
                    </a:lnTo>
                    <a:lnTo>
                      <a:pt x="20" y="422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20" y="468"/>
                    </a:lnTo>
                    <a:close/>
                    <a:moveTo>
                      <a:pt x="74" y="468"/>
                    </a:moveTo>
                    <a:lnTo>
                      <a:pt x="94" y="454"/>
                    </a:lnTo>
                    <a:lnTo>
                      <a:pt x="94" y="432"/>
                    </a:lnTo>
                    <a:lnTo>
                      <a:pt x="74" y="422"/>
                    </a:lnTo>
                    <a:lnTo>
                      <a:pt x="55" y="432"/>
                    </a:lnTo>
                    <a:lnTo>
                      <a:pt x="55" y="454"/>
                    </a:lnTo>
                    <a:lnTo>
                      <a:pt x="74" y="468"/>
                    </a:lnTo>
                    <a:close/>
                    <a:moveTo>
                      <a:pt x="129" y="468"/>
                    </a:moveTo>
                    <a:lnTo>
                      <a:pt x="149" y="454"/>
                    </a:lnTo>
                    <a:lnTo>
                      <a:pt x="149" y="432"/>
                    </a:lnTo>
                    <a:lnTo>
                      <a:pt x="129" y="422"/>
                    </a:lnTo>
                    <a:lnTo>
                      <a:pt x="108" y="432"/>
                    </a:lnTo>
                    <a:lnTo>
                      <a:pt x="108" y="454"/>
                    </a:lnTo>
                    <a:lnTo>
                      <a:pt x="129" y="468"/>
                    </a:lnTo>
                    <a:close/>
                    <a:moveTo>
                      <a:pt x="181" y="468"/>
                    </a:moveTo>
                    <a:lnTo>
                      <a:pt x="202" y="454"/>
                    </a:lnTo>
                    <a:lnTo>
                      <a:pt x="202" y="432"/>
                    </a:lnTo>
                    <a:lnTo>
                      <a:pt x="181" y="422"/>
                    </a:lnTo>
                    <a:lnTo>
                      <a:pt x="161" y="432"/>
                    </a:lnTo>
                    <a:lnTo>
                      <a:pt x="161" y="454"/>
                    </a:lnTo>
                    <a:lnTo>
                      <a:pt x="181" y="468"/>
                    </a:lnTo>
                    <a:close/>
                    <a:moveTo>
                      <a:pt x="237" y="468"/>
                    </a:moveTo>
                    <a:lnTo>
                      <a:pt x="257" y="454"/>
                    </a:lnTo>
                    <a:lnTo>
                      <a:pt x="257" y="432"/>
                    </a:lnTo>
                    <a:lnTo>
                      <a:pt x="237" y="422"/>
                    </a:lnTo>
                    <a:lnTo>
                      <a:pt x="217" y="432"/>
                    </a:lnTo>
                    <a:lnTo>
                      <a:pt x="217" y="454"/>
                    </a:lnTo>
                    <a:lnTo>
                      <a:pt x="237" y="468"/>
                    </a:lnTo>
                    <a:close/>
                    <a:moveTo>
                      <a:pt x="289" y="468"/>
                    </a:moveTo>
                    <a:lnTo>
                      <a:pt x="312" y="454"/>
                    </a:lnTo>
                    <a:lnTo>
                      <a:pt x="312" y="432"/>
                    </a:lnTo>
                    <a:lnTo>
                      <a:pt x="289" y="422"/>
                    </a:lnTo>
                    <a:lnTo>
                      <a:pt x="269" y="432"/>
                    </a:lnTo>
                    <a:lnTo>
                      <a:pt x="269" y="454"/>
                    </a:lnTo>
                    <a:lnTo>
                      <a:pt x="289" y="468"/>
                    </a:lnTo>
                    <a:close/>
                    <a:moveTo>
                      <a:pt x="20" y="654"/>
                    </a:moveTo>
                    <a:lnTo>
                      <a:pt x="39" y="642"/>
                    </a:lnTo>
                    <a:lnTo>
                      <a:pt x="39" y="618"/>
                    </a:lnTo>
                    <a:lnTo>
                      <a:pt x="20" y="607"/>
                    </a:lnTo>
                    <a:lnTo>
                      <a:pt x="0" y="618"/>
                    </a:lnTo>
                    <a:lnTo>
                      <a:pt x="0" y="642"/>
                    </a:lnTo>
                    <a:lnTo>
                      <a:pt x="20" y="654"/>
                    </a:lnTo>
                    <a:close/>
                    <a:moveTo>
                      <a:pt x="74" y="654"/>
                    </a:moveTo>
                    <a:lnTo>
                      <a:pt x="94" y="642"/>
                    </a:lnTo>
                    <a:lnTo>
                      <a:pt x="94" y="618"/>
                    </a:lnTo>
                    <a:lnTo>
                      <a:pt x="74" y="607"/>
                    </a:lnTo>
                    <a:lnTo>
                      <a:pt x="55" y="618"/>
                    </a:lnTo>
                    <a:lnTo>
                      <a:pt x="55" y="642"/>
                    </a:lnTo>
                    <a:lnTo>
                      <a:pt x="74" y="654"/>
                    </a:lnTo>
                    <a:close/>
                    <a:moveTo>
                      <a:pt x="129" y="654"/>
                    </a:moveTo>
                    <a:lnTo>
                      <a:pt x="149" y="642"/>
                    </a:lnTo>
                    <a:lnTo>
                      <a:pt x="149" y="618"/>
                    </a:lnTo>
                    <a:lnTo>
                      <a:pt x="129" y="607"/>
                    </a:lnTo>
                    <a:lnTo>
                      <a:pt x="108" y="618"/>
                    </a:lnTo>
                    <a:lnTo>
                      <a:pt x="108" y="642"/>
                    </a:lnTo>
                    <a:lnTo>
                      <a:pt x="129" y="654"/>
                    </a:lnTo>
                    <a:close/>
                    <a:moveTo>
                      <a:pt x="181" y="654"/>
                    </a:moveTo>
                    <a:lnTo>
                      <a:pt x="202" y="642"/>
                    </a:lnTo>
                    <a:lnTo>
                      <a:pt x="202" y="618"/>
                    </a:lnTo>
                    <a:lnTo>
                      <a:pt x="181" y="607"/>
                    </a:lnTo>
                    <a:lnTo>
                      <a:pt x="161" y="618"/>
                    </a:lnTo>
                    <a:lnTo>
                      <a:pt x="161" y="642"/>
                    </a:lnTo>
                    <a:lnTo>
                      <a:pt x="181" y="654"/>
                    </a:lnTo>
                    <a:close/>
                    <a:moveTo>
                      <a:pt x="237" y="654"/>
                    </a:moveTo>
                    <a:lnTo>
                      <a:pt x="257" y="642"/>
                    </a:lnTo>
                    <a:lnTo>
                      <a:pt x="257" y="618"/>
                    </a:lnTo>
                    <a:lnTo>
                      <a:pt x="237" y="607"/>
                    </a:lnTo>
                    <a:lnTo>
                      <a:pt x="217" y="618"/>
                    </a:lnTo>
                    <a:lnTo>
                      <a:pt x="217" y="642"/>
                    </a:lnTo>
                    <a:lnTo>
                      <a:pt x="237" y="654"/>
                    </a:lnTo>
                    <a:close/>
                    <a:moveTo>
                      <a:pt x="289" y="654"/>
                    </a:moveTo>
                    <a:lnTo>
                      <a:pt x="312" y="642"/>
                    </a:lnTo>
                    <a:lnTo>
                      <a:pt x="312" y="618"/>
                    </a:lnTo>
                    <a:lnTo>
                      <a:pt x="289" y="607"/>
                    </a:lnTo>
                    <a:lnTo>
                      <a:pt x="269" y="618"/>
                    </a:lnTo>
                    <a:lnTo>
                      <a:pt x="269" y="642"/>
                    </a:lnTo>
                    <a:lnTo>
                      <a:pt x="289" y="654"/>
                    </a:lnTo>
                    <a:close/>
                    <a:moveTo>
                      <a:pt x="20" y="279"/>
                    </a:moveTo>
                    <a:lnTo>
                      <a:pt x="39" y="269"/>
                    </a:lnTo>
                    <a:lnTo>
                      <a:pt x="39" y="246"/>
                    </a:lnTo>
                    <a:lnTo>
                      <a:pt x="20" y="233"/>
                    </a:lnTo>
                    <a:lnTo>
                      <a:pt x="0" y="246"/>
                    </a:lnTo>
                    <a:lnTo>
                      <a:pt x="0" y="269"/>
                    </a:lnTo>
                    <a:lnTo>
                      <a:pt x="20" y="279"/>
                    </a:lnTo>
                    <a:close/>
                    <a:moveTo>
                      <a:pt x="74" y="279"/>
                    </a:moveTo>
                    <a:lnTo>
                      <a:pt x="94" y="269"/>
                    </a:lnTo>
                    <a:lnTo>
                      <a:pt x="94" y="246"/>
                    </a:lnTo>
                    <a:lnTo>
                      <a:pt x="74" y="233"/>
                    </a:lnTo>
                    <a:lnTo>
                      <a:pt x="55" y="246"/>
                    </a:lnTo>
                    <a:lnTo>
                      <a:pt x="55" y="269"/>
                    </a:lnTo>
                    <a:lnTo>
                      <a:pt x="74" y="279"/>
                    </a:lnTo>
                    <a:close/>
                    <a:moveTo>
                      <a:pt x="129" y="279"/>
                    </a:moveTo>
                    <a:lnTo>
                      <a:pt x="149" y="269"/>
                    </a:lnTo>
                    <a:lnTo>
                      <a:pt x="149" y="246"/>
                    </a:lnTo>
                    <a:lnTo>
                      <a:pt x="129" y="233"/>
                    </a:lnTo>
                    <a:lnTo>
                      <a:pt x="108" y="246"/>
                    </a:lnTo>
                    <a:lnTo>
                      <a:pt x="108" y="269"/>
                    </a:lnTo>
                    <a:lnTo>
                      <a:pt x="129" y="279"/>
                    </a:lnTo>
                    <a:close/>
                    <a:moveTo>
                      <a:pt x="181" y="279"/>
                    </a:moveTo>
                    <a:lnTo>
                      <a:pt x="202" y="269"/>
                    </a:lnTo>
                    <a:lnTo>
                      <a:pt x="202" y="246"/>
                    </a:lnTo>
                    <a:lnTo>
                      <a:pt x="181" y="233"/>
                    </a:lnTo>
                    <a:lnTo>
                      <a:pt x="161" y="246"/>
                    </a:lnTo>
                    <a:lnTo>
                      <a:pt x="161" y="269"/>
                    </a:lnTo>
                    <a:lnTo>
                      <a:pt x="181" y="279"/>
                    </a:lnTo>
                    <a:close/>
                    <a:moveTo>
                      <a:pt x="237" y="279"/>
                    </a:moveTo>
                    <a:lnTo>
                      <a:pt x="257" y="269"/>
                    </a:lnTo>
                    <a:lnTo>
                      <a:pt x="257" y="246"/>
                    </a:lnTo>
                    <a:lnTo>
                      <a:pt x="237" y="233"/>
                    </a:lnTo>
                    <a:lnTo>
                      <a:pt x="217" y="246"/>
                    </a:lnTo>
                    <a:lnTo>
                      <a:pt x="217" y="269"/>
                    </a:lnTo>
                    <a:lnTo>
                      <a:pt x="237" y="279"/>
                    </a:lnTo>
                    <a:close/>
                    <a:moveTo>
                      <a:pt x="289" y="279"/>
                    </a:moveTo>
                    <a:lnTo>
                      <a:pt x="312" y="269"/>
                    </a:lnTo>
                    <a:lnTo>
                      <a:pt x="312" y="246"/>
                    </a:lnTo>
                    <a:lnTo>
                      <a:pt x="289" y="233"/>
                    </a:lnTo>
                    <a:lnTo>
                      <a:pt x="269" y="246"/>
                    </a:lnTo>
                    <a:lnTo>
                      <a:pt x="269" y="269"/>
                    </a:lnTo>
                    <a:lnTo>
                      <a:pt x="289" y="279"/>
                    </a:lnTo>
                    <a:close/>
                    <a:moveTo>
                      <a:pt x="47" y="233"/>
                    </a:moveTo>
                    <a:lnTo>
                      <a:pt x="67" y="222"/>
                    </a:lnTo>
                    <a:lnTo>
                      <a:pt x="67" y="199"/>
                    </a:lnTo>
                    <a:lnTo>
                      <a:pt x="47" y="187"/>
                    </a:lnTo>
                    <a:lnTo>
                      <a:pt x="26" y="199"/>
                    </a:lnTo>
                    <a:lnTo>
                      <a:pt x="26" y="222"/>
                    </a:lnTo>
                    <a:lnTo>
                      <a:pt x="47" y="233"/>
                    </a:lnTo>
                    <a:close/>
                    <a:moveTo>
                      <a:pt x="100" y="233"/>
                    </a:moveTo>
                    <a:lnTo>
                      <a:pt x="120" y="222"/>
                    </a:lnTo>
                    <a:lnTo>
                      <a:pt x="120" y="199"/>
                    </a:lnTo>
                    <a:lnTo>
                      <a:pt x="100" y="187"/>
                    </a:lnTo>
                    <a:lnTo>
                      <a:pt x="81" y="199"/>
                    </a:lnTo>
                    <a:lnTo>
                      <a:pt x="81" y="222"/>
                    </a:lnTo>
                    <a:lnTo>
                      <a:pt x="100" y="233"/>
                    </a:lnTo>
                    <a:close/>
                    <a:moveTo>
                      <a:pt x="155" y="233"/>
                    </a:moveTo>
                    <a:lnTo>
                      <a:pt x="175" y="222"/>
                    </a:lnTo>
                    <a:lnTo>
                      <a:pt x="175" y="199"/>
                    </a:lnTo>
                    <a:lnTo>
                      <a:pt x="155" y="187"/>
                    </a:lnTo>
                    <a:lnTo>
                      <a:pt x="135" y="199"/>
                    </a:lnTo>
                    <a:lnTo>
                      <a:pt x="135" y="222"/>
                    </a:lnTo>
                    <a:lnTo>
                      <a:pt x="155" y="233"/>
                    </a:lnTo>
                    <a:close/>
                    <a:moveTo>
                      <a:pt x="208" y="233"/>
                    </a:moveTo>
                    <a:lnTo>
                      <a:pt x="230" y="222"/>
                    </a:lnTo>
                    <a:lnTo>
                      <a:pt x="230" y="199"/>
                    </a:lnTo>
                    <a:lnTo>
                      <a:pt x="208" y="187"/>
                    </a:lnTo>
                    <a:lnTo>
                      <a:pt x="188" y="199"/>
                    </a:lnTo>
                    <a:lnTo>
                      <a:pt x="188" y="222"/>
                    </a:lnTo>
                    <a:lnTo>
                      <a:pt x="208" y="233"/>
                    </a:lnTo>
                    <a:close/>
                    <a:moveTo>
                      <a:pt x="263" y="233"/>
                    </a:moveTo>
                    <a:lnTo>
                      <a:pt x="283" y="222"/>
                    </a:lnTo>
                    <a:lnTo>
                      <a:pt x="283" y="199"/>
                    </a:lnTo>
                    <a:lnTo>
                      <a:pt x="263" y="187"/>
                    </a:lnTo>
                    <a:lnTo>
                      <a:pt x="243" y="199"/>
                    </a:lnTo>
                    <a:lnTo>
                      <a:pt x="243" y="222"/>
                    </a:lnTo>
                    <a:lnTo>
                      <a:pt x="263" y="233"/>
                    </a:lnTo>
                    <a:close/>
                    <a:moveTo>
                      <a:pt x="318" y="233"/>
                    </a:moveTo>
                    <a:lnTo>
                      <a:pt x="338" y="222"/>
                    </a:lnTo>
                    <a:lnTo>
                      <a:pt x="338" y="199"/>
                    </a:lnTo>
                    <a:lnTo>
                      <a:pt x="318" y="187"/>
                    </a:lnTo>
                    <a:lnTo>
                      <a:pt x="298" y="199"/>
                    </a:lnTo>
                    <a:lnTo>
                      <a:pt x="298" y="222"/>
                    </a:lnTo>
                    <a:lnTo>
                      <a:pt x="318" y="233"/>
                    </a:lnTo>
                    <a:close/>
                    <a:moveTo>
                      <a:pt x="20" y="187"/>
                    </a:moveTo>
                    <a:lnTo>
                      <a:pt x="39" y="175"/>
                    </a:lnTo>
                    <a:lnTo>
                      <a:pt x="39" y="153"/>
                    </a:lnTo>
                    <a:lnTo>
                      <a:pt x="20" y="140"/>
                    </a:lnTo>
                    <a:lnTo>
                      <a:pt x="0" y="153"/>
                    </a:lnTo>
                    <a:lnTo>
                      <a:pt x="0" y="175"/>
                    </a:lnTo>
                    <a:lnTo>
                      <a:pt x="20" y="187"/>
                    </a:lnTo>
                    <a:close/>
                    <a:moveTo>
                      <a:pt x="74" y="187"/>
                    </a:moveTo>
                    <a:lnTo>
                      <a:pt x="94" y="175"/>
                    </a:lnTo>
                    <a:lnTo>
                      <a:pt x="94" y="153"/>
                    </a:lnTo>
                    <a:lnTo>
                      <a:pt x="74" y="140"/>
                    </a:lnTo>
                    <a:lnTo>
                      <a:pt x="55" y="153"/>
                    </a:lnTo>
                    <a:lnTo>
                      <a:pt x="55" y="175"/>
                    </a:lnTo>
                    <a:lnTo>
                      <a:pt x="74" y="187"/>
                    </a:lnTo>
                    <a:close/>
                    <a:moveTo>
                      <a:pt x="129" y="187"/>
                    </a:moveTo>
                    <a:lnTo>
                      <a:pt x="149" y="175"/>
                    </a:lnTo>
                    <a:lnTo>
                      <a:pt x="149" y="153"/>
                    </a:lnTo>
                    <a:lnTo>
                      <a:pt x="129" y="140"/>
                    </a:lnTo>
                    <a:lnTo>
                      <a:pt x="108" y="153"/>
                    </a:lnTo>
                    <a:lnTo>
                      <a:pt x="108" y="175"/>
                    </a:lnTo>
                    <a:lnTo>
                      <a:pt x="129" y="187"/>
                    </a:lnTo>
                    <a:close/>
                    <a:moveTo>
                      <a:pt x="181" y="187"/>
                    </a:moveTo>
                    <a:lnTo>
                      <a:pt x="202" y="175"/>
                    </a:lnTo>
                    <a:lnTo>
                      <a:pt x="202" y="153"/>
                    </a:lnTo>
                    <a:lnTo>
                      <a:pt x="181" y="140"/>
                    </a:lnTo>
                    <a:lnTo>
                      <a:pt x="161" y="153"/>
                    </a:lnTo>
                    <a:lnTo>
                      <a:pt x="161" y="175"/>
                    </a:lnTo>
                    <a:lnTo>
                      <a:pt x="181" y="187"/>
                    </a:lnTo>
                    <a:close/>
                    <a:moveTo>
                      <a:pt x="237" y="187"/>
                    </a:moveTo>
                    <a:lnTo>
                      <a:pt x="257" y="175"/>
                    </a:lnTo>
                    <a:lnTo>
                      <a:pt x="257" y="153"/>
                    </a:lnTo>
                    <a:lnTo>
                      <a:pt x="237" y="140"/>
                    </a:lnTo>
                    <a:lnTo>
                      <a:pt x="217" y="153"/>
                    </a:lnTo>
                    <a:lnTo>
                      <a:pt x="217" y="175"/>
                    </a:lnTo>
                    <a:lnTo>
                      <a:pt x="237" y="187"/>
                    </a:lnTo>
                    <a:close/>
                    <a:moveTo>
                      <a:pt x="289" y="187"/>
                    </a:moveTo>
                    <a:lnTo>
                      <a:pt x="312" y="175"/>
                    </a:lnTo>
                    <a:lnTo>
                      <a:pt x="312" y="153"/>
                    </a:lnTo>
                    <a:lnTo>
                      <a:pt x="289" y="140"/>
                    </a:lnTo>
                    <a:lnTo>
                      <a:pt x="269" y="153"/>
                    </a:lnTo>
                    <a:lnTo>
                      <a:pt x="269" y="175"/>
                    </a:lnTo>
                    <a:lnTo>
                      <a:pt x="289" y="187"/>
                    </a:lnTo>
                    <a:close/>
                    <a:moveTo>
                      <a:pt x="47" y="140"/>
                    </a:moveTo>
                    <a:lnTo>
                      <a:pt x="67" y="129"/>
                    </a:lnTo>
                    <a:lnTo>
                      <a:pt x="67" y="105"/>
                    </a:lnTo>
                    <a:lnTo>
                      <a:pt x="47" y="93"/>
                    </a:lnTo>
                    <a:lnTo>
                      <a:pt x="26" y="105"/>
                    </a:lnTo>
                    <a:lnTo>
                      <a:pt x="26" y="129"/>
                    </a:lnTo>
                    <a:lnTo>
                      <a:pt x="47" y="140"/>
                    </a:lnTo>
                    <a:close/>
                    <a:moveTo>
                      <a:pt x="100" y="140"/>
                    </a:moveTo>
                    <a:lnTo>
                      <a:pt x="120" y="129"/>
                    </a:lnTo>
                    <a:lnTo>
                      <a:pt x="120" y="105"/>
                    </a:lnTo>
                    <a:lnTo>
                      <a:pt x="100" y="93"/>
                    </a:lnTo>
                    <a:lnTo>
                      <a:pt x="81" y="105"/>
                    </a:lnTo>
                    <a:lnTo>
                      <a:pt x="81" y="129"/>
                    </a:lnTo>
                    <a:lnTo>
                      <a:pt x="100" y="140"/>
                    </a:lnTo>
                    <a:close/>
                    <a:moveTo>
                      <a:pt x="155" y="140"/>
                    </a:moveTo>
                    <a:lnTo>
                      <a:pt x="175" y="129"/>
                    </a:lnTo>
                    <a:lnTo>
                      <a:pt x="175" y="105"/>
                    </a:lnTo>
                    <a:lnTo>
                      <a:pt x="155" y="93"/>
                    </a:lnTo>
                    <a:lnTo>
                      <a:pt x="135" y="105"/>
                    </a:lnTo>
                    <a:lnTo>
                      <a:pt x="135" y="129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30" y="129"/>
                    </a:lnTo>
                    <a:lnTo>
                      <a:pt x="230" y="105"/>
                    </a:lnTo>
                    <a:lnTo>
                      <a:pt x="208" y="93"/>
                    </a:lnTo>
                    <a:lnTo>
                      <a:pt x="188" y="105"/>
                    </a:lnTo>
                    <a:lnTo>
                      <a:pt x="188" y="129"/>
                    </a:lnTo>
                    <a:lnTo>
                      <a:pt x="208" y="140"/>
                    </a:lnTo>
                    <a:close/>
                    <a:moveTo>
                      <a:pt x="263" y="140"/>
                    </a:moveTo>
                    <a:lnTo>
                      <a:pt x="283" y="129"/>
                    </a:lnTo>
                    <a:lnTo>
                      <a:pt x="283" y="105"/>
                    </a:lnTo>
                    <a:lnTo>
                      <a:pt x="263" y="93"/>
                    </a:lnTo>
                    <a:lnTo>
                      <a:pt x="243" y="105"/>
                    </a:lnTo>
                    <a:lnTo>
                      <a:pt x="243" y="129"/>
                    </a:lnTo>
                    <a:lnTo>
                      <a:pt x="263" y="140"/>
                    </a:lnTo>
                    <a:close/>
                    <a:moveTo>
                      <a:pt x="318" y="140"/>
                    </a:moveTo>
                    <a:lnTo>
                      <a:pt x="338" y="129"/>
                    </a:lnTo>
                    <a:lnTo>
                      <a:pt x="338" y="105"/>
                    </a:lnTo>
                    <a:lnTo>
                      <a:pt x="318" y="93"/>
                    </a:lnTo>
                    <a:lnTo>
                      <a:pt x="298" y="105"/>
                    </a:lnTo>
                    <a:lnTo>
                      <a:pt x="298" y="129"/>
                    </a:lnTo>
                    <a:lnTo>
                      <a:pt x="318" y="140"/>
                    </a:lnTo>
                    <a:close/>
                    <a:moveTo>
                      <a:pt x="20" y="93"/>
                    </a:moveTo>
                    <a:lnTo>
                      <a:pt x="39" y="82"/>
                    </a:lnTo>
                    <a:lnTo>
                      <a:pt x="39" y="58"/>
                    </a:lnTo>
                    <a:lnTo>
                      <a:pt x="20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0" y="93"/>
                    </a:lnTo>
                    <a:close/>
                    <a:moveTo>
                      <a:pt x="74" y="93"/>
                    </a:moveTo>
                    <a:lnTo>
                      <a:pt x="94" y="82"/>
                    </a:lnTo>
                    <a:lnTo>
                      <a:pt x="94" y="58"/>
                    </a:lnTo>
                    <a:lnTo>
                      <a:pt x="74" y="47"/>
                    </a:lnTo>
                    <a:lnTo>
                      <a:pt x="55" y="58"/>
                    </a:lnTo>
                    <a:lnTo>
                      <a:pt x="55" y="82"/>
                    </a:lnTo>
                    <a:lnTo>
                      <a:pt x="74" y="93"/>
                    </a:lnTo>
                    <a:close/>
                    <a:moveTo>
                      <a:pt x="129" y="93"/>
                    </a:moveTo>
                    <a:lnTo>
                      <a:pt x="149" y="82"/>
                    </a:lnTo>
                    <a:lnTo>
                      <a:pt x="149" y="58"/>
                    </a:lnTo>
                    <a:lnTo>
                      <a:pt x="129" y="47"/>
                    </a:lnTo>
                    <a:lnTo>
                      <a:pt x="108" y="58"/>
                    </a:lnTo>
                    <a:lnTo>
                      <a:pt x="108" y="82"/>
                    </a:lnTo>
                    <a:lnTo>
                      <a:pt x="129" y="93"/>
                    </a:lnTo>
                    <a:close/>
                    <a:moveTo>
                      <a:pt x="181" y="93"/>
                    </a:moveTo>
                    <a:lnTo>
                      <a:pt x="202" y="82"/>
                    </a:lnTo>
                    <a:lnTo>
                      <a:pt x="202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3"/>
                    </a:lnTo>
                    <a:close/>
                    <a:moveTo>
                      <a:pt x="237" y="93"/>
                    </a:moveTo>
                    <a:lnTo>
                      <a:pt x="257" y="82"/>
                    </a:lnTo>
                    <a:lnTo>
                      <a:pt x="257" y="58"/>
                    </a:lnTo>
                    <a:lnTo>
                      <a:pt x="237" y="47"/>
                    </a:lnTo>
                    <a:lnTo>
                      <a:pt x="217" y="58"/>
                    </a:lnTo>
                    <a:lnTo>
                      <a:pt x="217" y="82"/>
                    </a:lnTo>
                    <a:lnTo>
                      <a:pt x="237" y="93"/>
                    </a:lnTo>
                    <a:close/>
                    <a:moveTo>
                      <a:pt x="289" y="93"/>
                    </a:moveTo>
                    <a:lnTo>
                      <a:pt x="312" y="82"/>
                    </a:lnTo>
                    <a:lnTo>
                      <a:pt x="312" y="58"/>
                    </a:lnTo>
                    <a:lnTo>
                      <a:pt x="289" y="47"/>
                    </a:lnTo>
                    <a:lnTo>
                      <a:pt x="269" y="58"/>
                    </a:lnTo>
                    <a:lnTo>
                      <a:pt x="269" y="82"/>
                    </a:lnTo>
                    <a:lnTo>
                      <a:pt x="289" y="93"/>
                    </a:lnTo>
                    <a:close/>
                    <a:moveTo>
                      <a:pt x="47" y="47"/>
                    </a:moveTo>
                    <a:lnTo>
                      <a:pt x="67" y="35"/>
                    </a:lnTo>
                    <a:lnTo>
                      <a:pt x="67" y="11"/>
                    </a:lnTo>
                    <a:lnTo>
                      <a:pt x="47" y="0"/>
                    </a:lnTo>
                    <a:lnTo>
                      <a:pt x="26" y="11"/>
                    </a:lnTo>
                    <a:lnTo>
                      <a:pt x="26" y="35"/>
                    </a:lnTo>
                    <a:lnTo>
                      <a:pt x="47" y="47"/>
                    </a:lnTo>
                    <a:close/>
                    <a:moveTo>
                      <a:pt x="100" y="47"/>
                    </a:moveTo>
                    <a:lnTo>
                      <a:pt x="120" y="35"/>
                    </a:lnTo>
                    <a:lnTo>
                      <a:pt x="120" y="11"/>
                    </a:lnTo>
                    <a:lnTo>
                      <a:pt x="100" y="0"/>
                    </a:lnTo>
                    <a:lnTo>
                      <a:pt x="81" y="11"/>
                    </a:lnTo>
                    <a:lnTo>
                      <a:pt x="81" y="35"/>
                    </a:lnTo>
                    <a:lnTo>
                      <a:pt x="100" y="47"/>
                    </a:lnTo>
                    <a:close/>
                    <a:moveTo>
                      <a:pt x="155" y="47"/>
                    </a:moveTo>
                    <a:lnTo>
                      <a:pt x="175" y="35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5" y="11"/>
                    </a:lnTo>
                    <a:lnTo>
                      <a:pt x="135" y="35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30" y="35"/>
                    </a:lnTo>
                    <a:lnTo>
                      <a:pt x="230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5"/>
                    </a:lnTo>
                    <a:lnTo>
                      <a:pt x="208" y="47"/>
                    </a:lnTo>
                    <a:close/>
                    <a:moveTo>
                      <a:pt x="263" y="47"/>
                    </a:moveTo>
                    <a:lnTo>
                      <a:pt x="283" y="35"/>
                    </a:lnTo>
                    <a:lnTo>
                      <a:pt x="283" y="11"/>
                    </a:lnTo>
                    <a:lnTo>
                      <a:pt x="263" y="0"/>
                    </a:lnTo>
                    <a:lnTo>
                      <a:pt x="243" y="11"/>
                    </a:lnTo>
                    <a:lnTo>
                      <a:pt x="243" y="35"/>
                    </a:lnTo>
                    <a:lnTo>
                      <a:pt x="263" y="47"/>
                    </a:lnTo>
                    <a:close/>
                    <a:moveTo>
                      <a:pt x="47" y="422"/>
                    </a:moveTo>
                    <a:lnTo>
                      <a:pt x="67" y="408"/>
                    </a:lnTo>
                    <a:lnTo>
                      <a:pt x="67" y="386"/>
                    </a:lnTo>
                    <a:lnTo>
                      <a:pt x="47" y="375"/>
                    </a:lnTo>
                    <a:lnTo>
                      <a:pt x="26" y="386"/>
                    </a:lnTo>
                    <a:lnTo>
                      <a:pt x="26" y="408"/>
                    </a:lnTo>
                    <a:lnTo>
                      <a:pt x="47" y="422"/>
                    </a:lnTo>
                    <a:close/>
                    <a:moveTo>
                      <a:pt x="100" y="422"/>
                    </a:moveTo>
                    <a:lnTo>
                      <a:pt x="120" y="408"/>
                    </a:lnTo>
                    <a:lnTo>
                      <a:pt x="120" y="386"/>
                    </a:lnTo>
                    <a:lnTo>
                      <a:pt x="100" y="375"/>
                    </a:lnTo>
                    <a:lnTo>
                      <a:pt x="81" y="386"/>
                    </a:lnTo>
                    <a:lnTo>
                      <a:pt x="81" y="408"/>
                    </a:lnTo>
                    <a:lnTo>
                      <a:pt x="100" y="422"/>
                    </a:lnTo>
                    <a:close/>
                    <a:moveTo>
                      <a:pt x="155" y="422"/>
                    </a:moveTo>
                    <a:lnTo>
                      <a:pt x="175" y="408"/>
                    </a:lnTo>
                    <a:lnTo>
                      <a:pt x="175" y="386"/>
                    </a:lnTo>
                    <a:lnTo>
                      <a:pt x="155" y="375"/>
                    </a:lnTo>
                    <a:lnTo>
                      <a:pt x="135" y="386"/>
                    </a:lnTo>
                    <a:lnTo>
                      <a:pt x="135" y="408"/>
                    </a:lnTo>
                    <a:lnTo>
                      <a:pt x="155" y="422"/>
                    </a:lnTo>
                    <a:close/>
                    <a:moveTo>
                      <a:pt x="208" y="422"/>
                    </a:moveTo>
                    <a:lnTo>
                      <a:pt x="230" y="408"/>
                    </a:lnTo>
                    <a:lnTo>
                      <a:pt x="230" y="386"/>
                    </a:lnTo>
                    <a:lnTo>
                      <a:pt x="208" y="375"/>
                    </a:lnTo>
                    <a:lnTo>
                      <a:pt x="188" y="386"/>
                    </a:lnTo>
                    <a:lnTo>
                      <a:pt x="188" y="408"/>
                    </a:lnTo>
                    <a:lnTo>
                      <a:pt x="208" y="422"/>
                    </a:lnTo>
                    <a:close/>
                    <a:moveTo>
                      <a:pt x="263" y="422"/>
                    </a:moveTo>
                    <a:lnTo>
                      <a:pt x="283" y="408"/>
                    </a:lnTo>
                    <a:lnTo>
                      <a:pt x="283" y="386"/>
                    </a:lnTo>
                    <a:lnTo>
                      <a:pt x="263" y="375"/>
                    </a:lnTo>
                    <a:lnTo>
                      <a:pt x="243" y="386"/>
                    </a:lnTo>
                    <a:lnTo>
                      <a:pt x="243" y="408"/>
                    </a:lnTo>
                    <a:lnTo>
                      <a:pt x="263" y="422"/>
                    </a:lnTo>
                    <a:close/>
                    <a:moveTo>
                      <a:pt x="318" y="422"/>
                    </a:moveTo>
                    <a:lnTo>
                      <a:pt x="338" y="408"/>
                    </a:lnTo>
                    <a:lnTo>
                      <a:pt x="338" y="386"/>
                    </a:lnTo>
                    <a:lnTo>
                      <a:pt x="318" y="375"/>
                    </a:lnTo>
                    <a:lnTo>
                      <a:pt x="298" y="386"/>
                    </a:lnTo>
                    <a:lnTo>
                      <a:pt x="298" y="408"/>
                    </a:lnTo>
                    <a:lnTo>
                      <a:pt x="318" y="422"/>
                    </a:lnTo>
                    <a:close/>
                    <a:moveTo>
                      <a:pt x="20" y="375"/>
                    </a:moveTo>
                    <a:lnTo>
                      <a:pt x="39" y="361"/>
                    </a:lnTo>
                    <a:lnTo>
                      <a:pt x="39" y="339"/>
                    </a:lnTo>
                    <a:lnTo>
                      <a:pt x="20" y="328"/>
                    </a:lnTo>
                    <a:lnTo>
                      <a:pt x="0" y="339"/>
                    </a:lnTo>
                    <a:lnTo>
                      <a:pt x="0" y="361"/>
                    </a:lnTo>
                    <a:lnTo>
                      <a:pt x="20" y="375"/>
                    </a:lnTo>
                    <a:close/>
                    <a:moveTo>
                      <a:pt x="74" y="375"/>
                    </a:moveTo>
                    <a:lnTo>
                      <a:pt x="94" y="361"/>
                    </a:lnTo>
                    <a:lnTo>
                      <a:pt x="94" y="339"/>
                    </a:lnTo>
                    <a:lnTo>
                      <a:pt x="74" y="328"/>
                    </a:lnTo>
                    <a:lnTo>
                      <a:pt x="55" y="339"/>
                    </a:lnTo>
                    <a:lnTo>
                      <a:pt x="55" y="361"/>
                    </a:lnTo>
                    <a:lnTo>
                      <a:pt x="74" y="375"/>
                    </a:lnTo>
                    <a:close/>
                    <a:moveTo>
                      <a:pt x="129" y="375"/>
                    </a:moveTo>
                    <a:lnTo>
                      <a:pt x="149" y="361"/>
                    </a:lnTo>
                    <a:lnTo>
                      <a:pt x="149" y="339"/>
                    </a:lnTo>
                    <a:lnTo>
                      <a:pt x="129" y="328"/>
                    </a:lnTo>
                    <a:lnTo>
                      <a:pt x="108" y="339"/>
                    </a:lnTo>
                    <a:lnTo>
                      <a:pt x="108" y="361"/>
                    </a:lnTo>
                    <a:lnTo>
                      <a:pt x="129" y="375"/>
                    </a:lnTo>
                    <a:close/>
                    <a:moveTo>
                      <a:pt x="181" y="375"/>
                    </a:moveTo>
                    <a:lnTo>
                      <a:pt x="202" y="361"/>
                    </a:lnTo>
                    <a:lnTo>
                      <a:pt x="202" y="339"/>
                    </a:lnTo>
                    <a:lnTo>
                      <a:pt x="181" y="328"/>
                    </a:lnTo>
                    <a:lnTo>
                      <a:pt x="161" y="339"/>
                    </a:lnTo>
                    <a:lnTo>
                      <a:pt x="161" y="361"/>
                    </a:lnTo>
                    <a:lnTo>
                      <a:pt x="181" y="375"/>
                    </a:lnTo>
                    <a:close/>
                    <a:moveTo>
                      <a:pt x="237" y="375"/>
                    </a:moveTo>
                    <a:lnTo>
                      <a:pt x="257" y="361"/>
                    </a:lnTo>
                    <a:lnTo>
                      <a:pt x="257" y="339"/>
                    </a:lnTo>
                    <a:lnTo>
                      <a:pt x="237" y="328"/>
                    </a:lnTo>
                    <a:lnTo>
                      <a:pt x="217" y="339"/>
                    </a:lnTo>
                    <a:lnTo>
                      <a:pt x="217" y="361"/>
                    </a:lnTo>
                    <a:lnTo>
                      <a:pt x="237" y="375"/>
                    </a:lnTo>
                    <a:close/>
                    <a:moveTo>
                      <a:pt x="289" y="375"/>
                    </a:moveTo>
                    <a:lnTo>
                      <a:pt x="312" y="361"/>
                    </a:lnTo>
                    <a:lnTo>
                      <a:pt x="312" y="339"/>
                    </a:lnTo>
                    <a:lnTo>
                      <a:pt x="289" y="328"/>
                    </a:lnTo>
                    <a:lnTo>
                      <a:pt x="269" y="339"/>
                    </a:lnTo>
                    <a:lnTo>
                      <a:pt x="269" y="361"/>
                    </a:lnTo>
                    <a:lnTo>
                      <a:pt x="289" y="375"/>
                    </a:lnTo>
                    <a:close/>
                    <a:moveTo>
                      <a:pt x="47" y="326"/>
                    </a:moveTo>
                    <a:lnTo>
                      <a:pt x="67" y="314"/>
                    </a:lnTo>
                    <a:lnTo>
                      <a:pt x="67" y="293"/>
                    </a:lnTo>
                    <a:lnTo>
                      <a:pt x="47" y="281"/>
                    </a:lnTo>
                    <a:lnTo>
                      <a:pt x="26" y="293"/>
                    </a:lnTo>
                    <a:lnTo>
                      <a:pt x="26" y="314"/>
                    </a:lnTo>
                    <a:lnTo>
                      <a:pt x="47" y="326"/>
                    </a:lnTo>
                    <a:close/>
                    <a:moveTo>
                      <a:pt x="100" y="326"/>
                    </a:moveTo>
                    <a:lnTo>
                      <a:pt x="120" y="314"/>
                    </a:lnTo>
                    <a:lnTo>
                      <a:pt x="120" y="293"/>
                    </a:lnTo>
                    <a:lnTo>
                      <a:pt x="100" y="281"/>
                    </a:lnTo>
                    <a:lnTo>
                      <a:pt x="81" y="293"/>
                    </a:lnTo>
                    <a:lnTo>
                      <a:pt x="81" y="314"/>
                    </a:lnTo>
                    <a:lnTo>
                      <a:pt x="100" y="326"/>
                    </a:lnTo>
                    <a:close/>
                    <a:moveTo>
                      <a:pt x="155" y="326"/>
                    </a:moveTo>
                    <a:lnTo>
                      <a:pt x="175" y="314"/>
                    </a:lnTo>
                    <a:lnTo>
                      <a:pt x="175" y="293"/>
                    </a:lnTo>
                    <a:lnTo>
                      <a:pt x="155" y="281"/>
                    </a:lnTo>
                    <a:lnTo>
                      <a:pt x="135" y="293"/>
                    </a:lnTo>
                    <a:lnTo>
                      <a:pt x="135" y="314"/>
                    </a:lnTo>
                    <a:lnTo>
                      <a:pt x="155" y="326"/>
                    </a:lnTo>
                    <a:close/>
                    <a:moveTo>
                      <a:pt x="208" y="326"/>
                    </a:moveTo>
                    <a:lnTo>
                      <a:pt x="230" y="314"/>
                    </a:lnTo>
                    <a:lnTo>
                      <a:pt x="230" y="293"/>
                    </a:lnTo>
                    <a:lnTo>
                      <a:pt x="208" y="281"/>
                    </a:lnTo>
                    <a:lnTo>
                      <a:pt x="188" y="293"/>
                    </a:lnTo>
                    <a:lnTo>
                      <a:pt x="188" y="314"/>
                    </a:lnTo>
                    <a:lnTo>
                      <a:pt x="208" y="326"/>
                    </a:lnTo>
                    <a:close/>
                    <a:moveTo>
                      <a:pt x="263" y="326"/>
                    </a:moveTo>
                    <a:lnTo>
                      <a:pt x="283" y="314"/>
                    </a:lnTo>
                    <a:lnTo>
                      <a:pt x="283" y="293"/>
                    </a:lnTo>
                    <a:lnTo>
                      <a:pt x="263" y="281"/>
                    </a:lnTo>
                    <a:lnTo>
                      <a:pt x="243" y="293"/>
                    </a:lnTo>
                    <a:lnTo>
                      <a:pt x="243" y="314"/>
                    </a:lnTo>
                    <a:lnTo>
                      <a:pt x="263" y="326"/>
                    </a:lnTo>
                    <a:close/>
                    <a:moveTo>
                      <a:pt x="318" y="326"/>
                    </a:moveTo>
                    <a:lnTo>
                      <a:pt x="338" y="314"/>
                    </a:lnTo>
                    <a:lnTo>
                      <a:pt x="338" y="293"/>
                    </a:lnTo>
                    <a:lnTo>
                      <a:pt x="318" y="281"/>
                    </a:lnTo>
                    <a:lnTo>
                      <a:pt x="298" y="293"/>
                    </a:lnTo>
                    <a:lnTo>
                      <a:pt x="298" y="314"/>
                    </a:lnTo>
                    <a:lnTo>
                      <a:pt x="318" y="326"/>
                    </a:lnTo>
                    <a:close/>
                    <a:moveTo>
                      <a:pt x="371" y="514"/>
                    </a:moveTo>
                    <a:lnTo>
                      <a:pt x="392" y="504"/>
                    </a:lnTo>
                    <a:lnTo>
                      <a:pt x="392" y="478"/>
                    </a:lnTo>
                    <a:lnTo>
                      <a:pt x="371" y="468"/>
                    </a:lnTo>
                    <a:lnTo>
                      <a:pt x="351" y="478"/>
                    </a:lnTo>
                    <a:lnTo>
                      <a:pt x="351" y="504"/>
                    </a:lnTo>
                    <a:lnTo>
                      <a:pt x="371" y="514"/>
                    </a:lnTo>
                    <a:close/>
                    <a:moveTo>
                      <a:pt x="426" y="514"/>
                    </a:moveTo>
                    <a:lnTo>
                      <a:pt x="445" y="504"/>
                    </a:lnTo>
                    <a:lnTo>
                      <a:pt x="445" y="478"/>
                    </a:lnTo>
                    <a:lnTo>
                      <a:pt x="426" y="468"/>
                    </a:lnTo>
                    <a:lnTo>
                      <a:pt x="406" y="478"/>
                    </a:lnTo>
                    <a:lnTo>
                      <a:pt x="406" y="504"/>
                    </a:lnTo>
                    <a:lnTo>
                      <a:pt x="426" y="514"/>
                    </a:lnTo>
                    <a:close/>
                    <a:moveTo>
                      <a:pt x="480" y="514"/>
                    </a:moveTo>
                    <a:lnTo>
                      <a:pt x="500" y="504"/>
                    </a:lnTo>
                    <a:lnTo>
                      <a:pt x="500" y="478"/>
                    </a:lnTo>
                    <a:lnTo>
                      <a:pt x="480" y="468"/>
                    </a:lnTo>
                    <a:lnTo>
                      <a:pt x="458" y="478"/>
                    </a:lnTo>
                    <a:lnTo>
                      <a:pt x="458" y="504"/>
                    </a:lnTo>
                    <a:lnTo>
                      <a:pt x="480" y="514"/>
                    </a:lnTo>
                    <a:close/>
                    <a:moveTo>
                      <a:pt x="532" y="514"/>
                    </a:moveTo>
                    <a:lnTo>
                      <a:pt x="552" y="504"/>
                    </a:lnTo>
                    <a:lnTo>
                      <a:pt x="552" y="478"/>
                    </a:lnTo>
                    <a:lnTo>
                      <a:pt x="532" y="468"/>
                    </a:lnTo>
                    <a:lnTo>
                      <a:pt x="514" y="478"/>
                    </a:lnTo>
                    <a:lnTo>
                      <a:pt x="514" y="504"/>
                    </a:lnTo>
                    <a:lnTo>
                      <a:pt x="532" y="514"/>
                    </a:lnTo>
                    <a:close/>
                    <a:moveTo>
                      <a:pt x="586" y="514"/>
                    </a:moveTo>
                    <a:lnTo>
                      <a:pt x="608" y="504"/>
                    </a:lnTo>
                    <a:lnTo>
                      <a:pt x="608" y="478"/>
                    </a:lnTo>
                    <a:lnTo>
                      <a:pt x="586" y="468"/>
                    </a:lnTo>
                    <a:lnTo>
                      <a:pt x="566" y="478"/>
                    </a:lnTo>
                    <a:lnTo>
                      <a:pt x="566" y="504"/>
                    </a:lnTo>
                    <a:lnTo>
                      <a:pt x="586" y="514"/>
                    </a:lnTo>
                    <a:close/>
                    <a:moveTo>
                      <a:pt x="452" y="468"/>
                    </a:moveTo>
                    <a:lnTo>
                      <a:pt x="473" y="454"/>
                    </a:lnTo>
                    <a:lnTo>
                      <a:pt x="473" y="432"/>
                    </a:lnTo>
                    <a:lnTo>
                      <a:pt x="452" y="422"/>
                    </a:lnTo>
                    <a:lnTo>
                      <a:pt x="432" y="432"/>
                    </a:lnTo>
                    <a:lnTo>
                      <a:pt x="432" y="454"/>
                    </a:lnTo>
                    <a:lnTo>
                      <a:pt x="452" y="468"/>
                    </a:lnTo>
                    <a:close/>
                    <a:moveTo>
                      <a:pt x="505" y="468"/>
                    </a:moveTo>
                    <a:lnTo>
                      <a:pt x="526" y="454"/>
                    </a:lnTo>
                    <a:lnTo>
                      <a:pt x="526" y="432"/>
                    </a:lnTo>
                    <a:lnTo>
                      <a:pt x="505" y="422"/>
                    </a:lnTo>
                    <a:lnTo>
                      <a:pt x="485" y="432"/>
                    </a:lnTo>
                    <a:lnTo>
                      <a:pt x="485" y="454"/>
                    </a:lnTo>
                    <a:lnTo>
                      <a:pt x="505" y="468"/>
                    </a:lnTo>
                    <a:close/>
                    <a:moveTo>
                      <a:pt x="560" y="468"/>
                    </a:moveTo>
                    <a:lnTo>
                      <a:pt x="579" y="454"/>
                    </a:lnTo>
                    <a:lnTo>
                      <a:pt x="579" y="432"/>
                    </a:lnTo>
                    <a:lnTo>
                      <a:pt x="560" y="422"/>
                    </a:lnTo>
                    <a:lnTo>
                      <a:pt x="540" y="432"/>
                    </a:lnTo>
                    <a:lnTo>
                      <a:pt x="540" y="454"/>
                    </a:lnTo>
                    <a:lnTo>
                      <a:pt x="560" y="468"/>
                    </a:lnTo>
                    <a:close/>
                    <a:moveTo>
                      <a:pt x="344" y="468"/>
                    </a:moveTo>
                    <a:lnTo>
                      <a:pt x="364" y="454"/>
                    </a:lnTo>
                    <a:lnTo>
                      <a:pt x="364" y="432"/>
                    </a:lnTo>
                    <a:lnTo>
                      <a:pt x="344" y="422"/>
                    </a:lnTo>
                    <a:lnTo>
                      <a:pt x="324" y="432"/>
                    </a:lnTo>
                    <a:lnTo>
                      <a:pt x="324" y="454"/>
                    </a:lnTo>
                    <a:lnTo>
                      <a:pt x="344" y="468"/>
                    </a:lnTo>
                    <a:close/>
                    <a:moveTo>
                      <a:pt x="400" y="468"/>
                    </a:moveTo>
                    <a:lnTo>
                      <a:pt x="418" y="454"/>
                    </a:lnTo>
                    <a:lnTo>
                      <a:pt x="418" y="432"/>
                    </a:lnTo>
                    <a:lnTo>
                      <a:pt x="400" y="422"/>
                    </a:lnTo>
                    <a:lnTo>
                      <a:pt x="379" y="432"/>
                    </a:lnTo>
                    <a:lnTo>
                      <a:pt x="379" y="454"/>
                    </a:lnTo>
                    <a:lnTo>
                      <a:pt x="400" y="468"/>
                    </a:lnTo>
                    <a:close/>
                    <a:moveTo>
                      <a:pt x="560" y="279"/>
                    </a:moveTo>
                    <a:lnTo>
                      <a:pt x="579" y="269"/>
                    </a:lnTo>
                    <a:lnTo>
                      <a:pt x="579" y="246"/>
                    </a:lnTo>
                    <a:lnTo>
                      <a:pt x="560" y="233"/>
                    </a:lnTo>
                    <a:lnTo>
                      <a:pt x="540" y="246"/>
                    </a:lnTo>
                    <a:lnTo>
                      <a:pt x="540" y="269"/>
                    </a:lnTo>
                    <a:lnTo>
                      <a:pt x="560" y="279"/>
                    </a:lnTo>
                    <a:close/>
                    <a:moveTo>
                      <a:pt x="344" y="279"/>
                    </a:moveTo>
                    <a:lnTo>
                      <a:pt x="364" y="269"/>
                    </a:lnTo>
                    <a:lnTo>
                      <a:pt x="364" y="246"/>
                    </a:lnTo>
                    <a:lnTo>
                      <a:pt x="344" y="233"/>
                    </a:lnTo>
                    <a:lnTo>
                      <a:pt x="324" y="246"/>
                    </a:lnTo>
                    <a:lnTo>
                      <a:pt x="324" y="269"/>
                    </a:lnTo>
                    <a:lnTo>
                      <a:pt x="344" y="279"/>
                    </a:lnTo>
                    <a:close/>
                    <a:moveTo>
                      <a:pt x="400" y="279"/>
                    </a:moveTo>
                    <a:lnTo>
                      <a:pt x="418" y="269"/>
                    </a:lnTo>
                    <a:lnTo>
                      <a:pt x="418" y="246"/>
                    </a:lnTo>
                    <a:lnTo>
                      <a:pt x="400" y="233"/>
                    </a:lnTo>
                    <a:lnTo>
                      <a:pt x="379" y="246"/>
                    </a:lnTo>
                    <a:lnTo>
                      <a:pt x="379" y="269"/>
                    </a:lnTo>
                    <a:lnTo>
                      <a:pt x="400" y="279"/>
                    </a:lnTo>
                    <a:close/>
                    <a:moveTo>
                      <a:pt x="452" y="279"/>
                    </a:moveTo>
                    <a:lnTo>
                      <a:pt x="473" y="269"/>
                    </a:lnTo>
                    <a:lnTo>
                      <a:pt x="473" y="246"/>
                    </a:lnTo>
                    <a:lnTo>
                      <a:pt x="452" y="233"/>
                    </a:lnTo>
                    <a:lnTo>
                      <a:pt x="432" y="246"/>
                    </a:lnTo>
                    <a:lnTo>
                      <a:pt x="432" y="269"/>
                    </a:lnTo>
                    <a:lnTo>
                      <a:pt x="452" y="279"/>
                    </a:lnTo>
                    <a:close/>
                    <a:moveTo>
                      <a:pt x="505" y="279"/>
                    </a:moveTo>
                    <a:lnTo>
                      <a:pt x="526" y="269"/>
                    </a:lnTo>
                    <a:lnTo>
                      <a:pt x="526" y="246"/>
                    </a:lnTo>
                    <a:lnTo>
                      <a:pt x="505" y="233"/>
                    </a:lnTo>
                    <a:lnTo>
                      <a:pt x="485" y="246"/>
                    </a:lnTo>
                    <a:lnTo>
                      <a:pt x="485" y="269"/>
                    </a:lnTo>
                    <a:lnTo>
                      <a:pt x="505" y="279"/>
                    </a:lnTo>
                    <a:close/>
                    <a:moveTo>
                      <a:pt x="371" y="233"/>
                    </a:moveTo>
                    <a:lnTo>
                      <a:pt x="392" y="222"/>
                    </a:lnTo>
                    <a:lnTo>
                      <a:pt x="392" y="199"/>
                    </a:lnTo>
                    <a:lnTo>
                      <a:pt x="371" y="187"/>
                    </a:lnTo>
                    <a:lnTo>
                      <a:pt x="351" y="199"/>
                    </a:lnTo>
                    <a:lnTo>
                      <a:pt x="351" y="222"/>
                    </a:lnTo>
                    <a:lnTo>
                      <a:pt x="371" y="233"/>
                    </a:lnTo>
                    <a:close/>
                    <a:moveTo>
                      <a:pt x="426" y="233"/>
                    </a:moveTo>
                    <a:lnTo>
                      <a:pt x="445" y="222"/>
                    </a:lnTo>
                    <a:lnTo>
                      <a:pt x="445" y="199"/>
                    </a:lnTo>
                    <a:lnTo>
                      <a:pt x="426" y="187"/>
                    </a:lnTo>
                    <a:lnTo>
                      <a:pt x="406" y="199"/>
                    </a:lnTo>
                    <a:lnTo>
                      <a:pt x="406" y="222"/>
                    </a:lnTo>
                    <a:lnTo>
                      <a:pt x="426" y="233"/>
                    </a:lnTo>
                    <a:close/>
                    <a:moveTo>
                      <a:pt x="480" y="233"/>
                    </a:moveTo>
                    <a:lnTo>
                      <a:pt x="500" y="222"/>
                    </a:lnTo>
                    <a:lnTo>
                      <a:pt x="500" y="199"/>
                    </a:lnTo>
                    <a:lnTo>
                      <a:pt x="480" y="187"/>
                    </a:lnTo>
                    <a:lnTo>
                      <a:pt x="458" y="199"/>
                    </a:lnTo>
                    <a:lnTo>
                      <a:pt x="458" y="222"/>
                    </a:lnTo>
                    <a:lnTo>
                      <a:pt x="480" y="233"/>
                    </a:lnTo>
                    <a:close/>
                    <a:moveTo>
                      <a:pt x="532" y="233"/>
                    </a:moveTo>
                    <a:lnTo>
                      <a:pt x="552" y="222"/>
                    </a:lnTo>
                    <a:lnTo>
                      <a:pt x="552" y="199"/>
                    </a:lnTo>
                    <a:lnTo>
                      <a:pt x="532" y="187"/>
                    </a:lnTo>
                    <a:lnTo>
                      <a:pt x="514" y="199"/>
                    </a:lnTo>
                    <a:lnTo>
                      <a:pt x="514" y="222"/>
                    </a:lnTo>
                    <a:lnTo>
                      <a:pt x="532" y="233"/>
                    </a:lnTo>
                    <a:close/>
                    <a:moveTo>
                      <a:pt x="344" y="187"/>
                    </a:moveTo>
                    <a:lnTo>
                      <a:pt x="364" y="175"/>
                    </a:lnTo>
                    <a:lnTo>
                      <a:pt x="364" y="153"/>
                    </a:lnTo>
                    <a:lnTo>
                      <a:pt x="344" y="140"/>
                    </a:lnTo>
                    <a:lnTo>
                      <a:pt x="324" y="153"/>
                    </a:lnTo>
                    <a:lnTo>
                      <a:pt x="324" y="175"/>
                    </a:lnTo>
                    <a:lnTo>
                      <a:pt x="344" y="187"/>
                    </a:lnTo>
                    <a:close/>
                    <a:moveTo>
                      <a:pt x="400" y="187"/>
                    </a:moveTo>
                    <a:lnTo>
                      <a:pt x="418" y="175"/>
                    </a:lnTo>
                    <a:lnTo>
                      <a:pt x="418" y="153"/>
                    </a:lnTo>
                    <a:lnTo>
                      <a:pt x="400" y="140"/>
                    </a:lnTo>
                    <a:lnTo>
                      <a:pt x="379" y="153"/>
                    </a:lnTo>
                    <a:lnTo>
                      <a:pt x="379" y="175"/>
                    </a:lnTo>
                    <a:lnTo>
                      <a:pt x="400" y="187"/>
                    </a:lnTo>
                    <a:close/>
                    <a:moveTo>
                      <a:pt x="452" y="187"/>
                    </a:moveTo>
                    <a:lnTo>
                      <a:pt x="473" y="175"/>
                    </a:lnTo>
                    <a:lnTo>
                      <a:pt x="473" y="153"/>
                    </a:lnTo>
                    <a:lnTo>
                      <a:pt x="452" y="140"/>
                    </a:lnTo>
                    <a:lnTo>
                      <a:pt x="432" y="153"/>
                    </a:lnTo>
                    <a:lnTo>
                      <a:pt x="432" y="175"/>
                    </a:lnTo>
                    <a:lnTo>
                      <a:pt x="452" y="187"/>
                    </a:lnTo>
                    <a:close/>
                    <a:moveTo>
                      <a:pt x="505" y="187"/>
                    </a:moveTo>
                    <a:lnTo>
                      <a:pt x="526" y="175"/>
                    </a:lnTo>
                    <a:lnTo>
                      <a:pt x="526" y="153"/>
                    </a:lnTo>
                    <a:lnTo>
                      <a:pt x="505" y="140"/>
                    </a:lnTo>
                    <a:lnTo>
                      <a:pt x="485" y="153"/>
                    </a:lnTo>
                    <a:lnTo>
                      <a:pt x="485" y="175"/>
                    </a:lnTo>
                    <a:lnTo>
                      <a:pt x="505" y="187"/>
                    </a:lnTo>
                    <a:close/>
                    <a:moveTo>
                      <a:pt x="560" y="187"/>
                    </a:moveTo>
                    <a:lnTo>
                      <a:pt x="579" y="175"/>
                    </a:lnTo>
                    <a:lnTo>
                      <a:pt x="579" y="153"/>
                    </a:lnTo>
                    <a:lnTo>
                      <a:pt x="560" y="140"/>
                    </a:lnTo>
                    <a:lnTo>
                      <a:pt x="540" y="153"/>
                    </a:lnTo>
                    <a:lnTo>
                      <a:pt x="540" y="175"/>
                    </a:lnTo>
                    <a:lnTo>
                      <a:pt x="560" y="187"/>
                    </a:lnTo>
                    <a:close/>
                    <a:moveTo>
                      <a:pt x="480" y="422"/>
                    </a:moveTo>
                    <a:lnTo>
                      <a:pt x="500" y="408"/>
                    </a:lnTo>
                    <a:lnTo>
                      <a:pt x="500" y="386"/>
                    </a:lnTo>
                    <a:lnTo>
                      <a:pt x="480" y="375"/>
                    </a:lnTo>
                    <a:lnTo>
                      <a:pt x="458" y="386"/>
                    </a:lnTo>
                    <a:lnTo>
                      <a:pt x="458" y="408"/>
                    </a:lnTo>
                    <a:lnTo>
                      <a:pt x="480" y="422"/>
                    </a:lnTo>
                    <a:close/>
                    <a:moveTo>
                      <a:pt x="532" y="422"/>
                    </a:moveTo>
                    <a:lnTo>
                      <a:pt x="552" y="408"/>
                    </a:lnTo>
                    <a:lnTo>
                      <a:pt x="552" y="386"/>
                    </a:lnTo>
                    <a:lnTo>
                      <a:pt x="532" y="375"/>
                    </a:lnTo>
                    <a:lnTo>
                      <a:pt x="514" y="386"/>
                    </a:lnTo>
                    <a:lnTo>
                      <a:pt x="514" y="408"/>
                    </a:lnTo>
                    <a:lnTo>
                      <a:pt x="532" y="422"/>
                    </a:lnTo>
                    <a:close/>
                    <a:moveTo>
                      <a:pt x="586" y="422"/>
                    </a:moveTo>
                    <a:lnTo>
                      <a:pt x="608" y="408"/>
                    </a:lnTo>
                    <a:lnTo>
                      <a:pt x="608" y="386"/>
                    </a:lnTo>
                    <a:lnTo>
                      <a:pt x="586" y="375"/>
                    </a:lnTo>
                    <a:lnTo>
                      <a:pt x="566" y="386"/>
                    </a:lnTo>
                    <a:lnTo>
                      <a:pt x="566" y="408"/>
                    </a:lnTo>
                    <a:lnTo>
                      <a:pt x="586" y="422"/>
                    </a:lnTo>
                    <a:close/>
                    <a:moveTo>
                      <a:pt x="371" y="422"/>
                    </a:moveTo>
                    <a:lnTo>
                      <a:pt x="392" y="408"/>
                    </a:lnTo>
                    <a:lnTo>
                      <a:pt x="392" y="386"/>
                    </a:lnTo>
                    <a:lnTo>
                      <a:pt x="371" y="375"/>
                    </a:lnTo>
                    <a:lnTo>
                      <a:pt x="351" y="386"/>
                    </a:lnTo>
                    <a:lnTo>
                      <a:pt x="351" y="408"/>
                    </a:lnTo>
                    <a:lnTo>
                      <a:pt x="371" y="422"/>
                    </a:lnTo>
                    <a:close/>
                    <a:moveTo>
                      <a:pt x="426" y="422"/>
                    </a:moveTo>
                    <a:lnTo>
                      <a:pt x="445" y="408"/>
                    </a:lnTo>
                    <a:lnTo>
                      <a:pt x="445" y="386"/>
                    </a:lnTo>
                    <a:lnTo>
                      <a:pt x="426" y="375"/>
                    </a:lnTo>
                    <a:lnTo>
                      <a:pt x="406" y="386"/>
                    </a:lnTo>
                    <a:lnTo>
                      <a:pt x="406" y="408"/>
                    </a:lnTo>
                    <a:lnTo>
                      <a:pt x="426" y="422"/>
                    </a:lnTo>
                    <a:close/>
                    <a:moveTo>
                      <a:pt x="400" y="375"/>
                    </a:moveTo>
                    <a:lnTo>
                      <a:pt x="418" y="361"/>
                    </a:lnTo>
                    <a:lnTo>
                      <a:pt x="418" y="339"/>
                    </a:lnTo>
                    <a:lnTo>
                      <a:pt x="400" y="328"/>
                    </a:lnTo>
                    <a:lnTo>
                      <a:pt x="379" y="339"/>
                    </a:lnTo>
                    <a:lnTo>
                      <a:pt x="379" y="361"/>
                    </a:lnTo>
                    <a:lnTo>
                      <a:pt x="400" y="375"/>
                    </a:lnTo>
                    <a:close/>
                    <a:moveTo>
                      <a:pt x="452" y="375"/>
                    </a:moveTo>
                    <a:lnTo>
                      <a:pt x="473" y="361"/>
                    </a:lnTo>
                    <a:lnTo>
                      <a:pt x="473" y="339"/>
                    </a:lnTo>
                    <a:lnTo>
                      <a:pt x="452" y="328"/>
                    </a:lnTo>
                    <a:lnTo>
                      <a:pt x="432" y="339"/>
                    </a:lnTo>
                    <a:lnTo>
                      <a:pt x="432" y="361"/>
                    </a:lnTo>
                    <a:lnTo>
                      <a:pt x="452" y="375"/>
                    </a:lnTo>
                    <a:close/>
                    <a:moveTo>
                      <a:pt x="505" y="375"/>
                    </a:moveTo>
                    <a:lnTo>
                      <a:pt x="526" y="361"/>
                    </a:lnTo>
                    <a:lnTo>
                      <a:pt x="526" y="339"/>
                    </a:lnTo>
                    <a:lnTo>
                      <a:pt x="505" y="328"/>
                    </a:lnTo>
                    <a:lnTo>
                      <a:pt x="485" y="339"/>
                    </a:lnTo>
                    <a:lnTo>
                      <a:pt x="485" y="361"/>
                    </a:lnTo>
                    <a:lnTo>
                      <a:pt x="505" y="375"/>
                    </a:lnTo>
                    <a:close/>
                    <a:moveTo>
                      <a:pt x="560" y="375"/>
                    </a:moveTo>
                    <a:lnTo>
                      <a:pt x="579" y="361"/>
                    </a:lnTo>
                    <a:lnTo>
                      <a:pt x="579" y="339"/>
                    </a:lnTo>
                    <a:lnTo>
                      <a:pt x="560" y="328"/>
                    </a:lnTo>
                    <a:lnTo>
                      <a:pt x="540" y="339"/>
                    </a:lnTo>
                    <a:lnTo>
                      <a:pt x="540" y="361"/>
                    </a:lnTo>
                    <a:lnTo>
                      <a:pt x="560" y="375"/>
                    </a:lnTo>
                    <a:close/>
                    <a:moveTo>
                      <a:pt x="344" y="375"/>
                    </a:moveTo>
                    <a:lnTo>
                      <a:pt x="364" y="361"/>
                    </a:lnTo>
                    <a:lnTo>
                      <a:pt x="364" y="339"/>
                    </a:lnTo>
                    <a:lnTo>
                      <a:pt x="344" y="328"/>
                    </a:lnTo>
                    <a:lnTo>
                      <a:pt x="324" y="339"/>
                    </a:lnTo>
                    <a:lnTo>
                      <a:pt x="324" y="361"/>
                    </a:lnTo>
                    <a:lnTo>
                      <a:pt x="344" y="375"/>
                    </a:lnTo>
                    <a:close/>
                    <a:moveTo>
                      <a:pt x="371" y="326"/>
                    </a:moveTo>
                    <a:lnTo>
                      <a:pt x="392" y="314"/>
                    </a:lnTo>
                    <a:lnTo>
                      <a:pt x="392" y="293"/>
                    </a:lnTo>
                    <a:lnTo>
                      <a:pt x="371" y="281"/>
                    </a:lnTo>
                    <a:lnTo>
                      <a:pt x="351" y="293"/>
                    </a:lnTo>
                    <a:lnTo>
                      <a:pt x="351" y="314"/>
                    </a:lnTo>
                    <a:lnTo>
                      <a:pt x="371" y="326"/>
                    </a:lnTo>
                    <a:close/>
                    <a:moveTo>
                      <a:pt x="426" y="326"/>
                    </a:moveTo>
                    <a:lnTo>
                      <a:pt x="445" y="314"/>
                    </a:lnTo>
                    <a:lnTo>
                      <a:pt x="445" y="293"/>
                    </a:lnTo>
                    <a:lnTo>
                      <a:pt x="426" y="281"/>
                    </a:lnTo>
                    <a:lnTo>
                      <a:pt x="406" y="293"/>
                    </a:lnTo>
                    <a:lnTo>
                      <a:pt x="406" y="314"/>
                    </a:lnTo>
                    <a:lnTo>
                      <a:pt x="426" y="326"/>
                    </a:lnTo>
                    <a:close/>
                    <a:moveTo>
                      <a:pt x="480" y="326"/>
                    </a:moveTo>
                    <a:lnTo>
                      <a:pt x="500" y="314"/>
                    </a:lnTo>
                    <a:lnTo>
                      <a:pt x="500" y="293"/>
                    </a:lnTo>
                    <a:lnTo>
                      <a:pt x="480" y="281"/>
                    </a:lnTo>
                    <a:lnTo>
                      <a:pt x="458" y="293"/>
                    </a:lnTo>
                    <a:lnTo>
                      <a:pt x="458" y="314"/>
                    </a:lnTo>
                    <a:lnTo>
                      <a:pt x="480" y="326"/>
                    </a:lnTo>
                    <a:close/>
                    <a:moveTo>
                      <a:pt x="532" y="326"/>
                    </a:moveTo>
                    <a:lnTo>
                      <a:pt x="552" y="314"/>
                    </a:lnTo>
                    <a:lnTo>
                      <a:pt x="552" y="293"/>
                    </a:lnTo>
                    <a:lnTo>
                      <a:pt x="532" y="281"/>
                    </a:lnTo>
                    <a:lnTo>
                      <a:pt x="514" y="293"/>
                    </a:lnTo>
                    <a:lnTo>
                      <a:pt x="514" y="314"/>
                    </a:lnTo>
                    <a:lnTo>
                      <a:pt x="532" y="326"/>
                    </a:lnTo>
                    <a:close/>
                    <a:moveTo>
                      <a:pt x="480" y="140"/>
                    </a:moveTo>
                    <a:lnTo>
                      <a:pt x="500" y="129"/>
                    </a:lnTo>
                    <a:lnTo>
                      <a:pt x="500" y="105"/>
                    </a:lnTo>
                    <a:lnTo>
                      <a:pt x="480" y="93"/>
                    </a:lnTo>
                    <a:lnTo>
                      <a:pt x="458" y="105"/>
                    </a:lnTo>
                    <a:lnTo>
                      <a:pt x="458" y="129"/>
                    </a:lnTo>
                    <a:lnTo>
                      <a:pt x="480" y="140"/>
                    </a:lnTo>
                    <a:close/>
                    <a:moveTo>
                      <a:pt x="532" y="140"/>
                    </a:moveTo>
                    <a:lnTo>
                      <a:pt x="552" y="129"/>
                    </a:lnTo>
                    <a:lnTo>
                      <a:pt x="552" y="105"/>
                    </a:lnTo>
                    <a:lnTo>
                      <a:pt x="532" y="93"/>
                    </a:lnTo>
                    <a:lnTo>
                      <a:pt x="514" y="105"/>
                    </a:lnTo>
                    <a:lnTo>
                      <a:pt x="514" y="129"/>
                    </a:lnTo>
                    <a:lnTo>
                      <a:pt x="532" y="140"/>
                    </a:lnTo>
                    <a:close/>
                    <a:moveTo>
                      <a:pt x="505" y="93"/>
                    </a:moveTo>
                    <a:lnTo>
                      <a:pt x="526" y="82"/>
                    </a:lnTo>
                    <a:lnTo>
                      <a:pt x="526" y="58"/>
                    </a:lnTo>
                    <a:lnTo>
                      <a:pt x="505" y="47"/>
                    </a:lnTo>
                    <a:lnTo>
                      <a:pt x="485" y="58"/>
                    </a:lnTo>
                    <a:lnTo>
                      <a:pt x="485" y="82"/>
                    </a:lnTo>
                    <a:lnTo>
                      <a:pt x="505" y="93"/>
                    </a:lnTo>
                    <a:close/>
                    <a:moveTo>
                      <a:pt x="560" y="93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60" y="47"/>
                    </a:lnTo>
                    <a:lnTo>
                      <a:pt x="540" y="58"/>
                    </a:lnTo>
                    <a:lnTo>
                      <a:pt x="540" y="82"/>
                    </a:lnTo>
                    <a:lnTo>
                      <a:pt x="560" y="93"/>
                    </a:lnTo>
                    <a:close/>
                    <a:moveTo>
                      <a:pt x="371" y="140"/>
                    </a:moveTo>
                    <a:lnTo>
                      <a:pt x="392" y="129"/>
                    </a:lnTo>
                    <a:lnTo>
                      <a:pt x="392" y="105"/>
                    </a:lnTo>
                    <a:lnTo>
                      <a:pt x="371" y="93"/>
                    </a:lnTo>
                    <a:lnTo>
                      <a:pt x="351" y="105"/>
                    </a:lnTo>
                    <a:lnTo>
                      <a:pt x="351" y="129"/>
                    </a:lnTo>
                    <a:lnTo>
                      <a:pt x="371" y="140"/>
                    </a:lnTo>
                    <a:close/>
                    <a:moveTo>
                      <a:pt x="426" y="140"/>
                    </a:moveTo>
                    <a:lnTo>
                      <a:pt x="445" y="129"/>
                    </a:lnTo>
                    <a:lnTo>
                      <a:pt x="445" y="105"/>
                    </a:lnTo>
                    <a:lnTo>
                      <a:pt x="426" y="93"/>
                    </a:lnTo>
                    <a:lnTo>
                      <a:pt x="406" y="105"/>
                    </a:lnTo>
                    <a:lnTo>
                      <a:pt x="406" y="129"/>
                    </a:lnTo>
                    <a:lnTo>
                      <a:pt x="426" y="140"/>
                    </a:lnTo>
                    <a:close/>
                    <a:moveTo>
                      <a:pt x="748" y="607"/>
                    </a:moveTo>
                    <a:lnTo>
                      <a:pt x="768" y="596"/>
                    </a:lnTo>
                    <a:lnTo>
                      <a:pt x="768" y="572"/>
                    </a:lnTo>
                    <a:lnTo>
                      <a:pt x="748" y="560"/>
                    </a:lnTo>
                    <a:lnTo>
                      <a:pt x="728" y="572"/>
                    </a:lnTo>
                    <a:lnTo>
                      <a:pt x="728" y="596"/>
                    </a:lnTo>
                    <a:lnTo>
                      <a:pt x="748" y="607"/>
                    </a:lnTo>
                    <a:close/>
                    <a:moveTo>
                      <a:pt x="803" y="607"/>
                    </a:moveTo>
                    <a:lnTo>
                      <a:pt x="823" y="596"/>
                    </a:lnTo>
                    <a:lnTo>
                      <a:pt x="823" y="572"/>
                    </a:lnTo>
                    <a:lnTo>
                      <a:pt x="803" y="560"/>
                    </a:lnTo>
                    <a:lnTo>
                      <a:pt x="783" y="572"/>
                    </a:lnTo>
                    <a:lnTo>
                      <a:pt x="783" y="596"/>
                    </a:lnTo>
                    <a:lnTo>
                      <a:pt x="803" y="607"/>
                    </a:lnTo>
                    <a:close/>
                    <a:moveTo>
                      <a:pt x="858" y="607"/>
                    </a:moveTo>
                    <a:lnTo>
                      <a:pt x="878" y="596"/>
                    </a:lnTo>
                    <a:lnTo>
                      <a:pt x="878" y="572"/>
                    </a:lnTo>
                    <a:lnTo>
                      <a:pt x="858" y="560"/>
                    </a:lnTo>
                    <a:lnTo>
                      <a:pt x="836" y="572"/>
                    </a:lnTo>
                    <a:lnTo>
                      <a:pt x="836" y="596"/>
                    </a:lnTo>
                    <a:lnTo>
                      <a:pt x="858" y="607"/>
                    </a:lnTo>
                    <a:close/>
                    <a:moveTo>
                      <a:pt x="911" y="607"/>
                    </a:moveTo>
                    <a:lnTo>
                      <a:pt x="931" y="596"/>
                    </a:lnTo>
                    <a:lnTo>
                      <a:pt x="931" y="572"/>
                    </a:lnTo>
                    <a:lnTo>
                      <a:pt x="911" y="560"/>
                    </a:lnTo>
                    <a:lnTo>
                      <a:pt x="891" y="572"/>
                    </a:lnTo>
                    <a:lnTo>
                      <a:pt x="891" y="596"/>
                    </a:lnTo>
                    <a:lnTo>
                      <a:pt x="911" y="607"/>
                    </a:lnTo>
                    <a:close/>
                    <a:moveTo>
                      <a:pt x="532" y="607"/>
                    </a:moveTo>
                    <a:lnTo>
                      <a:pt x="552" y="596"/>
                    </a:lnTo>
                    <a:lnTo>
                      <a:pt x="552" y="572"/>
                    </a:lnTo>
                    <a:lnTo>
                      <a:pt x="532" y="560"/>
                    </a:lnTo>
                    <a:lnTo>
                      <a:pt x="514" y="572"/>
                    </a:lnTo>
                    <a:lnTo>
                      <a:pt x="514" y="596"/>
                    </a:lnTo>
                    <a:lnTo>
                      <a:pt x="532" y="607"/>
                    </a:lnTo>
                    <a:close/>
                    <a:moveTo>
                      <a:pt x="586" y="607"/>
                    </a:moveTo>
                    <a:lnTo>
                      <a:pt x="608" y="596"/>
                    </a:lnTo>
                    <a:lnTo>
                      <a:pt x="608" y="572"/>
                    </a:lnTo>
                    <a:lnTo>
                      <a:pt x="586" y="560"/>
                    </a:lnTo>
                    <a:lnTo>
                      <a:pt x="566" y="572"/>
                    </a:lnTo>
                    <a:lnTo>
                      <a:pt x="566" y="596"/>
                    </a:lnTo>
                    <a:lnTo>
                      <a:pt x="586" y="607"/>
                    </a:lnTo>
                    <a:close/>
                    <a:moveTo>
                      <a:pt x="640" y="607"/>
                    </a:moveTo>
                    <a:lnTo>
                      <a:pt x="660" y="596"/>
                    </a:lnTo>
                    <a:lnTo>
                      <a:pt x="660" y="572"/>
                    </a:lnTo>
                    <a:lnTo>
                      <a:pt x="640" y="560"/>
                    </a:lnTo>
                    <a:lnTo>
                      <a:pt x="621" y="572"/>
                    </a:lnTo>
                    <a:lnTo>
                      <a:pt x="621" y="596"/>
                    </a:lnTo>
                    <a:lnTo>
                      <a:pt x="640" y="607"/>
                    </a:lnTo>
                    <a:close/>
                    <a:moveTo>
                      <a:pt x="695" y="607"/>
                    </a:moveTo>
                    <a:lnTo>
                      <a:pt x="715" y="596"/>
                    </a:lnTo>
                    <a:lnTo>
                      <a:pt x="715" y="572"/>
                    </a:lnTo>
                    <a:lnTo>
                      <a:pt x="695" y="560"/>
                    </a:lnTo>
                    <a:lnTo>
                      <a:pt x="674" y="572"/>
                    </a:lnTo>
                    <a:lnTo>
                      <a:pt x="674" y="596"/>
                    </a:lnTo>
                    <a:lnTo>
                      <a:pt x="695" y="607"/>
                    </a:lnTo>
                    <a:close/>
                    <a:moveTo>
                      <a:pt x="966" y="607"/>
                    </a:moveTo>
                    <a:lnTo>
                      <a:pt x="985" y="596"/>
                    </a:lnTo>
                    <a:lnTo>
                      <a:pt x="985" y="572"/>
                    </a:lnTo>
                    <a:lnTo>
                      <a:pt x="966" y="560"/>
                    </a:lnTo>
                    <a:lnTo>
                      <a:pt x="946" y="572"/>
                    </a:lnTo>
                    <a:lnTo>
                      <a:pt x="946" y="596"/>
                    </a:lnTo>
                    <a:lnTo>
                      <a:pt x="966" y="607"/>
                    </a:lnTo>
                    <a:close/>
                    <a:moveTo>
                      <a:pt x="1018" y="607"/>
                    </a:moveTo>
                    <a:lnTo>
                      <a:pt x="1040" y="596"/>
                    </a:lnTo>
                    <a:lnTo>
                      <a:pt x="1040" y="572"/>
                    </a:lnTo>
                    <a:lnTo>
                      <a:pt x="1018" y="560"/>
                    </a:lnTo>
                    <a:lnTo>
                      <a:pt x="998" y="572"/>
                    </a:lnTo>
                    <a:lnTo>
                      <a:pt x="998" y="596"/>
                    </a:lnTo>
                    <a:lnTo>
                      <a:pt x="1018" y="607"/>
                    </a:lnTo>
                    <a:close/>
                    <a:moveTo>
                      <a:pt x="1072" y="607"/>
                    </a:moveTo>
                    <a:lnTo>
                      <a:pt x="1092" y="596"/>
                    </a:lnTo>
                    <a:lnTo>
                      <a:pt x="1092" y="572"/>
                    </a:lnTo>
                    <a:lnTo>
                      <a:pt x="1072" y="560"/>
                    </a:lnTo>
                    <a:lnTo>
                      <a:pt x="1054" y="572"/>
                    </a:lnTo>
                    <a:lnTo>
                      <a:pt x="1054" y="596"/>
                    </a:lnTo>
                    <a:lnTo>
                      <a:pt x="1072" y="607"/>
                    </a:lnTo>
                    <a:close/>
                    <a:moveTo>
                      <a:pt x="884" y="560"/>
                    </a:moveTo>
                    <a:lnTo>
                      <a:pt x="904" y="550"/>
                    </a:lnTo>
                    <a:lnTo>
                      <a:pt x="904" y="525"/>
                    </a:lnTo>
                    <a:lnTo>
                      <a:pt x="884" y="514"/>
                    </a:lnTo>
                    <a:lnTo>
                      <a:pt x="864" y="525"/>
                    </a:lnTo>
                    <a:lnTo>
                      <a:pt x="864" y="550"/>
                    </a:lnTo>
                    <a:lnTo>
                      <a:pt x="884" y="560"/>
                    </a:lnTo>
                    <a:close/>
                    <a:moveTo>
                      <a:pt x="940" y="560"/>
                    </a:moveTo>
                    <a:lnTo>
                      <a:pt x="958" y="550"/>
                    </a:lnTo>
                    <a:lnTo>
                      <a:pt x="958" y="525"/>
                    </a:lnTo>
                    <a:lnTo>
                      <a:pt x="940" y="514"/>
                    </a:lnTo>
                    <a:lnTo>
                      <a:pt x="917" y="525"/>
                    </a:lnTo>
                    <a:lnTo>
                      <a:pt x="917" y="550"/>
                    </a:lnTo>
                    <a:lnTo>
                      <a:pt x="940" y="560"/>
                    </a:lnTo>
                    <a:close/>
                    <a:moveTo>
                      <a:pt x="992" y="560"/>
                    </a:moveTo>
                    <a:lnTo>
                      <a:pt x="1011" y="550"/>
                    </a:lnTo>
                    <a:lnTo>
                      <a:pt x="1011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50"/>
                    </a:lnTo>
                    <a:lnTo>
                      <a:pt x="992" y="560"/>
                    </a:lnTo>
                    <a:close/>
                    <a:moveTo>
                      <a:pt x="1046" y="560"/>
                    </a:moveTo>
                    <a:lnTo>
                      <a:pt x="1066" y="550"/>
                    </a:lnTo>
                    <a:lnTo>
                      <a:pt x="1066" y="525"/>
                    </a:lnTo>
                    <a:lnTo>
                      <a:pt x="1046" y="514"/>
                    </a:lnTo>
                    <a:lnTo>
                      <a:pt x="1027" y="525"/>
                    </a:lnTo>
                    <a:lnTo>
                      <a:pt x="1027" y="550"/>
                    </a:lnTo>
                    <a:lnTo>
                      <a:pt x="1046" y="560"/>
                    </a:lnTo>
                    <a:close/>
                    <a:moveTo>
                      <a:pt x="666" y="560"/>
                    </a:moveTo>
                    <a:lnTo>
                      <a:pt x="689" y="550"/>
                    </a:lnTo>
                    <a:lnTo>
                      <a:pt x="689" y="525"/>
                    </a:lnTo>
                    <a:lnTo>
                      <a:pt x="666" y="514"/>
                    </a:lnTo>
                    <a:lnTo>
                      <a:pt x="648" y="525"/>
                    </a:lnTo>
                    <a:lnTo>
                      <a:pt x="648" y="550"/>
                    </a:lnTo>
                    <a:lnTo>
                      <a:pt x="666" y="560"/>
                    </a:lnTo>
                    <a:close/>
                    <a:moveTo>
                      <a:pt x="722" y="560"/>
                    </a:moveTo>
                    <a:lnTo>
                      <a:pt x="742" y="550"/>
                    </a:lnTo>
                    <a:lnTo>
                      <a:pt x="742" y="525"/>
                    </a:lnTo>
                    <a:lnTo>
                      <a:pt x="722" y="514"/>
                    </a:lnTo>
                    <a:lnTo>
                      <a:pt x="701" y="525"/>
                    </a:lnTo>
                    <a:lnTo>
                      <a:pt x="701" y="550"/>
                    </a:lnTo>
                    <a:lnTo>
                      <a:pt x="722" y="560"/>
                    </a:lnTo>
                    <a:close/>
                    <a:moveTo>
                      <a:pt x="777" y="560"/>
                    </a:moveTo>
                    <a:lnTo>
                      <a:pt x="797" y="550"/>
                    </a:lnTo>
                    <a:lnTo>
                      <a:pt x="797" y="525"/>
                    </a:lnTo>
                    <a:lnTo>
                      <a:pt x="777" y="514"/>
                    </a:lnTo>
                    <a:lnTo>
                      <a:pt x="754" y="525"/>
                    </a:lnTo>
                    <a:lnTo>
                      <a:pt x="754" y="550"/>
                    </a:lnTo>
                    <a:lnTo>
                      <a:pt x="777" y="560"/>
                    </a:lnTo>
                    <a:close/>
                    <a:moveTo>
                      <a:pt x="829" y="560"/>
                    </a:moveTo>
                    <a:lnTo>
                      <a:pt x="849" y="550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50"/>
                    </a:lnTo>
                    <a:lnTo>
                      <a:pt x="829" y="560"/>
                    </a:lnTo>
                    <a:close/>
                    <a:moveTo>
                      <a:pt x="505" y="560"/>
                    </a:moveTo>
                    <a:lnTo>
                      <a:pt x="526" y="550"/>
                    </a:lnTo>
                    <a:lnTo>
                      <a:pt x="526" y="525"/>
                    </a:lnTo>
                    <a:lnTo>
                      <a:pt x="505" y="514"/>
                    </a:lnTo>
                    <a:lnTo>
                      <a:pt x="485" y="525"/>
                    </a:lnTo>
                    <a:lnTo>
                      <a:pt x="485" y="550"/>
                    </a:lnTo>
                    <a:lnTo>
                      <a:pt x="505" y="560"/>
                    </a:lnTo>
                    <a:close/>
                    <a:moveTo>
                      <a:pt x="560" y="560"/>
                    </a:moveTo>
                    <a:lnTo>
                      <a:pt x="579" y="550"/>
                    </a:lnTo>
                    <a:lnTo>
                      <a:pt x="579" y="525"/>
                    </a:lnTo>
                    <a:lnTo>
                      <a:pt x="560" y="514"/>
                    </a:lnTo>
                    <a:lnTo>
                      <a:pt x="540" y="525"/>
                    </a:lnTo>
                    <a:lnTo>
                      <a:pt x="540" y="550"/>
                    </a:lnTo>
                    <a:lnTo>
                      <a:pt x="560" y="560"/>
                    </a:lnTo>
                    <a:close/>
                    <a:moveTo>
                      <a:pt x="614" y="560"/>
                    </a:moveTo>
                    <a:lnTo>
                      <a:pt x="634" y="550"/>
                    </a:lnTo>
                    <a:lnTo>
                      <a:pt x="634" y="525"/>
                    </a:lnTo>
                    <a:lnTo>
                      <a:pt x="614" y="514"/>
                    </a:lnTo>
                    <a:lnTo>
                      <a:pt x="592" y="525"/>
                    </a:lnTo>
                    <a:lnTo>
                      <a:pt x="592" y="550"/>
                    </a:lnTo>
                    <a:lnTo>
                      <a:pt x="614" y="560"/>
                    </a:lnTo>
                    <a:close/>
                    <a:moveTo>
                      <a:pt x="911" y="514"/>
                    </a:moveTo>
                    <a:lnTo>
                      <a:pt x="931" y="504"/>
                    </a:lnTo>
                    <a:lnTo>
                      <a:pt x="931" y="478"/>
                    </a:lnTo>
                    <a:lnTo>
                      <a:pt x="911" y="468"/>
                    </a:lnTo>
                    <a:lnTo>
                      <a:pt x="891" y="478"/>
                    </a:lnTo>
                    <a:lnTo>
                      <a:pt x="891" y="504"/>
                    </a:lnTo>
                    <a:lnTo>
                      <a:pt x="911" y="514"/>
                    </a:lnTo>
                    <a:close/>
                    <a:moveTo>
                      <a:pt x="966" y="514"/>
                    </a:moveTo>
                    <a:lnTo>
                      <a:pt x="985" y="504"/>
                    </a:lnTo>
                    <a:lnTo>
                      <a:pt x="985" y="478"/>
                    </a:lnTo>
                    <a:lnTo>
                      <a:pt x="966" y="468"/>
                    </a:lnTo>
                    <a:lnTo>
                      <a:pt x="946" y="478"/>
                    </a:lnTo>
                    <a:lnTo>
                      <a:pt x="946" y="504"/>
                    </a:lnTo>
                    <a:lnTo>
                      <a:pt x="966" y="514"/>
                    </a:lnTo>
                    <a:close/>
                    <a:moveTo>
                      <a:pt x="1018" y="514"/>
                    </a:moveTo>
                    <a:lnTo>
                      <a:pt x="1040" y="504"/>
                    </a:lnTo>
                    <a:lnTo>
                      <a:pt x="1040" y="478"/>
                    </a:lnTo>
                    <a:lnTo>
                      <a:pt x="1018" y="468"/>
                    </a:lnTo>
                    <a:lnTo>
                      <a:pt x="998" y="478"/>
                    </a:lnTo>
                    <a:lnTo>
                      <a:pt x="998" y="504"/>
                    </a:lnTo>
                    <a:lnTo>
                      <a:pt x="1018" y="514"/>
                    </a:lnTo>
                    <a:close/>
                    <a:moveTo>
                      <a:pt x="1072" y="514"/>
                    </a:moveTo>
                    <a:lnTo>
                      <a:pt x="1092" y="504"/>
                    </a:lnTo>
                    <a:lnTo>
                      <a:pt x="1092" y="478"/>
                    </a:lnTo>
                    <a:lnTo>
                      <a:pt x="1072" y="468"/>
                    </a:lnTo>
                    <a:lnTo>
                      <a:pt x="1054" y="478"/>
                    </a:lnTo>
                    <a:lnTo>
                      <a:pt x="1054" y="504"/>
                    </a:lnTo>
                    <a:lnTo>
                      <a:pt x="1072" y="514"/>
                    </a:lnTo>
                    <a:close/>
                    <a:moveTo>
                      <a:pt x="695" y="514"/>
                    </a:moveTo>
                    <a:lnTo>
                      <a:pt x="715" y="504"/>
                    </a:lnTo>
                    <a:lnTo>
                      <a:pt x="715" y="478"/>
                    </a:lnTo>
                    <a:lnTo>
                      <a:pt x="695" y="468"/>
                    </a:lnTo>
                    <a:lnTo>
                      <a:pt x="674" y="478"/>
                    </a:lnTo>
                    <a:lnTo>
                      <a:pt x="674" y="504"/>
                    </a:lnTo>
                    <a:lnTo>
                      <a:pt x="695" y="514"/>
                    </a:lnTo>
                    <a:close/>
                    <a:moveTo>
                      <a:pt x="748" y="514"/>
                    </a:moveTo>
                    <a:lnTo>
                      <a:pt x="768" y="504"/>
                    </a:lnTo>
                    <a:lnTo>
                      <a:pt x="768" y="478"/>
                    </a:lnTo>
                    <a:lnTo>
                      <a:pt x="748" y="468"/>
                    </a:lnTo>
                    <a:lnTo>
                      <a:pt x="728" y="478"/>
                    </a:lnTo>
                    <a:lnTo>
                      <a:pt x="728" y="504"/>
                    </a:lnTo>
                    <a:lnTo>
                      <a:pt x="748" y="514"/>
                    </a:lnTo>
                    <a:close/>
                    <a:moveTo>
                      <a:pt x="803" y="514"/>
                    </a:moveTo>
                    <a:lnTo>
                      <a:pt x="823" y="504"/>
                    </a:lnTo>
                    <a:lnTo>
                      <a:pt x="823" y="478"/>
                    </a:lnTo>
                    <a:lnTo>
                      <a:pt x="803" y="468"/>
                    </a:lnTo>
                    <a:lnTo>
                      <a:pt x="783" y="478"/>
                    </a:lnTo>
                    <a:lnTo>
                      <a:pt x="783" y="504"/>
                    </a:lnTo>
                    <a:lnTo>
                      <a:pt x="803" y="514"/>
                    </a:lnTo>
                    <a:close/>
                    <a:moveTo>
                      <a:pt x="858" y="514"/>
                    </a:moveTo>
                    <a:lnTo>
                      <a:pt x="878" y="504"/>
                    </a:lnTo>
                    <a:lnTo>
                      <a:pt x="878" y="478"/>
                    </a:lnTo>
                    <a:lnTo>
                      <a:pt x="858" y="468"/>
                    </a:lnTo>
                    <a:lnTo>
                      <a:pt x="836" y="478"/>
                    </a:lnTo>
                    <a:lnTo>
                      <a:pt x="836" y="504"/>
                    </a:lnTo>
                    <a:lnTo>
                      <a:pt x="858" y="514"/>
                    </a:lnTo>
                    <a:close/>
                    <a:moveTo>
                      <a:pt x="640" y="514"/>
                    </a:moveTo>
                    <a:lnTo>
                      <a:pt x="660" y="504"/>
                    </a:lnTo>
                    <a:lnTo>
                      <a:pt x="660" y="478"/>
                    </a:lnTo>
                    <a:lnTo>
                      <a:pt x="640" y="468"/>
                    </a:lnTo>
                    <a:lnTo>
                      <a:pt x="621" y="478"/>
                    </a:lnTo>
                    <a:lnTo>
                      <a:pt x="621" y="504"/>
                    </a:lnTo>
                    <a:lnTo>
                      <a:pt x="640" y="514"/>
                    </a:lnTo>
                    <a:close/>
                    <a:moveTo>
                      <a:pt x="884" y="468"/>
                    </a:moveTo>
                    <a:lnTo>
                      <a:pt x="904" y="454"/>
                    </a:lnTo>
                    <a:lnTo>
                      <a:pt x="904" y="432"/>
                    </a:lnTo>
                    <a:lnTo>
                      <a:pt x="884" y="422"/>
                    </a:lnTo>
                    <a:lnTo>
                      <a:pt x="864" y="432"/>
                    </a:lnTo>
                    <a:lnTo>
                      <a:pt x="864" y="454"/>
                    </a:lnTo>
                    <a:lnTo>
                      <a:pt x="884" y="468"/>
                    </a:lnTo>
                    <a:close/>
                    <a:moveTo>
                      <a:pt x="940" y="468"/>
                    </a:moveTo>
                    <a:lnTo>
                      <a:pt x="958" y="454"/>
                    </a:lnTo>
                    <a:lnTo>
                      <a:pt x="958" y="432"/>
                    </a:lnTo>
                    <a:lnTo>
                      <a:pt x="940" y="422"/>
                    </a:lnTo>
                    <a:lnTo>
                      <a:pt x="917" y="432"/>
                    </a:lnTo>
                    <a:lnTo>
                      <a:pt x="917" y="454"/>
                    </a:lnTo>
                    <a:lnTo>
                      <a:pt x="940" y="468"/>
                    </a:lnTo>
                    <a:close/>
                    <a:moveTo>
                      <a:pt x="992" y="468"/>
                    </a:moveTo>
                    <a:lnTo>
                      <a:pt x="1011" y="454"/>
                    </a:lnTo>
                    <a:lnTo>
                      <a:pt x="1011" y="432"/>
                    </a:lnTo>
                    <a:lnTo>
                      <a:pt x="992" y="422"/>
                    </a:lnTo>
                    <a:lnTo>
                      <a:pt x="972" y="432"/>
                    </a:lnTo>
                    <a:lnTo>
                      <a:pt x="972" y="454"/>
                    </a:lnTo>
                    <a:lnTo>
                      <a:pt x="992" y="468"/>
                    </a:lnTo>
                    <a:close/>
                    <a:moveTo>
                      <a:pt x="1046" y="468"/>
                    </a:moveTo>
                    <a:lnTo>
                      <a:pt x="1066" y="454"/>
                    </a:lnTo>
                    <a:lnTo>
                      <a:pt x="1066" y="432"/>
                    </a:lnTo>
                    <a:lnTo>
                      <a:pt x="1046" y="422"/>
                    </a:lnTo>
                    <a:lnTo>
                      <a:pt x="1027" y="432"/>
                    </a:lnTo>
                    <a:lnTo>
                      <a:pt x="1027" y="454"/>
                    </a:lnTo>
                    <a:lnTo>
                      <a:pt x="1046" y="468"/>
                    </a:lnTo>
                    <a:close/>
                    <a:moveTo>
                      <a:pt x="666" y="468"/>
                    </a:moveTo>
                    <a:lnTo>
                      <a:pt x="689" y="454"/>
                    </a:lnTo>
                    <a:lnTo>
                      <a:pt x="689" y="432"/>
                    </a:lnTo>
                    <a:lnTo>
                      <a:pt x="666" y="422"/>
                    </a:lnTo>
                    <a:lnTo>
                      <a:pt x="648" y="432"/>
                    </a:lnTo>
                    <a:lnTo>
                      <a:pt x="648" y="454"/>
                    </a:lnTo>
                    <a:lnTo>
                      <a:pt x="666" y="468"/>
                    </a:lnTo>
                    <a:close/>
                    <a:moveTo>
                      <a:pt x="722" y="468"/>
                    </a:moveTo>
                    <a:lnTo>
                      <a:pt x="742" y="454"/>
                    </a:lnTo>
                    <a:lnTo>
                      <a:pt x="742" y="432"/>
                    </a:lnTo>
                    <a:lnTo>
                      <a:pt x="722" y="422"/>
                    </a:lnTo>
                    <a:lnTo>
                      <a:pt x="701" y="432"/>
                    </a:lnTo>
                    <a:lnTo>
                      <a:pt x="701" y="454"/>
                    </a:lnTo>
                    <a:lnTo>
                      <a:pt x="722" y="468"/>
                    </a:lnTo>
                    <a:close/>
                    <a:moveTo>
                      <a:pt x="777" y="468"/>
                    </a:moveTo>
                    <a:lnTo>
                      <a:pt x="797" y="454"/>
                    </a:lnTo>
                    <a:lnTo>
                      <a:pt x="797" y="432"/>
                    </a:lnTo>
                    <a:lnTo>
                      <a:pt x="777" y="422"/>
                    </a:lnTo>
                    <a:lnTo>
                      <a:pt x="754" y="432"/>
                    </a:lnTo>
                    <a:lnTo>
                      <a:pt x="754" y="454"/>
                    </a:lnTo>
                    <a:lnTo>
                      <a:pt x="777" y="468"/>
                    </a:lnTo>
                    <a:close/>
                    <a:moveTo>
                      <a:pt x="829" y="468"/>
                    </a:moveTo>
                    <a:lnTo>
                      <a:pt x="849" y="454"/>
                    </a:lnTo>
                    <a:lnTo>
                      <a:pt x="849" y="432"/>
                    </a:lnTo>
                    <a:lnTo>
                      <a:pt x="829" y="422"/>
                    </a:lnTo>
                    <a:lnTo>
                      <a:pt x="809" y="432"/>
                    </a:lnTo>
                    <a:lnTo>
                      <a:pt x="809" y="454"/>
                    </a:lnTo>
                    <a:lnTo>
                      <a:pt x="829" y="468"/>
                    </a:lnTo>
                    <a:close/>
                    <a:moveTo>
                      <a:pt x="614" y="468"/>
                    </a:moveTo>
                    <a:lnTo>
                      <a:pt x="634" y="454"/>
                    </a:lnTo>
                    <a:lnTo>
                      <a:pt x="634" y="432"/>
                    </a:lnTo>
                    <a:lnTo>
                      <a:pt x="614" y="422"/>
                    </a:lnTo>
                    <a:lnTo>
                      <a:pt x="592" y="432"/>
                    </a:lnTo>
                    <a:lnTo>
                      <a:pt x="592" y="454"/>
                    </a:lnTo>
                    <a:lnTo>
                      <a:pt x="614" y="468"/>
                    </a:lnTo>
                    <a:close/>
                    <a:moveTo>
                      <a:pt x="1046" y="654"/>
                    </a:moveTo>
                    <a:lnTo>
                      <a:pt x="1066" y="642"/>
                    </a:lnTo>
                    <a:lnTo>
                      <a:pt x="1066" y="618"/>
                    </a:lnTo>
                    <a:lnTo>
                      <a:pt x="1046" y="607"/>
                    </a:lnTo>
                    <a:lnTo>
                      <a:pt x="1027" y="618"/>
                    </a:lnTo>
                    <a:lnTo>
                      <a:pt x="1027" y="642"/>
                    </a:lnTo>
                    <a:lnTo>
                      <a:pt x="1046" y="654"/>
                    </a:lnTo>
                    <a:close/>
                    <a:moveTo>
                      <a:pt x="505" y="654"/>
                    </a:moveTo>
                    <a:lnTo>
                      <a:pt x="526" y="642"/>
                    </a:lnTo>
                    <a:lnTo>
                      <a:pt x="526" y="618"/>
                    </a:lnTo>
                    <a:lnTo>
                      <a:pt x="505" y="607"/>
                    </a:lnTo>
                    <a:lnTo>
                      <a:pt x="485" y="618"/>
                    </a:lnTo>
                    <a:lnTo>
                      <a:pt x="485" y="642"/>
                    </a:lnTo>
                    <a:lnTo>
                      <a:pt x="505" y="654"/>
                    </a:lnTo>
                    <a:close/>
                    <a:moveTo>
                      <a:pt x="560" y="654"/>
                    </a:moveTo>
                    <a:lnTo>
                      <a:pt x="579" y="642"/>
                    </a:lnTo>
                    <a:lnTo>
                      <a:pt x="579" y="618"/>
                    </a:lnTo>
                    <a:lnTo>
                      <a:pt x="560" y="607"/>
                    </a:lnTo>
                    <a:lnTo>
                      <a:pt x="540" y="618"/>
                    </a:lnTo>
                    <a:lnTo>
                      <a:pt x="540" y="642"/>
                    </a:lnTo>
                    <a:lnTo>
                      <a:pt x="560" y="654"/>
                    </a:lnTo>
                    <a:close/>
                    <a:moveTo>
                      <a:pt x="614" y="654"/>
                    </a:moveTo>
                    <a:lnTo>
                      <a:pt x="634" y="642"/>
                    </a:lnTo>
                    <a:lnTo>
                      <a:pt x="634" y="618"/>
                    </a:lnTo>
                    <a:lnTo>
                      <a:pt x="614" y="607"/>
                    </a:lnTo>
                    <a:lnTo>
                      <a:pt x="592" y="618"/>
                    </a:lnTo>
                    <a:lnTo>
                      <a:pt x="592" y="642"/>
                    </a:lnTo>
                    <a:lnTo>
                      <a:pt x="614" y="654"/>
                    </a:lnTo>
                    <a:close/>
                    <a:moveTo>
                      <a:pt x="666" y="654"/>
                    </a:moveTo>
                    <a:lnTo>
                      <a:pt x="689" y="642"/>
                    </a:lnTo>
                    <a:lnTo>
                      <a:pt x="689" y="618"/>
                    </a:lnTo>
                    <a:lnTo>
                      <a:pt x="666" y="607"/>
                    </a:lnTo>
                    <a:lnTo>
                      <a:pt x="648" y="618"/>
                    </a:lnTo>
                    <a:lnTo>
                      <a:pt x="648" y="642"/>
                    </a:lnTo>
                    <a:lnTo>
                      <a:pt x="666" y="654"/>
                    </a:lnTo>
                    <a:close/>
                    <a:moveTo>
                      <a:pt x="722" y="654"/>
                    </a:moveTo>
                    <a:lnTo>
                      <a:pt x="742" y="642"/>
                    </a:lnTo>
                    <a:lnTo>
                      <a:pt x="742" y="618"/>
                    </a:lnTo>
                    <a:lnTo>
                      <a:pt x="722" y="607"/>
                    </a:lnTo>
                    <a:lnTo>
                      <a:pt x="701" y="618"/>
                    </a:lnTo>
                    <a:lnTo>
                      <a:pt x="701" y="642"/>
                    </a:lnTo>
                    <a:lnTo>
                      <a:pt x="722" y="654"/>
                    </a:lnTo>
                    <a:close/>
                    <a:moveTo>
                      <a:pt x="777" y="654"/>
                    </a:moveTo>
                    <a:lnTo>
                      <a:pt x="797" y="642"/>
                    </a:lnTo>
                    <a:lnTo>
                      <a:pt x="797" y="618"/>
                    </a:lnTo>
                    <a:lnTo>
                      <a:pt x="777" y="607"/>
                    </a:lnTo>
                    <a:lnTo>
                      <a:pt x="754" y="618"/>
                    </a:lnTo>
                    <a:lnTo>
                      <a:pt x="754" y="642"/>
                    </a:lnTo>
                    <a:lnTo>
                      <a:pt x="777" y="654"/>
                    </a:lnTo>
                    <a:close/>
                    <a:moveTo>
                      <a:pt x="829" y="654"/>
                    </a:moveTo>
                    <a:lnTo>
                      <a:pt x="849" y="642"/>
                    </a:lnTo>
                    <a:lnTo>
                      <a:pt x="849" y="618"/>
                    </a:lnTo>
                    <a:lnTo>
                      <a:pt x="829" y="607"/>
                    </a:lnTo>
                    <a:lnTo>
                      <a:pt x="809" y="618"/>
                    </a:lnTo>
                    <a:lnTo>
                      <a:pt x="809" y="642"/>
                    </a:lnTo>
                    <a:lnTo>
                      <a:pt x="829" y="654"/>
                    </a:lnTo>
                    <a:close/>
                    <a:moveTo>
                      <a:pt x="884" y="654"/>
                    </a:moveTo>
                    <a:lnTo>
                      <a:pt x="904" y="642"/>
                    </a:lnTo>
                    <a:lnTo>
                      <a:pt x="904" y="618"/>
                    </a:lnTo>
                    <a:lnTo>
                      <a:pt x="884" y="607"/>
                    </a:lnTo>
                    <a:lnTo>
                      <a:pt x="864" y="618"/>
                    </a:lnTo>
                    <a:lnTo>
                      <a:pt x="864" y="642"/>
                    </a:lnTo>
                    <a:lnTo>
                      <a:pt x="884" y="654"/>
                    </a:lnTo>
                    <a:close/>
                    <a:moveTo>
                      <a:pt x="940" y="654"/>
                    </a:moveTo>
                    <a:lnTo>
                      <a:pt x="958" y="642"/>
                    </a:lnTo>
                    <a:lnTo>
                      <a:pt x="958" y="618"/>
                    </a:lnTo>
                    <a:lnTo>
                      <a:pt x="940" y="607"/>
                    </a:lnTo>
                    <a:lnTo>
                      <a:pt x="917" y="618"/>
                    </a:lnTo>
                    <a:lnTo>
                      <a:pt x="917" y="642"/>
                    </a:lnTo>
                    <a:lnTo>
                      <a:pt x="940" y="654"/>
                    </a:lnTo>
                    <a:close/>
                    <a:moveTo>
                      <a:pt x="992" y="654"/>
                    </a:moveTo>
                    <a:lnTo>
                      <a:pt x="1011" y="642"/>
                    </a:lnTo>
                    <a:lnTo>
                      <a:pt x="1011" y="618"/>
                    </a:lnTo>
                    <a:lnTo>
                      <a:pt x="992" y="607"/>
                    </a:lnTo>
                    <a:lnTo>
                      <a:pt x="972" y="618"/>
                    </a:lnTo>
                    <a:lnTo>
                      <a:pt x="972" y="642"/>
                    </a:lnTo>
                    <a:lnTo>
                      <a:pt x="992" y="654"/>
                    </a:lnTo>
                    <a:close/>
                    <a:moveTo>
                      <a:pt x="1018" y="422"/>
                    </a:moveTo>
                    <a:lnTo>
                      <a:pt x="1040" y="408"/>
                    </a:lnTo>
                    <a:lnTo>
                      <a:pt x="1040" y="386"/>
                    </a:lnTo>
                    <a:lnTo>
                      <a:pt x="1018" y="375"/>
                    </a:lnTo>
                    <a:lnTo>
                      <a:pt x="998" y="386"/>
                    </a:lnTo>
                    <a:lnTo>
                      <a:pt x="998" y="408"/>
                    </a:lnTo>
                    <a:lnTo>
                      <a:pt x="1018" y="422"/>
                    </a:lnTo>
                    <a:close/>
                    <a:moveTo>
                      <a:pt x="1072" y="422"/>
                    </a:moveTo>
                    <a:lnTo>
                      <a:pt x="1092" y="408"/>
                    </a:lnTo>
                    <a:lnTo>
                      <a:pt x="1092" y="386"/>
                    </a:lnTo>
                    <a:lnTo>
                      <a:pt x="1072" y="375"/>
                    </a:lnTo>
                    <a:lnTo>
                      <a:pt x="1054" y="386"/>
                    </a:lnTo>
                    <a:lnTo>
                      <a:pt x="1054" y="408"/>
                    </a:lnTo>
                    <a:lnTo>
                      <a:pt x="1072" y="422"/>
                    </a:lnTo>
                    <a:close/>
                    <a:moveTo>
                      <a:pt x="480" y="607"/>
                    </a:moveTo>
                    <a:lnTo>
                      <a:pt x="500" y="596"/>
                    </a:lnTo>
                    <a:lnTo>
                      <a:pt x="500" y="572"/>
                    </a:lnTo>
                    <a:lnTo>
                      <a:pt x="480" y="560"/>
                    </a:lnTo>
                    <a:lnTo>
                      <a:pt x="458" y="572"/>
                    </a:lnTo>
                    <a:lnTo>
                      <a:pt x="458" y="596"/>
                    </a:lnTo>
                    <a:lnTo>
                      <a:pt x="480" y="607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494280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497952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501624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5051520" y="49230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5089680" y="49230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4923720" y="489636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4961880" y="489636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4997160" y="489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5033880" y="489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5072040" y="489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8" name=""/>
              <p:cNvSpPr/>
              <p:nvPr/>
            </p:nvSpPr>
            <p:spPr>
              <a:xfrm>
                <a:off x="5107680" y="489636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9" name=""/>
              <p:cNvSpPr/>
              <p:nvPr/>
            </p:nvSpPr>
            <p:spPr>
              <a:xfrm>
                <a:off x="494280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0" name=""/>
              <p:cNvSpPr/>
              <p:nvPr/>
            </p:nvSpPr>
            <p:spPr>
              <a:xfrm>
                <a:off x="497952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1" name=""/>
              <p:cNvSpPr/>
              <p:nvPr/>
            </p:nvSpPr>
            <p:spPr>
              <a:xfrm>
                <a:off x="501624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2" name=""/>
              <p:cNvSpPr/>
              <p:nvPr/>
            </p:nvSpPr>
            <p:spPr>
              <a:xfrm>
                <a:off x="5051520" y="487188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3" name=""/>
              <p:cNvSpPr/>
              <p:nvPr/>
            </p:nvSpPr>
            <p:spPr>
              <a:xfrm>
                <a:off x="5089680" y="48718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4" name=""/>
              <p:cNvSpPr/>
              <p:nvPr/>
            </p:nvSpPr>
            <p:spPr>
              <a:xfrm>
                <a:off x="512784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5" name=""/>
              <p:cNvSpPr/>
              <p:nvPr/>
            </p:nvSpPr>
            <p:spPr>
              <a:xfrm>
                <a:off x="4923720" y="484524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6" name=""/>
              <p:cNvSpPr/>
              <p:nvPr/>
            </p:nvSpPr>
            <p:spPr>
              <a:xfrm>
                <a:off x="4961880" y="484524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7" name=""/>
              <p:cNvSpPr/>
              <p:nvPr/>
            </p:nvSpPr>
            <p:spPr>
              <a:xfrm>
                <a:off x="4997160" y="484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8" name=""/>
              <p:cNvSpPr/>
              <p:nvPr/>
            </p:nvSpPr>
            <p:spPr>
              <a:xfrm>
                <a:off x="503388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9" name=""/>
              <p:cNvSpPr/>
              <p:nvPr/>
            </p:nvSpPr>
            <p:spPr>
              <a:xfrm>
                <a:off x="507204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5107680" y="48452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4923720" y="494820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4961880" y="494820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3" name=""/>
              <p:cNvSpPr/>
              <p:nvPr/>
            </p:nvSpPr>
            <p:spPr>
              <a:xfrm>
                <a:off x="4997160" y="49482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4" name=""/>
              <p:cNvSpPr/>
              <p:nvPr/>
            </p:nvSpPr>
            <p:spPr>
              <a:xfrm>
                <a:off x="5033880" y="49482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5" name=""/>
              <p:cNvSpPr/>
              <p:nvPr/>
            </p:nvSpPr>
            <p:spPr>
              <a:xfrm>
                <a:off x="5072040" y="49482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5107680" y="494820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4923720" y="47408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4961880" y="474084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9" name=""/>
              <p:cNvSpPr/>
              <p:nvPr/>
            </p:nvSpPr>
            <p:spPr>
              <a:xfrm>
                <a:off x="4997160" y="47408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0" name=""/>
              <p:cNvSpPr/>
              <p:nvPr/>
            </p:nvSpPr>
            <p:spPr>
              <a:xfrm>
                <a:off x="5033880" y="47408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1" name=""/>
              <p:cNvSpPr/>
              <p:nvPr/>
            </p:nvSpPr>
            <p:spPr>
              <a:xfrm>
                <a:off x="5072040" y="47408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2" name=""/>
              <p:cNvSpPr/>
              <p:nvPr/>
            </p:nvSpPr>
            <p:spPr>
              <a:xfrm>
                <a:off x="5107680" y="47408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3" name=""/>
              <p:cNvSpPr/>
              <p:nvPr/>
            </p:nvSpPr>
            <p:spPr>
              <a:xfrm>
                <a:off x="4942800" y="4715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4" name=""/>
              <p:cNvSpPr/>
              <p:nvPr/>
            </p:nvSpPr>
            <p:spPr>
              <a:xfrm>
                <a:off x="4979520" y="4715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5" name=""/>
              <p:cNvSpPr/>
              <p:nvPr/>
            </p:nvSpPr>
            <p:spPr>
              <a:xfrm>
                <a:off x="5016240" y="4715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6" name=""/>
              <p:cNvSpPr/>
              <p:nvPr/>
            </p:nvSpPr>
            <p:spPr>
              <a:xfrm>
                <a:off x="5051520" y="47152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7" name=""/>
              <p:cNvSpPr/>
              <p:nvPr/>
            </p:nvSpPr>
            <p:spPr>
              <a:xfrm>
                <a:off x="5089680" y="47152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8" name=""/>
              <p:cNvSpPr/>
              <p:nvPr/>
            </p:nvSpPr>
            <p:spPr>
              <a:xfrm>
                <a:off x="5127840" y="4715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9" name=""/>
              <p:cNvSpPr/>
              <p:nvPr/>
            </p:nvSpPr>
            <p:spPr>
              <a:xfrm>
                <a:off x="4923720" y="468864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0" name=""/>
              <p:cNvSpPr/>
              <p:nvPr/>
            </p:nvSpPr>
            <p:spPr>
              <a:xfrm>
                <a:off x="4961880" y="468864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1" name=""/>
              <p:cNvSpPr/>
              <p:nvPr/>
            </p:nvSpPr>
            <p:spPr>
              <a:xfrm>
                <a:off x="4997160" y="46886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2" name=""/>
              <p:cNvSpPr/>
              <p:nvPr/>
            </p:nvSpPr>
            <p:spPr>
              <a:xfrm>
                <a:off x="5033880" y="4688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3" name=""/>
              <p:cNvSpPr/>
              <p:nvPr/>
            </p:nvSpPr>
            <p:spPr>
              <a:xfrm>
                <a:off x="5072040" y="4688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4" name=""/>
              <p:cNvSpPr/>
              <p:nvPr/>
            </p:nvSpPr>
            <p:spPr>
              <a:xfrm>
                <a:off x="5107680" y="468864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5" name=""/>
              <p:cNvSpPr/>
              <p:nvPr/>
            </p:nvSpPr>
            <p:spPr>
              <a:xfrm>
                <a:off x="4942800" y="46634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6" name=""/>
              <p:cNvSpPr/>
              <p:nvPr/>
            </p:nvSpPr>
            <p:spPr>
              <a:xfrm>
                <a:off x="4979520" y="46634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7" name=""/>
              <p:cNvSpPr/>
              <p:nvPr/>
            </p:nvSpPr>
            <p:spPr>
              <a:xfrm>
                <a:off x="5016240" y="46634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8" name=""/>
              <p:cNvSpPr/>
              <p:nvPr/>
            </p:nvSpPr>
            <p:spPr>
              <a:xfrm>
                <a:off x="5051520" y="466344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9" name=""/>
              <p:cNvSpPr/>
              <p:nvPr/>
            </p:nvSpPr>
            <p:spPr>
              <a:xfrm>
                <a:off x="5089680" y="466344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0" name=""/>
              <p:cNvSpPr/>
              <p:nvPr/>
            </p:nvSpPr>
            <p:spPr>
              <a:xfrm>
                <a:off x="5127840" y="46634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1" name=""/>
              <p:cNvSpPr/>
              <p:nvPr/>
            </p:nvSpPr>
            <p:spPr>
              <a:xfrm>
                <a:off x="4923720" y="463788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2" name=""/>
              <p:cNvSpPr/>
              <p:nvPr/>
            </p:nvSpPr>
            <p:spPr>
              <a:xfrm>
                <a:off x="4961880" y="463788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3" name=""/>
              <p:cNvSpPr/>
              <p:nvPr/>
            </p:nvSpPr>
            <p:spPr>
              <a:xfrm>
                <a:off x="4997160" y="46378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4" name=""/>
              <p:cNvSpPr/>
              <p:nvPr/>
            </p:nvSpPr>
            <p:spPr>
              <a:xfrm>
                <a:off x="5033880" y="4637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5" name=""/>
              <p:cNvSpPr/>
              <p:nvPr/>
            </p:nvSpPr>
            <p:spPr>
              <a:xfrm>
                <a:off x="5072040" y="4637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6" name=""/>
              <p:cNvSpPr/>
              <p:nvPr/>
            </p:nvSpPr>
            <p:spPr>
              <a:xfrm>
                <a:off x="5107680" y="463788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7" name=""/>
              <p:cNvSpPr/>
              <p:nvPr/>
            </p:nvSpPr>
            <p:spPr>
              <a:xfrm>
                <a:off x="4942800" y="461124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8" name=""/>
              <p:cNvSpPr/>
              <p:nvPr/>
            </p:nvSpPr>
            <p:spPr>
              <a:xfrm>
                <a:off x="4979520" y="461124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9" name=""/>
              <p:cNvSpPr/>
              <p:nvPr/>
            </p:nvSpPr>
            <p:spPr>
              <a:xfrm>
                <a:off x="5016240" y="461124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0" name=""/>
              <p:cNvSpPr/>
              <p:nvPr/>
            </p:nvSpPr>
            <p:spPr>
              <a:xfrm>
                <a:off x="5051520" y="4611240"/>
                <a:ext cx="29880" cy="26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1" name=""/>
              <p:cNvSpPr/>
              <p:nvPr/>
            </p:nvSpPr>
            <p:spPr>
              <a:xfrm>
                <a:off x="5089680" y="461124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2" name=""/>
              <p:cNvSpPr/>
              <p:nvPr/>
            </p:nvSpPr>
            <p:spPr>
              <a:xfrm>
                <a:off x="494280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3" name=""/>
              <p:cNvSpPr/>
              <p:nvPr/>
            </p:nvSpPr>
            <p:spPr>
              <a:xfrm>
                <a:off x="497952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4" name=""/>
              <p:cNvSpPr/>
              <p:nvPr/>
            </p:nvSpPr>
            <p:spPr>
              <a:xfrm>
                <a:off x="501624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5" name=""/>
              <p:cNvSpPr/>
              <p:nvPr/>
            </p:nvSpPr>
            <p:spPr>
              <a:xfrm>
                <a:off x="5051520" y="481968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6" name=""/>
              <p:cNvSpPr/>
              <p:nvPr/>
            </p:nvSpPr>
            <p:spPr>
              <a:xfrm>
                <a:off x="5089680" y="48196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7" name=""/>
              <p:cNvSpPr/>
              <p:nvPr/>
            </p:nvSpPr>
            <p:spPr>
              <a:xfrm>
                <a:off x="512784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8" name=""/>
              <p:cNvSpPr/>
              <p:nvPr/>
            </p:nvSpPr>
            <p:spPr>
              <a:xfrm>
                <a:off x="4923720" y="47941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9" name=""/>
              <p:cNvSpPr/>
              <p:nvPr/>
            </p:nvSpPr>
            <p:spPr>
              <a:xfrm>
                <a:off x="4961880" y="479412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0" name=""/>
              <p:cNvSpPr/>
              <p:nvPr/>
            </p:nvSpPr>
            <p:spPr>
              <a:xfrm>
                <a:off x="4997160" y="47941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1" name=""/>
              <p:cNvSpPr/>
              <p:nvPr/>
            </p:nvSpPr>
            <p:spPr>
              <a:xfrm>
                <a:off x="5033880" y="4794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2" name=""/>
              <p:cNvSpPr/>
              <p:nvPr/>
            </p:nvSpPr>
            <p:spPr>
              <a:xfrm>
                <a:off x="5072040" y="4794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3" name=""/>
              <p:cNvSpPr/>
              <p:nvPr/>
            </p:nvSpPr>
            <p:spPr>
              <a:xfrm>
                <a:off x="5107680" y="479412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3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4" name=""/>
              <p:cNvSpPr/>
              <p:nvPr/>
            </p:nvSpPr>
            <p:spPr>
              <a:xfrm>
                <a:off x="4942800" y="4767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5" name=""/>
              <p:cNvSpPr/>
              <p:nvPr/>
            </p:nvSpPr>
            <p:spPr>
              <a:xfrm>
                <a:off x="4979520" y="4767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6" name=""/>
              <p:cNvSpPr/>
              <p:nvPr/>
            </p:nvSpPr>
            <p:spPr>
              <a:xfrm>
                <a:off x="5016240" y="4767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7" name=""/>
              <p:cNvSpPr/>
              <p:nvPr/>
            </p:nvSpPr>
            <p:spPr>
              <a:xfrm>
                <a:off x="5051520" y="476748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8" name=""/>
              <p:cNvSpPr/>
              <p:nvPr/>
            </p:nvSpPr>
            <p:spPr>
              <a:xfrm>
                <a:off x="5089680" y="47674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9" name=""/>
              <p:cNvSpPr/>
              <p:nvPr/>
            </p:nvSpPr>
            <p:spPr>
              <a:xfrm>
                <a:off x="5127840" y="4767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0" name=""/>
              <p:cNvSpPr/>
              <p:nvPr/>
            </p:nvSpPr>
            <p:spPr>
              <a:xfrm>
                <a:off x="5163120" y="48718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1" name=""/>
              <p:cNvSpPr/>
              <p:nvPr/>
            </p:nvSpPr>
            <p:spPr>
              <a:xfrm>
                <a:off x="520020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2" name=""/>
              <p:cNvSpPr/>
              <p:nvPr/>
            </p:nvSpPr>
            <p:spPr>
              <a:xfrm>
                <a:off x="523692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3" name=""/>
              <p:cNvSpPr/>
              <p:nvPr/>
            </p:nvSpPr>
            <p:spPr>
              <a:xfrm>
                <a:off x="527364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4" name=""/>
              <p:cNvSpPr/>
              <p:nvPr/>
            </p:nvSpPr>
            <p:spPr>
              <a:xfrm>
                <a:off x="531036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5" name=""/>
              <p:cNvSpPr/>
              <p:nvPr/>
            </p:nvSpPr>
            <p:spPr>
              <a:xfrm>
                <a:off x="521892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6" name=""/>
              <p:cNvSpPr/>
              <p:nvPr/>
            </p:nvSpPr>
            <p:spPr>
              <a:xfrm>
                <a:off x="5254560" y="484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7" name=""/>
              <p:cNvSpPr/>
              <p:nvPr/>
            </p:nvSpPr>
            <p:spPr>
              <a:xfrm>
                <a:off x="529128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8" name=""/>
              <p:cNvSpPr/>
              <p:nvPr/>
            </p:nvSpPr>
            <p:spPr>
              <a:xfrm>
                <a:off x="514548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9" name=""/>
              <p:cNvSpPr/>
              <p:nvPr/>
            </p:nvSpPr>
            <p:spPr>
              <a:xfrm>
                <a:off x="518220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0" name=""/>
              <p:cNvSpPr/>
              <p:nvPr/>
            </p:nvSpPr>
            <p:spPr>
              <a:xfrm>
                <a:off x="5291280" y="47408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1" name=""/>
              <p:cNvSpPr/>
              <p:nvPr/>
            </p:nvSpPr>
            <p:spPr>
              <a:xfrm>
                <a:off x="5145480" y="47408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2" name=""/>
              <p:cNvSpPr/>
              <p:nvPr/>
            </p:nvSpPr>
            <p:spPr>
              <a:xfrm>
                <a:off x="5182200" y="47408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3" name=""/>
              <p:cNvSpPr/>
              <p:nvPr/>
            </p:nvSpPr>
            <p:spPr>
              <a:xfrm>
                <a:off x="5218920" y="47408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4" name=""/>
              <p:cNvSpPr/>
              <p:nvPr/>
            </p:nvSpPr>
            <p:spPr>
              <a:xfrm>
                <a:off x="5254560" y="47408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5" name=""/>
              <p:cNvSpPr/>
              <p:nvPr/>
            </p:nvSpPr>
            <p:spPr>
              <a:xfrm>
                <a:off x="5163120" y="47152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6" name=""/>
              <p:cNvSpPr/>
              <p:nvPr/>
            </p:nvSpPr>
            <p:spPr>
              <a:xfrm>
                <a:off x="5200200" y="4715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7" name=""/>
              <p:cNvSpPr/>
              <p:nvPr/>
            </p:nvSpPr>
            <p:spPr>
              <a:xfrm>
                <a:off x="5236920" y="4715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8" name=""/>
              <p:cNvSpPr/>
              <p:nvPr/>
            </p:nvSpPr>
            <p:spPr>
              <a:xfrm>
                <a:off x="5273640" y="47152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9" name=""/>
              <p:cNvSpPr/>
              <p:nvPr/>
            </p:nvSpPr>
            <p:spPr>
              <a:xfrm>
                <a:off x="5145480" y="4688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0" name=""/>
              <p:cNvSpPr/>
              <p:nvPr/>
            </p:nvSpPr>
            <p:spPr>
              <a:xfrm>
                <a:off x="5182200" y="4688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1" name=""/>
              <p:cNvSpPr/>
              <p:nvPr/>
            </p:nvSpPr>
            <p:spPr>
              <a:xfrm>
                <a:off x="5218920" y="4688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5254560" y="46886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5291280" y="4688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523692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5" name=""/>
              <p:cNvSpPr/>
              <p:nvPr/>
            </p:nvSpPr>
            <p:spPr>
              <a:xfrm>
                <a:off x="527364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6" name=""/>
              <p:cNvSpPr/>
              <p:nvPr/>
            </p:nvSpPr>
            <p:spPr>
              <a:xfrm>
                <a:off x="531036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7" name=""/>
              <p:cNvSpPr/>
              <p:nvPr/>
            </p:nvSpPr>
            <p:spPr>
              <a:xfrm>
                <a:off x="5163120" y="48196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520020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5182200" y="4794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5218920" y="4794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1" name=""/>
              <p:cNvSpPr/>
              <p:nvPr/>
            </p:nvSpPr>
            <p:spPr>
              <a:xfrm>
                <a:off x="5254560" y="47941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2" name=""/>
              <p:cNvSpPr/>
              <p:nvPr/>
            </p:nvSpPr>
            <p:spPr>
              <a:xfrm>
                <a:off x="5291280" y="4794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3" name=""/>
              <p:cNvSpPr/>
              <p:nvPr/>
            </p:nvSpPr>
            <p:spPr>
              <a:xfrm>
                <a:off x="5145480" y="4794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4" name=""/>
              <p:cNvSpPr/>
              <p:nvPr/>
            </p:nvSpPr>
            <p:spPr>
              <a:xfrm>
                <a:off x="5163120" y="47674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5" name=""/>
              <p:cNvSpPr/>
              <p:nvPr/>
            </p:nvSpPr>
            <p:spPr>
              <a:xfrm>
                <a:off x="5200200" y="4767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6" name=""/>
              <p:cNvSpPr/>
              <p:nvPr/>
            </p:nvSpPr>
            <p:spPr>
              <a:xfrm>
                <a:off x="5236920" y="4767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7" name=""/>
              <p:cNvSpPr/>
              <p:nvPr/>
            </p:nvSpPr>
            <p:spPr>
              <a:xfrm>
                <a:off x="5273640" y="47674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3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8" name=""/>
              <p:cNvSpPr/>
              <p:nvPr/>
            </p:nvSpPr>
            <p:spPr>
              <a:xfrm>
                <a:off x="5236920" y="46634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9" name=""/>
              <p:cNvSpPr/>
              <p:nvPr/>
            </p:nvSpPr>
            <p:spPr>
              <a:xfrm>
                <a:off x="5273640" y="46634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0" name=""/>
              <p:cNvSpPr/>
              <p:nvPr/>
            </p:nvSpPr>
            <p:spPr>
              <a:xfrm>
                <a:off x="5254560" y="46378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1" name=""/>
              <p:cNvSpPr/>
              <p:nvPr/>
            </p:nvSpPr>
            <p:spPr>
              <a:xfrm>
                <a:off x="5291280" y="4637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2" name=""/>
              <p:cNvSpPr/>
              <p:nvPr/>
            </p:nvSpPr>
            <p:spPr>
              <a:xfrm>
                <a:off x="5163120" y="466344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3" name=""/>
              <p:cNvSpPr/>
              <p:nvPr/>
            </p:nvSpPr>
            <p:spPr>
              <a:xfrm>
                <a:off x="5200200" y="46634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4" name=""/>
              <p:cNvSpPr/>
              <p:nvPr/>
            </p:nvSpPr>
            <p:spPr>
              <a:xfrm>
                <a:off x="5419080" y="49230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5" name=""/>
              <p:cNvSpPr/>
              <p:nvPr/>
            </p:nvSpPr>
            <p:spPr>
              <a:xfrm>
                <a:off x="545724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6" name=""/>
              <p:cNvSpPr/>
              <p:nvPr/>
            </p:nvSpPr>
            <p:spPr>
              <a:xfrm>
                <a:off x="5492880" y="49230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7" name=""/>
              <p:cNvSpPr/>
              <p:nvPr/>
            </p:nvSpPr>
            <p:spPr>
              <a:xfrm>
                <a:off x="553068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8" name=""/>
              <p:cNvSpPr/>
              <p:nvPr/>
            </p:nvSpPr>
            <p:spPr>
              <a:xfrm>
                <a:off x="527364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9" name=""/>
              <p:cNvSpPr/>
              <p:nvPr/>
            </p:nvSpPr>
            <p:spPr>
              <a:xfrm>
                <a:off x="531036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0" name=""/>
              <p:cNvSpPr/>
              <p:nvPr/>
            </p:nvSpPr>
            <p:spPr>
              <a:xfrm>
                <a:off x="534708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1" name=""/>
              <p:cNvSpPr/>
              <p:nvPr/>
            </p:nvSpPr>
            <p:spPr>
              <a:xfrm>
                <a:off x="5382360" y="492300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2" name=""/>
              <p:cNvSpPr/>
              <p:nvPr/>
            </p:nvSpPr>
            <p:spPr>
              <a:xfrm>
                <a:off x="556740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3" name=""/>
              <p:cNvSpPr/>
              <p:nvPr/>
            </p:nvSpPr>
            <p:spPr>
              <a:xfrm>
                <a:off x="560412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4" name=""/>
              <p:cNvSpPr/>
              <p:nvPr/>
            </p:nvSpPr>
            <p:spPr>
              <a:xfrm>
                <a:off x="564084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5" name=""/>
              <p:cNvSpPr/>
              <p:nvPr/>
            </p:nvSpPr>
            <p:spPr>
              <a:xfrm>
                <a:off x="5513040" y="489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6" name=""/>
              <p:cNvSpPr/>
              <p:nvPr/>
            </p:nvSpPr>
            <p:spPr>
              <a:xfrm>
                <a:off x="5548320" y="489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7" name=""/>
              <p:cNvSpPr/>
              <p:nvPr/>
            </p:nvSpPr>
            <p:spPr>
              <a:xfrm>
                <a:off x="5586480" y="489636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8" name=""/>
              <p:cNvSpPr/>
              <p:nvPr/>
            </p:nvSpPr>
            <p:spPr>
              <a:xfrm>
                <a:off x="5623560" y="489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9" name=""/>
              <p:cNvSpPr/>
              <p:nvPr/>
            </p:nvSpPr>
            <p:spPr>
              <a:xfrm>
                <a:off x="5364720" y="489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0" name=""/>
              <p:cNvSpPr/>
              <p:nvPr/>
            </p:nvSpPr>
            <p:spPr>
              <a:xfrm>
                <a:off x="5401440" y="489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1" name=""/>
              <p:cNvSpPr/>
              <p:nvPr/>
            </p:nvSpPr>
            <p:spPr>
              <a:xfrm>
                <a:off x="5438160" y="489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2" name=""/>
              <p:cNvSpPr/>
              <p:nvPr/>
            </p:nvSpPr>
            <p:spPr>
              <a:xfrm>
                <a:off x="5474880" y="489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3" name=""/>
              <p:cNvSpPr/>
              <p:nvPr/>
            </p:nvSpPr>
            <p:spPr>
              <a:xfrm>
                <a:off x="5254560" y="489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4" name=""/>
              <p:cNvSpPr/>
              <p:nvPr/>
            </p:nvSpPr>
            <p:spPr>
              <a:xfrm>
                <a:off x="5291280" y="489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5" name=""/>
              <p:cNvSpPr/>
              <p:nvPr/>
            </p:nvSpPr>
            <p:spPr>
              <a:xfrm>
                <a:off x="5328000" y="489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6" name=""/>
              <p:cNvSpPr/>
              <p:nvPr/>
            </p:nvSpPr>
            <p:spPr>
              <a:xfrm>
                <a:off x="553068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7" name=""/>
              <p:cNvSpPr/>
              <p:nvPr/>
            </p:nvSpPr>
            <p:spPr>
              <a:xfrm>
                <a:off x="556740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8" name=""/>
              <p:cNvSpPr/>
              <p:nvPr/>
            </p:nvSpPr>
            <p:spPr>
              <a:xfrm>
                <a:off x="560412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9" name=""/>
              <p:cNvSpPr/>
              <p:nvPr/>
            </p:nvSpPr>
            <p:spPr>
              <a:xfrm>
                <a:off x="564084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0" name=""/>
              <p:cNvSpPr/>
              <p:nvPr/>
            </p:nvSpPr>
            <p:spPr>
              <a:xfrm>
                <a:off x="5382360" y="487188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1" name=""/>
              <p:cNvSpPr/>
              <p:nvPr/>
            </p:nvSpPr>
            <p:spPr>
              <a:xfrm>
                <a:off x="5419080" y="487188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2" name=""/>
              <p:cNvSpPr/>
              <p:nvPr/>
            </p:nvSpPr>
            <p:spPr>
              <a:xfrm>
                <a:off x="545724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3" name=""/>
              <p:cNvSpPr/>
              <p:nvPr/>
            </p:nvSpPr>
            <p:spPr>
              <a:xfrm>
                <a:off x="5492880" y="487188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4" name=""/>
              <p:cNvSpPr/>
              <p:nvPr/>
            </p:nvSpPr>
            <p:spPr>
              <a:xfrm>
                <a:off x="5347080" y="487188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5" name=""/>
              <p:cNvSpPr/>
              <p:nvPr/>
            </p:nvSpPr>
            <p:spPr>
              <a:xfrm>
                <a:off x="551304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6" name=""/>
              <p:cNvSpPr/>
              <p:nvPr/>
            </p:nvSpPr>
            <p:spPr>
              <a:xfrm>
                <a:off x="5548320" y="484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7" name=""/>
              <p:cNvSpPr/>
              <p:nvPr/>
            </p:nvSpPr>
            <p:spPr>
              <a:xfrm>
                <a:off x="5586480" y="484524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8" name=""/>
              <p:cNvSpPr/>
              <p:nvPr/>
            </p:nvSpPr>
            <p:spPr>
              <a:xfrm>
                <a:off x="562356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9" name=""/>
              <p:cNvSpPr/>
              <p:nvPr/>
            </p:nvSpPr>
            <p:spPr>
              <a:xfrm>
                <a:off x="5364720" y="484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0" name=""/>
              <p:cNvSpPr/>
              <p:nvPr/>
            </p:nvSpPr>
            <p:spPr>
              <a:xfrm>
                <a:off x="540144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1" name=""/>
              <p:cNvSpPr/>
              <p:nvPr/>
            </p:nvSpPr>
            <p:spPr>
              <a:xfrm>
                <a:off x="5438160" y="484524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2" name=""/>
              <p:cNvSpPr/>
              <p:nvPr/>
            </p:nvSpPr>
            <p:spPr>
              <a:xfrm>
                <a:off x="547488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3" name=""/>
              <p:cNvSpPr/>
              <p:nvPr/>
            </p:nvSpPr>
            <p:spPr>
              <a:xfrm>
                <a:off x="5328000" y="48452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2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4" name=""/>
              <p:cNvSpPr/>
              <p:nvPr/>
            </p:nvSpPr>
            <p:spPr>
              <a:xfrm>
                <a:off x="5623560" y="49482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5" name=""/>
              <p:cNvSpPr/>
              <p:nvPr/>
            </p:nvSpPr>
            <p:spPr>
              <a:xfrm>
                <a:off x="5254560" y="49482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6" name=""/>
              <p:cNvSpPr/>
              <p:nvPr/>
            </p:nvSpPr>
            <p:spPr>
              <a:xfrm>
                <a:off x="5291280" y="49482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7" name=""/>
              <p:cNvSpPr/>
              <p:nvPr/>
            </p:nvSpPr>
            <p:spPr>
              <a:xfrm>
                <a:off x="5328000" y="49482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8" name=""/>
              <p:cNvSpPr/>
              <p:nvPr/>
            </p:nvSpPr>
            <p:spPr>
              <a:xfrm>
                <a:off x="5364720" y="49482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8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9" name=""/>
              <p:cNvSpPr/>
              <p:nvPr/>
            </p:nvSpPr>
            <p:spPr>
              <a:xfrm>
                <a:off x="5401440" y="49482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0" name=""/>
              <p:cNvSpPr/>
              <p:nvPr/>
            </p:nvSpPr>
            <p:spPr>
              <a:xfrm>
                <a:off x="5438160" y="49482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1" name=""/>
              <p:cNvSpPr/>
              <p:nvPr/>
            </p:nvSpPr>
            <p:spPr>
              <a:xfrm>
                <a:off x="5474880" y="49482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2" name=""/>
              <p:cNvSpPr/>
              <p:nvPr/>
            </p:nvSpPr>
            <p:spPr>
              <a:xfrm>
                <a:off x="5513040" y="49482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3" name=""/>
              <p:cNvSpPr/>
              <p:nvPr/>
            </p:nvSpPr>
            <p:spPr>
              <a:xfrm>
                <a:off x="5548320" y="49482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4" name=""/>
              <p:cNvSpPr/>
              <p:nvPr/>
            </p:nvSpPr>
            <p:spPr>
              <a:xfrm>
                <a:off x="5586480" y="494820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5" name=""/>
              <p:cNvSpPr/>
              <p:nvPr/>
            </p:nvSpPr>
            <p:spPr>
              <a:xfrm>
                <a:off x="560412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6" name=""/>
              <p:cNvSpPr/>
              <p:nvPr/>
            </p:nvSpPr>
            <p:spPr>
              <a:xfrm>
                <a:off x="5640840" y="48196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7" name=""/>
              <p:cNvSpPr/>
              <p:nvPr/>
            </p:nvSpPr>
            <p:spPr>
              <a:xfrm>
                <a:off x="5236920" y="49230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8" name=""/>
              <p:cNvSpPr/>
              <p:nvPr/>
            </p:nvSpPr>
            <p:spPr>
              <a:xfrm>
                <a:off x="5336280" y="4636800"/>
                <a:ext cx="289800" cy="1738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9" name=""/>
              <p:cNvSpPr/>
              <p:nvPr/>
            </p:nvSpPr>
            <p:spPr>
              <a:xfrm>
                <a:off x="5336280" y="4636800"/>
                <a:ext cx="289800" cy="1738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0" name=""/>
              <p:cNvSpPr/>
              <p:nvPr/>
            </p:nvSpPr>
            <p:spPr>
              <a:xfrm>
                <a:off x="5355000" y="4653360"/>
                <a:ext cx="250560" cy="1407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  <a:close/>
                  </a:path>
                </a:pathLst>
              </a:custGeom>
              <a:solidFill>
                <a:srgbClr val="2b2b2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1" name=""/>
              <p:cNvSpPr/>
              <p:nvPr/>
            </p:nvSpPr>
            <p:spPr>
              <a:xfrm>
                <a:off x="5355000" y="4653360"/>
                <a:ext cx="250560" cy="1407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2" name=""/>
              <p:cNvSpPr/>
              <p:nvPr/>
            </p:nvSpPr>
            <p:spPr>
              <a:xfrm>
                <a:off x="5406840" y="4684320"/>
                <a:ext cx="149400" cy="7956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1" y="68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" y="68"/>
                    </a:lnTo>
                    <a:close/>
                    <a:moveTo>
                      <a:pt x="120" y="144"/>
                    </a:moveTo>
                    <a:lnTo>
                      <a:pt x="120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20" y="144"/>
                    </a:lnTo>
                    <a:close/>
                    <a:moveTo>
                      <a:pt x="219" y="68"/>
                    </a:moveTo>
                    <a:lnTo>
                      <a:pt x="219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9" y="6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5627520" y="4651200"/>
                <a:ext cx="95040" cy="1573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5604120" y="4651200"/>
                <a:ext cx="23040" cy="176040"/>
              </a:xfrm>
              <a:prstGeom prst="rect">
                <a:avLst/>
              </a:prstGeom>
              <a:solidFill>
                <a:srgbClr val="b04d7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5627520" y="4651200"/>
                <a:ext cx="24480" cy="176040"/>
              </a:xfrm>
              <a:prstGeom prst="rect">
                <a:avLst/>
              </a:prstGeom>
              <a:solidFill>
                <a:srgbClr val="b75f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6" name=""/>
              <p:cNvSpPr/>
              <p:nvPr/>
            </p:nvSpPr>
            <p:spPr>
              <a:xfrm>
                <a:off x="5652000" y="4651200"/>
                <a:ext cx="23040" cy="176040"/>
              </a:xfrm>
              <a:prstGeom prst="rect">
                <a:avLst/>
              </a:prstGeom>
              <a:solidFill>
                <a:srgbClr val="b5598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7" name=""/>
              <p:cNvSpPr/>
              <p:nvPr/>
            </p:nvSpPr>
            <p:spPr>
              <a:xfrm>
                <a:off x="5675400" y="4651200"/>
                <a:ext cx="24120" cy="176040"/>
              </a:xfrm>
              <a:prstGeom prst="rect">
                <a:avLst/>
              </a:prstGeom>
              <a:solidFill>
                <a:srgbClr val="b2537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8" name=""/>
              <p:cNvSpPr/>
              <p:nvPr/>
            </p:nvSpPr>
            <p:spPr>
              <a:xfrm>
                <a:off x="5699520" y="4651200"/>
                <a:ext cx="23040" cy="176040"/>
              </a:xfrm>
              <a:prstGeom prst="rect">
                <a:avLst/>
              </a:prstGeom>
              <a:solidFill>
                <a:srgbClr val="b04d7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5626080" y="4650120"/>
                <a:ext cx="95040" cy="156240"/>
              </a:xfrm>
              <a:custGeom>
                <a:avLst/>
                <a:gdLst/>
                <a:ahLst/>
                <a:rect l="l" t="t" r="r" b="b"/>
                <a:pathLst>
                  <a:path w="140" h="282">
                    <a:moveTo>
                      <a:pt x="0" y="264"/>
                    </a:moveTo>
                    <a:lnTo>
                      <a:pt x="1" y="267"/>
                    </a:lnTo>
                    <a:lnTo>
                      <a:pt x="1" y="270"/>
                    </a:lnTo>
                    <a:lnTo>
                      <a:pt x="4" y="273"/>
                    </a:lnTo>
                    <a:lnTo>
                      <a:pt x="6" y="276"/>
                    </a:lnTo>
                    <a:lnTo>
                      <a:pt x="10" y="278"/>
                    </a:lnTo>
                    <a:lnTo>
                      <a:pt x="14" y="279"/>
                    </a:lnTo>
                    <a:lnTo>
                      <a:pt x="18" y="281"/>
                    </a:lnTo>
                    <a:lnTo>
                      <a:pt x="23" y="282"/>
                    </a:lnTo>
                    <a:lnTo>
                      <a:pt x="29" y="282"/>
                    </a:lnTo>
                    <a:lnTo>
                      <a:pt x="29" y="282"/>
                    </a:lnTo>
                    <a:lnTo>
                      <a:pt x="114" y="273"/>
                    </a:lnTo>
                    <a:lnTo>
                      <a:pt x="120" y="272"/>
                    </a:lnTo>
                    <a:lnTo>
                      <a:pt x="125" y="269"/>
                    </a:lnTo>
                    <a:lnTo>
                      <a:pt x="129" y="267"/>
                    </a:lnTo>
                    <a:lnTo>
                      <a:pt x="133" y="263"/>
                    </a:lnTo>
                    <a:lnTo>
                      <a:pt x="137" y="259"/>
                    </a:lnTo>
                    <a:lnTo>
                      <a:pt x="139" y="255"/>
                    </a:lnTo>
                    <a:lnTo>
                      <a:pt x="140" y="250"/>
                    </a:lnTo>
                    <a:lnTo>
                      <a:pt x="140" y="246"/>
                    </a:lnTo>
                    <a:lnTo>
                      <a:pt x="140" y="38"/>
                    </a:lnTo>
                    <a:lnTo>
                      <a:pt x="140" y="33"/>
                    </a:lnTo>
                    <a:lnTo>
                      <a:pt x="139" y="28"/>
                    </a:lnTo>
                    <a:lnTo>
                      <a:pt x="137" y="24"/>
                    </a:lnTo>
                    <a:lnTo>
                      <a:pt x="133" y="19"/>
                    </a:lnTo>
                    <a:lnTo>
                      <a:pt x="129" y="17"/>
                    </a:lnTo>
                    <a:lnTo>
                      <a:pt x="125" y="13"/>
                    </a:lnTo>
                    <a:lnTo>
                      <a:pt x="120" y="10"/>
                    </a:lnTo>
                    <a:lnTo>
                      <a:pt x="114" y="9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6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5162040" y="4603680"/>
                <a:ext cx="46080" cy="361440"/>
              </a:xfrm>
              <a:custGeom>
                <a:avLst/>
                <a:gdLst/>
                <a:ahLst/>
                <a:rect l="l" t="t" r="r" b="b"/>
                <a:pathLst>
                  <a:path w="69" h="651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80"/>
                    </a:moveTo>
                    <a:lnTo>
                      <a:pt x="39" y="580"/>
                    </a:lnTo>
                    <a:lnTo>
                      <a:pt x="43" y="582"/>
                    </a:lnTo>
                    <a:lnTo>
                      <a:pt x="47" y="582"/>
                    </a:lnTo>
                    <a:lnTo>
                      <a:pt x="50" y="583"/>
                    </a:lnTo>
                    <a:lnTo>
                      <a:pt x="53" y="586"/>
                    </a:lnTo>
                    <a:lnTo>
                      <a:pt x="57" y="588"/>
                    </a:lnTo>
                    <a:lnTo>
                      <a:pt x="59" y="591"/>
                    </a:lnTo>
                    <a:lnTo>
                      <a:pt x="62" y="593"/>
                    </a:lnTo>
                    <a:lnTo>
                      <a:pt x="64" y="596"/>
                    </a:lnTo>
                    <a:lnTo>
                      <a:pt x="67" y="599"/>
                    </a:lnTo>
                    <a:lnTo>
                      <a:pt x="68" y="602"/>
                    </a:lnTo>
                    <a:lnTo>
                      <a:pt x="69" y="606"/>
                    </a:lnTo>
                    <a:lnTo>
                      <a:pt x="69" y="610"/>
                    </a:lnTo>
                    <a:lnTo>
                      <a:pt x="69" y="613"/>
                    </a:lnTo>
                    <a:lnTo>
                      <a:pt x="69" y="617"/>
                    </a:lnTo>
                    <a:lnTo>
                      <a:pt x="69" y="620"/>
                    </a:lnTo>
                    <a:lnTo>
                      <a:pt x="69" y="623"/>
                    </a:lnTo>
                    <a:lnTo>
                      <a:pt x="68" y="626"/>
                    </a:lnTo>
                    <a:lnTo>
                      <a:pt x="67" y="630"/>
                    </a:lnTo>
                    <a:lnTo>
                      <a:pt x="65" y="632"/>
                    </a:lnTo>
                    <a:lnTo>
                      <a:pt x="63" y="637"/>
                    </a:lnTo>
                    <a:lnTo>
                      <a:pt x="58" y="642"/>
                    </a:lnTo>
                    <a:lnTo>
                      <a:pt x="53" y="646"/>
                    </a:lnTo>
                    <a:lnTo>
                      <a:pt x="47" y="649"/>
                    </a:lnTo>
                    <a:lnTo>
                      <a:pt x="41" y="650"/>
                    </a:lnTo>
                    <a:lnTo>
                      <a:pt x="38" y="651"/>
                    </a:lnTo>
                    <a:lnTo>
                      <a:pt x="35" y="651"/>
                    </a:lnTo>
                    <a:lnTo>
                      <a:pt x="31" y="651"/>
                    </a:lnTo>
                    <a:lnTo>
                      <a:pt x="28" y="650"/>
                    </a:lnTo>
                    <a:lnTo>
                      <a:pt x="24" y="649"/>
                    </a:lnTo>
                    <a:lnTo>
                      <a:pt x="20" y="647"/>
                    </a:lnTo>
                    <a:lnTo>
                      <a:pt x="13" y="642"/>
                    </a:lnTo>
                    <a:lnTo>
                      <a:pt x="10" y="640"/>
                    </a:lnTo>
                    <a:lnTo>
                      <a:pt x="8" y="637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1" y="627"/>
                    </a:lnTo>
                    <a:lnTo>
                      <a:pt x="0" y="625"/>
                    </a:lnTo>
                    <a:lnTo>
                      <a:pt x="0" y="621"/>
                    </a:lnTo>
                    <a:lnTo>
                      <a:pt x="0" y="617"/>
                    </a:lnTo>
                    <a:lnTo>
                      <a:pt x="0" y="613"/>
                    </a:lnTo>
                    <a:lnTo>
                      <a:pt x="0" y="610"/>
                    </a:lnTo>
                    <a:lnTo>
                      <a:pt x="1" y="606"/>
                    </a:lnTo>
                    <a:lnTo>
                      <a:pt x="1" y="603"/>
                    </a:lnTo>
                    <a:lnTo>
                      <a:pt x="3" y="599"/>
                    </a:lnTo>
                    <a:lnTo>
                      <a:pt x="4" y="597"/>
                    </a:lnTo>
                    <a:lnTo>
                      <a:pt x="8" y="593"/>
                    </a:lnTo>
                    <a:lnTo>
                      <a:pt x="11" y="589"/>
                    </a:lnTo>
                    <a:lnTo>
                      <a:pt x="14" y="587"/>
                    </a:lnTo>
                    <a:lnTo>
                      <a:pt x="16" y="586"/>
                    </a:lnTo>
                    <a:lnTo>
                      <a:pt x="20" y="583"/>
                    </a:lnTo>
                    <a:lnTo>
                      <a:pt x="23" y="582"/>
                    </a:lnTo>
                    <a:lnTo>
                      <a:pt x="29" y="580"/>
                    </a:lnTo>
                    <a:lnTo>
                      <a:pt x="35" y="580"/>
                    </a:lnTo>
                    <a:lnTo>
                      <a:pt x="35" y="580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5162040" y="4603680"/>
                <a:ext cx="46080" cy="3852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62" name=""/>
              <p:cNvSpPr/>
              <p:nvPr/>
            </p:nvSpPr>
            <p:spPr>
              <a:xfrm>
                <a:off x="5162040" y="492516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35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7" y="8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3"/>
                    </a:lnTo>
                    <a:lnTo>
                      <a:pt x="69" y="37"/>
                    </a:lnTo>
                    <a:lnTo>
                      <a:pt x="69" y="40"/>
                    </a:lnTo>
                    <a:lnTo>
                      <a:pt x="69" y="43"/>
                    </a:lnTo>
                    <a:lnTo>
                      <a:pt x="68" y="46"/>
                    </a:lnTo>
                    <a:lnTo>
                      <a:pt x="67" y="50"/>
                    </a:lnTo>
                    <a:lnTo>
                      <a:pt x="65" y="52"/>
                    </a:lnTo>
                    <a:lnTo>
                      <a:pt x="63" y="57"/>
                    </a:lnTo>
                    <a:lnTo>
                      <a:pt x="58" y="62"/>
                    </a:lnTo>
                    <a:lnTo>
                      <a:pt x="53" y="66"/>
                    </a:lnTo>
                    <a:lnTo>
                      <a:pt x="47" y="69"/>
                    </a:lnTo>
                    <a:lnTo>
                      <a:pt x="41" y="70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8" y="70"/>
                    </a:lnTo>
                    <a:lnTo>
                      <a:pt x="24" y="69"/>
                    </a:lnTo>
                    <a:lnTo>
                      <a:pt x="20" y="67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63" name=""/>
              <p:cNvSpPr/>
              <p:nvPr/>
            </p:nvSpPr>
            <p:spPr>
              <a:xfrm>
                <a:off x="5175360" y="4614480"/>
                <a:ext cx="19080" cy="338040"/>
              </a:xfrm>
              <a:custGeom>
                <a:avLst/>
                <a:gdLst/>
                <a:ahLst/>
                <a:rect l="l" t="t" r="r" b="b"/>
                <a:pathLst>
                  <a:path w="29" h="611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8"/>
                    </a:moveTo>
                    <a:lnTo>
                      <a:pt x="9" y="607"/>
                    </a:lnTo>
                    <a:lnTo>
                      <a:pt x="10" y="606"/>
                    </a:lnTo>
                    <a:lnTo>
                      <a:pt x="11" y="605"/>
                    </a:lnTo>
                    <a:lnTo>
                      <a:pt x="13" y="603"/>
                    </a:lnTo>
                    <a:lnTo>
                      <a:pt x="15" y="603"/>
                    </a:lnTo>
                    <a:lnTo>
                      <a:pt x="16" y="603"/>
                    </a:lnTo>
                    <a:lnTo>
                      <a:pt x="18" y="605"/>
                    </a:lnTo>
                    <a:lnTo>
                      <a:pt x="19" y="606"/>
                    </a:lnTo>
                    <a:lnTo>
                      <a:pt x="20" y="607"/>
                    </a:lnTo>
                    <a:lnTo>
                      <a:pt x="20" y="607"/>
                    </a:lnTo>
                    <a:lnTo>
                      <a:pt x="23" y="608"/>
                    </a:lnTo>
                    <a:lnTo>
                      <a:pt x="24" y="608"/>
                    </a:lnTo>
                    <a:lnTo>
                      <a:pt x="25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9" y="607"/>
                    </a:lnTo>
                    <a:lnTo>
                      <a:pt x="29" y="606"/>
                    </a:lnTo>
                    <a:lnTo>
                      <a:pt x="29" y="606"/>
                    </a:lnTo>
                    <a:lnTo>
                      <a:pt x="29" y="603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7" y="600"/>
                    </a:lnTo>
                    <a:lnTo>
                      <a:pt x="25" y="600"/>
                    </a:lnTo>
                    <a:lnTo>
                      <a:pt x="24" y="598"/>
                    </a:lnTo>
                    <a:lnTo>
                      <a:pt x="24" y="597"/>
                    </a:lnTo>
                    <a:lnTo>
                      <a:pt x="24" y="596"/>
                    </a:lnTo>
                    <a:lnTo>
                      <a:pt x="24" y="595"/>
                    </a:lnTo>
                    <a:lnTo>
                      <a:pt x="24" y="592"/>
                    </a:lnTo>
                    <a:lnTo>
                      <a:pt x="25" y="591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9" y="587"/>
                    </a:lnTo>
                    <a:lnTo>
                      <a:pt x="29" y="587"/>
                    </a:lnTo>
                    <a:lnTo>
                      <a:pt x="29" y="586"/>
                    </a:lnTo>
                    <a:lnTo>
                      <a:pt x="29" y="584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7" y="582"/>
                    </a:lnTo>
                    <a:lnTo>
                      <a:pt x="27" y="581"/>
                    </a:lnTo>
                    <a:lnTo>
                      <a:pt x="25" y="581"/>
                    </a:lnTo>
                    <a:lnTo>
                      <a:pt x="24" y="581"/>
                    </a:lnTo>
                    <a:lnTo>
                      <a:pt x="23" y="582"/>
                    </a:lnTo>
                    <a:lnTo>
                      <a:pt x="23" y="582"/>
                    </a:lnTo>
                    <a:lnTo>
                      <a:pt x="20" y="584"/>
                    </a:lnTo>
                    <a:lnTo>
                      <a:pt x="19" y="586"/>
                    </a:lnTo>
                    <a:lnTo>
                      <a:pt x="18" y="586"/>
                    </a:lnTo>
                    <a:lnTo>
                      <a:pt x="15" y="586"/>
                    </a:lnTo>
                    <a:lnTo>
                      <a:pt x="11" y="586"/>
                    </a:lnTo>
                    <a:lnTo>
                      <a:pt x="10" y="586"/>
                    </a:lnTo>
                    <a:lnTo>
                      <a:pt x="9" y="584"/>
                    </a:lnTo>
                    <a:lnTo>
                      <a:pt x="9" y="584"/>
                    </a:lnTo>
                    <a:lnTo>
                      <a:pt x="6" y="582"/>
                    </a:lnTo>
                    <a:lnTo>
                      <a:pt x="5" y="581"/>
                    </a:lnTo>
                    <a:lnTo>
                      <a:pt x="4" y="581"/>
                    </a:lnTo>
                    <a:lnTo>
                      <a:pt x="3" y="581"/>
                    </a:lnTo>
                    <a:lnTo>
                      <a:pt x="3" y="582"/>
                    </a:lnTo>
                    <a:lnTo>
                      <a:pt x="0" y="582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6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3" y="590"/>
                    </a:lnTo>
                    <a:lnTo>
                      <a:pt x="4" y="591"/>
                    </a:lnTo>
                    <a:lnTo>
                      <a:pt x="5" y="592"/>
                    </a:lnTo>
                    <a:lnTo>
                      <a:pt x="5" y="595"/>
                    </a:lnTo>
                    <a:lnTo>
                      <a:pt x="6" y="596"/>
                    </a:lnTo>
                    <a:lnTo>
                      <a:pt x="5" y="597"/>
                    </a:lnTo>
                    <a:lnTo>
                      <a:pt x="5" y="598"/>
                    </a:lnTo>
                    <a:lnTo>
                      <a:pt x="4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0" y="602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3" y="608"/>
                    </a:lnTo>
                    <a:lnTo>
                      <a:pt x="3" y="610"/>
                    </a:lnTo>
                    <a:lnTo>
                      <a:pt x="4" y="611"/>
                    </a:lnTo>
                    <a:lnTo>
                      <a:pt x="5" y="610"/>
                    </a:lnTo>
                    <a:lnTo>
                      <a:pt x="6" y="608"/>
                    </a:lnTo>
                    <a:lnTo>
                      <a:pt x="6" y="608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64" name=""/>
              <p:cNvSpPr/>
              <p:nvPr/>
            </p:nvSpPr>
            <p:spPr>
              <a:xfrm>
                <a:off x="5175360" y="4614480"/>
                <a:ext cx="19080" cy="165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65" name=""/>
              <p:cNvSpPr/>
              <p:nvPr/>
            </p:nvSpPr>
            <p:spPr>
              <a:xfrm>
                <a:off x="5175360" y="4936320"/>
                <a:ext cx="19080" cy="165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7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5666" name=""/>
            <p:cNvSpPr/>
            <p:nvPr/>
          </p:nvSpPr>
          <p:spPr>
            <a:xfrm>
              <a:off x="5221440" y="4591800"/>
              <a:ext cx="47880" cy="394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5197680" y="4572360"/>
              <a:ext cx="23760" cy="433080"/>
            </a:xfrm>
            <a:prstGeom prst="rect">
              <a:avLst/>
            </a:prstGeom>
            <a:solidFill>
              <a:srgbClr val="7b7b7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5221440" y="4572360"/>
              <a:ext cx="23760" cy="433080"/>
            </a:xfrm>
            <a:prstGeom prst="rect">
              <a:avLst/>
            </a:prstGeom>
            <a:solidFill>
              <a:srgbClr val="5d5d5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5245200" y="4572360"/>
              <a:ext cx="24120" cy="433080"/>
            </a:xfrm>
            <a:prstGeom prst="rect">
              <a:avLst/>
            </a:prstGeom>
            <a:solidFill>
              <a:srgbClr val="67676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5215320" y="4583160"/>
              <a:ext cx="40320" cy="404280"/>
            </a:xfrm>
            <a:custGeom>
              <a:avLst/>
              <a:gdLst/>
              <a:ahLst/>
              <a:rect l="l" t="t" r="r" b="b"/>
              <a:pathLst>
                <a:path w="60" h="728">
                  <a:moveTo>
                    <a:pt x="60" y="720"/>
                  </a:moveTo>
                  <a:lnTo>
                    <a:pt x="60" y="7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20"/>
                  </a:lnTo>
                  <a:lnTo>
                    <a:pt x="1" y="723"/>
                  </a:lnTo>
                  <a:lnTo>
                    <a:pt x="1" y="724"/>
                  </a:lnTo>
                  <a:lnTo>
                    <a:pt x="4" y="725"/>
                  </a:lnTo>
                  <a:lnTo>
                    <a:pt x="6" y="726"/>
                  </a:lnTo>
                  <a:lnTo>
                    <a:pt x="9" y="728"/>
                  </a:lnTo>
                  <a:lnTo>
                    <a:pt x="9" y="728"/>
                  </a:lnTo>
                  <a:lnTo>
                    <a:pt x="53" y="728"/>
                  </a:lnTo>
                  <a:lnTo>
                    <a:pt x="56" y="726"/>
                  </a:lnTo>
                  <a:lnTo>
                    <a:pt x="58" y="725"/>
                  </a:lnTo>
                  <a:lnTo>
                    <a:pt x="59" y="724"/>
                  </a:lnTo>
                  <a:lnTo>
                    <a:pt x="60" y="7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2906640" y="4966560"/>
              <a:ext cx="14688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2906640" y="4966560"/>
              <a:ext cx="14688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3127680" y="4966560"/>
              <a:ext cx="14580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3127680" y="4966560"/>
              <a:ext cx="14580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3346200" y="4966560"/>
              <a:ext cx="14796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3346200" y="4966560"/>
              <a:ext cx="1479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3566160" y="4966560"/>
              <a:ext cx="14688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3566160" y="4966560"/>
              <a:ext cx="14688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3199320" y="4815720"/>
              <a:ext cx="222120" cy="594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3199320" y="4815720"/>
              <a:ext cx="222120" cy="59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3199320" y="4634280"/>
              <a:ext cx="222120" cy="612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3199320" y="4634280"/>
              <a:ext cx="222120" cy="61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5683" name=""/>
          <p:cNvGrpSpPr/>
          <p:nvPr/>
        </p:nvGrpSpPr>
        <p:grpSpPr>
          <a:xfrm>
            <a:off x="2490840" y="3773520"/>
            <a:ext cx="4190760" cy="678960"/>
            <a:chOff x="2490840" y="3773520"/>
            <a:chExt cx="4190760" cy="678960"/>
          </a:xfrm>
        </p:grpSpPr>
        <p:sp>
          <p:nvSpPr>
            <p:cNvPr id="5684" name=""/>
            <p:cNvSpPr/>
            <p:nvPr/>
          </p:nvSpPr>
          <p:spPr>
            <a:xfrm>
              <a:off x="2493000" y="4165920"/>
              <a:ext cx="83160" cy="276480"/>
            </a:xfrm>
            <a:custGeom>
              <a:avLst/>
              <a:gdLst/>
              <a:ahLst/>
              <a:rect l="l" t="t" r="r" b="b"/>
              <a:pathLst>
                <a:path w="122" h="497">
                  <a:moveTo>
                    <a:pt x="104" y="497"/>
                  </a:moveTo>
                  <a:lnTo>
                    <a:pt x="108" y="497"/>
                  </a:lnTo>
                  <a:lnTo>
                    <a:pt x="110" y="496"/>
                  </a:lnTo>
                  <a:lnTo>
                    <a:pt x="114" y="495"/>
                  </a:lnTo>
                  <a:lnTo>
                    <a:pt x="117" y="492"/>
                  </a:lnTo>
                  <a:lnTo>
                    <a:pt x="118" y="490"/>
                  </a:lnTo>
                  <a:lnTo>
                    <a:pt x="120" y="487"/>
                  </a:lnTo>
                  <a:lnTo>
                    <a:pt x="122" y="485"/>
                  </a:lnTo>
                  <a:lnTo>
                    <a:pt x="122" y="481"/>
                  </a:lnTo>
                  <a:lnTo>
                    <a:pt x="122" y="481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0" y="9"/>
                  </a:lnTo>
                  <a:lnTo>
                    <a:pt x="118" y="6"/>
                  </a:lnTo>
                  <a:lnTo>
                    <a:pt x="117" y="4"/>
                  </a:lnTo>
                  <a:lnTo>
                    <a:pt x="114" y="2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1" y="487"/>
                  </a:lnTo>
                  <a:lnTo>
                    <a:pt x="3" y="490"/>
                  </a:lnTo>
                  <a:lnTo>
                    <a:pt x="5" y="492"/>
                  </a:lnTo>
                  <a:lnTo>
                    <a:pt x="8" y="495"/>
                  </a:lnTo>
                  <a:lnTo>
                    <a:pt x="10" y="496"/>
                  </a:lnTo>
                  <a:lnTo>
                    <a:pt x="14" y="497"/>
                  </a:lnTo>
                  <a:lnTo>
                    <a:pt x="18" y="497"/>
                  </a:lnTo>
                  <a:lnTo>
                    <a:pt x="104" y="497"/>
                  </a:lnTo>
                  <a:lnTo>
                    <a:pt x="104" y="49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2491920" y="4164120"/>
              <a:ext cx="84600" cy="2782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2491920" y="4164120"/>
              <a:ext cx="1080" cy="278280"/>
            </a:xfrm>
            <a:prstGeom prst="rect">
              <a:avLst/>
            </a:prstGeom>
            <a:solidFill>
              <a:srgbClr val="b4b4b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2491920" y="4164120"/>
              <a:ext cx="1080" cy="27828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2493000" y="4164120"/>
              <a:ext cx="1080" cy="278280"/>
            </a:xfrm>
            <a:prstGeom prst="rect">
              <a:avLst/>
            </a:prstGeom>
            <a:solidFill>
              <a:srgbClr val="b5b5b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2494080" y="4164120"/>
              <a:ext cx="2160" cy="278280"/>
            </a:xfrm>
            <a:prstGeom prst="rect">
              <a:avLst/>
            </a:prstGeom>
            <a:solidFill>
              <a:srgbClr val="b7b7b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2494080" y="4164120"/>
              <a:ext cx="2160" cy="278280"/>
            </a:xfrm>
            <a:prstGeom prst="rect">
              <a:avLst/>
            </a:prstGeom>
            <a:solidFill>
              <a:srgbClr val="b8b8b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2496600" y="4164120"/>
              <a:ext cx="1080" cy="278280"/>
            </a:xfrm>
            <a:prstGeom prst="rect">
              <a:avLst/>
            </a:prstGeom>
            <a:solidFill>
              <a:srgbClr val="babab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2497680" y="4164120"/>
              <a:ext cx="1080" cy="278280"/>
            </a:xfrm>
            <a:prstGeom prst="rect">
              <a:avLst/>
            </a:prstGeom>
            <a:solidFill>
              <a:srgbClr val="bbbbb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2497680" y="4164120"/>
              <a:ext cx="1080" cy="278280"/>
            </a:xfrm>
            <a:prstGeom prst="rect">
              <a:avLst/>
            </a:prstGeom>
            <a:solidFill>
              <a:srgbClr val="bdbdb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2499120" y="4164120"/>
              <a:ext cx="1080" cy="278280"/>
            </a:xfrm>
            <a:prstGeom prst="rect">
              <a:avLst/>
            </a:prstGeom>
            <a:solidFill>
              <a:srgbClr val="bfbfb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2499120" y="4164120"/>
              <a:ext cx="1080" cy="278280"/>
            </a:xfrm>
            <a:prstGeom prst="rect">
              <a:avLst/>
            </a:prstGeom>
            <a:solidFill>
              <a:srgbClr val="c0c0c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2500200" y="4164120"/>
              <a:ext cx="1080" cy="278280"/>
            </a:xfrm>
            <a:prstGeom prst="rect">
              <a:avLst/>
            </a:prstGeom>
            <a:solidFill>
              <a:srgbClr val="c2c2c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2501640" y="4164120"/>
              <a:ext cx="1080" cy="278280"/>
            </a:xfrm>
            <a:prstGeom prst="rect">
              <a:avLst/>
            </a:prstGeom>
            <a:solidFill>
              <a:srgbClr val="c3c3c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2501640" y="4164120"/>
              <a:ext cx="1080" cy="278280"/>
            </a:xfrm>
            <a:prstGeom prst="rect">
              <a:avLst/>
            </a:prstGeom>
            <a:solidFill>
              <a:srgbClr val="c4c4c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2502720" y="4164120"/>
              <a:ext cx="1080" cy="278280"/>
            </a:xfrm>
            <a:prstGeom prst="rect">
              <a:avLst/>
            </a:prstGeom>
            <a:solidFill>
              <a:srgbClr val="c6c6c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2503800" y="4164120"/>
              <a:ext cx="2160" cy="278280"/>
            </a:xfrm>
            <a:prstGeom prst="rect">
              <a:avLst/>
            </a:prstGeom>
            <a:solidFill>
              <a:srgbClr val="c8c8c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2503800" y="4164120"/>
              <a:ext cx="2160" cy="278280"/>
            </a:xfrm>
            <a:prstGeom prst="rect">
              <a:avLst/>
            </a:prstGeom>
            <a:solidFill>
              <a:srgbClr val="c9c9c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2505960" y="4164120"/>
              <a:ext cx="1080" cy="278280"/>
            </a:xfrm>
            <a:prstGeom prst="rect">
              <a:avLst/>
            </a:prstGeom>
            <a:solidFill>
              <a:srgbClr val="cbcbc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2505960" y="4164120"/>
              <a:ext cx="1080" cy="278280"/>
            </a:xfrm>
            <a:prstGeom prst="rect">
              <a:avLst/>
            </a:prstGeom>
            <a:solidFill>
              <a:srgbClr val="ccccc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2507400" y="4164120"/>
              <a:ext cx="1080" cy="27828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2508480" y="4164120"/>
              <a:ext cx="1080" cy="278280"/>
            </a:xfrm>
            <a:prstGeom prst="rect">
              <a:avLst/>
            </a:prstGeom>
            <a:solidFill>
              <a:srgbClr val="d0d0d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2508480" y="4164120"/>
              <a:ext cx="1080" cy="278280"/>
            </a:xfrm>
            <a:prstGeom prst="rect">
              <a:avLst/>
            </a:prstGeom>
            <a:solidFill>
              <a:srgbClr val="d1d1d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2509920" y="4164120"/>
              <a:ext cx="1080" cy="278280"/>
            </a:xfrm>
            <a:prstGeom prst="rect">
              <a:avLst/>
            </a:prstGeom>
            <a:solidFill>
              <a:srgbClr val="d3d3d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2511000" y="4164120"/>
              <a:ext cx="1080" cy="278280"/>
            </a:xfrm>
            <a:prstGeom prst="rect">
              <a:avLst/>
            </a:prstGeom>
            <a:solidFill>
              <a:srgbClr val="d4d4d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2511000" y="4164120"/>
              <a:ext cx="1080" cy="278280"/>
            </a:xfrm>
            <a:prstGeom prst="rect">
              <a:avLst/>
            </a:prstGeom>
            <a:solidFill>
              <a:srgbClr val="d6d6d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2512080" y="4164120"/>
              <a:ext cx="1080" cy="278280"/>
            </a:xfrm>
            <a:prstGeom prst="rect">
              <a:avLst/>
            </a:prstGeom>
            <a:solidFill>
              <a:srgbClr val="d7d7d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2512080" y="4164120"/>
              <a:ext cx="1080" cy="278280"/>
            </a:xfrm>
            <a:prstGeom prst="rect">
              <a:avLst/>
            </a:prstGeom>
            <a:solidFill>
              <a:srgbClr val="d8d8d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2513520" y="4164120"/>
              <a:ext cx="1080" cy="278280"/>
            </a:xfrm>
            <a:prstGeom prst="rect">
              <a:avLst/>
            </a:prstGeom>
            <a:solidFill>
              <a:srgbClr val="dadad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2514600" y="4164120"/>
              <a:ext cx="2160" cy="278280"/>
            </a:xfrm>
            <a:prstGeom prst="rect">
              <a:avLst/>
            </a:prstGeom>
            <a:solidFill>
              <a:srgbClr val="dcdcd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2514600" y="4164120"/>
              <a:ext cx="2160" cy="278280"/>
            </a:xfrm>
            <a:prstGeom prst="rect">
              <a:avLst/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2517120" y="4164120"/>
              <a:ext cx="1080" cy="278280"/>
            </a:xfrm>
            <a:prstGeom prst="rect">
              <a:avLst/>
            </a:prstGeom>
            <a:solidFill>
              <a:srgbClr val="dfdfd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2518200" y="4164120"/>
              <a:ext cx="1080" cy="278280"/>
            </a:xfrm>
            <a:prstGeom prst="rect">
              <a:avLst/>
            </a:prstGeom>
            <a:solidFill>
              <a:srgbClr val="e1e1e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2518200" y="4164120"/>
              <a:ext cx="1080" cy="278280"/>
            </a:xfrm>
            <a:prstGeom prst="rect">
              <a:avLst/>
            </a:prstGeom>
            <a:solidFill>
              <a:srgbClr val="e2e2e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2519280" y="4164120"/>
              <a:ext cx="1080" cy="278280"/>
            </a:xfrm>
            <a:prstGeom prst="rect">
              <a:avLst/>
            </a:prstGeom>
            <a:solidFill>
              <a:srgbClr val="e4e4e4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2520360" y="4164120"/>
              <a:ext cx="1080" cy="278280"/>
            </a:xfrm>
            <a:prstGeom prst="rect">
              <a:avLst/>
            </a:prstGeom>
            <a:solidFill>
              <a:srgbClr val="e5e5e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2520360" y="4164120"/>
              <a:ext cx="1080" cy="278280"/>
            </a:xfrm>
            <a:prstGeom prst="rect">
              <a:avLst/>
            </a:prstGeom>
            <a:solidFill>
              <a:srgbClr val="e7e7e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2521800" y="4164120"/>
              <a:ext cx="1080" cy="278280"/>
            </a:xfrm>
            <a:prstGeom prst="rect">
              <a:avLst/>
            </a:prstGeom>
            <a:solidFill>
              <a:srgbClr val="e8e8e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2521800" y="4164120"/>
              <a:ext cx="1080" cy="278280"/>
            </a:xfrm>
            <a:prstGeom prst="rect">
              <a:avLst/>
            </a:prstGeom>
            <a:solidFill>
              <a:srgbClr val="eaeaea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2522880" y="4164120"/>
              <a:ext cx="1080" cy="278280"/>
            </a:xfrm>
            <a:prstGeom prst="rect">
              <a:avLst/>
            </a:prstGeom>
            <a:solidFill>
              <a:srgbClr val="ebebe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2523960" y="4164120"/>
              <a:ext cx="2160" cy="278280"/>
            </a:xfrm>
            <a:prstGeom prst="rect">
              <a:avLst/>
            </a:prstGeom>
            <a:solidFill>
              <a:srgbClr val="edede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2523960" y="4164120"/>
              <a:ext cx="2160" cy="278280"/>
            </a:xfrm>
            <a:prstGeom prst="rect">
              <a:avLst/>
            </a:prstGeom>
            <a:solidFill>
              <a:srgbClr val="eeeee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2526480" y="4164120"/>
              <a:ext cx="1080" cy="278280"/>
            </a:xfrm>
            <a:prstGeom prst="rect">
              <a:avLst/>
            </a:prstGeom>
            <a:solidFill>
              <a:srgbClr val="f0f0f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2527920" y="4164120"/>
              <a:ext cx="1080" cy="278280"/>
            </a:xfrm>
            <a:prstGeom prst="rect">
              <a:avLst/>
            </a:prstGeom>
            <a:solidFill>
              <a:srgbClr val="f1f1f1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2527920" y="4164120"/>
              <a:ext cx="1080" cy="278280"/>
            </a:xfrm>
            <a:prstGeom prst="rect">
              <a:avLst/>
            </a:prstGeom>
            <a:solidFill>
              <a:srgbClr val="f3f3f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2529000" y="4164120"/>
              <a:ext cx="1080" cy="278280"/>
            </a:xfrm>
            <a:prstGeom prst="rect">
              <a:avLst/>
            </a:prstGeom>
            <a:solidFill>
              <a:srgbClr val="f5f5f5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2529000" y="4164120"/>
              <a:ext cx="1080" cy="278280"/>
            </a:xfrm>
            <a:prstGeom prst="rect">
              <a:avLst/>
            </a:prstGeom>
            <a:solidFill>
              <a:srgbClr val="f6f6f6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2530080" y="4164120"/>
              <a:ext cx="1080" cy="278280"/>
            </a:xfrm>
            <a:prstGeom prst="rect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2531160" y="4164120"/>
              <a:ext cx="1080" cy="278280"/>
            </a:xfrm>
            <a:prstGeom prst="rect">
              <a:avLst/>
            </a:prstGeom>
            <a:solidFill>
              <a:srgbClr val="f9f9f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2531160" y="4164120"/>
              <a:ext cx="1080" cy="278280"/>
            </a:xfrm>
            <a:prstGeom prst="rect">
              <a:avLst/>
            </a:prstGeom>
            <a:solidFill>
              <a:srgbClr val="fbfbf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2532240" y="4164120"/>
              <a:ext cx="1080" cy="278280"/>
            </a:xfrm>
            <a:prstGeom prst="rect">
              <a:avLst/>
            </a:prstGeom>
            <a:solidFill>
              <a:srgbClr val="fcfc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2533680" y="4164120"/>
              <a:ext cx="2160" cy="278280"/>
            </a:xfrm>
            <a:prstGeom prst="rect">
              <a:avLst/>
            </a:prstGeom>
            <a:solidFill>
              <a:srgbClr val="fefef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2533680" y="4164120"/>
              <a:ext cx="2160" cy="27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2536200" y="4164120"/>
              <a:ext cx="1080" cy="278280"/>
            </a:xfrm>
            <a:prstGeom prst="rect">
              <a:avLst/>
            </a:prstGeom>
            <a:solidFill>
              <a:srgbClr val="fdfdf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2536200" y="4164120"/>
              <a:ext cx="1080" cy="278280"/>
            </a:xfrm>
            <a:prstGeom prst="rect">
              <a:avLst/>
            </a:prstGeom>
            <a:solidFill>
              <a:srgbClr val="fcfcfc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2537280" y="4164120"/>
              <a:ext cx="1080" cy="278280"/>
            </a:xfrm>
            <a:prstGeom prst="rect">
              <a:avLst/>
            </a:prstGeom>
            <a:solidFill>
              <a:srgbClr val="fbfbf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2538360" y="4164120"/>
              <a:ext cx="1080" cy="278280"/>
            </a:xfrm>
            <a:prstGeom prst="rect">
              <a:avLst/>
            </a:prstGeom>
            <a:solidFill>
              <a:srgbClr val="f9f9f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5741" name=""/>
            <p:cNvGrpSpPr/>
            <p:nvPr/>
          </p:nvGrpSpPr>
          <p:grpSpPr>
            <a:xfrm>
              <a:off x="2490840" y="3773520"/>
              <a:ext cx="4190760" cy="677520"/>
              <a:chOff x="2490840" y="3773520"/>
              <a:chExt cx="4190760" cy="677520"/>
            </a:xfrm>
          </p:grpSpPr>
          <p:sp>
            <p:nvSpPr>
              <p:cNvPr id="5742" name=""/>
              <p:cNvSpPr/>
              <p:nvPr/>
            </p:nvSpPr>
            <p:spPr>
              <a:xfrm>
                <a:off x="2538360" y="4164480"/>
                <a:ext cx="1080" cy="2775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2539800" y="4164480"/>
                <a:ext cx="1440" cy="277560"/>
              </a:xfrm>
              <a:prstGeom prst="rect">
                <a:avLst/>
              </a:prstGeom>
              <a:solidFill>
                <a:srgbClr val="f6f6f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2541240" y="4164480"/>
                <a:ext cx="1080" cy="277560"/>
              </a:xfrm>
              <a:prstGeom prst="rect">
                <a:avLst/>
              </a:prstGeom>
              <a:solidFill>
                <a:srgbClr val="f5f5f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2541240" y="4164480"/>
                <a:ext cx="1080" cy="277560"/>
              </a:xfrm>
              <a:prstGeom prst="rect">
                <a:avLst/>
              </a:prstGeom>
              <a:solidFill>
                <a:srgbClr val="f3f3f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2542320" y="4164480"/>
                <a:ext cx="1080" cy="277560"/>
              </a:xfrm>
              <a:prstGeom prst="rect">
                <a:avLst/>
              </a:prstGeom>
              <a:solidFill>
                <a:srgbClr val="f1f1f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2542320" y="4164480"/>
                <a:ext cx="1080" cy="277560"/>
              </a:xfrm>
              <a:prstGeom prst="rect">
                <a:avLst/>
              </a:prstGeom>
              <a:solidFill>
                <a:srgbClr val="f0f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2543760" y="4164480"/>
                <a:ext cx="1440" cy="27756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2545200" y="4164480"/>
                <a:ext cx="108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2545200" y="4164480"/>
                <a:ext cx="1080" cy="277560"/>
              </a:xfrm>
              <a:prstGeom prst="rect">
                <a:avLst/>
              </a:prstGeom>
              <a:solidFill>
                <a:srgbClr val="ebebe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2546640" y="4164480"/>
                <a:ext cx="144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2548080" y="4164480"/>
                <a:ext cx="1080" cy="277560"/>
              </a:xfrm>
              <a:prstGeom prst="rect">
                <a:avLst/>
              </a:prstGeom>
              <a:solidFill>
                <a:srgbClr val="e8e8e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2548080" y="4164480"/>
                <a:ext cx="1080" cy="277560"/>
              </a:xfrm>
              <a:prstGeom prst="rect">
                <a:avLst/>
              </a:prstGeom>
              <a:solidFill>
                <a:srgbClr val="e7e7e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2549160" y="4164480"/>
                <a:ext cx="1080" cy="27756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2549160" y="4164480"/>
                <a:ext cx="1080" cy="277560"/>
              </a:xfrm>
              <a:prstGeom prst="rect">
                <a:avLst/>
              </a:prstGeom>
              <a:solidFill>
                <a:srgbClr val="e4e4e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6" name=""/>
              <p:cNvSpPr/>
              <p:nvPr/>
            </p:nvSpPr>
            <p:spPr>
              <a:xfrm>
                <a:off x="2550600" y="4164480"/>
                <a:ext cx="1440" cy="277560"/>
              </a:xfrm>
              <a:prstGeom prst="rect">
                <a:avLst/>
              </a:prstGeom>
              <a:solidFill>
                <a:srgbClr val="e2e2e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7" name=""/>
              <p:cNvSpPr/>
              <p:nvPr/>
            </p:nvSpPr>
            <p:spPr>
              <a:xfrm>
                <a:off x="2552040" y="4164480"/>
                <a:ext cx="1080" cy="27756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8" name=""/>
              <p:cNvSpPr/>
              <p:nvPr/>
            </p:nvSpPr>
            <p:spPr>
              <a:xfrm>
                <a:off x="2552040" y="4164480"/>
                <a:ext cx="1080" cy="27756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9" name=""/>
              <p:cNvSpPr/>
              <p:nvPr/>
            </p:nvSpPr>
            <p:spPr>
              <a:xfrm>
                <a:off x="2553120" y="4164480"/>
                <a:ext cx="1440" cy="27756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0" name=""/>
              <p:cNvSpPr/>
              <p:nvPr/>
            </p:nvSpPr>
            <p:spPr>
              <a:xfrm>
                <a:off x="2554920" y="4164480"/>
                <a:ext cx="1080" cy="277560"/>
              </a:xfrm>
              <a:prstGeom prst="rect">
                <a:avLst/>
              </a:prstGeom>
              <a:solidFill>
                <a:srgbClr val="dcdcd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1" name=""/>
              <p:cNvSpPr/>
              <p:nvPr/>
            </p:nvSpPr>
            <p:spPr>
              <a:xfrm>
                <a:off x="2554920" y="4164480"/>
                <a:ext cx="1080" cy="277560"/>
              </a:xfrm>
              <a:prstGeom prst="rect">
                <a:avLst/>
              </a:prstGeom>
              <a:solidFill>
                <a:srgbClr val="dadad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2" name=""/>
              <p:cNvSpPr/>
              <p:nvPr/>
            </p:nvSpPr>
            <p:spPr>
              <a:xfrm>
                <a:off x="2556000" y="4164480"/>
                <a:ext cx="1080" cy="27756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3" name=""/>
              <p:cNvSpPr/>
              <p:nvPr/>
            </p:nvSpPr>
            <p:spPr>
              <a:xfrm>
                <a:off x="2556000" y="4164480"/>
                <a:ext cx="1080" cy="27756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4" name=""/>
              <p:cNvSpPr/>
              <p:nvPr/>
            </p:nvSpPr>
            <p:spPr>
              <a:xfrm>
                <a:off x="2557440" y="4164480"/>
                <a:ext cx="144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5" name=""/>
              <p:cNvSpPr/>
              <p:nvPr/>
            </p:nvSpPr>
            <p:spPr>
              <a:xfrm>
                <a:off x="2558880" y="4164480"/>
                <a:ext cx="1080" cy="277560"/>
              </a:xfrm>
              <a:prstGeom prst="rect">
                <a:avLst/>
              </a:prstGeom>
              <a:solidFill>
                <a:srgbClr val="d4d4d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6" name=""/>
              <p:cNvSpPr/>
              <p:nvPr/>
            </p:nvSpPr>
            <p:spPr>
              <a:xfrm>
                <a:off x="2558880" y="416448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7" name=""/>
              <p:cNvSpPr/>
              <p:nvPr/>
            </p:nvSpPr>
            <p:spPr>
              <a:xfrm>
                <a:off x="2559960" y="4164480"/>
                <a:ext cx="1440" cy="27756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8" name=""/>
              <p:cNvSpPr/>
              <p:nvPr/>
            </p:nvSpPr>
            <p:spPr>
              <a:xfrm>
                <a:off x="2561760" y="4164480"/>
                <a:ext cx="1080" cy="277560"/>
              </a:xfrm>
              <a:prstGeom prst="rect">
                <a:avLst/>
              </a:prstGeom>
              <a:solidFill>
                <a:srgbClr val="d0d0d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9" name=""/>
              <p:cNvSpPr/>
              <p:nvPr/>
            </p:nvSpPr>
            <p:spPr>
              <a:xfrm>
                <a:off x="2561760" y="4164480"/>
                <a:ext cx="1080" cy="277560"/>
              </a:xfrm>
              <a:prstGeom prst="rect">
                <a:avLst/>
              </a:prstGeom>
              <a:solidFill>
                <a:srgbClr val="cecec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0" name=""/>
              <p:cNvSpPr/>
              <p:nvPr/>
            </p:nvSpPr>
            <p:spPr>
              <a:xfrm>
                <a:off x="2562840" y="4164480"/>
                <a:ext cx="1080" cy="277560"/>
              </a:xfrm>
              <a:prstGeom prst="rect">
                <a:avLst/>
              </a:prstGeom>
              <a:solidFill>
                <a:srgbClr val="cc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1" name=""/>
              <p:cNvSpPr/>
              <p:nvPr/>
            </p:nvSpPr>
            <p:spPr>
              <a:xfrm>
                <a:off x="2562840" y="4164480"/>
                <a:ext cx="1080" cy="277560"/>
              </a:xfrm>
              <a:prstGeom prst="rect">
                <a:avLst/>
              </a:prstGeom>
              <a:solidFill>
                <a:srgbClr val="cbcbc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2" name=""/>
              <p:cNvSpPr/>
              <p:nvPr/>
            </p:nvSpPr>
            <p:spPr>
              <a:xfrm>
                <a:off x="2563920" y="4164480"/>
                <a:ext cx="1440" cy="277560"/>
              </a:xfrm>
              <a:prstGeom prst="rect">
                <a:avLst/>
              </a:prstGeom>
              <a:solidFill>
                <a:srgbClr val="c9c9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3" name=""/>
              <p:cNvSpPr/>
              <p:nvPr/>
            </p:nvSpPr>
            <p:spPr>
              <a:xfrm>
                <a:off x="2565720" y="4164480"/>
                <a:ext cx="1080" cy="277560"/>
              </a:xfrm>
              <a:prstGeom prst="rect">
                <a:avLst/>
              </a:prstGeom>
              <a:solidFill>
                <a:srgbClr val="c7c7c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4" name=""/>
              <p:cNvSpPr/>
              <p:nvPr/>
            </p:nvSpPr>
            <p:spPr>
              <a:xfrm>
                <a:off x="2565720" y="4164480"/>
                <a:ext cx="1080" cy="27756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5" name=""/>
              <p:cNvSpPr/>
              <p:nvPr/>
            </p:nvSpPr>
            <p:spPr>
              <a:xfrm>
                <a:off x="2566800" y="4164480"/>
                <a:ext cx="1440" cy="277560"/>
              </a:xfrm>
              <a:prstGeom prst="rect">
                <a:avLst/>
              </a:prstGeom>
              <a:solidFill>
                <a:srgbClr val="c4c4c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6" name=""/>
              <p:cNvSpPr/>
              <p:nvPr/>
            </p:nvSpPr>
            <p:spPr>
              <a:xfrm>
                <a:off x="2568240" y="4164480"/>
                <a:ext cx="1080" cy="277560"/>
              </a:xfrm>
              <a:prstGeom prst="rect">
                <a:avLst/>
              </a:prstGeom>
              <a:solidFill>
                <a:srgbClr val="c3c3c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7" name=""/>
              <p:cNvSpPr/>
              <p:nvPr/>
            </p:nvSpPr>
            <p:spPr>
              <a:xfrm>
                <a:off x="2568240" y="4164480"/>
                <a:ext cx="108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8" name=""/>
              <p:cNvSpPr/>
              <p:nvPr/>
            </p:nvSpPr>
            <p:spPr>
              <a:xfrm>
                <a:off x="2569680" y="4164480"/>
                <a:ext cx="1440" cy="27756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9" name=""/>
              <p:cNvSpPr/>
              <p:nvPr/>
            </p:nvSpPr>
            <p:spPr>
              <a:xfrm>
                <a:off x="2569680" y="4164480"/>
                <a:ext cx="144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0" name=""/>
              <p:cNvSpPr/>
              <p:nvPr/>
            </p:nvSpPr>
            <p:spPr>
              <a:xfrm>
                <a:off x="2571120" y="4164480"/>
                <a:ext cx="1080" cy="277560"/>
              </a:xfrm>
              <a:prstGeom prst="rect">
                <a:avLst/>
              </a:prstGeom>
              <a:solidFill>
                <a:srgbClr val="bdbdb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1" name=""/>
              <p:cNvSpPr/>
              <p:nvPr/>
            </p:nvSpPr>
            <p:spPr>
              <a:xfrm>
                <a:off x="2572560" y="4164480"/>
                <a:ext cx="1080" cy="27756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2" name=""/>
              <p:cNvSpPr/>
              <p:nvPr/>
            </p:nvSpPr>
            <p:spPr>
              <a:xfrm>
                <a:off x="2572560" y="4164480"/>
                <a:ext cx="1080" cy="277560"/>
              </a:xfrm>
              <a:prstGeom prst="rect">
                <a:avLst/>
              </a:prstGeom>
              <a:solidFill>
                <a:srgbClr val="babab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3" name=""/>
              <p:cNvSpPr/>
              <p:nvPr/>
            </p:nvSpPr>
            <p:spPr>
              <a:xfrm>
                <a:off x="2573640" y="4164480"/>
                <a:ext cx="1440" cy="27756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4" name=""/>
              <p:cNvSpPr/>
              <p:nvPr/>
            </p:nvSpPr>
            <p:spPr>
              <a:xfrm>
                <a:off x="2575080" y="4164480"/>
                <a:ext cx="1080" cy="277560"/>
              </a:xfrm>
              <a:prstGeom prst="rect">
                <a:avLst/>
              </a:prstGeom>
              <a:solidFill>
                <a:srgbClr val="b7b7b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5" name=""/>
              <p:cNvSpPr/>
              <p:nvPr/>
            </p:nvSpPr>
            <p:spPr>
              <a:xfrm>
                <a:off x="2575080" y="4164480"/>
                <a:ext cx="1080" cy="277560"/>
              </a:xfrm>
              <a:prstGeom prst="rect">
                <a:avLst/>
              </a:prstGeom>
              <a:solidFill>
                <a:srgbClr val="b5b5b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6" name=""/>
              <p:cNvSpPr/>
              <p:nvPr/>
            </p:nvSpPr>
            <p:spPr>
              <a:xfrm>
                <a:off x="2576520" y="4164480"/>
                <a:ext cx="1440" cy="27756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7" name=""/>
              <p:cNvSpPr/>
              <p:nvPr/>
            </p:nvSpPr>
            <p:spPr>
              <a:xfrm>
                <a:off x="2493360" y="4164480"/>
                <a:ext cx="81720" cy="276480"/>
              </a:xfrm>
              <a:custGeom>
                <a:avLst/>
                <a:gdLst/>
                <a:ahLst/>
                <a:rect l="l" t="t" r="r" b="b"/>
                <a:pathLst>
                  <a:path w="120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0" y="496"/>
                    </a:lnTo>
                    <a:lnTo>
                      <a:pt x="113" y="495"/>
                    </a:lnTo>
                    <a:lnTo>
                      <a:pt x="115" y="492"/>
                    </a:lnTo>
                    <a:lnTo>
                      <a:pt x="118" y="491"/>
                    </a:lnTo>
                    <a:lnTo>
                      <a:pt x="119" y="487"/>
                    </a:lnTo>
                    <a:lnTo>
                      <a:pt x="120" y="484"/>
                    </a:lnTo>
                    <a:lnTo>
                      <a:pt x="120" y="482"/>
                    </a:lnTo>
                    <a:lnTo>
                      <a:pt x="120" y="482"/>
                    </a:lnTo>
                    <a:lnTo>
                      <a:pt x="120" y="16"/>
                    </a:lnTo>
                    <a:lnTo>
                      <a:pt x="120" y="12"/>
                    </a:lnTo>
                    <a:lnTo>
                      <a:pt x="119" y="10"/>
                    </a:lnTo>
                    <a:lnTo>
                      <a:pt x="118" y="7"/>
                    </a:lnTo>
                    <a:lnTo>
                      <a:pt x="115" y="5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82"/>
                    </a:lnTo>
                    <a:lnTo>
                      <a:pt x="0" y="484"/>
                    </a:lnTo>
                    <a:lnTo>
                      <a:pt x="1" y="487"/>
                    </a:lnTo>
                    <a:lnTo>
                      <a:pt x="3" y="491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4" y="497"/>
                    </a:lnTo>
                    <a:lnTo>
                      <a:pt x="18" y="497"/>
                    </a:lnTo>
                    <a:lnTo>
                      <a:pt x="103" y="497"/>
                    </a:lnTo>
                    <a:lnTo>
                      <a:pt x="103" y="497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8" name=""/>
              <p:cNvSpPr/>
              <p:nvPr/>
            </p:nvSpPr>
            <p:spPr>
              <a:xfrm>
                <a:off x="6597360" y="4165560"/>
                <a:ext cx="81720" cy="276480"/>
              </a:xfrm>
              <a:custGeom>
                <a:avLst/>
                <a:gdLst/>
                <a:ahLst/>
                <a:rect l="l" t="t" r="r" b="b"/>
                <a:pathLst>
                  <a:path w="121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1" y="496"/>
                    </a:lnTo>
                    <a:lnTo>
                      <a:pt x="113" y="495"/>
                    </a:lnTo>
                    <a:lnTo>
                      <a:pt x="116" y="492"/>
                    </a:lnTo>
                    <a:lnTo>
                      <a:pt x="118" y="490"/>
                    </a:lnTo>
                    <a:lnTo>
                      <a:pt x="119" y="487"/>
                    </a:lnTo>
                    <a:lnTo>
                      <a:pt x="121" y="485"/>
                    </a:lnTo>
                    <a:lnTo>
                      <a:pt x="121" y="481"/>
                    </a:lnTo>
                    <a:lnTo>
                      <a:pt x="121" y="15"/>
                    </a:lnTo>
                    <a:lnTo>
                      <a:pt x="121" y="11"/>
                    </a:lnTo>
                    <a:lnTo>
                      <a:pt x="119" y="9"/>
                    </a:lnTo>
                    <a:lnTo>
                      <a:pt x="118" y="6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11" y="1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2" y="487"/>
                    </a:lnTo>
                    <a:lnTo>
                      <a:pt x="3" y="490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3" y="497"/>
                    </a:lnTo>
                    <a:lnTo>
                      <a:pt x="17" y="497"/>
                    </a:lnTo>
                    <a:lnTo>
                      <a:pt x="103" y="497"/>
                    </a:lnTo>
                    <a:lnTo>
                      <a:pt x="10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9" name=""/>
              <p:cNvSpPr/>
              <p:nvPr/>
            </p:nvSpPr>
            <p:spPr>
              <a:xfrm>
                <a:off x="6595920" y="4164480"/>
                <a:ext cx="83880" cy="27756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0" name=""/>
              <p:cNvSpPr/>
              <p:nvPr/>
            </p:nvSpPr>
            <p:spPr>
              <a:xfrm>
                <a:off x="6595920" y="4164480"/>
                <a:ext cx="1080" cy="27756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1" name=""/>
              <p:cNvSpPr/>
              <p:nvPr/>
            </p:nvSpPr>
            <p:spPr>
              <a:xfrm>
                <a:off x="6597360" y="4164480"/>
                <a:ext cx="1440" cy="277560"/>
              </a:xfrm>
              <a:prstGeom prst="rect">
                <a:avLst/>
              </a:prstGeom>
              <a:solidFill>
                <a:srgbClr val="b4b4b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2" name=""/>
              <p:cNvSpPr/>
              <p:nvPr/>
            </p:nvSpPr>
            <p:spPr>
              <a:xfrm>
                <a:off x="6597360" y="4164480"/>
                <a:ext cx="1440" cy="277560"/>
              </a:xfrm>
              <a:prstGeom prst="rect">
                <a:avLst/>
              </a:prstGeom>
              <a:solidFill>
                <a:srgbClr val="b6b6b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3" name=""/>
              <p:cNvSpPr/>
              <p:nvPr/>
            </p:nvSpPr>
            <p:spPr>
              <a:xfrm>
                <a:off x="6598800" y="4164480"/>
                <a:ext cx="1080" cy="27756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4" name=""/>
              <p:cNvSpPr/>
              <p:nvPr/>
            </p:nvSpPr>
            <p:spPr>
              <a:xfrm>
                <a:off x="6598800" y="4164480"/>
                <a:ext cx="1080" cy="277560"/>
              </a:xfrm>
              <a:prstGeom prst="rect">
                <a:avLst/>
              </a:prstGeom>
              <a:solidFill>
                <a:srgbClr val="b9b9b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5" name=""/>
              <p:cNvSpPr/>
              <p:nvPr/>
            </p:nvSpPr>
            <p:spPr>
              <a:xfrm>
                <a:off x="6600240" y="4164480"/>
                <a:ext cx="1440" cy="277560"/>
              </a:xfrm>
              <a:prstGeom prst="rect">
                <a:avLst/>
              </a:prstGeom>
              <a:solidFill>
                <a:srgbClr val="bbbbb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6" name=""/>
              <p:cNvSpPr/>
              <p:nvPr/>
            </p:nvSpPr>
            <p:spPr>
              <a:xfrm>
                <a:off x="6601680" y="4164480"/>
                <a:ext cx="1080" cy="277560"/>
              </a:xfrm>
              <a:prstGeom prst="rect">
                <a:avLst/>
              </a:prstGeom>
              <a:solidFill>
                <a:srgbClr val="bcbcb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7" name=""/>
              <p:cNvSpPr/>
              <p:nvPr/>
            </p:nvSpPr>
            <p:spPr>
              <a:xfrm>
                <a:off x="6601680" y="4164480"/>
                <a:ext cx="108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8" name=""/>
              <p:cNvSpPr/>
              <p:nvPr/>
            </p:nvSpPr>
            <p:spPr>
              <a:xfrm>
                <a:off x="6602760" y="4164480"/>
                <a:ext cx="1080" cy="277560"/>
              </a:xfrm>
              <a:prstGeom prst="rect">
                <a:avLst/>
              </a:prstGeom>
              <a:solidFill>
                <a:srgbClr val="bfbfb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9" name=""/>
              <p:cNvSpPr/>
              <p:nvPr/>
            </p:nvSpPr>
            <p:spPr>
              <a:xfrm>
                <a:off x="6604200" y="4164480"/>
                <a:ext cx="144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0" name=""/>
              <p:cNvSpPr/>
              <p:nvPr/>
            </p:nvSpPr>
            <p:spPr>
              <a:xfrm>
                <a:off x="6604200" y="4164480"/>
                <a:ext cx="1440" cy="277560"/>
              </a:xfrm>
              <a:prstGeom prst="rect">
                <a:avLst/>
              </a:prstGeom>
              <a:solidFill>
                <a:srgbClr val="c2c2c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1" name=""/>
              <p:cNvSpPr/>
              <p:nvPr/>
            </p:nvSpPr>
            <p:spPr>
              <a:xfrm>
                <a:off x="6605640" y="4164480"/>
                <a:ext cx="1080" cy="277560"/>
              </a:xfrm>
              <a:prstGeom prst="rect">
                <a:avLst/>
              </a:prstGeom>
              <a:solidFill>
                <a:srgbClr val="c4c4c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2" name=""/>
              <p:cNvSpPr/>
              <p:nvPr/>
            </p:nvSpPr>
            <p:spPr>
              <a:xfrm>
                <a:off x="6605640" y="4164480"/>
                <a:ext cx="1080" cy="277560"/>
              </a:xfrm>
              <a:prstGeom prst="rect">
                <a:avLst/>
              </a:prstGeom>
              <a:solidFill>
                <a:srgbClr val="c5c5c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3" name=""/>
              <p:cNvSpPr/>
              <p:nvPr/>
            </p:nvSpPr>
            <p:spPr>
              <a:xfrm>
                <a:off x="6606720" y="4164480"/>
                <a:ext cx="1440" cy="277560"/>
              </a:xfrm>
              <a:prstGeom prst="rect">
                <a:avLst/>
              </a:prstGeom>
              <a:solidFill>
                <a:srgbClr val="c7c7c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4" name=""/>
              <p:cNvSpPr/>
              <p:nvPr/>
            </p:nvSpPr>
            <p:spPr>
              <a:xfrm>
                <a:off x="6608520" y="4164480"/>
                <a:ext cx="1080" cy="277560"/>
              </a:xfrm>
              <a:prstGeom prst="rect">
                <a:avLst/>
              </a:prstGeom>
              <a:solidFill>
                <a:srgbClr val="c9c9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5" name=""/>
              <p:cNvSpPr/>
              <p:nvPr/>
            </p:nvSpPr>
            <p:spPr>
              <a:xfrm>
                <a:off x="6608520" y="4164480"/>
                <a:ext cx="1080" cy="277560"/>
              </a:xfrm>
              <a:prstGeom prst="rect">
                <a:avLst/>
              </a:prstGeom>
              <a:solidFill>
                <a:srgbClr val="cacac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6" name=""/>
              <p:cNvSpPr/>
              <p:nvPr/>
            </p:nvSpPr>
            <p:spPr>
              <a:xfrm>
                <a:off x="6609600" y="4164480"/>
                <a:ext cx="1080" cy="277560"/>
              </a:xfrm>
              <a:prstGeom prst="rect">
                <a:avLst/>
              </a:prstGeom>
              <a:solidFill>
                <a:srgbClr val="ccccc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7" name=""/>
              <p:cNvSpPr/>
              <p:nvPr/>
            </p:nvSpPr>
            <p:spPr>
              <a:xfrm>
                <a:off x="6611040" y="4164480"/>
                <a:ext cx="1440" cy="2775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8" name=""/>
              <p:cNvSpPr/>
              <p:nvPr/>
            </p:nvSpPr>
            <p:spPr>
              <a:xfrm>
                <a:off x="6611040" y="4164480"/>
                <a:ext cx="1440" cy="27756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9" name=""/>
              <p:cNvSpPr/>
              <p:nvPr/>
            </p:nvSpPr>
            <p:spPr>
              <a:xfrm>
                <a:off x="6612480" y="4164480"/>
                <a:ext cx="1080" cy="27756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0" name=""/>
              <p:cNvSpPr/>
              <p:nvPr/>
            </p:nvSpPr>
            <p:spPr>
              <a:xfrm>
                <a:off x="6612480" y="416448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1" name=""/>
              <p:cNvSpPr/>
              <p:nvPr/>
            </p:nvSpPr>
            <p:spPr>
              <a:xfrm>
                <a:off x="6613560" y="4164480"/>
                <a:ext cx="1440" cy="27756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2" name=""/>
              <p:cNvSpPr/>
              <p:nvPr/>
            </p:nvSpPr>
            <p:spPr>
              <a:xfrm>
                <a:off x="6615360" y="4164480"/>
                <a:ext cx="108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3" name=""/>
              <p:cNvSpPr/>
              <p:nvPr/>
            </p:nvSpPr>
            <p:spPr>
              <a:xfrm>
                <a:off x="6615360" y="4164480"/>
                <a:ext cx="1080" cy="277560"/>
              </a:xfrm>
              <a:prstGeom prst="rect">
                <a:avLst/>
              </a:prstGeom>
              <a:solidFill>
                <a:srgbClr val="d6d6d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4" name=""/>
              <p:cNvSpPr/>
              <p:nvPr/>
            </p:nvSpPr>
            <p:spPr>
              <a:xfrm>
                <a:off x="6616440" y="4164480"/>
                <a:ext cx="1080" cy="27756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5" name=""/>
              <p:cNvSpPr/>
              <p:nvPr/>
            </p:nvSpPr>
            <p:spPr>
              <a:xfrm>
                <a:off x="6617520" y="4164480"/>
                <a:ext cx="1440" cy="27756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6" name=""/>
              <p:cNvSpPr/>
              <p:nvPr/>
            </p:nvSpPr>
            <p:spPr>
              <a:xfrm>
                <a:off x="6617520" y="4164480"/>
                <a:ext cx="1440" cy="27756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619320" y="4164480"/>
                <a:ext cx="1080" cy="27756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619320" y="4164480"/>
                <a:ext cx="1080" cy="277560"/>
              </a:xfrm>
              <a:prstGeom prst="rect">
                <a:avLst/>
              </a:prstGeom>
              <a:solidFill>
                <a:srgbClr val="deded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620400" y="4164480"/>
                <a:ext cx="1440" cy="277560"/>
              </a:xfrm>
              <a:prstGeom prst="rect">
                <a:avLst/>
              </a:prstGeom>
              <a:solidFill>
                <a:srgbClr val="e0e0e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0" name=""/>
              <p:cNvSpPr/>
              <p:nvPr/>
            </p:nvSpPr>
            <p:spPr>
              <a:xfrm>
                <a:off x="6621840" y="4164480"/>
                <a:ext cx="1080" cy="277560"/>
              </a:xfrm>
              <a:prstGeom prst="rect">
                <a:avLst/>
              </a:prstGeom>
              <a:solidFill>
                <a:srgbClr val="e2e2e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1" name=""/>
              <p:cNvSpPr/>
              <p:nvPr/>
            </p:nvSpPr>
            <p:spPr>
              <a:xfrm>
                <a:off x="6621840" y="4164480"/>
                <a:ext cx="1080" cy="27756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2" name=""/>
              <p:cNvSpPr/>
              <p:nvPr/>
            </p:nvSpPr>
            <p:spPr>
              <a:xfrm>
                <a:off x="6623280" y="4164480"/>
                <a:ext cx="1440" cy="27756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624720" y="4164480"/>
                <a:ext cx="1080" cy="2775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624720" y="4164480"/>
                <a:ext cx="1080" cy="277560"/>
              </a:xfrm>
              <a:prstGeom prst="rect">
                <a:avLst/>
              </a:prstGeom>
              <a:solidFill>
                <a:srgbClr val="e8e8e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626160" y="4164480"/>
                <a:ext cx="108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6" name=""/>
              <p:cNvSpPr/>
              <p:nvPr/>
            </p:nvSpPr>
            <p:spPr>
              <a:xfrm>
                <a:off x="6626160" y="4164480"/>
                <a:ext cx="1080" cy="27756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7" name=""/>
              <p:cNvSpPr/>
              <p:nvPr/>
            </p:nvSpPr>
            <p:spPr>
              <a:xfrm>
                <a:off x="6627240" y="4164480"/>
                <a:ext cx="144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8" name=""/>
              <p:cNvSpPr/>
              <p:nvPr/>
            </p:nvSpPr>
            <p:spPr>
              <a:xfrm>
                <a:off x="6628680" y="4164480"/>
                <a:ext cx="1080" cy="277560"/>
              </a:xfrm>
              <a:prstGeom prst="rect">
                <a:avLst/>
              </a:prstGeom>
              <a:solidFill>
                <a:srgbClr val="eeeee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9" name=""/>
              <p:cNvSpPr/>
              <p:nvPr/>
            </p:nvSpPr>
            <p:spPr>
              <a:xfrm>
                <a:off x="6628680" y="4164480"/>
                <a:ext cx="1080" cy="277560"/>
              </a:xfrm>
              <a:prstGeom prst="rect">
                <a:avLst/>
              </a:prstGeom>
              <a:solidFill>
                <a:srgbClr val="efefe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0" name=""/>
              <p:cNvSpPr/>
              <p:nvPr/>
            </p:nvSpPr>
            <p:spPr>
              <a:xfrm>
                <a:off x="6630120" y="4164480"/>
                <a:ext cx="1440" cy="277560"/>
              </a:xfrm>
              <a:prstGeom prst="rect">
                <a:avLst/>
              </a:prstGeom>
              <a:solidFill>
                <a:srgbClr val="f1f1f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1" name=""/>
              <p:cNvSpPr/>
              <p:nvPr/>
            </p:nvSpPr>
            <p:spPr>
              <a:xfrm>
                <a:off x="6631560" y="4164480"/>
                <a:ext cx="1080" cy="277560"/>
              </a:xfrm>
              <a:prstGeom prst="rect">
                <a:avLst/>
              </a:prstGeom>
              <a:solidFill>
                <a:srgbClr val="f2f2f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2" name=""/>
              <p:cNvSpPr/>
              <p:nvPr/>
            </p:nvSpPr>
            <p:spPr>
              <a:xfrm>
                <a:off x="6631560" y="4164480"/>
                <a:ext cx="1080" cy="277560"/>
              </a:xfrm>
              <a:prstGeom prst="rect">
                <a:avLst/>
              </a:prstGeom>
              <a:solidFill>
                <a:srgbClr val="f4f4f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3" name=""/>
              <p:cNvSpPr/>
              <p:nvPr/>
            </p:nvSpPr>
            <p:spPr>
              <a:xfrm>
                <a:off x="6632640" y="4164480"/>
                <a:ext cx="1080" cy="277560"/>
              </a:xfrm>
              <a:prstGeom prst="rect">
                <a:avLst/>
              </a:prstGeom>
              <a:solidFill>
                <a:srgbClr val="f6f6f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4" name=""/>
              <p:cNvSpPr/>
              <p:nvPr/>
            </p:nvSpPr>
            <p:spPr>
              <a:xfrm>
                <a:off x="6632640" y="4164480"/>
                <a:ext cx="1080" cy="277560"/>
              </a:xfrm>
              <a:prstGeom prst="rect">
                <a:avLst/>
              </a:prstGeom>
              <a:solidFill>
                <a:srgbClr val="f7f7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5" name=""/>
              <p:cNvSpPr/>
              <p:nvPr/>
            </p:nvSpPr>
            <p:spPr>
              <a:xfrm>
                <a:off x="6634080" y="4164480"/>
                <a:ext cx="1440" cy="277560"/>
              </a:xfrm>
              <a:prstGeom prst="rect">
                <a:avLst/>
              </a:prstGeom>
              <a:solidFill>
                <a:srgbClr val="f9f9f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6" name=""/>
              <p:cNvSpPr/>
              <p:nvPr/>
            </p:nvSpPr>
            <p:spPr>
              <a:xfrm>
                <a:off x="6635520" y="4164480"/>
                <a:ext cx="1080" cy="277560"/>
              </a:xfrm>
              <a:prstGeom prst="rect">
                <a:avLst/>
              </a:prstGeom>
              <a:solidFill>
                <a:srgbClr val="fafaf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7" name=""/>
              <p:cNvSpPr/>
              <p:nvPr/>
            </p:nvSpPr>
            <p:spPr>
              <a:xfrm>
                <a:off x="6635520" y="4164480"/>
                <a:ext cx="1080" cy="277560"/>
              </a:xfrm>
              <a:prstGeom prst="rect">
                <a:avLst/>
              </a:prstGeom>
              <a:solidFill>
                <a:srgbClr val="fcfcf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8" name=""/>
              <p:cNvSpPr/>
              <p:nvPr/>
            </p:nvSpPr>
            <p:spPr>
              <a:xfrm>
                <a:off x="6636960" y="4164480"/>
                <a:ext cx="1440" cy="277560"/>
              </a:xfrm>
              <a:prstGeom prst="rect">
                <a:avLst/>
              </a:prstGeom>
              <a:solidFill>
                <a:srgbClr val="fdfdf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9" name=""/>
              <p:cNvSpPr/>
              <p:nvPr/>
            </p:nvSpPr>
            <p:spPr>
              <a:xfrm>
                <a:off x="6638400" y="4164480"/>
                <a:ext cx="1080" cy="277560"/>
              </a:xfrm>
              <a:prstGeom prst="rect">
                <a:avLst/>
              </a:prstGeom>
              <a:solidFill>
                <a:srgbClr val="fefef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0" name=""/>
              <p:cNvSpPr/>
              <p:nvPr/>
            </p:nvSpPr>
            <p:spPr>
              <a:xfrm>
                <a:off x="6639480" y="4164480"/>
                <a:ext cx="1080" cy="277560"/>
              </a:xfrm>
              <a:prstGeom prst="rect">
                <a:avLst/>
              </a:prstGeom>
              <a:solidFill>
                <a:srgbClr val="fdfdf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1" name=""/>
              <p:cNvSpPr/>
              <p:nvPr/>
            </p:nvSpPr>
            <p:spPr>
              <a:xfrm>
                <a:off x="6640920" y="4164480"/>
                <a:ext cx="1440" cy="277560"/>
              </a:xfrm>
              <a:prstGeom prst="rect">
                <a:avLst/>
              </a:prstGeom>
              <a:solidFill>
                <a:srgbClr val="fbfbf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2" name=""/>
              <p:cNvSpPr/>
              <p:nvPr/>
            </p:nvSpPr>
            <p:spPr>
              <a:xfrm>
                <a:off x="6640920" y="4164480"/>
                <a:ext cx="1440" cy="277560"/>
              </a:xfrm>
              <a:prstGeom prst="rect">
                <a:avLst/>
              </a:prstGeom>
              <a:solidFill>
                <a:srgbClr val="fafaf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3" name=""/>
              <p:cNvSpPr/>
              <p:nvPr/>
            </p:nvSpPr>
            <p:spPr>
              <a:xfrm>
                <a:off x="6642360" y="4164480"/>
                <a:ext cx="1080" cy="2775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4" name=""/>
              <p:cNvSpPr/>
              <p:nvPr/>
            </p:nvSpPr>
            <p:spPr>
              <a:xfrm>
                <a:off x="6642360" y="4164480"/>
                <a:ext cx="1080" cy="277560"/>
              </a:xfrm>
              <a:prstGeom prst="rect">
                <a:avLst/>
              </a:prstGeom>
              <a:solidFill>
                <a:srgbClr val="f7f7f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5" name=""/>
              <p:cNvSpPr/>
              <p:nvPr/>
            </p:nvSpPr>
            <p:spPr>
              <a:xfrm>
                <a:off x="6643440" y="4164480"/>
                <a:ext cx="1440" cy="277560"/>
              </a:xfrm>
              <a:prstGeom prst="rect">
                <a:avLst/>
              </a:prstGeom>
              <a:solidFill>
                <a:srgbClr val="f5f5f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6" name=""/>
              <p:cNvSpPr/>
              <p:nvPr/>
            </p:nvSpPr>
            <p:spPr>
              <a:xfrm>
                <a:off x="6645240" y="4164480"/>
                <a:ext cx="1080" cy="277560"/>
              </a:xfrm>
              <a:prstGeom prst="rect">
                <a:avLst/>
              </a:prstGeom>
              <a:solidFill>
                <a:srgbClr val="f4f4f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7" name=""/>
              <p:cNvSpPr/>
              <p:nvPr/>
            </p:nvSpPr>
            <p:spPr>
              <a:xfrm>
                <a:off x="6645240" y="4164480"/>
                <a:ext cx="1080" cy="277560"/>
              </a:xfrm>
              <a:prstGeom prst="rect">
                <a:avLst/>
              </a:prstGeom>
              <a:solidFill>
                <a:srgbClr val="f2f2f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8" name=""/>
              <p:cNvSpPr/>
              <p:nvPr/>
            </p:nvSpPr>
            <p:spPr>
              <a:xfrm>
                <a:off x="6646320" y="4164480"/>
                <a:ext cx="1080" cy="277560"/>
              </a:xfrm>
              <a:prstGeom prst="rect">
                <a:avLst/>
              </a:prstGeom>
              <a:solidFill>
                <a:srgbClr val="f0f0f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9" name=""/>
              <p:cNvSpPr/>
              <p:nvPr/>
            </p:nvSpPr>
            <p:spPr>
              <a:xfrm>
                <a:off x="6647760" y="4164480"/>
                <a:ext cx="1440" cy="277560"/>
              </a:xfrm>
              <a:prstGeom prst="rect">
                <a:avLst/>
              </a:prstGeom>
              <a:solidFill>
                <a:srgbClr val="efefe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0" name=""/>
              <p:cNvSpPr/>
              <p:nvPr/>
            </p:nvSpPr>
            <p:spPr>
              <a:xfrm>
                <a:off x="6647760" y="4164480"/>
                <a:ext cx="1440" cy="277560"/>
              </a:xfrm>
              <a:prstGeom prst="rect">
                <a:avLst/>
              </a:prstGeom>
              <a:solidFill>
                <a:srgbClr val="edede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1" name=""/>
              <p:cNvSpPr/>
              <p:nvPr/>
            </p:nvSpPr>
            <p:spPr>
              <a:xfrm>
                <a:off x="6649200" y="4164480"/>
                <a:ext cx="1080" cy="277560"/>
              </a:xfrm>
              <a:prstGeom prst="rect">
                <a:avLst/>
              </a:prstGeom>
              <a:solidFill>
                <a:srgbClr val="ecece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2" name=""/>
              <p:cNvSpPr/>
              <p:nvPr/>
            </p:nvSpPr>
            <p:spPr>
              <a:xfrm>
                <a:off x="6649200" y="4164480"/>
                <a:ext cx="1080" cy="27756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3" name=""/>
              <p:cNvSpPr/>
              <p:nvPr/>
            </p:nvSpPr>
            <p:spPr>
              <a:xfrm>
                <a:off x="6650280" y="4164480"/>
                <a:ext cx="1440" cy="277560"/>
              </a:xfrm>
              <a:prstGeom prst="rect">
                <a:avLst/>
              </a:prstGeom>
              <a:solidFill>
                <a:srgbClr val="e9e9e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4" name=""/>
              <p:cNvSpPr/>
              <p:nvPr/>
            </p:nvSpPr>
            <p:spPr>
              <a:xfrm>
                <a:off x="6652080" y="4164480"/>
                <a:ext cx="1080" cy="277560"/>
              </a:xfrm>
              <a:prstGeom prst="rect">
                <a:avLst/>
              </a:prstGeom>
              <a:solidFill>
                <a:srgbClr val="e7e7e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5" name=""/>
              <p:cNvSpPr/>
              <p:nvPr/>
            </p:nvSpPr>
            <p:spPr>
              <a:xfrm>
                <a:off x="6652080" y="4164480"/>
                <a:ext cx="1080" cy="2775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6" name=""/>
              <p:cNvSpPr/>
              <p:nvPr/>
            </p:nvSpPr>
            <p:spPr>
              <a:xfrm>
                <a:off x="6653160" y="4164480"/>
                <a:ext cx="1440" cy="277560"/>
              </a:xfrm>
              <a:prstGeom prst="rect">
                <a:avLst/>
              </a:prstGeom>
              <a:solidFill>
                <a:srgbClr val="e4e4e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7" name=""/>
              <p:cNvSpPr/>
              <p:nvPr/>
            </p:nvSpPr>
            <p:spPr>
              <a:xfrm>
                <a:off x="6654600" y="4164480"/>
                <a:ext cx="1080" cy="27756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8" name=""/>
              <p:cNvSpPr/>
              <p:nvPr/>
            </p:nvSpPr>
            <p:spPr>
              <a:xfrm>
                <a:off x="6654600" y="4164480"/>
                <a:ext cx="1080" cy="27756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9" name=""/>
              <p:cNvSpPr/>
              <p:nvPr/>
            </p:nvSpPr>
            <p:spPr>
              <a:xfrm>
                <a:off x="6656040" y="4164480"/>
                <a:ext cx="1080" cy="27756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0" name=""/>
              <p:cNvSpPr/>
              <p:nvPr/>
            </p:nvSpPr>
            <p:spPr>
              <a:xfrm>
                <a:off x="6656040" y="4164480"/>
                <a:ext cx="1080" cy="277560"/>
              </a:xfrm>
              <a:prstGeom prst="rect">
                <a:avLst/>
              </a:prstGeom>
              <a:solidFill>
                <a:srgbClr val="deded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1" name=""/>
              <p:cNvSpPr/>
              <p:nvPr/>
            </p:nvSpPr>
            <p:spPr>
              <a:xfrm>
                <a:off x="6657120" y="4164480"/>
                <a:ext cx="1440" cy="277560"/>
              </a:xfrm>
              <a:prstGeom prst="rect">
                <a:avLst/>
              </a:prstGeom>
              <a:solidFill>
                <a:srgbClr val="dcdcd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2" name=""/>
              <p:cNvSpPr/>
              <p:nvPr/>
            </p:nvSpPr>
            <p:spPr>
              <a:xfrm>
                <a:off x="6658560" y="4164480"/>
                <a:ext cx="1080" cy="27756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3" name=""/>
              <p:cNvSpPr/>
              <p:nvPr/>
            </p:nvSpPr>
            <p:spPr>
              <a:xfrm>
                <a:off x="6658560" y="4164480"/>
                <a:ext cx="1080" cy="27756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4" name=""/>
              <p:cNvSpPr/>
              <p:nvPr/>
            </p:nvSpPr>
            <p:spPr>
              <a:xfrm>
                <a:off x="6660000" y="4164480"/>
                <a:ext cx="1440" cy="27756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5" name=""/>
              <p:cNvSpPr/>
              <p:nvPr/>
            </p:nvSpPr>
            <p:spPr>
              <a:xfrm>
                <a:off x="6661440" y="4164480"/>
                <a:ext cx="1080" cy="277560"/>
              </a:xfrm>
              <a:prstGeom prst="rect">
                <a:avLst/>
              </a:prstGeom>
              <a:solidFill>
                <a:srgbClr val="d6d6d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6" name=""/>
              <p:cNvSpPr/>
              <p:nvPr/>
            </p:nvSpPr>
            <p:spPr>
              <a:xfrm>
                <a:off x="6661440" y="4164480"/>
                <a:ext cx="1080" cy="27756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7" name=""/>
              <p:cNvSpPr/>
              <p:nvPr/>
            </p:nvSpPr>
            <p:spPr>
              <a:xfrm>
                <a:off x="6662880" y="4164480"/>
                <a:ext cx="1080" cy="27756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8" name=""/>
              <p:cNvSpPr/>
              <p:nvPr/>
            </p:nvSpPr>
            <p:spPr>
              <a:xfrm>
                <a:off x="6662880" y="4164480"/>
                <a:ext cx="1080" cy="277560"/>
              </a:xfrm>
              <a:prstGeom prst="rect">
                <a:avLst/>
              </a:prstGeom>
              <a:solidFill>
                <a:srgbClr val="d2d2d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9" name=""/>
              <p:cNvSpPr/>
              <p:nvPr/>
            </p:nvSpPr>
            <p:spPr>
              <a:xfrm>
                <a:off x="6663960" y="4164480"/>
                <a:ext cx="1440" cy="277560"/>
              </a:xfrm>
              <a:prstGeom prst="rect">
                <a:avLst/>
              </a:prstGeom>
              <a:solidFill>
                <a:srgbClr val="d0d0d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0" name=""/>
              <p:cNvSpPr/>
              <p:nvPr/>
            </p:nvSpPr>
            <p:spPr>
              <a:xfrm>
                <a:off x="6665400" y="4164480"/>
                <a:ext cx="1080" cy="27756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1" name=""/>
              <p:cNvSpPr/>
              <p:nvPr/>
            </p:nvSpPr>
            <p:spPr>
              <a:xfrm>
                <a:off x="6665400" y="4164480"/>
                <a:ext cx="1080" cy="2775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2" name=""/>
              <p:cNvSpPr/>
              <p:nvPr/>
            </p:nvSpPr>
            <p:spPr>
              <a:xfrm>
                <a:off x="6666840" y="4164480"/>
                <a:ext cx="1440" cy="277560"/>
              </a:xfrm>
              <a:prstGeom prst="rect">
                <a:avLst/>
              </a:prstGeom>
              <a:solidFill>
                <a:srgbClr val="cbcbc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3" name=""/>
              <p:cNvSpPr/>
              <p:nvPr/>
            </p:nvSpPr>
            <p:spPr>
              <a:xfrm>
                <a:off x="6668280" y="4164480"/>
                <a:ext cx="1080" cy="277560"/>
              </a:xfrm>
              <a:prstGeom prst="rect">
                <a:avLst/>
              </a:prstGeom>
              <a:solidFill>
                <a:srgbClr val="cacac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4" name=""/>
              <p:cNvSpPr/>
              <p:nvPr/>
            </p:nvSpPr>
            <p:spPr>
              <a:xfrm>
                <a:off x="6668280" y="4164480"/>
                <a:ext cx="1080" cy="277560"/>
              </a:xfrm>
              <a:prstGeom prst="rect">
                <a:avLst/>
              </a:prstGeom>
              <a:solidFill>
                <a:srgbClr val="c8c8c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5" name=""/>
              <p:cNvSpPr/>
              <p:nvPr/>
            </p:nvSpPr>
            <p:spPr>
              <a:xfrm>
                <a:off x="6669360" y="4164480"/>
                <a:ext cx="1080" cy="27756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6" name=""/>
              <p:cNvSpPr/>
              <p:nvPr/>
            </p:nvSpPr>
            <p:spPr>
              <a:xfrm>
                <a:off x="6669360" y="4164480"/>
                <a:ext cx="1080" cy="277560"/>
              </a:xfrm>
              <a:prstGeom prst="rect">
                <a:avLst/>
              </a:prstGeom>
              <a:solidFill>
                <a:srgbClr val="c5c5c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7" name=""/>
              <p:cNvSpPr/>
              <p:nvPr/>
            </p:nvSpPr>
            <p:spPr>
              <a:xfrm>
                <a:off x="6670800" y="4164480"/>
                <a:ext cx="1440" cy="277560"/>
              </a:xfrm>
              <a:prstGeom prst="rect">
                <a:avLst/>
              </a:prstGeom>
              <a:solidFill>
                <a:srgbClr val="c3c3c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8" name=""/>
              <p:cNvSpPr/>
              <p:nvPr/>
            </p:nvSpPr>
            <p:spPr>
              <a:xfrm>
                <a:off x="6672240" y="4164480"/>
                <a:ext cx="1080" cy="277560"/>
              </a:xfrm>
              <a:prstGeom prst="rect">
                <a:avLst/>
              </a:prstGeom>
              <a:solidFill>
                <a:srgbClr val="c2c2c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9" name=""/>
              <p:cNvSpPr/>
              <p:nvPr/>
            </p:nvSpPr>
            <p:spPr>
              <a:xfrm>
                <a:off x="6672240" y="4164480"/>
                <a:ext cx="1080" cy="27756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0" name=""/>
              <p:cNvSpPr/>
              <p:nvPr/>
            </p:nvSpPr>
            <p:spPr>
              <a:xfrm>
                <a:off x="6673680" y="4164480"/>
                <a:ext cx="1440" cy="277560"/>
              </a:xfrm>
              <a:prstGeom prst="rect">
                <a:avLst/>
              </a:prstGeom>
              <a:solidFill>
                <a:srgbClr val="bfbfb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1" name=""/>
              <p:cNvSpPr/>
              <p:nvPr/>
            </p:nvSpPr>
            <p:spPr>
              <a:xfrm>
                <a:off x="6675120" y="4164480"/>
                <a:ext cx="1080" cy="277560"/>
              </a:xfrm>
              <a:prstGeom prst="rect">
                <a:avLst/>
              </a:prstGeom>
              <a:solidFill>
                <a:srgbClr val="bebeb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2" name=""/>
              <p:cNvSpPr/>
              <p:nvPr/>
            </p:nvSpPr>
            <p:spPr>
              <a:xfrm>
                <a:off x="6675120" y="4164480"/>
                <a:ext cx="1080" cy="277560"/>
              </a:xfrm>
              <a:prstGeom prst="rect">
                <a:avLst/>
              </a:prstGeom>
              <a:solidFill>
                <a:srgbClr val="bcbcb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3" name=""/>
              <p:cNvSpPr/>
              <p:nvPr/>
            </p:nvSpPr>
            <p:spPr>
              <a:xfrm>
                <a:off x="6676200" y="4164480"/>
                <a:ext cx="1080" cy="277560"/>
              </a:xfrm>
              <a:prstGeom prst="rect">
                <a:avLst/>
              </a:prstGeom>
              <a:solidFill>
                <a:srgbClr val="babab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4" name=""/>
              <p:cNvSpPr/>
              <p:nvPr/>
            </p:nvSpPr>
            <p:spPr>
              <a:xfrm>
                <a:off x="6676200" y="4164480"/>
                <a:ext cx="1080" cy="277560"/>
              </a:xfrm>
              <a:prstGeom prst="rect">
                <a:avLst/>
              </a:prstGeom>
              <a:solidFill>
                <a:srgbClr val="b9b9b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5" name=""/>
              <p:cNvSpPr/>
              <p:nvPr/>
            </p:nvSpPr>
            <p:spPr>
              <a:xfrm>
                <a:off x="6677640" y="4164480"/>
                <a:ext cx="1440" cy="277560"/>
              </a:xfrm>
              <a:prstGeom prst="rect">
                <a:avLst/>
              </a:prstGeom>
              <a:solidFill>
                <a:srgbClr val="b7b7b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6" name=""/>
              <p:cNvSpPr/>
              <p:nvPr/>
            </p:nvSpPr>
            <p:spPr>
              <a:xfrm>
                <a:off x="6679080" y="4164480"/>
                <a:ext cx="1080" cy="277560"/>
              </a:xfrm>
              <a:prstGeom prst="rect">
                <a:avLst/>
              </a:prstGeom>
              <a:solidFill>
                <a:srgbClr val="b6b6b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7" name=""/>
              <p:cNvSpPr/>
              <p:nvPr/>
            </p:nvSpPr>
            <p:spPr>
              <a:xfrm>
                <a:off x="6679080" y="4164480"/>
                <a:ext cx="2520" cy="277560"/>
              </a:xfrm>
              <a:prstGeom prst="rect">
                <a:avLst/>
              </a:prstGeom>
              <a:solidFill>
                <a:srgbClr val="b4b4b4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8" name=""/>
              <p:cNvSpPr/>
              <p:nvPr/>
            </p:nvSpPr>
            <p:spPr>
              <a:xfrm>
                <a:off x="6597360" y="4165560"/>
                <a:ext cx="81720" cy="275400"/>
              </a:xfrm>
              <a:custGeom>
                <a:avLst/>
                <a:gdLst/>
                <a:ahLst/>
                <a:rect l="l" t="t" r="r" b="b"/>
                <a:pathLst>
                  <a:path w="122" h="496">
                    <a:moveTo>
                      <a:pt x="104" y="496"/>
                    </a:moveTo>
                    <a:lnTo>
                      <a:pt x="108" y="496"/>
                    </a:lnTo>
                    <a:lnTo>
                      <a:pt x="110" y="495"/>
                    </a:lnTo>
                    <a:lnTo>
                      <a:pt x="114" y="494"/>
                    </a:lnTo>
                    <a:lnTo>
                      <a:pt x="117" y="492"/>
                    </a:lnTo>
                    <a:lnTo>
                      <a:pt x="118" y="490"/>
                    </a:lnTo>
                    <a:lnTo>
                      <a:pt x="120" y="486"/>
                    </a:lnTo>
                    <a:lnTo>
                      <a:pt x="120" y="483"/>
                    </a:lnTo>
                    <a:lnTo>
                      <a:pt x="122" y="481"/>
                    </a:lnTo>
                    <a:lnTo>
                      <a:pt x="122" y="15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18" y="6"/>
                    </a:lnTo>
                    <a:lnTo>
                      <a:pt x="117" y="4"/>
                    </a:lnTo>
                    <a:lnTo>
                      <a:pt x="114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1" y="483"/>
                    </a:lnTo>
                    <a:lnTo>
                      <a:pt x="1" y="486"/>
                    </a:lnTo>
                    <a:lnTo>
                      <a:pt x="4" y="490"/>
                    </a:lnTo>
                    <a:lnTo>
                      <a:pt x="5" y="492"/>
                    </a:lnTo>
                    <a:lnTo>
                      <a:pt x="8" y="494"/>
                    </a:lnTo>
                    <a:lnTo>
                      <a:pt x="11" y="495"/>
                    </a:lnTo>
                    <a:lnTo>
                      <a:pt x="14" y="496"/>
                    </a:lnTo>
                    <a:lnTo>
                      <a:pt x="18" y="496"/>
                    </a:lnTo>
                    <a:lnTo>
                      <a:pt x="104" y="496"/>
                    </a:lnTo>
                    <a:lnTo>
                      <a:pt x="104" y="49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9" name=""/>
              <p:cNvSpPr/>
              <p:nvPr/>
            </p:nvSpPr>
            <p:spPr>
              <a:xfrm>
                <a:off x="2492280" y="3774600"/>
                <a:ext cx="4189320" cy="67536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5" y="677"/>
                    </a:lnTo>
                    <a:lnTo>
                      <a:pt x="125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0" name=""/>
              <p:cNvSpPr/>
              <p:nvPr/>
            </p:nvSpPr>
            <p:spPr>
              <a:xfrm>
                <a:off x="2490840" y="3773520"/>
                <a:ext cx="131760" cy="6775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1" name=""/>
              <p:cNvSpPr/>
              <p:nvPr/>
            </p:nvSpPr>
            <p:spPr>
              <a:xfrm>
                <a:off x="2622600" y="3773520"/>
                <a:ext cx="175320" cy="67752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2" name=""/>
              <p:cNvSpPr/>
              <p:nvPr/>
            </p:nvSpPr>
            <p:spPr>
              <a:xfrm>
                <a:off x="2798280" y="3773520"/>
                <a:ext cx="173880" cy="67752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3" name=""/>
              <p:cNvSpPr/>
              <p:nvPr/>
            </p:nvSpPr>
            <p:spPr>
              <a:xfrm>
                <a:off x="2972160" y="3773520"/>
                <a:ext cx="175320" cy="67752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4" name=""/>
              <p:cNvSpPr/>
              <p:nvPr/>
            </p:nvSpPr>
            <p:spPr>
              <a:xfrm>
                <a:off x="3147840" y="3773520"/>
                <a:ext cx="163080" cy="67752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5" name=""/>
              <p:cNvSpPr/>
              <p:nvPr/>
            </p:nvSpPr>
            <p:spPr>
              <a:xfrm>
                <a:off x="3310920" y="3773520"/>
                <a:ext cx="130680" cy="67752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6" name=""/>
              <p:cNvSpPr/>
              <p:nvPr/>
            </p:nvSpPr>
            <p:spPr>
              <a:xfrm>
                <a:off x="3441600" y="3773520"/>
                <a:ext cx="142560" cy="67752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7" name=""/>
              <p:cNvSpPr/>
              <p:nvPr/>
            </p:nvSpPr>
            <p:spPr>
              <a:xfrm>
                <a:off x="3584520" y="3773520"/>
                <a:ext cx="173880" cy="67752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3758400" y="3773520"/>
                <a:ext cx="175320" cy="6775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3934080" y="3773520"/>
                <a:ext cx="174240" cy="67752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4108320" y="3773520"/>
                <a:ext cx="174960" cy="67752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1" name=""/>
              <p:cNvSpPr/>
              <p:nvPr/>
            </p:nvSpPr>
            <p:spPr>
              <a:xfrm>
                <a:off x="4283640" y="3773520"/>
                <a:ext cx="174240" cy="67752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2" name=""/>
              <p:cNvSpPr/>
              <p:nvPr/>
            </p:nvSpPr>
            <p:spPr>
              <a:xfrm>
                <a:off x="4457880" y="3773520"/>
                <a:ext cx="351000" cy="677520"/>
              </a:xfrm>
              <a:prstGeom prst="rect">
                <a:avLst/>
              </a:prstGeom>
              <a:solidFill>
                <a:srgbClr val="e5e5e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3" name=""/>
              <p:cNvSpPr/>
              <p:nvPr/>
            </p:nvSpPr>
            <p:spPr>
              <a:xfrm>
                <a:off x="4808880" y="3773520"/>
                <a:ext cx="174960" cy="677520"/>
              </a:xfrm>
              <a:prstGeom prst="rect">
                <a:avLst/>
              </a:prstGeom>
              <a:solidFill>
                <a:srgbClr val="e3e3e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4983840" y="3773520"/>
                <a:ext cx="172440" cy="677520"/>
              </a:xfrm>
              <a:prstGeom prst="rect">
                <a:avLst/>
              </a:prstGeom>
              <a:solidFill>
                <a:srgbClr val="e1e1e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5156640" y="3773520"/>
                <a:ext cx="175320" cy="677520"/>
              </a:xfrm>
              <a:prstGeom prst="rect">
                <a:avLst/>
              </a:prstGeom>
              <a:solidFill>
                <a:srgbClr val="dfdfd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5332320" y="3773520"/>
                <a:ext cx="175320" cy="6775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7" name=""/>
              <p:cNvSpPr/>
              <p:nvPr/>
            </p:nvSpPr>
            <p:spPr>
              <a:xfrm>
                <a:off x="5507640" y="3773520"/>
                <a:ext cx="163080" cy="677520"/>
              </a:xfrm>
              <a:prstGeom prst="rect">
                <a:avLst/>
              </a:prstGeom>
              <a:solidFill>
                <a:srgbClr val="dbdbdb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8" name=""/>
              <p:cNvSpPr/>
              <p:nvPr/>
            </p:nvSpPr>
            <p:spPr>
              <a:xfrm>
                <a:off x="5671080" y="3773520"/>
                <a:ext cx="131760" cy="677520"/>
              </a:xfrm>
              <a:prstGeom prst="rect">
                <a:avLst/>
              </a:prstGeom>
              <a:solidFill>
                <a:srgbClr val="d9d9d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9" name=""/>
              <p:cNvSpPr/>
              <p:nvPr/>
            </p:nvSpPr>
            <p:spPr>
              <a:xfrm>
                <a:off x="5802840" y="3773520"/>
                <a:ext cx="141480" cy="677520"/>
              </a:xfrm>
              <a:prstGeom prst="rect">
                <a:avLst/>
              </a:prstGeom>
              <a:solidFill>
                <a:srgbClr val="d7d7d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0" name=""/>
              <p:cNvSpPr/>
              <p:nvPr/>
            </p:nvSpPr>
            <p:spPr>
              <a:xfrm>
                <a:off x="5944680" y="3773520"/>
                <a:ext cx="175320" cy="677520"/>
              </a:xfrm>
              <a:prstGeom prst="rect">
                <a:avLst/>
              </a:prstGeom>
              <a:solidFill>
                <a:srgbClr val="d5d5d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1" name=""/>
              <p:cNvSpPr/>
              <p:nvPr/>
            </p:nvSpPr>
            <p:spPr>
              <a:xfrm>
                <a:off x="6120000" y="3773520"/>
                <a:ext cx="173880" cy="67752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2" name=""/>
              <p:cNvSpPr/>
              <p:nvPr/>
            </p:nvSpPr>
            <p:spPr>
              <a:xfrm>
                <a:off x="6294240" y="3773520"/>
                <a:ext cx="173880" cy="677520"/>
              </a:xfrm>
              <a:prstGeom prst="rect">
                <a:avLst/>
              </a:prstGeom>
              <a:solidFill>
                <a:srgbClr val="d1d1d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3" name=""/>
              <p:cNvSpPr/>
              <p:nvPr/>
            </p:nvSpPr>
            <p:spPr>
              <a:xfrm>
                <a:off x="6468120" y="3773520"/>
                <a:ext cx="175320" cy="677520"/>
              </a:xfrm>
              <a:prstGeom prst="rect">
                <a:avLst/>
              </a:prstGeom>
              <a:solidFill>
                <a:srgbClr val="cfcfc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4" name=""/>
              <p:cNvSpPr/>
              <p:nvPr/>
            </p:nvSpPr>
            <p:spPr>
              <a:xfrm>
                <a:off x="6643440" y="3773520"/>
                <a:ext cx="38160" cy="6775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5" name=""/>
              <p:cNvSpPr/>
              <p:nvPr/>
            </p:nvSpPr>
            <p:spPr>
              <a:xfrm>
                <a:off x="2492280" y="3774600"/>
                <a:ext cx="4189320" cy="67536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4" y="677"/>
                    </a:lnTo>
                    <a:lnTo>
                      <a:pt x="124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6" name=""/>
              <p:cNvSpPr/>
              <p:nvPr/>
            </p:nvSpPr>
            <p:spPr>
              <a:xfrm>
                <a:off x="2499120" y="3780000"/>
                <a:ext cx="4174200" cy="664200"/>
              </a:xfrm>
              <a:custGeom>
                <a:avLst/>
                <a:gdLst/>
                <a:ahLst/>
                <a:rect l="l" t="t" r="r" b="b"/>
                <a:pathLst>
                  <a:path w="6138" h="1196">
                    <a:moveTo>
                      <a:pt x="0" y="0"/>
                    </a:moveTo>
                    <a:lnTo>
                      <a:pt x="0" y="656"/>
                    </a:lnTo>
                    <a:lnTo>
                      <a:pt x="125" y="656"/>
                    </a:lnTo>
                    <a:lnTo>
                      <a:pt x="125" y="1196"/>
                    </a:lnTo>
                    <a:lnTo>
                      <a:pt x="6010" y="1196"/>
                    </a:lnTo>
                    <a:lnTo>
                      <a:pt x="6010" y="656"/>
                    </a:lnTo>
                    <a:lnTo>
                      <a:pt x="6138" y="656"/>
                    </a:lnTo>
                    <a:lnTo>
                      <a:pt x="613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7" name=""/>
              <p:cNvSpPr/>
              <p:nvPr/>
            </p:nvSpPr>
            <p:spPr>
              <a:xfrm>
                <a:off x="3958200" y="4157640"/>
                <a:ext cx="756360" cy="270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solidFill>
                <a:srgbClr val="f8f8f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8" name=""/>
              <p:cNvSpPr/>
              <p:nvPr/>
            </p:nvSpPr>
            <p:spPr>
              <a:xfrm>
                <a:off x="3958200" y="4157640"/>
                <a:ext cx="756360" cy="270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9" name=""/>
              <p:cNvSpPr/>
              <p:nvPr/>
            </p:nvSpPr>
            <p:spPr>
              <a:xfrm>
                <a:off x="3792240" y="3877920"/>
                <a:ext cx="171360" cy="5508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  <a:close/>
                  </a:path>
                </a:pathLst>
              </a:custGeom>
              <a:solidFill>
                <a:srgbClr val="66666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0" name=""/>
              <p:cNvSpPr/>
              <p:nvPr/>
            </p:nvSpPr>
            <p:spPr>
              <a:xfrm>
                <a:off x="3792240" y="3877920"/>
                <a:ext cx="171360" cy="5508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1" name=""/>
              <p:cNvSpPr/>
              <p:nvPr/>
            </p:nvSpPr>
            <p:spPr>
              <a:xfrm>
                <a:off x="6159240" y="4255560"/>
                <a:ext cx="292320" cy="17316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2" name=""/>
              <p:cNvSpPr/>
              <p:nvPr/>
            </p:nvSpPr>
            <p:spPr>
              <a:xfrm>
                <a:off x="5506560" y="4255560"/>
                <a:ext cx="817200" cy="173160"/>
              </a:xfrm>
              <a:custGeom>
                <a:avLst/>
                <a:gdLst/>
                <a:ahLst/>
                <a:rect l="l" t="t" r="r" b="b"/>
                <a:pathLst>
                  <a:path w="1201" h="311">
                    <a:moveTo>
                      <a:pt x="0" y="311"/>
                    </a:moveTo>
                    <a:lnTo>
                      <a:pt x="491" y="311"/>
                    </a:lnTo>
                    <a:lnTo>
                      <a:pt x="49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  <a:moveTo>
                      <a:pt x="1201" y="8"/>
                    </a:moveTo>
                    <a:lnTo>
                      <a:pt x="973" y="8"/>
                    </a:lnTo>
                    <a:lnTo>
                      <a:pt x="973" y="193"/>
                    </a:lnTo>
                    <a:lnTo>
                      <a:pt x="1201" y="193"/>
                    </a:lnTo>
                    <a:lnTo>
                      <a:pt x="1201" y="8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3" name=""/>
              <p:cNvSpPr/>
              <p:nvPr/>
            </p:nvSpPr>
            <p:spPr>
              <a:xfrm>
                <a:off x="3848400" y="3877920"/>
                <a:ext cx="61200" cy="550800"/>
              </a:xfrm>
              <a:prstGeom prst="rect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4" name=""/>
              <p:cNvSpPr/>
              <p:nvPr/>
            </p:nvSpPr>
            <p:spPr>
              <a:xfrm>
                <a:off x="3848400" y="3877920"/>
                <a:ext cx="61200" cy="550800"/>
              </a:xfrm>
              <a:prstGeom prst="rect">
                <a:avLst/>
              </a:prstGeom>
              <a:noFill/>
              <a:ln w="32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92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2828160" y="3807000"/>
                <a:ext cx="960120" cy="5263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926" name=""/>
              <p:cNvSpPr/>
              <p:nvPr/>
            </p:nvSpPr>
            <p:spPr>
              <a:xfrm>
                <a:off x="2841840" y="3812400"/>
                <a:ext cx="943560" cy="517320"/>
              </a:xfrm>
              <a:prstGeom prst="rect">
                <a:avLst/>
              </a:prstGeom>
              <a:noFill/>
              <a:ln w="324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7" name=""/>
              <p:cNvSpPr/>
              <p:nvPr/>
            </p:nvSpPr>
            <p:spPr>
              <a:xfrm>
                <a:off x="3823920" y="42098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8" name=""/>
              <p:cNvSpPr/>
              <p:nvPr/>
            </p:nvSpPr>
            <p:spPr>
              <a:xfrm>
                <a:off x="3822840" y="424980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9" name=""/>
              <p:cNvSpPr/>
              <p:nvPr/>
            </p:nvSpPr>
            <p:spPr>
              <a:xfrm>
                <a:off x="3946320" y="42098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0" name=""/>
              <p:cNvSpPr/>
              <p:nvPr/>
            </p:nvSpPr>
            <p:spPr>
              <a:xfrm>
                <a:off x="3919320" y="424980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1" name=""/>
              <p:cNvSpPr/>
              <p:nvPr/>
            </p:nvSpPr>
            <p:spPr>
              <a:xfrm>
                <a:off x="3871440" y="42098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2" name=""/>
              <p:cNvSpPr/>
              <p:nvPr/>
            </p:nvSpPr>
            <p:spPr>
              <a:xfrm>
                <a:off x="3871800" y="424980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3" name=""/>
              <p:cNvSpPr/>
              <p:nvPr/>
            </p:nvSpPr>
            <p:spPr>
              <a:xfrm>
                <a:off x="3823920" y="40467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4" name=""/>
              <p:cNvSpPr/>
              <p:nvPr/>
            </p:nvSpPr>
            <p:spPr>
              <a:xfrm>
                <a:off x="3822840" y="408780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5" name=""/>
              <p:cNvSpPr/>
              <p:nvPr/>
            </p:nvSpPr>
            <p:spPr>
              <a:xfrm>
                <a:off x="3946320" y="40467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6" name=""/>
              <p:cNvSpPr/>
              <p:nvPr/>
            </p:nvSpPr>
            <p:spPr>
              <a:xfrm>
                <a:off x="3927600" y="4087800"/>
                <a:ext cx="45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7" name=""/>
              <p:cNvSpPr/>
              <p:nvPr/>
            </p:nvSpPr>
            <p:spPr>
              <a:xfrm>
                <a:off x="3871440" y="40467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8" name=""/>
              <p:cNvSpPr/>
              <p:nvPr/>
            </p:nvSpPr>
            <p:spPr>
              <a:xfrm>
                <a:off x="3873600" y="4087800"/>
                <a:ext cx="4176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9" name=""/>
              <p:cNvSpPr/>
              <p:nvPr/>
            </p:nvSpPr>
            <p:spPr>
              <a:xfrm>
                <a:off x="3823920" y="390348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0" name=""/>
              <p:cNvSpPr/>
              <p:nvPr/>
            </p:nvSpPr>
            <p:spPr>
              <a:xfrm>
                <a:off x="3822840" y="392580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1" name=""/>
              <p:cNvSpPr/>
              <p:nvPr/>
            </p:nvSpPr>
            <p:spPr>
              <a:xfrm>
                <a:off x="3871440" y="390348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5942" name=""/>
            <p:cNvGrpSpPr/>
            <p:nvPr/>
          </p:nvGrpSpPr>
          <p:grpSpPr>
            <a:xfrm>
              <a:off x="2606760" y="3806640"/>
              <a:ext cx="3955320" cy="645840"/>
              <a:chOff x="2606760" y="3806640"/>
              <a:chExt cx="3955320" cy="645840"/>
            </a:xfrm>
          </p:grpSpPr>
          <p:sp>
            <p:nvSpPr>
              <p:cNvPr id="5943" name=""/>
              <p:cNvSpPr/>
              <p:nvPr/>
            </p:nvSpPr>
            <p:spPr>
              <a:xfrm>
                <a:off x="3876480" y="3925440"/>
                <a:ext cx="4176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3879360" y="418968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3875040" y="394416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3875040" y="408744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3927240" y="402516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3803400" y="386316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3880440" y="3863160"/>
                <a:ext cx="6948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3985920" y="3827520"/>
                <a:ext cx="713880" cy="545040"/>
              </a:xfrm>
              <a:custGeom>
                <a:avLst/>
                <a:gdLst/>
                <a:ahLst/>
                <a:rect l="l" t="t" r="r" b="b"/>
                <a:pathLst>
                  <a:path w="1050" h="984">
                    <a:moveTo>
                      <a:pt x="833" y="984"/>
                    </a:moveTo>
                    <a:lnTo>
                      <a:pt x="1050" y="984"/>
                    </a:lnTo>
                    <a:lnTo>
                      <a:pt x="1050" y="0"/>
                    </a:lnTo>
                    <a:lnTo>
                      <a:pt x="0" y="0"/>
                    </a:lnTo>
                    <a:lnTo>
                      <a:pt x="0" y="984"/>
                    </a:lnTo>
                    <a:lnTo>
                      <a:pt x="218" y="984"/>
                    </a:lnTo>
                    <a:lnTo>
                      <a:pt x="218" y="584"/>
                    </a:lnTo>
                    <a:lnTo>
                      <a:pt x="833" y="584"/>
                    </a:lnTo>
                    <a:lnTo>
                      <a:pt x="833" y="984"/>
                    </a:lnTo>
                    <a:lnTo>
                      <a:pt x="833" y="984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951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3961440" y="3806640"/>
                <a:ext cx="738720" cy="56628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952" name=""/>
              <p:cNvSpPr/>
              <p:nvPr/>
            </p:nvSpPr>
            <p:spPr>
              <a:xfrm>
                <a:off x="3976560" y="3813120"/>
                <a:ext cx="724680" cy="554040"/>
              </a:xfrm>
              <a:custGeom>
                <a:avLst/>
                <a:gdLst/>
                <a:ahLst/>
                <a:rect l="l" t="t" r="r" b="b"/>
                <a:pathLst>
                  <a:path w="1068" h="998">
                    <a:moveTo>
                      <a:pt x="840" y="998"/>
                    </a:moveTo>
                    <a:lnTo>
                      <a:pt x="1068" y="998"/>
                    </a:lnTo>
                    <a:lnTo>
                      <a:pt x="1068" y="0"/>
                    </a:lnTo>
                    <a:lnTo>
                      <a:pt x="0" y="0"/>
                    </a:lnTo>
                    <a:lnTo>
                      <a:pt x="0" y="998"/>
                    </a:lnTo>
                    <a:lnTo>
                      <a:pt x="226" y="998"/>
                    </a:lnTo>
                    <a:lnTo>
                      <a:pt x="226" y="606"/>
                    </a:lnTo>
                    <a:lnTo>
                      <a:pt x="840" y="606"/>
                    </a:lnTo>
                    <a:lnTo>
                      <a:pt x="840" y="998"/>
                    </a:lnTo>
                  </a:path>
                </a:pathLst>
              </a:custGeom>
              <a:noFill/>
              <a:ln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4226760" y="415728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  <a:moveTo>
                      <a:pt x="0" y="374"/>
                    </a:moveTo>
                    <a:lnTo>
                      <a:pt x="0" y="374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  <a:moveTo>
                      <a:pt x="309" y="374"/>
                    </a:moveTo>
                    <a:lnTo>
                      <a:pt x="309" y="374"/>
                    </a:lnTo>
                    <a:lnTo>
                      <a:pt x="309" y="374"/>
                    </a:lnTo>
                    <a:lnTo>
                      <a:pt x="309" y="374"/>
                    </a:lnTo>
                    <a:close/>
                  </a:path>
                </a:pathLst>
              </a:custGeom>
              <a:solidFill>
                <a:srgbClr val="1a1a1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4226760" y="4157280"/>
                <a:ext cx="209160" cy="2120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4226760" y="4365000"/>
                <a:ext cx="0" cy="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6" name=""/>
              <p:cNvSpPr/>
              <p:nvPr/>
            </p:nvSpPr>
            <p:spPr>
              <a:xfrm>
                <a:off x="4435920" y="4365000"/>
                <a:ext cx="0" cy="0"/>
              </a:xfrm>
              <a:prstGeom prst="line">
                <a:avLst/>
              </a:prstGeom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7" name=""/>
              <p:cNvSpPr/>
              <p:nvPr/>
            </p:nvSpPr>
            <p:spPr>
              <a:xfrm>
                <a:off x="4252680" y="4161960"/>
                <a:ext cx="156240" cy="203040"/>
              </a:xfrm>
              <a:prstGeom prst="rect">
                <a:avLst/>
              </a:prstGeom>
              <a:solidFill>
                <a:srgbClr val="eaeae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4240080" y="4151880"/>
                <a:ext cx="182160" cy="223200"/>
              </a:xfrm>
              <a:custGeom>
                <a:avLst/>
                <a:gdLst/>
                <a:ahLst/>
                <a:rect l="l" t="t" r="r" b="b"/>
                <a:pathLst>
                  <a:path w="269" h="401">
                    <a:moveTo>
                      <a:pt x="37" y="56"/>
                    </a:moveTo>
                    <a:lnTo>
                      <a:pt x="37" y="311"/>
                    </a:lnTo>
                    <a:lnTo>
                      <a:pt x="37" y="314"/>
                    </a:lnTo>
                    <a:lnTo>
                      <a:pt x="36" y="317"/>
                    </a:lnTo>
                    <a:lnTo>
                      <a:pt x="34" y="321"/>
                    </a:lnTo>
                    <a:lnTo>
                      <a:pt x="32" y="323"/>
                    </a:lnTo>
                    <a:lnTo>
                      <a:pt x="29" y="326"/>
                    </a:lnTo>
                    <a:lnTo>
                      <a:pt x="27" y="327"/>
                    </a:lnTo>
                    <a:lnTo>
                      <a:pt x="23" y="328"/>
                    </a:lnTo>
                    <a:lnTo>
                      <a:pt x="19" y="328"/>
                    </a:lnTo>
                    <a:lnTo>
                      <a:pt x="15" y="328"/>
                    </a:lnTo>
                    <a:lnTo>
                      <a:pt x="12" y="327"/>
                    </a:lnTo>
                    <a:lnTo>
                      <a:pt x="9" y="326"/>
                    </a:lnTo>
                    <a:lnTo>
                      <a:pt x="7" y="323"/>
                    </a:lnTo>
                    <a:lnTo>
                      <a:pt x="4" y="321"/>
                    </a:lnTo>
                    <a:lnTo>
                      <a:pt x="3" y="317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9" y="37"/>
                    </a:lnTo>
                    <a:lnTo>
                      <a:pt x="23" y="38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4" y="45"/>
                    </a:lnTo>
                    <a:lnTo>
                      <a:pt x="36" y="48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  <a:moveTo>
                      <a:pt x="127" y="365"/>
                    </a:moveTo>
                    <a:lnTo>
                      <a:pt x="250" y="365"/>
                    </a:lnTo>
                    <a:lnTo>
                      <a:pt x="232" y="384"/>
                    </a:lnTo>
                    <a:lnTo>
                      <a:pt x="232" y="251"/>
                    </a:lnTo>
                    <a:lnTo>
                      <a:pt x="232" y="247"/>
                    </a:lnTo>
                    <a:lnTo>
                      <a:pt x="234" y="244"/>
                    </a:lnTo>
                    <a:lnTo>
                      <a:pt x="235" y="240"/>
                    </a:lnTo>
                    <a:lnTo>
                      <a:pt x="237" y="237"/>
                    </a:lnTo>
                    <a:lnTo>
                      <a:pt x="240" y="236"/>
                    </a:lnTo>
                    <a:lnTo>
                      <a:pt x="244" y="235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4" y="234"/>
                    </a:lnTo>
                    <a:lnTo>
                      <a:pt x="257" y="235"/>
                    </a:lnTo>
                    <a:lnTo>
                      <a:pt x="261" y="236"/>
                    </a:lnTo>
                    <a:lnTo>
                      <a:pt x="264" y="237"/>
                    </a:lnTo>
                    <a:lnTo>
                      <a:pt x="265" y="240"/>
                    </a:lnTo>
                    <a:lnTo>
                      <a:pt x="267" y="244"/>
                    </a:lnTo>
                    <a:lnTo>
                      <a:pt x="267" y="247"/>
                    </a:lnTo>
                    <a:lnTo>
                      <a:pt x="269" y="251"/>
                    </a:lnTo>
                    <a:lnTo>
                      <a:pt x="269" y="384"/>
                    </a:lnTo>
                    <a:lnTo>
                      <a:pt x="267" y="386"/>
                    </a:lnTo>
                    <a:lnTo>
                      <a:pt x="267" y="390"/>
                    </a:lnTo>
                    <a:lnTo>
                      <a:pt x="265" y="393"/>
                    </a:lnTo>
                    <a:lnTo>
                      <a:pt x="264" y="396"/>
                    </a:lnTo>
                    <a:lnTo>
                      <a:pt x="261" y="398"/>
                    </a:lnTo>
                    <a:lnTo>
                      <a:pt x="257" y="400"/>
                    </a:lnTo>
                    <a:lnTo>
                      <a:pt x="254" y="401"/>
                    </a:lnTo>
                    <a:lnTo>
                      <a:pt x="250" y="401"/>
                    </a:lnTo>
                    <a:lnTo>
                      <a:pt x="127" y="401"/>
                    </a:lnTo>
                    <a:lnTo>
                      <a:pt x="124" y="401"/>
                    </a:lnTo>
                    <a:lnTo>
                      <a:pt x="121" y="400"/>
                    </a:lnTo>
                    <a:lnTo>
                      <a:pt x="118" y="398"/>
                    </a:lnTo>
                    <a:lnTo>
                      <a:pt x="116" y="396"/>
                    </a:lnTo>
                    <a:lnTo>
                      <a:pt x="113" y="393"/>
                    </a:lnTo>
                    <a:lnTo>
                      <a:pt x="111" y="390"/>
                    </a:lnTo>
                    <a:lnTo>
                      <a:pt x="109" y="386"/>
                    </a:lnTo>
                    <a:lnTo>
                      <a:pt x="109" y="384"/>
                    </a:lnTo>
                    <a:lnTo>
                      <a:pt x="109" y="379"/>
                    </a:lnTo>
                    <a:lnTo>
                      <a:pt x="111" y="376"/>
                    </a:lnTo>
                    <a:lnTo>
                      <a:pt x="113" y="372"/>
                    </a:lnTo>
                    <a:lnTo>
                      <a:pt x="116" y="370"/>
                    </a:lnTo>
                    <a:lnTo>
                      <a:pt x="118" y="367"/>
                    </a:lnTo>
                    <a:lnTo>
                      <a:pt x="121" y="366"/>
                    </a:lnTo>
                    <a:lnTo>
                      <a:pt x="124" y="365"/>
                    </a:lnTo>
                    <a:lnTo>
                      <a:pt x="127" y="365"/>
                    </a:lnTo>
                    <a:lnTo>
                      <a:pt x="127" y="365"/>
                    </a:lnTo>
                    <a:close/>
                    <a:moveTo>
                      <a:pt x="232" y="69"/>
                    </a:moveTo>
                    <a:lnTo>
                      <a:pt x="232" y="19"/>
                    </a:lnTo>
                    <a:lnTo>
                      <a:pt x="250" y="37"/>
                    </a:lnTo>
                    <a:lnTo>
                      <a:pt x="46" y="37"/>
                    </a:lnTo>
                    <a:lnTo>
                      <a:pt x="43" y="37"/>
                    </a:lnTo>
                    <a:lnTo>
                      <a:pt x="39" y="35"/>
                    </a:lnTo>
                    <a:lnTo>
                      <a:pt x="37" y="34"/>
                    </a:lnTo>
                    <a:lnTo>
                      <a:pt x="34" y="32"/>
                    </a:lnTo>
                    <a:lnTo>
                      <a:pt x="32" y="29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250" y="0"/>
                    </a:lnTo>
                    <a:lnTo>
                      <a:pt x="254" y="1"/>
                    </a:lnTo>
                    <a:lnTo>
                      <a:pt x="257" y="2"/>
                    </a:lnTo>
                    <a:lnTo>
                      <a:pt x="261" y="4"/>
                    </a:lnTo>
                    <a:lnTo>
                      <a:pt x="264" y="6"/>
                    </a:lnTo>
                    <a:lnTo>
                      <a:pt x="265" y="9"/>
                    </a:lnTo>
                    <a:lnTo>
                      <a:pt x="267" y="13"/>
                    </a:lnTo>
                    <a:lnTo>
                      <a:pt x="267" y="15"/>
                    </a:lnTo>
                    <a:lnTo>
                      <a:pt x="269" y="19"/>
                    </a:lnTo>
                    <a:lnTo>
                      <a:pt x="269" y="69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5" y="78"/>
                    </a:lnTo>
                    <a:lnTo>
                      <a:pt x="264" y="82"/>
                    </a:lnTo>
                    <a:lnTo>
                      <a:pt x="261" y="83"/>
                    </a:lnTo>
                    <a:lnTo>
                      <a:pt x="257" y="86"/>
                    </a:lnTo>
                    <a:lnTo>
                      <a:pt x="254" y="87"/>
                    </a:lnTo>
                    <a:lnTo>
                      <a:pt x="250" y="87"/>
                    </a:lnTo>
                    <a:lnTo>
                      <a:pt x="246" y="87"/>
                    </a:lnTo>
                    <a:lnTo>
                      <a:pt x="244" y="86"/>
                    </a:lnTo>
                    <a:lnTo>
                      <a:pt x="240" y="83"/>
                    </a:lnTo>
                    <a:lnTo>
                      <a:pt x="237" y="82"/>
                    </a:lnTo>
                    <a:lnTo>
                      <a:pt x="235" y="78"/>
                    </a:lnTo>
                    <a:lnTo>
                      <a:pt x="234" y="76"/>
                    </a:lnTo>
                    <a:lnTo>
                      <a:pt x="232" y="72"/>
                    </a:lnTo>
                    <a:lnTo>
                      <a:pt x="232" y="69"/>
                    </a:lnTo>
                    <a:lnTo>
                      <a:pt x="232" y="69"/>
                    </a:lnTo>
                    <a:close/>
                  </a:path>
                </a:pathLst>
              </a:custGeom>
              <a:solidFill>
                <a:srgbClr val="1a1a1a"/>
              </a:solidFill>
              <a:ln w="32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4071600" y="436824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4070160" y="438948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3999960" y="438948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566240" y="4389480"/>
                <a:ext cx="5724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4633560" y="436932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4611600" y="4389480"/>
                <a:ext cx="3132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5838480" y="4255200"/>
                <a:ext cx="320760" cy="173160"/>
              </a:xfrm>
              <a:prstGeom prst="rect">
                <a:avLst/>
              </a:prstGeom>
              <a:solidFill>
                <a:srgbClr val="35509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5143320" y="4255200"/>
                <a:ext cx="366120" cy="173160"/>
              </a:xfrm>
              <a:prstGeom prst="rect">
                <a:avLst/>
              </a:prstGeom>
              <a:solidFill>
                <a:srgbClr val="26918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4707000" y="4255200"/>
                <a:ext cx="260640" cy="173160"/>
              </a:xfrm>
              <a:prstGeom prst="rect">
                <a:avLst/>
              </a:prstGeom>
              <a:solidFill>
                <a:srgbClr val="9997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4966560" y="4255200"/>
                <a:ext cx="176400" cy="173160"/>
              </a:xfrm>
              <a:prstGeom prst="rect">
                <a:avLst/>
              </a:prstGeom>
              <a:solidFill>
                <a:srgbClr val="bcedc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6354000" y="4376160"/>
                <a:ext cx="110520" cy="76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4707000" y="4255200"/>
                <a:ext cx="1744920" cy="173160"/>
              </a:xfrm>
              <a:prstGeom prst="rect">
                <a:avLst/>
              </a:prstGeom>
              <a:noFill/>
              <a:ln w="32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1" name=""/>
              <p:cNvSpPr/>
              <p:nvPr/>
            </p:nvSpPr>
            <p:spPr>
              <a:xfrm>
                <a:off x="4463280" y="418860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2" name=""/>
              <p:cNvSpPr/>
              <p:nvPr/>
            </p:nvSpPr>
            <p:spPr>
              <a:xfrm>
                <a:off x="4463280" y="4309560"/>
                <a:ext cx="144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3" name=""/>
              <p:cNvSpPr/>
              <p:nvPr/>
            </p:nvSpPr>
            <p:spPr>
              <a:xfrm>
                <a:off x="4872960" y="3806640"/>
                <a:ext cx="1689120" cy="4395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4" name=""/>
              <p:cNvSpPr/>
              <p:nvPr/>
            </p:nvSpPr>
            <p:spPr>
              <a:xfrm>
                <a:off x="4883760" y="3815280"/>
                <a:ext cx="1665000" cy="420840"/>
              </a:xfrm>
              <a:prstGeom prst="rect">
                <a:avLst/>
              </a:prstGeom>
              <a:solidFill>
                <a:srgbClr val="3333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5" name=""/>
              <p:cNvSpPr/>
              <p:nvPr/>
            </p:nvSpPr>
            <p:spPr>
              <a:xfrm>
                <a:off x="4883760" y="3815280"/>
                <a:ext cx="1665000" cy="420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6" name=""/>
              <p:cNvSpPr/>
              <p:nvPr/>
            </p:nvSpPr>
            <p:spPr>
              <a:xfrm>
                <a:off x="5735160" y="3825360"/>
                <a:ext cx="803520" cy="40176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7" name=""/>
              <p:cNvSpPr/>
              <p:nvPr/>
            </p:nvSpPr>
            <p:spPr>
              <a:xfrm>
                <a:off x="5735160" y="3825360"/>
                <a:ext cx="803520" cy="4017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8" name=""/>
              <p:cNvSpPr/>
              <p:nvPr/>
            </p:nvSpPr>
            <p:spPr>
              <a:xfrm>
                <a:off x="5709240" y="3815280"/>
                <a:ext cx="14760" cy="42084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5709240" y="3815280"/>
                <a:ext cx="14760" cy="42084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5020920" y="3968640"/>
                <a:ext cx="148320" cy="14184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18" y="109"/>
                    </a:moveTo>
                    <a:lnTo>
                      <a:pt x="217" y="123"/>
                    </a:lnTo>
                    <a:lnTo>
                      <a:pt x="216" y="137"/>
                    </a:lnTo>
                    <a:lnTo>
                      <a:pt x="214" y="149"/>
                    </a:lnTo>
                    <a:lnTo>
                      <a:pt x="211" y="163"/>
                    </a:lnTo>
                    <a:lnTo>
                      <a:pt x="207" y="176"/>
                    </a:lnTo>
                    <a:lnTo>
                      <a:pt x="203" y="187"/>
                    </a:lnTo>
                    <a:lnTo>
                      <a:pt x="197" y="199"/>
                    </a:lnTo>
                    <a:lnTo>
                      <a:pt x="191" y="210"/>
                    </a:lnTo>
                    <a:lnTo>
                      <a:pt x="183" y="220"/>
                    </a:lnTo>
                    <a:lnTo>
                      <a:pt x="176" y="229"/>
                    </a:lnTo>
                    <a:lnTo>
                      <a:pt x="167" y="237"/>
                    </a:lnTo>
                    <a:lnTo>
                      <a:pt x="162" y="239"/>
                    </a:lnTo>
                    <a:lnTo>
                      <a:pt x="157" y="243"/>
                    </a:lnTo>
                    <a:lnTo>
                      <a:pt x="152" y="245"/>
                    </a:lnTo>
                    <a:lnTo>
                      <a:pt x="145" y="248"/>
                    </a:lnTo>
                    <a:lnTo>
                      <a:pt x="140" y="250"/>
                    </a:lnTo>
                    <a:lnTo>
                      <a:pt x="134" y="252"/>
                    </a:lnTo>
                    <a:lnTo>
                      <a:pt x="129" y="253"/>
                    </a:lnTo>
                    <a:lnTo>
                      <a:pt x="123" y="254"/>
                    </a:lnTo>
                    <a:lnTo>
                      <a:pt x="115" y="255"/>
                    </a:lnTo>
                    <a:lnTo>
                      <a:pt x="109" y="255"/>
                    </a:lnTo>
                    <a:lnTo>
                      <a:pt x="103" y="255"/>
                    </a:lnTo>
                    <a:lnTo>
                      <a:pt x="97" y="254"/>
                    </a:lnTo>
                    <a:lnTo>
                      <a:pt x="90" y="253"/>
                    </a:lnTo>
                    <a:lnTo>
                      <a:pt x="84" y="252"/>
                    </a:lnTo>
                    <a:lnTo>
                      <a:pt x="78" y="250"/>
                    </a:lnTo>
                    <a:lnTo>
                      <a:pt x="73" y="248"/>
                    </a:lnTo>
                    <a:lnTo>
                      <a:pt x="67" y="245"/>
                    </a:lnTo>
                    <a:lnTo>
                      <a:pt x="62" y="243"/>
                    </a:lnTo>
                    <a:lnTo>
                      <a:pt x="57" y="239"/>
                    </a:lnTo>
                    <a:lnTo>
                      <a:pt x="52" y="237"/>
                    </a:lnTo>
                    <a:lnTo>
                      <a:pt x="43" y="229"/>
                    </a:lnTo>
                    <a:lnTo>
                      <a:pt x="35" y="220"/>
                    </a:lnTo>
                    <a:lnTo>
                      <a:pt x="28" y="210"/>
                    </a:lnTo>
                    <a:lnTo>
                      <a:pt x="21" y="199"/>
                    </a:lnTo>
                    <a:lnTo>
                      <a:pt x="15" y="187"/>
                    </a:lnTo>
                    <a:lnTo>
                      <a:pt x="11" y="176"/>
                    </a:lnTo>
                    <a:lnTo>
                      <a:pt x="8" y="163"/>
                    </a:lnTo>
                    <a:lnTo>
                      <a:pt x="4" y="149"/>
                    </a:lnTo>
                    <a:lnTo>
                      <a:pt x="3" y="137"/>
                    </a:lnTo>
                    <a:lnTo>
                      <a:pt x="1" y="123"/>
                    </a:lnTo>
                    <a:lnTo>
                      <a:pt x="0" y="109"/>
                    </a:lnTo>
                    <a:lnTo>
                      <a:pt x="1" y="96"/>
                    </a:lnTo>
                    <a:lnTo>
                      <a:pt x="3" y="84"/>
                    </a:lnTo>
                    <a:lnTo>
                      <a:pt x="4" y="72"/>
                    </a:lnTo>
                    <a:lnTo>
                      <a:pt x="8" y="61"/>
                    </a:lnTo>
                    <a:lnTo>
                      <a:pt x="11" y="52"/>
                    </a:lnTo>
                    <a:lnTo>
                      <a:pt x="15" y="43"/>
                    </a:lnTo>
                    <a:lnTo>
                      <a:pt x="21" y="35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2" y="7"/>
                    </a:lnTo>
                    <a:lnTo>
                      <a:pt x="73" y="4"/>
                    </a:lnTo>
                    <a:lnTo>
                      <a:pt x="84" y="2"/>
                    </a:lnTo>
                    <a:lnTo>
                      <a:pt x="97" y="0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4" y="2"/>
                    </a:lnTo>
                    <a:lnTo>
                      <a:pt x="145" y="4"/>
                    </a:lnTo>
                    <a:lnTo>
                      <a:pt x="157" y="7"/>
                    </a:lnTo>
                    <a:lnTo>
                      <a:pt x="167" y="11"/>
                    </a:lnTo>
                    <a:lnTo>
                      <a:pt x="176" y="16"/>
                    </a:lnTo>
                    <a:lnTo>
                      <a:pt x="183" y="21"/>
                    </a:lnTo>
                    <a:lnTo>
                      <a:pt x="191" y="27"/>
                    </a:lnTo>
                    <a:lnTo>
                      <a:pt x="197" y="35"/>
                    </a:lnTo>
                    <a:lnTo>
                      <a:pt x="203" y="43"/>
                    </a:lnTo>
                    <a:lnTo>
                      <a:pt x="207" y="52"/>
                    </a:lnTo>
                    <a:lnTo>
                      <a:pt x="211" y="61"/>
                    </a:lnTo>
                    <a:lnTo>
                      <a:pt x="214" y="72"/>
                    </a:lnTo>
                    <a:lnTo>
                      <a:pt x="216" y="84"/>
                    </a:lnTo>
                    <a:lnTo>
                      <a:pt x="217" y="96"/>
                    </a:lnTo>
                    <a:lnTo>
                      <a:pt x="218" y="109"/>
                    </a:lnTo>
                    <a:lnTo>
                      <a:pt x="21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5439960" y="3968640"/>
                <a:ext cx="171000" cy="14184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253" y="109"/>
                    </a:moveTo>
                    <a:lnTo>
                      <a:pt x="253" y="117"/>
                    </a:lnTo>
                    <a:lnTo>
                      <a:pt x="251" y="123"/>
                    </a:lnTo>
                    <a:lnTo>
                      <a:pt x="251" y="130"/>
                    </a:lnTo>
                    <a:lnTo>
                      <a:pt x="249" y="137"/>
                    </a:lnTo>
                    <a:lnTo>
                      <a:pt x="248" y="143"/>
                    </a:lnTo>
                    <a:lnTo>
                      <a:pt x="245" y="149"/>
                    </a:lnTo>
                    <a:lnTo>
                      <a:pt x="243" y="157"/>
                    </a:lnTo>
                    <a:lnTo>
                      <a:pt x="240" y="163"/>
                    </a:lnTo>
                    <a:lnTo>
                      <a:pt x="238" y="170"/>
                    </a:lnTo>
                    <a:lnTo>
                      <a:pt x="234" y="176"/>
                    </a:lnTo>
                    <a:lnTo>
                      <a:pt x="226" y="187"/>
                    </a:lnTo>
                    <a:lnTo>
                      <a:pt x="218" y="199"/>
                    </a:lnTo>
                    <a:lnTo>
                      <a:pt x="208" y="210"/>
                    </a:lnTo>
                    <a:lnTo>
                      <a:pt x="196" y="220"/>
                    </a:lnTo>
                    <a:lnTo>
                      <a:pt x="185" y="229"/>
                    </a:lnTo>
                    <a:lnTo>
                      <a:pt x="174" y="237"/>
                    </a:lnTo>
                    <a:lnTo>
                      <a:pt x="167" y="239"/>
                    </a:lnTo>
                    <a:lnTo>
                      <a:pt x="161" y="243"/>
                    </a:lnTo>
                    <a:lnTo>
                      <a:pt x="155" y="245"/>
                    </a:lnTo>
                    <a:lnTo>
                      <a:pt x="149" y="248"/>
                    </a:lnTo>
                    <a:lnTo>
                      <a:pt x="141" y="250"/>
                    </a:lnTo>
                    <a:lnTo>
                      <a:pt x="135" y="252"/>
                    </a:lnTo>
                    <a:lnTo>
                      <a:pt x="129" y="253"/>
                    </a:lnTo>
                    <a:lnTo>
                      <a:pt x="121" y="254"/>
                    </a:lnTo>
                    <a:lnTo>
                      <a:pt x="115" y="255"/>
                    </a:lnTo>
                    <a:lnTo>
                      <a:pt x="107" y="255"/>
                    </a:lnTo>
                    <a:lnTo>
                      <a:pt x="101" y="255"/>
                    </a:lnTo>
                    <a:lnTo>
                      <a:pt x="95" y="254"/>
                    </a:lnTo>
                    <a:lnTo>
                      <a:pt x="89" y="253"/>
                    </a:lnTo>
                    <a:lnTo>
                      <a:pt x="82" y="252"/>
                    </a:lnTo>
                    <a:lnTo>
                      <a:pt x="76" y="250"/>
                    </a:lnTo>
                    <a:lnTo>
                      <a:pt x="71" y="248"/>
                    </a:lnTo>
                    <a:lnTo>
                      <a:pt x="66" y="245"/>
                    </a:lnTo>
                    <a:lnTo>
                      <a:pt x="60" y="243"/>
                    </a:lnTo>
                    <a:lnTo>
                      <a:pt x="55" y="239"/>
                    </a:lnTo>
                    <a:lnTo>
                      <a:pt x="51" y="237"/>
                    </a:lnTo>
                    <a:lnTo>
                      <a:pt x="42" y="229"/>
                    </a:lnTo>
                    <a:lnTo>
                      <a:pt x="33" y="220"/>
                    </a:lnTo>
                    <a:lnTo>
                      <a:pt x="26" y="210"/>
                    </a:lnTo>
                    <a:lnTo>
                      <a:pt x="20" y="199"/>
                    </a:lnTo>
                    <a:lnTo>
                      <a:pt x="15" y="187"/>
                    </a:lnTo>
                    <a:lnTo>
                      <a:pt x="10" y="176"/>
                    </a:lnTo>
                    <a:lnTo>
                      <a:pt x="6" y="163"/>
                    </a:lnTo>
                    <a:lnTo>
                      <a:pt x="3" y="149"/>
                    </a:lnTo>
                    <a:lnTo>
                      <a:pt x="1" y="137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3" y="72"/>
                    </a:lnTo>
                    <a:lnTo>
                      <a:pt x="6" y="61"/>
                    </a:lnTo>
                    <a:lnTo>
                      <a:pt x="10" y="52"/>
                    </a:lnTo>
                    <a:lnTo>
                      <a:pt x="15" y="43"/>
                    </a:lnTo>
                    <a:lnTo>
                      <a:pt x="20" y="35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2" y="16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5" y="2"/>
                    </a:lnTo>
                    <a:lnTo>
                      <a:pt x="149" y="4"/>
                    </a:lnTo>
                    <a:lnTo>
                      <a:pt x="161" y="7"/>
                    </a:lnTo>
                    <a:lnTo>
                      <a:pt x="174" y="11"/>
                    </a:lnTo>
                    <a:lnTo>
                      <a:pt x="185" y="16"/>
                    </a:lnTo>
                    <a:lnTo>
                      <a:pt x="196" y="21"/>
                    </a:lnTo>
                    <a:lnTo>
                      <a:pt x="208" y="27"/>
                    </a:lnTo>
                    <a:lnTo>
                      <a:pt x="218" y="35"/>
                    </a:lnTo>
                    <a:lnTo>
                      <a:pt x="226" y="43"/>
                    </a:lnTo>
                    <a:lnTo>
                      <a:pt x="234" y="52"/>
                    </a:lnTo>
                    <a:lnTo>
                      <a:pt x="238" y="56"/>
                    </a:lnTo>
                    <a:lnTo>
                      <a:pt x="240" y="61"/>
                    </a:lnTo>
                    <a:lnTo>
                      <a:pt x="243" y="67"/>
                    </a:lnTo>
                    <a:lnTo>
                      <a:pt x="245" y="72"/>
                    </a:lnTo>
                    <a:lnTo>
                      <a:pt x="248" y="77"/>
                    </a:lnTo>
                    <a:lnTo>
                      <a:pt x="249" y="84"/>
                    </a:lnTo>
                    <a:lnTo>
                      <a:pt x="251" y="90"/>
                    </a:lnTo>
                    <a:lnTo>
                      <a:pt x="251" y="96"/>
                    </a:lnTo>
                    <a:lnTo>
                      <a:pt x="253" y="103"/>
                    </a:lnTo>
                    <a:lnTo>
                      <a:pt x="253" y="109"/>
                    </a:lnTo>
                    <a:lnTo>
                      <a:pt x="25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82" name=""/>
              <p:cNvSpPr/>
              <p:nvPr/>
            </p:nvSpPr>
            <p:spPr>
              <a:xfrm>
                <a:off x="4897080" y="3827520"/>
                <a:ext cx="813240" cy="403920"/>
              </a:xfrm>
              <a:custGeom>
                <a:avLst/>
                <a:gdLst/>
                <a:ahLst/>
                <a:rect l="l" t="t" r="r" b="b"/>
                <a:pathLst>
                  <a:path w="1195" h="729">
                    <a:moveTo>
                      <a:pt x="0" y="729"/>
                    </a:moveTo>
                    <a:lnTo>
                      <a:pt x="1195" y="729"/>
                    </a:lnTo>
                    <a:lnTo>
                      <a:pt x="119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983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4872960" y="3806640"/>
                <a:ext cx="813240" cy="4050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984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4872960" y="3806640"/>
                <a:ext cx="813240" cy="4050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985" name=""/>
              <p:cNvSpPr/>
              <p:nvPr/>
            </p:nvSpPr>
            <p:spPr>
              <a:xfrm>
                <a:off x="4999320" y="3956400"/>
                <a:ext cx="169920" cy="138600"/>
              </a:xfrm>
              <a:custGeom>
                <a:avLst/>
                <a:gdLst/>
                <a:ahLst/>
                <a:rect l="l" t="t" r="r" b="b"/>
                <a:pathLst>
                  <a:path w="249" h="249">
                    <a:moveTo>
                      <a:pt x="249" y="126"/>
                    </a:moveTo>
                    <a:lnTo>
                      <a:pt x="249" y="133"/>
                    </a:lnTo>
                    <a:lnTo>
                      <a:pt x="248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3" y="163"/>
                    </a:lnTo>
                    <a:lnTo>
                      <a:pt x="239" y="174"/>
                    </a:lnTo>
                    <a:lnTo>
                      <a:pt x="234" y="184"/>
                    </a:lnTo>
                    <a:lnTo>
                      <a:pt x="228" y="194"/>
                    </a:lnTo>
                    <a:lnTo>
                      <a:pt x="220" y="204"/>
                    </a:lnTo>
                    <a:lnTo>
                      <a:pt x="212" y="213"/>
                    </a:lnTo>
                    <a:lnTo>
                      <a:pt x="203" y="221"/>
                    </a:lnTo>
                    <a:lnTo>
                      <a:pt x="194" y="228"/>
                    </a:lnTo>
                    <a:lnTo>
                      <a:pt x="183" y="235"/>
                    </a:lnTo>
                    <a:lnTo>
                      <a:pt x="173" y="240"/>
                    </a:lnTo>
                    <a:lnTo>
                      <a:pt x="161" y="244"/>
                    </a:lnTo>
                    <a:lnTo>
                      <a:pt x="149" y="246"/>
                    </a:lnTo>
                    <a:lnTo>
                      <a:pt x="136" y="249"/>
                    </a:lnTo>
                    <a:lnTo>
                      <a:pt x="130" y="249"/>
                    </a:lnTo>
                    <a:lnTo>
                      <a:pt x="124" y="249"/>
                    </a:lnTo>
                    <a:lnTo>
                      <a:pt x="118" y="249"/>
                    </a:lnTo>
                    <a:lnTo>
                      <a:pt x="111" y="249"/>
                    </a:lnTo>
                    <a:lnTo>
                      <a:pt x="100" y="246"/>
                    </a:lnTo>
                    <a:lnTo>
                      <a:pt x="88" y="244"/>
                    </a:lnTo>
                    <a:lnTo>
                      <a:pt x="76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6" y="213"/>
                    </a:lnTo>
                    <a:lnTo>
                      <a:pt x="29" y="204"/>
                    </a:lnTo>
                    <a:lnTo>
                      <a:pt x="21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5" y="163"/>
                    </a:lnTo>
                    <a:lnTo>
                      <a:pt x="2" y="150"/>
                    </a:lnTo>
                    <a:lnTo>
                      <a:pt x="1" y="145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1" y="106"/>
                    </a:lnTo>
                    <a:lnTo>
                      <a:pt x="2" y="100"/>
                    </a:lnTo>
                    <a:lnTo>
                      <a:pt x="6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1" y="56"/>
                    </a:lnTo>
                    <a:lnTo>
                      <a:pt x="29" y="45"/>
                    </a:lnTo>
                    <a:lnTo>
                      <a:pt x="36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8" y="6"/>
                    </a:lnTo>
                    <a:lnTo>
                      <a:pt x="100" y="2"/>
                    </a:lnTo>
                    <a:lnTo>
                      <a:pt x="111" y="1"/>
                    </a:lnTo>
                    <a:lnTo>
                      <a:pt x="118" y="1"/>
                    </a:lnTo>
                    <a:lnTo>
                      <a:pt x="124" y="0"/>
                    </a:lnTo>
                    <a:lnTo>
                      <a:pt x="130" y="1"/>
                    </a:lnTo>
                    <a:lnTo>
                      <a:pt x="136" y="1"/>
                    </a:lnTo>
                    <a:lnTo>
                      <a:pt x="149" y="2"/>
                    </a:lnTo>
                    <a:lnTo>
                      <a:pt x="161" y="6"/>
                    </a:lnTo>
                    <a:lnTo>
                      <a:pt x="173" y="10"/>
                    </a:lnTo>
                    <a:lnTo>
                      <a:pt x="183" y="15"/>
                    </a:lnTo>
                    <a:lnTo>
                      <a:pt x="194" y="21"/>
                    </a:lnTo>
                    <a:lnTo>
                      <a:pt x="203" y="29"/>
                    </a:lnTo>
                    <a:lnTo>
                      <a:pt x="212" y="37"/>
                    </a:lnTo>
                    <a:lnTo>
                      <a:pt x="220" y="45"/>
                    </a:lnTo>
                    <a:lnTo>
                      <a:pt x="228" y="56"/>
                    </a:lnTo>
                    <a:lnTo>
                      <a:pt x="234" y="66"/>
                    </a:lnTo>
                    <a:lnTo>
                      <a:pt x="239" y="77"/>
                    </a:lnTo>
                    <a:lnTo>
                      <a:pt x="243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48" y="112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2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5424840" y="3956400"/>
                <a:ext cx="169920" cy="13860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50" y="126"/>
                    </a:moveTo>
                    <a:lnTo>
                      <a:pt x="250" y="133"/>
                    </a:lnTo>
                    <a:lnTo>
                      <a:pt x="250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5" y="163"/>
                    </a:lnTo>
                    <a:lnTo>
                      <a:pt x="240" y="174"/>
                    </a:lnTo>
                    <a:lnTo>
                      <a:pt x="235" y="184"/>
                    </a:lnTo>
                    <a:lnTo>
                      <a:pt x="228" y="194"/>
                    </a:lnTo>
                    <a:lnTo>
                      <a:pt x="221" y="204"/>
                    </a:lnTo>
                    <a:lnTo>
                      <a:pt x="213" y="213"/>
                    </a:lnTo>
                    <a:lnTo>
                      <a:pt x="205" y="221"/>
                    </a:lnTo>
                    <a:lnTo>
                      <a:pt x="195" y="228"/>
                    </a:lnTo>
                    <a:lnTo>
                      <a:pt x="184" y="235"/>
                    </a:lnTo>
                    <a:lnTo>
                      <a:pt x="173" y="240"/>
                    </a:lnTo>
                    <a:lnTo>
                      <a:pt x="162" y="244"/>
                    </a:lnTo>
                    <a:lnTo>
                      <a:pt x="151" y="246"/>
                    </a:lnTo>
                    <a:lnTo>
                      <a:pt x="138" y="249"/>
                    </a:lnTo>
                    <a:lnTo>
                      <a:pt x="132" y="249"/>
                    </a:lnTo>
                    <a:lnTo>
                      <a:pt x="126" y="249"/>
                    </a:lnTo>
                    <a:lnTo>
                      <a:pt x="119" y="249"/>
                    </a:lnTo>
                    <a:lnTo>
                      <a:pt x="112" y="249"/>
                    </a:lnTo>
                    <a:lnTo>
                      <a:pt x="99" y="246"/>
                    </a:lnTo>
                    <a:lnTo>
                      <a:pt x="88" y="244"/>
                    </a:lnTo>
                    <a:lnTo>
                      <a:pt x="77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7" y="213"/>
                    </a:lnTo>
                    <a:lnTo>
                      <a:pt x="29" y="204"/>
                    </a:lnTo>
                    <a:lnTo>
                      <a:pt x="22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7" y="163"/>
                    </a:lnTo>
                    <a:lnTo>
                      <a:pt x="3" y="150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6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3" y="100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9" y="45"/>
                    </a:lnTo>
                    <a:lnTo>
                      <a:pt x="37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7" y="10"/>
                    </a:lnTo>
                    <a:lnTo>
                      <a:pt x="88" y="6"/>
                    </a:lnTo>
                    <a:lnTo>
                      <a:pt x="99" y="2"/>
                    </a:lnTo>
                    <a:lnTo>
                      <a:pt x="112" y="1"/>
                    </a:lnTo>
                    <a:lnTo>
                      <a:pt x="119" y="1"/>
                    </a:lnTo>
                    <a:lnTo>
                      <a:pt x="126" y="0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51" y="2"/>
                    </a:lnTo>
                    <a:lnTo>
                      <a:pt x="162" y="6"/>
                    </a:lnTo>
                    <a:lnTo>
                      <a:pt x="173" y="10"/>
                    </a:lnTo>
                    <a:lnTo>
                      <a:pt x="184" y="15"/>
                    </a:lnTo>
                    <a:lnTo>
                      <a:pt x="195" y="21"/>
                    </a:lnTo>
                    <a:lnTo>
                      <a:pt x="205" y="29"/>
                    </a:lnTo>
                    <a:lnTo>
                      <a:pt x="213" y="37"/>
                    </a:lnTo>
                    <a:lnTo>
                      <a:pt x="221" y="45"/>
                    </a:lnTo>
                    <a:lnTo>
                      <a:pt x="228" y="56"/>
                    </a:lnTo>
                    <a:lnTo>
                      <a:pt x="235" y="66"/>
                    </a:lnTo>
                    <a:lnTo>
                      <a:pt x="240" y="77"/>
                    </a:lnTo>
                    <a:lnTo>
                      <a:pt x="245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50" y="112"/>
                    </a:lnTo>
                    <a:lnTo>
                      <a:pt x="250" y="120"/>
                    </a:lnTo>
                    <a:lnTo>
                      <a:pt x="250" y="126"/>
                    </a:lnTo>
                    <a:lnTo>
                      <a:pt x="250" y="12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4894560" y="3825360"/>
                <a:ext cx="803520" cy="40176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88" name=""/>
              <p:cNvSpPr/>
              <p:nvPr/>
            </p:nvSpPr>
            <p:spPr>
              <a:xfrm>
                <a:off x="2606760" y="3948480"/>
                <a:ext cx="24480" cy="445320"/>
              </a:xfrm>
              <a:prstGeom prst="rect">
                <a:avLst/>
              </a:prstGeom>
              <a:solidFill>
                <a:srgbClr val="47474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89" name=""/>
              <p:cNvSpPr/>
              <p:nvPr/>
            </p:nvSpPr>
            <p:spPr>
              <a:xfrm>
                <a:off x="2631240" y="3948480"/>
                <a:ext cx="24120" cy="445320"/>
              </a:xfrm>
              <a:prstGeom prst="rect">
                <a:avLst/>
              </a:prstGeom>
              <a:solidFill>
                <a:srgbClr val="46464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0" name=""/>
              <p:cNvSpPr/>
              <p:nvPr/>
            </p:nvSpPr>
            <p:spPr>
              <a:xfrm>
                <a:off x="2655720" y="3948480"/>
                <a:ext cx="24120" cy="445320"/>
              </a:xfrm>
              <a:prstGeom prst="rect">
                <a:avLst/>
              </a:prstGeom>
              <a:solidFill>
                <a:srgbClr val="60606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1" name=""/>
              <p:cNvSpPr/>
              <p:nvPr/>
            </p:nvSpPr>
            <p:spPr>
              <a:xfrm>
                <a:off x="2620080" y="3960720"/>
                <a:ext cx="65160" cy="437400"/>
              </a:xfrm>
              <a:custGeom>
                <a:avLst/>
                <a:gdLst/>
                <a:ahLst/>
                <a:rect l="l" t="t" r="r" b="b"/>
                <a:pathLst>
                  <a:path w="95" h="786">
                    <a:moveTo>
                      <a:pt x="90" y="786"/>
                    </a:moveTo>
                    <a:lnTo>
                      <a:pt x="4" y="786"/>
                    </a:lnTo>
                    <a:lnTo>
                      <a:pt x="2" y="785"/>
                    </a:lnTo>
                    <a:lnTo>
                      <a:pt x="1" y="784"/>
                    </a:lnTo>
                    <a:lnTo>
                      <a:pt x="0" y="782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4" y="2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779"/>
                    </a:lnTo>
                    <a:lnTo>
                      <a:pt x="94" y="782"/>
                    </a:lnTo>
                    <a:lnTo>
                      <a:pt x="93" y="784"/>
                    </a:lnTo>
                    <a:lnTo>
                      <a:pt x="91" y="785"/>
                    </a:lnTo>
                    <a:lnTo>
                      <a:pt x="90" y="78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2" name=""/>
              <p:cNvSpPr/>
              <p:nvPr/>
            </p:nvSpPr>
            <p:spPr>
              <a:xfrm>
                <a:off x="2896200" y="4327200"/>
                <a:ext cx="838080" cy="59760"/>
              </a:xfrm>
              <a:custGeom>
                <a:avLst/>
                <a:gdLst/>
                <a:ahLst/>
                <a:rect l="l" t="t" r="r" b="b"/>
                <a:pathLst>
                  <a:path w="1231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77" y="0"/>
                    </a:moveTo>
                    <a:lnTo>
                      <a:pt x="1077" y="104"/>
                    </a:lnTo>
                    <a:lnTo>
                      <a:pt x="1077" y="106"/>
                    </a:lnTo>
                    <a:lnTo>
                      <a:pt x="1077" y="107"/>
                    </a:lnTo>
                    <a:lnTo>
                      <a:pt x="1078" y="108"/>
                    </a:lnTo>
                    <a:lnTo>
                      <a:pt x="1080" y="108"/>
                    </a:lnTo>
                    <a:lnTo>
                      <a:pt x="1080" y="108"/>
                    </a:lnTo>
                    <a:lnTo>
                      <a:pt x="1229" y="108"/>
                    </a:lnTo>
                    <a:lnTo>
                      <a:pt x="1229" y="108"/>
                    </a:lnTo>
                    <a:lnTo>
                      <a:pt x="1230" y="107"/>
                    </a:lnTo>
                    <a:lnTo>
                      <a:pt x="1231" y="106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0"/>
                    </a:lnTo>
                    <a:lnTo>
                      <a:pt x="1077" y="0"/>
                    </a:lnTo>
                    <a:lnTo>
                      <a:pt x="1077" y="0"/>
                    </a:lnTo>
                    <a:close/>
                  </a:path>
                </a:pathLst>
              </a:custGeom>
              <a:solidFill>
                <a:srgbClr val="c5c5c5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3" name=""/>
              <p:cNvSpPr/>
              <p:nvPr/>
            </p:nvSpPr>
            <p:spPr>
              <a:xfrm>
                <a:off x="2896200" y="432720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4" name=""/>
              <p:cNvSpPr/>
              <p:nvPr/>
            </p:nvSpPr>
            <p:spPr>
              <a:xfrm>
                <a:off x="3629520" y="4327200"/>
                <a:ext cx="104760" cy="597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3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5" name=""/>
              <p:cNvSpPr/>
              <p:nvPr/>
            </p:nvSpPr>
            <p:spPr>
              <a:xfrm>
                <a:off x="4128840" y="3817440"/>
                <a:ext cx="415800" cy="3319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6" name=""/>
              <p:cNvSpPr/>
              <p:nvPr/>
            </p:nvSpPr>
            <p:spPr>
              <a:xfrm>
                <a:off x="4128840" y="3817440"/>
                <a:ext cx="415800" cy="33192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7" name=""/>
              <p:cNvSpPr/>
              <p:nvPr/>
            </p:nvSpPr>
            <p:spPr>
              <a:xfrm>
                <a:off x="4132800" y="3997440"/>
                <a:ext cx="410760" cy="15192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8" name=""/>
              <p:cNvSpPr/>
              <p:nvPr/>
            </p:nvSpPr>
            <p:spPr>
              <a:xfrm>
                <a:off x="4132800" y="3997440"/>
                <a:ext cx="410760" cy="15192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9" name=""/>
              <p:cNvSpPr/>
              <p:nvPr/>
            </p:nvSpPr>
            <p:spPr>
              <a:xfrm>
                <a:off x="2893680" y="3816360"/>
                <a:ext cx="1928520" cy="588600"/>
              </a:xfrm>
              <a:custGeom>
                <a:avLst/>
                <a:gdLst/>
                <a:ahLst/>
                <a:rect l="l" t="t" r="r" b="b"/>
                <a:pathLst>
                  <a:path w="2835" h="1060">
                    <a:moveTo>
                      <a:pt x="175" y="1060"/>
                    </a:moveTo>
                    <a:lnTo>
                      <a:pt x="326" y="1060"/>
                    </a:lnTo>
                    <a:lnTo>
                      <a:pt x="327" y="1060"/>
                    </a:lnTo>
                    <a:lnTo>
                      <a:pt x="327" y="1058"/>
                    </a:lnTo>
                    <a:lnTo>
                      <a:pt x="327" y="1057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978"/>
                    </a:lnTo>
                    <a:lnTo>
                      <a:pt x="327" y="976"/>
                    </a:lnTo>
                    <a:lnTo>
                      <a:pt x="327" y="975"/>
                    </a:lnTo>
                    <a:lnTo>
                      <a:pt x="327" y="974"/>
                    </a:lnTo>
                    <a:lnTo>
                      <a:pt x="326" y="974"/>
                    </a:lnTo>
                    <a:lnTo>
                      <a:pt x="175" y="974"/>
                    </a:lnTo>
                    <a:lnTo>
                      <a:pt x="175" y="974"/>
                    </a:lnTo>
                    <a:lnTo>
                      <a:pt x="175" y="975"/>
                    </a:lnTo>
                    <a:lnTo>
                      <a:pt x="174" y="976"/>
                    </a:lnTo>
                    <a:lnTo>
                      <a:pt x="174" y="978"/>
                    </a:lnTo>
                    <a:lnTo>
                      <a:pt x="174" y="978"/>
                    </a:lnTo>
                    <a:lnTo>
                      <a:pt x="174" y="1056"/>
                    </a:lnTo>
                    <a:lnTo>
                      <a:pt x="174" y="1057"/>
                    </a:lnTo>
                    <a:lnTo>
                      <a:pt x="175" y="1058"/>
                    </a:lnTo>
                    <a:lnTo>
                      <a:pt x="175" y="1060"/>
                    </a:lnTo>
                    <a:lnTo>
                      <a:pt x="175" y="1060"/>
                    </a:lnTo>
                    <a:lnTo>
                      <a:pt x="175" y="1060"/>
                    </a:lnTo>
                    <a:close/>
                    <a:moveTo>
                      <a:pt x="362" y="1060"/>
                    </a:moveTo>
                    <a:lnTo>
                      <a:pt x="508" y="1060"/>
                    </a:lnTo>
                    <a:lnTo>
                      <a:pt x="510" y="1060"/>
                    </a:lnTo>
                    <a:lnTo>
                      <a:pt x="511" y="1058"/>
                    </a:lnTo>
                    <a:lnTo>
                      <a:pt x="512" y="1057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978"/>
                    </a:lnTo>
                    <a:lnTo>
                      <a:pt x="512" y="976"/>
                    </a:lnTo>
                    <a:lnTo>
                      <a:pt x="511" y="975"/>
                    </a:lnTo>
                    <a:lnTo>
                      <a:pt x="510" y="974"/>
                    </a:lnTo>
                    <a:lnTo>
                      <a:pt x="508" y="974"/>
                    </a:lnTo>
                    <a:lnTo>
                      <a:pt x="362" y="974"/>
                    </a:lnTo>
                    <a:lnTo>
                      <a:pt x="359" y="974"/>
                    </a:lnTo>
                    <a:lnTo>
                      <a:pt x="358" y="975"/>
                    </a:lnTo>
                    <a:lnTo>
                      <a:pt x="357" y="976"/>
                    </a:lnTo>
                    <a:lnTo>
                      <a:pt x="357" y="978"/>
                    </a:lnTo>
                    <a:lnTo>
                      <a:pt x="357" y="978"/>
                    </a:lnTo>
                    <a:lnTo>
                      <a:pt x="357" y="1056"/>
                    </a:lnTo>
                    <a:lnTo>
                      <a:pt x="357" y="1057"/>
                    </a:lnTo>
                    <a:lnTo>
                      <a:pt x="358" y="1058"/>
                    </a:lnTo>
                    <a:lnTo>
                      <a:pt x="359" y="1060"/>
                    </a:lnTo>
                    <a:lnTo>
                      <a:pt x="362" y="1060"/>
                    </a:lnTo>
                    <a:lnTo>
                      <a:pt x="362" y="1060"/>
                    </a:lnTo>
                    <a:close/>
                    <a:moveTo>
                      <a:pt x="545" y="1060"/>
                    </a:moveTo>
                    <a:lnTo>
                      <a:pt x="694" y="1060"/>
                    </a:lnTo>
                    <a:lnTo>
                      <a:pt x="694" y="1060"/>
                    </a:lnTo>
                    <a:lnTo>
                      <a:pt x="695" y="1058"/>
                    </a:lnTo>
                    <a:lnTo>
                      <a:pt x="696" y="1057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978"/>
                    </a:lnTo>
                    <a:lnTo>
                      <a:pt x="696" y="976"/>
                    </a:lnTo>
                    <a:lnTo>
                      <a:pt x="695" y="975"/>
                    </a:lnTo>
                    <a:lnTo>
                      <a:pt x="694" y="974"/>
                    </a:lnTo>
                    <a:lnTo>
                      <a:pt x="694" y="974"/>
                    </a:lnTo>
                    <a:lnTo>
                      <a:pt x="545" y="974"/>
                    </a:lnTo>
                    <a:lnTo>
                      <a:pt x="544" y="974"/>
                    </a:lnTo>
                    <a:lnTo>
                      <a:pt x="542" y="975"/>
                    </a:lnTo>
                    <a:lnTo>
                      <a:pt x="542" y="976"/>
                    </a:lnTo>
                    <a:lnTo>
                      <a:pt x="542" y="978"/>
                    </a:lnTo>
                    <a:lnTo>
                      <a:pt x="542" y="978"/>
                    </a:lnTo>
                    <a:lnTo>
                      <a:pt x="542" y="1056"/>
                    </a:lnTo>
                    <a:lnTo>
                      <a:pt x="542" y="1057"/>
                    </a:lnTo>
                    <a:lnTo>
                      <a:pt x="542" y="1058"/>
                    </a:lnTo>
                    <a:lnTo>
                      <a:pt x="544" y="1060"/>
                    </a:lnTo>
                    <a:lnTo>
                      <a:pt x="545" y="1060"/>
                    </a:lnTo>
                    <a:lnTo>
                      <a:pt x="545" y="1060"/>
                    </a:lnTo>
                    <a:close/>
                    <a:moveTo>
                      <a:pt x="730" y="1060"/>
                    </a:moveTo>
                    <a:lnTo>
                      <a:pt x="877" y="1060"/>
                    </a:lnTo>
                    <a:lnTo>
                      <a:pt x="879" y="1060"/>
                    </a:lnTo>
                    <a:lnTo>
                      <a:pt x="881" y="1058"/>
                    </a:lnTo>
                    <a:lnTo>
                      <a:pt x="882" y="1057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978"/>
                    </a:lnTo>
                    <a:lnTo>
                      <a:pt x="882" y="976"/>
                    </a:lnTo>
                    <a:lnTo>
                      <a:pt x="881" y="975"/>
                    </a:lnTo>
                    <a:lnTo>
                      <a:pt x="879" y="974"/>
                    </a:lnTo>
                    <a:lnTo>
                      <a:pt x="877" y="974"/>
                    </a:lnTo>
                    <a:lnTo>
                      <a:pt x="730" y="974"/>
                    </a:lnTo>
                    <a:lnTo>
                      <a:pt x="729" y="974"/>
                    </a:lnTo>
                    <a:lnTo>
                      <a:pt x="728" y="975"/>
                    </a:lnTo>
                    <a:lnTo>
                      <a:pt x="727" y="976"/>
                    </a:lnTo>
                    <a:lnTo>
                      <a:pt x="725" y="978"/>
                    </a:lnTo>
                    <a:lnTo>
                      <a:pt x="725" y="978"/>
                    </a:lnTo>
                    <a:lnTo>
                      <a:pt x="725" y="1056"/>
                    </a:lnTo>
                    <a:lnTo>
                      <a:pt x="727" y="1057"/>
                    </a:lnTo>
                    <a:lnTo>
                      <a:pt x="728" y="1058"/>
                    </a:lnTo>
                    <a:lnTo>
                      <a:pt x="729" y="1060"/>
                    </a:lnTo>
                    <a:lnTo>
                      <a:pt x="730" y="1060"/>
                    </a:lnTo>
                    <a:lnTo>
                      <a:pt x="730" y="1060"/>
                    </a:lnTo>
                    <a:close/>
                    <a:moveTo>
                      <a:pt x="913" y="1060"/>
                    </a:moveTo>
                    <a:lnTo>
                      <a:pt x="1061" y="1060"/>
                    </a:lnTo>
                    <a:lnTo>
                      <a:pt x="1062" y="1060"/>
                    </a:lnTo>
                    <a:lnTo>
                      <a:pt x="1064" y="1058"/>
                    </a:lnTo>
                    <a:lnTo>
                      <a:pt x="1065" y="1057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978"/>
                    </a:lnTo>
                    <a:lnTo>
                      <a:pt x="1065" y="976"/>
                    </a:lnTo>
                    <a:lnTo>
                      <a:pt x="1064" y="975"/>
                    </a:lnTo>
                    <a:lnTo>
                      <a:pt x="1062" y="974"/>
                    </a:lnTo>
                    <a:lnTo>
                      <a:pt x="1061" y="974"/>
                    </a:lnTo>
                    <a:lnTo>
                      <a:pt x="1061" y="974"/>
                    </a:lnTo>
                    <a:lnTo>
                      <a:pt x="913" y="974"/>
                    </a:lnTo>
                    <a:lnTo>
                      <a:pt x="912" y="974"/>
                    </a:lnTo>
                    <a:lnTo>
                      <a:pt x="912" y="975"/>
                    </a:lnTo>
                    <a:lnTo>
                      <a:pt x="912" y="976"/>
                    </a:lnTo>
                    <a:lnTo>
                      <a:pt x="912" y="978"/>
                    </a:lnTo>
                    <a:lnTo>
                      <a:pt x="912" y="978"/>
                    </a:lnTo>
                    <a:lnTo>
                      <a:pt x="912" y="1056"/>
                    </a:lnTo>
                    <a:lnTo>
                      <a:pt x="912" y="1057"/>
                    </a:lnTo>
                    <a:lnTo>
                      <a:pt x="912" y="1058"/>
                    </a:lnTo>
                    <a:lnTo>
                      <a:pt x="912" y="1060"/>
                    </a:lnTo>
                    <a:lnTo>
                      <a:pt x="913" y="1060"/>
                    </a:lnTo>
                    <a:lnTo>
                      <a:pt x="913" y="1060"/>
                    </a:lnTo>
                    <a:close/>
                    <a:moveTo>
                      <a:pt x="4" y="643"/>
                    </a:moveTo>
                    <a:lnTo>
                      <a:pt x="151" y="643"/>
                    </a:lnTo>
                    <a:lnTo>
                      <a:pt x="153" y="643"/>
                    </a:lnTo>
                    <a:lnTo>
                      <a:pt x="154" y="643"/>
                    </a:lnTo>
                    <a:lnTo>
                      <a:pt x="155" y="642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581"/>
                    </a:lnTo>
                    <a:lnTo>
                      <a:pt x="155" y="581"/>
                    </a:lnTo>
                    <a:lnTo>
                      <a:pt x="154" y="580"/>
                    </a:lnTo>
                    <a:lnTo>
                      <a:pt x="153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4" y="580"/>
                    </a:lnTo>
                    <a:lnTo>
                      <a:pt x="2" y="580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641"/>
                    </a:lnTo>
                    <a:lnTo>
                      <a:pt x="0" y="642"/>
                    </a:lnTo>
                    <a:lnTo>
                      <a:pt x="1" y="643"/>
                    </a:lnTo>
                    <a:lnTo>
                      <a:pt x="2" y="643"/>
                    </a:lnTo>
                    <a:lnTo>
                      <a:pt x="4" y="643"/>
                    </a:lnTo>
                    <a:lnTo>
                      <a:pt x="4" y="643"/>
                    </a:lnTo>
                    <a:close/>
                    <a:moveTo>
                      <a:pt x="352" y="643"/>
                    </a:moveTo>
                    <a:lnTo>
                      <a:pt x="466" y="643"/>
                    </a:lnTo>
                    <a:lnTo>
                      <a:pt x="467" y="643"/>
                    </a:lnTo>
                    <a:lnTo>
                      <a:pt x="468" y="643"/>
                    </a:lnTo>
                    <a:lnTo>
                      <a:pt x="470" y="642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581"/>
                    </a:lnTo>
                    <a:lnTo>
                      <a:pt x="470" y="581"/>
                    </a:lnTo>
                    <a:lnTo>
                      <a:pt x="468" y="580"/>
                    </a:lnTo>
                    <a:lnTo>
                      <a:pt x="467" y="580"/>
                    </a:lnTo>
                    <a:lnTo>
                      <a:pt x="466" y="580"/>
                    </a:lnTo>
                    <a:lnTo>
                      <a:pt x="466" y="580"/>
                    </a:lnTo>
                    <a:lnTo>
                      <a:pt x="352" y="580"/>
                    </a:lnTo>
                    <a:lnTo>
                      <a:pt x="351" y="580"/>
                    </a:lnTo>
                    <a:lnTo>
                      <a:pt x="349" y="580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641"/>
                    </a:lnTo>
                    <a:lnTo>
                      <a:pt x="348" y="642"/>
                    </a:lnTo>
                    <a:lnTo>
                      <a:pt x="349" y="643"/>
                    </a:lnTo>
                    <a:lnTo>
                      <a:pt x="351" y="643"/>
                    </a:lnTo>
                    <a:lnTo>
                      <a:pt x="352" y="643"/>
                    </a:lnTo>
                    <a:lnTo>
                      <a:pt x="352" y="643"/>
                    </a:lnTo>
                    <a:close/>
                    <a:moveTo>
                      <a:pt x="502" y="643"/>
                    </a:moveTo>
                    <a:lnTo>
                      <a:pt x="617" y="643"/>
                    </a:lnTo>
                    <a:lnTo>
                      <a:pt x="619" y="643"/>
                    </a:lnTo>
                    <a:lnTo>
                      <a:pt x="619" y="643"/>
                    </a:lnTo>
                    <a:lnTo>
                      <a:pt x="619" y="642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581"/>
                    </a:lnTo>
                    <a:lnTo>
                      <a:pt x="619" y="581"/>
                    </a:lnTo>
                    <a:lnTo>
                      <a:pt x="619" y="580"/>
                    </a:lnTo>
                    <a:lnTo>
                      <a:pt x="619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502" y="580"/>
                    </a:lnTo>
                    <a:lnTo>
                      <a:pt x="501" y="580"/>
                    </a:lnTo>
                    <a:lnTo>
                      <a:pt x="500" y="580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641"/>
                    </a:lnTo>
                    <a:lnTo>
                      <a:pt x="500" y="642"/>
                    </a:lnTo>
                    <a:lnTo>
                      <a:pt x="500" y="643"/>
                    </a:lnTo>
                    <a:lnTo>
                      <a:pt x="501" y="643"/>
                    </a:lnTo>
                    <a:lnTo>
                      <a:pt x="502" y="643"/>
                    </a:lnTo>
                    <a:lnTo>
                      <a:pt x="502" y="643"/>
                    </a:lnTo>
                    <a:close/>
                    <a:moveTo>
                      <a:pt x="651" y="643"/>
                    </a:moveTo>
                    <a:lnTo>
                      <a:pt x="767" y="643"/>
                    </a:lnTo>
                    <a:lnTo>
                      <a:pt x="768" y="643"/>
                    </a:lnTo>
                    <a:lnTo>
                      <a:pt x="769" y="643"/>
                    </a:lnTo>
                    <a:lnTo>
                      <a:pt x="770" y="642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581"/>
                    </a:lnTo>
                    <a:lnTo>
                      <a:pt x="770" y="581"/>
                    </a:lnTo>
                    <a:lnTo>
                      <a:pt x="769" y="580"/>
                    </a:lnTo>
                    <a:lnTo>
                      <a:pt x="768" y="580"/>
                    </a:lnTo>
                    <a:lnTo>
                      <a:pt x="767" y="580"/>
                    </a:lnTo>
                    <a:lnTo>
                      <a:pt x="767" y="580"/>
                    </a:lnTo>
                    <a:lnTo>
                      <a:pt x="651" y="580"/>
                    </a:lnTo>
                    <a:lnTo>
                      <a:pt x="651" y="580"/>
                    </a:lnTo>
                    <a:lnTo>
                      <a:pt x="650" y="580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641"/>
                    </a:lnTo>
                    <a:lnTo>
                      <a:pt x="649" y="642"/>
                    </a:lnTo>
                    <a:lnTo>
                      <a:pt x="650" y="643"/>
                    </a:lnTo>
                    <a:lnTo>
                      <a:pt x="651" y="643"/>
                    </a:lnTo>
                    <a:lnTo>
                      <a:pt x="651" y="643"/>
                    </a:lnTo>
                    <a:lnTo>
                      <a:pt x="651" y="643"/>
                    </a:lnTo>
                    <a:close/>
                    <a:moveTo>
                      <a:pt x="971" y="643"/>
                    </a:moveTo>
                    <a:lnTo>
                      <a:pt x="1086" y="643"/>
                    </a:lnTo>
                    <a:lnTo>
                      <a:pt x="1087" y="643"/>
                    </a:lnTo>
                    <a:lnTo>
                      <a:pt x="1087" y="643"/>
                    </a:lnTo>
                    <a:lnTo>
                      <a:pt x="1087" y="642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581"/>
                    </a:lnTo>
                    <a:lnTo>
                      <a:pt x="1087" y="581"/>
                    </a:lnTo>
                    <a:lnTo>
                      <a:pt x="1087" y="580"/>
                    </a:lnTo>
                    <a:lnTo>
                      <a:pt x="1087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971" y="580"/>
                    </a:lnTo>
                    <a:lnTo>
                      <a:pt x="970" y="580"/>
                    </a:lnTo>
                    <a:lnTo>
                      <a:pt x="968" y="580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641"/>
                    </a:lnTo>
                    <a:lnTo>
                      <a:pt x="968" y="642"/>
                    </a:lnTo>
                    <a:lnTo>
                      <a:pt x="968" y="643"/>
                    </a:lnTo>
                    <a:lnTo>
                      <a:pt x="970" y="643"/>
                    </a:lnTo>
                    <a:lnTo>
                      <a:pt x="971" y="643"/>
                    </a:lnTo>
                    <a:lnTo>
                      <a:pt x="971" y="643"/>
                    </a:lnTo>
                    <a:close/>
                    <a:moveTo>
                      <a:pt x="1120" y="643"/>
                    </a:moveTo>
                    <a:lnTo>
                      <a:pt x="1235" y="643"/>
                    </a:lnTo>
                    <a:lnTo>
                      <a:pt x="1236" y="643"/>
                    </a:lnTo>
                    <a:lnTo>
                      <a:pt x="1238" y="643"/>
                    </a:lnTo>
                    <a:lnTo>
                      <a:pt x="1239" y="642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581"/>
                    </a:lnTo>
                    <a:lnTo>
                      <a:pt x="1239" y="581"/>
                    </a:lnTo>
                    <a:lnTo>
                      <a:pt x="1238" y="580"/>
                    </a:lnTo>
                    <a:lnTo>
                      <a:pt x="1236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120" y="580"/>
                    </a:lnTo>
                    <a:lnTo>
                      <a:pt x="1120" y="580"/>
                    </a:lnTo>
                    <a:lnTo>
                      <a:pt x="1119" y="580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641"/>
                    </a:lnTo>
                    <a:lnTo>
                      <a:pt x="1117" y="642"/>
                    </a:lnTo>
                    <a:lnTo>
                      <a:pt x="1119" y="643"/>
                    </a:lnTo>
                    <a:lnTo>
                      <a:pt x="1120" y="643"/>
                    </a:lnTo>
                    <a:lnTo>
                      <a:pt x="1120" y="643"/>
                    </a:lnTo>
                    <a:lnTo>
                      <a:pt x="1120" y="643"/>
                    </a:lnTo>
                    <a:close/>
                    <a:moveTo>
                      <a:pt x="1120" y="338"/>
                    </a:moveTo>
                    <a:lnTo>
                      <a:pt x="1235" y="338"/>
                    </a:lnTo>
                    <a:lnTo>
                      <a:pt x="1236" y="338"/>
                    </a:lnTo>
                    <a:lnTo>
                      <a:pt x="1238" y="338"/>
                    </a:lnTo>
                    <a:lnTo>
                      <a:pt x="1239" y="336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277"/>
                    </a:lnTo>
                    <a:lnTo>
                      <a:pt x="1239" y="274"/>
                    </a:lnTo>
                    <a:lnTo>
                      <a:pt x="1238" y="274"/>
                    </a:lnTo>
                    <a:lnTo>
                      <a:pt x="1236" y="274"/>
                    </a:lnTo>
                    <a:lnTo>
                      <a:pt x="1235" y="274"/>
                    </a:lnTo>
                    <a:lnTo>
                      <a:pt x="1235" y="274"/>
                    </a:lnTo>
                    <a:lnTo>
                      <a:pt x="1120" y="274"/>
                    </a:lnTo>
                    <a:lnTo>
                      <a:pt x="1120" y="274"/>
                    </a:lnTo>
                    <a:lnTo>
                      <a:pt x="1119" y="274"/>
                    </a:lnTo>
                    <a:lnTo>
                      <a:pt x="1117" y="274"/>
                    </a:lnTo>
                    <a:lnTo>
                      <a:pt x="1117" y="277"/>
                    </a:lnTo>
                    <a:lnTo>
                      <a:pt x="1117" y="277"/>
                    </a:lnTo>
                    <a:lnTo>
                      <a:pt x="1117" y="335"/>
                    </a:lnTo>
                    <a:lnTo>
                      <a:pt x="1117" y="336"/>
                    </a:lnTo>
                    <a:lnTo>
                      <a:pt x="1119" y="338"/>
                    </a:lnTo>
                    <a:lnTo>
                      <a:pt x="1120" y="338"/>
                    </a:lnTo>
                    <a:lnTo>
                      <a:pt x="1120" y="338"/>
                    </a:lnTo>
                    <a:lnTo>
                      <a:pt x="1120" y="338"/>
                    </a:lnTo>
                    <a:close/>
                    <a:moveTo>
                      <a:pt x="971" y="338"/>
                    </a:moveTo>
                    <a:lnTo>
                      <a:pt x="1086" y="338"/>
                    </a:lnTo>
                    <a:lnTo>
                      <a:pt x="1087" y="338"/>
                    </a:lnTo>
                    <a:lnTo>
                      <a:pt x="1087" y="338"/>
                    </a:lnTo>
                    <a:lnTo>
                      <a:pt x="1087" y="336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277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6" y="274"/>
                    </a:lnTo>
                    <a:lnTo>
                      <a:pt x="1086" y="274"/>
                    </a:lnTo>
                    <a:lnTo>
                      <a:pt x="971" y="274"/>
                    </a:lnTo>
                    <a:lnTo>
                      <a:pt x="970" y="274"/>
                    </a:lnTo>
                    <a:lnTo>
                      <a:pt x="968" y="274"/>
                    </a:lnTo>
                    <a:lnTo>
                      <a:pt x="968" y="274"/>
                    </a:lnTo>
                    <a:lnTo>
                      <a:pt x="968" y="277"/>
                    </a:lnTo>
                    <a:lnTo>
                      <a:pt x="968" y="277"/>
                    </a:lnTo>
                    <a:lnTo>
                      <a:pt x="968" y="335"/>
                    </a:lnTo>
                    <a:lnTo>
                      <a:pt x="968" y="336"/>
                    </a:lnTo>
                    <a:lnTo>
                      <a:pt x="968" y="338"/>
                    </a:lnTo>
                    <a:lnTo>
                      <a:pt x="970" y="338"/>
                    </a:lnTo>
                    <a:lnTo>
                      <a:pt x="971" y="338"/>
                    </a:lnTo>
                    <a:lnTo>
                      <a:pt x="971" y="338"/>
                    </a:lnTo>
                    <a:close/>
                    <a:moveTo>
                      <a:pt x="651" y="338"/>
                    </a:moveTo>
                    <a:lnTo>
                      <a:pt x="767" y="338"/>
                    </a:lnTo>
                    <a:lnTo>
                      <a:pt x="768" y="338"/>
                    </a:lnTo>
                    <a:lnTo>
                      <a:pt x="769" y="338"/>
                    </a:lnTo>
                    <a:lnTo>
                      <a:pt x="770" y="336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277"/>
                    </a:lnTo>
                    <a:lnTo>
                      <a:pt x="770" y="274"/>
                    </a:lnTo>
                    <a:lnTo>
                      <a:pt x="769" y="274"/>
                    </a:lnTo>
                    <a:lnTo>
                      <a:pt x="768" y="274"/>
                    </a:lnTo>
                    <a:lnTo>
                      <a:pt x="767" y="274"/>
                    </a:lnTo>
                    <a:lnTo>
                      <a:pt x="651" y="274"/>
                    </a:lnTo>
                    <a:lnTo>
                      <a:pt x="651" y="274"/>
                    </a:lnTo>
                    <a:lnTo>
                      <a:pt x="650" y="274"/>
                    </a:lnTo>
                    <a:lnTo>
                      <a:pt x="649" y="274"/>
                    </a:lnTo>
                    <a:lnTo>
                      <a:pt x="649" y="277"/>
                    </a:lnTo>
                    <a:lnTo>
                      <a:pt x="649" y="277"/>
                    </a:lnTo>
                    <a:lnTo>
                      <a:pt x="649" y="335"/>
                    </a:lnTo>
                    <a:lnTo>
                      <a:pt x="649" y="336"/>
                    </a:lnTo>
                    <a:lnTo>
                      <a:pt x="650" y="338"/>
                    </a:lnTo>
                    <a:lnTo>
                      <a:pt x="651" y="338"/>
                    </a:lnTo>
                    <a:lnTo>
                      <a:pt x="651" y="338"/>
                    </a:lnTo>
                    <a:lnTo>
                      <a:pt x="651" y="338"/>
                    </a:lnTo>
                    <a:close/>
                    <a:moveTo>
                      <a:pt x="502" y="338"/>
                    </a:moveTo>
                    <a:lnTo>
                      <a:pt x="617" y="338"/>
                    </a:lnTo>
                    <a:lnTo>
                      <a:pt x="619" y="338"/>
                    </a:lnTo>
                    <a:lnTo>
                      <a:pt x="619" y="338"/>
                    </a:lnTo>
                    <a:lnTo>
                      <a:pt x="619" y="336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277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7" y="274"/>
                    </a:lnTo>
                    <a:lnTo>
                      <a:pt x="617" y="274"/>
                    </a:lnTo>
                    <a:lnTo>
                      <a:pt x="502" y="274"/>
                    </a:lnTo>
                    <a:lnTo>
                      <a:pt x="501" y="274"/>
                    </a:lnTo>
                    <a:lnTo>
                      <a:pt x="500" y="274"/>
                    </a:lnTo>
                    <a:lnTo>
                      <a:pt x="500" y="274"/>
                    </a:lnTo>
                    <a:lnTo>
                      <a:pt x="500" y="277"/>
                    </a:lnTo>
                    <a:lnTo>
                      <a:pt x="500" y="277"/>
                    </a:lnTo>
                    <a:lnTo>
                      <a:pt x="500" y="335"/>
                    </a:lnTo>
                    <a:lnTo>
                      <a:pt x="500" y="336"/>
                    </a:lnTo>
                    <a:lnTo>
                      <a:pt x="500" y="338"/>
                    </a:lnTo>
                    <a:lnTo>
                      <a:pt x="501" y="338"/>
                    </a:lnTo>
                    <a:lnTo>
                      <a:pt x="502" y="338"/>
                    </a:lnTo>
                    <a:lnTo>
                      <a:pt x="502" y="338"/>
                    </a:lnTo>
                    <a:close/>
                    <a:moveTo>
                      <a:pt x="352" y="338"/>
                    </a:moveTo>
                    <a:lnTo>
                      <a:pt x="466" y="338"/>
                    </a:lnTo>
                    <a:lnTo>
                      <a:pt x="467" y="338"/>
                    </a:lnTo>
                    <a:lnTo>
                      <a:pt x="468" y="338"/>
                    </a:lnTo>
                    <a:lnTo>
                      <a:pt x="470" y="336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277"/>
                    </a:lnTo>
                    <a:lnTo>
                      <a:pt x="470" y="274"/>
                    </a:lnTo>
                    <a:lnTo>
                      <a:pt x="468" y="274"/>
                    </a:lnTo>
                    <a:lnTo>
                      <a:pt x="467" y="274"/>
                    </a:lnTo>
                    <a:lnTo>
                      <a:pt x="466" y="274"/>
                    </a:lnTo>
                    <a:lnTo>
                      <a:pt x="352" y="274"/>
                    </a:lnTo>
                    <a:lnTo>
                      <a:pt x="351" y="274"/>
                    </a:lnTo>
                    <a:lnTo>
                      <a:pt x="349" y="274"/>
                    </a:lnTo>
                    <a:lnTo>
                      <a:pt x="348" y="274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335"/>
                    </a:lnTo>
                    <a:lnTo>
                      <a:pt x="348" y="336"/>
                    </a:lnTo>
                    <a:lnTo>
                      <a:pt x="349" y="338"/>
                    </a:lnTo>
                    <a:lnTo>
                      <a:pt x="351" y="338"/>
                    </a:lnTo>
                    <a:lnTo>
                      <a:pt x="352" y="338"/>
                    </a:lnTo>
                    <a:lnTo>
                      <a:pt x="352" y="338"/>
                    </a:lnTo>
                    <a:close/>
                    <a:moveTo>
                      <a:pt x="4" y="338"/>
                    </a:moveTo>
                    <a:lnTo>
                      <a:pt x="151" y="338"/>
                    </a:lnTo>
                    <a:lnTo>
                      <a:pt x="153" y="338"/>
                    </a:lnTo>
                    <a:lnTo>
                      <a:pt x="154" y="338"/>
                    </a:lnTo>
                    <a:lnTo>
                      <a:pt x="155" y="336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277"/>
                    </a:lnTo>
                    <a:lnTo>
                      <a:pt x="155" y="274"/>
                    </a:lnTo>
                    <a:lnTo>
                      <a:pt x="154" y="274"/>
                    </a:lnTo>
                    <a:lnTo>
                      <a:pt x="153" y="274"/>
                    </a:lnTo>
                    <a:lnTo>
                      <a:pt x="151" y="274"/>
                    </a:lnTo>
                    <a:lnTo>
                      <a:pt x="4" y="274"/>
                    </a:lnTo>
                    <a:lnTo>
                      <a:pt x="2" y="274"/>
                    </a:lnTo>
                    <a:lnTo>
                      <a:pt x="1" y="274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335"/>
                    </a:lnTo>
                    <a:lnTo>
                      <a:pt x="0" y="336"/>
                    </a:lnTo>
                    <a:lnTo>
                      <a:pt x="1" y="338"/>
                    </a:lnTo>
                    <a:lnTo>
                      <a:pt x="2" y="338"/>
                    </a:lnTo>
                    <a:lnTo>
                      <a:pt x="4" y="338"/>
                    </a:lnTo>
                    <a:lnTo>
                      <a:pt x="4" y="338"/>
                    </a:lnTo>
                    <a:close/>
                    <a:moveTo>
                      <a:pt x="1849" y="74"/>
                    </a:moveTo>
                    <a:lnTo>
                      <a:pt x="1849" y="156"/>
                    </a:lnTo>
                    <a:lnTo>
                      <a:pt x="1849" y="157"/>
                    </a:lnTo>
                    <a:lnTo>
                      <a:pt x="1850" y="157"/>
                    </a:lnTo>
                    <a:lnTo>
                      <a:pt x="1852" y="158"/>
                    </a:lnTo>
                    <a:lnTo>
                      <a:pt x="1853" y="158"/>
                    </a:lnTo>
                    <a:lnTo>
                      <a:pt x="1853" y="158"/>
                    </a:lnTo>
                    <a:lnTo>
                      <a:pt x="1912" y="158"/>
                    </a:lnTo>
                    <a:lnTo>
                      <a:pt x="1913" y="158"/>
                    </a:lnTo>
                    <a:lnTo>
                      <a:pt x="1914" y="157"/>
                    </a:lnTo>
                    <a:lnTo>
                      <a:pt x="1914" y="157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74"/>
                    </a:lnTo>
                    <a:lnTo>
                      <a:pt x="1914" y="72"/>
                    </a:lnTo>
                    <a:lnTo>
                      <a:pt x="1914" y="71"/>
                    </a:lnTo>
                    <a:lnTo>
                      <a:pt x="1913" y="71"/>
                    </a:lnTo>
                    <a:lnTo>
                      <a:pt x="1912" y="71"/>
                    </a:lnTo>
                    <a:lnTo>
                      <a:pt x="1912" y="71"/>
                    </a:lnTo>
                    <a:lnTo>
                      <a:pt x="1853" y="71"/>
                    </a:lnTo>
                    <a:lnTo>
                      <a:pt x="1852" y="71"/>
                    </a:lnTo>
                    <a:lnTo>
                      <a:pt x="1850" y="71"/>
                    </a:lnTo>
                    <a:lnTo>
                      <a:pt x="1849" y="72"/>
                    </a:lnTo>
                    <a:lnTo>
                      <a:pt x="1849" y="74"/>
                    </a:lnTo>
                    <a:lnTo>
                      <a:pt x="1849" y="74"/>
                    </a:lnTo>
                    <a:close/>
                    <a:moveTo>
                      <a:pt x="1968" y="0"/>
                    </a:moveTo>
                    <a:lnTo>
                      <a:pt x="1968" y="80"/>
                    </a:lnTo>
                    <a:lnTo>
                      <a:pt x="1969" y="83"/>
                    </a:lnTo>
                    <a:lnTo>
                      <a:pt x="1969" y="84"/>
                    </a:lnTo>
                    <a:lnTo>
                      <a:pt x="1972" y="85"/>
                    </a:lnTo>
                    <a:lnTo>
                      <a:pt x="1973" y="85"/>
                    </a:lnTo>
                    <a:lnTo>
                      <a:pt x="1973" y="85"/>
                    </a:lnTo>
                    <a:lnTo>
                      <a:pt x="2066" y="85"/>
                    </a:lnTo>
                    <a:lnTo>
                      <a:pt x="2067" y="85"/>
                    </a:lnTo>
                    <a:lnTo>
                      <a:pt x="2068" y="84"/>
                    </a:lnTo>
                    <a:lnTo>
                      <a:pt x="2070" y="83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0"/>
                    </a:lnTo>
                    <a:lnTo>
                      <a:pt x="1968" y="0"/>
                    </a:lnTo>
                    <a:lnTo>
                      <a:pt x="1968" y="0"/>
                    </a:lnTo>
                    <a:close/>
                    <a:moveTo>
                      <a:pt x="2010" y="190"/>
                    </a:moveTo>
                    <a:lnTo>
                      <a:pt x="2010" y="274"/>
                    </a:lnTo>
                    <a:lnTo>
                      <a:pt x="2010" y="274"/>
                    </a:lnTo>
                    <a:lnTo>
                      <a:pt x="2011" y="276"/>
                    </a:lnTo>
                    <a:lnTo>
                      <a:pt x="2012" y="276"/>
                    </a:lnTo>
                    <a:lnTo>
                      <a:pt x="2013" y="277"/>
                    </a:lnTo>
                    <a:lnTo>
                      <a:pt x="2013" y="277"/>
                    </a:lnTo>
                    <a:lnTo>
                      <a:pt x="2072" y="277"/>
                    </a:lnTo>
                    <a:lnTo>
                      <a:pt x="2073" y="276"/>
                    </a:lnTo>
                    <a:lnTo>
                      <a:pt x="2075" y="276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190"/>
                    </a:lnTo>
                    <a:lnTo>
                      <a:pt x="2075" y="189"/>
                    </a:lnTo>
                    <a:lnTo>
                      <a:pt x="2075" y="187"/>
                    </a:lnTo>
                    <a:lnTo>
                      <a:pt x="2073" y="187"/>
                    </a:lnTo>
                    <a:lnTo>
                      <a:pt x="2072" y="187"/>
                    </a:lnTo>
                    <a:lnTo>
                      <a:pt x="2013" y="187"/>
                    </a:lnTo>
                    <a:lnTo>
                      <a:pt x="2012" y="187"/>
                    </a:lnTo>
                    <a:lnTo>
                      <a:pt x="2011" y="187"/>
                    </a:lnTo>
                    <a:lnTo>
                      <a:pt x="2010" y="189"/>
                    </a:lnTo>
                    <a:lnTo>
                      <a:pt x="2010" y="190"/>
                    </a:lnTo>
                    <a:lnTo>
                      <a:pt x="2010" y="190"/>
                    </a:lnTo>
                    <a:close/>
                    <a:moveTo>
                      <a:pt x="2127" y="190"/>
                    </a:moveTo>
                    <a:lnTo>
                      <a:pt x="2127" y="274"/>
                    </a:lnTo>
                    <a:lnTo>
                      <a:pt x="2127" y="274"/>
                    </a:lnTo>
                    <a:lnTo>
                      <a:pt x="2129" y="276"/>
                    </a:lnTo>
                    <a:lnTo>
                      <a:pt x="2130" y="276"/>
                    </a:lnTo>
                    <a:lnTo>
                      <a:pt x="2131" y="277"/>
                    </a:lnTo>
                    <a:lnTo>
                      <a:pt x="2131" y="277"/>
                    </a:lnTo>
                    <a:lnTo>
                      <a:pt x="2190" y="277"/>
                    </a:lnTo>
                    <a:lnTo>
                      <a:pt x="2192" y="276"/>
                    </a:lnTo>
                    <a:lnTo>
                      <a:pt x="2194" y="276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190"/>
                    </a:lnTo>
                    <a:lnTo>
                      <a:pt x="2195" y="189"/>
                    </a:lnTo>
                    <a:lnTo>
                      <a:pt x="2194" y="187"/>
                    </a:lnTo>
                    <a:lnTo>
                      <a:pt x="2192" y="187"/>
                    </a:lnTo>
                    <a:lnTo>
                      <a:pt x="2190" y="187"/>
                    </a:lnTo>
                    <a:lnTo>
                      <a:pt x="2131" y="187"/>
                    </a:lnTo>
                    <a:lnTo>
                      <a:pt x="2130" y="187"/>
                    </a:lnTo>
                    <a:lnTo>
                      <a:pt x="2129" y="187"/>
                    </a:lnTo>
                    <a:lnTo>
                      <a:pt x="2127" y="189"/>
                    </a:lnTo>
                    <a:lnTo>
                      <a:pt x="2127" y="190"/>
                    </a:lnTo>
                    <a:lnTo>
                      <a:pt x="2127" y="190"/>
                    </a:lnTo>
                    <a:close/>
                    <a:moveTo>
                      <a:pt x="2270" y="190"/>
                    </a:moveTo>
                    <a:lnTo>
                      <a:pt x="2270" y="274"/>
                    </a:lnTo>
                    <a:lnTo>
                      <a:pt x="2270" y="274"/>
                    </a:lnTo>
                    <a:lnTo>
                      <a:pt x="2271" y="276"/>
                    </a:lnTo>
                    <a:lnTo>
                      <a:pt x="2273" y="276"/>
                    </a:lnTo>
                    <a:lnTo>
                      <a:pt x="2274" y="277"/>
                    </a:lnTo>
                    <a:lnTo>
                      <a:pt x="2274" y="277"/>
                    </a:lnTo>
                    <a:lnTo>
                      <a:pt x="2333" y="277"/>
                    </a:lnTo>
                    <a:lnTo>
                      <a:pt x="2334" y="276"/>
                    </a:lnTo>
                    <a:lnTo>
                      <a:pt x="2337" y="276"/>
                    </a:lnTo>
                    <a:lnTo>
                      <a:pt x="2337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190"/>
                    </a:lnTo>
                    <a:lnTo>
                      <a:pt x="2337" y="189"/>
                    </a:lnTo>
                    <a:lnTo>
                      <a:pt x="2337" y="187"/>
                    </a:lnTo>
                    <a:lnTo>
                      <a:pt x="2334" y="187"/>
                    </a:lnTo>
                    <a:lnTo>
                      <a:pt x="2333" y="187"/>
                    </a:lnTo>
                    <a:lnTo>
                      <a:pt x="2274" y="187"/>
                    </a:lnTo>
                    <a:lnTo>
                      <a:pt x="2273" y="187"/>
                    </a:lnTo>
                    <a:lnTo>
                      <a:pt x="2271" y="187"/>
                    </a:lnTo>
                    <a:lnTo>
                      <a:pt x="2270" y="189"/>
                    </a:lnTo>
                    <a:lnTo>
                      <a:pt x="2270" y="190"/>
                    </a:lnTo>
                    <a:lnTo>
                      <a:pt x="2270" y="190"/>
                    </a:lnTo>
                    <a:close/>
                    <a:moveTo>
                      <a:pt x="2270" y="0"/>
                    </a:moveTo>
                    <a:lnTo>
                      <a:pt x="2270" y="80"/>
                    </a:lnTo>
                    <a:lnTo>
                      <a:pt x="2270" y="83"/>
                    </a:lnTo>
                    <a:lnTo>
                      <a:pt x="2271" y="84"/>
                    </a:lnTo>
                    <a:lnTo>
                      <a:pt x="2273" y="85"/>
                    </a:lnTo>
                    <a:lnTo>
                      <a:pt x="2274" y="85"/>
                    </a:lnTo>
                    <a:lnTo>
                      <a:pt x="2274" y="85"/>
                    </a:lnTo>
                    <a:lnTo>
                      <a:pt x="2367" y="85"/>
                    </a:lnTo>
                    <a:lnTo>
                      <a:pt x="2369" y="85"/>
                    </a:lnTo>
                    <a:lnTo>
                      <a:pt x="2370" y="84"/>
                    </a:lnTo>
                    <a:lnTo>
                      <a:pt x="2372" y="83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0"/>
                    </a:lnTo>
                    <a:lnTo>
                      <a:pt x="2270" y="0"/>
                    </a:lnTo>
                    <a:lnTo>
                      <a:pt x="2270" y="0"/>
                    </a:lnTo>
                    <a:close/>
                    <a:moveTo>
                      <a:pt x="2322" y="397"/>
                    </a:moveTo>
                    <a:lnTo>
                      <a:pt x="2322" y="392"/>
                    </a:lnTo>
                    <a:lnTo>
                      <a:pt x="2320" y="388"/>
                    </a:lnTo>
                    <a:lnTo>
                      <a:pt x="2318" y="383"/>
                    </a:lnTo>
                    <a:lnTo>
                      <a:pt x="2314" y="379"/>
                    </a:lnTo>
                    <a:lnTo>
                      <a:pt x="2310" y="377"/>
                    </a:lnTo>
                    <a:lnTo>
                      <a:pt x="2306" y="374"/>
                    </a:lnTo>
                    <a:lnTo>
                      <a:pt x="2301" y="373"/>
                    </a:lnTo>
                    <a:lnTo>
                      <a:pt x="2296" y="372"/>
                    </a:lnTo>
                    <a:lnTo>
                      <a:pt x="2291" y="373"/>
                    </a:lnTo>
                    <a:lnTo>
                      <a:pt x="2288" y="374"/>
                    </a:lnTo>
                    <a:lnTo>
                      <a:pt x="2283" y="377"/>
                    </a:lnTo>
                    <a:lnTo>
                      <a:pt x="2279" y="379"/>
                    </a:lnTo>
                    <a:lnTo>
                      <a:pt x="2276" y="383"/>
                    </a:lnTo>
                    <a:lnTo>
                      <a:pt x="2274" y="388"/>
                    </a:lnTo>
                    <a:lnTo>
                      <a:pt x="2273" y="392"/>
                    </a:lnTo>
                    <a:lnTo>
                      <a:pt x="2271" y="397"/>
                    </a:lnTo>
                    <a:lnTo>
                      <a:pt x="2273" y="402"/>
                    </a:lnTo>
                    <a:lnTo>
                      <a:pt x="2274" y="407"/>
                    </a:lnTo>
                    <a:lnTo>
                      <a:pt x="2276" y="411"/>
                    </a:lnTo>
                    <a:lnTo>
                      <a:pt x="2279" y="415"/>
                    </a:lnTo>
                    <a:lnTo>
                      <a:pt x="2283" y="418"/>
                    </a:lnTo>
                    <a:lnTo>
                      <a:pt x="2288" y="420"/>
                    </a:lnTo>
                    <a:lnTo>
                      <a:pt x="2291" y="422"/>
                    </a:lnTo>
                    <a:lnTo>
                      <a:pt x="2296" y="422"/>
                    </a:lnTo>
                    <a:lnTo>
                      <a:pt x="2301" y="422"/>
                    </a:lnTo>
                    <a:lnTo>
                      <a:pt x="2306" y="420"/>
                    </a:lnTo>
                    <a:lnTo>
                      <a:pt x="2310" y="418"/>
                    </a:lnTo>
                    <a:lnTo>
                      <a:pt x="2314" y="415"/>
                    </a:lnTo>
                    <a:lnTo>
                      <a:pt x="2318" y="411"/>
                    </a:lnTo>
                    <a:lnTo>
                      <a:pt x="2320" y="407"/>
                    </a:lnTo>
                    <a:lnTo>
                      <a:pt x="2322" y="402"/>
                    </a:lnTo>
                    <a:lnTo>
                      <a:pt x="2322" y="397"/>
                    </a:lnTo>
                    <a:lnTo>
                      <a:pt x="2322" y="397"/>
                    </a:lnTo>
                    <a:close/>
                    <a:moveTo>
                      <a:pt x="2251" y="547"/>
                    </a:moveTo>
                    <a:lnTo>
                      <a:pt x="2367" y="547"/>
                    </a:lnTo>
                    <a:lnTo>
                      <a:pt x="2369" y="547"/>
                    </a:lnTo>
                    <a:lnTo>
                      <a:pt x="2370" y="547"/>
                    </a:lnTo>
                    <a:lnTo>
                      <a:pt x="2372" y="547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495"/>
                    </a:lnTo>
                    <a:lnTo>
                      <a:pt x="2372" y="495"/>
                    </a:lnTo>
                    <a:lnTo>
                      <a:pt x="2370" y="494"/>
                    </a:lnTo>
                    <a:lnTo>
                      <a:pt x="2369" y="493"/>
                    </a:lnTo>
                    <a:lnTo>
                      <a:pt x="2367" y="493"/>
                    </a:lnTo>
                    <a:lnTo>
                      <a:pt x="2251" y="493"/>
                    </a:lnTo>
                    <a:lnTo>
                      <a:pt x="2251" y="493"/>
                    </a:lnTo>
                    <a:lnTo>
                      <a:pt x="2250" y="494"/>
                    </a:lnTo>
                    <a:lnTo>
                      <a:pt x="2250" y="495"/>
                    </a:lnTo>
                    <a:lnTo>
                      <a:pt x="2249" y="495"/>
                    </a:lnTo>
                    <a:lnTo>
                      <a:pt x="2249" y="495"/>
                    </a:lnTo>
                    <a:lnTo>
                      <a:pt x="2249" y="546"/>
                    </a:lnTo>
                    <a:lnTo>
                      <a:pt x="2250" y="547"/>
                    </a:lnTo>
                    <a:lnTo>
                      <a:pt x="2250" y="547"/>
                    </a:lnTo>
                    <a:lnTo>
                      <a:pt x="2251" y="547"/>
                    </a:lnTo>
                    <a:lnTo>
                      <a:pt x="2251" y="547"/>
                    </a:lnTo>
                    <a:lnTo>
                      <a:pt x="2251" y="547"/>
                    </a:lnTo>
                    <a:close/>
                    <a:moveTo>
                      <a:pt x="2063" y="547"/>
                    </a:moveTo>
                    <a:lnTo>
                      <a:pt x="2179" y="547"/>
                    </a:lnTo>
                    <a:lnTo>
                      <a:pt x="2180" y="547"/>
                    </a:lnTo>
                    <a:lnTo>
                      <a:pt x="2181" y="547"/>
                    </a:lnTo>
                    <a:lnTo>
                      <a:pt x="2181" y="547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495"/>
                    </a:lnTo>
                    <a:lnTo>
                      <a:pt x="2181" y="495"/>
                    </a:lnTo>
                    <a:lnTo>
                      <a:pt x="2181" y="494"/>
                    </a:lnTo>
                    <a:lnTo>
                      <a:pt x="2180" y="493"/>
                    </a:lnTo>
                    <a:lnTo>
                      <a:pt x="2179" y="493"/>
                    </a:lnTo>
                    <a:lnTo>
                      <a:pt x="2179" y="493"/>
                    </a:lnTo>
                    <a:lnTo>
                      <a:pt x="2063" y="493"/>
                    </a:lnTo>
                    <a:lnTo>
                      <a:pt x="2062" y="493"/>
                    </a:lnTo>
                    <a:lnTo>
                      <a:pt x="2062" y="494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546"/>
                    </a:lnTo>
                    <a:lnTo>
                      <a:pt x="2061" y="547"/>
                    </a:lnTo>
                    <a:lnTo>
                      <a:pt x="2062" y="547"/>
                    </a:lnTo>
                    <a:lnTo>
                      <a:pt x="2062" y="547"/>
                    </a:lnTo>
                    <a:lnTo>
                      <a:pt x="2063" y="547"/>
                    </a:lnTo>
                    <a:lnTo>
                      <a:pt x="2063" y="547"/>
                    </a:lnTo>
                    <a:close/>
                    <a:moveTo>
                      <a:pt x="1875" y="547"/>
                    </a:moveTo>
                    <a:lnTo>
                      <a:pt x="1989" y="547"/>
                    </a:lnTo>
                    <a:lnTo>
                      <a:pt x="1991" y="547"/>
                    </a:lnTo>
                    <a:lnTo>
                      <a:pt x="1992" y="547"/>
                    </a:lnTo>
                    <a:lnTo>
                      <a:pt x="1993" y="547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495"/>
                    </a:lnTo>
                    <a:lnTo>
                      <a:pt x="1993" y="495"/>
                    </a:lnTo>
                    <a:lnTo>
                      <a:pt x="1992" y="494"/>
                    </a:lnTo>
                    <a:lnTo>
                      <a:pt x="1991" y="493"/>
                    </a:lnTo>
                    <a:lnTo>
                      <a:pt x="1989" y="493"/>
                    </a:lnTo>
                    <a:lnTo>
                      <a:pt x="1989" y="493"/>
                    </a:lnTo>
                    <a:lnTo>
                      <a:pt x="1875" y="493"/>
                    </a:lnTo>
                    <a:lnTo>
                      <a:pt x="1874" y="493"/>
                    </a:lnTo>
                    <a:lnTo>
                      <a:pt x="1873" y="494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546"/>
                    </a:lnTo>
                    <a:lnTo>
                      <a:pt x="1872" y="547"/>
                    </a:lnTo>
                    <a:lnTo>
                      <a:pt x="1873" y="547"/>
                    </a:lnTo>
                    <a:lnTo>
                      <a:pt x="1874" y="547"/>
                    </a:lnTo>
                    <a:lnTo>
                      <a:pt x="1875" y="547"/>
                    </a:lnTo>
                    <a:lnTo>
                      <a:pt x="1875" y="547"/>
                    </a:lnTo>
                    <a:close/>
                    <a:moveTo>
                      <a:pt x="1968" y="397"/>
                    </a:moveTo>
                    <a:lnTo>
                      <a:pt x="1968" y="392"/>
                    </a:lnTo>
                    <a:lnTo>
                      <a:pt x="1967" y="388"/>
                    </a:lnTo>
                    <a:lnTo>
                      <a:pt x="1964" y="383"/>
                    </a:lnTo>
                    <a:lnTo>
                      <a:pt x="1962" y="379"/>
                    </a:lnTo>
                    <a:lnTo>
                      <a:pt x="1958" y="377"/>
                    </a:lnTo>
                    <a:lnTo>
                      <a:pt x="1954" y="374"/>
                    </a:lnTo>
                    <a:lnTo>
                      <a:pt x="1949" y="373"/>
                    </a:lnTo>
                    <a:lnTo>
                      <a:pt x="1943" y="372"/>
                    </a:lnTo>
                    <a:lnTo>
                      <a:pt x="1939" y="373"/>
                    </a:lnTo>
                    <a:lnTo>
                      <a:pt x="1934" y="374"/>
                    </a:lnTo>
                    <a:lnTo>
                      <a:pt x="1931" y="377"/>
                    </a:lnTo>
                    <a:lnTo>
                      <a:pt x="1927" y="379"/>
                    </a:lnTo>
                    <a:lnTo>
                      <a:pt x="1924" y="383"/>
                    </a:lnTo>
                    <a:lnTo>
                      <a:pt x="1923" y="388"/>
                    </a:lnTo>
                    <a:lnTo>
                      <a:pt x="1922" y="392"/>
                    </a:lnTo>
                    <a:lnTo>
                      <a:pt x="1921" y="397"/>
                    </a:lnTo>
                    <a:lnTo>
                      <a:pt x="1922" y="402"/>
                    </a:lnTo>
                    <a:lnTo>
                      <a:pt x="1923" y="407"/>
                    </a:lnTo>
                    <a:lnTo>
                      <a:pt x="1924" y="411"/>
                    </a:lnTo>
                    <a:lnTo>
                      <a:pt x="1927" y="415"/>
                    </a:lnTo>
                    <a:lnTo>
                      <a:pt x="1931" y="418"/>
                    </a:lnTo>
                    <a:lnTo>
                      <a:pt x="1934" y="420"/>
                    </a:lnTo>
                    <a:lnTo>
                      <a:pt x="1939" y="422"/>
                    </a:lnTo>
                    <a:lnTo>
                      <a:pt x="1943" y="422"/>
                    </a:lnTo>
                    <a:lnTo>
                      <a:pt x="1949" y="422"/>
                    </a:lnTo>
                    <a:lnTo>
                      <a:pt x="1954" y="420"/>
                    </a:lnTo>
                    <a:lnTo>
                      <a:pt x="1958" y="418"/>
                    </a:lnTo>
                    <a:lnTo>
                      <a:pt x="1962" y="415"/>
                    </a:lnTo>
                    <a:lnTo>
                      <a:pt x="1964" y="411"/>
                    </a:lnTo>
                    <a:lnTo>
                      <a:pt x="1967" y="407"/>
                    </a:lnTo>
                    <a:lnTo>
                      <a:pt x="1968" y="402"/>
                    </a:lnTo>
                    <a:lnTo>
                      <a:pt x="1968" y="397"/>
                    </a:lnTo>
                    <a:lnTo>
                      <a:pt x="1968" y="397"/>
                    </a:lnTo>
                    <a:close/>
                    <a:moveTo>
                      <a:pt x="2835" y="295"/>
                    </a:moveTo>
                    <a:lnTo>
                      <a:pt x="2835" y="290"/>
                    </a:lnTo>
                    <a:lnTo>
                      <a:pt x="2834" y="285"/>
                    </a:lnTo>
                    <a:lnTo>
                      <a:pt x="2831" y="281"/>
                    </a:lnTo>
                    <a:lnTo>
                      <a:pt x="2828" y="277"/>
                    </a:lnTo>
                    <a:lnTo>
                      <a:pt x="2824" y="274"/>
                    </a:lnTo>
                    <a:lnTo>
                      <a:pt x="2820" y="272"/>
                    </a:lnTo>
                    <a:lnTo>
                      <a:pt x="2815" y="271"/>
                    </a:lnTo>
                    <a:lnTo>
                      <a:pt x="2810" y="269"/>
                    </a:lnTo>
                    <a:lnTo>
                      <a:pt x="2805" y="271"/>
                    </a:lnTo>
                    <a:lnTo>
                      <a:pt x="2801" y="272"/>
                    </a:lnTo>
                    <a:lnTo>
                      <a:pt x="2796" y="274"/>
                    </a:lnTo>
                    <a:lnTo>
                      <a:pt x="2793" y="277"/>
                    </a:lnTo>
                    <a:lnTo>
                      <a:pt x="2790" y="281"/>
                    </a:lnTo>
                    <a:lnTo>
                      <a:pt x="2788" y="285"/>
                    </a:lnTo>
                    <a:lnTo>
                      <a:pt x="2786" y="290"/>
                    </a:lnTo>
                    <a:lnTo>
                      <a:pt x="2785" y="295"/>
                    </a:lnTo>
                    <a:lnTo>
                      <a:pt x="2786" y="300"/>
                    </a:lnTo>
                    <a:lnTo>
                      <a:pt x="2788" y="305"/>
                    </a:lnTo>
                    <a:lnTo>
                      <a:pt x="2790" y="309"/>
                    </a:lnTo>
                    <a:lnTo>
                      <a:pt x="2793" y="312"/>
                    </a:lnTo>
                    <a:lnTo>
                      <a:pt x="2796" y="315"/>
                    </a:lnTo>
                    <a:lnTo>
                      <a:pt x="2801" y="317"/>
                    </a:lnTo>
                    <a:lnTo>
                      <a:pt x="2805" y="319"/>
                    </a:lnTo>
                    <a:lnTo>
                      <a:pt x="2810" y="320"/>
                    </a:lnTo>
                    <a:lnTo>
                      <a:pt x="2815" y="319"/>
                    </a:lnTo>
                    <a:lnTo>
                      <a:pt x="2820" y="317"/>
                    </a:lnTo>
                    <a:lnTo>
                      <a:pt x="2824" y="315"/>
                    </a:lnTo>
                    <a:lnTo>
                      <a:pt x="2828" y="312"/>
                    </a:lnTo>
                    <a:lnTo>
                      <a:pt x="2831" y="309"/>
                    </a:lnTo>
                    <a:lnTo>
                      <a:pt x="2834" y="305"/>
                    </a:lnTo>
                    <a:lnTo>
                      <a:pt x="2835" y="300"/>
                    </a:lnTo>
                    <a:lnTo>
                      <a:pt x="2835" y="295"/>
                    </a:lnTo>
                    <a:lnTo>
                      <a:pt x="2835" y="295"/>
                    </a:lnTo>
                    <a:close/>
                    <a:moveTo>
                      <a:pt x="2835" y="473"/>
                    </a:moveTo>
                    <a:lnTo>
                      <a:pt x="2835" y="468"/>
                    </a:lnTo>
                    <a:lnTo>
                      <a:pt x="2834" y="463"/>
                    </a:lnTo>
                    <a:lnTo>
                      <a:pt x="2831" y="459"/>
                    </a:lnTo>
                    <a:lnTo>
                      <a:pt x="2828" y="455"/>
                    </a:lnTo>
                    <a:lnTo>
                      <a:pt x="2824" y="451"/>
                    </a:lnTo>
                    <a:lnTo>
                      <a:pt x="2820" y="449"/>
                    </a:lnTo>
                    <a:lnTo>
                      <a:pt x="2815" y="447"/>
                    </a:lnTo>
                    <a:lnTo>
                      <a:pt x="2810" y="447"/>
                    </a:lnTo>
                    <a:lnTo>
                      <a:pt x="2805" y="447"/>
                    </a:lnTo>
                    <a:lnTo>
                      <a:pt x="2801" y="449"/>
                    </a:lnTo>
                    <a:lnTo>
                      <a:pt x="2796" y="451"/>
                    </a:lnTo>
                    <a:lnTo>
                      <a:pt x="2793" y="455"/>
                    </a:lnTo>
                    <a:lnTo>
                      <a:pt x="2790" y="459"/>
                    </a:lnTo>
                    <a:lnTo>
                      <a:pt x="2788" y="463"/>
                    </a:lnTo>
                    <a:lnTo>
                      <a:pt x="2786" y="468"/>
                    </a:lnTo>
                    <a:lnTo>
                      <a:pt x="2785" y="473"/>
                    </a:lnTo>
                    <a:lnTo>
                      <a:pt x="2786" y="478"/>
                    </a:lnTo>
                    <a:lnTo>
                      <a:pt x="2788" y="481"/>
                    </a:lnTo>
                    <a:lnTo>
                      <a:pt x="2790" y="487"/>
                    </a:lnTo>
                    <a:lnTo>
                      <a:pt x="2793" y="490"/>
                    </a:lnTo>
                    <a:lnTo>
                      <a:pt x="2796" y="493"/>
                    </a:lnTo>
                    <a:lnTo>
                      <a:pt x="2801" y="495"/>
                    </a:lnTo>
                    <a:lnTo>
                      <a:pt x="2805" y="497"/>
                    </a:lnTo>
                    <a:lnTo>
                      <a:pt x="2810" y="498"/>
                    </a:lnTo>
                    <a:lnTo>
                      <a:pt x="2815" y="497"/>
                    </a:lnTo>
                    <a:lnTo>
                      <a:pt x="2820" y="495"/>
                    </a:lnTo>
                    <a:lnTo>
                      <a:pt x="2824" y="493"/>
                    </a:lnTo>
                    <a:lnTo>
                      <a:pt x="2828" y="490"/>
                    </a:lnTo>
                    <a:lnTo>
                      <a:pt x="2831" y="487"/>
                    </a:lnTo>
                    <a:lnTo>
                      <a:pt x="2834" y="481"/>
                    </a:lnTo>
                    <a:lnTo>
                      <a:pt x="2835" y="478"/>
                    </a:lnTo>
                    <a:lnTo>
                      <a:pt x="2835" y="473"/>
                    </a:lnTo>
                    <a:lnTo>
                      <a:pt x="2835" y="473"/>
                    </a:lnTo>
                    <a:close/>
                    <a:moveTo>
                      <a:pt x="2835" y="651"/>
                    </a:moveTo>
                    <a:lnTo>
                      <a:pt x="2835" y="646"/>
                    </a:lnTo>
                    <a:lnTo>
                      <a:pt x="2834" y="641"/>
                    </a:lnTo>
                    <a:lnTo>
                      <a:pt x="2831" y="636"/>
                    </a:lnTo>
                    <a:lnTo>
                      <a:pt x="2828" y="633"/>
                    </a:lnTo>
                    <a:lnTo>
                      <a:pt x="2824" y="629"/>
                    </a:lnTo>
                    <a:lnTo>
                      <a:pt x="2820" y="627"/>
                    </a:lnTo>
                    <a:lnTo>
                      <a:pt x="2815" y="625"/>
                    </a:lnTo>
                    <a:lnTo>
                      <a:pt x="2810" y="625"/>
                    </a:lnTo>
                    <a:lnTo>
                      <a:pt x="2805" y="625"/>
                    </a:lnTo>
                    <a:lnTo>
                      <a:pt x="2801" y="627"/>
                    </a:lnTo>
                    <a:lnTo>
                      <a:pt x="2796" y="629"/>
                    </a:lnTo>
                    <a:lnTo>
                      <a:pt x="2793" y="633"/>
                    </a:lnTo>
                    <a:lnTo>
                      <a:pt x="2790" y="636"/>
                    </a:lnTo>
                    <a:lnTo>
                      <a:pt x="2788" y="641"/>
                    </a:lnTo>
                    <a:lnTo>
                      <a:pt x="2786" y="646"/>
                    </a:lnTo>
                    <a:lnTo>
                      <a:pt x="2785" y="651"/>
                    </a:lnTo>
                    <a:lnTo>
                      <a:pt x="2786" y="654"/>
                    </a:lnTo>
                    <a:lnTo>
                      <a:pt x="2788" y="660"/>
                    </a:lnTo>
                    <a:lnTo>
                      <a:pt x="2790" y="665"/>
                    </a:lnTo>
                    <a:lnTo>
                      <a:pt x="2793" y="668"/>
                    </a:lnTo>
                    <a:lnTo>
                      <a:pt x="2796" y="671"/>
                    </a:lnTo>
                    <a:lnTo>
                      <a:pt x="2801" y="673"/>
                    </a:lnTo>
                    <a:lnTo>
                      <a:pt x="2805" y="675"/>
                    </a:lnTo>
                    <a:lnTo>
                      <a:pt x="2810" y="675"/>
                    </a:lnTo>
                    <a:lnTo>
                      <a:pt x="2815" y="675"/>
                    </a:lnTo>
                    <a:lnTo>
                      <a:pt x="2820" y="673"/>
                    </a:lnTo>
                    <a:lnTo>
                      <a:pt x="2824" y="671"/>
                    </a:lnTo>
                    <a:lnTo>
                      <a:pt x="2828" y="668"/>
                    </a:lnTo>
                    <a:lnTo>
                      <a:pt x="2831" y="665"/>
                    </a:lnTo>
                    <a:lnTo>
                      <a:pt x="2834" y="660"/>
                    </a:lnTo>
                    <a:lnTo>
                      <a:pt x="2835" y="654"/>
                    </a:lnTo>
                    <a:lnTo>
                      <a:pt x="2835" y="651"/>
                    </a:lnTo>
                    <a:lnTo>
                      <a:pt x="2835" y="651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0" name=""/>
              <p:cNvSpPr/>
              <p:nvPr/>
            </p:nvSpPr>
            <p:spPr>
              <a:xfrm>
                <a:off x="3011760" y="435744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52" y="86"/>
                    </a:lnTo>
                    <a:lnTo>
                      <a:pt x="153" y="86"/>
                    </a:lnTo>
                    <a:lnTo>
                      <a:pt x="153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1" name=""/>
              <p:cNvSpPr/>
              <p:nvPr/>
            </p:nvSpPr>
            <p:spPr>
              <a:xfrm>
                <a:off x="3135960" y="4357440"/>
                <a:ext cx="107280" cy="4752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1" y="86"/>
                    </a:lnTo>
                    <a:lnTo>
                      <a:pt x="153" y="86"/>
                    </a:lnTo>
                    <a:lnTo>
                      <a:pt x="154" y="84"/>
                    </a:lnTo>
                    <a:lnTo>
                      <a:pt x="155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5" y="2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2" name=""/>
              <p:cNvSpPr/>
              <p:nvPr/>
            </p:nvSpPr>
            <p:spPr>
              <a:xfrm>
                <a:off x="3262320" y="435744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3" y="86"/>
                    </a:moveTo>
                    <a:lnTo>
                      <a:pt x="152" y="86"/>
                    </a:lnTo>
                    <a:lnTo>
                      <a:pt x="152" y="86"/>
                    </a:lnTo>
                    <a:lnTo>
                      <a:pt x="153" y="84"/>
                    </a:lnTo>
                    <a:lnTo>
                      <a:pt x="154" y="83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4"/>
                    </a:lnTo>
                    <a:lnTo>
                      <a:pt x="154" y="2"/>
                    </a:lnTo>
                    <a:lnTo>
                      <a:pt x="153" y="1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3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3" name=""/>
              <p:cNvSpPr/>
              <p:nvPr/>
            </p:nvSpPr>
            <p:spPr>
              <a:xfrm>
                <a:off x="3387240" y="4357440"/>
                <a:ext cx="105840" cy="4752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2" y="86"/>
                    </a:lnTo>
                    <a:lnTo>
                      <a:pt x="154" y="86"/>
                    </a:lnTo>
                    <a:lnTo>
                      <a:pt x="156" y="84"/>
                    </a:lnTo>
                    <a:lnTo>
                      <a:pt x="157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6" y="1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4" name=""/>
              <p:cNvSpPr/>
              <p:nvPr/>
            </p:nvSpPr>
            <p:spPr>
              <a:xfrm>
                <a:off x="3513600" y="4357440"/>
                <a:ext cx="103320" cy="4752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49" y="86"/>
                    </a:lnTo>
                    <a:lnTo>
                      <a:pt x="150" y="86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5" name=""/>
              <p:cNvSpPr/>
              <p:nvPr/>
            </p:nvSpPr>
            <p:spPr>
              <a:xfrm>
                <a:off x="2893680" y="4138560"/>
                <a:ext cx="105840" cy="35280"/>
              </a:xfrm>
              <a:custGeom>
                <a:avLst/>
                <a:gdLst/>
                <a:ahLst/>
                <a:rect l="l" t="t" r="r" b="b"/>
                <a:pathLst>
                  <a:path w="155" h="63">
                    <a:moveTo>
                      <a:pt x="4" y="63"/>
                    </a:moveTo>
                    <a:lnTo>
                      <a:pt x="151" y="63"/>
                    </a:lnTo>
                    <a:lnTo>
                      <a:pt x="153" y="63"/>
                    </a:lnTo>
                    <a:lnTo>
                      <a:pt x="154" y="63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6" name=""/>
              <p:cNvSpPr/>
              <p:nvPr/>
            </p:nvSpPr>
            <p:spPr>
              <a:xfrm>
                <a:off x="3130200" y="413856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4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7" name=""/>
              <p:cNvSpPr/>
              <p:nvPr/>
            </p:nvSpPr>
            <p:spPr>
              <a:xfrm>
                <a:off x="3233520" y="413856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0" h="63">
                    <a:moveTo>
                      <a:pt x="2" y="63"/>
                    </a:moveTo>
                    <a:lnTo>
                      <a:pt x="117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8" name=""/>
              <p:cNvSpPr/>
              <p:nvPr/>
            </p:nvSpPr>
            <p:spPr>
              <a:xfrm>
                <a:off x="3334320" y="4138560"/>
                <a:ext cx="84240" cy="352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2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9" name=""/>
              <p:cNvSpPr/>
              <p:nvPr/>
            </p:nvSpPr>
            <p:spPr>
              <a:xfrm>
                <a:off x="3552120" y="413856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1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0" name=""/>
              <p:cNvSpPr/>
              <p:nvPr/>
            </p:nvSpPr>
            <p:spPr>
              <a:xfrm>
                <a:off x="3654000" y="413856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1" y="63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2" y="1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1" name=""/>
              <p:cNvSpPr/>
              <p:nvPr/>
            </p:nvSpPr>
            <p:spPr>
              <a:xfrm>
                <a:off x="3654000" y="396864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1" y="64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2" name=""/>
              <p:cNvSpPr/>
              <p:nvPr/>
            </p:nvSpPr>
            <p:spPr>
              <a:xfrm>
                <a:off x="3552120" y="396864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1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3" name=""/>
              <p:cNvSpPr/>
              <p:nvPr/>
            </p:nvSpPr>
            <p:spPr>
              <a:xfrm>
                <a:off x="3334320" y="3968640"/>
                <a:ext cx="84240" cy="3528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2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4" name=""/>
              <p:cNvSpPr/>
              <p:nvPr/>
            </p:nvSpPr>
            <p:spPr>
              <a:xfrm>
                <a:off x="3233520" y="3968640"/>
                <a:ext cx="81720" cy="3528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2" y="64"/>
                    </a:moveTo>
                    <a:lnTo>
                      <a:pt x="117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5" name=""/>
              <p:cNvSpPr/>
              <p:nvPr/>
            </p:nvSpPr>
            <p:spPr>
              <a:xfrm>
                <a:off x="3130200" y="3968640"/>
                <a:ext cx="82800" cy="3528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4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3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6" name=""/>
              <p:cNvSpPr/>
              <p:nvPr/>
            </p:nvSpPr>
            <p:spPr>
              <a:xfrm>
                <a:off x="2893680" y="3968640"/>
                <a:ext cx="105840" cy="35280"/>
              </a:xfrm>
              <a:custGeom>
                <a:avLst/>
                <a:gdLst/>
                <a:ahLst/>
                <a:rect l="l" t="t" r="r" b="b"/>
                <a:pathLst>
                  <a:path w="155" h="64">
                    <a:moveTo>
                      <a:pt x="4" y="64"/>
                    </a:moveTo>
                    <a:lnTo>
                      <a:pt x="151" y="64"/>
                    </a:lnTo>
                    <a:lnTo>
                      <a:pt x="153" y="64"/>
                    </a:lnTo>
                    <a:lnTo>
                      <a:pt x="154" y="64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7" name=""/>
              <p:cNvSpPr/>
              <p:nvPr/>
            </p:nvSpPr>
            <p:spPr>
              <a:xfrm>
                <a:off x="4151880" y="3856320"/>
                <a:ext cx="43200" cy="4752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5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8" name=""/>
              <p:cNvSpPr/>
              <p:nvPr/>
            </p:nvSpPr>
            <p:spPr>
              <a:xfrm>
                <a:off x="4232160" y="38163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98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9" name=""/>
              <p:cNvSpPr/>
              <p:nvPr/>
            </p:nvSpPr>
            <p:spPr>
              <a:xfrm>
                <a:off x="4260600" y="3920760"/>
                <a:ext cx="43560" cy="48600"/>
              </a:xfrm>
              <a:custGeom>
                <a:avLst/>
                <a:gdLst/>
                <a:ahLst/>
                <a:rect l="l" t="t" r="r" b="b"/>
                <a:pathLst>
                  <a:path w="65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62" y="90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0" name=""/>
              <p:cNvSpPr/>
              <p:nvPr/>
            </p:nvSpPr>
            <p:spPr>
              <a:xfrm>
                <a:off x="4341240" y="3920760"/>
                <a:ext cx="44640" cy="4860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7" y="89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1" name=""/>
              <p:cNvSpPr/>
              <p:nvPr/>
            </p:nvSpPr>
            <p:spPr>
              <a:xfrm>
                <a:off x="4437720" y="3920760"/>
                <a:ext cx="46080" cy="4860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7" y="89"/>
                    </a:lnTo>
                    <a:lnTo>
                      <a:pt x="67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2" name=""/>
              <p:cNvSpPr/>
              <p:nvPr/>
            </p:nvSpPr>
            <p:spPr>
              <a:xfrm>
                <a:off x="4437720" y="3816360"/>
                <a:ext cx="69120" cy="4752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0" y="0"/>
                    </a:moveTo>
                    <a:lnTo>
                      <a:pt x="0" y="80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97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3" name=""/>
              <p:cNvSpPr/>
              <p:nvPr/>
            </p:nvSpPr>
            <p:spPr>
              <a:xfrm>
                <a:off x="4438800" y="4023000"/>
                <a:ext cx="33840" cy="2736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25"/>
                    </a:moveTo>
                    <a:lnTo>
                      <a:pt x="51" y="20"/>
                    </a:lnTo>
                    <a:lnTo>
                      <a:pt x="49" y="16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7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7" y="39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4" name=""/>
              <p:cNvSpPr/>
              <p:nvPr/>
            </p:nvSpPr>
            <p:spPr>
              <a:xfrm>
                <a:off x="4422600" y="4089600"/>
                <a:ext cx="84240" cy="30960"/>
              </a:xfrm>
              <a:custGeom>
                <a:avLst/>
                <a:gdLst/>
                <a:ahLst/>
                <a:rect l="l" t="t" r="r" b="b"/>
                <a:pathLst>
                  <a:path w="123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5" name=""/>
              <p:cNvSpPr/>
              <p:nvPr/>
            </p:nvSpPr>
            <p:spPr>
              <a:xfrm>
                <a:off x="4294800" y="4089600"/>
                <a:ext cx="82800" cy="3096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6" name=""/>
              <p:cNvSpPr/>
              <p:nvPr/>
            </p:nvSpPr>
            <p:spPr>
              <a:xfrm>
                <a:off x="4166640" y="4089600"/>
                <a:ext cx="82800" cy="30960"/>
              </a:xfrm>
              <a:custGeom>
                <a:avLst/>
                <a:gdLst/>
                <a:ahLst/>
                <a:rect l="l" t="t" r="r" b="b"/>
                <a:pathLst>
                  <a:path w="121" h="54">
                    <a:moveTo>
                      <a:pt x="3" y="54"/>
                    </a:moveTo>
                    <a:lnTo>
                      <a:pt x="117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7" name=""/>
              <p:cNvSpPr/>
              <p:nvPr/>
            </p:nvSpPr>
            <p:spPr>
              <a:xfrm>
                <a:off x="4199400" y="4023000"/>
                <a:ext cx="32400" cy="2736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47" y="25"/>
                    </a:moveTo>
                    <a:lnTo>
                      <a:pt x="47" y="20"/>
                    </a:lnTo>
                    <a:lnTo>
                      <a:pt x="46" y="16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3"/>
                    </a:lnTo>
                    <a:lnTo>
                      <a:pt x="10" y="46"/>
                    </a:lnTo>
                    <a:lnTo>
                      <a:pt x="13" y="48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3" y="48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7" y="30"/>
                    </a:lnTo>
                    <a:lnTo>
                      <a:pt x="47" y="25"/>
                    </a:lnTo>
                    <a:lnTo>
                      <a:pt x="47" y="2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8" name=""/>
              <p:cNvSpPr/>
              <p:nvPr/>
            </p:nvSpPr>
            <p:spPr>
              <a:xfrm>
                <a:off x="4788360" y="3966480"/>
                <a:ext cx="34200" cy="273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5"/>
                    </a:lnTo>
                    <a:lnTo>
                      <a:pt x="35" y="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6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9" name=""/>
              <p:cNvSpPr/>
              <p:nvPr/>
            </p:nvSpPr>
            <p:spPr>
              <a:xfrm>
                <a:off x="4788360" y="4065120"/>
                <a:ext cx="34200" cy="2736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4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0" name=""/>
              <p:cNvSpPr/>
              <p:nvPr/>
            </p:nvSpPr>
            <p:spPr>
              <a:xfrm>
                <a:off x="4788360" y="4164120"/>
                <a:ext cx="34200" cy="2664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1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5"/>
                    </a:lnTo>
                    <a:lnTo>
                      <a:pt x="50" y="29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1" name=""/>
              <p:cNvSpPr/>
              <p:nvPr/>
            </p:nvSpPr>
            <p:spPr>
              <a:xfrm>
                <a:off x="3976560" y="3814200"/>
                <a:ext cx="723600" cy="15120"/>
              </a:xfrm>
              <a:prstGeom prst="rect">
                <a:avLst/>
              </a:prstGeom>
              <a:solidFill>
                <a:srgbClr val="ddddd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2" name=""/>
              <p:cNvSpPr/>
              <p:nvPr/>
            </p:nvSpPr>
            <p:spPr>
              <a:xfrm>
                <a:off x="3976560" y="3814200"/>
                <a:ext cx="723600" cy="1512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3" name=""/>
              <p:cNvSpPr/>
              <p:nvPr/>
            </p:nvSpPr>
            <p:spPr>
              <a:xfrm>
                <a:off x="5766480" y="3853080"/>
                <a:ext cx="740880" cy="362160"/>
              </a:xfrm>
              <a:custGeom>
                <a:avLst/>
                <a:gdLst/>
                <a:ahLst/>
                <a:rect l="l" t="t" r="r" b="b"/>
                <a:pathLst>
                  <a:path w="1091" h="653">
                    <a:moveTo>
                      <a:pt x="775" y="559"/>
                    </a:moveTo>
                    <a:lnTo>
                      <a:pt x="795" y="548"/>
                    </a:lnTo>
                    <a:lnTo>
                      <a:pt x="795" y="525"/>
                    </a:lnTo>
                    <a:lnTo>
                      <a:pt x="775" y="514"/>
                    </a:lnTo>
                    <a:lnTo>
                      <a:pt x="754" y="525"/>
                    </a:lnTo>
                    <a:lnTo>
                      <a:pt x="754" y="548"/>
                    </a:lnTo>
                    <a:lnTo>
                      <a:pt x="775" y="559"/>
                    </a:lnTo>
                    <a:close/>
                    <a:moveTo>
                      <a:pt x="829" y="559"/>
                    </a:moveTo>
                    <a:lnTo>
                      <a:pt x="849" y="548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48"/>
                    </a:lnTo>
                    <a:lnTo>
                      <a:pt x="829" y="559"/>
                    </a:lnTo>
                    <a:close/>
                    <a:moveTo>
                      <a:pt x="883" y="559"/>
                    </a:moveTo>
                    <a:lnTo>
                      <a:pt x="904" y="548"/>
                    </a:lnTo>
                    <a:lnTo>
                      <a:pt x="904" y="525"/>
                    </a:lnTo>
                    <a:lnTo>
                      <a:pt x="883" y="514"/>
                    </a:lnTo>
                    <a:lnTo>
                      <a:pt x="863" y="525"/>
                    </a:lnTo>
                    <a:lnTo>
                      <a:pt x="863" y="548"/>
                    </a:lnTo>
                    <a:lnTo>
                      <a:pt x="883" y="559"/>
                    </a:lnTo>
                    <a:close/>
                    <a:moveTo>
                      <a:pt x="938" y="559"/>
                    </a:moveTo>
                    <a:lnTo>
                      <a:pt x="958" y="548"/>
                    </a:lnTo>
                    <a:lnTo>
                      <a:pt x="958" y="525"/>
                    </a:lnTo>
                    <a:lnTo>
                      <a:pt x="938" y="514"/>
                    </a:lnTo>
                    <a:lnTo>
                      <a:pt x="916" y="525"/>
                    </a:lnTo>
                    <a:lnTo>
                      <a:pt x="916" y="548"/>
                    </a:lnTo>
                    <a:lnTo>
                      <a:pt x="938" y="559"/>
                    </a:lnTo>
                    <a:close/>
                    <a:moveTo>
                      <a:pt x="666" y="559"/>
                    </a:moveTo>
                    <a:lnTo>
                      <a:pt x="686" y="548"/>
                    </a:lnTo>
                    <a:lnTo>
                      <a:pt x="686" y="525"/>
                    </a:lnTo>
                    <a:lnTo>
                      <a:pt x="666" y="514"/>
                    </a:lnTo>
                    <a:lnTo>
                      <a:pt x="647" y="525"/>
                    </a:lnTo>
                    <a:lnTo>
                      <a:pt x="647" y="548"/>
                    </a:lnTo>
                    <a:lnTo>
                      <a:pt x="666" y="559"/>
                    </a:lnTo>
                    <a:close/>
                    <a:moveTo>
                      <a:pt x="720" y="559"/>
                    </a:moveTo>
                    <a:lnTo>
                      <a:pt x="740" y="548"/>
                    </a:lnTo>
                    <a:lnTo>
                      <a:pt x="740" y="525"/>
                    </a:lnTo>
                    <a:lnTo>
                      <a:pt x="720" y="514"/>
                    </a:lnTo>
                    <a:lnTo>
                      <a:pt x="700" y="525"/>
                    </a:lnTo>
                    <a:lnTo>
                      <a:pt x="700" y="548"/>
                    </a:lnTo>
                    <a:lnTo>
                      <a:pt x="720" y="559"/>
                    </a:lnTo>
                    <a:close/>
                    <a:moveTo>
                      <a:pt x="505" y="559"/>
                    </a:moveTo>
                    <a:lnTo>
                      <a:pt x="525" y="548"/>
                    </a:lnTo>
                    <a:lnTo>
                      <a:pt x="525" y="525"/>
                    </a:lnTo>
                    <a:lnTo>
                      <a:pt x="505" y="514"/>
                    </a:lnTo>
                    <a:lnTo>
                      <a:pt x="484" y="525"/>
                    </a:lnTo>
                    <a:lnTo>
                      <a:pt x="484" y="548"/>
                    </a:lnTo>
                    <a:lnTo>
                      <a:pt x="505" y="559"/>
                    </a:lnTo>
                    <a:close/>
                    <a:moveTo>
                      <a:pt x="559" y="559"/>
                    </a:moveTo>
                    <a:lnTo>
                      <a:pt x="579" y="548"/>
                    </a:lnTo>
                    <a:lnTo>
                      <a:pt x="579" y="525"/>
                    </a:lnTo>
                    <a:lnTo>
                      <a:pt x="559" y="514"/>
                    </a:lnTo>
                    <a:lnTo>
                      <a:pt x="539" y="525"/>
                    </a:lnTo>
                    <a:lnTo>
                      <a:pt x="539" y="548"/>
                    </a:lnTo>
                    <a:lnTo>
                      <a:pt x="559" y="559"/>
                    </a:lnTo>
                    <a:close/>
                    <a:moveTo>
                      <a:pt x="613" y="559"/>
                    </a:moveTo>
                    <a:lnTo>
                      <a:pt x="634" y="548"/>
                    </a:lnTo>
                    <a:lnTo>
                      <a:pt x="634" y="525"/>
                    </a:lnTo>
                    <a:lnTo>
                      <a:pt x="613" y="514"/>
                    </a:lnTo>
                    <a:lnTo>
                      <a:pt x="593" y="525"/>
                    </a:lnTo>
                    <a:lnTo>
                      <a:pt x="593" y="548"/>
                    </a:lnTo>
                    <a:lnTo>
                      <a:pt x="613" y="559"/>
                    </a:lnTo>
                    <a:close/>
                    <a:moveTo>
                      <a:pt x="21" y="559"/>
                    </a:moveTo>
                    <a:lnTo>
                      <a:pt x="41" y="548"/>
                    </a:lnTo>
                    <a:lnTo>
                      <a:pt x="41" y="525"/>
                    </a:lnTo>
                    <a:lnTo>
                      <a:pt x="21" y="514"/>
                    </a:lnTo>
                    <a:lnTo>
                      <a:pt x="0" y="525"/>
                    </a:lnTo>
                    <a:lnTo>
                      <a:pt x="0" y="548"/>
                    </a:lnTo>
                    <a:lnTo>
                      <a:pt x="21" y="559"/>
                    </a:lnTo>
                    <a:close/>
                    <a:moveTo>
                      <a:pt x="74" y="559"/>
                    </a:moveTo>
                    <a:lnTo>
                      <a:pt x="93" y="548"/>
                    </a:lnTo>
                    <a:lnTo>
                      <a:pt x="93" y="525"/>
                    </a:lnTo>
                    <a:lnTo>
                      <a:pt x="74" y="514"/>
                    </a:lnTo>
                    <a:lnTo>
                      <a:pt x="54" y="525"/>
                    </a:lnTo>
                    <a:lnTo>
                      <a:pt x="54" y="548"/>
                    </a:lnTo>
                    <a:lnTo>
                      <a:pt x="74" y="559"/>
                    </a:lnTo>
                    <a:close/>
                    <a:moveTo>
                      <a:pt x="127" y="559"/>
                    </a:moveTo>
                    <a:lnTo>
                      <a:pt x="147" y="548"/>
                    </a:lnTo>
                    <a:lnTo>
                      <a:pt x="147" y="525"/>
                    </a:lnTo>
                    <a:lnTo>
                      <a:pt x="127" y="514"/>
                    </a:lnTo>
                    <a:lnTo>
                      <a:pt x="107" y="525"/>
                    </a:lnTo>
                    <a:lnTo>
                      <a:pt x="107" y="548"/>
                    </a:lnTo>
                    <a:lnTo>
                      <a:pt x="127" y="559"/>
                    </a:lnTo>
                    <a:close/>
                    <a:moveTo>
                      <a:pt x="181" y="559"/>
                    </a:moveTo>
                    <a:lnTo>
                      <a:pt x="201" y="548"/>
                    </a:lnTo>
                    <a:lnTo>
                      <a:pt x="201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48"/>
                    </a:lnTo>
                    <a:lnTo>
                      <a:pt x="181" y="559"/>
                    </a:lnTo>
                    <a:close/>
                    <a:moveTo>
                      <a:pt x="236" y="559"/>
                    </a:moveTo>
                    <a:lnTo>
                      <a:pt x="256" y="548"/>
                    </a:lnTo>
                    <a:lnTo>
                      <a:pt x="256" y="525"/>
                    </a:lnTo>
                    <a:lnTo>
                      <a:pt x="236" y="514"/>
                    </a:lnTo>
                    <a:lnTo>
                      <a:pt x="215" y="525"/>
                    </a:lnTo>
                    <a:lnTo>
                      <a:pt x="215" y="548"/>
                    </a:lnTo>
                    <a:lnTo>
                      <a:pt x="236" y="559"/>
                    </a:lnTo>
                    <a:close/>
                    <a:moveTo>
                      <a:pt x="290" y="559"/>
                    </a:moveTo>
                    <a:lnTo>
                      <a:pt x="310" y="548"/>
                    </a:lnTo>
                    <a:lnTo>
                      <a:pt x="310" y="525"/>
                    </a:lnTo>
                    <a:lnTo>
                      <a:pt x="290" y="514"/>
                    </a:lnTo>
                    <a:lnTo>
                      <a:pt x="270" y="525"/>
                    </a:lnTo>
                    <a:lnTo>
                      <a:pt x="270" y="548"/>
                    </a:lnTo>
                    <a:lnTo>
                      <a:pt x="290" y="559"/>
                    </a:lnTo>
                    <a:close/>
                    <a:moveTo>
                      <a:pt x="801" y="511"/>
                    </a:moveTo>
                    <a:lnTo>
                      <a:pt x="821" y="500"/>
                    </a:lnTo>
                    <a:lnTo>
                      <a:pt x="821" y="477"/>
                    </a:lnTo>
                    <a:lnTo>
                      <a:pt x="801" y="466"/>
                    </a:lnTo>
                    <a:lnTo>
                      <a:pt x="781" y="477"/>
                    </a:lnTo>
                    <a:lnTo>
                      <a:pt x="781" y="500"/>
                    </a:lnTo>
                    <a:lnTo>
                      <a:pt x="801" y="511"/>
                    </a:lnTo>
                    <a:close/>
                    <a:moveTo>
                      <a:pt x="856" y="511"/>
                    </a:moveTo>
                    <a:lnTo>
                      <a:pt x="876" y="500"/>
                    </a:lnTo>
                    <a:lnTo>
                      <a:pt x="876" y="477"/>
                    </a:lnTo>
                    <a:lnTo>
                      <a:pt x="856" y="466"/>
                    </a:lnTo>
                    <a:lnTo>
                      <a:pt x="835" y="477"/>
                    </a:lnTo>
                    <a:lnTo>
                      <a:pt x="835" y="500"/>
                    </a:lnTo>
                    <a:lnTo>
                      <a:pt x="856" y="511"/>
                    </a:lnTo>
                    <a:close/>
                    <a:moveTo>
                      <a:pt x="910" y="511"/>
                    </a:moveTo>
                    <a:lnTo>
                      <a:pt x="930" y="500"/>
                    </a:lnTo>
                    <a:lnTo>
                      <a:pt x="930" y="477"/>
                    </a:lnTo>
                    <a:lnTo>
                      <a:pt x="910" y="466"/>
                    </a:lnTo>
                    <a:lnTo>
                      <a:pt x="890" y="477"/>
                    </a:lnTo>
                    <a:lnTo>
                      <a:pt x="890" y="500"/>
                    </a:lnTo>
                    <a:lnTo>
                      <a:pt x="910" y="511"/>
                    </a:lnTo>
                    <a:close/>
                    <a:moveTo>
                      <a:pt x="587" y="511"/>
                    </a:moveTo>
                    <a:lnTo>
                      <a:pt x="607" y="500"/>
                    </a:lnTo>
                    <a:lnTo>
                      <a:pt x="607" y="477"/>
                    </a:lnTo>
                    <a:lnTo>
                      <a:pt x="587" y="466"/>
                    </a:lnTo>
                    <a:lnTo>
                      <a:pt x="566" y="477"/>
                    </a:lnTo>
                    <a:lnTo>
                      <a:pt x="566" y="500"/>
                    </a:lnTo>
                    <a:lnTo>
                      <a:pt x="587" y="511"/>
                    </a:lnTo>
                    <a:close/>
                    <a:moveTo>
                      <a:pt x="641" y="511"/>
                    </a:moveTo>
                    <a:lnTo>
                      <a:pt x="658" y="500"/>
                    </a:lnTo>
                    <a:lnTo>
                      <a:pt x="658" y="477"/>
                    </a:lnTo>
                    <a:lnTo>
                      <a:pt x="641" y="466"/>
                    </a:lnTo>
                    <a:lnTo>
                      <a:pt x="621" y="477"/>
                    </a:lnTo>
                    <a:lnTo>
                      <a:pt x="621" y="500"/>
                    </a:lnTo>
                    <a:lnTo>
                      <a:pt x="641" y="511"/>
                    </a:lnTo>
                    <a:close/>
                    <a:moveTo>
                      <a:pt x="692" y="511"/>
                    </a:moveTo>
                    <a:lnTo>
                      <a:pt x="713" y="500"/>
                    </a:lnTo>
                    <a:lnTo>
                      <a:pt x="713" y="477"/>
                    </a:lnTo>
                    <a:lnTo>
                      <a:pt x="692" y="466"/>
                    </a:lnTo>
                    <a:lnTo>
                      <a:pt x="675" y="477"/>
                    </a:lnTo>
                    <a:lnTo>
                      <a:pt x="675" y="500"/>
                    </a:lnTo>
                    <a:lnTo>
                      <a:pt x="692" y="511"/>
                    </a:lnTo>
                    <a:close/>
                    <a:moveTo>
                      <a:pt x="747" y="511"/>
                    </a:moveTo>
                    <a:lnTo>
                      <a:pt x="767" y="500"/>
                    </a:lnTo>
                    <a:lnTo>
                      <a:pt x="767" y="477"/>
                    </a:lnTo>
                    <a:lnTo>
                      <a:pt x="747" y="466"/>
                    </a:lnTo>
                    <a:lnTo>
                      <a:pt x="727" y="477"/>
                    </a:lnTo>
                    <a:lnTo>
                      <a:pt x="727" y="500"/>
                    </a:lnTo>
                    <a:lnTo>
                      <a:pt x="747" y="511"/>
                    </a:lnTo>
                    <a:close/>
                    <a:moveTo>
                      <a:pt x="371" y="511"/>
                    </a:moveTo>
                    <a:lnTo>
                      <a:pt x="391" y="500"/>
                    </a:lnTo>
                    <a:lnTo>
                      <a:pt x="391" y="477"/>
                    </a:lnTo>
                    <a:lnTo>
                      <a:pt x="371" y="466"/>
                    </a:lnTo>
                    <a:lnTo>
                      <a:pt x="351" y="477"/>
                    </a:lnTo>
                    <a:lnTo>
                      <a:pt x="351" y="500"/>
                    </a:lnTo>
                    <a:lnTo>
                      <a:pt x="371" y="511"/>
                    </a:lnTo>
                    <a:close/>
                    <a:moveTo>
                      <a:pt x="425" y="511"/>
                    </a:moveTo>
                    <a:lnTo>
                      <a:pt x="447" y="500"/>
                    </a:lnTo>
                    <a:lnTo>
                      <a:pt x="447" y="477"/>
                    </a:lnTo>
                    <a:lnTo>
                      <a:pt x="425" y="466"/>
                    </a:lnTo>
                    <a:lnTo>
                      <a:pt x="405" y="477"/>
                    </a:lnTo>
                    <a:lnTo>
                      <a:pt x="405" y="500"/>
                    </a:lnTo>
                    <a:lnTo>
                      <a:pt x="425" y="511"/>
                    </a:lnTo>
                    <a:close/>
                    <a:moveTo>
                      <a:pt x="480" y="511"/>
                    </a:moveTo>
                    <a:lnTo>
                      <a:pt x="498" y="500"/>
                    </a:lnTo>
                    <a:lnTo>
                      <a:pt x="498" y="477"/>
                    </a:lnTo>
                    <a:lnTo>
                      <a:pt x="480" y="466"/>
                    </a:lnTo>
                    <a:lnTo>
                      <a:pt x="459" y="477"/>
                    </a:lnTo>
                    <a:lnTo>
                      <a:pt x="459" y="500"/>
                    </a:lnTo>
                    <a:lnTo>
                      <a:pt x="480" y="511"/>
                    </a:lnTo>
                    <a:close/>
                    <a:moveTo>
                      <a:pt x="532" y="511"/>
                    </a:moveTo>
                    <a:lnTo>
                      <a:pt x="552" y="500"/>
                    </a:lnTo>
                    <a:lnTo>
                      <a:pt x="552" y="477"/>
                    </a:lnTo>
                    <a:lnTo>
                      <a:pt x="532" y="466"/>
                    </a:lnTo>
                    <a:lnTo>
                      <a:pt x="512" y="477"/>
                    </a:lnTo>
                    <a:lnTo>
                      <a:pt x="512" y="500"/>
                    </a:lnTo>
                    <a:lnTo>
                      <a:pt x="532" y="511"/>
                    </a:lnTo>
                    <a:close/>
                    <a:moveTo>
                      <a:pt x="48" y="511"/>
                    </a:moveTo>
                    <a:lnTo>
                      <a:pt x="68" y="500"/>
                    </a:lnTo>
                    <a:lnTo>
                      <a:pt x="68" y="477"/>
                    </a:lnTo>
                    <a:lnTo>
                      <a:pt x="48" y="466"/>
                    </a:lnTo>
                    <a:lnTo>
                      <a:pt x="27" y="477"/>
                    </a:lnTo>
                    <a:lnTo>
                      <a:pt x="27" y="500"/>
                    </a:lnTo>
                    <a:lnTo>
                      <a:pt x="48" y="511"/>
                    </a:lnTo>
                    <a:close/>
                    <a:moveTo>
                      <a:pt x="99" y="511"/>
                    </a:moveTo>
                    <a:lnTo>
                      <a:pt x="120" y="500"/>
                    </a:lnTo>
                    <a:lnTo>
                      <a:pt x="120" y="477"/>
                    </a:lnTo>
                    <a:lnTo>
                      <a:pt x="99" y="466"/>
                    </a:lnTo>
                    <a:lnTo>
                      <a:pt x="82" y="477"/>
                    </a:lnTo>
                    <a:lnTo>
                      <a:pt x="82" y="500"/>
                    </a:lnTo>
                    <a:lnTo>
                      <a:pt x="99" y="511"/>
                    </a:lnTo>
                    <a:close/>
                    <a:moveTo>
                      <a:pt x="155" y="511"/>
                    </a:moveTo>
                    <a:lnTo>
                      <a:pt x="175" y="500"/>
                    </a:lnTo>
                    <a:lnTo>
                      <a:pt x="175" y="477"/>
                    </a:lnTo>
                    <a:lnTo>
                      <a:pt x="155" y="466"/>
                    </a:lnTo>
                    <a:lnTo>
                      <a:pt x="133" y="477"/>
                    </a:lnTo>
                    <a:lnTo>
                      <a:pt x="133" y="500"/>
                    </a:lnTo>
                    <a:lnTo>
                      <a:pt x="155" y="511"/>
                    </a:lnTo>
                    <a:close/>
                    <a:moveTo>
                      <a:pt x="208" y="511"/>
                    </a:moveTo>
                    <a:lnTo>
                      <a:pt x="229" y="500"/>
                    </a:lnTo>
                    <a:lnTo>
                      <a:pt x="229" y="477"/>
                    </a:lnTo>
                    <a:lnTo>
                      <a:pt x="208" y="466"/>
                    </a:lnTo>
                    <a:lnTo>
                      <a:pt x="188" y="477"/>
                    </a:lnTo>
                    <a:lnTo>
                      <a:pt x="188" y="500"/>
                    </a:lnTo>
                    <a:lnTo>
                      <a:pt x="208" y="511"/>
                    </a:lnTo>
                    <a:close/>
                    <a:moveTo>
                      <a:pt x="262" y="511"/>
                    </a:moveTo>
                    <a:lnTo>
                      <a:pt x="282" y="500"/>
                    </a:lnTo>
                    <a:lnTo>
                      <a:pt x="282" y="477"/>
                    </a:lnTo>
                    <a:lnTo>
                      <a:pt x="262" y="466"/>
                    </a:lnTo>
                    <a:lnTo>
                      <a:pt x="242" y="477"/>
                    </a:lnTo>
                    <a:lnTo>
                      <a:pt x="242" y="500"/>
                    </a:lnTo>
                    <a:lnTo>
                      <a:pt x="262" y="511"/>
                    </a:lnTo>
                    <a:close/>
                    <a:moveTo>
                      <a:pt x="317" y="511"/>
                    </a:moveTo>
                    <a:lnTo>
                      <a:pt x="338" y="500"/>
                    </a:lnTo>
                    <a:lnTo>
                      <a:pt x="338" y="477"/>
                    </a:lnTo>
                    <a:lnTo>
                      <a:pt x="317" y="466"/>
                    </a:lnTo>
                    <a:lnTo>
                      <a:pt x="296" y="477"/>
                    </a:lnTo>
                    <a:lnTo>
                      <a:pt x="296" y="500"/>
                    </a:lnTo>
                    <a:lnTo>
                      <a:pt x="317" y="511"/>
                    </a:lnTo>
                    <a:close/>
                    <a:moveTo>
                      <a:pt x="505" y="466"/>
                    </a:moveTo>
                    <a:lnTo>
                      <a:pt x="525" y="455"/>
                    </a:lnTo>
                    <a:lnTo>
                      <a:pt x="525" y="432"/>
                    </a:lnTo>
                    <a:lnTo>
                      <a:pt x="505" y="421"/>
                    </a:lnTo>
                    <a:lnTo>
                      <a:pt x="484" y="432"/>
                    </a:lnTo>
                    <a:lnTo>
                      <a:pt x="484" y="455"/>
                    </a:lnTo>
                    <a:lnTo>
                      <a:pt x="505" y="466"/>
                    </a:lnTo>
                    <a:close/>
                    <a:moveTo>
                      <a:pt x="559" y="466"/>
                    </a:moveTo>
                    <a:lnTo>
                      <a:pt x="579" y="455"/>
                    </a:lnTo>
                    <a:lnTo>
                      <a:pt x="579" y="432"/>
                    </a:lnTo>
                    <a:lnTo>
                      <a:pt x="559" y="421"/>
                    </a:lnTo>
                    <a:lnTo>
                      <a:pt x="539" y="432"/>
                    </a:lnTo>
                    <a:lnTo>
                      <a:pt x="539" y="455"/>
                    </a:lnTo>
                    <a:lnTo>
                      <a:pt x="559" y="466"/>
                    </a:lnTo>
                    <a:close/>
                    <a:moveTo>
                      <a:pt x="21" y="466"/>
                    </a:moveTo>
                    <a:lnTo>
                      <a:pt x="41" y="455"/>
                    </a:lnTo>
                    <a:lnTo>
                      <a:pt x="41" y="432"/>
                    </a:lnTo>
                    <a:lnTo>
                      <a:pt x="21" y="421"/>
                    </a:lnTo>
                    <a:lnTo>
                      <a:pt x="0" y="432"/>
                    </a:lnTo>
                    <a:lnTo>
                      <a:pt x="0" y="455"/>
                    </a:lnTo>
                    <a:lnTo>
                      <a:pt x="21" y="466"/>
                    </a:lnTo>
                    <a:close/>
                    <a:moveTo>
                      <a:pt x="74" y="466"/>
                    </a:moveTo>
                    <a:lnTo>
                      <a:pt x="93" y="455"/>
                    </a:lnTo>
                    <a:lnTo>
                      <a:pt x="93" y="432"/>
                    </a:lnTo>
                    <a:lnTo>
                      <a:pt x="74" y="421"/>
                    </a:lnTo>
                    <a:lnTo>
                      <a:pt x="54" y="432"/>
                    </a:lnTo>
                    <a:lnTo>
                      <a:pt x="54" y="455"/>
                    </a:lnTo>
                    <a:lnTo>
                      <a:pt x="74" y="466"/>
                    </a:lnTo>
                    <a:close/>
                    <a:moveTo>
                      <a:pt x="127" y="466"/>
                    </a:moveTo>
                    <a:lnTo>
                      <a:pt x="147" y="455"/>
                    </a:lnTo>
                    <a:lnTo>
                      <a:pt x="147" y="432"/>
                    </a:lnTo>
                    <a:lnTo>
                      <a:pt x="127" y="421"/>
                    </a:lnTo>
                    <a:lnTo>
                      <a:pt x="107" y="432"/>
                    </a:lnTo>
                    <a:lnTo>
                      <a:pt x="107" y="455"/>
                    </a:lnTo>
                    <a:lnTo>
                      <a:pt x="127" y="466"/>
                    </a:lnTo>
                    <a:close/>
                    <a:moveTo>
                      <a:pt x="181" y="466"/>
                    </a:moveTo>
                    <a:lnTo>
                      <a:pt x="201" y="455"/>
                    </a:lnTo>
                    <a:lnTo>
                      <a:pt x="201" y="432"/>
                    </a:lnTo>
                    <a:lnTo>
                      <a:pt x="181" y="421"/>
                    </a:lnTo>
                    <a:lnTo>
                      <a:pt x="161" y="432"/>
                    </a:lnTo>
                    <a:lnTo>
                      <a:pt x="161" y="455"/>
                    </a:lnTo>
                    <a:lnTo>
                      <a:pt x="181" y="466"/>
                    </a:lnTo>
                    <a:close/>
                    <a:moveTo>
                      <a:pt x="236" y="466"/>
                    </a:moveTo>
                    <a:lnTo>
                      <a:pt x="256" y="455"/>
                    </a:lnTo>
                    <a:lnTo>
                      <a:pt x="256" y="432"/>
                    </a:lnTo>
                    <a:lnTo>
                      <a:pt x="236" y="421"/>
                    </a:lnTo>
                    <a:lnTo>
                      <a:pt x="215" y="432"/>
                    </a:lnTo>
                    <a:lnTo>
                      <a:pt x="215" y="455"/>
                    </a:lnTo>
                    <a:lnTo>
                      <a:pt x="236" y="466"/>
                    </a:lnTo>
                    <a:close/>
                    <a:moveTo>
                      <a:pt x="290" y="466"/>
                    </a:moveTo>
                    <a:lnTo>
                      <a:pt x="310" y="455"/>
                    </a:lnTo>
                    <a:lnTo>
                      <a:pt x="310" y="432"/>
                    </a:lnTo>
                    <a:lnTo>
                      <a:pt x="290" y="421"/>
                    </a:lnTo>
                    <a:lnTo>
                      <a:pt x="270" y="432"/>
                    </a:lnTo>
                    <a:lnTo>
                      <a:pt x="270" y="455"/>
                    </a:lnTo>
                    <a:lnTo>
                      <a:pt x="290" y="466"/>
                    </a:lnTo>
                    <a:close/>
                    <a:moveTo>
                      <a:pt x="344" y="466"/>
                    </a:moveTo>
                    <a:lnTo>
                      <a:pt x="365" y="455"/>
                    </a:lnTo>
                    <a:lnTo>
                      <a:pt x="365" y="432"/>
                    </a:lnTo>
                    <a:lnTo>
                      <a:pt x="344" y="421"/>
                    </a:lnTo>
                    <a:lnTo>
                      <a:pt x="324" y="432"/>
                    </a:lnTo>
                    <a:lnTo>
                      <a:pt x="324" y="455"/>
                    </a:lnTo>
                    <a:lnTo>
                      <a:pt x="344" y="466"/>
                    </a:lnTo>
                    <a:close/>
                    <a:moveTo>
                      <a:pt x="399" y="466"/>
                    </a:moveTo>
                    <a:lnTo>
                      <a:pt x="419" y="455"/>
                    </a:lnTo>
                    <a:lnTo>
                      <a:pt x="419" y="432"/>
                    </a:lnTo>
                    <a:lnTo>
                      <a:pt x="399" y="421"/>
                    </a:lnTo>
                    <a:lnTo>
                      <a:pt x="378" y="432"/>
                    </a:lnTo>
                    <a:lnTo>
                      <a:pt x="378" y="455"/>
                    </a:lnTo>
                    <a:lnTo>
                      <a:pt x="399" y="466"/>
                    </a:lnTo>
                    <a:close/>
                    <a:moveTo>
                      <a:pt x="613" y="466"/>
                    </a:moveTo>
                    <a:lnTo>
                      <a:pt x="634" y="455"/>
                    </a:lnTo>
                    <a:lnTo>
                      <a:pt x="634" y="432"/>
                    </a:lnTo>
                    <a:lnTo>
                      <a:pt x="613" y="421"/>
                    </a:lnTo>
                    <a:lnTo>
                      <a:pt x="593" y="432"/>
                    </a:lnTo>
                    <a:lnTo>
                      <a:pt x="593" y="455"/>
                    </a:lnTo>
                    <a:lnTo>
                      <a:pt x="613" y="466"/>
                    </a:lnTo>
                    <a:close/>
                    <a:moveTo>
                      <a:pt x="666" y="466"/>
                    </a:moveTo>
                    <a:lnTo>
                      <a:pt x="686" y="455"/>
                    </a:lnTo>
                    <a:lnTo>
                      <a:pt x="686" y="432"/>
                    </a:lnTo>
                    <a:lnTo>
                      <a:pt x="666" y="421"/>
                    </a:lnTo>
                    <a:lnTo>
                      <a:pt x="647" y="432"/>
                    </a:lnTo>
                    <a:lnTo>
                      <a:pt x="647" y="455"/>
                    </a:lnTo>
                    <a:lnTo>
                      <a:pt x="666" y="466"/>
                    </a:lnTo>
                    <a:close/>
                    <a:moveTo>
                      <a:pt x="720" y="466"/>
                    </a:moveTo>
                    <a:lnTo>
                      <a:pt x="740" y="455"/>
                    </a:lnTo>
                    <a:lnTo>
                      <a:pt x="740" y="432"/>
                    </a:lnTo>
                    <a:lnTo>
                      <a:pt x="720" y="421"/>
                    </a:lnTo>
                    <a:lnTo>
                      <a:pt x="700" y="432"/>
                    </a:lnTo>
                    <a:lnTo>
                      <a:pt x="700" y="455"/>
                    </a:lnTo>
                    <a:lnTo>
                      <a:pt x="720" y="466"/>
                    </a:lnTo>
                    <a:close/>
                    <a:moveTo>
                      <a:pt x="775" y="466"/>
                    </a:moveTo>
                    <a:lnTo>
                      <a:pt x="795" y="455"/>
                    </a:lnTo>
                    <a:lnTo>
                      <a:pt x="795" y="432"/>
                    </a:lnTo>
                    <a:lnTo>
                      <a:pt x="775" y="421"/>
                    </a:lnTo>
                    <a:lnTo>
                      <a:pt x="754" y="432"/>
                    </a:lnTo>
                    <a:lnTo>
                      <a:pt x="754" y="455"/>
                    </a:lnTo>
                    <a:lnTo>
                      <a:pt x="775" y="466"/>
                    </a:lnTo>
                    <a:close/>
                    <a:moveTo>
                      <a:pt x="532" y="234"/>
                    </a:moveTo>
                    <a:lnTo>
                      <a:pt x="552" y="222"/>
                    </a:lnTo>
                    <a:lnTo>
                      <a:pt x="552" y="198"/>
                    </a:lnTo>
                    <a:lnTo>
                      <a:pt x="532" y="187"/>
                    </a:lnTo>
                    <a:lnTo>
                      <a:pt x="512" y="198"/>
                    </a:lnTo>
                    <a:lnTo>
                      <a:pt x="512" y="222"/>
                    </a:lnTo>
                    <a:lnTo>
                      <a:pt x="532" y="234"/>
                    </a:lnTo>
                    <a:close/>
                    <a:moveTo>
                      <a:pt x="532" y="140"/>
                    </a:moveTo>
                    <a:lnTo>
                      <a:pt x="552" y="128"/>
                    </a:lnTo>
                    <a:lnTo>
                      <a:pt x="552" y="105"/>
                    </a:lnTo>
                    <a:lnTo>
                      <a:pt x="532" y="94"/>
                    </a:lnTo>
                    <a:lnTo>
                      <a:pt x="512" y="105"/>
                    </a:lnTo>
                    <a:lnTo>
                      <a:pt x="512" y="128"/>
                    </a:lnTo>
                    <a:lnTo>
                      <a:pt x="532" y="140"/>
                    </a:lnTo>
                    <a:close/>
                    <a:moveTo>
                      <a:pt x="559" y="279"/>
                    </a:moveTo>
                    <a:lnTo>
                      <a:pt x="579" y="268"/>
                    </a:lnTo>
                    <a:lnTo>
                      <a:pt x="579" y="245"/>
                    </a:lnTo>
                    <a:lnTo>
                      <a:pt x="559" y="234"/>
                    </a:lnTo>
                    <a:lnTo>
                      <a:pt x="539" y="245"/>
                    </a:lnTo>
                    <a:lnTo>
                      <a:pt x="539" y="268"/>
                    </a:lnTo>
                    <a:lnTo>
                      <a:pt x="559" y="279"/>
                    </a:lnTo>
                    <a:close/>
                    <a:moveTo>
                      <a:pt x="559" y="187"/>
                    </a:moveTo>
                    <a:lnTo>
                      <a:pt x="579" y="174"/>
                    </a:lnTo>
                    <a:lnTo>
                      <a:pt x="579" y="152"/>
                    </a:lnTo>
                    <a:lnTo>
                      <a:pt x="559" y="140"/>
                    </a:lnTo>
                    <a:lnTo>
                      <a:pt x="539" y="152"/>
                    </a:lnTo>
                    <a:lnTo>
                      <a:pt x="539" y="174"/>
                    </a:lnTo>
                    <a:lnTo>
                      <a:pt x="559" y="187"/>
                    </a:lnTo>
                    <a:close/>
                    <a:moveTo>
                      <a:pt x="559" y="94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59" y="47"/>
                    </a:lnTo>
                    <a:lnTo>
                      <a:pt x="539" y="58"/>
                    </a:lnTo>
                    <a:lnTo>
                      <a:pt x="539" y="82"/>
                    </a:lnTo>
                    <a:lnTo>
                      <a:pt x="559" y="94"/>
                    </a:lnTo>
                    <a:close/>
                    <a:moveTo>
                      <a:pt x="480" y="327"/>
                    </a:moveTo>
                    <a:lnTo>
                      <a:pt x="498" y="316"/>
                    </a:lnTo>
                    <a:lnTo>
                      <a:pt x="498" y="292"/>
                    </a:lnTo>
                    <a:lnTo>
                      <a:pt x="480" y="280"/>
                    </a:lnTo>
                    <a:lnTo>
                      <a:pt x="459" y="292"/>
                    </a:lnTo>
                    <a:lnTo>
                      <a:pt x="459" y="316"/>
                    </a:lnTo>
                    <a:lnTo>
                      <a:pt x="480" y="327"/>
                    </a:lnTo>
                    <a:close/>
                    <a:moveTo>
                      <a:pt x="505" y="373"/>
                    </a:moveTo>
                    <a:lnTo>
                      <a:pt x="525" y="361"/>
                    </a:lnTo>
                    <a:lnTo>
                      <a:pt x="525" y="338"/>
                    </a:lnTo>
                    <a:lnTo>
                      <a:pt x="505" y="327"/>
                    </a:lnTo>
                    <a:lnTo>
                      <a:pt x="484" y="338"/>
                    </a:lnTo>
                    <a:lnTo>
                      <a:pt x="484" y="361"/>
                    </a:lnTo>
                    <a:lnTo>
                      <a:pt x="505" y="373"/>
                    </a:lnTo>
                    <a:close/>
                    <a:moveTo>
                      <a:pt x="48" y="421"/>
                    </a:moveTo>
                    <a:lnTo>
                      <a:pt x="68" y="409"/>
                    </a:lnTo>
                    <a:lnTo>
                      <a:pt x="68" y="384"/>
                    </a:lnTo>
                    <a:lnTo>
                      <a:pt x="48" y="373"/>
                    </a:lnTo>
                    <a:lnTo>
                      <a:pt x="27" y="384"/>
                    </a:lnTo>
                    <a:lnTo>
                      <a:pt x="27" y="409"/>
                    </a:lnTo>
                    <a:lnTo>
                      <a:pt x="48" y="421"/>
                    </a:lnTo>
                    <a:close/>
                    <a:moveTo>
                      <a:pt x="99" y="421"/>
                    </a:moveTo>
                    <a:lnTo>
                      <a:pt x="120" y="409"/>
                    </a:lnTo>
                    <a:lnTo>
                      <a:pt x="120" y="384"/>
                    </a:lnTo>
                    <a:lnTo>
                      <a:pt x="99" y="373"/>
                    </a:lnTo>
                    <a:lnTo>
                      <a:pt x="82" y="384"/>
                    </a:lnTo>
                    <a:lnTo>
                      <a:pt x="82" y="409"/>
                    </a:lnTo>
                    <a:lnTo>
                      <a:pt x="99" y="421"/>
                    </a:lnTo>
                    <a:close/>
                    <a:moveTo>
                      <a:pt x="155" y="421"/>
                    </a:moveTo>
                    <a:lnTo>
                      <a:pt x="175" y="409"/>
                    </a:lnTo>
                    <a:lnTo>
                      <a:pt x="175" y="384"/>
                    </a:lnTo>
                    <a:lnTo>
                      <a:pt x="155" y="373"/>
                    </a:lnTo>
                    <a:lnTo>
                      <a:pt x="133" y="384"/>
                    </a:lnTo>
                    <a:lnTo>
                      <a:pt x="133" y="409"/>
                    </a:lnTo>
                    <a:lnTo>
                      <a:pt x="155" y="421"/>
                    </a:lnTo>
                    <a:close/>
                    <a:moveTo>
                      <a:pt x="208" y="421"/>
                    </a:moveTo>
                    <a:lnTo>
                      <a:pt x="229" y="409"/>
                    </a:lnTo>
                    <a:lnTo>
                      <a:pt x="229" y="384"/>
                    </a:lnTo>
                    <a:lnTo>
                      <a:pt x="208" y="373"/>
                    </a:lnTo>
                    <a:lnTo>
                      <a:pt x="188" y="384"/>
                    </a:lnTo>
                    <a:lnTo>
                      <a:pt x="188" y="409"/>
                    </a:lnTo>
                    <a:lnTo>
                      <a:pt x="208" y="421"/>
                    </a:lnTo>
                    <a:close/>
                    <a:moveTo>
                      <a:pt x="262" y="421"/>
                    </a:moveTo>
                    <a:lnTo>
                      <a:pt x="282" y="409"/>
                    </a:lnTo>
                    <a:lnTo>
                      <a:pt x="282" y="384"/>
                    </a:lnTo>
                    <a:lnTo>
                      <a:pt x="262" y="373"/>
                    </a:lnTo>
                    <a:lnTo>
                      <a:pt x="242" y="384"/>
                    </a:lnTo>
                    <a:lnTo>
                      <a:pt x="242" y="409"/>
                    </a:lnTo>
                    <a:lnTo>
                      <a:pt x="262" y="421"/>
                    </a:lnTo>
                    <a:close/>
                    <a:moveTo>
                      <a:pt x="317" y="421"/>
                    </a:moveTo>
                    <a:lnTo>
                      <a:pt x="338" y="409"/>
                    </a:lnTo>
                    <a:lnTo>
                      <a:pt x="338" y="384"/>
                    </a:lnTo>
                    <a:lnTo>
                      <a:pt x="317" y="373"/>
                    </a:lnTo>
                    <a:lnTo>
                      <a:pt x="296" y="384"/>
                    </a:lnTo>
                    <a:lnTo>
                      <a:pt x="296" y="409"/>
                    </a:lnTo>
                    <a:lnTo>
                      <a:pt x="317" y="421"/>
                    </a:lnTo>
                    <a:close/>
                    <a:moveTo>
                      <a:pt x="371" y="421"/>
                    </a:moveTo>
                    <a:lnTo>
                      <a:pt x="391" y="409"/>
                    </a:lnTo>
                    <a:lnTo>
                      <a:pt x="391" y="384"/>
                    </a:lnTo>
                    <a:lnTo>
                      <a:pt x="371" y="373"/>
                    </a:lnTo>
                    <a:lnTo>
                      <a:pt x="351" y="384"/>
                    </a:lnTo>
                    <a:lnTo>
                      <a:pt x="351" y="409"/>
                    </a:lnTo>
                    <a:lnTo>
                      <a:pt x="371" y="421"/>
                    </a:lnTo>
                    <a:close/>
                    <a:moveTo>
                      <a:pt x="425" y="421"/>
                    </a:moveTo>
                    <a:lnTo>
                      <a:pt x="447" y="409"/>
                    </a:lnTo>
                    <a:lnTo>
                      <a:pt x="447" y="384"/>
                    </a:lnTo>
                    <a:lnTo>
                      <a:pt x="425" y="373"/>
                    </a:lnTo>
                    <a:lnTo>
                      <a:pt x="405" y="384"/>
                    </a:lnTo>
                    <a:lnTo>
                      <a:pt x="405" y="409"/>
                    </a:lnTo>
                    <a:lnTo>
                      <a:pt x="425" y="421"/>
                    </a:lnTo>
                    <a:close/>
                    <a:moveTo>
                      <a:pt x="371" y="327"/>
                    </a:moveTo>
                    <a:lnTo>
                      <a:pt x="391" y="316"/>
                    </a:lnTo>
                    <a:lnTo>
                      <a:pt x="391" y="292"/>
                    </a:lnTo>
                    <a:lnTo>
                      <a:pt x="371" y="280"/>
                    </a:lnTo>
                    <a:lnTo>
                      <a:pt x="351" y="292"/>
                    </a:lnTo>
                    <a:lnTo>
                      <a:pt x="351" y="316"/>
                    </a:lnTo>
                    <a:lnTo>
                      <a:pt x="371" y="327"/>
                    </a:lnTo>
                    <a:close/>
                    <a:moveTo>
                      <a:pt x="425" y="327"/>
                    </a:moveTo>
                    <a:lnTo>
                      <a:pt x="447" y="316"/>
                    </a:lnTo>
                    <a:lnTo>
                      <a:pt x="447" y="292"/>
                    </a:lnTo>
                    <a:lnTo>
                      <a:pt x="425" y="280"/>
                    </a:lnTo>
                    <a:lnTo>
                      <a:pt x="405" y="292"/>
                    </a:lnTo>
                    <a:lnTo>
                      <a:pt x="405" y="316"/>
                    </a:lnTo>
                    <a:lnTo>
                      <a:pt x="425" y="327"/>
                    </a:lnTo>
                    <a:close/>
                    <a:moveTo>
                      <a:pt x="21" y="373"/>
                    </a:moveTo>
                    <a:lnTo>
                      <a:pt x="41" y="361"/>
                    </a:lnTo>
                    <a:lnTo>
                      <a:pt x="41" y="338"/>
                    </a:lnTo>
                    <a:lnTo>
                      <a:pt x="21" y="327"/>
                    </a:lnTo>
                    <a:lnTo>
                      <a:pt x="0" y="338"/>
                    </a:lnTo>
                    <a:lnTo>
                      <a:pt x="0" y="361"/>
                    </a:lnTo>
                    <a:lnTo>
                      <a:pt x="21" y="373"/>
                    </a:lnTo>
                    <a:close/>
                    <a:moveTo>
                      <a:pt x="74" y="373"/>
                    </a:moveTo>
                    <a:lnTo>
                      <a:pt x="93" y="361"/>
                    </a:lnTo>
                    <a:lnTo>
                      <a:pt x="93" y="338"/>
                    </a:lnTo>
                    <a:lnTo>
                      <a:pt x="74" y="327"/>
                    </a:lnTo>
                    <a:lnTo>
                      <a:pt x="54" y="338"/>
                    </a:lnTo>
                    <a:lnTo>
                      <a:pt x="54" y="361"/>
                    </a:lnTo>
                    <a:lnTo>
                      <a:pt x="74" y="373"/>
                    </a:lnTo>
                    <a:close/>
                    <a:moveTo>
                      <a:pt x="127" y="373"/>
                    </a:moveTo>
                    <a:lnTo>
                      <a:pt x="147" y="361"/>
                    </a:lnTo>
                    <a:lnTo>
                      <a:pt x="147" y="338"/>
                    </a:lnTo>
                    <a:lnTo>
                      <a:pt x="127" y="327"/>
                    </a:lnTo>
                    <a:lnTo>
                      <a:pt x="107" y="338"/>
                    </a:lnTo>
                    <a:lnTo>
                      <a:pt x="107" y="361"/>
                    </a:lnTo>
                    <a:lnTo>
                      <a:pt x="127" y="373"/>
                    </a:lnTo>
                    <a:close/>
                    <a:moveTo>
                      <a:pt x="181" y="373"/>
                    </a:moveTo>
                    <a:lnTo>
                      <a:pt x="201" y="361"/>
                    </a:lnTo>
                    <a:lnTo>
                      <a:pt x="201" y="338"/>
                    </a:lnTo>
                    <a:lnTo>
                      <a:pt x="181" y="327"/>
                    </a:lnTo>
                    <a:lnTo>
                      <a:pt x="161" y="338"/>
                    </a:lnTo>
                    <a:lnTo>
                      <a:pt x="161" y="361"/>
                    </a:lnTo>
                    <a:lnTo>
                      <a:pt x="181" y="373"/>
                    </a:lnTo>
                    <a:close/>
                    <a:moveTo>
                      <a:pt x="236" y="373"/>
                    </a:moveTo>
                    <a:lnTo>
                      <a:pt x="256" y="361"/>
                    </a:lnTo>
                    <a:lnTo>
                      <a:pt x="256" y="338"/>
                    </a:lnTo>
                    <a:lnTo>
                      <a:pt x="236" y="327"/>
                    </a:lnTo>
                    <a:lnTo>
                      <a:pt x="215" y="338"/>
                    </a:lnTo>
                    <a:lnTo>
                      <a:pt x="215" y="361"/>
                    </a:lnTo>
                    <a:lnTo>
                      <a:pt x="236" y="373"/>
                    </a:lnTo>
                    <a:close/>
                    <a:moveTo>
                      <a:pt x="290" y="373"/>
                    </a:moveTo>
                    <a:lnTo>
                      <a:pt x="310" y="361"/>
                    </a:lnTo>
                    <a:lnTo>
                      <a:pt x="310" y="338"/>
                    </a:lnTo>
                    <a:lnTo>
                      <a:pt x="290" y="327"/>
                    </a:lnTo>
                    <a:lnTo>
                      <a:pt x="270" y="338"/>
                    </a:lnTo>
                    <a:lnTo>
                      <a:pt x="270" y="361"/>
                    </a:lnTo>
                    <a:lnTo>
                      <a:pt x="290" y="373"/>
                    </a:lnTo>
                    <a:close/>
                    <a:moveTo>
                      <a:pt x="48" y="327"/>
                    </a:moveTo>
                    <a:lnTo>
                      <a:pt x="68" y="316"/>
                    </a:lnTo>
                    <a:lnTo>
                      <a:pt x="68" y="292"/>
                    </a:lnTo>
                    <a:lnTo>
                      <a:pt x="48" y="280"/>
                    </a:lnTo>
                    <a:lnTo>
                      <a:pt x="27" y="292"/>
                    </a:lnTo>
                    <a:lnTo>
                      <a:pt x="27" y="316"/>
                    </a:lnTo>
                    <a:lnTo>
                      <a:pt x="48" y="327"/>
                    </a:lnTo>
                    <a:close/>
                    <a:moveTo>
                      <a:pt x="99" y="327"/>
                    </a:moveTo>
                    <a:lnTo>
                      <a:pt x="120" y="316"/>
                    </a:lnTo>
                    <a:lnTo>
                      <a:pt x="120" y="292"/>
                    </a:lnTo>
                    <a:lnTo>
                      <a:pt x="99" y="280"/>
                    </a:lnTo>
                    <a:lnTo>
                      <a:pt x="82" y="292"/>
                    </a:lnTo>
                    <a:lnTo>
                      <a:pt x="82" y="316"/>
                    </a:lnTo>
                    <a:lnTo>
                      <a:pt x="99" y="327"/>
                    </a:lnTo>
                    <a:close/>
                    <a:moveTo>
                      <a:pt x="155" y="327"/>
                    </a:moveTo>
                    <a:lnTo>
                      <a:pt x="175" y="316"/>
                    </a:lnTo>
                    <a:lnTo>
                      <a:pt x="175" y="292"/>
                    </a:lnTo>
                    <a:lnTo>
                      <a:pt x="155" y="280"/>
                    </a:lnTo>
                    <a:lnTo>
                      <a:pt x="133" y="292"/>
                    </a:lnTo>
                    <a:lnTo>
                      <a:pt x="133" y="316"/>
                    </a:lnTo>
                    <a:lnTo>
                      <a:pt x="155" y="327"/>
                    </a:lnTo>
                    <a:close/>
                    <a:moveTo>
                      <a:pt x="208" y="327"/>
                    </a:moveTo>
                    <a:lnTo>
                      <a:pt x="229" y="316"/>
                    </a:lnTo>
                    <a:lnTo>
                      <a:pt x="229" y="292"/>
                    </a:lnTo>
                    <a:lnTo>
                      <a:pt x="208" y="280"/>
                    </a:lnTo>
                    <a:lnTo>
                      <a:pt x="188" y="292"/>
                    </a:lnTo>
                    <a:lnTo>
                      <a:pt x="188" y="316"/>
                    </a:lnTo>
                    <a:lnTo>
                      <a:pt x="208" y="327"/>
                    </a:lnTo>
                    <a:close/>
                    <a:moveTo>
                      <a:pt x="262" y="327"/>
                    </a:moveTo>
                    <a:lnTo>
                      <a:pt x="282" y="316"/>
                    </a:lnTo>
                    <a:lnTo>
                      <a:pt x="282" y="292"/>
                    </a:lnTo>
                    <a:lnTo>
                      <a:pt x="262" y="280"/>
                    </a:lnTo>
                    <a:lnTo>
                      <a:pt x="242" y="292"/>
                    </a:lnTo>
                    <a:lnTo>
                      <a:pt x="242" y="316"/>
                    </a:lnTo>
                    <a:lnTo>
                      <a:pt x="262" y="327"/>
                    </a:lnTo>
                    <a:close/>
                    <a:moveTo>
                      <a:pt x="317" y="327"/>
                    </a:moveTo>
                    <a:lnTo>
                      <a:pt x="338" y="316"/>
                    </a:lnTo>
                    <a:lnTo>
                      <a:pt x="338" y="292"/>
                    </a:lnTo>
                    <a:lnTo>
                      <a:pt x="317" y="280"/>
                    </a:lnTo>
                    <a:lnTo>
                      <a:pt x="296" y="292"/>
                    </a:lnTo>
                    <a:lnTo>
                      <a:pt x="296" y="316"/>
                    </a:lnTo>
                    <a:lnTo>
                      <a:pt x="317" y="327"/>
                    </a:lnTo>
                    <a:close/>
                    <a:moveTo>
                      <a:pt x="344" y="373"/>
                    </a:moveTo>
                    <a:lnTo>
                      <a:pt x="365" y="361"/>
                    </a:lnTo>
                    <a:lnTo>
                      <a:pt x="365" y="338"/>
                    </a:lnTo>
                    <a:lnTo>
                      <a:pt x="344" y="327"/>
                    </a:lnTo>
                    <a:lnTo>
                      <a:pt x="324" y="338"/>
                    </a:lnTo>
                    <a:lnTo>
                      <a:pt x="324" y="361"/>
                    </a:lnTo>
                    <a:lnTo>
                      <a:pt x="344" y="373"/>
                    </a:lnTo>
                    <a:close/>
                    <a:moveTo>
                      <a:pt x="399" y="373"/>
                    </a:moveTo>
                    <a:lnTo>
                      <a:pt x="419" y="361"/>
                    </a:lnTo>
                    <a:lnTo>
                      <a:pt x="419" y="338"/>
                    </a:lnTo>
                    <a:lnTo>
                      <a:pt x="399" y="327"/>
                    </a:lnTo>
                    <a:lnTo>
                      <a:pt x="378" y="338"/>
                    </a:lnTo>
                    <a:lnTo>
                      <a:pt x="378" y="361"/>
                    </a:lnTo>
                    <a:lnTo>
                      <a:pt x="399" y="373"/>
                    </a:lnTo>
                    <a:close/>
                    <a:moveTo>
                      <a:pt x="480" y="421"/>
                    </a:moveTo>
                    <a:lnTo>
                      <a:pt x="498" y="409"/>
                    </a:lnTo>
                    <a:lnTo>
                      <a:pt x="498" y="384"/>
                    </a:lnTo>
                    <a:lnTo>
                      <a:pt x="480" y="373"/>
                    </a:lnTo>
                    <a:lnTo>
                      <a:pt x="459" y="384"/>
                    </a:lnTo>
                    <a:lnTo>
                      <a:pt x="459" y="409"/>
                    </a:lnTo>
                    <a:lnTo>
                      <a:pt x="480" y="421"/>
                    </a:lnTo>
                    <a:close/>
                    <a:moveTo>
                      <a:pt x="480" y="140"/>
                    </a:moveTo>
                    <a:lnTo>
                      <a:pt x="498" y="128"/>
                    </a:lnTo>
                    <a:lnTo>
                      <a:pt x="498" y="105"/>
                    </a:lnTo>
                    <a:lnTo>
                      <a:pt x="480" y="94"/>
                    </a:lnTo>
                    <a:lnTo>
                      <a:pt x="459" y="105"/>
                    </a:lnTo>
                    <a:lnTo>
                      <a:pt x="459" y="128"/>
                    </a:lnTo>
                    <a:lnTo>
                      <a:pt x="480" y="140"/>
                    </a:lnTo>
                    <a:close/>
                    <a:moveTo>
                      <a:pt x="505" y="94"/>
                    </a:moveTo>
                    <a:lnTo>
                      <a:pt x="525" y="82"/>
                    </a:lnTo>
                    <a:lnTo>
                      <a:pt x="525" y="58"/>
                    </a:lnTo>
                    <a:lnTo>
                      <a:pt x="505" y="47"/>
                    </a:lnTo>
                    <a:lnTo>
                      <a:pt x="484" y="58"/>
                    </a:lnTo>
                    <a:lnTo>
                      <a:pt x="484" y="82"/>
                    </a:lnTo>
                    <a:lnTo>
                      <a:pt x="505" y="94"/>
                    </a:lnTo>
                    <a:close/>
                    <a:moveTo>
                      <a:pt x="505" y="187"/>
                    </a:moveTo>
                    <a:lnTo>
                      <a:pt x="525" y="174"/>
                    </a:lnTo>
                    <a:lnTo>
                      <a:pt x="525" y="152"/>
                    </a:lnTo>
                    <a:lnTo>
                      <a:pt x="505" y="140"/>
                    </a:lnTo>
                    <a:lnTo>
                      <a:pt x="484" y="152"/>
                    </a:lnTo>
                    <a:lnTo>
                      <a:pt x="484" y="174"/>
                    </a:lnTo>
                    <a:lnTo>
                      <a:pt x="505" y="187"/>
                    </a:lnTo>
                    <a:close/>
                    <a:moveTo>
                      <a:pt x="371" y="234"/>
                    </a:moveTo>
                    <a:lnTo>
                      <a:pt x="391" y="222"/>
                    </a:lnTo>
                    <a:lnTo>
                      <a:pt x="391" y="198"/>
                    </a:lnTo>
                    <a:lnTo>
                      <a:pt x="371" y="187"/>
                    </a:lnTo>
                    <a:lnTo>
                      <a:pt x="351" y="198"/>
                    </a:lnTo>
                    <a:lnTo>
                      <a:pt x="351" y="222"/>
                    </a:lnTo>
                    <a:lnTo>
                      <a:pt x="371" y="234"/>
                    </a:lnTo>
                    <a:close/>
                    <a:moveTo>
                      <a:pt x="425" y="234"/>
                    </a:moveTo>
                    <a:lnTo>
                      <a:pt x="447" y="222"/>
                    </a:lnTo>
                    <a:lnTo>
                      <a:pt x="447" y="198"/>
                    </a:lnTo>
                    <a:lnTo>
                      <a:pt x="425" y="187"/>
                    </a:lnTo>
                    <a:lnTo>
                      <a:pt x="405" y="198"/>
                    </a:lnTo>
                    <a:lnTo>
                      <a:pt x="405" y="222"/>
                    </a:lnTo>
                    <a:lnTo>
                      <a:pt x="425" y="234"/>
                    </a:lnTo>
                    <a:close/>
                    <a:moveTo>
                      <a:pt x="21" y="279"/>
                    </a:moveTo>
                    <a:lnTo>
                      <a:pt x="41" y="268"/>
                    </a:lnTo>
                    <a:lnTo>
                      <a:pt x="41" y="245"/>
                    </a:lnTo>
                    <a:lnTo>
                      <a:pt x="21" y="234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21" y="279"/>
                    </a:lnTo>
                    <a:close/>
                    <a:moveTo>
                      <a:pt x="74" y="279"/>
                    </a:moveTo>
                    <a:lnTo>
                      <a:pt x="93" y="268"/>
                    </a:lnTo>
                    <a:lnTo>
                      <a:pt x="93" y="245"/>
                    </a:lnTo>
                    <a:lnTo>
                      <a:pt x="74" y="234"/>
                    </a:lnTo>
                    <a:lnTo>
                      <a:pt x="54" y="245"/>
                    </a:lnTo>
                    <a:lnTo>
                      <a:pt x="54" y="268"/>
                    </a:lnTo>
                    <a:lnTo>
                      <a:pt x="74" y="279"/>
                    </a:lnTo>
                    <a:close/>
                    <a:moveTo>
                      <a:pt x="127" y="279"/>
                    </a:moveTo>
                    <a:lnTo>
                      <a:pt x="147" y="268"/>
                    </a:lnTo>
                    <a:lnTo>
                      <a:pt x="147" y="245"/>
                    </a:lnTo>
                    <a:lnTo>
                      <a:pt x="127" y="234"/>
                    </a:lnTo>
                    <a:lnTo>
                      <a:pt x="107" y="245"/>
                    </a:lnTo>
                    <a:lnTo>
                      <a:pt x="107" y="268"/>
                    </a:lnTo>
                    <a:lnTo>
                      <a:pt x="127" y="279"/>
                    </a:lnTo>
                    <a:close/>
                    <a:moveTo>
                      <a:pt x="181" y="279"/>
                    </a:moveTo>
                    <a:lnTo>
                      <a:pt x="201" y="268"/>
                    </a:lnTo>
                    <a:lnTo>
                      <a:pt x="201" y="245"/>
                    </a:lnTo>
                    <a:lnTo>
                      <a:pt x="181" y="234"/>
                    </a:lnTo>
                    <a:lnTo>
                      <a:pt x="161" y="245"/>
                    </a:lnTo>
                    <a:lnTo>
                      <a:pt x="161" y="268"/>
                    </a:lnTo>
                    <a:lnTo>
                      <a:pt x="181" y="279"/>
                    </a:lnTo>
                    <a:close/>
                    <a:moveTo>
                      <a:pt x="236" y="279"/>
                    </a:moveTo>
                    <a:lnTo>
                      <a:pt x="256" y="268"/>
                    </a:lnTo>
                    <a:lnTo>
                      <a:pt x="256" y="245"/>
                    </a:lnTo>
                    <a:lnTo>
                      <a:pt x="236" y="234"/>
                    </a:lnTo>
                    <a:lnTo>
                      <a:pt x="215" y="245"/>
                    </a:lnTo>
                    <a:lnTo>
                      <a:pt x="215" y="268"/>
                    </a:lnTo>
                    <a:lnTo>
                      <a:pt x="236" y="279"/>
                    </a:lnTo>
                    <a:close/>
                    <a:moveTo>
                      <a:pt x="290" y="279"/>
                    </a:moveTo>
                    <a:lnTo>
                      <a:pt x="310" y="268"/>
                    </a:lnTo>
                    <a:lnTo>
                      <a:pt x="310" y="245"/>
                    </a:lnTo>
                    <a:lnTo>
                      <a:pt x="290" y="234"/>
                    </a:lnTo>
                    <a:lnTo>
                      <a:pt x="270" y="245"/>
                    </a:lnTo>
                    <a:lnTo>
                      <a:pt x="270" y="268"/>
                    </a:lnTo>
                    <a:lnTo>
                      <a:pt x="290" y="279"/>
                    </a:lnTo>
                    <a:close/>
                    <a:moveTo>
                      <a:pt x="344" y="279"/>
                    </a:moveTo>
                    <a:lnTo>
                      <a:pt x="365" y="268"/>
                    </a:lnTo>
                    <a:lnTo>
                      <a:pt x="365" y="245"/>
                    </a:lnTo>
                    <a:lnTo>
                      <a:pt x="344" y="234"/>
                    </a:lnTo>
                    <a:lnTo>
                      <a:pt x="324" y="245"/>
                    </a:lnTo>
                    <a:lnTo>
                      <a:pt x="324" y="268"/>
                    </a:lnTo>
                    <a:lnTo>
                      <a:pt x="344" y="279"/>
                    </a:lnTo>
                    <a:close/>
                    <a:moveTo>
                      <a:pt x="48" y="234"/>
                    </a:moveTo>
                    <a:lnTo>
                      <a:pt x="68" y="222"/>
                    </a:lnTo>
                    <a:lnTo>
                      <a:pt x="68" y="198"/>
                    </a:lnTo>
                    <a:lnTo>
                      <a:pt x="48" y="187"/>
                    </a:lnTo>
                    <a:lnTo>
                      <a:pt x="27" y="198"/>
                    </a:lnTo>
                    <a:lnTo>
                      <a:pt x="27" y="222"/>
                    </a:lnTo>
                    <a:lnTo>
                      <a:pt x="48" y="234"/>
                    </a:lnTo>
                    <a:close/>
                    <a:moveTo>
                      <a:pt x="99" y="234"/>
                    </a:moveTo>
                    <a:lnTo>
                      <a:pt x="120" y="222"/>
                    </a:lnTo>
                    <a:lnTo>
                      <a:pt x="120" y="198"/>
                    </a:lnTo>
                    <a:lnTo>
                      <a:pt x="99" y="187"/>
                    </a:lnTo>
                    <a:lnTo>
                      <a:pt x="82" y="198"/>
                    </a:lnTo>
                    <a:lnTo>
                      <a:pt x="82" y="222"/>
                    </a:lnTo>
                    <a:lnTo>
                      <a:pt x="99" y="234"/>
                    </a:lnTo>
                    <a:close/>
                    <a:moveTo>
                      <a:pt x="155" y="234"/>
                    </a:moveTo>
                    <a:lnTo>
                      <a:pt x="175" y="222"/>
                    </a:lnTo>
                    <a:lnTo>
                      <a:pt x="175" y="198"/>
                    </a:lnTo>
                    <a:lnTo>
                      <a:pt x="155" y="187"/>
                    </a:lnTo>
                    <a:lnTo>
                      <a:pt x="133" y="198"/>
                    </a:lnTo>
                    <a:lnTo>
                      <a:pt x="133" y="222"/>
                    </a:lnTo>
                    <a:lnTo>
                      <a:pt x="155" y="234"/>
                    </a:lnTo>
                    <a:close/>
                    <a:moveTo>
                      <a:pt x="208" y="234"/>
                    </a:moveTo>
                    <a:lnTo>
                      <a:pt x="229" y="222"/>
                    </a:lnTo>
                    <a:lnTo>
                      <a:pt x="229" y="198"/>
                    </a:lnTo>
                    <a:lnTo>
                      <a:pt x="208" y="187"/>
                    </a:lnTo>
                    <a:lnTo>
                      <a:pt x="188" y="198"/>
                    </a:lnTo>
                    <a:lnTo>
                      <a:pt x="188" y="222"/>
                    </a:lnTo>
                    <a:lnTo>
                      <a:pt x="208" y="234"/>
                    </a:lnTo>
                    <a:close/>
                    <a:moveTo>
                      <a:pt x="262" y="234"/>
                    </a:moveTo>
                    <a:lnTo>
                      <a:pt x="282" y="222"/>
                    </a:lnTo>
                    <a:lnTo>
                      <a:pt x="282" y="198"/>
                    </a:lnTo>
                    <a:lnTo>
                      <a:pt x="262" y="187"/>
                    </a:lnTo>
                    <a:lnTo>
                      <a:pt x="242" y="198"/>
                    </a:lnTo>
                    <a:lnTo>
                      <a:pt x="242" y="222"/>
                    </a:lnTo>
                    <a:lnTo>
                      <a:pt x="262" y="234"/>
                    </a:lnTo>
                    <a:close/>
                    <a:moveTo>
                      <a:pt x="317" y="234"/>
                    </a:moveTo>
                    <a:lnTo>
                      <a:pt x="338" y="222"/>
                    </a:lnTo>
                    <a:lnTo>
                      <a:pt x="338" y="198"/>
                    </a:lnTo>
                    <a:lnTo>
                      <a:pt x="317" y="187"/>
                    </a:lnTo>
                    <a:lnTo>
                      <a:pt x="296" y="198"/>
                    </a:lnTo>
                    <a:lnTo>
                      <a:pt x="296" y="222"/>
                    </a:lnTo>
                    <a:lnTo>
                      <a:pt x="317" y="234"/>
                    </a:lnTo>
                    <a:close/>
                    <a:moveTo>
                      <a:pt x="399" y="279"/>
                    </a:moveTo>
                    <a:lnTo>
                      <a:pt x="419" y="268"/>
                    </a:lnTo>
                    <a:lnTo>
                      <a:pt x="419" y="245"/>
                    </a:lnTo>
                    <a:lnTo>
                      <a:pt x="399" y="234"/>
                    </a:lnTo>
                    <a:lnTo>
                      <a:pt x="378" y="245"/>
                    </a:lnTo>
                    <a:lnTo>
                      <a:pt x="378" y="268"/>
                    </a:lnTo>
                    <a:lnTo>
                      <a:pt x="399" y="279"/>
                    </a:lnTo>
                    <a:close/>
                    <a:moveTo>
                      <a:pt x="371" y="140"/>
                    </a:moveTo>
                    <a:lnTo>
                      <a:pt x="391" y="128"/>
                    </a:lnTo>
                    <a:lnTo>
                      <a:pt x="391" y="105"/>
                    </a:lnTo>
                    <a:lnTo>
                      <a:pt x="371" y="94"/>
                    </a:lnTo>
                    <a:lnTo>
                      <a:pt x="351" y="105"/>
                    </a:lnTo>
                    <a:lnTo>
                      <a:pt x="351" y="128"/>
                    </a:lnTo>
                    <a:lnTo>
                      <a:pt x="371" y="140"/>
                    </a:lnTo>
                    <a:close/>
                    <a:moveTo>
                      <a:pt x="425" y="140"/>
                    </a:moveTo>
                    <a:lnTo>
                      <a:pt x="447" y="128"/>
                    </a:lnTo>
                    <a:lnTo>
                      <a:pt x="447" y="105"/>
                    </a:lnTo>
                    <a:lnTo>
                      <a:pt x="425" y="94"/>
                    </a:lnTo>
                    <a:lnTo>
                      <a:pt x="405" y="105"/>
                    </a:lnTo>
                    <a:lnTo>
                      <a:pt x="405" y="128"/>
                    </a:lnTo>
                    <a:lnTo>
                      <a:pt x="425" y="140"/>
                    </a:lnTo>
                    <a:close/>
                    <a:moveTo>
                      <a:pt x="21" y="187"/>
                    </a:moveTo>
                    <a:lnTo>
                      <a:pt x="41" y="174"/>
                    </a:lnTo>
                    <a:lnTo>
                      <a:pt x="41" y="152"/>
                    </a:lnTo>
                    <a:lnTo>
                      <a:pt x="21" y="14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21" y="187"/>
                    </a:lnTo>
                    <a:close/>
                    <a:moveTo>
                      <a:pt x="74" y="187"/>
                    </a:moveTo>
                    <a:lnTo>
                      <a:pt x="93" y="174"/>
                    </a:lnTo>
                    <a:lnTo>
                      <a:pt x="93" y="152"/>
                    </a:lnTo>
                    <a:lnTo>
                      <a:pt x="74" y="140"/>
                    </a:lnTo>
                    <a:lnTo>
                      <a:pt x="54" y="152"/>
                    </a:lnTo>
                    <a:lnTo>
                      <a:pt x="54" y="174"/>
                    </a:lnTo>
                    <a:lnTo>
                      <a:pt x="74" y="187"/>
                    </a:lnTo>
                    <a:close/>
                    <a:moveTo>
                      <a:pt x="127" y="187"/>
                    </a:moveTo>
                    <a:lnTo>
                      <a:pt x="147" y="174"/>
                    </a:lnTo>
                    <a:lnTo>
                      <a:pt x="147" y="152"/>
                    </a:lnTo>
                    <a:lnTo>
                      <a:pt x="127" y="140"/>
                    </a:lnTo>
                    <a:lnTo>
                      <a:pt x="107" y="152"/>
                    </a:lnTo>
                    <a:lnTo>
                      <a:pt x="107" y="174"/>
                    </a:lnTo>
                    <a:lnTo>
                      <a:pt x="127" y="187"/>
                    </a:lnTo>
                    <a:close/>
                    <a:moveTo>
                      <a:pt x="181" y="187"/>
                    </a:moveTo>
                    <a:lnTo>
                      <a:pt x="201" y="174"/>
                    </a:lnTo>
                    <a:lnTo>
                      <a:pt x="201" y="152"/>
                    </a:lnTo>
                    <a:lnTo>
                      <a:pt x="181" y="140"/>
                    </a:lnTo>
                    <a:lnTo>
                      <a:pt x="161" y="152"/>
                    </a:lnTo>
                    <a:lnTo>
                      <a:pt x="161" y="174"/>
                    </a:lnTo>
                    <a:lnTo>
                      <a:pt x="181" y="187"/>
                    </a:lnTo>
                    <a:close/>
                    <a:moveTo>
                      <a:pt x="236" y="187"/>
                    </a:moveTo>
                    <a:lnTo>
                      <a:pt x="256" y="174"/>
                    </a:lnTo>
                    <a:lnTo>
                      <a:pt x="256" y="152"/>
                    </a:lnTo>
                    <a:lnTo>
                      <a:pt x="236" y="140"/>
                    </a:lnTo>
                    <a:lnTo>
                      <a:pt x="215" y="152"/>
                    </a:lnTo>
                    <a:lnTo>
                      <a:pt x="215" y="174"/>
                    </a:lnTo>
                    <a:lnTo>
                      <a:pt x="236" y="187"/>
                    </a:lnTo>
                    <a:close/>
                    <a:moveTo>
                      <a:pt x="290" y="187"/>
                    </a:moveTo>
                    <a:lnTo>
                      <a:pt x="310" y="174"/>
                    </a:lnTo>
                    <a:lnTo>
                      <a:pt x="310" y="152"/>
                    </a:lnTo>
                    <a:lnTo>
                      <a:pt x="290" y="140"/>
                    </a:lnTo>
                    <a:lnTo>
                      <a:pt x="270" y="152"/>
                    </a:lnTo>
                    <a:lnTo>
                      <a:pt x="270" y="174"/>
                    </a:lnTo>
                    <a:lnTo>
                      <a:pt x="290" y="187"/>
                    </a:lnTo>
                    <a:close/>
                    <a:moveTo>
                      <a:pt x="344" y="187"/>
                    </a:moveTo>
                    <a:lnTo>
                      <a:pt x="365" y="174"/>
                    </a:lnTo>
                    <a:lnTo>
                      <a:pt x="365" y="152"/>
                    </a:lnTo>
                    <a:lnTo>
                      <a:pt x="344" y="140"/>
                    </a:lnTo>
                    <a:lnTo>
                      <a:pt x="324" y="152"/>
                    </a:lnTo>
                    <a:lnTo>
                      <a:pt x="324" y="174"/>
                    </a:lnTo>
                    <a:lnTo>
                      <a:pt x="344" y="187"/>
                    </a:lnTo>
                    <a:close/>
                    <a:moveTo>
                      <a:pt x="262" y="47"/>
                    </a:moveTo>
                    <a:lnTo>
                      <a:pt x="282" y="34"/>
                    </a:lnTo>
                    <a:lnTo>
                      <a:pt x="282" y="11"/>
                    </a:lnTo>
                    <a:lnTo>
                      <a:pt x="262" y="0"/>
                    </a:lnTo>
                    <a:lnTo>
                      <a:pt x="242" y="11"/>
                    </a:lnTo>
                    <a:lnTo>
                      <a:pt x="242" y="34"/>
                    </a:lnTo>
                    <a:lnTo>
                      <a:pt x="262" y="47"/>
                    </a:lnTo>
                    <a:close/>
                    <a:moveTo>
                      <a:pt x="290" y="94"/>
                    </a:moveTo>
                    <a:lnTo>
                      <a:pt x="310" y="82"/>
                    </a:lnTo>
                    <a:lnTo>
                      <a:pt x="310" y="58"/>
                    </a:lnTo>
                    <a:lnTo>
                      <a:pt x="290" y="47"/>
                    </a:lnTo>
                    <a:lnTo>
                      <a:pt x="270" y="58"/>
                    </a:lnTo>
                    <a:lnTo>
                      <a:pt x="270" y="82"/>
                    </a:lnTo>
                    <a:lnTo>
                      <a:pt x="290" y="94"/>
                    </a:lnTo>
                    <a:close/>
                    <a:moveTo>
                      <a:pt x="48" y="140"/>
                    </a:moveTo>
                    <a:lnTo>
                      <a:pt x="68" y="128"/>
                    </a:lnTo>
                    <a:lnTo>
                      <a:pt x="68" y="105"/>
                    </a:lnTo>
                    <a:lnTo>
                      <a:pt x="48" y="94"/>
                    </a:lnTo>
                    <a:lnTo>
                      <a:pt x="27" y="105"/>
                    </a:lnTo>
                    <a:lnTo>
                      <a:pt x="27" y="128"/>
                    </a:lnTo>
                    <a:lnTo>
                      <a:pt x="48" y="140"/>
                    </a:lnTo>
                    <a:close/>
                    <a:moveTo>
                      <a:pt x="99" y="140"/>
                    </a:moveTo>
                    <a:lnTo>
                      <a:pt x="120" y="128"/>
                    </a:lnTo>
                    <a:lnTo>
                      <a:pt x="120" y="105"/>
                    </a:lnTo>
                    <a:lnTo>
                      <a:pt x="99" y="94"/>
                    </a:lnTo>
                    <a:lnTo>
                      <a:pt x="82" y="105"/>
                    </a:lnTo>
                    <a:lnTo>
                      <a:pt x="82" y="128"/>
                    </a:lnTo>
                    <a:lnTo>
                      <a:pt x="99" y="140"/>
                    </a:lnTo>
                    <a:close/>
                    <a:moveTo>
                      <a:pt x="155" y="140"/>
                    </a:moveTo>
                    <a:lnTo>
                      <a:pt x="175" y="128"/>
                    </a:lnTo>
                    <a:lnTo>
                      <a:pt x="175" y="105"/>
                    </a:lnTo>
                    <a:lnTo>
                      <a:pt x="155" y="94"/>
                    </a:lnTo>
                    <a:lnTo>
                      <a:pt x="133" y="105"/>
                    </a:lnTo>
                    <a:lnTo>
                      <a:pt x="133" y="128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29" y="128"/>
                    </a:lnTo>
                    <a:lnTo>
                      <a:pt x="229" y="105"/>
                    </a:lnTo>
                    <a:lnTo>
                      <a:pt x="208" y="94"/>
                    </a:lnTo>
                    <a:lnTo>
                      <a:pt x="188" y="105"/>
                    </a:lnTo>
                    <a:lnTo>
                      <a:pt x="188" y="128"/>
                    </a:lnTo>
                    <a:lnTo>
                      <a:pt x="208" y="140"/>
                    </a:lnTo>
                    <a:close/>
                    <a:moveTo>
                      <a:pt x="155" y="47"/>
                    </a:moveTo>
                    <a:lnTo>
                      <a:pt x="175" y="34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3" y="11"/>
                    </a:lnTo>
                    <a:lnTo>
                      <a:pt x="133" y="34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29" y="34"/>
                    </a:lnTo>
                    <a:lnTo>
                      <a:pt x="229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4"/>
                    </a:lnTo>
                    <a:lnTo>
                      <a:pt x="208" y="47"/>
                    </a:lnTo>
                    <a:close/>
                    <a:moveTo>
                      <a:pt x="21" y="94"/>
                    </a:moveTo>
                    <a:lnTo>
                      <a:pt x="41" y="82"/>
                    </a:lnTo>
                    <a:lnTo>
                      <a:pt x="41" y="58"/>
                    </a:lnTo>
                    <a:lnTo>
                      <a:pt x="21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1" y="94"/>
                    </a:lnTo>
                    <a:close/>
                    <a:moveTo>
                      <a:pt x="74" y="94"/>
                    </a:moveTo>
                    <a:lnTo>
                      <a:pt x="93" y="82"/>
                    </a:lnTo>
                    <a:lnTo>
                      <a:pt x="93" y="58"/>
                    </a:lnTo>
                    <a:lnTo>
                      <a:pt x="74" y="47"/>
                    </a:lnTo>
                    <a:lnTo>
                      <a:pt x="54" y="58"/>
                    </a:lnTo>
                    <a:lnTo>
                      <a:pt x="54" y="82"/>
                    </a:lnTo>
                    <a:lnTo>
                      <a:pt x="74" y="94"/>
                    </a:lnTo>
                    <a:close/>
                    <a:moveTo>
                      <a:pt x="127" y="94"/>
                    </a:moveTo>
                    <a:lnTo>
                      <a:pt x="147" y="82"/>
                    </a:lnTo>
                    <a:lnTo>
                      <a:pt x="147" y="58"/>
                    </a:lnTo>
                    <a:lnTo>
                      <a:pt x="127" y="47"/>
                    </a:lnTo>
                    <a:lnTo>
                      <a:pt x="107" y="58"/>
                    </a:lnTo>
                    <a:lnTo>
                      <a:pt x="107" y="82"/>
                    </a:lnTo>
                    <a:lnTo>
                      <a:pt x="127" y="94"/>
                    </a:lnTo>
                    <a:close/>
                    <a:moveTo>
                      <a:pt x="48" y="47"/>
                    </a:moveTo>
                    <a:lnTo>
                      <a:pt x="68" y="34"/>
                    </a:lnTo>
                    <a:lnTo>
                      <a:pt x="68" y="11"/>
                    </a:lnTo>
                    <a:lnTo>
                      <a:pt x="48" y="0"/>
                    </a:lnTo>
                    <a:lnTo>
                      <a:pt x="27" y="11"/>
                    </a:lnTo>
                    <a:lnTo>
                      <a:pt x="27" y="34"/>
                    </a:lnTo>
                    <a:lnTo>
                      <a:pt x="48" y="47"/>
                    </a:lnTo>
                    <a:close/>
                    <a:moveTo>
                      <a:pt x="99" y="47"/>
                    </a:moveTo>
                    <a:lnTo>
                      <a:pt x="120" y="34"/>
                    </a:lnTo>
                    <a:lnTo>
                      <a:pt x="120" y="11"/>
                    </a:lnTo>
                    <a:lnTo>
                      <a:pt x="99" y="0"/>
                    </a:lnTo>
                    <a:lnTo>
                      <a:pt x="82" y="11"/>
                    </a:lnTo>
                    <a:lnTo>
                      <a:pt x="82" y="34"/>
                    </a:lnTo>
                    <a:lnTo>
                      <a:pt x="99" y="47"/>
                    </a:lnTo>
                    <a:close/>
                    <a:moveTo>
                      <a:pt x="181" y="94"/>
                    </a:moveTo>
                    <a:lnTo>
                      <a:pt x="201" y="82"/>
                    </a:lnTo>
                    <a:lnTo>
                      <a:pt x="201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4"/>
                    </a:lnTo>
                    <a:close/>
                    <a:moveTo>
                      <a:pt x="236" y="94"/>
                    </a:moveTo>
                    <a:lnTo>
                      <a:pt x="256" y="82"/>
                    </a:lnTo>
                    <a:lnTo>
                      <a:pt x="256" y="58"/>
                    </a:lnTo>
                    <a:lnTo>
                      <a:pt x="236" y="47"/>
                    </a:lnTo>
                    <a:lnTo>
                      <a:pt x="215" y="58"/>
                    </a:lnTo>
                    <a:lnTo>
                      <a:pt x="215" y="82"/>
                    </a:lnTo>
                    <a:lnTo>
                      <a:pt x="236" y="94"/>
                    </a:lnTo>
                    <a:close/>
                    <a:moveTo>
                      <a:pt x="262" y="140"/>
                    </a:moveTo>
                    <a:lnTo>
                      <a:pt x="282" y="128"/>
                    </a:lnTo>
                    <a:lnTo>
                      <a:pt x="282" y="105"/>
                    </a:lnTo>
                    <a:lnTo>
                      <a:pt x="262" y="94"/>
                    </a:lnTo>
                    <a:lnTo>
                      <a:pt x="242" y="105"/>
                    </a:lnTo>
                    <a:lnTo>
                      <a:pt x="242" y="128"/>
                    </a:lnTo>
                    <a:lnTo>
                      <a:pt x="262" y="140"/>
                    </a:lnTo>
                    <a:close/>
                    <a:moveTo>
                      <a:pt x="317" y="140"/>
                    </a:moveTo>
                    <a:lnTo>
                      <a:pt x="338" y="128"/>
                    </a:lnTo>
                    <a:lnTo>
                      <a:pt x="338" y="105"/>
                    </a:lnTo>
                    <a:lnTo>
                      <a:pt x="317" y="94"/>
                    </a:lnTo>
                    <a:lnTo>
                      <a:pt x="296" y="105"/>
                    </a:lnTo>
                    <a:lnTo>
                      <a:pt x="296" y="128"/>
                    </a:lnTo>
                    <a:lnTo>
                      <a:pt x="317" y="140"/>
                    </a:lnTo>
                    <a:close/>
                    <a:moveTo>
                      <a:pt x="399" y="187"/>
                    </a:moveTo>
                    <a:lnTo>
                      <a:pt x="419" y="174"/>
                    </a:lnTo>
                    <a:lnTo>
                      <a:pt x="419" y="152"/>
                    </a:lnTo>
                    <a:lnTo>
                      <a:pt x="399" y="140"/>
                    </a:lnTo>
                    <a:lnTo>
                      <a:pt x="378" y="152"/>
                    </a:lnTo>
                    <a:lnTo>
                      <a:pt x="378" y="174"/>
                    </a:lnTo>
                    <a:lnTo>
                      <a:pt x="399" y="187"/>
                    </a:lnTo>
                    <a:close/>
                    <a:moveTo>
                      <a:pt x="480" y="234"/>
                    </a:moveTo>
                    <a:lnTo>
                      <a:pt x="498" y="222"/>
                    </a:lnTo>
                    <a:lnTo>
                      <a:pt x="498" y="198"/>
                    </a:lnTo>
                    <a:lnTo>
                      <a:pt x="480" y="187"/>
                    </a:lnTo>
                    <a:lnTo>
                      <a:pt x="459" y="198"/>
                    </a:lnTo>
                    <a:lnTo>
                      <a:pt x="459" y="222"/>
                    </a:lnTo>
                    <a:lnTo>
                      <a:pt x="480" y="234"/>
                    </a:lnTo>
                    <a:close/>
                    <a:moveTo>
                      <a:pt x="505" y="279"/>
                    </a:moveTo>
                    <a:lnTo>
                      <a:pt x="525" y="268"/>
                    </a:lnTo>
                    <a:lnTo>
                      <a:pt x="525" y="245"/>
                    </a:lnTo>
                    <a:lnTo>
                      <a:pt x="505" y="234"/>
                    </a:lnTo>
                    <a:lnTo>
                      <a:pt x="484" y="245"/>
                    </a:lnTo>
                    <a:lnTo>
                      <a:pt x="484" y="268"/>
                    </a:lnTo>
                    <a:lnTo>
                      <a:pt x="505" y="279"/>
                    </a:lnTo>
                    <a:close/>
                    <a:moveTo>
                      <a:pt x="532" y="421"/>
                    </a:moveTo>
                    <a:lnTo>
                      <a:pt x="552" y="409"/>
                    </a:lnTo>
                    <a:lnTo>
                      <a:pt x="552" y="384"/>
                    </a:lnTo>
                    <a:lnTo>
                      <a:pt x="532" y="373"/>
                    </a:lnTo>
                    <a:lnTo>
                      <a:pt x="512" y="384"/>
                    </a:lnTo>
                    <a:lnTo>
                      <a:pt x="512" y="409"/>
                    </a:lnTo>
                    <a:lnTo>
                      <a:pt x="532" y="421"/>
                    </a:lnTo>
                    <a:close/>
                    <a:moveTo>
                      <a:pt x="532" y="327"/>
                    </a:moveTo>
                    <a:lnTo>
                      <a:pt x="552" y="316"/>
                    </a:lnTo>
                    <a:lnTo>
                      <a:pt x="552" y="292"/>
                    </a:lnTo>
                    <a:lnTo>
                      <a:pt x="532" y="280"/>
                    </a:lnTo>
                    <a:lnTo>
                      <a:pt x="512" y="292"/>
                    </a:lnTo>
                    <a:lnTo>
                      <a:pt x="512" y="316"/>
                    </a:lnTo>
                    <a:lnTo>
                      <a:pt x="532" y="327"/>
                    </a:lnTo>
                    <a:close/>
                    <a:moveTo>
                      <a:pt x="559" y="373"/>
                    </a:moveTo>
                    <a:lnTo>
                      <a:pt x="579" y="361"/>
                    </a:lnTo>
                    <a:lnTo>
                      <a:pt x="579" y="338"/>
                    </a:lnTo>
                    <a:lnTo>
                      <a:pt x="559" y="327"/>
                    </a:lnTo>
                    <a:lnTo>
                      <a:pt x="539" y="338"/>
                    </a:lnTo>
                    <a:lnTo>
                      <a:pt x="539" y="361"/>
                    </a:lnTo>
                    <a:lnTo>
                      <a:pt x="559" y="373"/>
                    </a:lnTo>
                    <a:close/>
                    <a:moveTo>
                      <a:pt x="587" y="421"/>
                    </a:moveTo>
                    <a:lnTo>
                      <a:pt x="607" y="409"/>
                    </a:lnTo>
                    <a:lnTo>
                      <a:pt x="607" y="384"/>
                    </a:lnTo>
                    <a:lnTo>
                      <a:pt x="587" y="373"/>
                    </a:lnTo>
                    <a:lnTo>
                      <a:pt x="566" y="384"/>
                    </a:lnTo>
                    <a:lnTo>
                      <a:pt x="566" y="409"/>
                    </a:lnTo>
                    <a:lnTo>
                      <a:pt x="587" y="421"/>
                    </a:lnTo>
                    <a:close/>
                    <a:moveTo>
                      <a:pt x="829" y="466"/>
                    </a:moveTo>
                    <a:lnTo>
                      <a:pt x="849" y="455"/>
                    </a:lnTo>
                    <a:lnTo>
                      <a:pt x="849" y="432"/>
                    </a:lnTo>
                    <a:lnTo>
                      <a:pt x="829" y="421"/>
                    </a:lnTo>
                    <a:lnTo>
                      <a:pt x="809" y="432"/>
                    </a:lnTo>
                    <a:lnTo>
                      <a:pt x="809" y="455"/>
                    </a:lnTo>
                    <a:lnTo>
                      <a:pt x="829" y="466"/>
                    </a:lnTo>
                    <a:close/>
                    <a:moveTo>
                      <a:pt x="883" y="466"/>
                    </a:moveTo>
                    <a:lnTo>
                      <a:pt x="904" y="455"/>
                    </a:lnTo>
                    <a:lnTo>
                      <a:pt x="904" y="432"/>
                    </a:lnTo>
                    <a:lnTo>
                      <a:pt x="883" y="421"/>
                    </a:lnTo>
                    <a:lnTo>
                      <a:pt x="863" y="432"/>
                    </a:lnTo>
                    <a:lnTo>
                      <a:pt x="863" y="455"/>
                    </a:lnTo>
                    <a:lnTo>
                      <a:pt x="883" y="466"/>
                    </a:lnTo>
                    <a:close/>
                    <a:moveTo>
                      <a:pt x="938" y="466"/>
                    </a:moveTo>
                    <a:lnTo>
                      <a:pt x="958" y="455"/>
                    </a:lnTo>
                    <a:lnTo>
                      <a:pt x="958" y="432"/>
                    </a:lnTo>
                    <a:lnTo>
                      <a:pt x="938" y="421"/>
                    </a:lnTo>
                    <a:lnTo>
                      <a:pt x="916" y="432"/>
                    </a:lnTo>
                    <a:lnTo>
                      <a:pt x="916" y="455"/>
                    </a:lnTo>
                    <a:lnTo>
                      <a:pt x="938" y="466"/>
                    </a:lnTo>
                    <a:close/>
                    <a:moveTo>
                      <a:pt x="992" y="559"/>
                    </a:moveTo>
                    <a:lnTo>
                      <a:pt x="1012" y="548"/>
                    </a:lnTo>
                    <a:lnTo>
                      <a:pt x="1012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48"/>
                    </a:lnTo>
                    <a:lnTo>
                      <a:pt x="992" y="559"/>
                    </a:lnTo>
                    <a:close/>
                    <a:moveTo>
                      <a:pt x="1045" y="559"/>
                    </a:moveTo>
                    <a:lnTo>
                      <a:pt x="1064" y="548"/>
                    </a:lnTo>
                    <a:lnTo>
                      <a:pt x="1064" y="525"/>
                    </a:lnTo>
                    <a:lnTo>
                      <a:pt x="1045" y="514"/>
                    </a:lnTo>
                    <a:lnTo>
                      <a:pt x="1025" y="525"/>
                    </a:lnTo>
                    <a:lnTo>
                      <a:pt x="1025" y="548"/>
                    </a:lnTo>
                    <a:lnTo>
                      <a:pt x="1045" y="559"/>
                    </a:lnTo>
                    <a:close/>
                    <a:moveTo>
                      <a:pt x="801" y="605"/>
                    </a:moveTo>
                    <a:lnTo>
                      <a:pt x="821" y="594"/>
                    </a:lnTo>
                    <a:lnTo>
                      <a:pt x="821" y="571"/>
                    </a:lnTo>
                    <a:lnTo>
                      <a:pt x="801" y="559"/>
                    </a:lnTo>
                    <a:lnTo>
                      <a:pt x="781" y="571"/>
                    </a:lnTo>
                    <a:lnTo>
                      <a:pt x="781" y="594"/>
                    </a:lnTo>
                    <a:lnTo>
                      <a:pt x="801" y="605"/>
                    </a:lnTo>
                    <a:close/>
                    <a:moveTo>
                      <a:pt x="856" y="605"/>
                    </a:moveTo>
                    <a:lnTo>
                      <a:pt x="876" y="594"/>
                    </a:lnTo>
                    <a:lnTo>
                      <a:pt x="876" y="571"/>
                    </a:lnTo>
                    <a:lnTo>
                      <a:pt x="856" y="559"/>
                    </a:lnTo>
                    <a:lnTo>
                      <a:pt x="835" y="571"/>
                    </a:lnTo>
                    <a:lnTo>
                      <a:pt x="835" y="594"/>
                    </a:lnTo>
                    <a:lnTo>
                      <a:pt x="856" y="605"/>
                    </a:lnTo>
                    <a:close/>
                    <a:moveTo>
                      <a:pt x="910" y="605"/>
                    </a:moveTo>
                    <a:lnTo>
                      <a:pt x="930" y="594"/>
                    </a:lnTo>
                    <a:lnTo>
                      <a:pt x="930" y="571"/>
                    </a:lnTo>
                    <a:lnTo>
                      <a:pt x="910" y="559"/>
                    </a:lnTo>
                    <a:lnTo>
                      <a:pt x="890" y="571"/>
                    </a:lnTo>
                    <a:lnTo>
                      <a:pt x="890" y="594"/>
                    </a:lnTo>
                    <a:lnTo>
                      <a:pt x="910" y="605"/>
                    </a:lnTo>
                    <a:close/>
                    <a:moveTo>
                      <a:pt x="964" y="605"/>
                    </a:moveTo>
                    <a:lnTo>
                      <a:pt x="985" y="594"/>
                    </a:lnTo>
                    <a:lnTo>
                      <a:pt x="985" y="571"/>
                    </a:lnTo>
                    <a:lnTo>
                      <a:pt x="964" y="559"/>
                    </a:lnTo>
                    <a:lnTo>
                      <a:pt x="944" y="571"/>
                    </a:lnTo>
                    <a:lnTo>
                      <a:pt x="944" y="594"/>
                    </a:lnTo>
                    <a:lnTo>
                      <a:pt x="964" y="605"/>
                    </a:lnTo>
                    <a:close/>
                    <a:moveTo>
                      <a:pt x="1019" y="605"/>
                    </a:moveTo>
                    <a:lnTo>
                      <a:pt x="1039" y="594"/>
                    </a:lnTo>
                    <a:lnTo>
                      <a:pt x="1039" y="571"/>
                    </a:lnTo>
                    <a:lnTo>
                      <a:pt x="1019" y="559"/>
                    </a:lnTo>
                    <a:lnTo>
                      <a:pt x="998" y="571"/>
                    </a:lnTo>
                    <a:lnTo>
                      <a:pt x="998" y="594"/>
                    </a:lnTo>
                    <a:lnTo>
                      <a:pt x="1019" y="605"/>
                    </a:lnTo>
                    <a:close/>
                    <a:moveTo>
                      <a:pt x="1070" y="605"/>
                    </a:moveTo>
                    <a:lnTo>
                      <a:pt x="1091" y="594"/>
                    </a:lnTo>
                    <a:lnTo>
                      <a:pt x="1091" y="571"/>
                    </a:lnTo>
                    <a:lnTo>
                      <a:pt x="1070" y="559"/>
                    </a:lnTo>
                    <a:lnTo>
                      <a:pt x="1053" y="571"/>
                    </a:lnTo>
                    <a:lnTo>
                      <a:pt x="1053" y="594"/>
                    </a:lnTo>
                    <a:lnTo>
                      <a:pt x="1070" y="605"/>
                    </a:lnTo>
                    <a:close/>
                    <a:moveTo>
                      <a:pt x="505" y="653"/>
                    </a:moveTo>
                    <a:lnTo>
                      <a:pt x="525" y="641"/>
                    </a:lnTo>
                    <a:lnTo>
                      <a:pt x="525" y="619"/>
                    </a:lnTo>
                    <a:lnTo>
                      <a:pt x="505" y="605"/>
                    </a:lnTo>
                    <a:lnTo>
                      <a:pt x="484" y="619"/>
                    </a:lnTo>
                    <a:lnTo>
                      <a:pt x="484" y="641"/>
                    </a:lnTo>
                    <a:lnTo>
                      <a:pt x="505" y="653"/>
                    </a:lnTo>
                    <a:close/>
                    <a:moveTo>
                      <a:pt x="559" y="653"/>
                    </a:moveTo>
                    <a:lnTo>
                      <a:pt x="579" y="641"/>
                    </a:lnTo>
                    <a:lnTo>
                      <a:pt x="579" y="619"/>
                    </a:lnTo>
                    <a:lnTo>
                      <a:pt x="559" y="605"/>
                    </a:lnTo>
                    <a:lnTo>
                      <a:pt x="539" y="619"/>
                    </a:lnTo>
                    <a:lnTo>
                      <a:pt x="539" y="641"/>
                    </a:lnTo>
                    <a:lnTo>
                      <a:pt x="559" y="653"/>
                    </a:lnTo>
                    <a:close/>
                    <a:moveTo>
                      <a:pt x="613" y="653"/>
                    </a:moveTo>
                    <a:lnTo>
                      <a:pt x="634" y="641"/>
                    </a:lnTo>
                    <a:lnTo>
                      <a:pt x="634" y="619"/>
                    </a:lnTo>
                    <a:lnTo>
                      <a:pt x="613" y="605"/>
                    </a:lnTo>
                    <a:lnTo>
                      <a:pt x="593" y="619"/>
                    </a:lnTo>
                    <a:lnTo>
                      <a:pt x="593" y="641"/>
                    </a:lnTo>
                    <a:lnTo>
                      <a:pt x="613" y="653"/>
                    </a:lnTo>
                    <a:close/>
                    <a:moveTo>
                      <a:pt x="666" y="653"/>
                    </a:moveTo>
                    <a:lnTo>
                      <a:pt x="686" y="641"/>
                    </a:lnTo>
                    <a:lnTo>
                      <a:pt x="686" y="619"/>
                    </a:lnTo>
                    <a:lnTo>
                      <a:pt x="666" y="605"/>
                    </a:lnTo>
                    <a:lnTo>
                      <a:pt x="647" y="619"/>
                    </a:lnTo>
                    <a:lnTo>
                      <a:pt x="647" y="641"/>
                    </a:lnTo>
                    <a:lnTo>
                      <a:pt x="666" y="653"/>
                    </a:lnTo>
                    <a:close/>
                    <a:moveTo>
                      <a:pt x="720" y="653"/>
                    </a:moveTo>
                    <a:lnTo>
                      <a:pt x="740" y="641"/>
                    </a:lnTo>
                    <a:lnTo>
                      <a:pt x="740" y="619"/>
                    </a:lnTo>
                    <a:lnTo>
                      <a:pt x="720" y="605"/>
                    </a:lnTo>
                    <a:lnTo>
                      <a:pt x="700" y="619"/>
                    </a:lnTo>
                    <a:lnTo>
                      <a:pt x="700" y="641"/>
                    </a:lnTo>
                    <a:lnTo>
                      <a:pt x="720" y="653"/>
                    </a:lnTo>
                    <a:close/>
                    <a:moveTo>
                      <a:pt x="21" y="653"/>
                    </a:moveTo>
                    <a:lnTo>
                      <a:pt x="41" y="641"/>
                    </a:lnTo>
                    <a:lnTo>
                      <a:pt x="41" y="619"/>
                    </a:lnTo>
                    <a:lnTo>
                      <a:pt x="21" y="605"/>
                    </a:lnTo>
                    <a:lnTo>
                      <a:pt x="0" y="619"/>
                    </a:lnTo>
                    <a:lnTo>
                      <a:pt x="0" y="641"/>
                    </a:lnTo>
                    <a:lnTo>
                      <a:pt x="21" y="653"/>
                    </a:lnTo>
                    <a:close/>
                    <a:moveTo>
                      <a:pt x="74" y="653"/>
                    </a:moveTo>
                    <a:lnTo>
                      <a:pt x="93" y="641"/>
                    </a:lnTo>
                    <a:lnTo>
                      <a:pt x="93" y="619"/>
                    </a:lnTo>
                    <a:lnTo>
                      <a:pt x="74" y="605"/>
                    </a:lnTo>
                    <a:lnTo>
                      <a:pt x="54" y="619"/>
                    </a:lnTo>
                    <a:lnTo>
                      <a:pt x="54" y="641"/>
                    </a:lnTo>
                    <a:lnTo>
                      <a:pt x="74" y="653"/>
                    </a:lnTo>
                    <a:close/>
                    <a:moveTo>
                      <a:pt x="127" y="653"/>
                    </a:moveTo>
                    <a:lnTo>
                      <a:pt x="147" y="641"/>
                    </a:lnTo>
                    <a:lnTo>
                      <a:pt x="147" y="619"/>
                    </a:lnTo>
                    <a:lnTo>
                      <a:pt x="127" y="605"/>
                    </a:lnTo>
                    <a:lnTo>
                      <a:pt x="107" y="619"/>
                    </a:lnTo>
                    <a:lnTo>
                      <a:pt x="107" y="641"/>
                    </a:lnTo>
                    <a:lnTo>
                      <a:pt x="127" y="653"/>
                    </a:lnTo>
                    <a:close/>
                    <a:moveTo>
                      <a:pt x="181" y="653"/>
                    </a:moveTo>
                    <a:lnTo>
                      <a:pt x="201" y="641"/>
                    </a:lnTo>
                    <a:lnTo>
                      <a:pt x="201" y="619"/>
                    </a:lnTo>
                    <a:lnTo>
                      <a:pt x="181" y="605"/>
                    </a:lnTo>
                    <a:lnTo>
                      <a:pt x="161" y="619"/>
                    </a:lnTo>
                    <a:lnTo>
                      <a:pt x="161" y="641"/>
                    </a:lnTo>
                    <a:lnTo>
                      <a:pt x="181" y="653"/>
                    </a:lnTo>
                    <a:close/>
                    <a:moveTo>
                      <a:pt x="236" y="653"/>
                    </a:moveTo>
                    <a:lnTo>
                      <a:pt x="256" y="641"/>
                    </a:lnTo>
                    <a:lnTo>
                      <a:pt x="256" y="619"/>
                    </a:lnTo>
                    <a:lnTo>
                      <a:pt x="236" y="605"/>
                    </a:lnTo>
                    <a:lnTo>
                      <a:pt x="215" y="619"/>
                    </a:lnTo>
                    <a:lnTo>
                      <a:pt x="215" y="641"/>
                    </a:lnTo>
                    <a:lnTo>
                      <a:pt x="236" y="653"/>
                    </a:lnTo>
                    <a:close/>
                    <a:moveTo>
                      <a:pt x="290" y="653"/>
                    </a:moveTo>
                    <a:lnTo>
                      <a:pt x="310" y="641"/>
                    </a:lnTo>
                    <a:lnTo>
                      <a:pt x="310" y="619"/>
                    </a:lnTo>
                    <a:lnTo>
                      <a:pt x="290" y="605"/>
                    </a:lnTo>
                    <a:lnTo>
                      <a:pt x="270" y="619"/>
                    </a:lnTo>
                    <a:lnTo>
                      <a:pt x="270" y="641"/>
                    </a:lnTo>
                    <a:lnTo>
                      <a:pt x="290" y="653"/>
                    </a:lnTo>
                    <a:close/>
                    <a:moveTo>
                      <a:pt x="480" y="605"/>
                    </a:moveTo>
                    <a:lnTo>
                      <a:pt x="498" y="594"/>
                    </a:lnTo>
                    <a:lnTo>
                      <a:pt x="498" y="571"/>
                    </a:lnTo>
                    <a:lnTo>
                      <a:pt x="480" y="559"/>
                    </a:lnTo>
                    <a:lnTo>
                      <a:pt x="459" y="571"/>
                    </a:lnTo>
                    <a:lnTo>
                      <a:pt x="459" y="594"/>
                    </a:lnTo>
                    <a:lnTo>
                      <a:pt x="480" y="605"/>
                    </a:lnTo>
                    <a:close/>
                    <a:moveTo>
                      <a:pt x="532" y="605"/>
                    </a:moveTo>
                    <a:lnTo>
                      <a:pt x="552" y="594"/>
                    </a:lnTo>
                    <a:lnTo>
                      <a:pt x="552" y="571"/>
                    </a:lnTo>
                    <a:lnTo>
                      <a:pt x="532" y="559"/>
                    </a:lnTo>
                    <a:lnTo>
                      <a:pt x="512" y="571"/>
                    </a:lnTo>
                    <a:lnTo>
                      <a:pt x="512" y="594"/>
                    </a:lnTo>
                    <a:lnTo>
                      <a:pt x="532" y="605"/>
                    </a:lnTo>
                    <a:close/>
                    <a:moveTo>
                      <a:pt x="587" y="605"/>
                    </a:moveTo>
                    <a:lnTo>
                      <a:pt x="607" y="594"/>
                    </a:lnTo>
                    <a:lnTo>
                      <a:pt x="607" y="571"/>
                    </a:lnTo>
                    <a:lnTo>
                      <a:pt x="587" y="559"/>
                    </a:lnTo>
                    <a:lnTo>
                      <a:pt x="566" y="571"/>
                    </a:lnTo>
                    <a:lnTo>
                      <a:pt x="566" y="594"/>
                    </a:lnTo>
                    <a:lnTo>
                      <a:pt x="587" y="605"/>
                    </a:lnTo>
                    <a:close/>
                    <a:moveTo>
                      <a:pt x="641" y="605"/>
                    </a:moveTo>
                    <a:lnTo>
                      <a:pt x="658" y="594"/>
                    </a:lnTo>
                    <a:lnTo>
                      <a:pt x="658" y="571"/>
                    </a:lnTo>
                    <a:lnTo>
                      <a:pt x="641" y="559"/>
                    </a:lnTo>
                    <a:lnTo>
                      <a:pt x="621" y="571"/>
                    </a:lnTo>
                    <a:lnTo>
                      <a:pt x="621" y="594"/>
                    </a:lnTo>
                    <a:lnTo>
                      <a:pt x="641" y="605"/>
                    </a:lnTo>
                    <a:close/>
                    <a:moveTo>
                      <a:pt x="48" y="605"/>
                    </a:moveTo>
                    <a:lnTo>
                      <a:pt x="68" y="594"/>
                    </a:lnTo>
                    <a:lnTo>
                      <a:pt x="68" y="571"/>
                    </a:lnTo>
                    <a:lnTo>
                      <a:pt x="48" y="559"/>
                    </a:lnTo>
                    <a:lnTo>
                      <a:pt x="27" y="571"/>
                    </a:lnTo>
                    <a:lnTo>
                      <a:pt x="27" y="594"/>
                    </a:lnTo>
                    <a:lnTo>
                      <a:pt x="48" y="605"/>
                    </a:lnTo>
                    <a:close/>
                    <a:moveTo>
                      <a:pt x="99" y="605"/>
                    </a:moveTo>
                    <a:lnTo>
                      <a:pt x="120" y="594"/>
                    </a:lnTo>
                    <a:lnTo>
                      <a:pt x="120" y="571"/>
                    </a:lnTo>
                    <a:lnTo>
                      <a:pt x="99" y="559"/>
                    </a:lnTo>
                    <a:lnTo>
                      <a:pt x="82" y="571"/>
                    </a:lnTo>
                    <a:lnTo>
                      <a:pt x="82" y="594"/>
                    </a:lnTo>
                    <a:lnTo>
                      <a:pt x="99" y="605"/>
                    </a:lnTo>
                    <a:close/>
                    <a:moveTo>
                      <a:pt x="155" y="605"/>
                    </a:moveTo>
                    <a:lnTo>
                      <a:pt x="175" y="594"/>
                    </a:lnTo>
                    <a:lnTo>
                      <a:pt x="175" y="571"/>
                    </a:lnTo>
                    <a:lnTo>
                      <a:pt x="155" y="559"/>
                    </a:lnTo>
                    <a:lnTo>
                      <a:pt x="133" y="571"/>
                    </a:lnTo>
                    <a:lnTo>
                      <a:pt x="133" y="594"/>
                    </a:lnTo>
                    <a:lnTo>
                      <a:pt x="155" y="605"/>
                    </a:lnTo>
                    <a:close/>
                    <a:moveTo>
                      <a:pt x="208" y="605"/>
                    </a:moveTo>
                    <a:lnTo>
                      <a:pt x="229" y="594"/>
                    </a:lnTo>
                    <a:lnTo>
                      <a:pt x="229" y="571"/>
                    </a:lnTo>
                    <a:lnTo>
                      <a:pt x="208" y="559"/>
                    </a:lnTo>
                    <a:lnTo>
                      <a:pt x="188" y="571"/>
                    </a:lnTo>
                    <a:lnTo>
                      <a:pt x="188" y="594"/>
                    </a:lnTo>
                    <a:lnTo>
                      <a:pt x="208" y="605"/>
                    </a:lnTo>
                    <a:close/>
                    <a:moveTo>
                      <a:pt x="262" y="605"/>
                    </a:moveTo>
                    <a:lnTo>
                      <a:pt x="282" y="594"/>
                    </a:lnTo>
                    <a:lnTo>
                      <a:pt x="282" y="571"/>
                    </a:lnTo>
                    <a:lnTo>
                      <a:pt x="262" y="559"/>
                    </a:lnTo>
                    <a:lnTo>
                      <a:pt x="242" y="571"/>
                    </a:lnTo>
                    <a:lnTo>
                      <a:pt x="242" y="594"/>
                    </a:lnTo>
                    <a:lnTo>
                      <a:pt x="262" y="605"/>
                    </a:lnTo>
                    <a:close/>
                    <a:moveTo>
                      <a:pt x="692" y="605"/>
                    </a:moveTo>
                    <a:lnTo>
                      <a:pt x="713" y="594"/>
                    </a:lnTo>
                    <a:lnTo>
                      <a:pt x="713" y="571"/>
                    </a:lnTo>
                    <a:lnTo>
                      <a:pt x="692" y="559"/>
                    </a:lnTo>
                    <a:lnTo>
                      <a:pt x="675" y="571"/>
                    </a:lnTo>
                    <a:lnTo>
                      <a:pt x="675" y="594"/>
                    </a:lnTo>
                    <a:lnTo>
                      <a:pt x="692" y="605"/>
                    </a:lnTo>
                    <a:close/>
                    <a:moveTo>
                      <a:pt x="747" y="605"/>
                    </a:moveTo>
                    <a:lnTo>
                      <a:pt x="767" y="594"/>
                    </a:lnTo>
                    <a:lnTo>
                      <a:pt x="767" y="571"/>
                    </a:lnTo>
                    <a:lnTo>
                      <a:pt x="747" y="559"/>
                    </a:lnTo>
                    <a:lnTo>
                      <a:pt x="727" y="571"/>
                    </a:lnTo>
                    <a:lnTo>
                      <a:pt x="727" y="594"/>
                    </a:lnTo>
                    <a:lnTo>
                      <a:pt x="747" y="605"/>
                    </a:lnTo>
                    <a:close/>
                    <a:moveTo>
                      <a:pt x="775" y="653"/>
                    </a:moveTo>
                    <a:lnTo>
                      <a:pt x="795" y="641"/>
                    </a:lnTo>
                    <a:lnTo>
                      <a:pt x="795" y="619"/>
                    </a:lnTo>
                    <a:lnTo>
                      <a:pt x="775" y="605"/>
                    </a:lnTo>
                    <a:lnTo>
                      <a:pt x="754" y="619"/>
                    </a:lnTo>
                    <a:lnTo>
                      <a:pt x="754" y="641"/>
                    </a:lnTo>
                    <a:lnTo>
                      <a:pt x="775" y="653"/>
                    </a:lnTo>
                    <a:close/>
                    <a:moveTo>
                      <a:pt x="829" y="653"/>
                    </a:moveTo>
                    <a:lnTo>
                      <a:pt x="849" y="641"/>
                    </a:lnTo>
                    <a:lnTo>
                      <a:pt x="849" y="619"/>
                    </a:lnTo>
                    <a:lnTo>
                      <a:pt x="829" y="605"/>
                    </a:lnTo>
                    <a:lnTo>
                      <a:pt x="809" y="619"/>
                    </a:lnTo>
                    <a:lnTo>
                      <a:pt x="809" y="641"/>
                    </a:lnTo>
                    <a:lnTo>
                      <a:pt x="829" y="653"/>
                    </a:lnTo>
                    <a:close/>
                    <a:moveTo>
                      <a:pt x="883" y="653"/>
                    </a:moveTo>
                    <a:lnTo>
                      <a:pt x="904" y="641"/>
                    </a:lnTo>
                    <a:lnTo>
                      <a:pt x="904" y="619"/>
                    </a:lnTo>
                    <a:lnTo>
                      <a:pt x="883" y="605"/>
                    </a:lnTo>
                    <a:lnTo>
                      <a:pt x="863" y="619"/>
                    </a:lnTo>
                    <a:lnTo>
                      <a:pt x="863" y="641"/>
                    </a:lnTo>
                    <a:lnTo>
                      <a:pt x="883" y="653"/>
                    </a:lnTo>
                    <a:close/>
                    <a:moveTo>
                      <a:pt x="938" y="653"/>
                    </a:moveTo>
                    <a:lnTo>
                      <a:pt x="958" y="641"/>
                    </a:lnTo>
                    <a:lnTo>
                      <a:pt x="958" y="619"/>
                    </a:lnTo>
                    <a:lnTo>
                      <a:pt x="938" y="605"/>
                    </a:lnTo>
                    <a:lnTo>
                      <a:pt x="916" y="619"/>
                    </a:lnTo>
                    <a:lnTo>
                      <a:pt x="916" y="641"/>
                    </a:lnTo>
                    <a:lnTo>
                      <a:pt x="938" y="653"/>
                    </a:lnTo>
                    <a:close/>
                    <a:moveTo>
                      <a:pt x="992" y="653"/>
                    </a:moveTo>
                    <a:lnTo>
                      <a:pt x="1012" y="641"/>
                    </a:lnTo>
                    <a:lnTo>
                      <a:pt x="1012" y="619"/>
                    </a:lnTo>
                    <a:lnTo>
                      <a:pt x="992" y="605"/>
                    </a:lnTo>
                    <a:lnTo>
                      <a:pt x="972" y="619"/>
                    </a:lnTo>
                    <a:lnTo>
                      <a:pt x="972" y="641"/>
                    </a:lnTo>
                    <a:lnTo>
                      <a:pt x="992" y="653"/>
                    </a:lnTo>
                    <a:close/>
                    <a:moveTo>
                      <a:pt x="1045" y="653"/>
                    </a:moveTo>
                    <a:lnTo>
                      <a:pt x="1064" y="641"/>
                    </a:lnTo>
                    <a:lnTo>
                      <a:pt x="1064" y="619"/>
                    </a:lnTo>
                    <a:lnTo>
                      <a:pt x="1045" y="605"/>
                    </a:lnTo>
                    <a:lnTo>
                      <a:pt x="1025" y="619"/>
                    </a:lnTo>
                    <a:lnTo>
                      <a:pt x="1025" y="641"/>
                    </a:lnTo>
                    <a:lnTo>
                      <a:pt x="1045" y="653"/>
                    </a:lnTo>
                    <a:close/>
                    <a:moveTo>
                      <a:pt x="1019" y="421"/>
                    </a:moveTo>
                    <a:lnTo>
                      <a:pt x="1039" y="409"/>
                    </a:lnTo>
                    <a:lnTo>
                      <a:pt x="1039" y="384"/>
                    </a:lnTo>
                    <a:lnTo>
                      <a:pt x="1019" y="373"/>
                    </a:lnTo>
                    <a:lnTo>
                      <a:pt x="998" y="384"/>
                    </a:lnTo>
                    <a:lnTo>
                      <a:pt x="998" y="409"/>
                    </a:lnTo>
                    <a:lnTo>
                      <a:pt x="1019" y="421"/>
                    </a:lnTo>
                    <a:close/>
                    <a:moveTo>
                      <a:pt x="1045" y="466"/>
                    </a:moveTo>
                    <a:lnTo>
                      <a:pt x="1064" y="455"/>
                    </a:lnTo>
                    <a:lnTo>
                      <a:pt x="1064" y="432"/>
                    </a:lnTo>
                    <a:lnTo>
                      <a:pt x="1045" y="421"/>
                    </a:lnTo>
                    <a:lnTo>
                      <a:pt x="1025" y="432"/>
                    </a:lnTo>
                    <a:lnTo>
                      <a:pt x="1025" y="455"/>
                    </a:lnTo>
                    <a:lnTo>
                      <a:pt x="1045" y="466"/>
                    </a:lnTo>
                    <a:close/>
                    <a:moveTo>
                      <a:pt x="1070" y="421"/>
                    </a:moveTo>
                    <a:lnTo>
                      <a:pt x="1091" y="409"/>
                    </a:lnTo>
                    <a:lnTo>
                      <a:pt x="1091" y="384"/>
                    </a:lnTo>
                    <a:lnTo>
                      <a:pt x="1070" y="373"/>
                    </a:lnTo>
                    <a:lnTo>
                      <a:pt x="1053" y="384"/>
                    </a:lnTo>
                    <a:lnTo>
                      <a:pt x="1053" y="409"/>
                    </a:lnTo>
                    <a:lnTo>
                      <a:pt x="1070" y="421"/>
                    </a:lnTo>
                    <a:close/>
                    <a:moveTo>
                      <a:pt x="964" y="511"/>
                    </a:moveTo>
                    <a:lnTo>
                      <a:pt x="985" y="500"/>
                    </a:lnTo>
                    <a:lnTo>
                      <a:pt x="985" y="477"/>
                    </a:lnTo>
                    <a:lnTo>
                      <a:pt x="964" y="466"/>
                    </a:lnTo>
                    <a:lnTo>
                      <a:pt x="944" y="477"/>
                    </a:lnTo>
                    <a:lnTo>
                      <a:pt x="944" y="500"/>
                    </a:lnTo>
                    <a:lnTo>
                      <a:pt x="964" y="511"/>
                    </a:lnTo>
                    <a:close/>
                    <a:moveTo>
                      <a:pt x="992" y="466"/>
                    </a:moveTo>
                    <a:lnTo>
                      <a:pt x="1012" y="455"/>
                    </a:lnTo>
                    <a:lnTo>
                      <a:pt x="1012" y="432"/>
                    </a:lnTo>
                    <a:lnTo>
                      <a:pt x="992" y="421"/>
                    </a:lnTo>
                    <a:lnTo>
                      <a:pt x="972" y="432"/>
                    </a:lnTo>
                    <a:lnTo>
                      <a:pt x="972" y="455"/>
                    </a:lnTo>
                    <a:lnTo>
                      <a:pt x="992" y="466"/>
                    </a:lnTo>
                    <a:close/>
                    <a:moveTo>
                      <a:pt x="1019" y="511"/>
                    </a:moveTo>
                    <a:lnTo>
                      <a:pt x="1039" y="500"/>
                    </a:lnTo>
                    <a:lnTo>
                      <a:pt x="1039" y="477"/>
                    </a:lnTo>
                    <a:lnTo>
                      <a:pt x="1019" y="466"/>
                    </a:lnTo>
                    <a:lnTo>
                      <a:pt x="998" y="477"/>
                    </a:lnTo>
                    <a:lnTo>
                      <a:pt x="998" y="500"/>
                    </a:lnTo>
                    <a:lnTo>
                      <a:pt x="1019" y="511"/>
                    </a:lnTo>
                    <a:close/>
                    <a:moveTo>
                      <a:pt x="1070" y="511"/>
                    </a:moveTo>
                    <a:lnTo>
                      <a:pt x="1091" y="500"/>
                    </a:lnTo>
                    <a:lnTo>
                      <a:pt x="1091" y="477"/>
                    </a:lnTo>
                    <a:lnTo>
                      <a:pt x="1070" y="466"/>
                    </a:lnTo>
                    <a:lnTo>
                      <a:pt x="1053" y="477"/>
                    </a:lnTo>
                    <a:lnTo>
                      <a:pt x="1053" y="500"/>
                    </a:lnTo>
                    <a:lnTo>
                      <a:pt x="1070" y="511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4" name=""/>
              <p:cNvSpPr/>
              <p:nvPr/>
            </p:nvSpPr>
            <p:spPr>
              <a:xfrm>
                <a:off x="6278040" y="4138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5" name=""/>
              <p:cNvSpPr/>
              <p:nvPr/>
            </p:nvSpPr>
            <p:spPr>
              <a:xfrm>
                <a:off x="631620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6" name=""/>
              <p:cNvSpPr/>
              <p:nvPr/>
            </p:nvSpPr>
            <p:spPr>
              <a:xfrm>
                <a:off x="635292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7" name=""/>
              <p:cNvSpPr/>
              <p:nvPr/>
            </p:nvSpPr>
            <p:spPr>
              <a:xfrm>
                <a:off x="638964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8" name=""/>
              <p:cNvSpPr/>
              <p:nvPr/>
            </p:nvSpPr>
            <p:spPr>
              <a:xfrm>
                <a:off x="6205680" y="4138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9" name=""/>
              <p:cNvSpPr/>
              <p:nvPr/>
            </p:nvSpPr>
            <p:spPr>
              <a:xfrm>
                <a:off x="624132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0" name=""/>
              <p:cNvSpPr/>
              <p:nvPr/>
            </p:nvSpPr>
            <p:spPr>
              <a:xfrm>
                <a:off x="609552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1" name=""/>
              <p:cNvSpPr/>
              <p:nvPr/>
            </p:nvSpPr>
            <p:spPr>
              <a:xfrm>
                <a:off x="613224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2" name=""/>
              <p:cNvSpPr/>
              <p:nvPr/>
            </p:nvSpPr>
            <p:spPr>
              <a:xfrm>
                <a:off x="6168960" y="4138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3" name=""/>
              <p:cNvSpPr/>
              <p:nvPr/>
            </p:nvSpPr>
            <p:spPr>
              <a:xfrm>
                <a:off x="576648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4" name=""/>
              <p:cNvSpPr/>
              <p:nvPr/>
            </p:nvSpPr>
            <p:spPr>
              <a:xfrm>
                <a:off x="5803200" y="4138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5" name=""/>
              <p:cNvSpPr/>
              <p:nvPr/>
            </p:nvSpPr>
            <p:spPr>
              <a:xfrm>
                <a:off x="583848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6" name=""/>
              <p:cNvSpPr/>
              <p:nvPr/>
            </p:nvSpPr>
            <p:spPr>
              <a:xfrm>
                <a:off x="587520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7" name=""/>
              <p:cNvSpPr/>
              <p:nvPr/>
            </p:nvSpPr>
            <p:spPr>
              <a:xfrm>
                <a:off x="5911920" y="41385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8" name=""/>
              <p:cNvSpPr/>
              <p:nvPr/>
            </p:nvSpPr>
            <p:spPr>
              <a:xfrm>
                <a:off x="5948640" y="4138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9" name=""/>
              <p:cNvSpPr/>
              <p:nvPr/>
            </p:nvSpPr>
            <p:spPr>
              <a:xfrm>
                <a:off x="6297120" y="4111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0" name=""/>
              <p:cNvSpPr/>
              <p:nvPr/>
            </p:nvSpPr>
            <p:spPr>
              <a:xfrm>
                <a:off x="6333840" y="41115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1" name=""/>
              <p:cNvSpPr/>
              <p:nvPr/>
            </p:nvSpPr>
            <p:spPr>
              <a:xfrm>
                <a:off x="6371640" y="4111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2" name=""/>
              <p:cNvSpPr/>
              <p:nvPr/>
            </p:nvSpPr>
            <p:spPr>
              <a:xfrm>
                <a:off x="6150240" y="41115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3" name=""/>
              <p:cNvSpPr/>
              <p:nvPr/>
            </p:nvSpPr>
            <p:spPr>
              <a:xfrm>
                <a:off x="6188040" y="4111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0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4" name=""/>
              <p:cNvSpPr/>
              <p:nvPr/>
            </p:nvSpPr>
            <p:spPr>
              <a:xfrm>
                <a:off x="6224760" y="4111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5" name=""/>
              <p:cNvSpPr/>
              <p:nvPr/>
            </p:nvSpPr>
            <p:spPr>
              <a:xfrm>
                <a:off x="6260400" y="4111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6" name=""/>
              <p:cNvSpPr/>
              <p:nvPr/>
            </p:nvSpPr>
            <p:spPr>
              <a:xfrm>
                <a:off x="6004440" y="4111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7" name=""/>
              <p:cNvSpPr/>
              <p:nvPr/>
            </p:nvSpPr>
            <p:spPr>
              <a:xfrm>
                <a:off x="6041160" y="41115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8" name=""/>
              <p:cNvSpPr/>
              <p:nvPr/>
            </p:nvSpPr>
            <p:spPr>
              <a:xfrm>
                <a:off x="6077880" y="4111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1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9" name=""/>
              <p:cNvSpPr/>
              <p:nvPr/>
            </p:nvSpPr>
            <p:spPr>
              <a:xfrm>
                <a:off x="6113160" y="41115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784120" y="4111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820840" y="41115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856120" y="41115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3" name=""/>
              <p:cNvSpPr/>
              <p:nvPr/>
            </p:nvSpPr>
            <p:spPr>
              <a:xfrm>
                <a:off x="5894280" y="41115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4" name=""/>
              <p:cNvSpPr/>
              <p:nvPr/>
            </p:nvSpPr>
            <p:spPr>
              <a:xfrm>
                <a:off x="5931360" y="4111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5" name=""/>
              <p:cNvSpPr/>
              <p:nvPr/>
            </p:nvSpPr>
            <p:spPr>
              <a:xfrm>
                <a:off x="5968080" y="41115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1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6095520" y="4086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6132240" y="4086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766480" y="4086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9" name=""/>
              <p:cNvSpPr/>
              <p:nvPr/>
            </p:nvSpPr>
            <p:spPr>
              <a:xfrm>
                <a:off x="5803200" y="4086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0" name=""/>
              <p:cNvSpPr/>
              <p:nvPr/>
            </p:nvSpPr>
            <p:spPr>
              <a:xfrm>
                <a:off x="5838480" y="4086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1" name=""/>
              <p:cNvSpPr/>
              <p:nvPr/>
            </p:nvSpPr>
            <p:spPr>
              <a:xfrm>
                <a:off x="5875200" y="4086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2" name=""/>
              <p:cNvSpPr/>
              <p:nvPr/>
            </p:nvSpPr>
            <p:spPr>
              <a:xfrm>
                <a:off x="5911920" y="408636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3" name=""/>
              <p:cNvSpPr/>
              <p:nvPr/>
            </p:nvSpPr>
            <p:spPr>
              <a:xfrm>
                <a:off x="5948640" y="4086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4" name=""/>
              <p:cNvSpPr/>
              <p:nvPr/>
            </p:nvSpPr>
            <p:spPr>
              <a:xfrm>
                <a:off x="5985360" y="40863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5" name=""/>
              <p:cNvSpPr/>
              <p:nvPr/>
            </p:nvSpPr>
            <p:spPr>
              <a:xfrm>
                <a:off x="6022080" y="40863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6" name=""/>
              <p:cNvSpPr/>
              <p:nvPr/>
            </p:nvSpPr>
            <p:spPr>
              <a:xfrm>
                <a:off x="6168960" y="40863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7" name=""/>
              <p:cNvSpPr/>
              <p:nvPr/>
            </p:nvSpPr>
            <p:spPr>
              <a:xfrm>
                <a:off x="6205680" y="4086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8" name=""/>
              <p:cNvSpPr/>
              <p:nvPr/>
            </p:nvSpPr>
            <p:spPr>
              <a:xfrm>
                <a:off x="6241320" y="40863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9" name=""/>
              <p:cNvSpPr/>
              <p:nvPr/>
            </p:nvSpPr>
            <p:spPr>
              <a:xfrm>
                <a:off x="6278040" y="408636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0" name=""/>
              <p:cNvSpPr/>
              <p:nvPr/>
            </p:nvSpPr>
            <p:spPr>
              <a:xfrm>
                <a:off x="6113160" y="395640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1" name=""/>
              <p:cNvSpPr/>
              <p:nvPr/>
            </p:nvSpPr>
            <p:spPr>
              <a:xfrm>
                <a:off x="6113160" y="390528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2" name=""/>
              <p:cNvSpPr/>
              <p:nvPr/>
            </p:nvSpPr>
            <p:spPr>
              <a:xfrm>
                <a:off x="6132240" y="3983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3" name=""/>
              <p:cNvSpPr/>
              <p:nvPr/>
            </p:nvSpPr>
            <p:spPr>
              <a:xfrm>
                <a:off x="6132240" y="3930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4" name=""/>
              <p:cNvSpPr/>
              <p:nvPr/>
            </p:nvSpPr>
            <p:spPr>
              <a:xfrm>
                <a:off x="6132240" y="3878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5" name=""/>
              <p:cNvSpPr/>
              <p:nvPr/>
            </p:nvSpPr>
            <p:spPr>
              <a:xfrm>
                <a:off x="6077880" y="400860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6" name=""/>
              <p:cNvSpPr/>
              <p:nvPr/>
            </p:nvSpPr>
            <p:spPr>
              <a:xfrm>
                <a:off x="6095520" y="403524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7" name=""/>
              <p:cNvSpPr/>
              <p:nvPr/>
            </p:nvSpPr>
            <p:spPr>
              <a:xfrm>
                <a:off x="5784120" y="405972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8" name=""/>
              <p:cNvSpPr/>
              <p:nvPr/>
            </p:nvSpPr>
            <p:spPr>
              <a:xfrm>
                <a:off x="5820840" y="405972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9" name=""/>
              <p:cNvSpPr/>
              <p:nvPr/>
            </p:nvSpPr>
            <p:spPr>
              <a:xfrm>
                <a:off x="5856120" y="405972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0" name=""/>
              <p:cNvSpPr/>
              <p:nvPr/>
            </p:nvSpPr>
            <p:spPr>
              <a:xfrm>
                <a:off x="5894280" y="405972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1" name=""/>
              <p:cNvSpPr/>
              <p:nvPr/>
            </p:nvSpPr>
            <p:spPr>
              <a:xfrm>
                <a:off x="5931360" y="4059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2" name=""/>
              <p:cNvSpPr/>
              <p:nvPr/>
            </p:nvSpPr>
            <p:spPr>
              <a:xfrm>
                <a:off x="5968080" y="4059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3" name=""/>
              <p:cNvSpPr/>
              <p:nvPr/>
            </p:nvSpPr>
            <p:spPr>
              <a:xfrm>
                <a:off x="6004440" y="40597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4" name=""/>
              <p:cNvSpPr/>
              <p:nvPr/>
            </p:nvSpPr>
            <p:spPr>
              <a:xfrm>
                <a:off x="6041160" y="405972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5" name=""/>
              <p:cNvSpPr/>
              <p:nvPr/>
            </p:nvSpPr>
            <p:spPr>
              <a:xfrm>
                <a:off x="6004440" y="40086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6" name=""/>
              <p:cNvSpPr/>
              <p:nvPr/>
            </p:nvSpPr>
            <p:spPr>
              <a:xfrm>
                <a:off x="6041160" y="400860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7" name=""/>
              <p:cNvSpPr/>
              <p:nvPr/>
            </p:nvSpPr>
            <p:spPr>
              <a:xfrm>
                <a:off x="5766480" y="403524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8" name=""/>
              <p:cNvSpPr/>
              <p:nvPr/>
            </p:nvSpPr>
            <p:spPr>
              <a:xfrm>
                <a:off x="5803200" y="4035240"/>
                <a:ext cx="2556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9" name=""/>
              <p:cNvSpPr/>
              <p:nvPr/>
            </p:nvSpPr>
            <p:spPr>
              <a:xfrm>
                <a:off x="5838480" y="403524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0" name=""/>
              <p:cNvSpPr/>
              <p:nvPr/>
            </p:nvSpPr>
            <p:spPr>
              <a:xfrm>
                <a:off x="5875200" y="403524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1" name=""/>
              <p:cNvSpPr/>
              <p:nvPr/>
            </p:nvSpPr>
            <p:spPr>
              <a:xfrm>
                <a:off x="5911920" y="4035240"/>
                <a:ext cx="2808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2" name=""/>
              <p:cNvSpPr/>
              <p:nvPr/>
            </p:nvSpPr>
            <p:spPr>
              <a:xfrm>
                <a:off x="5948640" y="403524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3" name=""/>
              <p:cNvSpPr/>
              <p:nvPr/>
            </p:nvSpPr>
            <p:spPr>
              <a:xfrm>
                <a:off x="5784120" y="400860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4" name=""/>
              <p:cNvSpPr/>
              <p:nvPr/>
            </p:nvSpPr>
            <p:spPr>
              <a:xfrm>
                <a:off x="5820840" y="400860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5" name=""/>
              <p:cNvSpPr/>
              <p:nvPr/>
            </p:nvSpPr>
            <p:spPr>
              <a:xfrm>
                <a:off x="5856120" y="400860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6" name=""/>
              <p:cNvSpPr/>
              <p:nvPr/>
            </p:nvSpPr>
            <p:spPr>
              <a:xfrm>
                <a:off x="5894280" y="400860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7" name=""/>
              <p:cNvSpPr/>
              <p:nvPr/>
            </p:nvSpPr>
            <p:spPr>
              <a:xfrm>
                <a:off x="5931360" y="40086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8" name=""/>
              <p:cNvSpPr/>
              <p:nvPr/>
            </p:nvSpPr>
            <p:spPr>
              <a:xfrm>
                <a:off x="5968080" y="40086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9" name=""/>
              <p:cNvSpPr/>
              <p:nvPr/>
            </p:nvSpPr>
            <p:spPr>
              <a:xfrm>
                <a:off x="5985360" y="403524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0" name=""/>
              <p:cNvSpPr/>
              <p:nvPr/>
            </p:nvSpPr>
            <p:spPr>
              <a:xfrm>
                <a:off x="6022080" y="403524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1" name=""/>
              <p:cNvSpPr/>
              <p:nvPr/>
            </p:nvSpPr>
            <p:spPr>
              <a:xfrm>
                <a:off x="6077880" y="405972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2" name=""/>
              <p:cNvSpPr/>
              <p:nvPr/>
            </p:nvSpPr>
            <p:spPr>
              <a:xfrm>
                <a:off x="6077880" y="39052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3" name=""/>
              <p:cNvSpPr/>
              <p:nvPr/>
            </p:nvSpPr>
            <p:spPr>
              <a:xfrm>
                <a:off x="6095520" y="3878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4" name=""/>
              <p:cNvSpPr/>
              <p:nvPr/>
            </p:nvSpPr>
            <p:spPr>
              <a:xfrm>
                <a:off x="6095520" y="3930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5" name=""/>
              <p:cNvSpPr/>
              <p:nvPr/>
            </p:nvSpPr>
            <p:spPr>
              <a:xfrm>
                <a:off x="6004440" y="3956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6" name=""/>
              <p:cNvSpPr/>
              <p:nvPr/>
            </p:nvSpPr>
            <p:spPr>
              <a:xfrm>
                <a:off x="6041160" y="395640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7" name=""/>
              <p:cNvSpPr/>
              <p:nvPr/>
            </p:nvSpPr>
            <p:spPr>
              <a:xfrm>
                <a:off x="5766480" y="3983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8" name=""/>
              <p:cNvSpPr/>
              <p:nvPr/>
            </p:nvSpPr>
            <p:spPr>
              <a:xfrm>
                <a:off x="5803200" y="398304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9" name=""/>
              <p:cNvSpPr/>
              <p:nvPr/>
            </p:nvSpPr>
            <p:spPr>
              <a:xfrm>
                <a:off x="5838480" y="3983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0" name=""/>
              <p:cNvSpPr/>
              <p:nvPr/>
            </p:nvSpPr>
            <p:spPr>
              <a:xfrm>
                <a:off x="5875200" y="3983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1" name=""/>
              <p:cNvSpPr/>
              <p:nvPr/>
            </p:nvSpPr>
            <p:spPr>
              <a:xfrm>
                <a:off x="5911920" y="398304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2" name=""/>
              <p:cNvSpPr/>
              <p:nvPr/>
            </p:nvSpPr>
            <p:spPr>
              <a:xfrm>
                <a:off x="5948640" y="39830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3" name=""/>
              <p:cNvSpPr/>
              <p:nvPr/>
            </p:nvSpPr>
            <p:spPr>
              <a:xfrm>
                <a:off x="5985360" y="39830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4" name=""/>
              <p:cNvSpPr/>
              <p:nvPr/>
            </p:nvSpPr>
            <p:spPr>
              <a:xfrm>
                <a:off x="5784120" y="395640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5" name=""/>
              <p:cNvSpPr/>
              <p:nvPr/>
            </p:nvSpPr>
            <p:spPr>
              <a:xfrm>
                <a:off x="5820840" y="3956400"/>
                <a:ext cx="25560" cy="2664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6" name=""/>
              <p:cNvSpPr/>
              <p:nvPr/>
            </p:nvSpPr>
            <p:spPr>
              <a:xfrm>
                <a:off x="5856120" y="395640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7" name=""/>
              <p:cNvSpPr/>
              <p:nvPr/>
            </p:nvSpPr>
            <p:spPr>
              <a:xfrm>
                <a:off x="5894280" y="395640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8" name=""/>
              <p:cNvSpPr/>
              <p:nvPr/>
            </p:nvSpPr>
            <p:spPr>
              <a:xfrm>
                <a:off x="5931360" y="3956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9" name=""/>
              <p:cNvSpPr/>
              <p:nvPr/>
            </p:nvSpPr>
            <p:spPr>
              <a:xfrm>
                <a:off x="5968080" y="395640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0" name=""/>
              <p:cNvSpPr/>
              <p:nvPr/>
            </p:nvSpPr>
            <p:spPr>
              <a:xfrm>
                <a:off x="6022080" y="39830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1" name=""/>
              <p:cNvSpPr/>
              <p:nvPr/>
            </p:nvSpPr>
            <p:spPr>
              <a:xfrm>
                <a:off x="6004440" y="39052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2" name=""/>
              <p:cNvSpPr/>
              <p:nvPr/>
            </p:nvSpPr>
            <p:spPr>
              <a:xfrm>
                <a:off x="6041160" y="390528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3" name=""/>
              <p:cNvSpPr/>
              <p:nvPr/>
            </p:nvSpPr>
            <p:spPr>
              <a:xfrm>
                <a:off x="5766480" y="3930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4" name=""/>
              <p:cNvSpPr/>
              <p:nvPr/>
            </p:nvSpPr>
            <p:spPr>
              <a:xfrm>
                <a:off x="5803200" y="393084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5" name=""/>
              <p:cNvSpPr/>
              <p:nvPr/>
            </p:nvSpPr>
            <p:spPr>
              <a:xfrm>
                <a:off x="5838480" y="3930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5875200" y="3930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5911920" y="3930840"/>
                <a:ext cx="2808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5948640" y="393084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9" name=""/>
              <p:cNvSpPr/>
              <p:nvPr/>
            </p:nvSpPr>
            <p:spPr>
              <a:xfrm>
                <a:off x="5985360" y="39308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0" name=""/>
              <p:cNvSpPr/>
              <p:nvPr/>
            </p:nvSpPr>
            <p:spPr>
              <a:xfrm>
                <a:off x="5931360" y="385308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5948640" y="38786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5784120" y="39052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6143" name=""/>
            <p:cNvGrpSpPr/>
            <p:nvPr/>
          </p:nvGrpSpPr>
          <p:grpSpPr>
            <a:xfrm>
              <a:off x="2494080" y="3776760"/>
              <a:ext cx="4186080" cy="646560"/>
              <a:chOff x="2494080" y="3776760"/>
              <a:chExt cx="4186080" cy="646560"/>
            </a:xfrm>
          </p:grpSpPr>
          <p:sp>
            <p:nvSpPr>
              <p:cNvPr id="6144" name=""/>
              <p:cNvSpPr/>
              <p:nvPr/>
            </p:nvSpPr>
            <p:spPr>
              <a:xfrm>
                <a:off x="5820840" y="390528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5" name=""/>
              <p:cNvSpPr/>
              <p:nvPr/>
            </p:nvSpPr>
            <p:spPr>
              <a:xfrm>
                <a:off x="5855760" y="39052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5893920" y="39052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5855760" y="38530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5893920" y="38530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5766120" y="387864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0" name=""/>
              <p:cNvSpPr/>
              <p:nvPr/>
            </p:nvSpPr>
            <p:spPr>
              <a:xfrm>
                <a:off x="5803200" y="3878640"/>
                <a:ext cx="24840" cy="26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5837760" y="387864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5783760" y="38530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5820840" y="3853080"/>
                <a:ext cx="2484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4" name=""/>
              <p:cNvSpPr/>
              <p:nvPr/>
            </p:nvSpPr>
            <p:spPr>
              <a:xfrm>
                <a:off x="5874480" y="387864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5" name=""/>
              <p:cNvSpPr/>
              <p:nvPr/>
            </p:nvSpPr>
            <p:spPr>
              <a:xfrm>
                <a:off x="5911920" y="3878640"/>
                <a:ext cx="2844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5931000" y="3905280"/>
                <a:ext cx="2628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5966640" y="390528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6021720" y="393048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9" name=""/>
              <p:cNvSpPr/>
              <p:nvPr/>
            </p:nvSpPr>
            <p:spPr>
              <a:xfrm>
                <a:off x="6077880" y="39564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0" name=""/>
              <p:cNvSpPr/>
              <p:nvPr/>
            </p:nvSpPr>
            <p:spPr>
              <a:xfrm>
                <a:off x="6094800" y="39834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6112440" y="406008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6112440" y="400896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6131520" y="403560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4" name=""/>
              <p:cNvSpPr/>
              <p:nvPr/>
            </p:nvSpPr>
            <p:spPr>
              <a:xfrm>
                <a:off x="6149880" y="406008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5" name=""/>
              <p:cNvSpPr/>
              <p:nvPr/>
            </p:nvSpPr>
            <p:spPr>
              <a:xfrm>
                <a:off x="6315840" y="40863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6352560" y="4086360"/>
                <a:ext cx="26280" cy="255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6388920" y="40863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6425640" y="41385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9" name=""/>
              <p:cNvSpPr/>
              <p:nvPr/>
            </p:nvSpPr>
            <p:spPr>
              <a:xfrm>
                <a:off x="6462720" y="41385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0" name=""/>
              <p:cNvSpPr/>
              <p:nvPr/>
            </p:nvSpPr>
            <p:spPr>
              <a:xfrm>
                <a:off x="6296760" y="416412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6333840" y="416412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6372000" y="416412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6406560" y="416412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4" name=""/>
              <p:cNvSpPr/>
              <p:nvPr/>
            </p:nvSpPr>
            <p:spPr>
              <a:xfrm>
                <a:off x="6443640" y="416412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5" name=""/>
              <p:cNvSpPr/>
              <p:nvPr/>
            </p:nvSpPr>
            <p:spPr>
              <a:xfrm>
                <a:off x="6481800" y="416412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609480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613152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6168600" y="418860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9" name=""/>
              <p:cNvSpPr/>
              <p:nvPr/>
            </p:nvSpPr>
            <p:spPr>
              <a:xfrm>
                <a:off x="6205680" y="418860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19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0" name=""/>
              <p:cNvSpPr/>
              <p:nvPr/>
            </p:nvSpPr>
            <p:spPr>
              <a:xfrm>
                <a:off x="624060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576612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5803200" y="4188600"/>
                <a:ext cx="2484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583776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4" name=""/>
              <p:cNvSpPr/>
              <p:nvPr/>
            </p:nvSpPr>
            <p:spPr>
              <a:xfrm>
                <a:off x="587448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5" name=""/>
              <p:cNvSpPr/>
              <p:nvPr/>
            </p:nvSpPr>
            <p:spPr>
              <a:xfrm>
                <a:off x="5911920" y="418860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5949000" y="418860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6077880" y="416412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6112440" y="416412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9" name=""/>
              <p:cNvSpPr/>
              <p:nvPr/>
            </p:nvSpPr>
            <p:spPr>
              <a:xfrm>
                <a:off x="6149880" y="416412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0" name=""/>
              <p:cNvSpPr/>
              <p:nvPr/>
            </p:nvSpPr>
            <p:spPr>
              <a:xfrm>
                <a:off x="6188040" y="416412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20" y="46"/>
                    </a:moveTo>
                    <a:lnTo>
                      <a:pt x="37" y="35"/>
                    </a:lnTo>
                    <a:lnTo>
                      <a:pt x="37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5783760" y="416412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5820840" y="41641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5855760" y="4164120"/>
                <a:ext cx="28440" cy="244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4" name=""/>
              <p:cNvSpPr/>
              <p:nvPr/>
            </p:nvSpPr>
            <p:spPr>
              <a:xfrm>
                <a:off x="5893920" y="416412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5" name=""/>
              <p:cNvSpPr/>
              <p:nvPr/>
            </p:nvSpPr>
            <p:spPr>
              <a:xfrm>
                <a:off x="5931000" y="4164120"/>
                <a:ext cx="2628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6224760" y="4164120"/>
                <a:ext cx="25200" cy="244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6259320" y="4164120"/>
                <a:ext cx="27360" cy="244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6277320" y="418860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9" name=""/>
              <p:cNvSpPr/>
              <p:nvPr/>
            </p:nvSpPr>
            <p:spPr>
              <a:xfrm>
                <a:off x="631584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0" name=""/>
              <p:cNvSpPr/>
              <p:nvPr/>
            </p:nvSpPr>
            <p:spPr>
              <a:xfrm>
                <a:off x="6352560" y="4188600"/>
                <a:ext cx="2628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1" name=""/>
              <p:cNvSpPr/>
              <p:nvPr/>
            </p:nvSpPr>
            <p:spPr>
              <a:xfrm>
                <a:off x="638892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4"/>
                    </a:lnTo>
                    <a:lnTo>
                      <a:pt x="22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2" name=""/>
              <p:cNvSpPr/>
              <p:nvPr/>
            </p:nvSpPr>
            <p:spPr>
              <a:xfrm>
                <a:off x="642564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3" name=""/>
              <p:cNvSpPr/>
              <p:nvPr/>
            </p:nvSpPr>
            <p:spPr>
              <a:xfrm>
                <a:off x="6462720" y="4188600"/>
                <a:ext cx="27360" cy="259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4" name=""/>
              <p:cNvSpPr/>
              <p:nvPr/>
            </p:nvSpPr>
            <p:spPr>
              <a:xfrm>
                <a:off x="6443640" y="4060080"/>
                <a:ext cx="28440" cy="259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5" name=""/>
              <p:cNvSpPr/>
              <p:nvPr/>
            </p:nvSpPr>
            <p:spPr>
              <a:xfrm>
                <a:off x="6462720" y="40863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6" name=""/>
              <p:cNvSpPr/>
              <p:nvPr/>
            </p:nvSpPr>
            <p:spPr>
              <a:xfrm>
                <a:off x="6481800" y="4060080"/>
                <a:ext cx="25200" cy="2592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7" name=""/>
              <p:cNvSpPr/>
              <p:nvPr/>
            </p:nvSpPr>
            <p:spPr>
              <a:xfrm>
                <a:off x="6406560" y="41122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8" name=""/>
              <p:cNvSpPr/>
              <p:nvPr/>
            </p:nvSpPr>
            <p:spPr>
              <a:xfrm>
                <a:off x="6425640" y="40863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9" name=""/>
              <p:cNvSpPr/>
              <p:nvPr/>
            </p:nvSpPr>
            <p:spPr>
              <a:xfrm>
                <a:off x="6443640" y="41122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0" name=""/>
              <p:cNvSpPr/>
              <p:nvPr/>
            </p:nvSpPr>
            <p:spPr>
              <a:xfrm>
                <a:off x="6481800" y="41122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1" name=""/>
              <p:cNvSpPr/>
              <p:nvPr/>
            </p:nvSpPr>
            <p:spPr>
              <a:xfrm>
                <a:off x="6177240" y="3877920"/>
                <a:ext cx="289080" cy="1742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2" name=""/>
              <p:cNvSpPr/>
              <p:nvPr/>
            </p:nvSpPr>
            <p:spPr>
              <a:xfrm>
                <a:off x="6177240" y="3877920"/>
                <a:ext cx="289080" cy="1742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6197400" y="3895920"/>
                <a:ext cx="248400" cy="1393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  <a:close/>
                  </a:path>
                </a:pathLst>
              </a:custGeom>
              <a:solidFill>
                <a:srgbClr val="2b2b2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4" name=""/>
              <p:cNvSpPr/>
              <p:nvPr/>
            </p:nvSpPr>
            <p:spPr>
              <a:xfrm>
                <a:off x="6197400" y="3895920"/>
                <a:ext cx="248400" cy="1393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5" name=""/>
              <p:cNvSpPr/>
              <p:nvPr/>
            </p:nvSpPr>
            <p:spPr>
              <a:xfrm>
                <a:off x="6247440" y="3925800"/>
                <a:ext cx="147960" cy="79920"/>
              </a:xfrm>
              <a:custGeom>
                <a:avLst/>
                <a:gdLst/>
                <a:ahLst/>
                <a:rect l="l" t="t" r="r" b="b"/>
                <a:pathLst>
                  <a:path w="218" h="144">
                    <a:moveTo>
                      <a:pt x="20" y="68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0" y="68"/>
                    </a:lnTo>
                    <a:close/>
                    <a:moveTo>
                      <a:pt x="118" y="144"/>
                    </a:moveTo>
                    <a:lnTo>
                      <a:pt x="118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18" y="144"/>
                    </a:lnTo>
                    <a:close/>
                    <a:moveTo>
                      <a:pt x="218" y="68"/>
                    </a:moveTo>
                    <a:lnTo>
                      <a:pt x="218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8" y="6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6" name=""/>
              <p:cNvSpPr/>
              <p:nvPr/>
            </p:nvSpPr>
            <p:spPr>
              <a:xfrm>
                <a:off x="6448320" y="3907800"/>
                <a:ext cx="97920" cy="14220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6448320" y="3888000"/>
                <a:ext cx="25200" cy="182160"/>
              </a:xfrm>
              <a:prstGeom prst="rect">
                <a:avLst/>
              </a:prstGeom>
              <a:solidFill>
                <a:srgbClr val="af4b7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8" name=""/>
              <p:cNvSpPr/>
              <p:nvPr/>
            </p:nvSpPr>
            <p:spPr>
              <a:xfrm>
                <a:off x="6473520" y="3888000"/>
                <a:ext cx="26280" cy="182160"/>
              </a:xfrm>
              <a:prstGeom prst="rect">
                <a:avLst/>
              </a:prstGeom>
              <a:solidFill>
                <a:srgbClr val="b65d85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9" name=""/>
              <p:cNvSpPr/>
              <p:nvPr/>
            </p:nvSpPr>
            <p:spPr>
              <a:xfrm>
                <a:off x="6499800" y="3888000"/>
                <a:ext cx="23760" cy="182160"/>
              </a:xfrm>
              <a:prstGeom prst="rect">
                <a:avLst/>
              </a:prstGeom>
              <a:solidFill>
                <a:srgbClr val="b357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0" name=""/>
              <p:cNvSpPr/>
              <p:nvPr/>
            </p:nvSpPr>
            <p:spPr>
              <a:xfrm>
                <a:off x="6523560" y="3888000"/>
                <a:ext cx="22680" cy="182160"/>
              </a:xfrm>
              <a:prstGeom prst="rect">
                <a:avLst/>
              </a:prstGeom>
              <a:solidFill>
                <a:srgbClr val="b1507c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1" name=""/>
              <p:cNvSpPr/>
              <p:nvPr/>
            </p:nvSpPr>
            <p:spPr>
              <a:xfrm>
                <a:off x="6546600" y="3888000"/>
                <a:ext cx="24840" cy="182160"/>
              </a:xfrm>
              <a:prstGeom prst="rect">
                <a:avLst/>
              </a:prstGeom>
              <a:solidFill>
                <a:srgbClr val="ae4a7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6466320" y="3892320"/>
                <a:ext cx="95400" cy="154800"/>
              </a:xfrm>
              <a:custGeom>
                <a:avLst/>
                <a:gdLst/>
                <a:ahLst/>
                <a:rect l="l" t="t" r="r" b="b"/>
                <a:pathLst>
                  <a:path w="141" h="280">
                    <a:moveTo>
                      <a:pt x="0" y="261"/>
                    </a:moveTo>
                    <a:lnTo>
                      <a:pt x="0" y="265"/>
                    </a:lnTo>
                    <a:lnTo>
                      <a:pt x="2" y="268"/>
                    </a:lnTo>
                    <a:lnTo>
                      <a:pt x="3" y="272"/>
                    </a:lnTo>
                    <a:lnTo>
                      <a:pt x="5" y="275"/>
                    </a:lnTo>
                    <a:lnTo>
                      <a:pt x="9" y="276"/>
                    </a:lnTo>
                    <a:lnTo>
                      <a:pt x="13" y="279"/>
                    </a:lnTo>
                    <a:lnTo>
                      <a:pt x="17" y="279"/>
                    </a:lnTo>
                    <a:lnTo>
                      <a:pt x="20" y="280"/>
                    </a:lnTo>
                    <a:lnTo>
                      <a:pt x="27" y="280"/>
                    </a:lnTo>
                    <a:lnTo>
                      <a:pt x="116" y="270"/>
                    </a:lnTo>
                    <a:lnTo>
                      <a:pt x="121" y="268"/>
                    </a:lnTo>
                    <a:lnTo>
                      <a:pt x="126" y="267"/>
                    </a:lnTo>
                    <a:lnTo>
                      <a:pt x="129" y="265"/>
                    </a:lnTo>
                    <a:lnTo>
                      <a:pt x="133" y="261"/>
                    </a:lnTo>
                    <a:lnTo>
                      <a:pt x="136" y="257"/>
                    </a:lnTo>
                    <a:lnTo>
                      <a:pt x="138" y="252"/>
                    </a:lnTo>
                    <a:lnTo>
                      <a:pt x="139" y="248"/>
                    </a:lnTo>
                    <a:lnTo>
                      <a:pt x="141" y="243"/>
                    </a:lnTo>
                    <a:lnTo>
                      <a:pt x="141" y="243"/>
                    </a:lnTo>
                    <a:lnTo>
                      <a:pt x="141" y="35"/>
                    </a:lnTo>
                    <a:lnTo>
                      <a:pt x="139" y="31"/>
                    </a:lnTo>
                    <a:lnTo>
                      <a:pt x="138" y="26"/>
                    </a:lnTo>
                    <a:lnTo>
                      <a:pt x="136" y="21"/>
                    </a:lnTo>
                    <a:lnTo>
                      <a:pt x="133" y="17"/>
                    </a:lnTo>
                    <a:lnTo>
                      <a:pt x="128" y="15"/>
                    </a:lnTo>
                    <a:lnTo>
                      <a:pt x="124" y="11"/>
                    </a:lnTo>
                    <a:lnTo>
                      <a:pt x="119" y="10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1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2845440" y="3841200"/>
                <a:ext cx="1829520" cy="481680"/>
              </a:xfrm>
              <a:custGeom>
                <a:avLst/>
                <a:gdLst/>
                <a:ahLst/>
                <a:rect l="l" t="t" r="r" b="b"/>
                <a:pathLst>
                  <a:path w="2690" h="869">
                    <a:moveTo>
                      <a:pt x="1379" y="632"/>
                    </a:moveTo>
                    <a:lnTo>
                      <a:pt x="0" y="632"/>
                    </a:lnTo>
                    <a:lnTo>
                      <a:pt x="0" y="812"/>
                    </a:lnTo>
                    <a:lnTo>
                      <a:pt x="1379" y="812"/>
                    </a:lnTo>
                    <a:lnTo>
                      <a:pt x="1379" y="632"/>
                    </a:lnTo>
                    <a:close/>
                    <a:moveTo>
                      <a:pt x="1379" y="325"/>
                    </a:moveTo>
                    <a:lnTo>
                      <a:pt x="0" y="325"/>
                    </a:lnTo>
                    <a:lnTo>
                      <a:pt x="0" y="507"/>
                    </a:lnTo>
                    <a:lnTo>
                      <a:pt x="1379" y="507"/>
                    </a:lnTo>
                    <a:lnTo>
                      <a:pt x="1379" y="325"/>
                    </a:lnTo>
                    <a:close/>
                    <a:moveTo>
                      <a:pt x="1379" y="19"/>
                    </a:moveTo>
                    <a:lnTo>
                      <a:pt x="0" y="19"/>
                    </a:lnTo>
                    <a:lnTo>
                      <a:pt x="0" y="201"/>
                    </a:lnTo>
                    <a:lnTo>
                      <a:pt x="1379" y="201"/>
                    </a:lnTo>
                    <a:lnTo>
                      <a:pt x="1379" y="19"/>
                    </a:lnTo>
                    <a:close/>
                    <a:moveTo>
                      <a:pt x="1695" y="0"/>
                    </a:moveTo>
                    <a:lnTo>
                      <a:pt x="1695" y="869"/>
                    </a:lnTo>
                    <a:lnTo>
                      <a:pt x="1868" y="869"/>
                    </a:lnTo>
                    <a:lnTo>
                      <a:pt x="1868" y="0"/>
                    </a:lnTo>
                    <a:lnTo>
                      <a:pt x="1695" y="0"/>
                    </a:lnTo>
                    <a:close/>
                    <a:moveTo>
                      <a:pt x="2517" y="0"/>
                    </a:moveTo>
                    <a:lnTo>
                      <a:pt x="2517" y="869"/>
                    </a:lnTo>
                    <a:lnTo>
                      <a:pt x="2690" y="869"/>
                    </a:lnTo>
                    <a:lnTo>
                      <a:pt x="2690" y="0"/>
                    </a:lnTo>
                    <a:lnTo>
                      <a:pt x="2517" y="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2845440" y="419112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5" name=""/>
              <p:cNvSpPr/>
              <p:nvPr/>
            </p:nvSpPr>
            <p:spPr>
              <a:xfrm>
                <a:off x="2845440" y="402084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6" name=""/>
              <p:cNvSpPr/>
              <p:nvPr/>
            </p:nvSpPr>
            <p:spPr>
              <a:xfrm>
                <a:off x="2845440" y="3850560"/>
                <a:ext cx="937800" cy="101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7" name=""/>
              <p:cNvSpPr/>
              <p:nvPr/>
            </p:nvSpPr>
            <p:spPr>
              <a:xfrm>
                <a:off x="3998520" y="3841200"/>
                <a:ext cx="118080" cy="481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4557960" y="3841200"/>
                <a:ext cx="117000" cy="481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2886120" y="3865320"/>
                <a:ext cx="1750320" cy="432360"/>
              </a:xfrm>
              <a:custGeom>
                <a:avLst/>
                <a:gdLst/>
                <a:ahLst/>
                <a:rect l="l" t="t" r="r" b="b"/>
                <a:pathLst>
                  <a:path w="2573" h="779">
                    <a:moveTo>
                      <a:pt x="1139" y="36"/>
                    </a:moveTo>
                    <a:lnTo>
                      <a:pt x="123" y="36"/>
                    </a:lnTo>
                    <a:lnTo>
                      <a:pt x="110" y="36"/>
                    </a:lnTo>
                    <a:lnTo>
                      <a:pt x="98" y="36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6" y="39"/>
                    </a:lnTo>
                    <a:lnTo>
                      <a:pt x="27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6" y="88"/>
                    </a:lnTo>
                    <a:lnTo>
                      <a:pt x="10" y="89"/>
                    </a:lnTo>
                    <a:lnTo>
                      <a:pt x="15" y="90"/>
                    </a:lnTo>
                    <a:lnTo>
                      <a:pt x="21" y="90"/>
                    </a:lnTo>
                    <a:lnTo>
                      <a:pt x="27" y="92"/>
                    </a:lnTo>
                    <a:lnTo>
                      <a:pt x="36" y="92"/>
                    </a:lnTo>
                    <a:lnTo>
                      <a:pt x="45" y="93"/>
                    </a:lnTo>
                    <a:lnTo>
                      <a:pt x="54" y="93"/>
                    </a:lnTo>
                    <a:lnTo>
                      <a:pt x="64" y="94"/>
                    </a:lnTo>
                    <a:lnTo>
                      <a:pt x="75" y="94"/>
                    </a:lnTo>
                    <a:lnTo>
                      <a:pt x="86" y="94"/>
                    </a:lnTo>
                    <a:lnTo>
                      <a:pt x="98" y="94"/>
                    </a:lnTo>
                    <a:lnTo>
                      <a:pt x="110" y="94"/>
                    </a:lnTo>
                    <a:lnTo>
                      <a:pt x="123" y="96"/>
                    </a:lnTo>
                    <a:lnTo>
                      <a:pt x="123" y="96"/>
                    </a:lnTo>
                    <a:lnTo>
                      <a:pt x="1139" y="96"/>
                    </a:lnTo>
                    <a:lnTo>
                      <a:pt x="1151" y="94"/>
                    </a:lnTo>
                    <a:lnTo>
                      <a:pt x="1164" y="94"/>
                    </a:lnTo>
                    <a:lnTo>
                      <a:pt x="1175" y="94"/>
                    </a:lnTo>
                    <a:lnTo>
                      <a:pt x="1186" y="94"/>
                    </a:lnTo>
                    <a:lnTo>
                      <a:pt x="1198" y="94"/>
                    </a:lnTo>
                    <a:lnTo>
                      <a:pt x="1208" y="93"/>
                    </a:lnTo>
                    <a:lnTo>
                      <a:pt x="1216" y="93"/>
                    </a:lnTo>
                    <a:lnTo>
                      <a:pt x="1225" y="92"/>
                    </a:lnTo>
                    <a:lnTo>
                      <a:pt x="1233" y="92"/>
                    </a:lnTo>
                    <a:lnTo>
                      <a:pt x="1240" y="90"/>
                    </a:lnTo>
                    <a:lnTo>
                      <a:pt x="1246" y="90"/>
                    </a:lnTo>
                    <a:lnTo>
                      <a:pt x="1251" y="89"/>
                    </a:lnTo>
                    <a:lnTo>
                      <a:pt x="1255" y="88"/>
                    </a:lnTo>
                    <a:lnTo>
                      <a:pt x="1259" y="88"/>
                    </a:lnTo>
                    <a:lnTo>
                      <a:pt x="1260" y="87"/>
                    </a:lnTo>
                    <a:lnTo>
                      <a:pt x="1260" y="87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45"/>
                    </a:lnTo>
                    <a:lnTo>
                      <a:pt x="1260" y="44"/>
                    </a:lnTo>
                    <a:lnTo>
                      <a:pt x="1260" y="44"/>
                    </a:lnTo>
                    <a:lnTo>
                      <a:pt x="1259" y="43"/>
                    </a:lnTo>
                    <a:lnTo>
                      <a:pt x="1255" y="43"/>
                    </a:lnTo>
                    <a:lnTo>
                      <a:pt x="1251" y="41"/>
                    </a:lnTo>
                    <a:lnTo>
                      <a:pt x="1246" y="41"/>
                    </a:lnTo>
                    <a:lnTo>
                      <a:pt x="1240" y="40"/>
                    </a:lnTo>
                    <a:lnTo>
                      <a:pt x="1233" y="39"/>
                    </a:lnTo>
                    <a:lnTo>
                      <a:pt x="1225" y="39"/>
                    </a:lnTo>
                    <a:lnTo>
                      <a:pt x="1216" y="37"/>
                    </a:lnTo>
                    <a:lnTo>
                      <a:pt x="1208" y="37"/>
                    </a:lnTo>
                    <a:lnTo>
                      <a:pt x="1198" y="37"/>
                    </a:lnTo>
                    <a:lnTo>
                      <a:pt x="1186" y="36"/>
                    </a:lnTo>
                    <a:lnTo>
                      <a:pt x="1175" y="36"/>
                    </a:lnTo>
                    <a:lnTo>
                      <a:pt x="1164" y="36"/>
                    </a:lnTo>
                    <a:lnTo>
                      <a:pt x="1151" y="36"/>
                    </a:lnTo>
                    <a:lnTo>
                      <a:pt x="1139" y="36"/>
                    </a:lnTo>
                    <a:lnTo>
                      <a:pt x="1139" y="36"/>
                    </a:lnTo>
                    <a:close/>
                    <a:moveTo>
                      <a:pt x="1139" y="340"/>
                    </a:moveTo>
                    <a:lnTo>
                      <a:pt x="123" y="340"/>
                    </a:lnTo>
                    <a:lnTo>
                      <a:pt x="110" y="340"/>
                    </a:lnTo>
                    <a:lnTo>
                      <a:pt x="98" y="342"/>
                    </a:lnTo>
                    <a:lnTo>
                      <a:pt x="86" y="342"/>
                    </a:lnTo>
                    <a:lnTo>
                      <a:pt x="75" y="342"/>
                    </a:lnTo>
                    <a:lnTo>
                      <a:pt x="64" y="342"/>
                    </a:lnTo>
                    <a:lnTo>
                      <a:pt x="54" y="343"/>
                    </a:lnTo>
                    <a:lnTo>
                      <a:pt x="45" y="343"/>
                    </a:lnTo>
                    <a:lnTo>
                      <a:pt x="36" y="344"/>
                    </a:lnTo>
                    <a:lnTo>
                      <a:pt x="27" y="344"/>
                    </a:lnTo>
                    <a:lnTo>
                      <a:pt x="21" y="346"/>
                    </a:lnTo>
                    <a:lnTo>
                      <a:pt x="15" y="346"/>
                    </a:lnTo>
                    <a:lnTo>
                      <a:pt x="10" y="347"/>
                    </a:lnTo>
                    <a:lnTo>
                      <a:pt x="6" y="348"/>
                    </a:lnTo>
                    <a:lnTo>
                      <a:pt x="2" y="348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1" y="392"/>
                    </a:lnTo>
                    <a:lnTo>
                      <a:pt x="2" y="392"/>
                    </a:lnTo>
                    <a:lnTo>
                      <a:pt x="6" y="393"/>
                    </a:lnTo>
                    <a:lnTo>
                      <a:pt x="10" y="395"/>
                    </a:lnTo>
                    <a:lnTo>
                      <a:pt x="15" y="395"/>
                    </a:lnTo>
                    <a:lnTo>
                      <a:pt x="21" y="396"/>
                    </a:lnTo>
                    <a:lnTo>
                      <a:pt x="27" y="397"/>
                    </a:lnTo>
                    <a:lnTo>
                      <a:pt x="36" y="397"/>
                    </a:lnTo>
                    <a:lnTo>
                      <a:pt x="45" y="399"/>
                    </a:lnTo>
                    <a:lnTo>
                      <a:pt x="54" y="399"/>
                    </a:lnTo>
                    <a:lnTo>
                      <a:pt x="64" y="399"/>
                    </a:lnTo>
                    <a:lnTo>
                      <a:pt x="75" y="400"/>
                    </a:lnTo>
                    <a:lnTo>
                      <a:pt x="86" y="400"/>
                    </a:lnTo>
                    <a:lnTo>
                      <a:pt x="98" y="400"/>
                    </a:lnTo>
                    <a:lnTo>
                      <a:pt x="110" y="400"/>
                    </a:lnTo>
                    <a:lnTo>
                      <a:pt x="123" y="400"/>
                    </a:lnTo>
                    <a:lnTo>
                      <a:pt x="123" y="400"/>
                    </a:lnTo>
                    <a:lnTo>
                      <a:pt x="1139" y="400"/>
                    </a:lnTo>
                    <a:lnTo>
                      <a:pt x="1151" y="400"/>
                    </a:lnTo>
                    <a:lnTo>
                      <a:pt x="1164" y="400"/>
                    </a:lnTo>
                    <a:lnTo>
                      <a:pt x="1175" y="400"/>
                    </a:lnTo>
                    <a:lnTo>
                      <a:pt x="1186" y="400"/>
                    </a:lnTo>
                    <a:lnTo>
                      <a:pt x="1198" y="399"/>
                    </a:lnTo>
                    <a:lnTo>
                      <a:pt x="1208" y="399"/>
                    </a:lnTo>
                    <a:lnTo>
                      <a:pt x="1216" y="399"/>
                    </a:lnTo>
                    <a:lnTo>
                      <a:pt x="1225" y="397"/>
                    </a:lnTo>
                    <a:lnTo>
                      <a:pt x="1233" y="397"/>
                    </a:lnTo>
                    <a:lnTo>
                      <a:pt x="1240" y="396"/>
                    </a:lnTo>
                    <a:lnTo>
                      <a:pt x="1246" y="395"/>
                    </a:lnTo>
                    <a:lnTo>
                      <a:pt x="1251" y="395"/>
                    </a:lnTo>
                    <a:lnTo>
                      <a:pt x="1255" y="393"/>
                    </a:lnTo>
                    <a:lnTo>
                      <a:pt x="1259" y="392"/>
                    </a:lnTo>
                    <a:lnTo>
                      <a:pt x="1260" y="392"/>
                    </a:lnTo>
                    <a:lnTo>
                      <a:pt x="1260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51"/>
                    </a:lnTo>
                    <a:lnTo>
                      <a:pt x="1260" y="349"/>
                    </a:lnTo>
                    <a:lnTo>
                      <a:pt x="1260" y="349"/>
                    </a:lnTo>
                    <a:lnTo>
                      <a:pt x="1259" y="348"/>
                    </a:lnTo>
                    <a:lnTo>
                      <a:pt x="1255" y="348"/>
                    </a:lnTo>
                    <a:lnTo>
                      <a:pt x="1251" y="347"/>
                    </a:lnTo>
                    <a:lnTo>
                      <a:pt x="1246" y="346"/>
                    </a:lnTo>
                    <a:lnTo>
                      <a:pt x="1240" y="346"/>
                    </a:lnTo>
                    <a:lnTo>
                      <a:pt x="1233" y="344"/>
                    </a:lnTo>
                    <a:lnTo>
                      <a:pt x="1225" y="344"/>
                    </a:lnTo>
                    <a:lnTo>
                      <a:pt x="1216" y="343"/>
                    </a:lnTo>
                    <a:lnTo>
                      <a:pt x="1208" y="343"/>
                    </a:lnTo>
                    <a:lnTo>
                      <a:pt x="1198" y="342"/>
                    </a:lnTo>
                    <a:lnTo>
                      <a:pt x="1186" y="342"/>
                    </a:lnTo>
                    <a:lnTo>
                      <a:pt x="1175" y="342"/>
                    </a:lnTo>
                    <a:lnTo>
                      <a:pt x="1164" y="342"/>
                    </a:lnTo>
                    <a:lnTo>
                      <a:pt x="1151" y="340"/>
                    </a:lnTo>
                    <a:lnTo>
                      <a:pt x="1139" y="340"/>
                    </a:lnTo>
                    <a:lnTo>
                      <a:pt x="1139" y="340"/>
                    </a:lnTo>
                    <a:close/>
                    <a:moveTo>
                      <a:pt x="1139" y="646"/>
                    </a:moveTo>
                    <a:lnTo>
                      <a:pt x="123" y="646"/>
                    </a:lnTo>
                    <a:lnTo>
                      <a:pt x="110" y="646"/>
                    </a:lnTo>
                    <a:lnTo>
                      <a:pt x="98" y="646"/>
                    </a:lnTo>
                    <a:lnTo>
                      <a:pt x="86" y="647"/>
                    </a:lnTo>
                    <a:lnTo>
                      <a:pt x="75" y="647"/>
                    </a:lnTo>
                    <a:lnTo>
                      <a:pt x="64" y="647"/>
                    </a:lnTo>
                    <a:lnTo>
                      <a:pt x="54" y="649"/>
                    </a:lnTo>
                    <a:lnTo>
                      <a:pt x="45" y="649"/>
                    </a:lnTo>
                    <a:lnTo>
                      <a:pt x="36" y="650"/>
                    </a:lnTo>
                    <a:lnTo>
                      <a:pt x="27" y="650"/>
                    </a:lnTo>
                    <a:lnTo>
                      <a:pt x="21" y="651"/>
                    </a:lnTo>
                    <a:lnTo>
                      <a:pt x="15" y="651"/>
                    </a:lnTo>
                    <a:lnTo>
                      <a:pt x="10" y="652"/>
                    </a:lnTo>
                    <a:lnTo>
                      <a:pt x="6" y="654"/>
                    </a:lnTo>
                    <a:lnTo>
                      <a:pt x="2" y="654"/>
                    </a:lnTo>
                    <a:lnTo>
                      <a:pt x="1" y="655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6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1" y="698"/>
                    </a:lnTo>
                    <a:lnTo>
                      <a:pt x="2" y="698"/>
                    </a:lnTo>
                    <a:lnTo>
                      <a:pt x="6" y="699"/>
                    </a:lnTo>
                    <a:lnTo>
                      <a:pt x="10" y="700"/>
                    </a:lnTo>
                    <a:lnTo>
                      <a:pt x="15" y="700"/>
                    </a:lnTo>
                    <a:lnTo>
                      <a:pt x="21" y="702"/>
                    </a:lnTo>
                    <a:lnTo>
                      <a:pt x="27" y="702"/>
                    </a:lnTo>
                    <a:lnTo>
                      <a:pt x="36" y="703"/>
                    </a:lnTo>
                    <a:lnTo>
                      <a:pt x="45" y="703"/>
                    </a:lnTo>
                    <a:lnTo>
                      <a:pt x="54" y="704"/>
                    </a:lnTo>
                    <a:lnTo>
                      <a:pt x="64" y="704"/>
                    </a:lnTo>
                    <a:lnTo>
                      <a:pt x="75" y="705"/>
                    </a:lnTo>
                    <a:lnTo>
                      <a:pt x="86" y="705"/>
                    </a:lnTo>
                    <a:lnTo>
                      <a:pt x="98" y="705"/>
                    </a:lnTo>
                    <a:lnTo>
                      <a:pt x="110" y="705"/>
                    </a:lnTo>
                    <a:lnTo>
                      <a:pt x="123" y="705"/>
                    </a:lnTo>
                    <a:lnTo>
                      <a:pt x="123" y="705"/>
                    </a:lnTo>
                    <a:lnTo>
                      <a:pt x="1139" y="705"/>
                    </a:lnTo>
                    <a:lnTo>
                      <a:pt x="1151" y="705"/>
                    </a:lnTo>
                    <a:lnTo>
                      <a:pt x="1164" y="705"/>
                    </a:lnTo>
                    <a:lnTo>
                      <a:pt x="1175" y="705"/>
                    </a:lnTo>
                    <a:lnTo>
                      <a:pt x="1186" y="705"/>
                    </a:lnTo>
                    <a:lnTo>
                      <a:pt x="1198" y="704"/>
                    </a:lnTo>
                    <a:lnTo>
                      <a:pt x="1208" y="704"/>
                    </a:lnTo>
                    <a:lnTo>
                      <a:pt x="1216" y="703"/>
                    </a:lnTo>
                    <a:lnTo>
                      <a:pt x="1225" y="703"/>
                    </a:lnTo>
                    <a:lnTo>
                      <a:pt x="1233" y="702"/>
                    </a:lnTo>
                    <a:lnTo>
                      <a:pt x="1240" y="702"/>
                    </a:lnTo>
                    <a:lnTo>
                      <a:pt x="1246" y="700"/>
                    </a:lnTo>
                    <a:lnTo>
                      <a:pt x="1251" y="700"/>
                    </a:lnTo>
                    <a:lnTo>
                      <a:pt x="1255" y="699"/>
                    </a:lnTo>
                    <a:lnTo>
                      <a:pt x="1259" y="698"/>
                    </a:lnTo>
                    <a:lnTo>
                      <a:pt x="1260" y="698"/>
                    </a:lnTo>
                    <a:lnTo>
                      <a:pt x="1260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56"/>
                    </a:lnTo>
                    <a:lnTo>
                      <a:pt x="1260" y="655"/>
                    </a:lnTo>
                    <a:lnTo>
                      <a:pt x="1260" y="655"/>
                    </a:lnTo>
                    <a:lnTo>
                      <a:pt x="1259" y="654"/>
                    </a:lnTo>
                    <a:lnTo>
                      <a:pt x="1255" y="654"/>
                    </a:lnTo>
                    <a:lnTo>
                      <a:pt x="1251" y="652"/>
                    </a:lnTo>
                    <a:lnTo>
                      <a:pt x="1246" y="651"/>
                    </a:lnTo>
                    <a:lnTo>
                      <a:pt x="1240" y="651"/>
                    </a:lnTo>
                    <a:lnTo>
                      <a:pt x="1233" y="650"/>
                    </a:lnTo>
                    <a:lnTo>
                      <a:pt x="1225" y="650"/>
                    </a:lnTo>
                    <a:lnTo>
                      <a:pt x="1216" y="649"/>
                    </a:lnTo>
                    <a:lnTo>
                      <a:pt x="1208" y="649"/>
                    </a:lnTo>
                    <a:lnTo>
                      <a:pt x="1198" y="647"/>
                    </a:lnTo>
                    <a:lnTo>
                      <a:pt x="1186" y="647"/>
                    </a:lnTo>
                    <a:lnTo>
                      <a:pt x="1175" y="647"/>
                    </a:lnTo>
                    <a:lnTo>
                      <a:pt x="1164" y="646"/>
                    </a:lnTo>
                    <a:lnTo>
                      <a:pt x="1151" y="646"/>
                    </a:lnTo>
                    <a:lnTo>
                      <a:pt x="1139" y="646"/>
                    </a:lnTo>
                    <a:lnTo>
                      <a:pt x="1139" y="646"/>
                    </a:lnTo>
                    <a:close/>
                    <a:moveTo>
                      <a:pt x="1753" y="703"/>
                    </a:moveTo>
                    <a:lnTo>
                      <a:pt x="1753" y="74"/>
                    </a:lnTo>
                    <a:lnTo>
                      <a:pt x="1751" y="59"/>
                    </a:lnTo>
                    <a:lnTo>
                      <a:pt x="1751" y="53"/>
                    </a:lnTo>
                    <a:lnTo>
                      <a:pt x="1751" y="45"/>
                    </a:lnTo>
                    <a:lnTo>
                      <a:pt x="1751" y="39"/>
                    </a:lnTo>
                    <a:lnTo>
                      <a:pt x="1750" y="32"/>
                    </a:lnTo>
                    <a:lnTo>
                      <a:pt x="1750" y="27"/>
                    </a:lnTo>
                    <a:lnTo>
                      <a:pt x="1749" y="21"/>
                    </a:lnTo>
                    <a:lnTo>
                      <a:pt x="1749" y="16"/>
                    </a:lnTo>
                    <a:lnTo>
                      <a:pt x="1748" y="12"/>
                    </a:lnTo>
                    <a:lnTo>
                      <a:pt x="1748" y="8"/>
                    </a:lnTo>
                    <a:lnTo>
                      <a:pt x="1746" y="5"/>
                    </a:lnTo>
                    <a:lnTo>
                      <a:pt x="1745" y="2"/>
                    </a:lnTo>
                    <a:lnTo>
                      <a:pt x="1745" y="1"/>
                    </a:lnTo>
                    <a:lnTo>
                      <a:pt x="1744" y="0"/>
                    </a:lnTo>
                    <a:lnTo>
                      <a:pt x="1743" y="0"/>
                    </a:lnTo>
                    <a:lnTo>
                      <a:pt x="1705" y="0"/>
                    </a:lnTo>
                    <a:lnTo>
                      <a:pt x="1704" y="0"/>
                    </a:lnTo>
                    <a:lnTo>
                      <a:pt x="1703" y="1"/>
                    </a:lnTo>
                    <a:lnTo>
                      <a:pt x="1703" y="2"/>
                    </a:lnTo>
                    <a:lnTo>
                      <a:pt x="1701" y="5"/>
                    </a:lnTo>
                    <a:lnTo>
                      <a:pt x="1700" y="8"/>
                    </a:lnTo>
                    <a:lnTo>
                      <a:pt x="1700" y="12"/>
                    </a:lnTo>
                    <a:lnTo>
                      <a:pt x="1699" y="16"/>
                    </a:lnTo>
                    <a:lnTo>
                      <a:pt x="1699" y="21"/>
                    </a:lnTo>
                    <a:lnTo>
                      <a:pt x="1698" y="27"/>
                    </a:lnTo>
                    <a:lnTo>
                      <a:pt x="1698" y="32"/>
                    </a:lnTo>
                    <a:lnTo>
                      <a:pt x="1696" y="39"/>
                    </a:lnTo>
                    <a:lnTo>
                      <a:pt x="1696" y="45"/>
                    </a:lnTo>
                    <a:lnTo>
                      <a:pt x="1696" y="53"/>
                    </a:lnTo>
                    <a:lnTo>
                      <a:pt x="1696" y="59"/>
                    </a:lnTo>
                    <a:lnTo>
                      <a:pt x="1695" y="74"/>
                    </a:lnTo>
                    <a:lnTo>
                      <a:pt x="1695" y="74"/>
                    </a:lnTo>
                    <a:lnTo>
                      <a:pt x="1695" y="703"/>
                    </a:lnTo>
                    <a:lnTo>
                      <a:pt x="1696" y="712"/>
                    </a:lnTo>
                    <a:lnTo>
                      <a:pt x="1696" y="719"/>
                    </a:lnTo>
                    <a:lnTo>
                      <a:pt x="1696" y="727"/>
                    </a:lnTo>
                    <a:lnTo>
                      <a:pt x="1696" y="733"/>
                    </a:lnTo>
                    <a:lnTo>
                      <a:pt x="1696" y="739"/>
                    </a:lnTo>
                    <a:lnTo>
                      <a:pt x="1698" y="746"/>
                    </a:lnTo>
                    <a:lnTo>
                      <a:pt x="1698" y="752"/>
                    </a:lnTo>
                    <a:lnTo>
                      <a:pt x="1699" y="757"/>
                    </a:lnTo>
                    <a:lnTo>
                      <a:pt x="1699" y="762"/>
                    </a:lnTo>
                    <a:lnTo>
                      <a:pt x="1700" y="766"/>
                    </a:lnTo>
                    <a:lnTo>
                      <a:pt x="1700" y="770"/>
                    </a:lnTo>
                    <a:lnTo>
                      <a:pt x="1701" y="774"/>
                    </a:lnTo>
                    <a:lnTo>
                      <a:pt x="1703" y="775"/>
                    </a:lnTo>
                    <a:lnTo>
                      <a:pt x="1703" y="777"/>
                    </a:lnTo>
                    <a:lnTo>
                      <a:pt x="1704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43" y="779"/>
                    </a:lnTo>
                    <a:lnTo>
                      <a:pt x="1744" y="779"/>
                    </a:lnTo>
                    <a:lnTo>
                      <a:pt x="1745" y="777"/>
                    </a:lnTo>
                    <a:lnTo>
                      <a:pt x="1745" y="775"/>
                    </a:lnTo>
                    <a:lnTo>
                      <a:pt x="1746" y="774"/>
                    </a:lnTo>
                    <a:lnTo>
                      <a:pt x="1748" y="770"/>
                    </a:lnTo>
                    <a:lnTo>
                      <a:pt x="1748" y="766"/>
                    </a:lnTo>
                    <a:lnTo>
                      <a:pt x="1749" y="762"/>
                    </a:lnTo>
                    <a:lnTo>
                      <a:pt x="1749" y="757"/>
                    </a:lnTo>
                    <a:lnTo>
                      <a:pt x="1750" y="752"/>
                    </a:lnTo>
                    <a:lnTo>
                      <a:pt x="1750" y="746"/>
                    </a:lnTo>
                    <a:lnTo>
                      <a:pt x="1751" y="739"/>
                    </a:lnTo>
                    <a:lnTo>
                      <a:pt x="1751" y="733"/>
                    </a:lnTo>
                    <a:lnTo>
                      <a:pt x="1751" y="727"/>
                    </a:lnTo>
                    <a:lnTo>
                      <a:pt x="1751" y="719"/>
                    </a:lnTo>
                    <a:lnTo>
                      <a:pt x="1753" y="712"/>
                    </a:lnTo>
                    <a:lnTo>
                      <a:pt x="1753" y="703"/>
                    </a:lnTo>
                    <a:lnTo>
                      <a:pt x="1753" y="703"/>
                    </a:lnTo>
                    <a:close/>
                    <a:moveTo>
                      <a:pt x="2573" y="703"/>
                    </a:moveTo>
                    <a:lnTo>
                      <a:pt x="2573" y="74"/>
                    </a:lnTo>
                    <a:lnTo>
                      <a:pt x="2573" y="59"/>
                    </a:lnTo>
                    <a:lnTo>
                      <a:pt x="2573" y="53"/>
                    </a:lnTo>
                    <a:lnTo>
                      <a:pt x="2573" y="45"/>
                    </a:lnTo>
                    <a:lnTo>
                      <a:pt x="2572" y="39"/>
                    </a:lnTo>
                    <a:lnTo>
                      <a:pt x="2572" y="32"/>
                    </a:lnTo>
                    <a:lnTo>
                      <a:pt x="2572" y="27"/>
                    </a:lnTo>
                    <a:lnTo>
                      <a:pt x="2571" y="21"/>
                    </a:lnTo>
                    <a:lnTo>
                      <a:pt x="2571" y="16"/>
                    </a:lnTo>
                    <a:lnTo>
                      <a:pt x="2570" y="12"/>
                    </a:lnTo>
                    <a:lnTo>
                      <a:pt x="2568" y="8"/>
                    </a:lnTo>
                    <a:lnTo>
                      <a:pt x="2568" y="5"/>
                    </a:lnTo>
                    <a:lnTo>
                      <a:pt x="2567" y="2"/>
                    </a:lnTo>
                    <a:lnTo>
                      <a:pt x="2567" y="1"/>
                    </a:lnTo>
                    <a:lnTo>
                      <a:pt x="2566" y="0"/>
                    </a:lnTo>
                    <a:lnTo>
                      <a:pt x="2565" y="0"/>
                    </a:lnTo>
                    <a:lnTo>
                      <a:pt x="2524" y="0"/>
                    </a:lnTo>
                    <a:lnTo>
                      <a:pt x="2523" y="0"/>
                    </a:lnTo>
                    <a:lnTo>
                      <a:pt x="2522" y="1"/>
                    </a:lnTo>
                    <a:lnTo>
                      <a:pt x="2522" y="2"/>
                    </a:lnTo>
                    <a:lnTo>
                      <a:pt x="2521" y="5"/>
                    </a:lnTo>
                    <a:lnTo>
                      <a:pt x="2521" y="8"/>
                    </a:lnTo>
                    <a:lnTo>
                      <a:pt x="2519" y="12"/>
                    </a:lnTo>
                    <a:lnTo>
                      <a:pt x="2519" y="16"/>
                    </a:lnTo>
                    <a:lnTo>
                      <a:pt x="2519" y="21"/>
                    </a:lnTo>
                    <a:lnTo>
                      <a:pt x="2518" y="27"/>
                    </a:lnTo>
                    <a:lnTo>
                      <a:pt x="2518" y="32"/>
                    </a:lnTo>
                    <a:lnTo>
                      <a:pt x="2518" y="39"/>
                    </a:lnTo>
                    <a:lnTo>
                      <a:pt x="2518" y="45"/>
                    </a:lnTo>
                    <a:lnTo>
                      <a:pt x="2517" y="53"/>
                    </a:lnTo>
                    <a:lnTo>
                      <a:pt x="2517" y="59"/>
                    </a:lnTo>
                    <a:lnTo>
                      <a:pt x="2517" y="74"/>
                    </a:lnTo>
                    <a:lnTo>
                      <a:pt x="2517" y="74"/>
                    </a:lnTo>
                    <a:lnTo>
                      <a:pt x="2517" y="703"/>
                    </a:lnTo>
                    <a:lnTo>
                      <a:pt x="2517" y="712"/>
                    </a:lnTo>
                    <a:lnTo>
                      <a:pt x="2517" y="719"/>
                    </a:lnTo>
                    <a:lnTo>
                      <a:pt x="2517" y="727"/>
                    </a:lnTo>
                    <a:lnTo>
                      <a:pt x="2518" y="733"/>
                    </a:lnTo>
                    <a:lnTo>
                      <a:pt x="2518" y="739"/>
                    </a:lnTo>
                    <a:lnTo>
                      <a:pt x="2518" y="746"/>
                    </a:lnTo>
                    <a:lnTo>
                      <a:pt x="2518" y="752"/>
                    </a:lnTo>
                    <a:lnTo>
                      <a:pt x="2519" y="757"/>
                    </a:lnTo>
                    <a:lnTo>
                      <a:pt x="2519" y="762"/>
                    </a:lnTo>
                    <a:lnTo>
                      <a:pt x="2519" y="766"/>
                    </a:lnTo>
                    <a:lnTo>
                      <a:pt x="2521" y="770"/>
                    </a:lnTo>
                    <a:lnTo>
                      <a:pt x="2521" y="774"/>
                    </a:lnTo>
                    <a:lnTo>
                      <a:pt x="2522" y="775"/>
                    </a:lnTo>
                    <a:lnTo>
                      <a:pt x="2522" y="777"/>
                    </a:lnTo>
                    <a:lnTo>
                      <a:pt x="2523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65" y="779"/>
                    </a:lnTo>
                    <a:lnTo>
                      <a:pt x="2566" y="779"/>
                    </a:lnTo>
                    <a:lnTo>
                      <a:pt x="2567" y="777"/>
                    </a:lnTo>
                    <a:lnTo>
                      <a:pt x="2567" y="775"/>
                    </a:lnTo>
                    <a:lnTo>
                      <a:pt x="2568" y="774"/>
                    </a:lnTo>
                    <a:lnTo>
                      <a:pt x="2568" y="770"/>
                    </a:lnTo>
                    <a:lnTo>
                      <a:pt x="2570" y="766"/>
                    </a:lnTo>
                    <a:lnTo>
                      <a:pt x="2571" y="762"/>
                    </a:lnTo>
                    <a:lnTo>
                      <a:pt x="2571" y="757"/>
                    </a:lnTo>
                    <a:lnTo>
                      <a:pt x="2572" y="752"/>
                    </a:lnTo>
                    <a:lnTo>
                      <a:pt x="2572" y="746"/>
                    </a:lnTo>
                    <a:lnTo>
                      <a:pt x="2572" y="739"/>
                    </a:lnTo>
                    <a:lnTo>
                      <a:pt x="2573" y="733"/>
                    </a:lnTo>
                    <a:lnTo>
                      <a:pt x="2573" y="727"/>
                    </a:lnTo>
                    <a:lnTo>
                      <a:pt x="2573" y="719"/>
                    </a:lnTo>
                    <a:lnTo>
                      <a:pt x="2573" y="712"/>
                    </a:lnTo>
                    <a:lnTo>
                      <a:pt x="2573" y="703"/>
                    </a:lnTo>
                    <a:lnTo>
                      <a:pt x="2573" y="703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2886120" y="388584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5" y="0"/>
                    </a:lnTo>
                    <a:lnTo>
                      <a:pt x="64" y="1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6" y="3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6" y="52"/>
                    </a:lnTo>
                    <a:lnTo>
                      <a:pt x="10" y="53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7" y="56"/>
                    </a:lnTo>
                    <a:lnTo>
                      <a:pt x="36" y="56"/>
                    </a:lnTo>
                    <a:lnTo>
                      <a:pt x="45" y="57"/>
                    </a:lnTo>
                    <a:lnTo>
                      <a:pt x="54" y="57"/>
                    </a:lnTo>
                    <a:lnTo>
                      <a:pt x="64" y="58"/>
                    </a:lnTo>
                    <a:lnTo>
                      <a:pt x="75" y="58"/>
                    </a:lnTo>
                    <a:lnTo>
                      <a:pt x="86" y="58"/>
                    </a:lnTo>
                    <a:lnTo>
                      <a:pt x="98" y="58"/>
                    </a:lnTo>
                    <a:lnTo>
                      <a:pt x="110" y="58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58"/>
                    </a:lnTo>
                    <a:lnTo>
                      <a:pt x="1164" y="58"/>
                    </a:lnTo>
                    <a:lnTo>
                      <a:pt x="1175" y="58"/>
                    </a:lnTo>
                    <a:lnTo>
                      <a:pt x="1186" y="58"/>
                    </a:lnTo>
                    <a:lnTo>
                      <a:pt x="1198" y="58"/>
                    </a:lnTo>
                    <a:lnTo>
                      <a:pt x="1208" y="57"/>
                    </a:lnTo>
                    <a:lnTo>
                      <a:pt x="1216" y="57"/>
                    </a:lnTo>
                    <a:lnTo>
                      <a:pt x="1225" y="56"/>
                    </a:lnTo>
                    <a:lnTo>
                      <a:pt x="1233" y="56"/>
                    </a:lnTo>
                    <a:lnTo>
                      <a:pt x="1240" y="54"/>
                    </a:lnTo>
                    <a:lnTo>
                      <a:pt x="1246" y="54"/>
                    </a:lnTo>
                    <a:lnTo>
                      <a:pt x="1251" y="53"/>
                    </a:lnTo>
                    <a:lnTo>
                      <a:pt x="1255" y="52"/>
                    </a:lnTo>
                    <a:lnTo>
                      <a:pt x="1259" y="52"/>
                    </a:lnTo>
                    <a:lnTo>
                      <a:pt x="1260" y="51"/>
                    </a:lnTo>
                    <a:lnTo>
                      <a:pt x="1260" y="51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9"/>
                    </a:lnTo>
                    <a:lnTo>
                      <a:pt x="1260" y="8"/>
                    </a:lnTo>
                    <a:lnTo>
                      <a:pt x="1260" y="8"/>
                    </a:lnTo>
                    <a:lnTo>
                      <a:pt x="1259" y="7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6" y="5"/>
                    </a:lnTo>
                    <a:lnTo>
                      <a:pt x="1240" y="4"/>
                    </a:lnTo>
                    <a:lnTo>
                      <a:pt x="1233" y="3"/>
                    </a:lnTo>
                    <a:lnTo>
                      <a:pt x="1225" y="3"/>
                    </a:lnTo>
                    <a:lnTo>
                      <a:pt x="1216" y="1"/>
                    </a:lnTo>
                    <a:lnTo>
                      <a:pt x="1208" y="1"/>
                    </a:lnTo>
                    <a:lnTo>
                      <a:pt x="1198" y="1"/>
                    </a:lnTo>
                    <a:lnTo>
                      <a:pt x="1186" y="0"/>
                    </a:lnTo>
                    <a:lnTo>
                      <a:pt x="1175" y="0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1" name=""/>
              <p:cNvSpPr/>
              <p:nvPr/>
            </p:nvSpPr>
            <p:spPr>
              <a:xfrm>
                <a:off x="2886120" y="405432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2"/>
                    </a:lnTo>
                    <a:lnTo>
                      <a:pt x="86" y="2"/>
                    </a:lnTo>
                    <a:lnTo>
                      <a:pt x="75" y="2"/>
                    </a:lnTo>
                    <a:lnTo>
                      <a:pt x="64" y="2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10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21" y="56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9"/>
                    </a:lnTo>
                    <a:lnTo>
                      <a:pt x="54" y="59"/>
                    </a:lnTo>
                    <a:lnTo>
                      <a:pt x="64" y="59"/>
                    </a:lnTo>
                    <a:lnTo>
                      <a:pt x="75" y="60"/>
                    </a:lnTo>
                    <a:lnTo>
                      <a:pt x="86" y="60"/>
                    </a:lnTo>
                    <a:lnTo>
                      <a:pt x="98" y="60"/>
                    </a:lnTo>
                    <a:lnTo>
                      <a:pt x="110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60"/>
                    </a:lnTo>
                    <a:lnTo>
                      <a:pt x="1164" y="60"/>
                    </a:lnTo>
                    <a:lnTo>
                      <a:pt x="1175" y="60"/>
                    </a:lnTo>
                    <a:lnTo>
                      <a:pt x="1186" y="60"/>
                    </a:lnTo>
                    <a:lnTo>
                      <a:pt x="1198" y="59"/>
                    </a:lnTo>
                    <a:lnTo>
                      <a:pt x="1208" y="59"/>
                    </a:lnTo>
                    <a:lnTo>
                      <a:pt x="1216" y="59"/>
                    </a:lnTo>
                    <a:lnTo>
                      <a:pt x="1225" y="57"/>
                    </a:lnTo>
                    <a:lnTo>
                      <a:pt x="1233" y="57"/>
                    </a:lnTo>
                    <a:lnTo>
                      <a:pt x="1240" y="56"/>
                    </a:lnTo>
                    <a:lnTo>
                      <a:pt x="1246" y="55"/>
                    </a:lnTo>
                    <a:lnTo>
                      <a:pt x="1251" y="55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11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7"/>
                    </a:lnTo>
                    <a:lnTo>
                      <a:pt x="1246" y="6"/>
                    </a:lnTo>
                    <a:lnTo>
                      <a:pt x="1240" y="6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2"/>
                    </a:lnTo>
                    <a:lnTo>
                      <a:pt x="1186" y="2"/>
                    </a:lnTo>
                    <a:lnTo>
                      <a:pt x="1175" y="2"/>
                    </a:lnTo>
                    <a:lnTo>
                      <a:pt x="1164" y="2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2" name=""/>
              <p:cNvSpPr/>
              <p:nvPr/>
            </p:nvSpPr>
            <p:spPr>
              <a:xfrm>
                <a:off x="2886120" y="4224600"/>
                <a:ext cx="857880" cy="33120"/>
              </a:xfrm>
              <a:custGeom>
                <a:avLst/>
                <a:gdLst/>
                <a:ahLst/>
                <a:rect l="l" t="t" r="r" b="b"/>
                <a:pathLst>
                  <a:path w="1261" h="59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1"/>
                    </a:lnTo>
                    <a:lnTo>
                      <a:pt x="75" y="1"/>
                    </a:lnTo>
                    <a:lnTo>
                      <a:pt x="64" y="1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5"/>
                    </a:lnTo>
                    <a:lnTo>
                      <a:pt x="15" y="5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4"/>
                    </a:lnTo>
                    <a:lnTo>
                      <a:pt x="15" y="54"/>
                    </a:lnTo>
                    <a:lnTo>
                      <a:pt x="21" y="56"/>
                    </a:lnTo>
                    <a:lnTo>
                      <a:pt x="27" y="56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8"/>
                    </a:lnTo>
                    <a:lnTo>
                      <a:pt x="64" y="58"/>
                    </a:lnTo>
                    <a:lnTo>
                      <a:pt x="75" y="59"/>
                    </a:lnTo>
                    <a:lnTo>
                      <a:pt x="86" y="59"/>
                    </a:lnTo>
                    <a:lnTo>
                      <a:pt x="98" y="59"/>
                    </a:lnTo>
                    <a:lnTo>
                      <a:pt x="110" y="59"/>
                    </a:lnTo>
                    <a:lnTo>
                      <a:pt x="123" y="59"/>
                    </a:lnTo>
                    <a:lnTo>
                      <a:pt x="123" y="59"/>
                    </a:lnTo>
                    <a:lnTo>
                      <a:pt x="1139" y="59"/>
                    </a:lnTo>
                    <a:lnTo>
                      <a:pt x="1151" y="59"/>
                    </a:lnTo>
                    <a:lnTo>
                      <a:pt x="1164" y="59"/>
                    </a:lnTo>
                    <a:lnTo>
                      <a:pt x="1175" y="59"/>
                    </a:lnTo>
                    <a:lnTo>
                      <a:pt x="1186" y="59"/>
                    </a:lnTo>
                    <a:lnTo>
                      <a:pt x="1198" y="58"/>
                    </a:lnTo>
                    <a:lnTo>
                      <a:pt x="1208" y="58"/>
                    </a:lnTo>
                    <a:lnTo>
                      <a:pt x="1216" y="57"/>
                    </a:lnTo>
                    <a:lnTo>
                      <a:pt x="1225" y="57"/>
                    </a:lnTo>
                    <a:lnTo>
                      <a:pt x="1233" y="56"/>
                    </a:lnTo>
                    <a:lnTo>
                      <a:pt x="1240" y="56"/>
                    </a:lnTo>
                    <a:lnTo>
                      <a:pt x="1246" y="54"/>
                    </a:lnTo>
                    <a:lnTo>
                      <a:pt x="1251" y="54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10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6"/>
                    </a:lnTo>
                    <a:lnTo>
                      <a:pt x="1246" y="5"/>
                    </a:lnTo>
                    <a:lnTo>
                      <a:pt x="1240" y="5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1"/>
                    </a:lnTo>
                    <a:lnTo>
                      <a:pt x="1186" y="1"/>
                    </a:lnTo>
                    <a:lnTo>
                      <a:pt x="1175" y="1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3" name=""/>
              <p:cNvSpPr/>
              <p:nvPr/>
            </p:nvSpPr>
            <p:spPr>
              <a:xfrm>
                <a:off x="4039200" y="3865320"/>
                <a:ext cx="38160" cy="432360"/>
              </a:xfrm>
              <a:custGeom>
                <a:avLst/>
                <a:gdLst/>
                <a:ahLst/>
                <a:rect l="l" t="t" r="r" b="b"/>
                <a:pathLst>
                  <a:path w="58" h="779">
                    <a:moveTo>
                      <a:pt x="58" y="703"/>
                    </a:moveTo>
                    <a:lnTo>
                      <a:pt x="58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6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4" y="21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1" y="712"/>
                    </a:lnTo>
                    <a:lnTo>
                      <a:pt x="1" y="719"/>
                    </a:lnTo>
                    <a:lnTo>
                      <a:pt x="1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3" y="746"/>
                    </a:lnTo>
                    <a:lnTo>
                      <a:pt x="3" y="752"/>
                    </a:lnTo>
                    <a:lnTo>
                      <a:pt x="4" y="757"/>
                    </a:lnTo>
                    <a:lnTo>
                      <a:pt x="4" y="762"/>
                    </a:lnTo>
                    <a:lnTo>
                      <a:pt x="5" y="766"/>
                    </a:lnTo>
                    <a:lnTo>
                      <a:pt x="5" y="770"/>
                    </a:lnTo>
                    <a:lnTo>
                      <a:pt x="6" y="774"/>
                    </a:lnTo>
                    <a:lnTo>
                      <a:pt x="8" y="775"/>
                    </a:lnTo>
                    <a:lnTo>
                      <a:pt x="8" y="777"/>
                    </a:lnTo>
                    <a:lnTo>
                      <a:pt x="9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3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6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8" y="712"/>
                    </a:lnTo>
                    <a:lnTo>
                      <a:pt x="58" y="703"/>
                    </a:lnTo>
                    <a:lnTo>
                      <a:pt x="58" y="70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4" name=""/>
              <p:cNvSpPr/>
              <p:nvPr/>
            </p:nvSpPr>
            <p:spPr>
              <a:xfrm>
                <a:off x="4597200" y="3865320"/>
                <a:ext cx="39240" cy="432360"/>
              </a:xfrm>
              <a:custGeom>
                <a:avLst/>
                <a:gdLst/>
                <a:ahLst/>
                <a:rect l="l" t="t" r="r" b="b"/>
                <a:pathLst>
                  <a:path w="56" h="779">
                    <a:moveTo>
                      <a:pt x="56" y="703"/>
                    </a:moveTo>
                    <a:lnTo>
                      <a:pt x="56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5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0" y="712"/>
                    </a:lnTo>
                    <a:lnTo>
                      <a:pt x="0" y="719"/>
                    </a:lnTo>
                    <a:lnTo>
                      <a:pt x="0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1" y="746"/>
                    </a:lnTo>
                    <a:lnTo>
                      <a:pt x="1" y="752"/>
                    </a:lnTo>
                    <a:lnTo>
                      <a:pt x="2" y="757"/>
                    </a:lnTo>
                    <a:lnTo>
                      <a:pt x="2" y="762"/>
                    </a:lnTo>
                    <a:lnTo>
                      <a:pt x="2" y="766"/>
                    </a:lnTo>
                    <a:lnTo>
                      <a:pt x="4" y="770"/>
                    </a:lnTo>
                    <a:lnTo>
                      <a:pt x="4" y="774"/>
                    </a:lnTo>
                    <a:lnTo>
                      <a:pt x="5" y="775"/>
                    </a:lnTo>
                    <a:lnTo>
                      <a:pt x="5" y="777"/>
                    </a:lnTo>
                    <a:lnTo>
                      <a:pt x="6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1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5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6" y="712"/>
                    </a:lnTo>
                    <a:lnTo>
                      <a:pt x="56" y="703"/>
                    </a:lnTo>
                    <a:lnTo>
                      <a:pt x="56" y="70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5" name=""/>
              <p:cNvSpPr/>
              <p:nvPr/>
            </p:nvSpPr>
            <p:spPr>
              <a:xfrm>
                <a:off x="3024360" y="3990240"/>
                <a:ext cx="99000" cy="18720"/>
              </a:xfrm>
              <a:custGeom>
                <a:avLst/>
                <a:gdLst/>
                <a:ahLst/>
                <a:rect l="l" t="t" r="r" b="b"/>
                <a:pathLst>
                  <a:path w="145" h="35">
                    <a:moveTo>
                      <a:pt x="36" y="35"/>
                    </a:moveTo>
                    <a:lnTo>
                      <a:pt x="109" y="35"/>
                    </a:lnTo>
                    <a:lnTo>
                      <a:pt x="109" y="35"/>
                    </a:lnTo>
                    <a:lnTo>
                      <a:pt x="110" y="35"/>
                    </a:lnTo>
                    <a:lnTo>
                      <a:pt x="112" y="35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20" y="34"/>
                    </a:lnTo>
                    <a:lnTo>
                      <a:pt x="123" y="33"/>
                    </a:lnTo>
                    <a:lnTo>
                      <a:pt x="127" y="32"/>
                    </a:lnTo>
                    <a:lnTo>
                      <a:pt x="130" y="29"/>
                    </a:lnTo>
                    <a:lnTo>
                      <a:pt x="133" y="27"/>
                    </a:lnTo>
                    <a:lnTo>
                      <a:pt x="137" y="24"/>
                    </a:lnTo>
                    <a:lnTo>
                      <a:pt x="139" y="20"/>
                    </a:lnTo>
                    <a:lnTo>
                      <a:pt x="142" y="16"/>
                    </a:lnTo>
                    <a:lnTo>
                      <a:pt x="143" y="11"/>
                    </a:lnTo>
                    <a:lnTo>
                      <a:pt x="144" y="6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4" y="16"/>
                    </a:lnTo>
                    <a:lnTo>
                      <a:pt x="5" y="20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3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6" name=""/>
              <p:cNvSpPr/>
              <p:nvPr/>
            </p:nvSpPr>
            <p:spPr>
              <a:xfrm>
                <a:off x="3024360" y="4151160"/>
                <a:ext cx="99000" cy="2088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36" y="36"/>
                    </a:moveTo>
                    <a:lnTo>
                      <a:pt x="109" y="36"/>
                    </a:lnTo>
                    <a:lnTo>
                      <a:pt x="109" y="36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7" y="36"/>
                    </a:lnTo>
                    <a:lnTo>
                      <a:pt x="120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7" y="36"/>
                    </a:lnTo>
                    <a:lnTo>
                      <a:pt x="139" y="36"/>
                    </a:lnTo>
                    <a:lnTo>
                      <a:pt x="142" y="36"/>
                    </a:lnTo>
                    <a:lnTo>
                      <a:pt x="143" y="36"/>
                    </a:lnTo>
                    <a:lnTo>
                      <a:pt x="144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4" y="29"/>
                    </a:lnTo>
                    <a:lnTo>
                      <a:pt x="143" y="24"/>
                    </a:lnTo>
                    <a:lnTo>
                      <a:pt x="142" y="19"/>
                    </a:lnTo>
                    <a:lnTo>
                      <a:pt x="139" y="15"/>
                    </a:lnTo>
                    <a:lnTo>
                      <a:pt x="137" y="11"/>
                    </a:lnTo>
                    <a:lnTo>
                      <a:pt x="133" y="9"/>
                    </a:lnTo>
                    <a:lnTo>
                      <a:pt x="130" y="6"/>
                    </a:lnTo>
                    <a:lnTo>
                      <a:pt x="127" y="3"/>
                    </a:lnTo>
                    <a:lnTo>
                      <a:pt x="123" y="2"/>
                    </a:lnTo>
                    <a:lnTo>
                      <a:pt x="120" y="1"/>
                    </a:lnTo>
                    <a:lnTo>
                      <a:pt x="117" y="1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5" y="15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7" name=""/>
              <p:cNvSpPr/>
              <p:nvPr/>
            </p:nvSpPr>
            <p:spPr>
              <a:xfrm>
                <a:off x="3000600" y="3969000"/>
                <a:ext cx="23760" cy="201600"/>
              </a:xfrm>
              <a:prstGeom prst="rect">
                <a:avLst/>
              </a:prstGeom>
              <a:solidFill>
                <a:srgbClr val="c6c6c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8" name=""/>
              <p:cNvSpPr/>
              <p:nvPr/>
            </p:nvSpPr>
            <p:spPr>
              <a:xfrm>
                <a:off x="3024360" y="3969000"/>
                <a:ext cx="23760" cy="201600"/>
              </a:xfrm>
              <a:prstGeom prst="rect">
                <a:avLst/>
              </a:prstGeom>
              <a:solidFill>
                <a:srgbClr val="dadada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9" name=""/>
              <p:cNvSpPr/>
              <p:nvPr/>
            </p:nvSpPr>
            <p:spPr>
              <a:xfrm>
                <a:off x="3048480" y="3969000"/>
                <a:ext cx="25200" cy="201600"/>
              </a:xfrm>
              <a:prstGeom prst="rect">
                <a:avLst/>
              </a:prstGeom>
              <a:solidFill>
                <a:srgbClr val="c1c1c1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0" name=""/>
              <p:cNvSpPr/>
              <p:nvPr/>
            </p:nvSpPr>
            <p:spPr>
              <a:xfrm>
                <a:off x="3073680" y="3969000"/>
                <a:ext cx="26280" cy="201600"/>
              </a:xfrm>
              <a:prstGeom prst="rect">
                <a:avLst/>
              </a:prstGeom>
              <a:solidFill>
                <a:srgbClr val="c0c0c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1" name=""/>
              <p:cNvSpPr/>
              <p:nvPr/>
            </p:nvSpPr>
            <p:spPr>
              <a:xfrm>
                <a:off x="3023280" y="3974040"/>
                <a:ext cx="77400" cy="2448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17" y="46"/>
                    </a:move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3" y="37"/>
                    </a:lnTo>
                    <a:lnTo>
                      <a:pt x="115" y="34"/>
                    </a:lnTo>
                    <a:lnTo>
                      <a:pt x="116" y="31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18"/>
                    </a:lnTo>
                    <a:lnTo>
                      <a:pt x="116" y="15"/>
                    </a:lnTo>
                    <a:lnTo>
                      <a:pt x="115" y="12"/>
                    </a:lnTo>
                    <a:lnTo>
                      <a:pt x="113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7" y="46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2" name=""/>
              <p:cNvSpPr/>
              <p:nvPr/>
            </p:nvSpPr>
            <p:spPr>
              <a:xfrm>
                <a:off x="3023280" y="4143600"/>
                <a:ext cx="77400" cy="2520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7" y="45"/>
                    </a:moveTo>
                    <a:lnTo>
                      <a:pt x="101" y="45"/>
                    </a:lnTo>
                    <a:lnTo>
                      <a:pt x="103" y="45"/>
                    </a:lnTo>
                    <a:lnTo>
                      <a:pt x="107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6" y="30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5" y="11"/>
                    </a:lnTo>
                    <a:lnTo>
                      <a:pt x="113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4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3" name=""/>
              <p:cNvSpPr/>
              <p:nvPr/>
            </p:nvSpPr>
            <p:spPr>
              <a:xfrm>
                <a:off x="3467880" y="3990240"/>
                <a:ext cx="74160" cy="1872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0" y="35"/>
                    </a:moveTo>
                    <a:lnTo>
                      <a:pt x="72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0" y="34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5" y="29"/>
                    </a:lnTo>
                    <a:lnTo>
                      <a:pt x="106" y="27"/>
                    </a:lnTo>
                    <a:lnTo>
                      <a:pt x="107" y="24"/>
                    </a:lnTo>
                    <a:lnTo>
                      <a:pt x="107" y="20"/>
                    </a:lnTo>
                    <a:lnTo>
                      <a:pt x="109" y="16"/>
                    </a:lnTo>
                    <a:lnTo>
                      <a:pt x="109" y="11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4" name=""/>
              <p:cNvSpPr/>
              <p:nvPr/>
            </p:nvSpPr>
            <p:spPr>
              <a:xfrm>
                <a:off x="3467880" y="4151160"/>
                <a:ext cx="74160" cy="2088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0" y="36"/>
                    </a:moveTo>
                    <a:lnTo>
                      <a:pt x="72" y="36"/>
                    </a:lnTo>
                    <a:lnTo>
                      <a:pt x="78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94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29"/>
                    </a:lnTo>
                    <a:lnTo>
                      <a:pt x="109" y="24"/>
                    </a:lnTo>
                    <a:lnTo>
                      <a:pt x="109" y="19"/>
                    </a:lnTo>
                    <a:lnTo>
                      <a:pt x="107" y="15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6"/>
                    </a:lnTo>
                    <a:lnTo>
                      <a:pt x="104" y="3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7" y="1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5" name=""/>
              <p:cNvSpPr/>
              <p:nvPr/>
            </p:nvSpPr>
            <p:spPr>
              <a:xfrm>
                <a:off x="3444120" y="3969000"/>
                <a:ext cx="23760" cy="201600"/>
              </a:xfrm>
              <a:prstGeom prst="rect">
                <a:avLst/>
              </a:prstGeom>
              <a:solidFill>
                <a:srgbClr val="d8d8d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6" name=""/>
              <p:cNvSpPr/>
              <p:nvPr/>
            </p:nvSpPr>
            <p:spPr>
              <a:xfrm>
                <a:off x="3467880" y="3969000"/>
                <a:ext cx="25200" cy="201600"/>
              </a:xfrm>
              <a:prstGeom prst="rect">
                <a:avLst/>
              </a:prstGeom>
              <a:solidFill>
                <a:srgbClr val="c8c8c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7" name=""/>
              <p:cNvSpPr/>
              <p:nvPr/>
            </p:nvSpPr>
            <p:spPr>
              <a:xfrm>
                <a:off x="3493080" y="3969000"/>
                <a:ext cx="23760" cy="201600"/>
              </a:xfrm>
              <a:prstGeom prst="rect">
                <a:avLst/>
              </a:prstGeom>
              <a:solidFill>
                <a:srgbClr val="b8b8b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8" name=""/>
              <p:cNvSpPr/>
              <p:nvPr/>
            </p:nvSpPr>
            <p:spPr>
              <a:xfrm>
                <a:off x="3516840" y="3969000"/>
                <a:ext cx="25200" cy="201600"/>
              </a:xfrm>
              <a:prstGeom prst="rect">
                <a:avLst/>
              </a:prstGeom>
              <a:solidFill>
                <a:srgbClr val="d3d3d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3447720" y="3974040"/>
                <a:ext cx="79920" cy="2448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7" y="46"/>
                    </a:moveTo>
                    <a:lnTo>
                      <a:pt x="99" y="46"/>
                    </a:lnTo>
                    <a:lnTo>
                      <a:pt x="102" y="46"/>
                    </a:lnTo>
                    <a:lnTo>
                      <a:pt x="106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4" y="37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8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6" y="2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2" y="37"/>
                    </a:lnTo>
                    <a:lnTo>
                      <a:pt x="5" y="41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7" y="46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3447720" y="4143600"/>
                <a:ext cx="79920" cy="25200"/>
              </a:xfrm>
              <a:custGeom>
                <a:avLst/>
                <a:gdLst/>
                <a:ahLst/>
                <a:rect l="l" t="t" r="r" b="b"/>
                <a:pathLst>
                  <a:path w="117" h="45">
                    <a:moveTo>
                      <a:pt x="17" y="45"/>
                    </a:moveTo>
                    <a:lnTo>
                      <a:pt x="99" y="45"/>
                    </a:lnTo>
                    <a:lnTo>
                      <a:pt x="102" y="45"/>
                    </a:lnTo>
                    <a:lnTo>
                      <a:pt x="106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6" y="34"/>
                    </a:lnTo>
                    <a:lnTo>
                      <a:pt x="116" y="30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6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39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7" y="45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1" name=""/>
              <p:cNvSpPr/>
              <p:nvPr/>
            </p:nvSpPr>
            <p:spPr>
              <a:xfrm>
                <a:off x="2566800" y="3886560"/>
                <a:ext cx="205560" cy="336960"/>
              </a:xfrm>
              <a:custGeom>
                <a:avLst/>
                <a:gdLst/>
                <a:ahLst/>
                <a:rect l="l" t="t" r="r" b="b"/>
                <a:pathLst>
                  <a:path w="302" h="608">
                    <a:moveTo>
                      <a:pt x="70" y="340"/>
                    </a:moveTo>
                    <a:lnTo>
                      <a:pt x="70" y="338"/>
                    </a:lnTo>
                    <a:lnTo>
                      <a:pt x="70" y="334"/>
                    </a:lnTo>
                    <a:lnTo>
                      <a:pt x="69" y="330"/>
                    </a:lnTo>
                    <a:lnTo>
                      <a:pt x="68" y="327"/>
                    </a:lnTo>
                    <a:lnTo>
                      <a:pt x="65" y="321"/>
                    </a:lnTo>
                    <a:lnTo>
                      <a:pt x="60" y="316"/>
                    </a:lnTo>
                    <a:lnTo>
                      <a:pt x="55" y="312"/>
                    </a:lnTo>
                    <a:lnTo>
                      <a:pt x="50" y="309"/>
                    </a:lnTo>
                    <a:lnTo>
                      <a:pt x="47" y="309"/>
                    </a:lnTo>
                    <a:lnTo>
                      <a:pt x="44" y="307"/>
                    </a:lnTo>
                    <a:lnTo>
                      <a:pt x="40" y="306"/>
                    </a:lnTo>
                    <a:lnTo>
                      <a:pt x="37" y="306"/>
                    </a:lnTo>
                    <a:lnTo>
                      <a:pt x="33" y="306"/>
                    </a:lnTo>
                    <a:lnTo>
                      <a:pt x="29" y="307"/>
                    </a:lnTo>
                    <a:lnTo>
                      <a:pt x="26" y="309"/>
                    </a:lnTo>
                    <a:lnTo>
                      <a:pt x="23" y="309"/>
                    </a:lnTo>
                    <a:lnTo>
                      <a:pt x="16" y="312"/>
                    </a:lnTo>
                    <a:lnTo>
                      <a:pt x="11" y="316"/>
                    </a:lnTo>
                    <a:lnTo>
                      <a:pt x="6" y="321"/>
                    </a:lnTo>
                    <a:lnTo>
                      <a:pt x="4" y="327"/>
                    </a:lnTo>
                    <a:lnTo>
                      <a:pt x="3" y="330"/>
                    </a:lnTo>
                    <a:lnTo>
                      <a:pt x="1" y="334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4"/>
                    </a:lnTo>
                    <a:lnTo>
                      <a:pt x="1" y="348"/>
                    </a:lnTo>
                    <a:lnTo>
                      <a:pt x="3" y="351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11" y="367"/>
                    </a:lnTo>
                    <a:lnTo>
                      <a:pt x="16" y="370"/>
                    </a:lnTo>
                    <a:lnTo>
                      <a:pt x="23" y="374"/>
                    </a:lnTo>
                    <a:lnTo>
                      <a:pt x="26" y="375"/>
                    </a:lnTo>
                    <a:lnTo>
                      <a:pt x="29" y="377"/>
                    </a:lnTo>
                    <a:lnTo>
                      <a:pt x="33" y="377"/>
                    </a:lnTo>
                    <a:lnTo>
                      <a:pt x="37" y="377"/>
                    </a:lnTo>
                    <a:lnTo>
                      <a:pt x="40" y="377"/>
                    </a:lnTo>
                    <a:lnTo>
                      <a:pt x="44" y="377"/>
                    </a:lnTo>
                    <a:lnTo>
                      <a:pt x="47" y="375"/>
                    </a:lnTo>
                    <a:lnTo>
                      <a:pt x="50" y="374"/>
                    </a:lnTo>
                    <a:lnTo>
                      <a:pt x="55" y="370"/>
                    </a:lnTo>
                    <a:lnTo>
                      <a:pt x="60" y="367"/>
                    </a:lnTo>
                    <a:lnTo>
                      <a:pt x="65" y="362"/>
                    </a:lnTo>
                    <a:lnTo>
                      <a:pt x="68" y="355"/>
                    </a:lnTo>
                    <a:lnTo>
                      <a:pt x="69" y="351"/>
                    </a:lnTo>
                    <a:lnTo>
                      <a:pt x="70" y="348"/>
                    </a:lnTo>
                    <a:lnTo>
                      <a:pt x="70" y="344"/>
                    </a:lnTo>
                    <a:lnTo>
                      <a:pt x="70" y="340"/>
                    </a:lnTo>
                    <a:lnTo>
                      <a:pt x="70" y="340"/>
                    </a:lnTo>
                    <a:close/>
                    <a:moveTo>
                      <a:pt x="302" y="37"/>
                    </a:moveTo>
                    <a:lnTo>
                      <a:pt x="301" y="33"/>
                    </a:lnTo>
                    <a:lnTo>
                      <a:pt x="301" y="29"/>
                    </a:lnTo>
                    <a:lnTo>
                      <a:pt x="300" y="27"/>
                    </a:lnTo>
                    <a:lnTo>
                      <a:pt x="298" y="23"/>
                    </a:lnTo>
                    <a:lnTo>
                      <a:pt x="296" y="17"/>
                    </a:lnTo>
                    <a:lnTo>
                      <a:pt x="291" y="12"/>
                    </a:lnTo>
                    <a:lnTo>
                      <a:pt x="286" y="7"/>
                    </a:lnTo>
                    <a:lnTo>
                      <a:pt x="281" y="4"/>
                    </a:lnTo>
                    <a:lnTo>
                      <a:pt x="277" y="3"/>
                    </a:lnTo>
                    <a:lnTo>
                      <a:pt x="275" y="2"/>
                    </a:lnTo>
                    <a:lnTo>
                      <a:pt x="271" y="2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1" y="2"/>
                    </a:lnTo>
                    <a:lnTo>
                      <a:pt x="258" y="3"/>
                    </a:lnTo>
                    <a:lnTo>
                      <a:pt x="255" y="4"/>
                    </a:lnTo>
                    <a:lnTo>
                      <a:pt x="250" y="7"/>
                    </a:lnTo>
                    <a:lnTo>
                      <a:pt x="244" y="12"/>
                    </a:lnTo>
                    <a:lnTo>
                      <a:pt x="239" y="17"/>
                    </a:lnTo>
                    <a:lnTo>
                      <a:pt x="237" y="23"/>
                    </a:lnTo>
                    <a:lnTo>
                      <a:pt x="236" y="27"/>
                    </a:lnTo>
                    <a:lnTo>
                      <a:pt x="234" y="29"/>
                    </a:lnTo>
                    <a:lnTo>
                      <a:pt x="234" y="33"/>
                    </a:lnTo>
                    <a:lnTo>
                      <a:pt x="233" y="37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6" y="47"/>
                    </a:lnTo>
                    <a:lnTo>
                      <a:pt x="237" y="51"/>
                    </a:lnTo>
                    <a:lnTo>
                      <a:pt x="239" y="56"/>
                    </a:lnTo>
                    <a:lnTo>
                      <a:pt x="244" y="61"/>
                    </a:lnTo>
                    <a:lnTo>
                      <a:pt x="250" y="66"/>
                    </a:lnTo>
                    <a:lnTo>
                      <a:pt x="255" y="69"/>
                    </a:lnTo>
                    <a:lnTo>
                      <a:pt x="258" y="70"/>
                    </a:lnTo>
                    <a:lnTo>
                      <a:pt x="261" y="71"/>
                    </a:lnTo>
                    <a:lnTo>
                      <a:pt x="265" y="71"/>
                    </a:lnTo>
                    <a:lnTo>
                      <a:pt x="267" y="71"/>
                    </a:lnTo>
                    <a:lnTo>
                      <a:pt x="271" y="71"/>
                    </a:lnTo>
                    <a:lnTo>
                      <a:pt x="275" y="71"/>
                    </a:lnTo>
                    <a:lnTo>
                      <a:pt x="277" y="70"/>
                    </a:lnTo>
                    <a:lnTo>
                      <a:pt x="281" y="69"/>
                    </a:lnTo>
                    <a:lnTo>
                      <a:pt x="286" y="66"/>
                    </a:lnTo>
                    <a:lnTo>
                      <a:pt x="291" y="61"/>
                    </a:lnTo>
                    <a:lnTo>
                      <a:pt x="296" y="56"/>
                    </a:lnTo>
                    <a:lnTo>
                      <a:pt x="298" y="51"/>
                    </a:lnTo>
                    <a:lnTo>
                      <a:pt x="300" y="47"/>
                    </a:lnTo>
                    <a:lnTo>
                      <a:pt x="301" y="45"/>
                    </a:lnTo>
                    <a:lnTo>
                      <a:pt x="301" y="41"/>
                    </a:lnTo>
                    <a:lnTo>
                      <a:pt x="302" y="37"/>
                    </a:lnTo>
                    <a:lnTo>
                      <a:pt x="302" y="37"/>
                    </a:lnTo>
                    <a:close/>
                    <a:moveTo>
                      <a:pt x="302" y="572"/>
                    </a:moveTo>
                    <a:lnTo>
                      <a:pt x="301" y="569"/>
                    </a:lnTo>
                    <a:lnTo>
                      <a:pt x="301" y="566"/>
                    </a:lnTo>
                    <a:lnTo>
                      <a:pt x="300" y="562"/>
                    </a:lnTo>
                    <a:lnTo>
                      <a:pt x="298" y="558"/>
                    </a:lnTo>
                    <a:lnTo>
                      <a:pt x="296" y="552"/>
                    </a:lnTo>
                    <a:lnTo>
                      <a:pt x="291" y="547"/>
                    </a:lnTo>
                    <a:lnTo>
                      <a:pt x="286" y="542"/>
                    </a:lnTo>
                    <a:lnTo>
                      <a:pt x="281" y="540"/>
                    </a:lnTo>
                    <a:lnTo>
                      <a:pt x="277" y="538"/>
                    </a:lnTo>
                    <a:lnTo>
                      <a:pt x="275" y="537"/>
                    </a:lnTo>
                    <a:lnTo>
                      <a:pt x="271" y="537"/>
                    </a:lnTo>
                    <a:lnTo>
                      <a:pt x="267" y="537"/>
                    </a:lnTo>
                    <a:lnTo>
                      <a:pt x="265" y="537"/>
                    </a:lnTo>
                    <a:lnTo>
                      <a:pt x="261" y="537"/>
                    </a:lnTo>
                    <a:lnTo>
                      <a:pt x="258" y="538"/>
                    </a:lnTo>
                    <a:lnTo>
                      <a:pt x="255" y="540"/>
                    </a:lnTo>
                    <a:lnTo>
                      <a:pt x="250" y="542"/>
                    </a:lnTo>
                    <a:lnTo>
                      <a:pt x="244" y="547"/>
                    </a:lnTo>
                    <a:lnTo>
                      <a:pt x="239" y="552"/>
                    </a:lnTo>
                    <a:lnTo>
                      <a:pt x="237" y="558"/>
                    </a:lnTo>
                    <a:lnTo>
                      <a:pt x="236" y="562"/>
                    </a:lnTo>
                    <a:lnTo>
                      <a:pt x="234" y="566"/>
                    </a:lnTo>
                    <a:lnTo>
                      <a:pt x="234" y="569"/>
                    </a:lnTo>
                    <a:lnTo>
                      <a:pt x="233" y="572"/>
                    </a:lnTo>
                    <a:lnTo>
                      <a:pt x="234" y="576"/>
                    </a:lnTo>
                    <a:lnTo>
                      <a:pt x="234" y="580"/>
                    </a:lnTo>
                    <a:lnTo>
                      <a:pt x="236" y="582"/>
                    </a:lnTo>
                    <a:lnTo>
                      <a:pt x="237" y="586"/>
                    </a:lnTo>
                    <a:lnTo>
                      <a:pt x="239" y="591"/>
                    </a:lnTo>
                    <a:lnTo>
                      <a:pt x="244" y="596"/>
                    </a:lnTo>
                    <a:lnTo>
                      <a:pt x="250" y="601"/>
                    </a:lnTo>
                    <a:lnTo>
                      <a:pt x="255" y="604"/>
                    </a:lnTo>
                    <a:lnTo>
                      <a:pt x="258" y="605"/>
                    </a:lnTo>
                    <a:lnTo>
                      <a:pt x="261" y="606"/>
                    </a:lnTo>
                    <a:lnTo>
                      <a:pt x="265" y="606"/>
                    </a:lnTo>
                    <a:lnTo>
                      <a:pt x="267" y="608"/>
                    </a:lnTo>
                    <a:lnTo>
                      <a:pt x="271" y="606"/>
                    </a:lnTo>
                    <a:lnTo>
                      <a:pt x="275" y="606"/>
                    </a:lnTo>
                    <a:lnTo>
                      <a:pt x="277" y="605"/>
                    </a:lnTo>
                    <a:lnTo>
                      <a:pt x="281" y="604"/>
                    </a:lnTo>
                    <a:lnTo>
                      <a:pt x="286" y="601"/>
                    </a:lnTo>
                    <a:lnTo>
                      <a:pt x="291" y="596"/>
                    </a:lnTo>
                    <a:lnTo>
                      <a:pt x="296" y="591"/>
                    </a:lnTo>
                    <a:lnTo>
                      <a:pt x="298" y="586"/>
                    </a:lnTo>
                    <a:lnTo>
                      <a:pt x="300" y="582"/>
                    </a:lnTo>
                    <a:lnTo>
                      <a:pt x="301" y="580"/>
                    </a:lnTo>
                    <a:lnTo>
                      <a:pt x="301" y="576"/>
                    </a:lnTo>
                    <a:lnTo>
                      <a:pt x="302" y="572"/>
                    </a:lnTo>
                    <a:lnTo>
                      <a:pt x="302" y="572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2" name=""/>
              <p:cNvSpPr/>
              <p:nvPr/>
            </p:nvSpPr>
            <p:spPr>
              <a:xfrm>
                <a:off x="2566800" y="4056120"/>
                <a:ext cx="4788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2"/>
                    </a:lnTo>
                    <a:lnTo>
                      <a:pt x="70" y="28"/>
                    </a:lnTo>
                    <a:lnTo>
                      <a:pt x="69" y="24"/>
                    </a:lnTo>
                    <a:lnTo>
                      <a:pt x="68" y="21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0" y="71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0" y="68"/>
                    </a:lnTo>
                    <a:lnTo>
                      <a:pt x="55" y="64"/>
                    </a:lnTo>
                    <a:lnTo>
                      <a:pt x="60" y="61"/>
                    </a:lnTo>
                    <a:lnTo>
                      <a:pt x="65" y="56"/>
                    </a:lnTo>
                    <a:lnTo>
                      <a:pt x="68" y="49"/>
                    </a:lnTo>
                    <a:lnTo>
                      <a:pt x="69" y="45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3" name=""/>
              <p:cNvSpPr/>
              <p:nvPr/>
            </p:nvSpPr>
            <p:spPr>
              <a:xfrm>
                <a:off x="2725920" y="3886560"/>
                <a:ext cx="46440" cy="38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7"/>
                    </a:moveTo>
                    <a:lnTo>
                      <a:pt x="68" y="33"/>
                    </a:lnTo>
                    <a:lnTo>
                      <a:pt x="68" y="29"/>
                    </a:lnTo>
                    <a:lnTo>
                      <a:pt x="67" y="27"/>
                    </a:lnTo>
                    <a:lnTo>
                      <a:pt x="65" y="23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6"/>
                    </a:lnTo>
                    <a:lnTo>
                      <a:pt x="22" y="69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2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8" y="61"/>
                    </a:lnTo>
                    <a:lnTo>
                      <a:pt x="63" y="56"/>
                    </a:lnTo>
                    <a:lnTo>
                      <a:pt x="65" y="51"/>
                    </a:lnTo>
                    <a:lnTo>
                      <a:pt x="67" y="47"/>
                    </a:lnTo>
                    <a:lnTo>
                      <a:pt x="68" y="45"/>
                    </a:lnTo>
                    <a:lnTo>
                      <a:pt x="68" y="41"/>
                    </a:lnTo>
                    <a:lnTo>
                      <a:pt x="69" y="37"/>
                    </a:lnTo>
                    <a:lnTo>
                      <a:pt x="69" y="37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4" name=""/>
              <p:cNvSpPr/>
              <p:nvPr/>
            </p:nvSpPr>
            <p:spPr>
              <a:xfrm>
                <a:off x="2725920" y="4184640"/>
                <a:ext cx="46440" cy="3888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5"/>
                    </a:moveTo>
                    <a:lnTo>
                      <a:pt x="68" y="32"/>
                    </a:lnTo>
                    <a:lnTo>
                      <a:pt x="68" y="29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5"/>
                    </a:lnTo>
                    <a:lnTo>
                      <a:pt x="58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4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9"/>
                    </a:lnTo>
                    <a:lnTo>
                      <a:pt x="32" y="69"/>
                    </a:lnTo>
                    <a:lnTo>
                      <a:pt x="34" y="71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4" y="68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5" y="49"/>
                    </a:lnTo>
                    <a:lnTo>
                      <a:pt x="67" y="45"/>
                    </a:lnTo>
                    <a:lnTo>
                      <a:pt x="68" y="43"/>
                    </a:lnTo>
                    <a:lnTo>
                      <a:pt x="68" y="39"/>
                    </a:lnTo>
                    <a:lnTo>
                      <a:pt x="69" y="35"/>
                    </a:lnTo>
                    <a:lnTo>
                      <a:pt x="69" y="35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5" name=""/>
              <p:cNvSpPr/>
              <p:nvPr/>
            </p:nvSpPr>
            <p:spPr>
              <a:xfrm>
                <a:off x="2582640" y="3899160"/>
                <a:ext cx="175320" cy="310680"/>
              </a:xfrm>
              <a:custGeom>
                <a:avLst/>
                <a:gdLst/>
                <a:ahLst/>
                <a:rect l="l" t="t" r="r" b="b"/>
                <a:pathLst>
                  <a:path w="258" h="561">
                    <a:moveTo>
                      <a:pt x="25" y="317"/>
                    </a:moveTo>
                    <a:lnTo>
                      <a:pt x="25" y="315"/>
                    </a:lnTo>
                    <a:lnTo>
                      <a:pt x="25" y="313"/>
                    </a:lnTo>
                    <a:lnTo>
                      <a:pt x="24" y="311"/>
                    </a:lnTo>
                    <a:lnTo>
                      <a:pt x="22" y="309"/>
                    </a:lnTo>
                    <a:lnTo>
                      <a:pt x="20" y="308"/>
                    </a:lnTo>
                    <a:lnTo>
                      <a:pt x="19" y="307"/>
                    </a:lnTo>
                    <a:lnTo>
                      <a:pt x="16" y="306"/>
                    </a:lnTo>
                    <a:lnTo>
                      <a:pt x="14" y="306"/>
                    </a:lnTo>
                    <a:lnTo>
                      <a:pt x="11" y="306"/>
                    </a:lnTo>
                    <a:lnTo>
                      <a:pt x="7" y="307"/>
                    </a:lnTo>
                    <a:lnTo>
                      <a:pt x="6" y="308"/>
                    </a:lnTo>
                    <a:lnTo>
                      <a:pt x="3" y="309"/>
                    </a:lnTo>
                    <a:lnTo>
                      <a:pt x="2" y="311"/>
                    </a:lnTo>
                    <a:lnTo>
                      <a:pt x="1" y="313"/>
                    </a:lnTo>
                    <a:lnTo>
                      <a:pt x="1" y="315"/>
                    </a:lnTo>
                    <a:lnTo>
                      <a:pt x="0" y="317"/>
                    </a:lnTo>
                    <a:lnTo>
                      <a:pt x="1" y="321"/>
                    </a:lnTo>
                    <a:lnTo>
                      <a:pt x="1" y="323"/>
                    </a:lnTo>
                    <a:lnTo>
                      <a:pt x="2" y="326"/>
                    </a:lnTo>
                    <a:lnTo>
                      <a:pt x="3" y="327"/>
                    </a:lnTo>
                    <a:lnTo>
                      <a:pt x="6" y="330"/>
                    </a:lnTo>
                    <a:lnTo>
                      <a:pt x="7" y="330"/>
                    </a:lnTo>
                    <a:lnTo>
                      <a:pt x="11" y="331"/>
                    </a:lnTo>
                    <a:lnTo>
                      <a:pt x="14" y="331"/>
                    </a:lnTo>
                    <a:lnTo>
                      <a:pt x="16" y="331"/>
                    </a:lnTo>
                    <a:lnTo>
                      <a:pt x="19" y="330"/>
                    </a:lnTo>
                    <a:lnTo>
                      <a:pt x="20" y="330"/>
                    </a:lnTo>
                    <a:lnTo>
                      <a:pt x="22" y="327"/>
                    </a:lnTo>
                    <a:lnTo>
                      <a:pt x="24" y="326"/>
                    </a:lnTo>
                    <a:lnTo>
                      <a:pt x="25" y="323"/>
                    </a:lnTo>
                    <a:lnTo>
                      <a:pt x="25" y="321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  <a:moveTo>
                      <a:pt x="258" y="14"/>
                    </a:moveTo>
                    <a:lnTo>
                      <a:pt x="258" y="12"/>
                    </a:lnTo>
                    <a:lnTo>
                      <a:pt x="257" y="9"/>
                    </a:lnTo>
                    <a:lnTo>
                      <a:pt x="255" y="6"/>
                    </a:lnTo>
                    <a:lnTo>
                      <a:pt x="254" y="4"/>
                    </a:lnTo>
                    <a:lnTo>
                      <a:pt x="252" y="3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4" y="0"/>
                    </a:lnTo>
                    <a:lnTo>
                      <a:pt x="242" y="1"/>
                    </a:lnTo>
                    <a:lnTo>
                      <a:pt x="240" y="1"/>
                    </a:lnTo>
                    <a:lnTo>
                      <a:pt x="238" y="3"/>
                    </a:lnTo>
                    <a:lnTo>
                      <a:pt x="235" y="4"/>
                    </a:lnTo>
                    <a:lnTo>
                      <a:pt x="234" y="6"/>
                    </a:lnTo>
                    <a:lnTo>
                      <a:pt x="233" y="9"/>
                    </a:lnTo>
                    <a:lnTo>
                      <a:pt x="232" y="12"/>
                    </a:lnTo>
                    <a:lnTo>
                      <a:pt x="232" y="14"/>
                    </a:lnTo>
                    <a:lnTo>
                      <a:pt x="232" y="17"/>
                    </a:lnTo>
                    <a:lnTo>
                      <a:pt x="233" y="19"/>
                    </a:lnTo>
                    <a:lnTo>
                      <a:pt x="234" y="22"/>
                    </a:lnTo>
                    <a:lnTo>
                      <a:pt x="235" y="23"/>
                    </a:lnTo>
                    <a:lnTo>
                      <a:pt x="238" y="24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5"/>
                    </a:lnTo>
                    <a:lnTo>
                      <a:pt x="248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4" y="23"/>
                    </a:lnTo>
                    <a:lnTo>
                      <a:pt x="255" y="22"/>
                    </a:lnTo>
                    <a:lnTo>
                      <a:pt x="257" y="19"/>
                    </a:lnTo>
                    <a:lnTo>
                      <a:pt x="258" y="17"/>
                    </a:lnTo>
                    <a:lnTo>
                      <a:pt x="258" y="14"/>
                    </a:lnTo>
                    <a:lnTo>
                      <a:pt x="258" y="14"/>
                    </a:lnTo>
                    <a:close/>
                    <a:moveTo>
                      <a:pt x="258" y="549"/>
                    </a:moveTo>
                    <a:lnTo>
                      <a:pt x="258" y="547"/>
                    </a:lnTo>
                    <a:lnTo>
                      <a:pt x="257" y="544"/>
                    </a:lnTo>
                    <a:lnTo>
                      <a:pt x="255" y="542"/>
                    </a:lnTo>
                    <a:lnTo>
                      <a:pt x="254" y="539"/>
                    </a:lnTo>
                    <a:lnTo>
                      <a:pt x="252" y="538"/>
                    </a:lnTo>
                    <a:lnTo>
                      <a:pt x="249" y="537"/>
                    </a:lnTo>
                    <a:lnTo>
                      <a:pt x="248" y="537"/>
                    </a:lnTo>
                    <a:lnTo>
                      <a:pt x="244" y="537"/>
                    </a:lnTo>
                    <a:lnTo>
                      <a:pt x="242" y="537"/>
                    </a:lnTo>
                    <a:lnTo>
                      <a:pt x="240" y="537"/>
                    </a:lnTo>
                    <a:lnTo>
                      <a:pt x="238" y="538"/>
                    </a:lnTo>
                    <a:lnTo>
                      <a:pt x="235" y="539"/>
                    </a:lnTo>
                    <a:lnTo>
                      <a:pt x="234" y="542"/>
                    </a:lnTo>
                    <a:lnTo>
                      <a:pt x="233" y="544"/>
                    </a:lnTo>
                    <a:lnTo>
                      <a:pt x="232" y="547"/>
                    </a:lnTo>
                    <a:lnTo>
                      <a:pt x="232" y="549"/>
                    </a:lnTo>
                    <a:lnTo>
                      <a:pt x="232" y="552"/>
                    </a:lnTo>
                    <a:lnTo>
                      <a:pt x="233" y="554"/>
                    </a:lnTo>
                    <a:lnTo>
                      <a:pt x="234" y="557"/>
                    </a:lnTo>
                    <a:lnTo>
                      <a:pt x="235" y="558"/>
                    </a:lnTo>
                    <a:lnTo>
                      <a:pt x="238" y="559"/>
                    </a:lnTo>
                    <a:lnTo>
                      <a:pt x="240" y="561"/>
                    </a:lnTo>
                    <a:lnTo>
                      <a:pt x="242" y="561"/>
                    </a:lnTo>
                    <a:lnTo>
                      <a:pt x="244" y="561"/>
                    </a:lnTo>
                    <a:lnTo>
                      <a:pt x="248" y="561"/>
                    </a:lnTo>
                    <a:lnTo>
                      <a:pt x="249" y="561"/>
                    </a:lnTo>
                    <a:lnTo>
                      <a:pt x="252" y="559"/>
                    </a:lnTo>
                    <a:lnTo>
                      <a:pt x="254" y="558"/>
                    </a:lnTo>
                    <a:lnTo>
                      <a:pt x="255" y="557"/>
                    </a:lnTo>
                    <a:lnTo>
                      <a:pt x="257" y="554"/>
                    </a:lnTo>
                    <a:lnTo>
                      <a:pt x="258" y="552"/>
                    </a:lnTo>
                    <a:lnTo>
                      <a:pt x="258" y="549"/>
                    </a:lnTo>
                    <a:lnTo>
                      <a:pt x="258" y="549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2582640" y="4068720"/>
                <a:ext cx="16200" cy="133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1"/>
                    </a:moveTo>
                    <a:lnTo>
                      <a:pt x="25" y="9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11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7" name=""/>
              <p:cNvSpPr/>
              <p:nvPr/>
            </p:nvSpPr>
            <p:spPr>
              <a:xfrm>
                <a:off x="2740320" y="3899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4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8" name=""/>
              <p:cNvSpPr/>
              <p:nvPr/>
            </p:nvSpPr>
            <p:spPr>
              <a:xfrm>
                <a:off x="2740320" y="4196160"/>
                <a:ext cx="17640" cy="136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2"/>
                    </a:moveTo>
                    <a:lnTo>
                      <a:pt x="26" y="10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9" name=""/>
              <p:cNvSpPr/>
              <p:nvPr/>
            </p:nvSpPr>
            <p:spPr>
              <a:xfrm>
                <a:off x="2653920" y="3888000"/>
                <a:ext cx="197280" cy="444960"/>
              </a:xfrm>
              <a:custGeom>
                <a:avLst/>
                <a:gdLst/>
                <a:ahLst/>
                <a:rect l="l" t="t" r="r" b="b"/>
                <a:pathLst>
                  <a:path w="291" h="803">
                    <a:moveTo>
                      <a:pt x="291" y="37"/>
                    </a:moveTo>
                    <a:lnTo>
                      <a:pt x="73" y="37"/>
                    </a:lnTo>
                    <a:lnTo>
                      <a:pt x="67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9" y="38"/>
                    </a:lnTo>
                    <a:lnTo>
                      <a:pt x="45" y="39"/>
                    </a:lnTo>
                    <a:lnTo>
                      <a:pt x="43" y="39"/>
                    </a:lnTo>
                    <a:lnTo>
                      <a:pt x="42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7" y="57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803"/>
                    </a:lnTo>
                    <a:lnTo>
                      <a:pt x="0" y="80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1" y="0"/>
                    </a:lnTo>
                    <a:lnTo>
                      <a:pt x="291" y="37"/>
                    </a:lnTo>
                    <a:lnTo>
                      <a:pt x="2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2637360" y="3868560"/>
                <a:ext cx="192240" cy="464400"/>
              </a:xfrm>
              <a:custGeom>
                <a:avLst/>
                <a:gdLst/>
                <a:ahLst/>
                <a:rect l="l" t="t" r="r" b="b"/>
                <a:pathLst>
                  <a:path w="284" h="837">
                    <a:moveTo>
                      <a:pt x="284" y="43"/>
                    </a:moveTo>
                    <a:lnTo>
                      <a:pt x="76" y="43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6" y="45"/>
                    </a:lnTo>
                    <a:lnTo>
                      <a:pt x="64" y="47"/>
                    </a:lnTo>
                    <a:lnTo>
                      <a:pt x="58" y="49"/>
                    </a:lnTo>
                    <a:lnTo>
                      <a:pt x="53" y="54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4" y="69"/>
                    </a:lnTo>
                    <a:lnTo>
                      <a:pt x="44" y="72"/>
                    </a:lnTo>
                    <a:lnTo>
                      <a:pt x="43" y="76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837"/>
                    </a:lnTo>
                    <a:lnTo>
                      <a:pt x="0" y="83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7" y="37"/>
                    </a:lnTo>
                    <a:lnTo>
                      <a:pt x="11" y="31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5" y="9"/>
                    </a:lnTo>
                    <a:lnTo>
                      <a:pt x="41" y="6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284" y="0"/>
                    </a:lnTo>
                    <a:lnTo>
                      <a:pt x="284" y="4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1" name=""/>
              <p:cNvSpPr/>
              <p:nvPr/>
            </p:nvSpPr>
            <p:spPr>
              <a:xfrm>
                <a:off x="2494080" y="3776760"/>
                <a:ext cx="4186080" cy="9684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2" name=""/>
              <p:cNvSpPr/>
              <p:nvPr/>
            </p:nvSpPr>
            <p:spPr>
              <a:xfrm>
                <a:off x="2494080" y="3776760"/>
                <a:ext cx="4186080" cy="9684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3" name=""/>
              <p:cNvSpPr/>
              <p:nvPr/>
            </p:nvSpPr>
            <p:spPr>
              <a:xfrm>
                <a:off x="3901680" y="3824280"/>
                <a:ext cx="909360" cy="39960"/>
              </a:xfrm>
              <a:custGeom>
                <a:avLst/>
                <a:gdLst/>
                <a:ahLst/>
                <a:rect l="l" t="t" r="r" b="b"/>
                <a:pathLst>
                  <a:path w="1335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  <a:close/>
                    <a:moveTo>
                      <a:pt x="1335" y="34"/>
                    </a:moveTo>
                    <a:lnTo>
                      <a:pt x="1334" y="31"/>
                    </a:lnTo>
                    <a:lnTo>
                      <a:pt x="1334" y="28"/>
                    </a:lnTo>
                    <a:lnTo>
                      <a:pt x="1333" y="24"/>
                    </a:lnTo>
                    <a:lnTo>
                      <a:pt x="1331" y="22"/>
                    </a:lnTo>
                    <a:lnTo>
                      <a:pt x="1329" y="16"/>
                    </a:lnTo>
                    <a:lnTo>
                      <a:pt x="1324" y="10"/>
                    </a:lnTo>
                    <a:lnTo>
                      <a:pt x="1319" y="7"/>
                    </a:lnTo>
                    <a:lnTo>
                      <a:pt x="1313" y="3"/>
                    </a:lnTo>
                    <a:lnTo>
                      <a:pt x="1309" y="2"/>
                    </a:lnTo>
                    <a:lnTo>
                      <a:pt x="1306" y="2"/>
                    </a:lnTo>
                    <a:lnTo>
                      <a:pt x="1303" y="0"/>
                    </a:lnTo>
                    <a:lnTo>
                      <a:pt x="1299" y="0"/>
                    </a:lnTo>
                    <a:lnTo>
                      <a:pt x="1295" y="0"/>
                    </a:lnTo>
                    <a:lnTo>
                      <a:pt x="1291" y="2"/>
                    </a:lnTo>
                    <a:lnTo>
                      <a:pt x="1289" y="2"/>
                    </a:lnTo>
                    <a:lnTo>
                      <a:pt x="1285" y="3"/>
                    </a:lnTo>
                    <a:lnTo>
                      <a:pt x="1280" y="7"/>
                    </a:lnTo>
                    <a:lnTo>
                      <a:pt x="1275" y="10"/>
                    </a:lnTo>
                    <a:lnTo>
                      <a:pt x="1270" y="16"/>
                    </a:lnTo>
                    <a:lnTo>
                      <a:pt x="1268" y="22"/>
                    </a:lnTo>
                    <a:lnTo>
                      <a:pt x="1266" y="24"/>
                    </a:lnTo>
                    <a:lnTo>
                      <a:pt x="1265" y="28"/>
                    </a:lnTo>
                    <a:lnTo>
                      <a:pt x="1265" y="31"/>
                    </a:lnTo>
                    <a:lnTo>
                      <a:pt x="1265" y="34"/>
                    </a:lnTo>
                    <a:lnTo>
                      <a:pt x="1265" y="38"/>
                    </a:lnTo>
                    <a:lnTo>
                      <a:pt x="1265" y="42"/>
                    </a:lnTo>
                    <a:lnTo>
                      <a:pt x="1266" y="46"/>
                    </a:lnTo>
                    <a:lnTo>
                      <a:pt x="1268" y="48"/>
                    </a:lnTo>
                    <a:lnTo>
                      <a:pt x="1270" y="55"/>
                    </a:lnTo>
                    <a:lnTo>
                      <a:pt x="1275" y="61"/>
                    </a:lnTo>
                    <a:lnTo>
                      <a:pt x="1280" y="65"/>
                    </a:lnTo>
                    <a:lnTo>
                      <a:pt x="1285" y="69"/>
                    </a:lnTo>
                    <a:lnTo>
                      <a:pt x="1289" y="70"/>
                    </a:lnTo>
                    <a:lnTo>
                      <a:pt x="1291" y="70"/>
                    </a:lnTo>
                    <a:lnTo>
                      <a:pt x="1295" y="71"/>
                    </a:lnTo>
                    <a:lnTo>
                      <a:pt x="1299" y="71"/>
                    </a:lnTo>
                    <a:lnTo>
                      <a:pt x="1303" y="71"/>
                    </a:lnTo>
                    <a:lnTo>
                      <a:pt x="1306" y="70"/>
                    </a:lnTo>
                    <a:lnTo>
                      <a:pt x="1309" y="70"/>
                    </a:lnTo>
                    <a:lnTo>
                      <a:pt x="1313" y="69"/>
                    </a:lnTo>
                    <a:lnTo>
                      <a:pt x="1319" y="65"/>
                    </a:lnTo>
                    <a:lnTo>
                      <a:pt x="1324" y="61"/>
                    </a:lnTo>
                    <a:lnTo>
                      <a:pt x="1329" y="55"/>
                    </a:lnTo>
                    <a:lnTo>
                      <a:pt x="1331" y="48"/>
                    </a:lnTo>
                    <a:lnTo>
                      <a:pt x="1333" y="46"/>
                    </a:lnTo>
                    <a:lnTo>
                      <a:pt x="1334" y="42"/>
                    </a:lnTo>
                    <a:lnTo>
                      <a:pt x="1334" y="38"/>
                    </a:lnTo>
                    <a:lnTo>
                      <a:pt x="1335" y="34"/>
                    </a:lnTo>
                    <a:lnTo>
                      <a:pt x="1335" y="34"/>
                    </a:lnTo>
                    <a:close/>
                  </a:path>
                </a:pathLst>
              </a:custGeom>
              <a:solidFill>
                <a:srgbClr val="d3d3d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4" name=""/>
              <p:cNvSpPr/>
              <p:nvPr/>
            </p:nvSpPr>
            <p:spPr>
              <a:xfrm>
                <a:off x="3901680" y="382428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5" name=""/>
              <p:cNvSpPr/>
              <p:nvPr/>
            </p:nvSpPr>
            <p:spPr>
              <a:xfrm>
                <a:off x="4763160" y="3824280"/>
                <a:ext cx="4788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69" y="31"/>
                    </a:lnTo>
                    <a:lnTo>
                      <a:pt x="69" y="28"/>
                    </a:lnTo>
                    <a:lnTo>
                      <a:pt x="68" y="24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4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4" y="65"/>
                    </a:lnTo>
                    <a:lnTo>
                      <a:pt x="59" y="61"/>
                    </a:lnTo>
                    <a:lnTo>
                      <a:pt x="64" y="55"/>
                    </a:lnTo>
                    <a:lnTo>
                      <a:pt x="66" y="48"/>
                    </a:lnTo>
                    <a:lnTo>
                      <a:pt x="68" y="46"/>
                    </a:lnTo>
                    <a:lnTo>
                      <a:pt x="69" y="42"/>
                    </a:lnTo>
                    <a:lnTo>
                      <a:pt x="69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6" name=""/>
              <p:cNvSpPr/>
              <p:nvPr/>
            </p:nvSpPr>
            <p:spPr>
              <a:xfrm>
                <a:off x="4016520" y="3834360"/>
                <a:ext cx="2301480" cy="527760"/>
              </a:xfrm>
              <a:custGeom>
                <a:avLst/>
                <a:gdLst/>
                <a:ahLst/>
                <a:rect l="l" t="t" r="r" b="b"/>
                <a:pathLst>
                  <a:path w="3384" h="951">
                    <a:moveTo>
                      <a:pt x="1350" y="862"/>
                    </a:moveTo>
                    <a:lnTo>
                      <a:pt x="1350" y="853"/>
                    </a:lnTo>
                    <a:lnTo>
                      <a:pt x="1348" y="846"/>
                    </a:lnTo>
                    <a:lnTo>
                      <a:pt x="1346" y="838"/>
                    </a:lnTo>
                    <a:lnTo>
                      <a:pt x="1343" y="832"/>
                    </a:lnTo>
                    <a:lnTo>
                      <a:pt x="1341" y="824"/>
                    </a:lnTo>
                    <a:lnTo>
                      <a:pt x="1337" y="818"/>
                    </a:lnTo>
                    <a:lnTo>
                      <a:pt x="1332" y="812"/>
                    </a:lnTo>
                    <a:lnTo>
                      <a:pt x="1327" y="807"/>
                    </a:lnTo>
                    <a:lnTo>
                      <a:pt x="1322" y="802"/>
                    </a:lnTo>
                    <a:lnTo>
                      <a:pt x="1316" y="798"/>
                    </a:lnTo>
                    <a:lnTo>
                      <a:pt x="1310" y="794"/>
                    </a:lnTo>
                    <a:lnTo>
                      <a:pt x="1303" y="790"/>
                    </a:lnTo>
                    <a:lnTo>
                      <a:pt x="1296" y="788"/>
                    </a:lnTo>
                    <a:lnTo>
                      <a:pt x="1288" y="787"/>
                    </a:lnTo>
                    <a:lnTo>
                      <a:pt x="1281" y="785"/>
                    </a:lnTo>
                    <a:lnTo>
                      <a:pt x="1273" y="784"/>
                    </a:lnTo>
                    <a:lnTo>
                      <a:pt x="1264" y="785"/>
                    </a:lnTo>
                    <a:lnTo>
                      <a:pt x="1257" y="787"/>
                    </a:lnTo>
                    <a:lnTo>
                      <a:pt x="1249" y="788"/>
                    </a:lnTo>
                    <a:lnTo>
                      <a:pt x="1242" y="790"/>
                    </a:lnTo>
                    <a:lnTo>
                      <a:pt x="1236" y="794"/>
                    </a:lnTo>
                    <a:lnTo>
                      <a:pt x="1229" y="798"/>
                    </a:lnTo>
                    <a:lnTo>
                      <a:pt x="1223" y="802"/>
                    </a:lnTo>
                    <a:lnTo>
                      <a:pt x="1217" y="807"/>
                    </a:lnTo>
                    <a:lnTo>
                      <a:pt x="1212" y="812"/>
                    </a:lnTo>
                    <a:lnTo>
                      <a:pt x="1207" y="818"/>
                    </a:lnTo>
                    <a:lnTo>
                      <a:pt x="1203" y="824"/>
                    </a:lnTo>
                    <a:lnTo>
                      <a:pt x="1201" y="832"/>
                    </a:lnTo>
                    <a:lnTo>
                      <a:pt x="1197" y="838"/>
                    </a:lnTo>
                    <a:lnTo>
                      <a:pt x="1195" y="846"/>
                    </a:lnTo>
                    <a:lnTo>
                      <a:pt x="1194" y="853"/>
                    </a:lnTo>
                    <a:lnTo>
                      <a:pt x="1193" y="862"/>
                    </a:lnTo>
                    <a:lnTo>
                      <a:pt x="1194" y="870"/>
                    </a:lnTo>
                    <a:lnTo>
                      <a:pt x="1195" y="877"/>
                    </a:lnTo>
                    <a:lnTo>
                      <a:pt x="1197" y="885"/>
                    </a:lnTo>
                    <a:lnTo>
                      <a:pt x="1201" y="893"/>
                    </a:lnTo>
                    <a:lnTo>
                      <a:pt x="1203" y="900"/>
                    </a:lnTo>
                    <a:lnTo>
                      <a:pt x="1207" y="907"/>
                    </a:lnTo>
                    <a:lnTo>
                      <a:pt x="1212" y="913"/>
                    </a:lnTo>
                    <a:lnTo>
                      <a:pt x="1217" y="918"/>
                    </a:lnTo>
                    <a:lnTo>
                      <a:pt x="1223" y="923"/>
                    </a:lnTo>
                    <a:lnTo>
                      <a:pt x="1229" y="928"/>
                    </a:lnTo>
                    <a:lnTo>
                      <a:pt x="1236" y="932"/>
                    </a:lnTo>
                    <a:lnTo>
                      <a:pt x="1242" y="936"/>
                    </a:lnTo>
                    <a:lnTo>
                      <a:pt x="1249" y="938"/>
                    </a:lnTo>
                    <a:lnTo>
                      <a:pt x="1257" y="941"/>
                    </a:lnTo>
                    <a:lnTo>
                      <a:pt x="1264" y="942"/>
                    </a:lnTo>
                    <a:lnTo>
                      <a:pt x="1273" y="942"/>
                    </a:lnTo>
                    <a:lnTo>
                      <a:pt x="1281" y="942"/>
                    </a:lnTo>
                    <a:lnTo>
                      <a:pt x="1288" y="941"/>
                    </a:lnTo>
                    <a:lnTo>
                      <a:pt x="1296" y="938"/>
                    </a:lnTo>
                    <a:lnTo>
                      <a:pt x="1303" y="936"/>
                    </a:lnTo>
                    <a:lnTo>
                      <a:pt x="1310" y="932"/>
                    </a:lnTo>
                    <a:lnTo>
                      <a:pt x="1316" y="928"/>
                    </a:lnTo>
                    <a:lnTo>
                      <a:pt x="1322" y="923"/>
                    </a:lnTo>
                    <a:lnTo>
                      <a:pt x="1327" y="918"/>
                    </a:lnTo>
                    <a:lnTo>
                      <a:pt x="1332" y="913"/>
                    </a:lnTo>
                    <a:lnTo>
                      <a:pt x="1337" y="907"/>
                    </a:lnTo>
                    <a:lnTo>
                      <a:pt x="1341" y="900"/>
                    </a:lnTo>
                    <a:lnTo>
                      <a:pt x="1343" y="893"/>
                    </a:lnTo>
                    <a:lnTo>
                      <a:pt x="1346" y="885"/>
                    </a:lnTo>
                    <a:lnTo>
                      <a:pt x="1348" y="877"/>
                    </a:lnTo>
                    <a:lnTo>
                      <a:pt x="1350" y="870"/>
                    </a:lnTo>
                    <a:lnTo>
                      <a:pt x="1350" y="862"/>
                    </a:lnTo>
                    <a:lnTo>
                      <a:pt x="1350" y="862"/>
                    </a:lnTo>
                    <a:close/>
                    <a:moveTo>
                      <a:pt x="1605" y="862"/>
                    </a:moveTo>
                    <a:lnTo>
                      <a:pt x="1605" y="853"/>
                    </a:lnTo>
                    <a:lnTo>
                      <a:pt x="1604" y="846"/>
                    </a:lnTo>
                    <a:lnTo>
                      <a:pt x="1603" y="838"/>
                    </a:lnTo>
                    <a:lnTo>
                      <a:pt x="1600" y="832"/>
                    </a:lnTo>
                    <a:lnTo>
                      <a:pt x="1596" y="824"/>
                    </a:lnTo>
                    <a:lnTo>
                      <a:pt x="1593" y="818"/>
                    </a:lnTo>
                    <a:lnTo>
                      <a:pt x="1588" y="812"/>
                    </a:lnTo>
                    <a:lnTo>
                      <a:pt x="1583" y="807"/>
                    </a:lnTo>
                    <a:lnTo>
                      <a:pt x="1578" y="802"/>
                    </a:lnTo>
                    <a:lnTo>
                      <a:pt x="1571" y="798"/>
                    </a:lnTo>
                    <a:lnTo>
                      <a:pt x="1565" y="794"/>
                    </a:lnTo>
                    <a:lnTo>
                      <a:pt x="1559" y="790"/>
                    </a:lnTo>
                    <a:lnTo>
                      <a:pt x="1551" y="788"/>
                    </a:lnTo>
                    <a:lnTo>
                      <a:pt x="1544" y="787"/>
                    </a:lnTo>
                    <a:lnTo>
                      <a:pt x="1536" y="785"/>
                    </a:lnTo>
                    <a:lnTo>
                      <a:pt x="1529" y="784"/>
                    </a:lnTo>
                    <a:lnTo>
                      <a:pt x="1520" y="785"/>
                    </a:lnTo>
                    <a:lnTo>
                      <a:pt x="1512" y="787"/>
                    </a:lnTo>
                    <a:lnTo>
                      <a:pt x="1505" y="788"/>
                    </a:lnTo>
                    <a:lnTo>
                      <a:pt x="1497" y="790"/>
                    </a:lnTo>
                    <a:lnTo>
                      <a:pt x="1491" y="794"/>
                    </a:lnTo>
                    <a:lnTo>
                      <a:pt x="1485" y="798"/>
                    </a:lnTo>
                    <a:lnTo>
                      <a:pt x="1479" y="802"/>
                    </a:lnTo>
                    <a:lnTo>
                      <a:pt x="1472" y="807"/>
                    </a:lnTo>
                    <a:lnTo>
                      <a:pt x="1467" y="812"/>
                    </a:lnTo>
                    <a:lnTo>
                      <a:pt x="1464" y="818"/>
                    </a:lnTo>
                    <a:lnTo>
                      <a:pt x="1459" y="824"/>
                    </a:lnTo>
                    <a:lnTo>
                      <a:pt x="1456" y="832"/>
                    </a:lnTo>
                    <a:lnTo>
                      <a:pt x="1452" y="838"/>
                    </a:lnTo>
                    <a:lnTo>
                      <a:pt x="1451" y="846"/>
                    </a:lnTo>
                    <a:lnTo>
                      <a:pt x="1450" y="853"/>
                    </a:lnTo>
                    <a:lnTo>
                      <a:pt x="1450" y="862"/>
                    </a:lnTo>
                    <a:lnTo>
                      <a:pt x="1450" y="870"/>
                    </a:lnTo>
                    <a:lnTo>
                      <a:pt x="1451" y="877"/>
                    </a:lnTo>
                    <a:lnTo>
                      <a:pt x="1452" y="885"/>
                    </a:lnTo>
                    <a:lnTo>
                      <a:pt x="1456" y="893"/>
                    </a:lnTo>
                    <a:lnTo>
                      <a:pt x="1459" y="900"/>
                    </a:lnTo>
                    <a:lnTo>
                      <a:pt x="1464" y="907"/>
                    </a:lnTo>
                    <a:lnTo>
                      <a:pt x="1467" y="913"/>
                    </a:lnTo>
                    <a:lnTo>
                      <a:pt x="1472" y="918"/>
                    </a:lnTo>
                    <a:lnTo>
                      <a:pt x="1479" y="923"/>
                    </a:lnTo>
                    <a:lnTo>
                      <a:pt x="1485" y="928"/>
                    </a:lnTo>
                    <a:lnTo>
                      <a:pt x="1491" y="932"/>
                    </a:lnTo>
                    <a:lnTo>
                      <a:pt x="1497" y="936"/>
                    </a:lnTo>
                    <a:lnTo>
                      <a:pt x="1505" y="938"/>
                    </a:lnTo>
                    <a:lnTo>
                      <a:pt x="1512" y="941"/>
                    </a:lnTo>
                    <a:lnTo>
                      <a:pt x="1520" y="942"/>
                    </a:lnTo>
                    <a:lnTo>
                      <a:pt x="1529" y="942"/>
                    </a:lnTo>
                    <a:lnTo>
                      <a:pt x="1536" y="942"/>
                    </a:lnTo>
                    <a:lnTo>
                      <a:pt x="1544" y="941"/>
                    </a:lnTo>
                    <a:lnTo>
                      <a:pt x="1551" y="938"/>
                    </a:lnTo>
                    <a:lnTo>
                      <a:pt x="1559" y="936"/>
                    </a:lnTo>
                    <a:lnTo>
                      <a:pt x="1565" y="932"/>
                    </a:lnTo>
                    <a:lnTo>
                      <a:pt x="1571" y="928"/>
                    </a:lnTo>
                    <a:lnTo>
                      <a:pt x="1578" y="923"/>
                    </a:lnTo>
                    <a:lnTo>
                      <a:pt x="1583" y="918"/>
                    </a:lnTo>
                    <a:lnTo>
                      <a:pt x="1588" y="913"/>
                    </a:lnTo>
                    <a:lnTo>
                      <a:pt x="1593" y="907"/>
                    </a:lnTo>
                    <a:lnTo>
                      <a:pt x="1596" y="900"/>
                    </a:lnTo>
                    <a:lnTo>
                      <a:pt x="1600" y="893"/>
                    </a:lnTo>
                    <a:lnTo>
                      <a:pt x="1603" y="885"/>
                    </a:lnTo>
                    <a:lnTo>
                      <a:pt x="1604" y="877"/>
                    </a:lnTo>
                    <a:lnTo>
                      <a:pt x="1605" y="870"/>
                    </a:lnTo>
                    <a:lnTo>
                      <a:pt x="1605" y="862"/>
                    </a:lnTo>
                    <a:lnTo>
                      <a:pt x="1605" y="862"/>
                    </a:lnTo>
                    <a:close/>
                    <a:moveTo>
                      <a:pt x="1779" y="832"/>
                    </a:moveTo>
                    <a:lnTo>
                      <a:pt x="1751" y="832"/>
                    </a:lnTo>
                    <a:lnTo>
                      <a:pt x="1747" y="832"/>
                    </a:lnTo>
                    <a:lnTo>
                      <a:pt x="1742" y="833"/>
                    </a:lnTo>
                    <a:lnTo>
                      <a:pt x="1738" y="835"/>
                    </a:lnTo>
                    <a:lnTo>
                      <a:pt x="1734" y="836"/>
                    </a:lnTo>
                    <a:lnTo>
                      <a:pt x="1731" y="837"/>
                    </a:lnTo>
                    <a:lnTo>
                      <a:pt x="1728" y="840"/>
                    </a:lnTo>
                    <a:lnTo>
                      <a:pt x="1722" y="845"/>
                    </a:lnTo>
                    <a:lnTo>
                      <a:pt x="1717" y="850"/>
                    </a:lnTo>
                    <a:lnTo>
                      <a:pt x="1714" y="853"/>
                    </a:lnTo>
                    <a:lnTo>
                      <a:pt x="1713" y="857"/>
                    </a:lnTo>
                    <a:lnTo>
                      <a:pt x="1712" y="861"/>
                    </a:lnTo>
                    <a:lnTo>
                      <a:pt x="1710" y="865"/>
                    </a:lnTo>
                    <a:lnTo>
                      <a:pt x="1710" y="869"/>
                    </a:lnTo>
                    <a:lnTo>
                      <a:pt x="1709" y="874"/>
                    </a:lnTo>
                    <a:lnTo>
                      <a:pt x="1710" y="877"/>
                    </a:lnTo>
                    <a:lnTo>
                      <a:pt x="1710" y="881"/>
                    </a:lnTo>
                    <a:lnTo>
                      <a:pt x="1712" y="885"/>
                    </a:lnTo>
                    <a:lnTo>
                      <a:pt x="1713" y="889"/>
                    </a:lnTo>
                    <a:lnTo>
                      <a:pt x="1714" y="893"/>
                    </a:lnTo>
                    <a:lnTo>
                      <a:pt x="1717" y="896"/>
                    </a:lnTo>
                    <a:lnTo>
                      <a:pt x="1722" y="903"/>
                    </a:lnTo>
                    <a:lnTo>
                      <a:pt x="1728" y="908"/>
                    </a:lnTo>
                    <a:lnTo>
                      <a:pt x="1731" y="909"/>
                    </a:lnTo>
                    <a:lnTo>
                      <a:pt x="1734" y="912"/>
                    </a:lnTo>
                    <a:lnTo>
                      <a:pt x="1738" y="913"/>
                    </a:lnTo>
                    <a:lnTo>
                      <a:pt x="1742" y="914"/>
                    </a:lnTo>
                    <a:lnTo>
                      <a:pt x="1747" y="914"/>
                    </a:lnTo>
                    <a:lnTo>
                      <a:pt x="1751" y="914"/>
                    </a:lnTo>
                    <a:lnTo>
                      <a:pt x="1751" y="914"/>
                    </a:lnTo>
                    <a:lnTo>
                      <a:pt x="1791" y="914"/>
                    </a:lnTo>
                    <a:lnTo>
                      <a:pt x="1791" y="919"/>
                    </a:lnTo>
                    <a:lnTo>
                      <a:pt x="1793" y="925"/>
                    </a:lnTo>
                    <a:lnTo>
                      <a:pt x="1796" y="931"/>
                    </a:lnTo>
                    <a:lnTo>
                      <a:pt x="1801" y="936"/>
                    </a:lnTo>
                    <a:lnTo>
                      <a:pt x="1804" y="939"/>
                    </a:lnTo>
                    <a:lnTo>
                      <a:pt x="1811" y="942"/>
                    </a:lnTo>
                    <a:lnTo>
                      <a:pt x="1817" y="944"/>
                    </a:lnTo>
                    <a:lnTo>
                      <a:pt x="1823" y="946"/>
                    </a:lnTo>
                    <a:lnTo>
                      <a:pt x="1829" y="946"/>
                    </a:lnTo>
                    <a:lnTo>
                      <a:pt x="1829" y="946"/>
                    </a:lnTo>
                    <a:lnTo>
                      <a:pt x="2017" y="946"/>
                    </a:lnTo>
                    <a:lnTo>
                      <a:pt x="2024" y="946"/>
                    </a:lnTo>
                    <a:lnTo>
                      <a:pt x="2027" y="946"/>
                    </a:lnTo>
                    <a:lnTo>
                      <a:pt x="2031" y="944"/>
                    </a:lnTo>
                    <a:lnTo>
                      <a:pt x="2035" y="943"/>
                    </a:lnTo>
                    <a:lnTo>
                      <a:pt x="2037" y="942"/>
                    </a:lnTo>
                    <a:lnTo>
                      <a:pt x="2041" y="939"/>
                    </a:lnTo>
                    <a:lnTo>
                      <a:pt x="2045" y="937"/>
                    </a:lnTo>
                    <a:lnTo>
                      <a:pt x="2047" y="936"/>
                    </a:lnTo>
                    <a:lnTo>
                      <a:pt x="2049" y="933"/>
                    </a:lnTo>
                    <a:lnTo>
                      <a:pt x="2051" y="931"/>
                    </a:lnTo>
                    <a:lnTo>
                      <a:pt x="2054" y="928"/>
                    </a:lnTo>
                    <a:lnTo>
                      <a:pt x="2056" y="922"/>
                    </a:lnTo>
                    <a:lnTo>
                      <a:pt x="2059" y="914"/>
                    </a:lnTo>
                    <a:lnTo>
                      <a:pt x="2059" y="914"/>
                    </a:lnTo>
                    <a:lnTo>
                      <a:pt x="2099" y="914"/>
                    </a:lnTo>
                    <a:lnTo>
                      <a:pt x="2103" y="914"/>
                    </a:lnTo>
                    <a:lnTo>
                      <a:pt x="2108" y="914"/>
                    </a:lnTo>
                    <a:lnTo>
                      <a:pt x="2111" y="913"/>
                    </a:lnTo>
                    <a:lnTo>
                      <a:pt x="2115" y="912"/>
                    </a:lnTo>
                    <a:lnTo>
                      <a:pt x="2119" y="909"/>
                    </a:lnTo>
                    <a:lnTo>
                      <a:pt x="2121" y="908"/>
                    </a:lnTo>
                    <a:lnTo>
                      <a:pt x="2128" y="903"/>
                    </a:lnTo>
                    <a:lnTo>
                      <a:pt x="2133" y="896"/>
                    </a:lnTo>
                    <a:lnTo>
                      <a:pt x="2135" y="893"/>
                    </a:lnTo>
                    <a:lnTo>
                      <a:pt x="2136" y="889"/>
                    </a:lnTo>
                    <a:lnTo>
                      <a:pt x="2138" y="885"/>
                    </a:lnTo>
                    <a:lnTo>
                      <a:pt x="2139" y="881"/>
                    </a:lnTo>
                    <a:lnTo>
                      <a:pt x="2139" y="877"/>
                    </a:lnTo>
                    <a:lnTo>
                      <a:pt x="2140" y="874"/>
                    </a:lnTo>
                    <a:lnTo>
                      <a:pt x="2140" y="874"/>
                    </a:lnTo>
                    <a:lnTo>
                      <a:pt x="2139" y="869"/>
                    </a:lnTo>
                    <a:lnTo>
                      <a:pt x="2139" y="865"/>
                    </a:lnTo>
                    <a:lnTo>
                      <a:pt x="2138" y="861"/>
                    </a:lnTo>
                    <a:lnTo>
                      <a:pt x="2136" y="857"/>
                    </a:lnTo>
                    <a:lnTo>
                      <a:pt x="2135" y="853"/>
                    </a:lnTo>
                    <a:lnTo>
                      <a:pt x="2133" y="850"/>
                    </a:lnTo>
                    <a:lnTo>
                      <a:pt x="2128" y="845"/>
                    </a:lnTo>
                    <a:lnTo>
                      <a:pt x="2121" y="840"/>
                    </a:lnTo>
                    <a:lnTo>
                      <a:pt x="2119" y="837"/>
                    </a:lnTo>
                    <a:lnTo>
                      <a:pt x="2115" y="836"/>
                    </a:lnTo>
                    <a:lnTo>
                      <a:pt x="2111" y="835"/>
                    </a:lnTo>
                    <a:lnTo>
                      <a:pt x="2108" y="833"/>
                    </a:lnTo>
                    <a:lnTo>
                      <a:pt x="2103" y="832"/>
                    </a:lnTo>
                    <a:lnTo>
                      <a:pt x="2099" y="832"/>
                    </a:lnTo>
                    <a:lnTo>
                      <a:pt x="2099" y="832"/>
                    </a:lnTo>
                    <a:lnTo>
                      <a:pt x="2070" y="832"/>
                    </a:lnTo>
                    <a:lnTo>
                      <a:pt x="2069" y="830"/>
                    </a:lnTo>
                    <a:lnTo>
                      <a:pt x="2069" y="827"/>
                    </a:lnTo>
                    <a:lnTo>
                      <a:pt x="2068" y="824"/>
                    </a:lnTo>
                    <a:lnTo>
                      <a:pt x="2066" y="822"/>
                    </a:lnTo>
                    <a:lnTo>
                      <a:pt x="2064" y="818"/>
                    </a:lnTo>
                    <a:lnTo>
                      <a:pt x="2060" y="814"/>
                    </a:lnTo>
                    <a:lnTo>
                      <a:pt x="2058" y="811"/>
                    </a:lnTo>
                    <a:lnTo>
                      <a:pt x="2055" y="808"/>
                    </a:lnTo>
                    <a:lnTo>
                      <a:pt x="2053" y="806"/>
                    </a:lnTo>
                    <a:lnTo>
                      <a:pt x="2049" y="804"/>
                    </a:lnTo>
                    <a:lnTo>
                      <a:pt x="2045" y="802"/>
                    </a:lnTo>
                    <a:lnTo>
                      <a:pt x="2041" y="802"/>
                    </a:lnTo>
                    <a:lnTo>
                      <a:pt x="2037" y="800"/>
                    </a:lnTo>
                    <a:lnTo>
                      <a:pt x="2034" y="800"/>
                    </a:lnTo>
                    <a:lnTo>
                      <a:pt x="2034" y="800"/>
                    </a:lnTo>
                    <a:lnTo>
                      <a:pt x="1816" y="800"/>
                    </a:lnTo>
                    <a:lnTo>
                      <a:pt x="1812" y="800"/>
                    </a:lnTo>
                    <a:lnTo>
                      <a:pt x="1808" y="802"/>
                    </a:lnTo>
                    <a:lnTo>
                      <a:pt x="1804" y="802"/>
                    </a:lnTo>
                    <a:lnTo>
                      <a:pt x="1801" y="804"/>
                    </a:lnTo>
                    <a:lnTo>
                      <a:pt x="1797" y="806"/>
                    </a:lnTo>
                    <a:lnTo>
                      <a:pt x="1793" y="808"/>
                    </a:lnTo>
                    <a:lnTo>
                      <a:pt x="1791" y="811"/>
                    </a:lnTo>
                    <a:lnTo>
                      <a:pt x="1787" y="814"/>
                    </a:lnTo>
                    <a:lnTo>
                      <a:pt x="1783" y="818"/>
                    </a:lnTo>
                    <a:lnTo>
                      <a:pt x="1782" y="822"/>
                    </a:lnTo>
                    <a:lnTo>
                      <a:pt x="1781" y="827"/>
                    </a:lnTo>
                    <a:lnTo>
                      <a:pt x="1779" y="832"/>
                    </a:lnTo>
                    <a:lnTo>
                      <a:pt x="1779" y="832"/>
                    </a:lnTo>
                    <a:close/>
                    <a:moveTo>
                      <a:pt x="2237" y="934"/>
                    </a:moveTo>
                    <a:lnTo>
                      <a:pt x="2651" y="934"/>
                    </a:lnTo>
                    <a:lnTo>
                      <a:pt x="2653" y="934"/>
                    </a:lnTo>
                    <a:lnTo>
                      <a:pt x="2655" y="934"/>
                    </a:lnTo>
                    <a:lnTo>
                      <a:pt x="2656" y="933"/>
                    </a:lnTo>
                    <a:lnTo>
                      <a:pt x="2658" y="932"/>
                    </a:lnTo>
                    <a:lnTo>
                      <a:pt x="2659" y="931"/>
                    </a:lnTo>
                    <a:lnTo>
                      <a:pt x="2660" y="929"/>
                    </a:lnTo>
                    <a:lnTo>
                      <a:pt x="2660" y="928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818"/>
                    </a:lnTo>
                    <a:lnTo>
                      <a:pt x="2660" y="817"/>
                    </a:lnTo>
                    <a:lnTo>
                      <a:pt x="2660" y="816"/>
                    </a:lnTo>
                    <a:lnTo>
                      <a:pt x="2659" y="813"/>
                    </a:lnTo>
                    <a:lnTo>
                      <a:pt x="2658" y="812"/>
                    </a:lnTo>
                    <a:lnTo>
                      <a:pt x="2656" y="811"/>
                    </a:lnTo>
                    <a:lnTo>
                      <a:pt x="2655" y="811"/>
                    </a:lnTo>
                    <a:lnTo>
                      <a:pt x="2653" y="809"/>
                    </a:lnTo>
                    <a:lnTo>
                      <a:pt x="2651" y="809"/>
                    </a:lnTo>
                    <a:lnTo>
                      <a:pt x="2651" y="809"/>
                    </a:lnTo>
                    <a:lnTo>
                      <a:pt x="2237" y="809"/>
                    </a:lnTo>
                    <a:lnTo>
                      <a:pt x="2235" y="809"/>
                    </a:lnTo>
                    <a:lnTo>
                      <a:pt x="2234" y="811"/>
                    </a:lnTo>
                    <a:lnTo>
                      <a:pt x="2232" y="811"/>
                    </a:lnTo>
                    <a:lnTo>
                      <a:pt x="2230" y="812"/>
                    </a:lnTo>
                    <a:lnTo>
                      <a:pt x="2229" y="813"/>
                    </a:lnTo>
                    <a:lnTo>
                      <a:pt x="2229" y="816"/>
                    </a:lnTo>
                    <a:lnTo>
                      <a:pt x="2228" y="817"/>
                    </a:lnTo>
                    <a:lnTo>
                      <a:pt x="2228" y="818"/>
                    </a:lnTo>
                    <a:lnTo>
                      <a:pt x="2228" y="818"/>
                    </a:lnTo>
                    <a:lnTo>
                      <a:pt x="2228" y="925"/>
                    </a:lnTo>
                    <a:lnTo>
                      <a:pt x="2228" y="928"/>
                    </a:lnTo>
                    <a:lnTo>
                      <a:pt x="2229" y="929"/>
                    </a:lnTo>
                    <a:lnTo>
                      <a:pt x="2229" y="931"/>
                    </a:lnTo>
                    <a:lnTo>
                      <a:pt x="2230" y="932"/>
                    </a:lnTo>
                    <a:lnTo>
                      <a:pt x="2232" y="933"/>
                    </a:lnTo>
                    <a:lnTo>
                      <a:pt x="2234" y="934"/>
                    </a:lnTo>
                    <a:lnTo>
                      <a:pt x="2235" y="934"/>
                    </a:lnTo>
                    <a:lnTo>
                      <a:pt x="2237" y="934"/>
                    </a:lnTo>
                    <a:lnTo>
                      <a:pt x="2237" y="934"/>
                    </a:lnTo>
                    <a:close/>
                    <a:moveTo>
                      <a:pt x="2772" y="837"/>
                    </a:moveTo>
                    <a:lnTo>
                      <a:pt x="2742" y="837"/>
                    </a:lnTo>
                    <a:lnTo>
                      <a:pt x="2738" y="837"/>
                    </a:lnTo>
                    <a:lnTo>
                      <a:pt x="2734" y="837"/>
                    </a:lnTo>
                    <a:lnTo>
                      <a:pt x="2729" y="838"/>
                    </a:lnTo>
                    <a:lnTo>
                      <a:pt x="2725" y="840"/>
                    </a:lnTo>
                    <a:lnTo>
                      <a:pt x="2723" y="842"/>
                    </a:lnTo>
                    <a:lnTo>
                      <a:pt x="2719" y="843"/>
                    </a:lnTo>
                    <a:lnTo>
                      <a:pt x="2713" y="848"/>
                    </a:lnTo>
                    <a:lnTo>
                      <a:pt x="2708" y="855"/>
                    </a:lnTo>
                    <a:lnTo>
                      <a:pt x="2707" y="859"/>
                    </a:lnTo>
                    <a:lnTo>
                      <a:pt x="2704" y="862"/>
                    </a:lnTo>
                    <a:lnTo>
                      <a:pt x="2703" y="866"/>
                    </a:lnTo>
                    <a:lnTo>
                      <a:pt x="2702" y="870"/>
                    </a:lnTo>
                    <a:lnTo>
                      <a:pt x="2702" y="874"/>
                    </a:lnTo>
                    <a:lnTo>
                      <a:pt x="2702" y="877"/>
                    </a:lnTo>
                    <a:lnTo>
                      <a:pt x="2702" y="881"/>
                    </a:lnTo>
                    <a:lnTo>
                      <a:pt x="2702" y="885"/>
                    </a:lnTo>
                    <a:lnTo>
                      <a:pt x="2703" y="889"/>
                    </a:lnTo>
                    <a:lnTo>
                      <a:pt x="2704" y="893"/>
                    </a:lnTo>
                    <a:lnTo>
                      <a:pt x="2707" y="896"/>
                    </a:lnTo>
                    <a:lnTo>
                      <a:pt x="2708" y="899"/>
                    </a:lnTo>
                    <a:lnTo>
                      <a:pt x="2713" y="905"/>
                    </a:lnTo>
                    <a:lnTo>
                      <a:pt x="2719" y="910"/>
                    </a:lnTo>
                    <a:lnTo>
                      <a:pt x="2723" y="912"/>
                    </a:lnTo>
                    <a:lnTo>
                      <a:pt x="2725" y="913"/>
                    </a:lnTo>
                    <a:lnTo>
                      <a:pt x="2729" y="915"/>
                    </a:lnTo>
                    <a:lnTo>
                      <a:pt x="2734" y="915"/>
                    </a:lnTo>
                    <a:lnTo>
                      <a:pt x="2738" y="917"/>
                    </a:lnTo>
                    <a:lnTo>
                      <a:pt x="2742" y="917"/>
                    </a:lnTo>
                    <a:lnTo>
                      <a:pt x="2742" y="917"/>
                    </a:lnTo>
                    <a:lnTo>
                      <a:pt x="2783" y="917"/>
                    </a:lnTo>
                    <a:lnTo>
                      <a:pt x="2783" y="922"/>
                    </a:lnTo>
                    <a:lnTo>
                      <a:pt x="2784" y="928"/>
                    </a:lnTo>
                    <a:lnTo>
                      <a:pt x="2788" y="933"/>
                    </a:lnTo>
                    <a:lnTo>
                      <a:pt x="2792" y="938"/>
                    </a:lnTo>
                    <a:lnTo>
                      <a:pt x="2797" y="942"/>
                    </a:lnTo>
                    <a:lnTo>
                      <a:pt x="2799" y="944"/>
                    </a:lnTo>
                    <a:lnTo>
                      <a:pt x="2803" y="946"/>
                    </a:lnTo>
                    <a:lnTo>
                      <a:pt x="2806" y="948"/>
                    </a:lnTo>
                    <a:lnTo>
                      <a:pt x="2808" y="948"/>
                    </a:lnTo>
                    <a:lnTo>
                      <a:pt x="2812" y="949"/>
                    </a:lnTo>
                    <a:lnTo>
                      <a:pt x="2814" y="951"/>
                    </a:lnTo>
                    <a:lnTo>
                      <a:pt x="2821" y="951"/>
                    </a:lnTo>
                    <a:lnTo>
                      <a:pt x="2821" y="951"/>
                    </a:lnTo>
                    <a:lnTo>
                      <a:pt x="3009" y="951"/>
                    </a:lnTo>
                    <a:lnTo>
                      <a:pt x="3014" y="951"/>
                    </a:lnTo>
                    <a:lnTo>
                      <a:pt x="3017" y="949"/>
                    </a:lnTo>
                    <a:lnTo>
                      <a:pt x="3021" y="949"/>
                    </a:lnTo>
                    <a:lnTo>
                      <a:pt x="3025" y="948"/>
                    </a:lnTo>
                    <a:lnTo>
                      <a:pt x="3031" y="944"/>
                    </a:lnTo>
                    <a:lnTo>
                      <a:pt x="3036" y="942"/>
                    </a:lnTo>
                    <a:lnTo>
                      <a:pt x="3041" y="936"/>
                    </a:lnTo>
                    <a:lnTo>
                      <a:pt x="3044" y="933"/>
                    </a:lnTo>
                    <a:lnTo>
                      <a:pt x="3046" y="931"/>
                    </a:lnTo>
                    <a:lnTo>
                      <a:pt x="3047" y="927"/>
                    </a:lnTo>
                    <a:lnTo>
                      <a:pt x="3049" y="923"/>
                    </a:lnTo>
                    <a:lnTo>
                      <a:pt x="3050" y="920"/>
                    </a:lnTo>
                    <a:lnTo>
                      <a:pt x="3050" y="917"/>
                    </a:lnTo>
                    <a:lnTo>
                      <a:pt x="3050" y="917"/>
                    </a:lnTo>
                    <a:lnTo>
                      <a:pt x="3092" y="917"/>
                    </a:lnTo>
                    <a:lnTo>
                      <a:pt x="3097" y="917"/>
                    </a:lnTo>
                    <a:lnTo>
                      <a:pt x="3101" y="915"/>
                    </a:lnTo>
                    <a:lnTo>
                      <a:pt x="3105" y="915"/>
                    </a:lnTo>
                    <a:lnTo>
                      <a:pt x="3109" y="913"/>
                    </a:lnTo>
                    <a:lnTo>
                      <a:pt x="3113" y="912"/>
                    </a:lnTo>
                    <a:lnTo>
                      <a:pt x="3115" y="910"/>
                    </a:lnTo>
                    <a:lnTo>
                      <a:pt x="3121" y="905"/>
                    </a:lnTo>
                    <a:lnTo>
                      <a:pt x="3126" y="899"/>
                    </a:lnTo>
                    <a:lnTo>
                      <a:pt x="3129" y="896"/>
                    </a:lnTo>
                    <a:lnTo>
                      <a:pt x="3130" y="893"/>
                    </a:lnTo>
                    <a:lnTo>
                      <a:pt x="3131" y="889"/>
                    </a:lnTo>
                    <a:lnTo>
                      <a:pt x="3133" y="885"/>
                    </a:lnTo>
                    <a:lnTo>
                      <a:pt x="3134" y="881"/>
                    </a:lnTo>
                    <a:lnTo>
                      <a:pt x="3134" y="877"/>
                    </a:lnTo>
                    <a:lnTo>
                      <a:pt x="3134" y="877"/>
                    </a:lnTo>
                    <a:lnTo>
                      <a:pt x="3134" y="874"/>
                    </a:lnTo>
                    <a:lnTo>
                      <a:pt x="3133" y="870"/>
                    </a:lnTo>
                    <a:lnTo>
                      <a:pt x="3131" y="866"/>
                    </a:lnTo>
                    <a:lnTo>
                      <a:pt x="3130" y="862"/>
                    </a:lnTo>
                    <a:lnTo>
                      <a:pt x="3129" y="859"/>
                    </a:lnTo>
                    <a:lnTo>
                      <a:pt x="3126" y="855"/>
                    </a:lnTo>
                    <a:lnTo>
                      <a:pt x="3121" y="848"/>
                    </a:lnTo>
                    <a:lnTo>
                      <a:pt x="3115" y="843"/>
                    </a:lnTo>
                    <a:lnTo>
                      <a:pt x="3113" y="842"/>
                    </a:lnTo>
                    <a:lnTo>
                      <a:pt x="3109" y="840"/>
                    </a:lnTo>
                    <a:lnTo>
                      <a:pt x="3105" y="838"/>
                    </a:lnTo>
                    <a:lnTo>
                      <a:pt x="3101" y="837"/>
                    </a:lnTo>
                    <a:lnTo>
                      <a:pt x="3097" y="837"/>
                    </a:lnTo>
                    <a:lnTo>
                      <a:pt x="3092" y="837"/>
                    </a:lnTo>
                    <a:lnTo>
                      <a:pt x="3092" y="837"/>
                    </a:lnTo>
                    <a:lnTo>
                      <a:pt x="3061" y="837"/>
                    </a:lnTo>
                    <a:lnTo>
                      <a:pt x="3061" y="832"/>
                    </a:lnTo>
                    <a:lnTo>
                      <a:pt x="3060" y="827"/>
                    </a:lnTo>
                    <a:lnTo>
                      <a:pt x="3057" y="822"/>
                    </a:lnTo>
                    <a:lnTo>
                      <a:pt x="3055" y="817"/>
                    </a:lnTo>
                    <a:lnTo>
                      <a:pt x="3051" y="814"/>
                    </a:lnTo>
                    <a:lnTo>
                      <a:pt x="3049" y="812"/>
                    </a:lnTo>
                    <a:lnTo>
                      <a:pt x="3045" y="809"/>
                    </a:lnTo>
                    <a:lnTo>
                      <a:pt x="3041" y="807"/>
                    </a:lnTo>
                    <a:lnTo>
                      <a:pt x="3037" y="806"/>
                    </a:lnTo>
                    <a:lnTo>
                      <a:pt x="3034" y="804"/>
                    </a:lnTo>
                    <a:lnTo>
                      <a:pt x="3029" y="803"/>
                    </a:lnTo>
                    <a:lnTo>
                      <a:pt x="3025" y="803"/>
                    </a:lnTo>
                    <a:lnTo>
                      <a:pt x="3025" y="803"/>
                    </a:lnTo>
                    <a:lnTo>
                      <a:pt x="2809" y="803"/>
                    </a:lnTo>
                    <a:lnTo>
                      <a:pt x="2806" y="803"/>
                    </a:lnTo>
                    <a:lnTo>
                      <a:pt x="2802" y="804"/>
                    </a:lnTo>
                    <a:lnTo>
                      <a:pt x="2797" y="806"/>
                    </a:lnTo>
                    <a:lnTo>
                      <a:pt x="2793" y="807"/>
                    </a:lnTo>
                    <a:lnTo>
                      <a:pt x="2789" y="809"/>
                    </a:lnTo>
                    <a:lnTo>
                      <a:pt x="2787" y="812"/>
                    </a:lnTo>
                    <a:lnTo>
                      <a:pt x="2783" y="814"/>
                    </a:lnTo>
                    <a:lnTo>
                      <a:pt x="2780" y="817"/>
                    </a:lnTo>
                    <a:lnTo>
                      <a:pt x="2778" y="822"/>
                    </a:lnTo>
                    <a:lnTo>
                      <a:pt x="2775" y="827"/>
                    </a:lnTo>
                    <a:lnTo>
                      <a:pt x="2773" y="832"/>
                    </a:lnTo>
                    <a:lnTo>
                      <a:pt x="2772" y="837"/>
                    </a:lnTo>
                    <a:lnTo>
                      <a:pt x="2772" y="837"/>
                    </a:lnTo>
                    <a:close/>
                    <a:moveTo>
                      <a:pt x="3384" y="775"/>
                    </a:moveTo>
                    <a:lnTo>
                      <a:pt x="3176" y="775"/>
                    </a:lnTo>
                    <a:lnTo>
                      <a:pt x="3176" y="942"/>
                    </a:lnTo>
                    <a:lnTo>
                      <a:pt x="3384" y="942"/>
                    </a:lnTo>
                    <a:lnTo>
                      <a:pt x="3384" y="775"/>
                    </a:lnTo>
                    <a:lnTo>
                      <a:pt x="3384" y="775"/>
                    </a:lnTo>
                    <a:close/>
                    <a:moveTo>
                      <a:pt x="3000" y="0"/>
                    </a:moveTo>
                    <a:lnTo>
                      <a:pt x="2918" y="0"/>
                    </a:lnTo>
                    <a:lnTo>
                      <a:pt x="2915" y="1"/>
                    </a:lnTo>
                    <a:lnTo>
                      <a:pt x="2911" y="3"/>
                    </a:lnTo>
                    <a:lnTo>
                      <a:pt x="2908" y="4"/>
                    </a:lnTo>
                    <a:lnTo>
                      <a:pt x="2906" y="6"/>
                    </a:lnTo>
                    <a:lnTo>
                      <a:pt x="2903" y="10"/>
                    </a:lnTo>
                    <a:lnTo>
                      <a:pt x="2902" y="13"/>
                    </a:lnTo>
                    <a:lnTo>
                      <a:pt x="2901" y="16"/>
                    </a:lnTo>
                    <a:lnTo>
                      <a:pt x="2901" y="21"/>
                    </a:lnTo>
                    <a:lnTo>
                      <a:pt x="2901" y="21"/>
                    </a:lnTo>
                    <a:lnTo>
                      <a:pt x="2901" y="93"/>
                    </a:lnTo>
                    <a:lnTo>
                      <a:pt x="2901" y="97"/>
                    </a:lnTo>
                    <a:lnTo>
                      <a:pt x="2902" y="101"/>
                    </a:lnTo>
                    <a:lnTo>
                      <a:pt x="2903" y="104"/>
                    </a:lnTo>
                    <a:lnTo>
                      <a:pt x="2906" y="106"/>
                    </a:lnTo>
                    <a:lnTo>
                      <a:pt x="2908" y="109"/>
                    </a:lnTo>
                    <a:lnTo>
                      <a:pt x="2911" y="111"/>
                    </a:lnTo>
                    <a:lnTo>
                      <a:pt x="2915" y="111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3000" y="112"/>
                    </a:lnTo>
                    <a:lnTo>
                      <a:pt x="3000" y="0"/>
                    </a:lnTo>
                    <a:lnTo>
                      <a:pt x="3000" y="0"/>
                    </a:lnTo>
                    <a:close/>
                    <a:moveTo>
                      <a:pt x="3000" y="580"/>
                    </a:moveTo>
                    <a:lnTo>
                      <a:pt x="2918" y="580"/>
                    </a:lnTo>
                    <a:lnTo>
                      <a:pt x="2915" y="580"/>
                    </a:lnTo>
                    <a:lnTo>
                      <a:pt x="2911" y="581"/>
                    </a:lnTo>
                    <a:lnTo>
                      <a:pt x="2908" y="583"/>
                    </a:lnTo>
                    <a:lnTo>
                      <a:pt x="2906" y="585"/>
                    </a:lnTo>
                    <a:lnTo>
                      <a:pt x="2903" y="588"/>
                    </a:lnTo>
                    <a:lnTo>
                      <a:pt x="2902" y="591"/>
                    </a:lnTo>
                    <a:lnTo>
                      <a:pt x="2901" y="595"/>
                    </a:lnTo>
                    <a:lnTo>
                      <a:pt x="2901" y="597"/>
                    </a:lnTo>
                    <a:lnTo>
                      <a:pt x="2901" y="597"/>
                    </a:lnTo>
                    <a:lnTo>
                      <a:pt x="2901" y="670"/>
                    </a:lnTo>
                    <a:lnTo>
                      <a:pt x="2901" y="674"/>
                    </a:lnTo>
                    <a:lnTo>
                      <a:pt x="2902" y="678"/>
                    </a:lnTo>
                    <a:lnTo>
                      <a:pt x="2903" y="682"/>
                    </a:lnTo>
                    <a:lnTo>
                      <a:pt x="2906" y="686"/>
                    </a:lnTo>
                    <a:lnTo>
                      <a:pt x="2908" y="688"/>
                    </a:lnTo>
                    <a:lnTo>
                      <a:pt x="2911" y="689"/>
                    </a:lnTo>
                    <a:lnTo>
                      <a:pt x="2915" y="691"/>
                    </a:lnTo>
                    <a:lnTo>
                      <a:pt x="2918" y="691"/>
                    </a:lnTo>
                    <a:lnTo>
                      <a:pt x="2918" y="691"/>
                    </a:lnTo>
                    <a:lnTo>
                      <a:pt x="3000" y="691"/>
                    </a:lnTo>
                    <a:lnTo>
                      <a:pt x="3000" y="580"/>
                    </a:lnTo>
                    <a:lnTo>
                      <a:pt x="3000" y="580"/>
                    </a:lnTo>
                    <a:close/>
                    <a:moveTo>
                      <a:pt x="0" y="880"/>
                    </a:moveTo>
                    <a:lnTo>
                      <a:pt x="0" y="925"/>
                    </a:lnTo>
                    <a:lnTo>
                      <a:pt x="125" y="925"/>
                    </a:lnTo>
                    <a:lnTo>
                      <a:pt x="125" y="880"/>
                    </a:lnTo>
                    <a:lnTo>
                      <a:pt x="0" y="880"/>
                    </a:lnTo>
                    <a:lnTo>
                      <a:pt x="0" y="880"/>
                    </a:lnTo>
                    <a:close/>
                    <a:moveTo>
                      <a:pt x="822" y="880"/>
                    </a:moveTo>
                    <a:lnTo>
                      <a:pt x="822" y="925"/>
                    </a:lnTo>
                    <a:lnTo>
                      <a:pt x="945" y="925"/>
                    </a:lnTo>
                    <a:lnTo>
                      <a:pt x="945" y="880"/>
                    </a:lnTo>
                    <a:lnTo>
                      <a:pt x="822" y="880"/>
                    </a:lnTo>
                    <a:lnTo>
                      <a:pt x="822" y="880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7" name=""/>
              <p:cNvSpPr/>
              <p:nvPr/>
            </p:nvSpPr>
            <p:spPr>
              <a:xfrm>
                <a:off x="4826520" y="4269600"/>
                <a:ext cx="106200" cy="8820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78"/>
                    </a:moveTo>
                    <a:lnTo>
                      <a:pt x="157" y="69"/>
                    </a:lnTo>
                    <a:lnTo>
                      <a:pt x="155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8" y="40"/>
                    </a:lnTo>
                    <a:lnTo>
                      <a:pt x="144" y="34"/>
                    </a:lnTo>
                    <a:lnTo>
                      <a:pt x="139" y="28"/>
                    </a:lnTo>
                    <a:lnTo>
                      <a:pt x="134" y="23"/>
                    </a:lnTo>
                    <a:lnTo>
                      <a:pt x="129" y="18"/>
                    </a:lnTo>
                    <a:lnTo>
                      <a:pt x="123" y="14"/>
                    </a:lnTo>
                    <a:lnTo>
                      <a:pt x="117" y="10"/>
                    </a:lnTo>
                    <a:lnTo>
                      <a:pt x="110" y="6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1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24" y="23"/>
                    </a:lnTo>
                    <a:lnTo>
                      <a:pt x="19" y="28"/>
                    </a:lnTo>
                    <a:lnTo>
                      <a:pt x="14" y="34"/>
                    </a:lnTo>
                    <a:lnTo>
                      <a:pt x="10" y="40"/>
                    </a:lnTo>
                    <a:lnTo>
                      <a:pt x="8" y="48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1" y="69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2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9" y="129"/>
                    </a:lnTo>
                    <a:lnTo>
                      <a:pt x="24" y="134"/>
                    </a:lnTo>
                    <a:lnTo>
                      <a:pt x="30" y="139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9" y="152"/>
                    </a:lnTo>
                    <a:lnTo>
                      <a:pt x="56" y="154"/>
                    </a:lnTo>
                    <a:lnTo>
                      <a:pt x="64" y="157"/>
                    </a:lnTo>
                    <a:lnTo>
                      <a:pt x="71" y="158"/>
                    </a:lnTo>
                    <a:lnTo>
                      <a:pt x="80" y="158"/>
                    </a:lnTo>
                    <a:lnTo>
                      <a:pt x="88" y="158"/>
                    </a:lnTo>
                    <a:lnTo>
                      <a:pt x="95" y="157"/>
                    </a:lnTo>
                    <a:lnTo>
                      <a:pt x="103" y="154"/>
                    </a:lnTo>
                    <a:lnTo>
                      <a:pt x="110" y="152"/>
                    </a:lnTo>
                    <a:lnTo>
                      <a:pt x="117" y="148"/>
                    </a:lnTo>
                    <a:lnTo>
                      <a:pt x="123" y="144"/>
                    </a:lnTo>
                    <a:lnTo>
                      <a:pt x="129" y="139"/>
                    </a:lnTo>
                    <a:lnTo>
                      <a:pt x="134" y="134"/>
                    </a:lnTo>
                    <a:lnTo>
                      <a:pt x="139" y="129"/>
                    </a:lnTo>
                    <a:lnTo>
                      <a:pt x="144" y="123"/>
                    </a:lnTo>
                    <a:lnTo>
                      <a:pt x="148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5" y="93"/>
                    </a:lnTo>
                    <a:lnTo>
                      <a:pt x="157" y="86"/>
                    </a:lnTo>
                    <a:lnTo>
                      <a:pt x="157" y="78"/>
                    </a:lnTo>
                    <a:lnTo>
                      <a:pt x="157" y="78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8" name=""/>
              <p:cNvSpPr/>
              <p:nvPr/>
            </p:nvSpPr>
            <p:spPr>
              <a:xfrm>
                <a:off x="5001120" y="4269600"/>
                <a:ext cx="106200" cy="88200"/>
              </a:xfrm>
              <a:custGeom>
                <a:avLst/>
                <a:gdLst/>
                <a:ahLst/>
                <a:rect l="l" t="t" r="r" b="b"/>
                <a:pathLst>
                  <a:path w="155" h="158">
                    <a:moveTo>
                      <a:pt x="155" y="78"/>
                    </a:moveTo>
                    <a:lnTo>
                      <a:pt x="155" y="69"/>
                    </a:lnTo>
                    <a:lnTo>
                      <a:pt x="154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6" y="40"/>
                    </a:lnTo>
                    <a:lnTo>
                      <a:pt x="143" y="34"/>
                    </a:lnTo>
                    <a:lnTo>
                      <a:pt x="138" y="28"/>
                    </a:lnTo>
                    <a:lnTo>
                      <a:pt x="133" y="23"/>
                    </a:lnTo>
                    <a:lnTo>
                      <a:pt x="128" y="18"/>
                    </a:lnTo>
                    <a:lnTo>
                      <a:pt x="121" y="14"/>
                    </a:lnTo>
                    <a:lnTo>
                      <a:pt x="115" y="10"/>
                    </a:lnTo>
                    <a:lnTo>
                      <a:pt x="109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6" y="1"/>
                    </a:lnTo>
                    <a:lnTo>
                      <a:pt x="79" y="0"/>
                    </a:lnTo>
                    <a:lnTo>
                      <a:pt x="70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7" y="6"/>
                    </a:lnTo>
                    <a:lnTo>
                      <a:pt x="41" y="10"/>
                    </a:lnTo>
                    <a:lnTo>
                      <a:pt x="35" y="14"/>
                    </a:lnTo>
                    <a:lnTo>
                      <a:pt x="29" y="18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4" y="34"/>
                    </a:lnTo>
                    <a:lnTo>
                      <a:pt x="9" y="40"/>
                    </a:lnTo>
                    <a:lnTo>
                      <a:pt x="6" y="48"/>
                    </a:lnTo>
                    <a:lnTo>
                      <a:pt x="2" y="54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" y="93"/>
                    </a:lnTo>
                    <a:lnTo>
                      <a:pt x="2" y="101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4" y="123"/>
                    </a:lnTo>
                    <a:lnTo>
                      <a:pt x="17" y="129"/>
                    </a:lnTo>
                    <a:lnTo>
                      <a:pt x="22" y="134"/>
                    </a:lnTo>
                    <a:lnTo>
                      <a:pt x="29" y="139"/>
                    </a:lnTo>
                    <a:lnTo>
                      <a:pt x="35" y="144"/>
                    </a:lnTo>
                    <a:lnTo>
                      <a:pt x="41" y="148"/>
                    </a:lnTo>
                    <a:lnTo>
                      <a:pt x="47" y="152"/>
                    </a:lnTo>
                    <a:lnTo>
                      <a:pt x="55" y="154"/>
                    </a:lnTo>
                    <a:lnTo>
                      <a:pt x="62" y="157"/>
                    </a:lnTo>
                    <a:lnTo>
                      <a:pt x="70" y="158"/>
                    </a:lnTo>
                    <a:lnTo>
                      <a:pt x="79" y="158"/>
                    </a:lnTo>
                    <a:lnTo>
                      <a:pt x="86" y="158"/>
                    </a:lnTo>
                    <a:lnTo>
                      <a:pt x="94" y="157"/>
                    </a:lnTo>
                    <a:lnTo>
                      <a:pt x="101" y="154"/>
                    </a:lnTo>
                    <a:lnTo>
                      <a:pt x="109" y="152"/>
                    </a:lnTo>
                    <a:lnTo>
                      <a:pt x="115" y="148"/>
                    </a:lnTo>
                    <a:lnTo>
                      <a:pt x="121" y="144"/>
                    </a:lnTo>
                    <a:lnTo>
                      <a:pt x="128" y="139"/>
                    </a:lnTo>
                    <a:lnTo>
                      <a:pt x="133" y="134"/>
                    </a:lnTo>
                    <a:lnTo>
                      <a:pt x="138" y="129"/>
                    </a:lnTo>
                    <a:lnTo>
                      <a:pt x="143" y="123"/>
                    </a:lnTo>
                    <a:lnTo>
                      <a:pt x="146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4" y="93"/>
                    </a:lnTo>
                    <a:lnTo>
                      <a:pt x="155" y="86"/>
                    </a:lnTo>
                    <a:lnTo>
                      <a:pt x="155" y="78"/>
                    </a:lnTo>
                    <a:lnTo>
                      <a:pt x="155" y="78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9" name=""/>
              <p:cNvSpPr/>
              <p:nvPr/>
            </p:nvSpPr>
            <p:spPr>
              <a:xfrm>
                <a:off x="5177880" y="4278960"/>
                <a:ext cx="293760" cy="80640"/>
              </a:xfrm>
              <a:custGeom>
                <a:avLst/>
                <a:gdLst/>
                <a:ahLst/>
                <a:rect l="l" t="t" r="r" b="b"/>
                <a:pathLst>
                  <a:path w="431" h="146">
                    <a:moveTo>
                      <a:pt x="70" y="32"/>
                    </a:moveTo>
                    <a:lnTo>
                      <a:pt x="42" y="32"/>
                    </a:lnTo>
                    <a:lnTo>
                      <a:pt x="38" y="32"/>
                    </a:lnTo>
                    <a:lnTo>
                      <a:pt x="33" y="33"/>
                    </a:lnTo>
                    <a:lnTo>
                      <a:pt x="29" y="35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3" y="45"/>
                    </a:lnTo>
                    <a:lnTo>
                      <a:pt x="8" y="50"/>
                    </a:lnTo>
                    <a:lnTo>
                      <a:pt x="5" y="53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9"/>
                    </a:lnTo>
                    <a:lnTo>
                      <a:pt x="5" y="93"/>
                    </a:lnTo>
                    <a:lnTo>
                      <a:pt x="8" y="96"/>
                    </a:lnTo>
                    <a:lnTo>
                      <a:pt x="13" y="103"/>
                    </a:lnTo>
                    <a:lnTo>
                      <a:pt x="19" y="108"/>
                    </a:lnTo>
                    <a:lnTo>
                      <a:pt x="22" y="109"/>
                    </a:lnTo>
                    <a:lnTo>
                      <a:pt x="25" y="112"/>
                    </a:lnTo>
                    <a:lnTo>
                      <a:pt x="29" y="113"/>
                    </a:lnTo>
                    <a:lnTo>
                      <a:pt x="33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82" y="114"/>
                    </a:lnTo>
                    <a:lnTo>
                      <a:pt x="82" y="119"/>
                    </a:lnTo>
                    <a:lnTo>
                      <a:pt x="84" y="125"/>
                    </a:lnTo>
                    <a:lnTo>
                      <a:pt x="87" y="131"/>
                    </a:lnTo>
                    <a:lnTo>
                      <a:pt x="92" y="136"/>
                    </a:lnTo>
                    <a:lnTo>
                      <a:pt x="95" y="139"/>
                    </a:lnTo>
                    <a:lnTo>
                      <a:pt x="102" y="142"/>
                    </a:lnTo>
                    <a:lnTo>
                      <a:pt x="108" y="144"/>
                    </a:lnTo>
                    <a:lnTo>
                      <a:pt x="114" y="146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308" y="146"/>
                    </a:lnTo>
                    <a:lnTo>
                      <a:pt x="315" y="146"/>
                    </a:lnTo>
                    <a:lnTo>
                      <a:pt x="318" y="146"/>
                    </a:lnTo>
                    <a:lnTo>
                      <a:pt x="322" y="144"/>
                    </a:lnTo>
                    <a:lnTo>
                      <a:pt x="326" y="143"/>
                    </a:lnTo>
                    <a:lnTo>
                      <a:pt x="328" y="142"/>
                    </a:lnTo>
                    <a:lnTo>
                      <a:pt x="332" y="139"/>
                    </a:lnTo>
                    <a:lnTo>
                      <a:pt x="336" y="137"/>
                    </a:lnTo>
                    <a:lnTo>
                      <a:pt x="338" y="136"/>
                    </a:lnTo>
                    <a:lnTo>
                      <a:pt x="340" y="133"/>
                    </a:lnTo>
                    <a:lnTo>
                      <a:pt x="342" y="131"/>
                    </a:lnTo>
                    <a:lnTo>
                      <a:pt x="345" y="128"/>
                    </a:lnTo>
                    <a:lnTo>
                      <a:pt x="347" y="122"/>
                    </a:lnTo>
                    <a:lnTo>
                      <a:pt x="350" y="114"/>
                    </a:lnTo>
                    <a:lnTo>
                      <a:pt x="350" y="114"/>
                    </a:lnTo>
                    <a:lnTo>
                      <a:pt x="390" y="114"/>
                    </a:lnTo>
                    <a:lnTo>
                      <a:pt x="394" y="114"/>
                    </a:lnTo>
                    <a:lnTo>
                      <a:pt x="399" y="114"/>
                    </a:lnTo>
                    <a:lnTo>
                      <a:pt x="402" y="113"/>
                    </a:lnTo>
                    <a:lnTo>
                      <a:pt x="406" y="112"/>
                    </a:lnTo>
                    <a:lnTo>
                      <a:pt x="410" y="109"/>
                    </a:lnTo>
                    <a:lnTo>
                      <a:pt x="412" y="108"/>
                    </a:lnTo>
                    <a:lnTo>
                      <a:pt x="419" y="103"/>
                    </a:lnTo>
                    <a:lnTo>
                      <a:pt x="424" y="96"/>
                    </a:lnTo>
                    <a:lnTo>
                      <a:pt x="426" y="93"/>
                    </a:lnTo>
                    <a:lnTo>
                      <a:pt x="427" y="89"/>
                    </a:lnTo>
                    <a:lnTo>
                      <a:pt x="429" y="85"/>
                    </a:lnTo>
                    <a:lnTo>
                      <a:pt x="430" y="81"/>
                    </a:lnTo>
                    <a:lnTo>
                      <a:pt x="430" y="77"/>
                    </a:lnTo>
                    <a:lnTo>
                      <a:pt x="431" y="74"/>
                    </a:lnTo>
                    <a:lnTo>
                      <a:pt x="431" y="74"/>
                    </a:lnTo>
                    <a:lnTo>
                      <a:pt x="430" y="69"/>
                    </a:lnTo>
                    <a:lnTo>
                      <a:pt x="430" y="65"/>
                    </a:lnTo>
                    <a:lnTo>
                      <a:pt x="429" y="61"/>
                    </a:lnTo>
                    <a:lnTo>
                      <a:pt x="427" y="57"/>
                    </a:lnTo>
                    <a:lnTo>
                      <a:pt x="426" y="53"/>
                    </a:lnTo>
                    <a:lnTo>
                      <a:pt x="424" y="50"/>
                    </a:lnTo>
                    <a:lnTo>
                      <a:pt x="419" y="45"/>
                    </a:lnTo>
                    <a:lnTo>
                      <a:pt x="412" y="40"/>
                    </a:lnTo>
                    <a:lnTo>
                      <a:pt x="410" y="37"/>
                    </a:lnTo>
                    <a:lnTo>
                      <a:pt x="406" y="36"/>
                    </a:lnTo>
                    <a:lnTo>
                      <a:pt x="402" y="35"/>
                    </a:lnTo>
                    <a:lnTo>
                      <a:pt x="399" y="33"/>
                    </a:lnTo>
                    <a:lnTo>
                      <a:pt x="394" y="32"/>
                    </a:lnTo>
                    <a:lnTo>
                      <a:pt x="390" y="32"/>
                    </a:lnTo>
                    <a:lnTo>
                      <a:pt x="390" y="32"/>
                    </a:lnTo>
                    <a:lnTo>
                      <a:pt x="361" y="32"/>
                    </a:lnTo>
                    <a:lnTo>
                      <a:pt x="360" y="30"/>
                    </a:lnTo>
                    <a:lnTo>
                      <a:pt x="360" y="27"/>
                    </a:lnTo>
                    <a:lnTo>
                      <a:pt x="359" y="24"/>
                    </a:lnTo>
                    <a:lnTo>
                      <a:pt x="357" y="22"/>
                    </a:lnTo>
                    <a:lnTo>
                      <a:pt x="355" y="18"/>
                    </a:lnTo>
                    <a:lnTo>
                      <a:pt x="351" y="14"/>
                    </a:lnTo>
                    <a:lnTo>
                      <a:pt x="349" y="11"/>
                    </a:lnTo>
                    <a:lnTo>
                      <a:pt x="346" y="8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36" y="2"/>
                    </a:lnTo>
                    <a:lnTo>
                      <a:pt x="332" y="2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4" y="18"/>
                    </a:lnTo>
                    <a:lnTo>
                      <a:pt x="73" y="22"/>
                    </a:lnTo>
                    <a:lnTo>
                      <a:pt x="72" y="27"/>
                    </a:lnTo>
                    <a:lnTo>
                      <a:pt x="70" y="32"/>
                    </a:lnTo>
                    <a:lnTo>
                      <a:pt x="70" y="32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0" name=""/>
              <p:cNvSpPr/>
              <p:nvPr/>
            </p:nvSpPr>
            <p:spPr>
              <a:xfrm>
                <a:off x="5530320" y="4284000"/>
                <a:ext cx="295200" cy="68760"/>
              </a:xfrm>
              <a:custGeom>
                <a:avLst/>
                <a:gdLst/>
                <a:ahLst/>
                <a:rect l="l" t="t" r="r" b="b"/>
                <a:pathLst>
                  <a:path w="432" h="125">
                    <a:moveTo>
                      <a:pt x="9" y="125"/>
                    </a:moveTo>
                    <a:lnTo>
                      <a:pt x="423" y="125"/>
                    </a:lnTo>
                    <a:lnTo>
                      <a:pt x="425" y="125"/>
                    </a:lnTo>
                    <a:lnTo>
                      <a:pt x="427" y="125"/>
                    </a:lnTo>
                    <a:lnTo>
                      <a:pt x="428" y="124"/>
                    </a:lnTo>
                    <a:lnTo>
                      <a:pt x="430" y="123"/>
                    </a:lnTo>
                    <a:lnTo>
                      <a:pt x="431" y="122"/>
                    </a:lnTo>
                    <a:lnTo>
                      <a:pt x="432" y="120"/>
                    </a:lnTo>
                    <a:lnTo>
                      <a:pt x="432" y="119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9"/>
                    </a:lnTo>
                    <a:lnTo>
                      <a:pt x="432" y="8"/>
                    </a:lnTo>
                    <a:lnTo>
                      <a:pt x="432" y="7"/>
                    </a:lnTo>
                    <a:lnTo>
                      <a:pt x="431" y="4"/>
                    </a:lnTo>
                    <a:lnTo>
                      <a:pt x="430" y="3"/>
                    </a:lnTo>
                    <a:lnTo>
                      <a:pt x="428" y="2"/>
                    </a:lnTo>
                    <a:lnTo>
                      <a:pt x="427" y="2"/>
                    </a:lnTo>
                    <a:lnTo>
                      <a:pt x="425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2" y="123"/>
                    </a:lnTo>
                    <a:lnTo>
                      <a:pt x="4" y="124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9" y="125"/>
                    </a:lnTo>
                    <a:lnTo>
                      <a:pt x="9" y="125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1" name=""/>
              <p:cNvSpPr/>
              <p:nvPr/>
            </p:nvSpPr>
            <p:spPr>
              <a:xfrm>
                <a:off x="5853240" y="4279680"/>
                <a:ext cx="293760" cy="82440"/>
              </a:xfrm>
              <a:custGeom>
                <a:avLst/>
                <a:gdLst/>
                <a:ahLst/>
                <a:rect l="l" t="t" r="r" b="b"/>
                <a:pathLst>
                  <a:path w="432" h="148">
                    <a:moveTo>
                      <a:pt x="70" y="34"/>
                    </a:moveTo>
                    <a:lnTo>
                      <a:pt x="40" y="34"/>
                    </a:lnTo>
                    <a:lnTo>
                      <a:pt x="36" y="34"/>
                    </a:lnTo>
                    <a:lnTo>
                      <a:pt x="32" y="34"/>
                    </a:lnTo>
                    <a:lnTo>
                      <a:pt x="27" y="35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1" y="45"/>
                    </a:lnTo>
                    <a:lnTo>
                      <a:pt x="6" y="52"/>
                    </a:lnTo>
                    <a:lnTo>
                      <a:pt x="5" y="56"/>
                    </a:lnTo>
                    <a:lnTo>
                      <a:pt x="2" y="59"/>
                    </a:lnTo>
                    <a:lnTo>
                      <a:pt x="1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6"/>
                    </a:lnTo>
                    <a:lnTo>
                      <a:pt x="2" y="90"/>
                    </a:lnTo>
                    <a:lnTo>
                      <a:pt x="5" y="93"/>
                    </a:lnTo>
                    <a:lnTo>
                      <a:pt x="6" y="96"/>
                    </a:lnTo>
                    <a:lnTo>
                      <a:pt x="11" y="102"/>
                    </a:lnTo>
                    <a:lnTo>
                      <a:pt x="17" y="107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2"/>
                    </a:lnTo>
                    <a:lnTo>
                      <a:pt x="32" y="112"/>
                    </a:lnTo>
                    <a:lnTo>
                      <a:pt x="36" y="114"/>
                    </a:lnTo>
                    <a:lnTo>
                      <a:pt x="40" y="114"/>
                    </a:lnTo>
                    <a:lnTo>
                      <a:pt x="40" y="114"/>
                    </a:lnTo>
                    <a:lnTo>
                      <a:pt x="81" y="114"/>
                    </a:lnTo>
                    <a:lnTo>
                      <a:pt x="81" y="119"/>
                    </a:lnTo>
                    <a:lnTo>
                      <a:pt x="82" y="125"/>
                    </a:lnTo>
                    <a:lnTo>
                      <a:pt x="86" y="130"/>
                    </a:lnTo>
                    <a:lnTo>
                      <a:pt x="90" y="135"/>
                    </a:lnTo>
                    <a:lnTo>
                      <a:pt x="95" y="139"/>
                    </a:lnTo>
                    <a:lnTo>
                      <a:pt x="97" y="141"/>
                    </a:lnTo>
                    <a:lnTo>
                      <a:pt x="101" y="143"/>
                    </a:lnTo>
                    <a:lnTo>
                      <a:pt x="104" y="145"/>
                    </a:lnTo>
                    <a:lnTo>
                      <a:pt x="106" y="145"/>
                    </a:lnTo>
                    <a:lnTo>
                      <a:pt x="110" y="146"/>
                    </a:lnTo>
                    <a:lnTo>
                      <a:pt x="112" y="148"/>
                    </a:lnTo>
                    <a:lnTo>
                      <a:pt x="119" y="148"/>
                    </a:lnTo>
                    <a:lnTo>
                      <a:pt x="119" y="148"/>
                    </a:lnTo>
                    <a:lnTo>
                      <a:pt x="307" y="148"/>
                    </a:lnTo>
                    <a:lnTo>
                      <a:pt x="312" y="148"/>
                    </a:lnTo>
                    <a:lnTo>
                      <a:pt x="315" y="146"/>
                    </a:lnTo>
                    <a:lnTo>
                      <a:pt x="319" y="146"/>
                    </a:lnTo>
                    <a:lnTo>
                      <a:pt x="323" y="145"/>
                    </a:lnTo>
                    <a:lnTo>
                      <a:pt x="329" y="141"/>
                    </a:lnTo>
                    <a:lnTo>
                      <a:pt x="334" y="139"/>
                    </a:lnTo>
                    <a:lnTo>
                      <a:pt x="339" y="133"/>
                    </a:lnTo>
                    <a:lnTo>
                      <a:pt x="342" y="130"/>
                    </a:lnTo>
                    <a:lnTo>
                      <a:pt x="344" y="128"/>
                    </a:lnTo>
                    <a:lnTo>
                      <a:pt x="345" y="124"/>
                    </a:lnTo>
                    <a:lnTo>
                      <a:pt x="347" y="120"/>
                    </a:lnTo>
                    <a:lnTo>
                      <a:pt x="348" y="117"/>
                    </a:lnTo>
                    <a:lnTo>
                      <a:pt x="348" y="114"/>
                    </a:lnTo>
                    <a:lnTo>
                      <a:pt x="348" y="114"/>
                    </a:lnTo>
                    <a:lnTo>
                      <a:pt x="390" y="114"/>
                    </a:lnTo>
                    <a:lnTo>
                      <a:pt x="395" y="114"/>
                    </a:lnTo>
                    <a:lnTo>
                      <a:pt x="399" y="112"/>
                    </a:lnTo>
                    <a:lnTo>
                      <a:pt x="403" y="112"/>
                    </a:lnTo>
                    <a:lnTo>
                      <a:pt x="407" y="110"/>
                    </a:lnTo>
                    <a:lnTo>
                      <a:pt x="411" y="109"/>
                    </a:lnTo>
                    <a:lnTo>
                      <a:pt x="413" y="107"/>
                    </a:lnTo>
                    <a:lnTo>
                      <a:pt x="419" y="102"/>
                    </a:lnTo>
                    <a:lnTo>
                      <a:pt x="424" y="96"/>
                    </a:lnTo>
                    <a:lnTo>
                      <a:pt x="427" y="93"/>
                    </a:lnTo>
                    <a:lnTo>
                      <a:pt x="428" y="90"/>
                    </a:lnTo>
                    <a:lnTo>
                      <a:pt x="429" y="86"/>
                    </a:lnTo>
                    <a:lnTo>
                      <a:pt x="431" y="82"/>
                    </a:lnTo>
                    <a:lnTo>
                      <a:pt x="432" y="78"/>
                    </a:lnTo>
                    <a:lnTo>
                      <a:pt x="432" y="74"/>
                    </a:lnTo>
                    <a:lnTo>
                      <a:pt x="432" y="74"/>
                    </a:lnTo>
                    <a:lnTo>
                      <a:pt x="432" y="71"/>
                    </a:lnTo>
                    <a:lnTo>
                      <a:pt x="431" y="67"/>
                    </a:lnTo>
                    <a:lnTo>
                      <a:pt x="429" y="63"/>
                    </a:lnTo>
                    <a:lnTo>
                      <a:pt x="428" y="59"/>
                    </a:lnTo>
                    <a:lnTo>
                      <a:pt x="427" y="56"/>
                    </a:lnTo>
                    <a:lnTo>
                      <a:pt x="424" y="52"/>
                    </a:lnTo>
                    <a:lnTo>
                      <a:pt x="419" y="45"/>
                    </a:lnTo>
                    <a:lnTo>
                      <a:pt x="413" y="40"/>
                    </a:lnTo>
                    <a:lnTo>
                      <a:pt x="411" y="39"/>
                    </a:lnTo>
                    <a:lnTo>
                      <a:pt x="407" y="37"/>
                    </a:lnTo>
                    <a:lnTo>
                      <a:pt x="403" y="35"/>
                    </a:lnTo>
                    <a:lnTo>
                      <a:pt x="399" y="34"/>
                    </a:lnTo>
                    <a:lnTo>
                      <a:pt x="395" y="34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59" y="34"/>
                    </a:lnTo>
                    <a:lnTo>
                      <a:pt x="359" y="29"/>
                    </a:lnTo>
                    <a:lnTo>
                      <a:pt x="358" y="24"/>
                    </a:lnTo>
                    <a:lnTo>
                      <a:pt x="355" y="19"/>
                    </a:lnTo>
                    <a:lnTo>
                      <a:pt x="353" y="14"/>
                    </a:lnTo>
                    <a:lnTo>
                      <a:pt x="349" y="11"/>
                    </a:lnTo>
                    <a:lnTo>
                      <a:pt x="347" y="9"/>
                    </a:lnTo>
                    <a:lnTo>
                      <a:pt x="343" y="6"/>
                    </a:lnTo>
                    <a:lnTo>
                      <a:pt x="339" y="4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107" y="0"/>
                    </a:lnTo>
                    <a:lnTo>
                      <a:pt x="104" y="0"/>
                    </a:lnTo>
                    <a:lnTo>
                      <a:pt x="100" y="1"/>
                    </a:lnTo>
                    <a:lnTo>
                      <a:pt x="95" y="3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9"/>
                    </a:lnTo>
                    <a:lnTo>
                      <a:pt x="81" y="11"/>
                    </a:lnTo>
                    <a:lnTo>
                      <a:pt x="78" y="14"/>
                    </a:lnTo>
                    <a:lnTo>
                      <a:pt x="76" y="19"/>
                    </a:lnTo>
                    <a:lnTo>
                      <a:pt x="73" y="24"/>
                    </a:lnTo>
                    <a:lnTo>
                      <a:pt x="71" y="29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2" name=""/>
              <p:cNvSpPr/>
              <p:nvPr/>
            </p:nvSpPr>
            <p:spPr>
              <a:xfrm>
                <a:off x="6177240" y="4265280"/>
                <a:ext cx="140760" cy="92520"/>
              </a:xfrm>
              <a:custGeom>
                <a:avLst/>
                <a:gdLst/>
                <a:ahLst/>
                <a:rect l="l" t="t" r="r" b="b"/>
                <a:pathLst>
                  <a:path w="208" h="167">
                    <a:moveTo>
                      <a:pt x="208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208" y="167"/>
                    </a:lnTo>
                    <a:lnTo>
                      <a:pt x="208" y="0"/>
                    </a:lnTo>
                    <a:lnTo>
                      <a:pt x="20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3" name=""/>
              <p:cNvSpPr/>
              <p:nvPr/>
            </p:nvSpPr>
            <p:spPr>
              <a:xfrm>
                <a:off x="5989680" y="3834360"/>
                <a:ext cx="65520" cy="6192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99" y="0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1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7" y="109"/>
                    </a:lnTo>
                    <a:lnTo>
                      <a:pt x="10" y="111"/>
                    </a:lnTo>
                    <a:lnTo>
                      <a:pt x="14" y="111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99" y="11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4" name=""/>
              <p:cNvSpPr/>
              <p:nvPr/>
            </p:nvSpPr>
            <p:spPr>
              <a:xfrm>
                <a:off x="5989680" y="4156200"/>
                <a:ext cx="65520" cy="6120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99" y="0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10" y="109"/>
                    </a:lnTo>
                    <a:lnTo>
                      <a:pt x="14" y="111"/>
                    </a:lnTo>
                    <a:lnTo>
                      <a:pt x="17" y="111"/>
                    </a:lnTo>
                    <a:lnTo>
                      <a:pt x="17" y="111"/>
                    </a:lnTo>
                    <a:lnTo>
                      <a:pt x="99" y="111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5" name=""/>
              <p:cNvSpPr/>
              <p:nvPr/>
            </p:nvSpPr>
            <p:spPr>
              <a:xfrm>
                <a:off x="4016520" y="4323240"/>
                <a:ext cx="84600" cy="2556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0"/>
                    </a:moveTo>
                    <a:lnTo>
                      <a:pt x="0" y="45"/>
                    </a:lnTo>
                    <a:lnTo>
                      <a:pt x="125" y="45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6" name=""/>
              <p:cNvSpPr/>
              <p:nvPr/>
            </p:nvSpPr>
            <p:spPr>
              <a:xfrm>
                <a:off x="4575600" y="4323240"/>
                <a:ext cx="82080" cy="2556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0" y="0"/>
                    </a:moveTo>
                    <a:lnTo>
                      <a:pt x="0" y="45"/>
                    </a:lnTo>
                    <a:lnTo>
                      <a:pt x="123" y="45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7" name=""/>
              <p:cNvSpPr/>
              <p:nvPr/>
            </p:nvSpPr>
            <p:spPr>
              <a:xfrm>
                <a:off x="4844520" y="428400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9997c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8" name=""/>
              <p:cNvSpPr/>
              <p:nvPr/>
            </p:nvSpPr>
            <p:spPr>
              <a:xfrm>
                <a:off x="4844520" y="428400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9" name=""/>
              <p:cNvSpPr/>
              <p:nvPr/>
            </p:nvSpPr>
            <p:spPr>
              <a:xfrm>
                <a:off x="5862600" y="430380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0" name=""/>
              <p:cNvSpPr/>
              <p:nvPr/>
            </p:nvSpPr>
            <p:spPr>
              <a:xfrm>
                <a:off x="5862600" y="4303800"/>
                <a:ext cx="37080" cy="3636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6099480" y="430380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6099480" y="430380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5920200" y="429264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4" name=""/>
              <p:cNvSpPr/>
              <p:nvPr/>
            </p:nvSpPr>
            <p:spPr>
              <a:xfrm>
                <a:off x="5920200" y="429264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5" name=""/>
              <p:cNvSpPr/>
              <p:nvPr/>
            </p:nvSpPr>
            <p:spPr>
              <a:xfrm>
                <a:off x="5187600" y="430128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5187600" y="4301280"/>
                <a:ext cx="38160" cy="363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5424120" y="430128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0f0f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5424120" y="4301280"/>
                <a:ext cx="39240" cy="363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9" name=""/>
              <p:cNvSpPr/>
              <p:nvPr/>
            </p:nvSpPr>
            <p:spPr>
              <a:xfrm>
                <a:off x="5244840" y="428904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90" name=""/>
              <p:cNvSpPr/>
              <p:nvPr/>
            </p:nvSpPr>
            <p:spPr>
              <a:xfrm>
                <a:off x="5244840" y="4289040"/>
                <a:ext cx="159840" cy="6012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91" name=""/>
              <p:cNvSpPr/>
              <p:nvPr/>
            </p:nvSpPr>
            <p:spPr>
              <a:xfrm>
                <a:off x="5261760" y="4304520"/>
                <a:ext cx="127800" cy="30600"/>
              </a:xfrm>
              <a:custGeom>
                <a:avLst/>
                <a:gdLst/>
                <a:ahLst/>
                <a:rect l="l" t="t" r="r" b="b"/>
                <a:pathLst>
                  <a:path w="188" h="57">
                    <a:moveTo>
                      <a:pt x="174" y="6"/>
                    </a:moveTo>
                    <a:lnTo>
                      <a:pt x="174" y="9"/>
                    </a:lnTo>
                    <a:lnTo>
                      <a:pt x="175" y="11"/>
                    </a:lnTo>
                    <a:lnTo>
                      <a:pt x="178" y="13"/>
                    </a:lnTo>
                    <a:lnTo>
                      <a:pt x="179" y="14"/>
                    </a:lnTo>
                    <a:lnTo>
                      <a:pt x="180" y="14"/>
                    </a:lnTo>
                    <a:lnTo>
                      <a:pt x="182" y="14"/>
                    </a:lnTo>
                    <a:lnTo>
                      <a:pt x="183" y="13"/>
                    </a:lnTo>
                    <a:lnTo>
                      <a:pt x="185" y="11"/>
                    </a:lnTo>
                    <a:lnTo>
                      <a:pt x="187" y="9"/>
                    </a:lnTo>
                    <a:lnTo>
                      <a:pt x="188" y="7"/>
                    </a:lnTo>
                    <a:lnTo>
                      <a:pt x="188" y="6"/>
                    </a:lnTo>
                    <a:lnTo>
                      <a:pt x="188" y="5"/>
                    </a:lnTo>
                    <a:lnTo>
                      <a:pt x="187" y="4"/>
                    </a:lnTo>
                    <a:lnTo>
                      <a:pt x="185" y="1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5" y="1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close/>
                    <a:moveTo>
                      <a:pt x="20" y="50"/>
                    </a:moveTo>
                    <a:lnTo>
                      <a:pt x="20" y="50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25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7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4" y="45"/>
                    </a:lnTo>
                    <a:lnTo>
                      <a:pt x="30" y="44"/>
                    </a:lnTo>
                    <a:lnTo>
                      <a:pt x="28" y="43"/>
                    </a:lnTo>
                    <a:lnTo>
                      <a:pt x="25" y="44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0"/>
                    </a:lnTo>
                    <a:close/>
                    <a:moveTo>
                      <a:pt x="65" y="50"/>
                    </a:moveTo>
                    <a:lnTo>
                      <a:pt x="66" y="52"/>
                    </a:lnTo>
                    <a:lnTo>
                      <a:pt x="68" y="54"/>
                    </a:lnTo>
                    <a:lnTo>
                      <a:pt x="69" y="57"/>
                    </a:lnTo>
                    <a:lnTo>
                      <a:pt x="70" y="57"/>
                    </a:lnTo>
                    <a:lnTo>
                      <a:pt x="73" y="57"/>
                    </a:lnTo>
                    <a:lnTo>
                      <a:pt x="73" y="57"/>
                    </a:lnTo>
                    <a:lnTo>
                      <a:pt x="74" y="57"/>
                    </a:lnTo>
                    <a:lnTo>
                      <a:pt x="76" y="54"/>
                    </a:lnTo>
                    <a:lnTo>
                      <a:pt x="79" y="52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3" y="43"/>
                    </a:lnTo>
                    <a:lnTo>
                      <a:pt x="69" y="44"/>
                    </a:lnTo>
                    <a:lnTo>
                      <a:pt x="68" y="45"/>
                    </a:lnTo>
                    <a:lnTo>
                      <a:pt x="66" y="47"/>
                    </a:lnTo>
                    <a:lnTo>
                      <a:pt x="65" y="50"/>
                    </a:lnTo>
                    <a:lnTo>
                      <a:pt x="65" y="50"/>
                    </a:lnTo>
                    <a:close/>
                    <a:moveTo>
                      <a:pt x="109" y="50"/>
                    </a:moveTo>
                    <a:lnTo>
                      <a:pt x="109" y="52"/>
                    </a:lnTo>
                    <a:lnTo>
                      <a:pt x="110" y="54"/>
                    </a:lnTo>
                    <a:lnTo>
                      <a:pt x="113" y="57"/>
                    </a:lnTo>
                    <a:lnTo>
                      <a:pt x="114" y="57"/>
                    </a:lnTo>
                    <a:lnTo>
                      <a:pt x="115" y="57"/>
                    </a:lnTo>
                    <a:lnTo>
                      <a:pt x="117" y="57"/>
                    </a:lnTo>
                    <a:lnTo>
                      <a:pt x="118" y="57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2" y="47"/>
                    </a:lnTo>
                    <a:lnTo>
                      <a:pt x="120" y="45"/>
                    </a:lnTo>
                    <a:lnTo>
                      <a:pt x="118" y="44"/>
                    </a:lnTo>
                    <a:lnTo>
                      <a:pt x="115" y="43"/>
                    </a:lnTo>
                    <a:lnTo>
                      <a:pt x="113" y="44"/>
                    </a:lnTo>
                    <a:lnTo>
                      <a:pt x="110" y="45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9" y="50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4" y="9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6" y="6"/>
                    </a:moveTo>
                    <a:lnTo>
                      <a:pt x="86" y="7"/>
                    </a:lnTo>
                    <a:lnTo>
                      <a:pt x="86" y="9"/>
                    </a:lnTo>
                    <a:lnTo>
                      <a:pt x="89" y="11"/>
                    </a:lnTo>
                    <a:lnTo>
                      <a:pt x="90" y="13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3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1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6"/>
                    </a:lnTo>
                    <a:lnTo>
                      <a:pt x="86" y="6"/>
                    </a:lnTo>
                    <a:close/>
                    <a:moveTo>
                      <a:pt x="132" y="6"/>
                    </a:moveTo>
                    <a:lnTo>
                      <a:pt x="132" y="9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7" y="14"/>
                    </a:lnTo>
                    <a:lnTo>
                      <a:pt x="138" y="14"/>
                    </a:lnTo>
                    <a:lnTo>
                      <a:pt x="139" y="14"/>
                    </a:lnTo>
                    <a:lnTo>
                      <a:pt x="140" y="13"/>
                    </a:lnTo>
                    <a:lnTo>
                      <a:pt x="143" y="11"/>
                    </a:lnTo>
                    <a:lnTo>
                      <a:pt x="144" y="9"/>
                    </a:lnTo>
                    <a:lnTo>
                      <a:pt x="144" y="7"/>
                    </a:lnTo>
                    <a:lnTo>
                      <a:pt x="145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3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3" y="1"/>
                    </a:lnTo>
                    <a:lnTo>
                      <a:pt x="132" y="4"/>
                    </a:lnTo>
                    <a:lnTo>
                      <a:pt x="132" y="6"/>
                    </a:lnTo>
                    <a:lnTo>
                      <a:pt x="132" y="6"/>
                    </a:lnTo>
                    <a:close/>
                    <a:moveTo>
                      <a:pt x="152" y="50"/>
                    </a:moveTo>
                    <a:lnTo>
                      <a:pt x="152" y="52"/>
                    </a:lnTo>
                    <a:lnTo>
                      <a:pt x="153" y="54"/>
                    </a:lnTo>
                    <a:lnTo>
                      <a:pt x="155" y="57"/>
                    </a:lnTo>
                    <a:lnTo>
                      <a:pt x="157" y="57"/>
                    </a:lnTo>
                    <a:lnTo>
                      <a:pt x="158" y="57"/>
                    </a:lnTo>
                    <a:lnTo>
                      <a:pt x="160" y="57"/>
                    </a:lnTo>
                    <a:lnTo>
                      <a:pt x="162" y="57"/>
                    </a:lnTo>
                    <a:lnTo>
                      <a:pt x="163" y="54"/>
                    </a:lnTo>
                    <a:lnTo>
                      <a:pt x="164" y="52"/>
                    </a:lnTo>
                    <a:lnTo>
                      <a:pt x="165" y="50"/>
                    </a:lnTo>
                    <a:lnTo>
                      <a:pt x="164" y="47"/>
                    </a:lnTo>
                    <a:lnTo>
                      <a:pt x="163" y="45"/>
                    </a:lnTo>
                    <a:lnTo>
                      <a:pt x="162" y="44"/>
                    </a:lnTo>
                    <a:lnTo>
                      <a:pt x="158" y="43"/>
                    </a:lnTo>
                    <a:lnTo>
                      <a:pt x="155" y="44"/>
                    </a:lnTo>
                    <a:lnTo>
                      <a:pt x="153" y="45"/>
                    </a:lnTo>
                    <a:lnTo>
                      <a:pt x="152" y="47"/>
                    </a:lnTo>
                    <a:lnTo>
                      <a:pt x="152" y="50"/>
                    </a:lnTo>
                    <a:lnTo>
                      <a:pt x="152" y="50"/>
                    </a:lnTo>
                    <a:close/>
                  </a:path>
                </a:pathLst>
              </a:custGeom>
              <a:solidFill>
                <a:srgbClr val="f7eeb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5537880" y="4293360"/>
                <a:ext cx="122760" cy="59400"/>
              </a:xfrm>
              <a:custGeom>
                <a:avLst/>
                <a:gdLst/>
                <a:ahLst/>
                <a:rect l="l" t="t" r="r" b="b"/>
                <a:pathLst>
                  <a:path w="181" h="108">
                    <a:moveTo>
                      <a:pt x="181" y="36"/>
                    </a:moveTo>
                    <a:lnTo>
                      <a:pt x="181" y="36"/>
                    </a:lnTo>
                    <a:lnTo>
                      <a:pt x="181" y="30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3"/>
                    </a:lnTo>
                    <a:lnTo>
                      <a:pt x="36" y="97"/>
                    </a:lnTo>
                    <a:lnTo>
                      <a:pt x="36" y="99"/>
                    </a:lnTo>
                    <a:lnTo>
                      <a:pt x="36" y="102"/>
                    </a:lnTo>
                    <a:lnTo>
                      <a:pt x="36" y="105"/>
                    </a:lnTo>
                    <a:lnTo>
                      <a:pt x="36" y="106"/>
                    </a:lnTo>
                    <a:lnTo>
                      <a:pt x="36" y="107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7"/>
                    </a:lnTo>
                    <a:lnTo>
                      <a:pt x="181" y="106"/>
                    </a:lnTo>
                    <a:lnTo>
                      <a:pt x="181" y="105"/>
                    </a:lnTo>
                    <a:lnTo>
                      <a:pt x="181" y="102"/>
                    </a:lnTo>
                    <a:lnTo>
                      <a:pt x="181" y="99"/>
                    </a:lnTo>
                    <a:lnTo>
                      <a:pt x="181" y="97"/>
                    </a:lnTo>
                    <a:lnTo>
                      <a:pt x="181" y="93"/>
                    </a:lnTo>
                    <a:lnTo>
                      <a:pt x="181" y="89"/>
                    </a:lnTo>
                    <a:lnTo>
                      <a:pt x="181" y="84"/>
                    </a:lnTo>
                    <a:lnTo>
                      <a:pt x="181" y="79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36"/>
                    </a:lnTo>
                    <a:lnTo>
                      <a:pt x="181" y="36"/>
                    </a:lnTo>
                    <a:lnTo>
                      <a:pt x="18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6293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5537880" y="4272840"/>
                <a:ext cx="12276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6294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5537880" y="4272840"/>
                <a:ext cx="12276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6295" name=""/>
              <p:cNvSpPr/>
              <p:nvPr/>
            </p:nvSpPr>
            <p:spPr>
              <a:xfrm>
                <a:off x="5537880" y="4292640"/>
                <a:ext cx="120240" cy="44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5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1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1" y="77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6296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5686200" y="4272840"/>
                <a:ext cx="12132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6297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5686200" y="4272840"/>
                <a:ext cx="121320" cy="60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6298" name=""/>
              <p:cNvSpPr/>
              <p:nvPr/>
            </p:nvSpPr>
            <p:spPr>
              <a:xfrm>
                <a:off x="5695560" y="4292640"/>
                <a:ext cx="121680" cy="44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10" y="76"/>
                    </a:lnTo>
                    <a:lnTo>
                      <a:pt x="10" y="78"/>
                    </a:lnTo>
                    <a:lnTo>
                      <a:pt x="11" y="81"/>
                    </a:lnTo>
                    <a:lnTo>
                      <a:pt x="14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9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6299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6350400" y="4293360"/>
                <a:ext cx="74160" cy="5940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6300" name=""/>
              <p:cNvSpPr/>
              <p:nvPr/>
            </p:nvSpPr>
            <p:spPr>
              <a:xfrm>
                <a:off x="6352560" y="4301280"/>
                <a:ext cx="68040" cy="5760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101" y="53"/>
                    </a:moveTo>
                    <a:lnTo>
                      <a:pt x="101" y="48"/>
                    </a:lnTo>
                    <a:lnTo>
                      <a:pt x="100" y="42"/>
                    </a:lnTo>
                    <a:lnTo>
                      <a:pt x="100" y="36"/>
                    </a:lnTo>
                    <a:lnTo>
                      <a:pt x="97" y="33"/>
                    </a:lnTo>
                    <a:lnTo>
                      <a:pt x="95" y="28"/>
                    </a:lnTo>
                    <a:lnTo>
                      <a:pt x="92" y="23"/>
                    </a:lnTo>
                    <a:lnTo>
                      <a:pt x="90" y="19"/>
                    </a:lnTo>
                    <a:lnTo>
                      <a:pt x="87" y="15"/>
                    </a:lnTo>
                    <a:lnTo>
                      <a:pt x="83" y="12"/>
                    </a:lnTo>
                    <a:lnTo>
                      <a:pt x="80" y="9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6" y="2"/>
                    </a:lnTo>
                    <a:lnTo>
                      <a:pt x="62" y="1"/>
                    </a:lnTo>
                    <a:lnTo>
                      <a:pt x="57" y="1"/>
                    </a:lnTo>
                    <a:lnTo>
                      <a:pt x="52" y="0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2"/>
                    </a:lnTo>
                    <a:lnTo>
                      <a:pt x="15" y="15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6" y="28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6" y="77"/>
                    </a:lnTo>
                    <a:lnTo>
                      <a:pt x="8" y="81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8" y="91"/>
                    </a:lnTo>
                    <a:lnTo>
                      <a:pt x="22" y="95"/>
                    </a:lnTo>
                    <a:lnTo>
                      <a:pt x="27" y="97"/>
                    </a:lnTo>
                    <a:lnTo>
                      <a:pt x="31" y="98"/>
                    </a:lnTo>
                    <a:lnTo>
                      <a:pt x="36" y="101"/>
                    </a:lnTo>
                    <a:lnTo>
                      <a:pt x="41" y="102"/>
                    </a:lnTo>
                    <a:lnTo>
                      <a:pt x="46" y="102"/>
                    </a:lnTo>
                    <a:lnTo>
                      <a:pt x="52" y="103"/>
                    </a:lnTo>
                    <a:lnTo>
                      <a:pt x="57" y="102"/>
                    </a:lnTo>
                    <a:lnTo>
                      <a:pt x="62" y="102"/>
                    </a:lnTo>
                    <a:lnTo>
                      <a:pt x="66" y="101"/>
                    </a:lnTo>
                    <a:lnTo>
                      <a:pt x="71" y="98"/>
                    </a:lnTo>
                    <a:lnTo>
                      <a:pt x="75" y="97"/>
                    </a:lnTo>
                    <a:lnTo>
                      <a:pt x="80" y="95"/>
                    </a:lnTo>
                    <a:lnTo>
                      <a:pt x="83" y="91"/>
                    </a:lnTo>
                    <a:lnTo>
                      <a:pt x="87" y="88"/>
                    </a:lnTo>
                    <a:lnTo>
                      <a:pt x="90" y="84"/>
                    </a:lnTo>
                    <a:lnTo>
                      <a:pt x="92" y="81"/>
                    </a:lnTo>
                    <a:lnTo>
                      <a:pt x="95" y="77"/>
                    </a:lnTo>
                    <a:lnTo>
                      <a:pt x="97" y="72"/>
                    </a:lnTo>
                    <a:lnTo>
                      <a:pt x="100" y="68"/>
                    </a:lnTo>
                    <a:lnTo>
                      <a:pt x="100" y="63"/>
                    </a:lnTo>
                    <a:lnTo>
                      <a:pt x="101" y="58"/>
                    </a:lnTo>
                    <a:lnTo>
                      <a:pt x="101" y="53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6301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6350400" y="4293360"/>
                <a:ext cx="48960" cy="399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6302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6350400" y="4293360"/>
                <a:ext cx="48960" cy="399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6303" name=""/>
              <p:cNvSpPr/>
              <p:nvPr/>
            </p:nvSpPr>
            <p:spPr>
              <a:xfrm>
                <a:off x="6364800" y="4312080"/>
                <a:ext cx="43920" cy="3636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lnTo>
                      <a:pt x="66" y="30"/>
                    </a:lnTo>
                    <a:lnTo>
                      <a:pt x="65" y="26"/>
                    </a:lnTo>
                    <a:lnTo>
                      <a:pt x="64" y="20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" y="52"/>
                    </a:lnTo>
                    <a:lnTo>
                      <a:pt x="10" y="57"/>
                    </a:lnTo>
                    <a:lnTo>
                      <a:pt x="15" y="60"/>
                    </a:lnTo>
                    <a:lnTo>
                      <a:pt x="20" y="63"/>
                    </a:lnTo>
                    <a:lnTo>
                      <a:pt x="28" y="65"/>
                    </a:lnTo>
                    <a:lnTo>
                      <a:pt x="31" y="65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41" y="65"/>
                    </a:lnTo>
                    <a:lnTo>
                      <a:pt x="48" y="63"/>
                    </a:lnTo>
                    <a:lnTo>
                      <a:pt x="53" y="60"/>
                    </a:lnTo>
                    <a:lnTo>
                      <a:pt x="58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5" y="40"/>
                    </a:lnTo>
                    <a:lnTo>
                      <a:pt x="66" y="38"/>
                    </a:lnTo>
                    <a:lnTo>
                      <a:pt x="66" y="34"/>
                    </a:lnTo>
                  </a:path>
                </a:pathLst>
              </a:custGeom>
              <a:noFill/>
              <a:ln w="32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6217920" y="4392360"/>
                <a:ext cx="54000" cy="309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6190200" y="4282560"/>
                <a:ext cx="23760" cy="7200"/>
              </a:xfrm>
              <a:prstGeom prst="rect">
                <a:avLst/>
              </a:prstGeom>
              <a:solidFill>
                <a:srgbClr val="eadba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06" name=""/>
              <p:cNvSpPr/>
              <p:nvPr/>
            </p:nvSpPr>
            <p:spPr>
              <a:xfrm>
                <a:off x="6190200" y="4282560"/>
                <a:ext cx="23760" cy="7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5018040" y="428400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  <a:close/>
                  </a:path>
                </a:pathLst>
              </a:custGeom>
              <a:solidFill>
                <a:srgbClr val="bcedc9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08" name=""/>
              <p:cNvSpPr/>
              <p:nvPr/>
            </p:nvSpPr>
            <p:spPr>
              <a:xfrm>
                <a:off x="5018040" y="4284000"/>
                <a:ext cx="72720" cy="594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5281920" y="4388760"/>
                <a:ext cx="739800" cy="28800"/>
              </a:xfrm>
              <a:custGeom>
                <a:avLst/>
                <a:gdLst/>
                <a:ahLst/>
                <a:rect l="l" t="t" r="r" b="b"/>
                <a:pathLst>
                  <a:path w="1087" h="51">
                    <a:moveTo>
                      <a:pt x="0" y="45"/>
                    </a:moveTo>
                    <a:lnTo>
                      <a:pt x="7" y="45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  <a:moveTo>
                      <a:pt x="50" y="25"/>
                    </a:moveTo>
                    <a:lnTo>
                      <a:pt x="50" y="21"/>
                    </a:lnTo>
                    <a:lnTo>
                      <a:pt x="49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7" y="33"/>
                    </a:lnTo>
                    <a:lnTo>
                      <a:pt x="20" y="36"/>
                    </a:lnTo>
                    <a:lnTo>
                      <a:pt x="22" y="39"/>
                    </a:lnTo>
                    <a:lnTo>
                      <a:pt x="25" y="41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  <a:moveTo>
                      <a:pt x="44" y="25"/>
                    </a:moveTo>
                    <a:lnTo>
                      <a:pt x="44" y="27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30" y="35"/>
                    </a:lnTo>
                    <a:lnTo>
                      <a:pt x="27" y="34"/>
                    </a:lnTo>
                    <a:lnTo>
                      <a:pt x="26" y="33"/>
                    </a:lnTo>
                    <a:lnTo>
                      <a:pt x="25" y="31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2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6" y="16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  <a:moveTo>
                      <a:pt x="59" y="45"/>
                    </a:moveTo>
                    <a:lnTo>
                      <a:pt x="66" y="45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9" y="45"/>
                    </a:lnTo>
                    <a:lnTo>
                      <a:pt x="59" y="45"/>
                    </a:lnTo>
                    <a:close/>
                    <a:moveTo>
                      <a:pt x="109" y="25"/>
                    </a:moveTo>
                    <a:lnTo>
                      <a:pt x="109" y="21"/>
                    </a:lnTo>
                    <a:lnTo>
                      <a:pt x="108" y="19"/>
                    </a:lnTo>
                    <a:lnTo>
                      <a:pt x="106" y="15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7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1" y="12"/>
                    </a:lnTo>
                    <a:lnTo>
                      <a:pt x="79" y="15"/>
                    </a:lnTo>
                    <a:lnTo>
                      <a:pt x="76" y="19"/>
                    </a:lnTo>
                    <a:lnTo>
                      <a:pt x="75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6" y="33"/>
                    </a:lnTo>
                    <a:lnTo>
                      <a:pt x="79" y="36"/>
                    </a:lnTo>
                    <a:lnTo>
                      <a:pt x="81" y="39"/>
                    </a:lnTo>
                    <a:lnTo>
                      <a:pt x="84" y="41"/>
                    </a:lnTo>
                    <a:lnTo>
                      <a:pt x="86" y="44"/>
                    </a:lnTo>
                    <a:lnTo>
                      <a:pt x="90" y="45"/>
                    </a:lnTo>
                    <a:lnTo>
                      <a:pt x="93" y="45"/>
                    </a:lnTo>
                    <a:lnTo>
                      <a:pt x="96" y="45"/>
                    </a:lnTo>
                    <a:lnTo>
                      <a:pt x="100" y="44"/>
                    </a:lnTo>
                    <a:lnTo>
                      <a:pt x="103" y="41"/>
                    </a:lnTo>
                    <a:lnTo>
                      <a:pt x="105" y="39"/>
                    </a:lnTo>
                    <a:lnTo>
                      <a:pt x="106" y="36"/>
                    </a:lnTo>
                    <a:lnTo>
                      <a:pt x="108" y="33"/>
                    </a:lnTo>
                    <a:lnTo>
                      <a:pt x="109" y="29"/>
                    </a:lnTo>
                    <a:lnTo>
                      <a:pt x="109" y="25"/>
                    </a:lnTo>
                    <a:lnTo>
                      <a:pt x="109" y="25"/>
                    </a:lnTo>
                    <a:close/>
                    <a:moveTo>
                      <a:pt x="103" y="25"/>
                    </a:moveTo>
                    <a:lnTo>
                      <a:pt x="103" y="27"/>
                    </a:lnTo>
                    <a:lnTo>
                      <a:pt x="101" y="30"/>
                    </a:lnTo>
                    <a:lnTo>
                      <a:pt x="100" y="31"/>
                    </a:lnTo>
                    <a:lnTo>
                      <a:pt x="99" y="33"/>
                    </a:lnTo>
                    <a:lnTo>
                      <a:pt x="98" y="34"/>
                    </a:lnTo>
                    <a:lnTo>
                      <a:pt x="96" y="35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1" y="36"/>
                    </a:lnTo>
                    <a:lnTo>
                      <a:pt x="89" y="35"/>
                    </a:lnTo>
                    <a:lnTo>
                      <a:pt x="86" y="34"/>
                    </a:lnTo>
                    <a:lnTo>
                      <a:pt x="85" y="33"/>
                    </a:lnTo>
                    <a:lnTo>
                      <a:pt x="84" y="31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1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4" y="19"/>
                    </a:lnTo>
                    <a:lnTo>
                      <a:pt x="85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0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  <a:moveTo>
                      <a:pt x="118" y="45"/>
                    </a:moveTo>
                    <a:lnTo>
                      <a:pt x="125" y="45"/>
                    </a:lnTo>
                    <a:lnTo>
                      <a:pt x="125" y="6"/>
                    </a:lnTo>
                    <a:lnTo>
                      <a:pt x="118" y="6"/>
                    </a:lnTo>
                    <a:lnTo>
                      <a:pt x="118" y="45"/>
                    </a:lnTo>
                    <a:lnTo>
                      <a:pt x="118" y="45"/>
                    </a:lnTo>
                    <a:close/>
                    <a:moveTo>
                      <a:pt x="502" y="25"/>
                    </a:moveTo>
                    <a:lnTo>
                      <a:pt x="460" y="25"/>
                    </a:lnTo>
                    <a:lnTo>
                      <a:pt x="468" y="16"/>
                    </a:lnTo>
                    <a:lnTo>
                      <a:pt x="478" y="16"/>
                    </a:lnTo>
                    <a:lnTo>
                      <a:pt x="478" y="17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2" y="17"/>
                    </a:lnTo>
                    <a:lnTo>
                      <a:pt x="483" y="17"/>
                    </a:lnTo>
                    <a:lnTo>
                      <a:pt x="485" y="17"/>
                    </a:lnTo>
                    <a:lnTo>
                      <a:pt x="486" y="16"/>
                    </a:lnTo>
                    <a:lnTo>
                      <a:pt x="486" y="15"/>
                    </a:lnTo>
                    <a:lnTo>
                      <a:pt x="487" y="14"/>
                    </a:lnTo>
                    <a:lnTo>
                      <a:pt x="487" y="11"/>
                    </a:lnTo>
                    <a:lnTo>
                      <a:pt x="485" y="10"/>
                    </a:lnTo>
                    <a:lnTo>
                      <a:pt x="483" y="9"/>
                    </a:lnTo>
                    <a:lnTo>
                      <a:pt x="482" y="9"/>
                    </a:lnTo>
                    <a:lnTo>
                      <a:pt x="480" y="9"/>
                    </a:lnTo>
                    <a:lnTo>
                      <a:pt x="478" y="9"/>
                    </a:lnTo>
                    <a:lnTo>
                      <a:pt x="478" y="10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67" y="11"/>
                    </a:lnTo>
                    <a:lnTo>
                      <a:pt x="456" y="25"/>
                    </a:lnTo>
                    <a:lnTo>
                      <a:pt x="451" y="25"/>
                    </a:lnTo>
                    <a:lnTo>
                      <a:pt x="448" y="21"/>
                    </a:lnTo>
                    <a:lnTo>
                      <a:pt x="447" y="21"/>
                    </a:lnTo>
                    <a:lnTo>
                      <a:pt x="446" y="20"/>
                    </a:lnTo>
                    <a:lnTo>
                      <a:pt x="445" y="20"/>
                    </a:lnTo>
                    <a:lnTo>
                      <a:pt x="443" y="19"/>
                    </a:lnTo>
                    <a:lnTo>
                      <a:pt x="442" y="20"/>
                    </a:lnTo>
                    <a:lnTo>
                      <a:pt x="442" y="20"/>
                    </a:lnTo>
                    <a:lnTo>
                      <a:pt x="440" y="20"/>
                    </a:lnTo>
                    <a:lnTo>
                      <a:pt x="438" y="21"/>
                    </a:lnTo>
                    <a:lnTo>
                      <a:pt x="437" y="22"/>
                    </a:lnTo>
                    <a:lnTo>
                      <a:pt x="437" y="22"/>
                    </a:lnTo>
                    <a:lnTo>
                      <a:pt x="436" y="26"/>
                    </a:lnTo>
                    <a:lnTo>
                      <a:pt x="435" y="29"/>
                    </a:lnTo>
                    <a:lnTo>
                      <a:pt x="437" y="31"/>
                    </a:lnTo>
                    <a:lnTo>
                      <a:pt x="440" y="33"/>
                    </a:lnTo>
                    <a:lnTo>
                      <a:pt x="442" y="34"/>
                    </a:lnTo>
                    <a:lnTo>
                      <a:pt x="445" y="34"/>
                    </a:lnTo>
                    <a:lnTo>
                      <a:pt x="446" y="34"/>
                    </a:lnTo>
                    <a:lnTo>
                      <a:pt x="447" y="33"/>
                    </a:lnTo>
                    <a:lnTo>
                      <a:pt x="450" y="31"/>
                    </a:lnTo>
                    <a:lnTo>
                      <a:pt x="451" y="29"/>
                    </a:lnTo>
                    <a:lnTo>
                      <a:pt x="451" y="29"/>
                    </a:lnTo>
                    <a:lnTo>
                      <a:pt x="467" y="29"/>
                    </a:lnTo>
                    <a:lnTo>
                      <a:pt x="480" y="40"/>
                    </a:lnTo>
                    <a:lnTo>
                      <a:pt x="487" y="40"/>
                    </a:lnTo>
                    <a:lnTo>
                      <a:pt x="487" y="45"/>
                    </a:lnTo>
                    <a:lnTo>
                      <a:pt x="498" y="45"/>
                    </a:lnTo>
                    <a:lnTo>
                      <a:pt x="498" y="34"/>
                    </a:lnTo>
                    <a:lnTo>
                      <a:pt x="487" y="34"/>
                    </a:lnTo>
                    <a:lnTo>
                      <a:pt x="487" y="39"/>
                    </a:lnTo>
                    <a:lnTo>
                      <a:pt x="480" y="39"/>
                    </a:lnTo>
                    <a:lnTo>
                      <a:pt x="471" y="29"/>
                    </a:lnTo>
                    <a:lnTo>
                      <a:pt x="502" y="29"/>
                    </a:lnTo>
                    <a:lnTo>
                      <a:pt x="502" y="31"/>
                    </a:lnTo>
                    <a:lnTo>
                      <a:pt x="512" y="27"/>
                    </a:lnTo>
                    <a:lnTo>
                      <a:pt x="502" y="22"/>
                    </a:lnTo>
                    <a:lnTo>
                      <a:pt x="502" y="25"/>
                    </a:lnTo>
                    <a:lnTo>
                      <a:pt x="502" y="25"/>
                    </a:lnTo>
                    <a:close/>
                    <a:moveTo>
                      <a:pt x="727" y="25"/>
                    </a:moveTo>
                    <a:lnTo>
                      <a:pt x="684" y="25"/>
                    </a:lnTo>
                    <a:lnTo>
                      <a:pt x="695" y="16"/>
                    </a:lnTo>
                    <a:lnTo>
                      <a:pt x="701" y="16"/>
                    </a:lnTo>
                    <a:lnTo>
                      <a:pt x="704" y="17"/>
                    </a:lnTo>
                    <a:lnTo>
                      <a:pt x="705" y="17"/>
                    </a:lnTo>
                    <a:lnTo>
                      <a:pt x="708" y="17"/>
                    </a:lnTo>
                    <a:lnTo>
                      <a:pt x="709" y="17"/>
                    </a:lnTo>
                    <a:lnTo>
                      <a:pt x="710" y="17"/>
                    </a:lnTo>
                    <a:lnTo>
                      <a:pt x="710" y="17"/>
                    </a:lnTo>
                    <a:lnTo>
                      <a:pt x="711" y="15"/>
                    </a:lnTo>
                    <a:lnTo>
                      <a:pt x="711" y="14"/>
                    </a:lnTo>
                    <a:lnTo>
                      <a:pt x="711" y="14"/>
                    </a:lnTo>
                    <a:lnTo>
                      <a:pt x="711" y="12"/>
                    </a:lnTo>
                    <a:lnTo>
                      <a:pt x="711" y="11"/>
                    </a:lnTo>
                    <a:lnTo>
                      <a:pt x="711" y="10"/>
                    </a:lnTo>
                    <a:lnTo>
                      <a:pt x="710" y="10"/>
                    </a:lnTo>
                    <a:lnTo>
                      <a:pt x="709" y="9"/>
                    </a:lnTo>
                    <a:lnTo>
                      <a:pt x="706" y="9"/>
                    </a:lnTo>
                    <a:lnTo>
                      <a:pt x="704" y="9"/>
                    </a:lnTo>
                    <a:lnTo>
                      <a:pt x="704" y="9"/>
                    </a:lnTo>
                    <a:lnTo>
                      <a:pt x="704" y="10"/>
                    </a:lnTo>
                    <a:lnTo>
                      <a:pt x="704" y="11"/>
                    </a:lnTo>
                    <a:lnTo>
                      <a:pt x="701" y="11"/>
                    </a:lnTo>
                    <a:lnTo>
                      <a:pt x="701" y="11"/>
                    </a:lnTo>
                    <a:lnTo>
                      <a:pt x="693" y="11"/>
                    </a:lnTo>
                    <a:lnTo>
                      <a:pt x="679" y="25"/>
                    </a:lnTo>
                    <a:lnTo>
                      <a:pt x="675" y="25"/>
                    </a:lnTo>
                    <a:lnTo>
                      <a:pt x="675" y="24"/>
                    </a:lnTo>
                    <a:lnTo>
                      <a:pt x="674" y="21"/>
                    </a:lnTo>
                    <a:lnTo>
                      <a:pt x="673" y="21"/>
                    </a:lnTo>
                    <a:lnTo>
                      <a:pt x="673" y="20"/>
                    </a:lnTo>
                    <a:lnTo>
                      <a:pt x="670" y="20"/>
                    </a:lnTo>
                    <a:lnTo>
                      <a:pt x="669" y="19"/>
                    </a:lnTo>
                    <a:lnTo>
                      <a:pt x="668" y="20"/>
                    </a:lnTo>
                    <a:lnTo>
                      <a:pt x="666" y="20"/>
                    </a:lnTo>
                    <a:lnTo>
                      <a:pt x="664" y="20"/>
                    </a:lnTo>
                    <a:lnTo>
                      <a:pt x="663" y="21"/>
                    </a:lnTo>
                    <a:lnTo>
                      <a:pt x="661" y="22"/>
                    </a:lnTo>
                    <a:lnTo>
                      <a:pt x="661" y="22"/>
                    </a:lnTo>
                    <a:lnTo>
                      <a:pt x="660" y="25"/>
                    </a:lnTo>
                    <a:lnTo>
                      <a:pt x="660" y="26"/>
                    </a:lnTo>
                    <a:lnTo>
                      <a:pt x="660" y="27"/>
                    </a:lnTo>
                    <a:lnTo>
                      <a:pt x="661" y="29"/>
                    </a:lnTo>
                    <a:lnTo>
                      <a:pt x="661" y="30"/>
                    </a:lnTo>
                    <a:lnTo>
                      <a:pt x="663" y="31"/>
                    </a:lnTo>
                    <a:lnTo>
                      <a:pt x="663" y="31"/>
                    </a:lnTo>
                    <a:lnTo>
                      <a:pt x="664" y="33"/>
                    </a:lnTo>
                    <a:lnTo>
                      <a:pt x="668" y="34"/>
                    </a:lnTo>
                    <a:lnTo>
                      <a:pt x="670" y="34"/>
                    </a:lnTo>
                    <a:lnTo>
                      <a:pt x="673" y="34"/>
                    </a:lnTo>
                    <a:lnTo>
                      <a:pt x="674" y="33"/>
                    </a:lnTo>
                    <a:lnTo>
                      <a:pt x="674" y="31"/>
                    </a:lnTo>
                    <a:lnTo>
                      <a:pt x="675" y="29"/>
                    </a:lnTo>
                    <a:lnTo>
                      <a:pt x="675" y="29"/>
                    </a:lnTo>
                    <a:lnTo>
                      <a:pt x="693" y="29"/>
                    </a:lnTo>
                    <a:lnTo>
                      <a:pt x="704" y="40"/>
                    </a:lnTo>
                    <a:lnTo>
                      <a:pt x="714" y="40"/>
                    </a:lnTo>
                    <a:lnTo>
                      <a:pt x="714" y="45"/>
                    </a:lnTo>
                    <a:lnTo>
                      <a:pt x="723" y="45"/>
                    </a:lnTo>
                    <a:lnTo>
                      <a:pt x="723" y="34"/>
                    </a:lnTo>
                    <a:lnTo>
                      <a:pt x="714" y="34"/>
                    </a:lnTo>
                    <a:lnTo>
                      <a:pt x="714" y="39"/>
                    </a:lnTo>
                    <a:lnTo>
                      <a:pt x="706" y="39"/>
                    </a:lnTo>
                    <a:lnTo>
                      <a:pt x="698" y="29"/>
                    </a:lnTo>
                    <a:lnTo>
                      <a:pt x="727" y="29"/>
                    </a:lnTo>
                    <a:lnTo>
                      <a:pt x="727" y="31"/>
                    </a:lnTo>
                    <a:lnTo>
                      <a:pt x="738" y="27"/>
                    </a:lnTo>
                    <a:lnTo>
                      <a:pt x="727" y="22"/>
                    </a:lnTo>
                    <a:lnTo>
                      <a:pt x="727" y="25"/>
                    </a:lnTo>
                    <a:lnTo>
                      <a:pt x="727" y="25"/>
                    </a:lnTo>
                    <a:close/>
                    <a:moveTo>
                      <a:pt x="1037" y="51"/>
                    </a:moveTo>
                    <a:lnTo>
                      <a:pt x="1076" y="51"/>
                    </a:lnTo>
                    <a:lnTo>
                      <a:pt x="1079" y="51"/>
                    </a:lnTo>
                    <a:lnTo>
                      <a:pt x="1080" y="51"/>
                    </a:lnTo>
                    <a:lnTo>
                      <a:pt x="1082" y="50"/>
                    </a:lnTo>
                    <a:lnTo>
                      <a:pt x="1084" y="49"/>
                    </a:lnTo>
                    <a:lnTo>
                      <a:pt x="1085" y="48"/>
                    </a:lnTo>
                    <a:lnTo>
                      <a:pt x="1086" y="45"/>
                    </a:lnTo>
                    <a:lnTo>
                      <a:pt x="1086" y="43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11"/>
                    </a:lnTo>
                    <a:lnTo>
                      <a:pt x="1086" y="9"/>
                    </a:lnTo>
                    <a:lnTo>
                      <a:pt x="1086" y="6"/>
                    </a:lnTo>
                    <a:lnTo>
                      <a:pt x="1085" y="5"/>
                    </a:lnTo>
                    <a:lnTo>
                      <a:pt x="1084" y="2"/>
                    </a:lnTo>
                    <a:lnTo>
                      <a:pt x="1082" y="1"/>
                    </a:lnTo>
                    <a:lnTo>
                      <a:pt x="1080" y="1"/>
                    </a:lnTo>
                    <a:lnTo>
                      <a:pt x="1079" y="0"/>
                    </a:lnTo>
                    <a:lnTo>
                      <a:pt x="1076" y="0"/>
                    </a:lnTo>
                    <a:lnTo>
                      <a:pt x="1076" y="0"/>
                    </a:lnTo>
                    <a:lnTo>
                      <a:pt x="1037" y="0"/>
                    </a:lnTo>
                    <a:lnTo>
                      <a:pt x="1035" y="0"/>
                    </a:lnTo>
                    <a:lnTo>
                      <a:pt x="1033" y="1"/>
                    </a:lnTo>
                    <a:lnTo>
                      <a:pt x="1031" y="1"/>
                    </a:lnTo>
                    <a:lnTo>
                      <a:pt x="1030" y="2"/>
                    </a:lnTo>
                    <a:lnTo>
                      <a:pt x="1028" y="5"/>
                    </a:lnTo>
                    <a:lnTo>
                      <a:pt x="1027" y="6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1"/>
                    </a:lnTo>
                    <a:lnTo>
                      <a:pt x="1026" y="40"/>
                    </a:lnTo>
                    <a:lnTo>
                      <a:pt x="1026" y="43"/>
                    </a:lnTo>
                    <a:lnTo>
                      <a:pt x="1027" y="45"/>
                    </a:lnTo>
                    <a:lnTo>
                      <a:pt x="1028" y="48"/>
                    </a:lnTo>
                    <a:lnTo>
                      <a:pt x="1030" y="49"/>
                    </a:lnTo>
                    <a:lnTo>
                      <a:pt x="1031" y="50"/>
                    </a:lnTo>
                    <a:lnTo>
                      <a:pt x="1033" y="51"/>
                    </a:lnTo>
                    <a:lnTo>
                      <a:pt x="1035" y="51"/>
                    </a:lnTo>
                    <a:lnTo>
                      <a:pt x="1037" y="51"/>
                    </a:lnTo>
                    <a:lnTo>
                      <a:pt x="1037" y="51"/>
                    </a:lnTo>
                    <a:close/>
                    <a:moveTo>
                      <a:pt x="1044" y="43"/>
                    </a:moveTo>
                    <a:lnTo>
                      <a:pt x="1050" y="43"/>
                    </a:lnTo>
                    <a:lnTo>
                      <a:pt x="1056" y="43"/>
                    </a:lnTo>
                    <a:lnTo>
                      <a:pt x="1062" y="43"/>
                    </a:lnTo>
                    <a:lnTo>
                      <a:pt x="1069" y="43"/>
                    </a:lnTo>
                    <a:lnTo>
                      <a:pt x="1070" y="43"/>
                    </a:lnTo>
                    <a:lnTo>
                      <a:pt x="1072" y="43"/>
                    </a:lnTo>
                    <a:lnTo>
                      <a:pt x="1074" y="41"/>
                    </a:lnTo>
                    <a:lnTo>
                      <a:pt x="1075" y="40"/>
                    </a:lnTo>
                    <a:lnTo>
                      <a:pt x="1076" y="39"/>
                    </a:lnTo>
                    <a:lnTo>
                      <a:pt x="1077" y="38"/>
                    </a:lnTo>
                    <a:lnTo>
                      <a:pt x="1077" y="35"/>
                    </a:lnTo>
                    <a:lnTo>
                      <a:pt x="1077" y="34"/>
                    </a:lnTo>
                    <a:lnTo>
                      <a:pt x="1077" y="34"/>
                    </a:lnTo>
                    <a:lnTo>
                      <a:pt x="1077" y="30"/>
                    </a:lnTo>
                    <a:lnTo>
                      <a:pt x="1077" y="26"/>
                    </a:lnTo>
                    <a:lnTo>
                      <a:pt x="1077" y="21"/>
                    </a:lnTo>
                    <a:lnTo>
                      <a:pt x="1077" y="17"/>
                    </a:lnTo>
                    <a:lnTo>
                      <a:pt x="1077" y="16"/>
                    </a:lnTo>
                    <a:lnTo>
                      <a:pt x="1077" y="15"/>
                    </a:lnTo>
                    <a:lnTo>
                      <a:pt x="1076" y="14"/>
                    </a:lnTo>
                    <a:lnTo>
                      <a:pt x="1075" y="11"/>
                    </a:lnTo>
                    <a:lnTo>
                      <a:pt x="1074" y="11"/>
                    </a:lnTo>
                    <a:lnTo>
                      <a:pt x="1072" y="10"/>
                    </a:lnTo>
                    <a:lnTo>
                      <a:pt x="1070" y="9"/>
                    </a:lnTo>
                    <a:lnTo>
                      <a:pt x="1069" y="9"/>
                    </a:lnTo>
                    <a:lnTo>
                      <a:pt x="1062" y="9"/>
                    </a:lnTo>
                    <a:lnTo>
                      <a:pt x="1056" y="9"/>
                    </a:lnTo>
                    <a:lnTo>
                      <a:pt x="1050" y="9"/>
                    </a:lnTo>
                    <a:lnTo>
                      <a:pt x="1044" y="9"/>
                    </a:lnTo>
                    <a:lnTo>
                      <a:pt x="1042" y="9"/>
                    </a:lnTo>
                    <a:lnTo>
                      <a:pt x="1041" y="10"/>
                    </a:lnTo>
                    <a:lnTo>
                      <a:pt x="1039" y="11"/>
                    </a:lnTo>
                    <a:lnTo>
                      <a:pt x="1037" y="11"/>
                    </a:lnTo>
                    <a:lnTo>
                      <a:pt x="1036" y="14"/>
                    </a:lnTo>
                    <a:lnTo>
                      <a:pt x="1036" y="15"/>
                    </a:lnTo>
                    <a:lnTo>
                      <a:pt x="1035" y="16"/>
                    </a:lnTo>
                    <a:lnTo>
                      <a:pt x="1035" y="17"/>
                    </a:lnTo>
                    <a:lnTo>
                      <a:pt x="1035" y="21"/>
                    </a:lnTo>
                    <a:lnTo>
                      <a:pt x="1035" y="26"/>
                    </a:lnTo>
                    <a:lnTo>
                      <a:pt x="1035" y="30"/>
                    </a:lnTo>
                    <a:lnTo>
                      <a:pt x="1035" y="34"/>
                    </a:lnTo>
                    <a:lnTo>
                      <a:pt x="1035" y="35"/>
                    </a:lnTo>
                    <a:lnTo>
                      <a:pt x="1036" y="38"/>
                    </a:lnTo>
                    <a:lnTo>
                      <a:pt x="1036" y="39"/>
                    </a:lnTo>
                    <a:lnTo>
                      <a:pt x="1037" y="40"/>
                    </a:lnTo>
                    <a:lnTo>
                      <a:pt x="1039" y="41"/>
                    </a:lnTo>
                    <a:lnTo>
                      <a:pt x="1041" y="43"/>
                    </a:lnTo>
                    <a:lnTo>
                      <a:pt x="1042" y="43"/>
                    </a:lnTo>
                    <a:lnTo>
                      <a:pt x="1044" y="43"/>
                    </a:lnTo>
                    <a:lnTo>
                      <a:pt x="104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4445280" y="4239000"/>
                <a:ext cx="1683720" cy="174960"/>
              </a:xfrm>
              <a:custGeom>
                <a:avLst/>
                <a:gdLst/>
                <a:ahLst/>
                <a:rect l="l" t="t" r="r" b="b"/>
                <a:pathLst>
                  <a:path w="2476" h="317">
                    <a:moveTo>
                      <a:pt x="41" y="39"/>
                    </a:moveTo>
                    <a:lnTo>
                      <a:pt x="4" y="39"/>
                    </a:lnTo>
                    <a:lnTo>
                      <a:pt x="23" y="8"/>
                    </a:lnTo>
                    <a:lnTo>
                      <a:pt x="41" y="39"/>
                    </a:lnTo>
                    <a:lnTo>
                      <a:pt x="41" y="39"/>
                    </a:lnTo>
                    <a:close/>
                    <a:moveTo>
                      <a:pt x="24" y="3"/>
                    </a:move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  <a:moveTo>
                      <a:pt x="23" y="37"/>
                    </a:moveTo>
                    <a:lnTo>
                      <a:pt x="24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close/>
                    <a:moveTo>
                      <a:pt x="24" y="31"/>
                    </a:moveTo>
                    <a:lnTo>
                      <a:pt x="24" y="27"/>
                    </a:lnTo>
                    <a:lnTo>
                      <a:pt x="24" y="23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4" y="31"/>
                    </a:lnTo>
                    <a:close/>
                    <a:moveTo>
                      <a:pt x="43" y="71"/>
                    </a:moveTo>
                    <a:lnTo>
                      <a:pt x="43" y="67"/>
                    </a:lnTo>
                    <a:lnTo>
                      <a:pt x="42" y="63"/>
                    </a:lnTo>
                    <a:lnTo>
                      <a:pt x="39" y="60"/>
                    </a:lnTo>
                    <a:lnTo>
                      <a:pt x="37" y="57"/>
                    </a:lnTo>
                    <a:lnTo>
                      <a:pt x="34" y="55"/>
                    </a:lnTo>
                    <a:lnTo>
                      <a:pt x="30" y="52"/>
                    </a:lnTo>
                    <a:lnTo>
                      <a:pt x="27" y="51"/>
                    </a:lnTo>
                    <a:lnTo>
                      <a:pt x="23" y="51"/>
                    </a:lnTo>
                    <a:lnTo>
                      <a:pt x="18" y="51"/>
                    </a:lnTo>
                    <a:lnTo>
                      <a:pt x="15" y="52"/>
                    </a:lnTo>
                    <a:lnTo>
                      <a:pt x="12" y="55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5" y="63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9" y="86"/>
                    </a:lnTo>
                    <a:lnTo>
                      <a:pt x="12" y="89"/>
                    </a:lnTo>
                    <a:lnTo>
                      <a:pt x="15" y="90"/>
                    </a:lnTo>
                    <a:lnTo>
                      <a:pt x="18" y="91"/>
                    </a:lnTo>
                    <a:lnTo>
                      <a:pt x="23" y="91"/>
                    </a:lnTo>
                    <a:lnTo>
                      <a:pt x="27" y="91"/>
                    </a:lnTo>
                    <a:lnTo>
                      <a:pt x="30" y="90"/>
                    </a:lnTo>
                    <a:lnTo>
                      <a:pt x="34" y="89"/>
                    </a:lnTo>
                    <a:lnTo>
                      <a:pt x="37" y="86"/>
                    </a:lnTo>
                    <a:lnTo>
                      <a:pt x="39" y="82"/>
                    </a:lnTo>
                    <a:lnTo>
                      <a:pt x="42" y="79"/>
                    </a:lnTo>
                    <a:lnTo>
                      <a:pt x="43" y="75"/>
                    </a:lnTo>
                    <a:lnTo>
                      <a:pt x="43" y="71"/>
                    </a:lnTo>
                    <a:lnTo>
                      <a:pt x="43" y="71"/>
                    </a:lnTo>
                    <a:close/>
                    <a:moveTo>
                      <a:pt x="23" y="73"/>
                    </a:moveTo>
                    <a:lnTo>
                      <a:pt x="22" y="75"/>
                    </a:lnTo>
                    <a:lnTo>
                      <a:pt x="22" y="76"/>
                    </a:lnTo>
                    <a:lnTo>
                      <a:pt x="19" y="76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1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20" y="80"/>
                    </a:lnTo>
                    <a:lnTo>
                      <a:pt x="22" y="79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34" y="85"/>
                    </a:lnTo>
                    <a:lnTo>
                      <a:pt x="30" y="86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9" y="80"/>
                    </a:lnTo>
                    <a:lnTo>
                      <a:pt x="8" y="77"/>
                    </a:lnTo>
                    <a:lnTo>
                      <a:pt x="7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23" y="73"/>
                    </a:lnTo>
                    <a:lnTo>
                      <a:pt x="23" y="73"/>
                    </a:lnTo>
                    <a:close/>
                    <a:moveTo>
                      <a:pt x="27" y="76"/>
                    </a:moveTo>
                    <a:lnTo>
                      <a:pt x="29" y="73"/>
                    </a:lnTo>
                    <a:lnTo>
                      <a:pt x="32" y="72"/>
                    </a:lnTo>
                    <a:lnTo>
                      <a:pt x="33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8" y="70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13" y="57"/>
                    </a:lnTo>
                    <a:lnTo>
                      <a:pt x="17" y="56"/>
                    </a:lnTo>
                    <a:lnTo>
                      <a:pt x="19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9" y="55"/>
                    </a:lnTo>
                    <a:lnTo>
                      <a:pt x="32" y="57"/>
                    </a:lnTo>
                    <a:lnTo>
                      <a:pt x="34" y="58"/>
                    </a:lnTo>
                    <a:lnTo>
                      <a:pt x="37" y="62"/>
                    </a:lnTo>
                    <a:lnTo>
                      <a:pt x="38" y="65"/>
                    </a:lnTo>
                    <a:lnTo>
                      <a:pt x="39" y="67"/>
                    </a:lnTo>
                    <a:lnTo>
                      <a:pt x="39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9"/>
                    </a:lnTo>
                    <a:lnTo>
                      <a:pt x="35" y="81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27" y="76"/>
                    </a:lnTo>
                    <a:lnTo>
                      <a:pt x="27" y="76"/>
                    </a:lnTo>
                    <a:close/>
                    <a:moveTo>
                      <a:pt x="681" y="139"/>
                    </a:moveTo>
                    <a:lnTo>
                      <a:pt x="681" y="138"/>
                    </a:lnTo>
                    <a:lnTo>
                      <a:pt x="680" y="137"/>
                    </a:lnTo>
                    <a:lnTo>
                      <a:pt x="678" y="135"/>
                    </a:lnTo>
                    <a:lnTo>
                      <a:pt x="677" y="135"/>
                    </a:lnTo>
                    <a:lnTo>
                      <a:pt x="674" y="135"/>
                    </a:lnTo>
                    <a:lnTo>
                      <a:pt x="673" y="137"/>
                    </a:lnTo>
                    <a:lnTo>
                      <a:pt x="672" y="138"/>
                    </a:lnTo>
                    <a:lnTo>
                      <a:pt x="672" y="139"/>
                    </a:lnTo>
                    <a:lnTo>
                      <a:pt x="672" y="143"/>
                    </a:lnTo>
                    <a:lnTo>
                      <a:pt x="673" y="144"/>
                    </a:lnTo>
                    <a:lnTo>
                      <a:pt x="674" y="145"/>
                    </a:lnTo>
                    <a:lnTo>
                      <a:pt x="677" y="147"/>
                    </a:lnTo>
                    <a:lnTo>
                      <a:pt x="678" y="145"/>
                    </a:lnTo>
                    <a:lnTo>
                      <a:pt x="680" y="144"/>
                    </a:lnTo>
                    <a:lnTo>
                      <a:pt x="681" y="143"/>
                    </a:lnTo>
                    <a:lnTo>
                      <a:pt x="681" y="139"/>
                    </a:lnTo>
                    <a:lnTo>
                      <a:pt x="681" y="139"/>
                    </a:lnTo>
                    <a:close/>
                    <a:moveTo>
                      <a:pt x="633" y="167"/>
                    </a:moveTo>
                    <a:lnTo>
                      <a:pt x="633" y="166"/>
                    </a:lnTo>
                    <a:lnTo>
                      <a:pt x="632" y="163"/>
                    </a:lnTo>
                    <a:lnTo>
                      <a:pt x="631" y="163"/>
                    </a:lnTo>
                    <a:lnTo>
                      <a:pt x="629" y="162"/>
                    </a:lnTo>
                    <a:lnTo>
                      <a:pt x="628" y="163"/>
                    </a:lnTo>
                    <a:lnTo>
                      <a:pt x="626" y="163"/>
                    </a:lnTo>
                    <a:lnTo>
                      <a:pt x="626" y="166"/>
                    </a:lnTo>
                    <a:lnTo>
                      <a:pt x="624" y="167"/>
                    </a:lnTo>
                    <a:lnTo>
                      <a:pt x="626" y="169"/>
                    </a:lnTo>
                    <a:lnTo>
                      <a:pt x="626" y="172"/>
                    </a:lnTo>
                    <a:lnTo>
                      <a:pt x="628" y="173"/>
                    </a:lnTo>
                    <a:lnTo>
                      <a:pt x="629" y="173"/>
                    </a:lnTo>
                    <a:lnTo>
                      <a:pt x="631" y="173"/>
                    </a:lnTo>
                    <a:lnTo>
                      <a:pt x="632" y="172"/>
                    </a:lnTo>
                    <a:lnTo>
                      <a:pt x="633" y="169"/>
                    </a:lnTo>
                    <a:lnTo>
                      <a:pt x="633" y="167"/>
                    </a:lnTo>
                    <a:lnTo>
                      <a:pt x="633" y="167"/>
                    </a:lnTo>
                    <a:close/>
                    <a:moveTo>
                      <a:pt x="661" y="167"/>
                    </a:moveTo>
                    <a:lnTo>
                      <a:pt x="661" y="166"/>
                    </a:lnTo>
                    <a:lnTo>
                      <a:pt x="659" y="163"/>
                    </a:lnTo>
                    <a:lnTo>
                      <a:pt x="658" y="163"/>
                    </a:lnTo>
                    <a:lnTo>
                      <a:pt x="657" y="162"/>
                    </a:lnTo>
                    <a:lnTo>
                      <a:pt x="654" y="162"/>
                    </a:lnTo>
                    <a:lnTo>
                      <a:pt x="653" y="163"/>
                    </a:lnTo>
                    <a:lnTo>
                      <a:pt x="653" y="163"/>
                    </a:lnTo>
                    <a:lnTo>
                      <a:pt x="652" y="163"/>
                    </a:lnTo>
                    <a:lnTo>
                      <a:pt x="652" y="166"/>
                    </a:lnTo>
                    <a:lnTo>
                      <a:pt x="652" y="167"/>
                    </a:lnTo>
                    <a:lnTo>
                      <a:pt x="652" y="169"/>
                    </a:lnTo>
                    <a:lnTo>
                      <a:pt x="652" y="172"/>
                    </a:lnTo>
                    <a:lnTo>
                      <a:pt x="653" y="173"/>
                    </a:lnTo>
                    <a:lnTo>
                      <a:pt x="653" y="173"/>
                    </a:lnTo>
                    <a:lnTo>
                      <a:pt x="654" y="173"/>
                    </a:lnTo>
                    <a:lnTo>
                      <a:pt x="657" y="173"/>
                    </a:lnTo>
                    <a:lnTo>
                      <a:pt x="658" y="173"/>
                    </a:lnTo>
                    <a:lnTo>
                      <a:pt x="659" y="172"/>
                    </a:lnTo>
                    <a:lnTo>
                      <a:pt x="661" y="169"/>
                    </a:lnTo>
                    <a:lnTo>
                      <a:pt x="661" y="167"/>
                    </a:lnTo>
                    <a:lnTo>
                      <a:pt x="661" y="167"/>
                    </a:lnTo>
                    <a:close/>
                    <a:moveTo>
                      <a:pt x="613" y="139"/>
                    </a:moveTo>
                    <a:lnTo>
                      <a:pt x="613" y="138"/>
                    </a:lnTo>
                    <a:lnTo>
                      <a:pt x="612" y="137"/>
                    </a:lnTo>
                    <a:lnTo>
                      <a:pt x="611" y="135"/>
                    </a:lnTo>
                    <a:lnTo>
                      <a:pt x="609" y="135"/>
                    </a:lnTo>
                    <a:lnTo>
                      <a:pt x="607" y="135"/>
                    </a:lnTo>
                    <a:lnTo>
                      <a:pt x="607" y="135"/>
                    </a:lnTo>
                    <a:lnTo>
                      <a:pt x="606" y="135"/>
                    </a:lnTo>
                    <a:lnTo>
                      <a:pt x="604" y="137"/>
                    </a:lnTo>
                    <a:lnTo>
                      <a:pt x="604" y="138"/>
                    </a:lnTo>
                    <a:lnTo>
                      <a:pt x="604" y="139"/>
                    </a:lnTo>
                    <a:lnTo>
                      <a:pt x="604" y="143"/>
                    </a:lnTo>
                    <a:lnTo>
                      <a:pt x="604" y="144"/>
                    </a:lnTo>
                    <a:lnTo>
                      <a:pt x="606" y="145"/>
                    </a:lnTo>
                    <a:lnTo>
                      <a:pt x="607" y="145"/>
                    </a:lnTo>
                    <a:lnTo>
                      <a:pt x="607" y="147"/>
                    </a:lnTo>
                    <a:lnTo>
                      <a:pt x="609" y="147"/>
                    </a:lnTo>
                    <a:lnTo>
                      <a:pt x="611" y="145"/>
                    </a:lnTo>
                    <a:lnTo>
                      <a:pt x="612" y="144"/>
                    </a:lnTo>
                    <a:lnTo>
                      <a:pt x="613" y="143"/>
                    </a:lnTo>
                    <a:lnTo>
                      <a:pt x="613" y="139"/>
                    </a:lnTo>
                    <a:lnTo>
                      <a:pt x="613" y="139"/>
                    </a:lnTo>
                    <a:close/>
                    <a:moveTo>
                      <a:pt x="633" y="137"/>
                    </a:moveTo>
                    <a:lnTo>
                      <a:pt x="652" y="137"/>
                    </a:lnTo>
                    <a:lnTo>
                      <a:pt x="652" y="105"/>
                    </a:lnTo>
                    <a:lnTo>
                      <a:pt x="633" y="105"/>
                    </a:lnTo>
                    <a:lnTo>
                      <a:pt x="633" y="137"/>
                    </a:lnTo>
                    <a:lnTo>
                      <a:pt x="633" y="137"/>
                    </a:lnTo>
                    <a:close/>
                    <a:moveTo>
                      <a:pt x="621" y="114"/>
                    </a:moveTo>
                    <a:lnTo>
                      <a:pt x="619" y="111"/>
                    </a:lnTo>
                    <a:lnTo>
                      <a:pt x="619" y="109"/>
                    </a:lnTo>
                    <a:lnTo>
                      <a:pt x="617" y="108"/>
                    </a:lnTo>
                    <a:lnTo>
                      <a:pt x="616" y="108"/>
                    </a:lnTo>
                    <a:lnTo>
                      <a:pt x="614" y="108"/>
                    </a:lnTo>
                    <a:lnTo>
                      <a:pt x="613" y="109"/>
                    </a:lnTo>
                    <a:lnTo>
                      <a:pt x="612" y="111"/>
                    </a:lnTo>
                    <a:lnTo>
                      <a:pt x="611" y="114"/>
                    </a:lnTo>
                    <a:lnTo>
                      <a:pt x="612" y="116"/>
                    </a:lnTo>
                    <a:lnTo>
                      <a:pt x="613" y="118"/>
                    </a:lnTo>
                    <a:lnTo>
                      <a:pt x="614" y="119"/>
                    </a:lnTo>
                    <a:lnTo>
                      <a:pt x="616" y="119"/>
                    </a:lnTo>
                    <a:lnTo>
                      <a:pt x="617" y="119"/>
                    </a:lnTo>
                    <a:lnTo>
                      <a:pt x="619" y="118"/>
                    </a:lnTo>
                    <a:lnTo>
                      <a:pt x="619" y="116"/>
                    </a:lnTo>
                    <a:lnTo>
                      <a:pt x="621" y="114"/>
                    </a:lnTo>
                    <a:lnTo>
                      <a:pt x="621" y="114"/>
                    </a:lnTo>
                    <a:close/>
                    <a:moveTo>
                      <a:pt x="674" y="114"/>
                    </a:moveTo>
                    <a:lnTo>
                      <a:pt x="674" y="111"/>
                    </a:lnTo>
                    <a:lnTo>
                      <a:pt x="673" y="109"/>
                    </a:lnTo>
                    <a:lnTo>
                      <a:pt x="672" y="108"/>
                    </a:lnTo>
                    <a:lnTo>
                      <a:pt x="669" y="108"/>
                    </a:lnTo>
                    <a:lnTo>
                      <a:pt x="667" y="108"/>
                    </a:lnTo>
                    <a:lnTo>
                      <a:pt x="664" y="109"/>
                    </a:lnTo>
                    <a:lnTo>
                      <a:pt x="663" y="111"/>
                    </a:lnTo>
                    <a:lnTo>
                      <a:pt x="663" y="114"/>
                    </a:lnTo>
                    <a:lnTo>
                      <a:pt x="663" y="116"/>
                    </a:lnTo>
                    <a:lnTo>
                      <a:pt x="664" y="118"/>
                    </a:lnTo>
                    <a:lnTo>
                      <a:pt x="667" y="119"/>
                    </a:lnTo>
                    <a:lnTo>
                      <a:pt x="669" y="119"/>
                    </a:lnTo>
                    <a:lnTo>
                      <a:pt x="672" y="119"/>
                    </a:lnTo>
                    <a:lnTo>
                      <a:pt x="673" y="118"/>
                    </a:lnTo>
                    <a:lnTo>
                      <a:pt x="674" y="116"/>
                    </a:lnTo>
                    <a:lnTo>
                      <a:pt x="674" y="114"/>
                    </a:lnTo>
                    <a:lnTo>
                      <a:pt x="674" y="114"/>
                    </a:lnTo>
                    <a:close/>
                    <a:moveTo>
                      <a:pt x="607" y="281"/>
                    </a:moveTo>
                    <a:lnTo>
                      <a:pt x="607" y="317"/>
                    </a:lnTo>
                    <a:lnTo>
                      <a:pt x="681" y="317"/>
                    </a:lnTo>
                    <a:lnTo>
                      <a:pt x="681" y="281"/>
                    </a:lnTo>
                    <a:lnTo>
                      <a:pt x="607" y="281"/>
                    </a:lnTo>
                    <a:lnTo>
                      <a:pt x="607" y="281"/>
                    </a:lnTo>
                    <a:close/>
                    <a:moveTo>
                      <a:pt x="611" y="286"/>
                    </a:moveTo>
                    <a:lnTo>
                      <a:pt x="611" y="311"/>
                    </a:lnTo>
                    <a:lnTo>
                      <a:pt x="674" y="311"/>
                    </a:lnTo>
                    <a:lnTo>
                      <a:pt x="674" y="286"/>
                    </a:lnTo>
                    <a:lnTo>
                      <a:pt x="611" y="286"/>
                    </a:lnTo>
                    <a:lnTo>
                      <a:pt x="611" y="286"/>
                    </a:lnTo>
                    <a:close/>
                    <a:moveTo>
                      <a:pt x="668" y="288"/>
                    </a:moveTo>
                    <a:lnTo>
                      <a:pt x="668" y="294"/>
                    </a:lnTo>
                    <a:lnTo>
                      <a:pt x="672" y="294"/>
                    </a:lnTo>
                    <a:lnTo>
                      <a:pt x="672" y="288"/>
                    </a:lnTo>
                    <a:lnTo>
                      <a:pt x="668" y="288"/>
                    </a:lnTo>
                    <a:lnTo>
                      <a:pt x="668" y="288"/>
                    </a:lnTo>
                    <a:close/>
                    <a:moveTo>
                      <a:pt x="658" y="288"/>
                    </a:moveTo>
                    <a:lnTo>
                      <a:pt x="658" y="294"/>
                    </a:lnTo>
                    <a:lnTo>
                      <a:pt x="663" y="294"/>
                    </a:lnTo>
                    <a:lnTo>
                      <a:pt x="663" y="288"/>
                    </a:lnTo>
                    <a:lnTo>
                      <a:pt x="658" y="288"/>
                    </a:lnTo>
                    <a:lnTo>
                      <a:pt x="658" y="288"/>
                    </a:lnTo>
                    <a:close/>
                    <a:moveTo>
                      <a:pt x="663" y="297"/>
                    </a:moveTo>
                    <a:lnTo>
                      <a:pt x="663" y="301"/>
                    </a:lnTo>
                    <a:lnTo>
                      <a:pt x="668" y="301"/>
                    </a:lnTo>
                    <a:lnTo>
                      <a:pt x="668" y="297"/>
                    </a:lnTo>
                    <a:lnTo>
                      <a:pt x="663" y="297"/>
                    </a:lnTo>
                    <a:lnTo>
                      <a:pt x="663" y="297"/>
                    </a:lnTo>
                    <a:close/>
                    <a:moveTo>
                      <a:pt x="649" y="288"/>
                    </a:moveTo>
                    <a:lnTo>
                      <a:pt x="649" y="294"/>
                    </a:lnTo>
                    <a:lnTo>
                      <a:pt x="654" y="294"/>
                    </a:lnTo>
                    <a:lnTo>
                      <a:pt x="654" y="288"/>
                    </a:lnTo>
                    <a:lnTo>
                      <a:pt x="649" y="288"/>
                    </a:lnTo>
                    <a:lnTo>
                      <a:pt x="649" y="288"/>
                    </a:lnTo>
                    <a:close/>
                    <a:moveTo>
                      <a:pt x="641" y="288"/>
                    </a:moveTo>
                    <a:lnTo>
                      <a:pt x="641" y="294"/>
                    </a:lnTo>
                    <a:lnTo>
                      <a:pt x="647" y="294"/>
                    </a:lnTo>
                    <a:lnTo>
                      <a:pt x="647" y="288"/>
                    </a:lnTo>
                    <a:lnTo>
                      <a:pt x="641" y="288"/>
                    </a:lnTo>
                    <a:lnTo>
                      <a:pt x="641" y="288"/>
                    </a:lnTo>
                    <a:close/>
                    <a:moveTo>
                      <a:pt x="632" y="288"/>
                    </a:moveTo>
                    <a:lnTo>
                      <a:pt x="632" y="294"/>
                    </a:lnTo>
                    <a:lnTo>
                      <a:pt x="638" y="294"/>
                    </a:lnTo>
                    <a:lnTo>
                      <a:pt x="638" y="288"/>
                    </a:lnTo>
                    <a:lnTo>
                      <a:pt x="632" y="288"/>
                    </a:lnTo>
                    <a:lnTo>
                      <a:pt x="632" y="288"/>
                    </a:lnTo>
                    <a:close/>
                    <a:moveTo>
                      <a:pt x="622" y="288"/>
                    </a:moveTo>
                    <a:lnTo>
                      <a:pt x="622" y="294"/>
                    </a:lnTo>
                    <a:lnTo>
                      <a:pt x="629" y="294"/>
                    </a:lnTo>
                    <a:lnTo>
                      <a:pt x="629" y="288"/>
                    </a:lnTo>
                    <a:lnTo>
                      <a:pt x="622" y="288"/>
                    </a:lnTo>
                    <a:lnTo>
                      <a:pt x="622" y="288"/>
                    </a:lnTo>
                    <a:close/>
                    <a:moveTo>
                      <a:pt x="616" y="288"/>
                    </a:moveTo>
                    <a:lnTo>
                      <a:pt x="616" y="294"/>
                    </a:lnTo>
                    <a:lnTo>
                      <a:pt x="621" y="294"/>
                    </a:lnTo>
                    <a:lnTo>
                      <a:pt x="621" y="288"/>
                    </a:lnTo>
                    <a:lnTo>
                      <a:pt x="616" y="288"/>
                    </a:lnTo>
                    <a:lnTo>
                      <a:pt x="616" y="288"/>
                    </a:lnTo>
                    <a:close/>
                    <a:moveTo>
                      <a:pt x="654" y="297"/>
                    </a:moveTo>
                    <a:lnTo>
                      <a:pt x="654" y="301"/>
                    </a:lnTo>
                    <a:lnTo>
                      <a:pt x="658" y="301"/>
                    </a:lnTo>
                    <a:lnTo>
                      <a:pt x="658" y="297"/>
                    </a:lnTo>
                    <a:lnTo>
                      <a:pt x="654" y="297"/>
                    </a:lnTo>
                    <a:lnTo>
                      <a:pt x="654" y="297"/>
                    </a:lnTo>
                    <a:close/>
                    <a:moveTo>
                      <a:pt x="644" y="297"/>
                    </a:moveTo>
                    <a:lnTo>
                      <a:pt x="644" y="301"/>
                    </a:lnTo>
                    <a:lnTo>
                      <a:pt x="649" y="301"/>
                    </a:lnTo>
                    <a:lnTo>
                      <a:pt x="649" y="297"/>
                    </a:lnTo>
                    <a:lnTo>
                      <a:pt x="644" y="297"/>
                    </a:lnTo>
                    <a:lnTo>
                      <a:pt x="644" y="297"/>
                    </a:lnTo>
                    <a:close/>
                    <a:moveTo>
                      <a:pt x="636" y="297"/>
                    </a:moveTo>
                    <a:lnTo>
                      <a:pt x="636" y="301"/>
                    </a:lnTo>
                    <a:lnTo>
                      <a:pt x="643" y="301"/>
                    </a:lnTo>
                    <a:lnTo>
                      <a:pt x="643" y="297"/>
                    </a:lnTo>
                    <a:lnTo>
                      <a:pt x="636" y="297"/>
                    </a:lnTo>
                    <a:lnTo>
                      <a:pt x="636" y="297"/>
                    </a:lnTo>
                    <a:close/>
                    <a:moveTo>
                      <a:pt x="627" y="297"/>
                    </a:moveTo>
                    <a:lnTo>
                      <a:pt x="627" y="301"/>
                    </a:lnTo>
                    <a:lnTo>
                      <a:pt x="633" y="301"/>
                    </a:lnTo>
                    <a:lnTo>
                      <a:pt x="633" y="297"/>
                    </a:lnTo>
                    <a:lnTo>
                      <a:pt x="627" y="297"/>
                    </a:lnTo>
                    <a:lnTo>
                      <a:pt x="627" y="297"/>
                    </a:lnTo>
                    <a:close/>
                    <a:moveTo>
                      <a:pt x="618" y="297"/>
                    </a:moveTo>
                    <a:lnTo>
                      <a:pt x="618" y="301"/>
                    </a:lnTo>
                    <a:lnTo>
                      <a:pt x="624" y="301"/>
                    </a:lnTo>
                    <a:lnTo>
                      <a:pt x="624" y="297"/>
                    </a:lnTo>
                    <a:lnTo>
                      <a:pt x="618" y="297"/>
                    </a:lnTo>
                    <a:lnTo>
                      <a:pt x="618" y="297"/>
                    </a:lnTo>
                    <a:close/>
                    <a:moveTo>
                      <a:pt x="658" y="303"/>
                    </a:moveTo>
                    <a:lnTo>
                      <a:pt x="627" y="303"/>
                    </a:lnTo>
                    <a:lnTo>
                      <a:pt x="627" y="308"/>
                    </a:lnTo>
                    <a:lnTo>
                      <a:pt x="658" y="308"/>
                    </a:lnTo>
                    <a:lnTo>
                      <a:pt x="658" y="303"/>
                    </a:lnTo>
                    <a:lnTo>
                      <a:pt x="658" y="303"/>
                    </a:lnTo>
                    <a:close/>
                    <a:moveTo>
                      <a:pt x="663" y="303"/>
                    </a:moveTo>
                    <a:lnTo>
                      <a:pt x="663" y="308"/>
                    </a:lnTo>
                    <a:lnTo>
                      <a:pt x="669" y="308"/>
                    </a:lnTo>
                    <a:lnTo>
                      <a:pt x="669" y="303"/>
                    </a:lnTo>
                    <a:lnTo>
                      <a:pt x="663" y="303"/>
                    </a:lnTo>
                    <a:lnTo>
                      <a:pt x="663" y="303"/>
                    </a:lnTo>
                    <a:close/>
                    <a:moveTo>
                      <a:pt x="618" y="303"/>
                    </a:moveTo>
                    <a:lnTo>
                      <a:pt x="618" y="308"/>
                    </a:lnTo>
                    <a:lnTo>
                      <a:pt x="622" y="308"/>
                    </a:lnTo>
                    <a:lnTo>
                      <a:pt x="622" y="303"/>
                    </a:lnTo>
                    <a:lnTo>
                      <a:pt x="618" y="303"/>
                    </a:lnTo>
                    <a:lnTo>
                      <a:pt x="618" y="303"/>
                    </a:lnTo>
                    <a:close/>
                    <a:moveTo>
                      <a:pt x="869" y="139"/>
                    </a:moveTo>
                    <a:lnTo>
                      <a:pt x="869" y="138"/>
                    </a:lnTo>
                    <a:lnTo>
                      <a:pt x="867" y="137"/>
                    </a:lnTo>
                    <a:lnTo>
                      <a:pt x="866" y="135"/>
                    </a:lnTo>
                    <a:lnTo>
                      <a:pt x="865" y="135"/>
                    </a:lnTo>
                    <a:lnTo>
                      <a:pt x="861" y="135"/>
                    </a:lnTo>
                    <a:lnTo>
                      <a:pt x="860" y="137"/>
                    </a:lnTo>
                    <a:lnTo>
                      <a:pt x="859" y="138"/>
                    </a:lnTo>
                    <a:lnTo>
                      <a:pt x="857" y="139"/>
                    </a:lnTo>
                    <a:lnTo>
                      <a:pt x="859" y="143"/>
                    </a:lnTo>
                    <a:lnTo>
                      <a:pt x="860" y="144"/>
                    </a:lnTo>
                    <a:lnTo>
                      <a:pt x="861" y="145"/>
                    </a:lnTo>
                    <a:lnTo>
                      <a:pt x="865" y="147"/>
                    </a:lnTo>
                    <a:lnTo>
                      <a:pt x="866" y="145"/>
                    </a:lnTo>
                    <a:lnTo>
                      <a:pt x="867" y="144"/>
                    </a:lnTo>
                    <a:lnTo>
                      <a:pt x="869" y="143"/>
                    </a:lnTo>
                    <a:lnTo>
                      <a:pt x="869" y="139"/>
                    </a:lnTo>
                    <a:lnTo>
                      <a:pt x="869" y="139"/>
                    </a:lnTo>
                    <a:close/>
                    <a:moveTo>
                      <a:pt x="876" y="114"/>
                    </a:moveTo>
                    <a:lnTo>
                      <a:pt x="875" y="111"/>
                    </a:lnTo>
                    <a:lnTo>
                      <a:pt x="875" y="109"/>
                    </a:lnTo>
                    <a:lnTo>
                      <a:pt x="872" y="108"/>
                    </a:lnTo>
                    <a:lnTo>
                      <a:pt x="871" y="108"/>
                    </a:lnTo>
                    <a:lnTo>
                      <a:pt x="870" y="108"/>
                    </a:lnTo>
                    <a:lnTo>
                      <a:pt x="869" y="109"/>
                    </a:lnTo>
                    <a:lnTo>
                      <a:pt x="867" y="111"/>
                    </a:lnTo>
                    <a:lnTo>
                      <a:pt x="867" y="114"/>
                    </a:lnTo>
                    <a:lnTo>
                      <a:pt x="867" y="116"/>
                    </a:lnTo>
                    <a:lnTo>
                      <a:pt x="869" y="118"/>
                    </a:lnTo>
                    <a:lnTo>
                      <a:pt x="870" y="119"/>
                    </a:lnTo>
                    <a:lnTo>
                      <a:pt x="871" y="119"/>
                    </a:lnTo>
                    <a:lnTo>
                      <a:pt x="872" y="119"/>
                    </a:lnTo>
                    <a:lnTo>
                      <a:pt x="875" y="118"/>
                    </a:lnTo>
                    <a:lnTo>
                      <a:pt x="875" y="116"/>
                    </a:lnTo>
                    <a:lnTo>
                      <a:pt x="876" y="114"/>
                    </a:lnTo>
                    <a:lnTo>
                      <a:pt x="876" y="114"/>
                    </a:lnTo>
                    <a:close/>
                    <a:moveTo>
                      <a:pt x="890" y="167"/>
                    </a:moveTo>
                    <a:lnTo>
                      <a:pt x="889" y="166"/>
                    </a:lnTo>
                    <a:lnTo>
                      <a:pt x="887" y="163"/>
                    </a:lnTo>
                    <a:lnTo>
                      <a:pt x="886" y="163"/>
                    </a:lnTo>
                    <a:lnTo>
                      <a:pt x="885" y="162"/>
                    </a:lnTo>
                    <a:lnTo>
                      <a:pt x="884" y="162"/>
                    </a:lnTo>
                    <a:lnTo>
                      <a:pt x="882" y="163"/>
                    </a:lnTo>
                    <a:lnTo>
                      <a:pt x="881" y="163"/>
                    </a:lnTo>
                    <a:lnTo>
                      <a:pt x="881" y="163"/>
                    </a:lnTo>
                    <a:lnTo>
                      <a:pt x="880" y="166"/>
                    </a:lnTo>
                    <a:lnTo>
                      <a:pt x="880" y="167"/>
                    </a:lnTo>
                    <a:lnTo>
                      <a:pt x="880" y="169"/>
                    </a:lnTo>
                    <a:lnTo>
                      <a:pt x="881" y="172"/>
                    </a:lnTo>
                    <a:lnTo>
                      <a:pt x="881" y="173"/>
                    </a:lnTo>
                    <a:lnTo>
                      <a:pt x="882" y="173"/>
                    </a:lnTo>
                    <a:lnTo>
                      <a:pt x="884" y="173"/>
                    </a:lnTo>
                    <a:lnTo>
                      <a:pt x="885" y="173"/>
                    </a:lnTo>
                    <a:lnTo>
                      <a:pt x="886" y="173"/>
                    </a:lnTo>
                    <a:lnTo>
                      <a:pt x="887" y="172"/>
                    </a:lnTo>
                    <a:lnTo>
                      <a:pt x="889" y="169"/>
                    </a:lnTo>
                    <a:lnTo>
                      <a:pt x="890" y="167"/>
                    </a:lnTo>
                    <a:lnTo>
                      <a:pt x="890" y="167"/>
                    </a:lnTo>
                    <a:close/>
                    <a:moveTo>
                      <a:pt x="890" y="137"/>
                    </a:moveTo>
                    <a:lnTo>
                      <a:pt x="908" y="137"/>
                    </a:lnTo>
                    <a:lnTo>
                      <a:pt x="908" y="105"/>
                    </a:lnTo>
                    <a:lnTo>
                      <a:pt x="890" y="105"/>
                    </a:lnTo>
                    <a:lnTo>
                      <a:pt x="890" y="137"/>
                    </a:lnTo>
                    <a:lnTo>
                      <a:pt x="890" y="137"/>
                    </a:lnTo>
                    <a:close/>
                    <a:moveTo>
                      <a:pt x="916" y="167"/>
                    </a:moveTo>
                    <a:lnTo>
                      <a:pt x="916" y="166"/>
                    </a:lnTo>
                    <a:lnTo>
                      <a:pt x="915" y="163"/>
                    </a:lnTo>
                    <a:lnTo>
                      <a:pt x="914" y="163"/>
                    </a:lnTo>
                    <a:lnTo>
                      <a:pt x="913" y="162"/>
                    </a:lnTo>
                    <a:lnTo>
                      <a:pt x="909" y="163"/>
                    </a:lnTo>
                    <a:lnTo>
                      <a:pt x="908" y="163"/>
                    </a:lnTo>
                    <a:lnTo>
                      <a:pt x="906" y="166"/>
                    </a:lnTo>
                    <a:lnTo>
                      <a:pt x="905" y="167"/>
                    </a:lnTo>
                    <a:lnTo>
                      <a:pt x="906" y="169"/>
                    </a:lnTo>
                    <a:lnTo>
                      <a:pt x="908" y="172"/>
                    </a:lnTo>
                    <a:lnTo>
                      <a:pt x="909" y="173"/>
                    </a:lnTo>
                    <a:lnTo>
                      <a:pt x="913" y="173"/>
                    </a:lnTo>
                    <a:lnTo>
                      <a:pt x="914" y="173"/>
                    </a:lnTo>
                    <a:lnTo>
                      <a:pt x="915" y="172"/>
                    </a:lnTo>
                    <a:lnTo>
                      <a:pt x="916" y="169"/>
                    </a:lnTo>
                    <a:lnTo>
                      <a:pt x="916" y="167"/>
                    </a:lnTo>
                    <a:lnTo>
                      <a:pt x="916" y="167"/>
                    </a:lnTo>
                    <a:close/>
                    <a:moveTo>
                      <a:pt x="930" y="114"/>
                    </a:moveTo>
                    <a:lnTo>
                      <a:pt x="930" y="111"/>
                    </a:lnTo>
                    <a:lnTo>
                      <a:pt x="929" y="109"/>
                    </a:lnTo>
                    <a:lnTo>
                      <a:pt x="926" y="108"/>
                    </a:lnTo>
                    <a:lnTo>
                      <a:pt x="924" y="108"/>
                    </a:lnTo>
                    <a:lnTo>
                      <a:pt x="921" y="108"/>
                    </a:lnTo>
                    <a:lnTo>
                      <a:pt x="920" y="109"/>
                    </a:lnTo>
                    <a:lnTo>
                      <a:pt x="919" y="111"/>
                    </a:lnTo>
                    <a:lnTo>
                      <a:pt x="919" y="114"/>
                    </a:lnTo>
                    <a:lnTo>
                      <a:pt x="919" y="116"/>
                    </a:lnTo>
                    <a:lnTo>
                      <a:pt x="920" y="118"/>
                    </a:lnTo>
                    <a:lnTo>
                      <a:pt x="921" y="119"/>
                    </a:lnTo>
                    <a:lnTo>
                      <a:pt x="924" y="119"/>
                    </a:lnTo>
                    <a:lnTo>
                      <a:pt x="926" y="119"/>
                    </a:lnTo>
                    <a:lnTo>
                      <a:pt x="929" y="118"/>
                    </a:lnTo>
                    <a:lnTo>
                      <a:pt x="930" y="116"/>
                    </a:lnTo>
                    <a:lnTo>
                      <a:pt x="930" y="114"/>
                    </a:lnTo>
                    <a:lnTo>
                      <a:pt x="930" y="114"/>
                    </a:lnTo>
                    <a:close/>
                    <a:moveTo>
                      <a:pt x="938" y="139"/>
                    </a:moveTo>
                    <a:lnTo>
                      <a:pt x="936" y="138"/>
                    </a:lnTo>
                    <a:lnTo>
                      <a:pt x="935" y="137"/>
                    </a:lnTo>
                    <a:lnTo>
                      <a:pt x="934" y="135"/>
                    </a:lnTo>
                    <a:lnTo>
                      <a:pt x="933" y="135"/>
                    </a:lnTo>
                    <a:lnTo>
                      <a:pt x="930" y="135"/>
                    </a:lnTo>
                    <a:lnTo>
                      <a:pt x="928" y="137"/>
                    </a:lnTo>
                    <a:lnTo>
                      <a:pt x="926" y="138"/>
                    </a:lnTo>
                    <a:lnTo>
                      <a:pt x="926" y="139"/>
                    </a:lnTo>
                    <a:lnTo>
                      <a:pt x="926" y="143"/>
                    </a:lnTo>
                    <a:lnTo>
                      <a:pt x="928" y="144"/>
                    </a:lnTo>
                    <a:lnTo>
                      <a:pt x="930" y="145"/>
                    </a:lnTo>
                    <a:lnTo>
                      <a:pt x="933" y="147"/>
                    </a:lnTo>
                    <a:lnTo>
                      <a:pt x="934" y="145"/>
                    </a:lnTo>
                    <a:lnTo>
                      <a:pt x="935" y="144"/>
                    </a:lnTo>
                    <a:lnTo>
                      <a:pt x="936" y="143"/>
                    </a:lnTo>
                    <a:lnTo>
                      <a:pt x="938" y="139"/>
                    </a:lnTo>
                    <a:lnTo>
                      <a:pt x="938" y="139"/>
                    </a:lnTo>
                    <a:close/>
                    <a:moveTo>
                      <a:pt x="876" y="301"/>
                    </a:moveTo>
                    <a:lnTo>
                      <a:pt x="876" y="308"/>
                    </a:lnTo>
                    <a:lnTo>
                      <a:pt x="876" y="310"/>
                    </a:lnTo>
                    <a:lnTo>
                      <a:pt x="877" y="311"/>
                    </a:lnTo>
                    <a:lnTo>
                      <a:pt x="879" y="312"/>
                    </a:lnTo>
                    <a:lnTo>
                      <a:pt x="880" y="312"/>
                    </a:lnTo>
                    <a:lnTo>
                      <a:pt x="880" y="312"/>
                    </a:lnTo>
                    <a:lnTo>
                      <a:pt x="887" y="312"/>
                    </a:lnTo>
                    <a:lnTo>
                      <a:pt x="887" y="301"/>
                    </a:lnTo>
                    <a:lnTo>
                      <a:pt x="876" y="301"/>
                    </a:lnTo>
                    <a:lnTo>
                      <a:pt x="876" y="301"/>
                    </a:lnTo>
                    <a:close/>
                    <a:moveTo>
                      <a:pt x="887" y="297"/>
                    </a:moveTo>
                    <a:lnTo>
                      <a:pt x="887" y="286"/>
                    </a:lnTo>
                    <a:lnTo>
                      <a:pt x="880" y="286"/>
                    </a:lnTo>
                    <a:lnTo>
                      <a:pt x="879" y="286"/>
                    </a:lnTo>
                    <a:lnTo>
                      <a:pt x="877" y="287"/>
                    </a:lnTo>
                    <a:lnTo>
                      <a:pt x="876" y="288"/>
                    </a:lnTo>
                    <a:lnTo>
                      <a:pt x="876" y="289"/>
                    </a:lnTo>
                    <a:lnTo>
                      <a:pt x="876" y="289"/>
                    </a:lnTo>
                    <a:lnTo>
                      <a:pt x="876" y="297"/>
                    </a:lnTo>
                    <a:lnTo>
                      <a:pt x="887" y="297"/>
                    </a:lnTo>
                    <a:lnTo>
                      <a:pt x="887" y="297"/>
                    </a:lnTo>
                    <a:close/>
                    <a:moveTo>
                      <a:pt x="894" y="312"/>
                    </a:moveTo>
                    <a:lnTo>
                      <a:pt x="908" y="312"/>
                    </a:lnTo>
                    <a:lnTo>
                      <a:pt x="910" y="312"/>
                    </a:lnTo>
                    <a:lnTo>
                      <a:pt x="913" y="312"/>
                    </a:lnTo>
                    <a:lnTo>
                      <a:pt x="914" y="311"/>
                    </a:lnTo>
                    <a:lnTo>
                      <a:pt x="916" y="310"/>
                    </a:lnTo>
                    <a:lnTo>
                      <a:pt x="918" y="308"/>
                    </a:lnTo>
                    <a:lnTo>
                      <a:pt x="918" y="306"/>
                    </a:lnTo>
                    <a:lnTo>
                      <a:pt x="919" y="303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294"/>
                    </a:lnTo>
                    <a:lnTo>
                      <a:pt x="919" y="293"/>
                    </a:lnTo>
                    <a:lnTo>
                      <a:pt x="918" y="291"/>
                    </a:lnTo>
                    <a:lnTo>
                      <a:pt x="918" y="289"/>
                    </a:lnTo>
                    <a:lnTo>
                      <a:pt x="916" y="288"/>
                    </a:lnTo>
                    <a:lnTo>
                      <a:pt x="914" y="287"/>
                    </a:lnTo>
                    <a:lnTo>
                      <a:pt x="913" y="286"/>
                    </a:lnTo>
                    <a:lnTo>
                      <a:pt x="910" y="286"/>
                    </a:lnTo>
                    <a:lnTo>
                      <a:pt x="908" y="286"/>
                    </a:lnTo>
                    <a:lnTo>
                      <a:pt x="908" y="286"/>
                    </a:lnTo>
                    <a:lnTo>
                      <a:pt x="894" y="286"/>
                    </a:lnTo>
                    <a:lnTo>
                      <a:pt x="894" y="312"/>
                    </a:lnTo>
                    <a:lnTo>
                      <a:pt x="894" y="312"/>
                    </a:lnTo>
                    <a:close/>
                    <a:moveTo>
                      <a:pt x="871" y="308"/>
                    </a:moveTo>
                    <a:lnTo>
                      <a:pt x="871" y="310"/>
                    </a:lnTo>
                    <a:lnTo>
                      <a:pt x="871" y="312"/>
                    </a:lnTo>
                    <a:lnTo>
                      <a:pt x="872" y="313"/>
                    </a:lnTo>
                    <a:lnTo>
                      <a:pt x="874" y="315"/>
                    </a:lnTo>
                    <a:lnTo>
                      <a:pt x="875" y="316"/>
                    </a:lnTo>
                    <a:lnTo>
                      <a:pt x="877" y="316"/>
                    </a:lnTo>
                    <a:lnTo>
                      <a:pt x="879" y="317"/>
                    </a:lnTo>
                    <a:lnTo>
                      <a:pt x="880" y="317"/>
                    </a:lnTo>
                    <a:lnTo>
                      <a:pt x="908" y="317"/>
                    </a:lnTo>
                    <a:lnTo>
                      <a:pt x="911" y="317"/>
                    </a:lnTo>
                    <a:lnTo>
                      <a:pt x="914" y="316"/>
                    </a:lnTo>
                    <a:lnTo>
                      <a:pt x="916" y="315"/>
                    </a:lnTo>
                    <a:lnTo>
                      <a:pt x="919" y="312"/>
                    </a:lnTo>
                    <a:lnTo>
                      <a:pt x="921" y="311"/>
                    </a:lnTo>
                    <a:lnTo>
                      <a:pt x="924" y="308"/>
                    </a:lnTo>
                    <a:lnTo>
                      <a:pt x="925" y="305"/>
                    </a:lnTo>
                    <a:lnTo>
                      <a:pt x="926" y="301"/>
                    </a:lnTo>
                    <a:lnTo>
                      <a:pt x="926" y="294"/>
                    </a:lnTo>
                    <a:lnTo>
                      <a:pt x="925" y="292"/>
                    </a:lnTo>
                    <a:lnTo>
                      <a:pt x="924" y="289"/>
                    </a:lnTo>
                    <a:lnTo>
                      <a:pt x="921" y="287"/>
                    </a:lnTo>
                    <a:lnTo>
                      <a:pt x="919" y="286"/>
                    </a:lnTo>
                    <a:lnTo>
                      <a:pt x="916" y="283"/>
                    </a:lnTo>
                    <a:lnTo>
                      <a:pt x="914" y="282"/>
                    </a:lnTo>
                    <a:lnTo>
                      <a:pt x="911" y="281"/>
                    </a:lnTo>
                    <a:lnTo>
                      <a:pt x="908" y="281"/>
                    </a:lnTo>
                    <a:lnTo>
                      <a:pt x="880" y="281"/>
                    </a:lnTo>
                    <a:lnTo>
                      <a:pt x="879" y="281"/>
                    </a:lnTo>
                    <a:lnTo>
                      <a:pt x="877" y="281"/>
                    </a:lnTo>
                    <a:lnTo>
                      <a:pt x="875" y="282"/>
                    </a:lnTo>
                    <a:lnTo>
                      <a:pt x="874" y="283"/>
                    </a:lnTo>
                    <a:lnTo>
                      <a:pt x="872" y="284"/>
                    </a:lnTo>
                    <a:lnTo>
                      <a:pt x="871" y="287"/>
                    </a:lnTo>
                    <a:lnTo>
                      <a:pt x="871" y="288"/>
                    </a:lnTo>
                    <a:lnTo>
                      <a:pt x="871" y="289"/>
                    </a:lnTo>
                    <a:lnTo>
                      <a:pt x="871" y="308"/>
                    </a:lnTo>
                    <a:lnTo>
                      <a:pt x="871" y="308"/>
                    </a:lnTo>
                    <a:close/>
                    <a:moveTo>
                      <a:pt x="1121" y="130"/>
                    </a:moveTo>
                    <a:lnTo>
                      <a:pt x="1117" y="130"/>
                    </a:lnTo>
                    <a:lnTo>
                      <a:pt x="1114" y="132"/>
                    </a:lnTo>
                    <a:lnTo>
                      <a:pt x="1112" y="133"/>
                    </a:lnTo>
                    <a:lnTo>
                      <a:pt x="1109" y="135"/>
                    </a:lnTo>
                    <a:lnTo>
                      <a:pt x="1107" y="138"/>
                    </a:lnTo>
                    <a:lnTo>
                      <a:pt x="1106" y="140"/>
                    </a:lnTo>
                    <a:lnTo>
                      <a:pt x="1104" y="143"/>
                    </a:lnTo>
                    <a:lnTo>
                      <a:pt x="1104" y="147"/>
                    </a:lnTo>
                    <a:lnTo>
                      <a:pt x="1104" y="149"/>
                    </a:lnTo>
                    <a:lnTo>
                      <a:pt x="1106" y="153"/>
                    </a:lnTo>
                    <a:lnTo>
                      <a:pt x="1107" y="156"/>
                    </a:lnTo>
                    <a:lnTo>
                      <a:pt x="1109" y="158"/>
                    </a:lnTo>
                    <a:lnTo>
                      <a:pt x="1112" y="159"/>
                    </a:lnTo>
                    <a:lnTo>
                      <a:pt x="1114" y="161"/>
                    </a:lnTo>
                    <a:lnTo>
                      <a:pt x="1117" y="162"/>
                    </a:lnTo>
                    <a:lnTo>
                      <a:pt x="1121" y="162"/>
                    </a:lnTo>
                    <a:lnTo>
                      <a:pt x="1124" y="162"/>
                    </a:lnTo>
                    <a:lnTo>
                      <a:pt x="1127" y="161"/>
                    </a:lnTo>
                    <a:lnTo>
                      <a:pt x="1129" y="159"/>
                    </a:lnTo>
                    <a:lnTo>
                      <a:pt x="1132" y="158"/>
                    </a:lnTo>
                    <a:lnTo>
                      <a:pt x="1133" y="156"/>
                    </a:lnTo>
                    <a:lnTo>
                      <a:pt x="1136" y="153"/>
                    </a:lnTo>
                    <a:lnTo>
                      <a:pt x="1136" y="149"/>
                    </a:lnTo>
                    <a:lnTo>
                      <a:pt x="1137" y="147"/>
                    </a:lnTo>
                    <a:lnTo>
                      <a:pt x="1136" y="143"/>
                    </a:lnTo>
                    <a:lnTo>
                      <a:pt x="1136" y="140"/>
                    </a:lnTo>
                    <a:lnTo>
                      <a:pt x="1133" y="138"/>
                    </a:lnTo>
                    <a:lnTo>
                      <a:pt x="1132" y="135"/>
                    </a:lnTo>
                    <a:lnTo>
                      <a:pt x="1129" y="133"/>
                    </a:lnTo>
                    <a:lnTo>
                      <a:pt x="1127" y="132"/>
                    </a:lnTo>
                    <a:lnTo>
                      <a:pt x="1124" y="130"/>
                    </a:lnTo>
                    <a:lnTo>
                      <a:pt x="1121" y="130"/>
                    </a:lnTo>
                    <a:lnTo>
                      <a:pt x="1121" y="130"/>
                    </a:lnTo>
                    <a:close/>
                    <a:moveTo>
                      <a:pt x="1471" y="130"/>
                    </a:moveTo>
                    <a:lnTo>
                      <a:pt x="1468" y="130"/>
                    </a:lnTo>
                    <a:lnTo>
                      <a:pt x="1465" y="132"/>
                    </a:lnTo>
                    <a:lnTo>
                      <a:pt x="1463" y="133"/>
                    </a:lnTo>
                    <a:lnTo>
                      <a:pt x="1460" y="135"/>
                    </a:lnTo>
                    <a:lnTo>
                      <a:pt x="1458" y="138"/>
                    </a:lnTo>
                    <a:lnTo>
                      <a:pt x="1456" y="140"/>
                    </a:lnTo>
                    <a:lnTo>
                      <a:pt x="1456" y="143"/>
                    </a:lnTo>
                    <a:lnTo>
                      <a:pt x="1455" y="147"/>
                    </a:lnTo>
                    <a:lnTo>
                      <a:pt x="1456" y="149"/>
                    </a:lnTo>
                    <a:lnTo>
                      <a:pt x="1456" y="153"/>
                    </a:lnTo>
                    <a:lnTo>
                      <a:pt x="1458" y="156"/>
                    </a:lnTo>
                    <a:lnTo>
                      <a:pt x="1460" y="158"/>
                    </a:lnTo>
                    <a:lnTo>
                      <a:pt x="1463" y="159"/>
                    </a:lnTo>
                    <a:lnTo>
                      <a:pt x="1465" y="161"/>
                    </a:lnTo>
                    <a:lnTo>
                      <a:pt x="1468" y="162"/>
                    </a:lnTo>
                    <a:lnTo>
                      <a:pt x="1471" y="162"/>
                    </a:lnTo>
                    <a:lnTo>
                      <a:pt x="1474" y="162"/>
                    </a:lnTo>
                    <a:lnTo>
                      <a:pt x="1476" y="161"/>
                    </a:lnTo>
                    <a:lnTo>
                      <a:pt x="1479" y="159"/>
                    </a:lnTo>
                    <a:lnTo>
                      <a:pt x="1480" y="158"/>
                    </a:lnTo>
                    <a:lnTo>
                      <a:pt x="1483" y="156"/>
                    </a:lnTo>
                    <a:lnTo>
                      <a:pt x="1484" y="153"/>
                    </a:lnTo>
                    <a:lnTo>
                      <a:pt x="1485" y="149"/>
                    </a:lnTo>
                    <a:lnTo>
                      <a:pt x="1485" y="147"/>
                    </a:lnTo>
                    <a:lnTo>
                      <a:pt x="1485" y="143"/>
                    </a:lnTo>
                    <a:lnTo>
                      <a:pt x="1484" y="140"/>
                    </a:lnTo>
                    <a:lnTo>
                      <a:pt x="1483" y="138"/>
                    </a:lnTo>
                    <a:lnTo>
                      <a:pt x="1480" y="135"/>
                    </a:lnTo>
                    <a:lnTo>
                      <a:pt x="1479" y="133"/>
                    </a:lnTo>
                    <a:lnTo>
                      <a:pt x="1476" y="132"/>
                    </a:lnTo>
                    <a:lnTo>
                      <a:pt x="1474" y="130"/>
                    </a:lnTo>
                    <a:lnTo>
                      <a:pt x="1471" y="130"/>
                    </a:lnTo>
                    <a:lnTo>
                      <a:pt x="1471" y="130"/>
                    </a:lnTo>
                    <a:close/>
                    <a:moveTo>
                      <a:pt x="2112" y="135"/>
                    </a:moveTo>
                    <a:lnTo>
                      <a:pt x="2109" y="135"/>
                    </a:lnTo>
                    <a:lnTo>
                      <a:pt x="2105" y="137"/>
                    </a:lnTo>
                    <a:lnTo>
                      <a:pt x="2103" y="138"/>
                    </a:lnTo>
                    <a:lnTo>
                      <a:pt x="2100" y="139"/>
                    </a:lnTo>
                    <a:lnTo>
                      <a:pt x="2099" y="142"/>
                    </a:lnTo>
                    <a:lnTo>
                      <a:pt x="2098" y="144"/>
                    </a:lnTo>
                    <a:lnTo>
                      <a:pt x="2097" y="148"/>
                    </a:lnTo>
                    <a:lnTo>
                      <a:pt x="2097" y="150"/>
                    </a:lnTo>
                    <a:lnTo>
                      <a:pt x="2097" y="153"/>
                    </a:lnTo>
                    <a:lnTo>
                      <a:pt x="2098" y="156"/>
                    </a:lnTo>
                    <a:lnTo>
                      <a:pt x="2099" y="158"/>
                    </a:lnTo>
                    <a:lnTo>
                      <a:pt x="2100" y="161"/>
                    </a:lnTo>
                    <a:lnTo>
                      <a:pt x="2103" y="162"/>
                    </a:lnTo>
                    <a:lnTo>
                      <a:pt x="2105" y="163"/>
                    </a:lnTo>
                    <a:lnTo>
                      <a:pt x="2109" y="164"/>
                    </a:lnTo>
                    <a:lnTo>
                      <a:pt x="2112" y="164"/>
                    </a:lnTo>
                    <a:lnTo>
                      <a:pt x="2115" y="164"/>
                    </a:lnTo>
                    <a:lnTo>
                      <a:pt x="2118" y="163"/>
                    </a:lnTo>
                    <a:lnTo>
                      <a:pt x="2120" y="162"/>
                    </a:lnTo>
                    <a:lnTo>
                      <a:pt x="2123" y="161"/>
                    </a:lnTo>
                    <a:lnTo>
                      <a:pt x="2125" y="158"/>
                    </a:lnTo>
                    <a:lnTo>
                      <a:pt x="2127" y="156"/>
                    </a:lnTo>
                    <a:lnTo>
                      <a:pt x="2128" y="153"/>
                    </a:lnTo>
                    <a:lnTo>
                      <a:pt x="2128" y="150"/>
                    </a:lnTo>
                    <a:lnTo>
                      <a:pt x="2128" y="148"/>
                    </a:lnTo>
                    <a:lnTo>
                      <a:pt x="2127" y="144"/>
                    </a:lnTo>
                    <a:lnTo>
                      <a:pt x="2125" y="142"/>
                    </a:lnTo>
                    <a:lnTo>
                      <a:pt x="2123" y="139"/>
                    </a:lnTo>
                    <a:lnTo>
                      <a:pt x="2120" y="138"/>
                    </a:lnTo>
                    <a:lnTo>
                      <a:pt x="2118" y="137"/>
                    </a:lnTo>
                    <a:lnTo>
                      <a:pt x="2115" y="135"/>
                    </a:lnTo>
                    <a:lnTo>
                      <a:pt x="2112" y="135"/>
                    </a:lnTo>
                    <a:lnTo>
                      <a:pt x="2112" y="135"/>
                    </a:lnTo>
                    <a:close/>
                    <a:moveTo>
                      <a:pt x="2198" y="181"/>
                    </a:moveTo>
                    <a:lnTo>
                      <a:pt x="2198" y="182"/>
                    </a:lnTo>
                    <a:lnTo>
                      <a:pt x="2198" y="182"/>
                    </a:lnTo>
                    <a:lnTo>
                      <a:pt x="2201" y="185"/>
                    </a:lnTo>
                    <a:lnTo>
                      <a:pt x="2203" y="187"/>
                    </a:lnTo>
                    <a:lnTo>
                      <a:pt x="2204" y="187"/>
                    </a:lnTo>
                    <a:lnTo>
                      <a:pt x="2204" y="187"/>
                    </a:lnTo>
                    <a:lnTo>
                      <a:pt x="2207" y="187"/>
                    </a:lnTo>
                    <a:lnTo>
                      <a:pt x="2208" y="187"/>
                    </a:lnTo>
                    <a:lnTo>
                      <a:pt x="2211" y="185"/>
                    </a:lnTo>
                    <a:lnTo>
                      <a:pt x="2212" y="183"/>
                    </a:lnTo>
                    <a:lnTo>
                      <a:pt x="2213" y="182"/>
                    </a:lnTo>
                    <a:lnTo>
                      <a:pt x="2213" y="182"/>
                    </a:lnTo>
                    <a:lnTo>
                      <a:pt x="2214" y="181"/>
                    </a:lnTo>
                    <a:lnTo>
                      <a:pt x="2213" y="178"/>
                    </a:lnTo>
                    <a:lnTo>
                      <a:pt x="2213" y="177"/>
                    </a:lnTo>
                    <a:lnTo>
                      <a:pt x="2212" y="176"/>
                    </a:lnTo>
                    <a:lnTo>
                      <a:pt x="2211" y="176"/>
                    </a:lnTo>
                    <a:lnTo>
                      <a:pt x="2208" y="174"/>
                    </a:lnTo>
                    <a:lnTo>
                      <a:pt x="2204" y="173"/>
                    </a:lnTo>
                    <a:lnTo>
                      <a:pt x="2203" y="174"/>
                    </a:lnTo>
                    <a:lnTo>
                      <a:pt x="2201" y="176"/>
                    </a:lnTo>
                    <a:lnTo>
                      <a:pt x="2198" y="177"/>
                    </a:lnTo>
                    <a:lnTo>
                      <a:pt x="2198" y="178"/>
                    </a:lnTo>
                    <a:lnTo>
                      <a:pt x="2198" y="181"/>
                    </a:lnTo>
                    <a:lnTo>
                      <a:pt x="2198" y="181"/>
                    </a:lnTo>
                    <a:close/>
                    <a:moveTo>
                      <a:pt x="2237" y="181"/>
                    </a:moveTo>
                    <a:lnTo>
                      <a:pt x="2237" y="182"/>
                    </a:lnTo>
                    <a:lnTo>
                      <a:pt x="2237" y="182"/>
                    </a:lnTo>
                    <a:lnTo>
                      <a:pt x="2239" y="185"/>
                    </a:lnTo>
                    <a:lnTo>
                      <a:pt x="2241" y="187"/>
                    </a:lnTo>
                    <a:lnTo>
                      <a:pt x="2242" y="187"/>
                    </a:lnTo>
                    <a:lnTo>
                      <a:pt x="2243" y="187"/>
                    </a:lnTo>
                    <a:lnTo>
                      <a:pt x="2244" y="187"/>
                    </a:lnTo>
                    <a:lnTo>
                      <a:pt x="2246" y="187"/>
                    </a:lnTo>
                    <a:lnTo>
                      <a:pt x="2248" y="185"/>
                    </a:lnTo>
                    <a:lnTo>
                      <a:pt x="2249" y="182"/>
                    </a:lnTo>
                    <a:lnTo>
                      <a:pt x="2249" y="181"/>
                    </a:lnTo>
                    <a:lnTo>
                      <a:pt x="2249" y="177"/>
                    </a:lnTo>
                    <a:lnTo>
                      <a:pt x="2248" y="176"/>
                    </a:lnTo>
                    <a:lnTo>
                      <a:pt x="2246" y="174"/>
                    </a:lnTo>
                    <a:lnTo>
                      <a:pt x="2243" y="173"/>
                    </a:lnTo>
                    <a:lnTo>
                      <a:pt x="2241" y="174"/>
                    </a:lnTo>
                    <a:lnTo>
                      <a:pt x="2239" y="176"/>
                    </a:lnTo>
                    <a:lnTo>
                      <a:pt x="2237" y="177"/>
                    </a:lnTo>
                    <a:lnTo>
                      <a:pt x="2237" y="178"/>
                    </a:lnTo>
                    <a:lnTo>
                      <a:pt x="2237" y="181"/>
                    </a:lnTo>
                    <a:lnTo>
                      <a:pt x="2237" y="181"/>
                    </a:lnTo>
                    <a:close/>
                    <a:moveTo>
                      <a:pt x="2275" y="181"/>
                    </a:moveTo>
                    <a:lnTo>
                      <a:pt x="2275" y="182"/>
                    </a:lnTo>
                    <a:lnTo>
                      <a:pt x="2276" y="182"/>
                    </a:lnTo>
                    <a:lnTo>
                      <a:pt x="2277" y="185"/>
                    </a:lnTo>
                    <a:lnTo>
                      <a:pt x="2280" y="187"/>
                    </a:lnTo>
                    <a:lnTo>
                      <a:pt x="2281" y="187"/>
                    </a:lnTo>
                    <a:lnTo>
                      <a:pt x="2282" y="187"/>
                    </a:lnTo>
                    <a:lnTo>
                      <a:pt x="2283" y="187"/>
                    </a:lnTo>
                    <a:lnTo>
                      <a:pt x="2285" y="187"/>
                    </a:lnTo>
                    <a:lnTo>
                      <a:pt x="2287" y="185"/>
                    </a:lnTo>
                    <a:lnTo>
                      <a:pt x="2288" y="182"/>
                    </a:lnTo>
                    <a:lnTo>
                      <a:pt x="2288" y="181"/>
                    </a:lnTo>
                    <a:lnTo>
                      <a:pt x="2288" y="177"/>
                    </a:lnTo>
                    <a:lnTo>
                      <a:pt x="2287" y="176"/>
                    </a:lnTo>
                    <a:lnTo>
                      <a:pt x="2285" y="174"/>
                    </a:lnTo>
                    <a:lnTo>
                      <a:pt x="2282" y="173"/>
                    </a:lnTo>
                    <a:lnTo>
                      <a:pt x="2280" y="174"/>
                    </a:lnTo>
                    <a:lnTo>
                      <a:pt x="2277" y="176"/>
                    </a:lnTo>
                    <a:lnTo>
                      <a:pt x="2276" y="177"/>
                    </a:lnTo>
                    <a:lnTo>
                      <a:pt x="2275" y="178"/>
                    </a:lnTo>
                    <a:lnTo>
                      <a:pt x="2275" y="181"/>
                    </a:lnTo>
                    <a:lnTo>
                      <a:pt x="2275" y="181"/>
                    </a:lnTo>
                    <a:close/>
                    <a:moveTo>
                      <a:pt x="2313" y="181"/>
                    </a:moveTo>
                    <a:lnTo>
                      <a:pt x="2313" y="182"/>
                    </a:lnTo>
                    <a:lnTo>
                      <a:pt x="2315" y="185"/>
                    </a:lnTo>
                    <a:lnTo>
                      <a:pt x="2317" y="187"/>
                    </a:lnTo>
                    <a:lnTo>
                      <a:pt x="2318" y="187"/>
                    </a:lnTo>
                    <a:lnTo>
                      <a:pt x="2320" y="187"/>
                    </a:lnTo>
                    <a:lnTo>
                      <a:pt x="2322" y="187"/>
                    </a:lnTo>
                    <a:lnTo>
                      <a:pt x="2323" y="187"/>
                    </a:lnTo>
                    <a:lnTo>
                      <a:pt x="2325" y="185"/>
                    </a:lnTo>
                    <a:lnTo>
                      <a:pt x="2326" y="182"/>
                    </a:lnTo>
                    <a:lnTo>
                      <a:pt x="2327" y="181"/>
                    </a:lnTo>
                    <a:lnTo>
                      <a:pt x="2326" y="177"/>
                    </a:lnTo>
                    <a:lnTo>
                      <a:pt x="2325" y="176"/>
                    </a:lnTo>
                    <a:lnTo>
                      <a:pt x="2323" y="174"/>
                    </a:lnTo>
                    <a:lnTo>
                      <a:pt x="2320" y="173"/>
                    </a:lnTo>
                    <a:lnTo>
                      <a:pt x="2317" y="174"/>
                    </a:lnTo>
                    <a:lnTo>
                      <a:pt x="2315" y="176"/>
                    </a:lnTo>
                    <a:lnTo>
                      <a:pt x="2313" y="177"/>
                    </a:lnTo>
                    <a:lnTo>
                      <a:pt x="2313" y="181"/>
                    </a:lnTo>
                    <a:lnTo>
                      <a:pt x="2313" y="181"/>
                    </a:lnTo>
                    <a:close/>
                    <a:moveTo>
                      <a:pt x="2352" y="181"/>
                    </a:moveTo>
                    <a:lnTo>
                      <a:pt x="2352" y="182"/>
                    </a:lnTo>
                    <a:lnTo>
                      <a:pt x="2353" y="185"/>
                    </a:lnTo>
                    <a:lnTo>
                      <a:pt x="2356" y="187"/>
                    </a:lnTo>
                    <a:lnTo>
                      <a:pt x="2357" y="187"/>
                    </a:lnTo>
                    <a:lnTo>
                      <a:pt x="2358" y="187"/>
                    </a:lnTo>
                    <a:lnTo>
                      <a:pt x="2360" y="187"/>
                    </a:lnTo>
                    <a:lnTo>
                      <a:pt x="2362" y="187"/>
                    </a:lnTo>
                    <a:lnTo>
                      <a:pt x="2363" y="185"/>
                    </a:lnTo>
                    <a:lnTo>
                      <a:pt x="2365" y="182"/>
                    </a:lnTo>
                    <a:lnTo>
                      <a:pt x="2366" y="181"/>
                    </a:lnTo>
                    <a:lnTo>
                      <a:pt x="2365" y="177"/>
                    </a:lnTo>
                    <a:lnTo>
                      <a:pt x="2363" y="176"/>
                    </a:lnTo>
                    <a:lnTo>
                      <a:pt x="2362" y="174"/>
                    </a:lnTo>
                    <a:lnTo>
                      <a:pt x="2358" y="173"/>
                    </a:lnTo>
                    <a:lnTo>
                      <a:pt x="2356" y="174"/>
                    </a:lnTo>
                    <a:lnTo>
                      <a:pt x="2353" y="176"/>
                    </a:lnTo>
                    <a:lnTo>
                      <a:pt x="2352" y="177"/>
                    </a:lnTo>
                    <a:lnTo>
                      <a:pt x="2352" y="181"/>
                    </a:lnTo>
                    <a:lnTo>
                      <a:pt x="2352" y="181"/>
                    </a:lnTo>
                    <a:close/>
                    <a:moveTo>
                      <a:pt x="2218" y="150"/>
                    </a:moveTo>
                    <a:lnTo>
                      <a:pt x="2218" y="152"/>
                    </a:lnTo>
                    <a:lnTo>
                      <a:pt x="2219" y="153"/>
                    </a:lnTo>
                    <a:lnTo>
                      <a:pt x="2221" y="156"/>
                    </a:lnTo>
                    <a:lnTo>
                      <a:pt x="2223" y="157"/>
                    </a:lnTo>
                    <a:lnTo>
                      <a:pt x="2224" y="158"/>
                    </a:lnTo>
                    <a:lnTo>
                      <a:pt x="2226" y="158"/>
                    </a:lnTo>
                    <a:lnTo>
                      <a:pt x="2227" y="158"/>
                    </a:lnTo>
                    <a:lnTo>
                      <a:pt x="2228" y="157"/>
                    </a:lnTo>
                    <a:lnTo>
                      <a:pt x="2231" y="156"/>
                    </a:lnTo>
                    <a:lnTo>
                      <a:pt x="2232" y="153"/>
                    </a:lnTo>
                    <a:lnTo>
                      <a:pt x="2232" y="150"/>
                    </a:lnTo>
                    <a:lnTo>
                      <a:pt x="2232" y="148"/>
                    </a:lnTo>
                    <a:lnTo>
                      <a:pt x="2231" y="145"/>
                    </a:lnTo>
                    <a:lnTo>
                      <a:pt x="2228" y="144"/>
                    </a:lnTo>
                    <a:lnTo>
                      <a:pt x="2226" y="144"/>
                    </a:lnTo>
                    <a:lnTo>
                      <a:pt x="2223" y="144"/>
                    </a:lnTo>
                    <a:lnTo>
                      <a:pt x="2221" y="145"/>
                    </a:lnTo>
                    <a:lnTo>
                      <a:pt x="2219" y="148"/>
                    </a:lnTo>
                    <a:lnTo>
                      <a:pt x="2218" y="149"/>
                    </a:lnTo>
                    <a:lnTo>
                      <a:pt x="2218" y="150"/>
                    </a:lnTo>
                    <a:lnTo>
                      <a:pt x="2218" y="150"/>
                    </a:lnTo>
                    <a:close/>
                    <a:moveTo>
                      <a:pt x="2257" y="150"/>
                    </a:moveTo>
                    <a:lnTo>
                      <a:pt x="2257" y="152"/>
                    </a:lnTo>
                    <a:lnTo>
                      <a:pt x="2257" y="153"/>
                    </a:lnTo>
                    <a:lnTo>
                      <a:pt x="2259" y="156"/>
                    </a:lnTo>
                    <a:lnTo>
                      <a:pt x="2262" y="157"/>
                    </a:lnTo>
                    <a:lnTo>
                      <a:pt x="2262" y="158"/>
                    </a:lnTo>
                    <a:lnTo>
                      <a:pt x="2263" y="158"/>
                    </a:lnTo>
                    <a:lnTo>
                      <a:pt x="2266" y="158"/>
                    </a:lnTo>
                    <a:lnTo>
                      <a:pt x="2267" y="157"/>
                    </a:lnTo>
                    <a:lnTo>
                      <a:pt x="2268" y="156"/>
                    </a:lnTo>
                    <a:lnTo>
                      <a:pt x="2270" y="153"/>
                    </a:lnTo>
                    <a:lnTo>
                      <a:pt x="2271" y="150"/>
                    </a:lnTo>
                    <a:lnTo>
                      <a:pt x="2270" y="148"/>
                    </a:lnTo>
                    <a:lnTo>
                      <a:pt x="2268" y="145"/>
                    </a:lnTo>
                    <a:lnTo>
                      <a:pt x="2267" y="144"/>
                    </a:lnTo>
                    <a:lnTo>
                      <a:pt x="2263" y="144"/>
                    </a:lnTo>
                    <a:lnTo>
                      <a:pt x="2262" y="144"/>
                    </a:lnTo>
                    <a:lnTo>
                      <a:pt x="2259" y="145"/>
                    </a:lnTo>
                    <a:lnTo>
                      <a:pt x="2257" y="148"/>
                    </a:lnTo>
                    <a:lnTo>
                      <a:pt x="2257" y="149"/>
                    </a:lnTo>
                    <a:lnTo>
                      <a:pt x="2257" y="150"/>
                    </a:lnTo>
                    <a:lnTo>
                      <a:pt x="2257" y="150"/>
                    </a:lnTo>
                    <a:close/>
                    <a:moveTo>
                      <a:pt x="2296" y="150"/>
                    </a:moveTo>
                    <a:lnTo>
                      <a:pt x="2296" y="153"/>
                    </a:lnTo>
                    <a:lnTo>
                      <a:pt x="2297" y="156"/>
                    </a:lnTo>
                    <a:lnTo>
                      <a:pt x="2300" y="157"/>
                    </a:lnTo>
                    <a:lnTo>
                      <a:pt x="2301" y="158"/>
                    </a:lnTo>
                    <a:lnTo>
                      <a:pt x="2302" y="158"/>
                    </a:lnTo>
                    <a:lnTo>
                      <a:pt x="2303" y="158"/>
                    </a:lnTo>
                    <a:lnTo>
                      <a:pt x="2305" y="157"/>
                    </a:lnTo>
                    <a:lnTo>
                      <a:pt x="2307" y="156"/>
                    </a:lnTo>
                    <a:lnTo>
                      <a:pt x="2308" y="153"/>
                    </a:lnTo>
                    <a:lnTo>
                      <a:pt x="2308" y="150"/>
                    </a:lnTo>
                    <a:lnTo>
                      <a:pt x="2308" y="148"/>
                    </a:lnTo>
                    <a:lnTo>
                      <a:pt x="2307" y="145"/>
                    </a:lnTo>
                    <a:lnTo>
                      <a:pt x="2305" y="144"/>
                    </a:lnTo>
                    <a:lnTo>
                      <a:pt x="2302" y="144"/>
                    </a:lnTo>
                    <a:lnTo>
                      <a:pt x="2300" y="144"/>
                    </a:lnTo>
                    <a:lnTo>
                      <a:pt x="2297" y="145"/>
                    </a:lnTo>
                    <a:lnTo>
                      <a:pt x="2296" y="148"/>
                    </a:lnTo>
                    <a:lnTo>
                      <a:pt x="2296" y="150"/>
                    </a:lnTo>
                    <a:lnTo>
                      <a:pt x="2296" y="150"/>
                    </a:lnTo>
                    <a:close/>
                    <a:moveTo>
                      <a:pt x="2333" y="150"/>
                    </a:moveTo>
                    <a:lnTo>
                      <a:pt x="2335" y="153"/>
                    </a:lnTo>
                    <a:lnTo>
                      <a:pt x="2336" y="156"/>
                    </a:lnTo>
                    <a:lnTo>
                      <a:pt x="2337" y="157"/>
                    </a:lnTo>
                    <a:lnTo>
                      <a:pt x="2338" y="158"/>
                    </a:lnTo>
                    <a:lnTo>
                      <a:pt x="2341" y="158"/>
                    </a:lnTo>
                    <a:lnTo>
                      <a:pt x="2342" y="158"/>
                    </a:lnTo>
                    <a:lnTo>
                      <a:pt x="2343" y="157"/>
                    </a:lnTo>
                    <a:lnTo>
                      <a:pt x="2346" y="156"/>
                    </a:lnTo>
                    <a:lnTo>
                      <a:pt x="2347" y="153"/>
                    </a:lnTo>
                    <a:lnTo>
                      <a:pt x="2347" y="150"/>
                    </a:lnTo>
                    <a:lnTo>
                      <a:pt x="2347" y="148"/>
                    </a:lnTo>
                    <a:lnTo>
                      <a:pt x="2346" y="145"/>
                    </a:lnTo>
                    <a:lnTo>
                      <a:pt x="2343" y="144"/>
                    </a:lnTo>
                    <a:lnTo>
                      <a:pt x="2341" y="144"/>
                    </a:lnTo>
                    <a:lnTo>
                      <a:pt x="2337" y="144"/>
                    </a:lnTo>
                    <a:lnTo>
                      <a:pt x="2336" y="145"/>
                    </a:lnTo>
                    <a:lnTo>
                      <a:pt x="2335" y="148"/>
                    </a:lnTo>
                    <a:lnTo>
                      <a:pt x="2333" y="150"/>
                    </a:lnTo>
                    <a:lnTo>
                      <a:pt x="2333" y="150"/>
                    </a:lnTo>
                    <a:close/>
                    <a:moveTo>
                      <a:pt x="2372" y="150"/>
                    </a:moveTo>
                    <a:lnTo>
                      <a:pt x="2372" y="153"/>
                    </a:lnTo>
                    <a:lnTo>
                      <a:pt x="2373" y="156"/>
                    </a:lnTo>
                    <a:lnTo>
                      <a:pt x="2376" y="157"/>
                    </a:lnTo>
                    <a:lnTo>
                      <a:pt x="2377" y="158"/>
                    </a:lnTo>
                    <a:lnTo>
                      <a:pt x="2379" y="158"/>
                    </a:lnTo>
                    <a:lnTo>
                      <a:pt x="2380" y="158"/>
                    </a:lnTo>
                    <a:lnTo>
                      <a:pt x="2381" y="157"/>
                    </a:lnTo>
                    <a:lnTo>
                      <a:pt x="2384" y="156"/>
                    </a:lnTo>
                    <a:lnTo>
                      <a:pt x="2385" y="153"/>
                    </a:lnTo>
                    <a:lnTo>
                      <a:pt x="2386" y="152"/>
                    </a:lnTo>
                    <a:lnTo>
                      <a:pt x="2386" y="150"/>
                    </a:lnTo>
                    <a:lnTo>
                      <a:pt x="2386" y="149"/>
                    </a:lnTo>
                    <a:lnTo>
                      <a:pt x="2385" y="148"/>
                    </a:lnTo>
                    <a:lnTo>
                      <a:pt x="2384" y="145"/>
                    </a:lnTo>
                    <a:lnTo>
                      <a:pt x="2381" y="144"/>
                    </a:lnTo>
                    <a:lnTo>
                      <a:pt x="2379" y="144"/>
                    </a:lnTo>
                    <a:lnTo>
                      <a:pt x="2376" y="144"/>
                    </a:lnTo>
                    <a:lnTo>
                      <a:pt x="2373" y="145"/>
                    </a:lnTo>
                    <a:lnTo>
                      <a:pt x="2372" y="148"/>
                    </a:lnTo>
                    <a:lnTo>
                      <a:pt x="2372" y="150"/>
                    </a:lnTo>
                    <a:lnTo>
                      <a:pt x="2372" y="150"/>
                    </a:lnTo>
                    <a:close/>
                    <a:moveTo>
                      <a:pt x="2198" y="119"/>
                    </a:moveTo>
                    <a:lnTo>
                      <a:pt x="2198" y="120"/>
                    </a:lnTo>
                    <a:lnTo>
                      <a:pt x="2198" y="121"/>
                    </a:lnTo>
                    <a:lnTo>
                      <a:pt x="2201" y="124"/>
                    </a:lnTo>
                    <a:lnTo>
                      <a:pt x="2203" y="125"/>
                    </a:lnTo>
                    <a:lnTo>
                      <a:pt x="2204" y="125"/>
                    </a:lnTo>
                    <a:lnTo>
                      <a:pt x="2208" y="125"/>
                    </a:lnTo>
                    <a:lnTo>
                      <a:pt x="2211" y="124"/>
                    </a:lnTo>
                    <a:lnTo>
                      <a:pt x="2212" y="123"/>
                    </a:lnTo>
                    <a:lnTo>
                      <a:pt x="2213" y="121"/>
                    </a:lnTo>
                    <a:lnTo>
                      <a:pt x="2213" y="120"/>
                    </a:lnTo>
                    <a:lnTo>
                      <a:pt x="2214" y="119"/>
                    </a:lnTo>
                    <a:lnTo>
                      <a:pt x="2213" y="118"/>
                    </a:lnTo>
                    <a:lnTo>
                      <a:pt x="2213" y="116"/>
                    </a:lnTo>
                    <a:lnTo>
                      <a:pt x="2212" y="116"/>
                    </a:lnTo>
                    <a:lnTo>
                      <a:pt x="2211" y="115"/>
                    </a:lnTo>
                    <a:lnTo>
                      <a:pt x="2208" y="113"/>
                    </a:lnTo>
                    <a:lnTo>
                      <a:pt x="2207" y="113"/>
                    </a:lnTo>
                    <a:lnTo>
                      <a:pt x="2204" y="113"/>
                    </a:lnTo>
                    <a:lnTo>
                      <a:pt x="2204" y="113"/>
                    </a:lnTo>
                    <a:lnTo>
                      <a:pt x="2203" y="113"/>
                    </a:lnTo>
                    <a:lnTo>
                      <a:pt x="2201" y="115"/>
                    </a:lnTo>
                    <a:lnTo>
                      <a:pt x="2198" y="116"/>
                    </a:lnTo>
                    <a:lnTo>
                      <a:pt x="2198" y="118"/>
                    </a:lnTo>
                    <a:lnTo>
                      <a:pt x="2198" y="119"/>
                    </a:lnTo>
                    <a:lnTo>
                      <a:pt x="2198" y="119"/>
                    </a:lnTo>
                    <a:close/>
                    <a:moveTo>
                      <a:pt x="2237" y="119"/>
                    </a:moveTo>
                    <a:lnTo>
                      <a:pt x="2237" y="120"/>
                    </a:lnTo>
                    <a:lnTo>
                      <a:pt x="2237" y="121"/>
                    </a:lnTo>
                    <a:lnTo>
                      <a:pt x="2239" y="124"/>
                    </a:lnTo>
                    <a:lnTo>
                      <a:pt x="2241" y="125"/>
                    </a:lnTo>
                    <a:lnTo>
                      <a:pt x="2243" y="125"/>
                    </a:lnTo>
                    <a:lnTo>
                      <a:pt x="2246" y="125"/>
                    </a:lnTo>
                    <a:lnTo>
                      <a:pt x="2248" y="124"/>
                    </a:lnTo>
                    <a:lnTo>
                      <a:pt x="2249" y="121"/>
                    </a:lnTo>
                    <a:lnTo>
                      <a:pt x="2249" y="119"/>
                    </a:lnTo>
                    <a:lnTo>
                      <a:pt x="2249" y="116"/>
                    </a:lnTo>
                    <a:lnTo>
                      <a:pt x="2248" y="115"/>
                    </a:lnTo>
                    <a:lnTo>
                      <a:pt x="2246" y="113"/>
                    </a:lnTo>
                    <a:lnTo>
                      <a:pt x="2244" y="113"/>
                    </a:lnTo>
                    <a:lnTo>
                      <a:pt x="2243" y="113"/>
                    </a:lnTo>
                    <a:lnTo>
                      <a:pt x="2242" y="113"/>
                    </a:lnTo>
                    <a:lnTo>
                      <a:pt x="2241" y="113"/>
                    </a:lnTo>
                    <a:lnTo>
                      <a:pt x="2239" y="115"/>
                    </a:lnTo>
                    <a:lnTo>
                      <a:pt x="2237" y="116"/>
                    </a:lnTo>
                    <a:lnTo>
                      <a:pt x="2237" y="118"/>
                    </a:lnTo>
                    <a:lnTo>
                      <a:pt x="2237" y="119"/>
                    </a:lnTo>
                    <a:lnTo>
                      <a:pt x="2237" y="119"/>
                    </a:lnTo>
                    <a:close/>
                    <a:moveTo>
                      <a:pt x="2275" y="119"/>
                    </a:moveTo>
                    <a:lnTo>
                      <a:pt x="2275" y="120"/>
                    </a:lnTo>
                    <a:lnTo>
                      <a:pt x="2276" y="121"/>
                    </a:lnTo>
                    <a:lnTo>
                      <a:pt x="2277" y="124"/>
                    </a:lnTo>
                    <a:lnTo>
                      <a:pt x="2280" y="125"/>
                    </a:lnTo>
                    <a:lnTo>
                      <a:pt x="2282" y="125"/>
                    </a:lnTo>
                    <a:lnTo>
                      <a:pt x="2285" y="125"/>
                    </a:lnTo>
                    <a:lnTo>
                      <a:pt x="2287" y="124"/>
                    </a:lnTo>
                    <a:lnTo>
                      <a:pt x="2288" y="121"/>
                    </a:lnTo>
                    <a:lnTo>
                      <a:pt x="2288" y="119"/>
                    </a:lnTo>
                    <a:lnTo>
                      <a:pt x="2288" y="116"/>
                    </a:lnTo>
                    <a:lnTo>
                      <a:pt x="2287" y="115"/>
                    </a:lnTo>
                    <a:lnTo>
                      <a:pt x="2285" y="113"/>
                    </a:lnTo>
                    <a:lnTo>
                      <a:pt x="2283" y="113"/>
                    </a:lnTo>
                    <a:lnTo>
                      <a:pt x="2282" y="113"/>
                    </a:lnTo>
                    <a:lnTo>
                      <a:pt x="2281" y="113"/>
                    </a:lnTo>
                    <a:lnTo>
                      <a:pt x="2280" y="113"/>
                    </a:lnTo>
                    <a:lnTo>
                      <a:pt x="2277" y="115"/>
                    </a:lnTo>
                    <a:lnTo>
                      <a:pt x="2276" y="116"/>
                    </a:lnTo>
                    <a:lnTo>
                      <a:pt x="2275" y="118"/>
                    </a:lnTo>
                    <a:lnTo>
                      <a:pt x="2275" y="119"/>
                    </a:lnTo>
                    <a:lnTo>
                      <a:pt x="2275" y="119"/>
                    </a:lnTo>
                    <a:close/>
                    <a:moveTo>
                      <a:pt x="2313" y="119"/>
                    </a:moveTo>
                    <a:lnTo>
                      <a:pt x="2313" y="121"/>
                    </a:lnTo>
                    <a:lnTo>
                      <a:pt x="2315" y="124"/>
                    </a:lnTo>
                    <a:lnTo>
                      <a:pt x="2317" y="125"/>
                    </a:lnTo>
                    <a:lnTo>
                      <a:pt x="2320" y="125"/>
                    </a:lnTo>
                    <a:lnTo>
                      <a:pt x="2323" y="125"/>
                    </a:lnTo>
                    <a:lnTo>
                      <a:pt x="2325" y="124"/>
                    </a:lnTo>
                    <a:lnTo>
                      <a:pt x="2326" y="121"/>
                    </a:lnTo>
                    <a:lnTo>
                      <a:pt x="2327" y="119"/>
                    </a:lnTo>
                    <a:lnTo>
                      <a:pt x="2326" y="116"/>
                    </a:lnTo>
                    <a:lnTo>
                      <a:pt x="2325" y="115"/>
                    </a:lnTo>
                    <a:lnTo>
                      <a:pt x="2323" y="113"/>
                    </a:lnTo>
                    <a:lnTo>
                      <a:pt x="2322" y="113"/>
                    </a:lnTo>
                    <a:lnTo>
                      <a:pt x="2320" y="113"/>
                    </a:lnTo>
                    <a:lnTo>
                      <a:pt x="2318" y="113"/>
                    </a:lnTo>
                    <a:lnTo>
                      <a:pt x="2317" y="113"/>
                    </a:lnTo>
                    <a:lnTo>
                      <a:pt x="2315" y="115"/>
                    </a:lnTo>
                    <a:lnTo>
                      <a:pt x="2313" y="116"/>
                    </a:lnTo>
                    <a:lnTo>
                      <a:pt x="2313" y="119"/>
                    </a:lnTo>
                    <a:lnTo>
                      <a:pt x="2313" y="119"/>
                    </a:lnTo>
                    <a:close/>
                    <a:moveTo>
                      <a:pt x="2352" y="119"/>
                    </a:moveTo>
                    <a:lnTo>
                      <a:pt x="2352" y="121"/>
                    </a:lnTo>
                    <a:lnTo>
                      <a:pt x="2353" y="124"/>
                    </a:lnTo>
                    <a:lnTo>
                      <a:pt x="2356" y="125"/>
                    </a:lnTo>
                    <a:lnTo>
                      <a:pt x="2358" y="125"/>
                    </a:lnTo>
                    <a:lnTo>
                      <a:pt x="2362" y="125"/>
                    </a:lnTo>
                    <a:lnTo>
                      <a:pt x="2363" y="124"/>
                    </a:lnTo>
                    <a:lnTo>
                      <a:pt x="2365" y="121"/>
                    </a:lnTo>
                    <a:lnTo>
                      <a:pt x="2366" y="119"/>
                    </a:lnTo>
                    <a:lnTo>
                      <a:pt x="2365" y="116"/>
                    </a:lnTo>
                    <a:lnTo>
                      <a:pt x="2363" y="115"/>
                    </a:lnTo>
                    <a:lnTo>
                      <a:pt x="2362" y="113"/>
                    </a:lnTo>
                    <a:lnTo>
                      <a:pt x="2360" y="113"/>
                    </a:lnTo>
                    <a:lnTo>
                      <a:pt x="2358" y="113"/>
                    </a:lnTo>
                    <a:lnTo>
                      <a:pt x="2357" y="113"/>
                    </a:lnTo>
                    <a:lnTo>
                      <a:pt x="2356" y="113"/>
                    </a:lnTo>
                    <a:lnTo>
                      <a:pt x="2353" y="115"/>
                    </a:lnTo>
                    <a:lnTo>
                      <a:pt x="2352" y="116"/>
                    </a:lnTo>
                    <a:lnTo>
                      <a:pt x="2352" y="119"/>
                    </a:lnTo>
                    <a:lnTo>
                      <a:pt x="2352" y="119"/>
                    </a:lnTo>
                    <a:close/>
                    <a:moveTo>
                      <a:pt x="2460" y="135"/>
                    </a:moveTo>
                    <a:lnTo>
                      <a:pt x="2457" y="135"/>
                    </a:lnTo>
                    <a:lnTo>
                      <a:pt x="2455" y="137"/>
                    </a:lnTo>
                    <a:lnTo>
                      <a:pt x="2454" y="138"/>
                    </a:lnTo>
                    <a:lnTo>
                      <a:pt x="2451" y="139"/>
                    </a:lnTo>
                    <a:lnTo>
                      <a:pt x="2450" y="142"/>
                    </a:lnTo>
                    <a:lnTo>
                      <a:pt x="2449" y="144"/>
                    </a:lnTo>
                    <a:lnTo>
                      <a:pt x="2447" y="148"/>
                    </a:lnTo>
                    <a:lnTo>
                      <a:pt x="2447" y="150"/>
                    </a:lnTo>
                    <a:lnTo>
                      <a:pt x="2447" y="153"/>
                    </a:lnTo>
                    <a:lnTo>
                      <a:pt x="2449" y="156"/>
                    </a:lnTo>
                    <a:lnTo>
                      <a:pt x="2450" y="158"/>
                    </a:lnTo>
                    <a:lnTo>
                      <a:pt x="2451" y="161"/>
                    </a:lnTo>
                    <a:lnTo>
                      <a:pt x="2454" y="162"/>
                    </a:lnTo>
                    <a:lnTo>
                      <a:pt x="2455" y="163"/>
                    </a:lnTo>
                    <a:lnTo>
                      <a:pt x="2457" y="164"/>
                    </a:lnTo>
                    <a:lnTo>
                      <a:pt x="2460" y="164"/>
                    </a:lnTo>
                    <a:lnTo>
                      <a:pt x="2464" y="164"/>
                    </a:lnTo>
                    <a:lnTo>
                      <a:pt x="2466" y="163"/>
                    </a:lnTo>
                    <a:lnTo>
                      <a:pt x="2470" y="162"/>
                    </a:lnTo>
                    <a:lnTo>
                      <a:pt x="2471" y="161"/>
                    </a:lnTo>
                    <a:lnTo>
                      <a:pt x="2474" y="158"/>
                    </a:lnTo>
                    <a:lnTo>
                      <a:pt x="2475" y="156"/>
                    </a:lnTo>
                    <a:lnTo>
                      <a:pt x="2476" y="153"/>
                    </a:lnTo>
                    <a:lnTo>
                      <a:pt x="2476" y="150"/>
                    </a:lnTo>
                    <a:lnTo>
                      <a:pt x="2476" y="148"/>
                    </a:lnTo>
                    <a:lnTo>
                      <a:pt x="2475" y="144"/>
                    </a:lnTo>
                    <a:lnTo>
                      <a:pt x="2474" y="142"/>
                    </a:lnTo>
                    <a:lnTo>
                      <a:pt x="2471" y="139"/>
                    </a:lnTo>
                    <a:lnTo>
                      <a:pt x="2470" y="138"/>
                    </a:lnTo>
                    <a:lnTo>
                      <a:pt x="2466" y="137"/>
                    </a:lnTo>
                    <a:lnTo>
                      <a:pt x="2464" y="135"/>
                    </a:lnTo>
                    <a:lnTo>
                      <a:pt x="2460" y="135"/>
                    </a:lnTo>
                    <a:lnTo>
                      <a:pt x="246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5543640" y="4296960"/>
                <a:ext cx="269640" cy="33840"/>
              </a:xfrm>
              <a:custGeom>
                <a:avLst/>
                <a:gdLst/>
                <a:ahLst/>
                <a:rect l="l" t="t" r="r" b="b"/>
                <a:pathLst>
                  <a:path w="396" h="62">
                    <a:moveTo>
                      <a:pt x="60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60" y="62"/>
                    </a:lnTo>
                    <a:lnTo>
                      <a:pt x="160" y="61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8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  <a:moveTo>
                      <a:pt x="293" y="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4" y="1"/>
                    </a:lnTo>
                    <a:lnTo>
                      <a:pt x="233" y="3"/>
                    </a:lnTo>
                    <a:lnTo>
                      <a:pt x="233" y="5"/>
                    </a:lnTo>
                    <a:lnTo>
                      <a:pt x="233" y="5"/>
                    </a:lnTo>
                    <a:lnTo>
                      <a:pt x="233" y="59"/>
                    </a:lnTo>
                    <a:lnTo>
                      <a:pt x="233" y="61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391" y="62"/>
                    </a:lnTo>
                    <a:lnTo>
                      <a:pt x="392" y="62"/>
                    </a:lnTo>
                    <a:lnTo>
                      <a:pt x="394" y="62"/>
                    </a:lnTo>
                    <a:lnTo>
                      <a:pt x="394" y="61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"/>
                    </a:lnTo>
                    <a:lnTo>
                      <a:pt x="394" y="3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2" name=""/>
              <p:cNvSpPr/>
              <p:nvPr/>
            </p:nvSpPr>
            <p:spPr>
              <a:xfrm>
                <a:off x="5549760" y="4303800"/>
                <a:ext cx="255600" cy="8280"/>
              </a:xfrm>
              <a:custGeom>
                <a:avLst/>
                <a:gdLst/>
                <a:ahLst/>
                <a:rect l="l" t="t" r="r" b="b"/>
                <a:pathLst>
                  <a:path w="376" h="17">
                    <a:moveTo>
                      <a:pt x="143" y="17"/>
                    </a:moveTo>
                    <a:lnTo>
                      <a:pt x="14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3" y="17"/>
                    </a:lnTo>
                    <a:close/>
                    <a:moveTo>
                      <a:pt x="376" y="17"/>
                    </a:moveTo>
                    <a:lnTo>
                      <a:pt x="376" y="0"/>
                    </a:lnTo>
                    <a:lnTo>
                      <a:pt x="236" y="0"/>
                    </a:lnTo>
                    <a:lnTo>
                      <a:pt x="236" y="17"/>
                    </a:lnTo>
                    <a:lnTo>
                      <a:pt x="376" y="17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3" name=""/>
              <p:cNvSpPr/>
              <p:nvPr/>
            </p:nvSpPr>
            <p:spPr>
              <a:xfrm>
                <a:off x="5549760" y="4303800"/>
                <a:ext cx="97560" cy="828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5709960" y="4303800"/>
                <a:ext cx="95400" cy="828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4273200" y="4169880"/>
                <a:ext cx="2028960" cy="187920"/>
              </a:xfrm>
              <a:custGeom>
                <a:avLst/>
                <a:gdLst/>
                <a:ahLst/>
                <a:rect l="l" t="t" r="r" b="b"/>
                <a:pathLst>
                  <a:path w="2983" h="337">
                    <a:moveTo>
                      <a:pt x="2974" y="259"/>
                    </a:moveTo>
                    <a:lnTo>
                      <a:pt x="2983" y="259"/>
                    </a:lnTo>
                    <a:lnTo>
                      <a:pt x="2983" y="221"/>
                    </a:lnTo>
                    <a:lnTo>
                      <a:pt x="2947" y="221"/>
                    </a:lnTo>
                    <a:lnTo>
                      <a:pt x="2947" y="195"/>
                    </a:lnTo>
                    <a:lnTo>
                      <a:pt x="2931" y="195"/>
                    </a:lnTo>
                    <a:lnTo>
                      <a:pt x="2931" y="184"/>
                    </a:lnTo>
                    <a:lnTo>
                      <a:pt x="2870" y="184"/>
                    </a:lnTo>
                    <a:lnTo>
                      <a:pt x="2870" y="195"/>
                    </a:lnTo>
                    <a:lnTo>
                      <a:pt x="2854" y="195"/>
                    </a:lnTo>
                    <a:lnTo>
                      <a:pt x="2854" y="221"/>
                    </a:lnTo>
                    <a:lnTo>
                      <a:pt x="2817" y="221"/>
                    </a:lnTo>
                    <a:lnTo>
                      <a:pt x="2817" y="259"/>
                    </a:lnTo>
                    <a:lnTo>
                      <a:pt x="2827" y="259"/>
                    </a:lnTo>
                    <a:lnTo>
                      <a:pt x="2827" y="284"/>
                    </a:lnTo>
                    <a:lnTo>
                      <a:pt x="2817" y="284"/>
                    </a:lnTo>
                    <a:lnTo>
                      <a:pt x="2817" y="323"/>
                    </a:lnTo>
                    <a:lnTo>
                      <a:pt x="2983" y="323"/>
                    </a:lnTo>
                    <a:lnTo>
                      <a:pt x="2983" y="284"/>
                    </a:lnTo>
                    <a:lnTo>
                      <a:pt x="2974" y="284"/>
                    </a:lnTo>
                    <a:lnTo>
                      <a:pt x="2974" y="259"/>
                    </a:lnTo>
                    <a:close/>
                    <a:moveTo>
                      <a:pt x="157" y="264"/>
                    </a:moveTo>
                    <a:lnTo>
                      <a:pt x="167" y="264"/>
                    </a:lnTo>
                    <a:lnTo>
                      <a:pt x="167" y="300"/>
                    </a:lnTo>
                    <a:lnTo>
                      <a:pt x="131" y="300"/>
                    </a:lnTo>
                    <a:lnTo>
                      <a:pt x="131" y="326"/>
                    </a:lnTo>
                    <a:lnTo>
                      <a:pt x="115" y="326"/>
                    </a:lnTo>
                    <a:lnTo>
                      <a:pt x="115" y="337"/>
                    </a:lnTo>
                    <a:lnTo>
                      <a:pt x="52" y="337"/>
                    </a:lnTo>
                    <a:lnTo>
                      <a:pt x="52" y="326"/>
                    </a:lnTo>
                    <a:lnTo>
                      <a:pt x="36" y="326"/>
                    </a:lnTo>
                    <a:lnTo>
                      <a:pt x="36" y="300"/>
                    </a:lnTo>
                    <a:lnTo>
                      <a:pt x="0" y="300"/>
                    </a:lnTo>
                    <a:lnTo>
                      <a:pt x="2" y="264"/>
                    </a:lnTo>
                    <a:lnTo>
                      <a:pt x="8" y="264"/>
                    </a:lnTo>
                    <a:lnTo>
                      <a:pt x="8" y="236"/>
                    </a:lnTo>
                    <a:lnTo>
                      <a:pt x="2" y="236"/>
                    </a:lnTo>
                    <a:lnTo>
                      <a:pt x="2" y="198"/>
                    </a:lnTo>
                    <a:lnTo>
                      <a:pt x="167" y="198"/>
                    </a:lnTo>
                    <a:lnTo>
                      <a:pt x="167" y="236"/>
                    </a:lnTo>
                    <a:lnTo>
                      <a:pt x="157" y="236"/>
                    </a:lnTo>
                    <a:lnTo>
                      <a:pt x="157" y="264"/>
                    </a:lnTo>
                    <a:close/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6190200" y="4272840"/>
                <a:ext cx="112320" cy="76320"/>
              </a:xfrm>
              <a:custGeom>
                <a:avLst/>
                <a:gdLst/>
                <a:ahLst/>
                <a:rect l="l" t="t" r="r" b="b"/>
                <a:pathLst>
                  <a:path w="166" h="139">
                    <a:moveTo>
                      <a:pt x="157" y="75"/>
                    </a:moveTo>
                    <a:lnTo>
                      <a:pt x="166" y="75"/>
                    </a:lnTo>
                    <a:lnTo>
                      <a:pt x="166" y="37"/>
                    </a:lnTo>
                    <a:lnTo>
                      <a:pt x="130" y="37"/>
                    </a:lnTo>
                    <a:lnTo>
                      <a:pt x="130" y="11"/>
                    </a:lnTo>
                    <a:lnTo>
                      <a:pt x="114" y="11"/>
                    </a:lnTo>
                    <a:lnTo>
                      <a:pt x="114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37" y="1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100"/>
                    </a:lnTo>
                    <a:lnTo>
                      <a:pt x="0" y="100"/>
                    </a:lnTo>
                    <a:lnTo>
                      <a:pt x="0" y="139"/>
                    </a:lnTo>
                    <a:lnTo>
                      <a:pt x="166" y="139"/>
                    </a:lnTo>
                    <a:lnTo>
                      <a:pt x="166" y="100"/>
                    </a:lnTo>
                    <a:lnTo>
                      <a:pt x="157" y="100"/>
                    </a:lnTo>
                    <a:lnTo>
                      <a:pt x="157" y="75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7" name=""/>
              <p:cNvSpPr/>
              <p:nvPr/>
            </p:nvSpPr>
            <p:spPr>
              <a:xfrm>
                <a:off x="4273200" y="4279680"/>
                <a:ext cx="114840" cy="7812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66"/>
                    </a:moveTo>
                    <a:lnTo>
                      <a:pt x="167" y="66"/>
                    </a:lnTo>
                    <a:lnTo>
                      <a:pt x="167" y="102"/>
                    </a:lnTo>
                    <a:lnTo>
                      <a:pt x="131" y="102"/>
                    </a:lnTo>
                    <a:lnTo>
                      <a:pt x="131" y="128"/>
                    </a:lnTo>
                    <a:lnTo>
                      <a:pt x="115" y="128"/>
                    </a:lnTo>
                    <a:lnTo>
                      <a:pt x="115" y="139"/>
                    </a:lnTo>
                    <a:lnTo>
                      <a:pt x="52" y="139"/>
                    </a:lnTo>
                    <a:lnTo>
                      <a:pt x="52" y="128"/>
                    </a:lnTo>
                    <a:lnTo>
                      <a:pt x="36" y="128"/>
                    </a:lnTo>
                    <a:lnTo>
                      <a:pt x="36" y="102"/>
                    </a:lnTo>
                    <a:lnTo>
                      <a:pt x="0" y="102"/>
                    </a:lnTo>
                    <a:lnTo>
                      <a:pt x="2" y="66"/>
                    </a:lnTo>
                    <a:lnTo>
                      <a:pt x="8" y="66"/>
                    </a:lnTo>
                    <a:lnTo>
                      <a:pt x="8" y="38"/>
                    </a:lnTo>
                    <a:lnTo>
                      <a:pt x="2" y="38"/>
                    </a:lnTo>
                    <a:lnTo>
                      <a:pt x="2" y="0"/>
                    </a:lnTo>
                    <a:lnTo>
                      <a:pt x="167" y="0"/>
                    </a:lnTo>
                    <a:lnTo>
                      <a:pt x="167" y="38"/>
                    </a:lnTo>
                    <a:lnTo>
                      <a:pt x="157" y="38"/>
                    </a:lnTo>
                    <a:lnTo>
                      <a:pt x="157" y="66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8" name=""/>
              <p:cNvSpPr/>
              <p:nvPr/>
            </p:nvSpPr>
            <p:spPr>
              <a:xfrm>
                <a:off x="4273200" y="4169880"/>
                <a:ext cx="114840" cy="7740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9" name=""/>
              <p:cNvSpPr/>
              <p:nvPr/>
            </p:nvSpPr>
            <p:spPr>
              <a:xfrm>
                <a:off x="4273200" y="4180320"/>
                <a:ext cx="2031480" cy="165600"/>
              </a:xfrm>
              <a:custGeom>
                <a:avLst/>
                <a:gdLst/>
                <a:ahLst/>
                <a:rect l="l" t="t" r="r" b="b"/>
                <a:pathLst>
                  <a:path w="2985" h="301">
                    <a:moveTo>
                      <a:pt x="36" y="301"/>
                    </a:moveTo>
                    <a:lnTo>
                      <a:pt x="0" y="301"/>
                    </a:lnTo>
                    <a:lnTo>
                      <a:pt x="0" y="290"/>
                    </a:lnTo>
                    <a:lnTo>
                      <a:pt x="36" y="290"/>
                    </a:lnTo>
                    <a:lnTo>
                      <a:pt x="36" y="301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67" y="301"/>
                    </a:moveTo>
                    <a:lnTo>
                      <a:pt x="134" y="301"/>
                    </a:lnTo>
                    <a:lnTo>
                      <a:pt x="134" y="290"/>
                    </a:lnTo>
                    <a:lnTo>
                      <a:pt x="167" y="290"/>
                    </a:lnTo>
                    <a:lnTo>
                      <a:pt x="167" y="301"/>
                    </a:lnTo>
                    <a:close/>
                    <a:moveTo>
                      <a:pt x="167" y="0"/>
                    </a:moveTo>
                    <a:lnTo>
                      <a:pt x="134" y="0"/>
                    </a:lnTo>
                    <a:lnTo>
                      <a:pt x="134" y="12"/>
                    </a:lnTo>
                    <a:lnTo>
                      <a:pt x="167" y="12"/>
                    </a:lnTo>
                    <a:lnTo>
                      <a:pt x="167" y="0"/>
                    </a:lnTo>
                    <a:close/>
                    <a:moveTo>
                      <a:pt x="2985" y="185"/>
                    </a:moveTo>
                    <a:lnTo>
                      <a:pt x="2949" y="185"/>
                    </a:lnTo>
                    <a:lnTo>
                      <a:pt x="2949" y="199"/>
                    </a:lnTo>
                    <a:lnTo>
                      <a:pt x="2985" y="199"/>
                    </a:lnTo>
                    <a:lnTo>
                      <a:pt x="2985" y="185"/>
                    </a:lnTo>
                    <a:close/>
                  </a:path>
                </a:pathLst>
              </a:custGeom>
              <a:solidFill>
                <a:srgbClr val="82938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0" name=""/>
              <p:cNvSpPr/>
              <p:nvPr/>
            </p:nvSpPr>
            <p:spPr>
              <a:xfrm>
                <a:off x="4273200" y="4341240"/>
                <a:ext cx="25200" cy="4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1" name=""/>
              <p:cNvSpPr/>
              <p:nvPr/>
            </p:nvSpPr>
            <p:spPr>
              <a:xfrm>
                <a:off x="4273200" y="4180320"/>
                <a:ext cx="25200" cy="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2" name=""/>
              <p:cNvSpPr/>
              <p:nvPr/>
            </p:nvSpPr>
            <p:spPr>
              <a:xfrm>
                <a:off x="4363920" y="4341240"/>
                <a:ext cx="23760" cy="4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3" name=""/>
              <p:cNvSpPr/>
              <p:nvPr/>
            </p:nvSpPr>
            <p:spPr>
              <a:xfrm>
                <a:off x="4363920" y="4180320"/>
                <a:ext cx="23760" cy="6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4" name=""/>
              <p:cNvSpPr/>
              <p:nvPr/>
            </p:nvSpPr>
            <p:spPr>
              <a:xfrm>
                <a:off x="6279840" y="4282560"/>
                <a:ext cx="25200" cy="7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5" name=""/>
              <p:cNvSpPr/>
              <p:nvPr/>
            </p:nvSpPr>
            <p:spPr>
              <a:xfrm>
                <a:off x="3808440" y="3823560"/>
                <a:ext cx="2833200" cy="295920"/>
              </a:xfrm>
              <a:custGeom>
                <a:avLst/>
                <a:gdLst/>
                <a:ahLst/>
                <a:rect l="l" t="t" r="r" b="b"/>
                <a:pathLst>
                  <a:path w="4168" h="534">
                    <a:moveTo>
                      <a:pt x="4168" y="499"/>
                    </a:moveTo>
                    <a:lnTo>
                      <a:pt x="4168" y="495"/>
                    </a:lnTo>
                    <a:lnTo>
                      <a:pt x="4168" y="492"/>
                    </a:lnTo>
                    <a:lnTo>
                      <a:pt x="4167" y="488"/>
                    </a:lnTo>
                    <a:lnTo>
                      <a:pt x="4165" y="485"/>
                    </a:lnTo>
                    <a:lnTo>
                      <a:pt x="4163" y="478"/>
                    </a:lnTo>
                    <a:lnTo>
                      <a:pt x="4158" y="473"/>
                    </a:lnTo>
                    <a:lnTo>
                      <a:pt x="4153" y="468"/>
                    </a:lnTo>
                    <a:lnTo>
                      <a:pt x="4146" y="466"/>
                    </a:lnTo>
                    <a:lnTo>
                      <a:pt x="4143" y="464"/>
                    </a:lnTo>
                    <a:lnTo>
                      <a:pt x="4139" y="463"/>
                    </a:lnTo>
                    <a:lnTo>
                      <a:pt x="4136" y="463"/>
                    </a:lnTo>
                    <a:lnTo>
                      <a:pt x="4133" y="463"/>
                    </a:lnTo>
                    <a:lnTo>
                      <a:pt x="4129" y="463"/>
                    </a:lnTo>
                    <a:lnTo>
                      <a:pt x="4125" y="463"/>
                    </a:lnTo>
                    <a:lnTo>
                      <a:pt x="4123" y="464"/>
                    </a:lnTo>
                    <a:lnTo>
                      <a:pt x="4119" y="466"/>
                    </a:lnTo>
                    <a:lnTo>
                      <a:pt x="4114" y="468"/>
                    </a:lnTo>
                    <a:lnTo>
                      <a:pt x="4109" y="473"/>
                    </a:lnTo>
                    <a:lnTo>
                      <a:pt x="4104" y="478"/>
                    </a:lnTo>
                    <a:lnTo>
                      <a:pt x="4101" y="485"/>
                    </a:lnTo>
                    <a:lnTo>
                      <a:pt x="4100" y="488"/>
                    </a:lnTo>
                    <a:lnTo>
                      <a:pt x="4099" y="492"/>
                    </a:lnTo>
                    <a:lnTo>
                      <a:pt x="4099" y="495"/>
                    </a:lnTo>
                    <a:lnTo>
                      <a:pt x="4098" y="499"/>
                    </a:lnTo>
                    <a:lnTo>
                      <a:pt x="4099" y="502"/>
                    </a:lnTo>
                    <a:lnTo>
                      <a:pt x="4099" y="506"/>
                    </a:lnTo>
                    <a:lnTo>
                      <a:pt x="4100" y="509"/>
                    </a:lnTo>
                    <a:lnTo>
                      <a:pt x="4101" y="512"/>
                    </a:lnTo>
                    <a:lnTo>
                      <a:pt x="4104" y="517"/>
                    </a:lnTo>
                    <a:lnTo>
                      <a:pt x="4109" y="523"/>
                    </a:lnTo>
                    <a:lnTo>
                      <a:pt x="4114" y="528"/>
                    </a:lnTo>
                    <a:lnTo>
                      <a:pt x="4119" y="530"/>
                    </a:lnTo>
                    <a:lnTo>
                      <a:pt x="4123" y="531"/>
                    </a:lnTo>
                    <a:lnTo>
                      <a:pt x="4125" y="533"/>
                    </a:lnTo>
                    <a:lnTo>
                      <a:pt x="4129" y="533"/>
                    </a:lnTo>
                    <a:lnTo>
                      <a:pt x="4133" y="534"/>
                    </a:lnTo>
                    <a:lnTo>
                      <a:pt x="4136" y="533"/>
                    </a:lnTo>
                    <a:lnTo>
                      <a:pt x="4139" y="533"/>
                    </a:lnTo>
                    <a:lnTo>
                      <a:pt x="4143" y="531"/>
                    </a:lnTo>
                    <a:lnTo>
                      <a:pt x="4146" y="530"/>
                    </a:lnTo>
                    <a:lnTo>
                      <a:pt x="4153" y="528"/>
                    </a:lnTo>
                    <a:lnTo>
                      <a:pt x="4158" y="523"/>
                    </a:lnTo>
                    <a:lnTo>
                      <a:pt x="4163" y="517"/>
                    </a:lnTo>
                    <a:lnTo>
                      <a:pt x="4165" y="512"/>
                    </a:lnTo>
                    <a:lnTo>
                      <a:pt x="4167" y="509"/>
                    </a:lnTo>
                    <a:lnTo>
                      <a:pt x="4168" y="506"/>
                    </a:lnTo>
                    <a:lnTo>
                      <a:pt x="4168" y="502"/>
                    </a:lnTo>
                    <a:lnTo>
                      <a:pt x="4168" y="499"/>
                    </a:lnTo>
                    <a:lnTo>
                      <a:pt x="4168" y="499"/>
                    </a:lnTo>
                    <a:close/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6" name=""/>
              <p:cNvSpPr/>
              <p:nvPr/>
            </p:nvSpPr>
            <p:spPr>
              <a:xfrm>
                <a:off x="6594120" y="4081320"/>
                <a:ext cx="47520" cy="381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6"/>
                    </a:moveTo>
                    <a:lnTo>
                      <a:pt x="70" y="32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7" y="22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3" y="49"/>
                    </a:lnTo>
                    <a:lnTo>
                      <a:pt x="6" y="54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1" y="67"/>
                    </a:lnTo>
                    <a:lnTo>
                      <a:pt x="25" y="68"/>
                    </a:lnTo>
                    <a:lnTo>
                      <a:pt x="27" y="70"/>
                    </a:lnTo>
                    <a:lnTo>
                      <a:pt x="31" y="70"/>
                    </a:lnTo>
                    <a:lnTo>
                      <a:pt x="35" y="71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5" y="68"/>
                    </a:lnTo>
                    <a:lnTo>
                      <a:pt x="48" y="67"/>
                    </a:lnTo>
                    <a:lnTo>
                      <a:pt x="55" y="65"/>
                    </a:lnTo>
                    <a:lnTo>
                      <a:pt x="60" y="60"/>
                    </a:lnTo>
                    <a:lnTo>
                      <a:pt x="65" y="54"/>
                    </a:lnTo>
                    <a:lnTo>
                      <a:pt x="67" y="49"/>
                    </a:lnTo>
                    <a:lnTo>
                      <a:pt x="69" y="46"/>
                    </a:lnTo>
                    <a:lnTo>
                      <a:pt x="70" y="43"/>
                    </a:lnTo>
                    <a:lnTo>
                      <a:pt x="70" y="39"/>
                    </a:lnTo>
                    <a:lnTo>
                      <a:pt x="70" y="36"/>
                    </a:lnTo>
                    <a:lnTo>
                      <a:pt x="70" y="36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7" name=""/>
              <p:cNvSpPr/>
              <p:nvPr/>
            </p:nvSpPr>
            <p:spPr>
              <a:xfrm>
                <a:off x="3808440" y="3823560"/>
                <a:ext cx="45000" cy="374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8" name=""/>
              <p:cNvSpPr/>
              <p:nvPr/>
            </p:nvSpPr>
            <p:spPr>
              <a:xfrm>
                <a:off x="6001560" y="3844800"/>
                <a:ext cx="47520" cy="360720"/>
              </a:xfrm>
              <a:custGeom>
                <a:avLst/>
                <a:gdLst/>
                <a:ahLst/>
                <a:rect l="l" t="t" r="r" b="b"/>
                <a:pathLst>
                  <a:path w="70" h="649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78"/>
                    </a:moveTo>
                    <a:lnTo>
                      <a:pt x="38" y="578"/>
                    </a:lnTo>
                    <a:lnTo>
                      <a:pt x="42" y="579"/>
                    </a:lnTo>
                    <a:lnTo>
                      <a:pt x="46" y="581"/>
                    </a:lnTo>
                    <a:lnTo>
                      <a:pt x="50" y="582"/>
                    </a:lnTo>
                    <a:lnTo>
                      <a:pt x="52" y="583"/>
                    </a:lnTo>
                    <a:lnTo>
                      <a:pt x="56" y="586"/>
                    </a:lnTo>
                    <a:lnTo>
                      <a:pt x="58" y="587"/>
                    </a:lnTo>
                    <a:lnTo>
                      <a:pt x="62" y="590"/>
                    </a:lnTo>
                    <a:lnTo>
                      <a:pt x="65" y="593"/>
                    </a:lnTo>
                    <a:lnTo>
                      <a:pt x="66" y="597"/>
                    </a:lnTo>
                    <a:lnTo>
                      <a:pt x="67" y="601"/>
                    </a:lnTo>
                    <a:lnTo>
                      <a:pt x="68" y="603"/>
                    </a:lnTo>
                    <a:lnTo>
                      <a:pt x="70" y="607"/>
                    </a:lnTo>
                    <a:lnTo>
                      <a:pt x="70" y="611"/>
                    </a:lnTo>
                    <a:lnTo>
                      <a:pt x="70" y="615"/>
                    </a:lnTo>
                    <a:lnTo>
                      <a:pt x="68" y="620"/>
                    </a:lnTo>
                    <a:lnTo>
                      <a:pt x="68" y="622"/>
                    </a:lnTo>
                    <a:lnTo>
                      <a:pt x="67" y="625"/>
                    </a:lnTo>
                    <a:lnTo>
                      <a:pt x="67" y="627"/>
                    </a:lnTo>
                    <a:lnTo>
                      <a:pt x="66" y="631"/>
                    </a:lnTo>
                    <a:lnTo>
                      <a:pt x="63" y="634"/>
                    </a:lnTo>
                    <a:lnTo>
                      <a:pt x="62" y="636"/>
                    </a:lnTo>
                    <a:lnTo>
                      <a:pt x="60" y="639"/>
                    </a:lnTo>
                    <a:lnTo>
                      <a:pt x="57" y="640"/>
                    </a:lnTo>
                    <a:lnTo>
                      <a:pt x="52" y="644"/>
                    </a:lnTo>
                    <a:lnTo>
                      <a:pt x="47" y="646"/>
                    </a:lnTo>
                    <a:lnTo>
                      <a:pt x="45" y="648"/>
                    </a:lnTo>
                    <a:lnTo>
                      <a:pt x="41" y="649"/>
                    </a:lnTo>
                    <a:lnTo>
                      <a:pt x="38" y="649"/>
                    </a:lnTo>
                    <a:lnTo>
                      <a:pt x="35" y="649"/>
                    </a:lnTo>
                    <a:lnTo>
                      <a:pt x="31" y="649"/>
                    </a:lnTo>
                    <a:lnTo>
                      <a:pt x="27" y="649"/>
                    </a:lnTo>
                    <a:lnTo>
                      <a:pt x="23" y="648"/>
                    </a:lnTo>
                    <a:lnTo>
                      <a:pt x="20" y="646"/>
                    </a:lnTo>
                    <a:lnTo>
                      <a:pt x="16" y="644"/>
                    </a:lnTo>
                    <a:lnTo>
                      <a:pt x="13" y="641"/>
                    </a:lnTo>
                    <a:lnTo>
                      <a:pt x="10" y="639"/>
                    </a:lnTo>
                    <a:lnTo>
                      <a:pt x="7" y="635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2" y="626"/>
                    </a:lnTo>
                    <a:lnTo>
                      <a:pt x="1" y="622"/>
                    </a:lnTo>
                    <a:lnTo>
                      <a:pt x="0" y="619"/>
                    </a:lnTo>
                    <a:lnTo>
                      <a:pt x="0" y="615"/>
                    </a:lnTo>
                    <a:lnTo>
                      <a:pt x="0" y="612"/>
                    </a:lnTo>
                    <a:lnTo>
                      <a:pt x="1" y="609"/>
                    </a:lnTo>
                    <a:lnTo>
                      <a:pt x="1" y="605"/>
                    </a:lnTo>
                    <a:lnTo>
                      <a:pt x="2" y="602"/>
                    </a:lnTo>
                    <a:lnTo>
                      <a:pt x="2" y="598"/>
                    </a:lnTo>
                    <a:lnTo>
                      <a:pt x="3" y="596"/>
                    </a:lnTo>
                    <a:lnTo>
                      <a:pt x="6" y="593"/>
                    </a:lnTo>
                    <a:lnTo>
                      <a:pt x="7" y="592"/>
                    </a:lnTo>
                    <a:lnTo>
                      <a:pt x="12" y="588"/>
                    </a:lnTo>
                    <a:lnTo>
                      <a:pt x="15" y="586"/>
                    </a:lnTo>
                    <a:lnTo>
                      <a:pt x="17" y="583"/>
                    </a:lnTo>
                    <a:lnTo>
                      <a:pt x="20" y="582"/>
                    </a:lnTo>
                    <a:lnTo>
                      <a:pt x="22" y="581"/>
                    </a:lnTo>
                    <a:lnTo>
                      <a:pt x="26" y="579"/>
                    </a:lnTo>
                    <a:lnTo>
                      <a:pt x="28" y="579"/>
                    </a:lnTo>
                    <a:lnTo>
                      <a:pt x="35" y="578"/>
                    </a:lnTo>
                    <a:lnTo>
                      <a:pt x="35" y="578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9" name=""/>
              <p:cNvSpPr/>
              <p:nvPr/>
            </p:nvSpPr>
            <p:spPr>
              <a:xfrm>
                <a:off x="6001560" y="3844800"/>
                <a:ext cx="47520" cy="399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6001560" y="4166640"/>
                <a:ext cx="47520" cy="388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1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0" y="33"/>
                    </a:lnTo>
                    <a:lnTo>
                      <a:pt x="70" y="37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60" y="61"/>
                    </a:lnTo>
                    <a:lnTo>
                      <a:pt x="57" y="62"/>
                    </a:lnTo>
                    <a:lnTo>
                      <a:pt x="52" y="66"/>
                    </a:lnTo>
                    <a:lnTo>
                      <a:pt x="47" y="68"/>
                    </a:lnTo>
                    <a:lnTo>
                      <a:pt x="45" y="70"/>
                    </a:lnTo>
                    <a:lnTo>
                      <a:pt x="41" y="71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71"/>
                    </a:lnTo>
                    <a:lnTo>
                      <a:pt x="23" y="70"/>
                    </a:lnTo>
                    <a:lnTo>
                      <a:pt x="20" y="68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10" y="61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1" name=""/>
              <p:cNvSpPr/>
              <p:nvPr/>
            </p:nvSpPr>
            <p:spPr>
              <a:xfrm>
                <a:off x="6014520" y="3856680"/>
                <a:ext cx="20160" cy="337680"/>
              </a:xfrm>
              <a:custGeom>
                <a:avLst/>
                <a:gdLst/>
                <a:ahLst/>
                <a:rect l="l" t="t" r="r" b="b"/>
                <a:pathLst>
                  <a:path w="30" h="608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5"/>
                    </a:moveTo>
                    <a:lnTo>
                      <a:pt x="8" y="603"/>
                    </a:lnTo>
                    <a:lnTo>
                      <a:pt x="11" y="601"/>
                    </a:lnTo>
                    <a:lnTo>
                      <a:pt x="15" y="601"/>
                    </a:lnTo>
                    <a:lnTo>
                      <a:pt x="18" y="601"/>
                    </a:lnTo>
                    <a:lnTo>
                      <a:pt x="21" y="603"/>
                    </a:lnTo>
                    <a:lnTo>
                      <a:pt x="21" y="603"/>
                    </a:lnTo>
                    <a:lnTo>
                      <a:pt x="21" y="605"/>
                    </a:lnTo>
                    <a:lnTo>
                      <a:pt x="23" y="606"/>
                    </a:lnTo>
                    <a:lnTo>
                      <a:pt x="25" y="608"/>
                    </a:lnTo>
                    <a:lnTo>
                      <a:pt x="27" y="606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30" y="604"/>
                    </a:lnTo>
                    <a:lnTo>
                      <a:pt x="30" y="603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6" y="599"/>
                    </a:lnTo>
                    <a:lnTo>
                      <a:pt x="25" y="595"/>
                    </a:lnTo>
                    <a:lnTo>
                      <a:pt x="25" y="593"/>
                    </a:lnTo>
                    <a:lnTo>
                      <a:pt x="25" y="589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8" y="585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8" y="581"/>
                    </a:lnTo>
                    <a:lnTo>
                      <a:pt x="28" y="580"/>
                    </a:lnTo>
                    <a:lnTo>
                      <a:pt x="28" y="580"/>
                    </a:lnTo>
                    <a:lnTo>
                      <a:pt x="28" y="579"/>
                    </a:lnTo>
                    <a:lnTo>
                      <a:pt x="27" y="579"/>
                    </a:lnTo>
                    <a:lnTo>
                      <a:pt x="25" y="579"/>
                    </a:lnTo>
                    <a:lnTo>
                      <a:pt x="25" y="579"/>
                    </a:lnTo>
                    <a:lnTo>
                      <a:pt x="23" y="579"/>
                    </a:lnTo>
                    <a:lnTo>
                      <a:pt x="23" y="579"/>
                    </a:lnTo>
                    <a:lnTo>
                      <a:pt x="21" y="580"/>
                    </a:lnTo>
                    <a:lnTo>
                      <a:pt x="20" y="582"/>
                    </a:lnTo>
                    <a:lnTo>
                      <a:pt x="18" y="582"/>
                    </a:lnTo>
                    <a:lnTo>
                      <a:pt x="16" y="584"/>
                    </a:lnTo>
                    <a:lnTo>
                      <a:pt x="15" y="584"/>
                    </a:lnTo>
                    <a:lnTo>
                      <a:pt x="13" y="584"/>
                    </a:lnTo>
                    <a:lnTo>
                      <a:pt x="11" y="582"/>
                    </a:lnTo>
                    <a:lnTo>
                      <a:pt x="10" y="582"/>
                    </a:lnTo>
                    <a:lnTo>
                      <a:pt x="8" y="580"/>
                    </a:lnTo>
                    <a:lnTo>
                      <a:pt x="8" y="580"/>
                    </a:lnTo>
                    <a:lnTo>
                      <a:pt x="6" y="579"/>
                    </a:lnTo>
                    <a:lnTo>
                      <a:pt x="5" y="579"/>
                    </a:lnTo>
                    <a:lnTo>
                      <a:pt x="5" y="579"/>
                    </a:lnTo>
                    <a:lnTo>
                      <a:pt x="3" y="579"/>
                    </a:lnTo>
                    <a:lnTo>
                      <a:pt x="1" y="579"/>
                    </a:lnTo>
                    <a:lnTo>
                      <a:pt x="1" y="579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4"/>
                    </a:lnTo>
                    <a:lnTo>
                      <a:pt x="1" y="585"/>
                    </a:lnTo>
                    <a:lnTo>
                      <a:pt x="1" y="585"/>
                    </a:lnTo>
                    <a:lnTo>
                      <a:pt x="3" y="588"/>
                    </a:lnTo>
                    <a:lnTo>
                      <a:pt x="5" y="589"/>
                    </a:lnTo>
                    <a:lnTo>
                      <a:pt x="5" y="593"/>
                    </a:lnTo>
                    <a:lnTo>
                      <a:pt x="5" y="595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1" y="601"/>
                    </a:lnTo>
                    <a:lnTo>
                      <a:pt x="0" y="601"/>
                    </a:lnTo>
                    <a:lnTo>
                      <a:pt x="0" y="603"/>
                    </a:lnTo>
                    <a:lnTo>
                      <a:pt x="0" y="604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3" y="606"/>
                    </a:lnTo>
                    <a:lnTo>
                      <a:pt x="5" y="608"/>
                    </a:lnTo>
                    <a:lnTo>
                      <a:pt x="5" y="606"/>
                    </a:lnTo>
                    <a:lnTo>
                      <a:pt x="6" y="605"/>
                    </a:lnTo>
                    <a:lnTo>
                      <a:pt x="6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2" name=""/>
              <p:cNvSpPr/>
              <p:nvPr/>
            </p:nvSpPr>
            <p:spPr>
              <a:xfrm>
                <a:off x="6014520" y="385668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32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3" name=""/>
              <p:cNvSpPr/>
              <p:nvPr/>
            </p:nvSpPr>
            <p:spPr>
              <a:xfrm>
                <a:off x="6014520" y="417744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6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32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4" name=""/>
              <p:cNvSpPr/>
              <p:nvPr/>
            </p:nvSpPr>
            <p:spPr>
              <a:xfrm>
                <a:off x="6054120" y="3827880"/>
                <a:ext cx="24840" cy="4042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6054120" y="3806640"/>
                <a:ext cx="24840" cy="425520"/>
              </a:xfrm>
              <a:prstGeom prst="rect">
                <a:avLst/>
              </a:prstGeom>
              <a:solidFill>
                <a:srgbClr val="4f4f4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6078960" y="3806640"/>
                <a:ext cx="23760" cy="425520"/>
              </a:xfrm>
              <a:prstGeom prst="rect">
                <a:avLst/>
              </a:prstGeom>
              <a:solidFill>
                <a:srgbClr val="76767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7" name=""/>
              <p:cNvSpPr/>
              <p:nvPr/>
            </p:nvSpPr>
            <p:spPr>
              <a:xfrm>
                <a:off x="6103080" y="3806640"/>
                <a:ext cx="26280" cy="425520"/>
              </a:xfrm>
              <a:prstGeom prst="rect">
                <a:avLst/>
              </a:prstGeom>
              <a:solidFill>
                <a:srgbClr val="63636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8" name=""/>
              <p:cNvSpPr/>
              <p:nvPr/>
            </p:nvSpPr>
            <p:spPr>
              <a:xfrm>
                <a:off x="6055200" y="3825360"/>
                <a:ext cx="41760" cy="402480"/>
              </a:xfrm>
              <a:custGeom>
                <a:avLst/>
                <a:gdLst/>
                <a:ahLst/>
                <a:rect l="l" t="t" r="r" b="b"/>
                <a:pathLst>
                  <a:path w="59" h="722">
                    <a:moveTo>
                      <a:pt x="59" y="717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17"/>
                    </a:lnTo>
                    <a:lnTo>
                      <a:pt x="0" y="720"/>
                    </a:lnTo>
                    <a:lnTo>
                      <a:pt x="2" y="721"/>
                    </a:lnTo>
                    <a:lnTo>
                      <a:pt x="3" y="722"/>
                    </a:lnTo>
                    <a:lnTo>
                      <a:pt x="7" y="722"/>
                    </a:lnTo>
                    <a:lnTo>
                      <a:pt x="7" y="722"/>
                    </a:lnTo>
                    <a:lnTo>
                      <a:pt x="52" y="722"/>
                    </a:lnTo>
                    <a:lnTo>
                      <a:pt x="54" y="722"/>
                    </a:lnTo>
                    <a:lnTo>
                      <a:pt x="56" y="721"/>
                    </a:lnTo>
                    <a:lnTo>
                      <a:pt x="59" y="720"/>
                    </a:lnTo>
                    <a:lnTo>
                      <a:pt x="59" y="718"/>
                    </a:lnTo>
                    <a:lnTo>
                      <a:pt x="59" y="71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9" name=""/>
              <p:cNvSpPr/>
              <p:nvPr/>
            </p:nvSpPr>
            <p:spPr>
              <a:xfrm>
                <a:off x="4892400" y="3824280"/>
                <a:ext cx="803880" cy="400680"/>
              </a:xfrm>
              <a:prstGeom prst="rect">
                <a:avLst/>
              </a:prstGeom>
              <a:solidFill>
                <a:srgbClr val="e6e6e6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4892400" y="3824280"/>
                <a:ext cx="803880" cy="400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1" name=""/>
              <p:cNvSpPr/>
              <p:nvPr/>
            </p:nvSpPr>
            <p:spPr>
              <a:xfrm>
                <a:off x="5148000" y="3834360"/>
                <a:ext cx="66600" cy="383760"/>
              </a:xfrm>
              <a:custGeom>
                <a:avLst/>
                <a:gdLst/>
                <a:ahLst/>
                <a:rect l="l" t="t" r="r" b="b"/>
                <a:pathLst>
                  <a:path w="98" h="692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  <a:moveTo>
                      <a:pt x="98" y="581"/>
                    </a:moveTo>
                    <a:lnTo>
                      <a:pt x="18" y="581"/>
                    </a:lnTo>
                    <a:lnTo>
                      <a:pt x="14" y="581"/>
                    </a:lnTo>
                    <a:lnTo>
                      <a:pt x="10" y="582"/>
                    </a:lnTo>
                    <a:lnTo>
                      <a:pt x="7" y="583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2" y="592"/>
                    </a:lnTo>
                    <a:lnTo>
                      <a:pt x="0" y="595"/>
                    </a:lnTo>
                    <a:lnTo>
                      <a:pt x="0" y="598"/>
                    </a:lnTo>
                    <a:lnTo>
                      <a:pt x="0" y="598"/>
                    </a:lnTo>
                    <a:lnTo>
                      <a:pt x="0" y="672"/>
                    </a:lnTo>
                    <a:lnTo>
                      <a:pt x="0" y="675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4" y="686"/>
                    </a:lnTo>
                    <a:lnTo>
                      <a:pt x="7" y="688"/>
                    </a:lnTo>
                    <a:lnTo>
                      <a:pt x="10" y="689"/>
                    </a:lnTo>
                    <a:lnTo>
                      <a:pt x="14" y="691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98" y="692"/>
                    </a:lnTo>
                    <a:lnTo>
                      <a:pt x="98" y="581"/>
                    </a:lnTo>
                    <a:lnTo>
                      <a:pt x="98" y="581"/>
                    </a:lnTo>
                    <a:close/>
                  </a:path>
                </a:pathLst>
              </a:custGeom>
              <a:solidFill>
                <a:srgbClr val="e6e6e6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2" name=""/>
              <p:cNvSpPr/>
              <p:nvPr/>
            </p:nvSpPr>
            <p:spPr>
              <a:xfrm>
                <a:off x="5148000" y="38343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6343" name=""/>
            <p:cNvGrpSpPr/>
            <p:nvPr/>
          </p:nvGrpSpPr>
          <p:grpSpPr>
            <a:xfrm>
              <a:off x="4923720" y="3844800"/>
              <a:ext cx="798840" cy="373320"/>
              <a:chOff x="4923720" y="3844800"/>
              <a:chExt cx="798840" cy="373320"/>
            </a:xfrm>
          </p:grpSpPr>
          <p:sp>
            <p:nvSpPr>
              <p:cNvPr id="6344" name=""/>
              <p:cNvSpPr/>
              <p:nvPr/>
            </p:nvSpPr>
            <p:spPr>
              <a:xfrm>
                <a:off x="5148360" y="415620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8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5" name=""/>
              <p:cNvSpPr/>
              <p:nvPr/>
            </p:nvSpPr>
            <p:spPr>
              <a:xfrm>
                <a:off x="4923720" y="3852360"/>
                <a:ext cx="744480" cy="362520"/>
              </a:xfrm>
              <a:custGeom>
                <a:avLst/>
                <a:gdLst/>
                <a:ahLst/>
                <a:rect l="l" t="t" r="r" b="b"/>
                <a:pathLst>
                  <a:path w="1092" h="654">
                    <a:moveTo>
                      <a:pt x="47" y="607"/>
                    </a:moveTo>
                    <a:lnTo>
                      <a:pt x="67" y="596"/>
                    </a:lnTo>
                    <a:lnTo>
                      <a:pt x="67" y="572"/>
                    </a:lnTo>
                    <a:lnTo>
                      <a:pt x="47" y="560"/>
                    </a:lnTo>
                    <a:lnTo>
                      <a:pt x="26" y="572"/>
                    </a:lnTo>
                    <a:lnTo>
                      <a:pt x="26" y="596"/>
                    </a:lnTo>
                    <a:lnTo>
                      <a:pt x="47" y="607"/>
                    </a:lnTo>
                    <a:close/>
                    <a:moveTo>
                      <a:pt x="100" y="607"/>
                    </a:moveTo>
                    <a:lnTo>
                      <a:pt x="120" y="596"/>
                    </a:lnTo>
                    <a:lnTo>
                      <a:pt x="120" y="572"/>
                    </a:lnTo>
                    <a:lnTo>
                      <a:pt x="100" y="560"/>
                    </a:lnTo>
                    <a:lnTo>
                      <a:pt x="81" y="572"/>
                    </a:lnTo>
                    <a:lnTo>
                      <a:pt x="81" y="596"/>
                    </a:lnTo>
                    <a:lnTo>
                      <a:pt x="100" y="607"/>
                    </a:lnTo>
                    <a:close/>
                    <a:moveTo>
                      <a:pt x="155" y="607"/>
                    </a:moveTo>
                    <a:lnTo>
                      <a:pt x="175" y="596"/>
                    </a:lnTo>
                    <a:lnTo>
                      <a:pt x="175" y="572"/>
                    </a:lnTo>
                    <a:lnTo>
                      <a:pt x="155" y="560"/>
                    </a:lnTo>
                    <a:lnTo>
                      <a:pt x="135" y="572"/>
                    </a:lnTo>
                    <a:lnTo>
                      <a:pt x="135" y="596"/>
                    </a:lnTo>
                    <a:lnTo>
                      <a:pt x="155" y="607"/>
                    </a:lnTo>
                    <a:close/>
                    <a:moveTo>
                      <a:pt x="208" y="607"/>
                    </a:moveTo>
                    <a:lnTo>
                      <a:pt x="230" y="596"/>
                    </a:lnTo>
                    <a:lnTo>
                      <a:pt x="230" y="572"/>
                    </a:lnTo>
                    <a:lnTo>
                      <a:pt x="208" y="560"/>
                    </a:lnTo>
                    <a:lnTo>
                      <a:pt x="188" y="572"/>
                    </a:lnTo>
                    <a:lnTo>
                      <a:pt x="188" y="596"/>
                    </a:lnTo>
                    <a:lnTo>
                      <a:pt x="208" y="607"/>
                    </a:lnTo>
                    <a:close/>
                    <a:moveTo>
                      <a:pt x="263" y="607"/>
                    </a:moveTo>
                    <a:lnTo>
                      <a:pt x="283" y="596"/>
                    </a:lnTo>
                    <a:lnTo>
                      <a:pt x="283" y="572"/>
                    </a:lnTo>
                    <a:lnTo>
                      <a:pt x="263" y="560"/>
                    </a:lnTo>
                    <a:lnTo>
                      <a:pt x="243" y="572"/>
                    </a:lnTo>
                    <a:lnTo>
                      <a:pt x="243" y="596"/>
                    </a:lnTo>
                    <a:lnTo>
                      <a:pt x="263" y="607"/>
                    </a:lnTo>
                    <a:close/>
                    <a:moveTo>
                      <a:pt x="20" y="560"/>
                    </a:moveTo>
                    <a:lnTo>
                      <a:pt x="39" y="550"/>
                    </a:lnTo>
                    <a:lnTo>
                      <a:pt x="39" y="525"/>
                    </a:lnTo>
                    <a:lnTo>
                      <a:pt x="20" y="514"/>
                    </a:lnTo>
                    <a:lnTo>
                      <a:pt x="0" y="525"/>
                    </a:lnTo>
                    <a:lnTo>
                      <a:pt x="0" y="550"/>
                    </a:lnTo>
                    <a:lnTo>
                      <a:pt x="20" y="560"/>
                    </a:lnTo>
                    <a:close/>
                    <a:moveTo>
                      <a:pt x="74" y="560"/>
                    </a:moveTo>
                    <a:lnTo>
                      <a:pt x="94" y="550"/>
                    </a:lnTo>
                    <a:lnTo>
                      <a:pt x="94" y="525"/>
                    </a:lnTo>
                    <a:lnTo>
                      <a:pt x="74" y="514"/>
                    </a:lnTo>
                    <a:lnTo>
                      <a:pt x="55" y="525"/>
                    </a:lnTo>
                    <a:lnTo>
                      <a:pt x="55" y="550"/>
                    </a:lnTo>
                    <a:lnTo>
                      <a:pt x="74" y="560"/>
                    </a:lnTo>
                    <a:close/>
                    <a:moveTo>
                      <a:pt x="129" y="560"/>
                    </a:moveTo>
                    <a:lnTo>
                      <a:pt x="149" y="550"/>
                    </a:lnTo>
                    <a:lnTo>
                      <a:pt x="149" y="525"/>
                    </a:lnTo>
                    <a:lnTo>
                      <a:pt x="129" y="514"/>
                    </a:lnTo>
                    <a:lnTo>
                      <a:pt x="108" y="525"/>
                    </a:lnTo>
                    <a:lnTo>
                      <a:pt x="108" y="550"/>
                    </a:lnTo>
                    <a:lnTo>
                      <a:pt x="129" y="560"/>
                    </a:lnTo>
                    <a:close/>
                    <a:moveTo>
                      <a:pt x="181" y="560"/>
                    </a:moveTo>
                    <a:lnTo>
                      <a:pt x="202" y="550"/>
                    </a:lnTo>
                    <a:lnTo>
                      <a:pt x="202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50"/>
                    </a:lnTo>
                    <a:lnTo>
                      <a:pt x="181" y="560"/>
                    </a:lnTo>
                    <a:close/>
                    <a:moveTo>
                      <a:pt x="237" y="560"/>
                    </a:moveTo>
                    <a:lnTo>
                      <a:pt x="257" y="550"/>
                    </a:lnTo>
                    <a:lnTo>
                      <a:pt x="257" y="525"/>
                    </a:lnTo>
                    <a:lnTo>
                      <a:pt x="237" y="514"/>
                    </a:lnTo>
                    <a:lnTo>
                      <a:pt x="217" y="525"/>
                    </a:lnTo>
                    <a:lnTo>
                      <a:pt x="217" y="550"/>
                    </a:lnTo>
                    <a:lnTo>
                      <a:pt x="237" y="560"/>
                    </a:lnTo>
                    <a:close/>
                    <a:moveTo>
                      <a:pt x="289" y="560"/>
                    </a:moveTo>
                    <a:lnTo>
                      <a:pt x="312" y="550"/>
                    </a:lnTo>
                    <a:lnTo>
                      <a:pt x="312" y="525"/>
                    </a:lnTo>
                    <a:lnTo>
                      <a:pt x="289" y="514"/>
                    </a:lnTo>
                    <a:lnTo>
                      <a:pt x="269" y="525"/>
                    </a:lnTo>
                    <a:lnTo>
                      <a:pt x="269" y="550"/>
                    </a:lnTo>
                    <a:lnTo>
                      <a:pt x="289" y="560"/>
                    </a:lnTo>
                    <a:close/>
                    <a:moveTo>
                      <a:pt x="47" y="514"/>
                    </a:moveTo>
                    <a:lnTo>
                      <a:pt x="67" y="504"/>
                    </a:lnTo>
                    <a:lnTo>
                      <a:pt x="67" y="478"/>
                    </a:lnTo>
                    <a:lnTo>
                      <a:pt x="47" y="468"/>
                    </a:lnTo>
                    <a:lnTo>
                      <a:pt x="26" y="478"/>
                    </a:lnTo>
                    <a:lnTo>
                      <a:pt x="26" y="504"/>
                    </a:lnTo>
                    <a:lnTo>
                      <a:pt x="47" y="514"/>
                    </a:lnTo>
                    <a:close/>
                    <a:moveTo>
                      <a:pt x="100" y="514"/>
                    </a:moveTo>
                    <a:lnTo>
                      <a:pt x="120" y="504"/>
                    </a:lnTo>
                    <a:lnTo>
                      <a:pt x="120" y="478"/>
                    </a:lnTo>
                    <a:lnTo>
                      <a:pt x="100" y="468"/>
                    </a:lnTo>
                    <a:lnTo>
                      <a:pt x="81" y="478"/>
                    </a:lnTo>
                    <a:lnTo>
                      <a:pt x="81" y="504"/>
                    </a:lnTo>
                    <a:lnTo>
                      <a:pt x="100" y="514"/>
                    </a:lnTo>
                    <a:close/>
                    <a:moveTo>
                      <a:pt x="155" y="514"/>
                    </a:moveTo>
                    <a:lnTo>
                      <a:pt x="175" y="504"/>
                    </a:lnTo>
                    <a:lnTo>
                      <a:pt x="175" y="478"/>
                    </a:lnTo>
                    <a:lnTo>
                      <a:pt x="155" y="468"/>
                    </a:lnTo>
                    <a:lnTo>
                      <a:pt x="135" y="478"/>
                    </a:lnTo>
                    <a:lnTo>
                      <a:pt x="135" y="504"/>
                    </a:lnTo>
                    <a:lnTo>
                      <a:pt x="155" y="514"/>
                    </a:lnTo>
                    <a:close/>
                    <a:moveTo>
                      <a:pt x="208" y="514"/>
                    </a:moveTo>
                    <a:lnTo>
                      <a:pt x="230" y="504"/>
                    </a:lnTo>
                    <a:lnTo>
                      <a:pt x="230" y="478"/>
                    </a:lnTo>
                    <a:lnTo>
                      <a:pt x="208" y="468"/>
                    </a:lnTo>
                    <a:lnTo>
                      <a:pt x="188" y="478"/>
                    </a:lnTo>
                    <a:lnTo>
                      <a:pt x="188" y="504"/>
                    </a:lnTo>
                    <a:lnTo>
                      <a:pt x="208" y="514"/>
                    </a:lnTo>
                    <a:close/>
                    <a:moveTo>
                      <a:pt x="263" y="514"/>
                    </a:moveTo>
                    <a:lnTo>
                      <a:pt x="283" y="504"/>
                    </a:lnTo>
                    <a:lnTo>
                      <a:pt x="283" y="478"/>
                    </a:lnTo>
                    <a:lnTo>
                      <a:pt x="263" y="468"/>
                    </a:lnTo>
                    <a:lnTo>
                      <a:pt x="243" y="478"/>
                    </a:lnTo>
                    <a:lnTo>
                      <a:pt x="243" y="504"/>
                    </a:lnTo>
                    <a:lnTo>
                      <a:pt x="263" y="514"/>
                    </a:lnTo>
                    <a:close/>
                    <a:moveTo>
                      <a:pt x="318" y="514"/>
                    </a:moveTo>
                    <a:lnTo>
                      <a:pt x="338" y="504"/>
                    </a:lnTo>
                    <a:lnTo>
                      <a:pt x="338" y="478"/>
                    </a:lnTo>
                    <a:lnTo>
                      <a:pt x="318" y="468"/>
                    </a:lnTo>
                    <a:lnTo>
                      <a:pt x="298" y="478"/>
                    </a:lnTo>
                    <a:lnTo>
                      <a:pt x="298" y="504"/>
                    </a:lnTo>
                    <a:lnTo>
                      <a:pt x="318" y="514"/>
                    </a:lnTo>
                    <a:close/>
                    <a:moveTo>
                      <a:pt x="20" y="468"/>
                    </a:moveTo>
                    <a:lnTo>
                      <a:pt x="39" y="454"/>
                    </a:lnTo>
                    <a:lnTo>
                      <a:pt x="39" y="432"/>
                    </a:lnTo>
                    <a:lnTo>
                      <a:pt x="20" y="422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20" y="468"/>
                    </a:lnTo>
                    <a:close/>
                    <a:moveTo>
                      <a:pt x="74" y="468"/>
                    </a:moveTo>
                    <a:lnTo>
                      <a:pt x="94" y="454"/>
                    </a:lnTo>
                    <a:lnTo>
                      <a:pt x="94" y="432"/>
                    </a:lnTo>
                    <a:lnTo>
                      <a:pt x="74" y="422"/>
                    </a:lnTo>
                    <a:lnTo>
                      <a:pt x="55" y="432"/>
                    </a:lnTo>
                    <a:lnTo>
                      <a:pt x="55" y="454"/>
                    </a:lnTo>
                    <a:lnTo>
                      <a:pt x="74" y="468"/>
                    </a:lnTo>
                    <a:close/>
                    <a:moveTo>
                      <a:pt x="129" y="468"/>
                    </a:moveTo>
                    <a:lnTo>
                      <a:pt x="149" y="454"/>
                    </a:lnTo>
                    <a:lnTo>
                      <a:pt x="149" y="432"/>
                    </a:lnTo>
                    <a:lnTo>
                      <a:pt x="129" y="422"/>
                    </a:lnTo>
                    <a:lnTo>
                      <a:pt x="108" y="432"/>
                    </a:lnTo>
                    <a:lnTo>
                      <a:pt x="108" y="454"/>
                    </a:lnTo>
                    <a:lnTo>
                      <a:pt x="129" y="468"/>
                    </a:lnTo>
                    <a:close/>
                    <a:moveTo>
                      <a:pt x="181" y="468"/>
                    </a:moveTo>
                    <a:lnTo>
                      <a:pt x="202" y="454"/>
                    </a:lnTo>
                    <a:lnTo>
                      <a:pt x="202" y="432"/>
                    </a:lnTo>
                    <a:lnTo>
                      <a:pt x="181" y="422"/>
                    </a:lnTo>
                    <a:lnTo>
                      <a:pt x="161" y="432"/>
                    </a:lnTo>
                    <a:lnTo>
                      <a:pt x="161" y="454"/>
                    </a:lnTo>
                    <a:lnTo>
                      <a:pt x="181" y="468"/>
                    </a:lnTo>
                    <a:close/>
                    <a:moveTo>
                      <a:pt x="237" y="468"/>
                    </a:moveTo>
                    <a:lnTo>
                      <a:pt x="257" y="454"/>
                    </a:lnTo>
                    <a:lnTo>
                      <a:pt x="257" y="432"/>
                    </a:lnTo>
                    <a:lnTo>
                      <a:pt x="237" y="422"/>
                    </a:lnTo>
                    <a:lnTo>
                      <a:pt x="217" y="432"/>
                    </a:lnTo>
                    <a:lnTo>
                      <a:pt x="217" y="454"/>
                    </a:lnTo>
                    <a:lnTo>
                      <a:pt x="237" y="468"/>
                    </a:lnTo>
                    <a:close/>
                    <a:moveTo>
                      <a:pt x="289" y="468"/>
                    </a:moveTo>
                    <a:lnTo>
                      <a:pt x="312" y="454"/>
                    </a:lnTo>
                    <a:lnTo>
                      <a:pt x="312" y="432"/>
                    </a:lnTo>
                    <a:lnTo>
                      <a:pt x="289" y="422"/>
                    </a:lnTo>
                    <a:lnTo>
                      <a:pt x="269" y="432"/>
                    </a:lnTo>
                    <a:lnTo>
                      <a:pt x="269" y="454"/>
                    </a:lnTo>
                    <a:lnTo>
                      <a:pt x="289" y="468"/>
                    </a:lnTo>
                    <a:close/>
                    <a:moveTo>
                      <a:pt x="20" y="654"/>
                    </a:moveTo>
                    <a:lnTo>
                      <a:pt x="39" y="642"/>
                    </a:lnTo>
                    <a:lnTo>
                      <a:pt x="39" y="618"/>
                    </a:lnTo>
                    <a:lnTo>
                      <a:pt x="20" y="607"/>
                    </a:lnTo>
                    <a:lnTo>
                      <a:pt x="0" y="618"/>
                    </a:lnTo>
                    <a:lnTo>
                      <a:pt x="0" y="642"/>
                    </a:lnTo>
                    <a:lnTo>
                      <a:pt x="20" y="654"/>
                    </a:lnTo>
                    <a:close/>
                    <a:moveTo>
                      <a:pt x="74" y="654"/>
                    </a:moveTo>
                    <a:lnTo>
                      <a:pt x="94" y="642"/>
                    </a:lnTo>
                    <a:lnTo>
                      <a:pt x="94" y="618"/>
                    </a:lnTo>
                    <a:lnTo>
                      <a:pt x="74" y="607"/>
                    </a:lnTo>
                    <a:lnTo>
                      <a:pt x="55" y="618"/>
                    </a:lnTo>
                    <a:lnTo>
                      <a:pt x="55" y="642"/>
                    </a:lnTo>
                    <a:lnTo>
                      <a:pt x="74" y="654"/>
                    </a:lnTo>
                    <a:close/>
                    <a:moveTo>
                      <a:pt x="129" y="654"/>
                    </a:moveTo>
                    <a:lnTo>
                      <a:pt x="149" y="642"/>
                    </a:lnTo>
                    <a:lnTo>
                      <a:pt x="149" y="618"/>
                    </a:lnTo>
                    <a:lnTo>
                      <a:pt x="129" y="607"/>
                    </a:lnTo>
                    <a:lnTo>
                      <a:pt x="108" y="618"/>
                    </a:lnTo>
                    <a:lnTo>
                      <a:pt x="108" y="642"/>
                    </a:lnTo>
                    <a:lnTo>
                      <a:pt x="129" y="654"/>
                    </a:lnTo>
                    <a:close/>
                    <a:moveTo>
                      <a:pt x="181" y="654"/>
                    </a:moveTo>
                    <a:lnTo>
                      <a:pt x="202" y="642"/>
                    </a:lnTo>
                    <a:lnTo>
                      <a:pt x="202" y="618"/>
                    </a:lnTo>
                    <a:lnTo>
                      <a:pt x="181" y="607"/>
                    </a:lnTo>
                    <a:lnTo>
                      <a:pt x="161" y="618"/>
                    </a:lnTo>
                    <a:lnTo>
                      <a:pt x="161" y="642"/>
                    </a:lnTo>
                    <a:lnTo>
                      <a:pt x="181" y="654"/>
                    </a:lnTo>
                    <a:close/>
                    <a:moveTo>
                      <a:pt x="237" y="654"/>
                    </a:moveTo>
                    <a:lnTo>
                      <a:pt x="257" y="642"/>
                    </a:lnTo>
                    <a:lnTo>
                      <a:pt x="257" y="618"/>
                    </a:lnTo>
                    <a:lnTo>
                      <a:pt x="237" y="607"/>
                    </a:lnTo>
                    <a:lnTo>
                      <a:pt x="217" y="618"/>
                    </a:lnTo>
                    <a:lnTo>
                      <a:pt x="217" y="642"/>
                    </a:lnTo>
                    <a:lnTo>
                      <a:pt x="237" y="654"/>
                    </a:lnTo>
                    <a:close/>
                    <a:moveTo>
                      <a:pt x="289" y="654"/>
                    </a:moveTo>
                    <a:lnTo>
                      <a:pt x="312" y="642"/>
                    </a:lnTo>
                    <a:lnTo>
                      <a:pt x="312" y="618"/>
                    </a:lnTo>
                    <a:lnTo>
                      <a:pt x="289" y="607"/>
                    </a:lnTo>
                    <a:lnTo>
                      <a:pt x="269" y="618"/>
                    </a:lnTo>
                    <a:lnTo>
                      <a:pt x="269" y="642"/>
                    </a:lnTo>
                    <a:lnTo>
                      <a:pt x="289" y="654"/>
                    </a:lnTo>
                    <a:close/>
                    <a:moveTo>
                      <a:pt x="20" y="279"/>
                    </a:moveTo>
                    <a:lnTo>
                      <a:pt x="39" y="269"/>
                    </a:lnTo>
                    <a:lnTo>
                      <a:pt x="39" y="246"/>
                    </a:lnTo>
                    <a:lnTo>
                      <a:pt x="20" y="233"/>
                    </a:lnTo>
                    <a:lnTo>
                      <a:pt x="0" y="246"/>
                    </a:lnTo>
                    <a:lnTo>
                      <a:pt x="0" y="269"/>
                    </a:lnTo>
                    <a:lnTo>
                      <a:pt x="20" y="279"/>
                    </a:lnTo>
                    <a:close/>
                    <a:moveTo>
                      <a:pt x="74" y="279"/>
                    </a:moveTo>
                    <a:lnTo>
                      <a:pt x="94" y="269"/>
                    </a:lnTo>
                    <a:lnTo>
                      <a:pt x="94" y="246"/>
                    </a:lnTo>
                    <a:lnTo>
                      <a:pt x="74" y="233"/>
                    </a:lnTo>
                    <a:lnTo>
                      <a:pt x="55" y="246"/>
                    </a:lnTo>
                    <a:lnTo>
                      <a:pt x="55" y="269"/>
                    </a:lnTo>
                    <a:lnTo>
                      <a:pt x="74" y="279"/>
                    </a:lnTo>
                    <a:close/>
                    <a:moveTo>
                      <a:pt x="129" y="279"/>
                    </a:moveTo>
                    <a:lnTo>
                      <a:pt x="149" y="269"/>
                    </a:lnTo>
                    <a:lnTo>
                      <a:pt x="149" y="246"/>
                    </a:lnTo>
                    <a:lnTo>
                      <a:pt x="129" y="233"/>
                    </a:lnTo>
                    <a:lnTo>
                      <a:pt x="108" y="246"/>
                    </a:lnTo>
                    <a:lnTo>
                      <a:pt x="108" y="269"/>
                    </a:lnTo>
                    <a:lnTo>
                      <a:pt x="129" y="279"/>
                    </a:lnTo>
                    <a:close/>
                    <a:moveTo>
                      <a:pt x="181" y="279"/>
                    </a:moveTo>
                    <a:lnTo>
                      <a:pt x="202" y="269"/>
                    </a:lnTo>
                    <a:lnTo>
                      <a:pt x="202" y="246"/>
                    </a:lnTo>
                    <a:lnTo>
                      <a:pt x="181" y="233"/>
                    </a:lnTo>
                    <a:lnTo>
                      <a:pt x="161" y="246"/>
                    </a:lnTo>
                    <a:lnTo>
                      <a:pt x="161" y="269"/>
                    </a:lnTo>
                    <a:lnTo>
                      <a:pt x="181" y="279"/>
                    </a:lnTo>
                    <a:close/>
                    <a:moveTo>
                      <a:pt x="237" y="279"/>
                    </a:moveTo>
                    <a:lnTo>
                      <a:pt x="257" y="269"/>
                    </a:lnTo>
                    <a:lnTo>
                      <a:pt x="257" y="246"/>
                    </a:lnTo>
                    <a:lnTo>
                      <a:pt x="237" y="233"/>
                    </a:lnTo>
                    <a:lnTo>
                      <a:pt x="217" y="246"/>
                    </a:lnTo>
                    <a:lnTo>
                      <a:pt x="217" y="269"/>
                    </a:lnTo>
                    <a:lnTo>
                      <a:pt x="237" y="279"/>
                    </a:lnTo>
                    <a:close/>
                    <a:moveTo>
                      <a:pt x="289" y="279"/>
                    </a:moveTo>
                    <a:lnTo>
                      <a:pt x="312" y="269"/>
                    </a:lnTo>
                    <a:lnTo>
                      <a:pt x="312" y="246"/>
                    </a:lnTo>
                    <a:lnTo>
                      <a:pt x="289" y="233"/>
                    </a:lnTo>
                    <a:lnTo>
                      <a:pt x="269" y="246"/>
                    </a:lnTo>
                    <a:lnTo>
                      <a:pt x="269" y="269"/>
                    </a:lnTo>
                    <a:lnTo>
                      <a:pt x="289" y="279"/>
                    </a:lnTo>
                    <a:close/>
                    <a:moveTo>
                      <a:pt x="47" y="233"/>
                    </a:moveTo>
                    <a:lnTo>
                      <a:pt x="67" y="222"/>
                    </a:lnTo>
                    <a:lnTo>
                      <a:pt x="67" y="199"/>
                    </a:lnTo>
                    <a:lnTo>
                      <a:pt x="47" y="187"/>
                    </a:lnTo>
                    <a:lnTo>
                      <a:pt x="26" y="199"/>
                    </a:lnTo>
                    <a:lnTo>
                      <a:pt x="26" y="222"/>
                    </a:lnTo>
                    <a:lnTo>
                      <a:pt x="47" y="233"/>
                    </a:lnTo>
                    <a:close/>
                    <a:moveTo>
                      <a:pt x="100" y="233"/>
                    </a:moveTo>
                    <a:lnTo>
                      <a:pt x="120" y="222"/>
                    </a:lnTo>
                    <a:lnTo>
                      <a:pt x="120" y="199"/>
                    </a:lnTo>
                    <a:lnTo>
                      <a:pt x="100" y="187"/>
                    </a:lnTo>
                    <a:lnTo>
                      <a:pt x="81" y="199"/>
                    </a:lnTo>
                    <a:lnTo>
                      <a:pt x="81" y="222"/>
                    </a:lnTo>
                    <a:lnTo>
                      <a:pt x="100" y="233"/>
                    </a:lnTo>
                    <a:close/>
                    <a:moveTo>
                      <a:pt x="155" y="233"/>
                    </a:moveTo>
                    <a:lnTo>
                      <a:pt x="175" y="222"/>
                    </a:lnTo>
                    <a:lnTo>
                      <a:pt x="175" y="199"/>
                    </a:lnTo>
                    <a:lnTo>
                      <a:pt x="155" y="187"/>
                    </a:lnTo>
                    <a:lnTo>
                      <a:pt x="135" y="199"/>
                    </a:lnTo>
                    <a:lnTo>
                      <a:pt x="135" y="222"/>
                    </a:lnTo>
                    <a:lnTo>
                      <a:pt x="155" y="233"/>
                    </a:lnTo>
                    <a:close/>
                    <a:moveTo>
                      <a:pt x="208" y="233"/>
                    </a:moveTo>
                    <a:lnTo>
                      <a:pt x="230" y="222"/>
                    </a:lnTo>
                    <a:lnTo>
                      <a:pt x="230" y="199"/>
                    </a:lnTo>
                    <a:lnTo>
                      <a:pt x="208" y="187"/>
                    </a:lnTo>
                    <a:lnTo>
                      <a:pt x="188" y="199"/>
                    </a:lnTo>
                    <a:lnTo>
                      <a:pt x="188" y="222"/>
                    </a:lnTo>
                    <a:lnTo>
                      <a:pt x="208" y="233"/>
                    </a:lnTo>
                    <a:close/>
                    <a:moveTo>
                      <a:pt x="263" y="233"/>
                    </a:moveTo>
                    <a:lnTo>
                      <a:pt x="283" y="222"/>
                    </a:lnTo>
                    <a:lnTo>
                      <a:pt x="283" y="199"/>
                    </a:lnTo>
                    <a:lnTo>
                      <a:pt x="263" y="187"/>
                    </a:lnTo>
                    <a:lnTo>
                      <a:pt x="243" y="199"/>
                    </a:lnTo>
                    <a:lnTo>
                      <a:pt x="243" y="222"/>
                    </a:lnTo>
                    <a:lnTo>
                      <a:pt x="263" y="233"/>
                    </a:lnTo>
                    <a:close/>
                    <a:moveTo>
                      <a:pt x="318" y="233"/>
                    </a:moveTo>
                    <a:lnTo>
                      <a:pt x="338" y="222"/>
                    </a:lnTo>
                    <a:lnTo>
                      <a:pt x="338" y="199"/>
                    </a:lnTo>
                    <a:lnTo>
                      <a:pt x="318" y="187"/>
                    </a:lnTo>
                    <a:lnTo>
                      <a:pt x="298" y="199"/>
                    </a:lnTo>
                    <a:lnTo>
                      <a:pt x="298" y="222"/>
                    </a:lnTo>
                    <a:lnTo>
                      <a:pt x="318" y="233"/>
                    </a:lnTo>
                    <a:close/>
                    <a:moveTo>
                      <a:pt x="20" y="187"/>
                    </a:moveTo>
                    <a:lnTo>
                      <a:pt x="39" y="175"/>
                    </a:lnTo>
                    <a:lnTo>
                      <a:pt x="39" y="153"/>
                    </a:lnTo>
                    <a:lnTo>
                      <a:pt x="20" y="140"/>
                    </a:lnTo>
                    <a:lnTo>
                      <a:pt x="0" y="153"/>
                    </a:lnTo>
                    <a:lnTo>
                      <a:pt x="0" y="175"/>
                    </a:lnTo>
                    <a:lnTo>
                      <a:pt x="20" y="187"/>
                    </a:lnTo>
                    <a:close/>
                    <a:moveTo>
                      <a:pt x="74" y="187"/>
                    </a:moveTo>
                    <a:lnTo>
                      <a:pt x="94" y="175"/>
                    </a:lnTo>
                    <a:lnTo>
                      <a:pt x="94" y="153"/>
                    </a:lnTo>
                    <a:lnTo>
                      <a:pt x="74" y="140"/>
                    </a:lnTo>
                    <a:lnTo>
                      <a:pt x="55" y="153"/>
                    </a:lnTo>
                    <a:lnTo>
                      <a:pt x="55" y="175"/>
                    </a:lnTo>
                    <a:lnTo>
                      <a:pt x="74" y="187"/>
                    </a:lnTo>
                    <a:close/>
                    <a:moveTo>
                      <a:pt x="129" y="187"/>
                    </a:moveTo>
                    <a:lnTo>
                      <a:pt x="149" y="175"/>
                    </a:lnTo>
                    <a:lnTo>
                      <a:pt x="149" y="153"/>
                    </a:lnTo>
                    <a:lnTo>
                      <a:pt x="129" y="140"/>
                    </a:lnTo>
                    <a:lnTo>
                      <a:pt x="108" y="153"/>
                    </a:lnTo>
                    <a:lnTo>
                      <a:pt x="108" y="175"/>
                    </a:lnTo>
                    <a:lnTo>
                      <a:pt x="129" y="187"/>
                    </a:lnTo>
                    <a:close/>
                    <a:moveTo>
                      <a:pt x="181" y="187"/>
                    </a:moveTo>
                    <a:lnTo>
                      <a:pt x="202" y="175"/>
                    </a:lnTo>
                    <a:lnTo>
                      <a:pt x="202" y="153"/>
                    </a:lnTo>
                    <a:lnTo>
                      <a:pt x="181" y="140"/>
                    </a:lnTo>
                    <a:lnTo>
                      <a:pt x="161" y="153"/>
                    </a:lnTo>
                    <a:lnTo>
                      <a:pt x="161" y="175"/>
                    </a:lnTo>
                    <a:lnTo>
                      <a:pt x="181" y="187"/>
                    </a:lnTo>
                    <a:close/>
                    <a:moveTo>
                      <a:pt x="237" y="187"/>
                    </a:moveTo>
                    <a:lnTo>
                      <a:pt x="257" y="175"/>
                    </a:lnTo>
                    <a:lnTo>
                      <a:pt x="257" y="153"/>
                    </a:lnTo>
                    <a:lnTo>
                      <a:pt x="237" y="140"/>
                    </a:lnTo>
                    <a:lnTo>
                      <a:pt x="217" y="153"/>
                    </a:lnTo>
                    <a:lnTo>
                      <a:pt x="217" y="175"/>
                    </a:lnTo>
                    <a:lnTo>
                      <a:pt x="237" y="187"/>
                    </a:lnTo>
                    <a:close/>
                    <a:moveTo>
                      <a:pt x="289" y="187"/>
                    </a:moveTo>
                    <a:lnTo>
                      <a:pt x="312" y="175"/>
                    </a:lnTo>
                    <a:lnTo>
                      <a:pt x="312" y="153"/>
                    </a:lnTo>
                    <a:lnTo>
                      <a:pt x="289" y="140"/>
                    </a:lnTo>
                    <a:lnTo>
                      <a:pt x="269" y="153"/>
                    </a:lnTo>
                    <a:lnTo>
                      <a:pt x="269" y="175"/>
                    </a:lnTo>
                    <a:lnTo>
                      <a:pt x="289" y="187"/>
                    </a:lnTo>
                    <a:close/>
                    <a:moveTo>
                      <a:pt x="47" y="140"/>
                    </a:moveTo>
                    <a:lnTo>
                      <a:pt x="67" y="129"/>
                    </a:lnTo>
                    <a:lnTo>
                      <a:pt x="67" y="105"/>
                    </a:lnTo>
                    <a:lnTo>
                      <a:pt x="47" y="93"/>
                    </a:lnTo>
                    <a:lnTo>
                      <a:pt x="26" y="105"/>
                    </a:lnTo>
                    <a:lnTo>
                      <a:pt x="26" y="129"/>
                    </a:lnTo>
                    <a:lnTo>
                      <a:pt x="47" y="140"/>
                    </a:lnTo>
                    <a:close/>
                    <a:moveTo>
                      <a:pt x="100" y="140"/>
                    </a:moveTo>
                    <a:lnTo>
                      <a:pt x="120" y="129"/>
                    </a:lnTo>
                    <a:lnTo>
                      <a:pt x="120" y="105"/>
                    </a:lnTo>
                    <a:lnTo>
                      <a:pt x="100" y="93"/>
                    </a:lnTo>
                    <a:lnTo>
                      <a:pt x="81" y="105"/>
                    </a:lnTo>
                    <a:lnTo>
                      <a:pt x="81" y="129"/>
                    </a:lnTo>
                    <a:lnTo>
                      <a:pt x="100" y="140"/>
                    </a:lnTo>
                    <a:close/>
                    <a:moveTo>
                      <a:pt x="155" y="140"/>
                    </a:moveTo>
                    <a:lnTo>
                      <a:pt x="175" y="129"/>
                    </a:lnTo>
                    <a:lnTo>
                      <a:pt x="175" y="105"/>
                    </a:lnTo>
                    <a:lnTo>
                      <a:pt x="155" y="93"/>
                    </a:lnTo>
                    <a:lnTo>
                      <a:pt x="135" y="105"/>
                    </a:lnTo>
                    <a:lnTo>
                      <a:pt x="135" y="129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30" y="129"/>
                    </a:lnTo>
                    <a:lnTo>
                      <a:pt x="230" y="105"/>
                    </a:lnTo>
                    <a:lnTo>
                      <a:pt x="208" y="93"/>
                    </a:lnTo>
                    <a:lnTo>
                      <a:pt x="188" y="105"/>
                    </a:lnTo>
                    <a:lnTo>
                      <a:pt x="188" y="129"/>
                    </a:lnTo>
                    <a:lnTo>
                      <a:pt x="208" y="140"/>
                    </a:lnTo>
                    <a:close/>
                    <a:moveTo>
                      <a:pt x="263" y="140"/>
                    </a:moveTo>
                    <a:lnTo>
                      <a:pt x="283" y="129"/>
                    </a:lnTo>
                    <a:lnTo>
                      <a:pt x="283" y="105"/>
                    </a:lnTo>
                    <a:lnTo>
                      <a:pt x="263" y="93"/>
                    </a:lnTo>
                    <a:lnTo>
                      <a:pt x="243" y="105"/>
                    </a:lnTo>
                    <a:lnTo>
                      <a:pt x="243" y="129"/>
                    </a:lnTo>
                    <a:lnTo>
                      <a:pt x="263" y="140"/>
                    </a:lnTo>
                    <a:close/>
                    <a:moveTo>
                      <a:pt x="318" y="140"/>
                    </a:moveTo>
                    <a:lnTo>
                      <a:pt x="338" y="129"/>
                    </a:lnTo>
                    <a:lnTo>
                      <a:pt x="338" y="105"/>
                    </a:lnTo>
                    <a:lnTo>
                      <a:pt x="318" y="93"/>
                    </a:lnTo>
                    <a:lnTo>
                      <a:pt x="298" y="105"/>
                    </a:lnTo>
                    <a:lnTo>
                      <a:pt x="298" y="129"/>
                    </a:lnTo>
                    <a:lnTo>
                      <a:pt x="318" y="140"/>
                    </a:lnTo>
                    <a:close/>
                    <a:moveTo>
                      <a:pt x="20" y="93"/>
                    </a:moveTo>
                    <a:lnTo>
                      <a:pt x="39" y="82"/>
                    </a:lnTo>
                    <a:lnTo>
                      <a:pt x="39" y="58"/>
                    </a:lnTo>
                    <a:lnTo>
                      <a:pt x="20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0" y="93"/>
                    </a:lnTo>
                    <a:close/>
                    <a:moveTo>
                      <a:pt x="74" y="93"/>
                    </a:moveTo>
                    <a:lnTo>
                      <a:pt x="94" y="82"/>
                    </a:lnTo>
                    <a:lnTo>
                      <a:pt x="94" y="58"/>
                    </a:lnTo>
                    <a:lnTo>
                      <a:pt x="74" y="47"/>
                    </a:lnTo>
                    <a:lnTo>
                      <a:pt x="55" y="58"/>
                    </a:lnTo>
                    <a:lnTo>
                      <a:pt x="55" y="82"/>
                    </a:lnTo>
                    <a:lnTo>
                      <a:pt x="74" y="93"/>
                    </a:lnTo>
                    <a:close/>
                    <a:moveTo>
                      <a:pt x="129" y="93"/>
                    </a:moveTo>
                    <a:lnTo>
                      <a:pt x="149" y="82"/>
                    </a:lnTo>
                    <a:lnTo>
                      <a:pt x="149" y="58"/>
                    </a:lnTo>
                    <a:lnTo>
                      <a:pt x="129" y="47"/>
                    </a:lnTo>
                    <a:lnTo>
                      <a:pt x="108" y="58"/>
                    </a:lnTo>
                    <a:lnTo>
                      <a:pt x="108" y="82"/>
                    </a:lnTo>
                    <a:lnTo>
                      <a:pt x="129" y="93"/>
                    </a:lnTo>
                    <a:close/>
                    <a:moveTo>
                      <a:pt x="181" y="93"/>
                    </a:moveTo>
                    <a:lnTo>
                      <a:pt x="202" y="82"/>
                    </a:lnTo>
                    <a:lnTo>
                      <a:pt x="202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3"/>
                    </a:lnTo>
                    <a:close/>
                    <a:moveTo>
                      <a:pt x="237" y="93"/>
                    </a:moveTo>
                    <a:lnTo>
                      <a:pt x="257" y="82"/>
                    </a:lnTo>
                    <a:lnTo>
                      <a:pt x="257" y="58"/>
                    </a:lnTo>
                    <a:lnTo>
                      <a:pt x="237" y="47"/>
                    </a:lnTo>
                    <a:lnTo>
                      <a:pt x="217" y="58"/>
                    </a:lnTo>
                    <a:lnTo>
                      <a:pt x="217" y="82"/>
                    </a:lnTo>
                    <a:lnTo>
                      <a:pt x="237" y="93"/>
                    </a:lnTo>
                    <a:close/>
                    <a:moveTo>
                      <a:pt x="289" y="93"/>
                    </a:moveTo>
                    <a:lnTo>
                      <a:pt x="312" y="82"/>
                    </a:lnTo>
                    <a:lnTo>
                      <a:pt x="312" y="58"/>
                    </a:lnTo>
                    <a:lnTo>
                      <a:pt x="289" y="47"/>
                    </a:lnTo>
                    <a:lnTo>
                      <a:pt x="269" y="58"/>
                    </a:lnTo>
                    <a:lnTo>
                      <a:pt x="269" y="82"/>
                    </a:lnTo>
                    <a:lnTo>
                      <a:pt x="289" y="93"/>
                    </a:lnTo>
                    <a:close/>
                    <a:moveTo>
                      <a:pt x="47" y="47"/>
                    </a:moveTo>
                    <a:lnTo>
                      <a:pt x="67" y="35"/>
                    </a:lnTo>
                    <a:lnTo>
                      <a:pt x="67" y="11"/>
                    </a:lnTo>
                    <a:lnTo>
                      <a:pt x="47" y="0"/>
                    </a:lnTo>
                    <a:lnTo>
                      <a:pt x="26" y="11"/>
                    </a:lnTo>
                    <a:lnTo>
                      <a:pt x="26" y="35"/>
                    </a:lnTo>
                    <a:lnTo>
                      <a:pt x="47" y="47"/>
                    </a:lnTo>
                    <a:close/>
                    <a:moveTo>
                      <a:pt x="100" y="47"/>
                    </a:moveTo>
                    <a:lnTo>
                      <a:pt x="120" y="35"/>
                    </a:lnTo>
                    <a:lnTo>
                      <a:pt x="120" y="11"/>
                    </a:lnTo>
                    <a:lnTo>
                      <a:pt x="100" y="0"/>
                    </a:lnTo>
                    <a:lnTo>
                      <a:pt x="81" y="11"/>
                    </a:lnTo>
                    <a:lnTo>
                      <a:pt x="81" y="35"/>
                    </a:lnTo>
                    <a:lnTo>
                      <a:pt x="100" y="47"/>
                    </a:lnTo>
                    <a:close/>
                    <a:moveTo>
                      <a:pt x="155" y="47"/>
                    </a:moveTo>
                    <a:lnTo>
                      <a:pt x="175" y="35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5" y="11"/>
                    </a:lnTo>
                    <a:lnTo>
                      <a:pt x="135" y="35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30" y="35"/>
                    </a:lnTo>
                    <a:lnTo>
                      <a:pt x="230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5"/>
                    </a:lnTo>
                    <a:lnTo>
                      <a:pt x="208" y="47"/>
                    </a:lnTo>
                    <a:close/>
                    <a:moveTo>
                      <a:pt x="263" y="47"/>
                    </a:moveTo>
                    <a:lnTo>
                      <a:pt x="283" y="35"/>
                    </a:lnTo>
                    <a:lnTo>
                      <a:pt x="283" y="11"/>
                    </a:lnTo>
                    <a:lnTo>
                      <a:pt x="263" y="0"/>
                    </a:lnTo>
                    <a:lnTo>
                      <a:pt x="243" y="11"/>
                    </a:lnTo>
                    <a:lnTo>
                      <a:pt x="243" y="35"/>
                    </a:lnTo>
                    <a:lnTo>
                      <a:pt x="263" y="47"/>
                    </a:lnTo>
                    <a:close/>
                    <a:moveTo>
                      <a:pt x="47" y="422"/>
                    </a:moveTo>
                    <a:lnTo>
                      <a:pt x="67" y="408"/>
                    </a:lnTo>
                    <a:lnTo>
                      <a:pt x="67" y="386"/>
                    </a:lnTo>
                    <a:lnTo>
                      <a:pt x="47" y="375"/>
                    </a:lnTo>
                    <a:lnTo>
                      <a:pt x="26" y="386"/>
                    </a:lnTo>
                    <a:lnTo>
                      <a:pt x="26" y="408"/>
                    </a:lnTo>
                    <a:lnTo>
                      <a:pt x="47" y="422"/>
                    </a:lnTo>
                    <a:close/>
                    <a:moveTo>
                      <a:pt x="100" y="422"/>
                    </a:moveTo>
                    <a:lnTo>
                      <a:pt x="120" y="408"/>
                    </a:lnTo>
                    <a:lnTo>
                      <a:pt x="120" y="386"/>
                    </a:lnTo>
                    <a:lnTo>
                      <a:pt x="100" y="375"/>
                    </a:lnTo>
                    <a:lnTo>
                      <a:pt x="81" y="386"/>
                    </a:lnTo>
                    <a:lnTo>
                      <a:pt x="81" y="408"/>
                    </a:lnTo>
                    <a:lnTo>
                      <a:pt x="100" y="422"/>
                    </a:lnTo>
                    <a:close/>
                    <a:moveTo>
                      <a:pt x="155" y="422"/>
                    </a:moveTo>
                    <a:lnTo>
                      <a:pt x="175" y="408"/>
                    </a:lnTo>
                    <a:lnTo>
                      <a:pt x="175" y="386"/>
                    </a:lnTo>
                    <a:lnTo>
                      <a:pt x="155" y="375"/>
                    </a:lnTo>
                    <a:lnTo>
                      <a:pt x="135" y="386"/>
                    </a:lnTo>
                    <a:lnTo>
                      <a:pt x="135" y="408"/>
                    </a:lnTo>
                    <a:lnTo>
                      <a:pt x="155" y="422"/>
                    </a:lnTo>
                    <a:close/>
                    <a:moveTo>
                      <a:pt x="208" y="422"/>
                    </a:moveTo>
                    <a:lnTo>
                      <a:pt x="230" y="408"/>
                    </a:lnTo>
                    <a:lnTo>
                      <a:pt x="230" y="386"/>
                    </a:lnTo>
                    <a:lnTo>
                      <a:pt x="208" y="375"/>
                    </a:lnTo>
                    <a:lnTo>
                      <a:pt x="188" y="386"/>
                    </a:lnTo>
                    <a:lnTo>
                      <a:pt x="188" y="408"/>
                    </a:lnTo>
                    <a:lnTo>
                      <a:pt x="208" y="422"/>
                    </a:lnTo>
                    <a:close/>
                    <a:moveTo>
                      <a:pt x="263" y="422"/>
                    </a:moveTo>
                    <a:lnTo>
                      <a:pt x="283" y="408"/>
                    </a:lnTo>
                    <a:lnTo>
                      <a:pt x="283" y="386"/>
                    </a:lnTo>
                    <a:lnTo>
                      <a:pt x="263" y="375"/>
                    </a:lnTo>
                    <a:lnTo>
                      <a:pt x="243" y="386"/>
                    </a:lnTo>
                    <a:lnTo>
                      <a:pt x="243" y="408"/>
                    </a:lnTo>
                    <a:lnTo>
                      <a:pt x="263" y="422"/>
                    </a:lnTo>
                    <a:close/>
                    <a:moveTo>
                      <a:pt x="318" y="422"/>
                    </a:moveTo>
                    <a:lnTo>
                      <a:pt x="338" y="408"/>
                    </a:lnTo>
                    <a:lnTo>
                      <a:pt x="338" y="386"/>
                    </a:lnTo>
                    <a:lnTo>
                      <a:pt x="318" y="375"/>
                    </a:lnTo>
                    <a:lnTo>
                      <a:pt x="298" y="386"/>
                    </a:lnTo>
                    <a:lnTo>
                      <a:pt x="298" y="408"/>
                    </a:lnTo>
                    <a:lnTo>
                      <a:pt x="318" y="422"/>
                    </a:lnTo>
                    <a:close/>
                    <a:moveTo>
                      <a:pt x="20" y="375"/>
                    </a:moveTo>
                    <a:lnTo>
                      <a:pt x="39" y="361"/>
                    </a:lnTo>
                    <a:lnTo>
                      <a:pt x="39" y="339"/>
                    </a:lnTo>
                    <a:lnTo>
                      <a:pt x="20" y="328"/>
                    </a:lnTo>
                    <a:lnTo>
                      <a:pt x="0" y="339"/>
                    </a:lnTo>
                    <a:lnTo>
                      <a:pt x="0" y="361"/>
                    </a:lnTo>
                    <a:lnTo>
                      <a:pt x="20" y="375"/>
                    </a:lnTo>
                    <a:close/>
                    <a:moveTo>
                      <a:pt x="74" y="375"/>
                    </a:moveTo>
                    <a:lnTo>
                      <a:pt x="94" y="361"/>
                    </a:lnTo>
                    <a:lnTo>
                      <a:pt x="94" y="339"/>
                    </a:lnTo>
                    <a:lnTo>
                      <a:pt x="74" y="328"/>
                    </a:lnTo>
                    <a:lnTo>
                      <a:pt x="55" y="339"/>
                    </a:lnTo>
                    <a:lnTo>
                      <a:pt x="55" y="361"/>
                    </a:lnTo>
                    <a:lnTo>
                      <a:pt x="74" y="375"/>
                    </a:lnTo>
                    <a:close/>
                    <a:moveTo>
                      <a:pt x="129" y="375"/>
                    </a:moveTo>
                    <a:lnTo>
                      <a:pt x="149" y="361"/>
                    </a:lnTo>
                    <a:lnTo>
                      <a:pt x="149" y="339"/>
                    </a:lnTo>
                    <a:lnTo>
                      <a:pt x="129" y="328"/>
                    </a:lnTo>
                    <a:lnTo>
                      <a:pt x="108" y="339"/>
                    </a:lnTo>
                    <a:lnTo>
                      <a:pt x="108" y="361"/>
                    </a:lnTo>
                    <a:lnTo>
                      <a:pt x="129" y="375"/>
                    </a:lnTo>
                    <a:close/>
                    <a:moveTo>
                      <a:pt x="181" y="375"/>
                    </a:moveTo>
                    <a:lnTo>
                      <a:pt x="202" y="361"/>
                    </a:lnTo>
                    <a:lnTo>
                      <a:pt x="202" y="339"/>
                    </a:lnTo>
                    <a:lnTo>
                      <a:pt x="181" y="328"/>
                    </a:lnTo>
                    <a:lnTo>
                      <a:pt x="161" y="339"/>
                    </a:lnTo>
                    <a:lnTo>
                      <a:pt x="161" y="361"/>
                    </a:lnTo>
                    <a:lnTo>
                      <a:pt x="181" y="375"/>
                    </a:lnTo>
                    <a:close/>
                    <a:moveTo>
                      <a:pt x="237" y="375"/>
                    </a:moveTo>
                    <a:lnTo>
                      <a:pt x="257" y="361"/>
                    </a:lnTo>
                    <a:lnTo>
                      <a:pt x="257" y="339"/>
                    </a:lnTo>
                    <a:lnTo>
                      <a:pt x="237" y="328"/>
                    </a:lnTo>
                    <a:lnTo>
                      <a:pt x="217" y="339"/>
                    </a:lnTo>
                    <a:lnTo>
                      <a:pt x="217" y="361"/>
                    </a:lnTo>
                    <a:lnTo>
                      <a:pt x="237" y="375"/>
                    </a:lnTo>
                    <a:close/>
                    <a:moveTo>
                      <a:pt x="289" y="375"/>
                    </a:moveTo>
                    <a:lnTo>
                      <a:pt x="312" y="361"/>
                    </a:lnTo>
                    <a:lnTo>
                      <a:pt x="312" y="339"/>
                    </a:lnTo>
                    <a:lnTo>
                      <a:pt x="289" y="328"/>
                    </a:lnTo>
                    <a:lnTo>
                      <a:pt x="269" y="339"/>
                    </a:lnTo>
                    <a:lnTo>
                      <a:pt x="269" y="361"/>
                    </a:lnTo>
                    <a:lnTo>
                      <a:pt x="289" y="375"/>
                    </a:lnTo>
                    <a:close/>
                    <a:moveTo>
                      <a:pt x="47" y="326"/>
                    </a:moveTo>
                    <a:lnTo>
                      <a:pt x="67" y="314"/>
                    </a:lnTo>
                    <a:lnTo>
                      <a:pt x="67" y="293"/>
                    </a:lnTo>
                    <a:lnTo>
                      <a:pt x="47" y="281"/>
                    </a:lnTo>
                    <a:lnTo>
                      <a:pt x="26" y="293"/>
                    </a:lnTo>
                    <a:lnTo>
                      <a:pt x="26" y="314"/>
                    </a:lnTo>
                    <a:lnTo>
                      <a:pt x="47" y="326"/>
                    </a:lnTo>
                    <a:close/>
                    <a:moveTo>
                      <a:pt x="100" y="326"/>
                    </a:moveTo>
                    <a:lnTo>
                      <a:pt x="120" y="314"/>
                    </a:lnTo>
                    <a:lnTo>
                      <a:pt x="120" y="293"/>
                    </a:lnTo>
                    <a:lnTo>
                      <a:pt x="100" y="281"/>
                    </a:lnTo>
                    <a:lnTo>
                      <a:pt x="81" y="293"/>
                    </a:lnTo>
                    <a:lnTo>
                      <a:pt x="81" y="314"/>
                    </a:lnTo>
                    <a:lnTo>
                      <a:pt x="100" y="326"/>
                    </a:lnTo>
                    <a:close/>
                    <a:moveTo>
                      <a:pt x="155" y="326"/>
                    </a:moveTo>
                    <a:lnTo>
                      <a:pt x="175" y="314"/>
                    </a:lnTo>
                    <a:lnTo>
                      <a:pt x="175" y="293"/>
                    </a:lnTo>
                    <a:lnTo>
                      <a:pt x="155" y="281"/>
                    </a:lnTo>
                    <a:lnTo>
                      <a:pt x="135" y="293"/>
                    </a:lnTo>
                    <a:lnTo>
                      <a:pt x="135" y="314"/>
                    </a:lnTo>
                    <a:lnTo>
                      <a:pt x="155" y="326"/>
                    </a:lnTo>
                    <a:close/>
                    <a:moveTo>
                      <a:pt x="208" y="326"/>
                    </a:moveTo>
                    <a:lnTo>
                      <a:pt x="230" y="314"/>
                    </a:lnTo>
                    <a:lnTo>
                      <a:pt x="230" y="293"/>
                    </a:lnTo>
                    <a:lnTo>
                      <a:pt x="208" y="281"/>
                    </a:lnTo>
                    <a:lnTo>
                      <a:pt x="188" y="293"/>
                    </a:lnTo>
                    <a:lnTo>
                      <a:pt x="188" y="314"/>
                    </a:lnTo>
                    <a:lnTo>
                      <a:pt x="208" y="326"/>
                    </a:lnTo>
                    <a:close/>
                    <a:moveTo>
                      <a:pt x="263" y="326"/>
                    </a:moveTo>
                    <a:lnTo>
                      <a:pt x="283" y="314"/>
                    </a:lnTo>
                    <a:lnTo>
                      <a:pt x="283" y="293"/>
                    </a:lnTo>
                    <a:lnTo>
                      <a:pt x="263" y="281"/>
                    </a:lnTo>
                    <a:lnTo>
                      <a:pt x="243" y="293"/>
                    </a:lnTo>
                    <a:lnTo>
                      <a:pt x="243" y="314"/>
                    </a:lnTo>
                    <a:lnTo>
                      <a:pt x="263" y="326"/>
                    </a:lnTo>
                    <a:close/>
                    <a:moveTo>
                      <a:pt x="318" y="326"/>
                    </a:moveTo>
                    <a:lnTo>
                      <a:pt x="338" y="314"/>
                    </a:lnTo>
                    <a:lnTo>
                      <a:pt x="338" y="293"/>
                    </a:lnTo>
                    <a:lnTo>
                      <a:pt x="318" y="281"/>
                    </a:lnTo>
                    <a:lnTo>
                      <a:pt x="298" y="293"/>
                    </a:lnTo>
                    <a:lnTo>
                      <a:pt x="298" y="314"/>
                    </a:lnTo>
                    <a:lnTo>
                      <a:pt x="318" y="326"/>
                    </a:lnTo>
                    <a:close/>
                    <a:moveTo>
                      <a:pt x="371" y="514"/>
                    </a:moveTo>
                    <a:lnTo>
                      <a:pt x="392" y="504"/>
                    </a:lnTo>
                    <a:lnTo>
                      <a:pt x="392" y="478"/>
                    </a:lnTo>
                    <a:lnTo>
                      <a:pt x="371" y="468"/>
                    </a:lnTo>
                    <a:lnTo>
                      <a:pt x="351" y="478"/>
                    </a:lnTo>
                    <a:lnTo>
                      <a:pt x="351" y="504"/>
                    </a:lnTo>
                    <a:lnTo>
                      <a:pt x="371" y="514"/>
                    </a:lnTo>
                    <a:close/>
                    <a:moveTo>
                      <a:pt x="426" y="514"/>
                    </a:moveTo>
                    <a:lnTo>
                      <a:pt x="445" y="504"/>
                    </a:lnTo>
                    <a:lnTo>
                      <a:pt x="445" y="478"/>
                    </a:lnTo>
                    <a:lnTo>
                      <a:pt x="426" y="468"/>
                    </a:lnTo>
                    <a:lnTo>
                      <a:pt x="406" y="478"/>
                    </a:lnTo>
                    <a:lnTo>
                      <a:pt x="406" y="504"/>
                    </a:lnTo>
                    <a:lnTo>
                      <a:pt x="426" y="514"/>
                    </a:lnTo>
                    <a:close/>
                    <a:moveTo>
                      <a:pt x="480" y="514"/>
                    </a:moveTo>
                    <a:lnTo>
                      <a:pt x="500" y="504"/>
                    </a:lnTo>
                    <a:lnTo>
                      <a:pt x="500" y="478"/>
                    </a:lnTo>
                    <a:lnTo>
                      <a:pt x="480" y="468"/>
                    </a:lnTo>
                    <a:lnTo>
                      <a:pt x="458" y="478"/>
                    </a:lnTo>
                    <a:lnTo>
                      <a:pt x="458" y="504"/>
                    </a:lnTo>
                    <a:lnTo>
                      <a:pt x="480" y="514"/>
                    </a:lnTo>
                    <a:close/>
                    <a:moveTo>
                      <a:pt x="532" y="514"/>
                    </a:moveTo>
                    <a:lnTo>
                      <a:pt x="552" y="504"/>
                    </a:lnTo>
                    <a:lnTo>
                      <a:pt x="552" y="478"/>
                    </a:lnTo>
                    <a:lnTo>
                      <a:pt x="532" y="468"/>
                    </a:lnTo>
                    <a:lnTo>
                      <a:pt x="514" y="478"/>
                    </a:lnTo>
                    <a:lnTo>
                      <a:pt x="514" y="504"/>
                    </a:lnTo>
                    <a:lnTo>
                      <a:pt x="532" y="514"/>
                    </a:lnTo>
                    <a:close/>
                    <a:moveTo>
                      <a:pt x="586" y="514"/>
                    </a:moveTo>
                    <a:lnTo>
                      <a:pt x="608" y="504"/>
                    </a:lnTo>
                    <a:lnTo>
                      <a:pt x="608" y="478"/>
                    </a:lnTo>
                    <a:lnTo>
                      <a:pt x="586" y="468"/>
                    </a:lnTo>
                    <a:lnTo>
                      <a:pt x="566" y="478"/>
                    </a:lnTo>
                    <a:lnTo>
                      <a:pt x="566" y="504"/>
                    </a:lnTo>
                    <a:lnTo>
                      <a:pt x="586" y="514"/>
                    </a:lnTo>
                    <a:close/>
                    <a:moveTo>
                      <a:pt x="452" y="468"/>
                    </a:moveTo>
                    <a:lnTo>
                      <a:pt x="473" y="454"/>
                    </a:lnTo>
                    <a:lnTo>
                      <a:pt x="473" y="432"/>
                    </a:lnTo>
                    <a:lnTo>
                      <a:pt x="452" y="422"/>
                    </a:lnTo>
                    <a:lnTo>
                      <a:pt x="432" y="432"/>
                    </a:lnTo>
                    <a:lnTo>
                      <a:pt x="432" y="454"/>
                    </a:lnTo>
                    <a:lnTo>
                      <a:pt x="452" y="468"/>
                    </a:lnTo>
                    <a:close/>
                    <a:moveTo>
                      <a:pt x="505" y="468"/>
                    </a:moveTo>
                    <a:lnTo>
                      <a:pt x="526" y="454"/>
                    </a:lnTo>
                    <a:lnTo>
                      <a:pt x="526" y="432"/>
                    </a:lnTo>
                    <a:lnTo>
                      <a:pt x="505" y="422"/>
                    </a:lnTo>
                    <a:lnTo>
                      <a:pt x="485" y="432"/>
                    </a:lnTo>
                    <a:lnTo>
                      <a:pt x="485" y="454"/>
                    </a:lnTo>
                    <a:lnTo>
                      <a:pt x="505" y="468"/>
                    </a:lnTo>
                    <a:close/>
                    <a:moveTo>
                      <a:pt x="560" y="468"/>
                    </a:moveTo>
                    <a:lnTo>
                      <a:pt x="579" y="454"/>
                    </a:lnTo>
                    <a:lnTo>
                      <a:pt x="579" y="432"/>
                    </a:lnTo>
                    <a:lnTo>
                      <a:pt x="560" y="422"/>
                    </a:lnTo>
                    <a:lnTo>
                      <a:pt x="540" y="432"/>
                    </a:lnTo>
                    <a:lnTo>
                      <a:pt x="540" y="454"/>
                    </a:lnTo>
                    <a:lnTo>
                      <a:pt x="560" y="468"/>
                    </a:lnTo>
                    <a:close/>
                    <a:moveTo>
                      <a:pt x="344" y="468"/>
                    </a:moveTo>
                    <a:lnTo>
                      <a:pt x="364" y="454"/>
                    </a:lnTo>
                    <a:lnTo>
                      <a:pt x="364" y="432"/>
                    </a:lnTo>
                    <a:lnTo>
                      <a:pt x="344" y="422"/>
                    </a:lnTo>
                    <a:lnTo>
                      <a:pt x="324" y="432"/>
                    </a:lnTo>
                    <a:lnTo>
                      <a:pt x="324" y="454"/>
                    </a:lnTo>
                    <a:lnTo>
                      <a:pt x="344" y="468"/>
                    </a:lnTo>
                    <a:close/>
                    <a:moveTo>
                      <a:pt x="400" y="468"/>
                    </a:moveTo>
                    <a:lnTo>
                      <a:pt x="418" y="454"/>
                    </a:lnTo>
                    <a:lnTo>
                      <a:pt x="418" y="432"/>
                    </a:lnTo>
                    <a:lnTo>
                      <a:pt x="400" y="422"/>
                    </a:lnTo>
                    <a:lnTo>
                      <a:pt x="379" y="432"/>
                    </a:lnTo>
                    <a:lnTo>
                      <a:pt x="379" y="454"/>
                    </a:lnTo>
                    <a:lnTo>
                      <a:pt x="400" y="468"/>
                    </a:lnTo>
                    <a:close/>
                    <a:moveTo>
                      <a:pt x="560" y="279"/>
                    </a:moveTo>
                    <a:lnTo>
                      <a:pt x="579" y="269"/>
                    </a:lnTo>
                    <a:lnTo>
                      <a:pt x="579" y="246"/>
                    </a:lnTo>
                    <a:lnTo>
                      <a:pt x="560" y="233"/>
                    </a:lnTo>
                    <a:lnTo>
                      <a:pt x="540" y="246"/>
                    </a:lnTo>
                    <a:lnTo>
                      <a:pt x="540" y="269"/>
                    </a:lnTo>
                    <a:lnTo>
                      <a:pt x="560" y="279"/>
                    </a:lnTo>
                    <a:close/>
                    <a:moveTo>
                      <a:pt x="344" y="279"/>
                    </a:moveTo>
                    <a:lnTo>
                      <a:pt x="364" y="269"/>
                    </a:lnTo>
                    <a:lnTo>
                      <a:pt x="364" y="246"/>
                    </a:lnTo>
                    <a:lnTo>
                      <a:pt x="344" y="233"/>
                    </a:lnTo>
                    <a:lnTo>
                      <a:pt x="324" y="246"/>
                    </a:lnTo>
                    <a:lnTo>
                      <a:pt x="324" y="269"/>
                    </a:lnTo>
                    <a:lnTo>
                      <a:pt x="344" y="279"/>
                    </a:lnTo>
                    <a:close/>
                    <a:moveTo>
                      <a:pt x="400" y="279"/>
                    </a:moveTo>
                    <a:lnTo>
                      <a:pt x="418" y="269"/>
                    </a:lnTo>
                    <a:lnTo>
                      <a:pt x="418" y="246"/>
                    </a:lnTo>
                    <a:lnTo>
                      <a:pt x="400" y="233"/>
                    </a:lnTo>
                    <a:lnTo>
                      <a:pt x="379" y="246"/>
                    </a:lnTo>
                    <a:lnTo>
                      <a:pt x="379" y="269"/>
                    </a:lnTo>
                    <a:lnTo>
                      <a:pt x="400" y="279"/>
                    </a:lnTo>
                    <a:close/>
                    <a:moveTo>
                      <a:pt x="452" y="279"/>
                    </a:moveTo>
                    <a:lnTo>
                      <a:pt x="473" y="269"/>
                    </a:lnTo>
                    <a:lnTo>
                      <a:pt x="473" y="246"/>
                    </a:lnTo>
                    <a:lnTo>
                      <a:pt x="452" y="233"/>
                    </a:lnTo>
                    <a:lnTo>
                      <a:pt x="432" y="246"/>
                    </a:lnTo>
                    <a:lnTo>
                      <a:pt x="432" y="269"/>
                    </a:lnTo>
                    <a:lnTo>
                      <a:pt x="452" y="279"/>
                    </a:lnTo>
                    <a:close/>
                    <a:moveTo>
                      <a:pt x="505" y="279"/>
                    </a:moveTo>
                    <a:lnTo>
                      <a:pt x="526" y="269"/>
                    </a:lnTo>
                    <a:lnTo>
                      <a:pt x="526" y="246"/>
                    </a:lnTo>
                    <a:lnTo>
                      <a:pt x="505" y="233"/>
                    </a:lnTo>
                    <a:lnTo>
                      <a:pt x="485" y="246"/>
                    </a:lnTo>
                    <a:lnTo>
                      <a:pt x="485" y="269"/>
                    </a:lnTo>
                    <a:lnTo>
                      <a:pt x="505" y="279"/>
                    </a:lnTo>
                    <a:close/>
                    <a:moveTo>
                      <a:pt x="371" y="233"/>
                    </a:moveTo>
                    <a:lnTo>
                      <a:pt x="392" y="222"/>
                    </a:lnTo>
                    <a:lnTo>
                      <a:pt x="392" y="199"/>
                    </a:lnTo>
                    <a:lnTo>
                      <a:pt x="371" y="187"/>
                    </a:lnTo>
                    <a:lnTo>
                      <a:pt x="351" y="199"/>
                    </a:lnTo>
                    <a:lnTo>
                      <a:pt x="351" y="222"/>
                    </a:lnTo>
                    <a:lnTo>
                      <a:pt x="371" y="233"/>
                    </a:lnTo>
                    <a:close/>
                    <a:moveTo>
                      <a:pt x="426" y="233"/>
                    </a:moveTo>
                    <a:lnTo>
                      <a:pt x="445" y="222"/>
                    </a:lnTo>
                    <a:lnTo>
                      <a:pt x="445" y="199"/>
                    </a:lnTo>
                    <a:lnTo>
                      <a:pt x="426" y="187"/>
                    </a:lnTo>
                    <a:lnTo>
                      <a:pt x="406" y="199"/>
                    </a:lnTo>
                    <a:lnTo>
                      <a:pt x="406" y="222"/>
                    </a:lnTo>
                    <a:lnTo>
                      <a:pt x="426" y="233"/>
                    </a:lnTo>
                    <a:close/>
                    <a:moveTo>
                      <a:pt x="480" y="233"/>
                    </a:moveTo>
                    <a:lnTo>
                      <a:pt x="500" y="222"/>
                    </a:lnTo>
                    <a:lnTo>
                      <a:pt x="500" y="199"/>
                    </a:lnTo>
                    <a:lnTo>
                      <a:pt x="480" y="187"/>
                    </a:lnTo>
                    <a:lnTo>
                      <a:pt x="458" y="199"/>
                    </a:lnTo>
                    <a:lnTo>
                      <a:pt x="458" y="222"/>
                    </a:lnTo>
                    <a:lnTo>
                      <a:pt x="480" y="233"/>
                    </a:lnTo>
                    <a:close/>
                    <a:moveTo>
                      <a:pt x="532" y="233"/>
                    </a:moveTo>
                    <a:lnTo>
                      <a:pt x="552" y="222"/>
                    </a:lnTo>
                    <a:lnTo>
                      <a:pt x="552" y="199"/>
                    </a:lnTo>
                    <a:lnTo>
                      <a:pt x="532" y="187"/>
                    </a:lnTo>
                    <a:lnTo>
                      <a:pt x="514" y="199"/>
                    </a:lnTo>
                    <a:lnTo>
                      <a:pt x="514" y="222"/>
                    </a:lnTo>
                    <a:lnTo>
                      <a:pt x="532" y="233"/>
                    </a:lnTo>
                    <a:close/>
                    <a:moveTo>
                      <a:pt x="344" y="187"/>
                    </a:moveTo>
                    <a:lnTo>
                      <a:pt x="364" y="175"/>
                    </a:lnTo>
                    <a:lnTo>
                      <a:pt x="364" y="153"/>
                    </a:lnTo>
                    <a:lnTo>
                      <a:pt x="344" y="140"/>
                    </a:lnTo>
                    <a:lnTo>
                      <a:pt x="324" y="153"/>
                    </a:lnTo>
                    <a:lnTo>
                      <a:pt x="324" y="175"/>
                    </a:lnTo>
                    <a:lnTo>
                      <a:pt x="344" y="187"/>
                    </a:lnTo>
                    <a:close/>
                    <a:moveTo>
                      <a:pt x="400" y="187"/>
                    </a:moveTo>
                    <a:lnTo>
                      <a:pt x="418" y="175"/>
                    </a:lnTo>
                    <a:lnTo>
                      <a:pt x="418" y="153"/>
                    </a:lnTo>
                    <a:lnTo>
                      <a:pt x="400" y="140"/>
                    </a:lnTo>
                    <a:lnTo>
                      <a:pt x="379" y="153"/>
                    </a:lnTo>
                    <a:lnTo>
                      <a:pt x="379" y="175"/>
                    </a:lnTo>
                    <a:lnTo>
                      <a:pt x="400" y="187"/>
                    </a:lnTo>
                    <a:close/>
                    <a:moveTo>
                      <a:pt x="452" y="187"/>
                    </a:moveTo>
                    <a:lnTo>
                      <a:pt x="473" y="175"/>
                    </a:lnTo>
                    <a:lnTo>
                      <a:pt x="473" y="153"/>
                    </a:lnTo>
                    <a:lnTo>
                      <a:pt x="452" y="140"/>
                    </a:lnTo>
                    <a:lnTo>
                      <a:pt x="432" y="153"/>
                    </a:lnTo>
                    <a:lnTo>
                      <a:pt x="432" y="175"/>
                    </a:lnTo>
                    <a:lnTo>
                      <a:pt x="452" y="187"/>
                    </a:lnTo>
                    <a:close/>
                    <a:moveTo>
                      <a:pt x="505" y="187"/>
                    </a:moveTo>
                    <a:lnTo>
                      <a:pt x="526" y="175"/>
                    </a:lnTo>
                    <a:lnTo>
                      <a:pt x="526" y="153"/>
                    </a:lnTo>
                    <a:lnTo>
                      <a:pt x="505" y="140"/>
                    </a:lnTo>
                    <a:lnTo>
                      <a:pt x="485" y="153"/>
                    </a:lnTo>
                    <a:lnTo>
                      <a:pt x="485" y="175"/>
                    </a:lnTo>
                    <a:lnTo>
                      <a:pt x="505" y="187"/>
                    </a:lnTo>
                    <a:close/>
                    <a:moveTo>
                      <a:pt x="560" y="187"/>
                    </a:moveTo>
                    <a:lnTo>
                      <a:pt x="579" y="175"/>
                    </a:lnTo>
                    <a:lnTo>
                      <a:pt x="579" y="153"/>
                    </a:lnTo>
                    <a:lnTo>
                      <a:pt x="560" y="140"/>
                    </a:lnTo>
                    <a:lnTo>
                      <a:pt x="540" y="153"/>
                    </a:lnTo>
                    <a:lnTo>
                      <a:pt x="540" y="175"/>
                    </a:lnTo>
                    <a:lnTo>
                      <a:pt x="560" y="187"/>
                    </a:lnTo>
                    <a:close/>
                    <a:moveTo>
                      <a:pt x="480" y="422"/>
                    </a:moveTo>
                    <a:lnTo>
                      <a:pt x="500" y="408"/>
                    </a:lnTo>
                    <a:lnTo>
                      <a:pt x="500" y="386"/>
                    </a:lnTo>
                    <a:lnTo>
                      <a:pt x="480" y="375"/>
                    </a:lnTo>
                    <a:lnTo>
                      <a:pt x="458" y="386"/>
                    </a:lnTo>
                    <a:lnTo>
                      <a:pt x="458" y="408"/>
                    </a:lnTo>
                    <a:lnTo>
                      <a:pt x="480" y="422"/>
                    </a:lnTo>
                    <a:close/>
                    <a:moveTo>
                      <a:pt x="532" y="422"/>
                    </a:moveTo>
                    <a:lnTo>
                      <a:pt x="552" y="408"/>
                    </a:lnTo>
                    <a:lnTo>
                      <a:pt x="552" y="386"/>
                    </a:lnTo>
                    <a:lnTo>
                      <a:pt x="532" y="375"/>
                    </a:lnTo>
                    <a:lnTo>
                      <a:pt x="514" y="386"/>
                    </a:lnTo>
                    <a:lnTo>
                      <a:pt x="514" y="408"/>
                    </a:lnTo>
                    <a:lnTo>
                      <a:pt x="532" y="422"/>
                    </a:lnTo>
                    <a:close/>
                    <a:moveTo>
                      <a:pt x="586" y="422"/>
                    </a:moveTo>
                    <a:lnTo>
                      <a:pt x="608" y="408"/>
                    </a:lnTo>
                    <a:lnTo>
                      <a:pt x="608" y="386"/>
                    </a:lnTo>
                    <a:lnTo>
                      <a:pt x="586" y="375"/>
                    </a:lnTo>
                    <a:lnTo>
                      <a:pt x="566" y="386"/>
                    </a:lnTo>
                    <a:lnTo>
                      <a:pt x="566" y="408"/>
                    </a:lnTo>
                    <a:lnTo>
                      <a:pt x="586" y="422"/>
                    </a:lnTo>
                    <a:close/>
                    <a:moveTo>
                      <a:pt x="371" y="422"/>
                    </a:moveTo>
                    <a:lnTo>
                      <a:pt x="392" y="408"/>
                    </a:lnTo>
                    <a:lnTo>
                      <a:pt x="392" y="386"/>
                    </a:lnTo>
                    <a:lnTo>
                      <a:pt x="371" y="375"/>
                    </a:lnTo>
                    <a:lnTo>
                      <a:pt x="351" y="386"/>
                    </a:lnTo>
                    <a:lnTo>
                      <a:pt x="351" y="408"/>
                    </a:lnTo>
                    <a:lnTo>
                      <a:pt x="371" y="422"/>
                    </a:lnTo>
                    <a:close/>
                    <a:moveTo>
                      <a:pt x="426" y="422"/>
                    </a:moveTo>
                    <a:lnTo>
                      <a:pt x="445" y="408"/>
                    </a:lnTo>
                    <a:lnTo>
                      <a:pt x="445" y="386"/>
                    </a:lnTo>
                    <a:lnTo>
                      <a:pt x="426" y="375"/>
                    </a:lnTo>
                    <a:lnTo>
                      <a:pt x="406" y="386"/>
                    </a:lnTo>
                    <a:lnTo>
                      <a:pt x="406" y="408"/>
                    </a:lnTo>
                    <a:lnTo>
                      <a:pt x="426" y="422"/>
                    </a:lnTo>
                    <a:close/>
                    <a:moveTo>
                      <a:pt x="400" y="375"/>
                    </a:moveTo>
                    <a:lnTo>
                      <a:pt x="418" y="361"/>
                    </a:lnTo>
                    <a:lnTo>
                      <a:pt x="418" y="339"/>
                    </a:lnTo>
                    <a:lnTo>
                      <a:pt x="400" y="328"/>
                    </a:lnTo>
                    <a:lnTo>
                      <a:pt x="379" y="339"/>
                    </a:lnTo>
                    <a:lnTo>
                      <a:pt x="379" y="361"/>
                    </a:lnTo>
                    <a:lnTo>
                      <a:pt x="400" y="375"/>
                    </a:lnTo>
                    <a:close/>
                    <a:moveTo>
                      <a:pt x="452" y="375"/>
                    </a:moveTo>
                    <a:lnTo>
                      <a:pt x="473" y="361"/>
                    </a:lnTo>
                    <a:lnTo>
                      <a:pt x="473" y="339"/>
                    </a:lnTo>
                    <a:lnTo>
                      <a:pt x="452" y="328"/>
                    </a:lnTo>
                    <a:lnTo>
                      <a:pt x="432" y="339"/>
                    </a:lnTo>
                    <a:lnTo>
                      <a:pt x="432" y="361"/>
                    </a:lnTo>
                    <a:lnTo>
                      <a:pt x="452" y="375"/>
                    </a:lnTo>
                    <a:close/>
                    <a:moveTo>
                      <a:pt x="505" y="375"/>
                    </a:moveTo>
                    <a:lnTo>
                      <a:pt x="526" y="361"/>
                    </a:lnTo>
                    <a:lnTo>
                      <a:pt x="526" y="339"/>
                    </a:lnTo>
                    <a:lnTo>
                      <a:pt x="505" y="328"/>
                    </a:lnTo>
                    <a:lnTo>
                      <a:pt x="485" y="339"/>
                    </a:lnTo>
                    <a:lnTo>
                      <a:pt x="485" y="361"/>
                    </a:lnTo>
                    <a:lnTo>
                      <a:pt x="505" y="375"/>
                    </a:lnTo>
                    <a:close/>
                    <a:moveTo>
                      <a:pt x="560" y="375"/>
                    </a:moveTo>
                    <a:lnTo>
                      <a:pt x="579" y="361"/>
                    </a:lnTo>
                    <a:lnTo>
                      <a:pt x="579" y="339"/>
                    </a:lnTo>
                    <a:lnTo>
                      <a:pt x="560" y="328"/>
                    </a:lnTo>
                    <a:lnTo>
                      <a:pt x="540" y="339"/>
                    </a:lnTo>
                    <a:lnTo>
                      <a:pt x="540" y="361"/>
                    </a:lnTo>
                    <a:lnTo>
                      <a:pt x="560" y="375"/>
                    </a:lnTo>
                    <a:close/>
                    <a:moveTo>
                      <a:pt x="344" y="375"/>
                    </a:moveTo>
                    <a:lnTo>
                      <a:pt x="364" y="361"/>
                    </a:lnTo>
                    <a:lnTo>
                      <a:pt x="364" y="339"/>
                    </a:lnTo>
                    <a:lnTo>
                      <a:pt x="344" y="328"/>
                    </a:lnTo>
                    <a:lnTo>
                      <a:pt x="324" y="339"/>
                    </a:lnTo>
                    <a:lnTo>
                      <a:pt x="324" y="361"/>
                    </a:lnTo>
                    <a:lnTo>
                      <a:pt x="344" y="375"/>
                    </a:lnTo>
                    <a:close/>
                    <a:moveTo>
                      <a:pt x="371" y="326"/>
                    </a:moveTo>
                    <a:lnTo>
                      <a:pt x="392" y="314"/>
                    </a:lnTo>
                    <a:lnTo>
                      <a:pt x="392" y="293"/>
                    </a:lnTo>
                    <a:lnTo>
                      <a:pt x="371" y="281"/>
                    </a:lnTo>
                    <a:lnTo>
                      <a:pt x="351" y="293"/>
                    </a:lnTo>
                    <a:lnTo>
                      <a:pt x="351" y="314"/>
                    </a:lnTo>
                    <a:lnTo>
                      <a:pt x="371" y="326"/>
                    </a:lnTo>
                    <a:close/>
                    <a:moveTo>
                      <a:pt x="426" y="326"/>
                    </a:moveTo>
                    <a:lnTo>
                      <a:pt x="445" y="314"/>
                    </a:lnTo>
                    <a:lnTo>
                      <a:pt x="445" y="293"/>
                    </a:lnTo>
                    <a:lnTo>
                      <a:pt x="426" y="281"/>
                    </a:lnTo>
                    <a:lnTo>
                      <a:pt x="406" y="293"/>
                    </a:lnTo>
                    <a:lnTo>
                      <a:pt x="406" y="314"/>
                    </a:lnTo>
                    <a:lnTo>
                      <a:pt x="426" y="326"/>
                    </a:lnTo>
                    <a:close/>
                    <a:moveTo>
                      <a:pt x="480" y="326"/>
                    </a:moveTo>
                    <a:lnTo>
                      <a:pt x="500" y="314"/>
                    </a:lnTo>
                    <a:lnTo>
                      <a:pt x="500" y="293"/>
                    </a:lnTo>
                    <a:lnTo>
                      <a:pt x="480" y="281"/>
                    </a:lnTo>
                    <a:lnTo>
                      <a:pt x="458" y="293"/>
                    </a:lnTo>
                    <a:lnTo>
                      <a:pt x="458" y="314"/>
                    </a:lnTo>
                    <a:lnTo>
                      <a:pt x="480" y="326"/>
                    </a:lnTo>
                    <a:close/>
                    <a:moveTo>
                      <a:pt x="532" y="326"/>
                    </a:moveTo>
                    <a:lnTo>
                      <a:pt x="552" y="314"/>
                    </a:lnTo>
                    <a:lnTo>
                      <a:pt x="552" y="293"/>
                    </a:lnTo>
                    <a:lnTo>
                      <a:pt x="532" y="281"/>
                    </a:lnTo>
                    <a:lnTo>
                      <a:pt x="514" y="293"/>
                    </a:lnTo>
                    <a:lnTo>
                      <a:pt x="514" y="314"/>
                    </a:lnTo>
                    <a:lnTo>
                      <a:pt x="532" y="326"/>
                    </a:lnTo>
                    <a:close/>
                    <a:moveTo>
                      <a:pt x="480" y="140"/>
                    </a:moveTo>
                    <a:lnTo>
                      <a:pt x="500" y="129"/>
                    </a:lnTo>
                    <a:lnTo>
                      <a:pt x="500" y="105"/>
                    </a:lnTo>
                    <a:lnTo>
                      <a:pt x="480" y="93"/>
                    </a:lnTo>
                    <a:lnTo>
                      <a:pt x="458" y="105"/>
                    </a:lnTo>
                    <a:lnTo>
                      <a:pt x="458" y="129"/>
                    </a:lnTo>
                    <a:lnTo>
                      <a:pt x="480" y="140"/>
                    </a:lnTo>
                    <a:close/>
                    <a:moveTo>
                      <a:pt x="532" y="140"/>
                    </a:moveTo>
                    <a:lnTo>
                      <a:pt x="552" y="129"/>
                    </a:lnTo>
                    <a:lnTo>
                      <a:pt x="552" y="105"/>
                    </a:lnTo>
                    <a:lnTo>
                      <a:pt x="532" y="93"/>
                    </a:lnTo>
                    <a:lnTo>
                      <a:pt x="514" y="105"/>
                    </a:lnTo>
                    <a:lnTo>
                      <a:pt x="514" y="129"/>
                    </a:lnTo>
                    <a:lnTo>
                      <a:pt x="532" y="140"/>
                    </a:lnTo>
                    <a:close/>
                    <a:moveTo>
                      <a:pt x="505" y="93"/>
                    </a:moveTo>
                    <a:lnTo>
                      <a:pt x="526" y="82"/>
                    </a:lnTo>
                    <a:lnTo>
                      <a:pt x="526" y="58"/>
                    </a:lnTo>
                    <a:lnTo>
                      <a:pt x="505" y="47"/>
                    </a:lnTo>
                    <a:lnTo>
                      <a:pt x="485" y="58"/>
                    </a:lnTo>
                    <a:lnTo>
                      <a:pt x="485" y="82"/>
                    </a:lnTo>
                    <a:lnTo>
                      <a:pt x="505" y="93"/>
                    </a:lnTo>
                    <a:close/>
                    <a:moveTo>
                      <a:pt x="560" y="93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60" y="47"/>
                    </a:lnTo>
                    <a:lnTo>
                      <a:pt x="540" y="58"/>
                    </a:lnTo>
                    <a:lnTo>
                      <a:pt x="540" y="82"/>
                    </a:lnTo>
                    <a:lnTo>
                      <a:pt x="560" y="93"/>
                    </a:lnTo>
                    <a:close/>
                    <a:moveTo>
                      <a:pt x="371" y="140"/>
                    </a:moveTo>
                    <a:lnTo>
                      <a:pt x="392" y="129"/>
                    </a:lnTo>
                    <a:lnTo>
                      <a:pt x="392" y="105"/>
                    </a:lnTo>
                    <a:lnTo>
                      <a:pt x="371" y="93"/>
                    </a:lnTo>
                    <a:lnTo>
                      <a:pt x="351" y="105"/>
                    </a:lnTo>
                    <a:lnTo>
                      <a:pt x="351" y="129"/>
                    </a:lnTo>
                    <a:lnTo>
                      <a:pt x="371" y="140"/>
                    </a:lnTo>
                    <a:close/>
                    <a:moveTo>
                      <a:pt x="426" y="140"/>
                    </a:moveTo>
                    <a:lnTo>
                      <a:pt x="445" y="129"/>
                    </a:lnTo>
                    <a:lnTo>
                      <a:pt x="445" y="105"/>
                    </a:lnTo>
                    <a:lnTo>
                      <a:pt x="426" y="93"/>
                    </a:lnTo>
                    <a:lnTo>
                      <a:pt x="406" y="105"/>
                    </a:lnTo>
                    <a:lnTo>
                      <a:pt x="406" y="129"/>
                    </a:lnTo>
                    <a:lnTo>
                      <a:pt x="426" y="140"/>
                    </a:lnTo>
                    <a:close/>
                    <a:moveTo>
                      <a:pt x="748" y="607"/>
                    </a:moveTo>
                    <a:lnTo>
                      <a:pt x="768" y="596"/>
                    </a:lnTo>
                    <a:lnTo>
                      <a:pt x="768" y="572"/>
                    </a:lnTo>
                    <a:lnTo>
                      <a:pt x="748" y="560"/>
                    </a:lnTo>
                    <a:lnTo>
                      <a:pt x="728" y="572"/>
                    </a:lnTo>
                    <a:lnTo>
                      <a:pt x="728" y="596"/>
                    </a:lnTo>
                    <a:lnTo>
                      <a:pt x="748" y="607"/>
                    </a:lnTo>
                    <a:close/>
                    <a:moveTo>
                      <a:pt x="803" y="607"/>
                    </a:moveTo>
                    <a:lnTo>
                      <a:pt x="823" y="596"/>
                    </a:lnTo>
                    <a:lnTo>
                      <a:pt x="823" y="572"/>
                    </a:lnTo>
                    <a:lnTo>
                      <a:pt x="803" y="560"/>
                    </a:lnTo>
                    <a:lnTo>
                      <a:pt x="783" y="572"/>
                    </a:lnTo>
                    <a:lnTo>
                      <a:pt x="783" y="596"/>
                    </a:lnTo>
                    <a:lnTo>
                      <a:pt x="803" y="607"/>
                    </a:lnTo>
                    <a:close/>
                    <a:moveTo>
                      <a:pt x="858" y="607"/>
                    </a:moveTo>
                    <a:lnTo>
                      <a:pt x="878" y="596"/>
                    </a:lnTo>
                    <a:lnTo>
                      <a:pt x="878" y="572"/>
                    </a:lnTo>
                    <a:lnTo>
                      <a:pt x="858" y="560"/>
                    </a:lnTo>
                    <a:lnTo>
                      <a:pt x="836" y="572"/>
                    </a:lnTo>
                    <a:lnTo>
                      <a:pt x="836" y="596"/>
                    </a:lnTo>
                    <a:lnTo>
                      <a:pt x="858" y="607"/>
                    </a:lnTo>
                    <a:close/>
                    <a:moveTo>
                      <a:pt x="911" y="607"/>
                    </a:moveTo>
                    <a:lnTo>
                      <a:pt x="931" y="596"/>
                    </a:lnTo>
                    <a:lnTo>
                      <a:pt x="931" y="572"/>
                    </a:lnTo>
                    <a:lnTo>
                      <a:pt x="911" y="560"/>
                    </a:lnTo>
                    <a:lnTo>
                      <a:pt x="891" y="572"/>
                    </a:lnTo>
                    <a:lnTo>
                      <a:pt x="891" y="596"/>
                    </a:lnTo>
                    <a:lnTo>
                      <a:pt x="911" y="607"/>
                    </a:lnTo>
                    <a:close/>
                    <a:moveTo>
                      <a:pt x="532" y="607"/>
                    </a:moveTo>
                    <a:lnTo>
                      <a:pt x="552" y="596"/>
                    </a:lnTo>
                    <a:lnTo>
                      <a:pt x="552" y="572"/>
                    </a:lnTo>
                    <a:lnTo>
                      <a:pt x="532" y="560"/>
                    </a:lnTo>
                    <a:lnTo>
                      <a:pt x="514" y="572"/>
                    </a:lnTo>
                    <a:lnTo>
                      <a:pt x="514" y="596"/>
                    </a:lnTo>
                    <a:lnTo>
                      <a:pt x="532" y="607"/>
                    </a:lnTo>
                    <a:close/>
                    <a:moveTo>
                      <a:pt x="586" y="607"/>
                    </a:moveTo>
                    <a:lnTo>
                      <a:pt x="608" y="596"/>
                    </a:lnTo>
                    <a:lnTo>
                      <a:pt x="608" y="572"/>
                    </a:lnTo>
                    <a:lnTo>
                      <a:pt x="586" y="560"/>
                    </a:lnTo>
                    <a:lnTo>
                      <a:pt x="566" y="572"/>
                    </a:lnTo>
                    <a:lnTo>
                      <a:pt x="566" y="596"/>
                    </a:lnTo>
                    <a:lnTo>
                      <a:pt x="586" y="607"/>
                    </a:lnTo>
                    <a:close/>
                    <a:moveTo>
                      <a:pt x="640" y="607"/>
                    </a:moveTo>
                    <a:lnTo>
                      <a:pt x="660" y="596"/>
                    </a:lnTo>
                    <a:lnTo>
                      <a:pt x="660" y="572"/>
                    </a:lnTo>
                    <a:lnTo>
                      <a:pt x="640" y="560"/>
                    </a:lnTo>
                    <a:lnTo>
                      <a:pt x="621" y="572"/>
                    </a:lnTo>
                    <a:lnTo>
                      <a:pt x="621" y="596"/>
                    </a:lnTo>
                    <a:lnTo>
                      <a:pt x="640" y="607"/>
                    </a:lnTo>
                    <a:close/>
                    <a:moveTo>
                      <a:pt x="695" y="607"/>
                    </a:moveTo>
                    <a:lnTo>
                      <a:pt x="715" y="596"/>
                    </a:lnTo>
                    <a:lnTo>
                      <a:pt x="715" y="572"/>
                    </a:lnTo>
                    <a:lnTo>
                      <a:pt x="695" y="560"/>
                    </a:lnTo>
                    <a:lnTo>
                      <a:pt x="674" y="572"/>
                    </a:lnTo>
                    <a:lnTo>
                      <a:pt x="674" y="596"/>
                    </a:lnTo>
                    <a:lnTo>
                      <a:pt x="695" y="607"/>
                    </a:lnTo>
                    <a:close/>
                    <a:moveTo>
                      <a:pt x="966" y="607"/>
                    </a:moveTo>
                    <a:lnTo>
                      <a:pt x="985" y="596"/>
                    </a:lnTo>
                    <a:lnTo>
                      <a:pt x="985" y="572"/>
                    </a:lnTo>
                    <a:lnTo>
                      <a:pt x="966" y="560"/>
                    </a:lnTo>
                    <a:lnTo>
                      <a:pt x="946" y="572"/>
                    </a:lnTo>
                    <a:lnTo>
                      <a:pt x="946" y="596"/>
                    </a:lnTo>
                    <a:lnTo>
                      <a:pt x="966" y="607"/>
                    </a:lnTo>
                    <a:close/>
                    <a:moveTo>
                      <a:pt x="1018" y="607"/>
                    </a:moveTo>
                    <a:lnTo>
                      <a:pt x="1040" y="596"/>
                    </a:lnTo>
                    <a:lnTo>
                      <a:pt x="1040" y="572"/>
                    </a:lnTo>
                    <a:lnTo>
                      <a:pt x="1018" y="560"/>
                    </a:lnTo>
                    <a:lnTo>
                      <a:pt x="998" y="572"/>
                    </a:lnTo>
                    <a:lnTo>
                      <a:pt x="998" y="596"/>
                    </a:lnTo>
                    <a:lnTo>
                      <a:pt x="1018" y="607"/>
                    </a:lnTo>
                    <a:close/>
                    <a:moveTo>
                      <a:pt x="1072" y="607"/>
                    </a:moveTo>
                    <a:lnTo>
                      <a:pt x="1092" y="596"/>
                    </a:lnTo>
                    <a:lnTo>
                      <a:pt x="1092" y="572"/>
                    </a:lnTo>
                    <a:lnTo>
                      <a:pt x="1072" y="560"/>
                    </a:lnTo>
                    <a:lnTo>
                      <a:pt x="1054" y="572"/>
                    </a:lnTo>
                    <a:lnTo>
                      <a:pt x="1054" y="596"/>
                    </a:lnTo>
                    <a:lnTo>
                      <a:pt x="1072" y="607"/>
                    </a:lnTo>
                    <a:close/>
                    <a:moveTo>
                      <a:pt x="884" y="560"/>
                    </a:moveTo>
                    <a:lnTo>
                      <a:pt x="904" y="550"/>
                    </a:lnTo>
                    <a:lnTo>
                      <a:pt x="904" y="525"/>
                    </a:lnTo>
                    <a:lnTo>
                      <a:pt x="884" y="514"/>
                    </a:lnTo>
                    <a:lnTo>
                      <a:pt x="864" y="525"/>
                    </a:lnTo>
                    <a:lnTo>
                      <a:pt x="864" y="550"/>
                    </a:lnTo>
                    <a:lnTo>
                      <a:pt x="884" y="560"/>
                    </a:lnTo>
                    <a:close/>
                    <a:moveTo>
                      <a:pt x="940" y="560"/>
                    </a:moveTo>
                    <a:lnTo>
                      <a:pt x="958" y="550"/>
                    </a:lnTo>
                    <a:lnTo>
                      <a:pt x="958" y="525"/>
                    </a:lnTo>
                    <a:lnTo>
                      <a:pt x="940" y="514"/>
                    </a:lnTo>
                    <a:lnTo>
                      <a:pt x="917" y="525"/>
                    </a:lnTo>
                    <a:lnTo>
                      <a:pt x="917" y="550"/>
                    </a:lnTo>
                    <a:lnTo>
                      <a:pt x="940" y="560"/>
                    </a:lnTo>
                    <a:close/>
                    <a:moveTo>
                      <a:pt x="992" y="560"/>
                    </a:moveTo>
                    <a:lnTo>
                      <a:pt x="1011" y="550"/>
                    </a:lnTo>
                    <a:lnTo>
                      <a:pt x="1011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50"/>
                    </a:lnTo>
                    <a:lnTo>
                      <a:pt x="992" y="560"/>
                    </a:lnTo>
                    <a:close/>
                    <a:moveTo>
                      <a:pt x="1046" y="560"/>
                    </a:moveTo>
                    <a:lnTo>
                      <a:pt x="1066" y="550"/>
                    </a:lnTo>
                    <a:lnTo>
                      <a:pt x="1066" y="525"/>
                    </a:lnTo>
                    <a:lnTo>
                      <a:pt x="1046" y="514"/>
                    </a:lnTo>
                    <a:lnTo>
                      <a:pt x="1027" y="525"/>
                    </a:lnTo>
                    <a:lnTo>
                      <a:pt x="1027" y="550"/>
                    </a:lnTo>
                    <a:lnTo>
                      <a:pt x="1046" y="560"/>
                    </a:lnTo>
                    <a:close/>
                    <a:moveTo>
                      <a:pt x="666" y="560"/>
                    </a:moveTo>
                    <a:lnTo>
                      <a:pt x="689" y="550"/>
                    </a:lnTo>
                    <a:lnTo>
                      <a:pt x="689" y="525"/>
                    </a:lnTo>
                    <a:lnTo>
                      <a:pt x="666" y="514"/>
                    </a:lnTo>
                    <a:lnTo>
                      <a:pt x="648" y="525"/>
                    </a:lnTo>
                    <a:lnTo>
                      <a:pt x="648" y="550"/>
                    </a:lnTo>
                    <a:lnTo>
                      <a:pt x="666" y="560"/>
                    </a:lnTo>
                    <a:close/>
                    <a:moveTo>
                      <a:pt x="722" y="560"/>
                    </a:moveTo>
                    <a:lnTo>
                      <a:pt x="742" y="550"/>
                    </a:lnTo>
                    <a:lnTo>
                      <a:pt x="742" y="525"/>
                    </a:lnTo>
                    <a:lnTo>
                      <a:pt x="722" y="514"/>
                    </a:lnTo>
                    <a:lnTo>
                      <a:pt x="701" y="525"/>
                    </a:lnTo>
                    <a:lnTo>
                      <a:pt x="701" y="550"/>
                    </a:lnTo>
                    <a:lnTo>
                      <a:pt x="722" y="560"/>
                    </a:lnTo>
                    <a:close/>
                    <a:moveTo>
                      <a:pt x="777" y="560"/>
                    </a:moveTo>
                    <a:lnTo>
                      <a:pt x="797" y="550"/>
                    </a:lnTo>
                    <a:lnTo>
                      <a:pt x="797" y="525"/>
                    </a:lnTo>
                    <a:lnTo>
                      <a:pt x="777" y="514"/>
                    </a:lnTo>
                    <a:lnTo>
                      <a:pt x="754" y="525"/>
                    </a:lnTo>
                    <a:lnTo>
                      <a:pt x="754" y="550"/>
                    </a:lnTo>
                    <a:lnTo>
                      <a:pt x="777" y="560"/>
                    </a:lnTo>
                    <a:close/>
                    <a:moveTo>
                      <a:pt x="829" y="560"/>
                    </a:moveTo>
                    <a:lnTo>
                      <a:pt x="849" y="550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50"/>
                    </a:lnTo>
                    <a:lnTo>
                      <a:pt x="829" y="560"/>
                    </a:lnTo>
                    <a:close/>
                    <a:moveTo>
                      <a:pt x="505" y="560"/>
                    </a:moveTo>
                    <a:lnTo>
                      <a:pt x="526" y="550"/>
                    </a:lnTo>
                    <a:lnTo>
                      <a:pt x="526" y="525"/>
                    </a:lnTo>
                    <a:lnTo>
                      <a:pt x="505" y="514"/>
                    </a:lnTo>
                    <a:lnTo>
                      <a:pt x="485" y="525"/>
                    </a:lnTo>
                    <a:lnTo>
                      <a:pt x="485" y="550"/>
                    </a:lnTo>
                    <a:lnTo>
                      <a:pt x="505" y="560"/>
                    </a:lnTo>
                    <a:close/>
                    <a:moveTo>
                      <a:pt x="560" y="560"/>
                    </a:moveTo>
                    <a:lnTo>
                      <a:pt x="579" y="550"/>
                    </a:lnTo>
                    <a:lnTo>
                      <a:pt x="579" y="525"/>
                    </a:lnTo>
                    <a:lnTo>
                      <a:pt x="560" y="514"/>
                    </a:lnTo>
                    <a:lnTo>
                      <a:pt x="540" y="525"/>
                    </a:lnTo>
                    <a:lnTo>
                      <a:pt x="540" y="550"/>
                    </a:lnTo>
                    <a:lnTo>
                      <a:pt x="560" y="560"/>
                    </a:lnTo>
                    <a:close/>
                    <a:moveTo>
                      <a:pt x="614" y="560"/>
                    </a:moveTo>
                    <a:lnTo>
                      <a:pt x="634" y="550"/>
                    </a:lnTo>
                    <a:lnTo>
                      <a:pt x="634" y="525"/>
                    </a:lnTo>
                    <a:lnTo>
                      <a:pt x="614" y="514"/>
                    </a:lnTo>
                    <a:lnTo>
                      <a:pt x="592" y="525"/>
                    </a:lnTo>
                    <a:lnTo>
                      <a:pt x="592" y="550"/>
                    </a:lnTo>
                    <a:lnTo>
                      <a:pt x="614" y="560"/>
                    </a:lnTo>
                    <a:close/>
                    <a:moveTo>
                      <a:pt x="911" y="514"/>
                    </a:moveTo>
                    <a:lnTo>
                      <a:pt x="931" y="504"/>
                    </a:lnTo>
                    <a:lnTo>
                      <a:pt x="931" y="478"/>
                    </a:lnTo>
                    <a:lnTo>
                      <a:pt x="911" y="468"/>
                    </a:lnTo>
                    <a:lnTo>
                      <a:pt x="891" y="478"/>
                    </a:lnTo>
                    <a:lnTo>
                      <a:pt x="891" y="504"/>
                    </a:lnTo>
                    <a:lnTo>
                      <a:pt x="911" y="514"/>
                    </a:lnTo>
                    <a:close/>
                    <a:moveTo>
                      <a:pt x="966" y="514"/>
                    </a:moveTo>
                    <a:lnTo>
                      <a:pt x="985" y="504"/>
                    </a:lnTo>
                    <a:lnTo>
                      <a:pt x="985" y="478"/>
                    </a:lnTo>
                    <a:lnTo>
                      <a:pt x="966" y="468"/>
                    </a:lnTo>
                    <a:lnTo>
                      <a:pt x="946" y="478"/>
                    </a:lnTo>
                    <a:lnTo>
                      <a:pt x="946" y="504"/>
                    </a:lnTo>
                    <a:lnTo>
                      <a:pt x="966" y="514"/>
                    </a:lnTo>
                    <a:close/>
                    <a:moveTo>
                      <a:pt x="1018" y="514"/>
                    </a:moveTo>
                    <a:lnTo>
                      <a:pt x="1040" y="504"/>
                    </a:lnTo>
                    <a:lnTo>
                      <a:pt x="1040" y="478"/>
                    </a:lnTo>
                    <a:lnTo>
                      <a:pt x="1018" y="468"/>
                    </a:lnTo>
                    <a:lnTo>
                      <a:pt x="998" y="478"/>
                    </a:lnTo>
                    <a:lnTo>
                      <a:pt x="998" y="504"/>
                    </a:lnTo>
                    <a:lnTo>
                      <a:pt x="1018" y="514"/>
                    </a:lnTo>
                    <a:close/>
                    <a:moveTo>
                      <a:pt x="1072" y="514"/>
                    </a:moveTo>
                    <a:lnTo>
                      <a:pt x="1092" y="504"/>
                    </a:lnTo>
                    <a:lnTo>
                      <a:pt x="1092" y="478"/>
                    </a:lnTo>
                    <a:lnTo>
                      <a:pt x="1072" y="468"/>
                    </a:lnTo>
                    <a:lnTo>
                      <a:pt x="1054" y="478"/>
                    </a:lnTo>
                    <a:lnTo>
                      <a:pt x="1054" y="504"/>
                    </a:lnTo>
                    <a:lnTo>
                      <a:pt x="1072" y="514"/>
                    </a:lnTo>
                    <a:close/>
                    <a:moveTo>
                      <a:pt x="695" y="514"/>
                    </a:moveTo>
                    <a:lnTo>
                      <a:pt x="715" y="504"/>
                    </a:lnTo>
                    <a:lnTo>
                      <a:pt x="715" y="478"/>
                    </a:lnTo>
                    <a:lnTo>
                      <a:pt x="695" y="468"/>
                    </a:lnTo>
                    <a:lnTo>
                      <a:pt x="674" y="478"/>
                    </a:lnTo>
                    <a:lnTo>
                      <a:pt x="674" y="504"/>
                    </a:lnTo>
                    <a:lnTo>
                      <a:pt x="695" y="514"/>
                    </a:lnTo>
                    <a:close/>
                    <a:moveTo>
                      <a:pt x="748" y="514"/>
                    </a:moveTo>
                    <a:lnTo>
                      <a:pt x="768" y="504"/>
                    </a:lnTo>
                    <a:lnTo>
                      <a:pt x="768" y="478"/>
                    </a:lnTo>
                    <a:lnTo>
                      <a:pt x="748" y="468"/>
                    </a:lnTo>
                    <a:lnTo>
                      <a:pt x="728" y="478"/>
                    </a:lnTo>
                    <a:lnTo>
                      <a:pt x="728" y="504"/>
                    </a:lnTo>
                    <a:lnTo>
                      <a:pt x="748" y="514"/>
                    </a:lnTo>
                    <a:close/>
                    <a:moveTo>
                      <a:pt x="803" y="514"/>
                    </a:moveTo>
                    <a:lnTo>
                      <a:pt x="823" y="504"/>
                    </a:lnTo>
                    <a:lnTo>
                      <a:pt x="823" y="478"/>
                    </a:lnTo>
                    <a:lnTo>
                      <a:pt x="803" y="468"/>
                    </a:lnTo>
                    <a:lnTo>
                      <a:pt x="783" y="478"/>
                    </a:lnTo>
                    <a:lnTo>
                      <a:pt x="783" y="504"/>
                    </a:lnTo>
                    <a:lnTo>
                      <a:pt x="803" y="514"/>
                    </a:lnTo>
                    <a:close/>
                    <a:moveTo>
                      <a:pt x="858" y="514"/>
                    </a:moveTo>
                    <a:lnTo>
                      <a:pt x="878" y="504"/>
                    </a:lnTo>
                    <a:lnTo>
                      <a:pt x="878" y="478"/>
                    </a:lnTo>
                    <a:lnTo>
                      <a:pt x="858" y="468"/>
                    </a:lnTo>
                    <a:lnTo>
                      <a:pt x="836" y="478"/>
                    </a:lnTo>
                    <a:lnTo>
                      <a:pt x="836" y="504"/>
                    </a:lnTo>
                    <a:lnTo>
                      <a:pt x="858" y="514"/>
                    </a:lnTo>
                    <a:close/>
                    <a:moveTo>
                      <a:pt x="640" y="514"/>
                    </a:moveTo>
                    <a:lnTo>
                      <a:pt x="660" y="504"/>
                    </a:lnTo>
                    <a:lnTo>
                      <a:pt x="660" y="478"/>
                    </a:lnTo>
                    <a:lnTo>
                      <a:pt x="640" y="468"/>
                    </a:lnTo>
                    <a:lnTo>
                      <a:pt x="621" y="478"/>
                    </a:lnTo>
                    <a:lnTo>
                      <a:pt x="621" y="504"/>
                    </a:lnTo>
                    <a:lnTo>
                      <a:pt x="640" y="514"/>
                    </a:lnTo>
                    <a:close/>
                    <a:moveTo>
                      <a:pt x="884" y="468"/>
                    </a:moveTo>
                    <a:lnTo>
                      <a:pt x="904" y="454"/>
                    </a:lnTo>
                    <a:lnTo>
                      <a:pt x="904" y="432"/>
                    </a:lnTo>
                    <a:lnTo>
                      <a:pt x="884" y="422"/>
                    </a:lnTo>
                    <a:lnTo>
                      <a:pt x="864" y="432"/>
                    </a:lnTo>
                    <a:lnTo>
                      <a:pt x="864" y="454"/>
                    </a:lnTo>
                    <a:lnTo>
                      <a:pt x="884" y="468"/>
                    </a:lnTo>
                    <a:close/>
                    <a:moveTo>
                      <a:pt x="940" y="468"/>
                    </a:moveTo>
                    <a:lnTo>
                      <a:pt x="958" y="454"/>
                    </a:lnTo>
                    <a:lnTo>
                      <a:pt x="958" y="432"/>
                    </a:lnTo>
                    <a:lnTo>
                      <a:pt x="940" y="422"/>
                    </a:lnTo>
                    <a:lnTo>
                      <a:pt x="917" y="432"/>
                    </a:lnTo>
                    <a:lnTo>
                      <a:pt x="917" y="454"/>
                    </a:lnTo>
                    <a:lnTo>
                      <a:pt x="940" y="468"/>
                    </a:lnTo>
                    <a:close/>
                    <a:moveTo>
                      <a:pt x="992" y="468"/>
                    </a:moveTo>
                    <a:lnTo>
                      <a:pt x="1011" y="454"/>
                    </a:lnTo>
                    <a:lnTo>
                      <a:pt x="1011" y="432"/>
                    </a:lnTo>
                    <a:lnTo>
                      <a:pt x="992" y="422"/>
                    </a:lnTo>
                    <a:lnTo>
                      <a:pt x="972" y="432"/>
                    </a:lnTo>
                    <a:lnTo>
                      <a:pt x="972" y="454"/>
                    </a:lnTo>
                    <a:lnTo>
                      <a:pt x="992" y="468"/>
                    </a:lnTo>
                    <a:close/>
                    <a:moveTo>
                      <a:pt x="1046" y="468"/>
                    </a:moveTo>
                    <a:lnTo>
                      <a:pt x="1066" y="454"/>
                    </a:lnTo>
                    <a:lnTo>
                      <a:pt x="1066" y="432"/>
                    </a:lnTo>
                    <a:lnTo>
                      <a:pt x="1046" y="422"/>
                    </a:lnTo>
                    <a:lnTo>
                      <a:pt x="1027" y="432"/>
                    </a:lnTo>
                    <a:lnTo>
                      <a:pt x="1027" y="454"/>
                    </a:lnTo>
                    <a:lnTo>
                      <a:pt x="1046" y="468"/>
                    </a:lnTo>
                    <a:close/>
                    <a:moveTo>
                      <a:pt x="666" y="468"/>
                    </a:moveTo>
                    <a:lnTo>
                      <a:pt x="689" y="454"/>
                    </a:lnTo>
                    <a:lnTo>
                      <a:pt x="689" y="432"/>
                    </a:lnTo>
                    <a:lnTo>
                      <a:pt x="666" y="422"/>
                    </a:lnTo>
                    <a:lnTo>
                      <a:pt x="648" y="432"/>
                    </a:lnTo>
                    <a:lnTo>
                      <a:pt x="648" y="454"/>
                    </a:lnTo>
                    <a:lnTo>
                      <a:pt x="666" y="468"/>
                    </a:lnTo>
                    <a:close/>
                    <a:moveTo>
                      <a:pt x="722" y="468"/>
                    </a:moveTo>
                    <a:lnTo>
                      <a:pt x="742" y="454"/>
                    </a:lnTo>
                    <a:lnTo>
                      <a:pt x="742" y="432"/>
                    </a:lnTo>
                    <a:lnTo>
                      <a:pt x="722" y="422"/>
                    </a:lnTo>
                    <a:lnTo>
                      <a:pt x="701" y="432"/>
                    </a:lnTo>
                    <a:lnTo>
                      <a:pt x="701" y="454"/>
                    </a:lnTo>
                    <a:lnTo>
                      <a:pt x="722" y="468"/>
                    </a:lnTo>
                    <a:close/>
                    <a:moveTo>
                      <a:pt x="777" y="468"/>
                    </a:moveTo>
                    <a:lnTo>
                      <a:pt x="797" y="454"/>
                    </a:lnTo>
                    <a:lnTo>
                      <a:pt x="797" y="432"/>
                    </a:lnTo>
                    <a:lnTo>
                      <a:pt x="777" y="422"/>
                    </a:lnTo>
                    <a:lnTo>
                      <a:pt x="754" y="432"/>
                    </a:lnTo>
                    <a:lnTo>
                      <a:pt x="754" y="454"/>
                    </a:lnTo>
                    <a:lnTo>
                      <a:pt x="777" y="468"/>
                    </a:lnTo>
                    <a:close/>
                    <a:moveTo>
                      <a:pt x="829" y="468"/>
                    </a:moveTo>
                    <a:lnTo>
                      <a:pt x="849" y="454"/>
                    </a:lnTo>
                    <a:lnTo>
                      <a:pt x="849" y="432"/>
                    </a:lnTo>
                    <a:lnTo>
                      <a:pt x="829" y="422"/>
                    </a:lnTo>
                    <a:lnTo>
                      <a:pt x="809" y="432"/>
                    </a:lnTo>
                    <a:lnTo>
                      <a:pt x="809" y="454"/>
                    </a:lnTo>
                    <a:lnTo>
                      <a:pt x="829" y="468"/>
                    </a:lnTo>
                    <a:close/>
                    <a:moveTo>
                      <a:pt x="614" y="468"/>
                    </a:moveTo>
                    <a:lnTo>
                      <a:pt x="634" y="454"/>
                    </a:lnTo>
                    <a:lnTo>
                      <a:pt x="634" y="432"/>
                    </a:lnTo>
                    <a:lnTo>
                      <a:pt x="614" y="422"/>
                    </a:lnTo>
                    <a:lnTo>
                      <a:pt x="592" y="432"/>
                    </a:lnTo>
                    <a:lnTo>
                      <a:pt x="592" y="454"/>
                    </a:lnTo>
                    <a:lnTo>
                      <a:pt x="614" y="468"/>
                    </a:lnTo>
                    <a:close/>
                    <a:moveTo>
                      <a:pt x="1046" y="654"/>
                    </a:moveTo>
                    <a:lnTo>
                      <a:pt x="1066" y="642"/>
                    </a:lnTo>
                    <a:lnTo>
                      <a:pt x="1066" y="618"/>
                    </a:lnTo>
                    <a:lnTo>
                      <a:pt x="1046" y="607"/>
                    </a:lnTo>
                    <a:lnTo>
                      <a:pt x="1027" y="618"/>
                    </a:lnTo>
                    <a:lnTo>
                      <a:pt x="1027" y="642"/>
                    </a:lnTo>
                    <a:lnTo>
                      <a:pt x="1046" y="654"/>
                    </a:lnTo>
                    <a:close/>
                    <a:moveTo>
                      <a:pt x="505" y="654"/>
                    </a:moveTo>
                    <a:lnTo>
                      <a:pt x="526" y="642"/>
                    </a:lnTo>
                    <a:lnTo>
                      <a:pt x="526" y="618"/>
                    </a:lnTo>
                    <a:lnTo>
                      <a:pt x="505" y="607"/>
                    </a:lnTo>
                    <a:lnTo>
                      <a:pt x="485" y="618"/>
                    </a:lnTo>
                    <a:lnTo>
                      <a:pt x="485" y="642"/>
                    </a:lnTo>
                    <a:lnTo>
                      <a:pt x="505" y="654"/>
                    </a:lnTo>
                    <a:close/>
                    <a:moveTo>
                      <a:pt x="560" y="654"/>
                    </a:moveTo>
                    <a:lnTo>
                      <a:pt x="579" y="642"/>
                    </a:lnTo>
                    <a:lnTo>
                      <a:pt x="579" y="618"/>
                    </a:lnTo>
                    <a:lnTo>
                      <a:pt x="560" y="607"/>
                    </a:lnTo>
                    <a:lnTo>
                      <a:pt x="540" y="618"/>
                    </a:lnTo>
                    <a:lnTo>
                      <a:pt x="540" y="642"/>
                    </a:lnTo>
                    <a:lnTo>
                      <a:pt x="560" y="654"/>
                    </a:lnTo>
                    <a:close/>
                    <a:moveTo>
                      <a:pt x="614" y="654"/>
                    </a:moveTo>
                    <a:lnTo>
                      <a:pt x="634" y="642"/>
                    </a:lnTo>
                    <a:lnTo>
                      <a:pt x="634" y="618"/>
                    </a:lnTo>
                    <a:lnTo>
                      <a:pt x="614" y="607"/>
                    </a:lnTo>
                    <a:lnTo>
                      <a:pt x="592" y="618"/>
                    </a:lnTo>
                    <a:lnTo>
                      <a:pt x="592" y="642"/>
                    </a:lnTo>
                    <a:lnTo>
                      <a:pt x="614" y="654"/>
                    </a:lnTo>
                    <a:close/>
                    <a:moveTo>
                      <a:pt x="666" y="654"/>
                    </a:moveTo>
                    <a:lnTo>
                      <a:pt x="689" y="642"/>
                    </a:lnTo>
                    <a:lnTo>
                      <a:pt x="689" y="618"/>
                    </a:lnTo>
                    <a:lnTo>
                      <a:pt x="666" y="607"/>
                    </a:lnTo>
                    <a:lnTo>
                      <a:pt x="648" y="618"/>
                    </a:lnTo>
                    <a:lnTo>
                      <a:pt x="648" y="642"/>
                    </a:lnTo>
                    <a:lnTo>
                      <a:pt x="666" y="654"/>
                    </a:lnTo>
                    <a:close/>
                    <a:moveTo>
                      <a:pt x="722" y="654"/>
                    </a:moveTo>
                    <a:lnTo>
                      <a:pt x="742" y="642"/>
                    </a:lnTo>
                    <a:lnTo>
                      <a:pt x="742" y="618"/>
                    </a:lnTo>
                    <a:lnTo>
                      <a:pt x="722" y="607"/>
                    </a:lnTo>
                    <a:lnTo>
                      <a:pt x="701" y="618"/>
                    </a:lnTo>
                    <a:lnTo>
                      <a:pt x="701" y="642"/>
                    </a:lnTo>
                    <a:lnTo>
                      <a:pt x="722" y="654"/>
                    </a:lnTo>
                    <a:close/>
                    <a:moveTo>
                      <a:pt x="777" y="654"/>
                    </a:moveTo>
                    <a:lnTo>
                      <a:pt x="797" y="642"/>
                    </a:lnTo>
                    <a:lnTo>
                      <a:pt x="797" y="618"/>
                    </a:lnTo>
                    <a:lnTo>
                      <a:pt x="777" y="607"/>
                    </a:lnTo>
                    <a:lnTo>
                      <a:pt x="754" y="618"/>
                    </a:lnTo>
                    <a:lnTo>
                      <a:pt x="754" y="642"/>
                    </a:lnTo>
                    <a:lnTo>
                      <a:pt x="777" y="654"/>
                    </a:lnTo>
                    <a:close/>
                    <a:moveTo>
                      <a:pt x="829" y="654"/>
                    </a:moveTo>
                    <a:lnTo>
                      <a:pt x="849" y="642"/>
                    </a:lnTo>
                    <a:lnTo>
                      <a:pt x="849" y="618"/>
                    </a:lnTo>
                    <a:lnTo>
                      <a:pt x="829" y="607"/>
                    </a:lnTo>
                    <a:lnTo>
                      <a:pt x="809" y="618"/>
                    </a:lnTo>
                    <a:lnTo>
                      <a:pt x="809" y="642"/>
                    </a:lnTo>
                    <a:lnTo>
                      <a:pt x="829" y="654"/>
                    </a:lnTo>
                    <a:close/>
                    <a:moveTo>
                      <a:pt x="884" y="654"/>
                    </a:moveTo>
                    <a:lnTo>
                      <a:pt x="904" y="642"/>
                    </a:lnTo>
                    <a:lnTo>
                      <a:pt x="904" y="618"/>
                    </a:lnTo>
                    <a:lnTo>
                      <a:pt x="884" y="607"/>
                    </a:lnTo>
                    <a:lnTo>
                      <a:pt x="864" y="618"/>
                    </a:lnTo>
                    <a:lnTo>
                      <a:pt x="864" y="642"/>
                    </a:lnTo>
                    <a:lnTo>
                      <a:pt x="884" y="654"/>
                    </a:lnTo>
                    <a:close/>
                    <a:moveTo>
                      <a:pt x="940" y="654"/>
                    </a:moveTo>
                    <a:lnTo>
                      <a:pt x="958" y="642"/>
                    </a:lnTo>
                    <a:lnTo>
                      <a:pt x="958" y="618"/>
                    </a:lnTo>
                    <a:lnTo>
                      <a:pt x="940" y="607"/>
                    </a:lnTo>
                    <a:lnTo>
                      <a:pt x="917" y="618"/>
                    </a:lnTo>
                    <a:lnTo>
                      <a:pt x="917" y="642"/>
                    </a:lnTo>
                    <a:lnTo>
                      <a:pt x="940" y="654"/>
                    </a:lnTo>
                    <a:close/>
                    <a:moveTo>
                      <a:pt x="992" y="654"/>
                    </a:moveTo>
                    <a:lnTo>
                      <a:pt x="1011" y="642"/>
                    </a:lnTo>
                    <a:lnTo>
                      <a:pt x="1011" y="618"/>
                    </a:lnTo>
                    <a:lnTo>
                      <a:pt x="992" y="607"/>
                    </a:lnTo>
                    <a:lnTo>
                      <a:pt x="972" y="618"/>
                    </a:lnTo>
                    <a:lnTo>
                      <a:pt x="972" y="642"/>
                    </a:lnTo>
                    <a:lnTo>
                      <a:pt x="992" y="654"/>
                    </a:lnTo>
                    <a:close/>
                    <a:moveTo>
                      <a:pt x="1018" y="422"/>
                    </a:moveTo>
                    <a:lnTo>
                      <a:pt x="1040" y="408"/>
                    </a:lnTo>
                    <a:lnTo>
                      <a:pt x="1040" y="386"/>
                    </a:lnTo>
                    <a:lnTo>
                      <a:pt x="1018" y="375"/>
                    </a:lnTo>
                    <a:lnTo>
                      <a:pt x="998" y="386"/>
                    </a:lnTo>
                    <a:lnTo>
                      <a:pt x="998" y="408"/>
                    </a:lnTo>
                    <a:lnTo>
                      <a:pt x="1018" y="422"/>
                    </a:lnTo>
                    <a:close/>
                    <a:moveTo>
                      <a:pt x="1072" y="422"/>
                    </a:moveTo>
                    <a:lnTo>
                      <a:pt x="1092" y="408"/>
                    </a:lnTo>
                    <a:lnTo>
                      <a:pt x="1092" y="386"/>
                    </a:lnTo>
                    <a:lnTo>
                      <a:pt x="1072" y="375"/>
                    </a:lnTo>
                    <a:lnTo>
                      <a:pt x="1054" y="386"/>
                    </a:lnTo>
                    <a:lnTo>
                      <a:pt x="1054" y="408"/>
                    </a:lnTo>
                    <a:lnTo>
                      <a:pt x="1072" y="422"/>
                    </a:lnTo>
                    <a:close/>
                    <a:moveTo>
                      <a:pt x="480" y="607"/>
                    </a:moveTo>
                    <a:lnTo>
                      <a:pt x="500" y="596"/>
                    </a:lnTo>
                    <a:lnTo>
                      <a:pt x="500" y="572"/>
                    </a:lnTo>
                    <a:lnTo>
                      <a:pt x="480" y="560"/>
                    </a:lnTo>
                    <a:lnTo>
                      <a:pt x="458" y="572"/>
                    </a:lnTo>
                    <a:lnTo>
                      <a:pt x="458" y="596"/>
                    </a:lnTo>
                    <a:lnTo>
                      <a:pt x="480" y="607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6" name=""/>
              <p:cNvSpPr/>
              <p:nvPr/>
            </p:nvSpPr>
            <p:spPr>
              <a:xfrm>
                <a:off x="494280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7" name=""/>
              <p:cNvSpPr/>
              <p:nvPr/>
            </p:nvSpPr>
            <p:spPr>
              <a:xfrm>
                <a:off x="497952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501624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9" name=""/>
              <p:cNvSpPr/>
              <p:nvPr/>
            </p:nvSpPr>
            <p:spPr>
              <a:xfrm>
                <a:off x="5051520" y="416412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0" name=""/>
              <p:cNvSpPr/>
              <p:nvPr/>
            </p:nvSpPr>
            <p:spPr>
              <a:xfrm>
                <a:off x="5089680" y="416412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1" name=""/>
              <p:cNvSpPr/>
              <p:nvPr/>
            </p:nvSpPr>
            <p:spPr>
              <a:xfrm>
                <a:off x="4923720" y="413748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4961880" y="413748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3" name=""/>
              <p:cNvSpPr/>
              <p:nvPr/>
            </p:nvSpPr>
            <p:spPr>
              <a:xfrm>
                <a:off x="4997160" y="41374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4" name=""/>
              <p:cNvSpPr/>
              <p:nvPr/>
            </p:nvSpPr>
            <p:spPr>
              <a:xfrm>
                <a:off x="5033880" y="413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5" name=""/>
              <p:cNvSpPr/>
              <p:nvPr/>
            </p:nvSpPr>
            <p:spPr>
              <a:xfrm>
                <a:off x="5072040" y="413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6" name=""/>
              <p:cNvSpPr/>
              <p:nvPr/>
            </p:nvSpPr>
            <p:spPr>
              <a:xfrm>
                <a:off x="5107680" y="413748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7" name=""/>
              <p:cNvSpPr/>
              <p:nvPr/>
            </p:nvSpPr>
            <p:spPr>
              <a:xfrm>
                <a:off x="494280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8" name=""/>
              <p:cNvSpPr/>
              <p:nvPr/>
            </p:nvSpPr>
            <p:spPr>
              <a:xfrm>
                <a:off x="497952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9" name=""/>
              <p:cNvSpPr/>
              <p:nvPr/>
            </p:nvSpPr>
            <p:spPr>
              <a:xfrm>
                <a:off x="501624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0" name=""/>
              <p:cNvSpPr/>
              <p:nvPr/>
            </p:nvSpPr>
            <p:spPr>
              <a:xfrm>
                <a:off x="5051520" y="411300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1" name=""/>
              <p:cNvSpPr/>
              <p:nvPr/>
            </p:nvSpPr>
            <p:spPr>
              <a:xfrm>
                <a:off x="5089680" y="411300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2" name=""/>
              <p:cNvSpPr/>
              <p:nvPr/>
            </p:nvSpPr>
            <p:spPr>
              <a:xfrm>
                <a:off x="512784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3" name=""/>
              <p:cNvSpPr/>
              <p:nvPr/>
            </p:nvSpPr>
            <p:spPr>
              <a:xfrm>
                <a:off x="4923720" y="408636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4" name=""/>
              <p:cNvSpPr/>
              <p:nvPr/>
            </p:nvSpPr>
            <p:spPr>
              <a:xfrm>
                <a:off x="4961880" y="408636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5" name=""/>
              <p:cNvSpPr/>
              <p:nvPr/>
            </p:nvSpPr>
            <p:spPr>
              <a:xfrm>
                <a:off x="4997160" y="408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6" name=""/>
              <p:cNvSpPr/>
              <p:nvPr/>
            </p:nvSpPr>
            <p:spPr>
              <a:xfrm>
                <a:off x="503388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7" name=""/>
              <p:cNvSpPr/>
              <p:nvPr/>
            </p:nvSpPr>
            <p:spPr>
              <a:xfrm>
                <a:off x="507204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8" name=""/>
              <p:cNvSpPr/>
              <p:nvPr/>
            </p:nvSpPr>
            <p:spPr>
              <a:xfrm>
                <a:off x="5107680" y="408636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9" name=""/>
              <p:cNvSpPr/>
              <p:nvPr/>
            </p:nvSpPr>
            <p:spPr>
              <a:xfrm>
                <a:off x="4923720" y="418932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0" name=""/>
              <p:cNvSpPr/>
              <p:nvPr/>
            </p:nvSpPr>
            <p:spPr>
              <a:xfrm>
                <a:off x="4961880" y="418932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1" name=""/>
              <p:cNvSpPr/>
              <p:nvPr/>
            </p:nvSpPr>
            <p:spPr>
              <a:xfrm>
                <a:off x="4997160" y="4189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2" name=""/>
              <p:cNvSpPr/>
              <p:nvPr/>
            </p:nvSpPr>
            <p:spPr>
              <a:xfrm>
                <a:off x="5033880" y="418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3" name=""/>
              <p:cNvSpPr/>
              <p:nvPr/>
            </p:nvSpPr>
            <p:spPr>
              <a:xfrm>
                <a:off x="5072040" y="418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4" name=""/>
              <p:cNvSpPr/>
              <p:nvPr/>
            </p:nvSpPr>
            <p:spPr>
              <a:xfrm>
                <a:off x="5107680" y="418932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5" name=""/>
              <p:cNvSpPr/>
              <p:nvPr/>
            </p:nvSpPr>
            <p:spPr>
              <a:xfrm>
                <a:off x="4923720" y="398196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6" name=""/>
              <p:cNvSpPr/>
              <p:nvPr/>
            </p:nvSpPr>
            <p:spPr>
              <a:xfrm>
                <a:off x="4961880" y="398196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7" name=""/>
              <p:cNvSpPr/>
              <p:nvPr/>
            </p:nvSpPr>
            <p:spPr>
              <a:xfrm>
                <a:off x="4997160" y="39819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8" name=""/>
              <p:cNvSpPr/>
              <p:nvPr/>
            </p:nvSpPr>
            <p:spPr>
              <a:xfrm>
                <a:off x="5033880" y="39819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9" name=""/>
              <p:cNvSpPr/>
              <p:nvPr/>
            </p:nvSpPr>
            <p:spPr>
              <a:xfrm>
                <a:off x="5072040" y="39819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0" name=""/>
              <p:cNvSpPr/>
              <p:nvPr/>
            </p:nvSpPr>
            <p:spPr>
              <a:xfrm>
                <a:off x="5107680" y="398196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1" name=""/>
              <p:cNvSpPr/>
              <p:nvPr/>
            </p:nvSpPr>
            <p:spPr>
              <a:xfrm>
                <a:off x="4942800" y="3956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2" name=""/>
              <p:cNvSpPr/>
              <p:nvPr/>
            </p:nvSpPr>
            <p:spPr>
              <a:xfrm>
                <a:off x="4979520" y="3956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3" name=""/>
              <p:cNvSpPr/>
              <p:nvPr/>
            </p:nvSpPr>
            <p:spPr>
              <a:xfrm>
                <a:off x="5016240" y="3956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5051520" y="39564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089680" y="39564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127840" y="3956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4923720" y="3929760"/>
                <a:ext cx="2736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8" name=""/>
              <p:cNvSpPr/>
              <p:nvPr/>
            </p:nvSpPr>
            <p:spPr>
              <a:xfrm>
                <a:off x="4961880" y="392976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9" name=""/>
              <p:cNvSpPr/>
              <p:nvPr/>
            </p:nvSpPr>
            <p:spPr>
              <a:xfrm>
                <a:off x="4997160" y="39297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0" name=""/>
              <p:cNvSpPr/>
              <p:nvPr/>
            </p:nvSpPr>
            <p:spPr>
              <a:xfrm>
                <a:off x="5033880" y="39297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072040" y="39297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107680" y="3929760"/>
                <a:ext cx="28080" cy="26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4942800" y="3904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4" name=""/>
              <p:cNvSpPr/>
              <p:nvPr/>
            </p:nvSpPr>
            <p:spPr>
              <a:xfrm>
                <a:off x="4979520" y="3904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5016240" y="3904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6" name=""/>
              <p:cNvSpPr/>
              <p:nvPr/>
            </p:nvSpPr>
            <p:spPr>
              <a:xfrm>
                <a:off x="5051520" y="390456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7" name=""/>
              <p:cNvSpPr/>
              <p:nvPr/>
            </p:nvSpPr>
            <p:spPr>
              <a:xfrm>
                <a:off x="5089680" y="39045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8" name=""/>
              <p:cNvSpPr/>
              <p:nvPr/>
            </p:nvSpPr>
            <p:spPr>
              <a:xfrm>
                <a:off x="5127840" y="3904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9" name=""/>
              <p:cNvSpPr/>
              <p:nvPr/>
            </p:nvSpPr>
            <p:spPr>
              <a:xfrm>
                <a:off x="4923720" y="387900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0" name=""/>
              <p:cNvSpPr/>
              <p:nvPr/>
            </p:nvSpPr>
            <p:spPr>
              <a:xfrm>
                <a:off x="4961880" y="387900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1" name=""/>
              <p:cNvSpPr/>
              <p:nvPr/>
            </p:nvSpPr>
            <p:spPr>
              <a:xfrm>
                <a:off x="4997160" y="38790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2" name=""/>
              <p:cNvSpPr/>
              <p:nvPr/>
            </p:nvSpPr>
            <p:spPr>
              <a:xfrm>
                <a:off x="5033880" y="3879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3" name=""/>
              <p:cNvSpPr/>
              <p:nvPr/>
            </p:nvSpPr>
            <p:spPr>
              <a:xfrm>
                <a:off x="5072040" y="3879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4" name=""/>
              <p:cNvSpPr/>
              <p:nvPr/>
            </p:nvSpPr>
            <p:spPr>
              <a:xfrm>
                <a:off x="5107680" y="387900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5" name=""/>
              <p:cNvSpPr/>
              <p:nvPr/>
            </p:nvSpPr>
            <p:spPr>
              <a:xfrm>
                <a:off x="4942800" y="385236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6" name=""/>
              <p:cNvSpPr/>
              <p:nvPr/>
            </p:nvSpPr>
            <p:spPr>
              <a:xfrm>
                <a:off x="4979520" y="385236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7" name=""/>
              <p:cNvSpPr/>
              <p:nvPr/>
            </p:nvSpPr>
            <p:spPr>
              <a:xfrm>
                <a:off x="5016240" y="3852360"/>
                <a:ext cx="2700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8" name=""/>
              <p:cNvSpPr/>
              <p:nvPr/>
            </p:nvSpPr>
            <p:spPr>
              <a:xfrm>
                <a:off x="5051520" y="3852360"/>
                <a:ext cx="29880" cy="26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9" name=""/>
              <p:cNvSpPr/>
              <p:nvPr/>
            </p:nvSpPr>
            <p:spPr>
              <a:xfrm>
                <a:off x="5089680" y="3852360"/>
                <a:ext cx="27360" cy="26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0" name=""/>
              <p:cNvSpPr/>
              <p:nvPr/>
            </p:nvSpPr>
            <p:spPr>
              <a:xfrm>
                <a:off x="494280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497952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01624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051520" y="406080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4" name=""/>
              <p:cNvSpPr/>
              <p:nvPr/>
            </p:nvSpPr>
            <p:spPr>
              <a:xfrm>
                <a:off x="5089680" y="40608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5" name=""/>
              <p:cNvSpPr/>
              <p:nvPr/>
            </p:nvSpPr>
            <p:spPr>
              <a:xfrm>
                <a:off x="512784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4923720" y="4035240"/>
                <a:ext cx="2736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4961880" y="403524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4997160" y="40352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9" name=""/>
              <p:cNvSpPr/>
              <p:nvPr/>
            </p:nvSpPr>
            <p:spPr>
              <a:xfrm>
                <a:off x="5033880" y="40352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0" name=""/>
              <p:cNvSpPr/>
              <p:nvPr/>
            </p:nvSpPr>
            <p:spPr>
              <a:xfrm>
                <a:off x="5072040" y="40352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1" name=""/>
              <p:cNvSpPr/>
              <p:nvPr/>
            </p:nvSpPr>
            <p:spPr>
              <a:xfrm>
                <a:off x="5107680" y="4035240"/>
                <a:ext cx="2808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3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2" name=""/>
              <p:cNvSpPr/>
              <p:nvPr/>
            </p:nvSpPr>
            <p:spPr>
              <a:xfrm>
                <a:off x="4942800" y="40086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3" name=""/>
              <p:cNvSpPr/>
              <p:nvPr/>
            </p:nvSpPr>
            <p:spPr>
              <a:xfrm>
                <a:off x="4979520" y="40086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4" name=""/>
              <p:cNvSpPr/>
              <p:nvPr/>
            </p:nvSpPr>
            <p:spPr>
              <a:xfrm>
                <a:off x="5016240" y="40086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051520" y="400860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089680" y="400860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5127840" y="40086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5163120" y="411300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9" name=""/>
              <p:cNvSpPr/>
              <p:nvPr/>
            </p:nvSpPr>
            <p:spPr>
              <a:xfrm>
                <a:off x="520020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523692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1" name=""/>
              <p:cNvSpPr/>
              <p:nvPr/>
            </p:nvSpPr>
            <p:spPr>
              <a:xfrm>
                <a:off x="527364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2" name=""/>
              <p:cNvSpPr/>
              <p:nvPr/>
            </p:nvSpPr>
            <p:spPr>
              <a:xfrm>
                <a:off x="531036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3" name=""/>
              <p:cNvSpPr/>
              <p:nvPr/>
            </p:nvSpPr>
            <p:spPr>
              <a:xfrm>
                <a:off x="521892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5254560" y="408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5" name=""/>
              <p:cNvSpPr/>
              <p:nvPr/>
            </p:nvSpPr>
            <p:spPr>
              <a:xfrm>
                <a:off x="529128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6" name=""/>
              <p:cNvSpPr/>
              <p:nvPr/>
            </p:nvSpPr>
            <p:spPr>
              <a:xfrm>
                <a:off x="514548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518220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5291280" y="39819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9" name=""/>
              <p:cNvSpPr/>
              <p:nvPr/>
            </p:nvSpPr>
            <p:spPr>
              <a:xfrm>
                <a:off x="5145480" y="39819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0" name=""/>
              <p:cNvSpPr/>
              <p:nvPr/>
            </p:nvSpPr>
            <p:spPr>
              <a:xfrm>
                <a:off x="5182200" y="39819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1" name=""/>
              <p:cNvSpPr/>
              <p:nvPr/>
            </p:nvSpPr>
            <p:spPr>
              <a:xfrm>
                <a:off x="5218920" y="39819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2" name=""/>
              <p:cNvSpPr/>
              <p:nvPr/>
            </p:nvSpPr>
            <p:spPr>
              <a:xfrm>
                <a:off x="5254560" y="398196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3" name=""/>
              <p:cNvSpPr/>
              <p:nvPr/>
            </p:nvSpPr>
            <p:spPr>
              <a:xfrm>
                <a:off x="5163120" y="39564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200200" y="3956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236920" y="3956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273640" y="3956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7" name=""/>
              <p:cNvSpPr/>
              <p:nvPr/>
            </p:nvSpPr>
            <p:spPr>
              <a:xfrm>
                <a:off x="5145480" y="39297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8" name=""/>
              <p:cNvSpPr/>
              <p:nvPr/>
            </p:nvSpPr>
            <p:spPr>
              <a:xfrm>
                <a:off x="5182200" y="39297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9" name=""/>
              <p:cNvSpPr/>
              <p:nvPr/>
            </p:nvSpPr>
            <p:spPr>
              <a:xfrm>
                <a:off x="5218920" y="39297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0" name=""/>
              <p:cNvSpPr/>
              <p:nvPr/>
            </p:nvSpPr>
            <p:spPr>
              <a:xfrm>
                <a:off x="5254560" y="39297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1" name=""/>
              <p:cNvSpPr/>
              <p:nvPr/>
            </p:nvSpPr>
            <p:spPr>
              <a:xfrm>
                <a:off x="5291280" y="39297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2" name=""/>
              <p:cNvSpPr/>
              <p:nvPr/>
            </p:nvSpPr>
            <p:spPr>
              <a:xfrm>
                <a:off x="523692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3" name=""/>
              <p:cNvSpPr/>
              <p:nvPr/>
            </p:nvSpPr>
            <p:spPr>
              <a:xfrm>
                <a:off x="527364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4" name=""/>
              <p:cNvSpPr/>
              <p:nvPr/>
            </p:nvSpPr>
            <p:spPr>
              <a:xfrm>
                <a:off x="531036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5" name=""/>
              <p:cNvSpPr/>
              <p:nvPr/>
            </p:nvSpPr>
            <p:spPr>
              <a:xfrm>
                <a:off x="5163120" y="406080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6" name=""/>
              <p:cNvSpPr/>
              <p:nvPr/>
            </p:nvSpPr>
            <p:spPr>
              <a:xfrm>
                <a:off x="520020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7" name=""/>
              <p:cNvSpPr/>
              <p:nvPr/>
            </p:nvSpPr>
            <p:spPr>
              <a:xfrm>
                <a:off x="5182200" y="40352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8" name=""/>
              <p:cNvSpPr/>
              <p:nvPr/>
            </p:nvSpPr>
            <p:spPr>
              <a:xfrm>
                <a:off x="5218920" y="40352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9" name=""/>
              <p:cNvSpPr/>
              <p:nvPr/>
            </p:nvSpPr>
            <p:spPr>
              <a:xfrm>
                <a:off x="5254560" y="403524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291280" y="40352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1" name=""/>
              <p:cNvSpPr/>
              <p:nvPr/>
            </p:nvSpPr>
            <p:spPr>
              <a:xfrm>
                <a:off x="5145480" y="40352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2" name=""/>
              <p:cNvSpPr/>
              <p:nvPr/>
            </p:nvSpPr>
            <p:spPr>
              <a:xfrm>
                <a:off x="5163120" y="400860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3" name=""/>
              <p:cNvSpPr/>
              <p:nvPr/>
            </p:nvSpPr>
            <p:spPr>
              <a:xfrm>
                <a:off x="5200200" y="40086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4" name=""/>
              <p:cNvSpPr/>
              <p:nvPr/>
            </p:nvSpPr>
            <p:spPr>
              <a:xfrm>
                <a:off x="5236920" y="40086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5" name=""/>
              <p:cNvSpPr/>
              <p:nvPr/>
            </p:nvSpPr>
            <p:spPr>
              <a:xfrm>
                <a:off x="5273640" y="40086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3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5236920" y="3904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5273640" y="3904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5254560" y="38790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9" name=""/>
              <p:cNvSpPr/>
              <p:nvPr/>
            </p:nvSpPr>
            <p:spPr>
              <a:xfrm>
                <a:off x="5291280" y="387900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163120" y="390456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5200200" y="390456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5419080" y="4164120"/>
                <a:ext cx="2736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45724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5492880" y="4164120"/>
                <a:ext cx="2988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5" name=""/>
              <p:cNvSpPr/>
              <p:nvPr/>
            </p:nvSpPr>
            <p:spPr>
              <a:xfrm>
                <a:off x="553068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6" name=""/>
              <p:cNvSpPr/>
              <p:nvPr/>
            </p:nvSpPr>
            <p:spPr>
              <a:xfrm>
                <a:off x="527364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531036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8" name=""/>
              <p:cNvSpPr/>
              <p:nvPr/>
            </p:nvSpPr>
            <p:spPr>
              <a:xfrm>
                <a:off x="534708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9" name=""/>
              <p:cNvSpPr/>
              <p:nvPr/>
            </p:nvSpPr>
            <p:spPr>
              <a:xfrm>
                <a:off x="5382360" y="416412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0" name=""/>
              <p:cNvSpPr/>
              <p:nvPr/>
            </p:nvSpPr>
            <p:spPr>
              <a:xfrm>
                <a:off x="556740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560412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2" name=""/>
              <p:cNvSpPr/>
              <p:nvPr/>
            </p:nvSpPr>
            <p:spPr>
              <a:xfrm>
                <a:off x="564084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3" name=""/>
              <p:cNvSpPr/>
              <p:nvPr/>
            </p:nvSpPr>
            <p:spPr>
              <a:xfrm>
                <a:off x="5513040" y="413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4" name=""/>
              <p:cNvSpPr/>
              <p:nvPr/>
            </p:nvSpPr>
            <p:spPr>
              <a:xfrm>
                <a:off x="5548320" y="41374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5" name=""/>
              <p:cNvSpPr/>
              <p:nvPr/>
            </p:nvSpPr>
            <p:spPr>
              <a:xfrm>
                <a:off x="5586480" y="413748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6" name=""/>
              <p:cNvSpPr/>
              <p:nvPr/>
            </p:nvSpPr>
            <p:spPr>
              <a:xfrm>
                <a:off x="5623560" y="413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7" name=""/>
              <p:cNvSpPr/>
              <p:nvPr/>
            </p:nvSpPr>
            <p:spPr>
              <a:xfrm>
                <a:off x="5364720" y="41374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8" name=""/>
              <p:cNvSpPr/>
              <p:nvPr/>
            </p:nvSpPr>
            <p:spPr>
              <a:xfrm>
                <a:off x="5401440" y="413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9" name=""/>
              <p:cNvSpPr/>
              <p:nvPr/>
            </p:nvSpPr>
            <p:spPr>
              <a:xfrm>
                <a:off x="5438160" y="41374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0" name=""/>
              <p:cNvSpPr/>
              <p:nvPr/>
            </p:nvSpPr>
            <p:spPr>
              <a:xfrm>
                <a:off x="5474880" y="413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1" name=""/>
              <p:cNvSpPr/>
              <p:nvPr/>
            </p:nvSpPr>
            <p:spPr>
              <a:xfrm>
                <a:off x="5254560" y="413748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2" name=""/>
              <p:cNvSpPr/>
              <p:nvPr/>
            </p:nvSpPr>
            <p:spPr>
              <a:xfrm>
                <a:off x="5291280" y="413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3" name=""/>
              <p:cNvSpPr/>
              <p:nvPr/>
            </p:nvSpPr>
            <p:spPr>
              <a:xfrm>
                <a:off x="5328000" y="413748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4" name=""/>
              <p:cNvSpPr/>
              <p:nvPr/>
            </p:nvSpPr>
            <p:spPr>
              <a:xfrm>
                <a:off x="553068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5" name=""/>
              <p:cNvSpPr/>
              <p:nvPr/>
            </p:nvSpPr>
            <p:spPr>
              <a:xfrm>
                <a:off x="556740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6" name=""/>
              <p:cNvSpPr/>
              <p:nvPr/>
            </p:nvSpPr>
            <p:spPr>
              <a:xfrm>
                <a:off x="560412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7" name=""/>
              <p:cNvSpPr/>
              <p:nvPr/>
            </p:nvSpPr>
            <p:spPr>
              <a:xfrm>
                <a:off x="564084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8" name=""/>
              <p:cNvSpPr/>
              <p:nvPr/>
            </p:nvSpPr>
            <p:spPr>
              <a:xfrm>
                <a:off x="5382360" y="4113000"/>
                <a:ext cx="28440" cy="241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9" name=""/>
              <p:cNvSpPr/>
              <p:nvPr/>
            </p:nvSpPr>
            <p:spPr>
              <a:xfrm>
                <a:off x="5419080" y="4113000"/>
                <a:ext cx="2736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0" name=""/>
              <p:cNvSpPr/>
              <p:nvPr/>
            </p:nvSpPr>
            <p:spPr>
              <a:xfrm>
                <a:off x="545724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1" name=""/>
              <p:cNvSpPr/>
              <p:nvPr/>
            </p:nvSpPr>
            <p:spPr>
              <a:xfrm>
                <a:off x="5492880" y="4113000"/>
                <a:ext cx="29880" cy="241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2" name=""/>
              <p:cNvSpPr/>
              <p:nvPr/>
            </p:nvSpPr>
            <p:spPr>
              <a:xfrm>
                <a:off x="5347080" y="4113000"/>
                <a:ext cx="27000" cy="241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3" name=""/>
              <p:cNvSpPr/>
              <p:nvPr/>
            </p:nvSpPr>
            <p:spPr>
              <a:xfrm>
                <a:off x="551304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4" name=""/>
              <p:cNvSpPr/>
              <p:nvPr/>
            </p:nvSpPr>
            <p:spPr>
              <a:xfrm>
                <a:off x="5548320" y="408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5" name=""/>
              <p:cNvSpPr/>
              <p:nvPr/>
            </p:nvSpPr>
            <p:spPr>
              <a:xfrm>
                <a:off x="5586480" y="4086360"/>
                <a:ext cx="2592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6" name=""/>
              <p:cNvSpPr/>
              <p:nvPr/>
            </p:nvSpPr>
            <p:spPr>
              <a:xfrm>
                <a:off x="562356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7" name=""/>
              <p:cNvSpPr/>
              <p:nvPr/>
            </p:nvSpPr>
            <p:spPr>
              <a:xfrm>
                <a:off x="5364720" y="408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8" name=""/>
              <p:cNvSpPr/>
              <p:nvPr/>
            </p:nvSpPr>
            <p:spPr>
              <a:xfrm>
                <a:off x="540144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9" name=""/>
              <p:cNvSpPr/>
              <p:nvPr/>
            </p:nvSpPr>
            <p:spPr>
              <a:xfrm>
                <a:off x="5438160" y="4086360"/>
                <a:ext cx="28440" cy="26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0" name=""/>
              <p:cNvSpPr/>
              <p:nvPr/>
            </p:nvSpPr>
            <p:spPr>
              <a:xfrm>
                <a:off x="547488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1" name=""/>
              <p:cNvSpPr/>
              <p:nvPr/>
            </p:nvSpPr>
            <p:spPr>
              <a:xfrm>
                <a:off x="5328000" y="408636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2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2" name=""/>
              <p:cNvSpPr/>
              <p:nvPr/>
            </p:nvSpPr>
            <p:spPr>
              <a:xfrm>
                <a:off x="5623560" y="418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5254560" y="4189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5291280" y="418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5" name=""/>
              <p:cNvSpPr/>
              <p:nvPr/>
            </p:nvSpPr>
            <p:spPr>
              <a:xfrm>
                <a:off x="5328000" y="418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6" name=""/>
              <p:cNvSpPr/>
              <p:nvPr/>
            </p:nvSpPr>
            <p:spPr>
              <a:xfrm>
                <a:off x="5364720" y="4189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8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7" name=""/>
              <p:cNvSpPr/>
              <p:nvPr/>
            </p:nvSpPr>
            <p:spPr>
              <a:xfrm>
                <a:off x="5401440" y="418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8" name=""/>
              <p:cNvSpPr/>
              <p:nvPr/>
            </p:nvSpPr>
            <p:spPr>
              <a:xfrm>
                <a:off x="5438160" y="4189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9" name=""/>
              <p:cNvSpPr/>
              <p:nvPr/>
            </p:nvSpPr>
            <p:spPr>
              <a:xfrm>
                <a:off x="5474880" y="418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5513040" y="41893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1" name=""/>
              <p:cNvSpPr/>
              <p:nvPr/>
            </p:nvSpPr>
            <p:spPr>
              <a:xfrm>
                <a:off x="5548320" y="418932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2" name=""/>
              <p:cNvSpPr/>
              <p:nvPr/>
            </p:nvSpPr>
            <p:spPr>
              <a:xfrm>
                <a:off x="5586480" y="4189320"/>
                <a:ext cx="25920" cy="255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3" name=""/>
              <p:cNvSpPr/>
              <p:nvPr/>
            </p:nvSpPr>
            <p:spPr>
              <a:xfrm>
                <a:off x="560412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5640840" y="40608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5" name=""/>
              <p:cNvSpPr/>
              <p:nvPr/>
            </p:nvSpPr>
            <p:spPr>
              <a:xfrm>
                <a:off x="5236920" y="41641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6" name=""/>
              <p:cNvSpPr/>
              <p:nvPr/>
            </p:nvSpPr>
            <p:spPr>
              <a:xfrm>
                <a:off x="5336280" y="3877920"/>
                <a:ext cx="289800" cy="1738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  <a:close/>
                  </a:path>
                </a:pathLst>
              </a:custGeom>
              <a:solidFill>
                <a:srgbClr val="4d4d4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7" name=""/>
              <p:cNvSpPr/>
              <p:nvPr/>
            </p:nvSpPr>
            <p:spPr>
              <a:xfrm>
                <a:off x="5336280" y="3877920"/>
                <a:ext cx="289800" cy="17388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</a:path>
                </a:pathLst>
              </a:custGeom>
              <a:noFill/>
              <a:ln w="32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8" name=""/>
              <p:cNvSpPr/>
              <p:nvPr/>
            </p:nvSpPr>
            <p:spPr>
              <a:xfrm>
                <a:off x="5355000" y="3894480"/>
                <a:ext cx="250560" cy="1407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  <a:close/>
                  </a:path>
                </a:pathLst>
              </a:custGeom>
              <a:solidFill>
                <a:srgbClr val="2b2b2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9" name=""/>
              <p:cNvSpPr/>
              <p:nvPr/>
            </p:nvSpPr>
            <p:spPr>
              <a:xfrm>
                <a:off x="5355000" y="3894480"/>
                <a:ext cx="250560" cy="1407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0" name=""/>
              <p:cNvSpPr/>
              <p:nvPr/>
            </p:nvSpPr>
            <p:spPr>
              <a:xfrm>
                <a:off x="5406840" y="3925440"/>
                <a:ext cx="149400" cy="7956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1" y="68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" y="68"/>
                    </a:lnTo>
                    <a:close/>
                    <a:moveTo>
                      <a:pt x="120" y="144"/>
                    </a:moveTo>
                    <a:lnTo>
                      <a:pt x="120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20" y="144"/>
                    </a:lnTo>
                    <a:close/>
                    <a:moveTo>
                      <a:pt x="219" y="68"/>
                    </a:moveTo>
                    <a:lnTo>
                      <a:pt x="219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9" y="68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1" name=""/>
              <p:cNvSpPr/>
              <p:nvPr/>
            </p:nvSpPr>
            <p:spPr>
              <a:xfrm>
                <a:off x="5627520" y="3892320"/>
                <a:ext cx="95040" cy="1573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2" name=""/>
              <p:cNvSpPr/>
              <p:nvPr/>
            </p:nvSpPr>
            <p:spPr>
              <a:xfrm>
                <a:off x="5604120" y="3892320"/>
                <a:ext cx="23040" cy="176040"/>
              </a:xfrm>
              <a:prstGeom prst="rect">
                <a:avLst/>
              </a:prstGeom>
              <a:solidFill>
                <a:srgbClr val="b04d7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3" name=""/>
              <p:cNvSpPr/>
              <p:nvPr/>
            </p:nvSpPr>
            <p:spPr>
              <a:xfrm>
                <a:off x="5627520" y="3892320"/>
                <a:ext cx="24480" cy="176040"/>
              </a:xfrm>
              <a:prstGeom prst="rect">
                <a:avLst/>
              </a:prstGeom>
              <a:solidFill>
                <a:srgbClr val="b75f87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4" name=""/>
              <p:cNvSpPr/>
              <p:nvPr/>
            </p:nvSpPr>
            <p:spPr>
              <a:xfrm>
                <a:off x="5652000" y="3892320"/>
                <a:ext cx="23040" cy="176040"/>
              </a:xfrm>
              <a:prstGeom prst="rect">
                <a:avLst/>
              </a:prstGeom>
              <a:solidFill>
                <a:srgbClr val="b55982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5" name=""/>
              <p:cNvSpPr/>
              <p:nvPr/>
            </p:nvSpPr>
            <p:spPr>
              <a:xfrm>
                <a:off x="5675400" y="3892320"/>
                <a:ext cx="24120" cy="176040"/>
              </a:xfrm>
              <a:prstGeom prst="rect">
                <a:avLst/>
              </a:prstGeom>
              <a:solidFill>
                <a:srgbClr val="b2537e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6" name=""/>
              <p:cNvSpPr/>
              <p:nvPr/>
            </p:nvSpPr>
            <p:spPr>
              <a:xfrm>
                <a:off x="5699520" y="3892320"/>
                <a:ext cx="23040" cy="176040"/>
              </a:xfrm>
              <a:prstGeom prst="rect">
                <a:avLst/>
              </a:prstGeom>
              <a:solidFill>
                <a:srgbClr val="b04d79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7" name=""/>
              <p:cNvSpPr/>
              <p:nvPr/>
            </p:nvSpPr>
            <p:spPr>
              <a:xfrm>
                <a:off x="5626080" y="3891240"/>
                <a:ext cx="95040" cy="156240"/>
              </a:xfrm>
              <a:custGeom>
                <a:avLst/>
                <a:gdLst/>
                <a:ahLst/>
                <a:rect l="l" t="t" r="r" b="b"/>
                <a:pathLst>
                  <a:path w="140" h="282">
                    <a:moveTo>
                      <a:pt x="0" y="264"/>
                    </a:moveTo>
                    <a:lnTo>
                      <a:pt x="1" y="267"/>
                    </a:lnTo>
                    <a:lnTo>
                      <a:pt x="1" y="270"/>
                    </a:lnTo>
                    <a:lnTo>
                      <a:pt x="4" y="273"/>
                    </a:lnTo>
                    <a:lnTo>
                      <a:pt x="6" y="276"/>
                    </a:lnTo>
                    <a:lnTo>
                      <a:pt x="10" y="278"/>
                    </a:lnTo>
                    <a:lnTo>
                      <a:pt x="14" y="279"/>
                    </a:lnTo>
                    <a:lnTo>
                      <a:pt x="18" y="281"/>
                    </a:lnTo>
                    <a:lnTo>
                      <a:pt x="23" y="282"/>
                    </a:lnTo>
                    <a:lnTo>
                      <a:pt x="29" y="282"/>
                    </a:lnTo>
                    <a:lnTo>
                      <a:pt x="29" y="282"/>
                    </a:lnTo>
                    <a:lnTo>
                      <a:pt x="114" y="273"/>
                    </a:lnTo>
                    <a:lnTo>
                      <a:pt x="120" y="272"/>
                    </a:lnTo>
                    <a:lnTo>
                      <a:pt x="125" y="269"/>
                    </a:lnTo>
                    <a:lnTo>
                      <a:pt x="129" y="267"/>
                    </a:lnTo>
                    <a:lnTo>
                      <a:pt x="133" y="263"/>
                    </a:lnTo>
                    <a:lnTo>
                      <a:pt x="137" y="259"/>
                    </a:lnTo>
                    <a:lnTo>
                      <a:pt x="139" y="255"/>
                    </a:lnTo>
                    <a:lnTo>
                      <a:pt x="140" y="250"/>
                    </a:lnTo>
                    <a:lnTo>
                      <a:pt x="140" y="246"/>
                    </a:lnTo>
                    <a:lnTo>
                      <a:pt x="140" y="38"/>
                    </a:lnTo>
                    <a:lnTo>
                      <a:pt x="140" y="33"/>
                    </a:lnTo>
                    <a:lnTo>
                      <a:pt x="139" y="28"/>
                    </a:lnTo>
                    <a:lnTo>
                      <a:pt x="137" y="24"/>
                    </a:lnTo>
                    <a:lnTo>
                      <a:pt x="133" y="19"/>
                    </a:lnTo>
                    <a:lnTo>
                      <a:pt x="129" y="17"/>
                    </a:lnTo>
                    <a:lnTo>
                      <a:pt x="125" y="13"/>
                    </a:lnTo>
                    <a:lnTo>
                      <a:pt x="120" y="10"/>
                    </a:lnTo>
                    <a:lnTo>
                      <a:pt x="114" y="9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64"/>
                    </a:lnTo>
                  </a:path>
                </a:pathLst>
              </a:custGeom>
              <a:noFill/>
              <a:ln w="32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8" name=""/>
              <p:cNvSpPr/>
              <p:nvPr/>
            </p:nvSpPr>
            <p:spPr>
              <a:xfrm>
                <a:off x="5162040" y="3844800"/>
                <a:ext cx="46080" cy="361440"/>
              </a:xfrm>
              <a:custGeom>
                <a:avLst/>
                <a:gdLst/>
                <a:ahLst/>
                <a:rect l="l" t="t" r="r" b="b"/>
                <a:pathLst>
                  <a:path w="69" h="651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80"/>
                    </a:moveTo>
                    <a:lnTo>
                      <a:pt x="39" y="580"/>
                    </a:lnTo>
                    <a:lnTo>
                      <a:pt x="43" y="582"/>
                    </a:lnTo>
                    <a:lnTo>
                      <a:pt x="47" y="582"/>
                    </a:lnTo>
                    <a:lnTo>
                      <a:pt x="50" y="583"/>
                    </a:lnTo>
                    <a:lnTo>
                      <a:pt x="53" y="586"/>
                    </a:lnTo>
                    <a:lnTo>
                      <a:pt x="57" y="588"/>
                    </a:lnTo>
                    <a:lnTo>
                      <a:pt x="59" y="591"/>
                    </a:lnTo>
                    <a:lnTo>
                      <a:pt x="62" y="593"/>
                    </a:lnTo>
                    <a:lnTo>
                      <a:pt x="64" y="596"/>
                    </a:lnTo>
                    <a:lnTo>
                      <a:pt x="67" y="599"/>
                    </a:lnTo>
                    <a:lnTo>
                      <a:pt x="68" y="602"/>
                    </a:lnTo>
                    <a:lnTo>
                      <a:pt x="69" y="606"/>
                    </a:lnTo>
                    <a:lnTo>
                      <a:pt x="69" y="610"/>
                    </a:lnTo>
                    <a:lnTo>
                      <a:pt x="69" y="613"/>
                    </a:lnTo>
                    <a:lnTo>
                      <a:pt x="69" y="617"/>
                    </a:lnTo>
                    <a:lnTo>
                      <a:pt x="69" y="620"/>
                    </a:lnTo>
                    <a:lnTo>
                      <a:pt x="69" y="623"/>
                    </a:lnTo>
                    <a:lnTo>
                      <a:pt x="68" y="626"/>
                    </a:lnTo>
                    <a:lnTo>
                      <a:pt x="67" y="630"/>
                    </a:lnTo>
                    <a:lnTo>
                      <a:pt x="65" y="632"/>
                    </a:lnTo>
                    <a:lnTo>
                      <a:pt x="63" y="637"/>
                    </a:lnTo>
                    <a:lnTo>
                      <a:pt x="58" y="642"/>
                    </a:lnTo>
                    <a:lnTo>
                      <a:pt x="53" y="646"/>
                    </a:lnTo>
                    <a:lnTo>
                      <a:pt x="47" y="649"/>
                    </a:lnTo>
                    <a:lnTo>
                      <a:pt x="41" y="650"/>
                    </a:lnTo>
                    <a:lnTo>
                      <a:pt x="38" y="651"/>
                    </a:lnTo>
                    <a:lnTo>
                      <a:pt x="35" y="651"/>
                    </a:lnTo>
                    <a:lnTo>
                      <a:pt x="31" y="651"/>
                    </a:lnTo>
                    <a:lnTo>
                      <a:pt x="28" y="650"/>
                    </a:lnTo>
                    <a:lnTo>
                      <a:pt x="24" y="649"/>
                    </a:lnTo>
                    <a:lnTo>
                      <a:pt x="20" y="647"/>
                    </a:lnTo>
                    <a:lnTo>
                      <a:pt x="13" y="642"/>
                    </a:lnTo>
                    <a:lnTo>
                      <a:pt x="10" y="640"/>
                    </a:lnTo>
                    <a:lnTo>
                      <a:pt x="8" y="637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1" y="627"/>
                    </a:lnTo>
                    <a:lnTo>
                      <a:pt x="0" y="625"/>
                    </a:lnTo>
                    <a:lnTo>
                      <a:pt x="0" y="621"/>
                    </a:lnTo>
                    <a:lnTo>
                      <a:pt x="0" y="617"/>
                    </a:lnTo>
                    <a:lnTo>
                      <a:pt x="0" y="613"/>
                    </a:lnTo>
                    <a:lnTo>
                      <a:pt x="0" y="610"/>
                    </a:lnTo>
                    <a:lnTo>
                      <a:pt x="1" y="606"/>
                    </a:lnTo>
                    <a:lnTo>
                      <a:pt x="1" y="603"/>
                    </a:lnTo>
                    <a:lnTo>
                      <a:pt x="3" y="599"/>
                    </a:lnTo>
                    <a:lnTo>
                      <a:pt x="4" y="597"/>
                    </a:lnTo>
                    <a:lnTo>
                      <a:pt x="8" y="593"/>
                    </a:lnTo>
                    <a:lnTo>
                      <a:pt x="11" y="589"/>
                    </a:lnTo>
                    <a:lnTo>
                      <a:pt x="14" y="587"/>
                    </a:lnTo>
                    <a:lnTo>
                      <a:pt x="16" y="586"/>
                    </a:lnTo>
                    <a:lnTo>
                      <a:pt x="20" y="583"/>
                    </a:lnTo>
                    <a:lnTo>
                      <a:pt x="23" y="582"/>
                    </a:lnTo>
                    <a:lnTo>
                      <a:pt x="29" y="580"/>
                    </a:lnTo>
                    <a:lnTo>
                      <a:pt x="35" y="580"/>
                    </a:lnTo>
                    <a:lnTo>
                      <a:pt x="35" y="580"/>
                    </a:lnTo>
                    <a:close/>
                  </a:path>
                </a:pathLst>
              </a:custGeom>
              <a:solidFill>
                <a:srgbClr val="eaeae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9" name=""/>
              <p:cNvSpPr/>
              <p:nvPr/>
            </p:nvSpPr>
            <p:spPr>
              <a:xfrm>
                <a:off x="5162040" y="3844800"/>
                <a:ext cx="46080" cy="3852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40" name=""/>
              <p:cNvSpPr/>
              <p:nvPr/>
            </p:nvSpPr>
            <p:spPr>
              <a:xfrm>
                <a:off x="5162040" y="4166280"/>
                <a:ext cx="46080" cy="3960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35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7" y="8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3"/>
                    </a:lnTo>
                    <a:lnTo>
                      <a:pt x="69" y="37"/>
                    </a:lnTo>
                    <a:lnTo>
                      <a:pt x="69" y="40"/>
                    </a:lnTo>
                    <a:lnTo>
                      <a:pt x="69" y="43"/>
                    </a:lnTo>
                    <a:lnTo>
                      <a:pt x="68" y="46"/>
                    </a:lnTo>
                    <a:lnTo>
                      <a:pt x="67" y="50"/>
                    </a:lnTo>
                    <a:lnTo>
                      <a:pt x="65" y="52"/>
                    </a:lnTo>
                    <a:lnTo>
                      <a:pt x="63" y="57"/>
                    </a:lnTo>
                    <a:lnTo>
                      <a:pt x="58" y="62"/>
                    </a:lnTo>
                    <a:lnTo>
                      <a:pt x="53" y="66"/>
                    </a:lnTo>
                    <a:lnTo>
                      <a:pt x="47" y="69"/>
                    </a:lnTo>
                    <a:lnTo>
                      <a:pt x="41" y="70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8" y="70"/>
                    </a:lnTo>
                    <a:lnTo>
                      <a:pt x="24" y="69"/>
                    </a:lnTo>
                    <a:lnTo>
                      <a:pt x="20" y="67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41" name=""/>
              <p:cNvSpPr/>
              <p:nvPr/>
            </p:nvSpPr>
            <p:spPr>
              <a:xfrm>
                <a:off x="5175360" y="3855600"/>
                <a:ext cx="19080" cy="338040"/>
              </a:xfrm>
              <a:custGeom>
                <a:avLst/>
                <a:gdLst/>
                <a:ahLst/>
                <a:rect l="l" t="t" r="r" b="b"/>
                <a:pathLst>
                  <a:path w="29" h="611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8"/>
                    </a:moveTo>
                    <a:lnTo>
                      <a:pt x="9" y="607"/>
                    </a:lnTo>
                    <a:lnTo>
                      <a:pt x="10" y="606"/>
                    </a:lnTo>
                    <a:lnTo>
                      <a:pt x="11" y="605"/>
                    </a:lnTo>
                    <a:lnTo>
                      <a:pt x="13" y="603"/>
                    </a:lnTo>
                    <a:lnTo>
                      <a:pt x="15" y="603"/>
                    </a:lnTo>
                    <a:lnTo>
                      <a:pt x="16" y="603"/>
                    </a:lnTo>
                    <a:lnTo>
                      <a:pt x="18" y="605"/>
                    </a:lnTo>
                    <a:lnTo>
                      <a:pt x="19" y="606"/>
                    </a:lnTo>
                    <a:lnTo>
                      <a:pt x="20" y="607"/>
                    </a:lnTo>
                    <a:lnTo>
                      <a:pt x="20" y="607"/>
                    </a:lnTo>
                    <a:lnTo>
                      <a:pt x="23" y="608"/>
                    </a:lnTo>
                    <a:lnTo>
                      <a:pt x="24" y="608"/>
                    </a:lnTo>
                    <a:lnTo>
                      <a:pt x="25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9" y="607"/>
                    </a:lnTo>
                    <a:lnTo>
                      <a:pt x="29" y="606"/>
                    </a:lnTo>
                    <a:lnTo>
                      <a:pt x="29" y="606"/>
                    </a:lnTo>
                    <a:lnTo>
                      <a:pt x="29" y="603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7" y="600"/>
                    </a:lnTo>
                    <a:lnTo>
                      <a:pt x="25" y="600"/>
                    </a:lnTo>
                    <a:lnTo>
                      <a:pt x="24" y="598"/>
                    </a:lnTo>
                    <a:lnTo>
                      <a:pt x="24" y="597"/>
                    </a:lnTo>
                    <a:lnTo>
                      <a:pt x="24" y="596"/>
                    </a:lnTo>
                    <a:lnTo>
                      <a:pt x="24" y="595"/>
                    </a:lnTo>
                    <a:lnTo>
                      <a:pt x="24" y="592"/>
                    </a:lnTo>
                    <a:lnTo>
                      <a:pt x="25" y="591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9" y="587"/>
                    </a:lnTo>
                    <a:lnTo>
                      <a:pt x="29" y="587"/>
                    </a:lnTo>
                    <a:lnTo>
                      <a:pt x="29" y="586"/>
                    </a:lnTo>
                    <a:lnTo>
                      <a:pt x="29" y="584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7" y="582"/>
                    </a:lnTo>
                    <a:lnTo>
                      <a:pt x="27" y="581"/>
                    </a:lnTo>
                    <a:lnTo>
                      <a:pt x="25" y="581"/>
                    </a:lnTo>
                    <a:lnTo>
                      <a:pt x="24" y="581"/>
                    </a:lnTo>
                    <a:lnTo>
                      <a:pt x="23" y="582"/>
                    </a:lnTo>
                    <a:lnTo>
                      <a:pt x="23" y="582"/>
                    </a:lnTo>
                    <a:lnTo>
                      <a:pt x="20" y="584"/>
                    </a:lnTo>
                    <a:lnTo>
                      <a:pt x="19" y="586"/>
                    </a:lnTo>
                    <a:lnTo>
                      <a:pt x="18" y="586"/>
                    </a:lnTo>
                    <a:lnTo>
                      <a:pt x="15" y="586"/>
                    </a:lnTo>
                    <a:lnTo>
                      <a:pt x="11" y="586"/>
                    </a:lnTo>
                    <a:lnTo>
                      <a:pt x="10" y="586"/>
                    </a:lnTo>
                    <a:lnTo>
                      <a:pt x="9" y="584"/>
                    </a:lnTo>
                    <a:lnTo>
                      <a:pt x="9" y="584"/>
                    </a:lnTo>
                    <a:lnTo>
                      <a:pt x="6" y="582"/>
                    </a:lnTo>
                    <a:lnTo>
                      <a:pt x="5" y="581"/>
                    </a:lnTo>
                    <a:lnTo>
                      <a:pt x="4" y="581"/>
                    </a:lnTo>
                    <a:lnTo>
                      <a:pt x="3" y="581"/>
                    </a:lnTo>
                    <a:lnTo>
                      <a:pt x="3" y="582"/>
                    </a:lnTo>
                    <a:lnTo>
                      <a:pt x="0" y="582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6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3" y="590"/>
                    </a:lnTo>
                    <a:lnTo>
                      <a:pt x="4" y="591"/>
                    </a:lnTo>
                    <a:lnTo>
                      <a:pt x="5" y="592"/>
                    </a:lnTo>
                    <a:lnTo>
                      <a:pt x="5" y="595"/>
                    </a:lnTo>
                    <a:lnTo>
                      <a:pt x="6" y="596"/>
                    </a:lnTo>
                    <a:lnTo>
                      <a:pt x="5" y="597"/>
                    </a:lnTo>
                    <a:lnTo>
                      <a:pt x="5" y="598"/>
                    </a:lnTo>
                    <a:lnTo>
                      <a:pt x="4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0" y="602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3" y="608"/>
                    </a:lnTo>
                    <a:lnTo>
                      <a:pt x="3" y="610"/>
                    </a:lnTo>
                    <a:lnTo>
                      <a:pt x="4" y="611"/>
                    </a:lnTo>
                    <a:lnTo>
                      <a:pt x="5" y="610"/>
                    </a:lnTo>
                    <a:lnTo>
                      <a:pt x="6" y="608"/>
                    </a:lnTo>
                    <a:lnTo>
                      <a:pt x="6" y="608"/>
                    </a:lnTo>
                    <a:close/>
                  </a:path>
                </a:pathLst>
              </a:custGeom>
              <a:solidFill>
                <a:srgbClr val="ddddd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42" name=""/>
              <p:cNvSpPr/>
              <p:nvPr/>
            </p:nvSpPr>
            <p:spPr>
              <a:xfrm>
                <a:off x="5175360" y="3855600"/>
                <a:ext cx="19080" cy="165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43" name=""/>
              <p:cNvSpPr/>
              <p:nvPr/>
            </p:nvSpPr>
            <p:spPr>
              <a:xfrm>
                <a:off x="5175360" y="4177440"/>
                <a:ext cx="19080" cy="165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7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32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6544" name=""/>
            <p:cNvSpPr/>
            <p:nvPr/>
          </p:nvSpPr>
          <p:spPr>
            <a:xfrm>
              <a:off x="5221440" y="3832920"/>
              <a:ext cx="47880" cy="39492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5197680" y="3813480"/>
              <a:ext cx="23760" cy="433080"/>
            </a:xfrm>
            <a:prstGeom prst="rect">
              <a:avLst/>
            </a:prstGeom>
            <a:solidFill>
              <a:srgbClr val="7b7b7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5221440" y="3813480"/>
              <a:ext cx="23760" cy="433080"/>
            </a:xfrm>
            <a:prstGeom prst="rect">
              <a:avLst/>
            </a:prstGeom>
            <a:solidFill>
              <a:srgbClr val="5d5d5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5245200" y="3813480"/>
              <a:ext cx="24120" cy="433080"/>
            </a:xfrm>
            <a:prstGeom prst="rect">
              <a:avLst/>
            </a:prstGeom>
            <a:solidFill>
              <a:srgbClr val="676767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5215320" y="3824280"/>
              <a:ext cx="40320" cy="404280"/>
            </a:xfrm>
            <a:custGeom>
              <a:avLst/>
              <a:gdLst/>
              <a:ahLst/>
              <a:rect l="l" t="t" r="r" b="b"/>
              <a:pathLst>
                <a:path w="60" h="728">
                  <a:moveTo>
                    <a:pt x="60" y="720"/>
                  </a:moveTo>
                  <a:lnTo>
                    <a:pt x="60" y="7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20"/>
                  </a:lnTo>
                  <a:lnTo>
                    <a:pt x="1" y="723"/>
                  </a:lnTo>
                  <a:lnTo>
                    <a:pt x="1" y="724"/>
                  </a:lnTo>
                  <a:lnTo>
                    <a:pt x="4" y="725"/>
                  </a:lnTo>
                  <a:lnTo>
                    <a:pt x="6" y="726"/>
                  </a:lnTo>
                  <a:lnTo>
                    <a:pt x="9" y="728"/>
                  </a:lnTo>
                  <a:lnTo>
                    <a:pt x="9" y="728"/>
                  </a:lnTo>
                  <a:lnTo>
                    <a:pt x="53" y="728"/>
                  </a:lnTo>
                  <a:lnTo>
                    <a:pt x="56" y="726"/>
                  </a:lnTo>
                  <a:lnTo>
                    <a:pt x="58" y="725"/>
                  </a:lnTo>
                  <a:lnTo>
                    <a:pt x="59" y="724"/>
                  </a:lnTo>
                  <a:lnTo>
                    <a:pt x="60" y="72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2906640" y="4207680"/>
              <a:ext cx="14688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2906640" y="4207680"/>
              <a:ext cx="14688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3127680" y="4207680"/>
              <a:ext cx="14580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3127680" y="4207680"/>
              <a:ext cx="14580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3346200" y="4207680"/>
              <a:ext cx="14796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3346200" y="4207680"/>
              <a:ext cx="14796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3566160" y="4207680"/>
              <a:ext cx="146880" cy="3996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3566160" y="4207680"/>
              <a:ext cx="146880" cy="39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3199320" y="4056840"/>
              <a:ext cx="222120" cy="594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3199320" y="4056840"/>
              <a:ext cx="222120" cy="59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3199320" y="3875400"/>
              <a:ext cx="222120" cy="61200"/>
            </a:xfrm>
            <a:prstGeom prst="rect">
              <a:avLst/>
            </a:prstGeom>
            <a:solidFill>
              <a:srgbClr val="ff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3199320" y="3875400"/>
              <a:ext cx="222120" cy="61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561" name=""/>
          <p:cNvSpPr/>
          <p:nvPr/>
        </p:nvSpPr>
        <p:spPr>
          <a:xfrm flipH="1">
            <a:off x="2286000" y="3495600"/>
            <a:ext cx="1789200" cy="270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62" name=""/>
          <p:cNvSpPr/>
          <p:nvPr/>
        </p:nvSpPr>
        <p:spPr>
          <a:xfrm flipH="1">
            <a:off x="2282400" y="6173640"/>
            <a:ext cx="793800" cy="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63" name=""/>
          <p:cNvSpPr/>
          <p:nvPr/>
        </p:nvSpPr>
        <p:spPr>
          <a:xfrm>
            <a:off x="431640" y="1452600"/>
            <a:ext cx="3695760" cy="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64" name=""/>
          <p:cNvSpPr/>
          <p:nvPr/>
        </p:nvSpPr>
        <p:spPr>
          <a:xfrm flipH="1">
            <a:off x="974880" y="5599080"/>
            <a:ext cx="2149200" cy="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65" name=""/>
          <p:cNvSpPr/>
          <p:nvPr/>
        </p:nvSpPr>
        <p:spPr>
          <a:xfrm flipV="1">
            <a:off x="971640" y="2869920"/>
            <a:ext cx="3144600" cy="2700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66" name=""/>
          <p:cNvSpPr/>
          <p:nvPr/>
        </p:nvSpPr>
        <p:spPr>
          <a:xfrm flipH="1">
            <a:off x="921960" y="2892600"/>
            <a:ext cx="12600" cy="271620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67" name=""/>
          <p:cNvSpPr/>
          <p:nvPr/>
        </p:nvSpPr>
        <p:spPr>
          <a:xfrm>
            <a:off x="703440" y="2208240"/>
            <a:ext cx="14040" cy="317340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68" name=""/>
          <p:cNvSpPr/>
          <p:nvPr/>
        </p:nvSpPr>
        <p:spPr>
          <a:xfrm flipH="1" flipV="1">
            <a:off x="698400" y="5397480"/>
            <a:ext cx="2409840" cy="144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69" name=""/>
          <p:cNvSpPr/>
          <p:nvPr/>
        </p:nvSpPr>
        <p:spPr>
          <a:xfrm flipH="1">
            <a:off x="685440" y="2155680"/>
            <a:ext cx="3376440" cy="27000"/>
          </a:xfrm>
          <a:prstGeom prst="line">
            <a:avLst/>
          </a:prstGeom>
          <a:ln w="3816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0" name=""/>
          <p:cNvSpPr/>
          <p:nvPr/>
        </p:nvSpPr>
        <p:spPr>
          <a:xfrm flipH="1">
            <a:off x="8791560" y="1482840"/>
            <a:ext cx="14400" cy="336204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1" name=""/>
          <p:cNvSpPr/>
          <p:nvPr/>
        </p:nvSpPr>
        <p:spPr>
          <a:xfrm flipH="1">
            <a:off x="8305560" y="3478320"/>
            <a:ext cx="11160" cy="119520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2" name=""/>
          <p:cNvSpPr/>
          <p:nvPr/>
        </p:nvSpPr>
        <p:spPr>
          <a:xfrm>
            <a:off x="7612200" y="2157480"/>
            <a:ext cx="1440" cy="178740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3" name=""/>
          <p:cNvSpPr/>
          <p:nvPr/>
        </p:nvSpPr>
        <p:spPr>
          <a:xfrm>
            <a:off x="5086440" y="1455840"/>
            <a:ext cx="3733560" cy="2700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4" name=""/>
          <p:cNvSpPr/>
          <p:nvPr/>
        </p:nvSpPr>
        <p:spPr>
          <a:xfrm flipH="1" flipV="1">
            <a:off x="3471840" y="4858920"/>
            <a:ext cx="5268960" cy="1260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5" name=""/>
          <p:cNvSpPr/>
          <p:nvPr/>
        </p:nvSpPr>
        <p:spPr>
          <a:xfrm flipH="1" flipV="1">
            <a:off x="3519000" y="4662360"/>
            <a:ext cx="4816440" cy="144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6" name=""/>
          <p:cNvSpPr/>
          <p:nvPr/>
        </p:nvSpPr>
        <p:spPr>
          <a:xfrm flipH="1">
            <a:off x="5040000" y="3475080"/>
            <a:ext cx="3297240" cy="144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7" name=""/>
          <p:cNvSpPr/>
          <p:nvPr/>
        </p:nvSpPr>
        <p:spPr>
          <a:xfrm flipH="1" flipV="1">
            <a:off x="3449520" y="3894120"/>
            <a:ext cx="4192560" cy="3816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8" name=""/>
          <p:cNvSpPr/>
          <p:nvPr/>
        </p:nvSpPr>
        <p:spPr>
          <a:xfrm>
            <a:off x="5048280" y="2131920"/>
            <a:ext cx="2590920" cy="27000"/>
          </a:xfrm>
          <a:prstGeom prst="line">
            <a:avLst/>
          </a:prstGeom>
          <a:ln w="38160">
            <a:solidFill>
              <a:srgbClr val="0071b5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9" name=""/>
          <p:cNvSpPr/>
          <p:nvPr/>
        </p:nvSpPr>
        <p:spPr>
          <a:xfrm flipH="1" flipV="1">
            <a:off x="3544920" y="4090680"/>
            <a:ext cx="4479840" cy="270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19800" bIns="-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0" name=""/>
          <p:cNvSpPr/>
          <p:nvPr/>
        </p:nvSpPr>
        <p:spPr>
          <a:xfrm flipH="1">
            <a:off x="5043240" y="2860560"/>
            <a:ext cx="2949480" cy="18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1" name=""/>
          <p:cNvSpPr/>
          <p:nvPr/>
        </p:nvSpPr>
        <p:spPr>
          <a:xfrm flipH="1">
            <a:off x="7988040" y="2878200"/>
            <a:ext cx="11160" cy="12621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2" name=""/>
          <p:cNvSpPr/>
          <p:nvPr/>
        </p:nvSpPr>
        <p:spPr>
          <a:xfrm>
            <a:off x="1039680" y="1027080"/>
            <a:ext cx="1652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Disk Enclosure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3" name=""/>
          <p:cNvSpPr/>
          <p:nvPr/>
        </p:nvSpPr>
        <p:spPr>
          <a:xfrm>
            <a:off x="1039680" y="1757520"/>
            <a:ext cx="1652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Disk Enclosure 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4" name=""/>
          <p:cNvSpPr/>
          <p:nvPr/>
        </p:nvSpPr>
        <p:spPr>
          <a:xfrm>
            <a:off x="1039680" y="2389320"/>
            <a:ext cx="1652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Disk Enclosure 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5" name=""/>
          <p:cNvSpPr/>
          <p:nvPr/>
        </p:nvSpPr>
        <p:spPr>
          <a:xfrm>
            <a:off x="1039680" y="3102120"/>
            <a:ext cx="16527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Disk Enclosure 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6" name=""/>
          <p:cNvSpPr/>
          <p:nvPr/>
        </p:nvSpPr>
        <p:spPr>
          <a:xfrm>
            <a:off x="6773040" y="6091200"/>
            <a:ext cx="154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torage CLIM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7" name=""/>
          <p:cNvSpPr/>
          <p:nvPr/>
        </p:nvSpPr>
        <p:spPr>
          <a:xfrm>
            <a:off x="6697080" y="5383080"/>
            <a:ext cx="154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torage CLIM 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8" name=""/>
          <p:cNvSpPr/>
          <p:nvPr/>
        </p:nvSpPr>
        <p:spPr>
          <a:xfrm>
            <a:off x="6697080" y="4925880"/>
            <a:ext cx="154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torage CLIM 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9" name=""/>
          <p:cNvSpPr/>
          <p:nvPr/>
        </p:nvSpPr>
        <p:spPr>
          <a:xfrm>
            <a:off x="6670080" y="4159080"/>
            <a:ext cx="154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torage CLIM 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90" name=""/>
          <p:cNvSpPr/>
          <p:nvPr/>
        </p:nvSpPr>
        <p:spPr>
          <a:xfrm>
            <a:off x="3502440" y="1009800"/>
            <a:ext cx="100944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rimary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91" name=""/>
          <p:cNvSpPr/>
          <p:nvPr/>
        </p:nvSpPr>
        <p:spPr>
          <a:xfrm>
            <a:off x="3480120" y="2398680"/>
            <a:ext cx="100944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rimary 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92" name=""/>
          <p:cNvSpPr/>
          <p:nvPr/>
        </p:nvSpPr>
        <p:spPr>
          <a:xfrm>
            <a:off x="4997520" y="1001880"/>
            <a:ext cx="9622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Backup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93" name=""/>
          <p:cNvSpPr/>
          <p:nvPr/>
        </p:nvSpPr>
        <p:spPr>
          <a:xfrm>
            <a:off x="5095800" y="2430360"/>
            <a:ext cx="96228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71b5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Backup 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94" name=""/>
          <p:cNvSpPr/>
          <p:nvPr/>
        </p:nvSpPr>
        <p:spPr>
          <a:xfrm>
            <a:off x="5070240" y="1665360"/>
            <a:ext cx="87084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Mirror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95" name=""/>
          <p:cNvSpPr/>
          <p:nvPr/>
        </p:nvSpPr>
        <p:spPr>
          <a:xfrm>
            <a:off x="5155920" y="3054240"/>
            <a:ext cx="87084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Mirror 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96" name=""/>
          <p:cNvSpPr/>
          <p:nvPr/>
        </p:nvSpPr>
        <p:spPr>
          <a:xfrm>
            <a:off x="3138480" y="1701720"/>
            <a:ext cx="15721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Mirror Backup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97" name=""/>
          <p:cNvSpPr/>
          <p:nvPr/>
        </p:nvSpPr>
        <p:spPr>
          <a:xfrm>
            <a:off x="3022560" y="3051000"/>
            <a:ext cx="15721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Mirror Backup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2E0B3-17F2-460E-9BBC-116BBDE851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Daisy-Chaining SAS Enclosur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9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A maximum of four SAS disk enclosures can be daisy-chained together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pic>
        <p:nvPicPr>
          <p:cNvPr id="6600" name="" descr=""/>
          <p:cNvPicPr/>
          <p:nvPr/>
        </p:nvPicPr>
        <p:blipFill>
          <a:blip r:embed="rId1"/>
          <a:stretch/>
        </p:blipFill>
        <p:spPr>
          <a:xfrm>
            <a:off x="458640" y="3825720"/>
            <a:ext cx="3857760" cy="768600"/>
          </a:xfrm>
          <a:prstGeom prst="rect">
            <a:avLst/>
          </a:prstGeom>
          <a:ln w="0">
            <a:noFill/>
          </a:ln>
        </p:spPr>
      </p:pic>
      <p:grpSp>
        <p:nvGrpSpPr>
          <p:cNvPr id="6601" name=""/>
          <p:cNvGrpSpPr/>
          <p:nvPr/>
        </p:nvGrpSpPr>
        <p:grpSpPr>
          <a:xfrm>
            <a:off x="279360" y="2125800"/>
            <a:ext cx="4381560" cy="947520"/>
            <a:chOff x="279360" y="2125800"/>
            <a:chExt cx="4381560" cy="947520"/>
          </a:xfrm>
        </p:grpSpPr>
        <p:sp>
          <p:nvSpPr>
            <p:cNvPr id="6602" name=""/>
            <p:cNvSpPr/>
            <p:nvPr/>
          </p:nvSpPr>
          <p:spPr>
            <a:xfrm>
              <a:off x="281880" y="2674440"/>
              <a:ext cx="87120" cy="386640"/>
            </a:xfrm>
            <a:custGeom>
              <a:avLst/>
              <a:gdLst/>
              <a:ahLst/>
              <a:rect l="l" t="t" r="r" b="b"/>
              <a:pathLst>
                <a:path w="122" h="497">
                  <a:moveTo>
                    <a:pt x="104" y="497"/>
                  </a:moveTo>
                  <a:lnTo>
                    <a:pt x="108" y="497"/>
                  </a:lnTo>
                  <a:lnTo>
                    <a:pt x="110" y="496"/>
                  </a:lnTo>
                  <a:lnTo>
                    <a:pt x="114" y="495"/>
                  </a:lnTo>
                  <a:lnTo>
                    <a:pt x="117" y="492"/>
                  </a:lnTo>
                  <a:lnTo>
                    <a:pt x="118" y="490"/>
                  </a:lnTo>
                  <a:lnTo>
                    <a:pt x="120" y="487"/>
                  </a:lnTo>
                  <a:lnTo>
                    <a:pt x="122" y="485"/>
                  </a:lnTo>
                  <a:lnTo>
                    <a:pt x="122" y="481"/>
                  </a:lnTo>
                  <a:lnTo>
                    <a:pt x="122" y="481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0" y="9"/>
                  </a:lnTo>
                  <a:lnTo>
                    <a:pt x="118" y="6"/>
                  </a:lnTo>
                  <a:lnTo>
                    <a:pt x="117" y="4"/>
                  </a:lnTo>
                  <a:lnTo>
                    <a:pt x="114" y="2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1" y="487"/>
                  </a:lnTo>
                  <a:lnTo>
                    <a:pt x="3" y="490"/>
                  </a:lnTo>
                  <a:lnTo>
                    <a:pt x="5" y="492"/>
                  </a:lnTo>
                  <a:lnTo>
                    <a:pt x="8" y="495"/>
                  </a:lnTo>
                  <a:lnTo>
                    <a:pt x="10" y="496"/>
                  </a:lnTo>
                  <a:lnTo>
                    <a:pt x="14" y="497"/>
                  </a:lnTo>
                  <a:lnTo>
                    <a:pt x="18" y="497"/>
                  </a:lnTo>
                  <a:lnTo>
                    <a:pt x="104" y="497"/>
                  </a:lnTo>
                  <a:lnTo>
                    <a:pt x="104" y="4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280440" y="2671920"/>
              <a:ext cx="88560" cy="38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280440" y="2671920"/>
              <a:ext cx="1080" cy="389160"/>
            </a:xfrm>
            <a:prstGeom prst="rect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280440" y="2671920"/>
              <a:ext cx="1080" cy="38916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281880" y="2671920"/>
              <a:ext cx="1080" cy="3891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282960" y="2671920"/>
              <a:ext cx="2520" cy="389160"/>
            </a:xfrm>
            <a:prstGeom prst="rect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282960" y="2671920"/>
              <a:ext cx="2520" cy="389160"/>
            </a:xfrm>
            <a:prstGeom prst="rect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285480" y="2671920"/>
              <a:ext cx="1080" cy="389160"/>
            </a:xfrm>
            <a:prstGeom prst="rect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286560" y="2671920"/>
              <a:ext cx="1080" cy="389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286560" y="2671920"/>
              <a:ext cx="1080" cy="38916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288000" y="2671920"/>
              <a:ext cx="1080" cy="389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288000" y="2671920"/>
              <a:ext cx="1080" cy="389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289080" y="2671920"/>
              <a:ext cx="1080" cy="38916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290520" y="2671920"/>
              <a:ext cx="1080" cy="38916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290520" y="2671920"/>
              <a:ext cx="1080" cy="38916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291600" y="2671920"/>
              <a:ext cx="1080" cy="38916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292680" y="2671920"/>
              <a:ext cx="2520" cy="38916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92680" y="2671920"/>
              <a:ext cx="2520" cy="38916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295200" y="2671920"/>
              <a:ext cx="1080" cy="38916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295200" y="2671920"/>
              <a:ext cx="1080" cy="3891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296640" y="2671920"/>
              <a:ext cx="1080" cy="389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297720" y="2671920"/>
              <a:ext cx="1080" cy="3891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297720" y="2671920"/>
              <a:ext cx="1080" cy="38916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299160" y="2671920"/>
              <a:ext cx="1080" cy="38916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6" name=""/>
            <p:cNvSpPr/>
            <p:nvPr/>
          </p:nvSpPr>
          <p:spPr>
            <a:xfrm>
              <a:off x="300600" y="2671920"/>
              <a:ext cx="1080" cy="38916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7" name=""/>
            <p:cNvSpPr/>
            <p:nvPr/>
          </p:nvSpPr>
          <p:spPr>
            <a:xfrm>
              <a:off x="300600" y="2671920"/>
              <a:ext cx="1080" cy="38916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8" name=""/>
            <p:cNvSpPr/>
            <p:nvPr/>
          </p:nvSpPr>
          <p:spPr>
            <a:xfrm>
              <a:off x="301680" y="2671920"/>
              <a:ext cx="1080" cy="38916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29" name=""/>
            <p:cNvSpPr/>
            <p:nvPr/>
          </p:nvSpPr>
          <p:spPr>
            <a:xfrm>
              <a:off x="301680" y="2671920"/>
              <a:ext cx="1080" cy="389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0" name=""/>
            <p:cNvSpPr/>
            <p:nvPr/>
          </p:nvSpPr>
          <p:spPr>
            <a:xfrm>
              <a:off x="303120" y="2671920"/>
              <a:ext cx="1080" cy="389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1" name=""/>
            <p:cNvSpPr/>
            <p:nvPr/>
          </p:nvSpPr>
          <p:spPr>
            <a:xfrm>
              <a:off x="304200" y="2671920"/>
              <a:ext cx="2520" cy="38916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2" name=""/>
            <p:cNvSpPr/>
            <p:nvPr/>
          </p:nvSpPr>
          <p:spPr>
            <a:xfrm>
              <a:off x="304200" y="2671920"/>
              <a:ext cx="2520" cy="3891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3" name=""/>
            <p:cNvSpPr/>
            <p:nvPr/>
          </p:nvSpPr>
          <p:spPr>
            <a:xfrm>
              <a:off x="306720" y="2671920"/>
              <a:ext cx="1080" cy="38916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4" name=""/>
            <p:cNvSpPr/>
            <p:nvPr/>
          </p:nvSpPr>
          <p:spPr>
            <a:xfrm>
              <a:off x="307800" y="2671920"/>
              <a:ext cx="1080" cy="3891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5" name=""/>
            <p:cNvSpPr/>
            <p:nvPr/>
          </p:nvSpPr>
          <p:spPr>
            <a:xfrm>
              <a:off x="307800" y="2671920"/>
              <a:ext cx="1080" cy="3891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6" name=""/>
            <p:cNvSpPr/>
            <p:nvPr/>
          </p:nvSpPr>
          <p:spPr>
            <a:xfrm>
              <a:off x="309240" y="2671920"/>
              <a:ext cx="1080" cy="3891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7" name=""/>
            <p:cNvSpPr/>
            <p:nvPr/>
          </p:nvSpPr>
          <p:spPr>
            <a:xfrm>
              <a:off x="310320" y="2671920"/>
              <a:ext cx="1080" cy="3891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8" name=""/>
            <p:cNvSpPr/>
            <p:nvPr/>
          </p:nvSpPr>
          <p:spPr>
            <a:xfrm>
              <a:off x="310320" y="2671920"/>
              <a:ext cx="1080" cy="3891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39" name=""/>
            <p:cNvSpPr/>
            <p:nvPr/>
          </p:nvSpPr>
          <p:spPr>
            <a:xfrm>
              <a:off x="311760" y="2671920"/>
              <a:ext cx="1080" cy="3891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0" name=""/>
            <p:cNvSpPr/>
            <p:nvPr/>
          </p:nvSpPr>
          <p:spPr>
            <a:xfrm>
              <a:off x="311760" y="2671920"/>
              <a:ext cx="1080" cy="389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1" name=""/>
            <p:cNvSpPr/>
            <p:nvPr/>
          </p:nvSpPr>
          <p:spPr>
            <a:xfrm>
              <a:off x="312840" y="2671920"/>
              <a:ext cx="1080" cy="3891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2" name=""/>
            <p:cNvSpPr/>
            <p:nvPr/>
          </p:nvSpPr>
          <p:spPr>
            <a:xfrm>
              <a:off x="313920" y="2671920"/>
              <a:ext cx="2520" cy="3891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3" name=""/>
            <p:cNvSpPr/>
            <p:nvPr/>
          </p:nvSpPr>
          <p:spPr>
            <a:xfrm>
              <a:off x="313920" y="2671920"/>
              <a:ext cx="2520" cy="3891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4" name=""/>
            <p:cNvSpPr/>
            <p:nvPr/>
          </p:nvSpPr>
          <p:spPr>
            <a:xfrm>
              <a:off x="316440" y="2671920"/>
              <a:ext cx="1080" cy="3891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5" name=""/>
            <p:cNvSpPr/>
            <p:nvPr/>
          </p:nvSpPr>
          <p:spPr>
            <a:xfrm>
              <a:off x="317880" y="2671920"/>
              <a:ext cx="1080" cy="3891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6" name=""/>
            <p:cNvSpPr/>
            <p:nvPr/>
          </p:nvSpPr>
          <p:spPr>
            <a:xfrm>
              <a:off x="317880" y="2671920"/>
              <a:ext cx="1080" cy="3891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7" name=""/>
            <p:cNvSpPr/>
            <p:nvPr/>
          </p:nvSpPr>
          <p:spPr>
            <a:xfrm>
              <a:off x="318960" y="2671920"/>
              <a:ext cx="1080" cy="3891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8" name=""/>
            <p:cNvSpPr/>
            <p:nvPr/>
          </p:nvSpPr>
          <p:spPr>
            <a:xfrm>
              <a:off x="318960" y="2671920"/>
              <a:ext cx="1080" cy="3891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9" name=""/>
            <p:cNvSpPr/>
            <p:nvPr/>
          </p:nvSpPr>
          <p:spPr>
            <a:xfrm>
              <a:off x="320400" y="2671920"/>
              <a:ext cx="1080" cy="389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50" name=""/>
            <p:cNvSpPr/>
            <p:nvPr/>
          </p:nvSpPr>
          <p:spPr>
            <a:xfrm>
              <a:off x="321840" y="2671920"/>
              <a:ext cx="1080" cy="3891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321840" y="2671920"/>
              <a:ext cx="1080" cy="3891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322920" y="2671920"/>
              <a:ext cx="1080" cy="3891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24360" y="2671920"/>
              <a:ext cx="2520" cy="3891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54" name=""/>
            <p:cNvSpPr/>
            <p:nvPr/>
          </p:nvSpPr>
          <p:spPr>
            <a:xfrm>
              <a:off x="324360" y="2671920"/>
              <a:ext cx="25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55" name=""/>
            <p:cNvSpPr/>
            <p:nvPr/>
          </p:nvSpPr>
          <p:spPr>
            <a:xfrm>
              <a:off x="326880" y="2671920"/>
              <a:ext cx="1080" cy="3891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56" name=""/>
            <p:cNvSpPr/>
            <p:nvPr/>
          </p:nvSpPr>
          <p:spPr>
            <a:xfrm>
              <a:off x="326880" y="2671920"/>
              <a:ext cx="1080" cy="3891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57" name=""/>
            <p:cNvSpPr/>
            <p:nvPr/>
          </p:nvSpPr>
          <p:spPr>
            <a:xfrm>
              <a:off x="327960" y="2671920"/>
              <a:ext cx="1080" cy="3891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58" name=""/>
            <p:cNvSpPr/>
            <p:nvPr/>
          </p:nvSpPr>
          <p:spPr>
            <a:xfrm>
              <a:off x="329040" y="2671920"/>
              <a:ext cx="1080" cy="3891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6659" name=""/>
            <p:cNvGrpSpPr/>
            <p:nvPr/>
          </p:nvGrpSpPr>
          <p:grpSpPr>
            <a:xfrm>
              <a:off x="279360" y="2125800"/>
              <a:ext cx="4381560" cy="947520"/>
              <a:chOff x="279360" y="2125800"/>
              <a:chExt cx="4381560" cy="947520"/>
            </a:xfrm>
          </p:grpSpPr>
          <p:sp>
            <p:nvSpPr>
              <p:cNvPr id="6660" name=""/>
              <p:cNvSpPr/>
              <p:nvPr/>
            </p:nvSpPr>
            <p:spPr>
              <a:xfrm>
                <a:off x="329040" y="2672640"/>
                <a:ext cx="1080" cy="3880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1" name=""/>
              <p:cNvSpPr/>
              <p:nvPr/>
            </p:nvSpPr>
            <p:spPr>
              <a:xfrm>
                <a:off x="330480" y="2672640"/>
                <a:ext cx="1440" cy="38808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2" name=""/>
              <p:cNvSpPr/>
              <p:nvPr/>
            </p:nvSpPr>
            <p:spPr>
              <a:xfrm>
                <a:off x="331920" y="2672640"/>
                <a:ext cx="1080" cy="3880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3" name=""/>
              <p:cNvSpPr/>
              <p:nvPr/>
            </p:nvSpPr>
            <p:spPr>
              <a:xfrm>
                <a:off x="331920" y="2672640"/>
                <a:ext cx="1080" cy="38808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4" name=""/>
              <p:cNvSpPr/>
              <p:nvPr/>
            </p:nvSpPr>
            <p:spPr>
              <a:xfrm>
                <a:off x="333360" y="2672640"/>
                <a:ext cx="1080" cy="38808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5" name=""/>
              <p:cNvSpPr/>
              <p:nvPr/>
            </p:nvSpPr>
            <p:spPr>
              <a:xfrm>
                <a:off x="333360" y="2672640"/>
                <a:ext cx="1080" cy="38808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6" name=""/>
              <p:cNvSpPr/>
              <p:nvPr/>
            </p:nvSpPr>
            <p:spPr>
              <a:xfrm>
                <a:off x="334800" y="2672640"/>
                <a:ext cx="1440" cy="3880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7" name=""/>
              <p:cNvSpPr/>
              <p:nvPr/>
            </p:nvSpPr>
            <p:spPr>
              <a:xfrm>
                <a:off x="336240" y="2672640"/>
                <a:ext cx="1080" cy="38808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8" name=""/>
              <p:cNvSpPr/>
              <p:nvPr/>
            </p:nvSpPr>
            <p:spPr>
              <a:xfrm>
                <a:off x="336240" y="2672640"/>
                <a:ext cx="1080" cy="38808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9" name=""/>
              <p:cNvSpPr/>
              <p:nvPr/>
            </p:nvSpPr>
            <p:spPr>
              <a:xfrm>
                <a:off x="337680" y="2672640"/>
                <a:ext cx="1440" cy="38808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0" name=""/>
              <p:cNvSpPr/>
              <p:nvPr/>
            </p:nvSpPr>
            <p:spPr>
              <a:xfrm>
                <a:off x="339120" y="2672640"/>
                <a:ext cx="1080" cy="38808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1" name=""/>
              <p:cNvSpPr/>
              <p:nvPr/>
            </p:nvSpPr>
            <p:spPr>
              <a:xfrm>
                <a:off x="339120" y="2672640"/>
                <a:ext cx="1080" cy="38808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2" name=""/>
              <p:cNvSpPr/>
              <p:nvPr/>
            </p:nvSpPr>
            <p:spPr>
              <a:xfrm>
                <a:off x="340560" y="2672640"/>
                <a:ext cx="1080" cy="3880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3" name=""/>
              <p:cNvSpPr/>
              <p:nvPr/>
            </p:nvSpPr>
            <p:spPr>
              <a:xfrm>
                <a:off x="340560" y="2672640"/>
                <a:ext cx="1080" cy="38808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4" name=""/>
              <p:cNvSpPr/>
              <p:nvPr/>
            </p:nvSpPr>
            <p:spPr>
              <a:xfrm>
                <a:off x="341640" y="2672640"/>
                <a:ext cx="1440" cy="38808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5" name=""/>
              <p:cNvSpPr/>
              <p:nvPr/>
            </p:nvSpPr>
            <p:spPr>
              <a:xfrm>
                <a:off x="343440" y="2672640"/>
                <a:ext cx="1080" cy="38808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6" name=""/>
              <p:cNvSpPr/>
              <p:nvPr/>
            </p:nvSpPr>
            <p:spPr>
              <a:xfrm>
                <a:off x="343440" y="2672640"/>
                <a:ext cx="1080" cy="3880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7" name=""/>
              <p:cNvSpPr/>
              <p:nvPr/>
            </p:nvSpPr>
            <p:spPr>
              <a:xfrm>
                <a:off x="344520" y="2672640"/>
                <a:ext cx="1440" cy="388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8" name=""/>
              <p:cNvSpPr/>
              <p:nvPr/>
            </p:nvSpPr>
            <p:spPr>
              <a:xfrm>
                <a:off x="346320" y="2672640"/>
                <a:ext cx="1080" cy="38808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9" name=""/>
              <p:cNvSpPr/>
              <p:nvPr/>
            </p:nvSpPr>
            <p:spPr>
              <a:xfrm>
                <a:off x="346320" y="2672640"/>
                <a:ext cx="1080" cy="388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>
                <a:off x="347400" y="2672640"/>
                <a:ext cx="1080" cy="388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>
                <a:off x="347400" y="2672640"/>
                <a:ext cx="1080" cy="38808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>
                <a:off x="348840" y="2672640"/>
                <a:ext cx="1440" cy="3880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3" name=""/>
              <p:cNvSpPr/>
              <p:nvPr/>
            </p:nvSpPr>
            <p:spPr>
              <a:xfrm>
                <a:off x="350280" y="2672640"/>
                <a:ext cx="1080" cy="38808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4" name=""/>
              <p:cNvSpPr/>
              <p:nvPr/>
            </p:nvSpPr>
            <p:spPr>
              <a:xfrm>
                <a:off x="350280" y="2672640"/>
                <a:ext cx="1080" cy="38808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5" name=""/>
              <p:cNvSpPr/>
              <p:nvPr/>
            </p:nvSpPr>
            <p:spPr>
              <a:xfrm>
                <a:off x="351720" y="2672640"/>
                <a:ext cx="1440" cy="388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6" name=""/>
              <p:cNvSpPr/>
              <p:nvPr/>
            </p:nvSpPr>
            <p:spPr>
              <a:xfrm>
                <a:off x="353520" y="2672640"/>
                <a:ext cx="1080" cy="38808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7" name=""/>
              <p:cNvSpPr/>
              <p:nvPr/>
            </p:nvSpPr>
            <p:spPr>
              <a:xfrm>
                <a:off x="353520" y="2672640"/>
                <a:ext cx="1080" cy="3880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>
                <a:off x="354600" y="2672640"/>
                <a:ext cx="1080" cy="388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>
                <a:off x="354600" y="2672640"/>
                <a:ext cx="1080" cy="38808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>
                <a:off x="356040" y="2672640"/>
                <a:ext cx="1440" cy="38808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1" name=""/>
              <p:cNvSpPr/>
              <p:nvPr/>
            </p:nvSpPr>
            <p:spPr>
              <a:xfrm>
                <a:off x="357480" y="2672640"/>
                <a:ext cx="1080" cy="38808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357480" y="2672640"/>
                <a:ext cx="1080" cy="38808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358920" y="2672640"/>
                <a:ext cx="1440" cy="38808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4" name=""/>
              <p:cNvSpPr/>
              <p:nvPr/>
            </p:nvSpPr>
            <p:spPr>
              <a:xfrm>
                <a:off x="360360" y="2672640"/>
                <a:ext cx="1080" cy="38808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5" name=""/>
              <p:cNvSpPr/>
              <p:nvPr/>
            </p:nvSpPr>
            <p:spPr>
              <a:xfrm>
                <a:off x="360360" y="2672640"/>
                <a:ext cx="1080" cy="3880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>
                <a:off x="361800" y="2672640"/>
                <a:ext cx="1440" cy="388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>
                <a:off x="361800" y="2672640"/>
                <a:ext cx="1440" cy="38808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>
                <a:off x="363240" y="2672640"/>
                <a:ext cx="1080" cy="38808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364680" y="2672640"/>
                <a:ext cx="1080" cy="38808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0" name=""/>
              <p:cNvSpPr/>
              <p:nvPr/>
            </p:nvSpPr>
            <p:spPr>
              <a:xfrm>
                <a:off x="364680" y="2672640"/>
                <a:ext cx="1080" cy="3880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1" name=""/>
              <p:cNvSpPr/>
              <p:nvPr/>
            </p:nvSpPr>
            <p:spPr>
              <a:xfrm>
                <a:off x="365760" y="2672640"/>
                <a:ext cx="1440" cy="38808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367560" y="2672640"/>
                <a:ext cx="1080" cy="3880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367560" y="2672640"/>
                <a:ext cx="1080" cy="38808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4" name=""/>
              <p:cNvSpPr/>
              <p:nvPr/>
            </p:nvSpPr>
            <p:spPr>
              <a:xfrm>
                <a:off x="369000" y="2672640"/>
                <a:ext cx="1440" cy="38808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282240" y="2672640"/>
                <a:ext cx="85320" cy="386640"/>
              </a:xfrm>
              <a:custGeom>
                <a:avLst/>
                <a:gdLst/>
                <a:ahLst/>
                <a:rect l="l" t="t" r="r" b="b"/>
                <a:pathLst>
                  <a:path w="120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0" y="496"/>
                    </a:lnTo>
                    <a:lnTo>
                      <a:pt x="113" y="495"/>
                    </a:lnTo>
                    <a:lnTo>
                      <a:pt x="115" y="492"/>
                    </a:lnTo>
                    <a:lnTo>
                      <a:pt x="118" y="491"/>
                    </a:lnTo>
                    <a:lnTo>
                      <a:pt x="119" y="487"/>
                    </a:lnTo>
                    <a:lnTo>
                      <a:pt x="120" y="484"/>
                    </a:lnTo>
                    <a:lnTo>
                      <a:pt x="120" y="482"/>
                    </a:lnTo>
                    <a:lnTo>
                      <a:pt x="120" y="482"/>
                    </a:lnTo>
                    <a:lnTo>
                      <a:pt x="120" y="16"/>
                    </a:lnTo>
                    <a:lnTo>
                      <a:pt x="120" y="12"/>
                    </a:lnTo>
                    <a:lnTo>
                      <a:pt x="119" y="10"/>
                    </a:lnTo>
                    <a:lnTo>
                      <a:pt x="118" y="7"/>
                    </a:lnTo>
                    <a:lnTo>
                      <a:pt x="115" y="5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82"/>
                    </a:lnTo>
                    <a:lnTo>
                      <a:pt x="0" y="484"/>
                    </a:lnTo>
                    <a:lnTo>
                      <a:pt x="1" y="487"/>
                    </a:lnTo>
                    <a:lnTo>
                      <a:pt x="3" y="491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4" y="497"/>
                    </a:lnTo>
                    <a:lnTo>
                      <a:pt x="18" y="497"/>
                    </a:lnTo>
                    <a:lnTo>
                      <a:pt x="103" y="497"/>
                    </a:lnTo>
                    <a:lnTo>
                      <a:pt x="103" y="497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6" name=""/>
              <p:cNvSpPr/>
              <p:nvPr/>
            </p:nvSpPr>
            <p:spPr>
              <a:xfrm>
                <a:off x="4572360" y="2674080"/>
                <a:ext cx="85320" cy="386640"/>
              </a:xfrm>
              <a:custGeom>
                <a:avLst/>
                <a:gdLst/>
                <a:ahLst/>
                <a:rect l="l" t="t" r="r" b="b"/>
                <a:pathLst>
                  <a:path w="121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1" y="496"/>
                    </a:lnTo>
                    <a:lnTo>
                      <a:pt x="113" y="495"/>
                    </a:lnTo>
                    <a:lnTo>
                      <a:pt x="116" y="492"/>
                    </a:lnTo>
                    <a:lnTo>
                      <a:pt x="118" y="490"/>
                    </a:lnTo>
                    <a:lnTo>
                      <a:pt x="119" y="487"/>
                    </a:lnTo>
                    <a:lnTo>
                      <a:pt x="121" y="485"/>
                    </a:lnTo>
                    <a:lnTo>
                      <a:pt x="121" y="481"/>
                    </a:lnTo>
                    <a:lnTo>
                      <a:pt x="121" y="15"/>
                    </a:lnTo>
                    <a:lnTo>
                      <a:pt x="121" y="11"/>
                    </a:lnTo>
                    <a:lnTo>
                      <a:pt x="119" y="9"/>
                    </a:lnTo>
                    <a:lnTo>
                      <a:pt x="118" y="6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11" y="1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2" y="487"/>
                    </a:lnTo>
                    <a:lnTo>
                      <a:pt x="3" y="490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3" y="497"/>
                    </a:lnTo>
                    <a:lnTo>
                      <a:pt x="17" y="497"/>
                    </a:lnTo>
                    <a:lnTo>
                      <a:pt x="103" y="497"/>
                    </a:lnTo>
                    <a:lnTo>
                      <a:pt x="10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7" name=""/>
              <p:cNvSpPr/>
              <p:nvPr/>
            </p:nvSpPr>
            <p:spPr>
              <a:xfrm>
                <a:off x="4571280" y="2672640"/>
                <a:ext cx="87840" cy="3880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4571280" y="2672640"/>
                <a:ext cx="1080" cy="38808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9" name=""/>
              <p:cNvSpPr/>
              <p:nvPr/>
            </p:nvSpPr>
            <p:spPr>
              <a:xfrm>
                <a:off x="4572360" y="2672640"/>
                <a:ext cx="1440" cy="3880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0" name=""/>
              <p:cNvSpPr/>
              <p:nvPr/>
            </p:nvSpPr>
            <p:spPr>
              <a:xfrm>
                <a:off x="4572360" y="2672640"/>
                <a:ext cx="1440" cy="38808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1" name=""/>
              <p:cNvSpPr/>
              <p:nvPr/>
            </p:nvSpPr>
            <p:spPr>
              <a:xfrm>
                <a:off x="4574160" y="2672640"/>
                <a:ext cx="1080" cy="38808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2" name=""/>
              <p:cNvSpPr/>
              <p:nvPr/>
            </p:nvSpPr>
            <p:spPr>
              <a:xfrm>
                <a:off x="4574160" y="2672640"/>
                <a:ext cx="1080" cy="38808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3" name=""/>
              <p:cNvSpPr/>
              <p:nvPr/>
            </p:nvSpPr>
            <p:spPr>
              <a:xfrm>
                <a:off x="4575240" y="2672640"/>
                <a:ext cx="1440" cy="38808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4" name=""/>
              <p:cNvSpPr/>
              <p:nvPr/>
            </p:nvSpPr>
            <p:spPr>
              <a:xfrm>
                <a:off x="4577040" y="2672640"/>
                <a:ext cx="1080" cy="3880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4577040" y="2672640"/>
                <a:ext cx="1080" cy="38808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4578120" y="2672640"/>
                <a:ext cx="1080" cy="3880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4579560" y="2672640"/>
                <a:ext cx="1440" cy="3880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4579560" y="2672640"/>
                <a:ext cx="1440" cy="3880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9" name=""/>
              <p:cNvSpPr/>
              <p:nvPr/>
            </p:nvSpPr>
            <p:spPr>
              <a:xfrm>
                <a:off x="4581000" y="2672640"/>
                <a:ext cx="1080" cy="38808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0" name=""/>
              <p:cNvSpPr/>
              <p:nvPr/>
            </p:nvSpPr>
            <p:spPr>
              <a:xfrm>
                <a:off x="4581000" y="2672640"/>
                <a:ext cx="1080" cy="38808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1" name=""/>
              <p:cNvSpPr/>
              <p:nvPr/>
            </p:nvSpPr>
            <p:spPr>
              <a:xfrm>
                <a:off x="4582440" y="2672640"/>
                <a:ext cx="1440" cy="38808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4583880" y="2672640"/>
                <a:ext cx="1080" cy="38808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4583880" y="2672640"/>
                <a:ext cx="1080" cy="38808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585320" y="2672640"/>
                <a:ext cx="1080" cy="388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586760" y="2672640"/>
                <a:ext cx="1440" cy="3880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586760" y="2672640"/>
                <a:ext cx="1440" cy="3880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7" name=""/>
              <p:cNvSpPr/>
              <p:nvPr/>
            </p:nvSpPr>
            <p:spPr>
              <a:xfrm>
                <a:off x="4588200" y="2672640"/>
                <a:ext cx="1080" cy="388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8" name=""/>
              <p:cNvSpPr/>
              <p:nvPr/>
            </p:nvSpPr>
            <p:spPr>
              <a:xfrm>
                <a:off x="4588200" y="2672640"/>
                <a:ext cx="1080" cy="38808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4589640" y="2672640"/>
                <a:ext cx="1440" cy="3880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4591080" y="2672640"/>
                <a:ext cx="1080" cy="3880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4591080" y="2672640"/>
                <a:ext cx="1080" cy="3880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4592520" y="2672640"/>
                <a:ext cx="1080" cy="388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4593600" y="2672640"/>
                <a:ext cx="1440" cy="3880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4" name=""/>
              <p:cNvSpPr/>
              <p:nvPr/>
            </p:nvSpPr>
            <p:spPr>
              <a:xfrm>
                <a:off x="4593600" y="2672640"/>
                <a:ext cx="1440" cy="3880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4595400" y="2672640"/>
                <a:ext cx="1080" cy="388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4595400" y="2672640"/>
                <a:ext cx="1080" cy="38808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4596480" y="2672640"/>
                <a:ext cx="1440" cy="38808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4598280" y="2672640"/>
                <a:ext cx="1080" cy="38808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4598280" y="2672640"/>
                <a:ext cx="1080" cy="3880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4599360" y="2672640"/>
                <a:ext cx="1440" cy="3880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1" name=""/>
              <p:cNvSpPr/>
              <p:nvPr/>
            </p:nvSpPr>
            <p:spPr>
              <a:xfrm>
                <a:off x="4601160" y="2672640"/>
                <a:ext cx="1080" cy="38808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4601160" y="2672640"/>
                <a:ext cx="1080" cy="38808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4602240" y="2672640"/>
                <a:ext cx="1080" cy="38808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4602240" y="2672640"/>
                <a:ext cx="1080" cy="3880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4603680" y="2672640"/>
                <a:ext cx="1440" cy="38808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4605480" y="2672640"/>
                <a:ext cx="1080" cy="3880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4605480" y="2672640"/>
                <a:ext cx="1080" cy="38808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8" name=""/>
              <p:cNvSpPr/>
              <p:nvPr/>
            </p:nvSpPr>
            <p:spPr>
              <a:xfrm>
                <a:off x="4606560" y="2672640"/>
                <a:ext cx="1440" cy="38808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9" name=""/>
              <p:cNvSpPr/>
              <p:nvPr/>
            </p:nvSpPr>
            <p:spPr>
              <a:xfrm>
                <a:off x="4608360" y="2672640"/>
                <a:ext cx="1080" cy="388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0" name=""/>
              <p:cNvSpPr/>
              <p:nvPr/>
            </p:nvSpPr>
            <p:spPr>
              <a:xfrm>
                <a:off x="4608360" y="2672640"/>
                <a:ext cx="1080" cy="38808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1" name=""/>
              <p:cNvSpPr/>
              <p:nvPr/>
            </p:nvSpPr>
            <p:spPr>
              <a:xfrm>
                <a:off x="4609440" y="2672640"/>
                <a:ext cx="1080" cy="38808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4609440" y="2672640"/>
                <a:ext cx="1080" cy="38808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3" name=""/>
              <p:cNvSpPr/>
              <p:nvPr/>
            </p:nvSpPr>
            <p:spPr>
              <a:xfrm>
                <a:off x="4610880" y="2672640"/>
                <a:ext cx="1440" cy="38808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4" name=""/>
              <p:cNvSpPr/>
              <p:nvPr/>
            </p:nvSpPr>
            <p:spPr>
              <a:xfrm>
                <a:off x="4612320" y="2672640"/>
                <a:ext cx="1080" cy="38808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5" name=""/>
              <p:cNvSpPr/>
              <p:nvPr/>
            </p:nvSpPr>
            <p:spPr>
              <a:xfrm>
                <a:off x="4612320" y="2672640"/>
                <a:ext cx="1080" cy="38808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6" name=""/>
              <p:cNvSpPr/>
              <p:nvPr/>
            </p:nvSpPr>
            <p:spPr>
              <a:xfrm>
                <a:off x="4613760" y="2672640"/>
                <a:ext cx="1440" cy="388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7" name=""/>
              <p:cNvSpPr/>
              <p:nvPr/>
            </p:nvSpPr>
            <p:spPr>
              <a:xfrm>
                <a:off x="4615200" y="2672640"/>
                <a:ext cx="1080" cy="388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8" name=""/>
              <p:cNvSpPr/>
              <p:nvPr/>
            </p:nvSpPr>
            <p:spPr>
              <a:xfrm>
                <a:off x="4616640" y="2672640"/>
                <a:ext cx="1080" cy="388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9" name=""/>
              <p:cNvSpPr/>
              <p:nvPr/>
            </p:nvSpPr>
            <p:spPr>
              <a:xfrm>
                <a:off x="4617720" y="2672640"/>
                <a:ext cx="1440" cy="38808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0" name=""/>
              <p:cNvSpPr/>
              <p:nvPr/>
            </p:nvSpPr>
            <p:spPr>
              <a:xfrm>
                <a:off x="4617720" y="2672640"/>
                <a:ext cx="1440" cy="38808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4619520" y="2672640"/>
                <a:ext cx="1080" cy="3880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4619520" y="2672640"/>
                <a:ext cx="1080" cy="38808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4620960" y="2672640"/>
                <a:ext cx="1440" cy="3880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4622400" y="2672640"/>
                <a:ext cx="1080" cy="38808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4622400" y="2672640"/>
                <a:ext cx="1080" cy="388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6" name=""/>
              <p:cNvSpPr/>
              <p:nvPr/>
            </p:nvSpPr>
            <p:spPr>
              <a:xfrm>
                <a:off x="4623840" y="2672640"/>
                <a:ext cx="1080" cy="38808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7" name=""/>
              <p:cNvSpPr/>
              <p:nvPr/>
            </p:nvSpPr>
            <p:spPr>
              <a:xfrm>
                <a:off x="4624920" y="2672640"/>
                <a:ext cx="1440" cy="38808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8" name=""/>
              <p:cNvSpPr/>
              <p:nvPr/>
            </p:nvSpPr>
            <p:spPr>
              <a:xfrm>
                <a:off x="4624920" y="2672640"/>
                <a:ext cx="1440" cy="388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9" name=""/>
              <p:cNvSpPr/>
              <p:nvPr/>
            </p:nvSpPr>
            <p:spPr>
              <a:xfrm>
                <a:off x="4626720" y="2672640"/>
                <a:ext cx="1080" cy="38808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0" name=""/>
              <p:cNvSpPr/>
              <p:nvPr/>
            </p:nvSpPr>
            <p:spPr>
              <a:xfrm>
                <a:off x="4626720" y="2672640"/>
                <a:ext cx="1080" cy="3880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1" name=""/>
              <p:cNvSpPr/>
              <p:nvPr/>
            </p:nvSpPr>
            <p:spPr>
              <a:xfrm>
                <a:off x="4627800" y="2672640"/>
                <a:ext cx="1440" cy="38808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2" name=""/>
              <p:cNvSpPr/>
              <p:nvPr/>
            </p:nvSpPr>
            <p:spPr>
              <a:xfrm>
                <a:off x="4629600" y="2672640"/>
                <a:ext cx="1080" cy="38808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3" name=""/>
              <p:cNvSpPr/>
              <p:nvPr/>
            </p:nvSpPr>
            <p:spPr>
              <a:xfrm>
                <a:off x="4629600" y="2672640"/>
                <a:ext cx="1080" cy="38808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4" name=""/>
              <p:cNvSpPr/>
              <p:nvPr/>
            </p:nvSpPr>
            <p:spPr>
              <a:xfrm>
                <a:off x="4630680" y="2672640"/>
                <a:ext cx="1440" cy="38808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5" name=""/>
              <p:cNvSpPr/>
              <p:nvPr/>
            </p:nvSpPr>
            <p:spPr>
              <a:xfrm>
                <a:off x="4632480" y="2672640"/>
                <a:ext cx="1080" cy="3880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6" name=""/>
              <p:cNvSpPr/>
              <p:nvPr/>
            </p:nvSpPr>
            <p:spPr>
              <a:xfrm>
                <a:off x="4632480" y="2672640"/>
                <a:ext cx="1080" cy="38808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7" name=""/>
              <p:cNvSpPr/>
              <p:nvPr/>
            </p:nvSpPr>
            <p:spPr>
              <a:xfrm>
                <a:off x="4633560" y="2672640"/>
                <a:ext cx="1080" cy="3880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4633560" y="2672640"/>
                <a:ext cx="1080" cy="38808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4635000" y="2672640"/>
                <a:ext cx="1440" cy="38808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0" name=""/>
              <p:cNvSpPr/>
              <p:nvPr/>
            </p:nvSpPr>
            <p:spPr>
              <a:xfrm>
                <a:off x="4636440" y="2672640"/>
                <a:ext cx="1080" cy="3880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1" name=""/>
              <p:cNvSpPr/>
              <p:nvPr/>
            </p:nvSpPr>
            <p:spPr>
              <a:xfrm>
                <a:off x="4636440" y="2672640"/>
                <a:ext cx="1080" cy="3880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2" name=""/>
              <p:cNvSpPr/>
              <p:nvPr/>
            </p:nvSpPr>
            <p:spPr>
              <a:xfrm>
                <a:off x="4637880" y="2672640"/>
                <a:ext cx="1440" cy="38808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3" name=""/>
              <p:cNvSpPr/>
              <p:nvPr/>
            </p:nvSpPr>
            <p:spPr>
              <a:xfrm>
                <a:off x="4639320" y="2672640"/>
                <a:ext cx="1080" cy="3880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4" name=""/>
              <p:cNvSpPr/>
              <p:nvPr/>
            </p:nvSpPr>
            <p:spPr>
              <a:xfrm>
                <a:off x="4639320" y="2672640"/>
                <a:ext cx="1080" cy="3880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4640760" y="2672640"/>
                <a:ext cx="1080" cy="3880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6" name=""/>
              <p:cNvSpPr/>
              <p:nvPr/>
            </p:nvSpPr>
            <p:spPr>
              <a:xfrm>
                <a:off x="4640760" y="2672640"/>
                <a:ext cx="1080" cy="38808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>
                <a:off x="4642200" y="2672640"/>
                <a:ext cx="1440" cy="38808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8" name=""/>
              <p:cNvSpPr/>
              <p:nvPr/>
            </p:nvSpPr>
            <p:spPr>
              <a:xfrm>
                <a:off x="4643640" y="2672640"/>
                <a:ext cx="1080" cy="3880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4643640" y="2672640"/>
                <a:ext cx="1080" cy="3880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4645080" y="2672640"/>
                <a:ext cx="1440" cy="38808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1" name=""/>
              <p:cNvSpPr/>
              <p:nvPr/>
            </p:nvSpPr>
            <p:spPr>
              <a:xfrm>
                <a:off x="4646520" y="2672640"/>
                <a:ext cx="1080" cy="38808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2" name=""/>
              <p:cNvSpPr/>
              <p:nvPr/>
            </p:nvSpPr>
            <p:spPr>
              <a:xfrm>
                <a:off x="4646520" y="2672640"/>
                <a:ext cx="1080" cy="38808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3" name=""/>
              <p:cNvSpPr/>
              <p:nvPr/>
            </p:nvSpPr>
            <p:spPr>
              <a:xfrm>
                <a:off x="4647960" y="2672640"/>
                <a:ext cx="1080" cy="38808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4" name=""/>
              <p:cNvSpPr/>
              <p:nvPr/>
            </p:nvSpPr>
            <p:spPr>
              <a:xfrm>
                <a:off x="4647960" y="2672640"/>
                <a:ext cx="1080" cy="38808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5" name=""/>
              <p:cNvSpPr/>
              <p:nvPr/>
            </p:nvSpPr>
            <p:spPr>
              <a:xfrm>
                <a:off x="4649040" y="2672640"/>
                <a:ext cx="1440" cy="38808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6" name=""/>
              <p:cNvSpPr/>
              <p:nvPr/>
            </p:nvSpPr>
            <p:spPr>
              <a:xfrm>
                <a:off x="4650840" y="2672640"/>
                <a:ext cx="1080" cy="3880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7" name=""/>
              <p:cNvSpPr/>
              <p:nvPr/>
            </p:nvSpPr>
            <p:spPr>
              <a:xfrm>
                <a:off x="4650840" y="2672640"/>
                <a:ext cx="1080" cy="3880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8" name=""/>
              <p:cNvSpPr/>
              <p:nvPr/>
            </p:nvSpPr>
            <p:spPr>
              <a:xfrm>
                <a:off x="4651920" y="2672640"/>
                <a:ext cx="1440" cy="3880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9" name=""/>
              <p:cNvSpPr/>
              <p:nvPr/>
            </p:nvSpPr>
            <p:spPr>
              <a:xfrm>
                <a:off x="4653720" y="2672640"/>
                <a:ext cx="1080" cy="38808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0" name=""/>
              <p:cNvSpPr/>
              <p:nvPr/>
            </p:nvSpPr>
            <p:spPr>
              <a:xfrm>
                <a:off x="4653720" y="2672640"/>
                <a:ext cx="1080" cy="3880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1" name=""/>
              <p:cNvSpPr/>
              <p:nvPr/>
            </p:nvSpPr>
            <p:spPr>
              <a:xfrm>
                <a:off x="4654800" y="2672640"/>
                <a:ext cx="1080" cy="3880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2" name=""/>
              <p:cNvSpPr/>
              <p:nvPr/>
            </p:nvSpPr>
            <p:spPr>
              <a:xfrm>
                <a:off x="4654800" y="2672640"/>
                <a:ext cx="1080" cy="38808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3" name=""/>
              <p:cNvSpPr/>
              <p:nvPr/>
            </p:nvSpPr>
            <p:spPr>
              <a:xfrm>
                <a:off x="4656240" y="2672640"/>
                <a:ext cx="1440" cy="3880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4" name=""/>
              <p:cNvSpPr/>
              <p:nvPr/>
            </p:nvSpPr>
            <p:spPr>
              <a:xfrm>
                <a:off x="4658040" y="2672640"/>
                <a:ext cx="1080" cy="38808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5" name=""/>
              <p:cNvSpPr/>
              <p:nvPr/>
            </p:nvSpPr>
            <p:spPr>
              <a:xfrm>
                <a:off x="4658040" y="2672640"/>
                <a:ext cx="2880" cy="3880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6" name=""/>
              <p:cNvSpPr/>
              <p:nvPr/>
            </p:nvSpPr>
            <p:spPr>
              <a:xfrm>
                <a:off x="4572360" y="2674080"/>
                <a:ext cx="85320" cy="385200"/>
              </a:xfrm>
              <a:custGeom>
                <a:avLst/>
                <a:gdLst/>
                <a:ahLst/>
                <a:rect l="l" t="t" r="r" b="b"/>
                <a:pathLst>
                  <a:path w="122" h="496">
                    <a:moveTo>
                      <a:pt x="104" y="496"/>
                    </a:moveTo>
                    <a:lnTo>
                      <a:pt x="108" y="496"/>
                    </a:lnTo>
                    <a:lnTo>
                      <a:pt x="110" y="495"/>
                    </a:lnTo>
                    <a:lnTo>
                      <a:pt x="114" y="494"/>
                    </a:lnTo>
                    <a:lnTo>
                      <a:pt x="117" y="492"/>
                    </a:lnTo>
                    <a:lnTo>
                      <a:pt x="118" y="490"/>
                    </a:lnTo>
                    <a:lnTo>
                      <a:pt x="120" y="486"/>
                    </a:lnTo>
                    <a:lnTo>
                      <a:pt x="120" y="483"/>
                    </a:lnTo>
                    <a:lnTo>
                      <a:pt x="122" y="481"/>
                    </a:lnTo>
                    <a:lnTo>
                      <a:pt x="122" y="15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18" y="6"/>
                    </a:lnTo>
                    <a:lnTo>
                      <a:pt x="117" y="4"/>
                    </a:lnTo>
                    <a:lnTo>
                      <a:pt x="114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1" y="483"/>
                    </a:lnTo>
                    <a:lnTo>
                      <a:pt x="1" y="486"/>
                    </a:lnTo>
                    <a:lnTo>
                      <a:pt x="4" y="490"/>
                    </a:lnTo>
                    <a:lnTo>
                      <a:pt x="5" y="492"/>
                    </a:lnTo>
                    <a:lnTo>
                      <a:pt x="8" y="494"/>
                    </a:lnTo>
                    <a:lnTo>
                      <a:pt x="11" y="495"/>
                    </a:lnTo>
                    <a:lnTo>
                      <a:pt x="14" y="496"/>
                    </a:lnTo>
                    <a:lnTo>
                      <a:pt x="18" y="496"/>
                    </a:lnTo>
                    <a:lnTo>
                      <a:pt x="104" y="496"/>
                    </a:lnTo>
                    <a:lnTo>
                      <a:pt x="104" y="49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7" name=""/>
              <p:cNvSpPr/>
              <p:nvPr/>
            </p:nvSpPr>
            <p:spPr>
              <a:xfrm>
                <a:off x="280800" y="2127240"/>
                <a:ext cx="4379760" cy="94428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5" y="677"/>
                    </a:lnTo>
                    <a:lnTo>
                      <a:pt x="125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8" name=""/>
              <p:cNvSpPr/>
              <p:nvPr/>
            </p:nvSpPr>
            <p:spPr>
              <a:xfrm>
                <a:off x="279360" y="2125800"/>
                <a:ext cx="137880" cy="9475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9" name=""/>
              <p:cNvSpPr/>
              <p:nvPr/>
            </p:nvSpPr>
            <p:spPr>
              <a:xfrm>
                <a:off x="417240" y="2125800"/>
                <a:ext cx="183240" cy="9475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0" name=""/>
              <p:cNvSpPr/>
              <p:nvPr/>
            </p:nvSpPr>
            <p:spPr>
              <a:xfrm>
                <a:off x="600840" y="2125800"/>
                <a:ext cx="181800" cy="9475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1" name=""/>
              <p:cNvSpPr/>
              <p:nvPr/>
            </p:nvSpPr>
            <p:spPr>
              <a:xfrm>
                <a:off x="782640" y="2125800"/>
                <a:ext cx="183240" cy="9475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2" name=""/>
              <p:cNvSpPr/>
              <p:nvPr/>
            </p:nvSpPr>
            <p:spPr>
              <a:xfrm>
                <a:off x="966240" y="2125800"/>
                <a:ext cx="170280" cy="9475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3" name=""/>
              <p:cNvSpPr/>
              <p:nvPr/>
            </p:nvSpPr>
            <p:spPr>
              <a:xfrm>
                <a:off x="1136520" y="2125800"/>
                <a:ext cx="136440" cy="9475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4" name=""/>
              <p:cNvSpPr/>
              <p:nvPr/>
            </p:nvSpPr>
            <p:spPr>
              <a:xfrm>
                <a:off x="1273320" y="2125800"/>
                <a:ext cx="149040" cy="9475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5" name=""/>
              <p:cNvSpPr/>
              <p:nvPr/>
            </p:nvSpPr>
            <p:spPr>
              <a:xfrm>
                <a:off x="1422720" y="2125800"/>
                <a:ext cx="181800" cy="94752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6" name=""/>
              <p:cNvSpPr/>
              <p:nvPr/>
            </p:nvSpPr>
            <p:spPr>
              <a:xfrm>
                <a:off x="1604520" y="2125800"/>
                <a:ext cx="183240" cy="9475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7" name=""/>
              <p:cNvSpPr/>
              <p:nvPr/>
            </p:nvSpPr>
            <p:spPr>
              <a:xfrm>
                <a:off x="1788120" y="2125800"/>
                <a:ext cx="182160" cy="9475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8" name=""/>
              <p:cNvSpPr/>
              <p:nvPr/>
            </p:nvSpPr>
            <p:spPr>
              <a:xfrm>
                <a:off x="1970280" y="2125800"/>
                <a:ext cx="182880" cy="94752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9" name=""/>
              <p:cNvSpPr/>
              <p:nvPr/>
            </p:nvSpPr>
            <p:spPr>
              <a:xfrm>
                <a:off x="2153520" y="2125800"/>
                <a:ext cx="182160" cy="94752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0" name=""/>
              <p:cNvSpPr/>
              <p:nvPr/>
            </p:nvSpPr>
            <p:spPr>
              <a:xfrm>
                <a:off x="2335680" y="2125800"/>
                <a:ext cx="366840" cy="94752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2702520" y="2125800"/>
                <a:ext cx="182880" cy="94752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2885760" y="2125800"/>
                <a:ext cx="180360" cy="94752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3" name=""/>
              <p:cNvSpPr/>
              <p:nvPr/>
            </p:nvSpPr>
            <p:spPr>
              <a:xfrm>
                <a:off x="3066480" y="2125800"/>
                <a:ext cx="183240" cy="94752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4" name=""/>
              <p:cNvSpPr/>
              <p:nvPr/>
            </p:nvSpPr>
            <p:spPr>
              <a:xfrm>
                <a:off x="3250080" y="2125800"/>
                <a:ext cx="183240" cy="9475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5" name=""/>
              <p:cNvSpPr/>
              <p:nvPr/>
            </p:nvSpPr>
            <p:spPr>
              <a:xfrm>
                <a:off x="3433320" y="2125800"/>
                <a:ext cx="170280" cy="94752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6" name=""/>
              <p:cNvSpPr/>
              <p:nvPr/>
            </p:nvSpPr>
            <p:spPr>
              <a:xfrm>
                <a:off x="3603960" y="2125800"/>
                <a:ext cx="137880" cy="94752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7" name=""/>
              <p:cNvSpPr/>
              <p:nvPr/>
            </p:nvSpPr>
            <p:spPr>
              <a:xfrm>
                <a:off x="3741840" y="2125800"/>
                <a:ext cx="147960" cy="94752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8" name=""/>
              <p:cNvSpPr/>
              <p:nvPr/>
            </p:nvSpPr>
            <p:spPr>
              <a:xfrm>
                <a:off x="3890160" y="2125800"/>
                <a:ext cx="183240" cy="94752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4073400" y="2125800"/>
                <a:ext cx="181800" cy="94752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0" name=""/>
              <p:cNvSpPr/>
              <p:nvPr/>
            </p:nvSpPr>
            <p:spPr>
              <a:xfrm>
                <a:off x="4255560" y="2125800"/>
                <a:ext cx="181800" cy="94752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1" name=""/>
              <p:cNvSpPr/>
              <p:nvPr/>
            </p:nvSpPr>
            <p:spPr>
              <a:xfrm>
                <a:off x="4437360" y="2125800"/>
                <a:ext cx="183240" cy="94752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2" name=""/>
              <p:cNvSpPr/>
              <p:nvPr/>
            </p:nvSpPr>
            <p:spPr>
              <a:xfrm>
                <a:off x="4620960" y="2125800"/>
                <a:ext cx="39960" cy="94752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280800" y="2127240"/>
                <a:ext cx="4379760" cy="94428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4" y="677"/>
                    </a:lnTo>
                    <a:lnTo>
                      <a:pt x="124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4" name=""/>
              <p:cNvSpPr/>
              <p:nvPr/>
            </p:nvSpPr>
            <p:spPr>
              <a:xfrm>
                <a:off x="288000" y="2135160"/>
                <a:ext cx="4363920" cy="928800"/>
              </a:xfrm>
              <a:custGeom>
                <a:avLst/>
                <a:gdLst/>
                <a:ahLst/>
                <a:rect l="l" t="t" r="r" b="b"/>
                <a:pathLst>
                  <a:path w="6138" h="1196">
                    <a:moveTo>
                      <a:pt x="0" y="0"/>
                    </a:moveTo>
                    <a:lnTo>
                      <a:pt x="0" y="656"/>
                    </a:lnTo>
                    <a:lnTo>
                      <a:pt x="125" y="656"/>
                    </a:lnTo>
                    <a:lnTo>
                      <a:pt x="125" y="1196"/>
                    </a:lnTo>
                    <a:lnTo>
                      <a:pt x="6010" y="1196"/>
                    </a:lnTo>
                    <a:lnTo>
                      <a:pt x="6010" y="656"/>
                    </a:lnTo>
                    <a:lnTo>
                      <a:pt x="6138" y="656"/>
                    </a:lnTo>
                    <a:lnTo>
                      <a:pt x="613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5" name=""/>
              <p:cNvSpPr/>
              <p:nvPr/>
            </p:nvSpPr>
            <p:spPr>
              <a:xfrm>
                <a:off x="1813680" y="2663280"/>
                <a:ext cx="790560" cy="378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6" name=""/>
              <p:cNvSpPr/>
              <p:nvPr/>
            </p:nvSpPr>
            <p:spPr>
              <a:xfrm>
                <a:off x="1813680" y="2663280"/>
                <a:ext cx="790560" cy="37872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7" name=""/>
              <p:cNvSpPr/>
              <p:nvPr/>
            </p:nvSpPr>
            <p:spPr>
              <a:xfrm>
                <a:off x="1640160" y="2271960"/>
                <a:ext cx="179280" cy="77004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8" name=""/>
              <p:cNvSpPr/>
              <p:nvPr/>
            </p:nvSpPr>
            <p:spPr>
              <a:xfrm>
                <a:off x="1640160" y="2271960"/>
                <a:ext cx="179280" cy="77004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9" name=""/>
              <p:cNvSpPr/>
              <p:nvPr/>
            </p:nvSpPr>
            <p:spPr>
              <a:xfrm>
                <a:off x="4114440" y="2799720"/>
                <a:ext cx="305640" cy="2422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0" name=""/>
              <p:cNvSpPr/>
              <p:nvPr/>
            </p:nvSpPr>
            <p:spPr>
              <a:xfrm>
                <a:off x="3432240" y="2799720"/>
                <a:ext cx="854280" cy="242280"/>
              </a:xfrm>
              <a:custGeom>
                <a:avLst/>
                <a:gdLst/>
                <a:ahLst/>
                <a:rect l="l" t="t" r="r" b="b"/>
                <a:pathLst>
                  <a:path w="1201" h="311">
                    <a:moveTo>
                      <a:pt x="0" y="311"/>
                    </a:moveTo>
                    <a:lnTo>
                      <a:pt x="491" y="311"/>
                    </a:lnTo>
                    <a:lnTo>
                      <a:pt x="49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  <a:moveTo>
                      <a:pt x="1201" y="8"/>
                    </a:moveTo>
                    <a:lnTo>
                      <a:pt x="973" y="8"/>
                    </a:lnTo>
                    <a:lnTo>
                      <a:pt x="973" y="193"/>
                    </a:lnTo>
                    <a:lnTo>
                      <a:pt x="1201" y="193"/>
                    </a:lnTo>
                    <a:lnTo>
                      <a:pt x="1201" y="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1" name=""/>
              <p:cNvSpPr/>
              <p:nvPr/>
            </p:nvSpPr>
            <p:spPr>
              <a:xfrm>
                <a:off x="1698480" y="2271960"/>
                <a:ext cx="64080" cy="7700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2" name=""/>
              <p:cNvSpPr/>
              <p:nvPr/>
            </p:nvSpPr>
            <p:spPr>
              <a:xfrm>
                <a:off x="1698480" y="2271960"/>
                <a:ext cx="64080" cy="770040"/>
              </a:xfrm>
              <a:prstGeom prst="rect">
                <a:avLst/>
              </a:prstGeom>
              <a:noFill/>
              <a:ln w="1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68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800" y="2172600"/>
                <a:ext cx="1003680" cy="73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44" name=""/>
              <p:cNvSpPr/>
              <p:nvPr/>
            </p:nvSpPr>
            <p:spPr>
              <a:xfrm>
                <a:off x="646200" y="2180160"/>
                <a:ext cx="986760" cy="723600"/>
              </a:xfrm>
              <a:prstGeom prst="rect">
                <a:avLst/>
              </a:prstGeom>
              <a:noFill/>
              <a:ln w="468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5" name=""/>
              <p:cNvSpPr/>
              <p:nvPr/>
            </p:nvSpPr>
            <p:spPr>
              <a:xfrm>
                <a:off x="1672920" y="27410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6" name=""/>
              <p:cNvSpPr/>
              <p:nvPr/>
            </p:nvSpPr>
            <p:spPr>
              <a:xfrm>
                <a:off x="1672920" y="27982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7" name=""/>
              <p:cNvSpPr/>
              <p:nvPr/>
            </p:nvSpPr>
            <p:spPr>
              <a:xfrm>
                <a:off x="1802160" y="27410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8" name=""/>
              <p:cNvSpPr/>
              <p:nvPr/>
            </p:nvSpPr>
            <p:spPr>
              <a:xfrm>
                <a:off x="1775160" y="27982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9" name=""/>
              <p:cNvSpPr/>
              <p:nvPr/>
            </p:nvSpPr>
            <p:spPr>
              <a:xfrm>
                <a:off x="1722600" y="27410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0" name=""/>
              <p:cNvSpPr/>
              <p:nvPr/>
            </p:nvSpPr>
            <p:spPr>
              <a:xfrm>
                <a:off x="1725480" y="27982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1" name=""/>
              <p:cNvSpPr/>
              <p:nvPr/>
            </p:nvSpPr>
            <p:spPr>
              <a:xfrm>
                <a:off x="1672920" y="25142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2" name=""/>
              <p:cNvSpPr/>
              <p:nvPr/>
            </p:nvSpPr>
            <p:spPr>
              <a:xfrm>
                <a:off x="1672920" y="25714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3" name=""/>
              <p:cNvSpPr/>
              <p:nvPr/>
            </p:nvSpPr>
            <p:spPr>
              <a:xfrm>
                <a:off x="1802160" y="25142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4" name=""/>
              <p:cNvSpPr/>
              <p:nvPr/>
            </p:nvSpPr>
            <p:spPr>
              <a:xfrm>
                <a:off x="1780920" y="2571480"/>
                <a:ext cx="4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5" name=""/>
              <p:cNvSpPr/>
              <p:nvPr/>
            </p:nvSpPr>
            <p:spPr>
              <a:xfrm>
                <a:off x="1722600" y="25142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6" name=""/>
              <p:cNvSpPr/>
              <p:nvPr/>
            </p:nvSpPr>
            <p:spPr>
              <a:xfrm>
                <a:off x="1725840" y="257148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7" name=""/>
              <p:cNvSpPr/>
              <p:nvPr/>
            </p:nvSpPr>
            <p:spPr>
              <a:xfrm>
                <a:off x="1672920" y="23169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8" name=""/>
              <p:cNvSpPr/>
              <p:nvPr/>
            </p:nvSpPr>
            <p:spPr>
              <a:xfrm>
                <a:off x="1672920" y="23446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9" name=""/>
              <p:cNvSpPr/>
              <p:nvPr/>
            </p:nvSpPr>
            <p:spPr>
              <a:xfrm>
                <a:off x="1722600" y="23169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6860" name=""/>
            <p:cNvGrpSpPr/>
            <p:nvPr/>
          </p:nvGrpSpPr>
          <p:grpSpPr>
            <a:xfrm>
              <a:off x="400320" y="2171880"/>
              <a:ext cx="4135320" cy="875880"/>
              <a:chOff x="400320" y="2171880"/>
              <a:chExt cx="4135320" cy="875880"/>
            </a:xfrm>
          </p:grpSpPr>
          <p:sp>
            <p:nvSpPr>
              <p:cNvPr id="6861" name=""/>
              <p:cNvSpPr/>
              <p:nvPr/>
            </p:nvSpPr>
            <p:spPr>
              <a:xfrm>
                <a:off x="1727280" y="23439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62" name=""/>
              <p:cNvSpPr/>
              <p:nvPr/>
            </p:nvSpPr>
            <p:spPr>
              <a:xfrm>
                <a:off x="1730160" y="271188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63" name=""/>
              <p:cNvSpPr/>
              <p:nvPr/>
            </p:nvSpPr>
            <p:spPr>
              <a:xfrm>
                <a:off x="1726200" y="237204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64" name=""/>
              <p:cNvSpPr/>
              <p:nvPr/>
            </p:nvSpPr>
            <p:spPr>
              <a:xfrm>
                <a:off x="1726200" y="25707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1780560" y="248544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1651320" y="225864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67" name=""/>
              <p:cNvSpPr/>
              <p:nvPr/>
            </p:nvSpPr>
            <p:spPr>
              <a:xfrm>
                <a:off x="1731960" y="225864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68" name=""/>
              <p:cNvSpPr/>
              <p:nvPr/>
            </p:nvSpPr>
            <p:spPr>
              <a:xfrm>
                <a:off x="1842120" y="2201400"/>
                <a:ext cx="746280" cy="762480"/>
              </a:xfrm>
              <a:custGeom>
                <a:avLst/>
                <a:gdLst/>
                <a:ahLst/>
                <a:rect l="l" t="t" r="r" b="b"/>
                <a:pathLst>
                  <a:path w="1050" h="984">
                    <a:moveTo>
                      <a:pt x="833" y="984"/>
                    </a:moveTo>
                    <a:lnTo>
                      <a:pt x="1050" y="984"/>
                    </a:lnTo>
                    <a:lnTo>
                      <a:pt x="1050" y="0"/>
                    </a:lnTo>
                    <a:lnTo>
                      <a:pt x="0" y="0"/>
                    </a:lnTo>
                    <a:lnTo>
                      <a:pt x="0" y="984"/>
                    </a:lnTo>
                    <a:lnTo>
                      <a:pt x="218" y="984"/>
                    </a:lnTo>
                    <a:lnTo>
                      <a:pt x="218" y="584"/>
                    </a:lnTo>
                    <a:lnTo>
                      <a:pt x="833" y="584"/>
                    </a:lnTo>
                    <a:lnTo>
                      <a:pt x="833" y="984"/>
                    </a:lnTo>
                    <a:lnTo>
                      <a:pt x="833" y="9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68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16560" y="2171880"/>
                <a:ext cx="77220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0" name=""/>
              <p:cNvSpPr/>
              <p:nvPr/>
            </p:nvSpPr>
            <p:spPr>
              <a:xfrm>
                <a:off x="1832400" y="2180880"/>
                <a:ext cx="757800" cy="775080"/>
              </a:xfrm>
              <a:custGeom>
                <a:avLst/>
                <a:gdLst/>
                <a:ahLst/>
                <a:rect l="l" t="t" r="r" b="b"/>
                <a:pathLst>
                  <a:path w="1068" h="998">
                    <a:moveTo>
                      <a:pt x="840" y="998"/>
                    </a:moveTo>
                    <a:lnTo>
                      <a:pt x="1068" y="998"/>
                    </a:lnTo>
                    <a:lnTo>
                      <a:pt x="1068" y="0"/>
                    </a:lnTo>
                    <a:lnTo>
                      <a:pt x="0" y="0"/>
                    </a:lnTo>
                    <a:lnTo>
                      <a:pt x="0" y="998"/>
                    </a:lnTo>
                    <a:lnTo>
                      <a:pt x="226" y="998"/>
                    </a:lnTo>
                    <a:lnTo>
                      <a:pt x="226" y="606"/>
                    </a:lnTo>
                    <a:lnTo>
                      <a:pt x="840" y="606"/>
                    </a:lnTo>
                    <a:lnTo>
                      <a:pt x="840" y="998"/>
                    </a:lnTo>
                  </a:path>
                </a:pathLst>
              </a:custGeom>
              <a:noFill/>
              <a:ln w="468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1" name=""/>
              <p:cNvSpPr/>
              <p:nvPr/>
            </p:nvSpPr>
            <p:spPr>
              <a:xfrm>
                <a:off x="2093760" y="2662200"/>
                <a:ext cx="218880" cy="29628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  <a:moveTo>
                      <a:pt x="0" y="374"/>
                    </a:moveTo>
                    <a:lnTo>
                      <a:pt x="0" y="374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  <a:moveTo>
                      <a:pt x="309" y="374"/>
                    </a:moveTo>
                    <a:lnTo>
                      <a:pt x="309" y="374"/>
                    </a:lnTo>
                    <a:lnTo>
                      <a:pt x="309" y="374"/>
                    </a:lnTo>
                    <a:lnTo>
                      <a:pt x="309" y="37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2" name=""/>
              <p:cNvSpPr/>
              <p:nvPr/>
            </p:nvSpPr>
            <p:spPr>
              <a:xfrm>
                <a:off x="2093760" y="2662200"/>
                <a:ext cx="218880" cy="29628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3" name=""/>
              <p:cNvSpPr/>
              <p:nvPr/>
            </p:nvSpPr>
            <p:spPr>
              <a:xfrm>
                <a:off x="2093760" y="295272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4" name=""/>
              <p:cNvSpPr/>
              <p:nvPr/>
            </p:nvSpPr>
            <p:spPr>
              <a:xfrm>
                <a:off x="2312640" y="295272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5" name=""/>
              <p:cNvSpPr/>
              <p:nvPr/>
            </p:nvSpPr>
            <p:spPr>
              <a:xfrm>
                <a:off x="2120760" y="2668680"/>
                <a:ext cx="163440" cy="284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6" name=""/>
              <p:cNvSpPr/>
              <p:nvPr/>
            </p:nvSpPr>
            <p:spPr>
              <a:xfrm>
                <a:off x="2107800" y="2654640"/>
                <a:ext cx="190440" cy="312120"/>
              </a:xfrm>
              <a:custGeom>
                <a:avLst/>
                <a:gdLst/>
                <a:ahLst/>
                <a:rect l="l" t="t" r="r" b="b"/>
                <a:pathLst>
                  <a:path w="269" h="401">
                    <a:moveTo>
                      <a:pt x="37" y="56"/>
                    </a:moveTo>
                    <a:lnTo>
                      <a:pt x="37" y="311"/>
                    </a:lnTo>
                    <a:lnTo>
                      <a:pt x="37" y="314"/>
                    </a:lnTo>
                    <a:lnTo>
                      <a:pt x="36" y="317"/>
                    </a:lnTo>
                    <a:lnTo>
                      <a:pt x="34" y="321"/>
                    </a:lnTo>
                    <a:lnTo>
                      <a:pt x="32" y="323"/>
                    </a:lnTo>
                    <a:lnTo>
                      <a:pt x="29" y="326"/>
                    </a:lnTo>
                    <a:lnTo>
                      <a:pt x="27" y="327"/>
                    </a:lnTo>
                    <a:lnTo>
                      <a:pt x="23" y="328"/>
                    </a:lnTo>
                    <a:lnTo>
                      <a:pt x="19" y="328"/>
                    </a:lnTo>
                    <a:lnTo>
                      <a:pt x="15" y="328"/>
                    </a:lnTo>
                    <a:lnTo>
                      <a:pt x="12" y="327"/>
                    </a:lnTo>
                    <a:lnTo>
                      <a:pt x="9" y="326"/>
                    </a:lnTo>
                    <a:lnTo>
                      <a:pt x="7" y="323"/>
                    </a:lnTo>
                    <a:lnTo>
                      <a:pt x="4" y="321"/>
                    </a:lnTo>
                    <a:lnTo>
                      <a:pt x="3" y="317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9" y="37"/>
                    </a:lnTo>
                    <a:lnTo>
                      <a:pt x="23" y="38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4" y="45"/>
                    </a:lnTo>
                    <a:lnTo>
                      <a:pt x="36" y="48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  <a:moveTo>
                      <a:pt x="127" y="365"/>
                    </a:moveTo>
                    <a:lnTo>
                      <a:pt x="250" y="365"/>
                    </a:lnTo>
                    <a:lnTo>
                      <a:pt x="232" y="384"/>
                    </a:lnTo>
                    <a:lnTo>
                      <a:pt x="232" y="251"/>
                    </a:lnTo>
                    <a:lnTo>
                      <a:pt x="232" y="247"/>
                    </a:lnTo>
                    <a:lnTo>
                      <a:pt x="234" y="244"/>
                    </a:lnTo>
                    <a:lnTo>
                      <a:pt x="235" y="240"/>
                    </a:lnTo>
                    <a:lnTo>
                      <a:pt x="237" y="237"/>
                    </a:lnTo>
                    <a:lnTo>
                      <a:pt x="240" y="236"/>
                    </a:lnTo>
                    <a:lnTo>
                      <a:pt x="244" y="235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4" y="234"/>
                    </a:lnTo>
                    <a:lnTo>
                      <a:pt x="257" y="235"/>
                    </a:lnTo>
                    <a:lnTo>
                      <a:pt x="261" y="236"/>
                    </a:lnTo>
                    <a:lnTo>
                      <a:pt x="264" y="237"/>
                    </a:lnTo>
                    <a:lnTo>
                      <a:pt x="265" y="240"/>
                    </a:lnTo>
                    <a:lnTo>
                      <a:pt x="267" y="244"/>
                    </a:lnTo>
                    <a:lnTo>
                      <a:pt x="267" y="247"/>
                    </a:lnTo>
                    <a:lnTo>
                      <a:pt x="269" y="251"/>
                    </a:lnTo>
                    <a:lnTo>
                      <a:pt x="269" y="384"/>
                    </a:lnTo>
                    <a:lnTo>
                      <a:pt x="267" y="386"/>
                    </a:lnTo>
                    <a:lnTo>
                      <a:pt x="267" y="390"/>
                    </a:lnTo>
                    <a:lnTo>
                      <a:pt x="265" y="393"/>
                    </a:lnTo>
                    <a:lnTo>
                      <a:pt x="264" y="396"/>
                    </a:lnTo>
                    <a:lnTo>
                      <a:pt x="261" y="398"/>
                    </a:lnTo>
                    <a:lnTo>
                      <a:pt x="257" y="400"/>
                    </a:lnTo>
                    <a:lnTo>
                      <a:pt x="254" y="401"/>
                    </a:lnTo>
                    <a:lnTo>
                      <a:pt x="250" y="401"/>
                    </a:lnTo>
                    <a:lnTo>
                      <a:pt x="127" y="401"/>
                    </a:lnTo>
                    <a:lnTo>
                      <a:pt x="124" y="401"/>
                    </a:lnTo>
                    <a:lnTo>
                      <a:pt x="121" y="400"/>
                    </a:lnTo>
                    <a:lnTo>
                      <a:pt x="118" y="398"/>
                    </a:lnTo>
                    <a:lnTo>
                      <a:pt x="116" y="396"/>
                    </a:lnTo>
                    <a:lnTo>
                      <a:pt x="113" y="393"/>
                    </a:lnTo>
                    <a:lnTo>
                      <a:pt x="111" y="390"/>
                    </a:lnTo>
                    <a:lnTo>
                      <a:pt x="109" y="386"/>
                    </a:lnTo>
                    <a:lnTo>
                      <a:pt x="109" y="384"/>
                    </a:lnTo>
                    <a:lnTo>
                      <a:pt x="109" y="379"/>
                    </a:lnTo>
                    <a:lnTo>
                      <a:pt x="111" y="376"/>
                    </a:lnTo>
                    <a:lnTo>
                      <a:pt x="113" y="372"/>
                    </a:lnTo>
                    <a:lnTo>
                      <a:pt x="116" y="370"/>
                    </a:lnTo>
                    <a:lnTo>
                      <a:pt x="118" y="367"/>
                    </a:lnTo>
                    <a:lnTo>
                      <a:pt x="121" y="366"/>
                    </a:lnTo>
                    <a:lnTo>
                      <a:pt x="124" y="365"/>
                    </a:lnTo>
                    <a:lnTo>
                      <a:pt x="127" y="365"/>
                    </a:lnTo>
                    <a:lnTo>
                      <a:pt x="127" y="365"/>
                    </a:lnTo>
                    <a:close/>
                    <a:moveTo>
                      <a:pt x="232" y="69"/>
                    </a:moveTo>
                    <a:lnTo>
                      <a:pt x="232" y="19"/>
                    </a:lnTo>
                    <a:lnTo>
                      <a:pt x="250" y="37"/>
                    </a:lnTo>
                    <a:lnTo>
                      <a:pt x="46" y="37"/>
                    </a:lnTo>
                    <a:lnTo>
                      <a:pt x="43" y="37"/>
                    </a:lnTo>
                    <a:lnTo>
                      <a:pt x="39" y="35"/>
                    </a:lnTo>
                    <a:lnTo>
                      <a:pt x="37" y="34"/>
                    </a:lnTo>
                    <a:lnTo>
                      <a:pt x="34" y="32"/>
                    </a:lnTo>
                    <a:lnTo>
                      <a:pt x="32" y="29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250" y="0"/>
                    </a:lnTo>
                    <a:lnTo>
                      <a:pt x="254" y="1"/>
                    </a:lnTo>
                    <a:lnTo>
                      <a:pt x="257" y="2"/>
                    </a:lnTo>
                    <a:lnTo>
                      <a:pt x="261" y="4"/>
                    </a:lnTo>
                    <a:lnTo>
                      <a:pt x="264" y="6"/>
                    </a:lnTo>
                    <a:lnTo>
                      <a:pt x="265" y="9"/>
                    </a:lnTo>
                    <a:lnTo>
                      <a:pt x="267" y="13"/>
                    </a:lnTo>
                    <a:lnTo>
                      <a:pt x="267" y="15"/>
                    </a:lnTo>
                    <a:lnTo>
                      <a:pt x="269" y="19"/>
                    </a:lnTo>
                    <a:lnTo>
                      <a:pt x="269" y="69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5" y="78"/>
                    </a:lnTo>
                    <a:lnTo>
                      <a:pt x="264" y="82"/>
                    </a:lnTo>
                    <a:lnTo>
                      <a:pt x="261" y="83"/>
                    </a:lnTo>
                    <a:lnTo>
                      <a:pt x="257" y="86"/>
                    </a:lnTo>
                    <a:lnTo>
                      <a:pt x="254" y="87"/>
                    </a:lnTo>
                    <a:lnTo>
                      <a:pt x="250" y="87"/>
                    </a:lnTo>
                    <a:lnTo>
                      <a:pt x="246" y="87"/>
                    </a:lnTo>
                    <a:lnTo>
                      <a:pt x="244" y="86"/>
                    </a:lnTo>
                    <a:lnTo>
                      <a:pt x="240" y="83"/>
                    </a:lnTo>
                    <a:lnTo>
                      <a:pt x="237" y="82"/>
                    </a:lnTo>
                    <a:lnTo>
                      <a:pt x="235" y="78"/>
                    </a:lnTo>
                    <a:lnTo>
                      <a:pt x="234" y="76"/>
                    </a:lnTo>
                    <a:lnTo>
                      <a:pt x="232" y="72"/>
                    </a:lnTo>
                    <a:lnTo>
                      <a:pt x="232" y="69"/>
                    </a:lnTo>
                    <a:lnTo>
                      <a:pt x="232" y="69"/>
                    </a:lnTo>
                    <a:close/>
                  </a:path>
                </a:pathLst>
              </a:custGeom>
              <a:solidFill>
                <a:srgbClr val="1a1a1a"/>
              </a:solidFill>
              <a:ln w="284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7" name=""/>
              <p:cNvSpPr/>
              <p:nvPr/>
            </p:nvSpPr>
            <p:spPr>
              <a:xfrm>
                <a:off x="1930320" y="29667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8" name=""/>
              <p:cNvSpPr/>
              <p:nvPr/>
            </p:nvSpPr>
            <p:spPr>
              <a:xfrm>
                <a:off x="1930320" y="299484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9" name=""/>
              <p:cNvSpPr/>
              <p:nvPr/>
            </p:nvSpPr>
            <p:spPr>
              <a:xfrm>
                <a:off x="1857600" y="299484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2450520" y="299484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1" name=""/>
              <p:cNvSpPr/>
              <p:nvPr/>
            </p:nvSpPr>
            <p:spPr>
              <a:xfrm>
                <a:off x="2518920" y="29667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2" name=""/>
              <p:cNvSpPr/>
              <p:nvPr/>
            </p:nvSpPr>
            <p:spPr>
              <a:xfrm>
                <a:off x="2497680" y="299484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3" name=""/>
              <p:cNvSpPr/>
              <p:nvPr/>
            </p:nvSpPr>
            <p:spPr>
              <a:xfrm>
                <a:off x="3778920" y="2799000"/>
                <a:ext cx="335160" cy="242280"/>
              </a:xfrm>
              <a:prstGeom prst="rect">
                <a:avLst/>
              </a:prstGeom>
              <a:solidFill>
                <a:srgbClr val="355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4" name=""/>
              <p:cNvSpPr/>
              <p:nvPr/>
            </p:nvSpPr>
            <p:spPr>
              <a:xfrm>
                <a:off x="3052080" y="2799000"/>
                <a:ext cx="382680" cy="242280"/>
              </a:xfrm>
              <a:prstGeom prst="rect">
                <a:avLst/>
              </a:prstGeom>
              <a:solidFill>
                <a:srgbClr val="26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5" name=""/>
              <p:cNvSpPr/>
              <p:nvPr/>
            </p:nvSpPr>
            <p:spPr>
              <a:xfrm>
                <a:off x="2595960" y="2799000"/>
                <a:ext cx="272520" cy="242280"/>
              </a:xfrm>
              <a:prstGeom prst="rect">
                <a:avLst/>
              </a:pr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6" name=""/>
              <p:cNvSpPr/>
              <p:nvPr/>
            </p:nvSpPr>
            <p:spPr>
              <a:xfrm>
                <a:off x="2867400" y="2799000"/>
                <a:ext cx="184680" cy="242280"/>
              </a:xfrm>
              <a:prstGeom prst="rect">
                <a:avLst/>
              </a:pr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7" name=""/>
              <p:cNvSpPr/>
              <p:nvPr/>
            </p:nvSpPr>
            <p:spPr>
              <a:xfrm>
                <a:off x="4318920" y="2971440"/>
                <a:ext cx="110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8" name=""/>
              <p:cNvSpPr/>
              <p:nvPr/>
            </p:nvSpPr>
            <p:spPr>
              <a:xfrm>
                <a:off x="2595960" y="2799000"/>
                <a:ext cx="1824120" cy="242280"/>
              </a:xfrm>
              <a:prstGeom prst="rect">
                <a:avLst/>
              </a:prstGeom>
              <a:noFill/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9" name=""/>
              <p:cNvSpPr/>
              <p:nvPr/>
            </p:nvSpPr>
            <p:spPr>
              <a:xfrm>
                <a:off x="2341080" y="27118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0" name=""/>
              <p:cNvSpPr/>
              <p:nvPr/>
            </p:nvSpPr>
            <p:spPr>
              <a:xfrm>
                <a:off x="2341080" y="288000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1" name=""/>
              <p:cNvSpPr/>
              <p:nvPr/>
            </p:nvSpPr>
            <p:spPr>
              <a:xfrm>
                <a:off x="2769480" y="2171880"/>
                <a:ext cx="1766160" cy="61488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2" name=""/>
              <p:cNvSpPr/>
              <p:nvPr/>
            </p:nvSpPr>
            <p:spPr>
              <a:xfrm>
                <a:off x="2780640" y="2184120"/>
                <a:ext cx="1740600" cy="5882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3" name=""/>
              <p:cNvSpPr/>
              <p:nvPr/>
            </p:nvSpPr>
            <p:spPr>
              <a:xfrm>
                <a:off x="2780640" y="2184120"/>
                <a:ext cx="1740600" cy="5882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4" name=""/>
              <p:cNvSpPr/>
              <p:nvPr/>
            </p:nvSpPr>
            <p:spPr>
              <a:xfrm>
                <a:off x="3670920" y="2198160"/>
                <a:ext cx="840240" cy="5619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3670920" y="2198160"/>
                <a:ext cx="840240" cy="56196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6" name=""/>
              <p:cNvSpPr/>
              <p:nvPr/>
            </p:nvSpPr>
            <p:spPr>
              <a:xfrm>
                <a:off x="3643920" y="2184120"/>
                <a:ext cx="15120" cy="5882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7" name=""/>
              <p:cNvSpPr/>
              <p:nvPr/>
            </p:nvSpPr>
            <p:spPr>
              <a:xfrm>
                <a:off x="3643920" y="2184120"/>
                <a:ext cx="15120" cy="5882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8" name=""/>
              <p:cNvSpPr/>
              <p:nvPr/>
            </p:nvSpPr>
            <p:spPr>
              <a:xfrm>
                <a:off x="2924280" y="2398680"/>
                <a:ext cx="154800" cy="19836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18" y="109"/>
                    </a:moveTo>
                    <a:lnTo>
                      <a:pt x="217" y="123"/>
                    </a:lnTo>
                    <a:lnTo>
                      <a:pt x="216" y="137"/>
                    </a:lnTo>
                    <a:lnTo>
                      <a:pt x="214" y="149"/>
                    </a:lnTo>
                    <a:lnTo>
                      <a:pt x="211" y="163"/>
                    </a:lnTo>
                    <a:lnTo>
                      <a:pt x="207" y="176"/>
                    </a:lnTo>
                    <a:lnTo>
                      <a:pt x="203" y="187"/>
                    </a:lnTo>
                    <a:lnTo>
                      <a:pt x="197" y="199"/>
                    </a:lnTo>
                    <a:lnTo>
                      <a:pt x="191" y="210"/>
                    </a:lnTo>
                    <a:lnTo>
                      <a:pt x="183" y="220"/>
                    </a:lnTo>
                    <a:lnTo>
                      <a:pt x="176" y="229"/>
                    </a:lnTo>
                    <a:lnTo>
                      <a:pt x="167" y="237"/>
                    </a:lnTo>
                    <a:lnTo>
                      <a:pt x="162" y="239"/>
                    </a:lnTo>
                    <a:lnTo>
                      <a:pt x="157" y="243"/>
                    </a:lnTo>
                    <a:lnTo>
                      <a:pt x="152" y="245"/>
                    </a:lnTo>
                    <a:lnTo>
                      <a:pt x="145" y="248"/>
                    </a:lnTo>
                    <a:lnTo>
                      <a:pt x="140" y="250"/>
                    </a:lnTo>
                    <a:lnTo>
                      <a:pt x="134" y="252"/>
                    </a:lnTo>
                    <a:lnTo>
                      <a:pt x="129" y="253"/>
                    </a:lnTo>
                    <a:lnTo>
                      <a:pt x="123" y="254"/>
                    </a:lnTo>
                    <a:lnTo>
                      <a:pt x="115" y="255"/>
                    </a:lnTo>
                    <a:lnTo>
                      <a:pt x="109" y="255"/>
                    </a:lnTo>
                    <a:lnTo>
                      <a:pt x="103" y="255"/>
                    </a:lnTo>
                    <a:lnTo>
                      <a:pt x="97" y="254"/>
                    </a:lnTo>
                    <a:lnTo>
                      <a:pt x="90" y="253"/>
                    </a:lnTo>
                    <a:lnTo>
                      <a:pt x="84" y="252"/>
                    </a:lnTo>
                    <a:lnTo>
                      <a:pt x="78" y="250"/>
                    </a:lnTo>
                    <a:lnTo>
                      <a:pt x="73" y="248"/>
                    </a:lnTo>
                    <a:lnTo>
                      <a:pt x="67" y="245"/>
                    </a:lnTo>
                    <a:lnTo>
                      <a:pt x="62" y="243"/>
                    </a:lnTo>
                    <a:lnTo>
                      <a:pt x="57" y="239"/>
                    </a:lnTo>
                    <a:lnTo>
                      <a:pt x="52" y="237"/>
                    </a:lnTo>
                    <a:lnTo>
                      <a:pt x="43" y="229"/>
                    </a:lnTo>
                    <a:lnTo>
                      <a:pt x="35" y="220"/>
                    </a:lnTo>
                    <a:lnTo>
                      <a:pt x="28" y="210"/>
                    </a:lnTo>
                    <a:lnTo>
                      <a:pt x="21" y="199"/>
                    </a:lnTo>
                    <a:lnTo>
                      <a:pt x="15" y="187"/>
                    </a:lnTo>
                    <a:lnTo>
                      <a:pt x="11" y="176"/>
                    </a:lnTo>
                    <a:lnTo>
                      <a:pt x="8" y="163"/>
                    </a:lnTo>
                    <a:lnTo>
                      <a:pt x="4" y="149"/>
                    </a:lnTo>
                    <a:lnTo>
                      <a:pt x="3" y="137"/>
                    </a:lnTo>
                    <a:lnTo>
                      <a:pt x="1" y="123"/>
                    </a:lnTo>
                    <a:lnTo>
                      <a:pt x="0" y="109"/>
                    </a:lnTo>
                    <a:lnTo>
                      <a:pt x="1" y="96"/>
                    </a:lnTo>
                    <a:lnTo>
                      <a:pt x="3" y="84"/>
                    </a:lnTo>
                    <a:lnTo>
                      <a:pt x="4" y="72"/>
                    </a:lnTo>
                    <a:lnTo>
                      <a:pt x="8" y="61"/>
                    </a:lnTo>
                    <a:lnTo>
                      <a:pt x="11" y="52"/>
                    </a:lnTo>
                    <a:lnTo>
                      <a:pt x="15" y="43"/>
                    </a:lnTo>
                    <a:lnTo>
                      <a:pt x="21" y="35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2" y="7"/>
                    </a:lnTo>
                    <a:lnTo>
                      <a:pt x="73" y="4"/>
                    </a:lnTo>
                    <a:lnTo>
                      <a:pt x="84" y="2"/>
                    </a:lnTo>
                    <a:lnTo>
                      <a:pt x="97" y="0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4" y="2"/>
                    </a:lnTo>
                    <a:lnTo>
                      <a:pt x="145" y="4"/>
                    </a:lnTo>
                    <a:lnTo>
                      <a:pt x="157" y="7"/>
                    </a:lnTo>
                    <a:lnTo>
                      <a:pt x="167" y="11"/>
                    </a:lnTo>
                    <a:lnTo>
                      <a:pt x="176" y="16"/>
                    </a:lnTo>
                    <a:lnTo>
                      <a:pt x="183" y="21"/>
                    </a:lnTo>
                    <a:lnTo>
                      <a:pt x="191" y="27"/>
                    </a:lnTo>
                    <a:lnTo>
                      <a:pt x="197" y="35"/>
                    </a:lnTo>
                    <a:lnTo>
                      <a:pt x="203" y="43"/>
                    </a:lnTo>
                    <a:lnTo>
                      <a:pt x="207" y="52"/>
                    </a:lnTo>
                    <a:lnTo>
                      <a:pt x="211" y="61"/>
                    </a:lnTo>
                    <a:lnTo>
                      <a:pt x="214" y="72"/>
                    </a:lnTo>
                    <a:lnTo>
                      <a:pt x="216" y="84"/>
                    </a:lnTo>
                    <a:lnTo>
                      <a:pt x="217" y="96"/>
                    </a:lnTo>
                    <a:lnTo>
                      <a:pt x="218" y="109"/>
                    </a:lnTo>
                    <a:lnTo>
                      <a:pt x="21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3362400" y="2398680"/>
                <a:ext cx="178920" cy="19836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253" y="109"/>
                    </a:moveTo>
                    <a:lnTo>
                      <a:pt x="253" y="117"/>
                    </a:lnTo>
                    <a:lnTo>
                      <a:pt x="251" y="123"/>
                    </a:lnTo>
                    <a:lnTo>
                      <a:pt x="251" y="130"/>
                    </a:lnTo>
                    <a:lnTo>
                      <a:pt x="249" y="137"/>
                    </a:lnTo>
                    <a:lnTo>
                      <a:pt x="248" y="143"/>
                    </a:lnTo>
                    <a:lnTo>
                      <a:pt x="245" y="149"/>
                    </a:lnTo>
                    <a:lnTo>
                      <a:pt x="243" y="157"/>
                    </a:lnTo>
                    <a:lnTo>
                      <a:pt x="240" y="163"/>
                    </a:lnTo>
                    <a:lnTo>
                      <a:pt x="238" y="170"/>
                    </a:lnTo>
                    <a:lnTo>
                      <a:pt x="234" y="176"/>
                    </a:lnTo>
                    <a:lnTo>
                      <a:pt x="226" y="187"/>
                    </a:lnTo>
                    <a:lnTo>
                      <a:pt x="218" y="199"/>
                    </a:lnTo>
                    <a:lnTo>
                      <a:pt x="208" y="210"/>
                    </a:lnTo>
                    <a:lnTo>
                      <a:pt x="196" y="220"/>
                    </a:lnTo>
                    <a:lnTo>
                      <a:pt x="185" y="229"/>
                    </a:lnTo>
                    <a:lnTo>
                      <a:pt x="174" y="237"/>
                    </a:lnTo>
                    <a:lnTo>
                      <a:pt x="167" y="239"/>
                    </a:lnTo>
                    <a:lnTo>
                      <a:pt x="161" y="243"/>
                    </a:lnTo>
                    <a:lnTo>
                      <a:pt x="155" y="245"/>
                    </a:lnTo>
                    <a:lnTo>
                      <a:pt x="149" y="248"/>
                    </a:lnTo>
                    <a:lnTo>
                      <a:pt x="141" y="250"/>
                    </a:lnTo>
                    <a:lnTo>
                      <a:pt x="135" y="252"/>
                    </a:lnTo>
                    <a:lnTo>
                      <a:pt x="129" y="253"/>
                    </a:lnTo>
                    <a:lnTo>
                      <a:pt x="121" y="254"/>
                    </a:lnTo>
                    <a:lnTo>
                      <a:pt x="115" y="255"/>
                    </a:lnTo>
                    <a:lnTo>
                      <a:pt x="107" y="255"/>
                    </a:lnTo>
                    <a:lnTo>
                      <a:pt x="101" y="255"/>
                    </a:lnTo>
                    <a:lnTo>
                      <a:pt x="95" y="254"/>
                    </a:lnTo>
                    <a:lnTo>
                      <a:pt x="89" y="253"/>
                    </a:lnTo>
                    <a:lnTo>
                      <a:pt x="82" y="252"/>
                    </a:lnTo>
                    <a:lnTo>
                      <a:pt x="76" y="250"/>
                    </a:lnTo>
                    <a:lnTo>
                      <a:pt x="71" y="248"/>
                    </a:lnTo>
                    <a:lnTo>
                      <a:pt x="66" y="245"/>
                    </a:lnTo>
                    <a:lnTo>
                      <a:pt x="60" y="243"/>
                    </a:lnTo>
                    <a:lnTo>
                      <a:pt x="55" y="239"/>
                    </a:lnTo>
                    <a:lnTo>
                      <a:pt x="51" y="237"/>
                    </a:lnTo>
                    <a:lnTo>
                      <a:pt x="42" y="229"/>
                    </a:lnTo>
                    <a:lnTo>
                      <a:pt x="33" y="220"/>
                    </a:lnTo>
                    <a:lnTo>
                      <a:pt x="26" y="210"/>
                    </a:lnTo>
                    <a:lnTo>
                      <a:pt x="20" y="199"/>
                    </a:lnTo>
                    <a:lnTo>
                      <a:pt x="15" y="187"/>
                    </a:lnTo>
                    <a:lnTo>
                      <a:pt x="10" y="176"/>
                    </a:lnTo>
                    <a:lnTo>
                      <a:pt x="6" y="163"/>
                    </a:lnTo>
                    <a:lnTo>
                      <a:pt x="3" y="149"/>
                    </a:lnTo>
                    <a:lnTo>
                      <a:pt x="1" y="137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3" y="72"/>
                    </a:lnTo>
                    <a:lnTo>
                      <a:pt x="6" y="61"/>
                    </a:lnTo>
                    <a:lnTo>
                      <a:pt x="10" y="52"/>
                    </a:lnTo>
                    <a:lnTo>
                      <a:pt x="15" y="43"/>
                    </a:lnTo>
                    <a:lnTo>
                      <a:pt x="20" y="35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2" y="16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5" y="2"/>
                    </a:lnTo>
                    <a:lnTo>
                      <a:pt x="149" y="4"/>
                    </a:lnTo>
                    <a:lnTo>
                      <a:pt x="161" y="7"/>
                    </a:lnTo>
                    <a:lnTo>
                      <a:pt x="174" y="11"/>
                    </a:lnTo>
                    <a:lnTo>
                      <a:pt x="185" y="16"/>
                    </a:lnTo>
                    <a:lnTo>
                      <a:pt x="196" y="21"/>
                    </a:lnTo>
                    <a:lnTo>
                      <a:pt x="208" y="27"/>
                    </a:lnTo>
                    <a:lnTo>
                      <a:pt x="218" y="35"/>
                    </a:lnTo>
                    <a:lnTo>
                      <a:pt x="226" y="43"/>
                    </a:lnTo>
                    <a:lnTo>
                      <a:pt x="234" y="52"/>
                    </a:lnTo>
                    <a:lnTo>
                      <a:pt x="238" y="56"/>
                    </a:lnTo>
                    <a:lnTo>
                      <a:pt x="240" y="61"/>
                    </a:lnTo>
                    <a:lnTo>
                      <a:pt x="243" y="67"/>
                    </a:lnTo>
                    <a:lnTo>
                      <a:pt x="245" y="72"/>
                    </a:lnTo>
                    <a:lnTo>
                      <a:pt x="248" y="77"/>
                    </a:lnTo>
                    <a:lnTo>
                      <a:pt x="249" y="84"/>
                    </a:lnTo>
                    <a:lnTo>
                      <a:pt x="251" y="90"/>
                    </a:lnTo>
                    <a:lnTo>
                      <a:pt x="251" y="96"/>
                    </a:lnTo>
                    <a:lnTo>
                      <a:pt x="253" y="103"/>
                    </a:lnTo>
                    <a:lnTo>
                      <a:pt x="253" y="109"/>
                    </a:lnTo>
                    <a:lnTo>
                      <a:pt x="25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00" name=""/>
              <p:cNvSpPr/>
              <p:nvPr/>
            </p:nvSpPr>
            <p:spPr>
              <a:xfrm>
                <a:off x="2794680" y="2201400"/>
                <a:ext cx="850320" cy="565200"/>
              </a:xfrm>
              <a:custGeom>
                <a:avLst/>
                <a:gdLst/>
                <a:ahLst/>
                <a:rect l="l" t="t" r="r" b="b"/>
                <a:pathLst>
                  <a:path w="1195" h="729">
                    <a:moveTo>
                      <a:pt x="0" y="729"/>
                    </a:moveTo>
                    <a:lnTo>
                      <a:pt x="1195" y="729"/>
                    </a:lnTo>
                    <a:lnTo>
                      <a:pt x="119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690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69480" y="2171880"/>
                <a:ext cx="850320" cy="56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0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769480" y="2171880"/>
                <a:ext cx="85032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03" name=""/>
              <p:cNvSpPr/>
              <p:nvPr/>
            </p:nvSpPr>
            <p:spPr>
              <a:xfrm>
                <a:off x="2901600" y="2381400"/>
                <a:ext cx="177480" cy="194040"/>
              </a:xfrm>
              <a:custGeom>
                <a:avLst/>
                <a:gdLst/>
                <a:ahLst/>
                <a:rect l="l" t="t" r="r" b="b"/>
                <a:pathLst>
                  <a:path w="249" h="249">
                    <a:moveTo>
                      <a:pt x="249" y="126"/>
                    </a:moveTo>
                    <a:lnTo>
                      <a:pt x="249" y="133"/>
                    </a:lnTo>
                    <a:lnTo>
                      <a:pt x="248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3" y="163"/>
                    </a:lnTo>
                    <a:lnTo>
                      <a:pt x="239" y="174"/>
                    </a:lnTo>
                    <a:lnTo>
                      <a:pt x="234" y="184"/>
                    </a:lnTo>
                    <a:lnTo>
                      <a:pt x="228" y="194"/>
                    </a:lnTo>
                    <a:lnTo>
                      <a:pt x="220" y="204"/>
                    </a:lnTo>
                    <a:lnTo>
                      <a:pt x="212" y="213"/>
                    </a:lnTo>
                    <a:lnTo>
                      <a:pt x="203" y="221"/>
                    </a:lnTo>
                    <a:lnTo>
                      <a:pt x="194" y="228"/>
                    </a:lnTo>
                    <a:lnTo>
                      <a:pt x="183" y="235"/>
                    </a:lnTo>
                    <a:lnTo>
                      <a:pt x="173" y="240"/>
                    </a:lnTo>
                    <a:lnTo>
                      <a:pt x="161" y="244"/>
                    </a:lnTo>
                    <a:lnTo>
                      <a:pt x="149" y="246"/>
                    </a:lnTo>
                    <a:lnTo>
                      <a:pt x="136" y="249"/>
                    </a:lnTo>
                    <a:lnTo>
                      <a:pt x="130" y="249"/>
                    </a:lnTo>
                    <a:lnTo>
                      <a:pt x="124" y="249"/>
                    </a:lnTo>
                    <a:lnTo>
                      <a:pt x="118" y="249"/>
                    </a:lnTo>
                    <a:lnTo>
                      <a:pt x="111" y="249"/>
                    </a:lnTo>
                    <a:lnTo>
                      <a:pt x="100" y="246"/>
                    </a:lnTo>
                    <a:lnTo>
                      <a:pt x="88" y="244"/>
                    </a:lnTo>
                    <a:lnTo>
                      <a:pt x="76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6" y="213"/>
                    </a:lnTo>
                    <a:lnTo>
                      <a:pt x="29" y="204"/>
                    </a:lnTo>
                    <a:lnTo>
                      <a:pt x="21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5" y="163"/>
                    </a:lnTo>
                    <a:lnTo>
                      <a:pt x="2" y="150"/>
                    </a:lnTo>
                    <a:lnTo>
                      <a:pt x="1" y="145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1" y="106"/>
                    </a:lnTo>
                    <a:lnTo>
                      <a:pt x="2" y="100"/>
                    </a:lnTo>
                    <a:lnTo>
                      <a:pt x="6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1" y="56"/>
                    </a:lnTo>
                    <a:lnTo>
                      <a:pt x="29" y="45"/>
                    </a:lnTo>
                    <a:lnTo>
                      <a:pt x="36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8" y="6"/>
                    </a:lnTo>
                    <a:lnTo>
                      <a:pt x="100" y="2"/>
                    </a:lnTo>
                    <a:lnTo>
                      <a:pt x="111" y="1"/>
                    </a:lnTo>
                    <a:lnTo>
                      <a:pt x="118" y="1"/>
                    </a:lnTo>
                    <a:lnTo>
                      <a:pt x="124" y="0"/>
                    </a:lnTo>
                    <a:lnTo>
                      <a:pt x="130" y="1"/>
                    </a:lnTo>
                    <a:lnTo>
                      <a:pt x="136" y="1"/>
                    </a:lnTo>
                    <a:lnTo>
                      <a:pt x="149" y="2"/>
                    </a:lnTo>
                    <a:lnTo>
                      <a:pt x="161" y="6"/>
                    </a:lnTo>
                    <a:lnTo>
                      <a:pt x="173" y="10"/>
                    </a:lnTo>
                    <a:lnTo>
                      <a:pt x="183" y="15"/>
                    </a:lnTo>
                    <a:lnTo>
                      <a:pt x="194" y="21"/>
                    </a:lnTo>
                    <a:lnTo>
                      <a:pt x="203" y="29"/>
                    </a:lnTo>
                    <a:lnTo>
                      <a:pt x="212" y="37"/>
                    </a:lnTo>
                    <a:lnTo>
                      <a:pt x="220" y="45"/>
                    </a:lnTo>
                    <a:lnTo>
                      <a:pt x="228" y="56"/>
                    </a:lnTo>
                    <a:lnTo>
                      <a:pt x="234" y="66"/>
                    </a:lnTo>
                    <a:lnTo>
                      <a:pt x="239" y="77"/>
                    </a:lnTo>
                    <a:lnTo>
                      <a:pt x="243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48" y="112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04" name=""/>
              <p:cNvSpPr/>
              <p:nvPr/>
            </p:nvSpPr>
            <p:spPr>
              <a:xfrm>
                <a:off x="3346560" y="2381400"/>
                <a:ext cx="177480" cy="19404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50" y="126"/>
                    </a:moveTo>
                    <a:lnTo>
                      <a:pt x="250" y="133"/>
                    </a:lnTo>
                    <a:lnTo>
                      <a:pt x="250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5" y="163"/>
                    </a:lnTo>
                    <a:lnTo>
                      <a:pt x="240" y="174"/>
                    </a:lnTo>
                    <a:lnTo>
                      <a:pt x="235" y="184"/>
                    </a:lnTo>
                    <a:lnTo>
                      <a:pt x="228" y="194"/>
                    </a:lnTo>
                    <a:lnTo>
                      <a:pt x="221" y="204"/>
                    </a:lnTo>
                    <a:lnTo>
                      <a:pt x="213" y="213"/>
                    </a:lnTo>
                    <a:lnTo>
                      <a:pt x="205" y="221"/>
                    </a:lnTo>
                    <a:lnTo>
                      <a:pt x="195" y="228"/>
                    </a:lnTo>
                    <a:lnTo>
                      <a:pt x="184" y="235"/>
                    </a:lnTo>
                    <a:lnTo>
                      <a:pt x="173" y="240"/>
                    </a:lnTo>
                    <a:lnTo>
                      <a:pt x="162" y="244"/>
                    </a:lnTo>
                    <a:lnTo>
                      <a:pt x="151" y="246"/>
                    </a:lnTo>
                    <a:lnTo>
                      <a:pt x="138" y="249"/>
                    </a:lnTo>
                    <a:lnTo>
                      <a:pt x="132" y="249"/>
                    </a:lnTo>
                    <a:lnTo>
                      <a:pt x="126" y="249"/>
                    </a:lnTo>
                    <a:lnTo>
                      <a:pt x="119" y="249"/>
                    </a:lnTo>
                    <a:lnTo>
                      <a:pt x="112" y="249"/>
                    </a:lnTo>
                    <a:lnTo>
                      <a:pt x="99" y="246"/>
                    </a:lnTo>
                    <a:lnTo>
                      <a:pt x="88" y="244"/>
                    </a:lnTo>
                    <a:lnTo>
                      <a:pt x="77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7" y="213"/>
                    </a:lnTo>
                    <a:lnTo>
                      <a:pt x="29" y="204"/>
                    </a:lnTo>
                    <a:lnTo>
                      <a:pt x="22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7" y="163"/>
                    </a:lnTo>
                    <a:lnTo>
                      <a:pt x="3" y="150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6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3" y="100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9" y="45"/>
                    </a:lnTo>
                    <a:lnTo>
                      <a:pt x="37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7" y="10"/>
                    </a:lnTo>
                    <a:lnTo>
                      <a:pt x="88" y="6"/>
                    </a:lnTo>
                    <a:lnTo>
                      <a:pt x="99" y="2"/>
                    </a:lnTo>
                    <a:lnTo>
                      <a:pt x="112" y="1"/>
                    </a:lnTo>
                    <a:lnTo>
                      <a:pt x="119" y="1"/>
                    </a:lnTo>
                    <a:lnTo>
                      <a:pt x="126" y="0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51" y="2"/>
                    </a:lnTo>
                    <a:lnTo>
                      <a:pt x="162" y="6"/>
                    </a:lnTo>
                    <a:lnTo>
                      <a:pt x="173" y="10"/>
                    </a:lnTo>
                    <a:lnTo>
                      <a:pt x="184" y="15"/>
                    </a:lnTo>
                    <a:lnTo>
                      <a:pt x="195" y="21"/>
                    </a:lnTo>
                    <a:lnTo>
                      <a:pt x="205" y="29"/>
                    </a:lnTo>
                    <a:lnTo>
                      <a:pt x="213" y="37"/>
                    </a:lnTo>
                    <a:lnTo>
                      <a:pt x="221" y="45"/>
                    </a:lnTo>
                    <a:lnTo>
                      <a:pt x="228" y="56"/>
                    </a:lnTo>
                    <a:lnTo>
                      <a:pt x="235" y="66"/>
                    </a:lnTo>
                    <a:lnTo>
                      <a:pt x="240" y="77"/>
                    </a:lnTo>
                    <a:lnTo>
                      <a:pt x="245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50" y="112"/>
                    </a:lnTo>
                    <a:lnTo>
                      <a:pt x="250" y="120"/>
                    </a:lnTo>
                    <a:lnTo>
                      <a:pt x="250" y="126"/>
                    </a:lnTo>
                    <a:lnTo>
                      <a:pt x="250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05" name=""/>
              <p:cNvSpPr/>
              <p:nvPr/>
            </p:nvSpPr>
            <p:spPr>
              <a:xfrm>
                <a:off x="2791800" y="2198160"/>
                <a:ext cx="840240" cy="56196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06" name=""/>
              <p:cNvSpPr/>
              <p:nvPr/>
            </p:nvSpPr>
            <p:spPr>
              <a:xfrm>
                <a:off x="400320" y="2370240"/>
                <a:ext cx="25560" cy="6228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07" name=""/>
              <p:cNvSpPr/>
              <p:nvPr/>
            </p:nvSpPr>
            <p:spPr>
              <a:xfrm>
                <a:off x="425880" y="2370240"/>
                <a:ext cx="25200" cy="62280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08" name=""/>
              <p:cNvSpPr/>
              <p:nvPr/>
            </p:nvSpPr>
            <p:spPr>
              <a:xfrm>
                <a:off x="451440" y="2370240"/>
                <a:ext cx="25200" cy="62280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09" name=""/>
              <p:cNvSpPr/>
              <p:nvPr/>
            </p:nvSpPr>
            <p:spPr>
              <a:xfrm>
                <a:off x="414360" y="2387520"/>
                <a:ext cx="68040" cy="611640"/>
              </a:xfrm>
              <a:custGeom>
                <a:avLst/>
                <a:gdLst/>
                <a:ahLst/>
                <a:rect l="l" t="t" r="r" b="b"/>
                <a:pathLst>
                  <a:path w="95" h="786">
                    <a:moveTo>
                      <a:pt x="90" y="786"/>
                    </a:moveTo>
                    <a:lnTo>
                      <a:pt x="4" y="786"/>
                    </a:lnTo>
                    <a:lnTo>
                      <a:pt x="2" y="785"/>
                    </a:lnTo>
                    <a:lnTo>
                      <a:pt x="1" y="784"/>
                    </a:lnTo>
                    <a:lnTo>
                      <a:pt x="0" y="782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4" y="2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779"/>
                    </a:lnTo>
                    <a:lnTo>
                      <a:pt x="94" y="782"/>
                    </a:lnTo>
                    <a:lnTo>
                      <a:pt x="93" y="784"/>
                    </a:lnTo>
                    <a:lnTo>
                      <a:pt x="91" y="785"/>
                    </a:lnTo>
                    <a:lnTo>
                      <a:pt x="90" y="78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0" name=""/>
              <p:cNvSpPr/>
              <p:nvPr/>
            </p:nvSpPr>
            <p:spPr>
              <a:xfrm>
                <a:off x="703080" y="2900160"/>
                <a:ext cx="875880" cy="83520"/>
              </a:xfrm>
              <a:custGeom>
                <a:avLst/>
                <a:gdLst/>
                <a:ahLst/>
                <a:rect l="l" t="t" r="r" b="b"/>
                <a:pathLst>
                  <a:path w="1231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77" y="0"/>
                    </a:moveTo>
                    <a:lnTo>
                      <a:pt x="1077" y="104"/>
                    </a:lnTo>
                    <a:lnTo>
                      <a:pt x="1077" y="106"/>
                    </a:lnTo>
                    <a:lnTo>
                      <a:pt x="1077" y="107"/>
                    </a:lnTo>
                    <a:lnTo>
                      <a:pt x="1078" y="108"/>
                    </a:lnTo>
                    <a:lnTo>
                      <a:pt x="1080" y="108"/>
                    </a:lnTo>
                    <a:lnTo>
                      <a:pt x="1080" y="108"/>
                    </a:lnTo>
                    <a:lnTo>
                      <a:pt x="1229" y="108"/>
                    </a:lnTo>
                    <a:lnTo>
                      <a:pt x="1229" y="108"/>
                    </a:lnTo>
                    <a:lnTo>
                      <a:pt x="1230" y="107"/>
                    </a:lnTo>
                    <a:lnTo>
                      <a:pt x="1231" y="106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0"/>
                    </a:lnTo>
                    <a:lnTo>
                      <a:pt x="1077" y="0"/>
                    </a:lnTo>
                    <a:lnTo>
                      <a:pt x="1077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1" name=""/>
              <p:cNvSpPr/>
              <p:nvPr/>
            </p:nvSpPr>
            <p:spPr>
              <a:xfrm>
                <a:off x="703080" y="2900160"/>
                <a:ext cx="109440" cy="8352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2" name=""/>
              <p:cNvSpPr/>
              <p:nvPr/>
            </p:nvSpPr>
            <p:spPr>
              <a:xfrm>
                <a:off x="1469520" y="2900160"/>
                <a:ext cx="109440" cy="8352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3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3" name=""/>
              <p:cNvSpPr/>
              <p:nvPr/>
            </p:nvSpPr>
            <p:spPr>
              <a:xfrm>
                <a:off x="1991520" y="2187360"/>
                <a:ext cx="434880" cy="464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4" name=""/>
              <p:cNvSpPr/>
              <p:nvPr/>
            </p:nvSpPr>
            <p:spPr>
              <a:xfrm>
                <a:off x="1991520" y="2187360"/>
                <a:ext cx="434880" cy="4640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5" name=""/>
              <p:cNvSpPr/>
              <p:nvPr/>
            </p:nvSpPr>
            <p:spPr>
              <a:xfrm>
                <a:off x="1995840" y="2438640"/>
                <a:ext cx="429480" cy="21240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6" name=""/>
              <p:cNvSpPr/>
              <p:nvPr/>
            </p:nvSpPr>
            <p:spPr>
              <a:xfrm>
                <a:off x="1995840" y="2438640"/>
                <a:ext cx="429480" cy="21240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7" name=""/>
              <p:cNvSpPr/>
              <p:nvPr/>
            </p:nvSpPr>
            <p:spPr>
              <a:xfrm>
                <a:off x="700200" y="2185560"/>
                <a:ext cx="2016360" cy="823320"/>
              </a:xfrm>
              <a:custGeom>
                <a:avLst/>
                <a:gdLst/>
                <a:ahLst/>
                <a:rect l="l" t="t" r="r" b="b"/>
                <a:pathLst>
                  <a:path w="2835" h="1060">
                    <a:moveTo>
                      <a:pt x="175" y="1060"/>
                    </a:moveTo>
                    <a:lnTo>
                      <a:pt x="326" y="1060"/>
                    </a:lnTo>
                    <a:lnTo>
                      <a:pt x="327" y="1060"/>
                    </a:lnTo>
                    <a:lnTo>
                      <a:pt x="327" y="1058"/>
                    </a:lnTo>
                    <a:lnTo>
                      <a:pt x="327" y="1057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978"/>
                    </a:lnTo>
                    <a:lnTo>
                      <a:pt x="327" y="976"/>
                    </a:lnTo>
                    <a:lnTo>
                      <a:pt x="327" y="975"/>
                    </a:lnTo>
                    <a:lnTo>
                      <a:pt x="327" y="974"/>
                    </a:lnTo>
                    <a:lnTo>
                      <a:pt x="326" y="974"/>
                    </a:lnTo>
                    <a:lnTo>
                      <a:pt x="175" y="974"/>
                    </a:lnTo>
                    <a:lnTo>
                      <a:pt x="175" y="974"/>
                    </a:lnTo>
                    <a:lnTo>
                      <a:pt x="175" y="975"/>
                    </a:lnTo>
                    <a:lnTo>
                      <a:pt x="174" y="976"/>
                    </a:lnTo>
                    <a:lnTo>
                      <a:pt x="174" y="978"/>
                    </a:lnTo>
                    <a:lnTo>
                      <a:pt x="174" y="978"/>
                    </a:lnTo>
                    <a:lnTo>
                      <a:pt x="174" y="1056"/>
                    </a:lnTo>
                    <a:lnTo>
                      <a:pt x="174" y="1057"/>
                    </a:lnTo>
                    <a:lnTo>
                      <a:pt x="175" y="1058"/>
                    </a:lnTo>
                    <a:lnTo>
                      <a:pt x="175" y="1060"/>
                    </a:lnTo>
                    <a:lnTo>
                      <a:pt x="175" y="1060"/>
                    </a:lnTo>
                    <a:lnTo>
                      <a:pt x="175" y="1060"/>
                    </a:lnTo>
                    <a:close/>
                    <a:moveTo>
                      <a:pt x="362" y="1060"/>
                    </a:moveTo>
                    <a:lnTo>
                      <a:pt x="508" y="1060"/>
                    </a:lnTo>
                    <a:lnTo>
                      <a:pt x="510" y="1060"/>
                    </a:lnTo>
                    <a:lnTo>
                      <a:pt x="511" y="1058"/>
                    </a:lnTo>
                    <a:lnTo>
                      <a:pt x="512" y="1057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978"/>
                    </a:lnTo>
                    <a:lnTo>
                      <a:pt x="512" y="976"/>
                    </a:lnTo>
                    <a:lnTo>
                      <a:pt x="511" y="975"/>
                    </a:lnTo>
                    <a:lnTo>
                      <a:pt x="510" y="974"/>
                    </a:lnTo>
                    <a:lnTo>
                      <a:pt x="508" y="974"/>
                    </a:lnTo>
                    <a:lnTo>
                      <a:pt x="362" y="974"/>
                    </a:lnTo>
                    <a:lnTo>
                      <a:pt x="359" y="974"/>
                    </a:lnTo>
                    <a:lnTo>
                      <a:pt x="358" y="975"/>
                    </a:lnTo>
                    <a:lnTo>
                      <a:pt x="357" y="976"/>
                    </a:lnTo>
                    <a:lnTo>
                      <a:pt x="357" y="978"/>
                    </a:lnTo>
                    <a:lnTo>
                      <a:pt x="357" y="978"/>
                    </a:lnTo>
                    <a:lnTo>
                      <a:pt x="357" y="1056"/>
                    </a:lnTo>
                    <a:lnTo>
                      <a:pt x="357" y="1057"/>
                    </a:lnTo>
                    <a:lnTo>
                      <a:pt x="358" y="1058"/>
                    </a:lnTo>
                    <a:lnTo>
                      <a:pt x="359" y="1060"/>
                    </a:lnTo>
                    <a:lnTo>
                      <a:pt x="362" y="1060"/>
                    </a:lnTo>
                    <a:lnTo>
                      <a:pt x="362" y="1060"/>
                    </a:lnTo>
                    <a:close/>
                    <a:moveTo>
                      <a:pt x="545" y="1060"/>
                    </a:moveTo>
                    <a:lnTo>
                      <a:pt x="694" y="1060"/>
                    </a:lnTo>
                    <a:lnTo>
                      <a:pt x="694" y="1060"/>
                    </a:lnTo>
                    <a:lnTo>
                      <a:pt x="695" y="1058"/>
                    </a:lnTo>
                    <a:lnTo>
                      <a:pt x="696" y="1057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978"/>
                    </a:lnTo>
                    <a:lnTo>
                      <a:pt x="696" y="976"/>
                    </a:lnTo>
                    <a:lnTo>
                      <a:pt x="695" y="975"/>
                    </a:lnTo>
                    <a:lnTo>
                      <a:pt x="694" y="974"/>
                    </a:lnTo>
                    <a:lnTo>
                      <a:pt x="694" y="974"/>
                    </a:lnTo>
                    <a:lnTo>
                      <a:pt x="545" y="974"/>
                    </a:lnTo>
                    <a:lnTo>
                      <a:pt x="544" y="974"/>
                    </a:lnTo>
                    <a:lnTo>
                      <a:pt x="542" y="975"/>
                    </a:lnTo>
                    <a:lnTo>
                      <a:pt x="542" y="976"/>
                    </a:lnTo>
                    <a:lnTo>
                      <a:pt x="542" y="978"/>
                    </a:lnTo>
                    <a:lnTo>
                      <a:pt x="542" y="978"/>
                    </a:lnTo>
                    <a:lnTo>
                      <a:pt x="542" y="1056"/>
                    </a:lnTo>
                    <a:lnTo>
                      <a:pt x="542" y="1057"/>
                    </a:lnTo>
                    <a:lnTo>
                      <a:pt x="542" y="1058"/>
                    </a:lnTo>
                    <a:lnTo>
                      <a:pt x="544" y="1060"/>
                    </a:lnTo>
                    <a:lnTo>
                      <a:pt x="545" y="1060"/>
                    </a:lnTo>
                    <a:lnTo>
                      <a:pt x="545" y="1060"/>
                    </a:lnTo>
                    <a:close/>
                    <a:moveTo>
                      <a:pt x="730" y="1060"/>
                    </a:moveTo>
                    <a:lnTo>
                      <a:pt x="877" y="1060"/>
                    </a:lnTo>
                    <a:lnTo>
                      <a:pt x="879" y="1060"/>
                    </a:lnTo>
                    <a:lnTo>
                      <a:pt x="881" y="1058"/>
                    </a:lnTo>
                    <a:lnTo>
                      <a:pt x="882" y="1057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978"/>
                    </a:lnTo>
                    <a:lnTo>
                      <a:pt x="882" y="976"/>
                    </a:lnTo>
                    <a:lnTo>
                      <a:pt x="881" y="975"/>
                    </a:lnTo>
                    <a:lnTo>
                      <a:pt x="879" y="974"/>
                    </a:lnTo>
                    <a:lnTo>
                      <a:pt x="877" y="974"/>
                    </a:lnTo>
                    <a:lnTo>
                      <a:pt x="730" y="974"/>
                    </a:lnTo>
                    <a:lnTo>
                      <a:pt x="729" y="974"/>
                    </a:lnTo>
                    <a:lnTo>
                      <a:pt x="728" y="975"/>
                    </a:lnTo>
                    <a:lnTo>
                      <a:pt x="727" y="976"/>
                    </a:lnTo>
                    <a:lnTo>
                      <a:pt x="725" y="978"/>
                    </a:lnTo>
                    <a:lnTo>
                      <a:pt x="725" y="978"/>
                    </a:lnTo>
                    <a:lnTo>
                      <a:pt x="725" y="1056"/>
                    </a:lnTo>
                    <a:lnTo>
                      <a:pt x="727" y="1057"/>
                    </a:lnTo>
                    <a:lnTo>
                      <a:pt x="728" y="1058"/>
                    </a:lnTo>
                    <a:lnTo>
                      <a:pt x="729" y="1060"/>
                    </a:lnTo>
                    <a:lnTo>
                      <a:pt x="730" y="1060"/>
                    </a:lnTo>
                    <a:lnTo>
                      <a:pt x="730" y="1060"/>
                    </a:lnTo>
                    <a:close/>
                    <a:moveTo>
                      <a:pt x="913" y="1060"/>
                    </a:moveTo>
                    <a:lnTo>
                      <a:pt x="1061" y="1060"/>
                    </a:lnTo>
                    <a:lnTo>
                      <a:pt x="1062" y="1060"/>
                    </a:lnTo>
                    <a:lnTo>
                      <a:pt x="1064" y="1058"/>
                    </a:lnTo>
                    <a:lnTo>
                      <a:pt x="1065" y="1057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978"/>
                    </a:lnTo>
                    <a:lnTo>
                      <a:pt x="1065" y="976"/>
                    </a:lnTo>
                    <a:lnTo>
                      <a:pt x="1064" y="975"/>
                    </a:lnTo>
                    <a:lnTo>
                      <a:pt x="1062" y="974"/>
                    </a:lnTo>
                    <a:lnTo>
                      <a:pt x="1061" y="974"/>
                    </a:lnTo>
                    <a:lnTo>
                      <a:pt x="1061" y="974"/>
                    </a:lnTo>
                    <a:lnTo>
                      <a:pt x="913" y="974"/>
                    </a:lnTo>
                    <a:lnTo>
                      <a:pt x="912" y="974"/>
                    </a:lnTo>
                    <a:lnTo>
                      <a:pt x="912" y="975"/>
                    </a:lnTo>
                    <a:lnTo>
                      <a:pt x="912" y="976"/>
                    </a:lnTo>
                    <a:lnTo>
                      <a:pt x="912" y="978"/>
                    </a:lnTo>
                    <a:lnTo>
                      <a:pt x="912" y="978"/>
                    </a:lnTo>
                    <a:lnTo>
                      <a:pt x="912" y="1056"/>
                    </a:lnTo>
                    <a:lnTo>
                      <a:pt x="912" y="1057"/>
                    </a:lnTo>
                    <a:lnTo>
                      <a:pt x="912" y="1058"/>
                    </a:lnTo>
                    <a:lnTo>
                      <a:pt x="912" y="1060"/>
                    </a:lnTo>
                    <a:lnTo>
                      <a:pt x="913" y="1060"/>
                    </a:lnTo>
                    <a:lnTo>
                      <a:pt x="913" y="1060"/>
                    </a:lnTo>
                    <a:close/>
                    <a:moveTo>
                      <a:pt x="4" y="643"/>
                    </a:moveTo>
                    <a:lnTo>
                      <a:pt x="151" y="643"/>
                    </a:lnTo>
                    <a:lnTo>
                      <a:pt x="153" y="643"/>
                    </a:lnTo>
                    <a:lnTo>
                      <a:pt x="154" y="643"/>
                    </a:lnTo>
                    <a:lnTo>
                      <a:pt x="155" y="642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581"/>
                    </a:lnTo>
                    <a:lnTo>
                      <a:pt x="155" y="581"/>
                    </a:lnTo>
                    <a:lnTo>
                      <a:pt x="154" y="580"/>
                    </a:lnTo>
                    <a:lnTo>
                      <a:pt x="153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4" y="580"/>
                    </a:lnTo>
                    <a:lnTo>
                      <a:pt x="2" y="580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641"/>
                    </a:lnTo>
                    <a:lnTo>
                      <a:pt x="0" y="642"/>
                    </a:lnTo>
                    <a:lnTo>
                      <a:pt x="1" y="643"/>
                    </a:lnTo>
                    <a:lnTo>
                      <a:pt x="2" y="643"/>
                    </a:lnTo>
                    <a:lnTo>
                      <a:pt x="4" y="643"/>
                    </a:lnTo>
                    <a:lnTo>
                      <a:pt x="4" y="643"/>
                    </a:lnTo>
                    <a:close/>
                    <a:moveTo>
                      <a:pt x="352" y="643"/>
                    </a:moveTo>
                    <a:lnTo>
                      <a:pt x="466" y="643"/>
                    </a:lnTo>
                    <a:lnTo>
                      <a:pt x="467" y="643"/>
                    </a:lnTo>
                    <a:lnTo>
                      <a:pt x="468" y="643"/>
                    </a:lnTo>
                    <a:lnTo>
                      <a:pt x="470" y="642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581"/>
                    </a:lnTo>
                    <a:lnTo>
                      <a:pt x="470" y="581"/>
                    </a:lnTo>
                    <a:lnTo>
                      <a:pt x="468" y="580"/>
                    </a:lnTo>
                    <a:lnTo>
                      <a:pt x="467" y="580"/>
                    </a:lnTo>
                    <a:lnTo>
                      <a:pt x="466" y="580"/>
                    </a:lnTo>
                    <a:lnTo>
                      <a:pt x="466" y="580"/>
                    </a:lnTo>
                    <a:lnTo>
                      <a:pt x="352" y="580"/>
                    </a:lnTo>
                    <a:lnTo>
                      <a:pt x="351" y="580"/>
                    </a:lnTo>
                    <a:lnTo>
                      <a:pt x="349" y="580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641"/>
                    </a:lnTo>
                    <a:lnTo>
                      <a:pt x="348" y="642"/>
                    </a:lnTo>
                    <a:lnTo>
                      <a:pt x="349" y="643"/>
                    </a:lnTo>
                    <a:lnTo>
                      <a:pt x="351" y="643"/>
                    </a:lnTo>
                    <a:lnTo>
                      <a:pt x="352" y="643"/>
                    </a:lnTo>
                    <a:lnTo>
                      <a:pt x="352" y="643"/>
                    </a:lnTo>
                    <a:close/>
                    <a:moveTo>
                      <a:pt x="502" y="643"/>
                    </a:moveTo>
                    <a:lnTo>
                      <a:pt x="617" y="643"/>
                    </a:lnTo>
                    <a:lnTo>
                      <a:pt x="619" y="643"/>
                    </a:lnTo>
                    <a:lnTo>
                      <a:pt x="619" y="643"/>
                    </a:lnTo>
                    <a:lnTo>
                      <a:pt x="619" y="642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581"/>
                    </a:lnTo>
                    <a:lnTo>
                      <a:pt x="619" y="581"/>
                    </a:lnTo>
                    <a:lnTo>
                      <a:pt x="619" y="580"/>
                    </a:lnTo>
                    <a:lnTo>
                      <a:pt x="619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502" y="580"/>
                    </a:lnTo>
                    <a:lnTo>
                      <a:pt x="501" y="580"/>
                    </a:lnTo>
                    <a:lnTo>
                      <a:pt x="500" y="580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641"/>
                    </a:lnTo>
                    <a:lnTo>
                      <a:pt x="500" y="642"/>
                    </a:lnTo>
                    <a:lnTo>
                      <a:pt x="500" y="643"/>
                    </a:lnTo>
                    <a:lnTo>
                      <a:pt x="501" y="643"/>
                    </a:lnTo>
                    <a:lnTo>
                      <a:pt x="502" y="643"/>
                    </a:lnTo>
                    <a:lnTo>
                      <a:pt x="502" y="643"/>
                    </a:lnTo>
                    <a:close/>
                    <a:moveTo>
                      <a:pt x="651" y="643"/>
                    </a:moveTo>
                    <a:lnTo>
                      <a:pt x="767" y="643"/>
                    </a:lnTo>
                    <a:lnTo>
                      <a:pt x="768" y="643"/>
                    </a:lnTo>
                    <a:lnTo>
                      <a:pt x="769" y="643"/>
                    </a:lnTo>
                    <a:lnTo>
                      <a:pt x="770" y="642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581"/>
                    </a:lnTo>
                    <a:lnTo>
                      <a:pt x="770" y="581"/>
                    </a:lnTo>
                    <a:lnTo>
                      <a:pt x="769" y="580"/>
                    </a:lnTo>
                    <a:lnTo>
                      <a:pt x="768" y="580"/>
                    </a:lnTo>
                    <a:lnTo>
                      <a:pt x="767" y="580"/>
                    </a:lnTo>
                    <a:lnTo>
                      <a:pt x="767" y="580"/>
                    </a:lnTo>
                    <a:lnTo>
                      <a:pt x="651" y="580"/>
                    </a:lnTo>
                    <a:lnTo>
                      <a:pt x="651" y="580"/>
                    </a:lnTo>
                    <a:lnTo>
                      <a:pt x="650" y="580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641"/>
                    </a:lnTo>
                    <a:lnTo>
                      <a:pt x="649" y="642"/>
                    </a:lnTo>
                    <a:lnTo>
                      <a:pt x="650" y="643"/>
                    </a:lnTo>
                    <a:lnTo>
                      <a:pt x="651" y="643"/>
                    </a:lnTo>
                    <a:lnTo>
                      <a:pt x="651" y="643"/>
                    </a:lnTo>
                    <a:lnTo>
                      <a:pt x="651" y="643"/>
                    </a:lnTo>
                    <a:close/>
                    <a:moveTo>
                      <a:pt x="971" y="643"/>
                    </a:moveTo>
                    <a:lnTo>
                      <a:pt x="1086" y="643"/>
                    </a:lnTo>
                    <a:lnTo>
                      <a:pt x="1087" y="643"/>
                    </a:lnTo>
                    <a:lnTo>
                      <a:pt x="1087" y="643"/>
                    </a:lnTo>
                    <a:lnTo>
                      <a:pt x="1087" y="642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581"/>
                    </a:lnTo>
                    <a:lnTo>
                      <a:pt x="1087" y="581"/>
                    </a:lnTo>
                    <a:lnTo>
                      <a:pt x="1087" y="580"/>
                    </a:lnTo>
                    <a:lnTo>
                      <a:pt x="1087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971" y="580"/>
                    </a:lnTo>
                    <a:lnTo>
                      <a:pt x="970" y="580"/>
                    </a:lnTo>
                    <a:lnTo>
                      <a:pt x="968" y="580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641"/>
                    </a:lnTo>
                    <a:lnTo>
                      <a:pt x="968" y="642"/>
                    </a:lnTo>
                    <a:lnTo>
                      <a:pt x="968" y="643"/>
                    </a:lnTo>
                    <a:lnTo>
                      <a:pt x="970" y="643"/>
                    </a:lnTo>
                    <a:lnTo>
                      <a:pt x="971" y="643"/>
                    </a:lnTo>
                    <a:lnTo>
                      <a:pt x="971" y="643"/>
                    </a:lnTo>
                    <a:close/>
                    <a:moveTo>
                      <a:pt x="1120" y="643"/>
                    </a:moveTo>
                    <a:lnTo>
                      <a:pt x="1235" y="643"/>
                    </a:lnTo>
                    <a:lnTo>
                      <a:pt x="1236" y="643"/>
                    </a:lnTo>
                    <a:lnTo>
                      <a:pt x="1238" y="643"/>
                    </a:lnTo>
                    <a:lnTo>
                      <a:pt x="1239" y="642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581"/>
                    </a:lnTo>
                    <a:lnTo>
                      <a:pt x="1239" y="581"/>
                    </a:lnTo>
                    <a:lnTo>
                      <a:pt x="1238" y="580"/>
                    </a:lnTo>
                    <a:lnTo>
                      <a:pt x="1236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120" y="580"/>
                    </a:lnTo>
                    <a:lnTo>
                      <a:pt x="1120" y="580"/>
                    </a:lnTo>
                    <a:lnTo>
                      <a:pt x="1119" y="580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641"/>
                    </a:lnTo>
                    <a:lnTo>
                      <a:pt x="1117" y="642"/>
                    </a:lnTo>
                    <a:lnTo>
                      <a:pt x="1119" y="643"/>
                    </a:lnTo>
                    <a:lnTo>
                      <a:pt x="1120" y="643"/>
                    </a:lnTo>
                    <a:lnTo>
                      <a:pt x="1120" y="643"/>
                    </a:lnTo>
                    <a:lnTo>
                      <a:pt x="1120" y="643"/>
                    </a:lnTo>
                    <a:close/>
                    <a:moveTo>
                      <a:pt x="1120" y="338"/>
                    </a:moveTo>
                    <a:lnTo>
                      <a:pt x="1235" y="338"/>
                    </a:lnTo>
                    <a:lnTo>
                      <a:pt x="1236" y="338"/>
                    </a:lnTo>
                    <a:lnTo>
                      <a:pt x="1238" y="338"/>
                    </a:lnTo>
                    <a:lnTo>
                      <a:pt x="1239" y="336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277"/>
                    </a:lnTo>
                    <a:lnTo>
                      <a:pt x="1239" y="274"/>
                    </a:lnTo>
                    <a:lnTo>
                      <a:pt x="1238" y="274"/>
                    </a:lnTo>
                    <a:lnTo>
                      <a:pt x="1236" y="274"/>
                    </a:lnTo>
                    <a:lnTo>
                      <a:pt x="1235" y="274"/>
                    </a:lnTo>
                    <a:lnTo>
                      <a:pt x="1235" y="274"/>
                    </a:lnTo>
                    <a:lnTo>
                      <a:pt x="1120" y="274"/>
                    </a:lnTo>
                    <a:lnTo>
                      <a:pt x="1120" y="274"/>
                    </a:lnTo>
                    <a:lnTo>
                      <a:pt x="1119" y="274"/>
                    </a:lnTo>
                    <a:lnTo>
                      <a:pt x="1117" y="274"/>
                    </a:lnTo>
                    <a:lnTo>
                      <a:pt x="1117" y="277"/>
                    </a:lnTo>
                    <a:lnTo>
                      <a:pt x="1117" y="277"/>
                    </a:lnTo>
                    <a:lnTo>
                      <a:pt x="1117" y="335"/>
                    </a:lnTo>
                    <a:lnTo>
                      <a:pt x="1117" y="336"/>
                    </a:lnTo>
                    <a:lnTo>
                      <a:pt x="1119" y="338"/>
                    </a:lnTo>
                    <a:lnTo>
                      <a:pt x="1120" y="338"/>
                    </a:lnTo>
                    <a:lnTo>
                      <a:pt x="1120" y="338"/>
                    </a:lnTo>
                    <a:lnTo>
                      <a:pt x="1120" y="338"/>
                    </a:lnTo>
                    <a:close/>
                    <a:moveTo>
                      <a:pt x="971" y="338"/>
                    </a:moveTo>
                    <a:lnTo>
                      <a:pt x="1086" y="338"/>
                    </a:lnTo>
                    <a:lnTo>
                      <a:pt x="1087" y="338"/>
                    </a:lnTo>
                    <a:lnTo>
                      <a:pt x="1087" y="338"/>
                    </a:lnTo>
                    <a:lnTo>
                      <a:pt x="1087" y="336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277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6" y="274"/>
                    </a:lnTo>
                    <a:lnTo>
                      <a:pt x="1086" y="274"/>
                    </a:lnTo>
                    <a:lnTo>
                      <a:pt x="971" y="274"/>
                    </a:lnTo>
                    <a:lnTo>
                      <a:pt x="970" y="274"/>
                    </a:lnTo>
                    <a:lnTo>
                      <a:pt x="968" y="274"/>
                    </a:lnTo>
                    <a:lnTo>
                      <a:pt x="968" y="274"/>
                    </a:lnTo>
                    <a:lnTo>
                      <a:pt x="968" y="277"/>
                    </a:lnTo>
                    <a:lnTo>
                      <a:pt x="968" y="277"/>
                    </a:lnTo>
                    <a:lnTo>
                      <a:pt x="968" y="335"/>
                    </a:lnTo>
                    <a:lnTo>
                      <a:pt x="968" y="336"/>
                    </a:lnTo>
                    <a:lnTo>
                      <a:pt x="968" y="338"/>
                    </a:lnTo>
                    <a:lnTo>
                      <a:pt x="970" y="338"/>
                    </a:lnTo>
                    <a:lnTo>
                      <a:pt x="971" y="338"/>
                    </a:lnTo>
                    <a:lnTo>
                      <a:pt x="971" y="338"/>
                    </a:lnTo>
                    <a:close/>
                    <a:moveTo>
                      <a:pt x="651" y="338"/>
                    </a:moveTo>
                    <a:lnTo>
                      <a:pt x="767" y="338"/>
                    </a:lnTo>
                    <a:lnTo>
                      <a:pt x="768" y="338"/>
                    </a:lnTo>
                    <a:lnTo>
                      <a:pt x="769" y="338"/>
                    </a:lnTo>
                    <a:lnTo>
                      <a:pt x="770" y="336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277"/>
                    </a:lnTo>
                    <a:lnTo>
                      <a:pt x="770" y="274"/>
                    </a:lnTo>
                    <a:lnTo>
                      <a:pt x="769" y="274"/>
                    </a:lnTo>
                    <a:lnTo>
                      <a:pt x="768" y="274"/>
                    </a:lnTo>
                    <a:lnTo>
                      <a:pt x="767" y="274"/>
                    </a:lnTo>
                    <a:lnTo>
                      <a:pt x="651" y="274"/>
                    </a:lnTo>
                    <a:lnTo>
                      <a:pt x="651" y="274"/>
                    </a:lnTo>
                    <a:lnTo>
                      <a:pt x="650" y="274"/>
                    </a:lnTo>
                    <a:lnTo>
                      <a:pt x="649" y="274"/>
                    </a:lnTo>
                    <a:lnTo>
                      <a:pt x="649" y="277"/>
                    </a:lnTo>
                    <a:lnTo>
                      <a:pt x="649" y="277"/>
                    </a:lnTo>
                    <a:lnTo>
                      <a:pt x="649" y="335"/>
                    </a:lnTo>
                    <a:lnTo>
                      <a:pt x="649" y="336"/>
                    </a:lnTo>
                    <a:lnTo>
                      <a:pt x="650" y="338"/>
                    </a:lnTo>
                    <a:lnTo>
                      <a:pt x="651" y="338"/>
                    </a:lnTo>
                    <a:lnTo>
                      <a:pt x="651" y="338"/>
                    </a:lnTo>
                    <a:lnTo>
                      <a:pt x="651" y="338"/>
                    </a:lnTo>
                    <a:close/>
                    <a:moveTo>
                      <a:pt x="502" y="338"/>
                    </a:moveTo>
                    <a:lnTo>
                      <a:pt x="617" y="338"/>
                    </a:lnTo>
                    <a:lnTo>
                      <a:pt x="619" y="338"/>
                    </a:lnTo>
                    <a:lnTo>
                      <a:pt x="619" y="338"/>
                    </a:lnTo>
                    <a:lnTo>
                      <a:pt x="619" y="336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277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7" y="274"/>
                    </a:lnTo>
                    <a:lnTo>
                      <a:pt x="617" y="274"/>
                    </a:lnTo>
                    <a:lnTo>
                      <a:pt x="502" y="274"/>
                    </a:lnTo>
                    <a:lnTo>
                      <a:pt x="501" y="274"/>
                    </a:lnTo>
                    <a:lnTo>
                      <a:pt x="500" y="274"/>
                    </a:lnTo>
                    <a:lnTo>
                      <a:pt x="500" y="274"/>
                    </a:lnTo>
                    <a:lnTo>
                      <a:pt x="500" y="277"/>
                    </a:lnTo>
                    <a:lnTo>
                      <a:pt x="500" y="277"/>
                    </a:lnTo>
                    <a:lnTo>
                      <a:pt x="500" y="335"/>
                    </a:lnTo>
                    <a:lnTo>
                      <a:pt x="500" y="336"/>
                    </a:lnTo>
                    <a:lnTo>
                      <a:pt x="500" y="338"/>
                    </a:lnTo>
                    <a:lnTo>
                      <a:pt x="501" y="338"/>
                    </a:lnTo>
                    <a:lnTo>
                      <a:pt x="502" y="338"/>
                    </a:lnTo>
                    <a:lnTo>
                      <a:pt x="502" y="338"/>
                    </a:lnTo>
                    <a:close/>
                    <a:moveTo>
                      <a:pt x="352" y="338"/>
                    </a:moveTo>
                    <a:lnTo>
                      <a:pt x="466" y="338"/>
                    </a:lnTo>
                    <a:lnTo>
                      <a:pt x="467" y="338"/>
                    </a:lnTo>
                    <a:lnTo>
                      <a:pt x="468" y="338"/>
                    </a:lnTo>
                    <a:lnTo>
                      <a:pt x="470" y="336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277"/>
                    </a:lnTo>
                    <a:lnTo>
                      <a:pt x="470" y="274"/>
                    </a:lnTo>
                    <a:lnTo>
                      <a:pt x="468" y="274"/>
                    </a:lnTo>
                    <a:lnTo>
                      <a:pt x="467" y="274"/>
                    </a:lnTo>
                    <a:lnTo>
                      <a:pt x="466" y="274"/>
                    </a:lnTo>
                    <a:lnTo>
                      <a:pt x="352" y="274"/>
                    </a:lnTo>
                    <a:lnTo>
                      <a:pt x="351" y="274"/>
                    </a:lnTo>
                    <a:lnTo>
                      <a:pt x="349" y="274"/>
                    </a:lnTo>
                    <a:lnTo>
                      <a:pt x="348" y="274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335"/>
                    </a:lnTo>
                    <a:lnTo>
                      <a:pt x="348" y="336"/>
                    </a:lnTo>
                    <a:lnTo>
                      <a:pt x="349" y="338"/>
                    </a:lnTo>
                    <a:lnTo>
                      <a:pt x="351" y="338"/>
                    </a:lnTo>
                    <a:lnTo>
                      <a:pt x="352" y="338"/>
                    </a:lnTo>
                    <a:lnTo>
                      <a:pt x="352" y="338"/>
                    </a:lnTo>
                    <a:close/>
                    <a:moveTo>
                      <a:pt x="4" y="338"/>
                    </a:moveTo>
                    <a:lnTo>
                      <a:pt x="151" y="338"/>
                    </a:lnTo>
                    <a:lnTo>
                      <a:pt x="153" y="338"/>
                    </a:lnTo>
                    <a:lnTo>
                      <a:pt x="154" y="338"/>
                    </a:lnTo>
                    <a:lnTo>
                      <a:pt x="155" y="336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277"/>
                    </a:lnTo>
                    <a:lnTo>
                      <a:pt x="155" y="274"/>
                    </a:lnTo>
                    <a:lnTo>
                      <a:pt x="154" y="274"/>
                    </a:lnTo>
                    <a:lnTo>
                      <a:pt x="153" y="274"/>
                    </a:lnTo>
                    <a:lnTo>
                      <a:pt x="151" y="274"/>
                    </a:lnTo>
                    <a:lnTo>
                      <a:pt x="4" y="274"/>
                    </a:lnTo>
                    <a:lnTo>
                      <a:pt x="2" y="274"/>
                    </a:lnTo>
                    <a:lnTo>
                      <a:pt x="1" y="274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335"/>
                    </a:lnTo>
                    <a:lnTo>
                      <a:pt x="0" y="336"/>
                    </a:lnTo>
                    <a:lnTo>
                      <a:pt x="1" y="338"/>
                    </a:lnTo>
                    <a:lnTo>
                      <a:pt x="2" y="338"/>
                    </a:lnTo>
                    <a:lnTo>
                      <a:pt x="4" y="338"/>
                    </a:lnTo>
                    <a:lnTo>
                      <a:pt x="4" y="338"/>
                    </a:lnTo>
                    <a:close/>
                    <a:moveTo>
                      <a:pt x="1849" y="74"/>
                    </a:moveTo>
                    <a:lnTo>
                      <a:pt x="1849" y="156"/>
                    </a:lnTo>
                    <a:lnTo>
                      <a:pt x="1849" y="157"/>
                    </a:lnTo>
                    <a:lnTo>
                      <a:pt x="1850" y="157"/>
                    </a:lnTo>
                    <a:lnTo>
                      <a:pt x="1852" y="158"/>
                    </a:lnTo>
                    <a:lnTo>
                      <a:pt x="1853" y="158"/>
                    </a:lnTo>
                    <a:lnTo>
                      <a:pt x="1853" y="158"/>
                    </a:lnTo>
                    <a:lnTo>
                      <a:pt x="1912" y="158"/>
                    </a:lnTo>
                    <a:lnTo>
                      <a:pt x="1913" y="158"/>
                    </a:lnTo>
                    <a:lnTo>
                      <a:pt x="1914" y="157"/>
                    </a:lnTo>
                    <a:lnTo>
                      <a:pt x="1914" y="157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74"/>
                    </a:lnTo>
                    <a:lnTo>
                      <a:pt x="1914" y="72"/>
                    </a:lnTo>
                    <a:lnTo>
                      <a:pt x="1914" y="71"/>
                    </a:lnTo>
                    <a:lnTo>
                      <a:pt x="1913" y="71"/>
                    </a:lnTo>
                    <a:lnTo>
                      <a:pt x="1912" y="71"/>
                    </a:lnTo>
                    <a:lnTo>
                      <a:pt x="1912" y="71"/>
                    </a:lnTo>
                    <a:lnTo>
                      <a:pt x="1853" y="71"/>
                    </a:lnTo>
                    <a:lnTo>
                      <a:pt x="1852" y="71"/>
                    </a:lnTo>
                    <a:lnTo>
                      <a:pt x="1850" y="71"/>
                    </a:lnTo>
                    <a:lnTo>
                      <a:pt x="1849" y="72"/>
                    </a:lnTo>
                    <a:lnTo>
                      <a:pt x="1849" y="74"/>
                    </a:lnTo>
                    <a:lnTo>
                      <a:pt x="1849" y="74"/>
                    </a:lnTo>
                    <a:close/>
                    <a:moveTo>
                      <a:pt x="1968" y="0"/>
                    </a:moveTo>
                    <a:lnTo>
                      <a:pt x="1968" y="80"/>
                    </a:lnTo>
                    <a:lnTo>
                      <a:pt x="1969" y="83"/>
                    </a:lnTo>
                    <a:lnTo>
                      <a:pt x="1969" y="84"/>
                    </a:lnTo>
                    <a:lnTo>
                      <a:pt x="1972" y="85"/>
                    </a:lnTo>
                    <a:lnTo>
                      <a:pt x="1973" y="85"/>
                    </a:lnTo>
                    <a:lnTo>
                      <a:pt x="1973" y="85"/>
                    </a:lnTo>
                    <a:lnTo>
                      <a:pt x="2066" y="85"/>
                    </a:lnTo>
                    <a:lnTo>
                      <a:pt x="2067" y="85"/>
                    </a:lnTo>
                    <a:lnTo>
                      <a:pt x="2068" y="84"/>
                    </a:lnTo>
                    <a:lnTo>
                      <a:pt x="2070" y="83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0"/>
                    </a:lnTo>
                    <a:lnTo>
                      <a:pt x="1968" y="0"/>
                    </a:lnTo>
                    <a:lnTo>
                      <a:pt x="1968" y="0"/>
                    </a:lnTo>
                    <a:close/>
                    <a:moveTo>
                      <a:pt x="2010" y="190"/>
                    </a:moveTo>
                    <a:lnTo>
                      <a:pt x="2010" y="274"/>
                    </a:lnTo>
                    <a:lnTo>
                      <a:pt x="2010" y="274"/>
                    </a:lnTo>
                    <a:lnTo>
                      <a:pt x="2011" y="276"/>
                    </a:lnTo>
                    <a:lnTo>
                      <a:pt x="2012" y="276"/>
                    </a:lnTo>
                    <a:lnTo>
                      <a:pt x="2013" y="277"/>
                    </a:lnTo>
                    <a:lnTo>
                      <a:pt x="2013" y="277"/>
                    </a:lnTo>
                    <a:lnTo>
                      <a:pt x="2072" y="277"/>
                    </a:lnTo>
                    <a:lnTo>
                      <a:pt x="2073" y="276"/>
                    </a:lnTo>
                    <a:lnTo>
                      <a:pt x="2075" y="276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190"/>
                    </a:lnTo>
                    <a:lnTo>
                      <a:pt x="2075" y="189"/>
                    </a:lnTo>
                    <a:lnTo>
                      <a:pt x="2075" y="187"/>
                    </a:lnTo>
                    <a:lnTo>
                      <a:pt x="2073" y="187"/>
                    </a:lnTo>
                    <a:lnTo>
                      <a:pt x="2072" y="187"/>
                    </a:lnTo>
                    <a:lnTo>
                      <a:pt x="2013" y="187"/>
                    </a:lnTo>
                    <a:lnTo>
                      <a:pt x="2012" y="187"/>
                    </a:lnTo>
                    <a:lnTo>
                      <a:pt x="2011" y="187"/>
                    </a:lnTo>
                    <a:lnTo>
                      <a:pt x="2010" y="189"/>
                    </a:lnTo>
                    <a:lnTo>
                      <a:pt x="2010" y="190"/>
                    </a:lnTo>
                    <a:lnTo>
                      <a:pt x="2010" y="190"/>
                    </a:lnTo>
                    <a:close/>
                    <a:moveTo>
                      <a:pt x="2127" y="190"/>
                    </a:moveTo>
                    <a:lnTo>
                      <a:pt x="2127" y="274"/>
                    </a:lnTo>
                    <a:lnTo>
                      <a:pt x="2127" y="274"/>
                    </a:lnTo>
                    <a:lnTo>
                      <a:pt x="2129" y="276"/>
                    </a:lnTo>
                    <a:lnTo>
                      <a:pt x="2130" y="276"/>
                    </a:lnTo>
                    <a:lnTo>
                      <a:pt x="2131" y="277"/>
                    </a:lnTo>
                    <a:lnTo>
                      <a:pt x="2131" y="277"/>
                    </a:lnTo>
                    <a:lnTo>
                      <a:pt x="2190" y="277"/>
                    </a:lnTo>
                    <a:lnTo>
                      <a:pt x="2192" y="276"/>
                    </a:lnTo>
                    <a:lnTo>
                      <a:pt x="2194" y="276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190"/>
                    </a:lnTo>
                    <a:lnTo>
                      <a:pt x="2195" y="189"/>
                    </a:lnTo>
                    <a:lnTo>
                      <a:pt x="2194" y="187"/>
                    </a:lnTo>
                    <a:lnTo>
                      <a:pt x="2192" y="187"/>
                    </a:lnTo>
                    <a:lnTo>
                      <a:pt x="2190" y="187"/>
                    </a:lnTo>
                    <a:lnTo>
                      <a:pt x="2131" y="187"/>
                    </a:lnTo>
                    <a:lnTo>
                      <a:pt x="2130" y="187"/>
                    </a:lnTo>
                    <a:lnTo>
                      <a:pt x="2129" y="187"/>
                    </a:lnTo>
                    <a:lnTo>
                      <a:pt x="2127" y="189"/>
                    </a:lnTo>
                    <a:lnTo>
                      <a:pt x="2127" y="190"/>
                    </a:lnTo>
                    <a:lnTo>
                      <a:pt x="2127" y="190"/>
                    </a:lnTo>
                    <a:close/>
                    <a:moveTo>
                      <a:pt x="2270" y="190"/>
                    </a:moveTo>
                    <a:lnTo>
                      <a:pt x="2270" y="274"/>
                    </a:lnTo>
                    <a:lnTo>
                      <a:pt x="2270" y="274"/>
                    </a:lnTo>
                    <a:lnTo>
                      <a:pt x="2271" y="276"/>
                    </a:lnTo>
                    <a:lnTo>
                      <a:pt x="2273" y="276"/>
                    </a:lnTo>
                    <a:lnTo>
                      <a:pt x="2274" y="277"/>
                    </a:lnTo>
                    <a:lnTo>
                      <a:pt x="2274" y="277"/>
                    </a:lnTo>
                    <a:lnTo>
                      <a:pt x="2333" y="277"/>
                    </a:lnTo>
                    <a:lnTo>
                      <a:pt x="2334" y="276"/>
                    </a:lnTo>
                    <a:lnTo>
                      <a:pt x="2337" y="276"/>
                    </a:lnTo>
                    <a:lnTo>
                      <a:pt x="2337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190"/>
                    </a:lnTo>
                    <a:lnTo>
                      <a:pt x="2337" y="189"/>
                    </a:lnTo>
                    <a:lnTo>
                      <a:pt x="2337" y="187"/>
                    </a:lnTo>
                    <a:lnTo>
                      <a:pt x="2334" y="187"/>
                    </a:lnTo>
                    <a:lnTo>
                      <a:pt x="2333" y="187"/>
                    </a:lnTo>
                    <a:lnTo>
                      <a:pt x="2274" y="187"/>
                    </a:lnTo>
                    <a:lnTo>
                      <a:pt x="2273" y="187"/>
                    </a:lnTo>
                    <a:lnTo>
                      <a:pt x="2271" y="187"/>
                    </a:lnTo>
                    <a:lnTo>
                      <a:pt x="2270" y="189"/>
                    </a:lnTo>
                    <a:lnTo>
                      <a:pt x="2270" y="190"/>
                    </a:lnTo>
                    <a:lnTo>
                      <a:pt x="2270" y="190"/>
                    </a:lnTo>
                    <a:close/>
                    <a:moveTo>
                      <a:pt x="2270" y="0"/>
                    </a:moveTo>
                    <a:lnTo>
                      <a:pt x="2270" y="80"/>
                    </a:lnTo>
                    <a:lnTo>
                      <a:pt x="2270" y="83"/>
                    </a:lnTo>
                    <a:lnTo>
                      <a:pt x="2271" y="84"/>
                    </a:lnTo>
                    <a:lnTo>
                      <a:pt x="2273" y="85"/>
                    </a:lnTo>
                    <a:lnTo>
                      <a:pt x="2274" y="85"/>
                    </a:lnTo>
                    <a:lnTo>
                      <a:pt x="2274" y="85"/>
                    </a:lnTo>
                    <a:lnTo>
                      <a:pt x="2367" y="85"/>
                    </a:lnTo>
                    <a:lnTo>
                      <a:pt x="2369" y="85"/>
                    </a:lnTo>
                    <a:lnTo>
                      <a:pt x="2370" y="84"/>
                    </a:lnTo>
                    <a:lnTo>
                      <a:pt x="2372" y="83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0"/>
                    </a:lnTo>
                    <a:lnTo>
                      <a:pt x="2270" y="0"/>
                    </a:lnTo>
                    <a:lnTo>
                      <a:pt x="2270" y="0"/>
                    </a:lnTo>
                    <a:close/>
                    <a:moveTo>
                      <a:pt x="2322" y="397"/>
                    </a:moveTo>
                    <a:lnTo>
                      <a:pt x="2322" y="392"/>
                    </a:lnTo>
                    <a:lnTo>
                      <a:pt x="2320" y="388"/>
                    </a:lnTo>
                    <a:lnTo>
                      <a:pt x="2318" y="383"/>
                    </a:lnTo>
                    <a:lnTo>
                      <a:pt x="2314" y="379"/>
                    </a:lnTo>
                    <a:lnTo>
                      <a:pt x="2310" y="377"/>
                    </a:lnTo>
                    <a:lnTo>
                      <a:pt x="2306" y="374"/>
                    </a:lnTo>
                    <a:lnTo>
                      <a:pt x="2301" y="373"/>
                    </a:lnTo>
                    <a:lnTo>
                      <a:pt x="2296" y="372"/>
                    </a:lnTo>
                    <a:lnTo>
                      <a:pt x="2291" y="373"/>
                    </a:lnTo>
                    <a:lnTo>
                      <a:pt x="2288" y="374"/>
                    </a:lnTo>
                    <a:lnTo>
                      <a:pt x="2283" y="377"/>
                    </a:lnTo>
                    <a:lnTo>
                      <a:pt x="2279" y="379"/>
                    </a:lnTo>
                    <a:lnTo>
                      <a:pt x="2276" y="383"/>
                    </a:lnTo>
                    <a:lnTo>
                      <a:pt x="2274" y="388"/>
                    </a:lnTo>
                    <a:lnTo>
                      <a:pt x="2273" y="392"/>
                    </a:lnTo>
                    <a:lnTo>
                      <a:pt x="2271" y="397"/>
                    </a:lnTo>
                    <a:lnTo>
                      <a:pt x="2273" y="402"/>
                    </a:lnTo>
                    <a:lnTo>
                      <a:pt x="2274" y="407"/>
                    </a:lnTo>
                    <a:lnTo>
                      <a:pt x="2276" y="411"/>
                    </a:lnTo>
                    <a:lnTo>
                      <a:pt x="2279" y="415"/>
                    </a:lnTo>
                    <a:lnTo>
                      <a:pt x="2283" y="418"/>
                    </a:lnTo>
                    <a:lnTo>
                      <a:pt x="2288" y="420"/>
                    </a:lnTo>
                    <a:lnTo>
                      <a:pt x="2291" y="422"/>
                    </a:lnTo>
                    <a:lnTo>
                      <a:pt x="2296" y="422"/>
                    </a:lnTo>
                    <a:lnTo>
                      <a:pt x="2301" y="422"/>
                    </a:lnTo>
                    <a:lnTo>
                      <a:pt x="2306" y="420"/>
                    </a:lnTo>
                    <a:lnTo>
                      <a:pt x="2310" y="418"/>
                    </a:lnTo>
                    <a:lnTo>
                      <a:pt x="2314" y="415"/>
                    </a:lnTo>
                    <a:lnTo>
                      <a:pt x="2318" y="411"/>
                    </a:lnTo>
                    <a:lnTo>
                      <a:pt x="2320" y="407"/>
                    </a:lnTo>
                    <a:lnTo>
                      <a:pt x="2322" y="402"/>
                    </a:lnTo>
                    <a:lnTo>
                      <a:pt x="2322" y="397"/>
                    </a:lnTo>
                    <a:lnTo>
                      <a:pt x="2322" y="397"/>
                    </a:lnTo>
                    <a:close/>
                    <a:moveTo>
                      <a:pt x="2251" y="547"/>
                    </a:moveTo>
                    <a:lnTo>
                      <a:pt x="2367" y="547"/>
                    </a:lnTo>
                    <a:lnTo>
                      <a:pt x="2369" y="547"/>
                    </a:lnTo>
                    <a:lnTo>
                      <a:pt x="2370" y="547"/>
                    </a:lnTo>
                    <a:lnTo>
                      <a:pt x="2372" y="547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495"/>
                    </a:lnTo>
                    <a:lnTo>
                      <a:pt x="2372" y="495"/>
                    </a:lnTo>
                    <a:lnTo>
                      <a:pt x="2370" y="494"/>
                    </a:lnTo>
                    <a:lnTo>
                      <a:pt x="2369" y="493"/>
                    </a:lnTo>
                    <a:lnTo>
                      <a:pt x="2367" y="493"/>
                    </a:lnTo>
                    <a:lnTo>
                      <a:pt x="2251" y="493"/>
                    </a:lnTo>
                    <a:lnTo>
                      <a:pt x="2251" y="493"/>
                    </a:lnTo>
                    <a:lnTo>
                      <a:pt x="2250" y="494"/>
                    </a:lnTo>
                    <a:lnTo>
                      <a:pt x="2250" y="495"/>
                    </a:lnTo>
                    <a:lnTo>
                      <a:pt x="2249" y="495"/>
                    </a:lnTo>
                    <a:lnTo>
                      <a:pt x="2249" y="495"/>
                    </a:lnTo>
                    <a:lnTo>
                      <a:pt x="2249" y="546"/>
                    </a:lnTo>
                    <a:lnTo>
                      <a:pt x="2250" y="547"/>
                    </a:lnTo>
                    <a:lnTo>
                      <a:pt x="2250" y="547"/>
                    </a:lnTo>
                    <a:lnTo>
                      <a:pt x="2251" y="547"/>
                    </a:lnTo>
                    <a:lnTo>
                      <a:pt x="2251" y="547"/>
                    </a:lnTo>
                    <a:lnTo>
                      <a:pt x="2251" y="547"/>
                    </a:lnTo>
                    <a:close/>
                    <a:moveTo>
                      <a:pt x="2063" y="547"/>
                    </a:moveTo>
                    <a:lnTo>
                      <a:pt x="2179" y="547"/>
                    </a:lnTo>
                    <a:lnTo>
                      <a:pt x="2180" y="547"/>
                    </a:lnTo>
                    <a:lnTo>
                      <a:pt x="2181" y="547"/>
                    </a:lnTo>
                    <a:lnTo>
                      <a:pt x="2181" y="547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495"/>
                    </a:lnTo>
                    <a:lnTo>
                      <a:pt x="2181" y="495"/>
                    </a:lnTo>
                    <a:lnTo>
                      <a:pt x="2181" y="494"/>
                    </a:lnTo>
                    <a:lnTo>
                      <a:pt x="2180" y="493"/>
                    </a:lnTo>
                    <a:lnTo>
                      <a:pt x="2179" y="493"/>
                    </a:lnTo>
                    <a:lnTo>
                      <a:pt x="2179" y="493"/>
                    </a:lnTo>
                    <a:lnTo>
                      <a:pt x="2063" y="493"/>
                    </a:lnTo>
                    <a:lnTo>
                      <a:pt x="2062" y="493"/>
                    </a:lnTo>
                    <a:lnTo>
                      <a:pt x="2062" y="494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546"/>
                    </a:lnTo>
                    <a:lnTo>
                      <a:pt x="2061" y="547"/>
                    </a:lnTo>
                    <a:lnTo>
                      <a:pt x="2062" y="547"/>
                    </a:lnTo>
                    <a:lnTo>
                      <a:pt x="2062" y="547"/>
                    </a:lnTo>
                    <a:lnTo>
                      <a:pt x="2063" y="547"/>
                    </a:lnTo>
                    <a:lnTo>
                      <a:pt x="2063" y="547"/>
                    </a:lnTo>
                    <a:close/>
                    <a:moveTo>
                      <a:pt x="1875" y="547"/>
                    </a:moveTo>
                    <a:lnTo>
                      <a:pt x="1989" y="547"/>
                    </a:lnTo>
                    <a:lnTo>
                      <a:pt x="1991" y="547"/>
                    </a:lnTo>
                    <a:lnTo>
                      <a:pt x="1992" y="547"/>
                    </a:lnTo>
                    <a:lnTo>
                      <a:pt x="1993" y="547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495"/>
                    </a:lnTo>
                    <a:lnTo>
                      <a:pt x="1993" y="495"/>
                    </a:lnTo>
                    <a:lnTo>
                      <a:pt x="1992" y="494"/>
                    </a:lnTo>
                    <a:lnTo>
                      <a:pt x="1991" y="493"/>
                    </a:lnTo>
                    <a:lnTo>
                      <a:pt x="1989" y="493"/>
                    </a:lnTo>
                    <a:lnTo>
                      <a:pt x="1989" y="493"/>
                    </a:lnTo>
                    <a:lnTo>
                      <a:pt x="1875" y="493"/>
                    </a:lnTo>
                    <a:lnTo>
                      <a:pt x="1874" y="493"/>
                    </a:lnTo>
                    <a:lnTo>
                      <a:pt x="1873" y="494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546"/>
                    </a:lnTo>
                    <a:lnTo>
                      <a:pt x="1872" y="547"/>
                    </a:lnTo>
                    <a:lnTo>
                      <a:pt x="1873" y="547"/>
                    </a:lnTo>
                    <a:lnTo>
                      <a:pt x="1874" y="547"/>
                    </a:lnTo>
                    <a:lnTo>
                      <a:pt x="1875" y="547"/>
                    </a:lnTo>
                    <a:lnTo>
                      <a:pt x="1875" y="547"/>
                    </a:lnTo>
                    <a:close/>
                    <a:moveTo>
                      <a:pt x="1968" y="397"/>
                    </a:moveTo>
                    <a:lnTo>
                      <a:pt x="1968" y="392"/>
                    </a:lnTo>
                    <a:lnTo>
                      <a:pt x="1967" y="388"/>
                    </a:lnTo>
                    <a:lnTo>
                      <a:pt x="1964" y="383"/>
                    </a:lnTo>
                    <a:lnTo>
                      <a:pt x="1962" y="379"/>
                    </a:lnTo>
                    <a:lnTo>
                      <a:pt x="1958" y="377"/>
                    </a:lnTo>
                    <a:lnTo>
                      <a:pt x="1954" y="374"/>
                    </a:lnTo>
                    <a:lnTo>
                      <a:pt x="1949" y="373"/>
                    </a:lnTo>
                    <a:lnTo>
                      <a:pt x="1943" y="372"/>
                    </a:lnTo>
                    <a:lnTo>
                      <a:pt x="1939" y="373"/>
                    </a:lnTo>
                    <a:lnTo>
                      <a:pt x="1934" y="374"/>
                    </a:lnTo>
                    <a:lnTo>
                      <a:pt x="1931" y="377"/>
                    </a:lnTo>
                    <a:lnTo>
                      <a:pt x="1927" y="379"/>
                    </a:lnTo>
                    <a:lnTo>
                      <a:pt x="1924" y="383"/>
                    </a:lnTo>
                    <a:lnTo>
                      <a:pt x="1923" y="388"/>
                    </a:lnTo>
                    <a:lnTo>
                      <a:pt x="1922" y="392"/>
                    </a:lnTo>
                    <a:lnTo>
                      <a:pt x="1921" y="397"/>
                    </a:lnTo>
                    <a:lnTo>
                      <a:pt x="1922" y="402"/>
                    </a:lnTo>
                    <a:lnTo>
                      <a:pt x="1923" y="407"/>
                    </a:lnTo>
                    <a:lnTo>
                      <a:pt x="1924" y="411"/>
                    </a:lnTo>
                    <a:lnTo>
                      <a:pt x="1927" y="415"/>
                    </a:lnTo>
                    <a:lnTo>
                      <a:pt x="1931" y="418"/>
                    </a:lnTo>
                    <a:lnTo>
                      <a:pt x="1934" y="420"/>
                    </a:lnTo>
                    <a:lnTo>
                      <a:pt x="1939" y="422"/>
                    </a:lnTo>
                    <a:lnTo>
                      <a:pt x="1943" y="422"/>
                    </a:lnTo>
                    <a:lnTo>
                      <a:pt x="1949" y="422"/>
                    </a:lnTo>
                    <a:lnTo>
                      <a:pt x="1954" y="420"/>
                    </a:lnTo>
                    <a:lnTo>
                      <a:pt x="1958" y="418"/>
                    </a:lnTo>
                    <a:lnTo>
                      <a:pt x="1962" y="415"/>
                    </a:lnTo>
                    <a:lnTo>
                      <a:pt x="1964" y="411"/>
                    </a:lnTo>
                    <a:lnTo>
                      <a:pt x="1967" y="407"/>
                    </a:lnTo>
                    <a:lnTo>
                      <a:pt x="1968" y="402"/>
                    </a:lnTo>
                    <a:lnTo>
                      <a:pt x="1968" y="397"/>
                    </a:lnTo>
                    <a:lnTo>
                      <a:pt x="1968" y="397"/>
                    </a:lnTo>
                    <a:close/>
                    <a:moveTo>
                      <a:pt x="2835" y="295"/>
                    </a:moveTo>
                    <a:lnTo>
                      <a:pt x="2835" y="290"/>
                    </a:lnTo>
                    <a:lnTo>
                      <a:pt x="2834" y="285"/>
                    </a:lnTo>
                    <a:lnTo>
                      <a:pt x="2831" y="281"/>
                    </a:lnTo>
                    <a:lnTo>
                      <a:pt x="2828" y="277"/>
                    </a:lnTo>
                    <a:lnTo>
                      <a:pt x="2824" y="274"/>
                    </a:lnTo>
                    <a:lnTo>
                      <a:pt x="2820" y="272"/>
                    </a:lnTo>
                    <a:lnTo>
                      <a:pt x="2815" y="271"/>
                    </a:lnTo>
                    <a:lnTo>
                      <a:pt x="2810" y="269"/>
                    </a:lnTo>
                    <a:lnTo>
                      <a:pt x="2805" y="271"/>
                    </a:lnTo>
                    <a:lnTo>
                      <a:pt x="2801" y="272"/>
                    </a:lnTo>
                    <a:lnTo>
                      <a:pt x="2796" y="274"/>
                    </a:lnTo>
                    <a:lnTo>
                      <a:pt x="2793" y="277"/>
                    </a:lnTo>
                    <a:lnTo>
                      <a:pt x="2790" y="281"/>
                    </a:lnTo>
                    <a:lnTo>
                      <a:pt x="2788" y="285"/>
                    </a:lnTo>
                    <a:lnTo>
                      <a:pt x="2786" y="290"/>
                    </a:lnTo>
                    <a:lnTo>
                      <a:pt x="2785" y="295"/>
                    </a:lnTo>
                    <a:lnTo>
                      <a:pt x="2786" y="300"/>
                    </a:lnTo>
                    <a:lnTo>
                      <a:pt x="2788" y="305"/>
                    </a:lnTo>
                    <a:lnTo>
                      <a:pt x="2790" y="309"/>
                    </a:lnTo>
                    <a:lnTo>
                      <a:pt x="2793" y="312"/>
                    </a:lnTo>
                    <a:lnTo>
                      <a:pt x="2796" y="315"/>
                    </a:lnTo>
                    <a:lnTo>
                      <a:pt x="2801" y="317"/>
                    </a:lnTo>
                    <a:lnTo>
                      <a:pt x="2805" y="319"/>
                    </a:lnTo>
                    <a:lnTo>
                      <a:pt x="2810" y="320"/>
                    </a:lnTo>
                    <a:lnTo>
                      <a:pt x="2815" y="319"/>
                    </a:lnTo>
                    <a:lnTo>
                      <a:pt x="2820" y="317"/>
                    </a:lnTo>
                    <a:lnTo>
                      <a:pt x="2824" y="315"/>
                    </a:lnTo>
                    <a:lnTo>
                      <a:pt x="2828" y="312"/>
                    </a:lnTo>
                    <a:lnTo>
                      <a:pt x="2831" y="309"/>
                    </a:lnTo>
                    <a:lnTo>
                      <a:pt x="2834" y="305"/>
                    </a:lnTo>
                    <a:lnTo>
                      <a:pt x="2835" y="300"/>
                    </a:lnTo>
                    <a:lnTo>
                      <a:pt x="2835" y="295"/>
                    </a:lnTo>
                    <a:lnTo>
                      <a:pt x="2835" y="295"/>
                    </a:lnTo>
                    <a:close/>
                    <a:moveTo>
                      <a:pt x="2835" y="473"/>
                    </a:moveTo>
                    <a:lnTo>
                      <a:pt x="2835" y="468"/>
                    </a:lnTo>
                    <a:lnTo>
                      <a:pt x="2834" y="463"/>
                    </a:lnTo>
                    <a:lnTo>
                      <a:pt x="2831" y="459"/>
                    </a:lnTo>
                    <a:lnTo>
                      <a:pt x="2828" y="455"/>
                    </a:lnTo>
                    <a:lnTo>
                      <a:pt x="2824" y="451"/>
                    </a:lnTo>
                    <a:lnTo>
                      <a:pt x="2820" y="449"/>
                    </a:lnTo>
                    <a:lnTo>
                      <a:pt x="2815" y="447"/>
                    </a:lnTo>
                    <a:lnTo>
                      <a:pt x="2810" y="447"/>
                    </a:lnTo>
                    <a:lnTo>
                      <a:pt x="2805" y="447"/>
                    </a:lnTo>
                    <a:lnTo>
                      <a:pt x="2801" y="449"/>
                    </a:lnTo>
                    <a:lnTo>
                      <a:pt x="2796" y="451"/>
                    </a:lnTo>
                    <a:lnTo>
                      <a:pt x="2793" y="455"/>
                    </a:lnTo>
                    <a:lnTo>
                      <a:pt x="2790" y="459"/>
                    </a:lnTo>
                    <a:lnTo>
                      <a:pt x="2788" y="463"/>
                    </a:lnTo>
                    <a:lnTo>
                      <a:pt x="2786" y="468"/>
                    </a:lnTo>
                    <a:lnTo>
                      <a:pt x="2785" y="473"/>
                    </a:lnTo>
                    <a:lnTo>
                      <a:pt x="2786" y="478"/>
                    </a:lnTo>
                    <a:lnTo>
                      <a:pt x="2788" y="481"/>
                    </a:lnTo>
                    <a:lnTo>
                      <a:pt x="2790" y="487"/>
                    </a:lnTo>
                    <a:lnTo>
                      <a:pt x="2793" y="490"/>
                    </a:lnTo>
                    <a:lnTo>
                      <a:pt x="2796" y="493"/>
                    </a:lnTo>
                    <a:lnTo>
                      <a:pt x="2801" y="495"/>
                    </a:lnTo>
                    <a:lnTo>
                      <a:pt x="2805" y="497"/>
                    </a:lnTo>
                    <a:lnTo>
                      <a:pt x="2810" y="498"/>
                    </a:lnTo>
                    <a:lnTo>
                      <a:pt x="2815" y="497"/>
                    </a:lnTo>
                    <a:lnTo>
                      <a:pt x="2820" y="495"/>
                    </a:lnTo>
                    <a:lnTo>
                      <a:pt x="2824" y="493"/>
                    </a:lnTo>
                    <a:lnTo>
                      <a:pt x="2828" y="490"/>
                    </a:lnTo>
                    <a:lnTo>
                      <a:pt x="2831" y="487"/>
                    </a:lnTo>
                    <a:lnTo>
                      <a:pt x="2834" y="481"/>
                    </a:lnTo>
                    <a:lnTo>
                      <a:pt x="2835" y="478"/>
                    </a:lnTo>
                    <a:lnTo>
                      <a:pt x="2835" y="473"/>
                    </a:lnTo>
                    <a:lnTo>
                      <a:pt x="2835" y="473"/>
                    </a:lnTo>
                    <a:close/>
                    <a:moveTo>
                      <a:pt x="2835" y="651"/>
                    </a:moveTo>
                    <a:lnTo>
                      <a:pt x="2835" y="646"/>
                    </a:lnTo>
                    <a:lnTo>
                      <a:pt x="2834" y="641"/>
                    </a:lnTo>
                    <a:lnTo>
                      <a:pt x="2831" y="636"/>
                    </a:lnTo>
                    <a:lnTo>
                      <a:pt x="2828" y="633"/>
                    </a:lnTo>
                    <a:lnTo>
                      <a:pt x="2824" y="629"/>
                    </a:lnTo>
                    <a:lnTo>
                      <a:pt x="2820" y="627"/>
                    </a:lnTo>
                    <a:lnTo>
                      <a:pt x="2815" y="625"/>
                    </a:lnTo>
                    <a:lnTo>
                      <a:pt x="2810" y="625"/>
                    </a:lnTo>
                    <a:lnTo>
                      <a:pt x="2805" y="625"/>
                    </a:lnTo>
                    <a:lnTo>
                      <a:pt x="2801" y="627"/>
                    </a:lnTo>
                    <a:lnTo>
                      <a:pt x="2796" y="629"/>
                    </a:lnTo>
                    <a:lnTo>
                      <a:pt x="2793" y="633"/>
                    </a:lnTo>
                    <a:lnTo>
                      <a:pt x="2790" y="636"/>
                    </a:lnTo>
                    <a:lnTo>
                      <a:pt x="2788" y="641"/>
                    </a:lnTo>
                    <a:lnTo>
                      <a:pt x="2786" y="646"/>
                    </a:lnTo>
                    <a:lnTo>
                      <a:pt x="2785" y="651"/>
                    </a:lnTo>
                    <a:lnTo>
                      <a:pt x="2786" y="654"/>
                    </a:lnTo>
                    <a:lnTo>
                      <a:pt x="2788" y="660"/>
                    </a:lnTo>
                    <a:lnTo>
                      <a:pt x="2790" y="665"/>
                    </a:lnTo>
                    <a:lnTo>
                      <a:pt x="2793" y="668"/>
                    </a:lnTo>
                    <a:lnTo>
                      <a:pt x="2796" y="671"/>
                    </a:lnTo>
                    <a:lnTo>
                      <a:pt x="2801" y="673"/>
                    </a:lnTo>
                    <a:lnTo>
                      <a:pt x="2805" y="675"/>
                    </a:lnTo>
                    <a:lnTo>
                      <a:pt x="2810" y="675"/>
                    </a:lnTo>
                    <a:lnTo>
                      <a:pt x="2815" y="675"/>
                    </a:lnTo>
                    <a:lnTo>
                      <a:pt x="2820" y="673"/>
                    </a:lnTo>
                    <a:lnTo>
                      <a:pt x="2824" y="671"/>
                    </a:lnTo>
                    <a:lnTo>
                      <a:pt x="2828" y="668"/>
                    </a:lnTo>
                    <a:lnTo>
                      <a:pt x="2831" y="665"/>
                    </a:lnTo>
                    <a:lnTo>
                      <a:pt x="2834" y="660"/>
                    </a:lnTo>
                    <a:lnTo>
                      <a:pt x="2835" y="654"/>
                    </a:lnTo>
                    <a:lnTo>
                      <a:pt x="2835" y="651"/>
                    </a:lnTo>
                    <a:lnTo>
                      <a:pt x="2835" y="65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8" name=""/>
              <p:cNvSpPr/>
              <p:nvPr/>
            </p:nvSpPr>
            <p:spPr>
              <a:xfrm>
                <a:off x="824040" y="294192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52" y="86"/>
                    </a:lnTo>
                    <a:lnTo>
                      <a:pt x="153" y="86"/>
                    </a:lnTo>
                    <a:lnTo>
                      <a:pt x="153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9" name=""/>
              <p:cNvSpPr/>
              <p:nvPr/>
            </p:nvSpPr>
            <p:spPr>
              <a:xfrm>
                <a:off x="953640" y="2941920"/>
                <a:ext cx="111960" cy="6660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1" y="86"/>
                    </a:lnTo>
                    <a:lnTo>
                      <a:pt x="153" y="86"/>
                    </a:lnTo>
                    <a:lnTo>
                      <a:pt x="154" y="84"/>
                    </a:lnTo>
                    <a:lnTo>
                      <a:pt x="155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5" y="2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0" name=""/>
              <p:cNvSpPr/>
              <p:nvPr/>
            </p:nvSpPr>
            <p:spPr>
              <a:xfrm>
                <a:off x="1085760" y="2941920"/>
                <a:ext cx="109080" cy="6660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3" y="86"/>
                    </a:moveTo>
                    <a:lnTo>
                      <a:pt x="152" y="86"/>
                    </a:lnTo>
                    <a:lnTo>
                      <a:pt x="152" y="86"/>
                    </a:lnTo>
                    <a:lnTo>
                      <a:pt x="153" y="84"/>
                    </a:lnTo>
                    <a:lnTo>
                      <a:pt x="154" y="83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4"/>
                    </a:lnTo>
                    <a:lnTo>
                      <a:pt x="154" y="2"/>
                    </a:lnTo>
                    <a:lnTo>
                      <a:pt x="153" y="1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3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1" name=""/>
              <p:cNvSpPr/>
              <p:nvPr/>
            </p:nvSpPr>
            <p:spPr>
              <a:xfrm>
                <a:off x="1216440" y="2941920"/>
                <a:ext cx="110880" cy="6660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2" y="86"/>
                    </a:lnTo>
                    <a:lnTo>
                      <a:pt x="154" y="86"/>
                    </a:lnTo>
                    <a:lnTo>
                      <a:pt x="156" y="84"/>
                    </a:lnTo>
                    <a:lnTo>
                      <a:pt x="157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6" y="1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2" name=""/>
              <p:cNvSpPr/>
              <p:nvPr/>
            </p:nvSpPr>
            <p:spPr>
              <a:xfrm>
                <a:off x="1348560" y="294192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49" y="86"/>
                    </a:lnTo>
                    <a:lnTo>
                      <a:pt x="150" y="86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3" name=""/>
              <p:cNvSpPr/>
              <p:nvPr/>
            </p:nvSpPr>
            <p:spPr>
              <a:xfrm>
                <a:off x="700200" y="2635920"/>
                <a:ext cx="110880" cy="49320"/>
              </a:xfrm>
              <a:custGeom>
                <a:avLst/>
                <a:gdLst/>
                <a:ahLst/>
                <a:rect l="l" t="t" r="r" b="b"/>
                <a:pathLst>
                  <a:path w="155" h="63">
                    <a:moveTo>
                      <a:pt x="4" y="63"/>
                    </a:moveTo>
                    <a:lnTo>
                      <a:pt x="151" y="63"/>
                    </a:lnTo>
                    <a:lnTo>
                      <a:pt x="153" y="63"/>
                    </a:lnTo>
                    <a:lnTo>
                      <a:pt x="154" y="63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4" name=""/>
              <p:cNvSpPr/>
              <p:nvPr/>
            </p:nvSpPr>
            <p:spPr>
              <a:xfrm>
                <a:off x="947520" y="2635920"/>
                <a:ext cx="86400" cy="4932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4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5" name=""/>
              <p:cNvSpPr/>
              <p:nvPr/>
            </p:nvSpPr>
            <p:spPr>
              <a:xfrm>
                <a:off x="1055880" y="2635920"/>
                <a:ext cx="85320" cy="49320"/>
              </a:xfrm>
              <a:custGeom>
                <a:avLst/>
                <a:gdLst/>
                <a:ahLst/>
                <a:rect l="l" t="t" r="r" b="b"/>
                <a:pathLst>
                  <a:path w="120" h="63">
                    <a:moveTo>
                      <a:pt x="2" y="63"/>
                    </a:moveTo>
                    <a:lnTo>
                      <a:pt x="117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6" name=""/>
              <p:cNvSpPr/>
              <p:nvPr/>
            </p:nvSpPr>
            <p:spPr>
              <a:xfrm>
                <a:off x="1161000" y="2635920"/>
                <a:ext cx="88200" cy="4932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2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7" name=""/>
              <p:cNvSpPr/>
              <p:nvPr/>
            </p:nvSpPr>
            <p:spPr>
              <a:xfrm>
                <a:off x="1388520" y="2635920"/>
                <a:ext cx="85320" cy="49320"/>
              </a:xfrm>
              <a:custGeom>
                <a:avLst/>
                <a:gdLst/>
                <a:ahLst/>
                <a:rect l="l" t="t" r="r" b="b"/>
                <a:pathLst>
                  <a:path w="121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8" name=""/>
              <p:cNvSpPr/>
              <p:nvPr/>
            </p:nvSpPr>
            <p:spPr>
              <a:xfrm>
                <a:off x="1495080" y="2635920"/>
                <a:ext cx="86400" cy="4932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1" y="63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2" y="1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9" name=""/>
              <p:cNvSpPr/>
              <p:nvPr/>
            </p:nvSpPr>
            <p:spPr>
              <a:xfrm>
                <a:off x="1495080" y="2398680"/>
                <a:ext cx="86400" cy="4932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1" y="64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0" name=""/>
              <p:cNvSpPr/>
              <p:nvPr/>
            </p:nvSpPr>
            <p:spPr>
              <a:xfrm>
                <a:off x="1388520" y="2398680"/>
                <a:ext cx="85320" cy="49320"/>
              </a:xfrm>
              <a:custGeom>
                <a:avLst/>
                <a:gdLst/>
                <a:ahLst/>
                <a:rect l="l" t="t" r="r" b="b"/>
                <a:pathLst>
                  <a:path w="121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1161000" y="2398680"/>
                <a:ext cx="88200" cy="4932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2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1055880" y="2398680"/>
                <a:ext cx="85320" cy="4932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2" y="64"/>
                    </a:moveTo>
                    <a:lnTo>
                      <a:pt x="117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3" name=""/>
              <p:cNvSpPr/>
              <p:nvPr/>
            </p:nvSpPr>
            <p:spPr>
              <a:xfrm>
                <a:off x="947520" y="2398680"/>
                <a:ext cx="86400" cy="4932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4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3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4" name=""/>
              <p:cNvSpPr/>
              <p:nvPr/>
            </p:nvSpPr>
            <p:spPr>
              <a:xfrm>
                <a:off x="700200" y="2398680"/>
                <a:ext cx="110880" cy="49320"/>
              </a:xfrm>
              <a:custGeom>
                <a:avLst/>
                <a:gdLst/>
                <a:ahLst/>
                <a:rect l="l" t="t" r="r" b="b"/>
                <a:pathLst>
                  <a:path w="155" h="64">
                    <a:moveTo>
                      <a:pt x="4" y="64"/>
                    </a:moveTo>
                    <a:lnTo>
                      <a:pt x="151" y="64"/>
                    </a:lnTo>
                    <a:lnTo>
                      <a:pt x="153" y="64"/>
                    </a:lnTo>
                    <a:lnTo>
                      <a:pt x="154" y="64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5" name=""/>
              <p:cNvSpPr/>
              <p:nvPr/>
            </p:nvSpPr>
            <p:spPr>
              <a:xfrm>
                <a:off x="2015640" y="2241360"/>
                <a:ext cx="45360" cy="6660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5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6" name=""/>
              <p:cNvSpPr/>
              <p:nvPr/>
            </p:nvSpPr>
            <p:spPr>
              <a:xfrm>
                <a:off x="2099520" y="2185560"/>
                <a:ext cx="72360" cy="6660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98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7" name=""/>
              <p:cNvSpPr/>
              <p:nvPr/>
            </p:nvSpPr>
            <p:spPr>
              <a:xfrm>
                <a:off x="2129400" y="2331720"/>
                <a:ext cx="45720" cy="68040"/>
              </a:xfrm>
              <a:custGeom>
                <a:avLst/>
                <a:gdLst/>
                <a:ahLst/>
                <a:rect l="l" t="t" r="r" b="b"/>
                <a:pathLst>
                  <a:path w="65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62" y="90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2213280" y="2331720"/>
                <a:ext cx="46440" cy="6804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7" y="89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9" name=""/>
              <p:cNvSpPr/>
              <p:nvPr/>
            </p:nvSpPr>
            <p:spPr>
              <a:xfrm>
                <a:off x="2314440" y="2331720"/>
                <a:ext cx="48240" cy="6804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7" y="89"/>
                    </a:lnTo>
                    <a:lnTo>
                      <a:pt x="67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0" name=""/>
              <p:cNvSpPr/>
              <p:nvPr/>
            </p:nvSpPr>
            <p:spPr>
              <a:xfrm>
                <a:off x="2314440" y="2185560"/>
                <a:ext cx="72360" cy="6660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0" y="0"/>
                    </a:moveTo>
                    <a:lnTo>
                      <a:pt x="0" y="80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97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1" name=""/>
              <p:cNvSpPr/>
              <p:nvPr/>
            </p:nvSpPr>
            <p:spPr>
              <a:xfrm>
                <a:off x="2315520" y="2474640"/>
                <a:ext cx="35280" cy="3852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25"/>
                    </a:moveTo>
                    <a:lnTo>
                      <a:pt x="51" y="20"/>
                    </a:lnTo>
                    <a:lnTo>
                      <a:pt x="49" y="16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7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7" y="39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2298600" y="2567520"/>
                <a:ext cx="88200" cy="43560"/>
              </a:xfrm>
              <a:custGeom>
                <a:avLst/>
                <a:gdLst/>
                <a:ahLst/>
                <a:rect l="l" t="t" r="r" b="b"/>
                <a:pathLst>
                  <a:path w="123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3" name=""/>
              <p:cNvSpPr/>
              <p:nvPr/>
            </p:nvSpPr>
            <p:spPr>
              <a:xfrm>
                <a:off x="2165040" y="2567520"/>
                <a:ext cx="86400" cy="4356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4" name=""/>
              <p:cNvSpPr/>
              <p:nvPr/>
            </p:nvSpPr>
            <p:spPr>
              <a:xfrm>
                <a:off x="2031120" y="2567520"/>
                <a:ext cx="86400" cy="43560"/>
              </a:xfrm>
              <a:custGeom>
                <a:avLst/>
                <a:gdLst/>
                <a:ahLst/>
                <a:rect l="l" t="t" r="r" b="b"/>
                <a:pathLst>
                  <a:path w="121" h="54">
                    <a:moveTo>
                      <a:pt x="3" y="54"/>
                    </a:moveTo>
                    <a:lnTo>
                      <a:pt x="117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5" name=""/>
              <p:cNvSpPr/>
              <p:nvPr/>
            </p:nvSpPr>
            <p:spPr>
              <a:xfrm>
                <a:off x="2065320" y="2474640"/>
                <a:ext cx="33840" cy="3852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47" y="25"/>
                    </a:moveTo>
                    <a:lnTo>
                      <a:pt x="47" y="20"/>
                    </a:lnTo>
                    <a:lnTo>
                      <a:pt x="46" y="16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3"/>
                    </a:lnTo>
                    <a:lnTo>
                      <a:pt x="10" y="46"/>
                    </a:lnTo>
                    <a:lnTo>
                      <a:pt x="13" y="48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3" y="48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7" y="30"/>
                    </a:lnTo>
                    <a:lnTo>
                      <a:pt x="47" y="25"/>
                    </a:lnTo>
                    <a:lnTo>
                      <a:pt x="47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6" name=""/>
              <p:cNvSpPr/>
              <p:nvPr/>
            </p:nvSpPr>
            <p:spPr>
              <a:xfrm>
                <a:off x="2680920" y="2395440"/>
                <a:ext cx="35640" cy="385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5"/>
                    </a:lnTo>
                    <a:lnTo>
                      <a:pt x="35" y="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6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7" name=""/>
              <p:cNvSpPr/>
              <p:nvPr/>
            </p:nvSpPr>
            <p:spPr>
              <a:xfrm>
                <a:off x="2680920" y="2533320"/>
                <a:ext cx="35640" cy="385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4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8" name=""/>
              <p:cNvSpPr/>
              <p:nvPr/>
            </p:nvSpPr>
            <p:spPr>
              <a:xfrm>
                <a:off x="2680920" y="2671920"/>
                <a:ext cx="35640" cy="3708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1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5"/>
                    </a:lnTo>
                    <a:lnTo>
                      <a:pt x="50" y="29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9" name=""/>
              <p:cNvSpPr/>
              <p:nvPr/>
            </p:nvSpPr>
            <p:spPr>
              <a:xfrm>
                <a:off x="1832400" y="2182680"/>
                <a:ext cx="756360" cy="2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0" name=""/>
              <p:cNvSpPr/>
              <p:nvPr/>
            </p:nvSpPr>
            <p:spPr>
              <a:xfrm>
                <a:off x="1832400" y="2182680"/>
                <a:ext cx="756360" cy="212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1" name=""/>
              <p:cNvSpPr/>
              <p:nvPr/>
            </p:nvSpPr>
            <p:spPr>
              <a:xfrm>
                <a:off x="3703680" y="2236680"/>
                <a:ext cx="774720" cy="506160"/>
              </a:xfrm>
              <a:custGeom>
                <a:avLst/>
                <a:gdLst/>
                <a:ahLst/>
                <a:rect l="l" t="t" r="r" b="b"/>
                <a:pathLst>
                  <a:path w="1091" h="653">
                    <a:moveTo>
                      <a:pt x="775" y="559"/>
                    </a:moveTo>
                    <a:lnTo>
                      <a:pt x="795" y="548"/>
                    </a:lnTo>
                    <a:lnTo>
                      <a:pt x="795" y="525"/>
                    </a:lnTo>
                    <a:lnTo>
                      <a:pt x="775" y="514"/>
                    </a:lnTo>
                    <a:lnTo>
                      <a:pt x="754" y="525"/>
                    </a:lnTo>
                    <a:lnTo>
                      <a:pt x="754" y="548"/>
                    </a:lnTo>
                    <a:lnTo>
                      <a:pt x="775" y="559"/>
                    </a:lnTo>
                    <a:close/>
                    <a:moveTo>
                      <a:pt x="829" y="559"/>
                    </a:moveTo>
                    <a:lnTo>
                      <a:pt x="849" y="548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48"/>
                    </a:lnTo>
                    <a:lnTo>
                      <a:pt x="829" y="559"/>
                    </a:lnTo>
                    <a:close/>
                    <a:moveTo>
                      <a:pt x="883" y="559"/>
                    </a:moveTo>
                    <a:lnTo>
                      <a:pt x="904" y="548"/>
                    </a:lnTo>
                    <a:lnTo>
                      <a:pt x="904" y="525"/>
                    </a:lnTo>
                    <a:lnTo>
                      <a:pt x="883" y="514"/>
                    </a:lnTo>
                    <a:lnTo>
                      <a:pt x="863" y="525"/>
                    </a:lnTo>
                    <a:lnTo>
                      <a:pt x="863" y="548"/>
                    </a:lnTo>
                    <a:lnTo>
                      <a:pt x="883" y="559"/>
                    </a:lnTo>
                    <a:close/>
                    <a:moveTo>
                      <a:pt x="938" y="559"/>
                    </a:moveTo>
                    <a:lnTo>
                      <a:pt x="958" y="548"/>
                    </a:lnTo>
                    <a:lnTo>
                      <a:pt x="958" y="525"/>
                    </a:lnTo>
                    <a:lnTo>
                      <a:pt x="938" y="514"/>
                    </a:lnTo>
                    <a:lnTo>
                      <a:pt x="916" y="525"/>
                    </a:lnTo>
                    <a:lnTo>
                      <a:pt x="916" y="548"/>
                    </a:lnTo>
                    <a:lnTo>
                      <a:pt x="938" y="559"/>
                    </a:lnTo>
                    <a:close/>
                    <a:moveTo>
                      <a:pt x="666" y="559"/>
                    </a:moveTo>
                    <a:lnTo>
                      <a:pt x="686" y="548"/>
                    </a:lnTo>
                    <a:lnTo>
                      <a:pt x="686" y="525"/>
                    </a:lnTo>
                    <a:lnTo>
                      <a:pt x="666" y="514"/>
                    </a:lnTo>
                    <a:lnTo>
                      <a:pt x="647" y="525"/>
                    </a:lnTo>
                    <a:lnTo>
                      <a:pt x="647" y="548"/>
                    </a:lnTo>
                    <a:lnTo>
                      <a:pt x="666" y="559"/>
                    </a:lnTo>
                    <a:close/>
                    <a:moveTo>
                      <a:pt x="720" y="559"/>
                    </a:moveTo>
                    <a:lnTo>
                      <a:pt x="740" y="548"/>
                    </a:lnTo>
                    <a:lnTo>
                      <a:pt x="740" y="525"/>
                    </a:lnTo>
                    <a:lnTo>
                      <a:pt x="720" y="514"/>
                    </a:lnTo>
                    <a:lnTo>
                      <a:pt x="700" y="525"/>
                    </a:lnTo>
                    <a:lnTo>
                      <a:pt x="700" y="548"/>
                    </a:lnTo>
                    <a:lnTo>
                      <a:pt x="720" y="559"/>
                    </a:lnTo>
                    <a:close/>
                    <a:moveTo>
                      <a:pt x="505" y="559"/>
                    </a:moveTo>
                    <a:lnTo>
                      <a:pt x="525" y="548"/>
                    </a:lnTo>
                    <a:lnTo>
                      <a:pt x="525" y="525"/>
                    </a:lnTo>
                    <a:lnTo>
                      <a:pt x="505" y="514"/>
                    </a:lnTo>
                    <a:lnTo>
                      <a:pt x="484" y="525"/>
                    </a:lnTo>
                    <a:lnTo>
                      <a:pt x="484" y="548"/>
                    </a:lnTo>
                    <a:lnTo>
                      <a:pt x="505" y="559"/>
                    </a:lnTo>
                    <a:close/>
                    <a:moveTo>
                      <a:pt x="559" y="559"/>
                    </a:moveTo>
                    <a:lnTo>
                      <a:pt x="579" y="548"/>
                    </a:lnTo>
                    <a:lnTo>
                      <a:pt x="579" y="525"/>
                    </a:lnTo>
                    <a:lnTo>
                      <a:pt x="559" y="514"/>
                    </a:lnTo>
                    <a:lnTo>
                      <a:pt x="539" y="525"/>
                    </a:lnTo>
                    <a:lnTo>
                      <a:pt x="539" y="548"/>
                    </a:lnTo>
                    <a:lnTo>
                      <a:pt x="559" y="559"/>
                    </a:lnTo>
                    <a:close/>
                    <a:moveTo>
                      <a:pt x="613" y="559"/>
                    </a:moveTo>
                    <a:lnTo>
                      <a:pt x="634" y="548"/>
                    </a:lnTo>
                    <a:lnTo>
                      <a:pt x="634" y="525"/>
                    </a:lnTo>
                    <a:lnTo>
                      <a:pt x="613" y="514"/>
                    </a:lnTo>
                    <a:lnTo>
                      <a:pt x="593" y="525"/>
                    </a:lnTo>
                    <a:lnTo>
                      <a:pt x="593" y="548"/>
                    </a:lnTo>
                    <a:lnTo>
                      <a:pt x="613" y="559"/>
                    </a:lnTo>
                    <a:close/>
                    <a:moveTo>
                      <a:pt x="21" y="559"/>
                    </a:moveTo>
                    <a:lnTo>
                      <a:pt x="41" y="548"/>
                    </a:lnTo>
                    <a:lnTo>
                      <a:pt x="41" y="525"/>
                    </a:lnTo>
                    <a:lnTo>
                      <a:pt x="21" y="514"/>
                    </a:lnTo>
                    <a:lnTo>
                      <a:pt x="0" y="525"/>
                    </a:lnTo>
                    <a:lnTo>
                      <a:pt x="0" y="548"/>
                    </a:lnTo>
                    <a:lnTo>
                      <a:pt x="21" y="559"/>
                    </a:lnTo>
                    <a:close/>
                    <a:moveTo>
                      <a:pt x="74" y="559"/>
                    </a:moveTo>
                    <a:lnTo>
                      <a:pt x="93" y="548"/>
                    </a:lnTo>
                    <a:lnTo>
                      <a:pt x="93" y="525"/>
                    </a:lnTo>
                    <a:lnTo>
                      <a:pt x="74" y="514"/>
                    </a:lnTo>
                    <a:lnTo>
                      <a:pt x="54" y="525"/>
                    </a:lnTo>
                    <a:lnTo>
                      <a:pt x="54" y="548"/>
                    </a:lnTo>
                    <a:lnTo>
                      <a:pt x="74" y="559"/>
                    </a:lnTo>
                    <a:close/>
                    <a:moveTo>
                      <a:pt x="127" y="559"/>
                    </a:moveTo>
                    <a:lnTo>
                      <a:pt x="147" y="548"/>
                    </a:lnTo>
                    <a:lnTo>
                      <a:pt x="147" y="525"/>
                    </a:lnTo>
                    <a:lnTo>
                      <a:pt x="127" y="514"/>
                    </a:lnTo>
                    <a:lnTo>
                      <a:pt x="107" y="525"/>
                    </a:lnTo>
                    <a:lnTo>
                      <a:pt x="107" y="548"/>
                    </a:lnTo>
                    <a:lnTo>
                      <a:pt x="127" y="559"/>
                    </a:lnTo>
                    <a:close/>
                    <a:moveTo>
                      <a:pt x="181" y="559"/>
                    </a:moveTo>
                    <a:lnTo>
                      <a:pt x="201" y="548"/>
                    </a:lnTo>
                    <a:lnTo>
                      <a:pt x="201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48"/>
                    </a:lnTo>
                    <a:lnTo>
                      <a:pt x="181" y="559"/>
                    </a:lnTo>
                    <a:close/>
                    <a:moveTo>
                      <a:pt x="236" y="559"/>
                    </a:moveTo>
                    <a:lnTo>
                      <a:pt x="256" y="548"/>
                    </a:lnTo>
                    <a:lnTo>
                      <a:pt x="256" y="525"/>
                    </a:lnTo>
                    <a:lnTo>
                      <a:pt x="236" y="514"/>
                    </a:lnTo>
                    <a:lnTo>
                      <a:pt x="215" y="525"/>
                    </a:lnTo>
                    <a:lnTo>
                      <a:pt x="215" y="548"/>
                    </a:lnTo>
                    <a:lnTo>
                      <a:pt x="236" y="559"/>
                    </a:lnTo>
                    <a:close/>
                    <a:moveTo>
                      <a:pt x="290" y="559"/>
                    </a:moveTo>
                    <a:lnTo>
                      <a:pt x="310" y="548"/>
                    </a:lnTo>
                    <a:lnTo>
                      <a:pt x="310" y="525"/>
                    </a:lnTo>
                    <a:lnTo>
                      <a:pt x="290" y="514"/>
                    </a:lnTo>
                    <a:lnTo>
                      <a:pt x="270" y="525"/>
                    </a:lnTo>
                    <a:lnTo>
                      <a:pt x="270" y="548"/>
                    </a:lnTo>
                    <a:lnTo>
                      <a:pt x="290" y="559"/>
                    </a:lnTo>
                    <a:close/>
                    <a:moveTo>
                      <a:pt x="801" y="511"/>
                    </a:moveTo>
                    <a:lnTo>
                      <a:pt x="821" y="500"/>
                    </a:lnTo>
                    <a:lnTo>
                      <a:pt x="821" y="477"/>
                    </a:lnTo>
                    <a:lnTo>
                      <a:pt x="801" y="466"/>
                    </a:lnTo>
                    <a:lnTo>
                      <a:pt x="781" y="477"/>
                    </a:lnTo>
                    <a:lnTo>
                      <a:pt x="781" y="500"/>
                    </a:lnTo>
                    <a:lnTo>
                      <a:pt x="801" y="511"/>
                    </a:lnTo>
                    <a:close/>
                    <a:moveTo>
                      <a:pt x="856" y="511"/>
                    </a:moveTo>
                    <a:lnTo>
                      <a:pt x="876" y="500"/>
                    </a:lnTo>
                    <a:lnTo>
                      <a:pt x="876" y="477"/>
                    </a:lnTo>
                    <a:lnTo>
                      <a:pt x="856" y="466"/>
                    </a:lnTo>
                    <a:lnTo>
                      <a:pt x="835" y="477"/>
                    </a:lnTo>
                    <a:lnTo>
                      <a:pt x="835" y="500"/>
                    </a:lnTo>
                    <a:lnTo>
                      <a:pt x="856" y="511"/>
                    </a:lnTo>
                    <a:close/>
                    <a:moveTo>
                      <a:pt x="910" y="511"/>
                    </a:moveTo>
                    <a:lnTo>
                      <a:pt x="930" y="500"/>
                    </a:lnTo>
                    <a:lnTo>
                      <a:pt x="930" y="477"/>
                    </a:lnTo>
                    <a:lnTo>
                      <a:pt x="910" y="466"/>
                    </a:lnTo>
                    <a:lnTo>
                      <a:pt x="890" y="477"/>
                    </a:lnTo>
                    <a:lnTo>
                      <a:pt x="890" y="500"/>
                    </a:lnTo>
                    <a:lnTo>
                      <a:pt x="910" y="511"/>
                    </a:lnTo>
                    <a:close/>
                    <a:moveTo>
                      <a:pt x="587" y="511"/>
                    </a:moveTo>
                    <a:lnTo>
                      <a:pt x="607" y="500"/>
                    </a:lnTo>
                    <a:lnTo>
                      <a:pt x="607" y="477"/>
                    </a:lnTo>
                    <a:lnTo>
                      <a:pt x="587" y="466"/>
                    </a:lnTo>
                    <a:lnTo>
                      <a:pt x="566" y="477"/>
                    </a:lnTo>
                    <a:lnTo>
                      <a:pt x="566" y="500"/>
                    </a:lnTo>
                    <a:lnTo>
                      <a:pt x="587" y="511"/>
                    </a:lnTo>
                    <a:close/>
                    <a:moveTo>
                      <a:pt x="641" y="511"/>
                    </a:moveTo>
                    <a:lnTo>
                      <a:pt x="658" y="500"/>
                    </a:lnTo>
                    <a:lnTo>
                      <a:pt x="658" y="477"/>
                    </a:lnTo>
                    <a:lnTo>
                      <a:pt x="641" y="466"/>
                    </a:lnTo>
                    <a:lnTo>
                      <a:pt x="621" y="477"/>
                    </a:lnTo>
                    <a:lnTo>
                      <a:pt x="621" y="500"/>
                    </a:lnTo>
                    <a:lnTo>
                      <a:pt x="641" y="511"/>
                    </a:lnTo>
                    <a:close/>
                    <a:moveTo>
                      <a:pt x="692" y="511"/>
                    </a:moveTo>
                    <a:lnTo>
                      <a:pt x="713" y="500"/>
                    </a:lnTo>
                    <a:lnTo>
                      <a:pt x="713" y="477"/>
                    </a:lnTo>
                    <a:lnTo>
                      <a:pt x="692" y="466"/>
                    </a:lnTo>
                    <a:lnTo>
                      <a:pt x="675" y="477"/>
                    </a:lnTo>
                    <a:lnTo>
                      <a:pt x="675" y="500"/>
                    </a:lnTo>
                    <a:lnTo>
                      <a:pt x="692" y="511"/>
                    </a:lnTo>
                    <a:close/>
                    <a:moveTo>
                      <a:pt x="747" y="511"/>
                    </a:moveTo>
                    <a:lnTo>
                      <a:pt x="767" y="500"/>
                    </a:lnTo>
                    <a:lnTo>
                      <a:pt x="767" y="477"/>
                    </a:lnTo>
                    <a:lnTo>
                      <a:pt x="747" y="466"/>
                    </a:lnTo>
                    <a:lnTo>
                      <a:pt x="727" y="477"/>
                    </a:lnTo>
                    <a:lnTo>
                      <a:pt x="727" y="500"/>
                    </a:lnTo>
                    <a:lnTo>
                      <a:pt x="747" y="511"/>
                    </a:lnTo>
                    <a:close/>
                    <a:moveTo>
                      <a:pt x="371" y="511"/>
                    </a:moveTo>
                    <a:lnTo>
                      <a:pt x="391" y="500"/>
                    </a:lnTo>
                    <a:lnTo>
                      <a:pt x="391" y="477"/>
                    </a:lnTo>
                    <a:lnTo>
                      <a:pt x="371" y="466"/>
                    </a:lnTo>
                    <a:lnTo>
                      <a:pt x="351" y="477"/>
                    </a:lnTo>
                    <a:lnTo>
                      <a:pt x="351" y="500"/>
                    </a:lnTo>
                    <a:lnTo>
                      <a:pt x="371" y="511"/>
                    </a:lnTo>
                    <a:close/>
                    <a:moveTo>
                      <a:pt x="425" y="511"/>
                    </a:moveTo>
                    <a:lnTo>
                      <a:pt x="447" y="500"/>
                    </a:lnTo>
                    <a:lnTo>
                      <a:pt x="447" y="477"/>
                    </a:lnTo>
                    <a:lnTo>
                      <a:pt x="425" y="466"/>
                    </a:lnTo>
                    <a:lnTo>
                      <a:pt x="405" y="477"/>
                    </a:lnTo>
                    <a:lnTo>
                      <a:pt x="405" y="500"/>
                    </a:lnTo>
                    <a:lnTo>
                      <a:pt x="425" y="511"/>
                    </a:lnTo>
                    <a:close/>
                    <a:moveTo>
                      <a:pt x="480" y="511"/>
                    </a:moveTo>
                    <a:lnTo>
                      <a:pt x="498" y="500"/>
                    </a:lnTo>
                    <a:lnTo>
                      <a:pt x="498" y="477"/>
                    </a:lnTo>
                    <a:lnTo>
                      <a:pt x="480" y="466"/>
                    </a:lnTo>
                    <a:lnTo>
                      <a:pt x="459" y="477"/>
                    </a:lnTo>
                    <a:lnTo>
                      <a:pt x="459" y="500"/>
                    </a:lnTo>
                    <a:lnTo>
                      <a:pt x="480" y="511"/>
                    </a:lnTo>
                    <a:close/>
                    <a:moveTo>
                      <a:pt x="532" y="511"/>
                    </a:moveTo>
                    <a:lnTo>
                      <a:pt x="552" y="500"/>
                    </a:lnTo>
                    <a:lnTo>
                      <a:pt x="552" y="477"/>
                    </a:lnTo>
                    <a:lnTo>
                      <a:pt x="532" y="466"/>
                    </a:lnTo>
                    <a:lnTo>
                      <a:pt x="512" y="477"/>
                    </a:lnTo>
                    <a:lnTo>
                      <a:pt x="512" y="500"/>
                    </a:lnTo>
                    <a:lnTo>
                      <a:pt x="532" y="511"/>
                    </a:lnTo>
                    <a:close/>
                    <a:moveTo>
                      <a:pt x="48" y="511"/>
                    </a:moveTo>
                    <a:lnTo>
                      <a:pt x="68" y="500"/>
                    </a:lnTo>
                    <a:lnTo>
                      <a:pt x="68" y="477"/>
                    </a:lnTo>
                    <a:lnTo>
                      <a:pt x="48" y="466"/>
                    </a:lnTo>
                    <a:lnTo>
                      <a:pt x="27" y="477"/>
                    </a:lnTo>
                    <a:lnTo>
                      <a:pt x="27" y="500"/>
                    </a:lnTo>
                    <a:lnTo>
                      <a:pt x="48" y="511"/>
                    </a:lnTo>
                    <a:close/>
                    <a:moveTo>
                      <a:pt x="99" y="511"/>
                    </a:moveTo>
                    <a:lnTo>
                      <a:pt x="120" y="500"/>
                    </a:lnTo>
                    <a:lnTo>
                      <a:pt x="120" y="477"/>
                    </a:lnTo>
                    <a:lnTo>
                      <a:pt x="99" y="466"/>
                    </a:lnTo>
                    <a:lnTo>
                      <a:pt x="82" y="477"/>
                    </a:lnTo>
                    <a:lnTo>
                      <a:pt x="82" y="500"/>
                    </a:lnTo>
                    <a:lnTo>
                      <a:pt x="99" y="511"/>
                    </a:lnTo>
                    <a:close/>
                    <a:moveTo>
                      <a:pt x="155" y="511"/>
                    </a:moveTo>
                    <a:lnTo>
                      <a:pt x="175" y="500"/>
                    </a:lnTo>
                    <a:lnTo>
                      <a:pt x="175" y="477"/>
                    </a:lnTo>
                    <a:lnTo>
                      <a:pt x="155" y="466"/>
                    </a:lnTo>
                    <a:lnTo>
                      <a:pt x="133" y="477"/>
                    </a:lnTo>
                    <a:lnTo>
                      <a:pt x="133" y="500"/>
                    </a:lnTo>
                    <a:lnTo>
                      <a:pt x="155" y="511"/>
                    </a:lnTo>
                    <a:close/>
                    <a:moveTo>
                      <a:pt x="208" y="511"/>
                    </a:moveTo>
                    <a:lnTo>
                      <a:pt x="229" y="500"/>
                    </a:lnTo>
                    <a:lnTo>
                      <a:pt x="229" y="477"/>
                    </a:lnTo>
                    <a:lnTo>
                      <a:pt x="208" y="466"/>
                    </a:lnTo>
                    <a:lnTo>
                      <a:pt x="188" y="477"/>
                    </a:lnTo>
                    <a:lnTo>
                      <a:pt x="188" y="500"/>
                    </a:lnTo>
                    <a:lnTo>
                      <a:pt x="208" y="511"/>
                    </a:lnTo>
                    <a:close/>
                    <a:moveTo>
                      <a:pt x="262" y="511"/>
                    </a:moveTo>
                    <a:lnTo>
                      <a:pt x="282" y="500"/>
                    </a:lnTo>
                    <a:lnTo>
                      <a:pt x="282" y="477"/>
                    </a:lnTo>
                    <a:lnTo>
                      <a:pt x="262" y="466"/>
                    </a:lnTo>
                    <a:lnTo>
                      <a:pt x="242" y="477"/>
                    </a:lnTo>
                    <a:lnTo>
                      <a:pt x="242" y="500"/>
                    </a:lnTo>
                    <a:lnTo>
                      <a:pt x="262" y="511"/>
                    </a:lnTo>
                    <a:close/>
                    <a:moveTo>
                      <a:pt x="317" y="511"/>
                    </a:moveTo>
                    <a:lnTo>
                      <a:pt x="338" y="500"/>
                    </a:lnTo>
                    <a:lnTo>
                      <a:pt x="338" y="477"/>
                    </a:lnTo>
                    <a:lnTo>
                      <a:pt x="317" y="466"/>
                    </a:lnTo>
                    <a:lnTo>
                      <a:pt x="296" y="477"/>
                    </a:lnTo>
                    <a:lnTo>
                      <a:pt x="296" y="500"/>
                    </a:lnTo>
                    <a:lnTo>
                      <a:pt x="317" y="511"/>
                    </a:lnTo>
                    <a:close/>
                    <a:moveTo>
                      <a:pt x="505" y="466"/>
                    </a:moveTo>
                    <a:lnTo>
                      <a:pt x="525" y="455"/>
                    </a:lnTo>
                    <a:lnTo>
                      <a:pt x="525" y="432"/>
                    </a:lnTo>
                    <a:lnTo>
                      <a:pt x="505" y="421"/>
                    </a:lnTo>
                    <a:lnTo>
                      <a:pt x="484" y="432"/>
                    </a:lnTo>
                    <a:lnTo>
                      <a:pt x="484" y="455"/>
                    </a:lnTo>
                    <a:lnTo>
                      <a:pt x="505" y="466"/>
                    </a:lnTo>
                    <a:close/>
                    <a:moveTo>
                      <a:pt x="559" y="466"/>
                    </a:moveTo>
                    <a:lnTo>
                      <a:pt x="579" y="455"/>
                    </a:lnTo>
                    <a:lnTo>
                      <a:pt x="579" y="432"/>
                    </a:lnTo>
                    <a:lnTo>
                      <a:pt x="559" y="421"/>
                    </a:lnTo>
                    <a:lnTo>
                      <a:pt x="539" y="432"/>
                    </a:lnTo>
                    <a:lnTo>
                      <a:pt x="539" y="455"/>
                    </a:lnTo>
                    <a:lnTo>
                      <a:pt x="559" y="466"/>
                    </a:lnTo>
                    <a:close/>
                    <a:moveTo>
                      <a:pt x="21" y="466"/>
                    </a:moveTo>
                    <a:lnTo>
                      <a:pt x="41" y="455"/>
                    </a:lnTo>
                    <a:lnTo>
                      <a:pt x="41" y="432"/>
                    </a:lnTo>
                    <a:lnTo>
                      <a:pt x="21" y="421"/>
                    </a:lnTo>
                    <a:lnTo>
                      <a:pt x="0" y="432"/>
                    </a:lnTo>
                    <a:lnTo>
                      <a:pt x="0" y="455"/>
                    </a:lnTo>
                    <a:lnTo>
                      <a:pt x="21" y="466"/>
                    </a:lnTo>
                    <a:close/>
                    <a:moveTo>
                      <a:pt x="74" y="466"/>
                    </a:moveTo>
                    <a:lnTo>
                      <a:pt x="93" y="455"/>
                    </a:lnTo>
                    <a:lnTo>
                      <a:pt x="93" y="432"/>
                    </a:lnTo>
                    <a:lnTo>
                      <a:pt x="74" y="421"/>
                    </a:lnTo>
                    <a:lnTo>
                      <a:pt x="54" y="432"/>
                    </a:lnTo>
                    <a:lnTo>
                      <a:pt x="54" y="455"/>
                    </a:lnTo>
                    <a:lnTo>
                      <a:pt x="74" y="466"/>
                    </a:lnTo>
                    <a:close/>
                    <a:moveTo>
                      <a:pt x="127" y="466"/>
                    </a:moveTo>
                    <a:lnTo>
                      <a:pt x="147" y="455"/>
                    </a:lnTo>
                    <a:lnTo>
                      <a:pt x="147" y="432"/>
                    </a:lnTo>
                    <a:lnTo>
                      <a:pt x="127" y="421"/>
                    </a:lnTo>
                    <a:lnTo>
                      <a:pt x="107" y="432"/>
                    </a:lnTo>
                    <a:lnTo>
                      <a:pt x="107" y="455"/>
                    </a:lnTo>
                    <a:lnTo>
                      <a:pt x="127" y="466"/>
                    </a:lnTo>
                    <a:close/>
                    <a:moveTo>
                      <a:pt x="181" y="466"/>
                    </a:moveTo>
                    <a:lnTo>
                      <a:pt x="201" y="455"/>
                    </a:lnTo>
                    <a:lnTo>
                      <a:pt x="201" y="432"/>
                    </a:lnTo>
                    <a:lnTo>
                      <a:pt x="181" y="421"/>
                    </a:lnTo>
                    <a:lnTo>
                      <a:pt x="161" y="432"/>
                    </a:lnTo>
                    <a:lnTo>
                      <a:pt x="161" y="455"/>
                    </a:lnTo>
                    <a:lnTo>
                      <a:pt x="181" y="466"/>
                    </a:lnTo>
                    <a:close/>
                    <a:moveTo>
                      <a:pt x="236" y="466"/>
                    </a:moveTo>
                    <a:lnTo>
                      <a:pt x="256" y="455"/>
                    </a:lnTo>
                    <a:lnTo>
                      <a:pt x="256" y="432"/>
                    </a:lnTo>
                    <a:lnTo>
                      <a:pt x="236" y="421"/>
                    </a:lnTo>
                    <a:lnTo>
                      <a:pt x="215" y="432"/>
                    </a:lnTo>
                    <a:lnTo>
                      <a:pt x="215" y="455"/>
                    </a:lnTo>
                    <a:lnTo>
                      <a:pt x="236" y="466"/>
                    </a:lnTo>
                    <a:close/>
                    <a:moveTo>
                      <a:pt x="290" y="466"/>
                    </a:moveTo>
                    <a:lnTo>
                      <a:pt x="310" y="455"/>
                    </a:lnTo>
                    <a:lnTo>
                      <a:pt x="310" y="432"/>
                    </a:lnTo>
                    <a:lnTo>
                      <a:pt x="290" y="421"/>
                    </a:lnTo>
                    <a:lnTo>
                      <a:pt x="270" y="432"/>
                    </a:lnTo>
                    <a:lnTo>
                      <a:pt x="270" y="455"/>
                    </a:lnTo>
                    <a:lnTo>
                      <a:pt x="290" y="466"/>
                    </a:lnTo>
                    <a:close/>
                    <a:moveTo>
                      <a:pt x="344" y="466"/>
                    </a:moveTo>
                    <a:lnTo>
                      <a:pt x="365" y="455"/>
                    </a:lnTo>
                    <a:lnTo>
                      <a:pt x="365" y="432"/>
                    </a:lnTo>
                    <a:lnTo>
                      <a:pt x="344" y="421"/>
                    </a:lnTo>
                    <a:lnTo>
                      <a:pt x="324" y="432"/>
                    </a:lnTo>
                    <a:lnTo>
                      <a:pt x="324" y="455"/>
                    </a:lnTo>
                    <a:lnTo>
                      <a:pt x="344" y="466"/>
                    </a:lnTo>
                    <a:close/>
                    <a:moveTo>
                      <a:pt x="399" y="466"/>
                    </a:moveTo>
                    <a:lnTo>
                      <a:pt x="419" y="455"/>
                    </a:lnTo>
                    <a:lnTo>
                      <a:pt x="419" y="432"/>
                    </a:lnTo>
                    <a:lnTo>
                      <a:pt x="399" y="421"/>
                    </a:lnTo>
                    <a:lnTo>
                      <a:pt x="378" y="432"/>
                    </a:lnTo>
                    <a:lnTo>
                      <a:pt x="378" y="455"/>
                    </a:lnTo>
                    <a:lnTo>
                      <a:pt x="399" y="466"/>
                    </a:lnTo>
                    <a:close/>
                    <a:moveTo>
                      <a:pt x="613" y="466"/>
                    </a:moveTo>
                    <a:lnTo>
                      <a:pt x="634" y="455"/>
                    </a:lnTo>
                    <a:lnTo>
                      <a:pt x="634" y="432"/>
                    </a:lnTo>
                    <a:lnTo>
                      <a:pt x="613" y="421"/>
                    </a:lnTo>
                    <a:lnTo>
                      <a:pt x="593" y="432"/>
                    </a:lnTo>
                    <a:lnTo>
                      <a:pt x="593" y="455"/>
                    </a:lnTo>
                    <a:lnTo>
                      <a:pt x="613" y="466"/>
                    </a:lnTo>
                    <a:close/>
                    <a:moveTo>
                      <a:pt x="666" y="466"/>
                    </a:moveTo>
                    <a:lnTo>
                      <a:pt x="686" y="455"/>
                    </a:lnTo>
                    <a:lnTo>
                      <a:pt x="686" y="432"/>
                    </a:lnTo>
                    <a:lnTo>
                      <a:pt x="666" y="421"/>
                    </a:lnTo>
                    <a:lnTo>
                      <a:pt x="647" y="432"/>
                    </a:lnTo>
                    <a:lnTo>
                      <a:pt x="647" y="455"/>
                    </a:lnTo>
                    <a:lnTo>
                      <a:pt x="666" y="466"/>
                    </a:lnTo>
                    <a:close/>
                    <a:moveTo>
                      <a:pt x="720" y="466"/>
                    </a:moveTo>
                    <a:lnTo>
                      <a:pt x="740" y="455"/>
                    </a:lnTo>
                    <a:lnTo>
                      <a:pt x="740" y="432"/>
                    </a:lnTo>
                    <a:lnTo>
                      <a:pt x="720" y="421"/>
                    </a:lnTo>
                    <a:lnTo>
                      <a:pt x="700" y="432"/>
                    </a:lnTo>
                    <a:lnTo>
                      <a:pt x="700" y="455"/>
                    </a:lnTo>
                    <a:lnTo>
                      <a:pt x="720" y="466"/>
                    </a:lnTo>
                    <a:close/>
                    <a:moveTo>
                      <a:pt x="775" y="466"/>
                    </a:moveTo>
                    <a:lnTo>
                      <a:pt x="795" y="455"/>
                    </a:lnTo>
                    <a:lnTo>
                      <a:pt x="795" y="432"/>
                    </a:lnTo>
                    <a:lnTo>
                      <a:pt x="775" y="421"/>
                    </a:lnTo>
                    <a:lnTo>
                      <a:pt x="754" y="432"/>
                    </a:lnTo>
                    <a:lnTo>
                      <a:pt x="754" y="455"/>
                    </a:lnTo>
                    <a:lnTo>
                      <a:pt x="775" y="466"/>
                    </a:lnTo>
                    <a:close/>
                    <a:moveTo>
                      <a:pt x="532" y="234"/>
                    </a:moveTo>
                    <a:lnTo>
                      <a:pt x="552" y="222"/>
                    </a:lnTo>
                    <a:lnTo>
                      <a:pt x="552" y="198"/>
                    </a:lnTo>
                    <a:lnTo>
                      <a:pt x="532" y="187"/>
                    </a:lnTo>
                    <a:lnTo>
                      <a:pt x="512" y="198"/>
                    </a:lnTo>
                    <a:lnTo>
                      <a:pt x="512" y="222"/>
                    </a:lnTo>
                    <a:lnTo>
                      <a:pt x="532" y="234"/>
                    </a:lnTo>
                    <a:close/>
                    <a:moveTo>
                      <a:pt x="532" y="140"/>
                    </a:moveTo>
                    <a:lnTo>
                      <a:pt x="552" y="128"/>
                    </a:lnTo>
                    <a:lnTo>
                      <a:pt x="552" y="105"/>
                    </a:lnTo>
                    <a:lnTo>
                      <a:pt x="532" y="94"/>
                    </a:lnTo>
                    <a:lnTo>
                      <a:pt x="512" y="105"/>
                    </a:lnTo>
                    <a:lnTo>
                      <a:pt x="512" y="128"/>
                    </a:lnTo>
                    <a:lnTo>
                      <a:pt x="532" y="140"/>
                    </a:lnTo>
                    <a:close/>
                    <a:moveTo>
                      <a:pt x="559" y="279"/>
                    </a:moveTo>
                    <a:lnTo>
                      <a:pt x="579" y="268"/>
                    </a:lnTo>
                    <a:lnTo>
                      <a:pt x="579" y="245"/>
                    </a:lnTo>
                    <a:lnTo>
                      <a:pt x="559" y="234"/>
                    </a:lnTo>
                    <a:lnTo>
                      <a:pt x="539" y="245"/>
                    </a:lnTo>
                    <a:lnTo>
                      <a:pt x="539" y="268"/>
                    </a:lnTo>
                    <a:lnTo>
                      <a:pt x="559" y="279"/>
                    </a:lnTo>
                    <a:close/>
                    <a:moveTo>
                      <a:pt x="559" y="187"/>
                    </a:moveTo>
                    <a:lnTo>
                      <a:pt x="579" y="174"/>
                    </a:lnTo>
                    <a:lnTo>
                      <a:pt x="579" y="152"/>
                    </a:lnTo>
                    <a:lnTo>
                      <a:pt x="559" y="140"/>
                    </a:lnTo>
                    <a:lnTo>
                      <a:pt x="539" y="152"/>
                    </a:lnTo>
                    <a:lnTo>
                      <a:pt x="539" y="174"/>
                    </a:lnTo>
                    <a:lnTo>
                      <a:pt x="559" y="187"/>
                    </a:lnTo>
                    <a:close/>
                    <a:moveTo>
                      <a:pt x="559" y="94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59" y="47"/>
                    </a:lnTo>
                    <a:lnTo>
                      <a:pt x="539" y="58"/>
                    </a:lnTo>
                    <a:lnTo>
                      <a:pt x="539" y="82"/>
                    </a:lnTo>
                    <a:lnTo>
                      <a:pt x="559" y="94"/>
                    </a:lnTo>
                    <a:close/>
                    <a:moveTo>
                      <a:pt x="480" y="327"/>
                    </a:moveTo>
                    <a:lnTo>
                      <a:pt x="498" y="316"/>
                    </a:lnTo>
                    <a:lnTo>
                      <a:pt x="498" y="292"/>
                    </a:lnTo>
                    <a:lnTo>
                      <a:pt x="480" y="280"/>
                    </a:lnTo>
                    <a:lnTo>
                      <a:pt x="459" y="292"/>
                    </a:lnTo>
                    <a:lnTo>
                      <a:pt x="459" y="316"/>
                    </a:lnTo>
                    <a:lnTo>
                      <a:pt x="480" y="327"/>
                    </a:lnTo>
                    <a:close/>
                    <a:moveTo>
                      <a:pt x="505" y="373"/>
                    </a:moveTo>
                    <a:lnTo>
                      <a:pt x="525" y="361"/>
                    </a:lnTo>
                    <a:lnTo>
                      <a:pt x="525" y="338"/>
                    </a:lnTo>
                    <a:lnTo>
                      <a:pt x="505" y="327"/>
                    </a:lnTo>
                    <a:lnTo>
                      <a:pt x="484" y="338"/>
                    </a:lnTo>
                    <a:lnTo>
                      <a:pt x="484" y="361"/>
                    </a:lnTo>
                    <a:lnTo>
                      <a:pt x="505" y="373"/>
                    </a:lnTo>
                    <a:close/>
                    <a:moveTo>
                      <a:pt x="48" y="421"/>
                    </a:moveTo>
                    <a:lnTo>
                      <a:pt x="68" y="409"/>
                    </a:lnTo>
                    <a:lnTo>
                      <a:pt x="68" y="384"/>
                    </a:lnTo>
                    <a:lnTo>
                      <a:pt x="48" y="373"/>
                    </a:lnTo>
                    <a:lnTo>
                      <a:pt x="27" y="384"/>
                    </a:lnTo>
                    <a:lnTo>
                      <a:pt x="27" y="409"/>
                    </a:lnTo>
                    <a:lnTo>
                      <a:pt x="48" y="421"/>
                    </a:lnTo>
                    <a:close/>
                    <a:moveTo>
                      <a:pt x="99" y="421"/>
                    </a:moveTo>
                    <a:lnTo>
                      <a:pt x="120" y="409"/>
                    </a:lnTo>
                    <a:lnTo>
                      <a:pt x="120" y="384"/>
                    </a:lnTo>
                    <a:lnTo>
                      <a:pt x="99" y="373"/>
                    </a:lnTo>
                    <a:lnTo>
                      <a:pt x="82" y="384"/>
                    </a:lnTo>
                    <a:lnTo>
                      <a:pt x="82" y="409"/>
                    </a:lnTo>
                    <a:lnTo>
                      <a:pt x="99" y="421"/>
                    </a:lnTo>
                    <a:close/>
                    <a:moveTo>
                      <a:pt x="155" y="421"/>
                    </a:moveTo>
                    <a:lnTo>
                      <a:pt x="175" y="409"/>
                    </a:lnTo>
                    <a:lnTo>
                      <a:pt x="175" y="384"/>
                    </a:lnTo>
                    <a:lnTo>
                      <a:pt x="155" y="373"/>
                    </a:lnTo>
                    <a:lnTo>
                      <a:pt x="133" y="384"/>
                    </a:lnTo>
                    <a:lnTo>
                      <a:pt x="133" y="409"/>
                    </a:lnTo>
                    <a:lnTo>
                      <a:pt x="155" y="421"/>
                    </a:lnTo>
                    <a:close/>
                    <a:moveTo>
                      <a:pt x="208" y="421"/>
                    </a:moveTo>
                    <a:lnTo>
                      <a:pt x="229" y="409"/>
                    </a:lnTo>
                    <a:lnTo>
                      <a:pt x="229" y="384"/>
                    </a:lnTo>
                    <a:lnTo>
                      <a:pt x="208" y="373"/>
                    </a:lnTo>
                    <a:lnTo>
                      <a:pt x="188" y="384"/>
                    </a:lnTo>
                    <a:lnTo>
                      <a:pt x="188" y="409"/>
                    </a:lnTo>
                    <a:lnTo>
                      <a:pt x="208" y="421"/>
                    </a:lnTo>
                    <a:close/>
                    <a:moveTo>
                      <a:pt x="262" y="421"/>
                    </a:moveTo>
                    <a:lnTo>
                      <a:pt x="282" y="409"/>
                    </a:lnTo>
                    <a:lnTo>
                      <a:pt x="282" y="384"/>
                    </a:lnTo>
                    <a:lnTo>
                      <a:pt x="262" y="373"/>
                    </a:lnTo>
                    <a:lnTo>
                      <a:pt x="242" y="384"/>
                    </a:lnTo>
                    <a:lnTo>
                      <a:pt x="242" y="409"/>
                    </a:lnTo>
                    <a:lnTo>
                      <a:pt x="262" y="421"/>
                    </a:lnTo>
                    <a:close/>
                    <a:moveTo>
                      <a:pt x="317" y="421"/>
                    </a:moveTo>
                    <a:lnTo>
                      <a:pt x="338" y="409"/>
                    </a:lnTo>
                    <a:lnTo>
                      <a:pt x="338" y="384"/>
                    </a:lnTo>
                    <a:lnTo>
                      <a:pt x="317" y="373"/>
                    </a:lnTo>
                    <a:lnTo>
                      <a:pt x="296" y="384"/>
                    </a:lnTo>
                    <a:lnTo>
                      <a:pt x="296" y="409"/>
                    </a:lnTo>
                    <a:lnTo>
                      <a:pt x="317" y="421"/>
                    </a:lnTo>
                    <a:close/>
                    <a:moveTo>
                      <a:pt x="371" y="421"/>
                    </a:moveTo>
                    <a:lnTo>
                      <a:pt x="391" y="409"/>
                    </a:lnTo>
                    <a:lnTo>
                      <a:pt x="391" y="384"/>
                    </a:lnTo>
                    <a:lnTo>
                      <a:pt x="371" y="373"/>
                    </a:lnTo>
                    <a:lnTo>
                      <a:pt x="351" y="384"/>
                    </a:lnTo>
                    <a:lnTo>
                      <a:pt x="351" y="409"/>
                    </a:lnTo>
                    <a:lnTo>
                      <a:pt x="371" y="421"/>
                    </a:lnTo>
                    <a:close/>
                    <a:moveTo>
                      <a:pt x="425" y="421"/>
                    </a:moveTo>
                    <a:lnTo>
                      <a:pt x="447" y="409"/>
                    </a:lnTo>
                    <a:lnTo>
                      <a:pt x="447" y="384"/>
                    </a:lnTo>
                    <a:lnTo>
                      <a:pt x="425" y="373"/>
                    </a:lnTo>
                    <a:lnTo>
                      <a:pt x="405" y="384"/>
                    </a:lnTo>
                    <a:lnTo>
                      <a:pt x="405" y="409"/>
                    </a:lnTo>
                    <a:lnTo>
                      <a:pt x="425" y="421"/>
                    </a:lnTo>
                    <a:close/>
                    <a:moveTo>
                      <a:pt x="371" y="327"/>
                    </a:moveTo>
                    <a:lnTo>
                      <a:pt x="391" y="316"/>
                    </a:lnTo>
                    <a:lnTo>
                      <a:pt x="391" y="292"/>
                    </a:lnTo>
                    <a:lnTo>
                      <a:pt x="371" y="280"/>
                    </a:lnTo>
                    <a:lnTo>
                      <a:pt x="351" y="292"/>
                    </a:lnTo>
                    <a:lnTo>
                      <a:pt x="351" y="316"/>
                    </a:lnTo>
                    <a:lnTo>
                      <a:pt x="371" y="327"/>
                    </a:lnTo>
                    <a:close/>
                    <a:moveTo>
                      <a:pt x="425" y="327"/>
                    </a:moveTo>
                    <a:lnTo>
                      <a:pt x="447" y="316"/>
                    </a:lnTo>
                    <a:lnTo>
                      <a:pt x="447" y="292"/>
                    </a:lnTo>
                    <a:lnTo>
                      <a:pt x="425" y="280"/>
                    </a:lnTo>
                    <a:lnTo>
                      <a:pt x="405" y="292"/>
                    </a:lnTo>
                    <a:lnTo>
                      <a:pt x="405" y="316"/>
                    </a:lnTo>
                    <a:lnTo>
                      <a:pt x="425" y="327"/>
                    </a:lnTo>
                    <a:close/>
                    <a:moveTo>
                      <a:pt x="21" y="373"/>
                    </a:moveTo>
                    <a:lnTo>
                      <a:pt x="41" y="361"/>
                    </a:lnTo>
                    <a:lnTo>
                      <a:pt x="41" y="338"/>
                    </a:lnTo>
                    <a:lnTo>
                      <a:pt x="21" y="327"/>
                    </a:lnTo>
                    <a:lnTo>
                      <a:pt x="0" y="338"/>
                    </a:lnTo>
                    <a:lnTo>
                      <a:pt x="0" y="361"/>
                    </a:lnTo>
                    <a:lnTo>
                      <a:pt x="21" y="373"/>
                    </a:lnTo>
                    <a:close/>
                    <a:moveTo>
                      <a:pt x="74" y="373"/>
                    </a:moveTo>
                    <a:lnTo>
                      <a:pt x="93" y="361"/>
                    </a:lnTo>
                    <a:lnTo>
                      <a:pt x="93" y="338"/>
                    </a:lnTo>
                    <a:lnTo>
                      <a:pt x="74" y="327"/>
                    </a:lnTo>
                    <a:lnTo>
                      <a:pt x="54" y="338"/>
                    </a:lnTo>
                    <a:lnTo>
                      <a:pt x="54" y="361"/>
                    </a:lnTo>
                    <a:lnTo>
                      <a:pt x="74" y="373"/>
                    </a:lnTo>
                    <a:close/>
                    <a:moveTo>
                      <a:pt x="127" y="373"/>
                    </a:moveTo>
                    <a:lnTo>
                      <a:pt x="147" y="361"/>
                    </a:lnTo>
                    <a:lnTo>
                      <a:pt x="147" y="338"/>
                    </a:lnTo>
                    <a:lnTo>
                      <a:pt x="127" y="327"/>
                    </a:lnTo>
                    <a:lnTo>
                      <a:pt x="107" y="338"/>
                    </a:lnTo>
                    <a:lnTo>
                      <a:pt x="107" y="361"/>
                    </a:lnTo>
                    <a:lnTo>
                      <a:pt x="127" y="373"/>
                    </a:lnTo>
                    <a:close/>
                    <a:moveTo>
                      <a:pt x="181" y="373"/>
                    </a:moveTo>
                    <a:lnTo>
                      <a:pt x="201" y="361"/>
                    </a:lnTo>
                    <a:lnTo>
                      <a:pt x="201" y="338"/>
                    </a:lnTo>
                    <a:lnTo>
                      <a:pt x="181" y="327"/>
                    </a:lnTo>
                    <a:lnTo>
                      <a:pt x="161" y="338"/>
                    </a:lnTo>
                    <a:lnTo>
                      <a:pt x="161" y="361"/>
                    </a:lnTo>
                    <a:lnTo>
                      <a:pt x="181" y="373"/>
                    </a:lnTo>
                    <a:close/>
                    <a:moveTo>
                      <a:pt x="236" y="373"/>
                    </a:moveTo>
                    <a:lnTo>
                      <a:pt x="256" y="361"/>
                    </a:lnTo>
                    <a:lnTo>
                      <a:pt x="256" y="338"/>
                    </a:lnTo>
                    <a:lnTo>
                      <a:pt x="236" y="327"/>
                    </a:lnTo>
                    <a:lnTo>
                      <a:pt x="215" y="338"/>
                    </a:lnTo>
                    <a:lnTo>
                      <a:pt x="215" y="361"/>
                    </a:lnTo>
                    <a:lnTo>
                      <a:pt x="236" y="373"/>
                    </a:lnTo>
                    <a:close/>
                    <a:moveTo>
                      <a:pt x="290" y="373"/>
                    </a:moveTo>
                    <a:lnTo>
                      <a:pt x="310" y="361"/>
                    </a:lnTo>
                    <a:lnTo>
                      <a:pt x="310" y="338"/>
                    </a:lnTo>
                    <a:lnTo>
                      <a:pt x="290" y="327"/>
                    </a:lnTo>
                    <a:lnTo>
                      <a:pt x="270" y="338"/>
                    </a:lnTo>
                    <a:lnTo>
                      <a:pt x="270" y="361"/>
                    </a:lnTo>
                    <a:lnTo>
                      <a:pt x="290" y="373"/>
                    </a:lnTo>
                    <a:close/>
                    <a:moveTo>
                      <a:pt x="48" y="327"/>
                    </a:moveTo>
                    <a:lnTo>
                      <a:pt x="68" y="316"/>
                    </a:lnTo>
                    <a:lnTo>
                      <a:pt x="68" y="292"/>
                    </a:lnTo>
                    <a:lnTo>
                      <a:pt x="48" y="280"/>
                    </a:lnTo>
                    <a:lnTo>
                      <a:pt x="27" y="292"/>
                    </a:lnTo>
                    <a:lnTo>
                      <a:pt x="27" y="316"/>
                    </a:lnTo>
                    <a:lnTo>
                      <a:pt x="48" y="327"/>
                    </a:lnTo>
                    <a:close/>
                    <a:moveTo>
                      <a:pt x="99" y="327"/>
                    </a:moveTo>
                    <a:lnTo>
                      <a:pt x="120" y="316"/>
                    </a:lnTo>
                    <a:lnTo>
                      <a:pt x="120" y="292"/>
                    </a:lnTo>
                    <a:lnTo>
                      <a:pt x="99" y="280"/>
                    </a:lnTo>
                    <a:lnTo>
                      <a:pt x="82" y="292"/>
                    </a:lnTo>
                    <a:lnTo>
                      <a:pt x="82" y="316"/>
                    </a:lnTo>
                    <a:lnTo>
                      <a:pt x="99" y="327"/>
                    </a:lnTo>
                    <a:close/>
                    <a:moveTo>
                      <a:pt x="155" y="327"/>
                    </a:moveTo>
                    <a:lnTo>
                      <a:pt x="175" y="316"/>
                    </a:lnTo>
                    <a:lnTo>
                      <a:pt x="175" y="292"/>
                    </a:lnTo>
                    <a:lnTo>
                      <a:pt x="155" y="280"/>
                    </a:lnTo>
                    <a:lnTo>
                      <a:pt x="133" y="292"/>
                    </a:lnTo>
                    <a:lnTo>
                      <a:pt x="133" y="316"/>
                    </a:lnTo>
                    <a:lnTo>
                      <a:pt x="155" y="327"/>
                    </a:lnTo>
                    <a:close/>
                    <a:moveTo>
                      <a:pt x="208" y="327"/>
                    </a:moveTo>
                    <a:lnTo>
                      <a:pt x="229" y="316"/>
                    </a:lnTo>
                    <a:lnTo>
                      <a:pt x="229" y="292"/>
                    </a:lnTo>
                    <a:lnTo>
                      <a:pt x="208" y="280"/>
                    </a:lnTo>
                    <a:lnTo>
                      <a:pt x="188" y="292"/>
                    </a:lnTo>
                    <a:lnTo>
                      <a:pt x="188" y="316"/>
                    </a:lnTo>
                    <a:lnTo>
                      <a:pt x="208" y="327"/>
                    </a:lnTo>
                    <a:close/>
                    <a:moveTo>
                      <a:pt x="262" y="327"/>
                    </a:moveTo>
                    <a:lnTo>
                      <a:pt x="282" y="316"/>
                    </a:lnTo>
                    <a:lnTo>
                      <a:pt x="282" y="292"/>
                    </a:lnTo>
                    <a:lnTo>
                      <a:pt x="262" y="280"/>
                    </a:lnTo>
                    <a:lnTo>
                      <a:pt x="242" y="292"/>
                    </a:lnTo>
                    <a:lnTo>
                      <a:pt x="242" y="316"/>
                    </a:lnTo>
                    <a:lnTo>
                      <a:pt x="262" y="327"/>
                    </a:lnTo>
                    <a:close/>
                    <a:moveTo>
                      <a:pt x="317" y="327"/>
                    </a:moveTo>
                    <a:lnTo>
                      <a:pt x="338" y="316"/>
                    </a:lnTo>
                    <a:lnTo>
                      <a:pt x="338" y="292"/>
                    </a:lnTo>
                    <a:lnTo>
                      <a:pt x="317" y="280"/>
                    </a:lnTo>
                    <a:lnTo>
                      <a:pt x="296" y="292"/>
                    </a:lnTo>
                    <a:lnTo>
                      <a:pt x="296" y="316"/>
                    </a:lnTo>
                    <a:lnTo>
                      <a:pt x="317" y="327"/>
                    </a:lnTo>
                    <a:close/>
                    <a:moveTo>
                      <a:pt x="344" y="373"/>
                    </a:moveTo>
                    <a:lnTo>
                      <a:pt x="365" y="361"/>
                    </a:lnTo>
                    <a:lnTo>
                      <a:pt x="365" y="338"/>
                    </a:lnTo>
                    <a:lnTo>
                      <a:pt x="344" y="327"/>
                    </a:lnTo>
                    <a:lnTo>
                      <a:pt x="324" y="338"/>
                    </a:lnTo>
                    <a:lnTo>
                      <a:pt x="324" y="361"/>
                    </a:lnTo>
                    <a:lnTo>
                      <a:pt x="344" y="373"/>
                    </a:lnTo>
                    <a:close/>
                    <a:moveTo>
                      <a:pt x="399" y="373"/>
                    </a:moveTo>
                    <a:lnTo>
                      <a:pt x="419" y="361"/>
                    </a:lnTo>
                    <a:lnTo>
                      <a:pt x="419" y="338"/>
                    </a:lnTo>
                    <a:lnTo>
                      <a:pt x="399" y="327"/>
                    </a:lnTo>
                    <a:lnTo>
                      <a:pt x="378" y="338"/>
                    </a:lnTo>
                    <a:lnTo>
                      <a:pt x="378" y="361"/>
                    </a:lnTo>
                    <a:lnTo>
                      <a:pt x="399" y="373"/>
                    </a:lnTo>
                    <a:close/>
                    <a:moveTo>
                      <a:pt x="480" y="421"/>
                    </a:moveTo>
                    <a:lnTo>
                      <a:pt x="498" y="409"/>
                    </a:lnTo>
                    <a:lnTo>
                      <a:pt x="498" y="384"/>
                    </a:lnTo>
                    <a:lnTo>
                      <a:pt x="480" y="373"/>
                    </a:lnTo>
                    <a:lnTo>
                      <a:pt x="459" y="384"/>
                    </a:lnTo>
                    <a:lnTo>
                      <a:pt x="459" y="409"/>
                    </a:lnTo>
                    <a:lnTo>
                      <a:pt x="480" y="421"/>
                    </a:lnTo>
                    <a:close/>
                    <a:moveTo>
                      <a:pt x="480" y="140"/>
                    </a:moveTo>
                    <a:lnTo>
                      <a:pt x="498" y="128"/>
                    </a:lnTo>
                    <a:lnTo>
                      <a:pt x="498" y="105"/>
                    </a:lnTo>
                    <a:lnTo>
                      <a:pt x="480" y="94"/>
                    </a:lnTo>
                    <a:lnTo>
                      <a:pt x="459" y="105"/>
                    </a:lnTo>
                    <a:lnTo>
                      <a:pt x="459" y="128"/>
                    </a:lnTo>
                    <a:lnTo>
                      <a:pt x="480" y="140"/>
                    </a:lnTo>
                    <a:close/>
                    <a:moveTo>
                      <a:pt x="505" y="94"/>
                    </a:moveTo>
                    <a:lnTo>
                      <a:pt x="525" y="82"/>
                    </a:lnTo>
                    <a:lnTo>
                      <a:pt x="525" y="58"/>
                    </a:lnTo>
                    <a:lnTo>
                      <a:pt x="505" y="47"/>
                    </a:lnTo>
                    <a:lnTo>
                      <a:pt x="484" y="58"/>
                    </a:lnTo>
                    <a:lnTo>
                      <a:pt x="484" y="82"/>
                    </a:lnTo>
                    <a:lnTo>
                      <a:pt x="505" y="94"/>
                    </a:lnTo>
                    <a:close/>
                    <a:moveTo>
                      <a:pt x="505" y="187"/>
                    </a:moveTo>
                    <a:lnTo>
                      <a:pt x="525" y="174"/>
                    </a:lnTo>
                    <a:lnTo>
                      <a:pt x="525" y="152"/>
                    </a:lnTo>
                    <a:lnTo>
                      <a:pt x="505" y="140"/>
                    </a:lnTo>
                    <a:lnTo>
                      <a:pt x="484" y="152"/>
                    </a:lnTo>
                    <a:lnTo>
                      <a:pt x="484" y="174"/>
                    </a:lnTo>
                    <a:lnTo>
                      <a:pt x="505" y="187"/>
                    </a:lnTo>
                    <a:close/>
                    <a:moveTo>
                      <a:pt x="371" y="234"/>
                    </a:moveTo>
                    <a:lnTo>
                      <a:pt x="391" y="222"/>
                    </a:lnTo>
                    <a:lnTo>
                      <a:pt x="391" y="198"/>
                    </a:lnTo>
                    <a:lnTo>
                      <a:pt x="371" y="187"/>
                    </a:lnTo>
                    <a:lnTo>
                      <a:pt x="351" y="198"/>
                    </a:lnTo>
                    <a:lnTo>
                      <a:pt x="351" y="222"/>
                    </a:lnTo>
                    <a:lnTo>
                      <a:pt x="371" y="234"/>
                    </a:lnTo>
                    <a:close/>
                    <a:moveTo>
                      <a:pt x="425" y="234"/>
                    </a:moveTo>
                    <a:lnTo>
                      <a:pt x="447" y="222"/>
                    </a:lnTo>
                    <a:lnTo>
                      <a:pt x="447" y="198"/>
                    </a:lnTo>
                    <a:lnTo>
                      <a:pt x="425" y="187"/>
                    </a:lnTo>
                    <a:lnTo>
                      <a:pt x="405" y="198"/>
                    </a:lnTo>
                    <a:lnTo>
                      <a:pt x="405" y="222"/>
                    </a:lnTo>
                    <a:lnTo>
                      <a:pt x="425" y="234"/>
                    </a:lnTo>
                    <a:close/>
                    <a:moveTo>
                      <a:pt x="21" y="279"/>
                    </a:moveTo>
                    <a:lnTo>
                      <a:pt x="41" y="268"/>
                    </a:lnTo>
                    <a:lnTo>
                      <a:pt x="41" y="245"/>
                    </a:lnTo>
                    <a:lnTo>
                      <a:pt x="21" y="234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21" y="279"/>
                    </a:lnTo>
                    <a:close/>
                    <a:moveTo>
                      <a:pt x="74" y="279"/>
                    </a:moveTo>
                    <a:lnTo>
                      <a:pt x="93" y="268"/>
                    </a:lnTo>
                    <a:lnTo>
                      <a:pt x="93" y="245"/>
                    </a:lnTo>
                    <a:lnTo>
                      <a:pt x="74" y="234"/>
                    </a:lnTo>
                    <a:lnTo>
                      <a:pt x="54" y="245"/>
                    </a:lnTo>
                    <a:lnTo>
                      <a:pt x="54" y="268"/>
                    </a:lnTo>
                    <a:lnTo>
                      <a:pt x="74" y="279"/>
                    </a:lnTo>
                    <a:close/>
                    <a:moveTo>
                      <a:pt x="127" y="279"/>
                    </a:moveTo>
                    <a:lnTo>
                      <a:pt x="147" y="268"/>
                    </a:lnTo>
                    <a:lnTo>
                      <a:pt x="147" y="245"/>
                    </a:lnTo>
                    <a:lnTo>
                      <a:pt x="127" y="234"/>
                    </a:lnTo>
                    <a:lnTo>
                      <a:pt x="107" y="245"/>
                    </a:lnTo>
                    <a:lnTo>
                      <a:pt x="107" y="268"/>
                    </a:lnTo>
                    <a:lnTo>
                      <a:pt x="127" y="279"/>
                    </a:lnTo>
                    <a:close/>
                    <a:moveTo>
                      <a:pt x="181" y="279"/>
                    </a:moveTo>
                    <a:lnTo>
                      <a:pt x="201" y="268"/>
                    </a:lnTo>
                    <a:lnTo>
                      <a:pt x="201" y="245"/>
                    </a:lnTo>
                    <a:lnTo>
                      <a:pt x="181" y="234"/>
                    </a:lnTo>
                    <a:lnTo>
                      <a:pt x="161" y="245"/>
                    </a:lnTo>
                    <a:lnTo>
                      <a:pt x="161" y="268"/>
                    </a:lnTo>
                    <a:lnTo>
                      <a:pt x="181" y="279"/>
                    </a:lnTo>
                    <a:close/>
                    <a:moveTo>
                      <a:pt x="236" y="279"/>
                    </a:moveTo>
                    <a:lnTo>
                      <a:pt x="256" y="268"/>
                    </a:lnTo>
                    <a:lnTo>
                      <a:pt x="256" y="245"/>
                    </a:lnTo>
                    <a:lnTo>
                      <a:pt x="236" y="234"/>
                    </a:lnTo>
                    <a:lnTo>
                      <a:pt x="215" y="245"/>
                    </a:lnTo>
                    <a:lnTo>
                      <a:pt x="215" y="268"/>
                    </a:lnTo>
                    <a:lnTo>
                      <a:pt x="236" y="279"/>
                    </a:lnTo>
                    <a:close/>
                    <a:moveTo>
                      <a:pt x="290" y="279"/>
                    </a:moveTo>
                    <a:lnTo>
                      <a:pt x="310" y="268"/>
                    </a:lnTo>
                    <a:lnTo>
                      <a:pt x="310" y="245"/>
                    </a:lnTo>
                    <a:lnTo>
                      <a:pt x="290" y="234"/>
                    </a:lnTo>
                    <a:lnTo>
                      <a:pt x="270" y="245"/>
                    </a:lnTo>
                    <a:lnTo>
                      <a:pt x="270" y="268"/>
                    </a:lnTo>
                    <a:lnTo>
                      <a:pt x="290" y="279"/>
                    </a:lnTo>
                    <a:close/>
                    <a:moveTo>
                      <a:pt x="344" y="279"/>
                    </a:moveTo>
                    <a:lnTo>
                      <a:pt x="365" y="268"/>
                    </a:lnTo>
                    <a:lnTo>
                      <a:pt x="365" y="245"/>
                    </a:lnTo>
                    <a:lnTo>
                      <a:pt x="344" y="234"/>
                    </a:lnTo>
                    <a:lnTo>
                      <a:pt x="324" y="245"/>
                    </a:lnTo>
                    <a:lnTo>
                      <a:pt x="324" y="268"/>
                    </a:lnTo>
                    <a:lnTo>
                      <a:pt x="344" y="279"/>
                    </a:lnTo>
                    <a:close/>
                    <a:moveTo>
                      <a:pt x="48" y="234"/>
                    </a:moveTo>
                    <a:lnTo>
                      <a:pt x="68" y="222"/>
                    </a:lnTo>
                    <a:lnTo>
                      <a:pt x="68" y="198"/>
                    </a:lnTo>
                    <a:lnTo>
                      <a:pt x="48" y="187"/>
                    </a:lnTo>
                    <a:lnTo>
                      <a:pt x="27" y="198"/>
                    </a:lnTo>
                    <a:lnTo>
                      <a:pt x="27" y="222"/>
                    </a:lnTo>
                    <a:lnTo>
                      <a:pt x="48" y="234"/>
                    </a:lnTo>
                    <a:close/>
                    <a:moveTo>
                      <a:pt x="99" y="234"/>
                    </a:moveTo>
                    <a:lnTo>
                      <a:pt x="120" y="222"/>
                    </a:lnTo>
                    <a:lnTo>
                      <a:pt x="120" y="198"/>
                    </a:lnTo>
                    <a:lnTo>
                      <a:pt x="99" y="187"/>
                    </a:lnTo>
                    <a:lnTo>
                      <a:pt x="82" y="198"/>
                    </a:lnTo>
                    <a:lnTo>
                      <a:pt x="82" y="222"/>
                    </a:lnTo>
                    <a:lnTo>
                      <a:pt x="99" y="234"/>
                    </a:lnTo>
                    <a:close/>
                    <a:moveTo>
                      <a:pt x="155" y="234"/>
                    </a:moveTo>
                    <a:lnTo>
                      <a:pt x="175" y="222"/>
                    </a:lnTo>
                    <a:lnTo>
                      <a:pt x="175" y="198"/>
                    </a:lnTo>
                    <a:lnTo>
                      <a:pt x="155" y="187"/>
                    </a:lnTo>
                    <a:lnTo>
                      <a:pt x="133" y="198"/>
                    </a:lnTo>
                    <a:lnTo>
                      <a:pt x="133" y="222"/>
                    </a:lnTo>
                    <a:lnTo>
                      <a:pt x="155" y="234"/>
                    </a:lnTo>
                    <a:close/>
                    <a:moveTo>
                      <a:pt x="208" y="234"/>
                    </a:moveTo>
                    <a:lnTo>
                      <a:pt x="229" y="222"/>
                    </a:lnTo>
                    <a:lnTo>
                      <a:pt x="229" y="198"/>
                    </a:lnTo>
                    <a:lnTo>
                      <a:pt x="208" y="187"/>
                    </a:lnTo>
                    <a:lnTo>
                      <a:pt x="188" y="198"/>
                    </a:lnTo>
                    <a:lnTo>
                      <a:pt x="188" y="222"/>
                    </a:lnTo>
                    <a:lnTo>
                      <a:pt x="208" y="234"/>
                    </a:lnTo>
                    <a:close/>
                    <a:moveTo>
                      <a:pt x="262" y="234"/>
                    </a:moveTo>
                    <a:lnTo>
                      <a:pt x="282" y="222"/>
                    </a:lnTo>
                    <a:lnTo>
                      <a:pt x="282" y="198"/>
                    </a:lnTo>
                    <a:lnTo>
                      <a:pt x="262" y="187"/>
                    </a:lnTo>
                    <a:lnTo>
                      <a:pt x="242" y="198"/>
                    </a:lnTo>
                    <a:lnTo>
                      <a:pt x="242" y="222"/>
                    </a:lnTo>
                    <a:lnTo>
                      <a:pt x="262" y="234"/>
                    </a:lnTo>
                    <a:close/>
                    <a:moveTo>
                      <a:pt x="317" y="234"/>
                    </a:moveTo>
                    <a:lnTo>
                      <a:pt x="338" y="222"/>
                    </a:lnTo>
                    <a:lnTo>
                      <a:pt x="338" y="198"/>
                    </a:lnTo>
                    <a:lnTo>
                      <a:pt x="317" y="187"/>
                    </a:lnTo>
                    <a:lnTo>
                      <a:pt x="296" y="198"/>
                    </a:lnTo>
                    <a:lnTo>
                      <a:pt x="296" y="222"/>
                    </a:lnTo>
                    <a:lnTo>
                      <a:pt x="317" y="234"/>
                    </a:lnTo>
                    <a:close/>
                    <a:moveTo>
                      <a:pt x="399" y="279"/>
                    </a:moveTo>
                    <a:lnTo>
                      <a:pt x="419" y="268"/>
                    </a:lnTo>
                    <a:lnTo>
                      <a:pt x="419" y="245"/>
                    </a:lnTo>
                    <a:lnTo>
                      <a:pt x="399" y="234"/>
                    </a:lnTo>
                    <a:lnTo>
                      <a:pt x="378" y="245"/>
                    </a:lnTo>
                    <a:lnTo>
                      <a:pt x="378" y="268"/>
                    </a:lnTo>
                    <a:lnTo>
                      <a:pt x="399" y="279"/>
                    </a:lnTo>
                    <a:close/>
                    <a:moveTo>
                      <a:pt x="371" y="140"/>
                    </a:moveTo>
                    <a:lnTo>
                      <a:pt x="391" y="128"/>
                    </a:lnTo>
                    <a:lnTo>
                      <a:pt x="391" y="105"/>
                    </a:lnTo>
                    <a:lnTo>
                      <a:pt x="371" y="94"/>
                    </a:lnTo>
                    <a:lnTo>
                      <a:pt x="351" y="105"/>
                    </a:lnTo>
                    <a:lnTo>
                      <a:pt x="351" y="128"/>
                    </a:lnTo>
                    <a:lnTo>
                      <a:pt x="371" y="140"/>
                    </a:lnTo>
                    <a:close/>
                    <a:moveTo>
                      <a:pt x="425" y="140"/>
                    </a:moveTo>
                    <a:lnTo>
                      <a:pt x="447" y="128"/>
                    </a:lnTo>
                    <a:lnTo>
                      <a:pt x="447" y="105"/>
                    </a:lnTo>
                    <a:lnTo>
                      <a:pt x="425" y="94"/>
                    </a:lnTo>
                    <a:lnTo>
                      <a:pt x="405" y="105"/>
                    </a:lnTo>
                    <a:lnTo>
                      <a:pt x="405" y="128"/>
                    </a:lnTo>
                    <a:lnTo>
                      <a:pt x="425" y="140"/>
                    </a:lnTo>
                    <a:close/>
                    <a:moveTo>
                      <a:pt x="21" y="187"/>
                    </a:moveTo>
                    <a:lnTo>
                      <a:pt x="41" y="174"/>
                    </a:lnTo>
                    <a:lnTo>
                      <a:pt x="41" y="152"/>
                    </a:lnTo>
                    <a:lnTo>
                      <a:pt x="21" y="14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21" y="187"/>
                    </a:lnTo>
                    <a:close/>
                    <a:moveTo>
                      <a:pt x="74" y="187"/>
                    </a:moveTo>
                    <a:lnTo>
                      <a:pt x="93" y="174"/>
                    </a:lnTo>
                    <a:lnTo>
                      <a:pt x="93" y="152"/>
                    </a:lnTo>
                    <a:lnTo>
                      <a:pt x="74" y="140"/>
                    </a:lnTo>
                    <a:lnTo>
                      <a:pt x="54" y="152"/>
                    </a:lnTo>
                    <a:lnTo>
                      <a:pt x="54" y="174"/>
                    </a:lnTo>
                    <a:lnTo>
                      <a:pt x="74" y="187"/>
                    </a:lnTo>
                    <a:close/>
                    <a:moveTo>
                      <a:pt x="127" y="187"/>
                    </a:moveTo>
                    <a:lnTo>
                      <a:pt x="147" y="174"/>
                    </a:lnTo>
                    <a:lnTo>
                      <a:pt x="147" y="152"/>
                    </a:lnTo>
                    <a:lnTo>
                      <a:pt x="127" y="140"/>
                    </a:lnTo>
                    <a:lnTo>
                      <a:pt x="107" y="152"/>
                    </a:lnTo>
                    <a:lnTo>
                      <a:pt x="107" y="174"/>
                    </a:lnTo>
                    <a:lnTo>
                      <a:pt x="127" y="187"/>
                    </a:lnTo>
                    <a:close/>
                    <a:moveTo>
                      <a:pt x="181" y="187"/>
                    </a:moveTo>
                    <a:lnTo>
                      <a:pt x="201" y="174"/>
                    </a:lnTo>
                    <a:lnTo>
                      <a:pt x="201" y="152"/>
                    </a:lnTo>
                    <a:lnTo>
                      <a:pt x="181" y="140"/>
                    </a:lnTo>
                    <a:lnTo>
                      <a:pt x="161" y="152"/>
                    </a:lnTo>
                    <a:lnTo>
                      <a:pt x="161" y="174"/>
                    </a:lnTo>
                    <a:lnTo>
                      <a:pt x="181" y="187"/>
                    </a:lnTo>
                    <a:close/>
                    <a:moveTo>
                      <a:pt x="236" y="187"/>
                    </a:moveTo>
                    <a:lnTo>
                      <a:pt x="256" y="174"/>
                    </a:lnTo>
                    <a:lnTo>
                      <a:pt x="256" y="152"/>
                    </a:lnTo>
                    <a:lnTo>
                      <a:pt x="236" y="140"/>
                    </a:lnTo>
                    <a:lnTo>
                      <a:pt x="215" y="152"/>
                    </a:lnTo>
                    <a:lnTo>
                      <a:pt x="215" y="174"/>
                    </a:lnTo>
                    <a:lnTo>
                      <a:pt x="236" y="187"/>
                    </a:lnTo>
                    <a:close/>
                    <a:moveTo>
                      <a:pt x="290" y="187"/>
                    </a:moveTo>
                    <a:lnTo>
                      <a:pt x="310" y="174"/>
                    </a:lnTo>
                    <a:lnTo>
                      <a:pt x="310" y="152"/>
                    </a:lnTo>
                    <a:lnTo>
                      <a:pt x="290" y="140"/>
                    </a:lnTo>
                    <a:lnTo>
                      <a:pt x="270" y="152"/>
                    </a:lnTo>
                    <a:lnTo>
                      <a:pt x="270" y="174"/>
                    </a:lnTo>
                    <a:lnTo>
                      <a:pt x="290" y="187"/>
                    </a:lnTo>
                    <a:close/>
                    <a:moveTo>
                      <a:pt x="344" y="187"/>
                    </a:moveTo>
                    <a:lnTo>
                      <a:pt x="365" y="174"/>
                    </a:lnTo>
                    <a:lnTo>
                      <a:pt x="365" y="152"/>
                    </a:lnTo>
                    <a:lnTo>
                      <a:pt x="344" y="140"/>
                    </a:lnTo>
                    <a:lnTo>
                      <a:pt x="324" y="152"/>
                    </a:lnTo>
                    <a:lnTo>
                      <a:pt x="324" y="174"/>
                    </a:lnTo>
                    <a:lnTo>
                      <a:pt x="344" y="187"/>
                    </a:lnTo>
                    <a:close/>
                    <a:moveTo>
                      <a:pt x="262" y="47"/>
                    </a:moveTo>
                    <a:lnTo>
                      <a:pt x="282" y="34"/>
                    </a:lnTo>
                    <a:lnTo>
                      <a:pt x="282" y="11"/>
                    </a:lnTo>
                    <a:lnTo>
                      <a:pt x="262" y="0"/>
                    </a:lnTo>
                    <a:lnTo>
                      <a:pt x="242" y="11"/>
                    </a:lnTo>
                    <a:lnTo>
                      <a:pt x="242" y="34"/>
                    </a:lnTo>
                    <a:lnTo>
                      <a:pt x="262" y="47"/>
                    </a:lnTo>
                    <a:close/>
                    <a:moveTo>
                      <a:pt x="290" y="94"/>
                    </a:moveTo>
                    <a:lnTo>
                      <a:pt x="310" y="82"/>
                    </a:lnTo>
                    <a:lnTo>
                      <a:pt x="310" y="58"/>
                    </a:lnTo>
                    <a:lnTo>
                      <a:pt x="290" y="47"/>
                    </a:lnTo>
                    <a:lnTo>
                      <a:pt x="270" y="58"/>
                    </a:lnTo>
                    <a:lnTo>
                      <a:pt x="270" y="82"/>
                    </a:lnTo>
                    <a:lnTo>
                      <a:pt x="290" y="94"/>
                    </a:lnTo>
                    <a:close/>
                    <a:moveTo>
                      <a:pt x="48" y="140"/>
                    </a:moveTo>
                    <a:lnTo>
                      <a:pt x="68" y="128"/>
                    </a:lnTo>
                    <a:lnTo>
                      <a:pt x="68" y="105"/>
                    </a:lnTo>
                    <a:lnTo>
                      <a:pt x="48" y="94"/>
                    </a:lnTo>
                    <a:lnTo>
                      <a:pt x="27" y="105"/>
                    </a:lnTo>
                    <a:lnTo>
                      <a:pt x="27" y="128"/>
                    </a:lnTo>
                    <a:lnTo>
                      <a:pt x="48" y="140"/>
                    </a:lnTo>
                    <a:close/>
                    <a:moveTo>
                      <a:pt x="99" y="140"/>
                    </a:moveTo>
                    <a:lnTo>
                      <a:pt x="120" y="128"/>
                    </a:lnTo>
                    <a:lnTo>
                      <a:pt x="120" y="105"/>
                    </a:lnTo>
                    <a:lnTo>
                      <a:pt x="99" y="94"/>
                    </a:lnTo>
                    <a:lnTo>
                      <a:pt x="82" y="105"/>
                    </a:lnTo>
                    <a:lnTo>
                      <a:pt x="82" y="128"/>
                    </a:lnTo>
                    <a:lnTo>
                      <a:pt x="99" y="140"/>
                    </a:lnTo>
                    <a:close/>
                    <a:moveTo>
                      <a:pt x="155" y="140"/>
                    </a:moveTo>
                    <a:lnTo>
                      <a:pt x="175" y="128"/>
                    </a:lnTo>
                    <a:lnTo>
                      <a:pt x="175" y="105"/>
                    </a:lnTo>
                    <a:lnTo>
                      <a:pt x="155" y="94"/>
                    </a:lnTo>
                    <a:lnTo>
                      <a:pt x="133" y="105"/>
                    </a:lnTo>
                    <a:lnTo>
                      <a:pt x="133" y="128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29" y="128"/>
                    </a:lnTo>
                    <a:lnTo>
                      <a:pt x="229" y="105"/>
                    </a:lnTo>
                    <a:lnTo>
                      <a:pt x="208" y="94"/>
                    </a:lnTo>
                    <a:lnTo>
                      <a:pt x="188" y="105"/>
                    </a:lnTo>
                    <a:lnTo>
                      <a:pt x="188" y="128"/>
                    </a:lnTo>
                    <a:lnTo>
                      <a:pt x="208" y="140"/>
                    </a:lnTo>
                    <a:close/>
                    <a:moveTo>
                      <a:pt x="155" y="47"/>
                    </a:moveTo>
                    <a:lnTo>
                      <a:pt x="175" y="34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3" y="11"/>
                    </a:lnTo>
                    <a:lnTo>
                      <a:pt x="133" y="34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29" y="34"/>
                    </a:lnTo>
                    <a:lnTo>
                      <a:pt x="229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4"/>
                    </a:lnTo>
                    <a:lnTo>
                      <a:pt x="208" y="47"/>
                    </a:lnTo>
                    <a:close/>
                    <a:moveTo>
                      <a:pt x="21" y="94"/>
                    </a:moveTo>
                    <a:lnTo>
                      <a:pt x="41" y="82"/>
                    </a:lnTo>
                    <a:lnTo>
                      <a:pt x="41" y="58"/>
                    </a:lnTo>
                    <a:lnTo>
                      <a:pt x="21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1" y="94"/>
                    </a:lnTo>
                    <a:close/>
                    <a:moveTo>
                      <a:pt x="74" y="94"/>
                    </a:moveTo>
                    <a:lnTo>
                      <a:pt x="93" y="82"/>
                    </a:lnTo>
                    <a:lnTo>
                      <a:pt x="93" y="58"/>
                    </a:lnTo>
                    <a:lnTo>
                      <a:pt x="74" y="47"/>
                    </a:lnTo>
                    <a:lnTo>
                      <a:pt x="54" y="58"/>
                    </a:lnTo>
                    <a:lnTo>
                      <a:pt x="54" y="82"/>
                    </a:lnTo>
                    <a:lnTo>
                      <a:pt x="74" y="94"/>
                    </a:lnTo>
                    <a:close/>
                    <a:moveTo>
                      <a:pt x="127" y="94"/>
                    </a:moveTo>
                    <a:lnTo>
                      <a:pt x="147" y="82"/>
                    </a:lnTo>
                    <a:lnTo>
                      <a:pt x="147" y="58"/>
                    </a:lnTo>
                    <a:lnTo>
                      <a:pt x="127" y="47"/>
                    </a:lnTo>
                    <a:lnTo>
                      <a:pt x="107" y="58"/>
                    </a:lnTo>
                    <a:lnTo>
                      <a:pt x="107" y="82"/>
                    </a:lnTo>
                    <a:lnTo>
                      <a:pt x="127" y="94"/>
                    </a:lnTo>
                    <a:close/>
                    <a:moveTo>
                      <a:pt x="48" y="47"/>
                    </a:moveTo>
                    <a:lnTo>
                      <a:pt x="68" y="34"/>
                    </a:lnTo>
                    <a:lnTo>
                      <a:pt x="68" y="11"/>
                    </a:lnTo>
                    <a:lnTo>
                      <a:pt x="48" y="0"/>
                    </a:lnTo>
                    <a:lnTo>
                      <a:pt x="27" y="11"/>
                    </a:lnTo>
                    <a:lnTo>
                      <a:pt x="27" y="34"/>
                    </a:lnTo>
                    <a:lnTo>
                      <a:pt x="48" y="47"/>
                    </a:lnTo>
                    <a:close/>
                    <a:moveTo>
                      <a:pt x="99" y="47"/>
                    </a:moveTo>
                    <a:lnTo>
                      <a:pt x="120" y="34"/>
                    </a:lnTo>
                    <a:lnTo>
                      <a:pt x="120" y="11"/>
                    </a:lnTo>
                    <a:lnTo>
                      <a:pt x="99" y="0"/>
                    </a:lnTo>
                    <a:lnTo>
                      <a:pt x="82" y="11"/>
                    </a:lnTo>
                    <a:lnTo>
                      <a:pt x="82" y="34"/>
                    </a:lnTo>
                    <a:lnTo>
                      <a:pt x="99" y="47"/>
                    </a:lnTo>
                    <a:close/>
                    <a:moveTo>
                      <a:pt x="181" y="94"/>
                    </a:moveTo>
                    <a:lnTo>
                      <a:pt x="201" y="82"/>
                    </a:lnTo>
                    <a:lnTo>
                      <a:pt x="201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4"/>
                    </a:lnTo>
                    <a:close/>
                    <a:moveTo>
                      <a:pt x="236" y="94"/>
                    </a:moveTo>
                    <a:lnTo>
                      <a:pt x="256" y="82"/>
                    </a:lnTo>
                    <a:lnTo>
                      <a:pt x="256" y="58"/>
                    </a:lnTo>
                    <a:lnTo>
                      <a:pt x="236" y="47"/>
                    </a:lnTo>
                    <a:lnTo>
                      <a:pt x="215" y="58"/>
                    </a:lnTo>
                    <a:lnTo>
                      <a:pt x="215" y="82"/>
                    </a:lnTo>
                    <a:lnTo>
                      <a:pt x="236" y="94"/>
                    </a:lnTo>
                    <a:close/>
                    <a:moveTo>
                      <a:pt x="262" y="140"/>
                    </a:moveTo>
                    <a:lnTo>
                      <a:pt x="282" y="128"/>
                    </a:lnTo>
                    <a:lnTo>
                      <a:pt x="282" y="105"/>
                    </a:lnTo>
                    <a:lnTo>
                      <a:pt x="262" y="94"/>
                    </a:lnTo>
                    <a:lnTo>
                      <a:pt x="242" y="105"/>
                    </a:lnTo>
                    <a:lnTo>
                      <a:pt x="242" y="128"/>
                    </a:lnTo>
                    <a:lnTo>
                      <a:pt x="262" y="140"/>
                    </a:lnTo>
                    <a:close/>
                    <a:moveTo>
                      <a:pt x="317" y="140"/>
                    </a:moveTo>
                    <a:lnTo>
                      <a:pt x="338" y="128"/>
                    </a:lnTo>
                    <a:lnTo>
                      <a:pt x="338" y="105"/>
                    </a:lnTo>
                    <a:lnTo>
                      <a:pt x="317" y="94"/>
                    </a:lnTo>
                    <a:lnTo>
                      <a:pt x="296" y="105"/>
                    </a:lnTo>
                    <a:lnTo>
                      <a:pt x="296" y="128"/>
                    </a:lnTo>
                    <a:lnTo>
                      <a:pt x="317" y="140"/>
                    </a:lnTo>
                    <a:close/>
                    <a:moveTo>
                      <a:pt x="399" y="187"/>
                    </a:moveTo>
                    <a:lnTo>
                      <a:pt x="419" y="174"/>
                    </a:lnTo>
                    <a:lnTo>
                      <a:pt x="419" y="152"/>
                    </a:lnTo>
                    <a:lnTo>
                      <a:pt x="399" y="140"/>
                    </a:lnTo>
                    <a:lnTo>
                      <a:pt x="378" y="152"/>
                    </a:lnTo>
                    <a:lnTo>
                      <a:pt x="378" y="174"/>
                    </a:lnTo>
                    <a:lnTo>
                      <a:pt x="399" y="187"/>
                    </a:lnTo>
                    <a:close/>
                    <a:moveTo>
                      <a:pt x="480" y="234"/>
                    </a:moveTo>
                    <a:lnTo>
                      <a:pt x="498" y="222"/>
                    </a:lnTo>
                    <a:lnTo>
                      <a:pt x="498" y="198"/>
                    </a:lnTo>
                    <a:lnTo>
                      <a:pt x="480" y="187"/>
                    </a:lnTo>
                    <a:lnTo>
                      <a:pt x="459" y="198"/>
                    </a:lnTo>
                    <a:lnTo>
                      <a:pt x="459" y="222"/>
                    </a:lnTo>
                    <a:lnTo>
                      <a:pt x="480" y="234"/>
                    </a:lnTo>
                    <a:close/>
                    <a:moveTo>
                      <a:pt x="505" y="279"/>
                    </a:moveTo>
                    <a:lnTo>
                      <a:pt x="525" y="268"/>
                    </a:lnTo>
                    <a:lnTo>
                      <a:pt x="525" y="245"/>
                    </a:lnTo>
                    <a:lnTo>
                      <a:pt x="505" y="234"/>
                    </a:lnTo>
                    <a:lnTo>
                      <a:pt x="484" y="245"/>
                    </a:lnTo>
                    <a:lnTo>
                      <a:pt x="484" y="268"/>
                    </a:lnTo>
                    <a:lnTo>
                      <a:pt x="505" y="279"/>
                    </a:lnTo>
                    <a:close/>
                    <a:moveTo>
                      <a:pt x="532" y="421"/>
                    </a:moveTo>
                    <a:lnTo>
                      <a:pt x="552" y="409"/>
                    </a:lnTo>
                    <a:lnTo>
                      <a:pt x="552" y="384"/>
                    </a:lnTo>
                    <a:lnTo>
                      <a:pt x="532" y="373"/>
                    </a:lnTo>
                    <a:lnTo>
                      <a:pt x="512" y="384"/>
                    </a:lnTo>
                    <a:lnTo>
                      <a:pt x="512" y="409"/>
                    </a:lnTo>
                    <a:lnTo>
                      <a:pt x="532" y="421"/>
                    </a:lnTo>
                    <a:close/>
                    <a:moveTo>
                      <a:pt x="532" y="327"/>
                    </a:moveTo>
                    <a:lnTo>
                      <a:pt x="552" y="316"/>
                    </a:lnTo>
                    <a:lnTo>
                      <a:pt x="552" y="292"/>
                    </a:lnTo>
                    <a:lnTo>
                      <a:pt x="532" y="280"/>
                    </a:lnTo>
                    <a:lnTo>
                      <a:pt x="512" y="292"/>
                    </a:lnTo>
                    <a:lnTo>
                      <a:pt x="512" y="316"/>
                    </a:lnTo>
                    <a:lnTo>
                      <a:pt x="532" y="327"/>
                    </a:lnTo>
                    <a:close/>
                    <a:moveTo>
                      <a:pt x="559" y="373"/>
                    </a:moveTo>
                    <a:lnTo>
                      <a:pt x="579" y="361"/>
                    </a:lnTo>
                    <a:lnTo>
                      <a:pt x="579" y="338"/>
                    </a:lnTo>
                    <a:lnTo>
                      <a:pt x="559" y="327"/>
                    </a:lnTo>
                    <a:lnTo>
                      <a:pt x="539" y="338"/>
                    </a:lnTo>
                    <a:lnTo>
                      <a:pt x="539" y="361"/>
                    </a:lnTo>
                    <a:lnTo>
                      <a:pt x="559" y="373"/>
                    </a:lnTo>
                    <a:close/>
                    <a:moveTo>
                      <a:pt x="587" y="421"/>
                    </a:moveTo>
                    <a:lnTo>
                      <a:pt x="607" y="409"/>
                    </a:lnTo>
                    <a:lnTo>
                      <a:pt x="607" y="384"/>
                    </a:lnTo>
                    <a:lnTo>
                      <a:pt x="587" y="373"/>
                    </a:lnTo>
                    <a:lnTo>
                      <a:pt x="566" y="384"/>
                    </a:lnTo>
                    <a:lnTo>
                      <a:pt x="566" y="409"/>
                    </a:lnTo>
                    <a:lnTo>
                      <a:pt x="587" y="421"/>
                    </a:lnTo>
                    <a:close/>
                    <a:moveTo>
                      <a:pt x="829" y="466"/>
                    </a:moveTo>
                    <a:lnTo>
                      <a:pt x="849" y="455"/>
                    </a:lnTo>
                    <a:lnTo>
                      <a:pt x="849" y="432"/>
                    </a:lnTo>
                    <a:lnTo>
                      <a:pt x="829" y="421"/>
                    </a:lnTo>
                    <a:lnTo>
                      <a:pt x="809" y="432"/>
                    </a:lnTo>
                    <a:lnTo>
                      <a:pt x="809" y="455"/>
                    </a:lnTo>
                    <a:lnTo>
                      <a:pt x="829" y="466"/>
                    </a:lnTo>
                    <a:close/>
                    <a:moveTo>
                      <a:pt x="883" y="466"/>
                    </a:moveTo>
                    <a:lnTo>
                      <a:pt x="904" y="455"/>
                    </a:lnTo>
                    <a:lnTo>
                      <a:pt x="904" y="432"/>
                    </a:lnTo>
                    <a:lnTo>
                      <a:pt x="883" y="421"/>
                    </a:lnTo>
                    <a:lnTo>
                      <a:pt x="863" y="432"/>
                    </a:lnTo>
                    <a:lnTo>
                      <a:pt x="863" y="455"/>
                    </a:lnTo>
                    <a:lnTo>
                      <a:pt x="883" y="466"/>
                    </a:lnTo>
                    <a:close/>
                    <a:moveTo>
                      <a:pt x="938" y="466"/>
                    </a:moveTo>
                    <a:lnTo>
                      <a:pt x="958" y="455"/>
                    </a:lnTo>
                    <a:lnTo>
                      <a:pt x="958" y="432"/>
                    </a:lnTo>
                    <a:lnTo>
                      <a:pt x="938" y="421"/>
                    </a:lnTo>
                    <a:lnTo>
                      <a:pt x="916" y="432"/>
                    </a:lnTo>
                    <a:lnTo>
                      <a:pt x="916" y="455"/>
                    </a:lnTo>
                    <a:lnTo>
                      <a:pt x="938" y="466"/>
                    </a:lnTo>
                    <a:close/>
                    <a:moveTo>
                      <a:pt x="992" y="559"/>
                    </a:moveTo>
                    <a:lnTo>
                      <a:pt x="1012" y="548"/>
                    </a:lnTo>
                    <a:lnTo>
                      <a:pt x="1012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48"/>
                    </a:lnTo>
                    <a:lnTo>
                      <a:pt x="992" y="559"/>
                    </a:lnTo>
                    <a:close/>
                    <a:moveTo>
                      <a:pt x="1045" y="559"/>
                    </a:moveTo>
                    <a:lnTo>
                      <a:pt x="1064" y="548"/>
                    </a:lnTo>
                    <a:lnTo>
                      <a:pt x="1064" y="525"/>
                    </a:lnTo>
                    <a:lnTo>
                      <a:pt x="1045" y="514"/>
                    </a:lnTo>
                    <a:lnTo>
                      <a:pt x="1025" y="525"/>
                    </a:lnTo>
                    <a:lnTo>
                      <a:pt x="1025" y="548"/>
                    </a:lnTo>
                    <a:lnTo>
                      <a:pt x="1045" y="559"/>
                    </a:lnTo>
                    <a:close/>
                    <a:moveTo>
                      <a:pt x="801" y="605"/>
                    </a:moveTo>
                    <a:lnTo>
                      <a:pt x="821" y="594"/>
                    </a:lnTo>
                    <a:lnTo>
                      <a:pt x="821" y="571"/>
                    </a:lnTo>
                    <a:lnTo>
                      <a:pt x="801" y="559"/>
                    </a:lnTo>
                    <a:lnTo>
                      <a:pt x="781" y="571"/>
                    </a:lnTo>
                    <a:lnTo>
                      <a:pt x="781" y="594"/>
                    </a:lnTo>
                    <a:lnTo>
                      <a:pt x="801" y="605"/>
                    </a:lnTo>
                    <a:close/>
                    <a:moveTo>
                      <a:pt x="856" y="605"/>
                    </a:moveTo>
                    <a:lnTo>
                      <a:pt x="876" y="594"/>
                    </a:lnTo>
                    <a:lnTo>
                      <a:pt x="876" y="571"/>
                    </a:lnTo>
                    <a:lnTo>
                      <a:pt x="856" y="559"/>
                    </a:lnTo>
                    <a:lnTo>
                      <a:pt x="835" y="571"/>
                    </a:lnTo>
                    <a:lnTo>
                      <a:pt x="835" y="594"/>
                    </a:lnTo>
                    <a:lnTo>
                      <a:pt x="856" y="605"/>
                    </a:lnTo>
                    <a:close/>
                    <a:moveTo>
                      <a:pt x="910" y="605"/>
                    </a:moveTo>
                    <a:lnTo>
                      <a:pt x="930" y="594"/>
                    </a:lnTo>
                    <a:lnTo>
                      <a:pt x="930" y="571"/>
                    </a:lnTo>
                    <a:lnTo>
                      <a:pt x="910" y="559"/>
                    </a:lnTo>
                    <a:lnTo>
                      <a:pt x="890" y="571"/>
                    </a:lnTo>
                    <a:lnTo>
                      <a:pt x="890" y="594"/>
                    </a:lnTo>
                    <a:lnTo>
                      <a:pt x="910" y="605"/>
                    </a:lnTo>
                    <a:close/>
                    <a:moveTo>
                      <a:pt x="964" y="605"/>
                    </a:moveTo>
                    <a:lnTo>
                      <a:pt x="985" y="594"/>
                    </a:lnTo>
                    <a:lnTo>
                      <a:pt x="985" y="571"/>
                    </a:lnTo>
                    <a:lnTo>
                      <a:pt x="964" y="559"/>
                    </a:lnTo>
                    <a:lnTo>
                      <a:pt x="944" y="571"/>
                    </a:lnTo>
                    <a:lnTo>
                      <a:pt x="944" y="594"/>
                    </a:lnTo>
                    <a:lnTo>
                      <a:pt x="964" y="605"/>
                    </a:lnTo>
                    <a:close/>
                    <a:moveTo>
                      <a:pt x="1019" y="605"/>
                    </a:moveTo>
                    <a:lnTo>
                      <a:pt x="1039" y="594"/>
                    </a:lnTo>
                    <a:lnTo>
                      <a:pt x="1039" y="571"/>
                    </a:lnTo>
                    <a:lnTo>
                      <a:pt x="1019" y="559"/>
                    </a:lnTo>
                    <a:lnTo>
                      <a:pt x="998" y="571"/>
                    </a:lnTo>
                    <a:lnTo>
                      <a:pt x="998" y="594"/>
                    </a:lnTo>
                    <a:lnTo>
                      <a:pt x="1019" y="605"/>
                    </a:lnTo>
                    <a:close/>
                    <a:moveTo>
                      <a:pt x="1070" y="605"/>
                    </a:moveTo>
                    <a:lnTo>
                      <a:pt x="1091" y="594"/>
                    </a:lnTo>
                    <a:lnTo>
                      <a:pt x="1091" y="571"/>
                    </a:lnTo>
                    <a:lnTo>
                      <a:pt x="1070" y="559"/>
                    </a:lnTo>
                    <a:lnTo>
                      <a:pt x="1053" y="571"/>
                    </a:lnTo>
                    <a:lnTo>
                      <a:pt x="1053" y="594"/>
                    </a:lnTo>
                    <a:lnTo>
                      <a:pt x="1070" y="605"/>
                    </a:lnTo>
                    <a:close/>
                    <a:moveTo>
                      <a:pt x="505" y="653"/>
                    </a:moveTo>
                    <a:lnTo>
                      <a:pt x="525" y="641"/>
                    </a:lnTo>
                    <a:lnTo>
                      <a:pt x="525" y="619"/>
                    </a:lnTo>
                    <a:lnTo>
                      <a:pt x="505" y="605"/>
                    </a:lnTo>
                    <a:lnTo>
                      <a:pt x="484" y="619"/>
                    </a:lnTo>
                    <a:lnTo>
                      <a:pt x="484" y="641"/>
                    </a:lnTo>
                    <a:lnTo>
                      <a:pt x="505" y="653"/>
                    </a:lnTo>
                    <a:close/>
                    <a:moveTo>
                      <a:pt x="559" y="653"/>
                    </a:moveTo>
                    <a:lnTo>
                      <a:pt x="579" y="641"/>
                    </a:lnTo>
                    <a:lnTo>
                      <a:pt x="579" y="619"/>
                    </a:lnTo>
                    <a:lnTo>
                      <a:pt x="559" y="605"/>
                    </a:lnTo>
                    <a:lnTo>
                      <a:pt x="539" y="619"/>
                    </a:lnTo>
                    <a:lnTo>
                      <a:pt x="539" y="641"/>
                    </a:lnTo>
                    <a:lnTo>
                      <a:pt x="559" y="653"/>
                    </a:lnTo>
                    <a:close/>
                    <a:moveTo>
                      <a:pt x="613" y="653"/>
                    </a:moveTo>
                    <a:lnTo>
                      <a:pt x="634" y="641"/>
                    </a:lnTo>
                    <a:lnTo>
                      <a:pt x="634" y="619"/>
                    </a:lnTo>
                    <a:lnTo>
                      <a:pt x="613" y="605"/>
                    </a:lnTo>
                    <a:lnTo>
                      <a:pt x="593" y="619"/>
                    </a:lnTo>
                    <a:lnTo>
                      <a:pt x="593" y="641"/>
                    </a:lnTo>
                    <a:lnTo>
                      <a:pt x="613" y="653"/>
                    </a:lnTo>
                    <a:close/>
                    <a:moveTo>
                      <a:pt x="666" y="653"/>
                    </a:moveTo>
                    <a:lnTo>
                      <a:pt x="686" y="641"/>
                    </a:lnTo>
                    <a:lnTo>
                      <a:pt x="686" y="619"/>
                    </a:lnTo>
                    <a:lnTo>
                      <a:pt x="666" y="605"/>
                    </a:lnTo>
                    <a:lnTo>
                      <a:pt x="647" y="619"/>
                    </a:lnTo>
                    <a:lnTo>
                      <a:pt x="647" y="641"/>
                    </a:lnTo>
                    <a:lnTo>
                      <a:pt x="666" y="653"/>
                    </a:lnTo>
                    <a:close/>
                    <a:moveTo>
                      <a:pt x="720" y="653"/>
                    </a:moveTo>
                    <a:lnTo>
                      <a:pt x="740" y="641"/>
                    </a:lnTo>
                    <a:lnTo>
                      <a:pt x="740" y="619"/>
                    </a:lnTo>
                    <a:lnTo>
                      <a:pt x="720" y="605"/>
                    </a:lnTo>
                    <a:lnTo>
                      <a:pt x="700" y="619"/>
                    </a:lnTo>
                    <a:lnTo>
                      <a:pt x="700" y="641"/>
                    </a:lnTo>
                    <a:lnTo>
                      <a:pt x="720" y="653"/>
                    </a:lnTo>
                    <a:close/>
                    <a:moveTo>
                      <a:pt x="21" y="653"/>
                    </a:moveTo>
                    <a:lnTo>
                      <a:pt x="41" y="641"/>
                    </a:lnTo>
                    <a:lnTo>
                      <a:pt x="41" y="619"/>
                    </a:lnTo>
                    <a:lnTo>
                      <a:pt x="21" y="605"/>
                    </a:lnTo>
                    <a:lnTo>
                      <a:pt x="0" y="619"/>
                    </a:lnTo>
                    <a:lnTo>
                      <a:pt x="0" y="641"/>
                    </a:lnTo>
                    <a:lnTo>
                      <a:pt x="21" y="653"/>
                    </a:lnTo>
                    <a:close/>
                    <a:moveTo>
                      <a:pt x="74" y="653"/>
                    </a:moveTo>
                    <a:lnTo>
                      <a:pt x="93" y="641"/>
                    </a:lnTo>
                    <a:lnTo>
                      <a:pt x="93" y="619"/>
                    </a:lnTo>
                    <a:lnTo>
                      <a:pt x="74" y="605"/>
                    </a:lnTo>
                    <a:lnTo>
                      <a:pt x="54" y="619"/>
                    </a:lnTo>
                    <a:lnTo>
                      <a:pt x="54" y="641"/>
                    </a:lnTo>
                    <a:lnTo>
                      <a:pt x="74" y="653"/>
                    </a:lnTo>
                    <a:close/>
                    <a:moveTo>
                      <a:pt x="127" y="653"/>
                    </a:moveTo>
                    <a:lnTo>
                      <a:pt x="147" y="641"/>
                    </a:lnTo>
                    <a:lnTo>
                      <a:pt x="147" y="619"/>
                    </a:lnTo>
                    <a:lnTo>
                      <a:pt x="127" y="605"/>
                    </a:lnTo>
                    <a:lnTo>
                      <a:pt x="107" y="619"/>
                    </a:lnTo>
                    <a:lnTo>
                      <a:pt x="107" y="641"/>
                    </a:lnTo>
                    <a:lnTo>
                      <a:pt x="127" y="653"/>
                    </a:lnTo>
                    <a:close/>
                    <a:moveTo>
                      <a:pt x="181" y="653"/>
                    </a:moveTo>
                    <a:lnTo>
                      <a:pt x="201" y="641"/>
                    </a:lnTo>
                    <a:lnTo>
                      <a:pt x="201" y="619"/>
                    </a:lnTo>
                    <a:lnTo>
                      <a:pt x="181" y="605"/>
                    </a:lnTo>
                    <a:lnTo>
                      <a:pt x="161" y="619"/>
                    </a:lnTo>
                    <a:lnTo>
                      <a:pt x="161" y="641"/>
                    </a:lnTo>
                    <a:lnTo>
                      <a:pt x="181" y="653"/>
                    </a:lnTo>
                    <a:close/>
                    <a:moveTo>
                      <a:pt x="236" y="653"/>
                    </a:moveTo>
                    <a:lnTo>
                      <a:pt x="256" y="641"/>
                    </a:lnTo>
                    <a:lnTo>
                      <a:pt x="256" y="619"/>
                    </a:lnTo>
                    <a:lnTo>
                      <a:pt x="236" y="605"/>
                    </a:lnTo>
                    <a:lnTo>
                      <a:pt x="215" y="619"/>
                    </a:lnTo>
                    <a:lnTo>
                      <a:pt x="215" y="641"/>
                    </a:lnTo>
                    <a:lnTo>
                      <a:pt x="236" y="653"/>
                    </a:lnTo>
                    <a:close/>
                    <a:moveTo>
                      <a:pt x="290" y="653"/>
                    </a:moveTo>
                    <a:lnTo>
                      <a:pt x="310" y="641"/>
                    </a:lnTo>
                    <a:lnTo>
                      <a:pt x="310" y="619"/>
                    </a:lnTo>
                    <a:lnTo>
                      <a:pt x="290" y="605"/>
                    </a:lnTo>
                    <a:lnTo>
                      <a:pt x="270" y="619"/>
                    </a:lnTo>
                    <a:lnTo>
                      <a:pt x="270" y="641"/>
                    </a:lnTo>
                    <a:lnTo>
                      <a:pt x="290" y="653"/>
                    </a:lnTo>
                    <a:close/>
                    <a:moveTo>
                      <a:pt x="480" y="605"/>
                    </a:moveTo>
                    <a:lnTo>
                      <a:pt x="498" y="594"/>
                    </a:lnTo>
                    <a:lnTo>
                      <a:pt x="498" y="571"/>
                    </a:lnTo>
                    <a:lnTo>
                      <a:pt x="480" y="559"/>
                    </a:lnTo>
                    <a:lnTo>
                      <a:pt x="459" y="571"/>
                    </a:lnTo>
                    <a:lnTo>
                      <a:pt x="459" y="594"/>
                    </a:lnTo>
                    <a:lnTo>
                      <a:pt x="480" y="605"/>
                    </a:lnTo>
                    <a:close/>
                    <a:moveTo>
                      <a:pt x="532" y="605"/>
                    </a:moveTo>
                    <a:lnTo>
                      <a:pt x="552" y="594"/>
                    </a:lnTo>
                    <a:lnTo>
                      <a:pt x="552" y="571"/>
                    </a:lnTo>
                    <a:lnTo>
                      <a:pt x="532" y="559"/>
                    </a:lnTo>
                    <a:lnTo>
                      <a:pt x="512" y="571"/>
                    </a:lnTo>
                    <a:lnTo>
                      <a:pt x="512" y="594"/>
                    </a:lnTo>
                    <a:lnTo>
                      <a:pt x="532" y="605"/>
                    </a:lnTo>
                    <a:close/>
                    <a:moveTo>
                      <a:pt x="587" y="605"/>
                    </a:moveTo>
                    <a:lnTo>
                      <a:pt x="607" y="594"/>
                    </a:lnTo>
                    <a:lnTo>
                      <a:pt x="607" y="571"/>
                    </a:lnTo>
                    <a:lnTo>
                      <a:pt x="587" y="559"/>
                    </a:lnTo>
                    <a:lnTo>
                      <a:pt x="566" y="571"/>
                    </a:lnTo>
                    <a:lnTo>
                      <a:pt x="566" y="594"/>
                    </a:lnTo>
                    <a:lnTo>
                      <a:pt x="587" y="605"/>
                    </a:lnTo>
                    <a:close/>
                    <a:moveTo>
                      <a:pt x="641" y="605"/>
                    </a:moveTo>
                    <a:lnTo>
                      <a:pt x="658" y="594"/>
                    </a:lnTo>
                    <a:lnTo>
                      <a:pt x="658" y="571"/>
                    </a:lnTo>
                    <a:lnTo>
                      <a:pt x="641" y="559"/>
                    </a:lnTo>
                    <a:lnTo>
                      <a:pt x="621" y="571"/>
                    </a:lnTo>
                    <a:lnTo>
                      <a:pt x="621" y="594"/>
                    </a:lnTo>
                    <a:lnTo>
                      <a:pt x="641" y="605"/>
                    </a:lnTo>
                    <a:close/>
                    <a:moveTo>
                      <a:pt x="48" y="605"/>
                    </a:moveTo>
                    <a:lnTo>
                      <a:pt x="68" y="594"/>
                    </a:lnTo>
                    <a:lnTo>
                      <a:pt x="68" y="571"/>
                    </a:lnTo>
                    <a:lnTo>
                      <a:pt x="48" y="559"/>
                    </a:lnTo>
                    <a:lnTo>
                      <a:pt x="27" y="571"/>
                    </a:lnTo>
                    <a:lnTo>
                      <a:pt x="27" y="594"/>
                    </a:lnTo>
                    <a:lnTo>
                      <a:pt x="48" y="605"/>
                    </a:lnTo>
                    <a:close/>
                    <a:moveTo>
                      <a:pt x="99" y="605"/>
                    </a:moveTo>
                    <a:lnTo>
                      <a:pt x="120" y="594"/>
                    </a:lnTo>
                    <a:lnTo>
                      <a:pt x="120" y="571"/>
                    </a:lnTo>
                    <a:lnTo>
                      <a:pt x="99" y="559"/>
                    </a:lnTo>
                    <a:lnTo>
                      <a:pt x="82" y="571"/>
                    </a:lnTo>
                    <a:lnTo>
                      <a:pt x="82" y="594"/>
                    </a:lnTo>
                    <a:lnTo>
                      <a:pt x="99" y="605"/>
                    </a:lnTo>
                    <a:close/>
                    <a:moveTo>
                      <a:pt x="155" y="605"/>
                    </a:moveTo>
                    <a:lnTo>
                      <a:pt x="175" y="594"/>
                    </a:lnTo>
                    <a:lnTo>
                      <a:pt x="175" y="571"/>
                    </a:lnTo>
                    <a:lnTo>
                      <a:pt x="155" y="559"/>
                    </a:lnTo>
                    <a:lnTo>
                      <a:pt x="133" y="571"/>
                    </a:lnTo>
                    <a:lnTo>
                      <a:pt x="133" y="594"/>
                    </a:lnTo>
                    <a:lnTo>
                      <a:pt x="155" y="605"/>
                    </a:lnTo>
                    <a:close/>
                    <a:moveTo>
                      <a:pt x="208" y="605"/>
                    </a:moveTo>
                    <a:lnTo>
                      <a:pt x="229" y="594"/>
                    </a:lnTo>
                    <a:lnTo>
                      <a:pt x="229" y="571"/>
                    </a:lnTo>
                    <a:lnTo>
                      <a:pt x="208" y="559"/>
                    </a:lnTo>
                    <a:lnTo>
                      <a:pt x="188" y="571"/>
                    </a:lnTo>
                    <a:lnTo>
                      <a:pt x="188" y="594"/>
                    </a:lnTo>
                    <a:lnTo>
                      <a:pt x="208" y="605"/>
                    </a:lnTo>
                    <a:close/>
                    <a:moveTo>
                      <a:pt x="262" y="605"/>
                    </a:moveTo>
                    <a:lnTo>
                      <a:pt x="282" y="594"/>
                    </a:lnTo>
                    <a:lnTo>
                      <a:pt x="282" y="571"/>
                    </a:lnTo>
                    <a:lnTo>
                      <a:pt x="262" y="559"/>
                    </a:lnTo>
                    <a:lnTo>
                      <a:pt x="242" y="571"/>
                    </a:lnTo>
                    <a:lnTo>
                      <a:pt x="242" y="594"/>
                    </a:lnTo>
                    <a:lnTo>
                      <a:pt x="262" y="605"/>
                    </a:lnTo>
                    <a:close/>
                    <a:moveTo>
                      <a:pt x="692" y="605"/>
                    </a:moveTo>
                    <a:lnTo>
                      <a:pt x="713" y="594"/>
                    </a:lnTo>
                    <a:lnTo>
                      <a:pt x="713" y="571"/>
                    </a:lnTo>
                    <a:lnTo>
                      <a:pt x="692" y="559"/>
                    </a:lnTo>
                    <a:lnTo>
                      <a:pt x="675" y="571"/>
                    </a:lnTo>
                    <a:lnTo>
                      <a:pt x="675" y="594"/>
                    </a:lnTo>
                    <a:lnTo>
                      <a:pt x="692" y="605"/>
                    </a:lnTo>
                    <a:close/>
                    <a:moveTo>
                      <a:pt x="747" y="605"/>
                    </a:moveTo>
                    <a:lnTo>
                      <a:pt x="767" y="594"/>
                    </a:lnTo>
                    <a:lnTo>
                      <a:pt x="767" y="571"/>
                    </a:lnTo>
                    <a:lnTo>
                      <a:pt x="747" y="559"/>
                    </a:lnTo>
                    <a:lnTo>
                      <a:pt x="727" y="571"/>
                    </a:lnTo>
                    <a:lnTo>
                      <a:pt x="727" y="594"/>
                    </a:lnTo>
                    <a:lnTo>
                      <a:pt x="747" y="605"/>
                    </a:lnTo>
                    <a:close/>
                    <a:moveTo>
                      <a:pt x="775" y="653"/>
                    </a:moveTo>
                    <a:lnTo>
                      <a:pt x="795" y="641"/>
                    </a:lnTo>
                    <a:lnTo>
                      <a:pt x="795" y="619"/>
                    </a:lnTo>
                    <a:lnTo>
                      <a:pt x="775" y="605"/>
                    </a:lnTo>
                    <a:lnTo>
                      <a:pt x="754" y="619"/>
                    </a:lnTo>
                    <a:lnTo>
                      <a:pt x="754" y="641"/>
                    </a:lnTo>
                    <a:lnTo>
                      <a:pt x="775" y="653"/>
                    </a:lnTo>
                    <a:close/>
                    <a:moveTo>
                      <a:pt x="829" y="653"/>
                    </a:moveTo>
                    <a:lnTo>
                      <a:pt x="849" y="641"/>
                    </a:lnTo>
                    <a:lnTo>
                      <a:pt x="849" y="619"/>
                    </a:lnTo>
                    <a:lnTo>
                      <a:pt x="829" y="605"/>
                    </a:lnTo>
                    <a:lnTo>
                      <a:pt x="809" y="619"/>
                    </a:lnTo>
                    <a:lnTo>
                      <a:pt x="809" y="641"/>
                    </a:lnTo>
                    <a:lnTo>
                      <a:pt x="829" y="653"/>
                    </a:lnTo>
                    <a:close/>
                    <a:moveTo>
                      <a:pt x="883" y="653"/>
                    </a:moveTo>
                    <a:lnTo>
                      <a:pt x="904" y="641"/>
                    </a:lnTo>
                    <a:lnTo>
                      <a:pt x="904" y="619"/>
                    </a:lnTo>
                    <a:lnTo>
                      <a:pt x="883" y="605"/>
                    </a:lnTo>
                    <a:lnTo>
                      <a:pt x="863" y="619"/>
                    </a:lnTo>
                    <a:lnTo>
                      <a:pt x="863" y="641"/>
                    </a:lnTo>
                    <a:lnTo>
                      <a:pt x="883" y="653"/>
                    </a:lnTo>
                    <a:close/>
                    <a:moveTo>
                      <a:pt x="938" y="653"/>
                    </a:moveTo>
                    <a:lnTo>
                      <a:pt x="958" y="641"/>
                    </a:lnTo>
                    <a:lnTo>
                      <a:pt x="958" y="619"/>
                    </a:lnTo>
                    <a:lnTo>
                      <a:pt x="938" y="605"/>
                    </a:lnTo>
                    <a:lnTo>
                      <a:pt x="916" y="619"/>
                    </a:lnTo>
                    <a:lnTo>
                      <a:pt x="916" y="641"/>
                    </a:lnTo>
                    <a:lnTo>
                      <a:pt x="938" y="653"/>
                    </a:lnTo>
                    <a:close/>
                    <a:moveTo>
                      <a:pt x="992" y="653"/>
                    </a:moveTo>
                    <a:lnTo>
                      <a:pt x="1012" y="641"/>
                    </a:lnTo>
                    <a:lnTo>
                      <a:pt x="1012" y="619"/>
                    </a:lnTo>
                    <a:lnTo>
                      <a:pt x="992" y="605"/>
                    </a:lnTo>
                    <a:lnTo>
                      <a:pt x="972" y="619"/>
                    </a:lnTo>
                    <a:lnTo>
                      <a:pt x="972" y="641"/>
                    </a:lnTo>
                    <a:lnTo>
                      <a:pt x="992" y="653"/>
                    </a:lnTo>
                    <a:close/>
                    <a:moveTo>
                      <a:pt x="1045" y="653"/>
                    </a:moveTo>
                    <a:lnTo>
                      <a:pt x="1064" y="641"/>
                    </a:lnTo>
                    <a:lnTo>
                      <a:pt x="1064" y="619"/>
                    </a:lnTo>
                    <a:lnTo>
                      <a:pt x="1045" y="605"/>
                    </a:lnTo>
                    <a:lnTo>
                      <a:pt x="1025" y="619"/>
                    </a:lnTo>
                    <a:lnTo>
                      <a:pt x="1025" y="641"/>
                    </a:lnTo>
                    <a:lnTo>
                      <a:pt x="1045" y="653"/>
                    </a:lnTo>
                    <a:close/>
                    <a:moveTo>
                      <a:pt x="1019" y="421"/>
                    </a:moveTo>
                    <a:lnTo>
                      <a:pt x="1039" y="409"/>
                    </a:lnTo>
                    <a:lnTo>
                      <a:pt x="1039" y="384"/>
                    </a:lnTo>
                    <a:lnTo>
                      <a:pt x="1019" y="373"/>
                    </a:lnTo>
                    <a:lnTo>
                      <a:pt x="998" y="384"/>
                    </a:lnTo>
                    <a:lnTo>
                      <a:pt x="998" y="409"/>
                    </a:lnTo>
                    <a:lnTo>
                      <a:pt x="1019" y="421"/>
                    </a:lnTo>
                    <a:close/>
                    <a:moveTo>
                      <a:pt x="1045" y="466"/>
                    </a:moveTo>
                    <a:lnTo>
                      <a:pt x="1064" y="455"/>
                    </a:lnTo>
                    <a:lnTo>
                      <a:pt x="1064" y="432"/>
                    </a:lnTo>
                    <a:lnTo>
                      <a:pt x="1045" y="421"/>
                    </a:lnTo>
                    <a:lnTo>
                      <a:pt x="1025" y="432"/>
                    </a:lnTo>
                    <a:lnTo>
                      <a:pt x="1025" y="455"/>
                    </a:lnTo>
                    <a:lnTo>
                      <a:pt x="1045" y="466"/>
                    </a:lnTo>
                    <a:close/>
                    <a:moveTo>
                      <a:pt x="1070" y="421"/>
                    </a:moveTo>
                    <a:lnTo>
                      <a:pt x="1091" y="409"/>
                    </a:lnTo>
                    <a:lnTo>
                      <a:pt x="1091" y="384"/>
                    </a:lnTo>
                    <a:lnTo>
                      <a:pt x="1070" y="373"/>
                    </a:lnTo>
                    <a:lnTo>
                      <a:pt x="1053" y="384"/>
                    </a:lnTo>
                    <a:lnTo>
                      <a:pt x="1053" y="409"/>
                    </a:lnTo>
                    <a:lnTo>
                      <a:pt x="1070" y="421"/>
                    </a:lnTo>
                    <a:close/>
                    <a:moveTo>
                      <a:pt x="964" y="511"/>
                    </a:moveTo>
                    <a:lnTo>
                      <a:pt x="985" y="500"/>
                    </a:lnTo>
                    <a:lnTo>
                      <a:pt x="985" y="477"/>
                    </a:lnTo>
                    <a:lnTo>
                      <a:pt x="964" y="466"/>
                    </a:lnTo>
                    <a:lnTo>
                      <a:pt x="944" y="477"/>
                    </a:lnTo>
                    <a:lnTo>
                      <a:pt x="944" y="500"/>
                    </a:lnTo>
                    <a:lnTo>
                      <a:pt x="964" y="511"/>
                    </a:lnTo>
                    <a:close/>
                    <a:moveTo>
                      <a:pt x="992" y="466"/>
                    </a:moveTo>
                    <a:lnTo>
                      <a:pt x="1012" y="455"/>
                    </a:lnTo>
                    <a:lnTo>
                      <a:pt x="1012" y="432"/>
                    </a:lnTo>
                    <a:lnTo>
                      <a:pt x="992" y="421"/>
                    </a:lnTo>
                    <a:lnTo>
                      <a:pt x="972" y="432"/>
                    </a:lnTo>
                    <a:lnTo>
                      <a:pt x="972" y="455"/>
                    </a:lnTo>
                    <a:lnTo>
                      <a:pt x="992" y="466"/>
                    </a:lnTo>
                    <a:close/>
                    <a:moveTo>
                      <a:pt x="1019" y="511"/>
                    </a:moveTo>
                    <a:lnTo>
                      <a:pt x="1039" y="500"/>
                    </a:lnTo>
                    <a:lnTo>
                      <a:pt x="1039" y="477"/>
                    </a:lnTo>
                    <a:lnTo>
                      <a:pt x="1019" y="466"/>
                    </a:lnTo>
                    <a:lnTo>
                      <a:pt x="998" y="477"/>
                    </a:lnTo>
                    <a:lnTo>
                      <a:pt x="998" y="500"/>
                    </a:lnTo>
                    <a:lnTo>
                      <a:pt x="1019" y="511"/>
                    </a:lnTo>
                    <a:close/>
                    <a:moveTo>
                      <a:pt x="1070" y="511"/>
                    </a:moveTo>
                    <a:lnTo>
                      <a:pt x="1091" y="500"/>
                    </a:lnTo>
                    <a:lnTo>
                      <a:pt x="1091" y="477"/>
                    </a:lnTo>
                    <a:lnTo>
                      <a:pt x="1070" y="466"/>
                    </a:lnTo>
                    <a:lnTo>
                      <a:pt x="1053" y="477"/>
                    </a:lnTo>
                    <a:lnTo>
                      <a:pt x="1053" y="500"/>
                    </a:lnTo>
                    <a:lnTo>
                      <a:pt x="1070" y="5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2" name=""/>
              <p:cNvSpPr/>
              <p:nvPr/>
            </p:nvSpPr>
            <p:spPr>
              <a:xfrm>
                <a:off x="4238280" y="263592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3" name=""/>
              <p:cNvSpPr/>
              <p:nvPr/>
            </p:nvSpPr>
            <p:spPr>
              <a:xfrm>
                <a:off x="427824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4" name=""/>
              <p:cNvSpPr/>
              <p:nvPr/>
            </p:nvSpPr>
            <p:spPr>
              <a:xfrm>
                <a:off x="431640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5" name=""/>
              <p:cNvSpPr/>
              <p:nvPr/>
            </p:nvSpPr>
            <p:spPr>
              <a:xfrm>
                <a:off x="435492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6" name=""/>
              <p:cNvSpPr/>
              <p:nvPr/>
            </p:nvSpPr>
            <p:spPr>
              <a:xfrm>
                <a:off x="4162680" y="263592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7" name=""/>
              <p:cNvSpPr/>
              <p:nvPr/>
            </p:nvSpPr>
            <p:spPr>
              <a:xfrm>
                <a:off x="419976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8" name=""/>
              <p:cNvSpPr/>
              <p:nvPr/>
            </p:nvSpPr>
            <p:spPr>
              <a:xfrm>
                <a:off x="404748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9" name=""/>
              <p:cNvSpPr/>
              <p:nvPr/>
            </p:nvSpPr>
            <p:spPr>
              <a:xfrm>
                <a:off x="408600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0" name=""/>
              <p:cNvSpPr/>
              <p:nvPr/>
            </p:nvSpPr>
            <p:spPr>
              <a:xfrm>
                <a:off x="4124520" y="263592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1" name=""/>
              <p:cNvSpPr/>
              <p:nvPr/>
            </p:nvSpPr>
            <p:spPr>
              <a:xfrm>
                <a:off x="370368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2" name=""/>
              <p:cNvSpPr/>
              <p:nvPr/>
            </p:nvSpPr>
            <p:spPr>
              <a:xfrm>
                <a:off x="3741840" y="263592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3" name=""/>
              <p:cNvSpPr/>
              <p:nvPr/>
            </p:nvSpPr>
            <p:spPr>
              <a:xfrm>
                <a:off x="377892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4" name=""/>
              <p:cNvSpPr/>
              <p:nvPr/>
            </p:nvSpPr>
            <p:spPr>
              <a:xfrm>
                <a:off x="381744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5" name=""/>
              <p:cNvSpPr/>
              <p:nvPr/>
            </p:nvSpPr>
            <p:spPr>
              <a:xfrm>
                <a:off x="3855600" y="263592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6" name=""/>
              <p:cNvSpPr/>
              <p:nvPr/>
            </p:nvSpPr>
            <p:spPr>
              <a:xfrm>
                <a:off x="3894120" y="2635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7" name=""/>
              <p:cNvSpPr/>
              <p:nvPr/>
            </p:nvSpPr>
            <p:spPr>
              <a:xfrm>
                <a:off x="4258080" y="25984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8" name=""/>
              <p:cNvSpPr/>
              <p:nvPr/>
            </p:nvSpPr>
            <p:spPr>
              <a:xfrm>
                <a:off x="4296600" y="259848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9" name=""/>
              <p:cNvSpPr/>
              <p:nvPr/>
            </p:nvSpPr>
            <p:spPr>
              <a:xfrm>
                <a:off x="4336200" y="25984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0" name=""/>
              <p:cNvSpPr/>
              <p:nvPr/>
            </p:nvSpPr>
            <p:spPr>
              <a:xfrm>
                <a:off x="4104720" y="259848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1" name=""/>
              <p:cNvSpPr/>
              <p:nvPr/>
            </p:nvSpPr>
            <p:spPr>
              <a:xfrm>
                <a:off x="4144320" y="259848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0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2" name=""/>
              <p:cNvSpPr/>
              <p:nvPr/>
            </p:nvSpPr>
            <p:spPr>
              <a:xfrm>
                <a:off x="4182840" y="259848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3" name=""/>
              <p:cNvSpPr/>
              <p:nvPr/>
            </p:nvSpPr>
            <p:spPr>
              <a:xfrm>
                <a:off x="4219920" y="25984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952440" y="25984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990960" y="259848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6" name=""/>
              <p:cNvSpPr/>
              <p:nvPr/>
            </p:nvSpPr>
            <p:spPr>
              <a:xfrm>
                <a:off x="4029120" y="259848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1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7" name=""/>
              <p:cNvSpPr/>
              <p:nvPr/>
            </p:nvSpPr>
            <p:spPr>
              <a:xfrm>
                <a:off x="4065840" y="259848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8" name=""/>
              <p:cNvSpPr/>
              <p:nvPr/>
            </p:nvSpPr>
            <p:spPr>
              <a:xfrm>
                <a:off x="3722040" y="259848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9" name=""/>
              <p:cNvSpPr/>
              <p:nvPr/>
            </p:nvSpPr>
            <p:spPr>
              <a:xfrm>
                <a:off x="3760200" y="259848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0" name=""/>
              <p:cNvSpPr/>
              <p:nvPr/>
            </p:nvSpPr>
            <p:spPr>
              <a:xfrm>
                <a:off x="3797280" y="259848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3836880" y="259848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2" name=""/>
              <p:cNvSpPr/>
              <p:nvPr/>
            </p:nvSpPr>
            <p:spPr>
              <a:xfrm>
                <a:off x="3875760" y="25984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3" name=""/>
              <p:cNvSpPr/>
              <p:nvPr/>
            </p:nvSpPr>
            <p:spPr>
              <a:xfrm>
                <a:off x="3913920" y="25984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1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4" name=""/>
              <p:cNvSpPr/>
              <p:nvPr/>
            </p:nvSpPr>
            <p:spPr>
              <a:xfrm>
                <a:off x="4047480" y="25628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4086000" y="25628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6" name=""/>
              <p:cNvSpPr/>
              <p:nvPr/>
            </p:nvSpPr>
            <p:spPr>
              <a:xfrm>
                <a:off x="3703680" y="25628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7" name=""/>
              <p:cNvSpPr/>
              <p:nvPr/>
            </p:nvSpPr>
            <p:spPr>
              <a:xfrm>
                <a:off x="3741840" y="2562840"/>
                <a:ext cx="2700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8" name=""/>
              <p:cNvSpPr/>
              <p:nvPr/>
            </p:nvSpPr>
            <p:spPr>
              <a:xfrm>
                <a:off x="3778920" y="25628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9" name=""/>
              <p:cNvSpPr/>
              <p:nvPr/>
            </p:nvSpPr>
            <p:spPr>
              <a:xfrm>
                <a:off x="3817440" y="25628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0" name=""/>
              <p:cNvSpPr/>
              <p:nvPr/>
            </p:nvSpPr>
            <p:spPr>
              <a:xfrm>
                <a:off x="3855600" y="2562840"/>
                <a:ext cx="2952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1" name=""/>
              <p:cNvSpPr/>
              <p:nvPr/>
            </p:nvSpPr>
            <p:spPr>
              <a:xfrm>
                <a:off x="3894120" y="25628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2" name=""/>
              <p:cNvSpPr/>
              <p:nvPr/>
            </p:nvSpPr>
            <p:spPr>
              <a:xfrm>
                <a:off x="3932640" y="25628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3" name=""/>
              <p:cNvSpPr/>
              <p:nvPr/>
            </p:nvSpPr>
            <p:spPr>
              <a:xfrm>
                <a:off x="3970800" y="25628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4" name=""/>
              <p:cNvSpPr/>
              <p:nvPr/>
            </p:nvSpPr>
            <p:spPr>
              <a:xfrm>
                <a:off x="4124520" y="25628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5" name=""/>
              <p:cNvSpPr/>
              <p:nvPr/>
            </p:nvSpPr>
            <p:spPr>
              <a:xfrm>
                <a:off x="4162680" y="2562840"/>
                <a:ext cx="2700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6" name=""/>
              <p:cNvSpPr/>
              <p:nvPr/>
            </p:nvSpPr>
            <p:spPr>
              <a:xfrm>
                <a:off x="4199760" y="25628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7" name=""/>
              <p:cNvSpPr/>
              <p:nvPr/>
            </p:nvSpPr>
            <p:spPr>
              <a:xfrm>
                <a:off x="4238280" y="25628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8" name=""/>
              <p:cNvSpPr/>
              <p:nvPr/>
            </p:nvSpPr>
            <p:spPr>
              <a:xfrm>
                <a:off x="4065840" y="238140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9" name=""/>
              <p:cNvSpPr/>
              <p:nvPr/>
            </p:nvSpPr>
            <p:spPr>
              <a:xfrm>
                <a:off x="4065840" y="230976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0" name=""/>
              <p:cNvSpPr/>
              <p:nvPr/>
            </p:nvSpPr>
            <p:spPr>
              <a:xfrm>
                <a:off x="4086000" y="241848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1" name=""/>
              <p:cNvSpPr/>
              <p:nvPr/>
            </p:nvSpPr>
            <p:spPr>
              <a:xfrm>
                <a:off x="4086000" y="2345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2" name=""/>
              <p:cNvSpPr/>
              <p:nvPr/>
            </p:nvSpPr>
            <p:spPr>
              <a:xfrm>
                <a:off x="4086000" y="227232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3" name=""/>
              <p:cNvSpPr/>
              <p:nvPr/>
            </p:nvSpPr>
            <p:spPr>
              <a:xfrm>
                <a:off x="4029120" y="245412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4" name=""/>
              <p:cNvSpPr/>
              <p:nvPr/>
            </p:nvSpPr>
            <p:spPr>
              <a:xfrm>
                <a:off x="4047480" y="249156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5" name=""/>
              <p:cNvSpPr/>
              <p:nvPr/>
            </p:nvSpPr>
            <p:spPr>
              <a:xfrm>
                <a:off x="3722040" y="25257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6" name=""/>
              <p:cNvSpPr/>
              <p:nvPr/>
            </p:nvSpPr>
            <p:spPr>
              <a:xfrm>
                <a:off x="3760200" y="252576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7" name=""/>
              <p:cNvSpPr/>
              <p:nvPr/>
            </p:nvSpPr>
            <p:spPr>
              <a:xfrm>
                <a:off x="3797280" y="25257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8" name=""/>
              <p:cNvSpPr/>
              <p:nvPr/>
            </p:nvSpPr>
            <p:spPr>
              <a:xfrm>
                <a:off x="3836880" y="252576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9" name=""/>
              <p:cNvSpPr/>
              <p:nvPr/>
            </p:nvSpPr>
            <p:spPr>
              <a:xfrm>
                <a:off x="3875760" y="25257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0" name=""/>
              <p:cNvSpPr/>
              <p:nvPr/>
            </p:nvSpPr>
            <p:spPr>
              <a:xfrm>
                <a:off x="3913920" y="25257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1" name=""/>
              <p:cNvSpPr/>
              <p:nvPr/>
            </p:nvSpPr>
            <p:spPr>
              <a:xfrm>
                <a:off x="3952440" y="25257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2" name=""/>
              <p:cNvSpPr/>
              <p:nvPr/>
            </p:nvSpPr>
            <p:spPr>
              <a:xfrm>
                <a:off x="3990960" y="252576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3" name=""/>
              <p:cNvSpPr/>
              <p:nvPr/>
            </p:nvSpPr>
            <p:spPr>
              <a:xfrm>
                <a:off x="3952440" y="245412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4" name=""/>
              <p:cNvSpPr/>
              <p:nvPr/>
            </p:nvSpPr>
            <p:spPr>
              <a:xfrm>
                <a:off x="3990960" y="245412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5" name=""/>
              <p:cNvSpPr/>
              <p:nvPr/>
            </p:nvSpPr>
            <p:spPr>
              <a:xfrm>
                <a:off x="3703680" y="249156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6" name=""/>
              <p:cNvSpPr/>
              <p:nvPr/>
            </p:nvSpPr>
            <p:spPr>
              <a:xfrm>
                <a:off x="3741840" y="2491560"/>
                <a:ext cx="2700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3778920" y="249156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3817440" y="249156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9" name=""/>
              <p:cNvSpPr/>
              <p:nvPr/>
            </p:nvSpPr>
            <p:spPr>
              <a:xfrm>
                <a:off x="3855600" y="2491560"/>
                <a:ext cx="2952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0" name=""/>
              <p:cNvSpPr/>
              <p:nvPr/>
            </p:nvSpPr>
            <p:spPr>
              <a:xfrm>
                <a:off x="3894120" y="249156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1" name=""/>
              <p:cNvSpPr/>
              <p:nvPr/>
            </p:nvSpPr>
            <p:spPr>
              <a:xfrm>
                <a:off x="3722040" y="24541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2" name=""/>
              <p:cNvSpPr/>
              <p:nvPr/>
            </p:nvSpPr>
            <p:spPr>
              <a:xfrm>
                <a:off x="3760200" y="245412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3" name=""/>
              <p:cNvSpPr/>
              <p:nvPr/>
            </p:nvSpPr>
            <p:spPr>
              <a:xfrm>
                <a:off x="3797280" y="24541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3836880" y="245412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5" name=""/>
              <p:cNvSpPr/>
              <p:nvPr/>
            </p:nvSpPr>
            <p:spPr>
              <a:xfrm>
                <a:off x="3875760" y="245412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6" name=""/>
              <p:cNvSpPr/>
              <p:nvPr/>
            </p:nvSpPr>
            <p:spPr>
              <a:xfrm>
                <a:off x="3913920" y="245412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7" name=""/>
              <p:cNvSpPr/>
              <p:nvPr/>
            </p:nvSpPr>
            <p:spPr>
              <a:xfrm>
                <a:off x="3932640" y="2491560"/>
                <a:ext cx="298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3970800" y="2491560"/>
                <a:ext cx="298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9" name=""/>
              <p:cNvSpPr/>
              <p:nvPr/>
            </p:nvSpPr>
            <p:spPr>
              <a:xfrm>
                <a:off x="4029120" y="252576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0" name=""/>
              <p:cNvSpPr/>
              <p:nvPr/>
            </p:nvSpPr>
            <p:spPr>
              <a:xfrm>
                <a:off x="4029120" y="230976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1" name=""/>
              <p:cNvSpPr/>
              <p:nvPr/>
            </p:nvSpPr>
            <p:spPr>
              <a:xfrm>
                <a:off x="4047480" y="227232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2" name=""/>
              <p:cNvSpPr/>
              <p:nvPr/>
            </p:nvSpPr>
            <p:spPr>
              <a:xfrm>
                <a:off x="4047480" y="2345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3" name=""/>
              <p:cNvSpPr/>
              <p:nvPr/>
            </p:nvSpPr>
            <p:spPr>
              <a:xfrm>
                <a:off x="3952440" y="23814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4" name=""/>
              <p:cNvSpPr/>
              <p:nvPr/>
            </p:nvSpPr>
            <p:spPr>
              <a:xfrm>
                <a:off x="3990960" y="238140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5" name=""/>
              <p:cNvSpPr/>
              <p:nvPr/>
            </p:nvSpPr>
            <p:spPr>
              <a:xfrm>
                <a:off x="3703680" y="241848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6" name=""/>
              <p:cNvSpPr/>
              <p:nvPr/>
            </p:nvSpPr>
            <p:spPr>
              <a:xfrm>
                <a:off x="3741840" y="2418480"/>
                <a:ext cx="2700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7" name=""/>
              <p:cNvSpPr/>
              <p:nvPr/>
            </p:nvSpPr>
            <p:spPr>
              <a:xfrm>
                <a:off x="3778920" y="241848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8" name=""/>
              <p:cNvSpPr/>
              <p:nvPr/>
            </p:nvSpPr>
            <p:spPr>
              <a:xfrm>
                <a:off x="3817440" y="241848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9" name=""/>
              <p:cNvSpPr/>
              <p:nvPr/>
            </p:nvSpPr>
            <p:spPr>
              <a:xfrm>
                <a:off x="3855600" y="2418480"/>
                <a:ext cx="2952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0" name=""/>
              <p:cNvSpPr/>
              <p:nvPr/>
            </p:nvSpPr>
            <p:spPr>
              <a:xfrm>
                <a:off x="3894120" y="241848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1" name=""/>
              <p:cNvSpPr/>
              <p:nvPr/>
            </p:nvSpPr>
            <p:spPr>
              <a:xfrm>
                <a:off x="3932640" y="241848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2" name=""/>
              <p:cNvSpPr/>
              <p:nvPr/>
            </p:nvSpPr>
            <p:spPr>
              <a:xfrm>
                <a:off x="3722040" y="23814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3" name=""/>
              <p:cNvSpPr/>
              <p:nvPr/>
            </p:nvSpPr>
            <p:spPr>
              <a:xfrm>
                <a:off x="3760200" y="238140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4" name=""/>
              <p:cNvSpPr/>
              <p:nvPr/>
            </p:nvSpPr>
            <p:spPr>
              <a:xfrm>
                <a:off x="3797280" y="23814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5" name=""/>
              <p:cNvSpPr/>
              <p:nvPr/>
            </p:nvSpPr>
            <p:spPr>
              <a:xfrm>
                <a:off x="3836880" y="238140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6" name=""/>
              <p:cNvSpPr/>
              <p:nvPr/>
            </p:nvSpPr>
            <p:spPr>
              <a:xfrm>
                <a:off x="3875760" y="23814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7" name=""/>
              <p:cNvSpPr/>
              <p:nvPr/>
            </p:nvSpPr>
            <p:spPr>
              <a:xfrm>
                <a:off x="3913920" y="23814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8" name=""/>
              <p:cNvSpPr/>
              <p:nvPr/>
            </p:nvSpPr>
            <p:spPr>
              <a:xfrm>
                <a:off x="3970800" y="241848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9" name=""/>
              <p:cNvSpPr/>
              <p:nvPr/>
            </p:nvSpPr>
            <p:spPr>
              <a:xfrm>
                <a:off x="3952440" y="230976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0" name=""/>
              <p:cNvSpPr/>
              <p:nvPr/>
            </p:nvSpPr>
            <p:spPr>
              <a:xfrm>
                <a:off x="3990960" y="230976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1" name=""/>
              <p:cNvSpPr/>
              <p:nvPr/>
            </p:nvSpPr>
            <p:spPr>
              <a:xfrm>
                <a:off x="3703680" y="2345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2" name=""/>
              <p:cNvSpPr/>
              <p:nvPr/>
            </p:nvSpPr>
            <p:spPr>
              <a:xfrm>
                <a:off x="3741840" y="2345760"/>
                <a:ext cx="2700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3" name=""/>
              <p:cNvSpPr/>
              <p:nvPr/>
            </p:nvSpPr>
            <p:spPr>
              <a:xfrm>
                <a:off x="3778920" y="2345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4" name=""/>
              <p:cNvSpPr/>
              <p:nvPr/>
            </p:nvSpPr>
            <p:spPr>
              <a:xfrm>
                <a:off x="3817440" y="2345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5" name=""/>
              <p:cNvSpPr/>
              <p:nvPr/>
            </p:nvSpPr>
            <p:spPr>
              <a:xfrm>
                <a:off x="3855600" y="2345760"/>
                <a:ext cx="2952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6" name=""/>
              <p:cNvSpPr/>
              <p:nvPr/>
            </p:nvSpPr>
            <p:spPr>
              <a:xfrm>
                <a:off x="3894120" y="2345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7" name=""/>
              <p:cNvSpPr/>
              <p:nvPr/>
            </p:nvSpPr>
            <p:spPr>
              <a:xfrm>
                <a:off x="3932640" y="234576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8" name=""/>
              <p:cNvSpPr/>
              <p:nvPr/>
            </p:nvSpPr>
            <p:spPr>
              <a:xfrm>
                <a:off x="3875760" y="223668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9" name=""/>
              <p:cNvSpPr/>
              <p:nvPr/>
            </p:nvSpPr>
            <p:spPr>
              <a:xfrm>
                <a:off x="3894120" y="227232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3722040" y="230976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7061" name=""/>
            <p:cNvGrpSpPr/>
            <p:nvPr/>
          </p:nvGrpSpPr>
          <p:grpSpPr>
            <a:xfrm>
              <a:off x="282960" y="2130120"/>
              <a:ext cx="4376520" cy="896400"/>
              <a:chOff x="282960" y="2130120"/>
              <a:chExt cx="4376520" cy="896400"/>
            </a:xfrm>
          </p:grpSpPr>
          <p:sp>
            <p:nvSpPr>
              <p:cNvPr id="7062" name=""/>
              <p:cNvSpPr/>
              <p:nvPr/>
            </p:nvSpPr>
            <p:spPr>
              <a:xfrm>
                <a:off x="3761280" y="2309760"/>
                <a:ext cx="25920" cy="352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3" name=""/>
              <p:cNvSpPr/>
              <p:nvPr/>
            </p:nvSpPr>
            <p:spPr>
              <a:xfrm>
                <a:off x="3797640" y="230976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4" name=""/>
              <p:cNvSpPr/>
              <p:nvPr/>
            </p:nvSpPr>
            <p:spPr>
              <a:xfrm>
                <a:off x="3837600" y="230976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5" name=""/>
              <p:cNvSpPr/>
              <p:nvPr/>
            </p:nvSpPr>
            <p:spPr>
              <a:xfrm>
                <a:off x="3797640" y="22370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6" name=""/>
              <p:cNvSpPr/>
              <p:nvPr/>
            </p:nvSpPr>
            <p:spPr>
              <a:xfrm>
                <a:off x="3837600" y="223704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3703680" y="22726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8" name=""/>
              <p:cNvSpPr/>
              <p:nvPr/>
            </p:nvSpPr>
            <p:spPr>
              <a:xfrm>
                <a:off x="3742560" y="2272680"/>
                <a:ext cx="259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9" name=""/>
              <p:cNvSpPr/>
              <p:nvPr/>
            </p:nvSpPr>
            <p:spPr>
              <a:xfrm>
                <a:off x="3778920" y="22726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0" name=""/>
              <p:cNvSpPr/>
              <p:nvPr/>
            </p:nvSpPr>
            <p:spPr>
              <a:xfrm>
                <a:off x="3722400" y="223704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3761280" y="2237040"/>
                <a:ext cx="2592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2" name=""/>
              <p:cNvSpPr/>
              <p:nvPr/>
            </p:nvSpPr>
            <p:spPr>
              <a:xfrm>
                <a:off x="3817440" y="22726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3" name=""/>
              <p:cNvSpPr/>
              <p:nvPr/>
            </p:nvSpPr>
            <p:spPr>
              <a:xfrm>
                <a:off x="3855960" y="22726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4" name=""/>
              <p:cNvSpPr/>
              <p:nvPr/>
            </p:nvSpPr>
            <p:spPr>
              <a:xfrm>
                <a:off x="3876120" y="2309760"/>
                <a:ext cx="2736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5" name=""/>
              <p:cNvSpPr/>
              <p:nvPr/>
            </p:nvSpPr>
            <p:spPr>
              <a:xfrm>
                <a:off x="3913560" y="230976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6" name=""/>
              <p:cNvSpPr/>
              <p:nvPr/>
            </p:nvSpPr>
            <p:spPr>
              <a:xfrm>
                <a:off x="3971160" y="23454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7" name=""/>
              <p:cNvSpPr/>
              <p:nvPr/>
            </p:nvSpPr>
            <p:spPr>
              <a:xfrm>
                <a:off x="4029840" y="2381400"/>
                <a:ext cx="26280" cy="378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8" name=""/>
              <p:cNvSpPr/>
              <p:nvPr/>
            </p:nvSpPr>
            <p:spPr>
              <a:xfrm>
                <a:off x="4047480" y="241920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9" name=""/>
              <p:cNvSpPr/>
              <p:nvPr/>
            </p:nvSpPr>
            <p:spPr>
              <a:xfrm>
                <a:off x="4066200" y="252648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0" name=""/>
              <p:cNvSpPr/>
              <p:nvPr/>
            </p:nvSpPr>
            <p:spPr>
              <a:xfrm>
                <a:off x="4066200" y="245484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1" name=""/>
              <p:cNvSpPr/>
              <p:nvPr/>
            </p:nvSpPr>
            <p:spPr>
              <a:xfrm>
                <a:off x="4086000" y="2491920"/>
                <a:ext cx="2880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2" name=""/>
              <p:cNvSpPr/>
              <p:nvPr/>
            </p:nvSpPr>
            <p:spPr>
              <a:xfrm>
                <a:off x="4105080" y="2526480"/>
                <a:ext cx="29520" cy="363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3" name=""/>
              <p:cNvSpPr/>
              <p:nvPr/>
            </p:nvSpPr>
            <p:spPr>
              <a:xfrm>
                <a:off x="4278600" y="25632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4" name=""/>
              <p:cNvSpPr/>
              <p:nvPr/>
            </p:nvSpPr>
            <p:spPr>
              <a:xfrm>
                <a:off x="4317120" y="2563200"/>
                <a:ext cx="2736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5" name=""/>
              <p:cNvSpPr/>
              <p:nvPr/>
            </p:nvSpPr>
            <p:spPr>
              <a:xfrm>
                <a:off x="4354920" y="25632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6" name=""/>
              <p:cNvSpPr/>
              <p:nvPr/>
            </p:nvSpPr>
            <p:spPr>
              <a:xfrm>
                <a:off x="4393440" y="263592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7" name=""/>
              <p:cNvSpPr/>
              <p:nvPr/>
            </p:nvSpPr>
            <p:spPr>
              <a:xfrm>
                <a:off x="4432320" y="26359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8" name=""/>
              <p:cNvSpPr/>
              <p:nvPr/>
            </p:nvSpPr>
            <p:spPr>
              <a:xfrm>
                <a:off x="4258440" y="2671560"/>
                <a:ext cx="2844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9" name=""/>
              <p:cNvSpPr/>
              <p:nvPr/>
            </p:nvSpPr>
            <p:spPr>
              <a:xfrm>
                <a:off x="4297320" y="2671560"/>
                <a:ext cx="295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0" name=""/>
              <p:cNvSpPr/>
              <p:nvPr/>
            </p:nvSpPr>
            <p:spPr>
              <a:xfrm>
                <a:off x="4337280" y="2671560"/>
                <a:ext cx="273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1" name=""/>
              <p:cNvSpPr/>
              <p:nvPr/>
            </p:nvSpPr>
            <p:spPr>
              <a:xfrm>
                <a:off x="4373640" y="2671560"/>
                <a:ext cx="295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2" name=""/>
              <p:cNvSpPr/>
              <p:nvPr/>
            </p:nvSpPr>
            <p:spPr>
              <a:xfrm>
                <a:off x="4412160" y="2671560"/>
                <a:ext cx="298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3" name=""/>
              <p:cNvSpPr/>
              <p:nvPr/>
            </p:nvSpPr>
            <p:spPr>
              <a:xfrm>
                <a:off x="4452120" y="2671560"/>
                <a:ext cx="26280" cy="34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4" name=""/>
              <p:cNvSpPr/>
              <p:nvPr/>
            </p:nvSpPr>
            <p:spPr>
              <a:xfrm>
                <a:off x="4047480" y="2706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5" name=""/>
              <p:cNvSpPr/>
              <p:nvPr/>
            </p:nvSpPr>
            <p:spPr>
              <a:xfrm>
                <a:off x="4086000" y="270612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6" name=""/>
              <p:cNvSpPr/>
              <p:nvPr/>
            </p:nvSpPr>
            <p:spPr>
              <a:xfrm>
                <a:off x="4124880" y="2706120"/>
                <a:ext cx="29880" cy="363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7" name=""/>
              <p:cNvSpPr/>
              <p:nvPr/>
            </p:nvSpPr>
            <p:spPr>
              <a:xfrm>
                <a:off x="4163400" y="270612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19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8" name=""/>
              <p:cNvSpPr/>
              <p:nvPr/>
            </p:nvSpPr>
            <p:spPr>
              <a:xfrm>
                <a:off x="4199760" y="2706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9" name=""/>
              <p:cNvSpPr/>
              <p:nvPr/>
            </p:nvSpPr>
            <p:spPr>
              <a:xfrm>
                <a:off x="3703680" y="2706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0" name=""/>
              <p:cNvSpPr/>
              <p:nvPr/>
            </p:nvSpPr>
            <p:spPr>
              <a:xfrm>
                <a:off x="3742560" y="2706120"/>
                <a:ext cx="25920" cy="363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1" name=""/>
              <p:cNvSpPr/>
              <p:nvPr/>
            </p:nvSpPr>
            <p:spPr>
              <a:xfrm>
                <a:off x="3778920" y="2706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2" name=""/>
              <p:cNvSpPr/>
              <p:nvPr/>
            </p:nvSpPr>
            <p:spPr>
              <a:xfrm>
                <a:off x="3817440" y="270612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3855960" y="2706120"/>
                <a:ext cx="29880" cy="363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3894840" y="2706120"/>
                <a:ext cx="27360" cy="363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5" name=""/>
              <p:cNvSpPr/>
              <p:nvPr/>
            </p:nvSpPr>
            <p:spPr>
              <a:xfrm>
                <a:off x="4029840" y="2671560"/>
                <a:ext cx="26280" cy="342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6" name=""/>
              <p:cNvSpPr/>
              <p:nvPr/>
            </p:nvSpPr>
            <p:spPr>
              <a:xfrm>
                <a:off x="4066200" y="2671560"/>
                <a:ext cx="2844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7" name=""/>
              <p:cNvSpPr/>
              <p:nvPr/>
            </p:nvSpPr>
            <p:spPr>
              <a:xfrm>
                <a:off x="4105080" y="2671560"/>
                <a:ext cx="2952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8" name=""/>
              <p:cNvSpPr/>
              <p:nvPr/>
            </p:nvSpPr>
            <p:spPr>
              <a:xfrm>
                <a:off x="4144680" y="2671560"/>
                <a:ext cx="27360" cy="3420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20" y="46"/>
                    </a:moveTo>
                    <a:lnTo>
                      <a:pt x="37" y="35"/>
                    </a:lnTo>
                    <a:lnTo>
                      <a:pt x="37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9" name=""/>
              <p:cNvSpPr/>
              <p:nvPr/>
            </p:nvSpPr>
            <p:spPr>
              <a:xfrm>
                <a:off x="3722400" y="2671560"/>
                <a:ext cx="2988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0" name=""/>
              <p:cNvSpPr/>
              <p:nvPr/>
            </p:nvSpPr>
            <p:spPr>
              <a:xfrm>
                <a:off x="3761280" y="2671560"/>
                <a:ext cx="25920" cy="34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3797640" y="2671560"/>
                <a:ext cx="29880" cy="342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2" name=""/>
              <p:cNvSpPr/>
              <p:nvPr/>
            </p:nvSpPr>
            <p:spPr>
              <a:xfrm>
                <a:off x="3837600" y="2671560"/>
                <a:ext cx="28440" cy="342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3" name=""/>
              <p:cNvSpPr/>
              <p:nvPr/>
            </p:nvSpPr>
            <p:spPr>
              <a:xfrm>
                <a:off x="3876120" y="2671560"/>
                <a:ext cx="2736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4" name=""/>
              <p:cNvSpPr/>
              <p:nvPr/>
            </p:nvSpPr>
            <p:spPr>
              <a:xfrm>
                <a:off x="4183560" y="2671560"/>
                <a:ext cx="26280" cy="342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4219560" y="2671560"/>
                <a:ext cx="28800" cy="342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6" name=""/>
              <p:cNvSpPr/>
              <p:nvPr/>
            </p:nvSpPr>
            <p:spPr>
              <a:xfrm>
                <a:off x="4238280" y="2706120"/>
                <a:ext cx="29880" cy="363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7" name=""/>
              <p:cNvSpPr/>
              <p:nvPr/>
            </p:nvSpPr>
            <p:spPr>
              <a:xfrm>
                <a:off x="4278600" y="2706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8" name=""/>
              <p:cNvSpPr/>
              <p:nvPr/>
            </p:nvSpPr>
            <p:spPr>
              <a:xfrm>
                <a:off x="4317120" y="2706120"/>
                <a:ext cx="27360" cy="363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9" name=""/>
              <p:cNvSpPr/>
              <p:nvPr/>
            </p:nvSpPr>
            <p:spPr>
              <a:xfrm>
                <a:off x="4354920" y="2706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4"/>
                    </a:lnTo>
                    <a:lnTo>
                      <a:pt x="22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0" name=""/>
              <p:cNvSpPr/>
              <p:nvPr/>
            </p:nvSpPr>
            <p:spPr>
              <a:xfrm>
                <a:off x="4393440" y="2706120"/>
                <a:ext cx="28800" cy="3636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1" name=""/>
              <p:cNvSpPr/>
              <p:nvPr/>
            </p:nvSpPr>
            <p:spPr>
              <a:xfrm>
                <a:off x="4432320" y="2706120"/>
                <a:ext cx="28440" cy="3636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2" name=""/>
              <p:cNvSpPr/>
              <p:nvPr/>
            </p:nvSpPr>
            <p:spPr>
              <a:xfrm>
                <a:off x="4412160" y="2526480"/>
                <a:ext cx="29880" cy="3636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3" name=""/>
              <p:cNvSpPr/>
              <p:nvPr/>
            </p:nvSpPr>
            <p:spPr>
              <a:xfrm>
                <a:off x="4432320" y="25632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4" name=""/>
              <p:cNvSpPr/>
              <p:nvPr/>
            </p:nvSpPr>
            <p:spPr>
              <a:xfrm>
                <a:off x="4452120" y="2526480"/>
                <a:ext cx="26280" cy="3636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5" name=""/>
              <p:cNvSpPr/>
              <p:nvPr/>
            </p:nvSpPr>
            <p:spPr>
              <a:xfrm>
                <a:off x="4373640" y="2599200"/>
                <a:ext cx="2952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6" name=""/>
              <p:cNvSpPr/>
              <p:nvPr/>
            </p:nvSpPr>
            <p:spPr>
              <a:xfrm>
                <a:off x="4393440" y="256320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7" name=""/>
              <p:cNvSpPr/>
              <p:nvPr/>
            </p:nvSpPr>
            <p:spPr>
              <a:xfrm>
                <a:off x="4412160" y="259920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8" name=""/>
              <p:cNvSpPr/>
              <p:nvPr/>
            </p:nvSpPr>
            <p:spPr>
              <a:xfrm>
                <a:off x="4452120" y="2599200"/>
                <a:ext cx="26280" cy="352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9" name=""/>
              <p:cNvSpPr/>
              <p:nvPr/>
            </p:nvSpPr>
            <p:spPr>
              <a:xfrm>
                <a:off x="4133520" y="2271600"/>
                <a:ext cx="302040" cy="24372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0" name=""/>
              <p:cNvSpPr/>
              <p:nvPr/>
            </p:nvSpPr>
            <p:spPr>
              <a:xfrm>
                <a:off x="4133520" y="2271600"/>
                <a:ext cx="302040" cy="24372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1" name=""/>
              <p:cNvSpPr/>
              <p:nvPr/>
            </p:nvSpPr>
            <p:spPr>
              <a:xfrm>
                <a:off x="4154760" y="2296800"/>
                <a:ext cx="259560" cy="1951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2" name=""/>
              <p:cNvSpPr/>
              <p:nvPr/>
            </p:nvSpPr>
            <p:spPr>
              <a:xfrm>
                <a:off x="4154760" y="2296800"/>
                <a:ext cx="259560" cy="1951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3" name=""/>
              <p:cNvSpPr/>
              <p:nvPr/>
            </p:nvSpPr>
            <p:spPr>
              <a:xfrm>
                <a:off x="4207320" y="2338200"/>
                <a:ext cx="154800" cy="111960"/>
              </a:xfrm>
              <a:custGeom>
                <a:avLst/>
                <a:gdLst/>
                <a:ahLst/>
                <a:rect l="l" t="t" r="r" b="b"/>
                <a:pathLst>
                  <a:path w="218" h="144">
                    <a:moveTo>
                      <a:pt x="20" y="68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0" y="68"/>
                    </a:lnTo>
                    <a:close/>
                    <a:moveTo>
                      <a:pt x="118" y="144"/>
                    </a:moveTo>
                    <a:lnTo>
                      <a:pt x="118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18" y="144"/>
                    </a:lnTo>
                    <a:close/>
                    <a:moveTo>
                      <a:pt x="218" y="68"/>
                    </a:moveTo>
                    <a:lnTo>
                      <a:pt x="218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8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4" name=""/>
              <p:cNvSpPr/>
              <p:nvPr/>
            </p:nvSpPr>
            <p:spPr>
              <a:xfrm>
                <a:off x="4417200" y="2313360"/>
                <a:ext cx="102240" cy="198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5" name=""/>
              <p:cNvSpPr/>
              <p:nvPr/>
            </p:nvSpPr>
            <p:spPr>
              <a:xfrm>
                <a:off x="4417200" y="2286000"/>
                <a:ext cx="26280" cy="254520"/>
              </a:xfrm>
              <a:prstGeom prst="rect">
                <a:avLst/>
              </a:prstGeom>
              <a:solidFill>
                <a:srgbClr val="af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6" name=""/>
              <p:cNvSpPr/>
              <p:nvPr/>
            </p:nvSpPr>
            <p:spPr>
              <a:xfrm>
                <a:off x="4443480" y="2286000"/>
                <a:ext cx="27360" cy="254520"/>
              </a:xfrm>
              <a:prstGeom prst="rect">
                <a:avLst/>
              </a:prstGeom>
              <a:solidFill>
                <a:srgbClr val="b6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7" name=""/>
              <p:cNvSpPr/>
              <p:nvPr/>
            </p:nvSpPr>
            <p:spPr>
              <a:xfrm>
                <a:off x="4470840" y="2286000"/>
                <a:ext cx="24840" cy="254520"/>
              </a:xfrm>
              <a:prstGeom prst="rect">
                <a:avLst/>
              </a:prstGeom>
              <a:solidFill>
                <a:srgbClr val="b35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8" name=""/>
              <p:cNvSpPr/>
              <p:nvPr/>
            </p:nvSpPr>
            <p:spPr>
              <a:xfrm>
                <a:off x="4496040" y="2286000"/>
                <a:ext cx="23760" cy="254520"/>
              </a:xfrm>
              <a:prstGeom prst="rect">
                <a:avLst/>
              </a:prstGeom>
              <a:solidFill>
                <a:srgbClr val="b1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9" name=""/>
              <p:cNvSpPr/>
              <p:nvPr/>
            </p:nvSpPr>
            <p:spPr>
              <a:xfrm>
                <a:off x="4519800" y="2286000"/>
                <a:ext cx="25920" cy="254520"/>
              </a:xfrm>
              <a:prstGeom prst="rect">
                <a:avLst/>
              </a:prstGeom>
              <a:solidFill>
                <a:srgbClr val="ae4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0" name=""/>
              <p:cNvSpPr/>
              <p:nvPr/>
            </p:nvSpPr>
            <p:spPr>
              <a:xfrm>
                <a:off x="4435920" y="2291760"/>
                <a:ext cx="99720" cy="216720"/>
              </a:xfrm>
              <a:custGeom>
                <a:avLst/>
                <a:gdLst/>
                <a:ahLst/>
                <a:rect l="l" t="t" r="r" b="b"/>
                <a:pathLst>
                  <a:path w="141" h="280">
                    <a:moveTo>
                      <a:pt x="0" y="261"/>
                    </a:moveTo>
                    <a:lnTo>
                      <a:pt x="0" y="265"/>
                    </a:lnTo>
                    <a:lnTo>
                      <a:pt x="2" y="268"/>
                    </a:lnTo>
                    <a:lnTo>
                      <a:pt x="3" y="272"/>
                    </a:lnTo>
                    <a:lnTo>
                      <a:pt x="5" y="275"/>
                    </a:lnTo>
                    <a:lnTo>
                      <a:pt x="9" y="276"/>
                    </a:lnTo>
                    <a:lnTo>
                      <a:pt x="13" y="279"/>
                    </a:lnTo>
                    <a:lnTo>
                      <a:pt x="17" y="279"/>
                    </a:lnTo>
                    <a:lnTo>
                      <a:pt x="20" y="280"/>
                    </a:lnTo>
                    <a:lnTo>
                      <a:pt x="27" y="280"/>
                    </a:lnTo>
                    <a:lnTo>
                      <a:pt x="116" y="270"/>
                    </a:lnTo>
                    <a:lnTo>
                      <a:pt x="121" y="268"/>
                    </a:lnTo>
                    <a:lnTo>
                      <a:pt x="126" y="267"/>
                    </a:lnTo>
                    <a:lnTo>
                      <a:pt x="129" y="265"/>
                    </a:lnTo>
                    <a:lnTo>
                      <a:pt x="133" y="261"/>
                    </a:lnTo>
                    <a:lnTo>
                      <a:pt x="136" y="257"/>
                    </a:lnTo>
                    <a:lnTo>
                      <a:pt x="138" y="252"/>
                    </a:lnTo>
                    <a:lnTo>
                      <a:pt x="139" y="248"/>
                    </a:lnTo>
                    <a:lnTo>
                      <a:pt x="141" y="243"/>
                    </a:lnTo>
                    <a:lnTo>
                      <a:pt x="141" y="243"/>
                    </a:lnTo>
                    <a:lnTo>
                      <a:pt x="141" y="35"/>
                    </a:lnTo>
                    <a:lnTo>
                      <a:pt x="139" y="31"/>
                    </a:lnTo>
                    <a:lnTo>
                      <a:pt x="138" y="26"/>
                    </a:lnTo>
                    <a:lnTo>
                      <a:pt x="136" y="21"/>
                    </a:lnTo>
                    <a:lnTo>
                      <a:pt x="133" y="17"/>
                    </a:lnTo>
                    <a:lnTo>
                      <a:pt x="128" y="15"/>
                    </a:lnTo>
                    <a:lnTo>
                      <a:pt x="124" y="11"/>
                    </a:lnTo>
                    <a:lnTo>
                      <a:pt x="119" y="10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1" name=""/>
              <p:cNvSpPr/>
              <p:nvPr/>
            </p:nvSpPr>
            <p:spPr>
              <a:xfrm>
                <a:off x="650160" y="2220480"/>
                <a:ext cx="1912680" cy="673560"/>
              </a:xfrm>
              <a:custGeom>
                <a:avLst/>
                <a:gdLst/>
                <a:ahLst/>
                <a:rect l="l" t="t" r="r" b="b"/>
                <a:pathLst>
                  <a:path w="2690" h="869">
                    <a:moveTo>
                      <a:pt x="1379" y="632"/>
                    </a:moveTo>
                    <a:lnTo>
                      <a:pt x="0" y="632"/>
                    </a:lnTo>
                    <a:lnTo>
                      <a:pt x="0" y="812"/>
                    </a:lnTo>
                    <a:lnTo>
                      <a:pt x="1379" y="812"/>
                    </a:lnTo>
                    <a:lnTo>
                      <a:pt x="1379" y="632"/>
                    </a:lnTo>
                    <a:close/>
                    <a:moveTo>
                      <a:pt x="1379" y="325"/>
                    </a:moveTo>
                    <a:lnTo>
                      <a:pt x="0" y="325"/>
                    </a:lnTo>
                    <a:lnTo>
                      <a:pt x="0" y="507"/>
                    </a:lnTo>
                    <a:lnTo>
                      <a:pt x="1379" y="507"/>
                    </a:lnTo>
                    <a:lnTo>
                      <a:pt x="1379" y="325"/>
                    </a:lnTo>
                    <a:close/>
                    <a:moveTo>
                      <a:pt x="1379" y="19"/>
                    </a:moveTo>
                    <a:lnTo>
                      <a:pt x="0" y="19"/>
                    </a:lnTo>
                    <a:lnTo>
                      <a:pt x="0" y="201"/>
                    </a:lnTo>
                    <a:lnTo>
                      <a:pt x="1379" y="201"/>
                    </a:lnTo>
                    <a:lnTo>
                      <a:pt x="1379" y="19"/>
                    </a:lnTo>
                    <a:close/>
                    <a:moveTo>
                      <a:pt x="1695" y="0"/>
                    </a:moveTo>
                    <a:lnTo>
                      <a:pt x="1695" y="869"/>
                    </a:lnTo>
                    <a:lnTo>
                      <a:pt x="1868" y="869"/>
                    </a:lnTo>
                    <a:lnTo>
                      <a:pt x="1868" y="0"/>
                    </a:lnTo>
                    <a:lnTo>
                      <a:pt x="1695" y="0"/>
                    </a:lnTo>
                    <a:close/>
                    <a:moveTo>
                      <a:pt x="2517" y="0"/>
                    </a:moveTo>
                    <a:lnTo>
                      <a:pt x="2517" y="869"/>
                    </a:lnTo>
                    <a:lnTo>
                      <a:pt x="2690" y="869"/>
                    </a:lnTo>
                    <a:lnTo>
                      <a:pt x="2690" y="0"/>
                    </a:lnTo>
                    <a:lnTo>
                      <a:pt x="251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2" name=""/>
              <p:cNvSpPr/>
              <p:nvPr/>
            </p:nvSpPr>
            <p:spPr>
              <a:xfrm>
                <a:off x="650160" y="2709720"/>
                <a:ext cx="980280" cy="1414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3" name=""/>
              <p:cNvSpPr/>
              <p:nvPr/>
            </p:nvSpPr>
            <p:spPr>
              <a:xfrm>
                <a:off x="650160" y="2471760"/>
                <a:ext cx="980280" cy="1414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4" name=""/>
              <p:cNvSpPr/>
              <p:nvPr/>
            </p:nvSpPr>
            <p:spPr>
              <a:xfrm>
                <a:off x="650160" y="2233440"/>
                <a:ext cx="980280" cy="1414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5" name=""/>
              <p:cNvSpPr/>
              <p:nvPr/>
            </p:nvSpPr>
            <p:spPr>
              <a:xfrm>
                <a:off x="1855800" y="2220480"/>
                <a:ext cx="123480" cy="673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6" name=""/>
              <p:cNvSpPr/>
              <p:nvPr/>
            </p:nvSpPr>
            <p:spPr>
              <a:xfrm>
                <a:off x="2440800" y="2220480"/>
                <a:ext cx="122040" cy="673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692640" y="2253960"/>
                <a:ext cx="1830240" cy="604440"/>
              </a:xfrm>
              <a:custGeom>
                <a:avLst/>
                <a:gdLst/>
                <a:ahLst/>
                <a:rect l="l" t="t" r="r" b="b"/>
                <a:pathLst>
                  <a:path w="2573" h="779">
                    <a:moveTo>
                      <a:pt x="1139" y="36"/>
                    </a:moveTo>
                    <a:lnTo>
                      <a:pt x="123" y="36"/>
                    </a:lnTo>
                    <a:lnTo>
                      <a:pt x="110" y="36"/>
                    </a:lnTo>
                    <a:lnTo>
                      <a:pt x="98" y="36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6" y="39"/>
                    </a:lnTo>
                    <a:lnTo>
                      <a:pt x="27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6" y="88"/>
                    </a:lnTo>
                    <a:lnTo>
                      <a:pt x="10" y="89"/>
                    </a:lnTo>
                    <a:lnTo>
                      <a:pt x="15" y="90"/>
                    </a:lnTo>
                    <a:lnTo>
                      <a:pt x="21" y="90"/>
                    </a:lnTo>
                    <a:lnTo>
                      <a:pt x="27" y="92"/>
                    </a:lnTo>
                    <a:lnTo>
                      <a:pt x="36" y="92"/>
                    </a:lnTo>
                    <a:lnTo>
                      <a:pt x="45" y="93"/>
                    </a:lnTo>
                    <a:lnTo>
                      <a:pt x="54" y="93"/>
                    </a:lnTo>
                    <a:lnTo>
                      <a:pt x="64" y="94"/>
                    </a:lnTo>
                    <a:lnTo>
                      <a:pt x="75" y="94"/>
                    </a:lnTo>
                    <a:lnTo>
                      <a:pt x="86" y="94"/>
                    </a:lnTo>
                    <a:lnTo>
                      <a:pt x="98" y="94"/>
                    </a:lnTo>
                    <a:lnTo>
                      <a:pt x="110" y="94"/>
                    </a:lnTo>
                    <a:lnTo>
                      <a:pt x="123" y="96"/>
                    </a:lnTo>
                    <a:lnTo>
                      <a:pt x="123" y="96"/>
                    </a:lnTo>
                    <a:lnTo>
                      <a:pt x="1139" y="96"/>
                    </a:lnTo>
                    <a:lnTo>
                      <a:pt x="1151" y="94"/>
                    </a:lnTo>
                    <a:lnTo>
                      <a:pt x="1164" y="94"/>
                    </a:lnTo>
                    <a:lnTo>
                      <a:pt x="1175" y="94"/>
                    </a:lnTo>
                    <a:lnTo>
                      <a:pt x="1186" y="94"/>
                    </a:lnTo>
                    <a:lnTo>
                      <a:pt x="1198" y="94"/>
                    </a:lnTo>
                    <a:lnTo>
                      <a:pt x="1208" y="93"/>
                    </a:lnTo>
                    <a:lnTo>
                      <a:pt x="1216" y="93"/>
                    </a:lnTo>
                    <a:lnTo>
                      <a:pt x="1225" y="92"/>
                    </a:lnTo>
                    <a:lnTo>
                      <a:pt x="1233" y="92"/>
                    </a:lnTo>
                    <a:lnTo>
                      <a:pt x="1240" y="90"/>
                    </a:lnTo>
                    <a:lnTo>
                      <a:pt x="1246" y="90"/>
                    </a:lnTo>
                    <a:lnTo>
                      <a:pt x="1251" y="89"/>
                    </a:lnTo>
                    <a:lnTo>
                      <a:pt x="1255" y="88"/>
                    </a:lnTo>
                    <a:lnTo>
                      <a:pt x="1259" y="88"/>
                    </a:lnTo>
                    <a:lnTo>
                      <a:pt x="1260" y="87"/>
                    </a:lnTo>
                    <a:lnTo>
                      <a:pt x="1260" y="87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45"/>
                    </a:lnTo>
                    <a:lnTo>
                      <a:pt x="1260" y="44"/>
                    </a:lnTo>
                    <a:lnTo>
                      <a:pt x="1260" y="44"/>
                    </a:lnTo>
                    <a:lnTo>
                      <a:pt x="1259" y="43"/>
                    </a:lnTo>
                    <a:lnTo>
                      <a:pt x="1255" y="43"/>
                    </a:lnTo>
                    <a:lnTo>
                      <a:pt x="1251" y="41"/>
                    </a:lnTo>
                    <a:lnTo>
                      <a:pt x="1246" y="41"/>
                    </a:lnTo>
                    <a:lnTo>
                      <a:pt x="1240" y="40"/>
                    </a:lnTo>
                    <a:lnTo>
                      <a:pt x="1233" y="39"/>
                    </a:lnTo>
                    <a:lnTo>
                      <a:pt x="1225" y="39"/>
                    </a:lnTo>
                    <a:lnTo>
                      <a:pt x="1216" y="37"/>
                    </a:lnTo>
                    <a:lnTo>
                      <a:pt x="1208" y="37"/>
                    </a:lnTo>
                    <a:lnTo>
                      <a:pt x="1198" y="37"/>
                    </a:lnTo>
                    <a:lnTo>
                      <a:pt x="1186" y="36"/>
                    </a:lnTo>
                    <a:lnTo>
                      <a:pt x="1175" y="36"/>
                    </a:lnTo>
                    <a:lnTo>
                      <a:pt x="1164" y="36"/>
                    </a:lnTo>
                    <a:lnTo>
                      <a:pt x="1151" y="36"/>
                    </a:lnTo>
                    <a:lnTo>
                      <a:pt x="1139" y="36"/>
                    </a:lnTo>
                    <a:lnTo>
                      <a:pt x="1139" y="36"/>
                    </a:lnTo>
                    <a:close/>
                    <a:moveTo>
                      <a:pt x="1139" y="340"/>
                    </a:moveTo>
                    <a:lnTo>
                      <a:pt x="123" y="340"/>
                    </a:lnTo>
                    <a:lnTo>
                      <a:pt x="110" y="340"/>
                    </a:lnTo>
                    <a:lnTo>
                      <a:pt x="98" y="342"/>
                    </a:lnTo>
                    <a:lnTo>
                      <a:pt x="86" y="342"/>
                    </a:lnTo>
                    <a:lnTo>
                      <a:pt x="75" y="342"/>
                    </a:lnTo>
                    <a:lnTo>
                      <a:pt x="64" y="342"/>
                    </a:lnTo>
                    <a:lnTo>
                      <a:pt x="54" y="343"/>
                    </a:lnTo>
                    <a:lnTo>
                      <a:pt x="45" y="343"/>
                    </a:lnTo>
                    <a:lnTo>
                      <a:pt x="36" y="344"/>
                    </a:lnTo>
                    <a:lnTo>
                      <a:pt x="27" y="344"/>
                    </a:lnTo>
                    <a:lnTo>
                      <a:pt x="21" y="346"/>
                    </a:lnTo>
                    <a:lnTo>
                      <a:pt x="15" y="346"/>
                    </a:lnTo>
                    <a:lnTo>
                      <a:pt x="10" y="347"/>
                    </a:lnTo>
                    <a:lnTo>
                      <a:pt x="6" y="348"/>
                    </a:lnTo>
                    <a:lnTo>
                      <a:pt x="2" y="348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1" y="392"/>
                    </a:lnTo>
                    <a:lnTo>
                      <a:pt x="2" y="392"/>
                    </a:lnTo>
                    <a:lnTo>
                      <a:pt x="6" y="393"/>
                    </a:lnTo>
                    <a:lnTo>
                      <a:pt x="10" y="395"/>
                    </a:lnTo>
                    <a:lnTo>
                      <a:pt x="15" y="395"/>
                    </a:lnTo>
                    <a:lnTo>
                      <a:pt x="21" y="396"/>
                    </a:lnTo>
                    <a:lnTo>
                      <a:pt x="27" y="397"/>
                    </a:lnTo>
                    <a:lnTo>
                      <a:pt x="36" y="397"/>
                    </a:lnTo>
                    <a:lnTo>
                      <a:pt x="45" y="399"/>
                    </a:lnTo>
                    <a:lnTo>
                      <a:pt x="54" y="399"/>
                    </a:lnTo>
                    <a:lnTo>
                      <a:pt x="64" y="399"/>
                    </a:lnTo>
                    <a:lnTo>
                      <a:pt x="75" y="400"/>
                    </a:lnTo>
                    <a:lnTo>
                      <a:pt x="86" y="400"/>
                    </a:lnTo>
                    <a:lnTo>
                      <a:pt x="98" y="400"/>
                    </a:lnTo>
                    <a:lnTo>
                      <a:pt x="110" y="400"/>
                    </a:lnTo>
                    <a:lnTo>
                      <a:pt x="123" y="400"/>
                    </a:lnTo>
                    <a:lnTo>
                      <a:pt x="123" y="400"/>
                    </a:lnTo>
                    <a:lnTo>
                      <a:pt x="1139" y="400"/>
                    </a:lnTo>
                    <a:lnTo>
                      <a:pt x="1151" y="400"/>
                    </a:lnTo>
                    <a:lnTo>
                      <a:pt x="1164" y="400"/>
                    </a:lnTo>
                    <a:lnTo>
                      <a:pt x="1175" y="400"/>
                    </a:lnTo>
                    <a:lnTo>
                      <a:pt x="1186" y="400"/>
                    </a:lnTo>
                    <a:lnTo>
                      <a:pt x="1198" y="399"/>
                    </a:lnTo>
                    <a:lnTo>
                      <a:pt x="1208" y="399"/>
                    </a:lnTo>
                    <a:lnTo>
                      <a:pt x="1216" y="399"/>
                    </a:lnTo>
                    <a:lnTo>
                      <a:pt x="1225" y="397"/>
                    </a:lnTo>
                    <a:lnTo>
                      <a:pt x="1233" y="397"/>
                    </a:lnTo>
                    <a:lnTo>
                      <a:pt x="1240" y="396"/>
                    </a:lnTo>
                    <a:lnTo>
                      <a:pt x="1246" y="395"/>
                    </a:lnTo>
                    <a:lnTo>
                      <a:pt x="1251" y="395"/>
                    </a:lnTo>
                    <a:lnTo>
                      <a:pt x="1255" y="393"/>
                    </a:lnTo>
                    <a:lnTo>
                      <a:pt x="1259" y="392"/>
                    </a:lnTo>
                    <a:lnTo>
                      <a:pt x="1260" y="392"/>
                    </a:lnTo>
                    <a:lnTo>
                      <a:pt x="1260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51"/>
                    </a:lnTo>
                    <a:lnTo>
                      <a:pt x="1260" y="349"/>
                    </a:lnTo>
                    <a:lnTo>
                      <a:pt x="1260" y="349"/>
                    </a:lnTo>
                    <a:lnTo>
                      <a:pt x="1259" y="348"/>
                    </a:lnTo>
                    <a:lnTo>
                      <a:pt x="1255" y="348"/>
                    </a:lnTo>
                    <a:lnTo>
                      <a:pt x="1251" y="347"/>
                    </a:lnTo>
                    <a:lnTo>
                      <a:pt x="1246" y="346"/>
                    </a:lnTo>
                    <a:lnTo>
                      <a:pt x="1240" y="346"/>
                    </a:lnTo>
                    <a:lnTo>
                      <a:pt x="1233" y="344"/>
                    </a:lnTo>
                    <a:lnTo>
                      <a:pt x="1225" y="344"/>
                    </a:lnTo>
                    <a:lnTo>
                      <a:pt x="1216" y="343"/>
                    </a:lnTo>
                    <a:lnTo>
                      <a:pt x="1208" y="343"/>
                    </a:lnTo>
                    <a:lnTo>
                      <a:pt x="1198" y="342"/>
                    </a:lnTo>
                    <a:lnTo>
                      <a:pt x="1186" y="342"/>
                    </a:lnTo>
                    <a:lnTo>
                      <a:pt x="1175" y="342"/>
                    </a:lnTo>
                    <a:lnTo>
                      <a:pt x="1164" y="342"/>
                    </a:lnTo>
                    <a:lnTo>
                      <a:pt x="1151" y="340"/>
                    </a:lnTo>
                    <a:lnTo>
                      <a:pt x="1139" y="340"/>
                    </a:lnTo>
                    <a:lnTo>
                      <a:pt x="1139" y="340"/>
                    </a:lnTo>
                    <a:close/>
                    <a:moveTo>
                      <a:pt x="1139" y="646"/>
                    </a:moveTo>
                    <a:lnTo>
                      <a:pt x="123" y="646"/>
                    </a:lnTo>
                    <a:lnTo>
                      <a:pt x="110" y="646"/>
                    </a:lnTo>
                    <a:lnTo>
                      <a:pt x="98" y="646"/>
                    </a:lnTo>
                    <a:lnTo>
                      <a:pt x="86" y="647"/>
                    </a:lnTo>
                    <a:lnTo>
                      <a:pt x="75" y="647"/>
                    </a:lnTo>
                    <a:lnTo>
                      <a:pt x="64" y="647"/>
                    </a:lnTo>
                    <a:lnTo>
                      <a:pt x="54" y="649"/>
                    </a:lnTo>
                    <a:lnTo>
                      <a:pt x="45" y="649"/>
                    </a:lnTo>
                    <a:lnTo>
                      <a:pt x="36" y="650"/>
                    </a:lnTo>
                    <a:lnTo>
                      <a:pt x="27" y="650"/>
                    </a:lnTo>
                    <a:lnTo>
                      <a:pt x="21" y="651"/>
                    </a:lnTo>
                    <a:lnTo>
                      <a:pt x="15" y="651"/>
                    </a:lnTo>
                    <a:lnTo>
                      <a:pt x="10" y="652"/>
                    </a:lnTo>
                    <a:lnTo>
                      <a:pt x="6" y="654"/>
                    </a:lnTo>
                    <a:lnTo>
                      <a:pt x="2" y="654"/>
                    </a:lnTo>
                    <a:lnTo>
                      <a:pt x="1" y="655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6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1" y="698"/>
                    </a:lnTo>
                    <a:lnTo>
                      <a:pt x="2" y="698"/>
                    </a:lnTo>
                    <a:lnTo>
                      <a:pt x="6" y="699"/>
                    </a:lnTo>
                    <a:lnTo>
                      <a:pt x="10" y="700"/>
                    </a:lnTo>
                    <a:lnTo>
                      <a:pt x="15" y="700"/>
                    </a:lnTo>
                    <a:lnTo>
                      <a:pt x="21" y="702"/>
                    </a:lnTo>
                    <a:lnTo>
                      <a:pt x="27" y="702"/>
                    </a:lnTo>
                    <a:lnTo>
                      <a:pt x="36" y="703"/>
                    </a:lnTo>
                    <a:lnTo>
                      <a:pt x="45" y="703"/>
                    </a:lnTo>
                    <a:lnTo>
                      <a:pt x="54" y="704"/>
                    </a:lnTo>
                    <a:lnTo>
                      <a:pt x="64" y="704"/>
                    </a:lnTo>
                    <a:lnTo>
                      <a:pt x="75" y="705"/>
                    </a:lnTo>
                    <a:lnTo>
                      <a:pt x="86" y="705"/>
                    </a:lnTo>
                    <a:lnTo>
                      <a:pt x="98" y="705"/>
                    </a:lnTo>
                    <a:lnTo>
                      <a:pt x="110" y="705"/>
                    </a:lnTo>
                    <a:lnTo>
                      <a:pt x="123" y="705"/>
                    </a:lnTo>
                    <a:lnTo>
                      <a:pt x="123" y="705"/>
                    </a:lnTo>
                    <a:lnTo>
                      <a:pt x="1139" y="705"/>
                    </a:lnTo>
                    <a:lnTo>
                      <a:pt x="1151" y="705"/>
                    </a:lnTo>
                    <a:lnTo>
                      <a:pt x="1164" y="705"/>
                    </a:lnTo>
                    <a:lnTo>
                      <a:pt x="1175" y="705"/>
                    </a:lnTo>
                    <a:lnTo>
                      <a:pt x="1186" y="705"/>
                    </a:lnTo>
                    <a:lnTo>
                      <a:pt x="1198" y="704"/>
                    </a:lnTo>
                    <a:lnTo>
                      <a:pt x="1208" y="704"/>
                    </a:lnTo>
                    <a:lnTo>
                      <a:pt x="1216" y="703"/>
                    </a:lnTo>
                    <a:lnTo>
                      <a:pt x="1225" y="703"/>
                    </a:lnTo>
                    <a:lnTo>
                      <a:pt x="1233" y="702"/>
                    </a:lnTo>
                    <a:lnTo>
                      <a:pt x="1240" y="702"/>
                    </a:lnTo>
                    <a:lnTo>
                      <a:pt x="1246" y="700"/>
                    </a:lnTo>
                    <a:lnTo>
                      <a:pt x="1251" y="700"/>
                    </a:lnTo>
                    <a:lnTo>
                      <a:pt x="1255" y="699"/>
                    </a:lnTo>
                    <a:lnTo>
                      <a:pt x="1259" y="698"/>
                    </a:lnTo>
                    <a:lnTo>
                      <a:pt x="1260" y="698"/>
                    </a:lnTo>
                    <a:lnTo>
                      <a:pt x="1260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56"/>
                    </a:lnTo>
                    <a:lnTo>
                      <a:pt x="1260" y="655"/>
                    </a:lnTo>
                    <a:lnTo>
                      <a:pt x="1260" y="655"/>
                    </a:lnTo>
                    <a:lnTo>
                      <a:pt x="1259" y="654"/>
                    </a:lnTo>
                    <a:lnTo>
                      <a:pt x="1255" y="654"/>
                    </a:lnTo>
                    <a:lnTo>
                      <a:pt x="1251" y="652"/>
                    </a:lnTo>
                    <a:lnTo>
                      <a:pt x="1246" y="651"/>
                    </a:lnTo>
                    <a:lnTo>
                      <a:pt x="1240" y="651"/>
                    </a:lnTo>
                    <a:lnTo>
                      <a:pt x="1233" y="650"/>
                    </a:lnTo>
                    <a:lnTo>
                      <a:pt x="1225" y="650"/>
                    </a:lnTo>
                    <a:lnTo>
                      <a:pt x="1216" y="649"/>
                    </a:lnTo>
                    <a:lnTo>
                      <a:pt x="1208" y="649"/>
                    </a:lnTo>
                    <a:lnTo>
                      <a:pt x="1198" y="647"/>
                    </a:lnTo>
                    <a:lnTo>
                      <a:pt x="1186" y="647"/>
                    </a:lnTo>
                    <a:lnTo>
                      <a:pt x="1175" y="647"/>
                    </a:lnTo>
                    <a:lnTo>
                      <a:pt x="1164" y="646"/>
                    </a:lnTo>
                    <a:lnTo>
                      <a:pt x="1151" y="646"/>
                    </a:lnTo>
                    <a:lnTo>
                      <a:pt x="1139" y="646"/>
                    </a:lnTo>
                    <a:lnTo>
                      <a:pt x="1139" y="646"/>
                    </a:lnTo>
                    <a:close/>
                    <a:moveTo>
                      <a:pt x="1753" y="703"/>
                    </a:moveTo>
                    <a:lnTo>
                      <a:pt x="1753" y="74"/>
                    </a:lnTo>
                    <a:lnTo>
                      <a:pt x="1751" y="59"/>
                    </a:lnTo>
                    <a:lnTo>
                      <a:pt x="1751" y="53"/>
                    </a:lnTo>
                    <a:lnTo>
                      <a:pt x="1751" y="45"/>
                    </a:lnTo>
                    <a:lnTo>
                      <a:pt x="1751" y="39"/>
                    </a:lnTo>
                    <a:lnTo>
                      <a:pt x="1750" y="32"/>
                    </a:lnTo>
                    <a:lnTo>
                      <a:pt x="1750" y="27"/>
                    </a:lnTo>
                    <a:lnTo>
                      <a:pt x="1749" y="21"/>
                    </a:lnTo>
                    <a:lnTo>
                      <a:pt x="1749" y="16"/>
                    </a:lnTo>
                    <a:lnTo>
                      <a:pt x="1748" y="12"/>
                    </a:lnTo>
                    <a:lnTo>
                      <a:pt x="1748" y="8"/>
                    </a:lnTo>
                    <a:lnTo>
                      <a:pt x="1746" y="5"/>
                    </a:lnTo>
                    <a:lnTo>
                      <a:pt x="1745" y="2"/>
                    </a:lnTo>
                    <a:lnTo>
                      <a:pt x="1745" y="1"/>
                    </a:lnTo>
                    <a:lnTo>
                      <a:pt x="1744" y="0"/>
                    </a:lnTo>
                    <a:lnTo>
                      <a:pt x="1743" y="0"/>
                    </a:lnTo>
                    <a:lnTo>
                      <a:pt x="1705" y="0"/>
                    </a:lnTo>
                    <a:lnTo>
                      <a:pt x="1704" y="0"/>
                    </a:lnTo>
                    <a:lnTo>
                      <a:pt x="1703" y="1"/>
                    </a:lnTo>
                    <a:lnTo>
                      <a:pt x="1703" y="2"/>
                    </a:lnTo>
                    <a:lnTo>
                      <a:pt x="1701" y="5"/>
                    </a:lnTo>
                    <a:lnTo>
                      <a:pt x="1700" y="8"/>
                    </a:lnTo>
                    <a:lnTo>
                      <a:pt x="1700" y="12"/>
                    </a:lnTo>
                    <a:lnTo>
                      <a:pt x="1699" y="16"/>
                    </a:lnTo>
                    <a:lnTo>
                      <a:pt x="1699" y="21"/>
                    </a:lnTo>
                    <a:lnTo>
                      <a:pt x="1698" y="27"/>
                    </a:lnTo>
                    <a:lnTo>
                      <a:pt x="1698" y="32"/>
                    </a:lnTo>
                    <a:lnTo>
                      <a:pt x="1696" y="39"/>
                    </a:lnTo>
                    <a:lnTo>
                      <a:pt x="1696" y="45"/>
                    </a:lnTo>
                    <a:lnTo>
                      <a:pt x="1696" y="53"/>
                    </a:lnTo>
                    <a:lnTo>
                      <a:pt x="1696" y="59"/>
                    </a:lnTo>
                    <a:lnTo>
                      <a:pt x="1695" y="74"/>
                    </a:lnTo>
                    <a:lnTo>
                      <a:pt x="1695" y="74"/>
                    </a:lnTo>
                    <a:lnTo>
                      <a:pt x="1695" y="703"/>
                    </a:lnTo>
                    <a:lnTo>
                      <a:pt x="1696" y="712"/>
                    </a:lnTo>
                    <a:lnTo>
                      <a:pt x="1696" y="719"/>
                    </a:lnTo>
                    <a:lnTo>
                      <a:pt x="1696" y="727"/>
                    </a:lnTo>
                    <a:lnTo>
                      <a:pt x="1696" y="733"/>
                    </a:lnTo>
                    <a:lnTo>
                      <a:pt x="1696" y="739"/>
                    </a:lnTo>
                    <a:lnTo>
                      <a:pt x="1698" y="746"/>
                    </a:lnTo>
                    <a:lnTo>
                      <a:pt x="1698" y="752"/>
                    </a:lnTo>
                    <a:lnTo>
                      <a:pt x="1699" y="757"/>
                    </a:lnTo>
                    <a:lnTo>
                      <a:pt x="1699" y="762"/>
                    </a:lnTo>
                    <a:lnTo>
                      <a:pt x="1700" y="766"/>
                    </a:lnTo>
                    <a:lnTo>
                      <a:pt x="1700" y="770"/>
                    </a:lnTo>
                    <a:lnTo>
                      <a:pt x="1701" y="774"/>
                    </a:lnTo>
                    <a:lnTo>
                      <a:pt x="1703" y="775"/>
                    </a:lnTo>
                    <a:lnTo>
                      <a:pt x="1703" y="777"/>
                    </a:lnTo>
                    <a:lnTo>
                      <a:pt x="1704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43" y="779"/>
                    </a:lnTo>
                    <a:lnTo>
                      <a:pt x="1744" y="779"/>
                    </a:lnTo>
                    <a:lnTo>
                      <a:pt x="1745" y="777"/>
                    </a:lnTo>
                    <a:lnTo>
                      <a:pt x="1745" y="775"/>
                    </a:lnTo>
                    <a:lnTo>
                      <a:pt x="1746" y="774"/>
                    </a:lnTo>
                    <a:lnTo>
                      <a:pt x="1748" y="770"/>
                    </a:lnTo>
                    <a:lnTo>
                      <a:pt x="1748" y="766"/>
                    </a:lnTo>
                    <a:lnTo>
                      <a:pt x="1749" y="762"/>
                    </a:lnTo>
                    <a:lnTo>
                      <a:pt x="1749" y="757"/>
                    </a:lnTo>
                    <a:lnTo>
                      <a:pt x="1750" y="752"/>
                    </a:lnTo>
                    <a:lnTo>
                      <a:pt x="1750" y="746"/>
                    </a:lnTo>
                    <a:lnTo>
                      <a:pt x="1751" y="739"/>
                    </a:lnTo>
                    <a:lnTo>
                      <a:pt x="1751" y="733"/>
                    </a:lnTo>
                    <a:lnTo>
                      <a:pt x="1751" y="727"/>
                    </a:lnTo>
                    <a:lnTo>
                      <a:pt x="1751" y="719"/>
                    </a:lnTo>
                    <a:lnTo>
                      <a:pt x="1753" y="712"/>
                    </a:lnTo>
                    <a:lnTo>
                      <a:pt x="1753" y="703"/>
                    </a:lnTo>
                    <a:lnTo>
                      <a:pt x="1753" y="703"/>
                    </a:lnTo>
                    <a:close/>
                    <a:moveTo>
                      <a:pt x="2573" y="703"/>
                    </a:moveTo>
                    <a:lnTo>
                      <a:pt x="2573" y="74"/>
                    </a:lnTo>
                    <a:lnTo>
                      <a:pt x="2573" y="59"/>
                    </a:lnTo>
                    <a:lnTo>
                      <a:pt x="2573" y="53"/>
                    </a:lnTo>
                    <a:lnTo>
                      <a:pt x="2573" y="45"/>
                    </a:lnTo>
                    <a:lnTo>
                      <a:pt x="2572" y="39"/>
                    </a:lnTo>
                    <a:lnTo>
                      <a:pt x="2572" y="32"/>
                    </a:lnTo>
                    <a:lnTo>
                      <a:pt x="2572" y="27"/>
                    </a:lnTo>
                    <a:lnTo>
                      <a:pt x="2571" y="21"/>
                    </a:lnTo>
                    <a:lnTo>
                      <a:pt x="2571" y="16"/>
                    </a:lnTo>
                    <a:lnTo>
                      <a:pt x="2570" y="12"/>
                    </a:lnTo>
                    <a:lnTo>
                      <a:pt x="2568" y="8"/>
                    </a:lnTo>
                    <a:lnTo>
                      <a:pt x="2568" y="5"/>
                    </a:lnTo>
                    <a:lnTo>
                      <a:pt x="2567" y="2"/>
                    </a:lnTo>
                    <a:lnTo>
                      <a:pt x="2567" y="1"/>
                    </a:lnTo>
                    <a:lnTo>
                      <a:pt x="2566" y="0"/>
                    </a:lnTo>
                    <a:lnTo>
                      <a:pt x="2565" y="0"/>
                    </a:lnTo>
                    <a:lnTo>
                      <a:pt x="2524" y="0"/>
                    </a:lnTo>
                    <a:lnTo>
                      <a:pt x="2523" y="0"/>
                    </a:lnTo>
                    <a:lnTo>
                      <a:pt x="2522" y="1"/>
                    </a:lnTo>
                    <a:lnTo>
                      <a:pt x="2522" y="2"/>
                    </a:lnTo>
                    <a:lnTo>
                      <a:pt x="2521" y="5"/>
                    </a:lnTo>
                    <a:lnTo>
                      <a:pt x="2521" y="8"/>
                    </a:lnTo>
                    <a:lnTo>
                      <a:pt x="2519" y="12"/>
                    </a:lnTo>
                    <a:lnTo>
                      <a:pt x="2519" y="16"/>
                    </a:lnTo>
                    <a:lnTo>
                      <a:pt x="2519" y="21"/>
                    </a:lnTo>
                    <a:lnTo>
                      <a:pt x="2518" y="27"/>
                    </a:lnTo>
                    <a:lnTo>
                      <a:pt x="2518" y="32"/>
                    </a:lnTo>
                    <a:lnTo>
                      <a:pt x="2518" y="39"/>
                    </a:lnTo>
                    <a:lnTo>
                      <a:pt x="2518" y="45"/>
                    </a:lnTo>
                    <a:lnTo>
                      <a:pt x="2517" y="53"/>
                    </a:lnTo>
                    <a:lnTo>
                      <a:pt x="2517" y="59"/>
                    </a:lnTo>
                    <a:lnTo>
                      <a:pt x="2517" y="74"/>
                    </a:lnTo>
                    <a:lnTo>
                      <a:pt x="2517" y="74"/>
                    </a:lnTo>
                    <a:lnTo>
                      <a:pt x="2517" y="703"/>
                    </a:lnTo>
                    <a:lnTo>
                      <a:pt x="2517" y="712"/>
                    </a:lnTo>
                    <a:lnTo>
                      <a:pt x="2517" y="719"/>
                    </a:lnTo>
                    <a:lnTo>
                      <a:pt x="2517" y="727"/>
                    </a:lnTo>
                    <a:lnTo>
                      <a:pt x="2518" y="733"/>
                    </a:lnTo>
                    <a:lnTo>
                      <a:pt x="2518" y="739"/>
                    </a:lnTo>
                    <a:lnTo>
                      <a:pt x="2518" y="746"/>
                    </a:lnTo>
                    <a:lnTo>
                      <a:pt x="2518" y="752"/>
                    </a:lnTo>
                    <a:lnTo>
                      <a:pt x="2519" y="757"/>
                    </a:lnTo>
                    <a:lnTo>
                      <a:pt x="2519" y="762"/>
                    </a:lnTo>
                    <a:lnTo>
                      <a:pt x="2519" y="766"/>
                    </a:lnTo>
                    <a:lnTo>
                      <a:pt x="2521" y="770"/>
                    </a:lnTo>
                    <a:lnTo>
                      <a:pt x="2521" y="774"/>
                    </a:lnTo>
                    <a:lnTo>
                      <a:pt x="2522" y="775"/>
                    </a:lnTo>
                    <a:lnTo>
                      <a:pt x="2522" y="777"/>
                    </a:lnTo>
                    <a:lnTo>
                      <a:pt x="2523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65" y="779"/>
                    </a:lnTo>
                    <a:lnTo>
                      <a:pt x="2566" y="779"/>
                    </a:lnTo>
                    <a:lnTo>
                      <a:pt x="2567" y="777"/>
                    </a:lnTo>
                    <a:lnTo>
                      <a:pt x="2567" y="775"/>
                    </a:lnTo>
                    <a:lnTo>
                      <a:pt x="2568" y="774"/>
                    </a:lnTo>
                    <a:lnTo>
                      <a:pt x="2568" y="770"/>
                    </a:lnTo>
                    <a:lnTo>
                      <a:pt x="2570" y="766"/>
                    </a:lnTo>
                    <a:lnTo>
                      <a:pt x="2571" y="762"/>
                    </a:lnTo>
                    <a:lnTo>
                      <a:pt x="2571" y="757"/>
                    </a:lnTo>
                    <a:lnTo>
                      <a:pt x="2572" y="752"/>
                    </a:lnTo>
                    <a:lnTo>
                      <a:pt x="2572" y="746"/>
                    </a:lnTo>
                    <a:lnTo>
                      <a:pt x="2572" y="739"/>
                    </a:lnTo>
                    <a:lnTo>
                      <a:pt x="2573" y="733"/>
                    </a:lnTo>
                    <a:lnTo>
                      <a:pt x="2573" y="727"/>
                    </a:lnTo>
                    <a:lnTo>
                      <a:pt x="2573" y="719"/>
                    </a:lnTo>
                    <a:lnTo>
                      <a:pt x="2573" y="712"/>
                    </a:lnTo>
                    <a:lnTo>
                      <a:pt x="2573" y="703"/>
                    </a:lnTo>
                    <a:lnTo>
                      <a:pt x="2573" y="70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692640" y="2282400"/>
                <a:ext cx="896760" cy="4608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5" y="0"/>
                    </a:lnTo>
                    <a:lnTo>
                      <a:pt x="64" y="1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6" y="3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6" y="52"/>
                    </a:lnTo>
                    <a:lnTo>
                      <a:pt x="10" y="53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7" y="56"/>
                    </a:lnTo>
                    <a:lnTo>
                      <a:pt x="36" y="56"/>
                    </a:lnTo>
                    <a:lnTo>
                      <a:pt x="45" y="57"/>
                    </a:lnTo>
                    <a:lnTo>
                      <a:pt x="54" y="57"/>
                    </a:lnTo>
                    <a:lnTo>
                      <a:pt x="64" y="58"/>
                    </a:lnTo>
                    <a:lnTo>
                      <a:pt x="75" y="58"/>
                    </a:lnTo>
                    <a:lnTo>
                      <a:pt x="86" y="58"/>
                    </a:lnTo>
                    <a:lnTo>
                      <a:pt x="98" y="58"/>
                    </a:lnTo>
                    <a:lnTo>
                      <a:pt x="110" y="58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58"/>
                    </a:lnTo>
                    <a:lnTo>
                      <a:pt x="1164" y="58"/>
                    </a:lnTo>
                    <a:lnTo>
                      <a:pt x="1175" y="58"/>
                    </a:lnTo>
                    <a:lnTo>
                      <a:pt x="1186" y="58"/>
                    </a:lnTo>
                    <a:lnTo>
                      <a:pt x="1198" y="58"/>
                    </a:lnTo>
                    <a:lnTo>
                      <a:pt x="1208" y="57"/>
                    </a:lnTo>
                    <a:lnTo>
                      <a:pt x="1216" y="57"/>
                    </a:lnTo>
                    <a:lnTo>
                      <a:pt x="1225" y="56"/>
                    </a:lnTo>
                    <a:lnTo>
                      <a:pt x="1233" y="56"/>
                    </a:lnTo>
                    <a:lnTo>
                      <a:pt x="1240" y="54"/>
                    </a:lnTo>
                    <a:lnTo>
                      <a:pt x="1246" y="54"/>
                    </a:lnTo>
                    <a:lnTo>
                      <a:pt x="1251" y="53"/>
                    </a:lnTo>
                    <a:lnTo>
                      <a:pt x="1255" y="52"/>
                    </a:lnTo>
                    <a:lnTo>
                      <a:pt x="1259" y="52"/>
                    </a:lnTo>
                    <a:lnTo>
                      <a:pt x="1260" y="51"/>
                    </a:lnTo>
                    <a:lnTo>
                      <a:pt x="1260" y="51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9"/>
                    </a:lnTo>
                    <a:lnTo>
                      <a:pt x="1260" y="8"/>
                    </a:lnTo>
                    <a:lnTo>
                      <a:pt x="1260" y="8"/>
                    </a:lnTo>
                    <a:lnTo>
                      <a:pt x="1259" y="7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6" y="5"/>
                    </a:lnTo>
                    <a:lnTo>
                      <a:pt x="1240" y="4"/>
                    </a:lnTo>
                    <a:lnTo>
                      <a:pt x="1233" y="3"/>
                    </a:lnTo>
                    <a:lnTo>
                      <a:pt x="1225" y="3"/>
                    </a:lnTo>
                    <a:lnTo>
                      <a:pt x="1216" y="1"/>
                    </a:lnTo>
                    <a:lnTo>
                      <a:pt x="1208" y="1"/>
                    </a:lnTo>
                    <a:lnTo>
                      <a:pt x="1198" y="1"/>
                    </a:lnTo>
                    <a:lnTo>
                      <a:pt x="1186" y="0"/>
                    </a:lnTo>
                    <a:lnTo>
                      <a:pt x="1175" y="0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9" name=""/>
              <p:cNvSpPr/>
              <p:nvPr/>
            </p:nvSpPr>
            <p:spPr>
              <a:xfrm>
                <a:off x="692640" y="2518200"/>
                <a:ext cx="896760" cy="4608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2"/>
                    </a:lnTo>
                    <a:lnTo>
                      <a:pt x="86" y="2"/>
                    </a:lnTo>
                    <a:lnTo>
                      <a:pt x="75" y="2"/>
                    </a:lnTo>
                    <a:lnTo>
                      <a:pt x="64" y="2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10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21" y="56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9"/>
                    </a:lnTo>
                    <a:lnTo>
                      <a:pt x="54" y="59"/>
                    </a:lnTo>
                    <a:lnTo>
                      <a:pt x="64" y="59"/>
                    </a:lnTo>
                    <a:lnTo>
                      <a:pt x="75" y="60"/>
                    </a:lnTo>
                    <a:lnTo>
                      <a:pt x="86" y="60"/>
                    </a:lnTo>
                    <a:lnTo>
                      <a:pt x="98" y="60"/>
                    </a:lnTo>
                    <a:lnTo>
                      <a:pt x="110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60"/>
                    </a:lnTo>
                    <a:lnTo>
                      <a:pt x="1164" y="60"/>
                    </a:lnTo>
                    <a:lnTo>
                      <a:pt x="1175" y="60"/>
                    </a:lnTo>
                    <a:lnTo>
                      <a:pt x="1186" y="60"/>
                    </a:lnTo>
                    <a:lnTo>
                      <a:pt x="1198" y="59"/>
                    </a:lnTo>
                    <a:lnTo>
                      <a:pt x="1208" y="59"/>
                    </a:lnTo>
                    <a:lnTo>
                      <a:pt x="1216" y="59"/>
                    </a:lnTo>
                    <a:lnTo>
                      <a:pt x="1225" y="57"/>
                    </a:lnTo>
                    <a:lnTo>
                      <a:pt x="1233" y="57"/>
                    </a:lnTo>
                    <a:lnTo>
                      <a:pt x="1240" y="56"/>
                    </a:lnTo>
                    <a:lnTo>
                      <a:pt x="1246" y="55"/>
                    </a:lnTo>
                    <a:lnTo>
                      <a:pt x="1251" y="55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11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7"/>
                    </a:lnTo>
                    <a:lnTo>
                      <a:pt x="1246" y="6"/>
                    </a:lnTo>
                    <a:lnTo>
                      <a:pt x="1240" y="6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2"/>
                    </a:lnTo>
                    <a:lnTo>
                      <a:pt x="1186" y="2"/>
                    </a:lnTo>
                    <a:lnTo>
                      <a:pt x="1175" y="2"/>
                    </a:lnTo>
                    <a:lnTo>
                      <a:pt x="1164" y="2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0" name=""/>
              <p:cNvSpPr/>
              <p:nvPr/>
            </p:nvSpPr>
            <p:spPr>
              <a:xfrm>
                <a:off x="692640" y="2756160"/>
                <a:ext cx="896760" cy="46080"/>
              </a:xfrm>
              <a:custGeom>
                <a:avLst/>
                <a:gdLst/>
                <a:ahLst/>
                <a:rect l="l" t="t" r="r" b="b"/>
                <a:pathLst>
                  <a:path w="1261" h="59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1"/>
                    </a:lnTo>
                    <a:lnTo>
                      <a:pt x="75" y="1"/>
                    </a:lnTo>
                    <a:lnTo>
                      <a:pt x="64" y="1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5"/>
                    </a:lnTo>
                    <a:lnTo>
                      <a:pt x="15" y="5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4"/>
                    </a:lnTo>
                    <a:lnTo>
                      <a:pt x="15" y="54"/>
                    </a:lnTo>
                    <a:lnTo>
                      <a:pt x="21" y="56"/>
                    </a:lnTo>
                    <a:lnTo>
                      <a:pt x="27" y="56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8"/>
                    </a:lnTo>
                    <a:lnTo>
                      <a:pt x="64" y="58"/>
                    </a:lnTo>
                    <a:lnTo>
                      <a:pt x="75" y="59"/>
                    </a:lnTo>
                    <a:lnTo>
                      <a:pt x="86" y="59"/>
                    </a:lnTo>
                    <a:lnTo>
                      <a:pt x="98" y="59"/>
                    </a:lnTo>
                    <a:lnTo>
                      <a:pt x="110" y="59"/>
                    </a:lnTo>
                    <a:lnTo>
                      <a:pt x="123" y="59"/>
                    </a:lnTo>
                    <a:lnTo>
                      <a:pt x="123" y="59"/>
                    </a:lnTo>
                    <a:lnTo>
                      <a:pt x="1139" y="59"/>
                    </a:lnTo>
                    <a:lnTo>
                      <a:pt x="1151" y="59"/>
                    </a:lnTo>
                    <a:lnTo>
                      <a:pt x="1164" y="59"/>
                    </a:lnTo>
                    <a:lnTo>
                      <a:pt x="1175" y="59"/>
                    </a:lnTo>
                    <a:lnTo>
                      <a:pt x="1186" y="59"/>
                    </a:lnTo>
                    <a:lnTo>
                      <a:pt x="1198" y="58"/>
                    </a:lnTo>
                    <a:lnTo>
                      <a:pt x="1208" y="58"/>
                    </a:lnTo>
                    <a:lnTo>
                      <a:pt x="1216" y="57"/>
                    </a:lnTo>
                    <a:lnTo>
                      <a:pt x="1225" y="57"/>
                    </a:lnTo>
                    <a:lnTo>
                      <a:pt x="1233" y="56"/>
                    </a:lnTo>
                    <a:lnTo>
                      <a:pt x="1240" y="56"/>
                    </a:lnTo>
                    <a:lnTo>
                      <a:pt x="1246" y="54"/>
                    </a:lnTo>
                    <a:lnTo>
                      <a:pt x="1251" y="54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10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6"/>
                    </a:lnTo>
                    <a:lnTo>
                      <a:pt x="1246" y="5"/>
                    </a:lnTo>
                    <a:lnTo>
                      <a:pt x="1240" y="5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1"/>
                    </a:lnTo>
                    <a:lnTo>
                      <a:pt x="1186" y="1"/>
                    </a:lnTo>
                    <a:lnTo>
                      <a:pt x="1175" y="1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1" name=""/>
              <p:cNvSpPr/>
              <p:nvPr/>
            </p:nvSpPr>
            <p:spPr>
              <a:xfrm>
                <a:off x="1898280" y="2253960"/>
                <a:ext cx="39600" cy="604440"/>
              </a:xfrm>
              <a:custGeom>
                <a:avLst/>
                <a:gdLst/>
                <a:ahLst/>
                <a:rect l="l" t="t" r="r" b="b"/>
                <a:pathLst>
                  <a:path w="58" h="779">
                    <a:moveTo>
                      <a:pt x="58" y="703"/>
                    </a:moveTo>
                    <a:lnTo>
                      <a:pt x="58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6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4" y="21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1" y="712"/>
                    </a:lnTo>
                    <a:lnTo>
                      <a:pt x="1" y="719"/>
                    </a:lnTo>
                    <a:lnTo>
                      <a:pt x="1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3" y="746"/>
                    </a:lnTo>
                    <a:lnTo>
                      <a:pt x="3" y="752"/>
                    </a:lnTo>
                    <a:lnTo>
                      <a:pt x="4" y="757"/>
                    </a:lnTo>
                    <a:lnTo>
                      <a:pt x="4" y="762"/>
                    </a:lnTo>
                    <a:lnTo>
                      <a:pt x="5" y="766"/>
                    </a:lnTo>
                    <a:lnTo>
                      <a:pt x="5" y="770"/>
                    </a:lnTo>
                    <a:lnTo>
                      <a:pt x="6" y="774"/>
                    </a:lnTo>
                    <a:lnTo>
                      <a:pt x="8" y="775"/>
                    </a:lnTo>
                    <a:lnTo>
                      <a:pt x="8" y="777"/>
                    </a:lnTo>
                    <a:lnTo>
                      <a:pt x="9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3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6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8" y="712"/>
                    </a:lnTo>
                    <a:lnTo>
                      <a:pt x="58" y="703"/>
                    </a:lnTo>
                    <a:lnTo>
                      <a:pt x="58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2" name=""/>
              <p:cNvSpPr/>
              <p:nvPr/>
            </p:nvSpPr>
            <p:spPr>
              <a:xfrm>
                <a:off x="2481840" y="2253960"/>
                <a:ext cx="41040" cy="604440"/>
              </a:xfrm>
              <a:custGeom>
                <a:avLst/>
                <a:gdLst/>
                <a:ahLst/>
                <a:rect l="l" t="t" r="r" b="b"/>
                <a:pathLst>
                  <a:path w="56" h="779">
                    <a:moveTo>
                      <a:pt x="56" y="703"/>
                    </a:moveTo>
                    <a:lnTo>
                      <a:pt x="56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5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0" y="712"/>
                    </a:lnTo>
                    <a:lnTo>
                      <a:pt x="0" y="719"/>
                    </a:lnTo>
                    <a:lnTo>
                      <a:pt x="0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1" y="746"/>
                    </a:lnTo>
                    <a:lnTo>
                      <a:pt x="1" y="752"/>
                    </a:lnTo>
                    <a:lnTo>
                      <a:pt x="2" y="757"/>
                    </a:lnTo>
                    <a:lnTo>
                      <a:pt x="2" y="762"/>
                    </a:lnTo>
                    <a:lnTo>
                      <a:pt x="2" y="766"/>
                    </a:lnTo>
                    <a:lnTo>
                      <a:pt x="4" y="770"/>
                    </a:lnTo>
                    <a:lnTo>
                      <a:pt x="4" y="774"/>
                    </a:lnTo>
                    <a:lnTo>
                      <a:pt x="5" y="775"/>
                    </a:lnTo>
                    <a:lnTo>
                      <a:pt x="5" y="777"/>
                    </a:lnTo>
                    <a:lnTo>
                      <a:pt x="6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1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5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6" y="712"/>
                    </a:lnTo>
                    <a:lnTo>
                      <a:pt x="56" y="703"/>
                    </a:lnTo>
                    <a:lnTo>
                      <a:pt x="56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3" name=""/>
              <p:cNvSpPr/>
              <p:nvPr/>
            </p:nvSpPr>
            <p:spPr>
              <a:xfrm>
                <a:off x="837360" y="2428920"/>
                <a:ext cx="103680" cy="25920"/>
              </a:xfrm>
              <a:custGeom>
                <a:avLst/>
                <a:gdLst/>
                <a:ahLst/>
                <a:rect l="l" t="t" r="r" b="b"/>
                <a:pathLst>
                  <a:path w="145" h="35">
                    <a:moveTo>
                      <a:pt x="36" y="35"/>
                    </a:moveTo>
                    <a:lnTo>
                      <a:pt x="109" y="35"/>
                    </a:lnTo>
                    <a:lnTo>
                      <a:pt x="109" y="35"/>
                    </a:lnTo>
                    <a:lnTo>
                      <a:pt x="110" y="35"/>
                    </a:lnTo>
                    <a:lnTo>
                      <a:pt x="112" y="35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20" y="34"/>
                    </a:lnTo>
                    <a:lnTo>
                      <a:pt x="123" y="33"/>
                    </a:lnTo>
                    <a:lnTo>
                      <a:pt x="127" y="32"/>
                    </a:lnTo>
                    <a:lnTo>
                      <a:pt x="130" y="29"/>
                    </a:lnTo>
                    <a:lnTo>
                      <a:pt x="133" y="27"/>
                    </a:lnTo>
                    <a:lnTo>
                      <a:pt x="137" y="24"/>
                    </a:lnTo>
                    <a:lnTo>
                      <a:pt x="139" y="20"/>
                    </a:lnTo>
                    <a:lnTo>
                      <a:pt x="142" y="16"/>
                    </a:lnTo>
                    <a:lnTo>
                      <a:pt x="143" y="11"/>
                    </a:lnTo>
                    <a:lnTo>
                      <a:pt x="144" y="6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4" y="16"/>
                    </a:lnTo>
                    <a:lnTo>
                      <a:pt x="5" y="20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3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4" name=""/>
              <p:cNvSpPr/>
              <p:nvPr/>
            </p:nvSpPr>
            <p:spPr>
              <a:xfrm>
                <a:off x="837360" y="2653920"/>
                <a:ext cx="103680" cy="2952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36" y="36"/>
                    </a:moveTo>
                    <a:lnTo>
                      <a:pt x="109" y="36"/>
                    </a:lnTo>
                    <a:lnTo>
                      <a:pt x="109" y="36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7" y="36"/>
                    </a:lnTo>
                    <a:lnTo>
                      <a:pt x="120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7" y="36"/>
                    </a:lnTo>
                    <a:lnTo>
                      <a:pt x="139" y="36"/>
                    </a:lnTo>
                    <a:lnTo>
                      <a:pt x="142" y="36"/>
                    </a:lnTo>
                    <a:lnTo>
                      <a:pt x="143" y="36"/>
                    </a:lnTo>
                    <a:lnTo>
                      <a:pt x="144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4" y="29"/>
                    </a:lnTo>
                    <a:lnTo>
                      <a:pt x="143" y="24"/>
                    </a:lnTo>
                    <a:lnTo>
                      <a:pt x="142" y="19"/>
                    </a:lnTo>
                    <a:lnTo>
                      <a:pt x="139" y="15"/>
                    </a:lnTo>
                    <a:lnTo>
                      <a:pt x="137" y="11"/>
                    </a:lnTo>
                    <a:lnTo>
                      <a:pt x="133" y="9"/>
                    </a:lnTo>
                    <a:lnTo>
                      <a:pt x="130" y="6"/>
                    </a:lnTo>
                    <a:lnTo>
                      <a:pt x="127" y="3"/>
                    </a:lnTo>
                    <a:lnTo>
                      <a:pt x="123" y="2"/>
                    </a:lnTo>
                    <a:lnTo>
                      <a:pt x="120" y="1"/>
                    </a:lnTo>
                    <a:lnTo>
                      <a:pt x="117" y="1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5" y="15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5" name=""/>
              <p:cNvSpPr/>
              <p:nvPr/>
            </p:nvSpPr>
            <p:spPr>
              <a:xfrm>
                <a:off x="812520" y="2399040"/>
                <a:ext cx="24840" cy="28188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6" name=""/>
              <p:cNvSpPr/>
              <p:nvPr/>
            </p:nvSpPr>
            <p:spPr>
              <a:xfrm>
                <a:off x="837360" y="2399040"/>
                <a:ext cx="24840" cy="281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7" name=""/>
              <p:cNvSpPr/>
              <p:nvPr/>
            </p:nvSpPr>
            <p:spPr>
              <a:xfrm>
                <a:off x="862560" y="2399040"/>
                <a:ext cx="26280" cy="2818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8" name=""/>
              <p:cNvSpPr/>
              <p:nvPr/>
            </p:nvSpPr>
            <p:spPr>
              <a:xfrm>
                <a:off x="888840" y="2399040"/>
                <a:ext cx="27360" cy="28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9" name=""/>
              <p:cNvSpPr/>
              <p:nvPr/>
            </p:nvSpPr>
            <p:spPr>
              <a:xfrm>
                <a:off x="836280" y="2406240"/>
                <a:ext cx="81000" cy="3420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17" y="46"/>
                    </a:move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3" y="37"/>
                    </a:lnTo>
                    <a:lnTo>
                      <a:pt x="115" y="34"/>
                    </a:lnTo>
                    <a:lnTo>
                      <a:pt x="116" y="31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18"/>
                    </a:lnTo>
                    <a:lnTo>
                      <a:pt x="116" y="15"/>
                    </a:lnTo>
                    <a:lnTo>
                      <a:pt x="115" y="12"/>
                    </a:lnTo>
                    <a:lnTo>
                      <a:pt x="113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0" name=""/>
              <p:cNvSpPr/>
              <p:nvPr/>
            </p:nvSpPr>
            <p:spPr>
              <a:xfrm>
                <a:off x="836280" y="2643120"/>
                <a:ext cx="81000" cy="3528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7" y="45"/>
                    </a:moveTo>
                    <a:lnTo>
                      <a:pt x="101" y="45"/>
                    </a:lnTo>
                    <a:lnTo>
                      <a:pt x="103" y="45"/>
                    </a:lnTo>
                    <a:lnTo>
                      <a:pt x="107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6" y="30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5" y="11"/>
                    </a:lnTo>
                    <a:lnTo>
                      <a:pt x="113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4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1" name=""/>
              <p:cNvSpPr/>
              <p:nvPr/>
            </p:nvSpPr>
            <p:spPr>
              <a:xfrm>
                <a:off x="1301040" y="2428920"/>
                <a:ext cx="77400" cy="2592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0" y="35"/>
                    </a:moveTo>
                    <a:lnTo>
                      <a:pt x="72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0" y="34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5" y="29"/>
                    </a:lnTo>
                    <a:lnTo>
                      <a:pt x="106" y="27"/>
                    </a:lnTo>
                    <a:lnTo>
                      <a:pt x="107" y="24"/>
                    </a:lnTo>
                    <a:lnTo>
                      <a:pt x="107" y="20"/>
                    </a:lnTo>
                    <a:lnTo>
                      <a:pt x="109" y="16"/>
                    </a:lnTo>
                    <a:lnTo>
                      <a:pt x="109" y="11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2" name=""/>
              <p:cNvSpPr/>
              <p:nvPr/>
            </p:nvSpPr>
            <p:spPr>
              <a:xfrm>
                <a:off x="1301040" y="2653920"/>
                <a:ext cx="77400" cy="2952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0" y="36"/>
                    </a:moveTo>
                    <a:lnTo>
                      <a:pt x="72" y="36"/>
                    </a:lnTo>
                    <a:lnTo>
                      <a:pt x="78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94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29"/>
                    </a:lnTo>
                    <a:lnTo>
                      <a:pt x="109" y="24"/>
                    </a:lnTo>
                    <a:lnTo>
                      <a:pt x="109" y="19"/>
                    </a:lnTo>
                    <a:lnTo>
                      <a:pt x="107" y="15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6"/>
                    </a:lnTo>
                    <a:lnTo>
                      <a:pt x="104" y="3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7" y="1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3" name=""/>
              <p:cNvSpPr/>
              <p:nvPr/>
            </p:nvSpPr>
            <p:spPr>
              <a:xfrm>
                <a:off x="1276200" y="2399040"/>
                <a:ext cx="24840" cy="2818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4" name=""/>
              <p:cNvSpPr/>
              <p:nvPr/>
            </p:nvSpPr>
            <p:spPr>
              <a:xfrm>
                <a:off x="1301040" y="2399040"/>
                <a:ext cx="26280" cy="28188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1327320" y="2399040"/>
                <a:ext cx="24840" cy="28188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6" name=""/>
              <p:cNvSpPr/>
              <p:nvPr/>
            </p:nvSpPr>
            <p:spPr>
              <a:xfrm>
                <a:off x="1352520" y="2399040"/>
                <a:ext cx="26280" cy="2818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7" name=""/>
              <p:cNvSpPr/>
              <p:nvPr/>
            </p:nvSpPr>
            <p:spPr>
              <a:xfrm>
                <a:off x="1279800" y="2406240"/>
                <a:ext cx="83520" cy="3420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7" y="46"/>
                    </a:moveTo>
                    <a:lnTo>
                      <a:pt x="99" y="46"/>
                    </a:lnTo>
                    <a:lnTo>
                      <a:pt x="102" y="46"/>
                    </a:lnTo>
                    <a:lnTo>
                      <a:pt x="106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4" y="37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8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6" y="2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2" y="37"/>
                    </a:lnTo>
                    <a:lnTo>
                      <a:pt x="5" y="41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8" name=""/>
              <p:cNvSpPr/>
              <p:nvPr/>
            </p:nvSpPr>
            <p:spPr>
              <a:xfrm>
                <a:off x="1279800" y="2643120"/>
                <a:ext cx="83520" cy="35280"/>
              </a:xfrm>
              <a:custGeom>
                <a:avLst/>
                <a:gdLst/>
                <a:ahLst/>
                <a:rect l="l" t="t" r="r" b="b"/>
                <a:pathLst>
                  <a:path w="117" h="45">
                    <a:moveTo>
                      <a:pt x="17" y="45"/>
                    </a:moveTo>
                    <a:lnTo>
                      <a:pt x="99" y="45"/>
                    </a:lnTo>
                    <a:lnTo>
                      <a:pt x="102" y="45"/>
                    </a:lnTo>
                    <a:lnTo>
                      <a:pt x="106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6" y="34"/>
                    </a:lnTo>
                    <a:lnTo>
                      <a:pt x="116" y="30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6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39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9" name=""/>
              <p:cNvSpPr/>
              <p:nvPr/>
            </p:nvSpPr>
            <p:spPr>
              <a:xfrm>
                <a:off x="358920" y="2283480"/>
                <a:ext cx="214920" cy="471240"/>
              </a:xfrm>
              <a:custGeom>
                <a:avLst/>
                <a:gdLst/>
                <a:ahLst/>
                <a:rect l="l" t="t" r="r" b="b"/>
                <a:pathLst>
                  <a:path w="302" h="608">
                    <a:moveTo>
                      <a:pt x="70" y="340"/>
                    </a:moveTo>
                    <a:lnTo>
                      <a:pt x="70" y="338"/>
                    </a:lnTo>
                    <a:lnTo>
                      <a:pt x="70" y="334"/>
                    </a:lnTo>
                    <a:lnTo>
                      <a:pt x="69" y="330"/>
                    </a:lnTo>
                    <a:lnTo>
                      <a:pt x="68" y="327"/>
                    </a:lnTo>
                    <a:lnTo>
                      <a:pt x="65" y="321"/>
                    </a:lnTo>
                    <a:lnTo>
                      <a:pt x="60" y="316"/>
                    </a:lnTo>
                    <a:lnTo>
                      <a:pt x="55" y="312"/>
                    </a:lnTo>
                    <a:lnTo>
                      <a:pt x="50" y="309"/>
                    </a:lnTo>
                    <a:lnTo>
                      <a:pt x="47" y="309"/>
                    </a:lnTo>
                    <a:lnTo>
                      <a:pt x="44" y="307"/>
                    </a:lnTo>
                    <a:lnTo>
                      <a:pt x="40" y="306"/>
                    </a:lnTo>
                    <a:lnTo>
                      <a:pt x="37" y="306"/>
                    </a:lnTo>
                    <a:lnTo>
                      <a:pt x="33" y="306"/>
                    </a:lnTo>
                    <a:lnTo>
                      <a:pt x="29" y="307"/>
                    </a:lnTo>
                    <a:lnTo>
                      <a:pt x="26" y="309"/>
                    </a:lnTo>
                    <a:lnTo>
                      <a:pt x="23" y="309"/>
                    </a:lnTo>
                    <a:lnTo>
                      <a:pt x="16" y="312"/>
                    </a:lnTo>
                    <a:lnTo>
                      <a:pt x="11" y="316"/>
                    </a:lnTo>
                    <a:lnTo>
                      <a:pt x="6" y="321"/>
                    </a:lnTo>
                    <a:lnTo>
                      <a:pt x="4" y="327"/>
                    </a:lnTo>
                    <a:lnTo>
                      <a:pt x="3" y="330"/>
                    </a:lnTo>
                    <a:lnTo>
                      <a:pt x="1" y="334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4"/>
                    </a:lnTo>
                    <a:lnTo>
                      <a:pt x="1" y="348"/>
                    </a:lnTo>
                    <a:lnTo>
                      <a:pt x="3" y="351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11" y="367"/>
                    </a:lnTo>
                    <a:lnTo>
                      <a:pt x="16" y="370"/>
                    </a:lnTo>
                    <a:lnTo>
                      <a:pt x="23" y="374"/>
                    </a:lnTo>
                    <a:lnTo>
                      <a:pt x="26" y="375"/>
                    </a:lnTo>
                    <a:lnTo>
                      <a:pt x="29" y="377"/>
                    </a:lnTo>
                    <a:lnTo>
                      <a:pt x="33" y="377"/>
                    </a:lnTo>
                    <a:lnTo>
                      <a:pt x="37" y="377"/>
                    </a:lnTo>
                    <a:lnTo>
                      <a:pt x="40" y="377"/>
                    </a:lnTo>
                    <a:lnTo>
                      <a:pt x="44" y="377"/>
                    </a:lnTo>
                    <a:lnTo>
                      <a:pt x="47" y="375"/>
                    </a:lnTo>
                    <a:lnTo>
                      <a:pt x="50" y="374"/>
                    </a:lnTo>
                    <a:lnTo>
                      <a:pt x="55" y="370"/>
                    </a:lnTo>
                    <a:lnTo>
                      <a:pt x="60" y="367"/>
                    </a:lnTo>
                    <a:lnTo>
                      <a:pt x="65" y="362"/>
                    </a:lnTo>
                    <a:lnTo>
                      <a:pt x="68" y="355"/>
                    </a:lnTo>
                    <a:lnTo>
                      <a:pt x="69" y="351"/>
                    </a:lnTo>
                    <a:lnTo>
                      <a:pt x="70" y="348"/>
                    </a:lnTo>
                    <a:lnTo>
                      <a:pt x="70" y="344"/>
                    </a:lnTo>
                    <a:lnTo>
                      <a:pt x="70" y="340"/>
                    </a:lnTo>
                    <a:lnTo>
                      <a:pt x="70" y="340"/>
                    </a:lnTo>
                    <a:close/>
                    <a:moveTo>
                      <a:pt x="302" y="37"/>
                    </a:moveTo>
                    <a:lnTo>
                      <a:pt x="301" y="33"/>
                    </a:lnTo>
                    <a:lnTo>
                      <a:pt x="301" y="29"/>
                    </a:lnTo>
                    <a:lnTo>
                      <a:pt x="300" y="27"/>
                    </a:lnTo>
                    <a:lnTo>
                      <a:pt x="298" y="23"/>
                    </a:lnTo>
                    <a:lnTo>
                      <a:pt x="296" y="17"/>
                    </a:lnTo>
                    <a:lnTo>
                      <a:pt x="291" y="12"/>
                    </a:lnTo>
                    <a:lnTo>
                      <a:pt x="286" y="7"/>
                    </a:lnTo>
                    <a:lnTo>
                      <a:pt x="281" y="4"/>
                    </a:lnTo>
                    <a:lnTo>
                      <a:pt x="277" y="3"/>
                    </a:lnTo>
                    <a:lnTo>
                      <a:pt x="275" y="2"/>
                    </a:lnTo>
                    <a:lnTo>
                      <a:pt x="271" y="2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1" y="2"/>
                    </a:lnTo>
                    <a:lnTo>
                      <a:pt x="258" y="3"/>
                    </a:lnTo>
                    <a:lnTo>
                      <a:pt x="255" y="4"/>
                    </a:lnTo>
                    <a:lnTo>
                      <a:pt x="250" y="7"/>
                    </a:lnTo>
                    <a:lnTo>
                      <a:pt x="244" y="12"/>
                    </a:lnTo>
                    <a:lnTo>
                      <a:pt x="239" y="17"/>
                    </a:lnTo>
                    <a:lnTo>
                      <a:pt x="237" y="23"/>
                    </a:lnTo>
                    <a:lnTo>
                      <a:pt x="236" y="27"/>
                    </a:lnTo>
                    <a:lnTo>
                      <a:pt x="234" y="29"/>
                    </a:lnTo>
                    <a:lnTo>
                      <a:pt x="234" y="33"/>
                    </a:lnTo>
                    <a:lnTo>
                      <a:pt x="233" y="37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6" y="47"/>
                    </a:lnTo>
                    <a:lnTo>
                      <a:pt x="237" y="51"/>
                    </a:lnTo>
                    <a:lnTo>
                      <a:pt x="239" y="56"/>
                    </a:lnTo>
                    <a:lnTo>
                      <a:pt x="244" y="61"/>
                    </a:lnTo>
                    <a:lnTo>
                      <a:pt x="250" y="66"/>
                    </a:lnTo>
                    <a:lnTo>
                      <a:pt x="255" y="69"/>
                    </a:lnTo>
                    <a:lnTo>
                      <a:pt x="258" y="70"/>
                    </a:lnTo>
                    <a:lnTo>
                      <a:pt x="261" y="71"/>
                    </a:lnTo>
                    <a:lnTo>
                      <a:pt x="265" y="71"/>
                    </a:lnTo>
                    <a:lnTo>
                      <a:pt x="267" y="71"/>
                    </a:lnTo>
                    <a:lnTo>
                      <a:pt x="271" y="71"/>
                    </a:lnTo>
                    <a:lnTo>
                      <a:pt x="275" y="71"/>
                    </a:lnTo>
                    <a:lnTo>
                      <a:pt x="277" y="70"/>
                    </a:lnTo>
                    <a:lnTo>
                      <a:pt x="281" y="69"/>
                    </a:lnTo>
                    <a:lnTo>
                      <a:pt x="286" y="66"/>
                    </a:lnTo>
                    <a:lnTo>
                      <a:pt x="291" y="61"/>
                    </a:lnTo>
                    <a:lnTo>
                      <a:pt x="296" y="56"/>
                    </a:lnTo>
                    <a:lnTo>
                      <a:pt x="298" y="51"/>
                    </a:lnTo>
                    <a:lnTo>
                      <a:pt x="300" y="47"/>
                    </a:lnTo>
                    <a:lnTo>
                      <a:pt x="301" y="45"/>
                    </a:lnTo>
                    <a:lnTo>
                      <a:pt x="301" y="41"/>
                    </a:lnTo>
                    <a:lnTo>
                      <a:pt x="302" y="37"/>
                    </a:lnTo>
                    <a:lnTo>
                      <a:pt x="302" y="37"/>
                    </a:lnTo>
                    <a:close/>
                    <a:moveTo>
                      <a:pt x="302" y="572"/>
                    </a:moveTo>
                    <a:lnTo>
                      <a:pt x="301" y="569"/>
                    </a:lnTo>
                    <a:lnTo>
                      <a:pt x="301" y="566"/>
                    </a:lnTo>
                    <a:lnTo>
                      <a:pt x="300" y="562"/>
                    </a:lnTo>
                    <a:lnTo>
                      <a:pt x="298" y="558"/>
                    </a:lnTo>
                    <a:lnTo>
                      <a:pt x="296" y="552"/>
                    </a:lnTo>
                    <a:lnTo>
                      <a:pt x="291" y="547"/>
                    </a:lnTo>
                    <a:lnTo>
                      <a:pt x="286" y="542"/>
                    </a:lnTo>
                    <a:lnTo>
                      <a:pt x="281" y="540"/>
                    </a:lnTo>
                    <a:lnTo>
                      <a:pt x="277" y="538"/>
                    </a:lnTo>
                    <a:lnTo>
                      <a:pt x="275" y="537"/>
                    </a:lnTo>
                    <a:lnTo>
                      <a:pt x="271" y="537"/>
                    </a:lnTo>
                    <a:lnTo>
                      <a:pt x="267" y="537"/>
                    </a:lnTo>
                    <a:lnTo>
                      <a:pt x="265" y="537"/>
                    </a:lnTo>
                    <a:lnTo>
                      <a:pt x="261" y="537"/>
                    </a:lnTo>
                    <a:lnTo>
                      <a:pt x="258" y="538"/>
                    </a:lnTo>
                    <a:lnTo>
                      <a:pt x="255" y="540"/>
                    </a:lnTo>
                    <a:lnTo>
                      <a:pt x="250" y="542"/>
                    </a:lnTo>
                    <a:lnTo>
                      <a:pt x="244" y="547"/>
                    </a:lnTo>
                    <a:lnTo>
                      <a:pt x="239" y="552"/>
                    </a:lnTo>
                    <a:lnTo>
                      <a:pt x="237" y="558"/>
                    </a:lnTo>
                    <a:lnTo>
                      <a:pt x="236" y="562"/>
                    </a:lnTo>
                    <a:lnTo>
                      <a:pt x="234" y="566"/>
                    </a:lnTo>
                    <a:lnTo>
                      <a:pt x="234" y="569"/>
                    </a:lnTo>
                    <a:lnTo>
                      <a:pt x="233" y="572"/>
                    </a:lnTo>
                    <a:lnTo>
                      <a:pt x="234" y="576"/>
                    </a:lnTo>
                    <a:lnTo>
                      <a:pt x="234" y="580"/>
                    </a:lnTo>
                    <a:lnTo>
                      <a:pt x="236" y="582"/>
                    </a:lnTo>
                    <a:lnTo>
                      <a:pt x="237" y="586"/>
                    </a:lnTo>
                    <a:lnTo>
                      <a:pt x="239" y="591"/>
                    </a:lnTo>
                    <a:lnTo>
                      <a:pt x="244" y="596"/>
                    </a:lnTo>
                    <a:lnTo>
                      <a:pt x="250" y="601"/>
                    </a:lnTo>
                    <a:lnTo>
                      <a:pt x="255" y="604"/>
                    </a:lnTo>
                    <a:lnTo>
                      <a:pt x="258" y="605"/>
                    </a:lnTo>
                    <a:lnTo>
                      <a:pt x="261" y="606"/>
                    </a:lnTo>
                    <a:lnTo>
                      <a:pt x="265" y="606"/>
                    </a:lnTo>
                    <a:lnTo>
                      <a:pt x="267" y="608"/>
                    </a:lnTo>
                    <a:lnTo>
                      <a:pt x="271" y="606"/>
                    </a:lnTo>
                    <a:lnTo>
                      <a:pt x="275" y="606"/>
                    </a:lnTo>
                    <a:lnTo>
                      <a:pt x="277" y="605"/>
                    </a:lnTo>
                    <a:lnTo>
                      <a:pt x="281" y="604"/>
                    </a:lnTo>
                    <a:lnTo>
                      <a:pt x="286" y="601"/>
                    </a:lnTo>
                    <a:lnTo>
                      <a:pt x="291" y="596"/>
                    </a:lnTo>
                    <a:lnTo>
                      <a:pt x="296" y="591"/>
                    </a:lnTo>
                    <a:lnTo>
                      <a:pt x="298" y="586"/>
                    </a:lnTo>
                    <a:lnTo>
                      <a:pt x="300" y="582"/>
                    </a:lnTo>
                    <a:lnTo>
                      <a:pt x="301" y="580"/>
                    </a:lnTo>
                    <a:lnTo>
                      <a:pt x="301" y="576"/>
                    </a:lnTo>
                    <a:lnTo>
                      <a:pt x="302" y="572"/>
                    </a:lnTo>
                    <a:lnTo>
                      <a:pt x="302" y="57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0" name=""/>
              <p:cNvSpPr/>
              <p:nvPr/>
            </p:nvSpPr>
            <p:spPr>
              <a:xfrm>
                <a:off x="358920" y="2520720"/>
                <a:ext cx="50040" cy="5580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2"/>
                    </a:lnTo>
                    <a:lnTo>
                      <a:pt x="70" y="28"/>
                    </a:lnTo>
                    <a:lnTo>
                      <a:pt x="69" y="24"/>
                    </a:lnTo>
                    <a:lnTo>
                      <a:pt x="68" y="21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0" y="71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0" y="68"/>
                    </a:lnTo>
                    <a:lnTo>
                      <a:pt x="55" y="64"/>
                    </a:lnTo>
                    <a:lnTo>
                      <a:pt x="60" y="61"/>
                    </a:lnTo>
                    <a:lnTo>
                      <a:pt x="65" y="56"/>
                    </a:lnTo>
                    <a:lnTo>
                      <a:pt x="68" y="49"/>
                    </a:lnTo>
                    <a:lnTo>
                      <a:pt x="69" y="45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1" name=""/>
              <p:cNvSpPr/>
              <p:nvPr/>
            </p:nvSpPr>
            <p:spPr>
              <a:xfrm>
                <a:off x="525240" y="2283480"/>
                <a:ext cx="48600" cy="5472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7"/>
                    </a:moveTo>
                    <a:lnTo>
                      <a:pt x="68" y="33"/>
                    </a:lnTo>
                    <a:lnTo>
                      <a:pt x="68" y="29"/>
                    </a:lnTo>
                    <a:lnTo>
                      <a:pt x="67" y="27"/>
                    </a:lnTo>
                    <a:lnTo>
                      <a:pt x="65" y="23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6"/>
                    </a:lnTo>
                    <a:lnTo>
                      <a:pt x="22" y="69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2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8" y="61"/>
                    </a:lnTo>
                    <a:lnTo>
                      <a:pt x="63" y="56"/>
                    </a:lnTo>
                    <a:lnTo>
                      <a:pt x="65" y="51"/>
                    </a:lnTo>
                    <a:lnTo>
                      <a:pt x="67" y="47"/>
                    </a:lnTo>
                    <a:lnTo>
                      <a:pt x="68" y="45"/>
                    </a:lnTo>
                    <a:lnTo>
                      <a:pt x="68" y="41"/>
                    </a:lnTo>
                    <a:lnTo>
                      <a:pt x="69" y="37"/>
                    </a:lnTo>
                    <a:lnTo>
                      <a:pt x="69" y="37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2" name=""/>
              <p:cNvSpPr/>
              <p:nvPr/>
            </p:nvSpPr>
            <p:spPr>
              <a:xfrm>
                <a:off x="525240" y="2700360"/>
                <a:ext cx="48600" cy="5436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5"/>
                    </a:moveTo>
                    <a:lnTo>
                      <a:pt x="68" y="32"/>
                    </a:lnTo>
                    <a:lnTo>
                      <a:pt x="68" y="29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5"/>
                    </a:lnTo>
                    <a:lnTo>
                      <a:pt x="58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4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9"/>
                    </a:lnTo>
                    <a:lnTo>
                      <a:pt x="32" y="69"/>
                    </a:lnTo>
                    <a:lnTo>
                      <a:pt x="34" y="71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4" y="68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5" y="49"/>
                    </a:lnTo>
                    <a:lnTo>
                      <a:pt x="67" y="45"/>
                    </a:lnTo>
                    <a:lnTo>
                      <a:pt x="68" y="43"/>
                    </a:lnTo>
                    <a:lnTo>
                      <a:pt x="68" y="39"/>
                    </a:lnTo>
                    <a:lnTo>
                      <a:pt x="69" y="35"/>
                    </a:lnTo>
                    <a:lnTo>
                      <a:pt x="69" y="3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3" name=""/>
              <p:cNvSpPr/>
              <p:nvPr/>
            </p:nvSpPr>
            <p:spPr>
              <a:xfrm>
                <a:off x="375480" y="2301480"/>
                <a:ext cx="183240" cy="434520"/>
              </a:xfrm>
              <a:custGeom>
                <a:avLst/>
                <a:gdLst/>
                <a:ahLst/>
                <a:rect l="l" t="t" r="r" b="b"/>
                <a:pathLst>
                  <a:path w="258" h="561">
                    <a:moveTo>
                      <a:pt x="25" y="317"/>
                    </a:moveTo>
                    <a:lnTo>
                      <a:pt x="25" y="315"/>
                    </a:lnTo>
                    <a:lnTo>
                      <a:pt x="25" y="313"/>
                    </a:lnTo>
                    <a:lnTo>
                      <a:pt x="24" y="311"/>
                    </a:lnTo>
                    <a:lnTo>
                      <a:pt x="22" y="309"/>
                    </a:lnTo>
                    <a:lnTo>
                      <a:pt x="20" y="308"/>
                    </a:lnTo>
                    <a:lnTo>
                      <a:pt x="19" y="307"/>
                    </a:lnTo>
                    <a:lnTo>
                      <a:pt x="16" y="306"/>
                    </a:lnTo>
                    <a:lnTo>
                      <a:pt x="14" y="306"/>
                    </a:lnTo>
                    <a:lnTo>
                      <a:pt x="11" y="306"/>
                    </a:lnTo>
                    <a:lnTo>
                      <a:pt x="7" y="307"/>
                    </a:lnTo>
                    <a:lnTo>
                      <a:pt x="6" y="308"/>
                    </a:lnTo>
                    <a:lnTo>
                      <a:pt x="3" y="309"/>
                    </a:lnTo>
                    <a:lnTo>
                      <a:pt x="2" y="311"/>
                    </a:lnTo>
                    <a:lnTo>
                      <a:pt x="1" y="313"/>
                    </a:lnTo>
                    <a:lnTo>
                      <a:pt x="1" y="315"/>
                    </a:lnTo>
                    <a:lnTo>
                      <a:pt x="0" y="317"/>
                    </a:lnTo>
                    <a:lnTo>
                      <a:pt x="1" y="321"/>
                    </a:lnTo>
                    <a:lnTo>
                      <a:pt x="1" y="323"/>
                    </a:lnTo>
                    <a:lnTo>
                      <a:pt x="2" y="326"/>
                    </a:lnTo>
                    <a:lnTo>
                      <a:pt x="3" y="327"/>
                    </a:lnTo>
                    <a:lnTo>
                      <a:pt x="6" y="330"/>
                    </a:lnTo>
                    <a:lnTo>
                      <a:pt x="7" y="330"/>
                    </a:lnTo>
                    <a:lnTo>
                      <a:pt x="11" y="331"/>
                    </a:lnTo>
                    <a:lnTo>
                      <a:pt x="14" y="331"/>
                    </a:lnTo>
                    <a:lnTo>
                      <a:pt x="16" y="331"/>
                    </a:lnTo>
                    <a:lnTo>
                      <a:pt x="19" y="330"/>
                    </a:lnTo>
                    <a:lnTo>
                      <a:pt x="20" y="330"/>
                    </a:lnTo>
                    <a:lnTo>
                      <a:pt x="22" y="327"/>
                    </a:lnTo>
                    <a:lnTo>
                      <a:pt x="24" y="326"/>
                    </a:lnTo>
                    <a:lnTo>
                      <a:pt x="25" y="323"/>
                    </a:lnTo>
                    <a:lnTo>
                      <a:pt x="25" y="321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  <a:moveTo>
                      <a:pt x="258" y="14"/>
                    </a:moveTo>
                    <a:lnTo>
                      <a:pt x="258" y="12"/>
                    </a:lnTo>
                    <a:lnTo>
                      <a:pt x="257" y="9"/>
                    </a:lnTo>
                    <a:lnTo>
                      <a:pt x="255" y="6"/>
                    </a:lnTo>
                    <a:lnTo>
                      <a:pt x="254" y="4"/>
                    </a:lnTo>
                    <a:lnTo>
                      <a:pt x="252" y="3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4" y="0"/>
                    </a:lnTo>
                    <a:lnTo>
                      <a:pt x="242" y="1"/>
                    </a:lnTo>
                    <a:lnTo>
                      <a:pt x="240" y="1"/>
                    </a:lnTo>
                    <a:lnTo>
                      <a:pt x="238" y="3"/>
                    </a:lnTo>
                    <a:lnTo>
                      <a:pt x="235" y="4"/>
                    </a:lnTo>
                    <a:lnTo>
                      <a:pt x="234" y="6"/>
                    </a:lnTo>
                    <a:lnTo>
                      <a:pt x="233" y="9"/>
                    </a:lnTo>
                    <a:lnTo>
                      <a:pt x="232" y="12"/>
                    </a:lnTo>
                    <a:lnTo>
                      <a:pt x="232" y="14"/>
                    </a:lnTo>
                    <a:lnTo>
                      <a:pt x="232" y="17"/>
                    </a:lnTo>
                    <a:lnTo>
                      <a:pt x="233" y="19"/>
                    </a:lnTo>
                    <a:lnTo>
                      <a:pt x="234" y="22"/>
                    </a:lnTo>
                    <a:lnTo>
                      <a:pt x="235" y="23"/>
                    </a:lnTo>
                    <a:lnTo>
                      <a:pt x="238" y="24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5"/>
                    </a:lnTo>
                    <a:lnTo>
                      <a:pt x="248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4" y="23"/>
                    </a:lnTo>
                    <a:lnTo>
                      <a:pt x="255" y="22"/>
                    </a:lnTo>
                    <a:lnTo>
                      <a:pt x="257" y="19"/>
                    </a:lnTo>
                    <a:lnTo>
                      <a:pt x="258" y="17"/>
                    </a:lnTo>
                    <a:lnTo>
                      <a:pt x="258" y="14"/>
                    </a:lnTo>
                    <a:lnTo>
                      <a:pt x="258" y="14"/>
                    </a:lnTo>
                    <a:close/>
                    <a:moveTo>
                      <a:pt x="258" y="549"/>
                    </a:moveTo>
                    <a:lnTo>
                      <a:pt x="258" y="547"/>
                    </a:lnTo>
                    <a:lnTo>
                      <a:pt x="257" y="544"/>
                    </a:lnTo>
                    <a:lnTo>
                      <a:pt x="255" y="542"/>
                    </a:lnTo>
                    <a:lnTo>
                      <a:pt x="254" y="539"/>
                    </a:lnTo>
                    <a:lnTo>
                      <a:pt x="252" y="538"/>
                    </a:lnTo>
                    <a:lnTo>
                      <a:pt x="249" y="537"/>
                    </a:lnTo>
                    <a:lnTo>
                      <a:pt x="248" y="537"/>
                    </a:lnTo>
                    <a:lnTo>
                      <a:pt x="244" y="537"/>
                    </a:lnTo>
                    <a:lnTo>
                      <a:pt x="242" y="537"/>
                    </a:lnTo>
                    <a:lnTo>
                      <a:pt x="240" y="537"/>
                    </a:lnTo>
                    <a:lnTo>
                      <a:pt x="238" y="538"/>
                    </a:lnTo>
                    <a:lnTo>
                      <a:pt x="235" y="539"/>
                    </a:lnTo>
                    <a:lnTo>
                      <a:pt x="234" y="542"/>
                    </a:lnTo>
                    <a:lnTo>
                      <a:pt x="233" y="544"/>
                    </a:lnTo>
                    <a:lnTo>
                      <a:pt x="232" y="547"/>
                    </a:lnTo>
                    <a:lnTo>
                      <a:pt x="232" y="549"/>
                    </a:lnTo>
                    <a:lnTo>
                      <a:pt x="232" y="552"/>
                    </a:lnTo>
                    <a:lnTo>
                      <a:pt x="233" y="554"/>
                    </a:lnTo>
                    <a:lnTo>
                      <a:pt x="234" y="557"/>
                    </a:lnTo>
                    <a:lnTo>
                      <a:pt x="235" y="558"/>
                    </a:lnTo>
                    <a:lnTo>
                      <a:pt x="238" y="559"/>
                    </a:lnTo>
                    <a:lnTo>
                      <a:pt x="240" y="561"/>
                    </a:lnTo>
                    <a:lnTo>
                      <a:pt x="242" y="561"/>
                    </a:lnTo>
                    <a:lnTo>
                      <a:pt x="244" y="561"/>
                    </a:lnTo>
                    <a:lnTo>
                      <a:pt x="248" y="561"/>
                    </a:lnTo>
                    <a:lnTo>
                      <a:pt x="249" y="561"/>
                    </a:lnTo>
                    <a:lnTo>
                      <a:pt x="252" y="559"/>
                    </a:lnTo>
                    <a:lnTo>
                      <a:pt x="254" y="558"/>
                    </a:lnTo>
                    <a:lnTo>
                      <a:pt x="255" y="557"/>
                    </a:lnTo>
                    <a:lnTo>
                      <a:pt x="257" y="554"/>
                    </a:lnTo>
                    <a:lnTo>
                      <a:pt x="258" y="552"/>
                    </a:lnTo>
                    <a:lnTo>
                      <a:pt x="258" y="549"/>
                    </a:lnTo>
                    <a:lnTo>
                      <a:pt x="258" y="549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4" name=""/>
              <p:cNvSpPr/>
              <p:nvPr/>
            </p:nvSpPr>
            <p:spPr>
              <a:xfrm>
                <a:off x="375480" y="253836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1"/>
                    </a:moveTo>
                    <a:lnTo>
                      <a:pt x="25" y="9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1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5" name=""/>
              <p:cNvSpPr/>
              <p:nvPr/>
            </p:nvSpPr>
            <p:spPr>
              <a:xfrm>
                <a:off x="540360" y="2301480"/>
                <a:ext cx="18360" cy="2016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4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6" name=""/>
              <p:cNvSpPr/>
              <p:nvPr/>
            </p:nvSpPr>
            <p:spPr>
              <a:xfrm>
                <a:off x="540360" y="2716920"/>
                <a:ext cx="18360" cy="19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2"/>
                    </a:moveTo>
                    <a:lnTo>
                      <a:pt x="26" y="10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7" name=""/>
              <p:cNvSpPr/>
              <p:nvPr/>
            </p:nvSpPr>
            <p:spPr>
              <a:xfrm>
                <a:off x="450360" y="2286000"/>
                <a:ext cx="205920" cy="622440"/>
              </a:xfrm>
              <a:custGeom>
                <a:avLst/>
                <a:gdLst/>
                <a:ahLst/>
                <a:rect l="l" t="t" r="r" b="b"/>
                <a:pathLst>
                  <a:path w="291" h="803">
                    <a:moveTo>
                      <a:pt x="291" y="37"/>
                    </a:moveTo>
                    <a:lnTo>
                      <a:pt x="73" y="37"/>
                    </a:lnTo>
                    <a:lnTo>
                      <a:pt x="67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9" y="38"/>
                    </a:lnTo>
                    <a:lnTo>
                      <a:pt x="45" y="39"/>
                    </a:lnTo>
                    <a:lnTo>
                      <a:pt x="43" y="39"/>
                    </a:lnTo>
                    <a:lnTo>
                      <a:pt x="42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7" y="57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803"/>
                    </a:lnTo>
                    <a:lnTo>
                      <a:pt x="0" y="80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1" y="0"/>
                    </a:lnTo>
                    <a:lnTo>
                      <a:pt x="291" y="37"/>
                    </a:lnTo>
                    <a:lnTo>
                      <a:pt x="2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8" name=""/>
              <p:cNvSpPr/>
              <p:nvPr/>
            </p:nvSpPr>
            <p:spPr>
              <a:xfrm>
                <a:off x="432720" y="2258640"/>
                <a:ext cx="200880" cy="649440"/>
              </a:xfrm>
              <a:custGeom>
                <a:avLst/>
                <a:gdLst/>
                <a:ahLst/>
                <a:rect l="l" t="t" r="r" b="b"/>
                <a:pathLst>
                  <a:path w="284" h="837">
                    <a:moveTo>
                      <a:pt x="284" y="43"/>
                    </a:moveTo>
                    <a:lnTo>
                      <a:pt x="76" y="43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6" y="45"/>
                    </a:lnTo>
                    <a:lnTo>
                      <a:pt x="64" y="47"/>
                    </a:lnTo>
                    <a:lnTo>
                      <a:pt x="58" y="49"/>
                    </a:lnTo>
                    <a:lnTo>
                      <a:pt x="53" y="54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4" y="69"/>
                    </a:lnTo>
                    <a:lnTo>
                      <a:pt x="44" y="72"/>
                    </a:lnTo>
                    <a:lnTo>
                      <a:pt x="43" y="76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837"/>
                    </a:lnTo>
                    <a:lnTo>
                      <a:pt x="0" y="83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7" y="37"/>
                    </a:lnTo>
                    <a:lnTo>
                      <a:pt x="11" y="31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5" y="9"/>
                    </a:lnTo>
                    <a:lnTo>
                      <a:pt x="41" y="6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284" y="0"/>
                    </a:lnTo>
                    <a:lnTo>
                      <a:pt x="284" y="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9" name=""/>
              <p:cNvSpPr/>
              <p:nvPr/>
            </p:nvSpPr>
            <p:spPr>
              <a:xfrm>
                <a:off x="282960" y="2130120"/>
                <a:ext cx="4376520" cy="13572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0" name=""/>
              <p:cNvSpPr/>
              <p:nvPr/>
            </p:nvSpPr>
            <p:spPr>
              <a:xfrm>
                <a:off x="282960" y="2130120"/>
                <a:ext cx="4376520" cy="13572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1" name=""/>
              <p:cNvSpPr/>
              <p:nvPr/>
            </p:nvSpPr>
            <p:spPr>
              <a:xfrm>
                <a:off x="1754640" y="2196720"/>
                <a:ext cx="950760" cy="55800"/>
              </a:xfrm>
              <a:custGeom>
                <a:avLst/>
                <a:gdLst/>
                <a:ahLst/>
                <a:rect l="l" t="t" r="r" b="b"/>
                <a:pathLst>
                  <a:path w="1335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  <a:close/>
                    <a:moveTo>
                      <a:pt x="1335" y="34"/>
                    </a:moveTo>
                    <a:lnTo>
                      <a:pt x="1334" y="31"/>
                    </a:lnTo>
                    <a:lnTo>
                      <a:pt x="1334" y="28"/>
                    </a:lnTo>
                    <a:lnTo>
                      <a:pt x="1333" y="24"/>
                    </a:lnTo>
                    <a:lnTo>
                      <a:pt x="1331" y="22"/>
                    </a:lnTo>
                    <a:lnTo>
                      <a:pt x="1329" y="16"/>
                    </a:lnTo>
                    <a:lnTo>
                      <a:pt x="1324" y="10"/>
                    </a:lnTo>
                    <a:lnTo>
                      <a:pt x="1319" y="7"/>
                    </a:lnTo>
                    <a:lnTo>
                      <a:pt x="1313" y="3"/>
                    </a:lnTo>
                    <a:lnTo>
                      <a:pt x="1309" y="2"/>
                    </a:lnTo>
                    <a:lnTo>
                      <a:pt x="1306" y="2"/>
                    </a:lnTo>
                    <a:lnTo>
                      <a:pt x="1303" y="0"/>
                    </a:lnTo>
                    <a:lnTo>
                      <a:pt x="1299" y="0"/>
                    </a:lnTo>
                    <a:lnTo>
                      <a:pt x="1295" y="0"/>
                    </a:lnTo>
                    <a:lnTo>
                      <a:pt x="1291" y="2"/>
                    </a:lnTo>
                    <a:lnTo>
                      <a:pt x="1289" y="2"/>
                    </a:lnTo>
                    <a:lnTo>
                      <a:pt x="1285" y="3"/>
                    </a:lnTo>
                    <a:lnTo>
                      <a:pt x="1280" y="7"/>
                    </a:lnTo>
                    <a:lnTo>
                      <a:pt x="1275" y="10"/>
                    </a:lnTo>
                    <a:lnTo>
                      <a:pt x="1270" y="16"/>
                    </a:lnTo>
                    <a:lnTo>
                      <a:pt x="1268" y="22"/>
                    </a:lnTo>
                    <a:lnTo>
                      <a:pt x="1266" y="24"/>
                    </a:lnTo>
                    <a:lnTo>
                      <a:pt x="1265" y="28"/>
                    </a:lnTo>
                    <a:lnTo>
                      <a:pt x="1265" y="31"/>
                    </a:lnTo>
                    <a:lnTo>
                      <a:pt x="1265" y="34"/>
                    </a:lnTo>
                    <a:lnTo>
                      <a:pt x="1265" y="38"/>
                    </a:lnTo>
                    <a:lnTo>
                      <a:pt x="1265" y="42"/>
                    </a:lnTo>
                    <a:lnTo>
                      <a:pt x="1266" y="46"/>
                    </a:lnTo>
                    <a:lnTo>
                      <a:pt x="1268" y="48"/>
                    </a:lnTo>
                    <a:lnTo>
                      <a:pt x="1270" y="55"/>
                    </a:lnTo>
                    <a:lnTo>
                      <a:pt x="1275" y="61"/>
                    </a:lnTo>
                    <a:lnTo>
                      <a:pt x="1280" y="65"/>
                    </a:lnTo>
                    <a:lnTo>
                      <a:pt x="1285" y="69"/>
                    </a:lnTo>
                    <a:lnTo>
                      <a:pt x="1289" y="70"/>
                    </a:lnTo>
                    <a:lnTo>
                      <a:pt x="1291" y="70"/>
                    </a:lnTo>
                    <a:lnTo>
                      <a:pt x="1295" y="71"/>
                    </a:lnTo>
                    <a:lnTo>
                      <a:pt x="1299" y="71"/>
                    </a:lnTo>
                    <a:lnTo>
                      <a:pt x="1303" y="71"/>
                    </a:lnTo>
                    <a:lnTo>
                      <a:pt x="1306" y="70"/>
                    </a:lnTo>
                    <a:lnTo>
                      <a:pt x="1309" y="70"/>
                    </a:lnTo>
                    <a:lnTo>
                      <a:pt x="1313" y="69"/>
                    </a:lnTo>
                    <a:lnTo>
                      <a:pt x="1319" y="65"/>
                    </a:lnTo>
                    <a:lnTo>
                      <a:pt x="1324" y="61"/>
                    </a:lnTo>
                    <a:lnTo>
                      <a:pt x="1329" y="55"/>
                    </a:lnTo>
                    <a:lnTo>
                      <a:pt x="1331" y="48"/>
                    </a:lnTo>
                    <a:lnTo>
                      <a:pt x="1333" y="46"/>
                    </a:lnTo>
                    <a:lnTo>
                      <a:pt x="1334" y="42"/>
                    </a:lnTo>
                    <a:lnTo>
                      <a:pt x="1334" y="38"/>
                    </a:lnTo>
                    <a:lnTo>
                      <a:pt x="1335" y="34"/>
                    </a:lnTo>
                    <a:lnTo>
                      <a:pt x="1335" y="34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2" name=""/>
              <p:cNvSpPr/>
              <p:nvPr/>
            </p:nvSpPr>
            <p:spPr>
              <a:xfrm>
                <a:off x="1754640" y="2196720"/>
                <a:ext cx="49680" cy="5580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3" name=""/>
              <p:cNvSpPr/>
              <p:nvPr/>
            </p:nvSpPr>
            <p:spPr>
              <a:xfrm>
                <a:off x="2655360" y="2196720"/>
                <a:ext cx="50040" cy="5580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69" y="31"/>
                    </a:lnTo>
                    <a:lnTo>
                      <a:pt x="69" y="28"/>
                    </a:lnTo>
                    <a:lnTo>
                      <a:pt x="68" y="24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4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4" y="65"/>
                    </a:lnTo>
                    <a:lnTo>
                      <a:pt x="59" y="61"/>
                    </a:lnTo>
                    <a:lnTo>
                      <a:pt x="64" y="55"/>
                    </a:lnTo>
                    <a:lnTo>
                      <a:pt x="66" y="48"/>
                    </a:lnTo>
                    <a:lnTo>
                      <a:pt x="68" y="46"/>
                    </a:lnTo>
                    <a:lnTo>
                      <a:pt x="69" y="42"/>
                    </a:lnTo>
                    <a:lnTo>
                      <a:pt x="69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1874520" y="2210760"/>
                <a:ext cx="2406240" cy="738000"/>
              </a:xfrm>
              <a:custGeom>
                <a:avLst/>
                <a:gdLst/>
                <a:ahLst/>
                <a:rect l="l" t="t" r="r" b="b"/>
                <a:pathLst>
                  <a:path w="3384" h="951">
                    <a:moveTo>
                      <a:pt x="1350" y="862"/>
                    </a:moveTo>
                    <a:lnTo>
                      <a:pt x="1350" y="853"/>
                    </a:lnTo>
                    <a:lnTo>
                      <a:pt x="1348" y="846"/>
                    </a:lnTo>
                    <a:lnTo>
                      <a:pt x="1346" y="838"/>
                    </a:lnTo>
                    <a:lnTo>
                      <a:pt x="1343" y="832"/>
                    </a:lnTo>
                    <a:lnTo>
                      <a:pt x="1341" y="824"/>
                    </a:lnTo>
                    <a:lnTo>
                      <a:pt x="1337" y="818"/>
                    </a:lnTo>
                    <a:lnTo>
                      <a:pt x="1332" y="812"/>
                    </a:lnTo>
                    <a:lnTo>
                      <a:pt x="1327" y="807"/>
                    </a:lnTo>
                    <a:lnTo>
                      <a:pt x="1322" y="802"/>
                    </a:lnTo>
                    <a:lnTo>
                      <a:pt x="1316" y="798"/>
                    </a:lnTo>
                    <a:lnTo>
                      <a:pt x="1310" y="794"/>
                    </a:lnTo>
                    <a:lnTo>
                      <a:pt x="1303" y="790"/>
                    </a:lnTo>
                    <a:lnTo>
                      <a:pt x="1296" y="788"/>
                    </a:lnTo>
                    <a:lnTo>
                      <a:pt x="1288" y="787"/>
                    </a:lnTo>
                    <a:lnTo>
                      <a:pt x="1281" y="785"/>
                    </a:lnTo>
                    <a:lnTo>
                      <a:pt x="1273" y="784"/>
                    </a:lnTo>
                    <a:lnTo>
                      <a:pt x="1264" y="785"/>
                    </a:lnTo>
                    <a:lnTo>
                      <a:pt x="1257" y="787"/>
                    </a:lnTo>
                    <a:lnTo>
                      <a:pt x="1249" y="788"/>
                    </a:lnTo>
                    <a:lnTo>
                      <a:pt x="1242" y="790"/>
                    </a:lnTo>
                    <a:lnTo>
                      <a:pt x="1236" y="794"/>
                    </a:lnTo>
                    <a:lnTo>
                      <a:pt x="1229" y="798"/>
                    </a:lnTo>
                    <a:lnTo>
                      <a:pt x="1223" y="802"/>
                    </a:lnTo>
                    <a:lnTo>
                      <a:pt x="1217" y="807"/>
                    </a:lnTo>
                    <a:lnTo>
                      <a:pt x="1212" y="812"/>
                    </a:lnTo>
                    <a:lnTo>
                      <a:pt x="1207" y="818"/>
                    </a:lnTo>
                    <a:lnTo>
                      <a:pt x="1203" y="824"/>
                    </a:lnTo>
                    <a:lnTo>
                      <a:pt x="1201" y="832"/>
                    </a:lnTo>
                    <a:lnTo>
                      <a:pt x="1197" y="838"/>
                    </a:lnTo>
                    <a:lnTo>
                      <a:pt x="1195" y="846"/>
                    </a:lnTo>
                    <a:lnTo>
                      <a:pt x="1194" y="853"/>
                    </a:lnTo>
                    <a:lnTo>
                      <a:pt x="1193" y="862"/>
                    </a:lnTo>
                    <a:lnTo>
                      <a:pt x="1194" y="870"/>
                    </a:lnTo>
                    <a:lnTo>
                      <a:pt x="1195" y="877"/>
                    </a:lnTo>
                    <a:lnTo>
                      <a:pt x="1197" y="885"/>
                    </a:lnTo>
                    <a:lnTo>
                      <a:pt x="1201" y="893"/>
                    </a:lnTo>
                    <a:lnTo>
                      <a:pt x="1203" y="900"/>
                    </a:lnTo>
                    <a:lnTo>
                      <a:pt x="1207" y="907"/>
                    </a:lnTo>
                    <a:lnTo>
                      <a:pt x="1212" y="913"/>
                    </a:lnTo>
                    <a:lnTo>
                      <a:pt x="1217" y="918"/>
                    </a:lnTo>
                    <a:lnTo>
                      <a:pt x="1223" y="923"/>
                    </a:lnTo>
                    <a:lnTo>
                      <a:pt x="1229" y="928"/>
                    </a:lnTo>
                    <a:lnTo>
                      <a:pt x="1236" y="932"/>
                    </a:lnTo>
                    <a:lnTo>
                      <a:pt x="1242" y="936"/>
                    </a:lnTo>
                    <a:lnTo>
                      <a:pt x="1249" y="938"/>
                    </a:lnTo>
                    <a:lnTo>
                      <a:pt x="1257" y="941"/>
                    </a:lnTo>
                    <a:lnTo>
                      <a:pt x="1264" y="942"/>
                    </a:lnTo>
                    <a:lnTo>
                      <a:pt x="1273" y="942"/>
                    </a:lnTo>
                    <a:lnTo>
                      <a:pt x="1281" y="942"/>
                    </a:lnTo>
                    <a:lnTo>
                      <a:pt x="1288" y="941"/>
                    </a:lnTo>
                    <a:lnTo>
                      <a:pt x="1296" y="938"/>
                    </a:lnTo>
                    <a:lnTo>
                      <a:pt x="1303" y="936"/>
                    </a:lnTo>
                    <a:lnTo>
                      <a:pt x="1310" y="932"/>
                    </a:lnTo>
                    <a:lnTo>
                      <a:pt x="1316" y="928"/>
                    </a:lnTo>
                    <a:lnTo>
                      <a:pt x="1322" y="923"/>
                    </a:lnTo>
                    <a:lnTo>
                      <a:pt x="1327" y="918"/>
                    </a:lnTo>
                    <a:lnTo>
                      <a:pt x="1332" y="913"/>
                    </a:lnTo>
                    <a:lnTo>
                      <a:pt x="1337" y="907"/>
                    </a:lnTo>
                    <a:lnTo>
                      <a:pt x="1341" y="900"/>
                    </a:lnTo>
                    <a:lnTo>
                      <a:pt x="1343" y="893"/>
                    </a:lnTo>
                    <a:lnTo>
                      <a:pt x="1346" y="885"/>
                    </a:lnTo>
                    <a:lnTo>
                      <a:pt x="1348" y="877"/>
                    </a:lnTo>
                    <a:lnTo>
                      <a:pt x="1350" y="870"/>
                    </a:lnTo>
                    <a:lnTo>
                      <a:pt x="1350" y="862"/>
                    </a:lnTo>
                    <a:lnTo>
                      <a:pt x="1350" y="862"/>
                    </a:lnTo>
                    <a:close/>
                    <a:moveTo>
                      <a:pt x="1605" y="862"/>
                    </a:moveTo>
                    <a:lnTo>
                      <a:pt x="1605" y="853"/>
                    </a:lnTo>
                    <a:lnTo>
                      <a:pt x="1604" y="846"/>
                    </a:lnTo>
                    <a:lnTo>
                      <a:pt x="1603" y="838"/>
                    </a:lnTo>
                    <a:lnTo>
                      <a:pt x="1600" y="832"/>
                    </a:lnTo>
                    <a:lnTo>
                      <a:pt x="1596" y="824"/>
                    </a:lnTo>
                    <a:lnTo>
                      <a:pt x="1593" y="818"/>
                    </a:lnTo>
                    <a:lnTo>
                      <a:pt x="1588" y="812"/>
                    </a:lnTo>
                    <a:lnTo>
                      <a:pt x="1583" y="807"/>
                    </a:lnTo>
                    <a:lnTo>
                      <a:pt x="1578" y="802"/>
                    </a:lnTo>
                    <a:lnTo>
                      <a:pt x="1571" y="798"/>
                    </a:lnTo>
                    <a:lnTo>
                      <a:pt x="1565" y="794"/>
                    </a:lnTo>
                    <a:lnTo>
                      <a:pt x="1559" y="790"/>
                    </a:lnTo>
                    <a:lnTo>
                      <a:pt x="1551" y="788"/>
                    </a:lnTo>
                    <a:lnTo>
                      <a:pt x="1544" y="787"/>
                    </a:lnTo>
                    <a:lnTo>
                      <a:pt x="1536" y="785"/>
                    </a:lnTo>
                    <a:lnTo>
                      <a:pt x="1529" y="784"/>
                    </a:lnTo>
                    <a:lnTo>
                      <a:pt x="1520" y="785"/>
                    </a:lnTo>
                    <a:lnTo>
                      <a:pt x="1512" y="787"/>
                    </a:lnTo>
                    <a:lnTo>
                      <a:pt x="1505" y="788"/>
                    </a:lnTo>
                    <a:lnTo>
                      <a:pt x="1497" y="790"/>
                    </a:lnTo>
                    <a:lnTo>
                      <a:pt x="1491" y="794"/>
                    </a:lnTo>
                    <a:lnTo>
                      <a:pt x="1485" y="798"/>
                    </a:lnTo>
                    <a:lnTo>
                      <a:pt x="1479" y="802"/>
                    </a:lnTo>
                    <a:lnTo>
                      <a:pt x="1472" y="807"/>
                    </a:lnTo>
                    <a:lnTo>
                      <a:pt x="1467" y="812"/>
                    </a:lnTo>
                    <a:lnTo>
                      <a:pt x="1464" y="818"/>
                    </a:lnTo>
                    <a:lnTo>
                      <a:pt x="1459" y="824"/>
                    </a:lnTo>
                    <a:lnTo>
                      <a:pt x="1456" y="832"/>
                    </a:lnTo>
                    <a:lnTo>
                      <a:pt x="1452" y="838"/>
                    </a:lnTo>
                    <a:lnTo>
                      <a:pt x="1451" y="846"/>
                    </a:lnTo>
                    <a:lnTo>
                      <a:pt x="1450" y="853"/>
                    </a:lnTo>
                    <a:lnTo>
                      <a:pt x="1450" y="862"/>
                    </a:lnTo>
                    <a:lnTo>
                      <a:pt x="1450" y="870"/>
                    </a:lnTo>
                    <a:lnTo>
                      <a:pt x="1451" y="877"/>
                    </a:lnTo>
                    <a:lnTo>
                      <a:pt x="1452" y="885"/>
                    </a:lnTo>
                    <a:lnTo>
                      <a:pt x="1456" y="893"/>
                    </a:lnTo>
                    <a:lnTo>
                      <a:pt x="1459" y="900"/>
                    </a:lnTo>
                    <a:lnTo>
                      <a:pt x="1464" y="907"/>
                    </a:lnTo>
                    <a:lnTo>
                      <a:pt x="1467" y="913"/>
                    </a:lnTo>
                    <a:lnTo>
                      <a:pt x="1472" y="918"/>
                    </a:lnTo>
                    <a:lnTo>
                      <a:pt x="1479" y="923"/>
                    </a:lnTo>
                    <a:lnTo>
                      <a:pt x="1485" y="928"/>
                    </a:lnTo>
                    <a:lnTo>
                      <a:pt x="1491" y="932"/>
                    </a:lnTo>
                    <a:lnTo>
                      <a:pt x="1497" y="936"/>
                    </a:lnTo>
                    <a:lnTo>
                      <a:pt x="1505" y="938"/>
                    </a:lnTo>
                    <a:lnTo>
                      <a:pt x="1512" y="941"/>
                    </a:lnTo>
                    <a:lnTo>
                      <a:pt x="1520" y="942"/>
                    </a:lnTo>
                    <a:lnTo>
                      <a:pt x="1529" y="942"/>
                    </a:lnTo>
                    <a:lnTo>
                      <a:pt x="1536" y="942"/>
                    </a:lnTo>
                    <a:lnTo>
                      <a:pt x="1544" y="941"/>
                    </a:lnTo>
                    <a:lnTo>
                      <a:pt x="1551" y="938"/>
                    </a:lnTo>
                    <a:lnTo>
                      <a:pt x="1559" y="936"/>
                    </a:lnTo>
                    <a:lnTo>
                      <a:pt x="1565" y="932"/>
                    </a:lnTo>
                    <a:lnTo>
                      <a:pt x="1571" y="928"/>
                    </a:lnTo>
                    <a:lnTo>
                      <a:pt x="1578" y="923"/>
                    </a:lnTo>
                    <a:lnTo>
                      <a:pt x="1583" y="918"/>
                    </a:lnTo>
                    <a:lnTo>
                      <a:pt x="1588" y="913"/>
                    </a:lnTo>
                    <a:lnTo>
                      <a:pt x="1593" y="907"/>
                    </a:lnTo>
                    <a:lnTo>
                      <a:pt x="1596" y="900"/>
                    </a:lnTo>
                    <a:lnTo>
                      <a:pt x="1600" y="893"/>
                    </a:lnTo>
                    <a:lnTo>
                      <a:pt x="1603" y="885"/>
                    </a:lnTo>
                    <a:lnTo>
                      <a:pt x="1604" y="877"/>
                    </a:lnTo>
                    <a:lnTo>
                      <a:pt x="1605" y="870"/>
                    </a:lnTo>
                    <a:lnTo>
                      <a:pt x="1605" y="862"/>
                    </a:lnTo>
                    <a:lnTo>
                      <a:pt x="1605" y="862"/>
                    </a:lnTo>
                    <a:close/>
                    <a:moveTo>
                      <a:pt x="1779" y="832"/>
                    </a:moveTo>
                    <a:lnTo>
                      <a:pt x="1751" y="832"/>
                    </a:lnTo>
                    <a:lnTo>
                      <a:pt x="1747" y="832"/>
                    </a:lnTo>
                    <a:lnTo>
                      <a:pt x="1742" y="833"/>
                    </a:lnTo>
                    <a:lnTo>
                      <a:pt x="1738" y="835"/>
                    </a:lnTo>
                    <a:lnTo>
                      <a:pt x="1734" y="836"/>
                    </a:lnTo>
                    <a:lnTo>
                      <a:pt x="1731" y="837"/>
                    </a:lnTo>
                    <a:lnTo>
                      <a:pt x="1728" y="840"/>
                    </a:lnTo>
                    <a:lnTo>
                      <a:pt x="1722" y="845"/>
                    </a:lnTo>
                    <a:lnTo>
                      <a:pt x="1717" y="850"/>
                    </a:lnTo>
                    <a:lnTo>
                      <a:pt x="1714" y="853"/>
                    </a:lnTo>
                    <a:lnTo>
                      <a:pt x="1713" y="857"/>
                    </a:lnTo>
                    <a:lnTo>
                      <a:pt x="1712" y="861"/>
                    </a:lnTo>
                    <a:lnTo>
                      <a:pt x="1710" y="865"/>
                    </a:lnTo>
                    <a:lnTo>
                      <a:pt x="1710" y="869"/>
                    </a:lnTo>
                    <a:lnTo>
                      <a:pt x="1709" y="874"/>
                    </a:lnTo>
                    <a:lnTo>
                      <a:pt x="1710" y="877"/>
                    </a:lnTo>
                    <a:lnTo>
                      <a:pt x="1710" y="881"/>
                    </a:lnTo>
                    <a:lnTo>
                      <a:pt x="1712" y="885"/>
                    </a:lnTo>
                    <a:lnTo>
                      <a:pt x="1713" y="889"/>
                    </a:lnTo>
                    <a:lnTo>
                      <a:pt x="1714" y="893"/>
                    </a:lnTo>
                    <a:lnTo>
                      <a:pt x="1717" y="896"/>
                    </a:lnTo>
                    <a:lnTo>
                      <a:pt x="1722" y="903"/>
                    </a:lnTo>
                    <a:lnTo>
                      <a:pt x="1728" y="908"/>
                    </a:lnTo>
                    <a:lnTo>
                      <a:pt x="1731" y="909"/>
                    </a:lnTo>
                    <a:lnTo>
                      <a:pt x="1734" y="912"/>
                    </a:lnTo>
                    <a:lnTo>
                      <a:pt x="1738" y="913"/>
                    </a:lnTo>
                    <a:lnTo>
                      <a:pt x="1742" y="914"/>
                    </a:lnTo>
                    <a:lnTo>
                      <a:pt x="1747" y="914"/>
                    </a:lnTo>
                    <a:lnTo>
                      <a:pt x="1751" y="914"/>
                    </a:lnTo>
                    <a:lnTo>
                      <a:pt x="1751" y="914"/>
                    </a:lnTo>
                    <a:lnTo>
                      <a:pt x="1791" y="914"/>
                    </a:lnTo>
                    <a:lnTo>
                      <a:pt x="1791" y="919"/>
                    </a:lnTo>
                    <a:lnTo>
                      <a:pt x="1793" y="925"/>
                    </a:lnTo>
                    <a:lnTo>
                      <a:pt x="1796" y="931"/>
                    </a:lnTo>
                    <a:lnTo>
                      <a:pt x="1801" y="936"/>
                    </a:lnTo>
                    <a:lnTo>
                      <a:pt x="1804" y="939"/>
                    </a:lnTo>
                    <a:lnTo>
                      <a:pt x="1811" y="942"/>
                    </a:lnTo>
                    <a:lnTo>
                      <a:pt x="1817" y="944"/>
                    </a:lnTo>
                    <a:lnTo>
                      <a:pt x="1823" y="946"/>
                    </a:lnTo>
                    <a:lnTo>
                      <a:pt x="1829" y="946"/>
                    </a:lnTo>
                    <a:lnTo>
                      <a:pt x="1829" y="946"/>
                    </a:lnTo>
                    <a:lnTo>
                      <a:pt x="2017" y="946"/>
                    </a:lnTo>
                    <a:lnTo>
                      <a:pt x="2024" y="946"/>
                    </a:lnTo>
                    <a:lnTo>
                      <a:pt x="2027" y="946"/>
                    </a:lnTo>
                    <a:lnTo>
                      <a:pt x="2031" y="944"/>
                    </a:lnTo>
                    <a:lnTo>
                      <a:pt x="2035" y="943"/>
                    </a:lnTo>
                    <a:lnTo>
                      <a:pt x="2037" y="942"/>
                    </a:lnTo>
                    <a:lnTo>
                      <a:pt x="2041" y="939"/>
                    </a:lnTo>
                    <a:lnTo>
                      <a:pt x="2045" y="937"/>
                    </a:lnTo>
                    <a:lnTo>
                      <a:pt x="2047" y="936"/>
                    </a:lnTo>
                    <a:lnTo>
                      <a:pt x="2049" y="933"/>
                    </a:lnTo>
                    <a:lnTo>
                      <a:pt x="2051" y="931"/>
                    </a:lnTo>
                    <a:lnTo>
                      <a:pt x="2054" y="928"/>
                    </a:lnTo>
                    <a:lnTo>
                      <a:pt x="2056" y="922"/>
                    </a:lnTo>
                    <a:lnTo>
                      <a:pt x="2059" y="914"/>
                    </a:lnTo>
                    <a:lnTo>
                      <a:pt x="2059" y="914"/>
                    </a:lnTo>
                    <a:lnTo>
                      <a:pt x="2099" y="914"/>
                    </a:lnTo>
                    <a:lnTo>
                      <a:pt x="2103" y="914"/>
                    </a:lnTo>
                    <a:lnTo>
                      <a:pt x="2108" y="914"/>
                    </a:lnTo>
                    <a:lnTo>
                      <a:pt x="2111" y="913"/>
                    </a:lnTo>
                    <a:lnTo>
                      <a:pt x="2115" y="912"/>
                    </a:lnTo>
                    <a:lnTo>
                      <a:pt x="2119" y="909"/>
                    </a:lnTo>
                    <a:lnTo>
                      <a:pt x="2121" y="908"/>
                    </a:lnTo>
                    <a:lnTo>
                      <a:pt x="2128" y="903"/>
                    </a:lnTo>
                    <a:lnTo>
                      <a:pt x="2133" y="896"/>
                    </a:lnTo>
                    <a:lnTo>
                      <a:pt x="2135" y="893"/>
                    </a:lnTo>
                    <a:lnTo>
                      <a:pt x="2136" y="889"/>
                    </a:lnTo>
                    <a:lnTo>
                      <a:pt x="2138" y="885"/>
                    </a:lnTo>
                    <a:lnTo>
                      <a:pt x="2139" y="881"/>
                    </a:lnTo>
                    <a:lnTo>
                      <a:pt x="2139" y="877"/>
                    </a:lnTo>
                    <a:lnTo>
                      <a:pt x="2140" y="874"/>
                    </a:lnTo>
                    <a:lnTo>
                      <a:pt x="2140" y="874"/>
                    </a:lnTo>
                    <a:lnTo>
                      <a:pt x="2139" y="869"/>
                    </a:lnTo>
                    <a:lnTo>
                      <a:pt x="2139" y="865"/>
                    </a:lnTo>
                    <a:lnTo>
                      <a:pt x="2138" y="861"/>
                    </a:lnTo>
                    <a:lnTo>
                      <a:pt x="2136" y="857"/>
                    </a:lnTo>
                    <a:lnTo>
                      <a:pt x="2135" y="853"/>
                    </a:lnTo>
                    <a:lnTo>
                      <a:pt x="2133" y="850"/>
                    </a:lnTo>
                    <a:lnTo>
                      <a:pt x="2128" y="845"/>
                    </a:lnTo>
                    <a:lnTo>
                      <a:pt x="2121" y="840"/>
                    </a:lnTo>
                    <a:lnTo>
                      <a:pt x="2119" y="837"/>
                    </a:lnTo>
                    <a:lnTo>
                      <a:pt x="2115" y="836"/>
                    </a:lnTo>
                    <a:lnTo>
                      <a:pt x="2111" y="835"/>
                    </a:lnTo>
                    <a:lnTo>
                      <a:pt x="2108" y="833"/>
                    </a:lnTo>
                    <a:lnTo>
                      <a:pt x="2103" y="832"/>
                    </a:lnTo>
                    <a:lnTo>
                      <a:pt x="2099" y="832"/>
                    </a:lnTo>
                    <a:lnTo>
                      <a:pt x="2099" y="832"/>
                    </a:lnTo>
                    <a:lnTo>
                      <a:pt x="2070" y="832"/>
                    </a:lnTo>
                    <a:lnTo>
                      <a:pt x="2069" y="830"/>
                    </a:lnTo>
                    <a:lnTo>
                      <a:pt x="2069" y="827"/>
                    </a:lnTo>
                    <a:lnTo>
                      <a:pt x="2068" y="824"/>
                    </a:lnTo>
                    <a:lnTo>
                      <a:pt x="2066" y="822"/>
                    </a:lnTo>
                    <a:lnTo>
                      <a:pt x="2064" y="818"/>
                    </a:lnTo>
                    <a:lnTo>
                      <a:pt x="2060" y="814"/>
                    </a:lnTo>
                    <a:lnTo>
                      <a:pt x="2058" y="811"/>
                    </a:lnTo>
                    <a:lnTo>
                      <a:pt x="2055" y="808"/>
                    </a:lnTo>
                    <a:lnTo>
                      <a:pt x="2053" y="806"/>
                    </a:lnTo>
                    <a:lnTo>
                      <a:pt x="2049" y="804"/>
                    </a:lnTo>
                    <a:lnTo>
                      <a:pt x="2045" y="802"/>
                    </a:lnTo>
                    <a:lnTo>
                      <a:pt x="2041" y="802"/>
                    </a:lnTo>
                    <a:lnTo>
                      <a:pt x="2037" y="800"/>
                    </a:lnTo>
                    <a:lnTo>
                      <a:pt x="2034" y="800"/>
                    </a:lnTo>
                    <a:lnTo>
                      <a:pt x="2034" y="800"/>
                    </a:lnTo>
                    <a:lnTo>
                      <a:pt x="1816" y="800"/>
                    </a:lnTo>
                    <a:lnTo>
                      <a:pt x="1812" y="800"/>
                    </a:lnTo>
                    <a:lnTo>
                      <a:pt x="1808" y="802"/>
                    </a:lnTo>
                    <a:lnTo>
                      <a:pt x="1804" y="802"/>
                    </a:lnTo>
                    <a:lnTo>
                      <a:pt x="1801" y="804"/>
                    </a:lnTo>
                    <a:lnTo>
                      <a:pt x="1797" y="806"/>
                    </a:lnTo>
                    <a:lnTo>
                      <a:pt x="1793" y="808"/>
                    </a:lnTo>
                    <a:lnTo>
                      <a:pt x="1791" y="811"/>
                    </a:lnTo>
                    <a:lnTo>
                      <a:pt x="1787" y="814"/>
                    </a:lnTo>
                    <a:lnTo>
                      <a:pt x="1783" y="818"/>
                    </a:lnTo>
                    <a:lnTo>
                      <a:pt x="1782" y="822"/>
                    </a:lnTo>
                    <a:lnTo>
                      <a:pt x="1781" y="827"/>
                    </a:lnTo>
                    <a:lnTo>
                      <a:pt x="1779" y="832"/>
                    </a:lnTo>
                    <a:lnTo>
                      <a:pt x="1779" y="832"/>
                    </a:lnTo>
                    <a:close/>
                    <a:moveTo>
                      <a:pt x="2237" y="934"/>
                    </a:moveTo>
                    <a:lnTo>
                      <a:pt x="2651" y="934"/>
                    </a:lnTo>
                    <a:lnTo>
                      <a:pt x="2653" y="934"/>
                    </a:lnTo>
                    <a:lnTo>
                      <a:pt x="2655" y="934"/>
                    </a:lnTo>
                    <a:lnTo>
                      <a:pt x="2656" y="933"/>
                    </a:lnTo>
                    <a:lnTo>
                      <a:pt x="2658" y="932"/>
                    </a:lnTo>
                    <a:lnTo>
                      <a:pt x="2659" y="931"/>
                    </a:lnTo>
                    <a:lnTo>
                      <a:pt x="2660" y="929"/>
                    </a:lnTo>
                    <a:lnTo>
                      <a:pt x="2660" y="928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818"/>
                    </a:lnTo>
                    <a:lnTo>
                      <a:pt x="2660" y="817"/>
                    </a:lnTo>
                    <a:lnTo>
                      <a:pt x="2660" y="816"/>
                    </a:lnTo>
                    <a:lnTo>
                      <a:pt x="2659" y="813"/>
                    </a:lnTo>
                    <a:lnTo>
                      <a:pt x="2658" y="812"/>
                    </a:lnTo>
                    <a:lnTo>
                      <a:pt x="2656" y="811"/>
                    </a:lnTo>
                    <a:lnTo>
                      <a:pt x="2655" y="811"/>
                    </a:lnTo>
                    <a:lnTo>
                      <a:pt x="2653" y="809"/>
                    </a:lnTo>
                    <a:lnTo>
                      <a:pt x="2651" y="809"/>
                    </a:lnTo>
                    <a:lnTo>
                      <a:pt x="2651" y="809"/>
                    </a:lnTo>
                    <a:lnTo>
                      <a:pt x="2237" y="809"/>
                    </a:lnTo>
                    <a:lnTo>
                      <a:pt x="2235" y="809"/>
                    </a:lnTo>
                    <a:lnTo>
                      <a:pt x="2234" y="811"/>
                    </a:lnTo>
                    <a:lnTo>
                      <a:pt x="2232" y="811"/>
                    </a:lnTo>
                    <a:lnTo>
                      <a:pt x="2230" y="812"/>
                    </a:lnTo>
                    <a:lnTo>
                      <a:pt x="2229" y="813"/>
                    </a:lnTo>
                    <a:lnTo>
                      <a:pt x="2229" y="816"/>
                    </a:lnTo>
                    <a:lnTo>
                      <a:pt x="2228" y="817"/>
                    </a:lnTo>
                    <a:lnTo>
                      <a:pt x="2228" y="818"/>
                    </a:lnTo>
                    <a:lnTo>
                      <a:pt x="2228" y="818"/>
                    </a:lnTo>
                    <a:lnTo>
                      <a:pt x="2228" y="925"/>
                    </a:lnTo>
                    <a:lnTo>
                      <a:pt x="2228" y="928"/>
                    </a:lnTo>
                    <a:lnTo>
                      <a:pt x="2229" y="929"/>
                    </a:lnTo>
                    <a:lnTo>
                      <a:pt x="2229" y="931"/>
                    </a:lnTo>
                    <a:lnTo>
                      <a:pt x="2230" y="932"/>
                    </a:lnTo>
                    <a:lnTo>
                      <a:pt x="2232" y="933"/>
                    </a:lnTo>
                    <a:lnTo>
                      <a:pt x="2234" y="934"/>
                    </a:lnTo>
                    <a:lnTo>
                      <a:pt x="2235" y="934"/>
                    </a:lnTo>
                    <a:lnTo>
                      <a:pt x="2237" y="934"/>
                    </a:lnTo>
                    <a:lnTo>
                      <a:pt x="2237" y="934"/>
                    </a:lnTo>
                    <a:close/>
                    <a:moveTo>
                      <a:pt x="2772" y="837"/>
                    </a:moveTo>
                    <a:lnTo>
                      <a:pt x="2742" y="837"/>
                    </a:lnTo>
                    <a:lnTo>
                      <a:pt x="2738" y="837"/>
                    </a:lnTo>
                    <a:lnTo>
                      <a:pt x="2734" y="837"/>
                    </a:lnTo>
                    <a:lnTo>
                      <a:pt x="2729" y="838"/>
                    </a:lnTo>
                    <a:lnTo>
                      <a:pt x="2725" y="840"/>
                    </a:lnTo>
                    <a:lnTo>
                      <a:pt x="2723" y="842"/>
                    </a:lnTo>
                    <a:lnTo>
                      <a:pt x="2719" y="843"/>
                    </a:lnTo>
                    <a:lnTo>
                      <a:pt x="2713" y="848"/>
                    </a:lnTo>
                    <a:lnTo>
                      <a:pt x="2708" y="855"/>
                    </a:lnTo>
                    <a:lnTo>
                      <a:pt x="2707" y="859"/>
                    </a:lnTo>
                    <a:lnTo>
                      <a:pt x="2704" y="862"/>
                    </a:lnTo>
                    <a:lnTo>
                      <a:pt x="2703" y="866"/>
                    </a:lnTo>
                    <a:lnTo>
                      <a:pt x="2702" y="870"/>
                    </a:lnTo>
                    <a:lnTo>
                      <a:pt x="2702" y="874"/>
                    </a:lnTo>
                    <a:lnTo>
                      <a:pt x="2702" y="877"/>
                    </a:lnTo>
                    <a:lnTo>
                      <a:pt x="2702" y="881"/>
                    </a:lnTo>
                    <a:lnTo>
                      <a:pt x="2702" y="885"/>
                    </a:lnTo>
                    <a:lnTo>
                      <a:pt x="2703" y="889"/>
                    </a:lnTo>
                    <a:lnTo>
                      <a:pt x="2704" y="893"/>
                    </a:lnTo>
                    <a:lnTo>
                      <a:pt x="2707" y="896"/>
                    </a:lnTo>
                    <a:lnTo>
                      <a:pt x="2708" y="899"/>
                    </a:lnTo>
                    <a:lnTo>
                      <a:pt x="2713" y="905"/>
                    </a:lnTo>
                    <a:lnTo>
                      <a:pt x="2719" y="910"/>
                    </a:lnTo>
                    <a:lnTo>
                      <a:pt x="2723" y="912"/>
                    </a:lnTo>
                    <a:lnTo>
                      <a:pt x="2725" y="913"/>
                    </a:lnTo>
                    <a:lnTo>
                      <a:pt x="2729" y="915"/>
                    </a:lnTo>
                    <a:lnTo>
                      <a:pt x="2734" y="915"/>
                    </a:lnTo>
                    <a:lnTo>
                      <a:pt x="2738" y="917"/>
                    </a:lnTo>
                    <a:lnTo>
                      <a:pt x="2742" y="917"/>
                    </a:lnTo>
                    <a:lnTo>
                      <a:pt x="2742" y="917"/>
                    </a:lnTo>
                    <a:lnTo>
                      <a:pt x="2783" y="917"/>
                    </a:lnTo>
                    <a:lnTo>
                      <a:pt x="2783" y="922"/>
                    </a:lnTo>
                    <a:lnTo>
                      <a:pt x="2784" y="928"/>
                    </a:lnTo>
                    <a:lnTo>
                      <a:pt x="2788" y="933"/>
                    </a:lnTo>
                    <a:lnTo>
                      <a:pt x="2792" y="938"/>
                    </a:lnTo>
                    <a:lnTo>
                      <a:pt x="2797" y="942"/>
                    </a:lnTo>
                    <a:lnTo>
                      <a:pt x="2799" y="944"/>
                    </a:lnTo>
                    <a:lnTo>
                      <a:pt x="2803" y="946"/>
                    </a:lnTo>
                    <a:lnTo>
                      <a:pt x="2806" y="948"/>
                    </a:lnTo>
                    <a:lnTo>
                      <a:pt x="2808" y="948"/>
                    </a:lnTo>
                    <a:lnTo>
                      <a:pt x="2812" y="949"/>
                    </a:lnTo>
                    <a:lnTo>
                      <a:pt x="2814" y="951"/>
                    </a:lnTo>
                    <a:lnTo>
                      <a:pt x="2821" y="951"/>
                    </a:lnTo>
                    <a:lnTo>
                      <a:pt x="2821" y="951"/>
                    </a:lnTo>
                    <a:lnTo>
                      <a:pt x="3009" y="951"/>
                    </a:lnTo>
                    <a:lnTo>
                      <a:pt x="3014" y="951"/>
                    </a:lnTo>
                    <a:lnTo>
                      <a:pt x="3017" y="949"/>
                    </a:lnTo>
                    <a:lnTo>
                      <a:pt x="3021" y="949"/>
                    </a:lnTo>
                    <a:lnTo>
                      <a:pt x="3025" y="948"/>
                    </a:lnTo>
                    <a:lnTo>
                      <a:pt x="3031" y="944"/>
                    </a:lnTo>
                    <a:lnTo>
                      <a:pt x="3036" y="942"/>
                    </a:lnTo>
                    <a:lnTo>
                      <a:pt x="3041" y="936"/>
                    </a:lnTo>
                    <a:lnTo>
                      <a:pt x="3044" y="933"/>
                    </a:lnTo>
                    <a:lnTo>
                      <a:pt x="3046" y="931"/>
                    </a:lnTo>
                    <a:lnTo>
                      <a:pt x="3047" y="927"/>
                    </a:lnTo>
                    <a:lnTo>
                      <a:pt x="3049" y="923"/>
                    </a:lnTo>
                    <a:lnTo>
                      <a:pt x="3050" y="920"/>
                    </a:lnTo>
                    <a:lnTo>
                      <a:pt x="3050" y="917"/>
                    </a:lnTo>
                    <a:lnTo>
                      <a:pt x="3050" y="917"/>
                    </a:lnTo>
                    <a:lnTo>
                      <a:pt x="3092" y="917"/>
                    </a:lnTo>
                    <a:lnTo>
                      <a:pt x="3097" y="917"/>
                    </a:lnTo>
                    <a:lnTo>
                      <a:pt x="3101" y="915"/>
                    </a:lnTo>
                    <a:lnTo>
                      <a:pt x="3105" y="915"/>
                    </a:lnTo>
                    <a:lnTo>
                      <a:pt x="3109" y="913"/>
                    </a:lnTo>
                    <a:lnTo>
                      <a:pt x="3113" y="912"/>
                    </a:lnTo>
                    <a:lnTo>
                      <a:pt x="3115" y="910"/>
                    </a:lnTo>
                    <a:lnTo>
                      <a:pt x="3121" y="905"/>
                    </a:lnTo>
                    <a:lnTo>
                      <a:pt x="3126" y="899"/>
                    </a:lnTo>
                    <a:lnTo>
                      <a:pt x="3129" y="896"/>
                    </a:lnTo>
                    <a:lnTo>
                      <a:pt x="3130" y="893"/>
                    </a:lnTo>
                    <a:lnTo>
                      <a:pt x="3131" y="889"/>
                    </a:lnTo>
                    <a:lnTo>
                      <a:pt x="3133" y="885"/>
                    </a:lnTo>
                    <a:lnTo>
                      <a:pt x="3134" y="881"/>
                    </a:lnTo>
                    <a:lnTo>
                      <a:pt x="3134" y="877"/>
                    </a:lnTo>
                    <a:lnTo>
                      <a:pt x="3134" y="877"/>
                    </a:lnTo>
                    <a:lnTo>
                      <a:pt x="3134" y="874"/>
                    </a:lnTo>
                    <a:lnTo>
                      <a:pt x="3133" y="870"/>
                    </a:lnTo>
                    <a:lnTo>
                      <a:pt x="3131" y="866"/>
                    </a:lnTo>
                    <a:lnTo>
                      <a:pt x="3130" y="862"/>
                    </a:lnTo>
                    <a:lnTo>
                      <a:pt x="3129" y="859"/>
                    </a:lnTo>
                    <a:lnTo>
                      <a:pt x="3126" y="855"/>
                    </a:lnTo>
                    <a:lnTo>
                      <a:pt x="3121" y="848"/>
                    </a:lnTo>
                    <a:lnTo>
                      <a:pt x="3115" y="843"/>
                    </a:lnTo>
                    <a:lnTo>
                      <a:pt x="3113" y="842"/>
                    </a:lnTo>
                    <a:lnTo>
                      <a:pt x="3109" y="840"/>
                    </a:lnTo>
                    <a:lnTo>
                      <a:pt x="3105" y="838"/>
                    </a:lnTo>
                    <a:lnTo>
                      <a:pt x="3101" y="837"/>
                    </a:lnTo>
                    <a:lnTo>
                      <a:pt x="3097" y="837"/>
                    </a:lnTo>
                    <a:lnTo>
                      <a:pt x="3092" y="837"/>
                    </a:lnTo>
                    <a:lnTo>
                      <a:pt x="3092" y="837"/>
                    </a:lnTo>
                    <a:lnTo>
                      <a:pt x="3061" y="837"/>
                    </a:lnTo>
                    <a:lnTo>
                      <a:pt x="3061" y="832"/>
                    </a:lnTo>
                    <a:lnTo>
                      <a:pt x="3060" y="827"/>
                    </a:lnTo>
                    <a:lnTo>
                      <a:pt x="3057" y="822"/>
                    </a:lnTo>
                    <a:lnTo>
                      <a:pt x="3055" y="817"/>
                    </a:lnTo>
                    <a:lnTo>
                      <a:pt x="3051" y="814"/>
                    </a:lnTo>
                    <a:lnTo>
                      <a:pt x="3049" y="812"/>
                    </a:lnTo>
                    <a:lnTo>
                      <a:pt x="3045" y="809"/>
                    </a:lnTo>
                    <a:lnTo>
                      <a:pt x="3041" y="807"/>
                    </a:lnTo>
                    <a:lnTo>
                      <a:pt x="3037" y="806"/>
                    </a:lnTo>
                    <a:lnTo>
                      <a:pt x="3034" y="804"/>
                    </a:lnTo>
                    <a:lnTo>
                      <a:pt x="3029" y="803"/>
                    </a:lnTo>
                    <a:lnTo>
                      <a:pt x="3025" y="803"/>
                    </a:lnTo>
                    <a:lnTo>
                      <a:pt x="3025" y="803"/>
                    </a:lnTo>
                    <a:lnTo>
                      <a:pt x="2809" y="803"/>
                    </a:lnTo>
                    <a:lnTo>
                      <a:pt x="2806" y="803"/>
                    </a:lnTo>
                    <a:lnTo>
                      <a:pt x="2802" y="804"/>
                    </a:lnTo>
                    <a:lnTo>
                      <a:pt x="2797" y="806"/>
                    </a:lnTo>
                    <a:lnTo>
                      <a:pt x="2793" y="807"/>
                    </a:lnTo>
                    <a:lnTo>
                      <a:pt x="2789" y="809"/>
                    </a:lnTo>
                    <a:lnTo>
                      <a:pt x="2787" y="812"/>
                    </a:lnTo>
                    <a:lnTo>
                      <a:pt x="2783" y="814"/>
                    </a:lnTo>
                    <a:lnTo>
                      <a:pt x="2780" y="817"/>
                    </a:lnTo>
                    <a:lnTo>
                      <a:pt x="2778" y="822"/>
                    </a:lnTo>
                    <a:lnTo>
                      <a:pt x="2775" y="827"/>
                    </a:lnTo>
                    <a:lnTo>
                      <a:pt x="2773" y="832"/>
                    </a:lnTo>
                    <a:lnTo>
                      <a:pt x="2772" y="837"/>
                    </a:lnTo>
                    <a:lnTo>
                      <a:pt x="2772" y="837"/>
                    </a:lnTo>
                    <a:close/>
                    <a:moveTo>
                      <a:pt x="3384" y="775"/>
                    </a:moveTo>
                    <a:lnTo>
                      <a:pt x="3176" y="775"/>
                    </a:lnTo>
                    <a:lnTo>
                      <a:pt x="3176" y="942"/>
                    </a:lnTo>
                    <a:lnTo>
                      <a:pt x="3384" y="942"/>
                    </a:lnTo>
                    <a:lnTo>
                      <a:pt x="3384" y="775"/>
                    </a:lnTo>
                    <a:lnTo>
                      <a:pt x="3384" y="775"/>
                    </a:lnTo>
                    <a:close/>
                    <a:moveTo>
                      <a:pt x="3000" y="0"/>
                    </a:moveTo>
                    <a:lnTo>
                      <a:pt x="2918" y="0"/>
                    </a:lnTo>
                    <a:lnTo>
                      <a:pt x="2915" y="1"/>
                    </a:lnTo>
                    <a:lnTo>
                      <a:pt x="2911" y="3"/>
                    </a:lnTo>
                    <a:lnTo>
                      <a:pt x="2908" y="4"/>
                    </a:lnTo>
                    <a:lnTo>
                      <a:pt x="2906" y="6"/>
                    </a:lnTo>
                    <a:lnTo>
                      <a:pt x="2903" y="10"/>
                    </a:lnTo>
                    <a:lnTo>
                      <a:pt x="2902" y="13"/>
                    </a:lnTo>
                    <a:lnTo>
                      <a:pt x="2901" y="16"/>
                    </a:lnTo>
                    <a:lnTo>
                      <a:pt x="2901" y="21"/>
                    </a:lnTo>
                    <a:lnTo>
                      <a:pt x="2901" y="21"/>
                    </a:lnTo>
                    <a:lnTo>
                      <a:pt x="2901" y="93"/>
                    </a:lnTo>
                    <a:lnTo>
                      <a:pt x="2901" y="97"/>
                    </a:lnTo>
                    <a:lnTo>
                      <a:pt x="2902" y="101"/>
                    </a:lnTo>
                    <a:lnTo>
                      <a:pt x="2903" y="104"/>
                    </a:lnTo>
                    <a:lnTo>
                      <a:pt x="2906" y="106"/>
                    </a:lnTo>
                    <a:lnTo>
                      <a:pt x="2908" y="109"/>
                    </a:lnTo>
                    <a:lnTo>
                      <a:pt x="2911" y="111"/>
                    </a:lnTo>
                    <a:lnTo>
                      <a:pt x="2915" y="111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3000" y="112"/>
                    </a:lnTo>
                    <a:lnTo>
                      <a:pt x="3000" y="0"/>
                    </a:lnTo>
                    <a:lnTo>
                      <a:pt x="3000" y="0"/>
                    </a:lnTo>
                    <a:close/>
                    <a:moveTo>
                      <a:pt x="3000" y="580"/>
                    </a:moveTo>
                    <a:lnTo>
                      <a:pt x="2918" y="580"/>
                    </a:lnTo>
                    <a:lnTo>
                      <a:pt x="2915" y="580"/>
                    </a:lnTo>
                    <a:lnTo>
                      <a:pt x="2911" y="581"/>
                    </a:lnTo>
                    <a:lnTo>
                      <a:pt x="2908" y="583"/>
                    </a:lnTo>
                    <a:lnTo>
                      <a:pt x="2906" y="585"/>
                    </a:lnTo>
                    <a:lnTo>
                      <a:pt x="2903" y="588"/>
                    </a:lnTo>
                    <a:lnTo>
                      <a:pt x="2902" y="591"/>
                    </a:lnTo>
                    <a:lnTo>
                      <a:pt x="2901" y="595"/>
                    </a:lnTo>
                    <a:lnTo>
                      <a:pt x="2901" y="597"/>
                    </a:lnTo>
                    <a:lnTo>
                      <a:pt x="2901" y="597"/>
                    </a:lnTo>
                    <a:lnTo>
                      <a:pt x="2901" y="670"/>
                    </a:lnTo>
                    <a:lnTo>
                      <a:pt x="2901" y="674"/>
                    </a:lnTo>
                    <a:lnTo>
                      <a:pt x="2902" y="678"/>
                    </a:lnTo>
                    <a:lnTo>
                      <a:pt x="2903" y="682"/>
                    </a:lnTo>
                    <a:lnTo>
                      <a:pt x="2906" y="686"/>
                    </a:lnTo>
                    <a:lnTo>
                      <a:pt x="2908" y="688"/>
                    </a:lnTo>
                    <a:lnTo>
                      <a:pt x="2911" y="689"/>
                    </a:lnTo>
                    <a:lnTo>
                      <a:pt x="2915" y="691"/>
                    </a:lnTo>
                    <a:lnTo>
                      <a:pt x="2918" y="691"/>
                    </a:lnTo>
                    <a:lnTo>
                      <a:pt x="2918" y="691"/>
                    </a:lnTo>
                    <a:lnTo>
                      <a:pt x="3000" y="691"/>
                    </a:lnTo>
                    <a:lnTo>
                      <a:pt x="3000" y="580"/>
                    </a:lnTo>
                    <a:lnTo>
                      <a:pt x="3000" y="580"/>
                    </a:lnTo>
                    <a:close/>
                    <a:moveTo>
                      <a:pt x="0" y="880"/>
                    </a:moveTo>
                    <a:lnTo>
                      <a:pt x="0" y="925"/>
                    </a:lnTo>
                    <a:lnTo>
                      <a:pt x="125" y="925"/>
                    </a:lnTo>
                    <a:lnTo>
                      <a:pt x="125" y="880"/>
                    </a:lnTo>
                    <a:lnTo>
                      <a:pt x="0" y="880"/>
                    </a:lnTo>
                    <a:lnTo>
                      <a:pt x="0" y="880"/>
                    </a:lnTo>
                    <a:close/>
                    <a:moveTo>
                      <a:pt x="822" y="880"/>
                    </a:moveTo>
                    <a:lnTo>
                      <a:pt x="822" y="925"/>
                    </a:lnTo>
                    <a:lnTo>
                      <a:pt x="945" y="925"/>
                    </a:lnTo>
                    <a:lnTo>
                      <a:pt x="945" y="880"/>
                    </a:lnTo>
                    <a:lnTo>
                      <a:pt x="822" y="880"/>
                    </a:lnTo>
                    <a:lnTo>
                      <a:pt x="822" y="88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5" name=""/>
              <p:cNvSpPr/>
              <p:nvPr/>
            </p:nvSpPr>
            <p:spPr>
              <a:xfrm>
                <a:off x="2721600" y="2819520"/>
                <a:ext cx="110880" cy="12348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78"/>
                    </a:moveTo>
                    <a:lnTo>
                      <a:pt x="157" y="69"/>
                    </a:lnTo>
                    <a:lnTo>
                      <a:pt x="155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8" y="40"/>
                    </a:lnTo>
                    <a:lnTo>
                      <a:pt x="144" y="34"/>
                    </a:lnTo>
                    <a:lnTo>
                      <a:pt x="139" y="28"/>
                    </a:lnTo>
                    <a:lnTo>
                      <a:pt x="134" y="23"/>
                    </a:lnTo>
                    <a:lnTo>
                      <a:pt x="129" y="18"/>
                    </a:lnTo>
                    <a:lnTo>
                      <a:pt x="123" y="14"/>
                    </a:lnTo>
                    <a:lnTo>
                      <a:pt x="117" y="10"/>
                    </a:lnTo>
                    <a:lnTo>
                      <a:pt x="110" y="6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1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24" y="23"/>
                    </a:lnTo>
                    <a:lnTo>
                      <a:pt x="19" y="28"/>
                    </a:lnTo>
                    <a:lnTo>
                      <a:pt x="14" y="34"/>
                    </a:lnTo>
                    <a:lnTo>
                      <a:pt x="10" y="40"/>
                    </a:lnTo>
                    <a:lnTo>
                      <a:pt x="8" y="48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1" y="69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2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9" y="129"/>
                    </a:lnTo>
                    <a:lnTo>
                      <a:pt x="24" y="134"/>
                    </a:lnTo>
                    <a:lnTo>
                      <a:pt x="30" y="139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9" y="152"/>
                    </a:lnTo>
                    <a:lnTo>
                      <a:pt x="56" y="154"/>
                    </a:lnTo>
                    <a:lnTo>
                      <a:pt x="64" y="157"/>
                    </a:lnTo>
                    <a:lnTo>
                      <a:pt x="71" y="158"/>
                    </a:lnTo>
                    <a:lnTo>
                      <a:pt x="80" y="158"/>
                    </a:lnTo>
                    <a:lnTo>
                      <a:pt x="88" y="158"/>
                    </a:lnTo>
                    <a:lnTo>
                      <a:pt x="95" y="157"/>
                    </a:lnTo>
                    <a:lnTo>
                      <a:pt x="103" y="154"/>
                    </a:lnTo>
                    <a:lnTo>
                      <a:pt x="110" y="152"/>
                    </a:lnTo>
                    <a:lnTo>
                      <a:pt x="117" y="148"/>
                    </a:lnTo>
                    <a:lnTo>
                      <a:pt x="123" y="144"/>
                    </a:lnTo>
                    <a:lnTo>
                      <a:pt x="129" y="139"/>
                    </a:lnTo>
                    <a:lnTo>
                      <a:pt x="134" y="134"/>
                    </a:lnTo>
                    <a:lnTo>
                      <a:pt x="139" y="129"/>
                    </a:lnTo>
                    <a:lnTo>
                      <a:pt x="144" y="123"/>
                    </a:lnTo>
                    <a:lnTo>
                      <a:pt x="148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5" y="93"/>
                    </a:lnTo>
                    <a:lnTo>
                      <a:pt x="157" y="86"/>
                    </a:lnTo>
                    <a:lnTo>
                      <a:pt x="157" y="78"/>
                    </a:lnTo>
                    <a:lnTo>
                      <a:pt x="157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6" name=""/>
              <p:cNvSpPr/>
              <p:nvPr/>
            </p:nvSpPr>
            <p:spPr>
              <a:xfrm>
                <a:off x="2904120" y="2819520"/>
                <a:ext cx="110880" cy="123480"/>
              </a:xfrm>
              <a:custGeom>
                <a:avLst/>
                <a:gdLst/>
                <a:ahLst/>
                <a:rect l="l" t="t" r="r" b="b"/>
                <a:pathLst>
                  <a:path w="155" h="158">
                    <a:moveTo>
                      <a:pt x="155" y="78"/>
                    </a:moveTo>
                    <a:lnTo>
                      <a:pt x="155" y="69"/>
                    </a:lnTo>
                    <a:lnTo>
                      <a:pt x="154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6" y="40"/>
                    </a:lnTo>
                    <a:lnTo>
                      <a:pt x="143" y="34"/>
                    </a:lnTo>
                    <a:lnTo>
                      <a:pt x="138" y="28"/>
                    </a:lnTo>
                    <a:lnTo>
                      <a:pt x="133" y="23"/>
                    </a:lnTo>
                    <a:lnTo>
                      <a:pt x="128" y="18"/>
                    </a:lnTo>
                    <a:lnTo>
                      <a:pt x="121" y="14"/>
                    </a:lnTo>
                    <a:lnTo>
                      <a:pt x="115" y="10"/>
                    </a:lnTo>
                    <a:lnTo>
                      <a:pt x="109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6" y="1"/>
                    </a:lnTo>
                    <a:lnTo>
                      <a:pt x="79" y="0"/>
                    </a:lnTo>
                    <a:lnTo>
                      <a:pt x="70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7" y="6"/>
                    </a:lnTo>
                    <a:lnTo>
                      <a:pt x="41" y="10"/>
                    </a:lnTo>
                    <a:lnTo>
                      <a:pt x="35" y="14"/>
                    </a:lnTo>
                    <a:lnTo>
                      <a:pt x="29" y="18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4" y="34"/>
                    </a:lnTo>
                    <a:lnTo>
                      <a:pt x="9" y="40"/>
                    </a:lnTo>
                    <a:lnTo>
                      <a:pt x="6" y="48"/>
                    </a:lnTo>
                    <a:lnTo>
                      <a:pt x="2" y="54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" y="93"/>
                    </a:lnTo>
                    <a:lnTo>
                      <a:pt x="2" y="101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4" y="123"/>
                    </a:lnTo>
                    <a:lnTo>
                      <a:pt x="17" y="129"/>
                    </a:lnTo>
                    <a:lnTo>
                      <a:pt x="22" y="134"/>
                    </a:lnTo>
                    <a:lnTo>
                      <a:pt x="29" y="139"/>
                    </a:lnTo>
                    <a:lnTo>
                      <a:pt x="35" y="144"/>
                    </a:lnTo>
                    <a:lnTo>
                      <a:pt x="41" y="148"/>
                    </a:lnTo>
                    <a:lnTo>
                      <a:pt x="47" y="152"/>
                    </a:lnTo>
                    <a:lnTo>
                      <a:pt x="55" y="154"/>
                    </a:lnTo>
                    <a:lnTo>
                      <a:pt x="62" y="157"/>
                    </a:lnTo>
                    <a:lnTo>
                      <a:pt x="70" y="158"/>
                    </a:lnTo>
                    <a:lnTo>
                      <a:pt x="79" y="158"/>
                    </a:lnTo>
                    <a:lnTo>
                      <a:pt x="86" y="158"/>
                    </a:lnTo>
                    <a:lnTo>
                      <a:pt x="94" y="157"/>
                    </a:lnTo>
                    <a:lnTo>
                      <a:pt x="101" y="154"/>
                    </a:lnTo>
                    <a:lnTo>
                      <a:pt x="109" y="152"/>
                    </a:lnTo>
                    <a:lnTo>
                      <a:pt x="115" y="148"/>
                    </a:lnTo>
                    <a:lnTo>
                      <a:pt x="121" y="144"/>
                    </a:lnTo>
                    <a:lnTo>
                      <a:pt x="128" y="139"/>
                    </a:lnTo>
                    <a:lnTo>
                      <a:pt x="133" y="134"/>
                    </a:lnTo>
                    <a:lnTo>
                      <a:pt x="138" y="129"/>
                    </a:lnTo>
                    <a:lnTo>
                      <a:pt x="143" y="123"/>
                    </a:lnTo>
                    <a:lnTo>
                      <a:pt x="146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4" y="93"/>
                    </a:lnTo>
                    <a:lnTo>
                      <a:pt x="155" y="86"/>
                    </a:lnTo>
                    <a:lnTo>
                      <a:pt x="155" y="78"/>
                    </a:lnTo>
                    <a:lnTo>
                      <a:pt x="155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7" name=""/>
              <p:cNvSpPr/>
              <p:nvPr/>
            </p:nvSpPr>
            <p:spPr>
              <a:xfrm>
                <a:off x="3088800" y="2832480"/>
                <a:ext cx="307080" cy="113040"/>
              </a:xfrm>
              <a:custGeom>
                <a:avLst/>
                <a:gdLst/>
                <a:ahLst/>
                <a:rect l="l" t="t" r="r" b="b"/>
                <a:pathLst>
                  <a:path w="431" h="146">
                    <a:moveTo>
                      <a:pt x="70" y="32"/>
                    </a:moveTo>
                    <a:lnTo>
                      <a:pt x="42" y="32"/>
                    </a:lnTo>
                    <a:lnTo>
                      <a:pt x="38" y="32"/>
                    </a:lnTo>
                    <a:lnTo>
                      <a:pt x="33" y="33"/>
                    </a:lnTo>
                    <a:lnTo>
                      <a:pt x="29" y="35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3" y="45"/>
                    </a:lnTo>
                    <a:lnTo>
                      <a:pt x="8" y="50"/>
                    </a:lnTo>
                    <a:lnTo>
                      <a:pt x="5" y="53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9"/>
                    </a:lnTo>
                    <a:lnTo>
                      <a:pt x="5" y="93"/>
                    </a:lnTo>
                    <a:lnTo>
                      <a:pt x="8" y="96"/>
                    </a:lnTo>
                    <a:lnTo>
                      <a:pt x="13" y="103"/>
                    </a:lnTo>
                    <a:lnTo>
                      <a:pt x="19" y="108"/>
                    </a:lnTo>
                    <a:lnTo>
                      <a:pt x="22" y="109"/>
                    </a:lnTo>
                    <a:lnTo>
                      <a:pt x="25" y="112"/>
                    </a:lnTo>
                    <a:lnTo>
                      <a:pt x="29" y="113"/>
                    </a:lnTo>
                    <a:lnTo>
                      <a:pt x="33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82" y="114"/>
                    </a:lnTo>
                    <a:lnTo>
                      <a:pt x="82" y="119"/>
                    </a:lnTo>
                    <a:lnTo>
                      <a:pt x="84" y="125"/>
                    </a:lnTo>
                    <a:lnTo>
                      <a:pt x="87" y="131"/>
                    </a:lnTo>
                    <a:lnTo>
                      <a:pt x="92" y="136"/>
                    </a:lnTo>
                    <a:lnTo>
                      <a:pt x="95" y="139"/>
                    </a:lnTo>
                    <a:lnTo>
                      <a:pt x="102" y="142"/>
                    </a:lnTo>
                    <a:lnTo>
                      <a:pt x="108" y="144"/>
                    </a:lnTo>
                    <a:lnTo>
                      <a:pt x="114" y="146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308" y="146"/>
                    </a:lnTo>
                    <a:lnTo>
                      <a:pt x="315" y="146"/>
                    </a:lnTo>
                    <a:lnTo>
                      <a:pt x="318" y="146"/>
                    </a:lnTo>
                    <a:lnTo>
                      <a:pt x="322" y="144"/>
                    </a:lnTo>
                    <a:lnTo>
                      <a:pt x="326" y="143"/>
                    </a:lnTo>
                    <a:lnTo>
                      <a:pt x="328" y="142"/>
                    </a:lnTo>
                    <a:lnTo>
                      <a:pt x="332" y="139"/>
                    </a:lnTo>
                    <a:lnTo>
                      <a:pt x="336" y="137"/>
                    </a:lnTo>
                    <a:lnTo>
                      <a:pt x="338" y="136"/>
                    </a:lnTo>
                    <a:lnTo>
                      <a:pt x="340" y="133"/>
                    </a:lnTo>
                    <a:lnTo>
                      <a:pt x="342" y="131"/>
                    </a:lnTo>
                    <a:lnTo>
                      <a:pt x="345" y="128"/>
                    </a:lnTo>
                    <a:lnTo>
                      <a:pt x="347" y="122"/>
                    </a:lnTo>
                    <a:lnTo>
                      <a:pt x="350" y="114"/>
                    </a:lnTo>
                    <a:lnTo>
                      <a:pt x="350" y="114"/>
                    </a:lnTo>
                    <a:lnTo>
                      <a:pt x="390" y="114"/>
                    </a:lnTo>
                    <a:lnTo>
                      <a:pt x="394" y="114"/>
                    </a:lnTo>
                    <a:lnTo>
                      <a:pt x="399" y="114"/>
                    </a:lnTo>
                    <a:lnTo>
                      <a:pt x="402" y="113"/>
                    </a:lnTo>
                    <a:lnTo>
                      <a:pt x="406" y="112"/>
                    </a:lnTo>
                    <a:lnTo>
                      <a:pt x="410" y="109"/>
                    </a:lnTo>
                    <a:lnTo>
                      <a:pt x="412" y="108"/>
                    </a:lnTo>
                    <a:lnTo>
                      <a:pt x="419" y="103"/>
                    </a:lnTo>
                    <a:lnTo>
                      <a:pt x="424" y="96"/>
                    </a:lnTo>
                    <a:lnTo>
                      <a:pt x="426" y="93"/>
                    </a:lnTo>
                    <a:lnTo>
                      <a:pt x="427" y="89"/>
                    </a:lnTo>
                    <a:lnTo>
                      <a:pt x="429" y="85"/>
                    </a:lnTo>
                    <a:lnTo>
                      <a:pt x="430" y="81"/>
                    </a:lnTo>
                    <a:lnTo>
                      <a:pt x="430" y="77"/>
                    </a:lnTo>
                    <a:lnTo>
                      <a:pt x="431" y="74"/>
                    </a:lnTo>
                    <a:lnTo>
                      <a:pt x="431" y="74"/>
                    </a:lnTo>
                    <a:lnTo>
                      <a:pt x="430" y="69"/>
                    </a:lnTo>
                    <a:lnTo>
                      <a:pt x="430" y="65"/>
                    </a:lnTo>
                    <a:lnTo>
                      <a:pt x="429" y="61"/>
                    </a:lnTo>
                    <a:lnTo>
                      <a:pt x="427" y="57"/>
                    </a:lnTo>
                    <a:lnTo>
                      <a:pt x="426" y="53"/>
                    </a:lnTo>
                    <a:lnTo>
                      <a:pt x="424" y="50"/>
                    </a:lnTo>
                    <a:lnTo>
                      <a:pt x="419" y="45"/>
                    </a:lnTo>
                    <a:lnTo>
                      <a:pt x="412" y="40"/>
                    </a:lnTo>
                    <a:lnTo>
                      <a:pt x="410" y="37"/>
                    </a:lnTo>
                    <a:lnTo>
                      <a:pt x="406" y="36"/>
                    </a:lnTo>
                    <a:lnTo>
                      <a:pt x="402" y="35"/>
                    </a:lnTo>
                    <a:lnTo>
                      <a:pt x="399" y="33"/>
                    </a:lnTo>
                    <a:lnTo>
                      <a:pt x="394" y="32"/>
                    </a:lnTo>
                    <a:lnTo>
                      <a:pt x="390" y="32"/>
                    </a:lnTo>
                    <a:lnTo>
                      <a:pt x="390" y="32"/>
                    </a:lnTo>
                    <a:lnTo>
                      <a:pt x="361" y="32"/>
                    </a:lnTo>
                    <a:lnTo>
                      <a:pt x="360" y="30"/>
                    </a:lnTo>
                    <a:lnTo>
                      <a:pt x="360" y="27"/>
                    </a:lnTo>
                    <a:lnTo>
                      <a:pt x="359" y="24"/>
                    </a:lnTo>
                    <a:lnTo>
                      <a:pt x="357" y="22"/>
                    </a:lnTo>
                    <a:lnTo>
                      <a:pt x="355" y="18"/>
                    </a:lnTo>
                    <a:lnTo>
                      <a:pt x="351" y="14"/>
                    </a:lnTo>
                    <a:lnTo>
                      <a:pt x="349" y="11"/>
                    </a:lnTo>
                    <a:lnTo>
                      <a:pt x="346" y="8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36" y="2"/>
                    </a:lnTo>
                    <a:lnTo>
                      <a:pt x="332" y="2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4" y="18"/>
                    </a:lnTo>
                    <a:lnTo>
                      <a:pt x="73" y="22"/>
                    </a:lnTo>
                    <a:lnTo>
                      <a:pt x="72" y="27"/>
                    </a:lnTo>
                    <a:lnTo>
                      <a:pt x="70" y="32"/>
                    </a:lnTo>
                    <a:lnTo>
                      <a:pt x="70" y="3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3457440" y="2839680"/>
                <a:ext cx="308520" cy="96120"/>
              </a:xfrm>
              <a:custGeom>
                <a:avLst/>
                <a:gdLst/>
                <a:ahLst/>
                <a:rect l="l" t="t" r="r" b="b"/>
                <a:pathLst>
                  <a:path w="432" h="125">
                    <a:moveTo>
                      <a:pt x="9" y="125"/>
                    </a:moveTo>
                    <a:lnTo>
                      <a:pt x="423" y="125"/>
                    </a:lnTo>
                    <a:lnTo>
                      <a:pt x="425" y="125"/>
                    </a:lnTo>
                    <a:lnTo>
                      <a:pt x="427" y="125"/>
                    </a:lnTo>
                    <a:lnTo>
                      <a:pt x="428" y="124"/>
                    </a:lnTo>
                    <a:lnTo>
                      <a:pt x="430" y="123"/>
                    </a:lnTo>
                    <a:lnTo>
                      <a:pt x="431" y="122"/>
                    </a:lnTo>
                    <a:lnTo>
                      <a:pt x="432" y="120"/>
                    </a:lnTo>
                    <a:lnTo>
                      <a:pt x="432" y="119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9"/>
                    </a:lnTo>
                    <a:lnTo>
                      <a:pt x="432" y="8"/>
                    </a:lnTo>
                    <a:lnTo>
                      <a:pt x="432" y="7"/>
                    </a:lnTo>
                    <a:lnTo>
                      <a:pt x="431" y="4"/>
                    </a:lnTo>
                    <a:lnTo>
                      <a:pt x="430" y="3"/>
                    </a:lnTo>
                    <a:lnTo>
                      <a:pt x="428" y="2"/>
                    </a:lnTo>
                    <a:lnTo>
                      <a:pt x="427" y="2"/>
                    </a:lnTo>
                    <a:lnTo>
                      <a:pt x="425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2" y="123"/>
                    </a:lnTo>
                    <a:lnTo>
                      <a:pt x="4" y="124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9" y="125"/>
                    </a:lnTo>
                    <a:lnTo>
                      <a:pt x="9" y="125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9" name=""/>
              <p:cNvSpPr/>
              <p:nvPr/>
            </p:nvSpPr>
            <p:spPr>
              <a:xfrm>
                <a:off x="3794760" y="2833560"/>
                <a:ext cx="307080" cy="115200"/>
              </a:xfrm>
              <a:custGeom>
                <a:avLst/>
                <a:gdLst/>
                <a:ahLst/>
                <a:rect l="l" t="t" r="r" b="b"/>
                <a:pathLst>
                  <a:path w="432" h="148">
                    <a:moveTo>
                      <a:pt x="70" y="34"/>
                    </a:moveTo>
                    <a:lnTo>
                      <a:pt x="40" y="34"/>
                    </a:lnTo>
                    <a:lnTo>
                      <a:pt x="36" y="34"/>
                    </a:lnTo>
                    <a:lnTo>
                      <a:pt x="32" y="34"/>
                    </a:lnTo>
                    <a:lnTo>
                      <a:pt x="27" y="35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1" y="45"/>
                    </a:lnTo>
                    <a:lnTo>
                      <a:pt x="6" y="52"/>
                    </a:lnTo>
                    <a:lnTo>
                      <a:pt x="5" y="56"/>
                    </a:lnTo>
                    <a:lnTo>
                      <a:pt x="2" y="59"/>
                    </a:lnTo>
                    <a:lnTo>
                      <a:pt x="1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6"/>
                    </a:lnTo>
                    <a:lnTo>
                      <a:pt x="2" y="90"/>
                    </a:lnTo>
                    <a:lnTo>
                      <a:pt x="5" y="93"/>
                    </a:lnTo>
                    <a:lnTo>
                      <a:pt x="6" y="96"/>
                    </a:lnTo>
                    <a:lnTo>
                      <a:pt x="11" y="102"/>
                    </a:lnTo>
                    <a:lnTo>
                      <a:pt x="17" y="107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2"/>
                    </a:lnTo>
                    <a:lnTo>
                      <a:pt x="32" y="112"/>
                    </a:lnTo>
                    <a:lnTo>
                      <a:pt x="36" y="114"/>
                    </a:lnTo>
                    <a:lnTo>
                      <a:pt x="40" y="114"/>
                    </a:lnTo>
                    <a:lnTo>
                      <a:pt x="40" y="114"/>
                    </a:lnTo>
                    <a:lnTo>
                      <a:pt x="81" y="114"/>
                    </a:lnTo>
                    <a:lnTo>
                      <a:pt x="81" y="119"/>
                    </a:lnTo>
                    <a:lnTo>
                      <a:pt x="82" y="125"/>
                    </a:lnTo>
                    <a:lnTo>
                      <a:pt x="86" y="130"/>
                    </a:lnTo>
                    <a:lnTo>
                      <a:pt x="90" y="135"/>
                    </a:lnTo>
                    <a:lnTo>
                      <a:pt x="95" y="139"/>
                    </a:lnTo>
                    <a:lnTo>
                      <a:pt x="97" y="141"/>
                    </a:lnTo>
                    <a:lnTo>
                      <a:pt x="101" y="143"/>
                    </a:lnTo>
                    <a:lnTo>
                      <a:pt x="104" y="145"/>
                    </a:lnTo>
                    <a:lnTo>
                      <a:pt x="106" y="145"/>
                    </a:lnTo>
                    <a:lnTo>
                      <a:pt x="110" y="146"/>
                    </a:lnTo>
                    <a:lnTo>
                      <a:pt x="112" y="148"/>
                    </a:lnTo>
                    <a:lnTo>
                      <a:pt x="119" y="148"/>
                    </a:lnTo>
                    <a:lnTo>
                      <a:pt x="119" y="148"/>
                    </a:lnTo>
                    <a:lnTo>
                      <a:pt x="307" y="148"/>
                    </a:lnTo>
                    <a:lnTo>
                      <a:pt x="312" y="148"/>
                    </a:lnTo>
                    <a:lnTo>
                      <a:pt x="315" y="146"/>
                    </a:lnTo>
                    <a:lnTo>
                      <a:pt x="319" y="146"/>
                    </a:lnTo>
                    <a:lnTo>
                      <a:pt x="323" y="145"/>
                    </a:lnTo>
                    <a:lnTo>
                      <a:pt x="329" y="141"/>
                    </a:lnTo>
                    <a:lnTo>
                      <a:pt x="334" y="139"/>
                    </a:lnTo>
                    <a:lnTo>
                      <a:pt x="339" y="133"/>
                    </a:lnTo>
                    <a:lnTo>
                      <a:pt x="342" y="130"/>
                    </a:lnTo>
                    <a:lnTo>
                      <a:pt x="344" y="128"/>
                    </a:lnTo>
                    <a:lnTo>
                      <a:pt x="345" y="124"/>
                    </a:lnTo>
                    <a:lnTo>
                      <a:pt x="347" y="120"/>
                    </a:lnTo>
                    <a:lnTo>
                      <a:pt x="348" y="117"/>
                    </a:lnTo>
                    <a:lnTo>
                      <a:pt x="348" y="114"/>
                    </a:lnTo>
                    <a:lnTo>
                      <a:pt x="348" y="114"/>
                    </a:lnTo>
                    <a:lnTo>
                      <a:pt x="390" y="114"/>
                    </a:lnTo>
                    <a:lnTo>
                      <a:pt x="395" y="114"/>
                    </a:lnTo>
                    <a:lnTo>
                      <a:pt x="399" y="112"/>
                    </a:lnTo>
                    <a:lnTo>
                      <a:pt x="403" y="112"/>
                    </a:lnTo>
                    <a:lnTo>
                      <a:pt x="407" y="110"/>
                    </a:lnTo>
                    <a:lnTo>
                      <a:pt x="411" y="109"/>
                    </a:lnTo>
                    <a:lnTo>
                      <a:pt x="413" y="107"/>
                    </a:lnTo>
                    <a:lnTo>
                      <a:pt x="419" y="102"/>
                    </a:lnTo>
                    <a:lnTo>
                      <a:pt x="424" y="96"/>
                    </a:lnTo>
                    <a:lnTo>
                      <a:pt x="427" y="93"/>
                    </a:lnTo>
                    <a:lnTo>
                      <a:pt x="428" y="90"/>
                    </a:lnTo>
                    <a:lnTo>
                      <a:pt x="429" y="86"/>
                    </a:lnTo>
                    <a:lnTo>
                      <a:pt x="431" y="82"/>
                    </a:lnTo>
                    <a:lnTo>
                      <a:pt x="432" y="78"/>
                    </a:lnTo>
                    <a:lnTo>
                      <a:pt x="432" y="74"/>
                    </a:lnTo>
                    <a:lnTo>
                      <a:pt x="432" y="74"/>
                    </a:lnTo>
                    <a:lnTo>
                      <a:pt x="432" y="71"/>
                    </a:lnTo>
                    <a:lnTo>
                      <a:pt x="431" y="67"/>
                    </a:lnTo>
                    <a:lnTo>
                      <a:pt x="429" y="63"/>
                    </a:lnTo>
                    <a:lnTo>
                      <a:pt x="428" y="59"/>
                    </a:lnTo>
                    <a:lnTo>
                      <a:pt x="427" y="56"/>
                    </a:lnTo>
                    <a:lnTo>
                      <a:pt x="424" y="52"/>
                    </a:lnTo>
                    <a:lnTo>
                      <a:pt x="419" y="45"/>
                    </a:lnTo>
                    <a:lnTo>
                      <a:pt x="413" y="40"/>
                    </a:lnTo>
                    <a:lnTo>
                      <a:pt x="411" y="39"/>
                    </a:lnTo>
                    <a:lnTo>
                      <a:pt x="407" y="37"/>
                    </a:lnTo>
                    <a:lnTo>
                      <a:pt x="403" y="35"/>
                    </a:lnTo>
                    <a:lnTo>
                      <a:pt x="399" y="34"/>
                    </a:lnTo>
                    <a:lnTo>
                      <a:pt x="395" y="34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59" y="34"/>
                    </a:lnTo>
                    <a:lnTo>
                      <a:pt x="359" y="29"/>
                    </a:lnTo>
                    <a:lnTo>
                      <a:pt x="358" y="24"/>
                    </a:lnTo>
                    <a:lnTo>
                      <a:pt x="355" y="19"/>
                    </a:lnTo>
                    <a:lnTo>
                      <a:pt x="353" y="14"/>
                    </a:lnTo>
                    <a:lnTo>
                      <a:pt x="349" y="11"/>
                    </a:lnTo>
                    <a:lnTo>
                      <a:pt x="347" y="9"/>
                    </a:lnTo>
                    <a:lnTo>
                      <a:pt x="343" y="6"/>
                    </a:lnTo>
                    <a:lnTo>
                      <a:pt x="339" y="4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107" y="0"/>
                    </a:lnTo>
                    <a:lnTo>
                      <a:pt x="104" y="0"/>
                    </a:lnTo>
                    <a:lnTo>
                      <a:pt x="100" y="1"/>
                    </a:lnTo>
                    <a:lnTo>
                      <a:pt x="95" y="3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9"/>
                    </a:lnTo>
                    <a:lnTo>
                      <a:pt x="81" y="11"/>
                    </a:lnTo>
                    <a:lnTo>
                      <a:pt x="78" y="14"/>
                    </a:lnTo>
                    <a:lnTo>
                      <a:pt x="76" y="19"/>
                    </a:lnTo>
                    <a:lnTo>
                      <a:pt x="73" y="24"/>
                    </a:lnTo>
                    <a:lnTo>
                      <a:pt x="71" y="29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0" name=""/>
              <p:cNvSpPr/>
              <p:nvPr/>
            </p:nvSpPr>
            <p:spPr>
              <a:xfrm>
                <a:off x="4133520" y="2813040"/>
                <a:ext cx="147240" cy="129600"/>
              </a:xfrm>
              <a:custGeom>
                <a:avLst/>
                <a:gdLst/>
                <a:ahLst/>
                <a:rect l="l" t="t" r="r" b="b"/>
                <a:pathLst>
                  <a:path w="208" h="167">
                    <a:moveTo>
                      <a:pt x="208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208" y="167"/>
                    </a:lnTo>
                    <a:lnTo>
                      <a:pt x="208" y="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1" name=""/>
              <p:cNvSpPr/>
              <p:nvPr/>
            </p:nvSpPr>
            <p:spPr>
              <a:xfrm>
                <a:off x="3937320" y="2210760"/>
                <a:ext cx="68400" cy="8676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99" y="0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1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7" y="109"/>
                    </a:lnTo>
                    <a:lnTo>
                      <a:pt x="10" y="111"/>
                    </a:lnTo>
                    <a:lnTo>
                      <a:pt x="14" y="111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99" y="11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2" name=""/>
              <p:cNvSpPr/>
              <p:nvPr/>
            </p:nvSpPr>
            <p:spPr>
              <a:xfrm>
                <a:off x="3937320" y="2660760"/>
                <a:ext cx="68400" cy="856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99" y="0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10" y="109"/>
                    </a:lnTo>
                    <a:lnTo>
                      <a:pt x="14" y="111"/>
                    </a:lnTo>
                    <a:lnTo>
                      <a:pt x="17" y="111"/>
                    </a:lnTo>
                    <a:lnTo>
                      <a:pt x="17" y="111"/>
                    </a:lnTo>
                    <a:lnTo>
                      <a:pt x="99" y="111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3" name=""/>
              <p:cNvSpPr/>
              <p:nvPr/>
            </p:nvSpPr>
            <p:spPr>
              <a:xfrm>
                <a:off x="1874520" y="2894040"/>
                <a:ext cx="88560" cy="3564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0"/>
                    </a:moveTo>
                    <a:lnTo>
                      <a:pt x="0" y="45"/>
                    </a:lnTo>
                    <a:lnTo>
                      <a:pt x="125" y="45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4" name=""/>
              <p:cNvSpPr/>
              <p:nvPr/>
            </p:nvSpPr>
            <p:spPr>
              <a:xfrm>
                <a:off x="2459160" y="2894040"/>
                <a:ext cx="86040" cy="3564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0" y="0"/>
                    </a:moveTo>
                    <a:lnTo>
                      <a:pt x="0" y="45"/>
                    </a:lnTo>
                    <a:lnTo>
                      <a:pt x="123" y="45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5" name=""/>
              <p:cNvSpPr/>
              <p:nvPr/>
            </p:nvSpPr>
            <p:spPr>
              <a:xfrm>
                <a:off x="2740320" y="2839680"/>
                <a:ext cx="75960" cy="828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6" name=""/>
              <p:cNvSpPr/>
              <p:nvPr/>
            </p:nvSpPr>
            <p:spPr>
              <a:xfrm>
                <a:off x="2740320" y="2839680"/>
                <a:ext cx="75960" cy="8280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7" name=""/>
              <p:cNvSpPr/>
              <p:nvPr/>
            </p:nvSpPr>
            <p:spPr>
              <a:xfrm>
                <a:off x="3804840" y="2867040"/>
                <a:ext cx="38520" cy="5112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8" name=""/>
              <p:cNvSpPr/>
              <p:nvPr/>
            </p:nvSpPr>
            <p:spPr>
              <a:xfrm>
                <a:off x="3804840" y="2867040"/>
                <a:ext cx="38520" cy="5112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9" name=""/>
              <p:cNvSpPr/>
              <p:nvPr/>
            </p:nvSpPr>
            <p:spPr>
              <a:xfrm>
                <a:off x="4052160" y="2867040"/>
                <a:ext cx="41040" cy="5112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0" name=""/>
              <p:cNvSpPr/>
              <p:nvPr/>
            </p:nvSpPr>
            <p:spPr>
              <a:xfrm>
                <a:off x="4052160" y="2867040"/>
                <a:ext cx="41040" cy="5112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1" name=""/>
              <p:cNvSpPr/>
              <p:nvPr/>
            </p:nvSpPr>
            <p:spPr>
              <a:xfrm>
                <a:off x="3864960" y="2851560"/>
                <a:ext cx="167400" cy="84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2" name=""/>
              <p:cNvSpPr/>
              <p:nvPr/>
            </p:nvSpPr>
            <p:spPr>
              <a:xfrm>
                <a:off x="3864960" y="2851560"/>
                <a:ext cx="167400" cy="84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3" name=""/>
              <p:cNvSpPr/>
              <p:nvPr/>
            </p:nvSpPr>
            <p:spPr>
              <a:xfrm>
                <a:off x="3099240" y="286344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4" name=""/>
              <p:cNvSpPr/>
              <p:nvPr/>
            </p:nvSpPr>
            <p:spPr>
              <a:xfrm>
                <a:off x="3099240" y="286344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5" name=""/>
              <p:cNvSpPr/>
              <p:nvPr/>
            </p:nvSpPr>
            <p:spPr>
              <a:xfrm>
                <a:off x="3346560" y="286344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6" name=""/>
              <p:cNvSpPr/>
              <p:nvPr/>
            </p:nvSpPr>
            <p:spPr>
              <a:xfrm>
                <a:off x="3346560" y="286344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7" name=""/>
              <p:cNvSpPr/>
              <p:nvPr/>
            </p:nvSpPr>
            <p:spPr>
              <a:xfrm>
                <a:off x="3159000" y="2846520"/>
                <a:ext cx="167400" cy="84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8" name=""/>
              <p:cNvSpPr/>
              <p:nvPr/>
            </p:nvSpPr>
            <p:spPr>
              <a:xfrm>
                <a:off x="3159000" y="2846520"/>
                <a:ext cx="167400" cy="84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9" name=""/>
              <p:cNvSpPr/>
              <p:nvPr/>
            </p:nvSpPr>
            <p:spPr>
              <a:xfrm>
                <a:off x="3176280" y="2868120"/>
                <a:ext cx="133560" cy="42840"/>
              </a:xfrm>
              <a:custGeom>
                <a:avLst/>
                <a:gdLst/>
                <a:ahLst/>
                <a:rect l="l" t="t" r="r" b="b"/>
                <a:pathLst>
                  <a:path w="188" h="57">
                    <a:moveTo>
                      <a:pt x="174" y="6"/>
                    </a:moveTo>
                    <a:lnTo>
                      <a:pt x="174" y="9"/>
                    </a:lnTo>
                    <a:lnTo>
                      <a:pt x="175" y="11"/>
                    </a:lnTo>
                    <a:lnTo>
                      <a:pt x="178" y="13"/>
                    </a:lnTo>
                    <a:lnTo>
                      <a:pt x="179" y="14"/>
                    </a:lnTo>
                    <a:lnTo>
                      <a:pt x="180" y="14"/>
                    </a:lnTo>
                    <a:lnTo>
                      <a:pt x="182" y="14"/>
                    </a:lnTo>
                    <a:lnTo>
                      <a:pt x="183" y="13"/>
                    </a:lnTo>
                    <a:lnTo>
                      <a:pt x="185" y="11"/>
                    </a:lnTo>
                    <a:lnTo>
                      <a:pt x="187" y="9"/>
                    </a:lnTo>
                    <a:lnTo>
                      <a:pt x="188" y="7"/>
                    </a:lnTo>
                    <a:lnTo>
                      <a:pt x="188" y="6"/>
                    </a:lnTo>
                    <a:lnTo>
                      <a:pt x="188" y="5"/>
                    </a:lnTo>
                    <a:lnTo>
                      <a:pt x="187" y="4"/>
                    </a:lnTo>
                    <a:lnTo>
                      <a:pt x="185" y="1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5" y="1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close/>
                    <a:moveTo>
                      <a:pt x="20" y="50"/>
                    </a:moveTo>
                    <a:lnTo>
                      <a:pt x="20" y="50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25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7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4" y="45"/>
                    </a:lnTo>
                    <a:lnTo>
                      <a:pt x="30" y="44"/>
                    </a:lnTo>
                    <a:lnTo>
                      <a:pt x="28" y="43"/>
                    </a:lnTo>
                    <a:lnTo>
                      <a:pt x="25" y="44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0"/>
                    </a:lnTo>
                    <a:close/>
                    <a:moveTo>
                      <a:pt x="65" y="50"/>
                    </a:moveTo>
                    <a:lnTo>
                      <a:pt x="66" y="52"/>
                    </a:lnTo>
                    <a:lnTo>
                      <a:pt x="68" y="54"/>
                    </a:lnTo>
                    <a:lnTo>
                      <a:pt x="69" y="57"/>
                    </a:lnTo>
                    <a:lnTo>
                      <a:pt x="70" y="57"/>
                    </a:lnTo>
                    <a:lnTo>
                      <a:pt x="73" y="57"/>
                    </a:lnTo>
                    <a:lnTo>
                      <a:pt x="73" y="57"/>
                    </a:lnTo>
                    <a:lnTo>
                      <a:pt x="74" y="57"/>
                    </a:lnTo>
                    <a:lnTo>
                      <a:pt x="76" y="54"/>
                    </a:lnTo>
                    <a:lnTo>
                      <a:pt x="79" y="52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3" y="43"/>
                    </a:lnTo>
                    <a:lnTo>
                      <a:pt x="69" y="44"/>
                    </a:lnTo>
                    <a:lnTo>
                      <a:pt x="68" y="45"/>
                    </a:lnTo>
                    <a:lnTo>
                      <a:pt x="66" y="47"/>
                    </a:lnTo>
                    <a:lnTo>
                      <a:pt x="65" y="50"/>
                    </a:lnTo>
                    <a:lnTo>
                      <a:pt x="65" y="50"/>
                    </a:lnTo>
                    <a:close/>
                    <a:moveTo>
                      <a:pt x="109" y="50"/>
                    </a:moveTo>
                    <a:lnTo>
                      <a:pt x="109" y="52"/>
                    </a:lnTo>
                    <a:lnTo>
                      <a:pt x="110" y="54"/>
                    </a:lnTo>
                    <a:lnTo>
                      <a:pt x="113" y="57"/>
                    </a:lnTo>
                    <a:lnTo>
                      <a:pt x="114" y="57"/>
                    </a:lnTo>
                    <a:lnTo>
                      <a:pt x="115" y="57"/>
                    </a:lnTo>
                    <a:lnTo>
                      <a:pt x="117" y="57"/>
                    </a:lnTo>
                    <a:lnTo>
                      <a:pt x="118" y="57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2" y="47"/>
                    </a:lnTo>
                    <a:lnTo>
                      <a:pt x="120" y="45"/>
                    </a:lnTo>
                    <a:lnTo>
                      <a:pt x="118" y="44"/>
                    </a:lnTo>
                    <a:lnTo>
                      <a:pt x="115" y="43"/>
                    </a:lnTo>
                    <a:lnTo>
                      <a:pt x="113" y="44"/>
                    </a:lnTo>
                    <a:lnTo>
                      <a:pt x="110" y="45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9" y="50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4" y="9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6" y="6"/>
                    </a:moveTo>
                    <a:lnTo>
                      <a:pt x="86" y="7"/>
                    </a:lnTo>
                    <a:lnTo>
                      <a:pt x="86" y="9"/>
                    </a:lnTo>
                    <a:lnTo>
                      <a:pt x="89" y="11"/>
                    </a:lnTo>
                    <a:lnTo>
                      <a:pt x="90" y="13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3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1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6"/>
                    </a:lnTo>
                    <a:lnTo>
                      <a:pt x="86" y="6"/>
                    </a:lnTo>
                    <a:close/>
                    <a:moveTo>
                      <a:pt x="132" y="6"/>
                    </a:moveTo>
                    <a:lnTo>
                      <a:pt x="132" y="9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7" y="14"/>
                    </a:lnTo>
                    <a:lnTo>
                      <a:pt x="138" y="14"/>
                    </a:lnTo>
                    <a:lnTo>
                      <a:pt x="139" y="14"/>
                    </a:lnTo>
                    <a:lnTo>
                      <a:pt x="140" y="13"/>
                    </a:lnTo>
                    <a:lnTo>
                      <a:pt x="143" y="11"/>
                    </a:lnTo>
                    <a:lnTo>
                      <a:pt x="144" y="9"/>
                    </a:lnTo>
                    <a:lnTo>
                      <a:pt x="144" y="7"/>
                    </a:lnTo>
                    <a:lnTo>
                      <a:pt x="145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3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3" y="1"/>
                    </a:lnTo>
                    <a:lnTo>
                      <a:pt x="132" y="4"/>
                    </a:lnTo>
                    <a:lnTo>
                      <a:pt x="132" y="6"/>
                    </a:lnTo>
                    <a:lnTo>
                      <a:pt x="132" y="6"/>
                    </a:lnTo>
                    <a:close/>
                    <a:moveTo>
                      <a:pt x="152" y="50"/>
                    </a:moveTo>
                    <a:lnTo>
                      <a:pt x="152" y="52"/>
                    </a:lnTo>
                    <a:lnTo>
                      <a:pt x="153" y="54"/>
                    </a:lnTo>
                    <a:lnTo>
                      <a:pt x="155" y="57"/>
                    </a:lnTo>
                    <a:lnTo>
                      <a:pt x="157" y="57"/>
                    </a:lnTo>
                    <a:lnTo>
                      <a:pt x="158" y="57"/>
                    </a:lnTo>
                    <a:lnTo>
                      <a:pt x="160" y="57"/>
                    </a:lnTo>
                    <a:lnTo>
                      <a:pt x="162" y="57"/>
                    </a:lnTo>
                    <a:lnTo>
                      <a:pt x="163" y="54"/>
                    </a:lnTo>
                    <a:lnTo>
                      <a:pt x="164" y="52"/>
                    </a:lnTo>
                    <a:lnTo>
                      <a:pt x="165" y="50"/>
                    </a:lnTo>
                    <a:lnTo>
                      <a:pt x="164" y="47"/>
                    </a:lnTo>
                    <a:lnTo>
                      <a:pt x="163" y="45"/>
                    </a:lnTo>
                    <a:lnTo>
                      <a:pt x="162" y="44"/>
                    </a:lnTo>
                    <a:lnTo>
                      <a:pt x="158" y="43"/>
                    </a:lnTo>
                    <a:lnTo>
                      <a:pt x="155" y="44"/>
                    </a:lnTo>
                    <a:lnTo>
                      <a:pt x="153" y="45"/>
                    </a:lnTo>
                    <a:lnTo>
                      <a:pt x="152" y="47"/>
                    </a:lnTo>
                    <a:lnTo>
                      <a:pt x="152" y="50"/>
                    </a:lnTo>
                    <a:lnTo>
                      <a:pt x="152" y="50"/>
                    </a:lnTo>
                    <a:close/>
                  </a:path>
                </a:pathLst>
              </a:custGeom>
              <a:solidFill>
                <a:srgbClr val="f7e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10" name=""/>
              <p:cNvSpPr/>
              <p:nvPr/>
            </p:nvSpPr>
            <p:spPr>
              <a:xfrm>
                <a:off x="3465000" y="2852640"/>
                <a:ext cx="128520" cy="83160"/>
              </a:xfrm>
              <a:custGeom>
                <a:avLst/>
                <a:gdLst/>
                <a:ahLst/>
                <a:rect l="l" t="t" r="r" b="b"/>
                <a:pathLst>
                  <a:path w="181" h="108">
                    <a:moveTo>
                      <a:pt x="181" y="36"/>
                    </a:moveTo>
                    <a:lnTo>
                      <a:pt x="181" y="36"/>
                    </a:lnTo>
                    <a:lnTo>
                      <a:pt x="181" y="30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3"/>
                    </a:lnTo>
                    <a:lnTo>
                      <a:pt x="36" y="97"/>
                    </a:lnTo>
                    <a:lnTo>
                      <a:pt x="36" y="99"/>
                    </a:lnTo>
                    <a:lnTo>
                      <a:pt x="36" y="102"/>
                    </a:lnTo>
                    <a:lnTo>
                      <a:pt x="36" y="105"/>
                    </a:lnTo>
                    <a:lnTo>
                      <a:pt x="36" y="106"/>
                    </a:lnTo>
                    <a:lnTo>
                      <a:pt x="36" y="107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7"/>
                    </a:lnTo>
                    <a:lnTo>
                      <a:pt x="181" y="106"/>
                    </a:lnTo>
                    <a:lnTo>
                      <a:pt x="181" y="105"/>
                    </a:lnTo>
                    <a:lnTo>
                      <a:pt x="181" y="102"/>
                    </a:lnTo>
                    <a:lnTo>
                      <a:pt x="181" y="99"/>
                    </a:lnTo>
                    <a:lnTo>
                      <a:pt x="181" y="97"/>
                    </a:lnTo>
                    <a:lnTo>
                      <a:pt x="181" y="93"/>
                    </a:lnTo>
                    <a:lnTo>
                      <a:pt x="181" y="89"/>
                    </a:lnTo>
                    <a:lnTo>
                      <a:pt x="181" y="84"/>
                    </a:lnTo>
                    <a:lnTo>
                      <a:pt x="181" y="79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36"/>
                    </a:lnTo>
                    <a:lnTo>
                      <a:pt x="181" y="36"/>
                    </a:lnTo>
                    <a:lnTo>
                      <a:pt x="18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721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465000" y="2823840"/>
                <a:ext cx="12852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3465000" y="2823840"/>
                <a:ext cx="128520" cy="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3" name=""/>
              <p:cNvSpPr/>
              <p:nvPr/>
            </p:nvSpPr>
            <p:spPr>
              <a:xfrm>
                <a:off x="3465000" y="2851560"/>
                <a:ext cx="126000" cy="62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5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1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1" y="77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721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3620160" y="2823840"/>
                <a:ext cx="12708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1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620160" y="2823840"/>
                <a:ext cx="127080" cy="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6" name=""/>
              <p:cNvSpPr/>
              <p:nvPr/>
            </p:nvSpPr>
            <p:spPr>
              <a:xfrm>
                <a:off x="3629880" y="2851560"/>
                <a:ext cx="127440" cy="62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10" y="76"/>
                    </a:lnTo>
                    <a:lnTo>
                      <a:pt x="10" y="78"/>
                    </a:lnTo>
                    <a:lnTo>
                      <a:pt x="11" y="81"/>
                    </a:lnTo>
                    <a:lnTo>
                      <a:pt x="14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9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721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14600" y="2852640"/>
                <a:ext cx="77400" cy="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18" name=""/>
              <p:cNvSpPr/>
              <p:nvPr/>
            </p:nvSpPr>
            <p:spPr>
              <a:xfrm>
                <a:off x="4317120" y="2863440"/>
                <a:ext cx="71280" cy="8064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101" y="53"/>
                    </a:moveTo>
                    <a:lnTo>
                      <a:pt x="101" y="48"/>
                    </a:lnTo>
                    <a:lnTo>
                      <a:pt x="100" y="42"/>
                    </a:lnTo>
                    <a:lnTo>
                      <a:pt x="100" y="36"/>
                    </a:lnTo>
                    <a:lnTo>
                      <a:pt x="97" y="33"/>
                    </a:lnTo>
                    <a:lnTo>
                      <a:pt x="95" y="28"/>
                    </a:lnTo>
                    <a:lnTo>
                      <a:pt x="92" y="23"/>
                    </a:lnTo>
                    <a:lnTo>
                      <a:pt x="90" y="19"/>
                    </a:lnTo>
                    <a:lnTo>
                      <a:pt x="87" y="15"/>
                    </a:lnTo>
                    <a:lnTo>
                      <a:pt x="83" y="12"/>
                    </a:lnTo>
                    <a:lnTo>
                      <a:pt x="80" y="9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6" y="2"/>
                    </a:lnTo>
                    <a:lnTo>
                      <a:pt x="62" y="1"/>
                    </a:lnTo>
                    <a:lnTo>
                      <a:pt x="57" y="1"/>
                    </a:lnTo>
                    <a:lnTo>
                      <a:pt x="52" y="0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2"/>
                    </a:lnTo>
                    <a:lnTo>
                      <a:pt x="15" y="15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6" y="28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6" y="77"/>
                    </a:lnTo>
                    <a:lnTo>
                      <a:pt x="8" y="81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8" y="91"/>
                    </a:lnTo>
                    <a:lnTo>
                      <a:pt x="22" y="95"/>
                    </a:lnTo>
                    <a:lnTo>
                      <a:pt x="27" y="97"/>
                    </a:lnTo>
                    <a:lnTo>
                      <a:pt x="31" y="98"/>
                    </a:lnTo>
                    <a:lnTo>
                      <a:pt x="36" y="101"/>
                    </a:lnTo>
                    <a:lnTo>
                      <a:pt x="41" y="102"/>
                    </a:lnTo>
                    <a:lnTo>
                      <a:pt x="46" y="102"/>
                    </a:lnTo>
                    <a:lnTo>
                      <a:pt x="52" y="103"/>
                    </a:lnTo>
                    <a:lnTo>
                      <a:pt x="57" y="102"/>
                    </a:lnTo>
                    <a:lnTo>
                      <a:pt x="62" y="102"/>
                    </a:lnTo>
                    <a:lnTo>
                      <a:pt x="66" y="101"/>
                    </a:lnTo>
                    <a:lnTo>
                      <a:pt x="71" y="98"/>
                    </a:lnTo>
                    <a:lnTo>
                      <a:pt x="75" y="97"/>
                    </a:lnTo>
                    <a:lnTo>
                      <a:pt x="80" y="95"/>
                    </a:lnTo>
                    <a:lnTo>
                      <a:pt x="83" y="91"/>
                    </a:lnTo>
                    <a:lnTo>
                      <a:pt x="87" y="88"/>
                    </a:lnTo>
                    <a:lnTo>
                      <a:pt x="90" y="84"/>
                    </a:lnTo>
                    <a:lnTo>
                      <a:pt x="92" y="81"/>
                    </a:lnTo>
                    <a:lnTo>
                      <a:pt x="95" y="77"/>
                    </a:lnTo>
                    <a:lnTo>
                      <a:pt x="97" y="72"/>
                    </a:lnTo>
                    <a:lnTo>
                      <a:pt x="100" y="68"/>
                    </a:lnTo>
                    <a:lnTo>
                      <a:pt x="100" y="63"/>
                    </a:lnTo>
                    <a:lnTo>
                      <a:pt x="101" y="58"/>
                    </a:lnTo>
                    <a:lnTo>
                      <a:pt x="101" y="5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721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314600" y="2852640"/>
                <a:ext cx="5112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2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314600" y="2852640"/>
                <a:ext cx="5112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21" name=""/>
              <p:cNvSpPr/>
              <p:nvPr/>
            </p:nvSpPr>
            <p:spPr>
              <a:xfrm>
                <a:off x="4329720" y="287892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lnTo>
                      <a:pt x="66" y="30"/>
                    </a:lnTo>
                    <a:lnTo>
                      <a:pt x="65" y="26"/>
                    </a:lnTo>
                    <a:lnTo>
                      <a:pt x="64" y="20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" y="52"/>
                    </a:lnTo>
                    <a:lnTo>
                      <a:pt x="10" y="57"/>
                    </a:lnTo>
                    <a:lnTo>
                      <a:pt x="15" y="60"/>
                    </a:lnTo>
                    <a:lnTo>
                      <a:pt x="20" y="63"/>
                    </a:lnTo>
                    <a:lnTo>
                      <a:pt x="28" y="65"/>
                    </a:lnTo>
                    <a:lnTo>
                      <a:pt x="31" y="65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41" y="65"/>
                    </a:lnTo>
                    <a:lnTo>
                      <a:pt x="48" y="63"/>
                    </a:lnTo>
                    <a:lnTo>
                      <a:pt x="53" y="60"/>
                    </a:lnTo>
                    <a:lnTo>
                      <a:pt x="58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5" y="40"/>
                    </a:lnTo>
                    <a:lnTo>
                      <a:pt x="66" y="38"/>
                    </a:lnTo>
                    <a:lnTo>
                      <a:pt x="66" y="34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2" name=""/>
              <p:cNvSpPr/>
              <p:nvPr/>
            </p:nvSpPr>
            <p:spPr>
              <a:xfrm>
                <a:off x="4175280" y="29955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3" name=""/>
              <p:cNvSpPr/>
              <p:nvPr/>
            </p:nvSpPr>
            <p:spPr>
              <a:xfrm>
                <a:off x="4147200" y="2837160"/>
                <a:ext cx="25200" cy="10440"/>
              </a:xfrm>
              <a:prstGeom prst="rect">
                <a:avLst/>
              </a:prstGeom>
              <a:solidFill>
                <a:srgbClr val="ead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4" name=""/>
              <p:cNvSpPr/>
              <p:nvPr/>
            </p:nvSpPr>
            <p:spPr>
              <a:xfrm>
                <a:off x="4147200" y="2837160"/>
                <a:ext cx="25200" cy="104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5" name=""/>
              <p:cNvSpPr/>
              <p:nvPr/>
            </p:nvSpPr>
            <p:spPr>
              <a:xfrm>
                <a:off x="2921760" y="2839680"/>
                <a:ext cx="75960" cy="828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  <a:close/>
                  </a:path>
                </a:pathLst>
              </a:cu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6" name=""/>
              <p:cNvSpPr/>
              <p:nvPr/>
            </p:nvSpPr>
            <p:spPr>
              <a:xfrm>
                <a:off x="2921760" y="2839680"/>
                <a:ext cx="75960" cy="8280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3197520" y="2985840"/>
                <a:ext cx="773280" cy="40320"/>
              </a:xfrm>
              <a:custGeom>
                <a:avLst/>
                <a:gdLst/>
                <a:ahLst/>
                <a:rect l="l" t="t" r="r" b="b"/>
                <a:pathLst>
                  <a:path w="1087" h="51">
                    <a:moveTo>
                      <a:pt x="0" y="45"/>
                    </a:moveTo>
                    <a:lnTo>
                      <a:pt x="7" y="45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  <a:moveTo>
                      <a:pt x="50" y="25"/>
                    </a:moveTo>
                    <a:lnTo>
                      <a:pt x="50" y="21"/>
                    </a:lnTo>
                    <a:lnTo>
                      <a:pt x="49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7" y="33"/>
                    </a:lnTo>
                    <a:lnTo>
                      <a:pt x="20" y="36"/>
                    </a:lnTo>
                    <a:lnTo>
                      <a:pt x="22" y="39"/>
                    </a:lnTo>
                    <a:lnTo>
                      <a:pt x="25" y="41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  <a:moveTo>
                      <a:pt x="44" y="25"/>
                    </a:moveTo>
                    <a:lnTo>
                      <a:pt x="44" y="27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30" y="35"/>
                    </a:lnTo>
                    <a:lnTo>
                      <a:pt x="27" y="34"/>
                    </a:lnTo>
                    <a:lnTo>
                      <a:pt x="26" y="33"/>
                    </a:lnTo>
                    <a:lnTo>
                      <a:pt x="25" y="31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2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6" y="16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  <a:moveTo>
                      <a:pt x="59" y="45"/>
                    </a:moveTo>
                    <a:lnTo>
                      <a:pt x="66" y="45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9" y="45"/>
                    </a:lnTo>
                    <a:lnTo>
                      <a:pt x="59" y="45"/>
                    </a:lnTo>
                    <a:close/>
                    <a:moveTo>
                      <a:pt x="109" y="25"/>
                    </a:moveTo>
                    <a:lnTo>
                      <a:pt x="109" y="21"/>
                    </a:lnTo>
                    <a:lnTo>
                      <a:pt x="108" y="19"/>
                    </a:lnTo>
                    <a:lnTo>
                      <a:pt x="106" y="15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7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1" y="12"/>
                    </a:lnTo>
                    <a:lnTo>
                      <a:pt x="79" y="15"/>
                    </a:lnTo>
                    <a:lnTo>
                      <a:pt x="76" y="19"/>
                    </a:lnTo>
                    <a:lnTo>
                      <a:pt x="75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6" y="33"/>
                    </a:lnTo>
                    <a:lnTo>
                      <a:pt x="79" y="36"/>
                    </a:lnTo>
                    <a:lnTo>
                      <a:pt x="81" y="39"/>
                    </a:lnTo>
                    <a:lnTo>
                      <a:pt x="84" y="41"/>
                    </a:lnTo>
                    <a:lnTo>
                      <a:pt x="86" y="44"/>
                    </a:lnTo>
                    <a:lnTo>
                      <a:pt x="90" y="45"/>
                    </a:lnTo>
                    <a:lnTo>
                      <a:pt x="93" y="45"/>
                    </a:lnTo>
                    <a:lnTo>
                      <a:pt x="96" y="45"/>
                    </a:lnTo>
                    <a:lnTo>
                      <a:pt x="100" y="44"/>
                    </a:lnTo>
                    <a:lnTo>
                      <a:pt x="103" y="41"/>
                    </a:lnTo>
                    <a:lnTo>
                      <a:pt x="105" y="39"/>
                    </a:lnTo>
                    <a:lnTo>
                      <a:pt x="106" y="36"/>
                    </a:lnTo>
                    <a:lnTo>
                      <a:pt x="108" y="33"/>
                    </a:lnTo>
                    <a:lnTo>
                      <a:pt x="109" y="29"/>
                    </a:lnTo>
                    <a:lnTo>
                      <a:pt x="109" y="25"/>
                    </a:lnTo>
                    <a:lnTo>
                      <a:pt x="109" y="25"/>
                    </a:lnTo>
                    <a:close/>
                    <a:moveTo>
                      <a:pt x="103" y="25"/>
                    </a:moveTo>
                    <a:lnTo>
                      <a:pt x="103" y="27"/>
                    </a:lnTo>
                    <a:lnTo>
                      <a:pt x="101" y="30"/>
                    </a:lnTo>
                    <a:lnTo>
                      <a:pt x="100" y="31"/>
                    </a:lnTo>
                    <a:lnTo>
                      <a:pt x="99" y="33"/>
                    </a:lnTo>
                    <a:lnTo>
                      <a:pt x="98" y="34"/>
                    </a:lnTo>
                    <a:lnTo>
                      <a:pt x="96" y="35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1" y="36"/>
                    </a:lnTo>
                    <a:lnTo>
                      <a:pt x="89" y="35"/>
                    </a:lnTo>
                    <a:lnTo>
                      <a:pt x="86" y="34"/>
                    </a:lnTo>
                    <a:lnTo>
                      <a:pt x="85" y="33"/>
                    </a:lnTo>
                    <a:lnTo>
                      <a:pt x="84" y="31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1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4" y="19"/>
                    </a:lnTo>
                    <a:lnTo>
                      <a:pt x="85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0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  <a:moveTo>
                      <a:pt x="118" y="45"/>
                    </a:moveTo>
                    <a:lnTo>
                      <a:pt x="125" y="45"/>
                    </a:lnTo>
                    <a:lnTo>
                      <a:pt x="125" y="6"/>
                    </a:lnTo>
                    <a:lnTo>
                      <a:pt x="118" y="6"/>
                    </a:lnTo>
                    <a:lnTo>
                      <a:pt x="118" y="45"/>
                    </a:lnTo>
                    <a:lnTo>
                      <a:pt x="118" y="45"/>
                    </a:lnTo>
                    <a:close/>
                    <a:moveTo>
                      <a:pt x="502" y="25"/>
                    </a:moveTo>
                    <a:lnTo>
                      <a:pt x="460" y="25"/>
                    </a:lnTo>
                    <a:lnTo>
                      <a:pt x="468" y="16"/>
                    </a:lnTo>
                    <a:lnTo>
                      <a:pt x="478" y="16"/>
                    </a:lnTo>
                    <a:lnTo>
                      <a:pt x="478" y="17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2" y="17"/>
                    </a:lnTo>
                    <a:lnTo>
                      <a:pt x="483" y="17"/>
                    </a:lnTo>
                    <a:lnTo>
                      <a:pt x="485" y="17"/>
                    </a:lnTo>
                    <a:lnTo>
                      <a:pt x="486" y="16"/>
                    </a:lnTo>
                    <a:lnTo>
                      <a:pt x="486" y="15"/>
                    </a:lnTo>
                    <a:lnTo>
                      <a:pt x="487" y="14"/>
                    </a:lnTo>
                    <a:lnTo>
                      <a:pt x="487" y="11"/>
                    </a:lnTo>
                    <a:lnTo>
                      <a:pt x="485" y="10"/>
                    </a:lnTo>
                    <a:lnTo>
                      <a:pt x="483" y="9"/>
                    </a:lnTo>
                    <a:lnTo>
                      <a:pt x="482" y="9"/>
                    </a:lnTo>
                    <a:lnTo>
                      <a:pt x="480" y="9"/>
                    </a:lnTo>
                    <a:lnTo>
                      <a:pt x="478" y="9"/>
                    </a:lnTo>
                    <a:lnTo>
                      <a:pt x="478" y="10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67" y="11"/>
                    </a:lnTo>
                    <a:lnTo>
                      <a:pt x="456" y="25"/>
                    </a:lnTo>
                    <a:lnTo>
                      <a:pt x="451" y="25"/>
                    </a:lnTo>
                    <a:lnTo>
                      <a:pt x="448" y="21"/>
                    </a:lnTo>
                    <a:lnTo>
                      <a:pt x="447" y="21"/>
                    </a:lnTo>
                    <a:lnTo>
                      <a:pt x="446" y="20"/>
                    </a:lnTo>
                    <a:lnTo>
                      <a:pt x="445" y="20"/>
                    </a:lnTo>
                    <a:lnTo>
                      <a:pt x="443" y="19"/>
                    </a:lnTo>
                    <a:lnTo>
                      <a:pt x="442" y="20"/>
                    </a:lnTo>
                    <a:lnTo>
                      <a:pt x="442" y="20"/>
                    </a:lnTo>
                    <a:lnTo>
                      <a:pt x="440" y="20"/>
                    </a:lnTo>
                    <a:lnTo>
                      <a:pt x="438" y="21"/>
                    </a:lnTo>
                    <a:lnTo>
                      <a:pt x="437" y="22"/>
                    </a:lnTo>
                    <a:lnTo>
                      <a:pt x="437" y="22"/>
                    </a:lnTo>
                    <a:lnTo>
                      <a:pt x="436" y="26"/>
                    </a:lnTo>
                    <a:lnTo>
                      <a:pt x="435" y="29"/>
                    </a:lnTo>
                    <a:lnTo>
                      <a:pt x="437" y="31"/>
                    </a:lnTo>
                    <a:lnTo>
                      <a:pt x="440" y="33"/>
                    </a:lnTo>
                    <a:lnTo>
                      <a:pt x="442" y="34"/>
                    </a:lnTo>
                    <a:lnTo>
                      <a:pt x="445" y="34"/>
                    </a:lnTo>
                    <a:lnTo>
                      <a:pt x="446" y="34"/>
                    </a:lnTo>
                    <a:lnTo>
                      <a:pt x="447" y="33"/>
                    </a:lnTo>
                    <a:lnTo>
                      <a:pt x="450" y="31"/>
                    </a:lnTo>
                    <a:lnTo>
                      <a:pt x="451" y="29"/>
                    </a:lnTo>
                    <a:lnTo>
                      <a:pt x="451" y="29"/>
                    </a:lnTo>
                    <a:lnTo>
                      <a:pt x="467" y="29"/>
                    </a:lnTo>
                    <a:lnTo>
                      <a:pt x="480" y="40"/>
                    </a:lnTo>
                    <a:lnTo>
                      <a:pt x="487" y="40"/>
                    </a:lnTo>
                    <a:lnTo>
                      <a:pt x="487" y="45"/>
                    </a:lnTo>
                    <a:lnTo>
                      <a:pt x="498" y="45"/>
                    </a:lnTo>
                    <a:lnTo>
                      <a:pt x="498" y="34"/>
                    </a:lnTo>
                    <a:lnTo>
                      <a:pt x="487" y="34"/>
                    </a:lnTo>
                    <a:lnTo>
                      <a:pt x="487" y="39"/>
                    </a:lnTo>
                    <a:lnTo>
                      <a:pt x="480" y="39"/>
                    </a:lnTo>
                    <a:lnTo>
                      <a:pt x="471" y="29"/>
                    </a:lnTo>
                    <a:lnTo>
                      <a:pt x="502" y="29"/>
                    </a:lnTo>
                    <a:lnTo>
                      <a:pt x="502" y="31"/>
                    </a:lnTo>
                    <a:lnTo>
                      <a:pt x="512" y="27"/>
                    </a:lnTo>
                    <a:lnTo>
                      <a:pt x="502" y="22"/>
                    </a:lnTo>
                    <a:lnTo>
                      <a:pt x="502" y="25"/>
                    </a:lnTo>
                    <a:lnTo>
                      <a:pt x="502" y="25"/>
                    </a:lnTo>
                    <a:close/>
                    <a:moveTo>
                      <a:pt x="727" y="25"/>
                    </a:moveTo>
                    <a:lnTo>
                      <a:pt x="684" y="25"/>
                    </a:lnTo>
                    <a:lnTo>
                      <a:pt x="695" y="16"/>
                    </a:lnTo>
                    <a:lnTo>
                      <a:pt x="701" y="16"/>
                    </a:lnTo>
                    <a:lnTo>
                      <a:pt x="704" y="17"/>
                    </a:lnTo>
                    <a:lnTo>
                      <a:pt x="705" y="17"/>
                    </a:lnTo>
                    <a:lnTo>
                      <a:pt x="708" y="17"/>
                    </a:lnTo>
                    <a:lnTo>
                      <a:pt x="709" y="17"/>
                    </a:lnTo>
                    <a:lnTo>
                      <a:pt x="710" y="17"/>
                    </a:lnTo>
                    <a:lnTo>
                      <a:pt x="710" y="17"/>
                    </a:lnTo>
                    <a:lnTo>
                      <a:pt x="711" y="15"/>
                    </a:lnTo>
                    <a:lnTo>
                      <a:pt x="711" y="14"/>
                    </a:lnTo>
                    <a:lnTo>
                      <a:pt x="711" y="14"/>
                    </a:lnTo>
                    <a:lnTo>
                      <a:pt x="711" y="12"/>
                    </a:lnTo>
                    <a:lnTo>
                      <a:pt x="711" y="11"/>
                    </a:lnTo>
                    <a:lnTo>
                      <a:pt x="711" y="10"/>
                    </a:lnTo>
                    <a:lnTo>
                      <a:pt x="710" y="10"/>
                    </a:lnTo>
                    <a:lnTo>
                      <a:pt x="709" y="9"/>
                    </a:lnTo>
                    <a:lnTo>
                      <a:pt x="706" y="9"/>
                    </a:lnTo>
                    <a:lnTo>
                      <a:pt x="704" y="9"/>
                    </a:lnTo>
                    <a:lnTo>
                      <a:pt x="704" y="9"/>
                    </a:lnTo>
                    <a:lnTo>
                      <a:pt x="704" y="10"/>
                    </a:lnTo>
                    <a:lnTo>
                      <a:pt x="704" y="11"/>
                    </a:lnTo>
                    <a:lnTo>
                      <a:pt x="701" y="11"/>
                    </a:lnTo>
                    <a:lnTo>
                      <a:pt x="701" y="11"/>
                    </a:lnTo>
                    <a:lnTo>
                      <a:pt x="693" y="11"/>
                    </a:lnTo>
                    <a:lnTo>
                      <a:pt x="679" y="25"/>
                    </a:lnTo>
                    <a:lnTo>
                      <a:pt x="675" y="25"/>
                    </a:lnTo>
                    <a:lnTo>
                      <a:pt x="675" y="24"/>
                    </a:lnTo>
                    <a:lnTo>
                      <a:pt x="674" y="21"/>
                    </a:lnTo>
                    <a:lnTo>
                      <a:pt x="673" y="21"/>
                    </a:lnTo>
                    <a:lnTo>
                      <a:pt x="673" y="20"/>
                    </a:lnTo>
                    <a:lnTo>
                      <a:pt x="670" y="20"/>
                    </a:lnTo>
                    <a:lnTo>
                      <a:pt x="669" y="19"/>
                    </a:lnTo>
                    <a:lnTo>
                      <a:pt x="668" y="20"/>
                    </a:lnTo>
                    <a:lnTo>
                      <a:pt x="666" y="20"/>
                    </a:lnTo>
                    <a:lnTo>
                      <a:pt x="664" y="20"/>
                    </a:lnTo>
                    <a:lnTo>
                      <a:pt x="663" y="21"/>
                    </a:lnTo>
                    <a:lnTo>
                      <a:pt x="661" y="22"/>
                    </a:lnTo>
                    <a:lnTo>
                      <a:pt x="661" y="22"/>
                    </a:lnTo>
                    <a:lnTo>
                      <a:pt x="660" y="25"/>
                    </a:lnTo>
                    <a:lnTo>
                      <a:pt x="660" y="26"/>
                    </a:lnTo>
                    <a:lnTo>
                      <a:pt x="660" y="27"/>
                    </a:lnTo>
                    <a:lnTo>
                      <a:pt x="661" y="29"/>
                    </a:lnTo>
                    <a:lnTo>
                      <a:pt x="661" y="30"/>
                    </a:lnTo>
                    <a:lnTo>
                      <a:pt x="663" y="31"/>
                    </a:lnTo>
                    <a:lnTo>
                      <a:pt x="663" y="31"/>
                    </a:lnTo>
                    <a:lnTo>
                      <a:pt x="664" y="33"/>
                    </a:lnTo>
                    <a:lnTo>
                      <a:pt x="668" y="34"/>
                    </a:lnTo>
                    <a:lnTo>
                      <a:pt x="670" y="34"/>
                    </a:lnTo>
                    <a:lnTo>
                      <a:pt x="673" y="34"/>
                    </a:lnTo>
                    <a:lnTo>
                      <a:pt x="674" y="33"/>
                    </a:lnTo>
                    <a:lnTo>
                      <a:pt x="674" y="31"/>
                    </a:lnTo>
                    <a:lnTo>
                      <a:pt x="675" y="29"/>
                    </a:lnTo>
                    <a:lnTo>
                      <a:pt x="675" y="29"/>
                    </a:lnTo>
                    <a:lnTo>
                      <a:pt x="693" y="29"/>
                    </a:lnTo>
                    <a:lnTo>
                      <a:pt x="704" y="40"/>
                    </a:lnTo>
                    <a:lnTo>
                      <a:pt x="714" y="40"/>
                    </a:lnTo>
                    <a:lnTo>
                      <a:pt x="714" y="45"/>
                    </a:lnTo>
                    <a:lnTo>
                      <a:pt x="723" y="45"/>
                    </a:lnTo>
                    <a:lnTo>
                      <a:pt x="723" y="34"/>
                    </a:lnTo>
                    <a:lnTo>
                      <a:pt x="714" y="34"/>
                    </a:lnTo>
                    <a:lnTo>
                      <a:pt x="714" y="39"/>
                    </a:lnTo>
                    <a:lnTo>
                      <a:pt x="706" y="39"/>
                    </a:lnTo>
                    <a:lnTo>
                      <a:pt x="698" y="29"/>
                    </a:lnTo>
                    <a:lnTo>
                      <a:pt x="727" y="29"/>
                    </a:lnTo>
                    <a:lnTo>
                      <a:pt x="727" y="31"/>
                    </a:lnTo>
                    <a:lnTo>
                      <a:pt x="738" y="27"/>
                    </a:lnTo>
                    <a:lnTo>
                      <a:pt x="727" y="22"/>
                    </a:lnTo>
                    <a:lnTo>
                      <a:pt x="727" y="25"/>
                    </a:lnTo>
                    <a:lnTo>
                      <a:pt x="727" y="25"/>
                    </a:lnTo>
                    <a:close/>
                    <a:moveTo>
                      <a:pt x="1037" y="51"/>
                    </a:moveTo>
                    <a:lnTo>
                      <a:pt x="1076" y="51"/>
                    </a:lnTo>
                    <a:lnTo>
                      <a:pt x="1079" y="51"/>
                    </a:lnTo>
                    <a:lnTo>
                      <a:pt x="1080" y="51"/>
                    </a:lnTo>
                    <a:lnTo>
                      <a:pt x="1082" y="50"/>
                    </a:lnTo>
                    <a:lnTo>
                      <a:pt x="1084" y="49"/>
                    </a:lnTo>
                    <a:lnTo>
                      <a:pt x="1085" y="48"/>
                    </a:lnTo>
                    <a:lnTo>
                      <a:pt x="1086" y="45"/>
                    </a:lnTo>
                    <a:lnTo>
                      <a:pt x="1086" y="43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11"/>
                    </a:lnTo>
                    <a:lnTo>
                      <a:pt x="1086" y="9"/>
                    </a:lnTo>
                    <a:lnTo>
                      <a:pt x="1086" y="6"/>
                    </a:lnTo>
                    <a:lnTo>
                      <a:pt x="1085" y="5"/>
                    </a:lnTo>
                    <a:lnTo>
                      <a:pt x="1084" y="2"/>
                    </a:lnTo>
                    <a:lnTo>
                      <a:pt x="1082" y="1"/>
                    </a:lnTo>
                    <a:lnTo>
                      <a:pt x="1080" y="1"/>
                    </a:lnTo>
                    <a:lnTo>
                      <a:pt x="1079" y="0"/>
                    </a:lnTo>
                    <a:lnTo>
                      <a:pt x="1076" y="0"/>
                    </a:lnTo>
                    <a:lnTo>
                      <a:pt x="1076" y="0"/>
                    </a:lnTo>
                    <a:lnTo>
                      <a:pt x="1037" y="0"/>
                    </a:lnTo>
                    <a:lnTo>
                      <a:pt x="1035" y="0"/>
                    </a:lnTo>
                    <a:lnTo>
                      <a:pt x="1033" y="1"/>
                    </a:lnTo>
                    <a:lnTo>
                      <a:pt x="1031" y="1"/>
                    </a:lnTo>
                    <a:lnTo>
                      <a:pt x="1030" y="2"/>
                    </a:lnTo>
                    <a:lnTo>
                      <a:pt x="1028" y="5"/>
                    </a:lnTo>
                    <a:lnTo>
                      <a:pt x="1027" y="6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1"/>
                    </a:lnTo>
                    <a:lnTo>
                      <a:pt x="1026" y="40"/>
                    </a:lnTo>
                    <a:lnTo>
                      <a:pt x="1026" y="43"/>
                    </a:lnTo>
                    <a:lnTo>
                      <a:pt x="1027" y="45"/>
                    </a:lnTo>
                    <a:lnTo>
                      <a:pt x="1028" y="48"/>
                    </a:lnTo>
                    <a:lnTo>
                      <a:pt x="1030" y="49"/>
                    </a:lnTo>
                    <a:lnTo>
                      <a:pt x="1031" y="50"/>
                    </a:lnTo>
                    <a:lnTo>
                      <a:pt x="1033" y="51"/>
                    </a:lnTo>
                    <a:lnTo>
                      <a:pt x="1035" y="51"/>
                    </a:lnTo>
                    <a:lnTo>
                      <a:pt x="1037" y="51"/>
                    </a:lnTo>
                    <a:lnTo>
                      <a:pt x="1037" y="51"/>
                    </a:lnTo>
                    <a:close/>
                    <a:moveTo>
                      <a:pt x="1044" y="43"/>
                    </a:moveTo>
                    <a:lnTo>
                      <a:pt x="1050" y="43"/>
                    </a:lnTo>
                    <a:lnTo>
                      <a:pt x="1056" y="43"/>
                    </a:lnTo>
                    <a:lnTo>
                      <a:pt x="1062" y="43"/>
                    </a:lnTo>
                    <a:lnTo>
                      <a:pt x="1069" y="43"/>
                    </a:lnTo>
                    <a:lnTo>
                      <a:pt x="1070" y="43"/>
                    </a:lnTo>
                    <a:lnTo>
                      <a:pt x="1072" y="43"/>
                    </a:lnTo>
                    <a:lnTo>
                      <a:pt x="1074" y="41"/>
                    </a:lnTo>
                    <a:lnTo>
                      <a:pt x="1075" y="40"/>
                    </a:lnTo>
                    <a:lnTo>
                      <a:pt x="1076" y="39"/>
                    </a:lnTo>
                    <a:lnTo>
                      <a:pt x="1077" y="38"/>
                    </a:lnTo>
                    <a:lnTo>
                      <a:pt x="1077" y="35"/>
                    </a:lnTo>
                    <a:lnTo>
                      <a:pt x="1077" y="34"/>
                    </a:lnTo>
                    <a:lnTo>
                      <a:pt x="1077" y="34"/>
                    </a:lnTo>
                    <a:lnTo>
                      <a:pt x="1077" y="30"/>
                    </a:lnTo>
                    <a:lnTo>
                      <a:pt x="1077" y="26"/>
                    </a:lnTo>
                    <a:lnTo>
                      <a:pt x="1077" y="21"/>
                    </a:lnTo>
                    <a:lnTo>
                      <a:pt x="1077" y="17"/>
                    </a:lnTo>
                    <a:lnTo>
                      <a:pt x="1077" y="16"/>
                    </a:lnTo>
                    <a:lnTo>
                      <a:pt x="1077" y="15"/>
                    </a:lnTo>
                    <a:lnTo>
                      <a:pt x="1076" y="14"/>
                    </a:lnTo>
                    <a:lnTo>
                      <a:pt x="1075" y="11"/>
                    </a:lnTo>
                    <a:lnTo>
                      <a:pt x="1074" y="11"/>
                    </a:lnTo>
                    <a:lnTo>
                      <a:pt x="1072" y="10"/>
                    </a:lnTo>
                    <a:lnTo>
                      <a:pt x="1070" y="9"/>
                    </a:lnTo>
                    <a:lnTo>
                      <a:pt x="1069" y="9"/>
                    </a:lnTo>
                    <a:lnTo>
                      <a:pt x="1062" y="9"/>
                    </a:lnTo>
                    <a:lnTo>
                      <a:pt x="1056" y="9"/>
                    </a:lnTo>
                    <a:lnTo>
                      <a:pt x="1050" y="9"/>
                    </a:lnTo>
                    <a:lnTo>
                      <a:pt x="1044" y="9"/>
                    </a:lnTo>
                    <a:lnTo>
                      <a:pt x="1042" y="9"/>
                    </a:lnTo>
                    <a:lnTo>
                      <a:pt x="1041" y="10"/>
                    </a:lnTo>
                    <a:lnTo>
                      <a:pt x="1039" y="11"/>
                    </a:lnTo>
                    <a:lnTo>
                      <a:pt x="1037" y="11"/>
                    </a:lnTo>
                    <a:lnTo>
                      <a:pt x="1036" y="14"/>
                    </a:lnTo>
                    <a:lnTo>
                      <a:pt x="1036" y="15"/>
                    </a:lnTo>
                    <a:lnTo>
                      <a:pt x="1035" y="16"/>
                    </a:lnTo>
                    <a:lnTo>
                      <a:pt x="1035" y="17"/>
                    </a:lnTo>
                    <a:lnTo>
                      <a:pt x="1035" y="21"/>
                    </a:lnTo>
                    <a:lnTo>
                      <a:pt x="1035" y="26"/>
                    </a:lnTo>
                    <a:lnTo>
                      <a:pt x="1035" y="30"/>
                    </a:lnTo>
                    <a:lnTo>
                      <a:pt x="1035" y="34"/>
                    </a:lnTo>
                    <a:lnTo>
                      <a:pt x="1035" y="35"/>
                    </a:lnTo>
                    <a:lnTo>
                      <a:pt x="1036" y="38"/>
                    </a:lnTo>
                    <a:lnTo>
                      <a:pt x="1036" y="39"/>
                    </a:lnTo>
                    <a:lnTo>
                      <a:pt x="1037" y="40"/>
                    </a:lnTo>
                    <a:lnTo>
                      <a:pt x="1039" y="41"/>
                    </a:lnTo>
                    <a:lnTo>
                      <a:pt x="1041" y="43"/>
                    </a:lnTo>
                    <a:lnTo>
                      <a:pt x="1042" y="43"/>
                    </a:lnTo>
                    <a:lnTo>
                      <a:pt x="1044" y="43"/>
                    </a:lnTo>
                    <a:lnTo>
                      <a:pt x="104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8" name=""/>
              <p:cNvSpPr/>
              <p:nvPr/>
            </p:nvSpPr>
            <p:spPr>
              <a:xfrm>
                <a:off x="2323080" y="2776320"/>
                <a:ext cx="1760400" cy="244800"/>
              </a:xfrm>
              <a:custGeom>
                <a:avLst/>
                <a:gdLst/>
                <a:ahLst/>
                <a:rect l="l" t="t" r="r" b="b"/>
                <a:pathLst>
                  <a:path w="2476" h="317">
                    <a:moveTo>
                      <a:pt x="41" y="39"/>
                    </a:moveTo>
                    <a:lnTo>
                      <a:pt x="4" y="39"/>
                    </a:lnTo>
                    <a:lnTo>
                      <a:pt x="23" y="8"/>
                    </a:lnTo>
                    <a:lnTo>
                      <a:pt x="41" y="39"/>
                    </a:lnTo>
                    <a:lnTo>
                      <a:pt x="41" y="39"/>
                    </a:lnTo>
                    <a:close/>
                    <a:moveTo>
                      <a:pt x="24" y="3"/>
                    </a:move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  <a:moveTo>
                      <a:pt x="23" y="37"/>
                    </a:moveTo>
                    <a:lnTo>
                      <a:pt x="24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close/>
                    <a:moveTo>
                      <a:pt x="24" y="31"/>
                    </a:moveTo>
                    <a:lnTo>
                      <a:pt x="24" y="27"/>
                    </a:lnTo>
                    <a:lnTo>
                      <a:pt x="24" y="23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4" y="31"/>
                    </a:lnTo>
                    <a:close/>
                    <a:moveTo>
                      <a:pt x="43" y="71"/>
                    </a:moveTo>
                    <a:lnTo>
                      <a:pt x="43" y="67"/>
                    </a:lnTo>
                    <a:lnTo>
                      <a:pt x="42" y="63"/>
                    </a:lnTo>
                    <a:lnTo>
                      <a:pt x="39" y="60"/>
                    </a:lnTo>
                    <a:lnTo>
                      <a:pt x="37" y="57"/>
                    </a:lnTo>
                    <a:lnTo>
                      <a:pt x="34" y="55"/>
                    </a:lnTo>
                    <a:lnTo>
                      <a:pt x="30" y="52"/>
                    </a:lnTo>
                    <a:lnTo>
                      <a:pt x="27" y="51"/>
                    </a:lnTo>
                    <a:lnTo>
                      <a:pt x="23" y="51"/>
                    </a:lnTo>
                    <a:lnTo>
                      <a:pt x="18" y="51"/>
                    </a:lnTo>
                    <a:lnTo>
                      <a:pt x="15" y="52"/>
                    </a:lnTo>
                    <a:lnTo>
                      <a:pt x="12" y="55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5" y="63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9" y="86"/>
                    </a:lnTo>
                    <a:lnTo>
                      <a:pt x="12" y="89"/>
                    </a:lnTo>
                    <a:lnTo>
                      <a:pt x="15" y="90"/>
                    </a:lnTo>
                    <a:lnTo>
                      <a:pt x="18" y="91"/>
                    </a:lnTo>
                    <a:lnTo>
                      <a:pt x="23" y="91"/>
                    </a:lnTo>
                    <a:lnTo>
                      <a:pt x="27" y="91"/>
                    </a:lnTo>
                    <a:lnTo>
                      <a:pt x="30" y="90"/>
                    </a:lnTo>
                    <a:lnTo>
                      <a:pt x="34" y="89"/>
                    </a:lnTo>
                    <a:lnTo>
                      <a:pt x="37" y="86"/>
                    </a:lnTo>
                    <a:lnTo>
                      <a:pt x="39" y="82"/>
                    </a:lnTo>
                    <a:lnTo>
                      <a:pt x="42" y="79"/>
                    </a:lnTo>
                    <a:lnTo>
                      <a:pt x="43" y="75"/>
                    </a:lnTo>
                    <a:lnTo>
                      <a:pt x="43" y="71"/>
                    </a:lnTo>
                    <a:lnTo>
                      <a:pt x="43" y="71"/>
                    </a:lnTo>
                    <a:close/>
                    <a:moveTo>
                      <a:pt x="23" y="73"/>
                    </a:moveTo>
                    <a:lnTo>
                      <a:pt x="22" y="75"/>
                    </a:lnTo>
                    <a:lnTo>
                      <a:pt x="22" y="76"/>
                    </a:lnTo>
                    <a:lnTo>
                      <a:pt x="19" y="76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1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20" y="80"/>
                    </a:lnTo>
                    <a:lnTo>
                      <a:pt x="22" y="79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34" y="85"/>
                    </a:lnTo>
                    <a:lnTo>
                      <a:pt x="30" y="86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9" y="80"/>
                    </a:lnTo>
                    <a:lnTo>
                      <a:pt x="8" y="77"/>
                    </a:lnTo>
                    <a:lnTo>
                      <a:pt x="7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23" y="73"/>
                    </a:lnTo>
                    <a:lnTo>
                      <a:pt x="23" y="73"/>
                    </a:lnTo>
                    <a:close/>
                    <a:moveTo>
                      <a:pt x="27" y="76"/>
                    </a:moveTo>
                    <a:lnTo>
                      <a:pt x="29" y="73"/>
                    </a:lnTo>
                    <a:lnTo>
                      <a:pt x="32" y="72"/>
                    </a:lnTo>
                    <a:lnTo>
                      <a:pt x="33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8" y="70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13" y="57"/>
                    </a:lnTo>
                    <a:lnTo>
                      <a:pt x="17" y="56"/>
                    </a:lnTo>
                    <a:lnTo>
                      <a:pt x="19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9" y="55"/>
                    </a:lnTo>
                    <a:lnTo>
                      <a:pt x="32" y="57"/>
                    </a:lnTo>
                    <a:lnTo>
                      <a:pt x="34" y="58"/>
                    </a:lnTo>
                    <a:lnTo>
                      <a:pt x="37" y="62"/>
                    </a:lnTo>
                    <a:lnTo>
                      <a:pt x="38" y="65"/>
                    </a:lnTo>
                    <a:lnTo>
                      <a:pt x="39" y="67"/>
                    </a:lnTo>
                    <a:lnTo>
                      <a:pt x="39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9"/>
                    </a:lnTo>
                    <a:lnTo>
                      <a:pt x="35" y="81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27" y="76"/>
                    </a:lnTo>
                    <a:lnTo>
                      <a:pt x="27" y="76"/>
                    </a:lnTo>
                    <a:close/>
                    <a:moveTo>
                      <a:pt x="681" y="139"/>
                    </a:moveTo>
                    <a:lnTo>
                      <a:pt x="681" y="138"/>
                    </a:lnTo>
                    <a:lnTo>
                      <a:pt x="680" y="137"/>
                    </a:lnTo>
                    <a:lnTo>
                      <a:pt x="678" y="135"/>
                    </a:lnTo>
                    <a:lnTo>
                      <a:pt x="677" y="135"/>
                    </a:lnTo>
                    <a:lnTo>
                      <a:pt x="674" y="135"/>
                    </a:lnTo>
                    <a:lnTo>
                      <a:pt x="673" y="137"/>
                    </a:lnTo>
                    <a:lnTo>
                      <a:pt x="672" y="138"/>
                    </a:lnTo>
                    <a:lnTo>
                      <a:pt x="672" y="139"/>
                    </a:lnTo>
                    <a:lnTo>
                      <a:pt x="672" y="143"/>
                    </a:lnTo>
                    <a:lnTo>
                      <a:pt x="673" y="144"/>
                    </a:lnTo>
                    <a:lnTo>
                      <a:pt x="674" y="145"/>
                    </a:lnTo>
                    <a:lnTo>
                      <a:pt x="677" y="147"/>
                    </a:lnTo>
                    <a:lnTo>
                      <a:pt x="678" y="145"/>
                    </a:lnTo>
                    <a:lnTo>
                      <a:pt x="680" y="144"/>
                    </a:lnTo>
                    <a:lnTo>
                      <a:pt x="681" y="143"/>
                    </a:lnTo>
                    <a:lnTo>
                      <a:pt x="681" y="139"/>
                    </a:lnTo>
                    <a:lnTo>
                      <a:pt x="681" y="139"/>
                    </a:lnTo>
                    <a:close/>
                    <a:moveTo>
                      <a:pt x="633" y="167"/>
                    </a:moveTo>
                    <a:lnTo>
                      <a:pt x="633" y="166"/>
                    </a:lnTo>
                    <a:lnTo>
                      <a:pt x="632" y="163"/>
                    </a:lnTo>
                    <a:lnTo>
                      <a:pt x="631" y="163"/>
                    </a:lnTo>
                    <a:lnTo>
                      <a:pt x="629" y="162"/>
                    </a:lnTo>
                    <a:lnTo>
                      <a:pt x="628" y="163"/>
                    </a:lnTo>
                    <a:lnTo>
                      <a:pt x="626" y="163"/>
                    </a:lnTo>
                    <a:lnTo>
                      <a:pt x="626" y="166"/>
                    </a:lnTo>
                    <a:lnTo>
                      <a:pt x="624" y="167"/>
                    </a:lnTo>
                    <a:lnTo>
                      <a:pt x="626" y="169"/>
                    </a:lnTo>
                    <a:lnTo>
                      <a:pt x="626" y="172"/>
                    </a:lnTo>
                    <a:lnTo>
                      <a:pt x="628" y="173"/>
                    </a:lnTo>
                    <a:lnTo>
                      <a:pt x="629" y="173"/>
                    </a:lnTo>
                    <a:lnTo>
                      <a:pt x="631" y="173"/>
                    </a:lnTo>
                    <a:lnTo>
                      <a:pt x="632" y="172"/>
                    </a:lnTo>
                    <a:lnTo>
                      <a:pt x="633" y="169"/>
                    </a:lnTo>
                    <a:lnTo>
                      <a:pt x="633" y="167"/>
                    </a:lnTo>
                    <a:lnTo>
                      <a:pt x="633" y="167"/>
                    </a:lnTo>
                    <a:close/>
                    <a:moveTo>
                      <a:pt x="661" y="167"/>
                    </a:moveTo>
                    <a:lnTo>
                      <a:pt x="661" y="166"/>
                    </a:lnTo>
                    <a:lnTo>
                      <a:pt x="659" y="163"/>
                    </a:lnTo>
                    <a:lnTo>
                      <a:pt x="658" y="163"/>
                    </a:lnTo>
                    <a:lnTo>
                      <a:pt x="657" y="162"/>
                    </a:lnTo>
                    <a:lnTo>
                      <a:pt x="654" y="162"/>
                    </a:lnTo>
                    <a:lnTo>
                      <a:pt x="653" y="163"/>
                    </a:lnTo>
                    <a:lnTo>
                      <a:pt x="653" y="163"/>
                    </a:lnTo>
                    <a:lnTo>
                      <a:pt x="652" y="163"/>
                    </a:lnTo>
                    <a:lnTo>
                      <a:pt x="652" y="166"/>
                    </a:lnTo>
                    <a:lnTo>
                      <a:pt x="652" y="167"/>
                    </a:lnTo>
                    <a:lnTo>
                      <a:pt x="652" y="169"/>
                    </a:lnTo>
                    <a:lnTo>
                      <a:pt x="652" y="172"/>
                    </a:lnTo>
                    <a:lnTo>
                      <a:pt x="653" y="173"/>
                    </a:lnTo>
                    <a:lnTo>
                      <a:pt x="653" y="173"/>
                    </a:lnTo>
                    <a:lnTo>
                      <a:pt x="654" y="173"/>
                    </a:lnTo>
                    <a:lnTo>
                      <a:pt x="657" y="173"/>
                    </a:lnTo>
                    <a:lnTo>
                      <a:pt x="658" y="173"/>
                    </a:lnTo>
                    <a:lnTo>
                      <a:pt x="659" y="172"/>
                    </a:lnTo>
                    <a:lnTo>
                      <a:pt x="661" y="169"/>
                    </a:lnTo>
                    <a:lnTo>
                      <a:pt x="661" y="167"/>
                    </a:lnTo>
                    <a:lnTo>
                      <a:pt x="661" y="167"/>
                    </a:lnTo>
                    <a:close/>
                    <a:moveTo>
                      <a:pt x="613" y="139"/>
                    </a:moveTo>
                    <a:lnTo>
                      <a:pt x="613" y="138"/>
                    </a:lnTo>
                    <a:lnTo>
                      <a:pt x="612" y="137"/>
                    </a:lnTo>
                    <a:lnTo>
                      <a:pt x="611" y="135"/>
                    </a:lnTo>
                    <a:lnTo>
                      <a:pt x="609" y="135"/>
                    </a:lnTo>
                    <a:lnTo>
                      <a:pt x="607" y="135"/>
                    </a:lnTo>
                    <a:lnTo>
                      <a:pt x="607" y="135"/>
                    </a:lnTo>
                    <a:lnTo>
                      <a:pt x="606" y="135"/>
                    </a:lnTo>
                    <a:lnTo>
                      <a:pt x="604" y="137"/>
                    </a:lnTo>
                    <a:lnTo>
                      <a:pt x="604" y="138"/>
                    </a:lnTo>
                    <a:lnTo>
                      <a:pt x="604" y="139"/>
                    </a:lnTo>
                    <a:lnTo>
                      <a:pt x="604" y="143"/>
                    </a:lnTo>
                    <a:lnTo>
                      <a:pt x="604" y="144"/>
                    </a:lnTo>
                    <a:lnTo>
                      <a:pt x="606" y="145"/>
                    </a:lnTo>
                    <a:lnTo>
                      <a:pt x="607" y="145"/>
                    </a:lnTo>
                    <a:lnTo>
                      <a:pt x="607" y="147"/>
                    </a:lnTo>
                    <a:lnTo>
                      <a:pt x="609" y="147"/>
                    </a:lnTo>
                    <a:lnTo>
                      <a:pt x="611" y="145"/>
                    </a:lnTo>
                    <a:lnTo>
                      <a:pt x="612" y="144"/>
                    </a:lnTo>
                    <a:lnTo>
                      <a:pt x="613" y="143"/>
                    </a:lnTo>
                    <a:lnTo>
                      <a:pt x="613" y="139"/>
                    </a:lnTo>
                    <a:lnTo>
                      <a:pt x="613" y="139"/>
                    </a:lnTo>
                    <a:close/>
                    <a:moveTo>
                      <a:pt x="633" y="137"/>
                    </a:moveTo>
                    <a:lnTo>
                      <a:pt x="652" y="137"/>
                    </a:lnTo>
                    <a:lnTo>
                      <a:pt x="652" y="105"/>
                    </a:lnTo>
                    <a:lnTo>
                      <a:pt x="633" y="105"/>
                    </a:lnTo>
                    <a:lnTo>
                      <a:pt x="633" y="137"/>
                    </a:lnTo>
                    <a:lnTo>
                      <a:pt x="633" y="137"/>
                    </a:lnTo>
                    <a:close/>
                    <a:moveTo>
                      <a:pt x="621" y="114"/>
                    </a:moveTo>
                    <a:lnTo>
                      <a:pt x="619" y="111"/>
                    </a:lnTo>
                    <a:lnTo>
                      <a:pt x="619" y="109"/>
                    </a:lnTo>
                    <a:lnTo>
                      <a:pt x="617" y="108"/>
                    </a:lnTo>
                    <a:lnTo>
                      <a:pt x="616" y="108"/>
                    </a:lnTo>
                    <a:lnTo>
                      <a:pt x="614" y="108"/>
                    </a:lnTo>
                    <a:lnTo>
                      <a:pt x="613" y="109"/>
                    </a:lnTo>
                    <a:lnTo>
                      <a:pt x="612" y="111"/>
                    </a:lnTo>
                    <a:lnTo>
                      <a:pt x="611" y="114"/>
                    </a:lnTo>
                    <a:lnTo>
                      <a:pt x="612" y="116"/>
                    </a:lnTo>
                    <a:lnTo>
                      <a:pt x="613" y="118"/>
                    </a:lnTo>
                    <a:lnTo>
                      <a:pt x="614" y="119"/>
                    </a:lnTo>
                    <a:lnTo>
                      <a:pt x="616" y="119"/>
                    </a:lnTo>
                    <a:lnTo>
                      <a:pt x="617" y="119"/>
                    </a:lnTo>
                    <a:lnTo>
                      <a:pt x="619" y="118"/>
                    </a:lnTo>
                    <a:lnTo>
                      <a:pt x="619" y="116"/>
                    </a:lnTo>
                    <a:lnTo>
                      <a:pt x="621" y="114"/>
                    </a:lnTo>
                    <a:lnTo>
                      <a:pt x="621" y="114"/>
                    </a:lnTo>
                    <a:close/>
                    <a:moveTo>
                      <a:pt x="674" y="114"/>
                    </a:moveTo>
                    <a:lnTo>
                      <a:pt x="674" y="111"/>
                    </a:lnTo>
                    <a:lnTo>
                      <a:pt x="673" y="109"/>
                    </a:lnTo>
                    <a:lnTo>
                      <a:pt x="672" y="108"/>
                    </a:lnTo>
                    <a:lnTo>
                      <a:pt x="669" y="108"/>
                    </a:lnTo>
                    <a:lnTo>
                      <a:pt x="667" y="108"/>
                    </a:lnTo>
                    <a:lnTo>
                      <a:pt x="664" y="109"/>
                    </a:lnTo>
                    <a:lnTo>
                      <a:pt x="663" y="111"/>
                    </a:lnTo>
                    <a:lnTo>
                      <a:pt x="663" y="114"/>
                    </a:lnTo>
                    <a:lnTo>
                      <a:pt x="663" y="116"/>
                    </a:lnTo>
                    <a:lnTo>
                      <a:pt x="664" y="118"/>
                    </a:lnTo>
                    <a:lnTo>
                      <a:pt x="667" y="119"/>
                    </a:lnTo>
                    <a:lnTo>
                      <a:pt x="669" y="119"/>
                    </a:lnTo>
                    <a:lnTo>
                      <a:pt x="672" y="119"/>
                    </a:lnTo>
                    <a:lnTo>
                      <a:pt x="673" y="118"/>
                    </a:lnTo>
                    <a:lnTo>
                      <a:pt x="674" y="116"/>
                    </a:lnTo>
                    <a:lnTo>
                      <a:pt x="674" y="114"/>
                    </a:lnTo>
                    <a:lnTo>
                      <a:pt x="674" y="114"/>
                    </a:lnTo>
                    <a:close/>
                    <a:moveTo>
                      <a:pt x="607" y="281"/>
                    </a:moveTo>
                    <a:lnTo>
                      <a:pt x="607" y="317"/>
                    </a:lnTo>
                    <a:lnTo>
                      <a:pt x="681" y="317"/>
                    </a:lnTo>
                    <a:lnTo>
                      <a:pt x="681" y="281"/>
                    </a:lnTo>
                    <a:lnTo>
                      <a:pt x="607" y="281"/>
                    </a:lnTo>
                    <a:lnTo>
                      <a:pt x="607" y="281"/>
                    </a:lnTo>
                    <a:close/>
                    <a:moveTo>
                      <a:pt x="611" y="286"/>
                    </a:moveTo>
                    <a:lnTo>
                      <a:pt x="611" y="311"/>
                    </a:lnTo>
                    <a:lnTo>
                      <a:pt x="674" y="311"/>
                    </a:lnTo>
                    <a:lnTo>
                      <a:pt x="674" y="286"/>
                    </a:lnTo>
                    <a:lnTo>
                      <a:pt x="611" y="286"/>
                    </a:lnTo>
                    <a:lnTo>
                      <a:pt x="611" y="286"/>
                    </a:lnTo>
                    <a:close/>
                    <a:moveTo>
                      <a:pt x="668" y="288"/>
                    </a:moveTo>
                    <a:lnTo>
                      <a:pt x="668" y="294"/>
                    </a:lnTo>
                    <a:lnTo>
                      <a:pt x="672" y="294"/>
                    </a:lnTo>
                    <a:lnTo>
                      <a:pt x="672" y="288"/>
                    </a:lnTo>
                    <a:lnTo>
                      <a:pt x="668" y="288"/>
                    </a:lnTo>
                    <a:lnTo>
                      <a:pt x="668" y="288"/>
                    </a:lnTo>
                    <a:close/>
                    <a:moveTo>
                      <a:pt x="658" y="288"/>
                    </a:moveTo>
                    <a:lnTo>
                      <a:pt x="658" y="294"/>
                    </a:lnTo>
                    <a:lnTo>
                      <a:pt x="663" y="294"/>
                    </a:lnTo>
                    <a:lnTo>
                      <a:pt x="663" y="288"/>
                    </a:lnTo>
                    <a:lnTo>
                      <a:pt x="658" y="288"/>
                    </a:lnTo>
                    <a:lnTo>
                      <a:pt x="658" y="288"/>
                    </a:lnTo>
                    <a:close/>
                    <a:moveTo>
                      <a:pt x="663" y="297"/>
                    </a:moveTo>
                    <a:lnTo>
                      <a:pt x="663" y="301"/>
                    </a:lnTo>
                    <a:lnTo>
                      <a:pt x="668" y="301"/>
                    </a:lnTo>
                    <a:lnTo>
                      <a:pt x="668" y="297"/>
                    </a:lnTo>
                    <a:lnTo>
                      <a:pt x="663" y="297"/>
                    </a:lnTo>
                    <a:lnTo>
                      <a:pt x="663" y="297"/>
                    </a:lnTo>
                    <a:close/>
                    <a:moveTo>
                      <a:pt x="649" y="288"/>
                    </a:moveTo>
                    <a:lnTo>
                      <a:pt x="649" y="294"/>
                    </a:lnTo>
                    <a:lnTo>
                      <a:pt x="654" y="294"/>
                    </a:lnTo>
                    <a:lnTo>
                      <a:pt x="654" y="288"/>
                    </a:lnTo>
                    <a:lnTo>
                      <a:pt x="649" y="288"/>
                    </a:lnTo>
                    <a:lnTo>
                      <a:pt x="649" y="288"/>
                    </a:lnTo>
                    <a:close/>
                    <a:moveTo>
                      <a:pt x="641" y="288"/>
                    </a:moveTo>
                    <a:lnTo>
                      <a:pt x="641" y="294"/>
                    </a:lnTo>
                    <a:lnTo>
                      <a:pt x="647" y="294"/>
                    </a:lnTo>
                    <a:lnTo>
                      <a:pt x="647" y="288"/>
                    </a:lnTo>
                    <a:lnTo>
                      <a:pt x="641" y="288"/>
                    </a:lnTo>
                    <a:lnTo>
                      <a:pt x="641" y="288"/>
                    </a:lnTo>
                    <a:close/>
                    <a:moveTo>
                      <a:pt x="632" y="288"/>
                    </a:moveTo>
                    <a:lnTo>
                      <a:pt x="632" y="294"/>
                    </a:lnTo>
                    <a:lnTo>
                      <a:pt x="638" y="294"/>
                    </a:lnTo>
                    <a:lnTo>
                      <a:pt x="638" y="288"/>
                    </a:lnTo>
                    <a:lnTo>
                      <a:pt x="632" y="288"/>
                    </a:lnTo>
                    <a:lnTo>
                      <a:pt x="632" y="288"/>
                    </a:lnTo>
                    <a:close/>
                    <a:moveTo>
                      <a:pt x="622" y="288"/>
                    </a:moveTo>
                    <a:lnTo>
                      <a:pt x="622" y="294"/>
                    </a:lnTo>
                    <a:lnTo>
                      <a:pt x="629" y="294"/>
                    </a:lnTo>
                    <a:lnTo>
                      <a:pt x="629" y="288"/>
                    </a:lnTo>
                    <a:lnTo>
                      <a:pt x="622" y="288"/>
                    </a:lnTo>
                    <a:lnTo>
                      <a:pt x="622" y="288"/>
                    </a:lnTo>
                    <a:close/>
                    <a:moveTo>
                      <a:pt x="616" y="288"/>
                    </a:moveTo>
                    <a:lnTo>
                      <a:pt x="616" y="294"/>
                    </a:lnTo>
                    <a:lnTo>
                      <a:pt x="621" y="294"/>
                    </a:lnTo>
                    <a:lnTo>
                      <a:pt x="621" y="288"/>
                    </a:lnTo>
                    <a:lnTo>
                      <a:pt x="616" y="288"/>
                    </a:lnTo>
                    <a:lnTo>
                      <a:pt x="616" y="288"/>
                    </a:lnTo>
                    <a:close/>
                    <a:moveTo>
                      <a:pt x="654" y="297"/>
                    </a:moveTo>
                    <a:lnTo>
                      <a:pt x="654" y="301"/>
                    </a:lnTo>
                    <a:lnTo>
                      <a:pt x="658" y="301"/>
                    </a:lnTo>
                    <a:lnTo>
                      <a:pt x="658" y="297"/>
                    </a:lnTo>
                    <a:lnTo>
                      <a:pt x="654" y="297"/>
                    </a:lnTo>
                    <a:lnTo>
                      <a:pt x="654" y="297"/>
                    </a:lnTo>
                    <a:close/>
                    <a:moveTo>
                      <a:pt x="644" y="297"/>
                    </a:moveTo>
                    <a:lnTo>
                      <a:pt x="644" y="301"/>
                    </a:lnTo>
                    <a:lnTo>
                      <a:pt x="649" y="301"/>
                    </a:lnTo>
                    <a:lnTo>
                      <a:pt x="649" y="297"/>
                    </a:lnTo>
                    <a:lnTo>
                      <a:pt x="644" y="297"/>
                    </a:lnTo>
                    <a:lnTo>
                      <a:pt x="644" y="297"/>
                    </a:lnTo>
                    <a:close/>
                    <a:moveTo>
                      <a:pt x="636" y="297"/>
                    </a:moveTo>
                    <a:lnTo>
                      <a:pt x="636" y="301"/>
                    </a:lnTo>
                    <a:lnTo>
                      <a:pt x="643" y="301"/>
                    </a:lnTo>
                    <a:lnTo>
                      <a:pt x="643" y="297"/>
                    </a:lnTo>
                    <a:lnTo>
                      <a:pt x="636" y="297"/>
                    </a:lnTo>
                    <a:lnTo>
                      <a:pt x="636" y="297"/>
                    </a:lnTo>
                    <a:close/>
                    <a:moveTo>
                      <a:pt x="627" y="297"/>
                    </a:moveTo>
                    <a:lnTo>
                      <a:pt x="627" y="301"/>
                    </a:lnTo>
                    <a:lnTo>
                      <a:pt x="633" y="301"/>
                    </a:lnTo>
                    <a:lnTo>
                      <a:pt x="633" y="297"/>
                    </a:lnTo>
                    <a:lnTo>
                      <a:pt x="627" y="297"/>
                    </a:lnTo>
                    <a:lnTo>
                      <a:pt x="627" y="297"/>
                    </a:lnTo>
                    <a:close/>
                    <a:moveTo>
                      <a:pt x="618" y="297"/>
                    </a:moveTo>
                    <a:lnTo>
                      <a:pt x="618" y="301"/>
                    </a:lnTo>
                    <a:lnTo>
                      <a:pt x="624" y="301"/>
                    </a:lnTo>
                    <a:lnTo>
                      <a:pt x="624" y="297"/>
                    </a:lnTo>
                    <a:lnTo>
                      <a:pt x="618" y="297"/>
                    </a:lnTo>
                    <a:lnTo>
                      <a:pt x="618" y="297"/>
                    </a:lnTo>
                    <a:close/>
                    <a:moveTo>
                      <a:pt x="658" y="303"/>
                    </a:moveTo>
                    <a:lnTo>
                      <a:pt x="627" y="303"/>
                    </a:lnTo>
                    <a:lnTo>
                      <a:pt x="627" y="308"/>
                    </a:lnTo>
                    <a:lnTo>
                      <a:pt x="658" y="308"/>
                    </a:lnTo>
                    <a:lnTo>
                      <a:pt x="658" y="303"/>
                    </a:lnTo>
                    <a:lnTo>
                      <a:pt x="658" y="303"/>
                    </a:lnTo>
                    <a:close/>
                    <a:moveTo>
                      <a:pt x="663" y="303"/>
                    </a:moveTo>
                    <a:lnTo>
                      <a:pt x="663" y="308"/>
                    </a:lnTo>
                    <a:lnTo>
                      <a:pt x="669" y="308"/>
                    </a:lnTo>
                    <a:lnTo>
                      <a:pt x="669" y="303"/>
                    </a:lnTo>
                    <a:lnTo>
                      <a:pt x="663" y="303"/>
                    </a:lnTo>
                    <a:lnTo>
                      <a:pt x="663" y="303"/>
                    </a:lnTo>
                    <a:close/>
                    <a:moveTo>
                      <a:pt x="618" y="303"/>
                    </a:moveTo>
                    <a:lnTo>
                      <a:pt x="618" y="308"/>
                    </a:lnTo>
                    <a:lnTo>
                      <a:pt x="622" y="308"/>
                    </a:lnTo>
                    <a:lnTo>
                      <a:pt x="622" y="303"/>
                    </a:lnTo>
                    <a:lnTo>
                      <a:pt x="618" y="303"/>
                    </a:lnTo>
                    <a:lnTo>
                      <a:pt x="618" y="303"/>
                    </a:lnTo>
                    <a:close/>
                    <a:moveTo>
                      <a:pt x="869" y="139"/>
                    </a:moveTo>
                    <a:lnTo>
                      <a:pt x="869" y="138"/>
                    </a:lnTo>
                    <a:lnTo>
                      <a:pt x="867" y="137"/>
                    </a:lnTo>
                    <a:lnTo>
                      <a:pt x="866" y="135"/>
                    </a:lnTo>
                    <a:lnTo>
                      <a:pt x="865" y="135"/>
                    </a:lnTo>
                    <a:lnTo>
                      <a:pt x="861" y="135"/>
                    </a:lnTo>
                    <a:lnTo>
                      <a:pt x="860" y="137"/>
                    </a:lnTo>
                    <a:lnTo>
                      <a:pt x="859" y="138"/>
                    </a:lnTo>
                    <a:lnTo>
                      <a:pt x="857" y="139"/>
                    </a:lnTo>
                    <a:lnTo>
                      <a:pt x="859" y="143"/>
                    </a:lnTo>
                    <a:lnTo>
                      <a:pt x="860" y="144"/>
                    </a:lnTo>
                    <a:lnTo>
                      <a:pt x="861" y="145"/>
                    </a:lnTo>
                    <a:lnTo>
                      <a:pt x="865" y="147"/>
                    </a:lnTo>
                    <a:lnTo>
                      <a:pt x="866" y="145"/>
                    </a:lnTo>
                    <a:lnTo>
                      <a:pt x="867" y="144"/>
                    </a:lnTo>
                    <a:lnTo>
                      <a:pt x="869" y="143"/>
                    </a:lnTo>
                    <a:lnTo>
                      <a:pt x="869" y="139"/>
                    </a:lnTo>
                    <a:lnTo>
                      <a:pt x="869" y="139"/>
                    </a:lnTo>
                    <a:close/>
                    <a:moveTo>
                      <a:pt x="876" y="114"/>
                    </a:moveTo>
                    <a:lnTo>
                      <a:pt x="875" y="111"/>
                    </a:lnTo>
                    <a:lnTo>
                      <a:pt x="875" y="109"/>
                    </a:lnTo>
                    <a:lnTo>
                      <a:pt x="872" y="108"/>
                    </a:lnTo>
                    <a:lnTo>
                      <a:pt x="871" y="108"/>
                    </a:lnTo>
                    <a:lnTo>
                      <a:pt x="870" y="108"/>
                    </a:lnTo>
                    <a:lnTo>
                      <a:pt x="869" y="109"/>
                    </a:lnTo>
                    <a:lnTo>
                      <a:pt x="867" y="111"/>
                    </a:lnTo>
                    <a:lnTo>
                      <a:pt x="867" y="114"/>
                    </a:lnTo>
                    <a:lnTo>
                      <a:pt x="867" y="116"/>
                    </a:lnTo>
                    <a:lnTo>
                      <a:pt x="869" y="118"/>
                    </a:lnTo>
                    <a:lnTo>
                      <a:pt x="870" y="119"/>
                    </a:lnTo>
                    <a:lnTo>
                      <a:pt x="871" y="119"/>
                    </a:lnTo>
                    <a:lnTo>
                      <a:pt x="872" y="119"/>
                    </a:lnTo>
                    <a:lnTo>
                      <a:pt x="875" y="118"/>
                    </a:lnTo>
                    <a:lnTo>
                      <a:pt x="875" y="116"/>
                    </a:lnTo>
                    <a:lnTo>
                      <a:pt x="876" y="114"/>
                    </a:lnTo>
                    <a:lnTo>
                      <a:pt x="876" y="114"/>
                    </a:lnTo>
                    <a:close/>
                    <a:moveTo>
                      <a:pt x="890" y="167"/>
                    </a:moveTo>
                    <a:lnTo>
                      <a:pt x="889" y="166"/>
                    </a:lnTo>
                    <a:lnTo>
                      <a:pt x="887" y="163"/>
                    </a:lnTo>
                    <a:lnTo>
                      <a:pt x="886" y="163"/>
                    </a:lnTo>
                    <a:lnTo>
                      <a:pt x="885" y="162"/>
                    </a:lnTo>
                    <a:lnTo>
                      <a:pt x="884" y="162"/>
                    </a:lnTo>
                    <a:lnTo>
                      <a:pt x="882" y="163"/>
                    </a:lnTo>
                    <a:lnTo>
                      <a:pt x="881" y="163"/>
                    </a:lnTo>
                    <a:lnTo>
                      <a:pt x="881" y="163"/>
                    </a:lnTo>
                    <a:lnTo>
                      <a:pt x="880" y="166"/>
                    </a:lnTo>
                    <a:lnTo>
                      <a:pt x="880" y="167"/>
                    </a:lnTo>
                    <a:lnTo>
                      <a:pt x="880" y="169"/>
                    </a:lnTo>
                    <a:lnTo>
                      <a:pt x="881" y="172"/>
                    </a:lnTo>
                    <a:lnTo>
                      <a:pt x="881" y="173"/>
                    </a:lnTo>
                    <a:lnTo>
                      <a:pt x="882" y="173"/>
                    </a:lnTo>
                    <a:lnTo>
                      <a:pt x="884" y="173"/>
                    </a:lnTo>
                    <a:lnTo>
                      <a:pt x="885" y="173"/>
                    </a:lnTo>
                    <a:lnTo>
                      <a:pt x="886" y="173"/>
                    </a:lnTo>
                    <a:lnTo>
                      <a:pt x="887" y="172"/>
                    </a:lnTo>
                    <a:lnTo>
                      <a:pt x="889" y="169"/>
                    </a:lnTo>
                    <a:lnTo>
                      <a:pt x="890" y="167"/>
                    </a:lnTo>
                    <a:lnTo>
                      <a:pt x="890" y="167"/>
                    </a:lnTo>
                    <a:close/>
                    <a:moveTo>
                      <a:pt x="890" y="137"/>
                    </a:moveTo>
                    <a:lnTo>
                      <a:pt x="908" y="137"/>
                    </a:lnTo>
                    <a:lnTo>
                      <a:pt x="908" y="105"/>
                    </a:lnTo>
                    <a:lnTo>
                      <a:pt x="890" y="105"/>
                    </a:lnTo>
                    <a:lnTo>
                      <a:pt x="890" y="137"/>
                    </a:lnTo>
                    <a:lnTo>
                      <a:pt x="890" y="137"/>
                    </a:lnTo>
                    <a:close/>
                    <a:moveTo>
                      <a:pt x="916" y="167"/>
                    </a:moveTo>
                    <a:lnTo>
                      <a:pt x="916" y="166"/>
                    </a:lnTo>
                    <a:lnTo>
                      <a:pt x="915" y="163"/>
                    </a:lnTo>
                    <a:lnTo>
                      <a:pt x="914" y="163"/>
                    </a:lnTo>
                    <a:lnTo>
                      <a:pt x="913" y="162"/>
                    </a:lnTo>
                    <a:lnTo>
                      <a:pt x="909" y="163"/>
                    </a:lnTo>
                    <a:lnTo>
                      <a:pt x="908" y="163"/>
                    </a:lnTo>
                    <a:lnTo>
                      <a:pt x="906" y="166"/>
                    </a:lnTo>
                    <a:lnTo>
                      <a:pt x="905" y="167"/>
                    </a:lnTo>
                    <a:lnTo>
                      <a:pt x="906" y="169"/>
                    </a:lnTo>
                    <a:lnTo>
                      <a:pt x="908" y="172"/>
                    </a:lnTo>
                    <a:lnTo>
                      <a:pt x="909" y="173"/>
                    </a:lnTo>
                    <a:lnTo>
                      <a:pt x="913" y="173"/>
                    </a:lnTo>
                    <a:lnTo>
                      <a:pt x="914" y="173"/>
                    </a:lnTo>
                    <a:lnTo>
                      <a:pt x="915" y="172"/>
                    </a:lnTo>
                    <a:lnTo>
                      <a:pt x="916" y="169"/>
                    </a:lnTo>
                    <a:lnTo>
                      <a:pt x="916" y="167"/>
                    </a:lnTo>
                    <a:lnTo>
                      <a:pt x="916" y="167"/>
                    </a:lnTo>
                    <a:close/>
                    <a:moveTo>
                      <a:pt x="930" y="114"/>
                    </a:moveTo>
                    <a:lnTo>
                      <a:pt x="930" y="111"/>
                    </a:lnTo>
                    <a:lnTo>
                      <a:pt x="929" y="109"/>
                    </a:lnTo>
                    <a:lnTo>
                      <a:pt x="926" y="108"/>
                    </a:lnTo>
                    <a:lnTo>
                      <a:pt x="924" y="108"/>
                    </a:lnTo>
                    <a:lnTo>
                      <a:pt x="921" y="108"/>
                    </a:lnTo>
                    <a:lnTo>
                      <a:pt x="920" y="109"/>
                    </a:lnTo>
                    <a:lnTo>
                      <a:pt x="919" y="111"/>
                    </a:lnTo>
                    <a:lnTo>
                      <a:pt x="919" y="114"/>
                    </a:lnTo>
                    <a:lnTo>
                      <a:pt x="919" y="116"/>
                    </a:lnTo>
                    <a:lnTo>
                      <a:pt x="920" y="118"/>
                    </a:lnTo>
                    <a:lnTo>
                      <a:pt x="921" y="119"/>
                    </a:lnTo>
                    <a:lnTo>
                      <a:pt x="924" y="119"/>
                    </a:lnTo>
                    <a:lnTo>
                      <a:pt x="926" y="119"/>
                    </a:lnTo>
                    <a:lnTo>
                      <a:pt x="929" y="118"/>
                    </a:lnTo>
                    <a:lnTo>
                      <a:pt x="930" y="116"/>
                    </a:lnTo>
                    <a:lnTo>
                      <a:pt x="930" y="114"/>
                    </a:lnTo>
                    <a:lnTo>
                      <a:pt x="930" y="114"/>
                    </a:lnTo>
                    <a:close/>
                    <a:moveTo>
                      <a:pt x="938" y="139"/>
                    </a:moveTo>
                    <a:lnTo>
                      <a:pt x="936" y="138"/>
                    </a:lnTo>
                    <a:lnTo>
                      <a:pt x="935" y="137"/>
                    </a:lnTo>
                    <a:lnTo>
                      <a:pt x="934" y="135"/>
                    </a:lnTo>
                    <a:lnTo>
                      <a:pt x="933" y="135"/>
                    </a:lnTo>
                    <a:lnTo>
                      <a:pt x="930" y="135"/>
                    </a:lnTo>
                    <a:lnTo>
                      <a:pt x="928" y="137"/>
                    </a:lnTo>
                    <a:lnTo>
                      <a:pt x="926" y="138"/>
                    </a:lnTo>
                    <a:lnTo>
                      <a:pt x="926" y="139"/>
                    </a:lnTo>
                    <a:lnTo>
                      <a:pt x="926" y="143"/>
                    </a:lnTo>
                    <a:lnTo>
                      <a:pt x="928" y="144"/>
                    </a:lnTo>
                    <a:lnTo>
                      <a:pt x="930" y="145"/>
                    </a:lnTo>
                    <a:lnTo>
                      <a:pt x="933" y="147"/>
                    </a:lnTo>
                    <a:lnTo>
                      <a:pt x="934" y="145"/>
                    </a:lnTo>
                    <a:lnTo>
                      <a:pt x="935" y="144"/>
                    </a:lnTo>
                    <a:lnTo>
                      <a:pt x="936" y="143"/>
                    </a:lnTo>
                    <a:lnTo>
                      <a:pt x="938" y="139"/>
                    </a:lnTo>
                    <a:lnTo>
                      <a:pt x="938" y="139"/>
                    </a:lnTo>
                    <a:close/>
                    <a:moveTo>
                      <a:pt x="876" y="301"/>
                    </a:moveTo>
                    <a:lnTo>
                      <a:pt x="876" y="308"/>
                    </a:lnTo>
                    <a:lnTo>
                      <a:pt x="876" y="310"/>
                    </a:lnTo>
                    <a:lnTo>
                      <a:pt x="877" y="311"/>
                    </a:lnTo>
                    <a:lnTo>
                      <a:pt x="879" y="312"/>
                    </a:lnTo>
                    <a:lnTo>
                      <a:pt x="880" y="312"/>
                    </a:lnTo>
                    <a:lnTo>
                      <a:pt x="880" y="312"/>
                    </a:lnTo>
                    <a:lnTo>
                      <a:pt x="887" y="312"/>
                    </a:lnTo>
                    <a:lnTo>
                      <a:pt x="887" y="301"/>
                    </a:lnTo>
                    <a:lnTo>
                      <a:pt x="876" y="301"/>
                    </a:lnTo>
                    <a:lnTo>
                      <a:pt x="876" y="301"/>
                    </a:lnTo>
                    <a:close/>
                    <a:moveTo>
                      <a:pt x="887" y="297"/>
                    </a:moveTo>
                    <a:lnTo>
                      <a:pt x="887" y="286"/>
                    </a:lnTo>
                    <a:lnTo>
                      <a:pt x="880" y="286"/>
                    </a:lnTo>
                    <a:lnTo>
                      <a:pt x="879" y="286"/>
                    </a:lnTo>
                    <a:lnTo>
                      <a:pt x="877" y="287"/>
                    </a:lnTo>
                    <a:lnTo>
                      <a:pt x="876" y="288"/>
                    </a:lnTo>
                    <a:lnTo>
                      <a:pt x="876" y="289"/>
                    </a:lnTo>
                    <a:lnTo>
                      <a:pt x="876" y="289"/>
                    </a:lnTo>
                    <a:lnTo>
                      <a:pt x="876" y="297"/>
                    </a:lnTo>
                    <a:lnTo>
                      <a:pt x="887" y="297"/>
                    </a:lnTo>
                    <a:lnTo>
                      <a:pt x="887" y="297"/>
                    </a:lnTo>
                    <a:close/>
                    <a:moveTo>
                      <a:pt x="894" y="312"/>
                    </a:moveTo>
                    <a:lnTo>
                      <a:pt x="908" y="312"/>
                    </a:lnTo>
                    <a:lnTo>
                      <a:pt x="910" y="312"/>
                    </a:lnTo>
                    <a:lnTo>
                      <a:pt x="913" y="312"/>
                    </a:lnTo>
                    <a:lnTo>
                      <a:pt x="914" y="311"/>
                    </a:lnTo>
                    <a:lnTo>
                      <a:pt x="916" y="310"/>
                    </a:lnTo>
                    <a:lnTo>
                      <a:pt x="918" y="308"/>
                    </a:lnTo>
                    <a:lnTo>
                      <a:pt x="918" y="306"/>
                    </a:lnTo>
                    <a:lnTo>
                      <a:pt x="919" y="303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294"/>
                    </a:lnTo>
                    <a:lnTo>
                      <a:pt x="919" y="293"/>
                    </a:lnTo>
                    <a:lnTo>
                      <a:pt x="918" y="291"/>
                    </a:lnTo>
                    <a:lnTo>
                      <a:pt x="918" y="289"/>
                    </a:lnTo>
                    <a:lnTo>
                      <a:pt x="916" y="288"/>
                    </a:lnTo>
                    <a:lnTo>
                      <a:pt x="914" y="287"/>
                    </a:lnTo>
                    <a:lnTo>
                      <a:pt x="913" y="286"/>
                    </a:lnTo>
                    <a:lnTo>
                      <a:pt x="910" y="286"/>
                    </a:lnTo>
                    <a:lnTo>
                      <a:pt x="908" y="286"/>
                    </a:lnTo>
                    <a:lnTo>
                      <a:pt x="908" y="286"/>
                    </a:lnTo>
                    <a:lnTo>
                      <a:pt x="894" y="286"/>
                    </a:lnTo>
                    <a:lnTo>
                      <a:pt x="894" y="312"/>
                    </a:lnTo>
                    <a:lnTo>
                      <a:pt x="894" y="312"/>
                    </a:lnTo>
                    <a:close/>
                    <a:moveTo>
                      <a:pt x="871" y="308"/>
                    </a:moveTo>
                    <a:lnTo>
                      <a:pt x="871" y="310"/>
                    </a:lnTo>
                    <a:lnTo>
                      <a:pt x="871" y="312"/>
                    </a:lnTo>
                    <a:lnTo>
                      <a:pt x="872" y="313"/>
                    </a:lnTo>
                    <a:lnTo>
                      <a:pt x="874" y="315"/>
                    </a:lnTo>
                    <a:lnTo>
                      <a:pt x="875" y="316"/>
                    </a:lnTo>
                    <a:lnTo>
                      <a:pt x="877" y="316"/>
                    </a:lnTo>
                    <a:lnTo>
                      <a:pt x="879" y="317"/>
                    </a:lnTo>
                    <a:lnTo>
                      <a:pt x="880" y="317"/>
                    </a:lnTo>
                    <a:lnTo>
                      <a:pt x="908" y="317"/>
                    </a:lnTo>
                    <a:lnTo>
                      <a:pt x="911" y="317"/>
                    </a:lnTo>
                    <a:lnTo>
                      <a:pt x="914" y="316"/>
                    </a:lnTo>
                    <a:lnTo>
                      <a:pt x="916" y="315"/>
                    </a:lnTo>
                    <a:lnTo>
                      <a:pt x="919" y="312"/>
                    </a:lnTo>
                    <a:lnTo>
                      <a:pt x="921" y="311"/>
                    </a:lnTo>
                    <a:lnTo>
                      <a:pt x="924" y="308"/>
                    </a:lnTo>
                    <a:lnTo>
                      <a:pt x="925" y="305"/>
                    </a:lnTo>
                    <a:lnTo>
                      <a:pt x="926" y="301"/>
                    </a:lnTo>
                    <a:lnTo>
                      <a:pt x="926" y="294"/>
                    </a:lnTo>
                    <a:lnTo>
                      <a:pt x="925" y="292"/>
                    </a:lnTo>
                    <a:lnTo>
                      <a:pt x="924" y="289"/>
                    </a:lnTo>
                    <a:lnTo>
                      <a:pt x="921" y="287"/>
                    </a:lnTo>
                    <a:lnTo>
                      <a:pt x="919" y="286"/>
                    </a:lnTo>
                    <a:lnTo>
                      <a:pt x="916" y="283"/>
                    </a:lnTo>
                    <a:lnTo>
                      <a:pt x="914" y="282"/>
                    </a:lnTo>
                    <a:lnTo>
                      <a:pt x="911" y="281"/>
                    </a:lnTo>
                    <a:lnTo>
                      <a:pt x="908" y="281"/>
                    </a:lnTo>
                    <a:lnTo>
                      <a:pt x="880" y="281"/>
                    </a:lnTo>
                    <a:lnTo>
                      <a:pt x="879" y="281"/>
                    </a:lnTo>
                    <a:lnTo>
                      <a:pt x="877" y="281"/>
                    </a:lnTo>
                    <a:lnTo>
                      <a:pt x="875" y="282"/>
                    </a:lnTo>
                    <a:lnTo>
                      <a:pt x="874" y="283"/>
                    </a:lnTo>
                    <a:lnTo>
                      <a:pt x="872" y="284"/>
                    </a:lnTo>
                    <a:lnTo>
                      <a:pt x="871" y="287"/>
                    </a:lnTo>
                    <a:lnTo>
                      <a:pt x="871" y="288"/>
                    </a:lnTo>
                    <a:lnTo>
                      <a:pt x="871" y="289"/>
                    </a:lnTo>
                    <a:lnTo>
                      <a:pt x="871" y="308"/>
                    </a:lnTo>
                    <a:lnTo>
                      <a:pt x="871" y="308"/>
                    </a:lnTo>
                    <a:close/>
                    <a:moveTo>
                      <a:pt x="1121" y="130"/>
                    </a:moveTo>
                    <a:lnTo>
                      <a:pt x="1117" y="130"/>
                    </a:lnTo>
                    <a:lnTo>
                      <a:pt x="1114" y="132"/>
                    </a:lnTo>
                    <a:lnTo>
                      <a:pt x="1112" y="133"/>
                    </a:lnTo>
                    <a:lnTo>
                      <a:pt x="1109" y="135"/>
                    </a:lnTo>
                    <a:lnTo>
                      <a:pt x="1107" y="138"/>
                    </a:lnTo>
                    <a:lnTo>
                      <a:pt x="1106" y="140"/>
                    </a:lnTo>
                    <a:lnTo>
                      <a:pt x="1104" y="143"/>
                    </a:lnTo>
                    <a:lnTo>
                      <a:pt x="1104" y="147"/>
                    </a:lnTo>
                    <a:lnTo>
                      <a:pt x="1104" y="149"/>
                    </a:lnTo>
                    <a:lnTo>
                      <a:pt x="1106" y="153"/>
                    </a:lnTo>
                    <a:lnTo>
                      <a:pt x="1107" y="156"/>
                    </a:lnTo>
                    <a:lnTo>
                      <a:pt x="1109" y="158"/>
                    </a:lnTo>
                    <a:lnTo>
                      <a:pt x="1112" y="159"/>
                    </a:lnTo>
                    <a:lnTo>
                      <a:pt x="1114" y="161"/>
                    </a:lnTo>
                    <a:lnTo>
                      <a:pt x="1117" y="162"/>
                    </a:lnTo>
                    <a:lnTo>
                      <a:pt x="1121" y="162"/>
                    </a:lnTo>
                    <a:lnTo>
                      <a:pt x="1124" y="162"/>
                    </a:lnTo>
                    <a:lnTo>
                      <a:pt x="1127" y="161"/>
                    </a:lnTo>
                    <a:lnTo>
                      <a:pt x="1129" y="159"/>
                    </a:lnTo>
                    <a:lnTo>
                      <a:pt x="1132" y="158"/>
                    </a:lnTo>
                    <a:lnTo>
                      <a:pt x="1133" y="156"/>
                    </a:lnTo>
                    <a:lnTo>
                      <a:pt x="1136" y="153"/>
                    </a:lnTo>
                    <a:lnTo>
                      <a:pt x="1136" y="149"/>
                    </a:lnTo>
                    <a:lnTo>
                      <a:pt x="1137" y="147"/>
                    </a:lnTo>
                    <a:lnTo>
                      <a:pt x="1136" y="143"/>
                    </a:lnTo>
                    <a:lnTo>
                      <a:pt x="1136" y="140"/>
                    </a:lnTo>
                    <a:lnTo>
                      <a:pt x="1133" y="138"/>
                    </a:lnTo>
                    <a:lnTo>
                      <a:pt x="1132" y="135"/>
                    </a:lnTo>
                    <a:lnTo>
                      <a:pt x="1129" y="133"/>
                    </a:lnTo>
                    <a:lnTo>
                      <a:pt x="1127" y="132"/>
                    </a:lnTo>
                    <a:lnTo>
                      <a:pt x="1124" y="130"/>
                    </a:lnTo>
                    <a:lnTo>
                      <a:pt x="1121" y="130"/>
                    </a:lnTo>
                    <a:lnTo>
                      <a:pt x="1121" y="130"/>
                    </a:lnTo>
                    <a:close/>
                    <a:moveTo>
                      <a:pt x="1471" y="130"/>
                    </a:moveTo>
                    <a:lnTo>
                      <a:pt x="1468" y="130"/>
                    </a:lnTo>
                    <a:lnTo>
                      <a:pt x="1465" y="132"/>
                    </a:lnTo>
                    <a:lnTo>
                      <a:pt x="1463" y="133"/>
                    </a:lnTo>
                    <a:lnTo>
                      <a:pt x="1460" y="135"/>
                    </a:lnTo>
                    <a:lnTo>
                      <a:pt x="1458" y="138"/>
                    </a:lnTo>
                    <a:lnTo>
                      <a:pt x="1456" y="140"/>
                    </a:lnTo>
                    <a:lnTo>
                      <a:pt x="1456" y="143"/>
                    </a:lnTo>
                    <a:lnTo>
                      <a:pt x="1455" y="147"/>
                    </a:lnTo>
                    <a:lnTo>
                      <a:pt x="1456" y="149"/>
                    </a:lnTo>
                    <a:lnTo>
                      <a:pt x="1456" y="153"/>
                    </a:lnTo>
                    <a:lnTo>
                      <a:pt x="1458" y="156"/>
                    </a:lnTo>
                    <a:lnTo>
                      <a:pt x="1460" y="158"/>
                    </a:lnTo>
                    <a:lnTo>
                      <a:pt x="1463" y="159"/>
                    </a:lnTo>
                    <a:lnTo>
                      <a:pt x="1465" y="161"/>
                    </a:lnTo>
                    <a:lnTo>
                      <a:pt x="1468" y="162"/>
                    </a:lnTo>
                    <a:lnTo>
                      <a:pt x="1471" y="162"/>
                    </a:lnTo>
                    <a:lnTo>
                      <a:pt x="1474" y="162"/>
                    </a:lnTo>
                    <a:lnTo>
                      <a:pt x="1476" y="161"/>
                    </a:lnTo>
                    <a:lnTo>
                      <a:pt x="1479" y="159"/>
                    </a:lnTo>
                    <a:lnTo>
                      <a:pt x="1480" y="158"/>
                    </a:lnTo>
                    <a:lnTo>
                      <a:pt x="1483" y="156"/>
                    </a:lnTo>
                    <a:lnTo>
                      <a:pt x="1484" y="153"/>
                    </a:lnTo>
                    <a:lnTo>
                      <a:pt x="1485" y="149"/>
                    </a:lnTo>
                    <a:lnTo>
                      <a:pt x="1485" y="147"/>
                    </a:lnTo>
                    <a:lnTo>
                      <a:pt x="1485" y="143"/>
                    </a:lnTo>
                    <a:lnTo>
                      <a:pt x="1484" y="140"/>
                    </a:lnTo>
                    <a:lnTo>
                      <a:pt x="1483" y="138"/>
                    </a:lnTo>
                    <a:lnTo>
                      <a:pt x="1480" y="135"/>
                    </a:lnTo>
                    <a:lnTo>
                      <a:pt x="1479" y="133"/>
                    </a:lnTo>
                    <a:lnTo>
                      <a:pt x="1476" y="132"/>
                    </a:lnTo>
                    <a:lnTo>
                      <a:pt x="1474" y="130"/>
                    </a:lnTo>
                    <a:lnTo>
                      <a:pt x="1471" y="130"/>
                    </a:lnTo>
                    <a:lnTo>
                      <a:pt x="1471" y="130"/>
                    </a:lnTo>
                    <a:close/>
                    <a:moveTo>
                      <a:pt x="2112" y="135"/>
                    </a:moveTo>
                    <a:lnTo>
                      <a:pt x="2109" y="135"/>
                    </a:lnTo>
                    <a:lnTo>
                      <a:pt x="2105" y="137"/>
                    </a:lnTo>
                    <a:lnTo>
                      <a:pt x="2103" y="138"/>
                    </a:lnTo>
                    <a:lnTo>
                      <a:pt x="2100" y="139"/>
                    </a:lnTo>
                    <a:lnTo>
                      <a:pt x="2099" y="142"/>
                    </a:lnTo>
                    <a:lnTo>
                      <a:pt x="2098" y="144"/>
                    </a:lnTo>
                    <a:lnTo>
                      <a:pt x="2097" y="148"/>
                    </a:lnTo>
                    <a:lnTo>
                      <a:pt x="2097" y="150"/>
                    </a:lnTo>
                    <a:lnTo>
                      <a:pt x="2097" y="153"/>
                    </a:lnTo>
                    <a:lnTo>
                      <a:pt x="2098" y="156"/>
                    </a:lnTo>
                    <a:lnTo>
                      <a:pt x="2099" y="158"/>
                    </a:lnTo>
                    <a:lnTo>
                      <a:pt x="2100" y="161"/>
                    </a:lnTo>
                    <a:lnTo>
                      <a:pt x="2103" y="162"/>
                    </a:lnTo>
                    <a:lnTo>
                      <a:pt x="2105" y="163"/>
                    </a:lnTo>
                    <a:lnTo>
                      <a:pt x="2109" y="164"/>
                    </a:lnTo>
                    <a:lnTo>
                      <a:pt x="2112" y="164"/>
                    </a:lnTo>
                    <a:lnTo>
                      <a:pt x="2115" y="164"/>
                    </a:lnTo>
                    <a:lnTo>
                      <a:pt x="2118" y="163"/>
                    </a:lnTo>
                    <a:lnTo>
                      <a:pt x="2120" y="162"/>
                    </a:lnTo>
                    <a:lnTo>
                      <a:pt x="2123" y="161"/>
                    </a:lnTo>
                    <a:lnTo>
                      <a:pt x="2125" y="158"/>
                    </a:lnTo>
                    <a:lnTo>
                      <a:pt x="2127" y="156"/>
                    </a:lnTo>
                    <a:lnTo>
                      <a:pt x="2128" y="153"/>
                    </a:lnTo>
                    <a:lnTo>
                      <a:pt x="2128" y="150"/>
                    </a:lnTo>
                    <a:lnTo>
                      <a:pt x="2128" y="148"/>
                    </a:lnTo>
                    <a:lnTo>
                      <a:pt x="2127" y="144"/>
                    </a:lnTo>
                    <a:lnTo>
                      <a:pt x="2125" y="142"/>
                    </a:lnTo>
                    <a:lnTo>
                      <a:pt x="2123" y="139"/>
                    </a:lnTo>
                    <a:lnTo>
                      <a:pt x="2120" y="138"/>
                    </a:lnTo>
                    <a:lnTo>
                      <a:pt x="2118" y="137"/>
                    </a:lnTo>
                    <a:lnTo>
                      <a:pt x="2115" y="135"/>
                    </a:lnTo>
                    <a:lnTo>
                      <a:pt x="2112" y="135"/>
                    </a:lnTo>
                    <a:lnTo>
                      <a:pt x="2112" y="135"/>
                    </a:lnTo>
                    <a:close/>
                    <a:moveTo>
                      <a:pt x="2198" y="181"/>
                    </a:moveTo>
                    <a:lnTo>
                      <a:pt x="2198" y="182"/>
                    </a:lnTo>
                    <a:lnTo>
                      <a:pt x="2198" y="182"/>
                    </a:lnTo>
                    <a:lnTo>
                      <a:pt x="2201" y="185"/>
                    </a:lnTo>
                    <a:lnTo>
                      <a:pt x="2203" y="187"/>
                    </a:lnTo>
                    <a:lnTo>
                      <a:pt x="2204" y="187"/>
                    </a:lnTo>
                    <a:lnTo>
                      <a:pt x="2204" y="187"/>
                    </a:lnTo>
                    <a:lnTo>
                      <a:pt x="2207" y="187"/>
                    </a:lnTo>
                    <a:lnTo>
                      <a:pt x="2208" y="187"/>
                    </a:lnTo>
                    <a:lnTo>
                      <a:pt x="2211" y="185"/>
                    </a:lnTo>
                    <a:lnTo>
                      <a:pt x="2212" y="183"/>
                    </a:lnTo>
                    <a:lnTo>
                      <a:pt x="2213" y="182"/>
                    </a:lnTo>
                    <a:lnTo>
                      <a:pt x="2213" y="182"/>
                    </a:lnTo>
                    <a:lnTo>
                      <a:pt x="2214" y="181"/>
                    </a:lnTo>
                    <a:lnTo>
                      <a:pt x="2213" y="178"/>
                    </a:lnTo>
                    <a:lnTo>
                      <a:pt x="2213" y="177"/>
                    </a:lnTo>
                    <a:lnTo>
                      <a:pt x="2212" y="176"/>
                    </a:lnTo>
                    <a:lnTo>
                      <a:pt x="2211" y="176"/>
                    </a:lnTo>
                    <a:lnTo>
                      <a:pt x="2208" y="174"/>
                    </a:lnTo>
                    <a:lnTo>
                      <a:pt x="2204" y="173"/>
                    </a:lnTo>
                    <a:lnTo>
                      <a:pt x="2203" y="174"/>
                    </a:lnTo>
                    <a:lnTo>
                      <a:pt x="2201" y="176"/>
                    </a:lnTo>
                    <a:lnTo>
                      <a:pt x="2198" y="177"/>
                    </a:lnTo>
                    <a:lnTo>
                      <a:pt x="2198" y="178"/>
                    </a:lnTo>
                    <a:lnTo>
                      <a:pt x="2198" y="181"/>
                    </a:lnTo>
                    <a:lnTo>
                      <a:pt x="2198" y="181"/>
                    </a:lnTo>
                    <a:close/>
                    <a:moveTo>
                      <a:pt x="2237" y="181"/>
                    </a:moveTo>
                    <a:lnTo>
                      <a:pt x="2237" y="182"/>
                    </a:lnTo>
                    <a:lnTo>
                      <a:pt x="2237" y="182"/>
                    </a:lnTo>
                    <a:lnTo>
                      <a:pt x="2239" y="185"/>
                    </a:lnTo>
                    <a:lnTo>
                      <a:pt x="2241" y="187"/>
                    </a:lnTo>
                    <a:lnTo>
                      <a:pt x="2242" y="187"/>
                    </a:lnTo>
                    <a:lnTo>
                      <a:pt x="2243" y="187"/>
                    </a:lnTo>
                    <a:lnTo>
                      <a:pt x="2244" y="187"/>
                    </a:lnTo>
                    <a:lnTo>
                      <a:pt x="2246" y="187"/>
                    </a:lnTo>
                    <a:lnTo>
                      <a:pt x="2248" y="185"/>
                    </a:lnTo>
                    <a:lnTo>
                      <a:pt x="2249" y="182"/>
                    </a:lnTo>
                    <a:lnTo>
                      <a:pt x="2249" y="181"/>
                    </a:lnTo>
                    <a:lnTo>
                      <a:pt x="2249" y="177"/>
                    </a:lnTo>
                    <a:lnTo>
                      <a:pt x="2248" y="176"/>
                    </a:lnTo>
                    <a:lnTo>
                      <a:pt x="2246" y="174"/>
                    </a:lnTo>
                    <a:lnTo>
                      <a:pt x="2243" y="173"/>
                    </a:lnTo>
                    <a:lnTo>
                      <a:pt x="2241" y="174"/>
                    </a:lnTo>
                    <a:lnTo>
                      <a:pt x="2239" y="176"/>
                    </a:lnTo>
                    <a:lnTo>
                      <a:pt x="2237" y="177"/>
                    </a:lnTo>
                    <a:lnTo>
                      <a:pt x="2237" y="178"/>
                    </a:lnTo>
                    <a:lnTo>
                      <a:pt x="2237" y="181"/>
                    </a:lnTo>
                    <a:lnTo>
                      <a:pt x="2237" y="181"/>
                    </a:lnTo>
                    <a:close/>
                    <a:moveTo>
                      <a:pt x="2275" y="181"/>
                    </a:moveTo>
                    <a:lnTo>
                      <a:pt x="2275" y="182"/>
                    </a:lnTo>
                    <a:lnTo>
                      <a:pt x="2276" y="182"/>
                    </a:lnTo>
                    <a:lnTo>
                      <a:pt x="2277" y="185"/>
                    </a:lnTo>
                    <a:lnTo>
                      <a:pt x="2280" y="187"/>
                    </a:lnTo>
                    <a:lnTo>
                      <a:pt x="2281" y="187"/>
                    </a:lnTo>
                    <a:lnTo>
                      <a:pt x="2282" y="187"/>
                    </a:lnTo>
                    <a:lnTo>
                      <a:pt x="2283" y="187"/>
                    </a:lnTo>
                    <a:lnTo>
                      <a:pt x="2285" y="187"/>
                    </a:lnTo>
                    <a:lnTo>
                      <a:pt x="2287" y="185"/>
                    </a:lnTo>
                    <a:lnTo>
                      <a:pt x="2288" y="182"/>
                    </a:lnTo>
                    <a:lnTo>
                      <a:pt x="2288" y="181"/>
                    </a:lnTo>
                    <a:lnTo>
                      <a:pt x="2288" y="177"/>
                    </a:lnTo>
                    <a:lnTo>
                      <a:pt x="2287" y="176"/>
                    </a:lnTo>
                    <a:lnTo>
                      <a:pt x="2285" y="174"/>
                    </a:lnTo>
                    <a:lnTo>
                      <a:pt x="2282" y="173"/>
                    </a:lnTo>
                    <a:lnTo>
                      <a:pt x="2280" y="174"/>
                    </a:lnTo>
                    <a:lnTo>
                      <a:pt x="2277" y="176"/>
                    </a:lnTo>
                    <a:lnTo>
                      <a:pt x="2276" y="177"/>
                    </a:lnTo>
                    <a:lnTo>
                      <a:pt x="2275" y="178"/>
                    </a:lnTo>
                    <a:lnTo>
                      <a:pt x="2275" y="181"/>
                    </a:lnTo>
                    <a:lnTo>
                      <a:pt x="2275" y="181"/>
                    </a:lnTo>
                    <a:close/>
                    <a:moveTo>
                      <a:pt x="2313" y="181"/>
                    </a:moveTo>
                    <a:lnTo>
                      <a:pt x="2313" y="182"/>
                    </a:lnTo>
                    <a:lnTo>
                      <a:pt x="2315" y="185"/>
                    </a:lnTo>
                    <a:lnTo>
                      <a:pt x="2317" y="187"/>
                    </a:lnTo>
                    <a:lnTo>
                      <a:pt x="2318" y="187"/>
                    </a:lnTo>
                    <a:lnTo>
                      <a:pt x="2320" y="187"/>
                    </a:lnTo>
                    <a:lnTo>
                      <a:pt x="2322" y="187"/>
                    </a:lnTo>
                    <a:lnTo>
                      <a:pt x="2323" y="187"/>
                    </a:lnTo>
                    <a:lnTo>
                      <a:pt x="2325" y="185"/>
                    </a:lnTo>
                    <a:lnTo>
                      <a:pt x="2326" y="182"/>
                    </a:lnTo>
                    <a:lnTo>
                      <a:pt x="2327" y="181"/>
                    </a:lnTo>
                    <a:lnTo>
                      <a:pt x="2326" y="177"/>
                    </a:lnTo>
                    <a:lnTo>
                      <a:pt x="2325" y="176"/>
                    </a:lnTo>
                    <a:lnTo>
                      <a:pt x="2323" y="174"/>
                    </a:lnTo>
                    <a:lnTo>
                      <a:pt x="2320" y="173"/>
                    </a:lnTo>
                    <a:lnTo>
                      <a:pt x="2317" y="174"/>
                    </a:lnTo>
                    <a:lnTo>
                      <a:pt x="2315" y="176"/>
                    </a:lnTo>
                    <a:lnTo>
                      <a:pt x="2313" y="177"/>
                    </a:lnTo>
                    <a:lnTo>
                      <a:pt x="2313" y="181"/>
                    </a:lnTo>
                    <a:lnTo>
                      <a:pt x="2313" y="181"/>
                    </a:lnTo>
                    <a:close/>
                    <a:moveTo>
                      <a:pt x="2352" y="181"/>
                    </a:moveTo>
                    <a:lnTo>
                      <a:pt x="2352" y="182"/>
                    </a:lnTo>
                    <a:lnTo>
                      <a:pt x="2353" y="185"/>
                    </a:lnTo>
                    <a:lnTo>
                      <a:pt x="2356" y="187"/>
                    </a:lnTo>
                    <a:lnTo>
                      <a:pt x="2357" y="187"/>
                    </a:lnTo>
                    <a:lnTo>
                      <a:pt x="2358" y="187"/>
                    </a:lnTo>
                    <a:lnTo>
                      <a:pt x="2360" y="187"/>
                    </a:lnTo>
                    <a:lnTo>
                      <a:pt x="2362" y="187"/>
                    </a:lnTo>
                    <a:lnTo>
                      <a:pt x="2363" y="185"/>
                    </a:lnTo>
                    <a:lnTo>
                      <a:pt x="2365" y="182"/>
                    </a:lnTo>
                    <a:lnTo>
                      <a:pt x="2366" y="181"/>
                    </a:lnTo>
                    <a:lnTo>
                      <a:pt x="2365" y="177"/>
                    </a:lnTo>
                    <a:lnTo>
                      <a:pt x="2363" y="176"/>
                    </a:lnTo>
                    <a:lnTo>
                      <a:pt x="2362" y="174"/>
                    </a:lnTo>
                    <a:lnTo>
                      <a:pt x="2358" y="173"/>
                    </a:lnTo>
                    <a:lnTo>
                      <a:pt x="2356" y="174"/>
                    </a:lnTo>
                    <a:lnTo>
                      <a:pt x="2353" y="176"/>
                    </a:lnTo>
                    <a:lnTo>
                      <a:pt x="2352" y="177"/>
                    </a:lnTo>
                    <a:lnTo>
                      <a:pt x="2352" y="181"/>
                    </a:lnTo>
                    <a:lnTo>
                      <a:pt x="2352" y="181"/>
                    </a:lnTo>
                    <a:close/>
                    <a:moveTo>
                      <a:pt x="2218" y="150"/>
                    </a:moveTo>
                    <a:lnTo>
                      <a:pt x="2218" y="152"/>
                    </a:lnTo>
                    <a:lnTo>
                      <a:pt x="2219" y="153"/>
                    </a:lnTo>
                    <a:lnTo>
                      <a:pt x="2221" y="156"/>
                    </a:lnTo>
                    <a:lnTo>
                      <a:pt x="2223" y="157"/>
                    </a:lnTo>
                    <a:lnTo>
                      <a:pt x="2224" y="158"/>
                    </a:lnTo>
                    <a:lnTo>
                      <a:pt x="2226" y="158"/>
                    </a:lnTo>
                    <a:lnTo>
                      <a:pt x="2227" y="158"/>
                    </a:lnTo>
                    <a:lnTo>
                      <a:pt x="2228" y="157"/>
                    </a:lnTo>
                    <a:lnTo>
                      <a:pt x="2231" y="156"/>
                    </a:lnTo>
                    <a:lnTo>
                      <a:pt x="2232" y="153"/>
                    </a:lnTo>
                    <a:lnTo>
                      <a:pt x="2232" y="150"/>
                    </a:lnTo>
                    <a:lnTo>
                      <a:pt x="2232" y="148"/>
                    </a:lnTo>
                    <a:lnTo>
                      <a:pt x="2231" y="145"/>
                    </a:lnTo>
                    <a:lnTo>
                      <a:pt x="2228" y="144"/>
                    </a:lnTo>
                    <a:lnTo>
                      <a:pt x="2226" y="144"/>
                    </a:lnTo>
                    <a:lnTo>
                      <a:pt x="2223" y="144"/>
                    </a:lnTo>
                    <a:lnTo>
                      <a:pt x="2221" y="145"/>
                    </a:lnTo>
                    <a:lnTo>
                      <a:pt x="2219" y="148"/>
                    </a:lnTo>
                    <a:lnTo>
                      <a:pt x="2218" y="149"/>
                    </a:lnTo>
                    <a:lnTo>
                      <a:pt x="2218" y="150"/>
                    </a:lnTo>
                    <a:lnTo>
                      <a:pt x="2218" y="150"/>
                    </a:lnTo>
                    <a:close/>
                    <a:moveTo>
                      <a:pt x="2257" y="150"/>
                    </a:moveTo>
                    <a:lnTo>
                      <a:pt x="2257" y="152"/>
                    </a:lnTo>
                    <a:lnTo>
                      <a:pt x="2257" y="153"/>
                    </a:lnTo>
                    <a:lnTo>
                      <a:pt x="2259" y="156"/>
                    </a:lnTo>
                    <a:lnTo>
                      <a:pt x="2262" y="157"/>
                    </a:lnTo>
                    <a:lnTo>
                      <a:pt x="2262" y="158"/>
                    </a:lnTo>
                    <a:lnTo>
                      <a:pt x="2263" y="158"/>
                    </a:lnTo>
                    <a:lnTo>
                      <a:pt x="2266" y="158"/>
                    </a:lnTo>
                    <a:lnTo>
                      <a:pt x="2267" y="157"/>
                    </a:lnTo>
                    <a:lnTo>
                      <a:pt x="2268" y="156"/>
                    </a:lnTo>
                    <a:lnTo>
                      <a:pt x="2270" y="153"/>
                    </a:lnTo>
                    <a:lnTo>
                      <a:pt x="2271" y="150"/>
                    </a:lnTo>
                    <a:lnTo>
                      <a:pt x="2270" y="148"/>
                    </a:lnTo>
                    <a:lnTo>
                      <a:pt x="2268" y="145"/>
                    </a:lnTo>
                    <a:lnTo>
                      <a:pt x="2267" y="144"/>
                    </a:lnTo>
                    <a:lnTo>
                      <a:pt x="2263" y="144"/>
                    </a:lnTo>
                    <a:lnTo>
                      <a:pt x="2262" y="144"/>
                    </a:lnTo>
                    <a:lnTo>
                      <a:pt x="2259" y="145"/>
                    </a:lnTo>
                    <a:lnTo>
                      <a:pt x="2257" y="148"/>
                    </a:lnTo>
                    <a:lnTo>
                      <a:pt x="2257" y="149"/>
                    </a:lnTo>
                    <a:lnTo>
                      <a:pt x="2257" y="150"/>
                    </a:lnTo>
                    <a:lnTo>
                      <a:pt x="2257" y="150"/>
                    </a:lnTo>
                    <a:close/>
                    <a:moveTo>
                      <a:pt x="2296" y="150"/>
                    </a:moveTo>
                    <a:lnTo>
                      <a:pt x="2296" y="153"/>
                    </a:lnTo>
                    <a:lnTo>
                      <a:pt x="2297" y="156"/>
                    </a:lnTo>
                    <a:lnTo>
                      <a:pt x="2300" y="157"/>
                    </a:lnTo>
                    <a:lnTo>
                      <a:pt x="2301" y="158"/>
                    </a:lnTo>
                    <a:lnTo>
                      <a:pt x="2302" y="158"/>
                    </a:lnTo>
                    <a:lnTo>
                      <a:pt x="2303" y="158"/>
                    </a:lnTo>
                    <a:lnTo>
                      <a:pt x="2305" y="157"/>
                    </a:lnTo>
                    <a:lnTo>
                      <a:pt x="2307" y="156"/>
                    </a:lnTo>
                    <a:lnTo>
                      <a:pt x="2308" y="153"/>
                    </a:lnTo>
                    <a:lnTo>
                      <a:pt x="2308" y="150"/>
                    </a:lnTo>
                    <a:lnTo>
                      <a:pt x="2308" y="148"/>
                    </a:lnTo>
                    <a:lnTo>
                      <a:pt x="2307" y="145"/>
                    </a:lnTo>
                    <a:lnTo>
                      <a:pt x="2305" y="144"/>
                    </a:lnTo>
                    <a:lnTo>
                      <a:pt x="2302" y="144"/>
                    </a:lnTo>
                    <a:lnTo>
                      <a:pt x="2300" y="144"/>
                    </a:lnTo>
                    <a:lnTo>
                      <a:pt x="2297" y="145"/>
                    </a:lnTo>
                    <a:lnTo>
                      <a:pt x="2296" y="148"/>
                    </a:lnTo>
                    <a:lnTo>
                      <a:pt x="2296" y="150"/>
                    </a:lnTo>
                    <a:lnTo>
                      <a:pt x="2296" y="150"/>
                    </a:lnTo>
                    <a:close/>
                    <a:moveTo>
                      <a:pt x="2333" y="150"/>
                    </a:moveTo>
                    <a:lnTo>
                      <a:pt x="2335" y="153"/>
                    </a:lnTo>
                    <a:lnTo>
                      <a:pt x="2336" y="156"/>
                    </a:lnTo>
                    <a:lnTo>
                      <a:pt x="2337" y="157"/>
                    </a:lnTo>
                    <a:lnTo>
                      <a:pt x="2338" y="158"/>
                    </a:lnTo>
                    <a:lnTo>
                      <a:pt x="2341" y="158"/>
                    </a:lnTo>
                    <a:lnTo>
                      <a:pt x="2342" y="158"/>
                    </a:lnTo>
                    <a:lnTo>
                      <a:pt x="2343" y="157"/>
                    </a:lnTo>
                    <a:lnTo>
                      <a:pt x="2346" y="156"/>
                    </a:lnTo>
                    <a:lnTo>
                      <a:pt x="2347" y="153"/>
                    </a:lnTo>
                    <a:lnTo>
                      <a:pt x="2347" y="150"/>
                    </a:lnTo>
                    <a:lnTo>
                      <a:pt x="2347" y="148"/>
                    </a:lnTo>
                    <a:lnTo>
                      <a:pt x="2346" y="145"/>
                    </a:lnTo>
                    <a:lnTo>
                      <a:pt x="2343" y="144"/>
                    </a:lnTo>
                    <a:lnTo>
                      <a:pt x="2341" y="144"/>
                    </a:lnTo>
                    <a:lnTo>
                      <a:pt x="2337" y="144"/>
                    </a:lnTo>
                    <a:lnTo>
                      <a:pt x="2336" y="145"/>
                    </a:lnTo>
                    <a:lnTo>
                      <a:pt x="2335" y="148"/>
                    </a:lnTo>
                    <a:lnTo>
                      <a:pt x="2333" y="150"/>
                    </a:lnTo>
                    <a:lnTo>
                      <a:pt x="2333" y="150"/>
                    </a:lnTo>
                    <a:close/>
                    <a:moveTo>
                      <a:pt x="2372" y="150"/>
                    </a:moveTo>
                    <a:lnTo>
                      <a:pt x="2372" y="153"/>
                    </a:lnTo>
                    <a:lnTo>
                      <a:pt x="2373" y="156"/>
                    </a:lnTo>
                    <a:lnTo>
                      <a:pt x="2376" y="157"/>
                    </a:lnTo>
                    <a:lnTo>
                      <a:pt x="2377" y="158"/>
                    </a:lnTo>
                    <a:lnTo>
                      <a:pt x="2379" y="158"/>
                    </a:lnTo>
                    <a:lnTo>
                      <a:pt x="2380" y="158"/>
                    </a:lnTo>
                    <a:lnTo>
                      <a:pt x="2381" y="157"/>
                    </a:lnTo>
                    <a:lnTo>
                      <a:pt x="2384" y="156"/>
                    </a:lnTo>
                    <a:lnTo>
                      <a:pt x="2385" y="153"/>
                    </a:lnTo>
                    <a:lnTo>
                      <a:pt x="2386" y="152"/>
                    </a:lnTo>
                    <a:lnTo>
                      <a:pt x="2386" y="150"/>
                    </a:lnTo>
                    <a:lnTo>
                      <a:pt x="2386" y="149"/>
                    </a:lnTo>
                    <a:lnTo>
                      <a:pt x="2385" y="148"/>
                    </a:lnTo>
                    <a:lnTo>
                      <a:pt x="2384" y="145"/>
                    </a:lnTo>
                    <a:lnTo>
                      <a:pt x="2381" y="144"/>
                    </a:lnTo>
                    <a:lnTo>
                      <a:pt x="2379" y="144"/>
                    </a:lnTo>
                    <a:lnTo>
                      <a:pt x="2376" y="144"/>
                    </a:lnTo>
                    <a:lnTo>
                      <a:pt x="2373" y="145"/>
                    </a:lnTo>
                    <a:lnTo>
                      <a:pt x="2372" y="148"/>
                    </a:lnTo>
                    <a:lnTo>
                      <a:pt x="2372" y="150"/>
                    </a:lnTo>
                    <a:lnTo>
                      <a:pt x="2372" y="150"/>
                    </a:lnTo>
                    <a:close/>
                    <a:moveTo>
                      <a:pt x="2198" y="119"/>
                    </a:moveTo>
                    <a:lnTo>
                      <a:pt x="2198" y="120"/>
                    </a:lnTo>
                    <a:lnTo>
                      <a:pt x="2198" y="121"/>
                    </a:lnTo>
                    <a:lnTo>
                      <a:pt x="2201" y="124"/>
                    </a:lnTo>
                    <a:lnTo>
                      <a:pt x="2203" y="125"/>
                    </a:lnTo>
                    <a:lnTo>
                      <a:pt x="2204" y="125"/>
                    </a:lnTo>
                    <a:lnTo>
                      <a:pt x="2208" y="125"/>
                    </a:lnTo>
                    <a:lnTo>
                      <a:pt x="2211" y="124"/>
                    </a:lnTo>
                    <a:lnTo>
                      <a:pt x="2212" y="123"/>
                    </a:lnTo>
                    <a:lnTo>
                      <a:pt x="2213" y="121"/>
                    </a:lnTo>
                    <a:lnTo>
                      <a:pt x="2213" y="120"/>
                    </a:lnTo>
                    <a:lnTo>
                      <a:pt x="2214" y="119"/>
                    </a:lnTo>
                    <a:lnTo>
                      <a:pt x="2213" y="118"/>
                    </a:lnTo>
                    <a:lnTo>
                      <a:pt x="2213" y="116"/>
                    </a:lnTo>
                    <a:lnTo>
                      <a:pt x="2212" y="116"/>
                    </a:lnTo>
                    <a:lnTo>
                      <a:pt x="2211" y="115"/>
                    </a:lnTo>
                    <a:lnTo>
                      <a:pt x="2208" y="113"/>
                    </a:lnTo>
                    <a:lnTo>
                      <a:pt x="2207" y="113"/>
                    </a:lnTo>
                    <a:lnTo>
                      <a:pt x="2204" y="113"/>
                    </a:lnTo>
                    <a:lnTo>
                      <a:pt x="2204" y="113"/>
                    </a:lnTo>
                    <a:lnTo>
                      <a:pt x="2203" y="113"/>
                    </a:lnTo>
                    <a:lnTo>
                      <a:pt x="2201" y="115"/>
                    </a:lnTo>
                    <a:lnTo>
                      <a:pt x="2198" y="116"/>
                    </a:lnTo>
                    <a:lnTo>
                      <a:pt x="2198" y="118"/>
                    </a:lnTo>
                    <a:lnTo>
                      <a:pt x="2198" y="119"/>
                    </a:lnTo>
                    <a:lnTo>
                      <a:pt x="2198" y="119"/>
                    </a:lnTo>
                    <a:close/>
                    <a:moveTo>
                      <a:pt x="2237" y="119"/>
                    </a:moveTo>
                    <a:lnTo>
                      <a:pt x="2237" y="120"/>
                    </a:lnTo>
                    <a:lnTo>
                      <a:pt x="2237" y="121"/>
                    </a:lnTo>
                    <a:lnTo>
                      <a:pt x="2239" y="124"/>
                    </a:lnTo>
                    <a:lnTo>
                      <a:pt x="2241" y="125"/>
                    </a:lnTo>
                    <a:lnTo>
                      <a:pt x="2243" y="125"/>
                    </a:lnTo>
                    <a:lnTo>
                      <a:pt x="2246" y="125"/>
                    </a:lnTo>
                    <a:lnTo>
                      <a:pt x="2248" y="124"/>
                    </a:lnTo>
                    <a:lnTo>
                      <a:pt x="2249" y="121"/>
                    </a:lnTo>
                    <a:lnTo>
                      <a:pt x="2249" y="119"/>
                    </a:lnTo>
                    <a:lnTo>
                      <a:pt x="2249" y="116"/>
                    </a:lnTo>
                    <a:lnTo>
                      <a:pt x="2248" y="115"/>
                    </a:lnTo>
                    <a:lnTo>
                      <a:pt x="2246" y="113"/>
                    </a:lnTo>
                    <a:lnTo>
                      <a:pt x="2244" y="113"/>
                    </a:lnTo>
                    <a:lnTo>
                      <a:pt x="2243" y="113"/>
                    </a:lnTo>
                    <a:lnTo>
                      <a:pt x="2242" y="113"/>
                    </a:lnTo>
                    <a:lnTo>
                      <a:pt x="2241" y="113"/>
                    </a:lnTo>
                    <a:lnTo>
                      <a:pt x="2239" y="115"/>
                    </a:lnTo>
                    <a:lnTo>
                      <a:pt x="2237" y="116"/>
                    </a:lnTo>
                    <a:lnTo>
                      <a:pt x="2237" y="118"/>
                    </a:lnTo>
                    <a:lnTo>
                      <a:pt x="2237" y="119"/>
                    </a:lnTo>
                    <a:lnTo>
                      <a:pt x="2237" y="119"/>
                    </a:lnTo>
                    <a:close/>
                    <a:moveTo>
                      <a:pt x="2275" y="119"/>
                    </a:moveTo>
                    <a:lnTo>
                      <a:pt x="2275" y="120"/>
                    </a:lnTo>
                    <a:lnTo>
                      <a:pt x="2276" y="121"/>
                    </a:lnTo>
                    <a:lnTo>
                      <a:pt x="2277" y="124"/>
                    </a:lnTo>
                    <a:lnTo>
                      <a:pt x="2280" y="125"/>
                    </a:lnTo>
                    <a:lnTo>
                      <a:pt x="2282" y="125"/>
                    </a:lnTo>
                    <a:lnTo>
                      <a:pt x="2285" y="125"/>
                    </a:lnTo>
                    <a:lnTo>
                      <a:pt x="2287" y="124"/>
                    </a:lnTo>
                    <a:lnTo>
                      <a:pt x="2288" y="121"/>
                    </a:lnTo>
                    <a:lnTo>
                      <a:pt x="2288" y="119"/>
                    </a:lnTo>
                    <a:lnTo>
                      <a:pt x="2288" y="116"/>
                    </a:lnTo>
                    <a:lnTo>
                      <a:pt x="2287" y="115"/>
                    </a:lnTo>
                    <a:lnTo>
                      <a:pt x="2285" y="113"/>
                    </a:lnTo>
                    <a:lnTo>
                      <a:pt x="2283" y="113"/>
                    </a:lnTo>
                    <a:lnTo>
                      <a:pt x="2282" y="113"/>
                    </a:lnTo>
                    <a:lnTo>
                      <a:pt x="2281" y="113"/>
                    </a:lnTo>
                    <a:lnTo>
                      <a:pt x="2280" y="113"/>
                    </a:lnTo>
                    <a:lnTo>
                      <a:pt x="2277" y="115"/>
                    </a:lnTo>
                    <a:lnTo>
                      <a:pt x="2276" y="116"/>
                    </a:lnTo>
                    <a:lnTo>
                      <a:pt x="2275" y="118"/>
                    </a:lnTo>
                    <a:lnTo>
                      <a:pt x="2275" y="119"/>
                    </a:lnTo>
                    <a:lnTo>
                      <a:pt x="2275" y="119"/>
                    </a:lnTo>
                    <a:close/>
                    <a:moveTo>
                      <a:pt x="2313" y="119"/>
                    </a:moveTo>
                    <a:lnTo>
                      <a:pt x="2313" y="121"/>
                    </a:lnTo>
                    <a:lnTo>
                      <a:pt x="2315" y="124"/>
                    </a:lnTo>
                    <a:lnTo>
                      <a:pt x="2317" y="125"/>
                    </a:lnTo>
                    <a:lnTo>
                      <a:pt x="2320" y="125"/>
                    </a:lnTo>
                    <a:lnTo>
                      <a:pt x="2323" y="125"/>
                    </a:lnTo>
                    <a:lnTo>
                      <a:pt x="2325" y="124"/>
                    </a:lnTo>
                    <a:lnTo>
                      <a:pt x="2326" y="121"/>
                    </a:lnTo>
                    <a:lnTo>
                      <a:pt x="2327" y="119"/>
                    </a:lnTo>
                    <a:lnTo>
                      <a:pt x="2326" y="116"/>
                    </a:lnTo>
                    <a:lnTo>
                      <a:pt x="2325" y="115"/>
                    </a:lnTo>
                    <a:lnTo>
                      <a:pt x="2323" y="113"/>
                    </a:lnTo>
                    <a:lnTo>
                      <a:pt x="2322" y="113"/>
                    </a:lnTo>
                    <a:lnTo>
                      <a:pt x="2320" y="113"/>
                    </a:lnTo>
                    <a:lnTo>
                      <a:pt x="2318" y="113"/>
                    </a:lnTo>
                    <a:lnTo>
                      <a:pt x="2317" y="113"/>
                    </a:lnTo>
                    <a:lnTo>
                      <a:pt x="2315" y="115"/>
                    </a:lnTo>
                    <a:lnTo>
                      <a:pt x="2313" y="116"/>
                    </a:lnTo>
                    <a:lnTo>
                      <a:pt x="2313" y="119"/>
                    </a:lnTo>
                    <a:lnTo>
                      <a:pt x="2313" y="119"/>
                    </a:lnTo>
                    <a:close/>
                    <a:moveTo>
                      <a:pt x="2352" y="119"/>
                    </a:moveTo>
                    <a:lnTo>
                      <a:pt x="2352" y="121"/>
                    </a:lnTo>
                    <a:lnTo>
                      <a:pt x="2353" y="124"/>
                    </a:lnTo>
                    <a:lnTo>
                      <a:pt x="2356" y="125"/>
                    </a:lnTo>
                    <a:lnTo>
                      <a:pt x="2358" y="125"/>
                    </a:lnTo>
                    <a:lnTo>
                      <a:pt x="2362" y="125"/>
                    </a:lnTo>
                    <a:lnTo>
                      <a:pt x="2363" y="124"/>
                    </a:lnTo>
                    <a:lnTo>
                      <a:pt x="2365" y="121"/>
                    </a:lnTo>
                    <a:lnTo>
                      <a:pt x="2366" y="119"/>
                    </a:lnTo>
                    <a:lnTo>
                      <a:pt x="2365" y="116"/>
                    </a:lnTo>
                    <a:lnTo>
                      <a:pt x="2363" y="115"/>
                    </a:lnTo>
                    <a:lnTo>
                      <a:pt x="2362" y="113"/>
                    </a:lnTo>
                    <a:lnTo>
                      <a:pt x="2360" y="113"/>
                    </a:lnTo>
                    <a:lnTo>
                      <a:pt x="2358" y="113"/>
                    </a:lnTo>
                    <a:lnTo>
                      <a:pt x="2357" y="113"/>
                    </a:lnTo>
                    <a:lnTo>
                      <a:pt x="2356" y="113"/>
                    </a:lnTo>
                    <a:lnTo>
                      <a:pt x="2353" y="115"/>
                    </a:lnTo>
                    <a:lnTo>
                      <a:pt x="2352" y="116"/>
                    </a:lnTo>
                    <a:lnTo>
                      <a:pt x="2352" y="119"/>
                    </a:lnTo>
                    <a:lnTo>
                      <a:pt x="2352" y="119"/>
                    </a:lnTo>
                    <a:close/>
                    <a:moveTo>
                      <a:pt x="2460" y="135"/>
                    </a:moveTo>
                    <a:lnTo>
                      <a:pt x="2457" y="135"/>
                    </a:lnTo>
                    <a:lnTo>
                      <a:pt x="2455" y="137"/>
                    </a:lnTo>
                    <a:lnTo>
                      <a:pt x="2454" y="138"/>
                    </a:lnTo>
                    <a:lnTo>
                      <a:pt x="2451" y="139"/>
                    </a:lnTo>
                    <a:lnTo>
                      <a:pt x="2450" y="142"/>
                    </a:lnTo>
                    <a:lnTo>
                      <a:pt x="2449" y="144"/>
                    </a:lnTo>
                    <a:lnTo>
                      <a:pt x="2447" y="148"/>
                    </a:lnTo>
                    <a:lnTo>
                      <a:pt x="2447" y="150"/>
                    </a:lnTo>
                    <a:lnTo>
                      <a:pt x="2447" y="153"/>
                    </a:lnTo>
                    <a:lnTo>
                      <a:pt x="2449" y="156"/>
                    </a:lnTo>
                    <a:lnTo>
                      <a:pt x="2450" y="158"/>
                    </a:lnTo>
                    <a:lnTo>
                      <a:pt x="2451" y="161"/>
                    </a:lnTo>
                    <a:lnTo>
                      <a:pt x="2454" y="162"/>
                    </a:lnTo>
                    <a:lnTo>
                      <a:pt x="2455" y="163"/>
                    </a:lnTo>
                    <a:lnTo>
                      <a:pt x="2457" y="164"/>
                    </a:lnTo>
                    <a:lnTo>
                      <a:pt x="2460" y="164"/>
                    </a:lnTo>
                    <a:lnTo>
                      <a:pt x="2464" y="164"/>
                    </a:lnTo>
                    <a:lnTo>
                      <a:pt x="2466" y="163"/>
                    </a:lnTo>
                    <a:lnTo>
                      <a:pt x="2470" y="162"/>
                    </a:lnTo>
                    <a:lnTo>
                      <a:pt x="2471" y="161"/>
                    </a:lnTo>
                    <a:lnTo>
                      <a:pt x="2474" y="158"/>
                    </a:lnTo>
                    <a:lnTo>
                      <a:pt x="2475" y="156"/>
                    </a:lnTo>
                    <a:lnTo>
                      <a:pt x="2476" y="153"/>
                    </a:lnTo>
                    <a:lnTo>
                      <a:pt x="2476" y="150"/>
                    </a:lnTo>
                    <a:lnTo>
                      <a:pt x="2476" y="148"/>
                    </a:lnTo>
                    <a:lnTo>
                      <a:pt x="2475" y="144"/>
                    </a:lnTo>
                    <a:lnTo>
                      <a:pt x="2474" y="142"/>
                    </a:lnTo>
                    <a:lnTo>
                      <a:pt x="2471" y="139"/>
                    </a:lnTo>
                    <a:lnTo>
                      <a:pt x="2470" y="138"/>
                    </a:lnTo>
                    <a:lnTo>
                      <a:pt x="2466" y="137"/>
                    </a:lnTo>
                    <a:lnTo>
                      <a:pt x="2464" y="135"/>
                    </a:lnTo>
                    <a:lnTo>
                      <a:pt x="2460" y="135"/>
                    </a:lnTo>
                    <a:lnTo>
                      <a:pt x="246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9" name=""/>
              <p:cNvSpPr/>
              <p:nvPr/>
            </p:nvSpPr>
            <p:spPr>
              <a:xfrm>
                <a:off x="3471480" y="2857320"/>
                <a:ext cx="281880" cy="47160"/>
              </a:xfrm>
              <a:custGeom>
                <a:avLst/>
                <a:gdLst/>
                <a:ahLst/>
                <a:rect l="l" t="t" r="r" b="b"/>
                <a:pathLst>
                  <a:path w="396" h="62">
                    <a:moveTo>
                      <a:pt x="60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60" y="62"/>
                    </a:lnTo>
                    <a:lnTo>
                      <a:pt x="160" y="61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8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  <a:moveTo>
                      <a:pt x="293" y="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4" y="1"/>
                    </a:lnTo>
                    <a:lnTo>
                      <a:pt x="233" y="3"/>
                    </a:lnTo>
                    <a:lnTo>
                      <a:pt x="233" y="5"/>
                    </a:lnTo>
                    <a:lnTo>
                      <a:pt x="233" y="5"/>
                    </a:lnTo>
                    <a:lnTo>
                      <a:pt x="233" y="59"/>
                    </a:lnTo>
                    <a:lnTo>
                      <a:pt x="233" y="61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391" y="62"/>
                    </a:lnTo>
                    <a:lnTo>
                      <a:pt x="392" y="62"/>
                    </a:lnTo>
                    <a:lnTo>
                      <a:pt x="394" y="62"/>
                    </a:lnTo>
                    <a:lnTo>
                      <a:pt x="394" y="61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"/>
                    </a:lnTo>
                    <a:lnTo>
                      <a:pt x="394" y="3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0" name=""/>
              <p:cNvSpPr/>
              <p:nvPr/>
            </p:nvSpPr>
            <p:spPr>
              <a:xfrm>
                <a:off x="3477600" y="2867040"/>
                <a:ext cx="267120" cy="11520"/>
              </a:xfrm>
              <a:custGeom>
                <a:avLst/>
                <a:gdLst/>
                <a:ahLst/>
                <a:rect l="l" t="t" r="r" b="b"/>
                <a:pathLst>
                  <a:path w="376" h="17">
                    <a:moveTo>
                      <a:pt x="143" y="17"/>
                    </a:moveTo>
                    <a:lnTo>
                      <a:pt x="14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3" y="17"/>
                    </a:lnTo>
                    <a:close/>
                    <a:moveTo>
                      <a:pt x="376" y="17"/>
                    </a:moveTo>
                    <a:lnTo>
                      <a:pt x="376" y="0"/>
                    </a:lnTo>
                    <a:lnTo>
                      <a:pt x="236" y="0"/>
                    </a:lnTo>
                    <a:lnTo>
                      <a:pt x="236" y="17"/>
                    </a:lnTo>
                    <a:lnTo>
                      <a:pt x="376" y="17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477600" y="2867040"/>
                <a:ext cx="102240" cy="1152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2" name=""/>
              <p:cNvSpPr/>
              <p:nvPr/>
            </p:nvSpPr>
            <p:spPr>
              <a:xfrm>
                <a:off x="3645000" y="2867040"/>
                <a:ext cx="99720" cy="1152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3" name=""/>
              <p:cNvSpPr/>
              <p:nvPr/>
            </p:nvSpPr>
            <p:spPr>
              <a:xfrm>
                <a:off x="2143080" y="2680200"/>
                <a:ext cx="2121480" cy="262800"/>
              </a:xfrm>
              <a:custGeom>
                <a:avLst/>
                <a:gdLst/>
                <a:ahLst/>
                <a:rect l="l" t="t" r="r" b="b"/>
                <a:pathLst>
                  <a:path w="2983" h="337">
                    <a:moveTo>
                      <a:pt x="2974" y="259"/>
                    </a:moveTo>
                    <a:lnTo>
                      <a:pt x="2983" y="259"/>
                    </a:lnTo>
                    <a:lnTo>
                      <a:pt x="2983" y="221"/>
                    </a:lnTo>
                    <a:lnTo>
                      <a:pt x="2947" y="221"/>
                    </a:lnTo>
                    <a:lnTo>
                      <a:pt x="2947" y="195"/>
                    </a:lnTo>
                    <a:lnTo>
                      <a:pt x="2931" y="195"/>
                    </a:lnTo>
                    <a:lnTo>
                      <a:pt x="2931" y="184"/>
                    </a:lnTo>
                    <a:lnTo>
                      <a:pt x="2870" y="184"/>
                    </a:lnTo>
                    <a:lnTo>
                      <a:pt x="2870" y="195"/>
                    </a:lnTo>
                    <a:lnTo>
                      <a:pt x="2854" y="195"/>
                    </a:lnTo>
                    <a:lnTo>
                      <a:pt x="2854" y="221"/>
                    </a:lnTo>
                    <a:lnTo>
                      <a:pt x="2817" y="221"/>
                    </a:lnTo>
                    <a:lnTo>
                      <a:pt x="2817" y="259"/>
                    </a:lnTo>
                    <a:lnTo>
                      <a:pt x="2827" y="259"/>
                    </a:lnTo>
                    <a:lnTo>
                      <a:pt x="2827" y="284"/>
                    </a:lnTo>
                    <a:lnTo>
                      <a:pt x="2817" y="284"/>
                    </a:lnTo>
                    <a:lnTo>
                      <a:pt x="2817" y="323"/>
                    </a:lnTo>
                    <a:lnTo>
                      <a:pt x="2983" y="323"/>
                    </a:lnTo>
                    <a:lnTo>
                      <a:pt x="2983" y="284"/>
                    </a:lnTo>
                    <a:lnTo>
                      <a:pt x="2974" y="284"/>
                    </a:lnTo>
                    <a:lnTo>
                      <a:pt x="2974" y="259"/>
                    </a:lnTo>
                    <a:close/>
                    <a:moveTo>
                      <a:pt x="157" y="264"/>
                    </a:moveTo>
                    <a:lnTo>
                      <a:pt x="167" y="264"/>
                    </a:lnTo>
                    <a:lnTo>
                      <a:pt x="167" y="300"/>
                    </a:lnTo>
                    <a:lnTo>
                      <a:pt x="131" y="300"/>
                    </a:lnTo>
                    <a:lnTo>
                      <a:pt x="131" y="326"/>
                    </a:lnTo>
                    <a:lnTo>
                      <a:pt x="115" y="326"/>
                    </a:lnTo>
                    <a:lnTo>
                      <a:pt x="115" y="337"/>
                    </a:lnTo>
                    <a:lnTo>
                      <a:pt x="52" y="337"/>
                    </a:lnTo>
                    <a:lnTo>
                      <a:pt x="52" y="326"/>
                    </a:lnTo>
                    <a:lnTo>
                      <a:pt x="36" y="326"/>
                    </a:lnTo>
                    <a:lnTo>
                      <a:pt x="36" y="300"/>
                    </a:lnTo>
                    <a:lnTo>
                      <a:pt x="0" y="300"/>
                    </a:lnTo>
                    <a:lnTo>
                      <a:pt x="2" y="264"/>
                    </a:lnTo>
                    <a:lnTo>
                      <a:pt x="8" y="264"/>
                    </a:lnTo>
                    <a:lnTo>
                      <a:pt x="8" y="236"/>
                    </a:lnTo>
                    <a:lnTo>
                      <a:pt x="2" y="236"/>
                    </a:lnTo>
                    <a:lnTo>
                      <a:pt x="2" y="198"/>
                    </a:lnTo>
                    <a:lnTo>
                      <a:pt x="167" y="198"/>
                    </a:lnTo>
                    <a:lnTo>
                      <a:pt x="167" y="236"/>
                    </a:lnTo>
                    <a:lnTo>
                      <a:pt x="157" y="236"/>
                    </a:lnTo>
                    <a:lnTo>
                      <a:pt x="157" y="264"/>
                    </a:lnTo>
                    <a:close/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4" name=""/>
              <p:cNvSpPr/>
              <p:nvPr/>
            </p:nvSpPr>
            <p:spPr>
              <a:xfrm>
                <a:off x="4147200" y="2823840"/>
                <a:ext cx="117360" cy="106920"/>
              </a:xfrm>
              <a:custGeom>
                <a:avLst/>
                <a:gdLst/>
                <a:ahLst/>
                <a:rect l="l" t="t" r="r" b="b"/>
                <a:pathLst>
                  <a:path w="166" h="139">
                    <a:moveTo>
                      <a:pt x="157" y="75"/>
                    </a:moveTo>
                    <a:lnTo>
                      <a:pt x="166" y="75"/>
                    </a:lnTo>
                    <a:lnTo>
                      <a:pt x="166" y="37"/>
                    </a:lnTo>
                    <a:lnTo>
                      <a:pt x="130" y="37"/>
                    </a:lnTo>
                    <a:lnTo>
                      <a:pt x="130" y="11"/>
                    </a:lnTo>
                    <a:lnTo>
                      <a:pt x="114" y="11"/>
                    </a:lnTo>
                    <a:lnTo>
                      <a:pt x="114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37" y="1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100"/>
                    </a:lnTo>
                    <a:lnTo>
                      <a:pt x="0" y="100"/>
                    </a:lnTo>
                    <a:lnTo>
                      <a:pt x="0" y="139"/>
                    </a:lnTo>
                    <a:lnTo>
                      <a:pt x="166" y="139"/>
                    </a:lnTo>
                    <a:lnTo>
                      <a:pt x="166" y="100"/>
                    </a:lnTo>
                    <a:lnTo>
                      <a:pt x="157" y="100"/>
                    </a:lnTo>
                    <a:lnTo>
                      <a:pt x="157" y="75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5" name=""/>
              <p:cNvSpPr/>
              <p:nvPr/>
            </p:nvSpPr>
            <p:spPr>
              <a:xfrm>
                <a:off x="2143080" y="2833560"/>
                <a:ext cx="119880" cy="10944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66"/>
                    </a:moveTo>
                    <a:lnTo>
                      <a:pt x="167" y="66"/>
                    </a:lnTo>
                    <a:lnTo>
                      <a:pt x="167" y="102"/>
                    </a:lnTo>
                    <a:lnTo>
                      <a:pt x="131" y="102"/>
                    </a:lnTo>
                    <a:lnTo>
                      <a:pt x="131" y="128"/>
                    </a:lnTo>
                    <a:lnTo>
                      <a:pt x="115" y="128"/>
                    </a:lnTo>
                    <a:lnTo>
                      <a:pt x="115" y="139"/>
                    </a:lnTo>
                    <a:lnTo>
                      <a:pt x="52" y="139"/>
                    </a:lnTo>
                    <a:lnTo>
                      <a:pt x="52" y="128"/>
                    </a:lnTo>
                    <a:lnTo>
                      <a:pt x="36" y="128"/>
                    </a:lnTo>
                    <a:lnTo>
                      <a:pt x="36" y="102"/>
                    </a:lnTo>
                    <a:lnTo>
                      <a:pt x="0" y="102"/>
                    </a:lnTo>
                    <a:lnTo>
                      <a:pt x="2" y="66"/>
                    </a:lnTo>
                    <a:lnTo>
                      <a:pt x="8" y="66"/>
                    </a:lnTo>
                    <a:lnTo>
                      <a:pt x="8" y="38"/>
                    </a:lnTo>
                    <a:lnTo>
                      <a:pt x="2" y="38"/>
                    </a:lnTo>
                    <a:lnTo>
                      <a:pt x="2" y="0"/>
                    </a:lnTo>
                    <a:lnTo>
                      <a:pt x="167" y="0"/>
                    </a:lnTo>
                    <a:lnTo>
                      <a:pt x="167" y="38"/>
                    </a:lnTo>
                    <a:lnTo>
                      <a:pt x="157" y="38"/>
                    </a:lnTo>
                    <a:lnTo>
                      <a:pt x="157" y="66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6" name=""/>
              <p:cNvSpPr/>
              <p:nvPr/>
            </p:nvSpPr>
            <p:spPr>
              <a:xfrm>
                <a:off x="2143080" y="2680200"/>
                <a:ext cx="119880" cy="10800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7" name=""/>
              <p:cNvSpPr/>
              <p:nvPr/>
            </p:nvSpPr>
            <p:spPr>
              <a:xfrm>
                <a:off x="2143080" y="2694240"/>
                <a:ext cx="2124000" cy="231840"/>
              </a:xfrm>
              <a:custGeom>
                <a:avLst/>
                <a:gdLst/>
                <a:ahLst/>
                <a:rect l="l" t="t" r="r" b="b"/>
                <a:pathLst>
                  <a:path w="2985" h="301">
                    <a:moveTo>
                      <a:pt x="36" y="301"/>
                    </a:moveTo>
                    <a:lnTo>
                      <a:pt x="0" y="301"/>
                    </a:lnTo>
                    <a:lnTo>
                      <a:pt x="0" y="290"/>
                    </a:lnTo>
                    <a:lnTo>
                      <a:pt x="36" y="290"/>
                    </a:lnTo>
                    <a:lnTo>
                      <a:pt x="36" y="301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67" y="301"/>
                    </a:moveTo>
                    <a:lnTo>
                      <a:pt x="134" y="301"/>
                    </a:lnTo>
                    <a:lnTo>
                      <a:pt x="134" y="290"/>
                    </a:lnTo>
                    <a:lnTo>
                      <a:pt x="167" y="290"/>
                    </a:lnTo>
                    <a:lnTo>
                      <a:pt x="167" y="301"/>
                    </a:lnTo>
                    <a:close/>
                    <a:moveTo>
                      <a:pt x="167" y="0"/>
                    </a:moveTo>
                    <a:lnTo>
                      <a:pt x="134" y="0"/>
                    </a:lnTo>
                    <a:lnTo>
                      <a:pt x="134" y="12"/>
                    </a:lnTo>
                    <a:lnTo>
                      <a:pt x="167" y="12"/>
                    </a:lnTo>
                    <a:lnTo>
                      <a:pt x="167" y="0"/>
                    </a:lnTo>
                    <a:close/>
                    <a:moveTo>
                      <a:pt x="2985" y="185"/>
                    </a:moveTo>
                    <a:lnTo>
                      <a:pt x="2949" y="185"/>
                    </a:lnTo>
                    <a:lnTo>
                      <a:pt x="2949" y="199"/>
                    </a:lnTo>
                    <a:lnTo>
                      <a:pt x="2985" y="199"/>
                    </a:lnTo>
                    <a:lnTo>
                      <a:pt x="2985" y="185"/>
                    </a:lnTo>
                    <a:close/>
                  </a:path>
                </a:pathLst>
              </a:custGeom>
              <a:solidFill>
                <a:srgbClr val="829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8" name=""/>
              <p:cNvSpPr/>
              <p:nvPr/>
            </p:nvSpPr>
            <p:spPr>
              <a:xfrm>
                <a:off x="2143080" y="2919240"/>
                <a:ext cx="26280" cy="68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9" name=""/>
              <p:cNvSpPr/>
              <p:nvPr/>
            </p:nvSpPr>
            <p:spPr>
              <a:xfrm>
                <a:off x="2143080" y="2694240"/>
                <a:ext cx="26280" cy="93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0" name=""/>
              <p:cNvSpPr/>
              <p:nvPr/>
            </p:nvSpPr>
            <p:spPr>
              <a:xfrm>
                <a:off x="2238120" y="2919240"/>
                <a:ext cx="25200" cy="68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1" name=""/>
              <p:cNvSpPr/>
              <p:nvPr/>
            </p:nvSpPr>
            <p:spPr>
              <a:xfrm>
                <a:off x="2238120" y="2694240"/>
                <a:ext cx="25200" cy="93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2" name=""/>
              <p:cNvSpPr/>
              <p:nvPr/>
            </p:nvSpPr>
            <p:spPr>
              <a:xfrm>
                <a:off x="4240800" y="2837160"/>
                <a:ext cx="26280" cy="104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3" name=""/>
              <p:cNvSpPr/>
              <p:nvPr/>
            </p:nvSpPr>
            <p:spPr>
              <a:xfrm>
                <a:off x="1657080" y="2195640"/>
                <a:ext cx="2962080" cy="414000"/>
              </a:xfrm>
              <a:custGeom>
                <a:avLst/>
                <a:gdLst/>
                <a:ahLst/>
                <a:rect l="l" t="t" r="r" b="b"/>
                <a:pathLst>
                  <a:path w="4168" h="534">
                    <a:moveTo>
                      <a:pt x="4168" y="499"/>
                    </a:moveTo>
                    <a:lnTo>
                      <a:pt x="4168" y="495"/>
                    </a:lnTo>
                    <a:lnTo>
                      <a:pt x="4168" y="492"/>
                    </a:lnTo>
                    <a:lnTo>
                      <a:pt x="4167" y="488"/>
                    </a:lnTo>
                    <a:lnTo>
                      <a:pt x="4165" y="485"/>
                    </a:lnTo>
                    <a:lnTo>
                      <a:pt x="4163" y="478"/>
                    </a:lnTo>
                    <a:lnTo>
                      <a:pt x="4158" y="473"/>
                    </a:lnTo>
                    <a:lnTo>
                      <a:pt x="4153" y="468"/>
                    </a:lnTo>
                    <a:lnTo>
                      <a:pt x="4146" y="466"/>
                    </a:lnTo>
                    <a:lnTo>
                      <a:pt x="4143" y="464"/>
                    </a:lnTo>
                    <a:lnTo>
                      <a:pt x="4139" y="463"/>
                    </a:lnTo>
                    <a:lnTo>
                      <a:pt x="4136" y="463"/>
                    </a:lnTo>
                    <a:lnTo>
                      <a:pt x="4133" y="463"/>
                    </a:lnTo>
                    <a:lnTo>
                      <a:pt x="4129" y="463"/>
                    </a:lnTo>
                    <a:lnTo>
                      <a:pt x="4125" y="463"/>
                    </a:lnTo>
                    <a:lnTo>
                      <a:pt x="4123" y="464"/>
                    </a:lnTo>
                    <a:lnTo>
                      <a:pt x="4119" y="466"/>
                    </a:lnTo>
                    <a:lnTo>
                      <a:pt x="4114" y="468"/>
                    </a:lnTo>
                    <a:lnTo>
                      <a:pt x="4109" y="473"/>
                    </a:lnTo>
                    <a:lnTo>
                      <a:pt x="4104" y="478"/>
                    </a:lnTo>
                    <a:lnTo>
                      <a:pt x="4101" y="485"/>
                    </a:lnTo>
                    <a:lnTo>
                      <a:pt x="4100" y="488"/>
                    </a:lnTo>
                    <a:lnTo>
                      <a:pt x="4099" y="492"/>
                    </a:lnTo>
                    <a:lnTo>
                      <a:pt x="4099" y="495"/>
                    </a:lnTo>
                    <a:lnTo>
                      <a:pt x="4098" y="499"/>
                    </a:lnTo>
                    <a:lnTo>
                      <a:pt x="4099" y="502"/>
                    </a:lnTo>
                    <a:lnTo>
                      <a:pt x="4099" y="506"/>
                    </a:lnTo>
                    <a:lnTo>
                      <a:pt x="4100" y="509"/>
                    </a:lnTo>
                    <a:lnTo>
                      <a:pt x="4101" y="512"/>
                    </a:lnTo>
                    <a:lnTo>
                      <a:pt x="4104" y="517"/>
                    </a:lnTo>
                    <a:lnTo>
                      <a:pt x="4109" y="523"/>
                    </a:lnTo>
                    <a:lnTo>
                      <a:pt x="4114" y="528"/>
                    </a:lnTo>
                    <a:lnTo>
                      <a:pt x="4119" y="530"/>
                    </a:lnTo>
                    <a:lnTo>
                      <a:pt x="4123" y="531"/>
                    </a:lnTo>
                    <a:lnTo>
                      <a:pt x="4125" y="533"/>
                    </a:lnTo>
                    <a:lnTo>
                      <a:pt x="4129" y="533"/>
                    </a:lnTo>
                    <a:lnTo>
                      <a:pt x="4133" y="534"/>
                    </a:lnTo>
                    <a:lnTo>
                      <a:pt x="4136" y="533"/>
                    </a:lnTo>
                    <a:lnTo>
                      <a:pt x="4139" y="533"/>
                    </a:lnTo>
                    <a:lnTo>
                      <a:pt x="4143" y="531"/>
                    </a:lnTo>
                    <a:lnTo>
                      <a:pt x="4146" y="530"/>
                    </a:lnTo>
                    <a:lnTo>
                      <a:pt x="4153" y="528"/>
                    </a:lnTo>
                    <a:lnTo>
                      <a:pt x="4158" y="523"/>
                    </a:lnTo>
                    <a:lnTo>
                      <a:pt x="4163" y="517"/>
                    </a:lnTo>
                    <a:lnTo>
                      <a:pt x="4165" y="512"/>
                    </a:lnTo>
                    <a:lnTo>
                      <a:pt x="4167" y="509"/>
                    </a:lnTo>
                    <a:lnTo>
                      <a:pt x="4168" y="506"/>
                    </a:lnTo>
                    <a:lnTo>
                      <a:pt x="4168" y="502"/>
                    </a:lnTo>
                    <a:lnTo>
                      <a:pt x="4168" y="499"/>
                    </a:lnTo>
                    <a:lnTo>
                      <a:pt x="4168" y="499"/>
                    </a:lnTo>
                    <a:close/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4" name=""/>
              <p:cNvSpPr/>
              <p:nvPr/>
            </p:nvSpPr>
            <p:spPr>
              <a:xfrm>
                <a:off x="4569480" y="2556360"/>
                <a:ext cx="49680" cy="532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6"/>
                    </a:moveTo>
                    <a:lnTo>
                      <a:pt x="70" y="32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7" y="22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3" y="49"/>
                    </a:lnTo>
                    <a:lnTo>
                      <a:pt x="6" y="54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1" y="67"/>
                    </a:lnTo>
                    <a:lnTo>
                      <a:pt x="25" y="68"/>
                    </a:lnTo>
                    <a:lnTo>
                      <a:pt x="27" y="70"/>
                    </a:lnTo>
                    <a:lnTo>
                      <a:pt x="31" y="70"/>
                    </a:lnTo>
                    <a:lnTo>
                      <a:pt x="35" y="71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5" y="68"/>
                    </a:lnTo>
                    <a:lnTo>
                      <a:pt x="48" y="67"/>
                    </a:lnTo>
                    <a:lnTo>
                      <a:pt x="55" y="65"/>
                    </a:lnTo>
                    <a:lnTo>
                      <a:pt x="60" y="60"/>
                    </a:lnTo>
                    <a:lnTo>
                      <a:pt x="65" y="54"/>
                    </a:lnTo>
                    <a:lnTo>
                      <a:pt x="67" y="49"/>
                    </a:lnTo>
                    <a:lnTo>
                      <a:pt x="69" y="46"/>
                    </a:lnTo>
                    <a:lnTo>
                      <a:pt x="70" y="43"/>
                    </a:lnTo>
                    <a:lnTo>
                      <a:pt x="70" y="39"/>
                    </a:lnTo>
                    <a:lnTo>
                      <a:pt x="70" y="36"/>
                    </a:lnTo>
                    <a:lnTo>
                      <a:pt x="70" y="3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5" name=""/>
              <p:cNvSpPr/>
              <p:nvPr/>
            </p:nvSpPr>
            <p:spPr>
              <a:xfrm>
                <a:off x="1657080" y="2195640"/>
                <a:ext cx="47160" cy="5220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6" name=""/>
              <p:cNvSpPr/>
              <p:nvPr/>
            </p:nvSpPr>
            <p:spPr>
              <a:xfrm>
                <a:off x="3949920" y="2225160"/>
                <a:ext cx="49680" cy="504720"/>
              </a:xfrm>
              <a:custGeom>
                <a:avLst/>
                <a:gdLst/>
                <a:ahLst/>
                <a:rect l="l" t="t" r="r" b="b"/>
                <a:pathLst>
                  <a:path w="70" h="649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78"/>
                    </a:moveTo>
                    <a:lnTo>
                      <a:pt x="38" y="578"/>
                    </a:lnTo>
                    <a:lnTo>
                      <a:pt x="42" y="579"/>
                    </a:lnTo>
                    <a:lnTo>
                      <a:pt x="46" y="581"/>
                    </a:lnTo>
                    <a:lnTo>
                      <a:pt x="50" y="582"/>
                    </a:lnTo>
                    <a:lnTo>
                      <a:pt x="52" y="583"/>
                    </a:lnTo>
                    <a:lnTo>
                      <a:pt x="56" y="586"/>
                    </a:lnTo>
                    <a:lnTo>
                      <a:pt x="58" y="587"/>
                    </a:lnTo>
                    <a:lnTo>
                      <a:pt x="62" y="590"/>
                    </a:lnTo>
                    <a:lnTo>
                      <a:pt x="65" y="593"/>
                    </a:lnTo>
                    <a:lnTo>
                      <a:pt x="66" y="597"/>
                    </a:lnTo>
                    <a:lnTo>
                      <a:pt x="67" y="601"/>
                    </a:lnTo>
                    <a:lnTo>
                      <a:pt x="68" y="603"/>
                    </a:lnTo>
                    <a:lnTo>
                      <a:pt x="70" y="607"/>
                    </a:lnTo>
                    <a:lnTo>
                      <a:pt x="70" y="611"/>
                    </a:lnTo>
                    <a:lnTo>
                      <a:pt x="70" y="615"/>
                    </a:lnTo>
                    <a:lnTo>
                      <a:pt x="68" y="620"/>
                    </a:lnTo>
                    <a:lnTo>
                      <a:pt x="68" y="622"/>
                    </a:lnTo>
                    <a:lnTo>
                      <a:pt x="67" y="625"/>
                    </a:lnTo>
                    <a:lnTo>
                      <a:pt x="67" y="627"/>
                    </a:lnTo>
                    <a:lnTo>
                      <a:pt x="66" y="631"/>
                    </a:lnTo>
                    <a:lnTo>
                      <a:pt x="63" y="634"/>
                    </a:lnTo>
                    <a:lnTo>
                      <a:pt x="62" y="636"/>
                    </a:lnTo>
                    <a:lnTo>
                      <a:pt x="60" y="639"/>
                    </a:lnTo>
                    <a:lnTo>
                      <a:pt x="57" y="640"/>
                    </a:lnTo>
                    <a:lnTo>
                      <a:pt x="52" y="644"/>
                    </a:lnTo>
                    <a:lnTo>
                      <a:pt x="47" y="646"/>
                    </a:lnTo>
                    <a:lnTo>
                      <a:pt x="45" y="648"/>
                    </a:lnTo>
                    <a:lnTo>
                      <a:pt x="41" y="649"/>
                    </a:lnTo>
                    <a:lnTo>
                      <a:pt x="38" y="649"/>
                    </a:lnTo>
                    <a:lnTo>
                      <a:pt x="35" y="649"/>
                    </a:lnTo>
                    <a:lnTo>
                      <a:pt x="31" y="649"/>
                    </a:lnTo>
                    <a:lnTo>
                      <a:pt x="27" y="649"/>
                    </a:lnTo>
                    <a:lnTo>
                      <a:pt x="23" y="648"/>
                    </a:lnTo>
                    <a:lnTo>
                      <a:pt x="20" y="646"/>
                    </a:lnTo>
                    <a:lnTo>
                      <a:pt x="16" y="644"/>
                    </a:lnTo>
                    <a:lnTo>
                      <a:pt x="13" y="641"/>
                    </a:lnTo>
                    <a:lnTo>
                      <a:pt x="10" y="639"/>
                    </a:lnTo>
                    <a:lnTo>
                      <a:pt x="7" y="635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2" y="626"/>
                    </a:lnTo>
                    <a:lnTo>
                      <a:pt x="1" y="622"/>
                    </a:lnTo>
                    <a:lnTo>
                      <a:pt x="0" y="619"/>
                    </a:lnTo>
                    <a:lnTo>
                      <a:pt x="0" y="615"/>
                    </a:lnTo>
                    <a:lnTo>
                      <a:pt x="0" y="612"/>
                    </a:lnTo>
                    <a:lnTo>
                      <a:pt x="1" y="609"/>
                    </a:lnTo>
                    <a:lnTo>
                      <a:pt x="1" y="605"/>
                    </a:lnTo>
                    <a:lnTo>
                      <a:pt x="2" y="602"/>
                    </a:lnTo>
                    <a:lnTo>
                      <a:pt x="2" y="598"/>
                    </a:lnTo>
                    <a:lnTo>
                      <a:pt x="3" y="596"/>
                    </a:lnTo>
                    <a:lnTo>
                      <a:pt x="6" y="593"/>
                    </a:lnTo>
                    <a:lnTo>
                      <a:pt x="7" y="592"/>
                    </a:lnTo>
                    <a:lnTo>
                      <a:pt x="12" y="588"/>
                    </a:lnTo>
                    <a:lnTo>
                      <a:pt x="15" y="586"/>
                    </a:lnTo>
                    <a:lnTo>
                      <a:pt x="17" y="583"/>
                    </a:lnTo>
                    <a:lnTo>
                      <a:pt x="20" y="582"/>
                    </a:lnTo>
                    <a:lnTo>
                      <a:pt x="22" y="581"/>
                    </a:lnTo>
                    <a:lnTo>
                      <a:pt x="26" y="579"/>
                    </a:lnTo>
                    <a:lnTo>
                      <a:pt x="28" y="579"/>
                    </a:lnTo>
                    <a:lnTo>
                      <a:pt x="35" y="578"/>
                    </a:lnTo>
                    <a:lnTo>
                      <a:pt x="35" y="57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7" name=""/>
              <p:cNvSpPr/>
              <p:nvPr/>
            </p:nvSpPr>
            <p:spPr>
              <a:xfrm>
                <a:off x="3949920" y="2225160"/>
                <a:ext cx="49680" cy="5580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8" name=""/>
              <p:cNvSpPr/>
              <p:nvPr/>
            </p:nvSpPr>
            <p:spPr>
              <a:xfrm>
                <a:off x="3949920" y="2675160"/>
                <a:ext cx="49680" cy="5472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1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0" y="33"/>
                    </a:lnTo>
                    <a:lnTo>
                      <a:pt x="70" y="37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60" y="61"/>
                    </a:lnTo>
                    <a:lnTo>
                      <a:pt x="57" y="62"/>
                    </a:lnTo>
                    <a:lnTo>
                      <a:pt x="52" y="66"/>
                    </a:lnTo>
                    <a:lnTo>
                      <a:pt x="47" y="68"/>
                    </a:lnTo>
                    <a:lnTo>
                      <a:pt x="45" y="70"/>
                    </a:lnTo>
                    <a:lnTo>
                      <a:pt x="41" y="71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71"/>
                    </a:lnTo>
                    <a:lnTo>
                      <a:pt x="23" y="70"/>
                    </a:lnTo>
                    <a:lnTo>
                      <a:pt x="20" y="68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10" y="61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9" name=""/>
              <p:cNvSpPr/>
              <p:nvPr/>
            </p:nvSpPr>
            <p:spPr>
              <a:xfrm>
                <a:off x="3963600" y="2242080"/>
                <a:ext cx="21240" cy="472320"/>
              </a:xfrm>
              <a:custGeom>
                <a:avLst/>
                <a:gdLst/>
                <a:ahLst/>
                <a:rect l="l" t="t" r="r" b="b"/>
                <a:pathLst>
                  <a:path w="30" h="608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5"/>
                    </a:moveTo>
                    <a:lnTo>
                      <a:pt x="8" y="603"/>
                    </a:lnTo>
                    <a:lnTo>
                      <a:pt x="11" y="601"/>
                    </a:lnTo>
                    <a:lnTo>
                      <a:pt x="15" y="601"/>
                    </a:lnTo>
                    <a:lnTo>
                      <a:pt x="18" y="601"/>
                    </a:lnTo>
                    <a:lnTo>
                      <a:pt x="21" y="603"/>
                    </a:lnTo>
                    <a:lnTo>
                      <a:pt x="21" y="603"/>
                    </a:lnTo>
                    <a:lnTo>
                      <a:pt x="21" y="605"/>
                    </a:lnTo>
                    <a:lnTo>
                      <a:pt x="23" y="606"/>
                    </a:lnTo>
                    <a:lnTo>
                      <a:pt x="25" y="608"/>
                    </a:lnTo>
                    <a:lnTo>
                      <a:pt x="27" y="606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30" y="604"/>
                    </a:lnTo>
                    <a:lnTo>
                      <a:pt x="30" y="603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6" y="599"/>
                    </a:lnTo>
                    <a:lnTo>
                      <a:pt x="25" y="595"/>
                    </a:lnTo>
                    <a:lnTo>
                      <a:pt x="25" y="593"/>
                    </a:lnTo>
                    <a:lnTo>
                      <a:pt x="25" y="589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8" y="585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8" y="581"/>
                    </a:lnTo>
                    <a:lnTo>
                      <a:pt x="28" y="580"/>
                    </a:lnTo>
                    <a:lnTo>
                      <a:pt x="28" y="580"/>
                    </a:lnTo>
                    <a:lnTo>
                      <a:pt x="28" y="579"/>
                    </a:lnTo>
                    <a:lnTo>
                      <a:pt x="27" y="579"/>
                    </a:lnTo>
                    <a:lnTo>
                      <a:pt x="25" y="579"/>
                    </a:lnTo>
                    <a:lnTo>
                      <a:pt x="25" y="579"/>
                    </a:lnTo>
                    <a:lnTo>
                      <a:pt x="23" y="579"/>
                    </a:lnTo>
                    <a:lnTo>
                      <a:pt x="23" y="579"/>
                    </a:lnTo>
                    <a:lnTo>
                      <a:pt x="21" y="580"/>
                    </a:lnTo>
                    <a:lnTo>
                      <a:pt x="20" y="582"/>
                    </a:lnTo>
                    <a:lnTo>
                      <a:pt x="18" y="582"/>
                    </a:lnTo>
                    <a:lnTo>
                      <a:pt x="16" y="584"/>
                    </a:lnTo>
                    <a:lnTo>
                      <a:pt x="15" y="584"/>
                    </a:lnTo>
                    <a:lnTo>
                      <a:pt x="13" y="584"/>
                    </a:lnTo>
                    <a:lnTo>
                      <a:pt x="11" y="582"/>
                    </a:lnTo>
                    <a:lnTo>
                      <a:pt x="10" y="582"/>
                    </a:lnTo>
                    <a:lnTo>
                      <a:pt x="8" y="580"/>
                    </a:lnTo>
                    <a:lnTo>
                      <a:pt x="8" y="580"/>
                    </a:lnTo>
                    <a:lnTo>
                      <a:pt x="6" y="579"/>
                    </a:lnTo>
                    <a:lnTo>
                      <a:pt x="5" y="579"/>
                    </a:lnTo>
                    <a:lnTo>
                      <a:pt x="5" y="579"/>
                    </a:lnTo>
                    <a:lnTo>
                      <a:pt x="3" y="579"/>
                    </a:lnTo>
                    <a:lnTo>
                      <a:pt x="1" y="579"/>
                    </a:lnTo>
                    <a:lnTo>
                      <a:pt x="1" y="579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4"/>
                    </a:lnTo>
                    <a:lnTo>
                      <a:pt x="1" y="585"/>
                    </a:lnTo>
                    <a:lnTo>
                      <a:pt x="1" y="585"/>
                    </a:lnTo>
                    <a:lnTo>
                      <a:pt x="3" y="588"/>
                    </a:lnTo>
                    <a:lnTo>
                      <a:pt x="5" y="589"/>
                    </a:lnTo>
                    <a:lnTo>
                      <a:pt x="5" y="593"/>
                    </a:lnTo>
                    <a:lnTo>
                      <a:pt x="5" y="595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1" y="601"/>
                    </a:lnTo>
                    <a:lnTo>
                      <a:pt x="0" y="601"/>
                    </a:lnTo>
                    <a:lnTo>
                      <a:pt x="0" y="603"/>
                    </a:lnTo>
                    <a:lnTo>
                      <a:pt x="0" y="604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3" y="606"/>
                    </a:lnTo>
                    <a:lnTo>
                      <a:pt x="5" y="608"/>
                    </a:lnTo>
                    <a:lnTo>
                      <a:pt x="5" y="606"/>
                    </a:lnTo>
                    <a:lnTo>
                      <a:pt x="6" y="605"/>
                    </a:lnTo>
                    <a:lnTo>
                      <a:pt x="6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0" name=""/>
              <p:cNvSpPr/>
              <p:nvPr/>
            </p:nvSpPr>
            <p:spPr>
              <a:xfrm>
                <a:off x="3963600" y="2242080"/>
                <a:ext cx="21240" cy="234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1" name=""/>
              <p:cNvSpPr/>
              <p:nvPr/>
            </p:nvSpPr>
            <p:spPr>
              <a:xfrm>
                <a:off x="3963600" y="2690640"/>
                <a:ext cx="21240" cy="2340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6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2" name=""/>
              <p:cNvSpPr/>
              <p:nvPr/>
            </p:nvSpPr>
            <p:spPr>
              <a:xfrm>
                <a:off x="4005000" y="2201400"/>
                <a:ext cx="25920" cy="565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3" name=""/>
              <p:cNvSpPr/>
              <p:nvPr/>
            </p:nvSpPr>
            <p:spPr>
              <a:xfrm>
                <a:off x="4005000" y="2171880"/>
                <a:ext cx="25920" cy="59508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4" name=""/>
              <p:cNvSpPr/>
              <p:nvPr/>
            </p:nvSpPr>
            <p:spPr>
              <a:xfrm>
                <a:off x="4030920" y="2171880"/>
                <a:ext cx="25200" cy="595080"/>
              </a:xfrm>
              <a:prstGeom prst="rect">
                <a:avLst/>
              </a:pr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5" name=""/>
              <p:cNvSpPr/>
              <p:nvPr/>
            </p:nvSpPr>
            <p:spPr>
              <a:xfrm>
                <a:off x="4056120" y="2171880"/>
                <a:ext cx="27360" cy="59508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6" name=""/>
              <p:cNvSpPr/>
              <p:nvPr/>
            </p:nvSpPr>
            <p:spPr>
              <a:xfrm>
                <a:off x="4006080" y="2197800"/>
                <a:ext cx="43560" cy="562680"/>
              </a:xfrm>
              <a:custGeom>
                <a:avLst/>
                <a:gdLst/>
                <a:ahLst/>
                <a:rect l="l" t="t" r="r" b="b"/>
                <a:pathLst>
                  <a:path w="59" h="722">
                    <a:moveTo>
                      <a:pt x="59" y="717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17"/>
                    </a:lnTo>
                    <a:lnTo>
                      <a:pt x="0" y="720"/>
                    </a:lnTo>
                    <a:lnTo>
                      <a:pt x="2" y="721"/>
                    </a:lnTo>
                    <a:lnTo>
                      <a:pt x="3" y="722"/>
                    </a:lnTo>
                    <a:lnTo>
                      <a:pt x="7" y="722"/>
                    </a:lnTo>
                    <a:lnTo>
                      <a:pt x="7" y="722"/>
                    </a:lnTo>
                    <a:lnTo>
                      <a:pt x="52" y="722"/>
                    </a:lnTo>
                    <a:lnTo>
                      <a:pt x="54" y="722"/>
                    </a:lnTo>
                    <a:lnTo>
                      <a:pt x="56" y="721"/>
                    </a:lnTo>
                    <a:lnTo>
                      <a:pt x="59" y="720"/>
                    </a:lnTo>
                    <a:lnTo>
                      <a:pt x="59" y="718"/>
                    </a:lnTo>
                    <a:lnTo>
                      <a:pt x="59" y="7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7" name=""/>
              <p:cNvSpPr/>
              <p:nvPr/>
            </p:nvSpPr>
            <p:spPr>
              <a:xfrm>
                <a:off x="2790360" y="2196720"/>
                <a:ext cx="840600" cy="5605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8" name=""/>
              <p:cNvSpPr/>
              <p:nvPr/>
            </p:nvSpPr>
            <p:spPr>
              <a:xfrm>
                <a:off x="2790360" y="2196720"/>
                <a:ext cx="840600" cy="56052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9" name=""/>
              <p:cNvSpPr/>
              <p:nvPr/>
            </p:nvSpPr>
            <p:spPr>
              <a:xfrm>
                <a:off x="3057840" y="2210760"/>
                <a:ext cx="69840" cy="536760"/>
              </a:xfrm>
              <a:custGeom>
                <a:avLst/>
                <a:gdLst/>
                <a:ahLst/>
                <a:rect l="l" t="t" r="r" b="b"/>
                <a:pathLst>
                  <a:path w="98" h="692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  <a:moveTo>
                      <a:pt x="98" y="581"/>
                    </a:moveTo>
                    <a:lnTo>
                      <a:pt x="18" y="581"/>
                    </a:lnTo>
                    <a:lnTo>
                      <a:pt x="14" y="581"/>
                    </a:lnTo>
                    <a:lnTo>
                      <a:pt x="10" y="582"/>
                    </a:lnTo>
                    <a:lnTo>
                      <a:pt x="7" y="583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2" y="592"/>
                    </a:lnTo>
                    <a:lnTo>
                      <a:pt x="0" y="595"/>
                    </a:lnTo>
                    <a:lnTo>
                      <a:pt x="0" y="598"/>
                    </a:lnTo>
                    <a:lnTo>
                      <a:pt x="0" y="598"/>
                    </a:lnTo>
                    <a:lnTo>
                      <a:pt x="0" y="672"/>
                    </a:lnTo>
                    <a:lnTo>
                      <a:pt x="0" y="675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4" y="686"/>
                    </a:lnTo>
                    <a:lnTo>
                      <a:pt x="7" y="688"/>
                    </a:lnTo>
                    <a:lnTo>
                      <a:pt x="10" y="689"/>
                    </a:lnTo>
                    <a:lnTo>
                      <a:pt x="14" y="691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98" y="692"/>
                    </a:lnTo>
                    <a:lnTo>
                      <a:pt x="98" y="581"/>
                    </a:lnTo>
                    <a:lnTo>
                      <a:pt x="98" y="58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0" name=""/>
              <p:cNvSpPr/>
              <p:nvPr/>
            </p:nvSpPr>
            <p:spPr>
              <a:xfrm>
                <a:off x="3057840" y="2210760"/>
                <a:ext cx="69840" cy="8676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7261" name=""/>
            <p:cNvGrpSpPr/>
            <p:nvPr/>
          </p:nvGrpSpPr>
          <p:grpSpPr>
            <a:xfrm>
              <a:off x="2822760" y="2225520"/>
              <a:ext cx="835560" cy="522000"/>
              <a:chOff x="2822760" y="2225520"/>
              <a:chExt cx="835560" cy="522000"/>
            </a:xfrm>
          </p:grpSpPr>
          <p:sp>
            <p:nvSpPr>
              <p:cNvPr id="7262" name=""/>
              <p:cNvSpPr/>
              <p:nvPr/>
            </p:nvSpPr>
            <p:spPr>
              <a:xfrm>
                <a:off x="3057480" y="2660760"/>
                <a:ext cx="69480" cy="8676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8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2822760" y="2236320"/>
                <a:ext cx="778320" cy="506880"/>
              </a:xfrm>
              <a:custGeom>
                <a:avLst/>
                <a:gdLst/>
                <a:ahLst/>
                <a:rect l="l" t="t" r="r" b="b"/>
                <a:pathLst>
                  <a:path w="1092" h="654">
                    <a:moveTo>
                      <a:pt x="47" y="607"/>
                    </a:moveTo>
                    <a:lnTo>
                      <a:pt x="67" y="596"/>
                    </a:lnTo>
                    <a:lnTo>
                      <a:pt x="67" y="572"/>
                    </a:lnTo>
                    <a:lnTo>
                      <a:pt x="47" y="560"/>
                    </a:lnTo>
                    <a:lnTo>
                      <a:pt x="26" y="572"/>
                    </a:lnTo>
                    <a:lnTo>
                      <a:pt x="26" y="596"/>
                    </a:lnTo>
                    <a:lnTo>
                      <a:pt x="47" y="607"/>
                    </a:lnTo>
                    <a:close/>
                    <a:moveTo>
                      <a:pt x="100" y="607"/>
                    </a:moveTo>
                    <a:lnTo>
                      <a:pt x="120" y="596"/>
                    </a:lnTo>
                    <a:lnTo>
                      <a:pt x="120" y="572"/>
                    </a:lnTo>
                    <a:lnTo>
                      <a:pt x="100" y="560"/>
                    </a:lnTo>
                    <a:lnTo>
                      <a:pt x="81" y="572"/>
                    </a:lnTo>
                    <a:lnTo>
                      <a:pt x="81" y="596"/>
                    </a:lnTo>
                    <a:lnTo>
                      <a:pt x="100" y="607"/>
                    </a:lnTo>
                    <a:close/>
                    <a:moveTo>
                      <a:pt x="155" y="607"/>
                    </a:moveTo>
                    <a:lnTo>
                      <a:pt x="175" y="596"/>
                    </a:lnTo>
                    <a:lnTo>
                      <a:pt x="175" y="572"/>
                    </a:lnTo>
                    <a:lnTo>
                      <a:pt x="155" y="560"/>
                    </a:lnTo>
                    <a:lnTo>
                      <a:pt x="135" y="572"/>
                    </a:lnTo>
                    <a:lnTo>
                      <a:pt x="135" y="596"/>
                    </a:lnTo>
                    <a:lnTo>
                      <a:pt x="155" y="607"/>
                    </a:lnTo>
                    <a:close/>
                    <a:moveTo>
                      <a:pt x="208" y="607"/>
                    </a:moveTo>
                    <a:lnTo>
                      <a:pt x="230" y="596"/>
                    </a:lnTo>
                    <a:lnTo>
                      <a:pt x="230" y="572"/>
                    </a:lnTo>
                    <a:lnTo>
                      <a:pt x="208" y="560"/>
                    </a:lnTo>
                    <a:lnTo>
                      <a:pt x="188" y="572"/>
                    </a:lnTo>
                    <a:lnTo>
                      <a:pt x="188" y="596"/>
                    </a:lnTo>
                    <a:lnTo>
                      <a:pt x="208" y="607"/>
                    </a:lnTo>
                    <a:close/>
                    <a:moveTo>
                      <a:pt x="263" y="607"/>
                    </a:moveTo>
                    <a:lnTo>
                      <a:pt x="283" y="596"/>
                    </a:lnTo>
                    <a:lnTo>
                      <a:pt x="283" y="572"/>
                    </a:lnTo>
                    <a:lnTo>
                      <a:pt x="263" y="560"/>
                    </a:lnTo>
                    <a:lnTo>
                      <a:pt x="243" y="572"/>
                    </a:lnTo>
                    <a:lnTo>
                      <a:pt x="243" y="596"/>
                    </a:lnTo>
                    <a:lnTo>
                      <a:pt x="263" y="607"/>
                    </a:lnTo>
                    <a:close/>
                    <a:moveTo>
                      <a:pt x="20" y="560"/>
                    </a:moveTo>
                    <a:lnTo>
                      <a:pt x="39" y="550"/>
                    </a:lnTo>
                    <a:lnTo>
                      <a:pt x="39" y="525"/>
                    </a:lnTo>
                    <a:lnTo>
                      <a:pt x="20" y="514"/>
                    </a:lnTo>
                    <a:lnTo>
                      <a:pt x="0" y="525"/>
                    </a:lnTo>
                    <a:lnTo>
                      <a:pt x="0" y="550"/>
                    </a:lnTo>
                    <a:lnTo>
                      <a:pt x="20" y="560"/>
                    </a:lnTo>
                    <a:close/>
                    <a:moveTo>
                      <a:pt x="74" y="560"/>
                    </a:moveTo>
                    <a:lnTo>
                      <a:pt x="94" y="550"/>
                    </a:lnTo>
                    <a:lnTo>
                      <a:pt x="94" y="525"/>
                    </a:lnTo>
                    <a:lnTo>
                      <a:pt x="74" y="514"/>
                    </a:lnTo>
                    <a:lnTo>
                      <a:pt x="55" y="525"/>
                    </a:lnTo>
                    <a:lnTo>
                      <a:pt x="55" y="550"/>
                    </a:lnTo>
                    <a:lnTo>
                      <a:pt x="74" y="560"/>
                    </a:lnTo>
                    <a:close/>
                    <a:moveTo>
                      <a:pt x="129" y="560"/>
                    </a:moveTo>
                    <a:lnTo>
                      <a:pt x="149" y="550"/>
                    </a:lnTo>
                    <a:lnTo>
                      <a:pt x="149" y="525"/>
                    </a:lnTo>
                    <a:lnTo>
                      <a:pt x="129" y="514"/>
                    </a:lnTo>
                    <a:lnTo>
                      <a:pt x="108" y="525"/>
                    </a:lnTo>
                    <a:lnTo>
                      <a:pt x="108" y="550"/>
                    </a:lnTo>
                    <a:lnTo>
                      <a:pt x="129" y="560"/>
                    </a:lnTo>
                    <a:close/>
                    <a:moveTo>
                      <a:pt x="181" y="560"/>
                    </a:moveTo>
                    <a:lnTo>
                      <a:pt x="202" y="550"/>
                    </a:lnTo>
                    <a:lnTo>
                      <a:pt x="202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50"/>
                    </a:lnTo>
                    <a:lnTo>
                      <a:pt x="181" y="560"/>
                    </a:lnTo>
                    <a:close/>
                    <a:moveTo>
                      <a:pt x="237" y="560"/>
                    </a:moveTo>
                    <a:lnTo>
                      <a:pt x="257" y="550"/>
                    </a:lnTo>
                    <a:lnTo>
                      <a:pt x="257" y="525"/>
                    </a:lnTo>
                    <a:lnTo>
                      <a:pt x="237" y="514"/>
                    </a:lnTo>
                    <a:lnTo>
                      <a:pt x="217" y="525"/>
                    </a:lnTo>
                    <a:lnTo>
                      <a:pt x="217" y="550"/>
                    </a:lnTo>
                    <a:lnTo>
                      <a:pt x="237" y="560"/>
                    </a:lnTo>
                    <a:close/>
                    <a:moveTo>
                      <a:pt x="289" y="560"/>
                    </a:moveTo>
                    <a:lnTo>
                      <a:pt x="312" y="550"/>
                    </a:lnTo>
                    <a:lnTo>
                      <a:pt x="312" y="525"/>
                    </a:lnTo>
                    <a:lnTo>
                      <a:pt x="289" y="514"/>
                    </a:lnTo>
                    <a:lnTo>
                      <a:pt x="269" y="525"/>
                    </a:lnTo>
                    <a:lnTo>
                      <a:pt x="269" y="550"/>
                    </a:lnTo>
                    <a:lnTo>
                      <a:pt x="289" y="560"/>
                    </a:lnTo>
                    <a:close/>
                    <a:moveTo>
                      <a:pt x="47" y="514"/>
                    </a:moveTo>
                    <a:lnTo>
                      <a:pt x="67" y="504"/>
                    </a:lnTo>
                    <a:lnTo>
                      <a:pt x="67" y="478"/>
                    </a:lnTo>
                    <a:lnTo>
                      <a:pt x="47" y="468"/>
                    </a:lnTo>
                    <a:lnTo>
                      <a:pt x="26" y="478"/>
                    </a:lnTo>
                    <a:lnTo>
                      <a:pt x="26" y="504"/>
                    </a:lnTo>
                    <a:lnTo>
                      <a:pt x="47" y="514"/>
                    </a:lnTo>
                    <a:close/>
                    <a:moveTo>
                      <a:pt x="100" y="514"/>
                    </a:moveTo>
                    <a:lnTo>
                      <a:pt x="120" y="504"/>
                    </a:lnTo>
                    <a:lnTo>
                      <a:pt x="120" y="478"/>
                    </a:lnTo>
                    <a:lnTo>
                      <a:pt x="100" y="468"/>
                    </a:lnTo>
                    <a:lnTo>
                      <a:pt x="81" y="478"/>
                    </a:lnTo>
                    <a:lnTo>
                      <a:pt x="81" y="504"/>
                    </a:lnTo>
                    <a:lnTo>
                      <a:pt x="100" y="514"/>
                    </a:lnTo>
                    <a:close/>
                    <a:moveTo>
                      <a:pt x="155" y="514"/>
                    </a:moveTo>
                    <a:lnTo>
                      <a:pt x="175" y="504"/>
                    </a:lnTo>
                    <a:lnTo>
                      <a:pt x="175" y="478"/>
                    </a:lnTo>
                    <a:lnTo>
                      <a:pt x="155" y="468"/>
                    </a:lnTo>
                    <a:lnTo>
                      <a:pt x="135" y="478"/>
                    </a:lnTo>
                    <a:lnTo>
                      <a:pt x="135" y="504"/>
                    </a:lnTo>
                    <a:lnTo>
                      <a:pt x="155" y="514"/>
                    </a:lnTo>
                    <a:close/>
                    <a:moveTo>
                      <a:pt x="208" y="514"/>
                    </a:moveTo>
                    <a:lnTo>
                      <a:pt x="230" y="504"/>
                    </a:lnTo>
                    <a:lnTo>
                      <a:pt x="230" y="478"/>
                    </a:lnTo>
                    <a:lnTo>
                      <a:pt x="208" y="468"/>
                    </a:lnTo>
                    <a:lnTo>
                      <a:pt x="188" y="478"/>
                    </a:lnTo>
                    <a:lnTo>
                      <a:pt x="188" y="504"/>
                    </a:lnTo>
                    <a:lnTo>
                      <a:pt x="208" y="514"/>
                    </a:lnTo>
                    <a:close/>
                    <a:moveTo>
                      <a:pt x="263" y="514"/>
                    </a:moveTo>
                    <a:lnTo>
                      <a:pt x="283" y="504"/>
                    </a:lnTo>
                    <a:lnTo>
                      <a:pt x="283" y="478"/>
                    </a:lnTo>
                    <a:lnTo>
                      <a:pt x="263" y="468"/>
                    </a:lnTo>
                    <a:lnTo>
                      <a:pt x="243" y="478"/>
                    </a:lnTo>
                    <a:lnTo>
                      <a:pt x="243" y="504"/>
                    </a:lnTo>
                    <a:lnTo>
                      <a:pt x="263" y="514"/>
                    </a:lnTo>
                    <a:close/>
                    <a:moveTo>
                      <a:pt x="318" y="514"/>
                    </a:moveTo>
                    <a:lnTo>
                      <a:pt x="338" y="504"/>
                    </a:lnTo>
                    <a:lnTo>
                      <a:pt x="338" y="478"/>
                    </a:lnTo>
                    <a:lnTo>
                      <a:pt x="318" y="468"/>
                    </a:lnTo>
                    <a:lnTo>
                      <a:pt x="298" y="478"/>
                    </a:lnTo>
                    <a:lnTo>
                      <a:pt x="298" y="504"/>
                    </a:lnTo>
                    <a:lnTo>
                      <a:pt x="318" y="514"/>
                    </a:lnTo>
                    <a:close/>
                    <a:moveTo>
                      <a:pt x="20" y="468"/>
                    </a:moveTo>
                    <a:lnTo>
                      <a:pt x="39" y="454"/>
                    </a:lnTo>
                    <a:lnTo>
                      <a:pt x="39" y="432"/>
                    </a:lnTo>
                    <a:lnTo>
                      <a:pt x="20" y="422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20" y="468"/>
                    </a:lnTo>
                    <a:close/>
                    <a:moveTo>
                      <a:pt x="74" y="468"/>
                    </a:moveTo>
                    <a:lnTo>
                      <a:pt x="94" y="454"/>
                    </a:lnTo>
                    <a:lnTo>
                      <a:pt x="94" y="432"/>
                    </a:lnTo>
                    <a:lnTo>
                      <a:pt x="74" y="422"/>
                    </a:lnTo>
                    <a:lnTo>
                      <a:pt x="55" y="432"/>
                    </a:lnTo>
                    <a:lnTo>
                      <a:pt x="55" y="454"/>
                    </a:lnTo>
                    <a:lnTo>
                      <a:pt x="74" y="468"/>
                    </a:lnTo>
                    <a:close/>
                    <a:moveTo>
                      <a:pt x="129" y="468"/>
                    </a:moveTo>
                    <a:lnTo>
                      <a:pt x="149" y="454"/>
                    </a:lnTo>
                    <a:lnTo>
                      <a:pt x="149" y="432"/>
                    </a:lnTo>
                    <a:lnTo>
                      <a:pt x="129" y="422"/>
                    </a:lnTo>
                    <a:lnTo>
                      <a:pt x="108" y="432"/>
                    </a:lnTo>
                    <a:lnTo>
                      <a:pt x="108" y="454"/>
                    </a:lnTo>
                    <a:lnTo>
                      <a:pt x="129" y="468"/>
                    </a:lnTo>
                    <a:close/>
                    <a:moveTo>
                      <a:pt x="181" y="468"/>
                    </a:moveTo>
                    <a:lnTo>
                      <a:pt x="202" y="454"/>
                    </a:lnTo>
                    <a:lnTo>
                      <a:pt x="202" y="432"/>
                    </a:lnTo>
                    <a:lnTo>
                      <a:pt x="181" y="422"/>
                    </a:lnTo>
                    <a:lnTo>
                      <a:pt x="161" y="432"/>
                    </a:lnTo>
                    <a:lnTo>
                      <a:pt x="161" y="454"/>
                    </a:lnTo>
                    <a:lnTo>
                      <a:pt x="181" y="468"/>
                    </a:lnTo>
                    <a:close/>
                    <a:moveTo>
                      <a:pt x="237" y="468"/>
                    </a:moveTo>
                    <a:lnTo>
                      <a:pt x="257" y="454"/>
                    </a:lnTo>
                    <a:lnTo>
                      <a:pt x="257" y="432"/>
                    </a:lnTo>
                    <a:lnTo>
                      <a:pt x="237" y="422"/>
                    </a:lnTo>
                    <a:lnTo>
                      <a:pt x="217" y="432"/>
                    </a:lnTo>
                    <a:lnTo>
                      <a:pt x="217" y="454"/>
                    </a:lnTo>
                    <a:lnTo>
                      <a:pt x="237" y="468"/>
                    </a:lnTo>
                    <a:close/>
                    <a:moveTo>
                      <a:pt x="289" y="468"/>
                    </a:moveTo>
                    <a:lnTo>
                      <a:pt x="312" y="454"/>
                    </a:lnTo>
                    <a:lnTo>
                      <a:pt x="312" y="432"/>
                    </a:lnTo>
                    <a:lnTo>
                      <a:pt x="289" y="422"/>
                    </a:lnTo>
                    <a:lnTo>
                      <a:pt x="269" y="432"/>
                    </a:lnTo>
                    <a:lnTo>
                      <a:pt x="269" y="454"/>
                    </a:lnTo>
                    <a:lnTo>
                      <a:pt x="289" y="468"/>
                    </a:lnTo>
                    <a:close/>
                    <a:moveTo>
                      <a:pt x="20" y="654"/>
                    </a:moveTo>
                    <a:lnTo>
                      <a:pt x="39" y="642"/>
                    </a:lnTo>
                    <a:lnTo>
                      <a:pt x="39" y="618"/>
                    </a:lnTo>
                    <a:lnTo>
                      <a:pt x="20" y="607"/>
                    </a:lnTo>
                    <a:lnTo>
                      <a:pt x="0" y="618"/>
                    </a:lnTo>
                    <a:lnTo>
                      <a:pt x="0" y="642"/>
                    </a:lnTo>
                    <a:lnTo>
                      <a:pt x="20" y="654"/>
                    </a:lnTo>
                    <a:close/>
                    <a:moveTo>
                      <a:pt x="74" y="654"/>
                    </a:moveTo>
                    <a:lnTo>
                      <a:pt x="94" y="642"/>
                    </a:lnTo>
                    <a:lnTo>
                      <a:pt x="94" y="618"/>
                    </a:lnTo>
                    <a:lnTo>
                      <a:pt x="74" y="607"/>
                    </a:lnTo>
                    <a:lnTo>
                      <a:pt x="55" y="618"/>
                    </a:lnTo>
                    <a:lnTo>
                      <a:pt x="55" y="642"/>
                    </a:lnTo>
                    <a:lnTo>
                      <a:pt x="74" y="654"/>
                    </a:lnTo>
                    <a:close/>
                    <a:moveTo>
                      <a:pt x="129" y="654"/>
                    </a:moveTo>
                    <a:lnTo>
                      <a:pt x="149" y="642"/>
                    </a:lnTo>
                    <a:lnTo>
                      <a:pt x="149" y="618"/>
                    </a:lnTo>
                    <a:lnTo>
                      <a:pt x="129" y="607"/>
                    </a:lnTo>
                    <a:lnTo>
                      <a:pt x="108" y="618"/>
                    </a:lnTo>
                    <a:lnTo>
                      <a:pt x="108" y="642"/>
                    </a:lnTo>
                    <a:lnTo>
                      <a:pt x="129" y="654"/>
                    </a:lnTo>
                    <a:close/>
                    <a:moveTo>
                      <a:pt x="181" y="654"/>
                    </a:moveTo>
                    <a:lnTo>
                      <a:pt x="202" y="642"/>
                    </a:lnTo>
                    <a:lnTo>
                      <a:pt x="202" y="618"/>
                    </a:lnTo>
                    <a:lnTo>
                      <a:pt x="181" y="607"/>
                    </a:lnTo>
                    <a:lnTo>
                      <a:pt x="161" y="618"/>
                    </a:lnTo>
                    <a:lnTo>
                      <a:pt x="161" y="642"/>
                    </a:lnTo>
                    <a:lnTo>
                      <a:pt x="181" y="654"/>
                    </a:lnTo>
                    <a:close/>
                    <a:moveTo>
                      <a:pt x="237" y="654"/>
                    </a:moveTo>
                    <a:lnTo>
                      <a:pt x="257" y="642"/>
                    </a:lnTo>
                    <a:lnTo>
                      <a:pt x="257" y="618"/>
                    </a:lnTo>
                    <a:lnTo>
                      <a:pt x="237" y="607"/>
                    </a:lnTo>
                    <a:lnTo>
                      <a:pt x="217" y="618"/>
                    </a:lnTo>
                    <a:lnTo>
                      <a:pt x="217" y="642"/>
                    </a:lnTo>
                    <a:lnTo>
                      <a:pt x="237" y="654"/>
                    </a:lnTo>
                    <a:close/>
                    <a:moveTo>
                      <a:pt x="289" y="654"/>
                    </a:moveTo>
                    <a:lnTo>
                      <a:pt x="312" y="642"/>
                    </a:lnTo>
                    <a:lnTo>
                      <a:pt x="312" y="618"/>
                    </a:lnTo>
                    <a:lnTo>
                      <a:pt x="289" y="607"/>
                    </a:lnTo>
                    <a:lnTo>
                      <a:pt x="269" y="618"/>
                    </a:lnTo>
                    <a:lnTo>
                      <a:pt x="269" y="642"/>
                    </a:lnTo>
                    <a:lnTo>
                      <a:pt x="289" y="654"/>
                    </a:lnTo>
                    <a:close/>
                    <a:moveTo>
                      <a:pt x="20" y="279"/>
                    </a:moveTo>
                    <a:lnTo>
                      <a:pt x="39" y="269"/>
                    </a:lnTo>
                    <a:lnTo>
                      <a:pt x="39" y="246"/>
                    </a:lnTo>
                    <a:lnTo>
                      <a:pt x="20" y="233"/>
                    </a:lnTo>
                    <a:lnTo>
                      <a:pt x="0" y="246"/>
                    </a:lnTo>
                    <a:lnTo>
                      <a:pt x="0" y="269"/>
                    </a:lnTo>
                    <a:lnTo>
                      <a:pt x="20" y="279"/>
                    </a:lnTo>
                    <a:close/>
                    <a:moveTo>
                      <a:pt x="74" y="279"/>
                    </a:moveTo>
                    <a:lnTo>
                      <a:pt x="94" y="269"/>
                    </a:lnTo>
                    <a:lnTo>
                      <a:pt x="94" y="246"/>
                    </a:lnTo>
                    <a:lnTo>
                      <a:pt x="74" y="233"/>
                    </a:lnTo>
                    <a:lnTo>
                      <a:pt x="55" y="246"/>
                    </a:lnTo>
                    <a:lnTo>
                      <a:pt x="55" y="269"/>
                    </a:lnTo>
                    <a:lnTo>
                      <a:pt x="74" y="279"/>
                    </a:lnTo>
                    <a:close/>
                    <a:moveTo>
                      <a:pt x="129" y="279"/>
                    </a:moveTo>
                    <a:lnTo>
                      <a:pt x="149" y="269"/>
                    </a:lnTo>
                    <a:lnTo>
                      <a:pt x="149" y="246"/>
                    </a:lnTo>
                    <a:lnTo>
                      <a:pt x="129" y="233"/>
                    </a:lnTo>
                    <a:lnTo>
                      <a:pt x="108" y="246"/>
                    </a:lnTo>
                    <a:lnTo>
                      <a:pt x="108" y="269"/>
                    </a:lnTo>
                    <a:lnTo>
                      <a:pt x="129" y="279"/>
                    </a:lnTo>
                    <a:close/>
                    <a:moveTo>
                      <a:pt x="181" y="279"/>
                    </a:moveTo>
                    <a:lnTo>
                      <a:pt x="202" y="269"/>
                    </a:lnTo>
                    <a:lnTo>
                      <a:pt x="202" y="246"/>
                    </a:lnTo>
                    <a:lnTo>
                      <a:pt x="181" y="233"/>
                    </a:lnTo>
                    <a:lnTo>
                      <a:pt x="161" y="246"/>
                    </a:lnTo>
                    <a:lnTo>
                      <a:pt x="161" y="269"/>
                    </a:lnTo>
                    <a:lnTo>
                      <a:pt x="181" y="279"/>
                    </a:lnTo>
                    <a:close/>
                    <a:moveTo>
                      <a:pt x="237" y="279"/>
                    </a:moveTo>
                    <a:lnTo>
                      <a:pt x="257" y="269"/>
                    </a:lnTo>
                    <a:lnTo>
                      <a:pt x="257" y="246"/>
                    </a:lnTo>
                    <a:lnTo>
                      <a:pt x="237" y="233"/>
                    </a:lnTo>
                    <a:lnTo>
                      <a:pt x="217" y="246"/>
                    </a:lnTo>
                    <a:lnTo>
                      <a:pt x="217" y="269"/>
                    </a:lnTo>
                    <a:lnTo>
                      <a:pt x="237" y="279"/>
                    </a:lnTo>
                    <a:close/>
                    <a:moveTo>
                      <a:pt x="289" y="279"/>
                    </a:moveTo>
                    <a:lnTo>
                      <a:pt x="312" y="269"/>
                    </a:lnTo>
                    <a:lnTo>
                      <a:pt x="312" y="246"/>
                    </a:lnTo>
                    <a:lnTo>
                      <a:pt x="289" y="233"/>
                    </a:lnTo>
                    <a:lnTo>
                      <a:pt x="269" y="246"/>
                    </a:lnTo>
                    <a:lnTo>
                      <a:pt x="269" y="269"/>
                    </a:lnTo>
                    <a:lnTo>
                      <a:pt x="289" y="279"/>
                    </a:lnTo>
                    <a:close/>
                    <a:moveTo>
                      <a:pt x="47" y="233"/>
                    </a:moveTo>
                    <a:lnTo>
                      <a:pt x="67" y="222"/>
                    </a:lnTo>
                    <a:lnTo>
                      <a:pt x="67" y="199"/>
                    </a:lnTo>
                    <a:lnTo>
                      <a:pt x="47" y="187"/>
                    </a:lnTo>
                    <a:lnTo>
                      <a:pt x="26" y="199"/>
                    </a:lnTo>
                    <a:lnTo>
                      <a:pt x="26" y="222"/>
                    </a:lnTo>
                    <a:lnTo>
                      <a:pt x="47" y="233"/>
                    </a:lnTo>
                    <a:close/>
                    <a:moveTo>
                      <a:pt x="100" y="233"/>
                    </a:moveTo>
                    <a:lnTo>
                      <a:pt x="120" y="222"/>
                    </a:lnTo>
                    <a:lnTo>
                      <a:pt x="120" y="199"/>
                    </a:lnTo>
                    <a:lnTo>
                      <a:pt x="100" y="187"/>
                    </a:lnTo>
                    <a:lnTo>
                      <a:pt x="81" y="199"/>
                    </a:lnTo>
                    <a:lnTo>
                      <a:pt x="81" y="222"/>
                    </a:lnTo>
                    <a:lnTo>
                      <a:pt x="100" y="233"/>
                    </a:lnTo>
                    <a:close/>
                    <a:moveTo>
                      <a:pt x="155" y="233"/>
                    </a:moveTo>
                    <a:lnTo>
                      <a:pt x="175" y="222"/>
                    </a:lnTo>
                    <a:lnTo>
                      <a:pt x="175" y="199"/>
                    </a:lnTo>
                    <a:lnTo>
                      <a:pt x="155" y="187"/>
                    </a:lnTo>
                    <a:lnTo>
                      <a:pt x="135" y="199"/>
                    </a:lnTo>
                    <a:lnTo>
                      <a:pt x="135" y="222"/>
                    </a:lnTo>
                    <a:lnTo>
                      <a:pt x="155" y="233"/>
                    </a:lnTo>
                    <a:close/>
                    <a:moveTo>
                      <a:pt x="208" y="233"/>
                    </a:moveTo>
                    <a:lnTo>
                      <a:pt x="230" y="222"/>
                    </a:lnTo>
                    <a:lnTo>
                      <a:pt x="230" y="199"/>
                    </a:lnTo>
                    <a:lnTo>
                      <a:pt x="208" y="187"/>
                    </a:lnTo>
                    <a:lnTo>
                      <a:pt x="188" y="199"/>
                    </a:lnTo>
                    <a:lnTo>
                      <a:pt x="188" y="222"/>
                    </a:lnTo>
                    <a:lnTo>
                      <a:pt x="208" y="233"/>
                    </a:lnTo>
                    <a:close/>
                    <a:moveTo>
                      <a:pt x="263" y="233"/>
                    </a:moveTo>
                    <a:lnTo>
                      <a:pt x="283" y="222"/>
                    </a:lnTo>
                    <a:lnTo>
                      <a:pt x="283" y="199"/>
                    </a:lnTo>
                    <a:lnTo>
                      <a:pt x="263" y="187"/>
                    </a:lnTo>
                    <a:lnTo>
                      <a:pt x="243" y="199"/>
                    </a:lnTo>
                    <a:lnTo>
                      <a:pt x="243" y="222"/>
                    </a:lnTo>
                    <a:lnTo>
                      <a:pt x="263" y="233"/>
                    </a:lnTo>
                    <a:close/>
                    <a:moveTo>
                      <a:pt x="318" y="233"/>
                    </a:moveTo>
                    <a:lnTo>
                      <a:pt x="338" y="222"/>
                    </a:lnTo>
                    <a:lnTo>
                      <a:pt x="338" y="199"/>
                    </a:lnTo>
                    <a:lnTo>
                      <a:pt x="318" y="187"/>
                    </a:lnTo>
                    <a:lnTo>
                      <a:pt x="298" y="199"/>
                    </a:lnTo>
                    <a:lnTo>
                      <a:pt x="298" y="222"/>
                    </a:lnTo>
                    <a:lnTo>
                      <a:pt x="318" y="233"/>
                    </a:lnTo>
                    <a:close/>
                    <a:moveTo>
                      <a:pt x="20" y="187"/>
                    </a:moveTo>
                    <a:lnTo>
                      <a:pt x="39" y="175"/>
                    </a:lnTo>
                    <a:lnTo>
                      <a:pt x="39" y="153"/>
                    </a:lnTo>
                    <a:lnTo>
                      <a:pt x="20" y="140"/>
                    </a:lnTo>
                    <a:lnTo>
                      <a:pt x="0" y="153"/>
                    </a:lnTo>
                    <a:lnTo>
                      <a:pt x="0" y="175"/>
                    </a:lnTo>
                    <a:lnTo>
                      <a:pt x="20" y="187"/>
                    </a:lnTo>
                    <a:close/>
                    <a:moveTo>
                      <a:pt x="74" y="187"/>
                    </a:moveTo>
                    <a:lnTo>
                      <a:pt x="94" y="175"/>
                    </a:lnTo>
                    <a:lnTo>
                      <a:pt x="94" y="153"/>
                    </a:lnTo>
                    <a:lnTo>
                      <a:pt x="74" y="140"/>
                    </a:lnTo>
                    <a:lnTo>
                      <a:pt x="55" y="153"/>
                    </a:lnTo>
                    <a:lnTo>
                      <a:pt x="55" y="175"/>
                    </a:lnTo>
                    <a:lnTo>
                      <a:pt x="74" y="187"/>
                    </a:lnTo>
                    <a:close/>
                    <a:moveTo>
                      <a:pt x="129" y="187"/>
                    </a:moveTo>
                    <a:lnTo>
                      <a:pt x="149" y="175"/>
                    </a:lnTo>
                    <a:lnTo>
                      <a:pt x="149" y="153"/>
                    </a:lnTo>
                    <a:lnTo>
                      <a:pt x="129" y="140"/>
                    </a:lnTo>
                    <a:lnTo>
                      <a:pt x="108" y="153"/>
                    </a:lnTo>
                    <a:lnTo>
                      <a:pt x="108" y="175"/>
                    </a:lnTo>
                    <a:lnTo>
                      <a:pt x="129" y="187"/>
                    </a:lnTo>
                    <a:close/>
                    <a:moveTo>
                      <a:pt x="181" y="187"/>
                    </a:moveTo>
                    <a:lnTo>
                      <a:pt x="202" y="175"/>
                    </a:lnTo>
                    <a:lnTo>
                      <a:pt x="202" y="153"/>
                    </a:lnTo>
                    <a:lnTo>
                      <a:pt x="181" y="140"/>
                    </a:lnTo>
                    <a:lnTo>
                      <a:pt x="161" y="153"/>
                    </a:lnTo>
                    <a:lnTo>
                      <a:pt x="161" y="175"/>
                    </a:lnTo>
                    <a:lnTo>
                      <a:pt x="181" y="187"/>
                    </a:lnTo>
                    <a:close/>
                    <a:moveTo>
                      <a:pt x="237" y="187"/>
                    </a:moveTo>
                    <a:lnTo>
                      <a:pt x="257" y="175"/>
                    </a:lnTo>
                    <a:lnTo>
                      <a:pt x="257" y="153"/>
                    </a:lnTo>
                    <a:lnTo>
                      <a:pt x="237" y="140"/>
                    </a:lnTo>
                    <a:lnTo>
                      <a:pt x="217" y="153"/>
                    </a:lnTo>
                    <a:lnTo>
                      <a:pt x="217" y="175"/>
                    </a:lnTo>
                    <a:lnTo>
                      <a:pt x="237" y="187"/>
                    </a:lnTo>
                    <a:close/>
                    <a:moveTo>
                      <a:pt x="289" y="187"/>
                    </a:moveTo>
                    <a:lnTo>
                      <a:pt x="312" y="175"/>
                    </a:lnTo>
                    <a:lnTo>
                      <a:pt x="312" y="153"/>
                    </a:lnTo>
                    <a:lnTo>
                      <a:pt x="289" y="140"/>
                    </a:lnTo>
                    <a:lnTo>
                      <a:pt x="269" y="153"/>
                    </a:lnTo>
                    <a:lnTo>
                      <a:pt x="269" y="175"/>
                    </a:lnTo>
                    <a:lnTo>
                      <a:pt x="289" y="187"/>
                    </a:lnTo>
                    <a:close/>
                    <a:moveTo>
                      <a:pt x="47" y="140"/>
                    </a:moveTo>
                    <a:lnTo>
                      <a:pt x="67" y="129"/>
                    </a:lnTo>
                    <a:lnTo>
                      <a:pt x="67" y="105"/>
                    </a:lnTo>
                    <a:lnTo>
                      <a:pt x="47" y="93"/>
                    </a:lnTo>
                    <a:lnTo>
                      <a:pt x="26" y="105"/>
                    </a:lnTo>
                    <a:lnTo>
                      <a:pt x="26" y="129"/>
                    </a:lnTo>
                    <a:lnTo>
                      <a:pt x="47" y="140"/>
                    </a:lnTo>
                    <a:close/>
                    <a:moveTo>
                      <a:pt x="100" y="140"/>
                    </a:moveTo>
                    <a:lnTo>
                      <a:pt x="120" y="129"/>
                    </a:lnTo>
                    <a:lnTo>
                      <a:pt x="120" y="105"/>
                    </a:lnTo>
                    <a:lnTo>
                      <a:pt x="100" y="93"/>
                    </a:lnTo>
                    <a:lnTo>
                      <a:pt x="81" y="105"/>
                    </a:lnTo>
                    <a:lnTo>
                      <a:pt x="81" y="129"/>
                    </a:lnTo>
                    <a:lnTo>
                      <a:pt x="100" y="140"/>
                    </a:lnTo>
                    <a:close/>
                    <a:moveTo>
                      <a:pt x="155" y="140"/>
                    </a:moveTo>
                    <a:lnTo>
                      <a:pt x="175" y="129"/>
                    </a:lnTo>
                    <a:lnTo>
                      <a:pt x="175" y="105"/>
                    </a:lnTo>
                    <a:lnTo>
                      <a:pt x="155" y="93"/>
                    </a:lnTo>
                    <a:lnTo>
                      <a:pt x="135" y="105"/>
                    </a:lnTo>
                    <a:lnTo>
                      <a:pt x="135" y="129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30" y="129"/>
                    </a:lnTo>
                    <a:lnTo>
                      <a:pt x="230" y="105"/>
                    </a:lnTo>
                    <a:lnTo>
                      <a:pt x="208" y="93"/>
                    </a:lnTo>
                    <a:lnTo>
                      <a:pt x="188" y="105"/>
                    </a:lnTo>
                    <a:lnTo>
                      <a:pt x="188" y="129"/>
                    </a:lnTo>
                    <a:lnTo>
                      <a:pt x="208" y="140"/>
                    </a:lnTo>
                    <a:close/>
                    <a:moveTo>
                      <a:pt x="263" y="140"/>
                    </a:moveTo>
                    <a:lnTo>
                      <a:pt x="283" y="129"/>
                    </a:lnTo>
                    <a:lnTo>
                      <a:pt x="283" y="105"/>
                    </a:lnTo>
                    <a:lnTo>
                      <a:pt x="263" y="93"/>
                    </a:lnTo>
                    <a:lnTo>
                      <a:pt x="243" y="105"/>
                    </a:lnTo>
                    <a:lnTo>
                      <a:pt x="243" y="129"/>
                    </a:lnTo>
                    <a:lnTo>
                      <a:pt x="263" y="140"/>
                    </a:lnTo>
                    <a:close/>
                    <a:moveTo>
                      <a:pt x="318" y="140"/>
                    </a:moveTo>
                    <a:lnTo>
                      <a:pt x="338" y="129"/>
                    </a:lnTo>
                    <a:lnTo>
                      <a:pt x="338" y="105"/>
                    </a:lnTo>
                    <a:lnTo>
                      <a:pt x="318" y="93"/>
                    </a:lnTo>
                    <a:lnTo>
                      <a:pt x="298" y="105"/>
                    </a:lnTo>
                    <a:lnTo>
                      <a:pt x="298" y="129"/>
                    </a:lnTo>
                    <a:lnTo>
                      <a:pt x="318" y="140"/>
                    </a:lnTo>
                    <a:close/>
                    <a:moveTo>
                      <a:pt x="20" y="93"/>
                    </a:moveTo>
                    <a:lnTo>
                      <a:pt x="39" y="82"/>
                    </a:lnTo>
                    <a:lnTo>
                      <a:pt x="39" y="58"/>
                    </a:lnTo>
                    <a:lnTo>
                      <a:pt x="20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0" y="93"/>
                    </a:lnTo>
                    <a:close/>
                    <a:moveTo>
                      <a:pt x="74" y="93"/>
                    </a:moveTo>
                    <a:lnTo>
                      <a:pt x="94" y="82"/>
                    </a:lnTo>
                    <a:lnTo>
                      <a:pt x="94" y="58"/>
                    </a:lnTo>
                    <a:lnTo>
                      <a:pt x="74" y="47"/>
                    </a:lnTo>
                    <a:lnTo>
                      <a:pt x="55" y="58"/>
                    </a:lnTo>
                    <a:lnTo>
                      <a:pt x="55" y="82"/>
                    </a:lnTo>
                    <a:lnTo>
                      <a:pt x="74" y="93"/>
                    </a:lnTo>
                    <a:close/>
                    <a:moveTo>
                      <a:pt x="129" y="93"/>
                    </a:moveTo>
                    <a:lnTo>
                      <a:pt x="149" y="82"/>
                    </a:lnTo>
                    <a:lnTo>
                      <a:pt x="149" y="58"/>
                    </a:lnTo>
                    <a:lnTo>
                      <a:pt x="129" y="47"/>
                    </a:lnTo>
                    <a:lnTo>
                      <a:pt x="108" y="58"/>
                    </a:lnTo>
                    <a:lnTo>
                      <a:pt x="108" y="82"/>
                    </a:lnTo>
                    <a:lnTo>
                      <a:pt x="129" y="93"/>
                    </a:lnTo>
                    <a:close/>
                    <a:moveTo>
                      <a:pt x="181" y="93"/>
                    </a:moveTo>
                    <a:lnTo>
                      <a:pt x="202" y="82"/>
                    </a:lnTo>
                    <a:lnTo>
                      <a:pt x="202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3"/>
                    </a:lnTo>
                    <a:close/>
                    <a:moveTo>
                      <a:pt x="237" y="93"/>
                    </a:moveTo>
                    <a:lnTo>
                      <a:pt x="257" y="82"/>
                    </a:lnTo>
                    <a:lnTo>
                      <a:pt x="257" y="58"/>
                    </a:lnTo>
                    <a:lnTo>
                      <a:pt x="237" y="47"/>
                    </a:lnTo>
                    <a:lnTo>
                      <a:pt x="217" y="58"/>
                    </a:lnTo>
                    <a:lnTo>
                      <a:pt x="217" y="82"/>
                    </a:lnTo>
                    <a:lnTo>
                      <a:pt x="237" y="93"/>
                    </a:lnTo>
                    <a:close/>
                    <a:moveTo>
                      <a:pt x="289" y="93"/>
                    </a:moveTo>
                    <a:lnTo>
                      <a:pt x="312" y="82"/>
                    </a:lnTo>
                    <a:lnTo>
                      <a:pt x="312" y="58"/>
                    </a:lnTo>
                    <a:lnTo>
                      <a:pt x="289" y="47"/>
                    </a:lnTo>
                    <a:lnTo>
                      <a:pt x="269" y="58"/>
                    </a:lnTo>
                    <a:lnTo>
                      <a:pt x="269" y="82"/>
                    </a:lnTo>
                    <a:lnTo>
                      <a:pt x="289" y="93"/>
                    </a:lnTo>
                    <a:close/>
                    <a:moveTo>
                      <a:pt x="47" y="47"/>
                    </a:moveTo>
                    <a:lnTo>
                      <a:pt x="67" y="35"/>
                    </a:lnTo>
                    <a:lnTo>
                      <a:pt x="67" y="11"/>
                    </a:lnTo>
                    <a:lnTo>
                      <a:pt x="47" y="0"/>
                    </a:lnTo>
                    <a:lnTo>
                      <a:pt x="26" y="11"/>
                    </a:lnTo>
                    <a:lnTo>
                      <a:pt x="26" y="35"/>
                    </a:lnTo>
                    <a:lnTo>
                      <a:pt x="47" y="47"/>
                    </a:lnTo>
                    <a:close/>
                    <a:moveTo>
                      <a:pt x="100" y="47"/>
                    </a:moveTo>
                    <a:lnTo>
                      <a:pt x="120" y="35"/>
                    </a:lnTo>
                    <a:lnTo>
                      <a:pt x="120" y="11"/>
                    </a:lnTo>
                    <a:lnTo>
                      <a:pt x="100" y="0"/>
                    </a:lnTo>
                    <a:lnTo>
                      <a:pt x="81" y="11"/>
                    </a:lnTo>
                    <a:lnTo>
                      <a:pt x="81" y="35"/>
                    </a:lnTo>
                    <a:lnTo>
                      <a:pt x="100" y="47"/>
                    </a:lnTo>
                    <a:close/>
                    <a:moveTo>
                      <a:pt x="155" y="47"/>
                    </a:moveTo>
                    <a:lnTo>
                      <a:pt x="175" y="35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5" y="11"/>
                    </a:lnTo>
                    <a:lnTo>
                      <a:pt x="135" y="35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30" y="35"/>
                    </a:lnTo>
                    <a:lnTo>
                      <a:pt x="230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5"/>
                    </a:lnTo>
                    <a:lnTo>
                      <a:pt x="208" y="47"/>
                    </a:lnTo>
                    <a:close/>
                    <a:moveTo>
                      <a:pt x="263" y="47"/>
                    </a:moveTo>
                    <a:lnTo>
                      <a:pt x="283" y="35"/>
                    </a:lnTo>
                    <a:lnTo>
                      <a:pt x="283" y="11"/>
                    </a:lnTo>
                    <a:lnTo>
                      <a:pt x="263" y="0"/>
                    </a:lnTo>
                    <a:lnTo>
                      <a:pt x="243" y="11"/>
                    </a:lnTo>
                    <a:lnTo>
                      <a:pt x="243" y="35"/>
                    </a:lnTo>
                    <a:lnTo>
                      <a:pt x="263" y="47"/>
                    </a:lnTo>
                    <a:close/>
                    <a:moveTo>
                      <a:pt x="47" y="422"/>
                    </a:moveTo>
                    <a:lnTo>
                      <a:pt x="67" y="408"/>
                    </a:lnTo>
                    <a:lnTo>
                      <a:pt x="67" y="386"/>
                    </a:lnTo>
                    <a:lnTo>
                      <a:pt x="47" y="375"/>
                    </a:lnTo>
                    <a:lnTo>
                      <a:pt x="26" y="386"/>
                    </a:lnTo>
                    <a:lnTo>
                      <a:pt x="26" y="408"/>
                    </a:lnTo>
                    <a:lnTo>
                      <a:pt x="47" y="422"/>
                    </a:lnTo>
                    <a:close/>
                    <a:moveTo>
                      <a:pt x="100" y="422"/>
                    </a:moveTo>
                    <a:lnTo>
                      <a:pt x="120" y="408"/>
                    </a:lnTo>
                    <a:lnTo>
                      <a:pt x="120" y="386"/>
                    </a:lnTo>
                    <a:lnTo>
                      <a:pt x="100" y="375"/>
                    </a:lnTo>
                    <a:lnTo>
                      <a:pt x="81" y="386"/>
                    </a:lnTo>
                    <a:lnTo>
                      <a:pt x="81" y="408"/>
                    </a:lnTo>
                    <a:lnTo>
                      <a:pt x="100" y="422"/>
                    </a:lnTo>
                    <a:close/>
                    <a:moveTo>
                      <a:pt x="155" y="422"/>
                    </a:moveTo>
                    <a:lnTo>
                      <a:pt x="175" y="408"/>
                    </a:lnTo>
                    <a:lnTo>
                      <a:pt x="175" y="386"/>
                    </a:lnTo>
                    <a:lnTo>
                      <a:pt x="155" y="375"/>
                    </a:lnTo>
                    <a:lnTo>
                      <a:pt x="135" y="386"/>
                    </a:lnTo>
                    <a:lnTo>
                      <a:pt x="135" y="408"/>
                    </a:lnTo>
                    <a:lnTo>
                      <a:pt x="155" y="422"/>
                    </a:lnTo>
                    <a:close/>
                    <a:moveTo>
                      <a:pt x="208" y="422"/>
                    </a:moveTo>
                    <a:lnTo>
                      <a:pt x="230" y="408"/>
                    </a:lnTo>
                    <a:lnTo>
                      <a:pt x="230" y="386"/>
                    </a:lnTo>
                    <a:lnTo>
                      <a:pt x="208" y="375"/>
                    </a:lnTo>
                    <a:lnTo>
                      <a:pt x="188" y="386"/>
                    </a:lnTo>
                    <a:lnTo>
                      <a:pt x="188" y="408"/>
                    </a:lnTo>
                    <a:lnTo>
                      <a:pt x="208" y="422"/>
                    </a:lnTo>
                    <a:close/>
                    <a:moveTo>
                      <a:pt x="263" y="422"/>
                    </a:moveTo>
                    <a:lnTo>
                      <a:pt x="283" y="408"/>
                    </a:lnTo>
                    <a:lnTo>
                      <a:pt x="283" y="386"/>
                    </a:lnTo>
                    <a:lnTo>
                      <a:pt x="263" y="375"/>
                    </a:lnTo>
                    <a:lnTo>
                      <a:pt x="243" y="386"/>
                    </a:lnTo>
                    <a:lnTo>
                      <a:pt x="243" y="408"/>
                    </a:lnTo>
                    <a:lnTo>
                      <a:pt x="263" y="422"/>
                    </a:lnTo>
                    <a:close/>
                    <a:moveTo>
                      <a:pt x="318" y="422"/>
                    </a:moveTo>
                    <a:lnTo>
                      <a:pt x="338" y="408"/>
                    </a:lnTo>
                    <a:lnTo>
                      <a:pt x="338" y="386"/>
                    </a:lnTo>
                    <a:lnTo>
                      <a:pt x="318" y="375"/>
                    </a:lnTo>
                    <a:lnTo>
                      <a:pt x="298" y="386"/>
                    </a:lnTo>
                    <a:lnTo>
                      <a:pt x="298" y="408"/>
                    </a:lnTo>
                    <a:lnTo>
                      <a:pt x="318" y="422"/>
                    </a:lnTo>
                    <a:close/>
                    <a:moveTo>
                      <a:pt x="20" y="375"/>
                    </a:moveTo>
                    <a:lnTo>
                      <a:pt x="39" y="361"/>
                    </a:lnTo>
                    <a:lnTo>
                      <a:pt x="39" y="339"/>
                    </a:lnTo>
                    <a:lnTo>
                      <a:pt x="20" y="328"/>
                    </a:lnTo>
                    <a:lnTo>
                      <a:pt x="0" y="339"/>
                    </a:lnTo>
                    <a:lnTo>
                      <a:pt x="0" y="361"/>
                    </a:lnTo>
                    <a:lnTo>
                      <a:pt x="20" y="375"/>
                    </a:lnTo>
                    <a:close/>
                    <a:moveTo>
                      <a:pt x="74" y="375"/>
                    </a:moveTo>
                    <a:lnTo>
                      <a:pt x="94" y="361"/>
                    </a:lnTo>
                    <a:lnTo>
                      <a:pt x="94" y="339"/>
                    </a:lnTo>
                    <a:lnTo>
                      <a:pt x="74" y="328"/>
                    </a:lnTo>
                    <a:lnTo>
                      <a:pt x="55" y="339"/>
                    </a:lnTo>
                    <a:lnTo>
                      <a:pt x="55" y="361"/>
                    </a:lnTo>
                    <a:lnTo>
                      <a:pt x="74" y="375"/>
                    </a:lnTo>
                    <a:close/>
                    <a:moveTo>
                      <a:pt x="129" y="375"/>
                    </a:moveTo>
                    <a:lnTo>
                      <a:pt x="149" y="361"/>
                    </a:lnTo>
                    <a:lnTo>
                      <a:pt x="149" y="339"/>
                    </a:lnTo>
                    <a:lnTo>
                      <a:pt x="129" y="328"/>
                    </a:lnTo>
                    <a:lnTo>
                      <a:pt x="108" y="339"/>
                    </a:lnTo>
                    <a:lnTo>
                      <a:pt x="108" y="361"/>
                    </a:lnTo>
                    <a:lnTo>
                      <a:pt x="129" y="375"/>
                    </a:lnTo>
                    <a:close/>
                    <a:moveTo>
                      <a:pt x="181" y="375"/>
                    </a:moveTo>
                    <a:lnTo>
                      <a:pt x="202" y="361"/>
                    </a:lnTo>
                    <a:lnTo>
                      <a:pt x="202" y="339"/>
                    </a:lnTo>
                    <a:lnTo>
                      <a:pt x="181" y="328"/>
                    </a:lnTo>
                    <a:lnTo>
                      <a:pt x="161" y="339"/>
                    </a:lnTo>
                    <a:lnTo>
                      <a:pt x="161" y="361"/>
                    </a:lnTo>
                    <a:lnTo>
                      <a:pt x="181" y="375"/>
                    </a:lnTo>
                    <a:close/>
                    <a:moveTo>
                      <a:pt x="237" y="375"/>
                    </a:moveTo>
                    <a:lnTo>
                      <a:pt x="257" y="361"/>
                    </a:lnTo>
                    <a:lnTo>
                      <a:pt x="257" y="339"/>
                    </a:lnTo>
                    <a:lnTo>
                      <a:pt x="237" y="328"/>
                    </a:lnTo>
                    <a:lnTo>
                      <a:pt x="217" y="339"/>
                    </a:lnTo>
                    <a:lnTo>
                      <a:pt x="217" y="361"/>
                    </a:lnTo>
                    <a:lnTo>
                      <a:pt x="237" y="375"/>
                    </a:lnTo>
                    <a:close/>
                    <a:moveTo>
                      <a:pt x="289" y="375"/>
                    </a:moveTo>
                    <a:lnTo>
                      <a:pt x="312" y="361"/>
                    </a:lnTo>
                    <a:lnTo>
                      <a:pt x="312" y="339"/>
                    </a:lnTo>
                    <a:lnTo>
                      <a:pt x="289" y="328"/>
                    </a:lnTo>
                    <a:lnTo>
                      <a:pt x="269" y="339"/>
                    </a:lnTo>
                    <a:lnTo>
                      <a:pt x="269" y="361"/>
                    </a:lnTo>
                    <a:lnTo>
                      <a:pt x="289" y="375"/>
                    </a:lnTo>
                    <a:close/>
                    <a:moveTo>
                      <a:pt x="47" y="326"/>
                    </a:moveTo>
                    <a:lnTo>
                      <a:pt x="67" y="314"/>
                    </a:lnTo>
                    <a:lnTo>
                      <a:pt x="67" y="293"/>
                    </a:lnTo>
                    <a:lnTo>
                      <a:pt x="47" y="281"/>
                    </a:lnTo>
                    <a:lnTo>
                      <a:pt x="26" y="293"/>
                    </a:lnTo>
                    <a:lnTo>
                      <a:pt x="26" y="314"/>
                    </a:lnTo>
                    <a:lnTo>
                      <a:pt x="47" y="326"/>
                    </a:lnTo>
                    <a:close/>
                    <a:moveTo>
                      <a:pt x="100" y="326"/>
                    </a:moveTo>
                    <a:lnTo>
                      <a:pt x="120" y="314"/>
                    </a:lnTo>
                    <a:lnTo>
                      <a:pt x="120" y="293"/>
                    </a:lnTo>
                    <a:lnTo>
                      <a:pt x="100" y="281"/>
                    </a:lnTo>
                    <a:lnTo>
                      <a:pt x="81" y="293"/>
                    </a:lnTo>
                    <a:lnTo>
                      <a:pt x="81" y="314"/>
                    </a:lnTo>
                    <a:lnTo>
                      <a:pt x="100" y="326"/>
                    </a:lnTo>
                    <a:close/>
                    <a:moveTo>
                      <a:pt x="155" y="326"/>
                    </a:moveTo>
                    <a:lnTo>
                      <a:pt x="175" y="314"/>
                    </a:lnTo>
                    <a:lnTo>
                      <a:pt x="175" y="293"/>
                    </a:lnTo>
                    <a:lnTo>
                      <a:pt x="155" y="281"/>
                    </a:lnTo>
                    <a:lnTo>
                      <a:pt x="135" y="293"/>
                    </a:lnTo>
                    <a:lnTo>
                      <a:pt x="135" y="314"/>
                    </a:lnTo>
                    <a:lnTo>
                      <a:pt x="155" y="326"/>
                    </a:lnTo>
                    <a:close/>
                    <a:moveTo>
                      <a:pt x="208" y="326"/>
                    </a:moveTo>
                    <a:lnTo>
                      <a:pt x="230" y="314"/>
                    </a:lnTo>
                    <a:lnTo>
                      <a:pt x="230" y="293"/>
                    </a:lnTo>
                    <a:lnTo>
                      <a:pt x="208" y="281"/>
                    </a:lnTo>
                    <a:lnTo>
                      <a:pt x="188" y="293"/>
                    </a:lnTo>
                    <a:lnTo>
                      <a:pt x="188" y="314"/>
                    </a:lnTo>
                    <a:lnTo>
                      <a:pt x="208" y="326"/>
                    </a:lnTo>
                    <a:close/>
                    <a:moveTo>
                      <a:pt x="263" y="326"/>
                    </a:moveTo>
                    <a:lnTo>
                      <a:pt x="283" y="314"/>
                    </a:lnTo>
                    <a:lnTo>
                      <a:pt x="283" y="293"/>
                    </a:lnTo>
                    <a:lnTo>
                      <a:pt x="263" y="281"/>
                    </a:lnTo>
                    <a:lnTo>
                      <a:pt x="243" y="293"/>
                    </a:lnTo>
                    <a:lnTo>
                      <a:pt x="243" y="314"/>
                    </a:lnTo>
                    <a:lnTo>
                      <a:pt x="263" y="326"/>
                    </a:lnTo>
                    <a:close/>
                    <a:moveTo>
                      <a:pt x="318" y="326"/>
                    </a:moveTo>
                    <a:lnTo>
                      <a:pt x="338" y="314"/>
                    </a:lnTo>
                    <a:lnTo>
                      <a:pt x="338" y="293"/>
                    </a:lnTo>
                    <a:lnTo>
                      <a:pt x="318" y="281"/>
                    </a:lnTo>
                    <a:lnTo>
                      <a:pt x="298" y="293"/>
                    </a:lnTo>
                    <a:lnTo>
                      <a:pt x="298" y="314"/>
                    </a:lnTo>
                    <a:lnTo>
                      <a:pt x="318" y="326"/>
                    </a:lnTo>
                    <a:close/>
                    <a:moveTo>
                      <a:pt x="371" y="514"/>
                    </a:moveTo>
                    <a:lnTo>
                      <a:pt x="392" y="504"/>
                    </a:lnTo>
                    <a:lnTo>
                      <a:pt x="392" y="478"/>
                    </a:lnTo>
                    <a:lnTo>
                      <a:pt x="371" y="468"/>
                    </a:lnTo>
                    <a:lnTo>
                      <a:pt x="351" y="478"/>
                    </a:lnTo>
                    <a:lnTo>
                      <a:pt x="351" y="504"/>
                    </a:lnTo>
                    <a:lnTo>
                      <a:pt x="371" y="514"/>
                    </a:lnTo>
                    <a:close/>
                    <a:moveTo>
                      <a:pt x="426" y="514"/>
                    </a:moveTo>
                    <a:lnTo>
                      <a:pt x="445" y="504"/>
                    </a:lnTo>
                    <a:lnTo>
                      <a:pt x="445" y="478"/>
                    </a:lnTo>
                    <a:lnTo>
                      <a:pt x="426" y="468"/>
                    </a:lnTo>
                    <a:lnTo>
                      <a:pt x="406" y="478"/>
                    </a:lnTo>
                    <a:lnTo>
                      <a:pt x="406" y="504"/>
                    </a:lnTo>
                    <a:lnTo>
                      <a:pt x="426" y="514"/>
                    </a:lnTo>
                    <a:close/>
                    <a:moveTo>
                      <a:pt x="480" y="514"/>
                    </a:moveTo>
                    <a:lnTo>
                      <a:pt x="500" y="504"/>
                    </a:lnTo>
                    <a:lnTo>
                      <a:pt x="500" y="478"/>
                    </a:lnTo>
                    <a:lnTo>
                      <a:pt x="480" y="468"/>
                    </a:lnTo>
                    <a:lnTo>
                      <a:pt x="458" y="478"/>
                    </a:lnTo>
                    <a:lnTo>
                      <a:pt x="458" y="504"/>
                    </a:lnTo>
                    <a:lnTo>
                      <a:pt x="480" y="514"/>
                    </a:lnTo>
                    <a:close/>
                    <a:moveTo>
                      <a:pt x="532" y="514"/>
                    </a:moveTo>
                    <a:lnTo>
                      <a:pt x="552" y="504"/>
                    </a:lnTo>
                    <a:lnTo>
                      <a:pt x="552" y="478"/>
                    </a:lnTo>
                    <a:lnTo>
                      <a:pt x="532" y="468"/>
                    </a:lnTo>
                    <a:lnTo>
                      <a:pt x="514" y="478"/>
                    </a:lnTo>
                    <a:lnTo>
                      <a:pt x="514" y="504"/>
                    </a:lnTo>
                    <a:lnTo>
                      <a:pt x="532" y="514"/>
                    </a:lnTo>
                    <a:close/>
                    <a:moveTo>
                      <a:pt x="586" y="514"/>
                    </a:moveTo>
                    <a:lnTo>
                      <a:pt x="608" y="504"/>
                    </a:lnTo>
                    <a:lnTo>
                      <a:pt x="608" y="478"/>
                    </a:lnTo>
                    <a:lnTo>
                      <a:pt x="586" y="468"/>
                    </a:lnTo>
                    <a:lnTo>
                      <a:pt x="566" y="478"/>
                    </a:lnTo>
                    <a:lnTo>
                      <a:pt x="566" y="504"/>
                    </a:lnTo>
                    <a:lnTo>
                      <a:pt x="586" y="514"/>
                    </a:lnTo>
                    <a:close/>
                    <a:moveTo>
                      <a:pt x="452" y="468"/>
                    </a:moveTo>
                    <a:lnTo>
                      <a:pt x="473" y="454"/>
                    </a:lnTo>
                    <a:lnTo>
                      <a:pt x="473" y="432"/>
                    </a:lnTo>
                    <a:lnTo>
                      <a:pt x="452" y="422"/>
                    </a:lnTo>
                    <a:lnTo>
                      <a:pt x="432" y="432"/>
                    </a:lnTo>
                    <a:lnTo>
                      <a:pt x="432" y="454"/>
                    </a:lnTo>
                    <a:lnTo>
                      <a:pt x="452" y="468"/>
                    </a:lnTo>
                    <a:close/>
                    <a:moveTo>
                      <a:pt x="505" y="468"/>
                    </a:moveTo>
                    <a:lnTo>
                      <a:pt x="526" y="454"/>
                    </a:lnTo>
                    <a:lnTo>
                      <a:pt x="526" y="432"/>
                    </a:lnTo>
                    <a:lnTo>
                      <a:pt x="505" y="422"/>
                    </a:lnTo>
                    <a:lnTo>
                      <a:pt x="485" y="432"/>
                    </a:lnTo>
                    <a:lnTo>
                      <a:pt x="485" y="454"/>
                    </a:lnTo>
                    <a:lnTo>
                      <a:pt x="505" y="468"/>
                    </a:lnTo>
                    <a:close/>
                    <a:moveTo>
                      <a:pt x="560" y="468"/>
                    </a:moveTo>
                    <a:lnTo>
                      <a:pt x="579" y="454"/>
                    </a:lnTo>
                    <a:lnTo>
                      <a:pt x="579" y="432"/>
                    </a:lnTo>
                    <a:lnTo>
                      <a:pt x="560" y="422"/>
                    </a:lnTo>
                    <a:lnTo>
                      <a:pt x="540" y="432"/>
                    </a:lnTo>
                    <a:lnTo>
                      <a:pt x="540" y="454"/>
                    </a:lnTo>
                    <a:lnTo>
                      <a:pt x="560" y="468"/>
                    </a:lnTo>
                    <a:close/>
                    <a:moveTo>
                      <a:pt x="344" y="468"/>
                    </a:moveTo>
                    <a:lnTo>
                      <a:pt x="364" y="454"/>
                    </a:lnTo>
                    <a:lnTo>
                      <a:pt x="364" y="432"/>
                    </a:lnTo>
                    <a:lnTo>
                      <a:pt x="344" y="422"/>
                    </a:lnTo>
                    <a:lnTo>
                      <a:pt x="324" y="432"/>
                    </a:lnTo>
                    <a:lnTo>
                      <a:pt x="324" y="454"/>
                    </a:lnTo>
                    <a:lnTo>
                      <a:pt x="344" y="468"/>
                    </a:lnTo>
                    <a:close/>
                    <a:moveTo>
                      <a:pt x="400" y="468"/>
                    </a:moveTo>
                    <a:lnTo>
                      <a:pt x="418" y="454"/>
                    </a:lnTo>
                    <a:lnTo>
                      <a:pt x="418" y="432"/>
                    </a:lnTo>
                    <a:lnTo>
                      <a:pt x="400" y="422"/>
                    </a:lnTo>
                    <a:lnTo>
                      <a:pt x="379" y="432"/>
                    </a:lnTo>
                    <a:lnTo>
                      <a:pt x="379" y="454"/>
                    </a:lnTo>
                    <a:lnTo>
                      <a:pt x="400" y="468"/>
                    </a:lnTo>
                    <a:close/>
                    <a:moveTo>
                      <a:pt x="560" y="279"/>
                    </a:moveTo>
                    <a:lnTo>
                      <a:pt x="579" y="269"/>
                    </a:lnTo>
                    <a:lnTo>
                      <a:pt x="579" y="246"/>
                    </a:lnTo>
                    <a:lnTo>
                      <a:pt x="560" y="233"/>
                    </a:lnTo>
                    <a:lnTo>
                      <a:pt x="540" y="246"/>
                    </a:lnTo>
                    <a:lnTo>
                      <a:pt x="540" y="269"/>
                    </a:lnTo>
                    <a:lnTo>
                      <a:pt x="560" y="279"/>
                    </a:lnTo>
                    <a:close/>
                    <a:moveTo>
                      <a:pt x="344" y="279"/>
                    </a:moveTo>
                    <a:lnTo>
                      <a:pt x="364" y="269"/>
                    </a:lnTo>
                    <a:lnTo>
                      <a:pt x="364" y="246"/>
                    </a:lnTo>
                    <a:lnTo>
                      <a:pt x="344" y="233"/>
                    </a:lnTo>
                    <a:lnTo>
                      <a:pt x="324" y="246"/>
                    </a:lnTo>
                    <a:lnTo>
                      <a:pt x="324" y="269"/>
                    </a:lnTo>
                    <a:lnTo>
                      <a:pt x="344" y="279"/>
                    </a:lnTo>
                    <a:close/>
                    <a:moveTo>
                      <a:pt x="400" y="279"/>
                    </a:moveTo>
                    <a:lnTo>
                      <a:pt x="418" y="269"/>
                    </a:lnTo>
                    <a:lnTo>
                      <a:pt x="418" y="246"/>
                    </a:lnTo>
                    <a:lnTo>
                      <a:pt x="400" y="233"/>
                    </a:lnTo>
                    <a:lnTo>
                      <a:pt x="379" y="246"/>
                    </a:lnTo>
                    <a:lnTo>
                      <a:pt x="379" y="269"/>
                    </a:lnTo>
                    <a:lnTo>
                      <a:pt x="400" y="279"/>
                    </a:lnTo>
                    <a:close/>
                    <a:moveTo>
                      <a:pt x="452" y="279"/>
                    </a:moveTo>
                    <a:lnTo>
                      <a:pt x="473" y="269"/>
                    </a:lnTo>
                    <a:lnTo>
                      <a:pt x="473" y="246"/>
                    </a:lnTo>
                    <a:lnTo>
                      <a:pt x="452" y="233"/>
                    </a:lnTo>
                    <a:lnTo>
                      <a:pt x="432" y="246"/>
                    </a:lnTo>
                    <a:lnTo>
                      <a:pt x="432" y="269"/>
                    </a:lnTo>
                    <a:lnTo>
                      <a:pt x="452" y="279"/>
                    </a:lnTo>
                    <a:close/>
                    <a:moveTo>
                      <a:pt x="505" y="279"/>
                    </a:moveTo>
                    <a:lnTo>
                      <a:pt x="526" y="269"/>
                    </a:lnTo>
                    <a:lnTo>
                      <a:pt x="526" y="246"/>
                    </a:lnTo>
                    <a:lnTo>
                      <a:pt x="505" y="233"/>
                    </a:lnTo>
                    <a:lnTo>
                      <a:pt x="485" y="246"/>
                    </a:lnTo>
                    <a:lnTo>
                      <a:pt x="485" y="269"/>
                    </a:lnTo>
                    <a:lnTo>
                      <a:pt x="505" y="279"/>
                    </a:lnTo>
                    <a:close/>
                    <a:moveTo>
                      <a:pt x="371" y="233"/>
                    </a:moveTo>
                    <a:lnTo>
                      <a:pt x="392" y="222"/>
                    </a:lnTo>
                    <a:lnTo>
                      <a:pt x="392" y="199"/>
                    </a:lnTo>
                    <a:lnTo>
                      <a:pt x="371" y="187"/>
                    </a:lnTo>
                    <a:lnTo>
                      <a:pt x="351" y="199"/>
                    </a:lnTo>
                    <a:lnTo>
                      <a:pt x="351" y="222"/>
                    </a:lnTo>
                    <a:lnTo>
                      <a:pt x="371" y="233"/>
                    </a:lnTo>
                    <a:close/>
                    <a:moveTo>
                      <a:pt x="426" y="233"/>
                    </a:moveTo>
                    <a:lnTo>
                      <a:pt x="445" y="222"/>
                    </a:lnTo>
                    <a:lnTo>
                      <a:pt x="445" y="199"/>
                    </a:lnTo>
                    <a:lnTo>
                      <a:pt x="426" y="187"/>
                    </a:lnTo>
                    <a:lnTo>
                      <a:pt x="406" y="199"/>
                    </a:lnTo>
                    <a:lnTo>
                      <a:pt x="406" y="222"/>
                    </a:lnTo>
                    <a:lnTo>
                      <a:pt x="426" y="233"/>
                    </a:lnTo>
                    <a:close/>
                    <a:moveTo>
                      <a:pt x="480" y="233"/>
                    </a:moveTo>
                    <a:lnTo>
                      <a:pt x="500" y="222"/>
                    </a:lnTo>
                    <a:lnTo>
                      <a:pt x="500" y="199"/>
                    </a:lnTo>
                    <a:lnTo>
                      <a:pt x="480" y="187"/>
                    </a:lnTo>
                    <a:lnTo>
                      <a:pt x="458" y="199"/>
                    </a:lnTo>
                    <a:lnTo>
                      <a:pt x="458" y="222"/>
                    </a:lnTo>
                    <a:lnTo>
                      <a:pt x="480" y="233"/>
                    </a:lnTo>
                    <a:close/>
                    <a:moveTo>
                      <a:pt x="532" y="233"/>
                    </a:moveTo>
                    <a:lnTo>
                      <a:pt x="552" y="222"/>
                    </a:lnTo>
                    <a:lnTo>
                      <a:pt x="552" y="199"/>
                    </a:lnTo>
                    <a:lnTo>
                      <a:pt x="532" y="187"/>
                    </a:lnTo>
                    <a:lnTo>
                      <a:pt x="514" y="199"/>
                    </a:lnTo>
                    <a:lnTo>
                      <a:pt x="514" y="222"/>
                    </a:lnTo>
                    <a:lnTo>
                      <a:pt x="532" y="233"/>
                    </a:lnTo>
                    <a:close/>
                    <a:moveTo>
                      <a:pt x="344" y="187"/>
                    </a:moveTo>
                    <a:lnTo>
                      <a:pt x="364" y="175"/>
                    </a:lnTo>
                    <a:lnTo>
                      <a:pt x="364" y="153"/>
                    </a:lnTo>
                    <a:lnTo>
                      <a:pt x="344" y="140"/>
                    </a:lnTo>
                    <a:lnTo>
                      <a:pt x="324" y="153"/>
                    </a:lnTo>
                    <a:lnTo>
                      <a:pt x="324" y="175"/>
                    </a:lnTo>
                    <a:lnTo>
                      <a:pt x="344" y="187"/>
                    </a:lnTo>
                    <a:close/>
                    <a:moveTo>
                      <a:pt x="400" y="187"/>
                    </a:moveTo>
                    <a:lnTo>
                      <a:pt x="418" y="175"/>
                    </a:lnTo>
                    <a:lnTo>
                      <a:pt x="418" y="153"/>
                    </a:lnTo>
                    <a:lnTo>
                      <a:pt x="400" y="140"/>
                    </a:lnTo>
                    <a:lnTo>
                      <a:pt x="379" y="153"/>
                    </a:lnTo>
                    <a:lnTo>
                      <a:pt x="379" y="175"/>
                    </a:lnTo>
                    <a:lnTo>
                      <a:pt x="400" y="187"/>
                    </a:lnTo>
                    <a:close/>
                    <a:moveTo>
                      <a:pt x="452" y="187"/>
                    </a:moveTo>
                    <a:lnTo>
                      <a:pt x="473" y="175"/>
                    </a:lnTo>
                    <a:lnTo>
                      <a:pt x="473" y="153"/>
                    </a:lnTo>
                    <a:lnTo>
                      <a:pt x="452" y="140"/>
                    </a:lnTo>
                    <a:lnTo>
                      <a:pt x="432" y="153"/>
                    </a:lnTo>
                    <a:lnTo>
                      <a:pt x="432" y="175"/>
                    </a:lnTo>
                    <a:lnTo>
                      <a:pt x="452" y="187"/>
                    </a:lnTo>
                    <a:close/>
                    <a:moveTo>
                      <a:pt x="505" y="187"/>
                    </a:moveTo>
                    <a:lnTo>
                      <a:pt x="526" y="175"/>
                    </a:lnTo>
                    <a:lnTo>
                      <a:pt x="526" y="153"/>
                    </a:lnTo>
                    <a:lnTo>
                      <a:pt x="505" y="140"/>
                    </a:lnTo>
                    <a:lnTo>
                      <a:pt x="485" y="153"/>
                    </a:lnTo>
                    <a:lnTo>
                      <a:pt x="485" y="175"/>
                    </a:lnTo>
                    <a:lnTo>
                      <a:pt x="505" y="187"/>
                    </a:lnTo>
                    <a:close/>
                    <a:moveTo>
                      <a:pt x="560" y="187"/>
                    </a:moveTo>
                    <a:lnTo>
                      <a:pt x="579" y="175"/>
                    </a:lnTo>
                    <a:lnTo>
                      <a:pt x="579" y="153"/>
                    </a:lnTo>
                    <a:lnTo>
                      <a:pt x="560" y="140"/>
                    </a:lnTo>
                    <a:lnTo>
                      <a:pt x="540" y="153"/>
                    </a:lnTo>
                    <a:lnTo>
                      <a:pt x="540" y="175"/>
                    </a:lnTo>
                    <a:lnTo>
                      <a:pt x="560" y="187"/>
                    </a:lnTo>
                    <a:close/>
                    <a:moveTo>
                      <a:pt x="480" y="422"/>
                    </a:moveTo>
                    <a:lnTo>
                      <a:pt x="500" y="408"/>
                    </a:lnTo>
                    <a:lnTo>
                      <a:pt x="500" y="386"/>
                    </a:lnTo>
                    <a:lnTo>
                      <a:pt x="480" y="375"/>
                    </a:lnTo>
                    <a:lnTo>
                      <a:pt x="458" y="386"/>
                    </a:lnTo>
                    <a:lnTo>
                      <a:pt x="458" y="408"/>
                    </a:lnTo>
                    <a:lnTo>
                      <a:pt x="480" y="422"/>
                    </a:lnTo>
                    <a:close/>
                    <a:moveTo>
                      <a:pt x="532" y="422"/>
                    </a:moveTo>
                    <a:lnTo>
                      <a:pt x="552" y="408"/>
                    </a:lnTo>
                    <a:lnTo>
                      <a:pt x="552" y="386"/>
                    </a:lnTo>
                    <a:lnTo>
                      <a:pt x="532" y="375"/>
                    </a:lnTo>
                    <a:lnTo>
                      <a:pt x="514" y="386"/>
                    </a:lnTo>
                    <a:lnTo>
                      <a:pt x="514" y="408"/>
                    </a:lnTo>
                    <a:lnTo>
                      <a:pt x="532" y="422"/>
                    </a:lnTo>
                    <a:close/>
                    <a:moveTo>
                      <a:pt x="586" y="422"/>
                    </a:moveTo>
                    <a:lnTo>
                      <a:pt x="608" y="408"/>
                    </a:lnTo>
                    <a:lnTo>
                      <a:pt x="608" y="386"/>
                    </a:lnTo>
                    <a:lnTo>
                      <a:pt x="586" y="375"/>
                    </a:lnTo>
                    <a:lnTo>
                      <a:pt x="566" y="386"/>
                    </a:lnTo>
                    <a:lnTo>
                      <a:pt x="566" y="408"/>
                    </a:lnTo>
                    <a:lnTo>
                      <a:pt x="586" y="422"/>
                    </a:lnTo>
                    <a:close/>
                    <a:moveTo>
                      <a:pt x="371" y="422"/>
                    </a:moveTo>
                    <a:lnTo>
                      <a:pt x="392" y="408"/>
                    </a:lnTo>
                    <a:lnTo>
                      <a:pt x="392" y="386"/>
                    </a:lnTo>
                    <a:lnTo>
                      <a:pt x="371" y="375"/>
                    </a:lnTo>
                    <a:lnTo>
                      <a:pt x="351" y="386"/>
                    </a:lnTo>
                    <a:lnTo>
                      <a:pt x="351" y="408"/>
                    </a:lnTo>
                    <a:lnTo>
                      <a:pt x="371" y="422"/>
                    </a:lnTo>
                    <a:close/>
                    <a:moveTo>
                      <a:pt x="426" y="422"/>
                    </a:moveTo>
                    <a:lnTo>
                      <a:pt x="445" y="408"/>
                    </a:lnTo>
                    <a:lnTo>
                      <a:pt x="445" y="386"/>
                    </a:lnTo>
                    <a:lnTo>
                      <a:pt x="426" y="375"/>
                    </a:lnTo>
                    <a:lnTo>
                      <a:pt x="406" y="386"/>
                    </a:lnTo>
                    <a:lnTo>
                      <a:pt x="406" y="408"/>
                    </a:lnTo>
                    <a:lnTo>
                      <a:pt x="426" y="422"/>
                    </a:lnTo>
                    <a:close/>
                    <a:moveTo>
                      <a:pt x="400" y="375"/>
                    </a:moveTo>
                    <a:lnTo>
                      <a:pt x="418" y="361"/>
                    </a:lnTo>
                    <a:lnTo>
                      <a:pt x="418" y="339"/>
                    </a:lnTo>
                    <a:lnTo>
                      <a:pt x="400" y="328"/>
                    </a:lnTo>
                    <a:lnTo>
                      <a:pt x="379" y="339"/>
                    </a:lnTo>
                    <a:lnTo>
                      <a:pt x="379" y="361"/>
                    </a:lnTo>
                    <a:lnTo>
                      <a:pt x="400" y="375"/>
                    </a:lnTo>
                    <a:close/>
                    <a:moveTo>
                      <a:pt x="452" y="375"/>
                    </a:moveTo>
                    <a:lnTo>
                      <a:pt x="473" y="361"/>
                    </a:lnTo>
                    <a:lnTo>
                      <a:pt x="473" y="339"/>
                    </a:lnTo>
                    <a:lnTo>
                      <a:pt x="452" y="328"/>
                    </a:lnTo>
                    <a:lnTo>
                      <a:pt x="432" y="339"/>
                    </a:lnTo>
                    <a:lnTo>
                      <a:pt x="432" y="361"/>
                    </a:lnTo>
                    <a:lnTo>
                      <a:pt x="452" y="375"/>
                    </a:lnTo>
                    <a:close/>
                    <a:moveTo>
                      <a:pt x="505" y="375"/>
                    </a:moveTo>
                    <a:lnTo>
                      <a:pt x="526" y="361"/>
                    </a:lnTo>
                    <a:lnTo>
                      <a:pt x="526" y="339"/>
                    </a:lnTo>
                    <a:lnTo>
                      <a:pt x="505" y="328"/>
                    </a:lnTo>
                    <a:lnTo>
                      <a:pt x="485" y="339"/>
                    </a:lnTo>
                    <a:lnTo>
                      <a:pt x="485" y="361"/>
                    </a:lnTo>
                    <a:lnTo>
                      <a:pt x="505" y="375"/>
                    </a:lnTo>
                    <a:close/>
                    <a:moveTo>
                      <a:pt x="560" y="375"/>
                    </a:moveTo>
                    <a:lnTo>
                      <a:pt x="579" y="361"/>
                    </a:lnTo>
                    <a:lnTo>
                      <a:pt x="579" y="339"/>
                    </a:lnTo>
                    <a:lnTo>
                      <a:pt x="560" y="328"/>
                    </a:lnTo>
                    <a:lnTo>
                      <a:pt x="540" y="339"/>
                    </a:lnTo>
                    <a:lnTo>
                      <a:pt x="540" y="361"/>
                    </a:lnTo>
                    <a:lnTo>
                      <a:pt x="560" y="375"/>
                    </a:lnTo>
                    <a:close/>
                    <a:moveTo>
                      <a:pt x="344" y="375"/>
                    </a:moveTo>
                    <a:lnTo>
                      <a:pt x="364" y="361"/>
                    </a:lnTo>
                    <a:lnTo>
                      <a:pt x="364" y="339"/>
                    </a:lnTo>
                    <a:lnTo>
                      <a:pt x="344" y="328"/>
                    </a:lnTo>
                    <a:lnTo>
                      <a:pt x="324" y="339"/>
                    </a:lnTo>
                    <a:lnTo>
                      <a:pt x="324" y="361"/>
                    </a:lnTo>
                    <a:lnTo>
                      <a:pt x="344" y="375"/>
                    </a:lnTo>
                    <a:close/>
                    <a:moveTo>
                      <a:pt x="371" y="326"/>
                    </a:moveTo>
                    <a:lnTo>
                      <a:pt x="392" y="314"/>
                    </a:lnTo>
                    <a:lnTo>
                      <a:pt x="392" y="293"/>
                    </a:lnTo>
                    <a:lnTo>
                      <a:pt x="371" y="281"/>
                    </a:lnTo>
                    <a:lnTo>
                      <a:pt x="351" y="293"/>
                    </a:lnTo>
                    <a:lnTo>
                      <a:pt x="351" y="314"/>
                    </a:lnTo>
                    <a:lnTo>
                      <a:pt x="371" y="326"/>
                    </a:lnTo>
                    <a:close/>
                    <a:moveTo>
                      <a:pt x="426" y="326"/>
                    </a:moveTo>
                    <a:lnTo>
                      <a:pt x="445" y="314"/>
                    </a:lnTo>
                    <a:lnTo>
                      <a:pt x="445" y="293"/>
                    </a:lnTo>
                    <a:lnTo>
                      <a:pt x="426" y="281"/>
                    </a:lnTo>
                    <a:lnTo>
                      <a:pt x="406" y="293"/>
                    </a:lnTo>
                    <a:lnTo>
                      <a:pt x="406" y="314"/>
                    </a:lnTo>
                    <a:lnTo>
                      <a:pt x="426" y="326"/>
                    </a:lnTo>
                    <a:close/>
                    <a:moveTo>
                      <a:pt x="480" y="326"/>
                    </a:moveTo>
                    <a:lnTo>
                      <a:pt x="500" y="314"/>
                    </a:lnTo>
                    <a:lnTo>
                      <a:pt x="500" y="293"/>
                    </a:lnTo>
                    <a:lnTo>
                      <a:pt x="480" y="281"/>
                    </a:lnTo>
                    <a:lnTo>
                      <a:pt x="458" y="293"/>
                    </a:lnTo>
                    <a:lnTo>
                      <a:pt x="458" y="314"/>
                    </a:lnTo>
                    <a:lnTo>
                      <a:pt x="480" y="326"/>
                    </a:lnTo>
                    <a:close/>
                    <a:moveTo>
                      <a:pt x="532" y="326"/>
                    </a:moveTo>
                    <a:lnTo>
                      <a:pt x="552" y="314"/>
                    </a:lnTo>
                    <a:lnTo>
                      <a:pt x="552" y="293"/>
                    </a:lnTo>
                    <a:lnTo>
                      <a:pt x="532" y="281"/>
                    </a:lnTo>
                    <a:lnTo>
                      <a:pt x="514" y="293"/>
                    </a:lnTo>
                    <a:lnTo>
                      <a:pt x="514" y="314"/>
                    </a:lnTo>
                    <a:lnTo>
                      <a:pt x="532" y="326"/>
                    </a:lnTo>
                    <a:close/>
                    <a:moveTo>
                      <a:pt x="480" y="140"/>
                    </a:moveTo>
                    <a:lnTo>
                      <a:pt x="500" y="129"/>
                    </a:lnTo>
                    <a:lnTo>
                      <a:pt x="500" y="105"/>
                    </a:lnTo>
                    <a:lnTo>
                      <a:pt x="480" y="93"/>
                    </a:lnTo>
                    <a:lnTo>
                      <a:pt x="458" y="105"/>
                    </a:lnTo>
                    <a:lnTo>
                      <a:pt x="458" y="129"/>
                    </a:lnTo>
                    <a:lnTo>
                      <a:pt x="480" y="140"/>
                    </a:lnTo>
                    <a:close/>
                    <a:moveTo>
                      <a:pt x="532" y="140"/>
                    </a:moveTo>
                    <a:lnTo>
                      <a:pt x="552" y="129"/>
                    </a:lnTo>
                    <a:lnTo>
                      <a:pt x="552" y="105"/>
                    </a:lnTo>
                    <a:lnTo>
                      <a:pt x="532" y="93"/>
                    </a:lnTo>
                    <a:lnTo>
                      <a:pt x="514" y="105"/>
                    </a:lnTo>
                    <a:lnTo>
                      <a:pt x="514" y="129"/>
                    </a:lnTo>
                    <a:lnTo>
                      <a:pt x="532" y="140"/>
                    </a:lnTo>
                    <a:close/>
                    <a:moveTo>
                      <a:pt x="505" y="93"/>
                    </a:moveTo>
                    <a:lnTo>
                      <a:pt x="526" y="82"/>
                    </a:lnTo>
                    <a:lnTo>
                      <a:pt x="526" y="58"/>
                    </a:lnTo>
                    <a:lnTo>
                      <a:pt x="505" y="47"/>
                    </a:lnTo>
                    <a:lnTo>
                      <a:pt x="485" y="58"/>
                    </a:lnTo>
                    <a:lnTo>
                      <a:pt x="485" y="82"/>
                    </a:lnTo>
                    <a:lnTo>
                      <a:pt x="505" y="93"/>
                    </a:lnTo>
                    <a:close/>
                    <a:moveTo>
                      <a:pt x="560" y="93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60" y="47"/>
                    </a:lnTo>
                    <a:lnTo>
                      <a:pt x="540" y="58"/>
                    </a:lnTo>
                    <a:lnTo>
                      <a:pt x="540" y="82"/>
                    </a:lnTo>
                    <a:lnTo>
                      <a:pt x="560" y="93"/>
                    </a:lnTo>
                    <a:close/>
                    <a:moveTo>
                      <a:pt x="371" y="140"/>
                    </a:moveTo>
                    <a:lnTo>
                      <a:pt x="392" y="129"/>
                    </a:lnTo>
                    <a:lnTo>
                      <a:pt x="392" y="105"/>
                    </a:lnTo>
                    <a:lnTo>
                      <a:pt x="371" y="93"/>
                    </a:lnTo>
                    <a:lnTo>
                      <a:pt x="351" y="105"/>
                    </a:lnTo>
                    <a:lnTo>
                      <a:pt x="351" y="129"/>
                    </a:lnTo>
                    <a:lnTo>
                      <a:pt x="371" y="140"/>
                    </a:lnTo>
                    <a:close/>
                    <a:moveTo>
                      <a:pt x="426" y="140"/>
                    </a:moveTo>
                    <a:lnTo>
                      <a:pt x="445" y="129"/>
                    </a:lnTo>
                    <a:lnTo>
                      <a:pt x="445" y="105"/>
                    </a:lnTo>
                    <a:lnTo>
                      <a:pt x="426" y="93"/>
                    </a:lnTo>
                    <a:lnTo>
                      <a:pt x="406" y="105"/>
                    </a:lnTo>
                    <a:lnTo>
                      <a:pt x="406" y="129"/>
                    </a:lnTo>
                    <a:lnTo>
                      <a:pt x="426" y="140"/>
                    </a:lnTo>
                    <a:close/>
                    <a:moveTo>
                      <a:pt x="748" y="607"/>
                    </a:moveTo>
                    <a:lnTo>
                      <a:pt x="768" y="596"/>
                    </a:lnTo>
                    <a:lnTo>
                      <a:pt x="768" y="572"/>
                    </a:lnTo>
                    <a:lnTo>
                      <a:pt x="748" y="560"/>
                    </a:lnTo>
                    <a:lnTo>
                      <a:pt x="728" y="572"/>
                    </a:lnTo>
                    <a:lnTo>
                      <a:pt x="728" y="596"/>
                    </a:lnTo>
                    <a:lnTo>
                      <a:pt x="748" y="607"/>
                    </a:lnTo>
                    <a:close/>
                    <a:moveTo>
                      <a:pt x="803" y="607"/>
                    </a:moveTo>
                    <a:lnTo>
                      <a:pt x="823" y="596"/>
                    </a:lnTo>
                    <a:lnTo>
                      <a:pt x="823" y="572"/>
                    </a:lnTo>
                    <a:lnTo>
                      <a:pt x="803" y="560"/>
                    </a:lnTo>
                    <a:lnTo>
                      <a:pt x="783" y="572"/>
                    </a:lnTo>
                    <a:lnTo>
                      <a:pt x="783" y="596"/>
                    </a:lnTo>
                    <a:lnTo>
                      <a:pt x="803" y="607"/>
                    </a:lnTo>
                    <a:close/>
                    <a:moveTo>
                      <a:pt x="858" y="607"/>
                    </a:moveTo>
                    <a:lnTo>
                      <a:pt x="878" y="596"/>
                    </a:lnTo>
                    <a:lnTo>
                      <a:pt x="878" y="572"/>
                    </a:lnTo>
                    <a:lnTo>
                      <a:pt x="858" y="560"/>
                    </a:lnTo>
                    <a:lnTo>
                      <a:pt x="836" y="572"/>
                    </a:lnTo>
                    <a:lnTo>
                      <a:pt x="836" y="596"/>
                    </a:lnTo>
                    <a:lnTo>
                      <a:pt x="858" y="607"/>
                    </a:lnTo>
                    <a:close/>
                    <a:moveTo>
                      <a:pt x="911" y="607"/>
                    </a:moveTo>
                    <a:lnTo>
                      <a:pt x="931" y="596"/>
                    </a:lnTo>
                    <a:lnTo>
                      <a:pt x="931" y="572"/>
                    </a:lnTo>
                    <a:lnTo>
                      <a:pt x="911" y="560"/>
                    </a:lnTo>
                    <a:lnTo>
                      <a:pt x="891" y="572"/>
                    </a:lnTo>
                    <a:lnTo>
                      <a:pt x="891" y="596"/>
                    </a:lnTo>
                    <a:lnTo>
                      <a:pt x="911" y="607"/>
                    </a:lnTo>
                    <a:close/>
                    <a:moveTo>
                      <a:pt x="532" y="607"/>
                    </a:moveTo>
                    <a:lnTo>
                      <a:pt x="552" y="596"/>
                    </a:lnTo>
                    <a:lnTo>
                      <a:pt x="552" y="572"/>
                    </a:lnTo>
                    <a:lnTo>
                      <a:pt x="532" y="560"/>
                    </a:lnTo>
                    <a:lnTo>
                      <a:pt x="514" y="572"/>
                    </a:lnTo>
                    <a:lnTo>
                      <a:pt x="514" y="596"/>
                    </a:lnTo>
                    <a:lnTo>
                      <a:pt x="532" y="607"/>
                    </a:lnTo>
                    <a:close/>
                    <a:moveTo>
                      <a:pt x="586" y="607"/>
                    </a:moveTo>
                    <a:lnTo>
                      <a:pt x="608" y="596"/>
                    </a:lnTo>
                    <a:lnTo>
                      <a:pt x="608" y="572"/>
                    </a:lnTo>
                    <a:lnTo>
                      <a:pt x="586" y="560"/>
                    </a:lnTo>
                    <a:lnTo>
                      <a:pt x="566" y="572"/>
                    </a:lnTo>
                    <a:lnTo>
                      <a:pt x="566" y="596"/>
                    </a:lnTo>
                    <a:lnTo>
                      <a:pt x="586" y="607"/>
                    </a:lnTo>
                    <a:close/>
                    <a:moveTo>
                      <a:pt x="640" y="607"/>
                    </a:moveTo>
                    <a:lnTo>
                      <a:pt x="660" y="596"/>
                    </a:lnTo>
                    <a:lnTo>
                      <a:pt x="660" y="572"/>
                    </a:lnTo>
                    <a:lnTo>
                      <a:pt x="640" y="560"/>
                    </a:lnTo>
                    <a:lnTo>
                      <a:pt x="621" y="572"/>
                    </a:lnTo>
                    <a:lnTo>
                      <a:pt x="621" y="596"/>
                    </a:lnTo>
                    <a:lnTo>
                      <a:pt x="640" y="607"/>
                    </a:lnTo>
                    <a:close/>
                    <a:moveTo>
                      <a:pt x="695" y="607"/>
                    </a:moveTo>
                    <a:lnTo>
                      <a:pt x="715" y="596"/>
                    </a:lnTo>
                    <a:lnTo>
                      <a:pt x="715" y="572"/>
                    </a:lnTo>
                    <a:lnTo>
                      <a:pt x="695" y="560"/>
                    </a:lnTo>
                    <a:lnTo>
                      <a:pt x="674" y="572"/>
                    </a:lnTo>
                    <a:lnTo>
                      <a:pt x="674" y="596"/>
                    </a:lnTo>
                    <a:lnTo>
                      <a:pt x="695" y="607"/>
                    </a:lnTo>
                    <a:close/>
                    <a:moveTo>
                      <a:pt x="966" y="607"/>
                    </a:moveTo>
                    <a:lnTo>
                      <a:pt x="985" y="596"/>
                    </a:lnTo>
                    <a:lnTo>
                      <a:pt x="985" y="572"/>
                    </a:lnTo>
                    <a:lnTo>
                      <a:pt x="966" y="560"/>
                    </a:lnTo>
                    <a:lnTo>
                      <a:pt x="946" y="572"/>
                    </a:lnTo>
                    <a:lnTo>
                      <a:pt x="946" y="596"/>
                    </a:lnTo>
                    <a:lnTo>
                      <a:pt x="966" y="607"/>
                    </a:lnTo>
                    <a:close/>
                    <a:moveTo>
                      <a:pt x="1018" y="607"/>
                    </a:moveTo>
                    <a:lnTo>
                      <a:pt x="1040" y="596"/>
                    </a:lnTo>
                    <a:lnTo>
                      <a:pt x="1040" y="572"/>
                    </a:lnTo>
                    <a:lnTo>
                      <a:pt x="1018" y="560"/>
                    </a:lnTo>
                    <a:lnTo>
                      <a:pt x="998" y="572"/>
                    </a:lnTo>
                    <a:lnTo>
                      <a:pt x="998" y="596"/>
                    </a:lnTo>
                    <a:lnTo>
                      <a:pt x="1018" y="607"/>
                    </a:lnTo>
                    <a:close/>
                    <a:moveTo>
                      <a:pt x="1072" y="607"/>
                    </a:moveTo>
                    <a:lnTo>
                      <a:pt x="1092" y="596"/>
                    </a:lnTo>
                    <a:lnTo>
                      <a:pt x="1092" y="572"/>
                    </a:lnTo>
                    <a:lnTo>
                      <a:pt x="1072" y="560"/>
                    </a:lnTo>
                    <a:lnTo>
                      <a:pt x="1054" y="572"/>
                    </a:lnTo>
                    <a:lnTo>
                      <a:pt x="1054" y="596"/>
                    </a:lnTo>
                    <a:lnTo>
                      <a:pt x="1072" y="607"/>
                    </a:lnTo>
                    <a:close/>
                    <a:moveTo>
                      <a:pt x="884" y="560"/>
                    </a:moveTo>
                    <a:lnTo>
                      <a:pt x="904" y="550"/>
                    </a:lnTo>
                    <a:lnTo>
                      <a:pt x="904" y="525"/>
                    </a:lnTo>
                    <a:lnTo>
                      <a:pt x="884" y="514"/>
                    </a:lnTo>
                    <a:lnTo>
                      <a:pt x="864" y="525"/>
                    </a:lnTo>
                    <a:lnTo>
                      <a:pt x="864" y="550"/>
                    </a:lnTo>
                    <a:lnTo>
                      <a:pt x="884" y="560"/>
                    </a:lnTo>
                    <a:close/>
                    <a:moveTo>
                      <a:pt x="940" y="560"/>
                    </a:moveTo>
                    <a:lnTo>
                      <a:pt x="958" y="550"/>
                    </a:lnTo>
                    <a:lnTo>
                      <a:pt x="958" y="525"/>
                    </a:lnTo>
                    <a:lnTo>
                      <a:pt x="940" y="514"/>
                    </a:lnTo>
                    <a:lnTo>
                      <a:pt x="917" y="525"/>
                    </a:lnTo>
                    <a:lnTo>
                      <a:pt x="917" y="550"/>
                    </a:lnTo>
                    <a:lnTo>
                      <a:pt x="940" y="560"/>
                    </a:lnTo>
                    <a:close/>
                    <a:moveTo>
                      <a:pt x="992" y="560"/>
                    </a:moveTo>
                    <a:lnTo>
                      <a:pt x="1011" y="550"/>
                    </a:lnTo>
                    <a:lnTo>
                      <a:pt x="1011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50"/>
                    </a:lnTo>
                    <a:lnTo>
                      <a:pt x="992" y="560"/>
                    </a:lnTo>
                    <a:close/>
                    <a:moveTo>
                      <a:pt x="1046" y="560"/>
                    </a:moveTo>
                    <a:lnTo>
                      <a:pt x="1066" y="550"/>
                    </a:lnTo>
                    <a:lnTo>
                      <a:pt x="1066" y="525"/>
                    </a:lnTo>
                    <a:lnTo>
                      <a:pt x="1046" y="514"/>
                    </a:lnTo>
                    <a:lnTo>
                      <a:pt x="1027" y="525"/>
                    </a:lnTo>
                    <a:lnTo>
                      <a:pt x="1027" y="550"/>
                    </a:lnTo>
                    <a:lnTo>
                      <a:pt x="1046" y="560"/>
                    </a:lnTo>
                    <a:close/>
                    <a:moveTo>
                      <a:pt x="666" y="560"/>
                    </a:moveTo>
                    <a:lnTo>
                      <a:pt x="689" y="550"/>
                    </a:lnTo>
                    <a:lnTo>
                      <a:pt x="689" y="525"/>
                    </a:lnTo>
                    <a:lnTo>
                      <a:pt x="666" y="514"/>
                    </a:lnTo>
                    <a:lnTo>
                      <a:pt x="648" y="525"/>
                    </a:lnTo>
                    <a:lnTo>
                      <a:pt x="648" y="550"/>
                    </a:lnTo>
                    <a:lnTo>
                      <a:pt x="666" y="560"/>
                    </a:lnTo>
                    <a:close/>
                    <a:moveTo>
                      <a:pt x="722" y="560"/>
                    </a:moveTo>
                    <a:lnTo>
                      <a:pt x="742" y="550"/>
                    </a:lnTo>
                    <a:lnTo>
                      <a:pt x="742" y="525"/>
                    </a:lnTo>
                    <a:lnTo>
                      <a:pt x="722" y="514"/>
                    </a:lnTo>
                    <a:lnTo>
                      <a:pt x="701" y="525"/>
                    </a:lnTo>
                    <a:lnTo>
                      <a:pt x="701" y="550"/>
                    </a:lnTo>
                    <a:lnTo>
                      <a:pt x="722" y="560"/>
                    </a:lnTo>
                    <a:close/>
                    <a:moveTo>
                      <a:pt x="777" y="560"/>
                    </a:moveTo>
                    <a:lnTo>
                      <a:pt x="797" y="550"/>
                    </a:lnTo>
                    <a:lnTo>
                      <a:pt x="797" y="525"/>
                    </a:lnTo>
                    <a:lnTo>
                      <a:pt x="777" y="514"/>
                    </a:lnTo>
                    <a:lnTo>
                      <a:pt x="754" y="525"/>
                    </a:lnTo>
                    <a:lnTo>
                      <a:pt x="754" y="550"/>
                    </a:lnTo>
                    <a:lnTo>
                      <a:pt x="777" y="560"/>
                    </a:lnTo>
                    <a:close/>
                    <a:moveTo>
                      <a:pt x="829" y="560"/>
                    </a:moveTo>
                    <a:lnTo>
                      <a:pt x="849" y="550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50"/>
                    </a:lnTo>
                    <a:lnTo>
                      <a:pt x="829" y="560"/>
                    </a:lnTo>
                    <a:close/>
                    <a:moveTo>
                      <a:pt x="505" y="560"/>
                    </a:moveTo>
                    <a:lnTo>
                      <a:pt x="526" y="550"/>
                    </a:lnTo>
                    <a:lnTo>
                      <a:pt x="526" y="525"/>
                    </a:lnTo>
                    <a:lnTo>
                      <a:pt x="505" y="514"/>
                    </a:lnTo>
                    <a:lnTo>
                      <a:pt x="485" y="525"/>
                    </a:lnTo>
                    <a:lnTo>
                      <a:pt x="485" y="550"/>
                    </a:lnTo>
                    <a:lnTo>
                      <a:pt x="505" y="560"/>
                    </a:lnTo>
                    <a:close/>
                    <a:moveTo>
                      <a:pt x="560" y="560"/>
                    </a:moveTo>
                    <a:lnTo>
                      <a:pt x="579" y="550"/>
                    </a:lnTo>
                    <a:lnTo>
                      <a:pt x="579" y="525"/>
                    </a:lnTo>
                    <a:lnTo>
                      <a:pt x="560" y="514"/>
                    </a:lnTo>
                    <a:lnTo>
                      <a:pt x="540" y="525"/>
                    </a:lnTo>
                    <a:lnTo>
                      <a:pt x="540" y="550"/>
                    </a:lnTo>
                    <a:lnTo>
                      <a:pt x="560" y="560"/>
                    </a:lnTo>
                    <a:close/>
                    <a:moveTo>
                      <a:pt x="614" y="560"/>
                    </a:moveTo>
                    <a:lnTo>
                      <a:pt x="634" y="550"/>
                    </a:lnTo>
                    <a:lnTo>
                      <a:pt x="634" y="525"/>
                    </a:lnTo>
                    <a:lnTo>
                      <a:pt x="614" y="514"/>
                    </a:lnTo>
                    <a:lnTo>
                      <a:pt x="592" y="525"/>
                    </a:lnTo>
                    <a:lnTo>
                      <a:pt x="592" y="550"/>
                    </a:lnTo>
                    <a:lnTo>
                      <a:pt x="614" y="560"/>
                    </a:lnTo>
                    <a:close/>
                    <a:moveTo>
                      <a:pt x="911" y="514"/>
                    </a:moveTo>
                    <a:lnTo>
                      <a:pt x="931" y="504"/>
                    </a:lnTo>
                    <a:lnTo>
                      <a:pt x="931" y="478"/>
                    </a:lnTo>
                    <a:lnTo>
                      <a:pt x="911" y="468"/>
                    </a:lnTo>
                    <a:lnTo>
                      <a:pt x="891" y="478"/>
                    </a:lnTo>
                    <a:lnTo>
                      <a:pt x="891" y="504"/>
                    </a:lnTo>
                    <a:lnTo>
                      <a:pt x="911" y="514"/>
                    </a:lnTo>
                    <a:close/>
                    <a:moveTo>
                      <a:pt x="966" y="514"/>
                    </a:moveTo>
                    <a:lnTo>
                      <a:pt x="985" y="504"/>
                    </a:lnTo>
                    <a:lnTo>
                      <a:pt x="985" y="478"/>
                    </a:lnTo>
                    <a:lnTo>
                      <a:pt x="966" y="468"/>
                    </a:lnTo>
                    <a:lnTo>
                      <a:pt x="946" y="478"/>
                    </a:lnTo>
                    <a:lnTo>
                      <a:pt x="946" y="504"/>
                    </a:lnTo>
                    <a:lnTo>
                      <a:pt x="966" y="514"/>
                    </a:lnTo>
                    <a:close/>
                    <a:moveTo>
                      <a:pt x="1018" y="514"/>
                    </a:moveTo>
                    <a:lnTo>
                      <a:pt x="1040" y="504"/>
                    </a:lnTo>
                    <a:lnTo>
                      <a:pt x="1040" y="478"/>
                    </a:lnTo>
                    <a:lnTo>
                      <a:pt x="1018" y="468"/>
                    </a:lnTo>
                    <a:lnTo>
                      <a:pt x="998" y="478"/>
                    </a:lnTo>
                    <a:lnTo>
                      <a:pt x="998" y="504"/>
                    </a:lnTo>
                    <a:lnTo>
                      <a:pt x="1018" y="514"/>
                    </a:lnTo>
                    <a:close/>
                    <a:moveTo>
                      <a:pt x="1072" y="514"/>
                    </a:moveTo>
                    <a:lnTo>
                      <a:pt x="1092" y="504"/>
                    </a:lnTo>
                    <a:lnTo>
                      <a:pt x="1092" y="478"/>
                    </a:lnTo>
                    <a:lnTo>
                      <a:pt x="1072" y="468"/>
                    </a:lnTo>
                    <a:lnTo>
                      <a:pt x="1054" y="478"/>
                    </a:lnTo>
                    <a:lnTo>
                      <a:pt x="1054" y="504"/>
                    </a:lnTo>
                    <a:lnTo>
                      <a:pt x="1072" y="514"/>
                    </a:lnTo>
                    <a:close/>
                    <a:moveTo>
                      <a:pt x="695" y="514"/>
                    </a:moveTo>
                    <a:lnTo>
                      <a:pt x="715" y="504"/>
                    </a:lnTo>
                    <a:lnTo>
                      <a:pt x="715" y="478"/>
                    </a:lnTo>
                    <a:lnTo>
                      <a:pt x="695" y="468"/>
                    </a:lnTo>
                    <a:lnTo>
                      <a:pt x="674" y="478"/>
                    </a:lnTo>
                    <a:lnTo>
                      <a:pt x="674" y="504"/>
                    </a:lnTo>
                    <a:lnTo>
                      <a:pt x="695" y="514"/>
                    </a:lnTo>
                    <a:close/>
                    <a:moveTo>
                      <a:pt x="748" y="514"/>
                    </a:moveTo>
                    <a:lnTo>
                      <a:pt x="768" y="504"/>
                    </a:lnTo>
                    <a:lnTo>
                      <a:pt x="768" y="478"/>
                    </a:lnTo>
                    <a:lnTo>
                      <a:pt x="748" y="468"/>
                    </a:lnTo>
                    <a:lnTo>
                      <a:pt x="728" y="478"/>
                    </a:lnTo>
                    <a:lnTo>
                      <a:pt x="728" y="504"/>
                    </a:lnTo>
                    <a:lnTo>
                      <a:pt x="748" y="514"/>
                    </a:lnTo>
                    <a:close/>
                    <a:moveTo>
                      <a:pt x="803" y="514"/>
                    </a:moveTo>
                    <a:lnTo>
                      <a:pt x="823" y="504"/>
                    </a:lnTo>
                    <a:lnTo>
                      <a:pt x="823" y="478"/>
                    </a:lnTo>
                    <a:lnTo>
                      <a:pt x="803" y="468"/>
                    </a:lnTo>
                    <a:lnTo>
                      <a:pt x="783" y="478"/>
                    </a:lnTo>
                    <a:lnTo>
                      <a:pt x="783" y="504"/>
                    </a:lnTo>
                    <a:lnTo>
                      <a:pt x="803" y="514"/>
                    </a:lnTo>
                    <a:close/>
                    <a:moveTo>
                      <a:pt x="858" y="514"/>
                    </a:moveTo>
                    <a:lnTo>
                      <a:pt x="878" y="504"/>
                    </a:lnTo>
                    <a:lnTo>
                      <a:pt x="878" y="478"/>
                    </a:lnTo>
                    <a:lnTo>
                      <a:pt x="858" y="468"/>
                    </a:lnTo>
                    <a:lnTo>
                      <a:pt x="836" y="478"/>
                    </a:lnTo>
                    <a:lnTo>
                      <a:pt x="836" y="504"/>
                    </a:lnTo>
                    <a:lnTo>
                      <a:pt x="858" y="514"/>
                    </a:lnTo>
                    <a:close/>
                    <a:moveTo>
                      <a:pt x="640" y="514"/>
                    </a:moveTo>
                    <a:lnTo>
                      <a:pt x="660" y="504"/>
                    </a:lnTo>
                    <a:lnTo>
                      <a:pt x="660" y="478"/>
                    </a:lnTo>
                    <a:lnTo>
                      <a:pt x="640" y="468"/>
                    </a:lnTo>
                    <a:lnTo>
                      <a:pt x="621" y="478"/>
                    </a:lnTo>
                    <a:lnTo>
                      <a:pt x="621" y="504"/>
                    </a:lnTo>
                    <a:lnTo>
                      <a:pt x="640" y="514"/>
                    </a:lnTo>
                    <a:close/>
                    <a:moveTo>
                      <a:pt x="884" y="468"/>
                    </a:moveTo>
                    <a:lnTo>
                      <a:pt x="904" y="454"/>
                    </a:lnTo>
                    <a:lnTo>
                      <a:pt x="904" y="432"/>
                    </a:lnTo>
                    <a:lnTo>
                      <a:pt x="884" y="422"/>
                    </a:lnTo>
                    <a:lnTo>
                      <a:pt x="864" y="432"/>
                    </a:lnTo>
                    <a:lnTo>
                      <a:pt x="864" y="454"/>
                    </a:lnTo>
                    <a:lnTo>
                      <a:pt x="884" y="468"/>
                    </a:lnTo>
                    <a:close/>
                    <a:moveTo>
                      <a:pt x="940" y="468"/>
                    </a:moveTo>
                    <a:lnTo>
                      <a:pt x="958" y="454"/>
                    </a:lnTo>
                    <a:lnTo>
                      <a:pt x="958" y="432"/>
                    </a:lnTo>
                    <a:lnTo>
                      <a:pt x="940" y="422"/>
                    </a:lnTo>
                    <a:lnTo>
                      <a:pt x="917" y="432"/>
                    </a:lnTo>
                    <a:lnTo>
                      <a:pt x="917" y="454"/>
                    </a:lnTo>
                    <a:lnTo>
                      <a:pt x="940" y="468"/>
                    </a:lnTo>
                    <a:close/>
                    <a:moveTo>
                      <a:pt x="992" y="468"/>
                    </a:moveTo>
                    <a:lnTo>
                      <a:pt x="1011" y="454"/>
                    </a:lnTo>
                    <a:lnTo>
                      <a:pt x="1011" y="432"/>
                    </a:lnTo>
                    <a:lnTo>
                      <a:pt x="992" y="422"/>
                    </a:lnTo>
                    <a:lnTo>
                      <a:pt x="972" y="432"/>
                    </a:lnTo>
                    <a:lnTo>
                      <a:pt x="972" y="454"/>
                    </a:lnTo>
                    <a:lnTo>
                      <a:pt x="992" y="468"/>
                    </a:lnTo>
                    <a:close/>
                    <a:moveTo>
                      <a:pt x="1046" y="468"/>
                    </a:moveTo>
                    <a:lnTo>
                      <a:pt x="1066" y="454"/>
                    </a:lnTo>
                    <a:lnTo>
                      <a:pt x="1066" y="432"/>
                    </a:lnTo>
                    <a:lnTo>
                      <a:pt x="1046" y="422"/>
                    </a:lnTo>
                    <a:lnTo>
                      <a:pt x="1027" y="432"/>
                    </a:lnTo>
                    <a:lnTo>
                      <a:pt x="1027" y="454"/>
                    </a:lnTo>
                    <a:lnTo>
                      <a:pt x="1046" y="468"/>
                    </a:lnTo>
                    <a:close/>
                    <a:moveTo>
                      <a:pt x="666" y="468"/>
                    </a:moveTo>
                    <a:lnTo>
                      <a:pt x="689" y="454"/>
                    </a:lnTo>
                    <a:lnTo>
                      <a:pt x="689" y="432"/>
                    </a:lnTo>
                    <a:lnTo>
                      <a:pt x="666" y="422"/>
                    </a:lnTo>
                    <a:lnTo>
                      <a:pt x="648" y="432"/>
                    </a:lnTo>
                    <a:lnTo>
                      <a:pt x="648" y="454"/>
                    </a:lnTo>
                    <a:lnTo>
                      <a:pt x="666" y="468"/>
                    </a:lnTo>
                    <a:close/>
                    <a:moveTo>
                      <a:pt x="722" y="468"/>
                    </a:moveTo>
                    <a:lnTo>
                      <a:pt x="742" y="454"/>
                    </a:lnTo>
                    <a:lnTo>
                      <a:pt x="742" y="432"/>
                    </a:lnTo>
                    <a:lnTo>
                      <a:pt x="722" y="422"/>
                    </a:lnTo>
                    <a:lnTo>
                      <a:pt x="701" y="432"/>
                    </a:lnTo>
                    <a:lnTo>
                      <a:pt x="701" y="454"/>
                    </a:lnTo>
                    <a:lnTo>
                      <a:pt x="722" y="468"/>
                    </a:lnTo>
                    <a:close/>
                    <a:moveTo>
                      <a:pt x="777" y="468"/>
                    </a:moveTo>
                    <a:lnTo>
                      <a:pt x="797" y="454"/>
                    </a:lnTo>
                    <a:lnTo>
                      <a:pt x="797" y="432"/>
                    </a:lnTo>
                    <a:lnTo>
                      <a:pt x="777" y="422"/>
                    </a:lnTo>
                    <a:lnTo>
                      <a:pt x="754" y="432"/>
                    </a:lnTo>
                    <a:lnTo>
                      <a:pt x="754" y="454"/>
                    </a:lnTo>
                    <a:lnTo>
                      <a:pt x="777" y="468"/>
                    </a:lnTo>
                    <a:close/>
                    <a:moveTo>
                      <a:pt x="829" y="468"/>
                    </a:moveTo>
                    <a:lnTo>
                      <a:pt x="849" y="454"/>
                    </a:lnTo>
                    <a:lnTo>
                      <a:pt x="849" y="432"/>
                    </a:lnTo>
                    <a:lnTo>
                      <a:pt x="829" y="422"/>
                    </a:lnTo>
                    <a:lnTo>
                      <a:pt x="809" y="432"/>
                    </a:lnTo>
                    <a:lnTo>
                      <a:pt x="809" y="454"/>
                    </a:lnTo>
                    <a:lnTo>
                      <a:pt x="829" y="468"/>
                    </a:lnTo>
                    <a:close/>
                    <a:moveTo>
                      <a:pt x="614" y="468"/>
                    </a:moveTo>
                    <a:lnTo>
                      <a:pt x="634" y="454"/>
                    </a:lnTo>
                    <a:lnTo>
                      <a:pt x="634" y="432"/>
                    </a:lnTo>
                    <a:lnTo>
                      <a:pt x="614" y="422"/>
                    </a:lnTo>
                    <a:lnTo>
                      <a:pt x="592" y="432"/>
                    </a:lnTo>
                    <a:lnTo>
                      <a:pt x="592" y="454"/>
                    </a:lnTo>
                    <a:lnTo>
                      <a:pt x="614" y="468"/>
                    </a:lnTo>
                    <a:close/>
                    <a:moveTo>
                      <a:pt x="1046" y="654"/>
                    </a:moveTo>
                    <a:lnTo>
                      <a:pt x="1066" y="642"/>
                    </a:lnTo>
                    <a:lnTo>
                      <a:pt x="1066" y="618"/>
                    </a:lnTo>
                    <a:lnTo>
                      <a:pt x="1046" y="607"/>
                    </a:lnTo>
                    <a:lnTo>
                      <a:pt x="1027" y="618"/>
                    </a:lnTo>
                    <a:lnTo>
                      <a:pt x="1027" y="642"/>
                    </a:lnTo>
                    <a:lnTo>
                      <a:pt x="1046" y="654"/>
                    </a:lnTo>
                    <a:close/>
                    <a:moveTo>
                      <a:pt x="505" y="654"/>
                    </a:moveTo>
                    <a:lnTo>
                      <a:pt x="526" y="642"/>
                    </a:lnTo>
                    <a:lnTo>
                      <a:pt x="526" y="618"/>
                    </a:lnTo>
                    <a:lnTo>
                      <a:pt x="505" y="607"/>
                    </a:lnTo>
                    <a:lnTo>
                      <a:pt x="485" y="618"/>
                    </a:lnTo>
                    <a:lnTo>
                      <a:pt x="485" y="642"/>
                    </a:lnTo>
                    <a:lnTo>
                      <a:pt x="505" y="654"/>
                    </a:lnTo>
                    <a:close/>
                    <a:moveTo>
                      <a:pt x="560" y="654"/>
                    </a:moveTo>
                    <a:lnTo>
                      <a:pt x="579" y="642"/>
                    </a:lnTo>
                    <a:lnTo>
                      <a:pt x="579" y="618"/>
                    </a:lnTo>
                    <a:lnTo>
                      <a:pt x="560" y="607"/>
                    </a:lnTo>
                    <a:lnTo>
                      <a:pt x="540" y="618"/>
                    </a:lnTo>
                    <a:lnTo>
                      <a:pt x="540" y="642"/>
                    </a:lnTo>
                    <a:lnTo>
                      <a:pt x="560" y="654"/>
                    </a:lnTo>
                    <a:close/>
                    <a:moveTo>
                      <a:pt x="614" y="654"/>
                    </a:moveTo>
                    <a:lnTo>
                      <a:pt x="634" y="642"/>
                    </a:lnTo>
                    <a:lnTo>
                      <a:pt x="634" y="618"/>
                    </a:lnTo>
                    <a:lnTo>
                      <a:pt x="614" y="607"/>
                    </a:lnTo>
                    <a:lnTo>
                      <a:pt x="592" y="618"/>
                    </a:lnTo>
                    <a:lnTo>
                      <a:pt x="592" y="642"/>
                    </a:lnTo>
                    <a:lnTo>
                      <a:pt x="614" y="654"/>
                    </a:lnTo>
                    <a:close/>
                    <a:moveTo>
                      <a:pt x="666" y="654"/>
                    </a:moveTo>
                    <a:lnTo>
                      <a:pt x="689" y="642"/>
                    </a:lnTo>
                    <a:lnTo>
                      <a:pt x="689" y="618"/>
                    </a:lnTo>
                    <a:lnTo>
                      <a:pt x="666" y="607"/>
                    </a:lnTo>
                    <a:lnTo>
                      <a:pt x="648" y="618"/>
                    </a:lnTo>
                    <a:lnTo>
                      <a:pt x="648" y="642"/>
                    </a:lnTo>
                    <a:lnTo>
                      <a:pt x="666" y="654"/>
                    </a:lnTo>
                    <a:close/>
                    <a:moveTo>
                      <a:pt x="722" y="654"/>
                    </a:moveTo>
                    <a:lnTo>
                      <a:pt x="742" y="642"/>
                    </a:lnTo>
                    <a:lnTo>
                      <a:pt x="742" y="618"/>
                    </a:lnTo>
                    <a:lnTo>
                      <a:pt x="722" y="607"/>
                    </a:lnTo>
                    <a:lnTo>
                      <a:pt x="701" y="618"/>
                    </a:lnTo>
                    <a:lnTo>
                      <a:pt x="701" y="642"/>
                    </a:lnTo>
                    <a:lnTo>
                      <a:pt x="722" y="654"/>
                    </a:lnTo>
                    <a:close/>
                    <a:moveTo>
                      <a:pt x="777" y="654"/>
                    </a:moveTo>
                    <a:lnTo>
                      <a:pt x="797" y="642"/>
                    </a:lnTo>
                    <a:lnTo>
                      <a:pt x="797" y="618"/>
                    </a:lnTo>
                    <a:lnTo>
                      <a:pt x="777" y="607"/>
                    </a:lnTo>
                    <a:lnTo>
                      <a:pt x="754" y="618"/>
                    </a:lnTo>
                    <a:lnTo>
                      <a:pt x="754" y="642"/>
                    </a:lnTo>
                    <a:lnTo>
                      <a:pt x="777" y="654"/>
                    </a:lnTo>
                    <a:close/>
                    <a:moveTo>
                      <a:pt x="829" y="654"/>
                    </a:moveTo>
                    <a:lnTo>
                      <a:pt x="849" y="642"/>
                    </a:lnTo>
                    <a:lnTo>
                      <a:pt x="849" y="618"/>
                    </a:lnTo>
                    <a:lnTo>
                      <a:pt x="829" y="607"/>
                    </a:lnTo>
                    <a:lnTo>
                      <a:pt x="809" y="618"/>
                    </a:lnTo>
                    <a:lnTo>
                      <a:pt x="809" y="642"/>
                    </a:lnTo>
                    <a:lnTo>
                      <a:pt x="829" y="654"/>
                    </a:lnTo>
                    <a:close/>
                    <a:moveTo>
                      <a:pt x="884" y="654"/>
                    </a:moveTo>
                    <a:lnTo>
                      <a:pt x="904" y="642"/>
                    </a:lnTo>
                    <a:lnTo>
                      <a:pt x="904" y="618"/>
                    </a:lnTo>
                    <a:lnTo>
                      <a:pt x="884" y="607"/>
                    </a:lnTo>
                    <a:lnTo>
                      <a:pt x="864" y="618"/>
                    </a:lnTo>
                    <a:lnTo>
                      <a:pt x="864" y="642"/>
                    </a:lnTo>
                    <a:lnTo>
                      <a:pt x="884" y="654"/>
                    </a:lnTo>
                    <a:close/>
                    <a:moveTo>
                      <a:pt x="940" y="654"/>
                    </a:moveTo>
                    <a:lnTo>
                      <a:pt x="958" y="642"/>
                    </a:lnTo>
                    <a:lnTo>
                      <a:pt x="958" y="618"/>
                    </a:lnTo>
                    <a:lnTo>
                      <a:pt x="940" y="607"/>
                    </a:lnTo>
                    <a:lnTo>
                      <a:pt x="917" y="618"/>
                    </a:lnTo>
                    <a:lnTo>
                      <a:pt x="917" y="642"/>
                    </a:lnTo>
                    <a:lnTo>
                      <a:pt x="940" y="654"/>
                    </a:lnTo>
                    <a:close/>
                    <a:moveTo>
                      <a:pt x="992" y="654"/>
                    </a:moveTo>
                    <a:lnTo>
                      <a:pt x="1011" y="642"/>
                    </a:lnTo>
                    <a:lnTo>
                      <a:pt x="1011" y="618"/>
                    </a:lnTo>
                    <a:lnTo>
                      <a:pt x="992" y="607"/>
                    </a:lnTo>
                    <a:lnTo>
                      <a:pt x="972" y="618"/>
                    </a:lnTo>
                    <a:lnTo>
                      <a:pt x="972" y="642"/>
                    </a:lnTo>
                    <a:lnTo>
                      <a:pt x="992" y="654"/>
                    </a:lnTo>
                    <a:close/>
                    <a:moveTo>
                      <a:pt x="1018" y="422"/>
                    </a:moveTo>
                    <a:lnTo>
                      <a:pt x="1040" y="408"/>
                    </a:lnTo>
                    <a:lnTo>
                      <a:pt x="1040" y="386"/>
                    </a:lnTo>
                    <a:lnTo>
                      <a:pt x="1018" y="375"/>
                    </a:lnTo>
                    <a:lnTo>
                      <a:pt x="998" y="386"/>
                    </a:lnTo>
                    <a:lnTo>
                      <a:pt x="998" y="408"/>
                    </a:lnTo>
                    <a:lnTo>
                      <a:pt x="1018" y="422"/>
                    </a:lnTo>
                    <a:close/>
                    <a:moveTo>
                      <a:pt x="1072" y="422"/>
                    </a:moveTo>
                    <a:lnTo>
                      <a:pt x="1092" y="408"/>
                    </a:lnTo>
                    <a:lnTo>
                      <a:pt x="1092" y="386"/>
                    </a:lnTo>
                    <a:lnTo>
                      <a:pt x="1072" y="375"/>
                    </a:lnTo>
                    <a:lnTo>
                      <a:pt x="1054" y="386"/>
                    </a:lnTo>
                    <a:lnTo>
                      <a:pt x="1054" y="408"/>
                    </a:lnTo>
                    <a:lnTo>
                      <a:pt x="1072" y="422"/>
                    </a:lnTo>
                    <a:close/>
                    <a:moveTo>
                      <a:pt x="480" y="607"/>
                    </a:moveTo>
                    <a:lnTo>
                      <a:pt x="500" y="596"/>
                    </a:lnTo>
                    <a:lnTo>
                      <a:pt x="500" y="572"/>
                    </a:lnTo>
                    <a:lnTo>
                      <a:pt x="480" y="560"/>
                    </a:lnTo>
                    <a:lnTo>
                      <a:pt x="458" y="572"/>
                    </a:lnTo>
                    <a:lnTo>
                      <a:pt x="458" y="596"/>
                    </a:lnTo>
                    <a:lnTo>
                      <a:pt x="480" y="60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284256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5" name=""/>
              <p:cNvSpPr/>
              <p:nvPr/>
            </p:nvSpPr>
            <p:spPr>
              <a:xfrm>
                <a:off x="288108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6" name=""/>
              <p:cNvSpPr/>
              <p:nvPr/>
            </p:nvSpPr>
            <p:spPr>
              <a:xfrm>
                <a:off x="291924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7" name=""/>
              <p:cNvSpPr/>
              <p:nvPr/>
            </p:nvSpPr>
            <p:spPr>
              <a:xfrm>
                <a:off x="2956680" y="267192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8" name=""/>
              <p:cNvSpPr/>
              <p:nvPr/>
            </p:nvSpPr>
            <p:spPr>
              <a:xfrm>
                <a:off x="2996280" y="267192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9" name=""/>
              <p:cNvSpPr/>
              <p:nvPr/>
            </p:nvSpPr>
            <p:spPr>
              <a:xfrm>
                <a:off x="2822760" y="263448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2862720" y="263448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1" name=""/>
              <p:cNvSpPr/>
              <p:nvPr/>
            </p:nvSpPr>
            <p:spPr>
              <a:xfrm>
                <a:off x="2899440" y="26344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2" name=""/>
              <p:cNvSpPr/>
              <p:nvPr/>
            </p:nvSpPr>
            <p:spPr>
              <a:xfrm>
                <a:off x="2937960" y="26344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3" name=""/>
              <p:cNvSpPr/>
              <p:nvPr/>
            </p:nvSpPr>
            <p:spPr>
              <a:xfrm>
                <a:off x="2977920" y="26344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3015000" y="263448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5" name=""/>
              <p:cNvSpPr/>
              <p:nvPr/>
            </p:nvSpPr>
            <p:spPr>
              <a:xfrm>
                <a:off x="284256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6" name=""/>
              <p:cNvSpPr/>
              <p:nvPr/>
            </p:nvSpPr>
            <p:spPr>
              <a:xfrm>
                <a:off x="288108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7" name=""/>
              <p:cNvSpPr/>
              <p:nvPr/>
            </p:nvSpPr>
            <p:spPr>
              <a:xfrm>
                <a:off x="291924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8" name=""/>
              <p:cNvSpPr/>
              <p:nvPr/>
            </p:nvSpPr>
            <p:spPr>
              <a:xfrm>
                <a:off x="2956680" y="2600280"/>
                <a:ext cx="3096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9" name=""/>
              <p:cNvSpPr/>
              <p:nvPr/>
            </p:nvSpPr>
            <p:spPr>
              <a:xfrm>
                <a:off x="2996280" y="260028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0" name=""/>
              <p:cNvSpPr/>
              <p:nvPr/>
            </p:nvSpPr>
            <p:spPr>
              <a:xfrm>
                <a:off x="303624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1" name=""/>
              <p:cNvSpPr/>
              <p:nvPr/>
            </p:nvSpPr>
            <p:spPr>
              <a:xfrm>
                <a:off x="2822760" y="256320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2" name=""/>
              <p:cNvSpPr/>
              <p:nvPr/>
            </p:nvSpPr>
            <p:spPr>
              <a:xfrm>
                <a:off x="2862720" y="256320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3" name=""/>
              <p:cNvSpPr/>
              <p:nvPr/>
            </p:nvSpPr>
            <p:spPr>
              <a:xfrm>
                <a:off x="2899440" y="25632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4" name=""/>
              <p:cNvSpPr/>
              <p:nvPr/>
            </p:nvSpPr>
            <p:spPr>
              <a:xfrm>
                <a:off x="293796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5" name=""/>
              <p:cNvSpPr/>
              <p:nvPr/>
            </p:nvSpPr>
            <p:spPr>
              <a:xfrm>
                <a:off x="297792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6" name=""/>
              <p:cNvSpPr/>
              <p:nvPr/>
            </p:nvSpPr>
            <p:spPr>
              <a:xfrm>
                <a:off x="3015000" y="256320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7" name=""/>
              <p:cNvSpPr/>
              <p:nvPr/>
            </p:nvSpPr>
            <p:spPr>
              <a:xfrm>
                <a:off x="2822760" y="27072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8" name=""/>
              <p:cNvSpPr/>
              <p:nvPr/>
            </p:nvSpPr>
            <p:spPr>
              <a:xfrm>
                <a:off x="2862720" y="27072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9" name=""/>
              <p:cNvSpPr/>
              <p:nvPr/>
            </p:nvSpPr>
            <p:spPr>
              <a:xfrm>
                <a:off x="2899440" y="27072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0" name=""/>
              <p:cNvSpPr/>
              <p:nvPr/>
            </p:nvSpPr>
            <p:spPr>
              <a:xfrm>
                <a:off x="2937960" y="27072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1" name=""/>
              <p:cNvSpPr/>
              <p:nvPr/>
            </p:nvSpPr>
            <p:spPr>
              <a:xfrm>
                <a:off x="2977920" y="27072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2" name=""/>
              <p:cNvSpPr/>
              <p:nvPr/>
            </p:nvSpPr>
            <p:spPr>
              <a:xfrm>
                <a:off x="3015000" y="270720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3" name=""/>
              <p:cNvSpPr/>
              <p:nvPr/>
            </p:nvSpPr>
            <p:spPr>
              <a:xfrm>
                <a:off x="2822760" y="24174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4" name=""/>
              <p:cNvSpPr/>
              <p:nvPr/>
            </p:nvSpPr>
            <p:spPr>
              <a:xfrm>
                <a:off x="2862720" y="24174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5" name=""/>
              <p:cNvSpPr/>
              <p:nvPr/>
            </p:nvSpPr>
            <p:spPr>
              <a:xfrm>
                <a:off x="2899440" y="24174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6" name=""/>
              <p:cNvSpPr/>
              <p:nvPr/>
            </p:nvSpPr>
            <p:spPr>
              <a:xfrm>
                <a:off x="2937960" y="24174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7" name=""/>
              <p:cNvSpPr/>
              <p:nvPr/>
            </p:nvSpPr>
            <p:spPr>
              <a:xfrm>
                <a:off x="2977920" y="24174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8" name=""/>
              <p:cNvSpPr/>
              <p:nvPr/>
            </p:nvSpPr>
            <p:spPr>
              <a:xfrm>
                <a:off x="3015000" y="241740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9" name=""/>
              <p:cNvSpPr/>
              <p:nvPr/>
            </p:nvSpPr>
            <p:spPr>
              <a:xfrm>
                <a:off x="2842560" y="2381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0" name=""/>
              <p:cNvSpPr/>
              <p:nvPr/>
            </p:nvSpPr>
            <p:spPr>
              <a:xfrm>
                <a:off x="2881080" y="2381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1" name=""/>
              <p:cNvSpPr/>
              <p:nvPr/>
            </p:nvSpPr>
            <p:spPr>
              <a:xfrm>
                <a:off x="2919240" y="2381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2" name=""/>
              <p:cNvSpPr/>
              <p:nvPr/>
            </p:nvSpPr>
            <p:spPr>
              <a:xfrm>
                <a:off x="2956680" y="238176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3" name=""/>
              <p:cNvSpPr/>
              <p:nvPr/>
            </p:nvSpPr>
            <p:spPr>
              <a:xfrm>
                <a:off x="2996280" y="238176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4" name=""/>
              <p:cNvSpPr/>
              <p:nvPr/>
            </p:nvSpPr>
            <p:spPr>
              <a:xfrm>
                <a:off x="3036240" y="2381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5" name=""/>
              <p:cNvSpPr/>
              <p:nvPr/>
            </p:nvSpPr>
            <p:spPr>
              <a:xfrm>
                <a:off x="2822760" y="234468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2862720" y="234468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2899440" y="23446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8" name=""/>
              <p:cNvSpPr/>
              <p:nvPr/>
            </p:nvSpPr>
            <p:spPr>
              <a:xfrm>
                <a:off x="2937960" y="23446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9" name=""/>
              <p:cNvSpPr/>
              <p:nvPr/>
            </p:nvSpPr>
            <p:spPr>
              <a:xfrm>
                <a:off x="2977920" y="23446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0" name=""/>
              <p:cNvSpPr/>
              <p:nvPr/>
            </p:nvSpPr>
            <p:spPr>
              <a:xfrm>
                <a:off x="3015000" y="234468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1" name=""/>
              <p:cNvSpPr/>
              <p:nvPr/>
            </p:nvSpPr>
            <p:spPr>
              <a:xfrm>
                <a:off x="2842560" y="23090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2" name=""/>
              <p:cNvSpPr/>
              <p:nvPr/>
            </p:nvSpPr>
            <p:spPr>
              <a:xfrm>
                <a:off x="2881080" y="23090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2919240" y="23090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4" name=""/>
              <p:cNvSpPr/>
              <p:nvPr/>
            </p:nvSpPr>
            <p:spPr>
              <a:xfrm>
                <a:off x="2956680" y="230904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5" name=""/>
              <p:cNvSpPr/>
              <p:nvPr/>
            </p:nvSpPr>
            <p:spPr>
              <a:xfrm>
                <a:off x="2996280" y="230904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6" name=""/>
              <p:cNvSpPr/>
              <p:nvPr/>
            </p:nvSpPr>
            <p:spPr>
              <a:xfrm>
                <a:off x="3036240" y="23090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2822760" y="227304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8" name=""/>
              <p:cNvSpPr/>
              <p:nvPr/>
            </p:nvSpPr>
            <p:spPr>
              <a:xfrm>
                <a:off x="2862720" y="227304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9" name=""/>
              <p:cNvSpPr/>
              <p:nvPr/>
            </p:nvSpPr>
            <p:spPr>
              <a:xfrm>
                <a:off x="2899440" y="227304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0" name=""/>
              <p:cNvSpPr/>
              <p:nvPr/>
            </p:nvSpPr>
            <p:spPr>
              <a:xfrm>
                <a:off x="2937960" y="227304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1" name=""/>
              <p:cNvSpPr/>
              <p:nvPr/>
            </p:nvSpPr>
            <p:spPr>
              <a:xfrm>
                <a:off x="2977920" y="227304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2" name=""/>
              <p:cNvSpPr/>
              <p:nvPr/>
            </p:nvSpPr>
            <p:spPr>
              <a:xfrm>
                <a:off x="3015000" y="227304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3" name=""/>
              <p:cNvSpPr/>
              <p:nvPr/>
            </p:nvSpPr>
            <p:spPr>
              <a:xfrm>
                <a:off x="2842560" y="2236320"/>
                <a:ext cx="2808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4" name=""/>
              <p:cNvSpPr/>
              <p:nvPr/>
            </p:nvSpPr>
            <p:spPr>
              <a:xfrm>
                <a:off x="2881080" y="2236320"/>
                <a:ext cx="2808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5" name=""/>
              <p:cNvSpPr/>
              <p:nvPr/>
            </p:nvSpPr>
            <p:spPr>
              <a:xfrm>
                <a:off x="2919240" y="2236320"/>
                <a:ext cx="280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6" name=""/>
              <p:cNvSpPr/>
              <p:nvPr/>
            </p:nvSpPr>
            <p:spPr>
              <a:xfrm>
                <a:off x="2956680" y="2236320"/>
                <a:ext cx="3096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7" name=""/>
              <p:cNvSpPr/>
              <p:nvPr/>
            </p:nvSpPr>
            <p:spPr>
              <a:xfrm>
                <a:off x="2996280" y="223632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8" name=""/>
              <p:cNvSpPr/>
              <p:nvPr/>
            </p:nvSpPr>
            <p:spPr>
              <a:xfrm>
                <a:off x="284256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9" name=""/>
              <p:cNvSpPr/>
              <p:nvPr/>
            </p:nvSpPr>
            <p:spPr>
              <a:xfrm>
                <a:off x="288108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0" name=""/>
              <p:cNvSpPr/>
              <p:nvPr/>
            </p:nvSpPr>
            <p:spPr>
              <a:xfrm>
                <a:off x="291924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1" name=""/>
              <p:cNvSpPr/>
              <p:nvPr/>
            </p:nvSpPr>
            <p:spPr>
              <a:xfrm>
                <a:off x="2956680" y="252756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2" name=""/>
              <p:cNvSpPr/>
              <p:nvPr/>
            </p:nvSpPr>
            <p:spPr>
              <a:xfrm>
                <a:off x="2996280" y="252756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3" name=""/>
              <p:cNvSpPr/>
              <p:nvPr/>
            </p:nvSpPr>
            <p:spPr>
              <a:xfrm>
                <a:off x="303624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4" name=""/>
              <p:cNvSpPr/>
              <p:nvPr/>
            </p:nvSpPr>
            <p:spPr>
              <a:xfrm>
                <a:off x="2822760" y="24919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5" name=""/>
              <p:cNvSpPr/>
              <p:nvPr/>
            </p:nvSpPr>
            <p:spPr>
              <a:xfrm>
                <a:off x="2862720" y="249192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6" name=""/>
              <p:cNvSpPr/>
              <p:nvPr/>
            </p:nvSpPr>
            <p:spPr>
              <a:xfrm>
                <a:off x="2899440" y="249192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7" name=""/>
              <p:cNvSpPr/>
              <p:nvPr/>
            </p:nvSpPr>
            <p:spPr>
              <a:xfrm>
                <a:off x="2937960" y="2491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8" name=""/>
              <p:cNvSpPr/>
              <p:nvPr/>
            </p:nvSpPr>
            <p:spPr>
              <a:xfrm>
                <a:off x="2977920" y="2491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9" name=""/>
              <p:cNvSpPr/>
              <p:nvPr/>
            </p:nvSpPr>
            <p:spPr>
              <a:xfrm>
                <a:off x="3015000" y="249192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3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0" name=""/>
              <p:cNvSpPr/>
              <p:nvPr/>
            </p:nvSpPr>
            <p:spPr>
              <a:xfrm>
                <a:off x="2842560" y="24544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1" name=""/>
              <p:cNvSpPr/>
              <p:nvPr/>
            </p:nvSpPr>
            <p:spPr>
              <a:xfrm>
                <a:off x="2881080" y="24544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2" name=""/>
              <p:cNvSpPr/>
              <p:nvPr/>
            </p:nvSpPr>
            <p:spPr>
              <a:xfrm>
                <a:off x="2919240" y="24544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3" name=""/>
              <p:cNvSpPr/>
              <p:nvPr/>
            </p:nvSpPr>
            <p:spPr>
              <a:xfrm>
                <a:off x="2956680" y="2454480"/>
                <a:ext cx="30960" cy="338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4" name=""/>
              <p:cNvSpPr/>
              <p:nvPr/>
            </p:nvSpPr>
            <p:spPr>
              <a:xfrm>
                <a:off x="2996280" y="245448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5" name=""/>
              <p:cNvSpPr/>
              <p:nvPr/>
            </p:nvSpPr>
            <p:spPr>
              <a:xfrm>
                <a:off x="3036240" y="24544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6" name=""/>
              <p:cNvSpPr/>
              <p:nvPr/>
            </p:nvSpPr>
            <p:spPr>
              <a:xfrm>
                <a:off x="3072960" y="260028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7" name=""/>
              <p:cNvSpPr/>
              <p:nvPr/>
            </p:nvSpPr>
            <p:spPr>
              <a:xfrm>
                <a:off x="311184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8" name=""/>
              <p:cNvSpPr/>
              <p:nvPr/>
            </p:nvSpPr>
            <p:spPr>
              <a:xfrm>
                <a:off x="315000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318852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322704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1" name=""/>
              <p:cNvSpPr/>
              <p:nvPr/>
            </p:nvSpPr>
            <p:spPr>
              <a:xfrm>
                <a:off x="313128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2" name=""/>
              <p:cNvSpPr/>
              <p:nvPr/>
            </p:nvSpPr>
            <p:spPr>
              <a:xfrm>
                <a:off x="3168720" y="25632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3" name=""/>
              <p:cNvSpPr/>
              <p:nvPr/>
            </p:nvSpPr>
            <p:spPr>
              <a:xfrm>
                <a:off x="320688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4" name=""/>
              <p:cNvSpPr/>
              <p:nvPr/>
            </p:nvSpPr>
            <p:spPr>
              <a:xfrm>
                <a:off x="305460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5" name=""/>
              <p:cNvSpPr/>
              <p:nvPr/>
            </p:nvSpPr>
            <p:spPr>
              <a:xfrm>
                <a:off x="309312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3206880" y="24174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7" name=""/>
              <p:cNvSpPr/>
              <p:nvPr/>
            </p:nvSpPr>
            <p:spPr>
              <a:xfrm>
                <a:off x="3054600" y="24174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8" name=""/>
              <p:cNvSpPr/>
              <p:nvPr/>
            </p:nvSpPr>
            <p:spPr>
              <a:xfrm>
                <a:off x="3093120" y="24174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9" name=""/>
              <p:cNvSpPr/>
              <p:nvPr/>
            </p:nvSpPr>
            <p:spPr>
              <a:xfrm>
                <a:off x="3131280" y="24174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3168720" y="24174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1" name=""/>
              <p:cNvSpPr/>
              <p:nvPr/>
            </p:nvSpPr>
            <p:spPr>
              <a:xfrm>
                <a:off x="3072960" y="238176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2" name=""/>
              <p:cNvSpPr/>
              <p:nvPr/>
            </p:nvSpPr>
            <p:spPr>
              <a:xfrm>
                <a:off x="3111840" y="2381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3" name=""/>
              <p:cNvSpPr/>
              <p:nvPr/>
            </p:nvSpPr>
            <p:spPr>
              <a:xfrm>
                <a:off x="3150000" y="2381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4" name=""/>
              <p:cNvSpPr/>
              <p:nvPr/>
            </p:nvSpPr>
            <p:spPr>
              <a:xfrm>
                <a:off x="3188520" y="23817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5" name=""/>
              <p:cNvSpPr/>
              <p:nvPr/>
            </p:nvSpPr>
            <p:spPr>
              <a:xfrm>
                <a:off x="3054600" y="23446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6" name=""/>
              <p:cNvSpPr/>
              <p:nvPr/>
            </p:nvSpPr>
            <p:spPr>
              <a:xfrm>
                <a:off x="3093120" y="23446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7" name=""/>
              <p:cNvSpPr/>
              <p:nvPr/>
            </p:nvSpPr>
            <p:spPr>
              <a:xfrm>
                <a:off x="3131280" y="23446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8" name=""/>
              <p:cNvSpPr/>
              <p:nvPr/>
            </p:nvSpPr>
            <p:spPr>
              <a:xfrm>
                <a:off x="3168720" y="23446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9" name=""/>
              <p:cNvSpPr/>
              <p:nvPr/>
            </p:nvSpPr>
            <p:spPr>
              <a:xfrm>
                <a:off x="3206880" y="23446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0" name=""/>
              <p:cNvSpPr/>
              <p:nvPr/>
            </p:nvSpPr>
            <p:spPr>
              <a:xfrm>
                <a:off x="315000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1" name=""/>
              <p:cNvSpPr/>
              <p:nvPr/>
            </p:nvSpPr>
            <p:spPr>
              <a:xfrm>
                <a:off x="318852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2" name=""/>
              <p:cNvSpPr/>
              <p:nvPr/>
            </p:nvSpPr>
            <p:spPr>
              <a:xfrm>
                <a:off x="322704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3" name=""/>
              <p:cNvSpPr/>
              <p:nvPr/>
            </p:nvSpPr>
            <p:spPr>
              <a:xfrm>
                <a:off x="3072960" y="252756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4" name=""/>
              <p:cNvSpPr/>
              <p:nvPr/>
            </p:nvSpPr>
            <p:spPr>
              <a:xfrm>
                <a:off x="311184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5" name=""/>
              <p:cNvSpPr/>
              <p:nvPr/>
            </p:nvSpPr>
            <p:spPr>
              <a:xfrm>
                <a:off x="3093120" y="2491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6" name=""/>
              <p:cNvSpPr/>
              <p:nvPr/>
            </p:nvSpPr>
            <p:spPr>
              <a:xfrm>
                <a:off x="3131280" y="2491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7" name=""/>
              <p:cNvSpPr/>
              <p:nvPr/>
            </p:nvSpPr>
            <p:spPr>
              <a:xfrm>
                <a:off x="3168720" y="249192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8" name=""/>
              <p:cNvSpPr/>
              <p:nvPr/>
            </p:nvSpPr>
            <p:spPr>
              <a:xfrm>
                <a:off x="3206880" y="2491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9" name=""/>
              <p:cNvSpPr/>
              <p:nvPr/>
            </p:nvSpPr>
            <p:spPr>
              <a:xfrm>
                <a:off x="3054600" y="24919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0" name=""/>
              <p:cNvSpPr/>
              <p:nvPr/>
            </p:nvSpPr>
            <p:spPr>
              <a:xfrm>
                <a:off x="3072960" y="245448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1" name=""/>
              <p:cNvSpPr/>
              <p:nvPr/>
            </p:nvSpPr>
            <p:spPr>
              <a:xfrm>
                <a:off x="3111840" y="24544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2" name=""/>
              <p:cNvSpPr/>
              <p:nvPr/>
            </p:nvSpPr>
            <p:spPr>
              <a:xfrm>
                <a:off x="3150000" y="24544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3" name=""/>
              <p:cNvSpPr/>
              <p:nvPr/>
            </p:nvSpPr>
            <p:spPr>
              <a:xfrm>
                <a:off x="3188520" y="24544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3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4" name=""/>
              <p:cNvSpPr/>
              <p:nvPr/>
            </p:nvSpPr>
            <p:spPr>
              <a:xfrm>
                <a:off x="3150000" y="23090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5" name=""/>
              <p:cNvSpPr/>
              <p:nvPr/>
            </p:nvSpPr>
            <p:spPr>
              <a:xfrm>
                <a:off x="3188520" y="23090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6" name=""/>
              <p:cNvSpPr/>
              <p:nvPr/>
            </p:nvSpPr>
            <p:spPr>
              <a:xfrm>
                <a:off x="3168720" y="227304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7" name=""/>
              <p:cNvSpPr/>
              <p:nvPr/>
            </p:nvSpPr>
            <p:spPr>
              <a:xfrm>
                <a:off x="3206880" y="227304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8" name=""/>
              <p:cNvSpPr/>
              <p:nvPr/>
            </p:nvSpPr>
            <p:spPr>
              <a:xfrm>
                <a:off x="3072960" y="230904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9" name=""/>
              <p:cNvSpPr/>
              <p:nvPr/>
            </p:nvSpPr>
            <p:spPr>
              <a:xfrm>
                <a:off x="3111840" y="23090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0" name=""/>
              <p:cNvSpPr/>
              <p:nvPr/>
            </p:nvSpPr>
            <p:spPr>
              <a:xfrm>
                <a:off x="3340440" y="267192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1" name=""/>
              <p:cNvSpPr/>
              <p:nvPr/>
            </p:nvSpPr>
            <p:spPr>
              <a:xfrm>
                <a:off x="338076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3417840" y="267192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345744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4" name=""/>
              <p:cNvSpPr/>
              <p:nvPr/>
            </p:nvSpPr>
            <p:spPr>
              <a:xfrm>
                <a:off x="318852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5" name=""/>
              <p:cNvSpPr/>
              <p:nvPr/>
            </p:nvSpPr>
            <p:spPr>
              <a:xfrm>
                <a:off x="322704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6" name=""/>
              <p:cNvSpPr/>
              <p:nvPr/>
            </p:nvSpPr>
            <p:spPr>
              <a:xfrm>
                <a:off x="326556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7" name=""/>
              <p:cNvSpPr/>
              <p:nvPr/>
            </p:nvSpPr>
            <p:spPr>
              <a:xfrm>
                <a:off x="3302280" y="267192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8" name=""/>
              <p:cNvSpPr/>
              <p:nvPr/>
            </p:nvSpPr>
            <p:spPr>
              <a:xfrm>
                <a:off x="349596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9" name=""/>
              <p:cNvSpPr/>
              <p:nvPr/>
            </p:nvSpPr>
            <p:spPr>
              <a:xfrm>
                <a:off x="353412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357264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1" name=""/>
              <p:cNvSpPr/>
              <p:nvPr/>
            </p:nvSpPr>
            <p:spPr>
              <a:xfrm>
                <a:off x="3439080" y="26344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2" name=""/>
              <p:cNvSpPr/>
              <p:nvPr/>
            </p:nvSpPr>
            <p:spPr>
              <a:xfrm>
                <a:off x="3475800" y="26344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3" name=""/>
              <p:cNvSpPr/>
              <p:nvPr/>
            </p:nvSpPr>
            <p:spPr>
              <a:xfrm>
                <a:off x="3515760" y="263448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3554280" y="26344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5" name=""/>
              <p:cNvSpPr/>
              <p:nvPr/>
            </p:nvSpPr>
            <p:spPr>
              <a:xfrm>
                <a:off x="3283920" y="26344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6" name=""/>
              <p:cNvSpPr/>
              <p:nvPr/>
            </p:nvSpPr>
            <p:spPr>
              <a:xfrm>
                <a:off x="3322080" y="26344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7" name=""/>
              <p:cNvSpPr/>
              <p:nvPr/>
            </p:nvSpPr>
            <p:spPr>
              <a:xfrm>
                <a:off x="3360600" y="26344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8" name=""/>
              <p:cNvSpPr/>
              <p:nvPr/>
            </p:nvSpPr>
            <p:spPr>
              <a:xfrm>
                <a:off x="3399120" y="26344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9" name=""/>
              <p:cNvSpPr/>
              <p:nvPr/>
            </p:nvSpPr>
            <p:spPr>
              <a:xfrm>
                <a:off x="3168720" y="26344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0" name=""/>
              <p:cNvSpPr/>
              <p:nvPr/>
            </p:nvSpPr>
            <p:spPr>
              <a:xfrm>
                <a:off x="3206880" y="26344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1" name=""/>
              <p:cNvSpPr/>
              <p:nvPr/>
            </p:nvSpPr>
            <p:spPr>
              <a:xfrm>
                <a:off x="3245400" y="26344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2" name=""/>
              <p:cNvSpPr/>
              <p:nvPr/>
            </p:nvSpPr>
            <p:spPr>
              <a:xfrm>
                <a:off x="345744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3" name=""/>
              <p:cNvSpPr/>
              <p:nvPr/>
            </p:nvSpPr>
            <p:spPr>
              <a:xfrm>
                <a:off x="349596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4" name=""/>
              <p:cNvSpPr/>
              <p:nvPr/>
            </p:nvSpPr>
            <p:spPr>
              <a:xfrm>
                <a:off x="353412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5" name=""/>
              <p:cNvSpPr/>
              <p:nvPr/>
            </p:nvSpPr>
            <p:spPr>
              <a:xfrm>
                <a:off x="357264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6" name=""/>
              <p:cNvSpPr/>
              <p:nvPr/>
            </p:nvSpPr>
            <p:spPr>
              <a:xfrm>
                <a:off x="3302280" y="2600280"/>
                <a:ext cx="298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7" name=""/>
              <p:cNvSpPr/>
              <p:nvPr/>
            </p:nvSpPr>
            <p:spPr>
              <a:xfrm>
                <a:off x="3340440" y="260028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8" name=""/>
              <p:cNvSpPr/>
              <p:nvPr/>
            </p:nvSpPr>
            <p:spPr>
              <a:xfrm>
                <a:off x="338076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9" name=""/>
              <p:cNvSpPr/>
              <p:nvPr/>
            </p:nvSpPr>
            <p:spPr>
              <a:xfrm>
                <a:off x="3417840" y="2600280"/>
                <a:ext cx="3096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0" name=""/>
              <p:cNvSpPr/>
              <p:nvPr/>
            </p:nvSpPr>
            <p:spPr>
              <a:xfrm>
                <a:off x="3265560" y="260028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1" name=""/>
              <p:cNvSpPr/>
              <p:nvPr/>
            </p:nvSpPr>
            <p:spPr>
              <a:xfrm>
                <a:off x="343908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2" name=""/>
              <p:cNvSpPr/>
              <p:nvPr/>
            </p:nvSpPr>
            <p:spPr>
              <a:xfrm>
                <a:off x="3475800" y="25632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3" name=""/>
              <p:cNvSpPr/>
              <p:nvPr/>
            </p:nvSpPr>
            <p:spPr>
              <a:xfrm>
                <a:off x="3515760" y="256320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4" name=""/>
              <p:cNvSpPr/>
              <p:nvPr/>
            </p:nvSpPr>
            <p:spPr>
              <a:xfrm>
                <a:off x="355428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5" name=""/>
              <p:cNvSpPr/>
              <p:nvPr/>
            </p:nvSpPr>
            <p:spPr>
              <a:xfrm>
                <a:off x="3283920" y="25632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6" name=""/>
              <p:cNvSpPr/>
              <p:nvPr/>
            </p:nvSpPr>
            <p:spPr>
              <a:xfrm>
                <a:off x="332208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7" name=""/>
              <p:cNvSpPr/>
              <p:nvPr/>
            </p:nvSpPr>
            <p:spPr>
              <a:xfrm>
                <a:off x="3360600" y="256320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8" name=""/>
              <p:cNvSpPr/>
              <p:nvPr/>
            </p:nvSpPr>
            <p:spPr>
              <a:xfrm>
                <a:off x="339912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9" name=""/>
              <p:cNvSpPr/>
              <p:nvPr/>
            </p:nvSpPr>
            <p:spPr>
              <a:xfrm>
                <a:off x="3245400" y="256320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2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0" name=""/>
              <p:cNvSpPr/>
              <p:nvPr/>
            </p:nvSpPr>
            <p:spPr>
              <a:xfrm>
                <a:off x="3554280" y="27072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1" name=""/>
              <p:cNvSpPr/>
              <p:nvPr/>
            </p:nvSpPr>
            <p:spPr>
              <a:xfrm>
                <a:off x="3168720" y="27072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2" name=""/>
              <p:cNvSpPr/>
              <p:nvPr/>
            </p:nvSpPr>
            <p:spPr>
              <a:xfrm>
                <a:off x="3206880" y="27072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3" name=""/>
              <p:cNvSpPr/>
              <p:nvPr/>
            </p:nvSpPr>
            <p:spPr>
              <a:xfrm>
                <a:off x="3245400" y="27072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4" name=""/>
              <p:cNvSpPr/>
              <p:nvPr/>
            </p:nvSpPr>
            <p:spPr>
              <a:xfrm>
                <a:off x="3283920" y="27072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8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5" name=""/>
              <p:cNvSpPr/>
              <p:nvPr/>
            </p:nvSpPr>
            <p:spPr>
              <a:xfrm>
                <a:off x="3322080" y="27072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3360600" y="27072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3399120" y="27072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8" name=""/>
              <p:cNvSpPr/>
              <p:nvPr/>
            </p:nvSpPr>
            <p:spPr>
              <a:xfrm>
                <a:off x="3439080" y="27072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9" name=""/>
              <p:cNvSpPr/>
              <p:nvPr/>
            </p:nvSpPr>
            <p:spPr>
              <a:xfrm>
                <a:off x="3475800" y="27072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0" name=""/>
              <p:cNvSpPr/>
              <p:nvPr/>
            </p:nvSpPr>
            <p:spPr>
              <a:xfrm>
                <a:off x="3515760" y="27072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1" name=""/>
              <p:cNvSpPr/>
              <p:nvPr/>
            </p:nvSpPr>
            <p:spPr>
              <a:xfrm>
                <a:off x="353412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2" name=""/>
              <p:cNvSpPr/>
              <p:nvPr/>
            </p:nvSpPr>
            <p:spPr>
              <a:xfrm>
                <a:off x="3572640" y="25275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3" name=""/>
              <p:cNvSpPr/>
              <p:nvPr/>
            </p:nvSpPr>
            <p:spPr>
              <a:xfrm>
                <a:off x="3150000" y="26719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4" name=""/>
              <p:cNvSpPr/>
              <p:nvPr/>
            </p:nvSpPr>
            <p:spPr>
              <a:xfrm>
                <a:off x="3254040" y="2271600"/>
                <a:ext cx="302760" cy="24300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5" name=""/>
              <p:cNvSpPr/>
              <p:nvPr/>
            </p:nvSpPr>
            <p:spPr>
              <a:xfrm>
                <a:off x="3254040" y="2271600"/>
                <a:ext cx="302760" cy="24300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6" name=""/>
              <p:cNvSpPr/>
              <p:nvPr/>
            </p:nvSpPr>
            <p:spPr>
              <a:xfrm>
                <a:off x="3273840" y="2295000"/>
                <a:ext cx="261720" cy="1965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7" name=""/>
              <p:cNvSpPr/>
              <p:nvPr/>
            </p:nvSpPr>
            <p:spPr>
              <a:xfrm>
                <a:off x="3273840" y="2295000"/>
                <a:ext cx="261720" cy="19656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8" name=""/>
              <p:cNvSpPr/>
              <p:nvPr/>
            </p:nvSpPr>
            <p:spPr>
              <a:xfrm>
                <a:off x="3327840" y="2338560"/>
                <a:ext cx="156240" cy="11124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1" y="68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" y="68"/>
                    </a:lnTo>
                    <a:close/>
                    <a:moveTo>
                      <a:pt x="120" y="144"/>
                    </a:moveTo>
                    <a:lnTo>
                      <a:pt x="120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20" y="144"/>
                    </a:lnTo>
                    <a:close/>
                    <a:moveTo>
                      <a:pt x="219" y="68"/>
                    </a:moveTo>
                    <a:lnTo>
                      <a:pt x="219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9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3558600" y="2291760"/>
                <a:ext cx="99720" cy="219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0" name=""/>
              <p:cNvSpPr/>
              <p:nvPr/>
            </p:nvSpPr>
            <p:spPr>
              <a:xfrm>
                <a:off x="3534120" y="2291760"/>
                <a:ext cx="24120" cy="24624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1" name=""/>
              <p:cNvSpPr/>
              <p:nvPr/>
            </p:nvSpPr>
            <p:spPr>
              <a:xfrm>
                <a:off x="3558600" y="2291760"/>
                <a:ext cx="25560" cy="246240"/>
              </a:xfrm>
              <a:prstGeom prst="rect">
                <a:avLst/>
              </a:prstGeom>
              <a:solidFill>
                <a:srgbClr val="b7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2" name=""/>
              <p:cNvSpPr/>
              <p:nvPr/>
            </p:nvSpPr>
            <p:spPr>
              <a:xfrm>
                <a:off x="3584160" y="2291760"/>
                <a:ext cx="24120" cy="246240"/>
              </a:xfrm>
              <a:prstGeom prst="rect">
                <a:avLst/>
              </a:prstGeom>
              <a:solidFill>
                <a:srgbClr val="b55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3" name=""/>
              <p:cNvSpPr/>
              <p:nvPr/>
            </p:nvSpPr>
            <p:spPr>
              <a:xfrm>
                <a:off x="3608640" y="2291760"/>
                <a:ext cx="25200" cy="246240"/>
              </a:xfrm>
              <a:prstGeom prst="rect">
                <a:avLst/>
              </a:prstGeom>
              <a:solidFill>
                <a:srgbClr val="b2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4" name=""/>
              <p:cNvSpPr/>
              <p:nvPr/>
            </p:nvSpPr>
            <p:spPr>
              <a:xfrm>
                <a:off x="3633840" y="2291760"/>
                <a:ext cx="24120" cy="24624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5" name=""/>
              <p:cNvSpPr/>
              <p:nvPr/>
            </p:nvSpPr>
            <p:spPr>
              <a:xfrm>
                <a:off x="3557160" y="2290320"/>
                <a:ext cx="99360" cy="218520"/>
              </a:xfrm>
              <a:custGeom>
                <a:avLst/>
                <a:gdLst/>
                <a:ahLst/>
                <a:rect l="l" t="t" r="r" b="b"/>
                <a:pathLst>
                  <a:path w="140" h="282">
                    <a:moveTo>
                      <a:pt x="0" y="264"/>
                    </a:moveTo>
                    <a:lnTo>
                      <a:pt x="1" y="267"/>
                    </a:lnTo>
                    <a:lnTo>
                      <a:pt x="1" y="270"/>
                    </a:lnTo>
                    <a:lnTo>
                      <a:pt x="4" y="273"/>
                    </a:lnTo>
                    <a:lnTo>
                      <a:pt x="6" y="276"/>
                    </a:lnTo>
                    <a:lnTo>
                      <a:pt x="10" y="278"/>
                    </a:lnTo>
                    <a:lnTo>
                      <a:pt x="14" y="279"/>
                    </a:lnTo>
                    <a:lnTo>
                      <a:pt x="18" y="281"/>
                    </a:lnTo>
                    <a:lnTo>
                      <a:pt x="23" y="282"/>
                    </a:lnTo>
                    <a:lnTo>
                      <a:pt x="29" y="282"/>
                    </a:lnTo>
                    <a:lnTo>
                      <a:pt x="29" y="282"/>
                    </a:lnTo>
                    <a:lnTo>
                      <a:pt x="114" y="273"/>
                    </a:lnTo>
                    <a:lnTo>
                      <a:pt x="120" y="272"/>
                    </a:lnTo>
                    <a:lnTo>
                      <a:pt x="125" y="269"/>
                    </a:lnTo>
                    <a:lnTo>
                      <a:pt x="129" y="267"/>
                    </a:lnTo>
                    <a:lnTo>
                      <a:pt x="133" y="263"/>
                    </a:lnTo>
                    <a:lnTo>
                      <a:pt x="137" y="259"/>
                    </a:lnTo>
                    <a:lnTo>
                      <a:pt x="139" y="255"/>
                    </a:lnTo>
                    <a:lnTo>
                      <a:pt x="140" y="250"/>
                    </a:lnTo>
                    <a:lnTo>
                      <a:pt x="140" y="246"/>
                    </a:lnTo>
                    <a:lnTo>
                      <a:pt x="140" y="38"/>
                    </a:lnTo>
                    <a:lnTo>
                      <a:pt x="140" y="33"/>
                    </a:lnTo>
                    <a:lnTo>
                      <a:pt x="139" y="28"/>
                    </a:lnTo>
                    <a:lnTo>
                      <a:pt x="137" y="24"/>
                    </a:lnTo>
                    <a:lnTo>
                      <a:pt x="133" y="19"/>
                    </a:lnTo>
                    <a:lnTo>
                      <a:pt x="129" y="17"/>
                    </a:lnTo>
                    <a:lnTo>
                      <a:pt x="125" y="13"/>
                    </a:lnTo>
                    <a:lnTo>
                      <a:pt x="120" y="10"/>
                    </a:lnTo>
                    <a:lnTo>
                      <a:pt x="114" y="9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6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6" name=""/>
              <p:cNvSpPr/>
              <p:nvPr/>
            </p:nvSpPr>
            <p:spPr>
              <a:xfrm>
                <a:off x="3071880" y="2225520"/>
                <a:ext cx="48240" cy="505080"/>
              </a:xfrm>
              <a:custGeom>
                <a:avLst/>
                <a:gdLst/>
                <a:ahLst/>
                <a:rect l="l" t="t" r="r" b="b"/>
                <a:pathLst>
                  <a:path w="69" h="651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80"/>
                    </a:moveTo>
                    <a:lnTo>
                      <a:pt x="39" y="580"/>
                    </a:lnTo>
                    <a:lnTo>
                      <a:pt x="43" y="582"/>
                    </a:lnTo>
                    <a:lnTo>
                      <a:pt x="47" y="582"/>
                    </a:lnTo>
                    <a:lnTo>
                      <a:pt x="50" y="583"/>
                    </a:lnTo>
                    <a:lnTo>
                      <a:pt x="53" y="586"/>
                    </a:lnTo>
                    <a:lnTo>
                      <a:pt x="57" y="588"/>
                    </a:lnTo>
                    <a:lnTo>
                      <a:pt x="59" y="591"/>
                    </a:lnTo>
                    <a:lnTo>
                      <a:pt x="62" y="593"/>
                    </a:lnTo>
                    <a:lnTo>
                      <a:pt x="64" y="596"/>
                    </a:lnTo>
                    <a:lnTo>
                      <a:pt x="67" y="599"/>
                    </a:lnTo>
                    <a:lnTo>
                      <a:pt x="68" y="602"/>
                    </a:lnTo>
                    <a:lnTo>
                      <a:pt x="69" y="606"/>
                    </a:lnTo>
                    <a:lnTo>
                      <a:pt x="69" y="610"/>
                    </a:lnTo>
                    <a:lnTo>
                      <a:pt x="69" y="613"/>
                    </a:lnTo>
                    <a:lnTo>
                      <a:pt x="69" y="617"/>
                    </a:lnTo>
                    <a:lnTo>
                      <a:pt x="69" y="620"/>
                    </a:lnTo>
                    <a:lnTo>
                      <a:pt x="69" y="623"/>
                    </a:lnTo>
                    <a:lnTo>
                      <a:pt x="68" y="626"/>
                    </a:lnTo>
                    <a:lnTo>
                      <a:pt x="67" y="630"/>
                    </a:lnTo>
                    <a:lnTo>
                      <a:pt x="65" y="632"/>
                    </a:lnTo>
                    <a:lnTo>
                      <a:pt x="63" y="637"/>
                    </a:lnTo>
                    <a:lnTo>
                      <a:pt x="58" y="642"/>
                    </a:lnTo>
                    <a:lnTo>
                      <a:pt x="53" y="646"/>
                    </a:lnTo>
                    <a:lnTo>
                      <a:pt x="47" y="649"/>
                    </a:lnTo>
                    <a:lnTo>
                      <a:pt x="41" y="650"/>
                    </a:lnTo>
                    <a:lnTo>
                      <a:pt x="38" y="651"/>
                    </a:lnTo>
                    <a:lnTo>
                      <a:pt x="35" y="651"/>
                    </a:lnTo>
                    <a:lnTo>
                      <a:pt x="31" y="651"/>
                    </a:lnTo>
                    <a:lnTo>
                      <a:pt x="28" y="650"/>
                    </a:lnTo>
                    <a:lnTo>
                      <a:pt x="24" y="649"/>
                    </a:lnTo>
                    <a:lnTo>
                      <a:pt x="20" y="647"/>
                    </a:lnTo>
                    <a:lnTo>
                      <a:pt x="13" y="642"/>
                    </a:lnTo>
                    <a:lnTo>
                      <a:pt x="10" y="640"/>
                    </a:lnTo>
                    <a:lnTo>
                      <a:pt x="8" y="637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1" y="627"/>
                    </a:lnTo>
                    <a:lnTo>
                      <a:pt x="0" y="625"/>
                    </a:lnTo>
                    <a:lnTo>
                      <a:pt x="0" y="621"/>
                    </a:lnTo>
                    <a:lnTo>
                      <a:pt x="0" y="617"/>
                    </a:lnTo>
                    <a:lnTo>
                      <a:pt x="0" y="613"/>
                    </a:lnTo>
                    <a:lnTo>
                      <a:pt x="0" y="610"/>
                    </a:lnTo>
                    <a:lnTo>
                      <a:pt x="1" y="606"/>
                    </a:lnTo>
                    <a:lnTo>
                      <a:pt x="1" y="603"/>
                    </a:lnTo>
                    <a:lnTo>
                      <a:pt x="3" y="599"/>
                    </a:lnTo>
                    <a:lnTo>
                      <a:pt x="4" y="597"/>
                    </a:lnTo>
                    <a:lnTo>
                      <a:pt x="8" y="593"/>
                    </a:lnTo>
                    <a:lnTo>
                      <a:pt x="11" y="589"/>
                    </a:lnTo>
                    <a:lnTo>
                      <a:pt x="14" y="587"/>
                    </a:lnTo>
                    <a:lnTo>
                      <a:pt x="16" y="586"/>
                    </a:lnTo>
                    <a:lnTo>
                      <a:pt x="20" y="583"/>
                    </a:lnTo>
                    <a:lnTo>
                      <a:pt x="23" y="582"/>
                    </a:lnTo>
                    <a:lnTo>
                      <a:pt x="29" y="580"/>
                    </a:lnTo>
                    <a:lnTo>
                      <a:pt x="35" y="580"/>
                    </a:lnTo>
                    <a:lnTo>
                      <a:pt x="35" y="58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7" name=""/>
              <p:cNvSpPr/>
              <p:nvPr/>
            </p:nvSpPr>
            <p:spPr>
              <a:xfrm>
                <a:off x="3071880" y="2225520"/>
                <a:ext cx="48240" cy="5400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8" name=""/>
              <p:cNvSpPr/>
              <p:nvPr/>
            </p:nvSpPr>
            <p:spPr>
              <a:xfrm>
                <a:off x="3071880" y="2674800"/>
                <a:ext cx="48240" cy="5544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35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7" y="8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3"/>
                    </a:lnTo>
                    <a:lnTo>
                      <a:pt x="69" y="37"/>
                    </a:lnTo>
                    <a:lnTo>
                      <a:pt x="69" y="40"/>
                    </a:lnTo>
                    <a:lnTo>
                      <a:pt x="69" y="43"/>
                    </a:lnTo>
                    <a:lnTo>
                      <a:pt x="68" y="46"/>
                    </a:lnTo>
                    <a:lnTo>
                      <a:pt x="67" y="50"/>
                    </a:lnTo>
                    <a:lnTo>
                      <a:pt x="65" y="52"/>
                    </a:lnTo>
                    <a:lnTo>
                      <a:pt x="63" y="57"/>
                    </a:lnTo>
                    <a:lnTo>
                      <a:pt x="58" y="62"/>
                    </a:lnTo>
                    <a:lnTo>
                      <a:pt x="53" y="66"/>
                    </a:lnTo>
                    <a:lnTo>
                      <a:pt x="47" y="69"/>
                    </a:lnTo>
                    <a:lnTo>
                      <a:pt x="41" y="70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8" y="70"/>
                    </a:lnTo>
                    <a:lnTo>
                      <a:pt x="24" y="69"/>
                    </a:lnTo>
                    <a:lnTo>
                      <a:pt x="20" y="67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3085920" y="2240640"/>
                <a:ext cx="19800" cy="472680"/>
              </a:xfrm>
              <a:custGeom>
                <a:avLst/>
                <a:gdLst/>
                <a:ahLst/>
                <a:rect l="l" t="t" r="r" b="b"/>
                <a:pathLst>
                  <a:path w="29" h="611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8"/>
                    </a:moveTo>
                    <a:lnTo>
                      <a:pt x="9" y="607"/>
                    </a:lnTo>
                    <a:lnTo>
                      <a:pt x="10" y="606"/>
                    </a:lnTo>
                    <a:lnTo>
                      <a:pt x="11" y="605"/>
                    </a:lnTo>
                    <a:lnTo>
                      <a:pt x="13" y="603"/>
                    </a:lnTo>
                    <a:lnTo>
                      <a:pt x="15" y="603"/>
                    </a:lnTo>
                    <a:lnTo>
                      <a:pt x="16" y="603"/>
                    </a:lnTo>
                    <a:lnTo>
                      <a:pt x="18" y="605"/>
                    </a:lnTo>
                    <a:lnTo>
                      <a:pt x="19" y="606"/>
                    </a:lnTo>
                    <a:lnTo>
                      <a:pt x="20" y="607"/>
                    </a:lnTo>
                    <a:lnTo>
                      <a:pt x="20" y="607"/>
                    </a:lnTo>
                    <a:lnTo>
                      <a:pt x="23" y="608"/>
                    </a:lnTo>
                    <a:lnTo>
                      <a:pt x="24" y="608"/>
                    </a:lnTo>
                    <a:lnTo>
                      <a:pt x="25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9" y="607"/>
                    </a:lnTo>
                    <a:lnTo>
                      <a:pt x="29" y="606"/>
                    </a:lnTo>
                    <a:lnTo>
                      <a:pt x="29" y="606"/>
                    </a:lnTo>
                    <a:lnTo>
                      <a:pt x="29" y="603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7" y="600"/>
                    </a:lnTo>
                    <a:lnTo>
                      <a:pt x="25" y="600"/>
                    </a:lnTo>
                    <a:lnTo>
                      <a:pt x="24" y="598"/>
                    </a:lnTo>
                    <a:lnTo>
                      <a:pt x="24" y="597"/>
                    </a:lnTo>
                    <a:lnTo>
                      <a:pt x="24" y="596"/>
                    </a:lnTo>
                    <a:lnTo>
                      <a:pt x="24" y="595"/>
                    </a:lnTo>
                    <a:lnTo>
                      <a:pt x="24" y="592"/>
                    </a:lnTo>
                    <a:lnTo>
                      <a:pt x="25" y="591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9" y="587"/>
                    </a:lnTo>
                    <a:lnTo>
                      <a:pt x="29" y="587"/>
                    </a:lnTo>
                    <a:lnTo>
                      <a:pt x="29" y="586"/>
                    </a:lnTo>
                    <a:lnTo>
                      <a:pt x="29" y="584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7" y="582"/>
                    </a:lnTo>
                    <a:lnTo>
                      <a:pt x="27" y="581"/>
                    </a:lnTo>
                    <a:lnTo>
                      <a:pt x="25" y="581"/>
                    </a:lnTo>
                    <a:lnTo>
                      <a:pt x="24" y="581"/>
                    </a:lnTo>
                    <a:lnTo>
                      <a:pt x="23" y="582"/>
                    </a:lnTo>
                    <a:lnTo>
                      <a:pt x="23" y="582"/>
                    </a:lnTo>
                    <a:lnTo>
                      <a:pt x="20" y="584"/>
                    </a:lnTo>
                    <a:lnTo>
                      <a:pt x="19" y="586"/>
                    </a:lnTo>
                    <a:lnTo>
                      <a:pt x="18" y="586"/>
                    </a:lnTo>
                    <a:lnTo>
                      <a:pt x="15" y="586"/>
                    </a:lnTo>
                    <a:lnTo>
                      <a:pt x="11" y="586"/>
                    </a:lnTo>
                    <a:lnTo>
                      <a:pt x="10" y="586"/>
                    </a:lnTo>
                    <a:lnTo>
                      <a:pt x="9" y="584"/>
                    </a:lnTo>
                    <a:lnTo>
                      <a:pt x="9" y="584"/>
                    </a:lnTo>
                    <a:lnTo>
                      <a:pt x="6" y="582"/>
                    </a:lnTo>
                    <a:lnTo>
                      <a:pt x="5" y="581"/>
                    </a:lnTo>
                    <a:lnTo>
                      <a:pt x="4" y="581"/>
                    </a:lnTo>
                    <a:lnTo>
                      <a:pt x="3" y="581"/>
                    </a:lnTo>
                    <a:lnTo>
                      <a:pt x="3" y="582"/>
                    </a:lnTo>
                    <a:lnTo>
                      <a:pt x="0" y="582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6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3" y="590"/>
                    </a:lnTo>
                    <a:lnTo>
                      <a:pt x="4" y="591"/>
                    </a:lnTo>
                    <a:lnTo>
                      <a:pt x="5" y="592"/>
                    </a:lnTo>
                    <a:lnTo>
                      <a:pt x="5" y="595"/>
                    </a:lnTo>
                    <a:lnTo>
                      <a:pt x="6" y="596"/>
                    </a:lnTo>
                    <a:lnTo>
                      <a:pt x="5" y="597"/>
                    </a:lnTo>
                    <a:lnTo>
                      <a:pt x="5" y="598"/>
                    </a:lnTo>
                    <a:lnTo>
                      <a:pt x="4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0" y="602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3" y="608"/>
                    </a:lnTo>
                    <a:lnTo>
                      <a:pt x="3" y="610"/>
                    </a:lnTo>
                    <a:lnTo>
                      <a:pt x="4" y="611"/>
                    </a:lnTo>
                    <a:lnTo>
                      <a:pt x="5" y="610"/>
                    </a:lnTo>
                    <a:lnTo>
                      <a:pt x="6" y="608"/>
                    </a:lnTo>
                    <a:lnTo>
                      <a:pt x="6" y="60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60" name=""/>
              <p:cNvSpPr/>
              <p:nvPr/>
            </p:nvSpPr>
            <p:spPr>
              <a:xfrm>
                <a:off x="3085920" y="224064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61" name=""/>
              <p:cNvSpPr/>
              <p:nvPr/>
            </p:nvSpPr>
            <p:spPr>
              <a:xfrm>
                <a:off x="3085920" y="269028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7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7462" name=""/>
            <p:cNvSpPr/>
            <p:nvPr/>
          </p:nvSpPr>
          <p:spPr>
            <a:xfrm>
              <a:off x="3133800" y="2208600"/>
              <a:ext cx="50040" cy="552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63" name=""/>
            <p:cNvSpPr/>
            <p:nvPr/>
          </p:nvSpPr>
          <p:spPr>
            <a:xfrm>
              <a:off x="3108960" y="2181600"/>
              <a:ext cx="24840" cy="6055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64" name=""/>
            <p:cNvSpPr/>
            <p:nvPr/>
          </p:nvSpPr>
          <p:spPr>
            <a:xfrm>
              <a:off x="3133800" y="2181600"/>
              <a:ext cx="24840" cy="605520"/>
            </a:xfrm>
            <a:prstGeom prst="rect">
              <a:avLst/>
            </a:pr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3159000" y="2181600"/>
              <a:ext cx="25200" cy="60552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3127680" y="2196720"/>
              <a:ext cx="42480" cy="565560"/>
            </a:xfrm>
            <a:custGeom>
              <a:avLst/>
              <a:gdLst/>
              <a:ahLst/>
              <a:rect l="l" t="t" r="r" b="b"/>
              <a:pathLst>
                <a:path w="60" h="728">
                  <a:moveTo>
                    <a:pt x="60" y="720"/>
                  </a:moveTo>
                  <a:lnTo>
                    <a:pt x="60" y="7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20"/>
                  </a:lnTo>
                  <a:lnTo>
                    <a:pt x="1" y="723"/>
                  </a:lnTo>
                  <a:lnTo>
                    <a:pt x="1" y="724"/>
                  </a:lnTo>
                  <a:lnTo>
                    <a:pt x="4" y="725"/>
                  </a:lnTo>
                  <a:lnTo>
                    <a:pt x="6" y="726"/>
                  </a:lnTo>
                  <a:lnTo>
                    <a:pt x="9" y="728"/>
                  </a:lnTo>
                  <a:lnTo>
                    <a:pt x="9" y="728"/>
                  </a:lnTo>
                  <a:lnTo>
                    <a:pt x="53" y="728"/>
                  </a:lnTo>
                  <a:lnTo>
                    <a:pt x="56" y="726"/>
                  </a:lnTo>
                  <a:lnTo>
                    <a:pt x="58" y="725"/>
                  </a:lnTo>
                  <a:lnTo>
                    <a:pt x="59" y="724"/>
                  </a:lnTo>
                  <a:lnTo>
                    <a:pt x="60" y="7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67" name=""/>
            <p:cNvSpPr/>
            <p:nvPr/>
          </p:nvSpPr>
          <p:spPr>
            <a:xfrm>
              <a:off x="714240" y="2732760"/>
              <a:ext cx="153360" cy="5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68" name=""/>
            <p:cNvSpPr/>
            <p:nvPr/>
          </p:nvSpPr>
          <p:spPr>
            <a:xfrm>
              <a:off x="714240" y="2732760"/>
              <a:ext cx="153360" cy="5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69" name=""/>
            <p:cNvSpPr/>
            <p:nvPr/>
          </p:nvSpPr>
          <p:spPr>
            <a:xfrm>
              <a:off x="945000" y="2732760"/>
              <a:ext cx="152280" cy="5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70" name=""/>
            <p:cNvSpPr/>
            <p:nvPr/>
          </p:nvSpPr>
          <p:spPr>
            <a:xfrm>
              <a:off x="945000" y="2732760"/>
              <a:ext cx="152280" cy="5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71" name=""/>
            <p:cNvSpPr/>
            <p:nvPr/>
          </p:nvSpPr>
          <p:spPr>
            <a:xfrm>
              <a:off x="1173600" y="2732760"/>
              <a:ext cx="154800" cy="5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72" name=""/>
            <p:cNvSpPr/>
            <p:nvPr/>
          </p:nvSpPr>
          <p:spPr>
            <a:xfrm>
              <a:off x="1173600" y="2732760"/>
              <a:ext cx="154800" cy="5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73" name=""/>
            <p:cNvSpPr/>
            <p:nvPr/>
          </p:nvSpPr>
          <p:spPr>
            <a:xfrm>
              <a:off x="1403640" y="2732760"/>
              <a:ext cx="153360" cy="5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74" name=""/>
            <p:cNvSpPr/>
            <p:nvPr/>
          </p:nvSpPr>
          <p:spPr>
            <a:xfrm>
              <a:off x="1403640" y="2732760"/>
              <a:ext cx="153360" cy="5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75" name=""/>
            <p:cNvSpPr/>
            <p:nvPr/>
          </p:nvSpPr>
          <p:spPr>
            <a:xfrm>
              <a:off x="1020240" y="2521800"/>
              <a:ext cx="232200" cy="83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76" name=""/>
            <p:cNvSpPr/>
            <p:nvPr/>
          </p:nvSpPr>
          <p:spPr>
            <a:xfrm>
              <a:off x="1020240" y="2521800"/>
              <a:ext cx="232200" cy="83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77" name=""/>
            <p:cNvSpPr/>
            <p:nvPr/>
          </p:nvSpPr>
          <p:spPr>
            <a:xfrm>
              <a:off x="1020240" y="2268360"/>
              <a:ext cx="232200" cy="8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78" name=""/>
            <p:cNvSpPr/>
            <p:nvPr/>
          </p:nvSpPr>
          <p:spPr>
            <a:xfrm>
              <a:off x="1020240" y="2268360"/>
              <a:ext cx="232200" cy="85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7479" name=""/>
          <p:cNvGrpSpPr/>
          <p:nvPr/>
        </p:nvGrpSpPr>
        <p:grpSpPr>
          <a:xfrm>
            <a:off x="4724280" y="2138400"/>
            <a:ext cx="4381560" cy="947880"/>
            <a:chOff x="4724280" y="2138400"/>
            <a:chExt cx="4381560" cy="947880"/>
          </a:xfrm>
        </p:grpSpPr>
        <p:sp>
          <p:nvSpPr>
            <p:cNvPr id="7480" name=""/>
            <p:cNvSpPr/>
            <p:nvPr/>
          </p:nvSpPr>
          <p:spPr>
            <a:xfrm>
              <a:off x="4726800" y="2687400"/>
              <a:ext cx="87120" cy="387000"/>
            </a:xfrm>
            <a:custGeom>
              <a:avLst/>
              <a:gdLst/>
              <a:ahLst/>
              <a:rect l="l" t="t" r="r" b="b"/>
              <a:pathLst>
                <a:path w="122" h="497">
                  <a:moveTo>
                    <a:pt x="104" y="497"/>
                  </a:moveTo>
                  <a:lnTo>
                    <a:pt x="108" y="497"/>
                  </a:lnTo>
                  <a:lnTo>
                    <a:pt x="110" y="496"/>
                  </a:lnTo>
                  <a:lnTo>
                    <a:pt x="114" y="495"/>
                  </a:lnTo>
                  <a:lnTo>
                    <a:pt x="117" y="492"/>
                  </a:lnTo>
                  <a:lnTo>
                    <a:pt x="118" y="490"/>
                  </a:lnTo>
                  <a:lnTo>
                    <a:pt x="120" y="487"/>
                  </a:lnTo>
                  <a:lnTo>
                    <a:pt x="122" y="485"/>
                  </a:lnTo>
                  <a:lnTo>
                    <a:pt x="122" y="481"/>
                  </a:lnTo>
                  <a:lnTo>
                    <a:pt x="122" y="481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0" y="9"/>
                  </a:lnTo>
                  <a:lnTo>
                    <a:pt x="118" y="6"/>
                  </a:lnTo>
                  <a:lnTo>
                    <a:pt x="117" y="4"/>
                  </a:lnTo>
                  <a:lnTo>
                    <a:pt x="114" y="2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1" y="487"/>
                  </a:lnTo>
                  <a:lnTo>
                    <a:pt x="3" y="490"/>
                  </a:lnTo>
                  <a:lnTo>
                    <a:pt x="5" y="492"/>
                  </a:lnTo>
                  <a:lnTo>
                    <a:pt x="8" y="495"/>
                  </a:lnTo>
                  <a:lnTo>
                    <a:pt x="10" y="496"/>
                  </a:lnTo>
                  <a:lnTo>
                    <a:pt x="14" y="497"/>
                  </a:lnTo>
                  <a:lnTo>
                    <a:pt x="18" y="497"/>
                  </a:lnTo>
                  <a:lnTo>
                    <a:pt x="104" y="497"/>
                  </a:lnTo>
                  <a:lnTo>
                    <a:pt x="104" y="4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1" name=""/>
            <p:cNvSpPr/>
            <p:nvPr/>
          </p:nvSpPr>
          <p:spPr>
            <a:xfrm>
              <a:off x="4725360" y="2684880"/>
              <a:ext cx="88560" cy="38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2" name=""/>
            <p:cNvSpPr/>
            <p:nvPr/>
          </p:nvSpPr>
          <p:spPr>
            <a:xfrm>
              <a:off x="4725360" y="2684880"/>
              <a:ext cx="1080" cy="389160"/>
            </a:xfrm>
            <a:prstGeom prst="rect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3" name=""/>
            <p:cNvSpPr/>
            <p:nvPr/>
          </p:nvSpPr>
          <p:spPr>
            <a:xfrm>
              <a:off x="4725360" y="2684880"/>
              <a:ext cx="1080" cy="38916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4" name=""/>
            <p:cNvSpPr/>
            <p:nvPr/>
          </p:nvSpPr>
          <p:spPr>
            <a:xfrm>
              <a:off x="4726800" y="2684880"/>
              <a:ext cx="1080" cy="3891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5" name=""/>
            <p:cNvSpPr/>
            <p:nvPr/>
          </p:nvSpPr>
          <p:spPr>
            <a:xfrm>
              <a:off x="4727880" y="2684880"/>
              <a:ext cx="2520" cy="389160"/>
            </a:xfrm>
            <a:prstGeom prst="rect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6" name=""/>
            <p:cNvSpPr/>
            <p:nvPr/>
          </p:nvSpPr>
          <p:spPr>
            <a:xfrm>
              <a:off x="4727880" y="2684880"/>
              <a:ext cx="2520" cy="389160"/>
            </a:xfrm>
            <a:prstGeom prst="rect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7" name=""/>
            <p:cNvSpPr/>
            <p:nvPr/>
          </p:nvSpPr>
          <p:spPr>
            <a:xfrm>
              <a:off x="4730400" y="2684880"/>
              <a:ext cx="1080" cy="389160"/>
            </a:xfrm>
            <a:prstGeom prst="rect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8" name=""/>
            <p:cNvSpPr/>
            <p:nvPr/>
          </p:nvSpPr>
          <p:spPr>
            <a:xfrm>
              <a:off x="4731480" y="2684880"/>
              <a:ext cx="1080" cy="3891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9" name=""/>
            <p:cNvSpPr/>
            <p:nvPr/>
          </p:nvSpPr>
          <p:spPr>
            <a:xfrm>
              <a:off x="4731480" y="2684880"/>
              <a:ext cx="1080" cy="38916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0" name=""/>
            <p:cNvSpPr/>
            <p:nvPr/>
          </p:nvSpPr>
          <p:spPr>
            <a:xfrm>
              <a:off x="4732920" y="2684880"/>
              <a:ext cx="1080" cy="3891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1" name=""/>
            <p:cNvSpPr/>
            <p:nvPr/>
          </p:nvSpPr>
          <p:spPr>
            <a:xfrm>
              <a:off x="4732920" y="2684880"/>
              <a:ext cx="1080" cy="389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2" name=""/>
            <p:cNvSpPr/>
            <p:nvPr/>
          </p:nvSpPr>
          <p:spPr>
            <a:xfrm>
              <a:off x="4734000" y="2684880"/>
              <a:ext cx="1080" cy="38916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3" name=""/>
            <p:cNvSpPr/>
            <p:nvPr/>
          </p:nvSpPr>
          <p:spPr>
            <a:xfrm>
              <a:off x="4735440" y="2684880"/>
              <a:ext cx="1080" cy="38916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4" name=""/>
            <p:cNvSpPr/>
            <p:nvPr/>
          </p:nvSpPr>
          <p:spPr>
            <a:xfrm>
              <a:off x="4735440" y="2684880"/>
              <a:ext cx="1080" cy="38916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5" name=""/>
            <p:cNvSpPr/>
            <p:nvPr/>
          </p:nvSpPr>
          <p:spPr>
            <a:xfrm>
              <a:off x="4736520" y="2684880"/>
              <a:ext cx="1080" cy="38916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6" name=""/>
            <p:cNvSpPr/>
            <p:nvPr/>
          </p:nvSpPr>
          <p:spPr>
            <a:xfrm>
              <a:off x="4737600" y="2684880"/>
              <a:ext cx="2520" cy="38916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7" name=""/>
            <p:cNvSpPr/>
            <p:nvPr/>
          </p:nvSpPr>
          <p:spPr>
            <a:xfrm>
              <a:off x="4737600" y="2684880"/>
              <a:ext cx="2520" cy="38916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4740120" y="2684880"/>
              <a:ext cx="1080" cy="38916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9" name=""/>
            <p:cNvSpPr/>
            <p:nvPr/>
          </p:nvSpPr>
          <p:spPr>
            <a:xfrm>
              <a:off x="4740120" y="2684880"/>
              <a:ext cx="1080" cy="3891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0" name=""/>
            <p:cNvSpPr/>
            <p:nvPr/>
          </p:nvSpPr>
          <p:spPr>
            <a:xfrm>
              <a:off x="4741560" y="2684880"/>
              <a:ext cx="1080" cy="389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1" name=""/>
            <p:cNvSpPr/>
            <p:nvPr/>
          </p:nvSpPr>
          <p:spPr>
            <a:xfrm>
              <a:off x="4742640" y="2684880"/>
              <a:ext cx="1080" cy="3891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2" name=""/>
            <p:cNvSpPr/>
            <p:nvPr/>
          </p:nvSpPr>
          <p:spPr>
            <a:xfrm>
              <a:off x="4742640" y="2684880"/>
              <a:ext cx="1080" cy="38916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3" name=""/>
            <p:cNvSpPr/>
            <p:nvPr/>
          </p:nvSpPr>
          <p:spPr>
            <a:xfrm>
              <a:off x="4744080" y="2684880"/>
              <a:ext cx="1080" cy="38916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4" name=""/>
            <p:cNvSpPr/>
            <p:nvPr/>
          </p:nvSpPr>
          <p:spPr>
            <a:xfrm>
              <a:off x="4745520" y="2684880"/>
              <a:ext cx="1080" cy="38916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5" name=""/>
            <p:cNvSpPr/>
            <p:nvPr/>
          </p:nvSpPr>
          <p:spPr>
            <a:xfrm>
              <a:off x="4745520" y="2684880"/>
              <a:ext cx="1080" cy="38916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6" name=""/>
            <p:cNvSpPr/>
            <p:nvPr/>
          </p:nvSpPr>
          <p:spPr>
            <a:xfrm>
              <a:off x="4746600" y="2684880"/>
              <a:ext cx="1080" cy="38916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7" name=""/>
            <p:cNvSpPr/>
            <p:nvPr/>
          </p:nvSpPr>
          <p:spPr>
            <a:xfrm>
              <a:off x="4746600" y="2684880"/>
              <a:ext cx="1080" cy="3891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4748040" y="2684880"/>
              <a:ext cx="1080" cy="3891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4749120" y="2684880"/>
              <a:ext cx="2520" cy="38916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0" name=""/>
            <p:cNvSpPr/>
            <p:nvPr/>
          </p:nvSpPr>
          <p:spPr>
            <a:xfrm>
              <a:off x="4749120" y="2684880"/>
              <a:ext cx="2520" cy="3891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1" name=""/>
            <p:cNvSpPr/>
            <p:nvPr/>
          </p:nvSpPr>
          <p:spPr>
            <a:xfrm>
              <a:off x="4751640" y="2684880"/>
              <a:ext cx="1080" cy="38916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2" name=""/>
            <p:cNvSpPr/>
            <p:nvPr/>
          </p:nvSpPr>
          <p:spPr>
            <a:xfrm>
              <a:off x="4752720" y="2684880"/>
              <a:ext cx="1080" cy="3891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3" name=""/>
            <p:cNvSpPr/>
            <p:nvPr/>
          </p:nvSpPr>
          <p:spPr>
            <a:xfrm>
              <a:off x="4752720" y="2684880"/>
              <a:ext cx="1080" cy="3891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4" name=""/>
            <p:cNvSpPr/>
            <p:nvPr/>
          </p:nvSpPr>
          <p:spPr>
            <a:xfrm>
              <a:off x="4754160" y="2684880"/>
              <a:ext cx="1080" cy="3891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5" name=""/>
            <p:cNvSpPr/>
            <p:nvPr/>
          </p:nvSpPr>
          <p:spPr>
            <a:xfrm>
              <a:off x="4755240" y="2684880"/>
              <a:ext cx="1080" cy="3891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6" name=""/>
            <p:cNvSpPr/>
            <p:nvPr/>
          </p:nvSpPr>
          <p:spPr>
            <a:xfrm>
              <a:off x="4755240" y="2684880"/>
              <a:ext cx="1080" cy="3891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7" name=""/>
            <p:cNvSpPr/>
            <p:nvPr/>
          </p:nvSpPr>
          <p:spPr>
            <a:xfrm>
              <a:off x="4756680" y="2684880"/>
              <a:ext cx="1080" cy="3891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8" name=""/>
            <p:cNvSpPr/>
            <p:nvPr/>
          </p:nvSpPr>
          <p:spPr>
            <a:xfrm>
              <a:off x="4756680" y="2684880"/>
              <a:ext cx="1080" cy="389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9" name=""/>
            <p:cNvSpPr/>
            <p:nvPr/>
          </p:nvSpPr>
          <p:spPr>
            <a:xfrm>
              <a:off x="4757760" y="2684880"/>
              <a:ext cx="1080" cy="3891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0" name=""/>
            <p:cNvSpPr/>
            <p:nvPr/>
          </p:nvSpPr>
          <p:spPr>
            <a:xfrm>
              <a:off x="4758840" y="2684880"/>
              <a:ext cx="2520" cy="3891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1" name=""/>
            <p:cNvSpPr/>
            <p:nvPr/>
          </p:nvSpPr>
          <p:spPr>
            <a:xfrm>
              <a:off x="4758840" y="2684880"/>
              <a:ext cx="2520" cy="3891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2" name=""/>
            <p:cNvSpPr/>
            <p:nvPr/>
          </p:nvSpPr>
          <p:spPr>
            <a:xfrm>
              <a:off x="4761360" y="2684880"/>
              <a:ext cx="1080" cy="3891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3" name=""/>
            <p:cNvSpPr/>
            <p:nvPr/>
          </p:nvSpPr>
          <p:spPr>
            <a:xfrm>
              <a:off x="4762800" y="2684880"/>
              <a:ext cx="1080" cy="3891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4" name=""/>
            <p:cNvSpPr/>
            <p:nvPr/>
          </p:nvSpPr>
          <p:spPr>
            <a:xfrm>
              <a:off x="4762800" y="2684880"/>
              <a:ext cx="1080" cy="3891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5" name=""/>
            <p:cNvSpPr/>
            <p:nvPr/>
          </p:nvSpPr>
          <p:spPr>
            <a:xfrm>
              <a:off x="4763880" y="2684880"/>
              <a:ext cx="1080" cy="3891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6" name=""/>
            <p:cNvSpPr/>
            <p:nvPr/>
          </p:nvSpPr>
          <p:spPr>
            <a:xfrm>
              <a:off x="4763880" y="2684880"/>
              <a:ext cx="1080" cy="3891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7" name=""/>
            <p:cNvSpPr/>
            <p:nvPr/>
          </p:nvSpPr>
          <p:spPr>
            <a:xfrm>
              <a:off x="4765320" y="2684880"/>
              <a:ext cx="1080" cy="3891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8" name=""/>
            <p:cNvSpPr/>
            <p:nvPr/>
          </p:nvSpPr>
          <p:spPr>
            <a:xfrm>
              <a:off x="4766760" y="2684880"/>
              <a:ext cx="1080" cy="3891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9" name=""/>
            <p:cNvSpPr/>
            <p:nvPr/>
          </p:nvSpPr>
          <p:spPr>
            <a:xfrm>
              <a:off x="4766760" y="2684880"/>
              <a:ext cx="1080" cy="3891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30" name=""/>
            <p:cNvSpPr/>
            <p:nvPr/>
          </p:nvSpPr>
          <p:spPr>
            <a:xfrm>
              <a:off x="4767840" y="2684880"/>
              <a:ext cx="1080" cy="3891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31" name=""/>
            <p:cNvSpPr/>
            <p:nvPr/>
          </p:nvSpPr>
          <p:spPr>
            <a:xfrm>
              <a:off x="4769280" y="2684880"/>
              <a:ext cx="2520" cy="3891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32" name=""/>
            <p:cNvSpPr/>
            <p:nvPr/>
          </p:nvSpPr>
          <p:spPr>
            <a:xfrm>
              <a:off x="4769280" y="2684880"/>
              <a:ext cx="2520" cy="38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33" name=""/>
            <p:cNvSpPr/>
            <p:nvPr/>
          </p:nvSpPr>
          <p:spPr>
            <a:xfrm>
              <a:off x="4771800" y="2684880"/>
              <a:ext cx="1080" cy="3891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34" name=""/>
            <p:cNvSpPr/>
            <p:nvPr/>
          </p:nvSpPr>
          <p:spPr>
            <a:xfrm>
              <a:off x="4771800" y="2684880"/>
              <a:ext cx="1080" cy="3891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35" name=""/>
            <p:cNvSpPr/>
            <p:nvPr/>
          </p:nvSpPr>
          <p:spPr>
            <a:xfrm>
              <a:off x="4772880" y="2684880"/>
              <a:ext cx="1080" cy="3891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36" name=""/>
            <p:cNvSpPr/>
            <p:nvPr/>
          </p:nvSpPr>
          <p:spPr>
            <a:xfrm>
              <a:off x="4773960" y="2684880"/>
              <a:ext cx="1080" cy="3891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7537" name=""/>
            <p:cNvGrpSpPr/>
            <p:nvPr/>
          </p:nvGrpSpPr>
          <p:grpSpPr>
            <a:xfrm>
              <a:off x="4724280" y="2138400"/>
              <a:ext cx="4381560" cy="947880"/>
              <a:chOff x="4724280" y="2138400"/>
              <a:chExt cx="4381560" cy="947880"/>
            </a:xfrm>
          </p:grpSpPr>
          <p:sp>
            <p:nvSpPr>
              <p:cNvPr id="7538" name=""/>
              <p:cNvSpPr/>
              <p:nvPr/>
            </p:nvSpPr>
            <p:spPr>
              <a:xfrm>
                <a:off x="4773960" y="2685600"/>
                <a:ext cx="1080" cy="3880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4775400" y="2685600"/>
                <a:ext cx="1440" cy="38808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0" name=""/>
              <p:cNvSpPr/>
              <p:nvPr/>
            </p:nvSpPr>
            <p:spPr>
              <a:xfrm>
                <a:off x="4776840" y="2685600"/>
                <a:ext cx="1080" cy="3880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1" name=""/>
              <p:cNvSpPr/>
              <p:nvPr/>
            </p:nvSpPr>
            <p:spPr>
              <a:xfrm>
                <a:off x="4776840" y="2685600"/>
                <a:ext cx="1080" cy="38808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2" name=""/>
              <p:cNvSpPr/>
              <p:nvPr/>
            </p:nvSpPr>
            <p:spPr>
              <a:xfrm>
                <a:off x="4778280" y="2685600"/>
                <a:ext cx="1080" cy="38808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3" name=""/>
              <p:cNvSpPr/>
              <p:nvPr/>
            </p:nvSpPr>
            <p:spPr>
              <a:xfrm>
                <a:off x="4778280" y="2685600"/>
                <a:ext cx="1080" cy="38808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4" name=""/>
              <p:cNvSpPr/>
              <p:nvPr/>
            </p:nvSpPr>
            <p:spPr>
              <a:xfrm>
                <a:off x="4779720" y="2685600"/>
                <a:ext cx="1440" cy="3880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4781160" y="2685600"/>
                <a:ext cx="1080" cy="38808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6" name=""/>
              <p:cNvSpPr/>
              <p:nvPr/>
            </p:nvSpPr>
            <p:spPr>
              <a:xfrm>
                <a:off x="4781160" y="2685600"/>
                <a:ext cx="1080" cy="38808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7" name=""/>
              <p:cNvSpPr/>
              <p:nvPr/>
            </p:nvSpPr>
            <p:spPr>
              <a:xfrm>
                <a:off x="4782600" y="2685600"/>
                <a:ext cx="1440" cy="38808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8" name=""/>
              <p:cNvSpPr/>
              <p:nvPr/>
            </p:nvSpPr>
            <p:spPr>
              <a:xfrm>
                <a:off x="4784040" y="2685600"/>
                <a:ext cx="1080" cy="38808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4784040" y="2685600"/>
                <a:ext cx="1080" cy="38808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0" name=""/>
              <p:cNvSpPr/>
              <p:nvPr/>
            </p:nvSpPr>
            <p:spPr>
              <a:xfrm>
                <a:off x="4785480" y="2685600"/>
                <a:ext cx="1080" cy="3880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1" name=""/>
              <p:cNvSpPr/>
              <p:nvPr/>
            </p:nvSpPr>
            <p:spPr>
              <a:xfrm>
                <a:off x="4785480" y="2685600"/>
                <a:ext cx="1080" cy="38808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2" name=""/>
              <p:cNvSpPr/>
              <p:nvPr/>
            </p:nvSpPr>
            <p:spPr>
              <a:xfrm>
                <a:off x="4786560" y="2685600"/>
                <a:ext cx="1440" cy="38808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3" name=""/>
              <p:cNvSpPr/>
              <p:nvPr/>
            </p:nvSpPr>
            <p:spPr>
              <a:xfrm>
                <a:off x="4788360" y="2685600"/>
                <a:ext cx="1080" cy="38808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4" name=""/>
              <p:cNvSpPr/>
              <p:nvPr/>
            </p:nvSpPr>
            <p:spPr>
              <a:xfrm>
                <a:off x="4788360" y="2685600"/>
                <a:ext cx="1080" cy="3880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5" name=""/>
              <p:cNvSpPr/>
              <p:nvPr/>
            </p:nvSpPr>
            <p:spPr>
              <a:xfrm>
                <a:off x="4789440" y="2685600"/>
                <a:ext cx="1440" cy="388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6" name=""/>
              <p:cNvSpPr/>
              <p:nvPr/>
            </p:nvSpPr>
            <p:spPr>
              <a:xfrm>
                <a:off x="4791240" y="2685600"/>
                <a:ext cx="1080" cy="38808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7" name=""/>
              <p:cNvSpPr/>
              <p:nvPr/>
            </p:nvSpPr>
            <p:spPr>
              <a:xfrm>
                <a:off x="4791240" y="2685600"/>
                <a:ext cx="1080" cy="3880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8" name=""/>
              <p:cNvSpPr/>
              <p:nvPr/>
            </p:nvSpPr>
            <p:spPr>
              <a:xfrm>
                <a:off x="4792320" y="2685600"/>
                <a:ext cx="1080" cy="388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9" name=""/>
              <p:cNvSpPr/>
              <p:nvPr/>
            </p:nvSpPr>
            <p:spPr>
              <a:xfrm>
                <a:off x="4792320" y="2685600"/>
                <a:ext cx="1080" cy="38808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0" name=""/>
              <p:cNvSpPr/>
              <p:nvPr/>
            </p:nvSpPr>
            <p:spPr>
              <a:xfrm>
                <a:off x="4793760" y="2685600"/>
                <a:ext cx="1440" cy="3880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1" name=""/>
              <p:cNvSpPr/>
              <p:nvPr/>
            </p:nvSpPr>
            <p:spPr>
              <a:xfrm>
                <a:off x="4795200" y="2685600"/>
                <a:ext cx="1080" cy="38808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2" name=""/>
              <p:cNvSpPr/>
              <p:nvPr/>
            </p:nvSpPr>
            <p:spPr>
              <a:xfrm>
                <a:off x="4795200" y="2685600"/>
                <a:ext cx="1080" cy="38808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3" name=""/>
              <p:cNvSpPr/>
              <p:nvPr/>
            </p:nvSpPr>
            <p:spPr>
              <a:xfrm>
                <a:off x="4796640" y="2685600"/>
                <a:ext cx="1440" cy="388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4" name=""/>
              <p:cNvSpPr/>
              <p:nvPr/>
            </p:nvSpPr>
            <p:spPr>
              <a:xfrm>
                <a:off x="4798440" y="2685600"/>
                <a:ext cx="1080" cy="38808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5" name=""/>
              <p:cNvSpPr/>
              <p:nvPr/>
            </p:nvSpPr>
            <p:spPr>
              <a:xfrm>
                <a:off x="4798440" y="2685600"/>
                <a:ext cx="1080" cy="38808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6" name=""/>
              <p:cNvSpPr/>
              <p:nvPr/>
            </p:nvSpPr>
            <p:spPr>
              <a:xfrm>
                <a:off x="4799520" y="2685600"/>
                <a:ext cx="1080" cy="388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7" name=""/>
              <p:cNvSpPr/>
              <p:nvPr/>
            </p:nvSpPr>
            <p:spPr>
              <a:xfrm>
                <a:off x="4799520" y="2685600"/>
                <a:ext cx="1080" cy="38808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8" name=""/>
              <p:cNvSpPr/>
              <p:nvPr/>
            </p:nvSpPr>
            <p:spPr>
              <a:xfrm>
                <a:off x="4800960" y="2685600"/>
                <a:ext cx="1440" cy="38808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9" name=""/>
              <p:cNvSpPr/>
              <p:nvPr/>
            </p:nvSpPr>
            <p:spPr>
              <a:xfrm>
                <a:off x="4802400" y="2685600"/>
                <a:ext cx="1080" cy="38808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0" name=""/>
              <p:cNvSpPr/>
              <p:nvPr/>
            </p:nvSpPr>
            <p:spPr>
              <a:xfrm>
                <a:off x="4802400" y="2685600"/>
                <a:ext cx="1080" cy="38808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1" name=""/>
              <p:cNvSpPr/>
              <p:nvPr/>
            </p:nvSpPr>
            <p:spPr>
              <a:xfrm>
                <a:off x="4803840" y="2685600"/>
                <a:ext cx="1440" cy="38808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2" name=""/>
              <p:cNvSpPr/>
              <p:nvPr/>
            </p:nvSpPr>
            <p:spPr>
              <a:xfrm>
                <a:off x="4805280" y="2685600"/>
                <a:ext cx="1080" cy="38808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3" name=""/>
              <p:cNvSpPr/>
              <p:nvPr/>
            </p:nvSpPr>
            <p:spPr>
              <a:xfrm>
                <a:off x="4805280" y="2685600"/>
                <a:ext cx="1080" cy="3880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4" name=""/>
              <p:cNvSpPr/>
              <p:nvPr/>
            </p:nvSpPr>
            <p:spPr>
              <a:xfrm>
                <a:off x="4806720" y="2685600"/>
                <a:ext cx="1440" cy="3880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5" name=""/>
              <p:cNvSpPr/>
              <p:nvPr/>
            </p:nvSpPr>
            <p:spPr>
              <a:xfrm>
                <a:off x="4806720" y="2685600"/>
                <a:ext cx="1440" cy="38808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6" name=""/>
              <p:cNvSpPr/>
              <p:nvPr/>
            </p:nvSpPr>
            <p:spPr>
              <a:xfrm>
                <a:off x="4808160" y="2685600"/>
                <a:ext cx="1080" cy="38808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7" name=""/>
              <p:cNvSpPr/>
              <p:nvPr/>
            </p:nvSpPr>
            <p:spPr>
              <a:xfrm>
                <a:off x="4809600" y="2685600"/>
                <a:ext cx="1080" cy="38808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8" name=""/>
              <p:cNvSpPr/>
              <p:nvPr/>
            </p:nvSpPr>
            <p:spPr>
              <a:xfrm>
                <a:off x="4809600" y="2685600"/>
                <a:ext cx="1080" cy="3880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9" name=""/>
              <p:cNvSpPr/>
              <p:nvPr/>
            </p:nvSpPr>
            <p:spPr>
              <a:xfrm>
                <a:off x="4810680" y="2685600"/>
                <a:ext cx="1440" cy="38808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0" name=""/>
              <p:cNvSpPr/>
              <p:nvPr/>
            </p:nvSpPr>
            <p:spPr>
              <a:xfrm>
                <a:off x="4812480" y="2685600"/>
                <a:ext cx="1080" cy="3880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4812480" y="2685600"/>
                <a:ext cx="1080" cy="38808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4813920" y="2685600"/>
                <a:ext cx="1440" cy="38808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3" name=""/>
              <p:cNvSpPr/>
              <p:nvPr/>
            </p:nvSpPr>
            <p:spPr>
              <a:xfrm>
                <a:off x="4727160" y="2685600"/>
                <a:ext cx="85320" cy="386640"/>
              </a:xfrm>
              <a:custGeom>
                <a:avLst/>
                <a:gdLst/>
                <a:ahLst/>
                <a:rect l="l" t="t" r="r" b="b"/>
                <a:pathLst>
                  <a:path w="120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0" y="496"/>
                    </a:lnTo>
                    <a:lnTo>
                      <a:pt x="113" y="495"/>
                    </a:lnTo>
                    <a:lnTo>
                      <a:pt x="115" y="492"/>
                    </a:lnTo>
                    <a:lnTo>
                      <a:pt x="118" y="491"/>
                    </a:lnTo>
                    <a:lnTo>
                      <a:pt x="119" y="487"/>
                    </a:lnTo>
                    <a:lnTo>
                      <a:pt x="120" y="484"/>
                    </a:lnTo>
                    <a:lnTo>
                      <a:pt x="120" y="482"/>
                    </a:lnTo>
                    <a:lnTo>
                      <a:pt x="120" y="482"/>
                    </a:lnTo>
                    <a:lnTo>
                      <a:pt x="120" y="16"/>
                    </a:lnTo>
                    <a:lnTo>
                      <a:pt x="120" y="12"/>
                    </a:lnTo>
                    <a:lnTo>
                      <a:pt x="119" y="10"/>
                    </a:lnTo>
                    <a:lnTo>
                      <a:pt x="118" y="7"/>
                    </a:lnTo>
                    <a:lnTo>
                      <a:pt x="115" y="5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82"/>
                    </a:lnTo>
                    <a:lnTo>
                      <a:pt x="0" y="484"/>
                    </a:lnTo>
                    <a:lnTo>
                      <a:pt x="1" y="487"/>
                    </a:lnTo>
                    <a:lnTo>
                      <a:pt x="3" y="491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4" y="497"/>
                    </a:lnTo>
                    <a:lnTo>
                      <a:pt x="18" y="497"/>
                    </a:lnTo>
                    <a:lnTo>
                      <a:pt x="103" y="497"/>
                    </a:lnTo>
                    <a:lnTo>
                      <a:pt x="103" y="497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4" name=""/>
              <p:cNvSpPr/>
              <p:nvPr/>
            </p:nvSpPr>
            <p:spPr>
              <a:xfrm>
                <a:off x="9017280" y="2687040"/>
                <a:ext cx="85320" cy="386640"/>
              </a:xfrm>
              <a:custGeom>
                <a:avLst/>
                <a:gdLst/>
                <a:ahLst/>
                <a:rect l="l" t="t" r="r" b="b"/>
                <a:pathLst>
                  <a:path w="121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1" y="496"/>
                    </a:lnTo>
                    <a:lnTo>
                      <a:pt x="113" y="495"/>
                    </a:lnTo>
                    <a:lnTo>
                      <a:pt x="116" y="492"/>
                    </a:lnTo>
                    <a:lnTo>
                      <a:pt x="118" y="490"/>
                    </a:lnTo>
                    <a:lnTo>
                      <a:pt x="119" y="487"/>
                    </a:lnTo>
                    <a:lnTo>
                      <a:pt x="121" y="485"/>
                    </a:lnTo>
                    <a:lnTo>
                      <a:pt x="121" y="481"/>
                    </a:lnTo>
                    <a:lnTo>
                      <a:pt x="121" y="15"/>
                    </a:lnTo>
                    <a:lnTo>
                      <a:pt x="121" y="11"/>
                    </a:lnTo>
                    <a:lnTo>
                      <a:pt x="119" y="9"/>
                    </a:lnTo>
                    <a:lnTo>
                      <a:pt x="118" y="6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11" y="1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2" y="487"/>
                    </a:lnTo>
                    <a:lnTo>
                      <a:pt x="3" y="490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3" y="497"/>
                    </a:lnTo>
                    <a:lnTo>
                      <a:pt x="17" y="497"/>
                    </a:lnTo>
                    <a:lnTo>
                      <a:pt x="103" y="497"/>
                    </a:lnTo>
                    <a:lnTo>
                      <a:pt x="10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5" name=""/>
              <p:cNvSpPr/>
              <p:nvPr/>
            </p:nvSpPr>
            <p:spPr>
              <a:xfrm>
                <a:off x="9016200" y="2685600"/>
                <a:ext cx="87840" cy="3880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6" name=""/>
              <p:cNvSpPr/>
              <p:nvPr/>
            </p:nvSpPr>
            <p:spPr>
              <a:xfrm>
                <a:off x="9016200" y="2685600"/>
                <a:ext cx="1080" cy="38808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7" name=""/>
              <p:cNvSpPr/>
              <p:nvPr/>
            </p:nvSpPr>
            <p:spPr>
              <a:xfrm>
                <a:off x="9017280" y="2685600"/>
                <a:ext cx="1440" cy="3880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9017280" y="2685600"/>
                <a:ext cx="1440" cy="38808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9" name=""/>
              <p:cNvSpPr/>
              <p:nvPr/>
            </p:nvSpPr>
            <p:spPr>
              <a:xfrm>
                <a:off x="9019080" y="2685600"/>
                <a:ext cx="1080" cy="38808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0" name=""/>
              <p:cNvSpPr/>
              <p:nvPr/>
            </p:nvSpPr>
            <p:spPr>
              <a:xfrm>
                <a:off x="9019080" y="2685600"/>
                <a:ext cx="1080" cy="38808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1" name=""/>
              <p:cNvSpPr/>
              <p:nvPr/>
            </p:nvSpPr>
            <p:spPr>
              <a:xfrm>
                <a:off x="9020160" y="2685600"/>
                <a:ext cx="1440" cy="38808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9021960" y="2685600"/>
                <a:ext cx="1080" cy="3880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3" name=""/>
              <p:cNvSpPr/>
              <p:nvPr/>
            </p:nvSpPr>
            <p:spPr>
              <a:xfrm>
                <a:off x="9021960" y="2685600"/>
                <a:ext cx="1080" cy="38808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4" name=""/>
              <p:cNvSpPr/>
              <p:nvPr/>
            </p:nvSpPr>
            <p:spPr>
              <a:xfrm>
                <a:off x="9023040" y="2685600"/>
                <a:ext cx="1080" cy="3880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5" name=""/>
              <p:cNvSpPr/>
              <p:nvPr/>
            </p:nvSpPr>
            <p:spPr>
              <a:xfrm>
                <a:off x="9024480" y="2685600"/>
                <a:ext cx="1440" cy="3880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6" name=""/>
              <p:cNvSpPr/>
              <p:nvPr/>
            </p:nvSpPr>
            <p:spPr>
              <a:xfrm>
                <a:off x="9024480" y="2685600"/>
                <a:ext cx="1440" cy="3880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7" name=""/>
              <p:cNvSpPr/>
              <p:nvPr/>
            </p:nvSpPr>
            <p:spPr>
              <a:xfrm>
                <a:off x="9025920" y="2685600"/>
                <a:ext cx="1080" cy="38808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8" name=""/>
              <p:cNvSpPr/>
              <p:nvPr/>
            </p:nvSpPr>
            <p:spPr>
              <a:xfrm>
                <a:off x="9025920" y="2685600"/>
                <a:ext cx="1080" cy="38808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9" name=""/>
              <p:cNvSpPr/>
              <p:nvPr/>
            </p:nvSpPr>
            <p:spPr>
              <a:xfrm>
                <a:off x="9027360" y="2685600"/>
                <a:ext cx="1440" cy="38808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0" name=""/>
              <p:cNvSpPr/>
              <p:nvPr/>
            </p:nvSpPr>
            <p:spPr>
              <a:xfrm>
                <a:off x="9028800" y="2685600"/>
                <a:ext cx="1080" cy="38808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1" name=""/>
              <p:cNvSpPr/>
              <p:nvPr/>
            </p:nvSpPr>
            <p:spPr>
              <a:xfrm>
                <a:off x="9028800" y="2685600"/>
                <a:ext cx="1080" cy="38808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2" name=""/>
              <p:cNvSpPr/>
              <p:nvPr/>
            </p:nvSpPr>
            <p:spPr>
              <a:xfrm>
                <a:off x="9030240" y="2685600"/>
                <a:ext cx="1080" cy="388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3" name=""/>
              <p:cNvSpPr/>
              <p:nvPr/>
            </p:nvSpPr>
            <p:spPr>
              <a:xfrm>
                <a:off x="9031680" y="2685600"/>
                <a:ext cx="1440" cy="3880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4" name=""/>
              <p:cNvSpPr/>
              <p:nvPr/>
            </p:nvSpPr>
            <p:spPr>
              <a:xfrm>
                <a:off x="9031680" y="2685600"/>
                <a:ext cx="1440" cy="3880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5" name=""/>
              <p:cNvSpPr/>
              <p:nvPr/>
            </p:nvSpPr>
            <p:spPr>
              <a:xfrm>
                <a:off x="9033120" y="2685600"/>
                <a:ext cx="1080" cy="3880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6" name=""/>
              <p:cNvSpPr/>
              <p:nvPr/>
            </p:nvSpPr>
            <p:spPr>
              <a:xfrm>
                <a:off x="9033120" y="2685600"/>
                <a:ext cx="1080" cy="38808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7" name=""/>
              <p:cNvSpPr/>
              <p:nvPr/>
            </p:nvSpPr>
            <p:spPr>
              <a:xfrm>
                <a:off x="9034560" y="2685600"/>
                <a:ext cx="1440" cy="3880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8" name=""/>
              <p:cNvSpPr/>
              <p:nvPr/>
            </p:nvSpPr>
            <p:spPr>
              <a:xfrm>
                <a:off x="9036000" y="2685600"/>
                <a:ext cx="1080" cy="3880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9" name=""/>
              <p:cNvSpPr/>
              <p:nvPr/>
            </p:nvSpPr>
            <p:spPr>
              <a:xfrm>
                <a:off x="9036000" y="2685600"/>
                <a:ext cx="1080" cy="3880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0" name=""/>
              <p:cNvSpPr/>
              <p:nvPr/>
            </p:nvSpPr>
            <p:spPr>
              <a:xfrm>
                <a:off x="9037440" y="2685600"/>
                <a:ext cx="1080" cy="3880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1" name=""/>
              <p:cNvSpPr/>
              <p:nvPr/>
            </p:nvSpPr>
            <p:spPr>
              <a:xfrm>
                <a:off x="9038520" y="2685600"/>
                <a:ext cx="1440" cy="3880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2" name=""/>
              <p:cNvSpPr/>
              <p:nvPr/>
            </p:nvSpPr>
            <p:spPr>
              <a:xfrm>
                <a:off x="9038520" y="2685600"/>
                <a:ext cx="1440" cy="3880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3" name=""/>
              <p:cNvSpPr/>
              <p:nvPr/>
            </p:nvSpPr>
            <p:spPr>
              <a:xfrm>
                <a:off x="9040320" y="2685600"/>
                <a:ext cx="1080" cy="3880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4" name=""/>
              <p:cNvSpPr/>
              <p:nvPr/>
            </p:nvSpPr>
            <p:spPr>
              <a:xfrm>
                <a:off x="9040320" y="2685600"/>
                <a:ext cx="1080" cy="38808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5" name=""/>
              <p:cNvSpPr/>
              <p:nvPr/>
            </p:nvSpPr>
            <p:spPr>
              <a:xfrm>
                <a:off x="9041400" y="2685600"/>
                <a:ext cx="1440" cy="38808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6" name=""/>
              <p:cNvSpPr/>
              <p:nvPr/>
            </p:nvSpPr>
            <p:spPr>
              <a:xfrm>
                <a:off x="9043200" y="2685600"/>
                <a:ext cx="1080" cy="38808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7" name=""/>
              <p:cNvSpPr/>
              <p:nvPr/>
            </p:nvSpPr>
            <p:spPr>
              <a:xfrm>
                <a:off x="9043200" y="2685600"/>
                <a:ext cx="1080" cy="3880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8" name=""/>
              <p:cNvSpPr/>
              <p:nvPr/>
            </p:nvSpPr>
            <p:spPr>
              <a:xfrm>
                <a:off x="9044280" y="2685600"/>
                <a:ext cx="1440" cy="3880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9" name=""/>
              <p:cNvSpPr/>
              <p:nvPr/>
            </p:nvSpPr>
            <p:spPr>
              <a:xfrm>
                <a:off x="9046080" y="2685600"/>
                <a:ext cx="1080" cy="38808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0" name=""/>
              <p:cNvSpPr/>
              <p:nvPr/>
            </p:nvSpPr>
            <p:spPr>
              <a:xfrm>
                <a:off x="9046080" y="2685600"/>
                <a:ext cx="1080" cy="38808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1" name=""/>
              <p:cNvSpPr/>
              <p:nvPr/>
            </p:nvSpPr>
            <p:spPr>
              <a:xfrm>
                <a:off x="9047160" y="2685600"/>
                <a:ext cx="1080" cy="38808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2" name=""/>
              <p:cNvSpPr/>
              <p:nvPr/>
            </p:nvSpPr>
            <p:spPr>
              <a:xfrm>
                <a:off x="9047160" y="2685600"/>
                <a:ext cx="1080" cy="3880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3" name=""/>
              <p:cNvSpPr/>
              <p:nvPr/>
            </p:nvSpPr>
            <p:spPr>
              <a:xfrm>
                <a:off x="9048600" y="2685600"/>
                <a:ext cx="1440" cy="38808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9050400" y="2685600"/>
                <a:ext cx="1080" cy="38808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9050400" y="2685600"/>
                <a:ext cx="1080" cy="38808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6" name=""/>
              <p:cNvSpPr/>
              <p:nvPr/>
            </p:nvSpPr>
            <p:spPr>
              <a:xfrm>
                <a:off x="9051480" y="2685600"/>
                <a:ext cx="1440" cy="38808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7" name=""/>
              <p:cNvSpPr/>
              <p:nvPr/>
            </p:nvSpPr>
            <p:spPr>
              <a:xfrm>
                <a:off x="9053280" y="2685600"/>
                <a:ext cx="1080" cy="388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8" name=""/>
              <p:cNvSpPr/>
              <p:nvPr/>
            </p:nvSpPr>
            <p:spPr>
              <a:xfrm>
                <a:off x="9053280" y="2685600"/>
                <a:ext cx="1080" cy="38808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9" name=""/>
              <p:cNvSpPr/>
              <p:nvPr/>
            </p:nvSpPr>
            <p:spPr>
              <a:xfrm>
                <a:off x="9054360" y="2685600"/>
                <a:ext cx="1080" cy="38808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0" name=""/>
              <p:cNvSpPr/>
              <p:nvPr/>
            </p:nvSpPr>
            <p:spPr>
              <a:xfrm>
                <a:off x="9054360" y="2685600"/>
                <a:ext cx="1080" cy="38808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9055800" y="2685600"/>
                <a:ext cx="1440" cy="38808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2" name=""/>
              <p:cNvSpPr/>
              <p:nvPr/>
            </p:nvSpPr>
            <p:spPr>
              <a:xfrm>
                <a:off x="9057240" y="2685600"/>
                <a:ext cx="1080" cy="38808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3" name=""/>
              <p:cNvSpPr/>
              <p:nvPr/>
            </p:nvSpPr>
            <p:spPr>
              <a:xfrm>
                <a:off x="9057240" y="2685600"/>
                <a:ext cx="1080" cy="38808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4" name=""/>
              <p:cNvSpPr/>
              <p:nvPr/>
            </p:nvSpPr>
            <p:spPr>
              <a:xfrm>
                <a:off x="9058680" y="2685600"/>
                <a:ext cx="1440" cy="388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9060120" y="2685600"/>
                <a:ext cx="1080" cy="38808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6" name=""/>
              <p:cNvSpPr/>
              <p:nvPr/>
            </p:nvSpPr>
            <p:spPr>
              <a:xfrm>
                <a:off x="9061560" y="2685600"/>
                <a:ext cx="1080" cy="38808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7" name=""/>
              <p:cNvSpPr/>
              <p:nvPr/>
            </p:nvSpPr>
            <p:spPr>
              <a:xfrm>
                <a:off x="9062640" y="2685600"/>
                <a:ext cx="1440" cy="38808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8" name=""/>
              <p:cNvSpPr/>
              <p:nvPr/>
            </p:nvSpPr>
            <p:spPr>
              <a:xfrm>
                <a:off x="9062640" y="2685600"/>
                <a:ext cx="1440" cy="38808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9" name=""/>
              <p:cNvSpPr/>
              <p:nvPr/>
            </p:nvSpPr>
            <p:spPr>
              <a:xfrm>
                <a:off x="9064440" y="2685600"/>
                <a:ext cx="1080" cy="3880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0" name=""/>
              <p:cNvSpPr/>
              <p:nvPr/>
            </p:nvSpPr>
            <p:spPr>
              <a:xfrm>
                <a:off x="9064440" y="2685600"/>
                <a:ext cx="1080" cy="38808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1" name=""/>
              <p:cNvSpPr/>
              <p:nvPr/>
            </p:nvSpPr>
            <p:spPr>
              <a:xfrm>
                <a:off x="9065880" y="2685600"/>
                <a:ext cx="1440" cy="38808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2" name=""/>
              <p:cNvSpPr/>
              <p:nvPr/>
            </p:nvSpPr>
            <p:spPr>
              <a:xfrm>
                <a:off x="9067320" y="2685600"/>
                <a:ext cx="1080" cy="38808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3" name=""/>
              <p:cNvSpPr/>
              <p:nvPr/>
            </p:nvSpPr>
            <p:spPr>
              <a:xfrm>
                <a:off x="9067320" y="2685600"/>
                <a:ext cx="1080" cy="3880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4" name=""/>
              <p:cNvSpPr/>
              <p:nvPr/>
            </p:nvSpPr>
            <p:spPr>
              <a:xfrm>
                <a:off x="9068760" y="2685600"/>
                <a:ext cx="1080" cy="38808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5" name=""/>
              <p:cNvSpPr/>
              <p:nvPr/>
            </p:nvSpPr>
            <p:spPr>
              <a:xfrm>
                <a:off x="9069840" y="2685600"/>
                <a:ext cx="1440" cy="38808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6" name=""/>
              <p:cNvSpPr/>
              <p:nvPr/>
            </p:nvSpPr>
            <p:spPr>
              <a:xfrm>
                <a:off x="9069840" y="2685600"/>
                <a:ext cx="1440" cy="38808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7" name=""/>
              <p:cNvSpPr/>
              <p:nvPr/>
            </p:nvSpPr>
            <p:spPr>
              <a:xfrm>
                <a:off x="9071640" y="2685600"/>
                <a:ext cx="1080" cy="38808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8" name=""/>
              <p:cNvSpPr/>
              <p:nvPr/>
            </p:nvSpPr>
            <p:spPr>
              <a:xfrm>
                <a:off x="9071640" y="2685600"/>
                <a:ext cx="1080" cy="3880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9" name=""/>
              <p:cNvSpPr/>
              <p:nvPr/>
            </p:nvSpPr>
            <p:spPr>
              <a:xfrm>
                <a:off x="9072720" y="2685600"/>
                <a:ext cx="1440" cy="38808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0" name=""/>
              <p:cNvSpPr/>
              <p:nvPr/>
            </p:nvSpPr>
            <p:spPr>
              <a:xfrm>
                <a:off x="9074520" y="2685600"/>
                <a:ext cx="1080" cy="38808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1" name=""/>
              <p:cNvSpPr/>
              <p:nvPr/>
            </p:nvSpPr>
            <p:spPr>
              <a:xfrm>
                <a:off x="9074520" y="2685600"/>
                <a:ext cx="1080" cy="38808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2" name=""/>
              <p:cNvSpPr/>
              <p:nvPr/>
            </p:nvSpPr>
            <p:spPr>
              <a:xfrm>
                <a:off x="9075600" y="2685600"/>
                <a:ext cx="1440" cy="38808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3" name=""/>
              <p:cNvSpPr/>
              <p:nvPr/>
            </p:nvSpPr>
            <p:spPr>
              <a:xfrm>
                <a:off x="9077400" y="2685600"/>
                <a:ext cx="1080" cy="3880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4" name=""/>
              <p:cNvSpPr/>
              <p:nvPr/>
            </p:nvSpPr>
            <p:spPr>
              <a:xfrm>
                <a:off x="9077400" y="2685600"/>
                <a:ext cx="1080" cy="38808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5" name=""/>
              <p:cNvSpPr/>
              <p:nvPr/>
            </p:nvSpPr>
            <p:spPr>
              <a:xfrm>
                <a:off x="9078480" y="2685600"/>
                <a:ext cx="1080" cy="3880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6" name=""/>
              <p:cNvSpPr/>
              <p:nvPr/>
            </p:nvSpPr>
            <p:spPr>
              <a:xfrm>
                <a:off x="9078480" y="2685600"/>
                <a:ext cx="1080" cy="38808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7" name=""/>
              <p:cNvSpPr/>
              <p:nvPr/>
            </p:nvSpPr>
            <p:spPr>
              <a:xfrm>
                <a:off x="9079920" y="2685600"/>
                <a:ext cx="1440" cy="38808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8" name=""/>
              <p:cNvSpPr/>
              <p:nvPr/>
            </p:nvSpPr>
            <p:spPr>
              <a:xfrm>
                <a:off x="9081360" y="2685600"/>
                <a:ext cx="1080" cy="3880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9" name=""/>
              <p:cNvSpPr/>
              <p:nvPr/>
            </p:nvSpPr>
            <p:spPr>
              <a:xfrm>
                <a:off x="9081360" y="2685600"/>
                <a:ext cx="1080" cy="3880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0" name=""/>
              <p:cNvSpPr/>
              <p:nvPr/>
            </p:nvSpPr>
            <p:spPr>
              <a:xfrm>
                <a:off x="9082800" y="2685600"/>
                <a:ext cx="1440" cy="38808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1" name=""/>
              <p:cNvSpPr/>
              <p:nvPr/>
            </p:nvSpPr>
            <p:spPr>
              <a:xfrm>
                <a:off x="9084240" y="2685600"/>
                <a:ext cx="1080" cy="38808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2" name=""/>
              <p:cNvSpPr/>
              <p:nvPr/>
            </p:nvSpPr>
            <p:spPr>
              <a:xfrm>
                <a:off x="9084240" y="2685600"/>
                <a:ext cx="1080" cy="3880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3" name=""/>
              <p:cNvSpPr/>
              <p:nvPr/>
            </p:nvSpPr>
            <p:spPr>
              <a:xfrm>
                <a:off x="9085680" y="2685600"/>
                <a:ext cx="1080" cy="3880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4" name=""/>
              <p:cNvSpPr/>
              <p:nvPr/>
            </p:nvSpPr>
            <p:spPr>
              <a:xfrm>
                <a:off x="9085680" y="2685600"/>
                <a:ext cx="1080" cy="38808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5" name=""/>
              <p:cNvSpPr/>
              <p:nvPr/>
            </p:nvSpPr>
            <p:spPr>
              <a:xfrm>
                <a:off x="9087120" y="2685600"/>
                <a:ext cx="1440" cy="38808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6" name=""/>
              <p:cNvSpPr/>
              <p:nvPr/>
            </p:nvSpPr>
            <p:spPr>
              <a:xfrm>
                <a:off x="9088560" y="2685600"/>
                <a:ext cx="1080" cy="3880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9088560" y="2685600"/>
                <a:ext cx="1080" cy="3880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9090000" y="2685600"/>
                <a:ext cx="1440" cy="38808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9" name=""/>
              <p:cNvSpPr/>
              <p:nvPr/>
            </p:nvSpPr>
            <p:spPr>
              <a:xfrm>
                <a:off x="9091440" y="2685600"/>
                <a:ext cx="1080" cy="38808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0" name=""/>
              <p:cNvSpPr/>
              <p:nvPr/>
            </p:nvSpPr>
            <p:spPr>
              <a:xfrm>
                <a:off x="9091440" y="2685600"/>
                <a:ext cx="1080" cy="38808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1" name=""/>
              <p:cNvSpPr/>
              <p:nvPr/>
            </p:nvSpPr>
            <p:spPr>
              <a:xfrm>
                <a:off x="9092880" y="2685600"/>
                <a:ext cx="1080" cy="38808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2" name=""/>
              <p:cNvSpPr/>
              <p:nvPr/>
            </p:nvSpPr>
            <p:spPr>
              <a:xfrm>
                <a:off x="9092880" y="2685600"/>
                <a:ext cx="1080" cy="38808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3" name=""/>
              <p:cNvSpPr/>
              <p:nvPr/>
            </p:nvSpPr>
            <p:spPr>
              <a:xfrm>
                <a:off x="9093960" y="2685600"/>
                <a:ext cx="1440" cy="38808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9095760" y="2685600"/>
                <a:ext cx="1080" cy="38808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5" name=""/>
              <p:cNvSpPr/>
              <p:nvPr/>
            </p:nvSpPr>
            <p:spPr>
              <a:xfrm>
                <a:off x="9095760" y="2685600"/>
                <a:ext cx="1080" cy="3880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6" name=""/>
              <p:cNvSpPr/>
              <p:nvPr/>
            </p:nvSpPr>
            <p:spPr>
              <a:xfrm>
                <a:off x="9096840" y="2685600"/>
                <a:ext cx="1440" cy="38808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7" name=""/>
              <p:cNvSpPr/>
              <p:nvPr/>
            </p:nvSpPr>
            <p:spPr>
              <a:xfrm>
                <a:off x="9098640" y="2685600"/>
                <a:ext cx="1080" cy="38808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9098640" y="2685600"/>
                <a:ext cx="1080" cy="38808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9" name=""/>
              <p:cNvSpPr/>
              <p:nvPr/>
            </p:nvSpPr>
            <p:spPr>
              <a:xfrm>
                <a:off x="9099720" y="2685600"/>
                <a:ext cx="1080" cy="38808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0" name=""/>
              <p:cNvSpPr/>
              <p:nvPr/>
            </p:nvSpPr>
            <p:spPr>
              <a:xfrm>
                <a:off x="9099720" y="2685600"/>
                <a:ext cx="1080" cy="38808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1" name=""/>
              <p:cNvSpPr/>
              <p:nvPr/>
            </p:nvSpPr>
            <p:spPr>
              <a:xfrm>
                <a:off x="9101160" y="2685600"/>
                <a:ext cx="1440" cy="38808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2" name=""/>
              <p:cNvSpPr/>
              <p:nvPr/>
            </p:nvSpPr>
            <p:spPr>
              <a:xfrm>
                <a:off x="9102960" y="2685600"/>
                <a:ext cx="1080" cy="38808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3" name=""/>
              <p:cNvSpPr/>
              <p:nvPr/>
            </p:nvSpPr>
            <p:spPr>
              <a:xfrm>
                <a:off x="9102960" y="2685600"/>
                <a:ext cx="2880" cy="38808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4" name=""/>
              <p:cNvSpPr/>
              <p:nvPr/>
            </p:nvSpPr>
            <p:spPr>
              <a:xfrm>
                <a:off x="9017280" y="2687040"/>
                <a:ext cx="85320" cy="385200"/>
              </a:xfrm>
              <a:custGeom>
                <a:avLst/>
                <a:gdLst/>
                <a:ahLst/>
                <a:rect l="l" t="t" r="r" b="b"/>
                <a:pathLst>
                  <a:path w="122" h="496">
                    <a:moveTo>
                      <a:pt x="104" y="496"/>
                    </a:moveTo>
                    <a:lnTo>
                      <a:pt x="108" y="496"/>
                    </a:lnTo>
                    <a:lnTo>
                      <a:pt x="110" y="495"/>
                    </a:lnTo>
                    <a:lnTo>
                      <a:pt x="114" y="494"/>
                    </a:lnTo>
                    <a:lnTo>
                      <a:pt x="117" y="492"/>
                    </a:lnTo>
                    <a:lnTo>
                      <a:pt x="118" y="490"/>
                    </a:lnTo>
                    <a:lnTo>
                      <a:pt x="120" y="486"/>
                    </a:lnTo>
                    <a:lnTo>
                      <a:pt x="120" y="483"/>
                    </a:lnTo>
                    <a:lnTo>
                      <a:pt x="122" y="481"/>
                    </a:lnTo>
                    <a:lnTo>
                      <a:pt x="122" y="15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18" y="6"/>
                    </a:lnTo>
                    <a:lnTo>
                      <a:pt x="117" y="4"/>
                    </a:lnTo>
                    <a:lnTo>
                      <a:pt x="114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1" y="483"/>
                    </a:lnTo>
                    <a:lnTo>
                      <a:pt x="1" y="486"/>
                    </a:lnTo>
                    <a:lnTo>
                      <a:pt x="4" y="490"/>
                    </a:lnTo>
                    <a:lnTo>
                      <a:pt x="5" y="492"/>
                    </a:lnTo>
                    <a:lnTo>
                      <a:pt x="8" y="494"/>
                    </a:lnTo>
                    <a:lnTo>
                      <a:pt x="11" y="495"/>
                    </a:lnTo>
                    <a:lnTo>
                      <a:pt x="14" y="496"/>
                    </a:lnTo>
                    <a:lnTo>
                      <a:pt x="18" y="496"/>
                    </a:lnTo>
                    <a:lnTo>
                      <a:pt x="104" y="496"/>
                    </a:lnTo>
                    <a:lnTo>
                      <a:pt x="104" y="49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5" name=""/>
              <p:cNvSpPr/>
              <p:nvPr/>
            </p:nvSpPr>
            <p:spPr>
              <a:xfrm>
                <a:off x="4725720" y="2139840"/>
                <a:ext cx="4379760" cy="94464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5" y="677"/>
                    </a:lnTo>
                    <a:lnTo>
                      <a:pt x="125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6" name=""/>
              <p:cNvSpPr/>
              <p:nvPr/>
            </p:nvSpPr>
            <p:spPr>
              <a:xfrm>
                <a:off x="4724280" y="2138400"/>
                <a:ext cx="137880" cy="9478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7" name=""/>
              <p:cNvSpPr/>
              <p:nvPr/>
            </p:nvSpPr>
            <p:spPr>
              <a:xfrm>
                <a:off x="4862160" y="2138400"/>
                <a:ext cx="183240" cy="9478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8" name=""/>
              <p:cNvSpPr/>
              <p:nvPr/>
            </p:nvSpPr>
            <p:spPr>
              <a:xfrm>
                <a:off x="5045760" y="2138400"/>
                <a:ext cx="181800" cy="9478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9" name=""/>
              <p:cNvSpPr/>
              <p:nvPr/>
            </p:nvSpPr>
            <p:spPr>
              <a:xfrm>
                <a:off x="5227560" y="2138400"/>
                <a:ext cx="183240" cy="9478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0" name=""/>
              <p:cNvSpPr/>
              <p:nvPr/>
            </p:nvSpPr>
            <p:spPr>
              <a:xfrm>
                <a:off x="5411160" y="2138400"/>
                <a:ext cx="170280" cy="9478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1" name=""/>
              <p:cNvSpPr/>
              <p:nvPr/>
            </p:nvSpPr>
            <p:spPr>
              <a:xfrm>
                <a:off x="5581440" y="2138400"/>
                <a:ext cx="136440" cy="94788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2" name=""/>
              <p:cNvSpPr/>
              <p:nvPr/>
            </p:nvSpPr>
            <p:spPr>
              <a:xfrm>
                <a:off x="5718240" y="2138400"/>
                <a:ext cx="149040" cy="9478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3" name=""/>
              <p:cNvSpPr/>
              <p:nvPr/>
            </p:nvSpPr>
            <p:spPr>
              <a:xfrm>
                <a:off x="5867640" y="2138400"/>
                <a:ext cx="181800" cy="9478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4" name=""/>
              <p:cNvSpPr/>
              <p:nvPr/>
            </p:nvSpPr>
            <p:spPr>
              <a:xfrm>
                <a:off x="6049440" y="2138400"/>
                <a:ext cx="183240" cy="947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5" name=""/>
              <p:cNvSpPr/>
              <p:nvPr/>
            </p:nvSpPr>
            <p:spPr>
              <a:xfrm>
                <a:off x="6233040" y="2138400"/>
                <a:ext cx="182160" cy="9478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6" name=""/>
              <p:cNvSpPr/>
              <p:nvPr/>
            </p:nvSpPr>
            <p:spPr>
              <a:xfrm>
                <a:off x="6415200" y="2138400"/>
                <a:ext cx="182880" cy="94788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7" name=""/>
              <p:cNvSpPr/>
              <p:nvPr/>
            </p:nvSpPr>
            <p:spPr>
              <a:xfrm>
                <a:off x="6598440" y="2138400"/>
                <a:ext cx="182160" cy="9478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8" name=""/>
              <p:cNvSpPr/>
              <p:nvPr/>
            </p:nvSpPr>
            <p:spPr>
              <a:xfrm>
                <a:off x="6780600" y="2138400"/>
                <a:ext cx="366840" cy="9478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9" name=""/>
              <p:cNvSpPr/>
              <p:nvPr/>
            </p:nvSpPr>
            <p:spPr>
              <a:xfrm>
                <a:off x="7147440" y="2138400"/>
                <a:ext cx="182880" cy="9478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0" name=""/>
              <p:cNvSpPr/>
              <p:nvPr/>
            </p:nvSpPr>
            <p:spPr>
              <a:xfrm>
                <a:off x="7330680" y="2138400"/>
                <a:ext cx="180360" cy="94788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1" name=""/>
              <p:cNvSpPr/>
              <p:nvPr/>
            </p:nvSpPr>
            <p:spPr>
              <a:xfrm>
                <a:off x="7511400" y="2138400"/>
                <a:ext cx="183240" cy="9478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2" name=""/>
              <p:cNvSpPr/>
              <p:nvPr/>
            </p:nvSpPr>
            <p:spPr>
              <a:xfrm>
                <a:off x="7695000" y="2138400"/>
                <a:ext cx="183240" cy="9478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3" name=""/>
              <p:cNvSpPr/>
              <p:nvPr/>
            </p:nvSpPr>
            <p:spPr>
              <a:xfrm>
                <a:off x="7878240" y="2138400"/>
                <a:ext cx="170280" cy="9478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4" name=""/>
              <p:cNvSpPr/>
              <p:nvPr/>
            </p:nvSpPr>
            <p:spPr>
              <a:xfrm>
                <a:off x="8048880" y="2138400"/>
                <a:ext cx="137880" cy="9478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5" name=""/>
              <p:cNvSpPr/>
              <p:nvPr/>
            </p:nvSpPr>
            <p:spPr>
              <a:xfrm>
                <a:off x="8186760" y="2138400"/>
                <a:ext cx="147960" cy="94788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6" name=""/>
              <p:cNvSpPr/>
              <p:nvPr/>
            </p:nvSpPr>
            <p:spPr>
              <a:xfrm>
                <a:off x="8335080" y="2138400"/>
                <a:ext cx="183240" cy="9478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7" name=""/>
              <p:cNvSpPr/>
              <p:nvPr/>
            </p:nvSpPr>
            <p:spPr>
              <a:xfrm>
                <a:off x="8518320" y="2138400"/>
                <a:ext cx="181800" cy="9478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8" name=""/>
              <p:cNvSpPr/>
              <p:nvPr/>
            </p:nvSpPr>
            <p:spPr>
              <a:xfrm>
                <a:off x="8700480" y="2138400"/>
                <a:ext cx="181800" cy="9478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9" name=""/>
              <p:cNvSpPr/>
              <p:nvPr/>
            </p:nvSpPr>
            <p:spPr>
              <a:xfrm>
                <a:off x="8882280" y="2138400"/>
                <a:ext cx="183240" cy="9478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9065880" y="2138400"/>
                <a:ext cx="39960" cy="9478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4725720" y="2139840"/>
                <a:ext cx="4379760" cy="94464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4" y="677"/>
                    </a:lnTo>
                    <a:lnTo>
                      <a:pt x="124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2" name=""/>
              <p:cNvSpPr/>
              <p:nvPr/>
            </p:nvSpPr>
            <p:spPr>
              <a:xfrm>
                <a:off x="4732920" y="2147760"/>
                <a:ext cx="4363920" cy="929160"/>
              </a:xfrm>
              <a:custGeom>
                <a:avLst/>
                <a:gdLst/>
                <a:ahLst/>
                <a:rect l="l" t="t" r="r" b="b"/>
                <a:pathLst>
                  <a:path w="6138" h="1196">
                    <a:moveTo>
                      <a:pt x="0" y="0"/>
                    </a:moveTo>
                    <a:lnTo>
                      <a:pt x="0" y="656"/>
                    </a:lnTo>
                    <a:lnTo>
                      <a:pt x="125" y="656"/>
                    </a:lnTo>
                    <a:lnTo>
                      <a:pt x="125" y="1196"/>
                    </a:lnTo>
                    <a:lnTo>
                      <a:pt x="6010" y="1196"/>
                    </a:lnTo>
                    <a:lnTo>
                      <a:pt x="6010" y="656"/>
                    </a:lnTo>
                    <a:lnTo>
                      <a:pt x="6138" y="656"/>
                    </a:lnTo>
                    <a:lnTo>
                      <a:pt x="613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3" name=""/>
              <p:cNvSpPr/>
              <p:nvPr/>
            </p:nvSpPr>
            <p:spPr>
              <a:xfrm>
                <a:off x="6258600" y="2675880"/>
                <a:ext cx="790560" cy="37908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4" name=""/>
              <p:cNvSpPr/>
              <p:nvPr/>
            </p:nvSpPr>
            <p:spPr>
              <a:xfrm>
                <a:off x="6258600" y="2675880"/>
                <a:ext cx="790560" cy="37908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5" name=""/>
              <p:cNvSpPr/>
              <p:nvPr/>
            </p:nvSpPr>
            <p:spPr>
              <a:xfrm>
                <a:off x="6085080" y="2284560"/>
                <a:ext cx="179280" cy="7704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6" name=""/>
              <p:cNvSpPr/>
              <p:nvPr/>
            </p:nvSpPr>
            <p:spPr>
              <a:xfrm>
                <a:off x="6085080" y="2284560"/>
                <a:ext cx="179280" cy="77040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7" name=""/>
              <p:cNvSpPr/>
              <p:nvPr/>
            </p:nvSpPr>
            <p:spPr>
              <a:xfrm>
                <a:off x="8559360" y="2812680"/>
                <a:ext cx="305640" cy="24228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8" name=""/>
              <p:cNvSpPr/>
              <p:nvPr/>
            </p:nvSpPr>
            <p:spPr>
              <a:xfrm>
                <a:off x="7877160" y="2812680"/>
                <a:ext cx="854280" cy="242280"/>
              </a:xfrm>
              <a:custGeom>
                <a:avLst/>
                <a:gdLst/>
                <a:ahLst/>
                <a:rect l="l" t="t" r="r" b="b"/>
                <a:pathLst>
                  <a:path w="1201" h="311">
                    <a:moveTo>
                      <a:pt x="0" y="311"/>
                    </a:moveTo>
                    <a:lnTo>
                      <a:pt x="491" y="311"/>
                    </a:lnTo>
                    <a:lnTo>
                      <a:pt x="49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  <a:moveTo>
                      <a:pt x="1201" y="8"/>
                    </a:moveTo>
                    <a:lnTo>
                      <a:pt x="973" y="8"/>
                    </a:lnTo>
                    <a:lnTo>
                      <a:pt x="973" y="193"/>
                    </a:lnTo>
                    <a:lnTo>
                      <a:pt x="1201" y="193"/>
                    </a:lnTo>
                    <a:lnTo>
                      <a:pt x="1201" y="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9" name=""/>
              <p:cNvSpPr/>
              <p:nvPr/>
            </p:nvSpPr>
            <p:spPr>
              <a:xfrm>
                <a:off x="6143400" y="2284560"/>
                <a:ext cx="64080" cy="7704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0" name=""/>
              <p:cNvSpPr/>
              <p:nvPr/>
            </p:nvSpPr>
            <p:spPr>
              <a:xfrm>
                <a:off x="6143400" y="2284560"/>
                <a:ext cx="64080" cy="770400"/>
              </a:xfrm>
              <a:prstGeom prst="rect">
                <a:avLst/>
              </a:prstGeom>
              <a:noFill/>
              <a:ln w="1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7721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076720" y="2185200"/>
                <a:ext cx="1003680" cy="73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22" name=""/>
              <p:cNvSpPr/>
              <p:nvPr/>
            </p:nvSpPr>
            <p:spPr>
              <a:xfrm>
                <a:off x="5091120" y="2192760"/>
                <a:ext cx="986760" cy="723960"/>
              </a:xfrm>
              <a:prstGeom prst="rect">
                <a:avLst/>
              </a:prstGeom>
              <a:noFill/>
              <a:ln w="468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3" name=""/>
              <p:cNvSpPr/>
              <p:nvPr/>
            </p:nvSpPr>
            <p:spPr>
              <a:xfrm>
                <a:off x="6117840" y="27536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4" name=""/>
              <p:cNvSpPr/>
              <p:nvPr/>
            </p:nvSpPr>
            <p:spPr>
              <a:xfrm>
                <a:off x="6117840" y="281124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5" name=""/>
              <p:cNvSpPr/>
              <p:nvPr/>
            </p:nvSpPr>
            <p:spPr>
              <a:xfrm>
                <a:off x="6247080" y="27536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6" name=""/>
              <p:cNvSpPr/>
              <p:nvPr/>
            </p:nvSpPr>
            <p:spPr>
              <a:xfrm>
                <a:off x="6220080" y="281124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7" name=""/>
              <p:cNvSpPr/>
              <p:nvPr/>
            </p:nvSpPr>
            <p:spPr>
              <a:xfrm>
                <a:off x="6167520" y="27536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8" name=""/>
              <p:cNvSpPr/>
              <p:nvPr/>
            </p:nvSpPr>
            <p:spPr>
              <a:xfrm>
                <a:off x="6170400" y="281124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9" name=""/>
              <p:cNvSpPr/>
              <p:nvPr/>
            </p:nvSpPr>
            <p:spPr>
              <a:xfrm>
                <a:off x="6117840" y="25268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0" name=""/>
              <p:cNvSpPr/>
              <p:nvPr/>
            </p:nvSpPr>
            <p:spPr>
              <a:xfrm>
                <a:off x="6117840" y="258444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6247080" y="25268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6225840" y="2584440"/>
                <a:ext cx="4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3" name=""/>
              <p:cNvSpPr/>
              <p:nvPr/>
            </p:nvSpPr>
            <p:spPr>
              <a:xfrm>
                <a:off x="6167520" y="25268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4" name=""/>
              <p:cNvSpPr/>
              <p:nvPr/>
            </p:nvSpPr>
            <p:spPr>
              <a:xfrm>
                <a:off x="6170760" y="258444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5" name=""/>
              <p:cNvSpPr/>
              <p:nvPr/>
            </p:nvSpPr>
            <p:spPr>
              <a:xfrm>
                <a:off x="6117840" y="23295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6" name=""/>
              <p:cNvSpPr/>
              <p:nvPr/>
            </p:nvSpPr>
            <p:spPr>
              <a:xfrm>
                <a:off x="6117840" y="23572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7" name=""/>
              <p:cNvSpPr/>
              <p:nvPr/>
            </p:nvSpPr>
            <p:spPr>
              <a:xfrm>
                <a:off x="6167520" y="23295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7738" name=""/>
            <p:cNvGrpSpPr/>
            <p:nvPr/>
          </p:nvGrpSpPr>
          <p:grpSpPr>
            <a:xfrm>
              <a:off x="4845240" y="2184840"/>
              <a:ext cx="4135320" cy="876240"/>
              <a:chOff x="4845240" y="2184840"/>
              <a:chExt cx="4135320" cy="876240"/>
            </a:xfrm>
          </p:grpSpPr>
          <p:sp>
            <p:nvSpPr>
              <p:cNvPr id="7739" name=""/>
              <p:cNvSpPr/>
              <p:nvPr/>
            </p:nvSpPr>
            <p:spPr>
              <a:xfrm>
                <a:off x="6172200" y="235692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0" name=""/>
              <p:cNvSpPr/>
              <p:nvPr/>
            </p:nvSpPr>
            <p:spPr>
              <a:xfrm>
                <a:off x="6175080" y="27252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1" name=""/>
              <p:cNvSpPr/>
              <p:nvPr/>
            </p:nvSpPr>
            <p:spPr>
              <a:xfrm>
                <a:off x="6171120" y="238500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2" name=""/>
              <p:cNvSpPr/>
              <p:nvPr/>
            </p:nvSpPr>
            <p:spPr>
              <a:xfrm>
                <a:off x="6171120" y="25837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3" name=""/>
              <p:cNvSpPr/>
              <p:nvPr/>
            </p:nvSpPr>
            <p:spPr>
              <a:xfrm>
                <a:off x="6225480" y="24987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4" name=""/>
              <p:cNvSpPr/>
              <p:nvPr/>
            </p:nvSpPr>
            <p:spPr>
              <a:xfrm>
                <a:off x="6096240" y="22716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5" name=""/>
              <p:cNvSpPr/>
              <p:nvPr/>
            </p:nvSpPr>
            <p:spPr>
              <a:xfrm>
                <a:off x="6176880" y="227160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6" name=""/>
              <p:cNvSpPr/>
              <p:nvPr/>
            </p:nvSpPr>
            <p:spPr>
              <a:xfrm>
                <a:off x="6287040" y="2214360"/>
                <a:ext cx="746280" cy="762480"/>
              </a:xfrm>
              <a:custGeom>
                <a:avLst/>
                <a:gdLst/>
                <a:ahLst/>
                <a:rect l="l" t="t" r="r" b="b"/>
                <a:pathLst>
                  <a:path w="1050" h="984">
                    <a:moveTo>
                      <a:pt x="833" y="984"/>
                    </a:moveTo>
                    <a:lnTo>
                      <a:pt x="1050" y="984"/>
                    </a:lnTo>
                    <a:lnTo>
                      <a:pt x="1050" y="0"/>
                    </a:lnTo>
                    <a:lnTo>
                      <a:pt x="0" y="0"/>
                    </a:lnTo>
                    <a:lnTo>
                      <a:pt x="0" y="984"/>
                    </a:lnTo>
                    <a:lnTo>
                      <a:pt x="218" y="984"/>
                    </a:lnTo>
                    <a:lnTo>
                      <a:pt x="218" y="584"/>
                    </a:lnTo>
                    <a:lnTo>
                      <a:pt x="833" y="584"/>
                    </a:lnTo>
                    <a:lnTo>
                      <a:pt x="833" y="984"/>
                    </a:lnTo>
                    <a:lnTo>
                      <a:pt x="833" y="9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77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261480" y="2184840"/>
                <a:ext cx="772200" cy="79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48" name=""/>
              <p:cNvSpPr/>
              <p:nvPr/>
            </p:nvSpPr>
            <p:spPr>
              <a:xfrm>
                <a:off x="6277320" y="2193840"/>
                <a:ext cx="757800" cy="775440"/>
              </a:xfrm>
              <a:custGeom>
                <a:avLst/>
                <a:gdLst/>
                <a:ahLst/>
                <a:rect l="l" t="t" r="r" b="b"/>
                <a:pathLst>
                  <a:path w="1068" h="998">
                    <a:moveTo>
                      <a:pt x="840" y="998"/>
                    </a:moveTo>
                    <a:lnTo>
                      <a:pt x="1068" y="998"/>
                    </a:lnTo>
                    <a:lnTo>
                      <a:pt x="1068" y="0"/>
                    </a:lnTo>
                    <a:lnTo>
                      <a:pt x="0" y="0"/>
                    </a:lnTo>
                    <a:lnTo>
                      <a:pt x="0" y="998"/>
                    </a:lnTo>
                    <a:lnTo>
                      <a:pt x="226" y="998"/>
                    </a:lnTo>
                    <a:lnTo>
                      <a:pt x="226" y="606"/>
                    </a:lnTo>
                    <a:lnTo>
                      <a:pt x="840" y="606"/>
                    </a:lnTo>
                    <a:lnTo>
                      <a:pt x="840" y="998"/>
                    </a:lnTo>
                  </a:path>
                </a:pathLst>
              </a:custGeom>
              <a:noFill/>
              <a:ln w="468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9" name=""/>
              <p:cNvSpPr/>
              <p:nvPr/>
            </p:nvSpPr>
            <p:spPr>
              <a:xfrm>
                <a:off x="6538680" y="2675520"/>
                <a:ext cx="218880" cy="2966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  <a:moveTo>
                      <a:pt x="0" y="374"/>
                    </a:moveTo>
                    <a:lnTo>
                      <a:pt x="0" y="374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  <a:moveTo>
                      <a:pt x="309" y="374"/>
                    </a:moveTo>
                    <a:lnTo>
                      <a:pt x="309" y="374"/>
                    </a:lnTo>
                    <a:lnTo>
                      <a:pt x="309" y="374"/>
                    </a:lnTo>
                    <a:lnTo>
                      <a:pt x="309" y="37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0" name=""/>
              <p:cNvSpPr/>
              <p:nvPr/>
            </p:nvSpPr>
            <p:spPr>
              <a:xfrm>
                <a:off x="6538680" y="2675520"/>
                <a:ext cx="218880" cy="29664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1" name=""/>
              <p:cNvSpPr/>
              <p:nvPr/>
            </p:nvSpPr>
            <p:spPr>
              <a:xfrm>
                <a:off x="6538680" y="296604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2" name=""/>
              <p:cNvSpPr/>
              <p:nvPr/>
            </p:nvSpPr>
            <p:spPr>
              <a:xfrm>
                <a:off x="6757560" y="296604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3" name=""/>
              <p:cNvSpPr/>
              <p:nvPr/>
            </p:nvSpPr>
            <p:spPr>
              <a:xfrm>
                <a:off x="6565680" y="2681640"/>
                <a:ext cx="163440" cy="284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4" name=""/>
              <p:cNvSpPr/>
              <p:nvPr/>
            </p:nvSpPr>
            <p:spPr>
              <a:xfrm>
                <a:off x="6552720" y="2667600"/>
                <a:ext cx="190440" cy="312480"/>
              </a:xfrm>
              <a:custGeom>
                <a:avLst/>
                <a:gdLst/>
                <a:ahLst/>
                <a:rect l="l" t="t" r="r" b="b"/>
                <a:pathLst>
                  <a:path w="269" h="401">
                    <a:moveTo>
                      <a:pt x="37" y="56"/>
                    </a:moveTo>
                    <a:lnTo>
                      <a:pt x="37" y="311"/>
                    </a:lnTo>
                    <a:lnTo>
                      <a:pt x="37" y="314"/>
                    </a:lnTo>
                    <a:lnTo>
                      <a:pt x="36" y="317"/>
                    </a:lnTo>
                    <a:lnTo>
                      <a:pt x="34" y="321"/>
                    </a:lnTo>
                    <a:lnTo>
                      <a:pt x="32" y="323"/>
                    </a:lnTo>
                    <a:lnTo>
                      <a:pt x="29" y="326"/>
                    </a:lnTo>
                    <a:lnTo>
                      <a:pt x="27" y="327"/>
                    </a:lnTo>
                    <a:lnTo>
                      <a:pt x="23" y="328"/>
                    </a:lnTo>
                    <a:lnTo>
                      <a:pt x="19" y="328"/>
                    </a:lnTo>
                    <a:lnTo>
                      <a:pt x="15" y="328"/>
                    </a:lnTo>
                    <a:lnTo>
                      <a:pt x="12" y="327"/>
                    </a:lnTo>
                    <a:lnTo>
                      <a:pt x="9" y="326"/>
                    </a:lnTo>
                    <a:lnTo>
                      <a:pt x="7" y="323"/>
                    </a:lnTo>
                    <a:lnTo>
                      <a:pt x="4" y="321"/>
                    </a:lnTo>
                    <a:lnTo>
                      <a:pt x="3" y="317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9" y="37"/>
                    </a:lnTo>
                    <a:lnTo>
                      <a:pt x="23" y="38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4" y="45"/>
                    </a:lnTo>
                    <a:lnTo>
                      <a:pt x="36" y="48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  <a:moveTo>
                      <a:pt x="127" y="365"/>
                    </a:moveTo>
                    <a:lnTo>
                      <a:pt x="250" y="365"/>
                    </a:lnTo>
                    <a:lnTo>
                      <a:pt x="232" y="384"/>
                    </a:lnTo>
                    <a:lnTo>
                      <a:pt x="232" y="251"/>
                    </a:lnTo>
                    <a:lnTo>
                      <a:pt x="232" y="247"/>
                    </a:lnTo>
                    <a:lnTo>
                      <a:pt x="234" y="244"/>
                    </a:lnTo>
                    <a:lnTo>
                      <a:pt x="235" y="240"/>
                    </a:lnTo>
                    <a:lnTo>
                      <a:pt x="237" y="237"/>
                    </a:lnTo>
                    <a:lnTo>
                      <a:pt x="240" y="236"/>
                    </a:lnTo>
                    <a:lnTo>
                      <a:pt x="244" y="235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4" y="234"/>
                    </a:lnTo>
                    <a:lnTo>
                      <a:pt x="257" y="235"/>
                    </a:lnTo>
                    <a:lnTo>
                      <a:pt x="261" y="236"/>
                    </a:lnTo>
                    <a:lnTo>
                      <a:pt x="264" y="237"/>
                    </a:lnTo>
                    <a:lnTo>
                      <a:pt x="265" y="240"/>
                    </a:lnTo>
                    <a:lnTo>
                      <a:pt x="267" y="244"/>
                    </a:lnTo>
                    <a:lnTo>
                      <a:pt x="267" y="247"/>
                    </a:lnTo>
                    <a:lnTo>
                      <a:pt x="269" y="251"/>
                    </a:lnTo>
                    <a:lnTo>
                      <a:pt x="269" y="384"/>
                    </a:lnTo>
                    <a:lnTo>
                      <a:pt x="267" y="386"/>
                    </a:lnTo>
                    <a:lnTo>
                      <a:pt x="267" y="390"/>
                    </a:lnTo>
                    <a:lnTo>
                      <a:pt x="265" y="393"/>
                    </a:lnTo>
                    <a:lnTo>
                      <a:pt x="264" y="396"/>
                    </a:lnTo>
                    <a:lnTo>
                      <a:pt x="261" y="398"/>
                    </a:lnTo>
                    <a:lnTo>
                      <a:pt x="257" y="400"/>
                    </a:lnTo>
                    <a:lnTo>
                      <a:pt x="254" y="401"/>
                    </a:lnTo>
                    <a:lnTo>
                      <a:pt x="250" y="401"/>
                    </a:lnTo>
                    <a:lnTo>
                      <a:pt x="127" y="401"/>
                    </a:lnTo>
                    <a:lnTo>
                      <a:pt x="124" y="401"/>
                    </a:lnTo>
                    <a:lnTo>
                      <a:pt x="121" y="400"/>
                    </a:lnTo>
                    <a:lnTo>
                      <a:pt x="118" y="398"/>
                    </a:lnTo>
                    <a:lnTo>
                      <a:pt x="116" y="396"/>
                    </a:lnTo>
                    <a:lnTo>
                      <a:pt x="113" y="393"/>
                    </a:lnTo>
                    <a:lnTo>
                      <a:pt x="111" y="390"/>
                    </a:lnTo>
                    <a:lnTo>
                      <a:pt x="109" y="386"/>
                    </a:lnTo>
                    <a:lnTo>
                      <a:pt x="109" y="384"/>
                    </a:lnTo>
                    <a:lnTo>
                      <a:pt x="109" y="379"/>
                    </a:lnTo>
                    <a:lnTo>
                      <a:pt x="111" y="376"/>
                    </a:lnTo>
                    <a:lnTo>
                      <a:pt x="113" y="372"/>
                    </a:lnTo>
                    <a:lnTo>
                      <a:pt x="116" y="370"/>
                    </a:lnTo>
                    <a:lnTo>
                      <a:pt x="118" y="367"/>
                    </a:lnTo>
                    <a:lnTo>
                      <a:pt x="121" y="366"/>
                    </a:lnTo>
                    <a:lnTo>
                      <a:pt x="124" y="365"/>
                    </a:lnTo>
                    <a:lnTo>
                      <a:pt x="127" y="365"/>
                    </a:lnTo>
                    <a:lnTo>
                      <a:pt x="127" y="365"/>
                    </a:lnTo>
                    <a:close/>
                    <a:moveTo>
                      <a:pt x="232" y="69"/>
                    </a:moveTo>
                    <a:lnTo>
                      <a:pt x="232" y="19"/>
                    </a:lnTo>
                    <a:lnTo>
                      <a:pt x="250" y="37"/>
                    </a:lnTo>
                    <a:lnTo>
                      <a:pt x="46" y="37"/>
                    </a:lnTo>
                    <a:lnTo>
                      <a:pt x="43" y="37"/>
                    </a:lnTo>
                    <a:lnTo>
                      <a:pt x="39" y="35"/>
                    </a:lnTo>
                    <a:lnTo>
                      <a:pt x="37" y="34"/>
                    </a:lnTo>
                    <a:lnTo>
                      <a:pt x="34" y="32"/>
                    </a:lnTo>
                    <a:lnTo>
                      <a:pt x="32" y="29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250" y="0"/>
                    </a:lnTo>
                    <a:lnTo>
                      <a:pt x="254" y="1"/>
                    </a:lnTo>
                    <a:lnTo>
                      <a:pt x="257" y="2"/>
                    </a:lnTo>
                    <a:lnTo>
                      <a:pt x="261" y="4"/>
                    </a:lnTo>
                    <a:lnTo>
                      <a:pt x="264" y="6"/>
                    </a:lnTo>
                    <a:lnTo>
                      <a:pt x="265" y="9"/>
                    </a:lnTo>
                    <a:lnTo>
                      <a:pt x="267" y="13"/>
                    </a:lnTo>
                    <a:lnTo>
                      <a:pt x="267" y="15"/>
                    </a:lnTo>
                    <a:lnTo>
                      <a:pt x="269" y="19"/>
                    </a:lnTo>
                    <a:lnTo>
                      <a:pt x="269" y="69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5" y="78"/>
                    </a:lnTo>
                    <a:lnTo>
                      <a:pt x="264" y="82"/>
                    </a:lnTo>
                    <a:lnTo>
                      <a:pt x="261" y="83"/>
                    </a:lnTo>
                    <a:lnTo>
                      <a:pt x="257" y="86"/>
                    </a:lnTo>
                    <a:lnTo>
                      <a:pt x="254" y="87"/>
                    </a:lnTo>
                    <a:lnTo>
                      <a:pt x="250" y="87"/>
                    </a:lnTo>
                    <a:lnTo>
                      <a:pt x="246" y="87"/>
                    </a:lnTo>
                    <a:lnTo>
                      <a:pt x="244" y="86"/>
                    </a:lnTo>
                    <a:lnTo>
                      <a:pt x="240" y="83"/>
                    </a:lnTo>
                    <a:lnTo>
                      <a:pt x="237" y="82"/>
                    </a:lnTo>
                    <a:lnTo>
                      <a:pt x="235" y="78"/>
                    </a:lnTo>
                    <a:lnTo>
                      <a:pt x="234" y="76"/>
                    </a:lnTo>
                    <a:lnTo>
                      <a:pt x="232" y="72"/>
                    </a:lnTo>
                    <a:lnTo>
                      <a:pt x="232" y="69"/>
                    </a:lnTo>
                    <a:lnTo>
                      <a:pt x="232" y="69"/>
                    </a:lnTo>
                    <a:close/>
                  </a:path>
                </a:pathLst>
              </a:custGeom>
              <a:solidFill>
                <a:srgbClr val="1a1a1a"/>
              </a:solidFill>
              <a:ln w="284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5" name=""/>
              <p:cNvSpPr/>
              <p:nvPr/>
            </p:nvSpPr>
            <p:spPr>
              <a:xfrm>
                <a:off x="6375240" y="29800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6" name=""/>
              <p:cNvSpPr/>
              <p:nvPr/>
            </p:nvSpPr>
            <p:spPr>
              <a:xfrm>
                <a:off x="6375240" y="300816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7" name=""/>
              <p:cNvSpPr/>
              <p:nvPr/>
            </p:nvSpPr>
            <p:spPr>
              <a:xfrm>
                <a:off x="6302520" y="30081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8" name=""/>
              <p:cNvSpPr/>
              <p:nvPr/>
            </p:nvSpPr>
            <p:spPr>
              <a:xfrm>
                <a:off x="6895440" y="30081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9" name=""/>
              <p:cNvSpPr/>
              <p:nvPr/>
            </p:nvSpPr>
            <p:spPr>
              <a:xfrm>
                <a:off x="6963840" y="29800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0" name=""/>
              <p:cNvSpPr/>
              <p:nvPr/>
            </p:nvSpPr>
            <p:spPr>
              <a:xfrm>
                <a:off x="6942600" y="300816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1" name=""/>
              <p:cNvSpPr/>
              <p:nvPr/>
            </p:nvSpPr>
            <p:spPr>
              <a:xfrm>
                <a:off x="8223840" y="2812320"/>
                <a:ext cx="335160" cy="242280"/>
              </a:xfrm>
              <a:prstGeom prst="rect">
                <a:avLst/>
              </a:prstGeom>
              <a:solidFill>
                <a:srgbClr val="355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2" name=""/>
              <p:cNvSpPr/>
              <p:nvPr/>
            </p:nvSpPr>
            <p:spPr>
              <a:xfrm>
                <a:off x="7497000" y="2812320"/>
                <a:ext cx="382680" cy="242280"/>
              </a:xfrm>
              <a:prstGeom prst="rect">
                <a:avLst/>
              </a:prstGeom>
              <a:solidFill>
                <a:srgbClr val="26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3" name=""/>
              <p:cNvSpPr/>
              <p:nvPr/>
            </p:nvSpPr>
            <p:spPr>
              <a:xfrm>
                <a:off x="7040880" y="2812320"/>
                <a:ext cx="272520" cy="242280"/>
              </a:xfrm>
              <a:prstGeom prst="rect">
                <a:avLst/>
              </a:pr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312320" y="2812320"/>
                <a:ext cx="184680" cy="242280"/>
              </a:xfrm>
              <a:prstGeom prst="rect">
                <a:avLst/>
              </a:pr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5" name=""/>
              <p:cNvSpPr/>
              <p:nvPr/>
            </p:nvSpPr>
            <p:spPr>
              <a:xfrm>
                <a:off x="8763840" y="2984760"/>
                <a:ext cx="110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6" name=""/>
              <p:cNvSpPr/>
              <p:nvPr/>
            </p:nvSpPr>
            <p:spPr>
              <a:xfrm>
                <a:off x="7040880" y="2812320"/>
                <a:ext cx="1824120" cy="242280"/>
              </a:xfrm>
              <a:prstGeom prst="rect">
                <a:avLst/>
              </a:prstGeom>
              <a:noFill/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7" name=""/>
              <p:cNvSpPr/>
              <p:nvPr/>
            </p:nvSpPr>
            <p:spPr>
              <a:xfrm>
                <a:off x="6786000" y="272520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8" name=""/>
              <p:cNvSpPr/>
              <p:nvPr/>
            </p:nvSpPr>
            <p:spPr>
              <a:xfrm>
                <a:off x="6786000" y="28933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9" name=""/>
              <p:cNvSpPr/>
              <p:nvPr/>
            </p:nvSpPr>
            <p:spPr>
              <a:xfrm>
                <a:off x="7214400" y="2184840"/>
                <a:ext cx="1766160" cy="61488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0" name=""/>
              <p:cNvSpPr/>
              <p:nvPr/>
            </p:nvSpPr>
            <p:spPr>
              <a:xfrm>
                <a:off x="7225560" y="2197080"/>
                <a:ext cx="1740600" cy="58860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1" name=""/>
              <p:cNvSpPr/>
              <p:nvPr/>
            </p:nvSpPr>
            <p:spPr>
              <a:xfrm>
                <a:off x="7225560" y="2197080"/>
                <a:ext cx="1740600" cy="5886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2" name=""/>
              <p:cNvSpPr/>
              <p:nvPr/>
            </p:nvSpPr>
            <p:spPr>
              <a:xfrm>
                <a:off x="8115840" y="2211120"/>
                <a:ext cx="840240" cy="5623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3" name=""/>
              <p:cNvSpPr/>
              <p:nvPr/>
            </p:nvSpPr>
            <p:spPr>
              <a:xfrm>
                <a:off x="8115840" y="2211120"/>
                <a:ext cx="840240" cy="56232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8088840" y="2197080"/>
                <a:ext cx="15120" cy="5886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8088840" y="2197080"/>
                <a:ext cx="15120" cy="5886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6" name=""/>
              <p:cNvSpPr/>
              <p:nvPr/>
            </p:nvSpPr>
            <p:spPr>
              <a:xfrm>
                <a:off x="7369200" y="2411640"/>
                <a:ext cx="154800" cy="19836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18" y="109"/>
                    </a:moveTo>
                    <a:lnTo>
                      <a:pt x="217" y="123"/>
                    </a:lnTo>
                    <a:lnTo>
                      <a:pt x="216" y="137"/>
                    </a:lnTo>
                    <a:lnTo>
                      <a:pt x="214" y="149"/>
                    </a:lnTo>
                    <a:lnTo>
                      <a:pt x="211" y="163"/>
                    </a:lnTo>
                    <a:lnTo>
                      <a:pt x="207" y="176"/>
                    </a:lnTo>
                    <a:lnTo>
                      <a:pt x="203" y="187"/>
                    </a:lnTo>
                    <a:lnTo>
                      <a:pt x="197" y="199"/>
                    </a:lnTo>
                    <a:lnTo>
                      <a:pt x="191" y="210"/>
                    </a:lnTo>
                    <a:lnTo>
                      <a:pt x="183" y="220"/>
                    </a:lnTo>
                    <a:lnTo>
                      <a:pt x="176" y="229"/>
                    </a:lnTo>
                    <a:lnTo>
                      <a:pt x="167" y="237"/>
                    </a:lnTo>
                    <a:lnTo>
                      <a:pt x="162" y="239"/>
                    </a:lnTo>
                    <a:lnTo>
                      <a:pt x="157" y="243"/>
                    </a:lnTo>
                    <a:lnTo>
                      <a:pt x="152" y="245"/>
                    </a:lnTo>
                    <a:lnTo>
                      <a:pt x="145" y="248"/>
                    </a:lnTo>
                    <a:lnTo>
                      <a:pt x="140" y="250"/>
                    </a:lnTo>
                    <a:lnTo>
                      <a:pt x="134" y="252"/>
                    </a:lnTo>
                    <a:lnTo>
                      <a:pt x="129" y="253"/>
                    </a:lnTo>
                    <a:lnTo>
                      <a:pt x="123" y="254"/>
                    </a:lnTo>
                    <a:lnTo>
                      <a:pt x="115" y="255"/>
                    </a:lnTo>
                    <a:lnTo>
                      <a:pt x="109" y="255"/>
                    </a:lnTo>
                    <a:lnTo>
                      <a:pt x="103" y="255"/>
                    </a:lnTo>
                    <a:lnTo>
                      <a:pt x="97" y="254"/>
                    </a:lnTo>
                    <a:lnTo>
                      <a:pt x="90" y="253"/>
                    </a:lnTo>
                    <a:lnTo>
                      <a:pt x="84" y="252"/>
                    </a:lnTo>
                    <a:lnTo>
                      <a:pt x="78" y="250"/>
                    </a:lnTo>
                    <a:lnTo>
                      <a:pt x="73" y="248"/>
                    </a:lnTo>
                    <a:lnTo>
                      <a:pt x="67" y="245"/>
                    </a:lnTo>
                    <a:lnTo>
                      <a:pt x="62" y="243"/>
                    </a:lnTo>
                    <a:lnTo>
                      <a:pt x="57" y="239"/>
                    </a:lnTo>
                    <a:lnTo>
                      <a:pt x="52" y="237"/>
                    </a:lnTo>
                    <a:lnTo>
                      <a:pt x="43" y="229"/>
                    </a:lnTo>
                    <a:lnTo>
                      <a:pt x="35" y="220"/>
                    </a:lnTo>
                    <a:lnTo>
                      <a:pt x="28" y="210"/>
                    </a:lnTo>
                    <a:lnTo>
                      <a:pt x="21" y="199"/>
                    </a:lnTo>
                    <a:lnTo>
                      <a:pt x="15" y="187"/>
                    </a:lnTo>
                    <a:lnTo>
                      <a:pt x="11" y="176"/>
                    </a:lnTo>
                    <a:lnTo>
                      <a:pt x="8" y="163"/>
                    </a:lnTo>
                    <a:lnTo>
                      <a:pt x="4" y="149"/>
                    </a:lnTo>
                    <a:lnTo>
                      <a:pt x="3" y="137"/>
                    </a:lnTo>
                    <a:lnTo>
                      <a:pt x="1" y="123"/>
                    </a:lnTo>
                    <a:lnTo>
                      <a:pt x="0" y="109"/>
                    </a:lnTo>
                    <a:lnTo>
                      <a:pt x="1" y="96"/>
                    </a:lnTo>
                    <a:lnTo>
                      <a:pt x="3" y="84"/>
                    </a:lnTo>
                    <a:lnTo>
                      <a:pt x="4" y="72"/>
                    </a:lnTo>
                    <a:lnTo>
                      <a:pt x="8" y="61"/>
                    </a:lnTo>
                    <a:lnTo>
                      <a:pt x="11" y="52"/>
                    </a:lnTo>
                    <a:lnTo>
                      <a:pt x="15" y="43"/>
                    </a:lnTo>
                    <a:lnTo>
                      <a:pt x="21" y="35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2" y="7"/>
                    </a:lnTo>
                    <a:lnTo>
                      <a:pt x="73" y="4"/>
                    </a:lnTo>
                    <a:lnTo>
                      <a:pt x="84" y="2"/>
                    </a:lnTo>
                    <a:lnTo>
                      <a:pt x="97" y="0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4" y="2"/>
                    </a:lnTo>
                    <a:lnTo>
                      <a:pt x="145" y="4"/>
                    </a:lnTo>
                    <a:lnTo>
                      <a:pt x="157" y="7"/>
                    </a:lnTo>
                    <a:lnTo>
                      <a:pt x="167" y="11"/>
                    </a:lnTo>
                    <a:lnTo>
                      <a:pt x="176" y="16"/>
                    </a:lnTo>
                    <a:lnTo>
                      <a:pt x="183" y="21"/>
                    </a:lnTo>
                    <a:lnTo>
                      <a:pt x="191" y="27"/>
                    </a:lnTo>
                    <a:lnTo>
                      <a:pt x="197" y="35"/>
                    </a:lnTo>
                    <a:lnTo>
                      <a:pt x="203" y="43"/>
                    </a:lnTo>
                    <a:lnTo>
                      <a:pt x="207" y="52"/>
                    </a:lnTo>
                    <a:lnTo>
                      <a:pt x="211" y="61"/>
                    </a:lnTo>
                    <a:lnTo>
                      <a:pt x="214" y="72"/>
                    </a:lnTo>
                    <a:lnTo>
                      <a:pt x="216" y="84"/>
                    </a:lnTo>
                    <a:lnTo>
                      <a:pt x="217" y="96"/>
                    </a:lnTo>
                    <a:lnTo>
                      <a:pt x="218" y="109"/>
                    </a:lnTo>
                    <a:lnTo>
                      <a:pt x="21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7" name=""/>
              <p:cNvSpPr/>
              <p:nvPr/>
            </p:nvSpPr>
            <p:spPr>
              <a:xfrm>
                <a:off x="7807320" y="2411640"/>
                <a:ext cx="178920" cy="19836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253" y="109"/>
                    </a:moveTo>
                    <a:lnTo>
                      <a:pt x="253" y="117"/>
                    </a:lnTo>
                    <a:lnTo>
                      <a:pt x="251" y="123"/>
                    </a:lnTo>
                    <a:lnTo>
                      <a:pt x="251" y="130"/>
                    </a:lnTo>
                    <a:lnTo>
                      <a:pt x="249" y="137"/>
                    </a:lnTo>
                    <a:lnTo>
                      <a:pt x="248" y="143"/>
                    </a:lnTo>
                    <a:lnTo>
                      <a:pt x="245" y="149"/>
                    </a:lnTo>
                    <a:lnTo>
                      <a:pt x="243" y="157"/>
                    </a:lnTo>
                    <a:lnTo>
                      <a:pt x="240" y="163"/>
                    </a:lnTo>
                    <a:lnTo>
                      <a:pt x="238" y="170"/>
                    </a:lnTo>
                    <a:lnTo>
                      <a:pt x="234" y="176"/>
                    </a:lnTo>
                    <a:lnTo>
                      <a:pt x="226" y="187"/>
                    </a:lnTo>
                    <a:lnTo>
                      <a:pt x="218" y="199"/>
                    </a:lnTo>
                    <a:lnTo>
                      <a:pt x="208" y="210"/>
                    </a:lnTo>
                    <a:lnTo>
                      <a:pt x="196" y="220"/>
                    </a:lnTo>
                    <a:lnTo>
                      <a:pt x="185" y="229"/>
                    </a:lnTo>
                    <a:lnTo>
                      <a:pt x="174" y="237"/>
                    </a:lnTo>
                    <a:lnTo>
                      <a:pt x="167" y="239"/>
                    </a:lnTo>
                    <a:lnTo>
                      <a:pt x="161" y="243"/>
                    </a:lnTo>
                    <a:lnTo>
                      <a:pt x="155" y="245"/>
                    </a:lnTo>
                    <a:lnTo>
                      <a:pt x="149" y="248"/>
                    </a:lnTo>
                    <a:lnTo>
                      <a:pt x="141" y="250"/>
                    </a:lnTo>
                    <a:lnTo>
                      <a:pt x="135" y="252"/>
                    </a:lnTo>
                    <a:lnTo>
                      <a:pt x="129" y="253"/>
                    </a:lnTo>
                    <a:lnTo>
                      <a:pt x="121" y="254"/>
                    </a:lnTo>
                    <a:lnTo>
                      <a:pt x="115" y="255"/>
                    </a:lnTo>
                    <a:lnTo>
                      <a:pt x="107" y="255"/>
                    </a:lnTo>
                    <a:lnTo>
                      <a:pt x="101" y="255"/>
                    </a:lnTo>
                    <a:lnTo>
                      <a:pt x="95" y="254"/>
                    </a:lnTo>
                    <a:lnTo>
                      <a:pt x="89" y="253"/>
                    </a:lnTo>
                    <a:lnTo>
                      <a:pt x="82" y="252"/>
                    </a:lnTo>
                    <a:lnTo>
                      <a:pt x="76" y="250"/>
                    </a:lnTo>
                    <a:lnTo>
                      <a:pt x="71" y="248"/>
                    </a:lnTo>
                    <a:lnTo>
                      <a:pt x="66" y="245"/>
                    </a:lnTo>
                    <a:lnTo>
                      <a:pt x="60" y="243"/>
                    </a:lnTo>
                    <a:lnTo>
                      <a:pt x="55" y="239"/>
                    </a:lnTo>
                    <a:lnTo>
                      <a:pt x="51" y="237"/>
                    </a:lnTo>
                    <a:lnTo>
                      <a:pt x="42" y="229"/>
                    </a:lnTo>
                    <a:lnTo>
                      <a:pt x="33" y="220"/>
                    </a:lnTo>
                    <a:lnTo>
                      <a:pt x="26" y="210"/>
                    </a:lnTo>
                    <a:lnTo>
                      <a:pt x="20" y="199"/>
                    </a:lnTo>
                    <a:lnTo>
                      <a:pt x="15" y="187"/>
                    </a:lnTo>
                    <a:lnTo>
                      <a:pt x="10" y="176"/>
                    </a:lnTo>
                    <a:lnTo>
                      <a:pt x="6" y="163"/>
                    </a:lnTo>
                    <a:lnTo>
                      <a:pt x="3" y="149"/>
                    </a:lnTo>
                    <a:lnTo>
                      <a:pt x="1" y="137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3" y="72"/>
                    </a:lnTo>
                    <a:lnTo>
                      <a:pt x="6" y="61"/>
                    </a:lnTo>
                    <a:lnTo>
                      <a:pt x="10" y="52"/>
                    </a:lnTo>
                    <a:lnTo>
                      <a:pt x="15" y="43"/>
                    </a:lnTo>
                    <a:lnTo>
                      <a:pt x="20" y="35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2" y="16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5" y="2"/>
                    </a:lnTo>
                    <a:lnTo>
                      <a:pt x="149" y="4"/>
                    </a:lnTo>
                    <a:lnTo>
                      <a:pt x="161" y="7"/>
                    </a:lnTo>
                    <a:lnTo>
                      <a:pt x="174" y="11"/>
                    </a:lnTo>
                    <a:lnTo>
                      <a:pt x="185" y="16"/>
                    </a:lnTo>
                    <a:lnTo>
                      <a:pt x="196" y="21"/>
                    </a:lnTo>
                    <a:lnTo>
                      <a:pt x="208" y="27"/>
                    </a:lnTo>
                    <a:lnTo>
                      <a:pt x="218" y="35"/>
                    </a:lnTo>
                    <a:lnTo>
                      <a:pt x="226" y="43"/>
                    </a:lnTo>
                    <a:lnTo>
                      <a:pt x="234" y="52"/>
                    </a:lnTo>
                    <a:lnTo>
                      <a:pt x="238" y="56"/>
                    </a:lnTo>
                    <a:lnTo>
                      <a:pt x="240" y="61"/>
                    </a:lnTo>
                    <a:lnTo>
                      <a:pt x="243" y="67"/>
                    </a:lnTo>
                    <a:lnTo>
                      <a:pt x="245" y="72"/>
                    </a:lnTo>
                    <a:lnTo>
                      <a:pt x="248" y="77"/>
                    </a:lnTo>
                    <a:lnTo>
                      <a:pt x="249" y="84"/>
                    </a:lnTo>
                    <a:lnTo>
                      <a:pt x="251" y="90"/>
                    </a:lnTo>
                    <a:lnTo>
                      <a:pt x="251" y="96"/>
                    </a:lnTo>
                    <a:lnTo>
                      <a:pt x="253" y="103"/>
                    </a:lnTo>
                    <a:lnTo>
                      <a:pt x="253" y="109"/>
                    </a:lnTo>
                    <a:lnTo>
                      <a:pt x="25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8" name=""/>
              <p:cNvSpPr/>
              <p:nvPr/>
            </p:nvSpPr>
            <p:spPr>
              <a:xfrm>
                <a:off x="7239600" y="2214360"/>
                <a:ext cx="850320" cy="565200"/>
              </a:xfrm>
              <a:custGeom>
                <a:avLst/>
                <a:gdLst/>
                <a:ahLst/>
                <a:rect l="l" t="t" r="r" b="b"/>
                <a:pathLst>
                  <a:path w="1195" h="729">
                    <a:moveTo>
                      <a:pt x="0" y="729"/>
                    </a:moveTo>
                    <a:lnTo>
                      <a:pt x="1195" y="729"/>
                    </a:lnTo>
                    <a:lnTo>
                      <a:pt x="119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777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7214400" y="2184840"/>
                <a:ext cx="850320" cy="56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8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7214400" y="2184840"/>
                <a:ext cx="850320" cy="56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1" name=""/>
              <p:cNvSpPr/>
              <p:nvPr/>
            </p:nvSpPr>
            <p:spPr>
              <a:xfrm>
                <a:off x="7346520" y="2394360"/>
                <a:ext cx="177480" cy="194040"/>
              </a:xfrm>
              <a:custGeom>
                <a:avLst/>
                <a:gdLst/>
                <a:ahLst/>
                <a:rect l="l" t="t" r="r" b="b"/>
                <a:pathLst>
                  <a:path w="249" h="249">
                    <a:moveTo>
                      <a:pt x="249" y="126"/>
                    </a:moveTo>
                    <a:lnTo>
                      <a:pt x="249" y="133"/>
                    </a:lnTo>
                    <a:lnTo>
                      <a:pt x="248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3" y="163"/>
                    </a:lnTo>
                    <a:lnTo>
                      <a:pt x="239" y="174"/>
                    </a:lnTo>
                    <a:lnTo>
                      <a:pt x="234" y="184"/>
                    </a:lnTo>
                    <a:lnTo>
                      <a:pt x="228" y="194"/>
                    </a:lnTo>
                    <a:lnTo>
                      <a:pt x="220" y="204"/>
                    </a:lnTo>
                    <a:lnTo>
                      <a:pt x="212" y="213"/>
                    </a:lnTo>
                    <a:lnTo>
                      <a:pt x="203" y="221"/>
                    </a:lnTo>
                    <a:lnTo>
                      <a:pt x="194" y="228"/>
                    </a:lnTo>
                    <a:lnTo>
                      <a:pt x="183" y="235"/>
                    </a:lnTo>
                    <a:lnTo>
                      <a:pt x="173" y="240"/>
                    </a:lnTo>
                    <a:lnTo>
                      <a:pt x="161" y="244"/>
                    </a:lnTo>
                    <a:lnTo>
                      <a:pt x="149" y="246"/>
                    </a:lnTo>
                    <a:lnTo>
                      <a:pt x="136" y="249"/>
                    </a:lnTo>
                    <a:lnTo>
                      <a:pt x="130" y="249"/>
                    </a:lnTo>
                    <a:lnTo>
                      <a:pt x="124" y="249"/>
                    </a:lnTo>
                    <a:lnTo>
                      <a:pt x="118" y="249"/>
                    </a:lnTo>
                    <a:lnTo>
                      <a:pt x="111" y="249"/>
                    </a:lnTo>
                    <a:lnTo>
                      <a:pt x="100" y="246"/>
                    </a:lnTo>
                    <a:lnTo>
                      <a:pt x="88" y="244"/>
                    </a:lnTo>
                    <a:lnTo>
                      <a:pt x="76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6" y="213"/>
                    </a:lnTo>
                    <a:lnTo>
                      <a:pt x="29" y="204"/>
                    </a:lnTo>
                    <a:lnTo>
                      <a:pt x="21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5" y="163"/>
                    </a:lnTo>
                    <a:lnTo>
                      <a:pt x="2" y="150"/>
                    </a:lnTo>
                    <a:lnTo>
                      <a:pt x="1" y="145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1" y="106"/>
                    </a:lnTo>
                    <a:lnTo>
                      <a:pt x="2" y="100"/>
                    </a:lnTo>
                    <a:lnTo>
                      <a:pt x="6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1" y="56"/>
                    </a:lnTo>
                    <a:lnTo>
                      <a:pt x="29" y="45"/>
                    </a:lnTo>
                    <a:lnTo>
                      <a:pt x="36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8" y="6"/>
                    </a:lnTo>
                    <a:lnTo>
                      <a:pt x="100" y="2"/>
                    </a:lnTo>
                    <a:lnTo>
                      <a:pt x="111" y="1"/>
                    </a:lnTo>
                    <a:lnTo>
                      <a:pt x="118" y="1"/>
                    </a:lnTo>
                    <a:lnTo>
                      <a:pt x="124" y="0"/>
                    </a:lnTo>
                    <a:lnTo>
                      <a:pt x="130" y="1"/>
                    </a:lnTo>
                    <a:lnTo>
                      <a:pt x="136" y="1"/>
                    </a:lnTo>
                    <a:lnTo>
                      <a:pt x="149" y="2"/>
                    </a:lnTo>
                    <a:lnTo>
                      <a:pt x="161" y="6"/>
                    </a:lnTo>
                    <a:lnTo>
                      <a:pt x="173" y="10"/>
                    </a:lnTo>
                    <a:lnTo>
                      <a:pt x="183" y="15"/>
                    </a:lnTo>
                    <a:lnTo>
                      <a:pt x="194" y="21"/>
                    </a:lnTo>
                    <a:lnTo>
                      <a:pt x="203" y="29"/>
                    </a:lnTo>
                    <a:lnTo>
                      <a:pt x="212" y="37"/>
                    </a:lnTo>
                    <a:lnTo>
                      <a:pt x="220" y="45"/>
                    </a:lnTo>
                    <a:lnTo>
                      <a:pt x="228" y="56"/>
                    </a:lnTo>
                    <a:lnTo>
                      <a:pt x="234" y="66"/>
                    </a:lnTo>
                    <a:lnTo>
                      <a:pt x="239" y="77"/>
                    </a:lnTo>
                    <a:lnTo>
                      <a:pt x="243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48" y="112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2" name=""/>
              <p:cNvSpPr/>
              <p:nvPr/>
            </p:nvSpPr>
            <p:spPr>
              <a:xfrm>
                <a:off x="7791480" y="2394360"/>
                <a:ext cx="177480" cy="19404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50" y="126"/>
                    </a:moveTo>
                    <a:lnTo>
                      <a:pt x="250" y="133"/>
                    </a:lnTo>
                    <a:lnTo>
                      <a:pt x="250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5" y="163"/>
                    </a:lnTo>
                    <a:lnTo>
                      <a:pt x="240" y="174"/>
                    </a:lnTo>
                    <a:lnTo>
                      <a:pt x="235" y="184"/>
                    </a:lnTo>
                    <a:lnTo>
                      <a:pt x="228" y="194"/>
                    </a:lnTo>
                    <a:lnTo>
                      <a:pt x="221" y="204"/>
                    </a:lnTo>
                    <a:lnTo>
                      <a:pt x="213" y="213"/>
                    </a:lnTo>
                    <a:lnTo>
                      <a:pt x="205" y="221"/>
                    </a:lnTo>
                    <a:lnTo>
                      <a:pt x="195" y="228"/>
                    </a:lnTo>
                    <a:lnTo>
                      <a:pt x="184" y="235"/>
                    </a:lnTo>
                    <a:lnTo>
                      <a:pt x="173" y="240"/>
                    </a:lnTo>
                    <a:lnTo>
                      <a:pt x="162" y="244"/>
                    </a:lnTo>
                    <a:lnTo>
                      <a:pt x="151" y="246"/>
                    </a:lnTo>
                    <a:lnTo>
                      <a:pt x="138" y="249"/>
                    </a:lnTo>
                    <a:lnTo>
                      <a:pt x="132" y="249"/>
                    </a:lnTo>
                    <a:lnTo>
                      <a:pt x="126" y="249"/>
                    </a:lnTo>
                    <a:lnTo>
                      <a:pt x="119" y="249"/>
                    </a:lnTo>
                    <a:lnTo>
                      <a:pt x="112" y="249"/>
                    </a:lnTo>
                    <a:lnTo>
                      <a:pt x="99" y="246"/>
                    </a:lnTo>
                    <a:lnTo>
                      <a:pt x="88" y="244"/>
                    </a:lnTo>
                    <a:lnTo>
                      <a:pt x="77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7" y="213"/>
                    </a:lnTo>
                    <a:lnTo>
                      <a:pt x="29" y="204"/>
                    </a:lnTo>
                    <a:lnTo>
                      <a:pt x="22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7" y="163"/>
                    </a:lnTo>
                    <a:lnTo>
                      <a:pt x="3" y="150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6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3" y="100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9" y="45"/>
                    </a:lnTo>
                    <a:lnTo>
                      <a:pt x="37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7" y="10"/>
                    </a:lnTo>
                    <a:lnTo>
                      <a:pt x="88" y="6"/>
                    </a:lnTo>
                    <a:lnTo>
                      <a:pt x="99" y="2"/>
                    </a:lnTo>
                    <a:lnTo>
                      <a:pt x="112" y="1"/>
                    </a:lnTo>
                    <a:lnTo>
                      <a:pt x="119" y="1"/>
                    </a:lnTo>
                    <a:lnTo>
                      <a:pt x="126" y="0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51" y="2"/>
                    </a:lnTo>
                    <a:lnTo>
                      <a:pt x="162" y="6"/>
                    </a:lnTo>
                    <a:lnTo>
                      <a:pt x="173" y="10"/>
                    </a:lnTo>
                    <a:lnTo>
                      <a:pt x="184" y="15"/>
                    </a:lnTo>
                    <a:lnTo>
                      <a:pt x="195" y="21"/>
                    </a:lnTo>
                    <a:lnTo>
                      <a:pt x="205" y="29"/>
                    </a:lnTo>
                    <a:lnTo>
                      <a:pt x="213" y="37"/>
                    </a:lnTo>
                    <a:lnTo>
                      <a:pt x="221" y="45"/>
                    </a:lnTo>
                    <a:lnTo>
                      <a:pt x="228" y="56"/>
                    </a:lnTo>
                    <a:lnTo>
                      <a:pt x="235" y="66"/>
                    </a:lnTo>
                    <a:lnTo>
                      <a:pt x="240" y="77"/>
                    </a:lnTo>
                    <a:lnTo>
                      <a:pt x="245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50" y="112"/>
                    </a:lnTo>
                    <a:lnTo>
                      <a:pt x="250" y="120"/>
                    </a:lnTo>
                    <a:lnTo>
                      <a:pt x="250" y="126"/>
                    </a:lnTo>
                    <a:lnTo>
                      <a:pt x="250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3" name=""/>
              <p:cNvSpPr/>
              <p:nvPr/>
            </p:nvSpPr>
            <p:spPr>
              <a:xfrm>
                <a:off x="7236720" y="2211120"/>
                <a:ext cx="840240" cy="56232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4" name=""/>
              <p:cNvSpPr/>
              <p:nvPr/>
            </p:nvSpPr>
            <p:spPr>
              <a:xfrm>
                <a:off x="4845240" y="2383200"/>
                <a:ext cx="25560" cy="62316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5" name=""/>
              <p:cNvSpPr/>
              <p:nvPr/>
            </p:nvSpPr>
            <p:spPr>
              <a:xfrm>
                <a:off x="4870800" y="2383200"/>
                <a:ext cx="25200" cy="62316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6" name=""/>
              <p:cNvSpPr/>
              <p:nvPr/>
            </p:nvSpPr>
            <p:spPr>
              <a:xfrm>
                <a:off x="4896360" y="2383200"/>
                <a:ext cx="25200" cy="62316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7" name=""/>
              <p:cNvSpPr/>
              <p:nvPr/>
            </p:nvSpPr>
            <p:spPr>
              <a:xfrm>
                <a:off x="4859280" y="2400480"/>
                <a:ext cx="68040" cy="611640"/>
              </a:xfrm>
              <a:custGeom>
                <a:avLst/>
                <a:gdLst/>
                <a:ahLst/>
                <a:rect l="l" t="t" r="r" b="b"/>
                <a:pathLst>
                  <a:path w="95" h="786">
                    <a:moveTo>
                      <a:pt x="90" y="786"/>
                    </a:moveTo>
                    <a:lnTo>
                      <a:pt x="4" y="786"/>
                    </a:lnTo>
                    <a:lnTo>
                      <a:pt x="2" y="785"/>
                    </a:lnTo>
                    <a:lnTo>
                      <a:pt x="1" y="784"/>
                    </a:lnTo>
                    <a:lnTo>
                      <a:pt x="0" y="782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4" y="2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779"/>
                    </a:lnTo>
                    <a:lnTo>
                      <a:pt x="94" y="782"/>
                    </a:lnTo>
                    <a:lnTo>
                      <a:pt x="93" y="784"/>
                    </a:lnTo>
                    <a:lnTo>
                      <a:pt x="91" y="785"/>
                    </a:lnTo>
                    <a:lnTo>
                      <a:pt x="90" y="78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8" name=""/>
              <p:cNvSpPr/>
              <p:nvPr/>
            </p:nvSpPr>
            <p:spPr>
              <a:xfrm>
                <a:off x="5148000" y="2913120"/>
                <a:ext cx="875880" cy="83520"/>
              </a:xfrm>
              <a:custGeom>
                <a:avLst/>
                <a:gdLst/>
                <a:ahLst/>
                <a:rect l="l" t="t" r="r" b="b"/>
                <a:pathLst>
                  <a:path w="1231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77" y="0"/>
                    </a:moveTo>
                    <a:lnTo>
                      <a:pt x="1077" y="104"/>
                    </a:lnTo>
                    <a:lnTo>
                      <a:pt x="1077" y="106"/>
                    </a:lnTo>
                    <a:lnTo>
                      <a:pt x="1077" y="107"/>
                    </a:lnTo>
                    <a:lnTo>
                      <a:pt x="1078" y="108"/>
                    </a:lnTo>
                    <a:lnTo>
                      <a:pt x="1080" y="108"/>
                    </a:lnTo>
                    <a:lnTo>
                      <a:pt x="1080" y="108"/>
                    </a:lnTo>
                    <a:lnTo>
                      <a:pt x="1229" y="108"/>
                    </a:lnTo>
                    <a:lnTo>
                      <a:pt x="1229" y="108"/>
                    </a:lnTo>
                    <a:lnTo>
                      <a:pt x="1230" y="107"/>
                    </a:lnTo>
                    <a:lnTo>
                      <a:pt x="1231" y="106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0"/>
                    </a:lnTo>
                    <a:lnTo>
                      <a:pt x="1077" y="0"/>
                    </a:lnTo>
                    <a:lnTo>
                      <a:pt x="1077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9" name=""/>
              <p:cNvSpPr/>
              <p:nvPr/>
            </p:nvSpPr>
            <p:spPr>
              <a:xfrm>
                <a:off x="5148000" y="2913120"/>
                <a:ext cx="109440" cy="8352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0" name=""/>
              <p:cNvSpPr/>
              <p:nvPr/>
            </p:nvSpPr>
            <p:spPr>
              <a:xfrm>
                <a:off x="5914440" y="2913120"/>
                <a:ext cx="109440" cy="8352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3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1" name=""/>
              <p:cNvSpPr/>
              <p:nvPr/>
            </p:nvSpPr>
            <p:spPr>
              <a:xfrm>
                <a:off x="6436440" y="2200320"/>
                <a:ext cx="434880" cy="464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2" name=""/>
              <p:cNvSpPr/>
              <p:nvPr/>
            </p:nvSpPr>
            <p:spPr>
              <a:xfrm>
                <a:off x="6436440" y="2200320"/>
                <a:ext cx="434880" cy="4640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3" name=""/>
              <p:cNvSpPr/>
              <p:nvPr/>
            </p:nvSpPr>
            <p:spPr>
              <a:xfrm>
                <a:off x="6440760" y="2451600"/>
                <a:ext cx="429480" cy="21276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4" name=""/>
              <p:cNvSpPr/>
              <p:nvPr/>
            </p:nvSpPr>
            <p:spPr>
              <a:xfrm>
                <a:off x="6440760" y="2451600"/>
                <a:ext cx="429480" cy="21276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5" name=""/>
              <p:cNvSpPr/>
              <p:nvPr/>
            </p:nvSpPr>
            <p:spPr>
              <a:xfrm>
                <a:off x="5145120" y="2198520"/>
                <a:ext cx="2016360" cy="823680"/>
              </a:xfrm>
              <a:custGeom>
                <a:avLst/>
                <a:gdLst/>
                <a:ahLst/>
                <a:rect l="l" t="t" r="r" b="b"/>
                <a:pathLst>
                  <a:path w="2835" h="1060">
                    <a:moveTo>
                      <a:pt x="175" y="1060"/>
                    </a:moveTo>
                    <a:lnTo>
                      <a:pt x="326" y="1060"/>
                    </a:lnTo>
                    <a:lnTo>
                      <a:pt x="327" y="1060"/>
                    </a:lnTo>
                    <a:lnTo>
                      <a:pt x="327" y="1058"/>
                    </a:lnTo>
                    <a:lnTo>
                      <a:pt x="327" y="1057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978"/>
                    </a:lnTo>
                    <a:lnTo>
                      <a:pt x="327" y="976"/>
                    </a:lnTo>
                    <a:lnTo>
                      <a:pt x="327" y="975"/>
                    </a:lnTo>
                    <a:lnTo>
                      <a:pt x="327" y="974"/>
                    </a:lnTo>
                    <a:lnTo>
                      <a:pt x="326" y="974"/>
                    </a:lnTo>
                    <a:lnTo>
                      <a:pt x="175" y="974"/>
                    </a:lnTo>
                    <a:lnTo>
                      <a:pt x="175" y="974"/>
                    </a:lnTo>
                    <a:lnTo>
                      <a:pt x="175" y="975"/>
                    </a:lnTo>
                    <a:lnTo>
                      <a:pt x="174" y="976"/>
                    </a:lnTo>
                    <a:lnTo>
                      <a:pt x="174" y="978"/>
                    </a:lnTo>
                    <a:lnTo>
                      <a:pt x="174" y="978"/>
                    </a:lnTo>
                    <a:lnTo>
                      <a:pt x="174" y="1056"/>
                    </a:lnTo>
                    <a:lnTo>
                      <a:pt x="174" y="1057"/>
                    </a:lnTo>
                    <a:lnTo>
                      <a:pt x="175" y="1058"/>
                    </a:lnTo>
                    <a:lnTo>
                      <a:pt x="175" y="1060"/>
                    </a:lnTo>
                    <a:lnTo>
                      <a:pt x="175" y="1060"/>
                    </a:lnTo>
                    <a:lnTo>
                      <a:pt x="175" y="1060"/>
                    </a:lnTo>
                    <a:close/>
                    <a:moveTo>
                      <a:pt x="362" y="1060"/>
                    </a:moveTo>
                    <a:lnTo>
                      <a:pt x="508" y="1060"/>
                    </a:lnTo>
                    <a:lnTo>
                      <a:pt x="510" y="1060"/>
                    </a:lnTo>
                    <a:lnTo>
                      <a:pt x="511" y="1058"/>
                    </a:lnTo>
                    <a:lnTo>
                      <a:pt x="512" y="1057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978"/>
                    </a:lnTo>
                    <a:lnTo>
                      <a:pt x="512" y="976"/>
                    </a:lnTo>
                    <a:lnTo>
                      <a:pt x="511" y="975"/>
                    </a:lnTo>
                    <a:lnTo>
                      <a:pt x="510" y="974"/>
                    </a:lnTo>
                    <a:lnTo>
                      <a:pt x="508" y="974"/>
                    </a:lnTo>
                    <a:lnTo>
                      <a:pt x="362" y="974"/>
                    </a:lnTo>
                    <a:lnTo>
                      <a:pt x="359" y="974"/>
                    </a:lnTo>
                    <a:lnTo>
                      <a:pt x="358" y="975"/>
                    </a:lnTo>
                    <a:lnTo>
                      <a:pt x="357" y="976"/>
                    </a:lnTo>
                    <a:lnTo>
                      <a:pt x="357" y="978"/>
                    </a:lnTo>
                    <a:lnTo>
                      <a:pt x="357" y="978"/>
                    </a:lnTo>
                    <a:lnTo>
                      <a:pt x="357" y="1056"/>
                    </a:lnTo>
                    <a:lnTo>
                      <a:pt x="357" y="1057"/>
                    </a:lnTo>
                    <a:lnTo>
                      <a:pt x="358" y="1058"/>
                    </a:lnTo>
                    <a:lnTo>
                      <a:pt x="359" y="1060"/>
                    </a:lnTo>
                    <a:lnTo>
                      <a:pt x="362" y="1060"/>
                    </a:lnTo>
                    <a:lnTo>
                      <a:pt x="362" y="1060"/>
                    </a:lnTo>
                    <a:close/>
                    <a:moveTo>
                      <a:pt x="545" y="1060"/>
                    </a:moveTo>
                    <a:lnTo>
                      <a:pt x="694" y="1060"/>
                    </a:lnTo>
                    <a:lnTo>
                      <a:pt x="694" y="1060"/>
                    </a:lnTo>
                    <a:lnTo>
                      <a:pt x="695" y="1058"/>
                    </a:lnTo>
                    <a:lnTo>
                      <a:pt x="696" y="1057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978"/>
                    </a:lnTo>
                    <a:lnTo>
                      <a:pt x="696" y="976"/>
                    </a:lnTo>
                    <a:lnTo>
                      <a:pt x="695" y="975"/>
                    </a:lnTo>
                    <a:lnTo>
                      <a:pt x="694" y="974"/>
                    </a:lnTo>
                    <a:lnTo>
                      <a:pt x="694" y="974"/>
                    </a:lnTo>
                    <a:lnTo>
                      <a:pt x="545" y="974"/>
                    </a:lnTo>
                    <a:lnTo>
                      <a:pt x="544" y="974"/>
                    </a:lnTo>
                    <a:lnTo>
                      <a:pt x="542" y="975"/>
                    </a:lnTo>
                    <a:lnTo>
                      <a:pt x="542" y="976"/>
                    </a:lnTo>
                    <a:lnTo>
                      <a:pt x="542" y="978"/>
                    </a:lnTo>
                    <a:lnTo>
                      <a:pt x="542" y="978"/>
                    </a:lnTo>
                    <a:lnTo>
                      <a:pt x="542" y="1056"/>
                    </a:lnTo>
                    <a:lnTo>
                      <a:pt x="542" y="1057"/>
                    </a:lnTo>
                    <a:lnTo>
                      <a:pt x="542" y="1058"/>
                    </a:lnTo>
                    <a:lnTo>
                      <a:pt x="544" y="1060"/>
                    </a:lnTo>
                    <a:lnTo>
                      <a:pt x="545" y="1060"/>
                    </a:lnTo>
                    <a:lnTo>
                      <a:pt x="545" y="1060"/>
                    </a:lnTo>
                    <a:close/>
                    <a:moveTo>
                      <a:pt x="730" y="1060"/>
                    </a:moveTo>
                    <a:lnTo>
                      <a:pt x="877" y="1060"/>
                    </a:lnTo>
                    <a:lnTo>
                      <a:pt x="879" y="1060"/>
                    </a:lnTo>
                    <a:lnTo>
                      <a:pt x="881" y="1058"/>
                    </a:lnTo>
                    <a:lnTo>
                      <a:pt x="882" y="1057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978"/>
                    </a:lnTo>
                    <a:lnTo>
                      <a:pt x="882" y="976"/>
                    </a:lnTo>
                    <a:lnTo>
                      <a:pt x="881" y="975"/>
                    </a:lnTo>
                    <a:lnTo>
                      <a:pt x="879" y="974"/>
                    </a:lnTo>
                    <a:lnTo>
                      <a:pt x="877" y="974"/>
                    </a:lnTo>
                    <a:lnTo>
                      <a:pt x="730" y="974"/>
                    </a:lnTo>
                    <a:lnTo>
                      <a:pt x="729" y="974"/>
                    </a:lnTo>
                    <a:lnTo>
                      <a:pt x="728" y="975"/>
                    </a:lnTo>
                    <a:lnTo>
                      <a:pt x="727" y="976"/>
                    </a:lnTo>
                    <a:lnTo>
                      <a:pt x="725" y="978"/>
                    </a:lnTo>
                    <a:lnTo>
                      <a:pt x="725" y="978"/>
                    </a:lnTo>
                    <a:lnTo>
                      <a:pt x="725" y="1056"/>
                    </a:lnTo>
                    <a:lnTo>
                      <a:pt x="727" y="1057"/>
                    </a:lnTo>
                    <a:lnTo>
                      <a:pt x="728" y="1058"/>
                    </a:lnTo>
                    <a:lnTo>
                      <a:pt x="729" y="1060"/>
                    </a:lnTo>
                    <a:lnTo>
                      <a:pt x="730" y="1060"/>
                    </a:lnTo>
                    <a:lnTo>
                      <a:pt x="730" y="1060"/>
                    </a:lnTo>
                    <a:close/>
                    <a:moveTo>
                      <a:pt x="913" y="1060"/>
                    </a:moveTo>
                    <a:lnTo>
                      <a:pt x="1061" y="1060"/>
                    </a:lnTo>
                    <a:lnTo>
                      <a:pt x="1062" y="1060"/>
                    </a:lnTo>
                    <a:lnTo>
                      <a:pt x="1064" y="1058"/>
                    </a:lnTo>
                    <a:lnTo>
                      <a:pt x="1065" y="1057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978"/>
                    </a:lnTo>
                    <a:lnTo>
                      <a:pt x="1065" y="976"/>
                    </a:lnTo>
                    <a:lnTo>
                      <a:pt x="1064" y="975"/>
                    </a:lnTo>
                    <a:lnTo>
                      <a:pt x="1062" y="974"/>
                    </a:lnTo>
                    <a:lnTo>
                      <a:pt x="1061" y="974"/>
                    </a:lnTo>
                    <a:lnTo>
                      <a:pt x="1061" y="974"/>
                    </a:lnTo>
                    <a:lnTo>
                      <a:pt x="913" y="974"/>
                    </a:lnTo>
                    <a:lnTo>
                      <a:pt x="912" y="974"/>
                    </a:lnTo>
                    <a:lnTo>
                      <a:pt x="912" y="975"/>
                    </a:lnTo>
                    <a:lnTo>
                      <a:pt x="912" y="976"/>
                    </a:lnTo>
                    <a:lnTo>
                      <a:pt x="912" y="978"/>
                    </a:lnTo>
                    <a:lnTo>
                      <a:pt x="912" y="978"/>
                    </a:lnTo>
                    <a:lnTo>
                      <a:pt x="912" y="1056"/>
                    </a:lnTo>
                    <a:lnTo>
                      <a:pt x="912" y="1057"/>
                    </a:lnTo>
                    <a:lnTo>
                      <a:pt x="912" y="1058"/>
                    </a:lnTo>
                    <a:lnTo>
                      <a:pt x="912" y="1060"/>
                    </a:lnTo>
                    <a:lnTo>
                      <a:pt x="913" y="1060"/>
                    </a:lnTo>
                    <a:lnTo>
                      <a:pt x="913" y="1060"/>
                    </a:lnTo>
                    <a:close/>
                    <a:moveTo>
                      <a:pt x="4" y="643"/>
                    </a:moveTo>
                    <a:lnTo>
                      <a:pt x="151" y="643"/>
                    </a:lnTo>
                    <a:lnTo>
                      <a:pt x="153" y="643"/>
                    </a:lnTo>
                    <a:lnTo>
                      <a:pt x="154" y="643"/>
                    </a:lnTo>
                    <a:lnTo>
                      <a:pt x="155" y="642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581"/>
                    </a:lnTo>
                    <a:lnTo>
                      <a:pt x="155" y="581"/>
                    </a:lnTo>
                    <a:lnTo>
                      <a:pt x="154" y="580"/>
                    </a:lnTo>
                    <a:lnTo>
                      <a:pt x="153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4" y="580"/>
                    </a:lnTo>
                    <a:lnTo>
                      <a:pt x="2" y="580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641"/>
                    </a:lnTo>
                    <a:lnTo>
                      <a:pt x="0" y="642"/>
                    </a:lnTo>
                    <a:lnTo>
                      <a:pt x="1" y="643"/>
                    </a:lnTo>
                    <a:lnTo>
                      <a:pt x="2" y="643"/>
                    </a:lnTo>
                    <a:lnTo>
                      <a:pt x="4" y="643"/>
                    </a:lnTo>
                    <a:lnTo>
                      <a:pt x="4" y="643"/>
                    </a:lnTo>
                    <a:close/>
                    <a:moveTo>
                      <a:pt x="352" y="643"/>
                    </a:moveTo>
                    <a:lnTo>
                      <a:pt x="466" y="643"/>
                    </a:lnTo>
                    <a:lnTo>
                      <a:pt x="467" y="643"/>
                    </a:lnTo>
                    <a:lnTo>
                      <a:pt x="468" y="643"/>
                    </a:lnTo>
                    <a:lnTo>
                      <a:pt x="470" y="642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581"/>
                    </a:lnTo>
                    <a:lnTo>
                      <a:pt x="470" y="581"/>
                    </a:lnTo>
                    <a:lnTo>
                      <a:pt x="468" y="580"/>
                    </a:lnTo>
                    <a:lnTo>
                      <a:pt x="467" y="580"/>
                    </a:lnTo>
                    <a:lnTo>
                      <a:pt x="466" y="580"/>
                    </a:lnTo>
                    <a:lnTo>
                      <a:pt x="466" y="580"/>
                    </a:lnTo>
                    <a:lnTo>
                      <a:pt x="352" y="580"/>
                    </a:lnTo>
                    <a:lnTo>
                      <a:pt x="351" y="580"/>
                    </a:lnTo>
                    <a:lnTo>
                      <a:pt x="349" y="580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641"/>
                    </a:lnTo>
                    <a:lnTo>
                      <a:pt x="348" y="642"/>
                    </a:lnTo>
                    <a:lnTo>
                      <a:pt x="349" y="643"/>
                    </a:lnTo>
                    <a:lnTo>
                      <a:pt x="351" y="643"/>
                    </a:lnTo>
                    <a:lnTo>
                      <a:pt x="352" y="643"/>
                    </a:lnTo>
                    <a:lnTo>
                      <a:pt x="352" y="643"/>
                    </a:lnTo>
                    <a:close/>
                    <a:moveTo>
                      <a:pt x="502" y="643"/>
                    </a:moveTo>
                    <a:lnTo>
                      <a:pt x="617" y="643"/>
                    </a:lnTo>
                    <a:lnTo>
                      <a:pt x="619" y="643"/>
                    </a:lnTo>
                    <a:lnTo>
                      <a:pt x="619" y="643"/>
                    </a:lnTo>
                    <a:lnTo>
                      <a:pt x="619" y="642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581"/>
                    </a:lnTo>
                    <a:lnTo>
                      <a:pt x="619" y="581"/>
                    </a:lnTo>
                    <a:lnTo>
                      <a:pt x="619" y="580"/>
                    </a:lnTo>
                    <a:lnTo>
                      <a:pt x="619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502" y="580"/>
                    </a:lnTo>
                    <a:lnTo>
                      <a:pt x="501" y="580"/>
                    </a:lnTo>
                    <a:lnTo>
                      <a:pt x="500" y="580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641"/>
                    </a:lnTo>
                    <a:lnTo>
                      <a:pt x="500" y="642"/>
                    </a:lnTo>
                    <a:lnTo>
                      <a:pt x="500" y="643"/>
                    </a:lnTo>
                    <a:lnTo>
                      <a:pt x="501" y="643"/>
                    </a:lnTo>
                    <a:lnTo>
                      <a:pt x="502" y="643"/>
                    </a:lnTo>
                    <a:lnTo>
                      <a:pt x="502" y="643"/>
                    </a:lnTo>
                    <a:close/>
                    <a:moveTo>
                      <a:pt x="651" y="643"/>
                    </a:moveTo>
                    <a:lnTo>
                      <a:pt x="767" y="643"/>
                    </a:lnTo>
                    <a:lnTo>
                      <a:pt x="768" y="643"/>
                    </a:lnTo>
                    <a:lnTo>
                      <a:pt x="769" y="643"/>
                    </a:lnTo>
                    <a:lnTo>
                      <a:pt x="770" y="642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581"/>
                    </a:lnTo>
                    <a:lnTo>
                      <a:pt x="770" y="581"/>
                    </a:lnTo>
                    <a:lnTo>
                      <a:pt x="769" y="580"/>
                    </a:lnTo>
                    <a:lnTo>
                      <a:pt x="768" y="580"/>
                    </a:lnTo>
                    <a:lnTo>
                      <a:pt x="767" y="580"/>
                    </a:lnTo>
                    <a:lnTo>
                      <a:pt x="767" y="580"/>
                    </a:lnTo>
                    <a:lnTo>
                      <a:pt x="651" y="580"/>
                    </a:lnTo>
                    <a:lnTo>
                      <a:pt x="651" y="580"/>
                    </a:lnTo>
                    <a:lnTo>
                      <a:pt x="650" y="580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641"/>
                    </a:lnTo>
                    <a:lnTo>
                      <a:pt x="649" y="642"/>
                    </a:lnTo>
                    <a:lnTo>
                      <a:pt x="650" y="643"/>
                    </a:lnTo>
                    <a:lnTo>
                      <a:pt x="651" y="643"/>
                    </a:lnTo>
                    <a:lnTo>
                      <a:pt x="651" y="643"/>
                    </a:lnTo>
                    <a:lnTo>
                      <a:pt x="651" y="643"/>
                    </a:lnTo>
                    <a:close/>
                    <a:moveTo>
                      <a:pt x="971" y="643"/>
                    </a:moveTo>
                    <a:lnTo>
                      <a:pt x="1086" y="643"/>
                    </a:lnTo>
                    <a:lnTo>
                      <a:pt x="1087" y="643"/>
                    </a:lnTo>
                    <a:lnTo>
                      <a:pt x="1087" y="643"/>
                    </a:lnTo>
                    <a:lnTo>
                      <a:pt x="1087" y="642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581"/>
                    </a:lnTo>
                    <a:lnTo>
                      <a:pt x="1087" y="581"/>
                    </a:lnTo>
                    <a:lnTo>
                      <a:pt x="1087" y="580"/>
                    </a:lnTo>
                    <a:lnTo>
                      <a:pt x="1087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971" y="580"/>
                    </a:lnTo>
                    <a:lnTo>
                      <a:pt x="970" y="580"/>
                    </a:lnTo>
                    <a:lnTo>
                      <a:pt x="968" y="580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641"/>
                    </a:lnTo>
                    <a:lnTo>
                      <a:pt x="968" y="642"/>
                    </a:lnTo>
                    <a:lnTo>
                      <a:pt x="968" y="643"/>
                    </a:lnTo>
                    <a:lnTo>
                      <a:pt x="970" y="643"/>
                    </a:lnTo>
                    <a:lnTo>
                      <a:pt x="971" y="643"/>
                    </a:lnTo>
                    <a:lnTo>
                      <a:pt x="971" y="643"/>
                    </a:lnTo>
                    <a:close/>
                    <a:moveTo>
                      <a:pt x="1120" y="643"/>
                    </a:moveTo>
                    <a:lnTo>
                      <a:pt x="1235" y="643"/>
                    </a:lnTo>
                    <a:lnTo>
                      <a:pt x="1236" y="643"/>
                    </a:lnTo>
                    <a:lnTo>
                      <a:pt x="1238" y="643"/>
                    </a:lnTo>
                    <a:lnTo>
                      <a:pt x="1239" y="642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581"/>
                    </a:lnTo>
                    <a:lnTo>
                      <a:pt x="1239" y="581"/>
                    </a:lnTo>
                    <a:lnTo>
                      <a:pt x="1238" y="580"/>
                    </a:lnTo>
                    <a:lnTo>
                      <a:pt x="1236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120" y="580"/>
                    </a:lnTo>
                    <a:lnTo>
                      <a:pt x="1120" y="580"/>
                    </a:lnTo>
                    <a:lnTo>
                      <a:pt x="1119" y="580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641"/>
                    </a:lnTo>
                    <a:lnTo>
                      <a:pt x="1117" y="642"/>
                    </a:lnTo>
                    <a:lnTo>
                      <a:pt x="1119" y="643"/>
                    </a:lnTo>
                    <a:lnTo>
                      <a:pt x="1120" y="643"/>
                    </a:lnTo>
                    <a:lnTo>
                      <a:pt x="1120" y="643"/>
                    </a:lnTo>
                    <a:lnTo>
                      <a:pt x="1120" y="643"/>
                    </a:lnTo>
                    <a:close/>
                    <a:moveTo>
                      <a:pt x="1120" y="338"/>
                    </a:moveTo>
                    <a:lnTo>
                      <a:pt x="1235" y="338"/>
                    </a:lnTo>
                    <a:lnTo>
                      <a:pt x="1236" y="338"/>
                    </a:lnTo>
                    <a:lnTo>
                      <a:pt x="1238" y="338"/>
                    </a:lnTo>
                    <a:lnTo>
                      <a:pt x="1239" y="336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277"/>
                    </a:lnTo>
                    <a:lnTo>
                      <a:pt x="1239" y="274"/>
                    </a:lnTo>
                    <a:lnTo>
                      <a:pt x="1238" y="274"/>
                    </a:lnTo>
                    <a:lnTo>
                      <a:pt x="1236" y="274"/>
                    </a:lnTo>
                    <a:lnTo>
                      <a:pt x="1235" y="274"/>
                    </a:lnTo>
                    <a:lnTo>
                      <a:pt x="1235" y="274"/>
                    </a:lnTo>
                    <a:lnTo>
                      <a:pt x="1120" y="274"/>
                    </a:lnTo>
                    <a:lnTo>
                      <a:pt x="1120" y="274"/>
                    </a:lnTo>
                    <a:lnTo>
                      <a:pt x="1119" y="274"/>
                    </a:lnTo>
                    <a:lnTo>
                      <a:pt x="1117" y="274"/>
                    </a:lnTo>
                    <a:lnTo>
                      <a:pt x="1117" y="277"/>
                    </a:lnTo>
                    <a:lnTo>
                      <a:pt x="1117" y="277"/>
                    </a:lnTo>
                    <a:lnTo>
                      <a:pt x="1117" y="335"/>
                    </a:lnTo>
                    <a:lnTo>
                      <a:pt x="1117" y="336"/>
                    </a:lnTo>
                    <a:lnTo>
                      <a:pt x="1119" y="338"/>
                    </a:lnTo>
                    <a:lnTo>
                      <a:pt x="1120" y="338"/>
                    </a:lnTo>
                    <a:lnTo>
                      <a:pt x="1120" y="338"/>
                    </a:lnTo>
                    <a:lnTo>
                      <a:pt x="1120" y="338"/>
                    </a:lnTo>
                    <a:close/>
                    <a:moveTo>
                      <a:pt x="971" y="338"/>
                    </a:moveTo>
                    <a:lnTo>
                      <a:pt x="1086" y="338"/>
                    </a:lnTo>
                    <a:lnTo>
                      <a:pt x="1087" y="338"/>
                    </a:lnTo>
                    <a:lnTo>
                      <a:pt x="1087" y="338"/>
                    </a:lnTo>
                    <a:lnTo>
                      <a:pt x="1087" y="336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277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6" y="274"/>
                    </a:lnTo>
                    <a:lnTo>
                      <a:pt x="1086" y="274"/>
                    </a:lnTo>
                    <a:lnTo>
                      <a:pt x="971" y="274"/>
                    </a:lnTo>
                    <a:lnTo>
                      <a:pt x="970" y="274"/>
                    </a:lnTo>
                    <a:lnTo>
                      <a:pt x="968" y="274"/>
                    </a:lnTo>
                    <a:lnTo>
                      <a:pt x="968" y="274"/>
                    </a:lnTo>
                    <a:lnTo>
                      <a:pt x="968" y="277"/>
                    </a:lnTo>
                    <a:lnTo>
                      <a:pt x="968" y="277"/>
                    </a:lnTo>
                    <a:lnTo>
                      <a:pt x="968" y="335"/>
                    </a:lnTo>
                    <a:lnTo>
                      <a:pt x="968" y="336"/>
                    </a:lnTo>
                    <a:lnTo>
                      <a:pt x="968" y="338"/>
                    </a:lnTo>
                    <a:lnTo>
                      <a:pt x="970" y="338"/>
                    </a:lnTo>
                    <a:lnTo>
                      <a:pt x="971" y="338"/>
                    </a:lnTo>
                    <a:lnTo>
                      <a:pt x="971" y="338"/>
                    </a:lnTo>
                    <a:close/>
                    <a:moveTo>
                      <a:pt x="651" y="338"/>
                    </a:moveTo>
                    <a:lnTo>
                      <a:pt x="767" y="338"/>
                    </a:lnTo>
                    <a:lnTo>
                      <a:pt x="768" y="338"/>
                    </a:lnTo>
                    <a:lnTo>
                      <a:pt x="769" y="338"/>
                    </a:lnTo>
                    <a:lnTo>
                      <a:pt x="770" y="336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277"/>
                    </a:lnTo>
                    <a:lnTo>
                      <a:pt x="770" y="274"/>
                    </a:lnTo>
                    <a:lnTo>
                      <a:pt x="769" y="274"/>
                    </a:lnTo>
                    <a:lnTo>
                      <a:pt x="768" y="274"/>
                    </a:lnTo>
                    <a:lnTo>
                      <a:pt x="767" y="274"/>
                    </a:lnTo>
                    <a:lnTo>
                      <a:pt x="651" y="274"/>
                    </a:lnTo>
                    <a:lnTo>
                      <a:pt x="651" y="274"/>
                    </a:lnTo>
                    <a:lnTo>
                      <a:pt x="650" y="274"/>
                    </a:lnTo>
                    <a:lnTo>
                      <a:pt x="649" y="274"/>
                    </a:lnTo>
                    <a:lnTo>
                      <a:pt x="649" y="277"/>
                    </a:lnTo>
                    <a:lnTo>
                      <a:pt x="649" y="277"/>
                    </a:lnTo>
                    <a:lnTo>
                      <a:pt x="649" y="335"/>
                    </a:lnTo>
                    <a:lnTo>
                      <a:pt x="649" y="336"/>
                    </a:lnTo>
                    <a:lnTo>
                      <a:pt x="650" y="338"/>
                    </a:lnTo>
                    <a:lnTo>
                      <a:pt x="651" y="338"/>
                    </a:lnTo>
                    <a:lnTo>
                      <a:pt x="651" y="338"/>
                    </a:lnTo>
                    <a:lnTo>
                      <a:pt x="651" y="338"/>
                    </a:lnTo>
                    <a:close/>
                    <a:moveTo>
                      <a:pt x="502" y="338"/>
                    </a:moveTo>
                    <a:lnTo>
                      <a:pt x="617" y="338"/>
                    </a:lnTo>
                    <a:lnTo>
                      <a:pt x="619" y="338"/>
                    </a:lnTo>
                    <a:lnTo>
                      <a:pt x="619" y="338"/>
                    </a:lnTo>
                    <a:lnTo>
                      <a:pt x="619" y="336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277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7" y="274"/>
                    </a:lnTo>
                    <a:lnTo>
                      <a:pt x="617" y="274"/>
                    </a:lnTo>
                    <a:lnTo>
                      <a:pt x="502" y="274"/>
                    </a:lnTo>
                    <a:lnTo>
                      <a:pt x="501" y="274"/>
                    </a:lnTo>
                    <a:lnTo>
                      <a:pt x="500" y="274"/>
                    </a:lnTo>
                    <a:lnTo>
                      <a:pt x="500" y="274"/>
                    </a:lnTo>
                    <a:lnTo>
                      <a:pt x="500" y="277"/>
                    </a:lnTo>
                    <a:lnTo>
                      <a:pt x="500" y="277"/>
                    </a:lnTo>
                    <a:lnTo>
                      <a:pt x="500" y="335"/>
                    </a:lnTo>
                    <a:lnTo>
                      <a:pt x="500" y="336"/>
                    </a:lnTo>
                    <a:lnTo>
                      <a:pt x="500" y="338"/>
                    </a:lnTo>
                    <a:lnTo>
                      <a:pt x="501" y="338"/>
                    </a:lnTo>
                    <a:lnTo>
                      <a:pt x="502" y="338"/>
                    </a:lnTo>
                    <a:lnTo>
                      <a:pt x="502" y="338"/>
                    </a:lnTo>
                    <a:close/>
                    <a:moveTo>
                      <a:pt x="352" y="338"/>
                    </a:moveTo>
                    <a:lnTo>
                      <a:pt x="466" y="338"/>
                    </a:lnTo>
                    <a:lnTo>
                      <a:pt x="467" y="338"/>
                    </a:lnTo>
                    <a:lnTo>
                      <a:pt x="468" y="338"/>
                    </a:lnTo>
                    <a:lnTo>
                      <a:pt x="470" y="336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277"/>
                    </a:lnTo>
                    <a:lnTo>
                      <a:pt x="470" y="274"/>
                    </a:lnTo>
                    <a:lnTo>
                      <a:pt x="468" y="274"/>
                    </a:lnTo>
                    <a:lnTo>
                      <a:pt x="467" y="274"/>
                    </a:lnTo>
                    <a:lnTo>
                      <a:pt x="466" y="274"/>
                    </a:lnTo>
                    <a:lnTo>
                      <a:pt x="352" y="274"/>
                    </a:lnTo>
                    <a:lnTo>
                      <a:pt x="351" y="274"/>
                    </a:lnTo>
                    <a:lnTo>
                      <a:pt x="349" y="274"/>
                    </a:lnTo>
                    <a:lnTo>
                      <a:pt x="348" y="274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335"/>
                    </a:lnTo>
                    <a:lnTo>
                      <a:pt x="348" y="336"/>
                    </a:lnTo>
                    <a:lnTo>
                      <a:pt x="349" y="338"/>
                    </a:lnTo>
                    <a:lnTo>
                      <a:pt x="351" y="338"/>
                    </a:lnTo>
                    <a:lnTo>
                      <a:pt x="352" y="338"/>
                    </a:lnTo>
                    <a:lnTo>
                      <a:pt x="352" y="338"/>
                    </a:lnTo>
                    <a:close/>
                    <a:moveTo>
                      <a:pt x="4" y="338"/>
                    </a:moveTo>
                    <a:lnTo>
                      <a:pt x="151" y="338"/>
                    </a:lnTo>
                    <a:lnTo>
                      <a:pt x="153" y="338"/>
                    </a:lnTo>
                    <a:lnTo>
                      <a:pt x="154" y="338"/>
                    </a:lnTo>
                    <a:lnTo>
                      <a:pt x="155" y="336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277"/>
                    </a:lnTo>
                    <a:lnTo>
                      <a:pt x="155" y="274"/>
                    </a:lnTo>
                    <a:lnTo>
                      <a:pt x="154" y="274"/>
                    </a:lnTo>
                    <a:lnTo>
                      <a:pt x="153" y="274"/>
                    </a:lnTo>
                    <a:lnTo>
                      <a:pt x="151" y="274"/>
                    </a:lnTo>
                    <a:lnTo>
                      <a:pt x="4" y="274"/>
                    </a:lnTo>
                    <a:lnTo>
                      <a:pt x="2" y="274"/>
                    </a:lnTo>
                    <a:lnTo>
                      <a:pt x="1" y="274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335"/>
                    </a:lnTo>
                    <a:lnTo>
                      <a:pt x="0" y="336"/>
                    </a:lnTo>
                    <a:lnTo>
                      <a:pt x="1" y="338"/>
                    </a:lnTo>
                    <a:lnTo>
                      <a:pt x="2" y="338"/>
                    </a:lnTo>
                    <a:lnTo>
                      <a:pt x="4" y="338"/>
                    </a:lnTo>
                    <a:lnTo>
                      <a:pt x="4" y="338"/>
                    </a:lnTo>
                    <a:close/>
                    <a:moveTo>
                      <a:pt x="1849" y="74"/>
                    </a:moveTo>
                    <a:lnTo>
                      <a:pt x="1849" y="156"/>
                    </a:lnTo>
                    <a:lnTo>
                      <a:pt x="1849" y="157"/>
                    </a:lnTo>
                    <a:lnTo>
                      <a:pt x="1850" y="157"/>
                    </a:lnTo>
                    <a:lnTo>
                      <a:pt x="1852" y="158"/>
                    </a:lnTo>
                    <a:lnTo>
                      <a:pt x="1853" y="158"/>
                    </a:lnTo>
                    <a:lnTo>
                      <a:pt x="1853" y="158"/>
                    </a:lnTo>
                    <a:lnTo>
                      <a:pt x="1912" y="158"/>
                    </a:lnTo>
                    <a:lnTo>
                      <a:pt x="1913" y="158"/>
                    </a:lnTo>
                    <a:lnTo>
                      <a:pt x="1914" y="157"/>
                    </a:lnTo>
                    <a:lnTo>
                      <a:pt x="1914" y="157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74"/>
                    </a:lnTo>
                    <a:lnTo>
                      <a:pt x="1914" y="72"/>
                    </a:lnTo>
                    <a:lnTo>
                      <a:pt x="1914" y="71"/>
                    </a:lnTo>
                    <a:lnTo>
                      <a:pt x="1913" y="71"/>
                    </a:lnTo>
                    <a:lnTo>
                      <a:pt x="1912" y="71"/>
                    </a:lnTo>
                    <a:lnTo>
                      <a:pt x="1912" y="71"/>
                    </a:lnTo>
                    <a:lnTo>
                      <a:pt x="1853" y="71"/>
                    </a:lnTo>
                    <a:lnTo>
                      <a:pt x="1852" y="71"/>
                    </a:lnTo>
                    <a:lnTo>
                      <a:pt x="1850" y="71"/>
                    </a:lnTo>
                    <a:lnTo>
                      <a:pt x="1849" y="72"/>
                    </a:lnTo>
                    <a:lnTo>
                      <a:pt x="1849" y="74"/>
                    </a:lnTo>
                    <a:lnTo>
                      <a:pt x="1849" y="74"/>
                    </a:lnTo>
                    <a:close/>
                    <a:moveTo>
                      <a:pt x="1968" y="0"/>
                    </a:moveTo>
                    <a:lnTo>
                      <a:pt x="1968" y="80"/>
                    </a:lnTo>
                    <a:lnTo>
                      <a:pt x="1969" y="83"/>
                    </a:lnTo>
                    <a:lnTo>
                      <a:pt x="1969" y="84"/>
                    </a:lnTo>
                    <a:lnTo>
                      <a:pt x="1972" y="85"/>
                    </a:lnTo>
                    <a:lnTo>
                      <a:pt x="1973" y="85"/>
                    </a:lnTo>
                    <a:lnTo>
                      <a:pt x="1973" y="85"/>
                    </a:lnTo>
                    <a:lnTo>
                      <a:pt x="2066" y="85"/>
                    </a:lnTo>
                    <a:lnTo>
                      <a:pt x="2067" y="85"/>
                    </a:lnTo>
                    <a:lnTo>
                      <a:pt x="2068" y="84"/>
                    </a:lnTo>
                    <a:lnTo>
                      <a:pt x="2070" y="83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0"/>
                    </a:lnTo>
                    <a:lnTo>
                      <a:pt x="1968" y="0"/>
                    </a:lnTo>
                    <a:lnTo>
                      <a:pt x="1968" y="0"/>
                    </a:lnTo>
                    <a:close/>
                    <a:moveTo>
                      <a:pt x="2010" y="190"/>
                    </a:moveTo>
                    <a:lnTo>
                      <a:pt x="2010" y="274"/>
                    </a:lnTo>
                    <a:lnTo>
                      <a:pt x="2010" y="274"/>
                    </a:lnTo>
                    <a:lnTo>
                      <a:pt x="2011" y="276"/>
                    </a:lnTo>
                    <a:lnTo>
                      <a:pt x="2012" y="276"/>
                    </a:lnTo>
                    <a:lnTo>
                      <a:pt x="2013" y="277"/>
                    </a:lnTo>
                    <a:lnTo>
                      <a:pt x="2013" y="277"/>
                    </a:lnTo>
                    <a:lnTo>
                      <a:pt x="2072" y="277"/>
                    </a:lnTo>
                    <a:lnTo>
                      <a:pt x="2073" y="276"/>
                    </a:lnTo>
                    <a:lnTo>
                      <a:pt x="2075" y="276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190"/>
                    </a:lnTo>
                    <a:lnTo>
                      <a:pt x="2075" y="189"/>
                    </a:lnTo>
                    <a:lnTo>
                      <a:pt x="2075" y="187"/>
                    </a:lnTo>
                    <a:lnTo>
                      <a:pt x="2073" y="187"/>
                    </a:lnTo>
                    <a:lnTo>
                      <a:pt x="2072" y="187"/>
                    </a:lnTo>
                    <a:lnTo>
                      <a:pt x="2013" y="187"/>
                    </a:lnTo>
                    <a:lnTo>
                      <a:pt x="2012" y="187"/>
                    </a:lnTo>
                    <a:lnTo>
                      <a:pt x="2011" y="187"/>
                    </a:lnTo>
                    <a:lnTo>
                      <a:pt x="2010" y="189"/>
                    </a:lnTo>
                    <a:lnTo>
                      <a:pt x="2010" y="190"/>
                    </a:lnTo>
                    <a:lnTo>
                      <a:pt x="2010" y="190"/>
                    </a:lnTo>
                    <a:close/>
                    <a:moveTo>
                      <a:pt x="2127" y="190"/>
                    </a:moveTo>
                    <a:lnTo>
                      <a:pt x="2127" y="274"/>
                    </a:lnTo>
                    <a:lnTo>
                      <a:pt x="2127" y="274"/>
                    </a:lnTo>
                    <a:lnTo>
                      <a:pt x="2129" y="276"/>
                    </a:lnTo>
                    <a:lnTo>
                      <a:pt x="2130" y="276"/>
                    </a:lnTo>
                    <a:lnTo>
                      <a:pt x="2131" y="277"/>
                    </a:lnTo>
                    <a:lnTo>
                      <a:pt x="2131" y="277"/>
                    </a:lnTo>
                    <a:lnTo>
                      <a:pt x="2190" y="277"/>
                    </a:lnTo>
                    <a:lnTo>
                      <a:pt x="2192" y="276"/>
                    </a:lnTo>
                    <a:lnTo>
                      <a:pt x="2194" y="276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190"/>
                    </a:lnTo>
                    <a:lnTo>
                      <a:pt x="2195" y="189"/>
                    </a:lnTo>
                    <a:lnTo>
                      <a:pt x="2194" y="187"/>
                    </a:lnTo>
                    <a:lnTo>
                      <a:pt x="2192" y="187"/>
                    </a:lnTo>
                    <a:lnTo>
                      <a:pt x="2190" y="187"/>
                    </a:lnTo>
                    <a:lnTo>
                      <a:pt x="2131" y="187"/>
                    </a:lnTo>
                    <a:lnTo>
                      <a:pt x="2130" y="187"/>
                    </a:lnTo>
                    <a:lnTo>
                      <a:pt x="2129" y="187"/>
                    </a:lnTo>
                    <a:lnTo>
                      <a:pt x="2127" y="189"/>
                    </a:lnTo>
                    <a:lnTo>
                      <a:pt x="2127" y="190"/>
                    </a:lnTo>
                    <a:lnTo>
                      <a:pt x="2127" y="190"/>
                    </a:lnTo>
                    <a:close/>
                    <a:moveTo>
                      <a:pt x="2270" y="190"/>
                    </a:moveTo>
                    <a:lnTo>
                      <a:pt x="2270" y="274"/>
                    </a:lnTo>
                    <a:lnTo>
                      <a:pt x="2270" y="274"/>
                    </a:lnTo>
                    <a:lnTo>
                      <a:pt x="2271" y="276"/>
                    </a:lnTo>
                    <a:lnTo>
                      <a:pt x="2273" y="276"/>
                    </a:lnTo>
                    <a:lnTo>
                      <a:pt x="2274" y="277"/>
                    </a:lnTo>
                    <a:lnTo>
                      <a:pt x="2274" y="277"/>
                    </a:lnTo>
                    <a:lnTo>
                      <a:pt x="2333" y="277"/>
                    </a:lnTo>
                    <a:lnTo>
                      <a:pt x="2334" y="276"/>
                    </a:lnTo>
                    <a:lnTo>
                      <a:pt x="2337" y="276"/>
                    </a:lnTo>
                    <a:lnTo>
                      <a:pt x="2337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190"/>
                    </a:lnTo>
                    <a:lnTo>
                      <a:pt x="2337" y="189"/>
                    </a:lnTo>
                    <a:lnTo>
                      <a:pt x="2337" y="187"/>
                    </a:lnTo>
                    <a:lnTo>
                      <a:pt x="2334" y="187"/>
                    </a:lnTo>
                    <a:lnTo>
                      <a:pt x="2333" y="187"/>
                    </a:lnTo>
                    <a:lnTo>
                      <a:pt x="2274" y="187"/>
                    </a:lnTo>
                    <a:lnTo>
                      <a:pt x="2273" y="187"/>
                    </a:lnTo>
                    <a:lnTo>
                      <a:pt x="2271" y="187"/>
                    </a:lnTo>
                    <a:lnTo>
                      <a:pt x="2270" y="189"/>
                    </a:lnTo>
                    <a:lnTo>
                      <a:pt x="2270" y="190"/>
                    </a:lnTo>
                    <a:lnTo>
                      <a:pt x="2270" y="190"/>
                    </a:lnTo>
                    <a:close/>
                    <a:moveTo>
                      <a:pt x="2270" y="0"/>
                    </a:moveTo>
                    <a:lnTo>
                      <a:pt x="2270" y="80"/>
                    </a:lnTo>
                    <a:lnTo>
                      <a:pt x="2270" y="83"/>
                    </a:lnTo>
                    <a:lnTo>
                      <a:pt x="2271" y="84"/>
                    </a:lnTo>
                    <a:lnTo>
                      <a:pt x="2273" y="85"/>
                    </a:lnTo>
                    <a:lnTo>
                      <a:pt x="2274" y="85"/>
                    </a:lnTo>
                    <a:lnTo>
                      <a:pt x="2274" y="85"/>
                    </a:lnTo>
                    <a:lnTo>
                      <a:pt x="2367" y="85"/>
                    </a:lnTo>
                    <a:lnTo>
                      <a:pt x="2369" y="85"/>
                    </a:lnTo>
                    <a:lnTo>
                      <a:pt x="2370" y="84"/>
                    </a:lnTo>
                    <a:lnTo>
                      <a:pt x="2372" y="83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0"/>
                    </a:lnTo>
                    <a:lnTo>
                      <a:pt x="2270" y="0"/>
                    </a:lnTo>
                    <a:lnTo>
                      <a:pt x="2270" y="0"/>
                    </a:lnTo>
                    <a:close/>
                    <a:moveTo>
                      <a:pt x="2322" y="397"/>
                    </a:moveTo>
                    <a:lnTo>
                      <a:pt x="2322" y="392"/>
                    </a:lnTo>
                    <a:lnTo>
                      <a:pt x="2320" y="388"/>
                    </a:lnTo>
                    <a:lnTo>
                      <a:pt x="2318" y="383"/>
                    </a:lnTo>
                    <a:lnTo>
                      <a:pt x="2314" y="379"/>
                    </a:lnTo>
                    <a:lnTo>
                      <a:pt x="2310" y="377"/>
                    </a:lnTo>
                    <a:lnTo>
                      <a:pt x="2306" y="374"/>
                    </a:lnTo>
                    <a:lnTo>
                      <a:pt x="2301" y="373"/>
                    </a:lnTo>
                    <a:lnTo>
                      <a:pt x="2296" y="372"/>
                    </a:lnTo>
                    <a:lnTo>
                      <a:pt x="2291" y="373"/>
                    </a:lnTo>
                    <a:lnTo>
                      <a:pt x="2288" y="374"/>
                    </a:lnTo>
                    <a:lnTo>
                      <a:pt x="2283" y="377"/>
                    </a:lnTo>
                    <a:lnTo>
                      <a:pt x="2279" y="379"/>
                    </a:lnTo>
                    <a:lnTo>
                      <a:pt x="2276" y="383"/>
                    </a:lnTo>
                    <a:lnTo>
                      <a:pt x="2274" y="388"/>
                    </a:lnTo>
                    <a:lnTo>
                      <a:pt x="2273" y="392"/>
                    </a:lnTo>
                    <a:lnTo>
                      <a:pt x="2271" y="397"/>
                    </a:lnTo>
                    <a:lnTo>
                      <a:pt x="2273" y="402"/>
                    </a:lnTo>
                    <a:lnTo>
                      <a:pt x="2274" y="407"/>
                    </a:lnTo>
                    <a:lnTo>
                      <a:pt x="2276" y="411"/>
                    </a:lnTo>
                    <a:lnTo>
                      <a:pt x="2279" y="415"/>
                    </a:lnTo>
                    <a:lnTo>
                      <a:pt x="2283" y="418"/>
                    </a:lnTo>
                    <a:lnTo>
                      <a:pt x="2288" y="420"/>
                    </a:lnTo>
                    <a:lnTo>
                      <a:pt x="2291" y="422"/>
                    </a:lnTo>
                    <a:lnTo>
                      <a:pt x="2296" y="422"/>
                    </a:lnTo>
                    <a:lnTo>
                      <a:pt x="2301" y="422"/>
                    </a:lnTo>
                    <a:lnTo>
                      <a:pt x="2306" y="420"/>
                    </a:lnTo>
                    <a:lnTo>
                      <a:pt x="2310" y="418"/>
                    </a:lnTo>
                    <a:lnTo>
                      <a:pt x="2314" y="415"/>
                    </a:lnTo>
                    <a:lnTo>
                      <a:pt x="2318" y="411"/>
                    </a:lnTo>
                    <a:lnTo>
                      <a:pt x="2320" y="407"/>
                    </a:lnTo>
                    <a:lnTo>
                      <a:pt x="2322" y="402"/>
                    </a:lnTo>
                    <a:lnTo>
                      <a:pt x="2322" y="397"/>
                    </a:lnTo>
                    <a:lnTo>
                      <a:pt x="2322" y="397"/>
                    </a:lnTo>
                    <a:close/>
                    <a:moveTo>
                      <a:pt x="2251" y="547"/>
                    </a:moveTo>
                    <a:lnTo>
                      <a:pt x="2367" y="547"/>
                    </a:lnTo>
                    <a:lnTo>
                      <a:pt x="2369" y="547"/>
                    </a:lnTo>
                    <a:lnTo>
                      <a:pt x="2370" y="547"/>
                    </a:lnTo>
                    <a:lnTo>
                      <a:pt x="2372" y="547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495"/>
                    </a:lnTo>
                    <a:lnTo>
                      <a:pt x="2372" y="495"/>
                    </a:lnTo>
                    <a:lnTo>
                      <a:pt x="2370" y="494"/>
                    </a:lnTo>
                    <a:lnTo>
                      <a:pt x="2369" y="493"/>
                    </a:lnTo>
                    <a:lnTo>
                      <a:pt x="2367" y="493"/>
                    </a:lnTo>
                    <a:lnTo>
                      <a:pt x="2251" y="493"/>
                    </a:lnTo>
                    <a:lnTo>
                      <a:pt x="2251" y="493"/>
                    </a:lnTo>
                    <a:lnTo>
                      <a:pt x="2250" y="494"/>
                    </a:lnTo>
                    <a:lnTo>
                      <a:pt x="2250" y="495"/>
                    </a:lnTo>
                    <a:lnTo>
                      <a:pt x="2249" y="495"/>
                    </a:lnTo>
                    <a:lnTo>
                      <a:pt x="2249" y="495"/>
                    </a:lnTo>
                    <a:lnTo>
                      <a:pt x="2249" y="546"/>
                    </a:lnTo>
                    <a:lnTo>
                      <a:pt x="2250" y="547"/>
                    </a:lnTo>
                    <a:lnTo>
                      <a:pt x="2250" y="547"/>
                    </a:lnTo>
                    <a:lnTo>
                      <a:pt x="2251" y="547"/>
                    </a:lnTo>
                    <a:lnTo>
                      <a:pt x="2251" y="547"/>
                    </a:lnTo>
                    <a:lnTo>
                      <a:pt x="2251" y="547"/>
                    </a:lnTo>
                    <a:close/>
                    <a:moveTo>
                      <a:pt x="2063" y="547"/>
                    </a:moveTo>
                    <a:lnTo>
                      <a:pt x="2179" y="547"/>
                    </a:lnTo>
                    <a:lnTo>
                      <a:pt x="2180" y="547"/>
                    </a:lnTo>
                    <a:lnTo>
                      <a:pt x="2181" y="547"/>
                    </a:lnTo>
                    <a:lnTo>
                      <a:pt x="2181" y="547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495"/>
                    </a:lnTo>
                    <a:lnTo>
                      <a:pt x="2181" y="495"/>
                    </a:lnTo>
                    <a:lnTo>
                      <a:pt x="2181" y="494"/>
                    </a:lnTo>
                    <a:lnTo>
                      <a:pt x="2180" y="493"/>
                    </a:lnTo>
                    <a:lnTo>
                      <a:pt x="2179" y="493"/>
                    </a:lnTo>
                    <a:lnTo>
                      <a:pt x="2179" y="493"/>
                    </a:lnTo>
                    <a:lnTo>
                      <a:pt x="2063" y="493"/>
                    </a:lnTo>
                    <a:lnTo>
                      <a:pt x="2062" y="493"/>
                    </a:lnTo>
                    <a:lnTo>
                      <a:pt x="2062" y="494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546"/>
                    </a:lnTo>
                    <a:lnTo>
                      <a:pt x="2061" y="547"/>
                    </a:lnTo>
                    <a:lnTo>
                      <a:pt x="2062" y="547"/>
                    </a:lnTo>
                    <a:lnTo>
                      <a:pt x="2062" y="547"/>
                    </a:lnTo>
                    <a:lnTo>
                      <a:pt x="2063" y="547"/>
                    </a:lnTo>
                    <a:lnTo>
                      <a:pt x="2063" y="547"/>
                    </a:lnTo>
                    <a:close/>
                    <a:moveTo>
                      <a:pt x="1875" y="547"/>
                    </a:moveTo>
                    <a:lnTo>
                      <a:pt x="1989" y="547"/>
                    </a:lnTo>
                    <a:lnTo>
                      <a:pt x="1991" y="547"/>
                    </a:lnTo>
                    <a:lnTo>
                      <a:pt x="1992" y="547"/>
                    </a:lnTo>
                    <a:lnTo>
                      <a:pt x="1993" y="547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495"/>
                    </a:lnTo>
                    <a:lnTo>
                      <a:pt x="1993" y="495"/>
                    </a:lnTo>
                    <a:lnTo>
                      <a:pt x="1992" y="494"/>
                    </a:lnTo>
                    <a:lnTo>
                      <a:pt x="1991" y="493"/>
                    </a:lnTo>
                    <a:lnTo>
                      <a:pt x="1989" y="493"/>
                    </a:lnTo>
                    <a:lnTo>
                      <a:pt x="1989" y="493"/>
                    </a:lnTo>
                    <a:lnTo>
                      <a:pt x="1875" y="493"/>
                    </a:lnTo>
                    <a:lnTo>
                      <a:pt x="1874" y="493"/>
                    </a:lnTo>
                    <a:lnTo>
                      <a:pt x="1873" y="494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546"/>
                    </a:lnTo>
                    <a:lnTo>
                      <a:pt x="1872" y="547"/>
                    </a:lnTo>
                    <a:lnTo>
                      <a:pt x="1873" y="547"/>
                    </a:lnTo>
                    <a:lnTo>
                      <a:pt x="1874" y="547"/>
                    </a:lnTo>
                    <a:lnTo>
                      <a:pt x="1875" y="547"/>
                    </a:lnTo>
                    <a:lnTo>
                      <a:pt x="1875" y="547"/>
                    </a:lnTo>
                    <a:close/>
                    <a:moveTo>
                      <a:pt x="1968" y="397"/>
                    </a:moveTo>
                    <a:lnTo>
                      <a:pt x="1968" y="392"/>
                    </a:lnTo>
                    <a:lnTo>
                      <a:pt x="1967" y="388"/>
                    </a:lnTo>
                    <a:lnTo>
                      <a:pt x="1964" y="383"/>
                    </a:lnTo>
                    <a:lnTo>
                      <a:pt x="1962" y="379"/>
                    </a:lnTo>
                    <a:lnTo>
                      <a:pt x="1958" y="377"/>
                    </a:lnTo>
                    <a:lnTo>
                      <a:pt x="1954" y="374"/>
                    </a:lnTo>
                    <a:lnTo>
                      <a:pt x="1949" y="373"/>
                    </a:lnTo>
                    <a:lnTo>
                      <a:pt x="1943" y="372"/>
                    </a:lnTo>
                    <a:lnTo>
                      <a:pt x="1939" y="373"/>
                    </a:lnTo>
                    <a:lnTo>
                      <a:pt x="1934" y="374"/>
                    </a:lnTo>
                    <a:lnTo>
                      <a:pt x="1931" y="377"/>
                    </a:lnTo>
                    <a:lnTo>
                      <a:pt x="1927" y="379"/>
                    </a:lnTo>
                    <a:lnTo>
                      <a:pt x="1924" y="383"/>
                    </a:lnTo>
                    <a:lnTo>
                      <a:pt x="1923" y="388"/>
                    </a:lnTo>
                    <a:lnTo>
                      <a:pt x="1922" y="392"/>
                    </a:lnTo>
                    <a:lnTo>
                      <a:pt x="1921" y="397"/>
                    </a:lnTo>
                    <a:lnTo>
                      <a:pt x="1922" y="402"/>
                    </a:lnTo>
                    <a:lnTo>
                      <a:pt x="1923" y="407"/>
                    </a:lnTo>
                    <a:lnTo>
                      <a:pt x="1924" y="411"/>
                    </a:lnTo>
                    <a:lnTo>
                      <a:pt x="1927" y="415"/>
                    </a:lnTo>
                    <a:lnTo>
                      <a:pt x="1931" y="418"/>
                    </a:lnTo>
                    <a:lnTo>
                      <a:pt x="1934" y="420"/>
                    </a:lnTo>
                    <a:lnTo>
                      <a:pt x="1939" y="422"/>
                    </a:lnTo>
                    <a:lnTo>
                      <a:pt x="1943" y="422"/>
                    </a:lnTo>
                    <a:lnTo>
                      <a:pt x="1949" y="422"/>
                    </a:lnTo>
                    <a:lnTo>
                      <a:pt x="1954" y="420"/>
                    </a:lnTo>
                    <a:lnTo>
                      <a:pt x="1958" y="418"/>
                    </a:lnTo>
                    <a:lnTo>
                      <a:pt x="1962" y="415"/>
                    </a:lnTo>
                    <a:lnTo>
                      <a:pt x="1964" y="411"/>
                    </a:lnTo>
                    <a:lnTo>
                      <a:pt x="1967" y="407"/>
                    </a:lnTo>
                    <a:lnTo>
                      <a:pt x="1968" y="402"/>
                    </a:lnTo>
                    <a:lnTo>
                      <a:pt x="1968" y="397"/>
                    </a:lnTo>
                    <a:lnTo>
                      <a:pt x="1968" y="397"/>
                    </a:lnTo>
                    <a:close/>
                    <a:moveTo>
                      <a:pt x="2835" y="295"/>
                    </a:moveTo>
                    <a:lnTo>
                      <a:pt x="2835" y="290"/>
                    </a:lnTo>
                    <a:lnTo>
                      <a:pt x="2834" y="285"/>
                    </a:lnTo>
                    <a:lnTo>
                      <a:pt x="2831" y="281"/>
                    </a:lnTo>
                    <a:lnTo>
                      <a:pt x="2828" y="277"/>
                    </a:lnTo>
                    <a:lnTo>
                      <a:pt x="2824" y="274"/>
                    </a:lnTo>
                    <a:lnTo>
                      <a:pt x="2820" y="272"/>
                    </a:lnTo>
                    <a:lnTo>
                      <a:pt x="2815" y="271"/>
                    </a:lnTo>
                    <a:lnTo>
                      <a:pt x="2810" y="269"/>
                    </a:lnTo>
                    <a:lnTo>
                      <a:pt x="2805" y="271"/>
                    </a:lnTo>
                    <a:lnTo>
                      <a:pt x="2801" y="272"/>
                    </a:lnTo>
                    <a:lnTo>
                      <a:pt x="2796" y="274"/>
                    </a:lnTo>
                    <a:lnTo>
                      <a:pt x="2793" y="277"/>
                    </a:lnTo>
                    <a:lnTo>
                      <a:pt x="2790" y="281"/>
                    </a:lnTo>
                    <a:lnTo>
                      <a:pt x="2788" y="285"/>
                    </a:lnTo>
                    <a:lnTo>
                      <a:pt x="2786" y="290"/>
                    </a:lnTo>
                    <a:lnTo>
                      <a:pt x="2785" y="295"/>
                    </a:lnTo>
                    <a:lnTo>
                      <a:pt x="2786" y="300"/>
                    </a:lnTo>
                    <a:lnTo>
                      <a:pt x="2788" y="305"/>
                    </a:lnTo>
                    <a:lnTo>
                      <a:pt x="2790" y="309"/>
                    </a:lnTo>
                    <a:lnTo>
                      <a:pt x="2793" y="312"/>
                    </a:lnTo>
                    <a:lnTo>
                      <a:pt x="2796" y="315"/>
                    </a:lnTo>
                    <a:lnTo>
                      <a:pt x="2801" y="317"/>
                    </a:lnTo>
                    <a:lnTo>
                      <a:pt x="2805" y="319"/>
                    </a:lnTo>
                    <a:lnTo>
                      <a:pt x="2810" y="320"/>
                    </a:lnTo>
                    <a:lnTo>
                      <a:pt x="2815" y="319"/>
                    </a:lnTo>
                    <a:lnTo>
                      <a:pt x="2820" y="317"/>
                    </a:lnTo>
                    <a:lnTo>
                      <a:pt x="2824" y="315"/>
                    </a:lnTo>
                    <a:lnTo>
                      <a:pt x="2828" y="312"/>
                    </a:lnTo>
                    <a:lnTo>
                      <a:pt x="2831" y="309"/>
                    </a:lnTo>
                    <a:lnTo>
                      <a:pt x="2834" y="305"/>
                    </a:lnTo>
                    <a:lnTo>
                      <a:pt x="2835" y="300"/>
                    </a:lnTo>
                    <a:lnTo>
                      <a:pt x="2835" y="295"/>
                    </a:lnTo>
                    <a:lnTo>
                      <a:pt x="2835" y="295"/>
                    </a:lnTo>
                    <a:close/>
                    <a:moveTo>
                      <a:pt x="2835" y="473"/>
                    </a:moveTo>
                    <a:lnTo>
                      <a:pt x="2835" y="468"/>
                    </a:lnTo>
                    <a:lnTo>
                      <a:pt x="2834" y="463"/>
                    </a:lnTo>
                    <a:lnTo>
                      <a:pt x="2831" y="459"/>
                    </a:lnTo>
                    <a:lnTo>
                      <a:pt x="2828" y="455"/>
                    </a:lnTo>
                    <a:lnTo>
                      <a:pt x="2824" y="451"/>
                    </a:lnTo>
                    <a:lnTo>
                      <a:pt x="2820" y="449"/>
                    </a:lnTo>
                    <a:lnTo>
                      <a:pt x="2815" y="447"/>
                    </a:lnTo>
                    <a:lnTo>
                      <a:pt x="2810" y="447"/>
                    </a:lnTo>
                    <a:lnTo>
                      <a:pt x="2805" y="447"/>
                    </a:lnTo>
                    <a:lnTo>
                      <a:pt x="2801" y="449"/>
                    </a:lnTo>
                    <a:lnTo>
                      <a:pt x="2796" y="451"/>
                    </a:lnTo>
                    <a:lnTo>
                      <a:pt x="2793" y="455"/>
                    </a:lnTo>
                    <a:lnTo>
                      <a:pt x="2790" y="459"/>
                    </a:lnTo>
                    <a:lnTo>
                      <a:pt x="2788" y="463"/>
                    </a:lnTo>
                    <a:lnTo>
                      <a:pt x="2786" y="468"/>
                    </a:lnTo>
                    <a:lnTo>
                      <a:pt x="2785" y="473"/>
                    </a:lnTo>
                    <a:lnTo>
                      <a:pt x="2786" y="478"/>
                    </a:lnTo>
                    <a:lnTo>
                      <a:pt x="2788" y="481"/>
                    </a:lnTo>
                    <a:lnTo>
                      <a:pt x="2790" y="487"/>
                    </a:lnTo>
                    <a:lnTo>
                      <a:pt x="2793" y="490"/>
                    </a:lnTo>
                    <a:lnTo>
                      <a:pt x="2796" y="493"/>
                    </a:lnTo>
                    <a:lnTo>
                      <a:pt x="2801" y="495"/>
                    </a:lnTo>
                    <a:lnTo>
                      <a:pt x="2805" y="497"/>
                    </a:lnTo>
                    <a:lnTo>
                      <a:pt x="2810" y="498"/>
                    </a:lnTo>
                    <a:lnTo>
                      <a:pt x="2815" y="497"/>
                    </a:lnTo>
                    <a:lnTo>
                      <a:pt x="2820" y="495"/>
                    </a:lnTo>
                    <a:lnTo>
                      <a:pt x="2824" y="493"/>
                    </a:lnTo>
                    <a:lnTo>
                      <a:pt x="2828" y="490"/>
                    </a:lnTo>
                    <a:lnTo>
                      <a:pt x="2831" y="487"/>
                    </a:lnTo>
                    <a:lnTo>
                      <a:pt x="2834" y="481"/>
                    </a:lnTo>
                    <a:lnTo>
                      <a:pt x="2835" y="478"/>
                    </a:lnTo>
                    <a:lnTo>
                      <a:pt x="2835" y="473"/>
                    </a:lnTo>
                    <a:lnTo>
                      <a:pt x="2835" y="473"/>
                    </a:lnTo>
                    <a:close/>
                    <a:moveTo>
                      <a:pt x="2835" y="651"/>
                    </a:moveTo>
                    <a:lnTo>
                      <a:pt x="2835" y="646"/>
                    </a:lnTo>
                    <a:lnTo>
                      <a:pt x="2834" y="641"/>
                    </a:lnTo>
                    <a:lnTo>
                      <a:pt x="2831" y="636"/>
                    </a:lnTo>
                    <a:lnTo>
                      <a:pt x="2828" y="633"/>
                    </a:lnTo>
                    <a:lnTo>
                      <a:pt x="2824" y="629"/>
                    </a:lnTo>
                    <a:lnTo>
                      <a:pt x="2820" y="627"/>
                    </a:lnTo>
                    <a:lnTo>
                      <a:pt x="2815" y="625"/>
                    </a:lnTo>
                    <a:lnTo>
                      <a:pt x="2810" y="625"/>
                    </a:lnTo>
                    <a:lnTo>
                      <a:pt x="2805" y="625"/>
                    </a:lnTo>
                    <a:lnTo>
                      <a:pt x="2801" y="627"/>
                    </a:lnTo>
                    <a:lnTo>
                      <a:pt x="2796" y="629"/>
                    </a:lnTo>
                    <a:lnTo>
                      <a:pt x="2793" y="633"/>
                    </a:lnTo>
                    <a:lnTo>
                      <a:pt x="2790" y="636"/>
                    </a:lnTo>
                    <a:lnTo>
                      <a:pt x="2788" y="641"/>
                    </a:lnTo>
                    <a:lnTo>
                      <a:pt x="2786" y="646"/>
                    </a:lnTo>
                    <a:lnTo>
                      <a:pt x="2785" y="651"/>
                    </a:lnTo>
                    <a:lnTo>
                      <a:pt x="2786" y="654"/>
                    </a:lnTo>
                    <a:lnTo>
                      <a:pt x="2788" y="660"/>
                    </a:lnTo>
                    <a:lnTo>
                      <a:pt x="2790" y="665"/>
                    </a:lnTo>
                    <a:lnTo>
                      <a:pt x="2793" y="668"/>
                    </a:lnTo>
                    <a:lnTo>
                      <a:pt x="2796" y="671"/>
                    </a:lnTo>
                    <a:lnTo>
                      <a:pt x="2801" y="673"/>
                    </a:lnTo>
                    <a:lnTo>
                      <a:pt x="2805" y="675"/>
                    </a:lnTo>
                    <a:lnTo>
                      <a:pt x="2810" y="675"/>
                    </a:lnTo>
                    <a:lnTo>
                      <a:pt x="2815" y="675"/>
                    </a:lnTo>
                    <a:lnTo>
                      <a:pt x="2820" y="673"/>
                    </a:lnTo>
                    <a:lnTo>
                      <a:pt x="2824" y="671"/>
                    </a:lnTo>
                    <a:lnTo>
                      <a:pt x="2828" y="668"/>
                    </a:lnTo>
                    <a:lnTo>
                      <a:pt x="2831" y="665"/>
                    </a:lnTo>
                    <a:lnTo>
                      <a:pt x="2834" y="660"/>
                    </a:lnTo>
                    <a:lnTo>
                      <a:pt x="2835" y="654"/>
                    </a:lnTo>
                    <a:lnTo>
                      <a:pt x="2835" y="651"/>
                    </a:lnTo>
                    <a:lnTo>
                      <a:pt x="2835" y="65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6" name=""/>
              <p:cNvSpPr/>
              <p:nvPr/>
            </p:nvSpPr>
            <p:spPr>
              <a:xfrm>
                <a:off x="5268960" y="295524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52" y="86"/>
                    </a:lnTo>
                    <a:lnTo>
                      <a:pt x="153" y="86"/>
                    </a:lnTo>
                    <a:lnTo>
                      <a:pt x="153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7" name=""/>
              <p:cNvSpPr/>
              <p:nvPr/>
            </p:nvSpPr>
            <p:spPr>
              <a:xfrm>
                <a:off x="5398560" y="2955240"/>
                <a:ext cx="111960" cy="6660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1" y="86"/>
                    </a:lnTo>
                    <a:lnTo>
                      <a:pt x="153" y="86"/>
                    </a:lnTo>
                    <a:lnTo>
                      <a:pt x="154" y="84"/>
                    </a:lnTo>
                    <a:lnTo>
                      <a:pt x="155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5" y="2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8" name=""/>
              <p:cNvSpPr/>
              <p:nvPr/>
            </p:nvSpPr>
            <p:spPr>
              <a:xfrm>
                <a:off x="5530680" y="2955240"/>
                <a:ext cx="109080" cy="6660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3" y="86"/>
                    </a:moveTo>
                    <a:lnTo>
                      <a:pt x="152" y="86"/>
                    </a:lnTo>
                    <a:lnTo>
                      <a:pt x="152" y="86"/>
                    </a:lnTo>
                    <a:lnTo>
                      <a:pt x="153" y="84"/>
                    </a:lnTo>
                    <a:lnTo>
                      <a:pt x="154" y="83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4"/>
                    </a:lnTo>
                    <a:lnTo>
                      <a:pt x="154" y="2"/>
                    </a:lnTo>
                    <a:lnTo>
                      <a:pt x="153" y="1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3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9" name=""/>
              <p:cNvSpPr/>
              <p:nvPr/>
            </p:nvSpPr>
            <p:spPr>
              <a:xfrm>
                <a:off x="5661360" y="2955240"/>
                <a:ext cx="110880" cy="6660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2" y="86"/>
                    </a:lnTo>
                    <a:lnTo>
                      <a:pt x="154" y="86"/>
                    </a:lnTo>
                    <a:lnTo>
                      <a:pt x="156" y="84"/>
                    </a:lnTo>
                    <a:lnTo>
                      <a:pt x="157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6" y="1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0" name=""/>
              <p:cNvSpPr/>
              <p:nvPr/>
            </p:nvSpPr>
            <p:spPr>
              <a:xfrm>
                <a:off x="5793480" y="2955240"/>
                <a:ext cx="108000" cy="6660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49" y="86"/>
                    </a:lnTo>
                    <a:lnTo>
                      <a:pt x="150" y="86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1" name=""/>
              <p:cNvSpPr/>
              <p:nvPr/>
            </p:nvSpPr>
            <p:spPr>
              <a:xfrm>
                <a:off x="5145120" y="2648880"/>
                <a:ext cx="110880" cy="49320"/>
              </a:xfrm>
              <a:custGeom>
                <a:avLst/>
                <a:gdLst/>
                <a:ahLst/>
                <a:rect l="l" t="t" r="r" b="b"/>
                <a:pathLst>
                  <a:path w="155" h="63">
                    <a:moveTo>
                      <a:pt x="4" y="63"/>
                    </a:moveTo>
                    <a:lnTo>
                      <a:pt x="151" y="63"/>
                    </a:lnTo>
                    <a:lnTo>
                      <a:pt x="153" y="63"/>
                    </a:lnTo>
                    <a:lnTo>
                      <a:pt x="154" y="63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2" name=""/>
              <p:cNvSpPr/>
              <p:nvPr/>
            </p:nvSpPr>
            <p:spPr>
              <a:xfrm>
                <a:off x="5392440" y="2648880"/>
                <a:ext cx="86400" cy="4932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4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3" name=""/>
              <p:cNvSpPr/>
              <p:nvPr/>
            </p:nvSpPr>
            <p:spPr>
              <a:xfrm>
                <a:off x="5500800" y="2648880"/>
                <a:ext cx="85320" cy="49320"/>
              </a:xfrm>
              <a:custGeom>
                <a:avLst/>
                <a:gdLst/>
                <a:ahLst/>
                <a:rect l="l" t="t" r="r" b="b"/>
                <a:pathLst>
                  <a:path w="120" h="63">
                    <a:moveTo>
                      <a:pt x="2" y="63"/>
                    </a:moveTo>
                    <a:lnTo>
                      <a:pt x="117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4" name=""/>
              <p:cNvSpPr/>
              <p:nvPr/>
            </p:nvSpPr>
            <p:spPr>
              <a:xfrm>
                <a:off x="5605920" y="2648880"/>
                <a:ext cx="88200" cy="4932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2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5" name=""/>
              <p:cNvSpPr/>
              <p:nvPr/>
            </p:nvSpPr>
            <p:spPr>
              <a:xfrm>
                <a:off x="5833440" y="2648880"/>
                <a:ext cx="85320" cy="49320"/>
              </a:xfrm>
              <a:custGeom>
                <a:avLst/>
                <a:gdLst/>
                <a:ahLst/>
                <a:rect l="l" t="t" r="r" b="b"/>
                <a:pathLst>
                  <a:path w="121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6" name=""/>
              <p:cNvSpPr/>
              <p:nvPr/>
            </p:nvSpPr>
            <p:spPr>
              <a:xfrm>
                <a:off x="5940000" y="2648880"/>
                <a:ext cx="86400" cy="4932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1" y="63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2" y="1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5940000" y="2411640"/>
                <a:ext cx="86400" cy="4932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1" y="64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8" name=""/>
              <p:cNvSpPr/>
              <p:nvPr/>
            </p:nvSpPr>
            <p:spPr>
              <a:xfrm>
                <a:off x="5833440" y="2411640"/>
                <a:ext cx="85320" cy="49320"/>
              </a:xfrm>
              <a:custGeom>
                <a:avLst/>
                <a:gdLst/>
                <a:ahLst/>
                <a:rect l="l" t="t" r="r" b="b"/>
                <a:pathLst>
                  <a:path w="121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9" name=""/>
              <p:cNvSpPr/>
              <p:nvPr/>
            </p:nvSpPr>
            <p:spPr>
              <a:xfrm>
                <a:off x="5605920" y="2411640"/>
                <a:ext cx="88200" cy="4932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2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0" name=""/>
              <p:cNvSpPr/>
              <p:nvPr/>
            </p:nvSpPr>
            <p:spPr>
              <a:xfrm>
                <a:off x="5500800" y="2411640"/>
                <a:ext cx="85320" cy="4932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2" y="64"/>
                    </a:moveTo>
                    <a:lnTo>
                      <a:pt x="117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1" name=""/>
              <p:cNvSpPr/>
              <p:nvPr/>
            </p:nvSpPr>
            <p:spPr>
              <a:xfrm>
                <a:off x="5392440" y="2411640"/>
                <a:ext cx="86400" cy="4932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4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3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2" name=""/>
              <p:cNvSpPr/>
              <p:nvPr/>
            </p:nvSpPr>
            <p:spPr>
              <a:xfrm>
                <a:off x="5145120" y="2411640"/>
                <a:ext cx="110880" cy="49320"/>
              </a:xfrm>
              <a:custGeom>
                <a:avLst/>
                <a:gdLst/>
                <a:ahLst/>
                <a:rect l="l" t="t" r="r" b="b"/>
                <a:pathLst>
                  <a:path w="155" h="64">
                    <a:moveTo>
                      <a:pt x="4" y="64"/>
                    </a:moveTo>
                    <a:lnTo>
                      <a:pt x="151" y="64"/>
                    </a:lnTo>
                    <a:lnTo>
                      <a:pt x="153" y="64"/>
                    </a:lnTo>
                    <a:lnTo>
                      <a:pt x="154" y="64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3" name=""/>
              <p:cNvSpPr/>
              <p:nvPr/>
            </p:nvSpPr>
            <p:spPr>
              <a:xfrm>
                <a:off x="6460560" y="2254320"/>
                <a:ext cx="45360" cy="6660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5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4" name=""/>
              <p:cNvSpPr/>
              <p:nvPr/>
            </p:nvSpPr>
            <p:spPr>
              <a:xfrm>
                <a:off x="6544440" y="2198520"/>
                <a:ext cx="72360" cy="6660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98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5" name=""/>
              <p:cNvSpPr/>
              <p:nvPr/>
            </p:nvSpPr>
            <p:spPr>
              <a:xfrm>
                <a:off x="6574320" y="2344680"/>
                <a:ext cx="45720" cy="68040"/>
              </a:xfrm>
              <a:custGeom>
                <a:avLst/>
                <a:gdLst/>
                <a:ahLst/>
                <a:rect l="l" t="t" r="r" b="b"/>
                <a:pathLst>
                  <a:path w="65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62" y="90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6" name=""/>
              <p:cNvSpPr/>
              <p:nvPr/>
            </p:nvSpPr>
            <p:spPr>
              <a:xfrm>
                <a:off x="6658200" y="2344680"/>
                <a:ext cx="46440" cy="6804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7" y="89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7" name=""/>
              <p:cNvSpPr/>
              <p:nvPr/>
            </p:nvSpPr>
            <p:spPr>
              <a:xfrm>
                <a:off x="6759360" y="2344680"/>
                <a:ext cx="48240" cy="6804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7" y="89"/>
                    </a:lnTo>
                    <a:lnTo>
                      <a:pt x="67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8" name=""/>
              <p:cNvSpPr/>
              <p:nvPr/>
            </p:nvSpPr>
            <p:spPr>
              <a:xfrm>
                <a:off x="6759360" y="2198520"/>
                <a:ext cx="72360" cy="6660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0" y="0"/>
                    </a:moveTo>
                    <a:lnTo>
                      <a:pt x="0" y="80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97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9" name=""/>
              <p:cNvSpPr/>
              <p:nvPr/>
            </p:nvSpPr>
            <p:spPr>
              <a:xfrm>
                <a:off x="6760440" y="2487600"/>
                <a:ext cx="35280" cy="3852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25"/>
                    </a:moveTo>
                    <a:lnTo>
                      <a:pt x="51" y="20"/>
                    </a:lnTo>
                    <a:lnTo>
                      <a:pt x="49" y="16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7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7" y="39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0" name=""/>
              <p:cNvSpPr/>
              <p:nvPr/>
            </p:nvSpPr>
            <p:spPr>
              <a:xfrm>
                <a:off x="6743520" y="2580840"/>
                <a:ext cx="88200" cy="43560"/>
              </a:xfrm>
              <a:custGeom>
                <a:avLst/>
                <a:gdLst/>
                <a:ahLst/>
                <a:rect l="l" t="t" r="r" b="b"/>
                <a:pathLst>
                  <a:path w="123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1" name=""/>
              <p:cNvSpPr/>
              <p:nvPr/>
            </p:nvSpPr>
            <p:spPr>
              <a:xfrm>
                <a:off x="6609960" y="2580840"/>
                <a:ext cx="86400" cy="4356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2" name=""/>
              <p:cNvSpPr/>
              <p:nvPr/>
            </p:nvSpPr>
            <p:spPr>
              <a:xfrm>
                <a:off x="6476040" y="2580840"/>
                <a:ext cx="86400" cy="43560"/>
              </a:xfrm>
              <a:custGeom>
                <a:avLst/>
                <a:gdLst/>
                <a:ahLst/>
                <a:rect l="l" t="t" r="r" b="b"/>
                <a:pathLst>
                  <a:path w="121" h="54">
                    <a:moveTo>
                      <a:pt x="3" y="54"/>
                    </a:moveTo>
                    <a:lnTo>
                      <a:pt x="117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3" name=""/>
              <p:cNvSpPr/>
              <p:nvPr/>
            </p:nvSpPr>
            <p:spPr>
              <a:xfrm>
                <a:off x="6510240" y="2487600"/>
                <a:ext cx="33840" cy="3852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47" y="25"/>
                    </a:moveTo>
                    <a:lnTo>
                      <a:pt x="47" y="20"/>
                    </a:lnTo>
                    <a:lnTo>
                      <a:pt x="46" y="16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3"/>
                    </a:lnTo>
                    <a:lnTo>
                      <a:pt x="10" y="46"/>
                    </a:lnTo>
                    <a:lnTo>
                      <a:pt x="13" y="48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3" y="48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7" y="30"/>
                    </a:lnTo>
                    <a:lnTo>
                      <a:pt x="47" y="25"/>
                    </a:lnTo>
                    <a:lnTo>
                      <a:pt x="47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4" name=""/>
              <p:cNvSpPr/>
              <p:nvPr/>
            </p:nvSpPr>
            <p:spPr>
              <a:xfrm>
                <a:off x="7125840" y="2408400"/>
                <a:ext cx="35640" cy="385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5"/>
                    </a:lnTo>
                    <a:lnTo>
                      <a:pt x="35" y="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6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5" name=""/>
              <p:cNvSpPr/>
              <p:nvPr/>
            </p:nvSpPr>
            <p:spPr>
              <a:xfrm>
                <a:off x="7125840" y="2546640"/>
                <a:ext cx="35640" cy="3852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4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6" name=""/>
              <p:cNvSpPr/>
              <p:nvPr/>
            </p:nvSpPr>
            <p:spPr>
              <a:xfrm>
                <a:off x="7125840" y="2684880"/>
                <a:ext cx="35640" cy="3708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1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5"/>
                    </a:lnTo>
                    <a:lnTo>
                      <a:pt x="50" y="29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7" name=""/>
              <p:cNvSpPr/>
              <p:nvPr/>
            </p:nvSpPr>
            <p:spPr>
              <a:xfrm>
                <a:off x="6277320" y="2195640"/>
                <a:ext cx="756360" cy="2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8" name=""/>
              <p:cNvSpPr/>
              <p:nvPr/>
            </p:nvSpPr>
            <p:spPr>
              <a:xfrm>
                <a:off x="6277320" y="2195640"/>
                <a:ext cx="756360" cy="212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9" name=""/>
              <p:cNvSpPr/>
              <p:nvPr/>
            </p:nvSpPr>
            <p:spPr>
              <a:xfrm>
                <a:off x="8148600" y="2250000"/>
                <a:ext cx="774720" cy="506520"/>
              </a:xfrm>
              <a:custGeom>
                <a:avLst/>
                <a:gdLst/>
                <a:ahLst/>
                <a:rect l="l" t="t" r="r" b="b"/>
                <a:pathLst>
                  <a:path w="1091" h="653">
                    <a:moveTo>
                      <a:pt x="775" y="559"/>
                    </a:moveTo>
                    <a:lnTo>
                      <a:pt x="795" y="548"/>
                    </a:lnTo>
                    <a:lnTo>
                      <a:pt x="795" y="525"/>
                    </a:lnTo>
                    <a:lnTo>
                      <a:pt x="775" y="514"/>
                    </a:lnTo>
                    <a:lnTo>
                      <a:pt x="754" y="525"/>
                    </a:lnTo>
                    <a:lnTo>
                      <a:pt x="754" y="548"/>
                    </a:lnTo>
                    <a:lnTo>
                      <a:pt x="775" y="559"/>
                    </a:lnTo>
                    <a:close/>
                    <a:moveTo>
                      <a:pt x="829" y="559"/>
                    </a:moveTo>
                    <a:lnTo>
                      <a:pt x="849" y="548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48"/>
                    </a:lnTo>
                    <a:lnTo>
                      <a:pt x="829" y="559"/>
                    </a:lnTo>
                    <a:close/>
                    <a:moveTo>
                      <a:pt x="883" y="559"/>
                    </a:moveTo>
                    <a:lnTo>
                      <a:pt x="904" y="548"/>
                    </a:lnTo>
                    <a:lnTo>
                      <a:pt x="904" y="525"/>
                    </a:lnTo>
                    <a:lnTo>
                      <a:pt x="883" y="514"/>
                    </a:lnTo>
                    <a:lnTo>
                      <a:pt x="863" y="525"/>
                    </a:lnTo>
                    <a:lnTo>
                      <a:pt x="863" y="548"/>
                    </a:lnTo>
                    <a:lnTo>
                      <a:pt x="883" y="559"/>
                    </a:lnTo>
                    <a:close/>
                    <a:moveTo>
                      <a:pt x="938" y="559"/>
                    </a:moveTo>
                    <a:lnTo>
                      <a:pt x="958" y="548"/>
                    </a:lnTo>
                    <a:lnTo>
                      <a:pt x="958" y="525"/>
                    </a:lnTo>
                    <a:lnTo>
                      <a:pt x="938" y="514"/>
                    </a:lnTo>
                    <a:lnTo>
                      <a:pt x="916" y="525"/>
                    </a:lnTo>
                    <a:lnTo>
                      <a:pt x="916" y="548"/>
                    </a:lnTo>
                    <a:lnTo>
                      <a:pt x="938" y="559"/>
                    </a:lnTo>
                    <a:close/>
                    <a:moveTo>
                      <a:pt x="666" y="559"/>
                    </a:moveTo>
                    <a:lnTo>
                      <a:pt x="686" y="548"/>
                    </a:lnTo>
                    <a:lnTo>
                      <a:pt x="686" y="525"/>
                    </a:lnTo>
                    <a:lnTo>
                      <a:pt x="666" y="514"/>
                    </a:lnTo>
                    <a:lnTo>
                      <a:pt x="647" y="525"/>
                    </a:lnTo>
                    <a:lnTo>
                      <a:pt x="647" y="548"/>
                    </a:lnTo>
                    <a:lnTo>
                      <a:pt x="666" y="559"/>
                    </a:lnTo>
                    <a:close/>
                    <a:moveTo>
                      <a:pt x="720" y="559"/>
                    </a:moveTo>
                    <a:lnTo>
                      <a:pt x="740" y="548"/>
                    </a:lnTo>
                    <a:lnTo>
                      <a:pt x="740" y="525"/>
                    </a:lnTo>
                    <a:lnTo>
                      <a:pt x="720" y="514"/>
                    </a:lnTo>
                    <a:lnTo>
                      <a:pt x="700" y="525"/>
                    </a:lnTo>
                    <a:lnTo>
                      <a:pt x="700" y="548"/>
                    </a:lnTo>
                    <a:lnTo>
                      <a:pt x="720" y="559"/>
                    </a:lnTo>
                    <a:close/>
                    <a:moveTo>
                      <a:pt x="505" y="559"/>
                    </a:moveTo>
                    <a:lnTo>
                      <a:pt x="525" y="548"/>
                    </a:lnTo>
                    <a:lnTo>
                      <a:pt x="525" y="525"/>
                    </a:lnTo>
                    <a:lnTo>
                      <a:pt x="505" y="514"/>
                    </a:lnTo>
                    <a:lnTo>
                      <a:pt x="484" y="525"/>
                    </a:lnTo>
                    <a:lnTo>
                      <a:pt x="484" y="548"/>
                    </a:lnTo>
                    <a:lnTo>
                      <a:pt x="505" y="559"/>
                    </a:lnTo>
                    <a:close/>
                    <a:moveTo>
                      <a:pt x="559" y="559"/>
                    </a:moveTo>
                    <a:lnTo>
                      <a:pt x="579" y="548"/>
                    </a:lnTo>
                    <a:lnTo>
                      <a:pt x="579" y="525"/>
                    </a:lnTo>
                    <a:lnTo>
                      <a:pt x="559" y="514"/>
                    </a:lnTo>
                    <a:lnTo>
                      <a:pt x="539" y="525"/>
                    </a:lnTo>
                    <a:lnTo>
                      <a:pt x="539" y="548"/>
                    </a:lnTo>
                    <a:lnTo>
                      <a:pt x="559" y="559"/>
                    </a:lnTo>
                    <a:close/>
                    <a:moveTo>
                      <a:pt x="613" y="559"/>
                    </a:moveTo>
                    <a:lnTo>
                      <a:pt x="634" y="548"/>
                    </a:lnTo>
                    <a:lnTo>
                      <a:pt x="634" y="525"/>
                    </a:lnTo>
                    <a:lnTo>
                      <a:pt x="613" y="514"/>
                    </a:lnTo>
                    <a:lnTo>
                      <a:pt x="593" y="525"/>
                    </a:lnTo>
                    <a:lnTo>
                      <a:pt x="593" y="548"/>
                    </a:lnTo>
                    <a:lnTo>
                      <a:pt x="613" y="559"/>
                    </a:lnTo>
                    <a:close/>
                    <a:moveTo>
                      <a:pt x="21" y="559"/>
                    </a:moveTo>
                    <a:lnTo>
                      <a:pt x="41" y="548"/>
                    </a:lnTo>
                    <a:lnTo>
                      <a:pt x="41" y="525"/>
                    </a:lnTo>
                    <a:lnTo>
                      <a:pt x="21" y="514"/>
                    </a:lnTo>
                    <a:lnTo>
                      <a:pt x="0" y="525"/>
                    </a:lnTo>
                    <a:lnTo>
                      <a:pt x="0" y="548"/>
                    </a:lnTo>
                    <a:lnTo>
                      <a:pt x="21" y="559"/>
                    </a:lnTo>
                    <a:close/>
                    <a:moveTo>
                      <a:pt x="74" y="559"/>
                    </a:moveTo>
                    <a:lnTo>
                      <a:pt x="93" y="548"/>
                    </a:lnTo>
                    <a:lnTo>
                      <a:pt x="93" y="525"/>
                    </a:lnTo>
                    <a:lnTo>
                      <a:pt x="74" y="514"/>
                    </a:lnTo>
                    <a:lnTo>
                      <a:pt x="54" y="525"/>
                    </a:lnTo>
                    <a:lnTo>
                      <a:pt x="54" y="548"/>
                    </a:lnTo>
                    <a:lnTo>
                      <a:pt x="74" y="559"/>
                    </a:lnTo>
                    <a:close/>
                    <a:moveTo>
                      <a:pt x="127" y="559"/>
                    </a:moveTo>
                    <a:lnTo>
                      <a:pt x="147" y="548"/>
                    </a:lnTo>
                    <a:lnTo>
                      <a:pt x="147" y="525"/>
                    </a:lnTo>
                    <a:lnTo>
                      <a:pt x="127" y="514"/>
                    </a:lnTo>
                    <a:lnTo>
                      <a:pt x="107" y="525"/>
                    </a:lnTo>
                    <a:lnTo>
                      <a:pt x="107" y="548"/>
                    </a:lnTo>
                    <a:lnTo>
                      <a:pt x="127" y="559"/>
                    </a:lnTo>
                    <a:close/>
                    <a:moveTo>
                      <a:pt x="181" y="559"/>
                    </a:moveTo>
                    <a:lnTo>
                      <a:pt x="201" y="548"/>
                    </a:lnTo>
                    <a:lnTo>
                      <a:pt x="201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48"/>
                    </a:lnTo>
                    <a:lnTo>
                      <a:pt x="181" y="559"/>
                    </a:lnTo>
                    <a:close/>
                    <a:moveTo>
                      <a:pt x="236" y="559"/>
                    </a:moveTo>
                    <a:lnTo>
                      <a:pt x="256" y="548"/>
                    </a:lnTo>
                    <a:lnTo>
                      <a:pt x="256" y="525"/>
                    </a:lnTo>
                    <a:lnTo>
                      <a:pt x="236" y="514"/>
                    </a:lnTo>
                    <a:lnTo>
                      <a:pt x="215" y="525"/>
                    </a:lnTo>
                    <a:lnTo>
                      <a:pt x="215" y="548"/>
                    </a:lnTo>
                    <a:lnTo>
                      <a:pt x="236" y="559"/>
                    </a:lnTo>
                    <a:close/>
                    <a:moveTo>
                      <a:pt x="290" y="559"/>
                    </a:moveTo>
                    <a:lnTo>
                      <a:pt x="310" y="548"/>
                    </a:lnTo>
                    <a:lnTo>
                      <a:pt x="310" y="525"/>
                    </a:lnTo>
                    <a:lnTo>
                      <a:pt x="290" y="514"/>
                    </a:lnTo>
                    <a:lnTo>
                      <a:pt x="270" y="525"/>
                    </a:lnTo>
                    <a:lnTo>
                      <a:pt x="270" y="548"/>
                    </a:lnTo>
                    <a:lnTo>
                      <a:pt x="290" y="559"/>
                    </a:lnTo>
                    <a:close/>
                    <a:moveTo>
                      <a:pt x="801" y="511"/>
                    </a:moveTo>
                    <a:lnTo>
                      <a:pt x="821" y="500"/>
                    </a:lnTo>
                    <a:lnTo>
                      <a:pt x="821" y="477"/>
                    </a:lnTo>
                    <a:lnTo>
                      <a:pt x="801" y="466"/>
                    </a:lnTo>
                    <a:lnTo>
                      <a:pt x="781" y="477"/>
                    </a:lnTo>
                    <a:lnTo>
                      <a:pt x="781" y="500"/>
                    </a:lnTo>
                    <a:lnTo>
                      <a:pt x="801" y="511"/>
                    </a:lnTo>
                    <a:close/>
                    <a:moveTo>
                      <a:pt x="856" y="511"/>
                    </a:moveTo>
                    <a:lnTo>
                      <a:pt x="876" y="500"/>
                    </a:lnTo>
                    <a:lnTo>
                      <a:pt x="876" y="477"/>
                    </a:lnTo>
                    <a:lnTo>
                      <a:pt x="856" y="466"/>
                    </a:lnTo>
                    <a:lnTo>
                      <a:pt x="835" y="477"/>
                    </a:lnTo>
                    <a:lnTo>
                      <a:pt x="835" y="500"/>
                    </a:lnTo>
                    <a:lnTo>
                      <a:pt x="856" y="511"/>
                    </a:lnTo>
                    <a:close/>
                    <a:moveTo>
                      <a:pt x="910" y="511"/>
                    </a:moveTo>
                    <a:lnTo>
                      <a:pt x="930" y="500"/>
                    </a:lnTo>
                    <a:lnTo>
                      <a:pt x="930" y="477"/>
                    </a:lnTo>
                    <a:lnTo>
                      <a:pt x="910" y="466"/>
                    </a:lnTo>
                    <a:lnTo>
                      <a:pt x="890" y="477"/>
                    </a:lnTo>
                    <a:lnTo>
                      <a:pt x="890" y="500"/>
                    </a:lnTo>
                    <a:lnTo>
                      <a:pt x="910" y="511"/>
                    </a:lnTo>
                    <a:close/>
                    <a:moveTo>
                      <a:pt x="587" y="511"/>
                    </a:moveTo>
                    <a:lnTo>
                      <a:pt x="607" y="500"/>
                    </a:lnTo>
                    <a:lnTo>
                      <a:pt x="607" y="477"/>
                    </a:lnTo>
                    <a:lnTo>
                      <a:pt x="587" y="466"/>
                    </a:lnTo>
                    <a:lnTo>
                      <a:pt x="566" y="477"/>
                    </a:lnTo>
                    <a:lnTo>
                      <a:pt x="566" y="500"/>
                    </a:lnTo>
                    <a:lnTo>
                      <a:pt x="587" y="511"/>
                    </a:lnTo>
                    <a:close/>
                    <a:moveTo>
                      <a:pt x="641" y="511"/>
                    </a:moveTo>
                    <a:lnTo>
                      <a:pt x="658" y="500"/>
                    </a:lnTo>
                    <a:lnTo>
                      <a:pt x="658" y="477"/>
                    </a:lnTo>
                    <a:lnTo>
                      <a:pt x="641" y="466"/>
                    </a:lnTo>
                    <a:lnTo>
                      <a:pt x="621" y="477"/>
                    </a:lnTo>
                    <a:lnTo>
                      <a:pt x="621" y="500"/>
                    </a:lnTo>
                    <a:lnTo>
                      <a:pt x="641" y="511"/>
                    </a:lnTo>
                    <a:close/>
                    <a:moveTo>
                      <a:pt x="692" y="511"/>
                    </a:moveTo>
                    <a:lnTo>
                      <a:pt x="713" y="500"/>
                    </a:lnTo>
                    <a:lnTo>
                      <a:pt x="713" y="477"/>
                    </a:lnTo>
                    <a:lnTo>
                      <a:pt x="692" y="466"/>
                    </a:lnTo>
                    <a:lnTo>
                      <a:pt x="675" y="477"/>
                    </a:lnTo>
                    <a:lnTo>
                      <a:pt x="675" y="500"/>
                    </a:lnTo>
                    <a:lnTo>
                      <a:pt x="692" y="511"/>
                    </a:lnTo>
                    <a:close/>
                    <a:moveTo>
                      <a:pt x="747" y="511"/>
                    </a:moveTo>
                    <a:lnTo>
                      <a:pt x="767" y="500"/>
                    </a:lnTo>
                    <a:lnTo>
                      <a:pt x="767" y="477"/>
                    </a:lnTo>
                    <a:lnTo>
                      <a:pt x="747" y="466"/>
                    </a:lnTo>
                    <a:lnTo>
                      <a:pt x="727" y="477"/>
                    </a:lnTo>
                    <a:lnTo>
                      <a:pt x="727" y="500"/>
                    </a:lnTo>
                    <a:lnTo>
                      <a:pt x="747" y="511"/>
                    </a:lnTo>
                    <a:close/>
                    <a:moveTo>
                      <a:pt x="371" y="511"/>
                    </a:moveTo>
                    <a:lnTo>
                      <a:pt x="391" y="500"/>
                    </a:lnTo>
                    <a:lnTo>
                      <a:pt x="391" y="477"/>
                    </a:lnTo>
                    <a:lnTo>
                      <a:pt x="371" y="466"/>
                    </a:lnTo>
                    <a:lnTo>
                      <a:pt x="351" y="477"/>
                    </a:lnTo>
                    <a:lnTo>
                      <a:pt x="351" y="500"/>
                    </a:lnTo>
                    <a:lnTo>
                      <a:pt x="371" y="511"/>
                    </a:lnTo>
                    <a:close/>
                    <a:moveTo>
                      <a:pt x="425" y="511"/>
                    </a:moveTo>
                    <a:lnTo>
                      <a:pt x="447" y="500"/>
                    </a:lnTo>
                    <a:lnTo>
                      <a:pt x="447" y="477"/>
                    </a:lnTo>
                    <a:lnTo>
                      <a:pt x="425" y="466"/>
                    </a:lnTo>
                    <a:lnTo>
                      <a:pt x="405" y="477"/>
                    </a:lnTo>
                    <a:lnTo>
                      <a:pt x="405" y="500"/>
                    </a:lnTo>
                    <a:lnTo>
                      <a:pt x="425" y="511"/>
                    </a:lnTo>
                    <a:close/>
                    <a:moveTo>
                      <a:pt x="480" y="511"/>
                    </a:moveTo>
                    <a:lnTo>
                      <a:pt x="498" y="500"/>
                    </a:lnTo>
                    <a:lnTo>
                      <a:pt x="498" y="477"/>
                    </a:lnTo>
                    <a:lnTo>
                      <a:pt x="480" y="466"/>
                    </a:lnTo>
                    <a:lnTo>
                      <a:pt x="459" y="477"/>
                    </a:lnTo>
                    <a:lnTo>
                      <a:pt x="459" y="500"/>
                    </a:lnTo>
                    <a:lnTo>
                      <a:pt x="480" y="511"/>
                    </a:lnTo>
                    <a:close/>
                    <a:moveTo>
                      <a:pt x="532" y="511"/>
                    </a:moveTo>
                    <a:lnTo>
                      <a:pt x="552" y="500"/>
                    </a:lnTo>
                    <a:lnTo>
                      <a:pt x="552" y="477"/>
                    </a:lnTo>
                    <a:lnTo>
                      <a:pt x="532" y="466"/>
                    </a:lnTo>
                    <a:lnTo>
                      <a:pt x="512" y="477"/>
                    </a:lnTo>
                    <a:lnTo>
                      <a:pt x="512" y="500"/>
                    </a:lnTo>
                    <a:lnTo>
                      <a:pt x="532" y="511"/>
                    </a:lnTo>
                    <a:close/>
                    <a:moveTo>
                      <a:pt x="48" y="511"/>
                    </a:moveTo>
                    <a:lnTo>
                      <a:pt x="68" y="500"/>
                    </a:lnTo>
                    <a:lnTo>
                      <a:pt x="68" y="477"/>
                    </a:lnTo>
                    <a:lnTo>
                      <a:pt x="48" y="466"/>
                    </a:lnTo>
                    <a:lnTo>
                      <a:pt x="27" y="477"/>
                    </a:lnTo>
                    <a:lnTo>
                      <a:pt x="27" y="500"/>
                    </a:lnTo>
                    <a:lnTo>
                      <a:pt x="48" y="511"/>
                    </a:lnTo>
                    <a:close/>
                    <a:moveTo>
                      <a:pt x="99" y="511"/>
                    </a:moveTo>
                    <a:lnTo>
                      <a:pt x="120" y="500"/>
                    </a:lnTo>
                    <a:lnTo>
                      <a:pt x="120" y="477"/>
                    </a:lnTo>
                    <a:lnTo>
                      <a:pt x="99" y="466"/>
                    </a:lnTo>
                    <a:lnTo>
                      <a:pt x="82" y="477"/>
                    </a:lnTo>
                    <a:lnTo>
                      <a:pt x="82" y="500"/>
                    </a:lnTo>
                    <a:lnTo>
                      <a:pt x="99" y="511"/>
                    </a:lnTo>
                    <a:close/>
                    <a:moveTo>
                      <a:pt x="155" y="511"/>
                    </a:moveTo>
                    <a:lnTo>
                      <a:pt x="175" y="500"/>
                    </a:lnTo>
                    <a:lnTo>
                      <a:pt x="175" y="477"/>
                    </a:lnTo>
                    <a:lnTo>
                      <a:pt x="155" y="466"/>
                    </a:lnTo>
                    <a:lnTo>
                      <a:pt x="133" y="477"/>
                    </a:lnTo>
                    <a:lnTo>
                      <a:pt x="133" y="500"/>
                    </a:lnTo>
                    <a:lnTo>
                      <a:pt x="155" y="511"/>
                    </a:lnTo>
                    <a:close/>
                    <a:moveTo>
                      <a:pt x="208" y="511"/>
                    </a:moveTo>
                    <a:lnTo>
                      <a:pt x="229" y="500"/>
                    </a:lnTo>
                    <a:lnTo>
                      <a:pt x="229" y="477"/>
                    </a:lnTo>
                    <a:lnTo>
                      <a:pt x="208" y="466"/>
                    </a:lnTo>
                    <a:lnTo>
                      <a:pt x="188" y="477"/>
                    </a:lnTo>
                    <a:lnTo>
                      <a:pt x="188" y="500"/>
                    </a:lnTo>
                    <a:lnTo>
                      <a:pt x="208" y="511"/>
                    </a:lnTo>
                    <a:close/>
                    <a:moveTo>
                      <a:pt x="262" y="511"/>
                    </a:moveTo>
                    <a:lnTo>
                      <a:pt x="282" y="500"/>
                    </a:lnTo>
                    <a:lnTo>
                      <a:pt x="282" y="477"/>
                    </a:lnTo>
                    <a:lnTo>
                      <a:pt x="262" y="466"/>
                    </a:lnTo>
                    <a:lnTo>
                      <a:pt x="242" y="477"/>
                    </a:lnTo>
                    <a:lnTo>
                      <a:pt x="242" y="500"/>
                    </a:lnTo>
                    <a:lnTo>
                      <a:pt x="262" y="511"/>
                    </a:lnTo>
                    <a:close/>
                    <a:moveTo>
                      <a:pt x="317" y="511"/>
                    </a:moveTo>
                    <a:lnTo>
                      <a:pt x="338" y="500"/>
                    </a:lnTo>
                    <a:lnTo>
                      <a:pt x="338" y="477"/>
                    </a:lnTo>
                    <a:lnTo>
                      <a:pt x="317" y="466"/>
                    </a:lnTo>
                    <a:lnTo>
                      <a:pt x="296" y="477"/>
                    </a:lnTo>
                    <a:lnTo>
                      <a:pt x="296" y="500"/>
                    </a:lnTo>
                    <a:lnTo>
                      <a:pt x="317" y="511"/>
                    </a:lnTo>
                    <a:close/>
                    <a:moveTo>
                      <a:pt x="505" y="466"/>
                    </a:moveTo>
                    <a:lnTo>
                      <a:pt x="525" y="455"/>
                    </a:lnTo>
                    <a:lnTo>
                      <a:pt x="525" y="432"/>
                    </a:lnTo>
                    <a:lnTo>
                      <a:pt x="505" y="421"/>
                    </a:lnTo>
                    <a:lnTo>
                      <a:pt x="484" y="432"/>
                    </a:lnTo>
                    <a:lnTo>
                      <a:pt x="484" y="455"/>
                    </a:lnTo>
                    <a:lnTo>
                      <a:pt x="505" y="466"/>
                    </a:lnTo>
                    <a:close/>
                    <a:moveTo>
                      <a:pt x="559" y="466"/>
                    </a:moveTo>
                    <a:lnTo>
                      <a:pt x="579" y="455"/>
                    </a:lnTo>
                    <a:lnTo>
                      <a:pt x="579" y="432"/>
                    </a:lnTo>
                    <a:lnTo>
                      <a:pt x="559" y="421"/>
                    </a:lnTo>
                    <a:lnTo>
                      <a:pt x="539" y="432"/>
                    </a:lnTo>
                    <a:lnTo>
                      <a:pt x="539" y="455"/>
                    </a:lnTo>
                    <a:lnTo>
                      <a:pt x="559" y="466"/>
                    </a:lnTo>
                    <a:close/>
                    <a:moveTo>
                      <a:pt x="21" y="466"/>
                    </a:moveTo>
                    <a:lnTo>
                      <a:pt x="41" y="455"/>
                    </a:lnTo>
                    <a:lnTo>
                      <a:pt x="41" y="432"/>
                    </a:lnTo>
                    <a:lnTo>
                      <a:pt x="21" y="421"/>
                    </a:lnTo>
                    <a:lnTo>
                      <a:pt x="0" y="432"/>
                    </a:lnTo>
                    <a:lnTo>
                      <a:pt x="0" y="455"/>
                    </a:lnTo>
                    <a:lnTo>
                      <a:pt x="21" y="466"/>
                    </a:lnTo>
                    <a:close/>
                    <a:moveTo>
                      <a:pt x="74" y="466"/>
                    </a:moveTo>
                    <a:lnTo>
                      <a:pt x="93" y="455"/>
                    </a:lnTo>
                    <a:lnTo>
                      <a:pt x="93" y="432"/>
                    </a:lnTo>
                    <a:lnTo>
                      <a:pt x="74" y="421"/>
                    </a:lnTo>
                    <a:lnTo>
                      <a:pt x="54" y="432"/>
                    </a:lnTo>
                    <a:lnTo>
                      <a:pt x="54" y="455"/>
                    </a:lnTo>
                    <a:lnTo>
                      <a:pt x="74" y="466"/>
                    </a:lnTo>
                    <a:close/>
                    <a:moveTo>
                      <a:pt x="127" y="466"/>
                    </a:moveTo>
                    <a:lnTo>
                      <a:pt x="147" y="455"/>
                    </a:lnTo>
                    <a:lnTo>
                      <a:pt x="147" y="432"/>
                    </a:lnTo>
                    <a:lnTo>
                      <a:pt x="127" y="421"/>
                    </a:lnTo>
                    <a:lnTo>
                      <a:pt x="107" y="432"/>
                    </a:lnTo>
                    <a:lnTo>
                      <a:pt x="107" y="455"/>
                    </a:lnTo>
                    <a:lnTo>
                      <a:pt x="127" y="466"/>
                    </a:lnTo>
                    <a:close/>
                    <a:moveTo>
                      <a:pt x="181" y="466"/>
                    </a:moveTo>
                    <a:lnTo>
                      <a:pt x="201" y="455"/>
                    </a:lnTo>
                    <a:lnTo>
                      <a:pt x="201" y="432"/>
                    </a:lnTo>
                    <a:lnTo>
                      <a:pt x="181" y="421"/>
                    </a:lnTo>
                    <a:lnTo>
                      <a:pt x="161" y="432"/>
                    </a:lnTo>
                    <a:lnTo>
                      <a:pt x="161" y="455"/>
                    </a:lnTo>
                    <a:lnTo>
                      <a:pt x="181" y="466"/>
                    </a:lnTo>
                    <a:close/>
                    <a:moveTo>
                      <a:pt x="236" y="466"/>
                    </a:moveTo>
                    <a:lnTo>
                      <a:pt x="256" y="455"/>
                    </a:lnTo>
                    <a:lnTo>
                      <a:pt x="256" y="432"/>
                    </a:lnTo>
                    <a:lnTo>
                      <a:pt x="236" y="421"/>
                    </a:lnTo>
                    <a:lnTo>
                      <a:pt x="215" y="432"/>
                    </a:lnTo>
                    <a:lnTo>
                      <a:pt x="215" y="455"/>
                    </a:lnTo>
                    <a:lnTo>
                      <a:pt x="236" y="466"/>
                    </a:lnTo>
                    <a:close/>
                    <a:moveTo>
                      <a:pt x="290" y="466"/>
                    </a:moveTo>
                    <a:lnTo>
                      <a:pt x="310" y="455"/>
                    </a:lnTo>
                    <a:lnTo>
                      <a:pt x="310" y="432"/>
                    </a:lnTo>
                    <a:lnTo>
                      <a:pt x="290" y="421"/>
                    </a:lnTo>
                    <a:lnTo>
                      <a:pt x="270" y="432"/>
                    </a:lnTo>
                    <a:lnTo>
                      <a:pt x="270" y="455"/>
                    </a:lnTo>
                    <a:lnTo>
                      <a:pt x="290" y="466"/>
                    </a:lnTo>
                    <a:close/>
                    <a:moveTo>
                      <a:pt x="344" y="466"/>
                    </a:moveTo>
                    <a:lnTo>
                      <a:pt x="365" y="455"/>
                    </a:lnTo>
                    <a:lnTo>
                      <a:pt x="365" y="432"/>
                    </a:lnTo>
                    <a:lnTo>
                      <a:pt x="344" y="421"/>
                    </a:lnTo>
                    <a:lnTo>
                      <a:pt x="324" y="432"/>
                    </a:lnTo>
                    <a:lnTo>
                      <a:pt x="324" y="455"/>
                    </a:lnTo>
                    <a:lnTo>
                      <a:pt x="344" y="466"/>
                    </a:lnTo>
                    <a:close/>
                    <a:moveTo>
                      <a:pt x="399" y="466"/>
                    </a:moveTo>
                    <a:lnTo>
                      <a:pt x="419" y="455"/>
                    </a:lnTo>
                    <a:lnTo>
                      <a:pt x="419" y="432"/>
                    </a:lnTo>
                    <a:lnTo>
                      <a:pt x="399" y="421"/>
                    </a:lnTo>
                    <a:lnTo>
                      <a:pt x="378" y="432"/>
                    </a:lnTo>
                    <a:lnTo>
                      <a:pt x="378" y="455"/>
                    </a:lnTo>
                    <a:lnTo>
                      <a:pt x="399" y="466"/>
                    </a:lnTo>
                    <a:close/>
                    <a:moveTo>
                      <a:pt x="613" y="466"/>
                    </a:moveTo>
                    <a:lnTo>
                      <a:pt x="634" y="455"/>
                    </a:lnTo>
                    <a:lnTo>
                      <a:pt x="634" y="432"/>
                    </a:lnTo>
                    <a:lnTo>
                      <a:pt x="613" y="421"/>
                    </a:lnTo>
                    <a:lnTo>
                      <a:pt x="593" y="432"/>
                    </a:lnTo>
                    <a:lnTo>
                      <a:pt x="593" y="455"/>
                    </a:lnTo>
                    <a:lnTo>
                      <a:pt x="613" y="466"/>
                    </a:lnTo>
                    <a:close/>
                    <a:moveTo>
                      <a:pt x="666" y="466"/>
                    </a:moveTo>
                    <a:lnTo>
                      <a:pt x="686" y="455"/>
                    </a:lnTo>
                    <a:lnTo>
                      <a:pt x="686" y="432"/>
                    </a:lnTo>
                    <a:lnTo>
                      <a:pt x="666" y="421"/>
                    </a:lnTo>
                    <a:lnTo>
                      <a:pt x="647" y="432"/>
                    </a:lnTo>
                    <a:lnTo>
                      <a:pt x="647" y="455"/>
                    </a:lnTo>
                    <a:lnTo>
                      <a:pt x="666" y="466"/>
                    </a:lnTo>
                    <a:close/>
                    <a:moveTo>
                      <a:pt x="720" y="466"/>
                    </a:moveTo>
                    <a:lnTo>
                      <a:pt x="740" y="455"/>
                    </a:lnTo>
                    <a:lnTo>
                      <a:pt x="740" y="432"/>
                    </a:lnTo>
                    <a:lnTo>
                      <a:pt x="720" y="421"/>
                    </a:lnTo>
                    <a:lnTo>
                      <a:pt x="700" y="432"/>
                    </a:lnTo>
                    <a:lnTo>
                      <a:pt x="700" y="455"/>
                    </a:lnTo>
                    <a:lnTo>
                      <a:pt x="720" y="466"/>
                    </a:lnTo>
                    <a:close/>
                    <a:moveTo>
                      <a:pt x="775" y="466"/>
                    </a:moveTo>
                    <a:lnTo>
                      <a:pt x="795" y="455"/>
                    </a:lnTo>
                    <a:lnTo>
                      <a:pt x="795" y="432"/>
                    </a:lnTo>
                    <a:lnTo>
                      <a:pt x="775" y="421"/>
                    </a:lnTo>
                    <a:lnTo>
                      <a:pt x="754" y="432"/>
                    </a:lnTo>
                    <a:lnTo>
                      <a:pt x="754" y="455"/>
                    </a:lnTo>
                    <a:lnTo>
                      <a:pt x="775" y="466"/>
                    </a:lnTo>
                    <a:close/>
                    <a:moveTo>
                      <a:pt x="532" y="234"/>
                    </a:moveTo>
                    <a:lnTo>
                      <a:pt x="552" y="222"/>
                    </a:lnTo>
                    <a:lnTo>
                      <a:pt x="552" y="198"/>
                    </a:lnTo>
                    <a:lnTo>
                      <a:pt x="532" y="187"/>
                    </a:lnTo>
                    <a:lnTo>
                      <a:pt x="512" y="198"/>
                    </a:lnTo>
                    <a:lnTo>
                      <a:pt x="512" y="222"/>
                    </a:lnTo>
                    <a:lnTo>
                      <a:pt x="532" y="234"/>
                    </a:lnTo>
                    <a:close/>
                    <a:moveTo>
                      <a:pt x="532" y="140"/>
                    </a:moveTo>
                    <a:lnTo>
                      <a:pt x="552" y="128"/>
                    </a:lnTo>
                    <a:lnTo>
                      <a:pt x="552" y="105"/>
                    </a:lnTo>
                    <a:lnTo>
                      <a:pt x="532" y="94"/>
                    </a:lnTo>
                    <a:lnTo>
                      <a:pt x="512" y="105"/>
                    </a:lnTo>
                    <a:lnTo>
                      <a:pt x="512" y="128"/>
                    </a:lnTo>
                    <a:lnTo>
                      <a:pt x="532" y="140"/>
                    </a:lnTo>
                    <a:close/>
                    <a:moveTo>
                      <a:pt x="559" y="279"/>
                    </a:moveTo>
                    <a:lnTo>
                      <a:pt x="579" y="268"/>
                    </a:lnTo>
                    <a:lnTo>
                      <a:pt x="579" y="245"/>
                    </a:lnTo>
                    <a:lnTo>
                      <a:pt x="559" y="234"/>
                    </a:lnTo>
                    <a:lnTo>
                      <a:pt x="539" y="245"/>
                    </a:lnTo>
                    <a:lnTo>
                      <a:pt x="539" y="268"/>
                    </a:lnTo>
                    <a:lnTo>
                      <a:pt x="559" y="279"/>
                    </a:lnTo>
                    <a:close/>
                    <a:moveTo>
                      <a:pt x="559" y="187"/>
                    </a:moveTo>
                    <a:lnTo>
                      <a:pt x="579" y="174"/>
                    </a:lnTo>
                    <a:lnTo>
                      <a:pt x="579" y="152"/>
                    </a:lnTo>
                    <a:lnTo>
                      <a:pt x="559" y="140"/>
                    </a:lnTo>
                    <a:lnTo>
                      <a:pt x="539" y="152"/>
                    </a:lnTo>
                    <a:lnTo>
                      <a:pt x="539" y="174"/>
                    </a:lnTo>
                    <a:lnTo>
                      <a:pt x="559" y="187"/>
                    </a:lnTo>
                    <a:close/>
                    <a:moveTo>
                      <a:pt x="559" y="94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59" y="47"/>
                    </a:lnTo>
                    <a:lnTo>
                      <a:pt x="539" y="58"/>
                    </a:lnTo>
                    <a:lnTo>
                      <a:pt x="539" y="82"/>
                    </a:lnTo>
                    <a:lnTo>
                      <a:pt x="559" y="94"/>
                    </a:lnTo>
                    <a:close/>
                    <a:moveTo>
                      <a:pt x="480" y="327"/>
                    </a:moveTo>
                    <a:lnTo>
                      <a:pt x="498" y="316"/>
                    </a:lnTo>
                    <a:lnTo>
                      <a:pt x="498" y="292"/>
                    </a:lnTo>
                    <a:lnTo>
                      <a:pt x="480" y="280"/>
                    </a:lnTo>
                    <a:lnTo>
                      <a:pt x="459" y="292"/>
                    </a:lnTo>
                    <a:lnTo>
                      <a:pt x="459" y="316"/>
                    </a:lnTo>
                    <a:lnTo>
                      <a:pt x="480" y="327"/>
                    </a:lnTo>
                    <a:close/>
                    <a:moveTo>
                      <a:pt x="505" y="373"/>
                    </a:moveTo>
                    <a:lnTo>
                      <a:pt x="525" y="361"/>
                    </a:lnTo>
                    <a:lnTo>
                      <a:pt x="525" y="338"/>
                    </a:lnTo>
                    <a:lnTo>
                      <a:pt x="505" y="327"/>
                    </a:lnTo>
                    <a:lnTo>
                      <a:pt x="484" y="338"/>
                    </a:lnTo>
                    <a:lnTo>
                      <a:pt x="484" y="361"/>
                    </a:lnTo>
                    <a:lnTo>
                      <a:pt x="505" y="373"/>
                    </a:lnTo>
                    <a:close/>
                    <a:moveTo>
                      <a:pt x="48" y="421"/>
                    </a:moveTo>
                    <a:lnTo>
                      <a:pt x="68" y="409"/>
                    </a:lnTo>
                    <a:lnTo>
                      <a:pt x="68" y="384"/>
                    </a:lnTo>
                    <a:lnTo>
                      <a:pt x="48" y="373"/>
                    </a:lnTo>
                    <a:lnTo>
                      <a:pt x="27" y="384"/>
                    </a:lnTo>
                    <a:lnTo>
                      <a:pt x="27" y="409"/>
                    </a:lnTo>
                    <a:lnTo>
                      <a:pt x="48" y="421"/>
                    </a:lnTo>
                    <a:close/>
                    <a:moveTo>
                      <a:pt x="99" y="421"/>
                    </a:moveTo>
                    <a:lnTo>
                      <a:pt x="120" y="409"/>
                    </a:lnTo>
                    <a:lnTo>
                      <a:pt x="120" y="384"/>
                    </a:lnTo>
                    <a:lnTo>
                      <a:pt x="99" y="373"/>
                    </a:lnTo>
                    <a:lnTo>
                      <a:pt x="82" y="384"/>
                    </a:lnTo>
                    <a:lnTo>
                      <a:pt x="82" y="409"/>
                    </a:lnTo>
                    <a:lnTo>
                      <a:pt x="99" y="421"/>
                    </a:lnTo>
                    <a:close/>
                    <a:moveTo>
                      <a:pt x="155" y="421"/>
                    </a:moveTo>
                    <a:lnTo>
                      <a:pt x="175" y="409"/>
                    </a:lnTo>
                    <a:lnTo>
                      <a:pt x="175" y="384"/>
                    </a:lnTo>
                    <a:lnTo>
                      <a:pt x="155" y="373"/>
                    </a:lnTo>
                    <a:lnTo>
                      <a:pt x="133" y="384"/>
                    </a:lnTo>
                    <a:lnTo>
                      <a:pt x="133" y="409"/>
                    </a:lnTo>
                    <a:lnTo>
                      <a:pt x="155" y="421"/>
                    </a:lnTo>
                    <a:close/>
                    <a:moveTo>
                      <a:pt x="208" y="421"/>
                    </a:moveTo>
                    <a:lnTo>
                      <a:pt x="229" y="409"/>
                    </a:lnTo>
                    <a:lnTo>
                      <a:pt x="229" y="384"/>
                    </a:lnTo>
                    <a:lnTo>
                      <a:pt x="208" y="373"/>
                    </a:lnTo>
                    <a:lnTo>
                      <a:pt x="188" y="384"/>
                    </a:lnTo>
                    <a:lnTo>
                      <a:pt x="188" y="409"/>
                    </a:lnTo>
                    <a:lnTo>
                      <a:pt x="208" y="421"/>
                    </a:lnTo>
                    <a:close/>
                    <a:moveTo>
                      <a:pt x="262" y="421"/>
                    </a:moveTo>
                    <a:lnTo>
                      <a:pt x="282" y="409"/>
                    </a:lnTo>
                    <a:lnTo>
                      <a:pt x="282" y="384"/>
                    </a:lnTo>
                    <a:lnTo>
                      <a:pt x="262" y="373"/>
                    </a:lnTo>
                    <a:lnTo>
                      <a:pt x="242" y="384"/>
                    </a:lnTo>
                    <a:lnTo>
                      <a:pt x="242" y="409"/>
                    </a:lnTo>
                    <a:lnTo>
                      <a:pt x="262" y="421"/>
                    </a:lnTo>
                    <a:close/>
                    <a:moveTo>
                      <a:pt x="317" y="421"/>
                    </a:moveTo>
                    <a:lnTo>
                      <a:pt x="338" y="409"/>
                    </a:lnTo>
                    <a:lnTo>
                      <a:pt x="338" y="384"/>
                    </a:lnTo>
                    <a:lnTo>
                      <a:pt x="317" y="373"/>
                    </a:lnTo>
                    <a:lnTo>
                      <a:pt x="296" y="384"/>
                    </a:lnTo>
                    <a:lnTo>
                      <a:pt x="296" y="409"/>
                    </a:lnTo>
                    <a:lnTo>
                      <a:pt x="317" y="421"/>
                    </a:lnTo>
                    <a:close/>
                    <a:moveTo>
                      <a:pt x="371" y="421"/>
                    </a:moveTo>
                    <a:lnTo>
                      <a:pt x="391" y="409"/>
                    </a:lnTo>
                    <a:lnTo>
                      <a:pt x="391" y="384"/>
                    </a:lnTo>
                    <a:lnTo>
                      <a:pt x="371" y="373"/>
                    </a:lnTo>
                    <a:lnTo>
                      <a:pt x="351" y="384"/>
                    </a:lnTo>
                    <a:lnTo>
                      <a:pt x="351" y="409"/>
                    </a:lnTo>
                    <a:lnTo>
                      <a:pt x="371" y="421"/>
                    </a:lnTo>
                    <a:close/>
                    <a:moveTo>
                      <a:pt x="425" y="421"/>
                    </a:moveTo>
                    <a:lnTo>
                      <a:pt x="447" y="409"/>
                    </a:lnTo>
                    <a:lnTo>
                      <a:pt x="447" y="384"/>
                    </a:lnTo>
                    <a:lnTo>
                      <a:pt x="425" y="373"/>
                    </a:lnTo>
                    <a:lnTo>
                      <a:pt x="405" y="384"/>
                    </a:lnTo>
                    <a:lnTo>
                      <a:pt x="405" y="409"/>
                    </a:lnTo>
                    <a:lnTo>
                      <a:pt x="425" y="421"/>
                    </a:lnTo>
                    <a:close/>
                    <a:moveTo>
                      <a:pt x="371" y="327"/>
                    </a:moveTo>
                    <a:lnTo>
                      <a:pt x="391" y="316"/>
                    </a:lnTo>
                    <a:lnTo>
                      <a:pt x="391" y="292"/>
                    </a:lnTo>
                    <a:lnTo>
                      <a:pt x="371" y="280"/>
                    </a:lnTo>
                    <a:lnTo>
                      <a:pt x="351" y="292"/>
                    </a:lnTo>
                    <a:lnTo>
                      <a:pt x="351" y="316"/>
                    </a:lnTo>
                    <a:lnTo>
                      <a:pt x="371" y="327"/>
                    </a:lnTo>
                    <a:close/>
                    <a:moveTo>
                      <a:pt x="425" y="327"/>
                    </a:moveTo>
                    <a:lnTo>
                      <a:pt x="447" y="316"/>
                    </a:lnTo>
                    <a:lnTo>
                      <a:pt x="447" y="292"/>
                    </a:lnTo>
                    <a:lnTo>
                      <a:pt x="425" y="280"/>
                    </a:lnTo>
                    <a:lnTo>
                      <a:pt x="405" y="292"/>
                    </a:lnTo>
                    <a:lnTo>
                      <a:pt x="405" y="316"/>
                    </a:lnTo>
                    <a:lnTo>
                      <a:pt x="425" y="327"/>
                    </a:lnTo>
                    <a:close/>
                    <a:moveTo>
                      <a:pt x="21" y="373"/>
                    </a:moveTo>
                    <a:lnTo>
                      <a:pt x="41" y="361"/>
                    </a:lnTo>
                    <a:lnTo>
                      <a:pt x="41" y="338"/>
                    </a:lnTo>
                    <a:lnTo>
                      <a:pt x="21" y="327"/>
                    </a:lnTo>
                    <a:lnTo>
                      <a:pt x="0" y="338"/>
                    </a:lnTo>
                    <a:lnTo>
                      <a:pt x="0" y="361"/>
                    </a:lnTo>
                    <a:lnTo>
                      <a:pt x="21" y="373"/>
                    </a:lnTo>
                    <a:close/>
                    <a:moveTo>
                      <a:pt x="74" y="373"/>
                    </a:moveTo>
                    <a:lnTo>
                      <a:pt x="93" y="361"/>
                    </a:lnTo>
                    <a:lnTo>
                      <a:pt x="93" y="338"/>
                    </a:lnTo>
                    <a:lnTo>
                      <a:pt x="74" y="327"/>
                    </a:lnTo>
                    <a:lnTo>
                      <a:pt x="54" y="338"/>
                    </a:lnTo>
                    <a:lnTo>
                      <a:pt x="54" y="361"/>
                    </a:lnTo>
                    <a:lnTo>
                      <a:pt x="74" y="373"/>
                    </a:lnTo>
                    <a:close/>
                    <a:moveTo>
                      <a:pt x="127" y="373"/>
                    </a:moveTo>
                    <a:lnTo>
                      <a:pt x="147" y="361"/>
                    </a:lnTo>
                    <a:lnTo>
                      <a:pt x="147" y="338"/>
                    </a:lnTo>
                    <a:lnTo>
                      <a:pt x="127" y="327"/>
                    </a:lnTo>
                    <a:lnTo>
                      <a:pt x="107" y="338"/>
                    </a:lnTo>
                    <a:lnTo>
                      <a:pt x="107" y="361"/>
                    </a:lnTo>
                    <a:lnTo>
                      <a:pt x="127" y="373"/>
                    </a:lnTo>
                    <a:close/>
                    <a:moveTo>
                      <a:pt x="181" y="373"/>
                    </a:moveTo>
                    <a:lnTo>
                      <a:pt x="201" y="361"/>
                    </a:lnTo>
                    <a:lnTo>
                      <a:pt x="201" y="338"/>
                    </a:lnTo>
                    <a:lnTo>
                      <a:pt x="181" y="327"/>
                    </a:lnTo>
                    <a:lnTo>
                      <a:pt x="161" y="338"/>
                    </a:lnTo>
                    <a:lnTo>
                      <a:pt x="161" y="361"/>
                    </a:lnTo>
                    <a:lnTo>
                      <a:pt x="181" y="373"/>
                    </a:lnTo>
                    <a:close/>
                    <a:moveTo>
                      <a:pt x="236" y="373"/>
                    </a:moveTo>
                    <a:lnTo>
                      <a:pt x="256" y="361"/>
                    </a:lnTo>
                    <a:lnTo>
                      <a:pt x="256" y="338"/>
                    </a:lnTo>
                    <a:lnTo>
                      <a:pt x="236" y="327"/>
                    </a:lnTo>
                    <a:lnTo>
                      <a:pt x="215" y="338"/>
                    </a:lnTo>
                    <a:lnTo>
                      <a:pt x="215" y="361"/>
                    </a:lnTo>
                    <a:lnTo>
                      <a:pt x="236" y="373"/>
                    </a:lnTo>
                    <a:close/>
                    <a:moveTo>
                      <a:pt x="290" y="373"/>
                    </a:moveTo>
                    <a:lnTo>
                      <a:pt x="310" y="361"/>
                    </a:lnTo>
                    <a:lnTo>
                      <a:pt x="310" y="338"/>
                    </a:lnTo>
                    <a:lnTo>
                      <a:pt x="290" y="327"/>
                    </a:lnTo>
                    <a:lnTo>
                      <a:pt x="270" y="338"/>
                    </a:lnTo>
                    <a:lnTo>
                      <a:pt x="270" y="361"/>
                    </a:lnTo>
                    <a:lnTo>
                      <a:pt x="290" y="373"/>
                    </a:lnTo>
                    <a:close/>
                    <a:moveTo>
                      <a:pt x="48" y="327"/>
                    </a:moveTo>
                    <a:lnTo>
                      <a:pt x="68" y="316"/>
                    </a:lnTo>
                    <a:lnTo>
                      <a:pt x="68" y="292"/>
                    </a:lnTo>
                    <a:lnTo>
                      <a:pt x="48" y="280"/>
                    </a:lnTo>
                    <a:lnTo>
                      <a:pt x="27" y="292"/>
                    </a:lnTo>
                    <a:lnTo>
                      <a:pt x="27" y="316"/>
                    </a:lnTo>
                    <a:lnTo>
                      <a:pt x="48" y="327"/>
                    </a:lnTo>
                    <a:close/>
                    <a:moveTo>
                      <a:pt x="99" y="327"/>
                    </a:moveTo>
                    <a:lnTo>
                      <a:pt x="120" y="316"/>
                    </a:lnTo>
                    <a:lnTo>
                      <a:pt x="120" y="292"/>
                    </a:lnTo>
                    <a:lnTo>
                      <a:pt x="99" y="280"/>
                    </a:lnTo>
                    <a:lnTo>
                      <a:pt x="82" y="292"/>
                    </a:lnTo>
                    <a:lnTo>
                      <a:pt x="82" y="316"/>
                    </a:lnTo>
                    <a:lnTo>
                      <a:pt x="99" y="327"/>
                    </a:lnTo>
                    <a:close/>
                    <a:moveTo>
                      <a:pt x="155" y="327"/>
                    </a:moveTo>
                    <a:lnTo>
                      <a:pt x="175" y="316"/>
                    </a:lnTo>
                    <a:lnTo>
                      <a:pt x="175" y="292"/>
                    </a:lnTo>
                    <a:lnTo>
                      <a:pt x="155" y="280"/>
                    </a:lnTo>
                    <a:lnTo>
                      <a:pt x="133" y="292"/>
                    </a:lnTo>
                    <a:lnTo>
                      <a:pt x="133" y="316"/>
                    </a:lnTo>
                    <a:lnTo>
                      <a:pt x="155" y="327"/>
                    </a:lnTo>
                    <a:close/>
                    <a:moveTo>
                      <a:pt x="208" y="327"/>
                    </a:moveTo>
                    <a:lnTo>
                      <a:pt x="229" y="316"/>
                    </a:lnTo>
                    <a:lnTo>
                      <a:pt x="229" y="292"/>
                    </a:lnTo>
                    <a:lnTo>
                      <a:pt x="208" y="280"/>
                    </a:lnTo>
                    <a:lnTo>
                      <a:pt x="188" y="292"/>
                    </a:lnTo>
                    <a:lnTo>
                      <a:pt x="188" y="316"/>
                    </a:lnTo>
                    <a:lnTo>
                      <a:pt x="208" y="327"/>
                    </a:lnTo>
                    <a:close/>
                    <a:moveTo>
                      <a:pt x="262" y="327"/>
                    </a:moveTo>
                    <a:lnTo>
                      <a:pt x="282" y="316"/>
                    </a:lnTo>
                    <a:lnTo>
                      <a:pt x="282" y="292"/>
                    </a:lnTo>
                    <a:lnTo>
                      <a:pt x="262" y="280"/>
                    </a:lnTo>
                    <a:lnTo>
                      <a:pt x="242" y="292"/>
                    </a:lnTo>
                    <a:lnTo>
                      <a:pt x="242" y="316"/>
                    </a:lnTo>
                    <a:lnTo>
                      <a:pt x="262" y="327"/>
                    </a:lnTo>
                    <a:close/>
                    <a:moveTo>
                      <a:pt x="317" y="327"/>
                    </a:moveTo>
                    <a:lnTo>
                      <a:pt x="338" y="316"/>
                    </a:lnTo>
                    <a:lnTo>
                      <a:pt x="338" y="292"/>
                    </a:lnTo>
                    <a:lnTo>
                      <a:pt x="317" y="280"/>
                    </a:lnTo>
                    <a:lnTo>
                      <a:pt x="296" y="292"/>
                    </a:lnTo>
                    <a:lnTo>
                      <a:pt x="296" y="316"/>
                    </a:lnTo>
                    <a:lnTo>
                      <a:pt x="317" y="327"/>
                    </a:lnTo>
                    <a:close/>
                    <a:moveTo>
                      <a:pt x="344" y="373"/>
                    </a:moveTo>
                    <a:lnTo>
                      <a:pt x="365" y="361"/>
                    </a:lnTo>
                    <a:lnTo>
                      <a:pt x="365" y="338"/>
                    </a:lnTo>
                    <a:lnTo>
                      <a:pt x="344" y="327"/>
                    </a:lnTo>
                    <a:lnTo>
                      <a:pt x="324" y="338"/>
                    </a:lnTo>
                    <a:lnTo>
                      <a:pt x="324" y="361"/>
                    </a:lnTo>
                    <a:lnTo>
                      <a:pt x="344" y="373"/>
                    </a:lnTo>
                    <a:close/>
                    <a:moveTo>
                      <a:pt x="399" y="373"/>
                    </a:moveTo>
                    <a:lnTo>
                      <a:pt x="419" y="361"/>
                    </a:lnTo>
                    <a:lnTo>
                      <a:pt x="419" y="338"/>
                    </a:lnTo>
                    <a:lnTo>
                      <a:pt x="399" y="327"/>
                    </a:lnTo>
                    <a:lnTo>
                      <a:pt x="378" y="338"/>
                    </a:lnTo>
                    <a:lnTo>
                      <a:pt x="378" y="361"/>
                    </a:lnTo>
                    <a:lnTo>
                      <a:pt x="399" y="373"/>
                    </a:lnTo>
                    <a:close/>
                    <a:moveTo>
                      <a:pt x="480" y="421"/>
                    </a:moveTo>
                    <a:lnTo>
                      <a:pt x="498" y="409"/>
                    </a:lnTo>
                    <a:lnTo>
                      <a:pt x="498" y="384"/>
                    </a:lnTo>
                    <a:lnTo>
                      <a:pt x="480" y="373"/>
                    </a:lnTo>
                    <a:lnTo>
                      <a:pt x="459" y="384"/>
                    </a:lnTo>
                    <a:lnTo>
                      <a:pt x="459" y="409"/>
                    </a:lnTo>
                    <a:lnTo>
                      <a:pt x="480" y="421"/>
                    </a:lnTo>
                    <a:close/>
                    <a:moveTo>
                      <a:pt x="480" y="140"/>
                    </a:moveTo>
                    <a:lnTo>
                      <a:pt x="498" y="128"/>
                    </a:lnTo>
                    <a:lnTo>
                      <a:pt x="498" y="105"/>
                    </a:lnTo>
                    <a:lnTo>
                      <a:pt x="480" y="94"/>
                    </a:lnTo>
                    <a:lnTo>
                      <a:pt x="459" y="105"/>
                    </a:lnTo>
                    <a:lnTo>
                      <a:pt x="459" y="128"/>
                    </a:lnTo>
                    <a:lnTo>
                      <a:pt x="480" y="140"/>
                    </a:lnTo>
                    <a:close/>
                    <a:moveTo>
                      <a:pt x="505" y="94"/>
                    </a:moveTo>
                    <a:lnTo>
                      <a:pt x="525" y="82"/>
                    </a:lnTo>
                    <a:lnTo>
                      <a:pt x="525" y="58"/>
                    </a:lnTo>
                    <a:lnTo>
                      <a:pt x="505" y="47"/>
                    </a:lnTo>
                    <a:lnTo>
                      <a:pt x="484" y="58"/>
                    </a:lnTo>
                    <a:lnTo>
                      <a:pt x="484" y="82"/>
                    </a:lnTo>
                    <a:lnTo>
                      <a:pt x="505" y="94"/>
                    </a:lnTo>
                    <a:close/>
                    <a:moveTo>
                      <a:pt x="505" y="187"/>
                    </a:moveTo>
                    <a:lnTo>
                      <a:pt x="525" y="174"/>
                    </a:lnTo>
                    <a:lnTo>
                      <a:pt x="525" y="152"/>
                    </a:lnTo>
                    <a:lnTo>
                      <a:pt x="505" y="140"/>
                    </a:lnTo>
                    <a:lnTo>
                      <a:pt x="484" y="152"/>
                    </a:lnTo>
                    <a:lnTo>
                      <a:pt x="484" y="174"/>
                    </a:lnTo>
                    <a:lnTo>
                      <a:pt x="505" y="187"/>
                    </a:lnTo>
                    <a:close/>
                    <a:moveTo>
                      <a:pt x="371" y="234"/>
                    </a:moveTo>
                    <a:lnTo>
                      <a:pt x="391" y="222"/>
                    </a:lnTo>
                    <a:lnTo>
                      <a:pt x="391" y="198"/>
                    </a:lnTo>
                    <a:lnTo>
                      <a:pt x="371" y="187"/>
                    </a:lnTo>
                    <a:lnTo>
                      <a:pt x="351" y="198"/>
                    </a:lnTo>
                    <a:lnTo>
                      <a:pt x="351" y="222"/>
                    </a:lnTo>
                    <a:lnTo>
                      <a:pt x="371" y="234"/>
                    </a:lnTo>
                    <a:close/>
                    <a:moveTo>
                      <a:pt x="425" y="234"/>
                    </a:moveTo>
                    <a:lnTo>
                      <a:pt x="447" y="222"/>
                    </a:lnTo>
                    <a:lnTo>
                      <a:pt x="447" y="198"/>
                    </a:lnTo>
                    <a:lnTo>
                      <a:pt x="425" y="187"/>
                    </a:lnTo>
                    <a:lnTo>
                      <a:pt x="405" y="198"/>
                    </a:lnTo>
                    <a:lnTo>
                      <a:pt x="405" y="222"/>
                    </a:lnTo>
                    <a:lnTo>
                      <a:pt x="425" y="234"/>
                    </a:lnTo>
                    <a:close/>
                    <a:moveTo>
                      <a:pt x="21" y="279"/>
                    </a:moveTo>
                    <a:lnTo>
                      <a:pt x="41" y="268"/>
                    </a:lnTo>
                    <a:lnTo>
                      <a:pt x="41" y="245"/>
                    </a:lnTo>
                    <a:lnTo>
                      <a:pt x="21" y="234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21" y="279"/>
                    </a:lnTo>
                    <a:close/>
                    <a:moveTo>
                      <a:pt x="74" y="279"/>
                    </a:moveTo>
                    <a:lnTo>
                      <a:pt x="93" y="268"/>
                    </a:lnTo>
                    <a:lnTo>
                      <a:pt x="93" y="245"/>
                    </a:lnTo>
                    <a:lnTo>
                      <a:pt x="74" y="234"/>
                    </a:lnTo>
                    <a:lnTo>
                      <a:pt x="54" y="245"/>
                    </a:lnTo>
                    <a:lnTo>
                      <a:pt x="54" y="268"/>
                    </a:lnTo>
                    <a:lnTo>
                      <a:pt x="74" y="279"/>
                    </a:lnTo>
                    <a:close/>
                    <a:moveTo>
                      <a:pt x="127" y="279"/>
                    </a:moveTo>
                    <a:lnTo>
                      <a:pt x="147" y="268"/>
                    </a:lnTo>
                    <a:lnTo>
                      <a:pt x="147" y="245"/>
                    </a:lnTo>
                    <a:lnTo>
                      <a:pt x="127" y="234"/>
                    </a:lnTo>
                    <a:lnTo>
                      <a:pt x="107" y="245"/>
                    </a:lnTo>
                    <a:lnTo>
                      <a:pt x="107" y="268"/>
                    </a:lnTo>
                    <a:lnTo>
                      <a:pt x="127" y="279"/>
                    </a:lnTo>
                    <a:close/>
                    <a:moveTo>
                      <a:pt x="181" y="279"/>
                    </a:moveTo>
                    <a:lnTo>
                      <a:pt x="201" y="268"/>
                    </a:lnTo>
                    <a:lnTo>
                      <a:pt x="201" y="245"/>
                    </a:lnTo>
                    <a:lnTo>
                      <a:pt x="181" y="234"/>
                    </a:lnTo>
                    <a:lnTo>
                      <a:pt x="161" y="245"/>
                    </a:lnTo>
                    <a:lnTo>
                      <a:pt x="161" y="268"/>
                    </a:lnTo>
                    <a:lnTo>
                      <a:pt x="181" y="279"/>
                    </a:lnTo>
                    <a:close/>
                    <a:moveTo>
                      <a:pt x="236" y="279"/>
                    </a:moveTo>
                    <a:lnTo>
                      <a:pt x="256" y="268"/>
                    </a:lnTo>
                    <a:lnTo>
                      <a:pt x="256" y="245"/>
                    </a:lnTo>
                    <a:lnTo>
                      <a:pt x="236" y="234"/>
                    </a:lnTo>
                    <a:lnTo>
                      <a:pt x="215" y="245"/>
                    </a:lnTo>
                    <a:lnTo>
                      <a:pt x="215" y="268"/>
                    </a:lnTo>
                    <a:lnTo>
                      <a:pt x="236" y="279"/>
                    </a:lnTo>
                    <a:close/>
                    <a:moveTo>
                      <a:pt x="290" y="279"/>
                    </a:moveTo>
                    <a:lnTo>
                      <a:pt x="310" y="268"/>
                    </a:lnTo>
                    <a:lnTo>
                      <a:pt x="310" y="245"/>
                    </a:lnTo>
                    <a:lnTo>
                      <a:pt x="290" y="234"/>
                    </a:lnTo>
                    <a:lnTo>
                      <a:pt x="270" y="245"/>
                    </a:lnTo>
                    <a:lnTo>
                      <a:pt x="270" y="268"/>
                    </a:lnTo>
                    <a:lnTo>
                      <a:pt x="290" y="279"/>
                    </a:lnTo>
                    <a:close/>
                    <a:moveTo>
                      <a:pt x="344" y="279"/>
                    </a:moveTo>
                    <a:lnTo>
                      <a:pt x="365" y="268"/>
                    </a:lnTo>
                    <a:lnTo>
                      <a:pt x="365" y="245"/>
                    </a:lnTo>
                    <a:lnTo>
                      <a:pt x="344" y="234"/>
                    </a:lnTo>
                    <a:lnTo>
                      <a:pt x="324" y="245"/>
                    </a:lnTo>
                    <a:lnTo>
                      <a:pt x="324" y="268"/>
                    </a:lnTo>
                    <a:lnTo>
                      <a:pt x="344" y="279"/>
                    </a:lnTo>
                    <a:close/>
                    <a:moveTo>
                      <a:pt x="48" y="234"/>
                    </a:moveTo>
                    <a:lnTo>
                      <a:pt x="68" y="222"/>
                    </a:lnTo>
                    <a:lnTo>
                      <a:pt x="68" y="198"/>
                    </a:lnTo>
                    <a:lnTo>
                      <a:pt x="48" y="187"/>
                    </a:lnTo>
                    <a:lnTo>
                      <a:pt x="27" y="198"/>
                    </a:lnTo>
                    <a:lnTo>
                      <a:pt x="27" y="222"/>
                    </a:lnTo>
                    <a:lnTo>
                      <a:pt x="48" y="234"/>
                    </a:lnTo>
                    <a:close/>
                    <a:moveTo>
                      <a:pt x="99" y="234"/>
                    </a:moveTo>
                    <a:lnTo>
                      <a:pt x="120" y="222"/>
                    </a:lnTo>
                    <a:lnTo>
                      <a:pt x="120" y="198"/>
                    </a:lnTo>
                    <a:lnTo>
                      <a:pt x="99" y="187"/>
                    </a:lnTo>
                    <a:lnTo>
                      <a:pt x="82" y="198"/>
                    </a:lnTo>
                    <a:lnTo>
                      <a:pt x="82" y="222"/>
                    </a:lnTo>
                    <a:lnTo>
                      <a:pt x="99" y="234"/>
                    </a:lnTo>
                    <a:close/>
                    <a:moveTo>
                      <a:pt x="155" y="234"/>
                    </a:moveTo>
                    <a:lnTo>
                      <a:pt x="175" y="222"/>
                    </a:lnTo>
                    <a:lnTo>
                      <a:pt x="175" y="198"/>
                    </a:lnTo>
                    <a:lnTo>
                      <a:pt x="155" y="187"/>
                    </a:lnTo>
                    <a:lnTo>
                      <a:pt x="133" y="198"/>
                    </a:lnTo>
                    <a:lnTo>
                      <a:pt x="133" y="222"/>
                    </a:lnTo>
                    <a:lnTo>
                      <a:pt x="155" y="234"/>
                    </a:lnTo>
                    <a:close/>
                    <a:moveTo>
                      <a:pt x="208" y="234"/>
                    </a:moveTo>
                    <a:lnTo>
                      <a:pt x="229" y="222"/>
                    </a:lnTo>
                    <a:lnTo>
                      <a:pt x="229" y="198"/>
                    </a:lnTo>
                    <a:lnTo>
                      <a:pt x="208" y="187"/>
                    </a:lnTo>
                    <a:lnTo>
                      <a:pt x="188" y="198"/>
                    </a:lnTo>
                    <a:lnTo>
                      <a:pt x="188" y="222"/>
                    </a:lnTo>
                    <a:lnTo>
                      <a:pt x="208" y="234"/>
                    </a:lnTo>
                    <a:close/>
                    <a:moveTo>
                      <a:pt x="262" y="234"/>
                    </a:moveTo>
                    <a:lnTo>
                      <a:pt x="282" y="222"/>
                    </a:lnTo>
                    <a:lnTo>
                      <a:pt x="282" y="198"/>
                    </a:lnTo>
                    <a:lnTo>
                      <a:pt x="262" y="187"/>
                    </a:lnTo>
                    <a:lnTo>
                      <a:pt x="242" y="198"/>
                    </a:lnTo>
                    <a:lnTo>
                      <a:pt x="242" y="222"/>
                    </a:lnTo>
                    <a:lnTo>
                      <a:pt x="262" y="234"/>
                    </a:lnTo>
                    <a:close/>
                    <a:moveTo>
                      <a:pt x="317" y="234"/>
                    </a:moveTo>
                    <a:lnTo>
                      <a:pt x="338" y="222"/>
                    </a:lnTo>
                    <a:lnTo>
                      <a:pt x="338" y="198"/>
                    </a:lnTo>
                    <a:lnTo>
                      <a:pt x="317" y="187"/>
                    </a:lnTo>
                    <a:lnTo>
                      <a:pt x="296" y="198"/>
                    </a:lnTo>
                    <a:lnTo>
                      <a:pt x="296" y="222"/>
                    </a:lnTo>
                    <a:lnTo>
                      <a:pt x="317" y="234"/>
                    </a:lnTo>
                    <a:close/>
                    <a:moveTo>
                      <a:pt x="399" y="279"/>
                    </a:moveTo>
                    <a:lnTo>
                      <a:pt x="419" y="268"/>
                    </a:lnTo>
                    <a:lnTo>
                      <a:pt x="419" y="245"/>
                    </a:lnTo>
                    <a:lnTo>
                      <a:pt x="399" y="234"/>
                    </a:lnTo>
                    <a:lnTo>
                      <a:pt x="378" y="245"/>
                    </a:lnTo>
                    <a:lnTo>
                      <a:pt x="378" y="268"/>
                    </a:lnTo>
                    <a:lnTo>
                      <a:pt x="399" y="279"/>
                    </a:lnTo>
                    <a:close/>
                    <a:moveTo>
                      <a:pt x="371" y="140"/>
                    </a:moveTo>
                    <a:lnTo>
                      <a:pt x="391" y="128"/>
                    </a:lnTo>
                    <a:lnTo>
                      <a:pt x="391" y="105"/>
                    </a:lnTo>
                    <a:lnTo>
                      <a:pt x="371" y="94"/>
                    </a:lnTo>
                    <a:lnTo>
                      <a:pt x="351" y="105"/>
                    </a:lnTo>
                    <a:lnTo>
                      <a:pt x="351" y="128"/>
                    </a:lnTo>
                    <a:lnTo>
                      <a:pt x="371" y="140"/>
                    </a:lnTo>
                    <a:close/>
                    <a:moveTo>
                      <a:pt x="425" y="140"/>
                    </a:moveTo>
                    <a:lnTo>
                      <a:pt x="447" y="128"/>
                    </a:lnTo>
                    <a:lnTo>
                      <a:pt x="447" y="105"/>
                    </a:lnTo>
                    <a:lnTo>
                      <a:pt x="425" y="94"/>
                    </a:lnTo>
                    <a:lnTo>
                      <a:pt x="405" y="105"/>
                    </a:lnTo>
                    <a:lnTo>
                      <a:pt x="405" y="128"/>
                    </a:lnTo>
                    <a:lnTo>
                      <a:pt x="425" y="140"/>
                    </a:lnTo>
                    <a:close/>
                    <a:moveTo>
                      <a:pt x="21" y="187"/>
                    </a:moveTo>
                    <a:lnTo>
                      <a:pt x="41" y="174"/>
                    </a:lnTo>
                    <a:lnTo>
                      <a:pt x="41" y="152"/>
                    </a:lnTo>
                    <a:lnTo>
                      <a:pt x="21" y="14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21" y="187"/>
                    </a:lnTo>
                    <a:close/>
                    <a:moveTo>
                      <a:pt x="74" y="187"/>
                    </a:moveTo>
                    <a:lnTo>
                      <a:pt x="93" y="174"/>
                    </a:lnTo>
                    <a:lnTo>
                      <a:pt x="93" y="152"/>
                    </a:lnTo>
                    <a:lnTo>
                      <a:pt x="74" y="140"/>
                    </a:lnTo>
                    <a:lnTo>
                      <a:pt x="54" y="152"/>
                    </a:lnTo>
                    <a:lnTo>
                      <a:pt x="54" y="174"/>
                    </a:lnTo>
                    <a:lnTo>
                      <a:pt x="74" y="187"/>
                    </a:lnTo>
                    <a:close/>
                    <a:moveTo>
                      <a:pt x="127" y="187"/>
                    </a:moveTo>
                    <a:lnTo>
                      <a:pt x="147" y="174"/>
                    </a:lnTo>
                    <a:lnTo>
                      <a:pt x="147" y="152"/>
                    </a:lnTo>
                    <a:lnTo>
                      <a:pt x="127" y="140"/>
                    </a:lnTo>
                    <a:lnTo>
                      <a:pt x="107" y="152"/>
                    </a:lnTo>
                    <a:lnTo>
                      <a:pt x="107" y="174"/>
                    </a:lnTo>
                    <a:lnTo>
                      <a:pt x="127" y="187"/>
                    </a:lnTo>
                    <a:close/>
                    <a:moveTo>
                      <a:pt x="181" y="187"/>
                    </a:moveTo>
                    <a:lnTo>
                      <a:pt x="201" y="174"/>
                    </a:lnTo>
                    <a:lnTo>
                      <a:pt x="201" y="152"/>
                    </a:lnTo>
                    <a:lnTo>
                      <a:pt x="181" y="140"/>
                    </a:lnTo>
                    <a:lnTo>
                      <a:pt x="161" y="152"/>
                    </a:lnTo>
                    <a:lnTo>
                      <a:pt x="161" y="174"/>
                    </a:lnTo>
                    <a:lnTo>
                      <a:pt x="181" y="187"/>
                    </a:lnTo>
                    <a:close/>
                    <a:moveTo>
                      <a:pt x="236" y="187"/>
                    </a:moveTo>
                    <a:lnTo>
                      <a:pt x="256" y="174"/>
                    </a:lnTo>
                    <a:lnTo>
                      <a:pt x="256" y="152"/>
                    </a:lnTo>
                    <a:lnTo>
                      <a:pt x="236" y="140"/>
                    </a:lnTo>
                    <a:lnTo>
                      <a:pt x="215" y="152"/>
                    </a:lnTo>
                    <a:lnTo>
                      <a:pt x="215" y="174"/>
                    </a:lnTo>
                    <a:lnTo>
                      <a:pt x="236" y="187"/>
                    </a:lnTo>
                    <a:close/>
                    <a:moveTo>
                      <a:pt x="290" y="187"/>
                    </a:moveTo>
                    <a:lnTo>
                      <a:pt x="310" y="174"/>
                    </a:lnTo>
                    <a:lnTo>
                      <a:pt x="310" y="152"/>
                    </a:lnTo>
                    <a:lnTo>
                      <a:pt x="290" y="140"/>
                    </a:lnTo>
                    <a:lnTo>
                      <a:pt x="270" y="152"/>
                    </a:lnTo>
                    <a:lnTo>
                      <a:pt x="270" y="174"/>
                    </a:lnTo>
                    <a:lnTo>
                      <a:pt x="290" y="187"/>
                    </a:lnTo>
                    <a:close/>
                    <a:moveTo>
                      <a:pt x="344" y="187"/>
                    </a:moveTo>
                    <a:lnTo>
                      <a:pt x="365" y="174"/>
                    </a:lnTo>
                    <a:lnTo>
                      <a:pt x="365" y="152"/>
                    </a:lnTo>
                    <a:lnTo>
                      <a:pt x="344" y="140"/>
                    </a:lnTo>
                    <a:lnTo>
                      <a:pt x="324" y="152"/>
                    </a:lnTo>
                    <a:lnTo>
                      <a:pt x="324" y="174"/>
                    </a:lnTo>
                    <a:lnTo>
                      <a:pt x="344" y="187"/>
                    </a:lnTo>
                    <a:close/>
                    <a:moveTo>
                      <a:pt x="262" y="47"/>
                    </a:moveTo>
                    <a:lnTo>
                      <a:pt x="282" y="34"/>
                    </a:lnTo>
                    <a:lnTo>
                      <a:pt x="282" y="11"/>
                    </a:lnTo>
                    <a:lnTo>
                      <a:pt x="262" y="0"/>
                    </a:lnTo>
                    <a:lnTo>
                      <a:pt x="242" y="11"/>
                    </a:lnTo>
                    <a:lnTo>
                      <a:pt x="242" y="34"/>
                    </a:lnTo>
                    <a:lnTo>
                      <a:pt x="262" y="47"/>
                    </a:lnTo>
                    <a:close/>
                    <a:moveTo>
                      <a:pt x="290" y="94"/>
                    </a:moveTo>
                    <a:lnTo>
                      <a:pt x="310" y="82"/>
                    </a:lnTo>
                    <a:lnTo>
                      <a:pt x="310" y="58"/>
                    </a:lnTo>
                    <a:lnTo>
                      <a:pt x="290" y="47"/>
                    </a:lnTo>
                    <a:lnTo>
                      <a:pt x="270" y="58"/>
                    </a:lnTo>
                    <a:lnTo>
                      <a:pt x="270" y="82"/>
                    </a:lnTo>
                    <a:lnTo>
                      <a:pt x="290" y="94"/>
                    </a:lnTo>
                    <a:close/>
                    <a:moveTo>
                      <a:pt x="48" y="140"/>
                    </a:moveTo>
                    <a:lnTo>
                      <a:pt x="68" y="128"/>
                    </a:lnTo>
                    <a:lnTo>
                      <a:pt x="68" y="105"/>
                    </a:lnTo>
                    <a:lnTo>
                      <a:pt x="48" y="94"/>
                    </a:lnTo>
                    <a:lnTo>
                      <a:pt x="27" y="105"/>
                    </a:lnTo>
                    <a:lnTo>
                      <a:pt x="27" y="128"/>
                    </a:lnTo>
                    <a:lnTo>
                      <a:pt x="48" y="140"/>
                    </a:lnTo>
                    <a:close/>
                    <a:moveTo>
                      <a:pt x="99" y="140"/>
                    </a:moveTo>
                    <a:lnTo>
                      <a:pt x="120" y="128"/>
                    </a:lnTo>
                    <a:lnTo>
                      <a:pt x="120" y="105"/>
                    </a:lnTo>
                    <a:lnTo>
                      <a:pt x="99" y="94"/>
                    </a:lnTo>
                    <a:lnTo>
                      <a:pt x="82" y="105"/>
                    </a:lnTo>
                    <a:lnTo>
                      <a:pt x="82" y="128"/>
                    </a:lnTo>
                    <a:lnTo>
                      <a:pt x="99" y="140"/>
                    </a:lnTo>
                    <a:close/>
                    <a:moveTo>
                      <a:pt x="155" y="140"/>
                    </a:moveTo>
                    <a:lnTo>
                      <a:pt x="175" y="128"/>
                    </a:lnTo>
                    <a:lnTo>
                      <a:pt x="175" y="105"/>
                    </a:lnTo>
                    <a:lnTo>
                      <a:pt x="155" y="94"/>
                    </a:lnTo>
                    <a:lnTo>
                      <a:pt x="133" y="105"/>
                    </a:lnTo>
                    <a:lnTo>
                      <a:pt x="133" y="128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29" y="128"/>
                    </a:lnTo>
                    <a:lnTo>
                      <a:pt x="229" y="105"/>
                    </a:lnTo>
                    <a:lnTo>
                      <a:pt x="208" y="94"/>
                    </a:lnTo>
                    <a:lnTo>
                      <a:pt x="188" y="105"/>
                    </a:lnTo>
                    <a:lnTo>
                      <a:pt x="188" y="128"/>
                    </a:lnTo>
                    <a:lnTo>
                      <a:pt x="208" y="140"/>
                    </a:lnTo>
                    <a:close/>
                    <a:moveTo>
                      <a:pt x="155" y="47"/>
                    </a:moveTo>
                    <a:lnTo>
                      <a:pt x="175" y="34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3" y="11"/>
                    </a:lnTo>
                    <a:lnTo>
                      <a:pt x="133" y="34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29" y="34"/>
                    </a:lnTo>
                    <a:lnTo>
                      <a:pt x="229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4"/>
                    </a:lnTo>
                    <a:lnTo>
                      <a:pt x="208" y="47"/>
                    </a:lnTo>
                    <a:close/>
                    <a:moveTo>
                      <a:pt x="21" y="94"/>
                    </a:moveTo>
                    <a:lnTo>
                      <a:pt x="41" y="82"/>
                    </a:lnTo>
                    <a:lnTo>
                      <a:pt x="41" y="58"/>
                    </a:lnTo>
                    <a:lnTo>
                      <a:pt x="21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1" y="94"/>
                    </a:lnTo>
                    <a:close/>
                    <a:moveTo>
                      <a:pt x="74" y="94"/>
                    </a:moveTo>
                    <a:lnTo>
                      <a:pt x="93" y="82"/>
                    </a:lnTo>
                    <a:lnTo>
                      <a:pt x="93" y="58"/>
                    </a:lnTo>
                    <a:lnTo>
                      <a:pt x="74" y="47"/>
                    </a:lnTo>
                    <a:lnTo>
                      <a:pt x="54" y="58"/>
                    </a:lnTo>
                    <a:lnTo>
                      <a:pt x="54" y="82"/>
                    </a:lnTo>
                    <a:lnTo>
                      <a:pt x="74" y="94"/>
                    </a:lnTo>
                    <a:close/>
                    <a:moveTo>
                      <a:pt x="127" y="94"/>
                    </a:moveTo>
                    <a:lnTo>
                      <a:pt x="147" y="82"/>
                    </a:lnTo>
                    <a:lnTo>
                      <a:pt x="147" y="58"/>
                    </a:lnTo>
                    <a:lnTo>
                      <a:pt x="127" y="47"/>
                    </a:lnTo>
                    <a:lnTo>
                      <a:pt x="107" y="58"/>
                    </a:lnTo>
                    <a:lnTo>
                      <a:pt x="107" y="82"/>
                    </a:lnTo>
                    <a:lnTo>
                      <a:pt x="127" y="94"/>
                    </a:lnTo>
                    <a:close/>
                    <a:moveTo>
                      <a:pt x="48" y="47"/>
                    </a:moveTo>
                    <a:lnTo>
                      <a:pt x="68" y="34"/>
                    </a:lnTo>
                    <a:lnTo>
                      <a:pt x="68" y="11"/>
                    </a:lnTo>
                    <a:lnTo>
                      <a:pt x="48" y="0"/>
                    </a:lnTo>
                    <a:lnTo>
                      <a:pt x="27" y="11"/>
                    </a:lnTo>
                    <a:lnTo>
                      <a:pt x="27" y="34"/>
                    </a:lnTo>
                    <a:lnTo>
                      <a:pt x="48" y="47"/>
                    </a:lnTo>
                    <a:close/>
                    <a:moveTo>
                      <a:pt x="99" y="47"/>
                    </a:moveTo>
                    <a:lnTo>
                      <a:pt x="120" y="34"/>
                    </a:lnTo>
                    <a:lnTo>
                      <a:pt x="120" y="11"/>
                    </a:lnTo>
                    <a:lnTo>
                      <a:pt x="99" y="0"/>
                    </a:lnTo>
                    <a:lnTo>
                      <a:pt x="82" y="11"/>
                    </a:lnTo>
                    <a:lnTo>
                      <a:pt x="82" y="34"/>
                    </a:lnTo>
                    <a:lnTo>
                      <a:pt x="99" y="47"/>
                    </a:lnTo>
                    <a:close/>
                    <a:moveTo>
                      <a:pt x="181" y="94"/>
                    </a:moveTo>
                    <a:lnTo>
                      <a:pt x="201" y="82"/>
                    </a:lnTo>
                    <a:lnTo>
                      <a:pt x="201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4"/>
                    </a:lnTo>
                    <a:close/>
                    <a:moveTo>
                      <a:pt x="236" y="94"/>
                    </a:moveTo>
                    <a:lnTo>
                      <a:pt x="256" y="82"/>
                    </a:lnTo>
                    <a:lnTo>
                      <a:pt x="256" y="58"/>
                    </a:lnTo>
                    <a:lnTo>
                      <a:pt x="236" y="47"/>
                    </a:lnTo>
                    <a:lnTo>
                      <a:pt x="215" y="58"/>
                    </a:lnTo>
                    <a:lnTo>
                      <a:pt x="215" y="82"/>
                    </a:lnTo>
                    <a:lnTo>
                      <a:pt x="236" y="94"/>
                    </a:lnTo>
                    <a:close/>
                    <a:moveTo>
                      <a:pt x="262" y="140"/>
                    </a:moveTo>
                    <a:lnTo>
                      <a:pt x="282" y="128"/>
                    </a:lnTo>
                    <a:lnTo>
                      <a:pt x="282" y="105"/>
                    </a:lnTo>
                    <a:lnTo>
                      <a:pt x="262" y="94"/>
                    </a:lnTo>
                    <a:lnTo>
                      <a:pt x="242" y="105"/>
                    </a:lnTo>
                    <a:lnTo>
                      <a:pt x="242" y="128"/>
                    </a:lnTo>
                    <a:lnTo>
                      <a:pt x="262" y="140"/>
                    </a:lnTo>
                    <a:close/>
                    <a:moveTo>
                      <a:pt x="317" y="140"/>
                    </a:moveTo>
                    <a:lnTo>
                      <a:pt x="338" y="128"/>
                    </a:lnTo>
                    <a:lnTo>
                      <a:pt x="338" y="105"/>
                    </a:lnTo>
                    <a:lnTo>
                      <a:pt x="317" y="94"/>
                    </a:lnTo>
                    <a:lnTo>
                      <a:pt x="296" y="105"/>
                    </a:lnTo>
                    <a:lnTo>
                      <a:pt x="296" y="128"/>
                    </a:lnTo>
                    <a:lnTo>
                      <a:pt x="317" y="140"/>
                    </a:lnTo>
                    <a:close/>
                    <a:moveTo>
                      <a:pt x="399" y="187"/>
                    </a:moveTo>
                    <a:lnTo>
                      <a:pt x="419" y="174"/>
                    </a:lnTo>
                    <a:lnTo>
                      <a:pt x="419" y="152"/>
                    </a:lnTo>
                    <a:lnTo>
                      <a:pt x="399" y="140"/>
                    </a:lnTo>
                    <a:lnTo>
                      <a:pt x="378" y="152"/>
                    </a:lnTo>
                    <a:lnTo>
                      <a:pt x="378" y="174"/>
                    </a:lnTo>
                    <a:lnTo>
                      <a:pt x="399" y="187"/>
                    </a:lnTo>
                    <a:close/>
                    <a:moveTo>
                      <a:pt x="480" y="234"/>
                    </a:moveTo>
                    <a:lnTo>
                      <a:pt x="498" y="222"/>
                    </a:lnTo>
                    <a:lnTo>
                      <a:pt x="498" y="198"/>
                    </a:lnTo>
                    <a:lnTo>
                      <a:pt x="480" y="187"/>
                    </a:lnTo>
                    <a:lnTo>
                      <a:pt x="459" y="198"/>
                    </a:lnTo>
                    <a:lnTo>
                      <a:pt x="459" y="222"/>
                    </a:lnTo>
                    <a:lnTo>
                      <a:pt x="480" y="234"/>
                    </a:lnTo>
                    <a:close/>
                    <a:moveTo>
                      <a:pt x="505" y="279"/>
                    </a:moveTo>
                    <a:lnTo>
                      <a:pt x="525" y="268"/>
                    </a:lnTo>
                    <a:lnTo>
                      <a:pt x="525" y="245"/>
                    </a:lnTo>
                    <a:lnTo>
                      <a:pt x="505" y="234"/>
                    </a:lnTo>
                    <a:lnTo>
                      <a:pt x="484" y="245"/>
                    </a:lnTo>
                    <a:lnTo>
                      <a:pt x="484" y="268"/>
                    </a:lnTo>
                    <a:lnTo>
                      <a:pt x="505" y="279"/>
                    </a:lnTo>
                    <a:close/>
                    <a:moveTo>
                      <a:pt x="532" y="421"/>
                    </a:moveTo>
                    <a:lnTo>
                      <a:pt x="552" y="409"/>
                    </a:lnTo>
                    <a:lnTo>
                      <a:pt x="552" y="384"/>
                    </a:lnTo>
                    <a:lnTo>
                      <a:pt x="532" y="373"/>
                    </a:lnTo>
                    <a:lnTo>
                      <a:pt x="512" y="384"/>
                    </a:lnTo>
                    <a:lnTo>
                      <a:pt x="512" y="409"/>
                    </a:lnTo>
                    <a:lnTo>
                      <a:pt x="532" y="421"/>
                    </a:lnTo>
                    <a:close/>
                    <a:moveTo>
                      <a:pt x="532" y="327"/>
                    </a:moveTo>
                    <a:lnTo>
                      <a:pt x="552" y="316"/>
                    </a:lnTo>
                    <a:lnTo>
                      <a:pt x="552" y="292"/>
                    </a:lnTo>
                    <a:lnTo>
                      <a:pt x="532" y="280"/>
                    </a:lnTo>
                    <a:lnTo>
                      <a:pt x="512" y="292"/>
                    </a:lnTo>
                    <a:lnTo>
                      <a:pt x="512" y="316"/>
                    </a:lnTo>
                    <a:lnTo>
                      <a:pt x="532" y="327"/>
                    </a:lnTo>
                    <a:close/>
                    <a:moveTo>
                      <a:pt x="559" y="373"/>
                    </a:moveTo>
                    <a:lnTo>
                      <a:pt x="579" y="361"/>
                    </a:lnTo>
                    <a:lnTo>
                      <a:pt x="579" y="338"/>
                    </a:lnTo>
                    <a:lnTo>
                      <a:pt x="559" y="327"/>
                    </a:lnTo>
                    <a:lnTo>
                      <a:pt x="539" y="338"/>
                    </a:lnTo>
                    <a:lnTo>
                      <a:pt x="539" y="361"/>
                    </a:lnTo>
                    <a:lnTo>
                      <a:pt x="559" y="373"/>
                    </a:lnTo>
                    <a:close/>
                    <a:moveTo>
                      <a:pt x="587" y="421"/>
                    </a:moveTo>
                    <a:lnTo>
                      <a:pt x="607" y="409"/>
                    </a:lnTo>
                    <a:lnTo>
                      <a:pt x="607" y="384"/>
                    </a:lnTo>
                    <a:lnTo>
                      <a:pt x="587" y="373"/>
                    </a:lnTo>
                    <a:lnTo>
                      <a:pt x="566" y="384"/>
                    </a:lnTo>
                    <a:lnTo>
                      <a:pt x="566" y="409"/>
                    </a:lnTo>
                    <a:lnTo>
                      <a:pt x="587" y="421"/>
                    </a:lnTo>
                    <a:close/>
                    <a:moveTo>
                      <a:pt x="829" y="466"/>
                    </a:moveTo>
                    <a:lnTo>
                      <a:pt x="849" y="455"/>
                    </a:lnTo>
                    <a:lnTo>
                      <a:pt x="849" y="432"/>
                    </a:lnTo>
                    <a:lnTo>
                      <a:pt x="829" y="421"/>
                    </a:lnTo>
                    <a:lnTo>
                      <a:pt x="809" y="432"/>
                    </a:lnTo>
                    <a:lnTo>
                      <a:pt x="809" y="455"/>
                    </a:lnTo>
                    <a:lnTo>
                      <a:pt x="829" y="466"/>
                    </a:lnTo>
                    <a:close/>
                    <a:moveTo>
                      <a:pt x="883" y="466"/>
                    </a:moveTo>
                    <a:lnTo>
                      <a:pt x="904" y="455"/>
                    </a:lnTo>
                    <a:lnTo>
                      <a:pt x="904" y="432"/>
                    </a:lnTo>
                    <a:lnTo>
                      <a:pt x="883" y="421"/>
                    </a:lnTo>
                    <a:lnTo>
                      <a:pt x="863" y="432"/>
                    </a:lnTo>
                    <a:lnTo>
                      <a:pt x="863" y="455"/>
                    </a:lnTo>
                    <a:lnTo>
                      <a:pt x="883" y="466"/>
                    </a:lnTo>
                    <a:close/>
                    <a:moveTo>
                      <a:pt x="938" y="466"/>
                    </a:moveTo>
                    <a:lnTo>
                      <a:pt x="958" y="455"/>
                    </a:lnTo>
                    <a:lnTo>
                      <a:pt x="958" y="432"/>
                    </a:lnTo>
                    <a:lnTo>
                      <a:pt x="938" y="421"/>
                    </a:lnTo>
                    <a:lnTo>
                      <a:pt x="916" y="432"/>
                    </a:lnTo>
                    <a:lnTo>
                      <a:pt x="916" y="455"/>
                    </a:lnTo>
                    <a:lnTo>
                      <a:pt x="938" y="466"/>
                    </a:lnTo>
                    <a:close/>
                    <a:moveTo>
                      <a:pt x="992" y="559"/>
                    </a:moveTo>
                    <a:lnTo>
                      <a:pt x="1012" y="548"/>
                    </a:lnTo>
                    <a:lnTo>
                      <a:pt x="1012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48"/>
                    </a:lnTo>
                    <a:lnTo>
                      <a:pt x="992" y="559"/>
                    </a:lnTo>
                    <a:close/>
                    <a:moveTo>
                      <a:pt x="1045" y="559"/>
                    </a:moveTo>
                    <a:lnTo>
                      <a:pt x="1064" y="548"/>
                    </a:lnTo>
                    <a:lnTo>
                      <a:pt x="1064" y="525"/>
                    </a:lnTo>
                    <a:lnTo>
                      <a:pt x="1045" y="514"/>
                    </a:lnTo>
                    <a:lnTo>
                      <a:pt x="1025" y="525"/>
                    </a:lnTo>
                    <a:lnTo>
                      <a:pt x="1025" y="548"/>
                    </a:lnTo>
                    <a:lnTo>
                      <a:pt x="1045" y="559"/>
                    </a:lnTo>
                    <a:close/>
                    <a:moveTo>
                      <a:pt x="801" y="605"/>
                    </a:moveTo>
                    <a:lnTo>
                      <a:pt x="821" y="594"/>
                    </a:lnTo>
                    <a:lnTo>
                      <a:pt x="821" y="571"/>
                    </a:lnTo>
                    <a:lnTo>
                      <a:pt x="801" y="559"/>
                    </a:lnTo>
                    <a:lnTo>
                      <a:pt x="781" y="571"/>
                    </a:lnTo>
                    <a:lnTo>
                      <a:pt x="781" y="594"/>
                    </a:lnTo>
                    <a:lnTo>
                      <a:pt x="801" y="605"/>
                    </a:lnTo>
                    <a:close/>
                    <a:moveTo>
                      <a:pt x="856" y="605"/>
                    </a:moveTo>
                    <a:lnTo>
                      <a:pt x="876" y="594"/>
                    </a:lnTo>
                    <a:lnTo>
                      <a:pt x="876" y="571"/>
                    </a:lnTo>
                    <a:lnTo>
                      <a:pt x="856" y="559"/>
                    </a:lnTo>
                    <a:lnTo>
                      <a:pt x="835" y="571"/>
                    </a:lnTo>
                    <a:lnTo>
                      <a:pt x="835" y="594"/>
                    </a:lnTo>
                    <a:lnTo>
                      <a:pt x="856" y="605"/>
                    </a:lnTo>
                    <a:close/>
                    <a:moveTo>
                      <a:pt x="910" y="605"/>
                    </a:moveTo>
                    <a:lnTo>
                      <a:pt x="930" y="594"/>
                    </a:lnTo>
                    <a:lnTo>
                      <a:pt x="930" y="571"/>
                    </a:lnTo>
                    <a:lnTo>
                      <a:pt x="910" y="559"/>
                    </a:lnTo>
                    <a:lnTo>
                      <a:pt x="890" y="571"/>
                    </a:lnTo>
                    <a:lnTo>
                      <a:pt x="890" y="594"/>
                    </a:lnTo>
                    <a:lnTo>
                      <a:pt x="910" y="605"/>
                    </a:lnTo>
                    <a:close/>
                    <a:moveTo>
                      <a:pt x="964" y="605"/>
                    </a:moveTo>
                    <a:lnTo>
                      <a:pt x="985" y="594"/>
                    </a:lnTo>
                    <a:lnTo>
                      <a:pt x="985" y="571"/>
                    </a:lnTo>
                    <a:lnTo>
                      <a:pt x="964" y="559"/>
                    </a:lnTo>
                    <a:lnTo>
                      <a:pt x="944" y="571"/>
                    </a:lnTo>
                    <a:lnTo>
                      <a:pt x="944" y="594"/>
                    </a:lnTo>
                    <a:lnTo>
                      <a:pt x="964" y="605"/>
                    </a:lnTo>
                    <a:close/>
                    <a:moveTo>
                      <a:pt x="1019" y="605"/>
                    </a:moveTo>
                    <a:lnTo>
                      <a:pt x="1039" y="594"/>
                    </a:lnTo>
                    <a:lnTo>
                      <a:pt x="1039" y="571"/>
                    </a:lnTo>
                    <a:lnTo>
                      <a:pt x="1019" y="559"/>
                    </a:lnTo>
                    <a:lnTo>
                      <a:pt x="998" y="571"/>
                    </a:lnTo>
                    <a:lnTo>
                      <a:pt x="998" y="594"/>
                    </a:lnTo>
                    <a:lnTo>
                      <a:pt x="1019" y="605"/>
                    </a:lnTo>
                    <a:close/>
                    <a:moveTo>
                      <a:pt x="1070" y="605"/>
                    </a:moveTo>
                    <a:lnTo>
                      <a:pt x="1091" y="594"/>
                    </a:lnTo>
                    <a:lnTo>
                      <a:pt x="1091" y="571"/>
                    </a:lnTo>
                    <a:lnTo>
                      <a:pt x="1070" y="559"/>
                    </a:lnTo>
                    <a:lnTo>
                      <a:pt x="1053" y="571"/>
                    </a:lnTo>
                    <a:lnTo>
                      <a:pt x="1053" y="594"/>
                    </a:lnTo>
                    <a:lnTo>
                      <a:pt x="1070" y="605"/>
                    </a:lnTo>
                    <a:close/>
                    <a:moveTo>
                      <a:pt x="505" y="653"/>
                    </a:moveTo>
                    <a:lnTo>
                      <a:pt x="525" y="641"/>
                    </a:lnTo>
                    <a:lnTo>
                      <a:pt x="525" y="619"/>
                    </a:lnTo>
                    <a:lnTo>
                      <a:pt x="505" y="605"/>
                    </a:lnTo>
                    <a:lnTo>
                      <a:pt x="484" y="619"/>
                    </a:lnTo>
                    <a:lnTo>
                      <a:pt x="484" y="641"/>
                    </a:lnTo>
                    <a:lnTo>
                      <a:pt x="505" y="653"/>
                    </a:lnTo>
                    <a:close/>
                    <a:moveTo>
                      <a:pt x="559" y="653"/>
                    </a:moveTo>
                    <a:lnTo>
                      <a:pt x="579" y="641"/>
                    </a:lnTo>
                    <a:lnTo>
                      <a:pt x="579" y="619"/>
                    </a:lnTo>
                    <a:lnTo>
                      <a:pt x="559" y="605"/>
                    </a:lnTo>
                    <a:lnTo>
                      <a:pt x="539" y="619"/>
                    </a:lnTo>
                    <a:lnTo>
                      <a:pt x="539" y="641"/>
                    </a:lnTo>
                    <a:lnTo>
                      <a:pt x="559" y="653"/>
                    </a:lnTo>
                    <a:close/>
                    <a:moveTo>
                      <a:pt x="613" y="653"/>
                    </a:moveTo>
                    <a:lnTo>
                      <a:pt x="634" y="641"/>
                    </a:lnTo>
                    <a:lnTo>
                      <a:pt x="634" y="619"/>
                    </a:lnTo>
                    <a:lnTo>
                      <a:pt x="613" y="605"/>
                    </a:lnTo>
                    <a:lnTo>
                      <a:pt x="593" y="619"/>
                    </a:lnTo>
                    <a:lnTo>
                      <a:pt x="593" y="641"/>
                    </a:lnTo>
                    <a:lnTo>
                      <a:pt x="613" y="653"/>
                    </a:lnTo>
                    <a:close/>
                    <a:moveTo>
                      <a:pt x="666" y="653"/>
                    </a:moveTo>
                    <a:lnTo>
                      <a:pt x="686" y="641"/>
                    </a:lnTo>
                    <a:lnTo>
                      <a:pt x="686" y="619"/>
                    </a:lnTo>
                    <a:lnTo>
                      <a:pt x="666" y="605"/>
                    </a:lnTo>
                    <a:lnTo>
                      <a:pt x="647" y="619"/>
                    </a:lnTo>
                    <a:lnTo>
                      <a:pt x="647" y="641"/>
                    </a:lnTo>
                    <a:lnTo>
                      <a:pt x="666" y="653"/>
                    </a:lnTo>
                    <a:close/>
                    <a:moveTo>
                      <a:pt x="720" y="653"/>
                    </a:moveTo>
                    <a:lnTo>
                      <a:pt x="740" y="641"/>
                    </a:lnTo>
                    <a:lnTo>
                      <a:pt x="740" y="619"/>
                    </a:lnTo>
                    <a:lnTo>
                      <a:pt x="720" y="605"/>
                    </a:lnTo>
                    <a:lnTo>
                      <a:pt x="700" y="619"/>
                    </a:lnTo>
                    <a:lnTo>
                      <a:pt x="700" y="641"/>
                    </a:lnTo>
                    <a:lnTo>
                      <a:pt x="720" y="653"/>
                    </a:lnTo>
                    <a:close/>
                    <a:moveTo>
                      <a:pt x="21" y="653"/>
                    </a:moveTo>
                    <a:lnTo>
                      <a:pt x="41" y="641"/>
                    </a:lnTo>
                    <a:lnTo>
                      <a:pt x="41" y="619"/>
                    </a:lnTo>
                    <a:lnTo>
                      <a:pt x="21" y="605"/>
                    </a:lnTo>
                    <a:lnTo>
                      <a:pt x="0" y="619"/>
                    </a:lnTo>
                    <a:lnTo>
                      <a:pt x="0" y="641"/>
                    </a:lnTo>
                    <a:lnTo>
                      <a:pt x="21" y="653"/>
                    </a:lnTo>
                    <a:close/>
                    <a:moveTo>
                      <a:pt x="74" y="653"/>
                    </a:moveTo>
                    <a:lnTo>
                      <a:pt x="93" y="641"/>
                    </a:lnTo>
                    <a:lnTo>
                      <a:pt x="93" y="619"/>
                    </a:lnTo>
                    <a:lnTo>
                      <a:pt x="74" y="605"/>
                    </a:lnTo>
                    <a:lnTo>
                      <a:pt x="54" y="619"/>
                    </a:lnTo>
                    <a:lnTo>
                      <a:pt x="54" y="641"/>
                    </a:lnTo>
                    <a:lnTo>
                      <a:pt x="74" y="653"/>
                    </a:lnTo>
                    <a:close/>
                    <a:moveTo>
                      <a:pt x="127" y="653"/>
                    </a:moveTo>
                    <a:lnTo>
                      <a:pt x="147" y="641"/>
                    </a:lnTo>
                    <a:lnTo>
                      <a:pt x="147" y="619"/>
                    </a:lnTo>
                    <a:lnTo>
                      <a:pt x="127" y="605"/>
                    </a:lnTo>
                    <a:lnTo>
                      <a:pt x="107" y="619"/>
                    </a:lnTo>
                    <a:lnTo>
                      <a:pt x="107" y="641"/>
                    </a:lnTo>
                    <a:lnTo>
                      <a:pt x="127" y="653"/>
                    </a:lnTo>
                    <a:close/>
                    <a:moveTo>
                      <a:pt x="181" y="653"/>
                    </a:moveTo>
                    <a:lnTo>
                      <a:pt x="201" y="641"/>
                    </a:lnTo>
                    <a:lnTo>
                      <a:pt x="201" y="619"/>
                    </a:lnTo>
                    <a:lnTo>
                      <a:pt x="181" y="605"/>
                    </a:lnTo>
                    <a:lnTo>
                      <a:pt x="161" y="619"/>
                    </a:lnTo>
                    <a:lnTo>
                      <a:pt x="161" y="641"/>
                    </a:lnTo>
                    <a:lnTo>
                      <a:pt x="181" y="653"/>
                    </a:lnTo>
                    <a:close/>
                    <a:moveTo>
                      <a:pt x="236" y="653"/>
                    </a:moveTo>
                    <a:lnTo>
                      <a:pt x="256" y="641"/>
                    </a:lnTo>
                    <a:lnTo>
                      <a:pt x="256" y="619"/>
                    </a:lnTo>
                    <a:lnTo>
                      <a:pt x="236" y="605"/>
                    </a:lnTo>
                    <a:lnTo>
                      <a:pt x="215" y="619"/>
                    </a:lnTo>
                    <a:lnTo>
                      <a:pt x="215" y="641"/>
                    </a:lnTo>
                    <a:lnTo>
                      <a:pt x="236" y="653"/>
                    </a:lnTo>
                    <a:close/>
                    <a:moveTo>
                      <a:pt x="290" y="653"/>
                    </a:moveTo>
                    <a:lnTo>
                      <a:pt x="310" y="641"/>
                    </a:lnTo>
                    <a:lnTo>
                      <a:pt x="310" y="619"/>
                    </a:lnTo>
                    <a:lnTo>
                      <a:pt x="290" y="605"/>
                    </a:lnTo>
                    <a:lnTo>
                      <a:pt x="270" y="619"/>
                    </a:lnTo>
                    <a:lnTo>
                      <a:pt x="270" y="641"/>
                    </a:lnTo>
                    <a:lnTo>
                      <a:pt x="290" y="653"/>
                    </a:lnTo>
                    <a:close/>
                    <a:moveTo>
                      <a:pt x="480" y="605"/>
                    </a:moveTo>
                    <a:lnTo>
                      <a:pt x="498" y="594"/>
                    </a:lnTo>
                    <a:lnTo>
                      <a:pt x="498" y="571"/>
                    </a:lnTo>
                    <a:lnTo>
                      <a:pt x="480" y="559"/>
                    </a:lnTo>
                    <a:lnTo>
                      <a:pt x="459" y="571"/>
                    </a:lnTo>
                    <a:lnTo>
                      <a:pt x="459" y="594"/>
                    </a:lnTo>
                    <a:lnTo>
                      <a:pt x="480" y="605"/>
                    </a:lnTo>
                    <a:close/>
                    <a:moveTo>
                      <a:pt x="532" y="605"/>
                    </a:moveTo>
                    <a:lnTo>
                      <a:pt x="552" y="594"/>
                    </a:lnTo>
                    <a:lnTo>
                      <a:pt x="552" y="571"/>
                    </a:lnTo>
                    <a:lnTo>
                      <a:pt x="532" y="559"/>
                    </a:lnTo>
                    <a:lnTo>
                      <a:pt x="512" y="571"/>
                    </a:lnTo>
                    <a:lnTo>
                      <a:pt x="512" y="594"/>
                    </a:lnTo>
                    <a:lnTo>
                      <a:pt x="532" y="605"/>
                    </a:lnTo>
                    <a:close/>
                    <a:moveTo>
                      <a:pt x="587" y="605"/>
                    </a:moveTo>
                    <a:lnTo>
                      <a:pt x="607" y="594"/>
                    </a:lnTo>
                    <a:lnTo>
                      <a:pt x="607" y="571"/>
                    </a:lnTo>
                    <a:lnTo>
                      <a:pt x="587" y="559"/>
                    </a:lnTo>
                    <a:lnTo>
                      <a:pt x="566" y="571"/>
                    </a:lnTo>
                    <a:lnTo>
                      <a:pt x="566" y="594"/>
                    </a:lnTo>
                    <a:lnTo>
                      <a:pt x="587" y="605"/>
                    </a:lnTo>
                    <a:close/>
                    <a:moveTo>
                      <a:pt x="641" y="605"/>
                    </a:moveTo>
                    <a:lnTo>
                      <a:pt x="658" y="594"/>
                    </a:lnTo>
                    <a:lnTo>
                      <a:pt x="658" y="571"/>
                    </a:lnTo>
                    <a:lnTo>
                      <a:pt x="641" y="559"/>
                    </a:lnTo>
                    <a:lnTo>
                      <a:pt x="621" y="571"/>
                    </a:lnTo>
                    <a:lnTo>
                      <a:pt x="621" y="594"/>
                    </a:lnTo>
                    <a:lnTo>
                      <a:pt x="641" y="605"/>
                    </a:lnTo>
                    <a:close/>
                    <a:moveTo>
                      <a:pt x="48" y="605"/>
                    </a:moveTo>
                    <a:lnTo>
                      <a:pt x="68" y="594"/>
                    </a:lnTo>
                    <a:lnTo>
                      <a:pt x="68" y="571"/>
                    </a:lnTo>
                    <a:lnTo>
                      <a:pt x="48" y="559"/>
                    </a:lnTo>
                    <a:lnTo>
                      <a:pt x="27" y="571"/>
                    </a:lnTo>
                    <a:lnTo>
                      <a:pt x="27" y="594"/>
                    </a:lnTo>
                    <a:lnTo>
                      <a:pt x="48" y="605"/>
                    </a:lnTo>
                    <a:close/>
                    <a:moveTo>
                      <a:pt x="99" y="605"/>
                    </a:moveTo>
                    <a:lnTo>
                      <a:pt x="120" y="594"/>
                    </a:lnTo>
                    <a:lnTo>
                      <a:pt x="120" y="571"/>
                    </a:lnTo>
                    <a:lnTo>
                      <a:pt x="99" y="559"/>
                    </a:lnTo>
                    <a:lnTo>
                      <a:pt x="82" y="571"/>
                    </a:lnTo>
                    <a:lnTo>
                      <a:pt x="82" y="594"/>
                    </a:lnTo>
                    <a:lnTo>
                      <a:pt x="99" y="605"/>
                    </a:lnTo>
                    <a:close/>
                    <a:moveTo>
                      <a:pt x="155" y="605"/>
                    </a:moveTo>
                    <a:lnTo>
                      <a:pt x="175" y="594"/>
                    </a:lnTo>
                    <a:lnTo>
                      <a:pt x="175" y="571"/>
                    </a:lnTo>
                    <a:lnTo>
                      <a:pt x="155" y="559"/>
                    </a:lnTo>
                    <a:lnTo>
                      <a:pt x="133" y="571"/>
                    </a:lnTo>
                    <a:lnTo>
                      <a:pt x="133" y="594"/>
                    </a:lnTo>
                    <a:lnTo>
                      <a:pt x="155" y="605"/>
                    </a:lnTo>
                    <a:close/>
                    <a:moveTo>
                      <a:pt x="208" y="605"/>
                    </a:moveTo>
                    <a:lnTo>
                      <a:pt x="229" y="594"/>
                    </a:lnTo>
                    <a:lnTo>
                      <a:pt x="229" y="571"/>
                    </a:lnTo>
                    <a:lnTo>
                      <a:pt x="208" y="559"/>
                    </a:lnTo>
                    <a:lnTo>
                      <a:pt x="188" y="571"/>
                    </a:lnTo>
                    <a:lnTo>
                      <a:pt x="188" y="594"/>
                    </a:lnTo>
                    <a:lnTo>
                      <a:pt x="208" y="605"/>
                    </a:lnTo>
                    <a:close/>
                    <a:moveTo>
                      <a:pt x="262" y="605"/>
                    </a:moveTo>
                    <a:lnTo>
                      <a:pt x="282" y="594"/>
                    </a:lnTo>
                    <a:lnTo>
                      <a:pt x="282" y="571"/>
                    </a:lnTo>
                    <a:lnTo>
                      <a:pt x="262" y="559"/>
                    </a:lnTo>
                    <a:lnTo>
                      <a:pt x="242" y="571"/>
                    </a:lnTo>
                    <a:lnTo>
                      <a:pt x="242" y="594"/>
                    </a:lnTo>
                    <a:lnTo>
                      <a:pt x="262" y="605"/>
                    </a:lnTo>
                    <a:close/>
                    <a:moveTo>
                      <a:pt x="692" y="605"/>
                    </a:moveTo>
                    <a:lnTo>
                      <a:pt x="713" y="594"/>
                    </a:lnTo>
                    <a:lnTo>
                      <a:pt x="713" y="571"/>
                    </a:lnTo>
                    <a:lnTo>
                      <a:pt x="692" y="559"/>
                    </a:lnTo>
                    <a:lnTo>
                      <a:pt x="675" y="571"/>
                    </a:lnTo>
                    <a:lnTo>
                      <a:pt x="675" y="594"/>
                    </a:lnTo>
                    <a:lnTo>
                      <a:pt x="692" y="605"/>
                    </a:lnTo>
                    <a:close/>
                    <a:moveTo>
                      <a:pt x="747" y="605"/>
                    </a:moveTo>
                    <a:lnTo>
                      <a:pt x="767" y="594"/>
                    </a:lnTo>
                    <a:lnTo>
                      <a:pt x="767" y="571"/>
                    </a:lnTo>
                    <a:lnTo>
                      <a:pt x="747" y="559"/>
                    </a:lnTo>
                    <a:lnTo>
                      <a:pt x="727" y="571"/>
                    </a:lnTo>
                    <a:lnTo>
                      <a:pt x="727" y="594"/>
                    </a:lnTo>
                    <a:lnTo>
                      <a:pt x="747" y="605"/>
                    </a:lnTo>
                    <a:close/>
                    <a:moveTo>
                      <a:pt x="775" y="653"/>
                    </a:moveTo>
                    <a:lnTo>
                      <a:pt x="795" y="641"/>
                    </a:lnTo>
                    <a:lnTo>
                      <a:pt x="795" y="619"/>
                    </a:lnTo>
                    <a:lnTo>
                      <a:pt x="775" y="605"/>
                    </a:lnTo>
                    <a:lnTo>
                      <a:pt x="754" y="619"/>
                    </a:lnTo>
                    <a:lnTo>
                      <a:pt x="754" y="641"/>
                    </a:lnTo>
                    <a:lnTo>
                      <a:pt x="775" y="653"/>
                    </a:lnTo>
                    <a:close/>
                    <a:moveTo>
                      <a:pt x="829" y="653"/>
                    </a:moveTo>
                    <a:lnTo>
                      <a:pt x="849" y="641"/>
                    </a:lnTo>
                    <a:lnTo>
                      <a:pt x="849" y="619"/>
                    </a:lnTo>
                    <a:lnTo>
                      <a:pt x="829" y="605"/>
                    </a:lnTo>
                    <a:lnTo>
                      <a:pt x="809" y="619"/>
                    </a:lnTo>
                    <a:lnTo>
                      <a:pt x="809" y="641"/>
                    </a:lnTo>
                    <a:lnTo>
                      <a:pt x="829" y="653"/>
                    </a:lnTo>
                    <a:close/>
                    <a:moveTo>
                      <a:pt x="883" y="653"/>
                    </a:moveTo>
                    <a:lnTo>
                      <a:pt x="904" y="641"/>
                    </a:lnTo>
                    <a:lnTo>
                      <a:pt x="904" y="619"/>
                    </a:lnTo>
                    <a:lnTo>
                      <a:pt x="883" y="605"/>
                    </a:lnTo>
                    <a:lnTo>
                      <a:pt x="863" y="619"/>
                    </a:lnTo>
                    <a:lnTo>
                      <a:pt x="863" y="641"/>
                    </a:lnTo>
                    <a:lnTo>
                      <a:pt x="883" y="653"/>
                    </a:lnTo>
                    <a:close/>
                    <a:moveTo>
                      <a:pt x="938" y="653"/>
                    </a:moveTo>
                    <a:lnTo>
                      <a:pt x="958" y="641"/>
                    </a:lnTo>
                    <a:lnTo>
                      <a:pt x="958" y="619"/>
                    </a:lnTo>
                    <a:lnTo>
                      <a:pt x="938" y="605"/>
                    </a:lnTo>
                    <a:lnTo>
                      <a:pt x="916" y="619"/>
                    </a:lnTo>
                    <a:lnTo>
                      <a:pt x="916" y="641"/>
                    </a:lnTo>
                    <a:lnTo>
                      <a:pt x="938" y="653"/>
                    </a:lnTo>
                    <a:close/>
                    <a:moveTo>
                      <a:pt x="992" y="653"/>
                    </a:moveTo>
                    <a:lnTo>
                      <a:pt x="1012" y="641"/>
                    </a:lnTo>
                    <a:lnTo>
                      <a:pt x="1012" y="619"/>
                    </a:lnTo>
                    <a:lnTo>
                      <a:pt x="992" y="605"/>
                    </a:lnTo>
                    <a:lnTo>
                      <a:pt x="972" y="619"/>
                    </a:lnTo>
                    <a:lnTo>
                      <a:pt x="972" y="641"/>
                    </a:lnTo>
                    <a:lnTo>
                      <a:pt x="992" y="653"/>
                    </a:lnTo>
                    <a:close/>
                    <a:moveTo>
                      <a:pt x="1045" y="653"/>
                    </a:moveTo>
                    <a:lnTo>
                      <a:pt x="1064" y="641"/>
                    </a:lnTo>
                    <a:lnTo>
                      <a:pt x="1064" y="619"/>
                    </a:lnTo>
                    <a:lnTo>
                      <a:pt x="1045" y="605"/>
                    </a:lnTo>
                    <a:lnTo>
                      <a:pt x="1025" y="619"/>
                    </a:lnTo>
                    <a:lnTo>
                      <a:pt x="1025" y="641"/>
                    </a:lnTo>
                    <a:lnTo>
                      <a:pt x="1045" y="653"/>
                    </a:lnTo>
                    <a:close/>
                    <a:moveTo>
                      <a:pt x="1019" y="421"/>
                    </a:moveTo>
                    <a:lnTo>
                      <a:pt x="1039" y="409"/>
                    </a:lnTo>
                    <a:lnTo>
                      <a:pt x="1039" y="384"/>
                    </a:lnTo>
                    <a:lnTo>
                      <a:pt x="1019" y="373"/>
                    </a:lnTo>
                    <a:lnTo>
                      <a:pt x="998" y="384"/>
                    </a:lnTo>
                    <a:lnTo>
                      <a:pt x="998" y="409"/>
                    </a:lnTo>
                    <a:lnTo>
                      <a:pt x="1019" y="421"/>
                    </a:lnTo>
                    <a:close/>
                    <a:moveTo>
                      <a:pt x="1045" y="466"/>
                    </a:moveTo>
                    <a:lnTo>
                      <a:pt x="1064" y="455"/>
                    </a:lnTo>
                    <a:lnTo>
                      <a:pt x="1064" y="432"/>
                    </a:lnTo>
                    <a:lnTo>
                      <a:pt x="1045" y="421"/>
                    </a:lnTo>
                    <a:lnTo>
                      <a:pt x="1025" y="432"/>
                    </a:lnTo>
                    <a:lnTo>
                      <a:pt x="1025" y="455"/>
                    </a:lnTo>
                    <a:lnTo>
                      <a:pt x="1045" y="466"/>
                    </a:lnTo>
                    <a:close/>
                    <a:moveTo>
                      <a:pt x="1070" y="421"/>
                    </a:moveTo>
                    <a:lnTo>
                      <a:pt x="1091" y="409"/>
                    </a:lnTo>
                    <a:lnTo>
                      <a:pt x="1091" y="384"/>
                    </a:lnTo>
                    <a:lnTo>
                      <a:pt x="1070" y="373"/>
                    </a:lnTo>
                    <a:lnTo>
                      <a:pt x="1053" y="384"/>
                    </a:lnTo>
                    <a:lnTo>
                      <a:pt x="1053" y="409"/>
                    </a:lnTo>
                    <a:lnTo>
                      <a:pt x="1070" y="421"/>
                    </a:lnTo>
                    <a:close/>
                    <a:moveTo>
                      <a:pt x="964" y="511"/>
                    </a:moveTo>
                    <a:lnTo>
                      <a:pt x="985" y="500"/>
                    </a:lnTo>
                    <a:lnTo>
                      <a:pt x="985" y="477"/>
                    </a:lnTo>
                    <a:lnTo>
                      <a:pt x="964" y="466"/>
                    </a:lnTo>
                    <a:lnTo>
                      <a:pt x="944" y="477"/>
                    </a:lnTo>
                    <a:lnTo>
                      <a:pt x="944" y="500"/>
                    </a:lnTo>
                    <a:lnTo>
                      <a:pt x="964" y="511"/>
                    </a:lnTo>
                    <a:close/>
                    <a:moveTo>
                      <a:pt x="992" y="466"/>
                    </a:moveTo>
                    <a:lnTo>
                      <a:pt x="1012" y="455"/>
                    </a:lnTo>
                    <a:lnTo>
                      <a:pt x="1012" y="432"/>
                    </a:lnTo>
                    <a:lnTo>
                      <a:pt x="992" y="421"/>
                    </a:lnTo>
                    <a:lnTo>
                      <a:pt x="972" y="432"/>
                    </a:lnTo>
                    <a:lnTo>
                      <a:pt x="972" y="455"/>
                    </a:lnTo>
                    <a:lnTo>
                      <a:pt x="992" y="466"/>
                    </a:lnTo>
                    <a:close/>
                    <a:moveTo>
                      <a:pt x="1019" y="511"/>
                    </a:moveTo>
                    <a:lnTo>
                      <a:pt x="1039" y="500"/>
                    </a:lnTo>
                    <a:lnTo>
                      <a:pt x="1039" y="477"/>
                    </a:lnTo>
                    <a:lnTo>
                      <a:pt x="1019" y="466"/>
                    </a:lnTo>
                    <a:lnTo>
                      <a:pt x="998" y="477"/>
                    </a:lnTo>
                    <a:lnTo>
                      <a:pt x="998" y="500"/>
                    </a:lnTo>
                    <a:lnTo>
                      <a:pt x="1019" y="511"/>
                    </a:lnTo>
                    <a:close/>
                    <a:moveTo>
                      <a:pt x="1070" y="511"/>
                    </a:moveTo>
                    <a:lnTo>
                      <a:pt x="1091" y="500"/>
                    </a:lnTo>
                    <a:lnTo>
                      <a:pt x="1091" y="477"/>
                    </a:lnTo>
                    <a:lnTo>
                      <a:pt x="1070" y="466"/>
                    </a:lnTo>
                    <a:lnTo>
                      <a:pt x="1053" y="477"/>
                    </a:lnTo>
                    <a:lnTo>
                      <a:pt x="1053" y="500"/>
                    </a:lnTo>
                    <a:lnTo>
                      <a:pt x="1070" y="5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0" name=""/>
              <p:cNvSpPr/>
              <p:nvPr/>
            </p:nvSpPr>
            <p:spPr>
              <a:xfrm>
                <a:off x="8683200" y="264888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1" name=""/>
              <p:cNvSpPr/>
              <p:nvPr/>
            </p:nvSpPr>
            <p:spPr>
              <a:xfrm>
                <a:off x="872316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2" name=""/>
              <p:cNvSpPr/>
              <p:nvPr/>
            </p:nvSpPr>
            <p:spPr>
              <a:xfrm>
                <a:off x="876132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3" name=""/>
              <p:cNvSpPr/>
              <p:nvPr/>
            </p:nvSpPr>
            <p:spPr>
              <a:xfrm>
                <a:off x="879984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4" name=""/>
              <p:cNvSpPr/>
              <p:nvPr/>
            </p:nvSpPr>
            <p:spPr>
              <a:xfrm>
                <a:off x="8607600" y="264888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5" name=""/>
              <p:cNvSpPr/>
              <p:nvPr/>
            </p:nvSpPr>
            <p:spPr>
              <a:xfrm>
                <a:off x="864468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6" name=""/>
              <p:cNvSpPr/>
              <p:nvPr/>
            </p:nvSpPr>
            <p:spPr>
              <a:xfrm>
                <a:off x="849240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7" name=""/>
              <p:cNvSpPr/>
              <p:nvPr/>
            </p:nvSpPr>
            <p:spPr>
              <a:xfrm>
                <a:off x="853092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8" name=""/>
              <p:cNvSpPr/>
              <p:nvPr/>
            </p:nvSpPr>
            <p:spPr>
              <a:xfrm>
                <a:off x="8569440" y="264888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9" name=""/>
              <p:cNvSpPr/>
              <p:nvPr/>
            </p:nvSpPr>
            <p:spPr>
              <a:xfrm>
                <a:off x="814860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0" name=""/>
              <p:cNvSpPr/>
              <p:nvPr/>
            </p:nvSpPr>
            <p:spPr>
              <a:xfrm>
                <a:off x="8186760" y="264888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1" name=""/>
              <p:cNvSpPr/>
              <p:nvPr/>
            </p:nvSpPr>
            <p:spPr>
              <a:xfrm>
                <a:off x="822384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2" name=""/>
              <p:cNvSpPr/>
              <p:nvPr/>
            </p:nvSpPr>
            <p:spPr>
              <a:xfrm>
                <a:off x="826236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3" name=""/>
              <p:cNvSpPr/>
              <p:nvPr/>
            </p:nvSpPr>
            <p:spPr>
              <a:xfrm>
                <a:off x="8300520" y="264888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4" name=""/>
              <p:cNvSpPr/>
              <p:nvPr/>
            </p:nvSpPr>
            <p:spPr>
              <a:xfrm>
                <a:off x="8339040" y="264888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5" name=""/>
              <p:cNvSpPr/>
              <p:nvPr/>
            </p:nvSpPr>
            <p:spPr>
              <a:xfrm>
                <a:off x="8703000" y="26118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6" name=""/>
              <p:cNvSpPr/>
              <p:nvPr/>
            </p:nvSpPr>
            <p:spPr>
              <a:xfrm>
                <a:off x="8741520" y="261180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7" name=""/>
              <p:cNvSpPr/>
              <p:nvPr/>
            </p:nvSpPr>
            <p:spPr>
              <a:xfrm>
                <a:off x="8781120" y="26118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8" name=""/>
              <p:cNvSpPr/>
              <p:nvPr/>
            </p:nvSpPr>
            <p:spPr>
              <a:xfrm>
                <a:off x="8549640" y="261180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9" name=""/>
              <p:cNvSpPr/>
              <p:nvPr/>
            </p:nvSpPr>
            <p:spPr>
              <a:xfrm>
                <a:off x="8589240" y="26118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0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0" name=""/>
              <p:cNvSpPr/>
              <p:nvPr/>
            </p:nvSpPr>
            <p:spPr>
              <a:xfrm>
                <a:off x="8627760" y="26118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1" name=""/>
              <p:cNvSpPr/>
              <p:nvPr/>
            </p:nvSpPr>
            <p:spPr>
              <a:xfrm>
                <a:off x="8664840" y="26118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2" name=""/>
              <p:cNvSpPr/>
              <p:nvPr/>
            </p:nvSpPr>
            <p:spPr>
              <a:xfrm>
                <a:off x="8397360" y="26118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3" name=""/>
              <p:cNvSpPr/>
              <p:nvPr/>
            </p:nvSpPr>
            <p:spPr>
              <a:xfrm>
                <a:off x="8435880" y="261180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4" name=""/>
              <p:cNvSpPr/>
              <p:nvPr/>
            </p:nvSpPr>
            <p:spPr>
              <a:xfrm>
                <a:off x="8474040" y="26118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1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5" name=""/>
              <p:cNvSpPr/>
              <p:nvPr/>
            </p:nvSpPr>
            <p:spPr>
              <a:xfrm>
                <a:off x="8510760" y="26118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6" name=""/>
              <p:cNvSpPr/>
              <p:nvPr/>
            </p:nvSpPr>
            <p:spPr>
              <a:xfrm>
                <a:off x="8166960" y="26118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7" name=""/>
              <p:cNvSpPr/>
              <p:nvPr/>
            </p:nvSpPr>
            <p:spPr>
              <a:xfrm>
                <a:off x="8205120" y="26118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8" name=""/>
              <p:cNvSpPr/>
              <p:nvPr/>
            </p:nvSpPr>
            <p:spPr>
              <a:xfrm>
                <a:off x="8242200" y="26118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9" name=""/>
              <p:cNvSpPr/>
              <p:nvPr/>
            </p:nvSpPr>
            <p:spPr>
              <a:xfrm>
                <a:off x="8281800" y="26118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0" name=""/>
              <p:cNvSpPr/>
              <p:nvPr/>
            </p:nvSpPr>
            <p:spPr>
              <a:xfrm>
                <a:off x="8320680" y="26118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1" name=""/>
              <p:cNvSpPr/>
              <p:nvPr/>
            </p:nvSpPr>
            <p:spPr>
              <a:xfrm>
                <a:off x="8358840" y="26118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1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2" name=""/>
              <p:cNvSpPr/>
              <p:nvPr/>
            </p:nvSpPr>
            <p:spPr>
              <a:xfrm>
                <a:off x="8492400" y="25761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3" name=""/>
              <p:cNvSpPr/>
              <p:nvPr/>
            </p:nvSpPr>
            <p:spPr>
              <a:xfrm>
                <a:off x="8530920" y="25761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4" name=""/>
              <p:cNvSpPr/>
              <p:nvPr/>
            </p:nvSpPr>
            <p:spPr>
              <a:xfrm>
                <a:off x="8148600" y="25761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5" name=""/>
              <p:cNvSpPr/>
              <p:nvPr/>
            </p:nvSpPr>
            <p:spPr>
              <a:xfrm>
                <a:off x="8186760" y="2576160"/>
                <a:ext cx="2700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6" name=""/>
              <p:cNvSpPr/>
              <p:nvPr/>
            </p:nvSpPr>
            <p:spPr>
              <a:xfrm>
                <a:off x="8223840" y="25761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7" name=""/>
              <p:cNvSpPr/>
              <p:nvPr/>
            </p:nvSpPr>
            <p:spPr>
              <a:xfrm>
                <a:off x="8262360" y="25761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8" name=""/>
              <p:cNvSpPr/>
              <p:nvPr/>
            </p:nvSpPr>
            <p:spPr>
              <a:xfrm>
                <a:off x="8300520" y="2576160"/>
                <a:ext cx="2952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9" name=""/>
              <p:cNvSpPr/>
              <p:nvPr/>
            </p:nvSpPr>
            <p:spPr>
              <a:xfrm>
                <a:off x="8339040" y="25761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0" name=""/>
              <p:cNvSpPr/>
              <p:nvPr/>
            </p:nvSpPr>
            <p:spPr>
              <a:xfrm>
                <a:off x="8377560" y="257616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1" name=""/>
              <p:cNvSpPr/>
              <p:nvPr/>
            </p:nvSpPr>
            <p:spPr>
              <a:xfrm>
                <a:off x="8415720" y="257616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2" name=""/>
              <p:cNvSpPr/>
              <p:nvPr/>
            </p:nvSpPr>
            <p:spPr>
              <a:xfrm>
                <a:off x="8569440" y="257616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3" name=""/>
              <p:cNvSpPr/>
              <p:nvPr/>
            </p:nvSpPr>
            <p:spPr>
              <a:xfrm>
                <a:off x="8607600" y="2576160"/>
                <a:ext cx="2700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4" name=""/>
              <p:cNvSpPr/>
              <p:nvPr/>
            </p:nvSpPr>
            <p:spPr>
              <a:xfrm>
                <a:off x="8644680" y="25761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5" name=""/>
              <p:cNvSpPr/>
              <p:nvPr/>
            </p:nvSpPr>
            <p:spPr>
              <a:xfrm>
                <a:off x="8683200" y="257616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6" name=""/>
              <p:cNvSpPr/>
              <p:nvPr/>
            </p:nvSpPr>
            <p:spPr>
              <a:xfrm>
                <a:off x="8510760" y="239436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7" name=""/>
              <p:cNvSpPr/>
              <p:nvPr/>
            </p:nvSpPr>
            <p:spPr>
              <a:xfrm>
                <a:off x="8510760" y="23227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8" name=""/>
              <p:cNvSpPr/>
              <p:nvPr/>
            </p:nvSpPr>
            <p:spPr>
              <a:xfrm>
                <a:off x="8530920" y="243180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9" name=""/>
              <p:cNvSpPr/>
              <p:nvPr/>
            </p:nvSpPr>
            <p:spPr>
              <a:xfrm>
                <a:off x="8530920" y="23587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0" name=""/>
              <p:cNvSpPr/>
              <p:nvPr/>
            </p:nvSpPr>
            <p:spPr>
              <a:xfrm>
                <a:off x="8530920" y="22852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1" name=""/>
              <p:cNvSpPr/>
              <p:nvPr/>
            </p:nvSpPr>
            <p:spPr>
              <a:xfrm>
                <a:off x="8474040" y="246708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2" name=""/>
              <p:cNvSpPr/>
              <p:nvPr/>
            </p:nvSpPr>
            <p:spPr>
              <a:xfrm>
                <a:off x="8492400" y="250452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3" name=""/>
              <p:cNvSpPr/>
              <p:nvPr/>
            </p:nvSpPr>
            <p:spPr>
              <a:xfrm>
                <a:off x="8166960" y="25387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4" name=""/>
              <p:cNvSpPr/>
              <p:nvPr/>
            </p:nvSpPr>
            <p:spPr>
              <a:xfrm>
                <a:off x="8205120" y="253872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5" name=""/>
              <p:cNvSpPr/>
              <p:nvPr/>
            </p:nvSpPr>
            <p:spPr>
              <a:xfrm>
                <a:off x="8242200" y="253872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6" name=""/>
              <p:cNvSpPr/>
              <p:nvPr/>
            </p:nvSpPr>
            <p:spPr>
              <a:xfrm>
                <a:off x="8281800" y="253872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7" name=""/>
              <p:cNvSpPr/>
              <p:nvPr/>
            </p:nvSpPr>
            <p:spPr>
              <a:xfrm>
                <a:off x="8320680" y="253872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8" name=""/>
              <p:cNvSpPr/>
              <p:nvPr/>
            </p:nvSpPr>
            <p:spPr>
              <a:xfrm>
                <a:off x="8358840" y="253872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9" name=""/>
              <p:cNvSpPr/>
              <p:nvPr/>
            </p:nvSpPr>
            <p:spPr>
              <a:xfrm>
                <a:off x="8397360" y="253872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0" name=""/>
              <p:cNvSpPr/>
              <p:nvPr/>
            </p:nvSpPr>
            <p:spPr>
              <a:xfrm>
                <a:off x="8435880" y="253872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1" name=""/>
              <p:cNvSpPr/>
              <p:nvPr/>
            </p:nvSpPr>
            <p:spPr>
              <a:xfrm>
                <a:off x="8397360" y="2467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2" name=""/>
              <p:cNvSpPr/>
              <p:nvPr/>
            </p:nvSpPr>
            <p:spPr>
              <a:xfrm>
                <a:off x="8435880" y="246708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3" name=""/>
              <p:cNvSpPr/>
              <p:nvPr/>
            </p:nvSpPr>
            <p:spPr>
              <a:xfrm>
                <a:off x="8148600" y="250452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4" name=""/>
              <p:cNvSpPr/>
              <p:nvPr/>
            </p:nvSpPr>
            <p:spPr>
              <a:xfrm>
                <a:off x="8186760" y="2504520"/>
                <a:ext cx="2700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5" name=""/>
              <p:cNvSpPr/>
              <p:nvPr/>
            </p:nvSpPr>
            <p:spPr>
              <a:xfrm>
                <a:off x="8223840" y="250452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6" name=""/>
              <p:cNvSpPr/>
              <p:nvPr/>
            </p:nvSpPr>
            <p:spPr>
              <a:xfrm>
                <a:off x="8262360" y="250452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7" name=""/>
              <p:cNvSpPr/>
              <p:nvPr/>
            </p:nvSpPr>
            <p:spPr>
              <a:xfrm>
                <a:off x="8300520" y="2504520"/>
                <a:ext cx="2952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8" name=""/>
              <p:cNvSpPr/>
              <p:nvPr/>
            </p:nvSpPr>
            <p:spPr>
              <a:xfrm>
                <a:off x="8339040" y="250452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9" name=""/>
              <p:cNvSpPr/>
              <p:nvPr/>
            </p:nvSpPr>
            <p:spPr>
              <a:xfrm>
                <a:off x="8166960" y="24670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0" name=""/>
              <p:cNvSpPr/>
              <p:nvPr/>
            </p:nvSpPr>
            <p:spPr>
              <a:xfrm>
                <a:off x="8205120" y="246708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1" name=""/>
              <p:cNvSpPr/>
              <p:nvPr/>
            </p:nvSpPr>
            <p:spPr>
              <a:xfrm>
                <a:off x="8242200" y="24670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2" name=""/>
              <p:cNvSpPr/>
              <p:nvPr/>
            </p:nvSpPr>
            <p:spPr>
              <a:xfrm>
                <a:off x="8281800" y="246708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3" name=""/>
              <p:cNvSpPr/>
              <p:nvPr/>
            </p:nvSpPr>
            <p:spPr>
              <a:xfrm>
                <a:off x="8320680" y="2467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4" name=""/>
              <p:cNvSpPr/>
              <p:nvPr/>
            </p:nvSpPr>
            <p:spPr>
              <a:xfrm>
                <a:off x="8358840" y="24670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5" name=""/>
              <p:cNvSpPr/>
              <p:nvPr/>
            </p:nvSpPr>
            <p:spPr>
              <a:xfrm>
                <a:off x="8377560" y="2504520"/>
                <a:ext cx="298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6" name=""/>
              <p:cNvSpPr/>
              <p:nvPr/>
            </p:nvSpPr>
            <p:spPr>
              <a:xfrm>
                <a:off x="8415720" y="2504520"/>
                <a:ext cx="298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7" name=""/>
              <p:cNvSpPr/>
              <p:nvPr/>
            </p:nvSpPr>
            <p:spPr>
              <a:xfrm>
                <a:off x="8474040" y="253872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8" name=""/>
              <p:cNvSpPr/>
              <p:nvPr/>
            </p:nvSpPr>
            <p:spPr>
              <a:xfrm>
                <a:off x="8474040" y="232272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9" name=""/>
              <p:cNvSpPr/>
              <p:nvPr/>
            </p:nvSpPr>
            <p:spPr>
              <a:xfrm>
                <a:off x="8492400" y="22852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0" name=""/>
              <p:cNvSpPr/>
              <p:nvPr/>
            </p:nvSpPr>
            <p:spPr>
              <a:xfrm>
                <a:off x="8492400" y="23587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1" name=""/>
              <p:cNvSpPr/>
              <p:nvPr/>
            </p:nvSpPr>
            <p:spPr>
              <a:xfrm>
                <a:off x="8397360" y="23943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2" name=""/>
              <p:cNvSpPr/>
              <p:nvPr/>
            </p:nvSpPr>
            <p:spPr>
              <a:xfrm>
                <a:off x="8435880" y="239436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3" name=""/>
              <p:cNvSpPr/>
              <p:nvPr/>
            </p:nvSpPr>
            <p:spPr>
              <a:xfrm>
                <a:off x="8148600" y="243180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4" name=""/>
              <p:cNvSpPr/>
              <p:nvPr/>
            </p:nvSpPr>
            <p:spPr>
              <a:xfrm>
                <a:off x="8186760" y="2431800"/>
                <a:ext cx="27000" cy="352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5" name=""/>
              <p:cNvSpPr/>
              <p:nvPr/>
            </p:nvSpPr>
            <p:spPr>
              <a:xfrm>
                <a:off x="8223840" y="243180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6" name=""/>
              <p:cNvSpPr/>
              <p:nvPr/>
            </p:nvSpPr>
            <p:spPr>
              <a:xfrm>
                <a:off x="8262360" y="243180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7" name=""/>
              <p:cNvSpPr/>
              <p:nvPr/>
            </p:nvSpPr>
            <p:spPr>
              <a:xfrm>
                <a:off x="8300520" y="2431800"/>
                <a:ext cx="2952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8" name=""/>
              <p:cNvSpPr/>
              <p:nvPr/>
            </p:nvSpPr>
            <p:spPr>
              <a:xfrm>
                <a:off x="8339040" y="243180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9" name=""/>
              <p:cNvSpPr/>
              <p:nvPr/>
            </p:nvSpPr>
            <p:spPr>
              <a:xfrm>
                <a:off x="8377560" y="243180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0" name=""/>
              <p:cNvSpPr/>
              <p:nvPr/>
            </p:nvSpPr>
            <p:spPr>
              <a:xfrm>
                <a:off x="8166960" y="23943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1" name=""/>
              <p:cNvSpPr/>
              <p:nvPr/>
            </p:nvSpPr>
            <p:spPr>
              <a:xfrm>
                <a:off x="8205120" y="239436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2" name=""/>
              <p:cNvSpPr/>
              <p:nvPr/>
            </p:nvSpPr>
            <p:spPr>
              <a:xfrm>
                <a:off x="8242200" y="23943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3" name=""/>
              <p:cNvSpPr/>
              <p:nvPr/>
            </p:nvSpPr>
            <p:spPr>
              <a:xfrm>
                <a:off x="8281800" y="239436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4" name=""/>
              <p:cNvSpPr/>
              <p:nvPr/>
            </p:nvSpPr>
            <p:spPr>
              <a:xfrm>
                <a:off x="8320680" y="23943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5" name=""/>
              <p:cNvSpPr/>
              <p:nvPr/>
            </p:nvSpPr>
            <p:spPr>
              <a:xfrm>
                <a:off x="8358840" y="23943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6" name=""/>
              <p:cNvSpPr/>
              <p:nvPr/>
            </p:nvSpPr>
            <p:spPr>
              <a:xfrm>
                <a:off x="8415720" y="243180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7" name=""/>
              <p:cNvSpPr/>
              <p:nvPr/>
            </p:nvSpPr>
            <p:spPr>
              <a:xfrm>
                <a:off x="8397360" y="23227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8" name=""/>
              <p:cNvSpPr/>
              <p:nvPr/>
            </p:nvSpPr>
            <p:spPr>
              <a:xfrm>
                <a:off x="8435880" y="232272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9" name=""/>
              <p:cNvSpPr/>
              <p:nvPr/>
            </p:nvSpPr>
            <p:spPr>
              <a:xfrm>
                <a:off x="8148600" y="23587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0" name=""/>
              <p:cNvSpPr/>
              <p:nvPr/>
            </p:nvSpPr>
            <p:spPr>
              <a:xfrm>
                <a:off x="8186760" y="2358720"/>
                <a:ext cx="2700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1" name=""/>
              <p:cNvSpPr/>
              <p:nvPr/>
            </p:nvSpPr>
            <p:spPr>
              <a:xfrm>
                <a:off x="8223840" y="23587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2" name=""/>
              <p:cNvSpPr/>
              <p:nvPr/>
            </p:nvSpPr>
            <p:spPr>
              <a:xfrm>
                <a:off x="8262360" y="23587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3" name=""/>
              <p:cNvSpPr/>
              <p:nvPr/>
            </p:nvSpPr>
            <p:spPr>
              <a:xfrm>
                <a:off x="8300520" y="2358720"/>
                <a:ext cx="2952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4" name=""/>
              <p:cNvSpPr/>
              <p:nvPr/>
            </p:nvSpPr>
            <p:spPr>
              <a:xfrm>
                <a:off x="8339040" y="23587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5" name=""/>
              <p:cNvSpPr/>
              <p:nvPr/>
            </p:nvSpPr>
            <p:spPr>
              <a:xfrm>
                <a:off x="8377560" y="235872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6" name=""/>
              <p:cNvSpPr/>
              <p:nvPr/>
            </p:nvSpPr>
            <p:spPr>
              <a:xfrm>
                <a:off x="8320680" y="225000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7" name=""/>
              <p:cNvSpPr/>
              <p:nvPr/>
            </p:nvSpPr>
            <p:spPr>
              <a:xfrm>
                <a:off x="8339040" y="22852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8" name=""/>
              <p:cNvSpPr/>
              <p:nvPr/>
            </p:nvSpPr>
            <p:spPr>
              <a:xfrm>
                <a:off x="8166960" y="232272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7939" name=""/>
            <p:cNvGrpSpPr/>
            <p:nvPr/>
          </p:nvGrpSpPr>
          <p:grpSpPr>
            <a:xfrm>
              <a:off x="4727880" y="2142720"/>
              <a:ext cx="4376520" cy="896400"/>
              <a:chOff x="4727880" y="2142720"/>
              <a:chExt cx="4376520" cy="896400"/>
            </a:xfrm>
          </p:grpSpPr>
          <p:sp>
            <p:nvSpPr>
              <p:cNvPr id="7940" name=""/>
              <p:cNvSpPr/>
              <p:nvPr/>
            </p:nvSpPr>
            <p:spPr>
              <a:xfrm>
                <a:off x="8206200" y="2322360"/>
                <a:ext cx="25920" cy="356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1" name=""/>
              <p:cNvSpPr/>
              <p:nvPr/>
            </p:nvSpPr>
            <p:spPr>
              <a:xfrm>
                <a:off x="8242560" y="232236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2" name=""/>
              <p:cNvSpPr/>
              <p:nvPr/>
            </p:nvSpPr>
            <p:spPr>
              <a:xfrm>
                <a:off x="8282520" y="232236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3" name=""/>
              <p:cNvSpPr/>
              <p:nvPr/>
            </p:nvSpPr>
            <p:spPr>
              <a:xfrm>
                <a:off x="8242560" y="224964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4" name=""/>
              <p:cNvSpPr/>
              <p:nvPr/>
            </p:nvSpPr>
            <p:spPr>
              <a:xfrm>
                <a:off x="8282520" y="224964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5" name=""/>
              <p:cNvSpPr/>
              <p:nvPr/>
            </p:nvSpPr>
            <p:spPr>
              <a:xfrm>
                <a:off x="8148600" y="22852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6" name=""/>
              <p:cNvSpPr/>
              <p:nvPr/>
            </p:nvSpPr>
            <p:spPr>
              <a:xfrm>
                <a:off x="8187480" y="2285280"/>
                <a:ext cx="2592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7" name=""/>
              <p:cNvSpPr/>
              <p:nvPr/>
            </p:nvSpPr>
            <p:spPr>
              <a:xfrm>
                <a:off x="8223840" y="22852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8" name=""/>
              <p:cNvSpPr/>
              <p:nvPr/>
            </p:nvSpPr>
            <p:spPr>
              <a:xfrm>
                <a:off x="8167320" y="224964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9" name=""/>
              <p:cNvSpPr/>
              <p:nvPr/>
            </p:nvSpPr>
            <p:spPr>
              <a:xfrm>
                <a:off x="8206200" y="2249640"/>
                <a:ext cx="25920" cy="3564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0" name=""/>
              <p:cNvSpPr/>
              <p:nvPr/>
            </p:nvSpPr>
            <p:spPr>
              <a:xfrm>
                <a:off x="8262360" y="22852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1" name=""/>
              <p:cNvSpPr/>
              <p:nvPr/>
            </p:nvSpPr>
            <p:spPr>
              <a:xfrm>
                <a:off x="8300880" y="22852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2" name=""/>
              <p:cNvSpPr/>
              <p:nvPr/>
            </p:nvSpPr>
            <p:spPr>
              <a:xfrm>
                <a:off x="8321040" y="2322360"/>
                <a:ext cx="2736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3" name=""/>
              <p:cNvSpPr/>
              <p:nvPr/>
            </p:nvSpPr>
            <p:spPr>
              <a:xfrm>
                <a:off x="8358480" y="232236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4" name=""/>
              <p:cNvSpPr/>
              <p:nvPr/>
            </p:nvSpPr>
            <p:spPr>
              <a:xfrm>
                <a:off x="8416080" y="23580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5" name=""/>
              <p:cNvSpPr/>
              <p:nvPr/>
            </p:nvSpPr>
            <p:spPr>
              <a:xfrm>
                <a:off x="8474760" y="2394000"/>
                <a:ext cx="26280" cy="378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6" name=""/>
              <p:cNvSpPr/>
              <p:nvPr/>
            </p:nvSpPr>
            <p:spPr>
              <a:xfrm>
                <a:off x="8492400" y="243216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7" name=""/>
              <p:cNvSpPr/>
              <p:nvPr/>
            </p:nvSpPr>
            <p:spPr>
              <a:xfrm>
                <a:off x="8511120" y="25390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8" name=""/>
              <p:cNvSpPr/>
              <p:nvPr/>
            </p:nvSpPr>
            <p:spPr>
              <a:xfrm>
                <a:off x="8511120" y="246780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9" name=""/>
              <p:cNvSpPr/>
              <p:nvPr/>
            </p:nvSpPr>
            <p:spPr>
              <a:xfrm>
                <a:off x="8530920" y="2504520"/>
                <a:ext cx="28800" cy="34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0" name=""/>
              <p:cNvSpPr/>
              <p:nvPr/>
            </p:nvSpPr>
            <p:spPr>
              <a:xfrm>
                <a:off x="8550000" y="2539080"/>
                <a:ext cx="29520" cy="367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1" name=""/>
              <p:cNvSpPr/>
              <p:nvPr/>
            </p:nvSpPr>
            <p:spPr>
              <a:xfrm>
                <a:off x="8723520" y="25758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2" name=""/>
              <p:cNvSpPr/>
              <p:nvPr/>
            </p:nvSpPr>
            <p:spPr>
              <a:xfrm>
                <a:off x="8762040" y="2575800"/>
                <a:ext cx="2736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3" name=""/>
              <p:cNvSpPr/>
              <p:nvPr/>
            </p:nvSpPr>
            <p:spPr>
              <a:xfrm>
                <a:off x="8799840" y="25758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4" name=""/>
              <p:cNvSpPr/>
              <p:nvPr/>
            </p:nvSpPr>
            <p:spPr>
              <a:xfrm>
                <a:off x="8838360" y="264852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5" name=""/>
              <p:cNvSpPr/>
              <p:nvPr/>
            </p:nvSpPr>
            <p:spPr>
              <a:xfrm>
                <a:off x="8877240" y="26485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6" name=""/>
              <p:cNvSpPr/>
              <p:nvPr/>
            </p:nvSpPr>
            <p:spPr>
              <a:xfrm>
                <a:off x="8703360" y="2684520"/>
                <a:ext cx="28440" cy="34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7" name=""/>
              <p:cNvSpPr/>
              <p:nvPr/>
            </p:nvSpPr>
            <p:spPr>
              <a:xfrm>
                <a:off x="8742240" y="2684520"/>
                <a:ext cx="29520" cy="34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8" name=""/>
              <p:cNvSpPr/>
              <p:nvPr/>
            </p:nvSpPr>
            <p:spPr>
              <a:xfrm>
                <a:off x="8782200" y="2684520"/>
                <a:ext cx="27360" cy="34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9" name=""/>
              <p:cNvSpPr/>
              <p:nvPr/>
            </p:nvSpPr>
            <p:spPr>
              <a:xfrm>
                <a:off x="8818560" y="2684520"/>
                <a:ext cx="29520" cy="34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0" name=""/>
              <p:cNvSpPr/>
              <p:nvPr/>
            </p:nvSpPr>
            <p:spPr>
              <a:xfrm>
                <a:off x="8857080" y="2684520"/>
                <a:ext cx="29880" cy="34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1" name=""/>
              <p:cNvSpPr/>
              <p:nvPr/>
            </p:nvSpPr>
            <p:spPr>
              <a:xfrm>
                <a:off x="8897040" y="2684520"/>
                <a:ext cx="26280" cy="345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2" name=""/>
              <p:cNvSpPr/>
              <p:nvPr/>
            </p:nvSpPr>
            <p:spPr>
              <a:xfrm>
                <a:off x="8492400" y="27190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3" name=""/>
              <p:cNvSpPr/>
              <p:nvPr/>
            </p:nvSpPr>
            <p:spPr>
              <a:xfrm>
                <a:off x="8530920" y="27190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4" name=""/>
              <p:cNvSpPr/>
              <p:nvPr/>
            </p:nvSpPr>
            <p:spPr>
              <a:xfrm>
                <a:off x="8569800" y="2719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5" name=""/>
              <p:cNvSpPr/>
              <p:nvPr/>
            </p:nvSpPr>
            <p:spPr>
              <a:xfrm>
                <a:off x="8608320" y="2719080"/>
                <a:ext cx="25920" cy="367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19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6" name=""/>
              <p:cNvSpPr/>
              <p:nvPr/>
            </p:nvSpPr>
            <p:spPr>
              <a:xfrm>
                <a:off x="8644680" y="27190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7" name=""/>
              <p:cNvSpPr/>
              <p:nvPr/>
            </p:nvSpPr>
            <p:spPr>
              <a:xfrm>
                <a:off x="8148600" y="27190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8" name=""/>
              <p:cNvSpPr/>
              <p:nvPr/>
            </p:nvSpPr>
            <p:spPr>
              <a:xfrm>
                <a:off x="8187480" y="2719080"/>
                <a:ext cx="25920" cy="367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9" name=""/>
              <p:cNvSpPr/>
              <p:nvPr/>
            </p:nvSpPr>
            <p:spPr>
              <a:xfrm>
                <a:off x="8223840" y="27190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0" name=""/>
              <p:cNvSpPr/>
              <p:nvPr/>
            </p:nvSpPr>
            <p:spPr>
              <a:xfrm>
                <a:off x="8262360" y="27190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1" name=""/>
              <p:cNvSpPr/>
              <p:nvPr/>
            </p:nvSpPr>
            <p:spPr>
              <a:xfrm>
                <a:off x="8300880" y="2719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2" name=""/>
              <p:cNvSpPr/>
              <p:nvPr/>
            </p:nvSpPr>
            <p:spPr>
              <a:xfrm>
                <a:off x="8339760" y="2719080"/>
                <a:ext cx="27360" cy="367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3" name=""/>
              <p:cNvSpPr/>
              <p:nvPr/>
            </p:nvSpPr>
            <p:spPr>
              <a:xfrm>
                <a:off x="8474760" y="2684520"/>
                <a:ext cx="26280" cy="345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8511120" y="2684520"/>
                <a:ext cx="28440" cy="34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8550000" y="2684520"/>
                <a:ext cx="29520" cy="34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6" name=""/>
              <p:cNvSpPr/>
              <p:nvPr/>
            </p:nvSpPr>
            <p:spPr>
              <a:xfrm>
                <a:off x="8589600" y="2684520"/>
                <a:ext cx="27360" cy="3456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20" y="46"/>
                    </a:moveTo>
                    <a:lnTo>
                      <a:pt x="37" y="35"/>
                    </a:lnTo>
                    <a:lnTo>
                      <a:pt x="37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7" name=""/>
              <p:cNvSpPr/>
              <p:nvPr/>
            </p:nvSpPr>
            <p:spPr>
              <a:xfrm>
                <a:off x="8167320" y="2684520"/>
                <a:ext cx="29880" cy="34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8" name=""/>
              <p:cNvSpPr/>
              <p:nvPr/>
            </p:nvSpPr>
            <p:spPr>
              <a:xfrm>
                <a:off x="8206200" y="2684520"/>
                <a:ext cx="25920" cy="345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9" name=""/>
              <p:cNvSpPr/>
              <p:nvPr/>
            </p:nvSpPr>
            <p:spPr>
              <a:xfrm>
                <a:off x="8242560" y="2684520"/>
                <a:ext cx="29880" cy="345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0" name=""/>
              <p:cNvSpPr/>
              <p:nvPr/>
            </p:nvSpPr>
            <p:spPr>
              <a:xfrm>
                <a:off x="8282520" y="2684520"/>
                <a:ext cx="28440" cy="345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1" name=""/>
              <p:cNvSpPr/>
              <p:nvPr/>
            </p:nvSpPr>
            <p:spPr>
              <a:xfrm>
                <a:off x="8321040" y="2684520"/>
                <a:ext cx="27360" cy="34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2" name=""/>
              <p:cNvSpPr/>
              <p:nvPr/>
            </p:nvSpPr>
            <p:spPr>
              <a:xfrm>
                <a:off x="8628480" y="2684520"/>
                <a:ext cx="26280" cy="345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3" name=""/>
              <p:cNvSpPr/>
              <p:nvPr/>
            </p:nvSpPr>
            <p:spPr>
              <a:xfrm>
                <a:off x="8664480" y="2684520"/>
                <a:ext cx="28800" cy="345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4" name=""/>
              <p:cNvSpPr/>
              <p:nvPr/>
            </p:nvSpPr>
            <p:spPr>
              <a:xfrm>
                <a:off x="8683200" y="2719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5" name=""/>
              <p:cNvSpPr/>
              <p:nvPr/>
            </p:nvSpPr>
            <p:spPr>
              <a:xfrm>
                <a:off x="8723520" y="27190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6" name=""/>
              <p:cNvSpPr/>
              <p:nvPr/>
            </p:nvSpPr>
            <p:spPr>
              <a:xfrm>
                <a:off x="8762040" y="2719080"/>
                <a:ext cx="27360" cy="367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7" name=""/>
              <p:cNvSpPr/>
              <p:nvPr/>
            </p:nvSpPr>
            <p:spPr>
              <a:xfrm>
                <a:off x="8799840" y="27190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4"/>
                    </a:lnTo>
                    <a:lnTo>
                      <a:pt x="22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8" name=""/>
              <p:cNvSpPr/>
              <p:nvPr/>
            </p:nvSpPr>
            <p:spPr>
              <a:xfrm>
                <a:off x="8838360" y="2719080"/>
                <a:ext cx="28800" cy="367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8877240" y="271908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8857080" y="2539080"/>
                <a:ext cx="29880" cy="367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1" name=""/>
              <p:cNvSpPr/>
              <p:nvPr/>
            </p:nvSpPr>
            <p:spPr>
              <a:xfrm>
                <a:off x="8877240" y="25758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2" name=""/>
              <p:cNvSpPr/>
              <p:nvPr/>
            </p:nvSpPr>
            <p:spPr>
              <a:xfrm>
                <a:off x="8897040" y="2539080"/>
                <a:ext cx="26280" cy="3672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3" name=""/>
              <p:cNvSpPr/>
              <p:nvPr/>
            </p:nvSpPr>
            <p:spPr>
              <a:xfrm>
                <a:off x="8818560" y="261180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4" name=""/>
              <p:cNvSpPr/>
              <p:nvPr/>
            </p:nvSpPr>
            <p:spPr>
              <a:xfrm>
                <a:off x="8838360" y="2575800"/>
                <a:ext cx="28800" cy="356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5" name=""/>
              <p:cNvSpPr/>
              <p:nvPr/>
            </p:nvSpPr>
            <p:spPr>
              <a:xfrm>
                <a:off x="8857080" y="26118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6" name=""/>
              <p:cNvSpPr/>
              <p:nvPr/>
            </p:nvSpPr>
            <p:spPr>
              <a:xfrm>
                <a:off x="8897040" y="2611800"/>
                <a:ext cx="26280" cy="3564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7" name=""/>
              <p:cNvSpPr/>
              <p:nvPr/>
            </p:nvSpPr>
            <p:spPr>
              <a:xfrm>
                <a:off x="8578440" y="2284200"/>
                <a:ext cx="302040" cy="24408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8" name=""/>
              <p:cNvSpPr/>
              <p:nvPr/>
            </p:nvSpPr>
            <p:spPr>
              <a:xfrm>
                <a:off x="8578440" y="2284200"/>
                <a:ext cx="302040" cy="24408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9" name=""/>
              <p:cNvSpPr/>
              <p:nvPr/>
            </p:nvSpPr>
            <p:spPr>
              <a:xfrm>
                <a:off x="8599680" y="2309400"/>
                <a:ext cx="259560" cy="1951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0" name=""/>
              <p:cNvSpPr/>
              <p:nvPr/>
            </p:nvSpPr>
            <p:spPr>
              <a:xfrm>
                <a:off x="8599680" y="2309400"/>
                <a:ext cx="259560" cy="19512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1" name=""/>
              <p:cNvSpPr/>
              <p:nvPr/>
            </p:nvSpPr>
            <p:spPr>
              <a:xfrm>
                <a:off x="8652240" y="2351160"/>
                <a:ext cx="154800" cy="111960"/>
              </a:xfrm>
              <a:custGeom>
                <a:avLst/>
                <a:gdLst/>
                <a:ahLst/>
                <a:rect l="l" t="t" r="r" b="b"/>
                <a:pathLst>
                  <a:path w="218" h="144">
                    <a:moveTo>
                      <a:pt x="20" y="68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0" y="68"/>
                    </a:lnTo>
                    <a:close/>
                    <a:moveTo>
                      <a:pt x="118" y="144"/>
                    </a:moveTo>
                    <a:lnTo>
                      <a:pt x="118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18" y="144"/>
                    </a:lnTo>
                    <a:close/>
                    <a:moveTo>
                      <a:pt x="218" y="68"/>
                    </a:moveTo>
                    <a:lnTo>
                      <a:pt x="218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8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2" name=""/>
              <p:cNvSpPr/>
              <p:nvPr/>
            </p:nvSpPr>
            <p:spPr>
              <a:xfrm>
                <a:off x="8862120" y="2325960"/>
                <a:ext cx="102240" cy="1987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3" name=""/>
              <p:cNvSpPr/>
              <p:nvPr/>
            </p:nvSpPr>
            <p:spPr>
              <a:xfrm>
                <a:off x="8862120" y="2298600"/>
                <a:ext cx="26280" cy="254880"/>
              </a:xfrm>
              <a:prstGeom prst="rect">
                <a:avLst/>
              </a:prstGeom>
              <a:solidFill>
                <a:srgbClr val="af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4" name=""/>
              <p:cNvSpPr/>
              <p:nvPr/>
            </p:nvSpPr>
            <p:spPr>
              <a:xfrm>
                <a:off x="8888400" y="2298600"/>
                <a:ext cx="27360" cy="254880"/>
              </a:xfrm>
              <a:prstGeom prst="rect">
                <a:avLst/>
              </a:prstGeom>
              <a:solidFill>
                <a:srgbClr val="b6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5" name=""/>
              <p:cNvSpPr/>
              <p:nvPr/>
            </p:nvSpPr>
            <p:spPr>
              <a:xfrm>
                <a:off x="8915760" y="2298600"/>
                <a:ext cx="24840" cy="254880"/>
              </a:xfrm>
              <a:prstGeom prst="rect">
                <a:avLst/>
              </a:prstGeom>
              <a:solidFill>
                <a:srgbClr val="b35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6" name=""/>
              <p:cNvSpPr/>
              <p:nvPr/>
            </p:nvSpPr>
            <p:spPr>
              <a:xfrm>
                <a:off x="8940960" y="2298600"/>
                <a:ext cx="23760" cy="254880"/>
              </a:xfrm>
              <a:prstGeom prst="rect">
                <a:avLst/>
              </a:prstGeom>
              <a:solidFill>
                <a:srgbClr val="b1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7" name=""/>
              <p:cNvSpPr/>
              <p:nvPr/>
            </p:nvSpPr>
            <p:spPr>
              <a:xfrm>
                <a:off x="8964720" y="2298600"/>
                <a:ext cx="25920" cy="254880"/>
              </a:xfrm>
              <a:prstGeom prst="rect">
                <a:avLst/>
              </a:prstGeom>
              <a:solidFill>
                <a:srgbClr val="ae4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8" name=""/>
              <p:cNvSpPr/>
              <p:nvPr/>
            </p:nvSpPr>
            <p:spPr>
              <a:xfrm>
                <a:off x="8880840" y="2304720"/>
                <a:ext cx="99720" cy="216720"/>
              </a:xfrm>
              <a:custGeom>
                <a:avLst/>
                <a:gdLst/>
                <a:ahLst/>
                <a:rect l="l" t="t" r="r" b="b"/>
                <a:pathLst>
                  <a:path w="141" h="280">
                    <a:moveTo>
                      <a:pt x="0" y="261"/>
                    </a:moveTo>
                    <a:lnTo>
                      <a:pt x="0" y="265"/>
                    </a:lnTo>
                    <a:lnTo>
                      <a:pt x="2" y="268"/>
                    </a:lnTo>
                    <a:lnTo>
                      <a:pt x="3" y="272"/>
                    </a:lnTo>
                    <a:lnTo>
                      <a:pt x="5" y="275"/>
                    </a:lnTo>
                    <a:lnTo>
                      <a:pt x="9" y="276"/>
                    </a:lnTo>
                    <a:lnTo>
                      <a:pt x="13" y="279"/>
                    </a:lnTo>
                    <a:lnTo>
                      <a:pt x="17" y="279"/>
                    </a:lnTo>
                    <a:lnTo>
                      <a:pt x="20" y="280"/>
                    </a:lnTo>
                    <a:lnTo>
                      <a:pt x="27" y="280"/>
                    </a:lnTo>
                    <a:lnTo>
                      <a:pt x="116" y="270"/>
                    </a:lnTo>
                    <a:lnTo>
                      <a:pt x="121" y="268"/>
                    </a:lnTo>
                    <a:lnTo>
                      <a:pt x="126" y="267"/>
                    </a:lnTo>
                    <a:lnTo>
                      <a:pt x="129" y="265"/>
                    </a:lnTo>
                    <a:lnTo>
                      <a:pt x="133" y="261"/>
                    </a:lnTo>
                    <a:lnTo>
                      <a:pt x="136" y="257"/>
                    </a:lnTo>
                    <a:lnTo>
                      <a:pt x="138" y="252"/>
                    </a:lnTo>
                    <a:lnTo>
                      <a:pt x="139" y="248"/>
                    </a:lnTo>
                    <a:lnTo>
                      <a:pt x="141" y="243"/>
                    </a:lnTo>
                    <a:lnTo>
                      <a:pt x="141" y="243"/>
                    </a:lnTo>
                    <a:lnTo>
                      <a:pt x="141" y="35"/>
                    </a:lnTo>
                    <a:lnTo>
                      <a:pt x="139" y="31"/>
                    </a:lnTo>
                    <a:lnTo>
                      <a:pt x="138" y="26"/>
                    </a:lnTo>
                    <a:lnTo>
                      <a:pt x="136" y="21"/>
                    </a:lnTo>
                    <a:lnTo>
                      <a:pt x="133" y="17"/>
                    </a:lnTo>
                    <a:lnTo>
                      <a:pt x="128" y="15"/>
                    </a:lnTo>
                    <a:lnTo>
                      <a:pt x="124" y="11"/>
                    </a:lnTo>
                    <a:lnTo>
                      <a:pt x="119" y="10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9" name=""/>
              <p:cNvSpPr/>
              <p:nvPr/>
            </p:nvSpPr>
            <p:spPr>
              <a:xfrm>
                <a:off x="5095080" y="2233080"/>
                <a:ext cx="1912680" cy="673920"/>
              </a:xfrm>
              <a:custGeom>
                <a:avLst/>
                <a:gdLst/>
                <a:ahLst/>
                <a:rect l="l" t="t" r="r" b="b"/>
                <a:pathLst>
                  <a:path w="2690" h="869">
                    <a:moveTo>
                      <a:pt x="1379" y="632"/>
                    </a:moveTo>
                    <a:lnTo>
                      <a:pt x="0" y="632"/>
                    </a:lnTo>
                    <a:lnTo>
                      <a:pt x="0" y="812"/>
                    </a:lnTo>
                    <a:lnTo>
                      <a:pt x="1379" y="812"/>
                    </a:lnTo>
                    <a:lnTo>
                      <a:pt x="1379" y="632"/>
                    </a:lnTo>
                    <a:close/>
                    <a:moveTo>
                      <a:pt x="1379" y="325"/>
                    </a:moveTo>
                    <a:lnTo>
                      <a:pt x="0" y="325"/>
                    </a:lnTo>
                    <a:lnTo>
                      <a:pt x="0" y="507"/>
                    </a:lnTo>
                    <a:lnTo>
                      <a:pt x="1379" y="507"/>
                    </a:lnTo>
                    <a:lnTo>
                      <a:pt x="1379" y="325"/>
                    </a:lnTo>
                    <a:close/>
                    <a:moveTo>
                      <a:pt x="1379" y="19"/>
                    </a:moveTo>
                    <a:lnTo>
                      <a:pt x="0" y="19"/>
                    </a:lnTo>
                    <a:lnTo>
                      <a:pt x="0" y="201"/>
                    </a:lnTo>
                    <a:lnTo>
                      <a:pt x="1379" y="201"/>
                    </a:lnTo>
                    <a:lnTo>
                      <a:pt x="1379" y="19"/>
                    </a:lnTo>
                    <a:close/>
                    <a:moveTo>
                      <a:pt x="1695" y="0"/>
                    </a:moveTo>
                    <a:lnTo>
                      <a:pt x="1695" y="869"/>
                    </a:lnTo>
                    <a:lnTo>
                      <a:pt x="1868" y="869"/>
                    </a:lnTo>
                    <a:lnTo>
                      <a:pt x="1868" y="0"/>
                    </a:lnTo>
                    <a:lnTo>
                      <a:pt x="1695" y="0"/>
                    </a:lnTo>
                    <a:close/>
                    <a:moveTo>
                      <a:pt x="2517" y="0"/>
                    </a:moveTo>
                    <a:lnTo>
                      <a:pt x="2517" y="869"/>
                    </a:lnTo>
                    <a:lnTo>
                      <a:pt x="2690" y="869"/>
                    </a:lnTo>
                    <a:lnTo>
                      <a:pt x="2690" y="0"/>
                    </a:lnTo>
                    <a:lnTo>
                      <a:pt x="251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0" name=""/>
              <p:cNvSpPr/>
              <p:nvPr/>
            </p:nvSpPr>
            <p:spPr>
              <a:xfrm>
                <a:off x="5095080" y="2722680"/>
                <a:ext cx="980280" cy="1414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1" name=""/>
              <p:cNvSpPr/>
              <p:nvPr/>
            </p:nvSpPr>
            <p:spPr>
              <a:xfrm>
                <a:off x="5095080" y="2484360"/>
                <a:ext cx="980280" cy="1414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2" name=""/>
              <p:cNvSpPr/>
              <p:nvPr/>
            </p:nvSpPr>
            <p:spPr>
              <a:xfrm>
                <a:off x="5095080" y="2246400"/>
                <a:ext cx="980280" cy="1414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3" name=""/>
              <p:cNvSpPr/>
              <p:nvPr/>
            </p:nvSpPr>
            <p:spPr>
              <a:xfrm>
                <a:off x="6300720" y="2233080"/>
                <a:ext cx="123480" cy="6739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4" name=""/>
              <p:cNvSpPr/>
              <p:nvPr/>
            </p:nvSpPr>
            <p:spPr>
              <a:xfrm>
                <a:off x="6885720" y="2233080"/>
                <a:ext cx="122040" cy="6739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5" name=""/>
              <p:cNvSpPr/>
              <p:nvPr/>
            </p:nvSpPr>
            <p:spPr>
              <a:xfrm>
                <a:off x="5137560" y="2266560"/>
                <a:ext cx="1830240" cy="604800"/>
              </a:xfrm>
              <a:custGeom>
                <a:avLst/>
                <a:gdLst/>
                <a:ahLst/>
                <a:rect l="l" t="t" r="r" b="b"/>
                <a:pathLst>
                  <a:path w="2573" h="779">
                    <a:moveTo>
                      <a:pt x="1139" y="36"/>
                    </a:moveTo>
                    <a:lnTo>
                      <a:pt x="123" y="36"/>
                    </a:lnTo>
                    <a:lnTo>
                      <a:pt x="110" y="36"/>
                    </a:lnTo>
                    <a:lnTo>
                      <a:pt x="98" y="36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6" y="39"/>
                    </a:lnTo>
                    <a:lnTo>
                      <a:pt x="27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6" y="88"/>
                    </a:lnTo>
                    <a:lnTo>
                      <a:pt x="10" y="89"/>
                    </a:lnTo>
                    <a:lnTo>
                      <a:pt x="15" y="90"/>
                    </a:lnTo>
                    <a:lnTo>
                      <a:pt x="21" y="90"/>
                    </a:lnTo>
                    <a:lnTo>
                      <a:pt x="27" y="92"/>
                    </a:lnTo>
                    <a:lnTo>
                      <a:pt x="36" y="92"/>
                    </a:lnTo>
                    <a:lnTo>
                      <a:pt x="45" y="93"/>
                    </a:lnTo>
                    <a:lnTo>
                      <a:pt x="54" y="93"/>
                    </a:lnTo>
                    <a:lnTo>
                      <a:pt x="64" y="94"/>
                    </a:lnTo>
                    <a:lnTo>
                      <a:pt x="75" y="94"/>
                    </a:lnTo>
                    <a:lnTo>
                      <a:pt x="86" y="94"/>
                    </a:lnTo>
                    <a:lnTo>
                      <a:pt x="98" y="94"/>
                    </a:lnTo>
                    <a:lnTo>
                      <a:pt x="110" y="94"/>
                    </a:lnTo>
                    <a:lnTo>
                      <a:pt x="123" y="96"/>
                    </a:lnTo>
                    <a:lnTo>
                      <a:pt x="123" y="96"/>
                    </a:lnTo>
                    <a:lnTo>
                      <a:pt x="1139" y="96"/>
                    </a:lnTo>
                    <a:lnTo>
                      <a:pt x="1151" y="94"/>
                    </a:lnTo>
                    <a:lnTo>
                      <a:pt x="1164" y="94"/>
                    </a:lnTo>
                    <a:lnTo>
                      <a:pt x="1175" y="94"/>
                    </a:lnTo>
                    <a:lnTo>
                      <a:pt x="1186" y="94"/>
                    </a:lnTo>
                    <a:lnTo>
                      <a:pt x="1198" y="94"/>
                    </a:lnTo>
                    <a:lnTo>
                      <a:pt x="1208" y="93"/>
                    </a:lnTo>
                    <a:lnTo>
                      <a:pt x="1216" y="93"/>
                    </a:lnTo>
                    <a:lnTo>
                      <a:pt x="1225" y="92"/>
                    </a:lnTo>
                    <a:lnTo>
                      <a:pt x="1233" y="92"/>
                    </a:lnTo>
                    <a:lnTo>
                      <a:pt x="1240" y="90"/>
                    </a:lnTo>
                    <a:lnTo>
                      <a:pt x="1246" y="90"/>
                    </a:lnTo>
                    <a:lnTo>
                      <a:pt x="1251" y="89"/>
                    </a:lnTo>
                    <a:lnTo>
                      <a:pt x="1255" y="88"/>
                    </a:lnTo>
                    <a:lnTo>
                      <a:pt x="1259" y="88"/>
                    </a:lnTo>
                    <a:lnTo>
                      <a:pt x="1260" y="87"/>
                    </a:lnTo>
                    <a:lnTo>
                      <a:pt x="1260" y="87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45"/>
                    </a:lnTo>
                    <a:lnTo>
                      <a:pt x="1260" y="44"/>
                    </a:lnTo>
                    <a:lnTo>
                      <a:pt x="1260" y="44"/>
                    </a:lnTo>
                    <a:lnTo>
                      <a:pt x="1259" y="43"/>
                    </a:lnTo>
                    <a:lnTo>
                      <a:pt x="1255" y="43"/>
                    </a:lnTo>
                    <a:lnTo>
                      <a:pt x="1251" y="41"/>
                    </a:lnTo>
                    <a:lnTo>
                      <a:pt x="1246" y="41"/>
                    </a:lnTo>
                    <a:lnTo>
                      <a:pt x="1240" y="40"/>
                    </a:lnTo>
                    <a:lnTo>
                      <a:pt x="1233" y="39"/>
                    </a:lnTo>
                    <a:lnTo>
                      <a:pt x="1225" y="39"/>
                    </a:lnTo>
                    <a:lnTo>
                      <a:pt x="1216" y="37"/>
                    </a:lnTo>
                    <a:lnTo>
                      <a:pt x="1208" y="37"/>
                    </a:lnTo>
                    <a:lnTo>
                      <a:pt x="1198" y="37"/>
                    </a:lnTo>
                    <a:lnTo>
                      <a:pt x="1186" y="36"/>
                    </a:lnTo>
                    <a:lnTo>
                      <a:pt x="1175" y="36"/>
                    </a:lnTo>
                    <a:lnTo>
                      <a:pt x="1164" y="36"/>
                    </a:lnTo>
                    <a:lnTo>
                      <a:pt x="1151" y="36"/>
                    </a:lnTo>
                    <a:lnTo>
                      <a:pt x="1139" y="36"/>
                    </a:lnTo>
                    <a:lnTo>
                      <a:pt x="1139" y="36"/>
                    </a:lnTo>
                    <a:close/>
                    <a:moveTo>
                      <a:pt x="1139" y="340"/>
                    </a:moveTo>
                    <a:lnTo>
                      <a:pt x="123" y="340"/>
                    </a:lnTo>
                    <a:lnTo>
                      <a:pt x="110" y="340"/>
                    </a:lnTo>
                    <a:lnTo>
                      <a:pt x="98" y="342"/>
                    </a:lnTo>
                    <a:lnTo>
                      <a:pt x="86" y="342"/>
                    </a:lnTo>
                    <a:lnTo>
                      <a:pt x="75" y="342"/>
                    </a:lnTo>
                    <a:lnTo>
                      <a:pt x="64" y="342"/>
                    </a:lnTo>
                    <a:lnTo>
                      <a:pt x="54" y="343"/>
                    </a:lnTo>
                    <a:lnTo>
                      <a:pt x="45" y="343"/>
                    </a:lnTo>
                    <a:lnTo>
                      <a:pt x="36" y="344"/>
                    </a:lnTo>
                    <a:lnTo>
                      <a:pt x="27" y="344"/>
                    </a:lnTo>
                    <a:lnTo>
                      <a:pt x="21" y="346"/>
                    </a:lnTo>
                    <a:lnTo>
                      <a:pt x="15" y="346"/>
                    </a:lnTo>
                    <a:lnTo>
                      <a:pt x="10" y="347"/>
                    </a:lnTo>
                    <a:lnTo>
                      <a:pt x="6" y="348"/>
                    </a:lnTo>
                    <a:lnTo>
                      <a:pt x="2" y="348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1" y="392"/>
                    </a:lnTo>
                    <a:lnTo>
                      <a:pt x="2" y="392"/>
                    </a:lnTo>
                    <a:lnTo>
                      <a:pt x="6" y="393"/>
                    </a:lnTo>
                    <a:lnTo>
                      <a:pt x="10" y="395"/>
                    </a:lnTo>
                    <a:lnTo>
                      <a:pt x="15" y="395"/>
                    </a:lnTo>
                    <a:lnTo>
                      <a:pt x="21" y="396"/>
                    </a:lnTo>
                    <a:lnTo>
                      <a:pt x="27" y="397"/>
                    </a:lnTo>
                    <a:lnTo>
                      <a:pt x="36" y="397"/>
                    </a:lnTo>
                    <a:lnTo>
                      <a:pt x="45" y="399"/>
                    </a:lnTo>
                    <a:lnTo>
                      <a:pt x="54" y="399"/>
                    </a:lnTo>
                    <a:lnTo>
                      <a:pt x="64" y="399"/>
                    </a:lnTo>
                    <a:lnTo>
                      <a:pt x="75" y="400"/>
                    </a:lnTo>
                    <a:lnTo>
                      <a:pt x="86" y="400"/>
                    </a:lnTo>
                    <a:lnTo>
                      <a:pt x="98" y="400"/>
                    </a:lnTo>
                    <a:lnTo>
                      <a:pt x="110" y="400"/>
                    </a:lnTo>
                    <a:lnTo>
                      <a:pt x="123" y="400"/>
                    </a:lnTo>
                    <a:lnTo>
                      <a:pt x="123" y="400"/>
                    </a:lnTo>
                    <a:lnTo>
                      <a:pt x="1139" y="400"/>
                    </a:lnTo>
                    <a:lnTo>
                      <a:pt x="1151" y="400"/>
                    </a:lnTo>
                    <a:lnTo>
                      <a:pt x="1164" y="400"/>
                    </a:lnTo>
                    <a:lnTo>
                      <a:pt x="1175" y="400"/>
                    </a:lnTo>
                    <a:lnTo>
                      <a:pt x="1186" y="400"/>
                    </a:lnTo>
                    <a:lnTo>
                      <a:pt x="1198" y="399"/>
                    </a:lnTo>
                    <a:lnTo>
                      <a:pt x="1208" y="399"/>
                    </a:lnTo>
                    <a:lnTo>
                      <a:pt x="1216" y="399"/>
                    </a:lnTo>
                    <a:lnTo>
                      <a:pt x="1225" y="397"/>
                    </a:lnTo>
                    <a:lnTo>
                      <a:pt x="1233" y="397"/>
                    </a:lnTo>
                    <a:lnTo>
                      <a:pt x="1240" y="396"/>
                    </a:lnTo>
                    <a:lnTo>
                      <a:pt x="1246" y="395"/>
                    </a:lnTo>
                    <a:lnTo>
                      <a:pt x="1251" y="395"/>
                    </a:lnTo>
                    <a:lnTo>
                      <a:pt x="1255" y="393"/>
                    </a:lnTo>
                    <a:lnTo>
                      <a:pt x="1259" y="392"/>
                    </a:lnTo>
                    <a:lnTo>
                      <a:pt x="1260" y="392"/>
                    </a:lnTo>
                    <a:lnTo>
                      <a:pt x="1260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51"/>
                    </a:lnTo>
                    <a:lnTo>
                      <a:pt x="1260" y="349"/>
                    </a:lnTo>
                    <a:lnTo>
                      <a:pt x="1260" y="349"/>
                    </a:lnTo>
                    <a:lnTo>
                      <a:pt x="1259" y="348"/>
                    </a:lnTo>
                    <a:lnTo>
                      <a:pt x="1255" y="348"/>
                    </a:lnTo>
                    <a:lnTo>
                      <a:pt x="1251" y="347"/>
                    </a:lnTo>
                    <a:lnTo>
                      <a:pt x="1246" y="346"/>
                    </a:lnTo>
                    <a:lnTo>
                      <a:pt x="1240" y="346"/>
                    </a:lnTo>
                    <a:lnTo>
                      <a:pt x="1233" y="344"/>
                    </a:lnTo>
                    <a:lnTo>
                      <a:pt x="1225" y="344"/>
                    </a:lnTo>
                    <a:lnTo>
                      <a:pt x="1216" y="343"/>
                    </a:lnTo>
                    <a:lnTo>
                      <a:pt x="1208" y="343"/>
                    </a:lnTo>
                    <a:lnTo>
                      <a:pt x="1198" y="342"/>
                    </a:lnTo>
                    <a:lnTo>
                      <a:pt x="1186" y="342"/>
                    </a:lnTo>
                    <a:lnTo>
                      <a:pt x="1175" y="342"/>
                    </a:lnTo>
                    <a:lnTo>
                      <a:pt x="1164" y="342"/>
                    </a:lnTo>
                    <a:lnTo>
                      <a:pt x="1151" y="340"/>
                    </a:lnTo>
                    <a:lnTo>
                      <a:pt x="1139" y="340"/>
                    </a:lnTo>
                    <a:lnTo>
                      <a:pt x="1139" y="340"/>
                    </a:lnTo>
                    <a:close/>
                    <a:moveTo>
                      <a:pt x="1139" y="646"/>
                    </a:moveTo>
                    <a:lnTo>
                      <a:pt x="123" y="646"/>
                    </a:lnTo>
                    <a:lnTo>
                      <a:pt x="110" y="646"/>
                    </a:lnTo>
                    <a:lnTo>
                      <a:pt x="98" y="646"/>
                    </a:lnTo>
                    <a:lnTo>
                      <a:pt x="86" y="647"/>
                    </a:lnTo>
                    <a:lnTo>
                      <a:pt x="75" y="647"/>
                    </a:lnTo>
                    <a:lnTo>
                      <a:pt x="64" y="647"/>
                    </a:lnTo>
                    <a:lnTo>
                      <a:pt x="54" y="649"/>
                    </a:lnTo>
                    <a:lnTo>
                      <a:pt x="45" y="649"/>
                    </a:lnTo>
                    <a:lnTo>
                      <a:pt x="36" y="650"/>
                    </a:lnTo>
                    <a:lnTo>
                      <a:pt x="27" y="650"/>
                    </a:lnTo>
                    <a:lnTo>
                      <a:pt x="21" y="651"/>
                    </a:lnTo>
                    <a:lnTo>
                      <a:pt x="15" y="651"/>
                    </a:lnTo>
                    <a:lnTo>
                      <a:pt x="10" y="652"/>
                    </a:lnTo>
                    <a:lnTo>
                      <a:pt x="6" y="654"/>
                    </a:lnTo>
                    <a:lnTo>
                      <a:pt x="2" y="654"/>
                    </a:lnTo>
                    <a:lnTo>
                      <a:pt x="1" y="655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6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1" y="698"/>
                    </a:lnTo>
                    <a:lnTo>
                      <a:pt x="2" y="698"/>
                    </a:lnTo>
                    <a:lnTo>
                      <a:pt x="6" y="699"/>
                    </a:lnTo>
                    <a:lnTo>
                      <a:pt x="10" y="700"/>
                    </a:lnTo>
                    <a:lnTo>
                      <a:pt x="15" y="700"/>
                    </a:lnTo>
                    <a:lnTo>
                      <a:pt x="21" y="702"/>
                    </a:lnTo>
                    <a:lnTo>
                      <a:pt x="27" y="702"/>
                    </a:lnTo>
                    <a:lnTo>
                      <a:pt x="36" y="703"/>
                    </a:lnTo>
                    <a:lnTo>
                      <a:pt x="45" y="703"/>
                    </a:lnTo>
                    <a:lnTo>
                      <a:pt x="54" y="704"/>
                    </a:lnTo>
                    <a:lnTo>
                      <a:pt x="64" y="704"/>
                    </a:lnTo>
                    <a:lnTo>
                      <a:pt x="75" y="705"/>
                    </a:lnTo>
                    <a:lnTo>
                      <a:pt x="86" y="705"/>
                    </a:lnTo>
                    <a:lnTo>
                      <a:pt x="98" y="705"/>
                    </a:lnTo>
                    <a:lnTo>
                      <a:pt x="110" y="705"/>
                    </a:lnTo>
                    <a:lnTo>
                      <a:pt x="123" y="705"/>
                    </a:lnTo>
                    <a:lnTo>
                      <a:pt x="123" y="705"/>
                    </a:lnTo>
                    <a:lnTo>
                      <a:pt x="1139" y="705"/>
                    </a:lnTo>
                    <a:lnTo>
                      <a:pt x="1151" y="705"/>
                    </a:lnTo>
                    <a:lnTo>
                      <a:pt x="1164" y="705"/>
                    </a:lnTo>
                    <a:lnTo>
                      <a:pt x="1175" y="705"/>
                    </a:lnTo>
                    <a:lnTo>
                      <a:pt x="1186" y="705"/>
                    </a:lnTo>
                    <a:lnTo>
                      <a:pt x="1198" y="704"/>
                    </a:lnTo>
                    <a:lnTo>
                      <a:pt x="1208" y="704"/>
                    </a:lnTo>
                    <a:lnTo>
                      <a:pt x="1216" y="703"/>
                    </a:lnTo>
                    <a:lnTo>
                      <a:pt x="1225" y="703"/>
                    </a:lnTo>
                    <a:lnTo>
                      <a:pt x="1233" y="702"/>
                    </a:lnTo>
                    <a:lnTo>
                      <a:pt x="1240" y="702"/>
                    </a:lnTo>
                    <a:lnTo>
                      <a:pt x="1246" y="700"/>
                    </a:lnTo>
                    <a:lnTo>
                      <a:pt x="1251" y="700"/>
                    </a:lnTo>
                    <a:lnTo>
                      <a:pt x="1255" y="699"/>
                    </a:lnTo>
                    <a:lnTo>
                      <a:pt x="1259" y="698"/>
                    </a:lnTo>
                    <a:lnTo>
                      <a:pt x="1260" y="698"/>
                    </a:lnTo>
                    <a:lnTo>
                      <a:pt x="1260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56"/>
                    </a:lnTo>
                    <a:lnTo>
                      <a:pt x="1260" y="655"/>
                    </a:lnTo>
                    <a:lnTo>
                      <a:pt x="1260" y="655"/>
                    </a:lnTo>
                    <a:lnTo>
                      <a:pt x="1259" y="654"/>
                    </a:lnTo>
                    <a:lnTo>
                      <a:pt x="1255" y="654"/>
                    </a:lnTo>
                    <a:lnTo>
                      <a:pt x="1251" y="652"/>
                    </a:lnTo>
                    <a:lnTo>
                      <a:pt x="1246" y="651"/>
                    </a:lnTo>
                    <a:lnTo>
                      <a:pt x="1240" y="651"/>
                    </a:lnTo>
                    <a:lnTo>
                      <a:pt x="1233" y="650"/>
                    </a:lnTo>
                    <a:lnTo>
                      <a:pt x="1225" y="650"/>
                    </a:lnTo>
                    <a:lnTo>
                      <a:pt x="1216" y="649"/>
                    </a:lnTo>
                    <a:lnTo>
                      <a:pt x="1208" y="649"/>
                    </a:lnTo>
                    <a:lnTo>
                      <a:pt x="1198" y="647"/>
                    </a:lnTo>
                    <a:lnTo>
                      <a:pt x="1186" y="647"/>
                    </a:lnTo>
                    <a:lnTo>
                      <a:pt x="1175" y="647"/>
                    </a:lnTo>
                    <a:lnTo>
                      <a:pt x="1164" y="646"/>
                    </a:lnTo>
                    <a:lnTo>
                      <a:pt x="1151" y="646"/>
                    </a:lnTo>
                    <a:lnTo>
                      <a:pt x="1139" y="646"/>
                    </a:lnTo>
                    <a:lnTo>
                      <a:pt x="1139" y="646"/>
                    </a:lnTo>
                    <a:close/>
                    <a:moveTo>
                      <a:pt x="1753" y="703"/>
                    </a:moveTo>
                    <a:lnTo>
                      <a:pt x="1753" y="74"/>
                    </a:lnTo>
                    <a:lnTo>
                      <a:pt x="1751" y="59"/>
                    </a:lnTo>
                    <a:lnTo>
                      <a:pt x="1751" y="53"/>
                    </a:lnTo>
                    <a:lnTo>
                      <a:pt x="1751" y="45"/>
                    </a:lnTo>
                    <a:lnTo>
                      <a:pt x="1751" y="39"/>
                    </a:lnTo>
                    <a:lnTo>
                      <a:pt x="1750" y="32"/>
                    </a:lnTo>
                    <a:lnTo>
                      <a:pt x="1750" y="27"/>
                    </a:lnTo>
                    <a:lnTo>
                      <a:pt x="1749" y="21"/>
                    </a:lnTo>
                    <a:lnTo>
                      <a:pt x="1749" y="16"/>
                    </a:lnTo>
                    <a:lnTo>
                      <a:pt x="1748" y="12"/>
                    </a:lnTo>
                    <a:lnTo>
                      <a:pt x="1748" y="8"/>
                    </a:lnTo>
                    <a:lnTo>
                      <a:pt x="1746" y="5"/>
                    </a:lnTo>
                    <a:lnTo>
                      <a:pt x="1745" y="2"/>
                    </a:lnTo>
                    <a:lnTo>
                      <a:pt x="1745" y="1"/>
                    </a:lnTo>
                    <a:lnTo>
                      <a:pt x="1744" y="0"/>
                    </a:lnTo>
                    <a:lnTo>
                      <a:pt x="1743" y="0"/>
                    </a:lnTo>
                    <a:lnTo>
                      <a:pt x="1705" y="0"/>
                    </a:lnTo>
                    <a:lnTo>
                      <a:pt x="1704" y="0"/>
                    </a:lnTo>
                    <a:lnTo>
                      <a:pt x="1703" y="1"/>
                    </a:lnTo>
                    <a:lnTo>
                      <a:pt x="1703" y="2"/>
                    </a:lnTo>
                    <a:lnTo>
                      <a:pt x="1701" y="5"/>
                    </a:lnTo>
                    <a:lnTo>
                      <a:pt x="1700" y="8"/>
                    </a:lnTo>
                    <a:lnTo>
                      <a:pt x="1700" y="12"/>
                    </a:lnTo>
                    <a:lnTo>
                      <a:pt x="1699" y="16"/>
                    </a:lnTo>
                    <a:lnTo>
                      <a:pt x="1699" y="21"/>
                    </a:lnTo>
                    <a:lnTo>
                      <a:pt x="1698" y="27"/>
                    </a:lnTo>
                    <a:lnTo>
                      <a:pt x="1698" y="32"/>
                    </a:lnTo>
                    <a:lnTo>
                      <a:pt x="1696" y="39"/>
                    </a:lnTo>
                    <a:lnTo>
                      <a:pt x="1696" y="45"/>
                    </a:lnTo>
                    <a:lnTo>
                      <a:pt x="1696" y="53"/>
                    </a:lnTo>
                    <a:lnTo>
                      <a:pt x="1696" y="59"/>
                    </a:lnTo>
                    <a:lnTo>
                      <a:pt x="1695" y="74"/>
                    </a:lnTo>
                    <a:lnTo>
                      <a:pt x="1695" y="74"/>
                    </a:lnTo>
                    <a:lnTo>
                      <a:pt x="1695" y="703"/>
                    </a:lnTo>
                    <a:lnTo>
                      <a:pt x="1696" y="712"/>
                    </a:lnTo>
                    <a:lnTo>
                      <a:pt x="1696" y="719"/>
                    </a:lnTo>
                    <a:lnTo>
                      <a:pt x="1696" y="727"/>
                    </a:lnTo>
                    <a:lnTo>
                      <a:pt x="1696" y="733"/>
                    </a:lnTo>
                    <a:lnTo>
                      <a:pt x="1696" y="739"/>
                    </a:lnTo>
                    <a:lnTo>
                      <a:pt x="1698" y="746"/>
                    </a:lnTo>
                    <a:lnTo>
                      <a:pt x="1698" y="752"/>
                    </a:lnTo>
                    <a:lnTo>
                      <a:pt x="1699" y="757"/>
                    </a:lnTo>
                    <a:lnTo>
                      <a:pt x="1699" y="762"/>
                    </a:lnTo>
                    <a:lnTo>
                      <a:pt x="1700" y="766"/>
                    </a:lnTo>
                    <a:lnTo>
                      <a:pt x="1700" y="770"/>
                    </a:lnTo>
                    <a:lnTo>
                      <a:pt x="1701" y="774"/>
                    </a:lnTo>
                    <a:lnTo>
                      <a:pt x="1703" y="775"/>
                    </a:lnTo>
                    <a:lnTo>
                      <a:pt x="1703" y="777"/>
                    </a:lnTo>
                    <a:lnTo>
                      <a:pt x="1704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43" y="779"/>
                    </a:lnTo>
                    <a:lnTo>
                      <a:pt x="1744" y="779"/>
                    </a:lnTo>
                    <a:lnTo>
                      <a:pt x="1745" y="777"/>
                    </a:lnTo>
                    <a:lnTo>
                      <a:pt x="1745" y="775"/>
                    </a:lnTo>
                    <a:lnTo>
                      <a:pt x="1746" y="774"/>
                    </a:lnTo>
                    <a:lnTo>
                      <a:pt x="1748" y="770"/>
                    </a:lnTo>
                    <a:lnTo>
                      <a:pt x="1748" y="766"/>
                    </a:lnTo>
                    <a:lnTo>
                      <a:pt x="1749" y="762"/>
                    </a:lnTo>
                    <a:lnTo>
                      <a:pt x="1749" y="757"/>
                    </a:lnTo>
                    <a:lnTo>
                      <a:pt x="1750" y="752"/>
                    </a:lnTo>
                    <a:lnTo>
                      <a:pt x="1750" y="746"/>
                    </a:lnTo>
                    <a:lnTo>
                      <a:pt x="1751" y="739"/>
                    </a:lnTo>
                    <a:lnTo>
                      <a:pt x="1751" y="733"/>
                    </a:lnTo>
                    <a:lnTo>
                      <a:pt x="1751" y="727"/>
                    </a:lnTo>
                    <a:lnTo>
                      <a:pt x="1751" y="719"/>
                    </a:lnTo>
                    <a:lnTo>
                      <a:pt x="1753" y="712"/>
                    </a:lnTo>
                    <a:lnTo>
                      <a:pt x="1753" y="703"/>
                    </a:lnTo>
                    <a:lnTo>
                      <a:pt x="1753" y="703"/>
                    </a:lnTo>
                    <a:close/>
                    <a:moveTo>
                      <a:pt x="2573" y="703"/>
                    </a:moveTo>
                    <a:lnTo>
                      <a:pt x="2573" y="74"/>
                    </a:lnTo>
                    <a:lnTo>
                      <a:pt x="2573" y="59"/>
                    </a:lnTo>
                    <a:lnTo>
                      <a:pt x="2573" y="53"/>
                    </a:lnTo>
                    <a:lnTo>
                      <a:pt x="2573" y="45"/>
                    </a:lnTo>
                    <a:lnTo>
                      <a:pt x="2572" y="39"/>
                    </a:lnTo>
                    <a:lnTo>
                      <a:pt x="2572" y="32"/>
                    </a:lnTo>
                    <a:lnTo>
                      <a:pt x="2572" y="27"/>
                    </a:lnTo>
                    <a:lnTo>
                      <a:pt x="2571" y="21"/>
                    </a:lnTo>
                    <a:lnTo>
                      <a:pt x="2571" y="16"/>
                    </a:lnTo>
                    <a:lnTo>
                      <a:pt x="2570" y="12"/>
                    </a:lnTo>
                    <a:lnTo>
                      <a:pt x="2568" y="8"/>
                    </a:lnTo>
                    <a:lnTo>
                      <a:pt x="2568" y="5"/>
                    </a:lnTo>
                    <a:lnTo>
                      <a:pt x="2567" y="2"/>
                    </a:lnTo>
                    <a:lnTo>
                      <a:pt x="2567" y="1"/>
                    </a:lnTo>
                    <a:lnTo>
                      <a:pt x="2566" y="0"/>
                    </a:lnTo>
                    <a:lnTo>
                      <a:pt x="2565" y="0"/>
                    </a:lnTo>
                    <a:lnTo>
                      <a:pt x="2524" y="0"/>
                    </a:lnTo>
                    <a:lnTo>
                      <a:pt x="2523" y="0"/>
                    </a:lnTo>
                    <a:lnTo>
                      <a:pt x="2522" y="1"/>
                    </a:lnTo>
                    <a:lnTo>
                      <a:pt x="2522" y="2"/>
                    </a:lnTo>
                    <a:lnTo>
                      <a:pt x="2521" y="5"/>
                    </a:lnTo>
                    <a:lnTo>
                      <a:pt x="2521" y="8"/>
                    </a:lnTo>
                    <a:lnTo>
                      <a:pt x="2519" y="12"/>
                    </a:lnTo>
                    <a:lnTo>
                      <a:pt x="2519" y="16"/>
                    </a:lnTo>
                    <a:lnTo>
                      <a:pt x="2519" y="21"/>
                    </a:lnTo>
                    <a:lnTo>
                      <a:pt x="2518" y="27"/>
                    </a:lnTo>
                    <a:lnTo>
                      <a:pt x="2518" y="32"/>
                    </a:lnTo>
                    <a:lnTo>
                      <a:pt x="2518" y="39"/>
                    </a:lnTo>
                    <a:lnTo>
                      <a:pt x="2518" y="45"/>
                    </a:lnTo>
                    <a:lnTo>
                      <a:pt x="2517" y="53"/>
                    </a:lnTo>
                    <a:lnTo>
                      <a:pt x="2517" y="59"/>
                    </a:lnTo>
                    <a:lnTo>
                      <a:pt x="2517" y="74"/>
                    </a:lnTo>
                    <a:lnTo>
                      <a:pt x="2517" y="74"/>
                    </a:lnTo>
                    <a:lnTo>
                      <a:pt x="2517" y="703"/>
                    </a:lnTo>
                    <a:lnTo>
                      <a:pt x="2517" y="712"/>
                    </a:lnTo>
                    <a:lnTo>
                      <a:pt x="2517" y="719"/>
                    </a:lnTo>
                    <a:lnTo>
                      <a:pt x="2517" y="727"/>
                    </a:lnTo>
                    <a:lnTo>
                      <a:pt x="2518" y="733"/>
                    </a:lnTo>
                    <a:lnTo>
                      <a:pt x="2518" y="739"/>
                    </a:lnTo>
                    <a:lnTo>
                      <a:pt x="2518" y="746"/>
                    </a:lnTo>
                    <a:lnTo>
                      <a:pt x="2518" y="752"/>
                    </a:lnTo>
                    <a:lnTo>
                      <a:pt x="2519" y="757"/>
                    </a:lnTo>
                    <a:lnTo>
                      <a:pt x="2519" y="762"/>
                    </a:lnTo>
                    <a:lnTo>
                      <a:pt x="2519" y="766"/>
                    </a:lnTo>
                    <a:lnTo>
                      <a:pt x="2521" y="770"/>
                    </a:lnTo>
                    <a:lnTo>
                      <a:pt x="2521" y="774"/>
                    </a:lnTo>
                    <a:lnTo>
                      <a:pt x="2522" y="775"/>
                    </a:lnTo>
                    <a:lnTo>
                      <a:pt x="2522" y="777"/>
                    </a:lnTo>
                    <a:lnTo>
                      <a:pt x="2523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65" y="779"/>
                    </a:lnTo>
                    <a:lnTo>
                      <a:pt x="2566" y="779"/>
                    </a:lnTo>
                    <a:lnTo>
                      <a:pt x="2567" y="777"/>
                    </a:lnTo>
                    <a:lnTo>
                      <a:pt x="2567" y="775"/>
                    </a:lnTo>
                    <a:lnTo>
                      <a:pt x="2568" y="774"/>
                    </a:lnTo>
                    <a:lnTo>
                      <a:pt x="2568" y="770"/>
                    </a:lnTo>
                    <a:lnTo>
                      <a:pt x="2570" y="766"/>
                    </a:lnTo>
                    <a:lnTo>
                      <a:pt x="2571" y="762"/>
                    </a:lnTo>
                    <a:lnTo>
                      <a:pt x="2571" y="757"/>
                    </a:lnTo>
                    <a:lnTo>
                      <a:pt x="2572" y="752"/>
                    </a:lnTo>
                    <a:lnTo>
                      <a:pt x="2572" y="746"/>
                    </a:lnTo>
                    <a:lnTo>
                      <a:pt x="2572" y="739"/>
                    </a:lnTo>
                    <a:lnTo>
                      <a:pt x="2573" y="733"/>
                    </a:lnTo>
                    <a:lnTo>
                      <a:pt x="2573" y="727"/>
                    </a:lnTo>
                    <a:lnTo>
                      <a:pt x="2573" y="719"/>
                    </a:lnTo>
                    <a:lnTo>
                      <a:pt x="2573" y="712"/>
                    </a:lnTo>
                    <a:lnTo>
                      <a:pt x="2573" y="703"/>
                    </a:lnTo>
                    <a:lnTo>
                      <a:pt x="2573" y="70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6" name=""/>
              <p:cNvSpPr/>
              <p:nvPr/>
            </p:nvSpPr>
            <p:spPr>
              <a:xfrm>
                <a:off x="5137560" y="2295000"/>
                <a:ext cx="896760" cy="4644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5" y="0"/>
                    </a:lnTo>
                    <a:lnTo>
                      <a:pt x="64" y="1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6" y="3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6" y="52"/>
                    </a:lnTo>
                    <a:lnTo>
                      <a:pt x="10" y="53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7" y="56"/>
                    </a:lnTo>
                    <a:lnTo>
                      <a:pt x="36" y="56"/>
                    </a:lnTo>
                    <a:lnTo>
                      <a:pt x="45" y="57"/>
                    </a:lnTo>
                    <a:lnTo>
                      <a:pt x="54" y="57"/>
                    </a:lnTo>
                    <a:lnTo>
                      <a:pt x="64" y="58"/>
                    </a:lnTo>
                    <a:lnTo>
                      <a:pt x="75" y="58"/>
                    </a:lnTo>
                    <a:lnTo>
                      <a:pt x="86" y="58"/>
                    </a:lnTo>
                    <a:lnTo>
                      <a:pt x="98" y="58"/>
                    </a:lnTo>
                    <a:lnTo>
                      <a:pt x="110" y="58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58"/>
                    </a:lnTo>
                    <a:lnTo>
                      <a:pt x="1164" y="58"/>
                    </a:lnTo>
                    <a:lnTo>
                      <a:pt x="1175" y="58"/>
                    </a:lnTo>
                    <a:lnTo>
                      <a:pt x="1186" y="58"/>
                    </a:lnTo>
                    <a:lnTo>
                      <a:pt x="1198" y="58"/>
                    </a:lnTo>
                    <a:lnTo>
                      <a:pt x="1208" y="57"/>
                    </a:lnTo>
                    <a:lnTo>
                      <a:pt x="1216" y="57"/>
                    </a:lnTo>
                    <a:lnTo>
                      <a:pt x="1225" y="56"/>
                    </a:lnTo>
                    <a:lnTo>
                      <a:pt x="1233" y="56"/>
                    </a:lnTo>
                    <a:lnTo>
                      <a:pt x="1240" y="54"/>
                    </a:lnTo>
                    <a:lnTo>
                      <a:pt x="1246" y="54"/>
                    </a:lnTo>
                    <a:lnTo>
                      <a:pt x="1251" y="53"/>
                    </a:lnTo>
                    <a:lnTo>
                      <a:pt x="1255" y="52"/>
                    </a:lnTo>
                    <a:lnTo>
                      <a:pt x="1259" y="52"/>
                    </a:lnTo>
                    <a:lnTo>
                      <a:pt x="1260" y="51"/>
                    </a:lnTo>
                    <a:lnTo>
                      <a:pt x="1260" y="51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9"/>
                    </a:lnTo>
                    <a:lnTo>
                      <a:pt x="1260" y="8"/>
                    </a:lnTo>
                    <a:lnTo>
                      <a:pt x="1260" y="8"/>
                    </a:lnTo>
                    <a:lnTo>
                      <a:pt x="1259" y="7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6" y="5"/>
                    </a:lnTo>
                    <a:lnTo>
                      <a:pt x="1240" y="4"/>
                    </a:lnTo>
                    <a:lnTo>
                      <a:pt x="1233" y="3"/>
                    </a:lnTo>
                    <a:lnTo>
                      <a:pt x="1225" y="3"/>
                    </a:lnTo>
                    <a:lnTo>
                      <a:pt x="1216" y="1"/>
                    </a:lnTo>
                    <a:lnTo>
                      <a:pt x="1208" y="1"/>
                    </a:lnTo>
                    <a:lnTo>
                      <a:pt x="1198" y="1"/>
                    </a:lnTo>
                    <a:lnTo>
                      <a:pt x="1186" y="0"/>
                    </a:lnTo>
                    <a:lnTo>
                      <a:pt x="1175" y="0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7" name=""/>
              <p:cNvSpPr/>
              <p:nvPr/>
            </p:nvSpPr>
            <p:spPr>
              <a:xfrm>
                <a:off x="5137560" y="2530800"/>
                <a:ext cx="896760" cy="4644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2"/>
                    </a:lnTo>
                    <a:lnTo>
                      <a:pt x="86" y="2"/>
                    </a:lnTo>
                    <a:lnTo>
                      <a:pt x="75" y="2"/>
                    </a:lnTo>
                    <a:lnTo>
                      <a:pt x="64" y="2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10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21" y="56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9"/>
                    </a:lnTo>
                    <a:lnTo>
                      <a:pt x="54" y="59"/>
                    </a:lnTo>
                    <a:lnTo>
                      <a:pt x="64" y="59"/>
                    </a:lnTo>
                    <a:lnTo>
                      <a:pt x="75" y="60"/>
                    </a:lnTo>
                    <a:lnTo>
                      <a:pt x="86" y="60"/>
                    </a:lnTo>
                    <a:lnTo>
                      <a:pt x="98" y="60"/>
                    </a:lnTo>
                    <a:lnTo>
                      <a:pt x="110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60"/>
                    </a:lnTo>
                    <a:lnTo>
                      <a:pt x="1164" y="60"/>
                    </a:lnTo>
                    <a:lnTo>
                      <a:pt x="1175" y="60"/>
                    </a:lnTo>
                    <a:lnTo>
                      <a:pt x="1186" y="60"/>
                    </a:lnTo>
                    <a:lnTo>
                      <a:pt x="1198" y="59"/>
                    </a:lnTo>
                    <a:lnTo>
                      <a:pt x="1208" y="59"/>
                    </a:lnTo>
                    <a:lnTo>
                      <a:pt x="1216" y="59"/>
                    </a:lnTo>
                    <a:lnTo>
                      <a:pt x="1225" y="57"/>
                    </a:lnTo>
                    <a:lnTo>
                      <a:pt x="1233" y="57"/>
                    </a:lnTo>
                    <a:lnTo>
                      <a:pt x="1240" y="56"/>
                    </a:lnTo>
                    <a:lnTo>
                      <a:pt x="1246" y="55"/>
                    </a:lnTo>
                    <a:lnTo>
                      <a:pt x="1251" y="55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11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7"/>
                    </a:lnTo>
                    <a:lnTo>
                      <a:pt x="1246" y="6"/>
                    </a:lnTo>
                    <a:lnTo>
                      <a:pt x="1240" y="6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2"/>
                    </a:lnTo>
                    <a:lnTo>
                      <a:pt x="1186" y="2"/>
                    </a:lnTo>
                    <a:lnTo>
                      <a:pt x="1175" y="2"/>
                    </a:lnTo>
                    <a:lnTo>
                      <a:pt x="1164" y="2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8" name=""/>
              <p:cNvSpPr/>
              <p:nvPr/>
            </p:nvSpPr>
            <p:spPr>
              <a:xfrm>
                <a:off x="5137560" y="2769120"/>
                <a:ext cx="896760" cy="46440"/>
              </a:xfrm>
              <a:custGeom>
                <a:avLst/>
                <a:gdLst/>
                <a:ahLst/>
                <a:rect l="l" t="t" r="r" b="b"/>
                <a:pathLst>
                  <a:path w="1261" h="59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1"/>
                    </a:lnTo>
                    <a:lnTo>
                      <a:pt x="75" y="1"/>
                    </a:lnTo>
                    <a:lnTo>
                      <a:pt x="64" y="1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5"/>
                    </a:lnTo>
                    <a:lnTo>
                      <a:pt x="15" y="5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4"/>
                    </a:lnTo>
                    <a:lnTo>
                      <a:pt x="15" y="54"/>
                    </a:lnTo>
                    <a:lnTo>
                      <a:pt x="21" y="56"/>
                    </a:lnTo>
                    <a:lnTo>
                      <a:pt x="27" y="56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8"/>
                    </a:lnTo>
                    <a:lnTo>
                      <a:pt x="64" y="58"/>
                    </a:lnTo>
                    <a:lnTo>
                      <a:pt x="75" y="59"/>
                    </a:lnTo>
                    <a:lnTo>
                      <a:pt x="86" y="59"/>
                    </a:lnTo>
                    <a:lnTo>
                      <a:pt x="98" y="59"/>
                    </a:lnTo>
                    <a:lnTo>
                      <a:pt x="110" y="59"/>
                    </a:lnTo>
                    <a:lnTo>
                      <a:pt x="123" y="59"/>
                    </a:lnTo>
                    <a:lnTo>
                      <a:pt x="123" y="59"/>
                    </a:lnTo>
                    <a:lnTo>
                      <a:pt x="1139" y="59"/>
                    </a:lnTo>
                    <a:lnTo>
                      <a:pt x="1151" y="59"/>
                    </a:lnTo>
                    <a:lnTo>
                      <a:pt x="1164" y="59"/>
                    </a:lnTo>
                    <a:lnTo>
                      <a:pt x="1175" y="59"/>
                    </a:lnTo>
                    <a:lnTo>
                      <a:pt x="1186" y="59"/>
                    </a:lnTo>
                    <a:lnTo>
                      <a:pt x="1198" y="58"/>
                    </a:lnTo>
                    <a:lnTo>
                      <a:pt x="1208" y="58"/>
                    </a:lnTo>
                    <a:lnTo>
                      <a:pt x="1216" y="57"/>
                    </a:lnTo>
                    <a:lnTo>
                      <a:pt x="1225" y="57"/>
                    </a:lnTo>
                    <a:lnTo>
                      <a:pt x="1233" y="56"/>
                    </a:lnTo>
                    <a:lnTo>
                      <a:pt x="1240" y="56"/>
                    </a:lnTo>
                    <a:lnTo>
                      <a:pt x="1246" y="54"/>
                    </a:lnTo>
                    <a:lnTo>
                      <a:pt x="1251" y="54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10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6"/>
                    </a:lnTo>
                    <a:lnTo>
                      <a:pt x="1246" y="5"/>
                    </a:lnTo>
                    <a:lnTo>
                      <a:pt x="1240" y="5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1"/>
                    </a:lnTo>
                    <a:lnTo>
                      <a:pt x="1186" y="1"/>
                    </a:lnTo>
                    <a:lnTo>
                      <a:pt x="1175" y="1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9" name=""/>
              <p:cNvSpPr/>
              <p:nvPr/>
            </p:nvSpPr>
            <p:spPr>
              <a:xfrm>
                <a:off x="6343200" y="2266560"/>
                <a:ext cx="39600" cy="604800"/>
              </a:xfrm>
              <a:custGeom>
                <a:avLst/>
                <a:gdLst/>
                <a:ahLst/>
                <a:rect l="l" t="t" r="r" b="b"/>
                <a:pathLst>
                  <a:path w="58" h="779">
                    <a:moveTo>
                      <a:pt x="58" y="703"/>
                    </a:moveTo>
                    <a:lnTo>
                      <a:pt x="58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6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4" y="21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1" y="712"/>
                    </a:lnTo>
                    <a:lnTo>
                      <a:pt x="1" y="719"/>
                    </a:lnTo>
                    <a:lnTo>
                      <a:pt x="1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3" y="746"/>
                    </a:lnTo>
                    <a:lnTo>
                      <a:pt x="3" y="752"/>
                    </a:lnTo>
                    <a:lnTo>
                      <a:pt x="4" y="757"/>
                    </a:lnTo>
                    <a:lnTo>
                      <a:pt x="4" y="762"/>
                    </a:lnTo>
                    <a:lnTo>
                      <a:pt x="5" y="766"/>
                    </a:lnTo>
                    <a:lnTo>
                      <a:pt x="5" y="770"/>
                    </a:lnTo>
                    <a:lnTo>
                      <a:pt x="6" y="774"/>
                    </a:lnTo>
                    <a:lnTo>
                      <a:pt x="8" y="775"/>
                    </a:lnTo>
                    <a:lnTo>
                      <a:pt x="8" y="777"/>
                    </a:lnTo>
                    <a:lnTo>
                      <a:pt x="9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3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6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8" y="712"/>
                    </a:lnTo>
                    <a:lnTo>
                      <a:pt x="58" y="703"/>
                    </a:lnTo>
                    <a:lnTo>
                      <a:pt x="58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0" name=""/>
              <p:cNvSpPr/>
              <p:nvPr/>
            </p:nvSpPr>
            <p:spPr>
              <a:xfrm>
                <a:off x="6926760" y="2266560"/>
                <a:ext cx="41040" cy="604800"/>
              </a:xfrm>
              <a:custGeom>
                <a:avLst/>
                <a:gdLst/>
                <a:ahLst/>
                <a:rect l="l" t="t" r="r" b="b"/>
                <a:pathLst>
                  <a:path w="56" h="779">
                    <a:moveTo>
                      <a:pt x="56" y="703"/>
                    </a:moveTo>
                    <a:lnTo>
                      <a:pt x="56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5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0" y="712"/>
                    </a:lnTo>
                    <a:lnTo>
                      <a:pt x="0" y="719"/>
                    </a:lnTo>
                    <a:lnTo>
                      <a:pt x="0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1" y="746"/>
                    </a:lnTo>
                    <a:lnTo>
                      <a:pt x="1" y="752"/>
                    </a:lnTo>
                    <a:lnTo>
                      <a:pt x="2" y="757"/>
                    </a:lnTo>
                    <a:lnTo>
                      <a:pt x="2" y="762"/>
                    </a:lnTo>
                    <a:lnTo>
                      <a:pt x="2" y="766"/>
                    </a:lnTo>
                    <a:lnTo>
                      <a:pt x="4" y="770"/>
                    </a:lnTo>
                    <a:lnTo>
                      <a:pt x="4" y="774"/>
                    </a:lnTo>
                    <a:lnTo>
                      <a:pt x="5" y="775"/>
                    </a:lnTo>
                    <a:lnTo>
                      <a:pt x="5" y="777"/>
                    </a:lnTo>
                    <a:lnTo>
                      <a:pt x="6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1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5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6" y="712"/>
                    </a:lnTo>
                    <a:lnTo>
                      <a:pt x="56" y="703"/>
                    </a:lnTo>
                    <a:lnTo>
                      <a:pt x="56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1" name=""/>
              <p:cNvSpPr/>
              <p:nvPr/>
            </p:nvSpPr>
            <p:spPr>
              <a:xfrm>
                <a:off x="5282280" y="2441520"/>
                <a:ext cx="103680" cy="25920"/>
              </a:xfrm>
              <a:custGeom>
                <a:avLst/>
                <a:gdLst/>
                <a:ahLst/>
                <a:rect l="l" t="t" r="r" b="b"/>
                <a:pathLst>
                  <a:path w="145" h="35">
                    <a:moveTo>
                      <a:pt x="36" y="35"/>
                    </a:moveTo>
                    <a:lnTo>
                      <a:pt x="109" y="35"/>
                    </a:lnTo>
                    <a:lnTo>
                      <a:pt x="109" y="35"/>
                    </a:lnTo>
                    <a:lnTo>
                      <a:pt x="110" y="35"/>
                    </a:lnTo>
                    <a:lnTo>
                      <a:pt x="112" y="35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20" y="34"/>
                    </a:lnTo>
                    <a:lnTo>
                      <a:pt x="123" y="33"/>
                    </a:lnTo>
                    <a:lnTo>
                      <a:pt x="127" y="32"/>
                    </a:lnTo>
                    <a:lnTo>
                      <a:pt x="130" y="29"/>
                    </a:lnTo>
                    <a:lnTo>
                      <a:pt x="133" y="27"/>
                    </a:lnTo>
                    <a:lnTo>
                      <a:pt x="137" y="24"/>
                    </a:lnTo>
                    <a:lnTo>
                      <a:pt x="139" y="20"/>
                    </a:lnTo>
                    <a:lnTo>
                      <a:pt x="142" y="16"/>
                    </a:lnTo>
                    <a:lnTo>
                      <a:pt x="143" y="11"/>
                    </a:lnTo>
                    <a:lnTo>
                      <a:pt x="144" y="6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4" y="16"/>
                    </a:lnTo>
                    <a:lnTo>
                      <a:pt x="5" y="20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3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5282280" y="2666880"/>
                <a:ext cx="103680" cy="2952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36" y="36"/>
                    </a:moveTo>
                    <a:lnTo>
                      <a:pt x="109" y="36"/>
                    </a:lnTo>
                    <a:lnTo>
                      <a:pt x="109" y="36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7" y="36"/>
                    </a:lnTo>
                    <a:lnTo>
                      <a:pt x="120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7" y="36"/>
                    </a:lnTo>
                    <a:lnTo>
                      <a:pt x="139" y="36"/>
                    </a:lnTo>
                    <a:lnTo>
                      <a:pt x="142" y="36"/>
                    </a:lnTo>
                    <a:lnTo>
                      <a:pt x="143" y="36"/>
                    </a:lnTo>
                    <a:lnTo>
                      <a:pt x="144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4" y="29"/>
                    </a:lnTo>
                    <a:lnTo>
                      <a:pt x="143" y="24"/>
                    </a:lnTo>
                    <a:lnTo>
                      <a:pt x="142" y="19"/>
                    </a:lnTo>
                    <a:lnTo>
                      <a:pt x="139" y="15"/>
                    </a:lnTo>
                    <a:lnTo>
                      <a:pt x="137" y="11"/>
                    </a:lnTo>
                    <a:lnTo>
                      <a:pt x="133" y="9"/>
                    </a:lnTo>
                    <a:lnTo>
                      <a:pt x="130" y="6"/>
                    </a:lnTo>
                    <a:lnTo>
                      <a:pt x="127" y="3"/>
                    </a:lnTo>
                    <a:lnTo>
                      <a:pt x="123" y="2"/>
                    </a:lnTo>
                    <a:lnTo>
                      <a:pt x="120" y="1"/>
                    </a:lnTo>
                    <a:lnTo>
                      <a:pt x="117" y="1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5" y="15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3" name=""/>
              <p:cNvSpPr/>
              <p:nvPr/>
            </p:nvSpPr>
            <p:spPr>
              <a:xfrm>
                <a:off x="5257440" y="2411640"/>
                <a:ext cx="24840" cy="28188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4" name=""/>
              <p:cNvSpPr/>
              <p:nvPr/>
            </p:nvSpPr>
            <p:spPr>
              <a:xfrm>
                <a:off x="5282280" y="2411640"/>
                <a:ext cx="24840" cy="2818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5" name=""/>
              <p:cNvSpPr/>
              <p:nvPr/>
            </p:nvSpPr>
            <p:spPr>
              <a:xfrm>
                <a:off x="5307480" y="2411640"/>
                <a:ext cx="26280" cy="2818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6" name=""/>
              <p:cNvSpPr/>
              <p:nvPr/>
            </p:nvSpPr>
            <p:spPr>
              <a:xfrm>
                <a:off x="5333760" y="2411640"/>
                <a:ext cx="27360" cy="281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7" name=""/>
              <p:cNvSpPr/>
              <p:nvPr/>
            </p:nvSpPr>
            <p:spPr>
              <a:xfrm>
                <a:off x="5281200" y="2418840"/>
                <a:ext cx="81000" cy="3456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17" y="46"/>
                    </a:move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3" y="37"/>
                    </a:lnTo>
                    <a:lnTo>
                      <a:pt x="115" y="34"/>
                    </a:lnTo>
                    <a:lnTo>
                      <a:pt x="116" y="31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18"/>
                    </a:lnTo>
                    <a:lnTo>
                      <a:pt x="116" y="15"/>
                    </a:lnTo>
                    <a:lnTo>
                      <a:pt x="115" y="12"/>
                    </a:lnTo>
                    <a:lnTo>
                      <a:pt x="113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8" name=""/>
              <p:cNvSpPr/>
              <p:nvPr/>
            </p:nvSpPr>
            <p:spPr>
              <a:xfrm>
                <a:off x="5281200" y="2656080"/>
                <a:ext cx="81000" cy="3564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7" y="45"/>
                    </a:moveTo>
                    <a:lnTo>
                      <a:pt x="101" y="45"/>
                    </a:lnTo>
                    <a:lnTo>
                      <a:pt x="103" y="45"/>
                    </a:lnTo>
                    <a:lnTo>
                      <a:pt x="107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6" y="30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5" y="11"/>
                    </a:lnTo>
                    <a:lnTo>
                      <a:pt x="113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4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9" name=""/>
              <p:cNvSpPr/>
              <p:nvPr/>
            </p:nvSpPr>
            <p:spPr>
              <a:xfrm>
                <a:off x="5745960" y="2441520"/>
                <a:ext cx="77400" cy="2592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0" y="35"/>
                    </a:moveTo>
                    <a:lnTo>
                      <a:pt x="72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0" y="34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5" y="29"/>
                    </a:lnTo>
                    <a:lnTo>
                      <a:pt x="106" y="27"/>
                    </a:lnTo>
                    <a:lnTo>
                      <a:pt x="107" y="24"/>
                    </a:lnTo>
                    <a:lnTo>
                      <a:pt x="107" y="20"/>
                    </a:lnTo>
                    <a:lnTo>
                      <a:pt x="109" y="16"/>
                    </a:lnTo>
                    <a:lnTo>
                      <a:pt x="109" y="11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0" name=""/>
              <p:cNvSpPr/>
              <p:nvPr/>
            </p:nvSpPr>
            <p:spPr>
              <a:xfrm>
                <a:off x="5745960" y="2666880"/>
                <a:ext cx="77400" cy="2952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0" y="36"/>
                    </a:moveTo>
                    <a:lnTo>
                      <a:pt x="72" y="36"/>
                    </a:lnTo>
                    <a:lnTo>
                      <a:pt x="78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94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29"/>
                    </a:lnTo>
                    <a:lnTo>
                      <a:pt x="109" y="24"/>
                    </a:lnTo>
                    <a:lnTo>
                      <a:pt x="109" y="19"/>
                    </a:lnTo>
                    <a:lnTo>
                      <a:pt x="107" y="15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6"/>
                    </a:lnTo>
                    <a:lnTo>
                      <a:pt x="104" y="3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7" y="1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1" name=""/>
              <p:cNvSpPr/>
              <p:nvPr/>
            </p:nvSpPr>
            <p:spPr>
              <a:xfrm>
                <a:off x="5721120" y="2411640"/>
                <a:ext cx="24840" cy="2818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5745960" y="2411640"/>
                <a:ext cx="26280" cy="28188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5772240" y="2411640"/>
                <a:ext cx="24840" cy="28188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4" name=""/>
              <p:cNvSpPr/>
              <p:nvPr/>
            </p:nvSpPr>
            <p:spPr>
              <a:xfrm>
                <a:off x="5797440" y="2411640"/>
                <a:ext cx="26280" cy="2818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5" name=""/>
              <p:cNvSpPr/>
              <p:nvPr/>
            </p:nvSpPr>
            <p:spPr>
              <a:xfrm>
                <a:off x="5724720" y="2418840"/>
                <a:ext cx="83520" cy="3456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7" y="46"/>
                    </a:moveTo>
                    <a:lnTo>
                      <a:pt x="99" y="46"/>
                    </a:lnTo>
                    <a:lnTo>
                      <a:pt x="102" y="46"/>
                    </a:lnTo>
                    <a:lnTo>
                      <a:pt x="106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4" y="37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8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6" y="2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2" y="37"/>
                    </a:lnTo>
                    <a:lnTo>
                      <a:pt x="5" y="41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6" name=""/>
              <p:cNvSpPr/>
              <p:nvPr/>
            </p:nvSpPr>
            <p:spPr>
              <a:xfrm>
                <a:off x="5724720" y="2656080"/>
                <a:ext cx="83520" cy="35640"/>
              </a:xfrm>
              <a:custGeom>
                <a:avLst/>
                <a:gdLst/>
                <a:ahLst/>
                <a:rect l="l" t="t" r="r" b="b"/>
                <a:pathLst>
                  <a:path w="117" h="45">
                    <a:moveTo>
                      <a:pt x="17" y="45"/>
                    </a:moveTo>
                    <a:lnTo>
                      <a:pt x="99" y="45"/>
                    </a:lnTo>
                    <a:lnTo>
                      <a:pt x="102" y="45"/>
                    </a:lnTo>
                    <a:lnTo>
                      <a:pt x="106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6" y="34"/>
                    </a:lnTo>
                    <a:lnTo>
                      <a:pt x="116" y="30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6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39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7" name=""/>
              <p:cNvSpPr/>
              <p:nvPr/>
            </p:nvSpPr>
            <p:spPr>
              <a:xfrm>
                <a:off x="4803840" y="2296080"/>
                <a:ext cx="214920" cy="471240"/>
              </a:xfrm>
              <a:custGeom>
                <a:avLst/>
                <a:gdLst/>
                <a:ahLst/>
                <a:rect l="l" t="t" r="r" b="b"/>
                <a:pathLst>
                  <a:path w="302" h="608">
                    <a:moveTo>
                      <a:pt x="70" y="340"/>
                    </a:moveTo>
                    <a:lnTo>
                      <a:pt x="70" y="338"/>
                    </a:lnTo>
                    <a:lnTo>
                      <a:pt x="70" y="334"/>
                    </a:lnTo>
                    <a:lnTo>
                      <a:pt x="69" y="330"/>
                    </a:lnTo>
                    <a:lnTo>
                      <a:pt x="68" y="327"/>
                    </a:lnTo>
                    <a:lnTo>
                      <a:pt x="65" y="321"/>
                    </a:lnTo>
                    <a:lnTo>
                      <a:pt x="60" y="316"/>
                    </a:lnTo>
                    <a:lnTo>
                      <a:pt x="55" y="312"/>
                    </a:lnTo>
                    <a:lnTo>
                      <a:pt x="50" y="309"/>
                    </a:lnTo>
                    <a:lnTo>
                      <a:pt x="47" y="309"/>
                    </a:lnTo>
                    <a:lnTo>
                      <a:pt x="44" y="307"/>
                    </a:lnTo>
                    <a:lnTo>
                      <a:pt x="40" y="306"/>
                    </a:lnTo>
                    <a:lnTo>
                      <a:pt x="37" y="306"/>
                    </a:lnTo>
                    <a:lnTo>
                      <a:pt x="33" y="306"/>
                    </a:lnTo>
                    <a:lnTo>
                      <a:pt x="29" y="307"/>
                    </a:lnTo>
                    <a:lnTo>
                      <a:pt x="26" y="309"/>
                    </a:lnTo>
                    <a:lnTo>
                      <a:pt x="23" y="309"/>
                    </a:lnTo>
                    <a:lnTo>
                      <a:pt x="16" y="312"/>
                    </a:lnTo>
                    <a:lnTo>
                      <a:pt x="11" y="316"/>
                    </a:lnTo>
                    <a:lnTo>
                      <a:pt x="6" y="321"/>
                    </a:lnTo>
                    <a:lnTo>
                      <a:pt x="4" y="327"/>
                    </a:lnTo>
                    <a:lnTo>
                      <a:pt x="3" y="330"/>
                    </a:lnTo>
                    <a:lnTo>
                      <a:pt x="1" y="334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4"/>
                    </a:lnTo>
                    <a:lnTo>
                      <a:pt x="1" y="348"/>
                    </a:lnTo>
                    <a:lnTo>
                      <a:pt x="3" y="351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11" y="367"/>
                    </a:lnTo>
                    <a:lnTo>
                      <a:pt x="16" y="370"/>
                    </a:lnTo>
                    <a:lnTo>
                      <a:pt x="23" y="374"/>
                    </a:lnTo>
                    <a:lnTo>
                      <a:pt x="26" y="375"/>
                    </a:lnTo>
                    <a:lnTo>
                      <a:pt x="29" y="377"/>
                    </a:lnTo>
                    <a:lnTo>
                      <a:pt x="33" y="377"/>
                    </a:lnTo>
                    <a:lnTo>
                      <a:pt x="37" y="377"/>
                    </a:lnTo>
                    <a:lnTo>
                      <a:pt x="40" y="377"/>
                    </a:lnTo>
                    <a:lnTo>
                      <a:pt x="44" y="377"/>
                    </a:lnTo>
                    <a:lnTo>
                      <a:pt x="47" y="375"/>
                    </a:lnTo>
                    <a:lnTo>
                      <a:pt x="50" y="374"/>
                    </a:lnTo>
                    <a:lnTo>
                      <a:pt x="55" y="370"/>
                    </a:lnTo>
                    <a:lnTo>
                      <a:pt x="60" y="367"/>
                    </a:lnTo>
                    <a:lnTo>
                      <a:pt x="65" y="362"/>
                    </a:lnTo>
                    <a:lnTo>
                      <a:pt x="68" y="355"/>
                    </a:lnTo>
                    <a:lnTo>
                      <a:pt x="69" y="351"/>
                    </a:lnTo>
                    <a:lnTo>
                      <a:pt x="70" y="348"/>
                    </a:lnTo>
                    <a:lnTo>
                      <a:pt x="70" y="344"/>
                    </a:lnTo>
                    <a:lnTo>
                      <a:pt x="70" y="340"/>
                    </a:lnTo>
                    <a:lnTo>
                      <a:pt x="70" y="340"/>
                    </a:lnTo>
                    <a:close/>
                    <a:moveTo>
                      <a:pt x="302" y="37"/>
                    </a:moveTo>
                    <a:lnTo>
                      <a:pt x="301" y="33"/>
                    </a:lnTo>
                    <a:lnTo>
                      <a:pt x="301" y="29"/>
                    </a:lnTo>
                    <a:lnTo>
                      <a:pt x="300" y="27"/>
                    </a:lnTo>
                    <a:lnTo>
                      <a:pt x="298" y="23"/>
                    </a:lnTo>
                    <a:lnTo>
                      <a:pt x="296" y="17"/>
                    </a:lnTo>
                    <a:lnTo>
                      <a:pt x="291" y="12"/>
                    </a:lnTo>
                    <a:lnTo>
                      <a:pt x="286" y="7"/>
                    </a:lnTo>
                    <a:lnTo>
                      <a:pt x="281" y="4"/>
                    </a:lnTo>
                    <a:lnTo>
                      <a:pt x="277" y="3"/>
                    </a:lnTo>
                    <a:lnTo>
                      <a:pt x="275" y="2"/>
                    </a:lnTo>
                    <a:lnTo>
                      <a:pt x="271" y="2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1" y="2"/>
                    </a:lnTo>
                    <a:lnTo>
                      <a:pt x="258" y="3"/>
                    </a:lnTo>
                    <a:lnTo>
                      <a:pt x="255" y="4"/>
                    </a:lnTo>
                    <a:lnTo>
                      <a:pt x="250" y="7"/>
                    </a:lnTo>
                    <a:lnTo>
                      <a:pt x="244" y="12"/>
                    </a:lnTo>
                    <a:lnTo>
                      <a:pt x="239" y="17"/>
                    </a:lnTo>
                    <a:lnTo>
                      <a:pt x="237" y="23"/>
                    </a:lnTo>
                    <a:lnTo>
                      <a:pt x="236" y="27"/>
                    </a:lnTo>
                    <a:lnTo>
                      <a:pt x="234" y="29"/>
                    </a:lnTo>
                    <a:lnTo>
                      <a:pt x="234" y="33"/>
                    </a:lnTo>
                    <a:lnTo>
                      <a:pt x="233" y="37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6" y="47"/>
                    </a:lnTo>
                    <a:lnTo>
                      <a:pt x="237" y="51"/>
                    </a:lnTo>
                    <a:lnTo>
                      <a:pt x="239" y="56"/>
                    </a:lnTo>
                    <a:lnTo>
                      <a:pt x="244" y="61"/>
                    </a:lnTo>
                    <a:lnTo>
                      <a:pt x="250" y="66"/>
                    </a:lnTo>
                    <a:lnTo>
                      <a:pt x="255" y="69"/>
                    </a:lnTo>
                    <a:lnTo>
                      <a:pt x="258" y="70"/>
                    </a:lnTo>
                    <a:lnTo>
                      <a:pt x="261" y="71"/>
                    </a:lnTo>
                    <a:lnTo>
                      <a:pt x="265" y="71"/>
                    </a:lnTo>
                    <a:lnTo>
                      <a:pt x="267" y="71"/>
                    </a:lnTo>
                    <a:lnTo>
                      <a:pt x="271" y="71"/>
                    </a:lnTo>
                    <a:lnTo>
                      <a:pt x="275" y="71"/>
                    </a:lnTo>
                    <a:lnTo>
                      <a:pt x="277" y="70"/>
                    </a:lnTo>
                    <a:lnTo>
                      <a:pt x="281" y="69"/>
                    </a:lnTo>
                    <a:lnTo>
                      <a:pt x="286" y="66"/>
                    </a:lnTo>
                    <a:lnTo>
                      <a:pt x="291" y="61"/>
                    </a:lnTo>
                    <a:lnTo>
                      <a:pt x="296" y="56"/>
                    </a:lnTo>
                    <a:lnTo>
                      <a:pt x="298" y="51"/>
                    </a:lnTo>
                    <a:lnTo>
                      <a:pt x="300" y="47"/>
                    </a:lnTo>
                    <a:lnTo>
                      <a:pt x="301" y="45"/>
                    </a:lnTo>
                    <a:lnTo>
                      <a:pt x="301" y="41"/>
                    </a:lnTo>
                    <a:lnTo>
                      <a:pt x="302" y="37"/>
                    </a:lnTo>
                    <a:lnTo>
                      <a:pt x="302" y="37"/>
                    </a:lnTo>
                    <a:close/>
                    <a:moveTo>
                      <a:pt x="302" y="572"/>
                    </a:moveTo>
                    <a:lnTo>
                      <a:pt x="301" y="569"/>
                    </a:lnTo>
                    <a:lnTo>
                      <a:pt x="301" y="566"/>
                    </a:lnTo>
                    <a:lnTo>
                      <a:pt x="300" y="562"/>
                    </a:lnTo>
                    <a:lnTo>
                      <a:pt x="298" y="558"/>
                    </a:lnTo>
                    <a:lnTo>
                      <a:pt x="296" y="552"/>
                    </a:lnTo>
                    <a:lnTo>
                      <a:pt x="291" y="547"/>
                    </a:lnTo>
                    <a:lnTo>
                      <a:pt x="286" y="542"/>
                    </a:lnTo>
                    <a:lnTo>
                      <a:pt x="281" y="540"/>
                    </a:lnTo>
                    <a:lnTo>
                      <a:pt x="277" y="538"/>
                    </a:lnTo>
                    <a:lnTo>
                      <a:pt x="275" y="537"/>
                    </a:lnTo>
                    <a:lnTo>
                      <a:pt x="271" y="537"/>
                    </a:lnTo>
                    <a:lnTo>
                      <a:pt x="267" y="537"/>
                    </a:lnTo>
                    <a:lnTo>
                      <a:pt x="265" y="537"/>
                    </a:lnTo>
                    <a:lnTo>
                      <a:pt x="261" y="537"/>
                    </a:lnTo>
                    <a:lnTo>
                      <a:pt x="258" y="538"/>
                    </a:lnTo>
                    <a:lnTo>
                      <a:pt x="255" y="540"/>
                    </a:lnTo>
                    <a:lnTo>
                      <a:pt x="250" y="542"/>
                    </a:lnTo>
                    <a:lnTo>
                      <a:pt x="244" y="547"/>
                    </a:lnTo>
                    <a:lnTo>
                      <a:pt x="239" y="552"/>
                    </a:lnTo>
                    <a:lnTo>
                      <a:pt x="237" y="558"/>
                    </a:lnTo>
                    <a:lnTo>
                      <a:pt x="236" y="562"/>
                    </a:lnTo>
                    <a:lnTo>
                      <a:pt x="234" y="566"/>
                    </a:lnTo>
                    <a:lnTo>
                      <a:pt x="234" y="569"/>
                    </a:lnTo>
                    <a:lnTo>
                      <a:pt x="233" y="572"/>
                    </a:lnTo>
                    <a:lnTo>
                      <a:pt x="234" y="576"/>
                    </a:lnTo>
                    <a:lnTo>
                      <a:pt x="234" y="580"/>
                    </a:lnTo>
                    <a:lnTo>
                      <a:pt x="236" y="582"/>
                    </a:lnTo>
                    <a:lnTo>
                      <a:pt x="237" y="586"/>
                    </a:lnTo>
                    <a:lnTo>
                      <a:pt x="239" y="591"/>
                    </a:lnTo>
                    <a:lnTo>
                      <a:pt x="244" y="596"/>
                    </a:lnTo>
                    <a:lnTo>
                      <a:pt x="250" y="601"/>
                    </a:lnTo>
                    <a:lnTo>
                      <a:pt x="255" y="604"/>
                    </a:lnTo>
                    <a:lnTo>
                      <a:pt x="258" y="605"/>
                    </a:lnTo>
                    <a:lnTo>
                      <a:pt x="261" y="606"/>
                    </a:lnTo>
                    <a:lnTo>
                      <a:pt x="265" y="606"/>
                    </a:lnTo>
                    <a:lnTo>
                      <a:pt x="267" y="608"/>
                    </a:lnTo>
                    <a:lnTo>
                      <a:pt x="271" y="606"/>
                    </a:lnTo>
                    <a:lnTo>
                      <a:pt x="275" y="606"/>
                    </a:lnTo>
                    <a:lnTo>
                      <a:pt x="277" y="605"/>
                    </a:lnTo>
                    <a:lnTo>
                      <a:pt x="281" y="604"/>
                    </a:lnTo>
                    <a:lnTo>
                      <a:pt x="286" y="601"/>
                    </a:lnTo>
                    <a:lnTo>
                      <a:pt x="291" y="596"/>
                    </a:lnTo>
                    <a:lnTo>
                      <a:pt x="296" y="591"/>
                    </a:lnTo>
                    <a:lnTo>
                      <a:pt x="298" y="586"/>
                    </a:lnTo>
                    <a:lnTo>
                      <a:pt x="300" y="582"/>
                    </a:lnTo>
                    <a:lnTo>
                      <a:pt x="301" y="580"/>
                    </a:lnTo>
                    <a:lnTo>
                      <a:pt x="301" y="576"/>
                    </a:lnTo>
                    <a:lnTo>
                      <a:pt x="302" y="572"/>
                    </a:lnTo>
                    <a:lnTo>
                      <a:pt x="302" y="57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8" name=""/>
              <p:cNvSpPr/>
              <p:nvPr/>
            </p:nvSpPr>
            <p:spPr>
              <a:xfrm>
                <a:off x="4803840" y="2533320"/>
                <a:ext cx="50040" cy="5580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2"/>
                    </a:lnTo>
                    <a:lnTo>
                      <a:pt x="70" y="28"/>
                    </a:lnTo>
                    <a:lnTo>
                      <a:pt x="69" y="24"/>
                    </a:lnTo>
                    <a:lnTo>
                      <a:pt x="68" y="21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0" y="71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0" y="68"/>
                    </a:lnTo>
                    <a:lnTo>
                      <a:pt x="55" y="64"/>
                    </a:lnTo>
                    <a:lnTo>
                      <a:pt x="60" y="61"/>
                    </a:lnTo>
                    <a:lnTo>
                      <a:pt x="65" y="56"/>
                    </a:lnTo>
                    <a:lnTo>
                      <a:pt x="68" y="49"/>
                    </a:lnTo>
                    <a:lnTo>
                      <a:pt x="69" y="45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9" name=""/>
              <p:cNvSpPr/>
              <p:nvPr/>
            </p:nvSpPr>
            <p:spPr>
              <a:xfrm>
                <a:off x="4970160" y="2296080"/>
                <a:ext cx="48600" cy="5472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7"/>
                    </a:moveTo>
                    <a:lnTo>
                      <a:pt x="68" y="33"/>
                    </a:lnTo>
                    <a:lnTo>
                      <a:pt x="68" y="29"/>
                    </a:lnTo>
                    <a:lnTo>
                      <a:pt x="67" y="27"/>
                    </a:lnTo>
                    <a:lnTo>
                      <a:pt x="65" y="23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6"/>
                    </a:lnTo>
                    <a:lnTo>
                      <a:pt x="22" y="69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2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8" y="61"/>
                    </a:lnTo>
                    <a:lnTo>
                      <a:pt x="63" y="56"/>
                    </a:lnTo>
                    <a:lnTo>
                      <a:pt x="65" y="51"/>
                    </a:lnTo>
                    <a:lnTo>
                      <a:pt x="67" y="47"/>
                    </a:lnTo>
                    <a:lnTo>
                      <a:pt x="68" y="45"/>
                    </a:lnTo>
                    <a:lnTo>
                      <a:pt x="68" y="41"/>
                    </a:lnTo>
                    <a:lnTo>
                      <a:pt x="69" y="37"/>
                    </a:lnTo>
                    <a:lnTo>
                      <a:pt x="69" y="37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0" name=""/>
              <p:cNvSpPr/>
              <p:nvPr/>
            </p:nvSpPr>
            <p:spPr>
              <a:xfrm>
                <a:off x="4970160" y="2713320"/>
                <a:ext cx="48600" cy="5436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5"/>
                    </a:moveTo>
                    <a:lnTo>
                      <a:pt x="68" y="32"/>
                    </a:lnTo>
                    <a:lnTo>
                      <a:pt x="68" y="29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5"/>
                    </a:lnTo>
                    <a:lnTo>
                      <a:pt x="58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4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9"/>
                    </a:lnTo>
                    <a:lnTo>
                      <a:pt x="32" y="69"/>
                    </a:lnTo>
                    <a:lnTo>
                      <a:pt x="34" y="71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4" y="68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5" y="49"/>
                    </a:lnTo>
                    <a:lnTo>
                      <a:pt x="67" y="45"/>
                    </a:lnTo>
                    <a:lnTo>
                      <a:pt x="68" y="43"/>
                    </a:lnTo>
                    <a:lnTo>
                      <a:pt x="68" y="39"/>
                    </a:lnTo>
                    <a:lnTo>
                      <a:pt x="69" y="35"/>
                    </a:lnTo>
                    <a:lnTo>
                      <a:pt x="69" y="3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1" name=""/>
              <p:cNvSpPr/>
              <p:nvPr/>
            </p:nvSpPr>
            <p:spPr>
              <a:xfrm>
                <a:off x="4820400" y="2314080"/>
                <a:ext cx="183240" cy="434520"/>
              </a:xfrm>
              <a:custGeom>
                <a:avLst/>
                <a:gdLst/>
                <a:ahLst/>
                <a:rect l="l" t="t" r="r" b="b"/>
                <a:pathLst>
                  <a:path w="258" h="561">
                    <a:moveTo>
                      <a:pt x="25" y="317"/>
                    </a:moveTo>
                    <a:lnTo>
                      <a:pt x="25" y="315"/>
                    </a:lnTo>
                    <a:lnTo>
                      <a:pt x="25" y="313"/>
                    </a:lnTo>
                    <a:lnTo>
                      <a:pt x="24" y="311"/>
                    </a:lnTo>
                    <a:lnTo>
                      <a:pt x="22" y="309"/>
                    </a:lnTo>
                    <a:lnTo>
                      <a:pt x="20" y="308"/>
                    </a:lnTo>
                    <a:lnTo>
                      <a:pt x="19" y="307"/>
                    </a:lnTo>
                    <a:lnTo>
                      <a:pt x="16" y="306"/>
                    </a:lnTo>
                    <a:lnTo>
                      <a:pt x="14" y="306"/>
                    </a:lnTo>
                    <a:lnTo>
                      <a:pt x="11" y="306"/>
                    </a:lnTo>
                    <a:lnTo>
                      <a:pt x="7" y="307"/>
                    </a:lnTo>
                    <a:lnTo>
                      <a:pt x="6" y="308"/>
                    </a:lnTo>
                    <a:lnTo>
                      <a:pt x="3" y="309"/>
                    </a:lnTo>
                    <a:lnTo>
                      <a:pt x="2" y="311"/>
                    </a:lnTo>
                    <a:lnTo>
                      <a:pt x="1" y="313"/>
                    </a:lnTo>
                    <a:lnTo>
                      <a:pt x="1" y="315"/>
                    </a:lnTo>
                    <a:lnTo>
                      <a:pt x="0" y="317"/>
                    </a:lnTo>
                    <a:lnTo>
                      <a:pt x="1" y="321"/>
                    </a:lnTo>
                    <a:lnTo>
                      <a:pt x="1" y="323"/>
                    </a:lnTo>
                    <a:lnTo>
                      <a:pt x="2" y="326"/>
                    </a:lnTo>
                    <a:lnTo>
                      <a:pt x="3" y="327"/>
                    </a:lnTo>
                    <a:lnTo>
                      <a:pt x="6" y="330"/>
                    </a:lnTo>
                    <a:lnTo>
                      <a:pt x="7" y="330"/>
                    </a:lnTo>
                    <a:lnTo>
                      <a:pt x="11" y="331"/>
                    </a:lnTo>
                    <a:lnTo>
                      <a:pt x="14" y="331"/>
                    </a:lnTo>
                    <a:lnTo>
                      <a:pt x="16" y="331"/>
                    </a:lnTo>
                    <a:lnTo>
                      <a:pt x="19" y="330"/>
                    </a:lnTo>
                    <a:lnTo>
                      <a:pt x="20" y="330"/>
                    </a:lnTo>
                    <a:lnTo>
                      <a:pt x="22" y="327"/>
                    </a:lnTo>
                    <a:lnTo>
                      <a:pt x="24" y="326"/>
                    </a:lnTo>
                    <a:lnTo>
                      <a:pt x="25" y="323"/>
                    </a:lnTo>
                    <a:lnTo>
                      <a:pt x="25" y="321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  <a:moveTo>
                      <a:pt x="258" y="14"/>
                    </a:moveTo>
                    <a:lnTo>
                      <a:pt x="258" y="12"/>
                    </a:lnTo>
                    <a:lnTo>
                      <a:pt x="257" y="9"/>
                    </a:lnTo>
                    <a:lnTo>
                      <a:pt x="255" y="6"/>
                    </a:lnTo>
                    <a:lnTo>
                      <a:pt x="254" y="4"/>
                    </a:lnTo>
                    <a:lnTo>
                      <a:pt x="252" y="3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4" y="0"/>
                    </a:lnTo>
                    <a:lnTo>
                      <a:pt x="242" y="1"/>
                    </a:lnTo>
                    <a:lnTo>
                      <a:pt x="240" y="1"/>
                    </a:lnTo>
                    <a:lnTo>
                      <a:pt x="238" y="3"/>
                    </a:lnTo>
                    <a:lnTo>
                      <a:pt x="235" y="4"/>
                    </a:lnTo>
                    <a:lnTo>
                      <a:pt x="234" y="6"/>
                    </a:lnTo>
                    <a:lnTo>
                      <a:pt x="233" y="9"/>
                    </a:lnTo>
                    <a:lnTo>
                      <a:pt x="232" y="12"/>
                    </a:lnTo>
                    <a:lnTo>
                      <a:pt x="232" y="14"/>
                    </a:lnTo>
                    <a:lnTo>
                      <a:pt x="232" y="17"/>
                    </a:lnTo>
                    <a:lnTo>
                      <a:pt x="233" y="19"/>
                    </a:lnTo>
                    <a:lnTo>
                      <a:pt x="234" y="22"/>
                    </a:lnTo>
                    <a:lnTo>
                      <a:pt x="235" y="23"/>
                    </a:lnTo>
                    <a:lnTo>
                      <a:pt x="238" y="24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5"/>
                    </a:lnTo>
                    <a:lnTo>
                      <a:pt x="248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4" y="23"/>
                    </a:lnTo>
                    <a:lnTo>
                      <a:pt x="255" y="22"/>
                    </a:lnTo>
                    <a:lnTo>
                      <a:pt x="257" y="19"/>
                    </a:lnTo>
                    <a:lnTo>
                      <a:pt x="258" y="17"/>
                    </a:lnTo>
                    <a:lnTo>
                      <a:pt x="258" y="14"/>
                    </a:lnTo>
                    <a:lnTo>
                      <a:pt x="258" y="14"/>
                    </a:lnTo>
                    <a:close/>
                    <a:moveTo>
                      <a:pt x="258" y="549"/>
                    </a:moveTo>
                    <a:lnTo>
                      <a:pt x="258" y="547"/>
                    </a:lnTo>
                    <a:lnTo>
                      <a:pt x="257" y="544"/>
                    </a:lnTo>
                    <a:lnTo>
                      <a:pt x="255" y="542"/>
                    </a:lnTo>
                    <a:lnTo>
                      <a:pt x="254" y="539"/>
                    </a:lnTo>
                    <a:lnTo>
                      <a:pt x="252" y="538"/>
                    </a:lnTo>
                    <a:lnTo>
                      <a:pt x="249" y="537"/>
                    </a:lnTo>
                    <a:lnTo>
                      <a:pt x="248" y="537"/>
                    </a:lnTo>
                    <a:lnTo>
                      <a:pt x="244" y="537"/>
                    </a:lnTo>
                    <a:lnTo>
                      <a:pt x="242" y="537"/>
                    </a:lnTo>
                    <a:lnTo>
                      <a:pt x="240" y="537"/>
                    </a:lnTo>
                    <a:lnTo>
                      <a:pt x="238" y="538"/>
                    </a:lnTo>
                    <a:lnTo>
                      <a:pt x="235" y="539"/>
                    </a:lnTo>
                    <a:lnTo>
                      <a:pt x="234" y="542"/>
                    </a:lnTo>
                    <a:lnTo>
                      <a:pt x="233" y="544"/>
                    </a:lnTo>
                    <a:lnTo>
                      <a:pt x="232" y="547"/>
                    </a:lnTo>
                    <a:lnTo>
                      <a:pt x="232" y="549"/>
                    </a:lnTo>
                    <a:lnTo>
                      <a:pt x="232" y="552"/>
                    </a:lnTo>
                    <a:lnTo>
                      <a:pt x="233" y="554"/>
                    </a:lnTo>
                    <a:lnTo>
                      <a:pt x="234" y="557"/>
                    </a:lnTo>
                    <a:lnTo>
                      <a:pt x="235" y="558"/>
                    </a:lnTo>
                    <a:lnTo>
                      <a:pt x="238" y="559"/>
                    </a:lnTo>
                    <a:lnTo>
                      <a:pt x="240" y="561"/>
                    </a:lnTo>
                    <a:lnTo>
                      <a:pt x="242" y="561"/>
                    </a:lnTo>
                    <a:lnTo>
                      <a:pt x="244" y="561"/>
                    </a:lnTo>
                    <a:lnTo>
                      <a:pt x="248" y="561"/>
                    </a:lnTo>
                    <a:lnTo>
                      <a:pt x="249" y="561"/>
                    </a:lnTo>
                    <a:lnTo>
                      <a:pt x="252" y="559"/>
                    </a:lnTo>
                    <a:lnTo>
                      <a:pt x="254" y="558"/>
                    </a:lnTo>
                    <a:lnTo>
                      <a:pt x="255" y="557"/>
                    </a:lnTo>
                    <a:lnTo>
                      <a:pt x="257" y="554"/>
                    </a:lnTo>
                    <a:lnTo>
                      <a:pt x="258" y="552"/>
                    </a:lnTo>
                    <a:lnTo>
                      <a:pt x="258" y="549"/>
                    </a:lnTo>
                    <a:lnTo>
                      <a:pt x="258" y="549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2" name=""/>
              <p:cNvSpPr/>
              <p:nvPr/>
            </p:nvSpPr>
            <p:spPr>
              <a:xfrm>
                <a:off x="4820400" y="2550960"/>
                <a:ext cx="17280" cy="187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1"/>
                    </a:moveTo>
                    <a:lnTo>
                      <a:pt x="25" y="9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1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3" name=""/>
              <p:cNvSpPr/>
              <p:nvPr/>
            </p:nvSpPr>
            <p:spPr>
              <a:xfrm>
                <a:off x="4985280" y="2314080"/>
                <a:ext cx="18360" cy="2016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4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4" name=""/>
              <p:cNvSpPr/>
              <p:nvPr/>
            </p:nvSpPr>
            <p:spPr>
              <a:xfrm>
                <a:off x="4985280" y="2729520"/>
                <a:ext cx="18360" cy="190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2"/>
                    </a:moveTo>
                    <a:lnTo>
                      <a:pt x="26" y="10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5" name=""/>
              <p:cNvSpPr/>
              <p:nvPr/>
            </p:nvSpPr>
            <p:spPr>
              <a:xfrm>
                <a:off x="4895280" y="2298600"/>
                <a:ext cx="205920" cy="622440"/>
              </a:xfrm>
              <a:custGeom>
                <a:avLst/>
                <a:gdLst/>
                <a:ahLst/>
                <a:rect l="l" t="t" r="r" b="b"/>
                <a:pathLst>
                  <a:path w="291" h="803">
                    <a:moveTo>
                      <a:pt x="291" y="37"/>
                    </a:moveTo>
                    <a:lnTo>
                      <a:pt x="73" y="37"/>
                    </a:lnTo>
                    <a:lnTo>
                      <a:pt x="67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9" y="38"/>
                    </a:lnTo>
                    <a:lnTo>
                      <a:pt x="45" y="39"/>
                    </a:lnTo>
                    <a:lnTo>
                      <a:pt x="43" y="39"/>
                    </a:lnTo>
                    <a:lnTo>
                      <a:pt x="42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7" y="57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803"/>
                    </a:lnTo>
                    <a:lnTo>
                      <a:pt x="0" y="80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1" y="0"/>
                    </a:lnTo>
                    <a:lnTo>
                      <a:pt x="291" y="37"/>
                    </a:lnTo>
                    <a:lnTo>
                      <a:pt x="2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6" name=""/>
              <p:cNvSpPr/>
              <p:nvPr/>
            </p:nvSpPr>
            <p:spPr>
              <a:xfrm>
                <a:off x="4877640" y="2271240"/>
                <a:ext cx="200880" cy="649800"/>
              </a:xfrm>
              <a:custGeom>
                <a:avLst/>
                <a:gdLst/>
                <a:ahLst/>
                <a:rect l="l" t="t" r="r" b="b"/>
                <a:pathLst>
                  <a:path w="284" h="837">
                    <a:moveTo>
                      <a:pt x="284" y="43"/>
                    </a:moveTo>
                    <a:lnTo>
                      <a:pt x="76" y="43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6" y="45"/>
                    </a:lnTo>
                    <a:lnTo>
                      <a:pt x="64" y="47"/>
                    </a:lnTo>
                    <a:lnTo>
                      <a:pt x="58" y="49"/>
                    </a:lnTo>
                    <a:lnTo>
                      <a:pt x="53" y="54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4" y="69"/>
                    </a:lnTo>
                    <a:lnTo>
                      <a:pt x="44" y="72"/>
                    </a:lnTo>
                    <a:lnTo>
                      <a:pt x="43" y="76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837"/>
                    </a:lnTo>
                    <a:lnTo>
                      <a:pt x="0" y="83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7" y="37"/>
                    </a:lnTo>
                    <a:lnTo>
                      <a:pt x="11" y="31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5" y="9"/>
                    </a:lnTo>
                    <a:lnTo>
                      <a:pt x="41" y="6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284" y="0"/>
                    </a:lnTo>
                    <a:lnTo>
                      <a:pt x="284" y="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7" name=""/>
              <p:cNvSpPr/>
              <p:nvPr/>
            </p:nvSpPr>
            <p:spPr>
              <a:xfrm>
                <a:off x="4727880" y="2142720"/>
                <a:ext cx="4376520" cy="13572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8" name=""/>
              <p:cNvSpPr/>
              <p:nvPr/>
            </p:nvSpPr>
            <p:spPr>
              <a:xfrm>
                <a:off x="4727880" y="2142720"/>
                <a:ext cx="4376520" cy="13572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9" name=""/>
              <p:cNvSpPr/>
              <p:nvPr/>
            </p:nvSpPr>
            <p:spPr>
              <a:xfrm>
                <a:off x="6199560" y="2209320"/>
                <a:ext cx="950760" cy="56160"/>
              </a:xfrm>
              <a:custGeom>
                <a:avLst/>
                <a:gdLst/>
                <a:ahLst/>
                <a:rect l="l" t="t" r="r" b="b"/>
                <a:pathLst>
                  <a:path w="1335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  <a:close/>
                    <a:moveTo>
                      <a:pt x="1335" y="34"/>
                    </a:moveTo>
                    <a:lnTo>
                      <a:pt x="1334" y="31"/>
                    </a:lnTo>
                    <a:lnTo>
                      <a:pt x="1334" y="28"/>
                    </a:lnTo>
                    <a:lnTo>
                      <a:pt x="1333" y="24"/>
                    </a:lnTo>
                    <a:lnTo>
                      <a:pt x="1331" y="22"/>
                    </a:lnTo>
                    <a:lnTo>
                      <a:pt x="1329" y="16"/>
                    </a:lnTo>
                    <a:lnTo>
                      <a:pt x="1324" y="10"/>
                    </a:lnTo>
                    <a:lnTo>
                      <a:pt x="1319" y="7"/>
                    </a:lnTo>
                    <a:lnTo>
                      <a:pt x="1313" y="3"/>
                    </a:lnTo>
                    <a:lnTo>
                      <a:pt x="1309" y="2"/>
                    </a:lnTo>
                    <a:lnTo>
                      <a:pt x="1306" y="2"/>
                    </a:lnTo>
                    <a:lnTo>
                      <a:pt x="1303" y="0"/>
                    </a:lnTo>
                    <a:lnTo>
                      <a:pt x="1299" y="0"/>
                    </a:lnTo>
                    <a:lnTo>
                      <a:pt x="1295" y="0"/>
                    </a:lnTo>
                    <a:lnTo>
                      <a:pt x="1291" y="2"/>
                    </a:lnTo>
                    <a:lnTo>
                      <a:pt x="1289" y="2"/>
                    </a:lnTo>
                    <a:lnTo>
                      <a:pt x="1285" y="3"/>
                    </a:lnTo>
                    <a:lnTo>
                      <a:pt x="1280" y="7"/>
                    </a:lnTo>
                    <a:lnTo>
                      <a:pt x="1275" y="10"/>
                    </a:lnTo>
                    <a:lnTo>
                      <a:pt x="1270" y="16"/>
                    </a:lnTo>
                    <a:lnTo>
                      <a:pt x="1268" y="22"/>
                    </a:lnTo>
                    <a:lnTo>
                      <a:pt x="1266" y="24"/>
                    </a:lnTo>
                    <a:lnTo>
                      <a:pt x="1265" y="28"/>
                    </a:lnTo>
                    <a:lnTo>
                      <a:pt x="1265" y="31"/>
                    </a:lnTo>
                    <a:lnTo>
                      <a:pt x="1265" y="34"/>
                    </a:lnTo>
                    <a:lnTo>
                      <a:pt x="1265" y="38"/>
                    </a:lnTo>
                    <a:lnTo>
                      <a:pt x="1265" y="42"/>
                    </a:lnTo>
                    <a:lnTo>
                      <a:pt x="1266" y="46"/>
                    </a:lnTo>
                    <a:lnTo>
                      <a:pt x="1268" y="48"/>
                    </a:lnTo>
                    <a:lnTo>
                      <a:pt x="1270" y="55"/>
                    </a:lnTo>
                    <a:lnTo>
                      <a:pt x="1275" y="61"/>
                    </a:lnTo>
                    <a:lnTo>
                      <a:pt x="1280" y="65"/>
                    </a:lnTo>
                    <a:lnTo>
                      <a:pt x="1285" y="69"/>
                    </a:lnTo>
                    <a:lnTo>
                      <a:pt x="1289" y="70"/>
                    </a:lnTo>
                    <a:lnTo>
                      <a:pt x="1291" y="70"/>
                    </a:lnTo>
                    <a:lnTo>
                      <a:pt x="1295" y="71"/>
                    </a:lnTo>
                    <a:lnTo>
                      <a:pt x="1299" y="71"/>
                    </a:lnTo>
                    <a:lnTo>
                      <a:pt x="1303" y="71"/>
                    </a:lnTo>
                    <a:lnTo>
                      <a:pt x="1306" y="70"/>
                    </a:lnTo>
                    <a:lnTo>
                      <a:pt x="1309" y="70"/>
                    </a:lnTo>
                    <a:lnTo>
                      <a:pt x="1313" y="69"/>
                    </a:lnTo>
                    <a:lnTo>
                      <a:pt x="1319" y="65"/>
                    </a:lnTo>
                    <a:lnTo>
                      <a:pt x="1324" y="61"/>
                    </a:lnTo>
                    <a:lnTo>
                      <a:pt x="1329" y="55"/>
                    </a:lnTo>
                    <a:lnTo>
                      <a:pt x="1331" y="48"/>
                    </a:lnTo>
                    <a:lnTo>
                      <a:pt x="1333" y="46"/>
                    </a:lnTo>
                    <a:lnTo>
                      <a:pt x="1334" y="42"/>
                    </a:lnTo>
                    <a:lnTo>
                      <a:pt x="1334" y="38"/>
                    </a:lnTo>
                    <a:lnTo>
                      <a:pt x="1335" y="34"/>
                    </a:lnTo>
                    <a:lnTo>
                      <a:pt x="1335" y="34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0" name=""/>
              <p:cNvSpPr/>
              <p:nvPr/>
            </p:nvSpPr>
            <p:spPr>
              <a:xfrm>
                <a:off x="6199560" y="2209320"/>
                <a:ext cx="49680" cy="561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1" name=""/>
              <p:cNvSpPr/>
              <p:nvPr/>
            </p:nvSpPr>
            <p:spPr>
              <a:xfrm>
                <a:off x="7100280" y="2209320"/>
                <a:ext cx="50040" cy="561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69" y="31"/>
                    </a:lnTo>
                    <a:lnTo>
                      <a:pt x="69" y="28"/>
                    </a:lnTo>
                    <a:lnTo>
                      <a:pt x="68" y="24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4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4" y="65"/>
                    </a:lnTo>
                    <a:lnTo>
                      <a:pt x="59" y="61"/>
                    </a:lnTo>
                    <a:lnTo>
                      <a:pt x="64" y="55"/>
                    </a:lnTo>
                    <a:lnTo>
                      <a:pt x="66" y="48"/>
                    </a:lnTo>
                    <a:lnTo>
                      <a:pt x="68" y="46"/>
                    </a:lnTo>
                    <a:lnTo>
                      <a:pt x="69" y="42"/>
                    </a:lnTo>
                    <a:lnTo>
                      <a:pt x="69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2" name=""/>
              <p:cNvSpPr/>
              <p:nvPr/>
            </p:nvSpPr>
            <p:spPr>
              <a:xfrm>
                <a:off x="6319440" y="2223720"/>
                <a:ext cx="2406240" cy="738000"/>
              </a:xfrm>
              <a:custGeom>
                <a:avLst/>
                <a:gdLst/>
                <a:ahLst/>
                <a:rect l="l" t="t" r="r" b="b"/>
                <a:pathLst>
                  <a:path w="3384" h="951">
                    <a:moveTo>
                      <a:pt x="1350" y="862"/>
                    </a:moveTo>
                    <a:lnTo>
                      <a:pt x="1350" y="853"/>
                    </a:lnTo>
                    <a:lnTo>
                      <a:pt x="1348" y="846"/>
                    </a:lnTo>
                    <a:lnTo>
                      <a:pt x="1346" y="838"/>
                    </a:lnTo>
                    <a:lnTo>
                      <a:pt x="1343" y="832"/>
                    </a:lnTo>
                    <a:lnTo>
                      <a:pt x="1341" y="824"/>
                    </a:lnTo>
                    <a:lnTo>
                      <a:pt x="1337" y="818"/>
                    </a:lnTo>
                    <a:lnTo>
                      <a:pt x="1332" y="812"/>
                    </a:lnTo>
                    <a:lnTo>
                      <a:pt x="1327" y="807"/>
                    </a:lnTo>
                    <a:lnTo>
                      <a:pt x="1322" y="802"/>
                    </a:lnTo>
                    <a:lnTo>
                      <a:pt x="1316" y="798"/>
                    </a:lnTo>
                    <a:lnTo>
                      <a:pt x="1310" y="794"/>
                    </a:lnTo>
                    <a:lnTo>
                      <a:pt x="1303" y="790"/>
                    </a:lnTo>
                    <a:lnTo>
                      <a:pt x="1296" y="788"/>
                    </a:lnTo>
                    <a:lnTo>
                      <a:pt x="1288" y="787"/>
                    </a:lnTo>
                    <a:lnTo>
                      <a:pt x="1281" y="785"/>
                    </a:lnTo>
                    <a:lnTo>
                      <a:pt x="1273" y="784"/>
                    </a:lnTo>
                    <a:lnTo>
                      <a:pt x="1264" y="785"/>
                    </a:lnTo>
                    <a:lnTo>
                      <a:pt x="1257" y="787"/>
                    </a:lnTo>
                    <a:lnTo>
                      <a:pt x="1249" y="788"/>
                    </a:lnTo>
                    <a:lnTo>
                      <a:pt x="1242" y="790"/>
                    </a:lnTo>
                    <a:lnTo>
                      <a:pt x="1236" y="794"/>
                    </a:lnTo>
                    <a:lnTo>
                      <a:pt x="1229" y="798"/>
                    </a:lnTo>
                    <a:lnTo>
                      <a:pt x="1223" y="802"/>
                    </a:lnTo>
                    <a:lnTo>
                      <a:pt x="1217" y="807"/>
                    </a:lnTo>
                    <a:lnTo>
                      <a:pt x="1212" y="812"/>
                    </a:lnTo>
                    <a:lnTo>
                      <a:pt x="1207" y="818"/>
                    </a:lnTo>
                    <a:lnTo>
                      <a:pt x="1203" y="824"/>
                    </a:lnTo>
                    <a:lnTo>
                      <a:pt x="1201" y="832"/>
                    </a:lnTo>
                    <a:lnTo>
                      <a:pt x="1197" y="838"/>
                    </a:lnTo>
                    <a:lnTo>
                      <a:pt x="1195" y="846"/>
                    </a:lnTo>
                    <a:lnTo>
                      <a:pt x="1194" y="853"/>
                    </a:lnTo>
                    <a:lnTo>
                      <a:pt x="1193" y="862"/>
                    </a:lnTo>
                    <a:lnTo>
                      <a:pt x="1194" y="870"/>
                    </a:lnTo>
                    <a:lnTo>
                      <a:pt x="1195" y="877"/>
                    </a:lnTo>
                    <a:lnTo>
                      <a:pt x="1197" y="885"/>
                    </a:lnTo>
                    <a:lnTo>
                      <a:pt x="1201" y="893"/>
                    </a:lnTo>
                    <a:lnTo>
                      <a:pt x="1203" y="900"/>
                    </a:lnTo>
                    <a:lnTo>
                      <a:pt x="1207" y="907"/>
                    </a:lnTo>
                    <a:lnTo>
                      <a:pt x="1212" y="913"/>
                    </a:lnTo>
                    <a:lnTo>
                      <a:pt x="1217" y="918"/>
                    </a:lnTo>
                    <a:lnTo>
                      <a:pt x="1223" y="923"/>
                    </a:lnTo>
                    <a:lnTo>
                      <a:pt x="1229" y="928"/>
                    </a:lnTo>
                    <a:lnTo>
                      <a:pt x="1236" y="932"/>
                    </a:lnTo>
                    <a:lnTo>
                      <a:pt x="1242" y="936"/>
                    </a:lnTo>
                    <a:lnTo>
                      <a:pt x="1249" y="938"/>
                    </a:lnTo>
                    <a:lnTo>
                      <a:pt x="1257" y="941"/>
                    </a:lnTo>
                    <a:lnTo>
                      <a:pt x="1264" y="942"/>
                    </a:lnTo>
                    <a:lnTo>
                      <a:pt x="1273" y="942"/>
                    </a:lnTo>
                    <a:lnTo>
                      <a:pt x="1281" y="942"/>
                    </a:lnTo>
                    <a:lnTo>
                      <a:pt x="1288" y="941"/>
                    </a:lnTo>
                    <a:lnTo>
                      <a:pt x="1296" y="938"/>
                    </a:lnTo>
                    <a:lnTo>
                      <a:pt x="1303" y="936"/>
                    </a:lnTo>
                    <a:lnTo>
                      <a:pt x="1310" y="932"/>
                    </a:lnTo>
                    <a:lnTo>
                      <a:pt x="1316" y="928"/>
                    </a:lnTo>
                    <a:lnTo>
                      <a:pt x="1322" y="923"/>
                    </a:lnTo>
                    <a:lnTo>
                      <a:pt x="1327" y="918"/>
                    </a:lnTo>
                    <a:lnTo>
                      <a:pt x="1332" y="913"/>
                    </a:lnTo>
                    <a:lnTo>
                      <a:pt x="1337" y="907"/>
                    </a:lnTo>
                    <a:lnTo>
                      <a:pt x="1341" y="900"/>
                    </a:lnTo>
                    <a:lnTo>
                      <a:pt x="1343" y="893"/>
                    </a:lnTo>
                    <a:lnTo>
                      <a:pt x="1346" y="885"/>
                    </a:lnTo>
                    <a:lnTo>
                      <a:pt x="1348" y="877"/>
                    </a:lnTo>
                    <a:lnTo>
                      <a:pt x="1350" y="870"/>
                    </a:lnTo>
                    <a:lnTo>
                      <a:pt x="1350" y="862"/>
                    </a:lnTo>
                    <a:lnTo>
                      <a:pt x="1350" y="862"/>
                    </a:lnTo>
                    <a:close/>
                    <a:moveTo>
                      <a:pt x="1605" y="862"/>
                    </a:moveTo>
                    <a:lnTo>
                      <a:pt x="1605" y="853"/>
                    </a:lnTo>
                    <a:lnTo>
                      <a:pt x="1604" y="846"/>
                    </a:lnTo>
                    <a:lnTo>
                      <a:pt x="1603" y="838"/>
                    </a:lnTo>
                    <a:lnTo>
                      <a:pt x="1600" y="832"/>
                    </a:lnTo>
                    <a:lnTo>
                      <a:pt x="1596" y="824"/>
                    </a:lnTo>
                    <a:lnTo>
                      <a:pt x="1593" y="818"/>
                    </a:lnTo>
                    <a:lnTo>
                      <a:pt x="1588" y="812"/>
                    </a:lnTo>
                    <a:lnTo>
                      <a:pt x="1583" y="807"/>
                    </a:lnTo>
                    <a:lnTo>
                      <a:pt x="1578" y="802"/>
                    </a:lnTo>
                    <a:lnTo>
                      <a:pt x="1571" y="798"/>
                    </a:lnTo>
                    <a:lnTo>
                      <a:pt x="1565" y="794"/>
                    </a:lnTo>
                    <a:lnTo>
                      <a:pt x="1559" y="790"/>
                    </a:lnTo>
                    <a:lnTo>
                      <a:pt x="1551" y="788"/>
                    </a:lnTo>
                    <a:lnTo>
                      <a:pt x="1544" y="787"/>
                    </a:lnTo>
                    <a:lnTo>
                      <a:pt x="1536" y="785"/>
                    </a:lnTo>
                    <a:lnTo>
                      <a:pt x="1529" y="784"/>
                    </a:lnTo>
                    <a:lnTo>
                      <a:pt x="1520" y="785"/>
                    </a:lnTo>
                    <a:lnTo>
                      <a:pt x="1512" y="787"/>
                    </a:lnTo>
                    <a:lnTo>
                      <a:pt x="1505" y="788"/>
                    </a:lnTo>
                    <a:lnTo>
                      <a:pt x="1497" y="790"/>
                    </a:lnTo>
                    <a:lnTo>
                      <a:pt x="1491" y="794"/>
                    </a:lnTo>
                    <a:lnTo>
                      <a:pt x="1485" y="798"/>
                    </a:lnTo>
                    <a:lnTo>
                      <a:pt x="1479" y="802"/>
                    </a:lnTo>
                    <a:lnTo>
                      <a:pt x="1472" y="807"/>
                    </a:lnTo>
                    <a:lnTo>
                      <a:pt x="1467" y="812"/>
                    </a:lnTo>
                    <a:lnTo>
                      <a:pt x="1464" y="818"/>
                    </a:lnTo>
                    <a:lnTo>
                      <a:pt x="1459" y="824"/>
                    </a:lnTo>
                    <a:lnTo>
                      <a:pt x="1456" y="832"/>
                    </a:lnTo>
                    <a:lnTo>
                      <a:pt x="1452" y="838"/>
                    </a:lnTo>
                    <a:lnTo>
                      <a:pt x="1451" y="846"/>
                    </a:lnTo>
                    <a:lnTo>
                      <a:pt x="1450" y="853"/>
                    </a:lnTo>
                    <a:lnTo>
                      <a:pt x="1450" y="862"/>
                    </a:lnTo>
                    <a:lnTo>
                      <a:pt x="1450" y="870"/>
                    </a:lnTo>
                    <a:lnTo>
                      <a:pt x="1451" y="877"/>
                    </a:lnTo>
                    <a:lnTo>
                      <a:pt x="1452" y="885"/>
                    </a:lnTo>
                    <a:lnTo>
                      <a:pt x="1456" y="893"/>
                    </a:lnTo>
                    <a:lnTo>
                      <a:pt x="1459" y="900"/>
                    </a:lnTo>
                    <a:lnTo>
                      <a:pt x="1464" y="907"/>
                    </a:lnTo>
                    <a:lnTo>
                      <a:pt x="1467" y="913"/>
                    </a:lnTo>
                    <a:lnTo>
                      <a:pt x="1472" y="918"/>
                    </a:lnTo>
                    <a:lnTo>
                      <a:pt x="1479" y="923"/>
                    </a:lnTo>
                    <a:lnTo>
                      <a:pt x="1485" y="928"/>
                    </a:lnTo>
                    <a:lnTo>
                      <a:pt x="1491" y="932"/>
                    </a:lnTo>
                    <a:lnTo>
                      <a:pt x="1497" y="936"/>
                    </a:lnTo>
                    <a:lnTo>
                      <a:pt x="1505" y="938"/>
                    </a:lnTo>
                    <a:lnTo>
                      <a:pt x="1512" y="941"/>
                    </a:lnTo>
                    <a:lnTo>
                      <a:pt x="1520" y="942"/>
                    </a:lnTo>
                    <a:lnTo>
                      <a:pt x="1529" y="942"/>
                    </a:lnTo>
                    <a:lnTo>
                      <a:pt x="1536" y="942"/>
                    </a:lnTo>
                    <a:lnTo>
                      <a:pt x="1544" y="941"/>
                    </a:lnTo>
                    <a:lnTo>
                      <a:pt x="1551" y="938"/>
                    </a:lnTo>
                    <a:lnTo>
                      <a:pt x="1559" y="936"/>
                    </a:lnTo>
                    <a:lnTo>
                      <a:pt x="1565" y="932"/>
                    </a:lnTo>
                    <a:lnTo>
                      <a:pt x="1571" y="928"/>
                    </a:lnTo>
                    <a:lnTo>
                      <a:pt x="1578" y="923"/>
                    </a:lnTo>
                    <a:lnTo>
                      <a:pt x="1583" y="918"/>
                    </a:lnTo>
                    <a:lnTo>
                      <a:pt x="1588" y="913"/>
                    </a:lnTo>
                    <a:lnTo>
                      <a:pt x="1593" y="907"/>
                    </a:lnTo>
                    <a:lnTo>
                      <a:pt x="1596" y="900"/>
                    </a:lnTo>
                    <a:lnTo>
                      <a:pt x="1600" y="893"/>
                    </a:lnTo>
                    <a:lnTo>
                      <a:pt x="1603" y="885"/>
                    </a:lnTo>
                    <a:lnTo>
                      <a:pt x="1604" y="877"/>
                    </a:lnTo>
                    <a:lnTo>
                      <a:pt x="1605" y="870"/>
                    </a:lnTo>
                    <a:lnTo>
                      <a:pt x="1605" y="862"/>
                    </a:lnTo>
                    <a:lnTo>
                      <a:pt x="1605" y="862"/>
                    </a:lnTo>
                    <a:close/>
                    <a:moveTo>
                      <a:pt x="1779" y="832"/>
                    </a:moveTo>
                    <a:lnTo>
                      <a:pt x="1751" y="832"/>
                    </a:lnTo>
                    <a:lnTo>
                      <a:pt x="1747" y="832"/>
                    </a:lnTo>
                    <a:lnTo>
                      <a:pt x="1742" y="833"/>
                    </a:lnTo>
                    <a:lnTo>
                      <a:pt x="1738" y="835"/>
                    </a:lnTo>
                    <a:lnTo>
                      <a:pt x="1734" y="836"/>
                    </a:lnTo>
                    <a:lnTo>
                      <a:pt x="1731" y="837"/>
                    </a:lnTo>
                    <a:lnTo>
                      <a:pt x="1728" y="840"/>
                    </a:lnTo>
                    <a:lnTo>
                      <a:pt x="1722" y="845"/>
                    </a:lnTo>
                    <a:lnTo>
                      <a:pt x="1717" y="850"/>
                    </a:lnTo>
                    <a:lnTo>
                      <a:pt x="1714" y="853"/>
                    </a:lnTo>
                    <a:lnTo>
                      <a:pt x="1713" y="857"/>
                    </a:lnTo>
                    <a:lnTo>
                      <a:pt x="1712" y="861"/>
                    </a:lnTo>
                    <a:lnTo>
                      <a:pt x="1710" y="865"/>
                    </a:lnTo>
                    <a:lnTo>
                      <a:pt x="1710" y="869"/>
                    </a:lnTo>
                    <a:lnTo>
                      <a:pt x="1709" y="874"/>
                    </a:lnTo>
                    <a:lnTo>
                      <a:pt x="1710" y="877"/>
                    </a:lnTo>
                    <a:lnTo>
                      <a:pt x="1710" y="881"/>
                    </a:lnTo>
                    <a:lnTo>
                      <a:pt x="1712" y="885"/>
                    </a:lnTo>
                    <a:lnTo>
                      <a:pt x="1713" y="889"/>
                    </a:lnTo>
                    <a:lnTo>
                      <a:pt x="1714" y="893"/>
                    </a:lnTo>
                    <a:lnTo>
                      <a:pt x="1717" y="896"/>
                    </a:lnTo>
                    <a:lnTo>
                      <a:pt x="1722" y="903"/>
                    </a:lnTo>
                    <a:lnTo>
                      <a:pt x="1728" y="908"/>
                    </a:lnTo>
                    <a:lnTo>
                      <a:pt x="1731" y="909"/>
                    </a:lnTo>
                    <a:lnTo>
                      <a:pt x="1734" y="912"/>
                    </a:lnTo>
                    <a:lnTo>
                      <a:pt x="1738" y="913"/>
                    </a:lnTo>
                    <a:lnTo>
                      <a:pt x="1742" y="914"/>
                    </a:lnTo>
                    <a:lnTo>
                      <a:pt x="1747" y="914"/>
                    </a:lnTo>
                    <a:lnTo>
                      <a:pt x="1751" y="914"/>
                    </a:lnTo>
                    <a:lnTo>
                      <a:pt x="1751" y="914"/>
                    </a:lnTo>
                    <a:lnTo>
                      <a:pt x="1791" y="914"/>
                    </a:lnTo>
                    <a:lnTo>
                      <a:pt x="1791" y="919"/>
                    </a:lnTo>
                    <a:lnTo>
                      <a:pt x="1793" y="925"/>
                    </a:lnTo>
                    <a:lnTo>
                      <a:pt x="1796" y="931"/>
                    </a:lnTo>
                    <a:lnTo>
                      <a:pt x="1801" y="936"/>
                    </a:lnTo>
                    <a:lnTo>
                      <a:pt x="1804" y="939"/>
                    </a:lnTo>
                    <a:lnTo>
                      <a:pt x="1811" y="942"/>
                    </a:lnTo>
                    <a:lnTo>
                      <a:pt x="1817" y="944"/>
                    </a:lnTo>
                    <a:lnTo>
                      <a:pt x="1823" y="946"/>
                    </a:lnTo>
                    <a:lnTo>
                      <a:pt x="1829" y="946"/>
                    </a:lnTo>
                    <a:lnTo>
                      <a:pt x="1829" y="946"/>
                    </a:lnTo>
                    <a:lnTo>
                      <a:pt x="2017" y="946"/>
                    </a:lnTo>
                    <a:lnTo>
                      <a:pt x="2024" y="946"/>
                    </a:lnTo>
                    <a:lnTo>
                      <a:pt x="2027" y="946"/>
                    </a:lnTo>
                    <a:lnTo>
                      <a:pt x="2031" y="944"/>
                    </a:lnTo>
                    <a:lnTo>
                      <a:pt x="2035" y="943"/>
                    </a:lnTo>
                    <a:lnTo>
                      <a:pt x="2037" y="942"/>
                    </a:lnTo>
                    <a:lnTo>
                      <a:pt x="2041" y="939"/>
                    </a:lnTo>
                    <a:lnTo>
                      <a:pt x="2045" y="937"/>
                    </a:lnTo>
                    <a:lnTo>
                      <a:pt x="2047" y="936"/>
                    </a:lnTo>
                    <a:lnTo>
                      <a:pt x="2049" y="933"/>
                    </a:lnTo>
                    <a:lnTo>
                      <a:pt x="2051" y="931"/>
                    </a:lnTo>
                    <a:lnTo>
                      <a:pt x="2054" y="928"/>
                    </a:lnTo>
                    <a:lnTo>
                      <a:pt x="2056" y="922"/>
                    </a:lnTo>
                    <a:lnTo>
                      <a:pt x="2059" y="914"/>
                    </a:lnTo>
                    <a:lnTo>
                      <a:pt x="2059" y="914"/>
                    </a:lnTo>
                    <a:lnTo>
                      <a:pt x="2099" y="914"/>
                    </a:lnTo>
                    <a:lnTo>
                      <a:pt x="2103" y="914"/>
                    </a:lnTo>
                    <a:lnTo>
                      <a:pt x="2108" y="914"/>
                    </a:lnTo>
                    <a:lnTo>
                      <a:pt x="2111" y="913"/>
                    </a:lnTo>
                    <a:lnTo>
                      <a:pt x="2115" y="912"/>
                    </a:lnTo>
                    <a:lnTo>
                      <a:pt x="2119" y="909"/>
                    </a:lnTo>
                    <a:lnTo>
                      <a:pt x="2121" y="908"/>
                    </a:lnTo>
                    <a:lnTo>
                      <a:pt x="2128" y="903"/>
                    </a:lnTo>
                    <a:lnTo>
                      <a:pt x="2133" y="896"/>
                    </a:lnTo>
                    <a:lnTo>
                      <a:pt x="2135" y="893"/>
                    </a:lnTo>
                    <a:lnTo>
                      <a:pt x="2136" y="889"/>
                    </a:lnTo>
                    <a:lnTo>
                      <a:pt x="2138" y="885"/>
                    </a:lnTo>
                    <a:lnTo>
                      <a:pt x="2139" y="881"/>
                    </a:lnTo>
                    <a:lnTo>
                      <a:pt x="2139" y="877"/>
                    </a:lnTo>
                    <a:lnTo>
                      <a:pt x="2140" y="874"/>
                    </a:lnTo>
                    <a:lnTo>
                      <a:pt x="2140" y="874"/>
                    </a:lnTo>
                    <a:lnTo>
                      <a:pt x="2139" y="869"/>
                    </a:lnTo>
                    <a:lnTo>
                      <a:pt x="2139" y="865"/>
                    </a:lnTo>
                    <a:lnTo>
                      <a:pt x="2138" y="861"/>
                    </a:lnTo>
                    <a:lnTo>
                      <a:pt x="2136" y="857"/>
                    </a:lnTo>
                    <a:lnTo>
                      <a:pt x="2135" y="853"/>
                    </a:lnTo>
                    <a:lnTo>
                      <a:pt x="2133" y="850"/>
                    </a:lnTo>
                    <a:lnTo>
                      <a:pt x="2128" y="845"/>
                    </a:lnTo>
                    <a:lnTo>
                      <a:pt x="2121" y="840"/>
                    </a:lnTo>
                    <a:lnTo>
                      <a:pt x="2119" y="837"/>
                    </a:lnTo>
                    <a:lnTo>
                      <a:pt x="2115" y="836"/>
                    </a:lnTo>
                    <a:lnTo>
                      <a:pt x="2111" y="835"/>
                    </a:lnTo>
                    <a:lnTo>
                      <a:pt x="2108" y="833"/>
                    </a:lnTo>
                    <a:lnTo>
                      <a:pt x="2103" y="832"/>
                    </a:lnTo>
                    <a:lnTo>
                      <a:pt x="2099" y="832"/>
                    </a:lnTo>
                    <a:lnTo>
                      <a:pt x="2099" y="832"/>
                    </a:lnTo>
                    <a:lnTo>
                      <a:pt x="2070" y="832"/>
                    </a:lnTo>
                    <a:lnTo>
                      <a:pt x="2069" y="830"/>
                    </a:lnTo>
                    <a:lnTo>
                      <a:pt x="2069" y="827"/>
                    </a:lnTo>
                    <a:lnTo>
                      <a:pt x="2068" y="824"/>
                    </a:lnTo>
                    <a:lnTo>
                      <a:pt x="2066" y="822"/>
                    </a:lnTo>
                    <a:lnTo>
                      <a:pt x="2064" y="818"/>
                    </a:lnTo>
                    <a:lnTo>
                      <a:pt x="2060" y="814"/>
                    </a:lnTo>
                    <a:lnTo>
                      <a:pt x="2058" y="811"/>
                    </a:lnTo>
                    <a:lnTo>
                      <a:pt x="2055" y="808"/>
                    </a:lnTo>
                    <a:lnTo>
                      <a:pt x="2053" y="806"/>
                    </a:lnTo>
                    <a:lnTo>
                      <a:pt x="2049" y="804"/>
                    </a:lnTo>
                    <a:lnTo>
                      <a:pt x="2045" y="802"/>
                    </a:lnTo>
                    <a:lnTo>
                      <a:pt x="2041" y="802"/>
                    </a:lnTo>
                    <a:lnTo>
                      <a:pt x="2037" y="800"/>
                    </a:lnTo>
                    <a:lnTo>
                      <a:pt x="2034" y="800"/>
                    </a:lnTo>
                    <a:lnTo>
                      <a:pt x="2034" y="800"/>
                    </a:lnTo>
                    <a:lnTo>
                      <a:pt x="1816" y="800"/>
                    </a:lnTo>
                    <a:lnTo>
                      <a:pt x="1812" y="800"/>
                    </a:lnTo>
                    <a:lnTo>
                      <a:pt x="1808" y="802"/>
                    </a:lnTo>
                    <a:lnTo>
                      <a:pt x="1804" y="802"/>
                    </a:lnTo>
                    <a:lnTo>
                      <a:pt x="1801" y="804"/>
                    </a:lnTo>
                    <a:lnTo>
                      <a:pt x="1797" y="806"/>
                    </a:lnTo>
                    <a:lnTo>
                      <a:pt x="1793" y="808"/>
                    </a:lnTo>
                    <a:lnTo>
                      <a:pt x="1791" y="811"/>
                    </a:lnTo>
                    <a:lnTo>
                      <a:pt x="1787" y="814"/>
                    </a:lnTo>
                    <a:lnTo>
                      <a:pt x="1783" y="818"/>
                    </a:lnTo>
                    <a:lnTo>
                      <a:pt x="1782" y="822"/>
                    </a:lnTo>
                    <a:lnTo>
                      <a:pt x="1781" y="827"/>
                    </a:lnTo>
                    <a:lnTo>
                      <a:pt x="1779" y="832"/>
                    </a:lnTo>
                    <a:lnTo>
                      <a:pt x="1779" y="832"/>
                    </a:lnTo>
                    <a:close/>
                    <a:moveTo>
                      <a:pt x="2237" y="934"/>
                    </a:moveTo>
                    <a:lnTo>
                      <a:pt x="2651" y="934"/>
                    </a:lnTo>
                    <a:lnTo>
                      <a:pt x="2653" y="934"/>
                    </a:lnTo>
                    <a:lnTo>
                      <a:pt x="2655" y="934"/>
                    </a:lnTo>
                    <a:lnTo>
                      <a:pt x="2656" y="933"/>
                    </a:lnTo>
                    <a:lnTo>
                      <a:pt x="2658" y="932"/>
                    </a:lnTo>
                    <a:lnTo>
                      <a:pt x="2659" y="931"/>
                    </a:lnTo>
                    <a:lnTo>
                      <a:pt x="2660" y="929"/>
                    </a:lnTo>
                    <a:lnTo>
                      <a:pt x="2660" y="928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818"/>
                    </a:lnTo>
                    <a:lnTo>
                      <a:pt x="2660" y="817"/>
                    </a:lnTo>
                    <a:lnTo>
                      <a:pt x="2660" y="816"/>
                    </a:lnTo>
                    <a:lnTo>
                      <a:pt x="2659" y="813"/>
                    </a:lnTo>
                    <a:lnTo>
                      <a:pt x="2658" y="812"/>
                    </a:lnTo>
                    <a:lnTo>
                      <a:pt x="2656" y="811"/>
                    </a:lnTo>
                    <a:lnTo>
                      <a:pt x="2655" y="811"/>
                    </a:lnTo>
                    <a:lnTo>
                      <a:pt x="2653" y="809"/>
                    </a:lnTo>
                    <a:lnTo>
                      <a:pt x="2651" y="809"/>
                    </a:lnTo>
                    <a:lnTo>
                      <a:pt x="2651" y="809"/>
                    </a:lnTo>
                    <a:lnTo>
                      <a:pt x="2237" y="809"/>
                    </a:lnTo>
                    <a:lnTo>
                      <a:pt x="2235" y="809"/>
                    </a:lnTo>
                    <a:lnTo>
                      <a:pt x="2234" y="811"/>
                    </a:lnTo>
                    <a:lnTo>
                      <a:pt x="2232" y="811"/>
                    </a:lnTo>
                    <a:lnTo>
                      <a:pt x="2230" y="812"/>
                    </a:lnTo>
                    <a:lnTo>
                      <a:pt x="2229" y="813"/>
                    </a:lnTo>
                    <a:lnTo>
                      <a:pt x="2229" y="816"/>
                    </a:lnTo>
                    <a:lnTo>
                      <a:pt x="2228" y="817"/>
                    </a:lnTo>
                    <a:lnTo>
                      <a:pt x="2228" y="818"/>
                    </a:lnTo>
                    <a:lnTo>
                      <a:pt x="2228" y="818"/>
                    </a:lnTo>
                    <a:lnTo>
                      <a:pt x="2228" y="925"/>
                    </a:lnTo>
                    <a:lnTo>
                      <a:pt x="2228" y="928"/>
                    </a:lnTo>
                    <a:lnTo>
                      <a:pt x="2229" y="929"/>
                    </a:lnTo>
                    <a:lnTo>
                      <a:pt x="2229" y="931"/>
                    </a:lnTo>
                    <a:lnTo>
                      <a:pt x="2230" y="932"/>
                    </a:lnTo>
                    <a:lnTo>
                      <a:pt x="2232" y="933"/>
                    </a:lnTo>
                    <a:lnTo>
                      <a:pt x="2234" y="934"/>
                    </a:lnTo>
                    <a:lnTo>
                      <a:pt x="2235" y="934"/>
                    </a:lnTo>
                    <a:lnTo>
                      <a:pt x="2237" y="934"/>
                    </a:lnTo>
                    <a:lnTo>
                      <a:pt x="2237" y="934"/>
                    </a:lnTo>
                    <a:close/>
                    <a:moveTo>
                      <a:pt x="2772" y="837"/>
                    </a:moveTo>
                    <a:lnTo>
                      <a:pt x="2742" y="837"/>
                    </a:lnTo>
                    <a:lnTo>
                      <a:pt x="2738" y="837"/>
                    </a:lnTo>
                    <a:lnTo>
                      <a:pt x="2734" y="837"/>
                    </a:lnTo>
                    <a:lnTo>
                      <a:pt x="2729" y="838"/>
                    </a:lnTo>
                    <a:lnTo>
                      <a:pt x="2725" y="840"/>
                    </a:lnTo>
                    <a:lnTo>
                      <a:pt x="2723" y="842"/>
                    </a:lnTo>
                    <a:lnTo>
                      <a:pt x="2719" y="843"/>
                    </a:lnTo>
                    <a:lnTo>
                      <a:pt x="2713" y="848"/>
                    </a:lnTo>
                    <a:lnTo>
                      <a:pt x="2708" y="855"/>
                    </a:lnTo>
                    <a:lnTo>
                      <a:pt x="2707" y="859"/>
                    </a:lnTo>
                    <a:lnTo>
                      <a:pt x="2704" y="862"/>
                    </a:lnTo>
                    <a:lnTo>
                      <a:pt x="2703" y="866"/>
                    </a:lnTo>
                    <a:lnTo>
                      <a:pt x="2702" y="870"/>
                    </a:lnTo>
                    <a:lnTo>
                      <a:pt x="2702" y="874"/>
                    </a:lnTo>
                    <a:lnTo>
                      <a:pt x="2702" y="877"/>
                    </a:lnTo>
                    <a:lnTo>
                      <a:pt x="2702" y="881"/>
                    </a:lnTo>
                    <a:lnTo>
                      <a:pt x="2702" y="885"/>
                    </a:lnTo>
                    <a:lnTo>
                      <a:pt x="2703" y="889"/>
                    </a:lnTo>
                    <a:lnTo>
                      <a:pt x="2704" y="893"/>
                    </a:lnTo>
                    <a:lnTo>
                      <a:pt x="2707" y="896"/>
                    </a:lnTo>
                    <a:lnTo>
                      <a:pt x="2708" y="899"/>
                    </a:lnTo>
                    <a:lnTo>
                      <a:pt x="2713" y="905"/>
                    </a:lnTo>
                    <a:lnTo>
                      <a:pt x="2719" y="910"/>
                    </a:lnTo>
                    <a:lnTo>
                      <a:pt x="2723" y="912"/>
                    </a:lnTo>
                    <a:lnTo>
                      <a:pt x="2725" y="913"/>
                    </a:lnTo>
                    <a:lnTo>
                      <a:pt x="2729" y="915"/>
                    </a:lnTo>
                    <a:lnTo>
                      <a:pt x="2734" y="915"/>
                    </a:lnTo>
                    <a:lnTo>
                      <a:pt x="2738" y="917"/>
                    </a:lnTo>
                    <a:lnTo>
                      <a:pt x="2742" y="917"/>
                    </a:lnTo>
                    <a:lnTo>
                      <a:pt x="2742" y="917"/>
                    </a:lnTo>
                    <a:lnTo>
                      <a:pt x="2783" y="917"/>
                    </a:lnTo>
                    <a:lnTo>
                      <a:pt x="2783" y="922"/>
                    </a:lnTo>
                    <a:lnTo>
                      <a:pt x="2784" y="928"/>
                    </a:lnTo>
                    <a:lnTo>
                      <a:pt x="2788" y="933"/>
                    </a:lnTo>
                    <a:lnTo>
                      <a:pt x="2792" y="938"/>
                    </a:lnTo>
                    <a:lnTo>
                      <a:pt x="2797" y="942"/>
                    </a:lnTo>
                    <a:lnTo>
                      <a:pt x="2799" y="944"/>
                    </a:lnTo>
                    <a:lnTo>
                      <a:pt x="2803" y="946"/>
                    </a:lnTo>
                    <a:lnTo>
                      <a:pt x="2806" y="948"/>
                    </a:lnTo>
                    <a:lnTo>
                      <a:pt x="2808" y="948"/>
                    </a:lnTo>
                    <a:lnTo>
                      <a:pt x="2812" y="949"/>
                    </a:lnTo>
                    <a:lnTo>
                      <a:pt x="2814" y="951"/>
                    </a:lnTo>
                    <a:lnTo>
                      <a:pt x="2821" y="951"/>
                    </a:lnTo>
                    <a:lnTo>
                      <a:pt x="2821" y="951"/>
                    </a:lnTo>
                    <a:lnTo>
                      <a:pt x="3009" y="951"/>
                    </a:lnTo>
                    <a:lnTo>
                      <a:pt x="3014" y="951"/>
                    </a:lnTo>
                    <a:lnTo>
                      <a:pt x="3017" y="949"/>
                    </a:lnTo>
                    <a:lnTo>
                      <a:pt x="3021" y="949"/>
                    </a:lnTo>
                    <a:lnTo>
                      <a:pt x="3025" y="948"/>
                    </a:lnTo>
                    <a:lnTo>
                      <a:pt x="3031" y="944"/>
                    </a:lnTo>
                    <a:lnTo>
                      <a:pt x="3036" y="942"/>
                    </a:lnTo>
                    <a:lnTo>
                      <a:pt x="3041" y="936"/>
                    </a:lnTo>
                    <a:lnTo>
                      <a:pt x="3044" y="933"/>
                    </a:lnTo>
                    <a:lnTo>
                      <a:pt x="3046" y="931"/>
                    </a:lnTo>
                    <a:lnTo>
                      <a:pt x="3047" y="927"/>
                    </a:lnTo>
                    <a:lnTo>
                      <a:pt x="3049" y="923"/>
                    </a:lnTo>
                    <a:lnTo>
                      <a:pt x="3050" y="920"/>
                    </a:lnTo>
                    <a:lnTo>
                      <a:pt x="3050" y="917"/>
                    </a:lnTo>
                    <a:lnTo>
                      <a:pt x="3050" y="917"/>
                    </a:lnTo>
                    <a:lnTo>
                      <a:pt x="3092" y="917"/>
                    </a:lnTo>
                    <a:lnTo>
                      <a:pt x="3097" y="917"/>
                    </a:lnTo>
                    <a:lnTo>
                      <a:pt x="3101" y="915"/>
                    </a:lnTo>
                    <a:lnTo>
                      <a:pt x="3105" y="915"/>
                    </a:lnTo>
                    <a:lnTo>
                      <a:pt x="3109" y="913"/>
                    </a:lnTo>
                    <a:lnTo>
                      <a:pt x="3113" y="912"/>
                    </a:lnTo>
                    <a:lnTo>
                      <a:pt x="3115" y="910"/>
                    </a:lnTo>
                    <a:lnTo>
                      <a:pt x="3121" y="905"/>
                    </a:lnTo>
                    <a:lnTo>
                      <a:pt x="3126" y="899"/>
                    </a:lnTo>
                    <a:lnTo>
                      <a:pt x="3129" y="896"/>
                    </a:lnTo>
                    <a:lnTo>
                      <a:pt x="3130" y="893"/>
                    </a:lnTo>
                    <a:lnTo>
                      <a:pt x="3131" y="889"/>
                    </a:lnTo>
                    <a:lnTo>
                      <a:pt x="3133" y="885"/>
                    </a:lnTo>
                    <a:lnTo>
                      <a:pt x="3134" y="881"/>
                    </a:lnTo>
                    <a:lnTo>
                      <a:pt x="3134" y="877"/>
                    </a:lnTo>
                    <a:lnTo>
                      <a:pt x="3134" y="877"/>
                    </a:lnTo>
                    <a:lnTo>
                      <a:pt x="3134" y="874"/>
                    </a:lnTo>
                    <a:lnTo>
                      <a:pt x="3133" y="870"/>
                    </a:lnTo>
                    <a:lnTo>
                      <a:pt x="3131" y="866"/>
                    </a:lnTo>
                    <a:lnTo>
                      <a:pt x="3130" y="862"/>
                    </a:lnTo>
                    <a:lnTo>
                      <a:pt x="3129" y="859"/>
                    </a:lnTo>
                    <a:lnTo>
                      <a:pt x="3126" y="855"/>
                    </a:lnTo>
                    <a:lnTo>
                      <a:pt x="3121" y="848"/>
                    </a:lnTo>
                    <a:lnTo>
                      <a:pt x="3115" y="843"/>
                    </a:lnTo>
                    <a:lnTo>
                      <a:pt x="3113" y="842"/>
                    </a:lnTo>
                    <a:lnTo>
                      <a:pt x="3109" y="840"/>
                    </a:lnTo>
                    <a:lnTo>
                      <a:pt x="3105" y="838"/>
                    </a:lnTo>
                    <a:lnTo>
                      <a:pt x="3101" y="837"/>
                    </a:lnTo>
                    <a:lnTo>
                      <a:pt x="3097" y="837"/>
                    </a:lnTo>
                    <a:lnTo>
                      <a:pt x="3092" y="837"/>
                    </a:lnTo>
                    <a:lnTo>
                      <a:pt x="3092" y="837"/>
                    </a:lnTo>
                    <a:lnTo>
                      <a:pt x="3061" y="837"/>
                    </a:lnTo>
                    <a:lnTo>
                      <a:pt x="3061" y="832"/>
                    </a:lnTo>
                    <a:lnTo>
                      <a:pt x="3060" y="827"/>
                    </a:lnTo>
                    <a:lnTo>
                      <a:pt x="3057" y="822"/>
                    </a:lnTo>
                    <a:lnTo>
                      <a:pt x="3055" y="817"/>
                    </a:lnTo>
                    <a:lnTo>
                      <a:pt x="3051" y="814"/>
                    </a:lnTo>
                    <a:lnTo>
                      <a:pt x="3049" y="812"/>
                    </a:lnTo>
                    <a:lnTo>
                      <a:pt x="3045" y="809"/>
                    </a:lnTo>
                    <a:lnTo>
                      <a:pt x="3041" y="807"/>
                    </a:lnTo>
                    <a:lnTo>
                      <a:pt x="3037" y="806"/>
                    </a:lnTo>
                    <a:lnTo>
                      <a:pt x="3034" y="804"/>
                    </a:lnTo>
                    <a:lnTo>
                      <a:pt x="3029" y="803"/>
                    </a:lnTo>
                    <a:lnTo>
                      <a:pt x="3025" y="803"/>
                    </a:lnTo>
                    <a:lnTo>
                      <a:pt x="3025" y="803"/>
                    </a:lnTo>
                    <a:lnTo>
                      <a:pt x="2809" y="803"/>
                    </a:lnTo>
                    <a:lnTo>
                      <a:pt x="2806" y="803"/>
                    </a:lnTo>
                    <a:lnTo>
                      <a:pt x="2802" y="804"/>
                    </a:lnTo>
                    <a:lnTo>
                      <a:pt x="2797" y="806"/>
                    </a:lnTo>
                    <a:lnTo>
                      <a:pt x="2793" y="807"/>
                    </a:lnTo>
                    <a:lnTo>
                      <a:pt x="2789" y="809"/>
                    </a:lnTo>
                    <a:lnTo>
                      <a:pt x="2787" y="812"/>
                    </a:lnTo>
                    <a:lnTo>
                      <a:pt x="2783" y="814"/>
                    </a:lnTo>
                    <a:lnTo>
                      <a:pt x="2780" y="817"/>
                    </a:lnTo>
                    <a:lnTo>
                      <a:pt x="2778" y="822"/>
                    </a:lnTo>
                    <a:lnTo>
                      <a:pt x="2775" y="827"/>
                    </a:lnTo>
                    <a:lnTo>
                      <a:pt x="2773" y="832"/>
                    </a:lnTo>
                    <a:lnTo>
                      <a:pt x="2772" y="837"/>
                    </a:lnTo>
                    <a:lnTo>
                      <a:pt x="2772" y="837"/>
                    </a:lnTo>
                    <a:close/>
                    <a:moveTo>
                      <a:pt x="3384" y="775"/>
                    </a:moveTo>
                    <a:lnTo>
                      <a:pt x="3176" y="775"/>
                    </a:lnTo>
                    <a:lnTo>
                      <a:pt x="3176" y="942"/>
                    </a:lnTo>
                    <a:lnTo>
                      <a:pt x="3384" y="942"/>
                    </a:lnTo>
                    <a:lnTo>
                      <a:pt x="3384" y="775"/>
                    </a:lnTo>
                    <a:lnTo>
                      <a:pt x="3384" y="775"/>
                    </a:lnTo>
                    <a:close/>
                    <a:moveTo>
                      <a:pt x="3000" y="0"/>
                    </a:moveTo>
                    <a:lnTo>
                      <a:pt x="2918" y="0"/>
                    </a:lnTo>
                    <a:lnTo>
                      <a:pt x="2915" y="1"/>
                    </a:lnTo>
                    <a:lnTo>
                      <a:pt x="2911" y="3"/>
                    </a:lnTo>
                    <a:lnTo>
                      <a:pt x="2908" y="4"/>
                    </a:lnTo>
                    <a:lnTo>
                      <a:pt x="2906" y="6"/>
                    </a:lnTo>
                    <a:lnTo>
                      <a:pt x="2903" y="10"/>
                    </a:lnTo>
                    <a:lnTo>
                      <a:pt x="2902" y="13"/>
                    </a:lnTo>
                    <a:lnTo>
                      <a:pt x="2901" y="16"/>
                    </a:lnTo>
                    <a:lnTo>
                      <a:pt x="2901" y="21"/>
                    </a:lnTo>
                    <a:lnTo>
                      <a:pt x="2901" y="21"/>
                    </a:lnTo>
                    <a:lnTo>
                      <a:pt x="2901" y="93"/>
                    </a:lnTo>
                    <a:lnTo>
                      <a:pt x="2901" y="97"/>
                    </a:lnTo>
                    <a:lnTo>
                      <a:pt x="2902" y="101"/>
                    </a:lnTo>
                    <a:lnTo>
                      <a:pt x="2903" y="104"/>
                    </a:lnTo>
                    <a:lnTo>
                      <a:pt x="2906" y="106"/>
                    </a:lnTo>
                    <a:lnTo>
                      <a:pt x="2908" y="109"/>
                    </a:lnTo>
                    <a:lnTo>
                      <a:pt x="2911" y="111"/>
                    </a:lnTo>
                    <a:lnTo>
                      <a:pt x="2915" y="111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3000" y="112"/>
                    </a:lnTo>
                    <a:lnTo>
                      <a:pt x="3000" y="0"/>
                    </a:lnTo>
                    <a:lnTo>
                      <a:pt x="3000" y="0"/>
                    </a:lnTo>
                    <a:close/>
                    <a:moveTo>
                      <a:pt x="3000" y="580"/>
                    </a:moveTo>
                    <a:lnTo>
                      <a:pt x="2918" y="580"/>
                    </a:lnTo>
                    <a:lnTo>
                      <a:pt x="2915" y="580"/>
                    </a:lnTo>
                    <a:lnTo>
                      <a:pt x="2911" y="581"/>
                    </a:lnTo>
                    <a:lnTo>
                      <a:pt x="2908" y="583"/>
                    </a:lnTo>
                    <a:lnTo>
                      <a:pt x="2906" y="585"/>
                    </a:lnTo>
                    <a:lnTo>
                      <a:pt x="2903" y="588"/>
                    </a:lnTo>
                    <a:lnTo>
                      <a:pt x="2902" y="591"/>
                    </a:lnTo>
                    <a:lnTo>
                      <a:pt x="2901" y="595"/>
                    </a:lnTo>
                    <a:lnTo>
                      <a:pt x="2901" y="597"/>
                    </a:lnTo>
                    <a:lnTo>
                      <a:pt x="2901" y="597"/>
                    </a:lnTo>
                    <a:lnTo>
                      <a:pt x="2901" y="670"/>
                    </a:lnTo>
                    <a:lnTo>
                      <a:pt x="2901" y="674"/>
                    </a:lnTo>
                    <a:lnTo>
                      <a:pt x="2902" y="678"/>
                    </a:lnTo>
                    <a:lnTo>
                      <a:pt x="2903" y="682"/>
                    </a:lnTo>
                    <a:lnTo>
                      <a:pt x="2906" y="686"/>
                    </a:lnTo>
                    <a:lnTo>
                      <a:pt x="2908" y="688"/>
                    </a:lnTo>
                    <a:lnTo>
                      <a:pt x="2911" y="689"/>
                    </a:lnTo>
                    <a:lnTo>
                      <a:pt x="2915" y="691"/>
                    </a:lnTo>
                    <a:lnTo>
                      <a:pt x="2918" y="691"/>
                    </a:lnTo>
                    <a:lnTo>
                      <a:pt x="2918" y="691"/>
                    </a:lnTo>
                    <a:lnTo>
                      <a:pt x="3000" y="691"/>
                    </a:lnTo>
                    <a:lnTo>
                      <a:pt x="3000" y="580"/>
                    </a:lnTo>
                    <a:lnTo>
                      <a:pt x="3000" y="580"/>
                    </a:lnTo>
                    <a:close/>
                    <a:moveTo>
                      <a:pt x="0" y="880"/>
                    </a:moveTo>
                    <a:lnTo>
                      <a:pt x="0" y="925"/>
                    </a:lnTo>
                    <a:lnTo>
                      <a:pt x="125" y="925"/>
                    </a:lnTo>
                    <a:lnTo>
                      <a:pt x="125" y="880"/>
                    </a:lnTo>
                    <a:lnTo>
                      <a:pt x="0" y="880"/>
                    </a:lnTo>
                    <a:lnTo>
                      <a:pt x="0" y="880"/>
                    </a:lnTo>
                    <a:close/>
                    <a:moveTo>
                      <a:pt x="822" y="880"/>
                    </a:moveTo>
                    <a:lnTo>
                      <a:pt x="822" y="925"/>
                    </a:lnTo>
                    <a:lnTo>
                      <a:pt x="945" y="925"/>
                    </a:lnTo>
                    <a:lnTo>
                      <a:pt x="945" y="880"/>
                    </a:lnTo>
                    <a:lnTo>
                      <a:pt x="822" y="880"/>
                    </a:lnTo>
                    <a:lnTo>
                      <a:pt x="822" y="88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3" name=""/>
              <p:cNvSpPr/>
              <p:nvPr/>
            </p:nvSpPr>
            <p:spPr>
              <a:xfrm>
                <a:off x="7166520" y="2832120"/>
                <a:ext cx="110880" cy="12348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78"/>
                    </a:moveTo>
                    <a:lnTo>
                      <a:pt x="157" y="69"/>
                    </a:lnTo>
                    <a:lnTo>
                      <a:pt x="155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8" y="40"/>
                    </a:lnTo>
                    <a:lnTo>
                      <a:pt x="144" y="34"/>
                    </a:lnTo>
                    <a:lnTo>
                      <a:pt x="139" y="28"/>
                    </a:lnTo>
                    <a:lnTo>
                      <a:pt x="134" y="23"/>
                    </a:lnTo>
                    <a:lnTo>
                      <a:pt x="129" y="18"/>
                    </a:lnTo>
                    <a:lnTo>
                      <a:pt x="123" y="14"/>
                    </a:lnTo>
                    <a:lnTo>
                      <a:pt x="117" y="10"/>
                    </a:lnTo>
                    <a:lnTo>
                      <a:pt x="110" y="6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1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24" y="23"/>
                    </a:lnTo>
                    <a:lnTo>
                      <a:pt x="19" y="28"/>
                    </a:lnTo>
                    <a:lnTo>
                      <a:pt x="14" y="34"/>
                    </a:lnTo>
                    <a:lnTo>
                      <a:pt x="10" y="40"/>
                    </a:lnTo>
                    <a:lnTo>
                      <a:pt x="8" y="48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1" y="69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2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9" y="129"/>
                    </a:lnTo>
                    <a:lnTo>
                      <a:pt x="24" y="134"/>
                    </a:lnTo>
                    <a:lnTo>
                      <a:pt x="30" y="139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9" y="152"/>
                    </a:lnTo>
                    <a:lnTo>
                      <a:pt x="56" y="154"/>
                    </a:lnTo>
                    <a:lnTo>
                      <a:pt x="64" y="157"/>
                    </a:lnTo>
                    <a:lnTo>
                      <a:pt x="71" y="158"/>
                    </a:lnTo>
                    <a:lnTo>
                      <a:pt x="80" y="158"/>
                    </a:lnTo>
                    <a:lnTo>
                      <a:pt x="88" y="158"/>
                    </a:lnTo>
                    <a:lnTo>
                      <a:pt x="95" y="157"/>
                    </a:lnTo>
                    <a:lnTo>
                      <a:pt x="103" y="154"/>
                    </a:lnTo>
                    <a:lnTo>
                      <a:pt x="110" y="152"/>
                    </a:lnTo>
                    <a:lnTo>
                      <a:pt x="117" y="148"/>
                    </a:lnTo>
                    <a:lnTo>
                      <a:pt x="123" y="144"/>
                    </a:lnTo>
                    <a:lnTo>
                      <a:pt x="129" y="139"/>
                    </a:lnTo>
                    <a:lnTo>
                      <a:pt x="134" y="134"/>
                    </a:lnTo>
                    <a:lnTo>
                      <a:pt x="139" y="129"/>
                    </a:lnTo>
                    <a:lnTo>
                      <a:pt x="144" y="123"/>
                    </a:lnTo>
                    <a:lnTo>
                      <a:pt x="148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5" y="93"/>
                    </a:lnTo>
                    <a:lnTo>
                      <a:pt x="157" y="86"/>
                    </a:lnTo>
                    <a:lnTo>
                      <a:pt x="157" y="78"/>
                    </a:lnTo>
                    <a:lnTo>
                      <a:pt x="157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4" name=""/>
              <p:cNvSpPr/>
              <p:nvPr/>
            </p:nvSpPr>
            <p:spPr>
              <a:xfrm>
                <a:off x="7349040" y="2832120"/>
                <a:ext cx="110880" cy="123480"/>
              </a:xfrm>
              <a:custGeom>
                <a:avLst/>
                <a:gdLst/>
                <a:ahLst/>
                <a:rect l="l" t="t" r="r" b="b"/>
                <a:pathLst>
                  <a:path w="155" h="158">
                    <a:moveTo>
                      <a:pt x="155" y="78"/>
                    </a:moveTo>
                    <a:lnTo>
                      <a:pt x="155" y="69"/>
                    </a:lnTo>
                    <a:lnTo>
                      <a:pt x="154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6" y="40"/>
                    </a:lnTo>
                    <a:lnTo>
                      <a:pt x="143" y="34"/>
                    </a:lnTo>
                    <a:lnTo>
                      <a:pt x="138" y="28"/>
                    </a:lnTo>
                    <a:lnTo>
                      <a:pt x="133" y="23"/>
                    </a:lnTo>
                    <a:lnTo>
                      <a:pt x="128" y="18"/>
                    </a:lnTo>
                    <a:lnTo>
                      <a:pt x="121" y="14"/>
                    </a:lnTo>
                    <a:lnTo>
                      <a:pt x="115" y="10"/>
                    </a:lnTo>
                    <a:lnTo>
                      <a:pt x="109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6" y="1"/>
                    </a:lnTo>
                    <a:lnTo>
                      <a:pt x="79" y="0"/>
                    </a:lnTo>
                    <a:lnTo>
                      <a:pt x="70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7" y="6"/>
                    </a:lnTo>
                    <a:lnTo>
                      <a:pt x="41" y="10"/>
                    </a:lnTo>
                    <a:lnTo>
                      <a:pt x="35" y="14"/>
                    </a:lnTo>
                    <a:lnTo>
                      <a:pt x="29" y="18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4" y="34"/>
                    </a:lnTo>
                    <a:lnTo>
                      <a:pt x="9" y="40"/>
                    </a:lnTo>
                    <a:lnTo>
                      <a:pt x="6" y="48"/>
                    </a:lnTo>
                    <a:lnTo>
                      <a:pt x="2" y="54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" y="93"/>
                    </a:lnTo>
                    <a:lnTo>
                      <a:pt x="2" y="101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4" y="123"/>
                    </a:lnTo>
                    <a:lnTo>
                      <a:pt x="17" y="129"/>
                    </a:lnTo>
                    <a:lnTo>
                      <a:pt x="22" y="134"/>
                    </a:lnTo>
                    <a:lnTo>
                      <a:pt x="29" y="139"/>
                    </a:lnTo>
                    <a:lnTo>
                      <a:pt x="35" y="144"/>
                    </a:lnTo>
                    <a:lnTo>
                      <a:pt x="41" y="148"/>
                    </a:lnTo>
                    <a:lnTo>
                      <a:pt x="47" y="152"/>
                    </a:lnTo>
                    <a:lnTo>
                      <a:pt x="55" y="154"/>
                    </a:lnTo>
                    <a:lnTo>
                      <a:pt x="62" y="157"/>
                    </a:lnTo>
                    <a:lnTo>
                      <a:pt x="70" y="158"/>
                    </a:lnTo>
                    <a:lnTo>
                      <a:pt x="79" y="158"/>
                    </a:lnTo>
                    <a:lnTo>
                      <a:pt x="86" y="158"/>
                    </a:lnTo>
                    <a:lnTo>
                      <a:pt x="94" y="157"/>
                    </a:lnTo>
                    <a:lnTo>
                      <a:pt x="101" y="154"/>
                    </a:lnTo>
                    <a:lnTo>
                      <a:pt x="109" y="152"/>
                    </a:lnTo>
                    <a:lnTo>
                      <a:pt x="115" y="148"/>
                    </a:lnTo>
                    <a:lnTo>
                      <a:pt x="121" y="144"/>
                    </a:lnTo>
                    <a:lnTo>
                      <a:pt x="128" y="139"/>
                    </a:lnTo>
                    <a:lnTo>
                      <a:pt x="133" y="134"/>
                    </a:lnTo>
                    <a:lnTo>
                      <a:pt x="138" y="129"/>
                    </a:lnTo>
                    <a:lnTo>
                      <a:pt x="143" y="123"/>
                    </a:lnTo>
                    <a:lnTo>
                      <a:pt x="146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4" y="93"/>
                    </a:lnTo>
                    <a:lnTo>
                      <a:pt x="155" y="86"/>
                    </a:lnTo>
                    <a:lnTo>
                      <a:pt x="155" y="78"/>
                    </a:lnTo>
                    <a:lnTo>
                      <a:pt x="155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5" name=""/>
              <p:cNvSpPr/>
              <p:nvPr/>
            </p:nvSpPr>
            <p:spPr>
              <a:xfrm>
                <a:off x="7533720" y="2845080"/>
                <a:ext cx="307080" cy="113040"/>
              </a:xfrm>
              <a:custGeom>
                <a:avLst/>
                <a:gdLst/>
                <a:ahLst/>
                <a:rect l="l" t="t" r="r" b="b"/>
                <a:pathLst>
                  <a:path w="431" h="146">
                    <a:moveTo>
                      <a:pt x="70" y="32"/>
                    </a:moveTo>
                    <a:lnTo>
                      <a:pt x="42" y="32"/>
                    </a:lnTo>
                    <a:lnTo>
                      <a:pt x="38" y="32"/>
                    </a:lnTo>
                    <a:lnTo>
                      <a:pt x="33" y="33"/>
                    </a:lnTo>
                    <a:lnTo>
                      <a:pt x="29" y="35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3" y="45"/>
                    </a:lnTo>
                    <a:lnTo>
                      <a:pt x="8" y="50"/>
                    </a:lnTo>
                    <a:lnTo>
                      <a:pt x="5" y="53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9"/>
                    </a:lnTo>
                    <a:lnTo>
                      <a:pt x="5" y="93"/>
                    </a:lnTo>
                    <a:lnTo>
                      <a:pt x="8" y="96"/>
                    </a:lnTo>
                    <a:lnTo>
                      <a:pt x="13" y="103"/>
                    </a:lnTo>
                    <a:lnTo>
                      <a:pt x="19" y="108"/>
                    </a:lnTo>
                    <a:lnTo>
                      <a:pt x="22" y="109"/>
                    </a:lnTo>
                    <a:lnTo>
                      <a:pt x="25" y="112"/>
                    </a:lnTo>
                    <a:lnTo>
                      <a:pt x="29" y="113"/>
                    </a:lnTo>
                    <a:lnTo>
                      <a:pt x="33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82" y="114"/>
                    </a:lnTo>
                    <a:lnTo>
                      <a:pt x="82" y="119"/>
                    </a:lnTo>
                    <a:lnTo>
                      <a:pt x="84" y="125"/>
                    </a:lnTo>
                    <a:lnTo>
                      <a:pt x="87" y="131"/>
                    </a:lnTo>
                    <a:lnTo>
                      <a:pt x="92" y="136"/>
                    </a:lnTo>
                    <a:lnTo>
                      <a:pt x="95" y="139"/>
                    </a:lnTo>
                    <a:lnTo>
                      <a:pt x="102" y="142"/>
                    </a:lnTo>
                    <a:lnTo>
                      <a:pt x="108" y="144"/>
                    </a:lnTo>
                    <a:lnTo>
                      <a:pt x="114" y="146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308" y="146"/>
                    </a:lnTo>
                    <a:lnTo>
                      <a:pt x="315" y="146"/>
                    </a:lnTo>
                    <a:lnTo>
                      <a:pt x="318" y="146"/>
                    </a:lnTo>
                    <a:lnTo>
                      <a:pt x="322" y="144"/>
                    </a:lnTo>
                    <a:lnTo>
                      <a:pt x="326" y="143"/>
                    </a:lnTo>
                    <a:lnTo>
                      <a:pt x="328" y="142"/>
                    </a:lnTo>
                    <a:lnTo>
                      <a:pt x="332" y="139"/>
                    </a:lnTo>
                    <a:lnTo>
                      <a:pt x="336" y="137"/>
                    </a:lnTo>
                    <a:lnTo>
                      <a:pt x="338" y="136"/>
                    </a:lnTo>
                    <a:lnTo>
                      <a:pt x="340" y="133"/>
                    </a:lnTo>
                    <a:lnTo>
                      <a:pt x="342" y="131"/>
                    </a:lnTo>
                    <a:lnTo>
                      <a:pt x="345" y="128"/>
                    </a:lnTo>
                    <a:lnTo>
                      <a:pt x="347" y="122"/>
                    </a:lnTo>
                    <a:lnTo>
                      <a:pt x="350" y="114"/>
                    </a:lnTo>
                    <a:lnTo>
                      <a:pt x="350" y="114"/>
                    </a:lnTo>
                    <a:lnTo>
                      <a:pt x="390" y="114"/>
                    </a:lnTo>
                    <a:lnTo>
                      <a:pt x="394" y="114"/>
                    </a:lnTo>
                    <a:lnTo>
                      <a:pt x="399" y="114"/>
                    </a:lnTo>
                    <a:lnTo>
                      <a:pt x="402" y="113"/>
                    </a:lnTo>
                    <a:lnTo>
                      <a:pt x="406" y="112"/>
                    </a:lnTo>
                    <a:lnTo>
                      <a:pt x="410" y="109"/>
                    </a:lnTo>
                    <a:lnTo>
                      <a:pt x="412" y="108"/>
                    </a:lnTo>
                    <a:lnTo>
                      <a:pt x="419" y="103"/>
                    </a:lnTo>
                    <a:lnTo>
                      <a:pt x="424" y="96"/>
                    </a:lnTo>
                    <a:lnTo>
                      <a:pt x="426" y="93"/>
                    </a:lnTo>
                    <a:lnTo>
                      <a:pt x="427" y="89"/>
                    </a:lnTo>
                    <a:lnTo>
                      <a:pt x="429" y="85"/>
                    </a:lnTo>
                    <a:lnTo>
                      <a:pt x="430" y="81"/>
                    </a:lnTo>
                    <a:lnTo>
                      <a:pt x="430" y="77"/>
                    </a:lnTo>
                    <a:lnTo>
                      <a:pt x="431" y="74"/>
                    </a:lnTo>
                    <a:lnTo>
                      <a:pt x="431" y="74"/>
                    </a:lnTo>
                    <a:lnTo>
                      <a:pt x="430" y="69"/>
                    </a:lnTo>
                    <a:lnTo>
                      <a:pt x="430" y="65"/>
                    </a:lnTo>
                    <a:lnTo>
                      <a:pt x="429" y="61"/>
                    </a:lnTo>
                    <a:lnTo>
                      <a:pt x="427" y="57"/>
                    </a:lnTo>
                    <a:lnTo>
                      <a:pt x="426" y="53"/>
                    </a:lnTo>
                    <a:lnTo>
                      <a:pt x="424" y="50"/>
                    </a:lnTo>
                    <a:lnTo>
                      <a:pt x="419" y="45"/>
                    </a:lnTo>
                    <a:lnTo>
                      <a:pt x="412" y="40"/>
                    </a:lnTo>
                    <a:lnTo>
                      <a:pt x="410" y="37"/>
                    </a:lnTo>
                    <a:lnTo>
                      <a:pt x="406" y="36"/>
                    </a:lnTo>
                    <a:lnTo>
                      <a:pt x="402" y="35"/>
                    </a:lnTo>
                    <a:lnTo>
                      <a:pt x="399" y="33"/>
                    </a:lnTo>
                    <a:lnTo>
                      <a:pt x="394" y="32"/>
                    </a:lnTo>
                    <a:lnTo>
                      <a:pt x="390" y="32"/>
                    </a:lnTo>
                    <a:lnTo>
                      <a:pt x="390" y="32"/>
                    </a:lnTo>
                    <a:lnTo>
                      <a:pt x="361" y="32"/>
                    </a:lnTo>
                    <a:lnTo>
                      <a:pt x="360" y="30"/>
                    </a:lnTo>
                    <a:lnTo>
                      <a:pt x="360" y="27"/>
                    </a:lnTo>
                    <a:lnTo>
                      <a:pt x="359" y="24"/>
                    </a:lnTo>
                    <a:lnTo>
                      <a:pt x="357" y="22"/>
                    </a:lnTo>
                    <a:lnTo>
                      <a:pt x="355" y="18"/>
                    </a:lnTo>
                    <a:lnTo>
                      <a:pt x="351" y="14"/>
                    </a:lnTo>
                    <a:lnTo>
                      <a:pt x="349" y="11"/>
                    </a:lnTo>
                    <a:lnTo>
                      <a:pt x="346" y="8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36" y="2"/>
                    </a:lnTo>
                    <a:lnTo>
                      <a:pt x="332" y="2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4" y="18"/>
                    </a:lnTo>
                    <a:lnTo>
                      <a:pt x="73" y="22"/>
                    </a:lnTo>
                    <a:lnTo>
                      <a:pt x="72" y="27"/>
                    </a:lnTo>
                    <a:lnTo>
                      <a:pt x="70" y="32"/>
                    </a:lnTo>
                    <a:lnTo>
                      <a:pt x="70" y="3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6" name=""/>
              <p:cNvSpPr/>
              <p:nvPr/>
            </p:nvSpPr>
            <p:spPr>
              <a:xfrm>
                <a:off x="7902360" y="2852640"/>
                <a:ext cx="308520" cy="96120"/>
              </a:xfrm>
              <a:custGeom>
                <a:avLst/>
                <a:gdLst/>
                <a:ahLst/>
                <a:rect l="l" t="t" r="r" b="b"/>
                <a:pathLst>
                  <a:path w="432" h="125">
                    <a:moveTo>
                      <a:pt x="9" y="125"/>
                    </a:moveTo>
                    <a:lnTo>
                      <a:pt x="423" y="125"/>
                    </a:lnTo>
                    <a:lnTo>
                      <a:pt x="425" y="125"/>
                    </a:lnTo>
                    <a:lnTo>
                      <a:pt x="427" y="125"/>
                    </a:lnTo>
                    <a:lnTo>
                      <a:pt x="428" y="124"/>
                    </a:lnTo>
                    <a:lnTo>
                      <a:pt x="430" y="123"/>
                    </a:lnTo>
                    <a:lnTo>
                      <a:pt x="431" y="122"/>
                    </a:lnTo>
                    <a:lnTo>
                      <a:pt x="432" y="120"/>
                    </a:lnTo>
                    <a:lnTo>
                      <a:pt x="432" y="119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9"/>
                    </a:lnTo>
                    <a:lnTo>
                      <a:pt x="432" y="8"/>
                    </a:lnTo>
                    <a:lnTo>
                      <a:pt x="432" y="7"/>
                    </a:lnTo>
                    <a:lnTo>
                      <a:pt x="431" y="4"/>
                    </a:lnTo>
                    <a:lnTo>
                      <a:pt x="430" y="3"/>
                    </a:lnTo>
                    <a:lnTo>
                      <a:pt x="428" y="2"/>
                    </a:lnTo>
                    <a:lnTo>
                      <a:pt x="427" y="2"/>
                    </a:lnTo>
                    <a:lnTo>
                      <a:pt x="425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2" y="123"/>
                    </a:lnTo>
                    <a:lnTo>
                      <a:pt x="4" y="124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9" y="125"/>
                    </a:lnTo>
                    <a:lnTo>
                      <a:pt x="9" y="125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7" name=""/>
              <p:cNvSpPr/>
              <p:nvPr/>
            </p:nvSpPr>
            <p:spPr>
              <a:xfrm>
                <a:off x="8239680" y="2846160"/>
                <a:ext cx="307080" cy="115560"/>
              </a:xfrm>
              <a:custGeom>
                <a:avLst/>
                <a:gdLst/>
                <a:ahLst/>
                <a:rect l="l" t="t" r="r" b="b"/>
                <a:pathLst>
                  <a:path w="432" h="148">
                    <a:moveTo>
                      <a:pt x="70" y="34"/>
                    </a:moveTo>
                    <a:lnTo>
                      <a:pt x="40" y="34"/>
                    </a:lnTo>
                    <a:lnTo>
                      <a:pt x="36" y="34"/>
                    </a:lnTo>
                    <a:lnTo>
                      <a:pt x="32" y="34"/>
                    </a:lnTo>
                    <a:lnTo>
                      <a:pt x="27" y="35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1" y="45"/>
                    </a:lnTo>
                    <a:lnTo>
                      <a:pt x="6" y="52"/>
                    </a:lnTo>
                    <a:lnTo>
                      <a:pt x="5" y="56"/>
                    </a:lnTo>
                    <a:lnTo>
                      <a:pt x="2" y="59"/>
                    </a:lnTo>
                    <a:lnTo>
                      <a:pt x="1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6"/>
                    </a:lnTo>
                    <a:lnTo>
                      <a:pt x="2" y="90"/>
                    </a:lnTo>
                    <a:lnTo>
                      <a:pt x="5" y="93"/>
                    </a:lnTo>
                    <a:lnTo>
                      <a:pt x="6" y="96"/>
                    </a:lnTo>
                    <a:lnTo>
                      <a:pt x="11" y="102"/>
                    </a:lnTo>
                    <a:lnTo>
                      <a:pt x="17" y="107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2"/>
                    </a:lnTo>
                    <a:lnTo>
                      <a:pt x="32" y="112"/>
                    </a:lnTo>
                    <a:lnTo>
                      <a:pt x="36" y="114"/>
                    </a:lnTo>
                    <a:lnTo>
                      <a:pt x="40" y="114"/>
                    </a:lnTo>
                    <a:lnTo>
                      <a:pt x="40" y="114"/>
                    </a:lnTo>
                    <a:lnTo>
                      <a:pt x="81" y="114"/>
                    </a:lnTo>
                    <a:lnTo>
                      <a:pt x="81" y="119"/>
                    </a:lnTo>
                    <a:lnTo>
                      <a:pt x="82" y="125"/>
                    </a:lnTo>
                    <a:lnTo>
                      <a:pt x="86" y="130"/>
                    </a:lnTo>
                    <a:lnTo>
                      <a:pt x="90" y="135"/>
                    </a:lnTo>
                    <a:lnTo>
                      <a:pt x="95" y="139"/>
                    </a:lnTo>
                    <a:lnTo>
                      <a:pt x="97" y="141"/>
                    </a:lnTo>
                    <a:lnTo>
                      <a:pt x="101" y="143"/>
                    </a:lnTo>
                    <a:lnTo>
                      <a:pt x="104" y="145"/>
                    </a:lnTo>
                    <a:lnTo>
                      <a:pt x="106" y="145"/>
                    </a:lnTo>
                    <a:lnTo>
                      <a:pt x="110" y="146"/>
                    </a:lnTo>
                    <a:lnTo>
                      <a:pt x="112" y="148"/>
                    </a:lnTo>
                    <a:lnTo>
                      <a:pt x="119" y="148"/>
                    </a:lnTo>
                    <a:lnTo>
                      <a:pt x="119" y="148"/>
                    </a:lnTo>
                    <a:lnTo>
                      <a:pt x="307" y="148"/>
                    </a:lnTo>
                    <a:lnTo>
                      <a:pt x="312" y="148"/>
                    </a:lnTo>
                    <a:lnTo>
                      <a:pt x="315" y="146"/>
                    </a:lnTo>
                    <a:lnTo>
                      <a:pt x="319" y="146"/>
                    </a:lnTo>
                    <a:lnTo>
                      <a:pt x="323" y="145"/>
                    </a:lnTo>
                    <a:lnTo>
                      <a:pt x="329" y="141"/>
                    </a:lnTo>
                    <a:lnTo>
                      <a:pt x="334" y="139"/>
                    </a:lnTo>
                    <a:lnTo>
                      <a:pt x="339" y="133"/>
                    </a:lnTo>
                    <a:lnTo>
                      <a:pt x="342" y="130"/>
                    </a:lnTo>
                    <a:lnTo>
                      <a:pt x="344" y="128"/>
                    </a:lnTo>
                    <a:lnTo>
                      <a:pt x="345" y="124"/>
                    </a:lnTo>
                    <a:lnTo>
                      <a:pt x="347" y="120"/>
                    </a:lnTo>
                    <a:lnTo>
                      <a:pt x="348" y="117"/>
                    </a:lnTo>
                    <a:lnTo>
                      <a:pt x="348" y="114"/>
                    </a:lnTo>
                    <a:lnTo>
                      <a:pt x="348" y="114"/>
                    </a:lnTo>
                    <a:lnTo>
                      <a:pt x="390" y="114"/>
                    </a:lnTo>
                    <a:lnTo>
                      <a:pt x="395" y="114"/>
                    </a:lnTo>
                    <a:lnTo>
                      <a:pt x="399" y="112"/>
                    </a:lnTo>
                    <a:lnTo>
                      <a:pt x="403" y="112"/>
                    </a:lnTo>
                    <a:lnTo>
                      <a:pt x="407" y="110"/>
                    </a:lnTo>
                    <a:lnTo>
                      <a:pt x="411" y="109"/>
                    </a:lnTo>
                    <a:lnTo>
                      <a:pt x="413" y="107"/>
                    </a:lnTo>
                    <a:lnTo>
                      <a:pt x="419" y="102"/>
                    </a:lnTo>
                    <a:lnTo>
                      <a:pt x="424" y="96"/>
                    </a:lnTo>
                    <a:lnTo>
                      <a:pt x="427" y="93"/>
                    </a:lnTo>
                    <a:lnTo>
                      <a:pt x="428" y="90"/>
                    </a:lnTo>
                    <a:lnTo>
                      <a:pt x="429" y="86"/>
                    </a:lnTo>
                    <a:lnTo>
                      <a:pt x="431" y="82"/>
                    </a:lnTo>
                    <a:lnTo>
                      <a:pt x="432" y="78"/>
                    </a:lnTo>
                    <a:lnTo>
                      <a:pt x="432" y="74"/>
                    </a:lnTo>
                    <a:lnTo>
                      <a:pt x="432" y="74"/>
                    </a:lnTo>
                    <a:lnTo>
                      <a:pt x="432" y="71"/>
                    </a:lnTo>
                    <a:lnTo>
                      <a:pt x="431" y="67"/>
                    </a:lnTo>
                    <a:lnTo>
                      <a:pt x="429" y="63"/>
                    </a:lnTo>
                    <a:lnTo>
                      <a:pt x="428" y="59"/>
                    </a:lnTo>
                    <a:lnTo>
                      <a:pt x="427" y="56"/>
                    </a:lnTo>
                    <a:lnTo>
                      <a:pt x="424" y="52"/>
                    </a:lnTo>
                    <a:lnTo>
                      <a:pt x="419" y="45"/>
                    </a:lnTo>
                    <a:lnTo>
                      <a:pt x="413" y="40"/>
                    </a:lnTo>
                    <a:lnTo>
                      <a:pt x="411" y="39"/>
                    </a:lnTo>
                    <a:lnTo>
                      <a:pt x="407" y="37"/>
                    </a:lnTo>
                    <a:lnTo>
                      <a:pt x="403" y="35"/>
                    </a:lnTo>
                    <a:lnTo>
                      <a:pt x="399" y="34"/>
                    </a:lnTo>
                    <a:lnTo>
                      <a:pt x="395" y="34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59" y="34"/>
                    </a:lnTo>
                    <a:lnTo>
                      <a:pt x="359" y="29"/>
                    </a:lnTo>
                    <a:lnTo>
                      <a:pt x="358" y="24"/>
                    </a:lnTo>
                    <a:lnTo>
                      <a:pt x="355" y="19"/>
                    </a:lnTo>
                    <a:lnTo>
                      <a:pt x="353" y="14"/>
                    </a:lnTo>
                    <a:lnTo>
                      <a:pt x="349" y="11"/>
                    </a:lnTo>
                    <a:lnTo>
                      <a:pt x="347" y="9"/>
                    </a:lnTo>
                    <a:lnTo>
                      <a:pt x="343" y="6"/>
                    </a:lnTo>
                    <a:lnTo>
                      <a:pt x="339" y="4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107" y="0"/>
                    </a:lnTo>
                    <a:lnTo>
                      <a:pt x="104" y="0"/>
                    </a:lnTo>
                    <a:lnTo>
                      <a:pt x="100" y="1"/>
                    </a:lnTo>
                    <a:lnTo>
                      <a:pt x="95" y="3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9"/>
                    </a:lnTo>
                    <a:lnTo>
                      <a:pt x="81" y="11"/>
                    </a:lnTo>
                    <a:lnTo>
                      <a:pt x="78" y="14"/>
                    </a:lnTo>
                    <a:lnTo>
                      <a:pt x="76" y="19"/>
                    </a:lnTo>
                    <a:lnTo>
                      <a:pt x="73" y="24"/>
                    </a:lnTo>
                    <a:lnTo>
                      <a:pt x="71" y="29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8" name=""/>
              <p:cNvSpPr/>
              <p:nvPr/>
            </p:nvSpPr>
            <p:spPr>
              <a:xfrm>
                <a:off x="8578440" y="2826000"/>
                <a:ext cx="147240" cy="129600"/>
              </a:xfrm>
              <a:custGeom>
                <a:avLst/>
                <a:gdLst/>
                <a:ahLst/>
                <a:rect l="l" t="t" r="r" b="b"/>
                <a:pathLst>
                  <a:path w="208" h="167">
                    <a:moveTo>
                      <a:pt x="208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208" y="167"/>
                    </a:lnTo>
                    <a:lnTo>
                      <a:pt x="208" y="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9" name=""/>
              <p:cNvSpPr/>
              <p:nvPr/>
            </p:nvSpPr>
            <p:spPr>
              <a:xfrm>
                <a:off x="8382240" y="2223720"/>
                <a:ext cx="68400" cy="8676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99" y="0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1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7" y="109"/>
                    </a:lnTo>
                    <a:lnTo>
                      <a:pt x="10" y="111"/>
                    </a:lnTo>
                    <a:lnTo>
                      <a:pt x="14" y="111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99" y="11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0" name=""/>
              <p:cNvSpPr/>
              <p:nvPr/>
            </p:nvSpPr>
            <p:spPr>
              <a:xfrm>
                <a:off x="8382240" y="2673720"/>
                <a:ext cx="68400" cy="8568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99" y="0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10" y="109"/>
                    </a:lnTo>
                    <a:lnTo>
                      <a:pt x="14" y="111"/>
                    </a:lnTo>
                    <a:lnTo>
                      <a:pt x="17" y="111"/>
                    </a:lnTo>
                    <a:lnTo>
                      <a:pt x="17" y="111"/>
                    </a:lnTo>
                    <a:lnTo>
                      <a:pt x="99" y="111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1" name=""/>
              <p:cNvSpPr/>
              <p:nvPr/>
            </p:nvSpPr>
            <p:spPr>
              <a:xfrm>
                <a:off x="6319440" y="2907000"/>
                <a:ext cx="88560" cy="3564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0"/>
                    </a:moveTo>
                    <a:lnTo>
                      <a:pt x="0" y="45"/>
                    </a:lnTo>
                    <a:lnTo>
                      <a:pt x="125" y="45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2" name=""/>
              <p:cNvSpPr/>
              <p:nvPr/>
            </p:nvSpPr>
            <p:spPr>
              <a:xfrm>
                <a:off x="6904080" y="2907000"/>
                <a:ext cx="86040" cy="3564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0" y="0"/>
                    </a:moveTo>
                    <a:lnTo>
                      <a:pt x="0" y="45"/>
                    </a:lnTo>
                    <a:lnTo>
                      <a:pt x="123" y="45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3" name=""/>
              <p:cNvSpPr/>
              <p:nvPr/>
            </p:nvSpPr>
            <p:spPr>
              <a:xfrm>
                <a:off x="7185240" y="2852640"/>
                <a:ext cx="75960" cy="831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4" name=""/>
              <p:cNvSpPr/>
              <p:nvPr/>
            </p:nvSpPr>
            <p:spPr>
              <a:xfrm>
                <a:off x="7185240" y="2852640"/>
                <a:ext cx="75960" cy="8316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8249760" y="2879640"/>
                <a:ext cx="38520" cy="5112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6" name=""/>
              <p:cNvSpPr/>
              <p:nvPr/>
            </p:nvSpPr>
            <p:spPr>
              <a:xfrm>
                <a:off x="8249760" y="2879640"/>
                <a:ext cx="38520" cy="5112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7" name=""/>
              <p:cNvSpPr/>
              <p:nvPr/>
            </p:nvSpPr>
            <p:spPr>
              <a:xfrm>
                <a:off x="8497080" y="2879640"/>
                <a:ext cx="41040" cy="5112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8" name=""/>
              <p:cNvSpPr/>
              <p:nvPr/>
            </p:nvSpPr>
            <p:spPr>
              <a:xfrm>
                <a:off x="8497080" y="2879640"/>
                <a:ext cx="41040" cy="5112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9" name=""/>
              <p:cNvSpPr/>
              <p:nvPr/>
            </p:nvSpPr>
            <p:spPr>
              <a:xfrm>
                <a:off x="8309880" y="2864520"/>
                <a:ext cx="167400" cy="84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0" name=""/>
              <p:cNvSpPr/>
              <p:nvPr/>
            </p:nvSpPr>
            <p:spPr>
              <a:xfrm>
                <a:off x="8309880" y="2864520"/>
                <a:ext cx="167400" cy="84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1" name=""/>
              <p:cNvSpPr/>
              <p:nvPr/>
            </p:nvSpPr>
            <p:spPr>
              <a:xfrm>
                <a:off x="7544160" y="28764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2" name=""/>
              <p:cNvSpPr/>
              <p:nvPr/>
            </p:nvSpPr>
            <p:spPr>
              <a:xfrm>
                <a:off x="7544160" y="2876400"/>
                <a:ext cx="39600" cy="5076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3" name=""/>
              <p:cNvSpPr/>
              <p:nvPr/>
            </p:nvSpPr>
            <p:spPr>
              <a:xfrm>
                <a:off x="7791480" y="287640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4" name=""/>
              <p:cNvSpPr/>
              <p:nvPr/>
            </p:nvSpPr>
            <p:spPr>
              <a:xfrm>
                <a:off x="7791480" y="2876400"/>
                <a:ext cx="41040" cy="5076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5" name=""/>
              <p:cNvSpPr/>
              <p:nvPr/>
            </p:nvSpPr>
            <p:spPr>
              <a:xfrm>
                <a:off x="7603920" y="2859480"/>
                <a:ext cx="167400" cy="84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6" name=""/>
              <p:cNvSpPr/>
              <p:nvPr/>
            </p:nvSpPr>
            <p:spPr>
              <a:xfrm>
                <a:off x="7603920" y="2859480"/>
                <a:ext cx="167400" cy="84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7" name=""/>
              <p:cNvSpPr/>
              <p:nvPr/>
            </p:nvSpPr>
            <p:spPr>
              <a:xfrm>
                <a:off x="7621200" y="2880720"/>
                <a:ext cx="133560" cy="42840"/>
              </a:xfrm>
              <a:custGeom>
                <a:avLst/>
                <a:gdLst/>
                <a:ahLst/>
                <a:rect l="l" t="t" r="r" b="b"/>
                <a:pathLst>
                  <a:path w="188" h="57">
                    <a:moveTo>
                      <a:pt x="174" y="6"/>
                    </a:moveTo>
                    <a:lnTo>
                      <a:pt x="174" y="9"/>
                    </a:lnTo>
                    <a:lnTo>
                      <a:pt x="175" y="11"/>
                    </a:lnTo>
                    <a:lnTo>
                      <a:pt x="178" y="13"/>
                    </a:lnTo>
                    <a:lnTo>
                      <a:pt x="179" y="14"/>
                    </a:lnTo>
                    <a:lnTo>
                      <a:pt x="180" y="14"/>
                    </a:lnTo>
                    <a:lnTo>
                      <a:pt x="182" y="14"/>
                    </a:lnTo>
                    <a:lnTo>
                      <a:pt x="183" y="13"/>
                    </a:lnTo>
                    <a:lnTo>
                      <a:pt x="185" y="11"/>
                    </a:lnTo>
                    <a:lnTo>
                      <a:pt x="187" y="9"/>
                    </a:lnTo>
                    <a:lnTo>
                      <a:pt x="188" y="7"/>
                    </a:lnTo>
                    <a:lnTo>
                      <a:pt x="188" y="6"/>
                    </a:lnTo>
                    <a:lnTo>
                      <a:pt x="188" y="5"/>
                    </a:lnTo>
                    <a:lnTo>
                      <a:pt x="187" y="4"/>
                    </a:lnTo>
                    <a:lnTo>
                      <a:pt x="185" y="1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5" y="1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close/>
                    <a:moveTo>
                      <a:pt x="20" y="50"/>
                    </a:moveTo>
                    <a:lnTo>
                      <a:pt x="20" y="50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25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7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4" y="45"/>
                    </a:lnTo>
                    <a:lnTo>
                      <a:pt x="30" y="44"/>
                    </a:lnTo>
                    <a:lnTo>
                      <a:pt x="28" y="43"/>
                    </a:lnTo>
                    <a:lnTo>
                      <a:pt x="25" y="44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0"/>
                    </a:lnTo>
                    <a:close/>
                    <a:moveTo>
                      <a:pt x="65" y="50"/>
                    </a:moveTo>
                    <a:lnTo>
                      <a:pt x="66" y="52"/>
                    </a:lnTo>
                    <a:lnTo>
                      <a:pt x="68" y="54"/>
                    </a:lnTo>
                    <a:lnTo>
                      <a:pt x="69" y="57"/>
                    </a:lnTo>
                    <a:lnTo>
                      <a:pt x="70" y="57"/>
                    </a:lnTo>
                    <a:lnTo>
                      <a:pt x="73" y="57"/>
                    </a:lnTo>
                    <a:lnTo>
                      <a:pt x="73" y="57"/>
                    </a:lnTo>
                    <a:lnTo>
                      <a:pt x="74" y="57"/>
                    </a:lnTo>
                    <a:lnTo>
                      <a:pt x="76" y="54"/>
                    </a:lnTo>
                    <a:lnTo>
                      <a:pt x="79" y="52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3" y="43"/>
                    </a:lnTo>
                    <a:lnTo>
                      <a:pt x="69" y="44"/>
                    </a:lnTo>
                    <a:lnTo>
                      <a:pt x="68" y="45"/>
                    </a:lnTo>
                    <a:lnTo>
                      <a:pt x="66" y="47"/>
                    </a:lnTo>
                    <a:lnTo>
                      <a:pt x="65" y="50"/>
                    </a:lnTo>
                    <a:lnTo>
                      <a:pt x="65" y="50"/>
                    </a:lnTo>
                    <a:close/>
                    <a:moveTo>
                      <a:pt x="109" y="50"/>
                    </a:moveTo>
                    <a:lnTo>
                      <a:pt x="109" y="52"/>
                    </a:lnTo>
                    <a:lnTo>
                      <a:pt x="110" y="54"/>
                    </a:lnTo>
                    <a:lnTo>
                      <a:pt x="113" y="57"/>
                    </a:lnTo>
                    <a:lnTo>
                      <a:pt x="114" y="57"/>
                    </a:lnTo>
                    <a:lnTo>
                      <a:pt x="115" y="57"/>
                    </a:lnTo>
                    <a:lnTo>
                      <a:pt x="117" y="57"/>
                    </a:lnTo>
                    <a:lnTo>
                      <a:pt x="118" y="57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2" y="47"/>
                    </a:lnTo>
                    <a:lnTo>
                      <a:pt x="120" y="45"/>
                    </a:lnTo>
                    <a:lnTo>
                      <a:pt x="118" y="44"/>
                    </a:lnTo>
                    <a:lnTo>
                      <a:pt x="115" y="43"/>
                    </a:lnTo>
                    <a:lnTo>
                      <a:pt x="113" y="44"/>
                    </a:lnTo>
                    <a:lnTo>
                      <a:pt x="110" y="45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9" y="50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4" y="9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6" y="6"/>
                    </a:moveTo>
                    <a:lnTo>
                      <a:pt x="86" y="7"/>
                    </a:lnTo>
                    <a:lnTo>
                      <a:pt x="86" y="9"/>
                    </a:lnTo>
                    <a:lnTo>
                      <a:pt x="89" y="11"/>
                    </a:lnTo>
                    <a:lnTo>
                      <a:pt x="90" y="13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3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1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6"/>
                    </a:lnTo>
                    <a:lnTo>
                      <a:pt x="86" y="6"/>
                    </a:lnTo>
                    <a:close/>
                    <a:moveTo>
                      <a:pt x="132" y="6"/>
                    </a:moveTo>
                    <a:lnTo>
                      <a:pt x="132" y="9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7" y="14"/>
                    </a:lnTo>
                    <a:lnTo>
                      <a:pt x="138" y="14"/>
                    </a:lnTo>
                    <a:lnTo>
                      <a:pt x="139" y="14"/>
                    </a:lnTo>
                    <a:lnTo>
                      <a:pt x="140" y="13"/>
                    </a:lnTo>
                    <a:lnTo>
                      <a:pt x="143" y="11"/>
                    </a:lnTo>
                    <a:lnTo>
                      <a:pt x="144" y="9"/>
                    </a:lnTo>
                    <a:lnTo>
                      <a:pt x="144" y="7"/>
                    </a:lnTo>
                    <a:lnTo>
                      <a:pt x="145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3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3" y="1"/>
                    </a:lnTo>
                    <a:lnTo>
                      <a:pt x="132" y="4"/>
                    </a:lnTo>
                    <a:lnTo>
                      <a:pt x="132" y="6"/>
                    </a:lnTo>
                    <a:lnTo>
                      <a:pt x="132" y="6"/>
                    </a:lnTo>
                    <a:close/>
                    <a:moveTo>
                      <a:pt x="152" y="50"/>
                    </a:moveTo>
                    <a:lnTo>
                      <a:pt x="152" y="52"/>
                    </a:lnTo>
                    <a:lnTo>
                      <a:pt x="153" y="54"/>
                    </a:lnTo>
                    <a:lnTo>
                      <a:pt x="155" y="57"/>
                    </a:lnTo>
                    <a:lnTo>
                      <a:pt x="157" y="57"/>
                    </a:lnTo>
                    <a:lnTo>
                      <a:pt x="158" y="57"/>
                    </a:lnTo>
                    <a:lnTo>
                      <a:pt x="160" y="57"/>
                    </a:lnTo>
                    <a:lnTo>
                      <a:pt x="162" y="57"/>
                    </a:lnTo>
                    <a:lnTo>
                      <a:pt x="163" y="54"/>
                    </a:lnTo>
                    <a:lnTo>
                      <a:pt x="164" y="52"/>
                    </a:lnTo>
                    <a:lnTo>
                      <a:pt x="165" y="50"/>
                    </a:lnTo>
                    <a:lnTo>
                      <a:pt x="164" y="47"/>
                    </a:lnTo>
                    <a:lnTo>
                      <a:pt x="163" y="45"/>
                    </a:lnTo>
                    <a:lnTo>
                      <a:pt x="162" y="44"/>
                    </a:lnTo>
                    <a:lnTo>
                      <a:pt x="158" y="43"/>
                    </a:lnTo>
                    <a:lnTo>
                      <a:pt x="155" y="44"/>
                    </a:lnTo>
                    <a:lnTo>
                      <a:pt x="153" y="45"/>
                    </a:lnTo>
                    <a:lnTo>
                      <a:pt x="152" y="47"/>
                    </a:lnTo>
                    <a:lnTo>
                      <a:pt x="152" y="50"/>
                    </a:lnTo>
                    <a:lnTo>
                      <a:pt x="152" y="50"/>
                    </a:lnTo>
                    <a:close/>
                  </a:path>
                </a:pathLst>
              </a:custGeom>
              <a:solidFill>
                <a:srgbClr val="f7e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8" name=""/>
              <p:cNvSpPr/>
              <p:nvPr/>
            </p:nvSpPr>
            <p:spPr>
              <a:xfrm>
                <a:off x="7909920" y="2865600"/>
                <a:ext cx="128520" cy="83160"/>
              </a:xfrm>
              <a:custGeom>
                <a:avLst/>
                <a:gdLst/>
                <a:ahLst/>
                <a:rect l="l" t="t" r="r" b="b"/>
                <a:pathLst>
                  <a:path w="181" h="108">
                    <a:moveTo>
                      <a:pt x="181" y="36"/>
                    </a:moveTo>
                    <a:lnTo>
                      <a:pt x="181" y="36"/>
                    </a:lnTo>
                    <a:lnTo>
                      <a:pt x="181" y="30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3"/>
                    </a:lnTo>
                    <a:lnTo>
                      <a:pt x="36" y="97"/>
                    </a:lnTo>
                    <a:lnTo>
                      <a:pt x="36" y="99"/>
                    </a:lnTo>
                    <a:lnTo>
                      <a:pt x="36" y="102"/>
                    </a:lnTo>
                    <a:lnTo>
                      <a:pt x="36" y="105"/>
                    </a:lnTo>
                    <a:lnTo>
                      <a:pt x="36" y="106"/>
                    </a:lnTo>
                    <a:lnTo>
                      <a:pt x="36" y="107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7"/>
                    </a:lnTo>
                    <a:lnTo>
                      <a:pt x="181" y="106"/>
                    </a:lnTo>
                    <a:lnTo>
                      <a:pt x="181" y="105"/>
                    </a:lnTo>
                    <a:lnTo>
                      <a:pt x="181" y="102"/>
                    </a:lnTo>
                    <a:lnTo>
                      <a:pt x="181" y="99"/>
                    </a:lnTo>
                    <a:lnTo>
                      <a:pt x="181" y="97"/>
                    </a:lnTo>
                    <a:lnTo>
                      <a:pt x="181" y="93"/>
                    </a:lnTo>
                    <a:lnTo>
                      <a:pt x="181" y="89"/>
                    </a:lnTo>
                    <a:lnTo>
                      <a:pt x="181" y="84"/>
                    </a:lnTo>
                    <a:lnTo>
                      <a:pt x="181" y="79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36"/>
                    </a:lnTo>
                    <a:lnTo>
                      <a:pt x="181" y="36"/>
                    </a:lnTo>
                    <a:lnTo>
                      <a:pt x="18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808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909920" y="2836800"/>
                <a:ext cx="12852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9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7909920" y="2836800"/>
                <a:ext cx="128520" cy="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1" name=""/>
              <p:cNvSpPr/>
              <p:nvPr/>
            </p:nvSpPr>
            <p:spPr>
              <a:xfrm>
                <a:off x="7909920" y="2864520"/>
                <a:ext cx="126000" cy="62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5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1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1" y="77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8092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8065080" y="2836800"/>
                <a:ext cx="127080" cy="84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93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8065080" y="2836800"/>
                <a:ext cx="127080" cy="8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4" name=""/>
              <p:cNvSpPr/>
              <p:nvPr/>
            </p:nvSpPr>
            <p:spPr>
              <a:xfrm>
                <a:off x="8074800" y="2864520"/>
                <a:ext cx="127440" cy="6264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10" y="76"/>
                    </a:lnTo>
                    <a:lnTo>
                      <a:pt x="10" y="78"/>
                    </a:lnTo>
                    <a:lnTo>
                      <a:pt x="11" y="81"/>
                    </a:lnTo>
                    <a:lnTo>
                      <a:pt x="14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9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8095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8759520" y="2865600"/>
                <a:ext cx="77400" cy="8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6" name=""/>
              <p:cNvSpPr/>
              <p:nvPr/>
            </p:nvSpPr>
            <p:spPr>
              <a:xfrm>
                <a:off x="8762040" y="2876400"/>
                <a:ext cx="71280" cy="8100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101" y="53"/>
                    </a:moveTo>
                    <a:lnTo>
                      <a:pt x="101" y="48"/>
                    </a:lnTo>
                    <a:lnTo>
                      <a:pt x="100" y="42"/>
                    </a:lnTo>
                    <a:lnTo>
                      <a:pt x="100" y="36"/>
                    </a:lnTo>
                    <a:lnTo>
                      <a:pt x="97" y="33"/>
                    </a:lnTo>
                    <a:lnTo>
                      <a:pt x="95" y="28"/>
                    </a:lnTo>
                    <a:lnTo>
                      <a:pt x="92" y="23"/>
                    </a:lnTo>
                    <a:lnTo>
                      <a:pt x="90" y="19"/>
                    </a:lnTo>
                    <a:lnTo>
                      <a:pt x="87" y="15"/>
                    </a:lnTo>
                    <a:lnTo>
                      <a:pt x="83" y="12"/>
                    </a:lnTo>
                    <a:lnTo>
                      <a:pt x="80" y="9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6" y="2"/>
                    </a:lnTo>
                    <a:lnTo>
                      <a:pt x="62" y="1"/>
                    </a:lnTo>
                    <a:lnTo>
                      <a:pt x="57" y="1"/>
                    </a:lnTo>
                    <a:lnTo>
                      <a:pt x="52" y="0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2"/>
                    </a:lnTo>
                    <a:lnTo>
                      <a:pt x="15" y="15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6" y="28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6" y="77"/>
                    </a:lnTo>
                    <a:lnTo>
                      <a:pt x="8" y="81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8" y="91"/>
                    </a:lnTo>
                    <a:lnTo>
                      <a:pt x="22" y="95"/>
                    </a:lnTo>
                    <a:lnTo>
                      <a:pt x="27" y="97"/>
                    </a:lnTo>
                    <a:lnTo>
                      <a:pt x="31" y="98"/>
                    </a:lnTo>
                    <a:lnTo>
                      <a:pt x="36" y="101"/>
                    </a:lnTo>
                    <a:lnTo>
                      <a:pt x="41" y="102"/>
                    </a:lnTo>
                    <a:lnTo>
                      <a:pt x="46" y="102"/>
                    </a:lnTo>
                    <a:lnTo>
                      <a:pt x="52" y="103"/>
                    </a:lnTo>
                    <a:lnTo>
                      <a:pt x="57" y="102"/>
                    </a:lnTo>
                    <a:lnTo>
                      <a:pt x="62" y="102"/>
                    </a:lnTo>
                    <a:lnTo>
                      <a:pt x="66" y="101"/>
                    </a:lnTo>
                    <a:lnTo>
                      <a:pt x="71" y="98"/>
                    </a:lnTo>
                    <a:lnTo>
                      <a:pt x="75" y="97"/>
                    </a:lnTo>
                    <a:lnTo>
                      <a:pt x="80" y="95"/>
                    </a:lnTo>
                    <a:lnTo>
                      <a:pt x="83" y="91"/>
                    </a:lnTo>
                    <a:lnTo>
                      <a:pt x="87" y="88"/>
                    </a:lnTo>
                    <a:lnTo>
                      <a:pt x="90" y="84"/>
                    </a:lnTo>
                    <a:lnTo>
                      <a:pt x="92" y="81"/>
                    </a:lnTo>
                    <a:lnTo>
                      <a:pt x="95" y="77"/>
                    </a:lnTo>
                    <a:lnTo>
                      <a:pt x="97" y="72"/>
                    </a:lnTo>
                    <a:lnTo>
                      <a:pt x="100" y="68"/>
                    </a:lnTo>
                    <a:lnTo>
                      <a:pt x="100" y="63"/>
                    </a:lnTo>
                    <a:lnTo>
                      <a:pt x="101" y="58"/>
                    </a:lnTo>
                    <a:lnTo>
                      <a:pt x="101" y="5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8097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8759520" y="2865600"/>
                <a:ext cx="5112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98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759520" y="2865600"/>
                <a:ext cx="5112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99" name=""/>
              <p:cNvSpPr/>
              <p:nvPr/>
            </p:nvSpPr>
            <p:spPr>
              <a:xfrm>
                <a:off x="8774640" y="2891520"/>
                <a:ext cx="46080" cy="5112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lnTo>
                      <a:pt x="66" y="30"/>
                    </a:lnTo>
                    <a:lnTo>
                      <a:pt x="65" y="26"/>
                    </a:lnTo>
                    <a:lnTo>
                      <a:pt x="64" y="20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" y="52"/>
                    </a:lnTo>
                    <a:lnTo>
                      <a:pt x="10" y="57"/>
                    </a:lnTo>
                    <a:lnTo>
                      <a:pt x="15" y="60"/>
                    </a:lnTo>
                    <a:lnTo>
                      <a:pt x="20" y="63"/>
                    </a:lnTo>
                    <a:lnTo>
                      <a:pt x="28" y="65"/>
                    </a:lnTo>
                    <a:lnTo>
                      <a:pt x="31" y="65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41" y="65"/>
                    </a:lnTo>
                    <a:lnTo>
                      <a:pt x="48" y="63"/>
                    </a:lnTo>
                    <a:lnTo>
                      <a:pt x="53" y="60"/>
                    </a:lnTo>
                    <a:lnTo>
                      <a:pt x="58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5" y="40"/>
                    </a:lnTo>
                    <a:lnTo>
                      <a:pt x="66" y="38"/>
                    </a:lnTo>
                    <a:lnTo>
                      <a:pt x="66" y="34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0" name=""/>
              <p:cNvSpPr/>
              <p:nvPr/>
            </p:nvSpPr>
            <p:spPr>
              <a:xfrm>
                <a:off x="8620200" y="30081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1" name=""/>
              <p:cNvSpPr/>
              <p:nvPr/>
            </p:nvSpPr>
            <p:spPr>
              <a:xfrm>
                <a:off x="8592120" y="2850120"/>
                <a:ext cx="25200" cy="10440"/>
              </a:xfrm>
              <a:prstGeom prst="rect">
                <a:avLst/>
              </a:prstGeom>
              <a:solidFill>
                <a:srgbClr val="ead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2" name=""/>
              <p:cNvSpPr/>
              <p:nvPr/>
            </p:nvSpPr>
            <p:spPr>
              <a:xfrm>
                <a:off x="8592120" y="2850120"/>
                <a:ext cx="25200" cy="104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3" name=""/>
              <p:cNvSpPr/>
              <p:nvPr/>
            </p:nvSpPr>
            <p:spPr>
              <a:xfrm>
                <a:off x="7366680" y="2852640"/>
                <a:ext cx="75960" cy="831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  <a:close/>
                  </a:path>
                </a:pathLst>
              </a:cu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4" name=""/>
              <p:cNvSpPr/>
              <p:nvPr/>
            </p:nvSpPr>
            <p:spPr>
              <a:xfrm>
                <a:off x="7366680" y="2852640"/>
                <a:ext cx="75960" cy="8316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5" name=""/>
              <p:cNvSpPr/>
              <p:nvPr/>
            </p:nvSpPr>
            <p:spPr>
              <a:xfrm>
                <a:off x="7642440" y="2998800"/>
                <a:ext cx="773280" cy="40320"/>
              </a:xfrm>
              <a:custGeom>
                <a:avLst/>
                <a:gdLst/>
                <a:ahLst/>
                <a:rect l="l" t="t" r="r" b="b"/>
                <a:pathLst>
                  <a:path w="1087" h="51">
                    <a:moveTo>
                      <a:pt x="0" y="45"/>
                    </a:moveTo>
                    <a:lnTo>
                      <a:pt x="7" y="45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  <a:moveTo>
                      <a:pt x="50" y="25"/>
                    </a:moveTo>
                    <a:lnTo>
                      <a:pt x="50" y="21"/>
                    </a:lnTo>
                    <a:lnTo>
                      <a:pt x="49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7" y="33"/>
                    </a:lnTo>
                    <a:lnTo>
                      <a:pt x="20" y="36"/>
                    </a:lnTo>
                    <a:lnTo>
                      <a:pt x="22" y="39"/>
                    </a:lnTo>
                    <a:lnTo>
                      <a:pt x="25" y="41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  <a:moveTo>
                      <a:pt x="44" y="25"/>
                    </a:moveTo>
                    <a:lnTo>
                      <a:pt x="44" y="27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30" y="35"/>
                    </a:lnTo>
                    <a:lnTo>
                      <a:pt x="27" y="34"/>
                    </a:lnTo>
                    <a:lnTo>
                      <a:pt x="26" y="33"/>
                    </a:lnTo>
                    <a:lnTo>
                      <a:pt x="25" y="31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2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6" y="16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  <a:moveTo>
                      <a:pt x="59" y="45"/>
                    </a:moveTo>
                    <a:lnTo>
                      <a:pt x="66" y="45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9" y="45"/>
                    </a:lnTo>
                    <a:lnTo>
                      <a:pt x="59" y="45"/>
                    </a:lnTo>
                    <a:close/>
                    <a:moveTo>
                      <a:pt x="109" y="25"/>
                    </a:moveTo>
                    <a:lnTo>
                      <a:pt x="109" y="21"/>
                    </a:lnTo>
                    <a:lnTo>
                      <a:pt x="108" y="19"/>
                    </a:lnTo>
                    <a:lnTo>
                      <a:pt x="106" y="15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7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1" y="12"/>
                    </a:lnTo>
                    <a:lnTo>
                      <a:pt x="79" y="15"/>
                    </a:lnTo>
                    <a:lnTo>
                      <a:pt x="76" y="19"/>
                    </a:lnTo>
                    <a:lnTo>
                      <a:pt x="75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6" y="33"/>
                    </a:lnTo>
                    <a:lnTo>
                      <a:pt x="79" y="36"/>
                    </a:lnTo>
                    <a:lnTo>
                      <a:pt x="81" y="39"/>
                    </a:lnTo>
                    <a:lnTo>
                      <a:pt x="84" y="41"/>
                    </a:lnTo>
                    <a:lnTo>
                      <a:pt x="86" y="44"/>
                    </a:lnTo>
                    <a:lnTo>
                      <a:pt x="90" y="45"/>
                    </a:lnTo>
                    <a:lnTo>
                      <a:pt x="93" y="45"/>
                    </a:lnTo>
                    <a:lnTo>
                      <a:pt x="96" y="45"/>
                    </a:lnTo>
                    <a:lnTo>
                      <a:pt x="100" y="44"/>
                    </a:lnTo>
                    <a:lnTo>
                      <a:pt x="103" y="41"/>
                    </a:lnTo>
                    <a:lnTo>
                      <a:pt x="105" y="39"/>
                    </a:lnTo>
                    <a:lnTo>
                      <a:pt x="106" y="36"/>
                    </a:lnTo>
                    <a:lnTo>
                      <a:pt x="108" y="33"/>
                    </a:lnTo>
                    <a:lnTo>
                      <a:pt x="109" y="29"/>
                    </a:lnTo>
                    <a:lnTo>
                      <a:pt x="109" y="25"/>
                    </a:lnTo>
                    <a:lnTo>
                      <a:pt x="109" y="25"/>
                    </a:lnTo>
                    <a:close/>
                    <a:moveTo>
                      <a:pt x="103" y="25"/>
                    </a:moveTo>
                    <a:lnTo>
                      <a:pt x="103" y="27"/>
                    </a:lnTo>
                    <a:lnTo>
                      <a:pt x="101" y="30"/>
                    </a:lnTo>
                    <a:lnTo>
                      <a:pt x="100" y="31"/>
                    </a:lnTo>
                    <a:lnTo>
                      <a:pt x="99" y="33"/>
                    </a:lnTo>
                    <a:lnTo>
                      <a:pt x="98" y="34"/>
                    </a:lnTo>
                    <a:lnTo>
                      <a:pt x="96" y="35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1" y="36"/>
                    </a:lnTo>
                    <a:lnTo>
                      <a:pt x="89" y="35"/>
                    </a:lnTo>
                    <a:lnTo>
                      <a:pt x="86" y="34"/>
                    </a:lnTo>
                    <a:lnTo>
                      <a:pt x="85" y="33"/>
                    </a:lnTo>
                    <a:lnTo>
                      <a:pt x="84" y="31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1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4" y="19"/>
                    </a:lnTo>
                    <a:lnTo>
                      <a:pt x="85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0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  <a:moveTo>
                      <a:pt x="118" y="45"/>
                    </a:moveTo>
                    <a:lnTo>
                      <a:pt x="125" y="45"/>
                    </a:lnTo>
                    <a:lnTo>
                      <a:pt x="125" y="6"/>
                    </a:lnTo>
                    <a:lnTo>
                      <a:pt x="118" y="6"/>
                    </a:lnTo>
                    <a:lnTo>
                      <a:pt x="118" y="45"/>
                    </a:lnTo>
                    <a:lnTo>
                      <a:pt x="118" y="45"/>
                    </a:lnTo>
                    <a:close/>
                    <a:moveTo>
                      <a:pt x="502" y="25"/>
                    </a:moveTo>
                    <a:lnTo>
                      <a:pt x="460" y="25"/>
                    </a:lnTo>
                    <a:lnTo>
                      <a:pt x="468" y="16"/>
                    </a:lnTo>
                    <a:lnTo>
                      <a:pt x="478" y="16"/>
                    </a:lnTo>
                    <a:lnTo>
                      <a:pt x="478" y="17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2" y="17"/>
                    </a:lnTo>
                    <a:lnTo>
                      <a:pt x="483" y="17"/>
                    </a:lnTo>
                    <a:lnTo>
                      <a:pt x="485" y="17"/>
                    </a:lnTo>
                    <a:lnTo>
                      <a:pt x="486" y="16"/>
                    </a:lnTo>
                    <a:lnTo>
                      <a:pt x="486" y="15"/>
                    </a:lnTo>
                    <a:lnTo>
                      <a:pt x="487" y="14"/>
                    </a:lnTo>
                    <a:lnTo>
                      <a:pt x="487" y="11"/>
                    </a:lnTo>
                    <a:lnTo>
                      <a:pt x="485" y="10"/>
                    </a:lnTo>
                    <a:lnTo>
                      <a:pt x="483" y="9"/>
                    </a:lnTo>
                    <a:lnTo>
                      <a:pt x="482" y="9"/>
                    </a:lnTo>
                    <a:lnTo>
                      <a:pt x="480" y="9"/>
                    </a:lnTo>
                    <a:lnTo>
                      <a:pt x="478" y="9"/>
                    </a:lnTo>
                    <a:lnTo>
                      <a:pt x="478" y="10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67" y="11"/>
                    </a:lnTo>
                    <a:lnTo>
                      <a:pt x="456" y="25"/>
                    </a:lnTo>
                    <a:lnTo>
                      <a:pt x="451" y="25"/>
                    </a:lnTo>
                    <a:lnTo>
                      <a:pt x="448" y="21"/>
                    </a:lnTo>
                    <a:lnTo>
                      <a:pt x="447" y="21"/>
                    </a:lnTo>
                    <a:lnTo>
                      <a:pt x="446" y="20"/>
                    </a:lnTo>
                    <a:lnTo>
                      <a:pt x="445" y="20"/>
                    </a:lnTo>
                    <a:lnTo>
                      <a:pt x="443" y="19"/>
                    </a:lnTo>
                    <a:lnTo>
                      <a:pt x="442" y="20"/>
                    </a:lnTo>
                    <a:lnTo>
                      <a:pt x="442" y="20"/>
                    </a:lnTo>
                    <a:lnTo>
                      <a:pt x="440" y="20"/>
                    </a:lnTo>
                    <a:lnTo>
                      <a:pt x="438" y="21"/>
                    </a:lnTo>
                    <a:lnTo>
                      <a:pt x="437" y="22"/>
                    </a:lnTo>
                    <a:lnTo>
                      <a:pt x="437" y="22"/>
                    </a:lnTo>
                    <a:lnTo>
                      <a:pt x="436" y="26"/>
                    </a:lnTo>
                    <a:lnTo>
                      <a:pt x="435" y="29"/>
                    </a:lnTo>
                    <a:lnTo>
                      <a:pt x="437" y="31"/>
                    </a:lnTo>
                    <a:lnTo>
                      <a:pt x="440" y="33"/>
                    </a:lnTo>
                    <a:lnTo>
                      <a:pt x="442" y="34"/>
                    </a:lnTo>
                    <a:lnTo>
                      <a:pt x="445" y="34"/>
                    </a:lnTo>
                    <a:lnTo>
                      <a:pt x="446" y="34"/>
                    </a:lnTo>
                    <a:lnTo>
                      <a:pt x="447" y="33"/>
                    </a:lnTo>
                    <a:lnTo>
                      <a:pt x="450" y="31"/>
                    </a:lnTo>
                    <a:lnTo>
                      <a:pt x="451" y="29"/>
                    </a:lnTo>
                    <a:lnTo>
                      <a:pt x="451" y="29"/>
                    </a:lnTo>
                    <a:lnTo>
                      <a:pt x="467" y="29"/>
                    </a:lnTo>
                    <a:lnTo>
                      <a:pt x="480" y="40"/>
                    </a:lnTo>
                    <a:lnTo>
                      <a:pt x="487" y="40"/>
                    </a:lnTo>
                    <a:lnTo>
                      <a:pt x="487" y="45"/>
                    </a:lnTo>
                    <a:lnTo>
                      <a:pt x="498" y="45"/>
                    </a:lnTo>
                    <a:lnTo>
                      <a:pt x="498" y="34"/>
                    </a:lnTo>
                    <a:lnTo>
                      <a:pt x="487" y="34"/>
                    </a:lnTo>
                    <a:lnTo>
                      <a:pt x="487" y="39"/>
                    </a:lnTo>
                    <a:lnTo>
                      <a:pt x="480" y="39"/>
                    </a:lnTo>
                    <a:lnTo>
                      <a:pt x="471" y="29"/>
                    </a:lnTo>
                    <a:lnTo>
                      <a:pt x="502" y="29"/>
                    </a:lnTo>
                    <a:lnTo>
                      <a:pt x="502" y="31"/>
                    </a:lnTo>
                    <a:lnTo>
                      <a:pt x="512" y="27"/>
                    </a:lnTo>
                    <a:lnTo>
                      <a:pt x="502" y="22"/>
                    </a:lnTo>
                    <a:lnTo>
                      <a:pt x="502" y="25"/>
                    </a:lnTo>
                    <a:lnTo>
                      <a:pt x="502" y="25"/>
                    </a:lnTo>
                    <a:close/>
                    <a:moveTo>
                      <a:pt x="727" y="25"/>
                    </a:moveTo>
                    <a:lnTo>
                      <a:pt x="684" y="25"/>
                    </a:lnTo>
                    <a:lnTo>
                      <a:pt x="695" y="16"/>
                    </a:lnTo>
                    <a:lnTo>
                      <a:pt x="701" y="16"/>
                    </a:lnTo>
                    <a:lnTo>
                      <a:pt x="704" y="17"/>
                    </a:lnTo>
                    <a:lnTo>
                      <a:pt x="705" y="17"/>
                    </a:lnTo>
                    <a:lnTo>
                      <a:pt x="708" y="17"/>
                    </a:lnTo>
                    <a:lnTo>
                      <a:pt x="709" y="17"/>
                    </a:lnTo>
                    <a:lnTo>
                      <a:pt x="710" y="17"/>
                    </a:lnTo>
                    <a:lnTo>
                      <a:pt x="710" y="17"/>
                    </a:lnTo>
                    <a:lnTo>
                      <a:pt x="711" y="15"/>
                    </a:lnTo>
                    <a:lnTo>
                      <a:pt x="711" y="14"/>
                    </a:lnTo>
                    <a:lnTo>
                      <a:pt x="711" y="14"/>
                    </a:lnTo>
                    <a:lnTo>
                      <a:pt x="711" y="12"/>
                    </a:lnTo>
                    <a:lnTo>
                      <a:pt x="711" y="11"/>
                    </a:lnTo>
                    <a:lnTo>
                      <a:pt x="711" y="10"/>
                    </a:lnTo>
                    <a:lnTo>
                      <a:pt x="710" y="10"/>
                    </a:lnTo>
                    <a:lnTo>
                      <a:pt x="709" y="9"/>
                    </a:lnTo>
                    <a:lnTo>
                      <a:pt x="706" y="9"/>
                    </a:lnTo>
                    <a:lnTo>
                      <a:pt x="704" y="9"/>
                    </a:lnTo>
                    <a:lnTo>
                      <a:pt x="704" y="9"/>
                    </a:lnTo>
                    <a:lnTo>
                      <a:pt x="704" y="10"/>
                    </a:lnTo>
                    <a:lnTo>
                      <a:pt x="704" y="11"/>
                    </a:lnTo>
                    <a:lnTo>
                      <a:pt x="701" y="11"/>
                    </a:lnTo>
                    <a:lnTo>
                      <a:pt x="701" y="11"/>
                    </a:lnTo>
                    <a:lnTo>
                      <a:pt x="693" y="11"/>
                    </a:lnTo>
                    <a:lnTo>
                      <a:pt x="679" y="25"/>
                    </a:lnTo>
                    <a:lnTo>
                      <a:pt x="675" y="25"/>
                    </a:lnTo>
                    <a:lnTo>
                      <a:pt x="675" y="24"/>
                    </a:lnTo>
                    <a:lnTo>
                      <a:pt x="674" y="21"/>
                    </a:lnTo>
                    <a:lnTo>
                      <a:pt x="673" y="21"/>
                    </a:lnTo>
                    <a:lnTo>
                      <a:pt x="673" y="20"/>
                    </a:lnTo>
                    <a:lnTo>
                      <a:pt x="670" y="20"/>
                    </a:lnTo>
                    <a:lnTo>
                      <a:pt x="669" y="19"/>
                    </a:lnTo>
                    <a:lnTo>
                      <a:pt x="668" y="20"/>
                    </a:lnTo>
                    <a:lnTo>
                      <a:pt x="666" y="20"/>
                    </a:lnTo>
                    <a:lnTo>
                      <a:pt x="664" y="20"/>
                    </a:lnTo>
                    <a:lnTo>
                      <a:pt x="663" y="21"/>
                    </a:lnTo>
                    <a:lnTo>
                      <a:pt x="661" y="22"/>
                    </a:lnTo>
                    <a:lnTo>
                      <a:pt x="661" y="22"/>
                    </a:lnTo>
                    <a:lnTo>
                      <a:pt x="660" y="25"/>
                    </a:lnTo>
                    <a:lnTo>
                      <a:pt x="660" y="26"/>
                    </a:lnTo>
                    <a:lnTo>
                      <a:pt x="660" y="27"/>
                    </a:lnTo>
                    <a:lnTo>
                      <a:pt x="661" y="29"/>
                    </a:lnTo>
                    <a:lnTo>
                      <a:pt x="661" y="30"/>
                    </a:lnTo>
                    <a:lnTo>
                      <a:pt x="663" y="31"/>
                    </a:lnTo>
                    <a:lnTo>
                      <a:pt x="663" y="31"/>
                    </a:lnTo>
                    <a:lnTo>
                      <a:pt x="664" y="33"/>
                    </a:lnTo>
                    <a:lnTo>
                      <a:pt x="668" y="34"/>
                    </a:lnTo>
                    <a:lnTo>
                      <a:pt x="670" y="34"/>
                    </a:lnTo>
                    <a:lnTo>
                      <a:pt x="673" y="34"/>
                    </a:lnTo>
                    <a:lnTo>
                      <a:pt x="674" y="33"/>
                    </a:lnTo>
                    <a:lnTo>
                      <a:pt x="674" y="31"/>
                    </a:lnTo>
                    <a:lnTo>
                      <a:pt x="675" y="29"/>
                    </a:lnTo>
                    <a:lnTo>
                      <a:pt x="675" y="29"/>
                    </a:lnTo>
                    <a:lnTo>
                      <a:pt x="693" y="29"/>
                    </a:lnTo>
                    <a:lnTo>
                      <a:pt x="704" y="40"/>
                    </a:lnTo>
                    <a:lnTo>
                      <a:pt x="714" y="40"/>
                    </a:lnTo>
                    <a:lnTo>
                      <a:pt x="714" y="45"/>
                    </a:lnTo>
                    <a:lnTo>
                      <a:pt x="723" y="45"/>
                    </a:lnTo>
                    <a:lnTo>
                      <a:pt x="723" y="34"/>
                    </a:lnTo>
                    <a:lnTo>
                      <a:pt x="714" y="34"/>
                    </a:lnTo>
                    <a:lnTo>
                      <a:pt x="714" y="39"/>
                    </a:lnTo>
                    <a:lnTo>
                      <a:pt x="706" y="39"/>
                    </a:lnTo>
                    <a:lnTo>
                      <a:pt x="698" y="29"/>
                    </a:lnTo>
                    <a:lnTo>
                      <a:pt x="727" y="29"/>
                    </a:lnTo>
                    <a:lnTo>
                      <a:pt x="727" y="31"/>
                    </a:lnTo>
                    <a:lnTo>
                      <a:pt x="738" y="27"/>
                    </a:lnTo>
                    <a:lnTo>
                      <a:pt x="727" y="22"/>
                    </a:lnTo>
                    <a:lnTo>
                      <a:pt x="727" y="25"/>
                    </a:lnTo>
                    <a:lnTo>
                      <a:pt x="727" y="25"/>
                    </a:lnTo>
                    <a:close/>
                    <a:moveTo>
                      <a:pt x="1037" y="51"/>
                    </a:moveTo>
                    <a:lnTo>
                      <a:pt x="1076" y="51"/>
                    </a:lnTo>
                    <a:lnTo>
                      <a:pt x="1079" y="51"/>
                    </a:lnTo>
                    <a:lnTo>
                      <a:pt x="1080" y="51"/>
                    </a:lnTo>
                    <a:lnTo>
                      <a:pt x="1082" y="50"/>
                    </a:lnTo>
                    <a:lnTo>
                      <a:pt x="1084" y="49"/>
                    </a:lnTo>
                    <a:lnTo>
                      <a:pt x="1085" y="48"/>
                    </a:lnTo>
                    <a:lnTo>
                      <a:pt x="1086" y="45"/>
                    </a:lnTo>
                    <a:lnTo>
                      <a:pt x="1086" y="43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11"/>
                    </a:lnTo>
                    <a:lnTo>
                      <a:pt x="1086" y="9"/>
                    </a:lnTo>
                    <a:lnTo>
                      <a:pt x="1086" y="6"/>
                    </a:lnTo>
                    <a:lnTo>
                      <a:pt x="1085" y="5"/>
                    </a:lnTo>
                    <a:lnTo>
                      <a:pt x="1084" y="2"/>
                    </a:lnTo>
                    <a:lnTo>
                      <a:pt x="1082" y="1"/>
                    </a:lnTo>
                    <a:lnTo>
                      <a:pt x="1080" y="1"/>
                    </a:lnTo>
                    <a:lnTo>
                      <a:pt x="1079" y="0"/>
                    </a:lnTo>
                    <a:lnTo>
                      <a:pt x="1076" y="0"/>
                    </a:lnTo>
                    <a:lnTo>
                      <a:pt x="1076" y="0"/>
                    </a:lnTo>
                    <a:lnTo>
                      <a:pt x="1037" y="0"/>
                    </a:lnTo>
                    <a:lnTo>
                      <a:pt x="1035" y="0"/>
                    </a:lnTo>
                    <a:lnTo>
                      <a:pt x="1033" y="1"/>
                    </a:lnTo>
                    <a:lnTo>
                      <a:pt x="1031" y="1"/>
                    </a:lnTo>
                    <a:lnTo>
                      <a:pt x="1030" y="2"/>
                    </a:lnTo>
                    <a:lnTo>
                      <a:pt x="1028" y="5"/>
                    </a:lnTo>
                    <a:lnTo>
                      <a:pt x="1027" y="6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1"/>
                    </a:lnTo>
                    <a:lnTo>
                      <a:pt x="1026" y="40"/>
                    </a:lnTo>
                    <a:lnTo>
                      <a:pt x="1026" y="43"/>
                    </a:lnTo>
                    <a:lnTo>
                      <a:pt x="1027" y="45"/>
                    </a:lnTo>
                    <a:lnTo>
                      <a:pt x="1028" y="48"/>
                    </a:lnTo>
                    <a:lnTo>
                      <a:pt x="1030" y="49"/>
                    </a:lnTo>
                    <a:lnTo>
                      <a:pt x="1031" y="50"/>
                    </a:lnTo>
                    <a:lnTo>
                      <a:pt x="1033" y="51"/>
                    </a:lnTo>
                    <a:lnTo>
                      <a:pt x="1035" y="51"/>
                    </a:lnTo>
                    <a:lnTo>
                      <a:pt x="1037" y="51"/>
                    </a:lnTo>
                    <a:lnTo>
                      <a:pt x="1037" y="51"/>
                    </a:lnTo>
                    <a:close/>
                    <a:moveTo>
                      <a:pt x="1044" y="43"/>
                    </a:moveTo>
                    <a:lnTo>
                      <a:pt x="1050" y="43"/>
                    </a:lnTo>
                    <a:lnTo>
                      <a:pt x="1056" y="43"/>
                    </a:lnTo>
                    <a:lnTo>
                      <a:pt x="1062" y="43"/>
                    </a:lnTo>
                    <a:lnTo>
                      <a:pt x="1069" y="43"/>
                    </a:lnTo>
                    <a:lnTo>
                      <a:pt x="1070" y="43"/>
                    </a:lnTo>
                    <a:lnTo>
                      <a:pt x="1072" y="43"/>
                    </a:lnTo>
                    <a:lnTo>
                      <a:pt x="1074" y="41"/>
                    </a:lnTo>
                    <a:lnTo>
                      <a:pt x="1075" y="40"/>
                    </a:lnTo>
                    <a:lnTo>
                      <a:pt x="1076" y="39"/>
                    </a:lnTo>
                    <a:lnTo>
                      <a:pt x="1077" y="38"/>
                    </a:lnTo>
                    <a:lnTo>
                      <a:pt x="1077" y="35"/>
                    </a:lnTo>
                    <a:lnTo>
                      <a:pt x="1077" y="34"/>
                    </a:lnTo>
                    <a:lnTo>
                      <a:pt x="1077" y="34"/>
                    </a:lnTo>
                    <a:lnTo>
                      <a:pt x="1077" y="30"/>
                    </a:lnTo>
                    <a:lnTo>
                      <a:pt x="1077" y="26"/>
                    </a:lnTo>
                    <a:lnTo>
                      <a:pt x="1077" y="21"/>
                    </a:lnTo>
                    <a:lnTo>
                      <a:pt x="1077" y="17"/>
                    </a:lnTo>
                    <a:lnTo>
                      <a:pt x="1077" y="16"/>
                    </a:lnTo>
                    <a:lnTo>
                      <a:pt x="1077" y="15"/>
                    </a:lnTo>
                    <a:lnTo>
                      <a:pt x="1076" y="14"/>
                    </a:lnTo>
                    <a:lnTo>
                      <a:pt x="1075" y="11"/>
                    </a:lnTo>
                    <a:lnTo>
                      <a:pt x="1074" y="11"/>
                    </a:lnTo>
                    <a:lnTo>
                      <a:pt x="1072" y="10"/>
                    </a:lnTo>
                    <a:lnTo>
                      <a:pt x="1070" y="9"/>
                    </a:lnTo>
                    <a:lnTo>
                      <a:pt x="1069" y="9"/>
                    </a:lnTo>
                    <a:lnTo>
                      <a:pt x="1062" y="9"/>
                    </a:lnTo>
                    <a:lnTo>
                      <a:pt x="1056" y="9"/>
                    </a:lnTo>
                    <a:lnTo>
                      <a:pt x="1050" y="9"/>
                    </a:lnTo>
                    <a:lnTo>
                      <a:pt x="1044" y="9"/>
                    </a:lnTo>
                    <a:lnTo>
                      <a:pt x="1042" y="9"/>
                    </a:lnTo>
                    <a:lnTo>
                      <a:pt x="1041" y="10"/>
                    </a:lnTo>
                    <a:lnTo>
                      <a:pt x="1039" y="11"/>
                    </a:lnTo>
                    <a:lnTo>
                      <a:pt x="1037" y="11"/>
                    </a:lnTo>
                    <a:lnTo>
                      <a:pt x="1036" y="14"/>
                    </a:lnTo>
                    <a:lnTo>
                      <a:pt x="1036" y="15"/>
                    </a:lnTo>
                    <a:lnTo>
                      <a:pt x="1035" y="16"/>
                    </a:lnTo>
                    <a:lnTo>
                      <a:pt x="1035" y="17"/>
                    </a:lnTo>
                    <a:lnTo>
                      <a:pt x="1035" y="21"/>
                    </a:lnTo>
                    <a:lnTo>
                      <a:pt x="1035" y="26"/>
                    </a:lnTo>
                    <a:lnTo>
                      <a:pt x="1035" y="30"/>
                    </a:lnTo>
                    <a:lnTo>
                      <a:pt x="1035" y="34"/>
                    </a:lnTo>
                    <a:lnTo>
                      <a:pt x="1035" y="35"/>
                    </a:lnTo>
                    <a:lnTo>
                      <a:pt x="1036" y="38"/>
                    </a:lnTo>
                    <a:lnTo>
                      <a:pt x="1036" y="39"/>
                    </a:lnTo>
                    <a:lnTo>
                      <a:pt x="1037" y="40"/>
                    </a:lnTo>
                    <a:lnTo>
                      <a:pt x="1039" y="41"/>
                    </a:lnTo>
                    <a:lnTo>
                      <a:pt x="1041" y="43"/>
                    </a:lnTo>
                    <a:lnTo>
                      <a:pt x="1042" y="43"/>
                    </a:lnTo>
                    <a:lnTo>
                      <a:pt x="1044" y="43"/>
                    </a:lnTo>
                    <a:lnTo>
                      <a:pt x="104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6" name=""/>
              <p:cNvSpPr/>
              <p:nvPr/>
            </p:nvSpPr>
            <p:spPr>
              <a:xfrm>
                <a:off x="6768000" y="2789280"/>
                <a:ext cx="1760400" cy="245160"/>
              </a:xfrm>
              <a:custGeom>
                <a:avLst/>
                <a:gdLst/>
                <a:ahLst/>
                <a:rect l="l" t="t" r="r" b="b"/>
                <a:pathLst>
                  <a:path w="2476" h="317">
                    <a:moveTo>
                      <a:pt x="41" y="39"/>
                    </a:moveTo>
                    <a:lnTo>
                      <a:pt x="4" y="39"/>
                    </a:lnTo>
                    <a:lnTo>
                      <a:pt x="23" y="8"/>
                    </a:lnTo>
                    <a:lnTo>
                      <a:pt x="41" y="39"/>
                    </a:lnTo>
                    <a:lnTo>
                      <a:pt x="41" y="39"/>
                    </a:lnTo>
                    <a:close/>
                    <a:moveTo>
                      <a:pt x="24" y="3"/>
                    </a:move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  <a:moveTo>
                      <a:pt x="23" y="37"/>
                    </a:moveTo>
                    <a:lnTo>
                      <a:pt x="24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close/>
                    <a:moveTo>
                      <a:pt x="24" y="31"/>
                    </a:moveTo>
                    <a:lnTo>
                      <a:pt x="24" y="27"/>
                    </a:lnTo>
                    <a:lnTo>
                      <a:pt x="24" y="23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4" y="31"/>
                    </a:lnTo>
                    <a:close/>
                    <a:moveTo>
                      <a:pt x="43" y="71"/>
                    </a:moveTo>
                    <a:lnTo>
                      <a:pt x="43" y="67"/>
                    </a:lnTo>
                    <a:lnTo>
                      <a:pt x="42" y="63"/>
                    </a:lnTo>
                    <a:lnTo>
                      <a:pt x="39" y="60"/>
                    </a:lnTo>
                    <a:lnTo>
                      <a:pt x="37" y="57"/>
                    </a:lnTo>
                    <a:lnTo>
                      <a:pt x="34" y="55"/>
                    </a:lnTo>
                    <a:lnTo>
                      <a:pt x="30" y="52"/>
                    </a:lnTo>
                    <a:lnTo>
                      <a:pt x="27" y="51"/>
                    </a:lnTo>
                    <a:lnTo>
                      <a:pt x="23" y="51"/>
                    </a:lnTo>
                    <a:lnTo>
                      <a:pt x="18" y="51"/>
                    </a:lnTo>
                    <a:lnTo>
                      <a:pt x="15" y="52"/>
                    </a:lnTo>
                    <a:lnTo>
                      <a:pt x="12" y="55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5" y="63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9" y="86"/>
                    </a:lnTo>
                    <a:lnTo>
                      <a:pt x="12" y="89"/>
                    </a:lnTo>
                    <a:lnTo>
                      <a:pt x="15" y="90"/>
                    </a:lnTo>
                    <a:lnTo>
                      <a:pt x="18" y="91"/>
                    </a:lnTo>
                    <a:lnTo>
                      <a:pt x="23" y="91"/>
                    </a:lnTo>
                    <a:lnTo>
                      <a:pt x="27" y="91"/>
                    </a:lnTo>
                    <a:lnTo>
                      <a:pt x="30" y="90"/>
                    </a:lnTo>
                    <a:lnTo>
                      <a:pt x="34" y="89"/>
                    </a:lnTo>
                    <a:lnTo>
                      <a:pt x="37" y="86"/>
                    </a:lnTo>
                    <a:lnTo>
                      <a:pt x="39" y="82"/>
                    </a:lnTo>
                    <a:lnTo>
                      <a:pt x="42" y="79"/>
                    </a:lnTo>
                    <a:lnTo>
                      <a:pt x="43" y="75"/>
                    </a:lnTo>
                    <a:lnTo>
                      <a:pt x="43" y="71"/>
                    </a:lnTo>
                    <a:lnTo>
                      <a:pt x="43" y="71"/>
                    </a:lnTo>
                    <a:close/>
                    <a:moveTo>
                      <a:pt x="23" y="73"/>
                    </a:moveTo>
                    <a:lnTo>
                      <a:pt x="22" y="75"/>
                    </a:lnTo>
                    <a:lnTo>
                      <a:pt x="22" y="76"/>
                    </a:lnTo>
                    <a:lnTo>
                      <a:pt x="19" y="76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1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20" y="80"/>
                    </a:lnTo>
                    <a:lnTo>
                      <a:pt x="22" y="79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34" y="85"/>
                    </a:lnTo>
                    <a:lnTo>
                      <a:pt x="30" y="86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9" y="80"/>
                    </a:lnTo>
                    <a:lnTo>
                      <a:pt x="8" y="77"/>
                    </a:lnTo>
                    <a:lnTo>
                      <a:pt x="7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23" y="73"/>
                    </a:lnTo>
                    <a:lnTo>
                      <a:pt x="23" y="73"/>
                    </a:lnTo>
                    <a:close/>
                    <a:moveTo>
                      <a:pt x="27" y="76"/>
                    </a:moveTo>
                    <a:lnTo>
                      <a:pt x="29" y="73"/>
                    </a:lnTo>
                    <a:lnTo>
                      <a:pt x="32" y="72"/>
                    </a:lnTo>
                    <a:lnTo>
                      <a:pt x="33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8" y="70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13" y="57"/>
                    </a:lnTo>
                    <a:lnTo>
                      <a:pt x="17" y="56"/>
                    </a:lnTo>
                    <a:lnTo>
                      <a:pt x="19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9" y="55"/>
                    </a:lnTo>
                    <a:lnTo>
                      <a:pt x="32" y="57"/>
                    </a:lnTo>
                    <a:lnTo>
                      <a:pt x="34" y="58"/>
                    </a:lnTo>
                    <a:lnTo>
                      <a:pt x="37" y="62"/>
                    </a:lnTo>
                    <a:lnTo>
                      <a:pt x="38" y="65"/>
                    </a:lnTo>
                    <a:lnTo>
                      <a:pt x="39" y="67"/>
                    </a:lnTo>
                    <a:lnTo>
                      <a:pt x="39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9"/>
                    </a:lnTo>
                    <a:lnTo>
                      <a:pt x="35" y="81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27" y="76"/>
                    </a:lnTo>
                    <a:lnTo>
                      <a:pt x="27" y="76"/>
                    </a:lnTo>
                    <a:close/>
                    <a:moveTo>
                      <a:pt x="681" y="139"/>
                    </a:moveTo>
                    <a:lnTo>
                      <a:pt x="681" y="138"/>
                    </a:lnTo>
                    <a:lnTo>
                      <a:pt x="680" y="137"/>
                    </a:lnTo>
                    <a:lnTo>
                      <a:pt x="678" y="135"/>
                    </a:lnTo>
                    <a:lnTo>
                      <a:pt x="677" y="135"/>
                    </a:lnTo>
                    <a:lnTo>
                      <a:pt x="674" y="135"/>
                    </a:lnTo>
                    <a:lnTo>
                      <a:pt x="673" y="137"/>
                    </a:lnTo>
                    <a:lnTo>
                      <a:pt x="672" y="138"/>
                    </a:lnTo>
                    <a:lnTo>
                      <a:pt x="672" y="139"/>
                    </a:lnTo>
                    <a:lnTo>
                      <a:pt x="672" y="143"/>
                    </a:lnTo>
                    <a:lnTo>
                      <a:pt x="673" y="144"/>
                    </a:lnTo>
                    <a:lnTo>
                      <a:pt x="674" y="145"/>
                    </a:lnTo>
                    <a:lnTo>
                      <a:pt x="677" y="147"/>
                    </a:lnTo>
                    <a:lnTo>
                      <a:pt x="678" y="145"/>
                    </a:lnTo>
                    <a:lnTo>
                      <a:pt x="680" y="144"/>
                    </a:lnTo>
                    <a:lnTo>
                      <a:pt x="681" y="143"/>
                    </a:lnTo>
                    <a:lnTo>
                      <a:pt x="681" y="139"/>
                    </a:lnTo>
                    <a:lnTo>
                      <a:pt x="681" y="139"/>
                    </a:lnTo>
                    <a:close/>
                    <a:moveTo>
                      <a:pt x="633" y="167"/>
                    </a:moveTo>
                    <a:lnTo>
                      <a:pt x="633" y="166"/>
                    </a:lnTo>
                    <a:lnTo>
                      <a:pt x="632" y="163"/>
                    </a:lnTo>
                    <a:lnTo>
                      <a:pt x="631" y="163"/>
                    </a:lnTo>
                    <a:lnTo>
                      <a:pt x="629" y="162"/>
                    </a:lnTo>
                    <a:lnTo>
                      <a:pt x="628" y="163"/>
                    </a:lnTo>
                    <a:lnTo>
                      <a:pt x="626" y="163"/>
                    </a:lnTo>
                    <a:lnTo>
                      <a:pt x="626" y="166"/>
                    </a:lnTo>
                    <a:lnTo>
                      <a:pt x="624" y="167"/>
                    </a:lnTo>
                    <a:lnTo>
                      <a:pt x="626" y="169"/>
                    </a:lnTo>
                    <a:lnTo>
                      <a:pt x="626" y="172"/>
                    </a:lnTo>
                    <a:lnTo>
                      <a:pt x="628" y="173"/>
                    </a:lnTo>
                    <a:lnTo>
                      <a:pt x="629" y="173"/>
                    </a:lnTo>
                    <a:lnTo>
                      <a:pt x="631" y="173"/>
                    </a:lnTo>
                    <a:lnTo>
                      <a:pt x="632" y="172"/>
                    </a:lnTo>
                    <a:lnTo>
                      <a:pt x="633" y="169"/>
                    </a:lnTo>
                    <a:lnTo>
                      <a:pt x="633" y="167"/>
                    </a:lnTo>
                    <a:lnTo>
                      <a:pt x="633" y="167"/>
                    </a:lnTo>
                    <a:close/>
                    <a:moveTo>
                      <a:pt x="661" y="167"/>
                    </a:moveTo>
                    <a:lnTo>
                      <a:pt x="661" y="166"/>
                    </a:lnTo>
                    <a:lnTo>
                      <a:pt x="659" y="163"/>
                    </a:lnTo>
                    <a:lnTo>
                      <a:pt x="658" y="163"/>
                    </a:lnTo>
                    <a:lnTo>
                      <a:pt x="657" y="162"/>
                    </a:lnTo>
                    <a:lnTo>
                      <a:pt x="654" y="162"/>
                    </a:lnTo>
                    <a:lnTo>
                      <a:pt x="653" y="163"/>
                    </a:lnTo>
                    <a:lnTo>
                      <a:pt x="653" y="163"/>
                    </a:lnTo>
                    <a:lnTo>
                      <a:pt x="652" y="163"/>
                    </a:lnTo>
                    <a:lnTo>
                      <a:pt x="652" y="166"/>
                    </a:lnTo>
                    <a:lnTo>
                      <a:pt x="652" y="167"/>
                    </a:lnTo>
                    <a:lnTo>
                      <a:pt x="652" y="169"/>
                    </a:lnTo>
                    <a:lnTo>
                      <a:pt x="652" y="172"/>
                    </a:lnTo>
                    <a:lnTo>
                      <a:pt x="653" y="173"/>
                    </a:lnTo>
                    <a:lnTo>
                      <a:pt x="653" y="173"/>
                    </a:lnTo>
                    <a:lnTo>
                      <a:pt x="654" y="173"/>
                    </a:lnTo>
                    <a:lnTo>
                      <a:pt x="657" y="173"/>
                    </a:lnTo>
                    <a:lnTo>
                      <a:pt x="658" y="173"/>
                    </a:lnTo>
                    <a:lnTo>
                      <a:pt x="659" y="172"/>
                    </a:lnTo>
                    <a:lnTo>
                      <a:pt x="661" y="169"/>
                    </a:lnTo>
                    <a:lnTo>
                      <a:pt x="661" y="167"/>
                    </a:lnTo>
                    <a:lnTo>
                      <a:pt x="661" y="167"/>
                    </a:lnTo>
                    <a:close/>
                    <a:moveTo>
                      <a:pt x="613" y="139"/>
                    </a:moveTo>
                    <a:lnTo>
                      <a:pt x="613" y="138"/>
                    </a:lnTo>
                    <a:lnTo>
                      <a:pt x="612" y="137"/>
                    </a:lnTo>
                    <a:lnTo>
                      <a:pt x="611" y="135"/>
                    </a:lnTo>
                    <a:lnTo>
                      <a:pt x="609" y="135"/>
                    </a:lnTo>
                    <a:lnTo>
                      <a:pt x="607" y="135"/>
                    </a:lnTo>
                    <a:lnTo>
                      <a:pt x="607" y="135"/>
                    </a:lnTo>
                    <a:lnTo>
                      <a:pt x="606" y="135"/>
                    </a:lnTo>
                    <a:lnTo>
                      <a:pt x="604" y="137"/>
                    </a:lnTo>
                    <a:lnTo>
                      <a:pt x="604" y="138"/>
                    </a:lnTo>
                    <a:lnTo>
                      <a:pt x="604" y="139"/>
                    </a:lnTo>
                    <a:lnTo>
                      <a:pt x="604" y="143"/>
                    </a:lnTo>
                    <a:lnTo>
                      <a:pt x="604" y="144"/>
                    </a:lnTo>
                    <a:lnTo>
                      <a:pt x="606" y="145"/>
                    </a:lnTo>
                    <a:lnTo>
                      <a:pt x="607" y="145"/>
                    </a:lnTo>
                    <a:lnTo>
                      <a:pt x="607" y="147"/>
                    </a:lnTo>
                    <a:lnTo>
                      <a:pt x="609" y="147"/>
                    </a:lnTo>
                    <a:lnTo>
                      <a:pt x="611" y="145"/>
                    </a:lnTo>
                    <a:lnTo>
                      <a:pt x="612" y="144"/>
                    </a:lnTo>
                    <a:lnTo>
                      <a:pt x="613" y="143"/>
                    </a:lnTo>
                    <a:lnTo>
                      <a:pt x="613" y="139"/>
                    </a:lnTo>
                    <a:lnTo>
                      <a:pt x="613" y="139"/>
                    </a:lnTo>
                    <a:close/>
                    <a:moveTo>
                      <a:pt x="633" y="137"/>
                    </a:moveTo>
                    <a:lnTo>
                      <a:pt x="652" y="137"/>
                    </a:lnTo>
                    <a:lnTo>
                      <a:pt x="652" y="105"/>
                    </a:lnTo>
                    <a:lnTo>
                      <a:pt x="633" y="105"/>
                    </a:lnTo>
                    <a:lnTo>
                      <a:pt x="633" y="137"/>
                    </a:lnTo>
                    <a:lnTo>
                      <a:pt x="633" y="137"/>
                    </a:lnTo>
                    <a:close/>
                    <a:moveTo>
                      <a:pt x="621" y="114"/>
                    </a:moveTo>
                    <a:lnTo>
                      <a:pt x="619" y="111"/>
                    </a:lnTo>
                    <a:lnTo>
                      <a:pt x="619" y="109"/>
                    </a:lnTo>
                    <a:lnTo>
                      <a:pt x="617" y="108"/>
                    </a:lnTo>
                    <a:lnTo>
                      <a:pt x="616" y="108"/>
                    </a:lnTo>
                    <a:lnTo>
                      <a:pt x="614" y="108"/>
                    </a:lnTo>
                    <a:lnTo>
                      <a:pt x="613" y="109"/>
                    </a:lnTo>
                    <a:lnTo>
                      <a:pt x="612" y="111"/>
                    </a:lnTo>
                    <a:lnTo>
                      <a:pt x="611" y="114"/>
                    </a:lnTo>
                    <a:lnTo>
                      <a:pt x="612" y="116"/>
                    </a:lnTo>
                    <a:lnTo>
                      <a:pt x="613" y="118"/>
                    </a:lnTo>
                    <a:lnTo>
                      <a:pt x="614" y="119"/>
                    </a:lnTo>
                    <a:lnTo>
                      <a:pt x="616" y="119"/>
                    </a:lnTo>
                    <a:lnTo>
                      <a:pt x="617" y="119"/>
                    </a:lnTo>
                    <a:lnTo>
                      <a:pt x="619" y="118"/>
                    </a:lnTo>
                    <a:lnTo>
                      <a:pt x="619" y="116"/>
                    </a:lnTo>
                    <a:lnTo>
                      <a:pt x="621" y="114"/>
                    </a:lnTo>
                    <a:lnTo>
                      <a:pt x="621" y="114"/>
                    </a:lnTo>
                    <a:close/>
                    <a:moveTo>
                      <a:pt x="674" y="114"/>
                    </a:moveTo>
                    <a:lnTo>
                      <a:pt x="674" y="111"/>
                    </a:lnTo>
                    <a:lnTo>
                      <a:pt x="673" y="109"/>
                    </a:lnTo>
                    <a:lnTo>
                      <a:pt x="672" y="108"/>
                    </a:lnTo>
                    <a:lnTo>
                      <a:pt x="669" y="108"/>
                    </a:lnTo>
                    <a:lnTo>
                      <a:pt x="667" y="108"/>
                    </a:lnTo>
                    <a:lnTo>
                      <a:pt x="664" y="109"/>
                    </a:lnTo>
                    <a:lnTo>
                      <a:pt x="663" y="111"/>
                    </a:lnTo>
                    <a:lnTo>
                      <a:pt x="663" y="114"/>
                    </a:lnTo>
                    <a:lnTo>
                      <a:pt x="663" y="116"/>
                    </a:lnTo>
                    <a:lnTo>
                      <a:pt x="664" y="118"/>
                    </a:lnTo>
                    <a:lnTo>
                      <a:pt x="667" y="119"/>
                    </a:lnTo>
                    <a:lnTo>
                      <a:pt x="669" y="119"/>
                    </a:lnTo>
                    <a:lnTo>
                      <a:pt x="672" y="119"/>
                    </a:lnTo>
                    <a:lnTo>
                      <a:pt x="673" y="118"/>
                    </a:lnTo>
                    <a:lnTo>
                      <a:pt x="674" y="116"/>
                    </a:lnTo>
                    <a:lnTo>
                      <a:pt x="674" y="114"/>
                    </a:lnTo>
                    <a:lnTo>
                      <a:pt x="674" y="114"/>
                    </a:lnTo>
                    <a:close/>
                    <a:moveTo>
                      <a:pt x="607" y="281"/>
                    </a:moveTo>
                    <a:lnTo>
                      <a:pt x="607" y="317"/>
                    </a:lnTo>
                    <a:lnTo>
                      <a:pt x="681" y="317"/>
                    </a:lnTo>
                    <a:lnTo>
                      <a:pt x="681" y="281"/>
                    </a:lnTo>
                    <a:lnTo>
                      <a:pt x="607" y="281"/>
                    </a:lnTo>
                    <a:lnTo>
                      <a:pt x="607" y="281"/>
                    </a:lnTo>
                    <a:close/>
                    <a:moveTo>
                      <a:pt x="611" y="286"/>
                    </a:moveTo>
                    <a:lnTo>
                      <a:pt x="611" y="311"/>
                    </a:lnTo>
                    <a:lnTo>
                      <a:pt x="674" y="311"/>
                    </a:lnTo>
                    <a:lnTo>
                      <a:pt x="674" y="286"/>
                    </a:lnTo>
                    <a:lnTo>
                      <a:pt x="611" y="286"/>
                    </a:lnTo>
                    <a:lnTo>
                      <a:pt x="611" y="286"/>
                    </a:lnTo>
                    <a:close/>
                    <a:moveTo>
                      <a:pt x="668" y="288"/>
                    </a:moveTo>
                    <a:lnTo>
                      <a:pt x="668" y="294"/>
                    </a:lnTo>
                    <a:lnTo>
                      <a:pt x="672" y="294"/>
                    </a:lnTo>
                    <a:lnTo>
                      <a:pt x="672" y="288"/>
                    </a:lnTo>
                    <a:lnTo>
                      <a:pt x="668" y="288"/>
                    </a:lnTo>
                    <a:lnTo>
                      <a:pt x="668" y="288"/>
                    </a:lnTo>
                    <a:close/>
                    <a:moveTo>
                      <a:pt x="658" y="288"/>
                    </a:moveTo>
                    <a:lnTo>
                      <a:pt x="658" y="294"/>
                    </a:lnTo>
                    <a:lnTo>
                      <a:pt x="663" y="294"/>
                    </a:lnTo>
                    <a:lnTo>
                      <a:pt x="663" y="288"/>
                    </a:lnTo>
                    <a:lnTo>
                      <a:pt x="658" y="288"/>
                    </a:lnTo>
                    <a:lnTo>
                      <a:pt x="658" y="288"/>
                    </a:lnTo>
                    <a:close/>
                    <a:moveTo>
                      <a:pt x="663" y="297"/>
                    </a:moveTo>
                    <a:lnTo>
                      <a:pt x="663" y="301"/>
                    </a:lnTo>
                    <a:lnTo>
                      <a:pt x="668" y="301"/>
                    </a:lnTo>
                    <a:lnTo>
                      <a:pt x="668" y="297"/>
                    </a:lnTo>
                    <a:lnTo>
                      <a:pt x="663" y="297"/>
                    </a:lnTo>
                    <a:lnTo>
                      <a:pt x="663" y="297"/>
                    </a:lnTo>
                    <a:close/>
                    <a:moveTo>
                      <a:pt x="649" y="288"/>
                    </a:moveTo>
                    <a:lnTo>
                      <a:pt x="649" y="294"/>
                    </a:lnTo>
                    <a:lnTo>
                      <a:pt x="654" y="294"/>
                    </a:lnTo>
                    <a:lnTo>
                      <a:pt x="654" y="288"/>
                    </a:lnTo>
                    <a:lnTo>
                      <a:pt x="649" y="288"/>
                    </a:lnTo>
                    <a:lnTo>
                      <a:pt x="649" y="288"/>
                    </a:lnTo>
                    <a:close/>
                    <a:moveTo>
                      <a:pt x="641" y="288"/>
                    </a:moveTo>
                    <a:lnTo>
                      <a:pt x="641" y="294"/>
                    </a:lnTo>
                    <a:lnTo>
                      <a:pt x="647" y="294"/>
                    </a:lnTo>
                    <a:lnTo>
                      <a:pt x="647" y="288"/>
                    </a:lnTo>
                    <a:lnTo>
                      <a:pt x="641" y="288"/>
                    </a:lnTo>
                    <a:lnTo>
                      <a:pt x="641" y="288"/>
                    </a:lnTo>
                    <a:close/>
                    <a:moveTo>
                      <a:pt x="632" y="288"/>
                    </a:moveTo>
                    <a:lnTo>
                      <a:pt x="632" y="294"/>
                    </a:lnTo>
                    <a:lnTo>
                      <a:pt x="638" y="294"/>
                    </a:lnTo>
                    <a:lnTo>
                      <a:pt x="638" y="288"/>
                    </a:lnTo>
                    <a:lnTo>
                      <a:pt x="632" y="288"/>
                    </a:lnTo>
                    <a:lnTo>
                      <a:pt x="632" y="288"/>
                    </a:lnTo>
                    <a:close/>
                    <a:moveTo>
                      <a:pt x="622" y="288"/>
                    </a:moveTo>
                    <a:lnTo>
                      <a:pt x="622" y="294"/>
                    </a:lnTo>
                    <a:lnTo>
                      <a:pt x="629" y="294"/>
                    </a:lnTo>
                    <a:lnTo>
                      <a:pt x="629" y="288"/>
                    </a:lnTo>
                    <a:lnTo>
                      <a:pt x="622" y="288"/>
                    </a:lnTo>
                    <a:lnTo>
                      <a:pt x="622" y="288"/>
                    </a:lnTo>
                    <a:close/>
                    <a:moveTo>
                      <a:pt x="616" y="288"/>
                    </a:moveTo>
                    <a:lnTo>
                      <a:pt x="616" y="294"/>
                    </a:lnTo>
                    <a:lnTo>
                      <a:pt x="621" y="294"/>
                    </a:lnTo>
                    <a:lnTo>
                      <a:pt x="621" y="288"/>
                    </a:lnTo>
                    <a:lnTo>
                      <a:pt x="616" y="288"/>
                    </a:lnTo>
                    <a:lnTo>
                      <a:pt x="616" y="288"/>
                    </a:lnTo>
                    <a:close/>
                    <a:moveTo>
                      <a:pt x="654" y="297"/>
                    </a:moveTo>
                    <a:lnTo>
                      <a:pt x="654" y="301"/>
                    </a:lnTo>
                    <a:lnTo>
                      <a:pt x="658" y="301"/>
                    </a:lnTo>
                    <a:lnTo>
                      <a:pt x="658" y="297"/>
                    </a:lnTo>
                    <a:lnTo>
                      <a:pt x="654" y="297"/>
                    </a:lnTo>
                    <a:lnTo>
                      <a:pt x="654" y="297"/>
                    </a:lnTo>
                    <a:close/>
                    <a:moveTo>
                      <a:pt x="644" y="297"/>
                    </a:moveTo>
                    <a:lnTo>
                      <a:pt x="644" y="301"/>
                    </a:lnTo>
                    <a:lnTo>
                      <a:pt x="649" y="301"/>
                    </a:lnTo>
                    <a:lnTo>
                      <a:pt x="649" y="297"/>
                    </a:lnTo>
                    <a:lnTo>
                      <a:pt x="644" y="297"/>
                    </a:lnTo>
                    <a:lnTo>
                      <a:pt x="644" y="297"/>
                    </a:lnTo>
                    <a:close/>
                    <a:moveTo>
                      <a:pt x="636" y="297"/>
                    </a:moveTo>
                    <a:lnTo>
                      <a:pt x="636" y="301"/>
                    </a:lnTo>
                    <a:lnTo>
                      <a:pt x="643" y="301"/>
                    </a:lnTo>
                    <a:lnTo>
                      <a:pt x="643" y="297"/>
                    </a:lnTo>
                    <a:lnTo>
                      <a:pt x="636" y="297"/>
                    </a:lnTo>
                    <a:lnTo>
                      <a:pt x="636" y="297"/>
                    </a:lnTo>
                    <a:close/>
                    <a:moveTo>
                      <a:pt x="627" y="297"/>
                    </a:moveTo>
                    <a:lnTo>
                      <a:pt x="627" y="301"/>
                    </a:lnTo>
                    <a:lnTo>
                      <a:pt x="633" y="301"/>
                    </a:lnTo>
                    <a:lnTo>
                      <a:pt x="633" y="297"/>
                    </a:lnTo>
                    <a:lnTo>
                      <a:pt x="627" y="297"/>
                    </a:lnTo>
                    <a:lnTo>
                      <a:pt x="627" y="297"/>
                    </a:lnTo>
                    <a:close/>
                    <a:moveTo>
                      <a:pt x="618" y="297"/>
                    </a:moveTo>
                    <a:lnTo>
                      <a:pt x="618" y="301"/>
                    </a:lnTo>
                    <a:lnTo>
                      <a:pt x="624" y="301"/>
                    </a:lnTo>
                    <a:lnTo>
                      <a:pt x="624" y="297"/>
                    </a:lnTo>
                    <a:lnTo>
                      <a:pt x="618" y="297"/>
                    </a:lnTo>
                    <a:lnTo>
                      <a:pt x="618" y="297"/>
                    </a:lnTo>
                    <a:close/>
                    <a:moveTo>
                      <a:pt x="658" y="303"/>
                    </a:moveTo>
                    <a:lnTo>
                      <a:pt x="627" y="303"/>
                    </a:lnTo>
                    <a:lnTo>
                      <a:pt x="627" y="308"/>
                    </a:lnTo>
                    <a:lnTo>
                      <a:pt x="658" y="308"/>
                    </a:lnTo>
                    <a:lnTo>
                      <a:pt x="658" y="303"/>
                    </a:lnTo>
                    <a:lnTo>
                      <a:pt x="658" y="303"/>
                    </a:lnTo>
                    <a:close/>
                    <a:moveTo>
                      <a:pt x="663" y="303"/>
                    </a:moveTo>
                    <a:lnTo>
                      <a:pt x="663" y="308"/>
                    </a:lnTo>
                    <a:lnTo>
                      <a:pt x="669" y="308"/>
                    </a:lnTo>
                    <a:lnTo>
                      <a:pt x="669" y="303"/>
                    </a:lnTo>
                    <a:lnTo>
                      <a:pt x="663" y="303"/>
                    </a:lnTo>
                    <a:lnTo>
                      <a:pt x="663" y="303"/>
                    </a:lnTo>
                    <a:close/>
                    <a:moveTo>
                      <a:pt x="618" y="303"/>
                    </a:moveTo>
                    <a:lnTo>
                      <a:pt x="618" y="308"/>
                    </a:lnTo>
                    <a:lnTo>
                      <a:pt x="622" y="308"/>
                    </a:lnTo>
                    <a:lnTo>
                      <a:pt x="622" y="303"/>
                    </a:lnTo>
                    <a:lnTo>
                      <a:pt x="618" y="303"/>
                    </a:lnTo>
                    <a:lnTo>
                      <a:pt x="618" y="303"/>
                    </a:lnTo>
                    <a:close/>
                    <a:moveTo>
                      <a:pt x="869" y="139"/>
                    </a:moveTo>
                    <a:lnTo>
                      <a:pt x="869" y="138"/>
                    </a:lnTo>
                    <a:lnTo>
                      <a:pt x="867" y="137"/>
                    </a:lnTo>
                    <a:lnTo>
                      <a:pt x="866" y="135"/>
                    </a:lnTo>
                    <a:lnTo>
                      <a:pt x="865" y="135"/>
                    </a:lnTo>
                    <a:lnTo>
                      <a:pt x="861" y="135"/>
                    </a:lnTo>
                    <a:lnTo>
                      <a:pt x="860" y="137"/>
                    </a:lnTo>
                    <a:lnTo>
                      <a:pt x="859" y="138"/>
                    </a:lnTo>
                    <a:lnTo>
                      <a:pt x="857" y="139"/>
                    </a:lnTo>
                    <a:lnTo>
                      <a:pt x="859" y="143"/>
                    </a:lnTo>
                    <a:lnTo>
                      <a:pt x="860" y="144"/>
                    </a:lnTo>
                    <a:lnTo>
                      <a:pt x="861" y="145"/>
                    </a:lnTo>
                    <a:lnTo>
                      <a:pt x="865" y="147"/>
                    </a:lnTo>
                    <a:lnTo>
                      <a:pt x="866" y="145"/>
                    </a:lnTo>
                    <a:lnTo>
                      <a:pt x="867" y="144"/>
                    </a:lnTo>
                    <a:lnTo>
                      <a:pt x="869" y="143"/>
                    </a:lnTo>
                    <a:lnTo>
                      <a:pt x="869" y="139"/>
                    </a:lnTo>
                    <a:lnTo>
                      <a:pt x="869" y="139"/>
                    </a:lnTo>
                    <a:close/>
                    <a:moveTo>
                      <a:pt x="876" y="114"/>
                    </a:moveTo>
                    <a:lnTo>
                      <a:pt x="875" y="111"/>
                    </a:lnTo>
                    <a:lnTo>
                      <a:pt x="875" y="109"/>
                    </a:lnTo>
                    <a:lnTo>
                      <a:pt x="872" y="108"/>
                    </a:lnTo>
                    <a:lnTo>
                      <a:pt x="871" y="108"/>
                    </a:lnTo>
                    <a:lnTo>
                      <a:pt x="870" y="108"/>
                    </a:lnTo>
                    <a:lnTo>
                      <a:pt x="869" y="109"/>
                    </a:lnTo>
                    <a:lnTo>
                      <a:pt x="867" y="111"/>
                    </a:lnTo>
                    <a:lnTo>
                      <a:pt x="867" y="114"/>
                    </a:lnTo>
                    <a:lnTo>
                      <a:pt x="867" y="116"/>
                    </a:lnTo>
                    <a:lnTo>
                      <a:pt x="869" y="118"/>
                    </a:lnTo>
                    <a:lnTo>
                      <a:pt x="870" y="119"/>
                    </a:lnTo>
                    <a:lnTo>
                      <a:pt x="871" y="119"/>
                    </a:lnTo>
                    <a:lnTo>
                      <a:pt x="872" y="119"/>
                    </a:lnTo>
                    <a:lnTo>
                      <a:pt x="875" y="118"/>
                    </a:lnTo>
                    <a:lnTo>
                      <a:pt x="875" y="116"/>
                    </a:lnTo>
                    <a:lnTo>
                      <a:pt x="876" y="114"/>
                    </a:lnTo>
                    <a:lnTo>
                      <a:pt x="876" y="114"/>
                    </a:lnTo>
                    <a:close/>
                    <a:moveTo>
                      <a:pt x="890" y="167"/>
                    </a:moveTo>
                    <a:lnTo>
                      <a:pt x="889" y="166"/>
                    </a:lnTo>
                    <a:lnTo>
                      <a:pt x="887" y="163"/>
                    </a:lnTo>
                    <a:lnTo>
                      <a:pt x="886" y="163"/>
                    </a:lnTo>
                    <a:lnTo>
                      <a:pt x="885" y="162"/>
                    </a:lnTo>
                    <a:lnTo>
                      <a:pt x="884" y="162"/>
                    </a:lnTo>
                    <a:lnTo>
                      <a:pt x="882" y="163"/>
                    </a:lnTo>
                    <a:lnTo>
                      <a:pt x="881" y="163"/>
                    </a:lnTo>
                    <a:lnTo>
                      <a:pt x="881" y="163"/>
                    </a:lnTo>
                    <a:lnTo>
                      <a:pt x="880" y="166"/>
                    </a:lnTo>
                    <a:lnTo>
                      <a:pt x="880" y="167"/>
                    </a:lnTo>
                    <a:lnTo>
                      <a:pt x="880" y="169"/>
                    </a:lnTo>
                    <a:lnTo>
                      <a:pt x="881" y="172"/>
                    </a:lnTo>
                    <a:lnTo>
                      <a:pt x="881" y="173"/>
                    </a:lnTo>
                    <a:lnTo>
                      <a:pt x="882" y="173"/>
                    </a:lnTo>
                    <a:lnTo>
                      <a:pt x="884" y="173"/>
                    </a:lnTo>
                    <a:lnTo>
                      <a:pt x="885" y="173"/>
                    </a:lnTo>
                    <a:lnTo>
                      <a:pt x="886" y="173"/>
                    </a:lnTo>
                    <a:lnTo>
                      <a:pt x="887" y="172"/>
                    </a:lnTo>
                    <a:lnTo>
                      <a:pt x="889" y="169"/>
                    </a:lnTo>
                    <a:lnTo>
                      <a:pt x="890" y="167"/>
                    </a:lnTo>
                    <a:lnTo>
                      <a:pt x="890" y="167"/>
                    </a:lnTo>
                    <a:close/>
                    <a:moveTo>
                      <a:pt x="890" y="137"/>
                    </a:moveTo>
                    <a:lnTo>
                      <a:pt x="908" y="137"/>
                    </a:lnTo>
                    <a:lnTo>
                      <a:pt x="908" y="105"/>
                    </a:lnTo>
                    <a:lnTo>
                      <a:pt x="890" y="105"/>
                    </a:lnTo>
                    <a:lnTo>
                      <a:pt x="890" y="137"/>
                    </a:lnTo>
                    <a:lnTo>
                      <a:pt x="890" y="137"/>
                    </a:lnTo>
                    <a:close/>
                    <a:moveTo>
                      <a:pt x="916" y="167"/>
                    </a:moveTo>
                    <a:lnTo>
                      <a:pt x="916" y="166"/>
                    </a:lnTo>
                    <a:lnTo>
                      <a:pt x="915" y="163"/>
                    </a:lnTo>
                    <a:lnTo>
                      <a:pt x="914" y="163"/>
                    </a:lnTo>
                    <a:lnTo>
                      <a:pt x="913" y="162"/>
                    </a:lnTo>
                    <a:lnTo>
                      <a:pt x="909" y="163"/>
                    </a:lnTo>
                    <a:lnTo>
                      <a:pt x="908" y="163"/>
                    </a:lnTo>
                    <a:lnTo>
                      <a:pt x="906" y="166"/>
                    </a:lnTo>
                    <a:lnTo>
                      <a:pt x="905" y="167"/>
                    </a:lnTo>
                    <a:lnTo>
                      <a:pt x="906" y="169"/>
                    </a:lnTo>
                    <a:lnTo>
                      <a:pt x="908" y="172"/>
                    </a:lnTo>
                    <a:lnTo>
                      <a:pt x="909" y="173"/>
                    </a:lnTo>
                    <a:lnTo>
                      <a:pt x="913" y="173"/>
                    </a:lnTo>
                    <a:lnTo>
                      <a:pt x="914" y="173"/>
                    </a:lnTo>
                    <a:lnTo>
                      <a:pt x="915" y="172"/>
                    </a:lnTo>
                    <a:lnTo>
                      <a:pt x="916" y="169"/>
                    </a:lnTo>
                    <a:lnTo>
                      <a:pt x="916" y="167"/>
                    </a:lnTo>
                    <a:lnTo>
                      <a:pt x="916" y="167"/>
                    </a:lnTo>
                    <a:close/>
                    <a:moveTo>
                      <a:pt x="930" y="114"/>
                    </a:moveTo>
                    <a:lnTo>
                      <a:pt x="930" y="111"/>
                    </a:lnTo>
                    <a:lnTo>
                      <a:pt x="929" y="109"/>
                    </a:lnTo>
                    <a:lnTo>
                      <a:pt x="926" y="108"/>
                    </a:lnTo>
                    <a:lnTo>
                      <a:pt x="924" y="108"/>
                    </a:lnTo>
                    <a:lnTo>
                      <a:pt x="921" y="108"/>
                    </a:lnTo>
                    <a:lnTo>
                      <a:pt x="920" y="109"/>
                    </a:lnTo>
                    <a:lnTo>
                      <a:pt x="919" y="111"/>
                    </a:lnTo>
                    <a:lnTo>
                      <a:pt x="919" y="114"/>
                    </a:lnTo>
                    <a:lnTo>
                      <a:pt x="919" y="116"/>
                    </a:lnTo>
                    <a:lnTo>
                      <a:pt x="920" y="118"/>
                    </a:lnTo>
                    <a:lnTo>
                      <a:pt x="921" y="119"/>
                    </a:lnTo>
                    <a:lnTo>
                      <a:pt x="924" y="119"/>
                    </a:lnTo>
                    <a:lnTo>
                      <a:pt x="926" y="119"/>
                    </a:lnTo>
                    <a:lnTo>
                      <a:pt x="929" y="118"/>
                    </a:lnTo>
                    <a:lnTo>
                      <a:pt x="930" y="116"/>
                    </a:lnTo>
                    <a:lnTo>
                      <a:pt x="930" y="114"/>
                    </a:lnTo>
                    <a:lnTo>
                      <a:pt x="930" y="114"/>
                    </a:lnTo>
                    <a:close/>
                    <a:moveTo>
                      <a:pt x="938" y="139"/>
                    </a:moveTo>
                    <a:lnTo>
                      <a:pt x="936" y="138"/>
                    </a:lnTo>
                    <a:lnTo>
                      <a:pt x="935" y="137"/>
                    </a:lnTo>
                    <a:lnTo>
                      <a:pt x="934" y="135"/>
                    </a:lnTo>
                    <a:lnTo>
                      <a:pt x="933" y="135"/>
                    </a:lnTo>
                    <a:lnTo>
                      <a:pt x="930" y="135"/>
                    </a:lnTo>
                    <a:lnTo>
                      <a:pt x="928" y="137"/>
                    </a:lnTo>
                    <a:lnTo>
                      <a:pt x="926" y="138"/>
                    </a:lnTo>
                    <a:lnTo>
                      <a:pt x="926" y="139"/>
                    </a:lnTo>
                    <a:lnTo>
                      <a:pt x="926" y="143"/>
                    </a:lnTo>
                    <a:lnTo>
                      <a:pt x="928" y="144"/>
                    </a:lnTo>
                    <a:lnTo>
                      <a:pt x="930" y="145"/>
                    </a:lnTo>
                    <a:lnTo>
                      <a:pt x="933" y="147"/>
                    </a:lnTo>
                    <a:lnTo>
                      <a:pt x="934" y="145"/>
                    </a:lnTo>
                    <a:lnTo>
                      <a:pt x="935" y="144"/>
                    </a:lnTo>
                    <a:lnTo>
                      <a:pt x="936" y="143"/>
                    </a:lnTo>
                    <a:lnTo>
                      <a:pt x="938" y="139"/>
                    </a:lnTo>
                    <a:lnTo>
                      <a:pt x="938" y="139"/>
                    </a:lnTo>
                    <a:close/>
                    <a:moveTo>
                      <a:pt x="876" y="301"/>
                    </a:moveTo>
                    <a:lnTo>
                      <a:pt x="876" y="308"/>
                    </a:lnTo>
                    <a:lnTo>
                      <a:pt x="876" y="310"/>
                    </a:lnTo>
                    <a:lnTo>
                      <a:pt x="877" y="311"/>
                    </a:lnTo>
                    <a:lnTo>
                      <a:pt x="879" y="312"/>
                    </a:lnTo>
                    <a:lnTo>
                      <a:pt x="880" y="312"/>
                    </a:lnTo>
                    <a:lnTo>
                      <a:pt x="880" y="312"/>
                    </a:lnTo>
                    <a:lnTo>
                      <a:pt x="887" y="312"/>
                    </a:lnTo>
                    <a:lnTo>
                      <a:pt x="887" y="301"/>
                    </a:lnTo>
                    <a:lnTo>
                      <a:pt x="876" y="301"/>
                    </a:lnTo>
                    <a:lnTo>
                      <a:pt x="876" y="301"/>
                    </a:lnTo>
                    <a:close/>
                    <a:moveTo>
                      <a:pt x="887" y="297"/>
                    </a:moveTo>
                    <a:lnTo>
                      <a:pt x="887" y="286"/>
                    </a:lnTo>
                    <a:lnTo>
                      <a:pt x="880" y="286"/>
                    </a:lnTo>
                    <a:lnTo>
                      <a:pt x="879" y="286"/>
                    </a:lnTo>
                    <a:lnTo>
                      <a:pt x="877" y="287"/>
                    </a:lnTo>
                    <a:lnTo>
                      <a:pt x="876" y="288"/>
                    </a:lnTo>
                    <a:lnTo>
                      <a:pt x="876" y="289"/>
                    </a:lnTo>
                    <a:lnTo>
                      <a:pt x="876" y="289"/>
                    </a:lnTo>
                    <a:lnTo>
                      <a:pt x="876" y="297"/>
                    </a:lnTo>
                    <a:lnTo>
                      <a:pt x="887" y="297"/>
                    </a:lnTo>
                    <a:lnTo>
                      <a:pt x="887" y="297"/>
                    </a:lnTo>
                    <a:close/>
                    <a:moveTo>
                      <a:pt x="894" y="312"/>
                    </a:moveTo>
                    <a:lnTo>
                      <a:pt x="908" y="312"/>
                    </a:lnTo>
                    <a:lnTo>
                      <a:pt x="910" y="312"/>
                    </a:lnTo>
                    <a:lnTo>
                      <a:pt x="913" y="312"/>
                    </a:lnTo>
                    <a:lnTo>
                      <a:pt x="914" y="311"/>
                    </a:lnTo>
                    <a:lnTo>
                      <a:pt x="916" y="310"/>
                    </a:lnTo>
                    <a:lnTo>
                      <a:pt x="918" y="308"/>
                    </a:lnTo>
                    <a:lnTo>
                      <a:pt x="918" y="306"/>
                    </a:lnTo>
                    <a:lnTo>
                      <a:pt x="919" y="303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294"/>
                    </a:lnTo>
                    <a:lnTo>
                      <a:pt x="919" y="293"/>
                    </a:lnTo>
                    <a:lnTo>
                      <a:pt x="918" y="291"/>
                    </a:lnTo>
                    <a:lnTo>
                      <a:pt x="918" y="289"/>
                    </a:lnTo>
                    <a:lnTo>
                      <a:pt x="916" y="288"/>
                    </a:lnTo>
                    <a:lnTo>
                      <a:pt x="914" y="287"/>
                    </a:lnTo>
                    <a:lnTo>
                      <a:pt x="913" y="286"/>
                    </a:lnTo>
                    <a:lnTo>
                      <a:pt x="910" y="286"/>
                    </a:lnTo>
                    <a:lnTo>
                      <a:pt x="908" y="286"/>
                    </a:lnTo>
                    <a:lnTo>
                      <a:pt x="908" y="286"/>
                    </a:lnTo>
                    <a:lnTo>
                      <a:pt x="894" y="286"/>
                    </a:lnTo>
                    <a:lnTo>
                      <a:pt x="894" y="312"/>
                    </a:lnTo>
                    <a:lnTo>
                      <a:pt x="894" y="312"/>
                    </a:lnTo>
                    <a:close/>
                    <a:moveTo>
                      <a:pt x="871" y="308"/>
                    </a:moveTo>
                    <a:lnTo>
                      <a:pt x="871" y="310"/>
                    </a:lnTo>
                    <a:lnTo>
                      <a:pt x="871" y="312"/>
                    </a:lnTo>
                    <a:lnTo>
                      <a:pt x="872" y="313"/>
                    </a:lnTo>
                    <a:lnTo>
                      <a:pt x="874" y="315"/>
                    </a:lnTo>
                    <a:lnTo>
                      <a:pt x="875" y="316"/>
                    </a:lnTo>
                    <a:lnTo>
                      <a:pt x="877" y="316"/>
                    </a:lnTo>
                    <a:lnTo>
                      <a:pt x="879" y="317"/>
                    </a:lnTo>
                    <a:lnTo>
                      <a:pt x="880" y="317"/>
                    </a:lnTo>
                    <a:lnTo>
                      <a:pt x="908" y="317"/>
                    </a:lnTo>
                    <a:lnTo>
                      <a:pt x="911" y="317"/>
                    </a:lnTo>
                    <a:lnTo>
                      <a:pt x="914" y="316"/>
                    </a:lnTo>
                    <a:lnTo>
                      <a:pt x="916" y="315"/>
                    </a:lnTo>
                    <a:lnTo>
                      <a:pt x="919" y="312"/>
                    </a:lnTo>
                    <a:lnTo>
                      <a:pt x="921" y="311"/>
                    </a:lnTo>
                    <a:lnTo>
                      <a:pt x="924" y="308"/>
                    </a:lnTo>
                    <a:lnTo>
                      <a:pt x="925" y="305"/>
                    </a:lnTo>
                    <a:lnTo>
                      <a:pt x="926" y="301"/>
                    </a:lnTo>
                    <a:lnTo>
                      <a:pt x="926" y="294"/>
                    </a:lnTo>
                    <a:lnTo>
                      <a:pt x="925" y="292"/>
                    </a:lnTo>
                    <a:lnTo>
                      <a:pt x="924" y="289"/>
                    </a:lnTo>
                    <a:lnTo>
                      <a:pt x="921" y="287"/>
                    </a:lnTo>
                    <a:lnTo>
                      <a:pt x="919" y="286"/>
                    </a:lnTo>
                    <a:lnTo>
                      <a:pt x="916" y="283"/>
                    </a:lnTo>
                    <a:lnTo>
                      <a:pt x="914" y="282"/>
                    </a:lnTo>
                    <a:lnTo>
                      <a:pt x="911" y="281"/>
                    </a:lnTo>
                    <a:lnTo>
                      <a:pt x="908" y="281"/>
                    </a:lnTo>
                    <a:lnTo>
                      <a:pt x="880" y="281"/>
                    </a:lnTo>
                    <a:lnTo>
                      <a:pt x="879" y="281"/>
                    </a:lnTo>
                    <a:lnTo>
                      <a:pt x="877" y="281"/>
                    </a:lnTo>
                    <a:lnTo>
                      <a:pt x="875" y="282"/>
                    </a:lnTo>
                    <a:lnTo>
                      <a:pt x="874" y="283"/>
                    </a:lnTo>
                    <a:lnTo>
                      <a:pt x="872" y="284"/>
                    </a:lnTo>
                    <a:lnTo>
                      <a:pt x="871" y="287"/>
                    </a:lnTo>
                    <a:lnTo>
                      <a:pt x="871" y="288"/>
                    </a:lnTo>
                    <a:lnTo>
                      <a:pt x="871" y="289"/>
                    </a:lnTo>
                    <a:lnTo>
                      <a:pt x="871" y="308"/>
                    </a:lnTo>
                    <a:lnTo>
                      <a:pt x="871" y="308"/>
                    </a:lnTo>
                    <a:close/>
                    <a:moveTo>
                      <a:pt x="1121" y="130"/>
                    </a:moveTo>
                    <a:lnTo>
                      <a:pt x="1117" y="130"/>
                    </a:lnTo>
                    <a:lnTo>
                      <a:pt x="1114" y="132"/>
                    </a:lnTo>
                    <a:lnTo>
                      <a:pt x="1112" y="133"/>
                    </a:lnTo>
                    <a:lnTo>
                      <a:pt x="1109" y="135"/>
                    </a:lnTo>
                    <a:lnTo>
                      <a:pt x="1107" y="138"/>
                    </a:lnTo>
                    <a:lnTo>
                      <a:pt x="1106" y="140"/>
                    </a:lnTo>
                    <a:lnTo>
                      <a:pt x="1104" y="143"/>
                    </a:lnTo>
                    <a:lnTo>
                      <a:pt x="1104" y="147"/>
                    </a:lnTo>
                    <a:lnTo>
                      <a:pt x="1104" y="149"/>
                    </a:lnTo>
                    <a:lnTo>
                      <a:pt x="1106" y="153"/>
                    </a:lnTo>
                    <a:lnTo>
                      <a:pt x="1107" y="156"/>
                    </a:lnTo>
                    <a:lnTo>
                      <a:pt x="1109" y="158"/>
                    </a:lnTo>
                    <a:lnTo>
                      <a:pt x="1112" y="159"/>
                    </a:lnTo>
                    <a:lnTo>
                      <a:pt x="1114" y="161"/>
                    </a:lnTo>
                    <a:lnTo>
                      <a:pt x="1117" y="162"/>
                    </a:lnTo>
                    <a:lnTo>
                      <a:pt x="1121" y="162"/>
                    </a:lnTo>
                    <a:lnTo>
                      <a:pt x="1124" y="162"/>
                    </a:lnTo>
                    <a:lnTo>
                      <a:pt x="1127" y="161"/>
                    </a:lnTo>
                    <a:lnTo>
                      <a:pt x="1129" y="159"/>
                    </a:lnTo>
                    <a:lnTo>
                      <a:pt x="1132" y="158"/>
                    </a:lnTo>
                    <a:lnTo>
                      <a:pt x="1133" y="156"/>
                    </a:lnTo>
                    <a:lnTo>
                      <a:pt x="1136" y="153"/>
                    </a:lnTo>
                    <a:lnTo>
                      <a:pt x="1136" y="149"/>
                    </a:lnTo>
                    <a:lnTo>
                      <a:pt x="1137" y="147"/>
                    </a:lnTo>
                    <a:lnTo>
                      <a:pt x="1136" y="143"/>
                    </a:lnTo>
                    <a:lnTo>
                      <a:pt x="1136" y="140"/>
                    </a:lnTo>
                    <a:lnTo>
                      <a:pt x="1133" y="138"/>
                    </a:lnTo>
                    <a:lnTo>
                      <a:pt x="1132" y="135"/>
                    </a:lnTo>
                    <a:lnTo>
                      <a:pt x="1129" y="133"/>
                    </a:lnTo>
                    <a:lnTo>
                      <a:pt x="1127" y="132"/>
                    </a:lnTo>
                    <a:lnTo>
                      <a:pt x="1124" y="130"/>
                    </a:lnTo>
                    <a:lnTo>
                      <a:pt x="1121" y="130"/>
                    </a:lnTo>
                    <a:lnTo>
                      <a:pt x="1121" y="130"/>
                    </a:lnTo>
                    <a:close/>
                    <a:moveTo>
                      <a:pt x="1471" y="130"/>
                    </a:moveTo>
                    <a:lnTo>
                      <a:pt x="1468" y="130"/>
                    </a:lnTo>
                    <a:lnTo>
                      <a:pt x="1465" y="132"/>
                    </a:lnTo>
                    <a:lnTo>
                      <a:pt x="1463" y="133"/>
                    </a:lnTo>
                    <a:lnTo>
                      <a:pt x="1460" y="135"/>
                    </a:lnTo>
                    <a:lnTo>
                      <a:pt x="1458" y="138"/>
                    </a:lnTo>
                    <a:lnTo>
                      <a:pt x="1456" y="140"/>
                    </a:lnTo>
                    <a:lnTo>
                      <a:pt x="1456" y="143"/>
                    </a:lnTo>
                    <a:lnTo>
                      <a:pt x="1455" y="147"/>
                    </a:lnTo>
                    <a:lnTo>
                      <a:pt x="1456" y="149"/>
                    </a:lnTo>
                    <a:lnTo>
                      <a:pt x="1456" y="153"/>
                    </a:lnTo>
                    <a:lnTo>
                      <a:pt x="1458" y="156"/>
                    </a:lnTo>
                    <a:lnTo>
                      <a:pt x="1460" y="158"/>
                    </a:lnTo>
                    <a:lnTo>
                      <a:pt x="1463" y="159"/>
                    </a:lnTo>
                    <a:lnTo>
                      <a:pt x="1465" y="161"/>
                    </a:lnTo>
                    <a:lnTo>
                      <a:pt x="1468" y="162"/>
                    </a:lnTo>
                    <a:lnTo>
                      <a:pt x="1471" y="162"/>
                    </a:lnTo>
                    <a:lnTo>
                      <a:pt x="1474" y="162"/>
                    </a:lnTo>
                    <a:lnTo>
                      <a:pt x="1476" y="161"/>
                    </a:lnTo>
                    <a:lnTo>
                      <a:pt x="1479" y="159"/>
                    </a:lnTo>
                    <a:lnTo>
                      <a:pt x="1480" y="158"/>
                    </a:lnTo>
                    <a:lnTo>
                      <a:pt x="1483" y="156"/>
                    </a:lnTo>
                    <a:lnTo>
                      <a:pt x="1484" y="153"/>
                    </a:lnTo>
                    <a:lnTo>
                      <a:pt x="1485" y="149"/>
                    </a:lnTo>
                    <a:lnTo>
                      <a:pt x="1485" y="147"/>
                    </a:lnTo>
                    <a:lnTo>
                      <a:pt x="1485" y="143"/>
                    </a:lnTo>
                    <a:lnTo>
                      <a:pt x="1484" y="140"/>
                    </a:lnTo>
                    <a:lnTo>
                      <a:pt x="1483" y="138"/>
                    </a:lnTo>
                    <a:lnTo>
                      <a:pt x="1480" y="135"/>
                    </a:lnTo>
                    <a:lnTo>
                      <a:pt x="1479" y="133"/>
                    </a:lnTo>
                    <a:lnTo>
                      <a:pt x="1476" y="132"/>
                    </a:lnTo>
                    <a:lnTo>
                      <a:pt x="1474" y="130"/>
                    </a:lnTo>
                    <a:lnTo>
                      <a:pt x="1471" y="130"/>
                    </a:lnTo>
                    <a:lnTo>
                      <a:pt x="1471" y="130"/>
                    </a:lnTo>
                    <a:close/>
                    <a:moveTo>
                      <a:pt x="2112" y="135"/>
                    </a:moveTo>
                    <a:lnTo>
                      <a:pt x="2109" y="135"/>
                    </a:lnTo>
                    <a:lnTo>
                      <a:pt x="2105" y="137"/>
                    </a:lnTo>
                    <a:lnTo>
                      <a:pt x="2103" y="138"/>
                    </a:lnTo>
                    <a:lnTo>
                      <a:pt x="2100" y="139"/>
                    </a:lnTo>
                    <a:lnTo>
                      <a:pt x="2099" y="142"/>
                    </a:lnTo>
                    <a:lnTo>
                      <a:pt x="2098" y="144"/>
                    </a:lnTo>
                    <a:lnTo>
                      <a:pt x="2097" y="148"/>
                    </a:lnTo>
                    <a:lnTo>
                      <a:pt x="2097" y="150"/>
                    </a:lnTo>
                    <a:lnTo>
                      <a:pt x="2097" y="153"/>
                    </a:lnTo>
                    <a:lnTo>
                      <a:pt x="2098" y="156"/>
                    </a:lnTo>
                    <a:lnTo>
                      <a:pt x="2099" y="158"/>
                    </a:lnTo>
                    <a:lnTo>
                      <a:pt x="2100" y="161"/>
                    </a:lnTo>
                    <a:lnTo>
                      <a:pt x="2103" y="162"/>
                    </a:lnTo>
                    <a:lnTo>
                      <a:pt x="2105" y="163"/>
                    </a:lnTo>
                    <a:lnTo>
                      <a:pt x="2109" y="164"/>
                    </a:lnTo>
                    <a:lnTo>
                      <a:pt x="2112" y="164"/>
                    </a:lnTo>
                    <a:lnTo>
                      <a:pt x="2115" y="164"/>
                    </a:lnTo>
                    <a:lnTo>
                      <a:pt x="2118" y="163"/>
                    </a:lnTo>
                    <a:lnTo>
                      <a:pt x="2120" y="162"/>
                    </a:lnTo>
                    <a:lnTo>
                      <a:pt x="2123" y="161"/>
                    </a:lnTo>
                    <a:lnTo>
                      <a:pt x="2125" y="158"/>
                    </a:lnTo>
                    <a:lnTo>
                      <a:pt x="2127" y="156"/>
                    </a:lnTo>
                    <a:lnTo>
                      <a:pt x="2128" y="153"/>
                    </a:lnTo>
                    <a:lnTo>
                      <a:pt x="2128" y="150"/>
                    </a:lnTo>
                    <a:lnTo>
                      <a:pt x="2128" y="148"/>
                    </a:lnTo>
                    <a:lnTo>
                      <a:pt x="2127" y="144"/>
                    </a:lnTo>
                    <a:lnTo>
                      <a:pt x="2125" y="142"/>
                    </a:lnTo>
                    <a:lnTo>
                      <a:pt x="2123" y="139"/>
                    </a:lnTo>
                    <a:lnTo>
                      <a:pt x="2120" y="138"/>
                    </a:lnTo>
                    <a:lnTo>
                      <a:pt x="2118" y="137"/>
                    </a:lnTo>
                    <a:lnTo>
                      <a:pt x="2115" y="135"/>
                    </a:lnTo>
                    <a:lnTo>
                      <a:pt x="2112" y="135"/>
                    </a:lnTo>
                    <a:lnTo>
                      <a:pt x="2112" y="135"/>
                    </a:lnTo>
                    <a:close/>
                    <a:moveTo>
                      <a:pt x="2198" y="181"/>
                    </a:moveTo>
                    <a:lnTo>
                      <a:pt x="2198" y="182"/>
                    </a:lnTo>
                    <a:lnTo>
                      <a:pt x="2198" y="182"/>
                    </a:lnTo>
                    <a:lnTo>
                      <a:pt x="2201" y="185"/>
                    </a:lnTo>
                    <a:lnTo>
                      <a:pt x="2203" y="187"/>
                    </a:lnTo>
                    <a:lnTo>
                      <a:pt x="2204" y="187"/>
                    </a:lnTo>
                    <a:lnTo>
                      <a:pt x="2204" y="187"/>
                    </a:lnTo>
                    <a:lnTo>
                      <a:pt x="2207" y="187"/>
                    </a:lnTo>
                    <a:lnTo>
                      <a:pt x="2208" y="187"/>
                    </a:lnTo>
                    <a:lnTo>
                      <a:pt x="2211" y="185"/>
                    </a:lnTo>
                    <a:lnTo>
                      <a:pt x="2212" y="183"/>
                    </a:lnTo>
                    <a:lnTo>
                      <a:pt x="2213" y="182"/>
                    </a:lnTo>
                    <a:lnTo>
                      <a:pt x="2213" y="182"/>
                    </a:lnTo>
                    <a:lnTo>
                      <a:pt x="2214" y="181"/>
                    </a:lnTo>
                    <a:lnTo>
                      <a:pt x="2213" y="178"/>
                    </a:lnTo>
                    <a:lnTo>
                      <a:pt x="2213" y="177"/>
                    </a:lnTo>
                    <a:lnTo>
                      <a:pt x="2212" y="176"/>
                    </a:lnTo>
                    <a:lnTo>
                      <a:pt x="2211" y="176"/>
                    </a:lnTo>
                    <a:lnTo>
                      <a:pt x="2208" y="174"/>
                    </a:lnTo>
                    <a:lnTo>
                      <a:pt x="2204" y="173"/>
                    </a:lnTo>
                    <a:lnTo>
                      <a:pt x="2203" y="174"/>
                    </a:lnTo>
                    <a:lnTo>
                      <a:pt x="2201" y="176"/>
                    </a:lnTo>
                    <a:lnTo>
                      <a:pt x="2198" y="177"/>
                    </a:lnTo>
                    <a:lnTo>
                      <a:pt x="2198" y="178"/>
                    </a:lnTo>
                    <a:lnTo>
                      <a:pt x="2198" y="181"/>
                    </a:lnTo>
                    <a:lnTo>
                      <a:pt x="2198" y="181"/>
                    </a:lnTo>
                    <a:close/>
                    <a:moveTo>
                      <a:pt x="2237" y="181"/>
                    </a:moveTo>
                    <a:lnTo>
                      <a:pt x="2237" y="182"/>
                    </a:lnTo>
                    <a:lnTo>
                      <a:pt x="2237" y="182"/>
                    </a:lnTo>
                    <a:lnTo>
                      <a:pt x="2239" y="185"/>
                    </a:lnTo>
                    <a:lnTo>
                      <a:pt x="2241" y="187"/>
                    </a:lnTo>
                    <a:lnTo>
                      <a:pt x="2242" y="187"/>
                    </a:lnTo>
                    <a:lnTo>
                      <a:pt x="2243" y="187"/>
                    </a:lnTo>
                    <a:lnTo>
                      <a:pt x="2244" y="187"/>
                    </a:lnTo>
                    <a:lnTo>
                      <a:pt x="2246" y="187"/>
                    </a:lnTo>
                    <a:lnTo>
                      <a:pt x="2248" y="185"/>
                    </a:lnTo>
                    <a:lnTo>
                      <a:pt x="2249" y="182"/>
                    </a:lnTo>
                    <a:lnTo>
                      <a:pt x="2249" y="181"/>
                    </a:lnTo>
                    <a:lnTo>
                      <a:pt x="2249" y="177"/>
                    </a:lnTo>
                    <a:lnTo>
                      <a:pt x="2248" y="176"/>
                    </a:lnTo>
                    <a:lnTo>
                      <a:pt x="2246" y="174"/>
                    </a:lnTo>
                    <a:lnTo>
                      <a:pt x="2243" y="173"/>
                    </a:lnTo>
                    <a:lnTo>
                      <a:pt x="2241" y="174"/>
                    </a:lnTo>
                    <a:lnTo>
                      <a:pt x="2239" y="176"/>
                    </a:lnTo>
                    <a:lnTo>
                      <a:pt x="2237" y="177"/>
                    </a:lnTo>
                    <a:lnTo>
                      <a:pt x="2237" y="178"/>
                    </a:lnTo>
                    <a:lnTo>
                      <a:pt x="2237" y="181"/>
                    </a:lnTo>
                    <a:lnTo>
                      <a:pt x="2237" y="181"/>
                    </a:lnTo>
                    <a:close/>
                    <a:moveTo>
                      <a:pt x="2275" y="181"/>
                    </a:moveTo>
                    <a:lnTo>
                      <a:pt x="2275" y="182"/>
                    </a:lnTo>
                    <a:lnTo>
                      <a:pt x="2276" y="182"/>
                    </a:lnTo>
                    <a:lnTo>
                      <a:pt x="2277" y="185"/>
                    </a:lnTo>
                    <a:lnTo>
                      <a:pt x="2280" y="187"/>
                    </a:lnTo>
                    <a:lnTo>
                      <a:pt x="2281" y="187"/>
                    </a:lnTo>
                    <a:lnTo>
                      <a:pt x="2282" y="187"/>
                    </a:lnTo>
                    <a:lnTo>
                      <a:pt x="2283" y="187"/>
                    </a:lnTo>
                    <a:lnTo>
                      <a:pt x="2285" y="187"/>
                    </a:lnTo>
                    <a:lnTo>
                      <a:pt x="2287" y="185"/>
                    </a:lnTo>
                    <a:lnTo>
                      <a:pt x="2288" y="182"/>
                    </a:lnTo>
                    <a:lnTo>
                      <a:pt x="2288" y="181"/>
                    </a:lnTo>
                    <a:lnTo>
                      <a:pt x="2288" y="177"/>
                    </a:lnTo>
                    <a:lnTo>
                      <a:pt x="2287" y="176"/>
                    </a:lnTo>
                    <a:lnTo>
                      <a:pt x="2285" y="174"/>
                    </a:lnTo>
                    <a:lnTo>
                      <a:pt x="2282" y="173"/>
                    </a:lnTo>
                    <a:lnTo>
                      <a:pt x="2280" y="174"/>
                    </a:lnTo>
                    <a:lnTo>
                      <a:pt x="2277" y="176"/>
                    </a:lnTo>
                    <a:lnTo>
                      <a:pt x="2276" y="177"/>
                    </a:lnTo>
                    <a:lnTo>
                      <a:pt x="2275" y="178"/>
                    </a:lnTo>
                    <a:lnTo>
                      <a:pt x="2275" y="181"/>
                    </a:lnTo>
                    <a:lnTo>
                      <a:pt x="2275" y="181"/>
                    </a:lnTo>
                    <a:close/>
                    <a:moveTo>
                      <a:pt x="2313" y="181"/>
                    </a:moveTo>
                    <a:lnTo>
                      <a:pt x="2313" y="182"/>
                    </a:lnTo>
                    <a:lnTo>
                      <a:pt x="2315" y="185"/>
                    </a:lnTo>
                    <a:lnTo>
                      <a:pt x="2317" y="187"/>
                    </a:lnTo>
                    <a:lnTo>
                      <a:pt x="2318" y="187"/>
                    </a:lnTo>
                    <a:lnTo>
                      <a:pt x="2320" y="187"/>
                    </a:lnTo>
                    <a:lnTo>
                      <a:pt x="2322" y="187"/>
                    </a:lnTo>
                    <a:lnTo>
                      <a:pt x="2323" y="187"/>
                    </a:lnTo>
                    <a:lnTo>
                      <a:pt x="2325" y="185"/>
                    </a:lnTo>
                    <a:lnTo>
                      <a:pt x="2326" y="182"/>
                    </a:lnTo>
                    <a:lnTo>
                      <a:pt x="2327" y="181"/>
                    </a:lnTo>
                    <a:lnTo>
                      <a:pt x="2326" y="177"/>
                    </a:lnTo>
                    <a:lnTo>
                      <a:pt x="2325" y="176"/>
                    </a:lnTo>
                    <a:lnTo>
                      <a:pt x="2323" y="174"/>
                    </a:lnTo>
                    <a:lnTo>
                      <a:pt x="2320" y="173"/>
                    </a:lnTo>
                    <a:lnTo>
                      <a:pt x="2317" y="174"/>
                    </a:lnTo>
                    <a:lnTo>
                      <a:pt x="2315" y="176"/>
                    </a:lnTo>
                    <a:lnTo>
                      <a:pt x="2313" y="177"/>
                    </a:lnTo>
                    <a:lnTo>
                      <a:pt x="2313" y="181"/>
                    </a:lnTo>
                    <a:lnTo>
                      <a:pt x="2313" y="181"/>
                    </a:lnTo>
                    <a:close/>
                    <a:moveTo>
                      <a:pt x="2352" y="181"/>
                    </a:moveTo>
                    <a:lnTo>
                      <a:pt x="2352" y="182"/>
                    </a:lnTo>
                    <a:lnTo>
                      <a:pt x="2353" y="185"/>
                    </a:lnTo>
                    <a:lnTo>
                      <a:pt x="2356" y="187"/>
                    </a:lnTo>
                    <a:lnTo>
                      <a:pt x="2357" y="187"/>
                    </a:lnTo>
                    <a:lnTo>
                      <a:pt x="2358" y="187"/>
                    </a:lnTo>
                    <a:lnTo>
                      <a:pt x="2360" y="187"/>
                    </a:lnTo>
                    <a:lnTo>
                      <a:pt x="2362" y="187"/>
                    </a:lnTo>
                    <a:lnTo>
                      <a:pt x="2363" y="185"/>
                    </a:lnTo>
                    <a:lnTo>
                      <a:pt x="2365" y="182"/>
                    </a:lnTo>
                    <a:lnTo>
                      <a:pt x="2366" y="181"/>
                    </a:lnTo>
                    <a:lnTo>
                      <a:pt x="2365" y="177"/>
                    </a:lnTo>
                    <a:lnTo>
                      <a:pt x="2363" y="176"/>
                    </a:lnTo>
                    <a:lnTo>
                      <a:pt x="2362" y="174"/>
                    </a:lnTo>
                    <a:lnTo>
                      <a:pt x="2358" y="173"/>
                    </a:lnTo>
                    <a:lnTo>
                      <a:pt x="2356" y="174"/>
                    </a:lnTo>
                    <a:lnTo>
                      <a:pt x="2353" y="176"/>
                    </a:lnTo>
                    <a:lnTo>
                      <a:pt x="2352" y="177"/>
                    </a:lnTo>
                    <a:lnTo>
                      <a:pt x="2352" y="181"/>
                    </a:lnTo>
                    <a:lnTo>
                      <a:pt x="2352" y="181"/>
                    </a:lnTo>
                    <a:close/>
                    <a:moveTo>
                      <a:pt x="2218" y="150"/>
                    </a:moveTo>
                    <a:lnTo>
                      <a:pt x="2218" y="152"/>
                    </a:lnTo>
                    <a:lnTo>
                      <a:pt x="2219" y="153"/>
                    </a:lnTo>
                    <a:lnTo>
                      <a:pt x="2221" y="156"/>
                    </a:lnTo>
                    <a:lnTo>
                      <a:pt x="2223" y="157"/>
                    </a:lnTo>
                    <a:lnTo>
                      <a:pt x="2224" y="158"/>
                    </a:lnTo>
                    <a:lnTo>
                      <a:pt x="2226" y="158"/>
                    </a:lnTo>
                    <a:lnTo>
                      <a:pt x="2227" y="158"/>
                    </a:lnTo>
                    <a:lnTo>
                      <a:pt x="2228" y="157"/>
                    </a:lnTo>
                    <a:lnTo>
                      <a:pt x="2231" y="156"/>
                    </a:lnTo>
                    <a:lnTo>
                      <a:pt x="2232" y="153"/>
                    </a:lnTo>
                    <a:lnTo>
                      <a:pt x="2232" y="150"/>
                    </a:lnTo>
                    <a:lnTo>
                      <a:pt x="2232" y="148"/>
                    </a:lnTo>
                    <a:lnTo>
                      <a:pt x="2231" y="145"/>
                    </a:lnTo>
                    <a:lnTo>
                      <a:pt x="2228" y="144"/>
                    </a:lnTo>
                    <a:lnTo>
                      <a:pt x="2226" y="144"/>
                    </a:lnTo>
                    <a:lnTo>
                      <a:pt x="2223" y="144"/>
                    </a:lnTo>
                    <a:lnTo>
                      <a:pt x="2221" y="145"/>
                    </a:lnTo>
                    <a:lnTo>
                      <a:pt x="2219" y="148"/>
                    </a:lnTo>
                    <a:lnTo>
                      <a:pt x="2218" y="149"/>
                    </a:lnTo>
                    <a:lnTo>
                      <a:pt x="2218" y="150"/>
                    </a:lnTo>
                    <a:lnTo>
                      <a:pt x="2218" y="150"/>
                    </a:lnTo>
                    <a:close/>
                    <a:moveTo>
                      <a:pt x="2257" y="150"/>
                    </a:moveTo>
                    <a:lnTo>
                      <a:pt x="2257" y="152"/>
                    </a:lnTo>
                    <a:lnTo>
                      <a:pt x="2257" y="153"/>
                    </a:lnTo>
                    <a:lnTo>
                      <a:pt x="2259" y="156"/>
                    </a:lnTo>
                    <a:lnTo>
                      <a:pt x="2262" y="157"/>
                    </a:lnTo>
                    <a:lnTo>
                      <a:pt x="2262" y="158"/>
                    </a:lnTo>
                    <a:lnTo>
                      <a:pt x="2263" y="158"/>
                    </a:lnTo>
                    <a:lnTo>
                      <a:pt x="2266" y="158"/>
                    </a:lnTo>
                    <a:lnTo>
                      <a:pt x="2267" y="157"/>
                    </a:lnTo>
                    <a:lnTo>
                      <a:pt x="2268" y="156"/>
                    </a:lnTo>
                    <a:lnTo>
                      <a:pt x="2270" y="153"/>
                    </a:lnTo>
                    <a:lnTo>
                      <a:pt x="2271" y="150"/>
                    </a:lnTo>
                    <a:lnTo>
                      <a:pt x="2270" y="148"/>
                    </a:lnTo>
                    <a:lnTo>
                      <a:pt x="2268" y="145"/>
                    </a:lnTo>
                    <a:lnTo>
                      <a:pt x="2267" y="144"/>
                    </a:lnTo>
                    <a:lnTo>
                      <a:pt x="2263" y="144"/>
                    </a:lnTo>
                    <a:lnTo>
                      <a:pt x="2262" y="144"/>
                    </a:lnTo>
                    <a:lnTo>
                      <a:pt x="2259" y="145"/>
                    </a:lnTo>
                    <a:lnTo>
                      <a:pt x="2257" y="148"/>
                    </a:lnTo>
                    <a:lnTo>
                      <a:pt x="2257" y="149"/>
                    </a:lnTo>
                    <a:lnTo>
                      <a:pt x="2257" y="150"/>
                    </a:lnTo>
                    <a:lnTo>
                      <a:pt x="2257" y="150"/>
                    </a:lnTo>
                    <a:close/>
                    <a:moveTo>
                      <a:pt x="2296" y="150"/>
                    </a:moveTo>
                    <a:lnTo>
                      <a:pt x="2296" y="153"/>
                    </a:lnTo>
                    <a:lnTo>
                      <a:pt x="2297" y="156"/>
                    </a:lnTo>
                    <a:lnTo>
                      <a:pt x="2300" y="157"/>
                    </a:lnTo>
                    <a:lnTo>
                      <a:pt x="2301" y="158"/>
                    </a:lnTo>
                    <a:lnTo>
                      <a:pt x="2302" y="158"/>
                    </a:lnTo>
                    <a:lnTo>
                      <a:pt x="2303" y="158"/>
                    </a:lnTo>
                    <a:lnTo>
                      <a:pt x="2305" y="157"/>
                    </a:lnTo>
                    <a:lnTo>
                      <a:pt x="2307" y="156"/>
                    </a:lnTo>
                    <a:lnTo>
                      <a:pt x="2308" y="153"/>
                    </a:lnTo>
                    <a:lnTo>
                      <a:pt x="2308" y="150"/>
                    </a:lnTo>
                    <a:lnTo>
                      <a:pt x="2308" y="148"/>
                    </a:lnTo>
                    <a:lnTo>
                      <a:pt x="2307" y="145"/>
                    </a:lnTo>
                    <a:lnTo>
                      <a:pt x="2305" y="144"/>
                    </a:lnTo>
                    <a:lnTo>
                      <a:pt x="2302" y="144"/>
                    </a:lnTo>
                    <a:lnTo>
                      <a:pt x="2300" y="144"/>
                    </a:lnTo>
                    <a:lnTo>
                      <a:pt x="2297" y="145"/>
                    </a:lnTo>
                    <a:lnTo>
                      <a:pt x="2296" y="148"/>
                    </a:lnTo>
                    <a:lnTo>
                      <a:pt x="2296" y="150"/>
                    </a:lnTo>
                    <a:lnTo>
                      <a:pt x="2296" y="150"/>
                    </a:lnTo>
                    <a:close/>
                    <a:moveTo>
                      <a:pt x="2333" y="150"/>
                    </a:moveTo>
                    <a:lnTo>
                      <a:pt x="2335" y="153"/>
                    </a:lnTo>
                    <a:lnTo>
                      <a:pt x="2336" y="156"/>
                    </a:lnTo>
                    <a:lnTo>
                      <a:pt x="2337" y="157"/>
                    </a:lnTo>
                    <a:lnTo>
                      <a:pt x="2338" y="158"/>
                    </a:lnTo>
                    <a:lnTo>
                      <a:pt x="2341" y="158"/>
                    </a:lnTo>
                    <a:lnTo>
                      <a:pt x="2342" y="158"/>
                    </a:lnTo>
                    <a:lnTo>
                      <a:pt x="2343" y="157"/>
                    </a:lnTo>
                    <a:lnTo>
                      <a:pt x="2346" y="156"/>
                    </a:lnTo>
                    <a:lnTo>
                      <a:pt x="2347" y="153"/>
                    </a:lnTo>
                    <a:lnTo>
                      <a:pt x="2347" y="150"/>
                    </a:lnTo>
                    <a:lnTo>
                      <a:pt x="2347" y="148"/>
                    </a:lnTo>
                    <a:lnTo>
                      <a:pt x="2346" y="145"/>
                    </a:lnTo>
                    <a:lnTo>
                      <a:pt x="2343" y="144"/>
                    </a:lnTo>
                    <a:lnTo>
                      <a:pt x="2341" y="144"/>
                    </a:lnTo>
                    <a:lnTo>
                      <a:pt x="2337" y="144"/>
                    </a:lnTo>
                    <a:lnTo>
                      <a:pt x="2336" y="145"/>
                    </a:lnTo>
                    <a:lnTo>
                      <a:pt x="2335" y="148"/>
                    </a:lnTo>
                    <a:lnTo>
                      <a:pt x="2333" y="150"/>
                    </a:lnTo>
                    <a:lnTo>
                      <a:pt x="2333" y="150"/>
                    </a:lnTo>
                    <a:close/>
                    <a:moveTo>
                      <a:pt x="2372" y="150"/>
                    </a:moveTo>
                    <a:lnTo>
                      <a:pt x="2372" y="153"/>
                    </a:lnTo>
                    <a:lnTo>
                      <a:pt x="2373" y="156"/>
                    </a:lnTo>
                    <a:lnTo>
                      <a:pt x="2376" y="157"/>
                    </a:lnTo>
                    <a:lnTo>
                      <a:pt x="2377" y="158"/>
                    </a:lnTo>
                    <a:lnTo>
                      <a:pt x="2379" y="158"/>
                    </a:lnTo>
                    <a:lnTo>
                      <a:pt x="2380" y="158"/>
                    </a:lnTo>
                    <a:lnTo>
                      <a:pt x="2381" y="157"/>
                    </a:lnTo>
                    <a:lnTo>
                      <a:pt x="2384" y="156"/>
                    </a:lnTo>
                    <a:lnTo>
                      <a:pt x="2385" y="153"/>
                    </a:lnTo>
                    <a:lnTo>
                      <a:pt x="2386" y="152"/>
                    </a:lnTo>
                    <a:lnTo>
                      <a:pt x="2386" y="150"/>
                    </a:lnTo>
                    <a:lnTo>
                      <a:pt x="2386" y="149"/>
                    </a:lnTo>
                    <a:lnTo>
                      <a:pt x="2385" y="148"/>
                    </a:lnTo>
                    <a:lnTo>
                      <a:pt x="2384" y="145"/>
                    </a:lnTo>
                    <a:lnTo>
                      <a:pt x="2381" y="144"/>
                    </a:lnTo>
                    <a:lnTo>
                      <a:pt x="2379" y="144"/>
                    </a:lnTo>
                    <a:lnTo>
                      <a:pt x="2376" y="144"/>
                    </a:lnTo>
                    <a:lnTo>
                      <a:pt x="2373" y="145"/>
                    </a:lnTo>
                    <a:lnTo>
                      <a:pt x="2372" y="148"/>
                    </a:lnTo>
                    <a:lnTo>
                      <a:pt x="2372" y="150"/>
                    </a:lnTo>
                    <a:lnTo>
                      <a:pt x="2372" y="150"/>
                    </a:lnTo>
                    <a:close/>
                    <a:moveTo>
                      <a:pt x="2198" y="119"/>
                    </a:moveTo>
                    <a:lnTo>
                      <a:pt x="2198" y="120"/>
                    </a:lnTo>
                    <a:lnTo>
                      <a:pt x="2198" y="121"/>
                    </a:lnTo>
                    <a:lnTo>
                      <a:pt x="2201" y="124"/>
                    </a:lnTo>
                    <a:lnTo>
                      <a:pt x="2203" y="125"/>
                    </a:lnTo>
                    <a:lnTo>
                      <a:pt x="2204" y="125"/>
                    </a:lnTo>
                    <a:lnTo>
                      <a:pt x="2208" y="125"/>
                    </a:lnTo>
                    <a:lnTo>
                      <a:pt x="2211" y="124"/>
                    </a:lnTo>
                    <a:lnTo>
                      <a:pt x="2212" y="123"/>
                    </a:lnTo>
                    <a:lnTo>
                      <a:pt x="2213" y="121"/>
                    </a:lnTo>
                    <a:lnTo>
                      <a:pt x="2213" y="120"/>
                    </a:lnTo>
                    <a:lnTo>
                      <a:pt x="2214" y="119"/>
                    </a:lnTo>
                    <a:lnTo>
                      <a:pt x="2213" y="118"/>
                    </a:lnTo>
                    <a:lnTo>
                      <a:pt x="2213" y="116"/>
                    </a:lnTo>
                    <a:lnTo>
                      <a:pt x="2212" y="116"/>
                    </a:lnTo>
                    <a:lnTo>
                      <a:pt x="2211" y="115"/>
                    </a:lnTo>
                    <a:lnTo>
                      <a:pt x="2208" y="113"/>
                    </a:lnTo>
                    <a:lnTo>
                      <a:pt x="2207" y="113"/>
                    </a:lnTo>
                    <a:lnTo>
                      <a:pt x="2204" y="113"/>
                    </a:lnTo>
                    <a:lnTo>
                      <a:pt x="2204" y="113"/>
                    </a:lnTo>
                    <a:lnTo>
                      <a:pt x="2203" y="113"/>
                    </a:lnTo>
                    <a:lnTo>
                      <a:pt x="2201" y="115"/>
                    </a:lnTo>
                    <a:lnTo>
                      <a:pt x="2198" y="116"/>
                    </a:lnTo>
                    <a:lnTo>
                      <a:pt x="2198" y="118"/>
                    </a:lnTo>
                    <a:lnTo>
                      <a:pt x="2198" y="119"/>
                    </a:lnTo>
                    <a:lnTo>
                      <a:pt x="2198" y="119"/>
                    </a:lnTo>
                    <a:close/>
                    <a:moveTo>
                      <a:pt x="2237" y="119"/>
                    </a:moveTo>
                    <a:lnTo>
                      <a:pt x="2237" y="120"/>
                    </a:lnTo>
                    <a:lnTo>
                      <a:pt x="2237" y="121"/>
                    </a:lnTo>
                    <a:lnTo>
                      <a:pt x="2239" y="124"/>
                    </a:lnTo>
                    <a:lnTo>
                      <a:pt x="2241" y="125"/>
                    </a:lnTo>
                    <a:lnTo>
                      <a:pt x="2243" y="125"/>
                    </a:lnTo>
                    <a:lnTo>
                      <a:pt x="2246" y="125"/>
                    </a:lnTo>
                    <a:lnTo>
                      <a:pt x="2248" y="124"/>
                    </a:lnTo>
                    <a:lnTo>
                      <a:pt x="2249" y="121"/>
                    </a:lnTo>
                    <a:lnTo>
                      <a:pt x="2249" y="119"/>
                    </a:lnTo>
                    <a:lnTo>
                      <a:pt x="2249" y="116"/>
                    </a:lnTo>
                    <a:lnTo>
                      <a:pt x="2248" y="115"/>
                    </a:lnTo>
                    <a:lnTo>
                      <a:pt x="2246" y="113"/>
                    </a:lnTo>
                    <a:lnTo>
                      <a:pt x="2244" y="113"/>
                    </a:lnTo>
                    <a:lnTo>
                      <a:pt x="2243" y="113"/>
                    </a:lnTo>
                    <a:lnTo>
                      <a:pt x="2242" y="113"/>
                    </a:lnTo>
                    <a:lnTo>
                      <a:pt x="2241" y="113"/>
                    </a:lnTo>
                    <a:lnTo>
                      <a:pt x="2239" y="115"/>
                    </a:lnTo>
                    <a:lnTo>
                      <a:pt x="2237" y="116"/>
                    </a:lnTo>
                    <a:lnTo>
                      <a:pt x="2237" y="118"/>
                    </a:lnTo>
                    <a:lnTo>
                      <a:pt x="2237" y="119"/>
                    </a:lnTo>
                    <a:lnTo>
                      <a:pt x="2237" y="119"/>
                    </a:lnTo>
                    <a:close/>
                    <a:moveTo>
                      <a:pt x="2275" y="119"/>
                    </a:moveTo>
                    <a:lnTo>
                      <a:pt x="2275" y="120"/>
                    </a:lnTo>
                    <a:lnTo>
                      <a:pt x="2276" y="121"/>
                    </a:lnTo>
                    <a:lnTo>
                      <a:pt x="2277" y="124"/>
                    </a:lnTo>
                    <a:lnTo>
                      <a:pt x="2280" y="125"/>
                    </a:lnTo>
                    <a:lnTo>
                      <a:pt x="2282" y="125"/>
                    </a:lnTo>
                    <a:lnTo>
                      <a:pt x="2285" y="125"/>
                    </a:lnTo>
                    <a:lnTo>
                      <a:pt x="2287" y="124"/>
                    </a:lnTo>
                    <a:lnTo>
                      <a:pt x="2288" y="121"/>
                    </a:lnTo>
                    <a:lnTo>
                      <a:pt x="2288" y="119"/>
                    </a:lnTo>
                    <a:lnTo>
                      <a:pt x="2288" y="116"/>
                    </a:lnTo>
                    <a:lnTo>
                      <a:pt x="2287" y="115"/>
                    </a:lnTo>
                    <a:lnTo>
                      <a:pt x="2285" y="113"/>
                    </a:lnTo>
                    <a:lnTo>
                      <a:pt x="2283" y="113"/>
                    </a:lnTo>
                    <a:lnTo>
                      <a:pt x="2282" y="113"/>
                    </a:lnTo>
                    <a:lnTo>
                      <a:pt x="2281" y="113"/>
                    </a:lnTo>
                    <a:lnTo>
                      <a:pt x="2280" y="113"/>
                    </a:lnTo>
                    <a:lnTo>
                      <a:pt x="2277" y="115"/>
                    </a:lnTo>
                    <a:lnTo>
                      <a:pt x="2276" y="116"/>
                    </a:lnTo>
                    <a:lnTo>
                      <a:pt x="2275" y="118"/>
                    </a:lnTo>
                    <a:lnTo>
                      <a:pt x="2275" y="119"/>
                    </a:lnTo>
                    <a:lnTo>
                      <a:pt x="2275" y="119"/>
                    </a:lnTo>
                    <a:close/>
                    <a:moveTo>
                      <a:pt x="2313" y="119"/>
                    </a:moveTo>
                    <a:lnTo>
                      <a:pt x="2313" y="121"/>
                    </a:lnTo>
                    <a:lnTo>
                      <a:pt x="2315" y="124"/>
                    </a:lnTo>
                    <a:lnTo>
                      <a:pt x="2317" y="125"/>
                    </a:lnTo>
                    <a:lnTo>
                      <a:pt x="2320" y="125"/>
                    </a:lnTo>
                    <a:lnTo>
                      <a:pt x="2323" y="125"/>
                    </a:lnTo>
                    <a:lnTo>
                      <a:pt x="2325" y="124"/>
                    </a:lnTo>
                    <a:lnTo>
                      <a:pt x="2326" y="121"/>
                    </a:lnTo>
                    <a:lnTo>
                      <a:pt x="2327" y="119"/>
                    </a:lnTo>
                    <a:lnTo>
                      <a:pt x="2326" y="116"/>
                    </a:lnTo>
                    <a:lnTo>
                      <a:pt x="2325" y="115"/>
                    </a:lnTo>
                    <a:lnTo>
                      <a:pt x="2323" y="113"/>
                    </a:lnTo>
                    <a:lnTo>
                      <a:pt x="2322" y="113"/>
                    </a:lnTo>
                    <a:lnTo>
                      <a:pt x="2320" y="113"/>
                    </a:lnTo>
                    <a:lnTo>
                      <a:pt x="2318" y="113"/>
                    </a:lnTo>
                    <a:lnTo>
                      <a:pt x="2317" y="113"/>
                    </a:lnTo>
                    <a:lnTo>
                      <a:pt x="2315" y="115"/>
                    </a:lnTo>
                    <a:lnTo>
                      <a:pt x="2313" y="116"/>
                    </a:lnTo>
                    <a:lnTo>
                      <a:pt x="2313" y="119"/>
                    </a:lnTo>
                    <a:lnTo>
                      <a:pt x="2313" y="119"/>
                    </a:lnTo>
                    <a:close/>
                    <a:moveTo>
                      <a:pt x="2352" y="119"/>
                    </a:moveTo>
                    <a:lnTo>
                      <a:pt x="2352" y="121"/>
                    </a:lnTo>
                    <a:lnTo>
                      <a:pt x="2353" y="124"/>
                    </a:lnTo>
                    <a:lnTo>
                      <a:pt x="2356" y="125"/>
                    </a:lnTo>
                    <a:lnTo>
                      <a:pt x="2358" y="125"/>
                    </a:lnTo>
                    <a:lnTo>
                      <a:pt x="2362" y="125"/>
                    </a:lnTo>
                    <a:lnTo>
                      <a:pt x="2363" y="124"/>
                    </a:lnTo>
                    <a:lnTo>
                      <a:pt x="2365" y="121"/>
                    </a:lnTo>
                    <a:lnTo>
                      <a:pt x="2366" y="119"/>
                    </a:lnTo>
                    <a:lnTo>
                      <a:pt x="2365" y="116"/>
                    </a:lnTo>
                    <a:lnTo>
                      <a:pt x="2363" y="115"/>
                    </a:lnTo>
                    <a:lnTo>
                      <a:pt x="2362" y="113"/>
                    </a:lnTo>
                    <a:lnTo>
                      <a:pt x="2360" y="113"/>
                    </a:lnTo>
                    <a:lnTo>
                      <a:pt x="2358" y="113"/>
                    </a:lnTo>
                    <a:lnTo>
                      <a:pt x="2357" y="113"/>
                    </a:lnTo>
                    <a:lnTo>
                      <a:pt x="2356" y="113"/>
                    </a:lnTo>
                    <a:lnTo>
                      <a:pt x="2353" y="115"/>
                    </a:lnTo>
                    <a:lnTo>
                      <a:pt x="2352" y="116"/>
                    </a:lnTo>
                    <a:lnTo>
                      <a:pt x="2352" y="119"/>
                    </a:lnTo>
                    <a:lnTo>
                      <a:pt x="2352" y="119"/>
                    </a:lnTo>
                    <a:close/>
                    <a:moveTo>
                      <a:pt x="2460" y="135"/>
                    </a:moveTo>
                    <a:lnTo>
                      <a:pt x="2457" y="135"/>
                    </a:lnTo>
                    <a:lnTo>
                      <a:pt x="2455" y="137"/>
                    </a:lnTo>
                    <a:lnTo>
                      <a:pt x="2454" y="138"/>
                    </a:lnTo>
                    <a:lnTo>
                      <a:pt x="2451" y="139"/>
                    </a:lnTo>
                    <a:lnTo>
                      <a:pt x="2450" y="142"/>
                    </a:lnTo>
                    <a:lnTo>
                      <a:pt x="2449" y="144"/>
                    </a:lnTo>
                    <a:lnTo>
                      <a:pt x="2447" y="148"/>
                    </a:lnTo>
                    <a:lnTo>
                      <a:pt x="2447" y="150"/>
                    </a:lnTo>
                    <a:lnTo>
                      <a:pt x="2447" y="153"/>
                    </a:lnTo>
                    <a:lnTo>
                      <a:pt x="2449" y="156"/>
                    </a:lnTo>
                    <a:lnTo>
                      <a:pt x="2450" y="158"/>
                    </a:lnTo>
                    <a:lnTo>
                      <a:pt x="2451" y="161"/>
                    </a:lnTo>
                    <a:lnTo>
                      <a:pt x="2454" y="162"/>
                    </a:lnTo>
                    <a:lnTo>
                      <a:pt x="2455" y="163"/>
                    </a:lnTo>
                    <a:lnTo>
                      <a:pt x="2457" y="164"/>
                    </a:lnTo>
                    <a:lnTo>
                      <a:pt x="2460" y="164"/>
                    </a:lnTo>
                    <a:lnTo>
                      <a:pt x="2464" y="164"/>
                    </a:lnTo>
                    <a:lnTo>
                      <a:pt x="2466" y="163"/>
                    </a:lnTo>
                    <a:lnTo>
                      <a:pt x="2470" y="162"/>
                    </a:lnTo>
                    <a:lnTo>
                      <a:pt x="2471" y="161"/>
                    </a:lnTo>
                    <a:lnTo>
                      <a:pt x="2474" y="158"/>
                    </a:lnTo>
                    <a:lnTo>
                      <a:pt x="2475" y="156"/>
                    </a:lnTo>
                    <a:lnTo>
                      <a:pt x="2476" y="153"/>
                    </a:lnTo>
                    <a:lnTo>
                      <a:pt x="2476" y="150"/>
                    </a:lnTo>
                    <a:lnTo>
                      <a:pt x="2476" y="148"/>
                    </a:lnTo>
                    <a:lnTo>
                      <a:pt x="2475" y="144"/>
                    </a:lnTo>
                    <a:lnTo>
                      <a:pt x="2474" y="142"/>
                    </a:lnTo>
                    <a:lnTo>
                      <a:pt x="2471" y="139"/>
                    </a:lnTo>
                    <a:lnTo>
                      <a:pt x="2470" y="138"/>
                    </a:lnTo>
                    <a:lnTo>
                      <a:pt x="2466" y="137"/>
                    </a:lnTo>
                    <a:lnTo>
                      <a:pt x="2464" y="135"/>
                    </a:lnTo>
                    <a:lnTo>
                      <a:pt x="2460" y="135"/>
                    </a:lnTo>
                    <a:lnTo>
                      <a:pt x="246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7" name=""/>
              <p:cNvSpPr/>
              <p:nvPr/>
            </p:nvSpPr>
            <p:spPr>
              <a:xfrm>
                <a:off x="7916400" y="2870280"/>
                <a:ext cx="281880" cy="47520"/>
              </a:xfrm>
              <a:custGeom>
                <a:avLst/>
                <a:gdLst/>
                <a:ahLst/>
                <a:rect l="l" t="t" r="r" b="b"/>
                <a:pathLst>
                  <a:path w="396" h="62">
                    <a:moveTo>
                      <a:pt x="60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60" y="62"/>
                    </a:lnTo>
                    <a:lnTo>
                      <a:pt x="160" y="61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8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  <a:moveTo>
                      <a:pt x="293" y="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4" y="1"/>
                    </a:lnTo>
                    <a:lnTo>
                      <a:pt x="233" y="3"/>
                    </a:lnTo>
                    <a:lnTo>
                      <a:pt x="233" y="5"/>
                    </a:lnTo>
                    <a:lnTo>
                      <a:pt x="233" y="5"/>
                    </a:lnTo>
                    <a:lnTo>
                      <a:pt x="233" y="59"/>
                    </a:lnTo>
                    <a:lnTo>
                      <a:pt x="233" y="61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391" y="62"/>
                    </a:lnTo>
                    <a:lnTo>
                      <a:pt x="392" y="62"/>
                    </a:lnTo>
                    <a:lnTo>
                      <a:pt x="394" y="62"/>
                    </a:lnTo>
                    <a:lnTo>
                      <a:pt x="394" y="61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"/>
                    </a:lnTo>
                    <a:lnTo>
                      <a:pt x="394" y="3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8" name=""/>
              <p:cNvSpPr/>
              <p:nvPr/>
            </p:nvSpPr>
            <p:spPr>
              <a:xfrm>
                <a:off x="7922520" y="2879640"/>
                <a:ext cx="267120" cy="11880"/>
              </a:xfrm>
              <a:custGeom>
                <a:avLst/>
                <a:gdLst/>
                <a:ahLst/>
                <a:rect l="l" t="t" r="r" b="b"/>
                <a:pathLst>
                  <a:path w="376" h="17">
                    <a:moveTo>
                      <a:pt x="143" y="17"/>
                    </a:moveTo>
                    <a:lnTo>
                      <a:pt x="14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3" y="17"/>
                    </a:lnTo>
                    <a:close/>
                    <a:moveTo>
                      <a:pt x="376" y="17"/>
                    </a:moveTo>
                    <a:lnTo>
                      <a:pt x="376" y="0"/>
                    </a:lnTo>
                    <a:lnTo>
                      <a:pt x="236" y="0"/>
                    </a:lnTo>
                    <a:lnTo>
                      <a:pt x="236" y="17"/>
                    </a:lnTo>
                    <a:lnTo>
                      <a:pt x="376" y="17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9" name=""/>
              <p:cNvSpPr/>
              <p:nvPr/>
            </p:nvSpPr>
            <p:spPr>
              <a:xfrm>
                <a:off x="7922520" y="2879640"/>
                <a:ext cx="102240" cy="1188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0" name=""/>
              <p:cNvSpPr/>
              <p:nvPr/>
            </p:nvSpPr>
            <p:spPr>
              <a:xfrm>
                <a:off x="8089920" y="2879640"/>
                <a:ext cx="99720" cy="1188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1" name=""/>
              <p:cNvSpPr/>
              <p:nvPr/>
            </p:nvSpPr>
            <p:spPr>
              <a:xfrm>
                <a:off x="6588000" y="2692800"/>
                <a:ext cx="2121480" cy="262800"/>
              </a:xfrm>
              <a:custGeom>
                <a:avLst/>
                <a:gdLst/>
                <a:ahLst/>
                <a:rect l="l" t="t" r="r" b="b"/>
                <a:pathLst>
                  <a:path w="2983" h="337">
                    <a:moveTo>
                      <a:pt x="2974" y="259"/>
                    </a:moveTo>
                    <a:lnTo>
                      <a:pt x="2983" y="259"/>
                    </a:lnTo>
                    <a:lnTo>
                      <a:pt x="2983" y="221"/>
                    </a:lnTo>
                    <a:lnTo>
                      <a:pt x="2947" y="221"/>
                    </a:lnTo>
                    <a:lnTo>
                      <a:pt x="2947" y="195"/>
                    </a:lnTo>
                    <a:lnTo>
                      <a:pt x="2931" y="195"/>
                    </a:lnTo>
                    <a:lnTo>
                      <a:pt x="2931" y="184"/>
                    </a:lnTo>
                    <a:lnTo>
                      <a:pt x="2870" y="184"/>
                    </a:lnTo>
                    <a:lnTo>
                      <a:pt x="2870" y="195"/>
                    </a:lnTo>
                    <a:lnTo>
                      <a:pt x="2854" y="195"/>
                    </a:lnTo>
                    <a:lnTo>
                      <a:pt x="2854" y="221"/>
                    </a:lnTo>
                    <a:lnTo>
                      <a:pt x="2817" y="221"/>
                    </a:lnTo>
                    <a:lnTo>
                      <a:pt x="2817" y="259"/>
                    </a:lnTo>
                    <a:lnTo>
                      <a:pt x="2827" y="259"/>
                    </a:lnTo>
                    <a:lnTo>
                      <a:pt x="2827" y="284"/>
                    </a:lnTo>
                    <a:lnTo>
                      <a:pt x="2817" y="284"/>
                    </a:lnTo>
                    <a:lnTo>
                      <a:pt x="2817" y="323"/>
                    </a:lnTo>
                    <a:lnTo>
                      <a:pt x="2983" y="323"/>
                    </a:lnTo>
                    <a:lnTo>
                      <a:pt x="2983" y="284"/>
                    </a:lnTo>
                    <a:lnTo>
                      <a:pt x="2974" y="284"/>
                    </a:lnTo>
                    <a:lnTo>
                      <a:pt x="2974" y="259"/>
                    </a:lnTo>
                    <a:close/>
                    <a:moveTo>
                      <a:pt x="157" y="264"/>
                    </a:moveTo>
                    <a:lnTo>
                      <a:pt x="167" y="264"/>
                    </a:lnTo>
                    <a:lnTo>
                      <a:pt x="167" y="300"/>
                    </a:lnTo>
                    <a:lnTo>
                      <a:pt x="131" y="300"/>
                    </a:lnTo>
                    <a:lnTo>
                      <a:pt x="131" y="326"/>
                    </a:lnTo>
                    <a:lnTo>
                      <a:pt x="115" y="326"/>
                    </a:lnTo>
                    <a:lnTo>
                      <a:pt x="115" y="337"/>
                    </a:lnTo>
                    <a:lnTo>
                      <a:pt x="52" y="337"/>
                    </a:lnTo>
                    <a:lnTo>
                      <a:pt x="52" y="326"/>
                    </a:lnTo>
                    <a:lnTo>
                      <a:pt x="36" y="326"/>
                    </a:lnTo>
                    <a:lnTo>
                      <a:pt x="36" y="300"/>
                    </a:lnTo>
                    <a:lnTo>
                      <a:pt x="0" y="300"/>
                    </a:lnTo>
                    <a:lnTo>
                      <a:pt x="2" y="264"/>
                    </a:lnTo>
                    <a:lnTo>
                      <a:pt x="8" y="264"/>
                    </a:lnTo>
                    <a:lnTo>
                      <a:pt x="8" y="236"/>
                    </a:lnTo>
                    <a:lnTo>
                      <a:pt x="2" y="236"/>
                    </a:lnTo>
                    <a:lnTo>
                      <a:pt x="2" y="198"/>
                    </a:lnTo>
                    <a:lnTo>
                      <a:pt x="167" y="198"/>
                    </a:lnTo>
                    <a:lnTo>
                      <a:pt x="167" y="236"/>
                    </a:lnTo>
                    <a:lnTo>
                      <a:pt x="157" y="236"/>
                    </a:lnTo>
                    <a:lnTo>
                      <a:pt x="157" y="264"/>
                    </a:lnTo>
                    <a:close/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2" name=""/>
              <p:cNvSpPr/>
              <p:nvPr/>
            </p:nvSpPr>
            <p:spPr>
              <a:xfrm>
                <a:off x="8592120" y="2836800"/>
                <a:ext cx="117360" cy="106920"/>
              </a:xfrm>
              <a:custGeom>
                <a:avLst/>
                <a:gdLst/>
                <a:ahLst/>
                <a:rect l="l" t="t" r="r" b="b"/>
                <a:pathLst>
                  <a:path w="166" h="139">
                    <a:moveTo>
                      <a:pt x="157" y="75"/>
                    </a:moveTo>
                    <a:lnTo>
                      <a:pt x="166" y="75"/>
                    </a:lnTo>
                    <a:lnTo>
                      <a:pt x="166" y="37"/>
                    </a:lnTo>
                    <a:lnTo>
                      <a:pt x="130" y="37"/>
                    </a:lnTo>
                    <a:lnTo>
                      <a:pt x="130" y="11"/>
                    </a:lnTo>
                    <a:lnTo>
                      <a:pt x="114" y="11"/>
                    </a:lnTo>
                    <a:lnTo>
                      <a:pt x="114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37" y="1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100"/>
                    </a:lnTo>
                    <a:lnTo>
                      <a:pt x="0" y="100"/>
                    </a:lnTo>
                    <a:lnTo>
                      <a:pt x="0" y="139"/>
                    </a:lnTo>
                    <a:lnTo>
                      <a:pt x="166" y="139"/>
                    </a:lnTo>
                    <a:lnTo>
                      <a:pt x="166" y="100"/>
                    </a:lnTo>
                    <a:lnTo>
                      <a:pt x="157" y="100"/>
                    </a:lnTo>
                    <a:lnTo>
                      <a:pt x="157" y="75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3" name=""/>
              <p:cNvSpPr/>
              <p:nvPr/>
            </p:nvSpPr>
            <p:spPr>
              <a:xfrm>
                <a:off x="6588000" y="2846160"/>
                <a:ext cx="119880" cy="10944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66"/>
                    </a:moveTo>
                    <a:lnTo>
                      <a:pt x="167" y="66"/>
                    </a:lnTo>
                    <a:lnTo>
                      <a:pt x="167" y="102"/>
                    </a:lnTo>
                    <a:lnTo>
                      <a:pt x="131" y="102"/>
                    </a:lnTo>
                    <a:lnTo>
                      <a:pt x="131" y="128"/>
                    </a:lnTo>
                    <a:lnTo>
                      <a:pt x="115" y="128"/>
                    </a:lnTo>
                    <a:lnTo>
                      <a:pt x="115" y="139"/>
                    </a:lnTo>
                    <a:lnTo>
                      <a:pt x="52" y="139"/>
                    </a:lnTo>
                    <a:lnTo>
                      <a:pt x="52" y="128"/>
                    </a:lnTo>
                    <a:lnTo>
                      <a:pt x="36" y="128"/>
                    </a:lnTo>
                    <a:lnTo>
                      <a:pt x="36" y="102"/>
                    </a:lnTo>
                    <a:lnTo>
                      <a:pt x="0" y="102"/>
                    </a:lnTo>
                    <a:lnTo>
                      <a:pt x="2" y="66"/>
                    </a:lnTo>
                    <a:lnTo>
                      <a:pt x="8" y="66"/>
                    </a:lnTo>
                    <a:lnTo>
                      <a:pt x="8" y="38"/>
                    </a:lnTo>
                    <a:lnTo>
                      <a:pt x="2" y="38"/>
                    </a:lnTo>
                    <a:lnTo>
                      <a:pt x="2" y="0"/>
                    </a:lnTo>
                    <a:lnTo>
                      <a:pt x="167" y="0"/>
                    </a:lnTo>
                    <a:lnTo>
                      <a:pt x="167" y="38"/>
                    </a:lnTo>
                    <a:lnTo>
                      <a:pt x="157" y="38"/>
                    </a:lnTo>
                    <a:lnTo>
                      <a:pt x="157" y="66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4" name=""/>
              <p:cNvSpPr/>
              <p:nvPr/>
            </p:nvSpPr>
            <p:spPr>
              <a:xfrm>
                <a:off x="6588000" y="2692800"/>
                <a:ext cx="119880" cy="10800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5" name=""/>
              <p:cNvSpPr/>
              <p:nvPr/>
            </p:nvSpPr>
            <p:spPr>
              <a:xfrm>
                <a:off x="6588000" y="2707200"/>
                <a:ext cx="2124000" cy="231840"/>
              </a:xfrm>
              <a:custGeom>
                <a:avLst/>
                <a:gdLst/>
                <a:ahLst/>
                <a:rect l="l" t="t" r="r" b="b"/>
                <a:pathLst>
                  <a:path w="2985" h="301">
                    <a:moveTo>
                      <a:pt x="36" y="301"/>
                    </a:moveTo>
                    <a:lnTo>
                      <a:pt x="0" y="301"/>
                    </a:lnTo>
                    <a:lnTo>
                      <a:pt x="0" y="290"/>
                    </a:lnTo>
                    <a:lnTo>
                      <a:pt x="36" y="290"/>
                    </a:lnTo>
                    <a:lnTo>
                      <a:pt x="36" y="301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67" y="301"/>
                    </a:moveTo>
                    <a:lnTo>
                      <a:pt x="134" y="301"/>
                    </a:lnTo>
                    <a:lnTo>
                      <a:pt x="134" y="290"/>
                    </a:lnTo>
                    <a:lnTo>
                      <a:pt x="167" y="290"/>
                    </a:lnTo>
                    <a:lnTo>
                      <a:pt x="167" y="301"/>
                    </a:lnTo>
                    <a:close/>
                    <a:moveTo>
                      <a:pt x="167" y="0"/>
                    </a:moveTo>
                    <a:lnTo>
                      <a:pt x="134" y="0"/>
                    </a:lnTo>
                    <a:lnTo>
                      <a:pt x="134" y="12"/>
                    </a:lnTo>
                    <a:lnTo>
                      <a:pt x="167" y="12"/>
                    </a:lnTo>
                    <a:lnTo>
                      <a:pt x="167" y="0"/>
                    </a:lnTo>
                    <a:close/>
                    <a:moveTo>
                      <a:pt x="2985" y="185"/>
                    </a:moveTo>
                    <a:lnTo>
                      <a:pt x="2949" y="185"/>
                    </a:lnTo>
                    <a:lnTo>
                      <a:pt x="2949" y="199"/>
                    </a:lnTo>
                    <a:lnTo>
                      <a:pt x="2985" y="199"/>
                    </a:lnTo>
                    <a:lnTo>
                      <a:pt x="2985" y="185"/>
                    </a:lnTo>
                    <a:close/>
                  </a:path>
                </a:pathLst>
              </a:custGeom>
              <a:solidFill>
                <a:srgbClr val="829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6" name=""/>
              <p:cNvSpPr/>
              <p:nvPr/>
            </p:nvSpPr>
            <p:spPr>
              <a:xfrm>
                <a:off x="6588000" y="2932200"/>
                <a:ext cx="26280" cy="68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7" name=""/>
              <p:cNvSpPr/>
              <p:nvPr/>
            </p:nvSpPr>
            <p:spPr>
              <a:xfrm>
                <a:off x="6588000" y="2707200"/>
                <a:ext cx="26280" cy="93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8" name=""/>
              <p:cNvSpPr/>
              <p:nvPr/>
            </p:nvSpPr>
            <p:spPr>
              <a:xfrm>
                <a:off x="6683040" y="2932200"/>
                <a:ext cx="25200" cy="68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9" name=""/>
              <p:cNvSpPr/>
              <p:nvPr/>
            </p:nvSpPr>
            <p:spPr>
              <a:xfrm>
                <a:off x="6683040" y="2707200"/>
                <a:ext cx="25200" cy="93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0" name=""/>
              <p:cNvSpPr/>
              <p:nvPr/>
            </p:nvSpPr>
            <p:spPr>
              <a:xfrm>
                <a:off x="8685720" y="2850120"/>
                <a:ext cx="26280" cy="104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1" name=""/>
              <p:cNvSpPr/>
              <p:nvPr/>
            </p:nvSpPr>
            <p:spPr>
              <a:xfrm>
                <a:off x="6102000" y="2208240"/>
                <a:ext cx="2962080" cy="414000"/>
              </a:xfrm>
              <a:custGeom>
                <a:avLst/>
                <a:gdLst/>
                <a:ahLst/>
                <a:rect l="l" t="t" r="r" b="b"/>
                <a:pathLst>
                  <a:path w="4168" h="534">
                    <a:moveTo>
                      <a:pt x="4168" y="499"/>
                    </a:moveTo>
                    <a:lnTo>
                      <a:pt x="4168" y="495"/>
                    </a:lnTo>
                    <a:lnTo>
                      <a:pt x="4168" y="492"/>
                    </a:lnTo>
                    <a:lnTo>
                      <a:pt x="4167" y="488"/>
                    </a:lnTo>
                    <a:lnTo>
                      <a:pt x="4165" y="485"/>
                    </a:lnTo>
                    <a:lnTo>
                      <a:pt x="4163" y="478"/>
                    </a:lnTo>
                    <a:lnTo>
                      <a:pt x="4158" y="473"/>
                    </a:lnTo>
                    <a:lnTo>
                      <a:pt x="4153" y="468"/>
                    </a:lnTo>
                    <a:lnTo>
                      <a:pt x="4146" y="466"/>
                    </a:lnTo>
                    <a:lnTo>
                      <a:pt x="4143" y="464"/>
                    </a:lnTo>
                    <a:lnTo>
                      <a:pt x="4139" y="463"/>
                    </a:lnTo>
                    <a:lnTo>
                      <a:pt x="4136" y="463"/>
                    </a:lnTo>
                    <a:lnTo>
                      <a:pt x="4133" y="463"/>
                    </a:lnTo>
                    <a:lnTo>
                      <a:pt x="4129" y="463"/>
                    </a:lnTo>
                    <a:lnTo>
                      <a:pt x="4125" y="463"/>
                    </a:lnTo>
                    <a:lnTo>
                      <a:pt x="4123" y="464"/>
                    </a:lnTo>
                    <a:lnTo>
                      <a:pt x="4119" y="466"/>
                    </a:lnTo>
                    <a:lnTo>
                      <a:pt x="4114" y="468"/>
                    </a:lnTo>
                    <a:lnTo>
                      <a:pt x="4109" y="473"/>
                    </a:lnTo>
                    <a:lnTo>
                      <a:pt x="4104" y="478"/>
                    </a:lnTo>
                    <a:lnTo>
                      <a:pt x="4101" y="485"/>
                    </a:lnTo>
                    <a:lnTo>
                      <a:pt x="4100" y="488"/>
                    </a:lnTo>
                    <a:lnTo>
                      <a:pt x="4099" y="492"/>
                    </a:lnTo>
                    <a:lnTo>
                      <a:pt x="4099" y="495"/>
                    </a:lnTo>
                    <a:lnTo>
                      <a:pt x="4098" y="499"/>
                    </a:lnTo>
                    <a:lnTo>
                      <a:pt x="4099" y="502"/>
                    </a:lnTo>
                    <a:lnTo>
                      <a:pt x="4099" y="506"/>
                    </a:lnTo>
                    <a:lnTo>
                      <a:pt x="4100" y="509"/>
                    </a:lnTo>
                    <a:lnTo>
                      <a:pt x="4101" y="512"/>
                    </a:lnTo>
                    <a:lnTo>
                      <a:pt x="4104" y="517"/>
                    </a:lnTo>
                    <a:lnTo>
                      <a:pt x="4109" y="523"/>
                    </a:lnTo>
                    <a:lnTo>
                      <a:pt x="4114" y="528"/>
                    </a:lnTo>
                    <a:lnTo>
                      <a:pt x="4119" y="530"/>
                    </a:lnTo>
                    <a:lnTo>
                      <a:pt x="4123" y="531"/>
                    </a:lnTo>
                    <a:lnTo>
                      <a:pt x="4125" y="533"/>
                    </a:lnTo>
                    <a:lnTo>
                      <a:pt x="4129" y="533"/>
                    </a:lnTo>
                    <a:lnTo>
                      <a:pt x="4133" y="534"/>
                    </a:lnTo>
                    <a:lnTo>
                      <a:pt x="4136" y="533"/>
                    </a:lnTo>
                    <a:lnTo>
                      <a:pt x="4139" y="533"/>
                    </a:lnTo>
                    <a:lnTo>
                      <a:pt x="4143" y="531"/>
                    </a:lnTo>
                    <a:lnTo>
                      <a:pt x="4146" y="530"/>
                    </a:lnTo>
                    <a:lnTo>
                      <a:pt x="4153" y="528"/>
                    </a:lnTo>
                    <a:lnTo>
                      <a:pt x="4158" y="523"/>
                    </a:lnTo>
                    <a:lnTo>
                      <a:pt x="4163" y="517"/>
                    </a:lnTo>
                    <a:lnTo>
                      <a:pt x="4165" y="512"/>
                    </a:lnTo>
                    <a:lnTo>
                      <a:pt x="4167" y="509"/>
                    </a:lnTo>
                    <a:lnTo>
                      <a:pt x="4168" y="506"/>
                    </a:lnTo>
                    <a:lnTo>
                      <a:pt x="4168" y="502"/>
                    </a:lnTo>
                    <a:lnTo>
                      <a:pt x="4168" y="499"/>
                    </a:lnTo>
                    <a:lnTo>
                      <a:pt x="4168" y="499"/>
                    </a:lnTo>
                    <a:close/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2" name=""/>
              <p:cNvSpPr/>
              <p:nvPr/>
            </p:nvSpPr>
            <p:spPr>
              <a:xfrm>
                <a:off x="9014400" y="2568960"/>
                <a:ext cx="49680" cy="532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6"/>
                    </a:moveTo>
                    <a:lnTo>
                      <a:pt x="70" y="32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7" y="22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3" y="49"/>
                    </a:lnTo>
                    <a:lnTo>
                      <a:pt x="6" y="54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1" y="67"/>
                    </a:lnTo>
                    <a:lnTo>
                      <a:pt x="25" y="68"/>
                    </a:lnTo>
                    <a:lnTo>
                      <a:pt x="27" y="70"/>
                    </a:lnTo>
                    <a:lnTo>
                      <a:pt x="31" y="70"/>
                    </a:lnTo>
                    <a:lnTo>
                      <a:pt x="35" y="71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5" y="68"/>
                    </a:lnTo>
                    <a:lnTo>
                      <a:pt x="48" y="67"/>
                    </a:lnTo>
                    <a:lnTo>
                      <a:pt x="55" y="65"/>
                    </a:lnTo>
                    <a:lnTo>
                      <a:pt x="60" y="60"/>
                    </a:lnTo>
                    <a:lnTo>
                      <a:pt x="65" y="54"/>
                    </a:lnTo>
                    <a:lnTo>
                      <a:pt x="67" y="49"/>
                    </a:lnTo>
                    <a:lnTo>
                      <a:pt x="69" y="46"/>
                    </a:lnTo>
                    <a:lnTo>
                      <a:pt x="70" y="43"/>
                    </a:lnTo>
                    <a:lnTo>
                      <a:pt x="70" y="39"/>
                    </a:lnTo>
                    <a:lnTo>
                      <a:pt x="70" y="36"/>
                    </a:lnTo>
                    <a:lnTo>
                      <a:pt x="70" y="3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3" name=""/>
              <p:cNvSpPr/>
              <p:nvPr/>
            </p:nvSpPr>
            <p:spPr>
              <a:xfrm>
                <a:off x="6102000" y="2208240"/>
                <a:ext cx="47160" cy="5220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4" name=""/>
              <p:cNvSpPr/>
              <p:nvPr/>
            </p:nvSpPr>
            <p:spPr>
              <a:xfrm>
                <a:off x="8394840" y="2237760"/>
                <a:ext cx="49680" cy="504720"/>
              </a:xfrm>
              <a:custGeom>
                <a:avLst/>
                <a:gdLst/>
                <a:ahLst/>
                <a:rect l="l" t="t" r="r" b="b"/>
                <a:pathLst>
                  <a:path w="70" h="649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78"/>
                    </a:moveTo>
                    <a:lnTo>
                      <a:pt x="38" y="578"/>
                    </a:lnTo>
                    <a:lnTo>
                      <a:pt x="42" y="579"/>
                    </a:lnTo>
                    <a:lnTo>
                      <a:pt x="46" y="581"/>
                    </a:lnTo>
                    <a:lnTo>
                      <a:pt x="50" y="582"/>
                    </a:lnTo>
                    <a:lnTo>
                      <a:pt x="52" y="583"/>
                    </a:lnTo>
                    <a:lnTo>
                      <a:pt x="56" y="586"/>
                    </a:lnTo>
                    <a:lnTo>
                      <a:pt x="58" y="587"/>
                    </a:lnTo>
                    <a:lnTo>
                      <a:pt x="62" y="590"/>
                    </a:lnTo>
                    <a:lnTo>
                      <a:pt x="65" y="593"/>
                    </a:lnTo>
                    <a:lnTo>
                      <a:pt x="66" y="597"/>
                    </a:lnTo>
                    <a:lnTo>
                      <a:pt x="67" y="601"/>
                    </a:lnTo>
                    <a:lnTo>
                      <a:pt x="68" y="603"/>
                    </a:lnTo>
                    <a:lnTo>
                      <a:pt x="70" y="607"/>
                    </a:lnTo>
                    <a:lnTo>
                      <a:pt x="70" y="611"/>
                    </a:lnTo>
                    <a:lnTo>
                      <a:pt x="70" y="615"/>
                    </a:lnTo>
                    <a:lnTo>
                      <a:pt x="68" y="620"/>
                    </a:lnTo>
                    <a:lnTo>
                      <a:pt x="68" y="622"/>
                    </a:lnTo>
                    <a:lnTo>
                      <a:pt x="67" y="625"/>
                    </a:lnTo>
                    <a:lnTo>
                      <a:pt x="67" y="627"/>
                    </a:lnTo>
                    <a:lnTo>
                      <a:pt x="66" y="631"/>
                    </a:lnTo>
                    <a:lnTo>
                      <a:pt x="63" y="634"/>
                    </a:lnTo>
                    <a:lnTo>
                      <a:pt x="62" y="636"/>
                    </a:lnTo>
                    <a:lnTo>
                      <a:pt x="60" y="639"/>
                    </a:lnTo>
                    <a:lnTo>
                      <a:pt x="57" y="640"/>
                    </a:lnTo>
                    <a:lnTo>
                      <a:pt x="52" y="644"/>
                    </a:lnTo>
                    <a:lnTo>
                      <a:pt x="47" y="646"/>
                    </a:lnTo>
                    <a:lnTo>
                      <a:pt x="45" y="648"/>
                    </a:lnTo>
                    <a:lnTo>
                      <a:pt x="41" y="649"/>
                    </a:lnTo>
                    <a:lnTo>
                      <a:pt x="38" y="649"/>
                    </a:lnTo>
                    <a:lnTo>
                      <a:pt x="35" y="649"/>
                    </a:lnTo>
                    <a:lnTo>
                      <a:pt x="31" y="649"/>
                    </a:lnTo>
                    <a:lnTo>
                      <a:pt x="27" y="649"/>
                    </a:lnTo>
                    <a:lnTo>
                      <a:pt x="23" y="648"/>
                    </a:lnTo>
                    <a:lnTo>
                      <a:pt x="20" y="646"/>
                    </a:lnTo>
                    <a:lnTo>
                      <a:pt x="16" y="644"/>
                    </a:lnTo>
                    <a:lnTo>
                      <a:pt x="13" y="641"/>
                    </a:lnTo>
                    <a:lnTo>
                      <a:pt x="10" y="639"/>
                    </a:lnTo>
                    <a:lnTo>
                      <a:pt x="7" y="635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2" y="626"/>
                    </a:lnTo>
                    <a:lnTo>
                      <a:pt x="1" y="622"/>
                    </a:lnTo>
                    <a:lnTo>
                      <a:pt x="0" y="619"/>
                    </a:lnTo>
                    <a:lnTo>
                      <a:pt x="0" y="615"/>
                    </a:lnTo>
                    <a:lnTo>
                      <a:pt x="0" y="612"/>
                    </a:lnTo>
                    <a:lnTo>
                      <a:pt x="1" y="609"/>
                    </a:lnTo>
                    <a:lnTo>
                      <a:pt x="1" y="605"/>
                    </a:lnTo>
                    <a:lnTo>
                      <a:pt x="2" y="602"/>
                    </a:lnTo>
                    <a:lnTo>
                      <a:pt x="2" y="598"/>
                    </a:lnTo>
                    <a:lnTo>
                      <a:pt x="3" y="596"/>
                    </a:lnTo>
                    <a:lnTo>
                      <a:pt x="6" y="593"/>
                    </a:lnTo>
                    <a:lnTo>
                      <a:pt x="7" y="592"/>
                    </a:lnTo>
                    <a:lnTo>
                      <a:pt x="12" y="588"/>
                    </a:lnTo>
                    <a:lnTo>
                      <a:pt x="15" y="586"/>
                    </a:lnTo>
                    <a:lnTo>
                      <a:pt x="17" y="583"/>
                    </a:lnTo>
                    <a:lnTo>
                      <a:pt x="20" y="582"/>
                    </a:lnTo>
                    <a:lnTo>
                      <a:pt x="22" y="581"/>
                    </a:lnTo>
                    <a:lnTo>
                      <a:pt x="26" y="579"/>
                    </a:lnTo>
                    <a:lnTo>
                      <a:pt x="28" y="579"/>
                    </a:lnTo>
                    <a:lnTo>
                      <a:pt x="35" y="578"/>
                    </a:lnTo>
                    <a:lnTo>
                      <a:pt x="35" y="57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5" name=""/>
              <p:cNvSpPr/>
              <p:nvPr/>
            </p:nvSpPr>
            <p:spPr>
              <a:xfrm>
                <a:off x="8394840" y="2237760"/>
                <a:ext cx="49680" cy="5580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6" name=""/>
              <p:cNvSpPr/>
              <p:nvPr/>
            </p:nvSpPr>
            <p:spPr>
              <a:xfrm>
                <a:off x="8394840" y="2688120"/>
                <a:ext cx="49680" cy="5472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1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0" y="33"/>
                    </a:lnTo>
                    <a:lnTo>
                      <a:pt x="70" y="37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60" y="61"/>
                    </a:lnTo>
                    <a:lnTo>
                      <a:pt x="57" y="62"/>
                    </a:lnTo>
                    <a:lnTo>
                      <a:pt x="52" y="66"/>
                    </a:lnTo>
                    <a:lnTo>
                      <a:pt x="47" y="68"/>
                    </a:lnTo>
                    <a:lnTo>
                      <a:pt x="45" y="70"/>
                    </a:lnTo>
                    <a:lnTo>
                      <a:pt x="41" y="71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71"/>
                    </a:lnTo>
                    <a:lnTo>
                      <a:pt x="23" y="70"/>
                    </a:lnTo>
                    <a:lnTo>
                      <a:pt x="20" y="68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10" y="61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7" name=""/>
              <p:cNvSpPr/>
              <p:nvPr/>
            </p:nvSpPr>
            <p:spPr>
              <a:xfrm>
                <a:off x="8408520" y="2254680"/>
                <a:ext cx="21240" cy="472320"/>
              </a:xfrm>
              <a:custGeom>
                <a:avLst/>
                <a:gdLst/>
                <a:ahLst/>
                <a:rect l="l" t="t" r="r" b="b"/>
                <a:pathLst>
                  <a:path w="30" h="608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5"/>
                    </a:moveTo>
                    <a:lnTo>
                      <a:pt x="8" y="603"/>
                    </a:lnTo>
                    <a:lnTo>
                      <a:pt x="11" y="601"/>
                    </a:lnTo>
                    <a:lnTo>
                      <a:pt x="15" y="601"/>
                    </a:lnTo>
                    <a:lnTo>
                      <a:pt x="18" y="601"/>
                    </a:lnTo>
                    <a:lnTo>
                      <a:pt x="21" y="603"/>
                    </a:lnTo>
                    <a:lnTo>
                      <a:pt x="21" y="603"/>
                    </a:lnTo>
                    <a:lnTo>
                      <a:pt x="21" y="605"/>
                    </a:lnTo>
                    <a:lnTo>
                      <a:pt x="23" y="606"/>
                    </a:lnTo>
                    <a:lnTo>
                      <a:pt x="25" y="608"/>
                    </a:lnTo>
                    <a:lnTo>
                      <a:pt x="27" y="606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30" y="604"/>
                    </a:lnTo>
                    <a:lnTo>
                      <a:pt x="30" y="603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6" y="599"/>
                    </a:lnTo>
                    <a:lnTo>
                      <a:pt x="25" y="595"/>
                    </a:lnTo>
                    <a:lnTo>
                      <a:pt x="25" y="593"/>
                    </a:lnTo>
                    <a:lnTo>
                      <a:pt x="25" y="589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8" y="585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8" y="581"/>
                    </a:lnTo>
                    <a:lnTo>
                      <a:pt x="28" y="580"/>
                    </a:lnTo>
                    <a:lnTo>
                      <a:pt x="28" y="580"/>
                    </a:lnTo>
                    <a:lnTo>
                      <a:pt x="28" y="579"/>
                    </a:lnTo>
                    <a:lnTo>
                      <a:pt x="27" y="579"/>
                    </a:lnTo>
                    <a:lnTo>
                      <a:pt x="25" y="579"/>
                    </a:lnTo>
                    <a:lnTo>
                      <a:pt x="25" y="579"/>
                    </a:lnTo>
                    <a:lnTo>
                      <a:pt x="23" y="579"/>
                    </a:lnTo>
                    <a:lnTo>
                      <a:pt x="23" y="579"/>
                    </a:lnTo>
                    <a:lnTo>
                      <a:pt x="21" y="580"/>
                    </a:lnTo>
                    <a:lnTo>
                      <a:pt x="20" y="582"/>
                    </a:lnTo>
                    <a:lnTo>
                      <a:pt x="18" y="582"/>
                    </a:lnTo>
                    <a:lnTo>
                      <a:pt x="16" y="584"/>
                    </a:lnTo>
                    <a:lnTo>
                      <a:pt x="15" y="584"/>
                    </a:lnTo>
                    <a:lnTo>
                      <a:pt x="13" y="584"/>
                    </a:lnTo>
                    <a:lnTo>
                      <a:pt x="11" y="582"/>
                    </a:lnTo>
                    <a:lnTo>
                      <a:pt x="10" y="582"/>
                    </a:lnTo>
                    <a:lnTo>
                      <a:pt x="8" y="580"/>
                    </a:lnTo>
                    <a:lnTo>
                      <a:pt x="8" y="580"/>
                    </a:lnTo>
                    <a:lnTo>
                      <a:pt x="6" y="579"/>
                    </a:lnTo>
                    <a:lnTo>
                      <a:pt x="5" y="579"/>
                    </a:lnTo>
                    <a:lnTo>
                      <a:pt x="5" y="579"/>
                    </a:lnTo>
                    <a:lnTo>
                      <a:pt x="3" y="579"/>
                    </a:lnTo>
                    <a:lnTo>
                      <a:pt x="1" y="579"/>
                    </a:lnTo>
                    <a:lnTo>
                      <a:pt x="1" y="579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4"/>
                    </a:lnTo>
                    <a:lnTo>
                      <a:pt x="1" y="585"/>
                    </a:lnTo>
                    <a:lnTo>
                      <a:pt x="1" y="585"/>
                    </a:lnTo>
                    <a:lnTo>
                      <a:pt x="3" y="588"/>
                    </a:lnTo>
                    <a:lnTo>
                      <a:pt x="5" y="589"/>
                    </a:lnTo>
                    <a:lnTo>
                      <a:pt x="5" y="593"/>
                    </a:lnTo>
                    <a:lnTo>
                      <a:pt x="5" y="595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1" y="601"/>
                    </a:lnTo>
                    <a:lnTo>
                      <a:pt x="0" y="601"/>
                    </a:lnTo>
                    <a:lnTo>
                      <a:pt x="0" y="603"/>
                    </a:lnTo>
                    <a:lnTo>
                      <a:pt x="0" y="604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3" y="606"/>
                    </a:lnTo>
                    <a:lnTo>
                      <a:pt x="5" y="608"/>
                    </a:lnTo>
                    <a:lnTo>
                      <a:pt x="5" y="606"/>
                    </a:lnTo>
                    <a:lnTo>
                      <a:pt x="6" y="605"/>
                    </a:lnTo>
                    <a:lnTo>
                      <a:pt x="6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8" name=""/>
              <p:cNvSpPr/>
              <p:nvPr/>
            </p:nvSpPr>
            <p:spPr>
              <a:xfrm>
                <a:off x="8408520" y="2254680"/>
                <a:ext cx="21240" cy="2376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9" name=""/>
              <p:cNvSpPr/>
              <p:nvPr/>
            </p:nvSpPr>
            <p:spPr>
              <a:xfrm>
                <a:off x="8408520" y="2703600"/>
                <a:ext cx="21240" cy="2376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6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0" name=""/>
              <p:cNvSpPr/>
              <p:nvPr/>
            </p:nvSpPr>
            <p:spPr>
              <a:xfrm>
                <a:off x="8449920" y="2214000"/>
                <a:ext cx="25920" cy="565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1" name=""/>
              <p:cNvSpPr/>
              <p:nvPr/>
            </p:nvSpPr>
            <p:spPr>
              <a:xfrm>
                <a:off x="8449920" y="2184480"/>
                <a:ext cx="25920" cy="59544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2" name=""/>
              <p:cNvSpPr/>
              <p:nvPr/>
            </p:nvSpPr>
            <p:spPr>
              <a:xfrm>
                <a:off x="8475840" y="2184480"/>
                <a:ext cx="25200" cy="595440"/>
              </a:xfrm>
              <a:prstGeom prst="rect">
                <a:avLst/>
              </a:pr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3" name=""/>
              <p:cNvSpPr/>
              <p:nvPr/>
            </p:nvSpPr>
            <p:spPr>
              <a:xfrm>
                <a:off x="8501040" y="2184480"/>
                <a:ext cx="27360" cy="59544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4" name=""/>
              <p:cNvSpPr/>
              <p:nvPr/>
            </p:nvSpPr>
            <p:spPr>
              <a:xfrm>
                <a:off x="8451000" y="2210760"/>
                <a:ext cx="43560" cy="563040"/>
              </a:xfrm>
              <a:custGeom>
                <a:avLst/>
                <a:gdLst/>
                <a:ahLst/>
                <a:rect l="l" t="t" r="r" b="b"/>
                <a:pathLst>
                  <a:path w="59" h="722">
                    <a:moveTo>
                      <a:pt x="59" y="717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17"/>
                    </a:lnTo>
                    <a:lnTo>
                      <a:pt x="0" y="720"/>
                    </a:lnTo>
                    <a:lnTo>
                      <a:pt x="2" y="721"/>
                    </a:lnTo>
                    <a:lnTo>
                      <a:pt x="3" y="722"/>
                    </a:lnTo>
                    <a:lnTo>
                      <a:pt x="7" y="722"/>
                    </a:lnTo>
                    <a:lnTo>
                      <a:pt x="7" y="722"/>
                    </a:lnTo>
                    <a:lnTo>
                      <a:pt x="52" y="722"/>
                    </a:lnTo>
                    <a:lnTo>
                      <a:pt x="54" y="722"/>
                    </a:lnTo>
                    <a:lnTo>
                      <a:pt x="56" y="721"/>
                    </a:lnTo>
                    <a:lnTo>
                      <a:pt x="59" y="720"/>
                    </a:lnTo>
                    <a:lnTo>
                      <a:pt x="59" y="718"/>
                    </a:lnTo>
                    <a:lnTo>
                      <a:pt x="59" y="7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5" name=""/>
              <p:cNvSpPr/>
              <p:nvPr/>
            </p:nvSpPr>
            <p:spPr>
              <a:xfrm>
                <a:off x="7235280" y="2209320"/>
                <a:ext cx="840600" cy="56088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6" name=""/>
              <p:cNvSpPr/>
              <p:nvPr/>
            </p:nvSpPr>
            <p:spPr>
              <a:xfrm>
                <a:off x="7235280" y="2209320"/>
                <a:ext cx="840600" cy="56088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7" name=""/>
              <p:cNvSpPr/>
              <p:nvPr/>
            </p:nvSpPr>
            <p:spPr>
              <a:xfrm>
                <a:off x="7502760" y="2223720"/>
                <a:ext cx="69840" cy="537120"/>
              </a:xfrm>
              <a:custGeom>
                <a:avLst/>
                <a:gdLst/>
                <a:ahLst/>
                <a:rect l="l" t="t" r="r" b="b"/>
                <a:pathLst>
                  <a:path w="98" h="692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  <a:moveTo>
                      <a:pt x="98" y="581"/>
                    </a:moveTo>
                    <a:lnTo>
                      <a:pt x="18" y="581"/>
                    </a:lnTo>
                    <a:lnTo>
                      <a:pt x="14" y="581"/>
                    </a:lnTo>
                    <a:lnTo>
                      <a:pt x="10" y="582"/>
                    </a:lnTo>
                    <a:lnTo>
                      <a:pt x="7" y="583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2" y="592"/>
                    </a:lnTo>
                    <a:lnTo>
                      <a:pt x="0" y="595"/>
                    </a:lnTo>
                    <a:lnTo>
                      <a:pt x="0" y="598"/>
                    </a:lnTo>
                    <a:lnTo>
                      <a:pt x="0" y="598"/>
                    </a:lnTo>
                    <a:lnTo>
                      <a:pt x="0" y="672"/>
                    </a:lnTo>
                    <a:lnTo>
                      <a:pt x="0" y="675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4" y="686"/>
                    </a:lnTo>
                    <a:lnTo>
                      <a:pt x="7" y="688"/>
                    </a:lnTo>
                    <a:lnTo>
                      <a:pt x="10" y="689"/>
                    </a:lnTo>
                    <a:lnTo>
                      <a:pt x="14" y="691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98" y="692"/>
                    </a:lnTo>
                    <a:lnTo>
                      <a:pt x="98" y="581"/>
                    </a:lnTo>
                    <a:lnTo>
                      <a:pt x="98" y="58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8" name=""/>
              <p:cNvSpPr/>
              <p:nvPr/>
            </p:nvSpPr>
            <p:spPr>
              <a:xfrm>
                <a:off x="7502760" y="2223720"/>
                <a:ext cx="69840" cy="8676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8139" name=""/>
            <p:cNvGrpSpPr/>
            <p:nvPr/>
          </p:nvGrpSpPr>
          <p:grpSpPr>
            <a:xfrm>
              <a:off x="7267680" y="2238120"/>
              <a:ext cx="835560" cy="522360"/>
              <a:chOff x="7267680" y="2238120"/>
              <a:chExt cx="835560" cy="522360"/>
            </a:xfrm>
          </p:grpSpPr>
          <p:sp>
            <p:nvSpPr>
              <p:cNvPr id="8140" name=""/>
              <p:cNvSpPr/>
              <p:nvPr/>
            </p:nvSpPr>
            <p:spPr>
              <a:xfrm>
                <a:off x="7502400" y="2673720"/>
                <a:ext cx="69480" cy="8676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8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1" name=""/>
              <p:cNvSpPr/>
              <p:nvPr/>
            </p:nvSpPr>
            <p:spPr>
              <a:xfrm>
                <a:off x="7267680" y="2248920"/>
                <a:ext cx="778320" cy="507240"/>
              </a:xfrm>
              <a:custGeom>
                <a:avLst/>
                <a:gdLst/>
                <a:ahLst/>
                <a:rect l="l" t="t" r="r" b="b"/>
                <a:pathLst>
                  <a:path w="1092" h="654">
                    <a:moveTo>
                      <a:pt x="47" y="607"/>
                    </a:moveTo>
                    <a:lnTo>
                      <a:pt x="67" y="596"/>
                    </a:lnTo>
                    <a:lnTo>
                      <a:pt x="67" y="572"/>
                    </a:lnTo>
                    <a:lnTo>
                      <a:pt x="47" y="560"/>
                    </a:lnTo>
                    <a:lnTo>
                      <a:pt x="26" y="572"/>
                    </a:lnTo>
                    <a:lnTo>
                      <a:pt x="26" y="596"/>
                    </a:lnTo>
                    <a:lnTo>
                      <a:pt x="47" y="607"/>
                    </a:lnTo>
                    <a:close/>
                    <a:moveTo>
                      <a:pt x="100" y="607"/>
                    </a:moveTo>
                    <a:lnTo>
                      <a:pt x="120" y="596"/>
                    </a:lnTo>
                    <a:lnTo>
                      <a:pt x="120" y="572"/>
                    </a:lnTo>
                    <a:lnTo>
                      <a:pt x="100" y="560"/>
                    </a:lnTo>
                    <a:lnTo>
                      <a:pt x="81" y="572"/>
                    </a:lnTo>
                    <a:lnTo>
                      <a:pt x="81" y="596"/>
                    </a:lnTo>
                    <a:lnTo>
                      <a:pt x="100" y="607"/>
                    </a:lnTo>
                    <a:close/>
                    <a:moveTo>
                      <a:pt x="155" y="607"/>
                    </a:moveTo>
                    <a:lnTo>
                      <a:pt x="175" y="596"/>
                    </a:lnTo>
                    <a:lnTo>
                      <a:pt x="175" y="572"/>
                    </a:lnTo>
                    <a:lnTo>
                      <a:pt x="155" y="560"/>
                    </a:lnTo>
                    <a:lnTo>
                      <a:pt x="135" y="572"/>
                    </a:lnTo>
                    <a:lnTo>
                      <a:pt x="135" y="596"/>
                    </a:lnTo>
                    <a:lnTo>
                      <a:pt x="155" y="607"/>
                    </a:lnTo>
                    <a:close/>
                    <a:moveTo>
                      <a:pt x="208" y="607"/>
                    </a:moveTo>
                    <a:lnTo>
                      <a:pt x="230" y="596"/>
                    </a:lnTo>
                    <a:lnTo>
                      <a:pt x="230" y="572"/>
                    </a:lnTo>
                    <a:lnTo>
                      <a:pt x="208" y="560"/>
                    </a:lnTo>
                    <a:lnTo>
                      <a:pt x="188" y="572"/>
                    </a:lnTo>
                    <a:lnTo>
                      <a:pt x="188" y="596"/>
                    </a:lnTo>
                    <a:lnTo>
                      <a:pt x="208" y="607"/>
                    </a:lnTo>
                    <a:close/>
                    <a:moveTo>
                      <a:pt x="263" y="607"/>
                    </a:moveTo>
                    <a:lnTo>
                      <a:pt x="283" y="596"/>
                    </a:lnTo>
                    <a:lnTo>
                      <a:pt x="283" y="572"/>
                    </a:lnTo>
                    <a:lnTo>
                      <a:pt x="263" y="560"/>
                    </a:lnTo>
                    <a:lnTo>
                      <a:pt x="243" y="572"/>
                    </a:lnTo>
                    <a:lnTo>
                      <a:pt x="243" y="596"/>
                    </a:lnTo>
                    <a:lnTo>
                      <a:pt x="263" y="607"/>
                    </a:lnTo>
                    <a:close/>
                    <a:moveTo>
                      <a:pt x="20" y="560"/>
                    </a:moveTo>
                    <a:lnTo>
                      <a:pt x="39" y="550"/>
                    </a:lnTo>
                    <a:lnTo>
                      <a:pt x="39" y="525"/>
                    </a:lnTo>
                    <a:lnTo>
                      <a:pt x="20" y="514"/>
                    </a:lnTo>
                    <a:lnTo>
                      <a:pt x="0" y="525"/>
                    </a:lnTo>
                    <a:lnTo>
                      <a:pt x="0" y="550"/>
                    </a:lnTo>
                    <a:lnTo>
                      <a:pt x="20" y="560"/>
                    </a:lnTo>
                    <a:close/>
                    <a:moveTo>
                      <a:pt x="74" y="560"/>
                    </a:moveTo>
                    <a:lnTo>
                      <a:pt x="94" y="550"/>
                    </a:lnTo>
                    <a:lnTo>
                      <a:pt x="94" y="525"/>
                    </a:lnTo>
                    <a:lnTo>
                      <a:pt x="74" y="514"/>
                    </a:lnTo>
                    <a:lnTo>
                      <a:pt x="55" y="525"/>
                    </a:lnTo>
                    <a:lnTo>
                      <a:pt x="55" y="550"/>
                    </a:lnTo>
                    <a:lnTo>
                      <a:pt x="74" y="560"/>
                    </a:lnTo>
                    <a:close/>
                    <a:moveTo>
                      <a:pt x="129" y="560"/>
                    </a:moveTo>
                    <a:lnTo>
                      <a:pt x="149" y="550"/>
                    </a:lnTo>
                    <a:lnTo>
                      <a:pt x="149" y="525"/>
                    </a:lnTo>
                    <a:lnTo>
                      <a:pt x="129" y="514"/>
                    </a:lnTo>
                    <a:lnTo>
                      <a:pt x="108" y="525"/>
                    </a:lnTo>
                    <a:lnTo>
                      <a:pt x="108" y="550"/>
                    </a:lnTo>
                    <a:lnTo>
                      <a:pt x="129" y="560"/>
                    </a:lnTo>
                    <a:close/>
                    <a:moveTo>
                      <a:pt x="181" y="560"/>
                    </a:moveTo>
                    <a:lnTo>
                      <a:pt x="202" y="550"/>
                    </a:lnTo>
                    <a:lnTo>
                      <a:pt x="202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50"/>
                    </a:lnTo>
                    <a:lnTo>
                      <a:pt x="181" y="560"/>
                    </a:lnTo>
                    <a:close/>
                    <a:moveTo>
                      <a:pt x="237" y="560"/>
                    </a:moveTo>
                    <a:lnTo>
                      <a:pt x="257" y="550"/>
                    </a:lnTo>
                    <a:lnTo>
                      <a:pt x="257" y="525"/>
                    </a:lnTo>
                    <a:lnTo>
                      <a:pt x="237" y="514"/>
                    </a:lnTo>
                    <a:lnTo>
                      <a:pt x="217" y="525"/>
                    </a:lnTo>
                    <a:lnTo>
                      <a:pt x="217" y="550"/>
                    </a:lnTo>
                    <a:lnTo>
                      <a:pt x="237" y="560"/>
                    </a:lnTo>
                    <a:close/>
                    <a:moveTo>
                      <a:pt x="289" y="560"/>
                    </a:moveTo>
                    <a:lnTo>
                      <a:pt x="312" y="550"/>
                    </a:lnTo>
                    <a:lnTo>
                      <a:pt x="312" y="525"/>
                    </a:lnTo>
                    <a:lnTo>
                      <a:pt x="289" y="514"/>
                    </a:lnTo>
                    <a:lnTo>
                      <a:pt x="269" y="525"/>
                    </a:lnTo>
                    <a:lnTo>
                      <a:pt x="269" y="550"/>
                    </a:lnTo>
                    <a:lnTo>
                      <a:pt x="289" y="560"/>
                    </a:lnTo>
                    <a:close/>
                    <a:moveTo>
                      <a:pt x="47" y="514"/>
                    </a:moveTo>
                    <a:lnTo>
                      <a:pt x="67" y="504"/>
                    </a:lnTo>
                    <a:lnTo>
                      <a:pt x="67" y="478"/>
                    </a:lnTo>
                    <a:lnTo>
                      <a:pt x="47" y="468"/>
                    </a:lnTo>
                    <a:lnTo>
                      <a:pt x="26" y="478"/>
                    </a:lnTo>
                    <a:lnTo>
                      <a:pt x="26" y="504"/>
                    </a:lnTo>
                    <a:lnTo>
                      <a:pt x="47" y="514"/>
                    </a:lnTo>
                    <a:close/>
                    <a:moveTo>
                      <a:pt x="100" y="514"/>
                    </a:moveTo>
                    <a:lnTo>
                      <a:pt x="120" y="504"/>
                    </a:lnTo>
                    <a:lnTo>
                      <a:pt x="120" y="478"/>
                    </a:lnTo>
                    <a:lnTo>
                      <a:pt x="100" y="468"/>
                    </a:lnTo>
                    <a:lnTo>
                      <a:pt x="81" y="478"/>
                    </a:lnTo>
                    <a:lnTo>
                      <a:pt x="81" y="504"/>
                    </a:lnTo>
                    <a:lnTo>
                      <a:pt x="100" y="514"/>
                    </a:lnTo>
                    <a:close/>
                    <a:moveTo>
                      <a:pt x="155" y="514"/>
                    </a:moveTo>
                    <a:lnTo>
                      <a:pt x="175" y="504"/>
                    </a:lnTo>
                    <a:lnTo>
                      <a:pt x="175" y="478"/>
                    </a:lnTo>
                    <a:lnTo>
                      <a:pt x="155" y="468"/>
                    </a:lnTo>
                    <a:lnTo>
                      <a:pt x="135" y="478"/>
                    </a:lnTo>
                    <a:lnTo>
                      <a:pt x="135" y="504"/>
                    </a:lnTo>
                    <a:lnTo>
                      <a:pt x="155" y="514"/>
                    </a:lnTo>
                    <a:close/>
                    <a:moveTo>
                      <a:pt x="208" y="514"/>
                    </a:moveTo>
                    <a:lnTo>
                      <a:pt x="230" y="504"/>
                    </a:lnTo>
                    <a:lnTo>
                      <a:pt x="230" y="478"/>
                    </a:lnTo>
                    <a:lnTo>
                      <a:pt x="208" y="468"/>
                    </a:lnTo>
                    <a:lnTo>
                      <a:pt x="188" y="478"/>
                    </a:lnTo>
                    <a:lnTo>
                      <a:pt x="188" y="504"/>
                    </a:lnTo>
                    <a:lnTo>
                      <a:pt x="208" y="514"/>
                    </a:lnTo>
                    <a:close/>
                    <a:moveTo>
                      <a:pt x="263" y="514"/>
                    </a:moveTo>
                    <a:lnTo>
                      <a:pt x="283" y="504"/>
                    </a:lnTo>
                    <a:lnTo>
                      <a:pt x="283" y="478"/>
                    </a:lnTo>
                    <a:lnTo>
                      <a:pt x="263" y="468"/>
                    </a:lnTo>
                    <a:lnTo>
                      <a:pt x="243" y="478"/>
                    </a:lnTo>
                    <a:lnTo>
                      <a:pt x="243" y="504"/>
                    </a:lnTo>
                    <a:lnTo>
                      <a:pt x="263" y="514"/>
                    </a:lnTo>
                    <a:close/>
                    <a:moveTo>
                      <a:pt x="318" y="514"/>
                    </a:moveTo>
                    <a:lnTo>
                      <a:pt x="338" y="504"/>
                    </a:lnTo>
                    <a:lnTo>
                      <a:pt x="338" y="478"/>
                    </a:lnTo>
                    <a:lnTo>
                      <a:pt x="318" y="468"/>
                    </a:lnTo>
                    <a:lnTo>
                      <a:pt x="298" y="478"/>
                    </a:lnTo>
                    <a:lnTo>
                      <a:pt x="298" y="504"/>
                    </a:lnTo>
                    <a:lnTo>
                      <a:pt x="318" y="514"/>
                    </a:lnTo>
                    <a:close/>
                    <a:moveTo>
                      <a:pt x="20" y="468"/>
                    </a:moveTo>
                    <a:lnTo>
                      <a:pt x="39" y="454"/>
                    </a:lnTo>
                    <a:lnTo>
                      <a:pt x="39" y="432"/>
                    </a:lnTo>
                    <a:lnTo>
                      <a:pt x="20" y="422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20" y="468"/>
                    </a:lnTo>
                    <a:close/>
                    <a:moveTo>
                      <a:pt x="74" y="468"/>
                    </a:moveTo>
                    <a:lnTo>
                      <a:pt x="94" y="454"/>
                    </a:lnTo>
                    <a:lnTo>
                      <a:pt x="94" y="432"/>
                    </a:lnTo>
                    <a:lnTo>
                      <a:pt x="74" y="422"/>
                    </a:lnTo>
                    <a:lnTo>
                      <a:pt x="55" y="432"/>
                    </a:lnTo>
                    <a:lnTo>
                      <a:pt x="55" y="454"/>
                    </a:lnTo>
                    <a:lnTo>
                      <a:pt x="74" y="468"/>
                    </a:lnTo>
                    <a:close/>
                    <a:moveTo>
                      <a:pt x="129" y="468"/>
                    </a:moveTo>
                    <a:lnTo>
                      <a:pt x="149" y="454"/>
                    </a:lnTo>
                    <a:lnTo>
                      <a:pt x="149" y="432"/>
                    </a:lnTo>
                    <a:lnTo>
                      <a:pt x="129" y="422"/>
                    </a:lnTo>
                    <a:lnTo>
                      <a:pt x="108" y="432"/>
                    </a:lnTo>
                    <a:lnTo>
                      <a:pt x="108" y="454"/>
                    </a:lnTo>
                    <a:lnTo>
                      <a:pt x="129" y="468"/>
                    </a:lnTo>
                    <a:close/>
                    <a:moveTo>
                      <a:pt x="181" y="468"/>
                    </a:moveTo>
                    <a:lnTo>
                      <a:pt x="202" y="454"/>
                    </a:lnTo>
                    <a:lnTo>
                      <a:pt x="202" y="432"/>
                    </a:lnTo>
                    <a:lnTo>
                      <a:pt x="181" y="422"/>
                    </a:lnTo>
                    <a:lnTo>
                      <a:pt x="161" y="432"/>
                    </a:lnTo>
                    <a:lnTo>
                      <a:pt x="161" y="454"/>
                    </a:lnTo>
                    <a:lnTo>
                      <a:pt x="181" y="468"/>
                    </a:lnTo>
                    <a:close/>
                    <a:moveTo>
                      <a:pt x="237" y="468"/>
                    </a:moveTo>
                    <a:lnTo>
                      <a:pt x="257" y="454"/>
                    </a:lnTo>
                    <a:lnTo>
                      <a:pt x="257" y="432"/>
                    </a:lnTo>
                    <a:lnTo>
                      <a:pt x="237" y="422"/>
                    </a:lnTo>
                    <a:lnTo>
                      <a:pt x="217" y="432"/>
                    </a:lnTo>
                    <a:lnTo>
                      <a:pt x="217" y="454"/>
                    </a:lnTo>
                    <a:lnTo>
                      <a:pt x="237" y="468"/>
                    </a:lnTo>
                    <a:close/>
                    <a:moveTo>
                      <a:pt x="289" y="468"/>
                    </a:moveTo>
                    <a:lnTo>
                      <a:pt x="312" y="454"/>
                    </a:lnTo>
                    <a:lnTo>
                      <a:pt x="312" y="432"/>
                    </a:lnTo>
                    <a:lnTo>
                      <a:pt x="289" y="422"/>
                    </a:lnTo>
                    <a:lnTo>
                      <a:pt x="269" y="432"/>
                    </a:lnTo>
                    <a:lnTo>
                      <a:pt x="269" y="454"/>
                    </a:lnTo>
                    <a:lnTo>
                      <a:pt x="289" y="468"/>
                    </a:lnTo>
                    <a:close/>
                    <a:moveTo>
                      <a:pt x="20" y="654"/>
                    </a:moveTo>
                    <a:lnTo>
                      <a:pt x="39" y="642"/>
                    </a:lnTo>
                    <a:lnTo>
                      <a:pt x="39" y="618"/>
                    </a:lnTo>
                    <a:lnTo>
                      <a:pt x="20" y="607"/>
                    </a:lnTo>
                    <a:lnTo>
                      <a:pt x="0" y="618"/>
                    </a:lnTo>
                    <a:lnTo>
                      <a:pt x="0" y="642"/>
                    </a:lnTo>
                    <a:lnTo>
                      <a:pt x="20" y="654"/>
                    </a:lnTo>
                    <a:close/>
                    <a:moveTo>
                      <a:pt x="74" y="654"/>
                    </a:moveTo>
                    <a:lnTo>
                      <a:pt x="94" y="642"/>
                    </a:lnTo>
                    <a:lnTo>
                      <a:pt x="94" y="618"/>
                    </a:lnTo>
                    <a:lnTo>
                      <a:pt x="74" y="607"/>
                    </a:lnTo>
                    <a:lnTo>
                      <a:pt x="55" y="618"/>
                    </a:lnTo>
                    <a:lnTo>
                      <a:pt x="55" y="642"/>
                    </a:lnTo>
                    <a:lnTo>
                      <a:pt x="74" y="654"/>
                    </a:lnTo>
                    <a:close/>
                    <a:moveTo>
                      <a:pt x="129" y="654"/>
                    </a:moveTo>
                    <a:lnTo>
                      <a:pt x="149" y="642"/>
                    </a:lnTo>
                    <a:lnTo>
                      <a:pt x="149" y="618"/>
                    </a:lnTo>
                    <a:lnTo>
                      <a:pt x="129" y="607"/>
                    </a:lnTo>
                    <a:lnTo>
                      <a:pt x="108" y="618"/>
                    </a:lnTo>
                    <a:lnTo>
                      <a:pt x="108" y="642"/>
                    </a:lnTo>
                    <a:lnTo>
                      <a:pt x="129" y="654"/>
                    </a:lnTo>
                    <a:close/>
                    <a:moveTo>
                      <a:pt x="181" y="654"/>
                    </a:moveTo>
                    <a:lnTo>
                      <a:pt x="202" y="642"/>
                    </a:lnTo>
                    <a:lnTo>
                      <a:pt x="202" y="618"/>
                    </a:lnTo>
                    <a:lnTo>
                      <a:pt x="181" y="607"/>
                    </a:lnTo>
                    <a:lnTo>
                      <a:pt x="161" y="618"/>
                    </a:lnTo>
                    <a:lnTo>
                      <a:pt x="161" y="642"/>
                    </a:lnTo>
                    <a:lnTo>
                      <a:pt x="181" y="654"/>
                    </a:lnTo>
                    <a:close/>
                    <a:moveTo>
                      <a:pt x="237" y="654"/>
                    </a:moveTo>
                    <a:lnTo>
                      <a:pt x="257" y="642"/>
                    </a:lnTo>
                    <a:lnTo>
                      <a:pt x="257" y="618"/>
                    </a:lnTo>
                    <a:lnTo>
                      <a:pt x="237" y="607"/>
                    </a:lnTo>
                    <a:lnTo>
                      <a:pt x="217" y="618"/>
                    </a:lnTo>
                    <a:lnTo>
                      <a:pt x="217" y="642"/>
                    </a:lnTo>
                    <a:lnTo>
                      <a:pt x="237" y="654"/>
                    </a:lnTo>
                    <a:close/>
                    <a:moveTo>
                      <a:pt x="289" y="654"/>
                    </a:moveTo>
                    <a:lnTo>
                      <a:pt x="312" y="642"/>
                    </a:lnTo>
                    <a:lnTo>
                      <a:pt x="312" y="618"/>
                    </a:lnTo>
                    <a:lnTo>
                      <a:pt x="289" y="607"/>
                    </a:lnTo>
                    <a:lnTo>
                      <a:pt x="269" y="618"/>
                    </a:lnTo>
                    <a:lnTo>
                      <a:pt x="269" y="642"/>
                    </a:lnTo>
                    <a:lnTo>
                      <a:pt x="289" y="654"/>
                    </a:lnTo>
                    <a:close/>
                    <a:moveTo>
                      <a:pt x="20" y="279"/>
                    </a:moveTo>
                    <a:lnTo>
                      <a:pt x="39" y="269"/>
                    </a:lnTo>
                    <a:lnTo>
                      <a:pt x="39" y="246"/>
                    </a:lnTo>
                    <a:lnTo>
                      <a:pt x="20" y="233"/>
                    </a:lnTo>
                    <a:lnTo>
                      <a:pt x="0" y="246"/>
                    </a:lnTo>
                    <a:lnTo>
                      <a:pt x="0" y="269"/>
                    </a:lnTo>
                    <a:lnTo>
                      <a:pt x="20" y="279"/>
                    </a:lnTo>
                    <a:close/>
                    <a:moveTo>
                      <a:pt x="74" y="279"/>
                    </a:moveTo>
                    <a:lnTo>
                      <a:pt x="94" y="269"/>
                    </a:lnTo>
                    <a:lnTo>
                      <a:pt x="94" y="246"/>
                    </a:lnTo>
                    <a:lnTo>
                      <a:pt x="74" y="233"/>
                    </a:lnTo>
                    <a:lnTo>
                      <a:pt x="55" y="246"/>
                    </a:lnTo>
                    <a:lnTo>
                      <a:pt x="55" y="269"/>
                    </a:lnTo>
                    <a:lnTo>
                      <a:pt x="74" y="279"/>
                    </a:lnTo>
                    <a:close/>
                    <a:moveTo>
                      <a:pt x="129" y="279"/>
                    </a:moveTo>
                    <a:lnTo>
                      <a:pt x="149" y="269"/>
                    </a:lnTo>
                    <a:lnTo>
                      <a:pt x="149" y="246"/>
                    </a:lnTo>
                    <a:lnTo>
                      <a:pt x="129" y="233"/>
                    </a:lnTo>
                    <a:lnTo>
                      <a:pt x="108" y="246"/>
                    </a:lnTo>
                    <a:lnTo>
                      <a:pt x="108" y="269"/>
                    </a:lnTo>
                    <a:lnTo>
                      <a:pt x="129" y="279"/>
                    </a:lnTo>
                    <a:close/>
                    <a:moveTo>
                      <a:pt x="181" y="279"/>
                    </a:moveTo>
                    <a:lnTo>
                      <a:pt x="202" y="269"/>
                    </a:lnTo>
                    <a:lnTo>
                      <a:pt x="202" y="246"/>
                    </a:lnTo>
                    <a:lnTo>
                      <a:pt x="181" y="233"/>
                    </a:lnTo>
                    <a:lnTo>
                      <a:pt x="161" y="246"/>
                    </a:lnTo>
                    <a:lnTo>
                      <a:pt x="161" y="269"/>
                    </a:lnTo>
                    <a:lnTo>
                      <a:pt x="181" y="279"/>
                    </a:lnTo>
                    <a:close/>
                    <a:moveTo>
                      <a:pt x="237" y="279"/>
                    </a:moveTo>
                    <a:lnTo>
                      <a:pt x="257" y="269"/>
                    </a:lnTo>
                    <a:lnTo>
                      <a:pt x="257" y="246"/>
                    </a:lnTo>
                    <a:lnTo>
                      <a:pt x="237" y="233"/>
                    </a:lnTo>
                    <a:lnTo>
                      <a:pt x="217" y="246"/>
                    </a:lnTo>
                    <a:lnTo>
                      <a:pt x="217" y="269"/>
                    </a:lnTo>
                    <a:lnTo>
                      <a:pt x="237" y="279"/>
                    </a:lnTo>
                    <a:close/>
                    <a:moveTo>
                      <a:pt x="289" y="279"/>
                    </a:moveTo>
                    <a:lnTo>
                      <a:pt x="312" y="269"/>
                    </a:lnTo>
                    <a:lnTo>
                      <a:pt x="312" y="246"/>
                    </a:lnTo>
                    <a:lnTo>
                      <a:pt x="289" y="233"/>
                    </a:lnTo>
                    <a:lnTo>
                      <a:pt x="269" y="246"/>
                    </a:lnTo>
                    <a:lnTo>
                      <a:pt x="269" y="269"/>
                    </a:lnTo>
                    <a:lnTo>
                      <a:pt x="289" y="279"/>
                    </a:lnTo>
                    <a:close/>
                    <a:moveTo>
                      <a:pt x="47" y="233"/>
                    </a:moveTo>
                    <a:lnTo>
                      <a:pt x="67" y="222"/>
                    </a:lnTo>
                    <a:lnTo>
                      <a:pt x="67" y="199"/>
                    </a:lnTo>
                    <a:lnTo>
                      <a:pt x="47" y="187"/>
                    </a:lnTo>
                    <a:lnTo>
                      <a:pt x="26" y="199"/>
                    </a:lnTo>
                    <a:lnTo>
                      <a:pt x="26" y="222"/>
                    </a:lnTo>
                    <a:lnTo>
                      <a:pt x="47" y="233"/>
                    </a:lnTo>
                    <a:close/>
                    <a:moveTo>
                      <a:pt x="100" y="233"/>
                    </a:moveTo>
                    <a:lnTo>
                      <a:pt x="120" y="222"/>
                    </a:lnTo>
                    <a:lnTo>
                      <a:pt x="120" y="199"/>
                    </a:lnTo>
                    <a:lnTo>
                      <a:pt x="100" y="187"/>
                    </a:lnTo>
                    <a:lnTo>
                      <a:pt x="81" y="199"/>
                    </a:lnTo>
                    <a:lnTo>
                      <a:pt x="81" y="222"/>
                    </a:lnTo>
                    <a:lnTo>
                      <a:pt x="100" y="233"/>
                    </a:lnTo>
                    <a:close/>
                    <a:moveTo>
                      <a:pt x="155" y="233"/>
                    </a:moveTo>
                    <a:lnTo>
                      <a:pt x="175" y="222"/>
                    </a:lnTo>
                    <a:lnTo>
                      <a:pt x="175" y="199"/>
                    </a:lnTo>
                    <a:lnTo>
                      <a:pt x="155" y="187"/>
                    </a:lnTo>
                    <a:lnTo>
                      <a:pt x="135" y="199"/>
                    </a:lnTo>
                    <a:lnTo>
                      <a:pt x="135" y="222"/>
                    </a:lnTo>
                    <a:lnTo>
                      <a:pt x="155" y="233"/>
                    </a:lnTo>
                    <a:close/>
                    <a:moveTo>
                      <a:pt x="208" y="233"/>
                    </a:moveTo>
                    <a:lnTo>
                      <a:pt x="230" y="222"/>
                    </a:lnTo>
                    <a:lnTo>
                      <a:pt x="230" y="199"/>
                    </a:lnTo>
                    <a:lnTo>
                      <a:pt x="208" y="187"/>
                    </a:lnTo>
                    <a:lnTo>
                      <a:pt x="188" y="199"/>
                    </a:lnTo>
                    <a:lnTo>
                      <a:pt x="188" y="222"/>
                    </a:lnTo>
                    <a:lnTo>
                      <a:pt x="208" y="233"/>
                    </a:lnTo>
                    <a:close/>
                    <a:moveTo>
                      <a:pt x="263" y="233"/>
                    </a:moveTo>
                    <a:lnTo>
                      <a:pt x="283" y="222"/>
                    </a:lnTo>
                    <a:lnTo>
                      <a:pt x="283" y="199"/>
                    </a:lnTo>
                    <a:lnTo>
                      <a:pt x="263" y="187"/>
                    </a:lnTo>
                    <a:lnTo>
                      <a:pt x="243" y="199"/>
                    </a:lnTo>
                    <a:lnTo>
                      <a:pt x="243" y="222"/>
                    </a:lnTo>
                    <a:lnTo>
                      <a:pt x="263" y="233"/>
                    </a:lnTo>
                    <a:close/>
                    <a:moveTo>
                      <a:pt x="318" y="233"/>
                    </a:moveTo>
                    <a:lnTo>
                      <a:pt x="338" y="222"/>
                    </a:lnTo>
                    <a:lnTo>
                      <a:pt x="338" y="199"/>
                    </a:lnTo>
                    <a:lnTo>
                      <a:pt x="318" y="187"/>
                    </a:lnTo>
                    <a:lnTo>
                      <a:pt x="298" y="199"/>
                    </a:lnTo>
                    <a:lnTo>
                      <a:pt x="298" y="222"/>
                    </a:lnTo>
                    <a:lnTo>
                      <a:pt x="318" y="233"/>
                    </a:lnTo>
                    <a:close/>
                    <a:moveTo>
                      <a:pt x="20" y="187"/>
                    </a:moveTo>
                    <a:lnTo>
                      <a:pt x="39" y="175"/>
                    </a:lnTo>
                    <a:lnTo>
                      <a:pt x="39" y="153"/>
                    </a:lnTo>
                    <a:lnTo>
                      <a:pt x="20" y="140"/>
                    </a:lnTo>
                    <a:lnTo>
                      <a:pt x="0" y="153"/>
                    </a:lnTo>
                    <a:lnTo>
                      <a:pt x="0" y="175"/>
                    </a:lnTo>
                    <a:lnTo>
                      <a:pt x="20" y="187"/>
                    </a:lnTo>
                    <a:close/>
                    <a:moveTo>
                      <a:pt x="74" y="187"/>
                    </a:moveTo>
                    <a:lnTo>
                      <a:pt x="94" y="175"/>
                    </a:lnTo>
                    <a:lnTo>
                      <a:pt x="94" y="153"/>
                    </a:lnTo>
                    <a:lnTo>
                      <a:pt x="74" y="140"/>
                    </a:lnTo>
                    <a:lnTo>
                      <a:pt x="55" y="153"/>
                    </a:lnTo>
                    <a:lnTo>
                      <a:pt x="55" y="175"/>
                    </a:lnTo>
                    <a:lnTo>
                      <a:pt x="74" y="187"/>
                    </a:lnTo>
                    <a:close/>
                    <a:moveTo>
                      <a:pt x="129" y="187"/>
                    </a:moveTo>
                    <a:lnTo>
                      <a:pt x="149" y="175"/>
                    </a:lnTo>
                    <a:lnTo>
                      <a:pt x="149" y="153"/>
                    </a:lnTo>
                    <a:lnTo>
                      <a:pt x="129" y="140"/>
                    </a:lnTo>
                    <a:lnTo>
                      <a:pt x="108" y="153"/>
                    </a:lnTo>
                    <a:lnTo>
                      <a:pt x="108" y="175"/>
                    </a:lnTo>
                    <a:lnTo>
                      <a:pt x="129" y="187"/>
                    </a:lnTo>
                    <a:close/>
                    <a:moveTo>
                      <a:pt x="181" y="187"/>
                    </a:moveTo>
                    <a:lnTo>
                      <a:pt x="202" y="175"/>
                    </a:lnTo>
                    <a:lnTo>
                      <a:pt x="202" y="153"/>
                    </a:lnTo>
                    <a:lnTo>
                      <a:pt x="181" y="140"/>
                    </a:lnTo>
                    <a:lnTo>
                      <a:pt x="161" y="153"/>
                    </a:lnTo>
                    <a:lnTo>
                      <a:pt x="161" y="175"/>
                    </a:lnTo>
                    <a:lnTo>
                      <a:pt x="181" y="187"/>
                    </a:lnTo>
                    <a:close/>
                    <a:moveTo>
                      <a:pt x="237" y="187"/>
                    </a:moveTo>
                    <a:lnTo>
                      <a:pt x="257" y="175"/>
                    </a:lnTo>
                    <a:lnTo>
                      <a:pt x="257" y="153"/>
                    </a:lnTo>
                    <a:lnTo>
                      <a:pt x="237" y="140"/>
                    </a:lnTo>
                    <a:lnTo>
                      <a:pt x="217" y="153"/>
                    </a:lnTo>
                    <a:lnTo>
                      <a:pt x="217" y="175"/>
                    </a:lnTo>
                    <a:lnTo>
                      <a:pt x="237" y="187"/>
                    </a:lnTo>
                    <a:close/>
                    <a:moveTo>
                      <a:pt x="289" y="187"/>
                    </a:moveTo>
                    <a:lnTo>
                      <a:pt x="312" y="175"/>
                    </a:lnTo>
                    <a:lnTo>
                      <a:pt x="312" y="153"/>
                    </a:lnTo>
                    <a:lnTo>
                      <a:pt x="289" y="140"/>
                    </a:lnTo>
                    <a:lnTo>
                      <a:pt x="269" y="153"/>
                    </a:lnTo>
                    <a:lnTo>
                      <a:pt x="269" y="175"/>
                    </a:lnTo>
                    <a:lnTo>
                      <a:pt x="289" y="187"/>
                    </a:lnTo>
                    <a:close/>
                    <a:moveTo>
                      <a:pt x="47" y="140"/>
                    </a:moveTo>
                    <a:lnTo>
                      <a:pt x="67" y="129"/>
                    </a:lnTo>
                    <a:lnTo>
                      <a:pt x="67" y="105"/>
                    </a:lnTo>
                    <a:lnTo>
                      <a:pt x="47" y="93"/>
                    </a:lnTo>
                    <a:lnTo>
                      <a:pt x="26" y="105"/>
                    </a:lnTo>
                    <a:lnTo>
                      <a:pt x="26" y="129"/>
                    </a:lnTo>
                    <a:lnTo>
                      <a:pt x="47" y="140"/>
                    </a:lnTo>
                    <a:close/>
                    <a:moveTo>
                      <a:pt x="100" y="140"/>
                    </a:moveTo>
                    <a:lnTo>
                      <a:pt x="120" y="129"/>
                    </a:lnTo>
                    <a:lnTo>
                      <a:pt x="120" y="105"/>
                    </a:lnTo>
                    <a:lnTo>
                      <a:pt x="100" y="93"/>
                    </a:lnTo>
                    <a:lnTo>
                      <a:pt x="81" y="105"/>
                    </a:lnTo>
                    <a:lnTo>
                      <a:pt x="81" y="129"/>
                    </a:lnTo>
                    <a:lnTo>
                      <a:pt x="100" y="140"/>
                    </a:lnTo>
                    <a:close/>
                    <a:moveTo>
                      <a:pt x="155" y="140"/>
                    </a:moveTo>
                    <a:lnTo>
                      <a:pt x="175" y="129"/>
                    </a:lnTo>
                    <a:lnTo>
                      <a:pt x="175" y="105"/>
                    </a:lnTo>
                    <a:lnTo>
                      <a:pt x="155" y="93"/>
                    </a:lnTo>
                    <a:lnTo>
                      <a:pt x="135" y="105"/>
                    </a:lnTo>
                    <a:lnTo>
                      <a:pt x="135" y="129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30" y="129"/>
                    </a:lnTo>
                    <a:lnTo>
                      <a:pt x="230" y="105"/>
                    </a:lnTo>
                    <a:lnTo>
                      <a:pt x="208" y="93"/>
                    </a:lnTo>
                    <a:lnTo>
                      <a:pt x="188" y="105"/>
                    </a:lnTo>
                    <a:lnTo>
                      <a:pt x="188" y="129"/>
                    </a:lnTo>
                    <a:lnTo>
                      <a:pt x="208" y="140"/>
                    </a:lnTo>
                    <a:close/>
                    <a:moveTo>
                      <a:pt x="263" y="140"/>
                    </a:moveTo>
                    <a:lnTo>
                      <a:pt x="283" y="129"/>
                    </a:lnTo>
                    <a:lnTo>
                      <a:pt x="283" y="105"/>
                    </a:lnTo>
                    <a:lnTo>
                      <a:pt x="263" y="93"/>
                    </a:lnTo>
                    <a:lnTo>
                      <a:pt x="243" y="105"/>
                    </a:lnTo>
                    <a:lnTo>
                      <a:pt x="243" y="129"/>
                    </a:lnTo>
                    <a:lnTo>
                      <a:pt x="263" y="140"/>
                    </a:lnTo>
                    <a:close/>
                    <a:moveTo>
                      <a:pt x="318" y="140"/>
                    </a:moveTo>
                    <a:lnTo>
                      <a:pt x="338" y="129"/>
                    </a:lnTo>
                    <a:lnTo>
                      <a:pt x="338" y="105"/>
                    </a:lnTo>
                    <a:lnTo>
                      <a:pt x="318" y="93"/>
                    </a:lnTo>
                    <a:lnTo>
                      <a:pt x="298" y="105"/>
                    </a:lnTo>
                    <a:lnTo>
                      <a:pt x="298" y="129"/>
                    </a:lnTo>
                    <a:lnTo>
                      <a:pt x="318" y="140"/>
                    </a:lnTo>
                    <a:close/>
                    <a:moveTo>
                      <a:pt x="20" y="93"/>
                    </a:moveTo>
                    <a:lnTo>
                      <a:pt x="39" y="82"/>
                    </a:lnTo>
                    <a:lnTo>
                      <a:pt x="39" y="58"/>
                    </a:lnTo>
                    <a:lnTo>
                      <a:pt x="20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0" y="93"/>
                    </a:lnTo>
                    <a:close/>
                    <a:moveTo>
                      <a:pt x="74" y="93"/>
                    </a:moveTo>
                    <a:lnTo>
                      <a:pt x="94" y="82"/>
                    </a:lnTo>
                    <a:lnTo>
                      <a:pt x="94" y="58"/>
                    </a:lnTo>
                    <a:lnTo>
                      <a:pt x="74" y="47"/>
                    </a:lnTo>
                    <a:lnTo>
                      <a:pt x="55" y="58"/>
                    </a:lnTo>
                    <a:lnTo>
                      <a:pt x="55" y="82"/>
                    </a:lnTo>
                    <a:lnTo>
                      <a:pt x="74" y="93"/>
                    </a:lnTo>
                    <a:close/>
                    <a:moveTo>
                      <a:pt x="129" y="93"/>
                    </a:moveTo>
                    <a:lnTo>
                      <a:pt x="149" y="82"/>
                    </a:lnTo>
                    <a:lnTo>
                      <a:pt x="149" y="58"/>
                    </a:lnTo>
                    <a:lnTo>
                      <a:pt x="129" y="47"/>
                    </a:lnTo>
                    <a:lnTo>
                      <a:pt x="108" y="58"/>
                    </a:lnTo>
                    <a:lnTo>
                      <a:pt x="108" y="82"/>
                    </a:lnTo>
                    <a:lnTo>
                      <a:pt x="129" y="93"/>
                    </a:lnTo>
                    <a:close/>
                    <a:moveTo>
                      <a:pt x="181" y="93"/>
                    </a:moveTo>
                    <a:lnTo>
                      <a:pt x="202" y="82"/>
                    </a:lnTo>
                    <a:lnTo>
                      <a:pt x="202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3"/>
                    </a:lnTo>
                    <a:close/>
                    <a:moveTo>
                      <a:pt x="237" y="93"/>
                    </a:moveTo>
                    <a:lnTo>
                      <a:pt x="257" y="82"/>
                    </a:lnTo>
                    <a:lnTo>
                      <a:pt x="257" y="58"/>
                    </a:lnTo>
                    <a:lnTo>
                      <a:pt x="237" y="47"/>
                    </a:lnTo>
                    <a:lnTo>
                      <a:pt x="217" y="58"/>
                    </a:lnTo>
                    <a:lnTo>
                      <a:pt x="217" y="82"/>
                    </a:lnTo>
                    <a:lnTo>
                      <a:pt x="237" y="93"/>
                    </a:lnTo>
                    <a:close/>
                    <a:moveTo>
                      <a:pt x="289" y="93"/>
                    </a:moveTo>
                    <a:lnTo>
                      <a:pt x="312" y="82"/>
                    </a:lnTo>
                    <a:lnTo>
                      <a:pt x="312" y="58"/>
                    </a:lnTo>
                    <a:lnTo>
                      <a:pt x="289" y="47"/>
                    </a:lnTo>
                    <a:lnTo>
                      <a:pt x="269" y="58"/>
                    </a:lnTo>
                    <a:lnTo>
                      <a:pt x="269" y="82"/>
                    </a:lnTo>
                    <a:lnTo>
                      <a:pt x="289" y="93"/>
                    </a:lnTo>
                    <a:close/>
                    <a:moveTo>
                      <a:pt x="47" y="47"/>
                    </a:moveTo>
                    <a:lnTo>
                      <a:pt x="67" y="35"/>
                    </a:lnTo>
                    <a:lnTo>
                      <a:pt x="67" y="11"/>
                    </a:lnTo>
                    <a:lnTo>
                      <a:pt x="47" y="0"/>
                    </a:lnTo>
                    <a:lnTo>
                      <a:pt x="26" y="11"/>
                    </a:lnTo>
                    <a:lnTo>
                      <a:pt x="26" y="35"/>
                    </a:lnTo>
                    <a:lnTo>
                      <a:pt x="47" y="47"/>
                    </a:lnTo>
                    <a:close/>
                    <a:moveTo>
                      <a:pt x="100" y="47"/>
                    </a:moveTo>
                    <a:lnTo>
                      <a:pt x="120" y="35"/>
                    </a:lnTo>
                    <a:lnTo>
                      <a:pt x="120" y="11"/>
                    </a:lnTo>
                    <a:lnTo>
                      <a:pt x="100" y="0"/>
                    </a:lnTo>
                    <a:lnTo>
                      <a:pt x="81" y="11"/>
                    </a:lnTo>
                    <a:lnTo>
                      <a:pt x="81" y="35"/>
                    </a:lnTo>
                    <a:lnTo>
                      <a:pt x="100" y="47"/>
                    </a:lnTo>
                    <a:close/>
                    <a:moveTo>
                      <a:pt x="155" y="47"/>
                    </a:moveTo>
                    <a:lnTo>
                      <a:pt x="175" y="35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5" y="11"/>
                    </a:lnTo>
                    <a:lnTo>
                      <a:pt x="135" y="35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30" y="35"/>
                    </a:lnTo>
                    <a:lnTo>
                      <a:pt x="230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5"/>
                    </a:lnTo>
                    <a:lnTo>
                      <a:pt x="208" y="47"/>
                    </a:lnTo>
                    <a:close/>
                    <a:moveTo>
                      <a:pt x="263" y="47"/>
                    </a:moveTo>
                    <a:lnTo>
                      <a:pt x="283" y="35"/>
                    </a:lnTo>
                    <a:lnTo>
                      <a:pt x="283" y="11"/>
                    </a:lnTo>
                    <a:lnTo>
                      <a:pt x="263" y="0"/>
                    </a:lnTo>
                    <a:lnTo>
                      <a:pt x="243" y="11"/>
                    </a:lnTo>
                    <a:lnTo>
                      <a:pt x="243" y="35"/>
                    </a:lnTo>
                    <a:lnTo>
                      <a:pt x="263" y="47"/>
                    </a:lnTo>
                    <a:close/>
                    <a:moveTo>
                      <a:pt x="47" y="422"/>
                    </a:moveTo>
                    <a:lnTo>
                      <a:pt x="67" y="408"/>
                    </a:lnTo>
                    <a:lnTo>
                      <a:pt x="67" y="386"/>
                    </a:lnTo>
                    <a:lnTo>
                      <a:pt x="47" y="375"/>
                    </a:lnTo>
                    <a:lnTo>
                      <a:pt x="26" y="386"/>
                    </a:lnTo>
                    <a:lnTo>
                      <a:pt x="26" y="408"/>
                    </a:lnTo>
                    <a:lnTo>
                      <a:pt x="47" y="422"/>
                    </a:lnTo>
                    <a:close/>
                    <a:moveTo>
                      <a:pt x="100" y="422"/>
                    </a:moveTo>
                    <a:lnTo>
                      <a:pt x="120" y="408"/>
                    </a:lnTo>
                    <a:lnTo>
                      <a:pt x="120" y="386"/>
                    </a:lnTo>
                    <a:lnTo>
                      <a:pt x="100" y="375"/>
                    </a:lnTo>
                    <a:lnTo>
                      <a:pt x="81" y="386"/>
                    </a:lnTo>
                    <a:lnTo>
                      <a:pt x="81" y="408"/>
                    </a:lnTo>
                    <a:lnTo>
                      <a:pt x="100" y="422"/>
                    </a:lnTo>
                    <a:close/>
                    <a:moveTo>
                      <a:pt x="155" y="422"/>
                    </a:moveTo>
                    <a:lnTo>
                      <a:pt x="175" y="408"/>
                    </a:lnTo>
                    <a:lnTo>
                      <a:pt x="175" y="386"/>
                    </a:lnTo>
                    <a:lnTo>
                      <a:pt x="155" y="375"/>
                    </a:lnTo>
                    <a:lnTo>
                      <a:pt x="135" y="386"/>
                    </a:lnTo>
                    <a:lnTo>
                      <a:pt x="135" y="408"/>
                    </a:lnTo>
                    <a:lnTo>
                      <a:pt x="155" y="422"/>
                    </a:lnTo>
                    <a:close/>
                    <a:moveTo>
                      <a:pt x="208" y="422"/>
                    </a:moveTo>
                    <a:lnTo>
                      <a:pt x="230" y="408"/>
                    </a:lnTo>
                    <a:lnTo>
                      <a:pt x="230" y="386"/>
                    </a:lnTo>
                    <a:lnTo>
                      <a:pt x="208" y="375"/>
                    </a:lnTo>
                    <a:lnTo>
                      <a:pt x="188" y="386"/>
                    </a:lnTo>
                    <a:lnTo>
                      <a:pt x="188" y="408"/>
                    </a:lnTo>
                    <a:lnTo>
                      <a:pt x="208" y="422"/>
                    </a:lnTo>
                    <a:close/>
                    <a:moveTo>
                      <a:pt x="263" y="422"/>
                    </a:moveTo>
                    <a:lnTo>
                      <a:pt x="283" y="408"/>
                    </a:lnTo>
                    <a:lnTo>
                      <a:pt x="283" y="386"/>
                    </a:lnTo>
                    <a:lnTo>
                      <a:pt x="263" y="375"/>
                    </a:lnTo>
                    <a:lnTo>
                      <a:pt x="243" y="386"/>
                    </a:lnTo>
                    <a:lnTo>
                      <a:pt x="243" y="408"/>
                    </a:lnTo>
                    <a:lnTo>
                      <a:pt x="263" y="422"/>
                    </a:lnTo>
                    <a:close/>
                    <a:moveTo>
                      <a:pt x="318" y="422"/>
                    </a:moveTo>
                    <a:lnTo>
                      <a:pt x="338" y="408"/>
                    </a:lnTo>
                    <a:lnTo>
                      <a:pt x="338" y="386"/>
                    </a:lnTo>
                    <a:lnTo>
                      <a:pt x="318" y="375"/>
                    </a:lnTo>
                    <a:lnTo>
                      <a:pt x="298" y="386"/>
                    </a:lnTo>
                    <a:lnTo>
                      <a:pt x="298" y="408"/>
                    </a:lnTo>
                    <a:lnTo>
                      <a:pt x="318" y="422"/>
                    </a:lnTo>
                    <a:close/>
                    <a:moveTo>
                      <a:pt x="20" y="375"/>
                    </a:moveTo>
                    <a:lnTo>
                      <a:pt x="39" y="361"/>
                    </a:lnTo>
                    <a:lnTo>
                      <a:pt x="39" y="339"/>
                    </a:lnTo>
                    <a:lnTo>
                      <a:pt x="20" y="328"/>
                    </a:lnTo>
                    <a:lnTo>
                      <a:pt x="0" y="339"/>
                    </a:lnTo>
                    <a:lnTo>
                      <a:pt x="0" y="361"/>
                    </a:lnTo>
                    <a:lnTo>
                      <a:pt x="20" y="375"/>
                    </a:lnTo>
                    <a:close/>
                    <a:moveTo>
                      <a:pt x="74" y="375"/>
                    </a:moveTo>
                    <a:lnTo>
                      <a:pt x="94" y="361"/>
                    </a:lnTo>
                    <a:lnTo>
                      <a:pt x="94" y="339"/>
                    </a:lnTo>
                    <a:lnTo>
                      <a:pt x="74" y="328"/>
                    </a:lnTo>
                    <a:lnTo>
                      <a:pt x="55" y="339"/>
                    </a:lnTo>
                    <a:lnTo>
                      <a:pt x="55" y="361"/>
                    </a:lnTo>
                    <a:lnTo>
                      <a:pt x="74" y="375"/>
                    </a:lnTo>
                    <a:close/>
                    <a:moveTo>
                      <a:pt x="129" y="375"/>
                    </a:moveTo>
                    <a:lnTo>
                      <a:pt x="149" y="361"/>
                    </a:lnTo>
                    <a:lnTo>
                      <a:pt x="149" y="339"/>
                    </a:lnTo>
                    <a:lnTo>
                      <a:pt x="129" y="328"/>
                    </a:lnTo>
                    <a:lnTo>
                      <a:pt x="108" y="339"/>
                    </a:lnTo>
                    <a:lnTo>
                      <a:pt x="108" y="361"/>
                    </a:lnTo>
                    <a:lnTo>
                      <a:pt x="129" y="375"/>
                    </a:lnTo>
                    <a:close/>
                    <a:moveTo>
                      <a:pt x="181" y="375"/>
                    </a:moveTo>
                    <a:lnTo>
                      <a:pt x="202" y="361"/>
                    </a:lnTo>
                    <a:lnTo>
                      <a:pt x="202" y="339"/>
                    </a:lnTo>
                    <a:lnTo>
                      <a:pt x="181" y="328"/>
                    </a:lnTo>
                    <a:lnTo>
                      <a:pt x="161" y="339"/>
                    </a:lnTo>
                    <a:lnTo>
                      <a:pt x="161" y="361"/>
                    </a:lnTo>
                    <a:lnTo>
                      <a:pt x="181" y="375"/>
                    </a:lnTo>
                    <a:close/>
                    <a:moveTo>
                      <a:pt x="237" y="375"/>
                    </a:moveTo>
                    <a:lnTo>
                      <a:pt x="257" y="361"/>
                    </a:lnTo>
                    <a:lnTo>
                      <a:pt x="257" y="339"/>
                    </a:lnTo>
                    <a:lnTo>
                      <a:pt x="237" y="328"/>
                    </a:lnTo>
                    <a:lnTo>
                      <a:pt x="217" y="339"/>
                    </a:lnTo>
                    <a:lnTo>
                      <a:pt x="217" y="361"/>
                    </a:lnTo>
                    <a:lnTo>
                      <a:pt x="237" y="375"/>
                    </a:lnTo>
                    <a:close/>
                    <a:moveTo>
                      <a:pt x="289" y="375"/>
                    </a:moveTo>
                    <a:lnTo>
                      <a:pt x="312" y="361"/>
                    </a:lnTo>
                    <a:lnTo>
                      <a:pt x="312" y="339"/>
                    </a:lnTo>
                    <a:lnTo>
                      <a:pt x="289" y="328"/>
                    </a:lnTo>
                    <a:lnTo>
                      <a:pt x="269" y="339"/>
                    </a:lnTo>
                    <a:lnTo>
                      <a:pt x="269" y="361"/>
                    </a:lnTo>
                    <a:lnTo>
                      <a:pt x="289" y="375"/>
                    </a:lnTo>
                    <a:close/>
                    <a:moveTo>
                      <a:pt x="47" y="326"/>
                    </a:moveTo>
                    <a:lnTo>
                      <a:pt x="67" y="314"/>
                    </a:lnTo>
                    <a:lnTo>
                      <a:pt x="67" y="293"/>
                    </a:lnTo>
                    <a:lnTo>
                      <a:pt x="47" y="281"/>
                    </a:lnTo>
                    <a:lnTo>
                      <a:pt x="26" y="293"/>
                    </a:lnTo>
                    <a:lnTo>
                      <a:pt x="26" y="314"/>
                    </a:lnTo>
                    <a:lnTo>
                      <a:pt x="47" y="326"/>
                    </a:lnTo>
                    <a:close/>
                    <a:moveTo>
                      <a:pt x="100" y="326"/>
                    </a:moveTo>
                    <a:lnTo>
                      <a:pt x="120" y="314"/>
                    </a:lnTo>
                    <a:lnTo>
                      <a:pt x="120" y="293"/>
                    </a:lnTo>
                    <a:lnTo>
                      <a:pt x="100" y="281"/>
                    </a:lnTo>
                    <a:lnTo>
                      <a:pt x="81" y="293"/>
                    </a:lnTo>
                    <a:lnTo>
                      <a:pt x="81" y="314"/>
                    </a:lnTo>
                    <a:lnTo>
                      <a:pt x="100" y="326"/>
                    </a:lnTo>
                    <a:close/>
                    <a:moveTo>
                      <a:pt x="155" y="326"/>
                    </a:moveTo>
                    <a:lnTo>
                      <a:pt x="175" y="314"/>
                    </a:lnTo>
                    <a:lnTo>
                      <a:pt x="175" y="293"/>
                    </a:lnTo>
                    <a:lnTo>
                      <a:pt x="155" y="281"/>
                    </a:lnTo>
                    <a:lnTo>
                      <a:pt x="135" y="293"/>
                    </a:lnTo>
                    <a:lnTo>
                      <a:pt x="135" y="314"/>
                    </a:lnTo>
                    <a:lnTo>
                      <a:pt x="155" y="326"/>
                    </a:lnTo>
                    <a:close/>
                    <a:moveTo>
                      <a:pt x="208" y="326"/>
                    </a:moveTo>
                    <a:lnTo>
                      <a:pt x="230" y="314"/>
                    </a:lnTo>
                    <a:lnTo>
                      <a:pt x="230" y="293"/>
                    </a:lnTo>
                    <a:lnTo>
                      <a:pt x="208" y="281"/>
                    </a:lnTo>
                    <a:lnTo>
                      <a:pt x="188" y="293"/>
                    </a:lnTo>
                    <a:lnTo>
                      <a:pt x="188" y="314"/>
                    </a:lnTo>
                    <a:lnTo>
                      <a:pt x="208" y="326"/>
                    </a:lnTo>
                    <a:close/>
                    <a:moveTo>
                      <a:pt x="263" y="326"/>
                    </a:moveTo>
                    <a:lnTo>
                      <a:pt x="283" y="314"/>
                    </a:lnTo>
                    <a:lnTo>
                      <a:pt x="283" y="293"/>
                    </a:lnTo>
                    <a:lnTo>
                      <a:pt x="263" y="281"/>
                    </a:lnTo>
                    <a:lnTo>
                      <a:pt x="243" y="293"/>
                    </a:lnTo>
                    <a:lnTo>
                      <a:pt x="243" y="314"/>
                    </a:lnTo>
                    <a:lnTo>
                      <a:pt x="263" y="326"/>
                    </a:lnTo>
                    <a:close/>
                    <a:moveTo>
                      <a:pt x="318" y="326"/>
                    </a:moveTo>
                    <a:lnTo>
                      <a:pt x="338" y="314"/>
                    </a:lnTo>
                    <a:lnTo>
                      <a:pt x="338" y="293"/>
                    </a:lnTo>
                    <a:lnTo>
                      <a:pt x="318" y="281"/>
                    </a:lnTo>
                    <a:lnTo>
                      <a:pt x="298" y="293"/>
                    </a:lnTo>
                    <a:lnTo>
                      <a:pt x="298" y="314"/>
                    </a:lnTo>
                    <a:lnTo>
                      <a:pt x="318" y="326"/>
                    </a:lnTo>
                    <a:close/>
                    <a:moveTo>
                      <a:pt x="371" y="514"/>
                    </a:moveTo>
                    <a:lnTo>
                      <a:pt x="392" y="504"/>
                    </a:lnTo>
                    <a:lnTo>
                      <a:pt x="392" y="478"/>
                    </a:lnTo>
                    <a:lnTo>
                      <a:pt x="371" y="468"/>
                    </a:lnTo>
                    <a:lnTo>
                      <a:pt x="351" y="478"/>
                    </a:lnTo>
                    <a:lnTo>
                      <a:pt x="351" y="504"/>
                    </a:lnTo>
                    <a:lnTo>
                      <a:pt x="371" y="514"/>
                    </a:lnTo>
                    <a:close/>
                    <a:moveTo>
                      <a:pt x="426" y="514"/>
                    </a:moveTo>
                    <a:lnTo>
                      <a:pt x="445" y="504"/>
                    </a:lnTo>
                    <a:lnTo>
                      <a:pt x="445" y="478"/>
                    </a:lnTo>
                    <a:lnTo>
                      <a:pt x="426" y="468"/>
                    </a:lnTo>
                    <a:lnTo>
                      <a:pt x="406" y="478"/>
                    </a:lnTo>
                    <a:lnTo>
                      <a:pt x="406" y="504"/>
                    </a:lnTo>
                    <a:lnTo>
                      <a:pt x="426" y="514"/>
                    </a:lnTo>
                    <a:close/>
                    <a:moveTo>
                      <a:pt x="480" y="514"/>
                    </a:moveTo>
                    <a:lnTo>
                      <a:pt x="500" y="504"/>
                    </a:lnTo>
                    <a:lnTo>
                      <a:pt x="500" y="478"/>
                    </a:lnTo>
                    <a:lnTo>
                      <a:pt x="480" y="468"/>
                    </a:lnTo>
                    <a:lnTo>
                      <a:pt x="458" y="478"/>
                    </a:lnTo>
                    <a:lnTo>
                      <a:pt x="458" y="504"/>
                    </a:lnTo>
                    <a:lnTo>
                      <a:pt x="480" y="514"/>
                    </a:lnTo>
                    <a:close/>
                    <a:moveTo>
                      <a:pt x="532" y="514"/>
                    </a:moveTo>
                    <a:lnTo>
                      <a:pt x="552" y="504"/>
                    </a:lnTo>
                    <a:lnTo>
                      <a:pt x="552" y="478"/>
                    </a:lnTo>
                    <a:lnTo>
                      <a:pt x="532" y="468"/>
                    </a:lnTo>
                    <a:lnTo>
                      <a:pt x="514" y="478"/>
                    </a:lnTo>
                    <a:lnTo>
                      <a:pt x="514" y="504"/>
                    </a:lnTo>
                    <a:lnTo>
                      <a:pt x="532" y="514"/>
                    </a:lnTo>
                    <a:close/>
                    <a:moveTo>
                      <a:pt x="586" y="514"/>
                    </a:moveTo>
                    <a:lnTo>
                      <a:pt x="608" y="504"/>
                    </a:lnTo>
                    <a:lnTo>
                      <a:pt x="608" y="478"/>
                    </a:lnTo>
                    <a:lnTo>
                      <a:pt x="586" y="468"/>
                    </a:lnTo>
                    <a:lnTo>
                      <a:pt x="566" y="478"/>
                    </a:lnTo>
                    <a:lnTo>
                      <a:pt x="566" y="504"/>
                    </a:lnTo>
                    <a:lnTo>
                      <a:pt x="586" y="514"/>
                    </a:lnTo>
                    <a:close/>
                    <a:moveTo>
                      <a:pt x="452" y="468"/>
                    </a:moveTo>
                    <a:lnTo>
                      <a:pt x="473" y="454"/>
                    </a:lnTo>
                    <a:lnTo>
                      <a:pt x="473" y="432"/>
                    </a:lnTo>
                    <a:lnTo>
                      <a:pt x="452" y="422"/>
                    </a:lnTo>
                    <a:lnTo>
                      <a:pt x="432" y="432"/>
                    </a:lnTo>
                    <a:lnTo>
                      <a:pt x="432" y="454"/>
                    </a:lnTo>
                    <a:lnTo>
                      <a:pt x="452" y="468"/>
                    </a:lnTo>
                    <a:close/>
                    <a:moveTo>
                      <a:pt x="505" y="468"/>
                    </a:moveTo>
                    <a:lnTo>
                      <a:pt x="526" y="454"/>
                    </a:lnTo>
                    <a:lnTo>
                      <a:pt x="526" y="432"/>
                    </a:lnTo>
                    <a:lnTo>
                      <a:pt x="505" y="422"/>
                    </a:lnTo>
                    <a:lnTo>
                      <a:pt x="485" y="432"/>
                    </a:lnTo>
                    <a:lnTo>
                      <a:pt x="485" y="454"/>
                    </a:lnTo>
                    <a:lnTo>
                      <a:pt x="505" y="468"/>
                    </a:lnTo>
                    <a:close/>
                    <a:moveTo>
                      <a:pt x="560" y="468"/>
                    </a:moveTo>
                    <a:lnTo>
                      <a:pt x="579" y="454"/>
                    </a:lnTo>
                    <a:lnTo>
                      <a:pt x="579" y="432"/>
                    </a:lnTo>
                    <a:lnTo>
                      <a:pt x="560" y="422"/>
                    </a:lnTo>
                    <a:lnTo>
                      <a:pt x="540" y="432"/>
                    </a:lnTo>
                    <a:lnTo>
                      <a:pt x="540" y="454"/>
                    </a:lnTo>
                    <a:lnTo>
                      <a:pt x="560" y="468"/>
                    </a:lnTo>
                    <a:close/>
                    <a:moveTo>
                      <a:pt x="344" y="468"/>
                    </a:moveTo>
                    <a:lnTo>
                      <a:pt x="364" y="454"/>
                    </a:lnTo>
                    <a:lnTo>
                      <a:pt x="364" y="432"/>
                    </a:lnTo>
                    <a:lnTo>
                      <a:pt x="344" y="422"/>
                    </a:lnTo>
                    <a:lnTo>
                      <a:pt x="324" y="432"/>
                    </a:lnTo>
                    <a:lnTo>
                      <a:pt x="324" y="454"/>
                    </a:lnTo>
                    <a:lnTo>
                      <a:pt x="344" y="468"/>
                    </a:lnTo>
                    <a:close/>
                    <a:moveTo>
                      <a:pt x="400" y="468"/>
                    </a:moveTo>
                    <a:lnTo>
                      <a:pt x="418" y="454"/>
                    </a:lnTo>
                    <a:lnTo>
                      <a:pt x="418" y="432"/>
                    </a:lnTo>
                    <a:lnTo>
                      <a:pt x="400" y="422"/>
                    </a:lnTo>
                    <a:lnTo>
                      <a:pt x="379" y="432"/>
                    </a:lnTo>
                    <a:lnTo>
                      <a:pt x="379" y="454"/>
                    </a:lnTo>
                    <a:lnTo>
                      <a:pt x="400" y="468"/>
                    </a:lnTo>
                    <a:close/>
                    <a:moveTo>
                      <a:pt x="560" y="279"/>
                    </a:moveTo>
                    <a:lnTo>
                      <a:pt x="579" y="269"/>
                    </a:lnTo>
                    <a:lnTo>
                      <a:pt x="579" y="246"/>
                    </a:lnTo>
                    <a:lnTo>
                      <a:pt x="560" y="233"/>
                    </a:lnTo>
                    <a:lnTo>
                      <a:pt x="540" y="246"/>
                    </a:lnTo>
                    <a:lnTo>
                      <a:pt x="540" y="269"/>
                    </a:lnTo>
                    <a:lnTo>
                      <a:pt x="560" y="279"/>
                    </a:lnTo>
                    <a:close/>
                    <a:moveTo>
                      <a:pt x="344" y="279"/>
                    </a:moveTo>
                    <a:lnTo>
                      <a:pt x="364" y="269"/>
                    </a:lnTo>
                    <a:lnTo>
                      <a:pt x="364" y="246"/>
                    </a:lnTo>
                    <a:lnTo>
                      <a:pt x="344" y="233"/>
                    </a:lnTo>
                    <a:lnTo>
                      <a:pt x="324" y="246"/>
                    </a:lnTo>
                    <a:lnTo>
                      <a:pt x="324" y="269"/>
                    </a:lnTo>
                    <a:lnTo>
                      <a:pt x="344" y="279"/>
                    </a:lnTo>
                    <a:close/>
                    <a:moveTo>
                      <a:pt x="400" y="279"/>
                    </a:moveTo>
                    <a:lnTo>
                      <a:pt x="418" y="269"/>
                    </a:lnTo>
                    <a:lnTo>
                      <a:pt x="418" y="246"/>
                    </a:lnTo>
                    <a:lnTo>
                      <a:pt x="400" y="233"/>
                    </a:lnTo>
                    <a:lnTo>
                      <a:pt x="379" y="246"/>
                    </a:lnTo>
                    <a:lnTo>
                      <a:pt x="379" y="269"/>
                    </a:lnTo>
                    <a:lnTo>
                      <a:pt x="400" y="279"/>
                    </a:lnTo>
                    <a:close/>
                    <a:moveTo>
                      <a:pt x="452" y="279"/>
                    </a:moveTo>
                    <a:lnTo>
                      <a:pt x="473" y="269"/>
                    </a:lnTo>
                    <a:lnTo>
                      <a:pt x="473" y="246"/>
                    </a:lnTo>
                    <a:lnTo>
                      <a:pt x="452" y="233"/>
                    </a:lnTo>
                    <a:lnTo>
                      <a:pt x="432" y="246"/>
                    </a:lnTo>
                    <a:lnTo>
                      <a:pt x="432" y="269"/>
                    </a:lnTo>
                    <a:lnTo>
                      <a:pt x="452" y="279"/>
                    </a:lnTo>
                    <a:close/>
                    <a:moveTo>
                      <a:pt x="505" y="279"/>
                    </a:moveTo>
                    <a:lnTo>
                      <a:pt x="526" y="269"/>
                    </a:lnTo>
                    <a:lnTo>
                      <a:pt x="526" y="246"/>
                    </a:lnTo>
                    <a:lnTo>
                      <a:pt x="505" y="233"/>
                    </a:lnTo>
                    <a:lnTo>
                      <a:pt x="485" y="246"/>
                    </a:lnTo>
                    <a:lnTo>
                      <a:pt x="485" y="269"/>
                    </a:lnTo>
                    <a:lnTo>
                      <a:pt x="505" y="279"/>
                    </a:lnTo>
                    <a:close/>
                    <a:moveTo>
                      <a:pt x="371" y="233"/>
                    </a:moveTo>
                    <a:lnTo>
                      <a:pt x="392" y="222"/>
                    </a:lnTo>
                    <a:lnTo>
                      <a:pt x="392" y="199"/>
                    </a:lnTo>
                    <a:lnTo>
                      <a:pt x="371" y="187"/>
                    </a:lnTo>
                    <a:lnTo>
                      <a:pt x="351" y="199"/>
                    </a:lnTo>
                    <a:lnTo>
                      <a:pt x="351" y="222"/>
                    </a:lnTo>
                    <a:lnTo>
                      <a:pt x="371" y="233"/>
                    </a:lnTo>
                    <a:close/>
                    <a:moveTo>
                      <a:pt x="426" y="233"/>
                    </a:moveTo>
                    <a:lnTo>
                      <a:pt x="445" y="222"/>
                    </a:lnTo>
                    <a:lnTo>
                      <a:pt x="445" y="199"/>
                    </a:lnTo>
                    <a:lnTo>
                      <a:pt x="426" y="187"/>
                    </a:lnTo>
                    <a:lnTo>
                      <a:pt x="406" y="199"/>
                    </a:lnTo>
                    <a:lnTo>
                      <a:pt x="406" y="222"/>
                    </a:lnTo>
                    <a:lnTo>
                      <a:pt x="426" y="233"/>
                    </a:lnTo>
                    <a:close/>
                    <a:moveTo>
                      <a:pt x="480" y="233"/>
                    </a:moveTo>
                    <a:lnTo>
                      <a:pt x="500" y="222"/>
                    </a:lnTo>
                    <a:lnTo>
                      <a:pt x="500" y="199"/>
                    </a:lnTo>
                    <a:lnTo>
                      <a:pt x="480" y="187"/>
                    </a:lnTo>
                    <a:lnTo>
                      <a:pt x="458" y="199"/>
                    </a:lnTo>
                    <a:lnTo>
                      <a:pt x="458" y="222"/>
                    </a:lnTo>
                    <a:lnTo>
                      <a:pt x="480" y="233"/>
                    </a:lnTo>
                    <a:close/>
                    <a:moveTo>
                      <a:pt x="532" y="233"/>
                    </a:moveTo>
                    <a:lnTo>
                      <a:pt x="552" y="222"/>
                    </a:lnTo>
                    <a:lnTo>
                      <a:pt x="552" y="199"/>
                    </a:lnTo>
                    <a:lnTo>
                      <a:pt x="532" y="187"/>
                    </a:lnTo>
                    <a:lnTo>
                      <a:pt x="514" y="199"/>
                    </a:lnTo>
                    <a:lnTo>
                      <a:pt x="514" y="222"/>
                    </a:lnTo>
                    <a:lnTo>
                      <a:pt x="532" y="233"/>
                    </a:lnTo>
                    <a:close/>
                    <a:moveTo>
                      <a:pt x="344" y="187"/>
                    </a:moveTo>
                    <a:lnTo>
                      <a:pt x="364" y="175"/>
                    </a:lnTo>
                    <a:lnTo>
                      <a:pt x="364" y="153"/>
                    </a:lnTo>
                    <a:lnTo>
                      <a:pt x="344" y="140"/>
                    </a:lnTo>
                    <a:lnTo>
                      <a:pt x="324" y="153"/>
                    </a:lnTo>
                    <a:lnTo>
                      <a:pt x="324" y="175"/>
                    </a:lnTo>
                    <a:lnTo>
                      <a:pt x="344" y="187"/>
                    </a:lnTo>
                    <a:close/>
                    <a:moveTo>
                      <a:pt x="400" y="187"/>
                    </a:moveTo>
                    <a:lnTo>
                      <a:pt x="418" y="175"/>
                    </a:lnTo>
                    <a:lnTo>
                      <a:pt x="418" y="153"/>
                    </a:lnTo>
                    <a:lnTo>
                      <a:pt x="400" y="140"/>
                    </a:lnTo>
                    <a:lnTo>
                      <a:pt x="379" y="153"/>
                    </a:lnTo>
                    <a:lnTo>
                      <a:pt x="379" y="175"/>
                    </a:lnTo>
                    <a:lnTo>
                      <a:pt x="400" y="187"/>
                    </a:lnTo>
                    <a:close/>
                    <a:moveTo>
                      <a:pt x="452" y="187"/>
                    </a:moveTo>
                    <a:lnTo>
                      <a:pt x="473" y="175"/>
                    </a:lnTo>
                    <a:lnTo>
                      <a:pt x="473" y="153"/>
                    </a:lnTo>
                    <a:lnTo>
                      <a:pt x="452" y="140"/>
                    </a:lnTo>
                    <a:lnTo>
                      <a:pt x="432" y="153"/>
                    </a:lnTo>
                    <a:lnTo>
                      <a:pt x="432" y="175"/>
                    </a:lnTo>
                    <a:lnTo>
                      <a:pt x="452" y="187"/>
                    </a:lnTo>
                    <a:close/>
                    <a:moveTo>
                      <a:pt x="505" y="187"/>
                    </a:moveTo>
                    <a:lnTo>
                      <a:pt x="526" y="175"/>
                    </a:lnTo>
                    <a:lnTo>
                      <a:pt x="526" y="153"/>
                    </a:lnTo>
                    <a:lnTo>
                      <a:pt x="505" y="140"/>
                    </a:lnTo>
                    <a:lnTo>
                      <a:pt x="485" y="153"/>
                    </a:lnTo>
                    <a:lnTo>
                      <a:pt x="485" y="175"/>
                    </a:lnTo>
                    <a:lnTo>
                      <a:pt x="505" y="187"/>
                    </a:lnTo>
                    <a:close/>
                    <a:moveTo>
                      <a:pt x="560" y="187"/>
                    </a:moveTo>
                    <a:lnTo>
                      <a:pt x="579" y="175"/>
                    </a:lnTo>
                    <a:lnTo>
                      <a:pt x="579" y="153"/>
                    </a:lnTo>
                    <a:lnTo>
                      <a:pt x="560" y="140"/>
                    </a:lnTo>
                    <a:lnTo>
                      <a:pt x="540" y="153"/>
                    </a:lnTo>
                    <a:lnTo>
                      <a:pt x="540" y="175"/>
                    </a:lnTo>
                    <a:lnTo>
                      <a:pt x="560" y="187"/>
                    </a:lnTo>
                    <a:close/>
                    <a:moveTo>
                      <a:pt x="480" y="422"/>
                    </a:moveTo>
                    <a:lnTo>
                      <a:pt x="500" y="408"/>
                    </a:lnTo>
                    <a:lnTo>
                      <a:pt x="500" y="386"/>
                    </a:lnTo>
                    <a:lnTo>
                      <a:pt x="480" y="375"/>
                    </a:lnTo>
                    <a:lnTo>
                      <a:pt x="458" y="386"/>
                    </a:lnTo>
                    <a:lnTo>
                      <a:pt x="458" y="408"/>
                    </a:lnTo>
                    <a:lnTo>
                      <a:pt x="480" y="422"/>
                    </a:lnTo>
                    <a:close/>
                    <a:moveTo>
                      <a:pt x="532" y="422"/>
                    </a:moveTo>
                    <a:lnTo>
                      <a:pt x="552" y="408"/>
                    </a:lnTo>
                    <a:lnTo>
                      <a:pt x="552" y="386"/>
                    </a:lnTo>
                    <a:lnTo>
                      <a:pt x="532" y="375"/>
                    </a:lnTo>
                    <a:lnTo>
                      <a:pt x="514" y="386"/>
                    </a:lnTo>
                    <a:lnTo>
                      <a:pt x="514" y="408"/>
                    </a:lnTo>
                    <a:lnTo>
                      <a:pt x="532" y="422"/>
                    </a:lnTo>
                    <a:close/>
                    <a:moveTo>
                      <a:pt x="586" y="422"/>
                    </a:moveTo>
                    <a:lnTo>
                      <a:pt x="608" y="408"/>
                    </a:lnTo>
                    <a:lnTo>
                      <a:pt x="608" y="386"/>
                    </a:lnTo>
                    <a:lnTo>
                      <a:pt x="586" y="375"/>
                    </a:lnTo>
                    <a:lnTo>
                      <a:pt x="566" y="386"/>
                    </a:lnTo>
                    <a:lnTo>
                      <a:pt x="566" y="408"/>
                    </a:lnTo>
                    <a:lnTo>
                      <a:pt x="586" y="422"/>
                    </a:lnTo>
                    <a:close/>
                    <a:moveTo>
                      <a:pt x="371" y="422"/>
                    </a:moveTo>
                    <a:lnTo>
                      <a:pt x="392" y="408"/>
                    </a:lnTo>
                    <a:lnTo>
                      <a:pt x="392" y="386"/>
                    </a:lnTo>
                    <a:lnTo>
                      <a:pt x="371" y="375"/>
                    </a:lnTo>
                    <a:lnTo>
                      <a:pt x="351" y="386"/>
                    </a:lnTo>
                    <a:lnTo>
                      <a:pt x="351" y="408"/>
                    </a:lnTo>
                    <a:lnTo>
                      <a:pt x="371" y="422"/>
                    </a:lnTo>
                    <a:close/>
                    <a:moveTo>
                      <a:pt x="426" y="422"/>
                    </a:moveTo>
                    <a:lnTo>
                      <a:pt x="445" y="408"/>
                    </a:lnTo>
                    <a:lnTo>
                      <a:pt x="445" y="386"/>
                    </a:lnTo>
                    <a:lnTo>
                      <a:pt x="426" y="375"/>
                    </a:lnTo>
                    <a:lnTo>
                      <a:pt x="406" y="386"/>
                    </a:lnTo>
                    <a:lnTo>
                      <a:pt x="406" y="408"/>
                    </a:lnTo>
                    <a:lnTo>
                      <a:pt x="426" y="422"/>
                    </a:lnTo>
                    <a:close/>
                    <a:moveTo>
                      <a:pt x="400" y="375"/>
                    </a:moveTo>
                    <a:lnTo>
                      <a:pt x="418" y="361"/>
                    </a:lnTo>
                    <a:lnTo>
                      <a:pt x="418" y="339"/>
                    </a:lnTo>
                    <a:lnTo>
                      <a:pt x="400" y="328"/>
                    </a:lnTo>
                    <a:lnTo>
                      <a:pt x="379" y="339"/>
                    </a:lnTo>
                    <a:lnTo>
                      <a:pt x="379" y="361"/>
                    </a:lnTo>
                    <a:lnTo>
                      <a:pt x="400" y="375"/>
                    </a:lnTo>
                    <a:close/>
                    <a:moveTo>
                      <a:pt x="452" y="375"/>
                    </a:moveTo>
                    <a:lnTo>
                      <a:pt x="473" y="361"/>
                    </a:lnTo>
                    <a:lnTo>
                      <a:pt x="473" y="339"/>
                    </a:lnTo>
                    <a:lnTo>
                      <a:pt x="452" y="328"/>
                    </a:lnTo>
                    <a:lnTo>
                      <a:pt x="432" y="339"/>
                    </a:lnTo>
                    <a:lnTo>
                      <a:pt x="432" y="361"/>
                    </a:lnTo>
                    <a:lnTo>
                      <a:pt x="452" y="375"/>
                    </a:lnTo>
                    <a:close/>
                    <a:moveTo>
                      <a:pt x="505" y="375"/>
                    </a:moveTo>
                    <a:lnTo>
                      <a:pt x="526" y="361"/>
                    </a:lnTo>
                    <a:lnTo>
                      <a:pt x="526" y="339"/>
                    </a:lnTo>
                    <a:lnTo>
                      <a:pt x="505" y="328"/>
                    </a:lnTo>
                    <a:lnTo>
                      <a:pt x="485" y="339"/>
                    </a:lnTo>
                    <a:lnTo>
                      <a:pt x="485" y="361"/>
                    </a:lnTo>
                    <a:lnTo>
                      <a:pt x="505" y="375"/>
                    </a:lnTo>
                    <a:close/>
                    <a:moveTo>
                      <a:pt x="560" y="375"/>
                    </a:moveTo>
                    <a:lnTo>
                      <a:pt x="579" y="361"/>
                    </a:lnTo>
                    <a:lnTo>
                      <a:pt x="579" y="339"/>
                    </a:lnTo>
                    <a:lnTo>
                      <a:pt x="560" y="328"/>
                    </a:lnTo>
                    <a:lnTo>
                      <a:pt x="540" y="339"/>
                    </a:lnTo>
                    <a:lnTo>
                      <a:pt x="540" y="361"/>
                    </a:lnTo>
                    <a:lnTo>
                      <a:pt x="560" y="375"/>
                    </a:lnTo>
                    <a:close/>
                    <a:moveTo>
                      <a:pt x="344" y="375"/>
                    </a:moveTo>
                    <a:lnTo>
                      <a:pt x="364" y="361"/>
                    </a:lnTo>
                    <a:lnTo>
                      <a:pt x="364" y="339"/>
                    </a:lnTo>
                    <a:lnTo>
                      <a:pt x="344" y="328"/>
                    </a:lnTo>
                    <a:lnTo>
                      <a:pt x="324" y="339"/>
                    </a:lnTo>
                    <a:lnTo>
                      <a:pt x="324" y="361"/>
                    </a:lnTo>
                    <a:lnTo>
                      <a:pt x="344" y="375"/>
                    </a:lnTo>
                    <a:close/>
                    <a:moveTo>
                      <a:pt x="371" y="326"/>
                    </a:moveTo>
                    <a:lnTo>
                      <a:pt x="392" y="314"/>
                    </a:lnTo>
                    <a:lnTo>
                      <a:pt x="392" y="293"/>
                    </a:lnTo>
                    <a:lnTo>
                      <a:pt x="371" y="281"/>
                    </a:lnTo>
                    <a:lnTo>
                      <a:pt x="351" y="293"/>
                    </a:lnTo>
                    <a:lnTo>
                      <a:pt x="351" y="314"/>
                    </a:lnTo>
                    <a:lnTo>
                      <a:pt x="371" y="326"/>
                    </a:lnTo>
                    <a:close/>
                    <a:moveTo>
                      <a:pt x="426" y="326"/>
                    </a:moveTo>
                    <a:lnTo>
                      <a:pt x="445" y="314"/>
                    </a:lnTo>
                    <a:lnTo>
                      <a:pt x="445" y="293"/>
                    </a:lnTo>
                    <a:lnTo>
                      <a:pt x="426" y="281"/>
                    </a:lnTo>
                    <a:lnTo>
                      <a:pt x="406" y="293"/>
                    </a:lnTo>
                    <a:lnTo>
                      <a:pt x="406" y="314"/>
                    </a:lnTo>
                    <a:lnTo>
                      <a:pt x="426" y="326"/>
                    </a:lnTo>
                    <a:close/>
                    <a:moveTo>
                      <a:pt x="480" y="326"/>
                    </a:moveTo>
                    <a:lnTo>
                      <a:pt x="500" y="314"/>
                    </a:lnTo>
                    <a:lnTo>
                      <a:pt x="500" y="293"/>
                    </a:lnTo>
                    <a:lnTo>
                      <a:pt x="480" y="281"/>
                    </a:lnTo>
                    <a:lnTo>
                      <a:pt x="458" y="293"/>
                    </a:lnTo>
                    <a:lnTo>
                      <a:pt x="458" y="314"/>
                    </a:lnTo>
                    <a:lnTo>
                      <a:pt x="480" y="326"/>
                    </a:lnTo>
                    <a:close/>
                    <a:moveTo>
                      <a:pt x="532" y="326"/>
                    </a:moveTo>
                    <a:lnTo>
                      <a:pt x="552" y="314"/>
                    </a:lnTo>
                    <a:lnTo>
                      <a:pt x="552" y="293"/>
                    </a:lnTo>
                    <a:lnTo>
                      <a:pt x="532" y="281"/>
                    </a:lnTo>
                    <a:lnTo>
                      <a:pt x="514" y="293"/>
                    </a:lnTo>
                    <a:lnTo>
                      <a:pt x="514" y="314"/>
                    </a:lnTo>
                    <a:lnTo>
                      <a:pt x="532" y="326"/>
                    </a:lnTo>
                    <a:close/>
                    <a:moveTo>
                      <a:pt x="480" y="140"/>
                    </a:moveTo>
                    <a:lnTo>
                      <a:pt x="500" y="129"/>
                    </a:lnTo>
                    <a:lnTo>
                      <a:pt x="500" y="105"/>
                    </a:lnTo>
                    <a:lnTo>
                      <a:pt x="480" y="93"/>
                    </a:lnTo>
                    <a:lnTo>
                      <a:pt x="458" y="105"/>
                    </a:lnTo>
                    <a:lnTo>
                      <a:pt x="458" y="129"/>
                    </a:lnTo>
                    <a:lnTo>
                      <a:pt x="480" y="140"/>
                    </a:lnTo>
                    <a:close/>
                    <a:moveTo>
                      <a:pt x="532" y="140"/>
                    </a:moveTo>
                    <a:lnTo>
                      <a:pt x="552" y="129"/>
                    </a:lnTo>
                    <a:lnTo>
                      <a:pt x="552" y="105"/>
                    </a:lnTo>
                    <a:lnTo>
                      <a:pt x="532" y="93"/>
                    </a:lnTo>
                    <a:lnTo>
                      <a:pt x="514" y="105"/>
                    </a:lnTo>
                    <a:lnTo>
                      <a:pt x="514" y="129"/>
                    </a:lnTo>
                    <a:lnTo>
                      <a:pt x="532" y="140"/>
                    </a:lnTo>
                    <a:close/>
                    <a:moveTo>
                      <a:pt x="505" y="93"/>
                    </a:moveTo>
                    <a:lnTo>
                      <a:pt x="526" y="82"/>
                    </a:lnTo>
                    <a:lnTo>
                      <a:pt x="526" y="58"/>
                    </a:lnTo>
                    <a:lnTo>
                      <a:pt x="505" y="47"/>
                    </a:lnTo>
                    <a:lnTo>
                      <a:pt x="485" y="58"/>
                    </a:lnTo>
                    <a:lnTo>
                      <a:pt x="485" y="82"/>
                    </a:lnTo>
                    <a:lnTo>
                      <a:pt x="505" y="93"/>
                    </a:lnTo>
                    <a:close/>
                    <a:moveTo>
                      <a:pt x="560" y="93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60" y="47"/>
                    </a:lnTo>
                    <a:lnTo>
                      <a:pt x="540" y="58"/>
                    </a:lnTo>
                    <a:lnTo>
                      <a:pt x="540" y="82"/>
                    </a:lnTo>
                    <a:lnTo>
                      <a:pt x="560" y="93"/>
                    </a:lnTo>
                    <a:close/>
                    <a:moveTo>
                      <a:pt x="371" y="140"/>
                    </a:moveTo>
                    <a:lnTo>
                      <a:pt x="392" y="129"/>
                    </a:lnTo>
                    <a:lnTo>
                      <a:pt x="392" y="105"/>
                    </a:lnTo>
                    <a:lnTo>
                      <a:pt x="371" y="93"/>
                    </a:lnTo>
                    <a:lnTo>
                      <a:pt x="351" y="105"/>
                    </a:lnTo>
                    <a:lnTo>
                      <a:pt x="351" y="129"/>
                    </a:lnTo>
                    <a:lnTo>
                      <a:pt x="371" y="140"/>
                    </a:lnTo>
                    <a:close/>
                    <a:moveTo>
                      <a:pt x="426" y="140"/>
                    </a:moveTo>
                    <a:lnTo>
                      <a:pt x="445" y="129"/>
                    </a:lnTo>
                    <a:lnTo>
                      <a:pt x="445" y="105"/>
                    </a:lnTo>
                    <a:lnTo>
                      <a:pt x="426" y="93"/>
                    </a:lnTo>
                    <a:lnTo>
                      <a:pt x="406" y="105"/>
                    </a:lnTo>
                    <a:lnTo>
                      <a:pt x="406" y="129"/>
                    </a:lnTo>
                    <a:lnTo>
                      <a:pt x="426" y="140"/>
                    </a:lnTo>
                    <a:close/>
                    <a:moveTo>
                      <a:pt x="748" y="607"/>
                    </a:moveTo>
                    <a:lnTo>
                      <a:pt x="768" y="596"/>
                    </a:lnTo>
                    <a:lnTo>
                      <a:pt x="768" y="572"/>
                    </a:lnTo>
                    <a:lnTo>
                      <a:pt x="748" y="560"/>
                    </a:lnTo>
                    <a:lnTo>
                      <a:pt x="728" y="572"/>
                    </a:lnTo>
                    <a:lnTo>
                      <a:pt x="728" y="596"/>
                    </a:lnTo>
                    <a:lnTo>
                      <a:pt x="748" y="607"/>
                    </a:lnTo>
                    <a:close/>
                    <a:moveTo>
                      <a:pt x="803" y="607"/>
                    </a:moveTo>
                    <a:lnTo>
                      <a:pt x="823" y="596"/>
                    </a:lnTo>
                    <a:lnTo>
                      <a:pt x="823" y="572"/>
                    </a:lnTo>
                    <a:lnTo>
                      <a:pt x="803" y="560"/>
                    </a:lnTo>
                    <a:lnTo>
                      <a:pt x="783" y="572"/>
                    </a:lnTo>
                    <a:lnTo>
                      <a:pt x="783" y="596"/>
                    </a:lnTo>
                    <a:lnTo>
                      <a:pt x="803" y="607"/>
                    </a:lnTo>
                    <a:close/>
                    <a:moveTo>
                      <a:pt x="858" y="607"/>
                    </a:moveTo>
                    <a:lnTo>
                      <a:pt x="878" y="596"/>
                    </a:lnTo>
                    <a:lnTo>
                      <a:pt x="878" y="572"/>
                    </a:lnTo>
                    <a:lnTo>
                      <a:pt x="858" y="560"/>
                    </a:lnTo>
                    <a:lnTo>
                      <a:pt x="836" y="572"/>
                    </a:lnTo>
                    <a:lnTo>
                      <a:pt x="836" y="596"/>
                    </a:lnTo>
                    <a:lnTo>
                      <a:pt x="858" y="607"/>
                    </a:lnTo>
                    <a:close/>
                    <a:moveTo>
                      <a:pt x="911" y="607"/>
                    </a:moveTo>
                    <a:lnTo>
                      <a:pt x="931" y="596"/>
                    </a:lnTo>
                    <a:lnTo>
                      <a:pt x="931" y="572"/>
                    </a:lnTo>
                    <a:lnTo>
                      <a:pt x="911" y="560"/>
                    </a:lnTo>
                    <a:lnTo>
                      <a:pt x="891" y="572"/>
                    </a:lnTo>
                    <a:lnTo>
                      <a:pt x="891" y="596"/>
                    </a:lnTo>
                    <a:lnTo>
                      <a:pt x="911" y="607"/>
                    </a:lnTo>
                    <a:close/>
                    <a:moveTo>
                      <a:pt x="532" y="607"/>
                    </a:moveTo>
                    <a:lnTo>
                      <a:pt x="552" y="596"/>
                    </a:lnTo>
                    <a:lnTo>
                      <a:pt x="552" y="572"/>
                    </a:lnTo>
                    <a:lnTo>
                      <a:pt x="532" y="560"/>
                    </a:lnTo>
                    <a:lnTo>
                      <a:pt x="514" y="572"/>
                    </a:lnTo>
                    <a:lnTo>
                      <a:pt x="514" y="596"/>
                    </a:lnTo>
                    <a:lnTo>
                      <a:pt x="532" y="607"/>
                    </a:lnTo>
                    <a:close/>
                    <a:moveTo>
                      <a:pt x="586" y="607"/>
                    </a:moveTo>
                    <a:lnTo>
                      <a:pt x="608" y="596"/>
                    </a:lnTo>
                    <a:lnTo>
                      <a:pt x="608" y="572"/>
                    </a:lnTo>
                    <a:lnTo>
                      <a:pt x="586" y="560"/>
                    </a:lnTo>
                    <a:lnTo>
                      <a:pt x="566" y="572"/>
                    </a:lnTo>
                    <a:lnTo>
                      <a:pt x="566" y="596"/>
                    </a:lnTo>
                    <a:lnTo>
                      <a:pt x="586" y="607"/>
                    </a:lnTo>
                    <a:close/>
                    <a:moveTo>
                      <a:pt x="640" y="607"/>
                    </a:moveTo>
                    <a:lnTo>
                      <a:pt x="660" y="596"/>
                    </a:lnTo>
                    <a:lnTo>
                      <a:pt x="660" y="572"/>
                    </a:lnTo>
                    <a:lnTo>
                      <a:pt x="640" y="560"/>
                    </a:lnTo>
                    <a:lnTo>
                      <a:pt x="621" y="572"/>
                    </a:lnTo>
                    <a:lnTo>
                      <a:pt x="621" y="596"/>
                    </a:lnTo>
                    <a:lnTo>
                      <a:pt x="640" y="607"/>
                    </a:lnTo>
                    <a:close/>
                    <a:moveTo>
                      <a:pt x="695" y="607"/>
                    </a:moveTo>
                    <a:lnTo>
                      <a:pt x="715" y="596"/>
                    </a:lnTo>
                    <a:lnTo>
                      <a:pt x="715" y="572"/>
                    </a:lnTo>
                    <a:lnTo>
                      <a:pt x="695" y="560"/>
                    </a:lnTo>
                    <a:lnTo>
                      <a:pt x="674" y="572"/>
                    </a:lnTo>
                    <a:lnTo>
                      <a:pt x="674" y="596"/>
                    </a:lnTo>
                    <a:lnTo>
                      <a:pt x="695" y="607"/>
                    </a:lnTo>
                    <a:close/>
                    <a:moveTo>
                      <a:pt x="966" y="607"/>
                    </a:moveTo>
                    <a:lnTo>
                      <a:pt x="985" y="596"/>
                    </a:lnTo>
                    <a:lnTo>
                      <a:pt x="985" y="572"/>
                    </a:lnTo>
                    <a:lnTo>
                      <a:pt x="966" y="560"/>
                    </a:lnTo>
                    <a:lnTo>
                      <a:pt x="946" y="572"/>
                    </a:lnTo>
                    <a:lnTo>
                      <a:pt x="946" y="596"/>
                    </a:lnTo>
                    <a:lnTo>
                      <a:pt x="966" y="607"/>
                    </a:lnTo>
                    <a:close/>
                    <a:moveTo>
                      <a:pt x="1018" y="607"/>
                    </a:moveTo>
                    <a:lnTo>
                      <a:pt x="1040" y="596"/>
                    </a:lnTo>
                    <a:lnTo>
                      <a:pt x="1040" y="572"/>
                    </a:lnTo>
                    <a:lnTo>
                      <a:pt x="1018" y="560"/>
                    </a:lnTo>
                    <a:lnTo>
                      <a:pt x="998" y="572"/>
                    </a:lnTo>
                    <a:lnTo>
                      <a:pt x="998" y="596"/>
                    </a:lnTo>
                    <a:lnTo>
                      <a:pt x="1018" y="607"/>
                    </a:lnTo>
                    <a:close/>
                    <a:moveTo>
                      <a:pt x="1072" y="607"/>
                    </a:moveTo>
                    <a:lnTo>
                      <a:pt x="1092" y="596"/>
                    </a:lnTo>
                    <a:lnTo>
                      <a:pt x="1092" y="572"/>
                    </a:lnTo>
                    <a:lnTo>
                      <a:pt x="1072" y="560"/>
                    </a:lnTo>
                    <a:lnTo>
                      <a:pt x="1054" y="572"/>
                    </a:lnTo>
                    <a:lnTo>
                      <a:pt x="1054" y="596"/>
                    </a:lnTo>
                    <a:lnTo>
                      <a:pt x="1072" y="607"/>
                    </a:lnTo>
                    <a:close/>
                    <a:moveTo>
                      <a:pt x="884" y="560"/>
                    </a:moveTo>
                    <a:lnTo>
                      <a:pt x="904" y="550"/>
                    </a:lnTo>
                    <a:lnTo>
                      <a:pt x="904" y="525"/>
                    </a:lnTo>
                    <a:lnTo>
                      <a:pt x="884" y="514"/>
                    </a:lnTo>
                    <a:lnTo>
                      <a:pt x="864" y="525"/>
                    </a:lnTo>
                    <a:lnTo>
                      <a:pt x="864" y="550"/>
                    </a:lnTo>
                    <a:lnTo>
                      <a:pt x="884" y="560"/>
                    </a:lnTo>
                    <a:close/>
                    <a:moveTo>
                      <a:pt x="940" y="560"/>
                    </a:moveTo>
                    <a:lnTo>
                      <a:pt x="958" y="550"/>
                    </a:lnTo>
                    <a:lnTo>
                      <a:pt x="958" y="525"/>
                    </a:lnTo>
                    <a:lnTo>
                      <a:pt x="940" y="514"/>
                    </a:lnTo>
                    <a:lnTo>
                      <a:pt x="917" y="525"/>
                    </a:lnTo>
                    <a:lnTo>
                      <a:pt x="917" y="550"/>
                    </a:lnTo>
                    <a:lnTo>
                      <a:pt x="940" y="560"/>
                    </a:lnTo>
                    <a:close/>
                    <a:moveTo>
                      <a:pt x="992" y="560"/>
                    </a:moveTo>
                    <a:lnTo>
                      <a:pt x="1011" y="550"/>
                    </a:lnTo>
                    <a:lnTo>
                      <a:pt x="1011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50"/>
                    </a:lnTo>
                    <a:lnTo>
                      <a:pt x="992" y="560"/>
                    </a:lnTo>
                    <a:close/>
                    <a:moveTo>
                      <a:pt x="1046" y="560"/>
                    </a:moveTo>
                    <a:lnTo>
                      <a:pt x="1066" y="550"/>
                    </a:lnTo>
                    <a:lnTo>
                      <a:pt x="1066" y="525"/>
                    </a:lnTo>
                    <a:lnTo>
                      <a:pt x="1046" y="514"/>
                    </a:lnTo>
                    <a:lnTo>
                      <a:pt x="1027" y="525"/>
                    </a:lnTo>
                    <a:lnTo>
                      <a:pt x="1027" y="550"/>
                    </a:lnTo>
                    <a:lnTo>
                      <a:pt x="1046" y="560"/>
                    </a:lnTo>
                    <a:close/>
                    <a:moveTo>
                      <a:pt x="666" y="560"/>
                    </a:moveTo>
                    <a:lnTo>
                      <a:pt x="689" y="550"/>
                    </a:lnTo>
                    <a:lnTo>
                      <a:pt x="689" y="525"/>
                    </a:lnTo>
                    <a:lnTo>
                      <a:pt x="666" y="514"/>
                    </a:lnTo>
                    <a:lnTo>
                      <a:pt x="648" y="525"/>
                    </a:lnTo>
                    <a:lnTo>
                      <a:pt x="648" y="550"/>
                    </a:lnTo>
                    <a:lnTo>
                      <a:pt x="666" y="560"/>
                    </a:lnTo>
                    <a:close/>
                    <a:moveTo>
                      <a:pt x="722" y="560"/>
                    </a:moveTo>
                    <a:lnTo>
                      <a:pt x="742" y="550"/>
                    </a:lnTo>
                    <a:lnTo>
                      <a:pt x="742" y="525"/>
                    </a:lnTo>
                    <a:lnTo>
                      <a:pt x="722" y="514"/>
                    </a:lnTo>
                    <a:lnTo>
                      <a:pt x="701" y="525"/>
                    </a:lnTo>
                    <a:lnTo>
                      <a:pt x="701" y="550"/>
                    </a:lnTo>
                    <a:lnTo>
                      <a:pt x="722" y="560"/>
                    </a:lnTo>
                    <a:close/>
                    <a:moveTo>
                      <a:pt x="777" y="560"/>
                    </a:moveTo>
                    <a:lnTo>
                      <a:pt x="797" y="550"/>
                    </a:lnTo>
                    <a:lnTo>
                      <a:pt x="797" y="525"/>
                    </a:lnTo>
                    <a:lnTo>
                      <a:pt x="777" y="514"/>
                    </a:lnTo>
                    <a:lnTo>
                      <a:pt x="754" y="525"/>
                    </a:lnTo>
                    <a:lnTo>
                      <a:pt x="754" y="550"/>
                    </a:lnTo>
                    <a:lnTo>
                      <a:pt x="777" y="560"/>
                    </a:lnTo>
                    <a:close/>
                    <a:moveTo>
                      <a:pt x="829" y="560"/>
                    </a:moveTo>
                    <a:lnTo>
                      <a:pt x="849" y="550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50"/>
                    </a:lnTo>
                    <a:lnTo>
                      <a:pt x="829" y="560"/>
                    </a:lnTo>
                    <a:close/>
                    <a:moveTo>
                      <a:pt x="505" y="560"/>
                    </a:moveTo>
                    <a:lnTo>
                      <a:pt x="526" y="550"/>
                    </a:lnTo>
                    <a:lnTo>
                      <a:pt x="526" y="525"/>
                    </a:lnTo>
                    <a:lnTo>
                      <a:pt x="505" y="514"/>
                    </a:lnTo>
                    <a:lnTo>
                      <a:pt x="485" y="525"/>
                    </a:lnTo>
                    <a:lnTo>
                      <a:pt x="485" y="550"/>
                    </a:lnTo>
                    <a:lnTo>
                      <a:pt x="505" y="560"/>
                    </a:lnTo>
                    <a:close/>
                    <a:moveTo>
                      <a:pt x="560" y="560"/>
                    </a:moveTo>
                    <a:lnTo>
                      <a:pt x="579" y="550"/>
                    </a:lnTo>
                    <a:lnTo>
                      <a:pt x="579" y="525"/>
                    </a:lnTo>
                    <a:lnTo>
                      <a:pt x="560" y="514"/>
                    </a:lnTo>
                    <a:lnTo>
                      <a:pt x="540" y="525"/>
                    </a:lnTo>
                    <a:lnTo>
                      <a:pt x="540" y="550"/>
                    </a:lnTo>
                    <a:lnTo>
                      <a:pt x="560" y="560"/>
                    </a:lnTo>
                    <a:close/>
                    <a:moveTo>
                      <a:pt x="614" y="560"/>
                    </a:moveTo>
                    <a:lnTo>
                      <a:pt x="634" y="550"/>
                    </a:lnTo>
                    <a:lnTo>
                      <a:pt x="634" y="525"/>
                    </a:lnTo>
                    <a:lnTo>
                      <a:pt x="614" y="514"/>
                    </a:lnTo>
                    <a:lnTo>
                      <a:pt x="592" y="525"/>
                    </a:lnTo>
                    <a:lnTo>
                      <a:pt x="592" y="550"/>
                    </a:lnTo>
                    <a:lnTo>
                      <a:pt x="614" y="560"/>
                    </a:lnTo>
                    <a:close/>
                    <a:moveTo>
                      <a:pt x="911" y="514"/>
                    </a:moveTo>
                    <a:lnTo>
                      <a:pt x="931" y="504"/>
                    </a:lnTo>
                    <a:lnTo>
                      <a:pt x="931" y="478"/>
                    </a:lnTo>
                    <a:lnTo>
                      <a:pt x="911" y="468"/>
                    </a:lnTo>
                    <a:lnTo>
                      <a:pt x="891" y="478"/>
                    </a:lnTo>
                    <a:lnTo>
                      <a:pt x="891" y="504"/>
                    </a:lnTo>
                    <a:lnTo>
                      <a:pt x="911" y="514"/>
                    </a:lnTo>
                    <a:close/>
                    <a:moveTo>
                      <a:pt x="966" y="514"/>
                    </a:moveTo>
                    <a:lnTo>
                      <a:pt x="985" y="504"/>
                    </a:lnTo>
                    <a:lnTo>
                      <a:pt x="985" y="478"/>
                    </a:lnTo>
                    <a:lnTo>
                      <a:pt x="966" y="468"/>
                    </a:lnTo>
                    <a:lnTo>
                      <a:pt x="946" y="478"/>
                    </a:lnTo>
                    <a:lnTo>
                      <a:pt x="946" y="504"/>
                    </a:lnTo>
                    <a:lnTo>
                      <a:pt x="966" y="514"/>
                    </a:lnTo>
                    <a:close/>
                    <a:moveTo>
                      <a:pt x="1018" y="514"/>
                    </a:moveTo>
                    <a:lnTo>
                      <a:pt x="1040" y="504"/>
                    </a:lnTo>
                    <a:lnTo>
                      <a:pt x="1040" y="478"/>
                    </a:lnTo>
                    <a:lnTo>
                      <a:pt x="1018" y="468"/>
                    </a:lnTo>
                    <a:lnTo>
                      <a:pt x="998" y="478"/>
                    </a:lnTo>
                    <a:lnTo>
                      <a:pt x="998" y="504"/>
                    </a:lnTo>
                    <a:lnTo>
                      <a:pt x="1018" y="514"/>
                    </a:lnTo>
                    <a:close/>
                    <a:moveTo>
                      <a:pt x="1072" y="514"/>
                    </a:moveTo>
                    <a:lnTo>
                      <a:pt x="1092" y="504"/>
                    </a:lnTo>
                    <a:lnTo>
                      <a:pt x="1092" y="478"/>
                    </a:lnTo>
                    <a:lnTo>
                      <a:pt x="1072" y="468"/>
                    </a:lnTo>
                    <a:lnTo>
                      <a:pt x="1054" y="478"/>
                    </a:lnTo>
                    <a:lnTo>
                      <a:pt x="1054" y="504"/>
                    </a:lnTo>
                    <a:lnTo>
                      <a:pt x="1072" y="514"/>
                    </a:lnTo>
                    <a:close/>
                    <a:moveTo>
                      <a:pt x="695" y="514"/>
                    </a:moveTo>
                    <a:lnTo>
                      <a:pt x="715" y="504"/>
                    </a:lnTo>
                    <a:lnTo>
                      <a:pt x="715" y="478"/>
                    </a:lnTo>
                    <a:lnTo>
                      <a:pt x="695" y="468"/>
                    </a:lnTo>
                    <a:lnTo>
                      <a:pt x="674" y="478"/>
                    </a:lnTo>
                    <a:lnTo>
                      <a:pt x="674" y="504"/>
                    </a:lnTo>
                    <a:lnTo>
                      <a:pt x="695" y="514"/>
                    </a:lnTo>
                    <a:close/>
                    <a:moveTo>
                      <a:pt x="748" y="514"/>
                    </a:moveTo>
                    <a:lnTo>
                      <a:pt x="768" y="504"/>
                    </a:lnTo>
                    <a:lnTo>
                      <a:pt x="768" y="478"/>
                    </a:lnTo>
                    <a:lnTo>
                      <a:pt x="748" y="468"/>
                    </a:lnTo>
                    <a:lnTo>
                      <a:pt x="728" y="478"/>
                    </a:lnTo>
                    <a:lnTo>
                      <a:pt x="728" y="504"/>
                    </a:lnTo>
                    <a:lnTo>
                      <a:pt x="748" y="514"/>
                    </a:lnTo>
                    <a:close/>
                    <a:moveTo>
                      <a:pt x="803" y="514"/>
                    </a:moveTo>
                    <a:lnTo>
                      <a:pt x="823" y="504"/>
                    </a:lnTo>
                    <a:lnTo>
                      <a:pt x="823" y="478"/>
                    </a:lnTo>
                    <a:lnTo>
                      <a:pt x="803" y="468"/>
                    </a:lnTo>
                    <a:lnTo>
                      <a:pt x="783" y="478"/>
                    </a:lnTo>
                    <a:lnTo>
                      <a:pt x="783" y="504"/>
                    </a:lnTo>
                    <a:lnTo>
                      <a:pt x="803" y="514"/>
                    </a:lnTo>
                    <a:close/>
                    <a:moveTo>
                      <a:pt x="858" y="514"/>
                    </a:moveTo>
                    <a:lnTo>
                      <a:pt x="878" y="504"/>
                    </a:lnTo>
                    <a:lnTo>
                      <a:pt x="878" y="478"/>
                    </a:lnTo>
                    <a:lnTo>
                      <a:pt x="858" y="468"/>
                    </a:lnTo>
                    <a:lnTo>
                      <a:pt x="836" y="478"/>
                    </a:lnTo>
                    <a:lnTo>
                      <a:pt x="836" y="504"/>
                    </a:lnTo>
                    <a:lnTo>
                      <a:pt x="858" y="514"/>
                    </a:lnTo>
                    <a:close/>
                    <a:moveTo>
                      <a:pt x="640" y="514"/>
                    </a:moveTo>
                    <a:lnTo>
                      <a:pt x="660" y="504"/>
                    </a:lnTo>
                    <a:lnTo>
                      <a:pt x="660" y="478"/>
                    </a:lnTo>
                    <a:lnTo>
                      <a:pt x="640" y="468"/>
                    </a:lnTo>
                    <a:lnTo>
                      <a:pt x="621" y="478"/>
                    </a:lnTo>
                    <a:lnTo>
                      <a:pt x="621" y="504"/>
                    </a:lnTo>
                    <a:lnTo>
                      <a:pt x="640" y="514"/>
                    </a:lnTo>
                    <a:close/>
                    <a:moveTo>
                      <a:pt x="884" y="468"/>
                    </a:moveTo>
                    <a:lnTo>
                      <a:pt x="904" y="454"/>
                    </a:lnTo>
                    <a:lnTo>
                      <a:pt x="904" y="432"/>
                    </a:lnTo>
                    <a:lnTo>
                      <a:pt x="884" y="422"/>
                    </a:lnTo>
                    <a:lnTo>
                      <a:pt x="864" y="432"/>
                    </a:lnTo>
                    <a:lnTo>
                      <a:pt x="864" y="454"/>
                    </a:lnTo>
                    <a:lnTo>
                      <a:pt x="884" y="468"/>
                    </a:lnTo>
                    <a:close/>
                    <a:moveTo>
                      <a:pt x="940" y="468"/>
                    </a:moveTo>
                    <a:lnTo>
                      <a:pt x="958" y="454"/>
                    </a:lnTo>
                    <a:lnTo>
                      <a:pt x="958" y="432"/>
                    </a:lnTo>
                    <a:lnTo>
                      <a:pt x="940" y="422"/>
                    </a:lnTo>
                    <a:lnTo>
                      <a:pt x="917" y="432"/>
                    </a:lnTo>
                    <a:lnTo>
                      <a:pt x="917" y="454"/>
                    </a:lnTo>
                    <a:lnTo>
                      <a:pt x="940" y="468"/>
                    </a:lnTo>
                    <a:close/>
                    <a:moveTo>
                      <a:pt x="992" y="468"/>
                    </a:moveTo>
                    <a:lnTo>
                      <a:pt x="1011" y="454"/>
                    </a:lnTo>
                    <a:lnTo>
                      <a:pt x="1011" y="432"/>
                    </a:lnTo>
                    <a:lnTo>
                      <a:pt x="992" y="422"/>
                    </a:lnTo>
                    <a:lnTo>
                      <a:pt x="972" y="432"/>
                    </a:lnTo>
                    <a:lnTo>
                      <a:pt x="972" y="454"/>
                    </a:lnTo>
                    <a:lnTo>
                      <a:pt x="992" y="468"/>
                    </a:lnTo>
                    <a:close/>
                    <a:moveTo>
                      <a:pt x="1046" y="468"/>
                    </a:moveTo>
                    <a:lnTo>
                      <a:pt x="1066" y="454"/>
                    </a:lnTo>
                    <a:lnTo>
                      <a:pt x="1066" y="432"/>
                    </a:lnTo>
                    <a:lnTo>
                      <a:pt x="1046" y="422"/>
                    </a:lnTo>
                    <a:lnTo>
                      <a:pt x="1027" y="432"/>
                    </a:lnTo>
                    <a:lnTo>
                      <a:pt x="1027" y="454"/>
                    </a:lnTo>
                    <a:lnTo>
                      <a:pt x="1046" y="468"/>
                    </a:lnTo>
                    <a:close/>
                    <a:moveTo>
                      <a:pt x="666" y="468"/>
                    </a:moveTo>
                    <a:lnTo>
                      <a:pt x="689" y="454"/>
                    </a:lnTo>
                    <a:lnTo>
                      <a:pt x="689" y="432"/>
                    </a:lnTo>
                    <a:lnTo>
                      <a:pt x="666" y="422"/>
                    </a:lnTo>
                    <a:lnTo>
                      <a:pt x="648" y="432"/>
                    </a:lnTo>
                    <a:lnTo>
                      <a:pt x="648" y="454"/>
                    </a:lnTo>
                    <a:lnTo>
                      <a:pt x="666" y="468"/>
                    </a:lnTo>
                    <a:close/>
                    <a:moveTo>
                      <a:pt x="722" y="468"/>
                    </a:moveTo>
                    <a:lnTo>
                      <a:pt x="742" y="454"/>
                    </a:lnTo>
                    <a:lnTo>
                      <a:pt x="742" y="432"/>
                    </a:lnTo>
                    <a:lnTo>
                      <a:pt x="722" y="422"/>
                    </a:lnTo>
                    <a:lnTo>
                      <a:pt x="701" y="432"/>
                    </a:lnTo>
                    <a:lnTo>
                      <a:pt x="701" y="454"/>
                    </a:lnTo>
                    <a:lnTo>
                      <a:pt x="722" y="468"/>
                    </a:lnTo>
                    <a:close/>
                    <a:moveTo>
                      <a:pt x="777" y="468"/>
                    </a:moveTo>
                    <a:lnTo>
                      <a:pt x="797" y="454"/>
                    </a:lnTo>
                    <a:lnTo>
                      <a:pt x="797" y="432"/>
                    </a:lnTo>
                    <a:lnTo>
                      <a:pt x="777" y="422"/>
                    </a:lnTo>
                    <a:lnTo>
                      <a:pt x="754" y="432"/>
                    </a:lnTo>
                    <a:lnTo>
                      <a:pt x="754" y="454"/>
                    </a:lnTo>
                    <a:lnTo>
                      <a:pt x="777" y="468"/>
                    </a:lnTo>
                    <a:close/>
                    <a:moveTo>
                      <a:pt x="829" y="468"/>
                    </a:moveTo>
                    <a:lnTo>
                      <a:pt x="849" y="454"/>
                    </a:lnTo>
                    <a:lnTo>
                      <a:pt x="849" y="432"/>
                    </a:lnTo>
                    <a:lnTo>
                      <a:pt x="829" y="422"/>
                    </a:lnTo>
                    <a:lnTo>
                      <a:pt x="809" y="432"/>
                    </a:lnTo>
                    <a:lnTo>
                      <a:pt x="809" y="454"/>
                    </a:lnTo>
                    <a:lnTo>
                      <a:pt x="829" y="468"/>
                    </a:lnTo>
                    <a:close/>
                    <a:moveTo>
                      <a:pt x="614" y="468"/>
                    </a:moveTo>
                    <a:lnTo>
                      <a:pt x="634" y="454"/>
                    </a:lnTo>
                    <a:lnTo>
                      <a:pt x="634" y="432"/>
                    </a:lnTo>
                    <a:lnTo>
                      <a:pt x="614" y="422"/>
                    </a:lnTo>
                    <a:lnTo>
                      <a:pt x="592" y="432"/>
                    </a:lnTo>
                    <a:lnTo>
                      <a:pt x="592" y="454"/>
                    </a:lnTo>
                    <a:lnTo>
                      <a:pt x="614" y="468"/>
                    </a:lnTo>
                    <a:close/>
                    <a:moveTo>
                      <a:pt x="1046" y="654"/>
                    </a:moveTo>
                    <a:lnTo>
                      <a:pt x="1066" y="642"/>
                    </a:lnTo>
                    <a:lnTo>
                      <a:pt x="1066" y="618"/>
                    </a:lnTo>
                    <a:lnTo>
                      <a:pt x="1046" y="607"/>
                    </a:lnTo>
                    <a:lnTo>
                      <a:pt x="1027" y="618"/>
                    </a:lnTo>
                    <a:lnTo>
                      <a:pt x="1027" y="642"/>
                    </a:lnTo>
                    <a:lnTo>
                      <a:pt x="1046" y="654"/>
                    </a:lnTo>
                    <a:close/>
                    <a:moveTo>
                      <a:pt x="505" y="654"/>
                    </a:moveTo>
                    <a:lnTo>
                      <a:pt x="526" y="642"/>
                    </a:lnTo>
                    <a:lnTo>
                      <a:pt x="526" y="618"/>
                    </a:lnTo>
                    <a:lnTo>
                      <a:pt x="505" y="607"/>
                    </a:lnTo>
                    <a:lnTo>
                      <a:pt x="485" y="618"/>
                    </a:lnTo>
                    <a:lnTo>
                      <a:pt x="485" y="642"/>
                    </a:lnTo>
                    <a:lnTo>
                      <a:pt x="505" y="654"/>
                    </a:lnTo>
                    <a:close/>
                    <a:moveTo>
                      <a:pt x="560" y="654"/>
                    </a:moveTo>
                    <a:lnTo>
                      <a:pt x="579" y="642"/>
                    </a:lnTo>
                    <a:lnTo>
                      <a:pt x="579" y="618"/>
                    </a:lnTo>
                    <a:lnTo>
                      <a:pt x="560" y="607"/>
                    </a:lnTo>
                    <a:lnTo>
                      <a:pt x="540" y="618"/>
                    </a:lnTo>
                    <a:lnTo>
                      <a:pt x="540" y="642"/>
                    </a:lnTo>
                    <a:lnTo>
                      <a:pt x="560" y="654"/>
                    </a:lnTo>
                    <a:close/>
                    <a:moveTo>
                      <a:pt x="614" y="654"/>
                    </a:moveTo>
                    <a:lnTo>
                      <a:pt x="634" y="642"/>
                    </a:lnTo>
                    <a:lnTo>
                      <a:pt x="634" y="618"/>
                    </a:lnTo>
                    <a:lnTo>
                      <a:pt x="614" y="607"/>
                    </a:lnTo>
                    <a:lnTo>
                      <a:pt x="592" y="618"/>
                    </a:lnTo>
                    <a:lnTo>
                      <a:pt x="592" y="642"/>
                    </a:lnTo>
                    <a:lnTo>
                      <a:pt x="614" y="654"/>
                    </a:lnTo>
                    <a:close/>
                    <a:moveTo>
                      <a:pt x="666" y="654"/>
                    </a:moveTo>
                    <a:lnTo>
                      <a:pt x="689" y="642"/>
                    </a:lnTo>
                    <a:lnTo>
                      <a:pt x="689" y="618"/>
                    </a:lnTo>
                    <a:lnTo>
                      <a:pt x="666" y="607"/>
                    </a:lnTo>
                    <a:lnTo>
                      <a:pt x="648" y="618"/>
                    </a:lnTo>
                    <a:lnTo>
                      <a:pt x="648" y="642"/>
                    </a:lnTo>
                    <a:lnTo>
                      <a:pt x="666" y="654"/>
                    </a:lnTo>
                    <a:close/>
                    <a:moveTo>
                      <a:pt x="722" y="654"/>
                    </a:moveTo>
                    <a:lnTo>
                      <a:pt x="742" y="642"/>
                    </a:lnTo>
                    <a:lnTo>
                      <a:pt x="742" y="618"/>
                    </a:lnTo>
                    <a:lnTo>
                      <a:pt x="722" y="607"/>
                    </a:lnTo>
                    <a:lnTo>
                      <a:pt x="701" y="618"/>
                    </a:lnTo>
                    <a:lnTo>
                      <a:pt x="701" y="642"/>
                    </a:lnTo>
                    <a:lnTo>
                      <a:pt x="722" y="654"/>
                    </a:lnTo>
                    <a:close/>
                    <a:moveTo>
                      <a:pt x="777" y="654"/>
                    </a:moveTo>
                    <a:lnTo>
                      <a:pt x="797" y="642"/>
                    </a:lnTo>
                    <a:lnTo>
                      <a:pt x="797" y="618"/>
                    </a:lnTo>
                    <a:lnTo>
                      <a:pt x="777" y="607"/>
                    </a:lnTo>
                    <a:lnTo>
                      <a:pt x="754" y="618"/>
                    </a:lnTo>
                    <a:lnTo>
                      <a:pt x="754" y="642"/>
                    </a:lnTo>
                    <a:lnTo>
                      <a:pt x="777" y="654"/>
                    </a:lnTo>
                    <a:close/>
                    <a:moveTo>
                      <a:pt x="829" y="654"/>
                    </a:moveTo>
                    <a:lnTo>
                      <a:pt x="849" y="642"/>
                    </a:lnTo>
                    <a:lnTo>
                      <a:pt x="849" y="618"/>
                    </a:lnTo>
                    <a:lnTo>
                      <a:pt x="829" y="607"/>
                    </a:lnTo>
                    <a:lnTo>
                      <a:pt x="809" y="618"/>
                    </a:lnTo>
                    <a:lnTo>
                      <a:pt x="809" y="642"/>
                    </a:lnTo>
                    <a:lnTo>
                      <a:pt x="829" y="654"/>
                    </a:lnTo>
                    <a:close/>
                    <a:moveTo>
                      <a:pt x="884" y="654"/>
                    </a:moveTo>
                    <a:lnTo>
                      <a:pt x="904" y="642"/>
                    </a:lnTo>
                    <a:lnTo>
                      <a:pt x="904" y="618"/>
                    </a:lnTo>
                    <a:lnTo>
                      <a:pt x="884" y="607"/>
                    </a:lnTo>
                    <a:lnTo>
                      <a:pt x="864" y="618"/>
                    </a:lnTo>
                    <a:lnTo>
                      <a:pt x="864" y="642"/>
                    </a:lnTo>
                    <a:lnTo>
                      <a:pt x="884" y="654"/>
                    </a:lnTo>
                    <a:close/>
                    <a:moveTo>
                      <a:pt x="940" y="654"/>
                    </a:moveTo>
                    <a:lnTo>
                      <a:pt x="958" y="642"/>
                    </a:lnTo>
                    <a:lnTo>
                      <a:pt x="958" y="618"/>
                    </a:lnTo>
                    <a:lnTo>
                      <a:pt x="940" y="607"/>
                    </a:lnTo>
                    <a:lnTo>
                      <a:pt x="917" y="618"/>
                    </a:lnTo>
                    <a:lnTo>
                      <a:pt x="917" y="642"/>
                    </a:lnTo>
                    <a:lnTo>
                      <a:pt x="940" y="654"/>
                    </a:lnTo>
                    <a:close/>
                    <a:moveTo>
                      <a:pt x="992" y="654"/>
                    </a:moveTo>
                    <a:lnTo>
                      <a:pt x="1011" y="642"/>
                    </a:lnTo>
                    <a:lnTo>
                      <a:pt x="1011" y="618"/>
                    </a:lnTo>
                    <a:lnTo>
                      <a:pt x="992" y="607"/>
                    </a:lnTo>
                    <a:lnTo>
                      <a:pt x="972" y="618"/>
                    </a:lnTo>
                    <a:lnTo>
                      <a:pt x="972" y="642"/>
                    </a:lnTo>
                    <a:lnTo>
                      <a:pt x="992" y="654"/>
                    </a:lnTo>
                    <a:close/>
                    <a:moveTo>
                      <a:pt x="1018" y="422"/>
                    </a:moveTo>
                    <a:lnTo>
                      <a:pt x="1040" y="408"/>
                    </a:lnTo>
                    <a:lnTo>
                      <a:pt x="1040" y="386"/>
                    </a:lnTo>
                    <a:lnTo>
                      <a:pt x="1018" y="375"/>
                    </a:lnTo>
                    <a:lnTo>
                      <a:pt x="998" y="386"/>
                    </a:lnTo>
                    <a:lnTo>
                      <a:pt x="998" y="408"/>
                    </a:lnTo>
                    <a:lnTo>
                      <a:pt x="1018" y="422"/>
                    </a:lnTo>
                    <a:close/>
                    <a:moveTo>
                      <a:pt x="1072" y="422"/>
                    </a:moveTo>
                    <a:lnTo>
                      <a:pt x="1092" y="408"/>
                    </a:lnTo>
                    <a:lnTo>
                      <a:pt x="1092" y="386"/>
                    </a:lnTo>
                    <a:lnTo>
                      <a:pt x="1072" y="375"/>
                    </a:lnTo>
                    <a:lnTo>
                      <a:pt x="1054" y="386"/>
                    </a:lnTo>
                    <a:lnTo>
                      <a:pt x="1054" y="408"/>
                    </a:lnTo>
                    <a:lnTo>
                      <a:pt x="1072" y="422"/>
                    </a:lnTo>
                    <a:close/>
                    <a:moveTo>
                      <a:pt x="480" y="607"/>
                    </a:moveTo>
                    <a:lnTo>
                      <a:pt x="500" y="596"/>
                    </a:lnTo>
                    <a:lnTo>
                      <a:pt x="500" y="572"/>
                    </a:lnTo>
                    <a:lnTo>
                      <a:pt x="480" y="560"/>
                    </a:lnTo>
                    <a:lnTo>
                      <a:pt x="458" y="572"/>
                    </a:lnTo>
                    <a:lnTo>
                      <a:pt x="458" y="596"/>
                    </a:lnTo>
                    <a:lnTo>
                      <a:pt x="480" y="60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2" name=""/>
              <p:cNvSpPr/>
              <p:nvPr/>
            </p:nvSpPr>
            <p:spPr>
              <a:xfrm>
                <a:off x="728748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3" name=""/>
              <p:cNvSpPr/>
              <p:nvPr/>
            </p:nvSpPr>
            <p:spPr>
              <a:xfrm>
                <a:off x="732600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4" name=""/>
              <p:cNvSpPr/>
              <p:nvPr/>
            </p:nvSpPr>
            <p:spPr>
              <a:xfrm>
                <a:off x="736416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5" name=""/>
              <p:cNvSpPr/>
              <p:nvPr/>
            </p:nvSpPr>
            <p:spPr>
              <a:xfrm>
                <a:off x="7401600" y="268452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6" name=""/>
              <p:cNvSpPr/>
              <p:nvPr/>
            </p:nvSpPr>
            <p:spPr>
              <a:xfrm>
                <a:off x="7441200" y="268452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7" name=""/>
              <p:cNvSpPr/>
              <p:nvPr/>
            </p:nvSpPr>
            <p:spPr>
              <a:xfrm>
                <a:off x="7267680" y="264744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8" name=""/>
              <p:cNvSpPr/>
              <p:nvPr/>
            </p:nvSpPr>
            <p:spPr>
              <a:xfrm>
                <a:off x="7307640" y="264744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9" name=""/>
              <p:cNvSpPr/>
              <p:nvPr/>
            </p:nvSpPr>
            <p:spPr>
              <a:xfrm>
                <a:off x="7344360" y="264744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0" name=""/>
              <p:cNvSpPr/>
              <p:nvPr/>
            </p:nvSpPr>
            <p:spPr>
              <a:xfrm>
                <a:off x="7382880" y="264744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1" name=""/>
              <p:cNvSpPr/>
              <p:nvPr/>
            </p:nvSpPr>
            <p:spPr>
              <a:xfrm>
                <a:off x="7422840" y="264744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2" name=""/>
              <p:cNvSpPr/>
              <p:nvPr/>
            </p:nvSpPr>
            <p:spPr>
              <a:xfrm>
                <a:off x="7459920" y="264744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3" name=""/>
              <p:cNvSpPr/>
              <p:nvPr/>
            </p:nvSpPr>
            <p:spPr>
              <a:xfrm>
                <a:off x="728748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4" name=""/>
              <p:cNvSpPr/>
              <p:nvPr/>
            </p:nvSpPr>
            <p:spPr>
              <a:xfrm>
                <a:off x="732600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5" name=""/>
              <p:cNvSpPr/>
              <p:nvPr/>
            </p:nvSpPr>
            <p:spPr>
              <a:xfrm>
                <a:off x="736416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6" name=""/>
              <p:cNvSpPr/>
              <p:nvPr/>
            </p:nvSpPr>
            <p:spPr>
              <a:xfrm>
                <a:off x="7401600" y="2613240"/>
                <a:ext cx="3096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7" name=""/>
              <p:cNvSpPr/>
              <p:nvPr/>
            </p:nvSpPr>
            <p:spPr>
              <a:xfrm>
                <a:off x="7441200" y="261324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8" name=""/>
              <p:cNvSpPr/>
              <p:nvPr/>
            </p:nvSpPr>
            <p:spPr>
              <a:xfrm>
                <a:off x="748116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9" name=""/>
              <p:cNvSpPr/>
              <p:nvPr/>
            </p:nvSpPr>
            <p:spPr>
              <a:xfrm>
                <a:off x="7267680" y="257616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0" name=""/>
              <p:cNvSpPr/>
              <p:nvPr/>
            </p:nvSpPr>
            <p:spPr>
              <a:xfrm>
                <a:off x="7307640" y="257616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1" name=""/>
              <p:cNvSpPr/>
              <p:nvPr/>
            </p:nvSpPr>
            <p:spPr>
              <a:xfrm>
                <a:off x="7344360" y="25761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2" name=""/>
              <p:cNvSpPr/>
              <p:nvPr/>
            </p:nvSpPr>
            <p:spPr>
              <a:xfrm>
                <a:off x="738288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3" name=""/>
              <p:cNvSpPr/>
              <p:nvPr/>
            </p:nvSpPr>
            <p:spPr>
              <a:xfrm>
                <a:off x="742284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4" name=""/>
              <p:cNvSpPr/>
              <p:nvPr/>
            </p:nvSpPr>
            <p:spPr>
              <a:xfrm>
                <a:off x="7459920" y="257616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5" name=""/>
              <p:cNvSpPr/>
              <p:nvPr/>
            </p:nvSpPr>
            <p:spPr>
              <a:xfrm>
                <a:off x="7267680" y="272016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6" name=""/>
              <p:cNvSpPr/>
              <p:nvPr/>
            </p:nvSpPr>
            <p:spPr>
              <a:xfrm>
                <a:off x="7307640" y="272016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7" name=""/>
              <p:cNvSpPr/>
              <p:nvPr/>
            </p:nvSpPr>
            <p:spPr>
              <a:xfrm>
                <a:off x="7344360" y="272016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8" name=""/>
              <p:cNvSpPr/>
              <p:nvPr/>
            </p:nvSpPr>
            <p:spPr>
              <a:xfrm>
                <a:off x="7382880" y="272016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9" name=""/>
              <p:cNvSpPr/>
              <p:nvPr/>
            </p:nvSpPr>
            <p:spPr>
              <a:xfrm>
                <a:off x="7422840" y="272016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0" name=""/>
              <p:cNvSpPr/>
              <p:nvPr/>
            </p:nvSpPr>
            <p:spPr>
              <a:xfrm>
                <a:off x="7459920" y="272016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1" name=""/>
              <p:cNvSpPr/>
              <p:nvPr/>
            </p:nvSpPr>
            <p:spPr>
              <a:xfrm>
                <a:off x="7267680" y="243000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2" name=""/>
              <p:cNvSpPr/>
              <p:nvPr/>
            </p:nvSpPr>
            <p:spPr>
              <a:xfrm>
                <a:off x="7307640" y="243000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3" name=""/>
              <p:cNvSpPr/>
              <p:nvPr/>
            </p:nvSpPr>
            <p:spPr>
              <a:xfrm>
                <a:off x="7344360" y="24300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4" name=""/>
              <p:cNvSpPr/>
              <p:nvPr/>
            </p:nvSpPr>
            <p:spPr>
              <a:xfrm>
                <a:off x="7382880" y="24300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5" name=""/>
              <p:cNvSpPr/>
              <p:nvPr/>
            </p:nvSpPr>
            <p:spPr>
              <a:xfrm>
                <a:off x="7422840" y="24300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6" name=""/>
              <p:cNvSpPr/>
              <p:nvPr/>
            </p:nvSpPr>
            <p:spPr>
              <a:xfrm>
                <a:off x="7459920" y="243000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7" name=""/>
              <p:cNvSpPr/>
              <p:nvPr/>
            </p:nvSpPr>
            <p:spPr>
              <a:xfrm>
                <a:off x="7287480" y="23943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8" name=""/>
              <p:cNvSpPr/>
              <p:nvPr/>
            </p:nvSpPr>
            <p:spPr>
              <a:xfrm>
                <a:off x="7326000" y="23943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9" name=""/>
              <p:cNvSpPr/>
              <p:nvPr/>
            </p:nvSpPr>
            <p:spPr>
              <a:xfrm>
                <a:off x="7364160" y="23943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0" name=""/>
              <p:cNvSpPr/>
              <p:nvPr/>
            </p:nvSpPr>
            <p:spPr>
              <a:xfrm>
                <a:off x="7401600" y="239436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1" name=""/>
              <p:cNvSpPr/>
              <p:nvPr/>
            </p:nvSpPr>
            <p:spPr>
              <a:xfrm>
                <a:off x="7441200" y="239436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2" name=""/>
              <p:cNvSpPr/>
              <p:nvPr/>
            </p:nvSpPr>
            <p:spPr>
              <a:xfrm>
                <a:off x="7481160" y="23943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3" name=""/>
              <p:cNvSpPr/>
              <p:nvPr/>
            </p:nvSpPr>
            <p:spPr>
              <a:xfrm>
                <a:off x="7267680" y="2357280"/>
                <a:ext cx="2844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4" name=""/>
              <p:cNvSpPr/>
              <p:nvPr/>
            </p:nvSpPr>
            <p:spPr>
              <a:xfrm>
                <a:off x="7307640" y="235728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5" name=""/>
              <p:cNvSpPr/>
              <p:nvPr/>
            </p:nvSpPr>
            <p:spPr>
              <a:xfrm>
                <a:off x="7344360" y="23572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6" name=""/>
              <p:cNvSpPr/>
              <p:nvPr/>
            </p:nvSpPr>
            <p:spPr>
              <a:xfrm>
                <a:off x="7382880" y="23572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7" name=""/>
              <p:cNvSpPr/>
              <p:nvPr/>
            </p:nvSpPr>
            <p:spPr>
              <a:xfrm>
                <a:off x="7422840" y="23572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8" name=""/>
              <p:cNvSpPr/>
              <p:nvPr/>
            </p:nvSpPr>
            <p:spPr>
              <a:xfrm>
                <a:off x="7459920" y="2357280"/>
                <a:ext cx="29520" cy="3708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9" name=""/>
              <p:cNvSpPr/>
              <p:nvPr/>
            </p:nvSpPr>
            <p:spPr>
              <a:xfrm>
                <a:off x="7287480" y="23216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0" name=""/>
              <p:cNvSpPr/>
              <p:nvPr/>
            </p:nvSpPr>
            <p:spPr>
              <a:xfrm>
                <a:off x="7326000" y="23216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1" name=""/>
              <p:cNvSpPr/>
              <p:nvPr/>
            </p:nvSpPr>
            <p:spPr>
              <a:xfrm>
                <a:off x="7364160" y="23216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2" name=""/>
              <p:cNvSpPr/>
              <p:nvPr/>
            </p:nvSpPr>
            <p:spPr>
              <a:xfrm>
                <a:off x="7401600" y="232164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3" name=""/>
              <p:cNvSpPr/>
              <p:nvPr/>
            </p:nvSpPr>
            <p:spPr>
              <a:xfrm>
                <a:off x="7441200" y="232164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4" name=""/>
              <p:cNvSpPr/>
              <p:nvPr/>
            </p:nvSpPr>
            <p:spPr>
              <a:xfrm>
                <a:off x="7481160" y="23216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5" name=""/>
              <p:cNvSpPr/>
              <p:nvPr/>
            </p:nvSpPr>
            <p:spPr>
              <a:xfrm>
                <a:off x="7267680" y="228564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6" name=""/>
              <p:cNvSpPr/>
              <p:nvPr/>
            </p:nvSpPr>
            <p:spPr>
              <a:xfrm>
                <a:off x="7307640" y="228564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7" name=""/>
              <p:cNvSpPr/>
              <p:nvPr/>
            </p:nvSpPr>
            <p:spPr>
              <a:xfrm>
                <a:off x="7344360" y="228564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8" name=""/>
              <p:cNvSpPr/>
              <p:nvPr/>
            </p:nvSpPr>
            <p:spPr>
              <a:xfrm>
                <a:off x="7382880" y="228564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9" name=""/>
              <p:cNvSpPr/>
              <p:nvPr/>
            </p:nvSpPr>
            <p:spPr>
              <a:xfrm>
                <a:off x="7422840" y="228564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0" name=""/>
              <p:cNvSpPr/>
              <p:nvPr/>
            </p:nvSpPr>
            <p:spPr>
              <a:xfrm>
                <a:off x="7459920" y="228564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1" name=""/>
              <p:cNvSpPr/>
              <p:nvPr/>
            </p:nvSpPr>
            <p:spPr>
              <a:xfrm>
                <a:off x="7287480" y="2248920"/>
                <a:ext cx="28080" cy="367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2" name=""/>
              <p:cNvSpPr/>
              <p:nvPr/>
            </p:nvSpPr>
            <p:spPr>
              <a:xfrm>
                <a:off x="7326000" y="2248920"/>
                <a:ext cx="28080" cy="367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3" name=""/>
              <p:cNvSpPr/>
              <p:nvPr/>
            </p:nvSpPr>
            <p:spPr>
              <a:xfrm>
                <a:off x="7364160" y="2248920"/>
                <a:ext cx="2808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4" name=""/>
              <p:cNvSpPr/>
              <p:nvPr/>
            </p:nvSpPr>
            <p:spPr>
              <a:xfrm>
                <a:off x="7401600" y="2248920"/>
                <a:ext cx="30960" cy="367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5" name=""/>
              <p:cNvSpPr/>
              <p:nvPr/>
            </p:nvSpPr>
            <p:spPr>
              <a:xfrm>
                <a:off x="7441200" y="2248920"/>
                <a:ext cx="28440" cy="367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6" name=""/>
              <p:cNvSpPr/>
              <p:nvPr/>
            </p:nvSpPr>
            <p:spPr>
              <a:xfrm>
                <a:off x="728748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7" name=""/>
              <p:cNvSpPr/>
              <p:nvPr/>
            </p:nvSpPr>
            <p:spPr>
              <a:xfrm>
                <a:off x="732600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8" name=""/>
              <p:cNvSpPr/>
              <p:nvPr/>
            </p:nvSpPr>
            <p:spPr>
              <a:xfrm>
                <a:off x="736416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9" name=""/>
              <p:cNvSpPr/>
              <p:nvPr/>
            </p:nvSpPr>
            <p:spPr>
              <a:xfrm>
                <a:off x="7401600" y="254052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0" name=""/>
              <p:cNvSpPr/>
              <p:nvPr/>
            </p:nvSpPr>
            <p:spPr>
              <a:xfrm>
                <a:off x="7441200" y="254052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1" name=""/>
              <p:cNvSpPr/>
              <p:nvPr/>
            </p:nvSpPr>
            <p:spPr>
              <a:xfrm>
                <a:off x="748116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2" name=""/>
              <p:cNvSpPr/>
              <p:nvPr/>
            </p:nvSpPr>
            <p:spPr>
              <a:xfrm>
                <a:off x="7267680" y="2504520"/>
                <a:ext cx="2844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3" name=""/>
              <p:cNvSpPr/>
              <p:nvPr/>
            </p:nvSpPr>
            <p:spPr>
              <a:xfrm>
                <a:off x="7307640" y="250452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4" name=""/>
              <p:cNvSpPr/>
              <p:nvPr/>
            </p:nvSpPr>
            <p:spPr>
              <a:xfrm>
                <a:off x="7344360" y="250452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5" name=""/>
              <p:cNvSpPr/>
              <p:nvPr/>
            </p:nvSpPr>
            <p:spPr>
              <a:xfrm>
                <a:off x="7382880" y="25045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6" name=""/>
              <p:cNvSpPr/>
              <p:nvPr/>
            </p:nvSpPr>
            <p:spPr>
              <a:xfrm>
                <a:off x="7422840" y="25045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7" name=""/>
              <p:cNvSpPr/>
              <p:nvPr/>
            </p:nvSpPr>
            <p:spPr>
              <a:xfrm>
                <a:off x="7459920" y="2504520"/>
                <a:ext cx="29520" cy="35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3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8" name=""/>
              <p:cNvSpPr/>
              <p:nvPr/>
            </p:nvSpPr>
            <p:spPr>
              <a:xfrm>
                <a:off x="7287480" y="24674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9" name=""/>
              <p:cNvSpPr/>
              <p:nvPr/>
            </p:nvSpPr>
            <p:spPr>
              <a:xfrm>
                <a:off x="7326000" y="24674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0" name=""/>
              <p:cNvSpPr/>
              <p:nvPr/>
            </p:nvSpPr>
            <p:spPr>
              <a:xfrm>
                <a:off x="7364160" y="24674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1" name=""/>
              <p:cNvSpPr/>
              <p:nvPr/>
            </p:nvSpPr>
            <p:spPr>
              <a:xfrm>
                <a:off x="7401600" y="2467440"/>
                <a:ext cx="30960" cy="338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2" name=""/>
              <p:cNvSpPr/>
              <p:nvPr/>
            </p:nvSpPr>
            <p:spPr>
              <a:xfrm>
                <a:off x="7441200" y="246744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3" name=""/>
              <p:cNvSpPr/>
              <p:nvPr/>
            </p:nvSpPr>
            <p:spPr>
              <a:xfrm>
                <a:off x="7481160" y="24674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4" name=""/>
              <p:cNvSpPr/>
              <p:nvPr/>
            </p:nvSpPr>
            <p:spPr>
              <a:xfrm>
                <a:off x="7517880" y="261324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5" name=""/>
              <p:cNvSpPr/>
              <p:nvPr/>
            </p:nvSpPr>
            <p:spPr>
              <a:xfrm>
                <a:off x="755676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6" name=""/>
              <p:cNvSpPr/>
              <p:nvPr/>
            </p:nvSpPr>
            <p:spPr>
              <a:xfrm>
                <a:off x="759492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7" name=""/>
              <p:cNvSpPr/>
              <p:nvPr/>
            </p:nvSpPr>
            <p:spPr>
              <a:xfrm>
                <a:off x="763344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8" name=""/>
              <p:cNvSpPr/>
              <p:nvPr/>
            </p:nvSpPr>
            <p:spPr>
              <a:xfrm>
                <a:off x="767196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9" name=""/>
              <p:cNvSpPr/>
              <p:nvPr/>
            </p:nvSpPr>
            <p:spPr>
              <a:xfrm>
                <a:off x="757620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0" name=""/>
              <p:cNvSpPr/>
              <p:nvPr/>
            </p:nvSpPr>
            <p:spPr>
              <a:xfrm>
                <a:off x="7613640" y="25761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1" name=""/>
              <p:cNvSpPr/>
              <p:nvPr/>
            </p:nvSpPr>
            <p:spPr>
              <a:xfrm>
                <a:off x="765180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2" name=""/>
              <p:cNvSpPr/>
              <p:nvPr/>
            </p:nvSpPr>
            <p:spPr>
              <a:xfrm>
                <a:off x="749952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3" name=""/>
              <p:cNvSpPr/>
              <p:nvPr/>
            </p:nvSpPr>
            <p:spPr>
              <a:xfrm>
                <a:off x="753804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4" name=""/>
              <p:cNvSpPr/>
              <p:nvPr/>
            </p:nvSpPr>
            <p:spPr>
              <a:xfrm>
                <a:off x="7651800" y="24300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5" name=""/>
              <p:cNvSpPr/>
              <p:nvPr/>
            </p:nvSpPr>
            <p:spPr>
              <a:xfrm>
                <a:off x="7499520" y="24300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6" name=""/>
              <p:cNvSpPr/>
              <p:nvPr/>
            </p:nvSpPr>
            <p:spPr>
              <a:xfrm>
                <a:off x="7538040" y="24300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7" name=""/>
              <p:cNvSpPr/>
              <p:nvPr/>
            </p:nvSpPr>
            <p:spPr>
              <a:xfrm>
                <a:off x="7576200" y="243000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8" name=""/>
              <p:cNvSpPr/>
              <p:nvPr/>
            </p:nvSpPr>
            <p:spPr>
              <a:xfrm>
                <a:off x="7613640" y="243000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9" name=""/>
              <p:cNvSpPr/>
              <p:nvPr/>
            </p:nvSpPr>
            <p:spPr>
              <a:xfrm>
                <a:off x="7517880" y="239436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0" name=""/>
              <p:cNvSpPr/>
              <p:nvPr/>
            </p:nvSpPr>
            <p:spPr>
              <a:xfrm>
                <a:off x="7556760" y="23943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1" name=""/>
              <p:cNvSpPr/>
              <p:nvPr/>
            </p:nvSpPr>
            <p:spPr>
              <a:xfrm>
                <a:off x="7594920" y="23943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2" name=""/>
              <p:cNvSpPr/>
              <p:nvPr/>
            </p:nvSpPr>
            <p:spPr>
              <a:xfrm>
                <a:off x="7633440" y="239436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3" name=""/>
              <p:cNvSpPr/>
              <p:nvPr/>
            </p:nvSpPr>
            <p:spPr>
              <a:xfrm>
                <a:off x="7499520" y="23572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4" name=""/>
              <p:cNvSpPr/>
              <p:nvPr/>
            </p:nvSpPr>
            <p:spPr>
              <a:xfrm>
                <a:off x="7538040" y="23572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5" name=""/>
              <p:cNvSpPr/>
              <p:nvPr/>
            </p:nvSpPr>
            <p:spPr>
              <a:xfrm>
                <a:off x="7576200" y="23572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6" name=""/>
              <p:cNvSpPr/>
              <p:nvPr/>
            </p:nvSpPr>
            <p:spPr>
              <a:xfrm>
                <a:off x="7613640" y="235728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7" name=""/>
              <p:cNvSpPr/>
              <p:nvPr/>
            </p:nvSpPr>
            <p:spPr>
              <a:xfrm>
                <a:off x="7651800" y="235728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8" name=""/>
              <p:cNvSpPr/>
              <p:nvPr/>
            </p:nvSpPr>
            <p:spPr>
              <a:xfrm>
                <a:off x="759492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9" name=""/>
              <p:cNvSpPr/>
              <p:nvPr/>
            </p:nvSpPr>
            <p:spPr>
              <a:xfrm>
                <a:off x="763344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0" name=""/>
              <p:cNvSpPr/>
              <p:nvPr/>
            </p:nvSpPr>
            <p:spPr>
              <a:xfrm>
                <a:off x="767196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1" name=""/>
              <p:cNvSpPr/>
              <p:nvPr/>
            </p:nvSpPr>
            <p:spPr>
              <a:xfrm>
                <a:off x="7517880" y="254052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755676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7538040" y="25045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4" name=""/>
              <p:cNvSpPr/>
              <p:nvPr/>
            </p:nvSpPr>
            <p:spPr>
              <a:xfrm>
                <a:off x="7576200" y="25045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5" name=""/>
              <p:cNvSpPr/>
              <p:nvPr/>
            </p:nvSpPr>
            <p:spPr>
              <a:xfrm>
                <a:off x="7613640" y="250452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6" name=""/>
              <p:cNvSpPr/>
              <p:nvPr/>
            </p:nvSpPr>
            <p:spPr>
              <a:xfrm>
                <a:off x="7651800" y="25045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7" name=""/>
              <p:cNvSpPr/>
              <p:nvPr/>
            </p:nvSpPr>
            <p:spPr>
              <a:xfrm>
                <a:off x="7499520" y="250452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8" name=""/>
              <p:cNvSpPr/>
              <p:nvPr/>
            </p:nvSpPr>
            <p:spPr>
              <a:xfrm>
                <a:off x="7517880" y="246744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9" name=""/>
              <p:cNvSpPr/>
              <p:nvPr/>
            </p:nvSpPr>
            <p:spPr>
              <a:xfrm>
                <a:off x="7556760" y="24674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0" name=""/>
              <p:cNvSpPr/>
              <p:nvPr/>
            </p:nvSpPr>
            <p:spPr>
              <a:xfrm>
                <a:off x="7594920" y="24674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1" name=""/>
              <p:cNvSpPr/>
              <p:nvPr/>
            </p:nvSpPr>
            <p:spPr>
              <a:xfrm>
                <a:off x="7633440" y="24674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3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2" name=""/>
              <p:cNvSpPr/>
              <p:nvPr/>
            </p:nvSpPr>
            <p:spPr>
              <a:xfrm>
                <a:off x="7594920" y="23216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3" name=""/>
              <p:cNvSpPr/>
              <p:nvPr/>
            </p:nvSpPr>
            <p:spPr>
              <a:xfrm>
                <a:off x="7633440" y="23216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4" name=""/>
              <p:cNvSpPr/>
              <p:nvPr/>
            </p:nvSpPr>
            <p:spPr>
              <a:xfrm>
                <a:off x="7613640" y="228564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5" name=""/>
              <p:cNvSpPr/>
              <p:nvPr/>
            </p:nvSpPr>
            <p:spPr>
              <a:xfrm>
                <a:off x="7651800" y="228564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6" name=""/>
              <p:cNvSpPr/>
              <p:nvPr/>
            </p:nvSpPr>
            <p:spPr>
              <a:xfrm>
                <a:off x="7517880" y="232164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7" name=""/>
              <p:cNvSpPr/>
              <p:nvPr/>
            </p:nvSpPr>
            <p:spPr>
              <a:xfrm>
                <a:off x="7556760" y="232164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8" name=""/>
              <p:cNvSpPr/>
              <p:nvPr/>
            </p:nvSpPr>
            <p:spPr>
              <a:xfrm>
                <a:off x="7785360" y="2684520"/>
                <a:ext cx="2844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9" name=""/>
              <p:cNvSpPr/>
              <p:nvPr/>
            </p:nvSpPr>
            <p:spPr>
              <a:xfrm>
                <a:off x="782568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0" name=""/>
              <p:cNvSpPr/>
              <p:nvPr/>
            </p:nvSpPr>
            <p:spPr>
              <a:xfrm>
                <a:off x="7862760" y="2684520"/>
                <a:ext cx="3096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790236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2" name=""/>
              <p:cNvSpPr/>
              <p:nvPr/>
            </p:nvSpPr>
            <p:spPr>
              <a:xfrm>
                <a:off x="763344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3" name=""/>
              <p:cNvSpPr/>
              <p:nvPr/>
            </p:nvSpPr>
            <p:spPr>
              <a:xfrm>
                <a:off x="767196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4" name=""/>
              <p:cNvSpPr/>
              <p:nvPr/>
            </p:nvSpPr>
            <p:spPr>
              <a:xfrm>
                <a:off x="771048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5" name=""/>
              <p:cNvSpPr/>
              <p:nvPr/>
            </p:nvSpPr>
            <p:spPr>
              <a:xfrm>
                <a:off x="7747200" y="2684520"/>
                <a:ext cx="29880" cy="352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6" name=""/>
              <p:cNvSpPr/>
              <p:nvPr/>
            </p:nvSpPr>
            <p:spPr>
              <a:xfrm>
                <a:off x="794088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7" name=""/>
              <p:cNvSpPr/>
              <p:nvPr/>
            </p:nvSpPr>
            <p:spPr>
              <a:xfrm>
                <a:off x="797904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8" name=""/>
              <p:cNvSpPr/>
              <p:nvPr/>
            </p:nvSpPr>
            <p:spPr>
              <a:xfrm>
                <a:off x="801756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9" name=""/>
              <p:cNvSpPr/>
              <p:nvPr/>
            </p:nvSpPr>
            <p:spPr>
              <a:xfrm>
                <a:off x="7884000" y="264744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0" name=""/>
              <p:cNvSpPr/>
              <p:nvPr/>
            </p:nvSpPr>
            <p:spPr>
              <a:xfrm>
                <a:off x="7920720" y="264744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1" name=""/>
              <p:cNvSpPr/>
              <p:nvPr/>
            </p:nvSpPr>
            <p:spPr>
              <a:xfrm>
                <a:off x="7960680" y="264744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2" name=""/>
              <p:cNvSpPr/>
              <p:nvPr/>
            </p:nvSpPr>
            <p:spPr>
              <a:xfrm>
                <a:off x="7999200" y="264744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3" name=""/>
              <p:cNvSpPr/>
              <p:nvPr/>
            </p:nvSpPr>
            <p:spPr>
              <a:xfrm>
                <a:off x="7728840" y="264744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7767000" y="264744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7805520" y="264744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6" name=""/>
              <p:cNvSpPr/>
              <p:nvPr/>
            </p:nvSpPr>
            <p:spPr>
              <a:xfrm>
                <a:off x="7844040" y="264744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7" name=""/>
              <p:cNvSpPr/>
              <p:nvPr/>
            </p:nvSpPr>
            <p:spPr>
              <a:xfrm>
                <a:off x="7613640" y="264744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8" name=""/>
              <p:cNvSpPr/>
              <p:nvPr/>
            </p:nvSpPr>
            <p:spPr>
              <a:xfrm>
                <a:off x="7651800" y="264744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9" name=""/>
              <p:cNvSpPr/>
              <p:nvPr/>
            </p:nvSpPr>
            <p:spPr>
              <a:xfrm>
                <a:off x="7690320" y="264744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0" name=""/>
              <p:cNvSpPr/>
              <p:nvPr/>
            </p:nvSpPr>
            <p:spPr>
              <a:xfrm>
                <a:off x="790236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1" name=""/>
              <p:cNvSpPr/>
              <p:nvPr/>
            </p:nvSpPr>
            <p:spPr>
              <a:xfrm>
                <a:off x="794088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2" name=""/>
              <p:cNvSpPr/>
              <p:nvPr/>
            </p:nvSpPr>
            <p:spPr>
              <a:xfrm>
                <a:off x="797904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3" name=""/>
              <p:cNvSpPr/>
              <p:nvPr/>
            </p:nvSpPr>
            <p:spPr>
              <a:xfrm>
                <a:off x="801756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4" name=""/>
              <p:cNvSpPr/>
              <p:nvPr/>
            </p:nvSpPr>
            <p:spPr>
              <a:xfrm>
                <a:off x="7747200" y="2613240"/>
                <a:ext cx="29880" cy="338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5" name=""/>
              <p:cNvSpPr/>
              <p:nvPr/>
            </p:nvSpPr>
            <p:spPr>
              <a:xfrm>
                <a:off x="7785360" y="2613240"/>
                <a:ext cx="2844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6" name=""/>
              <p:cNvSpPr/>
              <p:nvPr/>
            </p:nvSpPr>
            <p:spPr>
              <a:xfrm>
                <a:off x="782568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7" name=""/>
              <p:cNvSpPr/>
              <p:nvPr/>
            </p:nvSpPr>
            <p:spPr>
              <a:xfrm>
                <a:off x="7862760" y="2613240"/>
                <a:ext cx="30960" cy="338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8" name=""/>
              <p:cNvSpPr/>
              <p:nvPr/>
            </p:nvSpPr>
            <p:spPr>
              <a:xfrm>
                <a:off x="7710480" y="2613240"/>
                <a:ext cx="28080" cy="338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9" name=""/>
              <p:cNvSpPr/>
              <p:nvPr/>
            </p:nvSpPr>
            <p:spPr>
              <a:xfrm>
                <a:off x="788400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0" name=""/>
              <p:cNvSpPr/>
              <p:nvPr/>
            </p:nvSpPr>
            <p:spPr>
              <a:xfrm>
                <a:off x="7920720" y="25761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1" name=""/>
              <p:cNvSpPr/>
              <p:nvPr/>
            </p:nvSpPr>
            <p:spPr>
              <a:xfrm>
                <a:off x="7960680" y="2576160"/>
                <a:ext cx="2700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2" name=""/>
              <p:cNvSpPr/>
              <p:nvPr/>
            </p:nvSpPr>
            <p:spPr>
              <a:xfrm>
                <a:off x="799920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3" name=""/>
              <p:cNvSpPr/>
              <p:nvPr/>
            </p:nvSpPr>
            <p:spPr>
              <a:xfrm>
                <a:off x="7728840" y="25761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4" name=""/>
              <p:cNvSpPr/>
              <p:nvPr/>
            </p:nvSpPr>
            <p:spPr>
              <a:xfrm>
                <a:off x="776700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5" name=""/>
              <p:cNvSpPr/>
              <p:nvPr/>
            </p:nvSpPr>
            <p:spPr>
              <a:xfrm>
                <a:off x="7805520" y="2576160"/>
                <a:ext cx="29880" cy="3708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6" name=""/>
              <p:cNvSpPr/>
              <p:nvPr/>
            </p:nvSpPr>
            <p:spPr>
              <a:xfrm>
                <a:off x="784404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7" name=""/>
              <p:cNvSpPr/>
              <p:nvPr/>
            </p:nvSpPr>
            <p:spPr>
              <a:xfrm>
                <a:off x="7690320" y="2576160"/>
                <a:ext cx="28080" cy="370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2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8" name=""/>
              <p:cNvSpPr/>
              <p:nvPr/>
            </p:nvSpPr>
            <p:spPr>
              <a:xfrm>
                <a:off x="7999200" y="272016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9" name=""/>
              <p:cNvSpPr/>
              <p:nvPr/>
            </p:nvSpPr>
            <p:spPr>
              <a:xfrm>
                <a:off x="7613640" y="272016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0" name=""/>
              <p:cNvSpPr/>
              <p:nvPr/>
            </p:nvSpPr>
            <p:spPr>
              <a:xfrm>
                <a:off x="7651800" y="272016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1" name=""/>
              <p:cNvSpPr/>
              <p:nvPr/>
            </p:nvSpPr>
            <p:spPr>
              <a:xfrm>
                <a:off x="7690320" y="272016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2" name=""/>
              <p:cNvSpPr/>
              <p:nvPr/>
            </p:nvSpPr>
            <p:spPr>
              <a:xfrm>
                <a:off x="7728840" y="272016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8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3" name=""/>
              <p:cNvSpPr/>
              <p:nvPr/>
            </p:nvSpPr>
            <p:spPr>
              <a:xfrm>
                <a:off x="7767000" y="272016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4" name=""/>
              <p:cNvSpPr/>
              <p:nvPr/>
            </p:nvSpPr>
            <p:spPr>
              <a:xfrm>
                <a:off x="7805520" y="272016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5" name=""/>
              <p:cNvSpPr/>
              <p:nvPr/>
            </p:nvSpPr>
            <p:spPr>
              <a:xfrm>
                <a:off x="7844040" y="272016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6" name=""/>
              <p:cNvSpPr/>
              <p:nvPr/>
            </p:nvSpPr>
            <p:spPr>
              <a:xfrm>
                <a:off x="7884000" y="2720160"/>
                <a:ext cx="28080" cy="356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7920720" y="2720160"/>
                <a:ext cx="29880" cy="356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8" name=""/>
              <p:cNvSpPr/>
              <p:nvPr/>
            </p:nvSpPr>
            <p:spPr>
              <a:xfrm>
                <a:off x="7960680" y="2720160"/>
                <a:ext cx="27000" cy="356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9" name=""/>
              <p:cNvSpPr/>
              <p:nvPr/>
            </p:nvSpPr>
            <p:spPr>
              <a:xfrm>
                <a:off x="797904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0" name=""/>
              <p:cNvSpPr/>
              <p:nvPr/>
            </p:nvSpPr>
            <p:spPr>
              <a:xfrm>
                <a:off x="8017560" y="2540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1" name=""/>
              <p:cNvSpPr/>
              <p:nvPr/>
            </p:nvSpPr>
            <p:spPr>
              <a:xfrm>
                <a:off x="7594920" y="2684520"/>
                <a:ext cx="28080" cy="352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2" name=""/>
              <p:cNvSpPr/>
              <p:nvPr/>
            </p:nvSpPr>
            <p:spPr>
              <a:xfrm>
                <a:off x="7698960" y="2284200"/>
                <a:ext cx="302760" cy="24336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3" name=""/>
              <p:cNvSpPr/>
              <p:nvPr/>
            </p:nvSpPr>
            <p:spPr>
              <a:xfrm>
                <a:off x="7698960" y="2284200"/>
                <a:ext cx="302760" cy="24336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4" name=""/>
              <p:cNvSpPr/>
              <p:nvPr/>
            </p:nvSpPr>
            <p:spPr>
              <a:xfrm>
                <a:off x="7718760" y="2307600"/>
                <a:ext cx="261720" cy="19692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5" name=""/>
              <p:cNvSpPr/>
              <p:nvPr/>
            </p:nvSpPr>
            <p:spPr>
              <a:xfrm>
                <a:off x="7718760" y="2307600"/>
                <a:ext cx="261720" cy="19692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6" name=""/>
              <p:cNvSpPr/>
              <p:nvPr/>
            </p:nvSpPr>
            <p:spPr>
              <a:xfrm>
                <a:off x="7772760" y="2351160"/>
                <a:ext cx="156240" cy="11124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1" y="68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" y="68"/>
                    </a:lnTo>
                    <a:close/>
                    <a:moveTo>
                      <a:pt x="120" y="144"/>
                    </a:moveTo>
                    <a:lnTo>
                      <a:pt x="120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20" y="144"/>
                    </a:lnTo>
                    <a:close/>
                    <a:moveTo>
                      <a:pt x="219" y="68"/>
                    </a:moveTo>
                    <a:lnTo>
                      <a:pt x="219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9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8003520" y="2304360"/>
                <a:ext cx="99720" cy="219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7979040" y="2304360"/>
                <a:ext cx="24120" cy="24624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9" name=""/>
              <p:cNvSpPr/>
              <p:nvPr/>
            </p:nvSpPr>
            <p:spPr>
              <a:xfrm>
                <a:off x="8003520" y="2304360"/>
                <a:ext cx="25560" cy="246240"/>
              </a:xfrm>
              <a:prstGeom prst="rect">
                <a:avLst/>
              </a:prstGeom>
              <a:solidFill>
                <a:srgbClr val="b7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0" name=""/>
              <p:cNvSpPr/>
              <p:nvPr/>
            </p:nvSpPr>
            <p:spPr>
              <a:xfrm>
                <a:off x="8029080" y="2304360"/>
                <a:ext cx="24120" cy="246240"/>
              </a:xfrm>
              <a:prstGeom prst="rect">
                <a:avLst/>
              </a:prstGeom>
              <a:solidFill>
                <a:srgbClr val="b55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1" name=""/>
              <p:cNvSpPr/>
              <p:nvPr/>
            </p:nvSpPr>
            <p:spPr>
              <a:xfrm>
                <a:off x="8053560" y="2304360"/>
                <a:ext cx="25200" cy="246240"/>
              </a:xfrm>
              <a:prstGeom prst="rect">
                <a:avLst/>
              </a:prstGeom>
              <a:solidFill>
                <a:srgbClr val="b2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2" name=""/>
              <p:cNvSpPr/>
              <p:nvPr/>
            </p:nvSpPr>
            <p:spPr>
              <a:xfrm>
                <a:off x="8078760" y="2304360"/>
                <a:ext cx="24120" cy="24624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3" name=""/>
              <p:cNvSpPr/>
              <p:nvPr/>
            </p:nvSpPr>
            <p:spPr>
              <a:xfrm>
                <a:off x="8002080" y="2302920"/>
                <a:ext cx="99360" cy="218520"/>
              </a:xfrm>
              <a:custGeom>
                <a:avLst/>
                <a:gdLst/>
                <a:ahLst/>
                <a:rect l="l" t="t" r="r" b="b"/>
                <a:pathLst>
                  <a:path w="140" h="282">
                    <a:moveTo>
                      <a:pt x="0" y="264"/>
                    </a:moveTo>
                    <a:lnTo>
                      <a:pt x="1" y="267"/>
                    </a:lnTo>
                    <a:lnTo>
                      <a:pt x="1" y="270"/>
                    </a:lnTo>
                    <a:lnTo>
                      <a:pt x="4" y="273"/>
                    </a:lnTo>
                    <a:lnTo>
                      <a:pt x="6" y="276"/>
                    </a:lnTo>
                    <a:lnTo>
                      <a:pt x="10" y="278"/>
                    </a:lnTo>
                    <a:lnTo>
                      <a:pt x="14" y="279"/>
                    </a:lnTo>
                    <a:lnTo>
                      <a:pt x="18" y="281"/>
                    </a:lnTo>
                    <a:lnTo>
                      <a:pt x="23" y="282"/>
                    </a:lnTo>
                    <a:lnTo>
                      <a:pt x="29" y="282"/>
                    </a:lnTo>
                    <a:lnTo>
                      <a:pt x="29" y="282"/>
                    </a:lnTo>
                    <a:lnTo>
                      <a:pt x="114" y="273"/>
                    </a:lnTo>
                    <a:lnTo>
                      <a:pt x="120" y="272"/>
                    </a:lnTo>
                    <a:lnTo>
                      <a:pt x="125" y="269"/>
                    </a:lnTo>
                    <a:lnTo>
                      <a:pt x="129" y="267"/>
                    </a:lnTo>
                    <a:lnTo>
                      <a:pt x="133" y="263"/>
                    </a:lnTo>
                    <a:lnTo>
                      <a:pt x="137" y="259"/>
                    </a:lnTo>
                    <a:lnTo>
                      <a:pt x="139" y="255"/>
                    </a:lnTo>
                    <a:lnTo>
                      <a:pt x="140" y="250"/>
                    </a:lnTo>
                    <a:lnTo>
                      <a:pt x="140" y="246"/>
                    </a:lnTo>
                    <a:lnTo>
                      <a:pt x="140" y="38"/>
                    </a:lnTo>
                    <a:lnTo>
                      <a:pt x="140" y="33"/>
                    </a:lnTo>
                    <a:lnTo>
                      <a:pt x="139" y="28"/>
                    </a:lnTo>
                    <a:lnTo>
                      <a:pt x="137" y="24"/>
                    </a:lnTo>
                    <a:lnTo>
                      <a:pt x="133" y="19"/>
                    </a:lnTo>
                    <a:lnTo>
                      <a:pt x="129" y="17"/>
                    </a:lnTo>
                    <a:lnTo>
                      <a:pt x="125" y="13"/>
                    </a:lnTo>
                    <a:lnTo>
                      <a:pt x="120" y="10"/>
                    </a:lnTo>
                    <a:lnTo>
                      <a:pt x="114" y="9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6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4" name=""/>
              <p:cNvSpPr/>
              <p:nvPr/>
            </p:nvSpPr>
            <p:spPr>
              <a:xfrm>
                <a:off x="7516800" y="2238120"/>
                <a:ext cx="48240" cy="505440"/>
              </a:xfrm>
              <a:custGeom>
                <a:avLst/>
                <a:gdLst/>
                <a:ahLst/>
                <a:rect l="l" t="t" r="r" b="b"/>
                <a:pathLst>
                  <a:path w="69" h="651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80"/>
                    </a:moveTo>
                    <a:lnTo>
                      <a:pt x="39" y="580"/>
                    </a:lnTo>
                    <a:lnTo>
                      <a:pt x="43" y="582"/>
                    </a:lnTo>
                    <a:lnTo>
                      <a:pt x="47" y="582"/>
                    </a:lnTo>
                    <a:lnTo>
                      <a:pt x="50" y="583"/>
                    </a:lnTo>
                    <a:lnTo>
                      <a:pt x="53" y="586"/>
                    </a:lnTo>
                    <a:lnTo>
                      <a:pt x="57" y="588"/>
                    </a:lnTo>
                    <a:lnTo>
                      <a:pt x="59" y="591"/>
                    </a:lnTo>
                    <a:lnTo>
                      <a:pt x="62" y="593"/>
                    </a:lnTo>
                    <a:lnTo>
                      <a:pt x="64" y="596"/>
                    </a:lnTo>
                    <a:lnTo>
                      <a:pt x="67" y="599"/>
                    </a:lnTo>
                    <a:lnTo>
                      <a:pt x="68" y="602"/>
                    </a:lnTo>
                    <a:lnTo>
                      <a:pt x="69" y="606"/>
                    </a:lnTo>
                    <a:lnTo>
                      <a:pt x="69" y="610"/>
                    </a:lnTo>
                    <a:lnTo>
                      <a:pt x="69" y="613"/>
                    </a:lnTo>
                    <a:lnTo>
                      <a:pt x="69" y="617"/>
                    </a:lnTo>
                    <a:lnTo>
                      <a:pt x="69" y="620"/>
                    </a:lnTo>
                    <a:lnTo>
                      <a:pt x="69" y="623"/>
                    </a:lnTo>
                    <a:lnTo>
                      <a:pt x="68" y="626"/>
                    </a:lnTo>
                    <a:lnTo>
                      <a:pt x="67" y="630"/>
                    </a:lnTo>
                    <a:lnTo>
                      <a:pt x="65" y="632"/>
                    </a:lnTo>
                    <a:lnTo>
                      <a:pt x="63" y="637"/>
                    </a:lnTo>
                    <a:lnTo>
                      <a:pt x="58" y="642"/>
                    </a:lnTo>
                    <a:lnTo>
                      <a:pt x="53" y="646"/>
                    </a:lnTo>
                    <a:lnTo>
                      <a:pt x="47" y="649"/>
                    </a:lnTo>
                    <a:lnTo>
                      <a:pt x="41" y="650"/>
                    </a:lnTo>
                    <a:lnTo>
                      <a:pt x="38" y="651"/>
                    </a:lnTo>
                    <a:lnTo>
                      <a:pt x="35" y="651"/>
                    </a:lnTo>
                    <a:lnTo>
                      <a:pt x="31" y="651"/>
                    </a:lnTo>
                    <a:lnTo>
                      <a:pt x="28" y="650"/>
                    </a:lnTo>
                    <a:lnTo>
                      <a:pt x="24" y="649"/>
                    </a:lnTo>
                    <a:lnTo>
                      <a:pt x="20" y="647"/>
                    </a:lnTo>
                    <a:lnTo>
                      <a:pt x="13" y="642"/>
                    </a:lnTo>
                    <a:lnTo>
                      <a:pt x="10" y="640"/>
                    </a:lnTo>
                    <a:lnTo>
                      <a:pt x="8" y="637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1" y="627"/>
                    </a:lnTo>
                    <a:lnTo>
                      <a:pt x="0" y="625"/>
                    </a:lnTo>
                    <a:lnTo>
                      <a:pt x="0" y="621"/>
                    </a:lnTo>
                    <a:lnTo>
                      <a:pt x="0" y="617"/>
                    </a:lnTo>
                    <a:lnTo>
                      <a:pt x="0" y="613"/>
                    </a:lnTo>
                    <a:lnTo>
                      <a:pt x="0" y="610"/>
                    </a:lnTo>
                    <a:lnTo>
                      <a:pt x="1" y="606"/>
                    </a:lnTo>
                    <a:lnTo>
                      <a:pt x="1" y="603"/>
                    </a:lnTo>
                    <a:lnTo>
                      <a:pt x="3" y="599"/>
                    </a:lnTo>
                    <a:lnTo>
                      <a:pt x="4" y="597"/>
                    </a:lnTo>
                    <a:lnTo>
                      <a:pt x="8" y="593"/>
                    </a:lnTo>
                    <a:lnTo>
                      <a:pt x="11" y="589"/>
                    </a:lnTo>
                    <a:lnTo>
                      <a:pt x="14" y="587"/>
                    </a:lnTo>
                    <a:lnTo>
                      <a:pt x="16" y="586"/>
                    </a:lnTo>
                    <a:lnTo>
                      <a:pt x="20" y="583"/>
                    </a:lnTo>
                    <a:lnTo>
                      <a:pt x="23" y="582"/>
                    </a:lnTo>
                    <a:lnTo>
                      <a:pt x="29" y="580"/>
                    </a:lnTo>
                    <a:lnTo>
                      <a:pt x="35" y="580"/>
                    </a:lnTo>
                    <a:lnTo>
                      <a:pt x="35" y="58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5" name=""/>
              <p:cNvSpPr/>
              <p:nvPr/>
            </p:nvSpPr>
            <p:spPr>
              <a:xfrm>
                <a:off x="7516800" y="2238120"/>
                <a:ext cx="48240" cy="5400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6" name=""/>
              <p:cNvSpPr/>
              <p:nvPr/>
            </p:nvSpPr>
            <p:spPr>
              <a:xfrm>
                <a:off x="7516800" y="2687760"/>
                <a:ext cx="48240" cy="5544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35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7" y="8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3"/>
                    </a:lnTo>
                    <a:lnTo>
                      <a:pt x="69" y="37"/>
                    </a:lnTo>
                    <a:lnTo>
                      <a:pt x="69" y="40"/>
                    </a:lnTo>
                    <a:lnTo>
                      <a:pt x="69" y="43"/>
                    </a:lnTo>
                    <a:lnTo>
                      <a:pt x="68" y="46"/>
                    </a:lnTo>
                    <a:lnTo>
                      <a:pt x="67" y="50"/>
                    </a:lnTo>
                    <a:lnTo>
                      <a:pt x="65" y="52"/>
                    </a:lnTo>
                    <a:lnTo>
                      <a:pt x="63" y="57"/>
                    </a:lnTo>
                    <a:lnTo>
                      <a:pt x="58" y="62"/>
                    </a:lnTo>
                    <a:lnTo>
                      <a:pt x="53" y="66"/>
                    </a:lnTo>
                    <a:lnTo>
                      <a:pt x="47" y="69"/>
                    </a:lnTo>
                    <a:lnTo>
                      <a:pt x="41" y="70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8" y="70"/>
                    </a:lnTo>
                    <a:lnTo>
                      <a:pt x="24" y="69"/>
                    </a:lnTo>
                    <a:lnTo>
                      <a:pt x="20" y="67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7" name=""/>
              <p:cNvSpPr/>
              <p:nvPr/>
            </p:nvSpPr>
            <p:spPr>
              <a:xfrm>
                <a:off x="7530840" y="2253240"/>
                <a:ext cx="19800" cy="473040"/>
              </a:xfrm>
              <a:custGeom>
                <a:avLst/>
                <a:gdLst/>
                <a:ahLst/>
                <a:rect l="l" t="t" r="r" b="b"/>
                <a:pathLst>
                  <a:path w="29" h="611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8"/>
                    </a:moveTo>
                    <a:lnTo>
                      <a:pt x="9" y="607"/>
                    </a:lnTo>
                    <a:lnTo>
                      <a:pt x="10" y="606"/>
                    </a:lnTo>
                    <a:lnTo>
                      <a:pt x="11" y="605"/>
                    </a:lnTo>
                    <a:lnTo>
                      <a:pt x="13" y="603"/>
                    </a:lnTo>
                    <a:lnTo>
                      <a:pt x="15" y="603"/>
                    </a:lnTo>
                    <a:lnTo>
                      <a:pt x="16" y="603"/>
                    </a:lnTo>
                    <a:lnTo>
                      <a:pt x="18" y="605"/>
                    </a:lnTo>
                    <a:lnTo>
                      <a:pt x="19" y="606"/>
                    </a:lnTo>
                    <a:lnTo>
                      <a:pt x="20" y="607"/>
                    </a:lnTo>
                    <a:lnTo>
                      <a:pt x="20" y="607"/>
                    </a:lnTo>
                    <a:lnTo>
                      <a:pt x="23" y="608"/>
                    </a:lnTo>
                    <a:lnTo>
                      <a:pt x="24" y="608"/>
                    </a:lnTo>
                    <a:lnTo>
                      <a:pt x="25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9" y="607"/>
                    </a:lnTo>
                    <a:lnTo>
                      <a:pt x="29" y="606"/>
                    </a:lnTo>
                    <a:lnTo>
                      <a:pt x="29" y="606"/>
                    </a:lnTo>
                    <a:lnTo>
                      <a:pt x="29" y="603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7" y="600"/>
                    </a:lnTo>
                    <a:lnTo>
                      <a:pt x="25" y="600"/>
                    </a:lnTo>
                    <a:lnTo>
                      <a:pt x="24" y="598"/>
                    </a:lnTo>
                    <a:lnTo>
                      <a:pt x="24" y="597"/>
                    </a:lnTo>
                    <a:lnTo>
                      <a:pt x="24" y="596"/>
                    </a:lnTo>
                    <a:lnTo>
                      <a:pt x="24" y="595"/>
                    </a:lnTo>
                    <a:lnTo>
                      <a:pt x="24" y="592"/>
                    </a:lnTo>
                    <a:lnTo>
                      <a:pt x="25" y="591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9" y="587"/>
                    </a:lnTo>
                    <a:lnTo>
                      <a:pt x="29" y="587"/>
                    </a:lnTo>
                    <a:lnTo>
                      <a:pt x="29" y="586"/>
                    </a:lnTo>
                    <a:lnTo>
                      <a:pt x="29" y="584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7" y="582"/>
                    </a:lnTo>
                    <a:lnTo>
                      <a:pt x="27" y="581"/>
                    </a:lnTo>
                    <a:lnTo>
                      <a:pt x="25" y="581"/>
                    </a:lnTo>
                    <a:lnTo>
                      <a:pt x="24" y="581"/>
                    </a:lnTo>
                    <a:lnTo>
                      <a:pt x="23" y="582"/>
                    </a:lnTo>
                    <a:lnTo>
                      <a:pt x="23" y="582"/>
                    </a:lnTo>
                    <a:lnTo>
                      <a:pt x="20" y="584"/>
                    </a:lnTo>
                    <a:lnTo>
                      <a:pt x="19" y="586"/>
                    </a:lnTo>
                    <a:lnTo>
                      <a:pt x="18" y="586"/>
                    </a:lnTo>
                    <a:lnTo>
                      <a:pt x="15" y="586"/>
                    </a:lnTo>
                    <a:lnTo>
                      <a:pt x="11" y="586"/>
                    </a:lnTo>
                    <a:lnTo>
                      <a:pt x="10" y="586"/>
                    </a:lnTo>
                    <a:lnTo>
                      <a:pt x="9" y="584"/>
                    </a:lnTo>
                    <a:lnTo>
                      <a:pt x="9" y="584"/>
                    </a:lnTo>
                    <a:lnTo>
                      <a:pt x="6" y="582"/>
                    </a:lnTo>
                    <a:lnTo>
                      <a:pt x="5" y="581"/>
                    </a:lnTo>
                    <a:lnTo>
                      <a:pt x="4" y="581"/>
                    </a:lnTo>
                    <a:lnTo>
                      <a:pt x="3" y="581"/>
                    </a:lnTo>
                    <a:lnTo>
                      <a:pt x="3" y="582"/>
                    </a:lnTo>
                    <a:lnTo>
                      <a:pt x="0" y="582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6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3" y="590"/>
                    </a:lnTo>
                    <a:lnTo>
                      <a:pt x="4" y="591"/>
                    </a:lnTo>
                    <a:lnTo>
                      <a:pt x="5" y="592"/>
                    </a:lnTo>
                    <a:lnTo>
                      <a:pt x="5" y="595"/>
                    </a:lnTo>
                    <a:lnTo>
                      <a:pt x="6" y="596"/>
                    </a:lnTo>
                    <a:lnTo>
                      <a:pt x="5" y="597"/>
                    </a:lnTo>
                    <a:lnTo>
                      <a:pt x="5" y="598"/>
                    </a:lnTo>
                    <a:lnTo>
                      <a:pt x="4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0" y="602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3" y="608"/>
                    </a:lnTo>
                    <a:lnTo>
                      <a:pt x="3" y="610"/>
                    </a:lnTo>
                    <a:lnTo>
                      <a:pt x="4" y="611"/>
                    </a:lnTo>
                    <a:lnTo>
                      <a:pt x="5" y="610"/>
                    </a:lnTo>
                    <a:lnTo>
                      <a:pt x="6" y="608"/>
                    </a:lnTo>
                    <a:lnTo>
                      <a:pt x="6" y="60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8" name=""/>
              <p:cNvSpPr/>
              <p:nvPr/>
            </p:nvSpPr>
            <p:spPr>
              <a:xfrm>
                <a:off x="7530840" y="225324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9" name=""/>
              <p:cNvSpPr/>
              <p:nvPr/>
            </p:nvSpPr>
            <p:spPr>
              <a:xfrm>
                <a:off x="7530840" y="2703240"/>
                <a:ext cx="19800" cy="230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7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8340" name=""/>
            <p:cNvSpPr/>
            <p:nvPr/>
          </p:nvSpPr>
          <p:spPr>
            <a:xfrm>
              <a:off x="7578720" y="2221560"/>
              <a:ext cx="50040" cy="5522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41" name=""/>
            <p:cNvSpPr/>
            <p:nvPr/>
          </p:nvSpPr>
          <p:spPr>
            <a:xfrm>
              <a:off x="7553880" y="2194200"/>
              <a:ext cx="24840" cy="605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42" name=""/>
            <p:cNvSpPr/>
            <p:nvPr/>
          </p:nvSpPr>
          <p:spPr>
            <a:xfrm>
              <a:off x="7578720" y="2194200"/>
              <a:ext cx="24840" cy="605880"/>
            </a:xfrm>
            <a:prstGeom prst="rect">
              <a:avLst/>
            </a:pr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43" name=""/>
            <p:cNvSpPr/>
            <p:nvPr/>
          </p:nvSpPr>
          <p:spPr>
            <a:xfrm>
              <a:off x="7603920" y="2194200"/>
              <a:ext cx="25200" cy="60588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44" name=""/>
            <p:cNvSpPr/>
            <p:nvPr/>
          </p:nvSpPr>
          <p:spPr>
            <a:xfrm>
              <a:off x="7572600" y="2209680"/>
              <a:ext cx="42480" cy="565560"/>
            </a:xfrm>
            <a:custGeom>
              <a:avLst/>
              <a:gdLst/>
              <a:ahLst/>
              <a:rect l="l" t="t" r="r" b="b"/>
              <a:pathLst>
                <a:path w="60" h="728">
                  <a:moveTo>
                    <a:pt x="60" y="720"/>
                  </a:moveTo>
                  <a:lnTo>
                    <a:pt x="60" y="7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20"/>
                  </a:lnTo>
                  <a:lnTo>
                    <a:pt x="1" y="723"/>
                  </a:lnTo>
                  <a:lnTo>
                    <a:pt x="1" y="724"/>
                  </a:lnTo>
                  <a:lnTo>
                    <a:pt x="4" y="725"/>
                  </a:lnTo>
                  <a:lnTo>
                    <a:pt x="6" y="726"/>
                  </a:lnTo>
                  <a:lnTo>
                    <a:pt x="9" y="728"/>
                  </a:lnTo>
                  <a:lnTo>
                    <a:pt x="9" y="728"/>
                  </a:lnTo>
                  <a:lnTo>
                    <a:pt x="53" y="728"/>
                  </a:lnTo>
                  <a:lnTo>
                    <a:pt x="56" y="726"/>
                  </a:lnTo>
                  <a:lnTo>
                    <a:pt x="58" y="725"/>
                  </a:lnTo>
                  <a:lnTo>
                    <a:pt x="59" y="724"/>
                  </a:lnTo>
                  <a:lnTo>
                    <a:pt x="60" y="7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45" name=""/>
            <p:cNvSpPr/>
            <p:nvPr/>
          </p:nvSpPr>
          <p:spPr>
            <a:xfrm>
              <a:off x="5159160" y="2745720"/>
              <a:ext cx="153360" cy="5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46" name=""/>
            <p:cNvSpPr/>
            <p:nvPr/>
          </p:nvSpPr>
          <p:spPr>
            <a:xfrm>
              <a:off x="5159160" y="2745720"/>
              <a:ext cx="153360" cy="5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47" name=""/>
            <p:cNvSpPr/>
            <p:nvPr/>
          </p:nvSpPr>
          <p:spPr>
            <a:xfrm>
              <a:off x="5389920" y="2745720"/>
              <a:ext cx="152280" cy="5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48" name=""/>
            <p:cNvSpPr/>
            <p:nvPr/>
          </p:nvSpPr>
          <p:spPr>
            <a:xfrm>
              <a:off x="5389920" y="2745720"/>
              <a:ext cx="152280" cy="5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49" name=""/>
            <p:cNvSpPr/>
            <p:nvPr/>
          </p:nvSpPr>
          <p:spPr>
            <a:xfrm>
              <a:off x="5618520" y="2745720"/>
              <a:ext cx="154800" cy="5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50" name=""/>
            <p:cNvSpPr/>
            <p:nvPr/>
          </p:nvSpPr>
          <p:spPr>
            <a:xfrm>
              <a:off x="5618520" y="2745720"/>
              <a:ext cx="154800" cy="5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51" name=""/>
            <p:cNvSpPr/>
            <p:nvPr/>
          </p:nvSpPr>
          <p:spPr>
            <a:xfrm>
              <a:off x="5848560" y="2745720"/>
              <a:ext cx="153360" cy="55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52" name=""/>
            <p:cNvSpPr/>
            <p:nvPr/>
          </p:nvSpPr>
          <p:spPr>
            <a:xfrm>
              <a:off x="5848560" y="2745720"/>
              <a:ext cx="153360" cy="5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53" name=""/>
            <p:cNvSpPr/>
            <p:nvPr/>
          </p:nvSpPr>
          <p:spPr>
            <a:xfrm>
              <a:off x="5465160" y="2534760"/>
              <a:ext cx="232200" cy="83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54" name=""/>
            <p:cNvSpPr/>
            <p:nvPr/>
          </p:nvSpPr>
          <p:spPr>
            <a:xfrm>
              <a:off x="5465160" y="2534760"/>
              <a:ext cx="232200" cy="83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55" name=""/>
            <p:cNvSpPr/>
            <p:nvPr/>
          </p:nvSpPr>
          <p:spPr>
            <a:xfrm>
              <a:off x="5465160" y="2280960"/>
              <a:ext cx="232200" cy="85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356" name=""/>
            <p:cNvSpPr/>
            <p:nvPr/>
          </p:nvSpPr>
          <p:spPr>
            <a:xfrm>
              <a:off x="5465160" y="2280960"/>
              <a:ext cx="232200" cy="85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pic>
        <p:nvPicPr>
          <p:cNvPr id="8357" name="" descr=""/>
          <p:cNvPicPr/>
          <p:nvPr/>
        </p:nvPicPr>
        <p:blipFill>
          <a:blip r:embed="rId24"/>
          <a:stretch/>
        </p:blipFill>
        <p:spPr>
          <a:xfrm>
            <a:off x="458640" y="4854600"/>
            <a:ext cx="3857760" cy="768240"/>
          </a:xfrm>
          <a:prstGeom prst="rect">
            <a:avLst/>
          </a:prstGeom>
          <a:ln w="0">
            <a:noFill/>
          </a:ln>
        </p:spPr>
      </p:pic>
      <p:pic>
        <p:nvPicPr>
          <p:cNvPr id="8358" name="" descr=""/>
          <p:cNvPicPr/>
          <p:nvPr/>
        </p:nvPicPr>
        <p:blipFill>
          <a:blip r:embed="rId25"/>
          <a:stretch/>
        </p:blipFill>
        <p:spPr>
          <a:xfrm>
            <a:off x="4776840" y="3863880"/>
            <a:ext cx="3857400" cy="768600"/>
          </a:xfrm>
          <a:prstGeom prst="rect">
            <a:avLst/>
          </a:prstGeom>
          <a:ln w="0">
            <a:noFill/>
          </a:ln>
        </p:spPr>
      </p:pic>
      <p:pic>
        <p:nvPicPr>
          <p:cNvPr id="8359" name="" descr=""/>
          <p:cNvPicPr/>
          <p:nvPr/>
        </p:nvPicPr>
        <p:blipFill>
          <a:blip r:embed="rId26"/>
          <a:stretch/>
        </p:blipFill>
        <p:spPr>
          <a:xfrm>
            <a:off x="4751280" y="4917960"/>
            <a:ext cx="3857760" cy="768600"/>
          </a:xfrm>
          <a:prstGeom prst="rect">
            <a:avLst/>
          </a:prstGeom>
          <a:ln w="0">
            <a:noFill/>
          </a:ln>
        </p:spPr>
      </p:pic>
      <p:sp>
        <p:nvSpPr>
          <p:cNvPr id="8360" name=""/>
          <p:cNvSpPr/>
          <p:nvPr/>
        </p:nvSpPr>
        <p:spPr>
          <a:xfrm flipH="1">
            <a:off x="2006280" y="4521240"/>
            <a:ext cx="190440" cy="939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61" name=""/>
          <p:cNvSpPr/>
          <p:nvPr/>
        </p:nvSpPr>
        <p:spPr>
          <a:xfrm>
            <a:off x="2768760" y="4508640"/>
            <a:ext cx="164880" cy="9777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62" name=""/>
          <p:cNvSpPr/>
          <p:nvPr/>
        </p:nvSpPr>
        <p:spPr>
          <a:xfrm flipH="1">
            <a:off x="6324480" y="4572000"/>
            <a:ext cx="190800" cy="927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63" name=""/>
          <p:cNvSpPr/>
          <p:nvPr/>
        </p:nvSpPr>
        <p:spPr>
          <a:xfrm>
            <a:off x="7112160" y="4572000"/>
            <a:ext cx="114120" cy="9399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64" name=""/>
          <p:cNvSpPr/>
          <p:nvPr/>
        </p:nvSpPr>
        <p:spPr>
          <a:xfrm>
            <a:off x="1219320" y="2552760"/>
            <a:ext cx="5155920" cy="1942920"/>
          </a:xfrm>
          <a:prstGeom prst="line">
            <a:avLst/>
          </a:prstGeom>
          <a:ln w="28440">
            <a:solidFill>
              <a:srgbClr val="007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65" name=""/>
          <p:cNvSpPr/>
          <p:nvPr/>
        </p:nvSpPr>
        <p:spPr>
          <a:xfrm>
            <a:off x="1206360" y="2298600"/>
            <a:ext cx="838440" cy="2095560"/>
          </a:xfrm>
          <a:prstGeom prst="line">
            <a:avLst/>
          </a:prstGeom>
          <a:ln w="28440">
            <a:solidFill>
              <a:srgbClr val="0071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66" name=""/>
          <p:cNvSpPr/>
          <p:nvPr/>
        </p:nvSpPr>
        <p:spPr>
          <a:xfrm flipH="1">
            <a:off x="2743200" y="2349360"/>
            <a:ext cx="2743200" cy="312444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67" name=""/>
          <p:cNvSpPr/>
          <p:nvPr/>
        </p:nvSpPr>
        <p:spPr>
          <a:xfrm>
            <a:off x="5651640" y="2603520"/>
            <a:ext cx="1422360" cy="2908440"/>
          </a:xfrm>
          <a:prstGeom prst="line">
            <a:avLst/>
          </a:prstGeom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68" name=""/>
          <p:cNvSpPr/>
          <p:nvPr/>
        </p:nvSpPr>
        <p:spPr>
          <a:xfrm>
            <a:off x="3090240" y="1760400"/>
            <a:ext cx="154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torage CLIM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69" name=""/>
          <p:cNvSpPr/>
          <p:nvPr/>
        </p:nvSpPr>
        <p:spPr>
          <a:xfrm>
            <a:off x="4791960" y="1773360"/>
            <a:ext cx="1546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torage CLIM 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C1B4A-298B-4701-BAE7-DFF437D0743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0" name=""/>
          <p:cNvSpPr/>
          <p:nvPr/>
        </p:nvSpPr>
        <p:spPr>
          <a:xfrm flipH="1">
            <a:off x="3706920" y="2895480"/>
            <a:ext cx="1440" cy="744480"/>
          </a:xfrm>
          <a:prstGeom prst="line">
            <a:avLst/>
          </a:prstGeom>
          <a:ln w="76320">
            <a:solidFill>
              <a:srgbClr val="eb5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71" name="PlaceHolder 1"/>
          <p:cNvSpPr>
            <a:spLocks noGrp="1"/>
          </p:cNvSpPr>
          <p:nvPr>
            <p:ph type="title"/>
          </p:nvPr>
        </p:nvSpPr>
        <p:spPr>
          <a:xfrm>
            <a:off x="344160" y="123480"/>
            <a:ext cx="8583480" cy="787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torage CLIM — Supported Devic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372" name="" descr=""/>
          <p:cNvPicPr/>
          <p:nvPr/>
        </p:nvPicPr>
        <p:blipFill>
          <a:blip r:embed="rId1"/>
          <a:stretch/>
        </p:blipFill>
        <p:spPr>
          <a:xfrm>
            <a:off x="1268280" y="4842000"/>
            <a:ext cx="2463840" cy="457200"/>
          </a:xfrm>
          <a:prstGeom prst="rect">
            <a:avLst/>
          </a:prstGeom>
          <a:ln w="0">
            <a:noFill/>
          </a:ln>
        </p:spPr>
      </p:pic>
      <p:pic>
        <p:nvPicPr>
          <p:cNvPr id="8373" name="" descr=""/>
          <p:cNvPicPr/>
          <p:nvPr/>
        </p:nvPicPr>
        <p:blipFill>
          <a:blip r:embed="rId2"/>
          <a:stretch/>
        </p:blipFill>
        <p:spPr>
          <a:xfrm>
            <a:off x="4527720" y="4562640"/>
            <a:ext cx="2393640" cy="1331640"/>
          </a:xfrm>
          <a:prstGeom prst="rect">
            <a:avLst/>
          </a:prstGeom>
          <a:ln w="0">
            <a:noFill/>
          </a:ln>
        </p:spPr>
      </p:pic>
      <p:sp>
        <p:nvSpPr>
          <p:cNvPr id="8374" name=""/>
          <p:cNvSpPr/>
          <p:nvPr/>
        </p:nvSpPr>
        <p:spPr>
          <a:xfrm flipH="1">
            <a:off x="2146320" y="2887560"/>
            <a:ext cx="14400" cy="1839960"/>
          </a:xfrm>
          <a:prstGeom prst="line">
            <a:avLst/>
          </a:prstGeom>
          <a:ln w="76320">
            <a:solidFill>
              <a:srgbClr val="eb5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75" name=""/>
          <p:cNvSpPr/>
          <p:nvPr/>
        </p:nvSpPr>
        <p:spPr>
          <a:xfrm>
            <a:off x="7067520" y="2873520"/>
            <a:ext cx="0" cy="777600"/>
          </a:xfrm>
          <a:prstGeom prst="line">
            <a:avLst/>
          </a:prstGeom>
          <a:ln w="3816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76" name=""/>
          <p:cNvSpPr/>
          <p:nvPr/>
        </p:nvSpPr>
        <p:spPr>
          <a:xfrm flipV="1">
            <a:off x="5183280" y="2881440"/>
            <a:ext cx="19080" cy="1676160"/>
          </a:xfrm>
          <a:prstGeom prst="line">
            <a:avLst/>
          </a:prstGeom>
          <a:ln w="3816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77" name=""/>
          <p:cNvSpPr/>
          <p:nvPr/>
        </p:nvSpPr>
        <p:spPr>
          <a:xfrm>
            <a:off x="1039680" y="5351400"/>
            <a:ext cx="33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StorageWorks MSA70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SAS disk enclosure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78" name=""/>
          <p:cNvSpPr/>
          <p:nvPr/>
        </p:nvSpPr>
        <p:spPr>
          <a:xfrm>
            <a:off x="5256360" y="6005520"/>
            <a:ext cx="36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XP Enterprise Storage Array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79" name=""/>
          <p:cNvSpPr/>
          <p:nvPr/>
        </p:nvSpPr>
        <p:spPr>
          <a:xfrm>
            <a:off x="6713640" y="419904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FC Tape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80" name=""/>
          <p:cNvSpPr/>
          <p:nvPr/>
        </p:nvSpPr>
        <p:spPr>
          <a:xfrm>
            <a:off x="2490840" y="3201840"/>
            <a:ext cx="63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Bk"/>
              </a:rPr>
              <a:t>SA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81" name=""/>
          <p:cNvSpPr/>
          <p:nvPr/>
        </p:nvSpPr>
        <p:spPr>
          <a:xfrm>
            <a:off x="5541840" y="3219480"/>
            <a:ext cx="122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Bk"/>
              </a:rPr>
              <a:t>Fibr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Futura Bk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82" name=""/>
          <p:cNvSpPr/>
          <p:nvPr/>
        </p:nvSpPr>
        <p:spPr>
          <a:xfrm>
            <a:off x="6829560" y="3652920"/>
            <a:ext cx="434880" cy="392040"/>
          </a:xfrm>
          <a:prstGeom prst="flowChartMagneticTape">
            <a:avLst/>
          </a:prstGeom>
          <a:solidFill>
            <a:srgbClr val="000000"/>
          </a:solidFill>
          <a:ln w="1908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83" name=""/>
          <p:cNvSpPr/>
          <p:nvPr/>
        </p:nvSpPr>
        <p:spPr>
          <a:xfrm>
            <a:off x="3475080" y="3451320"/>
            <a:ext cx="457200" cy="542880"/>
          </a:xfrm>
          <a:prstGeom prst="flowChartMagneticTape">
            <a:avLst/>
          </a:prstGeom>
          <a:solidFill>
            <a:srgbClr val="cc0066"/>
          </a:solidFill>
          <a:ln w="1908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84" name=""/>
          <p:cNvSpPr/>
          <p:nvPr/>
        </p:nvSpPr>
        <p:spPr>
          <a:xfrm>
            <a:off x="2791440" y="40417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Bk"/>
              </a:rPr>
              <a:t>SAS Tape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385" name="" descr=""/>
          <p:cNvPicPr/>
          <p:nvPr/>
        </p:nvPicPr>
        <p:blipFill>
          <a:blip r:embed="rId3"/>
          <a:stretch/>
        </p:blipFill>
        <p:spPr>
          <a:xfrm>
            <a:off x="996840" y="1265400"/>
            <a:ext cx="7485120" cy="1665000"/>
          </a:xfrm>
          <a:prstGeom prst="rect">
            <a:avLst/>
          </a:prstGeom>
          <a:ln w="0">
            <a:noFill/>
          </a:ln>
        </p:spPr>
      </p:pic>
      <p:sp>
        <p:nvSpPr>
          <p:cNvPr id="8386" name=""/>
          <p:cNvSpPr/>
          <p:nvPr/>
        </p:nvSpPr>
        <p:spPr>
          <a:xfrm>
            <a:off x="1906560" y="2401920"/>
            <a:ext cx="1892160" cy="253800"/>
          </a:xfrm>
          <a:prstGeom prst="rect">
            <a:avLst/>
          </a:prstGeom>
          <a:solidFill>
            <a:srgbClr val="6e6f7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87" name=""/>
          <p:cNvSpPr/>
          <p:nvPr/>
        </p:nvSpPr>
        <p:spPr>
          <a:xfrm>
            <a:off x="5854680" y="1511280"/>
            <a:ext cx="1739880" cy="11048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41EF7-B300-4EB0-B7E7-335BA9D778D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torage CLIM — Recommended FRU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8389" name=""/>
          <p:cNvGraphicFramePr/>
          <p:nvPr/>
        </p:nvGraphicFramePr>
        <p:xfrm>
          <a:off x="476280" y="1208160"/>
          <a:ext cx="8453160" cy="4538160"/>
        </p:xfrm>
        <a:graphic>
          <a:graphicData uri="http://schemas.openxmlformats.org/drawingml/2006/table">
            <a:tbl>
              <a:tblPr/>
              <a:tblGrid>
                <a:gridCol w="2575800"/>
                <a:gridCol w="2937960"/>
                <a:gridCol w="2939400"/>
              </a:tblGrid>
              <a:tr h="7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nline Replace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ot-Plugg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icroprocess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em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ower sup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CI-e Ri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AS H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C H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erverNet adap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ebian OS di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EB328-6C3B-4130-8220-8A8C5C104A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torageWorks MSA70 —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Recommended FRU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8391" name=""/>
          <p:cNvGraphicFramePr/>
          <p:nvPr/>
        </p:nvGraphicFramePr>
        <p:xfrm>
          <a:off x="399960" y="1447920"/>
          <a:ext cx="8542080" cy="2485440"/>
        </p:xfrm>
        <a:graphic>
          <a:graphicData uri="http://schemas.openxmlformats.org/drawingml/2006/table">
            <a:tbl>
              <a:tblPr/>
              <a:tblGrid>
                <a:gridCol w="2602080"/>
                <a:gridCol w="2970000"/>
                <a:gridCol w="2970000"/>
              </a:tblGrid>
              <a:tr h="4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R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nline Replace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ot-Plugg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AS disk dr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/O mo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ower supp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38C9-47E3-4811-B33F-5CFC9D9B355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92" name="" descr=""/>
          <p:cNvPicPr/>
          <p:nvPr/>
        </p:nvPicPr>
        <p:blipFill>
          <a:blip r:embed="rId1"/>
          <a:stretch/>
        </p:blipFill>
        <p:spPr>
          <a:xfrm>
            <a:off x="4264200" y="4564080"/>
            <a:ext cx="1861920" cy="1114560"/>
          </a:xfrm>
          <a:prstGeom prst="rect">
            <a:avLst/>
          </a:prstGeom>
          <a:ln w="0">
            <a:noFill/>
          </a:ln>
        </p:spPr>
      </p:pic>
      <p:pic>
        <p:nvPicPr>
          <p:cNvPr id="8393" name="" descr=""/>
          <p:cNvPicPr/>
          <p:nvPr/>
        </p:nvPicPr>
        <p:blipFill>
          <a:blip r:embed="rId2"/>
          <a:stretch/>
        </p:blipFill>
        <p:spPr>
          <a:xfrm>
            <a:off x="7956720" y="1609560"/>
            <a:ext cx="1099800" cy="2089440"/>
          </a:xfrm>
          <a:prstGeom prst="rect">
            <a:avLst/>
          </a:prstGeom>
          <a:ln w="0">
            <a:noFill/>
          </a:ln>
        </p:spPr>
      </p:pic>
      <p:sp>
        <p:nvSpPr>
          <p:cNvPr id="839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omparing FC to SAS Disk Driv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8395" name=""/>
          <p:cNvGraphicFramePr/>
          <p:nvPr/>
        </p:nvGraphicFramePr>
        <p:xfrm>
          <a:off x="399960" y="1092240"/>
          <a:ext cx="8586720" cy="4962600"/>
        </p:xfrm>
        <a:graphic>
          <a:graphicData uri="http://schemas.openxmlformats.org/drawingml/2006/table">
            <a:tbl>
              <a:tblPr/>
              <a:tblGrid>
                <a:gridCol w="2862360"/>
                <a:gridCol w="2862360"/>
                <a:gridCol w="28620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C di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AS dis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orm 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3.5 i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2.5 in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apacity and spindle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36GB/15k r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72GB/15k r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146GB/15k r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300GB/15k r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72GB/15k r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146GB/10k r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nterface and sp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ibre Channel, 2G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AS, 3Gb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umber of channel/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erforma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- Single track s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- Average s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- Full stroke see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0.57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3.5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9.0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0.2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2.8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5.1 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D1EBD-B5D8-4FBF-8056-89DA2CCAFF1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Multiple Mirrored Volumes —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equential I/O Operation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97" name=""/>
          <p:cNvSpPr/>
          <p:nvPr/>
        </p:nvSpPr>
        <p:spPr>
          <a:xfrm>
            <a:off x="2224080" y="418464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98" name=""/>
          <p:cNvSpPr/>
          <p:nvPr/>
        </p:nvSpPr>
        <p:spPr>
          <a:xfrm>
            <a:off x="2224080" y="392904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399" name=""/>
          <p:cNvSpPr/>
          <p:nvPr/>
        </p:nvSpPr>
        <p:spPr>
          <a:xfrm>
            <a:off x="2224080" y="368136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0" name=""/>
          <p:cNvSpPr/>
          <p:nvPr/>
        </p:nvSpPr>
        <p:spPr>
          <a:xfrm>
            <a:off x="2224080" y="342756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1" name=""/>
          <p:cNvSpPr/>
          <p:nvPr/>
        </p:nvSpPr>
        <p:spPr>
          <a:xfrm>
            <a:off x="2224080" y="317196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2" name=""/>
          <p:cNvSpPr/>
          <p:nvPr/>
        </p:nvSpPr>
        <p:spPr>
          <a:xfrm>
            <a:off x="2224080" y="291636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3" name=""/>
          <p:cNvSpPr/>
          <p:nvPr/>
        </p:nvSpPr>
        <p:spPr>
          <a:xfrm>
            <a:off x="2224080" y="266076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4" name=""/>
          <p:cNvSpPr/>
          <p:nvPr/>
        </p:nvSpPr>
        <p:spPr>
          <a:xfrm>
            <a:off x="2224080" y="241452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5" name=""/>
          <p:cNvSpPr/>
          <p:nvPr/>
        </p:nvSpPr>
        <p:spPr>
          <a:xfrm>
            <a:off x="2224080" y="215892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6" name=""/>
          <p:cNvSpPr/>
          <p:nvPr/>
        </p:nvSpPr>
        <p:spPr>
          <a:xfrm>
            <a:off x="2224080" y="1903320"/>
            <a:ext cx="662292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7" name=""/>
          <p:cNvSpPr/>
          <p:nvPr/>
        </p:nvSpPr>
        <p:spPr>
          <a:xfrm>
            <a:off x="2773440" y="3541680"/>
            <a:ext cx="733320" cy="89712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8" name=""/>
          <p:cNvSpPr/>
          <p:nvPr/>
        </p:nvSpPr>
        <p:spPr>
          <a:xfrm>
            <a:off x="6084720" y="3763800"/>
            <a:ext cx="733680" cy="67500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09" name=""/>
          <p:cNvSpPr/>
          <p:nvPr/>
        </p:nvSpPr>
        <p:spPr>
          <a:xfrm>
            <a:off x="3506760" y="2570040"/>
            <a:ext cx="739800" cy="1868760"/>
          </a:xfrm>
          <a:prstGeom prst="rect">
            <a:avLst/>
          </a:prstGeom>
          <a:solidFill>
            <a:srgbClr val="0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0" name=""/>
          <p:cNvSpPr/>
          <p:nvPr/>
        </p:nvSpPr>
        <p:spPr>
          <a:xfrm>
            <a:off x="6818400" y="2817720"/>
            <a:ext cx="739800" cy="1621080"/>
          </a:xfrm>
          <a:prstGeom prst="rect">
            <a:avLst/>
          </a:prstGeom>
          <a:solidFill>
            <a:srgbClr val="0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1" name=""/>
          <p:cNvSpPr/>
          <p:nvPr/>
        </p:nvSpPr>
        <p:spPr>
          <a:xfrm>
            <a:off x="4246560" y="2570040"/>
            <a:ext cx="731880" cy="1868760"/>
          </a:xfrm>
          <a:prstGeom prst="rect">
            <a:avLst/>
          </a:prstGeom>
          <a:solidFill>
            <a:srgbClr val="aa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2" name=""/>
          <p:cNvSpPr/>
          <p:nvPr/>
        </p:nvSpPr>
        <p:spPr>
          <a:xfrm>
            <a:off x="4246560" y="2570040"/>
            <a:ext cx="731880" cy="1868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3" name=""/>
          <p:cNvSpPr/>
          <p:nvPr/>
        </p:nvSpPr>
        <p:spPr>
          <a:xfrm>
            <a:off x="7558200" y="2570040"/>
            <a:ext cx="733320" cy="1868760"/>
          </a:xfrm>
          <a:prstGeom prst="rect">
            <a:avLst/>
          </a:prstGeom>
          <a:solidFill>
            <a:srgbClr val="aa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4" name=""/>
          <p:cNvSpPr/>
          <p:nvPr/>
        </p:nvSpPr>
        <p:spPr>
          <a:xfrm>
            <a:off x="7558200" y="2570040"/>
            <a:ext cx="733320" cy="1868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5" name=""/>
          <p:cNvSpPr/>
          <p:nvPr/>
        </p:nvSpPr>
        <p:spPr>
          <a:xfrm>
            <a:off x="2211480" y="1903320"/>
            <a:ext cx="0" cy="25354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6" name=""/>
          <p:cNvSpPr/>
          <p:nvPr/>
        </p:nvSpPr>
        <p:spPr>
          <a:xfrm>
            <a:off x="2174760" y="443880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7" name=""/>
          <p:cNvSpPr/>
          <p:nvPr/>
        </p:nvSpPr>
        <p:spPr>
          <a:xfrm>
            <a:off x="2174760" y="418464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8" name=""/>
          <p:cNvSpPr/>
          <p:nvPr/>
        </p:nvSpPr>
        <p:spPr>
          <a:xfrm>
            <a:off x="2174760" y="392904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19" name=""/>
          <p:cNvSpPr/>
          <p:nvPr/>
        </p:nvSpPr>
        <p:spPr>
          <a:xfrm>
            <a:off x="2174760" y="368136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0" name=""/>
          <p:cNvSpPr/>
          <p:nvPr/>
        </p:nvSpPr>
        <p:spPr>
          <a:xfrm>
            <a:off x="2174760" y="342756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1" name=""/>
          <p:cNvSpPr/>
          <p:nvPr/>
        </p:nvSpPr>
        <p:spPr>
          <a:xfrm>
            <a:off x="2174760" y="317196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2" name=""/>
          <p:cNvSpPr/>
          <p:nvPr/>
        </p:nvSpPr>
        <p:spPr>
          <a:xfrm>
            <a:off x="2174760" y="291636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3" name=""/>
          <p:cNvSpPr/>
          <p:nvPr/>
        </p:nvSpPr>
        <p:spPr>
          <a:xfrm>
            <a:off x="2174760" y="266076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4" name=""/>
          <p:cNvSpPr/>
          <p:nvPr/>
        </p:nvSpPr>
        <p:spPr>
          <a:xfrm>
            <a:off x="2174760" y="241452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5" name=""/>
          <p:cNvSpPr/>
          <p:nvPr/>
        </p:nvSpPr>
        <p:spPr>
          <a:xfrm>
            <a:off x="2174760" y="215892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6" name=""/>
          <p:cNvSpPr/>
          <p:nvPr/>
        </p:nvSpPr>
        <p:spPr>
          <a:xfrm>
            <a:off x="2174760" y="1903320"/>
            <a:ext cx="367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7" name=""/>
          <p:cNvSpPr/>
          <p:nvPr/>
        </p:nvSpPr>
        <p:spPr>
          <a:xfrm>
            <a:off x="2224080" y="4438800"/>
            <a:ext cx="66229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8" name=""/>
          <p:cNvSpPr/>
          <p:nvPr/>
        </p:nvSpPr>
        <p:spPr>
          <a:xfrm>
            <a:off x="1875960" y="43480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29" name=""/>
          <p:cNvSpPr/>
          <p:nvPr/>
        </p:nvSpPr>
        <p:spPr>
          <a:xfrm>
            <a:off x="1642680" y="40942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0" name=""/>
          <p:cNvSpPr/>
          <p:nvPr/>
        </p:nvSpPr>
        <p:spPr>
          <a:xfrm>
            <a:off x="1642680" y="383868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2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1" name=""/>
          <p:cNvSpPr/>
          <p:nvPr/>
        </p:nvSpPr>
        <p:spPr>
          <a:xfrm>
            <a:off x="1642680" y="35910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3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2" name=""/>
          <p:cNvSpPr/>
          <p:nvPr/>
        </p:nvSpPr>
        <p:spPr>
          <a:xfrm>
            <a:off x="1642680" y="333540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4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3" name=""/>
          <p:cNvSpPr/>
          <p:nvPr/>
        </p:nvSpPr>
        <p:spPr>
          <a:xfrm>
            <a:off x="1642680" y="30812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5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4" name=""/>
          <p:cNvSpPr/>
          <p:nvPr/>
        </p:nvSpPr>
        <p:spPr>
          <a:xfrm>
            <a:off x="1642680" y="28256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6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5" name=""/>
          <p:cNvSpPr/>
          <p:nvPr/>
        </p:nvSpPr>
        <p:spPr>
          <a:xfrm>
            <a:off x="1642680" y="257004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7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6" name=""/>
          <p:cNvSpPr/>
          <p:nvPr/>
        </p:nvSpPr>
        <p:spPr>
          <a:xfrm>
            <a:off x="1642680" y="23241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8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7" name=""/>
          <p:cNvSpPr/>
          <p:nvPr/>
        </p:nvSpPr>
        <p:spPr>
          <a:xfrm>
            <a:off x="1642680" y="2068560"/>
            <a:ext cx="34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9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8" name=""/>
          <p:cNvSpPr/>
          <p:nvPr/>
        </p:nvSpPr>
        <p:spPr>
          <a:xfrm>
            <a:off x="1576080" y="18129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39" name=""/>
          <p:cNvSpPr/>
          <p:nvPr/>
        </p:nvSpPr>
        <p:spPr>
          <a:xfrm>
            <a:off x="3345480" y="6346800"/>
            <a:ext cx="21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erformance Exampl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0" name=""/>
          <p:cNvSpPr/>
          <p:nvPr/>
        </p:nvSpPr>
        <p:spPr>
          <a:xfrm rot="16200000">
            <a:off x="-267480" y="2782800"/>
            <a:ext cx="2690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Throughput  (MB /Second)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1" name=""/>
          <p:cNvSpPr/>
          <p:nvPr/>
        </p:nvSpPr>
        <p:spPr>
          <a:xfrm>
            <a:off x="615960" y="4711680"/>
            <a:ext cx="823104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2" name=""/>
          <p:cNvSpPr/>
          <p:nvPr/>
        </p:nvSpPr>
        <p:spPr>
          <a:xfrm>
            <a:off x="603360" y="6219720"/>
            <a:ext cx="823104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3" name=""/>
          <p:cNvSpPr/>
          <p:nvPr/>
        </p:nvSpPr>
        <p:spPr>
          <a:xfrm>
            <a:off x="2224080" y="4438800"/>
            <a:ext cx="662292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4" name=""/>
          <p:cNvSpPr/>
          <p:nvPr/>
        </p:nvSpPr>
        <p:spPr>
          <a:xfrm flipH="1">
            <a:off x="601560" y="4711680"/>
            <a:ext cx="14400" cy="15289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5" name=""/>
          <p:cNvSpPr/>
          <p:nvPr/>
        </p:nvSpPr>
        <p:spPr>
          <a:xfrm flipH="1">
            <a:off x="2387520" y="4438800"/>
            <a:ext cx="14400" cy="17748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6" name=""/>
          <p:cNvSpPr/>
          <p:nvPr/>
        </p:nvSpPr>
        <p:spPr>
          <a:xfrm>
            <a:off x="5535720" y="4438800"/>
            <a:ext cx="0" cy="17730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7" name=""/>
          <p:cNvSpPr/>
          <p:nvPr/>
        </p:nvSpPr>
        <p:spPr>
          <a:xfrm>
            <a:off x="8847000" y="4438800"/>
            <a:ext cx="0" cy="17874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8" name=""/>
          <p:cNvSpPr/>
          <p:nvPr/>
        </p:nvSpPr>
        <p:spPr>
          <a:xfrm>
            <a:off x="652320" y="4818240"/>
            <a:ext cx="77760" cy="90360"/>
          </a:xfrm>
          <a:prstGeom prst="rect">
            <a:avLst/>
          </a:prstGeom>
          <a:solidFill>
            <a:srgbClr val="ff99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49" name=""/>
          <p:cNvSpPr/>
          <p:nvPr/>
        </p:nvSpPr>
        <p:spPr>
          <a:xfrm>
            <a:off x="719280" y="4768920"/>
            <a:ext cx="131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Fiber Channel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0" name=""/>
          <p:cNvSpPr/>
          <p:nvPr/>
        </p:nvSpPr>
        <p:spPr>
          <a:xfrm>
            <a:off x="3746520" y="47610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353.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1" name=""/>
          <p:cNvSpPr/>
          <p:nvPr/>
        </p:nvSpPr>
        <p:spPr>
          <a:xfrm>
            <a:off x="7059600" y="476100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265.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2" name=""/>
          <p:cNvSpPr/>
          <p:nvPr/>
        </p:nvSpPr>
        <p:spPr>
          <a:xfrm>
            <a:off x="623880" y="5038560"/>
            <a:ext cx="8217000" cy="18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3" name=""/>
          <p:cNvSpPr/>
          <p:nvPr/>
        </p:nvSpPr>
        <p:spPr>
          <a:xfrm>
            <a:off x="652320" y="5124600"/>
            <a:ext cx="77760" cy="90360"/>
          </a:xfrm>
          <a:prstGeom prst="rect">
            <a:avLst/>
          </a:prstGeom>
          <a:solidFill>
            <a:srgbClr val="00008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4" name=""/>
          <p:cNvSpPr/>
          <p:nvPr/>
        </p:nvSpPr>
        <p:spPr>
          <a:xfrm>
            <a:off x="748080" y="5075280"/>
            <a:ext cx="151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G5 SAS (default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5" name=""/>
          <p:cNvSpPr/>
          <p:nvPr/>
        </p:nvSpPr>
        <p:spPr>
          <a:xfrm>
            <a:off x="3746520" y="506736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738.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6" name=""/>
          <p:cNvSpPr/>
          <p:nvPr/>
        </p:nvSpPr>
        <p:spPr>
          <a:xfrm>
            <a:off x="7059600" y="506736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641.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7" name=""/>
          <p:cNvSpPr/>
          <p:nvPr/>
        </p:nvSpPr>
        <p:spPr>
          <a:xfrm>
            <a:off x="623880" y="5332320"/>
            <a:ext cx="8217000" cy="18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8" name=""/>
          <p:cNvSpPr/>
          <p:nvPr/>
        </p:nvSpPr>
        <p:spPr>
          <a:xfrm>
            <a:off x="652320" y="5432400"/>
            <a:ext cx="69840" cy="81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59" name=""/>
          <p:cNvSpPr/>
          <p:nvPr/>
        </p:nvSpPr>
        <p:spPr>
          <a:xfrm>
            <a:off x="652320" y="5432400"/>
            <a:ext cx="77760" cy="90360"/>
          </a:xfrm>
          <a:prstGeom prst="rect">
            <a:avLst/>
          </a:prstGeom>
          <a:solidFill>
            <a:srgbClr val="aaabb0"/>
          </a:solidFill>
          <a:ln w="648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60" name=""/>
          <p:cNvSpPr/>
          <p:nvPr/>
        </p:nvSpPr>
        <p:spPr>
          <a:xfrm>
            <a:off x="810360" y="5381640"/>
            <a:ext cx="12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G5 SAS (WCE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61" name=""/>
          <p:cNvSpPr/>
          <p:nvPr/>
        </p:nvSpPr>
        <p:spPr>
          <a:xfrm>
            <a:off x="3746520" y="53737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737.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62" name=""/>
          <p:cNvSpPr/>
          <p:nvPr/>
        </p:nvSpPr>
        <p:spPr>
          <a:xfrm>
            <a:off x="7059600" y="5373720"/>
            <a:ext cx="518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738.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63" name=""/>
          <p:cNvSpPr/>
          <p:nvPr/>
        </p:nvSpPr>
        <p:spPr>
          <a:xfrm>
            <a:off x="623880" y="5613480"/>
            <a:ext cx="8217000" cy="144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64" name=""/>
          <p:cNvSpPr/>
          <p:nvPr/>
        </p:nvSpPr>
        <p:spPr>
          <a:xfrm>
            <a:off x="684360" y="5678640"/>
            <a:ext cx="16405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peedup G5 W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 vs Default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65" name=""/>
          <p:cNvSpPr/>
          <p:nvPr/>
        </p:nvSpPr>
        <p:spPr>
          <a:xfrm>
            <a:off x="3979800" y="567072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66" name=""/>
          <p:cNvSpPr/>
          <p:nvPr/>
        </p:nvSpPr>
        <p:spPr>
          <a:xfrm>
            <a:off x="7280280" y="567072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.1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67" name=""/>
          <p:cNvSpPr/>
          <p:nvPr/>
        </p:nvSpPr>
        <p:spPr>
          <a:xfrm>
            <a:off x="3020400" y="4479840"/>
            <a:ext cx="193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equential Read 56k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68" name=""/>
          <p:cNvSpPr/>
          <p:nvPr/>
        </p:nvSpPr>
        <p:spPr>
          <a:xfrm>
            <a:off x="6276960" y="4479840"/>
            <a:ext cx="19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equential Write 56k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60F56-5983-4BD9-B561-116E2C52BA8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Module Objectiv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troduce the Storage Cluster I/O Module (CLIM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the hardware components of the Storage CLI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the Storage CLIM theory of operation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how the Storage CLIM connects into the NonStop Multicore Architecture (NSMA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the disk and tape hardware component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Volume Level Encryption overview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3B303-54F4-46B9-BBB9-4ECE95962D1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Multiple Mirrored Volumes —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Random I/O Operation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0" name=""/>
          <p:cNvSpPr/>
          <p:nvPr/>
        </p:nvSpPr>
        <p:spPr>
          <a:xfrm>
            <a:off x="2496960" y="3882960"/>
            <a:ext cx="603108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1" name=""/>
          <p:cNvSpPr/>
          <p:nvPr/>
        </p:nvSpPr>
        <p:spPr>
          <a:xfrm>
            <a:off x="2496960" y="3463920"/>
            <a:ext cx="603108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2" name=""/>
          <p:cNvSpPr/>
          <p:nvPr/>
        </p:nvSpPr>
        <p:spPr>
          <a:xfrm>
            <a:off x="2496960" y="3035160"/>
            <a:ext cx="603108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3" name=""/>
          <p:cNvSpPr/>
          <p:nvPr/>
        </p:nvSpPr>
        <p:spPr>
          <a:xfrm>
            <a:off x="2496960" y="2616120"/>
            <a:ext cx="603108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4" name=""/>
          <p:cNvSpPr/>
          <p:nvPr/>
        </p:nvSpPr>
        <p:spPr>
          <a:xfrm>
            <a:off x="2496960" y="2187720"/>
            <a:ext cx="603108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5" name=""/>
          <p:cNvSpPr/>
          <p:nvPr/>
        </p:nvSpPr>
        <p:spPr>
          <a:xfrm>
            <a:off x="2496960" y="1768320"/>
            <a:ext cx="603108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6" name=""/>
          <p:cNvSpPr/>
          <p:nvPr/>
        </p:nvSpPr>
        <p:spPr>
          <a:xfrm>
            <a:off x="2496960" y="1339920"/>
            <a:ext cx="6031080" cy="0"/>
          </a:xfrm>
          <a:prstGeom prst="line">
            <a:avLst/>
          </a:prstGeom>
          <a:ln w="0">
            <a:solidFill>
              <a:srgbClr val="3366f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7" name=""/>
          <p:cNvSpPr/>
          <p:nvPr/>
        </p:nvSpPr>
        <p:spPr>
          <a:xfrm>
            <a:off x="2998800" y="2911320"/>
            <a:ext cx="674640" cy="1400400"/>
          </a:xfrm>
          <a:prstGeom prst="rect">
            <a:avLst/>
          </a:prstGeom>
          <a:solidFill>
            <a:srgbClr val="ff99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8" name=""/>
          <p:cNvSpPr/>
          <p:nvPr/>
        </p:nvSpPr>
        <p:spPr>
          <a:xfrm>
            <a:off x="6018120" y="2978280"/>
            <a:ext cx="666720" cy="1333440"/>
          </a:xfrm>
          <a:prstGeom prst="rect">
            <a:avLst/>
          </a:prstGeom>
          <a:solidFill>
            <a:srgbClr val="ff99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79" name=""/>
          <p:cNvSpPr/>
          <p:nvPr/>
        </p:nvSpPr>
        <p:spPr>
          <a:xfrm>
            <a:off x="3673440" y="1692360"/>
            <a:ext cx="666720" cy="2619360"/>
          </a:xfrm>
          <a:prstGeom prst="rect">
            <a:avLst/>
          </a:prstGeom>
          <a:solidFill>
            <a:srgbClr val="00008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0" name=""/>
          <p:cNvSpPr/>
          <p:nvPr/>
        </p:nvSpPr>
        <p:spPr>
          <a:xfrm>
            <a:off x="6684840" y="2025720"/>
            <a:ext cx="674640" cy="2286000"/>
          </a:xfrm>
          <a:prstGeom prst="rect">
            <a:avLst/>
          </a:prstGeom>
          <a:solidFill>
            <a:srgbClr val="00008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1" name=""/>
          <p:cNvSpPr/>
          <p:nvPr/>
        </p:nvSpPr>
        <p:spPr>
          <a:xfrm>
            <a:off x="4340160" y="1701720"/>
            <a:ext cx="676440" cy="2610000"/>
          </a:xfrm>
          <a:prstGeom prst="rect">
            <a:avLst/>
          </a:prstGeom>
          <a:solidFill>
            <a:srgbClr val="aa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2" name=""/>
          <p:cNvSpPr/>
          <p:nvPr/>
        </p:nvSpPr>
        <p:spPr>
          <a:xfrm>
            <a:off x="4340160" y="1701720"/>
            <a:ext cx="676440" cy="26100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3" name=""/>
          <p:cNvSpPr/>
          <p:nvPr/>
        </p:nvSpPr>
        <p:spPr>
          <a:xfrm>
            <a:off x="7359480" y="1349280"/>
            <a:ext cx="668520" cy="2962440"/>
          </a:xfrm>
          <a:prstGeom prst="rect">
            <a:avLst/>
          </a:prstGeom>
          <a:solidFill>
            <a:srgbClr val="aaab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4" name=""/>
          <p:cNvSpPr/>
          <p:nvPr/>
        </p:nvSpPr>
        <p:spPr>
          <a:xfrm>
            <a:off x="7359480" y="1349280"/>
            <a:ext cx="668520" cy="296244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5" name=""/>
          <p:cNvSpPr/>
          <p:nvPr/>
        </p:nvSpPr>
        <p:spPr>
          <a:xfrm>
            <a:off x="2522520" y="1314360"/>
            <a:ext cx="0" cy="29718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6" name=""/>
          <p:cNvSpPr/>
          <p:nvPr/>
        </p:nvSpPr>
        <p:spPr>
          <a:xfrm>
            <a:off x="2382840" y="3879720"/>
            <a:ext cx="3816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7" name=""/>
          <p:cNvSpPr/>
          <p:nvPr/>
        </p:nvSpPr>
        <p:spPr>
          <a:xfrm>
            <a:off x="2382840" y="3451320"/>
            <a:ext cx="3816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8" name=""/>
          <p:cNvSpPr/>
          <p:nvPr/>
        </p:nvSpPr>
        <p:spPr>
          <a:xfrm>
            <a:off x="2382840" y="3032280"/>
            <a:ext cx="3816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89" name=""/>
          <p:cNvSpPr/>
          <p:nvPr/>
        </p:nvSpPr>
        <p:spPr>
          <a:xfrm>
            <a:off x="2382840" y="2603520"/>
            <a:ext cx="3816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0" name=""/>
          <p:cNvSpPr/>
          <p:nvPr/>
        </p:nvSpPr>
        <p:spPr>
          <a:xfrm>
            <a:off x="2382840" y="2184480"/>
            <a:ext cx="3816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1" name=""/>
          <p:cNvSpPr/>
          <p:nvPr/>
        </p:nvSpPr>
        <p:spPr>
          <a:xfrm>
            <a:off x="2382840" y="1755720"/>
            <a:ext cx="3816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2" name=""/>
          <p:cNvSpPr/>
          <p:nvPr/>
        </p:nvSpPr>
        <p:spPr>
          <a:xfrm>
            <a:off x="2382840" y="1336680"/>
            <a:ext cx="3816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3" name=""/>
          <p:cNvSpPr/>
          <p:nvPr/>
        </p:nvSpPr>
        <p:spPr>
          <a:xfrm>
            <a:off x="2496960" y="4311720"/>
            <a:ext cx="603108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4" name=""/>
          <p:cNvSpPr/>
          <p:nvPr/>
        </p:nvSpPr>
        <p:spPr>
          <a:xfrm>
            <a:off x="2223720" y="4133880"/>
            <a:ext cx="11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5" name=""/>
          <p:cNvSpPr/>
          <p:nvPr/>
        </p:nvSpPr>
        <p:spPr>
          <a:xfrm>
            <a:off x="1860120" y="376092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6" name=""/>
          <p:cNvSpPr/>
          <p:nvPr/>
        </p:nvSpPr>
        <p:spPr>
          <a:xfrm>
            <a:off x="1865160" y="33591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40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7" name=""/>
          <p:cNvSpPr/>
          <p:nvPr/>
        </p:nvSpPr>
        <p:spPr>
          <a:xfrm>
            <a:off x="1865160" y="29304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60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8" name=""/>
          <p:cNvSpPr/>
          <p:nvPr/>
        </p:nvSpPr>
        <p:spPr>
          <a:xfrm>
            <a:off x="1865160" y="251136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80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499" name=""/>
          <p:cNvSpPr/>
          <p:nvPr/>
        </p:nvSpPr>
        <p:spPr>
          <a:xfrm>
            <a:off x="1767960" y="208296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00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0" name=""/>
          <p:cNvSpPr/>
          <p:nvPr/>
        </p:nvSpPr>
        <p:spPr>
          <a:xfrm>
            <a:off x="1767960" y="166356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20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1" name=""/>
          <p:cNvSpPr/>
          <p:nvPr/>
        </p:nvSpPr>
        <p:spPr>
          <a:xfrm>
            <a:off x="1767960" y="123516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40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2" name=""/>
          <p:cNvSpPr/>
          <p:nvPr/>
        </p:nvSpPr>
        <p:spPr>
          <a:xfrm>
            <a:off x="3786840" y="6359400"/>
            <a:ext cx="210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erformance Exampl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3" name=""/>
          <p:cNvSpPr/>
          <p:nvPr/>
        </p:nvSpPr>
        <p:spPr>
          <a:xfrm rot="16200000">
            <a:off x="-460800" y="2836080"/>
            <a:ext cx="2934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Throughput  (I/O per second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4" name=""/>
          <p:cNvSpPr/>
          <p:nvPr/>
        </p:nvSpPr>
        <p:spPr>
          <a:xfrm>
            <a:off x="666720" y="4867200"/>
            <a:ext cx="775980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5" name=""/>
          <p:cNvSpPr/>
          <p:nvPr/>
        </p:nvSpPr>
        <p:spPr>
          <a:xfrm>
            <a:off x="666720" y="6200640"/>
            <a:ext cx="775980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6" name=""/>
          <p:cNvSpPr/>
          <p:nvPr/>
        </p:nvSpPr>
        <p:spPr>
          <a:xfrm>
            <a:off x="2496960" y="4311720"/>
            <a:ext cx="6031080" cy="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7" name=""/>
          <p:cNvSpPr/>
          <p:nvPr/>
        </p:nvSpPr>
        <p:spPr>
          <a:xfrm>
            <a:off x="666720" y="4816440"/>
            <a:ext cx="0" cy="133344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8" name=""/>
          <p:cNvSpPr/>
          <p:nvPr/>
        </p:nvSpPr>
        <p:spPr>
          <a:xfrm>
            <a:off x="3208320" y="4565520"/>
            <a:ext cx="0" cy="164808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09" name=""/>
          <p:cNvSpPr/>
          <p:nvPr/>
        </p:nvSpPr>
        <p:spPr>
          <a:xfrm>
            <a:off x="5897520" y="4552920"/>
            <a:ext cx="0" cy="16477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0" name=""/>
          <p:cNvSpPr/>
          <p:nvPr/>
        </p:nvSpPr>
        <p:spPr>
          <a:xfrm>
            <a:off x="8439120" y="4552920"/>
            <a:ext cx="0" cy="164772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1" name=""/>
          <p:cNvSpPr/>
          <p:nvPr/>
        </p:nvSpPr>
        <p:spPr>
          <a:xfrm>
            <a:off x="831960" y="4940280"/>
            <a:ext cx="82440" cy="104760"/>
          </a:xfrm>
          <a:prstGeom prst="rect">
            <a:avLst/>
          </a:prstGeom>
          <a:solidFill>
            <a:srgbClr val="ff990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2" name=""/>
          <p:cNvSpPr/>
          <p:nvPr/>
        </p:nvSpPr>
        <p:spPr>
          <a:xfrm>
            <a:off x="1097640" y="4876920"/>
            <a:ext cx="1263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FiberChannel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3" name=""/>
          <p:cNvSpPr/>
          <p:nvPr/>
        </p:nvSpPr>
        <p:spPr>
          <a:xfrm>
            <a:off x="4184280" y="49244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661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4" name=""/>
          <p:cNvSpPr/>
          <p:nvPr/>
        </p:nvSpPr>
        <p:spPr>
          <a:xfrm>
            <a:off x="7203600" y="492444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628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5" name=""/>
          <p:cNvSpPr/>
          <p:nvPr/>
        </p:nvSpPr>
        <p:spPr>
          <a:xfrm>
            <a:off x="673200" y="5143680"/>
            <a:ext cx="7746840" cy="144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6" name=""/>
          <p:cNvSpPr/>
          <p:nvPr/>
        </p:nvSpPr>
        <p:spPr>
          <a:xfrm>
            <a:off x="831960" y="5207040"/>
            <a:ext cx="82440" cy="104760"/>
          </a:xfrm>
          <a:prstGeom prst="rect">
            <a:avLst/>
          </a:prstGeom>
          <a:solidFill>
            <a:srgbClr val="00008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7" name=""/>
          <p:cNvSpPr/>
          <p:nvPr/>
        </p:nvSpPr>
        <p:spPr>
          <a:xfrm>
            <a:off x="1103760" y="5149800"/>
            <a:ext cx="1518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G5 SAS (default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8" name=""/>
          <p:cNvSpPr/>
          <p:nvPr/>
        </p:nvSpPr>
        <p:spPr>
          <a:xfrm>
            <a:off x="4125600" y="519120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2347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19" name=""/>
          <p:cNvSpPr/>
          <p:nvPr/>
        </p:nvSpPr>
        <p:spPr>
          <a:xfrm>
            <a:off x="7144920" y="519120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0788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0" name=""/>
          <p:cNvSpPr/>
          <p:nvPr/>
        </p:nvSpPr>
        <p:spPr>
          <a:xfrm>
            <a:off x="673200" y="5410080"/>
            <a:ext cx="7746840" cy="18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1" name=""/>
          <p:cNvSpPr/>
          <p:nvPr/>
        </p:nvSpPr>
        <p:spPr>
          <a:xfrm>
            <a:off x="831960" y="5473800"/>
            <a:ext cx="74520" cy="95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2" name=""/>
          <p:cNvSpPr/>
          <p:nvPr/>
        </p:nvSpPr>
        <p:spPr>
          <a:xfrm>
            <a:off x="831960" y="5473800"/>
            <a:ext cx="82440" cy="104760"/>
          </a:xfrm>
          <a:prstGeom prst="rect">
            <a:avLst/>
          </a:prstGeom>
          <a:solidFill>
            <a:srgbClr val="aaabb0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3" name=""/>
          <p:cNvSpPr/>
          <p:nvPr/>
        </p:nvSpPr>
        <p:spPr>
          <a:xfrm>
            <a:off x="1178640" y="5416560"/>
            <a:ext cx="1274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G5 SAS (WCE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4" name=""/>
          <p:cNvSpPr/>
          <p:nvPr/>
        </p:nvSpPr>
        <p:spPr>
          <a:xfrm>
            <a:off x="4125600" y="545796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229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5" name=""/>
          <p:cNvSpPr/>
          <p:nvPr/>
        </p:nvSpPr>
        <p:spPr>
          <a:xfrm>
            <a:off x="7144920" y="5457960"/>
            <a:ext cx="57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396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6" name=""/>
          <p:cNvSpPr/>
          <p:nvPr/>
        </p:nvSpPr>
        <p:spPr>
          <a:xfrm>
            <a:off x="673200" y="5676840"/>
            <a:ext cx="7746840" cy="1800"/>
          </a:xfrm>
          <a:prstGeom prst="line">
            <a:avLst/>
          </a:prstGeom>
          <a:ln w="0">
            <a:solidFill>
              <a:srgbClr val="3366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7" name=""/>
          <p:cNvSpPr/>
          <p:nvPr/>
        </p:nvSpPr>
        <p:spPr>
          <a:xfrm>
            <a:off x="1116000" y="5708520"/>
            <a:ext cx="16938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peedup G5 W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vs Default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8" name=""/>
          <p:cNvSpPr/>
          <p:nvPr/>
        </p:nvSpPr>
        <p:spPr>
          <a:xfrm>
            <a:off x="4616280" y="572436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.0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29" name=""/>
          <p:cNvSpPr/>
          <p:nvPr/>
        </p:nvSpPr>
        <p:spPr>
          <a:xfrm>
            <a:off x="7635600" y="5711760"/>
            <a:ext cx="403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1.29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30" name=""/>
          <p:cNvSpPr/>
          <p:nvPr/>
        </p:nvSpPr>
        <p:spPr>
          <a:xfrm>
            <a:off x="3640680" y="445464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Random Read 4k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31" name=""/>
          <p:cNvSpPr/>
          <p:nvPr/>
        </p:nvSpPr>
        <p:spPr>
          <a:xfrm>
            <a:off x="6235560" y="4479840"/>
            <a:ext cx="1645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Random Write 4k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97740-2F02-4B61-85D2-6EFE8D527F8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equential Read Performance per CLIM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8533" name=""/>
          <p:cNvGraphicFramePr/>
          <p:nvPr/>
        </p:nvGraphicFramePr>
        <p:xfrm>
          <a:off x="1422360" y="1731960"/>
          <a:ext cx="6091200" cy="451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2360" y="1731960"/>
                    <a:ext cx="6091200" cy="45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5" name=""/>
          <p:cNvSpPr/>
          <p:nvPr/>
        </p:nvSpPr>
        <p:spPr>
          <a:xfrm>
            <a:off x="1761480" y="1622520"/>
            <a:ext cx="79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B/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3A870-50B3-4091-8483-8EB11E2D5E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Rackmount Tape Drive Enclosure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37" name="PlaceHolder 2"/>
          <p:cNvSpPr>
            <a:spLocks noGrp="1"/>
          </p:cNvSpPr>
          <p:nvPr>
            <p:ph/>
          </p:nvPr>
        </p:nvSpPr>
        <p:spPr>
          <a:xfrm>
            <a:off x="399960" y="2441520"/>
            <a:ext cx="8586720" cy="414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eatures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StorageWorks product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1U heigh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upport up to two tape driv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o SAS connector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ne power suppl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538" name="" descr=""/>
          <p:cNvPicPr/>
          <p:nvPr/>
        </p:nvPicPr>
        <p:blipFill>
          <a:blip r:embed="rId1"/>
          <a:stretch/>
        </p:blipFill>
        <p:spPr>
          <a:xfrm>
            <a:off x="415800" y="1360440"/>
            <a:ext cx="8016840" cy="90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3962-0D43-4A8C-BA51-C05605A378E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Tape Driv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540" name="" descr=""/>
          <p:cNvPicPr/>
          <p:nvPr/>
        </p:nvPicPr>
        <p:blipFill>
          <a:blip r:embed="rId1"/>
          <a:stretch/>
        </p:blipFill>
        <p:spPr>
          <a:xfrm>
            <a:off x="4516560" y="1268280"/>
            <a:ext cx="3678120" cy="2051280"/>
          </a:xfrm>
          <a:prstGeom prst="rect">
            <a:avLst/>
          </a:prstGeom>
          <a:ln w="0">
            <a:noFill/>
          </a:ln>
        </p:spPr>
      </p:pic>
      <p:pic>
        <p:nvPicPr>
          <p:cNvPr id="8541" name="" descr=""/>
          <p:cNvPicPr/>
          <p:nvPr/>
        </p:nvPicPr>
        <p:blipFill>
          <a:blip r:embed="rId2"/>
          <a:stretch/>
        </p:blipFill>
        <p:spPr>
          <a:xfrm>
            <a:off x="561960" y="1300320"/>
            <a:ext cx="3502080" cy="1982520"/>
          </a:xfrm>
          <a:prstGeom prst="rect">
            <a:avLst/>
          </a:prstGeom>
          <a:ln w="0">
            <a:noFill/>
          </a:ln>
        </p:spPr>
      </p:pic>
      <p:sp>
        <p:nvSpPr>
          <p:cNvPr id="8542" name=""/>
          <p:cNvSpPr/>
          <p:nvPr/>
        </p:nvSpPr>
        <p:spPr>
          <a:xfrm>
            <a:off x="1329120" y="273060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Ultrium 448 SA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43" name=""/>
          <p:cNvSpPr/>
          <p:nvPr/>
        </p:nvSpPr>
        <p:spPr>
          <a:xfrm>
            <a:off x="5391720" y="2803680"/>
            <a:ext cx="19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Ultrium 920 SA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8544" name=""/>
          <p:cNvGraphicFramePr/>
          <p:nvPr/>
        </p:nvGraphicFramePr>
        <p:xfrm>
          <a:off x="366840" y="3414600"/>
          <a:ext cx="8691480" cy="2981520"/>
        </p:xfrm>
        <a:graphic>
          <a:graphicData uri="http://schemas.openxmlformats.org/drawingml/2006/table">
            <a:tbl>
              <a:tblPr/>
              <a:tblGrid>
                <a:gridCol w="2896920"/>
                <a:gridCol w="2897280"/>
                <a:gridCol w="2897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ltrium 448 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Ultrium 920 S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Recording 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LTO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LTO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ompressed capacity (2: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00 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800 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ustained xfer rate (compressed 2: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173 GB/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32 GB/h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Encryp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W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902F6-EFAB-4D75-9528-EE429F59FDD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5" name="PlaceHolder 1"/>
          <p:cNvSpPr>
            <a:spLocks noGrp="1"/>
          </p:cNvSpPr>
          <p:nvPr>
            <p:ph type="title"/>
          </p:nvPr>
        </p:nvSpPr>
        <p:spPr>
          <a:xfrm>
            <a:off x="267840" y="-360"/>
            <a:ext cx="8091720" cy="111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Product: Integrated Volume Level Encryption </a:t>
            </a:r>
            <a:br>
              <a:rPr sz="2800"/>
            </a:br>
            <a:r>
              <a:rPr b="0" lang="en-US" sz="2000" spc="-1" strike="noStrike">
                <a:solidFill>
                  <a:srgbClr val="64b900"/>
                </a:solidFill>
                <a:latin typeface="Futura Bk"/>
              </a:rPr>
              <a:t>Through the Storage CLIM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46" name=""/>
          <p:cNvSpPr txBox="1"/>
          <p:nvPr/>
        </p:nvSpPr>
        <p:spPr>
          <a:xfrm>
            <a:off x="340920" y="1386000"/>
            <a:ext cx="846612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Provides a system integrated volume level encryption solution for the NonStop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marL="228600" indent="-22860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s is strictly a </a:t>
            </a:r>
            <a:r>
              <a:rPr b="0" lang="en-US" sz="2600" spc="-1" strike="noStrike">
                <a:solidFill>
                  <a:srgbClr val="99cc00"/>
                </a:solidFill>
                <a:latin typeface="Futura Bk"/>
              </a:rPr>
              <a:t>data at rest</a:t>
            </a: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 security solution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marL="228600" indent="-22860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Encrypts all the data being written to configured disks and tape drives* attached to the NonStop Storage CLIM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marL="228600" indent="-22860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marL="228600" indent="-228600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71b5"/>
                </a:solidFill>
                <a:latin typeface="Futura Bk"/>
              </a:rPr>
              <a:t>* Full list of VLE compatible devices available in following slides</a:t>
            </a:r>
            <a:endParaRPr b="0" lang="en-US" sz="13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547" name="Slide Number Placeholder 3"/>
          <p:cNvSpPr/>
          <p:nvPr/>
        </p:nvSpPr>
        <p:spPr>
          <a:xfrm>
            <a:off x="438120" y="6550200"/>
            <a:ext cx="501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7923-C3AC-41A5-8D43-461E31C970B1}" type="slidenum">
              <a:rPr b="0" lang="en-US" sz="1100" spc="-1" strike="noStrike">
                <a:solidFill>
                  <a:srgbClr val="848589"/>
                </a:solidFill>
                <a:latin typeface="Futura Bk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64A4B-61EF-4666-AFCC-2199C940F2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8" name="Slide Number Placeholder 2"/>
          <p:cNvSpPr/>
          <p:nvPr/>
        </p:nvSpPr>
        <p:spPr>
          <a:xfrm>
            <a:off x="438120" y="6550200"/>
            <a:ext cx="501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FA2A-68FF-4AE1-BD81-5862FB357402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49" name="Date Placeholder 3"/>
          <p:cNvSpPr/>
          <p:nvPr/>
        </p:nvSpPr>
        <p:spPr>
          <a:xfrm>
            <a:off x="979560" y="6550200"/>
            <a:ext cx="11142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Sept 28, 2009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0" name="Footer Placeholder 4"/>
          <p:cNvSpPr/>
          <p:nvPr/>
        </p:nvSpPr>
        <p:spPr>
          <a:xfrm>
            <a:off x="2139840" y="6550200"/>
            <a:ext cx="535968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48589"/>
                </a:solidFill>
                <a:latin typeface="Futura Bk"/>
              </a:rPr>
              <a:t>NonStop Volume Level Encryption FCS TOI. HP confidential - Need to know only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73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ystem Interconnec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2" name="Line 40"/>
          <p:cNvSpPr/>
          <p:nvPr/>
        </p:nvSpPr>
        <p:spPr>
          <a:xfrm>
            <a:off x="2828880" y="2371680"/>
            <a:ext cx="0" cy="763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3" name="Line 41"/>
          <p:cNvSpPr/>
          <p:nvPr/>
        </p:nvSpPr>
        <p:spPr>
          <a:xfrm>
            <a:off x="4564080" y="2460600"/>
            <a:ext cx="0" cy="68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4" name="Line 44"/>
          <p:cNvSpPr/>
          <p:nvPr/>
        </p:nvSpPr>
        <p:spPr>
          <a:xfrm>
            <a:off x="2828880" y="2424240"/>
            <a:ext cx="1800360" cy="725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5" name="Line 47"/>
          <p:cNvSpPr/>
          <p:nvPr/>
        </p:nvSpPr>
        <p:spPr>
          <a:xfrm flipH="1">
            <a:off x="2814480" y="2467080"/>
            <a:ext cx="1741680" cy="63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6" name="Text Box 56"/>
          <p:cNvSpPr/>
          <p:nvPr/>
        </p:nvSpPr>
        <p:spPr>
          <a:xfrm>
            <a:off x="777960" y="1376280"/>
            <a:ext cx="14839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NonStop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rocesso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7" name="Freeform 57"/>
          <p:cNvSpPr/>
          <p:nvPr/>
        </p:nvSpPr>
        <p:spPr>
          <a:xfrm>
            <a:off x="1219320" y="4818240"/>
            <a:ext cx="2806560" cy="120600"/>
          </a:xfrm>
          <a:custGeom>
            <a:avLst/>
            <a:gdLst>
              <a:gd name="textAreaLeft" fmla="*/ 0 w 2806560"/>
              <a:gd name="textAreaRight" fmla="*/ 2806920 w 28065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369" h="810">
                <a:moveTo>
                  <a:pt x="0" y="631"/>
                </a:moveTo>
                <a:cubicBezTo>
                  <a:pt x="504" y="649"/>
                  <a:pt x="2334" y="810"/>
                  <a:pt x="3026" y="742"/>
                </a:cubicBezTo>
                <a:cubicBezTo>
                  <a:pt x="3718" y="674"/>
                  <a:pt x="3935" y="347"/>
                  <a:pt x="4152" y="223"/>
                </a:cubicBezTo>
                <a:cubicBezTo>
                  <a:pt x="4369" y="99"/>
                  <a:pt x="4291" y="46"/>
                  <a:pt x="4328" y="0"/>
                </a:cubicBezTo>
              </a:path>
            </a:pathLst>
          </a:custGeom>
          <a:noFill/>
          <a:ln w="28440">
            <a:solidFill>
              <a:srgbClr val="eb5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8" name="Freeform 58"/>
          <p:cNvSpPr/>
          <p:nvPr/>
        </p:nvSpPr>
        <p:spPr>
          <a:xfrm>
            <a:off x="3995640" y="3875040"/>
            <a:ext cx="459000" cy="971640"/>
          </a:xfrm>
          <a:custGeom>
            <a:avLst/>
            <a:gdLst>
              <a:gd name="textAreaLeft" fmla="*/ 0 w 459000"/>
              <a:gd name="textAreaRight" fmla="*/ 459360 w 459000"/>
              <a:gd name="textAreaTop" fmla="*/ 0 h 971640"/>
              <a:gd name="textAreaBottom" fmla="*/ 972000 h 971640"/>
            </a:gdLst>
            <a:ahLst/>
            <a:rect l="textAreaLeft" t="textAreaTop" r="textAreaRight" b="textAreaBottom"/>
            <a:pathLst>
              <a:path w="438" h="731">
                <a:moveTo>
                  <a:pt x="438" y="0"/>
                </a:moveTo>
                <a:cubicBezTo>
                  <a:pt x="392" y="144"/>
                  <a:pt x="347" y="289"/>
                  <a:pt x="274" y="411"/>
                </a:cubicBezTo>
                <a:cubicBezTo>
                  <a:pt x="201" y="533"/>
                  <a:pt x="100" y="632"/>
                  <a:pt x="0" y="731"/>
                </a:cubicBezTo>
              </a:path>
            </a:pathLst>
          </a:custGeom>
          <a:noFill/>
          <a:ln w="28440">
            <a:solidFill>
              <a:srgbClr val="eb5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59" name="Freeform 59"/>
          <p:cNvSpPr/>
          <p:nvPr/>
        </p:nvSpPr>
        <p:spPr>
          <a:xfrm>
            <a:off x="2179800" y="3875040"/>
            <a:ext cx="388800" cy="1057320"/>
          </a:xfrm>
          <a:custGeom>
            <a:avLst/>
            <a:gdLst>
              <a:gd name="textAreaLeft" fmla="*/ 0 w 388800"/>
              <a:gd name="textAreaRight" fmla="*/ 389160 w 38880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36" h="361">
                <a:moveTo>
                  <a:pt x="136" y="0"/>
                </a:moveTo>
                <a:cubicBezTo>
                  <a:pt x="130" y="65"/>
                  <a:pt x="131" y="127"/>
                  <a:pt x="108" y="187"/>
                </a:cubicBezTo>
                <a:cubicBezTo>
                  <a:pt x="85" y="247"/>
                  <a:pt x="22" y="325"/>
                  <a:pt x="0" y="361"/>
                </a:cubicBezTo>
              </a:path>
            </a:pathLst>
          </a:custGeom>
          <a:noFill/>
          <a:ln w="28440">
            <a:solidFill>
              <a:srgbClr val="eb5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60" name="Text Box 61"/>
          <p:cNvSpPr/>
          <p:nvPr/>
        </p:nvSpPr>
        <p:spPr>
          <a:xfrm>
            <a:off x="1664640" y="25574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erverNet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61" name="Text Box 63"/>
          <p:cNvSpPr/>
          <p:nvPr/>
        </p:nvSpPr>
        <p:spPr>
          <a:xfrm>
            <a:off x="1573200" y="5010120"/>
            <a:ext cx="16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Enterprise L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62" name="Freeform 65"/>
          <p:cNvSpPr/>
          <p:nvPr/>
        </p:nvSpPr>
        <p:spPr>
          <a:xfrm>
            <a:off x="1176480" y="4768920"/>
            <a:ext cx="90360" cy="342720"/>
          </a:xfrm>
          <a:custGeom>
            <a:avLst/>
            <a:gdLst>
              <a:gd name="textAreaLeft" fmla="*/ 0 w 90360"/>
              <a:gd name="textAreaRight" fmla="*/ 90720 w 90360"/>
              <a:gd name="textAreaTop" fmla="*/ 0 h 342720"/>
              <a:gd name="textAreaBottom" fmla="*/ 343080 h 342720"/>
            </a:gdLst>
            <a:ahLst/>
            <a:rect l="textAreaLeft" t="textAreaTop" r="textAreaRight" b="textAreaBottom"/>
            <a:pathLst>
              <a:path w="48" h="120">
                <a:moveTo>
                  <a:pt x="0" y="0"/>
                </a:moveTo>
                <a:cubicBezTo>
                  <a:pt x="8" y="20"/>
                  <a:pt x="40" y="100"/>
                  <a:pt x="48" y="120"/>
                </a:cubicBezTo>
              </a:path>
            </a:pathLst>
          </a:custGeom>
          <a:noFill/>
          <a:ln w="28440">
            <a:solidFill>
              <a:srgbClr val="eb5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63" name="Freeform 68"/>
          <p:cNvSpPr/>
          <p:nvPr/>
        </p:nvSpPr>
        <p:spPr>
          <a:xfrm>
            <a:off x="1160640" y="3141720"/>
            <a:ext cx="3755880" cy="1152360"/>
          </a:xfrm>
          <a:custGeom>
            <a:avLst/>
            <a:gdLst>
              <a:gd name="textAreaLeft" fmla="*/ 0 w 3755880"/>
              <a:gd name="textAreaRight" fmla="*/ 3756240 w 37558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3795" h="688">
                <a:moveTo>
                  <a:pt x="0" y="0"/>
                </a:moveTo>
                <a:cubicBezTo>
                  <a:pt x="133" y="98"/>
                  <a:pt x="167" y="492"/>
                  <a:pt x="800" y="590"/>
                </a:cubicBezTo>
                <a:cubicBezTo>
                  <a:pt x="1433" y="688"/>
                  <a:pt x="3171" y="590"/>
                  <a:pt x="3795" y="590"/>
                </a:cubicBezTo>
              </a:path>
            </a:pathLst>
          </a:custGeom>
          <a:noFill/>
          <a:ln w="28440">
            <a:solidFill>
              <a:srgbClr val="64b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64" name="Freeform 69"/>
          <p:cNvSpPr/>
          <p:nvPr/>
        </p:nvSpPr>
        <p:spPr>
          <a:xfrm>
            <a:off x="3068640" y="3862440"/>
            <a:ext cx="201600" cy="371520"/>
          </a:xfrm>
          <a:custGeom>
            <a:avLst/>
            <a:gdLst>
              <a:gd name="textAreaLeft" fmla="*/ 0 w 201600"/>
              <a:gd name="textAreaRight" fmla="*/ 201960 w 2016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02" h="189">
                <a:moveTo>
                  <a:pt x="82" y="0"/>
                </a:moveTo>
                <a:cubicBezTo>
                  <a:pt x="92" y="28"/>
                  <a:pt x="102" y="57"/>
                  <a:pt x="88" y="88"/>
                </a:cubicBezTo>
                <a:cubicBezTo>
                  <a:pt x="74" y="119"/>
                  <a:pt x="37" y="154"/>
                  <a:pt x="0" y="189"/>
                </a:cubicBezTo>
              </a:path>
            </a:pathLst>
          </a:custGeom>
          <a:noFill/>
          <a:ln w="28440">
            <a:solidFill>
              <a:srgbClr val="64b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65" name="Freeform 70"/>
          <p:cNvSpPr/>
          <p:nvPr/>
        </p:nvSpPr>
        <p:spPr>
          <a:xfrm>
            <a:off x="4863960" y="3875040"/>
            <a:ext cx="162000" cy="300240"/>
          </a:xfrm>
          <a:custGeom>
            <a:avLst/>
            <a:gdLst>
              <a:gd name="textAreaLeft" fmla="*/ 0 w 162000"/>
              <a:gd name="textAreaRight" fmla="*/ 162360 w 162000"/>
              <a:gd name="textAreaTop" fmla="*/ 0 h 300240"/>
              <a:gd name="textAreaBottom" fmla="*/ 300600 h 300240"/>
            </a:gdLst>
            <a:ahLst/>
            <a:rect l="textAreaLeft" t="textAreaTop" r="textAreaRight" b="textAreaBottom"/>
            <a:pathLst>
              <a:path w="102" h="189">
                <a:moveTo>
                  <a:pt x="82" y="0"/>
                </a:moveTo>
                <a:cubicBezTo>
                  <a:pt x="92" y="28"/>
                  <a:pt x="102" y="57"/>
                  <a:pt x="88" y="88"/>
                </a:cubicBezTo>
                <a:cubicBezTo>
                  <a:pt x="74" y="119"/>
                  <a:pt x="37" y="154"/>
                  <a:pt x="0" y="189"/>
                </a:cubicBezTo>
              </a:path>
            </a:pathLst>
          </a:custGeom>
          <a:noFill/>
          <a:ln w="28440">
            <a:solidFill>
              <a:srgbClr val="64b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66" name="Text Box 73"/>
          <p:cNvSpPr/>
          <p:nvPr/>
        </p:nvSpPr>
        <p:spPr>
          <a:xfrm>
            <a:off x="509760" y="3301920"/>
            <a:ext cx="16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Maintenance L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8567" name="Group 76"/>
          <p:cNvGrpSpPr/>
          <p:nvPr/>
        </p:nvGrpSpPr>
        <p:grpSpPr>
          <a:xfrm>
            <a:off x="5907240" y="3068640"/>
            <a:ext cx="2381760" cy="739800"/>
            <a:chOff x="5907240" y="3068640"/>
            <a:chExt cx="2381760" cy="739800"/>
          </a:xfrm>
        </p:grpSpPr>
        <p:sp>
          <p:nvSpPr>
            <p:cNvPr id="8568" name="Rectangle 77"/>
            <p:cNvSpPr/>
            <p:nvPr/>
          </p:nvSpPr>
          <p:spPr>
            <a:xfrm>
              <a:off x="5907240" y="3068640"/>
              <a:ext cx="2199600" cy="739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69" name="Text Box 78"/>
            <p:cNvSpPr/>
            <p:nvPr/>
          </p:nvSpPr>
          <p:spPr>
            <a:xfrm>
              <a:off x="5967720" y="3274920"/>
              <a:ext cx="23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 Bk"/>
                </a:rPr>
                <a:t>Network CLIM</a:t>
              </a:r>
              <a:endParaRPr b="0" lang="en-US" sz="20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8570" name="Group 79"/>
          <p:cNvGrpSpPr/>
          <p:nvPr/>
        </p:nvGrpSpPr>
        <p:grpSpPr>
          <a:xfrm>
            <a:off x="6059520" y="3220920"/>
            <a:ext cx="2431440" cy="739800"/>
            <a:chOff x="6059520" y="3220920"/>
            <a:chExt cx="2431440" cy="739800"/>
          </a:xfrm>
        </p:grpSpPr>
        <p:sp>
          <p:nvSpPr>
            <p:cNvPr id="8571" name="Rectangle 80"/>
            <p:cNvSpPr/>
            <p:nvPr/>
          </p:nvSpPr>
          <p:spPr>
            <a:xfrm>
              <a:off x="6059520" y="3220920"/>
              <a:ext cx="2245320" cy="739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72" name="Text Box 81"/>
            <p:cNvSpPr/>
            <p:nvPr/>
          </p:nvSpPr>
          <p:spPr>
            <a:xfrm>
              <a:off x="6121440" y="3427200"/>
              <a:ext cx="236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 Bk"/>
                </a:rPr>
                <a:t>Network Adapter</a:t>
              </a:r>
              <a:endParaRPr b="0" lang="en-US" sz="20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8573" name="Line 82"/>
          <p:cNvSpPr/>
          <p:nvPr/>
        </p:nvSpPr>
        <p:spPr>
          <a:xfrm>
            <a:off x="4498920" y="2455920"/>
            <a:ext cx="2112840" cy="59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74" name="Freeform 83"/>
          <p:cNvSpPr/>
          <p:nvPr/>
        </p:nvSpPr>
        <p:spPr>
          <a:xfrm>
            <a:off x="3989520" y="3968640"/>
            <a:ext cx="3241440" cy="10512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2042" h="662">
                <a:moveTo>
                  <a:pt x="0" y="551"/>
                </a:moveTo>
                <a:cubicBezTo>
                  <a:pt x="682" y="606"/>
                  <a:pt x="1364" y="662"/>
                  <a:pt x="1703" y="570"/>
                </a:cubicBezTo>
                <a:cubicBezTo>
                  <a:pt x="2042" y="478"/>
                  <a:pt x="2037" y="239"/>
                  <a:pt x="2032" y="0"/>
                </a:cubicBezTo>
              </a:path>
            </a:pathLst>
          </a:custGeom>
          <a:noFill/>
          <a:ln w="28440">
            <a:solidFill>
              <a:srgbClr val="eb5f01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75" name="Rectangle 67"/>
          <p:cNvSpPr/>
          <p:nvPr/>
        </p:nvSpPr>
        <p:spPr>
          <a:xfrm>
            <a:off x="452520" y="2506680"/>
            <a:ext cx="1000080" cy="676080"/>
          </a:xfrm>
          <a:prstGeom prst="rect">
            <a:avLst/>
          </a:prstGeom>
          <a:solidFill>
            <a:srgbClr val="64b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SC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8576" name="Group 88"/>
          <p:cNvGrpSpPr/>
          <p:nvPr/>
        </p:nvGrpSpPr>
        <p:grpSpPr>
          <a:xfrm>
            <a:off x="2160720" y="1300320"/>
            <a:ext cx="1175760" cy="1117080"/>
            <a:chOff x="2160720" y="1300320"/>
            <a:chExt cx="1175760" cy="1117080"/>
          </a:xfrm>
        </p:grpSpPr>
        <p:sp>
          <p:nvSpPr>
            <p:cNvPr id="8577" name="Rectangle 89"/>
            <p:cNvSpPr/>
            <p:nvPr/>
          </p:nvSpPr>
          <p:spPr>
            <a:xfrm>
              <a:off x="2160720" y="1300320"/>
              <a:ext cx="839520" cy="722160"/>
            </a:xfrm>
            <a:prstGeom prst="rect">
              <a:avLst/>
            </a:prstGeom>
            <a:solidFill>
              <a:srgbClr val="6e7dd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78" name="Rectangle 90"/>
            <p:cNvSpPr/>
            <p:nvPr/>
          </p:nvSpPr>
          <p:spPr>
            <a:xfrm>
              <a:off x="2273400" y="1431720"/>
              <a:ext cx="839160" cy="722160"/>
            </a:xfrm>
            <a:prstGeom prst="rect">
              <a:avLst/>
            </a:prstGeom>
            <a:solidFill>
              <a:srgbClr val="6e7dd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79" name="Rectangle 91"/>
            <p:cNvSpPr/>
            <p:nvPr/>
          </p:nvSpPr>
          <p:spPr>
            <a:xfrm>
              <a:off x="2384280" y="1563480"/>
              <a:ext cx="839520" cy="722160"/>
            </a:xfrm>
            <a:prstGeom prst="rect">
              <a:avLst/>
            </a:prstGeom>
            <a:solidFill>
              <a:srgbClr val="6e7dd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80" name="Rectangle 92"/>
            <p:cNvSpPr/>
            <p:nvPr/>
          </p:nvSpPr>
          <p:spPr>
            <a:xfrm>
              <a:off x="2496960" y="1695240"/>
              <a:ext cx="839520" cy="722160"/>
            </a:xfrm>
            <a:prstGeom prst="rect">
              <a:avLst/>
            </a:prstGeom>
            <a:solidFill>
              <a:srgbClr val="6e7dd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81" name="Text Box 93"/>
            <p:cNvSpPr/>
            <p:nvPr/>
          </p:nvSpPr>
          <p:spPr>
            <a:xfrm>
              <a:off x="2631600" y="190188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8582" name="Group 87"/>
          <p:cNvGrpSpPr/>
          <p:nvPr/>
        </p:nvGrpSpPr>
        <p:grpSpPr>
          <a:xfrm>
            <a:off x="3895560" y="1357200"/>
            <a:ext cx="1176480" cy="1117800"/>
            <a:chOff x="3895560" y="1357200"/>
            <a:chExt cx="1176480" cy="1117800"/>
          </a:xfrm>
        </p:grpSpPr>
        <p:sp>
          <p:nvSpPr>
            <p:cNvPr id="8583" name="Rectangle 11"/>
            <p:cNvSpPr/>
            <p:nvPr/>
          </p:nvSpPr>
          <p:spPr>
            <a:xfrm>
              <a:off x="3895560" y="1357200"/>
              <a:ext cx="839880" cy="722520"/>
            </a:xfrm>
            <a:prstGeom prst="rect">
              <a:avLst/>
            </a:prstGeom>
            <a:solidFill>
              <a:srgbClr val="6e7dd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84" name="Rectangle 12"/>
            <p:cNvSpPr/>
            <p:nvPr/>
          </p:nvSpPr>
          <p:spPr>
            <a:xfrm>
              <a:off x="4008600" y="1488960"/>
              <a:ext cx="839520" cy="722520"/>
            </a:xfrm>
            <a:prstGeom prst="rect">
              <a:avLst/>
            </a:prstGeom>
            <a:solidFill>
              <a:srgbClr val="6e7dd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85" name="Rectangle 13"/>
            <p:cNvSpPr/>
            <p:nvPr/>
          </p:nvSpPr>
          <p:spPr>
            <a:xfrm>
              <a:off x="4119480" y="1620720"/>
              <a:ext cx="839880" cy="722520"/>
            </a:xfrm>
            <a:prstGeom prst="rect">
              <a:avLst/>
            </a:prstGeom>
            <a:solidFill>
              <a:srgbClr val="6e7dd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86" name="Rectangle 14"/>
            <p:cNvSpPr/>
            <p:nvPr/>
          </p:nvSpPr>
          <p:spPr>
            <a:xfrm>
              <a:off x="4232160" y="1752480"/>
              <a:ext cx="839880" cy="722520"/>
            </a:xfrm>
            <a:prstGeom prst="rect">
              <a:avLst/>
            </a:prstGeom>
            <a:solidFill>
              <a:srgbClr val="6e7dde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87" name="Text Box 15"/>
            <p:cNvSpPr/>
            <p:nvPr/>
          </p:nvSpPr>
          <p:spPr>
            <a:xfrm>
              <a:off x="4366800" y="1959120"/>
              <a:ext cx="57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CPU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8588" name="Group 31"/>
          <p:cNvGrpSpPr/>
          <p:nvPr/>
        </p:nvGrpSpPr>
        <p:grpSpPr>
          <a:xfrm>
            <a:off x="4067280" y="3127320"/>
            <a:ext cx="1057320" cy="739800"/>
            <a:chOff x="4067280" y="3127320"/>
            <a:chExt cx="1057320" cy="739800"/>
          </a:xfrm>
        </p:grpSpPr>
        <p:sp>
          <p:nvSpPr>
            <p:cNvPr id="8589" name="Rectangle 32"/>
            <p:cNvSpPr/>
            <p:nvPr/>
          </p:nvSpPr>
          <p:spPr>
            <a:xfrm>
              <a:off x="4067280" y="3127320"/>
              <a:ext cx="976320" cy="739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90" name="Text Box 33"/>
            <p:cNvSpPr/>
            <p:nvPr/>
          </p:nvSpPr>
          <p:spPr>
            <a:xfrm>
              <a:off x="4094280" y="3333600"/>
              <a:ext cx="103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 Bk"/>
                </a:rPr>
                <a:t>CLIM</a:t>
              </a:r>
              <a:endParaRPr b="0" lang="en-US" sz="20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8591" name="Group 28"/>
          <p:cNvGrpSpPr/>
          <p:nvPr/>
        </p:nvGrpSpPr>
        <p:grpSpPr>
          <a:xfrm>
            <a:off x="2347920" y="3119400"/>
            <a:ext cx="1057320" cy="739800"/>
            <a:chOff x="2347920" y="3119400"/>
            <a:chExt cx="1057320" cy="739800"/>
          </a:xfrm>
        </p:grpSpPr>
        <p:sp>
          <p:nvSpPr>
            <p:cNvPr id="8592" name="Rectangle 29"/>
            <p:cNvSpPr/>
            <p:nvPr/>
          </p:nvSpPr>
          <p:spPr>
            <a:xfrm>
              <a:off x="2347920" y="3119400"/>
              <a:ext cx="976320" cy="7398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593" name="Text Box 30"/>
            <p:cNvSpPr/>
            <p:nvPr/>
          </p:nvSpPr>
          <p:spPr>
            <a:xfrm>
              <a:off x="2374920" y="3325680"/>
              <a:ext cx="103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Futura Bk"/>
                </a:rPr>
                <a:t>CLIM</a:t>
              </a:r>
              <a:endParaRPr b="0" lang="en-US" sz="20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8594" name="Text Box 55"/>
          <p:cNvSpPr/>
          <p:nvPr/>
        </p:nvSpPr>
        <p:spPr>
          <a:xfrm>
            <a:off x="474840" y="4352760"/>
            <a:ext cx="1029960" cy="398880"/>
          </a:xfrm>
          <a:prstGeom prst="rect">
            <a:avLst/>
          </a:prstGeom>
          <a:solidFill>
            <a:srgbClr val="eb5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SK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95" name="Text Box 64"/>
          <p:cNvSpPr/>
          <p:nvPr/>
        </p:nvSpPr>
        <p:spPr>
          <a:xfrm>
            <a:off x="465120" y="5114880"/>
            <a:ext cx="1030320" cy="398880"/>
          </a:xfrm>
          <a:prstGeom prst="rect">
            <a:avLst/>
          </a:prstGeom>
          <a:solidFill>
            <a:srgbClr val="eb5f01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ESK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96" name="Line 2"/>
          <p:cNvSpPr/>
          <p:nvPr/>
        </p:nvSpPr>
        <p:spPr>
          <a:xfrm>
            <a:off x="2844720" y="3846600"/>
            <a:ext cx="601920" cy="17096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97" name="Line 50"/>
          <p:cNvSpPr/>
          <p:nvPr/>
        </p:nvSpPr>
        <p:spPr>
          <a:xfrm flipH="1">
            <a:off x="3882600" y="3854520"/>
            <a:ext cx="957240" cy="17683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598" name="AutoShape 53"/>
          <p:cNvSpPr/>
          <p:nvPr/>
        </p:nvSpPr>
        <p:spPr>
          <a:xfrm>
            <a:off x="3438360" y="5253120"/>
            <a:ext cx="465480" cy="522360"/>
          </a:xfrm>
          <a:prstGeom prst="can">
            <a:avLst>
              <a:gd name="adj" fmla="val 25000"/>
            </a:avLst>
          </a:prstGeom>
          <a:solidFill>
            <a:srgbClr val="33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72CC1-526D-4B57-9623-EA9363EA98C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9" name="Slide Number Placeholder 3"/>
          <p:cNvSpPr/>
          <p:nvPr/>
        </p:nvSpPr>
        <p:spPr>
          <a:xfrm>
            <a:off x="438120" y="6550200"/>
            <a:ext cx="501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7E89-20AB-437B-AE77-A4DD8D581B6B}" type="slidenum">
              <a:rPr b="0" lang="en-US" sz="1100" spc="-1" strike="noStrike">
                <a:solidFill>
                  <a:srgbClr val="848589"/>
                </a:solidFill>
                <a:latin typeface="Futura Bk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00" name="PlaceHolder 1"/>
          <p:cNvSpPr>
            <a:spLocks noGrp="1"/>
          </p:cNvSpPr>
          <p:nvPr>
            <p:ph type="title"/>
          </p:nvPr>
        </p:nvSpPr>
        <p:spPr>
          <a:xfrm>
            <a:off x="314280" y="131400"/>
            <a:ext cx="8245440" cy="9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Volume Level Encryption </a:t>
            </a:r>
            <a:br>
              <a:rPr sz="3200"/>
            </a:br>
            <a:r>
              <a:rPr b="0" lang="en-US" sz="2400" spc="-1" strike="noStrike">
                <a:solidFill>
                  <a:srgbClr val="64b900"/>
                </a:solidFill>
                <a:latin typeface="Futura Bk"/>
              </a:rPr>
              <a:t>ESKM connection to NonStop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601" name="Picture 2" descr="475444721@13102009-182E"/>
          <p:cNvPicPr/>
          <p:nvPr/>
        </p:nvPicPr>
        <p:blipFill>
          <a:blip r:embed="rId1"/>
          <a:stretch/>
        </p:blipFill>
        <p:spPr>
          <a:xfrm>
            <a:off x="3156120" y="1292400"/>
            <a:ext cx="5609880" cy="4790880"/>
          </a:xfrm>
          <a:prstGeom prst="rect">
            <a:avLst/>
          </a:prstGeom>
          <a:ln w="0">
            <a:noFill/>
          </a:ln>
        </p:spPr>
      </p:pic>
      <p:sp>
        <p:nvSpPr>
          <p:cNvPr id="8602" name="Rectangle 5"/>
          <p:cNvSpPr/>
          <p:nvPr/>
        </p:nvSpPr>
        <p:spPr>
          <a:xfrm>
            <a:off x="330120" y="1434960"/>
            <a:ext cx="275616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  <a:ea typeface="Arial"/>
              </a:rPr>
              <a:t>The recommended configuration includes having the customer use redundant network switches to configure the ESKM-CLIM network. 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  <a:ea typeface="Arial"/>
              </a:rPr>
              <a:t>If a network switch fails in this configuration, half the CLIMs will still have access to the ESKM and as such any disk can still perform key rotation operations.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65E26-A843-4FED-8693-6E7645C70508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3" name="PlaceHolder 1"/>
          <p:cNvSpPr>
            <a:spLocks noGrp="1"/>
          </p:cNvSpPr>
          <p:nvPr>
            <p:ph type="title"/>
          </p:nvPr>
        </p:nvSpPr>
        <p:spPr>
          <a:xfrm>
            <a:off x="398160" y="-360"/>
            <a:ext cx="783108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What is data at rest?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04" name="PlaceHolder 2"/>
          <p:cNvSpPr>
            <a:spLocks noGrp="1"/>
          </p:cNvSpPr>
          <p:nvPr>
            <p:ph/>
          </p:nvPr>
        </p:nvSpPr>
        <p:spPr>
          <a:xfrm>
            <a:off x="364680" y="1153800"/>
            <a:ext cx="827244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Data at rest is a term that refers to all data in computer storage while excluding data that is traversing a network (in motion) or data that is residing in computer memory to be read or updated (in use).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In Integrity NonStop context, that means data stored in our SAS disks, LTO-4 Tapes, XP arrays. 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CC142-D6D1-4C80-AB09-0B72596E7A5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5" name="Arc 49"/>
          <p:cNvSpPr/>
          <p:nvPr/>
        </p:nvSpPr>
        <p:spPr>
          <a:xfrm flipV="1">
            <a:off x="617400" y="2537280"/>
            <a:ext cx="3162600" cy="7779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06" name="Arc 48"/>
          <p:cNvSpPr/>
          <p:nvPr/>
        </p:nvSpPr>
        <p:spPr>
          <a:xfrm flipV="1">
            <a:off x="1047600" y="2360520"/>
            <a:ext cx="2022480" cy="70344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07" name="Rectangle 2"/>
          <p:cNvSpPr/>
          <p:nvPr/>
        </p:nvSpPr>
        <p:spPr>
          <a:xfrm>
            <a:off x="2766960" y="2646360"/>
            <a:ext cx="3855960" cy="1012680"/>
          </a:xfrm>
          <a:prstGeom prst="rect">
            <a:avLst/>
          </a:prstGeom>
          <a:gradFill rotWithShape="0">
            <a:gsLst>
              <a:gs pos="0">
                <a:srgbClr val="52769a"/>
              </a:gs>
              <a:gs pos="100000">
                <a:srgbClr val="91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  <a:ea typeface="Arial"/>
              </a:rPr>
              <a:t>Storage CLI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08" name="Line 75"/>
          <p:cNvSpPr/>
          <p:nvPr/>
        </p:nvSpPr>
        <p:spPr>
          <a:xfrm>
            <a:off x="4799160" y="2400480"/>
            <a:ext cx="0" cy="43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09" name="Slide Number Placeholder 3"/>
          <p:cNvSpPr/>
          <p:nvPr/>
        </p:nvSpPr>
        <p:spPr>
          <a:xfrm>
            <a:off x="438120" y="6550200"/>
            <a:ext cx="501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EEE51-24FB-4166-90B5-E86B0DFB1FCB}" type="slidenum">
              <a:rPr b="0" lang="en-US" sz="1100" spc="-1" strike="noStrike">
                <a:solidFill>
                  <a:srgbClr val="848589"/>
                </a:solidFill>
                <a:latin typeface="Futura Bk"/>
                <a:ea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10" name="PlaceHolder 1"/>
          <p:cNvSpPr>
            <a:spLocks noGrp="1"/>
          </p:cNvSpPr>
          <p:nvPr>
            <p:ph type="title"/>
          </p:nvPr>
        </p:nvSpPr>
        <p:spPr>
          <a:xfrm>
            <a:off x="316080" y="96480"/>
            <a:ext cx="8245440" cy="9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Data At Rest Security  </a:t>
            </a:r>
            <a:br>
              <a:rPr sz="3200"/>
            </a:br>
            <a:r>
              <a:rPr b="0" lang="en-US" sz="2400" spc="-1" strike="noStrike">
                <a:solidFill>
                  <a:srgbClr val="64b900"/>
                </a:solidFill>
                <a:latin typeface="Futura Bk"/>
              </a:rPr>
              <a:t>NonStop VLE Overview – architecture view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11" name="Line 4"/>
          <p:cNvSpPr/>
          <p:nvPr/>
        </p:nvSpPr>
        <p:spPr>
          <a:xfrm>
            <a:off x="455760" y="4640400"/>
            <a:ext cx="0" cy="1382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12" name="Line 5"/>
          <p:cNvSpPr/>
          <p:nvPr/>
        </p:nvSpPr>
        <p:spPr>
          <a:xfrm>
            <a:off x="1903320" y="4194000"/>
            <a:ext cx="0" cy="13827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13" name="Line 6"/>
          <p:cNvSpPr/>
          <p:nvPr/>
        </p:nvSpPr>
        <p:spPr>
          <a:xfrm>
            <a:off x="3807000" y="3890880"/>
            <a:ext cx="0" cy="88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8614" name="Group 11"/>
          <p:cNvGrpSpPr/>
          <p:nvPr/>
        </p:nvGrpSpPr>
        <p:grpSpPr>
          <a:xfrm>
            <a:off x="3500280" y="4746600"/>
            <a:ext cx="680760" cy="498240"/>
            <a:chOff x="3500280" y="4746600"/>
            <a:chExt cx="680760" cy="498240"/>
          </a:xfrm>
        </p:grpSpPr>
        <p:sp>
          <p:nvSpPr>
            <p:cNvPr id="8615" name="AutoShape 12"/>
            <p:cNvSpPr/>
            <p:nvPr/>
          </p:nvSpPr>
          <p:spPr>
            <a:xfrm>
              <a:off x="3593880" y="4746600"/>
              <a:ext cx="587160" cy="446040"/>
            </a:xfrm>
            <a:prstGeom prst="can">
              <a:avLst>
                <a:gd name="adj" fmla="val 25000"/>
              </a:avLst>
            </a:prstGeom>
            <a:solidFill>
              <a:srgbClr val="0071b5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616" name="AutoShape 13"/>
            <p:cNvSpPr/>
            <p:nvPr/>
          </p:nvSpPr>
          <p:spPr>
            <a:xfrm>
              <a:off x="3500280" y="4798800"/>
              <a:ext cx="587160" cy="446040"/>
            </a:xfrm>
            <a:prstGeom prst="can">
              <a:avLst>
                <a:gd name="adj" fmla="val 25000"/>
              </a:avLst>
            </a:prstGeom>
            <a:solidFill>
              <a:srgbClr val="0071b5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8617" name="Text Box 17"/>
          <p:cNvSpPr/>
          <p:nvPr/>
        </p:nvSpPr>
        <p:spPr>
          <a:xfrm>
            <a:off x="3593160" y="5305320"/>
            <a:ext cx="40176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  <a:ea typeface="Arial"/>
              </a:rPr>
              <a:t>SAS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18" name="Rectangle 18"/>
          <p:cNvSpPr/>
          <p:nvPr/>
        </p:nvSpPr>
        <p:spPr>
          <a:xfrm>
            <a:off x="4300560" y="52894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Hv"/>
                <a:ea typeface="Arial"/>
              </a:rPr>
              <a:t>HP StorageWorks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Hv"/>
                <a:ea typeface="Arial"/>
              </a:rPr>
              <a:t>XP Arrays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19" name="Line 19"/>
          <p:cNvSpPr/>
          <p:nvPr/>
        </p:nvSpPr>
        <p:spPr>
          <a:xfrm>
            <a:off x="5878440" y="3878280"/>
            <a:ext cx="1800" cy="81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8620" name="Group 20"/>
          <p:cNvGrpSpPr/>
          <p:nvPr/>
        </p:nvGrpSpPr>
        <p:grpSpPr>
          <a:xfrm>
            <a:off x="5456160" y="4662360"/>
            <a:ext cx="801720" cy="787680"/>
            <a:chOff x="5456160" y="4662360"/>
            <a:chExt cx="801720" cy="787680"/>
          </a:xfrm>
        </p:grpSpPr>
        <p:sp>
          <p:nvSpPr>
            <p:cNvPr id="8621" name="AutoShape 21"/>
            <p:cNvSpPr/>
            <p:nvPr/>
          </p:nvSpPr>
          <p:spPr>
            <a:xfrm>
              <a:off x="5456160" y="4662360"/>
              <a:ext cx="801720" cy="787680"/>
            </a:xfrm>
            <a:prstGeom prst="flowChartMagneticTape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8622" name="Oval 22"/>
            <p:cNvSpPr/>
            <p:nvPr/>
          </p:nvSpPr>
          <p:spPr>
            <a:xfrm>
              <a:off x="5757120" y="4958640"/>
              <a:ext cx="199440" cy="196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64b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8623" name="Text Box 24"/>
          <p:cNvSpPr/>
          <p:nvPr/>
        </p:nvSpPr>
        <p:spPr>
          <a:xfrm>
            <a:off x="5592960" y="5477040"/>
            <a:ext cx="528120" cy="2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  <a:ea typeface="Arial"/>
              </a:rPr>
              <a:t>LTO-4</a:t>
            </a:r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24" name="Line 75"/>
          <p:cNvSpPr/>
          <p:nvPr/>
        </p:nvSpPr>
        <p:spPr>
          <a:xfrm>
            <a:off x="4792680" y="3884760"/>
            <a:ext cx="0" cy="43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8625" name="Picture 76" descr="G7255001082007_JPG_P"/>
          <p:cNvPicPr/>
          <p:nvPr/>
        </p:nvPicPr>
        <p:blipFill>
          <a:blip r:embed="rId1"/>
          <a:stretch/>
        </p:blipFill>
        <p:spPr>
          <a:xfrm>
            <a:off x="4435560" y="4308480"/>
            <a:ext cx="704880" cy="1035000"/>
          </a:xfrm>
          <a:prstGeom prst="rect">
            <a:avLst/>
          </a:prstGeom>
          <a:ln w="0">
            <a:noFill/>
          </a:ln>
        </p:spPr>
      </p:pic>
      <p:sp>
        <p:nvSpPr>
          <p:cNvPr id="8626" name="Line 75"/>
          <p:cNvSpPr/>
          <p:nvPr/>
        </p:nvSpPr>
        <p:spPr>
          <a:xfrm>
            <a:off x="4618080" y="2479680"/>
            <a:ext cx="0" cy="43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27" name="Rectangle 7"/>
          <p:cNvSpPr/>
          <p:nvPr/>
        </p:nvSpPr>
        <p:spPr>
          <a:xfrm>
            <a:off x="2851200" y="1151640"/>
            <a:ext cx="3816360" cy="1446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  <a:ea typeface="Arial"/>
              </a:rPr>
              <a:t>H-series Systems 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  <a:ea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Hv"/>
                <a:ea typeface="Arial"/>
              </a:rPr>
              <a:t>J-series Systems</a:t>
            </a:r>
            <a:r>
              <a:rPr b="0" lang="en-US" sz="1800" spc="-1" strike="noStrike">
                <a:solidFill>
                  <a:srgbClr val="ffffff"/>
                </a:solidFill>
                <a:latin typeface="Futura Hv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28" name="Rectangle 2"/>
          <p:cNvSpPr/>
          <p:nvPr/>
        </p:nvSpPr>
        <p:spPr>
          <a:xfrm>
            <a:off x="2881440" y="2781360"/>
            <a:ext cx="3805200" cy="1123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Hv"/>
                <a:ea typeface="Arial"/>
              </a:rPr>
              <a:t>Storage 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29" name="Rectangle 44"/>
          <p:cNvSpPr/>
          <p:nvPr/>
        </p:nvSpPr>
        <p:spPr>
          <a:xfrm>
            <a:off x="343080" y="3562200"/>
            <a:ext cx="19778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algn="ctr">
              <a:lnSpc>
                <a:spcPct val="90000"/>
              </a:lnSpc>
              <a:spcBef>
                <a:spcPts val="4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Futura Hv"/>
                <a:ea typeface="Arial"/>
              </a:rPr>
              <a:t>The HP Enterprise Secure Key Manager provides a high availability solution for managing and storing encryption keys.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8630" name="Group 31"/>
          <p:cNvGrpSpPr/>
          <p:nvPr/>
        </p:nvGrpSpPr>
        <p:grpSpPr>
          <a:xfrm>
            <a:off x="458640" y="1770120"/>
            <a:ext cx="1820880" cy="1085760"/>
            <a:chOff x="458640" y="1770120"/>
            <a:chExt cx="1820880" cy="1085760"/>
          </a:xfrm>
        </p:grpSpPr>
        <p:pic>
          <p:nvPicPr>
            <p:cNvPr id="8631" name="Picture 6" descr=""/>
            <p:cNvPicPr/>
            <p:nvPr/>
          </p:nvPicPr>
          <p:blipFill>
            <a:blip r:embed="rId2"/>
            <a:stretch/>
          </p:blipFill>
          <p:spPr>
            <a:xfrm>
              <a:off x="469440" y="2374920"/>
              <a:ext cx="181008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2" name="Picture 6" descr=""/>
            <p:cNvPicPr/>
            <p:nvPr/>
          </p:nvPicPr>
          <p:blipFill>
            <a:blip r:embed="rId3"/>
            <a:stretch/>
          </p:blipFill>
          <p:spPr>
            <a:xfrm>
              <a:off x="469440" y="2019240"/>
              <a:ext cx="18100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3" name="Text Box 17"/>
            <p:cNvSpPr/>
            <p:nvPr/>
          </p:nvSpPr>
          <p:spPr>
            <a:xfrm>
              <a:off x="458640" y="1770120"/>
              <a:ext cx="181008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10134720"/>
                  <a:tab algn="l" pos="108586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Futura Hv"/>
                  <a:ea typeface="Arial"/>
                </a:rPr>
                <a:t>HP Enterprise Secure Key Manager Cluster</a:t>
              </a:r>
              <a:endParaRPr b="0" lang="en-US" sz="10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EF49D7-840E-4062-BF21-F7C4EFE3187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34" name="Group 17"/>
          <p:cNvGrpSpPr/>
          <p:nvPr/>
        </p:nvGrpSpPr>
        <p:grpSpPr>
          <a:xfrm>
            <a:off x="990720" y="4098960"/>
            <a:ext cx="7885080" cy="1781280"/>
            <a:chOff x="990720" y="4098960"/>
            <a:chExt cx="7885080" cy="1781280"/>
          </a:xfrm>
        </p:grpSpPr>
        <p:pic>
          <p:nvPicPr>
            <p:cNvPr id="8635" name="Picture 13" descr="SKM"/>
            <p:cNvPicPr/>
            <p:nvPr/>
          </p:nvPicPr>
          <p:blipFill>
            <a:blip r:embed="rId1"/>
            <a:srcRect l="0" t="0" r="-53" b="0"/>
            <a:stretch/>
          </p:blipFill>
          <p:spPr>
            <a:xfrm>
              <a:off x="1544400" y="4389480"/>
              <a:ext cx="7331400" cy="133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36" name="Picture 6" descr=""/>
            <p:cNvPicPr/>
            <p:nvPr/>
          </p:nvPicPr>
          <p:blipFill>
            <a:blip r:embed="rId2"/>
            <a:stretch/>
          </p:blipFill>
          <p:spPr>
            <a:xfrm>
              <a:off x="990720" y="4098960"/>
              <a:ext cx="6705360" cy="178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37" name="Slide Number Placeholder 5"/>
          <p:cNvSpPr/>
          <p:nvPr/>
        </p:nvSpPr>
        <p:spPr>
          <a:xfrm>
            <a:off x="438120" y="6550200"/>
            <a:ext cx="5018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A7CD-E0C8-4B03-9299-9F3AB492B0CC}" type="slidenum">
              <a:rPr b="0" lang="en-US" sz="900" spc="-1" strike="noStrike">
                <a:solidFill>
                  <a:srgbClr val="848589"/>
                </a:solidFill>
                <a:latin typeface="Futura Bk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38" name="Date Placeholder 6"/>
          <p:cNvSpPr/>
          <p:nvPr/>
        </p:nvSpPr>
        <p:spPr>
          <a:xfrm>
            <a:off x="993600" y="6216480"/>
            <a:ext cx="141948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0B52-4E11-4361-B6CE-B5620DEBA47D}" type="datetime3">
              <a:rPr b="0" lang="en-US" sz="900" spc="-1" strike="noStrike">
                <a:solidFill>
                  <a:srgbClr val="848589"/>
                </a:solidFill>
                <a:latin typeface="Futura Bk"/>
                <a:ea typeface="Arial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39" name="Text Box 2"/>
          <p:cNvSpPr/>
          <p:nvPr/>
        </p:nvSpPr>
        <p:spPr>
          <a:xfrm>
            <a:off x="547560" y="63007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40" name="Text Box 3"/>
          <p:cNvSpPr/>
          <p:nvPr/>
        </p:nvSpPr>
        <p:spPr>
          <a:xfrm>
            <a:off x="366840" y="6237360"/>
            <a:ext cx="3063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5f5f5f"/>
                </a:solidFill>
                <a:latin typeface="Futura Bk"/>
                <a:ea typeface="Arial"/>
              </a:rPr>
              <a:t>FIPS = Federal Information Processing Standards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41" name="Line 6"/>
          <p:cNvSpPr/>
          <p:nvPr/>
        </p:nvSpPr>
        <p:spPr>
          <a:xfrm>
            <a:off x="3909960" y="1914480"/>
            <a:ext cx="496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42" name="Line 7"/>
          <p:cNvSpPr/>
          <p:nvPr/>
        </p:nvSpPr>
        <p:spPr>
          <a:xfrm>
            <a:off x="3905280" y="1446120"/>
            <a:ext cx="0" cy="4640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43" name="Rectangle 10"/>
          <p:cNvSpPr/>
          <p:nvPr/>
        </p:nvSpPr>
        <p:spPr>
          <a:xfrm>
            <a:off x="324000" y="0"/>
            <a:ext cx="8820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  <a:ea typeface="Arial"/>
              </a:rPr>
              <a:t>HP Enterprise Secure Key Manager 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b900"/>
                </a:solidFill>
                <a:latin typeface="Futura Bk"/>
                <a:ea typeface="Arial"/>
              </a:rPr>
              <a:t>Key Management for </a:t>
            </a:r>
            <a:r>
              <a:rPr b="0" lang="en-US" sz="3200" spc="-1" strike="noStrike">
                <a:solidFill>
                  <a:srgbClr val="64b900"/>
                </a:solidFill>
                <a:latin typeface="Futura Bk"/>
                <a:ea typeface="Arial"/>
              </a:rPr>
              <a:t>NonStop VLE</a:t>
            </a:r>
            <a:r>
              <a:rPr b="0" lang="en-US" sz="3200" spc="-1" strike="noStrike">
                <a:solidFill>
                  <a:srgbClr val="ffffff"/>
                </a:solidFill>
                <a:latin typeface="Futura Bk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44" name="PlaceHolder 1"/>
          <p:cNvSpPr>
            <a:spLocks noGrp="1"/>
          </p:cNvSpPr>
          <p:nvPr>
            <p:ph/>
          </p:nvPr>
        </p:nvSpPr>
        <p:spPr>
          <a:xfrm>
            <a:off x="296640" y="1135080"/>
            <a:ext cx="8847000" cy="32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b900"/>
                </a:solidFill>
                <a:latin typeface="Futura Hv"/>
              </a:rPr>
              <a:t>Secure, centralized encryption key management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lvl="1" marL="571680" indent="-228600">
              <a:buClr>
                <a:srgbClr val="64b9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Automates key generation, protection, and management based on security polici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spcAft>
                <a:spcPts val="499"/>
              </a:spcAft>
              <a:buClr>
                <a:srgbClr val="64b9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upports unified key management across diverse products/application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b900"/>
                </a:solidFill>
                <a:latin typeface="Futura Hv"/>
              </a:rPr>
              <a:t>Strong auditable security, keys always encrypted at rest and in motion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lvl="1" marL="571680" indent="-228600">
              <a:spcBef>
                <a:spcPts val="601"/>
              </a:spcBef>
              <a:buClr>
                <a:srgbClr val="64b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Hardened server appliance with FIPS 140-2 Level 2 validation pending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spcBef>
                <a:spcPts val="601"/>
              </a:spcBef>
              <a:buClr>
                <a:srgbClr val="64b9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Identity-based access, secure administration, logging, secure connection to Client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marL="228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b900"/>
                </a:solidFill>
                <a:latin typeface="Futura Hv"/>
              </a:rPr>
              <a:t>Reliable lifetime key archival</a:t>
            </a:r>
            <a:endParaRPr b="0" lang="en-US" sz="2000" spc="-1" strike="noStrike">
              <a:solidFill>
                <a:srgbClr val="0071b5"/>
              </a:solidFill>
              <a:latin typeface="Futura Bk"/>
            </a:endParaRPr>
          </a:p>
          <a:p>
            <a:pPr lvl="1" marL="571680" indent="-228600">
              <a:buClr>
                <a:srgbClr val="64b9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Automatic multi-site key replication, high availability clustering, and failover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571680" indent="-228600">
              <a:buClr>
                <a:srgbClr val="64b900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upports 2-6 (or more) nodes, hundreds of clients, and millions of key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45" name="Text Box 12"/>
          <p:cNvSpPr/>
          <p:nvPr/>
        </p:nvSpPr>
        <p:spPr>
          <a:xfrm>
            <a:off x="954000" y="5613480"/>
            <a:ext cx="710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7b79"/>
                </a:solidFill>
                <a:latin typeface="Futura Hv"/>
                <a:ea typeface="Arial"/>
              </a:rPr>
              <a:t>The right encryption key, to the right device, at the right tim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646" name="Slide Number Placeholder 23"/>
          <p:cNvSpPr/>
          <p:nvPr/>
        </p:nvSpPr>
        <p:spPr>
          <a:xfrm>
            <a:off x="387360" y="6442200"/>
            <a:ext cx="411120" cy="3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CCB91-29F1-4F06-99FD-EF0C01D3E220}" type="slidenum">
              <a:rPr b="0" lang="en-US" sz="1200" spc="-1" strike="noStrike">
                <a:solidFill>
                  <a:srgbClr val="848589"/>
                </a:solidFill>
                <a:latin typeface="Futura B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74265-857C-4F48-895A-BF4D4CDED3D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5589720" y="525636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6357600" y="5267160"/>
            <a:ext cx="787320" cy="6289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5" name=""/>
          <p:cNvSpPr/>
          <p:nvPr/>
        </p:nvSpPr>
        <p:spPr>
          <a:xfrm>
            <a:off x="7746840" y="529272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6" name=""/>
          <p:cNvSpPr/>
          <p:nvPr/>
        </p:nvSpPr>
        <p:spPr>
          <a:xfrm>
            <a:off x="5742000" y="525636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7" name=""/>
          <p:cNvSpPr/>
          <p:nvPr/>
        </p:nvSpPr>
        <p:spPr>
          <a:xfrm>
            <a:off x="5894280" y="524340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8" name=""/>
          <p:cNvSpPr/>
          <p:nvPr/>
        </p:nvSpPr>
        <p:spPr>
          <a:xfrm>
            <a:off x="6072120" y="524340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9" name=""/>
          <p:cNvSpPr/>
          <p:nvPr/>
        </p:nvSpPr>
        <p:spPr>
          <a:xfrm>
            <a:off x="6249960" y="521820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8680" y="222120"/>
            <a:ext cx="8663040" cy="927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torage Cluster I/O Modules (CLIMs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1" name=""/>
          <p:cNvSpPr/>
          <p:nvPr/>
        </p:nvSpPr>
        <p:spPr>
          <a:xfrm>
            <a:off x="2922480" y="3521160"/>
            <a:ext cx="3981600" cy="533160"/>
          </a:xfrm>
          <a:prstGeom prst="ellipse">
            <a:avLst/>
          </a:prstGeom>
          <a:solidFill>
            <a:srgbClr val="64b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2" name=""/>
          <p:cNvSpPr/>
          <p:nvPr/>
        </p:nvSpPr>
        <p:spPr>
          <a:xfrm>
            <a:off x="3947400" y="3429000"/>
            <a:ext cx="1441080" cy="3988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 Switch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3" name=""/>
          <p:cNvSpPr/>
          <p:nvPr/>
        </p:nvSpPr>
        <p:spPr>
          <a:xfrm>
            <a:off x="2476440" y="4908600"/>
            <a:ext cx="471600" cy="674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481560" y="4910040"/>
            <a:ext cx="419040" cy="622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2859120" y="3959280"/>
            <a:ext cx="520560" cy="568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6" name=""/>
          <p:cNvSpPr/>
          <p:nvPr/>
        </p:nvSpPr>
        <p:spPr>
          <a:xfrm>
            <a:off x="3963960" y="4035600"/>
            <a:ext cx="0" cy="465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5640480" y="4073400"/>
            <a:ext cx="1440" cy="41616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8" name=""/>
          <p:cNvSpPr/>
          <p:nvPr/>
        </p:nvSpPr>
        <p:spPr>
          <a:xfrm>
            <a:off x="6326280" y="3997440"/>
            <a:ext cx="520560" cy="4888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9" name=""/>
          <p:cNvSpPr/>
          <p:nvPr/>
        </p:nvSpPr>
        <p:spPr>
          <a:xfrm>
            <a:off x="4683240" y="5815800"/>
            <a:ext cx="18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0" name=""/>
          <p:cNvSpPr/>
          <p:nvPr/>
        </p:nvSpPr>
        <p:spPr>
          <a:xfrm>
            <a:off x="2542320" y="58442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1" name=""/>
          <p:cNvSpPr/>
          <p:nvPr/>
        </p:nvSpPr>
        <p:spPr>
          <a:xfrm>
            <a:off x="6613560" y="5825160"/>
            <a:ext cx="18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WA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2" name=""/>
          <p:cNvSpPr/>
          <p:nvPr/>
        </p:nvSpPr>
        <p:spPr>
          <a:xfrm>
            <a:off x="5686560" y="2782800"/>
            <a:ext cx="14040" cy="6685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3" name=""/>
          <p:cNvSpPr/>
          <p:nvPr/>
        </p:nvSpPr>
        <p:spPr>
          <a:xfrm>
            <a:off x="3878280" y="2814480"/>
            <a:ext cx="361800" cy="6098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" name=""/>
          <p:cNvSpPr/>
          <p:nvPr/>
        </p:nvSpPr>
        <p:spPr>
          <a:xfrm>
            <a:off x="7194600" y="3225600"/>
            <a:ext cx="1190520" cy="1167480"/>
          </a:xfrm>
          <a:prstGeom prst="rect">
            <a:avLst/>
          </a:prstGeom>
          <a:solidFill>
            <a:srgbClr val="ffcc00"/>
          </a:solidFill>
          <a:ln w="1908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OAM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" name=""/>
          <p:cNvSpPr/>
          <p:nvPr/>
        </p:nvSpPr>
        <p:spPr>
          <a:xfrm>
            <a:off x="6888240" y="3787920"/>
            <a:ext cx="293760" cy="205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6" name=""/>
          <p:cNvSpPr/>
          <p:nvPr/>
        </p:nvSpPr>
        <p:spPr>
          <a:xfrm>
            <a:off x="2770200" y="3368520"/>
            <a:ext cx="3981600" cy="533520"/>
          </a:xfrm>
          <a:prstGeom prst="ellipse">
            <a:avLst/>
          </a:prstGeom>
          <a:solidFill>
            <a:srgbClr val="64b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7" name=""/>
          <p:cNvSpPr/>
          <p:nvPr/>
        </p:nvSpPr>
        <p:spPr>
          <a:xfrm>
            <a:off x="3191040" y="2701800"/>
            <a:ext cx="377640" cy="757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08" name="Picture 8" descr=""/>
          <p:cNvPicPr/>
          <p:nvPr/>
        </p:nvPicPr>
        <p:blipFill>
          <a:blip r:embed="rId1"/>
          <a:stretch/>
        </p:blipFill>
        <p:spPr>
          <a:xfrm>
            <a:off x="1882800" y="1230480"/>
            <a:ext cx="2712960" cy="20001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 flipH="1">
            <a:off x="6157800" y="2811600"/>
            <a:ext cx="128880" cy="6886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10" name="Picture 8" descr=""/>
          <p:cNvPicPr/>
          <p:nvPr/>
        </p:nvPicPr>
        <p:blipFill>
          <a:blip r:embed="rId2"/>
          <a:stretch/>
        </p:blipFill>
        <p:spPr>
          <a:xfrm>
            <a:off x="4792680" y="1211400"/>
            <a:ext cx="2712960" cy="20001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683160" y="3462480"/>
            <a:ext cx="2165040" cy="3682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erverNet X Fabric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6711840" y="3655800"/>
            <a:ext cx="470160" cy="6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930040" y="3990960"/>
            <a:ext cx="520920" cy="568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546280" y="3780000"/>
            <a:ext cx="681120" cy="7696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2671920" y="3784680"/>
            <a:ext cx="630000" cy="7430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6" name=""/>
          <p:cNvSpPr/>
          <p:nvPr/>
        </p:nvSpPr>
        <p:spPr>
          <a:xfrm>
            <a:off x="4065480" y="4038480"/>
            <a:ext cx="0" cy="465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529160" y="3897360"/>
            <a:ext cx="14400" cy="573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8" name=""/>
          <p:cNvSpPr/>
          <p:nvPr/>
        </p:nvSpPr>
        <p:spPr>
          <a:xfrm>
            <a:off x="4462560" y="3873600"/>
            <a:ext cx="0" cy="6127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9" name=""/>
          <p:cNvSpPr/>
          <p:nvPr/>
        </p:nvSpPr>
        <p:spPr>
          <a:xfrm>
            <a:off x="5769000" y="3865680"/>
            <a:ext cx="0" cy="65376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0" name=""/>
          <p:cNvSpPr/>
          <p:nvPr/>
        </p:nvSpPr>
        <p:spPr>
          <a:xfrm>
            <a:off x="5994360" y="3827520"/>
            <a:ext cx="776160" cy="7030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1" name=""/>
          <p:cNvSpPr/>
          <p:nvPr/>
        </p:nvSpPr>
        <p:spPr>
          <a:xfrm>
            <a:off x="193680" y="3952800"/>
            <a:ext cx="24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torage CLIM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2" name=""/>
          <p:cNvSpPr/>
          <p:nvPr/>
        </p:nvSpPr>
        <p:spPr>
          <a:xfrm>
            <a:off x="5316480" y="4486320"/>
            <a:ext cx="1355760" cy="7984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3" name=""/>
          <p:cNvSpPr/>
          <p:nvPr/>
        </p:nvSpPr>
        <p:spPr>
          <a:xfrm>
            <a:off x="6723000" y="4486320"/>
            <a:ext cx="13813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4" name=""/>
          <p:cNvSpPr/>
          <p:nvPr/>
        </p:nvSpPr>
        <p:spPr>
          <a:xfrm>
            <a:off x="5214960" y="4527720"/>
            <a:ext cx="156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5" name=""/>
          <p:cNvSpPr/>
          <p:nvPr/>
        </p:nvSpPr>
        <p:spPr>
          <a:xfrm>
            <a:off x="6546960" y="4533840"/>
            <a:ext cx="17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3041640" y="4432320"/>
            <a:ext cx="2220840" cy="5317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4"/>
          <a:stretch/>
        </p:blipFill>
        <p:spPr>
          <a:xfrm>
            <a:off x="806400" y="4395960"/>
            <a:ext cx="2220840" cy="531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527200" y="4870440"/>
            <a:ext cx="471600" cy="674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633840" y="4846680"/>
            <a:ext cx="419040" cy="622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5"/>
          <a:stretch/>
        </p:blipFill>
        <p:spPr>
          <a:xfrm>
            <a:off x="1959120" y="5256360"/>
            <a:ext cx="2286000" cy="3618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6"/>
          <a:stretch/>
        </p:blipFill>
        <p:spPr>
          <a:xfrm>
            <a:off x="2111400" y="5408640"/>
            <a:ext cx="2286000" cy="36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7844D-78FD-47B1-8DE6-F8DF399BF49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64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8649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D430B-99A4-459E-86ED-BE4CA59FBBE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Distributed Disk Process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9960" y="5319720"/>
            <a:ext cx="8586720" cy="836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lnSpc>
                <a:spcPct val="80000"/>
              </a:lnSpc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Disk processes for different volumes can be distributed to any processors for load balancing</a:t>
            </a:r>
            <a:endParaRPr b="0" lang="en-US" sz="2200" spc="-1" strike="noStrike">
              <a:solidFill>
                <a:srgbClr val="0071b5"/>
              </a:solidFill>
              <a:latin typeface="Futura Bk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971720" y="1487520"/>
            <a:ext cx="1258920" cy="1325520"/>
            <a:chOff x="1971720" y="1487520"/>
            <a:chExt cx="1258920" cy="1325520"/>
          </a:xfrm>
        </p:grpSpPr>
        <p:sp>
          <p:nvSpPr>
            <p:cNvPr id="235" name=""/>
            <p:cNvSpPr/>
            <p:nvPr/>
          </p:nvSpPr>
          <p:spPr>
            <a:xfrm>
              <a:off x="1971720" y="1487520"/>
              <a:ext cx="80172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124000" y="1640160"/>
              <a:ext cx="801720" cy="76968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276640" y="1792440"/>
              <a:ext cx="80136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28920" y="1944720"/>
              <a:ext cx="80172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54120" y="1991880"/>
              <a:ext cx="738360" cy="821160"/>
            </a:xfrm>
            <a:prstGeom prst="ellipse">
              <a:avLst/>
            </a:prstGeom>
            <a:solidFill>
              <a:srgbClr val="eb5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DP2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359160" y="1495440"/>
            <a:ext cx="1258920" cy="1325520"/>
            <a:chOff x="3359160" y="1495440"/>
            <a:chExt cx="1258920" cy="1325520"/>
          </a:xfrm>
        </p:grpSpPr>
        <p:sp>
          <p:nvSpPr>
            <p:cNvPr id="241" name=""/>
            <p:cNvSpPr/>
            <p:nvPr/>
          </p:nvSpPr>
          <p:spPr>
            <a:xfrm>
              <a:off x="3359160" y="1495440"/>
              <a:ext cx="80172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11440" y="1648080"/>
              <a:ext cx="801720" cy="76968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64080" y="1800360"/>
              <a:ext cx="80136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16360" y="1952640"/>
              <a:ext cx="80172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41560" y="1999800"/>
              <a:ext cx="738360" cy="821160"/>
            </a:xfrm>
            <a:prstGeom prst="ellipse">
              <a:avLst/>
            </a:prstGeom>
            <a:solidFill>
              <a:srgbClr val="eb5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DP2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46600" y="1503360"/>
            <a:ext cx="1258920" cy="1325520"/>
            <a:chOff x="4746600" y="1503360"/>
            <a:chExt cx="1258920" cy="1325520"/>
          </a:xfrm>
        </p:grpSpPr>
        <p:sp>
          <p:nvSpPr>
            <p:cNvPr id="247" name=""/>
            <p:cNvSpPr/>
            <p:nvPr/>
          </p:nvSpPr>
          <p:spPr>
            <a:xfrm>
              <a:off x="4746600" y="1503360"/>
              <a:ext cx="80172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98880" y="1656000"/>
              <a:ext cx="801720" cy="76968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51520" y="1808280"/>
              <a:ext cx="80136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960560"/>
              <a:ext cx="80172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29000" y="2007720"/>
              <a:ext cx="738360" cy="821160"/>
            </a:xfrm>
            <a:prstGeom prst="ellipse">
              <a:avLst/>
            </a:prstGeom>
            <a:solidFill>
              <a:srgbClr val="eb5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DP2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111720" y="1503360"/>
            <a:ext cx="1258920" cy="1325520"/>
            <a:chOff x="6111720" y="1503360"/>
            <a:chExt cx="1258920" cy="1325520"/>
          </a:xfrm>
        </p:grpSpPr>
        <p:sp>
          <p:nvSpPr>
            <p:cNvPr id="253" name=""/>
            <p:cNvSpPr/>
            <p:nvPr/>
          </p:nvSpPr>
          <p:spPr>
            <a:xfrm>
              <a:off x="6111720" y="1503360"/>
              <a:ext cx="80172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64000" y="1656000"/>
              <a:ext cx="801720" cy="76968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416640" y="1808280"/>
              <a:ext cx="80136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68920" y="1960560"/>
              <a:ext cx="801720" cy="77004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94120" y="2007720"/>
              <a:ext cx="738360" cy="821160"/>
            </a:xfrm>
            <a:prstGeom prst="ellipse">
              <a:avLst/>
            </a:prstGeom>
            <a:solidFill>
              <a:srgbClr val="eb5f0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DP2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4075200" y="3349800"/>
            <a:ext cx="1090440" cy="618840"/>
          </a:xfrm>
          <a:prstGeom prst="rect">
            <a:avLst/>
          </a:prstGeom>
          <a:solidFill>
            <a:srgbClr val="64b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9" name=""/>
          <p:cNvSpPr/>
          <p:nvPr/>
        </p:nvSpPr>
        <p:spPr>
          <a:xfrm>
            <a:off x="4227480" y="3502080"/>
            <a:ext cx="1123920" cy="593640"/>
          </a:xfrm>
          <a:prstGeom prst="rect">
            <a:avLst/>
          </a:prstGeom>
          <a:solidFill>
            <a:srgbClr val="64b9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"/>
          <p:cNvSpPr/>
          <p:nvPr/>
        </p:nvSpPr>
        <p:spPr>
          <a:xfrm>
            <a:off x="4154040" y="3595680"/>
            <a:ext cx="12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Adapte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2894040" y="2727360"/>
            <a:ext cx="1170000" cy="587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4203720" y="2743200"/>
            <a:ext cx="3175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14720" y="2781360"/>
            <a:ext cx="634680" cy="546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283360" y="2743200"/>
            <a:ext cx="1676160" cy="698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3594240" y="4457880"/>
            <a:ext cx="419040" cy="41904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>
            <a:off x="3772080" y="4444920"/>
            <a:ext cx="419040" cy="41904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"/>
          <p:cNvSpPr/>
          <p:nvPr/>
        </p:nvSpPr>
        <p:spPr>
          <a:xfrm>
            <a:off x="4013280" y="4457880"/>
            <a:ext cx="419040" cy="41904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"/>
          <p:cNvSpPr/>
          <p:nvPr/>
        </p:nvSpPr>
        <p:spPr>
          <a:xfrm>
            <a:off x="4203720" y="4457880"/>
            <a:ext cx="419040" cy="41904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"/>
          <p:cNvSpPr/>
          <p:nvPr/>
        </p:nvSpPr>
        <p:spPr>
          <a:xfrm>
            <a:off x="4432320" y="4444920"/>
            <a:ext cx="419040" cy="41904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0" name=""/>
          <p:cNvSpPr/>
          <p:nvPr/>
        </p:nvSpPr>
        <p:spPr>
          <a:xfrm>
            <a:off x="4622760" y="4457880"/>
            <a:ext cx="419040" cy="41904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"/>
          <p:cNvSpPr/>
          <p:nvPr/>
        </p:nvSpPr>
        <p:spPr>
          <a:xfrm>
            <a:off x="4851360" y="4444920"/>
            <a:ext cx="419040" cy="41904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"/>
          <p:cNvSpPr/>
          <p:nvPr/>
        </p:nvSpPr>
        <p:spPr>
          <a:xfrm>
            <a:off x="5079960" y="4444920"/>
            <a:ext cx="419040" cy="41904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"/>
          <p:cNvSpPr/>
          <p:nvPr/>
        </p:nvSpPr>
        <p:spPr>
          <a:xfrm>
            <a:off x="5334120" y="4457880"/>
            <a:ext cx="419040" cy="41904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4" name=""/>
          <p:cNvSpPr/>
          <p:nvPr/>
        </p:nvSpPr>
        <p:spPr>
          <a:xfrm>
            <a:off x="4457880" y="41022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"/>
          <p:cNvSpPr/>
          <p:nvPr/>
        </p:nvSpPr>
        <p:spPr>
          <a:xfrm>
            <a:off x="4622760" y="4116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41022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"/>
          <p:cNvSpPr/>
          <p:nvPr/>
        </p:nvSpPr>
        <p:spPr>
          <a:xfrm>
            <a:off x="4952880" y="4114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FF55C-B97D-40B4-B2E1-F8CF80DF89F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Product Overview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e Storage CLIM is a new generation of I/O adapter module based on HP ServerNet technology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ProLiant DL385 G5 rackmount ser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Quad core processo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Debian Linux operating system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StorageWorks, Serial Attached SCSI (SAS), and Fibre Channel (FC) host bus adapter (HBA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Redundant ServerNet 3 link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wo X-fabric and Two Y-fabric link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984240" y="4883040"/>
            <a:ext cx="7485120" cy="16653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879560" y="6006960"/>
            <a:ext cx="1892520" cy="254160"/>
          </a:xfrm>
          <a:prstGeom prst="rect">
            <a:avLst/>
          </a:prstGeom>
          <a:solidFill>
            <a:srgbClr val="6e6f7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"/>
          <p:cNvSpPr/>
          <p:nvPr/>
        </p:nvSpPr>
        <p:spPr>
          <a:xfrm>
            <a:off x="5854680" y="5143680"/>
            <a:ext cx="1739880" cy="11048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"/>
          <p:cNvSpPr/>
          <p:nvPr/>
        </p:nvSpPr>
        <p:spPr>
          <a:xfrm>
            <a:off x="5627520" y="460044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One 72GB system disk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"/>
          <p:cNvSpPr/>
          <p:nvPr/>
        </p:nvSpPr>
        <p:spPr>
          <a:xfrm>
            <a:off x="863640" y="6273720"/>
            <a:ext cx="759456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"/>
          <p:cNvSpPr/>
          <p:nvPr/>
        </p:nvSpPr>
        <p:spPr>
          <a:xfrm>
            <a:off x="2086560" y="6284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DVD drive not installe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6" name=""/>
          <p:cNvSpPr/>
          <p:nvPr/>
        </p:nvSpPr>
        <p:spPr>
          <a:xfrm>
            <a:off x="5664240" y="469908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45B2E-39E0-4F9E-87F0-9539ED4E9E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ardware Overview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Liant DL385 G5 rackmount ser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AMD Opteron, quad core, 2.18GHz processo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4x1GB PC2-5300 DIM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Five PCIe slot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Redundant power and cooling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rverNet 3 to PCI adapt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wo X-fabric and two Y-fabric connection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AS PCI-e HBA (HP SC44Ge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One internal and one external connecto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 SAS links per connector (port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149480" indent="0">
              <a:spcAft>
                <a:spcPts val="56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Gbps per link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FC PCI-e HBA (HP FC1242SR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Dual-channel (4 Gbps per channel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7054920" y="4983120"/>
            <a:ext cx="1319040" cy="1476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7180200" y="3284640"/>
            <a:ext cx="1809720" cy="161928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6254640" y="1879560"/>
            <a:ext cx="2637000" cy="105408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7347600" y="143820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NET Adapte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3" name=""/>
          <p:cNvSpPr/>
          <p:nvPr/>
        </p:nvSpPr>
        <p:spPr>
          <a:xfrm>
            <a:off x="6711840" y="44355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C44Ge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4" name=""/>
          <p:cNvSpPr/>
          <p:nvPr/>
        </p:nvSpPr>
        <p:spPr>
          <a:xfrm>
            <a:off x="7462080" y="622620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FC1242S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68BC9-6BA2-4C8C-9A05-1B3BA243B4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torage CLIM Rear View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lots 1 and 2 are empty in the base Storage CLIM configuration, but could contain a Fibre Channel Adapter or a SAS adapt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he ServerNet Adapter (Dual Capella) is always installed in Slot 3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97" name=""/>
          <p:cNvSpPr/>
          <p:nvPr/>
        </p:nvSpPr>
        <p:spPr>
          <a:xfrm>
            <a:off x="6282000" y="3094200"/>
            <a:ext cx="162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ower suppli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695600" y="3900600"/>
            <a:ext cx="6947640" cy="1753200"/>
            <a:chOff x="1695600" y="3900600"/>
            <a:chExt cx="6947640" cy="1753200"/>
          </a:xfrm>
        </p:grpSpPr>
        <p:sp>
          <p:nvSpPr>
            <p:cNvPr id="299" name=""/>
            <p:cNvSpPr/>
            <p:nvPr/>
          </p:nvSpPr>
          <p:spPr>
            <a:xfrm>
              <a:off x="1699560" y="4916160"/>
              <a:ext cx="138240" cy="715680"/>
            </a:xfrm>
            <a:custGeom>
              <a:avLst/>
              <a:gdLst/>
              <a:ahLst/>
              <a:rect l="l" t="t" r="r" b="b"/>
              <a:pathLst>
                <a:path w="122" h="497">
                  <a:moveTo>
                    <a:pt x="104" y="497"/>
                  </a:moveTo>
                  <a:lnTo>
                    <a:pt x="108" y="497"/>
                  </a:lnTo>
                  <a:lnTo>
                    <a:pt x="110" y="496"/>
                  </a:lnTo>
                  <a:lnTo>
                    <a:pt x="114" y="495"/>
                  </a:lnTo>
                  <a:lnTo>
                    <a:pt x="117" y="492"/>
                  </a:lnTo>
                  <a:lnTo>
                    <a:pt x="118" y="490"/>
                  </a:lnTo>
                  <a:lnTo>
                    <a:pt x="120" y="487"/>
                  </a:lnTo>
                  <a:lnTo>
                    <a:pt x="122" y="485"/>
                  </a:lnTo>
                  <a:lnTo>
                    <a:pt x="122" y="481"/>
                  </a:lnTo>
                  <a:lnTo>
                    <a:pt x="122" y="481"/>
                  </a:lnTo>
                  <a:lnTo>
                    <a:pt x="122" y="15"/>
                  </a:lnTo>
                  <a:lnTo>
                    <a:pt x="122" y="11"/>
                  </a:lnTo>
                  <a:lnTo>
                    <a:pt x="120" y="9"/>
                  </a:lnTo>
                  <a:lnTo>
                    <a:pt x="118" y="6"/>
                  </a:lnTo>
                  <a:lnTo>
                    <a:pt x="117" y="4"/>
                  </a:lnTo>
                  <a:lnTo>
                    <a:pt x="114" y="2"/>
                  </a:lnTo>
                  <a:lnTo>
                    <a:pt x="110" y="1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81"/>
                  </a:lnTo>
                  <a:lnTo>
                    <a:pt x="0" y="485"/>
                  </a:lnTo>
                  <a:lnTo>
                    <a:pt x="1" y="487"/>
                  </a:lnTo>
                  <a:lnTo>
                    <a:pt x="3" y="490"/>
                  </a:lnTo>
                  <a:lnTo>
                    <a:pt x="5" y="492"/>
                  </a:lnTo>
                  <a:lnTo>
                    <a:pt x="8" y="495"/>
                  </a:lnTo>
                  <a:lnTo>
                    <a:pt x="10" y="496"/>
                  </a:lnTo>
                  <a:lnTo>
                    <a:pt x="14" y="497"/>
                  </a:lnTo>
                  <a:lnTo>
                    <a:pt x="18" y="497"/>
                  </a:lnTo>
                  <a:lnTo>
                    <a:pt x="104" y="497"/>
                  </a:lnTo>
                  <a:lnTo>
                    <a:pt x="104" y="49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697040" y="4911840"/>
              <a:ext cx="140400" cy="720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697040" y="4911840"/>
              <a:ext cx="2160" cy="720360"/>
            </a:xfrm>
            <a:prstGeom prst="rect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697040" y="4911840"/>
              <a:ext cx="2160" cy="72036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99560" y="4911840"/>
              <a:ext cx="1440" cy="72036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01360" y="4911840"/>
              <a:ext cx="3960" cy="720360"/>
            </a:xfrm>
            <a:prstGeom prst="rect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01360" y="4911840"/>
              <a:ext cx="3960" cy="720360"/>
            </a:xfrm>
            <a:prstGeom prst="rect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705320" y="4911840"/>
              <a:ext cx="1440" cy="720360"/>
            </a:xfrm>
            <a:prstGeom prst="rect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07120" y="4911840"/>
              <a:ext cx="2160" cy="72036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07120" y="4911840"/>
              <a:ext cx="2160" cy="72036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09280" y="4911840"/>
              <a:ext cx="1440" cy="72036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09280" y="4911840"/>
              <a:ext cx="1440" cy="7203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711080" y="4911840"/>
              <a:ext cx="2160" cy="72036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713240" y="4911840"/>
              <a:ext cx="1440" cy="72036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3240" y="4911840"/>
              <a:ext cx="1440" cy="72036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715040" y="4911840"/>
              <a:ext cx="1440" cy="72036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716840" y="4911840"/>
              <a:ext cx="3960" cy="72036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716840" y="4911840"/>
              <a:ext cx="3960" cy="72036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721160" y="4911840"/>
              <a:ext cx="2160" cy="72036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721160" y="4911840"/>
              <a:ext cx="2160" cy="72036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723320" y="4911840"/>
              <a:ext cx="1440" cy="7203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725120" y="4911840"/>
              <a:ext cx="2160" cy="72036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25120" y="4911840"/>
              <a:ext cx="2160" cy="72036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27280" y="4911840"/>
              <a:ext cx="1440" cy="72036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29080" y="4911840"/>
              <a:ext cx="1440" cy="72036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729080" y="4911840"/>
              <a:ext cx="1440" cy="72036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730880" y="4911840"/>
              <a:ext cx="2160" cy="72036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730880" y="4911840"/>
              <a:ext cx="2160" cy="72036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733040" y="4911840"/>
              <a:ext cx="1440" cy="72036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34840" y="4911840"/>
              <a:ext cx="3960" cy="72036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734840" y="4911840"/>
              <a:ext cx="3960" cy="720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39160" y="4911840"/>
              <a:ext cx="1440" cy="72036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40960" y="4911840"/>
              <a:ext cx="2160" cy="72036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740960" y="4911840"/>
              <a:ext cx="2160" cy="72036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743120" y="4911840"/>
              <a:ext cx="1440" cy="72036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744920" y="4911840"/>
              <a:ext cx="2160" cy="72036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744920" y="4911840"/>
              <a:ext cx="2160" cy="7203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47080" y="4911840"/>
              <a:ext cx="1440" cy="7203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747080" y="4911840"/>
              <a:ext cx="1440" cy="7203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748880" y="4911840"/>
              <a:ext cx="1440" cy="72036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750680" y="4911840"/>
              <a:ext cx="3960" cy="72036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750680" y="4911840"/>
              <a:ext cx="3960" cy="72036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754640" y="4911840"/>
              <a:ext cx="2160" cy="72036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756800" y="4911840"/>
              <a:ext cx="1440" cy="72036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756800" y="4911840"/>
              <a:ext cx="1440" cy="72036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758600" y="4911840"/>
              <a:ext cx="2160" cy="72036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58600" y="4911840"/>
              <a:ext cx="2160" cy="72036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61120" y="4911840"/>
              <a:ext cx="1440" cy="72036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762920" y="4911840"/>
              <a:ext cx="1440" cy="720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762920" y="4911840"/>
              <a:ext cx="1440" cy="720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764720" y="4911840"/>
              <a:ext cx="2160" cy="720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66880" y="4911840"/>
              <a:ext cx="3960" cy="7203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766880" y="4911840"/>
              <a:ext cx="3960" cy="72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770840" y="4911840"/>
              <a:ext cx="1440" cy="72036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770840" y="4911840"/>
              <a:ext cx="1440" cy="72036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772640" y="4911840"/>
              <a:ext cx="1440" cy="72036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774440" y="4911840"/>
              <a:ext cx="2160" cy="72036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695600" y="3900600"/>
              <a:ext cx="6947640" cy="1753200"/>
              <a:chOff x="1695600" y="3900600"/>
              <a:chExt cx="6947640" cy="1753200"/>
            </a:xfrm>
          </p:grpSpPr>
          <p:sp>
            <p:nvSpPr>
              <p:cNvPr id="357" name=""/>
              <p:cNvSpPr/>
              <p:nvPr/>
            </p:nvSpPr>
            <p:spPr>
              <a:xfrm>
                <a:off x="1774800" y="4912560"/>
                <a:ext cx="1800" cy="7182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76600" y="4912560"/>
                <a:ext cx="2520" cy="71820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779120" y="4912560"/>
                <a:ext cx="1800" cy="71820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779120" y="4912560"/>
                <a:ext cx="1800" cy="71820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81280" y="4912560"/>
                <a:ext cx="1800" cy="71820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781280" y="4912560"/>
                <a:ext cx="1800" cy="71820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783440" y="4912560"/>
                <a:ext cx="2520" cy="718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785960" y="4912560"/>
                <a:ext cx="1800" cy="71820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785960" y="4912560"/>
                <a:ext cx="1800" cy="71820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788120" y="4912560"/>
                <a:ext cx="2520" cy="71820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790640" y="4912560"/>
                <a:ext cx="1800" cy="71820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90640" y="4912560"/>
                <a:ext cx="1800" cy="71820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792440" y="4912560"/>
                <a:ext cx="1800" cy="7182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792440" y="4912560"/>
                <a:ext cx="1800" cy="71820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794600" y="4912560"/>
                <a:ext cx="2520" cy="7182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797120" y="4912560"/>
                <a:ext cx="1800" cy="7182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797120" y="4912560"/>
                <a:ext cx="1800" cy="718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799280" y="4912560"/>
                <a:ext cx="2520" cy="718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801800" y="4912560"/>
                <a:ext cx="1800" cy="71820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801800" y="4912560"/>
                <a:ext cx="1800" cy="7182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803960" y="4912560"/>
                <a:ext cx="1800" cy="71820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803960" y="4912560"/>
                <a:ext cx="1800" cy="7182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05760" y="4912560"/>
                <a:ext cx="2520" cy="71820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808280" y="4912560"/>
                <a:ext cx="1800" cy="71820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08280" y="4912560"/>
                <a:ext cx="1800" cy="71820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10440" y="4912560"/>
                <a:ext cx="2520" cy="71820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12960" y="4912560"/>
                <a:ext cx="1800" cy="7182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812960" y="4912560"/>
                <a:ext cx="1800" cy="71820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815120" y="4912560"/>
                <a:ext cx="1800" cy="7182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815120" y="4912560"/>
                <a:ext cx="1800" cy="71820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17280" y="4912560"/>
                <a:ext cx="2520" cy="71820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19800" y="4912560"/>
                <a:ext cx="1800" cy="71820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819800" y="4912560"/>
                <a:ext cx="1800" cy="71820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821600" y="4912560"/>
                <a:ext cx="2520" cy="71820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24120" y="4912560"/>
                <a:ext cx="1800" cy="71820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24120" y="4912560"/>
                <a:ext cx="1800" cy="71820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826280" y="4912560"/>
                <a:ext cx="2520" cy="7182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826280" y="4912560"/>
                <a:ext cx="2520" cy="71820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828800" y="4912560"/>
                <a:ext cx="1800" cy="71820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830960" y="4912560"/>
                <a:ext cx="1800" cy="71820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830960" y="4912560"/>
                <a:ext cx="1800" cy="71820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833120" y="4912560"/>
                <a:ext cx="2520" cy="71820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835640" y="4912560"/>
                <a:ext cx="1800" cy="71820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835640" y="4912560"/>
                <a:ext cx="1800" cy="71820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837440" y="4912560"/>
                <a:ext cx="2520" cy="71820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699920" y="4912560"/>
                <a:ext cx="135360" cy="715320"/>
              </a:xfrm>
              <a:custGeom>
                <a:avLst/>
                <a:gdLst/>
                <a:ahLst/>
                <a:rect l="l" t="t" r="r" b="b"/>
                <a:pathLst>
                  <a:path w="120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0" y="496"/>
                    </a:lnTo>
                    <a:lnTo>
                      <a:pt x="113" y="495"/>
                    </a:lnTo>
                    <a:lnTo>
                      <a:pt x="115" y="492"/>
                    </a:lnTo>
                    <a:lnTo>
                      <a:pt x="118" y="491"/>
                    </a:lnTo>
                    <a:lnTo>
                      <a:pt x="119" y="487"/>
                    </a:lnTo>
                    <a:lnTo>
                      <a:pt x="120" y="484"/>
                    </a:lnTo>
                    <a:lnTo>
                      <a:pt x="120" y="482"/>
                    </a:lnTo>
                    <a:lnTo>
                      <a:pt x="120" y="482"/>
                    </a:lnTo>
                    <a:lnTo>
                      <a:pt x="120" y="16"/>
                    </a:lnTo>
                    <a:lnTo>
                      <a:pt x="120" y="12"/>
                    </a:lnTo>
                    <a:lnTo>
                      <a:pt x="119" y="10"/>
                    </a:lnTo>
                    <a:lnTo>
                      <a:pt x="118" y="7"/>
                    </a:lnTo>
                    <a:lnTo>
                      <a:pt x="115" y="5"/>
                    </a:lnTo>
                    <a:lnTo>
                      <a:pt x="113" y="3"/>
                    </a:lnTo>
                    <a:lnTo>
                      <a:pt x="110" y="1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3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10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82"/>
                    </a:lnTo>
                    <a:lnTo>
                      <a:pt x="0" y="484"/>
                    </a:lnTo>
                    <a:lnTo>
                      <a:pt x="1" y="487"/>
                    </a:lnTo>
                    <a:lnTo>
                      <a:pt x="3" y="491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4" y="497"/>
                    </a:lnTo>
                    <a:lnTo>
                      <a:pt x="18" y="497"/>
                    </a:lnTo>
                    <a:lnTo>
                      <a:pt x="103" y="497"/>
                    </a:lnTo>
                    <a:lnTo>
                      <a:pt x="103" y="497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503200" y="4915080"/>
                <a:ext cx="135360" cy="715320"/>
              </a:xfrm>
              <a:custGeom>
                <a:avLst/>
                <a:gdLst/>
                <a:ahLst/>
                <a:rect l="l" t="t" r="r" b="b"/>
                <a:pathLst>
                  <a:path w="121" h="497">
                    <a:moveTo>
                      <a:pt x="103" y="497"/>
                    </a:moveTo>
                    <a:lnTo>
                      <a:pt x="107" y="497"/>
                    </a:lnTo>
                    <a:lnTo>
                      <a:pt x="111" y="496"/>
                    </a:lnTo>
                    <a:lnTo>
                      <a:pt x="113" y="495"/>
                    </a:lnTo>
                    <a:lnTo>
                      <a:pt x="116" y="492"/>
                    </a:lnTo>
                    <a:lnTo>
                      <a:pt x="118" y="490"/>
                    </a:lnTo>
                    <a:lnTo>
                      <a:pt x="119" y="487"/>
                    </a:lnTo>
                    <a:lnTo>
                      <a:pt x="121" y="485"/>
                    </a:lnTo>
                    <a:lnTo>
                      <a:pt x="121" y="481"/>
                    </a:lnTo>
                    <a:lnTo>
                      <a:pt x="121" y="15"/>
                    </a:lnTo>
                    <a:lnTo>
                      <a:pt x="121" y="11"/>
                    </a:lnTo>
                    <a:lnTo>
                      <a:pt x="119" y="9"/>
                    </a:lnTo>
                    <a:lnTo>
                      <a:pt x="118" y="6"/>
                    </a:lnTo>
                    <a:lnTo>
                      <a:pt x="116" y="4"/>
                    </a:lnTo>
                    <a:lnTo>
                      <a:pt x="113" y="2"/>
                    </a:lnTo>
                    <a:lnTo>
                      <a:pt x="111" y="1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3" y="6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0" y="485"/>
                    </a:lnTo>
                    <a:lnTo>
                      <a:pt x="2" y="487"/>
                    </a:lnTo>
                    <a:lnTo>
                      <a:pt x="3" y="490"/>
                    </a:lnTo>
                    <a:lnTo>
                      <a:pt x="5" y="492"/>
                    </a:lnTo>
                    <a:lnTo>
                      <a:pt x="8" y="495"/>
                    </a:lnTo>
                    <a:lnTo>
                      <a:pt x="10" y="496"/>
                    </a:lnTo>
                    <a:lnTo>
                      <a:pt x="13" y="497"/>
                    </a:lnTo>
                    <a:lnTo>
                      <a:pt x="17" y="497"/>
                    </a:lnTo>
                    <a:lnTo>
                      <a:pt x="103" y="497"/>
                    </a:lnTo>
                    <a:lnTo>
                      <a:pt x="103" y="4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501040" y="4912560"/>
                <a:ext cx="139320" cy="7182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501040" y="4912560"/>
                <a:ext cx="1800" cy="71820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503200" y="4912560"/>
                <a:ext cx="2520" cy="71820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503200" y="4912560"/>
                <a:ext cx="2520" cy="71820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505720" y="4912560"/>
                <a:ext cx="1800" cy="71820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5720" y="4912560"/>
                <a:ext cx="1800" cy="7182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07880" y="4912560"/>
                <a:ext cx="2520" cy="71820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510400" y="4912560"/>
                <a:ext cx="1800" cy="71820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10400" y="4912560"/>
                <a:ext cx="1800" cy="71820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12200" y="4912560"/>
                <a:ext cx="1800" cy="718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14360" y="4912560"/>
                <a:ext cx="2520" cy="71820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14360" y="4912560"/>
                <a:ext cx="2520" cy="71820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16880" y="4912560"/>
                <a:ext cx="1800" cy="71820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16880" y="4912560"/>
                <a:ext cx="1800" cy="71820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519040" y="4912560"/>
                <a:ext cx="2520" cy="71820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21560" y="4912560"/>
                <a:ext cx="1800" cy="71820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521560" y="4912560"/>
                <a:ext cx="1800" cy="71820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23720" y="4912560"/>
                <a:ext cx="1800" cy="7182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25520" y="4912560"/>
                <a:ext cx="2520" cy="71820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25520" y="4912560"/>
                <a:ext cx="2520" cy="71820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28040" y="4912560"/>
                <a:ext cx="1800" cy="71820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528040" y="4912560"/>
                <a:ext cx="1800" cy="71820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30200" y="4912560"/>
                <a:ext cx="2520" cy="7182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532720" y="4912560"/>
                <a:ext cx="1800" cy="71820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532720" y="4912560"/>
                <a:ext cx="1800" cy="71820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534880" y="4912560"/>
                <a:ext cx="1800" cy="71820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537040" y="4912560"/>
                <a:ext cx="2520" cy="7182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537040" y="4912560"/>
                <a:ext cx="2520" cy="718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539560" y="4912560"/>
                <a:ext cx="1800" cy="718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539560" y="4912560"/>
                <a:ext cx="1800" cy="71820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541360" y="4912560"/>
                <a:ext cx="2520" cy="71820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544240" y="4912560"/>
                <a:ext cx="1800" cy="71820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544240" y="4912560"/>
                <a:ext cx="1800" cy="71820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546040" y="4912560"/>
                <a:ext cx="2520" cy="7182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548560" y="4912560"/>
                <a:ext cx="1800" cy="7182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48560" y="4912560"/>
                <a:ext cx="1800" cy="71820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550720" y="4912560"/>
                <a:ext cx="1800" cy="71820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50720" y="4912560"/>
                <a:ext cx="1800" cy="718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552880" y="4912560"/>
                <a:ext cx="2520" cy="71820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555400" y="4912560"/>
                <a:ext cx="1800" cy="71820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555400" y="4912560"/>
                <a:ext cx="1800" cy="71820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557200" y="4912560"/>
                <a:ext cx="2520" cy="71820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560080" y="4912560"/>
                <a:ext cx="1800" cy="7182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560080" y="4912560"/>
                <a:ext cx="1800" cy="71820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561880" y="4912560"/>
                <a:ext cx="1800" cy="71820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561880" y="4912560"/>
                <a:ext cx="1800" cy="71820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564040" y="4912560"/>
                <a:ext cx="2520" cy="71820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566560" y="4912560"/>
                <a:ext cx="1800" cy="71820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566560" y="4912560"/>
                <a:ext cx="1800" cy="71820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68720" y="4912560"/>
                <a:ext cx="2520" cy="71820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71240" y="4912560"/>
                <a:ext cx="1800" cy="71820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573040" y="4912560"/>
                <a:ext cx="1800" cy="71820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75200" y="4912560"/>
                <a:ext cx="2520" cy="71820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575200" y="4912560"/>
                <a:ext cx="2520" cy="71820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77720" y="4912560"/>
                <a:ext cx="1800" cy="7182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77720" y="4912560"/>
                <a:ext cx="1800" cy="71820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79880" y="4912560"/>
                <a:ext cx="2520" cy="71820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582400" y="4912560"/>
                <a:ext cx="1800" cy="71820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82400" y="4912560"/>
                <a:ext cx="1800" cy="7182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84560" y="4912560"/>
                <a:ext cx="1800" cy="71820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586360" y="4912560"/>
                <a:ext cx="2520" cy="71820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86360" y="4912560"/>
                <a:ext cx="2520" cy="71820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589240" y="4912560"/>
                <a:ext cx="1800" cy="71820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589240" y="4912560"/>
                <a:ext cx="1800" cy="718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591040" y="4912560"/>
                <a:ext cx="2520" cy="71820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593560" y="4912560"/>
                <a:ext cx="1800" cy="71820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8593560" y="4912560"/>
                <a:ext cx="1800" cy="7182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8595720" y="4912560"/>
                <a:ext cx="2520" cy="71820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598240" y="4912560"/>
                <a:ext cx="1800" cy="71820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8598240" y="4912560"/>
                <a:ext cx="1800" cy="71820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600400" y="4912560"/>
                <a:ext cx="1800" cy="718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600400" y="4912560"/>
                <a:ext cx="1800" cy="71820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8602200" y="4912560"/>
                <a:ext cx="2520" cy="71820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8605080" y="4912560"/>
                <a:ext cx="1800" cy="718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8605080" y="4912560"/>
                <a:ext cx="1800" cy="7182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8606880" y="4912560"/>
                <a:ext cx="2520" cy="7182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8609400" y="4912560"/>
                <a:ext cx="1800" cy="71820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8609400" y="4912560"/>
                <a:ext cx="1800" cy="71820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8611560" y="4912560"/>
                <a:ext cx="1800" cy="7182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8611560" y="4912560"/>
                <a:ext cx="1800" cy="71820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8613720" y="4912560"/>
                <a:ext cx="2520" cy="71820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616240" y="4912560"/>
                <a:ext cx="1800" cy="71820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616240" y="4912560"/>
                <a:ext cx="1800" cy="71820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618040" y="4912560"/>
                <a:ext cx="2520" cy="71820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620920" y="4912560"/>
                <a:ext cx="1800" cy="71820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620920" y="4912560"/>
                <a:ext cx="1800" cy="71820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622720" y="4912560"/>
                <a:ext cx="1800" cy="71820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622720" y="4912560"/>
                <a:ext cx="1800" cy="71820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624880" y="4912560"/>
                <a:ext cx="2520" cy="71820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627400" y="4912560"/>
                <a:ext cx="1800" cy="71820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627400" y="4912560"/>
                <a:ext cx="1800" cy="71820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629560" y="4912560"/>
                <a:ext cx="2520" cy="71820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632080" y="4912560"/>
                <a:ext cx="1800" cy="71820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32080" y="4912560"/>
                <a:ext cx="1800" cy="71820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634240" y="4912560"/>
                <a:ext cx="1800" cy="71820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634240" y="4912560"/>
                <a:ext cx="1800" cy="71820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8636040" y="4912560"/>
                <a:ext cx="2520" cy="71820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8638560" y="4912560"/>
                <a:ext cx="1800" cy="71820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8638560" y="4912560"/>
                <a:ext cx="4320" cy="71820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8503200" y="4915080"/>
                <a:ext cx="135360" cy="712800"/>
              </a:xfrm>
              <a:custGeom>
                <a:avLst/>
                <a:gdLst/>
                <a:ahLst/>
                <a:rect l="l" t="t" r="r" b="b"/>
                <a:pathLst>
                  <a:path w="122" h="496">
                    <a:moveTo>
                      <a:pt x="104" y="496"/>
                    </a:moveTo>
                    <a:lnTo>
                      <a:pt x="108" y="496"/>
                    </a:lnTo>
                    <a:lnTo>
                      <a:pt x="110" y="495"/>
                    </a:lnTo>
                    <a:lnTo>
                      <a:pt x="114" y="494"/>
                    </a:lnTo>
                    <a:lnTo>
                      <a:pt x="117" y="492"/>
                    </a:lnTo>
                    <a:lnTo>
                      <a:pt x="118" y="490"/>
                    </a:lnTo>
                    <a:lnTo>
                      <a:pt x="120" y="486"/>
                    </a:lnTo>
                    <a:lnTo>
                      <a:pt x="120" y="483"/>
                    </a:lnTo>
                    <a:lnTo>
                      <a:pt x="122" y="481"/>
                    </a:lnTo>
                    <a:lnTo>
                      <a:pt x="122" y="15"/>
                    </a:lnTo>
                    <a:lnTo>
                      <a:pt x="120" y="11"/>
                    </a:lnTo>
                    <a:lnTo>
                      <a:pt x="120" y="9"/>
                    </a:lnTo>
                    <a:lnTo>
                      <a:pt x="118" y="6"/>
                    </a:lnTo>
                    <a:lnTo>
                      <a:pt x="117" y="4"/>
                    </a:lnTo>
                    <a:lnTo>
                      <a:pt x="114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1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81"/>
                    </a:lnTo>
                    <a:lnTo>
                      <a:pt x="1" y="483"/>
                    </a:lnTo>
                    <a:lnTo>
                      <a:pt x="1" y="486"/>
                    </a:lnTo>
                    <a:lnTo>
                      <a:pt x="4" y="490"/>
                    </a:lnTo>
                    <a:lnTo>
                      <a:pt x="5" y="492"/>
                    </a:lnTo>
                    <a:lnTo>
                      <a:pt x="8" y="494"/>
                    </a:lnTo>
                    <a:lnTo>
                      <a:pt x="11" y="495"/>
                    </a:lnTo>
                    <a:lnTo>
                      <a:pt x="14" y="496"/>
                    </a:lnTo>
                    <a:lnTo>
                      <a:pt x="18" y="496"/>
                    </a:lnTo>
                    <a:lnTo>
                      <a:pt x="104" y="496"/>
                    </a:lnTo>
                    <a:lnTo>
                      <a:pt x="104" y="49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698120" y="3903840"/>
                <a:ext cx="6945120" cy="174708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5" y="677"/>
                    </a:lnTo>
                    <a:lnTo>
                      <a:pt x="125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695600" y="3900600"/>
                <a:ext cx="218520" cy="175320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14120" y="3900600"/>
                <a:ext cx="290880" cy="175320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205360" y="3900600"/>
                <a:ext cx="288360" cy="175320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493720" y="3900600"/>
                <a:ext cx="290880" cy="17532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2784600" y="3900600"/>
                <a:ext cx="270360" cy="175320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054960" y="3900600"/>
                <a:ext cx="216720" cy="17532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272040" y="3900600"/>
                <a:ext cx="236520" cy="17532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508560" y="3900600"/>
                <a:ext cx="288360" cy="1753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7280" y="3900600"/>
                <a:ext cx="290880" cy="1753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88160" y="3900600"/>
                <a:ext cx="288720" cy="1753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376880" y="3900600"/>
                <a:ext cx="290160" cy="175320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667400" y="3900600"/>
                <a:ext cx="288720" cy="175320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956480" y="3900600"/>
                <a:ext cx="581760" cy="17532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38240" y="3900600"/>
                <a:ext cx="290160" cy="175320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28760" y="3900600"/>
                <a:ext cx="286200" cy="175320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14960" y="3900600"/>
                <a:ext cx="290880" cy="175320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06200" y="3900600"/>
                <a:ext cx="290880" cy="1753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697080" y="3900600"/>
                <a:ext cx="270360" cy="175320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967440" y="3900600"/>
                <a:ext cx="218520" cy="175320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186320" y="3900600"/>
                <a:ext cx="234360" cy="175320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421040" y="3900600"/>
                <a:ext cx="290880" cy="175320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711920" y="3900600"/>
                <a:ext cx="288360" cy="17532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8000640" y="3900600"/>
                <a:ext cx="288360" cy="175320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289000" y="3900600"/>
                <a:ext cx="290880" cy="175320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579880" y="3900600"/>
                <a:ext cx="63360" cy="175320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698120" y="3903840"/>
                <a:ext cx="6945120" cy="1747080"/>
              </a:xfrm>
              <a:custGeom>
                <a:avLst/>
                <a:gdLst/>
                <a:ahLst/>
                <a:rect l="l" t="t" r="r" b="b"/>
                <a:pathLst>
                  <a:path w="6159" h="1218">
                    <a:moveTo>
                      <a:pt x="0" y="0"/>
                    </a:moveTo>
                    <a:lnTo>
                      <a:pt x="0" y="677"/>
                    </a:lnTo>
                    <a:lnTo>
                      <a:pt x="124" y="677"/>
                    </a:lnTo>
                    <a:lnTo>
                      <a:pt x="124" y="1218"/>
                    </a:lnTo>
                    <a:lnTo>
                      <a:pt x="6031" y="1218"/>
                    </a:lnTo>
                    <a:lnTo>
                      <a:pt x="6031" y="677"/>
                    </a:lnTo>
                    <a:lnTo>
                      <a:pt x="6159" y="677"/>
                    </a:lnTo>
                    <a:lnTo>
                      <a:pt x="615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1709280" y="3917880"/>
                <a:ext cx="6919920" cy="1718640"/>
              </a:xfrm>
              <a:custGeom>
                <a:avLst/>
                <a:gdLst/>
                <a:ahLst/>
                <a:rect l="l" t="t" r="r" b="b"/>
                <a:pathLst>
                  <a:path w="6138" h="1196">
                    <a:moveTo>
                      <a:pt x="0" y="0"/>
                    </a:moveTo>
                    <a:lnTo>
                      <a:pt x="0" y="656"/>
                    </a:lnTo>
                    <a:lnTo>
                      <a:pt x="125" y="656"/>
                    </a:lnTo>
                    <a:lnTo>
                      <a:pt x="125" y="1196"/>
                    </a:lnTo>
                    <a:lnTo>
                      <a:pt x="6010" y="1196"/>
                    </a:lnTo>
                    <a:lnTo>
                      <a:pt x="6010" y="656"/>
                    </a:lnTo>
                    <a:lnTo>
                      <a:pt x="6138" y="656"/>
                    </a:lnTo>
                    <a:lnTo>
                      <a:pt x="613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128480" y="4894920"/>
                <a:ext cx="1253520" cy="70128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128480" y="4894920"/>
                <a:ext cx="1253520" cy="701280"/>
              </a:xfrm>
              <a:custGeom>
                <a:avLst/>
                <a:gdLst/>
                <a:ahLst/>
                <a:rect l="l" t="t" r="r" b="b"/>
                <a:pathLst>
                  <a:path w="1111" h="487">
                    <a:moveTo>
                      <a:pt x="705" y="385"/>
                    </a:moveTo>
                    <a:lnTo>
                      <a:pt x="0" y="385"/>
                    </a:lnTo>
                    <a:lnTo>
                      <a:pt x="0" y="487"/>
                    </a:lnTo>
                    <a:lnTo>
                      <a:pt x="1111" y="487"/>
                    </a:lnTo>
                    <a:lnTo>
                      <a:pt x="1111" y="385"/>
                    </a:lnTo>
                    <a:lnTo>
                      <a:pt x="846" y="385"/>
                    </a:lnTo>
                    <a:lnTo>
                      <a:pt x="846" y="0"/>
                    </a:lnTo>
                    <a:lnTo>
                      <a:pt x="705" y="0"/>
                    </a:lnTo>
                    <a:lnTo>
                      <a:pt x="705" y="385"/>
                    </a:lnTo>
                    <a:close/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853440" y="4170960"/>
                <a:ext cx="284040" cy="142524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853440" y="4170960"/>
                <a:ext cx="284040" cy="1425240"/>
              </a:xfrm>
              <a:custGeom>
                <a:avLst/>
                <a:gdLst/>
                <a:ahLst/>
                <a:rect l="l" t="t" r="r" b="b"/>
                <a:pathLst>
                  <a:path w="252" h="991">
                    <a:moveTo>
                      <a:pt x="10" y="991"/>
                    </a:moveTo>
                    <a:lnTo>
                      <a:pt x="243" y="991"/>
                    </a:lnTo>
                    <a:lnTo>
                      <a:pt x="244" y="991"/>
                    </a:lnTo>
                    <a:lnTo>
                      <a:pt x="245" y="990"/>
                    </a:lnTo>
                    <a:lnTo>
                      <a:pt x="248" y="990"/>
                    </a:lnTo>
                    <a:lnTo>
                      <a:pt x="249" y="989"/>
                    </a:lnTo>
                    <a:lnTo>
                      <a:pt x="250" y="988"/>
                    </a:lnTo>
                    <a:lnTo>
                      <a:pt x="250" y="985"/>
                    </a:lnTo>
                    <a:lnTo>
                      <a:pt x="252" y="984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83"/>
                    </a:lnTo>
                    <a:lnTo>
                      <a:pt x="252" y="9"/>
                    </a:lnTo>
                    <a:lnTo>
                      <a:pt x="252" y="8"/>
                    </a:lnTo>
                    <a:lnTo>
                      <a:pt x="250" y="5"/>
                    </a:lnTo>
                    <a:lnTo>
                      <a:pt x="250" y="4"/>
                    </a:lnTo>
                    <a:lnTo>
                      <a:pt x="249" y="3"/>
                    </a:lnTo>
                    <a:lnTo>
                      <a:pt x="248" y="2"/>
                    </a:lnTo>
                    <a:lnTo>
                      <a:pt x="245" y="0"/>
                    </a:lnTo>
                    <a:lnTo>
                      <a:pt x="244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243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2" y="4"/>
                    </a:lnTo>
                    <a:lnTo>
                      <a:pt x="1" y="5"/>
                    </a:lnTo>
                    <a:lnTo>
                      <a:pt x="1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83"/>
                    </a:lnTo>
                    <a:lnTo>
                      <a:pt x="1" y="984"/>
                    </a:lnTo>
                    <a:lnTo>
                      <a:pt x="1" y="985"/>
                    </a:lnTo>
                    <a:lnTo>
                      <a:pt x="2" y="988"/>
                    </a:lnTo>
                    <a:lnTo>
                      <a:pt x="4" y="989"/>
                    </a:lnTo>
                    <a:lnTo>
                      <a:pt x="5" y="990"/>
                    </a:lnTo>
                    <a:lnTo>
                      <a:pt x="6" y="990"/>
                    </a:lnTo>
                    <a:lnTo>
                      <a:pt x="7" y="991"/>
                    </a:lnTo>
                    <a:lnTo>
                      <a:pt x="10" y="991"/>
                    </a:lnTo>
                    <a:lnTo>
                      <a:pt x="10" y="991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7777080" y="5148000"/>
                <a:ext cx="484560" cy="4482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694920" y="5148000"/>
                <a:ext cx="1355040" cy="448200"/>
              </a:xfrm>
              <a:custGeom>
                <a:avLst/>
                <a:gdLst/>
                <a:ahLst/>
                <a:rect l="l" t="t" r="r" b="b"/>
                <a:pathLst>
                  <a:path w="1201" h="311">
                    <a:moveTo>
                      <a:pt x="0" y="311"/>
                    </a:moveTo>
                    <a:lnTo>
                      <a:pt x="491" y="311"/>
                    </a:lnTo>
                    <a:lnTo>
                      <a:pt x="491" y="0"/>
                    </a:lnTo>
                    <a:lnTo>
                      <a:pt x="0" y="0"/>
                    </a:lnTo>
                    <a:lnTo>
                      <a:pt x="0" y="311"/>
                    </a:lnTo>
                    <a:close/>
                    <a:moveTo>
                      <a:pt x="1201" y="8"/>
                    </a:moveTo>
                    <a:lnTo>
                      <a:pt x="973" y="8"/>
                    </a:lnTo>
                    <a:lnTo>
                      <a:pt x="973" y="193"/>
                    </a:lnTo>
                    <a:lnTo>
                      <a:pt x="1201" y="193"/>
                    </a:lnTo>
                    <a:lnTo>
                      <a:pt x="1201" y="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945960" y="4170960"/>
                <a:ext cx="101520" cy="14252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945960" y="4170960"/>
                <a:ext cx="101520" cy="1425240"/>
              </a:xfrm>
              <a:prstGeom prst="rect">
                <a:avLst/>
              </a:prstGeom>
              <a:noFill/>
              <a:ln w="1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4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54680" y="3987000"/>
                <a:ext cx="1591560" cy="136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>
                <a:off x="2277360" y="4001400"/>
                <a:ext cx="1564560" cy="1339200"/>
              </a:xfrm>
              <a:prstGeom prst="rect">
                <a:avLst/>
              </a:prstGeom>
              <a:noFill/>
              <a:ln w="468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907080" y="50389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4640" y="51454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10120" y="50389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077000" y="51454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3987720" y="50389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998160" y="514548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907080" y="46191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3914640" y="472572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110120" y="46191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088160" y="4725720"/>
                <a:ext cx="4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987720" y="46191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002840" y="472572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907080" y="42544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4640" y="430596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987720" y="42544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1887840" y="3986280"/>
              <a:ext cx="6557040" cy="1609560"/>
              <a:chOff x="1887840" y="3986280"/>
              <a:chExt cx="6557040" cy="1609560"/>
            </a:xfrm>
          </p:grpSpPr>
          <p:sp>
            <p:nvSpPr>
              <p:cNvPr id="558" name=""/>
              <p:cNvSpPr/>
              <p:nvPr/>
            </p:nvSpPr>
            <p:spPr>
              <a:xfrm>
                <a:off x="4005360" y="430488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14000" y="49863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007160" y="435708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007160" y="472500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093920" y="45669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89800" y="41472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020120" y="414720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174560" y="4041000"/>
                <a:ext cx="1183680" cy="1411560"/>
              </a:xfrm>
              <a:custGeom>
                <a:avLst/>
                <a:gdLst/>
                <a:ahLst/>
                <a:rect l="l" t="t" r="r" b="b"/>
                <a:pathLst>
                  <a:path w="1050" h="984">
                    <a:moveTo>
                      <a:pt x="833" y="984"/>
                    </a:moveTo>
                    <a:lnTo>
                      <a:pt x="1050" y="984"/>
                    </a:lnTo>
                    <a:lnTo>
                      <a:pt x="1050" y="0"/>
                    </a:lnTo>
                    <a:lnTo>
                      <a:pt x="0" y="0"/>
                    </a:lnTo>
                    <a:lnTo>
                      <a:pt x="0" y="984"/>
                    </a:lnTo>
                    <a:lnTo>
                      <a:pt x="218" y="984"/>
                    </a:lnTo>
                    <a:lnTo>
                      <a:pt x="218" y="584"/>
                    </a:lnTo>
                    <a:lnTo>
                      <a:pt x="833" y="584"/>
                    </a:lnTo>
                    <a:lnTo>
                      <a:pt x="833" y="984"/>
                    </a:lnTo>
                    <a:lnTo>
                      <a:pt x="833" y="9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6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133520" y="3986280"/>
                <a:ext cx="1224360" cy="146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7" name=""/>
              <p:cNvSpPr/>
              <p:nvPr/>
            </p:nvSpPr>
            <p:spPr>
              <a:xfrm>
                <a:off x="4158720" y="4003200"/>
                <a:ext cx="1201680" cy="1434960"/>
              </a:xfrm>
              <a:custGeom>
                <a:avLst/>
                <a:gdLst/>
                <a:ahLst/>
                <a:rect l="l" t="t" r="r" b="b"/>
                <a:pathLst>
                  <a:path w="1068" h="998">
                    <a:moveTo>
                      <a:pt x="840" y="998"/>
                    </a:moveTo>
                    <a:lnTo>
                      <a:pt x="1068" y="998"/>
                    </a:lnTo>
                    <a:lnTo>
                      <a:pt x="1068" y="0"/>
                    </a:lnTo>
                    <a:lnTo>
                      <a:pt x="0" y="0"/>
                    </a:lnTo>
                    <a:lnTo>
                      <a:pt x="0" y="998"/>
                    </a:lnTo>
                    <a:lnTo>
                      <a:pt x="226" y="998"/>
                    </a:lnTo>
                    <a:lnTo>
                      <a:pt x="226" y="606"/>
                    </a:lnTo>
                    <a:lnTo>
                      <a:pt x="840" y="606"/>
                    </a:lnTo>
                    <a:lnTo>
                      <a:pt x="840" y="998"/>
                    </a:lnTo>
                  </a:path>
                </a:pathLst>
              </a:custGeom>
              <a:noFill/>
              <a:ln w="468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573440" y="4894560"/>
                <a:ext cx="347040" cy="54900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  <a:lnTo>
                      <a:pt x="32" y="32"/>
                    </a:lnTo>
                    <a:close/>
                    <a:moveTo>
                      <a:pt x="0" y="374"/>
                    </a:moveTo>
                    <a:lnTo>
                      <a:pt x="0" y="374"/>
                    </a:lnTo>
                    <a:lnTo>
                      <a:pt x="0" y="374"/>
                    </a:lnTo>
                    <a:lnTo>
                      <a:pt x="0" y="374"/>
                    </a:lnTo>
                    <a:close/>
                    <a:moveTo>
                      <a:pt x="309" y="374"/>
                    </a:moveTo>
                    <a:lnTo>
                      <a:pt x="309" y="374"/>
                    </a:lnTo>
                    <a:lnTo>
                      <a:pt x="309" y="374"/>
                    </a:lnTo>
                    <a:lnTo>
                      <a:pt x="309" y="374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573440" y="4894560"/>
                <a:ext cx="347040" cy="549000"/>
              </a:xfrm>
              <a:custGeom>
                <a:avLst/>
                <a:gdLst/>
                <a:ahLst/>
                <a:rect l="l" t="t" r="r" b="b"/>
                <a:pathLst>
                  <a:path w="309" h="383">
                    <a:moveTo>
                      <a:pt x="32" y="32"/>
                    </a:moveTo>
                    <a:lnTo>
                      <a:pt x="32" y="364"/>
                    </a:lnTo>
                    <a:lnTo>
                      <a:pt x="9" y="364"/>
                    </a:lnTo>
                    <a:lnTo>
                      <a:pt x="8" y="365"/>
                    </a:lnTo>
                    <a:lnTo>
                      <a:pt x="7" y="365"/>
                    </a:lnTo>
                    <a:lnTo>
                      <a:pt x="4" y="366"/>
                    </a:lnTo>
                    <a:lnTo>
                      <a:pt x="3" y="367"/>
                    </a:lnTo>
                    <a:lnTo>
                      <a:pt x="2" y="369"/>
                    </a:lnTo>
                    <a:lnTo>
                      <a:pt x="2" y="370"/>
                    </a:lnTo>
                    <a:lnTo>
                      <a:pt x="0" y="371"/>
                    </a:lnTo>
                    <a:lnTo>
                      <a:pt x="0" y="374"/>
                    </a:lnTo>
                    <a:lnTo>
                      <a:pt x="0" y="375"/>
                    </a:lnTo>
                    <a:lnTo>
                      <a:pt x="2" y="376"/>
                    </a:lnTo>
                    <a:lnTo>
                      <a:pt x="2" y="379"/>
                    </a:lnTo>
                    <a:lnTo>
                      <a:pt x="3" y="380"/>
                    </a:lnTo>
                    <a:lnTo>
                      <a:pt x="4" y="381"/>
                    </a:lnTo>
                    <a:lnTo>
                      <a:pt x="7" y="381"/>
                    </a:lnTo>
                    <a:lnTo>
                      <a:pt x="8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9" y="383"/>
                    </a:lnTo>
                    <a:lnTo>
                      <a:pt x="300" y="383"/>
                    </a:lnTo>
                    <a:lnTo>
                      <a:pt x="301" y="383"/>
                    </a:lnTo>
                    <a:lnTo>
                      <a:pt x="302" y="381"/>
                    </a:lnTo>
                    <a:lnTo>
                      <a:pt x="304" y="381"/>
                    </a:lnTo>
                    <a:lnTo>
                      <a:pt x="306" y="380"/>
                    </a:lnTo>
                    <a:lnTo>
                      <a:pt x="306" y="379"/>
                    </a:lnTo>
                    <a:lnTo>
                      <a:pt x="307" y="376"/>
                    </a:lnTo>
                    <a:lnTo>
                      <a:pt x="309" y="375"/>
                    </a:lnTo>
                    <a:lnTo>
                      <a:pt x="309" y="374"/>
                    </a:lnTo>
                    <a:lnTo>
                      <a:pt x="309" y="374"/>
                    </a:lnTo>
                    <a:lnTo>
                      <a:pt x="307" y="370"/>
                    </a:lnTo>
                    <a:lnTo>
                      <a:pt x="307" y="369"/>
                    </a:lnTo>
                    <a:lnTo>
                      <a:pt x="306" y="367"/>
                    </a:lnTo>
                    <a:lnTo>
                      <a:pt x="305" y="366"/>
                    </a:lnTo>
                    <a:lnTo>
                      <a:pt x="304" y="365"/>
                    </a:lnTo>
                    <a:lnTo>
                      <a:pt x="301" y="365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300" y="364"/>
                    </a:lnTo>
                    <a:lnTo>
                      <a:pt x="276" y="364"/>
                    </a:lnTo>
                    <a:lnTo>
                      <a:pt x="276" y="32"/>
                    </a:lnTo>
                    <a:lnTo>
                      <a:pt x="300" y="32"/>
                    </a:lnTo>
                    <a:lnTo>
                      <a:pt x="301" y="32"/>
                    </a:lnTo>
                    <a:lnTo>
                      <a:pt x="302" y="30"/>
                    </a:lnTo>
                    <a:lnTo>
                      <a:pt x="304" y="30"/>
                    </a:lnTo>
                    <a:lnTo>
                      <a:pt x="306" y="29"/>
                    </a:lnTo>
                    <a:lnTo>
                      <a:pt x="306" y="28"/>
                    </a:lnTo>
                    <a:lnTo>
                      <a:pt x="307" y="25"/>
                    </a:lnTo>
                    <a:lnTo>
                      <a:pt x="309" y="24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23"/>
                    </a:lnTo>
                    <a:lnTo>
                      <a:pt x="309" y="9"/>
                    </a:lnTo>
                    <a:lnTo>
                      <a:pt x="309" y="8"/>
                    </a:lnTo>
                    <a:lnTo>
                      <a:pt x="307" y="5"/>
                    </a:lnTo>
                    <a:lnTo>
                      <a:pt x="306" y="4"/>
                    </a:lnTo>
                    <a:lnTo>
                      <a:pt x="306" y="3"/>
                    </a:lnTo>
                    <a:lnTo>
                      <a:pt x="304" y="1"/>
                    </a:lnTo>
                    <a:lnTo>
                      <a:pt x="302" y="0"/>
                    </a:lnTo>
                    <a:lnTo>
                      <a:pt x="301" y="0"/>
                    </a:lnTo>
                    <a:lnTo>
                      <a:pt x="300" y="0"/>
                    </a:lnTo>
                    <a:lnTo>
                      <a:pt x="300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2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2" y="25"/>
                    </a:lnTo>
                    <a:lnTo>
                      <a:pt x="2" y="28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7" y="30"/>
                    </a:lnTo>
                    <a:lnTo>
                      <a:pt x="8" y="32"/>
                    </a:lnTo>
                    <a:lnTo>
                      <a:pt x="9" y="32"/>
                    </a:lnTo>
                    <a:lnTo>
                      <a:pt x="9" y="32"/>
                    </a:lnTo>
                    <a:lnTo>
                      <a:pt x="32" y="3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573440" y="543240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920480" y="543240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16280" y="4906080"/>
                <a:ext cx="259200" cy="52596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595760" y="4880160"/>
                <a:ext cx="302040" cy="578160"/>
              </a:xfrm>
              <a:custGeom>
                <a:avLst/>
                <a:gdLst/>
                <a:ahLst/>
                <a:rect l="l" t="t" r="r" b="b"/>
                <a:pathLst>
                  <a:path w="269" h="401">
                    <a:moveTo>
                      <a:pt x="37" y="56"/>
                    </a:moveTo>
                    <a:lnTo>
                      <a:pt x="37" y="311"/>
                    </a:lnTo>
                    <a:lnTo>
                      <a:pt x="37" y="314"/>
                    </a:lnTo>
                    <a:lnTo>
                      <a:pt x="36" y="317"/>
                    </a:lnTo>
                    <a:lnTo>
                      <a:pt x="34" y="321"/>
                    </a:lnTo>
                    <a:lnTo>
                      <a:pt x="32" y="323"/>
                    </a:lnTo>
                    <a:lnTo>
                      <a:pt x="29" y="326"/>
                    </a:lnTo>
                    <a:lnTo>
                      <a:pt x="27" y="327"/>
                    </a:lnTo>
                    <a:lnTo>
                      <a:pt x="23" y="328"/>
                    </a:lnTo>
                    <a:lnTo>
                      <a:pt x="19" y="328"/>
                    </a:lnTo>
                    <a:lnTo>
                      <a:pt x="15" y="328"/>
                    </a:lnTo>
                    <a:lnTo>
                      <a:pt x="12" y="327"/>
                    </a:lnTo>
                    <a:lnTo>
                      <a:pt x="9" y="326"/>
                    </a:lnTo>
                    <a:lnTo>
                      <a:pt x="7" y="323"/>
                    </a:lnTo>
                    <a:lnTo>
                      <a:pt x="4" y="321"/>
                    </a:lnTo>
                    <a:lnTo>
                      <a:pt x="3" y="317"/>
                    </a:lnTo>
                    <a:lnTo>
                      <a:pt x="2" y="314"/>
                    </a:lnTo>
                    <a:lnTo>
                      <a:pt x="0" y="311"/>
                    </a:lnTo>
                    <a:lnTo>
                      <a:pt x="0" y="56"/>
                    </a:lnTo>
                    <a:lnTo>
                      <a:pt x="2" y="52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7" y="43"/>
                    </a:lnTo>
                    <a:lnTo>
                      <a:pt x="9" y="40"/>
                    </a:lnTo>
                    <a:lnTo>
                      <a:pt x="12" y="39"/>
                    </a:lnTo>
                    <a:lnTo>
                      <a:pt x="15" y="38"/>
                    </a:lnTo>
                    <a:lnTo>
                      <a:pt x="19" y="37"/>
                    </a:lnTo>
                    <a:lnTo>
                      <a:pt x="23" y="38"/>
                    </a:lnTo>
                    <a:lnTo>
                      <a:pt x="27" y="39"/>
                    </a:lnTo>
                    <a:lnTo>
                      <a:pt x="29" y="40"/>
                    </a:lnTo>
                    <a:lnTo>
                      <a:pt x="32" y="43"/>
                    </a:lnTo>
                    <a:lnTo>
                      <a:pt x="34" y="45"/>
                    </a:lnTo>
                    <a:lnTo>
                      <a:pt x="36" y="48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37" y="56"/>
                    </a:lnTo>
                    <a:close/>
                    <a:moveTo>
                      <a:pt x="127" y="365"/>
                    </a:moveTo>
                    <a:lnTo>
                      <a:pt x="250" y="365"/>
                    </a:lnTo>
                    <a:lnTo>
                      <a:pt x="232" y="384"/>
                    </a:lnTo>
                    <a:lnTo>
                      <a:pt x="232" y="251"/>
                    </a:lnTo>
                    <a:lnTo>
                      <a:pt x="232" y="247"/>
                    </a:lnTo>
                    <a:lnTo>
                      <a:pt x="234" y="244"/>
                    </a:lnTo>
                    <a:lnTo>
                      <a:pt x="235" y="240"/>
                    </a:lnTo>
                    <a:lnTo>
                      <a:pt x="237" y="237"/>
                    </a:lnTo>
                    <a:lnTo>
                      <a:pt x="240" y="236"/>
                    </a:lnTo>
                    <a:lnTo>
                      <a:pt x="244" y="235"/>
                    </a:lnTo>
                    <a:lnTo>
                      <a:pt x="246" y="234"/>
                    </a:lnTo>
                    <a:lnTo>
                      <a:pt x="250" y="234"/>
                    </a:lnTo>
                    <a:lnTo>
                      <a:pt x="254" y="234"/>
                    </a:lnTo>
                    <a:lnTo>
                      <a:pt x="257" y="235"/>
                    </a:lnTo>
                    <a:lnTo>
                      <a:pt x="261" y="236"/>
                    </a:lnTo>
                    <a:lnTo>
                      <a:pt x="264" y="237"/>
                    </a:lnTo>
                    <a:lnTo>
                      <a:pt x="265" y="240"/>
                    </a:lnTo>
                    <a:lnTo>
                      <a:pt x="267" y="244"/>
                    </a:lnTo>
                    <a:lnTo>
                      <a:pt x="267" y="247"/>
                    </a:lnTo>
                    <a:lnTo>
                      <a:pt x="269" y="251"/>
                    </a:lnTo>
                    <a:lnTo>
                      <a:pt x="269" y="384"/>
                    </a:lnTo>
                    <a:lnTo>
                      <a:pt x="267" y="386"/>
                    </a:lnTo>
                    <a:lnTo>
                      <a:pt x="267" y="390"/>
                    </a:lnTo>
                    <a:lnTo>
                      <a:pt x="265" y="393"/>
                    </a:lnTo>
                    <a:lnTo>
                      <a:pt x="264" y="396"/>
                    </a:lnTo>
                    <a:lnTo>
                      <a:pt x="261" y="398"/>
                    </a:lnTo>
                    <a:lnTo>
                      <a:pt x="257" y="400"/>
                    </a:lnTo>
                    <a:lnTo>
                      <a:pt x="254" y="401"/>
                    </a:lnTo>
                    <a:lnTo>
                      <a:pt x="250" y="401"/>
                    </a:lnTo>
                    <a:lnTo>
                      <a:pt x="127" y="401"/>
                    </a:lnTo>
                    <a:lnTo>
                      <a:pt x="124" y="401"/>
                    </a:lnTo>
                    <a:lnTo>
                      <a:pt x="121" y="400"/>
                    </a:lnTo>
                    <a:lnTo>
                      <a:pt x="118" y="398"/>
                    </a:lnTo>
                    <a:lnTo>
                      <a:pt x="116" y="396"/>
                    </a:lnTo>
                    <a:lnTo>
                      <a:pt x="113" y="393"/>
                    </a:lnTo>
                    <a:lnTo>
                      <a:pt x="111" y="390"/>
                    </a:lnTo>
                    <a:lnTo>
                      <a:pt x="109" y="386"/>
                    </a:lnTo>
                    <a:lnTo>
                      <a:pt x="109" y="384"/>
                    </a:lnTo>
                    <a:lnTo>
                      <a:pt x="109" y="379"/>
                    </a:lnTo>
                    <a:lnTo>
                      <a:pt x="111" y="376"/>
                    </a:lnTo>
                    <a:lnTo>
                      <a:pt x="113" y="372"/>
                    </a:lnTo>
                    <a:lnTo>
                      <a:pt x="116" y="370"/>
                    </a:lnTo>
                    <a:lnTo>
                      <a:pt x="118" y="367"/>
                    </a:lnTo>
                    <a:lnTo>
                      <a:pt x="121" y="366"/>
                    </a:lnTo>
                    <a:lnTo>
                      <a:pt x="124" y="365"/>
                    </a:lnTo>
                    <a:lnTo>
                      <a:pt x="127" y="365"/>
                    </a:lnTo>
                    <a:lnTo>
                      <a:pt x="127" y="365"/>
                    </a:lnTo>
                    <a:close/>
                    <a:moveTo>
                      <a:pt x="232" y="69"/>
                    </a:moveTo>
                    <a:lnTo>
                      <a:pt x="232" y="19"/>
                    </a:lnTo>
                    <a:lnTo>
                      <a:pt x="250" y="37"/>
                    </a:lnTo>
                    <a:lnTo>
                      <a:pt x="46" y="37"/>
                    </a:lnTo>
                    <a:lnTo>
                      <a:pt x="43" y="37"/>
                    </a:lnTo>
                    <a:lnTo>
                      <a:pt x="39" y="35"/>
                    </a:lnTo>
                    <a:lnTo>
                      <a:pt x="37" y="34"/>
                    </a:lnTo>
                    <a:lnTo>
                      <a:pt x="34" y="32"/>
                    </a:lnTo>
                    <a:lnTo>
                      <a:pt x="32" y="29"/>
                    </a:lnTo>
                    <a:lnTo>
                      <a:pt x="29" y="25"/>
                    </a:lnTo>
                    <a:lnTo>
                      <a:pt x="28" y="23"/>
                    </a:lnTo>
                    <a:lnTo>
                      <a:pt x="28" y="19"/>
                    </a:lnTo>
                    <a:lnTo>
                      <a:pt x="28" y="15"/>
                    </a:lnTo>
                    <a:lnTo>
                      <a:pt x="29" y="13"/>
                    </a:lnTo>
                    <a:lnTo>
                      <a:pt x="32" y="9"/>
                    </a:lnTo>
                    <a:lnTo>
                      <a:pt x="34" y="6"/>
                    </a:lnTo>
                    <a:lnTo>
                      <a:pt x="37" y="4"/>
                    </a:lnTo>
                    <a:lnTo>
                      <a:pt x="39" y="2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250" y="0"/>
                    </a:lnTo>
                    <a:lnTo>
                      <a:pt x="254" y="1"/>
                    </a:lnTo>
                    <a:lnTo>
                      <a:pt x="257" y="2"/>
                    </a:lnTo>
                    <a:lnTo>
                      <a:pt x="261" y="4"/>
                    </a:lnTo>
                    <a:lnTo>
                      <a:pt x="264" y="6"/>
                    </a:lnTo>
                    <a:lnTo>
                      <a:pt x="265" y="9"/>
                    </a:lnTo>
                    <a:lnTo>
                      <a:pt x="267" y="13"/>
                    </a:lnTo>
                    <a:lnTo>
                      <a:pt x="267" y="15"/>
                    </a:lnTo>
                    <a:lnTo>
                      <a:pt x="269" y="19"/>
                    </a:lnTo>
                    <a:lnTo>
                      <a:pt x="269" y="69"/>
                    </a:lnTo>
                    <a:lnTo>
                      <a:pt x="267" y="72"/>
                    </a:lnTo>
                    <a:lnTo>
                      <a:pt x="267" y="76"/>
                    </a:lnTo>
                    <a:lnTo>
                      <a:pt x="265" y="78"/>
                    </a:lnTo>
                    <a:lnTo>
                      <a:pt x="264" y="82"/>
                    </a:lnTo>
                    <a:lnTo>
                      <a:pt x="261" y="83"/>
                    </a:lnTo>
                    <a:lnTo>
                      <a:pt x="257" y="86"/>
                    </a:lnTo>
                    <a:lnTo>
                      <a:pt x="254" y="87"/>
                    </a:lnTo>
                    <a:lnTo>
                      <a:pt x="250" y="87"/>
                    </a:lnTo>
                    <a:lnTo>
                      <a:pt x="246" y="87"/>
                    </a:lnTo>
                    <a:lnTo>
                      <a:pt x="244" y="86"/>
                    </a:lnTo>
                    <a:lnTo>
                      <a:pt x="240" y="83"/>
                    </a:lnTo>
                    <a:lnTo>
                      <a:pt x="237" y="82"/>
                    </a:lnTo>
                    <a:lnTo>
                      <a:pt x="235" y="78"/>
                    </a:lnTo>
                    <a:lnTo>
                      <a:pt x="234" y="76"/>
                    </a:lnTo>
                    <a:lnTo>
                      <a:pt x="232" y="72"/>
                    </a:lnTo>
                    <a:lnTo>
                      <a:pt x="232" y="69"/>
                    </a:lnTo>
                    <a:lnTo>
                      <a:pt x="232" y="69"/>
                    </a:lnTo>
                    <a:close/>
                  </a:path>
                </a:pathLst>
              </a:custGeom>
              <a:solidFill>
                <a:srgbClr val="1a1a1a"/>
              </a:solidFill>
              <a:ln w="284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315680" y="54583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323240" y="551016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216680" y="55101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155920" y="551016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252760" y="54583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222880" y="551016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45720" y="5147280"/>
                <a:ext cx="531720" cy="448560"/>
              </a:xfrm>
              <a:prstGeom prst="rect">
                <a:avLst/>
              </a:prstGeom>
              <a:solidFill>
                <a:srgbClr val="355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093000" y="5147280"/>
                <a:ext cx="606960" cy="448560"/>
              </a:xfrm>
              <a:prstGeom prst="rect">
                <a:avLst/>
              </a:prstGeom>
              <a:solidFill>
                <a:srgbClr val="26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369400" y="5147280"/>
                <a:ext cx="432360" cy="448560"/>
              </a:xfrm>
              <a:prstGeom prst="rect">
                <a:avLst/>
              </a:pr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799960" y="5147280"/>
                <a:ext cx="292680" cy="448560"/>
              </a:xfrm>
              <a:prstGeom prst="rect">
                <a:avLst/>
              </a:pr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134920" y="5463720"/>
                <a:ext cx="110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369400" y="5147280"/>
                <a:ext cx="2892600" cy="448560"/>
              </a:xfrm>
              <a:prstGeom prst="rect">
                <a:avLst/>
              </a:prstGeom>
              <a:noFill/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967280" y="49863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967280" y="52999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644440" y="3986280"/>
                <a:ext cx="2800440" cy="113832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662440" y="4008960"/>
                <a:ext cx="2760120" cy="108936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662440" y="4008960"/>
                <a:ext cx="2760120" cy="108936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074360" y="4034880"/>
                <a:ext cx="1332360" cy="104040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074360" y="4034880"/>
                <a:ext cx="1332360" cy="10404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31520" y="4008960"/>
                <a:ext cx="24480" cy="108936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031520" y="4008960"/>
                <a:ext cx="24480" cy="108936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889960" y="4406040"/>
                <a:ext cx="245880" cy="367560"/>
              </a:xfrm>
              <a:custGeom>
                <a:avLst/>
                <a:gdLst/>
                <a:ahLst/>
                <a:rect l="l" t="t" r="r" b="b"/>
                <a:pathLst>
                  <a:path w="218" h="255">
                    <a:moveTo>
                      <a:pt x="218" y="109"/>
                    </a:moveTo>
                    <a:lnTo>
                      <a:pt x="217" y="123"/>
                    </a:lnTo>
                    <a:lnTo>
                      <a:pt x="216" y="137"/>
                    </a:lnTo>
                    <a:lnTo>
                      <a:pt x="214" y="149"/>
                    </a:lnTo>
                    <a:lnTo>
                      <a:pt x="211" y="163"/>
                    </a:lnTo>
                    <a:lnTo>
                      <a:pt x="207" y="176"/>
                    </a:lnTo>
                    <a:lnTo>
                      <a:pt x="203" y="187"/>
                    </a:lnTo>
                    <a:lnTo>
                      <a:pt x="197" y="199"/>
                    </a:lnTo>
                    <a:lnTo>
                      <a:pt x="191" y="210"/>
                    </a:lnTo>
                    <a:lnTo>
                      <a:pt x="183" y="220"/>
                    </a:lnTo>
                    <a:lnTo>
                      <a:pt x="176" y="229"/>
                    </a:lnTo>
                    <a:lnTo>
                      <a:pt x="167" y="237"/>
                    </a:lnTo>
                    <a:lnTo>
                      <a:pt x="162" y="239"/>
                    </a:lnTo>
                    <a:lnTo>
                      <a:pt x="157" y="243"/>
                    </a:lnTo>
                    <a:lnTo>
                      <a:pt x="152" y="245"/>
                    </a:lnTo>
                    <a:lnTo>
                      <a:pt x="145" y="248"/>
                    </a:lnTo>
                    <a:lnTo>
                      <a:pt x="140" y="250"/>
                    </a:lnTo>
                    <a:lnTo>
                      <a:pt x="134" y="252"/>
                    </a:lnTo>
                    <a:lnTo>
                      <a:pt x="129" y="253"/>
                    </a:lnTo>
                    <a:lnTo>
                      <a:pt x="123" y="254"/>
                    </a:lnTo>
                    <a:lnTo>
                      <a:pt x="115" y="255"/>
                    </a:lnTo>
                    <a:lnTo>
                      <a:pt x="109" y="255"/>
                    </a:lnTo>
                    <a:lnTo>
                      <a:pt x="103" y="255"/>
                    </a:lnTo>
                    <a:lnTo>
                      <a:pt x="97" y="254"/>
                    </a:lnTo>
                    <a:lnTo>
                      <a:pt x="90" y="253"/>
                    </a:lnTo>
                    <a:lnTo>
                      <a:pt x="84" y="252"/>
                    </a:lnTo>
                    <a:lnTo>
                      <a:pt x="78" y="250"/>
                    </a:lnTo>
                    <a:lnTo>
                      <a:pt x="73" y="248"/>
                    </a:lnTo>
                    <a:lnTo>
                      <a:pt x="67" y="245"/>
                    </a:lnTo>
                    <a:lnTo>
                      <a:pt x="62" y="243"/>
                    </a:lnTo>
                    <a:lnTo>
                      <a:pt x="57" y="239"/>
                    </a:lnTo>
                    <a:lnTo>
                      <a:pt x="52" y="237"/>
                    </a:lnTo>
                    <a:lnTo>
                      <a:pt x="43" y="229"/>
                    </a:lnTo>
                    <a:lnTo>
                      <a:pt x="35" y="220"/>
                    </a:lnTo>
                    <a:lnTo>
                      <a:pt x="28" y="210"/>
                    </a:lnTo>
                    <a:lnTo>
                      <a:pt x="21" y="199"/>
                    </a:lnTo>
                    <a:lnTo>
                      <a:pt x="15" y="187"/>
                    </a:lnTo>
                    <a:lnTo>
                      <a:pt x="11" y="176"/>
                    </a:lnTo>
                    <a:lnTo>
                      <a:pt x="8" y="163"/>
                    </a:lnTo>
                    <a:lnTo>
                      <a:pt x="4" y="149"/>
                    </a:lnTo>
                    <a:lnTo>
                      <a:pt x="3" y="137"/>
                    </a:lnTo>
                    <a:lnTo>
                      <a:pt x="1" y="123"/>
                    </a:lnTo>
                    <a:lnTo>
                      <a:pt x="0" y="109"/>
                    </a:lnTo>
                    <a:lnTo>
                      <a:pt x="1" y="96"/>
                    </a:lnTo>
                    <a:lnTo>
                      <a:pt x="3" y="84"/>
                    </a:lnTo>
                    <a:lnTo>
                      <a:pt x="4" y="72"/>
                    </a:lnTo>
                    <a:lnTo>
                      <a:pt x="8" y="61"/>
                    </a:lnTo>
                    <a:lnTo>
                      <a:pt x="11" y="52"/>
                    </a:lnTo>
                    <a:lnTo>
                      <a:pt x="15" y="43"/>
                    </a:lnTo>
                    <a:lnTo>
                      <a:pt x="21" y="35"/>
                    </a:lnTo>
                    <a:lnTo>
                      <a:pt x="28" y="27"/>
                    </a:lnTo>
                    <a:lnTo>
                      <a:pt x="35" y="21"/>
                    </a:lnTo>
                    <a:lnTo>
                      <a:pt x="43" y="16"/>
                    </a:lnTo>
                    <a:lnTo>
                      <a:pt x="52" y="11"/>
                    </a:lnTo>
                    <a:lnTo>
                      <a:pt x="62" y="7"/>
                    </a:lnTo>
                    <a:lnTo>
                      <a:pt x="73" y="4"/>
                    </a:lnTo>
                    <a:lnTo>
                      <a:pt x="84" y="2"/>
                    </a:lnTo>
                    <a:lnTo>
                      <a:pt x="97" y="0"/>
                    </a:lnTo>
                    <a:lnTo>
                      <a:pt x="109" y="0"/>
                    </a:lnTo>
                    <a:lnTo>
                      <a:pt x="123" y="0"/>
                    </a:lnTo>
                    <a:lnTo>
                      <a:pt x="134" y="2"/>
                    </a:lnTo>
                    <a:lnTo>
                      <a:pt x="145" y="4"/>
                    </a:lnTo>
                    <a:lnTo>
                      <a:pt x="157" y="7"/>
                    </a:lnTo>
                    <a:lnTo>
                      <a:pt x="167" y="11"/>
                    </a:lnTo>
                    <a:lnTo>
                      <a:pt x="176" y="16"/>
                    </a:lnTo>
                    <a:lnTo>
                      <a:pt x="183" y="21"/>
                    </a:lnTo>
                    <a:lnTo>
                      <a:pt x="191" y="27"/>
                    </a:lnTo>
                    <a:lnTo>
                      <a:pt x="197" y="35"/>
                    </a:lnTo>
                    <a:lnTo>
                      <a:pt x="203" y="43"/>
                    </a:lnTo>
                    <a:lnTo>
                      <a:pt x="207" y="52"/>
                    </a:lnTo>
                    <a:lnTo>
                      <a:pt x="211" y="61"/>
                    </a:lnTo>
                    <a:lnTo>
                      <a:pt x="214" y="72"/>
                    </a:lnTo>
                    <a:lnTo>
                      <a:pt x="216" y="84"/>
                    </a:lnTo>
                    <a:lnTo>
                      <a:pt x="217" y="96"/>
                    </a:lnTo>
                    <a:lnTo>
                      <a:pt x="218" y="109"/>
                    </a:lnTo>
                    <a:lnTo>
                      <a:pt x="218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85120" y="4406040"/>
                <a:ext cx="283680" cy="367560"/>
              </a:xfrm>
              <a:custGeom>
                <a:avLst/>
                <a:gdLst/>
                <a:ahLst/>
                <a:rect l="l" t="t" r="r" b="b"/>
                <a:pathLst>
                  <a:path w="253" h="255">
                    <a:moveTo>
                      <a:pt x="253" y="109"/>
                    </a:moveTo>
                    <a:lnTo>
                      <a:pt x="253" y="117"/>
                    </a:lnTo>
                    <a:lnTo>
                      <a:pt x="251" y="123"/>
                    </a:lnTo>
                    <a:lnTo>
                      <a:pt x="251" y="130"/>
                    </a:lnTo>
                    <a:lnTo>
                      <a:pt x="249" y="137"/>
                    </a:lnTo>
                    <a:lnTo>
                      <a:pt x="248" y="143"/>
                    </a:lnTo>
                    <a:lnTo>
                      <a:pt x="245" y="149"/>
                    </a:lnTo>
                    <a:lnTo>
                      <a:pt x="243" y="157"/>
                    </a:lnTo>
                    <a:lnTo>
                      <a:pt x="240" y="163"/>
                    </a:lnTo>
                    <a:lnTo>
                      <a:pt x="238" y="170"/>
                    </a:lnTo>
                    <a:lnTo>
                      <a:pt x="234" y="176"/>
                    </a:lnTo>
                    <a:lnTo>
                      <a:pt x="226" y="187"/>
                    </a:lnTo>
                    <a:lnTo>
                      <a:pt x="218" y="199"/>
                    </a:lnTo>
                    <a:lnTo>
                      <a:pt x="208" y="210"/>
                    </a:lnTo>
                    <a:lnTo>
                      <a:pt x="196" y="220"/>
                    </a:lnTo>
                    <a:lnTo>
                      <a:pt x="185" y="229"/>
                    </a:lnTo>
                    <a:lnTo>
                      <a:pt x="174" y="237"/>
                    </a:lnTo>
                    <a:lnTo>
                      <a:pt x="167" y="239"/>
                    </a:lnTo>
                    <a:lnTo>
                      <a:pt x="161" y="243"/>
                    </a:lnTo>
                    <a:lnTo>
                      <a:pt x="155" y="245"/>
                    </a:lnTo>
                    <a:lnTo>
                      <a:pt x="149" y="248"/>
                    </a:lnTo>
                    <a:lnTo>
                      <a:pt x="141" y="250"/>
                    </a:lnTo>
                    <a:lnTo>
                      <a:pt x="135" y="252"/>
                    </a:lnTo>
                    <a:lnTo>
                      <a:pt x="129" y="253"/>
                    </a:lnTo>
                    <a:lnTo>
                      <a:pt x="121" y="254"/>
                    </a:lnTo>
                    <a:lnTo>
                      <a:pt x="115" y="255"/>
                    </a:lnTo>
                    <a:lnTo>
                      <a:pt x="107" y="255"/>
                    </a:lnTo>
                    <a:lnTo>
                      <a:pt x="101" y="255"/>
                    </a:lnTo>
                    <a:lnTo>
                      <a:pt x="95" y="254"/>
                    </a:lnTo>
                    <a:lnTo>
                      <a:pt x="89" y="253"/>
                    </a:lnTo>
                    <a:lnTo>
                      <a:pt x="82" y="252"/>
                    </a:lnTo>
                    <a:lnTo>
                      <a:pt x="76" y="250"/>
                    </a:lnTo>
                    <a:lnTo>
                      <a:pt x="71" y="248"/>
                    </a:lnTo>
                    <a:lnTo>
                      <a:pt x="66" y="245"/>
                    </a:lnTo>
                    <a:lnTo>
                      <a:pt x="60" y="243"/>
                    </a:lnTo>
                    <a:lnTo>
                      <a:pt x="55" y="239"/>
                    </a:lnTo>
                    <a:lnTo>
                      <a:pt x="51" y="237"/>
                    </a:lnTo>
                    <a:lnTo>
                      <a:pt x="42" y="229"/>
                    </a:lnTo>
                    <a:lnTo>
                      <a:pt x="33" y="220"/>
                    </a:lnTo>
                    <a:lnTo>
                      <a:pt x="26" y="210"/>
                    </a:lnTo>
                    <a:lnTo>
                      <a:pt x="20" y="199"/>
                    </a:lnTo>
                    <a:lnTo>
                      <a:pt x="15" y="187"/>
                    </a:lnTo>
                    <a:lnTo>
                      <a:pt x="10" y="176"/>
                    </a:lnTo>
                    <a:lnTo>
                      <a:pt x="6" y="163"/>
                    </a:lnTo>
                    <a:lnTo>
                      <a:pt x="3" y="149"/>
                    </a:lnTo>
                    <a:lnTo>
                      <a:pt x="1" y="137"/>
                    </a:lnTo>
                    <a:lnTo>
                      <a:pt x="0" y="123"/>
                    </a:lnTo>
                    <a:lnTo>
                      <a:pt x="0" y="109"/>
                    </a:lnTo>
                    <a:lnTo>
                      <a:pt x="0" y="96"/>
                    </a:lnTo>
                    <a:lnTo>
                      <a:pt x="1" y="84"/>
                    </a:lnTo>
                    <a:lnTo>
                      <a:pt x="3" y="72"/>
                    </a:lnTo>
                    <a:lnTo>
                      <a:pt x="6" y="61"/>
                    </a:lnTo>
                    <a:lnTo>
                      <a:pt x="10" y="52"/>
                    </a:lnTo>
                    <a:lnTo>
                      <a:pt x="15" y="43"/>
                    </a:lnTo>
                    <a:lnTo>
                      <a:pt x="20" y="35"/>
                    </a:lnTo>
                    <a:lnTo>
                      <a:pt x="26" y="27"/>
                    </a:lnTo>
                    <a:lnTo>
                      <a:pt x="33" y="21"/>
                    </a:lnTo>
                    <a:lnTo>
                      <a:pt x="42" y="16"/>
                    </a:lnTo>
                    <a:lnTo>
                      <a:pt x="51" y="11"/>
                    </a:lnTo>
                    <a:lnTo>
                      <a:pt x="60" y="7"/>
                    </a:lnTo>
                    <a:lnTo>
                      <a:pt x="71" y="4"/>
                    </a:lnTo>
                    <a:lnTo>
                      <a:pt x="82" y="2"/>
                    </a:lnTo>
                    <a:lnTo>
                      <a:pt x="95" y="0"/>
                    </a:lnTo>
                    <a:lnTo>
                      <a:pt x="107" y="0"/>
                    </a:lnTo>
                    <a:lnTo>
                      <a:pt x="121" y="0"/>
                    </a:lnTo>
                    <a:lnTo>
                      <a:pt x="135" y="2"/>
                    </a:lnTo>
                    <a:lnTo>
                      <a:pt x="149" y="4"/>
                    </a:lnTo>
                    <a:lnTo>
                      <a:pt x="161" y="7"/>
                    </a:lnTo>
                    <a:lnTo>
                      <a:pt x="174" y="11"/>
                    </a:lnTo>
                    <a:lnTo>
                      <a:pt x="185" y="16"/>
                    </a:lnTo>
                    <a:lnTo>
                      <a:pt x="196" y="21"/>
                    </a:lnTo>
                    <a:lnTo>
                      <a:pt x="208" y="27"/>
                    </a:lnTo>
                    <a:lnTo>
                      <a:pt x="218" y="35"/>
                    </a:lnTo>
                    <a:lnTo>
                      <a:pt x="226" y="43"/>
                    </a:lnTo>
                    <a:lnTo>
                      <a:pt x="234" y="52"/>
                    </a:lnTo>
                    <a:lnTo>
                      <a:pt x="238" y="56"/>
                    </a:lnTo>
                    <a:lnTo>
                      <a:pt x="240" y="61"/>
                    </a:lnTo>
                    <a:lnTo>
                      <a:pt x="243" y="67"/>
                    </a:lnTo>
                    <a:lnTo>
                      <a:pt x="245" y="72"/>
                    </a:lnTo>
                    <a:lnTo>
                      <a:pt x="248" y="77"/>
                    </a:lnTo>
                    <a:lnTo>
                      <a:pt x="249" y="84"/>
                    </a:lnTo>
                    <a:lnTo>
                      <a:pt x="251" y="90"/>
                    </a:lnTo>
                    <a:lnTo>
                      <a:pt x="251" y="96"/>
                    </a:lnTo>
                    <a:lnTo>
                      <a:pt x="253" y="103"/>
                    </a:lnTo>
                    <a:lnTo>
                      <a:pt x="253" y="109"/>
                    </a:lnTo>
                    <a:lnTo>
                      <a:pt x="253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685120" y="4041000"/>
                <a:ext cx="1348200" cy="1046520"/>
              </a:xfrm>
              <a:custGeom>
                <a:avLst/>
                <a:gdLst/>
                <a:ahLst/>
                <a:rect l="l" t="t" r="r" b="b"/>
                <a:pathLst>
                  <a:path w="1195" h="729">
                    <a:moveTo>
                      <a:pt x="0" y="729"/>
                    </a:moveTo>
                    <a:lnTo>
                      <a:pt x="1195" y="729"/>
                    </a:lnTo>
                    <a:lnTo>
                      <a:pt x="1195" y="0"/>
                    </a:lnTo>
                    <a:lnTo>
                      <a:pt x="0" y="0"/>
                    </a:lnTo>
                    <a:lnTo>
                      <a:pt x="0" y="729"/>
                    </a:lnTo>
                    <a:lnTo>
                      <a:pt x="0" y="7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9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44440" y="3986280"/>
                <a:ext cx="1348200" cy="1049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44440" y="3986280"/>
                <a:ext cx="1348200" cy="104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"/>
              <p:cNvSpPr/>
              <p:nvPr/>
            </p:nvSpPr>
            <p:spPr>
              <a:xfrm>
                <a:off x="5854320" y="4374000"/>
                <a:ext cx="281520" cy="359280"/>
              </a:xfrm>
              <a:custGeom>
                <a:avLst/>
                <a:gdLst/>
                <a:ahLst/>
                <a:rect l="l" t="t" r="r" b="b"/>
                <a:pathLst>
                  <a:path w="249" h="249">
                    <a:moveTo>
                      <a:pt x="249" y="126"/>
                    </a:moveTo>
                    <a:lnTo>
                      <a:pt x="249" y="133"/>
                    </a:lnTo>
                    <a:lnTo>
                      <a:pt x="248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3" y="163"/>
                    </a:lnTo>
                    <a:lnTo>
                      <a:pt x="239" y="174"/>
                    </a:lnTo>
                    <a:lnTo>
                      <a:pt x="234" y="184"/>
                    </a:lnTo>
                    <a:lnTo>
                      <a:pt x="228" y="194"/>
                    </a:lnTo>
                    <a:lnTo>
                      <a:pt x="220" y="204"/>
                    </a:lnTo>
                    <a:lnTo>
                      <a:pt x="212" y="213"/>
                    </a:lnTo>
                    <a:lnTo>
                      <a:pt x="203" y="221"/>
                    </a:lnTo>
                    <a:lnTo>
                      <a:pt x="194" y="228"/>
                    </a:lnTo>
                    <a:lnTo>
                      <a:pt x="183" y="235"/>
                    </a:lnTo>
                    <a:lnTo>
                      <a:pt x="173" y="240"/>
                    </a:lnTo>
                    <a:lnTo>
                      <a:pt x="161" y="244"/>
                    </a:lnTo>
                    <a:lnTo>
                      <a:pt x="149" y="246"/>
                    </a:lnTo>
                    <a:lnTo>
                      <a:pt x="136" y="249"/>
                    </a:lnTo>
                    <a:lnTo>
                      <a:pt x="130" y="249"/>
                    </a:lnTo>
                    <a:lnTo>
                      <a:pt x="124" y="249"/>
                    </a:lnTo>
                    <a:lnTo>
                      <a:pt x="118" y="249"/>
                    </a:lnTo>
                    <a:lnTo>
                      <a:pt x="111" y="249"/>
                    </a:lnTo>
                    <a:lnTo>
                      <a:pt x="100" y="246"/>
                    </a:lnTo>
                    <a:lnTo>
                      <a:pt x="88" y="244"/>
                    </a:lnTo>
                    <a:lnTo>
                      <a:pt x="76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6" y="213"/>
                    </a:lnTo>
                    <a:lnTo>
                      <a:pt x="29" y="204"/>
                    </a:lnTo>
                    <a:lnTo>
                      <a:pt x="21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5" y="163"/>
                    </a:lnTo>
                    <a:lnTo>
                      <a:pt x="2" y="150"/>
                    </a:lnTo>
                    <a:lnTo>
                      <a:pt x="1" y="145"/>
                    </a:lnTo>
                    <a:lnTo>
                      <a:pt x="0" y="139"/>
                    </a:lnTo>
                    <a:lnTo>
                      <a:pt x="0" y="133"/>
                    </a:lnTo>
                    <a:lnTo>
                      <a:pt x="0" y="126"/>
                    </a:lnTo>
                    <a:lnTo>
                      <a:pt x="0" y="120"/>
                    </a:lnTo>
                    <a:lnTo>
                      <a:pt x="0" y="112"/>
                    </a:lnTo>
                    <a:lnTo>
                      <a:pt x="1" y="106"/>
                    </a:lnTo>
                    <a:lnTo>
                      <a:pt x="2" y="100"/>
                    </a:lnTo>
                    <a:lnTo>
                      <a:pt x="6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1" y="56"/>
                    </a:lnTo>
                    <a:lnTo>
                      <a:pt x="29" y="45"/>
                    </a:lnTo>
                    <a:lnTo>
                      <a:pt x="36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6" y="10"/>
                    </a:lnTo>
                    <a:lnTo>
                      <a:pt x="88" y="6"/>
                    </a:lnTo>
                    <a:lnTo>
                      <a:pt x="100" y="2"/>
                    </a:lnTo>
                    <a:lnTo>
                      <a:pt x="111" y="1"/>
                    </a:lnTo>
                    <a:lnTo>
                      <a:pt x="118" y="1"/>
                    </a:lnTo>
                    <a:lnTo>
                      <a:pt x="124" y="0"/>
                    </a:lnTo>
                    <a:lnTo>
                      <a:pt x="130" y="1"/>
                    </a:lnTo>
                    <a:lnTo>
                      <a:pt x="136" y="1"/>
                    </a:lnTo>
                    <a:lnTo>
                      <a:pt x="149" y="2"/>
                    </a:lnTo>
                    <a:lnTo>
                      <a:pt x="161" y="6"/>
                    </a:lnTo>
                    <a:lnTo>
                      <a:pt x="173" y="10"/>
                    </a:lnTo>
                    <a:lnTo>
                      <a:pt x="183" y="15"/>
                    </a:lnTo>
                    <a:lnTo>
                      <a:pt x="194" y="21"/>
                    </a:lnTo>
                    <a:lnTo>
                      <a:pt x="203" y="29"/>
                    </a:lnTo>
                    <a:lnTo>
                      <a:pt x="212" y="37"/>
                    </a:lnTo>
                    <a:lnTo>
                      <a:pt x="220" y="45"/>
                    </a:lnTo>
                    <a:lnTo>
                      <a:pt x="228" y="56"/>
                    </a:lnTo>
                    <a:lnTo>
                      <a:pt x="234" y="66"/>
                    </a:lnTo>
                    <a:lnTo>
                      <a:pt x="239" y="77"/>
                    </a:lnTo>
                    <a:lnTo>
                      <a:pt x="243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48" y="112"/>
                    </a:lnTo>
                    <a:lnTo>
                      <a:pt x="249" y="120"/>
                    </a:lnTo>
                    <a:lnTo>
                      <a:pt x="249" y="126"/>
                    </a:lnTo>
                    <a:lnTo>
                      <a:pt x="249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559920" y="4374000"/>
                <a:ext cx="281520" cy="359280"/>
              </a:xfrm>
              <a:custGeom>
                <a:avLst/>
                <a:gdLst/>
                <a:ahLst/>
                <a:rect l="l" t="t" r="r" b="b"/>
                <a:pathLst>
                  <a:path w="250" h="249">
                    <a:moveTo>
                      <a:pt x="250" y="126"/>
                    </a:moveTo>
                    <a:lnTo>
                      <a:pt x="250" y="133"/>
                    </a:lnTo>
                    <a:lnTo>
                      <a:pt x="250" y="139"/>
                    </a:lnTo>
                    <a:lnTo>
                      <a:pt x="248" y="145"/>
                    </a:lnTo>
                    <a:lnTo>
                      <a:pt x="247" y="150"/>
                    </a:lnTo>
                    <a:lnTo>
                      <a:pt x="245" y="163"/>
                    </a:lnTo>
                    <a:lnTo>
                      <a:pt x="240" y="174"/>
                    </a:lnTo>
                    <a:lnTo>
                      <a:pt x="235" y="184"/>
                    </a:lnTo>
                    <a:lnTo>
                      <a:pt x="228" y="194"/>
                    </a:lnTo>
                    <a:lnTo>
                      <a:pt x="221" y="204"/>
                    </a:lnTo>
                    <a:lnTo>
                      <a:pt x="213" y="213"/>
                    </a:lnTo>
                    <a:lnTo>
                      <a:pt x="205" y="221"/>
                    </a:lnTo>
                    <a:lnTo>
                      <a:pt x="195" y="228"/>
                    </a:lnTo>
                    <a:lnTo>
                      <a:pt x="184" y="235"/>
                    </a:lnTo>
                    <a:lnTo>
                      <a:pt x="173" y="240"/>
                    </a:lnTo>
                    <a:lnTo>
                      <a:pt x="162" y="244"/>
                    </a:lnTo>
                    <a:lnTo>
                      <a:pt x="151" y="246"/>
                    </a:lnTo>
                    <a:lnTo>
                      <a:pt x="138" y="249"/>
                    </a:lnTo>
                    <a:lnTo>
                      <a:pt x="132" y="249"/>
                    </a:lnTo>
                    <a:lnTo>
                      <a:pt x="126" y="249"/>
                    </a:lnTo>
                    <a:lnTo>
                      <a:pt x="119" y="249"/>
                    </a:lnTo>
                    <a:lnTo>
                      <a:pt x="112" y="249"/>
                    </a:lnTo>
                    <a:lnTo>
                      <a:pt x="99" y="246"/>
                    </a:lnTo>
                    <a:lnTo>
                      <a:pt x="88" y="244"/>
                    </a:lnTo>
                    <a:lnTo>
                      <a:pt x="77" y="240"/>
                    </a:lnTo>
                    <a:lnTo>
                      <a:pt x="65" y="235"/>
                    </a:lnTo>
                    <a:lnTo>
                      <a:pt x="55" y="228"/>
                    </a:lnTo>
                    <a:lnTo>
                      <a:pt x="45" y="221"/>
                    </a:lnTo>
                    <a:lnTo>
                      <a:pt x="37" y="213"/>
                    </a:lnTo>
                    <a:lnTo>
                      <a:pt x="29" y="204"/>
                    </a:lnTo>
                    <a:lnTo>
                      <a:pt x="22" y="194"/>
                    </a:lnTo>
                    <a:lnTo>
                      <a:pt x="15" y="184"/>
                    </a:lnTo>
                    <a:lnTo>
                      <a:pt x="10" y="174"/>
                    </a:lnTo>
                    <a:lnTo>
                      <a:pt x="7" y="163"/>
                    </a:lnTo>
                    <a:lnTo>
                      <a:pt x="3" y="150"/>
                    </a:lnTo>
                    <a:lnTo>
                      <a:pt x="2" y="139"/>
                    </a:lnTo>
                    <a:lnTo>
                      <a:pt x="2" y="133"/>
                    </a:lnTo>
                    <a:lnTo>
                      <a:pt x="0" y="126"/>
                    </a:lnTo>
                    <a:lnTo>
                      <a:pt x="2" y="120"/>
                    </a:lnTo>
                    <a:lnTo>
                      <a:pt x="2" y="112"/>
                    </a:lnTo>
                    <a:lnTo>
                      <a:pt x="3" y="100"/>
                    </a:lnTo>
                    <a:lnTo>
                      <a:pt x="7" y="88"/>
                    </a:lnTo>
                    <a:lnTo>
                      <a:pt x="10" y="77"/>
                    </a:lnTo>
                    <a:lnTo>
                      <a:pt x="15" y="66"/>
                    </a:lnTo>
                    <a:lnTo>
                      <a:pt x="22" y="56"/>
                    </a:lnTo>
                    <a:lnTo>
                      <a:pt x="29" y="45"/>
                    </a:lnTo>
                    <a:lnTo>
                      <a:pt x="37" y="37"/>
                    </a:lnTo>
                    <a:lnTo>
                      <a:pt x="45" y="29"/>
                    </a:lnTo>
                    <a:lnTo>
                      <a:pt x="55" y="21"/>
                    </a:lnTo>
                    <a:lnTo>
                      <a:pt x="65" y="15"/>
                    </a:lnTo>
                    <a:lnTo>
                      <a:pt x="77" y="10"/>
                    </a:lnTo>
                    <a:lnTo>
                      <a:pt x="88" y="6"/>
                    </a:lnTo>
                    <a:lnTo>
                      <a:pt x="99" y="2"/>
                    </a:lnTo>
                    <a:lnTo>
                      <a:pt x="112" y="1"/>
                    </a:lnTo>
                    <a:lnTo>
                      <a:pt x="119" y="1"/>
                    </a:lnTo>
                    <a:lnTo>
                      <a:pt x="126" y="0"/>
                    </a:lnTo>
                    <a:lnTo>
                      <a:pt x="132" y="1"/>
                    </a:lnTo>
                    <a:lnTo>
                      <a:pt x="138" y="1"/>
                    </a:lnTo>
                    <a:lnTo>
                      <a:pt x="151" y="2"/>
                    </a:lnTo>
                    <a:lnTo>
                      <a:pt x="162" y="6"/>
                    </a:lnTo>
                    <a:lnTo>
                      <a:pt x="173" y="10"/>
                    </a:lnTo>
                    <a:lnTo>
                      <a:pt x="184" y="15"/>
                    </a:lnTo>
                    <a:lnTo>
                      <a:pt x="195" y="21"/>
                    </a:lnTo>
                    <a:lnTo>
                      <a:pt x="205" y="29"/>
                    </a:lnTo>
                    <a:lnTo>
                      <a:pt x="213" y="37"/>
                    </a:lnTo>
                    <a:lnTo>
                      <a:pt x="221" y="45"/>
                    </a:lnTo>
                    <a:lnTo>
                      <a:pt x="228" y="56"/>
                    </a:lnTo>
                    <a:lnTo>
                      <a:pt x="235" y="66"/>
                    </a:lnTo>
                    <a:lnTo>
                      <a:pt x="240" y="77"/>
                    </a:lnTo>
                    <a:lnTo>
                      <a:pt x="245" y="88"/>
                    </a:lnTo>
                    <a:lnTo>
                      <a:pt x="247" y="100"/>
                    </a:lnTo>
                    <a:lnTo>
                      <a:pt x="248" y="106"/>
                    </a:lnTo>
                    <a:lnTo>
                      <a:pt x="250" y="112"/>
                    </a:lnTo>
                    <a:lnTo>
                      <a:pt x="250" y="120"/>
                    </a:lnTo>
                    <a:lnTo>
                      <a:pt x="250" y="126"/>
                    </a:lnTo>
                    <a:lnTo>
                      <a:pt x="250" y="12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680440" y="4034880"/>
                <a:ext cx="1332360" cy="10404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887840" y="4353840"/>
                <a:ext cx="40680" cy="115344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928520" y="4353840"/>
                <a:ext cx="40320" cy="115344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968840" y="4353840"/>
                <a:ext cx="40320" cy="115344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910160" y="4385880"/>
                <a:ext cx="108360" cy="1132560"/>
              </a:xfrm>
              <a:custGeom>
                <a:avLst/>
                <a:gdLst/>
                <a:ahLst/>
                <a:rect l="l" t="t" r="r" b="b"/>
                <a:pathLst>
                  <a:path w="95" h="786">
                    <a:moveTo>
                      <a:pt x="90" y="786"/>
                    </a:moveTo>
                    <a:lnTo>
                      <a:pt x="4" y="786"/>
                    </a:lnTo>
                    <a:lnTo>
                      <a:pt x="2" y="785"/>
                    </a:lnTo>
                    <a:lnTo>
                      <a:pt x="1" y="784"/>
                    </a:lnTo>
                    <a:lnTo>
                      <a:pt x="0" y="782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779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0" y="0"/>
                    </a:lnTo>
                    <a:lnTo>
                      <a:pt x="91" y="0"/>
                    </a:lnTo>
                    <a:lnTo>
                      <a:pt x="93" y="1"/>
                    </a:lnTo>
                    <a:lnTo>
                      <a:pt x="94" y="2"/>
                    </a:lnTo>
                    <a:lnTo>
                      <a:pt x="95" y="3"/>
                    </a:lnTo>
                    <a:lnTo>
                      <a:pt x="95" y="3"/>
                    </a:lnTo>
                    <a:lnTo>
                      <a:pt x="95" y="779"/>
                    </a:lnTo>
                    <a:lnTo>
                      <a:pt x="94" y="782"/>
                    </a:lnTo>
                    <a:lnTo>
                      <a:pt x="93" y="784"/>
                    </a:lnTo>
                    <a:lnTo>
                      <a:pt x="91" y="785"/>
                    </a:lnTo>
                    <a:lnTo>
                      <a:pt x="90" y="78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367720" y="5334480"/>
                <a:ext cx="1389240" cy="155160"/>
              </a:xfrm>
              <a:custGeom>
                <a:avLst/>
                <a:gdLst/>
                <a:ahLst/>
                <a:rect l="l" t="t" r="r" b="b"/>
                <a:pathLst>
                  <a:path w="1231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77" y="0"/>
                    </a:moveTo>
                    <a:lnTo>
                      <a:pt x="1077" y="104"/>
                    </a:lnTo>
                    <a:lnTo>
                      <a:pt x="1077" y="106"/>
                    </a:lnTo>
                    <a:lnTo>
                      <a:pt x="1077" y="107"/>
                    </a:lnTo>
                    <a:lnTo>
                      <a:pt x="1078" y="108"/>
                    </a:lnTo>
                    <a:lnTo>
                      <a:pt x="1080" y="108"/>
                    </a:lnTo>
                    <a:lnTo>
                      <a:pt x="1080" y="108"/>
                    </a:lnTo>
                    <a:lnTo>
                      <a:pt x="1229" y="108"/>
                    </a:lnTo>
                    <a:lnTo>
                      <a:pt x="1229" y="108"/>
                    </a:lnTo>
                    <a:lnTo>
                      <a:pt x="1230" y="107"/>
                    </a:lnTo>
                    <a:lnTo>
                      <a:pt x="1231" y="106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104"/>
                    </a:lnTo>
                    <a:lnTo>
                      <a:pt x="1231" y="0"/>
                    </a:lnTo>
                    <a:lnTo>
                      <a:pt x="1077" y="0"/>
                    </a:lnTo>
                    <a:lnTo>
                      <a:pt x="1077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367720" y="5334480"/>
                <a:ext cx="173520" cy="1551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2" y="108"/>
                    </a:lnTo>
                    <a:lnTo>
                      <a:pt x="2" y="108"/>
                    </a:lnTo>
                    <a:lnTo>
                      <a:pt x="151" y="108"/>
                    </a:lnTo>
                    <a:lnTo>
                      <a:pt x="151" y="108"/>
                    </a:lnTo>
                    <a:lnTo>
                      <a:pt x="152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583440" y="5334480"/>
                <a:ext cx="173520" cy="155160"/>
              </a:xfrm>
              <a:custGeom>
                <a:avLst/>
                <a:gdLst/>
                <a:ahLst/>
                <a:rect l="l" t="t" r="r" b="b"/>
                <a:pathLst>
                  <a:path w="154" h="108">
                    <a:moveTo>
                      <a:pt x="0" y="0"/>
                    </a:moveTo>
                    <a:lnTo>
                      <a:pt x="0" y="104"/>
                    </a:lnTo>
                    <a:lnTo>
                      <a:pt x="0" y="106"/>
                    </a:lnTo>
                    <a:lnTo>
                      <a:pt x="0" y="107"/>
                    </a:lnTo>
                    <a:lnTo>
                      <a:pt x="1" y="108"/>
                    </a:lnTo>
                    <a:lnTo>
                      <a:pt x="3" y="108"/>
                    </a:lnTo>
                    <a:lnTo>
                      <a:pt x="3" y="108"/>
                    </a:lnTo>
                    <a:lnTo>
                      <a:pt x="152" y="108"/>
                    </a:lnTo>
                    <a:lnTo>
                      <a:pt x="152" y="108"/>
                    </a:lnTo>
                    <a:lnTo>
                      <a:pt x="153" y="107"/>
                    </a:lnTo>
                    <a:lnTo>
                      <a:pt x="154" y="106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104"/>
                    </a:lnTo>
                    <a:lnTo>
                      <a:pt x="15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411080" y="4014720"/>
                <a:ext cx="689760" cy="859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411080" y="4014720"/>
                <a:ext cx="689760" cy="85932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417920" y="4480200"/>
                <a:ext cx="681120" cy="39384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17920" y="4480200"/>
                <a:ext cx="681120" cy="393840"/>
              </a:xfrm>
              <a:custGeom>
                <a:avLst/>
                <a:gdLst/>
                <a:ahLst/>
                <a:rect l="l" t="t" r="r" b="b"/>
                <a:pathLst>
                  <a:path w="604" h="274">
                    <a:moveTo>
                      <a:pt x="604" y="274"/>
                    </a:moveTo>
                    <a:lnTo>
                      <a:pt x="604" y="19"/>
                    </a:lnTo>
                    <a:lnTo>
                      <a:pt x="604" y="15"/>
                    </a:lnTo>
                    <a:lnTo>
                      <a:pt x="602" y="12"/>
                    </a:lnTo>
                    <a:lnTo>
                      <a:pt x="601" y="9"/>
                    </a:lnTo>
                    <a:lnTo>
                      <a:pt x="598" y="7"/>
                    </a:lnTo>
                    <a:lnTo>
                      <a:pt x="596" y="4"/>
                    </a:lnTo>
                    <a:lnTo>
                      <a:pt x="592" y="1"/>
                    </a:lnTo>
                    <a:lnTo>
                      <a:pt x="588" y="1"/>
                    </a:lnTo>
                    <a:lnTo>
                      <a:pt x="586" y="0"/>
                    </a:lnTo>
                    <a:lnTo>
                      <a:pt x="586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8" y="1"/>
                    </a:lnTo>
                    <a:lnTo>
                      <a:pt x="6" y="4"/>
                    </a:lnTo>
                    <a:lnTo>
                      <a:pt x="3" y="7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74"/>
                    </a:lnTo>
                    <a:lnTo>
                      <a:pt x="604" y="274"/>
                    </a:lnTo>
                    <a:lnTo>
                      <a:pt x="604" y="27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2363760" y="4011480"/>
                <a:ext cx="3197160" cy="1524240"/>
              </a:xfrm>
              <a:custGeom>
                <a:avLst/>
                <a:gdLst/>
                <a:ahLst/>
                <a:rect l="l" t="t" r="r" b="b"/>
                <a:pathLst>
                  <a:path w="2835" h="1060">
                    <a:moveTo>
                      <a:pt x="175" y="1060"/>
                    </a:moveTo>
                    <a:lnTo>
                      <a:pt x="326" y="1060"/>
                    </a:lnTo>
                    <a:lnTo>
                      <a:pt x="327" y="1060"/>
                    </a:lnTo>
                    <a:lnTo>
                      <a:pt x="327" y="1058"/>
                    </a:lnTo>
                    <a:lnTo>
                      <a:pt x="327" y="1057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1056"/>
                    </a:lnTo>
                    <a:lnTo>
                      <a:pt x="327" y="978"/>
                    </a:lnTo>
                    <a:lnTo>
                      <a:pt x="327" y="976"/>
                    </a:lnTo>
                    <a:lnTo>
                      <a:pt x="327" y="975"/>
                    </a:lnTo>
                    <a:lnTo>
                      <a:pt x="327" y="974"/>
                    </a:lnTo>
                    <a:lnTo>
                      <a:pt x="326" y="974"/>
                    </a:lnTo>
                    <a:lnTo>
                      <a:pt x="175" y="974"/>
                    </a:lnTo>
                    <a:lnTo>
                      <a:pt x="175" y="974"/>
                    </a:lnTo>
                    <a:lnTo>
                      <a:pt x="175" y="975"/>
                    </a:lnTo>
                    <a:lnTo>
                      <a:pt x="174" y="976"/>
                    </a:lnTo>
                    <a:lnTo>
                      <a:pt x="174" y="978"/>
                    </a:lnTo>
                    <a:lnTo>
                      <a:pt x="174" y="978"/>
                    </a:lnTo>
                    <a:lnTo>
                      <a:pt x="174" y="1056"/>
                    </a:lnTo>
                    <a:lnTo>
                      <a:pt x="174" y="1057"/>
                    </a:lnTo>
                    <a:lnTo>
                      <a:pt x="175" y="1058"/>
                    </a:lnTo>
                    <a:lnTo>
                      <a:pt x="175" y="1060"/>
                    </a:lnTo>
                    <a:lnTo>
                      <a:pt x="175" y="1060"/>
                    </a:lnTo>
                    <a:lnTo>
                      <a:pt x="175" y="1060"/>
                    </a:lnTo>
                    <a:close/>
                    <a:moveTo>
                      <a:pt x="362" y="1060"/>
                    </a:moveTo>
                    <a:lnTo>
                      <a:pt x="508" y="1060"/>
                    </a:lnTo>
                    <a:lnTo>
                      <a:pt x="510" y="1060"/>
                    </a:lnTo>
                    <a:lnTo>
                      <a:pt x="511" y="1058"/>
                    </a:lnTo>
                    <a:lnTo>
                      <a:pt x="512" y="1057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1056"/>
                    </a:lnTo>
                    <a:lnTo>
                      <a:pt x="514" y="978"/>
                    </a:lnTo>
                    <a:lnTo>
                      <a:pt x="512" y="976"/>
                    </a:lnTo>
                    <a:lnTo>
                      <a:pt x="511" y="975"/>
                    </a:lnTo>
                    <a:lnTo>
                      <a:pt x="510" y="974"/>
                    </a:lnTo>
                    <a:lnTo>
                      <a:pt x="508" y="974"/>
                    </a:lnTo>
                    <a:lnTo>
                      <a:pt x="362" y="974"/>
                    </a:lnTo>
                    <a:lnTo>
                      <a:pt x="359" y="974"/>
                    </a:lnTo>
                    <a:lnTo>
                      <a:pt x="358" y="975"/>
                    </a:lnTo>
                    <a:lnTo>
                      <a:pt x="357" y="976"/>
                    </a:lnTo>
                    <a:lnTo>
                      <a:pt x="357" y="978"/>
                    </a:lnTo>
                    <a:lnTo>
                      <a:pt x="357" y="978"/>
                    </a:lnTo>
                    <a:lnTo>
                      <a:pt x="357" y="1056"/>
                    </a:lnTo>
                    <a:lnTo>
                      <a:pt x="357" y="1057"/>
                    </a:lnTo>
                    <a:lnTo>
                      <a:pt x="358" y="1058"/>
                    </a:lnTo>
                    <a:lnTo>
                      <a:pt x="359" y="1060"/>
                    </a:lnTo>
                    <a:lnTo>
                      <a:pt x="362" y="1060"/>
                    </a:lnTo>
                    <a:lnTo>
                      <a:pt x="362" y="1060"/>
                    </a:lnTo>
                    <a:close/>
                    <a:moveTo>
                      <a:pt x="545" y="1060"/>
                    </a:moveTo>
                    <a:lnTo>
                      <a:pt x="694" y="1060"/>
                    </a:lnTo>
                    <a:lnTo>
                      <a:pt x="694" y="1060"/>
                    </a:lnTo>
                    <a:lnTo>
                      <a:pt x="695" y="1058"/>
                    </a:lnTo>
                    <a:lnTo>
                      <a:pt x="696" y="1057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1056"/>
                    </a:lnTo>
                    <a:lnTo>
                      <a:pt x="696" y="978"/>
                    </a:lnTo>
                    <a:lnTo>
                      <a:pt x="696" y="976"/>
                    </a:lnTo>
                    <a:lnTo>
                      <a:pt x="695" y="975"/>
                    </a:lnTo>
                    <a:lnTo>
                      <a:pt x="694" y="974"/>
                    </a:lnTo>
                    <a:lnTo>
                      <a:pt x="694" y="974"/>
                    </a:lnTo>
                    <a:lnTo>
                      <a:pt x="545" y="974"/>
                    </a:lnTo>
                    <a:lnTo>
                      <a:pt x="544" y="974"/>
                    </a:lnTo>
                    <a:lnTo>
                      <a:pt x="542" y="975"/>
                    </a:lnTo>
                    <a:lnTo>
                      <a:pt x="542" y="976"/>
                    </a:lnTo>
                    <a:lnTo>
                      <a:pt x="542" y="978"/>
                    </a:lnTo>
                    <a:lnTo>
                      <a:pt x="542" y="978"/>
                    </a:lnTo>
                    <a:lnTo>
                      <a:pt x="542" y="1056"/>
                    </a:lnTo>
                    <a:lnTo>
                      <a:pt x="542" y="1057"/>
                    </a:lnTo>
                    <a:lnTo>
                      <a:pt x="542" y="1058"/>
                    </a:lnTo>
                    <a:lnTo>
                      <a:pt x="544" y="1060"/>
                    </a:lnTo>
                    <a:lnTo>
                      <a:pt x="545" y="1060"/>
                    </a:lnTo>
                    <a:lnTo>
                      <a:pt x="545" y="1060"/>
                    </a:lnTo>
                    <a:close/>
                    <a:moveTo>
                      <a:pt x="730" y="1060"/>
                    </a:moveTo>
                    <a:lnTo>
                      <a:pt x="877" y="1060"/>
                    </a:lnTo>
                    <a:lnTo>
                      <a:pt x="879" y="1060"/>
                    </a:lnTo>
                    <a:lnTo>
                      <a:pt x="881" y="1058"/>
                    </a:lnTo>
                    <a:lnTo>
                      <a:pt x="882" y="1057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1056"/>
                    </a:lnTo>
                    <a:lnTo>
                      <a:pt x="882" y="978"/>
                    </a:lnTo>
                    <a:lnTo>
                      <a:pt x="882" y="976"/>
                    </a:lnTo>
                    <a:lnTo>
                      <a:pt x="881" y="975"/>
                    </a:lnTo>
                    <a:lnTo>
                      <a:pt x="879" y="974"/>
                    </a:lnTo>
                    <a:lnTo>
                      <a:pt x="877" y="974"/>
                    </a:lnTo>
                    <a:lnTo>
                      <a:pt x="730" y="974"/>
                    </a:lnTo>
                    <a:lnTo>
                      <a:pt x="729" y="974"/>
                    </a:lnTo>
                    <a:lnTo>
                      <a:pt x="728" y="975"/>
                    </a:lnTo>
                    <a:lnTo>
                      <a:pt x="727" y="976"/>
                    </a:lnTo>
                    <a:lnTo>
                      <a:pt x="725" y="978"/>
                    </a:lnTo>
                    <a:lnTo>
                      <a:pt x="725" y="978"/>
                    </a:lnTo>
                    <a:lnTo>
                      <a:pt x="725" y="1056"/>
                    </a:lnTo>
                    <a:lnTo>
                      <a:pt x="727" y="1057"/>
                    </a:lnTo>
                    <a:lnTo>
                      <a:pt x="728" y="1058"/>
                    </a:lnTo>
                    <a:lnTo>
                      <a:pt x="729" y="1060"/>
                    </a:lnTo>
                    <a:lnTo>
                      <a:pt x="730" y="1060"/>
                    </a:lnTo>
                    <a:lnTo>
                      <a:pt x="730" y="1060"/>
                    </a:lnTo>
                    <a:close/>
                    <a:moveTo>
                      <a:pt x="913" y="1060"/>
                    </a:moveTo>
                    <a:lnTo>
                      <a:pt x="1061" y="1060"/>
                    </a:lnTo>
                    <a:lnTo>
                      <a:pt x="1062" y="1060"/>
                    </a:lnTo>
                    <a:lnTo>
                      <a:pt x="1064" y="1058"/>
                    </a:lnTo>
                    <a:lnTo>
                      <a:pt x="1065" y="1057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1056"/>
                    </a:lnTo>
                    <a:lnTo>
                      <a:pt x="1065" y="978"/>
                    </a:lnTo>
                    <a:lnTo>
                      <a:pt x="1065" y="976"/>
                    </a:lnTo>
                    <a:lnTo>
                      <a:pt x="1064" y="975"/>
                    </a:lnTo>
                    <a:lnTo>
                      <a:pt x="1062" y="974"/>
                    </a:lnTo>
                    <a:lnTo>
                      <a:pt x="1061" y="974"/>
                    </a:lnTo>
                    <a:lnTo>
                      <a:pt x="1061" y="974"/>
                    </a:lnTo>
                    <a:lnTo>
                      <a:pt x="913" y="974"/>
                    </a:lnTo>
                    <a:lnTo>
                      <a:pt x="912" y="974"/>
                    </a:lnTo>
                    <a:lnTo>
                      <a:pt x="912" y="975"/>
                    </a:lnTo>
                    <a:lnTo>
                      <a:pt x="912" y="976"/>
                    </a:lnTo>
                    <a:lnTo>
                      <a:pt x="912" y="978"/>
                    </a:lnTo>
                    <a:lnTo>
                      <a:pt x="912" y="978"/>
                    </a:lnTo>
                    <a:lnTo>
                      <a:pt x="912" y="1056"/>
                    </a:lnTo>
                    <a:lnTo>
                      <a:pt x="912" y="1057"/>
                    </a:lnTo>
                    <a:lnTo>
                      <a:pt x="912" y="1058"/>
                    </a:lnTo>
                    <a:lnTo>
                      <a:pt x="912" y="1060"/>
                    </a:lnTo>
                    <a:lnTo>
                      <a:pt x="913" y="1060"/>
                    </a:lnTo>
                    <a:lnTo>
                      <a:pt x="913" y="1060"/>
                    </a:lnTo>
                    <a:close/>
                    <a:moveTo>
                      <a:pt x="4" y="643"/>
                    </a:moveTo>
                    <a:lnTo>
                      <a:pt x="151" y="643"/>
                    </a:lnTo>
                    <a:lnTo>
                      <a:pt x="153" y="643"/>
                    </a:lnTo>
                    <a:lnTo>
                      <a:pt x="154" y="643"/>
                    </a:lnTo>
                    <a:lnTo>
                      <a:pt x="155" y="642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641"/>
                    </a:lnTo>
                    <a:lnTo>
                      <a:pt x="155" y="581"/>
                    </a:lnTo>
                    <a:lnTo>
                      <a:pt x="155" y="581"/>
                    </a:lnTo>
                    <a:lnTo>
                      <a:pt x="154" y="580"/>
                    </a:lnTo>
                    <a:lnTo>
                      <a:pt x="153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151" y="580"/>
                    </a:lnTo>
                    <a:lnTo>
                      <a:pt x="4" y="580"/>
                    </a:lnTo>
                    <a:lnTo>
                      <a:pt x="2" y="580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641"/>
                    </a:lnTo>
                    <a:lnTo>
                      <a:pt x="0" y="642"/>
                    </a:lnTo>
                    <a:lnTo>
                      <a:pt x="1" y="643"/>
                    </a:lnTo>
                    <a:lnTo>
                      <a:pt x="2" y="643"/>
                    </a:lnTo>
                    <a:lnTo>
                      <a:pt x="4" y="643"/>
                    </a:lnTo>
                    <a:lnTo>
                      <a:pt x="4" y="643"/>
                    </a:lnTo>
                    <a:close/>
                    <a:moveTo>
                      <a:pt x="352" y="643"/>
                    </a:moveTo>
                    <a:lnTo>
                      <a:pt x="466" y="643"/>
                    </a:lnTo>
                    <a:lnTo>
                      <a:pt x="467" y="643"/>
                    </a:lnTo>
                    <a:lnTo>
                      <a:pt x="468" y="643"/>
                    </a:lnTo>
                    <a:lnTo>
                      <a:pt x="470" y="642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641"/>
                    </a:lnTo>
                    <a:lnTo>
                      <a:pt x="470" y="581"/>
                    </a:lnTo>
                    <a:lnTo>
                      <a:pt x="470" y="581"/>
                    </a:lnTo>
                    <a:lnTo>
                      <a:pt x="468" y="580"/>
                    </a:lnTo>
                    <a:lnTo>
                      <a:pt x="467" y="580"/>
                    </a:lnTo>
                    <a:lnTo>
                      <a:pt x="466" y="580"/>
                    </a:lnTo>
                    <a:lnTo>
                      <a:pt x="466" y="580"/>
                    </a:lnTo>
                    <a:lnTo>
                      <a:pt x="352" y="580"/>
                    </a:lnTo>
                    <a:lnTo>
                      <a:pt x="351" y="580"/>
                    </a:lnTo>
                    <a:lnTo>
                      <a:pt x="349" y="580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581"/>
                    </a:lnTo>
                    <a:lnTo>
                      <a:pt x="348" y="641"/>
                    </a:lnTo>
                    <a:lnTo>
                      <a:pt x="348" y="642"/>
                    </a:lnTo>
                    <a:lnTo>
                      <a:pt x="349" y="643"/>
                    </a:lnTo>
                    <a:lnTo>
                      <a:pt x="351" y="643"/>
                    </a:lnTo>
                    <a:lnTo>
                      <a:pt x="352" y="643"/>
                    </a:lnTo>
                    <a:lnTo>
                      <a:pt x="352" y="643"/>
                    </a:lnTo>
                    <a:close/>
                    <a:moveTo>
                      <a:pt x="502" y="643"/>
                    </a:moveTo>
                    <a:lnTo>
                      <a:pt x="617" y="643"/>
                    </a:lnTo>
                    <a:lnTo>
                      <a:pt x="619" y="643"/>
                    </a:lnTo>
                    <a:lnTo>
                      <a:pt x="619" y="643"/>
                    </a:lnTo>
                    <a:lnTo>
                      <a:pt x="619" y="642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641"/>
                    </a:lnTo>
                    <a:lnTo>
                      <a:pt x="620" y="581"/>
                    </a:lnTo>
                    <a:lnTo>
                      <a:pt x="619" y="581"/>
                    </a:lnTo>
                    <a:lnTo>
                      <a:pt x="619" y="580"/>
                    </a:lnTo>
                    <a:lnTo>
                      <a:pt x="619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617" y="580"/>
                    </a:lnTo>
                    <a:lnTo>
                      <a:pt x="502" y="580"/>
                    </a:lnTo>
                    <a:lnTo>
                      <a:pt x="501" y="580"/>
                    </a:lnTo>
                    <a:lnTo>
                      <a:pt x="500" y="580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581"/>
                    </a:lnTo>
                    <a:lnTo>
                      <a:pt x="500" y="641"/>
                    </a:lnTo>
                    <a:lnTo>
                      <a:pt x="500" y="642"/>
                    </a:lnTo>
                    <a:lnTo>
                      <a:pt x="500" y="643"/>
                    </a:lnTo>
                    <a:lnTo>
                      <a:pt x="501" y="643"/>
                    </a:lnTo>
                    <a:lnTo>
                      <a:pt x="502" y="643"/>
                    </a:lnTo>
                    <a:lnTo>
                      <a:pt x="502" y="643"/>
                    </a:lnTo>
                    <a:close/>
                    <a:moveTo>
                      <a:pt x="651" y="643"/>
                    </a:moveTo>
                    <a:lnTo>
                      <a:pt x="767" y="643"/>
                    </a:lnTo>
                    <a:lnTo>
                      <a:pt x="768" y="643"/>
                    </a:lnTo>
                    <a:lnTo>
                      <a:pt x="769" y="643"/>
                    </a:lnTo>
                    <a:lnTo>
                      <a:pt x="770" y="642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641"/>
                    </a:lnTo>
                    <a:lnTo>
                      <a:pt x="772" y="581"/>
                    </a:lnTo>
                    <a:lnTo>
                      <a:pt x="770" y="581"/>
                    </a:lnTo>
                    <a:lnTo>
                      <a:pt x="769" y="580"/>
                    </a:lnTo>
                    <a:lnTo>
                      <a:pt x="768" y="580"/>
                    </a:lnTo>
                    <a:lnTo>
                      <a:pt x="767" y="580"/>
                    </a:lnTo>
                    <a:lnTo>
                      <a:pt x="767" y="580"/>
                    </a:lnTo>
                    <a:lnTo>
                      <a:pt x="651" y="580"/>
                    </a:lnTo>
                    <a:lnTo>
                      <a:pt x="651" y="580"/>
                    </a:lnTo>
                    <a:lnTo>
                      <a:pt x="650" y="580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581"/>
                    </a:lnTo>
                    <a:lnTo>
                      <a:pt x="649" y="641"/>
                    </a:lnTo>
                    <a:lnTo>
                      <a:pt x="649" y="642"/>
                    </a:lnTo>
                    <a:lnTo>
                      <a:pt x="650" y="643"/>
                    </a:lnTo>
                    <a:lnTo>
                      <a:pt x="651" y="643"/>
                    </a:lnTo>
                    <a:lnTo>
                      <a:pt x="651" y="643"/>
                    </a:lnTo>
                    <a:lnTo>
                      <a:pt x="651" y="643"/>
                    </a:lnTo>
                    <a:close/>
                    <a:moveTo>
                      <a:pt x="971" y="643"/>
                    </a:moveTo>
                    <a:lnTo>
                      <a:pt x="1086" y="643"/>
                    </a:lnTo>
                    <a:lnTo>
                      <a:pt x="1087" y="643"/>
                    </a:lnTo>
                    <a:lnTo>
                      <a:pt x="1087" y="643"/>
                    </a:lnTo>
                    <a:lnTo>
                      <a:pt x="1087" y="642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641"/>
                    </a:lnTo>
                    <a:lnTo>
                      <a:pt x="1089" y="581"/>
                    </a:lnTo>
                    <a:lnTo>
                      <a:pt x="1087" y="581"/>
                    </a:lnTo>
                    <a:lnTo>
                      <a:pt x="1087" y="580"/>
                    </a:lnTo>
                    <a:lnTo>
                      <a:pt x="1087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1086" y="580"/>
                    </a:lnTo>
                    <a:lnTo>
                      <a:pt x="971" y="580"/>
                    </a:lnTo>
                    <a:lnTo>
                      <a:pt x="970" y="580"/>
                    </a:lnTo>
                    <a:lnTo>
                      <a:pt x="968" y="580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581"/>
                    </a:lnTo>
                    <a:lnTo>
                      <a:pt x="968" y="641"/>
                    </a:lnTo>
                    <a:lnTo>
                      <a:pt x="968" y="642"/>
                    </a:lnTo>
                    <a:lnTo>
                      <a:pt x="968" y="643"/>
                    </a:lnTo>
                    <a:lnTo>
                      <a:pt x="970" y="643"/>
                    </a:lnTo>
                    <a:lnTo>
                      <a:pt x="971" y="643"/>
                    </a:lnTo>
                    <a:lnTo>
                      <a:pt x="971" y="643"/>
                    </a:lnTo>
                    <a:close/>
                    <a:moveTo>
                      <a:pt x="1120" y="643"/>
                    </a:moveTo>
                    <a:lnTo>
                      <a:pt x="1235" y="643"/>
                    </a:lnTo>
                    <a:lnTo>
                      <a:pt x="1236" y="643"/>
                    </a:lnTo>
                    <a:lnTo>
                      <a:pt x="1238" y="643"/>
                    </a:lnTo>
                    <a:lnTo>
                      <a:pt x="1239" y="642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641"/>
                    </a:lnTo>
                    <a:lnTo>
                      <a:pt x="1240" y="581"/>
                    </a:lnTo>
                    <a:lnTo>
                      <a:pt x="1239" y="581"/>
                    </a:lnTo>
                    <a:lnTo>
                      <a:pt x="1238" y="580"/>
                    </a:lnTo>
                    <a:lnTo>
                      <a:pt x="1236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235" y="580"/>
                    </a:lnTo>
                    <a:lnTo>
                      <a:pt x="1120" y="580"/>
                    </a:lnTo>
                    <a:lnTo>
                      <a:pt x="1120" y="580"/>
                    </a:lnTo>
                    <a:lnTo>
                      <a:pt x="1119" y="580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581"/>
                    </a:lnTo>
                    <a:lnTo>
                      <a:pt x="1117" y="641"/>
                    </a:lnTo>
                    <a:lnTo>
                      <a:pt x="1117" y="642"/>
                    </a:lnTo>
                    <a:lnTo>
                      <a:pt x="1119" y="643"/>
                    </a:lnTo>
                    <a:lnTo>
                      <a:pt x="1120" y="643"/>
                    </a:lnTo>
                    <a:lnTo>
                      <a:pt x="1120" y="643"/>
                    </a:lnTo>
                    <a:lnTo>
                      <a:pt x="1120" y="643"/>
                    </a:lnTo>
                    <a:close/>
                    <a:moveTo>
                      <a:pt x="1120" y="338"/>
                    </a:moveTo>
                    <a:lnTo>
                      <a:pt x="1235" y="338"/>
                    </a:lnTo>
                    <a:lnTo>
                      <a:pt x="1236" y="338"/>
                    </a:lnTo>
                    <a:lnTo>
                      <a:pt x="1238" y="338"/>
                    </a:lnTo>
                    <a:lnTo>
                      <a:pt x="1239" y="336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335"/>
                    </a:lnTo>
                    <a:lnTo>
                      <a:pt x="1240" y="277"/>
                    </a:lnTo>
                    <a:lnTo>
                      <a:pt x="1239" y="274"/>
                    </a:lnTo>
                    <a:lnTo>
                      <a:pt x="1238" y="274"/>
                    </a:lnTo>
                    <a:lnTo>
                      <a:pt x="1236" y="274"/>
                    </a:lnTo>
                    <a:lnTo>
                      <a:pt x="1235" y="274"/>
                    </a:lnTo>
                    <a:lnTo>
                      <a:pt x="1235" y="274"/>
                    </a:lnTo>
                    <a:lnTo>
                      <a:pt x="1120" y="274"/>
                    </a:lnTo>
                    <a:lnTo>
                      <a:pt x="1120" y="274"/>
                    </a:lnTo>
                    <a:lnTo>
                      <a:pt x="1119" y="274"/>
                    </a:lnTo>
                    <a:lnTo>
                      <a:pt x="1117" y="274"/>
                    </a:lnTo>
                    <a:lnTo>
                      <a:pt x="1117" y="277"/>
                    </a:lnTo>
                    <a:lnTo>
                      <a:pt x="1117" y="277"/>
                    </a:lnTo>
                    <a:lnTo>
                      <a:pt x="1117" y="335"/>
                    </a:lnTo>
                    <a:lnTo>
                      <a:pt x="1117" y="336"/>
                    </a:lnTo>
                    <a:lnTo>
                      <a:pt x="1119" y="338"/>
                    </a:lnTo>
                    <a:lnTo>
                      <a:pt x="1120" y="338"/>
                    </a:lnTo>
                    <a:lnTo>
                      <a:pt x="1120" y="338"/>
                    </a:lnTo>
                    <a:lnTo>
                      <a:pt x="1120" y="338"/>
                    </a:lnTo>
                    <a:close/>
                    <a:moveTo>
                      <a:pt x="971" y="338"/>
                    </a:moveTo>
                    <a:lnTo>
                      <a:pt x="1086" y="338"/>
                    </a:lnTo>
                    <a:lnTo>
                      <a:pt x="1087" y="338"/>
                    </a:lnTo>
                    <a:lnTo>
                      <a:pt x="1087" y="338"/>
                    </a:lnTo>
                    <a:lnTo>
                      <a:pt x="1087" y="336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335"/>
                    </a:lnTo>
                    <a:lnTo>
                      <a:pt x="1089" y="277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7" y="274"/>
                    </a:lnTo>
                    <a:lnTo>
                      <a:pt x="1086" y="274"/>
                    </a:lnTo>
                    <a:lnTo>
                      <a:pt x="1086" y="274"/>
                    </a:lnTo>
                    <a:lnTo>
                      <a:pt x="971" y="274"/>
                    </a:lnTo>
                    <a:lnTo>
                      <a:pt x="970" y="274"/>
                    </a:lnTo>
                    <a:lnTo>
                      <a:pt x="968" y="274"/>
                    </a:lnTo>
                    <a:lnTo>
                      <a:pt x="968" y="274"/>
                    </a:lnTo>
                    <a:lnTo>
                      <a:pt x="968" y="277"/>
                    </a:lnTo>
                    <a:lnTo>
                      <a:pt x="968" y="277"/>
                    </a:lnTo>
                    <a:lnTo>
                      <a:pt x="968" y="335"/>
                    </a:lnTo>
                    <a:lnTo>
                      <a:pt x="968" y="336"/>
                    </a:lnTo>
                    <a:lnTo>
                      <a:pt x="968" y="338"/>
                    </a:lnTo>
                    <a:lnTo>
                      <a:pt x="970" y="338"/>
                    </a:lnTo>
                    <a:lnTo>
                      <a:pt x="971" y="338"/>
                    </a:lnTo>
                    <a:lnTo>
                      <a:pt x="971" y="338"/>
                    </a:lnTo>
                    <a:close/>
                    <a:moveTo>
                      <a:pt x="651" y="338"/>
                    </a:moveTo>
                    <a:lnTo>
                      <a:pt x="767" y="338"/>
                    </a:lnTo>
                    <a:lnTo>
                      <a:pt x="768" y="338"/>
                    </a:lnTo>
                    <a:lnTo>
                      <a:pt x="769" y="338"/>
                    </a:lnTo>
                    <a:lnTo>
                      <a:pt x="770" y="336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335"/>
                    </a:lnTo>
                    <a:lnTo>
                      <a:pt x="772" y="277"/>
                    </a:lnTo>
                    <a:lnTo>
                      <a:pt x="770" y="274"/>
                    </a:lnTo>
                    <a:lnTo>
                      <a:pt x="769" y="274"/>
                    </a:lnTo>
                    <a:lnTo>
                      <a:pt x="768" y="274"/>
                    </a:lnTo>
                    <a:lnTo>
                      <a:pt x="767" y="274"/>
                    </a:lnTo>
                    <a:lnTo>
                      <a:pt x="651" y="274"/>
                    </a:lnTo>
                    <a:lnTo>
                      <a:pt x="651" y="274"/>
                    </a:lnTo>
                    <a:lnTo>
                      <a:pt x="650" y="274"/>
                    </a:lnTo>
                    <a:lnTo>
                      <a:pt x="649" y="274"/>
                    </a:lnTo>
                    <a:lnTo>
                      <a:pt x="649" y="277"/>
                    </a:lnTo>
                    <a:lnTo>
                      <a:pt x="649" y="277"/>
                    </a:lnTo>
                    <a:lnTo>
                      <a:pt x="649" y="335"/>
                    </a:lnTo>
                    <a:lnTo>
                      <a:pt x="649" y="336"/>
                    </a:lnTo>
                    <a:lnTo>
                      <a:pt x="650" y="338"/>
                    </a:lnTo>
                    <a:lnTo>
                      <a:pt x="651" y="338"/>
                    </a:lnTo>
                    <a:lnTo>
                      <a:pt x="651" y="338"/>
                    </a:lnTo>
                    <a:lnTo>
                      <a:pt x="651" y="338"/>
                    </a:lnTo>
                    <a:close/>
                    <a:moveTo>
                      <a:pt x="502" y="338"/>
                    </a:moveTo>
                    <a:lnTo>
                      <a:pt x="617" y="338"/>
                    </a:lnTo>
                    <a:lnTo>
                      <a:pt x="619" y="338"/>
                    </a:lnTo>
                    <a:lnTo>
                      <a:pt x="619" y="338"/>
                    </a:lnTo>
                    <a:lnTo>
                      <a:pt x="619" y="336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335"/>
                    </a:lnTo>
                    <a:lnTo>
                      <a:pt x="620" y="277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9" y="274"/>
                    </a:lnTo>
                    <a:lnTo>
                      <a:pt x="617" y="274"/>
                    </a:lnTo>
                    <a:lnTo>
                      <a:pt x="617" y="274"/>
                    </a:lnTo>
                    <a:lnTo>
                      <a:pt x="502" y="274"/>
                    </a:lnTo>
                    <a:lnTo>
                      <a:pt x="501" y="274"/>
                    </a:lnTo>
                    <a:lnTo>
                      <a:pt x="500" y="274"/>
                    </a:lnTo>
                    <a:lnTo>
                      <a:pt x="500" y="274"/>
                    </a:lnTo>
                    <a:lnTo>
                      <a:pt x="500" y="277"/>
                    </a:lnTo>
                    <a:lnTo>
                      <a:pt x="500" y="277"/>
                    </a:lnTo>
                    <a:lnTo>
                      <a:pt x="500" y="335"/>
                    </a:lnTo>
                    <a:lnTo>
                      <a:pt x="500" y="336"/>
                    </a:lnTo>
                    <a:lnTo>
                      <a:pt x="500" y="338"/>
                    </a:lnTo>
                    <a:lnTo>
                      <a:pt x="501" y="338"/>
                    </a:lnTo>
                    <a:lnTo>
                      <a:pt x="502" y="338"/>
                    </a:lnTo>
                    <a:lnTo>
                      <a:pt x="502" y="338"/>
                    </a:lnTo>
                    <a:close/>
                    <a:moveTo>
                      <a:pt x="352" y="338"/>
                    </a:moveTo>
                    <a:lnTo>
                      <a:pt x="466" y="338"/>
                    </a:lnTo>
                    <a:lnTo>
                      <a:pt x="467" y="338"/>
                    </a:lnTo>
                    <a:lnTo>
                      <a:pt x="468" y="338"/>
                    </a:lnTo>
                    <a:lnTo>
                      <a:pt x="470" y="336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335"/>
                    </a:lnTo>
                    <a:lnTo>
                      <a:pt x="470" y="277"/>
                    </a:lnTo>
                    <a:lnTo>
                      <a:pt x="470" y="274"/>
                    </a:lnTo>
                    <a:lnTo>
                      <a:pt x="468" y="274"/>
                    </a:lnTo>
                    <a:lnTo>
                      <a:pt x="467" y="274"/>
                    </a:lnTo>
                    <a:lnTo>
                      <a:pt x="466" y="274"/>
                    </a:lnTo>
                    <a:lnTo>
                      <a:pt x="352" y="274"/>
                    </a:lnTo>
                    <a:lnTo>
                      <a:pt x="351" y="274"/>
                    </a:lnTo>
                    <a:lnTo>
                      <a:pt x="349" y="274"/>
                    </a:lnTo>
                    <a:lnTo>
                      <a:pt x="348" y="274"/>
                    </a:lnTo>
                    <a:lnTo>
                      <a:pt x="348" y="277"/>
                    </a:lnTo>
                    <a:lnTo>
                      <a:pt x="348" y="277"/>
                    </a:lnTo>
                    <a:lnTo>
                      <a:pt x="348" y="335"/>
                    </a:lnTo>
                    <a:lnTo>
                      <a:pt x="348" y="336"/>
                    </a:lnTo>
                    <a:lnTo>
                      <a:pt x="349" y="338"/>
                    </a:lnTo>
                    <a:lnTo>
                      <a:pt x="351" y="338"/>
                    </a:lnTo>
                    <a:lnTo>
                      <a:pt x="352" y="338"/>
                    </a:lnTo>
                    <a:lnTo>
                      <a:pt x="352" y="338"/>
                    </a:lnTo>
                    <a:close/>
                    <a:moveTo>
                      <a:pt x="4" y="338"/>
                    </a:moveTo>
                    <a:lnTo>
                      <a:pt x="151" y="338"/>
                    </a:lnTo>
                    <a:lnTo>
                      <a:pt x="153" y="338"/>
                    </a:lnTo>
                    <a:lnTo>
                      <a:pt x="154" y="338"/>
                    </a:lnTo>
                    <a:lnTo>
                      <a:pt x="155" y="336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335"/>
                    </a:lnTo>
                    <a:lnTo>
                      <a:pt x="155" y="277"/>
                    </a:lnTo>
                    <a:lnTo>
                      <a:pt x="155" y="274"/>
                    </a:lnTo>
                    <a:lnTo>
                      <a:pt x="154" y="274"/>
                    </a:lnTo>
                    <a:lnTo>
                      <a:pt x="153" y="274"/>
                    </a:lnTo>
                    <a:lnTo>
                      <a:pt x="151" y="274"/>
                    </a:lnTo>
                    <a:lnTo>
                      <a:pt x="4" y="274"/>
                    </a:lnTo>
                    <a:lnTo>
                      <a:pt x="2" y="274"/>
                    </a:lnTo>
                    <a:lnTo>
                      <a:pt x="1" y="274"/>
                    </a:lnTo>
                    <a:lnTo>
                      <a:pt x="0" y="274"/>
                    </a:lnTo>
                    <a:lnTo>
                      <a:pt x="0" y="277"/>
                    </a:lnTo>
                    <a:lnTo>
                      <a:pt x="0" y="277"/>
                    </a:lnTo>
                    <a:lnTo>
                      <a:pt x="0" y="335"/>
                    </a:lnTo>
                    <a:lnTo>
                      <a:pt x="0" y="336"/>
                    </a:lnTo>
                    <a:lnTo>
                      <a:pt x="1" y="338"/>
                    </a:lnTo>
                    <a:lnTo>
                      <a:pt x="2" y="338"/>
                    </a:lnTo>
                    <a:lnTo>
                      <a:pt x="4" y="338"/>
                    </a:lnTo>
                    <a:lnTo>
                      <a:pt x="4" y="338"/>
                    </a:lnTo>
                    <a:close/>
                    <a:moveTo>
                      <a:pt x="1849" y="74"/>
                    </a:moveTo>
                    <a:lnTo>
                      <a:pt x="1849" y="156"/>
                    </a:lnTo>
                    <a:lnTo>
                      <a:pt x="1849" y="157"/>
                    </a:lnTo>
                    <a:lnTo>
                      <a:pt x="1850" y="157"/>
                    </a:lnTo>
                    <a:lnTo>
                      <a:pt x="1852" y="158"/>
                    </a:lnTo>
                    <a:lnTo>
                      <a:pt x="1853" y="158"/>
                    </a:lnTo>
                    <a:lnTo>
                      <a:pt x="1853" y="158"/>
                    </a:lnTo>
                    <a:lnTo>
                      <a:pt x="1912" y="158"/>
                    </a:lnTo>
                    <a:lnTo>
                      <a:pt x="1913" y="158"/>
                    </a:lnTo>
                    <a:lnTo>
                      <a:pt x="1914" y="157"/>
                    </a:lnTo>
                    <a:lnTo>
                      <a:pt x="1914" y="157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156"/>
                    </a:lnTo>
                    <a:lnTo>
                      <a:pt x="1914" y="74"/>
                    </a:lnTo>
                    <a:lnTo>
                      <a:pt x="1914" y="72"/>
                    </a:lnTo>
                    <a:lnTo>
                      <a:pt x="1914" y="71"/>
                    </a:lnTo>
                    <a:lnTo>
                      <a:pt x="1913" y="71"/>
                    </a:lnTo>
                    <a:lnTo>
                      <a:pt x="1912" y="71"/>
                    </a:lnTo>
                    <a:lnTo>
                      <a:pt x="1912" y="71"/>
                    </a:lnTo>
                    <a:lnTo>
                      <a:pt x="1853" y="71"/>
                    </a:lnTo>
                    <a:lnTo>
                      <a:pt x="1852" y="71"/>
                    </a:lnTo>
                    <a:lnTo>
                      <a:pt x="1850" y="71"/>
                    </a:lnTo>
                    <a:lnTo>
                      <a:pt x="1849" y="72"/>
                    </a:lnTo>
                    <a:lnTo>
                      <a:pt x="1849" y="74"/>
                    </a:lnTo>
                    <a:lnTo>
                      <a:pt x="1849" y="74"/>
                    </a:lnTo>
                    <a:close/>
                    <a:moveTo>
                      <a:pt x="1968" y="0"/>
                    </a:moveTo>
                    <a:lnTo>
                      <a:pt x="1968" y="80"/>
                    </a:lnTo>
                    <a:lnTo>
                      <a:pt x="1969" y="83"/>
                    </a:lnTo>
                    <a:lnTo>
                      <a:pt x="1969" y="84"/>
                    </a:lnTo>
                    <a:lnTo>
                      <a:pt x="1972" y="85"/>
                    </a:lnTo>
                    <a:lnTo>
                      <a:pt x="1973" y="85"/>
                    </a:lnTo>
                    <a:lnTo>
                      <a:pt x="1973" y="85"/>
                    </a:lnTo>
                    <a:lnTo>
                      <a:pt x="2066" y="85"/>
                    </a:lnTo>
                    <a:lnTo>
                      <a:pt x="2067" y="85"/>
                    </a:lnTo>
                    <a:lnTo>
                      <a:pt x="2068" y="84"/>
                    </a:lnTo>
                    <a:lnTo>
                      <a:pt x="2070" y="83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80"/>
                    </a:lnTo>
                    <a:lnTo>
                      <a:pt x="2071" y="0"/>
                    </a:lnTo>
                    <a:lnTo>
                      <a:pt x="1968" y="0"/>
                    </a:lnTo>
                    <a:lnTo>
                      <a:pt x="1968" y="0"/>
                    </a:lnTo>
                    <a:close/>
                    <a:moveTo>
                      <a:pt x="2010" y="190"/>
                    </a:moveTo>
                    <a:lnTo>
                      <a:pt x="2010" y="274"/>
                    </a:lnTo>
                    <a:lnTo>
                      <a:pt x="2010" y="274"/>
                    </a:lnTo>
                    <a:lnTo>
                      <a:pt x="2011" y="276"/>
                    </a:lnTo>
                    <a:lnTo>
                      <a:pt x="2012" y="276"/>
                    </a:lnTo>
                    <a:lnTo>
                      <a:pt x="2013" y="277"/>
                    </a:lnTo>
                    <a:lnTo>
                      <a:pt x="2013" y="277"/>
                    </a:lnTo>
                    <a:lnTo>
                      <a:pt x="2072" y="277"/>
                    </a:lnTo>
                    <a:lnTo>
                      <a:pt x="2073" y="276"/>
                    </a:lnTo>
                    <a:lnTo>
                      <a:pt x="2075" y="276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274"/>
                    </a:lnTo>
                    <a:lnTo>
                      <a:pt x="2075" y="190"/>
                    </a:lnTo>
                    <a:lnTo>
                      <a:pt x="2075" y="189"/>
                    </a:lnTo>
                    <a:lnTo>
                      <a:pt x="2075" y="187"/>
                    </a:lnTo>
                    <a:lnTo>
                      <a:pt x="2073" y="187"/>
                    </a:lnTo>
                    <a:lnTo>
                      <a:pt x="2072" y="187"/>
                    </a:lnTo>
                    <a:lnTo>
                      <a:pt x="2013" y="187"/>
                    </a:lnTo>
                    <a:lnTo>
                      <a:pt x="2012" y="187"/>
                    </a:lnTo>
                    <a:lnTo>
                      <a:pt x="2011" y="187"/>
                    </a:lnTo>
                    <a:lnTo>
                      <a:pt x="2010" y="189"/>
                    </a:lnTo>
                    <a:lnTo>
                      <a:pt x="2010" y="190"/>
                    </a:lnTo>
                    <a:lnTo>
                      <a:pt x="2010" y="190"/>
                    </a:lnTo>
                    <a:close/>
                    <a:moveTo>
                      <a:pt x="2127" y="190"/>
                    </a:moveTo>
                    <a:lnTo>
                      <a:pt x="2127" y="274"/>
                    </a:lnTo>
                    <a:lnTo>
                      <a:pt x="2127" y="274"/>
                    </a:lnTo>
                    <a:lnTo>
                      <a:pt x="2129" y="276"/>
                    </a:lnTo>
                    <a:lnTo>
                      <a:pt x="2130" y="276"/>
                    </a:lnTo>
                    <a:lnTo>
                      <a:pt x="2131" y="277"/>
                    </a:lnTo>
                    <a:lnTo>
                      <a:pt x="2131" y="277"/>
                    </a:lnTo>
                    <a:lnTo>
                      <a:pt x="2190" y="277"/>
                    </a:lnTo>
                    <a:lnTo>
                      <a:pt x="2192" y="276"/>
                    </a:lnTo>
                    <a:lnTo>
                      <a:pt x="2194" y="276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274"/>
                    </a:lnTo>
                    <a:lnTo>
                      <a:pt x="2195" y="190"/>
                    </a:lnTo>
                    <a:lnTo>
                      <a:pt x="2195" y="189"/>
                    </a:lnTo>
                    <a:lnTo>
                      <a:pt x="2194" y="187"/>
                    </a:lnTo>
                    <a:lnTo>
                      <a:pt x="2192" y="187"/>
                    </a:lnTo>
                    <a:lnTo>
                      <a:pt x="2190" y="187"/>
                    </a:lnTo>
                    <a:lnTo>
                      <a:pt x="2131" y="187"/>
                    </a:lnTo>
                    <a:lnTo>
                      <a:pt x="2130" y="187"/>
                    </a:lnTo>
                    <a:lnTo>
                      <a:pt x="2129" y="187"/>
                    </a:lnTo>
                    <a:lnTo>
                      <a:pt x="2127" y="189"/>
                    </a:lnTo>
                    <a:lnTo>
                      <a:pt x="2127" y="190"/>
                    </a:lnTo>
                    <a:lnTo>
                      <a:pt x="2127" y="190"/>
                    </a:lnTo>
                    <a:close/>
                    <a:moveTo>
                      <a:pt x="2270" y="190"/>
                    </a:moveTo>
                    <a:lnTo>
                      <a:pt x="2270" y="274"/>
                    </a:lnTo>
                    <a:lnTo>
                      <a:pt x="2270" y="274"/>
                    </a:lnTo>
                    <a:lnTo>
                      <a:pt x="2271" y="276"/>
                    </a:lnTo>
                    <a:lnTo>
                      <a:pt x="2273" y="276"/>
                    </a:lnTo>
                    <a:lnTo>
                      <a:pt x="2274" y="277"/>
                    </a:lnTo>
                    <a:lnTo>
                      <a:pt x="2274" y="277"/>
                    </a:lnTo>
                    <a:lnTo>
                      <a:pt x="2333" y="277"/>
                    </a:lnTo>
                    <a:lnTo>
                      <a:pt x="2334" y="276"/>
                    </a:lnTo>
                    <a:lnTo>
                      <a:pt x="2337" y="276"/>
                    </a:lnTo>
                    <a:lnTo>
                      <a:pt x="2337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274"/>
                    </a:lnTo>
                    <a:lnTo>
                      <a:pt x="2338" y="190"/>
                    </a:lnTo>
                    <a:lnTo>
                      <a:pt x="2337" y="189"/>
                    </a:lnTo>
                    <a:lnTo>
                      <a:pt x="2337" y="187"/>
                    </a:lnTo>
                    <a:lnTo>
                      <a:pt x="2334" y="187"/>
                    </a:lnTo>
                    <a:lnTo>
                      <a:pt x="2333" y="187"/>
                    </a:lnTo>
                    <a:lnTo>
                      <a:pt x="2274" y="187"/>
                    </a:lnTo>
                    <a:lnTo>
                      <a:pt x="2273" y="187"/>
                    </a:lnTo>
                    <a:lnTo>
                      <a:pt x="2271" y="187"/>
                    </a:lnTo>
                    <a:lnTo>
                      <a:pt x="2270" y="189"/>
                    </a:lnTo>
                    <a:lnTo>
                      <a:pt x="2270" y="190"/>
                    </a:lnTo>
                    <a:lnTo>
                      <a:pt x="2270" y="190"/>
                    </a:lnTo>
                    <a:close/>
                    <a:moveTo>
                      <a:pt x="2270" y="0"/>
                    </a:moveTo>
                    <a:lnTo>
                      <a:pt x="2270" y="80"/>
                    </a:lnTo>
                    <a:lnTo>
                      <a:pt x="2270" y="83"/>
                    </a:lnTo>
                    <a:lnTo>
                      <a:pt x="2271" y="84"/>
                    </a:lnTo>
                    <a:lnTo>
                      <a:pt x="2273" y="85"/>
                    </a:lnTo>
                    <a:lnTo>
                      <a:pt x="2274" y="85"/>
                    </a:lnTo>
                    <a:lnTo>
                      <a:pt x="2274" y="85"/>
                    </a:lnTo>
                    <a:lnTo>
                      <a:pt x="2367" y="85"/>
                    </a:lnTo>
                    <a:lnTo>
                      <a:pt x="2369" y="85"/>
                    </a:lnTo>
                    <a:lnTo>
                      <a:pt x="2370" y="84"/>
                    </a:lnTo>
                    <a:lnTo>
                      <a:pt x="2372" y="83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80"/>
                    </a:lnTo>
                    <a:lnTo>
                      <a:pt x="2372" y="0"/>
                    </a:lnTo>
                    <a:lnTo>
                      <a:pt x="2270" y="0"/>
                    </a:lnTo>
                    <a:lnTo>
                      <a:pt x="2270" y="0"/>
                    </a:lnTo>
                    <a:close/>
                    <a:moveTo>
                      <a:pt x="2322" y="397"/>
                    </a:moveTo>
                    <a:lnTo>
                      <a:pt x="2322" y="392"/>
                    </a:lnTo>
                    <a:lnTo>
                      <a:pt x="2320" y="388"/>
                    </a:lnTo>
                    <a:lnTo>
                      <a:pt x="2318" y="383"/>
                    </a:lnTo>
                    <a:lnTo>
                      <a:pt x="2314" y="379"/>
                    </a:lnTo>
                    <a:lnTo>
                      <a:pt x="2310" y="377"/>
                    </a:lnTo>
                    <a:lnTo>
                      <a:pt x="2306" y="374"/>
                    </a:lnTo>
                    <a:lnTo>
                      <a:pt x="2301" y="373"/>
                    </a:lnTo>
                    <a:lnTo>
                      <a:pt x="2296" y="372"/>
                    </a:lnTo>
                    <a:lnTo>
                      <a:pt x="2291" y="373"/>
                    </a:lnTo>
                    <a:lnTo>
                      <a:pt x="2288" y="374"/>
                    </a:lnTo>
                    <a:lnTo>
                      <a:pt x="2283" y="377"/>
                    </a:lnTo>
                    <a:lnTo>
                      <a:pt x="2279" y="379"/>
                    </a:lnTo>
                    <a:lnTo>
                      <a:pt x="2276" y="383"/>
                    </a:lnTo>
                    <a:lnTo>
                      <a:pt x="2274" y="388"/>
                    </a:lnTo>
                    <a:lnTo>
                      <a:pt x="2273" y="392"/>
                    </a:lnTo>
                    <a:lnTo>
                      <a:pt x="2271" y="397"/>
                    </a:lnTo>
                    <a:lnTo>
                      <a:pt x="2273" y="402"/>
                    </a:lnTo>
                    <a:lnTo>
                      <a:pt x="2274" y="407"/>
                    </a:lnTo>
                    <a:lnTo>
                      <a:pt x="2276" y="411"/>
                    </a:lnTo>
                    <a:lnTo>
                      <a:pt x="2279" y="415"/>
                    </a:lnTo>
                    <a:lnTo>
                      <a:pt x="2283" y="418"/>
                    </a:lnTo>
                    <a:lnTo>
                      <a:pt x="2288" y="420"/>
                    </a:lnTo>
                    <a:lnTo>
                      <a:pt x="2291" y="422"/>
                    </a:lnTo>
                    <a:lnTo>
                      <a:pt x="2296" y="422"/>
                    </a:lnTo>
                    <a:lnTo>
                      <a:pt x="2301" y="422"/>
                    </a:lnTo>
                    <a:lnTo>
                      <a:pt x="2306" y="420"/>
                    </a:lnTo>
                    <a:lnTo>
                      <a:pt x="2310" y="418"/>
                    </a:lnTo>
                    <a:lnTo>
                      <a:pt x="2314" y="415"/>
                    </a:lnTo>
                    <a:lnTo>
                      <a:pt x="2318" y="411"/>
                    </a:lnTo>
                    <a:lnTo>
                      <a:pt x="2320" y="407"/>
                    </a:lnTo>
                    <a:lnTo>
                      <a:pt x="2322" y="402"/>
                    </a:lnTo>
                    <a:lnTo>
                      <a:pt x="2322" y="397"/>
                    </a:lnTo>
                    <a:lnTo>
                      <a:pt x="2322" y="397"/>
                    </a:lnTo>
                    <a:close/>
                    <a:moveTo>
                      <a:pt x="2251" y="547"/>
                    </a:moveTo>
                    <a:lnTo>
                      <a:pt x="2367" y="547"/>
                    </a:lnTo>
                    <a:lnTo>
                      <a:pt x="2369" y="547"/>
                    </a:lnTo>
                    <a:lnTo>
                      <a:pt x="2370" y="547"/>
                    </a:lnTo>
                    <a:lnTo>
                      <a:pt x="2372" y="547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546"/>
                    </a:lnTo>
                    <a:lnTo>
                      <a:pt x="2372" y="495"/>
                    </a:lnTo>
                    <a:lnTo>
                      <a:pt x="2372" y="495"/>
                    </a:lnTo>
                    <a:lnTo>
                      <a:pt x="2370" y="494"/>
                    </a:lnTo>
                    <a:lnTo>
                      <a:pt x="2369" y="493"/>
                    </a:lnTo>
                    <a:lnTo>
                      <a:pt x="2367" y="493"/>
                    </a:lnTo>
                    <a:lnTo>
                      <a:pt x="2251" y="493"/>
                    </a:lnTo>
                    <a:lnTo>
                      <a:pt x="2251" y="493"/>
                    </a:lnTo>
                    <a:lnTo>
                      <a:pt x="2250" y="494"/>
                    </a:lnTo>
                    <a:lnTo>
                      <a:pt x="2250" y="495"/>
                    </a:lnTo>
                    <a:lnTo>
                      <a:pt x="2249" y="495"/>
                    </a:lnTo>
                    <a:lnTo>
                      <a:pt x="2249" y="495"/>
                    </a:lnTo>
                    <a:lnTo>
                      <a:pt x="2249" y="546"/>
                    </a:lnTo>
                    <a:lnTo>
                      <a:pt x="2250" y="547"/>
                    </a:lnTo>
                    <a:lnTo>
                      <a:pt x="2250" y="547"/>
                    </a:lnTo>
                    <a:lnTo>
                      <a:pt x="2251" y="547"/>
                    </a:lnTo>
                    <a:lnTo>
                      <a:pt x="2251" y="547"/>
                    </a:lnTo>
                    <a:lnTo>
                      <a:pt x="2251" y="547"/>
                    </a:lnTo>
                    <a:close/>
                    <a:moveTo>
                      <a:pt x="2063" y="547"/>
                    </a:moveTo>
                    <a:lnTo>
                      <a:pt x="2179" y="547"/>
                    </a:lnTo>
                    <a:lnTo>
                      <a:pt x="2180" y="547"/>
                    </a:lnTo>
                    <a:lnTo>
                      <a:pt x="2181" y="547"/>
                    </a:lnTo>
                    <a:lnTo>
                      <a:pt x="2181" y="547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546"/>
                    </a:lnTo>
                    <a:lnTo>
                      <a:pt x="2181" y="495"/>
                    </a:lnTo>
                    <a:lnTo>
                      <a:pt x="2181" y="495"/>
                    </a:lnTo>
                    <a:lnTo>
                      <a:pt x="2181" y="494"/>
                    </a:lnTo>
                    <a:lnTo>
                      <a:pt x="2180" y="493"/>
                    </a:lnTo>
                    <a:lnTo>
                      <a:pt x="2179" y="493"/>
                    </a:lnTo>
                    <a:lnTo>
                      <a:pt x="2179" y="493"/>
                    </a:lnTo>
                    <a:lnTo>
                      <a:pt x="2063" y="493"/>
                    </a:lnTo>
                    <a:lnTo>
                      <a:pt x="2062" y="493"/>
                    </a:lnTo>
                    <a:lnTo>
                      <a:pt x="2062" y="494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495"/>
                    </a:lnTo>
                    <a:lnTo>
                      <a:pt x="2061" y="546"/>
                    </a:lnTo>
                    <a:lnTo>
                      <a:pt x="2061" y="547"/>
                    </a:lnTo>
                    <a:lnTo>
                      <a:pt x="2062" y="547"/>
                    </a:lnTo>
                    <a:lnTo>
                      <a:pt x="2062" y="547"/>
                    </a:lnTo>
                    <a:lnTo>
                      <a:pt x="2063" y="547"/>
                    </a:lnTo>
                    <a:lnTo>
                      <a:pt x="2063" y="547"/>
                    </a:lnTo>
                    <a:close/>
                    <a:moveTo>
                      <a:pt x="1875" y="547"/>
                    </a:moveTo>
                    <a:lnTo>
                      <a:pt x="1989" y="547"/>
                    </a:lnTo>
                    <a:lnTo>
                      <a:pt x="1991" y="547"/>
                    </a:lnTo>
                    <a:lnTo>
                      <a:pt x="1992" y="547"/>
                    </a:lnTo>
                    <a:lnTo>
                      <a:pt x="1993" y="547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546"/>
                    </a:lnTo>
                    <a:lnTo>
                      <a:pt x="1993" y="495"/>
                    </a:lnTo>
                    <a:lnTo>
                      <a:pt x="1993" y="495"/>
                    </a:lnTo>
                    <a:lnTo>
                      <a:pt x="1992" y="494"/>
                    </a:lnTo>
                    <a:lnTo>
                      <a:pt x="1991" y="493"/>
                    </a:lnTo>
                    <a:lnTo>
                      <a:pt x="1989" y="493"/>
                    </a:lnTo>
                    <a:lnTo>
                      <a:pt x="1989" y="493"/>
                    </a:lnTo>
                    <a:lnTo>
                      <a:pt x="1875" y="493"/>
                    </a:lnTo>
                    <a:lnTo>
                      <a:pt x="1874" y="493"/>
                    </a:lnTo>
                    <a:lnTo>
                      <a:pt x="1873" y="494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495"/>
                    </a:lnTo>
                    <a:lnTo>
                      <a:pt x="1872" y="546"/>
                    </a:lnTo>
                    <a:lnTo>
                      <a:pt x="1872" y="547"/>
                    </a:lnTo>
                    <a:lnTo>
                      <a:pt x="1873" y="547"/>
                    </a:lnTo>
                    <a:lnTo>
                      <a:pt x="1874" y="547"/>
                    </a:lnTo>
                    <a:lnTo>
                      <a:pt x="1875" y="547"/>
                    </a:lnTo>
                    <a:lnTo>
                      <a:pt x="1875" y="547"/>
                    </a:lnTo>
                    <a:close/>
                    <a:moveTo>
                      <a:pt x="1968" y="397"/>
                    </a:moveTo>
                    <a:lnTo>
                      <a:pt x="1968" y="392"/>
                    </a:lnTo>
                    <a:lnTo>
                      <a:pt x="1967" y="388"/>
                    </a:lnTo>
                    <a:lnTo>
                      <a:pt x="1964" y="383"/>
                    </a:lnTo>
                    <a:lnTo>
                      <a:pt x="1962" y="379"/>
                    </a:lnTo>
                    <a:lnTo>
                      <a:pt x="1958" y="377"/>
                    </a:lnTo>
                    <a:lnTo>
                      <a:pt x="1954" y="374"/>
                    </a:lnTo>
                    <a:lnTo>
                      <a:pt x="1949" y="373"/>
                    </a:lnTo>
                    <a:lnTo>
                      <a:pt x="1943" y="372"/>
                    </a:lnTo>
                    <a:lnTo>
                      <a:pt x="1939" y="373"/>
                    </a:lnTo>
                    <a:lnTo>
                      <a:pt x="1934" y="374"/>
                    </a:lnTo>
                    <a:lnTo>
                      <a:pt x="1931" y="377"/>
                    </a:lnTo>
                    <a:lnTo>
                      <a:pt x="1927" y="379"/>
                    </a:lnTo>
                    <a:lnTo>
                      <a:pt x="1924" y="383"/>
                    </a:lnTo>
                    <a:lnTo>
                      <a:pt x="1923" y="388"/>
                    </a:lnTo>
                    <a:lnTo>
                      <a:pt x="1922" y="392"/>
                    </a:lnTo>
                    <a:lnTo>
                      <a:pt x="1921" y="397"/>
                    </a:lnTo>
                    <a:lnTo>
                      <a:pt x="1922" y="402"/>
                    </a:lnTo>
                    <a:lnTo>
                      <a:pt x="1923" y="407"/>
                    </a:lnTo>
                    <a:lnTo>
                      <a:pt x="1924" y="411"/>
                    </a:lnTo>
                    <a:lnTo>
                      <a:pt x="1927" y="415"/>
                    </a:lnTo>
                    <a:lnTo>
                      <a:pt x="1931" y="418"/>
                    </a:lnTo>
                    <a:lnTo>
                      <a:pt x="1934" y="420"/>
                    </a:lnTo>
                    <a:lnTo>
                      <a:pt x="1939" y="422"/>
                    </a:lnTo>
                    <a:lnTo>
                      <a:pt x="1943" y="422"/>
                    </a:lnTo>
                    <a:lnTo>
                      <a:pt x="1949" y="422"/>
                    </a:lnTo>
                    <a:lnTo>
                      <a:pt x="1954" y="420"/>
                    </a:lnTo>
                    <a:lnTo>
                      <a:pt x="1958" y="418"/>
                    </a:lnTo>
                    <a:lnTo>
                      <a:pt x="1962" y="415"/>
                    </a:lnTo>
                    <a:lnTo>
                      <a:pt x="1964" y="411"/>
                    </a:lnTo>
                    <a:lnTo>
                      <a:pt x="1967" y="407"/>
                    </a:lnTo>
                    <a:lnTo>
                      <a:pt x="1968" y="402"/>
                    </a:lnTo>
                    <a:lnTo>
                      <a:pt x="1968" y="397"/>
                    </a:lnTo>
                    <a:lnTo>
                      <a:pt x="1968" y="397"/>
                    </a:lnTo>
                    <a:close/>
                    <a:moveTo>
                      <a:pt x="2835" y="295"/>
                    </a:moveTo>
                    <a:lnTo>
                      <a:pt x="2835" y="290"/>
                    </a:lnTo>
                    <a:lnTo>
                      <a:pt x="2834" y="285"/>
                    </a:lnTo>
                    <a:lnTo>
                      <a:pt x="2831" y="281"/>
                    </a:lnTo>
                    <a:lnTo>
                      <a:pt x="2828" y="277"/>
                    </a:lnTo>
                    <a:lnTo>
                      <a:pt x="2824" y="274"/>
                    </a:lnTo>
                    <a:lnTo>
                      <a:pt x="2820" y="272"/>
                    </a:lnTo>
                    <a:lnTo>
                      <a:pt x="2815" y="271"/>
                    </a:lnTo>
                    <a:lnTo>
                      <a:pt x="2810" y="269"/>
                    </a:lnTo>
                    <a:lnTo>
                      <a:pt x="2805" y="271"/>
                    </a:lnTo>
                    <a:lnTo>
                      <a:pt x="2801" y="272"/>
                    </a:lnTo>
                    <a:lnTo>
                      <a:pt x="2796" y="274"/>
                    </a:lnTo>
                    <a:lnTo>
                      <a:pt x="2793" y="277"/>
                    </a:lnTo>
                    <a:lnTo>
                      <a:pt x="2790" y="281"/>
                    </a:lnTo>
                    <a:lnTo>
                      <a:pt x="2788" y="285"/>
                    </a:lnTo>
                    <a:lnTo>
                      <a:pt x="2786" y="290"/>
                    </a:lnTo>
                    <a:lnTo>
                      <a:pt x="2785" y="295"/>
                    </a:lnTo>
                    <a:lnTo>
                      <a:pt x="2786" y="300"/>
                    </a:lnTo>
                    <a:lnTo>
                      <a:pt x="2788" y="305"/>
                    </a:lnTo>
                    <a:lnTo>
                      <a:pt x="2790" y="309"/>
                    </a:lnTo>
                    <a:lnTo>
                      <a:pt x="2793" y="312"/>
                    </a:lnTo>
                    <a:lnTo>
                      <a:pt x="2796" y="315"/>
                    </a:lnTo>
                    <a:lnTo>
                      <a:pt x="2801" y="317"/>
                    </a:lnTo>
                    <a:lnTo>
                      <a:pt x="2805" y="319"/>
                    </a:lnTo>
                    <a:lnTo>
                      <a:pt x="2810" y="320"/>
                    </a:lnTo>
                    <a:lnTo>
                      <a:pt x="2815" y="319"/>
                    </a:lnTo>
                    <a:lnTo>
                      <a:pt x="2820" y="317"/>
                    </a:lnTo>
                    <a:lnTo>
                      <a:pt x="2824" y="315"/>
                    </a:lnTo>
                    <a:lnTo>
                      <a:pt x="2828" y="312"/>
                    </a:lnTo>
                    <a:lnTo>
                      <a:pt x="2831" y="309"/>
                    </a:lnTo>
                    <a:lnTo>
                      <a:pt x="2834" y="305"/>
                    </a:lnTo>
                    <a:lnTo>
                      <a:pt x="2835" y="300"/>
                    </a:lnTo>
                    <a:lnTo>
                      <a:pt x="2835" y="295"/>
                    </a:lnTo>
                    <a:lnTo>
                      <a:pt x="2835" y="295"/>
                    </a:lnTo>
                    <a:close/>
                    <a:moveTo>
                      <a:pt x="2835" y="473"/>
                    </a:moveTo>
                    <a:lnTo>
                      <a:pt x="2835" y="468"/>
                    </a:lnTo>
                    <a:lnTo>
                      <a:pt x="2834" y="463"/>
                    </a:lnTo>
                    <a:lnTo>
                      <a:pt x="2831" y="459"/>
                    </a:lnTo>
                    <a:lnTo>
                      <a:pt x="2828" y="455"/>
                    </a:lnTo>
                    <a:lnTo>
                      <a:pt x="2824" y="451"/>
                    </a:lnTo>
                    <a:lnTo>
                      <a:pt x="2820" y="449"/>
                    </a:lnTo>
                    <a:lnTo>
                      <a:pt x="2815" y="447"/>
                    </a:lnTo>
                    <a:lnTo>
                      <a:pt x="2810" y="447"/>
                    </a:lnTo>
                    <a:lnTo>
                      <a:pt x="2805" y="447"/>
                    </a:lnTo>
                    <a:lnTo>
                      <a:pt x="2801" y="449"/>
                    </a:lnTo>
                    <a:lnTo>
                      <a:pt x="2796" y="451"/>
                    </a:lnTo>
                    <a:lnTo>
                      <a:pt x="2793" y="455"/>
                    </a:lnTo>
                    <a:lnTo>
                      <a:pt x="2790" y="459"/>
                    </a:lnTo>
                    <a:lnTo>
                      <a:pt x="2788" y="463"/>
                    </a:lnTo>
                    <a:lnTo>
                      <a:pt x="2786" y="468"/>
                    </a:lnTo>
                    <a:lnTo>
                      <a:pt x="2785" y="473"/>
                    </a:lnTo>
                    <a:lnTo>
                      <a:pt x="2786" y="478"/>
                    </a:lnTo>
                    <a:lnTo>
                      <a:pt x="2788" y="481"/>
                    </a:lnTo>
                    <a:lnTo>
                      <a:pt x="2790" y="487"/>
                    </a:lnTo>
                    <a:lnTo>
                      <a:pt x="2793" y="490"/>
                    </a:lnTo>
                    <a:lnTo>
                      <a:pt x="2796" y="493"/>
                    </a:lnTo>
                    <a:lnTo>
                      <a:pt x="2801" y="495"/>
                    </a:lnTo>
                    <a:lnTo>
                      <a:pt x="2805" y="497"/>
                    </a:lnTo>
                    <a:lnTo>
                      <a:pt x="2810" y="498"/>
                    </a:lnTo>
                    <a:lnTo>
                      <a:pt x="2815" y="497"/>
                    </a:lnTo>
                    <a:lnTo>
                      <a:pt x="2820" y="495"/>
                    </a:lnTo>
                    <a:lnTo>
                      <a:pt x="2824" y="493"/>
                    </a:lnTo>
                    <a:lnTo>
                      <a:pt x="2828" y="490"/>
                    </a:lnTo>
                    <a:lnTo>
                      <a:pt x="2831" y="487"/>
                    </a:lnTo>
                    <a:lnTo>
                      <a:pt x="2834" y="481"/>
                    </a:lnTo>
                    <a:lnTo>
                      <a:pt x="2835" y="478"/>
                    </a:lnTo>
                    <a:lnTo>
                      <a:pt x="2835" y="473"/>
                    </a:lnTo>
                    <a:lnTo>
                      <a:pt x="2835" y="473"/>
                    </a:lnTo>
                    <a:close/>
                    <a:moveTo>
                      <a:pt x="2835" y="651"/>
                    </a:moveTo>
                    <a:lnTo>
                      <a:pt x="2835" y="646"/>
                    </a:lnTo>
                    <a:lnTo>
                      <a:pt x="2834" y="641"/>
                    </a:lnTo>
                    <a:lnTo>
                      <a:pt x="2831" y="636"/>
                    </a:lnTo>
                    <a:lnTo>
                      <a:pt x="2828" y="633"/>
                    </a:lnTo>
                    <a:lnTo>
                      <a:pt x="2824" y="629"/>
                    </a:lnTo>
                    <a:lnTo>
                      <a:pt x="2820" y="627"/>
                    </a:lnTo>
                    <a:lnTo>
                      <a:pt x="2815" y="625"/>
                    </a:lnTo>
                    <a:lnTo>
                      <a:pt x="2810" y="625"/>
                    </a:lnTo>
                    <a:lnTo>
                      <a:pt x="2805" y="625"/>
                    </a:lnTo>
                    <a:lnTo>
                      <a:pt x="2801" y="627"/>
                    </a:lnTo>
                    <a:lnTo>
                      <a:pt x="2796" y="629"/>
                    </a:lnTo>
                    <a:lnTo>
                      <a:pt x="2793" y="633"/>
                    </a:lnTo>
                    <a:lnTo>
                      <a:pt x="2790" y="636"/>
                    </a:lnTo>
                    <a:lnTo>
                      <a:pt x="2788" y="641"/>
                    </a:lnTo>
                    <a:lnTo>
                      <a:pt x="2786" y="646"/>
                    </a:lnTo>
                    <a:lnTo>
                      <a:pt x="2785" y="651"/>
                    </a:lnTo>
                    <a:lnTo>
                      <a:pt x="2786" y="654"/>
                    </a:lnTo>
                    <a:lnTo>
                      <a:pt x="2788" y="660"/>
                    </a:lnTo>
                    <a:lnTo>
                      <a:pt x="2790" y="665"/>
                    </a:lnTo>
                    <a:lnTo>
                      <a:pt x="2793" y="668"/>
                    </a:lnTo>
                    <a:lnTo>
                      <a:pt x="2796" y="671"/>
                    </a:lnTo>
                    <a:lnTo>
                      <a:pt x="2801" y="673"/>
                    </a:lnTo>
                    <a:lnTo>
                      <a:pt x="2805" y="675"/>
                    </a:lnTo>
                    <a:lnTo>
                      <a:pt x="2810" y="675"/>
                    </a:lnTo>
                    <a:lnTo>
                      <a:pt x="2815" y="675"/>
                    </a:lnTo>
                    <a:lnTo>
                      <a:pt x="2820" y="673"/>
                    </a:lnTo>
                    <a:lnTo>
                      <a:pt x="2824" y="671"/>
                    </a:lnTo>
                    <a:lnTo>
                      <a:pt x="2828" y="668"/>
                    </a:lnTo>
                    <a:lnTo>
                      <a:pt x="2831" y="665"/>
                    </a:lnTo>
                    <a:lnTo>
                      <a:pt x="2834" y="660"/>
                    </a:lnTo>
                    <a:lnTo>
                      <a:pt x="2835" y="654"/>
                    </a:lnTo>
                    <a:lnTo>
                      <a:pt x="2835" y="651"/>
                    </a:lnTo>
                    <a:lnTo>
                      <a:pt x="2835" y="65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2559600" y="5412240"/>
                <a:ext cx="171000" cy="12384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52" y="86"/>
                    </a:lnTo>
                    <a:lnTo>
                      <a:pt x="153" y="86"/>
                    </a:lnTo>
                    <a:lnTo>
                      <a:pt x="153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3" y="1"/>
                    </a:lnTo>
                    <a:lnTo>
                      <a:pt x="153" y="0"/>
                    </a:lnTo>
                    <a:lnTo>
                      <a:pt x="152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1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2765160" y="5412240"/>
                <a:ext cx="177840" cy="12384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1" y="86"/>
                    </a:lnTo>
                    <a:lnTo>
                      <a:pt x="153" y="86"/>
                    </a:lnTo>
                    <a:lnTo>
                      <a:pt x="154" y="84"/>
                    </a:lnTo>
                    <a:lnTo>
                      <a:pt x="155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5" y="2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2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974680" y="5412240"/>
                <a:ext cx="173160" cy="123840"/>
              </a:xfrm>
              <a:custGeom>
                <a:avLst/>
                <a:gdLst/>
                <a:ahLst/>
                <a:rect l="l" t="t" r="r" b="b"/>
                <a:pathLst>
                  <a:path w="154" h="86">
                    <a:moveTo>
                      <a:pt x="3" y="86"/>
                    </a:moveTo>
                    <a:lnTo>
                      <a:pt x="152" y="86"/>
                    </a:lnTo>
                    <a:lnTo>
                      <a:pt x="152" y="86"/>
                    </a:lnTo>
                    <a:lnTo>
                      <a:pt x="153" y="84"/>
                    </a:lnTo>
                    <a:lnTo>
                      <a:pt x="154" y="83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82"/>
                    </a:lnTo>
                    <a:lnTo>
                      <a:pt x="154" y="4"/>
                    </a:lnTo>
                    <a:lnTo>
                      <a:pt x="154" y="2"/>
                    </a:lnTo>
                    <a:lnTo>
                      <a:pt x="153" y="1"/>
                    </a:lnTo>
                    <a:lnTo>
                      <a:pt x="152" y="0"/>
                    </a:lnTo>
                    <a:lnTo>
                      <a:pt x="15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3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182040" y="5412240"/>
                <a:ext cx="175680" cy="123840"/>
              </a:xfrm>
              <a:custGeom>
                <a:avLst/>
                <a:gdLst/>
                <a:ahLst/>
                <a:rect l="l" t="t" r="r" b="b"/>
                <a:pathLst>
                  <a:path w="157" h="86">
                    <a:moveTo>
                      <a:pt x="5" y="86"/>
                    </a:moveTo>
                    <a:lnTo>
                      <a:pt x="152" y="86"/>
                    </a:lnTo>
                    <a:lnTo>
                      <a:pt x="154" y="86"/>
                    </a:lnTo>
                    <a:lnTo>
                      <a:pt x="156" y="84"/>
                    </a:lnTo>
                    <a:lnTo>
                      <a:pt x="157" y="83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82"/>
                    </a:lnTo>
                    <a:lnTo>
                      <a:pt x="157" y="4"/>
                    </a:lnTo>
                    <a:lnTo>
                      <a:pt x="157" y="2"/>
                    </a:lnTo>
                    <a:lnTo>
                      <a:pt x="156" y="1"/>
                    </a:lnTo>
                    <a:lnTo>
                      <a:pt x="154" y="0"/>
                    </a:lnTo>
                    <a:lnTo>
                      <a:pt x="152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2" y="83"/>
                    </a:lnTo>
                    <a:lnTo>
                      <a:pt x="3" y="84"/>
                    </a:lnTo>
                    <a:lnTo>
                      <a:pt x="4" y="86"/>
                    </a:lnTo>
                    <a:lnTo>
                      <a:pt x="5" y="86"/>
                    </a:lnTo>
                    <a:lnTo>
                      <a:pt x="5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391560" y="5412240"/>
                <a:ext cx="171720" cy="123840"/>
              </a:xfrm>
              <a:custGeom>
                <a:avLst/>
                <a:gdLst/>
                <a:ahLst/>
                <a:rect l="l" t="t" r="r" b="b"/>
                <a:pathLst>
                  <a:path w="153" h="86">
                    <a:moveTo>
                      <a:pt x="1" y="86"/>
                    </a:moveTo>
                    <a:lnTo>
                      <a:pt x="149" y="86"/>
                    </a:lnTo>
                    <a:lnTo>
                      <a:pt x="150" y="86"/>
                    </a:lnTo>
                    <a:lnTo>
                      <a:pt x="152" y="84"/>
                    </a:lnTo>
                    <a:lnTo>
                      <a:pt x="153" y="83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82"/>
                    </a:lnTo>
                    <a:lnTo>
                      <a:pt x="153" y="4"/>
                    </a:lnTo>
                    <a:lnTo>
                      <a:pt x="153" y="2"/>
                    </a:lnTo>
                    <a:lnTo>
                      <a:pt x="152" y="1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9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1" y="8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363760" y="4845600"/>
                <a:ext cx="175680" cy="91800"/>
              </a:xfrm>
              <a:custGeom>
                <a:avLst/>
                <a:gdLst/>
                <a:ahLst/>
                <a:rect l="l" t="t" r="r" b="b"/>
                <a:pathLst>
                  <a:path w="155" h="63">
                    <a:moveTo>
                      <a:pt x="4" y="63"/>
                    </a:moveTo>
                    <a:lnTo>
                      <a:pt x="151" y="63"/>
                    </a:lnTo>
                    <a:lnTo>
                      <a:pt x="153" y="63"/>
                    </a:lnTo>
                    <a:lnTo>
                      <a:pt x="154" y="63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1"/>
                    </a:lnTo>
                    <a:lnTo>
                      <a:pt x="155" y="1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755800" y="4845600"/>
                <a:ext cx="137520" cy="91800"/>
              </a:xfrm>
              <a:custGeom>
                <a:avLst/>
                <a:gdLst/>
                <a:ahLst/>
                <a:rect l="l" t="t" r="r" b="b"/>
                <a:pathLst>
                  <a:path w="122" h="63">
                    <a:moveTo>
                      <a:pt x="4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1"/>
                    </a:lnTo>
                    <a:lnTo>
                      <a:pt x="122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3" y="63"/>
                    </a:lnTo>
                    <a:lnTo>
                      <a:pt x="4" y="63"/>
                    </a:lnTo>
                    <a:lnTo>
                      <a:pt x="4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927160" y="4845600"/>
                <a:ext cx="135360" cy="91800"/>
              </a:xfrm>
              <a:custGeom>
                <a:avLst/>
                <a:gdLst/>
                <a:ahLst/>
                <a:rect l="l" t="t" r="r" b="b"/>
                <a:pathLst>
                  <a:path w="120" h="63">
                    <a:moveTo>
                      <a:pt x="2" y="63"/>
                    </a:moveTo>
                    <a:lnTo>
                      <a:pt x="117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93840" y="4845600"/>
                <a:ext cx="140040" cy="9180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2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0" y="63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3"/>
                    </a:lnTo>
                    <a:lnTo>
                      <a:pt x="2" y="63"/>
                    </a:lnTo>
                    <a:lnTo>
                      <a:pt x="2" y="63"/>
                    </a:lnTo>
                    <a:lnTo>
                      <a:pt x="2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454920" y="4845600"/>
                <a:ext cx="135360" cy="91800"/>
              </a:xfrm>
              <a:custGeom>
                <a:avLst/>
                <a:gdLst/>
                <a:ahLst/>
                <a:rect l="l" t="t" r="r" b="b"/>
                <a:pathLst>
                  <a:path w="121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19" y="63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1"/>
                    </a:lnTo>
                    <a:lnTo>
                      <a:pt x="119" y="1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3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624120" y="4845600"/>
                <a:ext cx="137520" cy="91800"/>
              </a:xfrm>
              <a:custGeom>
                <a:avLst/>
                <a:gdLst/>
                <a:ahLst/>
                <a:rect l="l" t="t" r="r" b="b"/>
                <a:pathLst>
                  <a:path w="123" h="63">
                    <a:moveTo>
                      <a:pt x="3" y="63"/>
                    </a:moveTo>
                    <a:lnTo>
                      <a:pt x="118" y="63"/>
                    </a:lnTo>
                    <a:lnTo>
                      <a:pt x="119" y="63"/>
                    </a:lnTo>
                    <a:lnTo>
                      <a:pt x="121" y="63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1"/>
                    </a:lnTo>
                    <a:lnTo>
                      <a:pt x="122" y="1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3"/>
                    </a:lnTo>
                    <a:lnTo>
                      <a:pt x="3" y="63"/>
                    </a:lnTo>
                    <a:lnTo>
                      <a:pt x="3" y="63"/>
                    </a:lnTo>
                    <a:lnTo>
                      <a:pt x="3" y="6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624120" y="4406040"/>
                <a:ext cx="137520" cy="9180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1" y="64"/>
                    </a:lnTo>
                    <a:lnTo>
                      <a:pt x="122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2" y="0"/>
                    </a:lnTo>
                    <a:lnTo>
                      <a:pt x="121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54920" y="4406040"/>
                <a:ext cx="135360" cy="91800"/>
              </a:xfrm>
              <a:custGeom>
                <a:avLst/>
                <a:gdLst/>
                <a:ahLst/>
                <a:rect l="l" t="t" r="r" b="b"/>
                <a:pathLst>
                  <a:path w="121" h="64">
                    <a:moveTo>
                      <a:pt x="3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61"/>
                    </a:lnTo>
                    <a:lnTo>
                      <a:pt x="121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2" y="64"/>
                    </a:lnTo>
                    <a:lnTo>
                      <a:pt x="3" y="64"/>
                    </a:lnTo>
                    <a:lnTo>
                      <a:pt x="3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093840" y="4406040"/>
                <a:ext cx="140040" cy="91800"/>
              </a:xfrm>
              <a:custGeom>
                <a:avLst/>
                <a:gdLst/>
                <a:ahLst/>
                <a:rect l="l" t="t" r="r" b="b"/>
                <a:pathLst>
                  <a:path w="123" h="64">
                    <a:moveTo>
                      <a:pt x="2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1" y="62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61"/>
                    </a:lnTo>
                    <a:lnTo>
                      <a:pt x="123" y="3"/>
                    </a:lnTo>
                    <a:lnTo>
                      <a:pt x="121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27160" y="4406040"/>
                <a:ext cx="135360" cy="91800"/>
              </a:xfrm>
              <a:custGeom>
                <a:avLst/>
                <a:gdLst/>
                <a:ahLst/>
                <a:rect l="l" t="t" r="r" b="b"/>
                <a:pathLst>
                  <a:path w="120" h="64">
                    <a:moveTo>
                      <a:pt x="2" y="64"/>
                    </a:moveTo>
                    <a:lnTo>
                      <a:pt x="117" y="64"/>
                    </a:lnTo>
                    <a:lnTo>
                      <a:pt x="119" y="64"/>
                    </a:lnTo>
                    <a:lnTo>
                      <a:pt x="119" y="64"/>
                    </a:lnTo>
                    <a:lnTo>
                      <a:pt x="119" y="62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61"/>
                    </a:lnTo>
                    <a:lnTo>
                      <a:pt x="120" y="3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4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2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2755800" y="4406040"/>
                <a:ext cx="137520" cy="91800"/>
              </a:xfrm>
              <a:custGeom>
                <a:avLst/>
                <a:gdLst/>
                <a:ahLst/>
                <a:rect l="l" t="t" r="r" b="b"/>
                <a:pathLst>
                  <a:path w="122" h="64">
                    <a:moveTo>
                      <a:pt x="4" y="64"/>
                    </a:moveTo>
                    <a:lnTo>
                      <a:pt x="118" y="64"/>
                    </a:lnTo>
                    <a:lnTo>
                      <a:pt x="119" y="64"/>
                    </a:lnTo>
                    <a:lnTo>
                      <a:pt x="120" y="64"/>
                    </a:lnTo>
                    <a:lnTo>
                      <a:pt x="122" y="62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61"/>
                    </a:lnTo>
                    <a:lnTo>
                      <a:pt x="122" y="3"/>
                    </a:lnTo>
                    <a:lnTo>
                      <a:pt x="122" y="0"/>
                    </a:lnTo>
                    <a:lnTo>
                      <a:pt x="120" y="0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3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2363760" y="4406040"/>
                <a:ext cx="175680" cy="91800"/>
              </a:xfrm>
              <a:custGeom>
                <a:avLst/>
                <a:gdLst/>
                <a:ahLst/>
                <a:rect l="l" t="t" r="r" b="b"/>
                <a:pathLst>
                  <a:path w="155" h="64">
                    <a:moveTo>
                      <a:pt x="4" y="64"/>
                    </a:moveTo>
                    <a:lnTo>
                      <a:pt x="151" y="64"/>
                    </a:lnTo>
                    <a:lnTo>
                      <a:pt x="153" y="64"/>
                    </a:lnTo>
                    <a:lnTo>
                      <a:pt x="154" y="64"/>
                    </a:lnTo>
                    <a:lnTo>
                      <a:pt x="155" y="62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61"/>
                    </a:lnTo>
                    <a:lnTo>
                      <a:pt x="155" y="3"/>
                    </a:lnTo>
                    <a:lnTo>
                      <a:pt x="155" y="0"/>
                    </a:lnTo>
                    <a:lnTo>
                      <a:pt x="154" y="0"/>
                    </a:lnTo>
                    <a:lnTo>
                      <a:pt x="153" y="0"/>
                    </a:lnTo>
                    <a:lnTo>
                      <a:pt x="15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1" y="64"/>
                    </a:lnTo>
                    <a:lnTo>
                      <a:pt x="2" y="64"/>
                    </a:lnTo>
                    <a:lnTo>
                      <a:pt x="4" y="64"/>
                    </a:lnTo>
                    <a:lnTo>
                      <a:pt x="4" y="6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449600" y="4115160"/>
                <a:ext cx="72000" cy="12384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6"/>
                    </a:lnTo>
                    <a:lnTo>
                      <a:pt x="1" y="86"/>
                    </a:lnTo>
                    <a:lnTo>
                      <a:pt x="3" y="87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3" y="87"/>
                    </a:lnTo>
                    <a:lnTo>
                      <a:pt x="64" y="87"/>
                    </a:lnTo>
                    <a:lnTo>
                      <a:pt x="65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1"/>
                    </a:lnTo>
                    <a:lnTo>
                      <a:pt x="65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582440" y="4011480"/>
                <a:ext cx="114840" cy="123840"/>
              </a:xfrm>
              <a:custGeom>
                <a:avLst/>
                <a:gdLst/>
                <a:ahLst/>
                <a:rect l="l" t="t" r="r" b="b"/>
                <a:pathLst>
                  <a:path w="103" h="85">
                    <a:moveTo>
                      <a:pt x="0" y="0"/>
                    </a:moveTo>
                    <a:lnTo>
                      <a:pt x="0" y="80"/>
                    </a:lnTo>
                    <a:lnTo>
                      <a:pt x="1" y="83"/>
                    </a:lnTo>
                    <a:lnTo>
                      <a:pt x="1" y="84"/>
                    </a:lnTo>
                    <a:lnTo>
                      <a:pt x="4" y="85"/>
                    </a:lnTo>
                    <a:lnTo>
                      <a:pt x="5" y="85"/>
                    </a:lnTo>
                    <a:lnTo>
                      <a:pt x="5" y="85"/>
                    </a:lnTo>
                    <a:lnTo>
                      <a:pt x="98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80"/>
                    </a:lnTo>
                    <a:lnTo>
                      <a:pt x="10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629600" y="4282200"/>
                <a:ext cx="72360" cy="126360"/>
              </a:xfrm>
              <a:custGeom>
                <a:avLst/>
                <a:gdLst/>
                <a:ahLst/>
                <a:rect l="l" t="t" r="r" b="b"/>
                <a:pathLst>
                  <a:path w="65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2" y="89"/>
                    </a:lnTo>
                    <a:lnTo>
                      <a:pt x="3" y="90"/>
                    </a:lnTo>
                    <a:lnTo>
                      <a:pt x="3" y="90"/>
                    </a:lnTo>
                    <a:lnTo>
                      <a:pt x="62" y="90"/>
                    </a:lnTo>
                    <a:lnTo>
                      <a:pt x="63" y="89"/>
                    </a:lnTo>
                    <a:lnTo>
                      <a:pt x="65" y="89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87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763160" y="4282200"/>
                <a:ext cx="73800" cy="12636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2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5" y="89"/>
                    </a:lnTo>
                    <a:lnTo>
                      <a:pt x="67" y="89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8" y="2"/>
                    </a:lnTo>
                    <a:lnTo>
                      <a:pt x="67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923000" y="4282200"/>
                <a:ext cx="76680" cy="126360"/>
              </a:xfrm>
              <a:custGeom>
                <a:avLst/>
                <a:gdLst/>
                <a:ahLst/>
                <a:rect l="l" t="t" r="r" b="b"/>
                <a:pathLst>
                  <a:path w="68" h="90">
                    <a:moveTo>
                      <a:pt x="0" y="3"/>
                    </a:moveTo>
                    <a:lnTo>
                      <a:pt x="0" y="87"/>
                    </a:lnTo>
                    <a:lnTo>
                      <a:pt x="0" y="87"/>
                    </a:lnTo>
                    <a:lnTo>
                      <a:pt x="1" y="89"/>
                    </a:lnTo>
                    <a:lnTo>
                      <a:pt x="3" y="89"/>
                    </a:lnTo>
                    <a:lnTo>
                      <a:pt x="4" y="90"/>
                    </a:lnTo>
                    <a:lnTo>
                      <a:pt x="4" y="90"/>
                    </a:lnTo>
                    <a:lnTo>
                      <a:pt x="63" y="90"/>
                    </a:lnTo>
                    <a:lnTo>
                      <a:pt x="64" y="89"/>
                    </a:lnTo>
                    <a:lnTo>
                      <a:pt x="67" y="89"/>
                    </a:lnTo>
                    <a:lnTo>
                      <a:pt x="67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87"/>
                    </a:lnTo>
                    <a:lnTo>
                      <a:pt x="68" y="3"/>
                    </a:lnTo>
                    <a:lnTo>
                      <a:pt x="67" y="2"/>
                    </a:lnTo>
                    <a:lnTo>
                      <a:pt x="67" y="0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923000" y="4011480"/>
                <a:ext cx="114840" cy="123840"/>
              </a:xfrm>
              <a:custGeom>
                <a:avLst/>
                <a:gdLst/>
                <a:ahLst/>
                <a:rect l="l" t="t" r="r" b="b"/>
                <a:pathLst>
                  <a:path w="102" h="85">
                    <a:moveTo>
                      <a:pt x="0" y="0"/>
                    </a:moveTo>
                    <a:lnTo>
                      <a:pt x="0" y="80"/>
                    </a:lnTo>
                    <a:lnTo>
                      <a:pt x="0" y="83"/>
                    </a:lnTo>
                    <a:lnTo>
                      <a:pt x="1" y="84"/>
                    </a:lnTo>
                    <a:lnTo>
                      <a:pt x="3" y="85"/>
                    </a:lnTo>
                    <a:lnTo>
                      <a:pt x="4" y="85"/>
                    </a:lnTo>
                    <a:lnTo>
                      <a:pt x="4" y="85"/>
                    </a:lnTo>
                    <a:lnTo>
                      <a:pt x="97" y="85"/>
                    </a:lnTo>
                    <a:lnTo>
                      <a:pt x="99" y="85"/>
                    </a:lnTo>
                    <a:lnTo>
                      <a:pt x="100" y="84"/>
                    </a:lnTo>
                    <a:lnTo>
                      <a:pt x="102" y="83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80"/>
                    </a:lnTo>
                    <a:lnTo>
                      <a:pt x="102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925160" y="4546800"/>
                <a:ext cx="56160" cy="71640"/>
              </a:xfrm>
              <a:custGeom>
                <a:avLst/>
                <a:gdLst/>
                <a:ahLst/>
                <a:rect l="l" t="t" r="r" b="b"/>
                <a:pathLst>
                  <a:path w="51" h="50">
                    <a:moveTo>
                      <a:pt x="51" y="25"/>
                    </a:moveTo>
                    <a:lnTo>
                      <a:pt x="51" y="20"/>
                    </a:lnTo>
                    <a:lnTo>
                      <a:pt x="49" y="16"/>
                    </a:lnTo>
                    <a:lnTo>
                      <a:pt x="47" y="11"/>
                    </a:lnTo>
                    <a:lnTo>
                      <a:pt x="43" y="7"/>
                    </a:lnTo>
                    <a:lnTo>
                      <a:pt x="39" y="5"/>
                    </a:lnTo>
                    <a:lnTo>
                      <a:pt x="35" y="2"/>
                    </a:lnTo>
                    <a:lnTo>
                      <a:pt x="30" y="1"/>
                    </a:lnTo>
                    <a:lnTo>
                      <a:pt x="25" y="0"/>
                    </a:lnTo>
                    <a:lnTo>
                      <a:pt x="20" y="1"/>
                    </a:lnTo>
                    <a:lnTo>
                      <a:pt x="17" y="2"/>
                    </a:lnTo>
                    <a:lnTo>
                      <a:pt x="12" y="5"/>
                    </a:lnTo>
                    <a:lnTo>
                      <a:pt x="8" y="7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2" y="20"/>
                    </a:lnTo>
                    <a:lnTo>
                      <a:pt x="0" y="25"/>
                    </a:lnTo>
                    <a:lnTo>
                      <a:pt x="2" y="30"/>
                    </a:lnTo>
                    <a:lnTo>
                      <a:pt x="3" y="35"/>
                    </a:lnTo>
                    <a:lnTo>
                      <a:pt x="5" y="39"/>
                    </a:lnTo>
                    <a:lnTo>
                      <a:pt x="8" y="43"/>
                    </a:lnTo>
                    <a:lnTo>
                      <a:pt x="12" y="46"/>
                    </a:lnTo>
                    <a:lnTo>
                      <a:pt x="17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7" y="39"/>
                    </a:lnTo>
                    <a:lnTo>
                      <a:pt x="49" y="35"/>
                    </a:lnTo>
                    <a:lnTo>
                      <a:pt x="51" y="30"/>
                    </a:lnTo>
                    <a:lnTo>
                      <a:pt x="51" y="25"/>
                    </a:lnTo>
                    <a:lnTo>
                      <a:pt x="51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898160" y="4718880"/>
                <a:ext cx="140040" cy="80640"/>
              </a:xfrm>
              <a:custGeom>
                <a:avLst/>
                <a:gdLst/>
                <a:ahLst/>
                <a:rect l="l" t="t" r="r" b="b"/>
                <a:pathLst>
                  <a:path w="123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53"/>
                    </a:lnTo>
                    <a:lnTo>
                      <a:pt x="123" y="2"/>
                    </a:lnTo>
                    <a:lnTo>
                      <a:pt x="123" y="2"/>
                    </a:lnTo>
                    <a:lnTo>
                      <a:pt x="121" y="1"/>
                    </a:lnTo>
                    <a:lnTo>
                      <a:pt x="120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86480" y="4718880"/>
                <a:ext cx="137520" cy="80640"/>
              </a:xfrm>
              <a:custGeom>
                <a:avLst/>
                <a:gdLst/>
                <a:ahLst/>
                <a:rect l="l" t="t" r="r" b="b"/>
                <a:pathLst>
                  <a:path w="120" h="54">
                    <a:moveTo>
                      <a:pt x="2" y="54"/>
                    </a:moveTo>
                    <a:lnTo>
                      <a:pt x="118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0" y="54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53"/>
                    </a:lnTo>
                    <a:lnTo>
                      <a:pt x="120" y="2"/>
                    </a:lnTo>
                    <a:lnTo>
                      <a:pt x="120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8" y="0"/>
                    </a:lnTo>
                    <a:lnTo>
                      <a:pt x="118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2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474080" y="4718880"/>
                <a:ext cx="137520" cy="80640"/>
              </a:xfrm>
              <a:custGeom>
                <a:avLst/>
                <a:gdLst/>
                <a:ahLst/>
                <a:rect l="l" t="t" r="r" b="b"/>
                <a:pathLst>
                  <a:path w="121" h="54">
                    <a:moveTo>
                      <a:pt x="3" y="54"/>
                    </a:moveTo>
                    <a:lnTo>
                      <a:pt x="117" y="54"/>
                    </a:lnTo>
                    <a:lnTo>
                      <a:pt x="119" y="54"/>
                    </a:lnTo>
                    <a:lnTo>
                      <a:pt x="120" y="54"/>
                    </a:lnTo>
                    <a:lnTo>
                      <a:pt x="121" y="54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53"/>
                    </a:lnTo>
                    <a:lnTo>
                      <a:pt x="121" y="2"/>
                    </a:lnTo>
                    <a:lnTo>
                      <a:pt x="121" y="2"/>
                    </a:lnTo>
                    <a:lnTo>
                      <a:pt x="120" y="1"/>
                    </a:lnTo>
                    <a:lnTo>
                      <a:pt x="119" y="0"/>
                    </a:lnTo>
                    <a:lnTo>
                      <a:pt x="117" y="0"/>
                    </a:lnTo>
                    <a:lnTo>
                      <a:pt x="117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3"/>
                    </a:lnTo>
                    <a:lnTo>
                      <a:pt x="0" y="54"/>
                    </a:lnTo>
                    <a:lnTo>
                      <a:pt x="1" y="54"/>
                    </a:lnTo>
                    <a:lnTo>
                      <a:pt x="2" y="54"/>
                    </a:lnTo>
                    <a:lnTo>
                      <a:pt x="3" y="54"/>
                    </a:lnTo>
                    <a:lnTo>
                      <a:pt x="3" y="5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528440" y="454680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47" h="50">
                    <a:moveTo>
                      <a:pt x="47" y="25"/>
                    </a:moveTo>
                    <a:lnTo>
                      <a:pt x="47" y="20"/>
                    </a:lnTo>
                    <a:lnTo>
                      <a:pt x="46" y="16"/>
                    </a:lnTo>
                    <a:lnTo>
                      <a:pt x="43" y="11"/>
                    </a:lnTo>
                    <a:lnTo>
                      <a:pt x="41" y="7"/>
                    </a:lnTo>
                    <a:lnTo>
                      <a:pt x="37" y="5"/>
                    </a:lnTo>
                    <a:lnTo>
                      <a:pt x="33" y="2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3" y="2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3" y="39"/>
                    </a:lnTo>
                    <a:lnTo>
                      <a:pt x="6" y="43"/>
                    </a:lnTo>
                    <a:lnTo>
                      <a:pt x="10" y="46"/>
                    </a:lnTo>
                    <a:lnTo>
                      <a:pt x="13" y="48"/>
                    </a:lnTo>
                    <a:lnTo>
                      <a:pt x="18" y="50"/>
                    </a:lnTo>
                    <a:lnTo>
                      <a:pt x="22" y="50"/>
                    </a:lnTo>
                    <a:lnTo>
                      <a:pt x="28" y="50"/>
                    </a:lnTo>
                    <a:lnTo>
                      <a:pt x="33" y="48"/>
                    </a:lnTo>
                    <a:lnTo>
                      <a:pt x="37" y="46"/>
                    </a:lnTo>
                    <a:lnTo>
                      <a:pt x="41" y="43"/>
                    </a:lnTo>
                    <a:lnTo>
                      <a:pt x="43" y="39"/>
                    </a:lnTo>
                    <a:lnTo>
                      <a:pt x="46" y="35"/>
                    </a:lnTo>
                    <a:lnTo>
                      <a:pt x="47" y="30"/>
                    </a:lnTo>
                    <a:lnTo>
                      <a:pt x="47" y="25"/>
                    </a:lnTo>
                    <a:lnTo>
                      <a:pt x="47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504400" y="4400280"/>
                <a:ext cx="56520" cy="7164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5"/>
                    </a:lnTo>
                    <a:lnTo>
                      <a:pt x="35" y="3"/>
                    </a:lnTo>
                    <a:lnTo>
                      <a:pt x="30" y="2"/>
                    </a:lnTo>
                    <a:lnTo>
                      <a:pt x="25" y="0"/>
                    </a:lnTo>
                    <a:lnTo>
                      <a:pt x="20" y="2"/>
                    </a:lnTo>
                    <a:lnTo>
                      <a:pt x="16" y="3"/>
                    </a:lnTo>
                    <a:lnTo>
                      <a:pt x="11" y="5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6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504400" y="4655880"/>
                <a:ext cx="56520" cy="71640"/>
              </a:xfrm>
              <a:custGeom>
                <a:avLst/>
                <a:gdLst/>
                <a:ahLst/>
                <a:rect l="l" t="t" r="r" b="b"/>
                <a:pathLst>
                  <a:path w="50" h="51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2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2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31"/>
                    </a:lnTo>
                    <a:lnTo>
                      <a:pt x="3" y="34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1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4"/>
                    </a:lnTo>
                    <a:lnTo>
                      <a:pt x="50" y="31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504400" y="4912200"/>
                <a:ext cx="56520" cy="69120"/>
              </a:xfrm>
              <a:custGeom>
                <a:avLst/>
                <a:gdLst/>
                <a:ahLst/>
                <a:rect l="l" t="t" r="r" b="b"/>
                <a:pathLst>
                  <a:path w="50" h="50">
                    <a:moveTo>
                      <a:pt x="50" y="26"/>
                    </a:moveTo>
                    <a:lnTo>
                      <a:pt x="50" y="21"/>
                    </a:lnTo>
                    <a:lnTo>
                      <a:pt x="49" y="16"/>
                    </a:lnTo>
                    <a:lnTo>
                      <a:pt x="46" y="11"/>
                    </a:lnTo>
                    <a:lnTo>
                      <a:pt x="43" y="8"/>
                    </a:lnTo>
                    <a:lnTo>
                      <a:pt x="39" y="4"/>
                    </a:lnTo>
                    <a:lnTo>
                      <a:pt x="35" y="2"/>
                    </a:lnTo>
                    <a:lnTo>
                      <a:pt x="30" y="0"/>
                    </a:lnTo>
                    <a:lnTo>
                      <a:pt x="25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8" y="8"/>
                    </a:lnTo>
                    <a:lnTo>
                      <a:pt x="5" y="11"/>
                    </a:lnTo>
                    <a:lnTo>
                      <a:pt x="3" y="16"/>
                    </a:lnTo>
                    <a:lnTo>
                      <a:pt x="1" y="21"/>
                    </a:lnTo>
                    <a:lnTo>
                      <a:pt x="0" y="26"/>
                    </a:lnTo>
                    <a:lnTo>
                      <a:pt x="1" y="29"/>
                    </a:lnTo>
                    <a:lnTo>
                      <a:pt x="3" y="35"/>
                    </a:lnTo>
                    <a:lnTo>
                      <a:pt x="5" y="40"/>
                    </a:lnTo>
                    <a:lnTo>
                      <a:pt x="8" y="43"/>
                    </a:lnTo>
                    <a:lnTo>
                      <a:pt x="11" y="46"/>
                    </a:lnTo>
                    <a:lnTo>
                      <a:pt x="16" y="48"/>
                    </a:lnTo>
                    <a:lnTo>
                      <a:pt x="20" y="50"/>
                    </a:lnTo>
                    <a:lnTo>
                      <a:pt x="25" y="50"/>
                    </a:lnTo>
                    <a:lnTo>
                      <a:pt x="30" y="50"/>
                    </a:lnTo>
                    <a:lnTo>
                      <a:pt x="35" y="48"/>
                    </a:lnTo>
                    <a:lnTo>
                      <a:pt x="39" y="46"/>
                    </a:lnTo>
                    <a:lnTo>
                      <a:pt x="43" y="43"/>
                    </a:lnTo>
                    <a:lnTo>
                      <a:pt x="46" y="40"/>
                    </a:lnTo>
                    <a:lnTo>
                      <a:pt x="49" y="35"/>
                    </a:lnTo>
                    <a:lnTo>
                      <a:pt x="50" y="29"/>
                    </a:lnTo>
                    <a:lnTo>
                      <a:pt x="50" y="26"/>
                    </a:lnTo>
                    <a:lnTo>
                      <a:pt x="50" y="2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58720" y="4006440"/>
                <a:ext cx="1199520" cy="3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58720" y="4006440"/>
                <a:ext cx="1199520" cy="396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25840" y="4106880"/>
                <a:ext cx="1228680" cy="937440"/>
              </a:xfrm>
              <a:custGeom>
                <a:avLst/>
                <a:gdLst/>
                <a:ahLst/>
                <a:rect l="l" t="t" r="r" b="b"/>
                <a:pathLst>
                  <a:path w="1091" h="653">
                    <a:moveTo>
                      <a:pt x="775" y="559"/>
                    </a:moveTo>
                    <a:lnTo>
                      <a:pt x="795" y="548"/>
                    </a:lnTo>
                    <a:lnTo>
                      <a:pt x="795" y="525"/>
                    </a:lnTo>
                    <a:lnTo>
                      <a:pt x="775" y="514"/>
                    </a:lnTo>
                    <a:lnTo>
                      <a:pt x="754" y="525"/>
                    </a:lnTo>
                    <a:lnTo>
                      <a:pt x="754" y="548"/>
                    </a:lnTo>
                    <a:lnTo>
                      <a:pt x="775" y="559"/>
                    </a:lnTo>
                    <a:close/>
                    <a:moveTo>
                      <a:pt x="829" y="559"/>
                    </a:moveTo>
                    <a:lnTo>
                      <a:pt x="849" y="548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48"/>
                    </a:lnTo>
                    <a:lnTo>
                      <a:pt x="829" y="559"/>
                    </a:lnTo>
                    <a:close/>
                    <a:moveTo>
                      <a:pt x="883" y="559"/>
                    </a:moveTo>
                    <a:lnTo>
                      <a:pt x="904" y="548"/>
                    </a:lnTo>
                    <a:lnTo>
                      <a:pt x="904" y="525"/>
                    </a:lnTo>
                    <a:lnTo>
                      <a:pt x="883" y="514"/>
                    </a:lnTo>
                    <a:lnTo>
                      <a:pt x="863" y="525"/>
                    </a:lnTo>
                    <a:lnTo>
                      <a:pt x="863" y="548"/>
                    </a:lnTo>
                    <a:lnTo>
                      <a:pt x="883" y="559"/>
                    </a:lnTo>
                    <a:close/>
                    <a:moveTo>
                      <a:pt x="938" y="559"/>
                    </a:moveTo>
                    <a:lnTo>
                      <a:pt x="958" y="548"/>
                    </a:lnTo>
                    <a:lnTo>
                      <a:pt x="958" y="525"/>
                    </a:lnTo>
                    <a:lnTo>
                      <a:pt x="938" y="514"/>
                    </a:lnTo>
                    <a:lnTo>
                      <a:pt x="916" y="525"/>
                    </a:lnTo>
                    <a:lnTo>
                      <a:pt x="916" y="548"/>
                    </a:lnTo>
                    <a:lnTo>
                      <a:pt x="938" y="559"/>
                    </a:lnTo>
                    <a:close/>
                    <a:moveTo>
                      <a:pt x="666" y="559"/>
                    </a:moveTo>
                    <a:lnTo>
                      <a:pt x="686" y="548"/>
                    </a:lnTo>
                    <a:lnTo>
                      <a:pt x="686" y="525"/>
                    </a:lnTo>
                    <a:lnTo>
                      <a:pt x="666" y="514"/>
                    </a:lnTo>
                    <a:lnTo>
                      <a:pt x="647" y="525"/>
                    </a:lnTo>
                    <a:lnTo>
                      <a:pt x="647" y="548"/>
                    </a:lnTo>
                    <a:lnTo>
                      <a:pt x="666" y="559"/>
                    </a:lnTo>
                    <a:close/>
                    <a:moveTo>
                      <a:pt x="720" y="559"/>
                    </a:moveTo>
                    <a:lnTo>
                      <a:pt x="740" y="548"/>
                    </a:lnTo>
                    <a:lnTo>
                      <a:pt x="740" y="525"/>
                    </a:lnTo>
                    <a:lnTo>
                      <a:pt x="720" y="514"/>
                    </a:lnTo>
                    <a:lnTo>
                      <a:pt x="700" y="525"/>
                    </a:lnTo>
                    <a:lnTo>
                      <a:pt x="700" y="548"/>
                    </a:lnTo>
                    <a:lnTo>
                      <a:pt x="720" y="559"/>
                    </a:lnTo>
                    <a:close/>
                    <a:moveTo>
                      <a:pt x="505" y="559"/>
                    </a:moveTo>
                    <a:lnTo>
                      <a:pt x="525" y="548"/>
                    </a:lnTo>
                    <a:lnTo>
                      <a:pt x="525" y="525"/>
                    </a:lnTo>
                    <a:lnTo>
                      <a:pt x="505" y="514"/>
                    </a:lnTo>
                    <a:lnTo>
                      <a:pt x="484" y="525"/>
                    </a:lnTo>
                    <a:lnTo>
                      <a:pt x="484" y="548"/>
                    </a:lnTo>
                    <a:lnTo>
                      <a:pt x="505" y="559"/>
                    </a:lnTo>
                    <a:close/>
                    <a:moveTo>
                      <a:pt x="559" y="559"/>
                    </a:moveTo>
                    <a:lnTo>
                      <a:pt x="579" y="548"/>
                    </a:lnTo>
                    <a:lnTo>
                      <a:pt x="579" y="525"/>
                    </a:lnTo>
                    <a:lnTo>
                      <a:pt x="559" y="514"/>
                    </a:lnTo>
                    <a:lnTo>
                      <a:pt x="539" y="525"/>
                    </a:lnTo>
                    <a:lnTo>
                      <a:pt x="539" y="548"/>
                    </a:lnTo>
                    <a:lnTo>
                      <a:pt x="559" y="559"/>
                    </a:lnTo>
                    <a:close/>
                    <a:moveTo>
                      <a:pt x="613" y="559"/>
                    </a:moveTo>
                    <a:lnTo>
                      <a:pt x="634" y="548"/>
                    </a:lnTo>
                    <a:lnTo>
                      <a:pt x="634" y="525"/>
                    </a:lnTo>
                    <a:lnTo>
                      <a:pt x="613" y="514"/>
                    </a:lnTo>
                    <a:lnTo>
                      <a:pt x="593" y="525"/>
                    </a:lnTo>
                    <a:lnTo>
                      <a:pt x="593" y="548"/>
                    </a:lnTo>
                    <a:lnTo>
                      <a:pt x="613" y="559"/>
                    </a:lnTo>
                    <a:close/>
                    <a:moveTo>
                      <a:pt x="21" y="559"/>
                    </a:moveTo>
                    <a:lnTo>
                      <a:pt x="41" y="548"/>
                    </a:lnTo>
                    <a:lnTo>
                      <a:pt x="41" y="525"/>
                    </a:lnTo>
                    <a:lnTo>
                      <a:pt x="21" y="514"/>
                    </a:lnTo>
                    <a:lnTo>
                      <a:pt x="0" y="525"/>
                    </a:lnTo>
                    <a:lnTo>
                      <a:pt x="0" y="548"/>
                    </a:lnTo>
                    <a:lnTo>
                      <a:pt x="21" y="559"/>
                    </a:lnTo>
                    <a:close/>
                    <a:moveTo>
                      <a:pt x="74" y="559"/>
                    </a:moveTo>
                    <a:lnTo>
                      <a:pt x="93" y="548"/>
                    </a:lnTo>
                    <a:lnTo>
                      <a:pt x="93" y="525"/>
                    </a:lnTo>
                    <a:lnTo>
                      <a:pt x="74" y="514"/>
                    </a:lnTo>
                    <a:lnTo>
                      <a:pt x="54" y="525"/>
                    </a:lnTo>
                    <a:lnTo>
                      <a:pt x="54" y="548"/>
                    </a:lnTo>
                    <a:lnTo>
                      <a:pt x="74" y="559"/>
                    </a:lnTo>
                    <a:close/>
                    <a:moveTo>
                      <a:pt x="127" y="559"/>
                    </a:moveTo>
                    <a:lnTo>
                      <a:pt x="147" y="548"/>
                    </a:lnTo>
                    <a:lnTo>
                      <a:pt x="147" y="525"/>
                    </a:lnTo>
                    <a:lnTo>
                      <a:pt x="127" y="514"/>
                    </a:lnTo>
                    <a:lnTo>
                      <a:pt x="107" y="525"/>
                    </a:lnTo>
                    <a:lnTo>
                      <a:pt x="107" y="548"/>
                    </a:lnTo>
                    <a:lnTo>
                      <a:pt x="127" y="559"/>
                    </a:lnTo>
                    <a:close/>
                    <a:moveTo>
                      <a:pt x="181" y="559"/>
                    </a:moveTo>
                    <a:lnTo>
                      <a:pt x="201" y="548"/>
                    </a:lnTo>
                    <a:lnTo>
                      <a:pt x="201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48"/>
                    </a:lnTo>
                    <a:lnTo>
                      <a:pt x="181" y="559"/>
                    </a:lnTo>
                    <a:close/>
                    <a:moveTo>
                      <a:pt x="236" y="559"/>
                    </a:moveTo>
                    <a:lnTo>
                      <a:pt x="256" y="548"/>
                    </a:lnTo>
                    <a:lnTo>
                      <a:pt x="256" y="525"/>
                    </a:lnTo>
                    <a:lnTo>
                      <a:pt x="236" y="514"/>
                    </a:lnTo>
                    <a:lnTo>
                      <a:pt x="215" y="525"/>
                    </a:lnTo>
                    <a:lnTo>
                      <a:pt x="215" y="548"/>
                    </a:lnTo>
                    <a:lnTo>
                      <a:pt x="236" y="559"/>
                    </a:lnTo>
                    <a:close/>
                    <a:moveTo>
                      <a:pt x="290" y="559"/>
                    </a:moveTo>
                    <a:lnTo>
                      <a:pt x="310" y="548"/>
                    </a:lnTo>
                    <a:lnTo>
                      <a:pt x="310" y="525"/>
                    </a:lnTo>
                    <a:lnTo>
                      <a:pt x="290" y="514"/>
                    </a:lnTo>
                    <a:lnTo>
                      <a:pt x="270" y="525"/>
                    </a:lnTo>
                    <a:lnTo>
                      <a:pt x="270" y="548"/>
                    </a:lnTo>
                    <a:lnTo>
                      <a:pt x="290" y="559"/>
                    </a:lnTo>
                    <a:close/>
                    <a:moveTo>
                      <a:pt x="801" y="511"/>
                    </a:moveTo>
                    <a:lnTo>
                      <a:pt x="821" y="500"/>
                    </a:lnTo>
                    <a:lnTo>
                      <a:pt x="821" y="477"/>
                    </a:lnTo>
                    <a:lnTo>
                      <a:pt x="801" y="466"/>
                    </a:lnTo>
                    <a:lnTo>
                      <a:pt x="781" y="477"/>
                    </a:lnTo>
                    <a:lnTo>
                      <a:pt x="781" y="500"/>
                    </a:lnTo>
                    <a:lnTo>
                      <a:pt x="801" y="511"/>
                    </a:lnTo>
                    <a:close/>
                    <a:moveTo>
                      <a:pt x="856" y="511"/>
                    </a:moveTo>
                    <a:lnTo>
                      <a:pt x="876" y="500"/>
                    </a:lnTo>
                    <a:lnTo>
                      <a:pt x="876" y="477"/>
                    </a:lnTo>
                    <a:lnTo>
                      <a:pt x="856" y="466"/>
                    </a:lnTo>
                    <a:lnTo>
                      <a:pt x="835" y="477"/>
                    </a:lnTo>
                    <a:lnTo>
                      <a:pt x="835" y="500"/>
                    </a:lnTo>
                    <a:lnTo>
                      <a:pt x="856" y="511"/>
                    </a:lnTo>
                    <a:close/>
                    <a:moveTo>
                      <a:pt x="910" y="511"/>
                    </a:moveTo>
                    <a:lnTo>
                      <a:pt x="930" y="500"/>
                    </a:lnTo>
                    <a:lnTo>
                      <a:pt x="930" y="477"/>
                    </a:lnTo>
                    <a:lnTo>
                      <a:pt x="910" y="466"/>
                    </a:lnTo>
                    <a:lnTo>
                      <a:pt x="890" y="477"/>
                    </a:lnTo>
                    <a:lnTo>
                      <a:pt x="890" y="500"/>
                    </a:lnTo>
                    <a:lnTo>
                      <a:pt x="910" y="511"/>
                    </a:lnTo>
                    <a:close/>
                    <a:moveTo>
                      <a:pt x="587" y="511"/>
                    </a:moveTo>
                    <a:lnTo>
                      <a:pt x="607" y="500"/>
                    </a:lnTo>
                    <a:lnTo>
                      <a:pt x="607" y="477"/>
                    </a:lnTo>
                    <a:lnTo>
                      <a:pt x="587" y="466"/>
                    </a:lnTo>
                    <a:lnTo>
                      <a:pt x="566" y="477"/>
                    </a:lnTo>
                    <a:lnTo>
                      <a:pt x="566" y="500"/>
                    </a:lnTo>
                    <a:lnTo>
                      <a:pt x="587" y="511"/>
                    </a:lnTo>
                    <a:close/>
                    <a:moveTo>
                      <a:pt x="641" y="511"/>
                    </a:moveTo>
                    <a:lnTo>
                      <a:pt x="658" y="500"/>
                    </a:lnTo>
                    <a:lnTo>
                      <a:pt x="658" y="477"/>
                    </a:lnTo>
                    <a:lnTo>
                      <a:pt x="641" y="466"/>
                    </a:lnTo>
                    <a:lnTo>
                      <a:pt x="621" y="477"/>
                    </a:lnTo>
                    <a:lnTo>
                      <a:pt x="621" y="500"/>
                    </a:lnTo>
                    <a:lnTo>
                      <a:pt x="641" y="511"/>
                    </a:lnTo>
                    <a:close/>
                    <a:moveTo>
                      <a:pt x="692" y="511"/>
                    </a:moveTo>
                    <a:lnTo>
                      <a:pt x="713" y="500"/>
                    </a:lnTo>
                    <a:lnTo>
                      <a:pt x="713" y="477"/>
                    </a:lnTo>
                    <a:lnTo>
                      <a:pt x="692" y="466"/>
                    </a:lnTo>
                    <a:lnTo>
                      <a:pt x="675" y="477"/>
                    </a:lnTo>
                    <a:lnTo>
                      <a:pt x="675" y="500"/>
                    </a:lnTo>
                    <a:lnTo>
                      <a:pt x="692" y="511"/>
                    </a:lnTo>
                    <a:close/>
                    <a:moveTo>
                      <a:pt x="747" y="511"/>
                    </a:moveTo>
                    <a:lnTo>
                      <a:pt x="767" y="500"/>
                    </a:lnTo>
                    <a:lnTo>
                      <a:pt x="767" y="477"/>
                    </a:lnTo>
                    <a:lnTo>
                      <a:pt x="747" y="466"/>
                    </a:lnTo>
                    <a:lnTo>
                      <a:pt x="727" y="477"/>
                    </a:lnTo>
                    <a:lnTo>
                      <a:pt x="727" y="500"/>
                    </a:lnTo>
                    <a:lnTo>
                      <a:pt x="747" y="511"/>
                    </a:lnTo>
                    <a:close/>
                    <a:moveTo>
                      <a:pt x="371" y="511"/>
                    </a:moveTo>
                    <a:lnTo>
                      <a:pt x="391" y="500"/>
                    </a:lnTo>
                    <a:lnTo>
                      <a:pt x="391" y="477"/>
                    </a:lnTo>
                    <a:lnTo>
                      <a:pt x="371" y="466"/>
                    </a:lnTo>
                    <a:lnTo>
                      <a:pt x="351" y="477"/>
                    </a:lnTo>
                    <a:lnTo>
                      <a:pt x="351" y="500"/>
                    </a:lnTo>
                    <a:lnTo>
                      <a:pt x="371" y="511"/>
                    </a:lnTo>
                    <a:close/>
                    <a:moveTo>
                      <a:pt x="425" y="511"/>
                    </a:moveTo>
                    <a:lnTo>
                      <a:pt x="447" y="500"/>
                    </a:lnTo>
                    <a:lnTo>
                      <a:pt x="447" y="477"/>
                    </a:lnTo>
                    <a:lnTo>
                      <a:pt x="425" y="466"/>
                    </a:lnTo>
                    <a:lnTo>
                      <a:pt x="405" y="477"/>
                    </a:lnTo>
                    <a:lnTo>
                      <a:pt x="405" y="500"/>
                    </a:lnTo>
                    <a:lnTo>
                      <a:pt x="425" y="511"/>
                    </a:lnTo>
                    <a:close/>
                    <a:moveTo>
                      <a:pt x="480" y="511"/>
                    </a:moveTo>
                    <a:lnTo>
                      <a:pt x="498" y="500"/>
                    </a:lnTo>
                    <a:lnTo>
                      <a:pt x="498" y="477"/>
                    </a:lnTo>
                    <a:lnTo>
                      <a:pt x="480" y="466"/>
                    </a:lnTo>
                    <a:lnTo>
                      <a:pt x="459" y="477"/>
                    </a:lnTo>
                    <a:lnTo>
                      <a:pt x="459" y="500"/>
                    </a:lnTo>
                    <a:lnTo>
                      <a:pt x="480" y="511"/>
                    </a:lnTo>
                    <a:close/>
                    <a:moveTo>
                      <a:pt x="532" y="511"/>
                    </a:moveTo>
                    <a:lnTo>
                      <a:pt x="552" y="500"/>
                    </a:lnTo>
                    <a:lnTo>
                      <a:pt x="552" y="477"/>
                    </a:lnTo>
                    <a:lnTo>
                      <a:pt x="532" y="466"/>
                    </a:lnTo>
                    <a:lnTo>
                      <a:pt x="512" y="477"/>
                    </a:lnTo>
                    <a:lnTo>
                      <a:pt x="512" y="500"/>
                    </a:lnTo>
                    <a:lnTo>
                      <a:pt x="532" y="511"/>
                    </a:lnTo>
                    <a:close/>
                    <a:moveTo>
                      <a:pt x="48" y="511"/>
                    </a:moveTo>
                    <a:lnTo>
                      <a:pt x="68" y="500"/>
                    </a:lnTo>
                    <a:lnTo>
                      <a:pt x="68" y="477"/>
                    </a:lnTo>
                    <a:lnTo>
                      <a:pt x="48" y="466"/>
                    </a:lnTo>
                    <a:lnTo>
                      <a:pt x="27" y="477"/>
                    </a:lnTo>
                    <a:lnTo>
                      <a:pt x="27" y="500"/>
                    </a:lnTo>
                    <a:lnTo>
                      <a:pt x="48" y="511"/>
                    </a:lnTo>
                    <a:close/>
                    <a:moveTo>
                      <a:pt x="99" y="511"/>
                    </a:moveTo>
                    <a:lnTo>
                      <a:pt x="120" y="500"/>
                    </a:lnTo>
                    <a:lnTo>
                      <a:pt x="120" y="477"/>
                    </a:lnTo>
                    <a:lnTo>
                      <a:pt x="99" y="466"/>
                    </a:lnTo>
                    <a:lnTo>
                      <a:pt x="82" y="477"/>
                    </a:lnTo>
                    <a:lnTo>
                      <a:pt x="82" y="500"/>
                    </a:lnTo>
                    <a:lnTo>
                      <a:pt x="99" y="511"/>
                    </a:lnTo>
                    <a:close/>
                    <a:moveTo>
                      <a:pt x="155" y="511"/>
                    </a:moveTo>
                    <a:lnTo>
                      <a:pt x="175" y="500"/>
                    </a:lnTo>
                    <a:lnTo>
                      <a:pt x="175" y="477"/>
                    </a:lnTo>
                    <a:lnTo>
                      <a:pt x="155" y="466"/>
                    </a:lnTo>
                    <a:lnTo>
                      <a:pt x="133" y="477"/>
                    </a:lnTo>
                    <a:lnTo>
                      <a:pt x="133" y="500"/>
                    </a:lnTo>
                    <a:lnTo>
                      <a:pt x="155" y="511"/>
                    </a:lnTo>
                    <a:close/>
                    <a:moveTo>
                      <a:pt x="208" y="511"/>
                    </a:moveTo>
                    <a:lnTo>
                      <a:pt x="229" y="500"/>
                    </a:lnTo>
                    <a:lnTo>
                      <a:pt x="229" y="477"/>
                    </a:lnTo>
                    <a:lnTo>
                      <a:pt x="208" y="466"/>
                    </a:lnTo>
                    <a:lnTo>
                      <a:pt x="188" y="477"/>
                    </a:lnTo>
                    <a:lnTo>
                      <a:pt x="188" y="500"/>
                    </a:lnTo>
                    <a:lnTo>
                      <a:pt x="208" y="511"/>
                    </a:lnTo>
                    <a:close/>
                    <a:moveTo>
                      <a:pt x="262" y="511"/>
                    </a:moveTo>
                    <a:lnTo>
                      <a:pt x="282" y="500"/>
                    </a:lnTo>
                    <a:lnTo>
                      <a:pt x="282" y="477"/>
                    </a:lnTo>
                    <a:lnTo>
                      <a:pt x="262" y="466"/>
                    </a:lnTo>
                    <a:lnTo>
                      <a:pt x="242" y="477"/>
                    </a:lnTo>
                    <a:lnTo>
                      <a:pt x="242" y="500"/>
                    </a:lnTo>
                    <a:lnTo>
                      <a:pt x="262" y="511"/>
                    </a:lnTo>
                    <a:close/>
                    <a:moveTo>
                      <a:pt x="317" y="511"/>
                    </a:moveTo>
                    <a:lnTo>
                      <a:pt x="338" y="500"/>
                    </a:lnTo>
                    <a:lnTo>
                      <a:pt x="338" y="477"/>
                    </a:lnTo>
                    <a:lnTo>
                      <a:pt x="317" y="466"/>
                    </a:lnTo>
                    <a:lnTo>
                      <a:pt x="296" y="477"/>
                    </a:lnTo>
                    <a:lnTo>
                      <a:pt x="296" y="500"/>
                    </a:lnTo>
                    <a:lnTo>
                      <a:pt x="317" y="511"/>
                    </a:lnTo>
                    <a:close/>
                    <a:moveTo>
                      <a:pt x="505" y="466"/>
                    </a:moveTo>
                    <a:lnTo>
                      <a:pt x="525" y="455"/>
                    </a:lnTo>
                    <a:lnTo>
                      <a:pt x="525" y="432"/>
                    </a:lnTo>
                    <a:lnTo>
                      <a:pt x="505" y="421"/>
                    </a:lnTo>
                    <a:lnTo>
                      <a:pt x="484" y="432"/>
                    </a:lnTo>
                    <a:lnTo>
                      <a:pt x="484" y="455"/>
                    </a:lnTo>
                    <a:lnTo>
                      <a:pt x="505" y="466"/>
                    </a:lnTo>
                    <a:close/>
                    <a:moveTo>
                      <a:pt x="559" y="466"/>
                    </a:moveTo>
                    <a:lnTo>
                      <a:pt x="579" y="455"/>
                    </a:lnTo>
                    <a:lnTo>
                      <a:pt x="579" y="432"/>
                    </a:lnTo>
                    <a:lnTo>
                      <a:pt x="559" y="421"/>
                    </a:lnTo>
                    <a:lnTo>
                      <a:pt x="539" y="432"/>
                    </a:lnTo>
                    <a:lnTo>
                      <a:pt x="539" y="455"/>
                    </a:lnTo>
                    <a:lnTo>
                      <a:pt x="559" y="466"/>
                    </a:lnTo>
                    <a:close/>
                    <a:moveTo>
                      <a:pt x="21" y="466"/>
                    </a:moveTo>
                    <a:lnTo>
                      <a:pt x="41" y="455"/>
                    </a:lnTo>
                    <a:lnTo>
                      <a:pt x="41" y="432"/>
                    </a:lnTo>
                    <a:lnTo>
                      <a:pt x="21" y="421"/>
                    </a:lnTo>
                    <a:lnTo>
                      <a:pt x="0" y="432"/>
                    </a:lnTo>
                    <a:lnTo>
                      <a:pt x="0" y="455"/>
                    </a:lnTo>
                    <a:lnTo>
                      <a:pt x="21" y="466"/>
                    </a:lnTo>
                    <a:close/>
                    <a:moveTo>
                      <a:pt x="74" y="466"/>
                    </a:moveTo>
                    <a:lnTo>
                      <a:pt x="93" y="455"/>
                    </a:lnTo>
                    <a:lnTo>
                      <a:pt x="93" y="432"/>
                    </a:lnTo>
                    <a:lnTo>
                      <a:pt x="74" y="421"/>
                    </a:lnTo>
                    <a:lnTo>
                      <a:pt x="54" y="432"/>
                    </a:lnTo>
                    <a:lnTo>
                      <a:pt x="54" y="455"/>
                    </a:lnTo>
                    <a:lnTo>
                      <a:pt x="74" y="466"/>
                    </a:lnTo>
                    <a:close/>
                    <a:moveTo>
                      <a:pt x="127" y="466"/>
                    </a:moveTo>
                    <a:lnTo>
                      <a:pt x="147" y="455"/>
                    </a:lnTo>
                    <a:lnTo>
                      <a:pt x="147" y="432"/>
                    </a:lnTo>
                    <a:lnTo>
                      <a:pt x="127" y="421"/>
                    </a:lnTo>
                    <a:lnTo>
                      <a:pt x="107" y="432"/>
                    </a:lnTo>
                    <a:lnTo>
                      <a:pt x="107" y="455"/>
                    </a:lnTo>
                    <a:lnTo>
                      <a:pt x="127" y="466"/>
                    </a:lnTo>
                    <a:close/>
                    <a:moveTo>
                      <a:pt x="181" y="466"/>
                    </a:moveTo>
                    <a:lnTo>
                      <a:pt x="201" y="455"/>
                    </a:lnTo>
                    <a:lnTo>
                      <a:pt x="201" y="432"/>
                    </a:lnTo>
                    <a:lnTo>
                      <a:pt x="181" y="421"/>
                    </a:lnTo>
                    <a:lnTo>
                      <a:pt x="161" y="432"/>
                    </a:lnTo>
                    <a:lnTo>
                      <a:pt x="161" y="455"/>
                    </a:lnTo>
                    <a:lnTo>
                      <a:pt x="181" y="466"/>
                    </a:lnTo>
                    <a:close/>
                    <a:moveTo>
                      <a:pt x="236" y="466"/>
                    </a:moveTo>
                    <a:lnTo>
                      <a:pt x="256" y="455"/>
                    </a:lnTo>
                    <a:lnTo>
                      <a:pt x="256" y="432"/>
                    </a:lnTo>
                    <a:lnTo>
                      <a:pt x="236" y="421"/>
                    </a:lnTo>
                    <a:lnTo>
                      <a:pt x="215" y="432"/>
                    </a:lnTo>
                    <a:lnTo>
                      <a:pt x="215" y="455"/>
                    </a:lnTo>
                    <a:lnTo>
                      <a:pt x="236" y="466"/>
                    </a:lnTo>
                    <a:close/>
                    <a:moveTo>
                      <a:pt x="290" y="466"/>
                    </a:moveTo>
                    <a:lnTo>
                      <a:pt x="310" y="455"/>
                    </a:lnTo>
                    <a:lnTo>
                      <a:pt x="310" y="432"/>
                    </a:lnTo>
                    <a:lnTo>
                      <a:pt x="290" y="421"/>
                    </a:lnTo>
                    <a:lnTo>
                      <a:pt x="270" y="432"/>
                    </a:lnTo>
                    <a:lnTo>
                      <a:pt x="270" y="455"/>
                    </a:lnTo>
                    <a:lnTo>
                      <a:pt x="290" y="466"/>
                    </a:lnTo>
                    <a:close/>
                    <a:moveTo>
                      <a:pt x="344" y="466"/>
                    </a:moveTo>
                    <a:lnTo>
                      <a:pt x="365" y="455"/>
                    </a:lnTo>
                    <a:lnTo>
                      <a:pt x="365" y="432"/>
                    </a:lnTo>
                    <a:lnTo>
                      <a:pt x="344" y="421"/>
                    </a:lnTo>
                    <a:lnTo>
                      <a:pt x="324" y="432"/>
                    </a:lnTo>
                    <a:lnTo>
                      <a:pt x="324" y="455"/>
                    </a:lnTo>
                    <a:lnTo>
                      <a:pt x="344" y="466"/>
                    </a:lnTo>
                    <a:close/>
                    <a:moveTo>
                      <a:pt x="399" y="466"/>
                    </a:moveTo>
                    <a:lnTo>
                      <a:pt x="419" y="455"/>
                    </a:lnTo>
                    <a:lnTo>
                      <a:pt x="419" y="432"/>
                    </a:lnTo>
                    <a:lnTo>
                      <a:pt x="399" y="421"/>
                    </a:lnTo>
                    <a:lnTo>
                      <a:pt x="378" y="432"/>
                    </a:lnTo>
                    <a:lnTo>
                      <a:pt x="378" y="455"/>
                    </a:lnTo>
                    <a:lnTo>
                      <a:pt x="399" y="466"/>
                    </a:lnTo>
                    <a:close/>
                    <a:moveTo>
                      <a:pt x="613" y="466"/>
                    </a:moveTo>
                    <a:lnTo>
                      <a:pt x="634" y="455"/>
                    </a:lnTo>
                    <a:lnTo>
                      <a:pt x="634" y="432"/>
                    </a:lnTo>
                    <a:lnTo>
                      <a:pt x="613" y="421"/>
                    </a:lnTo>
                    <a:lnTo>
                      <a:pt x="593" y="432"/>
                    </a:lnTo>
                    <a:lnTo>
                      <a:pt x="593" y="455"/>
                    </a:lnTo>
                    <a:lnTo>
                      <a:pt x="613" y="466"/>
                    </a:lnTo>
                    <a:close/>
                    <a:moveTo>
                      <a:pt x="666" y="466"/>
                    </a:moveTo>
                    <a:lnTo>
                      <a:pt x="686" y="455"/>
                    </a:lnTo>
                    <a:lnTo>
                      <a:pt x="686" y="432"/>
                    </a:lnTo>
                    <a:lnTo>
                      <a:pt x="666" y="421"/>
                    </a:lnTo>
                    <a:lnTo>
                      <a:pt x="647" y="432"/>
                    </a:lnTo>
                    <a:lnTo>
                      <a:pt x="647" y="455"/>
                    </a:lnTo>
                    <a:lnTo>
                      <a:pt x="666" y="466"/>
                    </a:lnTo>
                    <a:close/>
                    <a:moveTo>
                      <a:pt x="720" y="466"/>
                    </a:moveTo>
                    <a:lnTo>
                      <a:pt x="740" y="455"/>
                    </a:lnTo>
                    <a:lnTo>
                      <a:pt x="740" y="432"/>
                    </a:lnTo>
                    <a:lnTo>
                      <a:pt x="720" y="421"/>
                    </a:lnTo>
                    <a:lnTo>
                      <a:pt x="700" y="432"/>
                    </a:lnTo>
                    <a:lnTo>
                      <a:pt x="700" y="455"/>
                    </a:lnTo>
                    <a:lnTo>
                      <a:pt x="720" y="466"/>
                    </a:lnTo>
                    <a:close/>
                    <a:moveTo>
                      <a:pt x="775" y="466"/>
                    </a:moveTo>
                    <a:lnTo>
                      <a:pt x="795" y="455"/>
                    </a:lnTo>
                    <a:lnTo>
                      <a:pt x="795" y="432"/>
                    </a:lnTo>
                    <a:lnTo>
                      <a:pt x="775" y="421"/>
                    </a:lnTo>
                    <a:lnTo>
                      <a:pt x="754" y="432"/>
                    </a:lnTo>
                    <a:lnTo>
                      <a:pt x="754" y="455"/>
                    </a:lnTo>
                    <a:lnTo>
                      <a:pt x="775" y="466"/>
                    </a:lnTo>
                    <a:close/>
                    <a:moveTo>
                      <a:pt x="532" y="234"/>
                    </a:moveTo>
                    <a:lnTo>
                      <a:pt x="552" y="222"/>
                    </a:lnTo>
                    <a:lnTo>
                      <a:pt x="552" y="198"/>
                    </a:lnTo>
                    <a:lnTo>
                      <a:pt x="532" y="187"/>
                    </a:lnTo>
                    <a:lnTo>
                      <a:pt x="512" y="198"/>
                    </a:lnTo>
                    <a:lnTo>
                      <a:pt x="512" y="222"/>
                    </a:lnTo>
                    <a:lnTo>
                      <a:pt x="532" y="234"/>
                    </a:lnTo>
                    <a:close/>
                    <a:moveTo>
                      <a:pt x="532" y="140"/>
                    </a:moveTo>
                    <a:lnTo>
                      <a:pt x="552" y="128"/>
                    </a:lnTo>
                    <a:lnTo>
                      <a:pt x="552" y="105"/>
                    </a:lnTo>
                    <a:lnTo>
                      <a:pt x="532" y="94"/>
                    </a:lnTo>
                    <a:lnTo>
                      <a:pt x="512" y="105"/>
                    </a:lnTo>
                    <a:lnTo>
                      <a:pt x="512" y="128"/>
                    </a:lnTo>
                    <a:lnTo>
                      <a:pt x="532" y="140"/>
                    </a:lnTo>
                    <a:close/>
                    <a:moveTo>
                      <a:pt x="559" y="279"/>
                    </a:moveTo>
                    <a:lnTo>
                      <a:pt x="579" y="268"/>
                    </a:lnTo>
                    <a:lnTo>
                      <a:pt x="579" y="245"/>
                    </a:lnTo>
                    <a:lnTo>
                      <a:pt x="559" y="234"/>
                    </a:lnTo>
                    <a:lnTo>
                      <a:pt x="539" y="245"/>
                    </a:lnTo>
                    <a:lnTo>
                      <a:pt x="539" y="268"/>
                    </a:lnTo>
                    <a:lnTo>
                      <a:pt x="559" y="279"/>
                    </a:lnTo>
                    <a:close/>
                    <a:moveTo>
                      <a:pt x="559" y="187"/>
                    </a:moveTo>
                    <a:lnTo>
                      <a:pt x="579" y="174"/>
                    </a:lnTo>
                    <a:lnTo>
                      <a:pt x="579" y="152"/>
                    </a:lnTo>
                    <a:lnTo>
                      <a:pt x="559" y="140"/>
                    </a:lnTo>
                    <a:lnTo>
                      <a:pt x="539" y="152"/>
                    </a:lnTo>
                    <a:lnTo>
                      <a:pt x="539" y="174"/>
                    </a:lnTo>
                    <a:lnTo>
                      <a:pt x="559" y="187"/>
                    </a:lnTo>
                    <a:close/>
                    <a:moveTo>
                      <a:pt x="559" y="94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59" y="47"/>
                    </a:lnTo>
                    <a:lnTo>
                      <a:pt x="539" y="58"/>
                    </a:lnTo>
                    <a:lnTo>
                      <a:pt x="539" y="82"/>
                    </a:lnTo>
                    <a:lnTo>
                      <a:pt x="559" y="94"/>
                    </a:lnTo>
                    <a:close/>
                    <a:moveTo>
                      <a:pt x="480" y="327"/>
                    </a:moveTo>
                    <a:lnTo>
                      <a:pt x="498" y="316"/>
                    </a:lnTo>
                    <a:lnTo>
                      <a:pt x="498" y="292"/>
                    </a:lnTo>
                    <a:lnTo>
                      <a:pt x="480" y="280"/>
                    </a:lnTo>
                    <a:lnTo>
                      <a:pt x="459" y="292"/>
                    </a:lnTo>
                    <a:lnTo>
                      <a:pt x="459" y="316"/>
                    </a:lnTo>
                    <a:lnTo>
                      <a:pt x="480" y="327"/>
                    </a:lnTo>
                    <a:close/>
                    <a:moveTo>
                      <a:pt x="505" y="373"/>
                    </a:moveTo>
                    <a:lnTo>
                      <a:pt x="525" y="361"/>
                    </a:lnTo>
                    <a:lnTo>
                      <a:pt x="525" y="338"/>
                    </a:lnTo>
                    <a:lnTo>
                      <a:pt x="505" y="327"/>
                    </a:lnTo>
                    <a:lnTo>
                      <a:pt x="484" y="338"/>
                    </a:lnTo>
                    <a:lnTo>
                      <a:pt x="484" y="361"/>
                    </a:lnTo>
                    <a:lnTo>
                      <a:pt x="505" y="373"/>
                    </a:lnTo>
                    <a:close/>
                    <a:moveTo>
                      <a:pt x="48" y="421"/>
                    </a:moveTo>
                    <a:lnTo>
                      <a:pt x="68" y="409"/>
                    </a:lnTo>
                    <a:lnTo>
                      <a:pt x="68" y="384"/>
                    </a:lnTo>
                    <a:lnTo>
                      <a:pt x="48" y="373"/>
                    </a:lnTo>
                    <a:lnTo>
                      <a:pt x="27" y="384"/>
                    </a:lnTo>
                    <a:lnTo>
                      <a:pt x="27" y="409"/>
                    </a:lnTo>
                    <a:lnTo>
                      <a:pt x="48" y="421"/>
                    </a:lnTo>
                    <a:close/>
                    <a:moveTo>
                      <a:pt x="99" y="421"/>
                    </a:moveTo>
                    <a:lnTo>
                      <a:pt x="120" y="409"/>
                    </a:lnTo>
                    <a:lnTo>
                      <a:pt x="120" y="384"/>
                    </a:lnTo>
                    <a:lnTo>
                      <a:pt x="99" y="373"/>
                    </a:lnTo>
                    <a:lnTo>
                      <a:pt x="82" y="384"/>
                    </a:lnTo>
                    <a:lnTo>
                      <a:pt x="82" y="409"/>
                    </a:lnTo>
                    <a:lnTo>
                      <a:pt x="99" y="421"/>
                    </a:lnTo>
                    <a:close/>
                    <a:moveTo>
                      <a:pt x="155" y="421"/>
                    </a:moveTo>
                    <a:lnTo>
                      <a:pt x="175" y="409"/>
                    </a:lnTo>
                    <a:lnTo>
                      <a:pt x="175" y="384"/>
                    </a:lnTo>
                    <a:lnTo>
                      <a:pt x="155" y="373"/>
                    </a:lnTo>
                    <a:lnTo>
                      <a:pt x="133" y="384"/>
                    </a:lnTo>
                    <a:lnTo>
                      <a:pt x="133" y="409"/>
                    </a:lnTo>
                    <a:lnTo>
                      <a:pt x="155" y="421"/>
                    </a:lnTo>
                    <a:close/>
                    <a:moveTo>
                      <a:pt x="208" y="421"/>
                    </a:moveTo>
                    <a:lnTo>
                      <a:pt x="229" y="409"/>
                    </a:lnTo>
                    <a:lnTo>
                      <a:pt x="229" y="384"/>
                    </a:lnTo>
                    <a:lnTo>
                      <a:pt x="208" y="373"/>
                    </a:lnTo>
                    <a:lnTo>
                      <a:pt x="188" y="384"/>
                    </a:lnTo>
                    <a:lnTo>
                      <a:pt x="188" y="409"/>
                    </a:lnTo>
                    <a:lnTo>
                      <a:pt x="208" y="421"/>
                    </a:lnTo>
                    <a:close/>
                    <a:moveTo>
                      <a:pt x="262" y="421"/>
                    </a:moveTo>
                    <a:lnTo>
                      <a:pt x="282" y="409"/>
                    </a:lnTo>
                    <a:lnTo>
                      <a:pt x="282" y="384"/>
                    </a:lnTo>
                    <a:lnTo>
                      <a:pt x="262" y="373"/>
                    </a:lnTo>
                    <a:lnTo>
                      <a:pt x="242" y="384"/>
                    </a:lnTo>
                    <a:lnTo>
                      <a:pt x="242" y="409"/>
                    </a:lnTo>
                    <a:lnTo>
                      <a:pt x="262" y="421"/>
                    </a:lnTo>
                    <a:close/>
                    <a:moveTo>
                      <a:pt x="317" y="421"/>
                    </a:moveTo>
                    <a:lnTo>
                      <a:pt x="338" y="409"/>
                    </a:lnTo>
                    <a:lnTo>
                      <a:pt x="338" y="384"/>
                    </a:lnTo>
                    <a:lnTo>
                      <a:pt x="317" y="373"/>
                    </a:lnTo>
                    <a:lnTo>
                      <a:pt x="296" y="384"/>
                    </a:lnTo>
                    <a:lnTo>
                      <a:pt x="296" y="409"/>
                    </a:lnTo>
                    <a:lnTo>
                      <a:pt x="317" y="421"/>
                    </a:lnTo>
                    <a:close/>
                    <a:moveTo>
                      <a:pt x="371" y="421"/>
                    </a:moveTo>
                    <a:lnTo>
                      <a:pt x="391" y="409"/>
                    </a:lnTo>
                    <a:lnTo>
                      <a:pt x="391" y="384"/>
                    </a:lnTo>
                    <a:lnTo>
                      <a:pt x="371" y="373"/>
                    </a:lnTo>
                    <a:lnTo>
                      <a:pt x="351" y="384"/>
                    </a:lnTo>
                    <a:lnTo>
                      <a:pt x="351" y="409"/>
                    </a:lnTo>
                    <a:lnTo>
                      <a:pt x="371" y="421"/>
                    </a:lnTo>
                    <a:close/>
                    <a:moveTo>
                      <a:pt x="425" y="421"/>
                    </a:moveTo>
                    <a:lnTo>
                      <a:pt x="447" y="409"/>
                    </a:lnTo>
                    <a:lnTo>
                      <a:pt x="447" y="384"/>
                    </a:lnTo>
                    <a:lnTo>
                      <a:pt x="425" y="373"/>
                    </a:lnTo>
                    <a:lnTo>
                      <a:pt x="405" y="384"/>
                    </a:lnTo>
                    <a:lnTo>
                      <a:pt x="405" y="409"/>
                    </a:lnTo>
                    <a:lnTo>
                      <a:pt x="425" y="421"/>
                    </a:lnTo>
                    <a:close/>
                    <a:moveTo>
                      <a:pt x="371" y="327"/>
                    </a:moveTo>
                    <a:lnTo>
                      <a:pt x="391" y="316"/>
                    </a:lnTo>
                    <a:lnTo>
                      <a:pt x="391" y="292"/>
                    </a:lnTo>
                    <a:lnTo>
                      <a:pt x="371" y="280"/>
                    </a:lnTo>
                    <a:lnTo>
                      <a:pt x="351" y="292"/>
                    </a:lnTo>
                    <a:lnTo>
                      <a:pt x="351" y="316"/>
                    </a:lnTo>
                    <a:lnTo>
                      <a:pt x="371" y="327"/>
                    </a:lnTo>
                    <a:close/>
                    <a:moveTo>
                      <a:pt x="425" y="327"/>
                    </a:moveTo>
                    <a:lnTo>
                      <a:pt x="447" y="316"/>
                    </a:lnTo>
                    <a:lnTo>
                      <a:pt x="447" y="292"/>
                    </a:lnTo>
                    <a:lnTo>
                      <a:pt x="425" y="280"/>
                    </a:lnTo>
                    <a:lnTo>
                      <a:pt x="405" y="292"/>
                    </a:lnTo>
                    <a:lnTo>
                      <a:pt x="405" y="316"/>
                    </a:lnTo>
                    <a:lnTo>
                      <a:pt x="425" y="327"/>
                    </a:lnTo>
                    <a:close/>
                    <a:moveTo>
                      <a:pt x="21" y="373"/>
                    </a:moveTo>
                    <a:lnTo>
                      <a:pt x="41" y="361"/>
                    </a:lnTo>
                    <a:lnTo>
                      <a:pt x="41" y="338"/>
                    </a:lnTo>
                    <a:lnTo>
                      <a:pt x="21" y="327"/>
                    </a:lnTo>
                    <a:lnTo>
                      <a:pt x="0" y="338"/>
                    </a:lnTo>
                    <a:lnTo>
                      <a:pt x="0" y="361"/>
                    </a:lnTo>
                    <a:lnTo>
                      <a:pt x="21" y="373"/>
                    </a:lnTo>
                    <a:close/>
                    <a:moveTo>
                      <a:pt x="74" y="373"/>
                    </a:moveTo>
                    <a:lnTo>
                      <a:pt x="93" y="361"/>
                    </a:lnTo>
                    <a:lnTo>
                      <a:pt x="93" y="338"/>
                    </a:lnTo>
                    <a:lnTo>
                      <a:pt x="74" y="327"/>
                    </a:lnTo>
                    <a:lnTo>
                      <a:pt x="54" y="338"/>
                    </a:lnTo>
                    <a:lnTo>
                      <a:pt x="54" y="361"/>
                    </a:lnTo>
                    <a:lnTo>
                      <a:pt x="74" y="373"/>
                    </a:lnTo>
                    <a:close/>
                    <a:moveTo>
                      <a:pt x="127" y="373"/>
                    </a:moveTo>
                    <a:lnTo>
                      <a:pt x="147" y="361"/>
                    </a:lnTo>
                    <a:lnTo>
                      <a:pt x="147" y="338"/>
                    </a:lnTo>
                    <a:lnTo>
                      <a:pt x="127" y="327"/>
                    </a:lnTo>
                    <a:lnTo>
                      <a:pt x="107" y="338"/>
                    </a:lnTo>
                    <a:lnTo>
                      <a:pt x="107" y="361"/>
                    </a:lnTo>
                    <a:lnTo>
                      <a:pt x="127" y="373"/>
                    </a:lnTo>
                    <a:close/>
                    <a:moveTo>
                      <a:pt x="181" y="373"/>
                    </a:moveTo>
                    <a:lnTo>
                      <a:pt x="201" y="361"/>
                    </a:lnTo>
                    <a:lnTo>
                      <a:pt x="201" y="338"/>
                    </a:lnTo>
                    <a:lnTo>
                      <a:pt x="181" y="327"/>
                    </a:lnTo>
                    <a:lnTo>
                      <a:pt x="161" y="338"/>
                    </a:lnTo>
                    <a:lnTo>
                      <a:pt x="161" y="361"/>
                    </a:lnTo>
                    <a:lnTo>
                      <a:pt x="181" y="373"/>
                    </a:lnTo>
                    <a:close/>
                    <a:moveTo>
                      <a:pt x="236" y="373"/>
                    </a:moveTo>
                    <a:lnTo>
                      <a:pt x="256" y="361"/>
                    </a:lnTo>
                    <a:lnTo>
                      <a:pt x="256" y="338"/>
                    </a:lnTo>
                    <a:lnTo>
                      <a:pt x="236" y="327"/>
                    </a:lnTo>
                    <a:lnTo>
                      <a:pt x="215" y="338"/>
                    </a:lnTo>
                    <a:lnTo>
                      <a:pt x="215" y="361"/>
                    </a:lnTo>
                    <a:lnTo>
                      <a:pt x="236" y="373"/>
                    </a:lnTo>
                    <a:close/>
                    <a:moveTo>
                      <a:pt x="290" y="373"/>
                    </a:moveTo>
                    <a:lnTo>
                      <a:pt x="310" y="361"/>
                    </a:lnTo>
                    <a:lnTo>
                      <a:pt x="310" y="338"/>
                    </a:lnTo>
                    <a:lnTo>
                      <a:pt x="290" y="327"/>
                    </a:lnTo>
                    <a:lnTo>
                      <a:pt x="270" y="338"/>
                    </a:lnTo>
                    <a:lnTo>
                      <a:pt x="270" y="361"/>
                    </a:lnTo>
                    <a:lnTo>
                      <a:pt x="290" y="373"/>
                    </a:lnTo>
                    <a:close/>
                    <a:moveTo>
                      <a:pt x="48" y="327"/>
                    </a:moveTo>
                    <a:lnTo>
                      <a:pt x="68" y="316"/>
                    </a:lnTo>
                    <a:lnTo>
                      <a:pt x="68" y="292"/>
                    </a:lnTo>
                    <a:lnTo>
                      <a:pt x="48" y="280"/>
                    </a:lnTo>
                    <a:lnTo>
                      <a:pt x="27" y="292"/>
                    </a:lnTo>
                    <a:lnTo>
                      <a:pt x="27" y="316"/>
                    </a:lnTo>
                    <a:lnTo>
                      <a:pt x="48" y="327"/>
                    </a:lnTo>
                    <a:close/>
                    <a:moveTo>
                      <a:pt x="99" y="327"/>
                    </a:moveTo>
                    <a:lnTo>
                      <a:pt x="120" y="316"/>
                    </a:lnTo>
                    <a:lnTo>
                      <a:pt x="120" y="292"/>
                    </a:lnTo>
                    <a:lnTo>
                      <a:pt x="99" y="280"/>
                    </a:lnTo>
                    <a:lnTo>
                      <a:pt x="82" y="292"/>
                    </a:lnTo>
                    <a:lnTo>
                      <a:pt x="82" y="316"/>
                    </a:lnTo>
                    <a:lnTo>
                      <a:pt x="99" y="327"/>
                    </a:lnTo>
                    <a:close/>
                    <a:moveTo>
                      <a:pt x="155" y="327"/>
                    </a:moveTo>
                    <a:lnTo>
                      <a:pt x="175" y="316"/>
                    </a:lnTo>
                    <a:lnTo>
                      <a:pt x="175" y="292"/>
                    </a:lnTo>
                    <a:lnTo>
                      <a:pt x="155" y="280"/>
                    </a:lnTo>
                    <a:lnTo>
                      <a:pt x="133" y="292"/>
                    </a:lnTo>
                    <a:lnTo>
                      <a:pt x="133" y="316"/>
                    </a:lnTo>
                    <a:lnTo>
                      <a:pt x="155" y="327"/>
                    </a:lnTo>
                    <a:close/>
                    <a:moveTo>
                      <a:pt x="208" y="327"/>
                    </a:moveTo>
                    <a:lnTo>
                      <a:pt x="229" y="316"/>
                    </a:lnTo>
                    <a:lnTo>
                      <a:pt x="229" y="292"/>
                    </a:lnTo>
                    <a:lnTo>
                      <a:pt x="208" y="280"/>
                    </a:lnTo>
                    <a:lnTo>
                      <a:pt x="188" y="292"/>
                    </a:lnTo>
                    <a:lnTo>
                      <a:pt x="188" y="316"/>
                    </a:lnTo>
                    <a:lnTo>
                      <a:pt x="208" y="327"/>
                    </a:lnTo>
                    <a:close/>
                    <a:moveTo>
                      <a:pt x="262" y="327"/>
                    </a:moveTo>
                    <a:lnTo>
                      <a:pt x="282" y="316"/>
                    </a:lnTo>
                    <a:lnTo>
                      <a:pt x="282" y="292"/>
                    </a:lnTo>
                    <a:lnTo>
                      <a:pt x="262" y="280"/>
                    </a:lnTo>
                    <a:lnTo>
                      <a:pt x="242" y="292"/>
                    </a:lnTo>
                    <a:lnTo>
                      <a:pt x="242" y="316"/>
                    </a:lnTo>
                    <a:lnTo>
                      <a:pt x="262" y="327"/>
                    </a:lnTo>
                    <a:close/>
                    <a:moveTo>
                      <a:pt x="317" y="327"/>
                    </a:moveTo>
                    <a:lnTo>
                      <a:pt x="338" y="316"/>
                    </a:lnTo>
                    <a:lnTo>
                      <a:pt x="338" y="292"/>
                    </a:lnTo>
                    <a:lnTo>
                      <a:pt x="317" y="280"/>
                    </a:lnTo>
                    <a:lnTo>
                      <a:pt x="296" y="292"/>
                    </a:lnTo>
                    <a:lnTo>
                      <a:pt x="296" y="316"/>
                    </a:lnTo>
                    <a:lnTo>
                      <a:pt x="317" y="327"/>
                    </a:lnTo>
                    <a:close/>
                    <a:moveTo>
                      <a:pt x="344" y="373"/>
                    </a:moveTo>
                    <a:lnTo>
                      <a:pt x="365" y="361"/>
                    </a:lnTo>
                    <a:lnTo>
                      <a:pt x="365" y="338"/>
                    </a:lnTo>
                    <a:lnTo>
                      <a:pt x="344" y="327"/>
                    </a:lnTo>
                    <a:lnTo>
                      <a:pt x="324" y="338"/>
                    </a:lnTo>
                    <a:lnTo>
                      <a:pt x="324" y="361"/>
                    </a:lnTo>
                    <a:lnTo>
                      <a:pt x="344" y="373"/>
                    </a:lnTo>
                    <a:close/>
                    <a:moveTo>
                      <a:pt x="399" y="373"/>
                    </a:moveTo>
                    <a:lnTo>
                      <a:pt x="419" y="361"/>
                    </a:lnTo>
                    <a:lnTo>
                      <a:pt x="419" y="338"/>
                    </a:lnTo>
                    <a:lnTo>
                      <a:pt x="399" y="327"/>
                    </a:lnTo>
                    <a:lnTo>
                      <a:pt x="378" y="338"/>
                    </a:lnTo>
                    <a:lnTo>
                      <a:pt x="378" y="361"/>
                    </a:lnTo>
                    <a:lnTo>
                      <a:pt x="399" y="373"/>
                    </a:lnTo>
                    <a:close/>
                    <a:moveTo>
                      <a:pt x="480" y="421"/>
                    </a:moveTo>
                    <a:lnTo>
                      <a:pt x="498" y="409"/>
                    </a:lnTo>
                    <a:lnTo>
                      <a:pt x="498" y="384"/>
                    </a:lnTo>
                    <a:lnTo>
                      <a:pt x="480" y="373"/>
                    </a:lnTo>
                    <a:lnTo>
                      <a:pt x="459" y="384"/>
                    </a:lnTo>
                    <a:lnTo>
                      <a:pt x="459" y="409"/>
                    </a:lnTo>
                    <a:lnTo>
                      <a:pt x="480" y="421"/>
                    </a:lnTo>
                    <a:close/>
                    <a:moveTo>
                      <a:pt x="480" y="140"/>
                    </a:moveTo>
                    <a:lnTo>
                      <a:pt x="498" y="128"/>
                    </a:lnTo>
                    <a:lnTo>
                      <a:pt x="498" y="105"/>
                    </a:lnTo>
                    <a:lnTo>
                      <a:pt x="480" y="94"/>
                    </a:lnTo>
                    <a:lnTo>
                      <a:pt x="459" y="105"/>
                    </a:lnTo>
                    <a:lnTo>
                      <a:pt x="459" y="128"/>
                    </a:lnTo>
                    <a:lnTo>
                      <a:pt x="480" y="140"/>
                    </a:lnTo>
                    <a:close/>
                    <a:moveTo>
                      <a:pt x="505" y="94"/>
                    </a:moveTo>
                    <a:lnTo>
                      <a:pt x="525" y="82"/>
                    </a:lnTo>
                    <a:lnTo>
                      <a:pt x="525" y="58"/>
                    </a:lnTo>
                    <a:lnTo>
                      <a:pt x="505" y="47"/>
                    </a:lnTo>
                    <a:lnTo>
                      <a:pt x="484" y="58"/>
                    </a:lnTo>
                    <a:lnTo>
                      <a:pt x="484" y="82"/>
                    </a:lnTo>
                    <a:lnTo>
                      <a:pt x="505" y="94"/>
                    </a:lnTo>
                    <a:close/>
                    <a:moveTo>
                      <a:pt x="505" y="187"/>
                    </a:moveTo>
                    <a:lnTo>
                      <a:pt x="525" y="174"/>
                    </a:lnTo>
                    <a:lnTo>
                      <a:pt x="525" y="152"/>
                    </a:lnTo>
                    <a:lnTo>
                      <a:pt x="505" y="140"/>
                    </a:lnTo>
                    <a:lnTo>
                      <a:pt x="484" y="152"/>
                    </a:lnTo>
                    <a:lnTo>
                      <a:pt x="484" y="174"/>
                    </a:lnTo>
                    <a:lnTo>
                      <a:pt x="505" y="187"/>
                    </a:lnTo>
                    <a:close/>
                    <a:moveTo>
                      <a:pt x="371" y="234"/>
                    </a:moveTo>
                    <a:lnTo>
                      <a:pt x="391" y="222"/>
                    </a:lnTo>
                    <a:lnTo>
                      <a:pt x="391" y="198"/>
                    </a:lnTo>
                    <a:lnTo>
                      <a:pt x="371" y="187"/>
                    </a:lnTo>
                    <a:lnTo>
                      <a:pt x="351" y="198"/>
                    </a:lnTo>
                    <a:lnTo>
                      <a:pt x="351" y="222"/>
                    </a:lnTo>
                    <a:lnTo>
                      <a:pt x="371" y="234"/>
                    </a:lnTo>
                    <a:close/>
                    <a:moveTo>
                      <a:pt x="425" y="234"/>
                    </a:moveTo>
                    <a:lnTo>
                      <a:pt x="447" y="222"/>
                    </a:lnTo>
                    <a:lnTo>
                      <a:pt x="447" y="198"/>
                    </a:lnTo>
                    <a:lnTo>
                      <a:pt x="425" y="187"/>
                    </a:lnTo>
                    <a:lnTo>
                      <a:pt x="405" y="198"/>
                    </a:lnTo>
                    <a:lnTo>
                      <a:pt x="405" y="222"/>
                    </a:lnTo>
                    <a:lnTo>
                      <a:pt x="425" y="234"/>
                    </a:lnTo>
                    <a:close/>
                    <a:moveTo>
                      <a:pt x="21" y="279"/>
                    </a:moveTo>
                    <a:lnTo>
                      <a:pt x="41" y="268"/>
                    </a:lnTo>
                    <a:lnTo>
                      <a:pt x="41" y="245"/>
                    </a:lnTo>
                    <a:lnTo>
                      <a:pt x="21" y="234"/>
                    </a:lnTo>
                    <a:lnTo>
                      <a:pt x="0" y="245"/>
                    </a:lnTo>
                    <a:lnTo>
                      <a:pt x="0" y="268"/>
                    </a:lnTo>
                    <a:lnTo>
                      <a:pt x="21" y="279"/>
                    </a:lnTo>
                    <a:close/>
                    <a:moveTo>
                      <a:pt x="74" y="279"/>
                    </a:moveTo>
                    <a:lnTo>
                      <a:pt x="93" y="268"/>
                    </a:lnTo>
                    <a:lnTo>
                      <a:pt x="93" y="245"/>
                    </a:lnTo>
                    <a:lnTo>
                      <a:pt x="74" y="234"/>
                    </a:lnTo>
                    <a:lnTo>
                      <a:pt x="54" y="245"/>
                    </a:lnTo>
                    <a:lnTo>
                      <a:pt x="54" y="268"/>
                    </a:lnTo>
                    <a:lnTo>
                      <a:pt x="74" y="279"/>
                    </a:lnTo>
                    <a:close/>
                    <a:moveTo>
                      <a:pt x="127" y="279"/>
                    </a:moveTo>
                    <a:lnTo>
                      <a:pt x="147" y="268"/>
                    </a:lnTo>
                    <a:lnTo>
                      <a:pt x="147" y="245"/>
                    </a:lnTo>
                    <a:lnTo>
                      <a:pt x="127" y="234"/>
                    </a:lnTo>
                    <a:lnTo>
                      <a:pt x="107" y="245"/>
                    </a:lnTo>
                    <a:lnTo>
                      <a:pt x="107" y="268"/>
                    </a:lnTo>
                    <a:lnTo>
                      <a:pt x="127" y="279"/>
                    </a:lnTo>
                    <a:close/>
                    <a:moveTo>
                      <a:pt x="181" y="279"/>
                    </a:moveTo>
                    <a:lnTo>
                      <a:pt x="201" y="268"/>
                    </a:lnTo>
                    <a:lnTo>
                      <a:pt x="201" y="245"/>
                    </a:lnTo>
                    <a:lnTo>
                      <a:pt x="181" y="234"/>
                    </a:lnTo>
                    <a:lnTo>
                      <a:pt x="161" y="245"/>
                    </a:lnTo>
                    <a:lnTo>
                      <a:pt x="161" y="268"/>
                    </a:lnTo>
                    <a:lnTo>
                      <a:pt x="181" y="279"/>
                    </a:lnTo>
                    <a:close/>
                    <a:moveTo>
                      <a:pt x="236" y="279"/>
                    </a:moveTo>
                    <a:lnTo>
                      <a:pt x="256" y="268"/>
                    </a:lnTo>
                    <a:lnTo>
                      <a:pt x="256" y="245"/>
                    </a:lnTo>
                    <a:lnTo>
                      <a:pt x="236" y="234"/>
                    </a:lnTo>
                    <a:lnTo>
                      <a:pt x="215" y="245"/>
                    </a:lnTo>
                    <a:lnTo>
                      <a:pt x="215" y="268"/>
                    </a:lnTo>
                    <a:lnTo>
                      <a:pt x="236" y="279"/>
                    </a:lnTo>
                    <a:close/>
                    <a:moveTo>
                      <a:pt x="290" y="279"/>
                    </a:moveTo>
                    <a:lnTo>
                      <a:pt x="310" y="268"/>
                    </a:lnTo>
                    <a:lnTo>
                      <a:pt x="310" y="245"/>
                    </a:lnTo>
                    <a:lnTo>
                      <a:pt x="290" y="234"/>
                    </a:lnTo>
                    <a:lnTo>
                      <a:pt x="270" y="245"/>
                    </a:lnTo>
                    <a:lnTo>
                      <a:pt x="270" y="268"/>
                    </a:lnTo>
                    <a:lnTo>
                      <a:pt x="290" y="279"/>
                    </a:lnTo>
                    <a:close/>
                    <a:moveTo>
                      <a:pt x="344" y="279"/>
                    </a:moveTo>
                    <a:lnTo>
                      <a:pt x="365" y="268"/>
                    </a:lnTo>
                    <a:lnTo>
                      <a:pt x="365" y="245"/>
                    </a:lnTo>
                    <a:lnTo>
                      <a:pt x="344" y="234"/>
                    </a:lnTo>
                    <a:lnTo>
                      <a:pt x="324" y="245"/>
                    </a:lnTo>
                    <a:lnTo>
                      <a:pt x="324" y="268"/>
                    </a:lnTo>
                    <a:lnTo>
                      <a:pt x="344" y="279"/>
                    </a:lnTo>
                    <a:close/>
                    <a:moveTo>
                      <a:pt x="48" y="234"/>
                    </a:moveTo>
                    <a:lnTo>
                      <a:pt x="68" y="222"/>
                    </a:lnTo>
                    <a:lnTo>
                      <a:pt x="68" y="198"/>
                    </a:lnTo>
                    <a:lnTo>
                      <a:pt x="48" y="187"/>
                    </a:lnTo>
                    <a:lnTo>
                      <a:pt x="27" y="198"/>
                    </a:lnTo>
                    <a:lnTo>
                      <a:pt x="27" y="222"/>
                    </a:lnTo>
                    <a:lnTo>
                      <a:pt x="48" y="234"/>
                    </a:lnTo>
                    <a:close/>
                    <a:moveTo>
                      <a:pt x="99" y="234"/>
                    </a:moveTo>
                    <a:lnTo>
                      <a:pt x="120" y="222"/>
                    </a:lnTo>
                    <a:lnTo>
                      <a:pt x="120" y="198"/>
                    </a:lnTo>
                    <a:lnTo>
                      <a:pt x="99" y="187"/>
                    </a:lnTo>
                    <a:lnTo>
                      <a:pt x="82" y="198"/>
                    </a:lnTo>
                    <a:lnTo>
                      <a:pt x="82" y="222"/>
                    </a:lnTo>
                    <a:lnTo>
                      <a:pt x="99" y="234"/>
                    </a:lnTo>
                    <a:close/>
                    <a:moveTo>
                      <a:pt x="155" y="234"/>
                    </a:moveTo>
                    <a:lnTo>
                      <a:pt x="175" y="222"/>
                    </a:lnTo>
                    <a:lnTo>
                      <a:pt x="175" y="198"/>
                    </a:lnTo>
                    <a:lnTo>
                      <a:pt x="155" y="187"/>
                    </a:lnTo>
                    <a:lnTo>
                      <a:pt x="133" y="198"/>
                    </a:lnTo>
                    <a:lnTo>
                      <a:pt x="133" y="222"/>
                    </a:lnTo>
                    <a:lnTo>
                      <a:pt x="155" y="234"/>
                    </a:lnTo>
                    <a:close/>
                    <a:moveTo>
                      <a:pt x="208" y="234"/>
                    </a:moveTo>
                    <a:lnTo>
                      <a:pt x="229" y="222"/>
                    </a:lnTo>
                    <a:lnTo>
                      <a:pt x="229" y="198"/>
                    </a:lnTo>
                    <a:lnTo>
                      <a:pt x="208" y="187"/>
                    </a:lnTo>
                    <a:lnTo>
                      <a:pt x="188" y="198"/>
                    </a:lnTo>
                    <a:lnTo>
                      <a:pt x="188" y="222"/>
                    </a:lnTo>
                    <a:lnTo>
                      <a:pt x="208" y="234"/>
                    </a:lnTo>
                    <a:close/>
                    <a:moveTo>
                      <a:pt x="262" y="234"/>
                    </a:moveTo>
                    <a:lnTo>
                      <a:pt x="282" y="222"/>
                    </a:lnTo>
                    <a:lnTo>
                      <a:pt x="282" y="198"/>
                    </a:lnTo>
                    <a:lnTo>
                      <a:pt x="262" y="187"/>
                    </a:lnTo>
                    <a:lnTo>
                      <a:pt x="242" y="198"/>
                    </a:lnTo>
                    <a:lnTo>
                      <a:pt x="242" y="222"/>
                    </a:lnTo>
                    <a:lnTo>
                      <a:pt x="262" y="234"/>
                    </a:lnTo>
                    <a:close/>
                    <a:moveTo>
                      <a:pt x="317" y="234"/>
                    </a:moveTo>
                    <a:lnTo>
                      <a:pt x="338" y="222"/>
                    </a:lnTo>
                    <a:lnTo>
                      <a:pt x="338" y="198"/>
                    </a:lnTo>
                    <a:lnTo>
                      <a:pt x="317" y="187"/>
                    </a:lnTo>
                    <a:lnTo>
                      <a:pt x="296" y="198"/>
                    </a:lnTo>
                    <a:lnTo>
                      <a:pt x="296" y="222"/>
                    </a:lnTo>
                    <a:lnTo>
                      <a:pt x="317" y="234"/>
                    </a:lnTo>
                    <a:close/>
                    <a:moveTo>
                      <a:pt x="399" y="279"/>
                    </a:moveTo>
                    <a:lnTo>
                      <a:pt x="419" y="268"/>
                    </a:lnTo>
                    <a:lnTo>
                      <a:pt x="419" y="245"/>
                    </a:lnTo>
                    <a:lnTo>
                      <a:pt x="399" y="234"/>
                    </a:lnTo>
                    <a:lnTo>
                      <a:pt x="378" y="245"/>
                    </a:lnTo>
                    <a:lnTo>
                      <a:pt x="378" y="268"/>
                    </a:lnTo>
                    <a:lnTo>
                      <a:pt x="399" y="279"/>
                    </a:lnTo>
                    <a:close/>
                    <a:moveTo>
                      <a:pt x="371" y="140"/>
                    </a:moveTo>
                    <a:lnTo>
                      <a:pt x="391" y="128"/>
                    </a:lnTo>
                    <a:lnTo>
                      <a:pt x="391" y="105"/>
                    </a:lnTo>
                    <a:lnTo>
                      <a:pt x="371" y="94"/>
                    </a:lnTo>
                    <a:lnTo>
                      <a:pt x="351" y="105"/>
                    </a:lnTo>
                    <a:lnTo>
                      <a:pt x="351" y="128"/>
                    </a:lnTo>
                    <a:lnTo>
                      <a:pt x="371" y="140"/>
                    </a:lnTo>
                    <a:close/>
                    <a:moveTo>
                      <a:pt x="425" y="140"/>
                    </a:moveTo>
                    <a:lnTo>
                      <a:pt x="447" y="128"/>
                    </a:lnTo>
                    <a:lnTo>
                      <a:pt x="447" y="105"/>
                    </a:lnTo>
                    <a:lnTo>
                      <a:pt x="425" y="94"/>
                    </a:lnTo>
                    <a:lnTo>
                      <a:pt x="405" y="105"/>
                    </a:lnTo>
                    <a:lnTo>
                      <a:pt x="405" y="128"/>
                    </a:lnTo>
                    <a:lnTo>
                      <a:pt x="425" y="140"/>
                    </a:lnTo>
                    <a:close/>
                    <a:moveTo>
                      <a:pt x="21" y="187"/>
                    </a:moveTo>
                    <a:lnTo>
                      <a:pt x="41" y="174"/>
                    </a:lnTo>
                    <a:lnTo>
                      <a:pt x="41" y="152"/>
                    </a:lnTo>
                    <a:lnTo>
                      <a:pt x="21" y="140"/>
                    </a:lnTo>
                    <a:lnTo>
                      <a:pt x="0" y="152"/>
                    </a:lnTo>
                    <a:lnTo>
                      <a:pt x="0" y="174"/>
                    </a:lnTo>
                    <a:lnTo>
                      <a:pt x="21" y="187"/>
                    </a:lnTo>
                    <a:close/>
                    <a:moveTo>
                      <a:pt x="74" y="187"/>
                    </a:moveTo>
                    <a:lnTo>
                      <a:pt x="93" y="174"/>
                    </a:lnTo>
                    <a:lnTo>
                      <a:pt x="93" y="152"/>
                    </a:lnTo>
                    <a:lnTo>
                      <a:pt x="74" y="140"/>
                    </a:lnTo>
                    <a:lnTo>
                      <a:pt x="54" y="152"/>
                    </a:lnTo>
                    <a:lnTo>
                      <a:pt x="54" y="174"/>
                    </a:lnTo>
                    <a:lnTo>
                      <a:pt x="74" y="187"/>
                    </a:lnTo>
                    <a:close/>
                    <a:moveTo>
                      <a:pt x="127" y="187"/>
                    </a:moveTo>
                    <a:lnTo>
                      <a:pt x="147" y="174"/>
                    </a:lnTo>
                    <a:lnTo>
                      <a:pt x="147" y="152"/>
                    </a:lnTo>
                    <a:lnTo>
                      <a:pt x="127" y="140"/>
                    </a:lnTo>
                    <a:lnTo>
                      <a:pt x="107" y="152"/>
                    </a:lnTo>
                    <a:lnTo>
                      <a:pt x="107" y="174"/>
                    </a:lnTo>
                    <a:lnTo>
                      <a:pt x="127" y="187"/>
                    </a:lnTo>
                    <a:close/>
                    <a:moveTo>
                      <a:pt x="181" y="187"/>
                    </a:moveTo>
                    <a:lnTo>
                      <a:pt x="201" y="174"/>
                    </a:lnTo>
                    <a:lnTo>
                      <a:pt x="201" y="152"/>
                    </a:lnTo>
                    <a:lnTo>
                      <a:pt x="181" y="140"/>
                    </a:lnTo>
                    <a:lnTo>
                      <a:pt x="161" y="152"/>
                    </a:lnTo>
                    <a:lnTo>
                      <a:pt x="161" y="174"/>
                    </a:lnTo>
                    <a:lnTo>
                      <a:pt x="181" y="187"/>
                    </a:lnTo>
                    <a:close/>
                    <a:moveTo>
                      <a:pt x="236" y="187"/>
                    </a:moveTo>
                    <a:lnTo>
                      <a:pt x="256" y="174"/>
                    </a:lnTo>
                    <a:lnTo>
                      <a:pt x="256" y="152"/>
                    </a:lnTo>
                    <a:lnTo>
                      <a:pt x="236" y="140"/>
                    </a:lnTo>
                    <a:lnTo>
                      <a:pt x="215" y="152"/>
                    </a:lnTo>
                    <a:lnTo>
                      <a:pt x="215" y="174"/>
                    </a:lnTo>
                    <a:lnTo>
                      <a:pt x="236" y="187"/>
                    </a:lnTo>
                    <a:close/>
                    <a:moveTo>
                      <a:pt x="290" y="187"/>
                    </a:moveTo>
                    <a:lnTo>
                      <a:pt x="310" y="174"/>
                    </a:lnTo>
                    <a:lnTo>
                      <a:pt x="310" y="152"/>
                    </a:lnTo>
                    <a:lnTo>
                      <a:pt x="290" y="140"/>
                    </a:lnTo>
                    <a:lnTo>
                      <a:pt x="270" y="152"/>
                    </a:lnTo>
                    <a:lnTo>
                      <a:pt x="270" y="174"/>
                    </a:lnTo>
                    <a:lnTo>
                      <a:pt x="290" y="187"/>
                    </a:lnTo>
                    <a:close/>
                    <a:moveTo>
                      <a:pt x="344" y="187"/>
                    </a:moveTo>
                    <a:lnTo>
                      <a:pt x="365" y="174"/>
                    </a:lnTo>
                    <a:lnTo>
                      <a:pt x="365" y="152"/>
                    </a:lnTo>
                    <a:lnTo>
                      <a:pt x="344" y="140"/>
                    </a:lnTo>
                    <a:lnTo>
                      <a:pt x="324" y="152"/>
                    </a:lnTo>
                    <a:lnTo>
                      <a:pt x="324" y="174"/>
                    </a:lnTo>
                    <a:lnTo>
                      <a:pt x="344" y="187"/>
                    </a:lnTo>
                    <a:close/>
                    <a:moveTo>
                      <a:pt x="262" y="47"/>
                    </a:moveTo>
                    <a:lnTo>
                      <a:pt x="282" y="34"/>
                    </a:lnTo>
                    <a:lnTo>
                      <a:pt x="282" y="11"/>
                    </a:lnTo>
                    <a:lnTo>
                      <a:pt x="262" y="0"/>
                    </a:lnTo>
                    <a:lnTo>
                      <a:pt x="242" y="11"/>
                    </a:lnTo>
                    <a:lnTo>
                      <a:pt x="242" y="34"/>
                    </a:lnTo>
                    <a:lnTo>
                      <a:pt x="262" y="47"/>
                    </a:lnTo>
                    <a:close/>
                    <a:moveTo>
                      <a:pt x="290" y="94"/>
                    </a:moveTo>
                    <a:lnTo>
                      <a:pt x="310" y="82"/>
                    </a:lnTo>
                    <a:lnTo>
                      <a:pt x="310" y="58"/>
                    </a:lnTo>
                    <a:lnTo>
                      <a:pt x="290" y="47"/>
                    </a:lnTo>
                    <a:lnTo>
                      <a:pt x="270" y="58"/>
                    </a:lnTo>
                    <a:lnTo>
                      <a:pt x="270" y="82"/>
                    </a:lnTo>
                    <a:lnTo>
                      <a:pt x="290" y="94"/>
                    </a:lnTo>
                    <a:close/>
                    <a:moveTo>
                      <a:pt x="48" y="140"/>
                    </a:moveTo>
                    <a:lnTo>
                      <a:pt x="68" y="128"/>
                    </a:lnTo>
                    <a:lnTo>
                      <a:pt x="68" y="105"/>
                    </a:lnTo>
                    <a:lnTo>
                      <a:pt x="48" y="94"/>
                    </a:lnTo>
                    <a:lnTo>
                      <a:pt x="27" y="105"/>
                    </a:lnTo>
                    <a:lnTo>
                      <a:pt x="27" y="128"/>
                    </a:lnTo>
                    <a:lnTo>
                      <a:pt x="48" y="140"/>
                    </a:lnTo>
                    <a:close/>
                    <a:moveTo>
                      <a:pt x="99" y="140"/>
                    </a:moveTo>
                    <a:lnTo>
                      <a:pt x="120" y="128"/>
                    </a:lnTo>
                    <a:lnTo>
                      <a:pt x="120" y="105"/>
                    </a:lnTo>
                    <a:lnTo>
                      <a:pt x="99" y="94"/>
                    </a:lnTo>
                    <a:lnTo>
                      <a:pt x="82" y="105"/>
                    </a:lnTo>
                    <a:lnTo>
                      <a:pt x="82" y="128"/>
                    </a:lnTo>
                    <a:lnTo>
                      <a:pt x="99" y="140"/>
                    </a:lnTo>
                    <a:close/>
                    <a:moveTo>
                      <a:pt x="155" y="140"/>
                    </a:moveTo>
                    <a:lnTo>
                      <a:pt x="175" y="128"/>
                    </a:lnTo>
                    <a:lnTo>
                      <a:pt x="175" y="105"/>
                    </a:lnTo>
                    <a:lnTo>
                      <a:pt x="155" y="94"/>
                    </a:lnTo>
                    <a:lnTo>
                      <a:pt x="133" y="105"/>
                    </a:lnTo>
                    <a:lnTo>
                      <a:pt x="133" y="128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29" y="128"/>
                    </a:lnTo>
                    <a:lnTo>
                      <a:pt x="229" y="105"/>
                    </a:lnTo>
                    <a:lnTo>
                      <a:pt x="208" y="94"/>
                    </a:lnTo>
                    <a:lnTo>
                      <a:pt x="188" y="105"/>
                    </a:lnTo>
                    <a:lnTo>
                      <a:pt x="188" y="128"/>
                    </a:lnTo>
                    <a:lnTo>
                      <a:pt x="208" y="140"/>
                    </a:lnTo>
                    <a:close/>
                    <a:moveTo>
                      <a:pt x="155" y="47"/>
                    </a:moveTo>
                    <a:lnTo>
                      <a:pt x="175" y="34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3" y="11"/>
                    </a:lnTo>
                    <a:lnTo>
                      <a:pt x="133" y="34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29" y="34"/>
                    </a:lnTo>
                    <a:lnTo>
                      <a:pt x="229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4"/>
                    </a:lnTo>
                    <a:lnTo>
                      <a:pt x="208" y="47"/>
                    </a:lnTo>
                    <a:close/>
                    <a:moveTo>
                      <a:pt x="21" y="94"/>
                    </a:moveTo>
                    <a:lnTo>
                      <a:pt x="41" y="82"/>
                    </a:lnTo>
                    <a:lnTo>
                      <a:pt x="41" y="58"/>
                    </a:lnTo>
                    <a:lnTo>
                      <a:pt x="21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1" y="94"/>
                    </a:lnTo>
                    <a:close/>
                    <a:moveTo>
                      <a:pt x="74" y="94"/>
                    </a:moveTo>
                    <a:lnTo>
                      <a:pt x="93" y="82"/>
                    </a:lnTo>
                    <a:lnTo>
                      <a:pt x="93" y="58"/>
                    </a:lnTo>
                    <a:lnTo>
                      <a:pt x="74" y="47"/>
                    </a:lnTo>
                    <a:lnTo>
                      <a:pt x="54" y="58"/>
                    </a:lnTo>
                    <a:lnTo>
                      <a:pt x="54" y="82"/>
                    </a:lnTo>
                    <a:lnTo>
                      <a:pt x="74" y="94"/>
                    </a:lnTo>
                    <a:close/>
                    <a:moveTo>
                      <a:pt x="127" y="94"/>
                    </a:moveTo>
                    <a:lnTo>
                      <a:pt x="147" y="82"/>
                    </a:lnTo>
                    <a:lnTo>
                      <a:pt x="147" y="58"/>
                    </a:lnTo>
                    <a:lnTo>
                      <a:pt x="127" y="47"/>
                    </a:lnTo>
                    <a:lnTo>
                      <a:pt x="107" y="58"/>
                    </a:lnTo>
                    <a:lnTo>
                      <a:pt x="107" y="82"/>
                    </a:lnTo>
                    <a:lnTo>
                      <a:pt x="127" y="94"/>
                    </a:lnTo>
                    <a:close/>
                    <a:moveTo>
                      <a:pt x="48" y="47"/>
                    </a:moveTo>
                    <a:lnTo>
                      <a:pt x="68" y="34"/>
                    </a:lnTo>
                    <a:lnTo>
                      <a:pt x="68" y="11"/>
                    </a:lnTo>
                    <a:lnTo>
                      <a:pt x="48" y="0"/>
                    </a:lnTo>
                    <a:lnTo>
                      <a:pt x="27" y="11"/>
                    </a:lnTo>
                    <a:lnTo>
                      <a:pt x="27" y="34"/>
                    </a:lnTo>
                    <a:lnTo>
                      <a:pt x="48" y="47"/>
                    </a:lnTo>
                    <a:close/>
                    <a:moveTo>
                      <a:pt x="99" y="47"/>
                    </a:moveTo>
                    <a:lnTo>
                      <a:pt x="120" y="34"/>
                    </a:lnTo>
                    <a:lnTo>
                      <a:pt x="120" y="11"/>
                    </a:lnTo>
                    <a:lnTo>
                      <a:pt x="99" y="0"/>
                    </a:lnTo>
                    <a:lnTo>
                      <a:pt x="82" y="11"/>
                    </a:lnTo>
                    <a:lnTo>
                      <a:pt x="82" y="34"/>
                    </a:lnTo>
                    <a:lnTo>
                      <a:pt x="99" y="47"/>
                    </a:lnTo>
                    <a:close/>
                    <a:moveTo>
                      <a:pt x="181" y="94"/>
                    </a:moveTo>
                    <a:lnTo>
                      <a:pt x="201" y="82"/>
                    </a:lnTo>
                    <a:lnTo>
                      <a:pt x="201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4"/>
                    </a:lnTo>
                    <a:close/>
                    <a:moveTo>
                      <a:pt x="236" y="94"/>
                    </a:moveTo>
                    <a:lnTo>
                      <a:pt x="256" y="82"/>
                    </a:lnTo>
                    <a:lnTo>
                      <a:pt x="256" y="58"/>
                    </a:lnTo>
                    <a:lnTo>
                      <a:pt x="236" y="47"/>
                    </a:lnTo>
                    <a:lnTo>
                      <a:pt x="215" y="58"/>
                    </a:lnTo>
                    <a:lnTo>
                      <a:pt x="215" y="82"/>
                    </a:lnTo>
                    <a:lnTo>
                      <a:pt x="236" y="94"/>
                    </a:lnTo>
                    <a:close/>
                    <a:moveTo>
                      <a:pt x="262" y="140"/>
                    </a:moveTo>
                    <a:lnTo>
                      <a:pt x="282" y="128"/>
                    </a:lnTo>
                    <a:lnTo>
                      <a:pt x="282" y="105"/>
                    </a:lnTo>
                    <a:lnTo>
                      <a:pt x="262" y="94"/>
                    </a:lnTo>
                    <a:lnTo>
                      <a:pt x="242" y="105"/>
                    </a:lnTo>
                    <a:lnTo>
                      <a:pt x="242" y="128"/>
                    </a:lnTo>
                    <a:lnTo>
                      <a:pt x="262" y="140"/>
                    </a:lnTo>
                    <a:close/>
                    <a:moveTo>
                      <a:pt x="317" y="140"/>
                    </a:moveTo>
                    <a:lnTo>
                      <a:pt x="338" y="128"/>
                    </a:lnTo>
                    <a:lnTo>
                      <a:pt x="338" y="105"/>
                    </a:lnTo>
                    <a:lnTo>
                      <a:pt x="317" y="94"/>
                    </a:lnTo>
                    <a:lnTo>
                      <a:pt x="296" y="105"/>
                    </a:lnTo>
                    <a:lnTo>
                      <a:pt x="296" y="128"/>
                    </a:lnTo>
                    <a:lnTo>
                      <a:pt x="317" y="140"/>
                    </a:lnTo>
                    <a:close/>
                    <a:moveTo>
                      <a:pt x="399" y="187"/>
                    </a:moveTo>
                    <a:lnTo>
                      <a:pt x="419" y="174"/>
                    </a:lnTo>
                    <a:lnTo>
                      <a:pt x="419" y="152"/>
                    </a:lnTo>
                    <a:lnTo>
                      <a:pt x="399" y="140"/>
                    </a:lnTo>
                    <a:lnTo>
                      <a:pt x="378" y="152"/>
                    </a:lnTo>
                    <a:lnTo>
                      <a:pt x="378" y="174"/>
                    </a:lnTo>
                    <a:lnTo>
                      <a:pt x="399" y="187"/>
                    </a:lnTo>
                    <a:close/>
                    <a:moveTo>
                      <a:pt x="480" y="234"/>
                    </a:moveTo>
                    <a:lnTo>
                      <a:pt x="498" y="222"/>
                    </a:lnTo>
                    <a:lnTo>
                      <a:pt x="498" y="198"/>
                    </a:lnTo>
                    <a:lnTo>
                      <a:pt x="480" y="187"/>
                    </a:lnTo>
                    <a:lnTo>
                      <a:pt x="459" y="198"/>
                    </a:lnTo>
                    <a:lnTo>
                      <a:pt x="459" y="222"/>
                    </a:lnTo>
                    <a:lnTo>
                      <a:pt x="480" y="234"/>
                    </a:lnTo>
                    <a:close/>
                    <a:moveTo>
                      <a:pt x="505" y="279"/>
                    </a:moveTo>
                    <a:lnTo>
                      <a:pt x="525" y="268"/>
                    </a:lnTo>
                    <a:lnTo>
                      <a:pt x="525" y="245"/>
                    </a:lnTo>
                    <a:lnTo>
                      <a:pt x="505" y="234"/>
                    </a:lnTo>
                    <a:lnTo>
                      <a:pt x="484" y="245"/>
                    </a:lnTo>
                    <a:lnTo>
                      <a:pt x="484" y="268"/>
                    </a:lnTo>
                    <a:lnTo>
                      <a:pt x="505" y="279"/>
                    </a:lnTo>
                    <a:close/>
                    <a:moveTo>
                      <a:pt x="532" y="421"/>
                    </a:moveTo>
                    <a:lnTo>
                      <a:pt x="552" y="409"/>
                    </a:lnTo>
                    <a:lnTo>
                      <a:pt x="552" y="384"/>
                    </a:lnTo>
                    <a:lnTo>
                      <a:pt x="532" y="373"/>
                    </a:lnTo>
                    <a:lnTo>
                      <a:pt x="512" y="384"/>
                    </a:lnTo>
                    <a:lnTo>
                      <a:pt x="512" y="409"/>
                    </a:lnTo>
                    <a:lnTo>
                      <a:pt x="532" y="421"/>
                    </a:lnTo>
                    <a:close/>
                    <a:moveTo>
                      <a:pt x="532" y="327"/>
                    </a:moveTo>
                    <a:lnTo>
                      <a:pt x="552" y="316"/>
                    </a:lnTo>
                    <a:lnTo>
                      <a:pt x="552" y="292"/>
                    </a:lnTo>
                    <a:lnTo>
                      <a:pt x="532" y="280"/>
                    </a:lnTo>
                    <a:lnTo>
                      <a:pt x="512" y="292"/>
                    </a:lnTo>
                    <a:lnTo>
                      <a:pt x="512" y="316"/>
                    </a:lnTo>
                    <a:lnTo>
                      <a:pt x="532" y="327"/>
                    </a:lnTo>
                    <a:close/>
                    <a:moveTo>
                      <a:pt x="559" y="373"/>
                    </a:moveTo>
                    <a:lnTo>
                      <a:pt x="579" y="361"/>
                    </a:lnTo>
                    <a:lnTo>
                      <a:pt x="579" y="338"/>
                    </a:lnTo>
                    <a:lnTo>
                      <a:pt x="559" y="327"/>
                    </a:lnTo>
                    <a:lnTo>
                      <a:pt x="539" y="338"/>
                    </a:lnTo>
                    <a:lnTo>
                      <a:pt x="539" y="361"/>
                    </a:lnTo>
                    <a:lnTo>
                      <a:pt x="559" y="373"/>
                    </a:lnTo>
                    <a:close/>
                    <a:moveTo>
                      <a:pt x="587" y="421"/>
                    </a:moveTo>
                    <a:lnTo>
                      <a:pt x="607" y="409"/>
                    </a:lnTo>
                    <a:lnTo>
                      <a:pt x="607" y="384"/>
                    </a:lnTo>
                    <a:lnTo>
                      <a:pt x="587" y="373"/>
                    </a:lnTo>
                    <a:lnTo>
                      <a:pt x="566" y="384"/>
                    </a:lnTo>
                    <a:lnTo>
                      <a:pt x="566" y="409"/>
                    </a:lnTo>
                    <a:lnTo>
                      <a:pt x="587" y="421"/>
                    </a:lnTo>
                    <a:close/>
                    <a:moveTo>
                      <a:pt x="829" y="466"/>
                    </a:moveTo>
                    <a:lnTo>
                      <a:pt x="849" y="455"/>
                    </a:lnTo>
                    <a:lnTo>
                      <a:pt x="849" y="432"/>
                    </a:lnTo>
                    <a:lnTo>
                      <a:pt x="829" y="421"/>
                    </a:lnTo>
                    <a:lnTo>
                      <a:pt x="809" y="432"/>
                    </a:lnTo>
                    <a:lnTo>
                      <a:pt x="809" y="455"/>
                    </a:lnTo>
                    <a:lnTo>
                      <a:pt x="829" y="466"/>
                    </a:lnTo>
                    <a:close/>
                    <a:moveTo>
                      <a:pt x="883" y="466"/>
                    </a:moveTo>
                    <a:lnTo>
                      <a:pt x="904" y="455"/>
                    </a:lnTo>
                    <a:lnTo>
                      <a:pt x="904" y="432"/>
                    </a:lnTo>
                    <a:lnTo>
                      <a:pt x="883" y="421"/>
                    </a:lnTo>
                    <a:lnTo>
                      <a:pt x="863" y="432"/>
                    </a:lnTo>
                    <a:lnTo>
                      <a:pt x="863" y="455"/>
                    </a:lnTo>
                    <a:lnTo>
                      <a:pt x="883" y="466"/>
                    </a:lnTo>
                    <a:close/>
                    <a:moveTo>
                      <a:pt x="938" y="466"/>
                    </a:moveTo>
                    <a:lnTo>
                      <a:pt x="958" y="455"/>
                    </a:lnTo>
                    <a:lnTo>
                      <a:pt x="958" y="432"/>
                    </a:lnTo>
                    <a:lnTo>
                      <a:pt x="938" y="421"/>
                    </a:lnTo>
                    <a:lnTo>
                      <a:pt x="916" y="432"/>
                    </a:lnTo>
                    <a:lnTo>
                      <a:pt x="916" y="455"/>
                    </a:lnTo>
                    <a:lnTo>
                      <a:pt x="938" y="466"/>
                    </a:lnTo>
                    <a:close/>
                    <a:moveTo>
                      <a:pt x="992" y="559"/>
                    </a:moveTo>
                    <a:lnTo>
                      <a:pt x="1012" y="548"/>
                    </a:lnTo>
                    <a:lnTo>
                      <a:pt x="1012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48"/>
                    </a:lnTo>
                    <a:lnTo>
                      <a:pt x="992" y="559"/>
                    </a:lnTo>
                    <a:close/>
                    <a:moveTo>
                      <a:pt x="1045" y="559"/>
                    </a:moveTo>
                    <a:lnTo>
                      <a:pt x="1064" y="548"/>
                    </a:lnTo>
                    <a:lnTo>
                      <a:pt x="1064" y="525"/>
                    </a:lnTo>
                    <a:lnTo>
                      <a:pt x="1045" y="514"/>
                    </a:lnTo>
                    <a:lnTo>
                      <a:pt x="1025" y="525"/>
                    </a:lnTo>
                    <a:lnTo>
                      <a:pt x="1025" y="548"/>
                    </a:lnTo>
                    <a:lnTo>
                      <a:pt x="1045" y="559"/>
                    </a:lnTo>
                    <a:close/>
                    <a:moveTo>
                      <a:pt x="801" y="605"/>
                    </a:moveTo>
                    <a:lnTo>
                      <a:pt x="821" y="594"/>
                    </a:lnTo>
                    <a:lnTo>
                      <a:pt x="821" y="571"/>
                    </a:lnTo>
                    <a:lnTo>
                      <a:pt x="801" y="559"/>
                    </a:lnTo>
                    <a:lnTo>
                      <a:pt x="781" y="571"/>
                    </a:lnTo>
                    <a:lnTo>
                      <a:pt x="781" y="594"/>
                    </a:lnTo>
                    <a:lnTo>
                      <a:pt x="801" y="605"/>
                    </a:lnTo>
                    <a:close/>
                    <a:moveTo>
                      <a:pt x="856" y="605"/>
                    </a:moveTo>
                    <a:lnTo>
                      <a:pt x="876" y="594"/>
                    </a:lnTo>
                    <a:lnTo>
                      <a:pt x="876" y="571"/>
                    </a:lnTo>
                    <a:lnTo>
                      <a:pt x="856" y="559"/>
                    </a:lnTo>
                    <a:lnTo>
                      <a:pt x="835" y="571"/>
                    </a:lnTo>
                    <a:lnTo>
                      <a:pt x="835" y="594"/>
                    </a:lnTo>
                    <a:lnTo>
                      <a:pt x="856" y="605"/>
                    </a:lnTo>
                    <a:close/>
                    <a:moveTo>
                      <a:pt x="910" y="605"/>
                    </a:moveTo>
                    <a:lnTo>
                      <a:pt x="930" y="594"/>
                    </a:lnTo>
                    <a:lnTo>
                      <a:pt x="930" y="571"/>
                    </a:lnTo>
                    <a:lnTo>
                      <a:pt x="910" y="559"/>
                    </a:lnTo>
                    <a:lnTo>
                      <a:pt x="890" y="571"/>
                    </a:lnTo>
                    <a:lnTo>
                      <a:pt x="890" y="594"/>
                    </a:lnTo>
                    <a:lnTo>
                      <a:pt x="910" y="605"/>
                    </a:lnTo>
                    <a:close/>
                    <a:moveTo>
                      <a:pt x="964" y="605"/>
                    </a:moveTo>
                    <a:lnTo>
                      <a:pt x="985" y="594"/>
                    </a:lnTo>
                    <a:lnTo>
                      <a:pt x="985" y="571"/>
                    </a:lnTo>
                    <a:lnTo>
                      <a:pt x="964" y="559"/>
                    </a:lnTo>
                    <a:lnTo>
                      <a:pt x="944" y="571"/>
                    </a:lnTo>
                    <a:lnTo>
                      <a:pt x="944" y="594"/>
                    </a:lnTo>
                    <a:lnTo>
                      <a:pt x="964" y="605"/>
                    </a:lnTo>
                    <a:close/>
                    <a:moveTo>
                      <a:pt x="1019" y="605"/>
                    </a:moveTo>
                    <a:lnTo>
                      <a:pt x="1039" y="594"/>
                    </a:lnTo>
                    <a:lnTo>
                      <a:pt x="1039" y="571"/>
                    </a:lnTo>
                    <a:lnTo>
                      <a:pt x="1019" y="559"/>
                    </a:lnTo>
                    <a:lnTo>
                      <a:pt x="998" y="571"/>
                    </a:lnTo>
                    <a:lnTo>
                      <a:pt x="998" y="594"/>
                    </a:lnTo>
                    <a:lnTo>
                      <a:pt x="1019" y="605"/>
                    </a:lnTo>
                    <a:close/>
                    <a:moveTo>
                      <a:pt x="1070" y="605"/>
                    </a:moveTo>
                    <a:lnTo>
                      <a:pt x="1091" y="594"/>
                    </a:lnTo>
                    <a:lnTo>
                      <a:pt x="1091" y="571"/>
                    </a:lnTo>
                    <a:lnTo>
                      <a:pt x="1070" y="559"/>
                    </a:lnTo>
                    <a:lnTo>
                      <a:pt x="1053" y="571"/>
                    </a:lnTo>
                    <a:lnTo>
                      <a:pt x="1053" y="594"/>
                    </a:lnTo>
                    <a:lnTo>
                      <a:pt x="1070" y="605"/>
                    </a:lnTo>
                    <a:close/>
                    <a:moveTo>
                      <a:pt x="505" y="653"/>
                    </a:moveTo>
                    <a:lnTo>
                      <a:pt x="525" y="641"/>
                    </a:lnTo>
                    <a:lnTo>
                      <a:pt x="525" y="619"/>
                    </a:lnTo>
                    <a:lnTo>
                      <a:pt x="505" y="605"/>
                    </a:lnTo>
                    <a:lnTo>
                      <a:pt x="484" y="619"/>
                    </a:lnTo>
                    <a:lnTo>
                      <a:pt x="484" y="641"/>
                    </a:lnTo>
                    <a:lnTo>
                      <a:pt x="505" y="653"/>
                    </a:lnTo>
                    <a:close/>
                    <a:moveTo>
                      <a:pt x="559" y="653"/>
                    </a:moveTo>
                    <a:lnTo>
                      <a:pt x="579" y="641"/>
                    </a:lnTo>
                    <a:lnTo>
                      <a:pt x="579" y="619"/>
                    </a:lnTo>
                    <a:lnTo>
                      <a:pt x="559" y="605"/>
                    </a:lnTo>
                    <a:lnTo>
                      <a:pt x="539" y="619"/>
                    </a:lnTo>
                    <a:lnTo>
                      <a:pt x="539" y="641"/>
                    </a:lnTo>
                    <a:lnTo>
                      <a:pt x="559" y="653"/>
                    </a:lnTo>
                    <a:close/>
                    <a:moveTo>
                      <a:pt x="613" y="653"/>
                    </a:moveTo>
                    <a:lnTo>
                      <a:pt x="634" y="641"/>
                    </a:lnTo>
                    <a:lnTo>
                      <a:pt x="634" y="619"/>
                    </a:lnTo>
                    <a:lnTo>
                      <a:pt x="613" y="605"/>
                    </a:lnTo>
                    <a:lnTo>
                      <a:pt x="593" y="619"/>
                    </a:lnTo>
                    <a:lnTo>
                      <a:pt x="593" y="641"/>
                    </a:lnTo>
                    <a:lnTo>
                      <a:pt x="613" y="653"/>
                    </a:lnTo>
                    <a:close/>
                    <a:moveTo>
                      <a:pt x="666" y="653"/>
                    </a:moveTo>
                    <a:lnTo>
                      <a:pt x="686" y="641"/>
                    </a:lnTo>
                    <a:lnTo>
                      <a:pt x="686" y="619"/>
                    </a:lnTo>
                    <a:lnTo>
                      <a:pt x="666" y="605"/>
                    </a:lnTo>
                    <a:lnTo>
                      <a:pt x="647" y="619"/>
                    </a:lnTo>
                    <a:lnTo>
                      <a:pt x="647" y="641"/>
                    </a:lnTo>
                    <a:lnTo>
                      <a:pt x="666" y="653"/>
                    </a:lnTo>
                    <a:close/>
                    <a:moveTo>
                      <a:pt x="720" y="653"/>
                    </a:moveTo>
                    <a:lnTo>
                      <a:pt x="740" y="641"/>
                    </a:lnTo>
                    <a:lnTo>
                      <a:pt x="740" y="619"/>
                    </a:lnTo>
                    <a:lnTo>
                      <a:pt x="720" y="605"/>
                    </a:lnTo>
                    <a:lnTo>
                      <a:pt x="700" y="619"/>
                    </a:lnTo>
                    <a:lnTo>
                      <a:pt x="700" y="641"/>
                    </a:lnTo>
                    <a:lnTo>
                      <a:pt x="720" y="653"/>
                    </a:lnTo>
                    <a:close/>
                    <a:moveTo>
                      <a:pt x="21" y="653"/>
                    </a:moveTo>
                    <a:lnTo>
                      <a:pt x="41" y="641"/>
                    </a:lnTo>
                    <a:lnTo>
                      <a:pt x="41" y="619"/>
                    </a:lnTo>
                    <a:lnTo>
                      <a:pt x="21" y="605"/>
                    </a:lnTo>
                    <a:lnTo>
                      <a:pt x="0" y="619"/>
                    </a:lnTo>
                    <a:lnTo>
                      <a:pt x="0" y="641"/>
                    </a:lnTo>
                    <a:lnTo>
                      <a:pt x="21" y="653"/>
                    </a:lnTo>
                    <a:close/>
                    <a:moveTo>
                      <a:pt x="74" y="653"/>
                    </a:moveTo>
                    <a:lnTo>
                      <a:pt x="93" y="641"/>
                    </a:lnTo>
                    <a:lnTo>
                      <a:pt x="93" y="619"/>
                    </a:lnTo>
                    <a:lnTo>
                      <a:pt x="74" y="605"/>
                    </a:lnTo>
                    <a:lnTo>
                      <a:pt x="54" y="619"/>
                    </a:lnTo>
                    <a:lnTo>
                      <a:pt x="54" y="641"/>
                    </a:lnTo>
                    <a:lnTo>
                      <a:pt x="74" y="653"/>
                    </a:lnTo>
                    <a:close/>
                    <a:moveTo>
                      <a:pt x="127" y="653"/>
                    </a:moveTo>
                    <a:lnTo>
                      <a:pt x="147" y="641"/>
                    </a:lnTo>
                    <a:lnTo>
                      <a:pt x="147" y="619"/>
                    </a:lnTo>
                    <a:lnTo>
                      <a:pt x="127" y="605"/>
                    </a:lnTo>
                    <a:lnTo>
                      <a:pt x="107" y="619"/>
                    </a:lnTo>
                    <a:lnTo>
                      <a:pt x="107" y="641"/>
                    </a:lnTo>
                    <a:lnTo>
                      <a:pt x="127" y="653"/>
                    </a:lnTo>
                    <a:close/>
                    <a:moveTo>
                      <a:pt x="181" y="653"/>
                    </a:moveTo>
                    <a:lnTo>
                      <a:pt x="201" y="641"/>
                    </a:lnTo>
                    <a:lnTo>
                      <a:pt x="201" y="619"/>
                    </a:lnTo>
                    <a:lnTo>
                      <a:pt x="181" y="605"/>
                    </a:lnTo>
                    <a:lnTo>
                      <a:pt x="161" y="619"/>
                    </a:lnTo>
                    <a:lnTo>
                      <a:pt x="161" y="641"/>
                    </a:lnTo>
                    <a:lnTo>
                      <a:pt x="181" y="653"/>
                    </a:lnTo>
                    <a:close/>
                    <a:moveTo>
                      <a:pt x="236" y="653"/>
                    </a:moveTo>
                    <a:lnTo>
                      <a:pt x="256" y="641"/>
                    </a:lnTo>
                    <a:lnTo>
                      <a:pt x="256" y="619"/>
                    </a:lnTo>
                    <a:lnTo>
                      <a:pt x="236" y="605"/>
                    </a:lnTo>
                    <a:lnTo>
                      <a:pt x="215" y="619"/>
                    </a:lnTo>
                    <a:lnTo>
                      <a:pt x="215" y="641"/>
                    </a:lnTo>
                    <a:lnTo>
                      <a:pt x="236" y="653"/>
                    </a:lnTo>
                    <a:close/>
                    <a:moveTo>
                      <a:pt x="290" y="653"/>
                    </a:moveTo>
                    <a:lnTo>
                      <a:pt x="310" y="641"/>
                    </a:lnTo>
                    <a:lnTo>
                      <a:pt x="310" y="619"/>
                    </a:lnTo>
                    <a:lnTo>
                      <a:pt x="290" y="605"/>
                    </a:lnTo>
                    <a:lnTo>
                      <a:pt x="270" y="619"/>
                    </a:lnTo>
                    <a:lnTo>
                      <a:pt x="270" y="641"/>
                    </a:lnTo>
                    <a:lnTo>
                      <a:pt x="290" y="653"/>
                    </a:lnTo>
                    <a:close/>
                    <a:moveTo>
                      <a:pt x="480" y="605"/>
                    </a:moveTo>
                    <a:lnTo>
                      <a:pt x="498" y="594"/>
                    </a:lnTo>
                    <a:lnTo>
                      <a:pt x="498" y="571"/>
                    </a:lnTo>
                    <a:lnTo>
                      <a:pt x="480" y="559"/>
                    </a:lnTo>
                    <a:lnTo>
                      <a:pt x="459" y="571"/>
                    </a:lnTo>
                    <a:lnTo>
                      <a:pt x="459" y="594"/>
                    </a:lnTo>
                    <a:lnTo>
                      <a:pt x="480" y="605"/>
                    </a:lnTo>
                    <a:close/>
                    <a:moveTo>
                      <a:pt x="532" y="605"/>
                    </a:moveTo>
                    <a:lnTo>
                      <a:pt x="552" y="594"/>
                    </a:lnTo>
                    <a:lnTo>
                      <a:pt x="552" y="571"/>
                    </a:lnTo>
                    <a:lnTo>
                      <a:pt x="532" y="559"/>
                    </a:lnTo>
                    <a:lnTo>
                      <a:pt x="512" y="571"/>
                    </a:lnTo>
                    <a:lnTo>
                      <a:pt x="512" y="594"/>
                    </a:lnTo>
                    <a:lnTo>
                      <a:pt x="532" y="605"/>
                    </a:lnTo>
                    <a:close/>
                    <a:moveTo>
                      <a:pt x="587" y="605"/>
                    </a:moveTo>
                    <a:lnTo>
                      <a:pt x="607" y="594"/>
                    </a:lnTo>
                    <a:lnTo>
                      <a:pt x="607" y="571"/>
                    </a:lnTo>
                    <a:lnTo>
                      <a:pt x="587" y="559"/>
                    </a:lnTo>
                    <a:lnTo>
                      <a:pt x="566" y="571"/>
                    </a:lnTo>
                    <a:lnTo>
                      <a:pt x="566" y="594"/>
                    </a:lnTo>
                    <a:lnTo>
                      <a:pt x="587" y="605"/>
                    </a:lnTo>
                    <a:close/>
                    <a:moveTo>
                      <a:pt x="641" y="605"/>
                    </a:moveTo>
                    <a:lnTo>
                      <a:pt x="658" y="594"/>
                    </a:lnTo>
                    <a:lnTo>
                      <a:pt x="658" y="571"/>
                    </a:lnTo>
                    <a:lnTo>
                      <a:pt x="641" y="559"/>
                    </a:lnTo>
                    <a:lnTo>
                      <a:pt x="621" y="571"/>
                    </a:lnTo>
                    <a:lnTo>
                      <a:pt x="621" y="594"/>
                    </a:lnTo>
                    <a:lnTo>
                      <a:pt x="641" y="605"/>
                    </a:lnTo>
                    <a:close/>
                    <a:moveTo>
                      <a:pt x="48" y="605"/>
                    </a:moveTo>
                    <a:lnTo>
                      <a:pt x="68" y="594"/>
                    </a:lnTo>
                    <a:lnTo>
                      <a:pt x="68" y="571"/>
                    </a:lnTo>
                    <a:lnTo>
                      <a:pt x="48" y="559"/>
                    </a:lnTo>
                    <a:lnTo>
                      <a:pt x="27" y="571"/>
                    </a:lnTo>
                    <a:lnTo>
                      <a:pt x="27" y="594"/>
                    </a:lnTo>
                    <a:lnTo>
                      <a:pt x="48" y="605"/>
                    </a:lnTo>
                    <a:close/>
                    <a:moveTo>
                      <a:pt x="99" y="605"/>
                    </a:moveTo>
                    <a:lnTo>
                      <a:pt x="120" y="594"/>
                    </a:lnTo>
                    <a:lnTo>
                      <a:pt x="120" y="571"/>
                    </a:lnTo>
                    <a:lnTo>
                      <a:pt x="99" y="559"/>
                    </a:lnTo>
                    <a:lnTo>
                      <a:pt x="82" y="571"/>
                    </a:lnTo>
                    <a:lnTo>
                      <a:pt x="82" y="594"/>
                    </a:lnTo>
                    <a:lnTo>
                      <a:pt x="99" y="605"/>
                    </a:lnTo>
                    <a:close/>
                    <a:moveTo>
                      <a:pt x="155" y="605"/>
                    </a:moveTo>
                    <a:lnTo>
                      <a:pt x="175" y="594"/>
                    </a:lnTo>
                    <a:lnTo>
                      <a:pt x="175" y="571"/>
                    </a:lnTo>
                    <a:lnTo>
                      <a:pt x="155" y="559"/>
                    </a:lnTo>
                    <a:lnTo>
                      <a:pt x="133" y="571"/>
                    </a:lnTo>
                    <a:lnTo>
                      <a:pt x="133" y="594"/>
                    </a:lnTo>
                    <a:lnTo>
                      <a:pt x="155" y="605"/>
                    </a:lnTo>
                    <a:close/>
                    <a:moveTo>
                      <a:pt x="208" y="605"/>
                    </a:moveTo>
                    <a:lnTo>
                      <a:pt x="229" y="594"/>
                    </a:lnTo>
                    <a:lnTo>
                      <a:pt x="229" y="571"/>
                    </a:lnTo>
                    <a:lnTo>
                      <a:pt x="208" y="559"/>
                    </a:lnTo>
                    <a:lnTo>
                      <a:pt x="188" y="571"/>
                    </a:lnTo>
                    <a:lnTo>
                      <a:pt x="188" y="594"/>
                    </a:lnTo>
                    <a:lnTo>
                      <a:pt x="208" y="605"/>
                    </a:lnTo>
                    <a:close/>
                    <a:moveTo>
                      <a:pt x="262" y="605"/>
                    </a:moveTo>
                    <a:lnTo>
                      <a:pt x="282" y="594"/>
                    </a:lnTo>
                    <a:lnTo>
                      <a:pt x="282" y="571"/>
                    </a:lnTo>
                    <a:lnTo>
                      <a:pt x="262" y="559"/>
                    </a:lnTo>
                    <a:lnTo>
                      <a:pt x="242" y="571"/>
                    </a:lnTo>
                    <a:lnTo>
                      <a:pt x="242" y="594"/>
                    </a:lnTo>
                    <a:lnTo>
                      <a:pt x="262" y="605"/>
                    </a:lnTo>
                    <a:close/>
                    <a:moveTo>
                      <a:pt x="692" y="605"/>
                    </a:moveTo>
                    <a:lnTo>
                      <a:pt x="713" y="594"/>
                    </a:lnTo>
                    <a:lnTo>
                      <a:pt x="713" y="571"/>
                    </a:lnTo>
                    <a:lnTo>
                      <a:pt x="692" y="559"/>
                    </a:lnTo>
                    <a:lnTo>
                      <a:pt x="675" y="571"/>
                    </a:lnTo>
                    <a:lnTo>
                      <a:pt x="675" y="594"/>
                    </a:lnTo>
                    <a:lnTo>
                      <a:pt x="692" y="605"/>
                    </a:lnTo>
                    <a:close/>
                    <a:moveTo>
                      <a:pt x="747" y="605"/>
                    </a:moveTo>
                    <a:lnTo>
                      <a:pt x="767" y="594"/>
                    </a:lnTo>
                    <a:lnTo>
                      <a:pt x="767" y="571"/>
                    </a:lnTo>
                    <a:lnTo>
                      <a:pt x="747" y="559"/>
                    </a:lnTo>
                    <a:lnTo>
                      <a:pt x="727" y="571"/>
                    </a:lnTo>
                    <a:lnTo>
                      <a:pt x="727" y="594"/>
                    </a:lnTo>
                    <a:lnTo>
                      <a:pt x="747" y="605"/>
                    </a:lnTo>
                    <a:close/>
                    <a:moveTo>
                      <a:pt x="775" y="653"/>
                    </a:moveTo>
                    <a:lnTo>
                      <a:pt x="795" y="641"/>
                    </a:lnTo>
                    <a:lnTo>
                      <a:pt x="795" y="619"/>
                    </a:lnTo>
                    <a:lnTo>
                      <a:pt x="775" y="605"/>
                    </a:lnTo>
                    <a:lnTo>
                      <a:pt x="754" y="619"/>
                    </a:lnTo>
                    <a:lnTo>
                      <a:pt x="754" y="641"/>
                    </a:lnTo>
                    <a:lnTo>
                      <a:pt x="775" y="653"/>
                    </a:lnTo>
                    <a:close/>
                    <a:moveTo>
                      <a:pt x="829" y="653"/>
                    </a:moveTo>
                    <a:lnTo>
                      <a:pt x="849" y="641"/>
                    </a:lnTo>
                    <a:lnTo>
                      <a:pt x="849" y="619"/>
                    </a:lnTo>
                    <a:lnTo>
                      <a:pt x="829" y="605"/>
                    </a:lnTo>
                    <a:lnTo>
                      <a:pt x="809" y="619"/>
                    </a:lnTo>
                    <a:lnTo>
                      <a:pt x="809" y="641"/>
                    </a:lnTo>
                    <a:lnTo>
                      <a:pt x="829" y="653"/>
                    </a:lnTo>
                    <a:close/>
                    <a:moveTo>
                      <a:pt x="883" y="653"/>
                    </a:moveTo>
                    <a:lnTo>
                      <a:pt x="904" y="641"/>
                    </a:lnTo>
                    <a:lnTo>
                      <a:pt x="904" y="619"/>
                    </a:lnTo>
                    <a:lnTo>
                      <a:pt x="883" y="605"/>
                    </a:lnTo>
                    <a:lnTo>
                      <a:pt x="863" y="619"/>
                    </a:lnTo>
                    <a:lnTo>
                      <a:pt x="863" y="641"/>
                    </a:lnTo>
                    <a:lnTo>
                      <a:pt x="883" y="653"/>
                    </a:lnTo>
                    <a:close/>
                    <a:moveTo>
                      <a:pt x="938" y="653"/>
                    </a:moveTo>
                    <a:lnTo>
                      <a:pt x="958" y="641"/>
                    </a:lnTo>
                    <a:lnTo>
                      <a:pt x="958" y="619"/>
                    </a:lnTo>
                    <a:lnTo>
                      <a:pt x="938" y="605"/>
                    </a:lnTo>
                    <a:lnTo>
                      <a:pt x="916" y="619"/>
                    </a:lnTo>
                    <a:lnTo>
                      <a:pt x="916" y="641"/>
                    </a:lnTo>
                    <a:lnTo>
                      <a:pt x="938" y="653"/>
                    </a:lnTo>
                    <a:close/>
                    <a:moveTo>
                      <a:pt x="992" y="653"/>
                    </a:moveTo>
                    <a:lnTo>
                      <a:pt x="1012" y="641"/>
                    </a:lnTo>
                    <a:lnTo>
                      <a:pt x="1012" y="619"/>
                    </a:lnTo>
                    <a:lnTo>
                      <a:pt x="992" y="605"/>
                    </a:lnTo>
                    <a:lnTo>
                      <a:pt x="972" y="619"/>
                    </a:lnTo>
                    <a:lnTo>
                      <a:pt x="972" y="641"/>
                    </a:lnTo>
                    <a:lnTo>
                      <a:pt x="992" y="653"/>
                    </a:lnTo>
                    <a:close/>
                    <a:moveTo>
                      <a:pt x="1045" y="653"/>
                    </a:moveTo>
                    <a:lnTo>
                      <a:pt x="1064" y="641"/>
                    </a:lnTo>
                    <a:lnTo>
                      <a:pt x="1064" y="619"/>
                    </a:lnTo>
                    <a:lnTo>
                      <a:pt x="1045" y="605"/>
                    </a:lnTo>
                    <a:lnTo>
                      <a:pt x="1025" y="619"/>
                    </a:lnTo>
                    <a:lnTo>
                      <a:pt x="1025" y="641"/>
                    </a:lnTo>
                    <a:lnTo>
                      <a:pt x="1045" y="653"/>
                    </a:lnTo>
                    <a:close/>
                    <a:moveTo>
                      <a:pt x="1019" y="421"/>
                    </a:moveTo>
                    <a:lnTo>
                      <a:pt x="1039" y="409"/>
                    </a:lnTo>
                    <a:lnTo>
                      <a:pt x="1039" y="384"/>
                    </a:lnTo>
                    <a:lnTo>
                      <a:pt x="1019" y="373"/>
                    </a:lnTo>
                    <a:lnTo>
                      <a:pt x="998" y="384"/>
                    </a:lnTo>
                    <a:lnTo>
                      <a:pt x="998" y="409"/>
                    </a:lnTo>
                    <a:lnTo>
                      <a:pt x="1019" y="421"/>
                    </a:lnTo>
                    <a:close/>
                    <a:moveTo>
                      <a:pt x="1045" y="466"/>
                    </a:moveTo>
                    <a:lnTo>
                      <a:pt x="1064" y="455"/>
                    </a:lnTo>
                    <a:lnTo>
                      <a:pt x="1064" y="432"/>
                    </a:lnTo>
                    <a:lnTo>
                      <a:pt x="1045" y="421"/>
                    </a:lnTo>
                    <a:lnTo>
                      <a:pt x="1025" y="432"/>
                    </a:lnTo>
                    <a:lnTo>
                      <a:pt x="1025" y="455"/>
                    </a:lnTo>
                    <a:lnTo>
                      <a:pt x="1045" y="466"/>
                    </a:lnTo>
                    <a:close/>
                    <a:moveTo>
                      <a:pt x="1070" y="421"/>
                    </a:moveTo>
                    <a:lnTo>
                      <a:pt x="1091" y="409"/>
                    </a:lnTo>
                    <a:lnTo>
                      <a:pt x="1091" y="384"/>
                    </a:lnTo>
                    <a:lnTo>
                      <a:pt x="1070" y="373"/>
                    </a:lnTo>
                    <a:lnTo>
                      <a:pt x="1053" y="384"/>
                    </a:lnTo>
                    <a:lnTo>
                      <a:pt x="1053" y="409"/>
                    </a:lnTo>
                    <a:lnTo>
                      <a:pt x="1070" y="421"/>
                    </a:lnTo>
                    <a:close/>
                    <a:moveTo>
                      <a:pt x="964" y="511"/>
                    </a:moveTo>
                    <a:lnTo>
                      <a:pt x="985" y="500"/>
                    </a:lnTo>
                    <a:lnTo>
                      <a:pt x="985" y="477"/>
                    </a:lnTo>
                    <a:lnTo>
                      <a:pt x="964" y="466"/>
                    </a:lnTo>
                    <a:lnTo>
                      <a:pt x="944" y="477"/>
                    </a:lnTo>
                    <a:lnTo>
                      <a:pt x="944" y="500"/>
                    </a:lnTo>
                    <a:lnTo>
                      <a:pt x="964" y="511"/>
                    </a:lnTo>
                    <a:close/>
                    <a:moveTo>
                      <a:pt x="992" y="466"/>
                    </a:moveTo>
                    <a:lnTo>
                      <a:pt x="1012" y="455"/>
                    </a:lnTo>
                    <a:lnTo>
                      <a:pt x="1012" y="432"/>
                    </a:lnTo>
                    <a:lnTo>
                      <a:pt x="992" y="421"/>
                    </a:lnTo>
                    <a:lnTo>
                      <a:pt x="972" y="432"/>
                    </a:lnTo>
                    <a:lnTo>
                      <a:pt x="972" y="455"/>
                    </a:lnTo>
                    <a:lnTo>
                      <a:pt x="992" y="466"/>
                    </a:lnTo>
                    <a:close/>
                    <a:moveTo>
                      <a:pt x="1019" y="511"/>
                    </a:moveTo>
                    <a:lnTo>
                      <a:pt x="1039" y="500"/>
                    </a:lnTo>
                    <a:lnTo>
                      <a:pt x="1039" y="477"/>
                    </a:lnTo>
                    <a:lnTo>
                      <a:pt x="1019" y="466"/>
                    </a:lnTo>
                    <a:lnTo>
                      <a:pt x="998" y="477"/>
                    </a:lnTo>
                    <a:lnTo>
                      <a:pt x="998" y="500"/>
                    </a:lnTo>
                    <a:lnTo>
                      <a:pt x="1019" y="511"/>
                    </a:lnTo>
                    <a:close/>
                    <a:moveTo>
                      <a:pt x="1070" y="511"/>
                    </a:moveTo>
                    <a:lnTo>
                      <a:pt x="1091" y="500"/>
                    </a:lnTo>
                    <a:lnTo>
                      <a:pt x="1091" y="477"/>
                    </a:lnTo>
                    <a:lnTo>
                      <a:pt x="1070" y="466"/>
                    </a:lnTo>
                    <a:lnTo>
                      <a:pt x="1053" y="477"/>
                    </a:lnTo>
                    <a:lnTo>
                      <a:pt x="1053" y="500"/>
                    </a:lnTo>
                    <a:lnTo>
                      <a:pt x="1070" y="51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973640" y="484560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803736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09820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15904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854120" y="484560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91280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67160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73244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793280" y="484560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12584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186680" y="484560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24572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30656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367400" y="4845600"/>
                <a:ext cx="4680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428240" y="484560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005680" y="477648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066520" y="4776480"/>
                <a:ext cx="4680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129160" y="477648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761960" y="4776480"/>
                <a:ext cx="4680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824960" y="477648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20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885800" y="477648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944480" y="477648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520760" y="477648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581600" y="4776480"/>
                <a:ext cx="46800" cy="662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642440" y="477648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1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700760" y="477648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155000" y="47764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215840" y="477648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274880" y="47764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337520" y="477648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399080" y="477648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459920" y="477648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1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671600" y="471060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32440" y="471060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125840" y="471060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186680" y="4710600"/>
                <a:ext cx="42840" cy="655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245720" y="471060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06560" y="471060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367400" y="4710600"/>
                <a:ext cx="4680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28240" y="471060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89080" y="471060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49920" y="471060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793280" y="471060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854120" y="4710600"/>
                <a:ext cx="42840" cy="655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912800" y="471060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973640" y="471060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700760" y="4374000"/>
                <a:ext cx="45360" cy="691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700760" y="424188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732440" y="4443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732440" y="4308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32440" y="417276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642440" y="4509000"/>
                <a:ext cx="42840" cy="691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671600" y="4578120"/>
                <a:ext cx="44640" cy="630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155000" y="464148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215840" y="4641480"/>
                <a:ext cx="42840" cy="6912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274880" y="464148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337520" y="4641480"/>
                <a:ext cx="45360" cy="6912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99080" y="464148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459920" y="464148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520760" y="464148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581600" y="4641480"/>
                <a:ext cx="46800" cy="6912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20760" y="450900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81600" y="4509000"/>
                <a:ext cx="46800" cy="691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125840" y="4578120"/>
                <a:ext cx="44640" cy="630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186680" y="4578120"/>
                <a:ext cx="42840" cy="630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245720" y="4578120"/>
                <a:ext cx="44640" cy="630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306560" y="4578120"/>
                <a:ext cx="44640" cy="630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367400" y="4578120"/>
                <a:ext cx="46800" cy="630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428240" y="4578120"/>
                <a:ext cx="44640" cy="630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155000" y="450900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215840" y="4509000"/>
                <a:ext cx="42840" cy="691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274880" y="450900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337520" y="4509000"/>
                <a:ext cx="45360" cy="691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399080" y="450900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7459920" y="450900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7489080" y="4578120"/>
                <a:ext cx="47520" cy="630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549920" y="4578120"/>
                <a:ext cx="47520" cy="630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642440" y="4641480"/>
                <a:ext cx="42840" cy="6912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642440" y="424188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671600" y="417276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671600" y="4308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20760" y="437400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581600" y="4374000"/>
                <a:ext cx="46800" cy="691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125840" y="4443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186680" y="4443120"/>
                <a:ext cx="42840" cy="655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45720" y="4443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06560" y="4443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67400" y="4443120"/>
                <a:ext cx="4680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428240" y="4443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489080" y="444312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55000" y="437400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215840" y="4374000"/>
                <a:ext cx="42840" cy="691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274880" y="4374000"/>
                <a:ext cx="47520" cy="691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337520" y="4374000"/>
                <a:ext cx="45360" cy="691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399080" y="437400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459920" y="437400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1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549920" y="444312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520760" y="4241880"/>
                <a:ext cx="44640" cy="662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581600" y="4241880"/>
                <a:ext cx="46800" cy="6624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125840" y="4308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7186680" y="4308120"/>
                <a:ext cx="42840" cy="65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245720" y="4308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306560" y="4308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367400" y="4308120"/>
                <a:ext cx="4680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428240" y="430812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7489080" y="430812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399080" y="4106880"/>
                <a:ext cx="4464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428240" y="4172760"/>
                <a:ext cx="44640" cy="691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155000" y="42418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1701360" y="3908880"/>
              <a:ext cx="6939720" cy="1658880"/>
              <a:chOff x="1701360" y="3908880"/>
              <a:chExt cx="6939720" cy="1658880"/>
            </a:xfrm>
          </p:grpSpPr>
          <p:sp>
            <p:nvSpPr>
              <p:cNvPr id="759" name=""/>
              <p:cNvSpPr/>
              <p:nvPr/>
            </p:nvSpPr>
            <p:spPr>
              <a:xfrm>
                <a:off x="7216920" y="4241520"/>
                <a:ext cx="41040" cy="658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274520" y="4241520"/>
                <a:ext cx="47520" cy="658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337880" y="4241520"/>
                <a:ext cx="45360" cy="658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274520" y="4106880"/>
                <a:ext cx="47520" cy="6588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337880" y="4106880"/>
                <a:ext cx="45360" cy="658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125840" y="4173120"/>
                <a:ext cx="45360" cy="684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187400" y="4173120"/>
                <a:ext cx="41040" cy="684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244640" y="4173120"/>
                <a:ext cx="45360" cy="684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155360" y="4106880"/>
                <a:ext cx="47520" cy="6588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216920" y="4106880"/>
                <a:ext cx="41040" cy="6588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7" y="47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305840" y="4173120"/>
                <a:ext cx="45720" cy="684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367400" y="4173120"/>
                <a:ext cx="47520" cy="684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399440" y="4241520"/>
                <a:ext cx="43560" cy="658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458840" y="4241520"/>
                <a:ext cx="45360" cy="658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1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549920" y="430740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642800" y="4373640"/>
                <a:ext cx="41760" cy="702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670880" y="4444200"/>
                <a:ext cx="4536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700400" y="4642560"/>
                <a:ext cx="45360" cy="676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700400" y="4510080"/>
                <a:ext cx="45360" cy="684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731720" y="4578480"/>
                <a:ext cx="45720" cy="63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761960" y="4642560"/>
                <a:ext cx="4716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037360" y="471060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098560" y="4710600"/>
                <a:ext cx="43560" cy="6624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158320" y="471060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219160" y="4844880"/>
                <a:ext cx="4572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280720" y="484488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005320" y="4911480"/>
                <a:ext cx="45360" cy="63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066880" y="4911480"/>
                <a:ext cx="47160" cy="63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130240" y="4911480"/>
                <a:ext cx="43560" cy="63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187840" y="4911480"/>
                <a:ext cx="47160" cy="63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249040" y="491148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312400" y="4911480"/>
                <a:ext cx="41760" cy="63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670880" y="4975200"/>
                <a:ext cx="4536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31720" y="4975200"/>
                <a:ext cx="45720" cy="676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793280" y="4975200"/>
                <a:ext cx="4752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54840" y="4975200"/>
                <a:ext cx="41040" cy="6768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19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19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912440" y="4975200"/>
                <a:ext cx="45360" cy="676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7125840" y="4975200"/>
                <a:ext cx="4536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187400" y="4975200"/>
                <a:ext cx="41040" cy="6768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244640" y="4975200"/>
                <a:ext cx="45360" cy="676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305840" y="4975200"/>
                <a:ext cx="45720" cy="676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367400" y="4975200"/>
                <a:ext cx="4752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428960" y="4975200"/>
                <a:ext cx="43560" cy="676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42800" y="4911480"/>
                <a:ext cx="41760" cy="637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700400" y="4911480"/>
                <a:ext cx="45360" cy="63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761960" y="4911480"/>
                <a:ext cx="47160" cy="63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825320" y="4911480"/>
                <a:ext cx="43560" cy="63720"/>
              </a:xfrm>
              <a:custGeom>
                <a:avLst/>
                <a:gdLst/>
                <a:ahLst/>
                <a:rect l="l" t="t" r="r" b="b"/>
                <a:pathLst>
                  <a:path w="37" h="46">
                    <a:moveTo>
                      <a:pt x="20" y="46"/>
                    </a:moveTo>
                    <a:lnTo>
                      <a:pt x="37" y="35"/>
                    </a:lnTo>
                    <a:lnTo>
                      <a:pt x="37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155360" y="491148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216920" y="4911480"/>
                <a:ext cx="41040" cy="63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274520" y="4911480"/>
                <a:ext cx="47520" cy="637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337880" y="4911480"/>
                <a:ext cx="45360" cy="637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7399440" y="4911480"/>
                <a:ext cx="43560" cy="63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7886520" y="4911480"/>
                <a:ext cx="41760" cy="637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7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7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43760" y="4911480"/>
                <a:ext cx="45720" cy="637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7973640" y="4975200"/>
                <a:ext cx="4752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1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8037360" y="4975200"/>
                <a:ext cx="45360" cy="676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8098560" y="4975200"/>
                <a:ext cx="4356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8158320" y="4975200"/>
                <a:ext cx="45360" cy="67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4"/>
                    </a:lnTo>
                    <a:lnTo>
                      <a:pt x="22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8219160" y="4975200"/>
                <a:ext cx="45720" cy="6768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8280720" y="4975200"/>
                <a:ext cx="45360" cy="6768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4"/>
                    </a:lnTo>
                    <a:lnTo>
                      <a:pt x="20" y="0"/>
                    </a:lnTo>
                    <a:lnTo>
                      <a:pt x="0" y="14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8249040" y="4642560"/>
                <a:ext cx="4752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8280720" y="471060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312400" y="4642560"/>
                <a:ext cx="41760" cy="6768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7" y="48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187840" y="4776840"/>
                <a:ext cx="4716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8219160" y="4710600"/>
                <a:ext cx="45720" cy="6624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8249040" y="4776840"/>
                <a:ext cx="4752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312400" y="4776840"/>
                <a:ext cx="4176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7807320" y="4170960"/>
                <a:ext cx="479160" cy="4514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7807320" y="4170960"/>
                <a:ext cx="479160" cy="451440"/>
              </a:xfrm>
              <a:custGeom>
                <a:avLst/>
                <a:gdLst/>
                <a:ahLst/>
                <a:rect l="l" t="t" r="r" b="b"/>
                <a:pathLst>
                  <a:path w="426" h="315">
                    <a:moveTo>
                      <a:pt x="57" y="315"/>
                    </a:moveTo>
                    <a:lnTo>
                      <a:pt x="408" y="315"/>
                    </a:lnTo>
                    <a:lnTo>
                      <a:pt x="411" y="315"/>
                    </a:lnTo>
                    <a:lnTo>
                      <a:pt x="415" y="313"/>
                    </a:lnTo>
                    <a:lnTo>
                      <a:pt x="419" y="312"/>
                    </a:lnTo>
                    <a:lnTo>
                      <a:pt x="421" y="310"/>
                    </a:lnTo>
                    <a:lnTo>
                      <a:pt x="424" y="307"/>
                    </a:lnTo>
                    <a:lnTo>
                      <a:pt x="425" y="305"/>
                    </a:lnTo>
                    <a:lnTo>
                      <a:pt x="425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5" y="14"/>
                    </a:lnTo>
                    <a:lnTo>
                      <a:pt x="425" y="12"/>
                    </a:lnTo>
                    <a:lnTo>
                      <a:pt x="424" y="8"/>
                    </a:lnTo>
                    <a:lnTo>
                      <a:pt x="421" y="5"/>
                    </a:lnTo>
                    <a:lnTo>
                      <a:pt x="419" y="3"/>
                    </a:lnTo>
                    <a:lnTo>
                      <a:pt x="415" y="2"/>
                    </a:lnTo>
                    <a:lnTo>
                      <a:pt x="411" y="0"/>
                    </a:lnTo>
                    <a:lnTo>
                      <a:pt x="408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2" y="12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0" y="302"/>
                    </a:lnTo>
                    <a:lnTo>
                      <a:pt x="2" y="305"/>
                    </a:lnTo>
                    <a:lnTo>
                      <a:pt x="3" y="307"/>
                    </a:lnTo>
                    <a:lnTo>
                      <a:pt x="5" y="310"/>
                    </a:lnTo>
                    <a:lnTo>
                      <a:pt x="8" y="312"/>
                    </a:lnTo>
                    <a:lnTo>
                      <a:pt x="10" y="313"/>
                    </a:lnTo>
                    <a:lnTo>
                      <a:pt x="13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17" y="315"/>
                    </a:lnTo>
                    <a:lnTo>
                      <a:pt x="57" y="315"/>
                    </a:lnTo>
                    <a:lnTo>
                      <a:pt x="57" y="315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841160" y="4217400"/>
                <a:ext cx="411840" cy="36108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7841160" y="4217400"/>
                <a:ext cx="411840" cy="361080"/>
              </a:xfrm>
              <a:custGeom>
                <a:avLst/>
                <a:gdLst/>
                <a:ahLst/>
                <a:rect l="l" t="t" r="r" b="b"/>
                <a:pathLst>
                  <a:path w="366" h="251">
                    <a:moveTo>
                      <a:pt x="99" y="251"/>
                    </a:moveTo>
                    <a:lnTo>
                      <a:pt x="267" y="251"/>
                    </a:lnTo>
                    <a:lnTo>
                      <a:pt x="274" y="250"/>
                    </a:lnTo>
                    <a:lnTo>
                      <a:pt x="277" y="250"/>
                    </a:lnTo>
                    <a:lnTo>
                      <a:pt x="280" y="249"/>
                    </a:lnTo>
                    <a:lnTo>
                      <a:pt x="284" y="247"/>
                    </a:lnTo>
                    <a:lnTo>
                      <a:pt x="286" y="246"/>
                    </a:lnTo>
                    <a:lnTo>
                      <a:pt x="289" y="244"/>
                    </a:lnTo>
                    <a:lnTo>
                      <a:pt x="292" y="241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61" y="168"/>
                    </a:lnTo>
                    <a:lnTo>
                      <a:pt x="364" y="161"/>
                    </a:lnTo>
                    <a:lnTo>
                      <a:pt x="365" y="158"/>
                    </a:lnTo>
                    <a:lnTo>
                      <a:pt x="366" y="155"/>
                    </a:lnTo>
                    <a:lnTo>
                      <a:pt x="366" y="151"/>
                    </a:lnTo>
                    <a:lnTo>
                      <a:pt x="366" y="148"/>
                    </a:lnTo>
                    <a:lnTo>
                      <a:pt x="366" y="34"/>
                    </a:lnTo>
                    <a:lnTo>
                      <a:pt x="366" y="30"/>
                    </a:lnTo>
                    <a:lnTo>
                      <a:pt x="366" y="28"/>
                    </a:lnTo>
                    <a:lnTo>
                      <a:pt x="365" y="24"/>
                    </a:lnTo>
                    <a:lnTo>
                      <a:pt x="364" y="21"/>
                    </a:lnTo>
                    <a:lnTo>
                      <a:pt x="360" y="15"/>
                    </a:lnTo>
                    <a:lnTo>
                      <a:pt x="356" y="10"/>
                    </a:lnTo>
                    <a:lnTo>
                      <a:pt x="351" y="6"/>
                    </a:lnTo>
                    <a:lnTo>
                      <a:pt x="345" y="2"/>
                    </a:lnTo>
                    <a:lnTo>
                      <a:pt x="343" y="1"/>
                    </a:lnTo>
                    <a:lnTo>
                      <a:pt x="339" y="1"/>
                    </a:lnTo>
                    <a:lnTo>
                      <a:pt x="336" y="0"/>
                    </a:lnTo>
                    <a:lnTo>
                      <a:pt x="333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2" y="24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8"/>
                    </a:lnTo>
                    <a:lnTo>
                      <a:pt x="0" y="151"/>
                    </a:lnTo>
                    <a:lnTo>
                      <a:pt x="0" y="155"/>
                    </a:lnTo>
                    <a:lnTo>
                      <a:pt x="2" y="158"/>
                    </a:lnTo>
                    <a:lnTo>
                      <a:pt x="3" y="161"/>
                    </a:lnTo>
                    <a:lnTo>
                      <a:pt x="5" y="168"/>
                    </a:lnTo>
                    <a:lnTo>
                      <a:pt x="9" y="173"/>
                    </a:lnTo>
                    <a:lnTo>
                      <a:pt x="9" y="173"/>
                    </a:lnTo>
                    <a:lnTo>
                      <a:pt x="74" y="241"/>
                    </a:lnTo>
                    <a:lnTo>
                      <a:pt x="77" y="244"/>
                    </a:lnTo>
                    <a:lnTo>
                      <a:pt x="81" y="246"/>
                    </a:lnTo>
                    <a:lnTo>
                      <a:pt x="83" y="247"/>
                    </a:lnTo>
                    <a:lnTo>
                      <a:pt x="86" y="249"/>
                    </a:lnTo>
                    <a:lnTo>
                      <a:pt x="89" y="250"/>
                    </a:lnTo>
                    <a:lnTo>
                      <a:pt x="93" y="250"/>
                    </a:lnTo>
                    <a:lnTo>
                      <a:pt x="99" y="251"/>
                    </a:lnTo>
                    <a:lnTo>
                      <a:pt x="99" y="25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923960" y="4294440"/>
                <a:ext cx="245520" cy="207000"/>
              </a:xfrm>
              <a:custGeom>
                <a:avLst/>
                <a:gdLst/>
                <a:ahLst/>
                <a:rect l="l" t="t" r="r" b="b"/>
                <a:pathLst>
                  <a:path w="218" h="144">
                    <a:moveTo>
                      <a:pt x="20" y="68"/>
                    </a:moveTo>
                    <a:lnTo>
                      <a:pt x="20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0" y="68"/>
                    </a:lnTo>
                    <a:close/>
                    <a:moveTo>
                      <a:pt x="118" y="144"/>
                    </a:moveTo>
                    <a:lnTo>
                      <a:pt x="118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18" y="144"/>
                    </a:lnTo>
                    <a:close/>
                    <a:moveTo>
                      <a:pt x="218" y="68"/>
                    </a:moveTo>
                    <a:lnTo>
                      <a:pt x="218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8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256960" y="4248000"/>
                <a:ext cx="162360" cy="3679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256960" y="4197600"/>
                <a:ext cx="41760" cy="471600"/>
              </a:xfrm>
              <a:prstGeom prst="rect">
                <a:avLst/>
              </a:prstGeom>
              <a:solidFill>
                <a:srgbClr val="af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8298720" y="4197600"/>
                <a:ext cx="43560" cy="471600"/>
              </a:xfrm>
              <a:prstGeom prst="rect">
                <a:avLst/>
              </a:prstGeom>
              <a:solidFill>
                <a:srgbClr val="b6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342280" y="4197600"/>
                <a:ext cx="39240" cy="471600"/>
              </a:xfrm>
              <a:prstGeom prst="rect">
                <a:avLst/>
              </a:prstGeom>
              <a:solidFill>
                <a:srgbClr val="b35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381880" y="4197600"/>
                <a:ext cx="37440" cy="471600"/>
              </a:xfrm>
              <a:prstGeom prst="rect">
                <a:avLst/>
              </a:prstGeom>
              <a:solidFill>
                <a:srgbClr val="b1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8419680" y="4197600"/>
                <a:ext cx="41040" cy="471600"/>
              </a:xfrm>
              <a:prstGeom prst="rect">
                <a:avLst/>
              </a:prstGeom>
              <a:solidFill>
                <a:srgbClr val="ae4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286840" y="4208400"/>
                <a:ext cx="158400" cy="401040"/>
              </a:xfrm>
              <a:custGeom>
                <a:avLst/>
                <a:gdLst/>
                <a:ahLst/>
                <a:rect l="l" t="t" r="r" b="b"/>
                <a:pathLst>
                  <a:path w="141" h="280">
                    <a:moveTo>
                      <a:pt x="0" y="261"/>
                    </a:moveTo>
                    <a:lnTo>
                      <a:pt x="0" y="265"/>
                    </a:lnTo>
                    <a:lnTo>
                      <a:pt x="2" y="268"/>
                    </a:lnTo>
                    <a:lnTo>
                      <a:pt x="3" y="272"/>
                    </a:lnTo>
                    <a:lnTo>
                      <a:pt x="5" y="275"/>
                    </a:lnTo>
                    <a:lnTo>
                      <a:pt x="9" y="276"/>
                    </a:lnTo>
                    <a:lnTo>
                      <a:pt x="13" y="279"/>
                    </a:lnTo>
                    <a:lnTo>
                      <a:pt x="17" y="279"/>
                    </a:lnTo>
                    <a:lnTo>
                      <a:pt x="20" y="280"/>
                    </a:lnTo>
                    <a:lnTo>
                      <a:pt x="27" y="280"/>
                    </a:lnTo>
                    <a:lnTo>
                      <a:pt x="116" y="270"/>
                    </a:lnTo>
                    <a:lnTo>
                      <a:pt x="121" y="268"/>
                    </a:lnTo>
                    <a:lnTo>
                      <a:pt x="126" y="267"/>
                    </a:lnTo>
                    <a:lnTo>
                      <a:pt x="129" y="265"/>
                    </a:lnTo>
                    <a:lnTo>
                      <a:pt x="133" y="261"/>
                    </a:lnTo>
                    <a:lnTo>
                      <a:pt x="136" y="257"/>
                    </a:lnTo>
                    <a:lnTo>
                      <a:pt x="138" y="252"/>
                    </a:lnTo>
                    <a:lnTo>
                      <a:pt x="139" y="248"/>
                    </a:lnTo>
                    <a:lnTo>
                      <a:pt x="141" y="243"/>
                    </a:lnTo>
                    <a:lnTo>
                      <a:pt x="141" y="243"/>
                    </a:lnTo>
                    <a:lnTo>
                      <a:pt x="141" y="35"/>
                    </a:lnTo>
                    <a:lnTo>
                      <a:pt x="139" y="31"/>
                    </a:lnTo>
                    <a:lnTo>
                      <a:pt x="138" y="26"/>
                    </a:lnTo>
                    <a:lnTo>
                      <a:pt x="136" y="21"/>
                    </a:lnTo>
                    <a:lnTo>
                      <a:pt x="133" y="17"/>
                    </a:lnTo>
                    <a:lnTo>
                      <a:pt x="128" y="15"/>
                    </a:lnTo>
                    <a:lnTo>
                      <a:pt x="124" y="11"/>
                    </a:lnTo>
                    <a:lnTo>
                      <a:pt x="119" y="10"/>
                    </a:lnTo>
                    <a:lnTo>
                      <a:pt x="113" y="8"/>
                    </a:lnTo>
                    <a:lnTo>
                      <a:pt x="113" y="8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6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3840" y="4075920"/>
                <a:ext cx="3033000" cy="1246680"/>
              </a:xfrm>
              <a:custGeom>
                <a:avLst/>
                <a:gdLst/>
                <a:ahLst/>
                <a:rect l="l" t="t" r="r" b="b"/>
                <a:pathLst>
                  <a:path w="2690" h="869">
                    <a:moveTo>
                      <a:pt x="1379" y="632"/>
                    </a:moveTo>
                    <a:lnTo>
                      <a:pt x="0" y="632"/>
                    </a:lnTo>
                    <a:lnTo>
                      <a:pt x="0" y="812"/>
                    </a:lnTo>
                    <a:lnTo>
                      <a:pt x="1379" y="812"/>
                    </a:lnTo>
                    <a:lnTo>
                      <a:pt x="1379" y="632"/>
                    </a:lnTo>
                    <a:close/>
                    <a:moveTo>
                      <a:pt x="1379" y="325"/>
                    </a:moveTo>
                    <a:lnTo>
                      <a:pt x="0" y="325"/>
                    </a:lnTo>
                    <a:lnTo>
                      <a:pt x="0" y="507"/>
                    </a:lnTo>
                    <a:lnTo>
                      <a:pt x="1379" y="507"/>
                    </a:lnTo>
                    <a:lnTo>
                      <a:pt x="1379" y="325"/>
                    </a:lnTo>
                    <a:close/>
                    <a:moveTo>
                      <a:pt x="1379" y="19"/>
                    </a:moveTo>
                    <a:lnTo>
                      <a:pt x="0" y="19"/>
                    </a:lnTo>
                    <a:lnTo>
                      <a:pt x="0" y="201"/>
                    </a:lnTo>
                    <a:lnTo>
                      <a:pt x="1379" y="201"/>
                    </a:lnTo>
                    <a:lnTo>
                      <a:pt x="1379" y="19"/>
                    </a:lnTo>
                    <a:close/>
                    <a:moveTo>
                      <a:pt x="1695" y="0"/>
                    </a:moveTo>
                    <a:lnTo>
                      <a:pt x="1695" y="869"/>
                    </a:lnTo>
                    <a:lnTo>
                      <a:pt x="1868" y="869"/>
                    </a:lnTo>
                    <a:lnTo>
                      <a:pt x="1868" y="0"/>
                    </a:lnTo>
                    <a:lnTo>
                      <a:pt x="1695" y="0"/>
                    </a:lnTo>
                    <a:close/>
                    <a:moveTo>
                      <a:pt x="2517" y="0"/>
                    </a:moveTo>
                    <a:lnTo>
                      <a:pt x="2517" y="869"/>
                    </a:lnTo>
                    <a:lnTo>
                      <a:pt x="2690" y="869"/>
                    </a:lnTo>
                    <a:lnTo>
                      <a:pt x="2690" y="0"/>
                    </a:lnTo>
                    <a:lnTo>
                      <a:pt x="2517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83840" y="4981680"/>
                <a:ext cx="1554840" cy="2620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3840" y="4541040"/>
                <a:ext cx="1554840" cy="2620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283840" y="4100400"/>
                <a:ext cx="1554840" cy="2620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195440" y="4075920"/>
                <a:ext cx="196200" cy="12466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122800" y="4075920"/>
                <a:ext cx="194040" cy="12466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51160" y="4137840"/>
                <a:ext cx="2902320" cy="1118880"/>
              </a:xfrm>
              <a:custGeom>
                <a:avLst/>
                <a:gdLst/>
                <a:ahLst/>
                <a:rect l="l" t="t" r="r" b="b"/>
                <a:pathLst>
                  <a:path w="2573" h="779">
                    <a:moveTo>
                      <a:pt x="1139" y="36"/>
                    </a:moveTo>
                    <a:lnTo>
                      <a:pt x="123" y="36"/>
                    </a:lnTo>
                    <a:lnTo>
                      <a:pt x="110" y="36"/>
                    </a:lnTo>
                    <a:lnTo>
                      <a:pt x="98" y="36"/>
                    </a:lnTo>
                    <a:lnTo>
                      <a:pt x="86" y="36"/>
                    </a:lnTo>
                    <a:lnTo>
                      <a:pt x="75" y="36"/>
                    </a:lnTo>
                    <a:lnTo>
                      <a:pt x="64" y="37"/>
                    </a:lnTo>
                    <a:lnTo>
                      <a:pt x="54" y="37"/>
                    </a:lnTo>
                    <a:lnTo>
                      <a:pt x="45" y="37"/>
                    </a:lnTo>
                    <a:lnTo>
                      <a:pt x="36" y="39"/>
                    </a:lnTo>
                    <a:lnTo>
                      <a:pt x="27" y="39"/>
                    </a:lnTo>
                    <a:lnTo>
                      <a:pt x="21" y="40"/>
                    </a:lnTo>
                    <a:lnTo>
                      <a:pt x="15" y="41"/>
                    </a:lnTo>
                    <a:lnTo>
                      <a:pt x="10" y="41"/>
                    </a:lnTo>
                    <a:lnTo>
                      <a:pt x="6" y="43"/>
                    </a:lnTo>
                    <a:lnTo>
                      <a:pt x="2" y="43"/>
                    </a:lnTo>
                    <a:lnTo>
                      <a:pt x="1" y="44"/>
                    </a:lnTo>
                    <a:lnTo>
                      <a:pt x="0" y="4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85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8"/>
                    </a:lnTo>
                    <a:lnTo>
                      <a:pt x="6" y="88"/>
                    </a:lnTo>
                    <a:lnTo>
                      <a:pt x="10" y="89"/>
                    </a:lnTo>
                    <a:lnTo>
                      <a:pt x="15" y="90"/>
                    </a:lnTo>
                    <a:lnTo>
                      <a:pt x="21" y="90"/>
                    </a:lnTo>
                    <a:lnTo>
                      <a:pt x="27" y="92"/>
                    </a:lnTo>
                    <a:lnTo>
                      <a:pt x="36" y="92"/>
                    </a:lnTo>
                    <a:lnTo>
                      <a:pt x="45" y="93"/>
                    </a:lnTo>
                    <a:lnTo>
                      <a:pt x="54" y="93"/>
                    </a:lnTo>
                    <a:lnTo>
                      <a:pt x="64" y="94"/>
                    </a:lnTo>
                    <a:lnTo>
                      <a:pt x="75" y="94"/>
                    </a:lnTo>
                    <a:lnTo>
                      <a:pt x="86" y="94"/>
                    </a:lnTo>
                    <a:lnTo>
                      <a:pt x="98" y="94"/>
                    </a:lnTo>
                    <a:lnTo>
                      <a:pt x="110" y="94"/>
                    </a:lnTo>
                    <a:lnTo>
                      <a:pt x="123" y="96"/>
                    </a:lnTo>
                    <a:lnTo>
                      <a:pt x="123" y="96"/>
                    </a:lnTo>
                    <a:lnTo>
                      <a:pt x="1139" y="96"/>
                    </a:lnTo>
                    <a:lnTo>
                      <a:pt x="1151" y="94"/>
                    </a:lnTo>
                    <a:lnTo>
                      <a:pt x="1164" y="94"/>
                    </a:lnTo>
                    <a:lnTo>
                      <a:pt x="1175" y="94"/>
                    </a:lnTo>
                    <a:lnTo>
                      <a:pt x="1186" y="94"/>
                    </a:lnTo>
                    <a:lnTo>
                      <a:pt x="1198" y="94"/>
                    </a:lnTo>
                    <a:lnTo>
                      <a:pt x="1208" y="93"/>
                    </a:lnTo>
                    <a:lnTo>
                      <a:pt x="1216" y="93"/>
                    </a:lnTo>
                    <a:lnTo>
                      <a:pt x="1225" y="92"/>
                    </a:lnTo>
                    <a:lnTo>
                      <a:pt x="1233" y="92"/>
                    </a:lnTo>
                    <a:lnTo>
                      <a:pt x="1240" y="90"/>
                    </a:lnTo>
                    <a:lnTo>
                      <a:pt x="1246" y="90"/>
                    </a:lnTo>
                    <a:lnTo>
                      <a:pt x="1251" y="89"/>
                    </a:lnTo>
                    <a:lnTo>
                      <a:pt x="1255" y="88"/>
                    </a:lnTo>
                    <a:lnTo>
                      <a:pt x="1259" y="88"/>
                    </a:lnTo>
                    <a:lnTo>
                      <a:pt x="1260" y="87"/>
                    </a:lnTo>
                    <a:lnTo>
                      <a:pt x="1260" y="87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85"/>
                    </a:lnTo>
                    <a:lnTo>
                      <a:pt x="1261" y="45"/>
                    </a:lnTo>
                    <a:lnTo>
                      <a:pt x="1260" y="44"/>
                    </a:lnTo>
                    <a:lnTo>
                      <a:pt x="1260" y="44"/>
                    </a:lnTo>
                    <a:lnTo>
                      <a:pt x="1259" y="43"/>
                    </a:lnTo>
                    <a:lnTo>
                      <a:pt x="1255" y="43"/>
                    </a:lnTo>
                    <a:lnTo>
                      <a:pt x="1251" y="41"/>
                    </a:lnTo>
                    <a:lnTo>
                      <a:pt x="1246" y="41"/>
                    </a:lnTo>
                    <a:lnTo>
                      <a:pt x="1240" y="40"/>
                    </a:lnTo>
                    <a:lnTo>
                      <a:pt x="1233" y="39"/>
                    </a:lnTo>
                    <a:lnTo>
                      <a:pt x="1225" y="39"/>
                    </a:lnTo>
                    <a:lnTo>
                      <a:pt x="1216" y="37"/>
                    </a:lnTo>
                    <a:lnTo>
                      <a:pt x="1208" y="37"/>
                    </a:lnTo>
                    <a:lnTo>
                      <a:pt x="1198" y="37"/>
                    </a:lnTo>
                    <a:lnTo>
                      <a:pt x="1186" y="36"/>
                    </a:lnTo>
                    <a:lnTo>
                      <a:pt x="1175" y="36"/>
                    </a:lnTo>
                    <a:lnTo>
                      <a:pt x="1164" y="36"/>
                    </a:lnTo>
                    <a:lnTo>
                      <a:pt x="1151" y="36"/>
                    </a:lnTo>
                    <a:lnTo>
                      <a:pt x="1139" y="36"/>
                    </a:lnTo>
                    <a:lnTo>
                      <a:pt x="1139" y="36"/>
                    </a:lnTo>
                    <a:close/>
                    <a:moveTo>
                      <a:pt x="1139" y="340"/>
                    </a:moveTo>
                    <a:lnTo>
                      <a:pt x="123" y="340"/>
                    </a:lnTo>
                    <a:lnTo>
                      <a:pt x="110" y="340"/>
                    </a:lnTo>
                    <a:lnTo>
                      <a:pt x="98" y="342"/>
                    </a:lnTo>
                    <a:lnTo>
                      <a:pt x="86" y="342"/>
                    </a:lnTo>
                    <a:lnTo>
                      <a:pt x="75" y="342"/>
                    </a:lnTo>
                    <a:lnTo>
                      <a:pt x="64" y="342"/>
                    </a:lnTo>
                    <a:lnTo>
                      <a:pt x="54" y="343"/>
                    </a:lnTo>
                    <a:lnTo>
                      <a:pt x="45" y="343"/>
                    </a:lnTo>
                    <a:lnTo>
                      <a:pt x="36" y="344"/>
                    </a:lnTo>
                    <a:lnTo>
                      <a:pt x="27" y="344"/>
                    </a:lnTo>
                    <a:lnTo>
                      <a:pt x="21" y="346"/>
                    </a:lnTo>
                    <a:lnTo>
                      <a:pt x="15" y="346"/>
                    </a:lnTo>
                    <a:lnTo>
                      <a:pt x="10" y="347"/>
                    </a:lnTo>
                    <a:lnTo>
                      <a:pt x="6" y="348"/>
                    </a:lnTo>
                    <a:lnTo>
                      <a:pt x="2" y="348"/>
                    </a:lnTo>
                    <a:lnTo>
                      <a:pt x="1" y="349"/>
                    </a:lnTo>
                    <a:lnTo>
                      <a:pt x="0" y="349"/>
                    </a:lnTo>
                    <a:lnTo>
                      <a:pt x="0" y="351"/>
                    </a:lnTo>
                    <a:lnTo>
                      <a:pt x="0" y="351"/>
                    </a:lnTo>
                    <a:lnTo>
                      <a:pt x="0" y="391"/>
                    </a:lnTo>
                    <a:lnTo>
                      <a:pt x="0" y="391"/>
                    </a:lnTo>
                    <a:lnTo>
                      <a:pt x="1" y="392"/>
                    </a:lnTo>
                    <a:lnTo>
                      <a:pt x="2" y="392"/>
                    </a:lnTo>
                    <a:lnTo>
                      <a:pt x="6" y="393"/>
                    </a:lnTo>
                    <a:lnTo>
                      <a:pt x="10" y="395"/>
                    </a:lnTo>
                    <a:lnTo>
                      <a:pt x="15" y="395"/>
                    </a:lnTo>
                    <a:lnTo>
                      <a:pt x="21" y="396"/>
                    </a:lnTo>
                    <a:lnTo>
                      <a:pt x="27" y="397"/>
                    </a:lnTo>
                    <a:lnTo>
                      <a:pt x="36" y="397"/>
                    </a:lnTo>
                    <a:lnTo>
                      <a:pt x="45" y="399"/>
                    </a:lnTo>
                    <a:lnTo>
                      <a:pt x="54" y="399"/>
                    </a:lnTo>
                    <a:lnTo>
                      <a:pt x="64" y="399"/>
                    </a:lnTo>
                    <a:lnTo>
                      <a:pt x="75" y="400"/>
                    </a:lnTo>
                    <a:lnTo>
                      <a:pt x="86" y="400"/>
                    </a:lnTo>
                    <a:lnTo>
                      <a:pt x="98" y="400"/>
                    </a:lnTo>
                    <a:lnTo>
                      <a:pt x="110" y="400"/>
                    </a:lnTo>
                    <a:lnTo>
                      <a:pt x="123" y="400"/>
                    </a:lnTo>
                    <a:lnTo>
                      <a:pt x="123" y="400"/>
                    </a:lnTo>
                    <a:lnTo>
                      <a:pt x="1139" y="400"/>
                    </a:lnTo>
                    <a:lnTo>
                      <a:pt x="1151" y="400"/>
                    </a:lnTo>
                    <a:lnTo>
                      <a:pt x="1164" y="400"/>
                    </a:lnTo>
                    <a:lnTo>
                      <a:pt x="1175" y="400"/>
                    </a:lnTo>
                    <a:lnTo>
                      <a:pt x="1186" y="400"/>
                    </a:lnTo>
                    <a:lnTo>
                      <a:pt x="1198" y="399"/>
                    </a:lnTo>
                    <a:lnTo>
                      <a:pt x="1208" y="399"/>
                    </a:lnTo>
                    <a:lnTo>
                      <a:pt x="1216" y="399"/>
                    </a:lnTo>
                    <a:lnTo>
                      <a:pt x="1225" y="397"/>
                    </a:lnTo>
                    <a:lnTo>
                      <a:pt x="1233" y="397"/>
                    </a:lnTo>
                    <a:lnTo>
                      <a:pt x="1240" y="396"/>
                    </a:lnTo>
                    <a:lnTo>
                      <a:pt x="1246" y="395"/>
                    </a:lnTo>
                    <a:lnTo>
                      <a:pt x="1251" y="395"/>
                    </a:lnTo>
                    <a:lnTo>
                      <a:pt x="1255" y="393"/>
                    </a:lnTo>
                    <a:lnTo>
                      <a:pt x="1259" y="392"/>
                    </a:lnTo>
                    <a:lnTo>
                      <a:pt x="1260" y="392"/>
                    </a:lnTo>
                    <a:lnTo>
                      <a:pt x="1260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91"/>
                    </a:lnTo>
                    <a:lnTo>
                      <a:pt x="1261" y="351"/>
                    </a:lnTo>
                    <a:lnTo>
                      <a:pt x="1260" y="349"/>
                    </a:lnTo>
                    <a:lnTo>
                      <a:pt x="1260" y="349"/>
                    </a:lnTo>
                    <a:lnTo>
                      <a:pt x="1259" y="348"/>
                    </a:lnTo>
                    <a:lnTo>
                      <a:pt x="1255" y="348"/>
                    </a:lnTo>
                    <a:lnTo>
                      <a:pt x="1251" y="347"/>
                    </a:lnTo>
                    <a:lnTo>
                      <a:pt x="1246" y="346"/>
                    </a:lnTo>
                    <a:lnTo>
                      <a:pt x="1240" y="346"/>
                    </a:lnTo>
                    <a:lnTo>
                      <a:pt x="1233" y="344"/>
                    </a:lnTo>
                    <a:lnTo>
                      <a:pt x="1225" y="344"/>
                    </a:lnTo>
                    <a:lnTo>
                      <a:pt x="1216" y="343"/>
                    </a:lnTo>
                    <a:lnTo>
                      <a:pt x="1208" y="343"/>
                    </a:lnTo>
                    <a:lnTo>
                      <a:pt x="1198" y="342"/>
                    </a:lnTo>
                    <a:lnTo>
                      <a:pt x="1186" y="342"/>
                    </a:lnTo>
                    <a:lnTo>
                      <a:pt x="1175" y="342"/>
                    </a:lnTo>
                    <a:lnTo>
                      <a:pt x="1164" y="342"/>
                    </a:lnTo>
                    <a:lnTo>
                      <a:pt x="1151" y="340"/>
                    </a:lnTo>
                    <a:lnTo>
                      <a:pt x="1139" y="340"/>
                    </a:lnTo>
                    <a:lnTo>
                      <a:pt x="1139" y="340"/>
                    </a:lnTo>
                    <a:close/>
                    <a:moveTo>
                      <a:pt x="1139" y="646"/>
                    </a:moveTo>
                    <a:lnTo>
                      <a:pt x="123" y="646"/>
                    </a:lnTo>
                    <a:lnTo>
                      <a:pt x="110" y="646"/>
                    </a:lnTo>
                    <a:lnTo>
                      <a:pt x="98" y="646"/>
                    </a:lnTo>
                    <a:lnTo>
                      <a:pt x="86" y="647"/>
                    </a:lnTo>
                    <a:lnTo>
                      <a:pt x="75" y="647"/>
                    </a:lnTo>
                    <a:lnTo>
                      <a:pt x="64" y="647"/>
                    </a:lnTo>
                    <a:lnTo>
                      <a:pt x="54" y="649"/>
                    </a:lnTo>
                    <a:lnTo>
                      <a:pt x="45" y="649"/>
                    </a:lnTo>
                    <a:lnTo>
                      <a:pt x="36" y="650"/>
                    </a:lnTo>
                    <a:lnTo>
                      <a:pt x="27" y="650"/>
                    </a:lnTo>
                    <a:lnTo>
                      <a:pt x="21" y="651"/>
                    </a:lnTo>
                    <a:lnTo>
                      <a:pt x="15" y="651"/>
                    </a:lnTo>
                    <a:lnTo>
                      <a:pt x="10" y="652"/>
                    </a:lnTo>
                    <a:lnTo>
                      <a:pt x="6" y="654"/>
                    </a:lnTo>
                    <a:lnTo>
                      <a:pt x="2" y="654"/>
                    </a:lnTo>
                    <a:lnTo>
                      <a:pt x="1" y="655"/>
                    </a:lnTo>
                    <a:lnTo>
                      <a:pt x="0" y="655"/>
                    </a:lnTo>
                    <a:lnTo>
                      <a:pt x="0" y="656"/>
                    </a:lnTo>
                    <a:lnTo>
                      <a:pt x="0" y="656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1" y="698"/>
                    </a:lnTo>
                    <a:lnTo>
                      <a:pt x="2" y="698"/>
                    </a:lnTo>
                    <a:lnTo>
                      <a:pt x="6" y="699"/>
                    </a:lnTo>
                    <a:lnTo>
                      <a:pt x="10" y="700"/>
                    </a:lnTo>
                    <a:lnTo>
                      <a:pt x="15" y="700"/>
                    </a:lnTo>
                    <a:lnTo>
                      <a:pt x="21" y="702"/>
                    </a:lnTo>
                    <a:lnTo>
                      <a:pt x="27" y="702"/>
                    </a:lnTo>
                    <a:lnTo>
                      <a:pt x="36" y="703"/>
                    </a:lnTo>
                    <a:lnTo>
                      <a:pt x="45" y="703"/>
                    </a:lnTo>
                    <a:lnTo>
                      <a:pt x="54" y="704"/>
                    </a:lnTo>
                    <a:lnTo>
                      <a:pt x="64" y="704"/>
                    </a:lnTo>
                    <a:lnTo>
                      <a:pt x="75" y="705"/>
                    </a:lnTo>
                    <a:lnTo>
                      <a:pt x="86" y="705"/>
                    </a:lnTo>
                    <a:lnTo>
                      <a:pt x="98" y="705"/>
                    </a:lnTo>
                    <a:lnTo>
                      <a:pt x="110" y="705"/>
                    </a:lnTo>
                    <a:lnTo>
                      <a:pt x="123" y="705"/>
                    </a:lnTo>
                    <a:lnTo>
                      <a:pt x="123" y="705"/>
                    </a:lnTo>
                    <a:lnTo>
                      <a:pt x="1139" y="705"/>
                    </a:lnTo>
                    <a:lnTo>
                      <a:pt x="1151" y="705"/>
                    </a:lnTo>
                    <a:lnTo>
                      <a:pt x="1164" y="705"/>
                    </a:lnTo>
                    <a:lnTo>
                      <a:pt x="1175" y="705"/>
                    </a:lnTo>
                    <a:lnTo>
                      <a:pt x="1186" y="705"/>
                    </a:lnTo>
                    <a:lnTo>
                      <a:pt x="1198" y="704"/>
                    </a:lnTo>
                    <a:lnTo>
                      <a:pt x="1208" y="704"/>
                    </a:lnTo>
                    <a:lnTo>
                      <a:pt x="1216" y="703"/>
                    </a:lnTo>
                    <a:lnTo>
                      <a:pt x="1225" y="703"/>
                    </a:lnTo>
                    <a:lnTo>
                      <a:pt x="1233" y="702"/>
                    </a:lnTo>
                    <a:lnTo>
                      <a:pt x="1240" y="702"/>
                    </a:lnTo>
                    <a:lnTo>
                      <a:pt x="1246" y="700"/>
                    </a:lnTo>
                    <a:lnTo>
                      <a:pt x="1251" y="700"/>
                    </a:lnTo>
                    <a:lnTo>
                      <a:pt x="1255" y="699"/>
                    </a:lnTo>
                    <a:lnTo>
                      <a:pt x="1259" y="698"/>
                    </a:lnTo>
                    <a:lnTo>
                      <a:pt x="1260" y="698"/>
                    </a:lnTo>
                    <a:lnTo>
                      <a:pt x="1260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96"/>
                    </a:lnTo>
                    <a:lnTo>
                      <a:pt x="1261" y="656"/>
                    </a:lnTo>
                    <a:lnTo>
                      <a:pt x="1260" y="655"/>
                    </a:lnTo>
                    <a:lnTo>
                      <a:pt x="1260" y="655"/>
                    </a:lnTo>
                    <a:lnTo>
                      <a:pt x="1259" y="654"/>
                    </a:lnTo>
                    <a:lnTo>
                      <a:pt x="1255" y="654"/>
                    </a:lnTo>
                    <a:lnTo>
                      <a:pt x="1251" y="652"/>
                    </a:lnTo>
                    <a:lnTo>
                      <a:pt x="1246" y="651"/>
                    </a:lnTo>
                    <a:lnTo>
                      <a:pt x="1240" y="651"/>
                    </a:lnTo>
                    <a:lnTo>
                      <a:pt x="1233" y="650"/>
                    </a:lnTo>
                    <a:lnTo>
                      <a:pt x="1225" y="650"/>
                    </a:lnTo>
                    <a:lnTo>
                      <a:pt x="1216" y="649"/>
                    </a:lnTo>
                    <a:lnTo>
                      <a:pt x="1208" y="649"/>
                    </a:lnTo>
                    <a:lnTo>
                      <a:pt x="1198" y="647"/>
                    </a:lnTo>
                    <a:lnTo>
                      <a:pt x="1186" y="647"/>
                    </a:lnTo>
                    <a:lnTo>
                      <a:pt x="1175" y="647"/>
                    </a:lnTo>
                    <a:lnTo>
                      <a:pt x="1164" y="646"/>
                    </a:lnTo>
                    <a:lnTo>
                      <a:pt x="1151" y="646"/>
                    </a:lnTo>
                    <a:lnTo>
                      <a:pt x="1139" y="646"/>
                    </a:lnTo>
                    <a:lnTo>
                      <a:pt x="1139" y="646"/>
                    </a:lnTo>
                    <a:close/>
                    <a:moveTo>
                      <a:pt x="1753" y="703"/>
                    </a:moveTo>
                    <a:lnTo>
                      <a:pt x="1753" y="74"/>
                    </a:lnTo>
                    <a:lnTo>
                      <a:pt x="1751" y="59"/>
                    </a:lnTo>
                    <a:lnTo>
                      <a:pt x="1751" y="53"/>
                    </a:lnTo>
                    <a:lnTo>
                      <a:pt x="1751" y="45"/>
                    </a:lnTo>
                    <a:lnTo>
                      <a:pt x="1751" y="39"/>
                    </a:lnTo>
                    <a:lnTo>
                      <a:pt x="1750" y="32"/>
                    </a:lnTo>
                    <a:lnTo>
                      <a:pt x="1750" y="27"/>
                    </a:lnTo>
                    <a:lnTo>
                      <a:pt x="1749" y="21"/>
                    </a:lnTo>
                    <a:lnTo>
                      <a:pt x="1749" y="16"/>
                    </a:lnTo>
                    <a:lnTo>
                      <a:pt x="1748" y="12"/>
                    </a:lnTo>
                    <a:lnTo>
                      <a:pt x="1748" y="8"/>
                    </a:lnTo>
                    <a:lnTo>
                      <a:pt x="1746" y="5"/>
                    </a:lnTo>
                    <a:lnTo>
                      <a:pt x="1745" y="2"/>
                    </a:lnTo>
                    <a:lnTo>
                      <a:pt x="1745" y="1"/>
                    </a:lnTo>
                    <a:lnTo>
                      <a:pt x="1744" y="0"/>
                    </a:lnTo>
                    <a:lnTo>
                      <a:pt x="1743" y="0"/>
                    </a:lnTo>
                    <a:lnTo>
                      <a:pt x="1705" y="0"/>
                    </a:lnTo>
                    <a:lnTo>
                      <a:pt x="1704" y="0"/>
                    </a:lnTo>
                    <a:lnTo>
                      <a:pt x="1703" y="1"/>
                    </a:lnTo>
                    <a:lnTo>
                      <a:pt x="1703" y="2"/>
                    </a:lnTo>
                    <a:lnTo>
                      <a:pt x="1701" y="5"/>
                    </a:lnTo>
                    <a:lnTo>
                      <a:pt x="1700" y="8"/>
                    </a:lnTo>
                    <a:lnTo>
                      <a:pt x="1700" y="12"/>
                    </a:lnTo>
                    <a:lnTo>
                      <a:pt x="1699" y="16"/>
                    </a:lnTo>
                    <a:lnTo>
                      <a:pt x="1699" y="21"/>
                    </a:lnTo>
                    <a:lnTo>
                      <a:pt x="1698" y="27"/>
                    </a:lnTo>
                    <a:lnTo>
                      <a:pt x="1698" y="32"/>
                    </a:lnTo>
                    <a:lnTo>
                      <a:pt x="1696" y="39"/>
                    </a:lnTo>
                    <a:lnTo>
                      <a:pt x="1696" y="45"/>
                    </a:lnTo>
                    <a:lnTo>
                      <a:pt x="1696" y="53"/>
                    </a:lnTo>
                    <a:lnTo>
                      <a:pt x="1696" y="59"/>
                    </a:lnTo>
                    <a:lnTo>
                      <a:pt x="1695" y="74"/>
                    </a:lnTo>
                    <a:lnTo>
                      <a:pt x="1695" y="74"/>
                    </a:lnTo>
                    <a:lnTo>
                      <a:pt x="1695" y="703"/>
                    </a:lnTo>
                    <a:lnTo>
                      <a:pt x="1696" y="712"/>
                    </a:lnTo>
                    <a:lnTo>
                      <a:pt x="1696" y="719"/>
                    </a:lnTo>
                    <a:lnTo>
                      <a:pt x="1696" y="727"/>
                    </a:lnTo>
                    <a:lnTo>
                      <a:pt x="1696" y="733"/>
                    </a:lnTo>
                    <a:lnTo>
                      <a:pt x="1696" y="739"/>
                    </a:lnTo>
                    <a:lnTo>
                      <a:pt x="1698" y="746"/>
                    </a:lnTo>
                    <a:lnTo>
                      <a:pt x="1698" y="752"/>
                    </a:lnTo>
                    <a:lnTo>
                      <a:pt x="1699" y="757"/>
                    </a:lnTo>
                    <a:lnTo>
                      <a:pt x="1699" y="762"/>
                    </a:lnTo>
                    <a:lnTo>
                      <a:pt x="1700" y="766"/>
                    </a:lnTo>
                    <a:lnTo>
                      <a:pt x="1700" y="770"/>
                    </a:lnTo>
                    <a:lnTo>
                      <a:pt x="1701" y="774"/>
                    </a:lnTo>
                    <a:lnTo>
                      <a:pt x="1703" y="775"/>
                    </a:lnTo>
                    <a:lnTo>
                      <a:pt x="1703" y="777"/>
                    </a:lnTo>
                    <a:lnTo>
                      <a:pt x="1704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05" y="779"/>
                    </a:lnTo>
                    <a:lnTo>
                      <a:pt x="1743" y="779"/>
                    </a:lnTo>
                    <a:lnTo>
                      <a:pt x="1744" y="779"/>
                    </a:lnTo>
                    <a:lnTo>
                      <a:pt x="1745" y="777"/>
                    </a:lnTo>
                    <a:lnTo>
                      <a:pt x="1745" y="775"/>
                    </a:lnTo>
                    <a:lnTo>
                      <a:pt x="1746" y="774"/>
                    </a:lnTo>
                    <a:lnTo>
                      <a:pt x="1748" y="770"/>
                    </a:lnTo>
                    <a:lnTo>
                      <a:pt x="1748" y="766"/>
                    </a:lnTo>
                    <a:lnTo>
                      <a:pt x="1749" y="762"/>
                    </a:lnTo>
                    <a:lnTo>
                      <a:pt x="1749" y="757"/>
                    </a:lnTo>
                    <a:lnTo>
                      <a:pt x="1750" y="752"/>
                    </a:lnTo>
                    <a:lnTo>
                      <a:pt x="1750" y="746"/>
                    </a:lnTo>
                    <a:lnTo>
                      <a:pt x="1751" y="739"/>
                    </a:lnTo>
                    <a:lnTo>
                      <a:pt x="1751" y="733"/>
                    </a:lnTo>
                    <a:lnTo>
                      <a:pt x="1751" y="727"/>
                    </a:lnTo>
                    <a:lnTo>
                      <a:pt x="1751" y="719"/>
                    </a:lnTo>
                    <a:lnTo>
                      <a:pt x="1753" y="712"/>
                    </a:lnTo>
                    <a:lnTo>
                      <a:pt x="1753" y="703"/>
                    </a:lnTo>
                    <a:lnTo>
                      <a:pt x="1753" y="703"/>
                    </a:lnTo>
                    <a:close/>
                    <a:moveTo>
                      <a:pt x="2573" y="703"/>
                    </a:moveTo>
                    <a:lnTo>
                      <a:pt x="2573" y="74"/>
                    </a:lnTo>
                    <a:lnTo>
                      <a:pt x="2573" y="59"/>
                    </a:lnTo>
                    <a:lnTo>
                      <a:pt x="2573" y="53"/>
                    </a:lnTo>
                    <a:lnTo>
                      <a:pt x="2573" y="45"/>
                    </a:lnTo>
                    <a:lnTo>
                      <a:pt x="2572" y="39"/>
                    </a:lnTo>
                    <a:lnTo>
                      <a:pt x="2572" y="32"/>
                    </a:lnTo>
                    <a:lnTo>
                      <a:pt x="2572" y="27"/>
                    </a:lnTo>
                    <a:lnTo>
                      <a:pt x="2571" y="21"/>
                    </a:lnTo>
                    <a:lnTo>
                      <a:pt x="2571" y="16"/>
                    </a:lnTo>
                    <a:lnTo>
                      <a:pt x="2570" y="12"/>
                    </a:lnTo>
                    <a:lnTo>
                      <a:pt x="2568" y="8"/>
                    </a:lnTo>
                    <a:lnTo>
                      <a:pt x="2568" y="5"/>
                    </a:lnTo>
                    <a:lnTo>
                      <a:pt x="2567" y="2"/>
                    </a:lnTo>
                    <a:lnTo>
                      <a:pt x="2567" y="1"/>
                    </a:lnTo>
                    <a:lnTo>
                      <a:pt x="2566" y="0"/>
                    </a:lnTo>
                    <a:lnTo>
                      <a:pt x="2565" y="0"/>
                    </a:lnTo>
                    <a:lnTo>
                      <a:pt x="2524" y="0"/>
                    </a:lnTo>
                    <a:lnTo>
                      <a:pt x="2523" y="0"/>
                    </a:lnTo>
                    <a:lnTo>
                      <a:pt x="2522" y="1"/>
                    </a:lnTo>
                    <a:lnTo>
                      <a:pt x="2522" y="2"/>
                    </a:lnTo>
                    <a:lnTo>
                      <a:pt x="2521" y="5"/>
                    </a:lnTo>
                    <a:lnTo>
                      <a:pt x="2521" y="8"/>
                    </a:lnTo>
                    <a:lnTo>
                      <a:pt x="2519" y="12"/>
                    </a:lnTo>
                    <a:lnTo>
                      <a:pt x="2519" y="16"/>
                    </a:lnTo>
                    <a:lnTo>
                      <a:pt x="2519" y="21"/>
                    </a:lnTo>
                    <a:lnTo>
                      <a:pt x="2518" y="27"/>
                    </a:lnTo>
                    <a:lnTo>
                      <a:pt x="2518" y="32"/>
                    </a:lnTo>
                    <a:lnTo>
                      <a:pt x="2518" y="39"/>
                    </a:lnTo>
                    <a:lnTo>
                      <a:pt x="2518" y="45"/>
                    </a:lnTo>
                    <a:lnTo>
                      <a:pt x="2517" y="53"/>
                    </a:lnTo>
                    <a:lnTo>
                      <a:pt x="2517" y="59"/>
                    </a:lnTo>
                    <a:lnTo>
                      <a:pt x="2517" y="74"/>
                    </a:lnTo>
                    <a:lnTo>
                      <a:pt x="2517" y="74"/>
                    </a:lnTo>
                    <a:lnTo>
                      <a:pt x="2517" y="703"/>
                    </a:lnTo>
                    <a:lnTo>
                      <a:pt x="2517" y="712"/>
                    </a:lnTo>
                    <a:lnTo>
                      <a:pt x="2517" y="719"/>
                    </a:lnTo>
                    <a:lnTo>
                      <a:pt x="2517" y="727"/>
                    </a:lnTo>
                    <a:lnTo>
                      <a:pt x="2518" y="733"/>
                    </a:lnTo>
                    <a:lnTo>
                      <a:pt x="2518" y="739"/>
                    </a:lnTo>
                    <a:lnTo>
                      <a:pt x="2518" y="746"/>
                    </a:lnTo>
                    <a:lnTo>
                      <a:pt x="2518" y="752"/>
                    </a:lnTo>
                    <a:lnTo>
                      <a:pt x="2519" y="757"/>
                    </a:lnTo>
                    <a:lnTo>
                      <a:pt x="2519" y="762"/>
                    </a:lnTo>
                    <a:lnTo>
                      <a:pt x="2519" y="766"/>
                    </a:lnTo>
                    <a:lnTo>
                      <a:pt x="2521" y="770"/>
                    </a:lnTo>
                    <a:lnTo>
                      <a:pt x="2521" y="774"/>
                    </a:lnTo>
                    <a:lnTo>
                      <a:pt x="2522" y="775"/>
                    </a:lnTo>
                    <a:lnTo>
                      <a:pt x="2522" y="777"/>
                    </a:lnTo>
                    <a:lnTo>
                      <a:pt x="2523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24" y="779"/>
                    </a:lnTo>
                    <a:lnTo>
                      <a:pt x="2565" y="779"/>
                    </a:lnTo>
                    <a:lnTo>
                      <a:pt x="2566" y="779"/>
                    </a:lnTo>
                    <a:lnTo>
                      <a:pt x="2567" y="777"/>
                    </a:lnTo>
                    <a:lnTo>
                      <a:pt x="2567" y="775"/>
                    </a:lnTo>
                    <a:lnTo>
                      <a:pt x="2568" y="774"/>
                    </a:lnTo>
                    <a:lnTo>
                      <a:pt x="2568" y="770"/>
                    </a:lnTo>
                    <a:lnTo>
                      <a:pt x="2570" y="766"/>
                    </a:lnTo>
                    <a:lnTo>
                      <a:pt x="2571" y="762"/>
                    </a:lnTo>
                    <a:lnTo>
                      <a:pt x="2571" y="757"/>
                    </a:lnTo>
                    <a:lnTo>
                      <a:pt x="2572" y="752"/>
                    </a:lnTo>
                    <a:lnTo>
                      <a:pt x="2572" y="746"/>
                    </a:lnTo>
                    <a:lnTo>
                      <a:pt x="2572" y="739"/>
                    </a:lnTo>
                    <a:lnTo>
                      <a:pt x="2573" y="733"/>
                    </a:lnTo>
                    <a:lnTo>
                      <a:pt x="2573" y="727"/>
                    </a:lnTo>
                    <a:lnTo>
                      <a:pt x="2573" y="719"/>
                    </a:lnTo>
                    <a:lnTo>
                      <a:pt x="2573" y="712"/>
                    </a:lnTo>
                    <a:lnTo>
                      <a:pt x="2573" y="703"/>
                    </a:lnTo>
                    <a:lnTo>
                      <a:pt x="2573" y="70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51160" y="4191120"/>
                <a:ext cx="1422360" cy="8568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5" y="0"/>
                    </a:lnTo>
                    <a:lnTo>
                      <a:pt x="64" y="1"/>
                    </a:lnTo>
                    <a:lnTo>
                      <a:pt x="54" y="1"/>
                    </a:lnTo>
                    <a:lnTo>
                      <a:pt x="45" y="1"/>
                    </a:lnTo>
                    <a:lnTo>
                      <a:pt x="36" y="3"/>
                    </a:lnTo>
                    <a:lnTo>
                      <a:pt x="27" y="3"/>
                    </a:lnTo>
                    <a:lnTo>
                      <a:pt x="21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9"/>
                    </a:lnTo>
                    <a:lnTo>
                      <a:pt x="0" y="51"/>
                    </a:lnTo>
                    <a:lnTo>
                      <a:pt x="1" y="51"/>
                    </a:lnTo>
                    <a:lnTo>
                      <a:pt x="2" y="52"/>
                    </a:lnTo>
                    <a:lnTo>
                      <a:pt x="6" y="52"/>
                    </a:lnTo>
                    <a:lnTo>
                      <a:pt x="10" y="53"/>
                    </a:lnTo>
                    <a:lnTo>
                      <a:pt x="15" y="54"/>
                    </a:lnTo>
                    <a:lnTo>
                      <a:pt x="21" y="54"/>
                    </a:lnTo>
                    <a:lnTo>
                      <a:pt x="27" y="56"/>
                    </a:lnTo>
                    <a:lnTo>
                      <a:pt x="36" y="56"/>
                    </a:lnTo>
                    <a:lnTo>
                      <a:pt x="45" y="57"/>
                    </a:lnTo>
                    <a:lnTo>
                      <a:pt x="54" y="57"/>
                    </a:lnTo>
                    <a:lnTo>
                      <a:pt x="64" y="58"/>
                    </a:lnTo>
                    <a:lnTo>
                      <a:pt x="75" y="58"/>
                    </a:lnTo>
                    <a:lnTo>
                      <a:pt x="86" y="58"/>
                    </a:lnTo>
                    <a:lnTo>
                      <a:pt x="98" y="58"/>
                    </a:lnTo>
                    <a:lnTo>
                      <a:pt x="110" y="58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58"/>
                    </a:lnTo>
                    <a:lnTo>
                      <a:pt x="1164" y="58"/>
                    </a:lnTo>
                    <a:lnTo>
                      <a:pt x="1175" y="58"/>
                    </a:lnTo>
                    <a:lnTo>
                      <a:pt x="1186" y="58"/>
                    </a:lnTo>
                    <a:lnTo>
                      <a:pt x="1198" y="58"/>
                    </a:lnTo>
                    <a:lnTo>
                      <a:pt x="1208" y="57"/>
                    </a:lnTo>
                    <a:lnTo>
                      <a:pt x="1216" y="57"/>
                    </a:lnTo>
                    <a:lnTo>
                      <a:pt x="1225" y="56"/>
                    </a:lnTo>
                    <a:lnTo>
                      <a:pt x="1233" y="56"/>
                    </a:lnTo>
                    <a:lnTo>
                      <a:pt x="1240" y="54"/>
                    </a:lnTo>
                    <a:lnTo>
                      <a:pt x="1246" y="54"/>
                    </a:lnTo>
                    <a:lnTo>
                      <a:pt x="1251" y="53"/>
                    </a:lnTo>
                    <a:lnTo>
                      <a:pt x="1255" y="52"/>
                    </a:lnTo>
                    <a:lnTo>
                      <a:pt x="1259" y="52"/>
                    </a:lnTo>
                    <a:lnTo>
                      <a:pt x="1260" y="51"/>
                    </a:lnTo>
                    <a:lnTo>
                      <a:pt x="1260" y="51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49"/>
                    </a:lnTo>
                    <a:lnTo>
                      <a:pt x="1261" y="9"/>
                    </a:lnTo>
                    <a:lnTo>
                      <a:pt x="1260" y="8"/>
                    </a:lnTo>
                    <a:lnTo>
                      <a:pt x="1260" y="8"/>
                    </a:lnTo>
                    <a:lnTo>
                      <a:pt x="1259" y="7"/>
                    </a:lnTo>
                    <a:lnTo>
                      <a:pt x="1255" y="7"/>
                    </a:lnTo>
                    <a:lnTo>
                      <a:pt x="1251" y="5"/>
                    </a:lnTo>
                    <a:lnTo>
                      <a:pt x="1246" y="5"/>
                    </a:lnTo>
                    <a:lnTo>
                      <a:pt x="1240" y="4"/>
                    </a:lnTo>
                    <a:lnTo>
                      <a:pt x="1233" y="3"/>
                    </a:lnTo>
                    <a:lnTo>
                      <a:pt x="1225" y="3"/>
                    </a:lnTo>
                    <a:lnTo>
                      <a:pt x="1216" y="1"/>
                    </a:lnTo>
                    <a:lnTo>
                      <a:pt x="1208" y="1"/>
                    </a:lnTo>
                    <a:lnTo>
                      <a:pt x="1198" y="1"/>
                    </a:lnTo>
                    <a:lnTo>
                      <a:pt x="1186" y="0"/>
                    </a:lnTo>
                    <a:lnTo>
                      <a:pt x="1175" y="0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1160" y="4627080"/>
                <a:ext cx="1422360" cy="85680"/>
              </a:xfrm>
              <a:custGeom>
                <a:avLst/>
                <a:gdLst/>
                <a:ahLst/>
                <a:rect l="l" t="t" r="r" b="b"/>
                <a:pathLst>
                  <a:path w="1261" h="60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2"/>
                    </a:lnTo>
                    <a:lnTo>
                      <a:pt x="86" y="2"/>
                    </a:lnTo>
                    <a:lnTo>
                      <a:pt x="75" y="2"/>
                    </a:lnTo>
                    <a:lnTo>
                      <a:pt x="64" y="2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6"/>
                    </a:lnTo>
                    <a:lnTo>
                      <a:pt x="15" y="6"/>
                    </a:lnTo>
                    <a:lnTo>
                      <a:pt x="10" y="7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1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5"/>
                    </a:lnTo>
                    <a:lnTo>
                      <a:pt x="15" y="55"/>
                    </a:lnTo>
                    <a:lnTo>
                      <a:pt x="21" y="56"/>
                    </a:lnTo>
                    <a:lnTo>
                      <a:pt x="27" y="57"/>
                    </a:lnTo>
                    <a:lnTo>
                      <a:pt x="36" y="57"/>
                    </a:lnTo>
                    <a:lnTo>
                      <a:pt x="45" y="59"/>
                    </a:lnTo>
                    <a:lnTo>
                      <a:pt x="54" y="59"/>
                    </a:lnTo>
                    <a:lnTo>
                      <a:pt x="64" y="59"/>
                    </a:lnTo>
                    <a:lnTo>
                      <a:pt x="75" y="60"/>
                    </a:lnTo>
                    <a:lnTo>
                      <a:pt x="86" y="60"/>
                    </a:lnTo>
                    <a:lnTo>
                      <a:pt x="98" y="60"/>
                    </a:lnTo>
                    <a:lnTo>
                      <a:pt x="110" y="60"/>
                    </a:lnTo>
                    <a:lnTo>
                      <a:pt x="123" y="60"/>
                    </a:lnTo>
                    <a:lnTo>
                      <a:pt x="123" y="60"/>
                    </a:lnTo>
                    <a:lnTo>
                      <a:pt x="1139" y="60"/>
                    </a:lnTo>
                    <a:lnTo>
                      <a:pt x="1151" y="60"/>
                    </a:lnTo>
                    <a:lnTo>
                      <a:pt x="1164" y="60"/>
                    </a:lnTo>
                    <a:lnTo>
                      <a:pt x="1175" y="60"/>
                    </a:lnTo>
                    <a:lnTo>
                      <a:pt x="1186" y="60"/>
                    </a:lnTo>
                    <a:lnTo>
                      <a:pt x="1198" y="59"/>
                    </a:lnTo>
                    <a:lnTo>
                      <a:pt x="1208" y="59"/>
                    </a:lnTo>
                    <a:lnTo>
                      <a:pt x="1216" y="59"/>
                    </a:lnTo>
                    <a:lnTo>
                      <a:pt x="1225" y="57"/>
                    </a:lnTo>
                    <a:lnTo>
                      <a:pt x="1233" y="57"/>
                    </a:lnTo>
                    <a:lnTo>
                      <a:pt x="1240" y="56"/>
                    </a:lnTo>
                    <a:lnTo>
                      <a:pt x="1246" y="55"/>
                    </a:lnTo>
                    <a:lnTo>
                      <a:pt x="1251" y="55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51"/>
                    </a:lnTo>
                    <a:lnTo>
                      <a:pt x="1261" y="11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7"/>
                    </a:lnTo>
                    <a:lnTo>
                      <a:pt x="1246" y="6"/>
                    </a:lnTo>
                    <a:lnTo>
                      <a:pt x="1240" y="6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2"/>
                    </a:lnTo>
                    <a:lnTo>
                      <a:pt x="1186" y="2"/>
                    </a:lnTo>
                    <a:lnTo>
                      <a:pt x="1175" y="2"/>
                    </a:lnTo>
                    <a:lnTo>
                      <a:pt x="1164" y="2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51160" y="5067720"/>
                <a:ext cx="1422360" cy="85680"/>
              </a:xfrm>
              <a:custGeom>
                <a:avLst/>
                <a:gdLst/>
                <a:ahLst/>
                <a:rect l="l" t="t" r="r" b="b"/>
                <a:pathLst>
                  <a:path w="1261" h="59">
                    <a:moveTo>
                      <a:pt x="1139" y="0"/>
                    </a:moveTo>
                    <a:lnTo>
                      <a:pt x="123" y="0"/>
                    </a:lnTo>
                    <a:lnTo>
                      <a:pt x="110" y="0"/>
                    </a:lnTo>
                    <a:lnTo>
                      <a:pt x="98" y="0"/>
                    </a:lnTo>
                    <a:lnTo>
                      <a:pt x="86" y="1"/>
                    </a:lnTo>
                    <a:lnTo>
                      <a:pt x="75" y="1"/>
                    </a:lnTo>
                    <a:lnTo>
                      <a:pt x="64" y="1"/>
                    </a:lnTo>
                    <a:lnTo>
                      <a:pt x="54" y="3"/>
                    </a:lnTo>
                    <a:lnTo>
                      <a:pt x="45" y="3"/>
                    </a:lnTo>
                    <a:lnTo>
                      <a:pt x="36" y="4"/>
                    </a:lnTo>
                    <a:lnTo>
                      <a:pt x="27" y="4"/>
                    </a:lnTo>
                    <a:lnTo>
                      <a:pt x="21" y="5"/>
                    </a:lnTo>
                    <a:lnTo>
                      <a:pt x="15" y="5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6" y="53"/>
                    </a:lnTo>
                    <a:lnTo>
                      <a:pt x="10" y="54"/>
                    </a:lnTo>
                    <a:lnTo>
                      <a:pt x="15" y="54"/>
                    </a:lnTo>
                    <a:lnTo>
                      <a:pt x="21" y="56"/>
                    </a:lnTo>
                    <a:lnTo>
                      <a:pt x="27" y="56"/>
                    </a:lnTo>
                    <a:lnTo>
                      <a:pt x="36" y="57"/>
                    </a:lnTo>
                    <a:lnTo>
                      <a:pt x="45" y="57"/>
                    </a:lnTo>
                    <a:lnTo>
                      <a:pt x="54" y="58"/>
                    </a:lnTo>
                    <a:lnTo>
                      <a:pt x="64" y="58"/>
                    </a:lnTo>
                    <a:lnTo>
                      <a:pt x="75" y="59"/>
                    </a:lnTo>
                    <a:lnTo>
                      <a:pt x="86" y="59"/>
                    </a:lnTo>
                    <a:lnTo>
                      <a:pt x="98" y="59"/>
                    </a:lnTo>
                    <a:lnTo>
                      <a:pt x="110" y="59"/>
                    </a:lnTo>
                    <a:lnTo>
                      <a:pt x="123" y="59"/>
                    </a:lnTo>
                    <a:lnTo>
                      <a:pt x="123" y="59"/>
                    </a:lnTo>
                    <a:lnTo>
                      <a:pt x="1139" y="59"/>
                    </a:lnTo>
                    <a:lnTo>
                      <a:pt x="1151" y="59"/>
                    </a:lnTo>
                    <a:lnTo>
                      <a:pt x="1164" y="59"/>
                    </a:lnTo>
                    <a:lnTo>
                      <a:pt x="1175" y="59"/>
                    </a:lnTo>
                    <a:lnTo>
                      <a:pt x="1186" y="59"/>
                    </a:lnTo>
                    <a:lnTo>
                      <a:pt x="1198" y="58"/>
                    </a:lnTo>
                    <a:lnTo>
                      <a:pt x="1208" y="58"/>
                    </a:lnTo>
                    <a:lnTo>
                      <a:pt x="1216" y="57"/>
                    </a:lnTo>
                    <a:lnTo>
                      <a:pt x="1225" y="57"/>
                    </a:lnTo>
                    <a:lnTo>
                      <a:pt x="1233" y="56"/>
                    </a:lnTo>
                    <a:lnTo>
                      <a:pt x="1240" y="56"/>
                    </a:lnTo>
                    <a:lnTo>
                      <a:pt x="1246" y="54"/>
                    </a:lnTo>
                    <a:lnTo>
                      <a:pt x="1251" y="54"/>
                    </a:lnTo>
                    <a:lnTo>
                      <a:pt x="1255" y="53"/>
                    </a:lnTo>
                    <a:lnTo>
                      <a:pt x="1259" y="52"/>
                    </a:lnTo>
                    <a:lnTo>
                      <a:pt x="1260" y="52"/>
                    </a:lnTo>
                    <a:lnTo>
                      <a:pt x="1260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50"/>
                    </a:lnTo>
                    <a:lnTo>
                      <a:pt x="1261" y="10"/>
                    </a:lnTo>
                    <a:lnTo>
                      <a:pt x="1260" y="9"/>
                    </a:lnTo>
                    <a:lnTo>
                      <a:pt x="1260" y="9"/>
                    </a:lnTo>
                    <a:lnTo>
                      <a:pt x="1259" y="8"/>
                    </a:lnTo>
                    <a:lnTo>
                      <a:pt x="1255" y="8"/>
                    </a:lnTo>
                    <a:lnTo>
                      <a:pt x="1251" y="6"/>
                    </a:lnTo>
                    <a:lnTo>
                      <a:pt x="1246" y="5"/>
                    </a:lnTo>
                    <a:lnTo>
                      <a:pt x="1240" y="5"/>
                    </a:lnTo>
                    <a:lnTo>
                      <a:pt x="1233" y="4"/>
                    </a:lnTo>
                    <a:lnTo>
                      <a:pt x="1225" y="4"/>
                    </a:lnTo>
                    <a:lnTo>
                      <a:pt x="1216" y="3"/>
                    </a:lnTo>
                    <a:lnTo>
                      <a:pt x="1208" y="3"/>
                    </a:lnTo>
                    <a:lnTo>
                      <a:pt x="1198" y="1"/>
                    </a:lnTo>
                    <a:lnTo>
                      <a:pt x="1186" y="1"/>
                    </a:lnTo>
                    <a:lnTo>
                      <a:pt x="1175" y="1"/>
                    </a:lnTo>
                    <a:lnTo>
                      <a:pt x="1164" y="0"/>
                    </a:lnTo>
                    <a:lnTo>
                      <a:pt x="1151" y="0"/>
                    </a:lnTo>
                    <a:lnTo>
                      <a:pt x="1139" y="0"/>
                    </a:lnTo>
                    <a:lnTo>
                      <a:pt x="113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4263120" y="4137840"/>
                <a:ext cx="63000" cy="1118880"/>
              </a:xfrm>
              <a:custGeom>
                <a:avLst/>
                <a:gdLst/>
                <a:ahLst/>
                <a:rect l="l" t="t" r="r" b="b"/>
                <a:pathLst>
                  <a:path w="58" h="779">
                    <a:moveTo>
                      <a:pt x="58" y="703"/>
                    </a:moveTo>
                    <a:lnTo>
                      <a:pt x="58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6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3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8"/>
                    </a:lnTo>
                    <a:lnTo>
                      <a:pt x="5" y="12"/>
                    </a:lnTo>
                    <a:lnTo>
                      <a:pt x="4" y="16"/>
                    </a:lnTo>
                    <a:lnTo>
                      <a:pt x="4" y="21"/>
                    </a:lnTo>
                    <a:lnTo>
                      <a:pt x="3" y="27"/>
                    </a:lnTo>
                    <a:lnTo>
                      <a:pt x="3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1" y="53"/>
                    </a:lnTo>
                    <a:lnTo>
                      <a:pt x="1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1" y="712"/>
                    </a:lnTo>
                    <a:lnTo>
                      <a:pt x="1" y="719"/>
                    </a:lnTo>
                    <a:lnTo>
                      <a:pt x="1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3" y="746"/>
                    </a:lnTo>
                    <a:lnTo>
                      <a:pt x="3" y="752"/>
                    </a:lnTo>
                    <a:lnTo>
                      <a:pt x="4" y="757"/>
                    </a:lnTo>
                    <a:lnTo>
                      <a:pt x="4" y="762"/>
                    </a:lnTo>
                    <a:lnTo>
                      <a:pt x="5" y="766"/>
                    </a:lnTo>
                    <a:lnTo>
                      <a:pt x="5" y="770"/>
                    </a:lnTo>
                    <a:lnTo>
                      <a:pt x="6" y="774"/>
                    </a:lnTo>
                    <a:lnTo>
                      <a:pt x="8" y="775"/>
                    </a:lnTo>
                    <a:lnTo>
                      <a:pt x="8" y="777"/>
                    </a:lnTo>
                    <a:lnTo>
                      <a:pt x="9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10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3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6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8" y="712"/>
                    </a:lnTo>
                    <a:lnTo>
                      <a:pt x="58" y="703"/>
                    </a:lnTo>
                    <a:lnTo>
                      <a:pt x="58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187960" y="4137840"/>
                <a:ext cx="65520" cy="1118880"/>
              </a:xfrm>
              <a:custGeom>
                <a:avLst/>
                <a:gdLst/>
                <a:ahLst/>
                <a:rect l="l" t="t" r="r" b="b"/>
                <a:pathLst>
                  <a:path w="56" h="779">
                    <a:moveTo>
                      <a:pt x="56" y="703"/>
                    </a:moveTo>
                    <a:lnTo>
                      <a:pt x="56" y="74"/>
                    </a:lnTo>
                    <a:lnTo>
                      <a:pt x="56" y="59"/>
                    </a:lnTo>
                    <a:lnTo>
                      <a:pt x="56" y="53"/>
                    </a:lnTo>
                    <a:lnTo>
                      <a:pt x="56" y="45"/>
                    </a:lnTo>
                    <a:lnTo>
                      <a:pt x="55" y="39"/>
                    </a:lnTo>
                    <a:lnTo>
                      <a:pt x="55" y="32"/>
                    </a:lnTo>
                    <a:lnTo>
                      <a:pt x="55" y="27"/>
                    </a:lnTo>
                    <a:lnTo>
                      <a:pt x="54" y="21"/>
                    </a:lnTo>
                    <a:lnTo>
                      <a:pt x="54" y="16"/>
                    </a:lnTo>
                    <a:lnTo>
                      <a:pt x="53" y="12"/>
                    </a:lnTo>
                    <a:lnTo>
                      <a:pt x="51" y="8"/>
                    </a:lnTo>
                    <a:lnTo>
                      <a:pt x="51" y="5"/>
                    </a:lnTo>
                    <a:lnTo>
                      <a:pt x="50" y="2"/>
                    </a:lnTo>
                    <a:lnTo>
                      <a:pt x="50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8"/>
                    </a:lnTo>
                    <a:lnTo>
                      <a:pt x="2" y="12"/>
                    </a:lnTo>
                    <a:lnTo>
                      <a:pt x="2" y="16"/>
                    </a:lnTo>
                    <a:lnTo>
                      <a:pt x="2" y="21"/>
                    </a:lnTo>
                    <a:lnTo>
                      <a:pt x="1" y="27"/>
                    </a:lnTo>
                    <a:lnTo>
                      <a:pt x="1" y="32"/>
                    </a:lnTo>
                    <a:lnTo>
                      <a:pt x="1" y="39"/>
                    </a:lnTo>
                    <a:lnTo>
                      <a:pt x="1" y="45"/>
                    </a:lnTo>
                    <a:lnTo>
                      <a:pt x="0" y="53"/>
                    </a:lnTo>
                    <a:lnTo>
                      <a:pt x="0" y="59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0" y="703"/>
                    </a:lnTo>
                    <a:lnTo>
                      <a:pt x="0" y="712"/>
                    </a:lnTo>
                    <a:lnTo>
                      <a:pt x="0" y="719"/>
                    </a:lnTo>
                    <a:lnTo>
                      <a:pt x="0" y="727"/>
                    </a:lnTo>
                    <a:lnTo>
                      <a:pt x="1" y="733"/>
                    </a:lnTo>
                    <a:lnTo>
                      <a:pt x="1" y="739"/>
                    </a:lnTo>
                    <a:lnTo>
                      <a:pt x="1" y="746"/>
                    </a:lnTo>
                    <a:lnTo>
                      <a:pt x="1" y="752"/>
                    </a:lnTo>
                    <a:lnTo>
                      <a:pt x="2" y="757"/>
                    </a:lnTo>
                    <a:lnTo>
                      <a:pt x="2" y="762"/>
                    </a:lnTo>
                    <a:lnTo>
                      <a:pt x="2" y="766"/>
                    </a:lnTo>
                    <a:lnTo>
                      <a:pt x="4" y="770"/>
                    </a:lnTo>
                    <a:lnTo>
                      <a:pt x="4" y="774"/>
                    </a:lnTo>
                    <a:lnTo>
                      <a:pt x="5" y="775"/>
                    </a:lnTo>
                    <a:lnTo>
                      <a:pt x="5" y="777"/>
                    </a:lnTo>
                    <a:lnTo>
                      <a:pt x="6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7" y="779"/>
                    </a:lnTo>
                    <a:lnTo>
                      <a:pt x="48" y="779"/>
                    </a:lnTo>
                    <a:lnTo>
                      <a:pt x="49" y="779"/>
                    </a:lnTo>
                    <a:lnTo>
                      <a:pt x="50" y="777"/>
                    </a:lnTo>
                    <a:lnTo>
                      <a:pt x="50" y="775"/>
                    </a:lnTo>
                    <a:lnTo>
                      <a:pt x="51" y="774"/>
                    </a:lnTo>
                    <a:lnTo>
                      <a:pt x="51" y="770"/>
                    </a:lnTo>
                    <a:lnTo>
                      <a:pt x="53" y="766"/>
                    </a:lnTo>
                    <a:lnTo>
                      <a:pt x="54" y="762"/>
                    </a:lnTo>
                    <a:lnTo>
                      <a:pt x="54" y="757"/>
                    </a:lnTo>
                    <a:lnTo>
                      <a:pt x="55" y="752"/>
                    </a:lnTo>
                    <a:lnTo>
                      <a:pt x="55" y="746"/>
                    </a:lnTo>
                    <a:lnTo>
                      <a:pt x="55" y="739"/>
                    </a:lnTo>
                    <a:lnTo>
                      <a:pt x="56" y="733"/>
                    </a:lnTo>
                    <a:lnTo>
                      <a:pt x="56" y="727"/>
                    </a:lnTo>
                    <a:lnTo>
                      <a:pt x="56" y="719"/>
                    </a:lnTo>
                    <a:lnTo>
                      <a:pt x="56" y="712"/>
                    </a:lnTo>
                    <a:lnTo>
                      <a:pt x="56" y="703"/>
                    </a:lnTo>
                    <a:lnTo>
                      <a:pt x="56" y="70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580840" y="4461840"/>
                <a:ext cx="164160" cy="48240"/>
              </a:xfrm>
              <a:custGeom>
                <a:avLst/>
                <a:gdLst/>
                <a:ahLst/>
                <a:rect l="l" t="t" r="r" b="b"/>
                <a:pathLst>
                  <a:path w="145" h="35">
                    <a:moveTo>
                      <a:pt x="36" y="35"/>
                    </a:moveTo>
                    <a:lnTo>
                      <a:pt x="109" y="35"/>
                    </a:lnTo>
                    <a:lnTo>
                      <a:pt x="109" y="35"/>
                    </a:lnTo>
                    <a:lnTo>
                      <a:pt x="110" y="35"/>
                    </a:lnTo>
                    <a:lnTo>
                      <a:pt x="112" y="35"/>
                    </a:lnTo>
                    <a:lnTo>
                      <a:pt x="114" y="35"/>
                    </a:lnTo>
                    <a:lnTo>
                      <a:pt x="117" y="35"/>
                    </a:lnTo>
                    <a:lnTo>
                      <a:pt x="120" y="34"/>
                    </a:lnTo>
                    <a:lnTo>
                      <a:pt x="123" y="33"/>
                    </a:lnTo>
                    <a:lnTo>
                      <a:pt x="127" y="32"/>
                    </a:lnTo>
                    <a:lnTo>
                      <a:pt x="130" y="29"/>
                    </a:lnTo>
                    <a:lnTo>
                      <a:pt x="133" y="27"/>
                    </a:lnTo>
                    <a:lnTo>
                      <a:pt x="137" y="24"/>
                    </a:lnTo>
                    <a:lnTo>
                      <a:pt x="139" y="20"/>
                    </a:lnTo>
                    <a:lnTo>
                      <a:pt x="142" y="16"/>
                    </a:lnTo>
                    <a:lnTo>
                      <a:pt x="143" y="11"/>
                    </a:lnTo>
                    <a:lnTo>
                      <a:pt x="144" y="6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3" y="0"/>
                    </a:lnTo>
                    <a:lnTo>
                      <a:pt x="142" y="0"/>
                    </a:lnTo>
                    <a:lnTo>
                      <a:pt x="139" y="0"/>
                    </a:lnTo>
                    <a:lnTo>
                      <a:pt x="137" y="0"/>
                    </a:lnTo>
                    <a:lnTo>
                      <a:pt x="133" y="0"/>
                    </a:lnTo>
                    <a:lnTo>
                      <a:pt x="127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" y="11"/>
                    </a:lnTo>
                    <a:lnTo>
                      <a:pt x="4" y="16"/>
                    </a:lnTo>
                    <a:lnTo>
                      <a:pt x="5" y="20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5" y="29"/>
                    </a:lnTo>
                    <a:lnTo>
                      <a:pt x="18" y="32"/>
                    </a:lnTo>
                    <a:lnTo>
                      <a:pt x="21" y="33"/>
                    </a:lnTo>
                    <a:lnTo>
                      <a:pt x="25" y="34"/>
                    </a:lnTo>
                    <a:lnTo>
                      <a:pt x="28" y="35"/>
                    </a:lnTo>
                    <a:lnTo>
                      <a:pt x="30" y="35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6" y="35"/>
                    </a:lnTo>
                    <a:lnTo>
                      <a:pt x="3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580840" y="4878360"/>
                <a:ext cx="164160" cy="54720"/>
              </a:xfrm>
              <a:custGeom>
                <a:avLst/>
                <a:gdLst/>
                <a:ahLst/>
                <a:rect l="l" t="t" r="r" b="b"/>
                <a:pathLst>
                  <a:path w="145" h="36">
                    <a:moveTo>
                      <a:pt x="36" y="36"/>
                    </a:moveTo>
                    <a:lnTo>
                      <a:pt x="109" y="36"/>
                    </a:lnTo>
                    <a:lnTo>
                      <a:pt x="109" y="36"/>
                    </a:lnTo>
                    <a:lnTo>
                      <a:pt x="110" y="36"/>
                    </a:lnTo>
                    <a:lnTo>
                      <a:pt x="112" y="36"/>
                    </a:lnTo>
                    <a:lnTo>
                      <a:pt x="114" y="36"/>
                    </a:lnTo>
                    <a:lnTo>
                      <a:pt x="117" y="36"/>
                    </a:lnTo>
                    <a:lnTo>
                      <a:pt x="120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7" y="36"/>
                    </a:lnTo>
                    <a:lnTo>
                      <a:pt x="139" y="36"/>
                    </a:lnTo>
                    <a:lnTo>
                      <a:pt x="142" y="36"/>
                    </a:lnTo>
                    <a:lnTo>
                      <a:pt x="143" y="36"/>
                    </a:lnTo>
                    <a:lnTo>
                      <a:pt x="144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5" y="36"/>
                    </a:lnTo>
                    <a:lnTo>
                      <a:pt x="144" y="29"/>
                    </a:lnTo>
                    <a:lnTo>
                      <a:pt x="143" y="24"/>
                    </a:lnTo>
                    <a:lnTo>
                      <a:pt x="142" y="19"/>
                    </a:lnTo>
                    <a:lnTo>
                      <a:pt x="139" y="15"/>
                    </a:lnTo>
                    <a:lnTo>
                      <a:pt x="137" y="11"/>
                    </a:lnTo>
                    <a:lnTo>
                      <a:pt x="133" y="9"/>
                    </a:lnTo>
                    <a:lnTo>
                      <a:pt x="130" y="6"/>
                    </a:lnTo>
                    <a:lnTo>
                      <a:pt x="127" y="3"/>
                    </a:lnTo>
                    <a:lnTo>
                      <a:pt x="123" y="2"/>
                    </a:lnTo>
                    <a:lnTo>
                      <a:pt x="120" y="1"/>
                    </a:lnTo>
                    <a:lnTo>
                      <a:pt x="117" y="1"/>
                    </a:lnTo>
                    <a:lnTo>
                      <a:pt x="114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3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8" y="3"/>
                    </a:lnTo>
                    <a:lnTo>
                      <a:pt x="15" y="6"/>
                    </a:lnTo>
                    <a:lnTo>
                      <a:pt x="11" y="9"/>
                    </a:lnTo>
                    <a:lnTo>
                      <a:pt x="9" y="11"/>
                    </a:lnTo>
                    <a:lnTo>
                      <a:pt x="5" y="15"/>
                    </a:lnTo>
                    <a:lnTo>
                      <a:pt x="4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4" y="36"/>
                    </a:lnTo>
                    <a:lnTo>
                      <a:pt x="5" y="36"/>
                    </a:lnTo>
                    <a:lnTo>
                      <a:pt x="9" y="36"/>
                    </a:lnTo>
                    <a:lnTo>
                      <a:pt x="11" y="36"/>
                    </a:lnTo>
                    <a:lnTo>
                      <a:pt x="18" y="36"/>
                    </a:lnTo>
                    <a:lnTo>
                      <a:pt x="25" y="36"/>
                    </a:lnTo>
                    <a:lnTo>
                      <a:pt x="28" y="36"/>
                    </a:lnTo>
                    <a:lnTo>
                      <a:pt x="30" y="36"/>
                    </a:lnTo>
                    <a:lnTo>
                      <a:pt x="33" y="36"/>
                    </a:lnTo>
                    <a:lnTo>
                      <a:pt x="35" y="36"/>
                    </a:lnTo>
                    <a:lnTo>
                      <a:pt x="35" y="36"/>
                    </a:lnTo>
                    <a:lnTo>
                      <a:pt x="36" y="36"/>
                    </a:lnTo>
                    <a:lnTo>
                      <a:pt x="3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541240" y="4406760"/>
                <a:ext cx="39240" cy="52200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580840" y="4406760"/>
                <a:ext cx="39240" cy="5220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620440" y="4406760"/>
                <a:ext cx="41760" cy="52200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662200" y="4406760"/>
                <a:ext cx="43560" cy="5220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579040" y="4419720"/>
                <a:ext cx="128160" cy="63720"/>
              </a:xfrm>
              <a:custGeom>
                <a:avLst/>
                <a:gdLst/>
                <a:ahLst/>
                <a:rect l="l" t="t" r="r" b="b"/>
                <a:pathLst>
                  <a:path w="116" h="46">
                    <a:moveTo>
                      <a:pt x="17" y="46"/>
                    </a:move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3" y="37"/>
                    </a:lnTo>
                    <a:lnTo>
                      <a:pt x="115" y="34"/>
                    </a:lnTo>
                    <a:lnTo>
                      <a:pt x="116" y="31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28"/>
                    </a:lnTo>
                    <a:lnTo>
                      <a:pt x="116" y="18"/>
                    </a:lnTo>
                    <a:lnTo>
                      <a:pt x="116" y="15"/>
                    </a:lnTo>
                    <a:lnTo>
                      <a:pt x="115" y="12"/>
                    </a:lnTo>
                    <a:lnTo>
                      <a:pt x="113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7" y="2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5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2" y="34"/>
                    </a:lnTo>
                    <a:lnTo>
                      <a:pt x="3" y="37"/>
                    </a:lnTo>
                    <a:lnTo>
                      <a:pt x="6" y="41"/>
                    </a:lnTo>
                    <a:lnTo>
                      <a:pt x="8" y="42"/>
                    </a:lnTo>
                    <a:lnTo>
                      <a:pt x="11" y="44"/>
                    </a:lnTo>
                    <a:lnTo>
                      <a:pt x="13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579040" y="4858560"/>
                <a:ext cx="128160" cy="6588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7" y="45"/>
                    </a:moveTo>
                    <a:lnTo>
                      <a:pt x="101" y="45"/>
                    </a:lnTo>
                    <a:lnTo>
                      <a:pt x="103" y="45"/>
                    </a:lnTo>
                    <a:lnTo>
                      <a:pt x="107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3" y="36"/>
                    </a:lnTo>
                    <a:lnTo>
                      <a:pt x="115" y="34"/>
                    </a:lnTo>
                    <a:lnTo>
                      <a:pt x="116" y="30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26"/>
                    </a:lnTo>
                    <a:lnTo>
                      <a:pt x="116" y="17"/>
                    </a:lnTo>
                    <a:lnTo>
                      <a:pt x="116" y="15"/>
                    </a:lnTo>
                    <a:lnTo>
                      <a:pt x="115" y="11"/>
                    </a:lnTo>
                    <a:lnTo>
                      <a:pt x="113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6" y="39"/>
                    </a:lnTo>
                    <a:lnTo>
                      <a:pt x="8" y="41"/>
                    </a:lnTo>
                    <a:lnTo>
                      <a:pt x="11" y="44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315960" y="4461840"/>
                <a:ext cx="122760" cy="48240"/>
              </a:xfrm>
              <a:custGeom>
                <a:avLst/>
                <a:gdLst/>
                <a:ahLst/>
                <a:rect l="l" t="t" r="r" b="b"/>
                <a:pathLst>
                  <a:path w="109" h="35">
                    <a:moveTo>
                      <a:pt x="0" y="35"/>
                    </a:moveTo>
                    <a:lnTo>
                      <a:pt x="72" y="35"/>
                    </a:lnTo>
                    <a:lnTo>
                      <a:pt x="78" y="35"/>
                    </a:lnTo>
                    <a:lnTo>
                      <a:pt x="85" y="35"/>
                    </a:lnTo>
                    <a:lnTo>
                      <a:pt x="88" y="35"/>
                    </a:lnTo>
                    <a:lnTo>
                      <a:pt x="94" y="35"/>
                    </a:lnTo>
                    <a:lnTo>
                      <a:pt x="97" y="35"/>
                    </a:lnTo>
                    <a:lnTo>
                      <a:pt x="100" y="34"/>
                    </a:lnTo>
                    <a:lnTo>
                      <a:pt x="102" y="33"/>
                    </a:lnTo>
                    <a:lnTo>
                      <a:pt x="104" y="32"/>
                    </a:lnTo>
                    <a:lnTo>
                      <a:pt x="105" y="29"/>
                    </a:lnTo>
                    <a:lnTo>
                      <a:pt x="106" y="27"/>
                    </a:lnTo>
                    <a:lnTo>
                      <a:pt x="107" y="24"/>
                    </a:lnTo>
                    <a:lnTo>
                      <a:pt x="107" y="20"/>
                    </a:lnTo>
                    <a:lnTo>
                      <a:pt x="109" y="16"/>
                    </a:lnTo>
                    <a:lnTo>
                      <a:pt x="109" y="11"/>
                    </a:lnTo>
                    <a:lnTo>
                      <a:pt x="109" y="6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9" y="0"/>
                    </a:lnTo>
                    <a:lnTo>
                      <a:pt x="107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9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315960" y="4878360"/>
                <a:ext cx="122760" cy="54720"/>
              </a:xfrm>
              <a:custGeom>
                <a:avLst/>
                <a:gdLst/>
                <a:ahLst/>
                <a:rect l="l" t="t" r="r" b="b"/>
                <a:pathLst>
                  <a:path w="109" h="36">
                    <a:moveTo>
                      <a:pt x="0" y="36"/>
                    </a:moveTo>
                    <a:lnTo>
                      <a:pt x="72" y="36"/>
                    </a:lnTo>
                    <a:lnTo>
                      <a:pt x="78" y="36"/>
                    </a:lnTo>
                    <a:lnTo>
                      <a:pt x="85" y="36"/>
                    </a:lnTo>
                    <a:lnTo>
                      <a:pt x="88" y="36"/>
                    </a:lnTo>
                    <a:lnTo>
                      <a:pt x="94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2" y="36"/>
                    </a:lnTo>
                    <a:lnTo>
                      <a:pt x="104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7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36"/>
                    </a:lnTo>
                    <a:lnTo>
                      <a:pt x="109" y="29"/>
                    </a:lnTo>
                    <a:lnTo>
                      <a:pt x="109" y="24"/>
                    </a:lnTo>
                    <a:lnTo>
                      <a:pt x="109" y="19"/>
                    </a:lnTo>
                    <a:lnTo>
                      <a:pt x="107" y="15"/>
                    </a:lnTo>
                    <a:lnTo>
                      <a:pt x="107" y="11"/>
                    </a:lnTo>
                    <a:lnTo>
                      <a:pt x="106" y="9"/>
                    </a:lnTo>
                    <a:lnTo>
                      <a:pt x="105" y="6"/>
                    </a:lnTo>
                    <a:lnTo>
                      <a:pt x="104" y="3"/>
                    </a:lnTo>
                    <a:lnTo>
                      <a:pt x="102" y="2"/>
                    </a:lnTo>
                    <a:lnTo>
                      <a:pt x="100" y="1"/>
                    </a:lnTo>
                    <a:lnTo>
                      <a:pt x="97" y="1"/>
                    </a:lnTo>
                    <a:lnTo>
                      <a:pt x="94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78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7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276360" y="4406760"/>
                <a:ext cx="39240" cy="52200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315960" y="4406760"/>
                <a:ext cx="41760" cy="52200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357720" y="4406760"/>
                <a:ext cx="39240" cy="52200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397320" y="4406760"/>
                <a:ext cx="41760" cy="5220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282120" y="4419720"/>
                <a:ext cx="132840" cy="63720"/>
              </a:xfrm>
              <a:custGeom>
                <a:avLst/>
                <a:gdLst/>
                <a:ahLst/>
                <a:rect l="l" t="t" r="r" b="b"/>
                <a:pathLst>
                  <a:path w="117" h="46">
                    <a:moveTo>
                      <a:pt x="17" y="46"/>
                    </a:moveTo>
                    <a:lnTo>
                      <a:pt x="99" y="46"/>
                    </a:lnTo>
                    <a:lnTo>
                      <a:pt x="102" y="46"/>
                    </a:lnTo>
                    <a:lnTo>
                      <a:pt x="106" y="44"/>
                    </a:lnTo>
                    <a:lnTo>
                      <a:pt x="110" y="42"/>
                    </a:lnTo>
                    <a:lnTo>
                      <a:pt x="112" y="41"/>
                    </a:lnTo>
                    <a:lnTo>
                      <a:pt x="114" y="37"/>
                    </a:lnTo>
                    <a:lnTo>
                      <a:pt x="116" y="34"/>
                    </a:lnTo>
                    <a:lnTo>
                      <a:pt x="116" y="31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8"/>
                    </a:lnTo>
                    <a:lnTo>
                      <a:pt x="116" y="15"/>
                    </a:lnTo>
                    <a:lnTo>
                      <a:pt x="116" y="12"/>
                    </a:lnTo>
                    <a:lnTo>
                      <a:pt x="114" y="9"/>
                    </a:lnTo>
                    <a:lnTo>
                      <a:pt x="112" y="5"/>
                    </a:lnTo>
                    <a:lnTo>
                      <a:pt x="110" y="4"/>
                    </a:lnTo>
                    <a:lnTo>
                      <a:pt x="106" y="2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1" y="34"/>
                    </a:lnTo>
                    <a:lnTo>
                      <a:pt x="2" y="37"/>
                    </a:lnTo>
                    <a:lnTo>
                      <a:pt x="5" y="41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4" y="46"/>
                    </a:lnTo>
                    <a:lnTo>
                      <a:pt x="17" y="4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282120" y="4858560"/>
                <a:ext cx="132840" cy="65880"/>
              </a:xfrm>
              <a:custGeom>
                <a:avLst/>
                <a:gdLst/>
                <a:ahLst/>
                <a:rect l="l" t="t" r="r" b="b"/>
                <a:pathLst>
                  <a:path w="117" h="45">
                    <a:moveTo>
                      <a:pt x="17" y="45"/>
                    </a:moveTo>
                    <a:lnTo>
                      <a:pt x="99" y="45"/>
                    </a:lnTo>
                    <a:lnTo>
                      <a:pt x="102" y="45"/>
                    </a:lnTo>
                    <a:lnTo>
                      <a:pt x="106" y="44"/>
                    </a:lnTo>
                    <a:lnTo>
                      <a:pt x="110" y="41"/>
                    </a:lnTo>
                    <a:lnTo>
                      <a:pt x="112" y="39"/>
                    </a:lnTo>
                    <a:lnTo>
                      <a:pt x="114" y="36"/>
                    </a:lnTo>
                    <a:lnTo>
                      <a:pt x="116" y="34"/>
                    </a:lnTo>
                    <a:lnTo>
                      <a:pt x="116" y="30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26"/>
                    </a:lnTo>
                    <a:lnTo>
                      <a:pt x="117" y="1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2"/>
                    </a:lnTo>
                    <a:lnTo>
                      <a:pt x="106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39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4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1821960" y="4192920"/>
                <a:ext cx="340920" cy="871920"/>
              </a:xfrm>
              <a:custGeom>
                <a:avLst/>
                <a:gdLst/>
                <a:ahLst/>
                <a:rect l="l" t="t" r="r" b="b"/>
                <a:pathLst>
                  <a:path w="302" h="608">
                    <a:moveTo>
                      <a:pt x="70" y="340"/>
                    </a:moveTo>
                    <a:lnTo>
                      <a:pt x="70" y="338"/>
                    </a:lnTo>
                    <a:lnTo>
                      <a:pt x="70" y="334"/>
                    </a:lnTo>
                    <a:lnTo>
                      <a:pt x="69" y="330"/>
                    </a:lnTo>
                    <a:lnTo>
                      <a:pt x="68" y="327"/>
                    </a:lnTo>
                    <a:lnTo>
                      <a:pt x="65" y="321"/>
                    </a:lnTo>
                    <a:lnTo>
                      <a:pt x="60" y="316"/>
                    </a:lnTo>
                    <a:lnTo>
                      <a:pt x="55" y="312"/>
                    </a:lnTo>
                    <a:lnTo>
                      <a:pt x="50" y="309"/>
                    </a:lnTo>
                    <a:lnTo>
                      <a:pt x="47" y="309"/>
                    </a:lnTo>
                    <a:lnTo>
                      <a:pt x="44" y="307"/>
                    </a:lnTo>
                    <a:lnTo>
                      <a:pt x="40" y="306"/>
                    </a:lnTo>
                    <a:lnTo>
                      <a:pt x="37" y="306"/>
                    </a:lnTo>
                    <a:lnTo>
                      <a:pt x="33" y="306"/>
                    </a:lnTo>
                    <a:lnTo>
                      <a:pt x="29" y="307"/>
                    </a:lnTo>
                    <a:lnTo>
                      <a:pt x="26" y="309"/>
                    </a:lnTo>
                    <a:lnTo>
                      <a:pt x="23" y="309"/>
                    </a:lnTo>
                    <a:lnTo>
                      <a:pt x="16" y="312"/>
                    </a:lnTo>
                    <a:lnTo>
                      <a:pt x="11" y="316"/>
                    </a:lnTo>
                    <a:lnTo>
                      <a:pt x="6" y="321"/>
                    </a:lnTo>
                    <a:lnTo>
                      <a:pt x="4" y="327"/>
                    </a:lnTo>
                    <a:lnTo>
                      <a:pt x="3" y="330"/>
                    </a:lnTo>
                    <a:lnTo>
                      <a:pt x="1" y="334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4"/>
                    </a:lnTo>
                    <a:lnTo>
                      <a:pt x="1" y="348"/>
                    </a:lnTo>
                    <a:lnTo>
                      <a:pt x="3" y="351"/>
                    </a:lnTo>
                    <a:lnTo>
                      <a:pt x="4" y="355"/>
                    </a:lnTo>
                    <a:lnTo>
                      <a:pt x="6" y="362"/>
                    </a:lnTo>
                    <a:lnTo>
                      <a:pt x="11" y="367"/>
                    </a:lnTo>
                    <a:lnTo>
                      <a:pt x="16" y="370"/>
                    </a:lnTo>
                    <a:lnTo>
                      <a:pt x="23" y="374"/>
                    </a:lnTo>
                    <a:lnTo>
                      <a:pt x="26" y="375"/>
                    </a:lnTo>
                    <a:lnTo>
                      <a:pt x="29" y="377"/>
                    </a:lnTo>
                    <a:lnTo>
                      <a:pt x="33" y="377"/>
                    </a:lnTo>
                    <a:lnTo>
                      <a:pt x="37" y="377"/>
                    </a:lnTo>
                    <a:lnTo>
                      <a:pt x="40" y="377"/>
                    </a:lnTo>
                    <a:lnTo>
                      <a:pt x="44" y="377"/>
                    </a:lnTo>
                    <a:lnTo>
                      <a:pt x="47" y="375"/>
                    </a:lnTo>
                    <a:lnTo>
                      <a:pt x="50" y="374"/>
                    </a:lnTo>
                    <a:lnTo>
                      <a:pt x="55" y="370"/>
                    </a:lnTo>
                    <a:lnTo>
                      <a:pt x="60" y="367"/>
                    </a:lnTo>
                    <a:lnTo>
                      <a:pt x="65" y="362"/>
                    </a:lnTo>
                    <a:lnTo>
                      <a:pt x="68" y="355"/>
                    </a:lnTo>
                    <a:lnTo>
                      <a:pt x="69" y="351"/>
                    </a:lnTo>
                    <a:lnTo>
                      <a:pt x="70" y="348"/>
                    </a:lnTo>
                    <a:lnTo>
                      <a:pt x="70" y="344"/>
                    </a:lnTo>
                    <a:lnTo>
                      <a:pt x="70" y="340"/>
                    </a:lnTo>
                    <a:lnTo>
                      <a:pt x="70" y="340"/>
                    </a:lnTo>
                    <a:close/>
                    <a:moveTo>
                      <a:pt x="302" y="37"/>
                    </a:moveTo>
                    <a:lnTo>
                      <a:pt x="301" y="33"/>
                    </a:lnTo>
                    <a:lnTo>
                      <a:pt x="301" y="29"/>
                    </a:lnTo>
                    <a:lnTo>
                      <a:pt x="300" y="27"/>
                    </a:lnTo>
                    <a:lnTo>
                      <a:pt x="298" y="23"/>
                    </a:lnTo>
                    <a:lnTo>
                      <a:pt x="296" y="17"/>
                    </a:lnTo>
                    <a:lnTo>
                      <a:pt x="291" y="12"/>
                    </a:lnTo>
                    <a:lnTo>
                      <a:pt x="286" y="7"/>
                    </a:lnTo>
                    <a:lnTo>
                      <a:pt x="281" y="4"/>
                    </a:lnTo>
                    <a:lnTo>
                      <a:pt x="277" y="3"/>
                    </a:lnTo>
                    <a:lnTo>
                      <a:pt x="275" y="2"/>
                    </a:lnTo>
                    <a:lnTo>
                      <a:pt x="271" y="2"/>
                    </a:lnTo>
                    <a:lnTo>
                      <a:pt x="267" y="0"/>
                    </a:lnTo>
                    <a:lnTo>
                      <a:pt x="265" y="2"/>
                    </a:lnTo>
                    <a:lnTo>
                      <a:pt x="261" y="2"/>
                    </a:lnTo>
                    <a:lnTo>
                      <a:pt x="258" y="3"/>
                    </a:lnTo>
                    <a:lnTo>
                      <a:pt x="255" y="4"/>
                    </a:lnTo>
                    <a:lnTo>
                      <a:pt x="250" y="7"/>
                    </a:lnTo>
                    <a:lnTo>
                      <a:pt x="244" y="12"/>
                    </a:lnTo>
                    <a:lnTo>
                      <a:pt x="239" y="17"/>
                    </a:lnTo>
                    <a:lnTo>
                      <a:pt x="237" y="23"/>
                    </a:lnTo>
                    <a:lnTo>
                      <a:pt x="236" y="27"/>
                    </a:lnTo>
                    <a:lnTo>
                      <a:pt x="234" y="29"/>
                    </a:lnTo>
                    <a:lnTo>
                      <a:pt x="234" y="33"/>
                    </a:lnTo>
                    <a:lnTo>
                      <a:pt x="233" y="37"/>
                    </a:lnTo>
                    <a:lnTo>
                      <a:pt x="234" y="41"/>
                    </a:lnTo>
                    <a:lnTo>
                      <a:pt x="234" y="45"/>
                    </a:lnTo>
                    <a:lnTo>
                      <a:pt x="236" y="47"/>
                    </a:lnTo>
                    <a:lnTo>
                      <a:pt x="237" y="51"/>
                    </a:lnTo>
                    <a:lnTo>
                      <a:pt x="239" y="56"/>
                    </a:lnTo>
                    <a:lnTo>
                      <a:pt x="244" y="61"/>
                    </a:lnTo>
                    <a:lnTo>
                      <a:pt x="250" y="66"/>
                    </a:lnTo>
                    <a:lnTo>
                      <a:pt x="255" y="69"/>
                    </a:lnTo>
                    <a:lnTo>
                      <a:pt x="258" y="70"/>
                    </a:lnTo>
                    <a:lnTo>
                      <a:pt x="261" y="71"/>
                    </a:lnTo>
                    <a:lnTo>
                      <a:pt x="265" y="71"/>
                    </a:lnTo>
                    <a:lnTo>
                      <a:pt x="267" y="71"/>
                    </a:lnTo>
                    <a:lnTo>
                      <a:pt x="271" y="71"/>
                    </a:lnTo>
                    <a:lnTo>
                      <a:pt x="275" y="71"/>
                    </a:lnTo>
                    <a:lnTo>
                      <a:pt x="277" y="70"/>
                    </a:lnTo>
                    <a:lnTo>
                      <a:pt x="281" y="69"/>
                    </a:lnTo>
                    <a:lnTo>
                      <a:pt x="286" y="66"/>
                    </a:lnTo>
                    <a:lnTo>
                      <a:pt x="291" y="61"/>
                    </a:lnTo>
                    <a:lnTo>
                      <a:pt x="296" y="56"/>
                    </a:lnTo>
                    <a:lnTo>
                      <a:pt x="298" y="51"/>
                    </a:lnTo>
                    <a:lnTo>
                      <a:pt x="300" y="47"/>
                    </a:lnTo>
                    <a:lnTo>
                      <a:pt x="301" y="45"/>
                    </a:lnTo>
                    <a:lnTo>
                      <a:pt x="301" y="41"/>
                    </a:lnTo>
                    <a:lnTo>
                      <a:pt x="302" y="37"/>
                    </a:lnTo>
                    <a:lnTo>
                      <a:pt x="302" y="37"/>
                    </a:lnTo>
                    <a:close/>
                    <a:moveTo>
                      <a:pt x="302" y="572"/>
                    </a:moveTo>
                    <a:lnTo>
                      <a:pt x="301" y="569"/>
                    </a:lnTo>
                    <a:lnTo>
                      <a:pt x="301" y="566"/>
                    </a:lnTo>
                    <a:lnTo>
                      <a:pt x="300" y="562"/>
                    </a:lnTo>
                    <a:lnTo>
                      <a:pt x="298" y="558"/>
                    </a:lnTo>
                    <a:lnTo>
                      <a:pt x="296" y="552"/>
                    </a:lnTo>
                    <a:lnTo>
                      <a:pt x="291" y="547"/>
                    </a:lnTo>
                    <a:lnTo>
                      <a:pt x="286" y="542"/>
                    </a:lnTo>
                    <a:lnTo>
                      <a:pt x="281" y="540"/>
                    </a:lnTo>
                    <a:lnTo>
                      <a:pt x="277" y="538"/>
                    </a:lnTo>
                    <a:lnTo>
                      <a:pt x="275" y="537"/>
                    </a:lnTo>
                    <a:lnTo>
                      <a:pt x="271" y="537"/>
                    </a:lnTo>
                    <a:lnTo>
                      <a:pt x="267" y="537"/>
                    </a:lnTo>
                    <a:lnTo>
                      <a:pt x="265" y="537"/>
                    </a:lnTo>
                    <a:lnTo>
                      <a:pt x="261" y="537"/>
                    </a:lnTo>
                    <a:lnTo>
                      <a:pt x="258" y="538"/>
                    </a:lnTo>
                    <a:lnTo>
                      <a:pt x="255" y="540"/>
                    </a:lnTo>
                    <a:lnTo>
                      <a:pt x="250" y="542"/>
                    </a:lnTo>
                    <a:lnTo>
                      <a:pt x="244" y="547"/>
                    </a:lnTo>
                    <a:lnTo>
                      <a:pt x="239" y="552"/>
                    </a:lnTo>
                    <a:lnTo>
                      <a:pt x="237" y="558"/>
                    </a:lnTo>
                    <a:lnTo>
                      <a:pt x="236" y="562"/>
                    </a:lnTo>
                    <a:lnTo>
                      <a:pt x="234" y="566"/>
                    </a:lnTo>
                    <a:lnTo>
                      <a:pt x="234" y="569"/>
                    </a:lnTo>
                    <a:lnTo>
                      <a:pt x="233" y="572"/>
                    </a:lnTo>
                    <a:lnTo>
                      <a:pt x="234" y="576"/>
                    </a:lnTo>
                    <a:lnTo>
                      <a:pt x="234" y="580"/>
                    </a:lnTo>
                    <a:lnTo>
                      <a:pt x="236" y="582"/>
                    </a:lnTo>
                    <a:lnTo>
                      <a:pt x="237" y="586"/>
                    </a:lnTo>
                    <a:lnTo>
                      <a:pt x="239" y="591"/>
                    </a:lnTo>
                    <a:lnTo>
                      <a:pt x="244" y="596"/>
                    </a:lnTo>
                    <a:lnTo>
                      <a:pt x="250" y="601"/>
                    </a:lnTo>
                    <a:lnTo>
                      <a:pt x="255" y="604"/>
                    </a:lnTo>
                    <a:lnTo>
                      <a:pt x="258" y="605"/>
                    </a:lnTo>
                    <a:lnTo>
                      <a:pt x="261" y="606"/>
                    </a:lnTo>
                    <a:lnTo>
                      <a:pt x="265" y="606"/>
                    </a:lnTo>
                    <a:lnTo>
                      <a:pt x="267" y="608"/>
                    </a:lnTo>
                    <a:lnTo>
                      <a:pt x="271" y="606"/>
                    </a:lnTo>
                    <a:lnTo>
                      <a:pt x="275" y="606"/>
                    </a:lnTo>
                    <a:lnTo>
                      <a:pt x="277" y="605"/>
                    </a:lnTo>
                    <a:lnTo>
                      <a:pt x="281" y="604"/>
                    </a:lnTo>
                    <a:lnTo>
                      <a:pt x="286" y="601"/>
                    </a:lnTo>
                    <a:lnTo>
                      <a:pt x="291" y="596"/>
                    </a:lnTo>
                    <a:lnTo>
                      <a:pt x="296" y="591"/>
                    </a:lnTo>
                    <a:lnTo>
                      <a:pt x="298" y="586"/>
                    </a:lnTo>
                    <a:lnTo>
                      <a:pt x="300" y="582"/>
                    </a:lnTo>
                    <a:lnTo>
                      <a:pt x="301" y="580"/>
                    </a:lnTo>
                    <a:lnTo>
                      <a:pt x="301" y="576"/>
                    </a:lnTo>
                    <a:lnTo>
                      <a:pt x="302" y="572"/>
                    </a:lnTo>
                    <a:lnTo>
                      <a:pt x="302" y="572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1821960" y="4631760"/>
                <a:ext cx="79200" cy="10332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2"/>
                    </a:lnTo>
                    <a:lnTo>
                      <a:pt x="70" y="28"/>
                    </a:lnTo>
                    <a:lnTo>
                      <a:pt x="69" y="24"/>
                    </a:lnTo>
                    <a:lnTo>
                      <a:pt x="68" y="21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6"/>
                    </a:lnTo>
                    <a:lnTo>
                      <a:pt x="50" y="3"/>
                    </a:lnTo>
                    <a:lnTo>
                      <a:pt x="47" y="3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3"/>
                    </a:lnTo>
                    <a:lnTo>
                      <a:pt x="23" y="3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4"/>
                    </a:lnTo>
                    <a:lnTo>
                      <a:pt x="1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1" y="42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4"/>
                    </a:lnTo>
                    <a:lnTo>
                      <a:pt x="23" y="68"/>
                    </a:lnTo>
                    <a:lnTo>
                      <a:pt x="26" y="69"/>
                    </a:lnTo>
                    <a:lnTo>
                      <a:pt x="29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0" y="71"/>
                    </a:lnTo>
                    <a:lnTo>
                      <a:pt x="44" y="71"/>
                    </a:lnTo>
                    <a:lnTo>
                      <a:pt x="47" y="69"/>
                    </a:lnTo>
                    <a:lnTo>
                      <a:pt x="50" y="68"/>
                    </a:lnTo>
                    <a:lnTo>
                      <a:pt x="55" y="64"/>
                    </a:lnTo>
                    <a:lnTo>
                      <a:pt x="60" y="61"/>
                    </a:lnTo>
                    <a:lnTo>
                      <a:pt x="65" y="56"/>
                    </a:lnTo>
                    <a:lnTo>
                      <a:pt x="68" y="49"/>
                    </a:lnTo>
                    <a:lnTo>
                      <a:pt x="69" y="45"/>
                    </a:lnTo>
                    <a:lnTo>
                      <a:pt x="70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085840" y="4192920"/>
                <a:ext cx="77040" cy="10116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7"/>
                    </a:moveTo>
                    <a:lnTo>
                      <a:pt x="68" y="33"/>
                    </a:lnTo>
                    <a:lnTo>
                      <a:pt x="68" y="29"/>
                    </a:lnTo>
                    <a:lnTo>
                      <a:pt x="67" y="27"/>
                    </a:lnTo>
                    <a:lnTo>
                      <a:pt x="65" y="23"/>
                    </a:lnTo>
                    <a:lnTo>
                      <a:pt x="63" y="17"/>
                    </a:lnTo>
                    <a:lnTo>
                      <a:pt x="58" y="12"/>
                    </a:lnTo>
                    <a:lnTo>
                      <a:pt x="53" y="7"/>
                    </a:lnTo>
                    <a:lnTo>
                      <a:pt x="48" y="4"/>
                    </a:lnTo>
                    <a:lnTo>
                      <a:pt x="44" y="3"/>
                    </a:lnTo>
                    <a:lnTo>
                      <a:pt x="42" y="2"/>
                    </a:lnTo>
                    <a:lnTo>
                      <a:pt x="38" y="2"/>
                    </a:lnTo>
                    <a:lnTo>
                      <a:pt x="34" y="0"/>
                    </a:lnTo>
                    <a:lnTo>
                      <a:pt x="32" y="2"/>
                    </a:lnTo>
                    <a:lnTo>
                      <a:pt x="28" y="2"/>
                    </a:lnTo>
                    <a:lnTo>
                      <a:pt x="25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1" y="12"/>
                    </a:lnTo>
                    <a:lnTo>
                      <a:pt x="6" y="17"/>
                    </a:lnTo>
                    <a:lnTo>
                      <a:pt x="4" y="23"/>
                    </a:lnTo>
                    <a:lnTo>
                      <a:pt x="3" y="27"/>
                    </a:lnTo>
                    <a:lnTo>
                      <a:pt x="1" y="29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7"/>
                    </a:lnTo>
                    <a:lnTo>
                      <a:pt x="4" y="51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7" y="66"/>
                    </a:lnTo>
                    <a:lnTo>
                      <a:pt x="22" y="69"/>
                    </a:lnTo>
                    <a:lnTo>
                      <a:pt x="25" y="70"/>
                    </a:lnTo>
                    <a:lnTo>
                      <a:pt x="28" y="71"/>
                    </a:lnTo>
                    <a:lnTo>
                      <a:pt x="32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2" y="71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8" y="61"/>
                    </a:lnTo>
                    <a:lnTo>
                      <a:pt x="63" y="56"/>
                    </a:lnTo>
                    <a:lnTo>
                      <a:pt x="65" y="51"/>
                    </a:lnTo>
                    <a:lnTo>
                      <a:pt x="67" y="47"/>
                    </a:lnTo>
                    <a:lnTo>
                      <a:pt x="68" y="45"/>
                    </a:lnTo>
                    <a:lnTo>
                      <a:pt x="68" y="41"/>
                    </a:lnTo>
                    <a:lnTo>
                      <a:pt x="69" y="37"/>
                    </a:lnTo>
                    <a:lnTo>
                      <a:pt x="69" y="37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085840" y="4964400"/>
                <a:ext cx="77040" cy="10080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69" y="35"/>
                    </a:moveTo>
                    <a:lnTo>
                      <a:pt x="68" y="32"/>
                    </a:lnTo>
                    <a:lnTo>
                      <a:pt x="68" y="29"/>
                    </a:lnTo>
                    <a:lnTo>
                      <a:pt x="67" y="25"/>
                    </a:lnTo>
                    <a:lnTo>
                      <a:pt x="65" y="21"/>
                    </a:lnTo>
                    <a:lnTo>
                      <a:pt x="63" y="15"/>
                    </a:lnTo>
                    <a:lnTo>
                      <a:pt x="58" y="10"/>
                    </a:lnTo>
                    <a:lnTo>
                      <a:pt x="53" y="5"/>
                    </a:lnTo>
                    <a:lnTo>
                      <a:pt x="48" y="3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3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3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5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3" y="45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7" y="64"/>
                    </a:lnTo>
                    <a:lnTo>
                      <a:pt x="22" y="67"/>
                    </a:lnTo>
                    <a:lnTo>
                      <a:pt x="25" y="68"/>
                    </a:lnTo>
                    <a:lnTo>
                      <a:pt x="28" y="69"/>
                    </a:lnTo>
                    <a:lnTo>
                      <a:pt x="32" y="69"/>
                    </a:lnTo>
                    <a:lnTo>
                      <a:pt x="34" y="71"/>
                    </a:lnTo>
                    <a:lnTo>
                      <a:pt x="38" y="69"/>
                    </a:lnTo>
                    <a:lnTo>
                      <a:pt x="42" y="69"/>
                    </a:lnTo>
                    <a:lnTo>
                      <a:pt x="44" y="68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5" y="49"/>
                    </a:lnTo>
                    <a:lnTo>
                      <a:pt x="67" y="45"/>
                    </a:lnTo>
                    <a:lnTo>
                      <a:pt x="68" y="43"/>
                    </a:lnTo>
                    <a:lnTo>
                      <a:pt x="68" y="39"/>
                    </a:lnTo>
                    <a:lnTo>
                      <a:pt x="69" y="35"/>
                    </a:lnTo>
                    <a:lnTo>
                      <a:pt x="69" y="3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848240" y="4226040"/>
                <a:ext cx="290880" cy="804240"/>
              </a:xfrm>
              <a:custGeom>
                <a:avLst/>
                <a:gdLst/>
                <a:ahLst/>
                <a:rect l="l" t="t" r="r" b="b"/>
                <a:pathLst>
                  <a:path w="258" h="561">
                    <a:moveTo>
                      <a:pt x="25" y="317"/>
                    </a:moveTo>
                    <a:lnTo>
                      <a:pt x="25" y="315"/>
                    </a:lnTo>
                    <a:lnTo>
                      <a:pt x="25" y="313"/>
                    </a:lnTo>
                    <a:lnTo>
                      <a:pt x="24" y="311"/>
                    </a:lnTo>
                    <a:lnTo>
                      <a:pt x="22" y="309"/>
                    </a:lnTo>
                    <a:lnTo>
                      <a:pt x="20" y="308"/>
                    </a:lnTo>
                    <a:lnTo>
                      <a:pt x="19" y="307"/>
                    </a:lnTo>
                    <a:lnTo>
                      <a:pt x="16" y="306"/>
                    </a:lnTo>
                    <a:lnTo>
                      <a:pt x="14" y="306"/>
                    </a:lnTo>
                    <a:lnTo>
                      <a:pt x="11" y="306"/>
                    </a:lnTo>
                    <a:lnTo>
                      <a:pt x="7" y="307"/>
                    </a:lnTo>
                    <a:lnTo>
                      <a:pt x="6" y="308"/>
                    </a:lnTo>
                    <a:lnTo>
                      <a:pt x="3" y="309"/>
                    </a:lnTo>
                    <a:lnTo>
                      <a:pt x="2" y="311"/>
                    </a:lnTo>
                    <a:lnTo>
                      <a:pt x="1" y="313"/>
                    </a:lnTo>
                    <a:lnTo>
                      <a:pt x="1" y="315"/>
                    </a:lnTo>
                    <a:lnTo>
                      <a:pt x="0" y="317"/>
                    </a:lnTo>
                    <a:lnTo>
                      <a:pt x="1" y="321"/>
                    </a:lnTo>
                    <a:lnTo>
                      <a:pt x="1" y="323"/>
                    </a:lnTo>
                    <a:lnTo>
                      <a:pt x="2" y="326"/>
                    </a:lnTo>
                    <a:lnTo>
                      <a:pt x="3" y="327"/>
                    </a:lnTo>
                    <a:lnTo>
                      <a:pt x="6" y="330"/>
                    </a:lnTo>
                    <a:lnTo>
                      <a:pt x="7" y="330"/>
                    </a:lnTo>
                    <a:lnTo>
                      <a:pt x="11" y="331"/>
                    </a:lnTo>
                    <a:lnTo>
                      <a:pt x="14" y="331"/>
                    </a:lnTo>
                    <a:lnTo>
                      <a:pt x="16" y="331"/>
                    </a:lnTo>
                    <a:lnTo>
                      <a:pt x="19" y="330"/>
                    </a:lnTo>
                    <a:lnTo>
                      <a:pt x="20" y="330"/>
                    </a:lnTo>
                    <a:lnTo>
                      <a:pt x="22" y="327"/>
                    </a:lnTo>
                    <a:lnTo>
                      <a:pt x="24" y="326"/>
                    </a:lnTo>
                    <a:lnTo>
                      <a:pt x="25" y="323"/>
                    </a:lnTo>
                    <a:lnTo>
                      <a:pt x="25" y="321"/>
                    </a:lnTo>
                    <a:lnTo>
                      <a:pt x="25" y="317"/>
                    </a:lnTo>
                    <a:lnTo>
                      <a:pt x="25" y="317"/>
                    </a:lnTo>
                    <a:close/>
                    <a:moveTo>
                      <a:pt x="258" y="14"/>
                    </a:moveTo>
                    <a:lnTo>
                      <a:pt x="258" y="12"/>
                    </a:lnTo>
                    <a:lnTo>
                      <a:pt x="257" y="9"/>
                    </a:lnTo>
                    <a:lnTo>
                      <a:pt x="255" y="6"/>
                    </a:lnTo>
                    <a:lnTo>
                      <a:pt x="254" y="4"/>
                    </a:lnTo>
                    <a:lnTo>
                      <a:pt x="252" y="3"/>
                    </a:lnTo>
                    <a:lnTo>
                      <a:pt x="249" y="1"/>
                    </a:lnTo>
                    <a:lnTo>
                      <a:pt x="248" y="1"/>
                    </a:lnTo>
                    <a:lnTo>
                      <a:pt x="244" y="0"/>
                    </a:lnTo>
                    <a:lnTo>
                      <a:pt x="242" y="1"/>
                    </a:lnTo>
                    <a:lnTo>
                      <a:pt x="240" y="1"/>
                    </a:lnTo>
                    <a:lnTo>
                      <a:pt x="238" y="3"/>
                    </a:lnTo>
                    <a:lnTo>
                      <a:pt x="235" y="4"/>
                    </a:lnTo>
                    <a:lnTo>
                      <a:pt x="234" y="6"/>
                    </a:lnTo>
                    <a:lnTo>
                      <a:pt x="233" y="9"/>
                    </a:lnTo>
                    <a:lnTo>
                      <a:pt x="232" y="12"/>
                    </a:lnTo>
                    <a:lnTo>
                      <a:pt x="232" y="14"/>
                    </a:lnTo>
                    <a:lnTo>
                      <a:pt x="232" y="17"/>
                    </a:lnTo>
                    <a:lnTo>
                      <a:pt x="233" y="19"/>
                    </a:lnTo>
                    <a:lnTo>
                      <a:pt x="234" y="22"/>
                    </a:lnTo>
                    <a:lnTo>
                      <a:pt x="235" y="23"/>
                    </a:lnTo>
                    <a:lnTo>
                      <a:pt x="238" y="24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5"/>
                    </a:lnTo>
                    <a:lnTo>
                      <a:pt x="248" y="25"/>
                    </a:lnTo>
                    <a:lnTo>
                      <a:pt x="249" y="25"/>
                    </a:lnTo>
                    <a:lnTo>
                      <a:pt x="252" y="24"/>
                    </a:lnTo>
                    <a:lnTo>
                      <a:pt x="254" y="23"/>
                    </a:lnTo>
                    <a:lnTo>
                      <a:pt x="255" y="22"/>
                    </a:lnTo>
                    <a:lnTo>
                      <a:pt x="257" y="19"/>
                    </a:lnTo>
                    <a:lnTo>
                      <a:pt x="258" y="17"/>
                    </a:lnTo>
                    <a:lnTo>
                      <a:pt x="258" y="14"/>
                    </a:lnTo>
                    <a:lnTo>
                      <a:pt x="258" y="14"/>
                    </a:lnTo>
                    <a:close/>
                    <a:moveTo>
                      <a:pt x="258" y="549"/>
                    </a:moveTo>
                    <a:lnTo>
                      <a:pt x="258" y="547"/>
                    </a:lnTo>
                    <a:lnTo>
                      <a:pt x="257" y="544"/>
                    </a:lnTo>
                    <a:lnTo>
                      <a:pt x="255" y="542"/>
                    </a:lnTo>
                    <a:lnTo>
                      <a:pt x="254" y="539"/>
                    </a:lnTo>
                    <a:lnTo>
                      <a:pt x="252" y="538"/>
                    </a:lnTo>
                    <a:lnTo>
                      <a:pt x="249" y="537"/>
                    </a:lnTo>
                    <a:lnTo>
                      <a:pt x="248" y="537"/>
                    </a:lnTo>
                    <a:lnTo>
                      <a:pt x="244" y="537"/>
                    </a:lnTo>
                    <a:lnTo>
                      <a:pt x="242" y="537"/>
                    </a:lnTo>
                    <a:lnTo>
                      <a:pt x="240" y="537"/>
                    </a:lnTo>
                    <a:lnTo>
                      <a:pt x="238" y="538"/>
                    </a:lnTo>
                    <a:lnTo>
                      <a:pt x="235" y="539"/>
                    </a:lnTo>
                    <a:lnTo>
                      <a:pt x="234" y="542"/>
                    </a:lnTo>
                    <a:lnTo>
                      <a:pt x="233" y="544"/>
                    </a:lnTo>
                    <a:lnTo>
                      <a:pt x="232" y="547"/>
                    </a:lnTo>
                    <a:lnTo>
                      <a:pt x="232" y="549"/>
                    </a:lnTo>
                    <a:lnTo>
                      <a:pt x="232" y="552"/>
                    </a:lnTo>
                    <a:lnTo>
                      <a:pt x="233" y="554"/>
                    </a:lnTo>
                    <a:lnTo>
                      <a:pt x="234" y="557"/>
                    </a:lnTo>
                    <a:lnTo>
                      <a:pt x="235" y="558"/>
                    </a:lnTo>
                    <a:lnTo>
                      <a:pt x="238" y="559"/>
                    </a:lnTo>
                    <a:lnTo>
                      <a:pt x="240" y="561"/>
                    </a:lnTo>
                    <a:lnTo>
                      <a:pt x="242" y="561"/>
                    </a:lnTo>
                    <a:lnTo>
                      <a:pt x="244" y="561"/>
                    </a:lnTo>
                    <a:lnTo>
                      <a:pt x="248" y="561"/>
                    </a:lnTo>
                    <a:lnTo>
                      <a:pt x="249" y="561"/>
                    </a:lnTo>
                    <a:lnTo>
                      <a:pt x="252" y="559"/>
                    </a:lnTo>
                    <a:lnTo>
                      <a:pt x="254" y="558"/>
                    </a:lnTo>
                    <a:lnTo>
                      <a:pt x="255" y="557"/>
                    </a:lnTo>
                    <a:lnTo>
                      <a:pt x="257" y="554"/>
                    </a:lnTo>
                    <a:lnTo>
                      <a:pt x="258" y="552"/>
                    </a:lnTo>
                    <a:lnTo>
                      <a:pt x="258" y="549"/>
                    </a:lnTo>
                    <a:lnTo>
                      <a:pt x="258" y="549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1848240" y="4664520"/>
                <a:ext cx="27360" cy="34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1"/>
                    </a:moveTo>
                    <a:lnTo>
                      <a:pt x="25" y="9"/>
                    </a:lnTo>
                    <a:lnTo>
                      <a:pt x="25" y="7"/>
                    </a:lnTo>
                    <a:lnTo>
                      <a:pt x="24" y="5"/>
                    </a:lnTo>
                    <a:lnTo>
                      <a:pt x="22" y="3"/>
                    </a:lnTo>
                    <a:lnTo>
                      <a:pt x="20" y="2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3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4"/>
                    </a:lnTo>
                    <a:lnTo>
                      <a:pt x="7" y="24"/>
                    </a:lnTo>
                    <a:lnTo>
                      <a:pt x="11" y="25"/>
                    </a:lnTo>
                    <a:lnTo>
                      <a:pt x="14" y="25"/>
                    </a:lnTo>
                    <a:lnTo>
                      <a:pt x="16" y="25"/>
                    </a:lnTo>
                    <a:lnTo>
                      <a:pt x="19" y="24"/>
                    </a:lnTo>
                    <a:lnTo>
                      <a:pt x="20" y="24"/>
                    </a:lnTo>
                    <a:lnTo>
                      <a:pt x="22" y="21"/>
                    </a:lnTo>
                    <a:lnTo>
                      <a:pt x="24" y="20"/>
                    </a:lnTo>
                    <a:lnTo>
                      <a:pt x="25" y="17"/>
                    </a:lnTo>
                    <a:lnTo>
                      <a:pt x="25" y="15"/>
                    </a:lnTo>
                    <a:lnTo>
                      <a:pt x="25" y="11"/>
                    </a:lnTo>
                    <a:lnTo>
                      <a:pt x="25" y="1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109600" y="4226040"/>
                <a:ext cx="29520" cy="3744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4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3" y="6"/>
                    </a:lnTo>
                    <a:lnTo>
                      <a:pt x="22" y="4"/>
                    </a:lnTo>
                    <a:lnTo>
                      <a:pt x="20" y="3"/>
                    </a:lnTo>
                    <a:lnTo>
                      <a:pt x="17" y="1"/>
                    </a:lnTo>
                    <a:lnTo>
                      <a:pt x="16" y="1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6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1" y="19"/>
                    </a:lnTo>
                    <a:lnTo>
                      <a:pt x="2" y="22"/>
                    </a:lnTo>
                    <a:lnTo>
                      <a:pt x="3" y="23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10" y="25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7" y="25"/>
                    </a:lnTo>
                    <a:lnTo>
                      <a:pt x="20" y="24"/>
                    </a:lnTo>
                    <a:lnTo>
                      <a:pt x="22" y="23"/>
                    </a:lnTo>
                    <a:lnTo>
                      <a:pt x="23" y="22"/>
                    </a:lnTo>
                    <a:lnTo>
                      <a:pt x="25" y="19"/>
                    </a:lnTo>
                    <a:lnTo>
                      <a:pt x="26" y="17"/>
                    </a:lnTo>
                    <a:lnTo>
                      <a:pt x="26" y="14"/>
                    </a:lnTo>
                    <a:lnTo>
                      <a:pt x="26" y="1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109600" y="4994640"/>
                <a:ext cx="29520" cy="3528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26" y="12"/>
                    </a:moveTo>
                    <a:lnTo>
                      <a:pt x="26" y="10"/>
                    </a:lnTo>
                    <a:lnTo>
                      <a:pt x="25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20" y="1"/>
                    </a:lnTo>
                    <a:lnTo>
                      <a:pt x="1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4"/>
                    </a:lnTo>
                    <a:lnTo>
                      <a:pt x="10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17" y="24"/>
                    </a:lnTo>
                    <a:lnTo>
                      <a:pt x="20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5" y="17"/>
                    </a:lnTo>
                    <a:lnTo>
                      <a:pt x="26" y="15"/>
                    </a:lnTo>
                    <a:lnTo>
                      <a:pt x="26" y="12"/>
                    </a:lnTo>
                    <a:lnTo>
                      <a:pt x="26" y="1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966680" y="4197600"/>
                <a:ext cx="326880" cy="1152000"/>
              </a:xfrm>
              <a:custGeom>
                <a:avLst/>
                <a:gdLst/>
                <a:ahLst/>
                <a:rect l="l" t="t" r="r" b="b"/>
                <a:pathLst>
                  <a:path w="291" h="803">
                    <a:moveTo>
                      <a:pt x="291" y="37"/>
                    </a:moveTo>
                    <a:lnTo>
                      <a:pt x="73" y="37"/>
                    </a:lnTo>
                    <a:lnTo>
                      <a:pt x="67" y="37"/>
                    </a:lnTo>
                    <a:lnTo>
                      <a:pt x="62" y="37"/>
                    </a:lnTo>
                    <a:lnTo>
                      <a:pt x="57" y="37"/>
                    </a:lnTo>
                    <a:lnTo>
                      <a:pt x="52" y="38"/>
                    </a:lnTo>
                    <a:lnTo>
                      <a:pt x="49" y="38"/>
                    </a:lnTo>
                    <a:lnTo>
                      <a:pt x="45" y="39"/>
                    </a:lnTo>
                    <a:lnTo>
                      <a:pt x="43" y="39"/>
                    </a:lnTo>
                    <a:lnTo>
                      <a:pt x="42" y="42"/>
                    </a:lnTo>
                    <a:lnTo>
                      <a:pt x="40" y="43"/>
                    </a:lnTo>
                    <a:lnTo>
                      <a:pt x="39" y="45"/>
                    </a:lnTo>
                    <a:lnTo>
                      <a:pt x="38" y="48"/>
                    </a:lnTo>
                    <a:lnTo>
                      <a:pt x="38" y="52"/>
                    </a:lnTo>
                    <a:lnTo>
                      <a:pt x="37" y="57"/>
                    </a:lnTo>
                    <a:lnTo>
                      <a:pt x="37" y="61"/>
                    </a:lnTo>
                    <a:lnTo>
                      <a:pt x="37" y="67"/>
                    </a:lnTo>
                    <a:lnTo>
                      <a:pt x="37" y="73"/>
                    </a:lnTo>
                    <a:lnTo>
                      <a:pt x="37" y="73"/>
                    </a:lnTo>
                    <a:lnTo>
                      <a:pt x="37" y="803"/>
                    </a:lnTo>
                    <a:lnTo>
                      <a:pt x="0" y="803"/>
                    </a:lnTo>
                    <a:lnTo>
                      <a:pt x="0" y="37"/>
                    </a:lnTo>
                    <a:lnTo>
                      <a:pt x="1" y="30"/>
                    </a:lnTo>
                    <a:lnTo>
                      <a:pt x="3" y="25"/>
                    </a:lnTo>
                    <a:lnTo>
                      <a:pt x="4" y="20"/>
                    </a:lnTo>
                    <a:lnTo>
                      <a:pt x="6" y="15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8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3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1" y="0"/>
                    </a:lnTo>
                    <a:lnTo>
                      <a:pt x="291" y="37"/>
                    </a:lnTo>
                    <a:lnTo>
                      <a:pt x="291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938960" y="4146840"/>
                <a:ext cx="318960" cy="1202400"/>
              </a:xfrm>
              <a:custGeom>
                <a:avLst/>
                <a:gdLst/>
                <a:ahLst/>
                <a:rect l="l" t="t" r="r" b="b"/>
                <a:pathLst>
                  <a:path w="284" h="837">
                    <a:moveTo>
                      <a:pt x="284" y="43"/>
                    </a:moveTo>
                    <a:lnTo>
                      <a:pt x="76" y="43"/>
                    </a:lnTo>
                    <a:lnTo>
                      <a:pt x="73" y="44"/>
                    </a:lnTo>
                    <a:lnTo>
                      <a:pt x="70" y="44"/>
                    </a:lnTo>
                    <a:lnTo>
                      <a:pt x="66" y="45"/>
                    </a:lnTo>
                    <a:lnTo>
                      <a:pt x="64" y="47"/>
                    </a:lnTo>
                    <a:lnTo>
                      <a:pt x="58" y="49"/>
                    </a:lnTo>
                    <a:lnTo>
                      <a:pt x="53" y="54"/>
                    </a:lnTo>
                    <a:lnTo>
                      <a:pt x="49" y="59"/>
                    </a:lnTo>
                    <a:lnTo>
                      <a:pt x="45" y="66"/>
                    </a:lnTo>
                    <a:lnTo>
                      <a:pt x="44" y="69"/>
                    </a:lnTo>
                    <a:lnTo>
                      <a:pt x="44" y="72"/>
                    </a:lnTo>
                    <a:lnTo>
                      <a:pt x="43" y="76"/>
                    </a:lnTo>
                    <a:lnTo>
                      <a:pt x="43" y="79"/>
                    </a:lnTo>
                    <a:lnTo>
                      <a:pt x="43" y="79"/>
                    </a:lnTo>
                    <a:lnTo>
                      <a:pt x="43" y="837"/>
                    </a:lnTo>
                    <a:lnTo>
                      <a:pt x="0" y="837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1" y="57"/>
                    </a:lnTo>
                    <a:lnTo>
                      <a:pt x="2" y="50"/>
                    </a:lnTo>
                    <a:lnTo>
                      <a:pt x="5" y="43"/>
                    </a:lnTo>
                    <a:lnTo>
                      <a:pt x="7" y="37"/>
                    </a:lnTo>
                    <a:lnTo>
                      <a:pt x="11" y="31"/>
                    </a:lnTo>
                    <a:lnTo>
                      <a:pt x="15" y="26"/>
                    </a:lnTo>
                    <a:lnTo>
                      <a:pt x="20" y="21"/>
                    </a:lnTo>
                    <a:lnTo>
                      <a:pt x="25" y="16"/>
                    </a:lnTo>
                    <a:lnTo>
                      <a:pt x="30" y="13"/>
                    </a:lnTo>
                    <a:lnTo>
                      <a:pt x="35" y="9"/>
                    </a:lnTo>
                    <a:lnTo>
                      <a:pt x="41" y="6"/>
                    </a:lnTo>
                    <a:lnTo>
                      <a:pt x="48" y="4"/>
                    </a:lnTo>
                    <a:lnTo>
                      <a:pt x="54" y="1"/>
                    </a:lnTo>
                    <a:lnTo>
                      <a:pt x="60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68" y="0"/>
                    </a:lnTo>
                    <a:lnTo>
                      <a:pt x="284" y="0"/>
                    </a:lnTo>
                    <a:lnTo>
                      <a:pt x="284" y="4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701360" y="3908880"/>
                <a:ext cx="6939720" cy="25128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1701360" y="3908880"/>
                <a:ext cx="6939720" cy="251280"/>
              </a:xfrm>
              <a:custGeom>
                <a:avLst/>
                <a:gdLst/>
                <a:ahLst/>
                <a:rect l="l" t="t" r="r" b="b"/>
                <a:pathLst>
                  <a:path w="6153" h="174">
                    <a:moveTo>
                      <a:pt x="2171" y="44"/>
                    </a:moveTo>
                    <a:lnTo>
                      <a:pt x="3255" y="44"/>
                    </a:lnTo>
                    <a:lnTo>
                      <a:pt x="3255" y="164"/>
                    </a:lnTo>
                    <a:lnTo>
                      <a:pt x="3256" y="167"/>
                    </a:lnTo>
                    <a:lnTo>
                      <a:pt x="3256" y="168"/>
                    </a:lnTo>
                    <a:lnTo>
                      <a:pt x="3257" y="169"/>
                    </a:lnTo>
                    <a:lnTo>
                      <a:pt x="3259" y="171"/>
                    </a:lnTo>
                    <a:lnTo>
                      <a:pt x="3260" y="172"/>
                    </a:lnTo>
                    <a:lnTo>
                      <a:pt x="3262" y="173"/>
                    </a:lnTo>
                    <a:lnTo>
                      <a:pt x="3264" y="173"/>
                    </a:lnTo>
                    <a:lnTo>
                      <a:pt x="3266" y="174"/>
                    </a:lnTo>
                    <a:lnTo>
                      <a:pt x="3266" y="174"/>
                    </a:lnTo>
                    <a:lnTo>
                      <a:pt x="3473" y="174"/>
                    </a:lnTo>
                    <a:lnTo>
                      <a:pt x="3475" y="173"/>
                    </a:lnTo>
                    <a:lnTo>
                      <a:pt x="3477" y="173"/>
                    </a:lnTo>
                    <a:lnTo>
                      <a:pt x="3479" y="172"/>
                    </a:lnTo>
                    <a:lnTo>
                      <a:pt x="3480" y="171"/>
                    </a:lnTo>
                    <a:lnTo>
                      <a:pt x="3482" y="169"/>
                    </a:lnTo>
                    <a:lnTo>
                      <a:pt x="3483" y="168"/>
                    </a:lnTo>
                    <a:lnTo>
                      <a:pt x="3484" y="167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164"/>
                    </a:lnTo>
                    <a:lnTo>
                      <a:pt x="3484" y="44"/>
                    </a:lnTo>
                    <a:lnTo>
                      <a:pt x="6008" y="44"/>
                    </a:lnTo>
                    <a:lnTo>
                      <a:pt x="6008" y="99"/>
                    </a:lnTo>
                    <a:lnTo>
                      <a:pt x="6008" y="100"/>
                    </a:lnTo>
                    <a:lnTo>
                      <a:pt x="6009" y="103"/>
                    </a:lnTo>
                    <a:lnTo>
                      <a:pt x="6010" y="104"/>
                    </a:lnTo>
                    <a:lnTo>
                      <a:pt x="6011" y="105"/>
                    </a:lnTo>
                    <a:lnTo>
                      <a:pt x="6013" y="106"/>
                    </a:lnTo>
                    <a:lnTo>
                      <a:pt x="6015" y="108"/>
                    </a:lnTo>
                    <a:lnTo>
                      <a:pt x="6016" y="108"/>
                    </a:lnTo>
                    <a:lnTo>
                      <a:pt x="6019" y="108"/>
                    </a:lnTo>
                    <a:lnTo>
                      <a:pt x="6019" y="108"/>
                    </a:lnTo>
                    <a:lnTo>
                      <a:pt x="6142" y="108"/>
                    </a:lnTo>
                    <a:lnTo>
                      <a:pt x="6144" y="108"/>
                    </a:lnTo>
                    <a:lnTo>
                      <a:pt x="6147" y="108"/>
                    </a:lnTo>
                    <a:lnTo>
                      <a:pt x="6148" y="106"/>
                    </a:lnTo>
                    <a:lnTo>
                      <a:pt x="6149" y="105"/>
                    </a:lnTo>
                    <a:lnTo>
                      <a:pt x="6150" y="104"/>
                    </a:lnTo>
                    <a:lnTo>
                      <a:pt x="6152" y="103"/>
                    </a:lnTo>
                    <a:lnTo>
                      <a:pt x="6153" y="100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99"/>
                    </a:lnTo>
                    <a:lnTo>
                      <a:pt x="6153" y="0"/>
                    </a:lnTo>
                    <a:lnTo>
                      <a:pt x="0" y="0"/>
                    </a:lnTo>
                    <a:lnTo>
                      <a:pt x="0" y="44"/>
                    </a:lnTo>
                    <a:lnTo>
                      <a:pt x="1868" y="44"/>
                    </a:lnTo>
                    <a:lnTo>
                      <a:pt x="1868" y="53"/>
                    </a:lnTo>
                    <a:lnTo>
                      <a:pt x="1868" y="56"/>
                    </a:lnTo>
                    <a:lnTo>
                      <a:pt x="1869" y="58"/>
                    </a:lnTo>
                    <a:lnTo>
                      <a:pt x="1869" y="60"/>
                    </a:lnTo>
                    <a:lnTo>
                      <a:pt x="1870" y="61"/>
                    </a:lnTo>
                    <a:lnTo>
                      <a:pt x="1873" y="62"/>
                    </a:lnTo>
                    <a:lnTo>
                      <a:pt x="1874" y="63"/>
                    </a:lnTo>
                    <a:lnTo>
                      <a:pt x="1877" y="65"/>
                    </a:lnTo>
                    <a:lnTo>
                      <a:pt x="1879" y="65"/>
                    </a:lnTo>
                    <a:lnTo>
                      <a:pt x="1879" y="65"/>
                    </a:lnTo>
                    <a:lnTo>
                      <a:pt x="2022" y="65"/>
                    </a:lnTo>
                    <a:lnTo>
                      <a:pt x="2024" y="65"/>
                    </a:lnTo>
                    <a:lnTo>
                      <a:pt x="2026" y="66"/>
                    </a:lnTo>
                    <a:lnTo>
                      <a:pt x="2028" y="66"/>
                    </a:lnTo>
                    <a:lnTo>
                      <a:pt x="2029" y="67"/>
                    </a:lnTo>
                    <a:lnTo>
                      <a:pt x="2031" y="68"/>
                    </a:lnTo>
                    <a:lnTo>
                      <a:pt x="2032" y="70"/>
                    </a:lnTo>
                    <a:lnTo>
                      <a:pt x="2033" y="72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73"/>
                    </a:lnTo>
                    <a:lnTo>
                      <a:pt x="2033" y="164"/>
                    </a:lnTo>
                    <a:lnTo>
                      <a:pt x="2033" y="167"/>
                    </a:lnTo>
                    <a:lnTo>
                      <a:pt x="2033" y="168"/>
                    </a:lnTo>
                    <a:lnTo>
                      <a:pt x="2034" y="169"/>
                    </a:lnTo>
                    <a:lnTo>
                      <a:pt x="2036" y="171"/>
                    </a:lnTo>
                    <a:lnTo>
                      <a:pt x="2038" y="172"/>
                    </a:lnTo>
                    <a:lnTo>
                      <a:pt x="2039" y="173"/>
                    </a:lnTo>
                    <a:lnTo>
                      <a:pt x="2042" y="173"/>
                    </a:lnTo>
                    <a:lnTo>
                      <a:pt x="2044" y="174"/>
                    </a:lnTo>
                    <a:lnTo>
                      <a:pt x="2044" y="174"/>
                    </a:lnTo>
                    <a:lnTo>
                      <a:pt x="2160" y="174"/>
                    </a:lnTo>
                    <a:lnTo>
                      <a:pt x="2162" y="173"/>
                    </a:lnTo>
                    <a:lnTo>
                      <a:pt x="2165" y="173"/>
                    </a:lnTo>
                    <a:lnTo>
                      <a:pt x="2166" y="172"/>
                    </a:lnTo>
                    <a:lnTo>
                      <a:pt x="2167" y="171"/>
                    </a:lnTo>
                    <a:lnTo>
                      <a:pt x="2170" y="169"/>
                    </a:lnTo>
                    <a:lnTo>
                      <a:pt x="2170" y="168"/>
                    </a:lnTo>
                    <a:lnTo>
                      <a:pt x="2171" y="167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164"/>
                    </a:lnTo>
                    <a:lnTo>
                      <a:pt x="2171" y="44"/>
                    </a:lnTo>
                    <a:lnTo>
                      <a:pt x="2171" y="4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035240" y="4032000"/>
                <a:ext cx="1507680" cy="103680"/>
              </a:xfrm>
              <a:custGeom>
                <a:avLst/>
                <a:gdLst/>
                <a:ahLst/>
                <a:rect l="l" t="t" r="r" b="b"/>
                <a:pathLst>
                  <a:path w="1335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  <a:close/>
                    <a:moveTo>
                      <a:pt x="1335" y="34"/>
                    </a:moveTo>
                    <a:lnTo>
                      <a:pt x="1334" y="31"/>
                    </a:lnTo>
                    <a:lnTo>
                      <a:pt x="1334" y="28"/>
                    </a:lnTo>
                    <a:lnTo>
                      <a:pt x="1333" y="24"/>
                    </a:lnTo>
                    <a:lnTo>
                      <a:pt x="1331" y="22"/>
                    </a:lnTo>
                    <a:lnTo>
                      <a:pt x="1329" y="16"/>
                    </a:lnTo>
                    <a:lnTo>
                      <a:pt x="1324" y="10"/>
                    </a:lnTo>
                    <a:lnTo>
                      <a:pt x="1319" y="7"/>
                    </a:lnTo>
                    <a:lnTo>
                      <a:pt x="1313" y="3"/>
                    </a:lnTo>
                    <a:lnTo>
                      <a:pt x="1309" y="2"/>
                    </a:lnTo>
                    <a:lnTo>
                      <a:pt x="1306" y="2"/>
                    </a:lnTo>
                    <a:lnTo>
                      <a:pt x="1303" y="0"/>
                    </a:lnTo>
                    <a:lnTo>
                      <a:pt x="1299" y="0"/>
                    </a:lnTo>
                    <a:lnTo>
                      <a:pt x="1295" y="0"/>
                    </a:lnTo>
                    <a:lnTo>
                      <a:pt x="1291" y="2"/>
                    </a:lnTo>
                    <a:lnTo>
                      <a:pt x="1289" y="2"/>
                    </a:lnTo>
                    <a:lnTo>
                      <a:pt x="1285" y="3"/>
                    </a:lnTo>
                    <a:lnTo>
                      <a:pt x="1280" y="7"/>
                    </a:lnTo>
                    <a:lnTo>
                      <a:pt x="1275" y="10"/>
                    </a:lnTo>
                    <a:lnTo>
                      <a:pt x="1270" y="16"/>
                    </a:lnTo>
                    <a:lnTo>
                      <a:pt x="1268" y="22"/>
                    </a:lnTo>
                    <a:lnTo>
                      <a:pt x="1266" y="24"/>
                    </a:lnTo>
                    <a:lnTo>
                      <a:pt x="1265" y="28"/>
                    </a:lnTo>
                    <a:lnTo>
                      <a:pt x="1265" y="31"/>
                    </a:lnTo>
                    <a:lnTo>
                      <a:pt x="1265" y="34"/>
                    </a:lnTo>
                    <a:lnTo>
                      <a:pt x="1265" y="38"/>
                    </a:lnTo>
                    <a:lnTo>
                      <a:pt x="1265" y="42"/>
                    </a:lnTo>
                    <a:lnTo>
                      <a:pt x="1266" y="46"/>
                    </a:lnTo>
                    <a:lnTo>
                      <a:pt x="1268" y="48"/>
                    </a:lnTo>
                    <a:lnTo>
                      <a:pt x="1270" y="55"/>
                    </a:lnTo>
                    <a:lnTo>
                      <a:pt x="1275" y="61"/>
                    </a:lnTo>
                    <a:lnTo>
                      <a:pt x="1280" y="65"/>
                    </a:lnTo>
                    <a:lnTo>
                      <a:pt x="1285" y="69"/>
                    </a:lnTo>
                    <a:lnTo>
                      <a:pt x="1289" y="70"/>
                    </a:lnTo>
                    <a:lnTo>
                      <a:pt x="1291" y="70"/>
                    </a:lnTo>
                    <a:lnTo>
                      <a:pt x="1295" y="71"/>
                    </a:lnTo>
                    <a:lnTo>
                      <a:pt x="1299" y="71"/>
                    </a:lnTo>
                    <a:lnTo>
                      <a:pt x="1303" y="71"/>
                    </a:lnTo>
                    <a:lnTo>
                      <a:pt x="1306" y="70"/>
                    </a:lnTo>
                    <a:lnTo>
                      <a:pt x="1309" y="70"/>
                    </a:lnTo>
                    <a:lnTo>
                      <a:pt x="1313" y="69"/>
                    </a:lnTo>
                    <a:lnTo>
                      <a:pt x="1319" y="65"/>
                    </a:lnTo>
                    <a:lnTo>
                      <a:pt x="1324" y="61"/>
                    </a:lnTo>
                    <a:lnTo>
                      <a:pt x="1329" y="55"/>
                    </a:lnTo>
                    <a:lnTo>
                      <a:pt x="1331" y="48"/>
                    </a:lnTo>
                    <a:lnTo>
                      <a:pt x="1333" y="46"/>
                    </a:lnTo>
                    <a:lnTo>
                      <a:pt x="1334" y="42"/>
                    </a:lnTo>
                    <a:lnTo>
                      <a:pt x="1334" y="38"/>
                    </a:lnTo>
                    <a:lnTo>
                      <a:pt x="1335" y="34"/>
                    </a:lnTo>
                    <a:lnTo>
                      <a:pt x="1335" y="34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035240" y="4032000"/>
                <a:ext cx="78840" cy="1036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70" y="31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2"/>
                    </a:lnTo>
                    <a:lnTo>
                      <a:pt x="63" y="16"/>
                    </a:lnTo>
                    <a:lnTo>
                      <a:pt x="58" y="10"/>
                    </a:lnTo>
                    <a:lnTo>
                      <a:pt x="53" y="7"/>
                    </a:lnTo>
                    <a:lnTo>
                      <a:pt x="47" y="3"/>
                    </a:lnTo>
                    <a:lnTo>
                      <a:pt x="43" y="2"/>
                    </a:lnTo>
                    <a:lnTo>
                      <a:pt x="41" y="2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2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2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3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3" y="71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3" y="70"/>
                    </a:lnTo>
                    <a:lnTo>
                      <a:pt x="47" y="69"/>
                    </a:lnTo>
                    <a:lnTo>
                      <a:pt x="53" y="65"/>
                    </a:lnTo>
                    <a:lnTo>
                      <a:pt x="58" y="61"/>
                    </a:lnTo>
                    <a:lnTo>
                      <a:pt x="63" y="55"/>
                    </a:lnTo>
                    <a:lnTo>
                      <a:pt x="66" y="48"/>
                    </a:lnTo>
                    <a:lnTo>
                      <a:pt x="67" y="46"/>
                    </a:lnTo>
                    <a:lnTo>
                      <a:pt x="68" y="42"/>
                    </a:lnTo>
                    <a:lnTo>
                      <a:pt x="70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463360" y="4032000"/>
                <a:ext cx="79200" cy="10368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4"/>
                    </a:moveTo>
                    <a:lnTo>
                      <a:pt x="69" y="31"/>
                    </a:lnTo>
                    <a:lnTo>
                      <a:pt x="69" y="28"/>
                    </a:lnTo>
                    <a:lnTo>
                      <a:pt x="68" y="24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1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0"/>
                    </a:lnTo>
                    <a:lnTo>
                      <a:pt x="5" y="16"/>
                    </a:lnTo>
                    <a:lnTo>
                      <a:pt x="3" y="22"/>
                    </a:lnTo>
                    <a:lnTo>
                      <a:pt x="1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8"/>
                    </a:lnTo>
                    <a:lnTo>
                      <a:pt x="0" y="42"/>
                    </a:lnTo>
                    <a:lnTo>
                      <a:pt x="1" y="46"/>
                    </a:lnTo>
                    <a:lnTo>
                      <a:pt x="3" y="48"/>
                    </a:lnTo>
                    <a:lnTo>
                      <a:pt x="5" y="55"/>
                    </a:lnTo>
                    <a:lnTo>
                      <a:pt x="10" y="61"/>
                    </a:lnTo>
                    <a:lnTo>
                      <a:pt x="15" y="65"/>
                    </a:lnTo>
                    <a:lnTo>
                      <a:pt x="20" y="69"/>
                    </a:lnTo>
                    <a:lnTo>
                      <a:pt x="24" y="70"/>
                    </a:lnTo>
                    <a:lnTo>
                      <a:pt x="26" y="70"/>
                    </a:lnTo>
                    <a:lnTo>
                      <a:pt x="30" y="71"/>
                    </a:lnTo>
                    <a:lnTo>
                      <a:pt x="34" y="71"/>
                    </a:lnTo>
                    <a:lnTo>
                      <a:pt x="38" y="71"/>
                    </a:lnTo>
                    <a:lnTo>
                      <a:pt x="41" y="70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4" y="65"/>
                    </a:lnTo>
                    <a:lnTo>
                      <a:pt x="59" y="61"/>
                    </a:lnTo>
                    <a:lnTo>
                      <a:pt x="64" y="55"/>
                    </a:lnTo>
                    <a:lnTo>
                      <a:pt x="66" y="48"/>
                    </a:lnTo>
                    <a:lnTo>
                      <a:pt x="68" y="46"/>
                    </a:lnTo>
                    <a:lnTo>
                      <a:pt x="69" y="42"/>
                    </a:lnTo>
                    <a:lnTo>
                      <a:pt x="69" y="38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225320" y="4058640"/>
                <a:ext cx="3815640" cy="1365840"/>
              </a:xfrm>
              <a:custGeom>
                <a:avLst/>
                <a:gdLst/>
                <a:ahLst/>
                <a:rect l="l" t="t" r="r" b="b"/>
                <a:pathLst>
                  <a:path w="3384" h="951">
                    <a:moveTo>
                      <a:pt x="1350" y="862"/>
                    </a:moveTo>
                    <a:lnTo>
                      <a:pt x="1350" y="853"/>
                    </a:lnTo>
                    <a:lnTo>
                      <a:pt x="1348" y="846"/>
                    </a:lnTo>
                    <a:lnTo>
                      <a:pt x="1346" y="838"/>
                    </a:lnTo>
                    <a:lnTo>
                      <a:pt x="1343" y="832"/>
                    </a:lnTo>
                    <a:lnTo>
                      <a:pt x="1341" y="824"/>
                    </a:lnTo>
                    <a:lnTo>
                      <a:pt x="1337" y="818"/>
                    </a:lnTo>
                    <a:lnTo>
                      <a:pt x="1332" y="812"/>
                    </a:lnTo>
                    <a:lnTo>
                      <a:pt x="1327" y="807"/>
                    </a:lnTo>
                    <a:lnTo>
                      <a:pt x="1322" y="802"/>
                    </a:lnTo>
                    <a:lnTo>
                      <a:pt x="1316" y="798"/>
                    </a:lnTo>
                    <a:lnTo>
                      <a:pt x="1310" y="794"/>
                    </a:lnTo>
                    <a:lnTo>
                      <a:pt x="1303" y="790"/>
                    </a:lnTo>
                    <a:lnTo>
                      <a:pt x="1296" y="788"/>
                    </a:lnTo>
                    <a:lnTo>
                      <a:pt x="1288" y="787"/>
                    </a:lnTo>
                    <a:lnTo>
                      <a:pt x="1281" y="785"/>
                    </a:lnTo>
                    <a:lnTo>
                      <a:pt x="1273" y="784"/>
                    </a:lnTo>
                    <a:lnTo>
                      <a:pt x="1264" y="785"/>
                    </a:lnTo>
                    <a:lnTo>
                      <a:pt x="1257" y="787"/>
                    </a:lnTo>
                    <a:lnTo>
                      <a:pt x="1249" y="788"/>
                    </a:lnTo>
                    <a:lnTo>
                      <a:pt x="1242" y="790"/>
                    </a:lnTo>
                    <a:lnTo>
                      <a:pt x="1236" y="794"/>
                    </a:lnTo>
                    <a:lnTo>
                      <a:pt x="1229" y="798"/>
                    </a:lnTo>
                    <a:lnTo>
                      <a:pt x="1223" y="802"/>
                    </a:lnTo>
                    <a:lnTo>
                      <a:pt x="1217" y="807"/>
                    </a:lnTo>
                    <a:lnTo>
                      <a:pt x="1212" y="812"/>
                    </a:lnTo>
                    <a:lnTo>
                      <a:pt x="1207" y="818"/>
                    </a:lnTo>
                    <a:lnTo>
                      <a:pt x="1203" y="824"/>
                    </a:lnTo>
                    <a:lnTo>
                      <a:pt x="1201" y="832"/>
                    </a:lnTo>
                    <a:lnTo>
                      <a:pt x="1197" y="838"/>
                    </a:lnTo>
                    <a:lnTo>
                      <a:pt x="1195" y="846"/>
                    </a:lnTo>
                    <a:lnTo>
                      <a:pt x="1194" y="853"/>
                    </a:lnTo>
                    <a:lnTo>
                      <a:pt x="1193" y="862"/>
                    </a:lnTo>
                    <a:lnTo>
                      <a:pt x="1194" y="870"/>
                    </a:lnTo>
                    <a:lnTo>
                      <a:pt x="1195" y="877"/>
                    </a:lnTo>
                    <a:lnTo>
                      <a:pt x="1197" y="885"/>
                    </a:lnTo>
                    <a:lnTo>
                      <a:pt x="1201" y="893"/>
                    </a:lnTo>
                    <a:lnTo>
                      <a:pt x="1203" y="900"/>
                    </a:lnTo>
                    <a:lnTo>
                      <a:pt x="1207" y="907"/>
                    </a:lnTo>
                    <a:lnTo>
                      <a:pt x="1212" y="913"/>
                    </a:lnTo>
                    <a:lnTo>
                      <a:pt x="1217" y="918"/>
                    </a:lnTo>
                    <a:lnTo>
                      <a:pt x="1223" y="923"/>
                    </a:lnTo>
                    <a:lnTo>
                      <a:pt x="1229" y="928"/>
                    </a:lnTo>
                    <a:lnTo>
                      <a:pt x="1236" y="932"/>
                    </a:lnTo>
                    <a:lnTo>
                      <a:pt x="1242" y="936"/>
                    </a:lnTo>
                    <a:lnTo>
                      <a:pt x="1249" y="938"/>
                    </a:lnTo>
                    <a:lnTo>
                      <a:pt x="1257" y="941"/>
                    </a:lnTo>
                    <a:lnTo>
                      <a:pt x="1264" y="942"/>
                    </a:lnTo>
                    <a:lnTo>
                      <a:pt x="1273" y="942"/>
                    </a:lnTo>
                    <a:lnTo>
                      <a:pt x="1281" y="942"/>
                    </a:lnTo>
                    <a:lnTo>
                      <a:pt x="1288" y="941"/>
                    </a:lnTo>
                    <a:lnTo>
                      <a:pt x="1296" y="938"/>
                    </a:lnTo>
                    <a:lnTo>
                      <a:pt x="1303" y="936"/>
                    </a:lnTo>
                    <a:lnTo>
                      <a:pt x="1310" y="932"/>
                    </a:lnTo>
                    <a:lnTo>
                      <a:pt x="1316" y="928"/>
                    </a:lnTo>
                    <a:lnTo>
                      <a:pt x="1322" y="923"/>
                    </a:lnTo>
                    <a:lnTo>
                      <a:pt x="1327" y="918"/>
                    </a:lnTo>
                    <a:lnTo>
                      <a:pt x="1332" y="913"/>
                    </a:lnTo>
                    <a:lnTo>
                      <a:pt x="1337" y="907"/>
                    </a:lnTo>
                    <a:lnTo>
                      <a:pt x="1341" y="900"/>
                    </a:lnTo>
                    <a:lnTo>
                      <a:pt x="1343" y="893"/>
                    </a:lnTo>
                    <a:lnTo>
                      <a:pt x="1346" y="885"/>
                    </a:lnTo>
                    <a:lnTo>
                      <a:pt x="1348" y="877"/>
                    </a:lnTo>
                    <a:lnTo>
                      <a:pt x="1350" y="870"/>
                    </a:lnTo>
                    <a:lnTo>
                      <a:pt x="1350" y="862"/>
                    </a:lnTo>
                    <a:lnTo>
                      <a:pt x="1350" y="862"/>
                    </a:lnTo>
                    <a:close/>
                    <a:moveTo>
                      <a:pt x="1605" y="862"/>
                    </a:moveTo>
                    <a:lnTo>
                      <a:pt x="1605" y="853"/>
                    </a:lnTo>
                    <a:lnTo>
                      <a:pt x="1604" y="846"/>
                    </a:lnTo>
                    <a:lnTo>
                      <a:pt x="1603" y="838"/>
                    </a:lnTo>
                    <a:lnTo>
                      <a:pt x="1600" y="832"/>
                    </a:lnTo>
                    <a:lnTo>
                      <a:pt x="1596" y="824"/>
                    </a:lnTo>
                    <a:lnTo>
                      <a:pt x="1593" y="818"/>
                    </a:lnTo>
                    <a:lnTo>
                      <a:pt x="1588" y="812"/>
                    </a:lnTo>
                    <a:lnTo>
                      <a:pt x="1583" y="807"/>
                    </a:lnTo>
                    <a:lnTo>
                      <a:pt x="1578" y="802"/>
                    </a:lnTo>
                    <a:lnTo>
                      <a:pt x="1571" y="798"/>
                    </a:lnTo>
                    <a:lnTo>
                      <a:pt x="1565" y="794"/>
                    </a:lnTo>
                    <a:lnTo>
                      <a:pt x="1559" y="790"/>
                    </a:lnTo>
                    <a:lnTo>
                      <a:pt x="1551" y="788"/>
                    </a:lnTo>
                    <a:lnTo>
                      <a:pt x="1544" y="787"/>
                    </a:lnTo>
                    <a:lnTo>
                      <a:pt x="1536" y="785"/>
                    </a:lnTo>
                    <a:lnTo>
                      <a:pt x="1529" y="784"/>
                    </a:lnTo>
                    <a:lnTo>
                      <a:pt x="1520" y="785"/>
                    </a:lnTo>
                    <a:lnTo>
                      <a:pt x="1512" y="787"/>
                    </a:lnTo>
                    <a:lnTo>
                      <a:pt x="1505" y="788"/>
                    </a:lnTo>
                    <a:lnTo>
                      <a:pt x="1497" y="790"/>
                    </a:lnTo>
                    <a:lnTo>
                      <a:pt x="1491" y="794"/>
                    </a:lnTo>
                    <a:lnTo>
                      <a:pt x="1485" y="798"/>
                    </a:lnTo>
                    <a:lnTo>
                      <a:pt x="1479" y="802"/>
                    </a:lnTo>
                    <a:lnTo>
                      <a:pt x="1472" y="807"/>
                    </a:lnTo>
                    <a:lnTo>
                      <a:pt x="1467" y="812"/>
                    </a:lnTo>
                    <a:lnTo>
                      <a:pt x="1464" y="818"/>
                    </a:lnTo>
                    <a:lnTo>
                      <a:pt x="1459" y="824"/>
                    </a:lnTo>
                    <a:lnTo>
                      <a:pt x="1456" y="832"/>
                    </a:lnTo>
                    <a:lnTo>
                      <a:pt x="1452" y="838"/>
                    </a:lnTo>
                    <a:lnTo>
                      <a:pt x="1451" y="846"/>
                    </a:lnTo>
                    <a:lnTo>
                      <a:pt x="1450" y="853"/>
                    </a:lnTo>
                    <a:lnTo>
                      <a:pt x="1450" y="862"/>
                    </a:lnTo>
                    <a:lnTo>
                      <a:pt x="1450" y="870"/>
                    </a:lnTo>
                    <a:lnTo>
                      <a:pt x="1451" y="877"/>
                    </a:lnTo>
                    <a:lnTo>
                      <a:pt x="1452" y="885"/>
                    </a:lnTo>
                    <a:lnTo>
                      <a:pt x="1456" y="893"/>
                    </a:lnTo>
                    <a:lnTo>
                      <a:pt x="1459" y="900"/>
                    </a:lnTo>
                    <a:lnTo>
                      <a:pt x="1464" y="907"/>
                    </a:lnTo>
                    <a:lnTo>
                      <a:pt x="1467" y="913"/>
                    </a:lnTo>
                    <a:lnTo>
                      <a:pt x="1472" y="918"/>
                    </a:lnTo>
                    <a:lnTo>
                      <a:pt x="1479" y="923"/>
                    </a:lnTo>
                    <a:lnTo>
                      <a:pt x="1485" y="928"/>
                    </a:lnTo>
                    <a:lnTo>
                      <a:pt x="1491" y="932"/>
                    </a:lnTo>
                    <a:lnTo>
                      <a:pt x="1497" y="936"/>
                    </a:lnTo>
                    <a:lnTo>
                      <a:pt x="1505" y="938"/>
                    </a:lnTo>
                    <a:lnTo>
                      <a:pt x="1512" y="941"/>
                    </a:lnTo>
                    <a:lnTo>
                      <a:pt x="1520" y="942"/>
                    </a:lnTo>
                    <a:lnTo>
                      <a:pt x="1529" y="942"/>
                    </a:lnTo>
                    <a:lnTo>
                      <a:pt x="1536" y="942"/>
                    </a:lnTo>
                    <a:lnTo>
                      <a:pt x="1544" y="941"/>
                    </a:lnTo>
                    <a:lnTo>
                      <a:pt x="1551" y="938"/>
                    </a:lnTo>
                    <a:lnTo>
                      <a:pt x="1559" y="936"/>
                    </a:lnTo>
                    <a:lnTo>
                      <a:pt x="1565" y="932"/>
                    </a:lnTo>
                    <a:lnTo>
                      <a:pt x="1571" y="928"/>
                    </a:lnTo>
                    <a:lnTo>
                      <a:pt x="1578" y="923"/>
                    </a:lnTo>
                    <a:lnTo>
                      <a:pt x="1583" y="918"/>
                    </a:lnTo>
                    <a:lnTo>
                      <a:pt x="1588" y="913"/>
                    </a:lnTo>
                    <a:lnTo>
                      <a:pt x="1593" y="907"/>
                    </a:lnTo>
                    <a:lnTo>
                      <a:pt x="1596" y="900"/>
                    </a:lnTo>
                    <a:lnTo>
                      <a:pt x="1600" y="893"/>
                    </a:lnTo>
                    <a:lnTo>
                      <a:pt x="1603" y="885"/>
                    </a:lnTo>
                    <a:lnTo>
                      <a:pt x="1604" y="877"/>
                    </a:lnTo>
                    <a:lnTo>
                      <a:pt x="1605" y="870"/>
                    </a:lnTo>
                    <a:lnTo>
                      <a:pt x="1605" y="862"/>
                    </a:lnTo>
                    <a:lnTo>
                      <a:pt x="1605" y="862"/>
                    </a:lnTo>
                    <a:close/>
                    <a:moveTo>
                      <a:pt x="1779" y="832"/>
                    </a:moveTo>
                    <a:lnTo>
                      <a:pt x="1751" y="832"/>
                    </a:lnTo>
                    <a:lnTo>
                      <a:pt x="1747" y="832"/>
                    </a:lnTo>
                    <a:lnTo>
                      <a:pt x="1742" y="833"/>
                    </a:lnTo>
                    <a:lnTo>
                      <a:pt x="1738" y="835"/>
                    </a:lnTo>
                    <a:lnTo>
                      <a:pt x="1734" y="836"/>
                    </a:lnTo>
                    <a:lnTo>
                      <a:pt x="1731" y="837"/>
                    </a:lnTo>
                    <a:lnTo>
                      <a:pt x="1728" y="840"/>
                    </a:lnTo>
                    <a:lnTo>
                      <a:pt x="1722" y="845"/>
                    </a:lnTo>
                    <a:lnTo>
                      <a:pt x="1717" y="850"/>
                    </a:lnTo>
                    <a:lnTo>
                      <a:pt x="1714" y="853"/>
                    </a:lnTo>
                    <a:lnTo>
                      <a:pt x="1713" y="857"/>
                    </a:lnTo>
                    <a:lnTo>
                      <a:pt x="1712" y="861"/>
                    </a:lnTo>
                    <a:lnTo>
                      <a:pt x="1710" y="865"/>
                    </a:lnTo>
                    <a:lnTo>
                      <a:pt x="1710" y="869"/>
                    </a:lnTo>
                    <a:lnTo>
                      <a:pt x="1709" y="874"/>
                    </a:lnTo>
                    <a:lnTo>
                      <a:pt x="1710" y="877"/>
                    </a:lnTo>
                    <a:lnTo>
                      <a:pt x="1710" y="881"/>
                    </a:lnTo>
                    <a:lnTo>
                      <a:pt x="1712" y="885"/>
                    </a:lnTo>
                    <a:lnTo>
                      <a:pt x="1713" y="889"/>
                    </a:lnTo>
                    <a:lnTo>
                      <a:pt x="1714" y="893"/>
                    </a:lnTo>
                    <a:lnTo>
                      <a:pt x="1717" y="896"/>
                    </a:lnTo>
                    <a:lnTo>
                      <a:pt x="1722" y="903"/>
                    </a:lnTo>
                    <a:lnTo>
                      <a:pt x="1728" y="908"/>
                    </a:lnTo>
                    <a:lnTo>
                      <a:pt x="1731" y="909"/>
                    </a:lnTo>
                    <a:lnTo>
                      <a:pt x="1734" y="912"/>
                    </a:lnTo>
                    <a:lnTo>
                      <a:pt x="1738" y="913"/>
                    </a:lnTo>
                    <a:lnTo>
                      <a:pt x="1742" y="914"/>
                    </a:lnTo>
                    <a:lnTo>
                      <a:pt x="1747" y="914"/>
                    </a:lnTo>
                    <a:lnTo>
                      <a:pt x="1751" y="914"/>
                    </a:lnTo>
                    <a:lnTo>
                      <a:pt x="1751" y="914"/>
                    </a:lnTo>
                    <a:lnTo>
                      <a:pt x="1791" y="914"/>
                    </a:lnTo>
                    <a:lnTo>
                      <a:pt x="1791" y="919"/>
                    </a:lnTo>
                    <a:lnTo>
                      <a:pt x="1793" y="925"/>
                    </a:lnTo>
                    <a:lnTo>
                      <a:pt x="1796" y="931"/>
                    </a:lnTo>
                    <a:lnTo>
                      <a:pt x="1801" y="936"/>
                    </a:lnTo>
                    <a:lnTo>
                      <a:pt x="1804" y="939"/>
                    </a:lnTo>
                    <a:lnTo>
                      <a:pt x="1811" y="942"/>
                    </a:lnTo>
                    <a:lnTo>
                      <a:pt x="1817" y="944"/>
                    </a:lnTo>
                    <a:lnTo>
                      <a:pt x="1823" y="946"/>
                    </a:lnTo>
                    <a:lnTo>
                      <a:pt x="1829" y="946"/>
                    </a:lnTo>
                    <a:lnTo>
                      <a:pt x="1829" y="946"/>
                    </a:lnTo>
                    <a:lnTo>
                      <a:pt x="2017" y="946"/>
                    </a:lnTo>
                    <a:lnTo>
                      <a:pt x="2024" y="946"/>
                    </a:lnTo>
                    <a:lnTo>
                      <a:pt x="2027" y="946"/>
                    </a:lnTo>
                    <a:lnTo>
                      <a:pt x="2031" y="944"/>
                    </a:lnTo>
                    <a:lnTo>
                      <a:pt x="2035" y="943"/>
                    </a:lnTo>
                    <a:lnTo>
                      <a:pt x="2037" y="942"/>
                    </a:lnTo>
                    <a:lnTo>
                      <a:pt x="2041" y="939"/>
                    </a:lnTo>
                    <a:lnTo>
                      <a:pt x="2045" y="937"/>
                    </a:lnTo>
                    <a:lnTo>
                      <a:pt x="2047" y="936"/>
                    </a:lnTo>
                    <a:lnTo>
                      <a:pt x="2049" y="933"/>
                    </a:lnTo>
                    <a:lnTo>
                      <a:pt x="2051" y="931"/>
                    </a:lnTo>
                    <a:lnTo>
                      <a:pt x="2054" y="928"/>
                    </a:lnTo>
                    <a:lnTo>
                      <a:pt x="2056" y="922"/>
                    </a:lnTo>
                    <a:lnTo>
                      <a:pt x="2059" y="914"/>
                    </a:lnTo>
                    <a:lnTo>
                      <a:pt x="2059" y="914"/>
                    </a:lnTo>
                    <a:lnTo>
                      <a:pt x="2099" y="914"/>
                    </a:lnTo>
                    <a:lnTo>
                      <a:pt x="2103" y="914"/>
                    </a:lnTo>
                    <a:lnTo>
                      <a:pt x="2108" y="914"/>
                    </a:lnTo>
                    <a:lnTo>
                      <a:pt x="2111" y="913"/>
                    </a:lnTo>
                    <a:lnTo>
                      <a:pt x="2115" y="912"/>
                    </a:lnTo>
                    <a:lnTo>
                      <a:pt x="2119" y="909"/>
                    </a:lnTo>
                    <a:lnTo>
                      <a:pt x="2121" y="908"/>
                    </a:lnTo>
                    <a:lnTo>
                      <a:pt x="2128" y="903"/>
                    </a:lnTo>
                    <a:lnTo>
                      <a:pt x="2133" y="896"/>
                    </a:lnTo>
                    <a:lnTo>
                      <a:pt x="2135" y="893"/>
                    </a:lnTo>
                    <a:lnTo>
                      <a:pt x="2136" y="889"/>
                    </a:lnTo>
                    <a:lnTo>
                      <a:pt x="2138" y="885"/>
                    </a:lnTo>
                    <a:lnTo>
                      <a:pt x="2139" y="881"/>
                    </a:lnTo>
                    <a:lnTo>
                      <a:pt x="2139" y="877"/>
                    </a:lnTo>
                    <a:lnTo>
                      <a:pt x="2140" y="874"/>
                    </a:lnTo>
                    <a:lnTo>
                      <a:pt x="2140" y="874"/>
                    </a:lnTo>
                    <a:lnTo>
                      <a:pt x="2139" y="869"/>
                    </a:lnTo>
                    <a:lnTo>
                      <a:pt x="2139" y="865"/>
                    </a:lnTo>
                    <a:lnTo>
                      <a:pt x="2138" y="861"/>
                    </a:lnTo>
                    <a:lnTo>
                      <a:pt x="2136" y="857"/>
                    </a:lnTo>
                    <a:lnTo>
                      <a:pt x="2135" y="853"/>
                    </a:lnTo>
                    <a:lnTo>
                      <a:pt x="2133" y="850"/>
                    </a:lnTo>
                    <a:lnTo>
                      <a:pt x="2128" y="845"/>
                    </a:lnTo>
                    <a:lnTo>
                      <a:pt x="2121" y="840"/>
                    </a:lnTo>
                    <a:lnTo>
                      <a:pt x="2119" y="837"/>
                    </a:lnTo>
                    <a:lnTo>
                      <a:pt x="2115" y="836"/>
                    </a:lnTo>
                    <a:lnTo>
                      <a:pt x="2111" y="835"/>
                    </a:lnTo>
                    <a:lnTo>
                      <a:pt x="2108" y="833"/>
                    </a:lnTo>
                    <a:lnTo>
                      <a:pt x="2103" y="832"/>
                    </a:lnTo>
                    <a:lnTo>
                      <a:pt x="2099" y="832"/>
                    </a:lnTo>
                    <a:lnTo>
                      <a:pt x="2099" y="832"/>
                    </a:lnTo>
                    <a:lnTo>
                      <a:pt x="2070" y="832"/>
                    </a:lnTo>
                    <a:lnTo>
                      <a:pt x="2069" y="830"/>
                    </a:lnTo>
                    <a:lnTo>
                      <a:pt x="2069" y="827"/>
                    </a:lnTo>
                    <a:lnTo>
                      <a:pt x="2068" y="824"/>
                    </a:lnTo>
                    <a:lnTo>
                      <a:pt x="2066" y="822"/>
                    </a:lnTo>
                    <a:lnTo>
                      <a:pt x="2064" y="818"/>
                    </a:lnTo>
                    <a:lnTo>
                      <a:pt x="2060" y="814"/>
                    </a:lnTo>
                    <a:lnTo>
                      <a:pt x="2058" y="811"/>
                    </a:lnTo>
                    <a:lnTo>
                      <a:pt x="2055" y="808"/>
                    </a:lnTo>
                    <a:lnTo>
                      <a:pt x="2053" y="806"/>
                    </a:lnTo>
                    <a:lnTo>
                      <a:pt x="2049" y="804"/>
                    </a:lnTo>
                    <a:lnTo>
                      <a:pt x="2045" y="802"/>
                    </a:lnTo>
                    <a:lnTo>
                      <a:pt x="2041" y="802"/>
                    </a:lnTo>
                    <a:lnTo>
                      <a:pt x="2037" y="800"/>
                    </a:lnTo>
                    <a:lnTo>
                      <a:pt x="2034" y="800"/>
                    </a:lnTo>
                    <a:lnTo>
                      <a:pt x="2034" y="800"/>
                    </a:lnTo>
                    <a:lnTo>
                      <a:pt x="1816" y="800"/>
                    </a:lnTo>
                    <a:lnTo>
                      <a:pt x="1812" y="800"/>
                    </a:lnTo>
                    <a:lnTo>
                      <a:pt x="1808" y="802"/>
                    </a:lnTo>
                    <a:lnTo>
                      <a:pt x="1804" y="802"/>
                    </a:lnTo>
                    <a:lnTo>
                      <a:pt x="1801" y="804"/>
                    </a:lnTo>
                    <a:lnTo>
                      <a:pt x="1797" y="806"/>
                    </a:lnTo>
                    <a:lnTo>
                      <a:pt x="1793" y="808"/>
                    </a:lnTo>
                    <a:lnTo>
                      <a:pt x="1791" y="811"/>
                    </a:lnTo>
                    <a:lnTo>
                      <a:pt x="1787" y="814"/>
                    </a:lnTo>
                    <a:lnTo>
                      <a:pt x="1783" y="818"/>
                    </a:lnTo>
                    <a:lnTo>
                      <a:pt x="1782" y="822"/>
                    </a:lnTo>
                    <a:lnTo>
                      <a:pt x="1781" y="827"/>
                    </a:lnTo>
                    <a:lnTo>
                      <a:pt x="1779" y="832"/>
                    </a:lnTo>
                    <a:lnTo>
                      <a:pt x="1779" y="832"/>
                    </a:lnTo>
                    <a:close/>
                    <a:moveTo>
                      <a:pt x="2237" y="934"/>
                    </a:moveTo>
                    <a:lnTo>
                      <a:pt x="2651" y="934"/>
                    </a:lnTo>
                    <a:lnTo>
                      <a:pt x="2653" y="934"/>
                    </a:lnTo>
                    <a:lnTo>
                      <a:pt x="2655" y="934"/>
                    </a:lnTo>
                    <a:lnTo>
                      <a:pt x="2656" y="933"/>
                    </a:lnTo>
                    <a:lnTo>
                      <a:pt x="2658" y="932"/>
                    </a:lnTo>
                    <a:lnTo>
                      <a:pt x="2659" y="931"/>
                    </a:lnTo>
                    <a:lnTo>
                      <a:pt x="2660" y="929"/>
                    </a:lnTo>
                    <a:lnTo>
                      <a:pt x="2660" y="928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925"/>
                    </a:lnTo>
                    <a:lnTo>
                      <a:pt x="2660" y="818"/>
                    </a:lnTo>
                    <a:lnTo>
                      <a:pt x="2660" y="817"/>
                    </a:lnTo>
                    <a:lnTo>
                      <a:pt x="2660" y="816"/>
                    </a:lnTo>
                    <a:lnTo>
                      <a:pt x="2659" y="813"/>
                    </a:lnTo>
                    <a:lnTo>
                      <a:pt x="2658" y="812"/>
                    </a:lnTo>
                    <a:lnTo>
                      <a:pt x="2656" y="811"/>
                    </a:lnTo>
                    <a:lnTo>
                      <a:pt x="2655" y="811"/>
                    </a:lnTo>
                    <a:lnTo>
                      <a:pt x="2653" y="809"/>
                    </a:lnTo>
                    <a:lnTo>
                      <a:pt x="2651" y="809"/>
                    </a:lnTo>
                    <a:lnTo>
                      <a:pt x="2651" y="809"/>
                    </a:lnTo>
                    <a:lnTo>
                      <a:pt x="2237" y="809"/>
                    </a:lnTo>
                    <a:lnTo>
                      <a:pt x="2235" y="809"/>
                    </a:lnTo>
                    <a:lnTo>
                      <a:pt x="2234" y="811"/>
                    </a:lnTo>
                    <a:lnTo>
                      <a:pt x="2232" y="811"/>
                    </a:lnTo>
                    <a:lnTo>
                      <a:pt x="2230" y="812"/>
                    </a:lnTo>
                    <a:lnTo>
                      <a:pt x="2229" y="813"/>
                    </a:lnTo>
                    <a:lnTo>
                      <a:pt x="2229" y="816"/>
                    </a:lnTo>
                    <a:lnTo>
                      <a:pt x="2228" y="817"/>
                    </a:lnTo>
                    <a:lnTo>
                      <a:pt x="2228" y="818"/>
                    </a:lnTo>
                    <a:lnTo>
                      <a:pt x="2228" y="818"/>
                    </a:lnTo>
                    <a:lnTo>
                      <a:pt x="2228" y="925"/>
                    </a:lnTo>
                    <a:lnTo>
                      <a:pt x="2228" y="928"/>
                    </a:lnTo>
                    <a:lnTo>
                      <a:pt x="2229" y="929"/>
                    </a:lnTo>
                    <a:lnTo>
                      <a:pt x="2229" y="931"/>
                    </a:lnTo>
                    <a:lnTo>
                      <a:pt x="2230" y="932"/>
                    </a:lnTo>
                    <a:lnTo>
                      <a:pt x="2232" y="933"/>
                    </a:lnTo>
                    <a:lnTo>
                      <a:pt x="2234" y="934"/>
                    </a:lnTo>
                    <a:lnTo>
                      <a:pt x="2235" y="934"/>
                    </a:lnTo>
                    <a:lnTo>
                      <a:pt x="2237" y="934"/>
                    </a:lnTo>
                    <a:lnTo>
                      <a:pt x="2237" y="934"/>
                    </a:lnTo>
                    <a:close/>
                    <a:moveTo>
                      <a:pt x="2772" y="837"/>
                    </a:moveTo>
                    <a:lnTo>
                      <a:pt x="2742" y="837"/>
                    </a:lnTo>
                    <a:lnTo>
                      <a:pt x="2738" y="837"/>
                    </a:lnTo>
                    <a:lnTo>
                      <a:pt x="2734" y="837"/>
                    </a:lnTo>
                    <a:lnTo>
                      <a:pt x="2729" y="838"/>
                    </a:lnTo>
                    <a:lnTo>
                      <a:pt x="2725" y="840"/>
                    </a:lnTo>
                    <a:lnTo>
                      <a:pt x="2723" y="842"/>
                    </a:lnTo>
                    <a:lnTo>
                      <a:pt x="2719" y="843"/>
                    </a:lnTo>
                    <a:lnTo>
                      <a:pt x="2713" y="848"/>
                    </a:lnTo>
                    <a:lnTo>
                      <a:pt x="2708" y="855"/>
                    </a:lnTo>
                    <a:lnTo>
                      <a:pt x="2707" y="859"/>
                    </a:lnTo>
                    <a:lnTo>
                      <a:pt x="2704" y="862"/>
                    </a:lnTo>
                    <a:lnTo>
                      <a:pt x="2703" y="866"/>
                    </a:lnTo>
                    <a:lnTo>
                      <a:pt x="2702" y="870"/>
                    </a:lnTo>
                    <a:lnTo>
                      <a:pt x="2702" y="874"/>
                    </a:lnTo>
                    <a:lnTo>
                      <a:pt x="2702" y="877"/>
                    </a:lnTo>
                    <a:lnTo>
                      <a:pt x="2702" y="881"/>
                    </a:lnTo>
                    <a:lnTo>
                      <a:pt x="2702" y="885"/>
                    </a:lnTo>
                    <a:lnTo>
                      <a:pt x="2703" y="889"/>
                    </a:lnTo>
                    <a:lnTo>
                      <a:pt x="2704" y="893"/>
                    </a:lnTo>
                    <a:lnTo>
                      <a:pt x="2707" y="896"/>
                    </a:lnTo>
                    <a:lnTo>
                      <a:pt x="2708" y="899"/>
                    </a:lnTo>
                    <a:lnTo>
                      <a:pt x="2713" y="905"/>
                    </a:lnTo>
                    <a:lnTo>
                      <a:pt x="2719" y="910"/>
                    </a:lnTo>
                    <a:lnTo>
                      <a:pt x="2723" y="912"/>
                    </a:lnTo>
                    <a:lnTo>
                      <a:pt x="2725" y="913"/>
                    </a:lnTo>
                    <a:lnTo>
                      <a:pt x="2729" y="915"/>
                    </a:lnTo>
                    <a:lnTo>
                      <a:pt x="2734" y="915"/>
                    </a:lnTo>
                    <a:lnTo>
                      <a:pt x="2738" y="917"/>
                    </a:lnTo>
                    <a:lnTo>
                      <a:pt x="2742" y="917"/>
                    </a:lnTo>
                    <a:lnTo>
                      <a:pt x="2742" y="917"/>
                    </a:lnTo>
                    <a:lnTo>
                      <a:pt x="2783" y="917"/>
                    </a:lnTo>
                    <a:lnTo>
                      <a:pt x="2783" y="922"/>
                    </a:lnTo>
                    <a:lnTo>
                      <a:pt x="2784" y="928"/>
                    </a:lnTo>
                    <a:lnTo>
                      <a:pt x="2788" y="933"/>
                    </a:lnTo>
                    <a:lnTo>
                      <a:pt x="2792" y="938"/>
                    </a:lnTo>
                    <a:lnTo>
                      <a:pt x="2797" y="942"/>
                    </a:lnTo>
                    <a:lnTo>
                      <a:pt x="2799" y="944"/>
                    </a:lnTo>
                    <a:lnTo>
                      <a:pt x="2803" y="946"/>
                    </a:lnTo>
                    <a:lnTo>
                      <a:pt x="2806" y="948"/>
                    </a:lnTo>
                    <a:lnTo>
                      <a:pt x="2808" y="948"/>
                    </a:lnTo>
                    <a:lnTo>
                      <a:pt x="2812" y="949"/>
                    </a:lnTo>
                    <a:lnTo>
                      <a:pt x="2814" y="951"/>
                    </a:lnTo>
                    <a:lnTo>
                      <a:pt x="2821" y="951"/>
                    </a:lnTo>
                    <a:lnTo>
                      <a:pt x="2821" y="951"/>
                    </a:lnTo>
                    <a:lnTo>
                      <a:pt x="3009" y="951"/>
                    </a:lnTo>
                    <a:lnTo>
                      <a:pt x="3014" y="951"/>
                    </a:lnTo>
                    <a:lnTo>
                      <a:pt x="3017" y="949"/>
                    </a:lnTo>
                    <a:lnTo>
                      <a:pt x="3021" y="949"/>
                    </a:lnTo>
                    <a:lnTo>
                      <a:pt x="3025" y="948"/>
                    </a:lnTo>
                    <a:lnTo>
                      <a:pt x="3031" y="944"/>
                    </a:lnTo>
                    <a:lnTo>
                      <a:pt x="3036" y="942"/>
                    </a:lnTo>
                    <a:lnTo>
                      <a:pt x="3041" y="936"/>
                    </a:lnTo>
                    <a:lnTo>
                      <a:pt x="3044" y="933"/>
                    </a:lnTo>
                    <a:lnTo>
                      <a:pt x="3046" y="931"/>
                    </a:lnTo>
                    <a:lnTo>
                      <a:pt x="3047" y="927"/>
                    </a:lnTo>
                    <a:lnTo>
                      <a:pt x="3049" y="923"/>
                    </a:lnTo>
                    <a:lnTo>
                      <a:pt x="3050" y="920"/>
                    </a:lnTo>
                    <a:lnTo>
                      <a:pt x="3050" y="917"/>
                    </a:lnTo>
                    <a:lnTo>
                      <a:pt x="3050" y="917"/>
                    </a:lnTo>
                    <a:lnTo>
                      <a:pt x="3092" y="917"/>
                    </a:lnTo>
                    <a:lnTo>
                      <a:pt x="3097" y="917"/>
                    </a:lnTo>
                    <a:lnTo>
                      <a:pt x="3101" y="915"/>
                    </a:lnTo>
                    <a:lnTo>
                      <a:pt x="3105" y="915"/>
                    </a:lnTo>
                    <a:lnTo>
                      <a:pt x="3109" y="913"/>
                    </a:lnTo>
                    <a:lnTo>
                      <a:pt x="3113" y="912"/>
                    </a:lnTo>
                    <a:lnTo>
                      <a:pt x="3115" y="910"/>
                    </a:lnTo>
                    <a:lnTo>
                      <a:pt x="3121" y="905"/>
                    </a:lnTo>
                    <a:lnTo>
                      <a:pt x="3126" y="899"/>
                    </a:lnTo>
                    <a:lnTo>
                      <a:pt x="3129" y="896"/>
                    </a:lnTo>
                    <a:lnTo>
                      <a:pt x="3130" y="893"/>
                    </a:lnTo>
                    <a:lnTo>
                      <a:pt x="3131" y="889"/>
                    </a:lnTo>
                    <a:lnTo>
                      <a:pt x="3133" y="885"/>
                    </a:lnTo>
                    <a:lnTo>
                      <a:pt x="3134" y="881"/>
                    </a:lnTo>
                    <a:lnTo>
                      <a:pt x="3134" y="877"/>
                    </a:lnTo>
                    <a:lnTo>
                      <a:pt x="3134" y="877"/>
                    </a:lnTo>
                    <a:lnTo>
                      <a:pt x="3134" y="874"/>
                    </a:lnTo>
                    <a:lnTo>
                      <a:pt x="3133" y="870"/>
                    </a:lnTo>
                    <a:lnTo>
                      <a:pt x="3131" y="866"/>
                    </a:lnTo>
                    <a:lnTo>
                      <a:pt x="3130" y="862"/>
                    </a:lnTo>
                    <a:lnTo>
                      <a:pt x="3129" y="859"/>
                    </a:lnTo>
                    <a:lnTo>
                      <a:pt x="3126" y="855"/>
                    </a:lnTo>
                    <a:lnTo>
                      <a:pt x="3121" y="848"/>
                    </a:lnTo>
                    <a:lnTo>
                      <a:pt x="3115" y="843"/>
                    </a:lnTo>
                    <a:lnTo>
                      <a:pt x="3113" y="842"/>
                    </a:lnTo>
                    <a:lnTo>
                      <a:pt x="3109" y="840"/>
                    </a:lnTo>
                    <a:lnTo>
                      <a:pt x="3105" y="838"/>
                    </a:lnTo>
                    <a:lnTo>
                      <a:pt x="3101" y="837"/>
                    </a:lnTo>
                    <a:lnTo>
                      <a:pt x="3097" y="837"/>
                    </a:lnTo>
                    <a:lnTo>
                      <a:pt x="3092" y="837"/>
                    </a:lnTo>
                    <a:lnTo>
                      <a:pt x="3092" y="837"/>
                    </a:lnTo>
                    <a:lnTo>
                      <a:pt x="3061" y="837"/>
                    </a:lnTo>
                    <a:lnTo>
                      <a:pt x="3061" y="832"/>
                    </a:lnTo>
                    <a:lnTo>
                      <a:pt x="3060" y="827"/>
                    </a:lnTo>
                    <a:lnTo>
                      <a:pt x="3057" y="822"/>
                    </a:lnTo>
                    <a:lnTo>
                      <a:pt x="3055" y="817"/>
                    </a:lnTo>
                    <a:lnTo>
                      <a:pt x="3051" y="814"/>
                    </a:lnTo>
                    <a:lnTo>
                      <a:pt x="3049" y="812"/>
                    </a:lnTo>
                    <a:lnTo>
                      <a:pt x="3045" y="809"/>
                    </a:lnTo>
                    <a:lnTo>
                      <a:pt x="3041" y="807"/>
                    </a:lnTo>
                    <a:lnTo>
                      <a:pt x="3037" y="806"/>
                    </a:lnTo>
                    <a:lnTo>
                      <a:pt x="3034" y="804"/>
                    </a:lnTo>
                    <a:lnTo>
                      <a:pt x="3029" y="803"/>
                    </a:lnTo>
                    <a:lnTo>
                      <a:pt x="3025" y="803"/>
                    </a:lnTo>
                    <a:lnTo>
                      <a:pt x="3025" y="803"/>
                    </a:lnTo>
                    <a:lnTo>
                      <a:pt x="2809" y="803"/>
                    </a:lnTo>
                    <a:lnTo>
                      <a:pt x="2806" y="803"/>
                    </a:lnTo>
                    <a:lnTo>
                      <a:pt x="2802" y="804"/>
                    </a:lnTo>
                    <a:lnTo>
                      <a:pt x="2797" y="806"/>
                    </a:lnTo>
                    <a:lnTo>
                      <a:pt x="2793" y="807"/>
                    </a:lnTo>
                    <a:lnTo>
                      <a:pt x="2789" y="809"/>
                    </a:lnTo>
                    <a:lnTo>
                      <a:pt x="2787" y="812"/>
                    </a:lnTo>
                    <a:lnTo>
                      <a:pt x="2783" y="814"/>
                    </a:lnTo>
                    <a:lnTo>
                      <a:pt x="2780" y="817"/>
                    </a:lnTo>
                    <a:lnTo>
                      <a:pt x="2778" y="822"/>
                    </a:lnTo>
                    <a:lnTo>
                      <a:pt x="2775" y="827"/>
                    </a:lnTo>
                    <a:lnTo>
                      <a:pt x="2773" y="832"/>
                    </a:lnTo>
                    <a:lnTo>
                      <a:pt x="2772" y="837"/>
                    </a:lnTo>
                    <a:lnTo>
                      <a:pt x="2772" y="837"/>
                    </a:lnTo>
                    <a:close/>
                    <a:moveTo>
                      <a:pt x="3384" y="775"/>
                    </a:moveTo>
                    <a:lnTo>
                      <a:pt x="3176" y="775"/>
                    </a:lnTo>
                    <a:lnTo>
                      <a:pt x="3176" y="942"/>
                    </a:lnTo>
                    <a:lnTo>
                      <a:pt x="3384" y="942"/>
                    </a:lnTo>
                    <a:lnTo>
                      <a:pt x="3384" y="775"/>
                    </a:lnTo>
                    <a:lnTo>
                      <a:pt x="3384" y="775"/>
                    </a:lnTo>
                    <a:close/>
                    <a:moveTo>
                      <a:pt x="3000" y="0"/>
                    </a:moveTo>
                    <a:lnTo>
                      <a:pt x="2918" y="0"/>
                    </a:lnTo>
                    <a:lnTo>
                      <a:pt x="2915" y="1"/>
                    </a:lnTo>
                    <a:lnTo>
                      <a:pt x="2911" y="3"/>
                    </a:lnTo>
                    <a:lnTo>
                      <a:pt x="2908" y="4"/>
                    </a:lnTo>
                    <a:lnTo>
                      <a:pt x="2906" y="6"/>
                    </a:lnTo>
                    <a:lnTo>
                      <a:pt x="2903" y="10"/>
                    </a:lnTo>
                    <a:lnTo>
                      <a:pt x="2902" y="13"/>
                    </a:lnTo>
                    <a:lnTo>
                      <a:pt x="2901" y="16"/>
                    </a:lnTo>
                    <a:lnTo>
                      <a:pt x="2901" y="21"/>
                    </a:lnTo>
                    <a:lnTo>
                      <a:pt x="2901" y="21"/>
                    </a:lnTo>
                    <a:lnTo>
                      <a:pt x="2901" y="93"/>
                    </a:lnTo>
                    <a:lnTo>
                      <a:pt x="2901" y="97"/>
                    </a:lnTo>
                    <a:lnTo>
                      <a:pt x="2902" y="101"/>
                    </a:lnTo>
                    <a:lnTo>
                      <a:pt x="2903" y="104"/>
                    </a:lnTo>
                    <a:lnTo>
                      <a:pt x="2906" y="106"/>
                    </a:lnTo>
                    <a:lnTo>
                      <a:pt x="2908" y="109"/>
                    </a:lnTo>
                    <a:lnTo>
                      <a:pt x="2911" y="111"/>
                    </a:lnTo>
                    <a:lnTo>
                      <a:pt x="2915" y="111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2918" y="112"/>
                    </a:lnTo>
                    <a:lnTo>
                      <a:pt x="3000" y="112"/>
                    </a:lnTo>
                    <a:lnTo>
                      <a:pt x="3000" y="0"/>
                    </a:lnTo>
                    <a:lnTo>
                      <a:pt x="3000" y="0"/>
                    </a:lnTo>
                    <a:close/>
                    <a:moveTo>
                      <a:pt x="3000" y="580"/>
                    </a:moveTo>
                    <a:lnTo>
                      <a:pt x="2918" y="580"/>
                    </a:lnTo>
                    <a:lnTo>
                      <a:pt x="2915" y="580"/>
                    </a:lnTo>
                    <a:lnTo>
                      <a:pt x="2911" y="581"/>
                    </a:lnTo>
                    <a:lnTo>
                      <a:pt x="2908" y="583"/>
                    </a:lnTo>
                    <a:lnTo>
                      <a:pt x="2906" y="585"/>
                    </a:lnTo>
                    <a:lnTo>
                      <a:pt x="2903" y="588"/>
                    </a:lnTo>
                    <a:lnTo>
                      <a:pt x="2902" y="591"/>
                    </a:lnTo>
                    <a:lnTo>
                      <a:pt x="2901" y="595"/>
                    </a:lnTo>
                    <a:lnTo>
                      <a:pt x="2901" y="597"/>
                    </a:lnTo>
                    <a:lnTo>
                      <a:pt x="2901" y="597"/>
                    </a:lnTo>
                    <a:lnTo>
                      <a:pt x="2901" y="670"/>
                    </a:lnTo>
                    <a:lnTo>
                      <a:pt x="2901" y="674"/>
                    </a:lnTo>
                    <a:lnTo>
                      <a:pt x="2902" y="678"/>
                    </a:lnTo>
                    <a:lnTo>
                      <a:pt x="2903" y="682"/>
                    </a:lnTo>
                    <a:lnTo>
                      <a:pt x="2906" y="686"/>
                    </a:lnTo>
                    <a:lnTo>
                      <a:pt x="2908" y="688"/>
                    </a:lnTo>
                    <a:lnTo>
                      <a:pt x="2911" y="689"/>
                    </a:lnTo>
                    <a:lnTo>
                      <a:pt x="2915" y="691"/>
                    </a:lnTo>
                    <a:lnTo>
                      <a:pt x="2918" y="691"/>
                    </a:lnTo>
                    <a:lnTo>
                      <a:pt x="2918" y="691"/>
                    </a:lnTo>
                    <a:lnTo>
                      <a:pt x="3000" y="691"/>
                    </a:lnTo>
                    <a:lnTo>
                      <a:pt x="3000" y="580"/>
                    </a:lnTo>
                    <a:lnTo>
                      <a:pt x="3000" y="580"/>
                    </a:lnTo>
                    <a:close/>
                    <a:moveTo>
                      <a:pt x="0" y="880"/>
                    </a:moveTo>
                    <a:lnTo>
                      <a:pt x="0" y="925"/>
                    </a:lnTo>
                    <a:lnTo>
                      <a:pt x="125" y="925"/>
                    </a:lnTo>
                    <a:lnTo>
                      <a:pt x="125" y="880"/>
                    </a:lnTo>
                    <a:lnTo>
                      <a:pt x="0" y="880"/>
                    </a:lnTo>
                    <a:lnTo>
                      <a:pt x="0" y="880"/>
                    </a:lnTo>
                    <a:close/>
                    <a:moveTo>
                      <a:pt x="822" y="880"/>
                    </a:moveTo>
                    <a:lnTo>
                      <a:pt x="822" y="925"/>
                    </a:lnTo>
                    <a:lnTo>
                      <a:pt x="945" y="925"/>
                    </a:lnTo>
                    <a:lnTo>
                      <a:pt x="945" y="880"/>
                    </a:lnTo>
                    <a:lnTo>
                      <a:pt x="822" y="880"/>
                    </a:lnTo>
                    <a:lnTo>
                      <a:pt x="822" y="88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568480" y="5184720"/>
                <a:ext cx="176040" cy="228600"/>
              </a:xfrm>
              <a:custGeom>
                <a:avLst/>
                <a:gdLst/>
                <a:ahLst/>
                <a:rect l="l" t="t" r="r" b="b"/>
                <a:pathLst>
                  <a:path w="157" h="158">
                    <a:moveTo>
                      <a:pt x="157" y="78"/>
                    </a:moveTo>
                    <a:lnTo>
                      <a:pt x="157" y="69"/>
                    </a:lnTo>
                    <a:lnTo>
                      <a:pt x="155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8" y="40"/>
                    </a:lnTo>
                    <a:lnTo>
                      <a:pt x="144" y="34"/>
                    </a:lnTo>
                    <a:lnTo>
                      <a:pt x="139" y="28"/>
                    </a:lnTo>
                    <a:lnTo>
                      <a:pt x="134" y="23"/>
                    </a:lnTo>
                    <a:lnTo>
                      <a:pt x="129" y="18"/>
                    </a:lnTo>
                    <a:lnTo>
                      <a:pt x="123" y="14"/>
                    </a:lnTo>
                    <a:lnTo>
                      <a:pt x="117" y="10"/>
                    </a:lnTo>
                    <a:lnTo>
                      <a:pt x="110" y="6"/>
                    </a:lnTo>
                    <a:lnTo>
                      <a:pt x="103" y="4"/>
                    </a:lnTo>
                    <a:lnTo>
                      <a:pt x="95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1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6"/>
                    </a:lnTo>
                    <a:lnTo>
                      <a:pt x="43" y="10"/>
                    </a:lnTo>
                    <a:lnTo>
                      <a:pt x="36" y="14"/>
                    </a:lnTo>
                    <a:lnTo>
                      <a:pt x="30" y="18"/>
                    </a:lnTo>
                    <a:lnTo>
                      <a:pt x="24" y="23"/>
                    </a:lnTo>
                    <a:lnTo>
                      <a:pt x="19" y="28"/>
                    </a:lnTo>
                    <a:lnTo>
                      <a:pt x="14" y="34"/>
                    </a:lnTo>
                    <a:lnTo>
                      <a:pt x="10" y="40"/>
                    </a:lnTo>
                    <a:lnTo>
                      <a:pt x="8" y="48"/>
                    </a:lnTo>
                    <a:lnTo>
                      <a:pt x="4" y="54"/>
                    </a:lnTo>
                    <a:lnTo>
                      <a:pt x="2" y="62"/>
                    </a:lnTo>
                    <a:lnTo>
                      <a:pt x="1" y="69"/>
                    </a:lnTo>
                    <a:lnTo>
                      <a:pt x="0" y="78"/>
                    </a:lnTo>
                    <a:lnTo>
                      <a:pt x="1" y="86"/>
                    </a:lnTo>
                    <a:lnTo>
                      <a:pt x="2" y="93"/>
                    </a:lnTo>
                    <a:lnTo>
                      <a:pt x="4" y="101"/>
                    </a:lnTo>
                    <a:lnTo>
                      <a:pt x="8" y="109"/>
                    </a:lnTo>
                    <a:lnTo>
                      <a:pt x="10" y="116"/>
                    </a:lnTo>
                    <a:lnTo>
                      <a:pt x="14" y="123"/>
                    </a:lnTo>
                    <a:lnTo>
                      <a:pt x="19" y="129"/>
                    </a:lnTo>
                    <a:lnTo>
                      <a:pt x="24" y="134"/>
                    </a:lnTo>
                    <a:lnTo>
                      <a:pt x="30" y="139"/>
                    </a:lnTo>
                    <a:lnTo>
                      <a:pt x="36" y="144"/>
                    </a:lnTo>
                    <a:lnTo>
                      <a:pt x="43" y="148"/>
                    </a:lnTo>
                    <a:lnTo>
                      <a:pt x="49" y="152"/>
                    </a:lnTo>
                    <a:lnTo>
                      <a:pt x="56" y="154"/>
                    </a:lnTo>
                    <a:lnTo>
                      <a:pt x="64" y="157"/>
                    </a:lnTo>
                    <a:lnTo>
                      <a:pt x="71" y="158"/>
                    </a:lnTo>
                    <a:lnTo>
                      <a:pt x="80" y="158"/>
                    </a:lnTo>
                    <a:lnTo>
                      <a:pt x="88" y="158"/>
                    </a:lnTo>
                    <a:lnTo>
                      <a:pt x="95" y="157"/>
                    </a:lnTo>
                    <a:lnTo>
                      <a:pt x="103" y="154"/>
                    </a:lnTo>
                    <a:lnTo>
                      <a:pt x="110" y="152"/>
                    </a:lnTo>
                    <a:lnTo>
                      <a:pt x="117" y="148"/>
                    </a:lnTo>
                    <a:lnTo>
                      <a:pt x="123" y="144"/>
                    </a:lnTo>
                    <a:lnTo>
                      <a:pt x="129" y="139"/>
                    </a:lnTo>
                    <a:lnTo>
                      <a:pt x="134" y="134"/>
                    </a:lnTo>
                    <a:lnTo>
                      <a:pt x="139" y="129"/>
                    </a:lnTo>
                    <a:lnTo>
                      <a:pt x="144" y="123"/>
                    </a:lnTo>
                    <a:lnTo>
                      <a:pt x="148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5" y="93"/>
                    </a:lnTo>
                    <a:lnTo>
                      <a:pt x="157" y="86"/>
                    </a:lnTo>
                    <a:lnTo>
                      <a:pt x="157" y="78"/>
                    </a:lnTo>
                    <a:lnTo>
                      <a:pt x="157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857920" y="5184720"/>
                <a:ext cx="176040" cy="228600"/>
              </a:xfrm>
              <a:custGeom>
                <a:avLst/>
                <a:gdLst/>
                <a:ahLst/>
                <a:rect l="l" t="t" r="r" b="b"/>
                <a:pathLst>
                  <a:path w="155" h="158">
                    <a:moveTo>
                      <a:pt x="155" y="78"/>
                    </a:moveTo>
                    <a:lnTo>
                      <a:pt x="155" y="69"/>
                    </a:lnTo>
                    <a:lnTo>
                      <a:pt x="154" y="62"/>
                    </a:lnTo>
                    <a:lnTo>
                      <a:pt x="153" y="54"/>
                    </a:lnTo>
                    <a:lnTo>
                      <a:pt x="150" y="48"/>
                    </a:lnTo>
                    <a:lnTo>
                      <a:pt x="146" y="40"/>
                    </a:lnTo>
                    <a:lnTo>
                      <a:pt x="143" y="34"/>
                    </a:lnTo>
                    <a:lnTo>
                      <a:pt x="138" y="28"/>
                    </a:lnTo>
                    <a:lnTo>
                      <a:pt x="133" y="23"/>
                    </a:lnTo>
                    <a:lnTo>
                      <a:pt x="128" y="18"/>
                    </a:lnTo>
                    <a:lnTo>
                      <a:pt x="121" y="14"/>
                    </a:lnTo>
                    <a:lnTo>
                      <a:pt x="115" y="10"/>
                    </a:lnTo>
                    <a:lnTo>
                      <a:pt x="109" y="6"/>
                    </a:lnTo>
                    <a:lnTo>
                      <a:pt x="101" y="4"/>
                    </a:lnTo>
                    <a:lnTo>
                      <a:pt x="94" y="3"/>
                    </a:lnTo>
                    <a:lnTo>
                      <a:pt x="86" y="1"/>
                    </a:lnTo>
                    <a:lnTo>
                      <a:pt x="79" y="0"/>
                    </a:lnTo>
                    <a:lnTo>
                      <a:pt x="70" y="1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7" y="6"/>
                    </a:lnTo>
                    <a:lnTo>
                      <a:pt x="41" y="10"/>
                    </a:lnTo>
                    <a:lnTo>
                      <a:pt x="35" y="14"/>
                    </a:lnTo>
                    <a:lnTo>
                      <a:pt x="29" y="18"/>
                    </a:lnTo>
                    <a:lnTo>
                      <a:pt x="22" y="23"/>
                    </a:lnTo>
                    <a:lnTo>
                      <a:pt x="17" y="28"/>
                    </a:lnTo>
                    <a:lnTo>
                      <a:pt x="14" y="34"/>
                    </a:lnTo>
                    <a:lnTo>
                      <a:pt x="9" y="40"/>
                    </a:lnTo>
                    <a:lnTo>
                      <a:pt x="6" y="48"/>
                    </a:lnTo>
                    <a:lnTo>
                      <a:pt x="2" y="54"/>
                    </a:lnTo>
                    <a:lnTo>
                      <a:pt x="1" y="62"/>
                    </a:lnTo>
                    <a:lnTo>
                      <a:pt x="0" y="69"/>
                    </a:lnTo>
                    <a:lnTo>
                      <a:pt x="0" y="78"/>
                    </a:lnTo>
                    <a:lnTo>
                      <a:pt x="0" y="86"/>
                    </a:lnTo>
                    <a:lnTo>
                      <a:pt x="1" y="93"/>
                    </a:lnTo>
                    <a:lnTo>
                      <a:pt x="2" y="101"/>
                    </a:lnTo>
                    <a:lnTo>
                      <a:pt x="6" y="109"/>
                    </a:lnTo>
                    <a:lnTo>
                      <a:pt x="9" y="116"/>
                    </a:lnTo>
                    <a:lnTo>
                      <a:pt x="14" y="123"/>
                    </a:lnTo>
                    <a:lnTo>
                      <a:pt x="17" y="129"/>
                    </a:lnTo>
                    <a:lnTo>
                      <a:pt x="22" y="134"/>
                    </a:lnTo>
                    <a:lnTo>
                      <a:pt x="29" y="139"/>
                    </a:lnTo>
                    <a:lnTo>
                      <a:pt x="35" y="144"/>
                    </a:lnTo>
                    <a:lnTo>
                      <a:pt x="41" y="148"/>
                    </a:lnTo>
                    <a:lnTo>
                      <a:pt x="47" y="152"/>
                    </a:lnTo>
                    <a:lnTo>
                      <a:pt x="55" y="154"/>
                    </a:lnTo>
                    <a:lnTo>
                      <a:pt x="62" y="157"/>
                    </a:lnTo>
                    <a:lnTo>
                      <a:pt x="70" y="158"/>
                    </a:lnTo>
                    <a:lnTo>
                      <a:pt x="79" y="158"/>
                    </a:lnTo>
                    <a:lnTo>
                      <a:pt x="86" y="158"/>
                    </a:lnTo>
                    <a:lnTo>
                      <a:pt x="94" y="157"/>
                    </a:lnTo>
                    <a:lnTo>
                      <a:pt x="101" y="154"/>
                    </a:lnTo>
                    <a:lnTo>
                      <a:pt x="109" y="152"/>
                    </a:lnTo>
                    <a:lnTo>
                      <a:pt x="115" y="148"/>
                    </a:lnTo>
                    <a:lnTo>
                      <a:pt x="121" y="144"/>
                    </a:lnTo>
                    <a:lnTo>
                      <a:pt x="128" y="139"/>
                    </a:lnTo>
                    <a:lnTo>
                      <a:pt x="133" y="134"/>
                    </a:lnTo>
                    <a:lnTo>
                      <a:pt x="138" y="129"/>
                    </a:lnTo>
                    <a:lnTo>
                      <a:pt x="143" y="123"/>
                    </a:lnTo>
                    <a:lnTo>
                      <a:pt x="146" y="116"/>
                    </a:lnTo>
                    <a:lnTo>
                      <a:pt x="150" y="109"/>
                    </a:lnTo>
                    <a:lnTo>
                      <a:pt x="153" y="101"/>
                    </a:lnTo>
                    <a:lnTo>
                      <a:pt x="154" y="93"/>
                    </a:lnTo>
                    <a:lnTo>
                      <a:pt x="155" y="86"/>
                    </a:lnTo>
                    <a:lnTo>
                      <a:pt x="155" y="78"/>
                    </a:lnTo>
                    <a:lnTo>
                      <a:pt x="155" y="78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6150960" y="5208480"/>
                <a:ext cx="487440" cy="209160"/>
              </a:xfrm>
              <a:custGeom>
                <a:avLst/>
                <a:gdLst/>
                <a:ahLst/>
                <a:rect l="l" t="t" r="r" b="b"/>
                <a:pathLst>
                  <a:path w="431" h="146">
                    <a:moveTo>
                      <a:pt x="70" y="32"/>
                    </a:moveTo>
                    <a:lnTo>
                      <a:pt x="42" y="32"/>
                    </a:lnTo>
                    <a:lnTo>
                      <a:pt x="38" y="32"/>
                    </a:lnTo>
                    <a:lnTo>
                      <a:pt x="33" y="33"/>
                    </a:lnTo>
                    <a:lnTo>
                      <a:pt x="29" y="35"/>
                    </a:lnTo>
                    <a:lnTo>
                      <a:pt x="25" y="36"/>
                    </a:lnTo>
                    <a:lnTo>
                      <a:pt x="22" y="37"/>
                    </a:lnTo>
                    <a:lnTo>
                      <a:pt x="19" y="40"/>
                    </a:lnTo>
                    <a:lnTo>
                      <a:pt x="13" y="45"/>
                    </a:lnTo>
                    <a:lnTo>
                      <a:pt x="8" y="50"/>
                    </a:lnTo>
                    <a:lnTo>
                      <a:pt x="5" y="53"/>
                    </a:lnTo>
                    <a:lnTo>
                      <a:pt x="4" y="57"/>
                    </a:lnTo>
                    <a:lnTo>
                      <a:pt x="3" y="61"/>
                    </a:lnTo>
                    <a:lnTo>
                      <a:pt x="1" y="65"/>
                    </a:lnTo>
                    <a:lnTo>
                      <a:pt x="1" y="69"/>
                    </a:lnTo>
                    <a:lnTo>
                      <a:pt x="0" y="74"/>
                    </a:lnTo>
                    <a:lnTo>
                      <a:pt x="1" y="77"/>
                    </a:lnTo>
                    <a:lnTo>
                      <a:pt x="1" y="81"/>
                    </a:lnTo>
                    <a:lnTo>
                      <a:pt x="3" y="85"/>
                    </a:lnTo>
                    <a:lnTo>
                      <a:pt x="4" y="89"/>
                    </a:lnTo>
                    <a:lnTo>
                      <a:pt x="5" y="93"/>
                    </a:lnTo>
                    <a:lnTo>
                      <a:pt x="8" y="96"/>
                    </a:lnTo>
                    <a:lnTo>
                      <a:pt x="13" y="103"/>
                    </a:lnTo>
                    <a:lnTo>
                      <a:pt x="19" y="108"/>
                    </a:lnTo>
                    <a:lnTo>
                      <a:pt x="22" y="109"/>
                    </a:lnTo>
                    <a:lnTo>
                      <a:pt x="25" y="112"/>
                    </a:lnTo>
                    <a:lnTo>
                      <a:pt x="29" y="113"/>
                    </a:lnTo>
                    <a:lnTo>
                      <a:pt x="33" y="114"/>
                    </a:lnTo>
                    <a:lnTo>
                      <a:pt x="38" y="114"/>
                    </a:lnTo>
                    <a:lnTo>
                      <a:pt x="42" y="114"/>
                    </a:lnTo>
                    <a:lnTo>
                      <a:pt x="42" y="114"/>
                    </a:lnTo>
                    <a:lnTo>
                      <a:pt x="82" y="114"/>
                    </a:lnTo>
                    <a:lnTo>
                      <a:pt x="82" y="119"/>
                    </a:lnTo>
                    <a:lnTo>
                      <a:pt x="84" y="125"/>
                    </a:lnTo>
                    <a:lnTo>
                      <a:pt x="87" y="131"/>
                    </a:lnTo>
                    <a:lnTo>
                      <a:pt x="92" y="136"/>
                    </a:lnTo>
                    <a:lnTo>
                      <a:pt x="95" y="139"/>
                    </a:lnTo>
                    <a:lnTo>
                      <a:pt x="102" y="142"/>
                    </a:lnTo>
                    <a:lnTo>
                      <a:pt x="108" y="144"/>
                    </a:lnTo>
                    <a:lnTo>
                      <a:pt x="114" y="146"/>
                    </a:lnTo>
                    <a:lnTo>
                      <a:pt x="120" y="146"/>
                    </a:lnTo>
                    <a:lnTo>
                      <a:pt x="120" y="146"/>
                    </a:lnTo>
                    <a:lnTo>
                      <a:pt x="308" y="146"/>
                    </a:lnTo>
                    <a:lnTo>
                      <a:pt x="315" y="146"/>
                    </a:lnTo>
                    <a:lnTo>
                      <a:pt x="318" y="146"/>
                    </a:lnTo>
                    <a:lnTo>
                      <a:pt x="322" y="144"/>
                    </a:lnTo>
                    <a:lnTo>
                      <a:pt x="326" y="143"/>
                    </a:lnTo>
                    <a:lnTo>
                      <a:pt x="328" y="142"/>
                    </a:lnTo>
                    <a:lnTo>
                      <a:pt x="332" y="139"/>
                    </a:lnTo>
                    <a:lnTo>
                      <a:pt x="336" y="137"/>
                    </a:lnTo>
                    <a:lnTo>
                      <a:pt x="338" y="136"/>
                    </a:lnTo>
                    <a:lnTo>
                      <a:pt x="340" y="133"/>
                    </a:lnTo>
                    <a:lnTo>
                      <a:pt x="342" y="131"/>
                    </a:lnTo>
                    <a:lnTo>
                      <a:pt x="345" y="128"/>
                    </a:lnTo>
                    <a:lnTo>
                      <a:pt x="347" y="122"/>
                    </a:lnTo>
                    <a:lnTo>
                      <a:pt x="350" y="114"/>
                    </a:lnTo>
                    <a:lnTo>
                      <a:pt x="350" y="114"/>
                    </a:lnTo>
                    <a:lnTo>
                      <a:pt x="390" y="114"/>
                    </a:lnTo>
                    <a:lnTo>
                      <a:pt x="394" y="114"/>
                    </a:lnTo>
                    <a:lnTo>
                      <a:pt x="399" y="114"/>
                    </a:lnTo>
                    <a:lnTo>
                      <a:pt x="402" y="113"/>
                    </a:lnTo>
                    <a:lnTo>
                      <a:pt x="406" y="112"/>
                    </a:lnTo>
                    <a:lnTo>
                      <a:pt x="410" y="109"/>
                    </a:lnTo>
                    <a:lnTo>
                      <a:pt x="412" y="108"/>
                    </a:lnTo>
                    <a:lnTo>
                      <a:pt x="419" y="103"/>
                    </a:lnTo>
                    <a:lnTo>
                      <a:pt x="424" y="96"/>
                    </a:lnTo>
                    <a:lnTo>
                      <a:pt x="426" y="93"/>
                    </a:lnTo>
                    <a:lnTo>
                      <a:pt x="427" y="89"/>
                    </a:lnTo>
                    <a:lnTo>
                      <a:pt x="429" y="85"/>
                    </a:lnTo>
                    <a:lnTo>
                      <a:pt x="430" y="81"/>
                    </a:lnTo>
                    <a:lnTo>
                      <a:pt x="430" y="77"/>
                    </a:lnTo>
                    <a:lnTo>
                      <a:pt x="431" y="74"/>
                    </a:lnTo>
                    <a:lnTo>
                      <a:pt x="431" y="74"/>
                    </a:lnTo>
                    <a:lnTo>
                      <a:pt x="430" y="69"/>
                    </a:lnTo>
                    <a:lnTo>
                      <a:pt x="430" y="65"/>
                    </a:lnTo>
                    <a:lnTo>
                      <a:pt x="429" y="61"/>
                    </a:lnTo>
                    <a:lnTo>
                      <a:pt x="427" y="57"/>
                    </a:lnTo>
                    <a:lnTo>
                      <a:pt x="426" y="53"/>
                    </a:lnTo>
                    <a:lnTo>
                      <a:pt x="424" y="50"/>
                    </a:lnTo>
                    <a:lnTo>
                      <a:pt x="419" y="45"/>
                    </a:lnTo>
                    <a:lnTo>
                      <a:pt x="412" y="40"/>
                    </a:lnTo>
                    <a:lnTo>
                      <a:pt x="410" y="37"/>
                    </a:lnTo>
                    <a:lnTo>
                      <a:pt x="406" y="36"/>
                    </a:lnTo>
                    <a:lnTo>
                      <a:pt x="402" y="35"/>
                    </a:lnTo>
                    <a:lnTo>
                      <a:pt x="399" y="33"/>
                    </a:lnTo>
                    <a:lnTo>
                      <a:pt x="394" y="32"/>
                    </a:lnTo>
                    <a:lnTo>
                      <a:pt x="390" y="32"/>
                    </a:lnTo>
                    <a:lnTo>
                      <a:pt x="390" y="32"/>
                    </a:lnTo>
                    <a:lnTo>
                      <a:pt x="361" y="32"/>
                    </a:lnTo>
                    <a:lnTo>
                      <a:pt x="360" y="30"/>
                    </a:lnTo>
                    <a:lnTo>
                      <a:pt x="360" y="27"/>
                    </a:lnTo>
                    <a:lnTo>
                      <a:pt x="359" y="24"/>
                    </a:lnTo>
                    <a:lnTo>
                      <a:pt x="357" y="22"/>
                    </a:lnTo>
                    <a:lnTo>
                      <a:pt x="355" y="18"/>
                    </a:lnTo>
                    <a:lnTo>
                      <a:pt x="351" y="14"/>
                    </a:lnTo>
                    <a:lnTo>
                      <a:pt x="349" y="11"/>
                    </a:lnTo>
                    <a:lnTo>
                      <a:pt x="346" y="8"/>
                    </a:lnTo>
                    <a:lnTo>
                      <a:pt x="344" y="6"/>
                    </a:lnTo>
                    <a:lnTo>
                      <a:pt x="340" y="4"/>
                    </a:lnTo>
                    <a:lnTo>
                      <a:pt x="336" y="2"/>
                    </a:lnTo>
                    <a:lnTo>
                      <a:pt x="332" y="2"/>
                    </a:lnTo>
                    <a:lnTo>
                      <a:pt x="328" y="0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107" y="0"/>
                    </a:lnTo>
                    <a:lnTo>
                      <a:pt x="103" y="0"/>
                    </a:lnTo>
                    <a:lnTo>
                      <a:pt x="99" y="2"/>
                    </a:lnTo>
                    <a:lnTo>
                      <a:pt x="95" y="2"/>
                    </a:lnTo>
                    <a:lnTo>
                      <a:pt x="92" y="4"/>
                    </a:lnTo>
                    <a:lnTo>
                      <a:pt x="88" y="6"/>
                    </a:lnTo>
                    <a:lnTo>
                      <a:pt x="84" y="8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4" y="18"/>
                    </a:lnTo>
                    <a:lnTo>
                      <a:pt x="73" y="22"/>
                    </a:lnTo>
                    <a:lnTo>
                      <a:pt x="72" y="27"/>
                    </a:lnTo>
                    <a:lnTo>
                      <a:pt x="70" y="32"/>
                    </a:lnTo>
                    <a:lnTo>
                      <a:pt x="70" y="3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6735240" y="5222160"/>
                <a:ext cx="489600" cy="178200"/>
              </a:xfrm>
              <a:custGeom>
                <a:avLst/>
                <a:gdLst/>
                <a:ahLst/>
                <a:rect l="l" t="t" r="r" b="b"/>
                <a:pathLst>
                  <a:path w="432" h="125">
                    <a:moveTo>
                      <a:pt x="9" y="125"/>
                    </a:moveTo>
                    <a:lnTo>
                      <a:pt x="423" y="125"/>
                    </a:lnTo>
                    <a:lnTo>
                      <a:pt x="425" y="125"/>
                    </a:lnTo>
                    <a:lnTo>
                      <a:pt x="427" y="125"/>
                    </a:lnTo>
                    <a:lnTo>
                      <a:pt x="428" y="124"/>
                    </a:lnTo>
                    <a:lnTo>
                      <a:pt x="430" y="123"/>
                    </a:lnTo>
                    <a:lnTo>
                      <a:pt x="431" y="122"/>
                    </a:lnTo>
                    <a:lnTo>
                      <a:pt x="432" y="120"/>
                    </a:lnTo>
                    <a:lnTo>
                      <a:pt x="432" y="119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116"/>
                    </a:lnTo>
                    <a:lnTo>
                      <a:pt x="432" y="9"/>
                    </a:lnTo>
                    <a:lnTo>
                      <a:pt x="432" y="8"/>
                    </a:lnTo>
                    <a:lnTo>
                      <a:pt x="432" y="7"/>
                    </a:lnTo>
                    <a:lnTo>
                      <a:pt x="431" y="4"/>
                    </a:lnTo>
                    <a:lnTo>
                      <a:pt x="430" y="3"/>
                    </a:lnTo>
                    <a:lnTo>
                      <a:pt x="428" y="2"/>
                    </a:lnTo>
                    <a:lnTo>
                      <a:pt x="427" y="2"/>
                    </a:lnTo>
                    <a:lnTo>
                      <a:pt x="425" y="0"/>
                    </a:lnTo>
                    <a:lnTo>
                      <a:pt x="423" y="0"/>
                    </a:lnTo>
                    <a:lnTo>
                      <a:pt x="42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6"/>
                    </a:lnTo>
                    <a:lnTo>
                      <a:pt x="0" y="119"/>
                    </a:lnTo>
                    <a:lnTo>
                      <a:pt x="1" y="120"/>
                    </a:lnTo>
                    <a:lnTo>
                      <a:pt x="1" y="122"/>
                    </a:lnTo>
                    <a:lnTo>
                      <a:pt x="2" y="123"/>
                    </a:lnTo>
                    <a:lnTo>
                      <a:pt x="4" y="124"/>
                    </a:lnTo>
                    <a:lnTo>
                      <a:pt x="6" y="125"/>
                    </a:lnTo>
                    <a:lnTo>
                      <a:pt x="7" y="125"/>
                    </a:lnTo>
                    <a:lnTo>
                      <a:pt x="9" y="125"/>
                    </a:lnTo>
                    <a:lnTo>
                      <a:pt x="9" y="125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270560" y="5210640"/>
                <a:ext cx="487440" cy="213480"/>
              </a:xfrm>
              <a:custGeom>
                <a:avLst/>
                <a:gdLst/>
                <a:ahLst/>
                <a:rect l="l" t="t" r="r" b="b"/>
                <a:pathLst>
                  <a:path w="432" h="148">
                    <a:moveTo>
                      <a:pt x="70" y="34"/>
                    </a:moveTo>
                    <a:lnTo>
                      <a:pt x="40" y="34"/>
                    </a:lnTo>
                    <a:lnTo>
                      <a:pt x="36" y="34"/>
                    </a:lnTo>
                    <a:lnTo>
                      <a:pt x="32" y="34"/>
                    </a:lnTo>
                    <a:lnTo>
                      <a:pt x="27" y="35"/>
                    </a:lnTo>
                    <a:lnTo>
                      <a:pt x="23" y="37"/>
                    </a:lnTo>
                    <a:lnTo>
                      <a:pt x="21" y="39"/>
                    </a:lnTo>
                    <a:lnTo>
                      <a:pt x="17" y="40"/>
                    </a:lnTo>
                    <a:lnTo>
                      <a:pt x="11" y="45"/>
                    </a:lnTo>
                    <a:lnTo>
                      <a:pt x="6" y="52"/>
                    </a:lnTo>
                    <a:lnTo>
                      <a:pt x="5" y="56"/>
                    </a:lnTo>
                    <a:lnTo>
                      <a:pt x="2" y="59"/>
                    </a:lnTo>
                    <a:lnTo>
                      <a:pt x="1" y="63"/>
                    </a:lnTo>
                    <a:lnTo>
                      <a:pt x="0" y="67"/>
                    </a:lnTo>
                    <a:lnTo>
                      <a:pt x="0" y="71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1" y="86"/>
                    </a:lnTo>
                    <a:lnTo>
                      <a:pt x="2" y="90"/>
                    </a:lnTo>
                    <a:lnTo>
                      <a:pt x="5" y="93"/>
                    </a:lnTo>
                    <a:lnTo>
                      <a:pt x="6" y="96"/>
                    </a:lnTo>
                    <a:lnTo>
                      <a:pt x="11" y="102"/>
                    </a:lnTo>
                    <a:lnTo>
                      <a:pt x="17" y="107"/>
                    </a:lnTo>
                    <a:lnTo>
                      <a:pt x="21" y="109"/>
                    </a:lnTo>
                    <a:lnTo>
                      <a:pt x="23" y="110"/>
                    </a:lnTo>
                    <a:lnTo>
                      <a:pt x="27" y="112"/>
                    </a:lnTo>
                    <a:lnTo>
                      <a:pt x="32" y="112"/>
                    </a:lnTo>
                    <a:lnTo>
                      <a:pt x="36" y="114"/>
                    </a:lnTo>
                    <a:lnTo>
                      <a:pt x="40" y="114"/>
                    </a:lnTo>
                    <a:lnTo>
                      <a:pt x="40" y="114"/>
                    </a:lnTo>
                    <a:lnTo>
                      <a:pt x="81" y="114"/>
                    </a:lnTo>
                    <a:lnTo>
                      <a:pt x="81" y="119"/>
                    </a:lnTo>
                    <a:lnTo>
                      <a:pt x="82" y="125"/>
                    </a:lnTo>
                    <a:lnTo>
                      <a:pt x="86" y="130"/>
                    </a:lnTo>
                    <a:lnTo>
                      <a:pt x="90" y="135"/>
                    </a:lnTo>
                    <a:lnTo>
                      <a:pt x="95" y="139"/>
                    </a:lnTo>
                    <a:lnTo>
                      <a:pt x="97" y="141"/>
                    </a:lnTo>
                    <a:lnTo>
                      <a:pt x="101" y="143"/>
                    </a:lnTo>
                    <a:lnTo>
                      <a:pt x="104" y="145"/>
                    </a:lnTo>
                    <a:lnTo>
                      <a:pt x="106" y="145"/>
                    </a:lnTo>
                    <a:lnTo>
                      <a:pt x="110" y="146"/>
                    </a:lnTo>
                    <a:lnTo>
                      <a:pt x="112" y="148"/>
                    </a:lnTo>
                    <a:lnTo>
                      <a:pt x="119" y="148"/>
                    </a:lnTo>
                    <a:lnTo>
                      <a:pt x="119" y="148"/>
                    </a:lnTo>
                    <a:lnTo>
                      <a:pt x="307" y="148"/>
                    </a:lnTo>
                    <a:lnTo>
                      <a:pt x="312" y="148"/>
                    </a:lnTo>
                    <a:lnTo>
                      <a:pt x="315" y="146"/>
                    </a:lnTo>
                    <a:lnTo>
                      <a:pt x="319" y="146"/>
                    </a:lnTo>
                    <a:lnTo>
                      <a:pt x="323" y="145"/>
                    </a:lnTo>
                    <a:lnTo>
                      <a:pt x="329" y="141"/>
                    </a:lnTo>
                    <a:lnTo>
                      <a:pt x="334" y="139"/>
                    </a:lnTo>
                    <a:lnTo>
                      <a:pt x="339" y="133"/>
                    </a:lnTo>
                    <a:lnTo>
                      <a:pt x="342" y="130"/>
                    </a:lnTo>
                    <a:lnTo>
                      <a:pt x="344" y="128"/>
                    </a:lnTo>
                    <a:lnTo>
                      <a:pt x="345" y="124"/>
                    </a:lnTo>
                    <a:lnTo>
                      <a:pt x="347" y="120"/>
                    </a:lnTo>
                    <a:lnTo>
                      <a:pt x="348" y="117"/>
                    </a:lnTo>
                    <a:lnTo>
                      <a:pt x="348" y="114"/>
                    </a:lnTo>
                    <a:lnTo>
                      <a:pt x="348" y="114"/>
                    </a:lnTo>
                    <a:lnTo>
                      <a:pt x="390" y="114"/>
                    </a:lnTo>
                    <a:lnTo>
                      <a:pt x="395" y="114"/>
                    </a:lnTo>
                    <a:lnTo>
                      <a:pt x="399" y="112"/>
                    </a:lnTo>
                    <a:lnTo>
                      <a:pt x="403" y="112"/>
                    </a:lnTo>
                    <a:lnTo>
                      <a:pt x="407" y="110"/>
                    </a:lnTo>
                    <a:lnTo>
                      <a:pt x="411" y="109"/>
                    </a:lnTo>
                    <a:lnTo>
                      <a:pt x="413" y="107"/>
                    </a:lnTo>
                    <a:lnTo>
                      <a:pt x="419" y="102"/>
                    </a:lnTo>
                    <a:lnTo>
                      <a:pt x="424" y="96"/>
                    </a:lnTo>
                    <a:lnTo>
                      <a:pt x="427" y="93"/>
                    </a:lnTo>
                    <a:lnTo>
                      <a:pt x="428" y="90"/>
                    </a:lnTo>
                    <a:lnTo>
                      <a:pt x="429" y="86"/>
                    </a:lnTo>
                    <a:lnTo>
                      <a:pt x="431" y="82"/>
                    </a:lnTo>
                    <a:lnTo>
                      <a:pt x="432" y="78"/>
                    </a:lnTo>
                    <a:lnTo>
                      <a:pt x="432" y="74"/>
                    </a:lnTo>
                    <a:lnTo>
                      <a:pt x="432" y="74"/>
                    </a:lnTo>
                    <a:lnTo>
                      <a:pt x="432" y="71"/>
                    </a:lnTo>
                    <a:lnTo>
                      <a:pt x="431" y="67"/>
                    </a:lnTo>
                    <a:lnTo>
                      <a:pt x="429" y="63"/>
                    </a:lnTo>
                    <a:lnTo>
                      <a:pt x="428" y="59"/>
                    </a:lnTo>
                    <a:lnTo>
                      <a:pt x="427" y="56"/>
                    </a:lnTo>
                    <a:lnTo>
                      <a:pt x="424" y="52"/>
                    </a:lnTo>
                    <a:lnTo>
                      <a:pt x="419" y="45"/>
                    </a:lnTo>
                    <a:lnTo>
                      <a:pt x="413" y="40"/>
                    </a:lnTo>
                    <a:lnTo>
                      <a:pt x="411" y="39"/>
                    </a:lnTo>
                    <a:lnTo>
                      <a:pt x="407" y="37"/>
                    </a:lnTo>
                    <a:lnTo>
                      <a:pt x="403" y="35"/>
                    </a:lnTo>
                    <a:lnTo>
                      <a:pt x="399" y="34"/>
                    </a:lnTo>
                    <a:lnTo>
                      <a:pt x="395" y="34"/>
                    </a:lnTo>
                    <a:lnTo>
                      <a:pt x="390" y="34"/>
                    </a:lnTo>
                    <a:lnTo>
                      <a:pt x="390" y="34"/>
                    </a:lnTo>
                    <a:lnTo>
                      <a:pt x="359" y="34"/>
                    </a:lnTo>
                    <a:lnTo>
                      <a:pt x="359" y="29"/>
                    </a:lnTo>
                    <a:lnTo>
                      <a:pt x="358" y="24"/>
                    </a:lnTo>
                    <a:lnTo>
                      <a:pt x="355" y="19"/>
                    </a:lnTo>
                    <a:lnTo>
                      <a:pt x="353" y="14"/>
                    </a:lnTo>
                    <a:lnTo>
                      <a:pt x="349" y="11"/>
                    </a:lnTo>
                    <a:lnTo>
                      <a:pt x="347" y="9"/>
                    </a:lnTo>
                    <a:lnTo>
                      <a:pt x="343" y="6"/>
                    </a:lnTo>
                    <a:lnTo>
                      <a:pt x="339" y="4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7" y="0"/>
                    </a:lnTo>
                    <a:lnTo>
                      <a:pt x="323" y="0"/>
                    </a:lnTo>
                    <a:lnTo>
                      <a:pt x="323" y="0"/>
                    </a:lnTo>
                    <a:lnTo>
                      <a:pt x="107" y="0"/>
                    </a:lnTo>
                    <a:lnTo>
                      <a:pt x="104" y="0"/>
                    </a:lnTo>
                    <a:lnTo>
                      <a:pt x="100" y="1"/>
                    </a:lnTo>
                    <a:lnTo>
                      <a:pt x="95" y="3"/>
                    </a:lnTo>
                    <a:lnTo>
                      <a:pt x="91" y="4"/>
                    </a:lnTo>
                    <a:lnTo>
                      <a:pt x="87" y="6"/>
                    </a:lnTo>
                    <a:lnTo>
                      <a:pt x="85" y="9"/>
                    </a:lnTo>
                    <a:lnTo>
                      <a:pt x="81" y="11"/>
                    </a:lnTo>
                    <a:lnTo>
                      <a:pt x="78" y="14"/>
                    </a:lnTo>
                    <a:lnTo>
                      <a:pt x="76" y="19"/>
                    </a:lnTo>
                    <a:lnTo>
                      <a:pt x="73" y="24"/>
                    </a:lnTo>
                    <a:lnTo>
                      <a:pt x="71" y="29"/>
                    </a:lnTo>
                    <a:lnTo>
                      <a:pt x="70" y="34"/>
                    </a:lnTo>
                    <a:lnTo>
                      <a:pt x="70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7807320" y="5173200"/>
                <a:ext cx="233280" cy="240120"/>
              </a:xfrm>
              <a:custGeom>
                <a:avLst/>
                <a:gdLst/>
                <a:ahLst/>
                <a:rect l="l" t="t" r="r" b="b"/>
                <a:pathLst>
                  <a:path w="208" h="167">
                    <a:moveTo>
                      <a:pt x="208" y="0"/>
                    </a:moveTo>
                    <a:lnTo>
                      <a:pt x="0" y="0"/>
                    </a:lnTo>
                    <a:lnTo>
                      <a:pt x="0" y="167"/>
                    </a:lnTo>
                    <a:lnTo>
                      <a:pt x="208" y="167"/>
                    </a:lnTo>
                    <a:lnTo>
                      <a:pt x="208" y="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496280" y="4058640"/>
                <a:ext cx="108720" cy="160560"/>
              </a:xfrm>
              <a:custGeom>
                <a:avLst/>
                <a:gdLst/>
                <a:ahLst/>
                <a:rect l="l" t="t" r="r" b="b"/>
                <a:pathLst>
                  <a:path w="99" h="112">
                    <a:moveTo>
                      <a:pt x="99" y="0"/>
                    </a:moveTo>
                    <a:lnTo>
                      <a:pt x="17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3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3"/>
                    </a:lnTo>
                    <a:lnTo>
                      <a:pt x="0" y="97"/>
                    </a:lnTo>
                    <a:lnTo>
                      <a:pt x="1" y="101"/>
                    </a:lnTo>
                    <a:lnTo>
                      <a:pt x="2" y="104"/>
                    </a:lnTo>
                    <a:lnTo>
                      <a:pt x="5" y="106"/>
                    </a:lnTo>
                    <a:lnTo>
                      <a:pt x="7" y="109"/>
                    </a:lnTo>
                    <a:lnTo>
                      <a:pt x="10" y="111"/>
                    </a:lnTo>
                    <a:lnTo>
                      <a:pt x="14" y="111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17" y="112"/>
                    </a:lnTo>
                    <a:lnTo>
                      <a:pt x="99" y="112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496280" y="4891320"/>
                <a:ext cx="108720" cy="158760"/>
              </a:xfrm>
              <a:custGeom>
                <a:avLst/>
                <a:gdLst/>
                <a:ahLst/>
                <a:rect l="l" t="t" r="r" b="b"/>
                <a:pathLst>
                  <a:path w="99" h="111">
                    <a:moveTo>
                      <a:pt x="99" y="0"/>
                    </a:moveTo>
                    <a:lnTo>
                      <a:pt x="17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1" y="98"/>
                    </a:lnTo>
                    <a:lnTo>
                      <a:pt x="2" y="102"/>
                    </a:lnTo>
                    <a:lnTo>
                      <a:pt x="5" y="106"/>
                    </a:lnTo>
                    <a:lnTo>
                      <a:pt x="7" y="108"/>
                    </a:lnTo>
                    <a:lnTo>
                      <a:pt x="10" y="109"/>
                    </a:lnTo>
                    <a:lnTo>
                      <a:pt x="14" y="111"/>
                    </a:lnTo>
                    <a:lnTo>
                      <a:pt x="17" y="111"/>
                    </a:lnTo>
                    <a:lnTo>
                      <a:pt x="17" y="111"/>
                    </a:lnTo>
                    <a:lnTo>
                      <a:pt x="99" y="111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225320" y="5322960"/>
                <a:ext cx="140400" cy="6624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0"/>
                    </a:moveTo>
                    <a:lnTo>
                      <a:pt x="0" y="45"/>
                    </a:lnTo>
                    <a:lnTo>
                      <a:pt x="125" y="45"/>
                    </a:lnTo>
                    <a:lnTo>
                      <a:pt x="125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152680" y="5322960"/>
                <a:ext cx="136440" cy="6624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0" y="0"/>
                    </a:moveTo>
                    <a:lnTo>
                      <a:pt x="0" y="45"/>
                    </a:lnTo>
                    <a:lnTo>
                      <a:pt x="123" y="45"/>
                    </a:lnTo>
                    <a:lnTo>
                      <a:pt x="123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598360" y="5222160"/>
                <a:ext cx="120600" cy="15372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  <a:close/>
                  </a:path>
                </a:pathLst>
              </a:cu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598360" y="5222160"/>
                <a:ext cx="120600" cy="153720"/>
              </a:xfrm>
              <a:custGeom>
                <a:avLst/>
                <a:gdLst/>
                <a:ahLst/>
                <a:rect l="l" t="t" r="r" b="b"/>
                <a:pathLst>
                  <a:path w="108" h="108">
                    <a:moveTo>
                      <a:pt x="103" y="79"/>
                    </a:moveTo>
                    <a:lnTo>
                      <a:pt x="104" y="72"/>
                    </a:lnTo>
                    <a:lnTo>
                      <a:pt x="107" y="67"/>
                    </a:lnTo>
                    <a:lnTo>
                      <a:pt x="108" y="62"/>
                    </a:lnTo>
                    <a:lnTo>
                      <a:pt x="108" y="57"/>
                    </a:lnTo>
                    <a:lnTo>
                      <a:pt x="108" y="52"/>
                    </a:lnTo>
                    <a:lnTo>
                      <a:pt x="108" y="47"/>
                    </a:lnTo>
                    <a:lnTo>
                      <a:pt x="107" y="42"/>
                    </a:lnTo>
                    <a:lnTo>
                      <a:pt x="105" y="37"/>
                    </a:lnTo>
                    <a:lnTo>
                      <a:pt x="103" y="32"/>
                    </a:lnTo>
                    <a:lnTo>
                      <a:pt x="100" y="27"/>
                    </a:lnTo>
                    <a:lnTo>
                      <a:pt x="98" y="23"/>
                    </a:lnTo>
                    <a:lnTo>
                      <a:pt x="95" y="18"/>
                    </a:lnTo>
                    <a:lnTo>
                      <a:pt x="92" y="14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78" y="5"/>
                    </a:lnTo>
                    <a:lnTo>
                      <a:pt x="75" y="4"/>
                    </a:lnTo>
                    <a:lnTo>
                      <a:pt x="73" y="3"/>
                    </a:lnTo>
                    <a:lnTo>
                      <a:pt x="69" y="2"/>
                    </a:lnTo>
                    <a:lnTo>
                      <a:pt x="66" y="0"/>
                    </a:lnTo>
                    <a:lnTo>
                      <a:pt x="66" y="12"/>
                    </a:lnTo>
                    <a:lnTo>
                      <a:pt x="41" y="12"/>
                    </a:lnTo>
                    <a:lnTo>
                      <a:pt x="41" y="0"/>
                    </a:lnTo>
                    <a:lnTo>
                      <a:pt x="36" y="2"/>
                    </a:lnTo>
                    <a:lnTo>
                      <a:pt x="30" y="4"/>
                    </a:lnTo>
                    <a:lnTo>
                      <a:pt x="26" y="7"/>
                    </a:lnTo>
                    <a:lnTo>
                      <a:pt x="21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29"/>
                    </a:lnTo>
                    <a:lnTo>
                      <a:pt x="3" y="34"/>
                    </a:lnTo>
                    <a:lnTo>
                      <a:pt x="1" y="39"/>
                    </a:lnTo>
                    <a:lnTo>
                      <a:pt x="1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3" y="66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5" y="75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21" y="79"/>
                    </a:lnTo>
                    <a:lnTo>
                      <a:pt x="21" y="96"/>
                    </a:lnTo>
                    <a:lnTo>
                      <a:pt x="25" y="99"/>
                    </a:lnTo>
                    <a:lnTo>
                      <a:pt x="29" y="101"/>
                    </a:lnTo>
                    <a:lnTo>
                      <a:pt x="33" y="104"/>
                    </a:lnTo>
                    <a:lnTo>
                      <a:pt x="38" y="105"/>
                    </a:lnTo>
                    <a:lnTo>
                      <a:pt x="41" y="106"/>
                    </a:lnTo>
                    <a:lnTo>
                      <a:pt x="46" y="108"/>
                    </a:lnTo>
                    <a:lnTo>
                      <a:pt x="50" y="108"/>
                    </a:lnTo>
                    <a:lnTo>
                      <a:pt x="55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6" y="104"/>
                    </a:lnTo>
                    <a:lnTo>
                      <a:pt x="80" y="101"/>
                    </a:lnTo>
                    <a:lnTo>
                      <a:pt x="85" y="99"/>
                    </a:lnTo>
                    <a:lnTo>
                      <a:pt x="89" y="96"/>
                    </a:lnTo>
                    <a:lnTo>
                      <a:pt x="89" y="96"/>
                    </a:lnTo>
                    <a:lnTo>
                      <a:pt x="89" y="79"/>
                    </a:lnTo>
                    <a:lnTo>
                      <a:pt x="103" y="79"/>
                    </a:lnTo>
                    <a:lnTo>
                      <a:pt x="103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286040" y="5272560"/>
                <a:ext cx="61200" cy="9468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286040" y="5272560"/>
                <a:ext cx="61200" cy="94680"/>
              </a:xfrm>
              <a:custGeom>
                <a:avLst/>
                <a:gdLst/>
                <a:ahLst/>
                <a:rect l="l" t="t" r="r" b="b"/>
                <a:pathLst>
                  <a:path w="55" h="67">
                    <a:moveTo>
                      <a:pt x="28" y="67"/>
                    </a:moveTo>
                    <a:lnTo>
                      <a:pt x="55" y="51"/>
                    </a:lnTo>
                    <a:lnTo>
                      <a:pt x="55" y="19"/>
                    </a:lnTo>
                    <a:lnTo>
                      <a:pt x="28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8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678440" y="5272560"/>
                <a:ext cx="65520" cy="9468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7678440" y="5272560"/>
                <a:ext cx="65520" cy="94680"/>
              </a:xfrm>
              <a:custGeom>
                <a:avLst/>
                <a:gdLst/>
                <a:ahLst/>
                <a:rect l="l" t="t" r="r" b="b"/>
                <a:pathLst>
                  <a:path w="56" h="67">
                    <a:moveTo>
                      <a:pt x="26" y="67"/>
                    </a:moveTo>
                    <a:lnTo>
                      <a:pt x="56" y="51"/>
                    </a:lnTo>
                    <a:lnTo>
                      <a:pt x="56" y="19"/>
                    </a:lnTo>
                    <a:lnTo>
                      <a:pt x="26" y="0"/>
                    </a:lnTo>
                    <a:lnTo>
                      <a:pt x="0" y="19"/>
                    </a:lnTo>
                    <a:lnTo>
                      <a:pt x="0" y="51"/>
                    </a:lnTo>
                    <a:lnTo>
                      <a:pt x="26" y="67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7381440" y="5244120"/>
                <a:ext cx="265320" cy="156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381440" y="5244120"/>
                <a:ext cx="265320" cy="156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7"/>
                    </a:lnTo>
                    <a:lnTo>
                      <a:pt x="1" y="22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14" y="89"/>
                    </a:lnTo>
                    <a:lnTo>
                      <a:pt x="16" y="94"/>
                    </a:lnTo>
                    <a:lnTo>
                      <a:pt x="19" y="97"/>
                    </a:lnTo>
                    <a:lnTo>
                      <a:pt x="21" y="100"/>
                    </a:lnTo>
                    <a:lnTo>
                      <a:pt x="24" y="104"/>
                    </a:lnTo>
                    <a:lnTo>
                      <a:pt x="26" y="106"/>
                    </a:lnTo>
                    <a:lnTo>
                      <a:pt x="30" y="108"/>
                    </a:lnTo>
                    <a:lnTo>
                      <a:pt x="34" y="109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09"/>
                    </a:lnTo>
                    <a:lnTo>
                      <a:pt x="208" y="108"/>
                    </a:lnTo>
                    <a:lnTo>
                      <a:pt x="212" y="106"/>
                    </a:lnTo>
                    <a:lnTo>
                      <a:pt x="214" y="104"/>
                    </a:lnTo>
                    <a:lnTo>
                      <a:pt x="217" y="100"/>
                    </a:lnTo>
                    <a:lnTo>
                      <a:pt x="219" y="97"/>
                    </a:lnTo>
                    <a:lnTo>
                      <a:pt x="222" y="94"/>
                    </a:lnTo>
                    <a:lnTo>
                      <a:pt x="222" y="89"/>
                    </a:lnTo>
                    <a:lnTo>
                      <a:pt x="222" y="89"/>
                    </a:lnTo>
                    <a:lnTo>
                      <a:pt x="236" y="34"/>
                    </a:lnTo>
                    <a:lnTo>
                      <a:pt x="237" y="29"/>
                    </a:lnTo>
                    <a:lnTo>
                      <a:pt x="237" y="24"/>
                    </a:lnTo>
                    <a:lnTo>
                      <a:pt x="237" y="19"/>
                    </a:lnTo>
                    <a:lnTo>
                      <a:pt x="234" y="14"/>
                    </a:lnTo>
                    <a:lnTo>
                      <a:pt x="232" y="9"/>
                    </a:lnTo>
                    <a:lnTo>
                      <a:pt x="229" y="5"/>
                    </a:lnTo>
                    <a:lnTo>
                      <a:pt x="224" y="3"/>
                    </a:lnTo>
                    <a:lnTo>
                      <a:pt x="221" y="0"/>
                    </a:lnTo>
                    <a:lnTo>
                      <a:pt x="219" y="0"/>
                    </a:lnTo>
                    <a:lnTo>
                      <a:pt x="218" y="0"/>
                    </a:lnTo>
                    <a:lnTo>
                      <a:pt x="217" y="0"/>
                    </a:lnTo>
                    <a:lnTo>
                      <a:pt x="216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167160" y="5266080"/>
                <a:ext cx="63000" cy="943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167160" y="5266080"/>
                <a:ext cx="63000" cy="94320"/>
              </a:xfrm>
              <a:custGeom>
                <a:avLst/>
                <a:gdLst/>
                <a:ahLst/>
                <a:rect l="l" t="t" r="r" b="b"/>
                <a:pathLst>
                  <a:path w="55" h="64">
                    <a:moveTo>
                      <a:pt x="28" y="64"/>
                    </a:moveTo>
                    <a:lnTo>
                      <a:pt x="55" y="48"/>
                    </a:lnTo>
                    <a:lnTo>
                      <a:pt x="55" y="16"/>
                    </a:lnTo>
                    <a:lnTo>
                      <a:pt x="28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28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559200" y="5266080"/>
                <a:ext cx="64800" cy="943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6559200" y="5266080"/>
                <a:ext cx="64800" cy="94320"/>
              </a:xfrm>
              <a:custGeom>
                <a:avLst/>
                <a:gdLst/>
                <a:ahLst/>
                <a:rect l="l" t="t" r="r" b="b"/>
                <a:pathLst>
                  <a:path w="58" h="64">
                    <a:moveTo>
                      <a:pt x="30" y="64"/>
                    </a:moveTo>
                    <a:lnTo>
                      <a:pt x="58" y="48"/>
                    </a:lnTo>
                    <a:lnTo>
                      <a:pt x="58" y="16"/>
                    </a:lnTo>
                    <a:lnTo>
                      <a:pt x="30" y="0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30" y="64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6261840" y="5235120"/>
                <a:ext cx="265320" cy="156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261840" y="5235120"/>
                <a:ext cx="265320" cy="156240"/>
              </a:xfrm>
              <a:custGeom>
                <a:avLst/>
                <a:gdLst/>
                <a:ahLst/>
                <a:rect l="l" t="t" r="r" b="b"/>
                <a:pathLst>
                  <a:path w="237" h="110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2"/>
                    </a:lnTo>
                    <a:lnTo>
                      <a:pt x="15" y="96"/>
                    </a:lnTo>
                    <a:lnTo>
                      <a:pt x="17" y="100"/>
                    </a:lnTo>
                    <a:lnTo>
                      <a:pt x="20" y="102"/>
                    </a:lnTo>
                    <a:lnTo>
                      <a:pt x="24" y="105"/>
                    </a:lnTo>
                    <a:lnTo>
                      <a:pt x="26" y="107"/>
                    </a:lnTo>
                    <a:lnTo>
                      <a:pt x="30" y="109"/>
                    </a:lnTo>
                    <a:lnTo>
                      <a:pt x="33" y="110"/>
                    </a:lnTo>
                    <a:lnTo>
                      <a:pt x="36" y="110"/>
                    </a:lnTo>
                    <a:lnTo>
                      <a:pt x="36" y="110"/>
                    </a:lnTo>
                    <a:lnTo>
                      <a:pt x="202" y="110"/>
                    </a:lnTo>
                    <a:lnTo>
                      <a:pt x="205" y="110"/>
                    </a:lnTo>
                    <a:lnTo>
                      <a:pt x="208" y="109"/>
                    </a:lnTo>
                    <a:lnTo>
                      <a:pt x="212" y="107"/>
                    </a:lnTo>
                    <a:lnTo>
                      <a:pt x="214" y="105"/>
                    </a:lnTo>
                    <a:lnTo>
                      <a:pt x="217" y="102"/>
                    </a:lnTo>
                    <a:lnTo>
                      <a:pt x="219" y="100"/>
                    </a:lnTo>
                    <a:lnTo>
                      <a:pt x="220" y="96"/>
                    </a:lnTo>
                    <a:lnTo>
                      <a:pt x="222" y="92"/>
                    </a:lnTo>
                    <a:lnTo>
                      <a:pt x="235" y="37"/>
                    </a:lnTo>
                    <a:lnTo>
                      <a:pt x="237" y="32"/>
                    </a:lnTo>
                    <a:lnTo>
                      <a:pt x="237" y="25"/>
                    </a:lnTo>
                    <a:lnTo>
                      <a:pt x="235" y="20"/>
                    </a:lnTo>
                    <a:lnTo>
                      <a:pt x="234" y="15"/>
                    </a:lnTo>
                    <a:lnTo>
                      <a:pt x="232" y="12"/>
                    </a:lnTo>
                    <a:lnTo>
                      <a:pt x="229" y="8"/>
                    </a:lnTo>
                    <a:lnTo>
                      <a:pt x="225" y="5"/>
                    </a:lnTo>
                    <a:lnTo>
                      <a:pt x="222" y="3"/>
                    </a:lnTo>
                    <a:lnTo>
                      <a:pt x="220" y="1"/>
                    </a:lnTo>
                    <a:lnTo>
                      <a:pt x="218" y="1"/>
                    </a:lnTo>
                    <a:lnTo>
                      <a:pt x="217" y="0"/>
                    </a:lnTo>
                    <a:lnTo>
                      <a:pt x="215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6289560" y="5274720"/>
                <a:ext cx="212040" cy="79200"/>
              </a:xfrm>
              <a:custGeom>
                <a:avLst/>
                <a:gdLst/>
                <a:ahLst/>
                <a:rect l="l" t="t" r="r" b="b"/>
                <a:pathLst>
                  <a:path w="188" h="57">
                    <a:moveTo>
                      <a:pt x="174" y="6"/>
                    </a:moveTo>
                    <a:lnTo>
                      <a:pt x="174" y="9"/>
                    </a:lnTo>
                    <a:lnTo>
                      <a:pt x="175" y="11"/>
                    </a:lnTo>
                    <a:lnTo>
                      <a:pt x="178" y="13"/>
                    </a:lnTo>
                    <a:lnTo>
                      <a:pt x="179" y="14"/>
                    </a:lnTo>
                    <a:lnTo>
                      <a:pt x="180" y="14"/>
                    </a:lnTo>
                    <a:lnTo>
                      <a:pt x="182" y="14"/>
                    </a:lnTo>
                    <a:lnTo>
                      <a:pt x="183" y="13"/>
                    </a:lnTo>
                    <a:lnTo>
                      <a:pt x="185" y="11"/>
                    </a:lnTo>
                    <a:lnTo>
                      <a:pt x="187" y="9"/>
                    </a:lnTo>
                    <a:lnTo>
                      <a:pt x="188" y="7"/>
                    </a:lnTo>
                    <a:lnTo>
                      <a:pt x="188" y="6"/>
                    </a:lnTo>
                    <a:lnTo>
                      <a:pt x="188" y="5"/>
                    </a:lnTo>
                    <a:lnTo>
                      <a:pt x="187" y="4"/>
                    </a:lnTo>
                    <a:lnTo>
                      <a:pt x="185" y="1"/>
                    </a:lnTo>
                    <a:lnTo>
                      <a:pt x="183" y="0"/>
                    </a:lnTo>
                    <a:lnTo>
                      <a:pt x="180" y="0"/>
                    </a:lnTo>
                    <a:lnTo>
                      <a:pt x="178" y="0"/>
                    </a:lnTo>
                    <a:lnTo>
                      <a:pt x="175" y="1"/>
                    </a:lnTo>
                    <a:lnTo>
                      <a:pt x="174" y="4"/>
                    </a:lnTo>
                    <a:lnTo>
                      <a:pt x="174" y="6"/>
                    </a:lnTo>
                    <a:lnTo>
                      <a:pt x="174" y="6"/>
                    </a:lnTo>
                    <a:close/>
                    <a:moveTo>
                      <a:pt x="20" y="50"/>
                    </a:moveTo>
                    <a:lnTo>
                      <a:pt x="20" y="50"/>
                    </a:lnTo>
                    <a:lnTo>
                      <a:pt x="21" y="52"/>
                    </a:lnTo>
                    <a:lnTo>
                      <a:pt x="23" y="54"/>
                    </a:lnTo>
                    <a:lnTo>
                      <a:pt x="25" y="57"/>
                    </a:lnTo>
                    <a:lnTo>
                      <a:pt x="26" y="57"/>
                    </a:lnTo>
                    <a:lnTo>
                      <a:pt x="28" y="57"/>
                    </a:lnTo>
                    <a:lnTo>
                      <a:pt x="29" y="57"/>
                    </a:lnTo>
                    <a:lnTo>
                      <a:pt x="30" y="57"/>
                    </a:lnTo>
                    <a:lnTo>
                      <a:pt x="34" y="54"/>
                    </a:lnTo>
                    <a:lnTo>
                      <a:pt x="35" y="53"/>
                    </a:lnTo>
                    <a:lnTo>
                      <a:pt x="35" y="52"/>
                    </a:lnTo>
                    <a:lnTo>
                      <a:pt x="36" y="50"/>
                    </a:lnTo>
                    <a:lnTo>
                      <a:pt x="36" y="50"/>
                    </a:lnTo>
                    <a:lnTo>
                      <a:pt x="36" y="48"/>
                    </a:lnTo>
                    <a:lnTo>
                      <a:pt x="35" y="47"/>
                    </a:lnTo>
                    <a:lnTo>
                      <a:pt x="35" y="45"/>
                    </a:lnTo>
                    <a:lnTo>
                      <a:pt x="34" y="45"/>
                    </a:lnTo>
                    <a:lnTo>
                      <a:pt x="30" y="44"/>
                    </a:lnTo>
                    <a:lnTo>
                      <a:pt x="28" y="43"/>
                    </a:lnTo>
                    <a:lnTo>
                      <a:pt x="25" y="44"/>
                    </a:lnTo>
                    <a:lnTo>
                      <a:pt x="23" y="45"/>
                    </a:lnTo>
                    <a:lnTo>
                      <a:pt x="21" y="47"/>
                    </a:lnTo>
                    <a:lnTo>
                      <a:pt x="20" y="48"/>
                    </a:lnTo>
                    <a:lnTo>
                      <a:pt x="20" y="50"/>
                    </a:lnTo>
                    <a:lnTo>
                      <a:pt x="20" y="50"/>
                    </a:lnTo>
                    <a:close/>
                    <a:moveTo>
                      <a:pt x="65" y="50"/>
                    </a:moveTo>
                    <a:lnTo>
                      <a:pt x="66" y="52"/>
                    </a:lnTo>
                    <a:lnTo>
                      <a:pt x="68" y="54"/>
                    </a:lnTo>
                    <a:lnTo>
                      <a:pt x="69" y="57"/>
                    </a:lnTo>
                    <a:lnTo>
                      <a:pt x="70" y="57"/>
                    </a:lnTo>
                    <a:lnTo>
                      <a:pt x="73" y="57"/>
                    </a:lnTo>
                    <a:lnTo>
                      <a:pt x="73" y="57"/>
                    </a:lnTo>
                    <a:lnTo>
                      <a:pt x="74" y="57"/>
                    </a:lnTo>
                    <a:lnTo>
                      <a:pt x="76" y="54"/>
                    </a:lnTo>
                    <a:lnTo>
                      <a:pt x="79" y="52"/>
                    </a:lnTo>
                    <a:lnTo>
                      <a:pt x="79" y="50"/>
                    </a:lnTo>
                    <a:lnTo>
                      <a:pt x="79" y="50"/>
                    </a:lnTo>
                    <a:lnTo>
                      <a:pt x="79" y="48"/>
                    </a:lnTo>
                    <a:lnTo>
                      <a:pt x="79" y="47"/>
                    </a:lnTo>
                    <a:lnTo>
                      <a:pt x="76" y="45"/>
                    </a:lnTo>
                    <a:lnTo>
                      <a:pt x="74" y="44"/>
                    </a:lnTo>
                    <a:lnTo>
                      <a:pt x="73" y="43"/>
                    </a:lnTo>
                    <a:lnTo>
                      <a:pt x="69" y="44"/>
                    </a:lnTo>
                    <a:lnTo>
                      <a:pt x="68" y="45"/>
                    </a:lnTo>
                    <a:lnTo>
                      <a:pt x="66" y="47"/>
                    </a:lnTo>
                    <a:lnTo>
                      <a:pt x="65" y="50"/>
                    </a:lnTo>
                    <a:lnTo>
                      <a:pt x="65" y="50"/>
                    </a:lnTo>
                    <a:close/>
                    <a:moveTo>
                      <a:pt x="109" y="50"/>
                    </a:moveTo>
                    <a:lnTo>
                      <a:pt x="109" y="52"/>
                    </a:lnTo>
                    <a:lnTo>
                      <a:pt x="110" y="54"/>
                    </a:lnTo>
                    <a:lnTo>
                      <a:pt x="113" y="57"/>
                    </a:lnTo>
                    <a:lnTo>
                      <a:pt x="114" y="57"/>
                    </a:lnTo>
                    <a:lnTo>
                      <a:pt x="115" y="57"/>
                    </a:lnTo>
                    <a:lnTo>
                      <a:pt x="117" y="57"/>
                    </a:lnTo>
                    <a:lnTo>
                      <a:pt x="118" y="57"/>
                    </a:lnTo>
                    <a:lnTo>
                      <a:pt x="120" y="54"/>
                    </a:lnTo>
                    <a:lnTo>
                      <a:pt x="122" y="52"/>
                    </a:lnTo>
                    <a:lnTo>
                      <a:pt x="122" y="50"/>
                    </a:lnTo>
                    <a:lnTo>
                      <a:pt x="122" y="47"/>
                    </a:lnTo>
                    <a:lnTo>
                      <a:pt x="120" y="45"/>
                    </a:lnTo>
                    <a:lnTo>
                      <a:pt x="118" y="44"/>
                    </a:lnTo>
                    <a:lnTo>
                      <a:pt x="115" y="43"/>
                    </a:lnTo>
                    <a:lnTo>
                      <a:pt x="113" y="44"/>
                    </a:lnTo>
                    <a:lnTo>
                      <a:pt x="110" y="45"/>
                    </a:lnTo>
                    <a:lnTo>
                      <a:pt x="109" y="47"/>
                    </a:lnTo>
                    <a:lnTo>
                      <a:pt x="109" y="50"/>
                    </a:lnTo>
                    <a:lnTo>
                      <a:pt x="109" y="50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4" y="9"/>
                    </a:lnTo>
                    <a:lnTo>
                      <a:pt x="45" y="11"/>
                    </a:lnTo>
                    <a:lnTo>
                      <a:pt x="46" y="13"/>
                    </a:lnTo>
                    <a:lnTo>
                      <a:pt x="48" y="14"/>
                    </a:lnTo>
                    <a:lnTo>
                      <a:pt x="50" y="14"/>
                    </a:lnTo>
                    <a:lnTo>
                      <a:pt x="51" y="14"/>
                    </a:lnTo>
                    <a:lnTo>
                      <a:pt x="53" y="13"/>
                    </a:lnTo>
                    <a:lnTo>
                      <a:pt x="55" y="11"/>
                    </a:lnTo>
                    <a:lnTo>
                      <a:pt x="56" y="9"/>
                    </a:lnTo>
                    <a:lnTo>
                      <a:pt x="56" y="6"/>
                    </a:lnTo>
                    <a:lnTo>
                      <a:pt x="56" y="4"/>
                    </a:lnTo>
                    <a:lnTo>
                      <a:pt x="55" y="1"/>
                    </a:lnTo>
                    <a:lnTo>
                      <a:pt x="53" y="0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5" y="1"/>
                    </a:lnTo>
                    <a:lnTo>
                      <a:pt x="44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6" y="6"/>
                    </a:moveTo>
                    <a:lnTo>
                      <a:pt x="86" y="7"/>
                    </a:lnTo>
                    <a:lnTo>
                      <a:pt x="86" y="9"/>
                    </a:lnTo>
                    <a:lnTo>
                      <a:pt x="89" y="11"/>
                    </a:lnTo>
                    <a:lnTo>
                      <a:pt x="90" y="13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3"/>
                    </a:lnTo>
                    <a:lnTo>
                      <a:pt x="98" y="11"/>
                    </a:lnTo>
                    <a:lnTo>
                      <a:pt x="99" y="9"/>
                    </a:lnTo>
                    <a:lnTo>
                      <a:pt x="99" y="6"/>
                    </a:lnTo>
                    <a:lnTo>
                      <a:pt x="99" y="4"/>
                    </a:lnTo>
                    <a:lnTo>
                      <a:pt x="98" y="1"/>
                    </a:lnTo>
                    <a:lnTo>
                      <a:pt x="95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9" y="1"/>
                    </a:lnTo>
                    <a:lnTo>
                      <a:pt x="86" y="4"/>
                    </a:lnTo>
                    <a:lnTo>
                      <a:pt x="86" y="5"/>
                    </a:lnTo>
                    <a:lnTo>
                      <a:pt x="86" y="6"/>
                    </a:lnTo>
                    <a:lnTo>
                      <a:pt x="86" y="6"/>
                    </a:lnTo>
                    <a:close/>
                    <a:moveTo>
                      <a:pt x="132" y="6"/>
                    </a:moveTo>
                    <a:lnTo>
                      <a:pt x="132" y="9"/>
                    </a:lnTo>
                    <a:lnTo>
                      <a:pt x="133" y="11"/>
                    </a:lnTo>
                    <a:lnTo>
                      <a:pt x="135" y="13"/>
                    </a:lnTo>
                    <a:lnTo>
                      <a:pt x="137" y="14"/>
                    </a:lnTo>
                    <a:lnTo>
                      <a:pt x="138" y="14"/>
                    </a:lnTo>
                    <a:lnTo>
                      <a:pt x="139" y="14"/>
                    </a:lnTo>
                    <a:lnTo>
                      <a:pt x="140" y="13"/>
                    </a:lnTo>
                    <a:lnTo>
                      <a:pt x="143" y="11"/>
                    </a:lnTo>
                    <a:lnTo>
                      <a:pt x="144" y="9"/>
                    </a:lnTo>
                    <a:lnTo>
                      <a:pt x="144" y="7"/>
                    </a:lnTo>
                    <a:lnTo>
                      <a:pt x="145" y="6"/>
                    </a:lnTo>
                    <a:lnTo>
                      <a:pt x="144" y="5"/>
                    </a:lnTo>
                    <a:lnTo>
                      <a:pt x="144" y="4"/>
                    </a:lnTo>
                    <a:lnTo>
                      <a:pt x="143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5" y="0"/>
                    </a:lnTo>
                    <a:lnTo>
                      <a:pt x="133" y="1"/>
                    </a:lnTo>
                    <a:lnTo>
                      <a:pt x="132" y="4"/>
                    </a:lnTo>
                    <a:lnTo>
                      <a:pt x="132" y="6"/>
                    </a:lnTo>
                    <a:lnTo>
                      <a:pt x="132" y="6"/>
                    </a:lnTo>
                    <a:close/>
                    <a:moveTo>
                      <a:pt x="152" y="50"/>
                    </a:moveTo>
                    <a:lnTo>
                      <a:pt x="152" y="52"/>
                    </a:lnTo>
                    <a:lnTo>
                      <a:pt x="153" y="54"/>
                    </a:lnTo>
                    <a:lnTo>
                      <a:pt x="155" y="57"/>
                    </a:lnTo>
                    <a:lnTo>
                      <a:pt x="157" y="57"/>
                    </a:lnTo>
                    <a:lnTo>
                      <a:pt x="158" y="57"/>
                    </a:lnTo>
                    <a:lnTo>
                      <a:pt x="160" y="57"/>
                    </a:lnTo>
                    <a:lnTo>
                      <a:pt x="162" y="57"/>
                    </a:lnTo>
                    <a:lnTo>
                      <a:pt x="163" y="54"/>
                    </a:lnTo>
                    <a:lnTo>
                      <a:pt x="164" y="52"/>
                    </a:lnTo>
                    <a:lnTo>
                      <a:pt x="165" y="50"/>
                    </a:lnTo>
                    <a:lnTo>
                      <a:pt x="164" y="47"/>
                    </a:lnTo>
                    <a:lnTo>
                      <a:pt x="163" y="45"/>
                    </a:lnTo>
                    <a:lnTo>
                      <a:pt x="162" y="44"/>
                    </a:lnTo>
                    <a:lnTo>
                      <a:pt x="158" y="43"/>
                    </a:lnTo>
                    <a:lnTo>
                      <a:pt x="155" y="44"/>
                    </a:lnTo>
                    <a:lnTo>
                      <a:pt x="153" y="45"/>
                    </a:lnTo>
                    <a:lnTo>
                      <a:pt x="152" y="47"/>
                    </a:lnTo>
                    <a:lnTo>
                      <a:pt x="152" y="50"/>
                    </a:lnTo>
                    <a:lnTo>
                      <a:pt x="152" y="50"/>
                    </a:lnTo>
                    <a:close/>
                  </a:path>
                </a:pathLst>
              </a:custGeom>
              <a:solidFill>
                <a:srgbClr val="f7e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747480" y="5245920"/>
                <a:ext cx="203760" cy="154080"/>
              </a:xfrm>
              <a:custGeom>
                <a:avLst/>
                <a:gdLst/>
                <a:ahLst/>
                <a:rect l="l" t="t" r="r" b="b"/>
                <a:pathLst>
                  <a:path w="181" h="108">
                    <a:moveTo>
                      <a:pt x="181" y="36"/>
                    </a:moveTo>
                    <a:lnTo>
                      <a:pt x="181" y="36"/>
                    </a:lnTo>
                    <a:lnTo>
                      <a:pt x="181" y="30"/>
                    </a:lnTo>
                    <a:lnTo>
                      <a:pt x="181" y="24"/>
                    </a:lnTo>
                    <a:lnTo>
                      <a:pt x="181" y="19"/>
                    </a:lnTo>
                    <a:lnTo>
                      <a:pt x="181" y="15"/>
                    </a:lnTo>
                    <a:lnTo>
                      <a:pt x="181" y="11"/>
                    </a:lnTo>
                    <a:lnTo>
                      <a:pt x="181" y="9"/>
                    </a:lnTo>
                    <a:lnTo>
                      <a:pt x="181" y="6"/>
                    </a:lnTo>
                    <a:lnTo>
                      <a:pt x="181" y="4"/>
                    </a:lnTo>
                    <a:lnTo>
                      <a:pt x="181" y="2"/>
                    </a:lnTo>
                    <a:lnTo>
                      <a:pt x="181" y="1"/>
                    </a:lnTo>
                    <a:lnTo>
                      <a:pt x="181" y="1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2"/>
                    </a:lnTo>
                    <a:lnTo>
                      <a:pt x="36" y="4"/>
                    </a:lnTo>
                    <a:lnTo>
                      <a:pt x="36" y="6"/>
                    </a:lnTo>
                    <a:lnTo>
                      <a:pt x="36" y="9"/>
                    </a:lnTo>
                    <a:lnTo>
                      <a:pt x="36" y="11"/>
                    </a:lnTo>
                    <a:lnTo>
                      <a:pt x="36" y="15"/>
                    </a:lnTo>
                    <a:lnTo>
                      <a:pt x="36" y="19"/>
                    </a:lnTo>
                    <a:lnTo>
                      <a:pt x="36" y="24"/>
                    </a:lnTo>
                    <a:lnTo>
                      <a:pt x="36" y="30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36" y="73"/>
                    </a:lnTo>
                    <a:lnTo>
                      <a:pt x="36" y="73"/>
                    </a:lnTo>
                    <a:lnTo>
                      <a:pt x="36" y="79"/>
                    </a:lnTo>
                    <a:lnTo>
                      <a:pt x="36" y="84"/>
                    </a:lnTo>
                    <a:lnTo>
                      <a:pt x="36" y="89"/>
                    </a:lnTo>
                    <a:lnTo>
                      <a:pt x="36" y="93"/>
                    </a:lnTo>
                    <a:lnTo>
                      <a:pt x="36" y="97"/>
                    </a:lnTo>
                    <a:lnTo>
                      <a:pt x="36" y="99"/>
                    </a:lnTo>
                    <a:lnTo>
                      <a:pt x="36" y="102"/>
                    </a:lnTo>
                    <a:lnTo>
                      <a:pt x="36" y="105"/>
                    </a:lnTo>
                    <a:lnTo>
                      <a:pt x="36" y="106"/>
                    </a:lnTo>
                    <a:lnTo>
                      <a:pt x="36" y="107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36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8"/>
                    </a:lnTo>
                    <a:lnTo>
                      <a:pt x="181" y="107"/>
                    </a:lnTo>
                    <a:lnTo>
                      <a:pt x="181" y="106"/>
                    </a:lnTo>
                    <a:lnTo>
                      <a:pt x="181" y="105"/>
                    </a:lnTo>
                    <a:lnTo>
                      <a:pt x="181" y="102"/>
                    </a:lnTo>
                    <a:lnTo>
                      <a:pt x="181" y="99"/>
                    </a:lnTo>
                    <a:lnTo>
                      <a:pt x="181" y="97"/>
                    </a:lnTo>
                    <a:lnTo>
                      <a:pt x="181" y="93"/>
                    </a:lnTo>
                    <a:lnTo>
                      <a:pt x="181" y="89"/>
                    </a:lnTo>
                    <a:lnTo>
                      <a:pt x="181" y="84"/>
                    </a:lnTo>
                    <a:lnTo>
                      <a:pt x="181" y="79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73"/>
                    </a:lnTo>
                    <a:lnTo>
                      <a:pt x="181" y="36"/>
                    </a:lnTo>
                    <a:lnTo>
                      <a:pt x="181" y="36"/>
                    </a:lnTo>
                    <a:lnTo>
                      <a:pt x="181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9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47480" y="5193000"/>
                <a:ext cx="203760" cy="15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747480" y="5193000"/>
                <a:ext cx="203760" cy="15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0" name=""/>
              <p:cNvSpPr/>
              <p:nvPr/>
            </p:nvSpPr>
            <p:spPr>
              <a:xfrm>
                <a:off x="6747480" y="5244120"/>
                <a:ext cx="199800" cy="11628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5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8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7" y="71"/>
                    </a:lnTo>
                    <a:lnTo>
                      <a:pt x="7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8" y="80"/>
                    </a:lnTo>
                    <a:lnTo>
                      <a:pt x="10" y="81"/>
                    </a:lnTo>
                    <a:lnTo>
                      <a:pt x="12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8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1" y="77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91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93360" y="5193000"/>
                <a:ext cx="201600" cy="156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93360" y="5193000"/>
                <a:ext cx="201600" cy="15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3" name=""/>
              <p:cNvSpPr/>
              <p:nvPr/>
            </p:nvSpPr>
            <p:spPr>
              <a:xfrm>
                <a:off x="7008840" y="5244120"/>
                <a:ext cx="201960" cy="116280"/>
              </a:xfrm>
              <a:custGeom>
                <a:avLst/>
                <a:gdLst/>
                <a:ahLst/>
                <a:rect l="l" t="t" r="r" b="b"/>
                <a:pathLst>
                  <a:path w="179" h="82">
                    <a:moveTo>
                      <a:pt x="173" y="12"/>
                    </a:moveTo>
                    <a:lnTo>
                      <a:pt x="173" y="7"/>
                    </a:lnTo>
                    <a:lnTo>
                      <a:pt x="171" y="4"/>
                    </a:lnTo>
                    <a:lnTo>
                      <a:pt x="170" y="1"/>
                    </a:lnTo>
                    <a:lnTo>
                      <a:pt x="169" y="0"/>
                    </a:lnTo>
                    <a:lnTo>
                      <a:pt x="165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1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1"/>
                    </a:lnTo>
                    <a:lnTo>
                      <a:pt x="10" y="71"/>
                    </a:lnTo>
                    <a:lnTo>
                      <a:pt x="10" y="76"/>
                    </a:lnTo>
                    <a:lnTo>
                      <a:pt x="10" y="78"/>
                    </a:lnTo>
                    <a:lnTo>
                      <a:pt x="11" y="81"/>
                    </a:lnTo>
                    <a:lnTo>
                      <a:pt x="14" y="82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165" y="82"/>
                    </a:lnTo>
                    <a:lnTo>
                      <a:pt x="169" y="82"/>
                    </a:lnTo>
                    <a:lnTo>
                      <a:pt x="170" y="81"/>
                    </a:lnTo>
                    <a:lnTo>
                      <a:pt x="171" y="78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6"/>
                    </a:lnTo>
                    <a:lnTo>
                      <a:pt x="173" y="71"/>
                    </a:lnTo>
                    <a:lnTo>
                      <a:pt x="179" y="71"/>
                    </a:lnTo>
                    <a:lnTo>
                      <a:pt x="179" y="12"/>
                    </a:lnTo>
                    <a:lnTo>
                      <a:pt x="173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91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094240" y="5245920"/>
                <a:ext cx="122760" cy="15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5" name=""/>
              <p:cNvSpPr/>
              <p:nvPr/>
            </p:nvSpPr>
            <p:spPr>
              <a:xfrm>
                <a:off x="8098560" y="5266080"/>
                <a:ext cx="113040" cy="149760"/>
              </a:xfrm>
              <a:custGeom>
                <a:avLst/>
                <a:gdLst/>
                <a:ahLst/>
                <a:rect l="l" t="t" r="r" b="b"/>
                <a:pathLst>
                  <a:path w="101" h="103">
                    <a:moveTo>
                      <a:pt x="101" y="53"/>
                    </a:moveTo>
                    <a:lnTo>
                      <a:pt x="101" y="48"/>
                    </a:lnTo>
                    <a:lnTo>
                      <a:pt x="100" y="42"/>
                    </a:lnTo>
                    <a:lnTo>
                      <a:pt x="100" y="36"/>
                    </a:lnTo>
                    <a:lnTo>
                      <a:pt x="97" y="33"/>
                    </a:lnTo>
                    <a:lnTo>
                      <a:pt x="95" y="28"/>
                    </a:lnTo>
                    <a:lnTo>
                      <a:pt x="92" y="23"/>
                    </a:lnTo>
                    <a:lnTo>
                      <a:pt x="90" y="19"/>
                    </a:lnTo>
                    <a:lnTo>
                      <a:pt x="87" y="15"/>
                    </a:lnTo>
                    <a:lnTo>
                      <a:pt x="83" y="12"/>
                    </a:lnTo>
                    <a:lnTo>
                      <a:pt x="80" y="9"/>
                    </a:lnTo>
                    <a:lnTo>
                      <a:pt x="75" y="6"/>
                    </a:lnTo>
                    <a:lnTo>
                      <a:pt x="71" y="5"/>
                    </a:lnTo>
                    <a:lnTo>
                      <a:pt x="66" y="2"/>
                    </a:lnTo>
                    <a:lnTo>
                      <a:pt x="62" y="1"/>
                    </a:lnTo>
                    <a:lnTo>
                      <a:pt x="57" y="1"/>
                    </a:lnTo>
                    <a:lnTo>
                      <a:pt x="52" y="0"/>
                    </a:lnTo>
                    <a:lnTo>
                      <a:pt x="46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5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2"/>
                    </a:lnTo>
                    <a:lnTo>
                      <a:pt x="15" y="15"/>
                    </a:lnTo>
                    <a:lnTo>
                      <a:pt x="11" y="19"/>
                    </a:lnTo>
                    <a:lnTo>
                      <a:pt x="8" y="23"/>
                    </a:lnTo>
                    <a:lnTo>
                      <a:pt x="6" y="28"/>
                    </a:lnTo>
                    <a:lnTo>
                      <a:pt x="3" y="33"/>
                    </a:lnTo>
                    <a:lnTo>
                      <a:pt x="2" y="36"/>
                    </a:lnTo>
                    <a:lnTo>
                      <a:pt x="1" y="42"/>
                    </a:lnTo>
                    <a:lnTo>
                      <a:pt x="0" y="48"/>
                    </a:lnTo>
                    <a:lnTo>
                      <a:pt x="0" y="53"/>
                    </a:lnTo>
                    <a:lnTo>
                      <a:pt x="0" y="58"/>
                    </a:lnTo>
                    <a:lnTo>
                      <a:pt x="1" y="63"/>
                    </a:lnTo>
                    <a:lnTo>
                      <a:pt x="2" y="68"/>
                    </a:lnTo>
                    <a:lnTo>
                      <a:pt x="3" y="72"/>
                    </a:lnTo>
                    <a:lnTo>
                      <a:pt x="6" y="77"/>
                    </a:lnTo>
                    <a:lnTo>
                      <a:pt x="8" y="81"/>
                    </a:lnTo>
                    <a:lnTo>
                      <a:pt x="11" y="84"/>
                    </a:lnTo>
                    <a:lnTo>
                      <a:pt x="15" y="88"/>
                    </a:lnTo>
                    <a:lnTo>
                      <a:pt x="18" y="91"/>
                    </a:lnTo>
                    <a:lnTo>
                      <a:pt x="22" y="95"/>
                    </a:lnTo>
                    <a:lnTo>
                      <a:pt x="27" y="97"/>
                    </a:lnTo>
                    <a:lnTo>
                      <a:pt x="31" y="98"/>
                    </a:lnTo>
                    <a:lnTo>
                      <a:pt x="36" y="101"/>
                    </a:lnTo>
                    <a:lnTo>
                      <a:pt x="41" y="102"/>
                    </a:lnTo>
                    <a:lnTo>
                      <a:pt x="46" y="102"/>
                    </a:lnTo>
                    <a:lnTo>
                      <a:pt x="52" y="103"/>
                    </a:lnTo>
                    <a:lnTo>
                      <a:pt x="57" y="102"/>
                    </a:lnTo>
                    <a:lnTo>
                      <a:pt x="62" y="102"/>
                    </a:lnTo>
                    <a:lnTo>
                      <a:pt x="66" y="101"/>
                    </a:lnTo>
                    <a:lnTo>
                      <a:pt x="71" y="98"/>
                    </a:lnTo>
                    <a:lnTo>
                      <a:pt x="75" y="97"/>
                    </a:lnTo>
                    <a:lnTo>
                      <a:pt x="80" y="95"/>
                    </a:lnTo>
                    <a:lnTo>
                      <a:pt x="83" y="91"/>
                    </a:lnTo>
                    <a:lnTo>
                      <a:pt x="87" y="88"/>
                    </a:lnTo>
                    <a:lnTo>
                      <a:pt x="90" y="84"/>
                    </a:lnTo>
                    <a:lnTo>
                      <a:pt x="92" y="81"/>
                    </a:lnTo>
                    <a:lnTo>
                      <a:pt x="95" y="77"/>
                    </a:lnTo>
                    <a:lnTo>
                      <a:pt x="97" y="72"/>
                    </a:lnTo>
                    <a:lnTo>
                      <a:pt x="100" y="68"/>
                    </a:lnTo>
                    <a:lnTo>
                      <a:pt x="100" y="63"/>
                    </a:lnTo>
                    <a:lnTo>
                      <a:pt x="101" y="58"/>
                    </a:lnTo>
                    <a:lnTo>
                      <a:pt x="101" y="5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916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094240" y="5245920"/>
                <a:ext cx="81000" cy="103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094240" y="5245920"/>
                <a:ext cx="81000" cy="10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"/>
              <p:cNvSpPr/>
              <p:nvPr/>
            </p:nvSpPr>
            <p:spPr>
              <a:xfrm>
                <a:off x="8118360" y="5294520"/>
                <a:ext cx="73080" cy="94680"/>
              </a:xfrm>
              <a:custGeom>
                <a:avLst/>
                <a:gdLst/>
                <a:ahLst/>
                <a:rect l="l" t="t" r="r" b="b"/>
                <a:pathLst>
                  <a:path w="66" h="65">
                    <a:moveTo>
                      <a:pt x="66" y="34"/>
                    </a:moveTo>
                    <a:lnTo>
                      <a:pt x="66" y="30"/>
                    </a:lnTo>
                    <a:lnTo>
                      <a:pt x="65" y="26"/>
                    </a:lnTo>
                    <a:lnTo>
                      <a:pt x="64" y="20"/>
                    </a:lnTo>
                    <a:lnTo>
                      <a:pt x="61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9"/>
                    </a:lnTo>
                    <a:lnTo>
                      <a:pt x="6" y="14"/>
                    </a:lnTo>
                    <a:lnTo>
                      <a:pt x="3" y="20"/>
                    </a:lnTo>
                    <a:lnTo>
                      <a:pt x="1" y="26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0"/>
                    </a:lnTo>
                    <a:lnTo>
                      <a:pt x="3" y="47"/>
                    </a:lnTo>
                    <a:lnTo>
                      <a:pt x="6" y="52"/>
                    </a:lnTo>
                    <a:lnTo>
                      <a:pt x="10" y="57"/>
                    </a:lnTo>
                    <a:lnTo>
                      <a:pt x="15" y="60"/>
                    </a:lnTo>
                    <a:lnTo>
                      <a:pt x="20" y="63"/>
                    </a:lnTo>
                    <a:lnTo>
                      <a:pt x="28" y="65"/>
                    </a:lnTo>
                    <a:lnTo>
                      <a:pt x="31" y="65"/>
                    </a:lnTo>
                    <a:lnTo>
                      <a:pt x="35" y="65"/>
                    </a:lnTo>
                    <a:lnTo>
                      <a:pt x="38" y="65"/>
                    </a:lnTo>
                    <a:lnTo>
                      <a:pt x="41" y="65"/>
                    </a:lnTo>
                    <a:lnTo>
                      <a:pt x="48" y="63"/>
                    </a:lnTo>
                    <a:lnTo>
                      <a:pt x="53" y="60"/>
                    </a:lnTo>
                    <a:lnTo>
                      <a:pt x="58" y="57"/>
                    </a:lnTo>
                    <a:lnTo>
                      <a:pt x="61" y="52"/>
                    </a:lnTo>
                    <a:lnTo>
                      <a:pt x="64" y="47"/>
                    </a:lnTo>
                    <a:lnTo>
                      <a:pt x="65" y="40"/>
                    </a:lnTo>
                    <a:lnTo>
                      <a:pt x="66" y="38"/>
                    </a:lnTo>
                    <a:lnTo>
                      <a:pt x="66" y="34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888320" y="55105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828920" y="5217480"/>
                <a:ext cx="39960" cy="19440"/>
              </a:xfrm>
              <a:prstGeom prst="rect">
                <a:avLst/>
              </a:prstGeom>
              <a:solidFill>
                <a:srgbClr val="ead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828920" y="5217480"/>
                <a:ext cx="39960" cy="194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885640" y="5222160"/>
                <a:ext cx="120600" cy="15372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  <a:close/>
                  </a:path>
                </a:pathLst>
              </a:cu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85640" y="5222160"/>
                <a:ext cx="120600" cy="153720"/>
              </a:xfrm>
              <a:custGeom>
                <a:avLst/>
                <a:gdLst/>
                <a:ahLst/>
                <a:rect l="l" t="t" r="r" b="b"/>
                <a:pathLst>
                  <a:path w="109" h="108">
                    <a:moveTo>
                      <a:pt x="104" y="79"/>
                    </a:moveTo>
                    <a:lnTo>
                      <a:pt x="107" y="72"/>
                    </a:lnTo>
                    <a:lnTo>
                      <a:pt x="108" y="67"/>
                    </a:lnTo>
                    <a:lnTo>
                      <a:pt x="109" y="62"/>
                    </a:lnTo>
                    <a:lnTo>
                      <a:pt x="109" y="57"/>
                    </a:lnTo>
                    <a:lnTo>
                      <a:pt x="109" y="52"/>
                    </a:lnTo>
                    <a:lnTo>
                      <a:pt x="109" y="47"/>
                    </a:lnTo>
                    <a:lnTo>
                      <a:pt x="108" y="42"/>
                    </a:lnTo>
                    <a:lnTo>
                      <a:pt x="107" y="37"/>
                    </a:lnTo>
                    <a:lnTo>
                      <a:pt x="104" y="32"/>
                    </a:lnTo>
                    <a:lnTo>
                      <a:pt x="103" y="27"/>
                    </a:lnTo>
                    <a:lnTo>
                      <a:pt x="99" y="23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7" y="4"/>
                    </a:lnTo>
                    <a:lnTo>
                      <a:pt x="74" y="3"/>
                    </a:lnTo>
                    <a:lnTo>
                      <a:pt x="72" y="2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2"/>
                    </a:lnTo>
                    <a:lnTo>
                      <a:pt x="33" y="4"/>
                    </a:lnTo>
                    <a:lnTo>
                      <a:pt x="28" y="7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29"/>
                    </a:lnTo>
                    <a:lnTo>
                      <a:pt x="4" y="34"/>
                    </a:lnTo>
                    <a:lnTo>
                      <a:pt x="3" y="39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2" y="66"/>
                    </a:lnTo>
                    <a:lnTo>
                      <a:pt x="4" y="70"/>
                    </a:lnTo>
                    <a:lnTo>
                      <a:pt x="5" y="72"/>
                    </a:lnTo>
                    <a:lnTo>
                      <a:pt x="7" y="75"/>
                    </a:lnTo>
                    <a:lnTo>
                      <a:pt x="7" y="79"/>
                    </a:lnTo>
                    <a:lnTo>
                      <a:pt x="7" y="79"/>
                    </a:lnTo>
                    <a:lnTo>
                      <a:pt x="23" y="79"/>
                    </a:lnTo>
                    <a:lnTo>
                      <a:pt x="23" y="96"/>
                    </a:lnTo>
                    <a:lnTo>
                      <a:pt x="27" y="99"/>
                    </a:lnTo>
                    <a:lnTo>
                      <a:pt x="30" y="101"/>
                    </a:lnTo>
                    <a:lnTo>
                      <a:pt x="34" y="104"/>
                    </a:lnTo>
                    <a:lnTo>
                      <a:pt x="38" y="105"/>
                    </a:lnTo>
                    <a:lnTo>
                      <a:pt x="42" y="106"/>
                    </a:lnTo>
                    <a:lnTo>
                      <a:pt x="47" y="108"/>
                    </a:lnTo>
                    <a:lnTo>
                      <a:pt x="51" y="108"/>
                    </a:lnTo>
                    <a:lnTo>
                      <a:pt x="56" y="108"/>
                    </a:lnTo>
                    <a:lnTo>
                      <a:pt x="59" y="108"/>
                    </a:lnTo>
                    <a:lnTo>
                      <a:pt x="64" y="108"/>
                    </a:lnTo>
                    <a:lnTo>
                      <a:pt x="68" y="106"/>
                    </a:lnTo>
                    <a:lnTo>
                      <a:pt x="73" y="105"/>
                    </a:lnTo>
                    <a:lnTo>
                      <a:pt x="77" y="104"/>
                    </a:lnTo>
                    <a:lnTo>
                      <a:pt x="81" y="101"/>
                    </a:lnTo>
                    <a:lnTo>
                      <a:pt x="84" y="99"/>
                    </a:lnTo>
                    <a:lnTo>
                      <a:pt x="88" y="96"/>
                    </a:lnTo>
                    <a:lnTo>
                      <a:pt x="88" y="96"/>
                    </a:lnTo>
                    <a:lnTo>
                      <a:pt x="88" y="79"/>
                    </a:lnTo>
                    <a:lnTo>
                      <a:pt x="104" y="79"/>
                    </a:lnTo>
                    <a:lnTo>
                      <a:pt x="104" y="79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6323400" y="5492880"/>
                <a:ext cx="1226520" cy="74880"/>
              </a:xfrm>
              <a:custGeom>
                <a:avLst/>
                <a:gdLst/>
                <a:ahLst/>
                <a:rect l="l" t="t" r="r" b="b"/>
                <a:pathLst>
                  <a:path w="1087" h="51">
                    <a:moveTo>
                      <a:pt x="0" y="45"/>
                    </a:moveTo>
                    <a:lnTo>
                      <a:pt x="7" y="45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  <a:moveTo>
                      <a:pt x="50" y="25"/>
                    </a:moveTo>
                    <a:lnTo>
                      <a:pt x="50" y="21"/>
                    </a:lnTo>
                    <a:lnTo>
                      <a:pt x="49" y="19"/>
                    </a:lnTo>
                    <a:lnTo>
                      <a:pt x="47" y="15"/>
                    </a:lnTo>
                    <a:lnTo>
                      <a:pt x="46" y="12"/>
                    </a:lnTo>
                    <a:lnTo>
                      <a:pt x="44" y="10"/>
                    </a:lnTo>
                    <a:lnTo>
                      <a:pt x="41" y="9"/>
                    </a:lnTo>
                    <a:lnTo>
                      <a:pt x="37" y="7"/>
                    </a:lnTo>
                    <a:lnTo>
                      <a:pt x="35" y="6"/>
                    </a:lnTo>
                    <a:lnTo>
                      <a:pt x="31" y="7"/>
                    </a:lnTo>
                    <a:lnTo>
                      <a:pt x="27" y="9"/>
                    </a:lnTo>
                    <a:lnTo>
                      <a:pt x="25" y="10"/>
                    </a:lnTo>
                    <a:lnTo>
                      <a:pt x="22" y="12"/>
                    </a:lnTo>
                    <a:lnTo>
                      <a:pt x="20" y="15"/>
                    </a:lnTo>
                    <a:lnTo>
                      <a:pt x="17" y="19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7" y="33"/>
                    </a:lnTo>
                    <a:lnTo>
                      <a:pt x="20" y="36"/>
                    </a:lnTo>
                    <a:lnTo>
                      <a:pt x="22" y="39"/>
                    </a:lnTo>
                    <a:lnTo>
                      <a:pt x="25" y="41"/>
                    </a:lnTo>
                    <a:lnTo>
                      <a:pt x="27" y="44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7" y="45"/>
                    </a:lnTo>
                    <a:lnTo>
                      <a:pt x="41" y="44"/>
                    </a:lnTo>
                    <a:lnTo>
                      <a:pt x="44" y="41"/>
                    </a:lnTo>
                    <a:lnTo>
                      <a:pt x="46" y="39"/>
                    </a:lnTo>
                    <a:lnTo>
                      <a:pt x="47" y="36"/>
                    </a:lnTo>
                    <a:lnTo>
                      <a:pt x="49" y="33"/>
                    </a:lnTo>
                    <a:lnTo>
                      <a:pt x="50" y="29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  <a:moveTo>
                      <a:pt x="44" y="25"/>
                    </a:moveTo>
                    <a:lnTo>
                      <a:pt x="44" y="27"/>
                    </a:lnTo>
                    <a:lnTo>
                      <a:pt x="42" y="30"/>
                    </a:lnTo>
                    <a:lnTo>
                      <a:pt x="41" y="31"/>
                    </a:lnTo>
                    <a:lnTo>
                      <a:pt x="40" y="33"/>
                    </a:lnTo>
                    <a:lnTo>
                      <a:pt x="39" y="34"/>
                    </a:lnTo>
                    <a:lnTo>
                      <a:pt x="37" y="35"/>
                    </a:lnTo>
                    <a:lnTo>
                      <a:pt x="36" y="36"/>
                    </a:lnTo>
                    <a:lnTo>
                      <a:pt x="35" y="36"/>
                    </a:lnTo>
                    <a:lnTo>
                      <a:pt x="32" y="36"/>
                    </a:lnTo>
                    <a:lnTo>
                      <a:pt x="30" y="35"/>
                    </a:lnTo>
                    <a:lnTo>
                      <a:pt x="27" y="34"/>
                    </a:lnTo>
                    <a:lnTo>
                      <a:pt x="26" y="33"/>
                    </a:lnTo>
                    <a:lnTo>
                      <a:pt x="25" y="31"/>
                    </a:lnTo>
                    <a:lnTo>
                      <a:pt x="24" y="30"/>
                    </a:lnTo>
                    <a:lnTo>
                      <a:pt x="24" y="27"/>
                    </a:lnTo>
                    <a:lnTo>
                      <a:pt x="22" y="25"/>
                    </a:lnTo>
                    <a:lnTo>
                      <a:pt x="24" y="22"/>
                    </a:lnTo>
                    <a:lnTo>
                      <a:pt x="24" y="20"/>
                    </a:lnTo>
                    <a:lnTo>
                      <a:pt x="25" y="19"/>
                    </a:lnTo>
                    <a:lnTo>
                      <a:pt x="26" y="16"/>
                    </a:lnTo>
                    <a:lnTo>
                      <a:pt x="27" y="15"/>
                    </a:lnTo>
                    <a:lnTo>
                      <a:pt x="30" y="14"/>
                    </a:lnTo>
                    <a:lnTo>
                      <a:pt x="32" y="14"/>
                    </a:lnTo>
                    <a:lnTo>
                      <a:pt x="35" y="14"/>
                    </a:lnTo>
                    <a:lnTo>
                      <a:pt x="36" y="14"/>
                    </a:lnTo>
                    <a:lnTo>
                      <a:pt x="37" y="14"/>
                    </a:lnTo>
                    <a:lnTo>
                      <a:pt x="39" y="15"/>
                    </a:lnTo>
                    <a:lnTo>
                      <a:pt x="40" y="16"/>
                    </a:lnTo>
                    <a:lnTo>
                      <a:pt x="41" y="19"/>
                    </a:lnTo>
                    <a:lnTo>
                      <a:pt x="42" y="20"/>
                    </a:lnTo>
                    <a:lnTo>
                      <a:pt x="44" y="22"/>
                    </a:lnTo>
                    <a:lnTo>
                      <a:pt x="44" y="25"/>
                    </a:lnTo>
                    <a:lnTo>
                      <a:pt x="44" y="25"/>
                    </a:lnTo>
                    <a:close/>
                    <a:moveTo>
                      <a:pt x="59" y="45"/>
                    </a:moveTo>
                    <a:lnTo>
                      <a:pt x="66" y="45"/>
                    </a:lnTo>
                    <a:lnTo>
                      <a:pt x="66" y="6"/>
                    </a:lnTo>
                    <a:lnTo>
                      <a:pt x="59" y="6"/>
                    </a:lnTo>
                    <a:lnTo>
                      <a:pt x="59" y="45"/>
                    </a:lnTo>
                    <a:lnTo>
                      <a:pt x="59" y="45"/>
                    </a:lnTo>
                    <a:close/>
                    <a:moveTo>
                      <a:pt x="109" y="25"/>
                    </a:moveTo>
                    <a:lnTo>
                      <a:pt x="109" y="21"/>
                    </a:lnTo>
                    <a:lnTo>
                      <a:pt x="108" y="19"/>
                    </a:lnTo>
                    <a:lnTo>
                      <a:pt x="106" y="15"/>
                    </a:lnTo>
                    <a:lnTo>
                      <a:pt x="105" y="12"/>
                    </a:lnTo>
                    <a:lnTo>
                      <a:pt x="103" y="10"/>
                    </a:lnTo>
                    <a:lnTo>
                      <a:pt x="100" y="9"/>
                    </a:lnTo>
                    <a:lnTo>
                      <a:pt x="96" y="7"/>
                    </a:lnTo>
                    <a:lnTo>
                      <a:pt x="93" y="6"/>
                    </a:lnTo>
                    <a:lnTo>
                      <a:pt x="90" y="7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1" y="12"/>
                    </a:lnTo>
                    <a:lnTo>
                      <a:pt x="79" y="15"/>
                    </a:lnTo>
                    <a:lnTo>
                      <a:pt x="76" y="19"/>
                    </a:lnTo>
                    <a:lnTo>
                      <a:pt x="75" y="21"/>
                    </a:lnTo>
                    <a:lnTo>
                      <a:pt x="75" y="25"/>
                    </a:lnTo>
                    <a:lnTo>
                      <a:pt x="75" y="29"/>
                    </a:lnTo>
                    <a:lnTo>
                      <a:pt x="76" y="33"/>
                    </a:lnTo>
                    <a:lnTo>
                      <a:pt x="79" y="36"/>
                    </a:lnTo>
                    <a:lnTo>
                      <a:pt x="81" y="39"/>
                    </a:lnTo>
                    <a:lnTo>
                      <a:pt x="84" y="41"/>
                    </a:lnTo>
                    <a:lnTo>
                      <a:pt x="86" y="44"/>
                    </a:lnTo>
                    <a:lnTo>
                      <a:pt x="90" y="45"/>
                    </a:lnTo>
                    <a:lnTo>
                      <a:pt x="93" y="45"/>
                    </a:lnTo>
                    <a:lnTo>
                      <a:pt x="96" y="45"/>
                    </a:lnTo>
                    <a:lnTo>
                      <a:pt x="100" y="44"/>
                    </a:lnTo>
                    <a:lnTo>
                      <a:pt x="103" y="41"/>
                    </a:lnTo>
                    <a:lnTo>
                      <a:pt x="105" y="39"/>
                    </a:lnTo>
                    <a:lnTo>
                      <a:pt x="106" y="36"/>
                    </a:lnTo>
                    <a:lnTo>
                      <a:pt x="108" y="33"/>
                    </a:lnTo>
                    <a:lnTo>
                      <a:pt x="109" y="29"/>
                    </a:lnTo>
                    <a:lnTo>
                      <a:pt x="109" y="25"/>
                    </a:lnTo>
                    <a:lnTo>
                      <a:pt x="109" y="25"/>
                    </a:lnTo>
                    <a:close/>
                    <a:moveTo>
                      <a:pt x="103" y="25"/>
                    </a:moveTo>
                    <a:lnTo>
                      <a:pt x="103" y="27"/>
                    </a:lnTo>
                    <a:lnTo>
                      <a:pt x="101" y="30"/>
                    </a:lnTo>
                    <a:lnTo>
                      <a:pt x="100" y="31"/>
                    </a:lnTo>
                    <a:lnTo>
                      <a:pt x="99" y="33"/>
                    </a:lnTo>
                    <a:lnTo>
                      <a:pt x="98" y="34"/>
                    </a:lnTo>
                    <a:lnTo>
                      <a:pt x="96" y="35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1" y="36"/>
                    </a:lnTo>
                    <a:lnTo>
                      <a:pt x="89" y="35"/>
                    </a:lnTo>
                    <a:lnTo>
                      <a:pt x="86" y="34"/>
                    </a:lnTo>
                    <a:lnTo>
                      <a:pt x="85" y="33"/>
                    </a:lnTo>
                    <a:lnTo>
                      <a:pt x="84" y="31"/>
                    </a:lnTo>
                    <a:lnTo>
                      <a:pt x="83" y="30"/>
                    </a:lnTo>
                    <a:lnTo>
                      <a:pt x="83" y="27"/>
                    </a:lnTo>
                    <a:lnTo>
                      <a:pt x="81" y="25"/>
                    </a:lnTo>
                    <a:lnTo>
                      <a:pt x="83" y="22"/>
                    </a:lnTo>
                    <a:lnTo>
                      <a:pt x="83" y="20"/>
                    </a:lnTo>
                    <a:lnTo>
                      <a:pt x="84" y="19"/>
                    </a:lnTo>
                    <a:lnTo>
                      <a:pt x="85" y="16"/>
                    </a:lnTo>
                    <a:lnTo>
                      <a:pt x="86" y="15"/>
                    </a:lnTo>
                    <a:lnTo>
                      <a:pt x="89" y="14"/>
                    </a:lnTo>
                    <a:lnTo>
                      <a:pt x="91" y="14"/>
                    </a:lnTo>
                    <a:lnTo>
                      <a:pt x="93" y="14"/>
                    </a:lnTo>
                    <a:lnTo>
                      <a:pt x="95" y="14"/>
                    </a:lnTo>
                    <a:lnTo>
                      <a:pt x="96" y="14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0" y="19"/>
                    </a:lnTo>
                    <a:lnTo>
                      <a:pt x="101" y="20"/>
                    </a:lnTo>
                    <a:lnTo>
                      <a:pt x="103" y="22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  <a:moveTo>
                      <a:pt x="118" y="45"/>
                    </a:moveTo>
                    <a:lnTo>
                      <a:pt x="125" y="45"/>
                    </a:lnTo>
                    <a:lnTo>
                      <a:pt x="125" y="6"/>
                    </a:lnTo>
                    <a:lnTo>
                      <a:pt x="118" y="6"/>
                    </a:lnTo>
                    <a:lnTo>
                      <a:pt x="118" y="45"/>
                    </a:lnTo>
                    <a:lnTo>
                      <a:pt x="118" y="45"/>
                    </a:lnTo>
                    <a:close/>
                    <a:moveTo>
                      <a:pt x="502" y="25"/>
                    </a:moveTo>
                    <a:lnTo>
                      <a:pt x="460" y="25"/>
                    </a:lnTo>
                    <a:lnTo>
                      <a:pt x="468" y="16"/>
                    </a:lnTo>
                    <a:lnTo>
                      <a:pt x="478" y="16"/>
                    </a:lnTo>
                    <a:lnTo>
                      <a:pt x="478" y="17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2" y="17"/>
                    </a:lnTo>
                    <a:lnTo>
                      <a:pt x="483" y="17"/>
                    </a:lnTo>
                    <a:lnTo>
                      <a:pt x="485" y="17"/>
                    </a:lnTo>
                    <a:lnTo>
                      <a:pt x="486" y="16"/>
                    </a:lnTo>
                    <a:lnTo>
                      <a:pt x="486" y="15"/>
                    </a:lnTo>
                    <a:lnTo>
                      <a:pt x="487" y="14"/>
                    </a:lnTo>
                    <a:lnTo>
                      <a:pt x="487" y="11"/>
                    </a:lnTo>
                    <a:lnTo>
                      <a:pt x="485" y="10"/>
                    </a:lnTo>
                    <a:lnTo>
                      <a:pt x="483" y="9"/>
                    </a:lnTo>
                    <a:lnTo>
                      <a:pt x="482" y="9"/>
                    </a:lnTo>
                    <a:lnTo>
                      <a:pt x="480" y="9"/>
                    </a:lnTo>
                    <a:lnTo>
                      <a:pt x="478" y="9"/>
                    </a:lnTo>
                    <a:lnTo>
                      <a:pt x="478" y="10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78" y="11"/>
                    </a:lnTo>
                    <a:lnTo>
                      <a:pt x="467" y="11"/>
                    </a:lnTo>
                    <a:lnTo>
                      <a:pt x="456" y="25"/>
                    </a:lnTo>
                    <a:lnTo>
                      <a:pt x="451" y="25"/>
                    </a:lnTo>
                    <a:lnTo>
                      <a:pt x="448" y="21"/>
                    </a:lnTo>
                    <a:lnTo>
                      <a:pt x="447" y="21"/>
                    </a:lnTo>
                    <a:lnTo>
                      <a:pt x="446" y="20"/>
                    </a:lnTo>
                    <a:lnTo>
                      <a:pt x="445" y="20"/>
                    </a:lnTo>
                    <a:lnTo>
                      <a:pt x="443" y="19"/>
                    </a:lnTo>
                    <a:lnTo>
                      <a:pt x="442" y="20"/>
                    </a:lnTo>
                    <a:lnTo>
                      <a:pt x="442" y="20"/>
                    </a:lnTo>
                    <a:lnTo>
                      <a:pt x="440" y="20"/>
                    </a:lnTo>
                    <a:lnTo>
                      <a:pt x="438" y="21"/>
                    </a:lnTo>
                    <a:lnTo>
                      <a:pt x="437" y="22"/>
                    </a:lnTo>
                    <a:lnTo>
                      <a:pt x="437" y="22"/>
                    </a:lnTo>
                    <a:lnTo>
                      <a:pt x="436" y="26"/>
                    </a:lnTo>
                    <a:lnTo>
                      <a:pt x="435" y="29"/>
                    </a:lnTo>
                    <a:lnTo>
                      <a:pt x="437" y="31"/>
                    </a:lnTo>
                    <a:lnTo>
                      <a:pt x="440" y="33"/>
                    </a:lnTo>
                    <a:lnTo>
                      <a:pt x="442" y="34"/>
                    </a:lnTo>
                    <a:lnTo>
                      <a:pt x="445" y="34"/>
                    </a:lnTo>
                    <a:lnTo>
                      <a:pt x="446" y="34"/>
                    </a:lnTo>
                    <a:lnTo>
                      <a:pt x="447" y="33"/>
                    </a:lnTo>
                    <a:lnTo>
                      <a:pt x="450" y="31"/>
                    </a:lnTo>
                    <a:lnTo>
                      <a:pt x="451" y="29"/>
                    </a:lnTo>
                    <a:lnTo>
                      <a:pt x="451" y="29"/>
                    </a:lnTo>
                    <a:lnTo>
                      <a:pt x="467" y="29"/>
                    </a:lnTo>
                    <a:lnTo>
                      <a:pt x="480" y="40"/>
                    </a:lnTo>
                    <a:lnTo>
                      <a:pt x="487" y="40"/>
                    </a:lnTo>
                    <a:lnTo>
                      <a:pt x="487" y="45"/>
                    </a:lnTo>
                    <a:lnTo>
                      <a:pt x="498" y="45"/>
                    </a:lnTo>
                    <a:lnTo>
                      <a:pt x="498" y="34"/>
                    </a:lnTo>
                    <a:lnTo>
                      <a:pt x="487" y="34"/>
                    </a:lnTo>
                    <a:lnTo>
                      <a:pt x="487" y="39"/>
                    </a:lnTo>
                    <a:lnTo>
                      <a:pt x="480" y="39"/>
                    </a:lnTo>
                    <a:lnTo>
                      <a:pt x="471" y="29"/>
                    </a:lnTo>
                    <a:lnTo>
                      <a:pt x="502" y="29"/>
                    </a:lnTo>
                    <a:lnTo>
                      <a:pt x="502" y="31"/>
                    </a:lnTo>
                    <a:lnTo>
                      <a:pt x="512" y="27"/>
                    </a:lnTo>
                    <a:lnTo>
                      <a:pt x="502" y="22"/>
                    </a:lnTo>
                    <a:lnTo>
                      <a:pt x="502" y="25"/>
                    </a:lnTo>
                    <a:lnTo>
                      <a:pt x="502" y="25"/>
                    </a:lnTo>
                    <a:close/>
                    <a:moveTo>
                      <a:pt x="727" y="25"/>
                    </a:moveTo>
                    <a:lnTo>
                      <a:pt x="684" y="25"/>
                    </a:lnTo>
                    <a:lnTo>
                      <a:pt x="695" y="16"/>
                    </a:lnTo>
                    <a:lnTo>
                      <a:pt x="701" y="16"/>
                    </a:lnTo>
                    <a:lnTo>
                      <a:pt x="704" y="17"/>
                    </a:lnTo>
                    <a:lnTo>
                      <a:pt x="705" y="17"/>
                    </a:lnTo>
                    <a:lnTo>
                      <a:pt x="708" y="17"/>
                    </a:lnTo>
                    <a:lnTo>
                      <a:pt x="709" y="17"/>
                    </a:lnTo>
                    <a:lnTo>
                      <a:pt x="710" y="17"/>
                    </a:lnTo>
                    <a:lnTo>
                      <a:pt x="710" y="17"/>
                    </a:lnTo>
                    <a:lnTo>
                      <a:pt x="711" y="15"/>
                    </a:lnTo>
                    <a:lnTo>
                      <a:pt x="711" y="14"/>
                    </a:lnTo>
                    <a:lnTo>
                      <a:pt x="711" y="14"/>
                    </a:lnTo>
                    <a:lnTo>
                      <a:pt x="711" y="12"/>
                    </a:lnTo>
                    <a:lnTo>
                      <a:pt x="711" y="11"/>
                    </a:lnTo>
                    <a:lnTo>
                      <a:pt x="711" y="10"/>
                    </a:lnTo>
                    <a:lnTo>
                      <a:pt x="710" y="10"/>
                    </a:lnTo>
                    <a:lnTo>
                      <a:pt x="709" y="9"/>
                    </a:lnTo>
                    <a:lnTo>
                      <a:pt x="706" y="9"/>
                    </a:lnTo>
                    <a:lnTo>
                      <a:pt x="704" y="9"/>
                    </a:lnTo>
                    <a:lnTo>
                      <a:pt x="704" y="9"/>
                    </a:lnTo>
                    <a:lnTo>
                      <a:pt x="704" y="10"/>
                    </a:lnTo>
                    <a:lnTo>
                      <a:pt x="704" y="11"/>
                    </a:lnTo>
                    <a:lnTo>
                      <a:pt x="701" y="11"/>
                    </a:lnTo>
                    <a:lnTo>
                      <a:pt x="701" y="11"/>
                    </a:lnTo>
                    <a:lnTo>
                      <a:pt x="693" y="11"/>
                    </a:lnTo>
                    <a:lnTo>
                      <a:pt x="679" y="25"/>
                    </a:lnTo>
                    <a:lnTo>
                      <a:pt x="675" y="25"/>
                    </a:lnTo>
                    <a:lnTo>
                      <a:pt x="675" y="24"/>
                    </a:lnTo>
                    <a:lnTo>
                      <a:pt x="674" y="21"/>
                    </a:lnTo>
                    <a:lnTo>
                      <a:pt x="673" y="21"/>
                    </a:lnTo>
                    <a:lnTo>
                      <a:pt x="673" y="20"/>
                    </a:lnTo>
                    <a:lnTo>
                      <a:pt x="670" y="20"/>
                    </a:lnTo>
                    <a:lnTo>
                      <a:pt x="669" y="19"/>
                    </a:lnTo>
                    <a:lnTo>
                      <a:pt x="668" y="20"/>
                    </a:lnTo>
                    <a:lnTo>
                      <a:pt x="666" y="20"/>
                    </a:lnTo>
                    <a:lnTo>
                      <a:pt x="664" y="20"/>
                    </a:lnTo>
                    <a:lnTo>
                      <a:pt x="663" y="21"/>
                    </a:lnTo>
                    <a:lnTo>
                      <a:pt x="661" y="22"/>
                    </a:lnTo>
                    <a:lnTo>
                      <a:pt x="661" y="22"/>
                    </a:lnTo>
                    <a:lnTo>
                      <a:pt x="660" y="25"/>
                    </a:lnTo>
                    <a:lnTo>
                      <a:pt x="660" y="26"/>
                    </a:lnTo>
                    <a:lnTo>
                      <a:pt x="660" y="27"/>
                    </a:lnTo>
                    <a:lnTo>
                      <a:pt x="661" y="29"/>
                    </a:lnTo>
                    <a:lnTo>
                      <a:pt x="661" y="30"/>
                    </a:lnTo>
                    <a:lnTo>
                      <a:pt x="663" y="31"/>
                    </a:lnTo>
                    <a:lnTo>
                      <a:pt x="663" y="31"/>
                    </a:lnTo>
                    <a:lnTo>
                      <a:pt x="664" y="33"/>
                    </a:lnTo>
                    <a:lnTo>
                      <a:pt x="668" y="34"/>
                    </a:lnTo>
                    <a:lnTo>
                      <a:pt x="670" y="34"/>
                    </a:lnTo>
                    <a:lnTo>
                      <a:pt x="673" y="34"/>
                    </a:lnTo>
                    <a:lnTo>
                      <a:pt x="674" y="33"/>
                    </a:lnTo>
                    <a:lnTo>
                      <a:pt x="674" y="31"/>
                    </a:lnTo>
                    <a:lnTo>
                      <a:pt x="675" y="29"/>
                    </a:lnTo>
                    <a:lnTo>
                      <a:pt x="675" y="29"/>
                    </a:lnTo>
                    <a:lnTo>
                      <a:pt x="693" y="29"/>
                    </a:lnTo>
                    <a:lnTo>
                      <a:pt x="704" y="40"/>
                    </a:lnTo>
                    <a:lnTo>
                      <a:pt x="714" y="40"/>
                    </a:lnTo>
                    <a:lnTo>
                      <a:pt x="714" y="45"/>
                    </a:lnTo>
                    <a:lnTo>
                      <a:pt x="723" y="45"/>
                    </a:lnTo>
                    <a:lnTo>
                      <a:pt x="723" y="34"/>
                    </a:lnTo>
                    <a:lnTo>
                      <a:pt x="714" y="34"/>
                    </a:lnTo>
                    <a:lnTo>
                      <a:pt x="714" y="39"/>
                    </a:lnTo>
                    <a:lnTo>
                      <a:pt x="706" y="39"/>
                    </a:lnTo>
                    <a:lnTo>
                      <a:pt x="698" y="29"/>
                    </a:lnTo>
                    <a:lnTo>
                      <a:pt x="727" y="29"/>
                    </a:lnTo>
                    <a:lnTo>
                      <a:pt x="727" y="31"/>
                    </a:lnTo>
                    <a:lnTo>
                      <a:pt x="738" y="27"/>
                    </a:lnTo>
                    <a:lnTo>
                      <a:pt x="727" y="22"/>
                    </a:lnTo>
                    <a:lnTo>
                      <a:pt x="727" y="25"/>
                    </a:lnTo>
                    <a:lnTo>
                      <a:pt x="727" y="25"/>
                    </a:lnTo>
                    <a:close/>
                    <a:moveTo>
                      <a:pt x="1037" y="51"/>
                    </a:moveTo>
                    <a:lnTo>
                      <a:pt x="1076" y="51"/>
                    </a:lnTo>
                    <a:lnTo>
                      <a:pt x="1079" y="51"/>
                    </a:lnTo>
                    <a:lnTo>
                      <a:pt x="1080" y="51"/>
                    </a:lnTo>
                    <a:lnTo>
                      <a:pt x="1082" y="50"/>
                    </a:lnTo>
                    <a:lnTo>
                      <a:pt x="1084" y="49"/>
                    </a:lnTo>
                    <a:lnTo>
                      <a:pt x="1085" y="48"/>
                    </a:lnTo>
                    <a:lnTo>
                      <a:pt x="1086" y="45"/>
                    </a:lnTo>
                    <a:lnTo>
                      <a:pt x="1086" y="43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40"/>
                    </a:lnTo>
                    <a:lnTo>
                      <a:pt x="1087" y="11"/>
                    </a:lnTo>
                    <a:lnTo>
                      <a:pt x="1086" y="9"/>
                    </a:lnTo>
                    <a:lnTo>
                      <a:pt x="1086" y="6"/>
                    </a:lnTo>
                    <a:lnTo>
                      <a:pt x="1085" y="5"/>
                    </a:lnTo>
                    <a:lnTo>
                      <a:pt x="1084" y="2"/>
                    </a:lnTo>
                    <a:lnTo>
                      <a:pt x="1082" y="1"/>
                    </a:lnTo>
                    <a:lnTo>
                      <a:pt x="1080" y="1"/>
                    </a:lnTo>
                    <a:lnTo>
                      <a:pt x="1079" y="0"/>
                    </a:lnTo>
                    <a:lnTo>
                      <a:pt x="1076" y="0"/>
                    </a:lnTo>
                    <a:lnTo>
                      <a:pt x="1076" y="0"/>
                    </a:lnTo>
                    <a:lnTo>
                      <a:pt x="1037" y="0"/>
                    </a:lnTo>
                    <a:lnTo>
                      <a:pt x="1035" y="0"/>
                    </a:lnTo>
                    <a:lnTo>
                      <a:pt x="1033" y="1"/>
                    </a:lnTo>
                    <a:lnTo>
                      <a:pt x="1031" y="1"/>
                    </a:lnTo>
                    <a:lnTo>
                      <a:pt x="1030" y="2"/>
                    </a:lnTo>
                    <a:lnTo>
                      <a:pt x="1028" y="5"/>
                    </a:lnTo>
                    <a:lnTo>
                      <a:pt x="1027" y="6"/>
                    </a:lnTo>
                    <a:lnTo>
                      <a:pt x="1026" y="9"/>
                    </a:lnTo>
                    <a:lnTo>
                      <a:pt x="1026" y="11"/>
                    </a:lnTo>
                    <a:lnTo>
                      <a:pt x="1026" y="11"/>
                    </a:lnTo>
                    <a:lnTo>
                      <a:pt x="1026" y="40"/>
                    </a:lnTo>
                    <a:lnTo>
                      <a:pt x="1026" y="43"/>
                    </a:lnTo>
                    <a:lnTo>
                      <a:pt x="1027" y="45"/>
                    </a:lnTo>
                    <a:lnTo>
                      <a:pt x="1028" y="48"/>
                    </a:lnTo>
                    <a:lnTo>
                      <a:pt x="1030" y="49"/>
                    </a:lnTo>
                    <a:lnTo>
                      <a:pt x="1031" y="50"/>
                    </a:lnTo>
                    <a:lnTo>
                      <a:pt x="1033" y="51"/>
                    </a:lnTo>
                    <a:lnTo>
                      <a:pt x="1035" y="51"/>
                    </a:lnTo>
                    <a:lnTo>
                      <a:pt x="1037" y="51"/>
                    </a:lnTo>
                    <a:lnTo>
                      <a:pt x="1037" y="51"/>
                    </a:lnTo>
                    <a:close/>
                    <a:moveTo>
                      <a:pt x="1044" y="43"/>
                    </a:moveTo>
                    <a:lnTo>
                      <a:pt x="1050" y="43"/>
                    </a:lnTo>
                    <a:lnTo>
                      <a:pt x="1056" y="43"/>
                    </a:lnTo>
                    <a:lnTo>
                      <a:pt x="1062" y="43"/>
                    </a:lnTo>
                    <a:lnTo>
                      <a:pt x="1069" y="43"/>
                    </a:lnTo>
                    <a:lnTo>
                      <a:pt x="1070" y="43"/>
                    </a:lnTo>
                    <a:lnTo>
                      <a:pt x="1072" y="43"/>
                    </a:lnTo>
                    <a:lnTo>
                      <a:pt x="1074" y="41"/>
                    </a:lnTo>
                    <a:lnTo>
                      <a:pt x="1075" y="40"/>
                    </a:lnTo>
                    <a:lnTo>
                      <a:pt x="1076" y="39"/>
                    </a:lnTo>
                    <a:lnTo>
                      <a:pt x="1077" y="38"/>
                    </a:lnTo>
                    <a:lnTo>
                      <a:pt x="1077" y="35"/>
                    </a:lnTo>
                    <a:lnTo>
                      <a:pt x="1077" y="34"/>
                    </a:lnTo>
                    <a:lnTo>
                      <a:pt x="1077" y="34"/>
                    </a:lnTo>
                    <a:lnTo>
                      <a:pt x="1077" y="30"/>
                    </a:lnTo>
                    <a:lnTo>
                      <a:pt x="1077" y="26"/>
                    </a:lnTo>
                    <a:lnTo>
                      <a:pt x="1077" y="21"/>
                    </a:lnTo>
                    <a:lnTo>
                      <a:pt x="1077" y="17"/>
                    </a:lnTo>
                    <a:lnTo>
                      <a:pt x="1077" y="16"/>
                    </a:lnTo>
                    <a:lnTo>
                      <a:pt x="1077" y="15"/>
                    </a:lnTo>
                    <a:lnTo>
                      <a:pt x="1076" y="14"/>
                    </a:lnTo>
                    <a:lnTo>
                      <a:pt x="1075" y="11"/>
                    </a:lnTo>
                    <a:lnTo>
                      <a:pt x="1074" y="11"/>
                    </a:lnTo>
                    <a:lnTo>
                      <a:pt x="1072" y="10"/>
                    </a:lnTo>
                    <a:lnTo>
                      <a:pt x="1070" y="9"/>
                    </a:lnTo>
                    <a:lnTo>
                      <a:pt x="1069" y="9"/>
                    </a:lnTo>
                    <a:lnTo>
                      <a:pt x="1062" y="9"/>
                    </a:lnTo>
                    <a:lnTo>
                      <a:pt x="1056" y="9"/>
                    </a:lnTo>
                    <a:lnTo>
                      <a:pt x="1050" y="9"/>
                    </a:lnTo>
                    <a:lnTo>
                      <a:pt x="1044" y="9"/>
                    </a:lnTo>
                    <a:lnTo>
                      <a:pt x="1042" y="9"/>
                    </a:lnTo>
                    <a:lnTo>
                      <a:pt x="1041" y="10"/>
                    </a:lnTo>
                    <a:lnTo>
                      <a:pt x="1039" y="11"/>
                    </a:lnTo>
                    <a:lnTo>
                      <a:pt x="1037" y="11"/>
                    </a:lnTo>
                    <a:lnTo>
                      <a:pt x="1036" y="14"/>
                    </a:lnTo>
                    <a:lnTo>
                      <a:pt x="1036" y="15"/>
                    </a:lnTo>
                    <a:lnTo>
                      <a:pt x="1035" y="16"/>
                    </a:lnTo>
                    <a:lnTo>
                      <a:pt x="1035" y="17"/>
                    </a:lnTo>
                    <a:lnTo>
                      <a:pt x="1035" y="21"/>
                    </a:lnTo>
                    <a:lnTo>
                      <a:pt x="1035" y="26"/>
                    </a:lnTo>
                    <a:lnTo>
                      <a:pt x="1035" y="30"/>
                    </a:lnTo>
                    <a:lnTo>
                      <a:pt x="1035" y="34"/>
                    </a:lnTo>
                    <a:lnTo>
                      <a:pt x="1035" y="35"/>
                    </a:lnTo>
                    <a:lnTo>
                      <a:pt x="1036" y="38"/>
                    </a:lnTo>
                    <a:lnTo>
                      <a:pt x="1036" y="39"/>
                    </a:lnTo>
                    <a:lnTo>
                      <a:pt x="1037" y="40"/>
                    </a:lnTo>
                    <a:lnTo>
                      <a:pt x="1039" y="41"/>
                    </a:lnTo>
                    <a:lnTo>
                      <a:pt x="1041" y="43"/>
                    </a:lnTo>
                    <a:lnTo>
                      <a:pt x="1042" y="43"/>
                    </a:lnTo>
                    <a:lnTo>
                      <a:pt x="1044" y="43"/>
                    </a:lnTo>
                    <a:lnTo>
                      <a:pt x="1044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936320" y="5105160"/>
                <a:ext cx="2791800" cy="453600"/>
              </a:xfrm>
              <a:custGeom>
                <a:avLst/>
                <a:gdLst/>
                <a:ahLst/>
                <a:rect l="l" t="t" r="r" b="b"/>
                <a:pathLst>
                  <a:path w="2476" h="317">
                    <a:moveTo>
                      <a:pt x="41" y="39"/>
                    </a:moveTo>
                    <a:lnTo>
                      <a:pt x="4" y="39"/>
                    </a:lnTo>
                    <a:lnTo>
                      <a:pt x="23" y="8"/>
                    </a:lnTo>
                    <a:lnTo>
                      <a:pt x="41" y="39"/>
                    </a:lnTo>
                    <a:lnTo>
                      <a:pt x="41" y="39"/>
                    </a:lnTo>
                    <a:close/>
                    <a:moveTo>
                      <a:pt x="24" y="3"/>
                    </a:moveTo>
                    <a:lnTo>
                      <a:pt x="24" y="2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2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23" y="3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2" y="43"/>
                    </a:lnTo>
                    <a:lnTo>
                      <a:pt x="43" y="43"/>
                    </a:lnTo>
                    <a:lnTo>
                      <a:pt x="44" y="42"/>
                    </a:lnTo>
                    <a:lnTo>
                      <a:pt x="46" y="42"/>
                    </a:lnTo>
                    <a:lnTo>
                      <a:pt x="46" y="41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46" y="39"/>
                    </a:lnTo>
                    <a:lnTo>
                      <a:pt x="24" y="3"/>
                    </a:lnTo>
                    <a:lnTo>
                      <a:pt x="24" y="3"/>
                    </a:lnTo>
                    <a:close/>
                    <a:moveTo>
                      <a:pt x="23" y="37"/>
                    </a:moveTo>
                    <a:lnTo>
                      <a:pt x="24" y="37"/>
                    </a:lnTo>
                    <a:lnTo>
                      <a:pt x="25" y="36"/>
                    </a:lnTo>
                    <a:lnTo>
                      <a:pt x="27" y="36"/>
                    </a:lnTo>
                    <a:lnTo>
                      <a:pt x="27" y="34"/>
                    </a:lnTo>
                    <a:lnTo>
                      <a:pt x="27" y="33"/>
                    </a:lnTo>
                    <a:lnTo>
                      <a:pt x="25" y="33"/>
                    </a:lnTo>
                    <a:lnTo>
                      <a:pt x="24" y="32"/>
                    </a:lnTo>
                    <a:lnTo>
                      <a:pt x="23" y="32"/>
                    </a:lnTo>
                    <a:lnTo>
                      <a:pt x="22" y="32"/>
                    </a:lnTo>
                    <a:lnTo>
                      <a:pt x="22" y="33"/>
                    </a:lnTo>
                    <a:lnTo>
                      <a:pt x="20" y="33"/>
                    </a:lnTo>
                    <a:lnTo>
                      <a:pt x="20" y="34"/>
                    </a:lnTo>
                    <a:lnTo>
                      <a:pt x="20" y="36"/>
                    </a:lnTo>
                    <a:lnTo>
                      <a:pt x="22" y="36"/>
                    </a:lnTo>
                    <a:lnTo>
                      <a:pt x="22" y="37"/>
                    </a:lnTo>
                    <a:lnTo>
                      <a:pt x="23" y="37"/>
                    </a:lnTo>
                    <a:lnTo>
                      <a:pt x="23" y="37"/>
                    </a:lnTo>
                    <a:close/>
                    <a:moveTo>
                      <a:pt x="24" y="31"/>
                    </a:moveTo>
                    <a:lnTo>
                      <a:pt x="24" y="27"/>
                    </a:lnTo>
                    <a:lnTo>
                      <a:pt x="24" y="23"/>
                    </a:lnTo>
                    <a:lnTo>
                      <a:pt x="24" y="20"/>
                    </a:lnTo>
                    <a:lnTo>
                      <a:pt x="24" y="19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2" y="23"/>
                    </a:lnTo>
                    <a:lnTo>
                      <a:pt x="22" y="27"/>
                    </a:lnTo>
                    <a:lnTo>
                      <a:pt x="23" y="31"/>
                    </a:lnTo>
                    <a:lnTo>
                      <a:pt x="24" y="31"/>
                    </a:lnTo>
                    <a:lnTo>
                      <a:pt x="24" y="31"/>
                    </a:lnTo>
                    <a:close/>
                    <a:moveTo>
                      <a:pt x="43" y="71"/>
                    </a:moveTo>
                    <a:lnTo>
                      <a:pt x="43" y="67"/>
                    </a:lnTo>
                    <a:lnTo>
                      <a:pt x="42" y="63"/>
                    </a:lnTo>
                    <a:lnTo>
                      <a:pt x="39" y="60"/>
                    </a:lnTo>
                    <a:lnTo>
                      <a:pt x="37" y="57"/>
                    </a:lnTo>
                    <a:lnTo>
                      <a:pt x="34" y="55"/>
                    </a:lnTo>
                    <a:lnTo>
                      <a:pt x="30" y="52"/>
                    </a:lnTo>
                    <a:lnTo>
                      <a:pt x="27" y="51"/>
                    </a:lnTo>
                    <a:lnTo>
                      <a:pt x="23" y="51"/>
                    </a:lnTo>
                    <a:lnTo>
                      <a:pt x="18" y="51"/>
                    </a:lnTo>
                    <a:lnTo>
                      <a:pt x="15" y="52"/>
                    </a:lnTo>
                    <a:lnTo>
                      <a:pt x="12" y="55"/>
                    </a:lnTo>
                    <a:lnTo>
                      <a:pt x="9" y="57"/>
                    </a:lnTo>
                    <a:lnTo>
                      <a:pt x="7" y="60"/>
                    </a:lnTo>
                    <a:lnTo>
                      <a:pt x="5" y="63"/>
                    </a:lnTo>
                    <a:lnTo>
                      <a:pt x="4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5" y="79"/>
                    </a:lnTo>
                    <a:lnTo>
                      <a:pt x="7" y="82"/>
                    </a:lnTo>
                    <a:lnTo>
                      <a:pt x="9" y="86"/>
                    </a:lnTo>
                    <a:lnTo>
                      <a:pt x="12" y="89"/>
                    </a:lnTo>
                    <a:lnTo>
                      <a:pt x="15" y="90"/>
                    </a:lnTo>
                    <a:lnTo>
                      <a:pt x="18" y="91"/>
                    </a:lnTo>
                    <a:lnTo>
                      <a:pt x="23" y="91"/>
                    </a:lnTo>
                    <a:lnTo>
                      <a:pt x="27" y="91"/>
                    </a:lnTo>
                    <a:lnTo>
                      <a:pt x="30" y="90"/>
                    </a:lnTo>
                    <a:lnTo>
                      <a:pt x="34" y="89"/>
                    </a:lnTo>
                    <a:lnTo>
                      <a:pt x="37" y="86"/>
                    </a:lnTo>
                    <a:lnTo>
                      <a:pt x="39" y="82"/>
                    </a:lnTo>
                    <a:lnTo>
                      <a:pt x="42" y="79"/>
                    </a:lnTo>
                    <a:lnTo>
                      <a:pt x="43" y="75"/>
                    </a:lnTo>
                    <a:lnTo>
                      <a:pt x="43" y="71"/>
                    </a:lnTo>
                    <a:lnTo>
                      <a:pt x="43" y="71"/>
                    </a:lnTo>
                    <a:close/>
                    <a:moveTo>
                      <a:pt x="23" y="73"/>
                    </a:moveTo>
                    <a:lnTo>
                      <a:pt x="22" y="75"/>
                    </a:lnTo>
                    <a:lnTo>
                      <a:pt x="22" y="76"/>
                    </a:lnTo>
                    <a:lnTo>
                      <a:pt x="19" y="76"/>
                    </a:lnTo>
                    <a:lnTo>
                      <a:pt x="18" y="79"/>
                    </a:lnTo>
                    <a:lnTo>
                      <a:pt x="18" y="79"/>
                    </a:lnTo>
                    <a:lnTo>
                      <a:pt x="18" y="76"/>
                    </a:lnTo>
                    <a:lnTo>
                      <a:pt x="18" y="76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5" y="76"/>
                    </a:lnTo>
                    <a:lnTo>
                      <a:pt x="15" y="76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79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2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3" y="80"/>
                    </a:lnTo>
                    <a:lnTo>
                      <a:pt x="14" y="81"/>
                    </a:lnTo>
                    <a:lnTo>
                      <a:pt x="15" y="81"/>
                    </a:lnTo>
                    <a:lnTo>
                      <a:pt x="17" y="81"/>
                    </a:lnTo>
                    <a:lnTo>
                      <a:pt x="18" y="81"/>
                    </a:lnTo>
                    <a:lnTo>
                      <a:pt x="20" y="80"/>
                    </a:lnTo>
                    <a:lnTo>
                      <a:pt x="22" y="79"/>
                    </a:lnTo>
                    <a:lnTo>
                      <a:pt x="24" y="76"/>
                    </a:lnTo>
                    <a:lnTo>
                      <a:pt x="24" y="76"/>
                    </a:lnTo>
                    <a:lnTo>
                      <a:pt x="34" y="85"/>
                    </a:lnTo>
                    <a:lnTo>
                      <a:pt x="30" y="86"/>
                    </a:lnTo>
                    <a:lnTo>
                      <a:pt x="27" y="87"/>
                    </a:lnTo>
                    <a:lnTo>
                      <a:pt x="24" y="87"/>
                    </a:lnTo>
                    <a:lnTo>
                      <a:pt x="20" y="87"/>
                    </a:lnTo>
                    <a:lnTo>
                      <a:pt x="18" y="87"/>
                    </a:lnTo>
                    <a:lnTo>
                      <a:pt x="14" y="85"/>
                    </a:lnTo>
                    <a:lnTo>
                      <a:pt x="12" y="84"/>
                    </a:lnTo>
                    <a:lnTo>
                      <a:pt x="9" y="80"/>
                    </a:lnTo>
                    <a:lnTo>
                      <a:pt x="8" y="77"/>
                    </a:lnTo>
                    <a:lnTo>
                      <a:pt x="7" y="75"/>
                    </a:lnTo>
                    <a:lnTo>
                      <a:pt x="5" y="72"/>
                    </a:lnTo>
                    <a:lnTo>
                      <a:pt x="5" y="70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2"/>
                    </a:lnTo>
                    <a:lnTo>
                      <a:pt x="12" y="60"/>
                    </a:lnTo>
                    <a:lnTo>
                      <a:pt x="12" y="60"/>
                    </a:lnTo>
                    <a:lnTo>
                      <a:pt x="23" y="73"/>
                    </a:lnTo>
                    <a:lnTo>
                      <a:pt x="23" y="73"/>
                    </a:lnTo>
                    <a:close/>
                    <a:moveTo>
                      <a:pt x="27" y="76"/>
                    </a:moveTo>
                    <a:lnTo>
                      <a:pt x="29" y="73"/>
                    </a:lnTo>
                    <a:lnTo>
                      <a:pt x="32" y="72"/>
                    </a:lnTo>
                    <a:lnTo>
                      <a:pt x="33" y="70"/>
                    </a:lnTo>
                    <a:lnTo>
                      <a:pt x="34" y="68"/>
                    </a:lnTo>
                    <a:lnTo>
                      <a:pt x="34" y="66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5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2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2" y="60"/>
                    </a:lnTo>
                    <a:lnTo>
                      <a:pt x="32" y="60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8" y="70"/>
                    </a:lnTo>
                    <a:lnTo>
                      <a:pt x="27" y="71"/>
                    </a:lnTo>
                    <a:lnTo>
                      <a:pt x="24" y="71"/>
                    </a:lnTo>
                    <a:lnTo>
                      <a:pt x="24" y="71"/>
                    </a:lnTo>
                    <a:lnTo>
                      <a:pt x="13" y="57"/>
                    </a:lnTo>
                    <a:lnTo>
                      <a:pt x="17" y="56"/>
                    </a:lnTo>
                    <a:lnTo>
                      <a:pt x="19" y="55"/>
                    </a:lnTo>
                    <a:lnTo>
                      <a:pt x="23" y="53"/>
                    </a:lnTo>
                    <a:lnTo>
                      <a:pt x="25" y="53"/>
                    </a:lnTo>
                    <a:lnTo>
                      <a:pt x="29" y="55"/>
                    </a:lnTo>
                    <a:lnTo>
                      <a:pt x="32" y="57"/>
                    </a:lnTo>
                    <a:lnTo>
                      <a:pt x="34" y="58"/>
                    </a:lnTo>
                    <a:lnTo>
                      <a:pt x="37" y="62"/>
                    </a:lnTo>
                    <a:lnTo>
                      <a:pt x="38" y="65"/>
                    </a:lnTo>
                    <a:lnTo>
                      <a:pt x="39" y="67"/>
                    </a:lnTo>
                    <a:lnTo>
                      <a:pt x="39" y="70"/>
                    </a:lnTo>
                    <a:lnTo>
                      <a:pt x="39" y="73"/>
                    </a:lnTo>
                    <a:lnTo>
                      <a:pt x="39" y="76"/>
                    </a:lnTo>
                    <a:lnTo>
                      <a:pt x="38" y="79"/>
                    </a:lnTo>
                    <a:lnTo>
                      <a:pt x="35" y="81"/>
                    </a:lnTo>
                    <a:lnTo>
                      <a:pt x="34" y="82"/>
                    </a:lnTo>
                    <a:lnTo>
                      <a:pt x="34" y="82"/>
                    </a:lnTo>
                    <a:lnTo>
                      <a:pt x="27" y="76"/>
                    </a:lnTo>
                    <a:lnTo>
                      <a:pt x="27" y="76"/>
                    </a:lnTo>
                    <a:close/>
                    <a:moveTo>
                      <a:pt x="681" y="139"/>
                    </a:moveTo>
                    <a:lnTo>
                      <a:pt x="681" y="138"/>
                    </a:lnTo>
                    <a:lnTo>
                      <a:pt x="680" y="137"/>
                    </a:lnTo>
                    <a:lnTo>
                      <a:pt x="678" y="135"/>
                    </a:lnTo>
                    <a:lnTo>
                      <a:pt x="677" y="135"/>
                    </a:lnTo>
                    <a:lnTo>
                      <a:pt x="674" y="135"/>
                    </a:lnTo>
                    <a:lnTo>
                      <a:pt x="673" y="137"/>
                    </a:lnTo>
                    <a:lnTo>
                      <a:pt x="672" y="138"/>
                    </a:lnTo>
                    <a:lnTo>
                      <a:pt x="672" y="139"/>
                    </a:lnTo>
                    <a:lnTo>
                      <a:pt x="672" y="143"/>
                    </a:lnTo>
                    <a:lnTo>
                      <a:pt x="673" y="144"/>
                    </a:lnTo>
                    <a:lnTo>
                      <a:pt x="674" y="145"/>
                    </a:lnTo>
                    <a:lnTo>
                      <a:pt x="677" y="147"/>
                    </a:lnTo>
                    <a:lnTo>
                      <a:pt x="678" y="145"/>
                    </a:lnTo>
                    <a:lnTo>
                      <a:pt x="680" y="144"/>
                    </a:lnTo>
                    <a:lnTo>
                      <a:pt x="681" y="143"/>
                    </a:lnTo>
                    <a:lnTo>
                      <a:pt x="681" y="139"/>
                    </a:lnTo>
                    <a:lnTo>
                      <a:pt x="681" y="139"/>
                    </a:lnTo>
                    <a:close/>
                    <a:moveTo>
                      <a:pt x="633" y="167"/>
                    </a:moveTo>
                    <a:lnTo>
                      <a:pt x="633" y="166"/>
                    </a:lnTo>
                    <a:lnTo>
                      <a:pt x="632" y="163"/>
                    </a:lnTo>
                    <a:lnTo>
                      <a:pt x="631" y="163"/>
                    </a:lnTo>
                    <a:lnTo>
                      <a:pt x="629" y="162"/>
                    </a:lnTo>
                    <a:lnTo>
                      <a:pt x="628" y="163"/>
                    </a:lnTo>
                    <a:lnTo>
                      <a:pt x="626" y="163"/>
                    </a:lnTo>
                    <a:lnTo>
                      <a:pt x="626" y="166"/>
                    </a:lnTo>
                    <a:lnTo>
                      <a:pt x="624" y="167"/>
                    </a:lnTo>
                    <a:lnTo>
                      <a:pt x="626" y="169"/>
                    </a:lnTo>
                    <a:lnTo>
                      <a:pt x="626" y="172"/>
                    </a:lnTo>
                    <a:lnTo>
                      <a:pt x="628" y="173"/>
                    </a:lnTo>
                    <a:lnTo>
                      <a:pt x="629" y="173"/>
                    </a:lnTo>
                    <a:lnTo>
                      <a:pt x="631" y="173"/>
                    </a:lnTo>
                    <a:lnTo>
                      <a:pt x="632" y="172"/>
                    </a:lnTo>
                    <a:lnTo>
                      <a:pt x="633" y="169"/>
                    </a:lnTo>
                    <a:lnTo>
                      <a:pt x="633" y="167"/>
                    </a:lnTo>
                    <a:lnTo>
                      <a:pt x="633" y="167"/>
                    </a:lnTo>
                    <a:close/>
                    <a:moveTo>
                      <a:pt x="661" y="167"/>
                    </a:moveTo>
                    <a:lnTo>
                      <a:pt x="661" y="166"/>
                    </a:lnTo>
                    <a:lnTo>
                      <a:pt x="659" y="163"/>
                    </a:lnTo>
                    <a:lnTo>
                      <a:pt x="658" y="163"/>
                    </a:lnTo>
                    <a:lnTo>
                      <a:pt x="657" y="162"/>
                    </a:lnTo>
                    <a:lnTo>
                      <a:pt x="654" y="162"/>
                    </a:lnTo>
                    <a:lnTo>
                      <a:pt x="653" y="163"/>
                    </a:lnTo>
                    <a:lnTo>
                      <a:pt x="653" y="163"/>
                    </a:lnTo>
                    <a:lnTo>
                      <a:pt x="652" y="163"/>
                    </a:lnTo>
                    <a:lnTo>
                      <a:pt x="652" y="166"/>
                    </a:lnTo>
                    <a:lnTo>
                      <a:pt x="652" y="167"/>
                    </a:lnTo>
                    <a:lnTo>
                      <a:pt x="652" y="169"/>
                    </a:lnTo>
                    <a:lnTo>
                      <a:pt x="652" y="172"/>
                    </a:lnTo>
                    <a:lnTo>
                      <a:pt x="653" y="173"/>
                    </a:lnTo>
                    <a:lnTo>
                      <a:pt x="653" y="173"/>
                    </a:lnTo>
                    <a:lnTo>
                      <a:pt x="654" y="173"/>
                    </a:lnTo>
                    <a:lnTo>
                      <a:pt x="657" y="173"/>
                    </a:lnTo>
                    <a:lnTo>
                      <a:pt x="658" y="173"/>
                    </a:lnTo>
                    <a:lnTo>
                      <a:pt x="659" y="172"/>
                    </a:lnTo>
                    <a:lnTo>
                      <a:pt x="661" y="169"/>
                    </a:lnTo>
                    <a:lnTo>
                      <a:pt x="661" y="167"/>
                    </a:lnTo>
                    <a:lnTo>
                      <a:pt x="661" y="167"/>
                    </a:lnTo>
                    <a:close/>
                    <a:moveTo>
                      <a:pt x="613" y="139"/>
                    </a:moveTo>
                    <a:lnTo>
                      <a:pt x="613" y="138"/>
                    </a:lnTo>
                    <a:lnTo>
                      <a:pt x="612" y="137"/>
                    </a:lnTo>
                    <a:lnTo>
                      <a:pt x="611" y="135"/>
                    </a:lnTo>
                    <a:lnTo>
                      <a:pt x="609" y="135"/>
                    </a:lnTo>
                    <a:lnTo>
                      <a:pt x="607" y="135"/>
                    </a:lnTo>
                    <a:lnTo>
                      <a:pt x="607" y="135"/>
                    </a:lnTo>
                    <a:lnTo>
                      <a:pt x="606" y="135"/>
                    </a:lnTo>
                    <a:lnTo>
                      <a:pt x="604" y="137"/>
                    </a:lnTo>
                    <a:lnTo>
                      <a:pt x="604" y="138"/>
                    </a:lnTo>
                    <a:lnTo>
                      <a:pt x="604" y="139"/>
                    </a:lnTo>
                    <a:lnTo>
                      <a:pt x="604" y="143"/>
                    </a:lnTo>
                    <a:lnTo>
                      <a:pt x="604" y="144"/>
                    </a:lnTo>
                    <a:lnTo>
                      <a:pt x="606" y="145"/>
                    </a:lnTo>
                    <a:lnTo>
                      <a:pt x="607" y="145"/>
                    </a:lnTo>
                    <a:lnTo>
                      <a:pt x="607" y="147"/>
                    </a:lnTo>
                    <a:lnTo>
                      <a:pt x="609" y="147"/>
                    </a:lnTo>
                    <a:lnTo>
                      <a:pt x="611" y="145"/>
                    </a:lnTo>
                    <a:lnTo>
                      <a:pt x="612" y="144"/>
                    </a:lnTo>
                    <a:lnTo>
                      <a:pt x="613" y="143"/>
                    </a:lnTo>
                    <a:lnTo>
                      <a:pt x="613" y="139"/>
                    </a:lnTo>
                    <a:lnTo>
                      <a:pt x="613" y="139"/>
                    </a:lnTo>
                    <a:close/>
                    <a:moveTo>
                      <a:pt x="633" y="137"/>
                    </a:moveTo>
                    <a:lnTo>
                      <a:pt x="652" y="137"/>
                    </a:lnTo>
                    <a:lnTo>
                      <a:pt x="652" y="105"/>
                    </a:lnTo>
                    <a:lnTo>
                      <a:pt x="633" y="105"/>
                    </a:lnTo>
                    <a:lnTo>
                      <a:pt x="633" y="137"/>
                    </a:lnTo>
                    <a:lnTo>
                      <a:pt x="633" y="137"/>
                    </a:lnTo>
                    <a:close/>
                    <a:moveTo>
                      <a:pt x="621" y="114"/>
                    </a:moveTo>
                    <a:lnTo>
                      <a:pt x="619" y="111"/>
                    </a:lnTo>
                    <a:lnTo>
                      <a:pt x="619" y="109"/>
                    </a:lnTo>
                    <a:lnTo>
                      <a:pt x="617" y="108"/>
                    </a:lnTo>
                    <a:lnTo>
                      <a:pt x="616" y="108"/>
                    </a:lnTo>
                    <a:lnTo>
                      <a:pt x="614" y="108"/>
                    </a:lnTo>
                    <a:lnTo>
                      <a:pt x="613" y="109"/>
                    </a:lnTo>
                    <a:lnTo>
                      <a:pt x="612" y="111"/>
                    </a:lnTo>
                    <a:lnTo>
                      <a:pt x="611" y="114"/>
                    </a:lnTo>
                    <a:lnTo>
                      <a:pt x="612" y="116"/>
                    </a:lnTo>
                    <a:lnTo>
                      <a:pt x="613" y="118"/>
                    </a:lnTo>
                    <a:lnTo>
                      <a:pt x="614" y="119"/>
                    </a:lnTo>
                    <a:lnTo>
                      <a:pt x="616" y="119"/>
                    </a:lnTo>
                    <a:lnTo>
                      <a:pt x="617" y="119"/>
                    </a:lnTo>
                    <a:lnTo>
                      <a:pt x="619" y="118"/>
                    </a:lnTo>
                    <a:lnTo>
                      <a:pt x="619" y="116"/>
                    </a:lnTo>
                    <a:lnTo>
                      <a:pt x="621" y="114"/>
                    </a:lnTo>
                    <a:lnTo>
                      <a:pt x="621" y="114"/>
                    </a:lnTo>
                    <a:close/>
                    <a:moveTo>
                      <a:pt x="674" y="114"/>
                    </a:moveTo>
                    <a:lnTo>
                      <a:pt x="674" y="111"/>
                    </a:lnTo>
                    <a:lnTo>
                      <a:pt x="673" y="109"/>
                    </a:lnTo>
                    <a:lnTo>
                      <a:pt x="672" y="108"/>
                    </a:lnTo>
                    <a:lnTo>
                      <a:pt x="669" y="108"/>
                    </a:lnTo>
                    <a:lnTo>
                      <a:pt x="667" y="108"/>
                    </a:lnTo>
                    <a:lnTo>
                      <a:pt x="664" y="109"/>
                    </a:lnTo>
                    <a:lnTo>
                      <a:pt x="663" y="111"/>
                    </a:lnTo>
                    <a:lnTo>
                      <a:pt x="663" y="114"/>
                    </a:lnTo>
                    <a:lnTo>
                      <a:pt x="663" y="116"/>
                    </a:lnTo>
                    <a:lnTo>
                      <a:pt x="664" y="118"/>
                    </a:lnTo>
                    <a:lnTo>
                      <a:pt x="667" y="119"/>
                    </a:lnTo>
                    <a:lnTo>
                      <a:pt x="669" y="119"/>
                    </a:lnTo>
                    <a:lnTo>
                      <a:pt x="672" y="119"/>
                    </a:lnTo>
                    <a:lnTo>
                      <a:pt x="673" y="118"/>
                    </a:lnTo>
                    <a:lnTo>
                      <a:pt x="674" y="116"/>
                    </a:lnTo>
                    <a:lnTo>
                      <a:pt x="674" y="114"/>
                    </a:lnTo>
                    <a:lnTo>
                      <a:pt x="674" y="114"/>
                    </a:lnTo>
                    <a:close/>
                    <a:moveTo>
                      <a:pt x="607" y="281"/>
                    </a:moveTo>
                    <a:lnTo>
                      <a:pt x="607" y="317"/>
                    </a:lnTo>
                    <a:lnTo>
                      <a:pt x="681" y="317"/>
                    </a:lnTo>
                    <a:lnTo>
                      <a:pt x="681" y="281"/>
                    </a:lnTo>
                    <a:lnTo>
                      <a:pt x="607" y="281"/>
                    </a:lnTo>
                    <a:lnTo>
                      <a:pt x="607" y="281"/>
                    </a:lnTo>
                    <a:close/>
                    <a:moveTo>
                      <a:pt x="611" y="286"/>
                    </a:moveTo>
                    <a:lnTo>
                      <a:pt x="611" y="311"/>
                    </a:lnTo>
                    <a:lnTo>
                      <a:pt x="674" y="311"/>
                    </a:lnTo>
                    <a:lnTo>
                      <a:pt x="674" y="286"/>
                    </a:lnTo>
                    <a:lnTo>
                      <a:pt x="611" y="286"/>
                    </a:lnTo>
                    <a:lnTo>
                      <a:pt x="611" y="286"/>
                    </a:lnTo>
                    <a:close/>
                    <a:moveTo>
                      <a:pt x="668" y="288"/>
                    </a:moveTo>
                    <a:lnTo>
                      <a:pt x="668" y="294"/>
                    </a:lnTo>
                    <a:lnTo>
                      <a:pt x="672" y="294"/>
                    </a:lnTo>
                    <a:lnTo>
                      <a:pt x="672" y="288"/>
                    </a:lnTo>
                    <a:lnTo>
                      <a:pt x="668" y="288"/>
                    </a:lnTo>
                    <a:lnTo>
                      <a:pt x="668" y="288"/>
                    </a:lnTo>
                    <a:close/>
                    <a:moveTo>
                      <a:pt x="658" y="288"/>
                    </a:moveTo>
                    <a:lnTo>
                      <a:pt x="658" y="294"/>
                    </a:lnTo>
                    <a:lnTo>
                      <a:pt x="663" y="294"/>
                    </a:lnTo>
                    <a:lnTo>
                      <a:pt x="663" y="288"/>
                    </a:lnTo>
                    <a:lnTo>
                      <a:pt x="658" y="288"/>
                    </a:lnTo>
                    <a:lnTo>
                      <a:pt x="658" y="288"/>
                    </a:lnTo>
                    <a:close/>
                    <a:moveTo>
                      <a:pt x="663" y="297"/>
                    </a:moveTo>
                    <a:lnTo>
                      <a:pt x="663" y="301"/>
                    </a:lnTo>
                    <a:lnTo>
                      <a:pt x="668" y="301"/>
                    </a:lnTo>
                    <a:lnTo>
                      <a:pt x="668" y="297"/>
                    </a:lnTo>
                    <a:lnTo>
                      <a:pt x="663" y="297"/>
                    </a:lnTo>
                    <a:lnTo>
                      <a:pt x="663" y="297"/>
                    </a:lnTo>
                    <a:close/>
                    <a:moveTo>
                      <a:pt x="649" y="288"/>
                    </a:moveTo>
                    <a:lnTo>
                      <a:pt x="649" y="294"/>
                    </a:lnTo>
                    <a:lnTo>
                      <a:pt x="654" y="294"/>
                    </a:lnTo>
                    <a:lnTo>
                      <a:pt x="654" y="288"/>
                    </a:lnTo>
                    <a:lnTo>
                      <a:pt x="649" y="288"/>
                    </a:lnTo>
                    <a:lnTo>
                      <a:pt x="649" y="288"/>
                    </a:lnTo>
                    <a:close/>
                    <a:moveTo>
                      <a:pt x="641" y="288"/>
                    </a:moveTo>
                    <a:lnTo>
                      <a:pt x="641" y="294"/>
                    </a:lnTo>
                    <a:lnTo>
                      <a:pt x="647" y="294"/>
                    </a:lnTo>
                    <a:lnTo>
                      <a:pt x="647" y="288"/>
                    </a:lnTo>
                    <a:lnTo>
                      <a:pt x="641" y="288"/>
                    </a:lnTo>
                    <a:lnTo>
                      <a:pt x="641" y="288"/>
                    </a:lnTo>
                    <a:close/>
                    <a:moveTo>
                      <a:pt x="632" y="288"/>
                    </a:moveTo>
                    <a:lnTo>
                      <a:pt x="632" y="294"/>
                    </a:lnTo>
                    <a:lnTo>
                      <a:pt x="638" y="294"/>
                    </a:lnTo>
                    <a:lnTo>
                      <a:pt x="638" y="288"/>
                    </a:lnTo>
                    <a:lnTo>
                      <a:pt x="632" y="288"/>
                    </a:lnTo>
                    <a:lnTo>
                      <a:pt x="632" y="288"/>
                    </a:lnTo>
                    <a:close/>
                    <a:moveTo>
                      <a:pt x="622" y="288"/>
                    </a:moveTo>
                    <a:lnTo>
                      <a:pt x="622" y="294"/>
                    </a:lnTo>
                    <a:lnTo>
                      <a:pt x="629" y="294"/>
                    </a:lnTo>
                    <a:lnTo>
                      <a:pt x="629" y="288"/>
                    </a:lnTo>
                    <a:lnTo>
                      <a:pt x="622" y="288"/>
                    </a:lnTo>
                    <a:lnTo>
                      <a:pt x="622" y="288"/>
                    </a:lnTo>
                    <a:close/>
                    <a:moveTo>
                      <a:pt x="616" y="288"/>
                    </a:moveTo>
                    <a:lnTo>
                      <a:pt x="616" y="294"/>
                    </a:lnTo>
                    <a:lnTo>
                      <a:pt x="621" y="294"/>
                    </a:lnTo>
                    <a:lnTo>
                      <a:pt x="621" y="288"/>
                    </a:lnTo>
                    <a:lnTo>
                      <a:pt x="616" y="288"/>
                    </a:lnTo>
                    <a:lnTo>
                      <a:pt x="616" y="288"/>
                    </a:lnTo>
                    <a:close/>
                    <a:moveTo>
                      <a:pt x="654" y="297"/>
                    </a:moveTo>
                    <a:lnTo>
                      <a:pt x="654" y="301"/>
                    </a:lnTo>
                    <a:lnTo>
                      <a:pt x="658" y="301"/>
                    </a:lnTo>
                    <a:lnTo>
                      <a:pt x="658" y="297"/>
                    </a:lnTo>
                    <a:lnTo>
                      <a:pt x="654" y="297"/>
                    </a:lnTo>
                    <a:lnTo>
                      <a:pt x="654" y="297"/>
                    </a:lnTo>
                    <a:close/>
                    <a:moveTo>
                      <a:pt x="644" y="297"/>
                    </a:moveTo>
                    <a:lnTo>
                      <a:pt x="644" y="301"/>
                    </a:lnTo>
                    <a:lnTo>
                      <a:pt x="649" y="301"/>
                    </a:lnTo>
                    <a:lnTo>
                      <a:pt x="649" y="297"/>
                    </a:lnTo>
                    <a:lnTo>
                      <a:pt x="644" y="297"/>
                    </a:lnTo>
                    <a:lnTo>
                      <a:pt x="644" y="297"/>
                    </a:lnTo>
                    <a:close/>
                    <a:moveTo>
                      <a:pt x="636" y="297"/>
                    </a:moveTo>
                    <a:lnTo>
                      <a:pt x="636" y="301"/>
                    </a:lnTo>
                    <a:lnTo>
                      <a:pt x="643" y="301"/>
                    </a:lnTo>
                    <a:lnTo>
                      <a:pt x="643" y="297"/>
                    </a:lnTo>
                    <a:lnTo>
                      <a:pt x="636" y="297"/>
                    </a:lnTo>
                    <a:lnTo>
                      <a:pt x="636" y="297"/>
                    </a:lnTo>
                    <a:close/>
                    <a:moveTo>
                      <a:pt x="627" y="297"/>
                    </a:moveTo>
                    <a:lnTo>
                      <a:pt x="627" y="301"/>
                    </a:lnTo>
                    <a:lnTo>
                      <a:pt x="633" y="301"/>
                    </a:lnTo>
                    <a:lnTo>
                      <a:pt x="633" y="297"/>
                    </a:lnTo>
                    <a:lnTo>
                      <a:pt x="627" y="297"/>
                    </a:lnTo>
                    <a:lnTo>
                      <a:pt x="627" y="297"/>
                    </a:lnTo>
                    <a:close/>
                    <a:moveTo>
                      <a:pt x="618" y="297"/>
                    </a:moveTo>
                    <a:lnTo>
                      <a:pt x="618" y="301"/>
                    </a:lnTo>
                    <a:lnTo>
                      <a:pt x="624" y="301"/>
                    </a:lnTo>
                    <a:lnTo>
                      <a:pt x="624" y="297"/>
                    </a:lnTo>
                    <a:lnTo>
                      <a:pt x="618" y="297"/>
                    </a:lnTo>
                    <a:lnTo>
                      <a:pt x="618" y="297"/>
                    </a:lnTo>
                    <a:close/>
                    <a:moveTo>
                      <a:pt x="658" y="303"/>
                    </a:moveTo>
                    <a:lnTo>
                      <a:pt x="627" y="303"/>
                    </a:lnTo>
                    <a:lnTo>
                      <a:pt x="627" y="308"/>
                    </a:lnTo>
                    <a:lnTo>
                      <a:pt x="658" y="308"/>
                    </a:lnTo>
                    <a:lnTo>
                      <a:pt x="658" y="303"/>
                    </a:lnTo>
                    <a:lnTo>
                      <a:pt x="658" y="303"/>
                    </a:lnTo>
                    <a:close/>
                    <a:moveTo>
                      <a:pt x="663" y="303"/>
                    </a:moveTo>
                    <a:lnTo>
                      <a:pt x="663" y="308"/>
                    </a:lnTo>
                    <a:lnTo>
                      <a:pt x="669" y="308"/>
                    </a:lnTo>
                    <a:lnTo>
                      <a:pt x="669" y="303"/>
                    </a:lnTo>
                    <a:lnTo>
                      <a:pt x="663" y="303"/>
                    </a:lnTo>
                    <a:lnTo>
                      <a:pt x="663" y="303"/>
                    </a:lnTo>
                    <a:close/>
                    <a:moveTo>
                      <a:pt x="618" y="303"/>
                    </a:moveTo>
                    <a:lnTo>
                      <a:pt x="618" y="308"/>
                    </a:lnTo>
                    <a:lnTo>
                      <a:pt x="622" y="308"/>
                    </a:lnTo>
                    <a:lnTo>
                      <a:pt x="622" y="303"/>
                    </a:lnTo>
                    <a:lnTo>
                      <a:pt x="618" y="303"/>
                    </a:lnTo>
                    <a:lnTo>
                      <a:pt x="618" y="303"/>
                    </a:lnTo>
                    <a:close/>
                    <a:moveTo>
                      <a:pt x="869" y="139"/>
                    </a:moveTo>
                    <a:lnTo>
                      <a:pt x="869" y="138"/>
                    </a:lnTo>
                    <a:lnTo>
                      <a:pt x="867" y="137"/>
                    </a:lnTo>
                    <a:lnTo>
                      <a:pt x="866" y="135"/>
                    </a:lnTo>
                    <a:lnTo>
                      <a:pt x="865" y="135"/>
                    </a:lnTo>
                    <a:lnTo>
                      <a:pt x="861" y="135"/>
                    </a:lnTo>
                    <a:lnTo>
                      <a:pt x="860" y="137"/>
                    </a:lnTo>
                    <a:lnTo>
                      <a:pt x="859" y="138"/>
                    </a:lnTo>
                    <a:lnTo>
                      <a:pt x="857" y="139"/>
                    </a:lnTo>
                    <a:lnTo>
                      <a:pt x="859" y="143"/>
                    </a:lnTo>
                    <a:lnTo>
                      <a:pt x="860" y="144"/>
                    </a:lnTo>
                    <a:lnTo>
                      <a:pt x="861" y="145"/>
                    </a:lnTo>
                    <a:lnTo>
                      <a:pt x="865" y="147"/>
                    </a:lnTo>
                    <a:lnTo>
                      <a:pt x="866" y="145"/>
                    </a:lnTo>
                    <a:lnTo>
                      <a:pt x="867" y="144"/>
                    </a:lnTo>
                    <a:lnTo>
                      <a:pt x="869" y="143"/>
                    </a:lnTo>
                    <a:lnTo>
                      <a:pt x="869" y="139"/>
                    </a:lnTo>
                    <a:lnTo>
                      <a:pt x="869" y="139"/>
                    </a:lnTo>
                    <a:close/>
                    <a:moveTo>
                      <a:pt x="876" y="114"/>
                    </a:moveTo>
                    <a:lnTo>
                      <a:pt x="875" y="111"/>
                    </a:lnTo>
                    <a:lnTo>
                      <a:pt x="875" y="109"/>
                    </a:lnTo>
                    <a:lnTo>
                      <a:pt x="872" y="108"/>
                    </a:lnTo>
                    <a:lnTo>
                      <a:pt x="871" y="108"/>
                    </a:lnTo>
                    <a:lnTo>
                      <a:pt x="870" y="108"/>
                    </a:lnTo>
                    <a:lnTo>
                      <a:pt x="869" y="109"/>
                    </a:lnTo>
                    <a:lnTo>
                      <a:pt x="867" y="111"/>
                    </a:lnTo>
                    <a:lnTo>
                      <a:pt x="867" y="114"/>
                    </a:lnTo>
                    <a:lnTo>
                      <a:pt x="867" y="116"/>
                    </a:lnTo>
                    <a:lnTo>
                      <a:pt x="869" y="118"/>
                    </a:lnTo>
                    <a:lnTo>
                      <a:pt x="870" y="119"/>
                    </a:lnTo>
                    <a:lnTo>
                      <a:pt x="871" y="119"/>
                    </a:lnTo>
                    <a:lnTo>
                      <a:pt x="872" y="119"/>
                    </a:lnTo>
                    <a:lnTo>
                      <a:pt x="875" y="118"/>
                    </a:lnTo>
                    <a:lnTo>
                      <a:pt x="875" y="116"/>
                    </a:lnTo>
                    <a:lnTo>
                      <a:pt x="876" y="114"/>
                    </a:lnTo>
                    <a:lnTo>
                      <a:pt x="876" y="114"/>
                    </a:lnTo>
                    <a:close/>
                    <a:moveTo>
                      <a:pt x="890" y="167"/>
                    </a:moveTo>
                    <a:lnTo>
                      <a:pt x="889" y="166"/>
                    </a:lnTo>
                    <a:lnTo>
                      <a:pt x="887" y="163"/>
                    </a:lnTo>
                    <a:lnTo>
                      <a:pt x="886" y="163"/>
                    </a:lnTo>
                    <a:lnTo>
                      <a:pt x="885" y="162"/>
                    </a:lnTo>
                    <a:lnTo>
                      <a:pt x="884" y="162"/>
                    </a:lnTo>
                    <a:lnTo>
                      <a:pt x="882" y="163"/>
                    </a:lnTo>
                    <a:lnTo>
                      <a:pt x="881" y="163"/>
                    </a:lnTo>
                    <a:lnTo>
                      <a:pt x="881" y="163"/>
                    </a:lnTo>
                    <a:lnTo>
                      <a:pt x="880" y="166"/>
                    </a:lnTo>
                    <a:lnTo>
                      <a:pt x="880" y="167"/>
                    </a:lnTo>
                    <a:lnTo>
                      <a:pt x="880" y="169"/>
                    </a:lnTo>
                    <a:lnTo>
                      <a:pt x="881" y="172"/>
                    </a:lnTo>
                    <a:lnTo>
                      <a:pt x="881" y="173"/>
                    </a:lnTo>
                    <a:lnTo>
                      <a:pt x="882" y="173"/>
                    </a:lnTo>
                    <a:lnTo>
                      <a:pt x="884" y="173"/>
                    </a:lnTo>
                    <a:lnTo>
                      <a:pt x="885" y="173"/>
                    </a:lnTo>
                    <a:lnTo>
                      <a:pt x="886" y="173"/>
                    </a:lnTo>
                    <a:lnTo>
                      <a:pt x="887" y="172"/>
                    </a:lnTo>
                    <a:lnTo>
                      <a:pt x="889" y="169"/>
                    </a:lnTo>
                    <a:lnTo>
                      <a:pt x="890" y="167"/>
                    </a:lnTo>
                    <a:lnTo>
                      <a:pt x="890" y="167"/>
                    </a:lnTo>
                    <a:close/>
                    <a:moveTo>
                      <a:pt x="890" y="137"/>
                    </a:moveTo>
                    <a:lnTo>
                      <a:pt x="908" y="137"/>
                    </a:lnTo>
                    <a:lnTo>
                      <a:pt x="908" y="105"/>
                    </a:lnTo>
                    <a:lnTo>
                      <a:pt x="890" y="105"/>
                    </a:lnTo>
                    <a:lnTo>
                      <a:pt x="890" y="137"/>
                    </a:lnTo>
                    <a:lnTo>
                      <a:pt x="890" y="137"/>
                    </a:lnTo>
                    <a:close/>
                    <a:moveTo>
                      <a:pt x="916" y="167"/>
                    </a:moveTo>
                    <a:lnTo>
                      <a:pt x="916" y="166"/>
                    </a:lnTo>
                    <a:lnTo>
                      <a:pt x="915" y="163"/>
                    </a:lnTo>
                    <a:lnTo>
                      <a:pt x="914" y="163"/>
                    </a:lnTo>
                    <a:lnTo>
                      <a:pt x="913" y="162"/>
                    </a:lnTo>
                    <a:lnTo>
                      <a:pt x="909" y="163"/>
                    </a:lnTo>
                    <a:lnTo>
                      <a:pt x="908" y="163"/>
                    </a:lnTo>
                    <a:lnTo>
                      <a:pt x="906" y="166"/>
                    </a:lnTo>
                    <a:lnTo>
                      <a:pt x="905" y="167"/>
                    </a:lnTo>
                    <a:lnTo>
                      <a:pt x="906" y="169"/>
                    </a:lnTo>
                    <a:lnTo>
                      <a:pt x="908" y="172"/>
                    </a:lnTo>
                    <a:lnTo>
                      <a:pt x="909" y="173"/>
                    </a:lnTo>
                    <a:lnTo>
                      <a:pt x="913" y="173"/>
                    </a:lnTo>
                    <a:lnTo>
                      <a:pt x="914" y="173"/>
                    </a:lnTo>
                    <a:lnTo>
                      <a:pt x="915" y="172"/>
                    </a:lnTo>
                    <a:lnTo>
                      <a:pt x="916" y="169"/>
                    </a:lnTo>
                    <a:lnTo>
                      <a:pt x="916" y="167"/>
                    </a:lnTo>
                    <a:lnTo>
                      <a:pt x="916" y="167"/>
                    </a:lnTo>
                    <a:close/>
                    <a:moveTo>
                      <a:pt x="930" y="114"/>
                    </a:moveTo>
                    <a:lnTo>
                      <a:pt x="930" y="111"/>
                    </a:lnTo>
                    <a:lnTo>
                      <a:pt x="929" y="109"/>
                    </a:lnTo>
                    <a:lnTo>
                      <a:pt x="926" y="108"/>
                    </a:lnTo>
                    <a:lnTo>
                      <a:pt x="924" y="108"/>
                    </a:lnTo>
                    <a:lnTo>
                      <a:pt x="921" y="108"/>
                    </a:lnTo>
                    <a:lnTo>
                      <a:pt x="920" y="109"/>
                    </a:lnTo>
                    <a:lnTo>
                      <a:pt x="919" y="111"/>
                    </a:lnTo>
                    <a:lnTo>
                      <a:pt x="919" y="114"/>
                    </a:lnTo>
                    <a:lnTo>
                      <a:pt x="919" y="116"/>
                    </a:lnTo>
                    <a:lnTo>
                      <a:pt x="920" y="118"/>
                    </a:lnTo>
                    <a:lnTo>
                      <a:pt x="921" y="119"/>
                    </a:lnTo>
                    <a:lnTo>
                      <a:pt x="924" y="119"/>
                    </a:lnTo>
                    <a:lnTo>
                      <a:pt x="926" y="119"/>
                    </a:lnTo>
                    <a:lnTo>
                      <a:pt x="929" y="118"/>
                    </a:lnTo>
                    <a:lnTo>
                      <a:pt x="930" y="116"/>
                    </a:lnTo>
                    <a:lnTo>
                      <a:pt x="930" y="114"/>
                    </a:lnTo>
                    <a:lnTo>
                      <a:pt x="930" y="114"/>
                    </a:lnTo>
                    <a:close/>
                    <a:moveTo>
                      <a:pt x="938" y="139"/>
                    </a:moveTo>
                    <a:lnTo>
                      <a:pt x="936" y="138"/>
                    </a:lnTo>
                    <a:lnTo>
                      <a:pt x="935" y="137"/>
                    </a:lnTo>
                    <a:lnTo>
                      <a:pt x="934" y="135"/>
                    </a:lnTo>
                    <a:lnTo>
                      <a:pt x="933" y="135"/>
                    </a:lnTo>
                    <a:lnTo>
                      <a:pt x="930" y="135"/>
                    </a:lnTo>
                    <a:lnTo>
                      <a:pt x="928" y="137"/>
                    </a:lnTo>
                    <a:lnTo>
                      <a:pt x="926" y="138"/>
                    </a:lnTo>
                    <a:lnTo>
                      <a:pt x="926" y="139"/>
                    </a:lnTo>
                    <a:lnTo>
                      <a:pt x="926" y="143"/>
                    </a:lnTo>
                    <a:lnTo>
                      <a:pt x="928" y="144"/>
                    </a:lnTo>
                    <a:lnTo>
                      <a:pt x="930" y="145"/>
                    </a:lnTo>
                    <a:lnTo>
                      <a:pt x="933" y="147"/>
                    </a:lnTo>
                    <a:lnTo>
                      <a:pt x="934" y="145"/>
                    </a:lnTo>
                    <a:lnTo>
                      <a:pt x="935" y="144"/>
                    </a:lnTo>
                    <a:lnTo>
                      <a:pt x="936" y="143"/>
                    </a:lnTo>
                    <a:lnTo>
                      <a:pt x="938" y="139"/>
                    </a:lnTo>
                    <a:lnTo>
                      <a:pt x="938" y="139"/>
                    </a:lnTo>
                    <a:close/>
                    <a:moveTo>
                      <a:pt x="876" y="301"/>
                    </a:moveTo>
                    <a:lnTo>
                      <a:pt x="876" y="308"/>
                    </a:lnTo>
                    <a:lnTo>
                      <a:pt x="876" y="310"/>
                    </a:lnTo>
                    <a:lnTo>
                      <a:pt x="877" y="311"/>
                    </a:lnTo>
                    <a:lnTo>
                      <a:pt x="879" y="312"/>
                    </a:lnTo>
                    <a:lnTo>
                      <a:pt x="880" y="312"/>
                    </a:lnTo>
                    <a:lnTo>
                      <a:pt x="880" y="312"/>
                    </a:lnTo>
                    <a:lnTo>
                      <a:pt x="887" y="312"/>
                    </a:lnTo>
                    <a:lnTo>
                      <a:pt x="887" y="301"/>
                    </a:lnTo>
                    <a:lnTo>
                      <a:pt x="876" y="301"/>
                    </a:lnTo>
                    <a:lnTo>
                      <a:pt x="876" y="301"/>
                    </a:lnTo>
                    <a:close/>
                    <a:moveTo>
                      <a:pt x="887" y="297"/>
                    </a:moveTo>
                    <a:lnTo>
                      <a:pt x="887" y="286"/>
                    </a:lnTo>
                    <a:lnTo>
                      <a:pt x="880" y="286"/>
                    </a:lnTo>
                    <a:lnTo>
                      <a:pt x="879" y="286"/>
                    </a:lnTo>
                    <a:lnTo>
                      <a:pt x="877" y="287"/>
                    </a:lnTo>
                    <a:lnTo>
                      <a:pt x="876" y="288"/>
                    </a:lnTo>
                    <a:lnTo>
                      <a:pt x="876" y="289"/>
                    </a:lnTo>
                    <a:lnTo>
                      <a:pt x="876" y="289"/>
                    </a:lnTo>
                    <a:lnTo>
                      <a:pt x="876" y="297"/>
                    </a:lnTo>
                    <a:lnTo>
                      <a:pt x="887" y="297"/>
                    </a:lnTo>
                    <a:lnTo>
                      <a:pt x="887" y="297"/>
                    </a:lnTo>
                    <a:close/>
                    <a:moveTo>
                      <a:pt x="894" y="312"/>
                    </a:moveTo>
                    <a:lnTo>
                      <a:pt x="908" y="312"/>
                    </a:lnTo>
                    <a:lnTo>
                      <a:pt x="910" y="312"/>
                    </a:lnTo>
                    <a:lnTo>
                      <a:pt x="913" y="312"/>
                    </a:lnTo>
                    <a:lnTo>
                      <a:pt x="914" y="311"/>
                    </a:lnTo>
                    <a:lnTo>
                      <a:pt x="916" y="310"/>
                    </a:lnTo>
                    <a:lnTo>
                      <a:pt x="918" y="308"/>
                    </a:lnTo>
                    <a:lnTo>
                      <a:pt x="918" y="306"/>
                    </a:lnTo>
                    <a:lnTo>
                      <a:pt x="919" y="303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301"/>
                    </a:lnTo>
                    <a:lnTo>
                      <a:pt x="919" y="294"/>
                    </a:lnTo>
                    <a:lnTo>
                      <a:pt x="919" y="293"/>
                    </a:lnTo>
                    <a:lnTo>
                      <a:pt x="918" y="291"/>
                    </a:lnTo>
                    <a:lnTo>
                      <a:pt x="918" y="289"/>
                    </a:lnTo>
                    <a:lnTo>
                      <a:pt x="916" y="288"/>
                    </a:lnTo>
                    <a:lnTo>
                      <a:pt x="914" y="287"/>
                    </a:lnTo>
                    <a:lnTo>
                      <a:pt x="913" y="286"/>
                    </a:lnTo>
                    <a:lnTo>
                      <a:pt x="910" y="286"/>
                    </a:lnTo>
                    <a:lnTo>
                      <a:pt x="908" y="286"/>
                    </a:lnTo>
                    <a:lnTo>
                      <a:pt x="908" y="286"/>
                    </a:lnTo>
                    <a:lnTo>
                      <a:pt x="894" y="286"/>
                    </a:lnTo>
                    <a:lnTo>
                      <a:pt x="894" y="312"/>
                    </a:lnTo>
                    <a:lnTo>
                      <a:pt x="894" y="312"/>
                    </a:lnTo>
                    <a:close/>
                    <a:moveTo>
                      <a:pt x="871" y="308"/>
                    </a:moveTo>
                    <a:lnTo>
                      <a:pt x="871" y="310"/>
                    </a:lnTo>
                    <a:lnTo>
                      <a:pt x="871" y="312"/>
                    </a:lnTo>
                    <a:lnTo>
                      <a:pt x="872" y="313"/>
                    </a:lnTo>
                    <a:lnTo>
                      <a:pt x="874" y="315"/>
                    </a:lnTo>
                    <a:lnTo>
                      <a:pt x="875" y="316"/>
                    </a:lnTo>
                    <a:lnTo>
                      <a:pt x="877" y="316"/>
                    </a:lnTo>
                    <a:lnTo>
                      <a:pt x="879" y="317"/>
                    </a:lnTo>
                    <a:lnTo>
                      <a:pt x="880" y="317"/>
                    </a:lnTo>
                    <a:lnTo>
                      <a:pt x="908" y="317"/>
                    </a:lnTo>
                    <a:lnTo>
                      <a:pt x="911" y="317"/>
                    </a:lnTo>
                    <a:lnTo>
                      <a:pt x="914" y="316"/>
                    </a:lnTo>
                    <a:lnTo>
                      <a:pt x="916" y="315"/>
                    </a:lnTo>
                    <a:lnTo>
                      <a:pt x="919" y="312"/>
                    </a:lnTo>
                    <a:lnTo>
                      <a:pt x="921" y="311"/>
                    </a:lnTo>
                    <a:lnTo>
                      <a:pt x="924" y="308"/>
                    </a:lnTo>
                    <a:lnTo>
                      <a:pt x="925" y="305"/>
                    </a:lnTo>
                    <a:lnTo>
                      <a:pt x="926" y="301"/>
                    </a:lnTo>
                    <a:lnTo>
                      <a:pt x="926" y="294"/>
                    </a:lnTo>
                    <a:lnTo>
                      <a:pt x="925" y="292"/>
                    </a:lnTo>
                    <a:lnTo>
                      <a:pt x="924" y="289"/>
                    </a:lnTo>
                    <a:lnTo>
                      <a:pt x="921" y="287"/>
                    </a:lnTo>
                    <a:lnTo>
                      <a:pt x="919" y="286"/>
                    </a:lnTo>
                    <a:lnTo>
                      <a:pt x="916" y="283"/>
                    </a:lnTo>
                    <a:lnTo>
                      <a:pt x="914" y="282"/>
                    </a:lnTo>
                    <a:lnTo>
                      <a:pt x="911" y="281"/>
                    </a:lnTo>
                    <a:lnTo>
                      <a:pt x="908" y="281"/>
                    </a:lnTo>
                    <a:lnTo>
                      <a:pt x="880" y="281"/>
                    </a:lnTo>
                    <a:lnTo>
                      <a:pt x="879" y="281"/>
                    </a:lnTo>
                    <a:lnTo>
                      <a:pt x="877" y="281"/>
                    </a:lnTo>
                    <a:lnTo>
                      <a:pt x="875" y="282"/>
                    </a:lnTo>
                    <a:lnTo>
                      <a:pt x="874" y="283"/>
                    </a:lnTo>
                    <a:lnTo>
                      <a:pt x="872" y="284"/>
                    </a:lnTo>
                    <a:lnTo>
                      <a:pt x="871" y="287"/>
                    </a:lnTo>
                    <a:lnTo>
                      <a:pt x="871" y="288"/>
                    </a:lnTo>
                    <a:lnTo>
                      <a:pt x="871" y="289"/>
                    </a:lnTo>
                    <a:lnTo>
                      <a:pt x="871" y="308"/>
                    </a:lnTo>
                    <a:lnTo>
                      <a:pt x="871" y="308"/>
                    </a:lnTo>
                    <a:close/>
                    <a:moveTo>
                      <a:pt x="1121" y="130"/>
                    </a:moveTo>
                    <a:lnTo>
                      <a:pt x="1117" y="130"/>
                    </a:lnTo>
                    <a:lnTo>
                      <a:pt x="1114" y="132"/>
                    </a:lnTo>
                    <a:lnTo>
                      <a:pt x="1112" y="133"/>
                    </a:lnTo>
                    <a:lnTo>
                      <a:pt x="1109" y="135"/>
                    </a:lnTo>
                    <a:lnTo>
                      <a:pt x="1107" y="138"/>
                    </a:lnTo>
                    <a:lnTo>
                      <a:pt x="1106" y="140"/>
                    </a:lnTo>
                    <a:lnTo>
                      <a:pt x="1104" y="143"/>
                    </a:lnTo>
                    <a:lnTo>
                      <a:pt x="1104" y="147"/>
                    </a:lnTo>
                    <a:lnTo>
                      <a:pt x="1104" y="149"/>
                    </a:lnTo>
                    <a:lnTo>
                      <a:pt x="1106" y="153"/>
                    </a:lnTo>
                    <a:lnTo>
                      <a:pt x="1107" y="156"/>
                    </a:lnTo>
                    <a:lnTo>
                      <a:pt x="1109" y="158"/>
                    </a:lnTo>
                    <a:lnTo>
                      <a:pt x="1112" y="159"/>
                    </a:lnTo>
                    <a:lnTo>
                      <a:pt x="1114" y="161"/>
                    </a:lnTo>
                    <a:lnTo>
                      <a:pt x="1117" y="162"/>
                    </a:lnTo>
                    <a:lnTo>
                      <a:pt x="1121" y="162"/>
                    </a:lnTo>
                    <a:lnTo>
                      <a:pt x="1124" y="162"/>
                    </a:lnTo>
                    <a:lnTo>
                      <a:pt x="1127" y="161"/>
                    </a:lnTo>
                    <a:lnTo>
                      <a:pt x="1129" y="159"/>
                    </a:lnTo>
                    <a:lnTo>
                      <a:pt x="1132" y="158"/>
                    </a:lnTo>
                    <a:lnTo>
                      <a:pt x="1133" y="156"/>
                    </a:lnTo>
                    <a:lnTo>
                      <a:pt x="1136" y="153"/>
                    </a:lnTo>
                    <a:lnTo>
                      <a:pt x="1136" y="149"/>
                    </a:lnTo>
                    <a:lnTo>
                      <a:pt x="1137" y="147"/>
                    </a:lnTo>
                    <a:lnTo>
                      <a:pt x="1136" y="143"/>
                    </a:lnTo>
                    <a:lnTo>
                      <a:pt x="1136" y="140"/>
                    </a:lnTo>
                    <a:lnTo>
                      <a:pt x="1133" y="138"/>
                    </a:lnTo>
                    <a:lnTo>
                      <a:pt x="1132" y="135"/>
                    </a:lnTo>
                    <a:lnTo>
                      <a:pt x="1129" y="133"/>
                    </a:lnTo>
                    <a:lnTo>
                      <a:pt x="1127" y="132"/>
                    </a:lnTo>
                    <a:lnTo>
                      <a:pt x="1124" y="130"/>
                    </a:lnTo>
                    <a:lnTo>
                      <a:pt x="1121" y="130"/>
                    </a:lnTo>
                    <a:lnTo>
                      <a:pt x="1121" y="130"/>
                    </a:lnTo>
                    <a:close/>
                    <a:moveTo>
                      <a:pt x="1471" y="130"/>
                    </a:moveTo>
                    <a:lnTo>
                      <a:pt x="1468" y="130"/>
                    </a:lnTo>
                    <a:lnTo>
                      <a:pt x="1465" y="132"/>
                    </a:lnTo>
                    <a:lnTo>
                      <a:pt x="1463" y="133"/>
                    </a:lnTo>
                    <a:lnTo>
                      <a:pt x="1460" y="135"/>
                    </a:lnTo>
                    <a:lnTo>
                      <a:pt x="1458" y="138"/>
                    </a:lnTo>
                    <a:lnTo>
                      <a:pt x="1456" y="140"/>
                    </a:lnTo>
                    <a:lnTo>
                      <a:pt x="1456" y="143"/>
                    </a:lnTo>
                    <a:lnTo>
                      <a:pt x="1455" y="147"/>
                    </a:lnTo>
                    <a:lnTo>
                      <a:pt x="1456" y="149"/>
                    </a:lnTo>
                    <a:lnTo>
                      <a:pt x="1456" y="153"/>
                    </a:lnTo>
                    <a:lnTo>
                      <a:pt x="1458" y="156"/>
                    </a:lnTo>
                    <a:lnTo>
                      <a:pt x="1460" y="158"/>
                    </a:lnTo>
                    <a:lnTo>
                      <a:pt x="1463" y="159"/>
                    </a:lnTo>
                    <a:lnTo>
                      <a:pt x="1465" y="161"/>
                    </a:lnTo>
                    <a:lnTo>
                      <a:pt x="1468" y="162"/>
                    </a:lnTo>
                    <a:lnTo>
                      <a:pt x="1471" y="162"/>
                    </a:lnTo>
                    <a:lnTo>
                      <a:pt x="1474" y="162"/>
                    </a:lnTo>
                    <a:lnTo>
                      <a:pt x="1476" y="161"/>
                    </a:lnTo>
                    <a:lnTo>
                      <a:pt x="1479" y="159"/>
                    </a:lnTo>
                    <a:lnTo>
                      <a:pt x="1480" y="158"/>
                    </a:lnTo>
                    <a:lnTo>
                      <a:pt x="1483" y="156"/>
                    </a:lnTo>
                    <a:lnTo>
                      <a:pt x="1484" y="153"/>
                    </a:lnTo>
                    <a:lnTo>
                      <a:pt x="1485" y="149"/>
                    </a:lnTo>
                    <a:lnTo>
                      <a:pt x="1485" y="147"/>
                    </a:lnTo>
                    <a:lnTo>
                      <a:pt x="1485" y="143"/>
                    </a:lnTo>
                    <a:lnTo>
                      <a:pt x="1484" y="140"/>
                    </a:lnTo>
                    <a:lnTo>
                      <a:pt x="1483" y="138"/>
                    </a:lnTo>
                    <a:lnTo>
                      <a:pt x="1480" y="135"/>
                    </a:lnTo>
                    <a:lnTo>
                      <a:pt x="1479" y="133"/>
                    </a:lnTo>
                    <a:lnTo>
                      <a:pt x="1476" y="132"/>
                    </a:lnTo>
                    <a:lnTo>
                      <a:pt x="1474" y="130"/>
                    </a:lnTo>
                    <a:lnTo>
                      <a:pt x="1471" y="130"/>
                    </a:lnTo>
                    <a:lnTo>
                      <a:pt x="1471" y="130"/>
                    </a:lnTo>
                    <a:close/>
                    <a:moveTo>
                      <a:pt x="2112" y="135"/>
                    </a:moveTo>
                    <a:lnTo>
                      <a:pt x="2109" y="135"/>
                    </a:lnTo>
                    <a:lnTo>
                      <a:pt x="2105" y="137"/>
                    </a:lnTo>
                    <a:lnTo>
                      <a:pt x="2103" y="138"/>
                    </a:lnTo>
                    <a:lnTo>
                      <a:pt x="2100" y="139"/>
                    </a:lnTo>
                    <a:lnTo>
                      <a:pt x="2099" y="142"/>
                    </a:lnTo>
                    <a:lnTo>
                      <a:pt x="2098" y="144"/>
                    </a:lnTo>
                    <a:lnTo>
                      <a:pt x="2097" y="148"/>
                    </a:lnTo>
                    <a:lnTo>
                      <a:pt x="2097" y="150"/>
                    </a:lnTo>
                    <a:lnTo>
                      <a:pt x="2097" y="153"/>
                    </a:lnTo>
                    <a:lnTo>
                      <a:pt x="2098" y="156"/>
                    </a:lnTo>
                    <a:lnTo>
                      <a:pt x="2099" y="158"/>
                    </a:lnTo>
                    <a:lnTo>
                      <a:pt x="2100" y="161"/>
                    </a:lnTo>
                    <a:lnTo>
                      <a:pt x="2103" y="162"/>
                    </a:lnTo>
                    <a:lnTo>
                      <a:pt x="2105" y="163"/>
                    </a:lnTo>
                    <a:lnTo>
                      <a:pt x="2109" y="164"/>
                    </a:lnTo>
                    <a:lnTo>
                      <a:pt x="2112" y="164"/>
                    </a:lnTo>
                    <a:lnTo>
                      <a:pt x="2115" y="164"/>
                    </a:lnTo>
                    <a:lnTo>
                      <a:pt x="2118" y="163"/>
                    </a:lnTo>
                    <a:lnTo>
                      <a:pt x="2120" y="162"/>
                    </a:lnTo>
                    <a:lnTo>
                      <a:pt x="2123" y="161"/>
                    </a:lnTo>
                    <a:lnTo>
                      <a:pt x="2125" y="158"/>
                    </a:lnTo>
                    <a:lnTo>
                      <a:pt x="2127" y="156"/>
                    </a:lnTo>
                    <a:lnTo>
                      <a:pt x="2128" y="153"/>
                    </a:lnTo>
                    <a:lnTo>
                      <a:pt x="2128" y="150"/>
                    </a:lnTo>
                    <a:lnTo>
                      <a:pt x="2128" y="148"/>
                    </a:lnTo>
                    <a:lnTo>
                      <a:pt x="2127" y="144"/>
                    </a:lnTo>
                    <a:lnTo>
                      <a:pt x="2125" y="142"/>
                    </a:lnTo>
                    <a:lnTo>
                      <a:pt x="2123" y="139"/>
                    </a:lnTo>
                    <a:lnTo>
                      <a:pt x="2120" y="138"/>
                    </a:lnTo>
                    <a:lnTo>
                      <a:pt x="2118" y="137"/>
                    </a:lnTo>
                    <a:lnTo>
                      <a:pt x="2115" y="135"/>
                    </a:lnTo>
                    <a:lnTo>
                      <a:pt x="2112" y="135"/>
                    </a:lnTo>
                    <a:lnTo>
                      <a:pt x="2112" y="135"/>
                    </a:lnTo>
                    <a:close/>
                    <a:moveTo>
                      <a:pt x="2198" y="181"/>
                    </a:moveTo>
                    <a:lnTo>
                      <a:pt x="2198" y="182"/>
                    </a:lnTo>
                    <a:lnTo>
                      <a:pt x="2198" y="182"/>
                    </a:lnTo>
                    <a:lnTo>
                      <a:pt x="2201" y="185"/>
                    </a:lnTo>
                    <a:lnTo>
                      <a:pt x="2203" y="187"/>
                    </a:lnTo>
                    <a:lnTo>
                      <a:pt x="2204" y="187"/>
                    </a:lnTo>
                    <a:lnTo>
                      <a:pt x="2204" y="187"/>
                    </a:lnTo>
                    <a:lnTo>
                      <a:pt x="2207" y="187"/>
                    </a:lnTo>
                    <a:lnTo>
                      <a:pt x="2208" y="187"/>
                    </a:lnTo>
                    <a:lnTo>
                      <a:pt x="2211" y="185"/>
                    </a:lnTo>
                    <a:lnTo>
                      <a:pt x="2212" y="183"/>
                    </a:lnTo>
                    <a:lnTo>
                      <a:pt x="2213" y="182"/>
                    </a:lnTo>
                    <a:lnTo>
                      <a:pt x="2213" y="182"/>
                    </a:lnTo>
                    <a:lnTo>
                      <a:pt x="2214" y="181"/>
                    </a:lnTo>
                    <a:lnTo>
                      <a:pt x="2213" y="178"/>
                    </a:lnTo>
                    <a:lnTo>
                      <a:pt x="2213" y="177"/>
                    </a:lnTo>
                    <a:lnTo>
                      <a:pt x="2212" y="176"/>
                    </a:lnTo>
                    <a:lnTo>
                      <a:pt x="2211" y="176"/>
                    </a:lnTo>
                    <a:lnTo>
                      <a:pt x="2208" y="174"/>
                    </a:lnTo>
                    <a:lnTo>
                      <a:pt x="2204" y="173"/>
                    </a:lnTo>
                    <a:lnTo>
                      <a:pt x="2203" y="174"/>
                    </a:lnTo>
                    <a:lnTo>
                      <a:pt x="2201" y="176"/>
                    </a:lnTo>
                    <a:lnTo>
                      <a:pt x="2198" y="177"/>
                    </a:lnTo>
                    <a:lnTo>
                      <a:pt x="2198" y="178"/>
                    </a:lnTo>
                    <a:lnTo>
                      <a:pt x="2198" y="181"/>
                    </a:lnTo>
                    <a:lnTo>
                      <a:pt x="2198" y="181"/>
                    </a:lnTo>
                    <a:close/>
                    <a:moveTo>
                      <a:pt x="2237" y="181"/>
                    </a:moveTo>
                    <a:lnTo>
                      <a:pt x="2237" y="182"/>
                    </a:lnTo>
                    <a:lnTo>
                      <a:pt x="2237" y="182"/>
                    </a:lnTo>
                    <a:lnTo>
                      <a:pt x="2239" y="185"/>
                    </a:lnTo>
                    <a:lnTo>
                      <a:pt x="2241" y="187"/>
                    </a:lnTo>
                    <a:lnTo>
                      <a:pt x="2242" y="187"/>
                    </a:lnTo>
                    <a:lnTo>
                      <a:pt x="2243" y="187"/>
                    </a:lnTo>
                    <a:lnTo>
                      <a:pt x="2244" y="187"/>
                    </a:lnTo>
                    <a:lnTo>
                      <a:pt x="2246" y="187"/>
                    </a:lnTo>
                    <a:lnTo>
                      <a:pt x="2248" y="185"/>
                    </a:lnTo>
                    <a:lnTo>
                      <a:pt x="2249" y="182"/>
                    </a:lnTo>
                    <a:lnTo>
                      <a:pt x="2249" y="181"/>
                    </a:lnTo>
                    <a:lnTo>
                      <a:pt x="2249" y="177"/>
                    </a:lnTo>
                    <a:lnTo>
                      <a:pt x="2248" y="176"/>
                    </a:lnTo>
                    <a:lnTo>
                      <a:pt x="2246" y="174"/>
                    </a:lnTo>
                    <a:lnTo>
                      <a:pt x="2243" y="173"/>
                    </a:lnTo>
                    <a:lnTo>
                      <a:pt x="2241" y="174"/>
                    </a:lnTo>
                    <a:lnTo>
                      <a:pt x="2239" y="176"/>
                    </a:lnTo>
                    <a:lnTo>
                      <a:pt x="2237" y="177"/>
                    </a:lnTo>
                    <a:lnTo>
                      <a:pt x="2237" y="178"/>
                    </a:lnTo>
                    <a:lnTo>
                      <a:pt x="2237" y="181"/>
                    </a:lnTo>
                    <a:lnTo>
                      <a:pt x="2237" y="181"/>
                    </a:lnTo>
                    <a:close/>
                    <a:moveTo>
                      <a:pt x="2275" y="181"/>
                    </a:moveTo>
                    <a:lnTo>
                      <a:pt x="2275" y="182"/>
                    </a:lnTo>
                    <a:lnTo>
                      <a:pt x="2276" y="182"/>
                    </a:lnTo>
                    <a:lnTo>
                      <a:pt x="2277" y="185"/>
                    </a:lnTo>
                    <a:lnTo>
                      <a:pt x="2280" y="187"/>
                    </a:lnTo>
                    <a:lnTo>
                      <a:pt x="2281" y="187"/>
                    </a:lnTo>
                    <a:lnTo>
                      <a:pt x="2282" y="187"/>
                    </a:lnTo>
                    <a:lnTo>
                      <a:pt x="2283" y="187"/>
                    </a:lnTo>
                    <a:lnTo>
                      <a:pt x="2285" y="187"/>
                    </a:lnTo>
                    <a:lnTo>
                      <a:pt x="2287" y="185"/>
                    </a:lnTo>
                    <a:lnTo>
                      <a:pt x="2288" y="182"/>
                    </a:lnTo>
                    <a:lnTo>
                      <a:pt x="2288" y="181"/>
                    </a:lnTo>
                    <a:lnTo>
                      <a:pt x="2288" y="177"/>
                    </a:lnTo>
                    <a:lnTo>
                      <a:pt x="2287" y="176"/>
                    </a:lnTo>
                    <a:lnTo>
                      <a:pt x="2285" y="174"/>
                    </a:lnTo>
                    <a:lnTo>
                      <a:pt x="2282" y="173"/>
                    </a:lnTo>
                    <a:lnTo>
                      <a:pt x="2280" y="174"/>
                    </a:lnTo>
                    <a:lnTo>
                      <a:pt x="2277" y="176"/>
                    </a:lnTo>
                    <a:lnTo>
                      <a:pt x="2276" y="177"/>
                    </a:lnTo>
                    <a:lnTo>
                      <a:pt x="2275" y="178"/>
                    </a:lnTo>
                    <a:lnTo>
                      <a:pt x="2275" y="181"/>
                    </a:lnTo>
                    <a:lnTo>
                      <a:pt x="2275" y="181"/>
                    </a:lnTo>
                    <a:close/>
                    <a:moveTo>
                      <a:pt x="2313" y="181"/>
                    </a:moveTo>
                    <a:lnTo>
                      <a:pt x="2313" y="182"/>
                    </a:lnTo>
                    <a:lnTo>
                      <a:pt x="2315" y="185"/>
                    </a:lnTo>
                    <a:lnTo>
                      <a:pt x="2317" y="187"/>
                    </a:lnTo>
                    <a:lnTo>
                      <a:pt x="2318" y="187"/>
                    </a:lnTo>
                    <a:lnTo>
                      <a:pt x="2320" y="187"/>
                    </a:lnTo>
                    <a:lnTo>
                      <a:pt x="2322" y="187"/>
                    </a:lnTo>
                    <a:lnTo>
                      <a:pt x="2323" y="187"/>
                    </a:lnTo>
                    <a:lnTo>
                      <a:pt x="2325" y="185"/>
                    </a:lnTo>
                    <a:lnTo>
                      <a:pt x="2326" y="182"/>
                    </a:lnTo>
                    <a:lnTo>
                      <a:pt x="2327" y="181"/>
                    </a:lnTo>
                    <a:lnTo>
                      <a:pt x="2326" y="177"/>
                    </a:lnTo>
                    <a:lnTo>
                      <a:pt x="2325" y="176"/>
                    </a:lnTo>
                    <a:lnTo>
                      <a:pt x="2323" y="174"/>
                    </a:lnTo>
                    <a:lnTo>
                      <a:pt x="2320" y="173"/>
                    </a:lnTo>
                    <a:lnTo>
                      <a:pt x="2317" y="174"/>
                    </a:lnTo>
                    <a:lnTo>
                      <a:pt x="2315" y="176"/>
                    </a:lnTo>
                    <a:lnTo>
                      <a:pt x="2313" y="177"/>
                    </a:lnTo>
                    <a:lnTo>
                      <a:pt x="2313" y="181"/>
                    </a:lnTo>
                    <a:lnTo>
                      <a:pt x="2313" y="181"/>
                    </a:lnTo>
                    <a:close/>
                    <a:moveTo>
                      <a:pt x="2352" y="181"/>
                    </a:moveTo>
                    <a:lnTo>
                      <a:pt x="2352" y="182"/>
                    </a:lnTo>
                    <a:lnTo>
                      <a:pt x="2353" y="185"/>
                    </a:lnTo>
                    <a:lnTo>
                      <a:pt x="2356" y="187"/>
                    </a:lnTo>
                    <a:lnTo>
                      <a:pt x="2357" y="187"/>
                    </a:lnTo>
                    <a:lnTo>
                      <a:pt x="2358" y="187"/>
                    </a:lnTo>
                    <a:lnTo>
                      <a:pt x="2360" y="187"/>
                    </a:lnTo>
                    <a:lnTo>
                      <a:pt x="2362" y="187"/>
                    </a:lnTo>
                    <a:lnTo>
                      <a:pt x="2363" y="185"/>
                    </a:lnTo>
                    <a:lnTo>
                      <a:pt x="2365" y="182"/>
                    </a:lnTo>
                    <a:lnTo>
                      <a:pt x="2366" y="181"/>
                    </a:lnTo>
                    <a:lnTo>
                      <a:pt x="2365" y="177"/>
                    </a:lnTo>
                    <a:lnTo>
                      <a:pt x="2363" y="176"/>
                    </a:lnTo>
                    <a:lnTo>
                      <a:pt x="2362" y="174"/>
                    </a:lnTo>
                    <a:lnTo>
                      <a:pt x="2358" y="173"/>
                    </a:lnTo>
                    <a:lnTo>
                      <a:pt x="2356" y="174"/>
                    </a:lnTo>
                    <a:lnTo>
                      <a:pt x="2353" y="176"/>
                    </a:lnTo>
                    <a:lnTo>
                      <a:pt x="2352" y="177"/>
                    </a:lnTo>
                    <a:lnTo>
                      <a:pt x="2352" y="181"/>
                    </a:lnTo>
                    <a:lnTo>
                      <a:pt x="2352" y="181"/>
                    </a:lnTo>
                    <a:close/>
                    <a:moveTo>
                      <a:pt x="2218" y="150"/>
                    </a:moveTo>
                    <a:lnTo>
                      <a:pt x="2218" y="152"/>
                    </a:lnTo>
                    <a:lnTo>
                      <a:pt x="2219" y="153"/>
                    </a:lnTo>
                    <a:lnTo>
                      <a:pt x="2221" y="156"/>
                    </a:lnTo>
                    <a:lnTo>
                      <a:pt x="2223" y="157"/>
                    </a:lnTo>
                    <a:lnTo>
                      <a:pt x="2224" y="158"/>
                    </a:lnTo>
                    <a:lnTo>
                      <a:pt x="2226" y="158"/>
                    </a:lnTo>
                    <a:lnTo>
                      <a:pt x="2227" y="158"/>
                    </a:lnTo>
                    <a:lnTo>
                      <a:pt x="2228" y="157"/>
                    </a:lnTo>
                    <a:lnTo>
                      <a:pt x="2231" y="156"/>
                    </a:lnTo>
                    <a:lnTo>
                      <a:pt x="2232" y="153"/>
                    </a:lnTo>
                    <a:lnTo>
                      <a:pt x="2232" y="150"/>
                    </a:lnTo>
                    <a:lnTo>
                      <a:pt x="2232" y="148"/>
                    </a:lnTo>
                    <a:lnTo>
                      <a:pt x="2231" y="145"/>
                    </a:lnTo>
                    <a:lnTo>
                      <a:pt x="2228" y="144"/>
                    </a:lnTo>
                    <a:lnTo>
                      <a:pt x="2226" y="144"/>
                    </a:lnTo>
                    <a:lnTo>
                      <a:pt x="2223" y="144"/>
                    </a:lnTo>
                    <a:lnTo>
                      <a:pt x="2221" y="145"/>
                    </a:lnTo>
                    <a:lnTo>
                      <a:pt x="2219" y="148"/>
                    </a:lnTo>
                    <a:lnTo>
                      <a:pt x="2218" y="149"/>
                    </a:lnTo>
                    <a:lnTo>
                      <a:pt x="2218" y="150"/>
                    </a:lnTo>
                    <a:lnTo>
                      <a:pt x="2218" y="150"/>
                    </a:lnTo>
                    <a:close/>
                    <a:moveTo>
                      <a:pt x="2257" y="150"/>
                    </a:moveTo>
                    <a:lnTo>
                      <a:pt x="2257" y="152"/>
                    </a:lnTo>
                    <a:lnTo>
                      <a:pt x="2257" y="153"/>
                    </a:lnTo>
                    <a:lnTo>
                      <a:pt x="2259" y="156"/>
                    </a:lnTo>
                    <a:lnTo>
                      <a:pt x="2262" y="157"/>
                    </a:lnTo>
                    <a:lnTo>
                      <a:pt x="2262" y="158"/>
                    </a:lnTo>
                    <a:lnTo>
                      <a:pt x="2263" y="158"/>
                    </a:lnTo>
                    <a:lnTo>
                      <a:pt x="2266" y="158"/>
                    </a:lnTo>
                    <a:lnTo>
                      <a:pt x="2267" y="157"/>
                    </a:lnTo>
                    <a:lnTo>
                      <a:pt x="2268" y="156"/>
                    </a:lnTo>
                    <a:lnTo>
                      <a:pt x="2270" y="153"/>
                    </a:lnTo>
                    <a:lnTo>
                      <a:pt x="2271" y="150"/>
                    </a:lnTo>
                    <a:lnTo>
                      <a:pt x="2270" y="148"/>
                    </a:lnTo>
                    <a:lnTo>
                      <a:pt x="2268" y="145"/>
                    </a:lnTo>
                    <a:lnTo>
                      <a:pt x="2267" y="144"/>
                    </a:lnTo>
                    <a:lnTo>
                      <a:pt x="2263" y="144"/>
                    </a:lnTo>
                    <a:lnTo>
                      <a:pt x="2262" y="144"/>
                    </a:lnTo>
                    <a:lnTo>
                      <a:pt x="2259" y="145"/>
                    </a:lnTo>
                    <a:lnTo>
                      <a:pt x="2257" y="148"/>
                    </a:lnTo>
                    <a:lnTo>
                      <a:pt x="2257" y="149"/>
                    </a:lnTo>
                    <a:lnTo>
                      <a:pt x="2257" y="150"/>
                    </a:lnTo>
                    <a:lnTo>
                      <a:pt x="2257" y="150"/>
                    </a:lnTo>
                    <a:close/>
                    <a:moveTo>
                      <a:pt x="2296" y="150"/>
                    </a:moveTo>
                    <a:lnTo>
                      <a:pt x="2296" y="153"/>
                    </a:lnTo>
                    <a:lnTo>
                      <a:pt x="2297" y="156"/>
                    </a:lnTo>
                    <a:lnTo>
                      <a:pt x="2300" y="157"/>
                    </a:lnTo>
                    <a:lnTo>
                      <a:pt x="2301" y="158"/>
                    </a:lnTo>
                    <a:lnTo>
                      <a:pt x="2302" y="158"/>
                    </a:lnTo>
                    <a:lnTo>
                      <a:pt x="2303" y="158"/>
                    </a:lnTo>
                    <a:lnTo>
                      <a:pt x="2305" y="157"/>
                    </a:lnTo>
                    <a:lnTo>
                      <a:pt x="2307" y="156"/>
                    </a:lnTo>
                    <a:lnTo>
                      <a:pt x="2308" y="153"/>
                    </a:lnTo>
                    <a:lnTo>
                      <a:pt x="2308" y="150"/>
                    </a:lnTo>
                    <a:lnTo>
                      <a:pt x="2308" y="148"/>
                    </a:lnTo>
                    <a:lnTo>
                      <a:pt x="2307" y="145"/>
                    </a:lnTo>
                    <a:lnTo>
                      <a:pt x="2305" y="144"/>
                    </a:lnTo>
                    <a:lnTo>
                      <a:pt x="2302" y="144"/>
                    </a:lnTo>
                    <a:lnTo>
                      <a:pt x="2300" y="144"/>
                    </a:lnTo>
                    <a:lnTo>
                      <a:pt x="2297" y="145"/>
                    </a:lnTo>
                    <a:lnTo>
                      <a:pt x="2296" y="148"/>
                    </a:lnTo>
                    <a:lnTo>
                      <a:pt x="2296" y="150"/>
                    </a:lnTo>
                    <a:lnTo>
                      <a:pt x="2296" y="150"/>
                    </a:lnTo>
                    <a:close/>
                    <a:moveTo>
                      <a:pt x="2333" y="150"/>
                    </a:moveTo>
                    <a:lnTo>
                      <a:pt x="2335" y="153"/>
                    </a:lnTo>
                    <a:lnTo>
                      <a:pt x="2336" y="156"/>
                    </a:lnTo>
                    <a:lnTo>
                      <a:pt x="2337" y="157"/>
                    </a:lnTo>
                    <a:lnTo>
                      <a:pt x="2338" y="158"/>
                    </a:lnTo>
                    <a:lnTo>
                      <a:pt x="2341" y="158"/>
                    </a:lnTo>
                    <a:lnTo>
                      <a:pt x="2342" y="158"/>
                    </a:lnTo>
                    <a:lnTo>
                      <a:pt x="2343" y="157"/>
                    </a:lnTo>
                    <a:lnTo>
                      <a:pt x="2346" y="156"/>
                    </a:lnTo>
                    <a:lnTo>
                      <a:pt x="2347" y="153"/>
                    </a:lnTo>
                    <a:lnTo>
                      <a:pt x="2347" y="150"/>
                    </a:lnTo>
                    <a:lnTo>
                      <a:pt x="2347" y="148"/>
                    </a:lnTo>
                    <a:lnTo>
                      <a:pt x="2346" y="145"/>
                    </a:lnTo>
                    <a:lnTo>
                      <a:pt x="2343" y="144"/>
                    </a:lnTo>
                    <a:lnTo>
                      <a:pt x="2341" y="144"/>
                    </a:lnTo>
                    <a:lnTo>
                      <a:pt x="2337" y="144"/>
                    </a:lnTo>
                    <a:lnTo>
                      <a:pt x="2336" y="145"/>
                    </a:lnTo>
                    <a:lnTo>
                      <a:pt x="2335" y="148"/>
                    </a:lnTo>
                    <a:lnTo>
                      <a:pt x="2333" y="150"/>
                    </a:lnTo>
                    <a:lnTo>
                      <a:pt x="2333" y="150"/>
                    </a:lnTo>
                    <a:close/>
                    <a:moveTo>
                      <a:pt x="2372" y="150"/>
                    </a:moveTo>
                    <a:lnTo>
                      <a:pt x="2372" y="153"/>
                    </a:lnTo>
                    <a:lnTo>
                      <a:pt x="2373" y="156"/>
                    </a:lnTo>
                    <a:lnTo>
                      <a:pt x="2376" y="157"/>
                    </a:lnTo>
                    <a:lnTo>
                      <a:pt x="2377" y="158"/>
                    </a:lnTo>
                    <a:lnTo>
                      <a:pt x="2379" y="158"/>
                    </a:lnTo>
                    <a:lnTo>
                      <a:pt x="2380" y="158"/>
                    </a:lnTo>
                    <a:lnTo>
                      <a:pt x="2381" y="157"/>
                    </a:lnTo>
                    <a:lnTo>
                      <a:pt x="2384" y="156"/>
                    </a:lnTo>
                    <a:lnTo>
                      <a:pt x="2385" y="153"/>
                    </a:lnTo>
                    <a:lnTo>
                      <a:pt x="2386" y="152"/>
                    </a:lnTo>
                    <a:lnTo>
                      <a:pt x="2386" y="150"/>
                    </a:lnTo>
                    <a:lnTo>
                      <a:pt x="2386" y="149"/>
                    </a:lnTo>
                    <a:lnTo>
                      <a:pt x="2385" y="148"/>
                    </a:lnTo>
                    <a:lnTo>
                      <a:pt x="2384" y="145"/>
                    </a:lnTo>
                    <a:lnTo>
                      <a:pt x="2381" y="144"/>
                    </a:lnTo>
                    <a:lnTo>
                      <a:pt x="2379" y="144"/>
                    </a:lnTo>
                    <a:lnTo>
                      <a:pt x="2376" y="144"/>
                    </a:lnTo>
                    <a:lnTo>
                      <a:pt x="2373" y="145"/>
                    </a:lnTo>
                    <a:lnTo>
                      <a:pt x="2372" y="148"/>
                    </a:lnTo>
                    <a:lnTo>
                      <a:pt x="2372" y="150"/>
                    </a:lnTo>
                    <a:lnTo>
                      <a:pt x="2372" y="150"/>
                    </a:lnTo>
                    <a:close/>
                    <a:moveTo>
                      <a:pt x="2198" y="119"/>
                    </a:moveTo>
                    <a:lnTo>
                      <a:pt x="2198" y="120"/>
                    </a:lnTo>
                    <a:lnTo>
                      <a:pt x="2198" y="121"/>
                    </a:lnTo>
                    <a:lnTo>
                      <a:pt x="2201" y="124"/>
                    </a:lnTo>
                    <a:lnTo>
                      <a:pt x="2203" y="125"/>
                    </a:lnTo>
                    <a:lnTo>
                      <a:pt x="2204" y="125"/>
                    </a:lnTo>
                    <a:lnTo>
                      <a:pt x="2208" y="125"/>
                    </a:lnTo>
                    <a:lnTo>
                      <a:pt x="2211" y="124"/>
                    </a:lnTo>
                    <a:lnTo>
                      <a:pt x="2212" y="123"/>
                    </a:lnTo>
                    <a:lnTo>
                      <a:pt x="2213" y="121"/>
                    </a:lnTo>
                    <a:lnTo>
                      <a:pt x="2213" y="120"/>
                    </a:lnTo>
                    <a:lnTo>
                      <a:pt x="2214" y="119"/>
                    </a:lnTo>
                    <a:lnTo>
                      <a:pt x="2213" y="118"/>
                    </a:lnTo>
                    <a:lnTo>
                      <a:pt x="2213" y="116"/>
                    </a:lnTo>
                    <a:lnTo>
                      <a:pt x="2212" y="116"/>
                    </a:lnTo>
                    <a:lnTo>
                      <a:pt x="2211" y="115"/>
                    </a:lnTo>
                    <a:lnTo>
                      <a:pt x="2208" y="113"/>
                    </a:lnTo>
                    <a:lnTo>
                      <a:pt x="2207" y="113"/>
                    </a:lnTo>
                    <a:lnTo>
                      <a:pt x="2204" y="113"/>
                    </a:lnTo>
                    <a:lnTo>
                      <a:pt x="2204" y="113"/>
                    </a:lnTo>
                    <a:lnTo>
                      <a:pt x="2203" y="113"/>
                    </a:lnTo>
                    <a:lnTo>
                      <a:pt x="2201" y="115"/>
                    </a:lnTo>
                    <a:lnTo>
                      <a:pt x="2198" y="116"/>
                    </a:lnTo>
                    <a:lnTo>
                      <a:pt x="2198" y="118"/>
                    </a:lnTo>
                    <a:lnTo>
                      <a:pt x="2198" y="119"/>
                    </a:lnTo>
                    <a:lnTo>
                      <a:pt x="2198" y="119"/>
                    </a:lnTo>
                    <a:close/>
                    <a:moveTo>
                      <a:pt x="2237" y="119"/>
                    </a:moveTo>
                    <a:lnTo>
                      <a:pt x="2237" y="120"/>
                    </a:lnTo>
                    <a:lnTo>
                      <a:pt x="2237" y="121"/>
                    </a:lnTo>
                    <a:lnTo>
                      <a:pt x="2239" y="124"/>
                    </a:lnTo>
                    <a:lnTo>
                      <a:pt x="2241" y="125"/>
                    </a:lnTo>
                    <a:lnTo>
                      <a:pt x="2243" y="125"/>
                    </a:lnTo>
                    <a:lnTo>
                      <a:pt x="2246" y="125"/>
                    </a:lnTo>
                    <a:lnTo>
                      <a:pt x="2248" y="124"/>
                    </a:lnTo>
                    <a:lnTo>
                      <a:pt x="2249" y="121"/>
                    </a:lnTo>
                    <a:lnTo>
                      <a:pt x="2249" y="119"/>
                    </a:lnTo>
                    <a:lnTo>
                      <a:pt x="2249" y="116"/>
                    </a:lnTo>
                    <a:lnTo>
                      <a:pt x="2248" y="115"/>
                    </a:lnTo>
                    <a:lnTo>
                      <a:pt x="2246" y="113"/>
                    </a:lnTo>
                    <a:lnTo>
                      <a:pt x="2244" y="113"/>
                    </a:lnTo>
                    <a:lnTo>
                      <a:pt x="2243" y="113"/>
                    </a:lnTo>
                    <a:lnTo>
                      <a:pt x="2242" y="113"/>
                    </a:lnTo>
                    <a:lnTo>
                      <a:pt x="2241" y="113"/>
                    </a:lnTo>
                    <a:lnTo>
                      <a:pt x="2239" y="115"/>
                    </a:lnTo>
                    <a:lnTo>
                      <a:pt x="2237" y="116"/>
                    </a:lnTo>
                    <a:lnTo>
                      <a:pt x="2237" y="118"/>
                    </a:lnTo>
                    <a:lnTo>
                      <a:pt x="2237" y="119"/>
                    </a:lnTo>
                    <a:lnTo>
                      <a:pt x="2237" y="119"/>
                    </a:lnTo>
                    <a:close/>
                    <a:moveTo>
                      <a:pt x="2275" y="119"/>
                    </a:moveTo>
                    <a:lnTo>
                      <a:pt x="2275" y="120"/>
                    </a:lnTo>
                    <a:lnTo>
                      <a:pt x="2276" y="121"/>
                    </a:lnTo>
                    <a:lnTo>
                      <a:pt x="2277" y="124"/>
                    </a:lnTo>
                    <a:lnTo>
                      <a:pt x="2280" y="125"/>
                    </a:lnTo>
                    <a:lnTo>
                      <a:pt x="2282" y="125"/>
                    </a:lnTo>
                    <a:lnTo>
                      <a:pt x="2285" y="125"/>
                    </a:lnTo>
                    <a:lnTo>
                      <a:pt x="2287" y="124"/>
                    </a:lnTo>
                    <a:lnTo>
                      <a:pt x="2288" y="121"/>
                    </a:lnTo>
                    <a:lnTo>
                      <a:pt x="2288" y="119"/>
                    </a:lnTo>
                    <a:lnTo>
                      <a:pt x="2288" y="116"/>
                    </a:lnTo>
                    <a:lnTo>
                      <a:pt x="2287" y="115"/>
                    </a:lnTo>
                    <a:lnTo>
                      <a:pt x="2285" y="113"/>
                    </a:lnTo>
                    <a:lnTo>
                      <a:pt x="2283" y="113"/>
                    </a:lnTo>
                    <a:lnTo>
                      <a:pt x="2282" y="113"/>
                    </a:lnTo>
                    <a:lnTo>
                      <a:pt x="2281" y="113"/>
                    </a:lnTo>
                    <a:lnTo>
                      <a:pt x="2280" y="113"/>
                    </a:lnTo>
                    <a:lnTo>
                      <a:pt x="2277" y="115"/>
                    </a:lnTo>
                    <a:lnTo>
                      <a:pt x="2276" y="116"/>
                    </a:lnTo>
                    <a:lnTo>
                      <a:pt x="2275" y="118"/>
                    </a:lnTo>
                    <a:lnTo>
                      <a:pt x="2275" y="119"/>
                    </a:lnTo>
                    <a:lnTo>
                      <a:pt x="2275" y="119"/>
                    </a:lnTo>
                    <a:close/>
                    <a:moveTo>
                      <a:pt x="2313" y="119"/>
                    </a:moveTo>
                    <a:lnTo>
                      <a:pt x="2313" y="121"/>
                    </a:lnTo>
                    <a:lnTo>
                      <a:pt x="2315" y="124"/>
                    </a:lnTo>
                    <a:lnTo>
                      <a:pt x="2317" y="125"/>
                    </a:lnTo>
                    <a:lnTo>
                      <a:pt x="2320" y="125"/>
                    </a:lnTo>
                    <a:lnTo>
                      <a:pt x="2323" y="125"/>
                    </a:lnTo>
                    <a:lnTo>
                      <a:pt x="2325" y="124"/>
                    </a:lnTo>
                    <a:lnTo>
                      <a:pt x="2326" y="121"/>
                    </a:lnTo>
                    <a:lnTo>
                      <a:pt x="2327" y="119"/>
                    </a:lnTo>
                    <a:lnTo>
                      <a:pt x="2326" y="116"/>
                    </a:lnTo>
                    <a:lnTo>
                      <a:pt x="2325" y="115"/>
                    </a:lnTo>
                    <a:lnTo>
                      <a:pt x="2323" y="113"/>
                    </a:lnTo>
                    <a:lnTo>
                      <a:pt x="2322" y="113"/>
                    </a:lnTo>
                    <a:lnTo>
                      <a:pt x="2320" y="113"/>
                    </a:lnTo>
                    <a:lnTo>
                      <a:pt x="2318" y="113"/>
                    </a:lnTo>
                    <a:lnTo>
                      <a:pt x="2317" y="113"/>
                    </a:lnTo>
                    <a:lnTo>
                      <a:pt x="2315" y="115"/>
                    </a:lnTo>
                    <a:lnTo>
                      <a:pt x="2313" y="116"/>
                    </a:lnTo>
                    <a:lnTo>
                      <a:pt x="2313" y="119"/>
                    </a:lnTo>
                    <a:lnTo>
                      <a:pt x="2313" y="119"/>
                    </a:lnTo>
                    <a:close/>
                    <a:moveTo>
                      <a:pt x="2352" y="119"/>
                    </a:moveTo>
                    <a:lnTo>
                      <a:pt x="2352" y="121"/>
                    </a:lnTo>
                    <a:lnTo>
                      <a:pt x="2353" y="124"/>
                    </a:lnTo>
                    <a:lnTo>
                      <a:pt x="2356" y="125"/>
                    </a:lnTo>
                    <a:lnTo>
                      <a:pt x="2358" y="125"/>
                    </a:lnTo>
                    <a:lnTo>
                      <a:pt x="2362" y="125"/>
                    </a:lnTo>
                    <a:lnTo>
                      <a:pt x="2363" y="124"/>
                    </a:lnTo>
                    <a:lnTo>
                      <a:pt x="2365" y="121"/>
                    </a:lnTo>
                    <a:lnTo>
                      <a:pt x="2366" y="119"/>
                    </a:lnTo>
                    <a:lnTo>
                      <a:pt x="2365" y="116"/>
                    </a:lnTo>
                    <a:lnTo>
                      <a:pt x="2363" y="115"/>
                    </a:lnTo>
                    <a:lnTo>
                      <a:pt x="2362" y="113"/>
                    </a:lnTo>
                    <a:lnTo>
                      <a:pt x="2360" y="113"/>
                    </a:lnTo>
                    <a:lnTo>
                      <a:pt x="2358" y="113"/>
                    </a:lnTo>
                    <a:lnTo>
                      <a:pt x="2357" y="113"/>
                    </a:lnTo>
                    <a:lnTo>
                      <a:pt x="2356" y="113"/>
                    </a:lnTo>
                    <a:lnTo>
                      <a:pt x="2353" y="115"/>
                    </a:lnTo>
                    <a:lnTo>
                      <a:pt x="2352" y="116"/>
                    </a:lnTo>
                    <a:lnTo>
                      <a:pt x="2352" y="119"/>
                    </a:lnTo>
                    <a:lnTo>
                      <a:pt x="2352" y="119"/>
                    </a:lnTo>
                    <a:close/>
                    <a:moveTo>
                      <a:pt x="2460" y="135"/>
                    </a:moveTo>
                    <a:lnTo>
                      <a:pt x="2457" y="135"/>
                    </a:lnTo>
                    <a:lnTo>
                      <a:pt x="2455" y="137"/>
                    </a:lnTo>
                    <a:lnTo>
                      <a:pt x="2454" y="138"/>
                    </a:lnTo>
                    <a:lnTo>
                      <a:pt x="2451" y="139"/>
                    </a:lnTo>
                    <a:lnTo>
                      <a:pt x="2450" y="142"/>
                    </a:lnTo>
                    <a:lnTo>
                      <a:pt x="2449" y="144"/>
                    </a:lnTo>
                    <a:lnTo>
                      <a:pt x="2447" y="148"/>
                    </a:lnTo>
                    <a:lnTo>
                      <a:pt x="2447" y="150"/>
                    </a:lnTo>
                    <a:lnTo>
                      <a:pt x="2447" y="153"/>
                    </a:lnTo>
                    <a:lnTo>
                      <a:pt x="2449" y="156"/>
                    </a:lnTo>
                    <a:lnTo>
                      <a:pt x="2450" y="158"/>
                    </a:lnTo>
                    <a:lnTo>
                      <a:pt x="2451" y="161"/>
                    </a:lnTo>
                    <a:lnTo>
                      <a:pt x="2454" y="162"/>
                    </a:lnTo>
                    <a:lnTo>
                      <a:pt x="2455" y="163"/>
                    </a:lnTo>
                    <a:lnTo>
                      <a:pt x="2457" y="164"/>
                    </a:lnTo>
                    <a:lnTo>
                      <a:pt x="2460" y="164"/>
                    </a:lnTo>
                    <a:lnTo>
                      <a:pt x="2464" y="164"/>
                    </a:lnTo>
                    <a:lnTo>
                      <a:pt x="2466" y="163"/>
                    </a:lnTo>
                    <a:lnTo>
                      <a:pt x="2470" y="162"/>
                    </a:lnTo>
                    <a:lnTo>
                      <a:pt x="2471" y="161"/>
                    </a:lnTo>
                    <a:lnTo>
                      <a:pt x="2474" y="158"/>
                    </a:lnTo>
                    <a:lnTo>
                      <a:pt x="2475" y="156"/>
                    </a:lnTo>
                    <a:lnTo>
                      <a:pt x="2476" y="153"/>
                    </a:lnTo>
                    <a:lnTo>
                      <a:pt x="2476" y="150"/>
                    </a:lnTo>
                    <a:lnTo>
                      <a:pt x="2476" y="148"/>
                    </a:lnTo>
                    <a:lnTo>
                      <a:pt x="2475" y="144"/>
                    </a:lnTo>
                    <a:lnTo>
                      <a:pt x="2474" y="142"/>
                    </a:lnTo>
                    <a:lnTo>
                      <a:pt x="2471" y="139"/>
                    </a:lnTo>
                    <a:lnTo>
                      <a:pt x="2470" y="138"/>
                    </a:lnTo>
                    <a:lnTo>
                      <a:pt x="2466" y="137"/>
                    </a:lnTo>
                    <a:lnTo>
                      <a:pt x="2464" y="135"/>
                    </a:lnTo>
                    <a:lnTo>
                      <a:pt x="2460" y="135"/>
                    </a:lnTo>
                    <a:lnTo>
                      <a:pt x="2460" y="1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6757200" y="5254920"/>
                <a:ext cx="447480" cy="87840"/>
              </a:xfrm>
              <a:custGeom>
                <a:avLst/>
                <a:gdLst/>
                <a:ahLst/>
                <a:rect l="l" t="t" r="r" b="b"/>
                <a:pathLst>
                  <a:path w="396" h="62">
                    <a:moveTo>
                      <a:pt x="60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9"/>
                    </a:lnTo>
                    <a:lnTo>
                      <a:pt x="0" y="61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1" y="62"/>
                    </a:lnTo>
                    <a:lnTo>
                      <a:pt x="158" y="62"/>
                    </a:lnTo>
                    <a:lnTo>
                      <a:pt x="159" y="62"/>
                    </a:lnTo>
                    <a:lnTo>
                      <a:pt x="160" y="62"/>
                    </a:lnTo>
                    <a:lnTo>
                      <a:pt x="160" y="61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9"/>
                    </a:lnTo>
                    <a:lnTo>
                      <a:pt x="160" y="5"/>
                    </a:lnTo>
                    <a:lnTo>
                      <a:pt x="160" y="3"/>
                    </a:lnTo>
                    <a:lnTo>
                      <a:pt x="160" y="1"/>
                    </a:lnTo>
                    <a:lnTo>
                      <a:pt x="159" y="1"/>
                    </a:lnTo>
                    <a:lnTo>
                      <a:pt x="158" y="0"/>
                    </a:lnTo>
                    <a:lnTo>
                      <a:pt x="60" y="0"/>
                    </a:lnTo>
                    <a:lnTo>
                      <a:pt x="60" y="0"/>
                    </a:lnTo>
                    <a:close/>
                    <a:moveTo>
                      <a:pt x="293" y="0"/>
                    </a:moveTo>
                    <a:lnTo>
                      <a:pt x="234" y="0"/>
                    </a:lnTo>
                    <a:lnTo>
                      <a:pt x="234" y="1"/>
                    </a:lnTo>
                    <a:lnTo>
                      <a:pt x="234" y="1"/>
                    </a:lnTo>
                    <a:lnTo>
                      <a:pt x="233" y="3"/>
                    </a:lnTo>
                    <a:lnTo>
                      <a:pt x="233" y="5"/>
                    </a:lnTo>
                    <a:lnTo>
                      <a:pt x="233" y="5"/>
                    </a:lnTo>
                    <a:lnTo>
                      <a:pt x="233" y="59"/>
                    </a:lnTo>
                    <a:lnTo>
                      <a:pt x="233" y="61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234" y="62"/>
                    </a:lnTo>
                    <a:lnTo>
                      <a:pt x="391" y="62"/>
                    </a:lnTo>
                    <a:lnTo>
                      <a:pt x="392" y="62"/>
                    </a:lnTo>
                    <a:lnTo>
                      <a:pt x="394" y="62"/>
                    </a:lnTo>
                    <a:lnTo>
                      <a:pt x="394" y="61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9"/>
                    </a:lnTo>
                    <a:lnTo>
                      <a:pt x="396" y="5"/>
                    </a:lnTo>
                    <a:lnTo>
                      <a:pt x="394" y="3"/>
                    </a:lnTo>
                    <a:lnTo>
                      <a:pt x="394" y="1"/>
                    </a:lnTo>
                    <a:lnTo>
                      <a:pt x="392" y="1"/>
                    </a:lnTo>
                    <a:lnTo>
                      <a:pt x="391" y="0"/>
                    </a:lnTo>
                    <a:lnTo>
                      <a:pt x="391" y="0"/>
                    </a:lnTo>
                    <a:lnTo>
                      <a:pt x="293" y="0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6767280" y="5272560"/>
                <a:ext cx="424080" cy="21960"/>
              </a:xfrm>
              <a:custGeom>
                <a:avLst/>
                <a:gdLst/>
                <a:ahLst/>
                <a:rect l="l" t="t" r="r" b="b"/>
                <a:pathLst>
                  <a:path w="376" h="17">
                    <a:moveTo>
                      <a:pt x="143" y="17"/>
                    </a:moveTo>
                    <a:lnTo>
                      <a:pt x="143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3" y="17"/>
                    </a:lnTo>
                    <a:close/>
                    <a:moveTo>
                      <a:pt x="376" y="17"/>
                    </a:moveTo>
                    <a:lnTo>
                      <a:pt x="376" y="0"/>
                    </a:lnTo>
                    <a:lnTo>
                      <a:pt x="236" y="0"/>
                    </a:lnTo>
                    <a:lnTo>
                      <a:pt x="236" y="17"/>
                    </a:lnTo>
                    <a:lnTo>
                      <a:pt x="376" y="17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6767280" y="5272560"/>
                <a:ext cx="162000" cy="2196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032600" y="5272560"/>
                <a:ext cx="158400" cy="2196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4651200" y="4926960"/>
                <a:ext cx="3363840" cy="486360"/>
              </a:xfrm>
              <a:custGeom>
                <a:avLst/>
                <a:gdLst/>
                <a:ahLst/>
                <a:rect l="l" t="t" r="r" b="b"/>
                <a:pathLst>
                  <a:path w="2983" h="337">
                    <a:moveTo>
                      <a:pt x="2974" y="259"/>
                    </a:moveTo>
                    <a:lnTo>
                      <a:pt x="2983" y="259"/>
                    </a:lnTo>
                    <a:lnTo>
                      <a:pt x="2983" y="221"/>
                    </a:lnTo>
                    <a:lnTo>
                      <a:pt x="2947" y="221"/>
                    </a:lnTo>
                    <a:lnTo>
                      <a:pt x="2947" y="195"/>
                    </a:lnTo>
                    <a:lnTo>
                      <a:pt x="2931" y="195"/>
                    </a:lnTo>
                    <a:lnTo>
                      <a:pt x="2931" y="184"/>
                    </a:lnTo>
                    <a:lnTo>
                      <a:pt x="2870" y="184"/>
                    </a:lnTo>
                    <a:lnTo>
                      <a:pt x="2870" y="195"/>
                    </a:lnTo>
                    <a:lnTo>
                      <a:pt x="2854" y="195"/>
                    </a:lnTo>
                    <a:lnTo>
                      <a:pt x="2854" y="221"/>
                    </a:lnTo>
                    <a:lnTo>
                      <a:pt x="2817" y="221"/>
                    </a:lnTo>
                    <a:lnTo>
                      <a:pt x="2817" y="259"/>
                    </a:lnTo>
                    <a:lnTo>
                      <a:pt x="2827" y="259"/>
                    </a:lnTo>
                    <a:lnTo>
                      <a:pt x="2827" y="284"/>
                    </a:lnTo>
                    <a:lnTo>
                      <a:pt x="2817" y="284"/>
                    </a:lnTo>
                    <a:lnTo>
                      <a:pt x="2817" y="323"/>
                    </a:lnTo>
                    <a:lnTo>
                      <a:pt x="2983" y="323"/>
                    </a:lnTo>
                    <a:lnTo>
                      <a:pt x="2983" y="284"/>
                    </a:lnTo>
                    <a:lnTo>
                      <a:pt x="2974" y="284"/>
                    </a:lnTo>
                    <a:lnTo>
                      <a:pt x="2974" y="259"/>
                    </a:lnTo>
                    <a:close/>
                    <a:moveTo>
                      <a:pt x="157" y="264"/>
                    </a:moveTo>
                    <a:lnTo>
                      <a:pt x="167" y="264"/>
                    </a:lnTo>
                    <a:lnTo>
                      <a:pt x="167" y="300"/>
                    </a:lnTo>
                    <a:lnTo>
                      <a:pt x="131" y="300"/>
                    </a:lnTo>
                    <a:lnTo>
                      <a:pt x="131" y="326"/>
                    </a:lnTo>
                    <a:lnTo>
                      <a:pt x="115" y="326"/>
                    </a:lnTo>
                    <a:lnTo>
                      <a:pt x="115" y="337"/>
                    </a:lnTo>
                    <a:lnTo>
                      <a:pt x="52" y="337"/>
                    </a:lnTo>
                    <a:lnTo>
                      <a:pt x="52" y="326"/>
                    </a:lnTo>
                    <a:lnTo>
                      <a:pt x="36" y="326"/>
                    </a:lnTo>
                    <a:lnTo>
                      <a:pt x="36" y="300"/>
                    </a:lnTo>
                    <a:lnTo>
                      <a:pt x="0" y="300"/>
                    </a:lnTo>
                    <a:lnTo>
                      <a:pt x="2" y="264"/>
                    </a:lnTo>
                    <a:lnTo>
                      <a:pt x="8" y="264"/>
                    </a:lnTo>
                    <a:lnTo>
                      <a:pt x="8" y="236"/>
                    </a:lnTo>
                    <a:lnTo>
                      <a:pt x="2" y="236"/>
                    </a:lnTo>
                    <a:lnTo>
                      <a:pt x="2" y="198"/>
                    </a:lnTo>
                    <a:lnTo>
                      <a:pt x="167" y="198"/>
                    </a:lnTo>
                    <a:lnTo>
                      <a:pt x="167" y="236"/>
                    </a:lnTo>
                    <a:lnTo>
                      <a:pt x="157" y="236"/>
                    </a:lnTo>
                    <a:lnTo>
                      <a:pt x="157" y="264"/>
                    </a:lnTo>
                    <a:close/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828920" y="5193000"/>
                <a:ext cx="186120" cy="198000"/>
              </a:xfrm>
              <a:custGeom>
                <a:avLst/>
                <a:gdLst/>
                <a:ahLst/>
                <a:rect l="l" t="t" r="r" b="b"/>
                <a:pathLst>
                  <a:path w="166" h="139">
                    <a:moveTo>
                      <a:pt x="157" y="75"/>
                    </a:moveTo>
                    <a:lnTo>
                      <a:pt x="166" y="75"/>
                    </a:lnTo>
                    <a:lnTo>
                      <a:pt x="166" y="37"/>
                    </a:lnTo>
                    <a:lnTo>
                      <a:pt x="130" y="37"/>
                    </a:lnTo>
                    <a:lnTo>
                      <a:pt x="130" y="11"/>
                    </a:lnTo>
                    <a:lnTo>
                      <a:pt x="114" y="11"/>
                    </a:lnTo>
                    <a:lnTo>
                      <a:pt x="114" y="0"/>
                    </a:lnTo>
                    <a:lnTo>
                      <a:pt x="53" y="0"/>
                    </a:lnTo>
                    <a:lnTo>
                      <a:pt x="53" y="11"/>
                    </a:lnTo>
                    <a:lnTo>
                      <a:pt x="37" y="11"/>
                    </a:lnTo>
                    <a:lnTo>
                      <a:pt x="37" y="37"/>
                    </a:lnTo>
                    <a:lnTo>
                      <a:pt x="0" y="37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100"/>
                    </a:lnTo>
                    <a:lnTo>
                      <a:pt x="0" y="100"/>
                    </a:lnTo>
                    <a:lnTo>
                      <a:pt x="0" y="139"/>
                    </a:lnTo>
                    <a:lnTo>
                      <a:pt x="166" y="139"/>
                    </a:lnTo>
                    <a:lnTo>
                      <a:pt x="166" y="100"/>
                    </a:lnTo>
                    <a:lnTo>
                      <a:pt x="157" y="100"/>
                    </a:lnTo>
                    <a:lnTo>
                      <a:pt x="157" y="75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4651200" y="5210640"/>
                <a:ext cx="190440" cy="20268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66"/>
                    </a:moveTo>
                    <a:lnTo>
                      <a:pt x="167" y="66"/>
                    </a:lnTo>
                    <a:lnTo>
                      <a:pt x="167" y="102"/>
                    </a:lnTo>
                    <a:lnTo>
                      <a:pt x="131" y="102"/>
                    </a:lnTo>
                    <a:lnTo>
                      <a:pt x="131" y="128"/>
                    </a:lnTo>
                    <a:lnTo>
                      <a:pt x="115" y="128"/>
                    </a:lnTo>
                    <a:lnTo>
                      <a:pt x="115" y="139"/>
                    </a:lnTo>
                    <a:lnTo>
                      <a:pt x="52" y="139"/>
                    </a:lnTo>
                    <a:lnTo>
                      <a:pt x="52" y="128"/>
                    </a:lnTo>
                    <a:lnTo>
                      <a:pt x="36" y="128"/>
                    </a:lnTo>
                    <a:lnTo>
                      <a:pt x="36" y="102"/>
                    </a:lnTo>
                    <a:lnTo>
                      <a:pt x="0" y="102"/>
                    </a:lnTo>
                    <a:lnTo>
                      <a:pt x="2" y="66"/>
                    </a:lnTo>
                    <a:lnTo>
                      <a:pt x="8" y="66"/>
                    </a:lnTo>
                    <a:lnTo>
                      <a:pt x="8" y="38"/>
                    </a:lnTo>
                    <a:lnTo>
                      <a:pt x="2" y="38"/>
                    </a:lnTo>
                    <a:lnTo>
                      <a:pt x="2" y="0"/>
                    </a:lnTo>
                    <a:lnTo>
                      <a:pt x="167" y="0"/>
                    </a:lnTo>
                    <a:lnTo>
                      <a:pt x="167" y="38"/>
                    </a:lnTo>
                    <a:lnTo>
                      <a:pt x="157" y="38"/>
                    </a:lnTo>
                    <a:lnTo>
                      <a:pt x="157" y="66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4651200" y="4926960"/>
                <a:ext cx="190440" cy="200160"/>
              </a:xfrm>
              <a:custGeom>
                <a:avLst/>
                <a:gdLst/>
                <a:ahLst/>
                <a:rect l="l" t="t" r="r" b="b"/>
                <a:pathLst>
                  <a:path w="167" h="139">
                    <a:moveTo>
                      <a:pt x="157" y="72"/>
                    </a:moveTo>
                    <a:lnTo>
                      <a:pt x="167" y="72"/>
                    </a:lnTo>
                    <a:lnTo>
                      <a:pt x="167" y="34"/>
                    </a:lnTo>
                    <a:lnTo>
                      <a:pt x="131" y="34"/>
                    </a:lnTo>
                    <a:lnTo>
                      <a:pt x="131" y="11"/>
                    </a:lnTo>
                    <a:lnTo>
                      <a:pt x="115" y="11"/>
                    </a:lnTo>
                    <a:lnTo>
                      <a:pt x="115" y="0"/>
                    </a:lnTo>
                    <a:lnTo>
                      <a:pt x="52" y="0"/>
                    </a:lnTo>
                    <a:lnTo>
                      <a:pt x="52" y="11"/>
                    </a:lnTo>
                    <a:lnTo>
                      <a:pt x="36" y="11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2" y="72"/>
                    </a:lnTo>
                    <a:lnTo>
                      <a:pt x="8" y="72"/>
                    </a:lnTo>
                    <a:lnTo>
                      <a:pt x="8" y="100"/>
                    </a:lnTo>
                    <a:lnTo>
                      <a:pt x="2" y="100"/>
                    </a:lnTo>
                    <a:lnTo>
                      <a:pt x="2" y="139"/>
                    </a:lnTo>
                    <a:lnTo>
                      <a:pt x="167" y="139"/>
                    </a:lnTo>
                    <a:lnTo>
                      <a:pt x="167" y="100"/>
                    </a:lnTo>
                    <a:lnTo>
                      <a:pt x="157" y="100"/>
                    </a:lnTo>
                    <a:lnTo>
                      <a:pt x="157" y="72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4651200" y="4953240"/>
                <a:ext cx="3368160" cy="429120"/>
              </a:xfrm>
              <a:custGeom>
                <a:avLst/>
                <a:gdLst/>
                <a:ahLst/>
                <a:rect l="l" t="t" r="r" b="b"/>
                <a:pathLst>
                  <a:path w="2985" h="301">
                    <a:moveTo>
                      <a:pt x="36" y="301"/>
                    </a:moveTo>
                    <a:lnTo>
                      <a:pt x="0" y="301"/>
                    </a:lnTo>
                    <a:lnTo>
                      <a:pt x="0" y="290"/>
                    </a:lnTo>
                    <a:lnTo>
                      <a:pt x="36" y="290"/>
                    </a:lnTo>
                    <a:lnTo>
                      <a:pt x="36" y="301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67" y="301"/>
                    </a:moveTo>
                    <a:lnTo>
                      <a:pt x="134" y="301"/>
                    </a:lnTo>
                    <a:lnTo>
                      <a:pt x="134" y="290"/>
                    </a:lnTo>
                    <a:lnTo>
                      <a:pt x="167" y="290"/>
                    </a:lnTo>
                    <a:lnTo>
                      <a:pt x="167" y="301"/>
                    </a:lnTo>
                    <a:close/>
                    <a:moveTo>
                      <a:pt x="167" y="0"/>
                    </a:moveTo>
                    <a:lnTo>
                      <a:pt x="134" y="0"/>
                    </a:lnTo>
                    <a:lnTo>
                      <a:pt x="134" y="12"/>
                    </a:lnTo>
                    <a:lnTo>
                      <a:pt x="167" y="12"/>
                    </a:lnTo>
                    <a:lnTo>
                      <a:pt x="167" y="0"/>
                    </a:lnTo>
                    <a:close/>
                    <a:moveTo>
                      <a:pt x="2985" y="185"/>
                    </a:moveTo>
                    <a:lnTo>
                      <a:pt x="2949" y="185"/>
                    </a:lnTo>
                    <a:lnTo>
                      <a:pt x="2949" y="199"/>
                    </a:lnTo>
                    <a:lnTo>
                      <a:pt x="2985" y="199"/>
                    </a:lnTo>
                    <a:lnTo>
                      <a:pt x="2985" y="185"/>
                    </a:lnTo>
                    <a:close/>
                  </a:path>
                </a:pathLst>
              </a:custGeom>
              <a:solidFill>
                <a:srgbClr val="829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4651200" y="5369400"/>
                <a:ext cx="41760" cy="129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4651200" y="4953240"/>
                <a:ext cx="41760" cy="172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4801680" y="5369400"/>
                <a:ext cx="39960" cy="129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4801680" y="4953240"/>
                <a:ext cx="39960" cy="172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977600" y="5217480"/>
                <a:ext cx="41760" cy="194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880800" y="4030200"/>
                <a:ext cx="4696920" cy="766080"/>
              </a:xfrm>
              <a:custGeom>
                <a:avLst/>
                <a:gdLst/>
                <a:ahLst/>
                <a:rect l="l" t="t" r="r" b="b"/>
                <a:pathLst>
                  <a:path w="4168" h="534">
                    <a:moveTo>
                      <a:pt x="4168" y="499"/>
                    </a:moveTo>
                    <a:lnTo>
                      <a:pt x="4168" y="495"/>
                    </a:lnTo>
                    <a:lnTo>
                      <a:pt x="4168" y="492"/>
                    </a:lnTo>
                    <a:lnTo>
                      <a:pt x="4167" y="488"/>
                    </a:lnTo>
                    <a:lnTo>
                      <a:pt x="4165" y="485"/>
                    </a:lnTo>
                    <a:lnTo>
                      <a:pt x="4163" y="478"/>
                    </a:lnTo>
                    <a:lnTo>
                      <a:pt x="4158" y="473"/>
                    </a:lnTo>
                    <a:lnTo>
                      <a:pt x="4153" y="468"/>
                    </a:lnTo>
                    <a:lnTo>
                      <a:pt x="4146" y="466"/>
                    </a:lnTo>
                    <a:lnTo>
                      <a:pt x="4143" y="464"/>
                    </a:lnTo>
                    <a:lnTo>
                      <a:pt x="4139" y="463"/>
                    </a:lnTo>
                    <a:lnTo>
                      <a:pt x="4136" y="463"/>
                    </a:lnTo>
                    <a:lnTo>
                      <a:pt x="4133" y="463"/>
                    </a:lnTo>
                    <a:lnTo>
                      <a:pt x="4129" y="463"/>
                    </a:lnTo>
                    <a:lnTo>
                      <a:pt x="4125" y="463"/>
                    </a:lnTo>
                    <a:lnTo>
                      <a:pt x="4123" y="464"/>
                    </a:lnTo>
                    <a:lnTo>
                      <a:pt x="4119" y="466"/>
                    </a:lnTo>
                    <a:lnTo>
                      <a:pt x="4114" y="468"/>
                    </a:lnTo>
                    <a:lnTo>
                      <a:pt x="4109" y="473"/>
                    </a:lnTo>
                    <a:lnTo>
                      <a:pt x="4104" y="478"/>
                    </a:lnTo>
                    <a:lnTo>
                      <a:pt x="4101" y="485"/>
                    </a:lnTo>
                    <a:lnTo>
                      <a:pt x="4100" y="488"/>
                    </a:lnTo>
                    <a:lnTo>
                      <a:pt x="4099" y="492"/>
                    </a:lnTo>
                    <a:lnTo>
                      <a:pt x="4099" y="495"/>
                    </a:lnTo>
                    <a:lnTo>
                      <a:pt x="4098" y="499"/>
                    </a:lnTo>
                    <a:lnTo>
                      <a:pt x="4099" y="502"/>
                    </a:lnTo>
                    <a:lnTo>
                      <a:pt x="4099" y="506"/>
                    </a:lnTo>
                    <a:lnTo>
                      <a:pt x="4100" y="509"/>
                    </a:lnTo>
                    <a:lnTo>
                      <a:pt x="4101" y="512"/>
                    </a:lnTo>
                    <a:lnTo>
                      <a:pt x="4104" y="517"/>
                    </a:lnTo>
                    <a:lnTo>
                      <a:pt x="4109" y="523"/>
                    </a:lnTo>
                    <a:lnTo>
                      <a:pt x="4114" y="528"/>
                    </a:lnTo>
                    <a:lnTo>
                      <a:pt x="4119" y="530"/>
                    </a:lnTo>
                    <a:lnTo>
                      <a:pt x="4123" y="531"/>
                    </a:lnTo>
                    <a:lnTo>
                      <a:pt x="4125" y="533"/>
                    </a:lnTo>
                    <a:lnTo>
                      <a:pt x="4129" y="533"/>
                    </a:lnTo>
                    <a:lnTo>
                      <a:pt x="4133" y="534"/>
                    </a:lnTo>
                    <a:lnTo>
                      <a:pt x="4136" y="533"/>
                    </a:lnTo>
                    <a:lnTo>
                      <a:pt x="4139" y="533"/>
                    </a:lnTo>
                    <a:lnTo>
                      <a:pt x="4143" y="531"/>
                    </a:lnTo>
                    <a:lnTo>
                      <a:pt x="4146" y="530"/>
                    </a:lnTo>
                    <a:lnTo>
                      <a:pt x="4153" y="528"/>
                    </a:lnTo>
                    <a:lnTo>
                      <a:pt x="4158" y="523"/>
                    </a:lnTo>
                    <a:lnTo>
                      <a:pt x="4163" y="517"/>
                    </a:lnTo>
                    <a:lnTo>
                      <a:pt x="4165" y="512"/>
                    </a:lnTo>
                    <a:lnTo>
                      <a:pt x="4167" y="509"/>
                    </a:lnTo>
                    <a:lnTo>
                      <a:pt x="4168" y="506"/>
                    </a:lnTo>
                    <a:lnTo>
                      <a:pt x="4168" y="502"/>
                    </a:lnTo>
                    <a:lnTo>
                      <a:pt x="4168" y="499"/>
                    </a:lnTo>
                    <a:lnTo>
                      <a:pt x="4168" y="499"/>
                    </a:lnTo>
                    <a:close/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8498880" y="4697640"/>
                <a:ext cx="78840" cy="9864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70" y="36"/>
                    </a:moveTo>
                    <a:lnTo>
                      <a:pt x="70" y="32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7" y="22"/>
                    </a:lnTo>
                    <a:lnTo>
                      <a:pt x="65" y="15"/>
                    </a:lnTo>
                    <a:lnTo>
                      <a:pt x="60" y="10"/>
                    </a:lnTo>
                    <a:lnTo>
                      <a:pt x="55" y="5"/>
                    </a:lnTo>
                    <a:lnTo>
                      <a:pt x="48" y="3"/>
                    </a:lnTo>
                    <a:lnTo>
                      <a:pt x="45" y="1"/>
                    </a:lnTo>
                    <a:lnTo>
                      <a:pt x="41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3" y="22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39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3" y="49"/>
                    </a:lnTo>
                    <a:lnTo>
                      <a:pt x="6" y="54"/>
                    </a:lnTo>
                    <a:lnTo>
                      <a:pt x="11" y="60"/>
                    </a:lnTo>
                    <a:lnTo>
                      <a:pt x="16" y="65"/>
                    </a:lnTo>
                    <a:lnTo>
                      <a:pt x="21" y="67"/>
                    </a:lnTo>
                    <a:lnTo>
                      <a:pt x="25" y="68"/>
                    </a:lnTo>
                    <a:lnTo>
                      <a:pt x="27" y="70"/>
                    </a:lnTo>
                    <a:lnTo>
                      <a:pt x="31" y="70"/>
                    </a:lnTo>
                    <a:lnTo>
                      <a:pt x="35" y="71"/>
                    </a:lnTo>
                    <a:lnTo>
                      <a:pt x="38" y="70"/>
                    </a:lnTo>
                    <a:lnTo>
                      <a:pt x="41" y="70"/>
                    </a:lnTo>
                    <a:lnTo>
                      <a:pt x="45" y="68"/>
                    </a:lnTo>
                    <a:lnTo>
                      <a:pt x="48" y="67"/>
                    </a:lnTo>
                    <a:lnTo>
                      <a:pt x="55" y="65"/>
                    </a:lnTo>
                    <a:lnTo>
                      <a:pt x="60" y="60"/>
                    </a:lnTo>
                    <a:lnTo>
                      <a:pt x="65" y="54"/>
                    </a:lnTo>
                    <a:lnTo>
                      <a:pt x="67" y="49"/>
                    </a:lnTo>
                    <a:lnTo>
                      <a:pt x="69" y="46"/>
                    </a:lnTo>
                    <a:lnTo>
                      <a:pt x="70" y="43"/>
                    </a:lnTo>
                    <a:lnTo>
                      <a:pt x="70" y="39"/>
                    </a:lnTo>
                    <a:lnTo>
                      <a:pt x="70" y="36"/>
                    </a:lnTo>
                    <a:lnTo>
                      <a:pt x="70" y="3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880800" y="4030200"/>
                <a:ext cx="74880" cy="96840"/>
              </a:xfrm>
              <a:custGeom>
                <a:avLst/>
                <a:gdLst/>
                <a:ahLst/>
                <a:rect l="l" t="t" r="r" b="b"/>
                <a:pathLst>
                  <a:path w="69" h="68">
                    <a:moveTo>
                      <a:pt x="69" y="34"/>
                    </a:moveTo>
                    <a:lnTo>
                      <a:pt x="69" y="30"/>
                    </a:lnTo>
                    <a:lnTo>
                      <a:pt x="68" y="26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5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2" y="1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5"/>
                    </a:lnTo>
                    <a:lnTo>
                      <a:pt x="4" y="20"/>
                    </a:lnTo>
                    <a:lnTo>
                      <a:pt x="3" y="24"/>
                    </a:lnTo>
                    <a:lnTo>
                      <a:pt x="2" y="26"/>
                    </a:lnTo>
                    <a:lnTo>
                      <a:pt x="2" y="30"/>
                    </a:lnTo>
                    <a:lnTo>
                      <a:pt x="0" y="34"/>
                    </a:lnTo>
                    <a:lnTo>
                      <a:pt x="2" y="38"/>
                    </a:lnTo>
                    <a:lnTo>
                      <a:pt x="2" y="41"/>
                    </a:lnTo>
                    <a:lnTo>
                      <a:pt x="3" y="44"/>
                    </a:lnTo>
                    <a:lnTo>
                      <a:pt x="4" y="48"/>
                    </a:lnTo>
                    <a:lnTo>
                      <a:pt x="7" y="53"/>
                    </a:lnTo>
                    <a:lnTo>
                      <a:pt x="12" y="58"/>
                    </a:lnTo>
                    <a:lnTo>
                      <a:pt x="17" y="63"/>
                    </a:lnTo>
                    <a:lnTo>
                      <a:pt x="22" y="65"/>
                    </a:lnTo>
                    <a:lnTo>
                      <a:pt x="26" y="67"/>
                    </a:lnTo>
                    <a:lnTo>
                      <a:pt x="28" y="68"/>
                    </a:lnTo>
                    <a:lnTo>
                      <a:pt x="32" y="68"/>
                    </a:lnTo>
                    <a:lnTo>
                      <a:pt x="36" y="68"/>
                    </a:lnTo>
                    <a:lnTo>
                      <a:pt x="38" y="68"/>
                    </a:lnTo>
                    <a:lnTo>
                      <a:pt x="42" y="68"/>
                    </a:lnTo>
                    <a:lnTo>
                      <a:pt x="44" y="67"/>
                    </a:lnTo>
                    <a:lnTo>
                      <a:pt x="48" y="65"/>
                    </a:lnTo>
                    <a:lnTo>
                      <a:pt x="53" y="63"/>
                    </a:lnTo>
                    <a:lnTo>
                      <a:pt x="59" y="58"/>
                    </a:lnTo>
                    <a:lnTo>
                      <a:pt x="63" y="53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9" y="38"/>
                    </a:lnTo>
                    <a:lnTo>
                      <a:pt x="69" y="34"/>
                    </a:lnTo>
                    <a:lnTo>
                      <a:pt x="69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7516080" y="4084920"/>
                <a:ext cx="78840" cy="934200"/>
              </a:xfrm>
              <a:custGeom>
                <a:avLst/>
                <a:gdLst/>
                <a:ahLst/>
                <a:rect l="l" t="t" r="r" b="b"/>
                <a:pathLst>
                  <a:path w="70" h="649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78"/>
                    </a:moveTo>
                    <a:lnTo>
                      <a:pt x="38" y="578"/>
                    </a:lnTo>
                    <a:lnTo>
                      <a:pt x="42" y="579"/>
                    </a:lnTo>
                    <a:lnTo>
                      <a:pt x="46" y="581"/>
                    </a:lnTo>
                    <a:lnTo>
                      <a:pt x="50" y="582"/>
                    </a:lnTo>
                    <a:lnTo>
                      <a:pt x="52" y="583"/>
                    </a:lnTo>
                    <a:lnTo>
                      <a:pt x="56" y="586"/>
                    </a:lnTo>
                    <a:lnTo>
                      <a:pt x="58" y="587"/>
                    </a:lnTo>
                    <a:lnTo>
                      <a:pt x="62" y="590"/>
                    </a:lnTo>
                    <a:lnTo>
                      <a:pt x="65" y="593"/>
                    </a:lnTo>
                    <a:lnTo>
                      <a:pt x="66" y="597"/>
                    </a:lnTo>
                    <a:lnTo>
                      <a:pt x="67" y="601"/>
                    </a:lnTo>
                    <a:lnTo>
                      <a:pt x="68" y="603"/>
                    </a:lnTo>
                    <a:lnTo>
                      <a:pt x="70" y="607"/>
                    </a:lnTo>
                    <a:lnTo>
                      <a:pt x="70" y="611"/>
                    </a:lnTo>
                    <a:lnTo>
                      <a:pt x="70" y="615"/>
                    </a:lnTo>
                    <a:lnTo>
                      <a:pt x="68" y="620"/>
                    </a:lnTo>
                    <a:lnTo>
                      <a:pt x="68" y="622"/>
                    </a:lnTo>
                    <a:lnTo>
                      <a:pt x="67" y="625"/>
                    </a:lnTo>
                    <a:lnTo>
                      <a:pt x="67" y="627"/>
                    </a:lnTo>
                    <a:lnTo>
                      <a:pt x="66" y="631"/>
                    </a:lnTo>
                    <a:lnTo>
                      <a:pt x="63" y="634"/>
                    </a:lnTo>
                    <a:lnTo>
                      <a:pt x="62" y="636"/>
                    </a:lnTo>
                    <a:lnTo>
                      <a:pt x="60" y="639"/>
                    </a:lnTo>
                    <a:lnTo>
                      <a:pt x="57" y="640"/>
                    </a:lnTo>
                    <a:lnTo>
                      <a:pt x="52" y="644"/>
                    </a:lnTo>
                    <a:lnTo>
                      <a:pt x="47" y="646"/>
                    </a:lnTo>
                    <a:lnTo>
                      <a:pt x="45" y="648"/>
                    </a:lnTo>
                    <a:lnTo>
                      <a:pt x="41" y="649"/>
                    </a:lnTo>
                    <a:lnTo>
                      <a:pt x="38" y="649"/>
                    </a:lnTo>
                    <a:lnTo>
                      <a:pt x="35" y="649"/>
                    </a:lnTo>
                    <a:lnTo>
                      <a:pt x="31" y="649"/>
                    </a:lnTo>
                    <a:lnTo>
                      <a:pt x="27" y="649"/>
                    </a:lnTo>
                    <a:lnTo>
                      <a:pt x="23" y="648"/>
                    </a:lnTo>
                    <a:lnTo>
                      <a:pt x="20" y="646"/>
                    </a:lnTo>
                    <a:lnTo>
                      <a:pt x="16" y="644"/>
                    </a:lnTo>
                    <a:lnTo>
                      <a:pt x="13" y="641"/>
                    </a:lnTo>
                    <a:lnTo>
                      <a:pt x="10" y="639"/>
                    </a:lnTo>
                    <a:lnTo>
                      <a:pt x="7" y="635"/>
                    </a:lnTo>
                    <a:lnTo>
                      <a:pt x="5" y="632"/>
                    </a:lnTo>
                    <a:lnTo>
                      <a:pt x="3" y="630"/>
                    </a:lnTo>
                    <a:lnTo>
                      <a:pt x="2" y="626"/>
                    </a:lnTo>
                    <a:lnTo>
                      <a:pt x="1" y="622"/>
                    </a:lnTo>
                    <a:lnTo>
                      <a:pt x="0" y="619"/>
                    </a:lnTo>
                    <a:lnTo>
                      <a:pt x="0" y="615"/>
                    </a:lnTo>
                    <a:lnTo>
                      <a:pt x="0" y="612"/>
                    </a:lnTo>
                    <a:lnTo>
                      <a:pt x="1" y="609"/>
                    </a:lnTo>
                    <a:lnTo>
                      <a:pt x="1" y="605"/>
                    </a:lnTo>
                    <a:lnTo>
                      <a:pt x="2" y="602"/>
                    </a:lnTo>
                    <a:lnTo>
                      <a:pt x="2" y="598"/>
                    </a:lnTo>
                    <a:lnTo>
                      <a:pt x="3" y="596"/>
                    </a:lnTo>
                    <a:lnTo>
                      <a:pt x="6" y="593"/>
                    </a:lnTo>
                    <a:lnTo>
                      <a:pt x="7" y="592"/>
                    </a:lnTo>
                    <a:lnTo>
                      <a:pt x="12" y="588"/>
                    </a:lnTo>
                    <a:lnTo>
                      <a:pt x="15" y="586"/>
                    </a:lnTo>
                    <a:lnTo>
                      <a:pt x="17" y="583"/>
                    </a:lnTo>
                    <a:lnTo>
                      <a:pt x="20" y="582"/>
                    </a:lnTo>
                    <a:lnTo>
                      <a:pt x="22" y="581"/>
                    </a:lnTo>
                    <a:lnTo>
                      <a:pt x="26" y="579"/>
                    </a:lnTo>
                    <a:lnTo>
                      <a:pt x="28" y="579"/>
                    </a:lnTo>
                    <a:lnTo>
                      <a:pt x="35" y="578"/>
                    </a:lnTo>
                    <a:lnTo>
                      <a:pt x="35" y="57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7516080" y="4084920"/>
                <a:ext cx="78840" cy="10332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0"/>
                    </a:lnTo>
                    <a:lnTo>
                      <a:pt x="46" y="1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10"/>
                    </a:lnTo>
                    <a:lnTo>
                      <a:pt x="62" y="14"/>
                    </a:lnTo>
                    <a:lnTo>
                      <a:pt x="65" y="16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6"/>
                    </a:lnTo>
                    <a:lnTo>
                      <a:pt x="70" y="30"/>
                    </a:lnTo>
                    <a:lnTo>
                      <a:pt x="70" y="34"/>
                    </a:lnTo>
                    <a:lnTo>
                      <a:pt x="70" y="38"/>
                    </a:lnTo>
                    <a:lnTo>
                      <a:pt x="68" y="40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50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57" y="62"/>
                    </a:lnTo>
                    <a:lnTo>
                      <a:pt x="55" y="63"/>
                    </a:lnTo>
                    <a:lnTo>
                      <a:pt x="52" y="66"/>
                    </a:lnTo>
                    <a:lnTo>
                      <a:pt x="50" y="67"/>
                    </a:lnTo>
                    <a:lnTo>
                      <a:pt x="47" y="68"/>
                    </a:lnTo>
                    <a:lnTo>
                      <a:pt x="45" y="69"/>
                    </a:lnTo>
                    <a:lnTo>
                      <a:pt x="41" y="69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69"/>
                    </a:lnTo>
                    <a:lnTo>
                      <a:pt x="23" y="68"/>
                    </a:lnTo>
                    <a:lnTo>
                      <a:pt x="20" y="67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7" y="59"/>
                    </a:lnTo>
                    <a:lnTo>
                      <a:pt x="5" y="56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0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1" y="29"/>
                    </a:lnTo>
                    <a:lnTo>
                      <a:pt x="1" y="26"/>
                    </a:lnTo>
                    <a:lnTo>
                      <a:pt x="2" y="24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10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2"/>
                    </a:lnTo>
                    <a:lnTo>
                      <a:pt x="26" y="1"/>
                    </a:lnTo>
                    <a:lnTo>
                      <a:pt x="28" y="0"/>
                    </a:lnTo>
                    <a:lnTo>
                      <a:pt x="31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7516080" y="4917960"/>
                <a:ext cx="78840" cy="101160"/>
              </a:xfrm>
              <a:custGeom>
                <a:avLst/>
                <a:gdLst/>
                <a:ahLst/>
                <a:rect l="l" t="t" r="r" b="b"/>
                <a:pathLst>
                  <a:path w="70" h="71">
                    <a:moveTo>
                      <a:pt x="35" y="0"/>
                    </a:moveTo>
                    <a:lnTo>
                      <a:pt x="38" y="0"/>
                    </a:lnTo>
                    <a:lnTo>
                      <a:pt x="42" y="1"/>
                    </a:lnTo>
                    <a:lnTo>
                      <a:pt x="46" y="3"/>
                    </a:lnTo>
                    <a:lnTo>
                      <a:pt x="50" y="4"/>
                    </a:lnTo>
                    <a:lnTo>
                      <a:pt x="52" y="5"/>
                    </a:lnTo>
                    <a:lnTo>
                      <a:pt x="56" y="8"/>
                    </a:lnTo>
                    <a:lnTo>
                      <a:pt x="58" y="9"/>
                    </a:lnTo>
                    <a:lnTo>
                      <a:pt x="62" y="12"/>
                    </a:lnTo>
                    <a:lnTo>
                      <a:pt x="65" y="15"/>
                    </a:lnTo>
                    <a:lnTo>
                      <a:pt x="66" y="19"/>
                    </a:lnTo>
                    <a:lnTo>
                      <a:pt x="67" y="23"/>
                    </a:lnTo>
                    <a:lnTo>
                      <a:pt x="68" y="25"/>
                    </a:lnTo>
                    <a:lnTo>
                      <a:pt x="70" y="29"/>
                    </a:lnTo>
                    <a:lnTo>
                      <a:pt x="70" y="33"/>
                    </a:lnTo>
                    <a:lnTo>
                      <a:pt x="70" y="37"/>
                    </a:lnTo>
                    <a:lnTo>
                      <a:pt x="68" y="42"/>
                    </a:lnTo>
                    <a:lnTo>
                      <a:pt x="68" y="44"/>
                    </a:lnTo>
                    <a:lnTo>
                      <a:pt x="67" y="47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3" y="56"/>
                    </a:lnTo>
                    <a:lnTo>
                      <a:pt x="62" y="58"/>
                    </a:lnTo>
                    <a:lnTo>
                      <a:pt x="60" y="61"/>
                    </a:lnTo>
                    <a:lnTo>
                      <a:pt x="57" y="62"/>
                    </a:lnTo>
                    <a:lnTo>
                      <a:pt x="52" y="66"/>
                    </a:lnTo>
                    <a:lnTo>
                      <a:pt x="47" y="68"/>
                    </a:lnTo>
                    <a:lnTo>
                      <a:pt x="45" y="70"/>
                    </a:lnTo>
                    <a:lnTo>
                      <a:pt x="41" y="71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7" y="71"/>
                    </a:lnTo>
                    <a:lnTo>
                      <a:pt x="23" y="70"/>
                    </a:lnTo>
                    <a:lnTo>
                      <a:pt x="20" y="68"/>
                    </a:lnTo>
                    <a:lnTo>
                      <a:pt x="16" y="66"/>
                    </a:lnTo>
                    <a:lnTo>
                      <a:pt x="13" y="63"/>
                    </a:lnTo>
                    <a:lnTo>
                      <a:pt x="10" y="61"/>
                    </a:lnTo>
                    <a:lnTo>
                      <a:pt x="7" y="57"/>
                    </a:lnTo>
                    <a:lnTo>
                      <a:pt x="5" y="54"/>
                    </a:lnTo>
                    <a:lnTo>
                      <a:pt x="3" y="52"/>
                    </a:lnTo>
                    <a:lnTo>
                      <a:pt x="2" y="48"/>
                    </a:lnTo>
                    <a:lnTo>
                      <a:pt x="1" y="44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4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2" y="24"/>
                    </a:lnTo>
                    <a:lnTo>
                      <a:pt x="2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5" y="8"/>
                    </a:lnTo>
                    <a:lnTo>
                      <a:pt x="17" y="5"/>
                    </a:lnTo>
                    <a:lnTo>
                      <a:pt x="20" y="4"/>
                    </a:lnTo>
                    <a:lnTo>
                      <a:pt x="22" y="3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537680" y="4115880"/>
                <a:ext cx="33480" cy="874080"/>
              </a:xfrm>
              <a:custGeom>
                <a:avLst/>
                <a:gdLst/>
                <a:ahLst/>
                <a:rect l="l" t="t" r="r" b="b"/>
                <a:pathLst>
                  <a:path w="30" h="608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5"/>
                    </a:moveTo>
                    <a:lnTo>
                      <a:pt x="8" y="603"/>
                    </a:lnTo>
                    <a:lnTo>
                      <a:pt x="11" y="601"/>
                    </a:lnTo>
                    <a:lnTo>
                      <a:pt x="15" y="601"/>
                    </a:lnTo>
                    <a:lnTo>
                      <a:pt x="18" y="601"/>
                    </a:lnTo>
                    <a:lnTo>
                      <a:pt x="21" y="603"/>
                    </a:lnTo>
                    <a:lnTo>
                      <a:pt x="21" y="603"/>
                    </a:lnTo>
                    <a:lnTo>
                      <a:pt x="21" y="605"/>
                    </a:lnTo>
                    <a:lnTo>
                      <a:pt x="23" y="606"/>
                    </a:lnTo>
                    <a:lnTo>
                      <a:pt x="25" y="608"/>
                    </a:lnTo>
                    <a:lnTo>
                      <a:pt x="27" y="606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28" y="605"/>
                    </a:lnTo>
                    <a:lnTo>
                      <a:pt x="30" y="604"/>
                    </a:lnTo>
                    <a:lnTo>
                      <a:pt x="30" y="603"/>
                    </a:lnTo>
                    <a:lnTo>
                      <a:pt x="30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8" y="601"/>
                    </a:lnTo>
                    <a:lnTo>
                      <a:pt x="26" y="599"/>
                    </a:lnTo>
                    <a:lnTo>
                      <a:pt x="25" y="595"/>
                    </a:lnTo>
                    <a:lnTo>
                      <a:pt x="25" y="593"/>
                    </a:lnTo>
                    <a:lnTo>
                      <a:pt x="25" y="589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6" y="588"/>
                    </a:lnTo>
                    <a:lnTo>
                      <a:pt x="28" y="585"/>
                    </a:lnTo>
                    <a:lnTo>
                      <a:pt x="28" y="584"/>
                    </a:lnTo>
                    <a:lnTo>
                      <a:pt x="28" y="581"/>
                    </a:lnTo>
                    <a:lnTo>
                      <a:pt x="28" y="581"/>
                    </a:lnTo>
                    <a:lnTo>
                      <a:pt x="28" y="580"/>
                    </a:lnTo>
                    <a:lnTo>
                      <a:pt x="28" y="580"/>
                    </a:lnTo>
                    <a:lnTo>
                      <a:pt x="28" y="579"/>
                    </a:lnTo>
                    <a:lnTo>
                      <a:pt x="27" y="579"/>
                    </a:lnTo>
                    <a:lnTo>
                      <a:pt x="25" y="579"/>
                    </a:lnTo>
                    <a:lnTo>
                      <a:pt x="25" y="579"/>
                    </a:lnTo>
                    <a:lnTo>
                      <a:pt x="23" y="579"/>
                    </a:lnTo>
                    <a:lnTo>
                      <a:pt x="23" y="579"/>
                    </a:lnTo>
                    <a:lnTo>
                      <a:pt x="21" y="580"/>
                    </a:lnTo>
                    <a:lnTo>
                      <a:pt x="20" y="582"/>
                    </a:lnTo>
                    <a:lnTo>
                      <a:pt x="18" y="582"/>
                    </a:lnTo>
                    <a:lnTo>
                      <a:pt x="16" y="584"/>
                    </a:lnTo>
                    <a:lnTo>
                      <a:pt x="15" y="584"/>
                    </a:lnTo>
                    <a:lnTo>
                      <a:pt x="13" y="584"/>
                    </a:lnTo>
                    <a:lnTo>
                      <a:pt x="11" y="582"/>
                    </a:lnTo>
                    <a:lnTo>
                      <a:pt x="10" y="582"/>
                    </a:lnTo>
                    <a:lnTo>
                      <a:pt x="8" y="580"/>
                    </a:lnTo>
                    <a:lnTo>
                      <a:pt x="8" y="580"/>
                    </a:lnTo>
                    <a:lnTo>
                      <a:pt x="6" y="579"/>
                    </a:lnTo>
                    <a:lnTo>
                      <a:pt x="5" y="579"/>
                    </a:lnTo>
                    <a:lnTo>
                      <a:pt x="5" y="579"/>
                    </a:lnTo>
                    <a:lnTo>
                      <a:pt x="3" y="579"/>
                    </a:lnTo>
                    <a:lnTo>
                      <a:pt x="1" y="579"/>
                    </a:lnTo>
                    <a:lnTo>
                      <a:pt x="1" y="579"/>
                    </a:lnTo>
                    <a:lnTo>
                      <a:pt x="1" y="580"/>
                    </a:lnTo>
                    <a:lnTo>
                      <a:pt x="0" y="581"/>
                    </a:lnTo>
                    <a:lnTo>
                      <a:pt x="0" y="581"/>
                    </a:lnTo>
                    <a:lnTo>
                      <a:pt x="0" y="584"/>
                    </a:lnTo>
                    <a:lnTo>
                      <a:pt x="1" y="585"/>
                    </a:lnTo>
                    <a:lnTo>
                      <a:pt x="1" y="585"/>
                    </a:lnTo>
                    <a:lnTo>
                      <a:pt x="3" y="588"/>
                    </a:lnTo>
                    <a:lnTo>
                      <a:pt x="5" y="589"/>
                    </a:lnTo>
                    <a:lnTo>
                      <a:pt x="5" y="593"/>
                    </a:lnTo>
                    <a:lnTo>
                      <a:pt x="5" y="595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3" y="599"/>
                    </a:lnTo>
                    <a:lnTo>
                      <a:pt x="1" y="601"/>
                    </a:lnTo>
                    <a:lnTo>
                      <a:pt x="0" y="601"/>
                    </a:lnTo>
                    <a:lnTo>
                      <a:pt x="0" y="603"/>
                    </a:lnTo>
                    <a:lnTo>
                      <a:pt x="0" y="604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1" y="605"/>
                    </a:lnTo>
                    <a:lnTo>
                      <a:pt x="3" y="606"/>
                    </a:lnTo>
                    <a:lnTo>
                      <a:pt x="5" y="608"/>
                    </a:lnTo>
                    <a:lnTo>
                      <a:pt x="5" y="606"/>
                    </a:lnTo>
                    <a:lnTo>
                      <a:pt x="6" y="605"/>
                    </a:lnTo>
                    <a:lnTo>
                      <a:pt x="6" y="605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7537680" y="4115880"/>
                <a:ext cx="33480" cy="43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9"/>
                    </a:moveTo>
                    <a:lnTo>
                      <a:pt x="8" y="27"/>
                    </a:lnTo>
                    <a:lnTo>
                      <a:pt x="10" y="26"/>
                    </a:lnTo>
                    <a:lnTo>
                      <a:pt x="11" y="24"/>
                    </a:lnTo>
                    <a:lnTo>
                      <a:pt x="13" y="23"/>
                    </a:lnTo>
                    <a:lnTo>
                      <a:pt x="15" y="23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0" y="2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9"/>
                    </a:lnTo>
                    <a:lnTo>
                      <a:pt x="28" y="29"/>
                    </a:lnTo>
                    <a:lnTo>
                      <a:pt x="28" y="27"/>
                    </a:lnTo>
                    <a:lnTo>
                      <a:pt x="30" y="26"/>
                    </a:lnTo>
                    <a:lnTo>
                      <a:pt x="30" y="26"/>
                    </a:lnTo>
                    <a:lnTo>
                      <a:pt x="30" y="23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19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3" y="29"/>
                    </a:lnTo>
                    <a:lnTo>
                      <a:pt x="5" y="29"/>
                    </a:lnTo>
                    <a:lnTo>
                      <a:pt x="5" y="29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537680" y="4946400"/>
                <a:ext cx="33480" cy="43920"/>
              </a:xfrm>
              <a:custGeom>
                <a:avLst/>
                <a:gdLst/>
                <a:ahLst/>
                <a:rect l="l" t="t" r="r" b="b"/>
                <a:pathLst>
                  <a:path w="30" h="29">
                    <a:moveTo>
                      <a:pt x="6" y="26"/>
                    </a:moveTo>
                    <a:lnTo>
                      <a:pt x="8" y="24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5" y="29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30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3"/>
                    </a:lnTo>
                    <a:lnTo>
                      <a:pt x="18" y="3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3" y="5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8" y="1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6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3" y="27"/>
                    </a:lnTo>
                    <a:lnTo>
                      <a:pt x="5" y="29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7603200" y="4041000"/>
                <a:ext cx="41040" cy="1046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7603200" y="3986280"/>
                <a:ext cx="41040" cy="110124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44600" y="3986280"/>
                <a:ext cx="39960" cy="1101240"/>
              </a:xfrm>
              <a:prstGeom prst="rect">
                <a:avLst/>
              </a:pr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684560" y="3986280"/>
                <a:ext cx="43560" cy="110124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7605000" y="4034520"/>
                <a:ext cx="69480" cy="1041480"/>
              </a:xfrm>
              <a:custGeom>
                <a:avLst/>
                <a:gdLst/>
                <a:ahLst/>
                <a:rect l="l" t="t" r="r" b="b"/>
                <a:pathLst>
                  <a:path w="59" h="722">
                    <a:moveTo>
                      <a:pt x="59" y="717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2"/>
                    </a:lnTo>
                    <a:lnTo>
                      <a:pt x="56" y="1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52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17"/>
                    </a:lnTo>
                    <a:lnTo>
                      <a:pt x="0" y="720"/>
                    </a:lnTo>
                    <a:lnTo>
                      <a:pt x="2" y="721"/>
                    </a:lnTo>
                    <a:lnTo>
                      <a:pt x="3" y="722"/>
                    </a:lnTo>
                    <a:lnTo>
                      <a:pt x="7" y="722"/>
                    </a:lnTo>
                    <a:lnTo>
                      <a:pt x="7" y="722"/>
                    </a:lnTo>
                    <a:lnTo>
                      <a:pt x="52" y="722"/>
                    </a:lnTo>
                    <a:lnTo>
                      <a:pt x="54" y="722"/>
                    </a:lnTo>
                    <a:lnTo>
                      <a:pt x="56" y="721"/>
                    </a:lnTo>
                    <a:lnTo>
                      <a:pt x="59" y="720"/>
                    </a:lnTo>
                    <a:lnTo>
                      <a:pt x="59" y="718"/>
                    </a:lnTo>
                    <a:lnTo>
                      <a:pt x="59" y="7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677560" y="4032000"/>
                <a:ext cx="1332720" cy="10375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677560" y="4032000"/>
                <a:ext cx="1332720" cy="103752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6101280" y="4058640"/>
                <a:ext cx="110880" cy="993600"/>
              </a:xfrm>
              <a:custGeom>
                <a:avLst/>
                <a:gdLst/>
                <a:ahLst/>
                <a:rect l="l" t="t" r="r" b="b"/>
                <a:pathLst>
                  <a:path w="98" h="692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  <a:close/>
                    <a:moveTo>
                      <a:pt x="98" y="581"/>
                    </a:moveTo>
                    <a:lnTo>
                      <a:pt x="18" y="581"/>
                    </a:lnTo>
                    <a:lnTo>
                      <a:pt x="14" y="581"/>
                    </a:lnTo>
                    <a:lnTo>
                      <a:pt x="10" y="582"/>
                    </a:lnTo>
                    <a:lnTo>
                      <a:pt x="7" y="583"/>
                    </a:lnTo>
                    <a:lnTo>
                      <a:pt x="4" y="586"/>
                    </a:lnTo>
                    <a:lnTo>
                      <a:pt x="3" y="588"/>
                    </a:lnTo>
                    <a:lnTo>
                      <a:pt x="2" y="592"/>
                    </a:lnTo>
                    <a:lnTo>
                      <a:pt x="0" y="595"/>
                    </a:lnTo>
                    <a:lnTo>
                      <a:pt x="0" y="598"/>
                    </a:lnTo>
                    <a:lnTo>
                      <a:pt x="0" y="598"/>
                    </a:lnTo>
                    <a:lnTo>
                      <a:pt x="0" y="672"/>
                    </a:lnTo>
                    <a:lnTo>
                      <a:pt x="0" y="675"/>
                    </a:lnTo>
                    <a:lnTo>
                      <a:pt x="2" y="679"/>
                    </a:lnTo>
                    <a:lnTo>
                      <a:pt x="3" y="683"/>
                    </a:lnTo>
                    <a:lnTo>
                      <a:pt x="4" y="686"/>
                    </a:lnTo>
                    <a:lnTo>
                      <a:pt x="7" y="688"/>
                    </a:lnTo>
                    <a:lnTo>
                      <a:pt x="10" y="689"/>
                    </a:lnTo>
                    <a:lnTo>
                      <a:pt x="14" y="691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18" y="692"/>
                    </a:lnTo>
                    <a:lnTo>
                      <a:pt x="98" y="692"/>
                    </a:lnTo>
                    <a:lnTo>
                      <a:pt x="98" y="581"/>
                    </a:lnTo>
                    <a:lnTo>
                      <a:pt x="98" y="581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6101280" y="4058640"/>
                <a:ext cx="110880" cy="16056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2" y="13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91"/>
                    </a:lnTo>
                    <a:lnTo>
                      <a:pt x="0" y="95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9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958" name=""/>
            <p:cNvGrpSpPr/>
            <p:nvPr/>
          </p:nvGrpSpPr>
          <p:grpSpPr>
            <a:xfrm>
              <a:off x="5729040" y="4085280"/>
              <a:ext cx="1324800" cy="966600"/>
              <a:chOff x="5729040" y="4085280"/>
              <a:chExt cx="1324800" cy="966600"/>
            </a:xfrm>
          </p:grpSpPr>
          <p:sp>
            <p:nvSpPr>
              <p:cNvPr id="959" name=""/>
              <p:cNvSpPr/>
              <p:nvPr/>
            </p:nvSpPr>
            <p:spPr>
              <a:xfrm>
                <a:off x="6101280" y="4891320"/>
                <a:ext cx="110520" cy="160560"/>
              </a:xfrm>
              <a:custGeom>
                <a:avLst/>
                <a:gdLst/>
                <a:ahLst/>
                <a:rect l="l" t="t" r="r" b="b"/>
                <a:pathLst>
                  <a:path w="98" h="111">
                    <a:moveTo>
                      <a:pt x="98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4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91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2"/>
                    </a:lnTo>
                    <a:lnTo>
                      <a:pt x="4" y="105"/>
                    </a:lnTo>
                    <a:lnTo>
                      <a:pt x="7" y="107"/>
                    </a:lnTo>
                    <a:lnTo>
                      <a:pt x="10" y="108"/>
                    </a:lnTo>
                    <a:lnTo>
                      <a:pt x="14" y="110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18" y="111"/>
                    </a:lnTo>
                    <a:lnTo>
                      <a:pt x="98" y="111"/>
                    </a:lnTo>
                    <a:lnTo>
                      <a:pt x="98" y="0"/>
                    </a:lnTo>
                    <a:lnTo>
                      <a:pt x="98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729040" y="4105440"/>
                <a:ext cx="1234080" cy="938160"/>
              </a:xfrm>
              <a:custGeom>
                <a:avLst/>
                <a:gdLst/>
                <a:ahLst/>
                <a:rect l="l" t="t" r="r" b="b"/>
                <a:pathLst>
                  <a:path w="1092" h="654">
                    <a:moveTo>
                      <a:pt x="47" y="607"/>
                    </a:moveTo>
                    <a:lnTo>
                      <a:pt x="67" y="596"/>
                    </a:lnTo>
                    <a:lnTo>
                      <a:pt x="67" y="572"/>
                    </a:lnTo>
                    <a:lnTo>
                      <a:pt x="47" y="560"/>
                    </a:lnTo>
                    <a:lnTo>
                      <a:pt x="26" y="572"/>
                    </a:lnTo>
                    <a:lnTo>
                      <a:pt x="26" y="596"/>
                    </a:lnTo>
                    <a:lnTo>
                      <a:pt x="47" y="607"/>
                    </a:lnTo>
                    <a:close/>
                    <a:moveTo>
                      <a:pt x="100" y="607"/>
                    </a:moveTo>
                    <a:lnTo>
                      <a:pt x="120" y="596"/>
                    </a:lnTo>
                    <a:lnTo>
                      <a:pt x="120" y="572"/>
                    </a:lnTo>
                    <a:lnTo>
                      <a:pt x="100" y="560"/>
                    </a:lnTo>
                    <a:lnTo>
                      <a:pt x="81" y="572"/>
                    </a:lnTo>
                    <a:lnTo>
                      <a:pt x="81" y="596"/>
                    </a:lnTo>
                    <a:lnTo>
                      <a:pt x="100" y="607"/>
                    </a:lnTo>
                    <a:close/>
                    <a:moveTo>
                      <a:pt x="155" y="607"/>
                    </a:moveTo>
                    <a:lnTo>
                      <a:pt x="175" y="596"/>
                    </a:lnTo>
                    <a:lnTo>
                      <a:pt x="175" y="572"/>
                    </a:lnTo>
                    <a:lnTo>
                      <a:pt x="155" y="560"/>
                    </a:lnTo>
                    <a:lnTo>
                      <a:pt x="135" y="572"/>
                    </a:lnTo>
                    <a:lnTo>
                      <a:pt x="135" y="596"/>
                    </a:lnTo>
                    <a:lnTo>
                      <a:pt x="155" y="607"/>
                    </a:lnTo>
                    <a:close/>
                    <a:moveTo>
                      <a:pt x="208" y="607"/>
                    </a:moveTo>
                    <a:lnTo>
                      <a:pt x="230" y="596"/>
                    </a:lnTo>
                    <a:lnTo>
                      <a:pt x="230" y="572"/>
                    </a:lnTo>
                    <a:lnTo>
                      <a:pt x="208" y="560"/>
                    </a:lnTo>
                    <a:lnTo>
                      <a:pt x="188" y="572"/>
                    </a:lnTo>
                    <a:lnTo>
                      <a:pt x="188" y="596"/>
                    </a:lnTo>
                    <a:lnTo>
                      <a:pt x="208" y="607"/>
                    </a:lnTo>
                    <a:close/>
                    <a:moveTo>
                      <a:pt x="263" y="607"/>
                    </a:moveTo>
                    <a:lnTo>
                      <a:pt x="283" y="596"/>
                    </a:lnTo>
                    <a:lnTo>
                      <a:pt x="283" y="572"/>
                    </a:lnTo>
                    <a:lnTo>
                      <a:pt x="263" y="560"/>
                    </a:lnTo>
                    <a:lnTo>
                      <a:pt x="243" y="572"/>
                    </a:lnTo>
                    <a:lnTo>
                      <a:pt x="243" y="596"/>
                    </a:lnTo>
                    <a:lnTo>
                      <a:pt x="263" y="607"/>
                    </a:lnTo>
                    <a:close/>
                    <a:moveTo>
                      <a:pt x="20" y="560"/>
                    </a:moveTo>
                    <a:lnTo>
                      <a:pt x="39" y="550"/>
                    </a:lnTo>
                    <a:lnTo>
                      <a:pt x="39" y="525"/>
                    </a:lnTo>
                    <a:lnTo>
                      <a:pt x="20" y="514"/>
                    </a:lnTo>
                    <a:lnTo>
                      <a:pt x="0" y="525"/>
                    </a:lnTo>
                    <a:lnTo>
                      <a:pt x="0" y="550"/>
                    </a:lnTo>
                    <a:lnTo>
                      <a:pt x="20" y="560"/>
                    </a:lnTo>
                    <a:close/>
                    <a:moveTo>
                      <a:pt x="74" y="560"/>
                    </a:moveTo>
                    <a:lnTo>
                      <a:pt x="94" y="550"/>
                    </a:lnTo>
                    <a:lnTo>
                      <a:pt x="94" y="525"/>
                    </a:lnTo>
                    <a:lnTo>
                      <a:pt x="74" y="514"/>
                    </a:lnTo>
                    <a:lnTo>
                      <a:pt x="55" y="525"/>
                    </a:lnTo>
                    <a:lnTo>
                      <a:pt x="55" y="550"/>
                    </a:lnTo>
                    <a:lnTo>
                      <a:pt x="74" y="560"/>
                    </a:lnTo>
                    <a:close/>
                    <a:moveTo>
                      <a:pt x="129" y="560"/>
                    </a:moveTo>
                    <a:lnTo>
                      <a:pt x="149" y="550"/>
                    </a:lnTo>
                    <a:lnTo>
                      <a:pt x="149" y="525"/>
                    </a:lnTo>
                    <a:lnTo>
                      <a:pt x="129" y="514"/>
                    </a:lnTo>
                    <a:lnTo>
                      <a:pt x="108" y="525"/>
                    </a:lnTo>
                    <a:lnTo>
                      <a:pt x="108" y="550"/>
                    </a:lnTo>
                    <a:lnTo>
                      <a:pt x="129" y="560"/>
                    </a:lnTo>
                    <a:close/>
                    <a:moveTo>
                      <a:pt x="181" y="560"/>
                    </a:moveTo>
                    <a:lnTo>
                      <a:pt x="202" y="550"/>
                    </a:lnTo>
                    <a:lnTo>
                      <a:pt x="202" y="525"/>
                    </a:lnTo>
                    <a:lnTo>
                      <a:pt x="181" y="514"/>
                    </a:lnTo>
                    <a:lnTo>
                      <a:pt x="161" y="525"/>
                    </a:lnTo>
                    <a:lnTo>
                      <a:pt x="161" y="550"/>
                    </a:lnTo>
                    <a:lnTo>
                      <a:pt x="181" y="560"/>
                    </a:lnTo>
                    <a:close/>
                    <a:moveTo>
                      <a:pt x="237" y="560"/>
                    </a:moveTo>
                    <a:lnTo>
                      <a:pt x="257" y="550"/>
                    </a:lnTo>
                    <a:lnTo>
                      <a:pt x="257" y="525"/>
                    </a:lnTo>
                    <a:lnTo>
                      <a:pt x="237" y="514"/>
                    </a:lnTo>
                    <a:lnTo>
                      <a:pt x="217" y="525"/>
                    </a:lnTo>
                    <a:lnTo>
                      <a:pt x="217" y="550"/>
                    </a:lnTo>
                    <a:lnTo>
                      <a:pt x="237" y="560"/>
                    </a:lnTo>
                    <a:close/>
                    <a:moveTo>
                      <a:pt x="289" y="560"/>
                    </a:moveTo>
                    <a:lnTo>
                      <a:pt x="312" y="550"/>
                    </a:lnTo>
                    <a:lnTo>
                      <a:pt x="312" y="525"/>
                    </a:lnTo>
                    <a:lnTo>
                      <a:pt x="289" y="514"/>
                    </a:lnTo>
                    <a:lnTo>
                      <a:pt x="269" y="525"/>
                    </a:lnTo>
                    <a:lnTo>
                      <a:pt x="269" y="550"/>
                    </a:lnTo>
                    <a:lnTo>
                      <a:pt x="289" y="560"/>
                    </a:lnTo>
                    <a:close/>
                    <a:moveTo>
                      <a:pt x="47" y="514"/>
                    </a:moveTo>
                    <a:lnTo>
                      <a:pt x="67" y="504"/>
                    </a:lnTo>
                    <a:lnTo>
                      <a:pt x="67" y="478"/>
                    </a:lnTo>
                    <a:lnTo>
                      <a:pt x="47" y="468"/>
                    </a:lnTo>
                    <a:lnTo>
                      <a:pt x="26" y="478"/>
                    </a:lnTo>
                    <a:lnTo>
                      <a:pt x="26" y="504"/>
                    </a:lnTo>
                    <a:lnTo>
                      <a:pt x="47" y="514"/>
                    </a:lnTo>
                    <a:close/>
                    <a:moveTo>
                      <a:pt x="100" y="514"/>
                    </a:moveTo>
                    <a:lnTo>
                      <a:pt x="120" y="504"/>
                    </a:lnTo>
                    <a:lnTo>
                      <a:pt x="120" y="478"/>
                    </a:lnTo>
                    <a:lnTo>
                      <a:pt x="100" y="468"/>
                    </a:lnTo>
                    <a:lnTo>
                      <a:pt x="81" y="478"/>
                    </a:lnTo>
                    <a:lnTo>
                      <a:pt x="81" y="504"/>
                    </a:lnTo>
                    <a:lnTo>
                      <a:pt x="100" y="514"/>
                    </a:lnTo>
                    <a:close/>
                    <a:moveTo>
                      <a:pt x="155" y="514"/>
                    </a:moveTo>
                    <a:lnTo>
                      <a:pt x="175" y="504"/>
                    </a:lnTo>
                    <a:lnTo>
                      <a:pt x="175" y="478"/>
                    </a:lnTo>
                    <a:lnTo>
                      <a:pt x="155" y="468"/>
                    </a:lnTo>
                    <a:lnTo>
                      <a:pt x="135" y="478"/>
                    </a:lnTo>
                    <a:lnTo>
                      <a:pt x="135" y="504"/>
                    </a:lnTo>
                    <a:lnTo>
                      <a:pt x="155" y="514"/>
                    </a:lnTo>
                    <a:close/>
                    <a:moveTo>
                      <a:pt x="208" y="514"/>
                    </a:moveTo>
                    <a:lnTo>
                      <a:pt x="230" y="504"/>
                    </a:lnTo>
                    <a:lnTo>
                      <a:pt x="230" y="478"/>
                    </a:lnTo>
                    <a:lnTo>
                      <a:pt x="208" y="468"/>
                    </a:lnTo>
                    <a:lnTo>
                      <a:pt x="188" y="478"/>
                    </a:lnTo>
                    <a:lnTo>
                      <a:pt x="188" y="504"/>
                    </a:lnTo>
                    <a:lnTo>
                      <a:pt x="208" y="514"/>
                    </a:lnTo>
                    <a:close/>
                    <a:moveTo>
                      <a:pt x="263" y="514"/>
                    </a:moveTo>
                    <a:lnTo>
                      <a:pt x="283" y="504"/>
                    </a:lnTo>
                    <a:lnTo>
                      <a:pt x="283" y="478"/>
                    </a:lnTo>
                    <a:lnTo>
                      <a:pt x="263" y="468"/>
                    </a:lnTo>
                    <a:lnTo>
                      <a:pt x="243" y="478"/>
                    </a:lnTo>
                    <a:lnTo>
                      <a:pt x="243" y="504"/>
                    </a:lnTo>
                    <a:lnTo>
                      <a:pt x="263" y="514"/>
                    </a:lnTo>
                    <a:close/>
                    <a:moveTo>
                      <a:pt x="318" y="514"/>
                    </a:moveTo>
                    <a:lnTo>
                      <a:pt x="338" y="504"/>
                    </a:lnTo>
                    <a:lnTo>
                      <a:pt x="338" y="478"/>
                    </a:lnTo>
                    <a:lnTo>
                      <a:pt x="318" y="468"/>
                    </a:lnTo>
                    <a:lnTo>
                      <a:pt x="298" y="478"/>
                    </a:lnTo>
                    <a:lnTo>
                      <a:pt x="298" y="504"/>
                    </a:lnTo>
                    <a:lnTo>
                      <a:pt x="318" y="514"/>
                    </a:lnTo>
                    <a:close/>
                    <a:moveTo>
                      <a:pt x="20" y="468"/>
                    </a:moveTo>
                    <a:lnTo>
                      <a:pt x="39" y="454"/>
                    </a:lnTo>
                    <a:lnTo>
                      <a:pt x="39" y="432"/>
                    </a:lnTo>
                    <a:lnTo>
                      <a:pt x="20" y="422"/>
                    </a:lnTo>
                    <a:lnTo>
                      <a:pt x="0" y="432"/>
                    </a:lnTo>
                    <a:lnTo>
                      <a:pt x="0" y="454"/>
                    </a:lnTo>
                    <a:lnTo>
                      <a:pt x="20" y="468"/>
                    </a:lnTo>
                    <a:close/>
                    <a:moveTo>
                      <a:pt x="74" y="468"/>
                    </a:moveTo>
                    <a:lnTo>
                      <a:pt x="94" y="454"/>
                    </a:lnTo>
                    <a:lnTo>
                      <a:pt x="94" y="432"/>
                    </a:lnTo>
                    <a:lnTo>
                      <a:pt x="74" y="422"/>
                    </a:lnTo>
                    <a:lnTo>
                      <a:pt x="55" y="432"/>
                    </a:lnTo>
                    <a:lnTo>
                      <a:pt x="55" y="454"/>
                    </a:lnTo>
                    <a:lnTo>
                      <a:pt x="74" y="468"/>
                    </a:lnTo>
                    <a:close/>
                    <a:moveTo>
                      <a:pt x="129" y="468"/>
                    </a:moveTo>
                    <a:lnTo>
                      <a:pt x="149" y="454"/>
                    </a:lnTo>
                    <a:lnTo>
                      <a:pt x="149" y="432"/>
                    </a:lnTo>
                    <a:lnTo>
                      <a:pt x="129" y="422"/>
                    </a:lnTo>
                    <a:lnTo>
                      <a:pt x="108" y="432"/>
                    </a:lnTo>
                    <a:lnTo>
                      <a:pt x="108" y="454"/>
                    </a:lnTo>
                    <a:lnTo>
                      <a:pt x="129" y="468"/>
                    </a:lnTo>
                    <a:close/>
                    <a:moveTo>
                      <a:pt x="181" y="468"/>
                    </a:moveTo>
                    <a:lnTo>
                      <a:pt x="202" y="454"/>
                    </a:lnTo>
                    <a:lnTo>
                      <a:pt x="202" y="432"/>
                    </a:lnTo>
                    <a:lnTo>
                      <a:pt x="181" y="422"/>
                    </a:lnTo>
                    <a:lnTo>
                      <a:pt x="161" y="432"/>
                    </a:lnTo>
                    <a:lnTo>
                      <a:pt x="161" y="454"/>
                    </a:lnTo>
                    <a:lnTo>
                      <a:pt x="181" y="468"/>
                    </a:lnTo>
                    <a:close/>
                    <a:moveTo>
                      <a:pt x="237" y="468"/>
                    </a:moveTo>
                    <a:lnTo>
                      <a:pt x="257" y="454"/>
                    </a:lnTo>
                    <a:lnTo>
                      <a:pt x="257" y="432"/>
                    </a:lnTo>
                    <a:lnTo>
                      <a:pt x="237" y="422"/>
                    </a:lnTo>
                    <a:lnTo>
                      <a:pt x="217" y="432"/>
                    </a:lnTo>
                    <a:lnTo>
                      <a:pt x="217" y="454"/>
                    </a:lnTo>
                    <a:lnTo>
                      <a:pt x="237" y="468"/>
                    </a:lnTo>
                    <a:close/>
                    <a:moveTo>
                      <a:pt x="289" y="468"/>
                    </a:moveTo>
                    <a:lnTo>
                      <a:pt x="312" y="454"/>
                    </a:lnTo>
                    <a:lnTo>
                      <a:pt x="312" y="432"/>
                    </a:lnTo>
                    <a:lnTo>
                      <a:pt x="289" y="422"/>
                    </a:lnTo>
                    <a:lnTo>
                      <a:pt x="269" y="432"/>
                    </a:lnTo>
                    <a:lnTo>
                      <a:pt x="269" y="454"/>
                    </a:lnTo>
                    <a:lnTo>
                      <a:pt x="289" y="468"/>
                    </a:lnTo>
                    <a:close/>
                    <a:moveTo>
                      <a:pt x="20" y="654"/>
                    </a:moveTo>
                    <a:lnTo>
                      <a:pt x="39" y="642"/>
                    </a:lnTo>
                    <a:lnTo>
                      <a:pt x="39" y="618"/>
                    </a:lnTo>
                    <a:lnTo>
                      <a:pt x="20" y="607"/>
                    </a:lnTo>
                    <a:lnTo>
                      <a:pt x="0" y="618"/>
                    </a:lnTo>
                    <a:lnTo>
                      <a:pt x="0" y="642"/>
                    </a:lnTo>
                    <a:lnTo>
                      <a:pt x="20" y="654"/>
                    </a:lnTo>
                    <a:close/>
                    <a:moveTo>
                      <a:pt x="74" y="654"/>
                    </a:moveTo>
                    <a:lnTo>
                      <a:pt x="94" y="642"/>
                    </a:lnTo>
                    <a:lnTo>
                      <a:pt x="94" y="618"/>
                    </a:lnTo>
                    <a:lnTo>
                      <a:pt x="74" y="607"/>
                    </a:lnTo>
                    <a:lnTo>
                      <a:pt x="55" y="618"/>
                    </a:lnTo>
                    <a:lnTo>
                      <a:pt x="55" y="642"/>
                    </a:lnTo>
                    <a:lnTo>
                      <a:pt x="74" y="654"/>
                    </a:lnTo>
                    <a:close/>
                    <a:moveTo>
                      <a:pt x="129" y="654"/>
                    </a:moveTo>
                    <a:lnTo>
                      <a:pt x="149" y="642"/>
                    </a:lnTo>
                    <a:lnTo>
                      <a:pt x="149" y="618"/>
                    </a:lnTo>
                    <a:lnTo>
                      <a:pt x="129" y="607"/>
                    </a:lnTo>
                    <a:lnTo>
                      <a:pt x="108" y="618"/>
                    </a:lnTo>
                    <a:lnTo>
                      <a:pt x="108" y="642"/>
                    </a:lnTo>
                    <a:lnTo>
                      <a:pt x="129" y="654"/>
                    </a:lnTo>
                    <a:close/>
                    <a:moveTo>
                      <a:pt x="181" y="654"/>
                    </a:moveTo>
                    <a:lnTo>
                      <a:pt x="202" y="642"/>
                    </a:lnTo>
                    <a:lnTo>
                      <a:pt x="202" y="618"/>
                    </a:lnTo>
                    <a:lnTo>
                      <a:pt x="181" y="607"/>
                    </a:lnTo>
                    <a:lnTo>
                      <a:pt x="161" y="618"/>
                    </a:lnTo>
                    <a:lnTo>
                      <a:pt x="161" y="642"/>
                    </a:lnTo>
                    <a:lnTo>
                      <a:pt x="181" y="654"/>
                    </a:lnTo>
                    <a:close/>
                    <a:moveTo>
                      <a:pt x="237" y="654"/>
                    </a:moveTo>
                    <a:lnTo>
                      <a:pt x="257" y="642"/>
                    </a:lnTo>
                    <a:lnTo>
                      <a:pt x="257" y="618"/>
                    </a:lnTo>
                    <a:lnTo>
                      <a:pt x="237" y="607"/>
                    </a:lnTo>
                    <a:lnTo>
                      <a:pt x="217" y="618"/>
                    </a:lnTo>
                    <a:lnTo>
                      <a:pt x="217" y="642"/>
                    </a:lnTo>
                    <a:lnTo>
                      <a:pt x="237" y="654"/>
                    </a:lnTo>
                    <a:close/>
                    <a:moveTo>
                      <a:pt x="289" y="654"/>
                    </a:moveTo>
                    <a:lnTo>
                      <a:pt x="312" y="642"/>
                    </a:lnTo>
                    <a:lnTo>
                      <a:pt x="312" y="618"/>
                    </a:lnTo>
                    <a:lnTo>
                      <a:pt x="289" y="607"/>
                    </a:lnTo>
                    <a:lnTo>
                      <a:pt x="269" y="618"/>
                    </a:lnTo>
                    <a:lnTo>
                      <a:pt x="269" y="642"/>
                    </a:lnTo>
                    <a:lnTo>
                      <a:pt x="289" y="654"/>
                    </a:lnTo>
                    <a:close/>
                    <a:moveTo>
                      <a:pt x="20" y="279"/>
                    </a:moveTo>
                    <a:lnTo>
                      <a:pt x="39" y="269"/>
                    </a:lnTo>
                    <a:lnTo>
                      <a:pt x="39" y="246"/>
                    </a:lnTo>
                    <a:lnTo>
                      <a:pt x="20" y="233"/>
                    </a:lnTo>
                    <a:lnTo>
                      <a:pt x="0" y="246"/>
                    </a:lnTo>
                    <a:lnTo>
                      <a:pt x="0" y="269"/>
                    </a:lnTo>
                    <a:lnTo>
                      <a:pt x="20" y="279"/>
                    </a:lnTo>
                    <a:close/>
                    <a:moveTo>
                      <a:pt x="74" y="279"/>
                    </a:moveTo>
                    <a:lnTo>
                      <a:pt x="94" y="269"/>
                    </a:lnTo>
                    <a:lnTo>
                      <a:pt x="94" y="246"/>
                    </a:lnTo>
                    <a:lnTo>
                      <a:pt x="74" y="233"/>
                    </a:lnTo>
                    <a:lnTo>
                      <a:pt x="55" y="246"/>
                    </a:lnTo>
                    <a:lnTo>
                      <a:pt x="55" y="269"/>
                    </a:lnTo>
                    <a:lnTo>
                      <a:pt x="74" y="279"/>
                    </a:lnTo>
                    <a:close/>
                    <a:moveTo>
                      <a:pt x="129" y="279"/>
                    </a:moveTo>
                    <a:lnTo>
                      <a:pt x="149" y="269"/>
                    </a:lnTo>
                    <a:lnTo>
                      <a:pt x="149" y="246"/>
                    </a:lnTo>
                    <a:lnTo>
                      <a:pt x="129" y="233"/>
                    </a:lnTo>
                    <a:lnTo>
                      <a:pt x="108" y="246"/>
                    </a:lnTo>
                    <a:lnTo>
                      <a:pt x="108" y="269"/>
                    </a:lnTo>
                    <a:lnTo>
                      <a:pt x="129" y="279"/>
                    </a:lnTo>
                    <a:close/>
                    <a:moveTo>
                      <a:pt x="181" y="279"/>
                    </a:moveTo>
                    <a:lnTo>
                      <a:pt x="202" y="269"/>
                    </a:lnTo>
                    <a:lnTo>
                      <a:pt x="202" y="246"/>
                    </a:lnTo>
                    <a:lnTo>
                      <a:pt x="181" y="233"/>
                    </a:lnTo>
                    <a:lnTo>
                      <a:pt x="161" y="246"/>
                    </a:lnTo>
                    <a:lnTo>
                      <a:pt x="161" y="269"/>
                    </a:lnTo>
                    <a:lnTo>
                      <a:pt x="181" y="279"/>
                    </a:lnTo>
                    <a:close/>
                    <a:moveTo>
                      <a:pt x="237" y="279"/>
                    </a:moveTo>
                    <a:lnTo>
                      <a:pt x="257" y="269"/>
                    </a:lnTo>
                    <a:lnTo>
                      <a:pt x="257" y="246"/>
                    </a:lnTo>
                    <a:lnTo>
                      <a:pt x="237" y="233"/>
                    </a:lnTo>
                    <a:lnTo>
                      <a:pt x="217" y="246"/>
                    </a:lnTo>
                    <a:lnTo>
                      <a:pt x="217" y="269"/>
                    </a:lnTo>
                    <a:lnTo>
                      <a:pt x="237" y="279"/>
                    </a:lnTo>
                    <a:close/>
                    <a:moveTo>
                      <a:pt x="289" y="279"/>
                    </a:moveTo>
                    <a:lnTo>
                      <a:pt x="312" y="269"/>
                    </a:lnTo>
                    <a:lnTo>
                      <a:pt x="312" y="246"/>
                    </a:lnTo>
                    <a:lnTo>
                      <a:pt x="289" y="233"/>
                    </a:lnTo>
                    <a:lnTo>
                      <a:pt x="269" y="246"/>
                    </a:lnTo>
                    <a:lnTo>
                      <a:pt x="269" y="269"/>
                    </a:lnTo>
                    <a:lnTo>
                      <a:pt x="289" y="279"/>
                    </a:lnTo>
                    <a:close/>
                    <a:moveTo>
                      <a:pt x="47" y="233"/>
                    </a:moveTo>
                    <a:lnTo>
                      <a:pt x="67" y="222"/>
                    </a:lnTo>
                    <a:lnTo>
                      <a:pt x="67" y="199"/>
                    </a:lnTo>
                    <a:lnTo>
                      <a:pt x="47" y="187"/>
                    </a:lnTo>
                    <a:lnTo>
                      <a:pt x="26" y="199"/>
                    </a:lnTo>
                    <a:lnTo>
                      <a:pt x="26" y="222"/>
                    </a:lnTo>
                    <a:lnTo>
                      <a:pt x="47" y="233"/>
                    </a:lnTo>
                    <a:close/>
                    <a:moveTo>
                      <a:pt x="100" y="233"/>
                    </a:moveTo>
                    <a:lnTo>
                      <a:pt x="120" y="222"/>
                    </a:lnTo>
                    <a:lnTo>
                      <a:pt x="120" y="199"/>
                    </a:lnTo>
                    <a:lnTo>
                      <a:pt x="100" y="187"/>
                    </a:lnTo>
                    <a:lnTo>
                      <a:pt x="81" y="199"/>
                    </a:lnTo>
                    <a:lnTo>
                      <a:pt x="81" y="222"/>
                    </a:lnTo>
                    <a:lnTo>
                      <a:pt x="100" y="233"/>
                    </a:lnTo>
                    <a:close/>
                    <a:moveTo>
                      <a:pt x="155" y="233"/>
                    </a:moveTo>
                    <a:lnTo>
                      <a:pt x="175" y="222"/>
                    </a:lnTo>
                    <a:lnTo>
                      <a:pt x="175" y="199"/>
                    </a:lnTo>
                    <a:lnTo>
                      <a:pt x="155" y="187"/>
                    </a:lnTo>
                    <a:lnTo>
                      <a:pt x="135" y="199"/>
                    </a:lnTo>
                    <a:lnTo>
                      <a:pt x="135" y="222"/>
                    </a:lnTo>
                    <a:lnTo>
                      <a:pt x="155" y="233"/>
                    </a:lnTo>
                    <a:close/>
                    <a:moveTo>
                      <a:pt x="208" y="233"/>
                    </a:moveTo>
                    <a:lnTo>
                      <a:pt x="230" y="222"/>
                    </a:lnTo>
                    <a:lnTo>
                      <a:pt x="230" y="199"/>
                    </a:lnTo>
                    <a:lnTo>
                      <a:pt x="208" y="187"/>
                    </a:lnTo>
                    <a:lnTo>
                      <a:pt x="188" y="199"/>
                    </a:lnTo>
                    <a:lnTo>
                      <a:pt x="188" y="222"/>
                    </a:lnTo>
                    <a:lnTo>
                      <a:pt x="208" y="233"/>
                    </a:lnTo>
                    <a:close/>
                    <a:moveTo>
                      <a:pt x="263" y="233"/>
                    </a:moveTo>
                    <a:lnTo>
                      <a:pt x="283" y="222"/>
                    </a:lnTo>
                    <a:lnTo>
                      <a:pt x="283" y="199"/>
                    </a:lnTo>
                    <a:lnTo>
                      <a:pt x="263" y="187"/>
                    </a:lnTo>
                    <a:lnTo>
                      <a:pt x="243" y="199"/>
                    </a:lnTo>
                    <a:lnTo>
                      <a:pt x="243" y="222"/>
                    </a:lnTo>
                    <a:lnTo>
                      <a:pt x="263" y="233"/>
                    </a:lnTo>
                    <a:close/>
                    <a:moveTo>
                      <a:pt x="318" y="233"/>
                    </a:moveTo>
                    <a:lnTo>
                      <a:pt x="338" y="222"/>
                    </a:lnTo>
                    <a:lnTo>
                      <a:pt x="338" y="199"/>
                    </a:lnTo>
                    <a:lnTo>
                      <a:pt x="318" y="187"/>
                    </a:lnTo>
                    <a:lnTo>
                      <a:pt x="298" y="199"/>
                    </a:lnTo>
                    <a:lnTo>
                      <a:pt x="298" y="222"/>
                    </a:lnTo>
                    <a:lnTo>
                      <a:pt x="318" y="233"/>
                    </a:lnTo>
                    <a:close/>
                    <a:moveTo>
                      <a:pt x="20" y="187"/>
                    </a:moveTo>
                    <a:lnTo>
                      <a:pt x="39" y="175"/>
                    </a:lnTo>
                    <a:lnTo>
                      <a:pt x="39" y="153"/>
                    </a:lnTo>
                    <a:lnTo>
                      <a:pt x="20" y="140"/>
                    </a:lnTo>
                    <a:lnTo>
                      <a:pt x="0" y="153"/>
                    </a:lnTo>
                    <a:lnTo>
                      <a:pt x="0" y="175"/>
                    </a:lnTo>
                    <a:lnTo>
                      <a:pt x="20" y="187"/>
                    </a:lnTo>
                    <a:close/>
                    <a:moveTo>
                      <a:pt x="74" y="187"/>
                    </a:moveTo>
                    <a:lnTo>
                      <a:pt x="94" y="175"/>
                    </a:lnTo>
                    <a:lnTo>
                      <a:pt x="94" y="153"/>
                    </a:lnTo>
                    <a:lnTo>
                      <a:pt x="74" y="140"/>
                    </a:lnTo>
                    <a:lnTo>
                      <a:pt x="55" y="153"/>
                    </a:lnTo>
                    <a:lnTo>
                      <a:pt x="55" y="175"/>
                    </a:lnTo>
                    <a:lnTo>
                      <a:pt x="74" y="187"/>
                    </a:lnTo>
                    <a:close/>
                    <a:moveTo>
                      <a:pt x="129" y="187"/>
                    </a:moveTo>
                    <a:lnTo>
                      <a:pt x="149" y="175"/>
                    </a:lnTo>
                    <a:lnTo>
                      <a:pt x="149" y="153"/>
                    </a:lnTo>
                    <a:lnTo>
                      <a:pt x="129" y="140"/>
                    </a:lnTo>
                    <a:lnTo>
                      <a:pt x="108" y="153"/>
                    </a:lnTo>
                    <a:lnTo>
                      <a:pt x="108" y="175"/>
                    </a:lnTo>
                    <a:lnTo>
                      <a:pt x="129" y="187"/>
                    </a:lnTo>
                    <a:close/>
                    <a:moveTo>
                      <a:pt x="181" y="187"/>
                    </a:moveTo>
                    <a:lnTo>
                      <a:pt x="202" y="175"/>
                    </a:lnTo>
                    <a:lnTo>
                      <a:pt x="202" y="153"/>
                    </a:lnTo>
                    <a:lnTo>
                      <a:pt x="181" y="140"/>
                    </a:lnTo>
                    <a:lnTo>
                      <a:pt x="161" y="153"/>
                    </a:lnTo>
                    <a:lnTo>
                      <a:pt x="161" y="175"/>
                    </a:lnTo>
                    <a:lnTo>
                      <a:pt x="181" y="187"/>
                    </a:lnTo>
                    <a:close/>
                    <a:moveTo>
                      <a:pt x="237" y="187"/>
                    </a:moveTo>
                    <a:lnTo>
                      <a:pt x="257" y="175"/>
                    </a:lnTo>
                    <a:lnTo>
                      <a:pt x="257" y="153"/>
                    </a:lnTo>
                    <a:lnTo>
                      <a:pt x="237" y="140"/>
                    </a:lnTo>
                    <a:lnTo>
                      <a:pt x="217" y="153"/>
                    </a:lnTo>
                    <a:lnTo>
                      <a:pt x="217" y="175"/>
                    </a:lnTo>
                    <a:lnTo>
                      <a:pt x="237" y="187"/>
                    </a:lnTo>
                    <a:close/>
                    <a:moveTo>
                      <a:pt x="289" y="187"/>
                    </a:moveTo>
                    <a:lnTo>
                      <a:pt x="312" y="175"/>
                    </a:lnTo>
                    <a:lnTo>
                      <a:pt x="312" y="153"/>
                    </a:lnTo>
                    <a:lnTo>
                      <a:pt x="289" y="140"/>
                    </a:lnTo>
                    <a:lnTo>
                      <a:pt x="269" y="153"/>
                    </a:lnTo>
                    <a:lnTo>
                      <a:pt x="269" y="175"/>
                    </a:lnTo>
                    <a:lnTo>
                      <a:pt x="289" y="187"/>
                    </a:lnTo>
                    <a:close/>
                    <a:moveTo>
                      <a:pt x="47" y="140"/>
                    </a:moveTo>
                    <a:lnTo>
                      <a:pt x="67" y="129"/>
                    </a:lnTo>
                    <a:lnTo>
                      <a:pt x="67" y="105"/>
                    </a:lnTo>
                    <a:lnTo>
                      <a:pt x="47" y="93"/>
                    </a:lnTo>
                    <a:lnTo>
                      <a:pt x="26" y="105"/>
                    </a:lnTo>
                    <a:lnTo>
                      <a:pt x="26" y="129"/>
                    </a:lnTo>
                    <a:lnTo>
                      <a:pt x="47" y="140"/>
                    </a:lnTo>
                    <a:close/>
                    <a:moveTo>
                      <a:pt x="100" y="140"/>
                    </a:moveTo>
                    <a:lnTo>
                      <a:pt x="120" y="129"/>
                    </a:lnTo>
                    <a:lnTo>
                      <a:pt x="120" y="105"/>
                    </a:lnTo>
                    <a:lnTo>
                      <a:pt x="100" y="93"/>
                    </a:lnTo>
                    <a:lnTo>
                      <a:pt x="81" y="105"/>
                    </a:lnTo>
                    <a:lnTo>
                      <a:pt x="81" y="129"/>
                    </a:lnTo>
                    <a:lnTo>
                      <a:pt x="100" y="140"/>
                    </a:lnTo>
                    <a:close/>
                    <a:moveTo>
                      <a:pt x="155" y="140"/>
                    </a:moveTo>
                    <a:lnTo>
                      <a:pt x="175" y="129"/>
                    </a:lnTo>
                    <a:lnTo>
                      <a:pt x="175" y="105"/>
                    </a:lnTo>
                    <a:lnTo>
                      <a:pt x="155" y="93"/>
                    </a:lnTo>
                    <a:lnTo>
                      <a:pt x="135" y="105"/>
                    </a:lnTo>
                    <a:lnTo>
                      <a:pt x="135" y="129"/>
                    </a:lnTo>
                    <a:lnTo>
                      <a:pt x="155" y="140"/>
                    </a:lnTo>
                    <a:close/>
                    <a:moveTo>
                      <a:pt x="208" y="140"/>
                    </a:moveTo>
                    <a:lnTo>
                      <a:pt x="230" y="129"/>
                    </a:lnTo>
                    <a:lnTo>
                      <a:pt x="230" y="105"/>
                    </a:lnTo>
                    <a:lnTo>
                      <a:pt x="208" y="93"/>
                    </a:lnTo>
                    <a:lnTo>
                      <a:pt x="188" y="105"/>
                    </a:lnTo>
                    <a:lnTo>
                      <a:pt x="188" y="129"/>
                    </a:lnTo>
                    <a:lnTo>
                      <a:pt x="208" y="140"/>
                    </a:lnTo>
                    <a:close/>
                    <a:moveTo>
                      <a:pt x="263" y="140"/>
                    </a:moveTo>
                    <a:lnTo>
                      <a:pt x="283" y="129"/>
                    </a:lnTo>
                    <a:lnTo>
                      <a:pt x="283" y="105"/>
                    </a:lnTo>
                    <a:lnTo>
                      <a:pt x="263" y="93"/>
                    </a:lnTo>
                    <a:lnTo>
                      <a:pt x="243" y="105"/>
                    </a:lnTo>
                    <a:lnTo>
                      <a:pt x="243" y="129"/>
                    </a:lnTo>
                    <a:lnTo>
                      <a:pt x="263" y="140"/>
                    </a:lnTo>
                    <a:close/>
                    <a:moveTo>
                      <a:pt x="318" y="140"/>
                    </a:moveTo>
                    <a:lnTo>
                      <a:pt x="338" y="129"/>
                    </a:lnTo>
                    <a:lnTo>
                      <a:pt x="338" y="105"/>
                    </a:lnTo>
                    <a:lnTo>
                      <a:pt x="318" y="93"/>
                    </a:lnTo>
                    <a:lnTo>
                      <a:pt x="298" y="105"/>
                    </a:lnTo>
                    <a:lnTo>
                      <a:pt x="298" y="129"/>
                    </a:lnTo>
                    <a:lnTo>
                      <a:pt x="318" y="140"/>
                    </a:lnTo>
                    <a:close/>
                    <a:moveTo>
                      <a:pt x="20" y="93"/>
                    </a:moveTo>
                    <a:lnTo>
                      <a:pt x="39" y="82"/>
                    </a:lnTo>
                    <a:lnTo>
                      <a:pt x="39" y="58"/>
                    </a:lnTo>
                    <a:lnTo>
                      <a:pt x="20" y="47"/>
                    </a:lnTo>
                    <a:lnTo>
                      <a:pt x="0" y="58"/>
                    </a:lnTo>
                    <a:lnTo>
                      <a:pt x="0" y="82"/>
                    </a:lnTo>
                    <a:lnTo>
                      <a:pt x="20" y="93"/>
                    </a:lnTo>
                    <a:close/>
                    <a:moveTo>
                      <a:pt x="74" y="93"/>
                    </a:moveTo>
                    <a:lnTo>
                      <a:pt x="94" y="82"/>
                    </a:lnTo>
                    <a:lnTo>
                      <a:pt x="94" y="58"/>
                    </a:lnTo>
                    <a:lnTo>
                      <a:pt x="74" y="47"/>
                    </a:lnTo>
                    <a:lnTo>
                      <a:pt x="55" y="58"/>
                    </a:lnTo>
                    <a:lnTo>
                      <a:pt x="55" y="82"/>
                    </a:lnTo>
                    <a:lnTo>
                      <a:pt x="74" y="93"/>
                    </a:lnTo>
                    <a:close/>
                    <a:moveTo>
                      <a:pt x="129" y="93"/>
                    </a:moveTo>
                    <a:lnTo>
                      <a:pt x="149" y="82"/>
                    </a:lnTo>
                    <a:lnTo>
                      <a:pt x="149" y="58"/>
                    </a:lnTo>
                    <a:lnTo>
                      <a:pt x="129" y="47"/>
                    </a:lnTo>
                    <a:lnTo>
                      <a:pt x="108" y="58"/>
                    </a:lnTo>
                    <a:lnTo>
                      <a:pt x="108" y="82"/>
                    </a:lnTo>
                    <a:lnTo>
                      <a:pt x="129" y="93"/>
                    </a:lnTo>
                    <a:close/>
                    <a:moveTo>
                      <a:pt x="181" y="93"/>
                    </a:moveTo>
                    <a:lnTo>
                      <a:pt x="202" y="82"/>
                    </a:lnTo>
                    <a:lnTo>
                      <a:pt x="202" y="58"/>
                    </a:lnTo>
                    <a:lnTo>
                      <a:pt x="181" y="47"/>
                    </a:lnTo>
                    <a:lnTo>
                      <a:pt x="161" y="58"/>
                    </a:lnTo>
                    <a:lnTo>
                      <a:pt x="161" y="82"/>
                    </a:lnTo>
                    <a:lnTo>
                      <a:pt x="181" y="93"/>
                    </a:lnTo>
                    <a:close/>
                    <a:moveTo>
                      <a:pt x="237" y="93"/>
                    </a:moveTo>
                    <a:lnTo>
                      <a:pt x="257" y="82"/>
                    </a:lnTo>
                    <a:lnTo>
                      <a:pt x="257" y="58"/>
                    </a:lnTo>
                    <a:lnTo>
                      <a:pt x="237" y="47"/>
                    </a:lnTo>
                    <a:lnTo>
                      <a:pt x="217" y="58"/>
                    </a:lnTo>
                    <a:lnTo>
                      <a:pt x="217" y="82"/>
                    </a:lnTo>
                    <a:lnTo>
                      <a:pt x="237" y="93"/>
                    </a:lnTo>
                    <a:close/>
                    <a:moveTo>
                      <a:pt x="289" y="93"/>
                    </a:moveTo>
                    <a:lnTo>
                      <a:pt x="312" y="82"/>
                    </a:lnTo>
                    <a:lnTo>
                      <a:pt x="312" y="58"/>
                    </a:lnTo>
                    <a:lnTo>
                      <a:pt x="289" y="47"/>
                    </a:lnTo>
                    <a:lnTo>
                      <a:pt x="269" y="58"/>
                    </a:lnTo>
                    <a:lnTo>
                      <a:pt x="269" y="82"/>
                    </a:lnTo>
                    <a:lnTo>
                      <a:pt x="289" y="93"/>
                    </a:lnTo>
                    <a:close/>
                    <a:moveTo>
                      <a:pt x="47" y="47"/>
                    </a:moveTo>
                    <a:lnTo>
                      <a:pt x="67" y="35"/>
                    </a:lnTo>
                    <a:lnTo>
                      <a:pt x="67" y="11"/>
                    </a:lnTo>
                    <a:lnTo>
                      <a:pt x="47" y="0"/>
                    </a:lnTo>
                    <a:lnTo>
                      <a:pt x="26" y="11"/>
                    </a:lnTo>
                    <a:lnTo>
                      <a:pt x="26" y="35"/>
                    </a:lnTo>
                    <a:lnTo>
                      <a:pt x="47" y="47"/>
                    </a:lnTo>
                    <a:close/>
                    <a:moveTo>
                      <a:pt x="100" y="47"/>
                    </a:moveTo>
                    <a:lnTo>
                      <a:pt x="120" y="35"/>
                    </a:lnTo>
                    <a:lnTo>
                      <a:pt x="120" y="11"/>
                    </a:lnTo>
                    <a:lnTo>
                      <a:pt x="100" y="0"/>
                    </a:lnTo>
                    <a:lnTo>
                      <a:pt x="81" y="11"/>
                    </a:lnTo>
                    <a:lnTo>
                      <a:pt x="81" y="35"/>
                    </a:lnTo>
                    <a:lnTo>
                      <a:pt x="100" y="47"/>
                    </a:lnTo>
                    <a:close/>
                    <a:moveTo>
                      <a:pt x="155" y="47"/>
                    </a:moveTo>
                    <a:lnTo>
                      <a:pt x="175" y="35"/>
                    </a:lnTo>
                    <a:lnTo>
                      <a:pt x="175" y="11"/>
                    </a:lnTo>
                    <a:lnTo>
                      <a:pt x="155" y="0"/>
                    </a:lnTo>
                    <a:lnTo>
                      <a:pt x="135" y="11"/>
                    </a:lnTo>
                    <a:lnTo>
                      <a:pt x="135" y="35"/>
                    </a:lnTo>
                    <a:lnTo>
                      <a:pt x="155" y="47"/>
                    </a:lnTo>
                    <a:close/>
                    <a:moveTo>
                      <a:pt x="208" y="47"/>
                    </a:moveTo>
                    <a:lnTo>
                      <a:pt x="230" y="35"/>
                    </a:lnTo>
                    <a:lnTo>
                      <a:pt x="230" y="11"/>
                    </a:lnTo>
                    <a:lnTo>
                      <a:pt x="208" y="0"/>
                    </a:lnTo>
                    <a:lnTo>
                      <a:pt x="188" y="11"/>
                    </a:lnTo>
                    <a:lnTo>
                      <a:pt x="188" y="35"/>
                    </a:lnTo>
                    <a:lnTo>
                      <a:pt x="208" y="47"/>
                    </a:lnTo>
                    <a:close/>
                    <a:moveTo>
                      <a:pt x="263" y="47"/>
                    </a:moveTo>
                    <a:lnTo>
                      <a:pt x="283" y="35"/>
                    </a:lnTo>
                    <a:lnTo>
                      <a:pt x="283" y="11"/>
                    </a:lnTo>
                    <a:lnTo>
                      <a:pt x="263" y="0"/>
                    </a:lnTo>
                    <a:lnTo>
                      <a:pt x="243" y="11"/>
                    </a:lnTo>
                    <a:lnTo>
                      <a:pt x="243" y="35"/>
                    </a:lnTo>
                    <a:lnTo>
                      <a:pt x="263" y="47"/>
                    </a:lnTo>
                    <a:close/>
                    <a:moveTo>
                      <a:pt x="47" y="422"/>
                    </a:moveTo>
                    <a:lnTo>
                      <a:pt x="67" y="408"/>
                    </a:lnTo>
                    <a:lnTo>
                      <a:pt x="67" y="386"/>
                    </a:lnTo>
                    <a:lnTo>
                      <a:pt x="47" y="375"/>
                    </a:lnTo>
                    <a:lnTo>
                      <a:pt x="26" y="386"/>
                    </a:lnTo>
                    <a:lnTo>
                      <a:pt x="26" y="408"/>
                    </a:lnTo>
                    <a:lnTo>
                      <a:pt x="47" y="422"/>
                    </a:lnTo>
                    <a:close/>
                    <a:moveTo>
                      <a:pt x="100" y="422"/>
                    </a:moveTo>
                    <a:lnTo>
                      <a:pt x="120" y="408"/>
                    </a:lnTo>
                    <a:lnTo>
                      <a:pt x="120" y="386"/>
                    </a:lnTo>
                    <a:lnTo>
                      <a:pt x="100" y="375"/>
                    </a:lnTo>
                    <a:lnTo>
                      <a:pt x="81" y="386"/>
                    </a:lnTo>
                    <a:lnTo>
                      <a:pt x="81" y="408"/>
                    </a:lnTo>
                    <a:lnTo>
                      <a:pt x="100" y="422"/>
                    </a:lnTo>
                    <a:close/>
                    <a:moveTo>
                      <a:pt x="155" y="422"/>
                    </a:moveTo>
                    <a:lnTo>
                      <a:pt x="175" y="408"/>
                    </a:lnTo>
                    <a:lnTo>
                      <a:pt x="175" y="386"/>
                    </a:lnTo>
                    <a:lnTo>
                      <a:pt x="155" y="375"/>
                    </a:lnTo>
                    <a:lnTo>
                      <a:pt x="135" y="386"/>
                    </a:lnTo>
                    <a:lnTo>
                      <a:pt x="135" y="408"/>
                    </a:lnTo>
                    <a:lnTo>
                      <a:pt x="155" y="422"/>
                    </a:lnTo>
                    <a:close/>
                    <a:moveTo>
                      <a:pt x="208" y="422"/>
                    </a:moveTo>
                    <a:lnTo>
                      <a:pt x="230" y="408"/>
                    </a:lnTo>
                    <a:lnTo>
                      <a:pt x="230" y="386"/>
                    </a:lnTo>
                    <a:lnTo>
                      <a:pt x="208" y="375"/>
                    </a:lnTo>
                    <a:lnTo>
                      <a:pt x="188" y="386"/>
                    </a:lnTo>
                    <a:lnTo>
                      <a:pt x="188" y="408"/>
                    </a:lnTo>
                    <a:lnTo>
                      <a:pt x="208" y="422"/>
                    </a:lnTo>
                    <a:close/>
                    <a:moveTo>
                      <a:pt x="263" y="422"/>
                    </a:moveTo>
                    <a:lnTo>
                      <a:pt x="283" y="408"/>
                    </a:lnTo>
                    <a:lnTo>
                      <a:pt x="283" y="386"/>
                    </a:lnTo>
                    <a:lnTo>
                      <a:pt x="263" y="375"/>
                    </a:lnTo>
                    <a:lnTo>
                      <a:pt x="243" y="386"/>
                    </a:lnTo>
                    <a:lnTo>
                      <a:pt x="243" y="408"/>
                    </a:lnTo>
                    <a:lnTo>
                      <a:pt x="263" y="422"/>
                    </a:lnTo>
                    <a:close/>
                    <a:moveTo>
                      <a:pt x="318" y="422"/>
                    </a:moveTo>
                    <a:lnTo>
                      <a:pt x="338" y="408"/>
                    </a:lnTo>
                    <a:lnTo>
                      <a:pt x="338" y="386"/>
                    </a:lnTo>
                    <a:lnTo>
                      <a:pt x="318" y="375"/>
                    </a:lnTo>
                    <a:lnTo>
                      <a:pt x="298" y="386"/>
                    </a:lnTo>
                    <a:lnTo>
                      <a:pt x="298" y="408"/>
                    </a:lnTo>
                    <a:lnTo>
                      <a:pt x="318" y="422"/>
                    </a:lnTo>
                    <a:close/>
                    <a:moveTo>
                      <a:pt x="20" y="375"/>
                    </a:moveTo>
                    <a:lnTo>
                      <a:pt x="39" y="361"/>
                    </a:lnTo>
                    <a:lnTo>
                      <a:pt x="39" y="339"/>
                    </a:lnTo>
                    <a:lnTo>
                      <a:pt x="20" y="328"/>
                    </a:lnTo>
                    <a:lnTo>
                      <a:pt x="0" y="339"/>
                    </a:lnTo>
                    <a:lnTo>
                      <a:pt x="0" y="361"/>
                    </a:lnTo>
                    <a:lnTo>
                      <a:pt x="20" y="375"/>
                    </a:lnTo>
                    <a:close/>
                    <a:moveTo>
                      <a:pt x="74" y="375"/>
                    </a:moveTo>
                    <a:lnTo>
                      <a:pt x="94" y="361"/>
                    </a:lnTo>
                    <a:lnTo>
                      <a:pt x="94" y="339"/>
                    </a:lnTo>
                    <a:lnTo>
                      <a:pt x="74" y="328"/>
                    </a:lnTo>
                    <a:lnTo>
                      <a:pt x="55" y="339"/>
                    </a:lnTo>
                    <a:lnTo>
                      <a:pt x="55" y="361"/>
                    </a:lnTo>
                    <a:lnTo>
                      <a:pt x="74" y="375"/>
                    </a:lnTo>
                    <a:close/>
                    <a:moveTo>
                      <a:pt x="129" y="375"/>
                    </a:moveTo>
                    <a:lnTo>
                      <a:pt x="149" y="361"/>
                    </a:lnTo>
                    <a:lnTo>
                      <a:pt x="149" y="339"/>
                    </a:lnTo>
                    <a:lnTo>
                      <a:pt x="129" y="328"/>
                    </a:lnTo>
                    <a:lnTo>
                      <a:pt x="108" y="339"/>
                    </a:lnTo>
                    <a:lnTo>
                      <a:pt x="108" y="361"/>
                    </a:lnTo>
                    <a:lnTo>
                      <a:pt x="129" y="375"/>
                    </a:lnTo>
                    <a:close/>
                    <a:moveTo>
                      <a:pt x="181" y="375"/>
                    </a:moveTo>
                    <a:lnTo>
                      <a:pt x="202" y="361"/>
                    </a:lnTo>
                    <a:lnTo>
                      <a:pt x="202" y="339"/>
                    </a:lnTo>
                    <a:lnTo>
                      <a:pt x="181" y="328"/>
                    </a:lnTo>
                    <a:lnTo>
                      <a:pt x="161" y="339"/>
                    </a:lnTo>
                    <a:lnTo>
                      <a:pt x="161" y="361"/>
                    </a:lnTo>
                    <a:lnTo>
                      <a:pt x="181" y="375"/>
                    </a:lnTo>
                    <a:close/>
                    <a:moveTo>
                      <a:pt x="237" y="375"/>
                    </a:moveTo>
                    <a:lnTo>
                      <a:pt x="257" y="361"/>
                    </a:lnTo>
                    <a:lnTo>
                      <a:pt x="257" y="339"/>
                    </a:lnTo>
                    <a:lnTo>
                      <a:pt x="237" y="328"/>
                    </a:lnTo>
                    <a:lnTo>
                      <a:pt x="217" y="339"/>
                    </a:lnTo>
                    <a:lnTo>
                      <a:pt x="217" y="361"/>
                    </a:lnTo>
                    <a:lnTo>
                      <a:pt x="237" y="375"/>
                    </a:lnTo>
                    <a:close/>
                    <a:moveTo>
                      <a:pt x="289" y="375"/>
                    </a:moveTo>
                    <a:lnTo>
                      <a:pt x="312" y="361"/>
                    </a:lnTo>
                    <a:lnTo>
                      <a:pt x="312" y="339"/>
                    </a:lnTo>
                    <a:lnTo>
                      <a:pt x="289" y="328"/>
                    </a:lnTo>
                    <a:lnTo>
                      <a:pt x="269" y="339"/>
                    </a:lnTo>
                    <a:lnTo>
                      <a:pt x="269" y="361"/>
                    </a:lnTo>
                    <a:lnTo>
                      <a:pt x="289" y="375"/>
                    </a:lnTo>
                    <a:close/>
                    <a:moveTo>
                      <a:pt x="47" y="326"/>
                    </a:moveTo>
                    <a:lnTo>
                      <a:pt x="67" y="314"/>
                    </a:lnTo>
                    <a:lnTo>
                      <a:pt x="67" y="293"/>
                    </a:lnTo>
                    <a:lnTo>
                      <a:pt x="47" y="281"/>
                    </a:lnTo>
                    <a:lnTo>
                      <a:pt x="26" y="293"/>
                    </a:lnTo>
                    <a:lnTo>
                      <a:pt x="26" y="314"/>
                    </a:lnTo>
                    <a:lnTo>
                      <a:pt x="47" y="326"/>
                    </a:lnTo>
                    <a:close/>
                    <a:moveTo>
                      <a:pt x="100" y="326"/>
                    </a:moveTo>
                    <a:lnTo>
                      <a:pt x="120" y="314"/>
                    </a:lnTo>
                    <a:lnTo>
                      <a:pt x="120" y="293"/>
                    </a:lnTo>
                    <a:lnTo>
                      <a:pt x="100" y="281"/>
                    </a:lnTo>
                    <a:lnTo>
                      <a:pt x="81" y="293"/>
                    </a:lnTo>
                    <a:lnTo>
                      <a:pt x="81" y="314"/>
                    </a:lnTo>
                    <a:lnTo>
                      <a:pt x="100" y="326"/>
                    </a:lnTo>
                    <a:close/>
                    <a:moveTo>
                      <a:pt x="155" y="326"/>
                    </a:moveTo>
                    <a:lnTo>
                      <a:pt x="175" y="314"/>
                    </a:lnTo>
                    <a:lnTo>
                      <a:pt x="175" y="293"/>
                    </a:lnTo>
                    <a:lnTo>
                      <a:pt x="155" y="281"/>
                    </a:lnTo>
                    <a:lnTo>
                      <a:pt x="135" y="293"/>
                    </a:lnTo>
                    <a:lnTo>
                      <a:pt x="135" y="314"/>
                    </a:lnTo>
                    <a:lnTo>
                      <a:pt x="155" y="326"/>
                    </a:lnTo>
                    <a:close/>
                    <a:moveTo>
                      <a:pt x="208" y="326"/>
                    </a:moveTo>
                    <a:lnTo>
                      <a:pt x="230" y="314"/>
                    </a:lnTo>
                    <a:lnTo>
                      <a:pt x="230" y="293"/>
                    </a:lnTo>
                    <a:lnTo>
                      <a:pt x="208" y="281"/>
                    </a:lnTo>
                    <a:lnTo>
                      <a:pt x="188" y="293"/>
                    </a:lnTo>
                    <a:lnTo>
                      <a:pt x="188" y="314"/>
                    </a:lnTo>
                    <a:lnTo>
                      <a:pt x="208" y="326"/>
                    </a:lnTo>
                    <a:close/>
                    <a:moveTo>
                      <a:pt x="263" y="326"/>
                    </a:moveTo>
                    <a:lnTo>
                      <a:pt x="283" y="314"/>
                    </a:lnTo>
                    <a:lnTo>
                      <a:pt x="283" y="293"/>
                    </a:lnTo>
                    <a:lnTo>
                      <a:pt x="263" y="281"/>
                    </a:lnTo>
                    <a:lnTo>
                      <a:pt x="243" y="293"/>
                    </a:lnTo>
                    <a:lnTo>
                      <a:pt x="243" y="314"/>
                    </a:lnTo>
                    <a:lnTo>
                      <a:pt x="263" y="326"/>
                    </a:lnTo>
                    <a:close/>
                    <a:moveTo>
                      <a:pt x="318" y="326"/>
                    </a:moveTo>
                    <a:lnTo>
                      <a:pt x="338" y="314"/>
                    </a:lnTo>
                    <a:lnTo>
                      <a:pt x="338" y="293"/>
                    </a:lnTo>
                    <a:lnTo>
                      <a:pt x="318" y="281"/>
                    </a:lnTo>
                    <a:lnTo>
                      <a:pt x="298" y="293"/>
                    </a:lnTo>
                    <a:lnTo>
                      <a:pt x="298" y="314"/>
                    </a:lnTo>
                    <a:lnTo>
                      <a:pt x="318" y="326"/>
                    </a:lnTo>
                    <a:close/>
                    <a:moveTo>
                      <a:pt x="371" y="514"/>
                    </a:moveTo>
                    <a:lnTo>
                      <a:pt x="392" y="504"/>
                    </a:lnTo>
                    <a:lnTo>
                      <a:pt x="392" y="478"/>
                    </a:lnTo>
                    <a:lnTo>
                      <a:pt x="371" y="468"/>
                    </a:lnTo>
                    <a:lnTo>
                      <a:pt x="351" y="478"/>
                    </a:lnTo>
                    <a:lnTo>
                      <a:pt x="351" y="504"/>
                    </a:lnTo>
                    <a:lnTo>
                      <a:pt x="371" y="514"/>
                    </a:lnTo>
                    <a:close/>
                    <a:moveTo>
                      <a:pt x="426" y="514"/>
                    </a:moveTo>
                    <a:lnTo>
                      <a:pt x="445" y="504"/>
                    </a:lnTo>
                    <a:lnTo>
                      <a:pt x="445" y="478"/>
                    </a:lnTo>
                    <a:lnTo>
                      <a:pt x="426" y="468"/>
                    </a:lnTo>
                    <a:lnTo>
                      <a:pt x="406" y="478"/>
                    </a:lnTo>
                    <a:lnTo>
                      <a:pt x="406" y="504"/>
                    </a:lnTo>
                    <a:lnTo>
                      <a:pt x="426" y="514"/>
                    </a:lnTo>
                    <a:close/>
                    <a:moveTo>
                      <a:pt x="480" y="514"/>
                    </a:moveTo>
                    <a:lnTo>
                      <a:pt x="500" y="504"/>
                    </a:lnTo>
                    <a:lnTo>
                      <a:pt x="500" y="478"/>
                    </a:lnTo>
                    <a:lnTo>
                      <a:pt x="480" y="468"/>
                    </a:lnTo>
                    <a:lnTo>
                      <a:pt x="458" y="478"/>
                    </a:lnTo>
                    <a:lnTo>
                      <a:pt x="458" y="504"/>
                    </a:lnTo>
                    <a:lnTo>
                      <a:pt x="480" y="514"/>
                    </a:lnTo>
                    <a:close/>
                    <a:moveTo>
                      <a:pt x="532" y="514"/>
                    </a:moveTo>
                    <a:lnTo>
                      <a:pt x="552" y="504"/>
                    </a:lnTo>
                    <a:lnTo>
                      <a:pt x="552" y="478"/>
                    </a:lnTo>
                    <a:lnTo>
                      <a:pt x="532" y="468"/>
                    </a:lnTo>
                    <a:lnTo>
                      <a:pt x="514" y="478"/>
                    </a:lnTo>
                    <a:lnTo>
                      <a:pt x="514" y="504"/>
                    </a:lnTo>
                    <a:lnTo>
                      <a:pt x="532" y="514"/>
                    </a:lnTo>
                    <a:close/>
                    <a:moveTo>
                      <a:pt x="586" y="514"/>
                    </a:moveTo>
                    <a:lnTo>
                      <a:pt x="608" y="504"/>
                    </a:lnTo>
                    <a:lnTo>
                      <a:pt x="608" y="478"/>
                    </a:lnTo>
                    <a:lnTo>
                      <a:pt x="586" y="468"/>
                    </a:lnTo>
                    <a:lnTo>
                      <a:pt x="566" y="478"/>
                    </a:lnTo>
                    <a:lnTo>
                      <a:pt x="566" y="504"/>
                    </a:lnTo>
                    <a:lnTo>
                      <a:pt x="586" y="514"/>
                    </a:lnTo>
                    <a:close/>
                    <a:moveTo>
                      <a:pt x="452" y="468"/>
                    </a:moveTo>
                    <a:lnTo>
                      <a:pt x="473" y="454"/>
                    </a:lnTo>
                    <a:lnTo>
                      <a:pt x="473" y="432"/>
                    </a:lnTo>
                    <a:lnTo>
                      <a:pt x="452" y="422"/>
                    </a:lnTo>
                    <a:lnTo>
                      <a:pt x="432" y="432"/>
                    </a:lnTo>
                    <a:lnTo>
                      <a:pt x="432" y="454"/>
                    </a:lnTo>
                    <a:lnTo>
                      <a:pt x="452" y="468"/>
                    </a:lnTo>
                    <a:close/>
                    <a:moveTo>
                      <a:pt x="505" y="468"/>
                    </a:moveTo>
                    <a:lnTo>
                      <a:pt x="526" y="454"/>
                    </a:lnTo>
                    <a:lnTo>
                      <a:pt x="526" y="432"/>
                    </a:lnTo>
                    <a:lnTo>
                      <a:pt x="505" y="422"/>
                    </a:lnTo>
                    <a:lnTo>
                      <a:pt x="485" y="432"/>
                    </a:lnTo>
                    <a:lnTo>
                      <a:pt x="485" y="454"/>
                    </a:lnTo>
                    <a:lnTo>
                      <a:pt x="505" y="468"/>
                    </a:lnTo>
                    <a:close/>
                    <a:moveTo>
                      <a:pt x="560" y="468"/>
                    </a:moveTo>
                    <a:lnTo>
                      <a:pt x="579" y="454"/>
                    </a:lnTo>
                    <a:lnTo>
                      <a:pt x="579" y="432"/>
                    </a:lnTo>
                    <a:lnTo>
                      <a:pt x="560" y="422"/>
                    </a:lnTo>
                    <a:lnTo>
                      <a:pt x="540" y="432"/>
                    </a:lnTo>
                    <a:lnTo>
                      <a:pt x="540" y="454"/>
                    </a:lnTo>
                    <a:lnTo>
                      <a:pt x="560" y="468"/>
                    </a:lnTo>
                    <a:close/>
                    <a:moveTo>
                      <a:pt x="344" y="468"/>
                    </a:moveTo>
                    <a:lnTo>
                      <a:pt x="364" y="454"/>
                    </a:lnTo>
                    <a:lnTo>
                      <a:pt x="364" y="432"/>
                    </a:lnTo>
                    <a:lnTo>
                      <a:pt x="344" y="422"/>
                    </a:lnTo>
                    <a:lnTo>
                      <a:pt x="324" y="432"/>
                    </a:lnTo>
                    <a:lnTo>
                      <a:pt x="324" y="454"/>
                    </a:lnTo>
                    <a:lnTo>
                      <a:pt x="344" y="468"/>
                    </a:lnTo>
                    <a:close/>
                    <a:moveTo>
                      <a:pt x="400" y="468"/>
                    </a:moveTo>
                    <a:lnTo>
                      <a:pt x="418" y="454"/>
                    </a:lnTo>
                    <a:lnTo>
                      <a:pt x="418" y="432"/>
                    </a:lnTo>
                    <a:lnTo>
                      <a:pt x="400" y="422"/>
                    </a:lnTo>
                    <a:lnTo>
                      <a:pt x="379" y="432"/>
                    </a:lnTo>
                    <a:lnTo>
                      <a:pt x="379" y="454"/>
                    </a:lnTo>
                    <a:lnTo>
                      <a:pt x="400" y="468"/>
                    </a:lnTo>
                    <a:close/>
                    <a:moveTo>
                      <a:pt x="560" y="279"/>
                    </a:moveTo>
                    <a:lnTo>
                      <a:pt x="579" y="269"/>
                    </a:lnTo>
                    <a:lnTo>
                      <a:pt x="579" y="246"/>
                    </a:lnTo>
                    <a:lnTo>
                      <a:pt x="560" y="233"/>
                    </a:lnTo>
                    <a:lnTo>
                      <a:pt x="540" y="246"/>
                    </a:lnTo>
                    <a:lnTo>
                      <a:pt x="540" y="269"/>
                    </a:lnTo>
                    <a:lnTo>
                      <a:pt x="560" y="279"/>
                    </a:lnTo>
                    <a:close/>
                    <a:moveTo>
                      <a:pt x="344" y="279"/>
                    </a:moveTo>
                    <a:lnTo>
                      <a:pt x="364" y="269"/>
                    </a:lnTo>
                    <a:lnTo>
                      <a:pt x="364" y="246"/>
                    </a:lnTo>
                    <a:lnTo>
                      <a:pt x="344" y="233"/>
                    </a:lnTo>
                    <a:lnTo>
                      <a:pt x="324" y="246"/>
                    </a:lnTo>
                    <a:lnTo>
                      <a:pt x="324" y="269"/>
                    </a:lnTo>
                    <a:lnTo>
                      <a:pt x="344" y="279"/>
                    </a:lnTo>
                    <a:close/>
                    <a:moveTo>
                      <a:pt x="400" y="279"/>
                    </a:moveTo>
                    <a:lnTo>
                      <a:pt x="418" y="269"/>
                    </a:lnTo>
                    <a:lnTo>
                      <a:pt x="418" y="246"/>
                    </a:lnTo>
                    <a:lnTo>
                      <a:pt x="400" y="233"/>
                    </a:lnTo>
                    <a:lnTo>
                      <a:pt x="379" y="246"/>
                    </a:lnTo>
                    <a:lnTo>
                      <a:pt x="379" y="269"/>
                    </a:lnTo>
                    <a:lnTo>
                      <a:pt x="400" y="279"/>
                    </a:lnTo>
                    <a:close/>
                    <a:moveTo>
                      <a:pt x="452" y="279"/>
                    </a:moveTo>
                    <a:lnTo>
                      <a:pt x="473" y="269"/>
                    </a:lnTo>
                    <a:lnTo>
                      <a:pt x="473" y="246"/>
                    </a:lnTo>
                    <a:lnTo>
                      <a:pt x="452" y="233"/>
                    </a:lnTo>
                    <a:lnTo>
                      <a:pt x="432" y="246"/>
                    </a:lnTo>
                    <a:lnTo>
                      <a:pt x="432" y="269"/>
                    </a:lnTo>
                    <a:lnTo>
                      <a:pt x="452" y="279"/>
                    </a:lnTo>
                    <a:close/>
                    <a:moveTo>
                      <a:pt x="505" y="279"/>
                    </a:moveTo>
                    <a:lnTo>
                      <a:pt x="526" y="269"/>
                    </a:lnTo>
                    <a:lnTo>
                      <a:pt x="526" y="246"/>
                    </a:lnTo>
                    <a:lnTo>
                      <a:pt x="505" y="233"/>
                    </a:lnTo>
                    <a:lnTo>
                      <a:pt x="485" y="246"/>
                    </a:lnTo>
                    <a:lnTo>
                      <a:pt x="485" y="269"/>
                    </a:lnTo>
                    <a:lnTo>
                      <a:pt x="505" y="279"/>
                    </a:lnTo>
                    <a:close/>
                    <a:moveTo>
                      <a:pt x="371" y="233"/>
                    </a:moveTo>
                    <a:lnTo>
                      <a:pt x="392" y="222"/>
                    </a:lnTo>
                    <a:lnTo>
                      <a:pt x="392" y="199"/>
                    </a:lnTo>
                    <a:lnTo>
                      <a:pt x="371" y="187"/>
                    </a:lnTo>
                    <a:lnTo>
                      <a:pt x="351" y="199"/>
                    </a:lnTo>
                    <a:lnTo>
                      <a:pt x="351" y="222"/>
                    </a:lnTo>
                    <a:lnTo>
                      <a:pt x="371" y="233"/>
                    </a:lnTo>
                    <a:close/>
                    <a:moveTo>
                      <a:pt x="426" y="233"/>
                    </a:moveTo>
                    <a:lnTo>
                      <a:pt x="445" y="222"/>
                    </a:lnTo>
                    <a:lnTo>
                      <a:pt x="445" y="199"/>
                    </a:lnTo>
                    <a:lnTo>
                      <a:pt x="426" y="187"/>
                    </a:lnTo>
                    <a:lnTo>
                      <a:pt x="406" y="199"/>
                    </a:lnTo>
                    <a:lnTo>
                      <a:pt x="406" y="222"/>
                    </a:lnTo>
                    <a:lnTo>
                      <a:pt x="426" y="233"/>
                    </a:lnTo>
                    <a:close/>
                    <a:moveTo>
                      <a:pt x="480" y="233"/>
                    </a:moveTo>
                    <a:lnTo>
                      <a:pt x="500" y="222"/>
                    </a:lnTo>
                    <a:lnTo>
                      <a:pt x="500" y="199"/>
                    </a:lnTo>
                    <a:lnTo>
                      <a:pt x="480" y="187"/>
                    </a:lnTo>
                    <a:lnTo>
                      <a:pt x="458" y="199"/>
                    </a:lnTo>
                    <a:lnTo>
                      <a:pt x="458" y="222"/>
                    </a:lnTo>
                    <a:lnTo>
                      <a:pt x="480" y="233"/>
                    </a:lnTo>
                    <a:close/>
                    <a:moveTo>
                      <a:pt x="532" y="233"/>
                    </a:moveTo>
                    <a:lnTo>
                      <a:pt x="552" y="222"/>
                    </a:lnTo>
                    <a:lnTo>
                      <a:pt x="552" y="199"/>
                    </a:lnTo>
                    <a:lnTo>
                      <a:pt x="532" y="187"/>
                    </a:lnTo>
                    <a:lnTo>
                      <a:pt x="514" y="199"/>
                    </a:lnTo>
                    <a:lnTo>
                      <a:pt x="514" y="222"/>
                    </a:lnTo>
                    <a:lnTo>
                      <a:pt x="532" y="233"/>
                    </a:lnTo>
                    <a:close/>
                    <a:moveTo>
                      <a:pt x="344" y="187"/>
                    </a:moveTo>
                    <a:lnTo>
                      <a:pt x="364" y="175"/>
                    </a:lnTo>
                    <a:lnTo>
                      <a:pt x="364" y="153"/>
                    </a:lnTo>
                    <a:lnTo>
                      <a:pt x="344" y="140"/>
                    </a:lnTo>
                    <a:lnTo>
                      <a:pt x="324" y="153"/>
                    </a:lnTo>
                    <a:lnTo>
                      <a:pt x="324" y="175"/>
                    </a:lnTo>
                    <a:lnTo>
                      <a:pt x="344" y="187"/>
                    </a:lnTo>
                    <a:close/>
                    <a:moveTo>
                      <a:pt x="400" y="187"/>
                    </a:moveTo>
                    <a:lnTo>
                      <a:pt x="418" y="175"/>
                    </a:lnTo>
                    <a:lnTo>
                      <a:pt x="418" y="153"/>
                    </a:lnTo>
                    <a:lnTo>
                      <a:pt x="400" y="140"/>
                    </a:lnTo>
                    <a:lnTo>
                      <a:pt x="379" y="153"/>
                    </a:lnTo>
                    <a:lnTo>
                      <a:pt x="379" y="175"/>
                    </a:lnTo>
                    <a:lnTo>
                      <a:pt x="400" y="187"/>
                    </a:lnTo>
                    <a:close/>
                    <a:moveTo>
                      <a:pt x="452" y="187"/>
                    </a:moveTo>
                    <a:lnTo>
                      <a:pt x="473" y="175"/>
                    </a:lnTo>
                    <a:lnTo>
                      <a:pt x="473" y="153"/>
                    </a:lnTo>
                    <a:lnTo>
                      <a:pt x="452" y="140"/>
                    </a:lnTo>
                    <a:lnTo>
                      <a:pt x="432" y="153"/>
                    </a:lnTo>
                    <a:lnTo>
                      <a:pt x="432" y="175"/>
                    </a:lnTo>
                    <a:lnTo>
                      <a:pt x="452" y="187"/>
                    </a:lnTo>
                    <a:close/>
                    <a:moveTo>
                      <a:pt x="505" y="187"/>
                    </a:moveTo>
                    <a:lnTo>
                      <a:pt x="526" y="175"/>
                    </a:lnTo>
                    <a:lnTo>
                      <a:pt x="526" y="153"/>
                    </a:lnTo>
                    <a:lnTo>
                      <a:pt x="505" y="140"/>
                    </a:lnTo>
                    <a:lnTo>
                      <a:pt x="485" y="153"/>
                    </a:lnTo>
                    <a:lnTo>
                      <a:pt x="485" y="175"/>
                    </a:lnTo>
                    <a:lnTo>
                      <a:pt x="505" y="187"/>
                    </a:lnTo>
                    <a:close/>
                    <a:moveTo>
                      <a:pt x="560" y="187"/>
                    </a:moveTo>
                    <a:lnTo>
                      <a:pt x="579" y="175"/>
                    </a:lnTo>
                    <a:lnTo>
                      <a:pt x="579" y="153"/>
                    </a:lnTo>
                    <a:lnTo>
                      <a:pt x="560" y="140"/>
                    </a:lnTo>
                    <a:lnTo>
                      <a:pt x="540" y="153"/>
                    </a:lnTo>
                    <a:lnTo>
                      <a:pt x="540" y="175"/>
                    </a:lnTo>
                    <a:lnTo>
                      <a:pt x="560" y="187"/>
                    </a:lnTo>
                    <a:close/>
                    <a:moveTo>
                      <a:pt x="480" y="422"/>
                    </a:moveTo>
                    <a:lnTo>
                      <a:pt x="500" y="408"/>
                    </a:lnTo>
                    <a:lnTo>
                      <a:pt x="500" y="386"/>
                    </a:lnTo>
                    <a:lnTo>
                      <a:pt x="480" y="375"/>
                    </a:lnTo>
                    <a:lnTo>
                      <a:pt x="458" y="386"/>
                    </a:lnTo>
                    <a:lnTo>
                      <a:pt x="458" y="408"/>
                    </a:lnTo>
                    <a:lnTo>
                      <a:pt x="480" y="422"/>
                    </a:lnTo>
                    <a:close/>
                    <a:moveTo>
                      <a:pt x="532" y="422"/>
                    </a:moveTo>
                    <a:lnTo>
                      <a:pt x="552" y="408"/>
                    </a:lnTo>
                    <a:lnTo>
                      <a:pt x="552" y="386"/>
                    </a:lnTo>
                    <a:lnTo>
                      <a:pt x="532" y="375"/>
                    </a:lnTo>
                    <a:lnTo>
                      <a:pt x="514" y="386"/>
                    </a:lnTo>
                    <a:lnTo>
                      <a:pt x="514" y="408"/>
                    </a:lnTo>
                    <a:lnTo>
                      <a:pt x="532" y="422"/>
                    </a:lnTo>
                    <a:close/>
                    <a:moveTo>
                      <a:pt x="586" y="422"/>
                    </a:moveTo>
                    <a:lnTo>
                      <a:pt x="608" y="408"/>
                    </a:lnTo>
                    <a:lnTo>
                      <a:pt x="608" y="386"/>
                    </a:lnTo>
                    <a:lnTo>
                      <a:pt x="586" y="375"/>
                    </a:lnTo>
                    <a:lnTo>
                      <a:pt x="566" y="386"/>
                    </a:lnTo>
                    <a:lnTo>
                      <a:pt x="566" y="408"/>
                    </a:lnTo>
                    <a:lnTo>
                      <a:pt x="586" y="422"/>
                    </a:lnTo>
                    <a:close/>
                    <a:moveTo>
                      <a:pt x="371" y="422"/>
                    </a:moveTo>
                    <a:lnTo>
                      <a:pt x="392" y="408"/>
                    </a:lnTo>
                    <a:lnTo>
                      <a:pt x="392" y="386"/>
                    </a:lnTo>
                    <a:lnTo>
                      <a:pt x="371" y="375"/>
                    </a:lnTo>
                    <a:lnTo>
                      <a:pt x="351" y="386"/>
                    </a:lnTo>
                    <a:lnTo>
                      <a:pt x="351" y="408"/>
                    </a:lnTo>
                    <a:lnTo>
                      <a:pt x="371" y="422"/>
                    </a:lnTo>
                    <a:close/>
                    <a:moveTo>
                      <a:pt x="426" y="422"/>
                    </a:moveTo>
                    <a:lnTo>
                      <a:pt x="445" y="408"/>
                    </a:lnTo>
                    <a:lnTo>
                      <a:pt x="445" y="386"/>
                    </a:lnTo>
                    <a:lnTo>
                      <a:pt x="426" y="375"/>
                    </a:lnTo>
                    <a:lnTo>
                      <a:pt x="406" y="386"/>
                    </a:lnTo>
                    <a:lnTo>
                      <a:pt x="406" y="408"/>
                    </a:lnTo>
                    <a:lnTo>
                      <a:pt x="426" y="422"/>
                    </a:lnTo>
                    <a:close/>
                    <a:moveTo>
                      <a:pt x="400" y="375"/>
                    </a:moveTo>
                    <a:lnTo>
                      <a:pt x="418" y="361"/>
                    </a:lnTo>
                    <a:lnTo>
                      <a:pt x="418" y="339"/>
                    </a:lnTo>
                    <a:lnTo>
                      <a:pt x="400" y="328"/>
                    </a:lnTo>
                    <a:lnTo>
                      <a:pt x="379" y="339"/>
                    </a:lnTo>
                    <a:lnTo>
                      <a:pt x="379" y="361"/>
                    </a:lnTo>
                    <a:lnTo>
                      <a:pt x="400" y="375"/>
                    </a:lnTo>
                    <a:close/>
                    <a:moveTo>
                      <a:pt x="452" y="375"/>
                    </a:moveTo>
                    <a:lnTo>
                      <a:pt x="473" y="361"/>
                    </a:lnTo>
                    <a:lnTo>
                      <a:pt x="473" y="339"/>
                    </a:lnTo>
                    <a:lnTo>
                      <a:pt x="452" y="328"/>
                    </a:lnTo>
                    <a:lnTo>
                      <a:pt x="432" y="339"/>
                    </a:lnTo>
                    <a:lnTo>
                      <a:pt x="432" y="361"/>
                    </a:lnTo>
                    <a:lnTo>
                      <a:pt x="452" y="375"/>
                    </a:lnTo>
                    <a:close/>
                    <a:moveTo>
                      <a:pt x="505" y="375"/>
                    </a:moveTo>
                    <a:lnTo>
                      <a:pt x="526" y="361"/>
                    </a:lnTo>
                    <a:lnTo>
                      <a:pt x="526" y="339"/>
                    </a:lnTo>
                    <a:lnTo>
                      <a:pt x="505" y="328"/>
                    </a:lnTo>
                    <a:lnTo>
                      <a:pt x="485" y="339"/>
                    </a:lnTo>
                    <a:lnTo>
                      <a:pt x="485" y="361"/>
                    </a:lnTo>
                    <a:lnTo>
                      <a:pt x="505" y="375"/>
                    </a:lnTo>
                    <a:close/>
                    <a:moveTo>
                      <a:pt x="560" y="375"/>
                    </a:moveTo>
                    <a:lnTo>
                      <a:pt x="579" y="361"/>
                    </a:lnTo>
                    <a:lnTo>
                      <a:pt x="579" y="339"/>
                    </a:lnTo>
                    <a:lnTo>
                      <a:pt x="560" y="328"/>
                    </a:lnTo>
                    <a:lnTo>
                      <a:pt x="540" y="339"/>
                    </a:lnTo>
                    <a:lnTo>
                      <a:pt x="540" y="361"/>
                    </a:lnTo>
                    <a:lnTo>
                      <a:pt x="560" y="375"/>
                    </a:lnTo>
                    <a:close/>
                    <a:moveTo>
                      <a:pt x="344" y="375"/>
                    </a:moveTo>
                    <a:lnTo>
                      <a:pt x="364" y="361"/>
                    </a:lnTo>
                    <a:lnTo>
                      <a:pt x="364" y="339"/>
                    </a:lnTo>
                    <a:lnTo>
                      <a:pt x="344" y="328"/>
                    </a:lnTo>
                    <a:lnTo>
                      <a:pt x="324" y="339"/>
                    </a:lnTo>
                    <a:lnTo>
                      <a:pt x="324" y="361"/>
                    </a:lnTo>
                    <a:lnTo>
                      <a:pt x="344" y="375"/>
                    </a:lnTo>
                    <a:close/>
                    <a:moveTo>
                      <a:pt x="371" y="326"/>
                    </a:moveTo>
                    <a:lnTo>
                      <a:pt x="392" y="314"/>
                    </a:lnTo>
                    <a:lnTo>
                      <a:pt x="392" y="293"/>
                    </a:lnTo>
                    <a:lnTo>
                      <a:pt x="371" y="281"/>
                    </a:lnTo>
                    <a:lnTo>
                      <a:pt x="351" y="293"/>
                    </a:lnTo>
                    <a:lnTo>
                      <a:pt x="351" y="314"/>
                    </a:lnTo>
                    <a:lnTo>
                      <a:pt x="371" y="326"/>
                    </a:lnTo>
                    <a:close/>
                    <a:moveTo>
                      <a:pt x="426" y="326"/>
                    </a:moveTo>
                    <a:lnTo>
                      <a:pt x="445" y="314"/>
                    </a:lnTo>
                    <a:lnTo>
                      <a:pt x="445" y="293"/>
                    </a:lnTo>
                    <a:lnTo>
                      <a:pt x="426" y="281"/>
                    </a:lnTo>
                    <a:lnTo>
                      <a:pt x="406" y="293"/>
                    </a:lnTo>
                    <a:lnTo>
                      <a:pt x="406" y="314"/>
                    </a:lnTo>
                    <a:lnTo>
                      <a:pt x="426" y="326"/>
                    </a:lnTo>
                    <a:close/>
                    <a:moveTo>
                      <a:pt x="480" y="326"/>
                    </a:moveTo>
                    <a:lnTo>
                      <a:pt x="500" y="314"/>
                    </a:lnTo>
                    <a:lnTo>
                      <a:pt x="500" y="293"/>
                    </a:lnTo>
                    <a:lnTo>
                      <a:pt x="480" y="281"/>
                    </a:lnTo>
                    <a:lnTo>
                      <a:pt x="458" y="293"/>
                    </a:lnTo>
                    <a:lnTo>
                      <a:pt x="458" y="314"/>
                    </a:lnTo>
                    <a:lnTo>
                      <a:pt x="480" y="326"/>
                    </a:lnTo>
                    <a:close/>
                    <a:moveTo>
                      <a:pt x="532" y="326"/>
                    </a:moveTo>
                    <a:lnTo>
                      <a:pt x="552" y="314"/>
                    </a:lnTo>
                    <a:lnTo>
                      <a:pt x="552" y="293"/>
                    </a:lnTo>
                    <a:lnTo>
                      <a:pt x="532" y="281"/>
                    </a:lnTo>
                    <a:lnTo>
                      <a:pt x="514" y="293"/>
                    </a:lnTo>
                    <a:lnTo>
                      <a:pt x="514" y="314"/>
                    </a:lnTo>
                    <a:lnTo>
                      <a:pt x="532" y="326"/>
                    </a:lnTo>
                    <a:close/>
                    <a:moveTo>
                      <a:pt x="480" y="140"/>
                    </a:moveTo>
                    <a:lnTo>
                      <a:pt x="500" y="129"/>
                    </a:lnTo>
                    <a:lnTo>
                      <a:pt x="500" y="105"/>
                    </a:lnTo>
                    <a:lnTo>
                      <a:pt x="480" y="93"/>
                    </a:lnTo>
                    <a:lnTo>
                      <a:pt x="458" y="105"/>
                    </a:lnTo>
                    <a:lnTo>
                      <a:pt x="458" y="129"/>
                    </a:lnTo>
                    <a:lnTo>
                      <a:pt x="480" y="140"/>
                    </a:lnTo>
                    <a:close/>
                    <a:moveTo>
                      <a:pt x="532" y="140"/>
                    </a:moveTo>
                    <a:lnTo>
                      <a:pt x="552" y="129"/>
                    </a:lnTo>
                    <a:lnTo>
                      <a:pt x="552" y="105"/>
                    </a:lnTo>
                    <a:lnTo>
                      <a:pt x="532" y="93"/>
                    </a:lnTo>
                    <a:lnTo>
                      <a:pt x="514" y="105"/>
                    </a:lnTo>
                    <a:lnTo>
                      <a:pt x="514" y="129"/>
                    </a:lnTo>
                    <a:lnTo>
                      <a:pt x="532" y="140"/>
                    </a:lnTo>
                    <a:close/>
                    <a:moveTo>
                      <a:pt x="505" y="93"/>
                    </a:moveTo>
                    <a:lnTo>
                      <a:pt x="526" y="82"/>
                    </a:lnTo>
                    <a:lnTo>
                      <a:pt x="526" y="58"/>
                    </a:lnTo>
                    <a:lnTo>
                      <a:pt x="505" y="47"/>
                    </a:lnTo>
                    <a:lnTo>
                      <a:pt x="485" y="58"/>
                    </a:lnTo>
                    <a:lnTo>
                      <a:pt x="485" y="82"/>
                    </a:lnTo>
                    <a:lnTo>
                      <a:pt x="505" y="93"/>
                    </a:lnTo>
                    <a:close/>
                    <a:moveTo>
                      <a:pt x="560" y="93"/>
                    </a:moveTo>
                    <a:lnTo>
                      <a:pt x="579" y="82"/>
                    </a:lnTo>
                    <a:lnTo>
                      <a:pt x="579" y="58"/>
                    </a:lnTo>
                    <a:lnTo>
                      <a:pt x="560" y="47"/>
                    </a:lnTo>
                    <a:lnTo>
                      <a:pt x="540" y="58"/>
                    </a:lnTo>
                    <a:lnTo>
                      <a:pt x="540" y="82"/>
                    </a:lnTo>
                    <a:lnTo>
                      <a:pt x="560" y="93"/>
                    </a:lnTo>
                    <a:close/>
                    <a:moveTo>
                      <a:pt x="371" y="140"/>
                    </a:moveTo>
                    <a:lnTo>
                      <a:pt x="392" y="129"/>
                    </a:lnTo>
                    <a:lnTo>
                      <a:pt x="392" y="105"/>
                    </a:lnTo>
                    <a:lnTo>
                      <a:pt x="371" y="93"/>
                    </a:lnTo>
                    <a:lnTo>
                      <a:pt x="351" y="105"/>
                    </a:lnTo>
                    <a:lnTo>
                      <a:pt x="351" y="129"/>
                    </a:lnTo>
                    <a:lnTo>
                      <a:pt x="371" y="140"/>
                    </a:lnTo>
                    <a:close/>
                    <a:moveTo>
                      <a:pt x="426" y="140"/>
                    </a:moveTo>
                    <a:lnTo>
                      <a:pt x="445" y="129"/>
                    </a:lnTo>
                    <a:lnTo>
                      <a:pt x="445" y="105"/>
                    </a:lnTo>
                    <a:lnTo>
                      <a:pt x="426" y="93"/>
                    </a:lnTo>
                    <a:lnTo>
                      <a:pt x="406" y="105"/>
                    </a:lnTo>
                    <a:lnTo>
                      <a:pt x="406" y="129"/>
                    </a:lnTo>
                    <a:lnTo>
                      <a:pt x="426" y="140"/>
                    </a:lnTo>
                    <a:close/>
                    <a:moveTo>
                      <a:pt x="748" y="607"/>
                    </a:moveTo>
                    <a:lnTo>
                      <a:pt x="768" y="596"/>
                    </a:lnTo>
                    <a:lnTo>
                      <a:pt x="768" y="572"/>
                    </a:lnTo>
                    <a:lnTo>
                      <a:pt x="748" y="560"/>
                    </a:lnTo>
                    <a:lnTo>
                      <a:pt x="728" y="572"/>
                    </a:lnTo>
                    <a:lnTo>
                      <a:pt x="728" y="596"/>
                    </a:lnTo>
                    <a:lnTo>
                      <a:pt x="748" y="607"/>
                    </a:lnTo>
                    <a:close/>
                    <a:moveTo>
                      <a:pt x="803" y="607"/>
                    </a:moveTo>
                    <a:lnTo>
                      <a:pt x="823" y="596"/>
                    </a:lnTo>
                    <a:lnTo>
                      <a:pt x="823" y="572"/>
                    </a:lnTo>
                    <a:lnTo>
                      <a:pt x="803" y="560"/>
                    </a:lnTo>
                    <a:lnTo>
                      <a:pt x="783" y="572"/>
                    </a:lnTo>
                    <a:lnTo>
                      <a:pt x="783" y="596"/>
                    </a:lnTo>
                    <a:lnTo>
                      <a:pt x="803" y="607"/>
                    </a:lnTo>
                    <a:close/>
                    <a:moveTo>
                      <a:pt x="858" y="607"/>
                    </a:moveTo>
                    <a:lnTo>
                      <a:pt x="878" y="596"/>
                    </a:lnTo>
                    <a:lnTo>
                      <a:pt x="878" y="572"/>
                    </a:lnTo>
                    <a:lnTo>
                      <a:pt x="858" y="560"/>
                    </a:lnTo>
                    <a:lnTo>
                      <a:pt x="836" y="572"/>
                    </a:lnTo>
                    <a:lnTo>
                      <a:pt x="836" y="596"/>
                    </a:lnTo>
                    <a:lnTo>
                      <a:pt x="858" y="607"/>
                    </a:lnTo>
                    <a:close/>
                    <a:moveTo>
                      <a:pt x="911" y="607"/>
                    </a:moveTo>
                    <a:lnTo>
                      <a:pt x="931" y="596"/>
                    </a:lnTo>
                    <a:lnTo>
                      <a:pt x="931" y="572"/>
                    </a:lnTo>
                    <a:lnTo>
                      <a:pt x="911" y="560"/>
                    </a:lnTo>
                    <a:lnTo>
                      <a:pt x="891" y="572"/>
                    </a:lnTo>
                    <a:lnTo>
                      <a:pt x="891" y="596"/>
                    </a:lnTo>
                    <a:lnTo>
                      <a:pt x="911" y="607"/>
                    </a:lnTo>
                    <a:close/>
                    <a:moveTo>
                      <a:pt x="532" y="607"/>
                    </a:moveTo>
                    <a:lnTo>
                      <a:pt x="552" y="596"/>
                    </a:lnTo>
                    <a:lnTo>
                      <a:pt x="552" y="572"/>
                    </a:lnTo>
                    <a:lnTo>
                      <a:pt x="532" y="560"/>
                    </a:lnTo>
                    <a:lnTo>
                      <a:pt x="514" y="572"/>
                    </a:lnTo>
                    <a:lnTo>
                      <a:pt x="514" y="596"/>
                    </a:lnTo>
                    <a:lnTo>
                      <a:pt x="532" y="607"/>
                    </a:lnTo>
                    <a:close/>
                    <a:moveTo>
                      <a:pt x="586" y="607"/>
                    </a:moveTo>
                    <a:lnTo>
                      <a:pt x="608" y="596"/>
                    </a:lnTo>
                    <a:lnTo>
                      <a:pt x="608" y="572"/>
                    </a:lnTo>
                    <a:lnTo>
                      <a:pt x="586" y="560"/>
                    </a:lnTo>
                    <a:lnTo>
                      <a:pt x="566" y="572"/>
                    </a:lnTo>
                    <a:lnTo>
                      <a:pt x="566" y="596"/>
                    </a:lnTo>
                    <a:lnTo>
                      <a:pt x="586" y="607"/>
                    </a:lnTo>
                    <a:close/>
                    <a:moveTo>
                      <a:pt x="640" y="607"/>
                    </a:moveTo>
                    <a:lnTo>
                      <a:pt x="660" y="596"/>
                    </a:lnTo>
                    <a:lnTo>
                      <a:pt x="660" y="572"/>
                    </a:lnTo>
                    <a:lnTo>
                      <a:pt x="640" y="560"/>
                    </a:lnTo>
                    <a:lnTo>
                      <a:pt x="621" y="572"/>
                    </a:lnTo>
                    <a:lnTo>
                      <a:pt x="621" y="596"/>
                    </a:lnTo>
                    <a:lnTo>
                      <a:pt x="640" y="607"/>
                    </a:lnTo>
                    <a:close/>
                    <a:moveTo>
                      <a:pt x="695" y="607"/>
                    </a:moveTo>
                    <a:lnTo>
                      <a:pt x="715" y="596"/>
                    </a:lnTo>
                    <a:lnTo>
                      <a:pt x="715" y="572"/>
                    </a:lnTo>
                    <a:lnTo>
                      <a:pt x="695" y="560"/>
                    </a:lnTo>
                    <a:lnTo>
                      <a:pt x="674" y="572"/>
                    </a:lnTo>
                    <a:lnTo>
                      <a:pt x="674" y="596"/>
                    </a:lnTo>
                    <a:lnTo>
                      <a:pt x="695" y="607"/>
                    </a:lnTo>
                    <a:close/>
                    <a:moveTo>
                      <a:pt x="966" y="607"/>
                    </a:moveTo>
                    <a:lnTo>
                      <a:pt x="985" y="596"/>
                    </a:lnTo>
                    <a:lnTo>
                      <a:pt x="985" y="572"/>
                    </a:lnTo>
                    <a:lnTo>
                      <a:pt x="966" y="560"/>
                    </a:lnTo>
                    <a:lnTo>
                      <a:pt x="946" y="572"/>
                    </a:lnTo>
                    <a:lnTo>
                      <a:pt x="946" y="596"/>
                    </a:lnTo>
                    <a:lnTo>
                      <a:pt x="966" y="607"/>
                    </a:lnTo>
                    <a:close/>
                    <a:moveTo>
                      <a:pt x="1018" y="607"/>
                    </a:moveTo>
                    <a:lnTo>
                      <a:pt x="1040" y="596"/>
                    </a:lnTo>
                    <a:lnTo>
                      <a:pt x="1040" y="572"/>
                    </a:lnTo>
                    <a:lnTo>
                      <a:pt x="1018" y="560"/>
                    </a:lnTo>
                    <a:lnTo>
                      <a:pt x="998" y="572"/>
                    </a:lnTo>
                    <a:lnTo>
                      <a:pt x="998" y="596"/>
                    </a:lnTo>
                    <a:lnTo>
                      <a:pt x="1018" y="607"/>
                    </a:lnTo>
                    <a:close/>
                    <a:moveTo>
                      <a:pt x="1072" y="607"/>
                    </a:moveTo>
                    <a:lnTo>
                      <a:pt x="1092" y="596"/>
                    </a:lnTo>
                    <a:lnTo>
                      <a:pt x="1092" y="572"/>
                    </a:lnTo>
                    <a:lnTo>
                      <a:pt x="1072" y="560"/>
                    </a:lnTo>
                    <a:lnTo>
                      <a:pt x="1054" y="572"/>
                    </a:lnTo>
                    <a:lnTo>
                      <a:pt x="1054" y="596"/>
                    </a:lnTo>
                    <a:lnTo>
                      <a:pt x="1072" y="607"/>
                    </a:lnTo>
                    <a:close/>
                    <a:moveTo>
                      <a:pt x="884" y="560"/>
                    </a:moveTo>
                    <a:lnTo>
                      <a:pt x="904" y="550"/>
                    </a:lnTo>
                    <a:lnTo>
                      <a:pt x="904" y="525"/>
                    </a:lnTo>
                    <a:lnTo>
                      <a:pt x="884" y="514"/>
                    </a:lnTo>
                    <a:lnTo>
                      <a:pt x="864" y="525"/>
                    </a:lnTo>
                    <a:lnTo>
                      <a:pt x="864" y="550"/>
                    </a:lnTo>
                    <a:lnTo>
                      <a:pt x="884" y="560"/>
                    </a:lnTo>
                    <a:close/>
                    <a:moveTo>
                      <a:pt x="940" y="560"/>
                    </a:moveTo>
                    <a:lnTo>
                      <a:pt x="958" y="550"/>
                    </a:lnTo>
                    <a:lnTo>
                      <a:pt x="958" y="525"/>
                    </a:lnTo>
                    <a:lnTo>
                      <a:pt x="940" y="514"/>
                    </a:lnTo>
                    <a:lnTo>
                      <a:pt x="917" y="525"/>
                    </a:lnTo>
                    <a:lnTo>
                      <a:pt x="917" y="550"/>
                    </a:lnTo>
                    <a:lnTo>
                      <a:pt x="940" y="560"/>
                    </a:lnTo>
                    <a:close/>
                    <a:moveTo>
                      <a:pt x="992" y="560"/>
                    </a:moveTo>
                    <a:lnTo>
                      <a:pt x="1011" y="550"/>
                    </a:lnTo>
                    <a:lnTo>
                      <a:pt x="1011" y="525"/>
                    </a:lnTo>
                    <a:lnTo>
                      <a:pt x="992" y="514"/>
                    </a:lnTo>
                    <a:lnTo>
                      <a:pt x="972" y="525"/>
                    </a:lnTo>
                    <a:lnTo>
                      <a:pt x="972" y="550"/>
                    </a:lnTo>
                    <a:lnTo>
                      <a:pt x="992" y="560"/>
                    </a:lnTo>
                    <a:close/>
                    <a:moveTo>
                      <a:pt x="1046" y="560"/>
                    </a:moveTo>
                    <a:lnTo>
                      <a:pt x="1066" y="550"/>
                    </a:lnTo>
                    <a:lnTo>
                      <a:pt x="1066" y="525"/>
                    </a:lnTo>
                    <a:lnTo>
                      <a:pt x="1046" y="514"/>
                    </a:lnTo>
                    <a:lnTo>
                      <a:pt x="1027" y="525"/>
                    </a:lnTo>
                    <a:lnTo>
                      <a:pt x="1027" y="550"/>
                    </a:lnTo>
                    <a:lnTo>
                      <a:pt x="1046" y="560"/>
                    </a:lnTo>
                    <a:close/>
                    <a:moveTo>
                      <a:pt x="666" y="560"/>
                    </a:moveTo>
                    <a:lnTo>
                      <a:pt x="689" y="550"/>
                    </a:lnTo>
                    <a:lnTo>
                      <a:pt x="689" y="525"/>
                    </a:lnTo>
                    <a:lnTo>
                      <a:pt x="666" y="514"/>
                    </a:lnTo>
                    <a:lnTo>
                      <a:pt x="648" y="525"/>
                    </a:lnTo>
                    <a:lnTo>
                      <a:pt x="648" y="550"/>
                    </a:lnTo>
                    <a:lnTo>
                      <a:pt x="666" y="560"/>
                    </a:lnTo>
                    <a:close/>
                    <a:moveTo>
                      <a:pt x="722" y="560"/>
                    </a:moveTo>
                    <a:lnTo>
                      <a:pt x="742" y="550"/>
                    </a:lnTo>
                    <a:lnTo>
                      <a:pt x="742" y="525"/>
                    </a:lnTo>
                    <a:lnTo>
                      <a:pt x="722" y="514"/>
                    </a:lnTo>
                    <a:lnTo>
                      <a:pt x="701" y="525"/>
                    </a:lnTo>
                    <a:lnTo>
                      <a:pt x="701" y="550"/>
                    </a:lnTo>
                    <a:lnTo>
                      <a:pt x="722" y="560"/>
                    </a:lnTo>
                    <a:close/>
                    <a:moveTo>
                      <a:pt x="777" y="560"/>
                    </a:moveTo>
                    <a:lnTo>
                      <a:pt x="797" y="550"/>
                    </a:lnTo>
                    <a:lnTo>
                      <a:pt x="797" y="525"/>
                    </a:lnTo>
                    <a:lnTo>
                      <a:pt x="777" y="514"/>
                    </a:lnTo>
                    <a:lnTo>
                      <a:pt x="754" y="525"/>
                    </a:lnTo>
                    <a:lnTo>
                      <a:pt x="754" y="550"/>
                    </a:lnTo>
                    <a:lnTo>
                      <a:pt x="777" y="560"/>
                    </a:lnTo>
                    <a:close/>
                    <a:moveTo>
                      <a:pt x="829" y="560"/>
                    </a:moveTo>
                    <a:lnTo>
                      <a:pt x="849" y="550"/>
                    </a:lnTo>
                    <a:lnTo>
                      <a:pt x="849" y="525"/>
                    </a:lnTo>
                    <a:lnTo>
                      <a:pt x="829" y="514"/>
                    </a:lnTo>
                    <a:lnTo>
                      <a:pt x="809" y="525"/>
                    </a:lnTo>
                    <a:lnTo>
                      <a:pt x="809" y="550"/>
                    </a:lnTo>
                    <a:lnTo>
                      <a:pt x="829" y="560"/>
                    </a:lnTo>
                    <a:close/>
                    <a:moveTo>
                      <a:pt x="505" y="560"/>
                    </a:moveTo>
                    <a:lnTo>
                      <a:pt x="526" y="550"/>
                    </a:lnTo>
                    <a:lnTo>
                      <a:pt x="526" y="525"/>
                    </a:lnTo>
                    <a:lnTo>
                      <a:pt x="505" y="514"/>
                    </a:lnTo>
                    <a:lnTo>
                      <a:pt x="485" y="525"/>
                    </a:lnTo>
                    <a:lnTo>
                      <a:pt x="485" y="550"/>
                    </a:lnTo>
                    <a:lnTo>
                      <a:pt x="505" y="560"/>
                    </a:lnTo>
                    <a:close/>
                    <a:moveTo>
                      <a:pt x="560" y="560"/>
                    </a:moveTo>
                    <a:lnTo>
                      <a:pt x="579" y="550"/>
                    </a:lnTo>
                    <a:lnTo>
                      <a:pt x="579" y="525"/>
                    </a:lnTo>
                    <a:lnTo>
                      <a:pt x="560" y="514"/>
                    </a:lnTo>
                    <a:lnTo>
                      <a:pt x="540" y="525"/>
                    </a:lnTo>
                    <a:lnTo>
                      <a:pt x="540" y="550"/>
                    </a:lnTo>
                    <a:lnTo>
                      <a:pt x="560" y="560"/>
                    </a:lnTo>
                    <a:close/>
                    <a:moveTo>
                      <a:pt x="614" y="560"/>
                    </a:moveTo>
                    <a:lnTo>
                      <a:pt x="634" y="550"/>
                    </a:lnTo>
                    <a:lnTo>
                      <a:pt x="634" y="525"/>
                    </a:lnTo>
                    <a:lnTo>
                      <a:pt x="614" y="514"/>
                    </a:lnTo>
                    <a:lnTo>
                      <a:pt x="592" y="525"/>
                    </a:lnTo>
                    <a:lnTo>
                      <a:pt x="592" y="550"/>
                    </a:lnTo>
                    <a:lnTo>
                      <a:pt x="614" y="560"/>
                    </a:lnTo>
                    <a:close/>
                    <a:moveTo>
                      <a:pt x="911" y="514"/>
                    </a:moveTo>
                    <a:lnTo>
                      <a:pt x="931" y="504"/>
                    </a:lnTo>
                    <a:lnTo>
                      <a:pt x="931" y="478"/>
                    </a:lnTo>
                    <a:lnTo>
                      <a:pt x="911" y="468"/>
                    </a:lnTo>
                    <a:lnTo>
                      <a:pt x="891" y="478"/>
                    </a:lnTo>
                    <a:lnTo>
                      <a:pt x="891" y="504"/>
                    </a:lnTo>
                    <a:lnTo>
                      <a:pt x="911" y="514"/>
                    </a:lnTo>
                    <a:close/>
                    <a:moveTo>
                      <a:pt x="966" y="514"/>
                    </a:moveTo>
                    <a:lnTo>
                      <a:pt x="985" y="504"/>
                    </a:lnTo>
                    <a:lnTo>
                      <a:pt x="985" y="478"/>
                    </a:lnTo>
                    <a:lnTo>
                      <a:pt x="966" y="468"/>
                    </a:lnTo>
                    <a:lnTo>
                      <a:pt x="946" y="478"/>
                    </a:lnTo>
                    <a:lnTo>
                      <a:pt x="946" y="504"/>
                    </a:lnTo>
                    <a:lnTo>
                      <a:pt x="966" y="514"/>
                    </a:lnTo>
                    <a:close/>
                    <a:moveTo>
                      <a:pt x="1018" y="514"/>
                    </a:moveTo>
                    <a:lnTo>
                      <a:pt x="1040" y="504"/>
                    </a:lnTo>
                    <a:lnTo>
                      <a:pt x="1040" y="478"/>
                    </a:lnTo>
                    <a:lnTo>
                      <a:pt x="1018" y="468"/>
                    </a:lnTo>
                    <a:lnTo>
                      <a:pt x="998" y="478"/>
                    </a:lnTo>
                    <a:lnTo>
                      <a:pt x="998" y="504"/>
                    </a:lnTo>
                    <a:lnTo>
                      <a:pt x="1018" y="514"/>
                    </a:lnTo>
                    <a:close/>
                    <a:moveTo>
                      <a:pt x="1072" y="514"/>
                    </a:moveTo>
                    <a:lnTo>
                      <a:pt x="1092" y="504"/>
                    </a:lnTo>
                    <a:lnTo>
                      <a:pt x="1092" y="478"/>
                    </a:lnTo>
                    <a:lnTo>
                      <a:pt x="1072" y="468"/>
                    </a:lnTo>
                    <a:lnTo>
                      <a:pt x="1054" y="478"/>
                    </a:lnTo>
                    <a:lnTo>
                      <a:pt x="1054" y="504"/>
                    </a:lnTo>
                    <a:lnTo>
                      <a:pt x="1072" y="514"/>
                    </a:lnTo>
                    <a:close/>
                    <a:moveTo>
                      <a:pt x="695" y="514"/>
                    </a:moveTo>
                    <a:lnTo>
                      <a:pt x="715" y="504"/>
                    </a:lnTo>
                    <a:lnTo>
                      <a:pt x="715" y="478"/>
                    </a:lnTo>
                    <a:lnTo>
                      <a:pt x="695" y="468"/>
                    </a:lnTo>
                    <a:lnTo>
                      <a:pt x="674" y="478"/>
                    </a:lnTo>
                    <a:lnTo>
                      <a:pt x="674" y="504"/>
                    </a:lnTo>
                    <a:lnTo>
                      <a:pt x="695" y="514"/>
                    </a:lnTo>
                    <a:close/>
                    <a:moveTo>
                      <a:pt x="748" y="514"/>
                    </a:moveTo>
                    <a:lnTo>
                      <a:pt x="768" y="504"/>
                    </a:lnTo>
                    <a:lnTo>
                      <a:pt x="768" y="478"/>
                    </a:lnTo>
                    <a:lnTo>
                      <a:pt x="748" y="468"/>
                    </a:lnTo>
                    <a:lnTo>
                      <a:pt x="728" y="478"/>
                    </a:lnTo>
                    <a:lnTo>
                      <a:pt x="728" y="504"/>
                    </a:lnTo>
                    <a:lnTo>
                      <a:pt x="748" y="514"/>
                    </a:lnTo>
                    <a:close/>
                    <a:moveTo>
                      <a:pt x="803" y="514"/>
                    </a:moveTo>
                    <a:lnTo>
                      <a:pt x="823" y="504"/>
                    </a:lnTo>
                    <a:lnTo>
                      <a:pt x="823" y="478"/>
                    </a:lnTo>
                    <a:lnTo>
                      <a:pt x="803" y="468"/>
                    </a:lnTo>
                    <a:lnTo>
                      <a:pt x="783" y="478"/>
                    </a:lnTo>
                    <a:lnTo>
                      <a:pt x="783" y="504"/>
                    </a:lnTo>
                    <a:lnTo>
                      <a:pt x="803" y="514"/>
                    </a:lnTo>
                    <a:close/>
                    <a:moveTo>
                      <a:pt x="858" y="514"/>
                    </a:moveTo>
                    <a:lnTo>
                      <a:pt x="878" y="504"/>
                    </a:lnTo>
                    <a:lnTo>
                      <a:pt x="878" y="478"/>
                    </a:lnTo>
                    <a:lnTo>
                      <a:pt x="858" y="468"/>
                    </a:lnTo>
                    <a:lnTo>
                      <a:pt x="836" y="478"/>
                    </a:lnTo>
                    <a:lnTo>
                      <a:pt x="836" y="504"/>
                    </a:lnTo>
                    <a:lnTo>
                      <a:pt x="858" y="514"/>
                    </a:lnTo>
                    <a:close/>
                    <a:moveTo>
                      <a:pt x="640" y="514"/>
                    </a:moveTo>
                    <a:lnTo>
                      <a:pt x="660" y="504"/>
                    </a:lnTo>
                    <a:lnTo>
                      <a:pt x="660" y="478"/>
                    </a:lnTo>
                    <a:lnTo>
                      <a:pt x="640" y="468"/>
                    </a:lnTo>
                    <a:lnTo>
                      <a:pt x="621" y="478"/>
                    </a:lnTo>
                    <a:lnTo>
                      <a:pt x="621" y="504"/>
                    </a:lnTo>
                    <a:lnTo>
                      <a:pt x="640" y="514"/>
                    </a:lnTo>
                    <a:close/>
                    <a:moveTo>
                      <a:pt x="884" y="468"/>
                    </a:moveTo>
                    <a:lnTo>
                      <a:pt x="904" y="454"/>
                    </a:lnTo>
                    <a:lnTo>
                      <a:pt x="904" y="432"/>
                    </a:lnTo>
                    <a:lnTo>
                      <a:pt x="884" y="422"/>
                    </a:lnTo>
                    <a:lnTo>
                      <a:pt x="864" y="432"/>
                    </a:lnTo>
                    <a:lnTo>
                      <a:pt x="864" y="454"/>
                    </a:lnTo>
                    <a:lnTo>
                      <a:pt x="884" y="468"/>
                    </a:lnTo>
                    <a:close/>
                    <a:moveTo>
                      <a:pt x="940" y="468"/>
                    </a:moveTo>
                    <a:lnTo>
                      <a:pt x="958" y="454"/>
                    </a:lnTo>
                    <a:lnTo>
                      <a:pt x="958" y="432"/>
                    </a:lnTo>
                    <a:lnTo>
                      <a:pt x="940" y="422"/>
                    </a:lnTo>
                    <a:lnTo>
                      <a:pt x="917" y="432"/>
                    </a:lnTo>
                    <a:lnTo>
                      <a:pt x="917" y="454"/>
                    </a:lnTo>
                    <a:lnTo>
                      <a:pt x="940" y="468"/>
                    </a:lnTo>
                    <a:close/>
                    <a:moveTo>
                      <a:pt x="992" y="468"/>
                    </a:moveTo>
                    <a:lnTo>
                      <a:pt x="1011" y="454"/>
                    </a:lnTo>
                    <a:lnTo>
                      <a:pt x="1011" y="432"/>
                    </a:lnTo>
                    <a:lnTo>
                      <a:pt x="992" y="422"/>
                    </a:lnTo>
                    <a:lnTo>
                      <a:pt x="972" y="432"/>
                    </a:lnTo>
                    <a:lnTo>
                      <a:pt x="972" y="454"/>
                    </a:lnTo>
                    <a:lnTo>
                      <a:pt x="992" y="468"/>
                    </a:lnTo>
                    <a:close/>
                    <a:moveTo>
                      <a:pt x="1046" y="468"/>
                    </a:moveTo>
                    <a:lnTo>
                      <a:pt x="1066" y="454"/>
                    </a:lnTo>
                    <a:lnTo>
                      <a:pt x="1066" y="432"/>
                    </a:lnTo>
                    <a:lnTo>
                      <a:pt x="1046" y="422"/>
                    </a:lnTo>
                    <a:lnTo>
                      <a:pt x="1027" y="432"/>
                    </a:lnTo>
                    <a:lnTo>
                      <a:pt x="1027" y="454"/>
                    </a:lnTo>
                    <a:lnTo>
                      <a:pt x="1046" y="468"/>
                    </a:lnTo>
                    <a:close/>
                    <a:moveTo>
                      <a:pt x="666" y="468"/>
                    </a:moveTo>
                    <a:lnTo>
                      <a:pt x="689" y="454"/>
                    </a:lnTo>
                    <a:lnTo>
                      <a:pt x="689" y="432"/>
                    </a:lnTo>
                    <a:lnTo>
                      <a:pt x="666" y="422"/>
                    </a:lnTo>
                    <a:lnTo>
                      <a:pt x="648" y="432"/>
                    </a:lnTo>
                    <a:lnTo>
                      <a:pt x="648" y="454"/>
                    </a:lnTo>
                    <a:lnTo>
                      <a:pt x="666" y="468"/>
                    </a:lnTo>
                    <a:close/>
                    <a:moveTo>
                      <a:pt x="722" y="468"/>
                    </a:moveTo>
                    <a:lnTo>
                      <a:pt x="742" y="454"/>
                    </a:lnTo>
                    <a:lnTo>
                      <a:pt x="742" y="432"/>
                    </a:lnTo>
                    <a:lnTo>
                      <a:pt x="722" y="422"/>
                    </a:lnTo>
                    <a:lnTo>
                      <a:pt x="701" y="432"/>
                    </a:lnTo>
                    <a:lnTo>
                      <a:pt x="701" y="454"/>
                    </a:lnTo>
                    <a:lnTo>
                      <a:pt x="722" y="468"/>
                    </a:lnTo>
                    <a:close/>
                    <a:moveTo>
                      <a:pt x="777" y="468"/>
                    </a:moveTo>
                    <a:lnTo>
                      <a:pt x="797" y="454"/>
                    </a:lnTo>
                    <a:lnTo>
                      <a:pt x="797" y="432"/>
                    </a:lnTo>
                    <a:lnTo>
                      <a:pt x="777" y="422"/>
                    </a:lnTo>
                    <a:lnTo>
                      <a:pt x="754" y="432"/>
                    </a:lnTo>
                    <a:lnTo>
                      <a:pt x="754" y="454"/>
                    </a:lnTo>
                    <a:lnTo>
                      <a:pt x="777" y="468"/>
                    </a:lnTo>
                    <a:close/>
                    <a:moveTo>
                      <a:pt x="829" y="468"/>
                    </a:moveTo>
                    <a:lnTo>
                      <a:pt x="849" y="454"/>
                    </a:lnTo>
                    <a:lnTo>
                      <a:pt x="849" y="432"/>
                    </a:lnTo>
                    <a:lnTo>
                      <a:pt x="829" y="422"/>
                    </a:lnTo>
                    <a:lnTo>
                      <a:pt x="809" y="432"/>
                    </a:lnTo>
                    <a:lnTo>
                      <a:pt x="809" y="454"/>
                    </a:lnTo>
                    <a:lnTo>
                      <a:pt x="829" y="468"/>
                    </a:lnTo>
                    <a:close/>
                    <a:moveTo>
                      <a:pt x="614" y="468"/>
                    </a:moveTo>
                    <a:lnTo>
                      <a:pt x="634" y="454"/>
                    </a:lnTo>
                    <a:lnTo>
                      <a:pt x="634" y="432"/>
                    </a:lnTo>
                    <a:lnTo>
                      <a:pt x="614" y="422"/>
                    </a:lnTo>
                    <a:lnTo>
                      <a:pt x="592" y="432"/>
                    </a:lnTo>
                    <a:lnTo>
                      <a:pt x="592" y="454"/>
                    </a:lnTo>
                    <a:lnTo>
                      <a:pt x="614" y="468"/>
                    </a:lnTo>
                    <a:close/>
                    <a:moveTo>
                      <a:pt x="1046" y="654"/>
                    </a:moveTo>
                    <a:lnTo>
                      <a:pt x="1066" y="642"/>
                    </a:lnTo>
                    <a:lnTo>
                      <a:pt x="1066" y="618"/>
                    </a:lnTo>
                    <a:lnTo>
                      <a:pt x="1046" y="607"/>
                    </a:lnTo>
                    <a:lnTo>
                      <a:pt x="1027" y="618"/>
                    </a:lnTo>
                    <a:lnTo>
                      <a:pt x="1027" y="642"/>
                    </a:lnTo>
                    <a:lnTo>
                      <a:pt x="1046" y="654"/>
                    </a:lnTo>
                    <a:close/>
                    <a:moveTo>
                      <a:pt x="505" y="654"/>
                    </a:moveTo>
                    <a:lnTo>
                      <a:pt x="526" y="642"/>
                    </a:lnTo>
                    <a:lnTo>
                      <a:pt x="526" y="618"/>
                    </a:lnTo>
                    <a:lnTo>
                      <a:pt x="505" y="607"/>
                    </a:lnTo>
                    <a:lnTo>
                      <a:pt x="485" y="618"/>
                    </a:lnTo>
                    <a:lnTo>
                      <a:pt x="485" y="642"/>
                    </a:lnTo>
                    <a:lnTo>
                      <a:pt x="505" y="654"/>
                    </a:lnTo>
                    <a:close/>
                    <a:moveTo>
                      <a:pt x="560" y="654"/>
                    </a:moveTo>
                    <a:lnTo>
                      <a:pt x="579" y="642"/>
                    </a:lnTo>
                    <a:lnTo>
                      <a:pt x="579" y="618"/>
                    </a:lnTo>
                    <a:lnTo>
                      <a:pt x="560" y="607"/>
                    </a:lnTo>
                    <a:lnTo>
                      <a:pt x="540" y="618"/>
                    </a:lnTo>
                    <a:lnTo>
                      <a:pt x="540" y="642"/>
                    </a:lnTo>
                    <a:lnTo>
                      <a:pt x="560" y="654"/>
                    </a:lnTo>
                    <a:close/>
                    <a:moveTo>
                      <a:pt x="614" y="654"/>
                    </a:moveTo>
                    <a:lnTo>
                      <a:pt x="634" y="642"/>
                    </a:lnTo>
                    <a:lnTo>
                      <a:pt x="634" y="618"/>
                    </a:lnTo>
                    <a:lnTo>
                      <a:pt x="614" y="607"/>
                    </a:lnTo>
                    <a:lnTo>
                      <a:pt x="592" y="618"/>
                    </a:lnTo>
                    <a:lnTo>
                      <a:pt x="592" y="642"/>
                    </a:lnTo>
                    <a:lnTo>
                      <a:pt x="614" y="654"/>
                    </a:lnTo>
                    <a:close/>
                    <a:moveTo>
                      <a:pt x="666" y="654"/>
                    </a:moveTo>
                    <a:lnTo>
                      <a:pt x="689" y="642"/>
                    </a:lnTo>
                    <a:lnTo>
                      <a:pt x="689" y="618"/>
                    </a:lnTo>
                    <a:lnTo>
                      <a:pt x="666" y="607"/>
                    </a:lnTo>
                    <a:lnTo>
                      <a:pt x="648" y="618"/>
                    </a:lnTo>
                    <a:lnTo>
                      <a:pt x="648" y="642"/>
                    </a:lnTo>
                    <a:lnTo>
                      <a:pt x="666" y="654"/>
                    </a:lnTo>
                    <a:close/>
                    <a:moveTo>
                      <a:pt x="722" y="654"/>
                    </a:moveTo>
                    <a:lnTo>
                      <a:pt x="742" y="642"/>
                    </a:lnTo>
                    <a:lnTo>
                      <a:pt x="742" y="618"/>
                    </a:lnTo>
                    <a:lnTo>
                      <a:pt x="722" y="607"/>
                    </a:lnTo>
                    <a:lnTo>
                      <a:pt x="701" y="618"/>
                    </a:lnTo>
                    <a:lnTo>
                      <a:pt x="701" y="642"/>
                    </a:lnTo>
                    <a:lnTo>
                      <a:pt x="722" y="654"/>
                    </a:lnTo>
                    <a:close/>
                    <a:moveTo>
                      <a:pt x="777" y="654"/>
                    </a:moveTo>
                    <a:lnTo>
                      <a:pt x="797" y="642"/>
                    </a:lnTo>
                    <a:lnTo>
                      <a:pt x="797" y="618"/>
                    </a:lnTo>
                    <a:lnTo>
                      <a:pt x="777" y="607"/>
                    </a:lnTo>
                    <a:lnTo>
                      <a:pt x="754" y="618"/>
                    </a:lnTo>
                    <a:lnTo>
                      <a:pt x="754" y="642"/>
                    </a:lnTo>
                    <a:lnTo>
                      <a:pt x="777" y="654"/>
                    </a:lnTo>
                    <a:close/>
                    <a:moveTo>
                      <a:pt x="829" y="654"/>
                    </a:moveTo>
                    <a:lnTo>
                      <a:pt x="849" y="642"/>
                    </a:lnTo>
                    <a:lnTo>
                      <a:pt x="849" y="618"/>
                    </a:lnTo>
                    <a:lnTo>
                      <a:pt x="829" y="607"/>
                    </a:lnTo>
                    <a:lnTo>
                      <a:pt x="809" y="618"/>
                    </a:lnTo>
                    <a:lnTo>
                      <a:pt x="809" y="642"/>
                    </a:lnTo>
                    <a:lnTo>
                      <a:pt x="829" y="654"/>
                    </a:lnTo>
                    <a:close/>
                    <a:moveTo>
                      <a:pt x="884" y="654"/>
                    </a:moveTo>
                    <a:lnTo>
                      <a:pt x="904" y="642"/>
                    </a:lnTo>
                    <a:lnTo>
                      <a:pt x="904" y="618"/>
                    </a:lnTo>
                    <a:lnTo>
                      <a:pt x="884" y="607"/>
                    </a:lnTo>
                    <a:lnTo>
                      <a:pt x="864" y="618"/>
                    </a:lnTo>
                    <a:lnTo>
                      <a:pt x="864" y="642"/>
                    </a:lnTo>
                    <a:lnTo>
                      <a:pt x="884" y="654"/>
                    </a:lnTo>
                    <a:close/>
                    <a:moveTo>
                      <a:pt x="940" y="654"/>
                    </a:moveTo>
                    <a:lnTo>
                      <a:pt x="958" y="642"/>
                    </a:lnTo>
                    <a:lnTo>
                      <a:pt x="958" y="618"/>
                    </a:lnTo>
                    <a:lnTo>
                      <a:pt x="940" y="607"/>
                    </a:lnTo>
                    <a:lnTo>
                      <a:pt x="917" y="618"/>
                    </a:lnTo>
                    <a:lnTo>
                      <a:pt x="917" y="642"/>
                    </a:lnTo>
                    <a:lnTo>
                      <a:pt x="940" y="654"/>
                    </a:lnTo>
                    <a:close/>
                    <a:moveTo>
                      <a:pt x="992" y="654"/>
                    </a:moveTo>
                    <a:lnTo>
                      <a:pt x="1011" y="642"/>
                    </a:lnTo>
                    <a:lnTo>
                      <a:pt x="1011" y="618"/>
                    </a:lnTo>
                    <a:lnTo>
                      <a:pt x="992" y="607"/>
                    </a:lnTo>
                    <a:lnTo>
                      <a:pt x="972" y="618"/>
                    </a:lnTo>
                    <a:lnTo>
                      <a:pt x="972" y="642"/>
                    </a:lnTo>
                    <a:lnTo>
                      <a:pt x="992" y="654"/>
                    </a:lnTo>
                    <a:close/>
                    <a:moveTo>
                      <a:pt x="1018" y="422"/>
                    </a:moveTo>
                    <a:lnTo>
                      <a:pt x="1040" y="408"/>
                    </a:lnTo>
                    <a:lnTo>
                      <a:pt x="1040" y="386"/>
                    </a:lnTo>
                    <a:lnTo>
                      <a:pt x="1018" y="375"/>
                    </a:lnTo>
                    <a:lnTo>
                      <a:pt x="998" y="386"/>
                    </a:lnTo>
                    <a:lnTo>
                      <a:pt x="998" y="408"/>
                    </a:lnTo>
                    <a:lnTo>
                      <a:pt x="1018" y="422"/>
                    </a:lnTo>
                    <a:close/>
                    <a:moveTo>
                      <a:pt x="1072" y="422"/>
                    </a:moveTo>
                    <a:lnTo>
                      <a:pt x="1092" y="408"/>
                    </a:lnTo>
                    <a:lnTo>
                      <a:pt x="1092" y="386"/>
                    </a:lnTo>
                    <a:lnTo>
                      <a:pt x="1072" y="375"/>
                    </a:lnTo>
                    <a:lnTo>
                      <a:pt x="1054" y="386"/>
                    </a:lnTo>
                    <a:lnTo>
                      <a:pt x="1054" y="408"/>
                    </a:lnTo>
                    <a:lnTo>
                      <a:pt x="1072" y="422"/>
                    </a:lnTo>
                    <a:close/>
                    <a:moveTo>
                      <a:pt x="480" y="607"/>
                    </a:moveTo>
                    <a:lnTo>
                      <a:pt x="500" y="596"/>
                    </a:lnTo>
                    <a:lnTo>
                      <a:pt x="500" y="572"/>
                    </a:lnTo>
                    <a:lnTo>
                      <a:pt x="480" y="560"/>
                    </a:lnTo>
                    <a:lnTo>
                      <a:pt x="458" y="572"/>
                    </a:lnTo>
                    <a:lnTo>
                      <a:pt x="458" y="596"/>
                    </a:lnTo>
                    <a:lnTo>
                      <a:pt x="480" y="60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76072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2156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8240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941080" y="4911480"/>
                <a:ext cx="4932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004080" y="4911480"/>
                <a:ext cx="4536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29040" y="4842720"/>
                <a:ext cx="4536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792400" y="4842720"/>
                <a:ext cx="4284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50720" y="484272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911920" y="484272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974920" y="484272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33960" y="4842720"/>
                <a:ext cx="46800" cy="687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76072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2156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8240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41080" y="4779360"/>
                <a:ext cx="49320" cy="630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004080" y="4779360"/>
                <a:ext cx="45360" cy="630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6780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729040" y="4710600"/>
                <a:ext cx="4536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792400" y="4710600"/>
                <a:ext cx="4284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50720" y="471060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1192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7492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033960" y="4710600"/>
                <a:ext cx="46800" cy="687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729040" y="497736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792400" y="497736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850720" y="497736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11920" y="497736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74920" y="497736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33960" y="4977360"/>
                <a:ext cx="46800" cy="662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729040" y="444024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792400" y="444024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850720" y="444024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11920" y="444024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974920" y="444024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033960" y="4440240"/>
                <a:ext cx="46800" cy="662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6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60720" y="437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21560" y="437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82400" y="437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941080" y="4374720"/>
                <a:ext cx="49320" cy="655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004080" y="4374720"/>
                <a:ext cx="45360" cy="65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067800" y="437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29040" y="4305600"/>
                <a:ext cx="45360" cy="687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92400" y="4305600"/>
                <a:ext cx="42840" cy="687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850720" y="430560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911920" y="4305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974920" y="4305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033960" y="4305600"/>
                <a:ext cx="46800" cy="6876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5"/>
                    </a:lnTo>
                    <a:lnTo>
                      <a:pt x="43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760720" y="42400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21560" y="42400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882400" y="42400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941080" y="4240080"/>
                <a:ext cx="4932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004080" y="4240080"/>
                <a:ext cx="4536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067800" y="42400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729040" y="417348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792400" y="417348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850720" y="41734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911920" y="417348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974920" y="417348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033960" y="4173480"/>
                <a:ext cx="46800" cy="6624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0" y="46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760720" y="4105440"/>
                <a:ext cx="45000" cy="680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821560" y="4105440"/>
                <a:ext cx="45000" cy="680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882400" y="4105440"/>
                <a:ext cx="45000" cy="680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941080" y="4105440"/>
                <a:ext cx="49320" cy="680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004080" y="4105440"/>
                <a:ext cx="45360" cy="680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76072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82156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88240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941080" y="4644720"/>
                <a:ext cx="4932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004080" y="4644720"/>
                <a:ext cx="4536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06780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729040" y="4578480"/>
                <a:ext cx="45360" cy="66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792400" y="457848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850720" y="45784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911920" y="457848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974920" y="457848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033960" y="4578480"/>
                <a:ext cx="46800" cy="662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0" y="47"/>
                    </a:moveTo>
                    <a:lnTo>
                      <a:pt x="43" y="33"/>
                    </a:lnTo>
                    <a:lnTo>
                      <a:pt x="43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760720" y="450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821560" y="450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882400" y="450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941080" y="4509360"/>
                <a:ext cx="49320" cy="6300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004080" y="4509360"/>
                <a:ext cx="45360" cy="630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067800" y="450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126120" y="4779360"/>
                <a:ext cx="45360" cy="630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18732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24816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30936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37020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21864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277320" y="471060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33852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09696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15780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338520" y="444024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96960" y="444024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157800" y="444024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1" y="46"/>
                    </a:moveTo>
                    <a:lnTo>
                      <a:pt x="39" y="36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218640" y="444024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277320" y="444024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126120" y="4374720"/>
                <a:ext cx="45360" cy="6552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187320" y="437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248160" y="437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5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309360" y="437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096960" y="4305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157800" y="4305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218640" y="4305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277320" y="430560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338520" y="4305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24816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30936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37020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126120" y="4644720"/>
                <a:ext cx="4536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18732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157800" y="457848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1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218640" y="457848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277320" y="45784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338520" y="457848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096960" y="457848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126120" y="4509360"/>
                <a:ext cx="45360" cy="630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3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187320" y="450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248160" y="450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2" y="45"/>
                    </a:moveTo>
                    <a:lnTo>
                      <a:pt x="42" y="33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309360" y="450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3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3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248160" y="42400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309360" y="42400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277320" y="417348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338520" y="417348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126120" y="4240080"/>
                <a:ext cx="4536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187320" y="42400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550200" y="4911480"/>
                <a:ext cx="4536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61356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672600" y="4911480"/>
                <a:ext cx="4932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73560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30936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37020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3104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489360" y="4911480"/>
                <a:ext cx="47520" cy="6552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79644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85728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91812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706440" y="484272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64760" y="484272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828120" y="4842720"/>
                <a:ext cx="4284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888960" y="484272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60200" y="484272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521040" y="484272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581880" y="484272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6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643080" y="484272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277320" y="484272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338520" y="484272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399360" y="484272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73560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9644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85728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91812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6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489360" y="4779360"/>
                <a:ext cx="47520" cy="6300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6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550200" y="4779360"/>
                <a:ext cx="45360" cy="630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61356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6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672600" y="4779360"/>
                <a:ext cx="49320" cy="6300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6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431040" y="4779360"/>
                <a:ext cx="45000" cy="6300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6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6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70644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764760" y="471060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3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828120" y="4710600"/>
                <a:ext cx="4284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88896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460200" y="471060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18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52104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6581880" y="4710600"/>
                <a:ext cx="47520" cy="68760"/>
              </a:xfrm>
              <a:custGeom>
                <a:avLst/>
                <a:gdLst/>
                <a:ahLst/>
                <a:rect l="l" t="t" r="r" b="b"/>
                <a:pathLst>
                  <a:path w="43" h="46">
                    <a:moveTo>
                      <a:pt x="23" y="46"/>
                    </a:moveTo>
                    <a:lnTo>
                      <a:pt x="43" y="32"/>
                    </a:lnTo>
                    <a:lnTo>
                      <a:pt x="43" y="10"/>
                    </a:lnTo>
                    <a:lnTo>
                      <a:pt x="23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3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664308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399360" y="4710600"/>
                <a:ext cx="45000" cy="687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2" y="46"/>
                    </a:moveTo>
                    <a:lnTo>
                      <a:pt x="42" y="32"/>
                    </a:lnTo>
                    <a:lnTo>
                      <a:pt x="42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2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6888960" y="497736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277320" y="497736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0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338520" y="497736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399360" y="497736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460200" y="497736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18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521040" y="497736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6581880" y="497736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3" h="47">
                    <a:moveTo>
                      <a:pt x="23" y="47"/>
                    </a:moveTo>
                    <a:lnTo>
                      <a:pt x="43" y="35"/>
                    </a:lnTo>
                    <a:lnTo>
                      <a:pt x="43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643080" y="497736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706440" y="4977360"/>
                <a:ext cx="45000" cy="6624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764760" y="4977360"/>
                <a:ext cx="47520" cy="6624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3" y="47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3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828120" y="4977360"/>
                <a:ext cx="42840" cy="6624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685728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0" y="47"/>
                    </a:moveTo>
                    <a:lnTo>
                      <a:pt x="42" y="33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918120" y="464472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8" y="47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8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248160" y="4911480"/>
                <a:ext cx="45000" cy="65520"/>
              </a:xfrm>
              <a:custGeom>
                <a:avLst/>
                <a:gdLst/>
                <a:ahLst/>
                <a:rect l="l" t="t" r="r" b="b"/>
                <a:pathLst>
                  <a:path w="42" h="47">
                    <a:moveTo>
                      <a:pt x="22" y="47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6413040" y="4170960"/>
                <a:ext cx="480240" cy="45000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413040" y="4170960"/>
                <a:ext cx="480240" cy="450000"/>
              </a:xfrm>
              <a:custGeom>
                <a:avLst/>
                <a:gdLst/>
                <a:ahLst/>
                <a:rect l="l" t="t" r="r" b="b"/>
                <a:pathLst>
                  <a:path w="426" h="316">
                    <a:moveTo>
                      <a:pt x="58" y="316"/>
                    </a:moveTo>
                    <a:lnTo>
                      <a:pt x="408" y="316"/>
                    </a:lnTo>
                    <a:lnTo>
                      <a:pt x="412" y="314"/>
                    </a:lnTo>
                    <a:lnTo>
                      <a:pt x="415" y="314"/>
                    </a:lnTo>
                    <a:lnTo>
                      <a:pt x="418" y="312"/>
                    </a:lnTo>
                    <a:lnTo>
                      <a:pt x="421" y="311"/>
                    </a:lnTo>
                    <a:lnTo>
                      <a:pt x="423" y="308"/>
                    </a:lnTo>
                    <a:lnTo>
                      <a:pt x="425" y="304"/>
                    </a:lnTo>
                    <a:lnTo>
                      <a:pt x="426" y="302"/>
                    </a:lnTo>
                    <a:lnTo>
                      <a:pt x="426" y="298"/>
                    </a:lnTo>
                    <a:lnTo>
                      <a:pt x="426" y="298"/>
                    </a:lnTo>
                    <a:lnTo>
                      <a:pt x="426" y="18"/>
                    </a:lnTo>
                    <a:lnTo>
                      <a:pt x="426" y="14"/>
                    </a:lnTo>
                    <a:lnTo>
                      <a:pt x="425" y="11"/>
                    </a:lnTo>
                    <a:lnTo>
                      <a:pt x="423" y="8"/>
                    </a:lnTo>
                    <a:lnTo>
                      <a:pt x="421" y="5"/>
                    </a:lnTo>
                    <a:lnTo>
                      <a:pt x="418" y="4"/>
                    </a:lnTo>
                    <a:lnTo>
                      <a:pt x="415" y="1"/>
                    </a:lnTo>
                    <a:lnTo>
                      <a:pt x="412" y="1"/>
                    </a:lnTo>
                    <a:lnTo>
                      <a:pt x="408" y="0"/>
                    </a:lnTo>
                    <a:lnTo>
                      <a:pt x="18" y="0"/>
                    </a:lnTo>
                    <a:lnTo>
                      <a:pt x="14" y="1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8"/>
                    </a:lnTo>
                    <a:lnTo>
                      <a:pt x="1" y="302"/>
                    </a:lnTo>
                    <a:lnTo>
                      <a:pt x="1" y="304"/>
                    </a:lnTo>
                    <a:lnTo>
                      <a:pt x="3" y="308"/>
                    </a:lnTo>
                    <a:lnTo>
                      <a:pt x="5" y="311"/>
                    </a:lnTo>
                    <a:lnTo>
                      <a:pt x="8" y="312"/>
                    </a:lnTo>
                    <a:lnTo>
                      <a:pt x="10" y="314"/>
                    </a:lnTo>
                    <a:lnTo>
                      <a:pt x="14" y="314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18" y="316"/>
                    </a:lnTo>
                    <a:lnTo>
                      <a:pt x="58" y="316"/>
                    </a:lnTo>
                    <a:lnTo>
                      <a:pt x="58" y="316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444360" y="4213800"/>
                <a:ext cx="415440" cy="36432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444360" y="4213800"/>
                <a:ext cx="415440" cy="364320"/>
              </a:xfrm>
              <a:custGeom>
                <a:avLst/>
                <a:gdLst/>
                <a:ahLst/>
                <a:rect l="l" t="t" r="r" b="b"/>
                <a:pathLst>
                  <a:path w="367" h="252">
                    <a:moveTo>
                      <a:pt x="101" y="252"/>
                    </a:moveTo>
                    <a:lnTo>
                      <a:pt x="268" y="252"/>
                    </a:lnTo>
                    <a:lnTo>
                      <a:pt x="272" y="252"/>
                    </a:lnTo>
                    <a:lnTo>
                      <a:pt x="274" y="251"/>
                    </a:lnTo>
                    <a:lnTo>
                      <a:pt x="278" y="251"/>
                    </a:lnTo>
                    <a:lnTo>
                      <a:pt x="282" y="250"/>
                    </a:lnTo>
                    <a:lnTo>
                      <a:pt x="284" y="247"/>
                    </a:lnTo>
                    <a:lnTo>
                      <a:pt x="288" y="246"/>
                    </a:lnTo>
                    <a:lnTo>
                      <a:pt x="290" y="243"/>
                    </a:lnTo>
                    <a:lnTo>
                      <a:pt x="292" y="241"/>
                    </a:lnTo>
                    <a:lnTo>
                      <a:pt x="358" y="173"/>
                    </a:lnTo>
                    <a:lnTo>
                      <a:pt x="359" y="170"/>
                    </a:lnTo>
                    <a:lnTo>
                      <a:pt x="362" y="168"/>
                    </a:lnTo>
                    <a:lnTo>
                      <a:pt x="363" y="165"/>
                    </a:lnTo>
                    <a:lnTo>
                      <a:pt x="364" y="162"/>
                    </a:lnTo>
                    <a:lnTo>
                      <a:pt x="366" y="156"/>
                    </a:lnTo>
                    <a:lnTo>
                      <a:pt x="367" y="150"/>
                    </a:lnTo>
                    <a:lnTo>
                      <a:pt x="367" y="150"/>
                    </a:lnTo>
                    <a:lnTo>
                      <a:pt x="367" y="35"/>
                    </a:lnTo>
                    <a:lnTo>
                      <a:pt x="367" y="31"/>
                    </a:lnTo>
                    <a:lnTo>
                      <a:pt x="366" y="27"/>
                    </a:lnTo>
                    <a:lnTo>
                      <a:pt x="364" y="25"/>
                    </a:lnTo>
                    <a:lnTo>
                      <a:pt x="364" y="21"/>
                    </a:lnTo>
                    <a:lnTo>
                      <a:pt x="361" y="15"/>
                    </a:lnTo>
                    <a:lnTo>
                      <a:pt x="357" y="10"/>
                    </a:lnTo>
                    <a:lnTo>
                      <a:pt x="352" y="6"/>
                    </a:lnTo>
                    <a:lnTo>
                      <a:pt x="346" y="2"/>
                    </a:lnTo>
                    <a:lnTo>
                      <a:pt x="343" y="1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33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5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150"/>
                    </a:lnTo>
                    <a:lnTo>
                      <a:pt x="0" y="154"/>
                    </a:lnTo>
                    <a:lnTo>
                      <a:pt x="1" y="156"/>
                    </a:lnTo>
                    <a:lnTo>
                      <a:pt x="1" y="160"/>
                    </a:lnTo>
                    <a:lnTo>
                      <a:pt x="4" y="162"/>
                    </a:lnTo>
                    <a:lnTo>
                      <a:pt x="6" y="168"/>
                    </a:lnTo>
                    <a:lnTo>
                      <a:pt x="11" y="173"/>
                    </a:lnTo>
                    <a:lnTo>
                      <a:pt x="11" y="173"/>
                    </a:lnTo>
                    <a:lnTo>
                      <a:pt x="75" y="241"/>
                    </a:lnTo>
                    <a:lnTo>
                      <a:pt x="80" y="246"/>
                    </a:lnTo>
                    <a:lnTo>
                      <a:pt x="86" y="250"/>
                    </a:lnTo>
                    <a:lnTo>
                      <a:pt x="90" y="251"/>
                    </a:lnTo>
                    <a:lnTo>
                      <a:pt x="93" y="251"/>
                    </a:lnTo>
                    <a:lnTo>
                      <a:pt x="96" y="252"/>
                    </a:lnTo>
                    <a:lnTo>
                      <a:pt x="101" y="252"/>
                    </a:lnTo>
                    <a:lnTo>
                      <a:pt x="101" y="25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530400" y="4294800"/>
                <a:ext cx="248040" cy="2062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1" y="68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8"/>
                    </a:lnTo>
                    <a:lnTo>
                      <a:pt x="21" y="68"/>
                    </a:lnTo>
                    <a:close/>
                    <a:moveTo>
                      <a:pt x="120" y="144"/>
                    </a:moveTo>
                    <a:lnTo>
                      <a:pt x="120" y="73"/>
                    </a:lnTo>
                    <a:lnTo>
                      <a:pt x="98" y="73"/>
                    </a:lnTo>
                    <a:lnTo>
                      <a:pt x="98" y="144"/>
                    </a:lnTo>
                    <a:lnTo>
                      <a:pt x="120" y="144"/>
                    </a:lnTo>
                    <a:close/>
                    <a:moveTo>
                      <a:pt x="219" y="68"/>
                    </a:moveTo>
                    <a:lnTo>
                      <a:pt x="219" y="0"/>
                    </a:lnTo>
                    <a:lnTo>
                      <a:pt x="197" y="0"/>
                    </a:lnTo>
                    <a:lnTo>
                      <a:pt x="197" y="68"/>
                    </a:lnTo>
                    <a:lnTo>
                      <a:pt x="219" y="68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895800" y="4208040"/>
                <a:ext cx="158040" cy="407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6857280" y="4208040"/>
                <a:ext cx="38160" cy="45612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895800" y="4208040"/>
                <a:ext cx="40680" cy="456120"/>
              </a:xfrm>
              <a:prstGeom prst="rect">
                <a:avLst/>
              </a:prstGeom>
              <a:solidFill>
                <a:srgbClr val="b7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936840" y="4208040"/>
                <a:ext cx="38160" cy="456120"/>
              </a:xfrm>
              <a:prstGeom prst="rect">
                <a:avLst/>
              </a:prstGeom>
              <a:solidFill>
                <a:srgbClr val="b55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975000" y="4208040"/>
                <a:ext cx="40320" cy="456120"/>
              </a:xfrm>
              <a:prstGeom prst="rect">
                <a:avLst/>
              </a:prstGeom>
              <a:solidFill>
                <a:srgbClr val="b2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015320" y="4208040"/>
                <a:ext cx="38160" cy="45612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893640" y="4205520"/>
                <a:ext cx="157320" cy="404640"/>
              </a:xfrm>
              <a:custGeom>
                <a:avLst/>
                <a:gdLst/>
                <a:ahLst/>
                <a:rect l="l" t="t" r="r" b="b"/>
                <a:pathLst>
                  <a:path w="140" h="282">
                    <a:moveTo>
                      <a:pt x="0" y="264"/>
                    </a:moveTo>
                    <a:lnTo>
                      <a:pt x="1" y="267"/>
                    </a:lnTo>
                    <a:lnTo>
                      <a:pt x="1" y="270"/>
                    </a:lnTo>
                    <a:lnTo>
                      <a:pt x="4" y="273"/>
                    </a:lnTo>
                    <a:lnTo>
                      <a:pt x="6" y="276"/>
                    </a:lnTo>
                    <a:lnTo>
                      <a:pt x="10" y="278"/>
                    </a:lnTo>
                    <a:lnTo>
                      <a:pt x="14" y="279"/>
                    </a:lnTo>
                    <a:lnTo>
                      <a:pt x="18" y="281"/>
                    </a:lnTo>
                    <a:lnTo>
                      <a:pt x="23" y="282"/>
                    </a:lnTo>
                    <a:lnTo>
                      <a:pt x="29" y="282"/>
                    </a:lnTo>
                    <a:lnTo>
                      <a:pt x="29" y="282"/>
                    </a:lnTo>
                    <a:lnTo>
                      <a:pt x="114" y="273"/>
                    </a:lnTo>
                    <a:lnTo>
                      <a:pt x="120" y="272"/>
                    </a:lnTo>
                    <a:lnTo>
                      <a:pt x="125" y="269"/>
                    </a:lnTo>
                    <a:lnTo>
                      <a:pt x="129" y="267"/>
                    </a:lnTo>
                    <a:lnTo>
                      <a:pt x="133" y="263"/>
                    </a:lnTo>
                    <a:lnTo>
                      <a:pt x="137" y="259"/>
                    </a:lnTo>
                    <a:lnTo>
                      <a:pt x="139" y="255"/>
                    </a:lnTo>
                    <a:lnTo>
                      <a:pt x="140" y="250"/>
                    </a:lnTo>
                    <a:lnTo>
                      <a:pt x="140" y="246"/>
                    </a:lnTo>
                    <a:lnTo>
                      <a:pt x="140" y="38"/>
                    </a:lnTo>
                    <a:lnTo>
                      <a:pt x="140" y="33"/>
                    </a:lnTo>
                    <a:lnTo>
                      <a:pt x="139" y="28"/>
                    </a:lnTo>
                    <a:lnTo>
                      <a:pt x="137" y="24"/>
                    </a:lnTo>
                    <a:lnTo>
                      <a:pt x="133" y="19"/>
                    </a:lnTo>
                    <a:lnTo>
                      <a:pt x="129" y="17"/>
                    </a:lnTo>
                    <a:lnTo>
                      <a:pt x="125" y="13"/>
                    </a:lnTo>
                    <a:lnTo>
                      <a:pt x="120" y="10"/>
                    </a:lnTo>
                    <a:lnTo>
                      <a:pt x="114" y="9"/>
                    </a:lnTo>
                    <a:lnTo>
                      <a:pt x="31" y="2"/>
                    </a:lnTo>
                    <a:lnTo>
                      <a:pt x="26" y="2"/>
                    </a:lnTo>
                    <a:lnTo>
                      <a:pt x="23" y="0"/>
                    </a:lnTo>
                    <a:lnTo>
                      <a:pt x="18" y="2"/>
                    </a:lnTo>
                    <a:lnTo>
                      <a:pt x="14" y="3"/>
                    </a:lnTo>
                    <a:lnTo>
                      <a:pt x="9" y="4"/>
                    </a:lnTo>
                    <a:lnTo>
                      <a:pt x="5" y="7"/>
                    </a:lnTo>
                    <a:lnTo>
                      <a:pt x="3" y="10"/>
                    </a:lnTo>
                    <a:lnTo>
                      <a:pt x="0" y="1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6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123960" y="4085280"/>
                <a:ext cx="76680" cy="934920"/>
              </a:xfrm>
              <a:custGeom>
                <a:avLst/>
                <a:gdLst/>
                <a:ahLst/>
                <a:rect l="l" t="t" r="r" b="b"/>
                <a:pathLst>
                  <a:path w="69" h="651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  <a:close/>
                    <a:moveTo>
                      <a:pt x="35" y="580"/>
                    </a:moveTo>
                    <a:lnTo>
                      <a:pt x="39" y="580"/>
                    </a:lnTo>
                    <a:lnTo>
                      <a:pt x="43" y="582"/>
                    </a:lnTo>
                    <a:lnTo>
                      <a:pt x="47" y="582"/>
                    </a:lnTo>
                    <a:lnTo>
                      <a:pt x="50" y="583"/>
                    </a:lnTo>
                    <a:lnTo>
                      <a:pt x="53" y="586"/>
                    </a:lnTo>
                    <a:lnTo>
                      <a:pt x="57" y="588"/>
                    </a:lnTo>
                    <a:lnTo>
                      <a:pt x="59" y="591"/>
                    </a:lnTo>
                    <a:lnTo>
                      <a:pt x="62" y="593"/>
                    </a:lnTo>
                    <a:lnTo>
                      <a:pt x="64" y="596"/>
                    </a:lnTo>
                    <a:lnTo>
                      <a:pt x="67" y="599"/>
                    </a:lnTo>
                    <a:lnTo>
                      <a:pt x="68" y="602"/>
                    </a:lnTo>
                    <a:lnTo>
                      <a:pt x="69" y="606"/>
                    </a:lnTo>
                    <a:lnTo>
                      <a:pt x="69" y="610"/>
                    </a:lnTo>
                    <a:lnTo>
                      <a:pt x="69" y="613"/>
                    </a:lnTo>
                    <a:lnTo>
                      <a:pt x="69" y="617"/>
                    </a:lnTo>
                    <a:lnTo>
                      <a:pt x="69" y="620"/>
                    </a:lnTo>
                    <a:lnTo>
                      <a:pt x="69" y="623"/>
                    </a:lnTo>
                    <a:lnTo>
                      <a:pt x="68" y="626"/>
                    </a:lnTo>
                    <a:lnTo>
                      <a:pt x="67" y="630"/>
                    </a:lnTo>
                    <a:lnTo>
                      <a:pt x="65" y="632"/>
                    </a:lnTo>
                    <a:lnTo>
                      <a:pt x="63" y="637"/>
                    </a:lnTo>
                    <a:lnTo>
                      <a:pt x="58" y="642"/>
                    </a:lnTo>
                    <a:lnTo>
                      <a:pt x="53" y="646"/>
                    </a:lnTo>
                    <a:lnTo>
                      <a:pt x="47" y="649"/>
                    </a:lnTo>
                    <a:lnTo>
                      <a:pt x="41" y="650"/>
                    </a:lnTo>
                    <a:lnTo>
                      <a:pt x="38" y="651"/>
                    </a:lnTo>
                    <a:lnTo>
                      <a:pt x="35" y="651"/>
                    </a:lnTo>
                    <a:lnTo>
                      <a:pt x="31" y="651"/>
                    </a:lnTo>
                    <a:lnTo>
                      <a:pt x="28" y="650"/>
                    </a:lnTo>
                    <a:lnTo>
                      <a:pt x="24" y="649"/>
                    </a:lnTo>
                    <a:lnTo>
                      <a:pt x="20" y="647"/>
                    </a:lnTo>
                    <a:lnTo>
                      <a:pt x="13" y="642"/>
                    </a:lnTo>
                    <a:lnTo>
                      <a:pt x="10" y="640"/>
                    </a:lnTo>
                    <a:lnTo>
                      <a:pt x="8" y="637"/>
                    </a:lnTo>
                    <a:lnTo>
                      <a:pt x="5" y="635"/>
                    </a:lnTo>
                    <a:lnTo>
                      <a:pt x="3" y="631"/>
                    </a:lnTo>
                    <a:lnTo>
                      <a:pt x="1" y="627"/>
                    </a:lnTo>
                    <a:lnTo>
                      <a:pt x="0" y="625"/>
                    </a:lnTo>
                    <a:lnTo>
                      <a:pt x="0" y="621"/>
                    </a:lnTo>
                    <a:lnTo>
                      <a:pt x="0" y="617"/>
                    </a:lnTo>
                    <a:lnTo>
                      <a:pt x="0" y="613"/>
                    </a:lnTo>
                    <a:lnTo>
                      <a:pt x="0" y="610"/>
                    </a:lnTo>
                    <a:lnTo>
                      <a:pt x="1" y="606"/>
                    </a:lnTo>
                    <a:lnTo>
                      <a:pt x="1" y="603"/>
                    </a:lnTo>
                    <a:lnTo>
                      <a:pt x="3" y="599"/>
                    </a:lnTo>
                    <a:lnTo>
                      <a:pt x="4" y="597"/>
                    </a:lnTo>
                    <a:lnTo>
                      <a:pt x="8" y="593"/>
                    </a:lnTo>
                    <a:lnTo>
                      <a:pt x="11" y="589"/>
                    </a:lnTo>
                    <a:lnTo>
                      <a:pt x="14" y="587"/>
                    </a:lnTo>
                    <a:lnTo>
                      <a:pt x="16" y="586"/>
                    </a:lnTo>
                    <a:lnTo>
                      <a:pt x="20" y="583"/>
                    </a:lnTo>
                    <a:lnTo>
                      <a:pt x="23" y="582"/>
                    </a:lnTo>
                    <a:lnTo>
                      <a:pt x="29" y="580"/>
                    </a:lnTo>
                    <a:lnTo>
                      <a:pt x="35" y="580"/>
                    </a:lnTo>
                    <a:lnTo>
                      <a:pt x="35" y="58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23960" y="4085280"/>
                <a:ext cx="76680" cy="100080"/>
              </a:xfrm>
              <a:custGeom>
                <a:avLst/>
                <a:gdLst/>
                <a:ahLst/>
                <a:rect l="l" t="t" r="r" b="b"/>
                <a:pathLst>
                  <a:path w="69" h="70">
                    <a:moveTo>
                      <a:pt x="35" y="0"/>
                    </a:moveTo>
                    <a:lnTo>
                      <a:pt x="39" y="0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3"/>
                    </a:lnTo>
                    <a:lnTo>
                      <a:pt x="53" y="5"/>
                    </a:lnTo>
                    <a:lnTo>
                      <a:pt x="57" y="7"/>
                    </a:lnTo>
                    <a:lnTo>
                      <a:pt x="59" y="10"/>
                    </a:lnTo>
                    <a:lnTo>
                      <a:pt x="62" y="14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4"/>
                    </a:lnTo>
                    <a:lnTo>
                      <a:pt x="69" y="38"/>
                    </a:lnTo>
                    <a:lnTo>
                      <a:pt x="69" y="41"/>
                    </a:lnTo>
                    <a:lnTo>
                      <a:pt x="69" y="44"/>
                    </a:lnTo>
                    <a:lnTo>
                      <a:pt x="68" y="48"/>
                    </a:lnTo>
                    <a:lnTo>
                      <a:pt x="67" y="50"/>
                    </a:lnTo>
                    <a:lnTo>
                      <a:pt x="65" y="53"/>
                    </a:lnTo>
                    <a:lnTo>
                      <a:pt x="63" y="58"/>
                    </a:lnTo>
                    <a:lnTo>
                      <a:pt x="60" y="60"/>
                    </a:lnTo>
                    <a:lnTo>
                      <a:pt x="58" y="62"/>
                    </a:lnTo>
                    <a:lnTo>
                      <a:pt x="53" y="65"/>
                    </a:lnTo>
                    <a:lnTo>
                      <a:pt x="47" y="68"/>
                    </a:lnTo>
                    <a:lnTo>
                      <a:pt x="41" y="70"/>
                    </a:lnTo>
                    <a:lnTo>
                      <a:pt x="38" y="70"/>
                    </a:lnTo>
                    <a:lnTo>
                      <a:pt x="35" y="70"/>
                    </a:lnTo>
                    <a:lnTo>
                      <a:pt x="31" y="70"/>
                    </a:lnTo>
                    <a:lnTo>
                      <a:pt x="28" y="69"/>
                    </a:lnTo>
                    <a:lnTo>
                      <a:pt x="24" y="69"/>
                    </a:lnTo>
                    <a:lnTo>
                      <a:pt x="20" y="68"/>
                    </a:lnTo>
                    <a:lnTo>
                      <a:pt x="16" y="65"/>
                    </a:lnTo>
                    <a:lnTo>
                      <a:pt x="13" y="63"/>
                    </a:lnTo>
                    <a:lnTo>
                      <a:pt x="10" y="60"/>
                    </a:lnTo>
                    <a:lnTo>
                      <a:pt x="8" y="58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8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3" y="20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9" y="10"/>
                    </a:lnTo>
                    <a:lnTo>
                      <a:pt x="11" y="9"/>
                    </a:lnTo>
                    <a:lnTo>
                      <a:pt x="14" y="6"/>
                    </a:lnTo>
                    <a:lnTo>
                      <a:pt x="16" y="5"/>
                    </a:lnTo>
                    <a:lnTo>
                      <a:pt x="20" y="2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23960" y="4917600"/>
                <a:ext cx="76680" cy="102600"/>
              </a:xfrm>
              <a:custGeom>
                <a:avLst/>
                <a:gdLst/>
                <a:ahLst/>
                <a:rect l="l" t="t" r="r" b="b"/>
                <a:pathLst>
                  <a:path w="69" h="71">
                    <a:moveTo>
                      <a:pt x="35" y="0"/>
                    </a:moveTo>
                    <a:lnTo>
                      <a:pt x="39" y="0"/>
                    </a:lnTo>
                    <a:lnTo>
                      <a:pt x="43" y="2"/>
                    </a:lnTo>
                    <a:lnTo>
                      <a:pt x="47" y="2"/>
                    </a:lnTo>
                    <a:lnTo>
                      <a:pt x="50" y="3"/>
                    </a:lnTo>
                    <a:lnTo>
                      <a:pt x="53" y="6"/>
                    </a:lnTo>
                    <a:lnTo>
                      <a:pt x="57" y="8"/>
                    </a:lnTo>
                    <a:lnTo>
                      <a:pt x="59" y="11"/>
                    </a:lnTo>
                    <a:lnTo>
                      <a:pt x="62" y="13"/>
                    </a:lnTo>
                    <a:lnTo>
                      <a:pt x="64" y="16"/>
                    </a:lnTo>
                    <a:lnTo>
                      <a:pt x="67" y="19"/>
                    </a:lnTo>
                    <a:lnTo>
                      <a:pt x="68" y="22"/>
                    </a:lnTo>
                    <a:lnTo>
                      <a:pt x="69" y="26"/>
                    </a:lnTo>
                    <a:lnTo>
                      <a:pt x="69" y="30"/>
                    </a:lnTo>
                    <a:lnTo>
                      <a:pt x="69" y="33"/>
                    </a:lnTo>
                    <a:lnTo>
                      <a:pt x="69" y="37"/>
                    </a:lnTo>
                    <a:lnTo>
                      <a:pt x="69" y="40"/>
                    </a:lnTo>
                    <a:lnTo>
                      <a:pt x="69" y="43"/>
                    </a:lnTo>
                    <a:lnTo>
                      <a:pt x="68" y="46"/>
                    </a:lnTo>
                    <a:lnTo>
                      <a:pt x="67" y="50"/>
                    </a:lnTo>
                    <a:lnTo>
                      <a:pt x="65" y="52"/>
                    </a:lnTo>
                    <a:lnTo>
                      <a:pt x="63" y="57"/>
                    </a:lnTo>
                    <a:lnTo>
                      <a:pt x="58" y="62"/>
                    </a:lnTo>
                    <a:lnTo>
                      <a:pt x="53" y="66"/>
                    </a:lnTo>
                    <a:lnTo>
                      <a:pt x="47" y="69"/>
                    </a:lnTo>
                    <a:lnTo>
                      <a:pt x="41" y="70"/>
                    </a:lnTo>
                    <a:lnTo>
                      <a:pt x="38" y="71"/>
                    </a:lnTo>
                    <a:lnTo>
                      <a:pt x="35" y="71"/>
                    </a:lnTo>
                    <a:lnTo>
                      <a:pt x="31" y="71"/>
                    </a:lnTo>
                    <a:lnTo>
                      <a:pt x="28" y="70"/>
                    </a:lnTo>
                    <a:lnTo>
                      <a:pt x="24" y="69"/>
                    </a:lnTo>
                    <a:lnTo>
                      <a:pt x="20" y="67"/>
                    </a:lnTo>
                    <a:lnTo>
                      <a:pt x="13" y="62"/>
                    </a:lnTo>
                    <a:lnTo>
                      <a:pt x="10" y="60"/>
                    </a:lnTo>
                    <a:lnTo>
                      <a:pt x="8" y="57"/>
                    </a:lnTo>
                    <a:lnTo>
                      <a:pt x="5" y="55"/>
                    </a:lnTo>
                    <a:lnTo>
                      <a:pt x="3" y="51"/>
                    </a:lnTo>
                    <a:lnTo>
                      <a:pt x="1" y="47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1" y="9"/>
                    </a:lnTo>
                    <a:lnTo>
                      <a:pt x="14" y="7"/>
                    </a:lnTo>
                    <a:lnTo>
                      <a:pt x="16" y="6"/>
                    </a:lnTo>
                    <a:lnTo>
                      <a:pt x="20" y="3"/>
                    </a:lnTo>
                    <a:lnTo>
                      <a:pt x="23" y="2"/>
                    </a:lnTo>
                    <a:lnTo>
                      <a:pt x="29" y="0"/>
                    </a:lnTo>
                    <a:lnTo>
                      <a:pt x="35" y="0"/>
                    </a:lnTo>
                    <a:lnTo>
                      <a:pt x="35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146640" y="4113720"/>
                <a:ext cx="31680" cy="875160"/>
              </a:xfrm>
              <a:custGeom>
                <a:avLst/>
                <a:gdLst/>
                <a:ahLst/>
                <a:rect l="l" t="t" r="r" b="b"/>
                <a:pathLst>
                  <a:path w="29" h="611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608"/>
                    </a:moveTo>
                    <a:lnTo>
                      <a:pt x="9" y="607"/>
                    </a:lnTo>
                    <a:lnTo>
                      <a:pt x="10" y="606"/>
                    </a:lnTo>
                    <a:lnTo>
                      <a:pt x="11" y="605"/>
                    </a:lnTo>
                    <a:lnTo>
                      <a:pt x="13" y="603"/>
                    </a:lnTo>
                    <a:lnTo>
                      <a:pt x="15" y="603"/>
                    </a:lnTo>
                    <a:lnTo>
                      <a:pt x="16" y="603"/>
                    </a:lnTo>
                    <a:lnTo>
                      <a:pt x="18" y="605"/>
                    </a:lnTo>
                    <a:lnTo>
                      <a:pt x="19" y="606"/>
                    </a:lnTo>
                    <a:lnTo>
                      <a:pt x="20" y="607"/>
                    </a:lnTo>
                    <a:lnTo>
                      <a:pt x="20" y="607"/>
                    </a:lnTo>
                    <a:lnTo>
                      <a:pt x="23" y="608"/>
                    </a:lnTo>
                    <a:lnTo>
                      <a:pt x="24" y="608"/>
                    </a:lnTo>
                    <a:lnTo>
                      <a:pt x="25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7" y="608"/>
                    </a:lnTo>
                    <a:lnTo>
                      <a:pt x="29" y="607"/>
                    </a:lnTo>
                    <a:lnTo>
                      <a:pt x="29" y="606"/>
                    </a:lnTo>
                    <a:lnTo>
                      <a:pt x="29" y="606"/>
                    </a:lnTo>
                    <a:lnTo>
                      <a:pt x="29" y="603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9" y="602"/>
                    </a:lnTo>
                    <a:lnTo>
                      <a:pt x="27" y="600"/>
                    </a:lnTo>
                    <a:lnTo>
                      <a:pt x="25" y="600"/>
                    </a:lnTo>
                    <a:lnTo>
                      <a:pt x="24" y="598"/>
                    </a:lnTo>
                    <a:lnTo>
                      <a:pt x="24" y="597"/>
                    </a:lnTo>
                    <a:lnTo>
                      <a:pt x="24" y="596"/>
                    </a:lnTo>
                    <a:lnTo>
                      <a:pt x="24" y="595"/>
                    </a:lnTo>
                    <a:lnTo>
                      <a:pt x="24" y="592"/>
                    </a:lnTo>
                    <a:lnTo>
                      <a:pt x="25" y="591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7" y="590"/>
                    </a:lnTo>
                    <a:lnTo>
                      <a:pt x="29" y="587"/>
                    </a:lnTo>
                    <a:lnTo>
                      <a:pt x="29" y="587"/>
                    </a:lnTo>
                    <a:lnTo>
                      <a:pt x="29" y="586"/>
                    </a:lnTo>
                    <a:lnTo>
                      <a:pt x="29" y="584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9" y="582"/>
                    </a:lnTo>
                    <a:lnTo>
                      <a:pt x="27" y="582"/>
                    </a:lnTo>
                    <a:lnTo>
                      <a:pt x="27" y="581"/>
                    </a:lnTo>
                    <a:lnTo>
                      <a:pt x="25" y="581"/>
                    </a:lnTo>
                    <a:lnTo>
                      <a:pt x="24" y="581"/>
                    </a:lnTo>
                    <a:lnTo>
                      <a:pt x="23" y="582"/>
                    </a:lnTo>
                    <a:lnTo>
                      <a:pt x="23" y="582"/>
                    </a:lnTo>
                    <a:lnTo>
                      <a:pt x="20" y="584"/>
                    </a:lnTo>
                    <a:lnTo>
                      <a:pt x="19" y="586"/>
                    </a:lnTo>
                    <a:lnTo>
                      <a:pt x="18" y="586"/>
                    </a:lnTo>
                    <a:lnTo>
                      <a:pt x="15" y="586"/>
                    </a:lnTo>
                    <a:lnTo>
                      <a:pt x="11" y="586"/>
                    </a:lnTo>
                    <a:lnTo>
                      <a:pt x="10" y="586"/>
                    </a:lnTo>
                    <a:lnTo>
                      <a:pt x="9" y="584"/>
                    </a:lnTo>
                    <a:lnTo>
                      <a:pt x="9" y="584"/>
                    </a:lnTo>
                    <a:lnTo>
                      <a:pt x="6" y="582"/>
                    </a:lnTo>
                    <a:lnTo>
                      <a:pt x="5" y="581"/>
                    </a:lnTo>
                    <a:lnTo>
                      <a:pt x="4" y="581"/>
                    </a:lnTo>
                    <a:lnTo>
                      <a:pt x="3" y="581"/>
                    </a:lnTo>
                    <a:lnTo>
                      <a:pt x="3" y="582"/>
                    </a:lnTo>
                    <a:lnTo>
                      <a:pt x="0" y="582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6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0" y="587"/>
                    </a:lnTo>
                    <a:lnTo>
                      <a:pt x="3" y="590"/>
                    </a:lnTo>
                    <a:lnTo>
                      <a:pt x="4" y="591"/>
                    </a:lnTo>
                    <a:lnTo>
                      <a:pt x="5" y="592"/>
                    </a:lnTo>
                    <a:lnTo>
                      <a:pt x="5" y="595"/>
                    </a:lnTo>
                    <a:lnTo>
                      <a:pt x="6" y="596"/>
                    </a:lnTo>
                    <a:lnTo>
                      <a:pt x="5" y="597"/>
                    </a:lnTo>
                    <a:lnTo>
                      <a:pt x="5" y="598"/>
                    </a:lnTo>
                    <a:lnTo>
                      <a:pt x="4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3" y="600"/>
                    </a:lnTo>
                    <a:lnTo>
                      <a:pt x="0" y="602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0" y="608"/>
                    </a:lnTo>
                    <a:lnTo>
                      <a:pt x="3" y="608"/>
                    </a:lnTo>
                    <a:lnTo>
                      <a:pt x="3" y="610"/>
                    </a:lnTo>
                    <a:lnTo>
                      <a:pt x="4" y="611"/>
                    </a:lnTo>
                    <a:lnTo>
                      <a:pt x="5" y="610"/>
                    </a:lnTo>
                    <a:lnTo>
                      <a:pt x="6" y="608"/>
                    </a:lnTo>
                    <a:lnTo>
                      <a:pt x="6" y="608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146640" y="411372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8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9"/>
                    </a:lnTo>
                    <a:lnTo>
                      <a:pt x="24" y="30"/>
                    </a:lnTo>
                    <a:lnTo>
                      <a:pt x="25" y="30"/>
                    </a:lnTo>
                    <a:lnTo>
                      <a:pt x="27" y="30"/>
                    </a:lnTo>
                    <a:lnTo>
                      <a:pt x="27" y="29"/>
                    </a:lnTo>
                    <a:lnTo>
                      <a:pt x="27" y="29"/>
                    </a:lnTo>
                    <a:lnTo>
                      <a:pt x="29" y="29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4" y="19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7" y="2"/>
                    </a:lnTo>
                    <a:lnTo>
                      <a:pt x="27" y="1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6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2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3" y="2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146640" y="494604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6" y="27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4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4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3" y="27"/>
                    </a:lnTo>
                    <a:lnTo>
                      <a:pt x="24" y="27"/>
                    </a:lnTo>
                    <a:lnTo>
                      <a:pt x="25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9" y="26"/>
                    </a:lnTo>
                    <a:lnTo>
                      <a:pt x="29" y="25"/>
                    </a:lnTo>
                    <a:lnTo>
                      <a:pt x="29" y="25"/>
                    </a:lnTo>
                    <a:lnTo>
                      <a:pt x="29" y="22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7" y="19"/>
                    </a:lnTo>
                    <a:lnTo>
                      <a:pt x="25" y="19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5"/>
                    </a:lnTo>
                    <a:lnTo>
                      <a:pt x="24" y="14"/>
                    </a:lnTo>
                    <a:lnTo>
                      <a:pt x="24" y="11"/>
                    </a:lnTo>
                    <a:lnTo>
                      <a:pt x="25" y="10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9" y="6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3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7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3"/>
                    </a:lnTo>
                    <a:lnTo>
                      <a:pt x="9" y="3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9"/>
                    </a:lnTo>
                    <a:lnTo>
                      <a:pt x="4" y="30"/>
                    </a:lnTo>
                    <a:lnTo>
                      <a:pt x="5" y="29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1159" name=""/>
            <p:cNvSpPr/>
            <p:nvPr/>
          </p:nvSpPr>
          <p:spPr>
            <a:xfrm>
              <a:off x="6222600" y="4054320"/>
              <a:ext cx="79200" cy="10220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183000" y="4003920"/>
              <a:ext cx="39240" cy="11210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222600" y="4003920"/>
              <a:ext cx="39240" cy="1121040"/>
            </a:xfrm>
            <a:prstGeom prst="rect">
              <a:avLst/>
            </a:pr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261840" y="4003920"/>
              <a:ext cx="39960" cy="112104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212520" y="4032360"/>
              <a:ext cx="67320" cy="1046520"/>
            </a:xfrm>
            <a:custGeom>
              <a:avLst/>
              <a:gdLst/>
              <a:ahLst/>
              <a:rect l="l" t="t" r="r" b="b"/>
              <a:pathLst>
                <a:path w="60" h="728">
                  <a:moveTo>
                    <a:pt x="60" y="720"/>
                  </a:moveTo>
                  <a:lnTo>
                    <a:pt x="60" y="7"/>
                  </a:lnTo>
                  <a:lnTo>
                    <a:pt x="59" y="4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20"/>
                  </a:lnTo>
                  <a:lnTo>
                    <a:pt x="1" y="723"/>
                  </a:lnTo>
                  <a:lnTo>
                    <a:pt x="1" y="724"/>
                  </a:lnTo>
                  <a:lnTo>
                    <a:pt x="4" y="725"/>
                  </a:lnTo>
                  <a:lnTo>
                    <a:pt x="6" y="726"/>
                  </a:lnTo>
                  <a:lnTo>
                    <a:pt x="9" y="728"/>
                  </a:lnTo>
                  <a:lnTo>
                    <a:pt x="9" y="728"/>
                  </a:lnTo>
                  <a:lnTo>
                    <a:pt x="53" y="728"/>
                  </a:lnTo>
                  <a:lnTo>
                    <a:pt x="56" y="726"/>
                  </a:lnTo>
                  <a:lnTo>
                    <a:pt x="58" y="725"/>
                  </a:lnTo>
                  <a:lnTo>
                    <a:pt x="59" y="724"/>
                  </a:lnTo>
                  <a:lnTo>
                    <a:pt x="60" y="7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385000" y="5024160"/>
              <a:ext cx="243360" cy="10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385000" y="5024160"/>
              <a:ext cx="243360" cy="103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751120" y="5024160"/>
              <a:ext cx="241560" cy="10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2751120" y="5024160"/>
              <a:ext cx="241560" cy="103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114000" y="5024160"/>
              <a:ext cx="245520" cy="10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14000" y="5024160"/>
              <a:ext cx="245520" cy="103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478680" y="5024160"/>
              <a:ext cx="243360" cy="1033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478680" y="5024160"/>
              <a:ext cx="243360" cy="103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870280" y="4633920"/>
              <a:ext cx="368280" cy="154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870280" y="4633920"/>
              <a:ext cx="368280" cy="1540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870280" y="4164840"/>
              <a:ext cx="368280" cy="158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870280" y="4164840"/>
              <a:ext cx="368280" cy="158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176" name=""/>
          <p:cNvSpPr/>
          <p:nvPr/>
        </p:nvSpPr>
        <p:spPr>
          <a:xfrm>
            <a:off x="2556360" y="3222720"/>
            <a:ext cx="91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AS HBA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7" name=""/>
          <p:cNvSpPr/>
          <p:nvPr/>
        </p:nvSpPr>
        <p:spPr>
          <a:xfrm>
            <a:off x="2100240" y="5932440"/>
            <a:ext cx="1006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erverN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Adapter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8" name=""/>
          <p:cNvSpPr/>
          <p:nvPr/>
        </p:nvSpPr>
        <p:spPr>
          <a:xfrm>
            <a:off x="3413160" y="5932440"/>
            <a:ext cx="1744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OSM Mgm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Interface 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(ETH0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9" name=""/>
          <p:cNvSpPr/>
          <p:nvPr/>
        </p:nvSpPr>
        <p:spPr>
          <a:xfrm>
            <a:off x="7782120" y="5932440"/>
            <a:ext cx="33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ILO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0" name=""/>
          <p:cNvSpPr/>
          <p:nvPr/>
        </p:nvSpPr>
        <p:spPr>
          <a:xfrm flipH="1">
            <a:off x="2583000" y="3546360"/>
            <a:ext cx="333360" cy="7002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1" name=""/>
          <p:cNvSpPr/>
          <p:nvPr/>
        </p:nvSpPr>
        <p:spPr>
          <a:xfrm>
            <a:off x="2940120" y="3559320"/>
            <a:ext cx="689040" cy="108396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3011400" y="5159520"/>
            <a:ext cx="0" cy="8064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3" name=""/>
          <p:cNvSpPr/>
          <p:nvPr/>
        </p:nvSpPr>
        <p:spPr>
          <a:xfrm flipH="1">
            <a:off x="6636960" y="3506760"/>
            <a:ext cx="522360" cy="60804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4" name=""/>
          <p:cNvSpPr/>
          <p:nvPr/>
        </p:nvSpPr>
        <p:spPr>
          <a:xfrm>
            <a:off x="7172280" y="3519360"/>
            <a:ext cx="593640" cy="55584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932600" y="5383080"/>
            <a:ext cx="0" cy="5032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4584600" y="5357880"/>
            <a:ext cx="162000" cy="58104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7" name=""/>
          <p:cNvSpPr/>
          <p:nvPr/>
        </p:nvSpPr>
        <p:spPr>
          <a:xfrm>
            <a:off x="5284800" y="3094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8" name=""/>
          <p:cNvSpPr/>
          <p:nvPr/>
        </p:nvSpPr>
        <p:spPr>
          <a:xfrm>
            <a:off x="3989160" y="309420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9" name=""/>
          <p:cNvSpPr/>
          <p:nvPr/>
        </p:nvSpPr>
        <p:spPr>
          <a:xfrm>
            <a:off x="529200" y="41115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0" name=""/>
          <p:cNvSpPr/>
          <p:nvPr/>
        </p:nvSpPr>
        <p:spPr>
          <a:xfrm>
            <a:off x="529200" y="45878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1" name=""/>
          <p:cNvSpPr/>
          <p:nvPr/>
        </p:nvSpPr>
        <p:spPr>
          <a:xfrm>
            <a:off x="529200" y="50641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2" name=""/>
          <p:cNvSpPr/>
          <p:nvPr/>
        </p:nvSpPr>
        <p:spPr>
          <a:xfrm flipV="1">
            <a:off x="1251000" y="5119560"/>
            <a:ext cx="1201680" cy="14472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3" name=""/>
          <p:cNvSpPr/>
          <p:nvPr/>
        </p:nvSpPr>
        <p:spPr>
          <a:xfrm flipV="1">
            <a:off x="1239840" y="4682880"/>
            <a:ext cx="1200240" cy="14580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1216080" y="4246200"/>
            <a:ext cx="1247760" cy="10620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5209920" y="3479760"/>
            <a:ext cx="344520" cy="76680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6" name=""/>
          <p:cNvSpPr/>
          <p:nvPr/>
        </p:nvSpPr>
        <p:spPr>
          <a:xfrm>
            <a:off x="4246560" y="3506760"/>
            <a:ext cx="60480" cy="71280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7" name=""/>
          <p:cNvSpPr/>
          <p:nvPr/>
        </p:nvSpPr>
        <p:spPr>
          <a:xfrm>
            <a:off x="5338800" y="5962680"/>
            <a:ext cx="17445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ort not used on the Storage CLI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8" name=""/>
          <p:cNvSpPr/>
          <p:nvPr/>
        </p:nvSpPr>
        <p:spPr>
          <a:xfrm flipH="1" flipV="1">
            <a:off x="4776840" y="5079600"/>
            <a:ext cx="712800" cy="878040"/>
          </a:xfrm>
          <a:prstGeom prst="line">
            <a:avLst/>
          </a:prstGeom>
          <a:ln w="28440">
            <a:solidFill>
              <a:srgbClr val="f2ab01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0493-A148-484C-8049-867E5B7C40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Theory of Operatio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dual ServerNet fabric connection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Serial Attached SCSI (SAS) interface for a new generation of SAS storage subsystem and devic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 Fibre Channel (FC) interface for Enterprise Storage Server (ESS) and FC tape devic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enclosure Environmental Monitoring Servic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dual SAS domains from Storage CLIMs to dual-port SAS disk driv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1C71A-DE5C-4B64-896E-D4171CD7E5C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98160" y="142920"/>
            <a:ext cx="7831080" cy="7891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torage CLIM Overview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11040" y="958680"/>
            <a:ext cx="8653680" cy="5343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upports Serial Attached SCSI and Fibre Chann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HP StorageWorks MSA70 disk enclosure (up to twenty-fiv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2.5-inch SAS disks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HP XP Enterprise Storage Array (NED 1K, 10K, 20K models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ape and virtual tape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an replace the I/O adapter module enclosure (IOAME) + Fibre Channel ServerNet adapter (FCSA) + Fibre Channel disk module (FCDM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Liant server running Debian Linux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Uses Linux device drivers to transfer data to storage device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1"/>
          <a:stretch/>
        </p:blipFill>
        <p:spPr>
          <a:xfrm>
            <a:off x="558720" y="5145120"/>
            <a:ext cx="7994880" cy="1415880"/>
          </a:xfrm>
          <a:prstGeom prst="rect">
            <a:avLst/>
          </a:prstGeom>
          <a:ln w="0">
            <a:noFill/>
          </a:ln>
        </p:spPr>
      </p:pic>
      <p:sp>
        <p:nvSpPr>
          <p:cNvPr id="1204" name=""/>
          <p:cNvSpPr/>
          <p:nvPr/>
        </p:nvSpPr>
        <p:spPr>
          <a:xfrm>
            <a:off x="1139040" y="5126040"/>
            <a:ext cx="97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utura Bk"/>
              </a:rPr>
              <a:t>$SYSTE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05" name=""/>
          <p:cNvSpPr/>
          <p:nvPr/>
        </p:nvSpPr>
        <p:spPr>
          <a:xfrm>
            <a:off x="1166040" y="592596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utura Bk"/>
              </a:rPr>
              <a:t>$OS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06" name=""/>
          <p:cNvSpPr/>
          <p:nvPr/>
        </p:nvSpPr>
        <p:spPr>
          <a:xfrm>
            <a:off x="1118880" y="5646600"/>
            <a:ext cx="8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utura Bk"/>
              </a:rPr>
              <a:t>$AUDIT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07" name=""/>
          <p:cNvSpPr/>
          <p:nvPr/>
        </p:nvSpPr>
        <p:spPr>
          <a:xfrm>
            <a:off x="1154160" y="5392800"/>
            <a:ext cx="109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Futura Bk"/>
              </a:rPr>
              <a:t>$DSMSC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5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344D-7FC9-4B42-A682-8954696E27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23:44Z</dcterms:created>
  <dc:creator>jpolacek</dc:creator>
  <dc:description/>
  <dc:language>en-US</dc:language>
  <cp:lastModifiedBy>Vince Cooper</cp:lastModifiedBy>
  <cp:lastPrinted>2004-09-23T21:26:26Z</cp:lastPrinted>
  <dcterms:modified xsi:type="dcterms:W3CDTF">2010-05-24T20:27:23Z</dcterms:modified>
  <cp:revision>134</cp:revision>
  <dc:subject/>
  <dc:title>Course Title or  Module Title</dc:title>
</cp:coreProperties>
</file>